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4.bmp" ContentType="image/bmp"/>
  <Override PartName="/ppt/media/image2.wmf" ContentType="image/x-wmf"/>
  <Override PartName="/ppt/media/image5.bmp" ContentType="image/bmp"/>
  <Override PartName="/ppt/media/image3.wmf" ContentType="image/x-wmf"/>
  <Override PartName="/ppt/media/image6.bmp" ContentType="image/bmp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bmp"/><Relationship Id="rId2" Type="http://schemas.openxmlformats.org/officeDocument/2006/relationships/image" Target="../media/image5.bmp"/><Relationship Id="rId3" Type="http://schemas.openxmlformats.org/officeDocument/2006/relationships/image" Target="../media/image6.bmp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bmp"/><Relationship Id="rId3" Type="http://schemas.openxmlformats.org/officeDocument/2006/relationships/image" Target="../media/image5.bmp"/><Relationship Id="rId4" Type="http://schemas.openxmlformats.org/officeDocument/2006/relationships/image" Target="../media/image6.bmp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bmp"/><Relationship Id="rId2" Type="http://schemas.openxmlformats.org/officeDocument/2006/relationships/image" Target="../media/image5.bmp"/><Relationship Id="rId3" Type="http://schemas.openxmlformats.org/officeDocument/2006/relationships/image" Target="../media/image6.bmp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bmp"/><Relationship Id="rId2" Type="http://schemas.openxmlformats.org/officeDocument/2006/relationships/image" Target="../media/image5.bmp"/><Relationship Id="rId3" Type="http://schemas.openxmlformats.org/officeDocument/2006/relationships/image" Target="../media/image6.bmp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bmp"/><Relationship Id="rId2" Type="http://schemas.openxmlformats.org/officeDocument/2006/relationships/image" Target="../media/image5.bmp"/><Relationship Id="rId3" Type="http://schemas.openxmlformats.org/officeDocument/2006/relationships/image" Target="../media/image6.bmp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76320"/>
            <a:ext cx="9142920" cy="6642000"/>
            <a:chOff x="0" y="76320"/>
            <a:chExt cx="9142920" cy="6642000"/>
          </a:xfrm>
        </p:grpSpPr>
        <p:sp>
          <p:nvSpPr>
            <p:cNvPr id="40" name=""/>
            <p:cNvSpPr/>
            <p:nvPr/>
          </p:nvSpPr>
          <p:spPr>
            <a:xfrm>
              <a:off x="19080" y="749160"/>
              <a:ext cx="9110880" cy="381240"/>
            </a:xfrm>
            <a:custGeom>
              <a:avLst/>
              <a:gdLst/>
              <a:ahLst/>
              <a:rect l="0" t="0" r="r" b="b"/>
              <a:pathLst>
                <a:path fill="none" w="25308" h="1059">
                  <a:moveTo>
                    <a:pt x="0" y="141"/>
                  </a:moveTo>
                  <a:lnTo>
                    <a:pt x="367" y="565"/>
                  </a:lnTo>
                  <a:lnTo>
                    <a:pt x="881" y="847"/>
                  </a:lnTo>
                  <a:lnTo>
                    <a:pt x="1616" y="953"/>
                  </a:lnTo>
                  <a:lnTo>
                    <a:pt x="2975" y="1059"/>
                  </a:lnTo>
                  <a:lnTo>
                    <a:pt x="22590" y="1059"/>
                  </a:lnTo>
                  <a:lnTo>
                    <a:pt x="24206" y="847"/>
                  </a:lnTo>
                  <a:lnTo>
                    <a:pt x="25014" y="458"/>
                  </a:lnTo>
                  <a:lnTo>
                    <a:pt x="2530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" name=""/>
            <p:cNvGrpSpPr/>
            <p:nvPr/>
          </p:nvGrpSpPr>
          <p:grpSpPr>
            <a:xfrm>
              <a:off x="0" y="76320"/>
              <a:ext cx="9142920" cy="6642000"/>
              <a:chOff x="0" y="76320"/>
              <a:chExt cx="9142920" cy="6642000"/>
            </a:xfrm>
          </p:grpSpPr>
          <p:sp>
            <p:nvSpPr>
              <p:cNvPr id="42" name=""/>
              <p:cNvSpPr/>
              <p:nvPr/>
            </p:nvSpPr>
            <p:spPr>
              <a:xfrm>
                <a:off x="19080" y="76320"/>
                <a:ext cx="9123840" cy="775080"/>
              </a:xfrm>
              <a:custGeom>
                <a:avLst/>
                <a:gdLst/>
                <a:ahLst/>
                <a:rect l="0" t="0" r="r" b="b"/>
                <a:pathLst>
                  <a:path fill="none" w="25344" h="2153">
                    <a:moveTo>
                      <a:pt x="0" y="1871"/>
                    </a:moveTo>
                    <a:lnTo>
                      <a:pt x="514" y="2083"/>
                    </a:lnTo>
                    <a:lnTo>
                      <a:pt x="1028" y="2153"/>
                    </a:lnTo>
                    <a:lnTo>
                      <a:pt x="1469" y="2048"/>
                    </a:lnTo>
                    <a:lnTo>
                      <a:pt x="1946" y="1341"/>
                    </a:lnTo>
                    <a:lnTo>
                      <a:pt x="2203" y="458"/>
                    </a:lnTo>
                    <a:lnTo>
                      <a:pt x="2056" y="0"/>
                    </a:lnTo>
                    <a:lnTo>
                      <a:pt x="22479" y="0"/>
                    </a:lnTo>
                    <a:lnTo>
                      <a:pt x="22443" y="529"/>
                    </a:lnTo>
                    <a:lnTo>
                      <a:pt x="22736" y="1306"/>
                    </a:lnTo>
                    <a:lnTo>
                      <a:pt x="23544" y="1977"/>
                    </a:lnTo>
                    <a:lnTo>
                      <a:pt x="24536" y="2048"/>
                    </a:lnTo>
                    <a:lnTo>
                      <a:pt x="25344" y="180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46280" y="1079640"/>
                <a:ext cx="237960" cy="5562720"/>
              </a:xfrm>
              <a:prstGeom prst="rect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0"/>
              </a:gra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807320" y="1079640"/>
                <a:ext cx="236520" cy="5562720"/>
              </a:xfrm>
              <a:prstGeom prst="rect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0"/>
              </a:gra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271440" y="6032520"/>
                <a:ext cx="8407440" cy="685800"/>
                <a:chOff x="271440" y="6032520"/>
                <a:chExt cx="8407440" cy="68580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88960" y="6032520"/>
                  <a:ext cx="769320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5400000"/>
                </a:gra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28760" y="6261120"/>
                  <a:ext cx="801360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5400000"/>
                </a:gra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71440" y="6489720"/>
                  <a:ext cx="8407440" cy="22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5400000"/>
                </a:gra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>
                <a:off x="0" y="88920"/>
                <a:ext cx="9136440" cy="1035360"/>
              </a:xfrm>
              <a:custGeom>
                <a:avLst/>
                <a:gdLst/>
                <a:ahLst/>
                <a:rect l="0" t="0" r="r" b="b"/>
                <a:pathLst>
                  <a:path w="25379" h="2876">
                    <a:moveTo>
                      <a:pt x="0" y="1853"/>
                    </a:moveTo>
                    <a:lnTo>
                      <a:pt x="201" y="2117"/>
                    </a:lnTo>
                    <a:lnTo>
                      <a:pt x="422" y="2382"/>
                    </a:lnTo>
                    <a:lnTo>
                      <a:pt x="936" y="2646"/>
                    </a:lnTo>
                    <a:lnTo>
                      <a:pt x="1744" y="2770"/>
                    </a:lnTo>
                    <a:lnTo>
                      <a:pt x="2056" y="2787"/>
                    </a:lnTo>
                    <a:lnTo>
                      <a:pt x="3360" y="2876"/>
                    </a:lnTo>
                    <a:lnTo>
                      <a:pt x="22588" y="2876"/>
                    </a:lnTo>
                    <a:lnTo>
                      <a:pt x="24241" y="2664"/>
                    </a:lnTo>
                    <a:lnTo>
                      <a:pt x="25031" y="2276"/>
                    </a:lnTo>
                    <a:lnTo>
                      <a:pt x="25379" y="1764"/>
                    </a:lnTo>
                    <a:lnTo>
                      <a:pt x="24608" y="2029"/>
                    </a:lnTo>
                    <a:lnTo>
                      <a:pt x="23543" y="1958"/>
                    </a:lnTo>
                    <a:lnTo>
                      <a:pt x="22772" y="1287"/>
                    </a:lnTo>
                    <a:lnTo>
                      <a:pt x="22441" y="458"/>
                    </a:lnTo>
                    <a:lnTo>
                      <a:pt x="22515" y="0"/>
                    </a:lnTo>
                    <a:lnTo>
                      <a:pt x="2130" y="0"/>
                    </a:lnTo>
                    <a:lnTo>
                      <a:pt x="2295" y="458"/>
                    </a:lnTo>
                    <a:lnTo>
                      <a:pt x="2038" y="1287"/>
                    </a:lnTo>
                    <a:lnTo>
                      <a:pt x="1542" y="2064"/>
                    </a:lnTo>
                    <a:lnTo>
                      <a:pt x="1101" y="2135"/>
                    </a:lnTo>
                    <a:lnTo>
                      <a:pt x="569" y="2064"/>
                    </a:lnTo>
                    <a:lnTo>
                      <a:pt x="0" y="18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" name=""/>
          <p:cNvGrpSpPr/>
          <p:nvPr/>
        </p:nvGrpSpPr>
        <p:grpSpPr>
          <a:xfrm>
            <a:off x="3048120" y="2057400"/>
            <a:ext cx="3124440" cy="2895840"/>
            <a:chOff x="3048120" y="2057400"/>
            <a:chExt cx="3124440" cy="2895840"/>
          </a:xfrm>
        </p:grpSpPr>
        <p:sp>
          <p:nvSpPr>
            <p:cNvPr id="51" name=""/>
            <p:cNvSpPr/>
            <p:nvPr/>
          </p:nvSpPr>
          <p:spPr>
            <a:xfrm>
              <a:off x="3165480" y="2568600"/>
              <a:ext cx="2876760" cy="2384640"/>
            </a:xfrm>
            <a:custGeom>
              <a:avLst/>
              <a:gdLst/>
              <a:ahLst/>
              <a:rect l="0" t="0" r="r" b="b"/>
              <a:pathLst>
                <a:path w="7991" h="6624">
                  <a:moveTo>
                    <a:pt x="4000" y="2609"/>
                  </a:moveTo>
                  <a:lnTo>
                    <a:pt x="3686" y="2587"/>
                  </a:lnTo>
                  <a:lnTo>
                    <a:pt x="3446" y="2341"/>
                  </a:lnTo>
                  <a:lnTo>
                    <a:pt x="3354" y="1980"/>
                  </a:lnTo>
                  <a:lnTo>
                    <a:pt x="3270" y="1626"/>
                  </a:lnTo>
                  <a:lnTo>
                    <a:pt x="3298" y="1284"/>
                  </a:lnTo>
                  <a:lnTo>
                    <a:pt x="3394" y="982"/>
                  </a:lnTo>
                  <a:lnTo>
                    <a:pt x="3550" y="714"/>
                  </a:lnTo>
                  <a:lnTo>
                    <a:pt x="3787" y="491"/>
                  </a:lnTo>
                  <a:lnTo>
                    <a:pt x="4060" y="338"/>
                  </a:lnTo>
                  <a:lnTo>
                    <a:pt x="4508" y="156"/>
                  </a:lnTo>
                  <a:lnTo>
                    <a:pt x="5049" y="18"/>
                  </a:lnTo>
                  <a:lnTo>
                    <a:pt x="5273" y="0"/>
                  </a:lnTo>
                  <a:lnTo>
                    <a:pt x="5497" y="29"/>
                  </a:lnTo>
                  <a:lnTo>
                    <a:pt x="6029" y="219"/>
                  </a:lnTo>
                  <a:lnTo>
                    <a:pt x="6350" y="364"/>
                  </a:lnTo>
                  <a:lnTo>
                    <a:pt x="6882" y="673"/>
                  </a:lnTo>
                  <a:lnTo>
                    <a:pt x="7206" y="1042"/>
                  </a:lnTo>
                  <a:lnTo>
                    <a:pt x="7723" y="1738"/>
                  </a:lnTo>
                  <a:lnTo>
                    <a:pt x="7919" y="2256"/>
                  </a:lnTo>
                  <a:lnTo>
                    <a:pt x="7991" y="2985"/>
                  </a:lnTo>
                  <a:lnTo>
                    <a:pt x="7983" y="3686"/>
                  </a:lnTo>
                  <a:lnTo>
                    <a:pt x="7843" y="4167"/>
                  </a:lnTo>
                  <a:lnTo>
                    <a:pt x="7639" y="4822"/>
                  </a:lnTo>
                  <a:lnTo>
                    <a:pt x="7402" y="5153"/>
                  </a:lnTo>
                  <a:lnTo>
                    <a:pt x="6894" y="5619"/>
                  </a:lnTo>
                  <a:lnTo>
                    <a:pt x="6418" y="5995"/>
                  </a:lnTo>
                  <a:lnTo>
                    <a:pt x="5765" y="6281"/>
                  </a:lnTo>
                  <a:lnTo>
                    <a:pt x="5237" y="6479"/>
                  </a:lnTo>
                  <a:lnTo>
                    <a:pt x="4376" y="6620"/>
                  </a:lnTo>
                  <a:lnTo>
                    <a:pt x="3767" y="6624"/>
                  </a:lnTo>
                  <a:lnTo>
                    <a:pt x="3110" y="6542"/>
                  </a:lnTo>
                  <a:lnTo>
                    <a:pt x="2401" y="6322"/>
                  </a:lnTo>
                  <a:lnTo>
                    <a:pt x="1677" y="5972"/>
                  </a:lnTo>
                  <a:lnTo>
                    <a:pt x="1192" y="5619"/>
                  </a:lnTo>
                  <a:lnTo>
                    <a:pt x="776" y="5235"/>
                  </a:lnTo>
                  <a:lnTo>
                    <a:pt x="420" y="4822"/>
                  </a:lnTo>
                  <a:lnTo>
                    <a:pt x="168" y="4409"/>
                  </a:lnTo>
                  <a:lnTo>
                    <a:pt x="0" y="4096"/>
                  </a:lnTo>
                  <a:lnTo>
                    <a:pt x="400" y="4479"/>
                  </a:lnTo>
                  <a:lnTo>
                    <a:pt x="788" y="4908"/>
                  </a:lnTo>
                  <a:lnTo>
                    <a:pt x="1417" y="5280"/>
                  </a:lnTo>
                  <a:lnTo>
                    <a:pt x="1965" y="5548"/>
                  </a:lnTo>
                  <a:lnTo>
                    <a:pt x="2465" y="5782"/>
                  </a:lnTo>
                  <a:lnTo>
                    <a:pt x="3182" y="5917"/>
                  </a:lnTo>
                  <a:lnTo>
                    <a:pt x="3795" y="5939"/>
                  </a:lnTo>
                  <a:lnTo>
                    <a:pt x="4160" y="5835"/>
                  </a:lnTo>
                  <a:lnTo>
                    <a:pt x="4780" y="5548"/>
                  </a:lnTo>
                  <a:lnTo>
                    <a:pt x="5341" y="5258"/>
                  </a:lnTo>
                  <a:lnTo>
                    <a:pt x="5653" y="4807"/>
                  </a:lnTo>
                  <a:lnTo>
                    <a:pt x="5953" y="4062"/>
                  </a:lnTo>
                  <a:lnTo>
                    <a:pt x="6013" y="3616"/>
                  </a:lnTo>
                  <a:lnTo>
                    <a:pt x="5909" y="3108"/>
                  </a:lnTo>
                  <a:lnTo>
                    <a:pt x="5561" y="2721"/>
                  </a:lnTo>
                  <a:lnTo>
                    <a:pt x="5201" y="2475"/>
                  </a:lnTo>
                  <a:lnTo>
                    <a:pt x="4760" y="2364"/>
                  </a:lnTo>
                  <a:lnTo>
                    <a:pt x="4412" y="2375"/>
                  </a:lnTo>
                  <a:lnTo>
                    <a:pt x="4256" y="2509"/>
                  </a:lnTo>
                  <a:lnTo>
                    <a:pt x="4000" y="260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2057400"/>
              <a:ext cx="2298960" cy="2659320"/>
            </a:xfrm>
            <a:custGeom>
              <a:avLst/>
              <a:gdLst/>
              <a:ahLst/>
              <a:rect l="0" t="0" r="r" b="b"/>
              <a:pathLst>
                <a:path w="6386" h="7387">
                  <a:moveTo>
                    <a:pt x="4332" y="4026"/>
                  </a:moveTo>
                  <a:lnTo>
                    <a:pt x="4612" y="3818"/>
                  </a:lnTo>
                  <a:lnTo>
                    <a:pt x="4917" y="3751"/>
                  </a:lnTo>
                  <a:lnTo>
                    <a:pt x="5325" y="3796"/>
                  </a:lnTo>
                  <a:lnTo>
                    <a:pt x="5685" y="3941"/>
                  </a:lnTo>
                  <a:lnTo>
                    <a:pt x="5985" y="4142"/>
                  </a:lnTo>
                  <a:lnTo>
                    <a:pt x="6154" y="4376"/>
                  </a:lnTo>
                  <a:lnTo>
                    <a:pt x="6314" y="4684"/>
                  </a:lnTo>
                  <a:lnTo>
                    <a:pt x="6386" y="4997"/>
                  </a:lnTo>
                  <a:lnTo>
                    <a:pt x="6374" y="5290"/>
                  </a:lnTo>
                  <a:lnTo>
                    <a:pt x="6290" y="5736"/>
                  </a:lnTo>
                  <a:lnTo>
                    <a:pt x="6114" y="6231"/>
                  </a:lnTo>
                  <a:lnTo>
                    <a:pt x="6001" y="6413"/>
                  </a:lnTo>
                  <a:lnTo>
                    <a:pt x="5857" y="6569"/>
                  </a:lnTo>
                  <a:lnTo>
                    <a:pt x="5393" y="6881"/>
                  </a:lnTo>
                  <a:lnTo>
                    <a:pt x="5081" y="7049"/>
                  </a:lnTo>
                  <a:lnTo>
                    <a:pt x="4512" y="7290"/>
                  </a:lnTo>
                  <a:lnTo>
                    <a:pt x="4064" y="7387"/>
                  </a:lnTo>
                  <a:lnTo>
                    <a:pt x="3094" y="7350"/>
                  </a:lnTo>
                  <a:lnTo>
                    <a:pt x="2369" y="7190"/>
                  </a:lnTo>
                  <a:lnTo>
                    <a:pt x="1825" y="6878"/>
                  </a:lnTo>
                  <a:lnTo>
                    <a:pt x="1200" y="6480"/>
                  </a:lnTo>
                  <a:lnTo>
                    <a:pt x="852" y="6108"/>
                  </a:lnTo>
                  <a:lnTo>
                    <a:pt x="372" y="5591"/>
                  </a:lnTo>
                  <a:lnTo>
                    <a:pt x="208" y="5223"/>
                  </a:lnTo>
                  <a:lnTo>
                    <a:pt x="72" y="4577"/>
                  </a:lnTo>
                  <a:lnTo>
                    <a:pt x="0" y="4000"/>
                  </a:lnTo>
                  <a:lnTo>
                    <a:pt x="100" y="3334"/>
                  </a:lnTo>
                  <a:lnTo>
                    <a:pt x="216" y="2817"/>
                  </a:lnTo>
                  <a:lnTo>
                    <a:pt x="564" y="2070"/>
                  </a:lnTo>
                  <a:lnTo>
                    <a:pt x="896" y="1594"/>
                  </a:lnTo>
                  <a:lnTo>
                    <a:pt x="1333" y="1133"/>
                  </a:lnTo>
                  <a:lnTo>
                    <a:pt x="1917" y="706"/>
                  </a:lnTo>
                  <a:lnTo>
                    <a:pt x="2634" y="341"/>
                  </a:lnTo>
                  <a:lnTo>
                    <a:pt x="3219" y="163"/>
                  </a:lnTo>
                  <a:lnTo>
                    <a:pt x="3796" y="44"/>
                  </a:lnTo>
                  <a:lnTo>
                    <a:pt x="4360" y="0"/>
                  </a:lnTo>
                  <a:lnTo>
                    <a:pt x="4873" y="63"/>
                  </a:lnTo>
                  <a:lnTo>
                    <a:pt x="5265" y="122"/>
                  </a:lnTo>
                  <a:lnTo>
                    <a:pt x="4680" y="174"/>
                  </a:lnTo>
                  <a:lnTo>
                    <a:pt x="4080" y="237"/>
                  </a:lnTo>
                  <a:lnTo>
                    <a:pt x="3363" y="464"/>
                  </a:lnTo>
                  <a:lnTo>
                    <a:pt x="2674" y="739"/>
                  </a:lnTo>
                  <a:lnTo>
                    <a:pt x="2317" y="1003"/>
                  </a:lnTo>
                  <a:lnTo>
                    <a:pt x="1853" y="1538"/>
                  </a:lnTo>
                  <a:lnTo>
                    <a:pt x="1433" y="2137"/>
                  </a:lnTo>
                  <a:lnTo>
                    <a:pt x="1385" y="2338"/>
                  </a:lnTo>
                  <a:lnTo>
                    <a:pt x="1237" y="2936"/>
                  </a:lnTo>
                  <a:lnTo>
                    <a:pt x="1253" y="3568"/>
                  </a:lnTo>
                  <a:lnTo>
                    <a:pt x="1481" y="4064"/>
                  </a:lnTo>
                  <a:lnTo>
                    <a:pt x="1989" y="4707"/>
                  </a:lnTo>
                  <a:lnTo>
                    <a:pt x="2357" y="4997"/>
                  </a:lnTo>
                  <a:lnTo>
                    <a:pt x="2862" y="5201"/>
                  </a:lnTo>
                  <a:lnTo>
                    <a:pt x="3443" y="5138"/>
                  </a:lnTo>
                  <a:lnTo>
                    <a:pt x="3844" y="4971"/>
                  </a:lnTo>
                  <a:lnTo>
                    <a:pt x="4204" y="4733"/>
                  </a:lnTo>
                  <a:lnTo>
                    <a:pt x="4408" y="4406"/>
                  </a:lnTo>
                  <a:lnTo>
                    <a:pt x="4396" y="4182"/>
                  </a:lnTo>
                  <a:lnTo>
                    <a:pt x="4332" y="4026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40160" y="2073240"/>
              <a:ext cx="2732400" cy="2304000"/>
            </a:xfrm>
            <a:custGeom>
              <a:avLst/>
              <a:gdLst/>
              <a:ahLst/>
              <a:rect l="0" t="0" r="r" b="b"/>
              <a:pathLst>
                <a:path w="7590" h="6400">
                  <a:moveTo>
                    <a:pt x="3279" y="3994"/>
                  </a:moveTo>
                  <a:lnTo>
                    <a:pt x="3364" y="4313"/>
                  </a:lnTo>
                  <a:lnTo>
                    <a:pt x="3295" y="4607"/>
                  </a:lnTo>
                  <a:lnTo>
                    <a:pt x="3063" y="4879"/>
                  </a:lnTo>
                  <a:lnTo>
                    <a:pt x="2787" y="5132"/>
                  </a:lnTo>
                  <a:lnTo>
                    <a:pt x="2458" y="5292"/>
                  </a:lnTo>
                  <a:lnTo>
                    <a:pt x="2138" y="5374"/>
                  </a:lnTo>
                  <a:lnTo>
                    <a:pt x="1810" y="5392"/>
                  </a:lnTo>
                  <a:lnTo>
                    <a:pt x="1477" y="5326"/>
                  </a:lnTo>
                  <a:lnTo>
                    <a:pt x="1193" y="5188"/>
                  </a:lnTo>
                  <a:lnTo>
                    <a:pt x="792" y="4939"/>
                  </a:lnTo>
                  <a:lnTo>
                    <a:pt x="372" y="4585"/>
                  </a:lnTo>
                  <a:lnTo>
                    <a:pt x="240" y="4410"/>
                  </a:lnTo>
                  <a:lnTo>
                    <a:pt x="148" y="4217"/>
                  </a:lnTo>
                  <a:lnTo>
                    <a:pt x="36" y="3704"/>
                  </a:lnTo>
                  <a:lnTo>
                    <a:pt x="0" y="3376"/>
                  </a:lnTo>
                  <a:lnTo>
                    <a:pt x="4" y="2793"/>
                  </a:lnTo>
                  <a:lnTo>
                    <a:pt x="172" y="2339"/>
                  </a:lnTo>
                  <a:lnTo>
                    <a:pt x="528" y="1565"/>
                  </a:lnTo>
                  <a:lnTo>
                    <a:pt x="897" y="1130"/>
                  </a:lnTo>
                  <a:lnTo>
                    <a:pt x="1525" y="691"/>
                  </a:lnTo>
                  <a:lnTo>
                    <a:pt x="2166" y="330"/>
                  </a:lnTo>
                  <a:lnTo>
                    <a:pt x="2683" y="189"/>
                  </a:lnTo>
                  <a:lnTo>
                    <a:pt x="3380" y="0"/>
                  </a:lnTo>
                  <a:lnTo>
                    <a:pt x="3809" y="7"/>
                  </a:lnTo>
                  <a:lnTo>
                    <a:pt x="4506" y="167"/>
                  </a:lnTo>
                  <a:lnTo>
                    <a:pt x="5103" y="342"/>
                  </a:lnTo>
                  <a:lnTo>
                    <a:pt x="5715" y="702"/>
                  </a:lnTo>
                  <a:lnTo>
                    <a:pt x="6164" y="1011"/>
                  </a:lnTo>
                  <a:lnTo>
                    <a:pt x="6757" y="1618"/>
                  </a:lnTo>
                  <a:lnTo>
                    <a:pt x="7085" y="2094"/>
                  </a:lnTo>
                  <a:lnTo>
                    <a:pt x="7357" y="2663"/>
                  </a:lnTo>
                  <a:lnTo>
                    <a:pt x="7538" y="3324"/>
                  </a:lnTo>
                  <a:lnTo>
                    <a:pt x="7590" y="4083"/>
                  </a:lnTo>
                  <a:lnTo>
                    <a:pt x="7526" y="4655"/>
                  </a:lnTo>
                  <a:lnTo>
                    <a:pt x="7401" y="5188"/>
                  </a:lnTo>
                  <a:lnTo>
                    <a:pt x="7213" y="5682"/>
                  </a:lnTo>
                  <a:lnTo>
                    <a:pt x="6949" y="6110"/>
                  </a:lnTo>
                  <a:lnTo>
                    <a:pt x="6733" y="6400"/>
                  </a:lnTo>
                  <a:lnTo>
                    <a:pt x="6909" y="5880"/>
                  </a:lnTo>
                  <a:lnTo>
                    <a:pt x="7097" y="5355"/>
                  </a:lnTo>
                  <a:lnTo>
                    <a:pt x="7169" y="4655"/>
                  </a:lnTo>
                  <a:lnTo>
                    <a:pt x="7165" y="3967"/>
                  </a:lnTo>
                  <a:lnTo>
                    <a:pt x="7077" y="3547"/>
                  </a:lnTo>
                  <a:lnTo>
                    <a:pt x="6745" y="2934"/>
                  </a:lnTo>
                  <a:lnTo>
                    <a:pt x="6332" y="2332"/>
                  </a:lnTo>
                  <a:lnTo>
                    <a:pt x="6152" y="2201"/>
                  </a:lnTo>
                  <a:lnTo>
                    <a:pt x="5631" y="1830"/>
                  </a:lnTo>
                  <a:lnTo>
                    <a:pt x="5003" y="1580"/>
                  </a:lnTo>
                  <a:lnTo>
                    <a:pt x="4422" y="1576"/>
                  </a:lnTo>
                  <a:lnTo>
                    <a:pt x="3588" y="1729"/>
                  </a:lnTo>
                  <a:lnTo>
                    <a:pt x="3147" y="1919"/>
                  </a:lnTo>
                  <a:lnTo>
                    <a:pt x="2743" y="2268"/>
                  </a:lnTo>
                  <a:lnTo>
                    <a:pt x="2559" y="2781"/>
                  </a:lnTo>
                  <a:lnTo>
                    <a:pt x="2551" y="3187"/>
                  </a:lnTo>
                  <a:lnTo>
                    <a:pt x="2659" y="3633"/>
                  </a:lnTo>
                  <a:lnTo>
                    <a:pt x="2875" y="3901"/>
                  </a:lnTo>
                  <a:lnTo>
                    <a:pt x="3091" y="3979"/>
                  </a:lnTo>
                  <a:lnTo>
                    <a:pt x="3279" y="399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 txBox="1"/>
          <p:nvPr/>
        </p:nvSpPr>
        <p:spPr>
          <a:xfrm>
            <a:off x="609480" y="0"/>
            <a:ext cx="8077320" cy="22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900" spc="-1" strike="noStrike">
                <a:solidFill>
                  <a:srgbClr val="000000"/>
                </a:solidFill>
                <a:latin typeface="Marigold"/>
                <a:ea typeface="Marigold"/>
              </a:rPr>
              <a:t>TALK TIPS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4940280"/>
            <a:ext cx="8077320" cy="20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6000" spc="-1" strike="noStrike">
                <a:solidFill>
                  <a:srgbClr val="000000"/>
                </a:solidFill>
                <a:latin typeface="Marigold"/>
                <a:ea typeface="Marigold"/>
              </a:rPr>
              <a:t>The Daily Language Pro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2120" y="2743200"/>
            <a:ext cx="22860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e00000"/>
                </a:solidFill>
                <a:latin typeface="Times New Roman"/>
                <a:ea typeface="Times New Roman"/>
              </a:rPr>
              <a:t>NC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553080" y="2438280"/>
            <a:ext cx="22096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400800" y="3505320"/>
            <a:ext cx="2666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(Conversations of The Real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7853400" y="684360"/>
            <a:ext cx="330480" cy="448200"/>
          </a:xfrm>
          <a:custGeom>
            <a:avLst/>
            <a:gdLst/>
            <a:ahLst/>
            <a:rect l="0" t="0" r="r" b="b"/>
            <a:pathLst>
              <a:path w="918" h="1245">
                <a:moveTo>
                  <a:pt x="666" y="44"/>
                </a:moveTo>
                <a:lnTo>
                  <a:pt x="644" y="26"/>
                </a:lnTo>
                <a:lnTo>
                  <a:pt x="622" y="8"/>
                </a:lnTo>
                <a:lnTo>
                  <a:pt x="596" y="4"/>
                </a:lnTo>
                <a:lnTo>
                  <a:pt x="569" y="0"/>
                </a:lnTo>
                <a:lnTo>
                  <a:pt x="516" y="0"/>
                </a:lnTo>
                <a:lnTo>
                  <a:pt x="477" y="0"/>
                </a:lnTo>
                <a:lnTo>
                  <a:pt x="440" y="8"/>
                </a:lnTo>
                <a:lnTo>
                  <a:pt x="414" y="13"/>
                </a:lnTo>
                <a:lnTo>
                  <a:pt x="392" y="26"/>
                </a:lnTo>
                <a:lnTo>
                  <a:pt x="379" y="35"/>
                </a:lnTo>
                <a:lnTo>
                  <a:pt x="361" y="48"/>
                </a:lnTo>
                <a:lnTo>
                  <a:pt x="339" y="52"/>
                </a:lnTo>
                <a:lnTo>
                  <a:pt x="308" y="61"/>
                </a:lnTo>
                <a:lnTo>
                  <a:pt x="273" y="74"/>
                </a:lnTo>
                <a:lnTo>
                  <a:pt x="233" y="88"/>
                </a:lnTo>
                <a:lnTo>
                  <a:pt x="194" y="110"/>
                </a:lnTo>
                <a:lnTo>
                  <a:pt x="149" y="136"/>
                </a:lnTo>
                <a:lnTo>
                  <a:pt x="119" y="171"/>
                </a:lnTo>
                <a:lnTo>
                  <a:pt x="83" y="202"/>
                </a:lnTo>
                <a:lnTo>
                  <a:pt x="66" y="246"/>
                </a:lnTo>
                <a:lnTo>
                  <a:pt x="79" y="238"/>
                </a:lnTo>
                <a:lnTo>
                  <a:pt x="101" y="233"/>
                </a:lnTo>
                <a:lnTo>
                  <a:pt x="119" y="229"/>
                </a:lnTo>
                <a:lnTo>
                  <a:pt x="132" y="224"/>
                </a:lnTo>
                <a:lnTo>
                  <a:pt x="83" y="273"/>
                </a:lnTo>
                <a:lnTo>
                  <a:pt x="57" y="336"/>
                </a:lnTo>
                <a:lnTo>
                  <a:pt x="35" y="402"/>
                </a:lnTo>
                <a:lnTo>
                  <a:pt x="4" y="464"/>
                </a:lnTo>
                <a:lnTo>
                  <a:pt x="35" y="464"/>
                </a:lnTo>
                <a:lnTo>
                  <a:pt x="70" y="459"/>
                </a:lnTo>
                <a:lnTo>
                  <a:pt x="101" y="455"/>
                </a:lnTo>
                <a:lnTo>
                  <a:pt x="123" y="441"/>
                </a:lnTo>
                <a:lnTo>
                  <a:pt x="83" y="499"/>
                </a:lnTo>
                <a:lnTo>
                  <a:pt x="48" y="583"/>
                </a:lnTo>
                <a:lnTo>
                  <a:pt x="8" y="675"/>
                </a:lnTo>
                <a:lnTo>
                  <a:pt x="0" y="750"/>
                </a:lnTo>
                <a:lnTo>
                  <a:pt x="8" y="807"/>
                </a:lnTo>
                <a:lnTo>
                  <a:pt x="30" y="874"/>
                </a:lnTo>
                <a:lnTo>
                  <a:pt x="52" y="927"/>
                </a:lnTo>
                <a:lnTo>
                  <a:pt x="70" y="967"/>
                </a:lnTo>
                <a:lnTo>
                  <a:pt x="83" y="1007"/>
                </a:lnTo>
                <a:lnTo>
                  <a:pt x="119" y="1064"/>
                </a:lnTo>
                <a:lnTo>
                  <a:pt x="158" y="1126"/>
                </a:lnTo>
                <a:lnTo>
                  <a:pt x="211" y="1170"/>
                </a:lnTo>
                <a:lnTo>
                  <a:pt x="220" y="1144"/>
                </a:lnTo>
                <a:lnTo>
                  <a:pt x="220" y="1126"/>
                </a:lnTo>
                <a:lnTo>
                  <a:pt x="224" y="1108"/>
                </a:lnTo>
                <a:lnTo>
                  <a:pt x="224" y="1086"/>
                </a:lnTo>
                <a:lnTo>
                  <a:pt x="246" y="1113"/>
                </a:lnTo>
                <a:lnTo>
                  <a:pt x="264" y="1152"/>
                </a:lnTo>
                <a:lnTo>
                  <a:pt x="299" y="1192"/>
                </a:lnTo>
                <a:lnTo>
                  <a:pt x="361" y="1232"/>
                </a:lnTo>
                <a:lnTo>
                  <a:pt x="357" y="1205"/>
                </a:lnTo>
                <a:lnTo>
                  <a:pt x="357" y="1183"/>
                </a:lnTo>
                <a:lnTo>
                  <a:pt x="357" y="1179"/>
                </a:lnTo>
                <a:lnTo>
                  <a:pt x="357" y="1170"/>
                </a:lnTo>
                <a:lnTo>
                  <a:pt x="401" y="1210"/>
                </a:lnTo>
                <a:lnTo>
                  <a:pt x="427" y="1232"/>
                </a:lnTo>
                <a:lnTo>
                  <a:pt x="440" y="1241"/>
                </a:lnTo>
                <a:lnTo>
                  <a:pt x="477" y="1245"/>
                </a:lnTo>
                <a:lnTo>
                  <a:pt x="486" y="1214"/>
                </a:lnTo>
                <a:lnTo>
                  <a:pt x="494" y="1188"/>
                </a:lnTo>
                <a:lnTo>
                  <a:pt x="516" y="1166"/>
                </a:lnTo>
                <a:lnTo>
                  <a:pt x="556" y="1157"/>
                </a:lnTo>
                <a:lnTo>
                  <a:pt x="596" y="1139"/>
                </a:lnTo>
                <a:lnTo>
                  <a:pt x="631" y="1113"/>
                </a:lnTo>
                <a:lnTo>
                  <a:pt x="662" y="1082"/>
                </a:lnTo>
                <a:lnTo>
                  <a:pt x="710" y="1055"/>
                </a:lnTo>
                <a:lnTo>
                  <a:pt x="746" y="1033"/>
                </a:lnTo>
                <a:lnTo>
                  <a:pt x="785" y="1003"/>
                </a:lnTo>
                <a:lnTo>
                  <a:pt x="812" y="963"/>
                </a:lnTo>
                <a:lnTo>
                  <a:pt x="816" y="913"/>
                </a:lnTo>
                <a:lnTo>
                  <a:pt x="821" y="865"/>
                </a:lnTo>
                <a:lnTo>
                  <a:pt x="838" y="816"/>
                </a:lnTo>
                <a:lnTo>
                  <a:pt x="847" y="768"/>
                </a:lnTo>
                <a:lnTo>
                  <a:pt x="838" y="710"/>
                </a:lnTo>
                <a:lnTo>
                  <a:pt x="865" y="733"/>
                </a:lnTo>
                <a:lnTo>
                  <a:pt x="878" y="741"/>
                </a:lnTo>
                <a:lnTo>
                  <a:pt x="896" y="759"/>
                </a:lnTo>
                <a:lnTo>
                  <a:pt x="904" y="763"/>
                </a:lnTo>
                <a:lnTo>
                  <a:pt x="918" y="706"/>
                </a:lnTo>
                <a:lnTo>
                  <a:pt x="918" y="627"/>
                </a:lnTo>
                <a:lnTo>
                  <a:pt x="900" y="538"/>
                </a:lnTo>
                <a:lnTo>
                  <a:pt x="878" y="477"/>
                </a:lnTo>
                <a:lnTo>
                  <a:pt x="860" y="415"/>
                </a:lnTo>
                <a:lnTo>
                  <a:pt x="860" y="353"/>
                </a:lnTo>
                <a:lnTo>
                  <a:pt x="847" y="295"/>
                </a:lnTo>
                <a:lnTo>
                  <a:pt x="821" y="251"/>
                </a:lnTo>
                <a:lnTo>
                  <a:pt x="777" y="211"/>
                </a:lnTo>
                <a:lnTo>
                  <a:pt x="746" y="163"/>
                </a:lnTo>
                <a:lnTo>
                  <a:pt x="719" y="123"/>
                </a:lnTo>
                <a:lnTo>
                  <a:pt x="697" y="83"/>
                </a:lnTo>
                <a:lnTo>
                  <a:pt x="693" y="74"/>
                </a:lnTo>
                <a:lnTo>
                  <a:pt x="688" y="61"/>
                </a:lnTo>
                <a:lnTo>
                  <a:pt x="675" y="52"/>
                </a:lnTo>
                <a:lnTo>
                  <a:pt x="666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7869240" y="703440"/>
            <a:ext cx="298800" cy="410040"/>
          </a:xfrm>
          <a:custGeom>
            <a:avLst/>
            <a:gdLst/>
            <a:ahLst/>
            <a:rect l="0" t="0" r="r" b="b"/>
            <a:pathLst>
              <a:path w="830" h="1139">
                <a:moveTo>
                  <a:pt x="512" y="0"/>
                </a:moveTo>
                <a:lnTo>
                  <a:pt x="468" y="0"/>
                </a:lnTo>
                <a:lnTo>
                  <a:pt x="433" y="0"/>
                </a:lnTo>
                <a:lnTo>
                  <a:pt x="396" y="4"/>
                </a:lnTo>
                <a:lnTo>
                  <a:pt x="374" y="17"/>
                </a:lnTo>
                <a:lnTo>
                  <a:pt x="357" y="26"/>
                </a:lnTo>
                <a:lnTo>
                  <a:pt x="339" y="30"/>
                </a:lnTo>
                <a:lnTo>
                  <a:pt x="321" y="44"/>
                </a:lnTo>
                <a:lnTo>
                  <a:pt x="308" y="48"/>
                </a:lnTo>
                <a:lnTo>
                  <a:pt x="282" y="52"/>
                </a:lnTo>
                <a:lnTo>
                  <a:pt x="255" y="57"/>
                </a:lnTo>
                <a:lnTo>
                  <a:pt x="229" y="70"/>
                </a:lnTo>
                <a:lnTo>
                  <a:pt x="202" y="79"/>
                </a:lnTo>
                <a:lnTo>
                  <a:pt x="176" y="97"/>
                </a:lnTo>
                <a:lnTo>
                  <a:pt x="149" y="105"/>
                </a:lnTo>
                <a:lnTo>
                  <a:pt x="132" y="123"/>
                </a:lnTo>
                <a:lnTo>
                  <a:pt x="114" y="136"/>
                </a:lnTo>
                <a:lnTo>
                  <a:pt x="132" y="136"/>
                </a:lnTo>
                <a:lnTo>
                  <a:pt x="141" y="145"/>
                </a:lnTo>
                <a:lnTo>
                  <a:pt x="158" y="145"/>
                </a:lnTo>
                <a:lnTo>
                  <a:pt x="167" y="145"/>
                </a:lnTo>
                <a:lnTo>
                  <a:pt x="110" y="194"/>
                </a:lnTo>
                <a:lnTo>
                  <a:pt x="83" y="246"/>
                </a:lnTo>
                <a:lnTo>
                  <a:pt x="61" y="305"/>
                </a:lnTo>
                <a:lnTo>
                  <a:pt x="30" y="358"/>
                </a:lnTo>
                <a:lnTo>
                  <a:pt x="57" y="358"/>
                </a:lnTo>
                <a:lnTo>
                  <a:pt x="88" y="344"/>
                </a:lnTo>
                <a:lnTo>
                  <a:pt x="119" y="331"/>
                </a:lnTo>
                <a:lnTo>
                  <a:pt x="154" y="331"/>
                </a:lnTo>
                <a:lnTo>
                  <a:pt x="132" y="358"/>
                </a:lnTo>
                <a:lnTo>
                  <a:pt x="110" y="402"/>
                </a:lnTo>
                <a:lnTo>
                  <a:pt x="83" y="455"/>
                </a:lnTo>
                <a:lnTo>
                  <a:pt x="57" y="512"/>
                </a:lnTo>
                <a:lnTo>
                  <a:pt x="35" y="574"/>
                </a:lnTo>
                <a:lnTo>
                  <a:pt x="13" y="627"/>
                </a:lnTo>
                <a:lnTo>
                  <a:pt x="4" y="671"/>
                </a:lnTo>
                <a:lnTo>
                  <a:pt x="0" y="702"/>
                </a:lnTo>
                <a:lnTo>
                  <a:pt x="8" y="755"/>
                </a:lnTo>
                <a:lnTo>
                  <a:pt x="30" y="807"/>
                </a:lnTo>
                <a:lnTo>
                  <a:pt x="57" y="857"/>
                </a:lnTo>
                <a:lnTo>
                  <a:pt x="66" y="897"/>
                </a:lnTo>
                <a:lnTo>
                  <a:pt x="79" y="923"/>
                </a:lnTo>
                <a:lnTo>
                  <a:pt x="88" y="958"/>
                </a:lnTo>
                <a:lnTo>
                  <a:pt x="105" y="998"/>
                </a:lnTo>
                <a:lnTo>
                  <a:pt x="136" y="1033"/>
                </a:lnTo>
                <a:lnTo>
                  <a:pt x="141" y="1011"/>
                </a:lnTo>
                <a:lnTo>
                  <a:pt x="154" y="989"/>
                </a:lnTo>
                <a:lnTo>
                  <a:pt x="158" y="976"/>
                </a:lnTo>
                <a:lnTo>
                  <a:pt x="167" y="958"/>
                </a:lnTo>
                <a:lnTo>
                  <a:pt x="189" y="985"/>
                </a:lnTo>
                <a:lnTo>
                  <a:pt x="211" y="1025"/>
                </a:lnTo>
                <a:lnTo>
                  <a:pt x="242" y="1064"/>
                </a:lnTo>
                <a:lnTo>
                  <a:pt x="286" y="1108"/>
                </a:lnTo>
                <a:lnTo>
                  <a:pt x="286" y="1082"/>
                </a:lnTo>
                <a:lnTo>
                  <a:pt x="291" y="1064"/>
                </a:lnTo>
                <a:lnTo>
                  <a:pt x="295" y="1055"/>
                </a:lnTo>
                <a:lnTo>
                  <a:pt x="295" y="1051"/>
                </a:lnTo>
                <a:lnTo>
                  <a:pt x="330" y="1082"/>
                </a:lnTo>
                <a:lnTo>
                  <a:pt x="357" y="1108"/>
                </a:lnTo>
                <a:lnTo>
                  <a:pt x="388" y="1130"/>
                </a:lnTo>
                <a:lnTo>
                  <a:pt x="410" y="1139"/>
                </a:lnTo>
                <a:lnTo>
                  <a:pt x="419" y="1113"/>
                </a:lnTo>
                <a:lnTo>
                  <a:pt x="433" y="1086"/>
                </a:lnTo>
                <a:lnTo>
                  <a:pt x="450" y="1073"/>
                </a:lnTo>
                <a:lnTo>
                  <a:pt x="490" y="1060"/>
                </a:lnTo>
                <a:lnTo>
                  <a:pt x="525" y="1051"/>
                </a:lnTo>
                <a:lnTo>
                  <a:pt x="552" y="1025"/>
                </a:lnTo>
                <a:lnTo>
                  <a:pt x="587" y="989"/>
                </a:lnTo>
                <a:lnTo>
                  <a:pt x="622" y="967"/>
                </a:lnTo>
                <a:lnTo>
                  <a:pt x="662" y="954"/>
                </a:lnTo>
                <a:lnTo>
                  <a:pt x="693" y="928"/>
                </a:lnTo>
                <a:lnTo>
                  <a:pt x="715" y="888"/>
                </a:lnTo>
                <a:lnTo>
                  <a:pt x="719" y="847"/>
                </a:lnTo>
                <a:lnTo>
                  <a:pt x="724" y="785"/>
                </a:lnTo>
                <a:lnTo>
                  <a:pt x="741" y="715"/>
                </a:lnTo>
                <a:lnTo>
                  <a:pt x="750" y="644"/>
                </a:lnTo>
                <a:lnTo>
                  <a:pt x="746" y="578"/>
                </a:lnTo>
                <a:lnTo>
                  <a:pt x="772" y="596"/>
                </a:lnTo>
                <a:lnTo>
                  <a:pt x="794" y="605"/>
                </a:lnTo>
                <a:lnTo>
                  <a:pt x="816" y="622"/>
                </a:lnTo>
                <a:lnTo>
                  <a:pt x="830" y="631"/>
                </a:lnTo>
                <a:lnTo>
                  <a:pt x="830" y="587"/>
                </a:lnTo>
                <a:lnTo>
                  <a:pt x="821" y="534"/>
                </a:lnTo>
                <a:lnTo>
                  <a:pt x="799" y="486"/>
                </a:lnTo>
                <a:lnTo>
                  <a:pt x="772" y="437"/>
                </a:lnTo>
                <a:lnTo>
                  <a:pt x="759" y="384"/>
                </a:lnTo>
                <a:lnTo>
                  <a:pt x="759" y="322"/>
                </a:lnTo>
                <a:lnTo>
                  <a:pt x="755" y="260"/>
                </a:lnTo>
                <a:lnTo>
                  <a:pt x="733" y="220"/>
                </a:lnTo>
                <a:lnTo>
                  <a:pt x="697" y="185"/>
                </a:lnTo>
                <a:lnTo>
                  <a:pt x="666" y="145"/>
                </a:lnTo>
                <a:lnTo>
                  <a:pt x="644" y="105"/>
                </a:lnTo>
                <a:lnTo>
                  <a:pt x="627" y="74"/>
                </a:lnTo>
                <a:lnTo>
                  <a:pt x="605" y="48"/>
                </a:lnTo>
                <a:lnTo>
                  <a:pt x="578" y="22"/>
                </a:lnTo>
                <a:lnTo>
                  <a:pt x="547" y="4"/>
                </a:lnTo>
                <a:lnTo>
                  <a:pt x="512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5600520"/>
            <a:ext cx="9207720" cy="140040"/>
          </a:xfrm>
          <a:custGeom>
            <a:avLst/>
            <a:gdLst/>
            <a:ahLst/>
            <a:rect l="0" t="0" r="r" b="b"/>
            <a:pathLst>
              <a:path fill="none" w="25577" h="389">
                <a:moveTo>
                  <a:pt x="0" y="353"/>
                </a:moveTo>
                <a:lnTo>
                  <a:pt x="2010" y="283"/>
                </a:lnTo>
                <a:lnTo>
                  <a:pt x="4833" y="318"/>
                </a:lnTo>
                <a:lnTo>
                  <a:pt x="10371" y="141"/>
                </a:lnTo>
                <a:lnTo>
                  <a:pt x="16264" y="70"/>
                </a:lnTo>
                <a:lnTo>
                  <a:pt x="18098" y="389"/>
                </a:lnTo>
                <a:lnTo>
                  <a:pt x="21238" y="176"/>
                </a:lnTo>
                <a:lnTo>
                  <a:pt x="23672" y="0"/>
                </a:lnTo>
                <a:lnTo>
                  <a:pt x="25577" y="176"/>
                </a:lnTo>
                <a:lnTo>
                  <a:pt x="25396" y="10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8255160" y="2727360"/>
            <a:ext cx="43200" cy="89280"/>
          </a:xfrm>
          <a:custGeom>
            <a:avLst/>
            <a:gdLst/>
            <a:ahLst/>
            <a:rect l="0" t="0" r="r" b="b"/>
            <a:pathLst>
              <a:path w="120" h="248">
                <a:moveTo>
                  <a:pt x="120" y="8"/>
                </a:moveTo>
                <a:lnTo>
                  <a:pt x="0" y="0"/>
                </a:lnTo>
                <a:lnTo>
                  <a:pt x="39" y="248"/>
                </a:lnTo>
                <a:lnTo>
                  <a:pt x="120" y="8"/>
                </a:lnTo>
                <a:close/>
              </a:path>
            </a:pathLst>
          </a:custGeom>
          <a:solidFill>
            <a:srgbClr val="ccf2f2"/>
          </a:solidFill>
          <a:ln w="0">
            <a:noFill/>
          </a:ln>
        </p:spPr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8018640" y="1238400"/>
            <a:ext cx="522360" cy="1762200"/>
            <a:chOff x="8018640" y="1238400"/>
            <a:chExt cx="522360" cy="1762200"/>
          </a:xfrm>
        </p:grpSpPr>
        <p:sp>
          <p:nvSpPr>
            <p:cNvPr id="1144" name=""/>
            <p:cNvSpPr/>
            <p:nvPr/>
          </p:nvSpPr>
          <p:spPr>
            <a:xfrm>
              <a:off x="8232840" y="1987560"/>
              <a:ext cx="240120" cy="1013040"/>
            </a:xfrm>
            <a:custGeom>
              <a:avLst/>
              <a:gdLst/>
              <a:ahLst/>
              <a:rect l="0" t="0" r="r" b="b"/>
              <a:pathLst>
                <a:path w="667" h="2814">
                  <a:moveTo>
                    <a:pt x="0" y="2055"/>
                  </a:moveTo>
                  <a:lnTo>
                    <a:pt x="97" y="2514"/>
                  </a:lnTo>
                  <a:lnTo>
                    <a:pt x="221" y="2113"/>
                  </a:lnTo>
                  <a:lnTo>
                    <a:pt x="256" y="2470"/>
                  </a:lnTo>
                  <a:lnTo>
                    <a:pt x="336" y="2329"/>
                  </a:lnTo>
                  <a:lnTo>
                    <a:pt x="411" y="2814"/>
                  </a:lnTo>
                  <a:lnTo>
                    <a:pt x="513" y="1919"/>
                  </a:lnTo>
                  <a:lnTo>
                    <a:pt x="592" y="2091"/>
                  </a:lnTo>
                  <a:lnTo>
                    <a:pt x="575" y="1115"/>
                  </a:lnTo>
                  <a:lnTo>
                    <a:pt x="667" y="1221"/>
                  </a:lnTo>
                  <a:lnTo>
                    <a:pt x="531" y="0"/>
                  </a:lnTo>
                  <a:lnTo>
                    <a:pt x="522" y="255"/>
                  </a:lnTo>
                  <a:lnTo>
                    <a:pt x="411" y="2077"/>
                  </a:lnTo>
                  <a:lnTo>
                    <a:pt x="247" y="2064"/>
                  </a:lnTo>
                  <a:lnTo>
                    <a:pt x="181" y="2064"/>
                  </a:lnTo>
                  <a:lnTo>
                    <a:pt x="61" y="2055"/>
                  </a:lnTo>
                  <a:lnTo>
                    <a:pt x="0" y="2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435880" y="1238400"/>
              <a:ext cx="105120" cy="757440"/>
            </a:xfrm>
            <a:custGeom>
              <a:avLst/>
              <a:gdLst/>
              <a:ahLst/>
              <a:rect l="0" t="0" r="r" b="b"/>
              <a:pathLst>
                <a:path w="292" h="2104">
                  <a:moveTo>
                    <a:pt x="0" y="1482"/>
                  </a:moveTo>
                  <a:lnTo>
                    <a:pt x="17" y="1169"/>
                  </a:lnTo>
                  <a:lnTo>
                    <a:pt x="66" y="330"/>
                  </a:lnTo>
                  <a:lnTo>
                    <a:pt x="88" y="0"/>
                  </a:lnTo>
                  <a:lnTo>
                    <a:pt x="292" y="1036"/>
                  </a:lnTo>
                  <a:lnTo>
                    <a:pt x="181" y="956"/>
                  </a:lnTo>
                  <a:lnTo>
                    <a:pt x="119" y="2104"/>
                  </a:lnTo>
                  <a:lnTo>
                    <a:pt x="0" y="1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018640" y="2712960"/>
              <a:ext cx="184680" cy="170280"/>
            </a:xfrm>
            <a:custGeom>
              <a:avLst/>
              <a:gdLst/>
              <a:ahLst/>
              <a:rect l="0" t="0" r="r" b="b"/>
              <a:pathLst>
                <a:path w="513" h="473">
                  <a:moveTo>
                    <a:pt x="0" y="0"/>
                  </a:moveTo>
                  <a:lnTo>
                    <a:pt x="22" y="239"/>
                  </a:lnTo>
                  <a:lnTo>
                    <a:pt x="97" y="164"/>
                  </a:lnTo>
                  <a:lnTo>
                    <a:pt x="155" y="473"/>
                  </a:lnTo>
                  <a:lnTo>
                    <a:pt x="239" y="172"/>
                  </a:lnTo>
                  <a:lnTo>
                    <a:pt x="283" y="243"/>
                  </a:lnTo>
                  <a:lnTo>
                    <a:pt x="375" y="70"/>
                  </a:lnTo>
                  <a:lnTo>
                    <a:pt x="412" y="146"/>
                  </a:lnTo>
                  <a:lnTo>
                    <a:pt x="513" y="35"/>
                  </a:lnTo>
                  <a:lnTo>
                    <a:pt x="456" y="26"/>
                  </a:lnTo>
                  <a:lnTo>
                    <a:pt x="394" y="22"/>
                  </a:lnTo>
                  <a:lnTo>
                    <a:pt x="358" y="22"/>
                  </a:lnTo>
                  <a:lnTo>
                    <a:pt x="5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321760" y="2079720"/>
              <a:ext cx="127440" cy="805320"/>
            </a:xfrm>
            <a:custGeom>
              <a:avLst/>
              <a:gdLst/>
              <a:ahLst/>
              <a:rect l="0" t="0" r="r" b="b"/>
              <a:pathLst>
                <a:path w="354" h="2237">
                  <a:moveTo>
                    <a:pt x="275" y="0"/>
                  </a:moveTo>
                  <a:lnTo>
                    <a:pt x="164" y="1823"/>
                  </a:lnTo>
                  <a:lnTo>
                    <a:pt x="0" y="1809"/>
                  </a:lnTo>
                  <a:lnTo>
                    <a:pt x="35" y="2065"/>
                  </a:lnTo>
                  <a:lnTo>
                    <a:pt x="111" y="1924"/>
                  </a:lnTo>
                  <a:lnTo>
                    <a:pt x="159" y="2237"/>
                  </a:lnTo>
                  <a:lnTo>
                    <a:pt x="234" y="1495"/>
                  </a:lnTo>
                  <a:lnTo>
                    <a:pt x="284" y="1597"/>
                  </a:lnTo>
                  <a:lnTo>
                    <a:pt x="266" y="719"/>
                  </a:lnTo>
                  <a:lnTo>
                    <a:pt x="354" y="807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037360" y="2714760"/>
              <a:ext cx="109800" cy="101880"/>
            </a:xfrm>
            <a:custGeom>
              <a:avLst/>
              <a:gdLst/>
              <a:ahLst/>
              <a:rect l="0" t="0" r="r" b="b"/>
              <a:pathLst>
                <a:path w="305" h="283">
                  <a:moveTo>
                    <a:pt x="0" y="0"/>
                  </a:moveTo>
                  <a:lnTo>
                    <a:pt x="305" y="17"/>
                  </a:lnTo>
                  <a:lnTo>
                    <a:pt x="225" y="146"/>
                  </a:lnTo>
                  <a:lnTo>
                    <a:pt x="181" y="97"/>
                  </a:lnTo>
                  <a:lnTo>
                    <a:pt x="105" y="283"/>
                  </a:lnTo>
                  <a:lnTo>
                    <a:pt x="70" y="88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442360" y="1357200"/>
              <a:ext cx="62280" cy="448200"/>
            </a:xfrm>
            <a:custGeom>
              <a:avLst/>
              <a:gdLst/>
              <a:ahLst/>
              <a:rect l="0" t="0" r="r" b="b"/>
              <a:pathLst>
                <a:path w="173" h="1245">
                  <a:moveTo>
                    <a:pt x="49" y="0"/>
                  </a:moveTo>
                  <a:lnTo>
                    <a:pt x="0" y="838"/>
                  </a:lnTo>
                  <a:lnTo>
                    <a:pt x="71" y="1245"/>
                  </a:lnTo>
                  <a:lnTo>
                    <a:pt x="106" y="477"/>
                  </a:lnTo>
                  <a:lnTo>
                    <a:pt x="173" y="54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7991640" y="685800"/>
            <a:ext cx="506880" cy="2061000"/>
            <a:chOff x="7991640" y="685800"/>
            <a:chExt cx="506880" cy="2061000"/>
          </a:xfrm>
        </p:grpSpPr>
        <p:sp>
          <p:nvSpPr>
            <p:cNvPr id="1151" name=""/>
            <p:cNvSpPr/>
            <p:nvPr/>
          </p:nvSpPr>
          <p:spPr>
            <a:xfrm>
              <a:off x="7991640" y="685800"/>
              <a:ext cx="506880" cy="2049840"/>
            </a:xfrm>
            <a:custGeom>
              <a:avLst/>
              <a:gdLst/>
              <a:ahLst/>
              <a:rect l="0" t="0" r="r" b="b"/>
              <a:pathLst>
                <a:path w="1408" h="5694">
                  <a:moveTo>
                    <a:pt x="0" y="5628"/>
                  </a:moveTo>
                  <a:lnTo>
                    <a:pt x="74" y="5633"/>
                  </a:lnTo>
                  <a:lnTo>
                    <a:pt x="127" y="5637"/>
                  </a:lnTo>
                  <a:lnTo>
                    <a:pt x="433" y="5655"/>
                  </a:lnTo>
                  <a:lnTo>
                    <a:pt x="468" y="5655"/>
                  </a:lnTo>
                  <a:lnTo>
                    <a:pt x="530" y="5659"/>
                  </a:lnTo>
                  <a:lnTo>
                    <a:pt x="587" y="5668"/>
                  </a:lnTo>
                  <a:lnTo>
                    <a:pt x="671" y="5672"/>
                  </a:lnTo>
                  <a:lnTo>
                    <a:pt x="733" y="5672"/>
                  </a:lnTo>
                  <a:lnTo>
                    <a:pt x="852" y="5681"/>
                  </a:lnTo>
                  <a:lnTo>
                    <a:pt x="918" y="5681"/>
                  </a:lnTo>
                  <a:lnTo>
                    <a:pt x="1082" y="5694"/>
                  </a:lnTo>
                  <a:lnTo>
                    <a:pt x="1192" y="3872"/>
                  </a:lnTo>
                  <a:lnTo>
                    <a:pt x="1201" y="3616"/>
                  </a:lnTo>
                  <a:lnTo>
                    <a:pt x="1236" y="3017"/>
                  </a:lnTo>
                  <a:lnTo>
                    <a:pt x="1254" y="2704"/>
                  </a:lnTo>
                  <a:lnTo>
                    <a:pt x="1302" y="1866"/>
                  </a:lnTo>
                  <a:lnTo>
                    <a:pt x="1324" y="1535"/>
                  </a:lnTo>
                  <a:lnTo>
                    <a:pt x="1408" y="0"/>
                  </a:lnTo>
                  <a:lnTo>
                    <a:pt x="52" y="114"/>
                  </a:lnTo>
                  <a:lnTo>
                    <a:pt x="0" y="56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24760" y="746280"/>
              <a:ext cx="410040" cy="1938600"/>
            </a:xfrm>
            <a:custGeom>
              <a:avLst/>
              <a:gdLst/>
              <a:ahLst/>
              <a:rect l="0" t="0" r="r" b="b"/>
              <a:pathLst>
                <a:path w="1139" h="5385">
                  <a:moveTo>
                    <a:pt x="83" y="57"/>
                  </a:moveTo>
                  <a:lnTo>
                    <a:pt x="1139" y="0"/>
                  </a:lnTo>
                  <a:lnTo>
                    <a:pt x="830" y="5385"/>
                  </a:lnTo>
                  <a:lnTo>
                    <a:pt x="0" y="5349"/>
                  </a:lnTo>
                  <a:lnTo>
                    <a:pt x="83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248680" y="2490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9" y="14"/>
                  </a:moveTo>
                  <a:lnTo>
                    <a:pt x="33" y="14"/>
                  </a:lnTo>
                  <a:lnTo>
                    <a:pt x="26" y="22"/>
                  </a:lnTo>
                  <a:lnTo>
                    <a:pt x="12" y="22"/>
                  </a:lnTo>
                  <a:lnTo>
                    <a:pt x="12" y="29"/>
                  </a:lnTo>
                  <a:lnTo>
                    <a:pt x="12" y="43"/>
                  </a:lnTo>
                  <a:lnTo>
                    <a:pt x="26" y="43"/>
                  </a:lnTo>
                  <a:lnTo>
                    <a:pt x="26" y="50"/>
                  </a:lnTo>
                  <a:lnTo>
                    <a:pt x="33" y="58"/>
                  </a:lnTo>
                  <a:lnTo>
                    <a:pt x="39" y="58"/>
                  </a:lnTo>
                  <a:lnTo>
                    <a:pt x="45" y="50"/>
                  </a:lnTo>
                  <a:lnTo>
                    <a:pt x="52" y="43"/>
                  </a:lnTo>
                  <a:lnTo>
                    <a:pt x="52" y="29"/>
                  </a:lnTo>
                  <a:lnTo>
                    <a:pt x="52" y="22"/>
                  </a:lnTo>
                  <a:lnTo>
                    <a:pt x="45" y="22"/>
                  </a:lnTo>
                  <a:lnTo>
                    <a:pt x="45" y="14"/>
                  </a:lnTo>
                  <a:lnTo>
                    <a:pt x="39" y="14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66" y="7"/>
                  </a:lnTo>
                  <a:lnTo>
                    <a:pt x="72" y="22"/>
                  </a:lnTo>
                  <a:lnTo>
                    <a:pt x="72" y="43"/>
                  </a:lnTo>
                  <a:lnTo>
                    <a:pt x="72" y="50"/>
                  </a:lnTo>
                  <a:lnTo>
                    <a:pt x="66" y="65"/>
                  </a:lnTo>
                  <a:lnTo>
                    <a:pt x="45" y="72"/>
                  </a:lnTo>
                  <a:lnTo>
                    <a:pt x="33" y="72"/>
                  </a:lnTo>
                  <a:lnTo>
                    <a:pt x="26" y="72"/>
                  </a:lnTo>
                  <a:lnTo>
                    <a:pt x="6" y="65"/>
                  </a:lnTo>
                  <a:lnTo>
                    <a:pt x="0" y="50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6" y="7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69200" y="2500200"/>
              <a:ext cx="36720" cy="60840"/>
            </a:xfrm>
            <a:custGeom>
              <a:avLst/>
              <a:gdLst/>
              <a:ahLst/>
              <a:rect l="0" t="0" r="r" b="b"/>
              <a:pathLst>
                <a:path w="102" h="169">
                  <a:moveTo>
                    <a:pt x="0" y="165"/>
                  </a:moveTo>
                  <a:lnTo>
                    <a:pt x="13" y="0"/>
                  </a:lnTo>
                  <a:lnTo>
                    <a:pt x="102" y="0"/>
                  </a:lnTo>
                  <a:lnTo>
                    <a:pt x="102" y="35"/>
                  </a:lnTo>
                  <a:lnTo>
                    <a:pt x="48" y="30"/>
                  </a:lnTo>
                  <a:lnTo>
                    <a:pt x="44" y="62"/>
                  </a:lnTo>
                  <a:lnTo>
                    <a:pt x="98" y="62"/>
                  </a:lnTo>
                  <a:lnTo>
                    <a:pt x="93" y="102"/>
                  </a:lnTo>
                  <a:lnTo>
                    <a:pt x="44" y="93"/>
                  </a:lnTo>
                  <a:lnTo>
                    <a:pt x="44" y="169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037360" y="2484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9" y="12"/>
                  </a:moveTo>
                  <a:lnTo>
                    <a:pt x="33" y="12"/>
                  </a:lnTo>
                  <a:lnTo>
                    <a:pt x="33" y="26"/>
                  </a:lnTo>
                  <a:lnTo>
                    <a:pt x="26" y="26"/>
                  </a:lnTo>
                  <a:lnTo>
                    <a:pt x="26" y="33"/>
                  </a:lnTo>
                  <a:lnTo>
                    <a:pt x="26" y="39"/>
                  </a:lnTo>
                  <a:lnTo>
                    <a:pt x="33" y="39"/>
                  </a:lnTo>
                  <a:lnTo>
                    <a:pt x="33" y="45"/>
                  </a:lnTo>
                  <a:lnTo>
                    <a:pt x="39" y="45"/>
                  </a:lnTo>
                  <a:lnTo>
                    <a:pt x="45" y="45"/>
                  </a:lnTo>
                  <a:lnTo>
                    <a:pt x="45" y="39"/>
                  </a:lnTo>
                  <a:lnTo>
                    <a:pt x="52" y="39"/>
                  </a:lnTo>
                  <a:lnTo>
                    <a:pt x="52" y="33"/>
                  </a:lnTo>
                  <a:lnTo>
                    <a:pt x="52" y="26"/>
                  </a:lnTo>
                  <a:lnTo>
                    <a:pt x="45" y="26"/>
                  </a:lnTo>
                  <a:lnTo>
                    <a:pt x="45" y="12"/>
                  </a:lnTo>
                  <a:lnTo>
                    <a:pt x="39" y="12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66" y="6"/>
                  </a:lnTo>
                  <a:lnTo>
                    <a:pt x="72" y="26"/>
                  </a:lnTo>
                  <a:lnTo>
                    <a:pt x="72" y="33"/>
                  </a:lnTo>
                  <a:lnTo>
                    <a:pt x="72" y="45"/>
                  </a:lnTo>
                  <a:lnTo>
                    <a:pt x="66" y="66"/>
                  </a:lnTo>
                  <a:lnTo>
                    <a:pt x="45" y="72"/>
                  </a:lnTo>
                  <a:lnTo>
                    <a:pt x="39" y="72"/>
                  </a:lnTo>
                  <a:lnTo>
                    <a:pt x="26" y="66"/>
                  </a:lnTo>
                  <a:lnTo>
                    <a:pt x="6" y="52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12"/>
                  </a:lnTo>
                  <a:lnTo>
                    <a:pt x="6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061480" y="2492280"/>
              <a:ext cx="38520" cy="59040"/>
            </a:xfrm>
            <a:custGeom>
              <a:avLst/>
              <a:gdLst/>
              <a:ahLst/>
              <a:rect l="0" t="0" r="r" b="b"/>
              <a:pathLst>
                <a:path w="107" h="164">
                  <a:moveTo>
                    <a:pt x="62" y="57"/>
                  </a:moveTo>
                  <a:lnTo>
                    <a:pt x="67" y="48"/>
                  </a:lnTo>
                  <a:lnTo>
                    <a:pt x="67" y="39"/>
                  </a:lnTo>
                  <a:lnTo>
                    <a:pt x="62" y="30"/>
                  </a:lnTo>
                  <a:lnTo>
                    <a:pt x="58" y="26"/>
                  </a:lnTo>
                  <a:lnTo>
                    <a:pt x="53" y="26"/>
                  </a:lnTo>
                  <a:lnTo>
                    <a:pt x="45" y="26"/>
                  </a:lnTo>
                  <a:lnTo>
                    <a:pt x="40" y="30"/>
                  </a:lnTo>
                  <a:lnTo>
                    <a:pt x="40" y="35"/>
                  </a:lnTo>
                  <a:lnTo>
                    <a:pt x="40" y="39"/>
                  </a:lnTo>
                  <a:lnTo>
                    <a:pt x="36" y="124"/>
                  </a:lnTo>
                  <a:lnTo>
                    <a:pt x="36" y="128"/>
                  </a:lnTo>
                  <a:lnTo>
                    <a:pt x="40" y="133"/>
                  </a:lnTo>
                  <a:lnTo>
                    <a:pt x="40" y="137"/>
                  </a:lnTo>
                  <a:lnTo>
                    <a:pt x="45" y="137"/>
                  </a:lnTo>
                  <a:lnTo>
                    <a:pt x="58" y="137"/>
                  </a:lnTo>
                  <a:lnTo>
                    <a:pt x="62" y="128"/>
                  </a:lnTo>
                  <a:lnTo>
                    <a:pt x="62" y="124"/>
                  </a:lnTo>
                  <a:lnTo>
                    <a:pt x="62" y="115"/>
                  </a:lnTo>
                  <a:lnTo>
                    <a:pt x="62" y="102"/>
                  </a:lnTo>
                  <a:lnTo>
                    <a:pt x="99" y="102"/>
                  </a:lnTo>
                  <a:lnTo>
                    <a:pt x="99" y="124"/>
                  </a:lnTo>
                  <a:lnTo>
                    <a:pt x="94" y="137"/>
                  </a:lnTo>
                  <a:lnTo>
                    <a:pt x="90" y="155"/>
                  </a:lnTo>
                  <a:lnTo>
                    <a:pt x="71" y="159"/>
                  </a:lnTo>
                  <a:lnTo>
                    <a:pt x="45" y="164"/>
                  </a:lnTo>
                  <a:lnTo>
                    <a:pt x="26" y="159"/>
                  </a:lnTo>
                  <a:lnTo>
                    <a:pt x="8" y="150"/>
                  </a:lnTo>
                  <a:lnTo>
                    <a:pt x="0" y="133"/>
                  </a:lnTo>
                  <a:lnTo>
                    <a:pt x="0" y="111"/>
                  </a:lnTo>
                  <a:lnTo>
                    <a:pt x="4" y="48"/>
                  </a:lnTo>
                  <a:lnTo>
                    <a:pt x="8" y="26"/>
                  </a:lnTo>
                  <a:lnTo>
                    <a:pt x="13" y="8"/>
                  </a:lnTo>
                  <a:lnTo>
                    <a:pt x="31" y="4"/>
                  </a:lnTo>
                  <a:lnTo>
                    <a:pt x="53" y="0"/>
                  </a:lnTo>
                  <a:lnTo>
                    <a:pt x="71" y="4"/>
                  </a:lnTo>
                  <a:lnTo>
                    <a:pt x="90" y="8"/>
                  </a:lnTo>
                  <a:lnTo>
                    <a:pt x="99" y="26"/>
                  </a:lnTo>
                  <a:lnTo>
                    <a:pt x="107" y="48"/>
                  </a:lnTo>
                  <a:lnTo>
                    <a:pt x="99" y="57"/>
                  </a:lnTo>
                  <a:lnTo>
                    <a:pt x="6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113680" y="1216080"/>
              <a:ext cx="128880" cy="1386360"/>
            </a:xfrm>
            <a:custGeom>
              <a:avLst/>
              <a:gdLst/>
              <a:ahLst/>
              <a:rect l="0" t="0" r="r" b="b"/>
              <a:pathLst>
                <a:path w="358" h="3851">
                  <a:moveTo>
                    <a:pt x="0" y="3829"/>
                  </a:moveTo>
                  <a:lnTo>
                    <a:pt x="309" y="3851"/>
                  </a:lnTo>
                  <a:lnTo>
                    <a:pt x="327" y="3445"/>
                  </a:lnTo>
                  <a:lnTo>
                    <a:pt x="230" y="3441"/>
                  </a:lnTo>
                  <a:lnTo>
                    <a:pt x="230" y="3375"/>
                  </a:lnTo>
                  <a:lnTo>
                    <a:pt x="239" y="3344"/>
                  </a:lnTo>
                  <a:lnTo>
                    <a:pt x="247" y="3018"/>
                  </a:lnTo>
                  <a:lnTo>
                    <a:pt x="247" y="2991"/>
                  </a:lnTo>
                  <a:lnTo>
                    <a:pt x="265" y="2646"/>
                  </a:lnTo>
                  <a:lnTo>
                    <a:pt x="265" y="2615"/>
                  </a:lnTo>
                  <a:lnTo>
                    <a:pt x="274" y="2285"/>
                  </a:lnTo>
                  <a:lnTo>
                    <a:pt x="274" y="2249"/>
                  </a:lnTo>
                  <a:lnTo>
                    <a:pt x="292" y="1901"/>
                  </a:lnTo>
                  <a:lnTo>
                    <a:pt x="292" y="1870"/>
                  </a:lnTo>
                  <a:lnTo>
                    <a:pt x="305" y="1517"/>
                  </a:lnTo>
                  <a:lnTo>
                    <a:pt x="305" y="1487"/>
                  </a:lnTo>
                  <a:lnTo>
                    <a:pt x="318" y="1121"/>
                  </a:lnTo>
                  <a:lnTo>
                    <a:pt x="322" y="1090"/>
                  </a:lnTo>
                  <a:lnTo>
                    <a:pt x="331" y="727"/>
                  </a:lnTo>
                  <a:lnTo>
                    <a:pt x="336" y="692"/>
                  </a:lnTo>
                  <a:lnTo>
                    <a:pt x="349" y="313"/>
                  </a:lnTo>
                  <a:lnTo>
                    <a:pt x="349" y="282"/>
                  </a:lnTo>
                  <a:lnTo>
                    <a:pt x="358" y="0"/>
                  </a:lnTo>
                  <a:lnTo>
                    <a:pt x="203" y="8"/>
                  </a:lnTo>
                  <a:lnTo>
                    <a:pt x="199" y="268"/>
                  </a:lnTo>
                  <a:lnTo>
                    <a:pt x="195" y="304"/>
                  </a:lnTo>
                  <a:lnTo>
                    <a:pt x="181" y="635"/>
                  </a:lnTo>
                  <a:lnTo>
                    <a:pt x="181" y="661"/>
                  </a:lnTo>
                  <a:lnTo>
                    <a:pt x="171" y="988"/>
                  </a:lnTo>
                  <a:lnTo>
                    <a:pt x="171" y="1019"/>
                  </a:lnTo>
                  <a:lnTo>
                    <a:pt x="163" y="1345"/>
                  </a:lnTo>
                  <a:lnTo>
                    <a:pt x="163" y="1372"/>
                  </a:lnTo>
                  <a:lnTo>
                    <a:pt x="149" y="1685"/>
                  </a:lnTo>
                  <a:lnTo>
                    <a:pt x="149" y="1716"/>
                  </a:lnTo>
                  <a:lnTo>
                    <a:pt x="141" y="2038"/>
                  </a:lnTo>
                  <a:lnTo>
                    <a:pt x="141" y="2069"/>
                  </a:lnTo>
                  <a:lnTo>
                    <a:pt x="127" y="2360"/>
                  </a:lnTo>
                  <a:lnTo>
                    <a:pt x="127" y="2391"/>
                  </a:lnTo>
                  <a:lnTo>
                    <a:pt x="119" y="2695"/>
                  </a:lnTo>
                  <a:lnTo>
                    <a:pt x="119" y="2726"/>
                  </a:lnTo>
                  <a:lnTo>
                    <a:pt x="110" y="3009"/>
                  </a:lnTo>
                  <a:lnTo>
                    <a:pt x="110" y="3044"/>
                  </a:lnTo>
                  <a:lnTo>
                    <a:pt x="97" y="3335"/>
                  </a:lnTo>
                  <a:lnTo>
                    <a:pt x="97" y="3371"/>
                  </a:lnTo>
                  <a:lnTo>
                    <a:pt x="97" y="3441"/>
                  </a:lnTo>
                  <a:lnTo>
                    <a:pt x="8" y="3432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037360" y="2295360"/>
              <a:ext cx="116280" cy="25920"/>
            </a:xfrm>
            <a:custGeom>
              <a:avLst/>
              <a:gdLst/>
              <a:ahLst/>
              <a:rect l="0" t="0" r="r" b="b"/>
              <a:pathLst>
                <a:path w="323" h="72">
                  <a:moveTo>
                    <a:pt x="323" y="72"/>
                  </a:moveTo>
                  <a:lnTo>
                    <a:pt x="323" y="14"/>
                  </a:lnTo>
                  <a:lnTo>
                    <a:pt x="4" y="0"/>
                  </a:lnTo>
                  <a:lnTo>
                    <a:pt x="0" y="50"/>
                  </a:lnTo>
                  <a:lnTo>
                    <a:pt x="32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202600" y="2292480"/>
              <a:ext cx="127440" cy="25920"/>
            </a:xfrm>
            <a:custGeom>
              <a:avLst/>
              <a:gdLst/>
              <a:ahLst/>
              <a:rect l="0" t="0" r="r" b="b"/>
              <a:pathLst>
                <a:path w="354" h="72">
                  <a:moveTo>
                    <a:pt x="0" y="53"/>
                  </a:moveTo>
                  <a:lnTo>
                    <a:pt x="0" y="0"/>
                  </a:lnTo>
                  <a:lnTo>
                    <a:pt x="354" y="8"/>
                  </a:lnTo>
                  <a:lnTo>
                    <a:pt x="354" y="72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211960" y="2025720"/>
              <a:ext cx="132120" cy="25920"/>
            </a:xfrm>
            <a:custGeom>
              <a:avLst/>
              <a:gdLst/>
              <a:ahLst/>
              <a:rect l="0" t="0" r="r" b="b"/>
              <a:pathLst>
                <a:path w="367" h="72">
                  <a:moveTo>
                    <a:pt x="0" y="72"/>
                  </a:moveTo>
                  <a:lnTo>
                    <a:pt x="0" y="0"/>
                  </a:lnTo>
                  <a:lnTo>
                    <a:pt x="367" y="0"/>
                  </a:lnTo>
                  <a:lnTo>
                    <a:pt x="367" y="72"/>
                  </a:lnTo>
                  <a:lnTo>
                    <a:pt x="353" y="72"/>
                  </a:lnTo>
                  <a:lnTo>
                    <a:pt x="314" y="72"/>
                  </a:lnTo>
                  <a:lnTo>
                    <a:pt x="256" y="72"/>
                  </a:lnTo>
                  <a:lnTo>
                    <a:pt x="186" y="72"/>
                  </a:lnTo>
                  <a:lnTo>
                    <a:pt x="123" y="72"/>
                  </a:lnTo>
                  <a:lnTo>
                    <a:pt x="61" y="72"/>
                  </a:lnTo>
                  <a:lnTo>
                    <a:pt x="2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040600" y="2065320"/>
              <a:ext cx="119520" cy="25920"/>
            </a:xfrm>
            <a:custGeom>
              <a:avLst/>
              <a:gdLst/>
              <a:ahLst/>
              <a:rect l="0" t="0" r="r" b="b"/>
              <a:pathLst>
                <a:path w="332" h="72">
                  <a:moveTo>
                    <a:pt x="332" y="0"/>
                  </a:moveTo>
                  <a:lnTo>
                    <a:pt x="332" y="72"/>
                  </a:lnTo>
                  <a:lnTo>
                    <a:pt x="8" y="72"/>
                  </a:lnTo>
                  <a:lnTo>
                    <a:pt x="0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039160" y="2184480"/>
              <a:ext cx="117720" cy="25920"/>
            </a:xfrm>
            <a:custGeom>
              <a:avLst/>
              <a:gdLst/>
              <a:ahLst/>
              <a:rect l="0" t="0" r="r" b="b"/>
              <a:pathLst>
                <a:path w="327" h="72">
                  <a:moveTo>
                    <a:pt x="327" y="72"/>
                  </a:moveTo>
                  <a:lnTo>
                    <a:pt x="327" y="8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27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209080" y="2157480"/>
              <a:ext cx="128880" cy="25920"/>
            </a:xfrm>
            <a:custGeom>
              <a:avLst/>
              <a:gdLst/>
              <a:ahLst/>
              <a:rect l="0" t="0" r="r" b="b"/>
              <a:pathLst>
                <a:path w="358" h="72">
                  <a:moveTo>
                    <a:pt x="0" y="63"/>
                  </a:moveTo>
                  <a:lnTo>
                    <a:pt x="0" y="0"/>
                  </a:lnTo>
                  <a:lnTo>
                    <a:pt x="358" y="8"/>
                  </a:lnTo>
                  <a:lnTo>
                    <a:pt x="358" y="7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053560" y="1444680"/>
              <a:ext cx="125640" cy="25920"/>
            </a:xfrm>
            <a:custGeom>
              <a:avLst/>
              <a:gdLst/>
              <a:ahLst/>
              <a:rect l="0" t="0" r="r" b="b"/>
              <a:pathLst>
                <a:path w="349" h="72">
                  <a:moveTo>
                    <a:pt x="349" y="53"/>
                  </a:moveTo>
                  <a:lnTo>
                    <a:pt x="349" y="0"/>
                  </a:lnTo>
                  <a:lnTo>
                    <a:pt x="0" y="17"/>
                  </a:lnTo>
                  <a:lnTo>
                    <a:pt x="0" y="72"/>
                  </a:lnTo>
                  <a:lnTo>
                    <a:pt x="3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232840" y="1461960"/>
              <a:ext cx="144720" cy="25920"/>
            </a:xfrm>
            <a:custGeom>
              <a:avLst/>
              <a:gdLst/>
              <a:ahLst/>
              <a:rect l="0" t="0" r="r" b="b"/>
              <a:pathLst>
                <a:path w="402" h="72">
                  <a:moveTo>
                    <a:pt x="0" y="72"/>
                  </a:moveTo>
                  <a:lnTo>
                    <a:pt x="4" y="14"/>
                  </a:lnTo>
                  <a:lnTo>
                    <a:pt x="402" y="0"/>
                  </a:lnTo>
                  <a:lnTo>
                    <a:pt x="402" y="5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050320" y="1571760"/>
              <a:ext cx="125640" cy="25920"/>
            </a:xfrm>
            <a:custGeom>
              <a:avLst/>
              <a:gdLst/>
              <a:ahLst/>
              <a:rect l="0" t="0" r="r" b="b"/>
              <a:pathLst>
                <a:path w="349" h="72">
                  <a:moveTo>
                    <a:pt x="349" y="0"/>
                  </a:moveTo>
                  <a:lnTo>
                    <a:pt x="349" y="50"/>
                  </a:lnTo>
                  <a:lnTo>
                    <a:pt x="0" y="72"/>
                  </a:lnTo>
                  <a:lnTo>
                    <a:pt x="0" y="14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8055000" y="1312920"/>
              <a:ext cx="130680" cy="25920"/>
            </a:xfrm>
            <a:custGeom>
              <a:avLst/>
              <a:gdLst/>
              <a:ahLst/>
              <a:rect l="0" t="0" r="r" b="b"/>
              <a:pathLst>
                <a:path w="363" h="72">
                  <a:moveTo>
                    <a:pt x="363" y="0"/>
                  </a:moveTo>
                  <a:lnTo>
                    <a:pt x="359" y="58"/>
                  </a:lnTo>
                  <a:lnTo>
                    <a:pt x="0" y="72"/>
                  </a:lnTo>
                  <a:lnTo>
                    <a:pt x="0" y="2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238960" y="1312920"/>
              <a:ext cx="147960" cy="25920"/>
            </a:xfrm>
            <a:custGeom>
              <a:avLst/>
              <a:gdLst/>
              <a:ahLst/>
              <a:rect l="0" t="0" r="r" b="b"/>
              <a:pathLst>
                <a:path w="411" h="72">
                  <a:moveTo>
                    <a:pt x="0" y="22"/>
                  </a:moveTo>
                  <a:lnTo>
                    <a:pt x="0" y="72"/>
                  </a:lnTo>
                  <a:lnTo>
                    <a:pt x="406" y="58"/>
                  </a:lnTo>
                  <a:lnTo>
                    <a:pt x="411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196120" y="2419200"/>
              <a:ext cx="125640" cy="25920"/>
            </a:xfrm>
            <a:custGeom>
              <a:avLst/>
              <a:gdLst/>
              <a:ahLst/>
              <a:rect l="0" t="0" r="r" b="b"/>
              <a:pathLst>
                <a:path w="349" h="72">
                  <a:moveTo>
                    <a:pt x="0" y="56"/>
                  </a:moveTo>
                  <a:lnTo>
                    <a:pt x="349" y="72"/>
                  </a:lnTo>
                  <a:lnTo>
                    <a:pt x="349" y="15"/>
                  </a:lnTo>
                  <a:lnTo>
                    <a:pt x="8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8037360" y="2413080"/>
              <a:ext cx="111600" cy="25920"/>
            </a:xfrm>
            <a:custGeom>
              <a:avLst/>
              <a:gdLst/>
              <a:ahLst/>
              <a:rect l="0" t="0" r="r" b="b"/>
              <a:pathLst>
                <a:path w="310" h="72">
                  <a:moveTo>
                    <a:pt x="310" y="72"/>
                  </a:moveTo>
                  <a:lnTo>
                    <a:pt x="301" y="72"/>
                  </a:lnTo>
                  <a:lnTo>
                    <a:pt x="262" y="72"/>
                  </a:lnTo>
                  <a:lnTo>
                    <a:pt x="212" y="65"/>
                  </a:lnTo>
                  <a:lnTo>
                    <a:pt x="155" y="65"/>
                  </a:lnTo>
                  <a:lnTo>
                    <a:pt x="98" y="65"/>
                  </a:lnTo>
                  <a:lnTo>
                    <a:pt x="48" y="50"/>
                  </a:lnTo>
                  <a:lnTo>
                    <a:pt x="8" y="50"/>
                  </a:lnTo>
                  <a:lnTo>
                    <a:pt x="0" y="50"/>
                  </a:lnTo>
                  <a:lnTo>
                    <a:pt x="0" y="0"/>
                  </a:lnTo>
                  <a:lnTo>
                    <a:pt x="8" y="0"/>
                  </a:lnTo>
                  <a:lnTo>
                    <a:pt x="48" y="0"/>
                  </a:lnTo>
                  <a:lnTo>
                    <a:pt x="98" y="7"/>
                  </a:lnTo>
                  <a:lnTo>
                    <a:pt x="155" y="7"/>
                  </a:lnTo>
                  <a:lnTo>
                    <a:pt x="212" y="7"/>
                  </a:lnTo>
                  <a:lnTo>
                    <a:pt x="262" y="14"/>
                  </a:lnTo>
                  <a:lnTo>
                    <a:pt x="301" y="14"/>
                  </a:lnTo>
                  <a:lnTo>
                    <a:pt x="310" y="14"/>
                  </a:lnTo>
                  <a:lnTo>
                    <a:pt x="31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228160" y="1606680"/>
              <a:ext cx="141480" cy="25920"/>
            </a:xfrm>
            <a:custGeom>
              <a:avLst/>
              <a:gdLst/>
              <a:ahLst/>
              <a:rect l="0" t="0" r="r" b="b"/>
              <a:pathLst>
                <a:path w="393" h="72">
                  <a:moveTo>
                    <a:pt x="0" y="72"/>
                  </a:moveTo>
                  <a:lnTo>
                    <a:pt x="4" y="8"/>
                  </a:lnTo>
                  <a:lnTo>
                    <a:pt x="393" y="0"/>
                  </a:lnTo>
                  <a:lnTo>
                    <a:pt x="393" y="63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047080" y="1700280"/>
              <a:ext cx="125640" cy="25920"/>
            </a:xfrm>
            <a:custGeom>
              <a:avLst/>
              <a:gdLst/>
              <a:ahLst/>
              <a:rect l="0" t="0" r="r" b="b"/>
              <a:pathLst>
                <a:path w="349" h="72">
                  <a:moveTo>
                    <a:pt x="349" y="0"/>
                  </a:moveTo>
                  <a:lnTo>
                    <a:pt x="349" y="48"/>
                  </a:lnTo>
                  <a:lnTo>
                    <a:pt x="4" y="72"/>
                  </a:lnTo>
                  <a:lnTo>
                    <a:pt x="0" y="7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223120" y="1749600"/>
              <a:ext cx="138600" cy="25920"/>
            </a:xfrm>
            <a:custGeom>
              <a:avLst/>
              <a:gdLst/>
              <a:ahLst/>
              <a:rect l="0" t="0" r="r" b="b"/>
              <a:pathLst>
                <a:path w="385" h="72">
                  <a:moveTo>
                    <a:pt x="0" y="72"/>
                  </a:moveTo>
                  <a:lnTo>
                    <a:pt x="0" y="8"/>
                  </a:lnTo>
                  <a:lnTo>
                    <a:pt x="385" y="0"/>
                  </a:lnTo>
                  <a:lnTo>
                    <a:pt x="385" y="63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047080" y="1822320"/>
              <a:ext cx="120960" cy="25920"/>
            </a:xfrm>
            <a:custGeom>
              <a:avLst/>
              <a:gdLst/>
              <a:ahLst/>
              <a:rect l="0" t="0" r="r" b="b"/>
              <a:pathLst>
                <a:path w="336" h="72">
                  <a:moveTo>
                    <a:pt x="336" y="63"/>
                  </a:moveTo>
                  <a:lnTo>
                    <a:pt x="336" y="0"/>
                  </a:lnTo>
                  <a:lnTo>
                    <a:pt x="0" y="8"/>
                  </a:lnTo>
                  <a:lnTo>
                    <a:pt x="0" y="72"/>
                  </a:lnTo>
                  <a:lnTo>
                    <a:pt x="33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218440" y="1889280"/>
              <a:ext cx="135360" cy="25920"/>
            </a:xfrm>
            <a:custGeom>
              <a:avLst/>
              <a:gdLst/>
              <a:ahLst/>
              <a:rect l="0" t="0" r="r" b="b"/>
              <a:pathLst>
                <a:path w="376" h="72">
                  <a:moveTo>
                    <a:pt x="0" y="72"/>
                  </a:moveTo>
                  <a:lnTo>
                    <a:pt x="0" y="0"/>
                  </a:lnTo>
                  <a:lnTo>
                    <a:pt x="376" y="0"/>
                  </a:lnTo>
                  <a:lnTo>
                    <a:pt x="3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043840" y="1949400"/>
              <a:ext cx="120960" cy="25920"/>
            </a:xfrm>
            <a:custGeom>
              <a:avLst/>
              <a:gdLst/>
              <a:ahLst/>
              <a:rect l="0" t="0" r="r" b="b"/>
              <a:pathLst>
                <a:path w="336" h="72">
                  <a:moveTo>
                    <a:pt x="336" y="63"/>
                  </a:moveTo>
                  <a:lnTo>
                    <a:pt x="336" y="0"/>
                  </a:lnTo>
                  <a:lnTo>
                    <a:pt x="0" y="8"/>
                  </a:lnTo>
                  <a:lnTo>
                    <a:pt x="4" y="72"/>
                  </a:lnTo>
                  <a:lnTo>
                    <a:pt x="33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15976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26" y="72"/>
                  </a:lnTo>
                  <a:lnTo>
                    <a:pt x="7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126280" y="1236600"/>
              <a:ext cx="97200" cy="1337040"/>
            </a:xfrm>
            <a:custGeom>
              <a:avLst/>
              <a:gdLst/>
              <a:ahLst/>
              <a:rect l="0" t="0" r="r" b="b"/>
              <a:pathLst>
                <a:path w="270" h="3714">
                  <a:moveTo>
                    <a:pt x="106" y="3115"/>
                  </a:moveTo>
                  <a:lnTo>
                    <a:pt x="218" y="30"/>
                  </a:lnTo>
                  <a:lnTo>
                    <a:pt x="218" y="22"/>
                  </a:lnTo>
                  <a:lnTo>
                    <a:pt x="222" y="8"/>
                  </a:lnTo>
                  <a:lnTo>
                    <a:pt x="235" y="4"/>
                  </a:lnTo>
                  <a:lnTo>
                    <a:pt x="244" y="0"/>
                  </a:lnTo>
                  <a:lnTo>
                    <a:pt x="257" y="0"/>
                  </a:lnTo>
                  <a:lnTo>
                    <a:pt x="266" y="4"/>
                  </a:lnTo>
                  <a:lnTo>
                    <a:pt x="270" y="17"/>
                  </a:lnTo>
                  <a:lnTo>
                    <a:pt x="270" y="26"/>
                  </a:lnTo>
                  <a:lnTo>
                    <a:pt x="159" y="3115"/>
                  </a:lnTo>
                  <a:lnTo>
                    <a:pt x="146" y="3485"/>
                  </a:lnTo>
                  <a:lnTo>
                    <a:pt x="181" y="3498"/>
                  </a:lnTo>
                  <a:lnTo>
                    <a:pt x="204" y="3520"/>
                  </a:lnTo>
                  <a:lnTo>
                    <a:pt x="218" y="3551"/>
                  </a:lnTo>
                  <a:lnTo>
                    <a:pt x="222" y="3595"/>
                  </a:lnTo>
                  <a:lnTo>
                    <a:pt x="213" y="3640"/>
                  </a:lnTo>
                  <a:lnTo>
                    <a:pt x="190" y="3675"/>
                  </a:lnTo>
                  <a:lnTo>
                    <a:pt x="159" y="3701"/>
                  </a:lnTo>
                  <a:lnTo>
                    <a:pt x="115" y="3714"/>
                  </a:lnTo>
                  <a:lnTo>
                    <a:pt x="75" y="3701"/>
                  </a:lnTo>
                  <a:lnTo>
                    <a:pt x="35" y="3675"/>
                  </a:lnTo>
                  <a:lnTo>
                    <a:pt x="8" y="3640"/>
                  </a:lnTo>
                  <a:lnTo>
                    <a:pt x="0" y="3595"/>
                  </a:lnTo>
                  <a:lnTo>
                    <a:pt x="4" y="3551"/>
                  </a:lnTo>
                  <a:lnTo>
                    <a:pt x="26" y="3520"/>
                  </a:lnTo>
                  <a:lnTo>
                    <a:pt x="57" y="3494"/>
                  </a:lnTo>
                  <a:lnTo>
                    <a:pt x="93" y="3476"/>
                  </a:lnTo>
                  <a:lnTo>
                    <a:pt x="106" y="3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126280" y="2357280"/>
              <a:ext cx="79560" cy="216360"/>
            </a:xfrm>
            <a:custGeom>
              <a:avLst/>
              <a:gdLst/>
              <a:ahLst/>
              <a:rect l="0" t="0" r="r" b="b"/>
              <a:pathLst>
                <a:path w="221" h="601">
                  <a:moveTo>
                    <a:pt x="159" y="0"/>
                  </a:moveTo>
                  <a:lnTo>
                    <a:pt x="146" y="371"/>
                  </a:lnTo>
                  <a:lnTo>
                    <a:pt x="181" y="384"/>
                  </a:lnTo>
                  <a:lnTo>
                    <a:pt x="203" y="406"/>
                  </a:lnTo>
                  <a:lnTo>
                    <a:pt x="217" y="437"/>
                  </a:lnTo>
                  <a:lnTo>
                    <a:pt x="221" y="482"/>
                  </a:lnTo>
                  <a:lnTo>
                    <a:pt x="212" y="526"/>
                  </a:lnTo>
                  <a:lnTo>
                    <a:pt x="190" y="562"/>
                  </a:lnTo>
                  <a:lnTo>
                    <a:pt x="159" y="588"/>
                  </a:lnTo>
                  <a:lnTo>
                    <a:pt x="115" y="601"/>
                  </a:lnTo>
                  <a:lnTo>
                    <a:pt x="74" y="588"/>
                  </a:lnTo>
                  <a:lnTo>
                    <a:pt x="35" y="562"/>
                  </a:lnTo>
                  <a:lnTo>
                    <a:pt x="8" y="526"/>
                  </a:lnTo>
                  <a:lnTo>
                    <a:pt x="0" y="482"/>
                  </a:lnTo>
                  <a:lnTo>
                    <a:pt x="4" y="437"/>
                  </a:lnTo>
                  <a:lnTo>
                    <a:pt x="26" y="406"/>
                  </a:lnTo>
                  <a:lnTo>
                    <a:pt x="57" y="380"/>
                  </a:lnTo>
                  <a:lnTo>
                    <a:pt x="92" y="362"/>
                  </a:lnTo>
                  <a:lnTo>
                    <a:pt x="105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"/>
          <p:cNvSpPr/>
          <p:nvPr/>
        </p:nvSpPr>
        <p:spPr>
          <a:xfrm>
            <a:off x="8058240" y="538200"/>
            <a:ext cx="484560" cy="178200"/>
          </a:xfrm>
          <a:custGeom>
            <a:avLst/>
            <a:gdLst/>
            <a:ahLst/>
            <a:rect l="0" t="0" r="r" b="b"/>
            <a:pathLst>
              <a:path w="1346" h="495">
                <a:moveTo>
                  <a:pt x="1346" y="429"/>
                </a:moveTo>
                <a:lnTo>
                  <a:pt x="1329" y="390"/>
                </a:lnTo>
                <a:lnTo>
                  <a:pt x="1302" y="331"/>
                </a:lnTo>
                <a:lnTo>
                  <a:pt x="1254" y="256"/>
                </a:lnTo>
                <a:lnTo>
                  <a:pt x="1188" y="181"/>
                </a:lnTo>
                <a:lnTo>
                  <a:pt x="1091" y="110"/>
                </a:lnTo>
                <a:lnTo>
                  <a:pt x="962" y="48"/>
                </a:lnTo>
                <a:lnTo>
                  <a:pt x="807" y="8"/>
                </a:lnTo>
                <a:lnTo>
                  <a:pt x="609" y="0"/>
                </a:lnTo>
                <a:lnTo>
                  <a:pt x="455" y="17"/>
                </a:lnTo>
                <a:lnTo>
                  <a:pt x="326" y="61"/>
                </a:lnTo>
                <a:lnTo>
                  <a:pt x="224" y="123"/>
                </a:lnTo>
                <a:lnTo>
                  <a:pt x="145" y="190"/>
                </a:lnTo>
                <a:lnTo>
                  <a:pt x="79" y="261"/>
                </a:lnTo>
                <a:lnTo>
                  <a:pt x="44" y="327"/>
                </a:lnTo>
                <a:lnTo>
                  <a:pt x="17" y="381"/>
                </a:lnTo>
                <a:lnTo>
                  <a:pt x="0" y="407"/>
                </a:lnTo>
                <a:lnTo>
                  <a:pt x="26" y="412"/>
                </a:lnTo>
                <a:lnTo>
                  <a:pt x="52" y="416"/>
                </a:lnTo>
                <a:lnTo>
                  <a:pt x="74" y="434"/>
                </a:lnTo>
                <a:lnTo>
                  <a:pt x="97" y="451"/>
                </a:lnTo>
                <a:lnTo>
                  <a:pt x="105" y="460"/>
                </a:lnTo>
                <a:lnTo>
                  <a:pt x="119" y="469"/>
                </a:lnTo>
                <a:lnTo>
                  <a:pt x="123" y="482"/>
                </a:lnTo>
                <a:lnTo>
                  <a:pt x="127" y="491"/>
                </a:lnTo>
                <a:lnTo>
                  <a:pt x="145" y="451"/>
                </a:lnTo>
                <a:lnTo>
                  <a:pt x="171" y="403"/>
                </a:lnTo>
                <a:lnTo>
                  <a:pt x="207" y="353"/>
                </a:lnTo>
                <a:lnTo>
                  <a:pt x="264" y="305"/>
                </a:lnTo>
                <a:lnTo>
                  <a:pt x="326" y="256"/>
                </a:lnTo>
                <a:lnTo>
                  <a:pt x="402" y="217"/>
                </a:lnTo>
                <a:lnTo>
                  <a:pt x="499" y="190"/>
                </a:lnTo>
                <a:lnTo>
                  <a:pt x="609" y="181"/>
                </a:lnTo>
                <a:lnTo>
                  <a:pt x="755" y="190"/>
                </a:lnTo>
                <a:lnTo>
                  <a:pt x="865" y="217"/>
                </a:lnTo>
                <a:lnTo>
                  <a:pt x="949" y="265"/>
                </a:lnTo>
                <a:lnTo>
                  <a:pt x="1020" y="314"/>
                </a:lnTo>
                <a:lnTo>
                  <a:pt x="1069" y="376"/>
                </a:lnTo>
                <a:lnTo>
                  <a:pt x="1104" y="420"/>
                </a:lnTo>
                <a:lnTo>
                  <a:pt x="1126" y="469"/>
                </a:lnTo>
                <a:lnTo>
                  <a:pt x="1148" y="495"/>
                </a:lnTo>
                <a:lnTo>
                  <a:pt x="1161" y="487"/>
                </a:lnTo>
                <a:lnTo>
                  <a:pt x="1170" y="469"/>
                </a:lnTo>
                <a:lnTo>
                  <a:pt x="1179" y="460"/>
                </a:lnTo>
                <a:lnTo>
                  <a:pt x="1197" y="451"/>
                </a:lnTo>
                <a:lnTo>
                  <a:pt x="1219" y="438"/>
                </a:lnTo>
                <a:lnTo>
                  <a:pt x="1241" y="429"/>
                </a:lnTo>
                <a:lnTo>
                  <a:pt x="1263" y="420"/>
                </a:lnTo>
                <a:lnTo>
                  <a:pt x="1289" y="420"/>
                </a:lnTo>
                <a:lnTo>
                  <a:pt x="1302" y="420"/>
                </a:lnTo>
                <a:lnTo>
                  <a:pt x="1320" y="420"/>
                </a:lnTo>
                <a:lnTo>
                  <a:pt x="1333" y="429"/>
                </a:lnTo>
                <a:lnTo>
                  <a:pt x="1346" y="4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8377200" y="689040"/>
            <a:ext cx="332280" cy="451080"/>
          </a:xfrm>
          <a:custGeom>
            <a:avLst/>
            <a:gdLst/>
            <a:ahLst/>
            <a:rect l="0" t="0" r="r" b="b"/>
            <a:pathLst>
              <a:path w="923" h="1253">
                <a:moveTo>
                  <a:pt x="309" y="30"/>
                </a:moveTo>
                <a:lnTo>
                  <a:pt x="331" y="17"/>
                </a:lnTo>
                <a:lnTo>
                  <a:pt x="353" y="8"/>
                </a:lnTo>
                <a:lnTo>
                  <a:pt x="375" y="0"/>
                </a:lnTo>
                <a:lnTo>
                  <a:pt x="402" y="0"/>
                </a:lnTo>
                <a:lnTo>
                  <a:pt x="415" y="0"/>
                </a:lnTo>
                <a:lnTo>
                  <a:pt x="433" y="0"/>
                </a:lnTo>
                <a:lnTo>
                  <a:pt x="446" y="8"/>
                </a:lnTo>
                <a:lnTo>
                  <a:pt x="459" y="8"/>
                </a:lnTo>
                <a:lnTo>
                  <a:pt x="490" y="13"/>
                </a:lnTo>
                <a:lnTo>
                  <a:pt x="521" y="22"/>
                </a:lnTo>
                <a:lnTo>
                  <a:pt x="543" y="35"/>
                </a:lnTo>
                <a:lnTo>
                  <a:pt x="561" y="44"/>
                </a:lnTo>
                <a:lnTo>
                  <a:pt x="574" y="57"/>
                </a:lnTo>
                <a:lnTo>
                  <a:pt x="591" y="66"/>
                </a:lnTo>
                <a:lnTo>
                  <a:pt x="600" y="70"/>
                </a:lnTo>
                <a:lnTo>
                  <a:pt x="618" y="74"/>
                </a:lnTo>
                <a:lnTo>
                  <a:pt x="649" y="88"/>
                </a:lnTo>
                <a:lnTo>
                  <a:pt x="688" y="97"/>
                </a:lnTo>
                <a:lnTo>
                  <a:pt x="725" y="119"/>
                </a:lnTo>
                <a:lnTo>
                  <a:pt x="769" y="141"/>
                </a:lnTo>
                <a:lnTo>
                  <a:pt x="804" y="171"/>
                </a:lnTo>
                <a:lnTo>
                  <a:pt x="839" y="207"/>
                </a:lnTo>
                <a:lnTo>
                  <a:pt x="866" y="242"/>
                </a:lnTo>
                <a:lnTo>
                  <a:pt x="888" y="286"/>
                </a:lnTo>
                <a:lnTo>
                  <a:pt x="870" y="282"/>
                </a:lnTo>
                <a:lnTo>
                  <a:pt x="853" y="273"/>
                </a:lnTo>
                <a:lnTo>
                  <a:pt x="831" y="264"/>
                </a:lnTo>
                <a:lnTo>
                  <a:pt x="817" y="260"/>
                </a:lnTo>
                <a:lnTo>
                  <a:pt x="857" y="313"/>
                </a:lnTo>
                <a:lnTo>
                  <a:pt x="879" y="383"/>
                </a:lnTo>
                <a:lnTo>
                  <a:pt x="897" y="445"/>
                </a:lnTo>
                <a:lnTo>
                  <a:pt x="923" y="511"/>
                </a:lnTo>
                <a:lnTo>
                  <a:pt x="892" y="511"/>
                </a:lnTo>
                <a:lnTo>
                  <a:pt x="866" y="502"/>
                </a:lnTo>
                <a:lnTo>
                  <a:pt x="831" y="489"/>
                </a:lnTo>
                <a:lnTo>
                  <a:pt x="813" y="476"/>
                </a:lnTo>
                <a:lnTo>
                  <a:pt x="844" y="533"/>
                </a:lnTo>
                <a:lnTo>
                  <a:pt x="879" y="621"/>
                </a:lnTo>
                <a:lnTo>
                  <a:pt x="905" y="719"/>
                </a:lnTo>
                <a:lnTo>
                  <a:pt x="914" y="794"/>
                </a:lnTo>
                <a:lnTo>
                  <a:pt x="897" y="852"/>
                </a:lnTo>
                <a:lnTo>
                  <a:pt x="870" y="913"/>
                </a:lnTo>
                <a:lnTo>
                  <a:pt x="844" y="971"/>
                </a:lnTo>
                <a:lnTo>
                  <a:pt x="822" y="1006"/>
                </a:lnTo>
                <a:lnTo>
                  <a:pt x="804" y="1046"/>
                </a:lnTo>
                <a:lnTo>
                  <a:pt x="769" y="1099"/>
                </a:lnTo>
                <a:lnTo>
                  <a:pt x="725" y="1156"/>
                </a:lnTo>
                <a:lnTo>
                  <a:pt x="666" y="1200"/>
                </a:lnTo>
                <a:lnTo>
                  <a:pt x="666" y="1173"/>
                </a:lnTo>
                <a:lnTo>
                  <a:pt x="666" y="1151"/>
                </a:lnTo>
                <a:lnTo>
                  <a:pt x="662" y="1138"/>
                </a:lnTo>
                <a:lnTo>
                  <a:pt x="662" y="1116"/>
                </a:lnTo>
                <a:lnTo>
                  <a:pt x="640" y="1143"/>
                </a:lnTo>
                <a:lnTo>
                  <a:pt x="618" y="1173"/>
                </a:lnTo>
                <a:lnTo>
                  <a:pt x="574" y="1213"/>
                </a:lnTo>
                <a:lnTo>
                  <a:pt x="512" y="1244"/>
                </a:lnTo>
                <a:lnTo>
                  <a:pt x="516" y="1218"/>
                </a:lnTo>
                <a:lnTo>
                  <a:pt x="521" y="1200"/>
                </a:lnTo>
                <a:lnTo>
                  <a:pt x="521" y="1196"/>
                </a:lnTo>
                <a:lnTo>
                  <a:pt x="521" y="1191"/>
                </a:lnTo>
                <a:lnTo>
                  <a:pt x="472" y="1222"/>
                </a:lnTo>
                <a:lnTo>
                  <a:pt x="455" y="1244"/>
                </a:lnTo>
                <a:lnTo>
                  <a:pt x="433" y="1253"/>
                </a:lnTo>
                <a:lnTo>
                  <a:pt x="402" y="1253"/>
                </a:lnTo>
                <a:lnTo>
                  <a:pt x="393" y="1222"/>
                </a:lnTo>
                <a:lnTo>
                  <a:pt x="384" y="1196"/>
                </a:lnTo>
                <a:lnTo>
                  <a:pt x="362" y="1173"/>
                </a:lnTo>
                <a:lnTo>
                  <a:pt x="327" y="1165"/>
                </a:lnTo>
                <a:lnTo>
                  <a:pt x="283" y="1143"/>
                </a:lnTo>
                <a:lnTo>
                  <a:pt x="256" y="1112"/>
                </a:lnTo>
                <a:lnTo>
                  <a:pt x="224" y="1072"/>
                </a:lnTo>
                <a:lnTo>
                  <a:pt x="180" y="1046"/>
                </a:lnTo>
                <a:lnTo>
                  <a:pt x="145" y="1024"/>
                </a:lnTo>
                <a:lnTo>
                  <a:pt x="110" y="988"/>
                </a:lnTo>
                <a:lnTo>
                  <a:pt x="88" y="944"/>
                </a:lnTo>
                <a:lnTo>
                  <a:pt x="83" y="896"/>
                </a:lnTo>
                <a:lnTo>
                  <a:pt x="83" y="847"/>
                </a:lnTo>
                <a:lnTo>
                  <a:pt x="74" y="799"/>
                </a:lnTo>
                <a:lnTo>
                  <a:pt x="61" y="750"/>
                </a:lnTo>
                <a:lnTo>
                  <a:pt x="79" y="693"/>
                </a:lnTo>
                <a:lnTo>
                  <a:pt x="52" y="715"/>
                </a:lnTo>
                <a:lnTo>
                  <a:pt x="30" y="724"/>
                </a:lnTo>
                <a:lnTo>
                  <a:pt x="17" y="741"/>
                </a:lnTo>
                <a:lnTo>
                  <a:pt x="4" y="746"/>
                </a:lnTo>
                <a:lnTo>
                  <a:pt x="0" y="684"/>
                </a:lnTo>
                <a:lnTo>
                  <a:pt x="4" y="599"/>
                </a:lnTo>
                <a:lnTo>
                  <a:pt x="26" y="520"/>
                </a:lnTo>
                <a:lnTo>
                  <a:pt x="52" y="458"/>
                </a:lnTo>
                <a:lnTo>
                  <a:pt x="74" y="401"/>
                </a:lnTo>
                <a:lnTo>
                  <a:pt x="83" y="339"/>
                </a:lnTo>
                <a:lnTo>
                  <a:pt x="97" y="282"/>
                </a:lnTo>
                <a:lnTo>
                  <a:pt x="127" y="238"/>
                </a:lnTo>
                <a:lnTo>
                  <a:pt x="171" y="198"/>
                </a:lnTo>
                <a:lnTo>
                  <a:pt x="207" y="158"/>
                </a:lnTo>
                <a:lnTo>
                  <a:pt x="239" y="114"/>
                </a:lnTo>
                <a:lnTo>
                  <a:pt x="261" y="74"/>
                </a:lnTo>
                <a:lnTo>
                  <a:pt x="274" y="66"/>
                </a:lnTo>
                <a:lnTo>
                  <a:pt x="283" y="48"/>
                </a:lnTo>
                <a:lnTo>
                  <a:pt x="292" y="39"/>
                </a:lnTo>
                <a:lnTo>
                  <a:pt x="30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8393040" y="711360"/>
            <a:ext cx="297360" cy="411480"/>
          </a:xfrm>
          <a:custGeom>
            <a:avLst/>
            <a:gdLst/>
            <a:ahLst/>
            <a:rect l="0" t="0" r="r" b="b"/>
            <a:pathLst>
              <a:path w="826" h="1143">
                <a:moveTo>
                  <a:pt x="367" y="0"/>
                </a:moveTo>
                <a:lnTo>
                  <a:pt x="411" y="0"/>
                </a:lnTo>
                <a:lnTo>
                  <a:pt x="446" y="4"/>
                </a:lnTo>
                <a:lnTo>
                  <a:pt x="472" y="13"/>
                </a:lnTo>
                <a:lnTo>
                  <a:pt x="499" y="26"/>
                </a:lnTo>
                <a:lnTo>
                  <a:pt x="516" y="35"/>
                </a:lnTo>
                <a:lnTo>
                  <a:pt x="530" y="48"/>
                </a:lnTo>
                <a:lnTo>
                  <a:pt x="547" y="57"/>
                </a:lnTo>
                <a:lnTo>
                  <a:pt x="565" y="61"/>
                </a:lnTo>
                <a:lnTo>
                  <a:pt x="591" y="70"/>
                </a:lnTo>
                <a:lnTo>
                  <a:pt x="618" y="79"/>
                </a:lnTo>
                <a:lnTo>
                  <a:pt x="645" y="88"/>
                </a:lnTo>
                <a:lnTo>
                  <a:pt x="672" y="105"/>
                </a:lnTo>
                <a:lnTo>
                  <a:pt x="694" y="123"/>
                </a:lnTo>
                <a:lnTo>
                  <a:pt x="716" y="132"/>
                </a:lnTo>
                <a:lnTo>
                  <a:pt x="734" y="154"/>
                </a:lnTo>
                <a:lnTo>
                  <a:pt x="747" y="171"/>
                </a:lnTo>
                <a:lnTo>
                  <a:pt x="729" y="171"/>
                </a:lnTo>
                <a:lnTo>
                  <a:pt x="720" y="171"/>
                </a:lnTo>
                <a:lnTo>
                  <a:pt x="703" y="171"/>
                </a:lnTo>
                <a:lnTo>
                  <a:pt x="694" y="171"/>
                </a:lnTo>
                <a:lnTo>
                  <a:pt x="747" y="220"/>
                </a:lnTo>
                <a:lnTo>
                  <a:pt x="773" y="277"/>
                </a:lnTo>
                <a:lnTo>
                  <a:pt x="786" y="335"/>
                </a:lnTo>
                <a:lnTo>
                  <a:pt x="822" y="388"/>
                </a:lnTo>
                <a:lnTo>
                  <a:pt x="795" y="383"/>
                </a:lnTo>
                <a:lnTo>
                  <a:pt x="760" y="366"/>
                </a:lnTo>
                <a:lnTo>
                  <a:pt x="729" y="357"/>
                </a:lnTo>
                <a:lnTo>
                  <a:pt x="698" y="352"/>
                </a:lnTo>
                <a:lnTo>
                  <a:pt x="734" y="427"/>
                </a:lnTo>
                <a:lnTo>
                  <a:pt x="778" y="546"/>
                </a:lnTo>
                <a:lnTo>
                  <a:pt x="813" y="662"/>
                </a:lnTo>
                <a:lnTo>
                  <a:pt x="826" y="737"/>
                </a:lnTo>
                <a:lnTo>
                  <a:pt x="808" y="785"/>
                </a:lnTo>
                <a:lnTo>
                  <a:pt x="782" y="838"/>
                </a:lnTo>
                <a:lnTo>
                  <a:pt x="756" y="887"/>
                </a:lnTo>
                <a:lnTo>
                  <a:pt x="742" y="918"/>
                </a:lnTo>
                <a:lnTo>
                  <a:pt x="729" y="944"/>
                </a:lnTo>
                <a:lnTo>
                  <a:pt x="720" y="984"/>
                </a:lnTo>
                <a:lnTo>
                  <a:pt x="694" y="1019"/>
                </a:lnTo>
                <a:lnTo>
                  <a:pt x="659" y="1054"/>
                </a:lnTo>
                <a:lnTo>
                  <a:pt x="654" y="1032"/>
                </a:lnTo>
                <a:lnTo>
                  <a:pt x="650" y="1010"/>
                </a:lnTo>
                <a:lnTo>
                  <a:pt x="645" y="993"/>
                </a:lnTo>
                <a:lnTo>
                  <a:pt x="632" y="979"/>
                </a:lnTo>
                <a:lnTo>
                  <a:pt x="613" y="1006"/>
                </a:lnTo>
                <a:lnTo>
                  <a:pt x="591" y="1041"/>
                </a:lnTo>
                <a:lnTo>
                  <a:pt x="552" y="1085"/>
                </a:lnTo>
                <a:lnTo>
                  <a:pt x="512" y="1125"/>
                </a:lnTo>
                <a:lnTo>
                  <a:pt x="512" y="1094"/>
                </a:lnTo>
                <a:lnTo>
                  <a:pt x="503" y="1076"/>
                </a:lnTo>
                <a:lnTo>
                  <a:pt x="499" y="1063"/>
                </a:lnTo>
                <a:lnTo>
                  <a:pt x="499" y="1059"/>
                </a:lnTo>
                <a:lnTo>
                  <a:pt x="468" y="1090"/>
                </a:lnTo>
                <a:lnTo>
                  <a:pt x="437" y="1112"/>
                </a:lnTo>
                <a:lnTo>
                  <a:pt x="411" y="1134"/>
                </a:lnTo>
                <a:lnTo>
                  <a:pt x="384" y="1143"/>
                </a:lnTo>
                <a:lnTo>
                  <a:pt x="375" y="1112"/>
                </a:lnTo>
                <a:lnTo>
                  <a:pt x="362" y="1090"/>
                </a:lnTo>
                <a:lnTo>
                  <a:pt x="344" y="1068"/>
                </a:lnTo>
                <a:lnTo>
                  <a:pt x="309" y="1059"/>
                </a:lnTo>
                <a:lnTo>
                  <a:pt x="269" y="1041"/>
                </a:lnTo>
                <a:lnTo>
                  <a:pt x="243" y="1015"/>
                </a:lnTo>
                <a:lnTo>
                  <a:pt x="217" y="984"/>
                </a:lnTo>
                <a:lnTo>
                  <a:pt x="180" y="957"/>
                </a:lnTo>
                <a:lnTo>
                  <a:pt x="141" y="935"/>
                </a:lnTo>
                <a:lnTo>
                  <a:pt x="114" y="909"/>
                </a:lnTo>
                <a:lnTo>
                  <a:pt x="92" y="874"/>
                </a:lnTo>
                <a:lnTo>
                  <a:pt x="92" y="830"/>
                </a:lnTo>
                <a:lnTo>
                  <a:pt x="92" y="768"/>
                </a:lnTo>
                <a:lnTo>
                  <a:pt x="83" y="693"/>
                </a:lnTo>
                <a:lnTo>
                  <a:pt x="79" y="622"/>
                </a:lnTo>
                <a:lnTo>
                  <a:pt x="83" y="555"/>
                </a:lnTo>
                <a:lnTo>
                  <a:pt x="57" y="574"/>
                </a:lnTo>
                <a:lnTo>
                  <a:pt x="35" y="583"/>
                </a:lnTo>
                <a:lnTo>
                  <a:pt x="13" y="591"/>
                </a:lnTo>
                <a:lnTo>
                  <a:pt x="0" y="605"/>
                </a:lnTo>
                <a:lnTo>
                  <a:pt x="4" y="560"/>
                </a:lnTo>
                <a:lnTo>
                  <a:pt x="17" y="511"/>
                </a:lnTo>
                <a:lnTo>
                  <a:pt x="39" y="463"/>
                </a:lnTo>
                <a:lnTo>
                  <a:pt x="66" y="414"/>
                </a:lnTo>
                <a:lnTo>
                  <a:pt x="88" y="361"/>
                </a:lnTo>
                <a:lnTo>
                  <a:pt x="92" y="299"/>
                </a:lnTo>
                <a:lnTo>
                  <a:pt x="101" y="238"/>
                </a:lnTo>
                <a:lnTo>
                  <a:pt x="127" y="202"/>
                </a:lnTo>
                <a:lnTo>
                  <a:pt x="163" y="171"/>
                </a:lnTo>
                <a:lnTo>
                  <a:pt x="194" y="132"/>
                </a:lnTo>
                <a:lnTo>
                  <a:pt x="221" y="97"/>
                </a:lnTo>
                <a:lnTo>
                  <a:pt x="243" y="61"/>
                </a:lnTo>
                <a:lnTo>
                  <a:pt x="265" y="44"/>
                </a:lnTo>
                <a:lnTo>
                  <a:pt x="292" y="22"/>
                </a:lnTo>
                <a:lnTo>
                  <a:pt x="322" y="4"/>
                </a:lnTo>
                <a:lnTo>
                  <a:pt x="367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8050320" y="757080"/>
            <a:ext cx="346320" cy="444960"/>
            <a:chOff x="8050320" y="757080"/>
            <a:chExt cx="346320" cy="444960"/>
          </a:xfrm>
        </p:grpSpPr>
        <p:sp>
          <p:nvSpPr>
            <p:cNvPr id="1184" name=""/>
            <p:cNvSpPr/>
            <p:nvPr/>
          </p:nvSpPr>
          <p:spPr>
            <a:xfrm>
              <a:off x="8113680" y="820800"/>
              <a:ext cx="225720" cy="154440"/>
            </a:xfrm>
            <a:custGeom>
              <a:avLst/>
              <a:gdLst/>
              <a:ahLst/>
              <a:rect l="0" t="0" r="r" b="b"/>
              <a:pathLst>
                <a:path w="627" h="429">
                  <a:moveTo>
                    <a:pt x="238" y="398"/>
                  </a:moveTo>
                  <a:lnTo>
                    <a:pt x="255" y="376"/>
                  </a:lnTo>
                  <a:lnTo>
                    <a:pt x="277" y="345"/>
                  </a:lnTo>
                  <a:lnTo>
                    <a:pt x="295" y="309"/>
                  </a:lnTo>
                  <a:lnTo>
                    <a:pt x="304" y="274"/>
                  </a:lnTo>
                  <a:lnTo>
                    <a:pt x="327" y="337"/>
                  </a:lnTo>
                  <a:lnTo>
                    <a:pt x="367" y="385"/>
                  </a:lnTo>
                  <a:lnTo>
                    <a:pt x="411" y="420"/>
                  </a:lnTo>
                  <a:lnTo>
                    <a:pt x="459" y="429"/>
                  </a:lnTo>
                  <a:lnTo>
                    <a:pt x="494" y="425"/>
                  </a:lnTo>
                  <a:lnTo>
                    <a:pt x="525" y="412"/>
                  </a:lnTo>
                  <a:lnTo>
                    <a:pt x="552" y="390"/>
                  </a:lnTo>
                  <a:lnTo>
                    <a:pt x="578" y="363"/>
                  </a:lnTo>
                  <a:lnTo>
                    <a:pt x="600" y="332"/>
                  </a:lnTo>
                  <a:lnTo>
                    <a:pt x="613" y="300"/>
                  </a:lnTo>
                  <a:lnTo>
                    <a:pt x="622" y="256"/>
                  </a:lnTo>
                  <a:lnTo>
                    <a:pt x="627" y="212"/>
                  </a:lnTo>
                  <a:lnTo>
                    <a:pt x="622" y="172"/>
                  </a:lnTo>
                  <a:lnTo>
                    <a:pt x="613" y="128"/>
                  </a:lnTo>
                  <a:lnTo>
                    <a:pt x="600" y="97"/>
                  </a:lnTo>
                  <a:lnTo>
                    <a:pt x="578" y="61"/>
                  </a:lnTo>
                  <a:lnTo>
                    <a:pt x="552" y="35"/>
                  </a:lnTo>
                  <a:lnTo>
                    <a:pt x="525" y="17"/>
                  </a:lnTo>
                  <a:lnTo>
                    <a:pt x="494" y="4"/>
                  </a:lnTo>
                  <a:lnTo>
                    <a:pt x="459" y="0"/>
                  </a:lnTo>
                  <a:lnTo>
                    <a:pt x="433" y="4"/>
                  </a:lnTo>
                  <a:lnTo>
                    <a:pt x="406" y="8"/>
                  </a:lnTo>
                  <a:lnTo>
                    <a:pt x="380" y="26"/>
                  </a:lnTo>
                  <a:lnTo>
                    <a:pt x="358" y="48"/>
                  </a:lnTo>
                  <a:lnTo>
                    <a:pt x="336" y="70"/>
                  </a:lnTo>
                  <a:lnTo>
                    <a:pt x="322" y="101"/>
                  </a:lnTo>
                  <a:lnTo>
                    <a:pt x="308" y="128"/>
                  </a:lnTo>
                  <a:lnTo>
                    <a:pt x="299" y="168"/>
                  </a:lnTo>
                  <a:lnTo>
                    <a:pt x="277" y="111"/>
                  </a:lnTo>
                  <a:lnTo>
                    <a:pt x="246" y="70"/>
                  </a:lnTo>
                  <a:lnTo>
                    <a:pt x="202" y="44"/>
                  </a:lnTo>
                  <a:lnTo>
                    <a:pt x="154" y="30"/>
                  </a:lnTo>
                  <a:lnTo>
                    <a:pt x="97" y="48"/>
                  </a:lnTo>
                  <a:lnTo>
                    <a:pt x="48" y="92"/>
                  </a:lnTo>
                  <a:lnTo>
                    <a:pt x="13" y="150"/>
                  </a:lnTo>
                  <a:lnTo>
                    <a:pt x="0" y="230"/>
                  </a:lnTo>
                  <a:lnTo>
                    <a:pt x="13" y="305"/>
                  </a:lnTo>
                  <a:lnTo>
                    <a:pt x="48" y="363"/>
                  </a:lnTo>
                  <a:lnTo>
                    <a:pt x="97" y="407"/>
                  </a:lnTo>
                  <a:lnTo>
                    <a:pt x="154" y="425"/>
                  </a:lnTo>
                  <a:lnTo>
                    <a:pt x="176" y="425"/>
                  </a:lnTo>
                  <a:lnTo>
                    <a:pt x="198" y="420"/>
                  </a:lnTo>
                  <a:lnTo>
                    <a:pt x="216" y="407"/>
                  </a:lnTo>
                  <a:lnTo>
                    <a:pt x="238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156520" y="963720"/>
              <a:ext cx="54360" cy="74880"/>
            </a:xfrm>
            <a:custGeom>
              <a:avLst/>
              <a:gdLst/>
              <a:ahLst/>
              <a:rect l="0" t="0" r="r" b="b"/>
              <a:pathLst>
                <a:path w="151" h="208">
                  <a:moveTo>
                    <a:pt x="121" y="0"/>
                  </a:moveTo>
                  <a:lnTo>
                    <a:pt x="58" y="52"/>
                  </a:lnTo>
                  <a:lnTo>
                    <a:pt x="49" y="111"/>
                  </a:lnTo>
                  <a:lnTo>
                    <a:pt x="75" y="172"/>
                  </a:lnTo>
                  <a:lnTo>
                    <a:pt x="151" y="208"/>
                  </a:lnTo>
                  <a:lnTo>
                    <a:pt x="106" y="208"/>
                  </a:lnTo>
                  <a:lnTo>
                    <a:pt x="71" y="190"/>
                  </a:lnTo>
                  <a:lnTo>
                    <a:pt x="45" y="177"/>
                  </a:lnTo>
                  <a:lnTo>
                    <a:pt x="17" y="150"/>
                  </a:lnTo>
                  <a:lnTo>
                    <a:pt x="4" y="115"/>
                  </a:lnTo>
                  <a:lnTo>
                    <a:pt x="0" y="83"/>
                  </a:lnTo>
                  <a:lnTo>
                    <a:pt x="8" y="57"/>
                  </a:lnTo>
                  <a:lnTo>
                    <a:pt x="35" y="26"/>
                  </a:lnTo>
                  <a:lnTo>
                    <a:pt x="58" y="26"/>
                  </a:lnTo>
                  <a:lnTo>
                    <a:pt x="80" y="22"/>
                  </a:lnTo>
                  <a:lnTo>
                    <a:pt x="98" y="8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231040" y="995400"/>
              <a:ext cx="43200" cy="41760"/>
            </a:xfrm>
            <a:custGeom>
              <a:avLst/>
              <a:gdLst/>
              <a:ahLst/>
              <a:rect l="0" t="0" r="r" b="b"/>
              <a:pathLst>
                <a:path w="120" h="116">
                  <a:moveTo>
                    <a:pt x="0" y="116"/>
                  </a:moveTo>
                  <a:lnTo>
                    <a:pt x="67" y="112"/>
                  </a:lnTo>
                  <a:lnTo>
                    <a:pt x="106" y="84"/>
                  </a:lnTo>
                  <a:lnTo>
                    <a:pt x="120" y="45"/>
                  </a:lnTo>
                  <a:lnTo>
                    <a:pt x="102" y="0"/>
                  </a:lnTo>
                  <a:lnTo>
                    <a:pt x="98" y="36"/>
                  </a:lnTo>
                  <a:lnTo>
                    <a:pt x="84" y="62"/>
                  </a:lnTo>
                  <a:lnTo>
                    <a:pt x="52" y="9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163000" y="1050840"/>
              <a:ext cx="151200" cy="106560"/>
            </a:xfrm>
            <a:custGeom>
              <a:avLst/>
              <a:gdLst/>
              <a:ahLst/>
              <a:rect l="0" t="0" r="r" b="b"/>
              <a:pathLst>
                <a:path w="420" h="296">
                  <a:moveTo>
                    <a:pt x="0" y="8"/>
                  </a:moveTo>
                  <a:lnTo>
                    <a:pt x="52" y="0"/>
                  </a:lnTo>
                  <a:lnTo>
                    <a:pt x="106" y="0"/>
                  </a:lnTo>
                  <a:lnTo>
                    <a:pt x="168" y="8"/>
                  </a:lnTo>
                  <a:lnTo>
                    <a:pt x="230" y="17"/>
                  </a:lnTo>
                  <a:lnTo>
                    <a:pt x="287" y="39"/>
                  </a:lnTo>
                  <a:lnTo>
                    <a:pt x="341" y="70"/>
                  </a:lnTo>
                  <a:lnTo>
                    <a:pt x="385" y="119"/>
                  </a:lnTo>
                  <a:lnTo>
                    <a:pt x="420" y="181"/>
                  </a:lnTo>
                  <a:lnTo>
                    <a:pt x="385" y="212"/>
                  </a:lnTo>
                  <a:lnTo>
                    <a:pt x="341" y="243"/>
                  </a:lnTo>
                  <a:lnTo>
                    <a:pt x="296" y="269"/>
                  </a:lnTo>
                  <a:lnTo>
                    <a:pt x="247" y="287"/>
                  </a:lnTo>
                  <a:lnTo>
                    <a:pt x="195" y="296"/>
                  </a:lnTo>
                  <a:lnTo>
                    <a:pt x="137" y="296"/>
                  </a:lnTo>
                  <a:lnTo>
                    <a:pt x="70" y="287"/>
                  </a:lnTo>
                  <a:lnTo>
                    <a:pt x="4" y="265"/>
                  </a:lnTo>
                  <a:lnTo>
                    <a:pt x="44" y="15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292960" y="1041480"/>
              <a:ext cx="35280" cy="49680"/>
            </a:xfrm>
            <a:custGeom>
              <a:avLst/>
              <a:gdLst/>
              <a:ahLst/>
              <a:rect l="0" t="0" r="r" b="b"/>
              <a:pathLst>
                <a:path w="98" h="138">
                  <a:moveTo>
                    <a:pt x="98" y="138"/>
                  </a:moveTo>
                  <a:lnTo>
                    <a:pt x="98" y="67"/>
                  </a:lnTo>
                  <a:lnTo>
                    <a:pt x="75" y="22"/>
                  </a:lnTo>
                  <a:lnTo>
                    <a:pt x="39" y="0"/>
                  </a:lnTo>
                  <a:lnTo>
                    <a:pt x="0" y="8"/>
                  </a:lnTo>
                  <a:lnTo>
                    <a:pt x="30" y="17"/>
                  </a:lnTo>
                  <a:lnTo>
                    <a:pt x="58" y="40"/>
                  </a:lnTo>
                  <a:lnTo>
                    <a:pt x="80" y="75"/>
                  </a:lnTo>
                  <a:lnTo>
                    <a:pt x="98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313840" y="1020600"/>
              <a:ext cx="35280" cy="46440"/>
            </a:xfrm>
            <a:custGeom>
              <a:avLst/>
              <a:gdLst/>
              <a:ahLst/>
              <a:rect l="0" t="0" r="r" b="b"/>
              <a:pathLst>
                <a:path w="98" h="129">
                  <a:moveTo>
                    <a:pt x="98" y="129"/>
                  </a:moveTo>
                  <a:lnTo>
                    <a:pt x="98" y="67"/>
                  </a:lnTo>
                  <a:lnTo>
                    <a:pt x="80" y="17"/>
                  </a:lnTo>
                  <a:lnTo>
                    <a:pt x="44" y="0"/>
                  </a:lnTo>
                  <a:lnTo>
                    <a:pt x="0" y="4"/>
                  </a:lnTo>
                  <a:lnTo>
                    <a:pt x="30" y="17"/>
                  </a:lnTo>
                  <a:lnTo>
                    <a:pt x="58" y="40"/>
                  </a:lnTo>
                  <a:lnTo>
                    <a:pt x="80" y="71"/>
                  </a:lnTo>
                  <a:lnTo>
                    <a:pt x="98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147160" y="1147680"/>
              <a:ext cx="52920" cy="27360"/>
            </a:xfrm>
            <a:custGeom>
              <a:avLst/>
              <a:gdLst/>
              <a:ahLst/>
              <a:rect l="0" t="0" r="r" b="b"/>
              <a:pathLst>
                <a:path w="147" h="76">
                  <a:moveTo>
                    <a:pt x="147" y="59"/>
                  </a:moveTo>
                  <a:lnTo>
                    <a:pt x="112" y="72"/>
                  </a:lnTo>
                  <a:lnTo>
                    <a:pt x="84" y="76"/>
                  </a:lnTo>
                  <a:lnTo>
                    <a:pt x="58" y="76"/>
                  </a:lnTo>
                  <a:lnTo>
                    <a:pt x="30" y="72"/>
                  </a:lnTo>
                  <a:lnTo>
                    <a:pt x="17" y="59"/>
                  </a:lnTo>
                  <a:lnTo>
                    <a:pt x="4" y="4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2" y="27"/>
                  </a:lnTo>
                  <a:lnTo>
                    <a:pt x="45" y="45"/>
                  </a:lnTo>
                  <a:lnTo>
                    <a:pt x="80" y="59"/>
                  </a:lnTo>
                  <a:lnTo>
                    <a:pt x="14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131320" y="1174680"/>
              <a:ext cx="54360" cy="27360"/>
            </a:xfrm>
            <a:custGeom>
              <a:avLst/>
              <a:gdLst/>
              <a:ahLst/>
              <a:rect l="0" t="0" r="r" b="b"/>
              <a:pathLst>
                <a:path w="151" h="76">
                  <a:moveTo>
                    <a:pt x="151" y="59"/>
                  </a:moveTo>
                  <a:lnTo>
                    <a:pt x="121" y="72"/>
                  </a:lnTo>
                  <a:lnTo>
                    <a:pt x="89" y="76"/>
                  </a:lnTo>
                  <a:lnTo>
                    <a:pt x="62" y="76"/>
                  </a:lnTo>
                  <a:lnTo>
                    <a:pt x="40" y="72"/>
                  </a:lnTo>
                  <a:lnTo>
                    <a:pt x="17" y="59"/>
                  </a:lnTo>
                  <a:lnTo>
                    <a:pt x="4" y="4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2" y="27"/>
                  </a:lnTo>
                  <a:lnTo>
                    <a:pt x="49" y="45"/>
                  </a:lnTo>
                  <a:lnTo>
                    <a:pt x="89" y="59"/>
                  </a:lnTo>
                  <a:lnTo>
                    <a:pt x="15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240760" y="757080"/>
              <a:ext cx="155880" cy="100440"/>
            </a:xfrm>
            <a:custGeom>
              <a:avLst/>
              <a:gdLst/>
              <a:ahLst/>
              <a:rect l="0" t="0" r="r" b="b"/>
              <a:pathLst>
                <a:path w="433" h="279">
                  <a:moveTo>
                    <a:pt x="0" y="98"/>
                  </a:moveTo>
                  <a:lnTo>
                    <a:pt x="52" y="98"/>
                  </a:lnTo>
                  <a:lnTo>
                    <a:pt x="97" y="111"/>
                  </a:lnTo>
                  <a:lnTo>
                    <a:pt x="127" y="133"/>
                  </a:lnTo>
                  <a:lnTo>
                    <a:pt x="145" y="168"/>
                  </a:lnTo>
                  <a:lnTo>
                    <a:pt x="154" y="146"/>
                  </a:lnTo>
                  <a:lnTo>
                    <a:pt x="167" y="124"/>
                  </a:lnTo>
                  <a:lnTo>
                    <a:pt x="171" y="106"/>
                  </a:lnTo>
                  <a:lnTo>
                    <a:pt x="171" y="93"/>
                  </a:lnTo>
                  <a:lnTo>
                    <a:pt x="221" y="124"/>
                  </a:lnTo>
                  <a:lnTo>
                    <a:pt x="261" y="168"/>
                  </a:lnTo>
                  <a:lnTo>
                    <a:pt x="300" y="222"/>
                  </a:lnTo>
                  <a:lnTo>
                    <a:pt x="314" y="279"/>
                  </a:lnTo>
                  <a:lnTo>
                    <a:pt x="327" y="240"/>
                  </a:lnTo>
                  <a:lnTo>
                    <a:pt x="340" y="213"/>
                  </a:lnTo>
                  <a:lnTo>
                    <a:pt x="349" y="186"/>
                  </a:lnTo>
                  <a:lnTo>
                    <a:pt x="349" y="159"/>
                  </a:lnTo>
                  <a:lnTo>
                    <a:pt x="371" y="177"/>
                  </a:lnTo>
                  <a:lnTo>
                    <a:pt x="389" y="199"/>
                  </a:lnTo>
                  <a:lnTo>
                    <a:pt x="406" y="222"/>
                  </a:lnTo>
                  <a:lnTo>
                    <a:pt x="428" y="253"/>
                  </a:lnTo>
                  <a:lnTo>
                    <a:pt x="428" y="172"/>
                  </a:lnTo>
                  <a:lnTo>
                    <a:pt x="415" y="124"/>
                  </a:lnTo>
                  <a:lnTo>
                    <a:pt x="397" y="98"/>
                  </a:lnTo>
                  <a:lnTo>
                    <a:pt x="362" y="80"/>
                  </a:lnTo>
                  <a:lnTo>
                    <a:pt x="384" y="75"/>
                  </a:lnTo>
                  <a:lnTo>
                    <a:pt x="402" y="71"/>
                  </a:lnTo>
                  <a:lnTo>
                    <a:pt x="415" y="61"/>
                  </a:lnTo>
                  <a:lnTo>
                    <a:pt x="433" y="61"/>
                  </a:lnTo>
                  <a:lnTo>
                    <a:pt x="424" y="52"/>
                  </a:lnTo>
                  <a:lnTo>
                    <a:pt x="406" y="44"/>
                  </a:lnTo>
                  <a:lnTo>
                    <a:pt x="389" y="30"/>
                  </a:lnTo>
                  <a:lnTo>
                    <a:pt x="362" y="22"/>
                  </a:lnTo>
                  <a:lnTo>
                    <a:pt x="336" y="8"/>
                  </a:lnTo>
                  <a:lnTo>
                    <a:pt x="300" y="4"/>
                  </a:lnTo>
                  <a:lnTo>
                    <a:pt x="261" y="0"/>
                  </a:lnTo>
                  <a:lnTo>
                    <a:pt x="211" y="0"/>
                  </a:lnTo>
                  <a:lnTo>
                    <a:pt x="167" y="4"/>
                  </a:lnTo>
                  <a:lnTo>
                    <a:pt x="123" y="4"/>
                  </a:lnTo>
                  <a:lnTo>
                    <a:pt x="92" y="17"/>
                  </a:lnTo>
                  <a:lnTo>
                    <a:pt x="66" y="22"/>
                  </a:lnTo>
                  <a:lnTo>
                    <a:pt x="44" y="35"/>
                  </a:lnTo>
                  <a:lnTo>
                    <a:pt x="26" y="52"/>
                  </a:lnTo>
                  <a:lnTo>
                    <a:pt x="17" y="75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050320" y="773280"/>
              <a:ext cx="138600" cy="86040"/>
            </a:xfrm>
            <a:custGeom>
              <a:avLst/>
              <a:gdLst/>
              <a:ahLst/>
              <a:rect l="0" t="0" r="r" b="b"/>
              <a:pathLst>
                <a:path w="385" h="239">
                  <a:moveTo>
                    <a:pt x="39" y="239"/>
                  </a:moveTo>
                  <a:lnTo>
                    <a:pt x="30" y="203"/>
                  </a:lnTo>
                  <a:lnTo>
                    <a:pt x="35" y="164"/>
                  </a:lnTo>
                  <a:lnTo>
                    <a:pt x="44" y="128"/>
                  </a:lnTo>
                  <a:lnTo>
                    <a:pt x="61" y="92"/>
                  </a:lnTo>
                  <a:lnTo>
                    <a:pt x="57" y="88"/>
                  </a:lnTo>
                  <a:lnTo>
                    <a:pt x="39" y="83"/>
                  </a:lnTo>
                  <a:lnTo>
                    <a:pt x="22" y="88"/>
                  </a:lnTo>
                  <a:lnTo>
                    <a:pt x="0" y="88"/>
                  </a:lnTo>
                  <a:lnTo>
                    <a:pt x="17" y="74"/>
                  </a:lnTo>
                  <a:lnTo>
                    <a:pt x="35" y="57"/>
                  </a:lnTo>
                  <a:lnTo>
                    <a:pt x="61" y="39"/>
                  </a:lnTo>
                  <a:lnTo>
                    <a:pt x="88" y="26"/>
                  </a:lnTo>
                  <a:lnTo>
                    <a:pt x="111" y="13"/>
                  </a:lnTo>
                  <a:lnTo>
                    <a:pt x="137" y="8"/>
                  </a:lnTo>
                  <a:lnTo>
                    <a:pt x="164" y="4"/>
                  </a:lnTo>
                  <a:lnTo>
                    <a:pt x="186" y="0"/>
                  </a:lnTo>
                  <a:lnTo>
                    <a:pt x="225" y="0"/>
                  </a:lnTo>
                  <a:lnTo>
                    <a:pt x="265" y="4"/>
                  </a:lnTo>
                  <a:lnTo>
                    <a:pt x="297" y="13"/>
                  </a:lnTo>
                  <a:lnTo>
                    <a:pt x="328" y="30"/>
                  </a:lnTo>
                  <a:lnTo>
                    <a:pt x="354" y="52"/>
                  </a:lnTo>
                  <a:lnTo>
                    <a:pt x="372" y="79"/>
                  </a:lnTo>
                  <a:lnTo>
                    <a:pt x="381" y="110"/>
                  </a:lnTo>
                  <a:lnTo>
                    <a:pt x="385" y="150"/>
                  </a:lnTo>
                  <a:lnTo>
                    <a:pt x="359" y="128"/>
                  </a:lnTo>
                  <a:lnTo>
                    <a:pt x="341" y="114"/>
                  </a:lnTo>
                  <a:lnTo>
                    <a:pt x="319" y="110"/>
                  </a:lnTo>
                  <a:lnTo>
                    <a:pt x="297" y="105"/>
                  </a:lnTo>
                  <a:lnTo>
                    <a:pt x="265" y="133"/>
                  </a:lnTo>
                  <a:lnTo>
                    <a:pt x="225" y="159"/>
                  </a:lnTo>
                  <a:lnTo>
                    <a:pt x="195" y="190"/>
                  </a:lnTo>
                  <a:lnTo>
                    <a:pt x="172" y="225"/>
                  </a:lnTo>
                  <a:lnTo>
                    <a:pt x="168" y="195"/>
                  </a:lnTo>
                  <a:lnTo>
                    <a:pt x="164" y="168"/>
                  </a:lnTo>
                  <a:lnTo>
                    <a:pt x="159" y="155"/>
                  </a:lnTo>
                  <a:lnTo>
                    <a:pt x="150" y="133"/>
                  </a:lnTo>
                  <a:lnTo>
                    <a:pt x="128" y="150"/>
                  </a:lnTo>
                  <a:lnTo>
                    <a:pt x="102" y="164"/>
                  </a:lnTo>
                  <a:lnTo>
                    <a:pt x="70" y="195"/>
                  </a:lnTo>
                  <a:lnTo>
                    <a:pt x="39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259840" y="765000"/>
              <a:ext cx="127440" cy="62280"/>
            </a:xfrm>
            <a:custGeom>
              <a:avLst/>
              <a:gdLst/>
              <a:ahLst/>
              <a:rect l="0" t="0" r="r" b="b"/>
              <a:pathLst>
                <a:path w="354" h="173">
                  <a:moveTo>
                    <a:pt x="0" y="53"/>
                  </a:moveTo>
                  <a:lnTo>
                    <a:pt x="22" y="53"/>
                  </a:lnTo>
                  <a:lnTo>
                    <a:pt x="48" y="58"/>
                  </a:lnTo>
                  <a:lnTo>
                    <a:pt x="70" y="71"/>
                  </a:lnTo>
                  <a:lnTo>
                    <a:pt x="89" y="89"/>
                  </a:lnTo>
                  <a:lnTo>
                    <a:pt x="93" y="75"/>
                  </a:lnTo>
                  <a:lnTo>
                    <a:pt x="93" y="58"/>
                  </a:lnTo>
                  <a:lnTo>
                    <a:pt x="93" y="39"/>
                  </a:lnTo>
                  <a:lnTo>
                    <a:pt x="89" y="22"/>
                  </a:lnTo>
                  <a:lnTo>
                    <a:pt x="115" y="30"/>
                  </a:lnTo>
                  <a:lnTo>
                    <a:pt x="142" y="49"/>
                  </a:lnTo>
                  <a:lnTo>
                    <a:pt x="159" y="58"/>
                  </a:lnTo>
                  <a:lnTo>
                    <a:pt x="181" y="75"/>
                  </a:lnTo>
                  <a:lnTo>
                    <a:pt x="203" y="98"/>
                  </a:lnTo>
                  <a:lnTo>
                    <a:pt x="225" y="115"/>
                  </a:lnTo>
                  <a:lnTo>
                    <a:pt x="247" y="138"/>
                  </a:lnTo>
                  <a:lnTo>
                    <a:pt x="261" y="173"/>
                  </a:lnTo>
                  <a:lnTo>
                    <a:pt x="270" y="151"/>
                  </a:lnTo>
                  <a:lnTo>
                    <a:pt x="270" y="128"/>
                  </a:lnTo>
                  <a:lnTo>
                    <a:pt x="270" y="111"/>
                  </a:lnTo>
                  <a:lnTo>
                    <a:pt x="270" y="102"/>
                  </a:lnTo>
                  <a:lnTo>
                    <a:pt x="284" y="111"/>
                  </a:lnTo>
                  <a:lnTo>
                    <a:pt x="310" y="124"/>
                  </a:lnTo>
                  <a:lnTo>
                    <a:pt x="332" y="134"/>
                  </a:lnTo>
                  <a:lnTo>
                    <a:pt x="354" y="151"/>
                  </a:lnTo>
                  <a:lnTo>
                    <a:pt x="337" y="115"/>
                  </a:lnTo>
                  <a:lnTo>
                    <a:pt x="310" y="89"/>
                  </a:lnTo>
                  <a:lnTo>
                    <a:pt x="284" y="71"/>
                  </a:lnTo>
                  <a:lnTo>
                    <a:pt x="256" y="53"/>
                  </a:lnTo>
                  <a:lnTo>
                    <a:pt x="275" y="49"/>
                  </a:lnTo>
                  <a:lnTo>
                    <a:pt x="288" y="39"/>
                  </a:lnTo>
                  <a:lnTo>
                    <a:pt x="306" y="35"/>
                  </a:lnTo>
                  <a:lnTo>
                    <a:pt x="323" y="30"/>
                  </a:lnTo>
                  <a:lnTo>
                    <a:pt x="310" y="26"/>
                  </a:lnTo>
                  <a:lnTo>
                    <a:pt x="297" y="22"/>
                  </a:lnTo>
                  <a:lnTo>
                    <a:pt x="279" y="13"/>
                  </a:lnTo>
                  <a:lnTo>
                    <a:pt x="261" y="8"/>
                  </a:lnTo>
                  <a:lnTo>
                    <a:pt x="243" y="4"/>
                  </a:lnTo>
                  <a:lnTo>
                    <a:pt x="217" y="4"/>
                  </a:lnTo>
                  <a:lnTo>
                    <a:pt x="190" y="0"/>
                  </a:lnTo>
                  <a:lnTo>
                    <a:pt x="155" y="0"/>
                  </a:lnTo>
                  <a:lnTo>
                    <a:pt x="102" y="4"/>
                  </a:lnTo>
                  <a:lnTo>
                    <a:pt x="52" y="8"/>
                  </a:lnTo>
                  <a:lnTo>
                    <a:pt x="22" y="26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070840" y="779400"/>
              <a:ext cx="105120" cy="57600"/>
            </a:xfrm>
            <a:custGeom>
              <a:avLst/>
              <a:gdLst/>
              <a:ahLst/>
              <a:rect l="0" t="0" r="r" b="b"/>
              <a:pathLst>
                <a:path w="292" h="160">
                  <a:moveTo>
                    <a:pt x="0" y="160"/>
                  </a:moveTo>
                  <a:lnTo>
                    <a:pt x="8" y="125"/>
                  </a:lnTo>
                  <a:lnTo>
                    <a:pt x="17" y="98"/>
                  </a:lnTo>
                  <a:lnTo>
                    <a:pt x="35" y="75"/>
                  </a:lnTo>
                  <a:lnTo>
                    <a:pt x="44" y="58"/>
                  </a:lnTo>
                  <a:lnTo>
                    <a:pt x="35" y="49"/>
                  </a:lnTo>
                  <a:lnTo>
                    <a:pt x="26" y="49"/>
                  </a:lnTo>
                  <a:lnTo>
                    <a:pt x="13" y="49"/>
                  </a:lnTo>
                  <a:lnTo>
                    <a:pt x="0" y="49"/>
                  </a:lnTo>
                  <a:lnTo>
                    <a:pt x="17" y="35"/>
                  </a:lnTo>
                  <a:lnTo>
                    <a:pt x="52" y="22"/>
                  </a:lnTo>
                  <a:lnTo>
                    <a:pt x="88" y="13"/>
                  </a:lnTo>
                  <a:lnTo>
                    <a:pt x="114" y="8"/>
                  </a:lnTo>
                  <a:lnTo>
                    <a:pt x="145" y="0"/>
                  </a:lnTo>
                  <a:lnTo>
                    <a:pt x="172" y="8"/>
                  </a:lnTo>
                  <a:lnTo>
                    <a:pt x="199" y="8"/>
                  </a:lnTo>
                  <a:lnTo>
                    <a:pt x="221" y="13"/>
                  </a:lnTo>
                  <a:lnTo>
                    <a:pt x="243" y="22"/>
                  </a:lnTo>
                  <a:lnTo>
                    <a:pt x="265" y="39"/>
                  </a:lnTo>
                  <a:lnTo>
                    <a:pt x="283" y="62"/>
                  </a:lnTo>
                  <a:lnTo>
                    <a:pt x="292" y="84"/>
                  </a:lnTo>
                  <a:lnTo>
                    <a:pt x="274" y="71"/>
                  </a:lnTo>
                  <a:lnTo>
                    <a:pt x="265" y="62"/>
                  </a:lnTo>
                  <a:lnTo>
                    <a:pt x="247" y="62"/>
                  </a:lnTo>
                  <a:lnTo>
                    <a:pt x="234" y="58"/>
                  </a:lnTo>
                  <a:lnTo>
                    <a:pt x="208" y="75"/>
                  </a:lnTo>
                  <a:lnTo>
                    <a:pt x="181" y="106"/>
                  </a:lnTo>
                  <a:lnTo>
                    <a:pt x="155" y="125"/>
                  </a:lnTo>
                  <a:lnTo>
                    <a:pt x="132" y="147"/>
                  </a:lnTo>
                  <a:lnTo>
                    <a:pt x="127" y="125"/>
                  </a:lnTo>
                  <a:lnTo>
                    <a:pt x="119" y="111"/>
                  </a:lnTo>
                  <a:lnTo>
                    <a:pt x="114" y="93"/>
                  </a:lnTo>
                  <a:lnTo>
                    <a:pt x="110" y="75"/>
                  </a:lnTo>
                  <a:lnTo>
                    <a:pt x="92" y="89"/>
                  </a:lnTo>
                  <a:lnTo>
                    <a:pt x="61" y="106"/>
                  </a:lnTo>
                  <a:lnTo>
                    <a:pt x="30" y="134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126280" y="836640"/>
              <a:ext cx="201960" cy="124200"/>
            </a:xfrm>
            <a:custGeom>
              <a:avLst/>
              <a:gdLst/>
              <a:ahLst/>
              <a:rect l="0" t="0" r="r" b="b"/>
              <a:pathLst>
                <a:path w="561" h="345">
                  <a:moveTo>
                    <a:pt x="268" y="199"/>
                  </a:moveTo>
                  <a:lnTo>
                    <a:pt x="292" y="252"/>
                  </a:lnTo>
                  <a:lnTo>
                    <a:pt x="322" y="301"/>
                  </a:lnTo>
                  <a:lnTo>
                    <a:pt x="362" y="337"/>
                  </a:lnTo>
                  <a:lnTo>
                    <a:pt x="411" y="345"/>
                  </a:lnTo>
                  <a:lnTo>
                    <a:pt x="468" y="337"/>
                  </a:lnTo>
                  <a:lnTo>
                    <a:pt x="516" y="301"/>
                  </a:lnTo>
                  <a:lnTo>
                    <a:pt x="547" y="239"/>
                  </a:lnTo>
                  <a:lnTo>
                    <a:pt x="561" y="168"/>
                  </a:lnTo>
                  <a:lnTo>
                    <a:pt x="547" y="102"/>
                  </a:lnTo>
                  <a:lnTo>
                    <a:pt x="516" y="48"/>
                  </a:lnTo>
                  <a:lnTo>
                    <a:pt x="468" y="8"/>
                  </a:lnTo>
                  <a:lnTo>
                    <a:pt x="411" y="0"/>
                  </a:lnTo>
                  <a:lnTo>
                    <a:pt x="362" y="13"/>
                  </a:lnTo>
                  <a:lnTo>
                    <a:pt x="318" y="48"/>
                  </a:lnTo>
                  <a:lnTo>
                    <a:pt x="287" y="102"/>
                  </a:lnTo>
                  <a:lnTo>
                    <a:pt x="264" y="159"/>
                  </a:lnTo>
                  <a:lnTo>
                    <a:pt x="246" y="111"/>
                  </a:lnTo>
                  <a:lnTo>
                    <a:pt x="216" y="61"/>
                  </a:lnTo>
                  <a:lnTo>
                    <a:pt x="180" y="30"/>
                  </a:lnTo>
                  <a:lnTo>
                    <a:pt x="136" y="17"/>
                  </a:lnTo>
                  <a:lnTo>
                    <a:pt x="83" y="30"/>
                  </a:lnTo>
                  <a:lnTo>
                    <a:pt x="35" y="66"/>
                  </a:lnTo>
                  <a:lnTo>
                    <a:pt x="8" y="124"/>
                  </a:lnTo>
                  <a:lnTo>
                    <a:pt x="0" y="181"/>
                  </a:lnTo>
                  <a:lnTo>
                    <a:pt x="8" y="243"/>
                  </a:lnTo>
                  <a:lnTo>
                    <a:pt x="35" y="293"/>
                  </a:lnTo>
                  <a:lnTo>
                    <a:pt x="83" y="332"/>
                  </a:lnTo>
                  <a:lnTo>
                    <a:pt x="136" y="341"/>
                  </a:lnTo>
                  <a:lnTo>
                    <a:pt x="185" y="332"/>
                  </a:lnTo>
                  <a:lnTo>
                    <a:pt x="220" y="293"/>
                  </a:lnTo>
                  <a:lnTo>
                    <a:pt x="255" y="252"/>
                  </a:lnTo>
                  <a:lnTo>
                    <a:pt x="268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140680" y="885960"/>
              <a:ext cx="36720" cy="52920"/>
            </a:xfrm>
            <a:custGeom>
              <a:avLst/>
              <a:gdLst/>
              <a:ahLst/>
              <a:rect l="0" t="0" r="r" b="b"/>
              <a:pathLst>
                <a:path w="102" h="147">
                  <a:moveTo>
                    <a:pt x="53" y="147"/>
                  </a:moveTo>
                  <a:lnTo>
                    <a:pt x="75" y="143"/>
                  </a:lnTo>
                  <a:lnTo>
                    <a:pt x="89" y="125"/>
                  </a:lnTo>
                  <a:lnTo>
                    <a:pt x="98" y="102"/>
                  </a:lnTo>
                  <a:lnTo>
                    <a:pt x="102" y="71"/>
                  </a:lnTo>
                  <a:lnTo>
                    <a:pt x="98" y="45"/>
                  </a:lnTo>
                  <a:lnTo>
                    <a:pt x="89" y="22"/>
                  </a:lnTo>
                  <a:lnTo>
                    <a:pt x="75" y="4"/>
                  </a:lnTo>
                  <a:lnTo>
                    <a:pt x="53" y="0"/>
                  </a:lnTo>
                  <a:lnTo>
                    <a:pt x="35" y="4"/>
                  </a:lnTo>
                  <a:lnTo>
                    <a:pt x="17" y="22"/>
                  </a:lnTo>
                  <a:lnTo>
                    <a:pt x="4" y="45"/>
                  </a:lnTo>
                  <a:lnTo>
                    <a:pt x="0" y="71"/>
                  </a:lnTo>
                  <a:lnTo>
                    <a:pt x="4" y="102"/>
                  </a:lnTo>
                  <a:lnTo>
                    <a:pt x="17" y="125"/>
                  </a:lnTo>
                  <a:lnTo>
                    <a:pt x="35" y="143"/>
                  </a:lnTo>
                  <a:lnTo>
                    <a:pt x="5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250120" y="882720"/>
              <a:ext cx="38520" cy="57600"/>
            </a:xfrm>
            <a:custGeom>
              <a:avLst/>
              <a:gdLst/>
              <a:ahLst/>
              <a:rect l="0" t="0" r="r" b="b"/>
              <a:pathLst>
                <a:path w="107" h="160">
                  <a:moveTo>
                    <a:pt x="53" y="160"/>
                  </a:moveTo>
                  <a:lnTo>
                    <a:pt x="75" y="156"/>
                  </a:lnTo>
                  <a:lnTo>
                    <a:pt x="94" y="138"/>
                  </a:lnTo>
                  <a:lnTo>
                    <a:pt x="103" y="111"/>
                  </a:lnTo>
                  <a:lnTo>
                    <a:pt x="107" y="80"/>
                  </a:lnTo>
                  <a:lnTo>
                    <a:pt x="103" y="49"/>
                  </a:lnTo>
                  <a:lnTo>
                    <a:pt x="94" y="22"/>
                  </a:lnTo>
                  <a:lnTo>
                    <a:pt x="75" y="4"/>
                  </a:lnTo>
                  <a:lnTo>
                    <a:pt x="53" y="0"/>
                  </a:lnTo>
                  <a:lnTo>
                    <a:pt x="31" y="4"/>
                  </a:lnTo>
                  <a:lnTo>
                    <a:pt x="17" y="22"/>
                  </a:lnTo>
                  <a:lnTo>
                    <a:pt x="4" y="49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7" y="138"/>
                  </a:lnTo>
                  <a:lnTo>
                    <a:pt x="31" y="156"/>
                  </a:lnTo>
                  <a:lnTo>
                    <a:pt x="5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10520" y="111132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59" y="94"/>
                  </a:moveTo>
                  <a:lnTo>
                    <a:pt x="40" y="94"/>
                  </a:lnTo>
                  <a:lnTo>
                    <a:pt x="31" y="94"/>
                  </a:lnTo>
                  <a:lnTo>
                    <a:pt x="13" y="94"/>
                  </a:lnTo>
                  <a:lnTo>
                    <a:pt x="0" y="94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76" y="0"/>
                  </a:lnTo>
                  <a:lnTo>
                    <a:pt x="59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247240" y="11095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0" y="94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72" y="0"/>
                  </a:lnTo>
                  <a:lnTo>
                    <a:pt x="52" y="81"/>
                  </a:lnTo>
                  <a:lnTo>
                    <a:pt x="39" y="85"/>
                  </a:lnTo>
                  <a:lnTo>
                    <a:pt x="33" y="85"/>
                  </a:lnTo>
                  <a:lnTo>
                    <a:pt x="12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248680" y="1074600"/>
              <a:ext cx="25920" cy="28800"/>
            </a:xfrm>
            <a:custGeom>
              <a:avLst/>
              <a:gdLst/>
              <a:ahLst/>
              <a:rect l="0" t="0" r="r" b="b"/>
              <a:pathLst>
                <a:path w="72" h="80">
                  <a:moveTo>
                    <a:pt x="0" y="80"/>
                  </a:moveTo>
                  <a:lnTo>
                    <a:pt x="11" y="75"/>
                  </a:lnTo>
                  <a:lnTo>
                    <a:pt x="30" y="75"/>
                  </a:lnTo>
                  <a:lnTo>
                    <a:pt x="42" y="75"/>
                  </a:lnTo>
                  <a:lnTo>
                    <a:pt x="60" y="75"/>
                  </a:lnTo>
                  <a:lnTo>
                    <a:pt x="72" y="17"/>
                  </a:lnTo>
                  <a:lnTo>
                    <a:pt x="60" y="8"/>
                  </a:lnTo>
                  <a:lnTo>
                    <a:pt x="42" y="4"/>
                  </a:lnTo>
                  <a:lnTo>
                    <a:pt x="30" y="4"/>
                  </a:lnTo>
                  <a:lnTo>
                    <a:pt x="11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215200" y="106524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10" y="107"/>
                  </a:moveTo>
                  <a:lnTo>
                    <a:pt x="21" y="107"/>
                  </a:lnTo>
                  <a:lnTo>
                    <a:pt x="41" y="107"/>
                  </a:lnTo>
                  <a:lnTo>
                    <a:pt x="51" y="107"/>
                  </a:lnTo>
                  <a:lnTo>
                    <a:pt x="72" y="107"/>
                  </a:lnTo>
                  <a:lnTo>
                    <a:pt x="72" y="8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21" y="4"/>
                  </a:lnTo>
                  <a:lnTo>
                    <a:pt x="0" y="0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178840" y="1109520"/>
              <a:ext cx="27360" cy="35280"/>
            </a:xfrm>
            <a:custGeom>
              <a:avLst/>
              <a:gdLst/>
              <a:ahLst/>
              <a:rect l="0" t="0" r="r" b="b"/>
              <a:pathLst>
                <a:path w="76" h="98">
                  <a:moveTo>
                    <a:pt x="49" y="98"/>
                  </a:moveTo>
                  <a:lnTo>
                    <a:pt x="36" y="93"/>
                  </a:lnTo>
                  <a:lnTo>
                    <a:pt x="23" y="84"/>
                  </a:lnTo>
                  <a:lnTo>
                    <a:pt x="13" y="84"/>
                  </a:lnTo>
                  <a:lnTo>
                    <a:pt x="0" y="80"/>
                  </a:lnTo>
                  <a:lnTo>
                    <a:pt x="27" y="0"/>
                  </a:lnTo>
                  <a:lnTo>
                    <a:pt x="40" y="4"/>
                  </a:lnTo>
                  <a:lnTo>
                    <a:pt x="49" y="4"/>
                  </a:lnTo>
                  <a:lnTo>
                    <a:pt x="63" y="4"/>
                  </a:lnTo>
                  <a:lnTo>
                    <a:pt x="76" y="4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177040" y="1063800"/>
              <a:ext cx="32040" cy="39960"/>
            </a:xfrm>
            <a:custGeom>
              <a:avLst/>
              <a:gdLst/>
              <a:ahLst/>
              <a:rect l="0" t="0" r="r" b="b"/>
              <a:pathLst>
                <a:path w="89" h="111">
                  <a:moveTo>
                    <a:pt x="71" y="4"/>
                  </a:moveTo>
                  <a:lnTo>
                    <a:pt x="53" y="0"/>
                  </a:lnTo>
                  <a:lnTo>
                    <a:pt x="39" y="0"/>
                  </a:lnTo>
                  <a:lnTo>
                    <a:pt x="17" y="0"/>
                  </a:lnTo>
                  <a:lnTo>
                    <a:pt x="0" y="4"/>
                  </a:lnTo>
                  <a:lnTo>
                    <a:pt x="30" y="106"/>
                  </a:lnTo>
                  <a:lnTo>
                    <a:pt x="45" y="106"/>
                  </a:lnTo>
                  <a:lnTo>
                    <a:pt x="62" y="106"/>
                  </a:lnTo>
                  <a:lnTo>
                    <a:pt x="71" y="106"/>
                  </a:lnTo>
                  <a:lnTo>
                    <a:pt x="89" y="111"/>
                  </a:lnTo>
                  <a:lnTo>
                    <a:pt x="7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8250120" y="557280"/>
            <a:ext cx="271800" cy="143280"/>
          </a:xfrm>
          <a:custGeom>
            <a:avLst/>
            <a:gdLst/>
            <a:ahLst/>
            <a:rect l="0" t="0" r="r" b="b"/>
            <a:pathLst>
              <a:path w="755" h="398">
                <a:moveTo>
                  <a:pt x="0" y="4"/>
                </a:moveTo>
                <a:lnTo>
                  <a:pt x="176" y="0"/>
                </a:lnTo>
                <a:lnTo>
                  <a:pt x="326" y="22"/>
                </a:lnTo>
                <a:lnTo>
                  <a:pt x="455" y="70"/>
                </a:lnTo>
                <a:lnTo>
                  <a:pt x="556" y="124"/>
                </a:lnTo>
                <a:lnTo>
                  <a:pt x="631" y="190"/>
                </a:lnTo>
                <a:lnTo>
                  <a:pt x="688" y="256"/>
                </a:lnTo>
                <a:lnTo>
                  <a:pt x="733" y="323"/>
                </a:lnTo>
                <a:lnTo>
                  <a:pt x="755" y="368"/>
                </a:lnTo>
                <a:lnTo>
                  <a:pt x="728" y="368"/>
                </a:lnTo>
                <a:lnTo>
                  <a:pt x="706" y="376"/>
                </a:lnTo>
                <a:lnTo>
                  <a:pt x="684" y="385"/>
                </a:lnTo>
                <a:lnTo>
                  <a:pt x="662" y="398"/>
                </a:lnTo>
                <a:lnTo>
                  <a:pt x="640" y="354"/>
                </a:lnTo>
                <a:lnTo>
                  <a:pt x="609" y="301"/>
                </a:lnTo>
                <a:lnTo>
                  <a:pt x="556" y="239"/>
                </a:lnTo>
                <a:lnTo>
                  <a:pt x="490" y="177"/>
                </a:lnTo>
                <a:lnTo>
                  <a:pt x="406" y="115"/>
                </a:lnTo>
                <a:lnTo>
                  <a:pt x="295" y="70"/>
                </a:lnTo>
                <a:lnTo>
                  <a:pt x="158" y="26"/>
                </a:lnTo>
                <a:lnTo>
                  <a:pt x="0" y="4"/>
                </a:lnTo>
                <a:close/>
              </a:path>
            </a:pathLst>
          </a:custGeom>
          <a:solidFill>
            <a:srgbClr val="ccf2f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1727280" y="4854600"/>
            <a:ext cx="828720" cy="1165680"/>
            <a:chOff x="1727280" y="4854600"/>
            <a:chExt cx="828720" cy="1165680"/>
          </a:xfrm>
        </p:grpSpPr>
        <p:sp>
          <p:nvSpPr>
            <p:cNvPr id="1207" name=""/>
            <p:cNvSpPr/>
            <p:nvPr/>
          </p:nvSpPr>
          <p:spPr>
            <a:xfrm>
              <a:off x="1755720" y="5335560"/>
              <a:ext cx="582840" cy="675000"/>
            </a:xfrm>
            <a:custGeom>
              <a:avLst/>
              <a:gdLst/>
              <a:ahLst/>
              <a:rect l="0" t="0" r="r" b="b"/>
              <a:pathLst>
                <a:path w="1619" h="1875">
                  <a:moveTo>
                    <a:pt x="308" y="668"/>
                  </a:moveTo>
                  <a:lnTo>
                    <a:pt x="142" y="794"/>
                  </a:lnTo>
                  <a:lnTo>
                    <a:pt x="35" y="968"/>
                  </a:lnTo>
                  <a:lnTo>
                    <a:pt x="0" y="1137"/>
                  </a:lnTo>
                  <a:lnTo>
                    <a:pt x="11" y="1321"/>
                  </a:lnTo>
                  <a:lnTo>
                    <a:pt x="53" y="1491"/>
                  </a:lnTo>
                  <a:lnTo>
                    <a:pt x="91" y="1569"/>
                  </a:lnTo>
                  <a:lnTo>
                    <a:pt x="189" y="1663"/>
                  </a:lnTo>
                  <a:lnTo>
                    <a:pt x="320" y="1751"/>
                  </a:lnTo>
                  <a:lnTo>
                    <a:pt x="480" y="1838"/>
                  </a:lnTo>
                  <a:lnTo>
                    <a:pt x="580" y="1866"/>
                  </a:lnTo>
                  <a:lnTo>
                    <a:pt x="788" y="1875"/>
                  </a:lnTo>
                  <a:lnTo>
                    <a:pt x="970" y="1872"/>
                  </a:lnTo>
                  <a:lnTo>
                    <a:pt x="1079" y="1847"/>
                  </a:lnTo>
                  <a:lnTo>
                    <a:pt x="1242" y="1790"/>
                  </a:lnTo>
                  <a:lnTo>
                    <a:pt x="1400" y="1702"/>
                  </a:lnTo>
                  <a:lnTo>
                    <a:pt x="1515" y="1575"/>
                  </a:lnTo>
                  <a:lnTo>
                    <a:pt x="1589" y="1376"/>
                  </a:lnTo>
                  <a:lnTo>
                    <a:pt x="1619" y="1195"/>
                  </a:lnTo>
                  <a:lnTo>
                    <a:pt x="1592" y="1016"/>
                  </a:lnTo>
                  <a:lnTo>
                    <a:pt x="1518" y="876"/>
                  </a:lnTo>
                  <a:lnTo>
                    <a:pt x="1405" y="746"/>
                  </a:lnTo>
                  <a:lnTo>
                    <a:pt x="1325" y="661"/>
                  </a:lnTo>
                  <a:lnTo>
                    <a:pt x="1391" y="583"/>
                  </a:lnTo>
                  <a:lnTo>
                    <a:pt x="1423" y="459"/>
                  </a:lnTo>
                  <a:lnTo>
                    <a:pt x="1402" y="314"/>
                  </a:lnTo>
                  <a:lnTo>
                    <a:pt x="1349" y="211"/>
                  </a:lnTo>
                  <a:lnTo>
                    <a:pt x="1272" y="117"/>
                  </a:lnTo>
                  <a:lnTo>
                    <a:pt x="1174" y="45"/>
                  </a:lnTo>
                  <a:lnTo>
                    <a:pt x="1127" y="12"/>
                  </a:lnTo>
                  <a:lnTo>
                    <a:pt x="988" y="57"/>
                  </a:lnTo>
                  <a:lnTo>
                    <a:pt x="819" y="54"/>
                  </a:lnTo>
                  <a:lnTo>
                    <a:pt x="702" y="0"/>
                  </a:lnTo>
                  <a:lnTo>
                    <a:pt x="527" y="27"/>
                  </a:lnTo>
                  <a:lnTo>
                    <a:pt x="388" y="105"/>
                  </a:lnTo>
                  <a:lnTo>
                    <a:pt x="293" y="220"/>
                  </a:lnTo>
                  <a:lnTo>
                    <a:pt x="263" y="308"/>
                  </a:lnTo>
                  <a:lnTo>
                    <a:pt x="254" y="323"/>
                  </a:lnTo>
                  <a:lnTo>
                    <a:pt x="269" y="429"/>
                  </a:lnTo>
                  <a:lnTo>
                    <a:pt x="260" y="441"/>
                  </a:lnTo>
                  <a:lnTo>
                    <a:pt x="284" y="562"/>
                  </a:lnTo>
                  <a:lnTo>
                    <a:pt x="30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971720" y="5065560"/>
              <a:ext cx="259200" cy="292320"/>
            </a:xfrm>
            <a:custGeom>
              <a:avLst/>
              <a:gdLst/>
              <a:ahLst/>
              <a:rect l="0" t="0" r="r" b="b"/>
              <a:pathLst>
                <a:path w="720" h="812">
                  <a:moveTo>
                    <a:pt x="38" y="654"/>
                  </a:moveTo>
                  <a:lnTo>
                    <a:pt x="0" y="533"/>
                  </a:lnTo>
                  <a:lnTo>
                    <a:pt x="0" y="427"/>
                  </a:lnTo>
                  <a:lnTo>
                    <a:pt x="20" y="284"/>
                  </a:lnTo>
                  <a:lnTo>
                    <a:pt x="103" y="157"/>
                  </a:lnTo>
                  <a:lnTo>
                    <a:pt x="219" y="66"/>
                  </a:lnTo>
                  <a:lnTo>
                    <a:pt x="350" y="15"/>
                  </a:lnTo>
                  <a:lnTo>
                    <a:pt x="456" y="0"/>
                  </a:lnTo>
                  <a:lnTo>
                    <a:pt x="561" y="24"/>
                  </a:lnTo>
                  <a:lnTo>
                    <a:pt x="649" y="66"/>
                  </a:lnTo>
                  <a:lnTo>
                    <a:pt x="705" y="160"/>
                  </a:lnTo>
                  <a:lnTo>
                    <a:pt x="720" y="293"/>
                  </a:lnTo>
                  <a:lnTo>
                    <a:pt x="705" y="427"/>
                  </a:lnTo>
                  <a:lnTo>
                    <a:pt x="655" y="564"/>
                  </a:lnTo>
                  <a:lnTo>
                    <a:pt x="596" y="679"/>
                  </a:lnTo>
                  <a:lnTo>
                    <a:pt x="506" y="760"/>
                  </a:lnTo>
                  <a:lnTo>
                    <a:pt x="421" y="800"/>
                  </a:lnTo>
                  <a:lnTo>
                    <a:pt x="276" y="812"/>
                  </a:lnTo>
                  <a:lnTo>
                    <a:pt x="171" y="773"/>
                  </a:lnTo>
                  <a:lnTo>
                    <a:pt x="88" y="742"/>
                  </a:lnTo>
                  <a:lnTo>
                    <a:pt x="38" y="6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957320" y="5054760"/>
              <a:ext cx="282960" cy="311400"/>
            </a:xfrm>
            <a:custGeom>
              <a:avLst/>
              <a:gdLst/>
              <a:ahLst/>
              <a:rect l="0" t="0" r="r" b="b"/>
              <a:pathLst>
                <a:path w="786" h="865">
                  <a:moveTo>
                    <a:pt x="0" y="415"/>
                  </a:moveTo>
                  <a:lnTo>
                    <a:pt x="23" y="330"/>
                  </a:lnTo>
                  <a:lnTo>
                    <a:pt x="65" y="242"/>
                  </a:lnTo>
                  <a:lnTo>
                    <a:pt x="133" y="154"/>
                  </a:lnTo>
                  <a:lnTo>
                    <a:pt x="232" y="75"/>
                  </a:lnTo>
                  <a:lnTo>
                    <a:pt x="336" y="21"/>
                  </a:lnTo>
                  <a:lnTo>
                    <a:pt x="441" y="0"/>
                  </a:lnTo>
                  <a:lnTo>
                    <a:pt x="521" y="3"/>
                  </a:lnTo>
                  <a:lnTo>
                    <a:pt x="602" y="18"/>
                  </a:lnTo>
                  <a:lnTo>
                    <a:pt x="688" y="51"/>
                  </a:lnTo>
                  <a:lnTo>
                    <a:pt x="739" y="115"/>
                  </a:lnTo>
                  <a:lnTo>
                    <a:pt x="778" y="203"/>
                  </a:lnTo>
                  <a:lnTo>
                    <a:pt x="786" y="315"/>
                  </a:lnTo>
                  <a:lnTo>
                    <a:pt x="786" y="421"/>
                  </a:lnTo>
                  <a:lnTo>
                    <a:pt x="766" y="519"/>
                  </a:lnTo>
                  <a:lnTo>
                    <a:pt x="730" y="610"/>
                  </a:lnTo>
                  <a:lnTo>
                    <a:pt x="673" y="704"/>
                  </a:lnTo>
                  <a:lnTo>
                    <a:pt x="605" y="780"/>
                  </a:lnTo>
                  <a:lnTo>
                    <a:pt x="530" y="834"/>
                  </a:lnTo>
                  <a:lnTo>
                    <a:pt x="444" y="865"/>
                  </a:lnTo>
                  <a:lnTo>
                    <a:pt x="331" y="865"/>
                  </a:lnTo>
                  <a:lnTo>
                    <a:pt x="238" y="859"/>
                  </a:lnTo>
                  <a:lnTo>
                    <a:pt x="160" y="819"/>
                  </a:lnTo>
                  <a:lnTo>
                    <a:pt x="104" y="780"/>
                  </a:lnTo>
                  <a:lnTo>
                    <a:pt x="62" y="722"/>
                  </a:lnTo>
                  <a:lnTo>
                    <a:pt x="26" y="646"/>
                  </a:lnTo>
                  <a:lnTo>
                    <a:pt x="5" y="559"/>
                  </a:lnTo>
                  <a:lnTo>
                    <a:pt x="5" y="480"/>
                  </a:lnTo>
                  <a:lnTo>
                    <a:pt x="62" y="492"/>
                  </a:lnTo>
                  <a:lnTo>
                    <a:pt x="77" y="589"/>
                  </a:lnTo>
                  <a:lnTo>
                    <a:pt x="121" y="683"/>
                  </a:lnTo>
                  <a:lnTo>
                    <a:pt x="178" y="743"/>
                  </a:lnTo>
                  <a:lnTo>
                    <a:pt x="256" y="783"/>
                  </a:lnTo>
                  <a:lnTo>
                    <a:pt x="357" y="801"/>
                  </a:lnTo>
                  <a:lnTo>
                    <a:pt x="461" y="789"/>
                  </a:lnTo>
                  <a:lnTo>
                    <a:pt x="536" y="762"/>
                  </a:lnTo>
                  <a:lnTo>
                    <a:pt x="602" y="701"/>
                  </a:lnTo>
                  <a:lnTo>
                    <a:pt x="656" y="619"/>
                  </a:lnTo>
                  <a:lnTo>
                    <a:pt x="700" y="531"/>
                  </a:lnTo>
                  <a:lnTo>
                    <a:pt x="730" y="437"/>
                  </a:lnTo>
                  <a:lnTo>
                    <a:pt x="730" y="327"/>
                  </a:lnTo>
                  <a:lnTo>
                    <a:pt x="721" y="233"/>
                  </a:lnTo>
                  <a:lnTo>
                    <a:pt x="697" y="157"/>
                  </a:lnTo>
                  <a:lnTo>
                    <a:pt x="650" y="109"/>
                  </a:lnTo>
                  <a:lnTo>
                    <a:pt x="586" y="75"/>
                  </a:lnTo>
                  <a:lnTo>
                    <a:pt x="497" y="57"/>
                  </a:lnTo>
                  <a:lnTo>
                    <a:pt x="414" y="57"/>
                  </a:lnTo>
                  <a:lnTo>
                    <a:pt x="319" y="90"/>
                  </a:lnTo>
                  <a:lnTo>
                    <a:pt x="232" y="145"/>
                  </a:lnTo>
                  <a:lnTo>
                    <a:pt x="148" y="215"/>
                  </a:lnTo>
                  <a:lnTo>
                    <a:pt x="101" y="297"/>
                  </a:lnTo>
                  <a:lnTo>
                    <a:pt x="71" y="376"/>
                  </a:lnTo>
                  <a:lnTo>
                    <a:pt x="56" y="452"/>
                  </a:lnTo>
                  <a:lnTo>
                    <a:pt x="8" y="446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049480" y="5130720"/>
              <a:ext cx="49680" cy="51120"/>
            </a:xfrm>
            <a:custGeom>
              <a:avLst/>
              <a:gdLst/>
              <a:ahLst/>
              <a:rect l="0" t="0" r="r" b="b"/>
              <a:pathLst>
                <a:path w="138" h="142">
                  <a:moveTo>
                    <a:pt x="21" y="35"/>
                  </a:moveTo>
                  <a:lnTo>
                    <a:pt x="61" y="5"/>
                  </a:lnTo>
                  <a:lnTo>
                    <a:pt x="101" y="0"/>
                  </a:lnTo>
                  <a:lnTo>
                    <a:pt x="138" y="17"/>
                  </a:lnTo>
                  <a:lnTo>
                    <a:pt x="138" y="55"/>
                  </a:lnTo>
                  <a:lnTo>
                    <a:pt x="123" y="103"/>
                  </a:lnTo>
                  <a:lnTo>
                    <a:pt x="89" y="139"/>
                  </a:lnTo>
                  <a:lnTo>
                    <a:pt x="30" y="142"/>
                  </a:lnTo>
                  <a:lnTo>
                    <a:pt x="9" y="118"/>
                  </a:lnTo>
                  <a:lnTo>
                    <a:pt x="0" y="83"/>
                  </a:lnTo>
                  <a:lnTo>
                    <a:pt x="2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108160" y="5157720"/>
              <a:ext cx="47880" cy="49680"/>
            </a:xfrm>
            <a:custGeom>
              <a:avLst/>
              <a:gdLst/>
              <a:ahLst/>
              <a:rect l="0" t="0" r="r" b="b"/>
              <a:pathLst>
                <a:path w="133" h="138">
                  <a:moveTo>
                    <a:pt x="20" y="31"/>
                  </a:moveTo>
                  <a:lnTo>
                    <a:pt x="55" y="3"/>
                  </a:lnTo>
                  <a:lnTo>
                    <a:pt x="89" y="0"/>
                  </a:lnTo>
                  <a:lnTo>
                    <a:pt x="127" y="18"/>
                  </a:lnTo>
                  <a:lnTo>
                    <a:pt x="133" y="56"/>
                  </a:lnTo>
                  <a:lnTo>
                    <a:pt x="124" y="91"/>
                  </a:lnTo>
                  <a:lnTo>
                    <a:pt x="98" y="126"/>
                  </a:lnTo>
                  <a:lnTo>
                    <a:pt x="64" y="138"/>
                  </a:lnTo>
                  <a:lnTo>
                    <a:pt x="23" y="135"/>
                  </a:lnTo>
                  <a:lnTo>
                    <a:pt x="2" y="116"/>
                  </a:lnTo>
                  <a:lnTo>
                    <a:pt x="0" y="81"/>
                  </a:lnTo>
                  <a:lnTo>
                    <a:pt x="2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884240" y="5203800"/>
              <a:ext cx="174960" cy="38520"/>
            </a:xfrm>
            <a:custGeom>
              <a:avLst/>
              <a:gdLst/>
              <a:ahLst/>
              <a:rect l="0" t="0" r="r" b="b"/>
              <a:pathLst>
                <a:path w="486" h="107">
                  <a:moveTo>
                    <a:pt x="29" y="6"/>
                  </a:moveTo>
                  <a:lnTo>
                    <a:pt x="47" y="6"/>
                  </a:lnTo>
                  <a:lnTo>
                    <a:pt x="438" y="0"/>
                  </a:lnTo>
                  <a:lnTo>
                    <a:pt x="477" y="24"/>
                  </a:lnTo>
                  <a:lnTo>
                    <a:pt x="486" y="60"/>
                  </a:lnTo>
                  <a:lnTo>
                    <a:pt x="468" y="98"/>
                  </a:lnTo>
                  <a:lnTo>
                    <a:pt x="432" y="107"/>
                  </a:lnTo>
                  <a:lnTo>
                    <a:pt x="329" y="104"/>
                  </a:lnTo>
                  <a:lnTo>
                    <a:pt x="17" y="78"/>
                  </a:lnTo>
                  <a:lnTo>
                    <a:pt x="0" y="44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992240" y="5122800"/>
              <a:ext cx="235440" cy="224280"/>
            </a:xfrm>
            <a:custGeom>
              <a:avLst/>
              <a:gdLst/>
              <a:ahLst/>
              <a:rect l="0" t="0" r="r" b="b"/>
              <a:pathLst>
                <a:path w="654" h="623">
                  <a:moveTo>
                    <a:pt x="630" y="0"/>
                  </a:moveTo>
                  <a:lnTo>
                    <a:pt x="607" y="207"/>
                  </a:lnTo>
                  <a:lnTo>
                    <a:pt x="589" y="277"/>
                  </a:lnTo>
                  <a:lnTo>
                    <a:pt x="518" y="389"/>
                  </a:lnTo>
                  <a:lnTo>
                    <a:pt x="443" y="475"/>
                  </a:lnTo>
                  <a:lnTo>
                    <a:pt x="342" y="523"/>
                  </a:lnTo>
                  <a:lnTo>
                    <a:pt x="265" y="550"/>
                  </a:lnTo>
                  <a:lnTo>
                    <a:pt x="176" y="554"/>
                  </a:lnTo>
                  <a:lnTo>
                    <a:pt x="100" y="541"/>
                  </a:lnTo>
                  <a:lnTo>
                    <a:pt x="26" y="484"/>
                  </a:lnTo>
                  <a:lnTo>
                    <a:pt x="0" y="484"/>
                  </a:lnTo>
                  <a:lnTo>
                    <a:pt x="53" y="560"/>
                  </a:lnTo>
                  <a:lnTo>
                    <a:pt x="139" y="599"/>
                  </a:lnTo>
                  <a:lnTo>
                    <a:pt x="205" y="617"/>
                  </a:lnTo>
                  <a:lnTo>
                    <a:pt x="217" y="623"/>
                  </a:lnTo>
                  <a:lnTo>
                    <a:pt x="273" y="620"/>
                  </a:lnTo>
                  <a:lnTo>
                    <a:pt x="368" y="611"/>
                  </a:lnTo>
                  <a:lnTo>
                    <a:pt x="428" y="593"/>
                  </a:lnTo>
                  <a:lnTo>
                    <a:pt x="494" y="541"/>
                  </a:lnTo>
                  <a:lnTo>
                    <a:pt x="565" y="455"/>
                  </a:lnTo>
                  <a:lnTo>
                    <a:pt x="616" y="349"/>
                  </a:lnTo>
                  <a:lnTo>
                    <a:pt x="622" y="334"/>
                  </a:lnTo>
                  <a:lnTo>
                    <a:pt x="654" y="243"/>
                  </a:lnTo>
                  <a:lnTo>
                    <a:pt x="642" y="139"/>
                  </a:lnTo>
                  <a:lnTo>
                    <a:pt x="630" y="18"/>
                  </a:lnTo>
                  <a:lnTo>
                    <a:pt x="622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727280" y="5286240"/>
              <a:ext cx="160560" cy="120960"/>
            </a:xfrm>
            <a:custGeom>
              <a:avLst/>
              <a:gdLst/>
              <a:ahLst/>
              <a:rect l="0" t="0" r="r" b="b"/>
              <a:pathLst>
                <a:path w="446" h="336">
                  <a:moveTo>
                    <a:pt x="419" y="264"/>
                  </a:moveTo>
                  <a:lnTo>
                    <a:pt x="250" y="149"/>
                  </a:lnTo>
                  <a:lnTo>
                    <a:pt x="163" y="89"/>
                  </a:lnTo>
                  <a:lnTo>
                    <a:pt x="145" y="41"/>
                  </a:lnTo>
                  <a:lnTo>
                    <a:pt x="139" y="0"/>
                  </a:lnTo>
                  <a:lnTo>
                    <a:pt x="92" y="5"/>
                  </a:lnTo>
                  <a:lnTo>
                    <a:pt x="65" y="35"/>
                  </a:lnTo>
                  <a:lnTo>
                    <a:pt x="92" y="107"/>
                  </a:lnTo>
                  <a:lnTo>
                    <a:pt x="83" y="140"/>
                  </a:lnTo>
                  <a:lnTo>
                    <a:pt x="53" y="167"/>
                  </a:lnTo>
                  <a:lnTo>
                    <a:pt x="0" y="198"/>
                  </a:lnTo>
                  <a:lnTo>
                    <a:pt x="0" y="234"/>
                  </a:lnTo>
                  <a:lnTo>
                    <a:pt x="26" y="261"/>
                  </a:lnTo>
                  <a:lnTo>
                    <a:pt x="71" y="273"/>
                  </a:lnTo>
                  <a:lnTo>
                    <a:pt x="100" y="234"/>
                  </a:lnTo>
                  <a:lnTo>
                    <a:pt x="139" y="195"/>
                  </a:lnTo>
                  <a:lnTo>
                    <a:pt x="178" y="195"/>
                  </a:lnTo>
                  <a:lnTo>
                    <a:pt x="253" y="228"/>
                  </a:lnTo>
                  <a:lnTo>
                    <a:pt x="410" y="336"/>
                  </a:lnTo>
                  <a:lnTo>
                    <a:pt x="446" y="291"/>
                  </a:lnTo>
                  <a:lnTo>
                    <a:pt x="419" y="264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96920" y="5386320"/>
              <a:ext cx="57600" cy="55800"/>
            </a:xfrm>
            <a:custGeom>
              <a:avLst/>
              <a:gdLst/>
              <a:ahLst/>
              <a:rect l="0" t="0" r="r" b="b"/>
              <a:pathLst>
                <a:path w="160" h="155">
                  <a:moveTo>
                    <a:pt x="29" y="21"/>
                  </a:moveTo>
                  <a:lnTo>
                    <a:pt x="71" y="0"/>
                  </a:lnTo>
                  <a:lnTo>
                    <a:pt x="122" y="0"/>
                  </a:lnTo>
                  <a:lnTo>
                    <a:pt x="151" y="24"/>
                  </a:lnTo>
                  <a:lnTo>
                    <a:pt x="160" y="66"/>
                  </a:lnTo>
                  <a:lnTo>
                    <a:pt x="151" y="109"/>
                  </a:lnTo>
                  <a:lnTo>
                    <a:pt x="109" y="149"/>
                  </a:lnTo>
                  <a:lnTo>
                    <a:pt x="53" y="155"/>
                  </a:lnTo>
                  <a:lnTo>
                    <a:pt x="17" y="131"/>
                  </a:lnTo>
                  <a:lnTo>
                    <a:pt x="0" y="88"/>
                  </a:lnTo>
                  <a:lnTo>
                    <a:pt x="8" y="42"/>
                  </a:lnTo>
                  <a:lnTo>
                    <a:pt x="2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959120" y="5475240"/>
              <a:ext cx="51120" cy="60840"/>
            </a:xfrm>
            <a:custGeom>
              <a:avLst/>
              <a:gdLst/>
              <a:ahLst/>
              <a:rect l="0" t="0" r="r" b="b"/>
              <a:pathLst>
                <a:path w="142" h="169">
                  <a:moveTo>
                    <a:pt x="15" y="33"/>
                  </a:moveTo>
                  <a:lnTo>
                    <a:pt x="42" y="3"/>
                  </a:lnTo>
                  <a:lnTo>
                    <a:pt x="100" y="0"/>
                  </a:lnTo>
                  <a:lnTo>
                    <a:pt x="127" y="24"/>
                  </a:lnTo>
                  <a:lnTo>
                    <a:pt x="142" y="74"/>
                  </a:lnTo>
                  <a:lnTo>
                    <a:pt x="133" y="125"/>
                  </a:lnTo>
                  <a:lnTo>
                    <a:pt x="91" y="163"/>
                  </a:lnTo>
                  <a:lnTo>
                    <a:pt x="42" y="169"/>
                  </a:lnTo>
                  <a:lnTo>
                    <a:pt x="6" y="142"/>
                  </a:lnTo>
                  <a:lnTo>
                    <a:pt x="0" y="95"/>
                  </a:lnTo>
                  <a:lnTo>
                    <a:pt x="6" y="52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108160" y="5351400"/>
              <a:ext cx="154440" cy="276480"/>
            </a:xfrm>
            <a:custGeom>
              <a:avLst/>
              <a:gdLst/>
              <a:ahLst/>
              <a:rect l="0" t="0" r="r" b="b"/>
              <a:pathLst>
                <a:path w="429" h="768">
                  <a:moveTo>
                    <a:pt x="140" y="12"/>
                  </a:moveTo>
                  <a:lnTo>
                    <a:pt x="226" y="90"/>
                  </a:lnTo>
                  <a:lnTo>
                    <a:pt x="253" y="172"/>
                  </a:lnTo>
                  <a:lnTo>
                    <a:pt x="268" y="251"/>
                  </a:lnTo>
                  <a:lnTo>
                    <a:pt x="262" y="336"/>
                  </a:lnTo>
                  <a:lnTo>
                    <a:pt x="244" y="434"/>
                  </a:lnTo>
                  <a:lnTo>
                    <a:pt x="223" y="559"/>
                  </a:lnTo>
                  <a:lnTo>
                    <a:pt x="161" y="616"/>
                  </a:lnTo>
                  <a:lnTo>
                    <a:pt x="110" y="692"/>
                  </a:lnTo>
                  <a:lnTo>
                    <a:pt x="0" y="704"/>
                  </a:lnTo>
                  <a:lnTo>
                    <a:pt x="2" y="744"/>
                  </a:lnTo>
                  <a:lnTo>
                    <a:pt x="74" y="768"/>
                  </a:lnTo>
                  <a:lnTo>
                    <a:pt x="176" y="744"/>
                  </a:lnTo>
                  <a:lnTo>
                    <a:pt x="259" y="722"/>
                  </a:lnTo>
                  <a:lnTo>
                    <a:pt x="343" y="653"/>
                  </a:lnTo>
                  <a:lnTo>
                    <a:pt x="403" y="546"/>
                  </a:lnTo>
                  <a:lnTo>
                    <a:pt x="429" y="431"/>
                  </a:lnTo>
                  <a:lnTo>
                    <a:pt x="426" y="324"/>
                  </a:lnTo>
                  <a:lnTo>
                    <a:pt x="394" y="212"/>
                  </a:lnTo>
                  <a:lnTo>
                    <a:pt x="328" y="109"/>
                  </a:lnTo>
                  <a:lnTo>
                    <a:pt x="241" y="30"/>
                  </a:lnTo>
                  <a:lnTo>
                    <a:pt x="158" y="0"/>
                  </a:lnTo>
                  <a:lnTo>
                    <a:pt x="140" y="1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976400" y="5578560"/>
              <a:ext cx="49680" cy="52920"/>
            </a:xfrm>
            <a:custGeom>
              <a:avLst/>
              <a:gdLst/>
              <a:ahLst/>
              <a:rect l="0" t="0" r="r" b="b"/>
              <a:pathLst>
                <a:path w="138" h="147">
                  <a:moveTo>
                    <a:pt x="14" y="24"/>
                  </a:moveTo>
                  <a:lnTo>
                    <a:pt x="63" y="0"/>
                  </a:lnTo>
                  <a:lnTo>
                    <a:pt x="111" y="15"/>
                  </a:lnTo>
                  <a:lnTo>
                    <a:pt x="135" y="40"/>
                  </a:lnTo>
                  <a:lnTo>
                    <a:pt x="138" y="85"/>
                  </a:lnTo>
                  <a:lnTo>
                    <a:pt x="126" y="126"/>
                  </a:lnTo>
                  <a:lnTo>
                    <a:pt x="99" y="147"/>
                  </a:lnTo>
                  <a:lnTo>
                    <a:pt x="54" y="147"/>
                  </a:lnTo>
                  <a:lnTo>
                    <a:pt x="14" y="126"/>
                  </a:lnTo>
                  <a:lnTo>
                    <a:pt x="0" y="88"/>
                  </a:lnTo>
                  <a:lnTo>
                    <a:pt x="5" y="49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905120" y="5624640"/>
              <a:ext cx="427320" cy="386280"/>
            </a:xfrm>
            <a:custGeom>
              <a:avLst/>
              <a:gdLst/>
              <a:ahLst/>
              <a:rect l="0" t="0" r="r" b="b"/>
              <a:pathLst>
                <a:path w="1187" h="1073">
                  <a:moveTo>
                    <a:pt x="1011" y="0"/>
                  </a:moveTo>
                  <a:lnTo>
                    <a:pt x="1115" y="102"/>
                  </a:lnTo>
                  <a:lnTo>
                    <a:pt x="1172" y="242"/>
                  </a:lnTo>
                  <a:lnTo>
                    <a:pt x="1187" y="376"/>
                  </a:lnTo>
                  <a:lnTo>
                    <a:pt x="1160" y="557"/>
                  </a:lnTo>
                  <a:lnTo>
                    <a:pt x="1103" y="736"/>
                  </a:lnTo>
                  <a:lnTo>
                    <a:pt x="1002" y="879"/>
                  </a:lnTo>
                  <a:lnTo>
                    <a:pt x="812" y="994"/>
                  </a:lnTo>
                  <a:lnTo>
                    <a:pt x="800" y="997"/>
                  </a:lnTo>
                  <a:lnTo>
                    <a:pt x="625" y="1061"/>
                  </a:lnTo>
                  <a:lnTo>
                    <a:pt x="386" y="1073"/>
                  </a:lnTo>
                  <a:lnTo>
                    <a:pt x="172" y="1061"/>
                  </a:lnTo>
                  <a:lnTo>
                    <a:pt x="0" y="994"/>
                  </a:lnTo>
                  <a:lnTo>
                    <a:pt x="196" y="997"/>
                  </a:lnTo>
                  <a:lnTo>
                    <a:pt x="365" y="994"/>
                  </a:lnTo>
                  <a:lnTo>
                    <a:pt x="538" y="946"/>
                  </a:lnTo>
                  <a:lnTo>
                    <a:pt x="696" y="891"/>
                  </a:lnTo>
                  <a:lnTo>
                    <a:pt x="791" y="831"/>
                  </a:lnTo>
                  <a:lnTo>
                    <a:pt x="889" y="754"/>
                  </a:lnTo>
                  <a:lnTo>
                    <a:pt x="964" y="660"/>
                  </a:lnTo>
                  <a:lnTo>
                    <a:pt x="1035" y="548"/>
                  </a:lnTo>
                  <a:lnTo>
                    <a:pt x="1065" y="442"/>
                  </a:lnTo>
                  <a:lnTo>
                    <a:pt x="1086" y="300"/>
                  </a:lnTo>
                  <a:lnTo>
                    <a:pt x="1056" y="142"/>
                  </a:lnTo>
                  <a:lnTo>
                    <a:pt x="1017" y="45"/>
                  </a:lnTo>
                  <a:lnTo>
                    <a:pt x="101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174760" y="5275440"/>
              <a:ext cx="381240" cy="167040"/>
            </a:xfrm>
            <a:custGeom>
              <a:avLst/>
              <a:gdLst/>
              <a:ahLst/>
              <a:rect l="0" t="0" r="r" b="b"/>
              <a:pathLst>
                <a:path w="1059" h="464">
                  <a:moveTo>
                    <a:pt x="142" y="351"/>
                  </a:moveTo>
                  <a:lnTo>
                    <a:pt x="65" y="397"/>
                  </a:lnTo>
                  <a:lnTo>
                    <a:pt x="0" y="418"/>
                  </a:lnTo>
                  <a:lnTo>
                    <a:pt x="0" y="445"/>
                  </a:lnTo>
                  <a:lnTo>
                    <a:pt x="47" y="464"/>
                  </a:lnTo>
                  <a:lnTo>
                    <a:pt x="104" y="454"/>
                  </a:lnTo>
                  <a:lnTo>
                    <a:pt x="208" y="418"/>
                  </a:lnTo>
                  <a:lnTo>
                    <a:pt x="395" y="351"/>
                  </a:lnTo>
                  <a:lnTo>
                    <a:pt x="583" y="308"/>
                  </a:lnTo>
                  <a:lnTo>
                    <a:pt x="708" y="278"/>
                  </a:lnTo>
                  <a:lnTo>
                    <a:pt x="815" y="287"/>
                  </a:lnTo>
                  <a:lnTo>
                    <a:pt x="895" y="299"/>
                  </a:lnTo>
                  <a:lnTo>
                    <a:pt x="990" y="326"/>
                  </a:lnTo>
                  <a:lnTo>
                    <a:pt x="1047" y="326"/>
                  </a:lnTo>
                  <a:lnTo>
                    <a:pt x="1059" y="293"/>
                  </a:lnTo>
                  <a:lnTo>
                    <a:pt x="1038" y="262"/>
                  </a:lnTo>
                  <a:lnTo>
                    <a:pt x="1011" y="244"/>
                  </a:lnTo>
                  <a:lnTo>
                    <a:pt x="943" y="231"/>
                  </a:lnTo>
                  <a:lnTo>
                    <a:pt x="872" y="219"/>
                  </a:lnTo>
                  <a:lnTo>
                    <a:pt x="863" y="194"/>
                  </a:lnTo>
                  <a:lnTo>
                    <a:pt x="886" y="164"/>
                  </a:lnTo>
                  <a:lnTo>
                    <a:pt x="937" y="146"/>
                  </a:lnTo>
                  <a:lnTo>
                    <a:pt x="999" y="97"/>
                  </a:lnTo>
                  <a:lnTo>
                    <a:pt x="1014" y="36"/>
                  </a:lnTo>
                  <a:lnTo>
                    <a:pt x="967" y="0"/>
                  </a:lnTo>
                  <a:lnTo>
                    <a:pt x="937" y="18"/>
                  </a:lnTo>
                  <a:lnTo>
                    <a:pt x="916" y="67"/>
                  </a:lnTo>
                  <a:lnTo>
                    <a:pt x="863" y="115"/>
                  </a:lnTo>
                  <a:lnTo>
                    <a:pt x="794" y="155"/>
                  </a:lnTo>
                  <a:lnTo>
                    <a:pt x="738" y="191"/>
                  </a:lnTo>
                  <a:lnTo>
                    <a:pt x="607" y="228"/>
                  </a:lnTo>
                  <a:lnTo>
                    <a:pt x="484" y="250"/>
                  </a:lnTo>
                  <a:lnTo>
                    <a:pt x="356" y="287"/>
                  </a:lnTo>
                  <a:lnTo>
                    <a:pt x="225" y="326"/>
                  </a:lnTo>
                  <a:lnTo>
                    <a:pt x="142" y="351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2023920" y="4854600"/>
              <a:ext cx="284400" cy="313200"/>
              <a:chOff x="2023920" y="4854600"/>
              <a:chExt cx="284400" cy="313200"/>
            </a:xfrm>
          </p:grpSpPr>
          <p:sp>
            <p:nvSpPr>
              <p:cNvPr id="1222" name=""/>
              <p:cNvSpPr/>
              <p:nvPr/>
            </p:nvSpPr>
            <p:spPr>
              <a:xfrm>
                <a:off x="2066760" y="4865760"/>
                <a:ext cx="221040" cy="233640"/>
              </a:xfrm>
              <a:custGeom>
                <a:avLst/>
                <a:gdLst/>
                <a:ahLst/>
                <a:rect l="0" t="0" r="r" b="b"/>
                <a:pathLst>
                  <a:path w="614" h="649">
                    <a:moveTo>
                      <a:pt x="453" y="649"/>
                    </a:moveTo>
                    <a:lnTo>
                      <a:pt x="480" y="421"/>
                    </a:lnTo>
                    <a:lnTo>
                      <a:pt x="531" y="271"/>
                    </a:lnTo>
                    <a:lnTo>
                      <a:pt x="592" y="142"/>
                    </a:lnTo>
                    <a:lnTo>
                      <a:pt x="614" y="81"/>
                    </a:lnTo>
                    <a:lnTo>
                      <a:pt x="456" y="33"/>
                    </a:lnTo>
                    <a:lnTo>
                      <a:pt x="289" y="0"/>
                    </a:lnTo>
                    <a:lnTo>
                      <a:pt x="102" y="10"/>
                    </a:lnTo>
                    <a:lnTo>
                      <a:pt x="12" y="40"/>
                    </a:lnTo>
                    <a:lnTo>
                      <a:pt x="0" y="95"/>
                    </a:lnTo>
                    <a:lnTo>
                      <a:pt x="48" y="274"/>
                    </a:lnTo>
                    <a:lnTo>
                      <a:pt x="48" y="425"/>
                    </a:lnTo>
                    <a:lnTo>
                      <a:pt x="44" y="540"/>
                    </a:lnTo>
                    <a:lnTo>
                      <a:pt x="38" y="574"/>
                    </a:lnTo>
                    <a:lnTo>
                      <a:pt x="273" y="577"/>
                    </a:lnTo>
                    <a:lnTo>
                      <a:pt x="408" y="645"/>
                    </a:lnTo>
                    <a:lnTo>
                      <a:pt x="453" y="649"/>
                    </a:lnTo>
                    <a:close/>
                  </a:path>
                </a:pathLst>
              </a:custGeom>
              <a:blipFill rotWithShape="0">
                <a:blip r:embed="rId1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098800" y="5008680"/>
                <a:ext cx="154440" cy="79560"/>
              </a:xfrm>
              <a:custGeom>
                <a:avLst/>
                <a:gdLst/>
                <a:ahLst/>
                <a:rect l="0" t="0" r="r" b="b"/>
                <a:pathLst>
                  <a:path w="429" h="221">
                    <a:moveTo>
                      <a:pt x="29" y="0"/>
                    </a:moveTo>
                    <a:lnTo>
                      <a:pt x="154" y="0"/>
                    </a:lnTo>
                    <a:lnTo>
                      <a:pt x="278" y="29"/>
                    </a:lnTo>
                    <a:lnTo>
                      <a:pt x="429" y="100"/>
                    </a:lnTo>
                    <a:lnTo>
                      <a:pt x="420" y="221"/>
                    </a:lnTo>
                    <a:lnTo>
                      <a:pt x="263" y="143"/>
                    </a:lnTo>
                    <a:lnTo>
                      <a:pt x="133" y="100"/>
                    </a:lnTo>
                    <a:lnTo>
                      <a:pt x="0" y="104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052720" y="4854600"/>
                <a:ext cx="251280" cy="244800"/>
              </a:xfrm>
              <a:custGeom>
                <a:avLst/>
                <a:gdLst/>
                <a:ahLst/>
                <a:rect l="0" t="0" r="r" b="b"/>
                <a:pathLst>
                  <a:path w="698" h="680">
                    <a:moveTo>
                      <a:pt x="47" y="533"/>
                    </a:moveTo>
                    <a:lnTo>
                      <a:pt x="60" y="413"/>
                    </a:lnTo>
                    <a:lnTo>
                      <a:pt x="54" y="306"/>
                    </a:lnTo>
                    <a:lnTo>
                      <a:pt x="31" y="213"/>
                    </a:lnTo>
                    <a:lnTo>
                      <a:pt x="0" y="119"/>
                    </a:lnTo>
                    <a:lnTo>
                      <a:pt x="6" y="66"/>
                    </a:lnTo>
                    <a:lnTo>
                      <a:pt x="28" y="26"/>
                    </a:lnTo>
                    <a:lnTo>
                      <a:pt x="104" y="13"/>
                    </a:lnTo>
                    <a:lnTo>
                      <a:pt x="252" y="0"/>
                    </a:lnTo>
                    <a:lnTo>
                      <a:pt x="417" y="16"/>
                    </a:lnTo>
                    <a:lnTo>
                      <a:pt x="430" y="26"/>
                    </a:lnTo>
                    <a:lnTo>
                      <a:pt x="574" y="56"/>
                    </a:lnTo>
                    <a:lnTo>
                      <a:pt x="692" y="96"/>
                    </a:lnTo>
                    <a:lnTo>
                      <a:pt x="698" y="119"/>
                    </a:lnTo>
                    <a:lnTo>
                      <a:pt x="679" y="169"/>
                    </a:lnTo>
                    <a:lnTo>
                      <a:pt x="606" y="292"/>
                    </a:lnTo>
                    <a:lnTo>
                      <a:pt x="571" y="390"/>
                    </a:lnTo>
                    <a:lnTo>
                      <a:pt x="546" y="500"/>
                    </a:lnTo>
                    <a:lnTo>
                      <a:pt x="533" y="593"/>
                    </a:lnTo>
                    <a:lnTo>
                      <a:pt x="530" y="660"/>
                    </a:lnTo>
                    <a:lnTo>
                      <a:pt x="533" y="680"/>
                    </a:lnTo>
                    <a:lnTo>
                      <a:pt x="484" y="663"/>
                    </a:lnTo>
                    <a:lnTo>
                      <a:pt x="487" y="543"/>
                    </a:lnTo>
                    <a:lnTo>
                      <a:pt x="516" y="423"/>
                    </a:lnTo>
                    <a:lnTo>
                      <a:pt x="546" y="309"/>
                    </a:lnTo>
                    <a:lnTo>
                      <a:pt x="596" y="203"/>
                    </a:lnTo>
                    <a:lnTo>
                      <a:pt x="635" y="123"/>
                    </a:lnTo>
                    <a:lnTo>
                      <a:pt x="539" y="89"/>
                    </a:lnTo>
                    <a:lnTo>
                      <a:pt x="398" y="69"/>
                    </a:lnTo>
                    <a:lnTo>
                      <a:pt x="258" y="46"/>
                    </a:lnTo>
                    <a:lnTo>
                      <a:pt x="143" y="63"/>
                    </a:lnTo>
                    <a:lnTo>
                      <a:pt x="66" y="93"/>
                    </a:lnTo>
                    <a:lnTo>
                      <a:pt x="66" y="133"/>
                    </a:lnTo>
                    <a:lnTo>
                      <a:pt x="95" y="239"/>
                    </a:lnTo>
                    <a:lnTo>
                      <a:pt x="120" y="347"/>
                    </a:lnTo>
                    <a:lnTo>
                      <a:pt x="108" y="477"/>
                    </a:lnTo>
                    <a:lnTo>
                      <a:pt x="98" y="570"/>
                    </a:lnTo>
                    <a:lnTo>
                      <a:pt x="47" y="573"/>
                    </a:lnTo>
                    <a:lnTo>
                      <a:pt x="47" y="5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036880" y="5041800"/>
                <a:ext cx="259200" cy="113040"/>
              </a:xfrm>
              <a:custGeom>
                <a:avLst/>
                <a:gdLst/>
                <a:ahLst/>
                <a:rect l="0" t="0" r="r" b="b"/>
                <a:pathLst>
                  <a:path w="720" h="314">
                    <a:moveTo>
                      <a:pt x="87" y="29"/>
                    </a:moveTo>
                    <a:lnTo>
                      <a:pt x="210" y="0"/>
                    </a:lnTo>
                    <a:lnTo>
                      <a:pt x="315" y="16"/>
                    </a:lnTo>
                    <a:lnTo>
                      <a:pt x="454" y="56"/>
                    </a:lnTo>
                    <a:lnTo>
                      <a:pt x="552" y="99"/>
                    </a:lnTo>
                    <a:lnTo>
                      <a:pt x="653" y="153"/>
                    </a:lnTo>
                    <a:lnTo>
                      <a:pt x="712" y="214"/>
                    </a:lnTo>
                    <a:lnTo>
                      <a:pt x="717" y="230"/>
                    </a:lnTo>
                    <a:lnTo>
                      <a:pt x="720" y="267"/>
                    </a:lnTo>
                    <a:lnTo>
                      <a:pt x="700" y="307"/>
                    </a:lnTo>
                    <a:lnTo>
                      <a:pt x="656" y="314"/>
                    </a:lnTo>
                    <a:lnTo>
                      <a:pt x="592" y="277"/>
                    </a:lnTo>
                    <a:lnTo>
                      <a:pt x="478" y="197"/>
                    </a:lnTo>
                    <a:lnTo>
                      <a:pt x="361" y="153"/>
                    </a:lnTo>
                    <a:lnTo>
                      <a:pt x="248" y="133"/>
                    </a:lnTo>
                    <a:lnTo>
                      <a:pt x="165" y="139"/>
                    </a:lnTo>
                    <a:lnTo>
                      <a:pt x="64" y="143"/>
                    </a:lnTo>
                    <a:lnTo>
                      <a:pt x="11" y="136"/>
                    </a:lnTo>
                    <a:lnTo>
                      <a:pt x="0" y="93"/>
                    </a:lnTo>
                    <a:lnTo>
                      <a:pt x="37" y="59"/>
                    </a:lnTo>
                    <a:lnTo>
                      <a:pt x="87" y="29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023920" y="5032440"/>
                <a:ext cx="284400" cy="135360"/>
              </a:xfrm>
              <a:custGeom>
                <a:avLst/>
                <a:gdLst/>
                <a:ahLst/>
                <a:rect l="0" t="0" r="r" b="b"/>
                <a:pathLst>
                  <a:path w="790" h="376">
                    <a:moveTo>
                      <a:pt x="661" y="116"/>
                    </a:moveTo>
                    <a:lnTo>
                      <a:pt x="666" y="125"/>
                    </a:lnTo>
                    <a:lnTo>
                      <a:pt x="750" y="191"/>
                    </a:lnTo>
                    <a:lnTo>
                      <a:pt x="790" y="267"/>
                    </a:lnTo>
                    <a:lnTo>
                      <a:pt x="775" y="330"/>
                    </a:lnTo>
                    <a:lnTo>
                      <a:pt x="738" y="366"/>
                    </a:lnTo>
                    <a:lnTo>
                      <a:pt x="698" y="376"/>
                    </a:lnTo>
                    <a:lnTo>
                      <a:pt x="661" y="357"/>
                    </a:lnTo>
                    <a:lnTo>
                      <a:pt x="603" y="320"/>
                    </a:lnTo>
                    <a:lnTo>
                      <a:pt x="491" y="254"/>
                    </a:lnTo>
                    <a:lnTo>
                      <a:pt x="397" y="208"/>
                    </a:lnTo>
                    <a:lnTo>
                      <a:pt x="292" y="188"/>
                    </a:lnTo>
                    <a:lnTo>
                      <a:pt x="212" y="194"/>
                    </a:lnTo>
                    <a:lnTo>
                      <a:pt x="129" y="198"/>
                    </a:lnTo>
                    <a:lnTo>
                      <a:pt x="68" y="201"/>
                    </a:lnTo>
                    <a:lnTo>
                      <a:pt x="14" y="162"/>
                    </a:lnTo>
                    <a:lnTo>
                      <a:pt x="0" y="119"/>
                    </a:lnTo>
                    <a:lnTo>
                      <a:pt x="20" y="72"/>
                    </a:lnTo>
                    <a:lnTo>
                      <a:pt x="83" y="36"/>
                    </a:lnTo>
                    <a:lnTo>
                      <a:pt x="175" y="0"/>
                    </a:lnTo>
                    <a:lnTo>
                      <a:pt x="232" y="9"/>
                    </a:lnTo>
                    <a:lnTo>
                      <a:pt x="221" y="52"/>
                    </a:lnTo>
                    <a:lnTo>
                      <a:pt x="134" y="62"/>
                    </a:lnTo>
                    <a:lnTo>
                      <a:pt x="68" y="92"/>
                    </a:lnTo>
                    <a:lnTo>
                      <a:pt x="48" y="112"/>
                    </a:lnTo>
                    <a:lnTo>
                      <a:pt x="54" y="139"/>
                    </a:lnTo>
                    <a:lnTo>
                      <a:pt x="80" y="155"/>
                    </a:lnTo>
                    <a:lnTo>
                      <a:pt x="143" y="152"/>
                    </a:lnTo>
                    <a:lnTo>
                      <a:pt x="232" y="142"/>
                    </a:lnTo>
                    <a:lnTo>
                      <a:pt x="309" y="139"/>
                    </a:lnTo>
                    <a:lnTo>
                      <a:pt x="405" y="152"/>
                    </a:lnTo>
                    <a:lnTo>
                      <a:pt x="506" y="194"/>
                    </a:lnTo>
                    <a:lnTo>
                      <a:pt x="603" y="254"/>
                    </a:lnTo>
                    <a:lnTo>
                      <a:pt x="675" y="307"/>
                    </a:lnTo>
                    <a:lnTo>
                      <a:pt x="712" y="314"/>
                    </a:lnTo>
                    <a:lnTo>
                      <a:pt x="732" y="294"/>
                    </a:lnTo>
                    <a:lnTo>
                      <a:pt x="738" y="267"/>
                    </a:lnTo>
                    <a:lnTo>
                      <a:pt x="727" y="234"/>
                    </a:lnTo>
                    <a:lnTo>
                      <a:pt x="687" y="191"/>
                    </a:lnTo>
                    <a:lnTo>
                      <a:pt x="618" y="142"/>
                    </a:lnTo>
                    <a:lnTo>
                      <a:pt x="514" y="99"/>
                    </a:lnTo>
                    <a:lnTo>
                      <a:pt x="408" y="62"/>
                    </a:lnTo>
                    <a:lnTo>
                      <a:pt x="309" y="42"/>
                    </a:lnTo>
                    <a:lnTo>
                      <a:pt x="223" y="49"/>
                    </a:lnTo>
                    <a:lnTo>
                      <a:pt x="241" y="6"/>
                    </a:lnTo>
                    <a:lnTo>
                      <a:pt x="335" y="6"/>
                    </a:lnTo>
                    <a:lnTo>
                      <a:pt x="434" y="23"/>
                    </a:lnTo>
                    <a:lnTo>
                      <a:pt x="506" y="46"/>
                    </a:lnTo>
                    <a:lnTo>
                      <a:pt x="618" y="106"/>
                    </a:lnTo>
                    <a:lnTo>
                      <a:pt x="661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7" name=""/>
            <p:cNvSpPr/>
            <p:nvPr/>
          </p:nvSpPr>
          <p:spPr>
            <a:xfrm>
              <a:off x="1746360" y="5330880"/>
              <a:ext cx="601920" cy="689400"/>
            </a:xfrm>
            <a:custGeom>
              <a:avLst/>
              <a:gdLst/>
              <a:ahLst/>
              <a:rect l="0" t="0" r="r" b="b"/>
              <a:pathLst>
                <a:path w="1672" h="1915">
                  <a:moveTo>
                    <a:pt x="365" y="133"/>
                  </a:moveTo>
                  <a:lnTo>
                    <a:pt x="431" y="78"/>
                  </a:lnTo>
                  <a:lnTo>
                    <a:pt x="502" y="39"/>
                  </a:lnTo>
                  <a:lnTo>
                    <a:pt x="579" y="27"/>
                  </a:lnTo>
                  <a:lnTo>
                    <a:pt x="609" y="36"/>
                  </a:lnTo>
                  <a:lnTo>
                    <a:pt x="627" y="60"/>
                  </a:lnTo>
                  <a:lnTo>
                    <a:pt x="600" y="93"/>
                  </a:lnTo>
                  <a:lnTo>
                    <a:pt x="532" y="112"/>
                  </a:lnTo>
                  <a:lnTo>
                    <a:pt x="440" y="151"/>
                  </a:lnTo>
                  <a:lnTo>
                    <a:pt x="392" y="202"/>
                  </a:lnTo>
                  <a:lnTo>
                    <a:pt x="344" y="275"/>
                  </a:lnTo>
                  <a:lnTo>
                    <a:pt x="327" y="342"/>
                  </a:lnTo>
                  <a:lnTo>
                    <a:pt x="327" y="354"/>
                  </a:lnTo>
                  <a:lnTo>
                    <a:pt x="324" y="439"/>
                  </a:lnTo>
                  <a:lnTo>
                    <a:pt x="336" y="527"/>
                  </a:lnTo>
                  <a:lnTo>
                    <a:pt x="362" y="615"/>
                  </a:lnTo>
                  <a:lnTo>
                    <a:pt x="392" y="664"/>
                  </a:lnTo>
                  <a:lnTo>
                    <a:pt x="440" y="715"/>
                  </a:lnTo>
                  <a:lnTo>
                    <a:pt x="493" y="755"/>
                  </a:lnTo>
                  <a:lnTo>
                    <a:pt x="505" y="788"/>
                  </a:lnTo>
                  <a:lnTo>
                    <a:pt x="484" y="806"/>
                  </a:lnTo>
                  <a:lnTo>
                    <a:pt x="469" y="815"/>
                  </a:lnTo>
                  <a:lnTo>
                    <a:pt x="446" y="812"/>
                  </a:lnTo>
                  <a:lnTo>
                    <a:pt x="383" y="779"/>
                  </a:lnTo>
                  <a:lnTo>
                    <a:pt x="333" y="745"/>
                  </a:lnTo>
                  <a:lnTo>
                    <a:pt x="270" y="758"/>
                  </a:lnTo>
                  <a:lnTo>
                    <a:pt x="196" y="821"/>
                  </a:lnTo>
                  <a:lnTo>
                    <a:pt x="127" y="903"/>
                  </a:lnTo>
                  <a:lnTo>
                    <a:pt x="89" y="985"/>
                  </a:lnTo>
                  <a:lnTo>
                    <a:pt x="65" y="1079"/>
                  </a:lnTo>
                  <a:lnTo>
                    <a:pt x="56" y="1185"/>
                  </a:lnTo>
                  <a:lnTo>
                    <a:pt x="65" y="1284"/>
                  </a:lnTo>
                  <a:lnTo>
                    <a:pt x="83" y="1400"/>
                  </a:lnTo>
                  <a:lnTo>
                    <a:pt x="113" y="1507"/>
                  </a:lnTo>
                  <a:lnTo>
                    <a:pt x="154" y="1588"/>
                  </a:lnTo>
                  <a:lnTo>
                    <a:pt x="205" y="1631"/>
                  </a:lnTo>
                  <a:lnTo>
                    <a:pt x="276" y="1688"/>
                  </a:lnTo>
                  <a:lnTo>
                    <a:pt x="362" y="1746"/>
                  </a:lnTo>
                  <a:lnTo>
                    <a:pt x="449" y="1791"/>
                  </a:lnTo>
                  <a:lnTo>
                    <a:pt x="544" y="1828"/>
                  </a:lnTo>
                  <a:lnTo>
                    <a:pt x="639" y="1855"/>
                  </a:lnTo>
                  <a:lnTo>
                    <a:pt x="749" y="1858"/>
                  </a:lnTo>
                  <a:lnTo>
                    <a:pt x="890" y="1855"/>
                  </a:lnTo>
                  <a:lnTo>
                    <a:pt x="1023" y="1840"/>
                  </a:lnTo>
                  <a:lnTo>
                    <a:pt x="1139" y="1812"/>
                  </a:lnTo>
                  <a:lnTo>
                    <a:pt x="1235" y="1770"/>
                  </a:lnTo>
                  <a:lnTo>
                    <a:pt x="1339" y="1722"/>
                  </a:lnTo>
                  <a:lnTo>
                    <a:pt x="1431" y="1655"/>
                  </a:lnTo>
                  <a:lnTo>
                    <a:pt x="1502" y="1579"/>
                  </a:lnTo>
                  <a:lnTo>
                    <a:pt x="1550" y="1497"/>
                  </a:lnTo>
                  <a:lnTo>
                    <a:pt x="1580" y="1390"/>
                  </a:lnTo>
                  <a:lnTo>
                    <a:pt x="1597" y="1281"/>
                  </a:lnTo>
                  <a:lnTo>
                    <a:pt x="1606" y="1188"/>
                  </a:lnTo>
                  <a:lnTo>
                    <a:pt x="1597" y="1094"/>
                  </a:lnTo>
                  <a:lnTo>
                    <a:pt x="1571" y="1015"/>
                  </a:lnTo>
                  <a:lnTo>
                    <a:pt x="1541" y="939"/>
                  </a:lnTo>
                  <a:lnTo>
                    <a:pt x="1496" y="873"/>
                  </a:lnTo>
                  <a:lnTo>
                    <a:pt x="1446" y="803"/>
                  </a:lnTo>
                  <a:lnTo>
                    <a:pt x="1419" y="773"/>
                  </a:lnTo>
                  <a:lnTo>
                    <a:pt x="1380" y="730"/>
                  </a:lnTo>
                  <a:lnTo>
                    <a:pt x="1336" y="706"/>
                  </a:lnTo>
                  <a:lnTo>
                    <a:pt x="1318" y="673"/>
                  </a:lnTo>
                  <a:lnTo>
                    <a:pt x="1333" y="649"/>
                  </a:lnTo>
                  <a:lnTo>
                    <a:pt x="1365" y="615"/>
                  </a:lnTo>
                  <a:lnTo>
                    <a:pt x="1401" y="555"/>
                  </a:lnTo>
                  <a:lnTo>
                    <a:pt x="1410" y="482"/>
                  </a:lnTo>
                  <a:lnTo>
                    <a:pt x="1413" y="393"/>
                  </a:lnTo>
                  <a:lnTo>
                    <a:pt x="1392" y="308"/>
                  </a:lnTo>
                  <a:lnTo>
                    <a:pt x="1371" y="257"/>
                  </a:lnTo>
                  <a:lnTo>
                    <a:pt x="1336" y="202"/>
                  </a:lnTo>
                  <a:lnTo>
                    <a:pt x="1282" y="160"/>
                  </a:lnTo>
                  <a:lnTo>
                    <a:pt x="1252" y="124"/>
                  </a:lnTo>
                  <a:lnTo>
                    <a:pt x="1193" y="93"/>
                  </a:lnTo>
                  <a:lnTo>
                    <a:pt x="1139" y="78"/>
                  </a:lnTo>
                  <a:lnTo>
                    <a:pt x="1092" y="66"/>
                  </a:lnTo>
                  <a:lnTo>
                    <a:pt x="1098" y="45"/>
                  </a:lnTo>
                  <a:lnTo>
                    <a:pt x="1163" y="18"/>
                  </a:lnTo>
                  <a:lnTo>
                    <a:pt x="1196" y="0"/>
                  </a:lnTo>
                  <a:lnTo>
                    <a:pt x="1276" y="60"/>
                  </a:lnTo>
                  <a:lnTo>
                    <a:pt x="1354" y="124"/>
                  </a:lnTo>
                  <a:lnTo>
                    <a:pt x="1404" y="190"/>
                  </a:lnTo>
                  <a:lnTo>
                    <a:pt x="1446" y="269"/>
                  </a:lnTo>
                  <a:lnTo>
                    <a:pt x="1470" y="366"/>
                  </a:lnTo>
                  <a:lnTo>
                    <a:pt x="1478" y="439"/>
                  </a:lnTo>
                  <a:lnTo>
                    <a:pt x="1476" y="524"/>
                  </a:lnTo>
                  <a:lnTo>
                    <a:pt x="1452" y="597"/>
                  </a:lnTo>
                  <a:lnTo>
                    <a:pt x="1422" y="652"/>
                  </a:lnTo>
                  <a:lnTo>
                    <a:pt x="1419" y="679"/>
                  </a:lnTo>
                  <a:lnTo>
                    <a:pt x="1440" y="706"/>
                  </a:lnTo>
                  <a:lnTo>
                    <a:pt x="1508" y="779"/>
                  </a:lnTo>
                  <a:lnTo>
                    <a:pt x="1571" y="870"/>
                  </a:lnTo>
                  <a:lnTo>
                    <a:pt x="1615" y="948"/>
                  </a:lnTo>
                  <a:lnTo>
                    <a:pt x="1654" y="1027"/>
                  </a:lnTo>
                  <a:lnTo>
                    <a:pt x="1672" y="1127"/>
                  </a:lnTo>
                  <a:lnTo>
                    <a:pt x="1672" y="1224"/>
                  </a:lnTo>
                  <a:lnTo>
                    <a:pt x="1657" y="1321"/>
                  </a:lnTo>
                  <a:lnTo>
                    <a:pt x="1627" y="1437"/>
                  </a:lnTo>
                  <a:lnTo>
                    <a:pt x="1597" y="1540"/>
                  </a:lnTo>
                  <a:lnTo>
                    <a:pt x="1544" y="1628"/>
                  </a:lnTo>
                  <a:lnTo>
                    <a:pt x="1493" y="1688"/>
                  </a:lnTo>
                  <a:lnTo>
                    <a:pt x="1419" y="1755"/>
                  </a:lnTo>
                  <a:lnTo>
                    <a:pt x="1327" y="1803"/>
                  </a:lnTo>
                  <a:lnTo>
                    <a:pt x="1226" y="1846"/>
                  </a:lnTo>
                  <a:lnTo>
                    <a:pt x="1136" y="1876"/>
                  </a:lnTo>
                  <a:lnTo>
                    <a:pt x="1041" y="1903"/>
                  </a:lnTo>
                  <a:lnTo>
                    <a:pt x="896" y="1912"/>
                  </a:lnTo>
                  <a:lnTo>
                    <a:pt x="734" y="1915"/>
                  </a:lnTo>
                  <a:lnTo>
                    <a:pt x="591" y="1915"/>
                  </a:lnTo>
                  <a:lnTo>
                    <a:pt x="469" y="1879"/>
                  </a:lnTo>
                  <a:lnTo>
                    <a:pt x="344" y="1803"/>
                  </a:lnTo>
                  <a:lnTo>
                    <a:pt x="214" y="1722"/>
                  </a:lnTo>
                  <a:lnTo>
                    <a:pt x="118" y="1637"/>
                  </a:lnTo>
                  <a:lnTo>
                    <a:pt x="56" y="1552"/>
                  </a:lnTo>
                  <a:lnTo>
                    <a:pt x="32" y="1437"/>
                  </a:lnTo>
                  <a:lnTo>
                    <a:pt x="5" y="1324"/>
                  </a:lnTo>
                  <a:lnTo>
                    <a:pt x="0" y="1224"/>
                  </a:lnTo>
                  <a:lnTo>
                    <a:pt x="0" y="1103"/>
                  </a:lnTo>
                  <a:lnTo>
                    <a:pt x="35" y="988"/>
                  </a:lnTo>
                  <a:lnTo>
                    <a:pt x="65" y="897"/>
                  </a:lnTo>
                  <a:lnTo>
                    <a:pt x="139" y="785"/>
                  </a:lnTo>
                  <a:lnTo>
                    <a:pt x="231" y="700"/>
                  </a:lnTo>
                  <a:lnTo>
                    <a:pt x="270" y="652"/>
                  </a:lnTo>
                  <a:lnTo>
                    <a:pt x="279" y="603"/>
                  </a:lnTo>
                  <a:lnTo>
                    <a:pt x="279" y="533"/>
                  </a:lnTo>
                  <a:lnTo>
                    <a:pt x="258" y="448"/>
                  </a:lnTo>
                  <a:lnTo>
                    <a:pt x="258" y="357"/>
                  </a:lnTo>
                  <a:lnTo>
                    <a:pt x="276" y="269"/>
                  </a:lnTo>
                  <a:lnTo>
                    <a:pt x="306" y="202"/>
                  </a:lnTo>
                  <a:lnTo>
                    <a:pt x="339" y="163"/>
                  </a:lnTo>
                  <a:lnTo>
                    <a:pt x="3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28" name="" descr=""/>
          <p:cNvPicPr/>
          <p:nvPr/>
        </p:nvPicPr>
        <p:blipFill>
          <a:blip r:embed="rId4"/>
          <a:stretch/>
        </p:blipFill>
        <p:spPr>
          <a:xfrm>
            <a:off x="5029200" y="5207040"/>
            <a:ext cx="353880" cy="654120"/>
          </a:xfrm>
          <a:prstGeom prst="rect">
            <a:avLst/>
          </a:prstGeom>
          <a:ln w="0">
            <a:noFill/>
          </a:ln>
        </p:spPr>
      </p:pic>
      <p:grpSp>
        <p:nvGrpSpPr>
          <p:cNvPr id="1229" name=""/>
          <p:cNvGrpSpPr/>
          <p:nvPr/>
        </p:nvGrpSpPr>
        <p:grpSpPr>
          <a:xfrm>
            <a:off x="2628720" y="2387520"/>
            <a:ext cx="2139120" cy="3923280"/>
            <a:chOff x="2628720" y="2387520"/>
            <a:chExt cx="2139120" cy="3923280"/>
          </a:xfrm>
        </p:grpSpPr>
        <p:sp>
          <p:nvSpPr>
            <p:cNvPr id="1230" name=""/>
            <p:cNvSpPr/>
            <p:nvPr/>
          </p:nvSpPr>
          <p:spPr>
            <a:xfrm>
              <a:off x="2727360" y="3784680"/>
              <a:ext cx="1020960" cy="1035360"/>
            </a:xfrm>
            <a:custGeom>
              <a:avLst/>
              <a:gdLst/>
              <a:ahLst/>
              <a:rect l="0" t="0" r="r" b="b"/>
              <a:pathLst>
                <a:path w="2836" h="2876">
                  <a:moveTo>
                    <a:pt x="2442" y="181"/>
                  </a:moveTo>
                  <a:lnTo>
                    <a:pt x="2273" y="58"/>
                  </a:lnTo>
                  <a:lnTo>
                    <a:pt x="1949" y="0"/>
                  </a:lnTo>
                  <a:lnTo>
                    <a:pt x="1549" y="213"/>
                  </a:lnTo>
                  <a:lnTo>
                    <a:pt x="956" y="453"/>
                  </a:lnTo>
                  <a:lnTo>
                    <a:pt x="498" y="874"/>
                  </a:lnTo>
                  <a:lnTo>
                    <a:pt x="133" y="1392"/>
                  </a:lnTo>
                  <a:lnTo>
                    <a:pt x="0" y="1697"/>
                  </a:lnTo>
                  <a:lnTo>
                    <a:pt x="34" y="1846"/>
                  </a:lnTo>
                  <a:lnTo>
                    <a:pt x="330" y="2028"/>
                  </a:lnTo>
                  <a:lnTo>
                    <a:pt x="1026" y="2118"/>
                  </a:lnTo>
                  <a:lnTo>
                    <a:pt x="1781" y="2086"/>
                  </a:lnTo>
                  <a:lnTo>
                    <a:pt x="2076" y="2209"/>
                  </a:lnTo>
                  <a:lnTo>
                    <a:pt x="2042" y="2417"/>
                  </a:lnTo>
                  <a:lnTo>
                    <a:pt x="1746" y="2721"/>
                  </a:lnTo>
                  <a:lnTo>
                    <a:pt x="1850" y="2785"/>
                  </a:lnTo>
                  <a:lnTo>
                    <a:pt x="2181" y="2481"/>
                  </a:lnTo>
                  <a:lnTo>
                    <a:pt x="2245" y="2513"/>
                  </a:lnTo>
                  <a:lnTo>
                    <a:pt x="2273" y="2876"/>
                  </a:lnTo>
                  <a:lnTo>
                    <a:pt x="2372" y="2876"/>
                  </a:lnTo>
                  <a:lnTo>
                    <a:pt x="2372" y="2454"/>
                  </a:lnTo>
                  <a:lnTo>
                    <a:pt x="2442" y="2417"/>
                  </a:lnTo>
                  <a:lnTo>
                    <a:pt x="2708" y="2662"/>
                  </a:lnTo>
                  <a:lnTo>
                    <a:pt x="2772" y="2572"/>
                  </a:lnTo>
                  <a:lnTo>
                    <a:pt x="2476" y="2332"/>
                  </a:lnTo>
                  <a:lnTo>
                    <a:pt x="2476" y="2241"/>
                  </a:lnTo>
                  <a:lnTo>
                    <a:pt x="2836" y="2086"/>
                  </a:lnTo>
                  <a:lnTo>
                    <a:pt x="2801" y="2028"/>
                  </a:lnTo>
                  <a:lnTo>
                    <a:pt x="2372" y="2086"/>
                  </a:lnTo>
                  <a:lnTo>
                    <a:pt x="2111" y="2028"/>
                  </a:lnTo>
                  <a:lnTo>
                    <a:pt x="1850" y="1937"/>
                  </a:lnTo>
                  <a:lnTo>
                    <a:pt x="1514" y="1910"/>
                  </a:lnTo>
                  <a:lnTo>
                    <a:pt x="1090" y="1878"/>
                  </a:lnTo>
                  <a:lnTo>
                    <a:pt x="661" y="1814"/>
                  </a:lnTo>
                  <a:lnTo>
                    <a:pt x="394" y="1665"/>
                  </a:lnTo>
                  <a:lnTo>
                    <a:pt x="394" y="1569"/>
                  </a:lnTo>
                  <a:lnTo>
                    <a:pt x="591" y="1301"/>
                  </a:lnTo>
                  <a:lnTo>
                    <a:pt x="956" y="1061"/>
                  </a:lnTo>
                  <a:lnTo>
                    <a:pt x="1351" y="874"/>
                  </a:lnTo>
                  <a:lnTo>
                    <a:pt x="1978" y="725"/>
                  </a:lnTo>
                  <a:lnTo>
                    <a:pt x="2337" y="544"/>
                  </a:lnTo>
                  <a:lnTo>
                    <a:pt x="2442" y="181"/>
                  </a:lnTo>
                  <a:close/>
                </a:path>
              </a:pathLst>
            </a:custGeom>
            <a:solidFill>
              <a:srgbClr val="66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321000" y="2727360"/>
              <a:ext cx="1235520" cy="1070280"/>
            </a:xfrm>
            <a:custGeom>
              <a:avLst/>
              <a:gdLst/>
              <a:ahLst/>
              <a:rect l="0" t="0" r="r" b="b"/>
              <a:pathLst>
                <a:path w="3432" h="2973">
                  <a:moveTo>
                    <a:pt x="1374" y="2552"/>
                  </a:moveTo>
                  <a:lnTo>
                    <a:pt x="1739" y="2387"/>
                  </a:lnTo>
                  <a:lnTo>
                    <a:pt x="2394" y="2312"/>
                  </a:lnTo>
                  <a:lnTo>
                    <a:pt x="2772" y="2184"/>
                  </a:lnTo>
                  <a:lnTo>
                    <a:pt x="2957" y="1977"/>
                  </a:lnTo>
                  <a:lnTo>
                    <a:pt x="3021" y="1508"/>
                  </a:lnTo>
                  <a:lnTo>
                    <a:pt x="2969" y="1310"/>
                  </a:lnTo>
                  <a:lnTo>
                    <a:pt x="2627" y="1118"/>
                  </a:lnTo>
                  <a:lnTo>
                    <a:pt x="2203" y="964"/>
                  </a:lnTo>
                  <a:lnTo>
                    <a:pt x="1687" y="964"/>
                  </a:lnTo>
                  <a:lnTo>
                    <a:pt x="1148" y="1022"/>
                  </a:lnTo>
                  <a:lnTo>
                    <a:pt x="997" y="916"/>
                  </a:lnTo>
                  <a:lnTo>
                    <a:pt x="846" y="633"/>
                  </a:lnTo>
                  <a:lnTo>
                    <a:pt x="550" y="468"/>
                  </a:lnTo>
                  <a:lnTo>
                    <a:pt x="254" y="468"/>
                  </a:lnTo>
                  <a:lnTo>
                    <a:pt x="63" y="527"/>
                  </a:lnTo>
                  <a:lnTo>
                    <a:pt x="0" y="372"/>
                  </a:lnTo>
                  <a:lnTo>
                    <a:pt x="162" y="26"/>
                  </a:lnTo>
                  <a:lnTo>
                    <a:pt x="359" y="0"/>
                  </a:lnTo>
                  <a:lnTo>
                    <a:pt x="718" y="207"/>
                  </a:lnTo>
                  <a:lnTo>
                    <a:pt x="951" y="388"/>
                  </a:lnTo>
                  <a:lnTo>
                    <a:pt x="1160" y="692"/>
                  </a:lnTo>
                  <a:lnTo>
                    <a:pt x="1212" y="798"/>
                  </a:lnTo>
                  <a:lnTo>
                    <a:pt x="1623" y="719"/>
                  </a:lnTo>
                  <a:lnTo>
                    <a:pt x="2185" y="692"/>
                  </a:lnTo>
                  <a:lnTo>
                    <a:pt x="2662" y="782"/>
                  </a:lnTo>
                  <a:lnTo>
                    <a:pt x="3067" y="964"/>
                  </a:lnTo>
                  <a:lnTo>
                    <a:pt x="3363" y="1219"/>
                  </a:lnTo>
                  <a:lnTo>
                    <a:pt x="3432" y="1416"/>
                  </a:lnTo>
                  <a:lnTo>
                    <a:pt x="3334" y="1966"/>
                  </a:lnTo>
                  <a:lnTo>
                    <a:pt x="3102" y="2371"/>
                  </a:lnTo>
                  <a:lnTo>
                    <a:pt x="2475" y="2776"/>
                  </a:lnTo>
                  <a:lnTo>
                    <a:pt x="1785" y="2973"/>
                  </a:lnTo>
                  <a:lnTo>
                    <a:pt x="1426" y="2946"/>
                  </a:lnTo>
                  <a:lnTo>
                    <a:pt x="1310" y="2760"/>
                  </a:lnTo>
                  <a:lnTo>
                    <a:pt x="1374" y="2552"/>
                  </a:lnTo>
                  <a:close/>
                </a:path>
              </a:pathLst>
            </a:custGeom>
            <a:solidFill>
              <a:srgbClr val="66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959280" y="4853160"/>
              <a:ext cx="808560" cy="1337040"/>
            </a:xfrm>
            <a:custGeom>
              <a:avLst/>
              <a:gdLst/>
              <a:ahLst/>
              <a:rect l="0" t="0" r="r" b="b"/>
              <a:pathLst>
                <a:path w="2246" h="3714">
                  <a:moveTo>
                    <a:pt x="1253" y="452"/>
                  </a:moveTo>
                  <a:lnTo>
                    <a:pt x="795" y="90"/>
                  </a:lnTo>
                  <a:lnTo>
                    <a:pt x="330" y="0"/>
                  </a:lnTo>
                  <a:lnTo>
                    <a:pt x="0" y="239"/>
                  </a:lnTo>
                  <a:lnTo>
                    <a:pt x="266" y="574"/>
                  </a:lnTo>
                  <a:lnTo>
                    <a:pt x="662" y="723"/>
                  </a:lnTo>
                  <a:lnTo>
                    <a:pt x="1584" y="1208"/>
                  </a:lnTo>
                  <a:lnTo>
                    <a:pt x="1811" y="1357"/>
                  </a:lnTo>
                  <a:lnTo>
                    <a:pt x="1811" y="1511"/>
                  </a:lnTo>
                  <a:lnTo>
                    <a:pt x="1450" y="1841"/>
                  </a:lnTo>
                  <a:lnTo>
                    <a:pt x="824" y="2389"/>
                  </a:lnTo>
                  <a:lnTo>
                    <a:pt x="498" y="2810"/>
                  </a:lnTo>
                  <a:lnTo>
                    <a:pt x="498" y="2991"/>
                  </a:lnTo>
                  <a:lnTo>
                    <a:pt x="527" y="3081"/>
                  </a:lnTo>
                  <a:lnTo>
                    <a:pt x="824" y="3108"/>
                  </a:lnTo>
                  <a:lnTo>
                    <a:pt x="1323" y="3294"/>
                  </a:lnTo>
                  <a:lnTo>
                    <a:pt x="1653" y="3566"/>
                  </a:lnTo>
                  <a:lnTo>
                    <a:pt x="1881" y="3714"/>
                  </a:lnTo>
                  <a:lnTo>
                    <a:pt x="2014" y="3683"/>
                  </a:lnTo>
                  <a:lnTo>
                    <a:pt x="2211" y="3353"/>
                  </a:lnTo>
                  <a:lnTo>
                    <a:pt x="2043" y="3204"/>
                  </a:lnTo>
                  <a:lnTo>
                    <a:pt x="1514" y="3050"/>
                  </a:lnTo>
                  <a:lnTo>
                    <a:pt x="992" y="2933"/>
                  </a:lnTo>
                  <a:lnTo>
                    <a:pt x="760" y="2933"/>
                  </a:lnTo>
                  <a:lnTo>
                    <a:pt x="691" y="2874"/>
                  </a:lnTo>
                  <a:lnTo>
                    <a:pt x="824" y="2719"/>
                  </a:lnTo>
                  <a:lnTo>
                    <a:pt x="1189" y="2474"/>
                  </a:lnTo>
                  <a:lnTo>
                    <a:pt x="1682" y="2203"/>
                  </a:lnTo>
                  <a:lnTo>
                    <a:pt x="2113" y="1814"/>
                  </a:lnTo>
                  <a:lnTo>
                    <a:pt x="2246" y="1511"/>
                  </a:lnTo>
                  <a:lnTo>
                    <a:pt x="2182" y="1208"/>
                  </a:lnTo>
                  <a:lnTo>
                    <a:pt x="1852" y="877"/>
                  </a:lnTo>
                  <a:lnTo>
                    <a:pt x="1555" y="638"/>
                  </a:lnTo>
                  <a:lnTo>
                    <a:pt x="1253" y="452"/>
                  </a:lnTo>
                  <a:close/>
                </a:path>
              </a:pathLst>
            </a:custGeom>
            <a:solidFill>
              <a:srgbClr val="66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81280" y="4854600"/>
              <a:ext cx="721080" cy="1456200"/>
            </a:xfrm>
            <a:custGeom>
              <a:avLst/>
              <a:gdLst/>
              <a:ahLst/>
              <a:rect l="0" t="0" r="r" b="b"/>
              <a:pathLst>
                <a:path w="2003" h="4045">
                  <a:moveTo>
                    <a:pt x="1407" y="814"/>
                  </a:moveTo>
                  <a:lnTo>
                    <a:pt x="1048" y="356"/>
                  </a:lnTo>
                  <a:lnTo>
                    <a:pt x="786" y="26"/>
                  </a:lnTo>
                  <a:lnTo>
                    <a:pt x="457" y="0"/>
                  </a:lnTo>
                  <a:lnTo>
                    <a:pt x="231" y="148"/>
                  </a:lnTo>
                  <a:lnTo>
                    <a:pt x="266" y="420"/>
                  </a:lnTo>
                  <a:lnTo>
                    <a:pt x="561" y="691"/>
                  </a:lnTo>
                  <a:lnTo>
                    <a:pt x="1378" y="1506"/>
                  </a:lnTo>
                  <a:lnTo>
                    <a:pt x="1574" y="1778"/>
                  </a:lnTo>
                  <a:lnTo>
                    <a:pt x="1574" y="1905"/>
                  </a:lnTo>
                  <a:lnTo>
                    <a:pt x="1343" y="2113"/>
                  </a:lnTo>
                  <a:lnTo>
                    <a:pt x="688" y="2352"/>
                  </a:lnTo>
                  <a:lnTo>
                    <a:pt x="196" y="2597"/>
                  </a:lnTo>
                  <a:lnTo>
                    <a:pt x="63" y="2778"/>
                  </a:lnTo>
                  <a:lnTo>
                    <a:pt x="0" y="2985"/>
                  </a:lnTo>
                  <a:lnTo>
                    <a:pt x="34" y="3444"/>
                  </a:lnTo>
                  <a:lnTo>
                    <a:pt x="127" y="3715"/>
                  </a:lnTo>
                  <a:lnTo>
                    <a:pt x="393" y="4045"/>
                  </a:lnTo>
                  <a:lnTo>
                    <a:pt x="624" y="4045"/>
                  </a:lnTo>
                  <a:lnTo>
                    <a:pt x="885" y="3891"/>
                  </a:lnTo>
                  <a:lnTo>
                    <a:pt x="885" y="3774"/>
                  </a:lnTo>
                  <a:lnTo>
                    <a:pt x="653" y="3657"/>
                  </a:lnTo>
                  <a:lnTo>
                    <a:pt x="393" y="3503"/>
                  </a:lnTo>
                  <a:lnTo>
                    <a:pt x="231" y="3316"/>
                  </a:lnTo>
                  <a:lnTo>
                    <a:pt x="196" y="2927"/>
                  </a:lnTo>
                  <a:lnTo>
                    <a:pt x="329" y="2778"/>
                  </a:lnTo>
                  <a:lnTo>
                    <a:pt x="590" y="2656"/>
                  </a:lnTo>
                  <a:lnTo>
                    <a:pt x="1083" y="2507"/>
                  </a:lnTo>
                  <a:lnTo>
                    <a:pt x="1800" y="2262"/>
                  </a:lnTo>
                  <a:lnTo>
                    <a:pt x="2003" y="2081"/>
                  </a:lnTo>
                  <a:lnTo>
                    <a:pt x="2003" y="1810"/>
                  </a:lnTo>
                  <a:lnTo>
                    <a:pt x="1800" y="1448"/>
                  </a:lnTo>
                  <a:lnTo>
                    <a:pt x="1609" y="1144"/>
                  </a:lnTo>
                  <a:lnTo>
                    <a:pt x="1407" y="814"/>
                  </a:lnTo>
                  <a:close/>
                </a:path>
              </a:pathLst>
            </a:custGeom>
            <a:solidFill>
              <a:srgbClr val="66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456000" y="3638520"/>
              <a:ext cx="810000" cy="1422720"/>
            </a:xfrm>
            <a:custGeom>
              <a:avLst/>
              <a:gdLst/>
              <a:ahLst/>
              <a:rect l="0" t="0" r="r" b="b"/>
              <a:pathLst>
                <a:path w="2250" h="3952">
                  <a:moveTo>
                    <a:pt x="1258" y="186"/>
                  </a:moveTo>
                  <a:lnTo>
                    <a:pt x="945" y="0"/>
                  </a:lnTo>
                  <a:lnTo>
                    <a:pt x="539" y="0"/>
                  </a:lnTo>
                  <a:lnTo>
                    <a:pt x="226" y="154"/>
                  </a:lnTo>
                  <a:lnTo>
                    <a:pt x="11" y="442"/>
                  </a:lnTo>
                  <a:lnTo>
                    <a:pt x="0" y="634"/>
                  </a:lnTo>
                  <a:lnTo>
                    <a:pt x="63" y="879"/>
                  </a:lnTo>
                  <a:lnTo>
                    <a:pt x="226" y="1061"/>
                  </a:lnTo>
                  <a:lnTo>
                    <a:pt x="486" y="1381"/>
                  </a:lnTo>
                  <a:lnTo>
                    <a:pt x="655" y="1770"/>
                  </a:lnTo>
                  <a:lnTo>
                    <a:pt x="754" y="2107"/>
                  </a:lnTo>
                  <a:lnTo>
                    <a:pt x="754" y="2517"/>
                  </a:lnTo>
                  <a:lnTo>
                    <a:pt x="621" y="2923"/>
                  </a:lnTo>
                  <a:lnTo>
                    <a:pt x="621" y="3317"/>
                  </a:lnTo>
                  <a:lnTo>
                    <a:pt x="702" y="3637"/>
                  </a:lnTo>
                  <a:lnTo>
                    <a:pt x="928" y="3866"/>
                  </a:lnTo>
                  <a:lnTo>
                    <a:pt x="1177" y="3952"/>
                  </a:lnTo>
                  <a:lnTo>
                    <a:pt x="1473" y="3909"/>
                  </a:lnTo>
                  <a:lnTo>
                    <a:pt x="1804" y="3834"/>
                  </a:lnTo>
                  <a:lnTo>
                    <a:pt x="2036" y="3621"/>
                  </a:lnTo>
                  <a:lnTo>
                    <a:pt x="2164" y="3120"/>
                  </a:lnTo>
                  <a:lnTo>
                    <a:pt x="2250" y="2683"/>
                  </a:lnTo>
                  <a:lnTo>
                    <a:pt x="2181" y="2075"/>
                  </a:lnTo>
                  <a:lnTo>
                    <a:pt x="2019" y="1562"/>
                  </a:lnTo>
                  <a:lnTo>
                    <a:pt x="1787" y="1034"/>
                  </a:lnTo>
                  <a:lnTo>
                    <a:pt x="1508" y="490"/>
                  </a:lnTo>
                  <a:lnTo>
                    <a:pt x="1258" y="186"/>
                  </a:lnTo>
                  <a:close/>
                </a:path>
              </a:pathLst>
            </a:custGeom>
            <a:solidFill>
              <a:srgbClr val="66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2628720" y="2387520"/>
              <a:ext cx="1059480" cy="1257840"/>
              <a:chOff x="2628720" y="2387520"/>
              <a:chExt cx="1059480" cy="125784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89280" y="2448000"/>
                <a:ext cx="898920" cy="1197360"/>
              </a:xfrm>
              <a:custGeom>
                <a:avLst/>
                <a:gdLst/>
                <a:ahLst/>
                <a:rect l="0" t="0" r="r" b="b"/>
                <a:pathLst>
                  <a:path w="2497" h="3326">
                    <a:moveTo>
                      <a:pt x="1512" y="965"/>
                    </a:moveTo>
                    <a:lnTo>
                      <a:pt x="1199" y="708"/>
                    </a:lnTo>
                    <a:lnTo>
                      <a:pt x="794" y="618"/>
                    </a:lnTo>
                    <a:lnTo>
                      <a:pt x="422" y="698"/>
                    </a:lnTo>
                    <a:lnTo>
                      <a:pt x="127" y="917"/>
                    </a:lnTo>
                    <a:lnTo>
                      <a:pt x="0" y="1317"/>
                    </a:lnTo>
                    <a:lnTo>
                      <a:pt x="81" y="1892"/>
                    </a:lnTo>
                    <a:lnTo>
                      <a:pt x="422" y="2527"/>
                    </a:lnTo>
                    <a:lnTo>
                      <a:pt x="858" y="3028"/>
                    </a:lnTo>
                    <a:lnTo>
                      <a:pt x="1251" y="3252"/>
                    </a:lnTo>
                    <a:lnTo>
                      <a:pt x="1691" y="3326"/>
                    </a:lnTo>
                    <a:lnTo>
                      <a:pt x="2057" y="3284"/>
                    </a:lnTo>
                    <a:lnTo>
                      <a:pt x="2451" y="2996"/>
                    </a:lnTo>
                    <a:lnTo>
                      <a:pt x="2497" y="2692"/>
                    </a:lnTo>
                    <a:lnTo>
                      <a:pt x="2434" y="2206"/>
                    </a:lnTo>
                    <a:lnTo>
                      <a:pt x="2185" y="2361"/>
                    </a:lnTo>
                    <a:lnTo>
                      <a:pt x="1761" y="2452"/>
                    </a:lnTo>
                    <a:lnTo>
                      <a:pt x="1060" y="2249"/>
                    </a:lnTo>
                    <a:lnTo>
                      <a:pt x="1529" y="2057"/>
                    </a:lnTo>
                    <a:lnTo>
                      <a:pt x="1773" y="1913"/>
                    </a:lnTo>
                    <a:lnTo>
                      <a:pt x="2167" y="1620"/>
                    </a:lnTo>
                    <a:lnTo>
                      <a:pt x="1807" y="1119"/>
                    </a:lnTo>
                    <a:lnTo>
                      <a:pt x="2138" y="223"/>
                    </a:lnTo>
                    <a:lnTo>
                      <a:pt x="2092" y="69"/>
                    </a:lnTo>
                    <a:lnTo>
                      <a:pt x="1907" y="0"/>
                    </a:lnTo>
                    <a:lnTo>
                      <a:pt x="1807" y="101"/>
                    </a:lnTo>
                    <a:lnTo>
                      <a:pt x="1512" y="965"/>
                    </a:lnTo>
                    <a:close/>
                  </a:path>
                </a:pathLst>
              </a:custGeom>
              <a:solidFill>
                <a:srgbClr val="66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655720" y="2462040"/>
                <a:ext cx="659160" cy="914760"/>
              </a:xfrm>
              <a:custGeom>
                <a:avLst/>
                <a:gdLst/>
                <a:ahLst/>
                <a:rect l="0" t="0" r="r" b="b"/>
                <a:pathLst>
                  <a:path w="1831" h="2541">
                    <a:moveTo>
                      <a:pt x="418" y="1390"/>
                    </a:moveTo>
                    <a:lnTo>
                      <a:pt x="906" y="766"/>
                    </a:lnTo>
                    <a:lnTo>
                      <a:pt x="1482" y="271"/>
                    </a:lnTo>
                    <a:lnTo>
                      <a:pt x="1831" y="0"/>
                    </a:lnTo>
                    <a:lnTo>
                      <a:pt x="1308" y="15"/>
                    </a:lnTo>
                    <a:lnTo>
                      <a:pt x="610" y="287"/>
                    </a:lnTo>
                    <a:lnTo>
                      <a:pt x="261" y="638"/>
                    </a:lnTo>
                    <a:lnTo>
                      <a:pt x="104" y="1118"/>
                    </a:lnTo>
                    <a:lnTo>
                      <a:pt x="244" y="1390"/>
                    </a:lnTo>
                    <a:lnTo>
                      <a:pt x="0" y="1582"/>
                    </a:lnTo>
                    <a:lnTo>
                      <a:pt x="87" y="2013"/>
                    </a:lnTo>
                    <a:lnTo>
                      <a:pt x="366" y="2317"/>
                    </a:lnTo>
                    <a:lnTo>
                      <a:pt x="836" y="2541"/>
                    </a:lnTo>
                    <a:lnTo>
                      <a:pt x="714" y="2349"/>
                    </a:lnTo>
                    <a:lnTo>
                      <a:pt x="836" y="2269"/>
                    </a:lnTo>
                    <a:lnTo>
                      <a:pt x="1046" y="2269"/>
                    </a:lnTo>
                    <a:lnTo>
                      <a:pt x="766" y="2061"/>
                    </a:lnTo>
                    <a:lnTo>
                      <a:pt x="819" y="1678"/>
                    </a:lnTo>
                    <a:lnTo>
                      <a:pt x="418" y="1390"/>
                    </a:lnTo>
                    <a:close/>
                  </a:path>
                </a:pathLst>
              </a:custGeom>
              <a:solidFill>
                <a:srgbClr val="cc990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063960" y="2819520"/>
                <a:ext cx="225720" cy="184680"/>
              </a:xfrm>
              <a:custGeom>
                <a:avLst/>
                <a:gdLst/>
                <a:ahLst/>
                <a:rect l="0" t="0" r="r" b="b"/>
                <a:pathLst>
                  <a:path w="627" h="513">
                    <a:moveTo>
                      <a:pt x="627" y="240"/>
                    </a:moveTo>
                    <a:lnTo>
                      <a:pt x="435" y="95"/>
                    </a:lnTo>
                    <a:lnTo>
                      <a:pt x="243" y="15"/>
                    </a:lnTo>
                    <a:lnTo>
                      <a:pt x="69" y="0"/>
                    </a:lnTo>
                    <a:lnTo>
                      <a:pt x="0" y="63"/>
                    </a:lnTo>
                    <a:lnTo>
                      <a:pt x="0" y="160"/>
                    </a:lnTo>
                    <a:lnTo>
                      <a:pt x="52" y="320"/>
                    </a:lnTo>
                    <a:lnTo>
                      <a:pt x="226" y="449"/>
                    </a:lnTo>
                    <a:lnTo>
                      <a:pt x="348" y="513"/>
                    </a:lnTo>
                    <a:lnTo>
                      <a:pt x="627" y="240"/>
                    </a:lnTo>
                    <a:close/>
                  </a:path>
                </a:pathLst>
              </a:custGeom>
              <a:solidFill>
                <a:srgbClr val="66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628720" y="2387520"/>
                <a:ext cx="660600" cy="470160"/>
              </a:xfrm>
              <a:custGeom>
                <a:avLst/>
                <a:gdLst/>
                <a:ahLst/>
                <a:rect l="0" t="0" r="r" b="b"/>
                <a:pathLst>
                  <a:path w="1835" h="1306">
                    <a:moveTo>
                      <a:pt x="352" y="882"/>
                    </a:moveTo>
                    <a:lnTo>
                      <a:pt x="493" y="847"/>
                    </a:lnTo>
                    <a:lnTo>
                      <a:pt x="599" y="777"/>
                    </a:lnTo>
                    <a:lnTo>
                      <a:pt x="705" y="777"/>
                    </a:lnTo>
                    <a:lnTo>
                      <a:pt x="811" y="706"/>
                    </a:lnTo>
                    <a:lnTo>
                      <a:pt x="918" y="599"/>
                    </a:lnTo>
                    <a:lnTo>
                      <a:pt x="1024" y="564"/>
                    </a:lnTo>
                    <a:lnTo>
                      <a:pt x="1129" y="493"/>
                    </a:lnTo>
                    <a:lnTo>
                      <a:pt x="1271" y="493"/>
                    </a:lnTo>
                    <a:lnTo>
                      <a:pt x="1376" y="388"/>
                    </a:lnTo>
                    <a:lnTo>
                      <a:pt x="1482" y="352"/>
                    </a:lnTo>
                    <a:lnTo>
                      <a:pt x="1588" y="317"/>
                    </a:lnTo>
                    <a:lnTo>
                      <a:pt x="1694" y="246"/>
                    </a:lnTo>
                    <a:lnTo>
                      <a:pt x="1800" y="211"/>
                    </a:lnTo>
                    <a:lnTo>
                      <a:pt x="1835" y="105"/>
                    </a:lnTo>
                    <a:lnTo>
                      <a:pt x="1729" y="70"/>
                    </a:lnTo>
                    <a:lnTo>
                      <a:pt x="1623" y="0"/>
                    </a:lnTo>
                    <a:lnTo>
                      <a:pt x="1517" y="0"/>
                    </a:lnTo>
                    <a:lnTo>
                      <a:pt x="1412" y="0"/>
                    </a:lnTo>
                    <a:lnTo>
                      <a:pt x="1306" y="105"/>
                    </a:lnTo>
                    <a:lnTo>
                      <a:pt x="1200" y="105"/>
                    </a:lnTo>
                    <a:lnTo>
                      <a:pt x="1094" y="141"/>
                    </a:lnTo>
                    <a:lnTo>
                      <a:pt x="988" y="141"/>
                    </a:lnTo>
                    <a:lnTo>
                      <a:pt x="881" y="176"/>
                    </a:lnTo>
                    <a:lnTo>
                      <a:pt x="776" y="211"/>
                    </a:lnTo>
                    <a:lnTo>
                      <a:pt x="635" y="211"/>
                    </a:lnTo>
                    <a:lnTo>
                      <a:pt x="493" y="211"/>
                    </a:lnTo>
                    <a:lnTo>
                      <a:pt x="388" y="211"/>
                    </a:lnTo>
                    <a:lnTo>
                      <a:pt x="282" y="282"/>
                    </a:lnTo>
                    <a:lnTo>
                      <a:pt x="176" y="388"/>
                    </a:lnTo>
                    <a:lnTo>
                      <a:pt x="141" y="493"/>
                    </a:lnTo>
                    <a:lnTo>
                      <a:pt x="70" y="599"/>
                    </a:lnTo>
                    <a:lnTo>
                      <a:pt x="0" y="741"/>
                    </a:lnTo>
                    <a:lnTo>
                      <a:pt x="35" y="847"/>
                    </a:lnTo>
                    <a:lnTo>
                      <a:pt x="70" y="953"/>
                    </a:lnTo>
                    <a:lnTo>
                      <a:pt x="70" y="1059"/>
                    </a:lnTo>
                    <a:lnTo>
                      <a:pt x="70" y="1165"/>
                    </a:lnTo>
                    <a:lnTo>
                      <a:pt x="282" y="1200"/>
                    </a:lnTo>
                    <a:lnTo>
                      <a:pt x="388" y="1306"/>
                    </a:lnTo>
                    <a:lnTo>
                      <a:pt x="458" y="1200"/>
                    </a:lnTo>
                    <a:lnTo>
                      <a:pt x="458" y="1094"/>
                    </a:lnTo>
                    <a:lnTo>
                      <a:pt x="352" y="88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0" name=""/>
            <p:cNvSpPr/>
            <p:nvPr/>
          </p:nvSpPr>
          <p:spPr>
            <a:xfrm>
              <a:off x="3619440" y="3936960"/>
              <a:ext cx="267120" cy="457560"/>
            </a:xfrm>
            <a:custGeom>
              <a:avLst/>
              <a:gdLst/>
              <a:ahLst/>
              <a:rect l="0" t="0" r="r" b="b"/>
              <a:pathLst>
                <a:path w="742" h="1271">
                  <a:moveTo>
                    <a:pt x="0" y="141"/>
                  </a:moveTo>
                  <a:lnTo>
                    <a:pt x="424" y="777"/>
                  </a:lnTo>
                  <a:lnTo>
                    <a:pt x="530" y="1271"/>
                  </a:lnTo>
                  <a:lnTo>
                    <a:pt x="742" y="1235"/>
                  </a:lnTo>
                  <a:lnTo>
                    <a:pt x="601" y="599"/>
                  </a:lnTo>
                  <a:lnTo>
                    <a:pt x="176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971800" y="2692440"/>
              <a:ext cx="178200" cy="203400"/>
            </a:xfrm>
            <a:custGeom>
              <a:avLst/>
              <a:gdLst/>
              <a:ahLst/>
              <a:rect l="0" t="0" r="r" b="b"/>
              <a:pathLst>
                <a:path fill="none" w="495" h="565">
                  <a:moveTo>
                    <a:pt x="495" y="0"/>
                  </a:moveTo>
                  <a:lnTo>
                    <a:pt x="442" y="194"/>
                  </a:lnTo>
                  <a:lnTo>
                    <a:pt x="212" y="229"/>
                  </a:lnTo>
                  <a:lnTo>
                    <a:pt x="35" y="477"/>
                  </a:lnTo>
                  <a:lnTo>
                    <a:pt x="0" y="56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130560" y="2749680"/>
              <a:ext cx="76320" cy="3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117960" y="2927520"/>
              <a:ext cx="279720" cy="292320"/>
            </a:xfrm>
            <a:custGeom>
              <a:avLst/>
              <a:gdLst/>
              <a:ahLst/>
              <a:rect l="0" t="0" r="r" b="b"/>
              <a:pathLst>
                <a:path fill="none" w="777" h="812">
                  <a:moveTo>
                    <a:pt x="777" y="0"/>
                  </a:moveTo>
                  <a:lnTo>
                    <a:pt x="653" y="317"/>
                  </a:lnTo>
                  <a:lnTo>
                    <a:pt x="0" y="494"/>
                  </a:lnTo>
                  <a:lnTo>
                    <a:pt x="565" y="565"/>
                  </a:lnTo>
                  <a:lnTo>
                    <a:pt x="459" y="81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105000" y="3333600"/>
              <a:ext cx="57600" cy="190800"/>
            </a:xfrm>
            <a:custGeom>
              <a:avLst/>
              <a:gdLst/>
              <a:ahLst/>
              <a:rect l="0" t="0" r="r" b="b"/>
              <a:pathLst>
                <a:path fill="none" w="160" h="530">
                  <a:moveTo>
                    <a:pt x="0" y="0"/>
                  </a:moveTo>
                  <a:lnTo>
                    <a:pt x="160" y="264"/>
                  </a:lnTo>
                  <a:lnTo>
                    <a:pt x="125" y="459"/>
                  </a:lnTo>
                  <a:lnTo>
                    <a:pt x="17" y="5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156120" y="3467160"/>
              <a:ext cx="190800" cy="82800"/>
            </a:xfrm>
            <a:custGeom>
              <a:avLst/>
              <a:gdLst/>
              <a:ahLst/>
              <a:rect l="0" t="0" r="r" b="b"/>
              <a:pathLst>
                <a:path fill="none" w="530" h="230">
                  <a:moveTo>
                    <a:pt x="0" y="0"/>
                  </a:moveTo>
                  <a:lnTo>
                    <a:pt x="494" y="0"/>
                  </a:lnTo>
                  <a:lnTo>
                    <a:pt x="530" y="2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304920" y="1244520"/>
            <a:ext cx="8242200" cy="4597560"/>
            <a:chOff x="304920" y="1244520"/>
            <a:chExt cx="8242200" cy="4597560"/>
          </a:xfrm>
        </p:grpSpPr>
        <p:sp>
          <p:nvSpPr>
            <p:cNvPr id="1247" name=""/>
            <p:cNvSpPr/>
            <p:nvPr/>
          </p:nvSpPr>
          <p:spPr>
            <a:xfrm>
              <a:off x="609480" y="2552760"/>
              <a:ext cx="34308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410080" y="4406760"/>
              <a:ext cx="228600" cy="24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447920" y="13590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292640" y="49402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730600" y="4013280"/>
              <a:ext cx="216000" cy="203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166240" y="38354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613480" y="2108160"/>
              <a:ext cx="27936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717640" y="1739880"/>
              <a:ext cx="190440" cy="190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204040" y="5537160"/>
              <a:ext cx="29196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457880" y="2374920"/>
              <a:ext cx="152280" cy="190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68280" y="37972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327800" y="14223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04920" y="1244520"/>
              <a:ext cx="190440" cy="190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873600" y="4038480"/>
              <a:ext cx="241200" cy="254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3809880" y="2908440"/>
            <a:ext cx="584640" cy="178200"/>
          </a:xfrm>
          <a:custGeom>
            <a:avLst/>
            <a:gdLst/>
            <a:ahLst/>
            <a:rect l="0" t="0" r="r" b="b"/>
            <a:pathLst>
              <a:path w="1624" h="495">
                <a:moveTo>
                  <a:pt x="211" y="247"/>
                </a:moveTo>
                <a:lnTo>
                  <a:pt x="424" y="212"/>
                </a:lnTo>
                <a:lnTo>
                  <a:pt x="530" y="177"/>
                </a:lnTo>
                <a:lnTo>
                  <a:pt x="636" y="177"/>
                </a:lnTo>
                <a:lnTo>
                  <a:pt x="741" y="247"/>
                </a:lnTo>
                <a:lnTo>
                  <a:pt x="847" y="283"/>
                </a:lnTo>
                <a:lnTo>
                  <a:pt x="953" y="283"/>
                </a:lnTo>
                <a:lnTo>
                  <a:pt x="1059" y="318"/>
                </a:lnTo>
                <a:lnTo>
                  <a:pt x="1165" y="390"/>
                </a:lnTo>
                <a:lnTo>
                  <a:pt x="1272" y="390"/>
                </a:lnTo>
                <a:lnTo>
                  <a:pt x="1377" y="460"/>
                </a:lnTo>
                <a:lnTo>
                  <a:pt x="1483" y="495"/>
                </a:lnTo>
                <a:lnTo>
                  <a:pt x="1624" y="460"/>
                </a:lnTo>
                <a:lnTo>
                  <a:pt x="1624" y="353"/>
                </a:lnTo>
                <a:lnTo>
                  <a:pt x="1518" y="247"/>
                </a:lnTo>
                <a:lnTo>
                  <a:pt x="1413" y="212"/>
                </a:lnTo>
                <a:lnTo>
                  <a:pt x="1272" y="105"/>
                </a:lnTo>
                <a:lnTo>
                  <a:pt x="1165" y="35"/>
                </a:lnTo>
                <a:lnTo>
                  <a:pt x="1059" y="35"/>
                </a:lnTo>
                <a:lnTo>
                  <a:pt x="953" y="0"/>
                </a:lnTo>
                <a:lnTo>
                  <a:pt x="671" y="0"/>
                </a:lnTo>
                <a:lnTo>
                  <a:pt x="317" y="35"/>
                </a:lnTo>
                <a:lnTo>
                  <a:pt x="211" y="35"/>
                </a:lnTo>
                <a:lnTo>
                  <a:pt x="105" y="70"/>
                </a:lnTo>
                <a:lnTo>
                  <a:pt x="35" y="212"/>
                </a:lnTo>
                <a:lnTo>
                  <a:pt x="0" y="177"/>
                </a:lnTo>
                <a:lnTo>
                  <a:pt x="211" y="24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3801240" y="2788920"/>
            <a:ext cx="1010880" cy="927720"/>
            <a:chOff x="3801240" y="2788920"/>
            <a:chExt cx="1010880" cy="927720"/>
          </a:xfrm>
        </p:grpSpPr>
        <p:sp>
          <p:nvSpPr>
            <p:cNvPr id="1263" name=""/>
            <p:cNvSpPr/>
            <p:nvPr/>
          </p:nvSpPr>
          <p:spPr>
            <a:xfrm>
              <a:off x="3917880" y="2913120"/>
              <a:ext cx="894240" cy="803520"/>
            </a:xfrm>
            <a:custGeom>
              <a:avLst/>
              <a:gdLst/>
              <a:ahLst/>
              <a:rect l="0" t="0" r="r" b="b"/>
              <a:pathLst>
                <a:path w="2484" h="2232">
                  <a:moveTo>
                    <a:pt x="2400" y="2232"/>
                  </a:moveTo>
                  <a:lnTo>
                    <a:pt x="2484" y="2069"/>
                  </a:lnTo>
                  <a:lnTo>
                    <a:pt x="2400" y="1795"/>
                  </a:lnTo>
                  <a:lnTo>
                    <a:pt x="1800" y="1262"/>
                  </a:lnTo>
                  <a:lnTo>
                    <a:pt x="604" y="0"/>
                  </a:lnTo>
                  <a:lnTo>
                    <a:pt x="0" y="555"/>
                  </a:lnTo>
                  <a:lnTo>
                    <a:pt x="1099" y="1579"/>
                  </a:lnTo>
                  <a:lnTo>
                    <a:pt x="2026" y="2232"/>
                  </a:lnTo>
                  <a:lnTo>
                    <a:pt x="2400" y="223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801240" y="2788920"/>
              <a:ext cx="284400" cy="263880"/>
            </a:xfrm>
            <a:custGeom>
              <a:avLst/>
              <a:gdLst/>
              <a:ahLst/>
              <a:rect l="0" t="0" r="r" b="b"/>
              <a:pathLst>
                <a:path w="790" h="733">
                  <a:moveTo>
                    <a:pt x="743" y="140"/>
                  </a:moveTo>
                  <a:lnTo>
                    <a:pt x="743" y="140"/>
                  </a:lnTo>
                  <a:cubicBezTo>
                    <a:pt x="710" y="90"/>
                    <a:pt x="662" y="50"/>
                    <a:pt x="603" y="27"/>
                  </a:cubicBezTo>
                  <a:cubicBezTo>
                    <a:pt x="544" y="2"/>
                    <a:pt x="476" y="-5"/>
                    <a:pt x="407" y="4"/>
                  </a:cubicBezTo>
                  <a:cubicBezTo>
                    <a:pt x="337" y="13"/>
                    <a:pt x="269" y="38"/>
                    <a:pt x="208" y="78"/>
                  </a:cubicBezTo>
                  <a:cubicBezTo>
                    <a:pt x="147" y="118"/>
                    <a:pt x="95" y="170"/>
                    <a:pt x="59" y="230"/>
                  </a:cubicBezTo>
                  <a:cubicBezTo>
                    <a:pt x="22" y="289"/>
                    <a:pt x="2" y="354"/>
                    <a:pt x="0" y="418"/>
                  </a:cubicBezTo>
                  <a:cubicBezTo>
                    <a:pt x="-2" y="482"/>
                    <a:pt x="14" y="542"/>
                    <a:pt x="47" y="593"/>
                  </a:cubicBezTo>
                  <a:lnTo>
                    <a:pt x="47" y="593"/>
                  </a:lnTo>
                  <a:lnTo>
                    <a:pt x="47" y="593"/>
                  </a:lnTo>
                  <a:cubicBezTo>
                    <a:pt x="80" y="643"/>
                    <a:pt x="128" y="683"/>
                    <a:pt x="187" y="706"/>
                  </a:cubicBezTo>
                  <a:cubicBezTo>
                    <a:pt x="246" y="731"/>
                    <a:pt x="314" y="738"/>
                    <a:pt x="383" y="729"/>
                  </a:cubicBezTo>
                  <a:cubicBezTo>
                    <a:pt x="453" y="720"/>
                    <a:pt x="521" y="695"/>
                    <a:pt x="582" y="655"/>
                  </a:cubicBezTo>
                  <a:cubicBezTo>
                    <a:pt x="643" y="615"/>
                    <a:pt x="695" y="563"/>
                    <a:pt x="731" y="503"/>
                  </a:cubicBezTo>
                  <a:cubicBezTo>
                    <a:pt x="768" y="444"/>
                    <a:pt x="788" y="379"/>
                    <a:pt x="790" y="315"/>
                  </a:cubicBezTo>
                  <a:cubicBezTo>
                    <a:pt x="792" y="251"/>
                    <a:pt x="776" y="191"/>
                    <a:pt x="743" y="14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5" name="" descr=""/>
          <p:cNvPicPr/>
          <p:nvPr/>
        </p:nvPicPr>
        <p:blipFill>
          <a:blip r:embed="rId5"/>
          <a:stretch/>
        </p:blipFill>
        <p:spPr>
          <a:xfrm>
            <a:off x="5856120" y="5168880"/>
            <a:ext cx="353880" cy="654120"/>
          </a:xfrm>
          <a:prstGeom prst="rect">
            <a:avLst/>
          </a:prstGeom>
          <a:ln w="0">
            <a:noFill/>
          </a:ln>
        </p:spPr>
      </p:pic>
      <p:pic>
        <p:nvPicPr>
          <p:cNvPr id="1266" name="" descr=""/>
          <p:cNvPicPr/>
          <p:nvPr/>
        </p:nvPicPr>
        <p:blipFill>
          <a:blip r:embed="rId6"/>
          <a:stretch/>
        </p:blipFill>
        <p:spPr>
          <a:xfrm>
            <a:off x="6248520" y="5181480"/>
            <a:ext cx="353880" cy="654120"/>
          </a:xfrm>
          <a:prstGeom prst="rect">
            <a:avLst/>
          </a:prstGeom>
          <a:ln w="0">
            <a:noFill/>
          </a:ln>
        </p:spPr>
      </p:pic>
      <p:pic>
        <p:nvPicPr>
          <p:cNvPr id="1267" name="" descr=""/>
          <p:cNvPicPr/>
          <p:nvPr/>
        </p:nvPicPr>
        <p:blipFill>
          <a:blip r:embed="rId7"/>
          <a:stretch/>
        </p:blipFill>
        <p:spPr>
          <a:xfrm>
            <a:off x="7327800" y="5092560"/>
            <a:ext cx="353880" cy="654120"/>
          </a:xfrm>
          <a:prstGeom prst="rect">
            <a:avLst/>
          </a:prstGeom>
          <a:ln w="0">
            <a:noFill/>
          </a:ln>
        </p:spPr>
      </p:pic>
      <p:grpSp>
        <p:nvGrpSpPr>
          <p:cNvPr id="1268" name=""/>
          <p:cNvGrpSpPr/>
          <p:nvPr/>
        </p:nvGrpSpPr>
        <p:grpSpPr>
          <a:xfrm>
            <a:off x="4343400" y="1816200"/>
            <a:ext cx="1495800" cy="4346640"/>
            <a:chOff x="4343400" y="1816200"/>
            <a:chExt cx="1495800" cy="4346640"/>
          </a:xfrm>
        </p:grpSpPr>
        <p:pic>
          <p:nvPicPr>
            <p:cNvPr id="1269" name="" descr=""/>
            <p:cNvPicPr/>
            <p:nvPr/>
          </p:nvPicPr>
          <p:blipFill>
            <a:blip r:embed="rId8"/>
            <a:stretch/>
          </p:blipFill>
          <p:spPr>
            <a:xfrm>
              <a:off x="4965840" y="5194440"/>
              <a:ext cx="35388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0" name=""/>
            <p:cNvGrpSpPr/>
            <p:nvPr/>
          </p:nvGrpSpPr>
          <p:grpSpPr>
            <a:xfrm>
              <a:off x="4343400" y="4554360"/>
              <a:ext cx="1495800" cy="1608480"/>
              <a:chOff x="4343400" y="4554360"/>
              <a:chExt cx="1495800" cy="1608480"/>
            </a:xfrm>
          </p:grpSpPr>
          <p:sp>
            <p:nvSpPr>
              <p:cNvPr id="1271" name=""/>
              <p:cNvSpPr/>
              <p:nvPr/>
            </p:nvSpPr>
            <p:spPr>
              <a:xfrm>
                <a:off x="4721400" y="4554360"/>
                <a:ext cx="646560" cy="1483200"/>
              </a:xfrm>
              <a:custGeom>
                <a:avLst/>
                <a:gdLst/>
                <a:ahLst/>
                <a:rect l="0" t="0" r="r" b="b"/>
                <a:pathLst>
                  <a:path w="1796" h="4120">
                    <a:moveTo>
                      <a:pt x="0" y="0"/>
                    </a:moveTo>
                    <a:lnTo>
                      <a:pt x="312" y="4120"/>
                    </a:lnTo>
                    <a:lnTo>
                      <a:pt x="1015" y="4120"/>
                    </a:lnTo>
                    <a:lnTo>
                      <a:pt x="911" y="1116"/>
                    </a:lnTo>
                    <a:lnTo>
                      <a:pt x="1015" y="4120"/>
                    </a:lnTo>
                    <a:lnTo>
                      <a:pt x="1796" y="4120"/>
                    </a:lnTo>
                    <a:lnTo>
                      <a:pt x="1718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343400" y="5983200"/>
                <a:ext cx="743400" cy="179640"/>
              </a:xfrm>
              <a:custGeom>
                <a:avLst/>
                <a:gdLst/>
                <a:ahLst/>
                <a:rect l="0" t="0" r="r" b="b"/>
                <a:pathLst>
                  <a:path w="2065" h="499">
                    <a:moveTo>
                      <a:pt x="1359" y="158"/>
                    </a:moveTo>
                    <a:lnTo>
                      <a:pt x="967" y="45"/>
                    </a:lnTo>
                    <a:lnTo>
                      <a:pt x="706" y="0"/>
                    </a:lnTo>
                    <a:lnTo>
                      <a:pt x="417" y="90"/>
                    </a:lnTo>
                    <a:lnTo>
                      <a:pt x="130" y="226"/>
                    </a:lnTo>
                    <a:lnTo>
                      <a:pt x="0" y="408"/>
                    </a:lnTo>
                    <a:lnTo>
                      <a:pt x="182" y="499"/>
                    </a:lnTo>
                    <a:lnTo>
                      <a:pt x="2065" y="499"/>
                    </a:lnTo>
                    <a:lnTo>
                      <a:pt x="2065" y="158"/>
                    </a:lnTo>
                    <a:lnTo>
                      <a:pt x="1359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095800" y="5983200"/>
                <a:ext cx="743400" cy="179640"/>
              </a:xfrm>
              <a:custGeom>
                <a:avLst/>
                <a:gdLst/>
                <a:ahLst/>
                <a:rect l="0" t="0" r="r" b="b"/>
                <a:pathLst>
                  <a:path w="2065" h="499">
                    <a:moveTo>
                      <a:pt x="706" y="158"/>
                    </a:moveTo>
                    <a:lnTo>
                      <a:pt x="1098" y="45"/>
                    </a:lnTo>
                    <a:lnTo>
                      <a:pt x="1359" y="0"/>
                    </a:lnTo>
                    <a:lnTo>
                      <a:pt x="1647" y="90"/>
                    </a:lnTo>
                    <a:lnTo>
                      <a:pt x="1935" y="226"/>
                    </a:lnTo>
                    <a:lnTo>
                      <a:pt x="2065" y="408"/>
                    </a:lnTo>
                    <a:lnTo>
                      <a:pt x="1882" y="499"/>
                    </a:lnTo>
                    <a:lnTo>
                      <a:pt x="0" y="499"/>
                    </a:lnTo>
                    <a:lnTo>
                      <a:pt x="0" y="158"/>
                    </a:lnTo>
                    <a:lnTo>
                      <a:pt x="706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4498920" y="1905120"/>
              <a:ext cx="1068840" cy="2821320"/>
              <a:chOff x="4498920" y="1905120"/>
              <a:chExt cx="1068840" cy="2821320"/>
            </a:xfrm>
          </p:grpSpPr>
          <p:sp>
            <p:nvSpPr>
              <p:cNvPr id="1275" name=""/>
              <p:cNvSpPr/>
              <p:nvPr/>
            </p:nvSpPr>
            <p:spPr>
              <a:xfrm>
                <a:off x="4597560" y="3346560"/>
                <a:ext cx="970200" cy="1379880"/>
              </a:xfrm>
              <a:custGeom>
                <a:avLst/>
                <a:gdLst/>
                <a:ahLst/>
                <a:rect l="0" t="0" r="r" b="b"/>
                <a:pathLst>
                  <a:path w="2695" h="3833">
                    <a:moveTo>
                      <a:pt x="943" y="323"/>
                    </a:moveTo>
                    <a:lnTo>
                      <a:pt x="856" y="338"/>
                    </a:lnTo>
                    <a:lnTo>
                      <a:pt x="790" y="376"/>
                    </a:lnTo>
                    <a:lnTo>
                      <a:pt x="664" y="501"/>
                    </a:lnTo>
                    <a:lnTo>
                      <a:pt x="534" y="623"/>
                    </a:lnTo>
                    <a:lnTo>
                      <a:pt x="386" y="733"/>
                    </a:lnTo>
                    <a:lnTo>
                      <a:pt x="365" y="767"/>
                    </a:lnTo>
                    <a:lnTo>
                      <a:pt x="343" y="802"/>
                    </a:lnTo>
                    <a:lnTo>
                      <a:pt x="343" y="802"/>
                    </a:lnTo>
                    <a:lnTo>
                      <a:pt x="365" y="802"/>
                    </a:lnTo>
                    <a:lnTo>
                      <a:pt x="152" y="1338"/>
                    </a:lnTo>
                    <a:lnTo>
                      <a:pt x="0" y="3745"/>
                    </a:lnTo>
                    <a:lnTo>
                      <a:pt x="2695" y="3833"/>
                    </a:lnTo>
                    <a:lnTo>
                      <a:pt x="2291" y="1589"/>
                    </a:lnTo>
                    <a:lnTo>
                      <a:pt x="2095" y="357"/>
                    </a:lnTo>
                    <a:lnTo>
                      <a:pt x="1369" y="0"/>
                    </a:lnTo>
                    <a:lnTo>
                      <a:pt x="943" y="323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889520" y="3355920"/>
                <a:ext cx="300240" cy="155880"/>
              </a:xfrm>
              <a:custGeom>
                <a:avLst/>
                <a:gdLst/>
                <a:ahLst/>
                <a:rect l="0" t="0" r="r" b="b"/>
                <a:pathLst>
                  <a:path w="834" h="433">
                    <a:moveTo>
                      <a:pt x="0" y="296"/>
                    </a:moveTo>
                    <a:lnTo>
                      <a:pt x="234" y="410"/>
                    </a:lnTo>
                    <a:lnTo>
                      <a:pt x="652" y="433"/>
                    </a:lnTo>
                    <a:lnTo>
                      <a:pt x="834" y="228"/>
                    </a:lnTo>
                    <a:lnTo>
                      <a:pt x="834" y="68"/>
                    </a:lnTo>
                    <a:lnTo>
                      <a:pt x="652" y="0"/>
                    </a:lnTo>
                    <a:lnTo>
                      <a:pt x="469" y="228"/>
                    </a:lnTo>
                    <a:lnTo>
                      <a:pt x="182" y="251"/>
                    </a:lnTo>
                    <a:lnTo>
                      <a:pt x="0" y="296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7" name=""/>
              <p:cNvGrpSpPr/>
              <p:nvPr/>
            </p:nvGrpSpPr>
            <p:grpSpPr>
              <a:xfrm>
                <a:off x="4498920" y="1905120"/>
                <a:ext cx="992520" cy="1567440"/>
                <a:chOff x="4498920" y="1905120"/>
                <a:chExt cx="992520" cy="156744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606920" y="2109960"/>
                  <a:ext cx="884520" cy="1362600"/>
                </a:xfrm>
                <a:custGeom>
                  <a:avLst/>
                  <a:gdLst/>
                  <a:ahLst/>
                  <a:rect l="0" t="0" r="r" b="b"/>
                  <a:pathLst>
                    <a:path w="2457" h="3785">
                      <a:moveTo>
                        <a:pt x="574" y="0"/>
                      </a:moveTo>
                      <a:lnTo>
                        <a:pt x="261" y="227"/>
                      </a:lnTo>
                      <a:lnTo>
                        <a:pt x="78" y="592"/>
                      </a:lnTo>
                      <a:lnTo>
                        <a:pt x="26" y="1049"/>
                      </a:lnTo>
                      <a:lnTo>
                        <a:pt x="0" y="2325"/>
                      </a:lnTo>
                      <a:lnTo>
                        <a:pt x="52" y="3056"/>
                      </a:lnTo>
                      <a:lnTo>
                        <a:pt x="810" y="3101"/>
                      </a:lnTo>
                      <a:lnTo>
                        <a:pt x="914" y="3512"/>
                      </a:lnTo>
                      <a:lnTo>
                        <a:pt x="1019" y="3785"/>
                      </a:lnTo>
                      <a:lnTo>
                        <a:pt x="1255" y="3785"/>
                      </a:lnTo>
                      <a:lnTo>
                        <a:pt x="1385" y="3534"/>
                      </a:lnTo>
                      <a:lnTo>
                        <a:pt x="1307" y="3101"/>
                      </a:lnTo>
                      <a:lnTo>
                        <a:pt x="2013" y="3033"/>
                      </a:lnTo>
                      <a:lnTo>
                        <a:pt x="2039" y="2599"/>
                      </a:lnTo>
                      <a:lnTo>
                        <a:pt x="2195" y="2667"/>
                      </a:lnTo>
                      <a:lnTo>
                        <a:pt x="2352" y="2622"/>
                      </a:lnTo>
                      <a:lnTo>
                        <a:pt x="2457" y="2257"/>
                      </a:lnTo>
                      <a:lnTo>
                        <a:pt x="2326" y="2075"/>
                      </a:lnTo>
                      <a:lnTo>
                        <a:pt x="2169" y="2097"/>
                      </a:lnTo>
                      <a:lnTo>
                        <a:pt x="2326" y="159"/>
                      </a:lnTo>
                      <a:lnTo>
                        <a:pt x="5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498920" y="2489040"/>
                  <a:ext cx="404640" cy="3538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46680" y="2457360"/>
                  <a:ext cx="479520" cy="420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4835520" y="1932120"/>
                  <a:ext cx="648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 flipV="1">
                  <a:off x="4946760" y="1914480"/>
                  <a:ext cx="1584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V="1">
                  <a:off x="5106960" y="1905120"/>
                  <a:ext cx="36720" cy="196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flipV="1">
                  <a:off x="5267160" y="1946160"/>
                  <a:ext cx="54000" cy="173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V="1">
                  <a:off x="5407200" y="1971720"/>
                  <a:ext cx="53640" cy="15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4635360" y="3009960"/>
                  <a:ext cx="508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4533840" y="2679840"/>
                  <a:ext cx="774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"/>
            <p:cNvGrpSpPr/>
            <p:nvPr/>
          </p:nvGrpSpPr>
          <p:grpSpPr>
            <a:xfrm>
              <a:off x="5264280" y="3494160"/>
              <a:ext cx="502920" cy="1246320"/>
              <a:chOff x="5264280" y="3494160"/>
              <a:chExt cx="502920" cy="1246320"/>
            </a:xfrm>
          </p:grpSpPr>
          <p:sp>
            <p:nvSpPr>
              <p:cNvPr id="1289" name=""/>
              <p:cNvSpPr/>
              <p:nvPr/>
            </p:nvSpPr>
            <p:spPr>
              <a:xfrm>
                <a:off x="5264280" y="3494160"/>
                <a:ext cx="481320" cy="1026000"/>
              </a:xfrm>
              <a:custGeom>
                <a:avLst/>
                <a:gdLst/>
                <a:ahLst/>
                <a:rect l="0" t="0" r="r" b="b"/>
                <a:pathLst>
                  <a:path w="1337" h="2850">
                    <a:moveTo>
                      <a:pt x="235" y="0"/>
                    </a:moveTo>
                    <a:lnTo>
                      <a:pt x="78" y="91"/>
                    </a:lnTo>
                    <a:lnTo>
                      <a:pt x="0" y="364"/>
                    </a:lnTo>
                    <a:lnTo>
                      <a:pt x="209" y="1140"/>
                    </a:lnTo>
                    <a:lnTo>
                      <a:pt x="523" y="2850"/>
                    </a:lnTo>
                    <a:lnTo>
                      <a:pt x="1337" y="2713"/>
                    </a:lnTo>
                    <a:lnTo>
                      <a:pt x="970" y="1254"/>
                    </a:lnTo>
                    <a:lnTo>
                      <a:pt x="550" y="205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468760" y="4494240"/>
                <a:ext cx="29844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1" name=""/>
            <p:cNvSpPr/>
            <p:nvPr/>
          </p:nvSpPr>
          <p:spPr>
            <a:xfrm>
              <a:off x="4800600" y="1816200"/>
              <a:ext cx="736920" cy="203400"/>
            </a:xfrm>
            <a:custGeom>
              <a:avLst/>
              <a:gdLst/>
              <a:ahLst/>
              <a:rect l="0" t="0" r="r" b="b"/>
              <a:pathLst>
                <a:path w="2047" h="565">
                  <a:moveTo>
                    <a:pt x="176" y="424"/>
                  </a:moveTo>
                  <a:lnTo>
                    <a:pt x="458" y="389"/>
                  </a:lnTo>
                  <a:lnTo>
                    <a:pt x="564" y="318"/>
                  </a:lnTo>
                  <a:lnTo>
                    <a:pt x="670" y="318"/>
                  </a:lnTo>
                  <a:lnTo>
                    <a:pt x="811" y="353"/>
                  </a:lnTo>
                  <a:lnTo>
                    <a:pt x="1094" y="389"/>
                  </a:lnTo>
                  <a:lnTo>
                    <a:pt x="1200" y="424"/>
                  </a:lnTo>
                  <a:lnTo>
                    <a:pt x="1306" y="494"/>
                  </a:lnTo>
                  <a:lnTo>
                    <a:pt x="1412" y="494"/>
                  </a:lnTo>
                  <a:lnTo>
                    <a:pt x="1517" y="565"/>
                  </a:lnTo>
                  <a:lnTo>
                    <a:pt x="1623" y="565"/>
                  </a:lnTo>
                  <a:lnTo>
                    <a:pt x="1729" y="494"/>
                  </a:lnTo>
                  <a:lnTo>
                    <a:pt x="1870" y="494"/>
                  </a:lnTo>
                  <a:lnTo>
                    <a:pt x="1976" y="494"/>
                  </a:lnTo>
                  <a:lnTo>
                    <a:pt x="2047" y="389"/>
                  </a:lnTo>
                  <a:lnTo>
                    <a:pt x="1976" y="283"/>
                  </a:lnTo>
                  <a:lnTo>
                    <a:pt x="1870" y="283"/>
                  </a:lnTo>
                  <a:lnTo>
                    <a:pt x="1764" y="283"/>
                  </a:lnTo>
                  <a:lnTo>
                    <a:pt x="1659" y="283"/>
                  </a:lnTo>
                  <a:lnTo>
                    <a:pt x="1553" y="283"/>
                  </a:lnTo>
                  <a:lnTo>
                    <a:pt x="1447" y="211"/>
                  </a:lnTo>
                  <a:lnTo>
                    <a:pt x="1306" y="141"/>
                  </a:lnTo>
                  <a:lnTo>
                    <a:pt x="1165" y="141"/>
                  </a:lnTo>
                  <a:lnTo>
                    <a:pt x="1059" y="70"/>
                  </a:lnTo>
                  <a:lnTo>
                    <a:pt x="952" y="70"/>
                  </a:lnTo>
                  <a:lnTo>
                    <a:pt x="846" y="35"/>
                  </a:lnTo>
                  <a:lnTo>
                    <a:pt x="740" y="0"/>
                  </a:lnTo>
                  <a:lnTo>
                    <a:pt x="635" y="0"/>
                  </a:lnTo>
                  <a:lnTo>
                    <a:pt x="529" y="0"/>
                  </a:lnTo>
                  <a:lnTo>
                    <a:pt x="423" y="0"/>
                  </a:lnTo>
                  <a:lnTo>
                    <a:pt x="317" y="0"/>
                  </a:lnTo>
                  <a:lnTo>
                    <a:pt x="211" y="70"/>
                  </a:lnTo>
                  <a:lnTo>
                    <a:pt x="105" y="141"/>
                  </a:lnTo>
                  <a:lnTo>
                    <a:pt x="0" y="176"/>
                  </a:lnTo>
                  <a:lnTo>
                    <a:pt x="0" y="283"/>
                  </a:lnTo>
                  <a:lnTo>
                    <a:pt x="35" y="389"/>
                  </a:lnTo>
                  <a:lnTo>
                    <a:pt x="176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4284720" y="3657600"/>
            <a:ext cx="59040" cy="140040"/>
            <a:chOff x="4284720" y="3657600"/>
            <a:chExt cx="59040" cy="140040"/>
          </a:xfrm>
        </p:grpSpPr>
        <p:sp>
          <p:nvSpPr>
            <p:cNvPr id="1293" name=""/>
            <p:cNvSpPr/>
            <p:nvPr/>
          </p:nvSpPr>
          <p:spPr>
            <a:xfrm>
              <a:off x="4284720" y="3657600"/>
              <a:ext cx="59040" cy="140040"/>
            </a:xfrm>
            <a:custGeom>
              <a:avLst/>
              <a:gdLst/>
              <a:ahLst/>
              <a:rect l="0" t="0" r="r" b="b"/>
              <a:pathLst>
                <a:path w="164" h="389">
                  <a:moveTo>
                    <a:pt x="0" y="0"/>
                  </a:moveTo>
                  <a:lnTo>
                    <a:pt x="7" y="196"/>
                  </a:lnTo>
                  <a:lnTo>
                    <a:pt x="30" y="134"/>
                  </a:lnTo>
                  <a:lnTo>
                    <a:pt x="49" y="389"/>
                  </a:lnTo>
                  <a:lnTo>
                    <a:pt x="75" y="141"/>
                  </a:lnTo>
                  <a:lnTo>
                    <a:pt x="91" y="200"/>
                  </a:lnTo>
                  <a:lnTo>
                    <a:pt x="120" y="58"/>
                  </a:lnTo>
                  <a:lnTo>
                    <a:pt x="131" y="119"/>
                  </a:lnTo>
                  <a:lnTo>
                    <a:pt x="164" y="29"/>
                  </a:lnTo>
                  <a:lnTo>
                    <a:pt x="145" y="21"/>
                  </a:lnTo>
                  <a:lnTo>
                    <a:pt x="126" y="18"/>
                  </a:lnTo>
                  <a:lnTo>
                    <a:pt x="114" y="18"/>
                  </a:lnTo>
                  <a:lnTo>
                    <a:pt x="1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290840" y="3659040"/>
              <a:ext cx="35280" cy="82800"/>
            </a:xfrm>
            <a:custGeom>
              <a:avLst/>
              <a:gdLst/>
              <a:ahLst/>
              <a:rect l="0" t="0" r="r" b="b"/>
              <a:pathLst>
                <a:path w="98" h="230">
                  <a:moveTo>
                    <a:pt x="0" y="0"/>
                  </a:moveTo>
                  <a:lnTo>
                    <a:pt x="98" y="14"/>
                  </a:lnTo>
                  <a:lnTo>
                    <a:pt x="72" y="119"/>
                  </a:lnTo>
                  <a:lnTo>
                    <a:pt x="58" y="78"/>
                  </a:lnTo>
                  <a:lnTo>
                    <a:pt x="33" y="230"/>
                  </a:lnTo>
                  <a:lnTo>
                    <a:pt x="22" y="71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3314880" y="4033800"/>
            <a:ext cx="176400" cy="322560"/>
            <a:chOff x="3314880" y="4033800"/>
            <a:chExt cx="176400" cy="322560"/>
          </a:xfrm>
        </p:grpSpPr>
        <p:sp>
          <p:nvSpPr>
            <p:cNvPr id="1296" name=""/>
            <p:cNvSpPr/>
            <p:nvPr/>
          </p:nvSpPr>
          <p:spPr>
            <a:xfrm>
              <a:off x="3314880" y="4033800"/>
              <a:ext cx="176400" cy="322560"/>
            </a:xfrm>
            <a:custGeom>
              <a:avLst/>
              <a:gdLst/>
              <a:ahLst/>
              <a:rect l="0" t="0" r="r" b="b"/>
              <a:pathLst>
                <a:path w="490" h="896">
                  <a:moveTo>
                    <a:pt x="0" y="0"/>
                  </a:moveTo>
                  <a:lnTo>
                    <a:pt x="21" y="452"/>
                  </a:lnTo>
                  <a:lnTo>
                    <a:pt x="92" y="309"/>
                  </a:lnTo>
                  <a:lnTo>
                    <a:pt x="147" y="896"/>
                  </a:lnTo>
                  <a:lnTo>
                    <a:pt x="227" y="326"/>
                  </a:lnTo>
                  <a:lnTo>
                    <a:pt x="271" y="461"/>
                  </a:lnTo>
                  <a:lnTo>
                    <a:pt x="359" y="133"/>
                  </a:lnTo>
                  <a:lnTo>
                    <a:pt x="393" y="276"/>
                  </a:lnTo>
                  <a:lnTo>
                    <a:pt x="490" y="66"/>
                  </a:lnTo>
                  <a:lnTo>
                    <a:pt x="435" y="50"/>
                  </a:lnTo>
                  <a:lnTo>
                    <a:pt x="376" y="41"/>
                  </a:lnTo>
                  <a:lnTo>
                    <a:pt x="342" y="41"/>
                  </a:lnTo>
                  <a:lnTo>
                    <a:pt x="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332160" y="4037040"/>
              <a:ext cx="106560" cy="192600"/>
            </a:xfrm>
            <a:custGeom>
              <a:avLst/>
              <a:gdLst/>
              <a:ahLst/>
              <a:rect l="0" t="0" r="r" b="b"/>
              <a:pathLst>
                <a:path w="296" h="535">
                  <a:moveTo>
                    <a:pt x="0" y="0"/>
                  </a:moveTo>
                  <a:lnTo>
                    <a:pt x="296" y="33"/>
                  </a:lnTo>
                  <a:lnTo>
                    <a:pt x="219" y="276"/>
                  </a:lnTo>
                  <a:lnTo>
                    <a:pt x="176" y="184"/>
                  </a:lnTo>
                  <a:lnTo>
                    <a:pt x="102" y="535"/>
                  </a:lnTo>
                  <a:lnTo>
                    <a:pt x="68" y="167"/>
                  </a:lnTo>
                  <a:lnTo>
                    <a:pt x="0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2976480" y="4516560"/>
            <a:ext cx="224280" cy="437040"/>
            <a:chOff x="2976480" y="4516560"/>
            <a:chExt cx="224280" cy="437040"/>
          </a:xfrm>
        </p:grpSpPr>
        <p:sp>
          <p:nvSpPr>
            <p:cNvPr id="1299" name=""/>
            <p:cNvSpPr/>
            <p:nvPr/>
          </p:nvSpPr>
          <p:spPr>
            <a:xfrm>
              <a:off x="2976480" y="4516560"/>
              <a:ext cx="224280" cy="437040"/>
            </a:xfrm>
            <a:custGeom>
              <a:avLst/>
              <a:gdLst/>
              <a:ahLst/>
              <a:rect l="0" t="0" r="r" b="b"/>
              <a:pathLst>
                <a:path w="623" h="1214">
                  <a:moveTo>
                    <a:pt x="0" y="0"/>
                  </a:moveTo>
                  <a:lnTo>
                    <a:pt x="26" y="613"/>
                  </a:lnTo>
                  <a:lnTo>
                    <a:pt x="117" y="420"/>
                  </a:lnTo>
                  <a:lnTo>
                    <a:pt x="188" y="1214"/>
                  </a:lnTo>
                  <a:lnTo>
                    <a:pt x="290" y="443"/>
                  </a:lnTo>
                  <a:lnTo>
                    <a:pt x="344" y="624"/>
                  </a:lnTo>
                  <a:lnTo>
                    <a:pt x="456" y="181"/>
                  </a:lnTo>
                  <a:lnTo>
                    <a:pt x="500" y="375"/>
                  </a:lnTo>
                  <a:lnTo>
                    <a:pt x="623" y="90"/>
                  </a:lnTo>
                  <a:lnTo>
                    <a:pt x="554" y="67"/>
                  </a:lnTo>
                  <a:lnTo>
                    <a:pt x="479" y="56"/>
                  </a:lnTo>
                  <a:lnTo>
                    <a:pt x="435" y="56"/>
                  </a:lnTo>
                  <a:lnTo>
                    <a:pt x="64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000240" y="4521240"/>
              <a:ext cx="132120" cy="260640"/>
            </a:xfrm>
            <a:custGeom>
              <a:avLst/>
              <a:gdLst/>
              <a:ahLst/>
              <a:rect l="0" t="0" r="r" b="b"/>
              <a:pathLst>
                <a:path w="367" h="724">
                  <a:moveTo>
                    <a:pt x="0" y="0"/>
                  </a:moveTo>
                  <a:lnTo>
                    <a:pt x="367" y="45"/>
                  </a:lnTo>
                  <a:lnTo>
                    <a:pt x="271" y="373"/>
                  </a:lnTo>
                  <a:lnTo>
                    <a:pt x="218" y="248"/>
                  </a:lnTo>
                  <a:lnTo>
                    <a:pt x="127" y="724"/>
                  </a:lnTo>
                  <a:lnTo>
                    <a:pt x="84" y="225"/>
                  </a:lnTo>
                  <a:lnTo>
                    <a:pt x="0" y="3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3141720" y="2308320"/>
            <a:ext cx="919440" cy="714600"/>
            <a:chOff x="3141720" y="2308320"/>
            <a:chExt cx="919440" cy="714600"/>
          </a:xfrm>
        </p:grpSpPr>
        <p:grpSp>
          <p:nvGrpSpPr>
            <p:cNvPr id="1302" name=""/>
            <p:cNvGrpSpPr/>
            <p:nvPr/>
          </p:nvGrpSpPr>
          <p:grpSpPr>
            <a:xfrm>
              <a:off x="3362400" y="2502000"/>
              <a:ext cx="698760" cy="520920"/>
              <a:chOff x="3362400" y="2502000"/>
              <a:chExt cx="698760" cy="520920"/>
            </a:xfrm>
          </p:grpSpPr>
          <p:sp>
            <p:nvSpPr>
              <p:cNvPr id="1303" name=""/>
              <p:cNvSpPr/>
              <p:nvPr/>
            </p:nvSpPr>
            <p:spPr>
              <a:xfrm>
                <a:off x="3362400" y="2511360"/>
                <a:ext cx="694080" cy="511560"/>
              </a:xfrm>
              <a:custGeom>
                <a:avLst/>
                <a:gdLst/>
                <a:ahLst/>
                <a:rect l="0" t="0" r="r" b="b"/>
                <a:pathLst>
                  <a:path w="1928" h="1421">
                    <a:moveTo>
                      <a:pt x="127" y="0"/>
                    </a:moveTo>
                    <a:lnTo>
                      <a:pt x="674" y="339"/>
                    </a:lnTo>
                    <a:lnTo>
                      <a:pt x="1081" y="596"/>
                    </a:lnTo>
                    <a:lnTo>
                      <a:pt x="1451" y="834"/>
                    </a:lnTo>
                    <a:lnTo>
                      <a:pt x="1619" y="918"/>
                    </a:lnTo>
                    <a:lnTo>
                      <a:pt x="1831" y="1006"/>
                    </a:lnTo>
                    <a:lnTo>
                      <a:pt x="1928" y="1050"/>
                    </a:lnTo>
                    <a:lnTo>
                      <a:pt x="1905" y="1192"/>
                    </a:lnTo>
                    <a:lnTo>
                      <a:pt x="1835" y="1316"/>
                    </a:lnTo>
                    <a:lnTo>
                      <a:pt x="1764" y="1386"/>
                    </a:lnTo>
                    <a:lnTo>
                      <a:pt x="1720" y="1421"/>
                    </a:lnTo>
                    <a:lnTo>
                      <a:pt x="1539" y="1280"/>
                    </a:lnTo>
                    <a:lnTo>
                      <a:pt x="1284" y="1104"/>
                    </a:lnTo>
                    <a:lnTo>
                      <a:pt x="939" y="847"/>
                    </a:lnTo>
                    <a:lnTo>
                      <a:pt x="639" y="636"/>
                    </a:lnTo>
                    <a:lnTo>
                      <a:pt x="299" y="384"/>
                    </a:lnTo>
                    <a:lnTo>
                      <a:pt x="0" y="18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60606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370320" y="2502000"/>
                <a:ext cx="690840" cy="514800"/>
              </a:xfrm>
              <a:custGeom>
                <a:avLst/>
                <a:gdLst/>
                <a:ahLst/>
                <a:rect l="0" t="0" r="r" b="b"/>
                <a:pathLst>
                  <a:path w="1919" h="1430">
                    <a:moveTo>
                      <a:pt x="123" y="0"/>
                    </a:moveTo>
                    <a:lnTo>
                      <a:pt x="665" y="339"/>
                    </a:lnTo>
                    <a:lnTo>
                      <a:pt x="1072" y="605"/>
                    </a:lnTo>
                    <a:lnTo>
                      <a:pt x="1447" y="834"/>
                    </a:lnTo>
                    <a:lnTo>
                      <a:pt x="1606" y="922"/>
                    </a:lnTo>
                    <a:lnTo>
                      <a:pt x="1817" y="1010"/>
                    </a:lnTo>
                    <a:lnTo>
                      <a:pt x="1919" y="1059"/>
                    </a:lnTo>
                    <a:lnTo>
                      <a:pt x="1910" y="1122"/>
                    </a:lnTo>
                    <a:lnTo>
                      <a:pt x="1897" y="1205"/>
                    </a:lnTo>
                    <a:lnTo>
                      <a:pt x="1866" y="1263"/>
                    </a:lnTo>
                    <a:lnTo>
                      <a:pt x="1826" y="1329"/>
                    </a:lnTo>
                    <a:lnTo>
                      <a:pt x="1804" y="1355"/>
                    </a:lnTo>
                    <a:lnTo>
                      <a:pt x="1764" y="1399"/>
                    </a:lnTo>
                    <a:lnTo>
                      <a:pt x="1716" y="1430"/>
                    </a:lnTo>
                    <a:lnTo>
                      <a:pt x="1531" y="1289"/>
                    </a:lnTo>
                    <a:lnTo>
                      <a:pt x="1279" y="1113"/>
                    </a:lnTo>
                    <a:lnTo>
                      <a:pt x="930" y="847"/>
                    </a:lnTo>
                    <a:lnTo>
                      <a:pt x="630" y="631"/>
                    </a:lnTo>
                    <a:lnTo>
                      <a:pt x="295" y="384"/>
                    </a:lnTo>
                    <a:lnTo>
                      <a:pt x="0" y="176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3173400" y="2308320"/>
              <a:ext cx="357480" cy="327240"/>
              <a:chOff x="3173400" y="2308320"/>
              <a:chExt cx="357480" cy="327240"/>
            </a:xfrm>
          </p:grpSpPr>
          <p:sp>
            <p:nvSpPr>
              <p:cNvPr id="1306" name=""/>
              <p:cNvSpPr/>
              <p:nvPr/>
            </p:nvSpPr>
            <p:spPr>
              <a:xfrm>
                <a:off x="3178080" y="2314440"/>
                <a:ext cx="352800" cy="321120"/>
              </a:xfrm>
              <a:custGeom>
                <a:avLst/>
                <a:gdLst/>
                <a:ahLst/>
                <a:rect l="0" t="0" r="r" b="b"/>
                <a:pathLst>
                  <a:path w="980" h="892">
                    <a:moveTo>
                      <a:pt x="0" y="813"/>
                    </a:moveTo>
                    <a:lnTo>
                      <a:pt x="171" y="892"/>
                    </a:lnTo>
                    <a:lnTo>
                      <a:pt x="309" y="685"/>
                    </a:lnTo>
                    <a:lnTo>
                      <a:pt x="349" y="662"/>
                    </a:lnTo>
                    <a:lnTo>
                      <a:pt x="384" y="653"/>
                    </a:lnTo>
                    <a:lnTo>
                      <a:pt x="424" y="658"/>
                    </a:lnTo>
                    <a:lnTo>
                      <a:pt x="521" y="725"/>
                    </a:lnTo>
                    <a:lnTo>
                      <a:pt x="658" y="521"/>
                    </a:lnTo>
                    <a:lnTo>
                      <a:pt x="547" y="446"/>
                    </a:lnTo>
                    <a:lnTo>
                      <a:pt x="521" y="406"/>
                    </a:lnTo>
                    <a:lnTo>
                      <a:pt x="512" y="362"/>
                    </a:lnTo>
                    <a:lnTo>
                      <a:pt x="516" y="322"/>
                    </a:lnTo>
                    <a:lnTo>
                      <a:pt x="534" y="296"/>
                    </a:lnTo>
                    <a:lnTo>
                      <a:pt x="556" y="265"/>
                    </a:lnTo>
                    <a:lnTo>
                      <a:pt x="613" y="211"/>
                    </a:lnTo>
                    <a:lnTo>
                      <a:pt x="688" y="145"/>
                    </a:lnTo>
                    <a:lnTo>
                      <a:pt x="795" y="83"/>
                    </a:lnTo>
                    <a:lnTo>
                      <a:pt x="897" y="39"/>
                    </a:lnTo>
                    <a:lnTo>
                      <a:pt x="980" y="0"/>
                    </a:lnTo>
                    <a:lnTo>
                      <a:pt x="804" y="35"/>
                    </a:lnTo>
                    <a:lnTo>
                      <a:pt x="640" y="83"/>
                    </a:lnTo>
                    <a:lnTo>
                      <a:pt x="552" y="123"/>
                    </a:lnTo>
                    <a:lnTo>
                      <a:pt x="494" y="149"/>
                    </a:lnTo>
                    <a:lnTo>
                      <a:pt x="384" y="225"/>
                    </a:lnTo>
                    <a:lnTo>
                      <a:pt x="322" y="283"/>
                    </a:lnTo>
                    <a:lnTo>
                      <a:pt x="265" y="344"/>
                    </a:lnTo>
                    <a:lnTo>
                      <a:pt x="216" y="415"/>
                    </a:lnTo>
                    <a:lnTo>
                      <a:pt x="171" y="486"/>
                    </a:lnTo>
                    <a:lnTo>
                      <a:pt x="123" y="578"/>
                    </a:lnTo>
                    <a:lnTo>
                      <a:pt x="83" y="666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173400" y="2308320"/>
                <a:ext cx="349560" cy="322560"/>
              </a:xfrm>
              <a:custGeom>
                <a:avLst/>
                <a:gdLst/>
                <a:ahLst/>
                <a:rect l="0" t="0" r="r" b="b"/>
                <a:pathLst>
                  <a:path w="971" h="896">
                    <a:moveTo>
                      <a:pt x="0" y="816"/>
                    </a:moveTo>
                    <a:lnTo>
                      <a:pt x="167" y="896"/>
                    </a:lnTo>
                    <a:lnTo>
                      <a:pt x="299" y="693"/>
                    </a:lnTo>
                    <a:lnTo>
                      <a:pt x="335" y="671"/>
                    </a:lnTo>
                    <a:lnTo>
                      <a:pt x="370" y="649"/>
                    </a:lnTo>
                    <a:lnTo>
                      <a:pt x="410" y="666"/>
                    </a:lnTo>
                    <a:lnTo>
                      <a:pt x="512" y="728"/>
                    </a:lnTo>
                    <a:lnTo>
                      <a:pt x="644" y="525"/>
                    </a:lnTo>
                    <a:lnTo>
                      <a:pt x="543" y="440"/>
                    </a:lnTo>
                    <a:lnTo>
                      <a:pt x="512" y="405"/>
                    </a:lnTo>
                    <a:lnTo>
                      <a:pt x="508" y="361"/>
                    </a:lnTo>
                    <a:lnTo>
                      <a:pt x="512" y="321"/>
                    </a:lnTo>
                    <a:lnTo>
                      <a:pt x="521" y="299"/>
                    </a:lnTo>
                    <a:lnTo>
                      <a:pt x="547" y="264"/>
                    </a:lnTo>
                    <a:lnTo>
                      <a:pt x="609" y="211"/>
                    </a:lnTo>
                    <a:lnTo>
                      <a:pt x="680" y="154"/>
                    </a:lnTo>
                    <a:lnTo>
                      <a:pt x="785" y="88"/>
                    </a:lnTo>
                    <a:lnTo>
                      <a:pt x="887" y="39"/>
                    </a:lnTo>
                    <a:lnTo>
                      <a:pt x="971" y="0"/>
                    </a:lnTo>
                    <a:lnTo>
                      <a:pt x="794" y="35"/>
                    </a:lnTo>
                    <a:lnTo>
                      <a:pt x="627" y="88"/>
                    </a:lnTo>
                    <a:lnTo>
                      <a:pt x="534" y="123"/>
                    </a:lnTo>
                    <a:lnTo>
                      <a:pt x="480" y="154"/>
                    </a:lnTo>
                    <a:lnTo>
                      <a:pt x="418" y="180"/>
                    </a:lnTo>
                    <a:lnTo>
                      <a:pt x="366" y="229"/>
                    </a:lnTo>
                    <a:lnTo>
                      <a:pt x="308" y="295"/>
                    </a:lnTo>
                    <a:lnTo>
                      <a:pt x="255" y="348"/>
                    </a:lnTo>
                    <a:lnTo>
                      <a:pt x="207" y="418"/>
                    </a:lnTo>
                    <a:lnTo>
                      <a:pt x="167" y="490"/>
                    </a:lnTo>
                    <a:lnTo>
                      <a:pt x="110" y="583"/>
                    </a:lnTo>
                    <a:lnTo>
                      <a:pt x="70" y="671"/>
                    </a:lnTo>
                    <a:lnTo>
                      <a:pt x="0" y="81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3141720" y="2592360"/>
              <a:ext cx="108360" cy="102240"/>
              <a:chOff x="3141720" y="2592360"/>
              <a:chExt cx="108360" cy="102240"/>
            </a:xfrm>
          </p:grpSpPr>
          <p:sp>
            <p:nvSpPr>
              <p:cNvPr id="1309" name=""/>
              <p:cNvSpPr/>
              <p:nvPr/>
            </p:nvSpPr>
            <p:spPr>
              <a:xfrm>
                <a:off x="3141720" y="2598840"/>
                <a:ext cx="108360" cy="95760"/>
              </a:xfrm>
              <a:custGeom>
                <a:avLst/>
                <a:gdLst/>
                <a:ahLst/>
                <a:rect l="0" t="0" r="r" b="b"/>
                <a:pathLst>
                  <a:path w="301" h="266">
                    <a:moveTo>
                      <a:pt x="61" y="0"/>
                    </a:moveTo>
                    <a:lnTo>
                      <a:pt x="186" y="67"/>
                    </a:lnTo>
                    <a:lnTo>
                      <a:pt x="301" y="133"/>
                    </a:lnTo>
                    <a:lnTo>
                      <a:pt x="240" y="266"/>
                    </a:lnTo>
                    <a:lnTo>
                      <a:pt x="208" y="257"/>
                    </a:lnTo>
                    <a:lnTo>
                      <a:pt x="164" y="257"/>
                    </a:lnTo>
                    <a:lnTo>
                      <a:pt x="133" y="240"/>
                    </a:lnTo>
                    <a:lnTo>
                      <a:pt x="80" y="213"/>
                    </a:lnTo>
                    <a:lnTo>
                      <a:pt x="44" y="177"/>
                    </a:lnTo>
                    <a:lnTo>
                      <a:pt x="13" y="150"/>
                    </a:lnTo>
                    <a:lnTo>
                      <a:pt x="0" y="111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141720" y="2592360"/>
                <a:ext cx="108360" cy="93960"/>
              </a:xfrm>
              <a:custGeom>
                <a:avLst/>
                <a:gdLst/>
                <a:ahLst/>
                <a:rect l="0" t="0" r="r" b="b"/>
                <a:pathLst>
                  <a:path w="301" h="261">
                    <a:moveTo>
                      <a:pt x="66" y="0"/>
                    </a:moveTo>
                    <a:lnTo>
                      <a:pt x="190" y="70"/>
                    </a:lnTo>
                    <a:lnTo>
                      <a:pt x="301" y="119"/>
                    </a:lnTo>
                    <a:lnTo>
                      <a:pt x="240" y="261"/>
                    </a:lnTo>
                    <a:lnTo>
                      <a:pt x="199" y="261"/>
                    </a:lnTo>
                    <a:lnTo>
                      <a:pt x="164" y="247"/>
                    </a:lnTo>
                    <a:lnTo>
                      <a:pt x="133" y="239"/>
                    </a:lnTo>
                    <a:lnTo>
                      <a:pt x="84" y="203"/>
                    </a:lnTo>
                    <a:lnTo>
                      <a:pt x="39" y="168"/>
                    </a:lnTo>
                    <a:lnTo>
                      <a:pt x="13" y="142"/>
                    </a:lnTo>
                    <a:lnTo>
                      <a:pt x="0" y="11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1" name=""/>
          <p:cNvSpPr/>
          <p:nvPr/>
        </p:nvSpPr>
        <p:spPr>
          <a:xfrm>
            <a:off x="3263760" y="2762280"/>
            <a:ext cx="140040" cy="101880"/>
          </a:xfrm>
          <a:custGeom>
            <a:avLst/>
            <a:gdLst/>
            <a:ahLst/>
            <a:rect l="0" t="0" r="r" b="b"/>
            <a:pathLst>
              <a:path fill="none" w="389" h="283">
                <a:moveTo>
                  <a:pt x="0" y="0"/>
                </a:moveTo>
                <a:lnTo>
                  <a:pt x="105" y="283"/>
                </a:lnTo>
                <a:lnTo>
                  <a:pt x="336" y="230"/>
                </a:lnTo>
                <a:lnTo>
                  <a:pt x="389" y="8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2095560" y="2793960"/>
            <a:ext cx="368280" cy="88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146320" y="300996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1143000" y="25146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K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1371600" y="380880"/>
            <a:ext cx="6477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gram Was Brought To You By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7853400" y="684360"/>
            <a:ext cx="330480" cy="448200"/>
          </a:xfrm>
          <a:custGeom>
            <a:avLst/>
            <a:gdLst/>
            <a:ahLst/>
            <a:rect l="0" t="0" r="r" b="b"/>
            <a:pathLst>
              <a:path w="918" h="1245">
                <a:moveTo>
                  <a:pt x="666" y="44"/>
                </a:moveTo>
                <a:lnTo>
                  <a:pt x="644" y="26"/>
                </a:lnTo>
                <a:lnTo>
                  <a:pt x="622" y="8"/>
                </a:lnTo>
                <a:lnTo>
                  <a:pt x="596" y="4"/>
                </a:lnTo>
                <a:lnTo>
                  <a:pt x="569" y="0"/>
                </a:lnTo>
                <a:lnTo>
                  <a:pt x="516" y="0"/>
                </a:lnTo>
                <a:lnTo>
                  <a:pt x="477" y="0"/>
                </a:lnTo>
                <a:lnTo>
                  <a:pt x="440" y="8"/>
                </a:lnTo>
                <a:lnTo>
                  <a:pt x="414" y="13"/>
                </a:lnTo>
                <a:lnTo>
                  <a:pt x="392" y="26"/>
                </a:lnTo>
                <a:lnTo>
                  <a:pt x="379" y="35"/>
                </a:lnTo>
                <a:lnTo>
                  <a:pt x="361" y="48"/>
                </a:lnTo>
                <a:lnTo>
                  <a:pt x="339" y="52"/>
                </a:lnTo>
                <a:lnTo>
                  <a:pt x="308" y="61"/>
                </a:lnTo>
                <a:lnTo>
                  <a:pt x="273" y="74"/>
                </a:lnTo>
                <a:lnTo>
                  <a:pt x="233" y="88"/>
                </a:lnTo>
                <a:lnTo>
                  <a:pt x="194" y="110"/>
                </a:lnTo>
                <a:lnTo>
                  <a:pt x="149" y="136"/>
                </a:lnTo>
                <a:lnTo>
                  <a:pt x="119" y="171"/>
                </a:lnTo>
                <a:lnTo>
                  <a:pt x="83" y="202"/>
                </a:lnTo>
                <a:lnTo>
                  <a:pt x="66" y="246"/>
                </a:lnTo>
                <a:lnTo>
                  <a:pt x="79" y="238"/>
                </a:lnTo>
                <a:lnTo>
                  <a:pt x="101" y="233"/>
                </a:lnTo>
                <a:lnTo>
                  <a:pt x="119" y="229"/>
                </a:lnTo>
                <a:lnTo>
                  <a:pt x="132" y="224"/>
                </a:lnTo>
                <a:lnTo>
                  <a:pt x="83" y="273"/>
                </a:lnTo>
                <a:lnTo>
                  <a:pt x="57" y="336"/>
                </a:lnTo>
                <a:lnTo>
                  <a:pt x="35" y="402"/>
                </a:lnTo>
                <a:lnTo>
                  <a:pt x="4" y="464"/>
                </a:lnTo>
                <a:lnTo>
                  <a:pt x="35" y="464"/>
                </a:lnTo>
                <a:lnTo>
                  <a:pt x="70" y="459"/>
                </a:lnTo>
                <a:lnTo>
                  <a:pt x="101" y="455"/>
                </a:lnTo>
                <a:lnTo>
                  <a:pt x="123" y="441"/>
                </a:lnTo>
                <a:lnTo>
                  <a:pt x="83" y="499"/>
                </a:lnTo>
                <a:lnTo>
                  <a:pt x="48" y="583"/>
                </a:lnTo>
                <a:lnTo>
                  <a:pt x="8" y="675"/>
                </a:lnTo>
                <a:lnTo>
                  <a:pt x="0" y="750"/>
                </a:lnTo>
                <a:lnTo>
                  <a:pt x="8" y="807"/>
                </a:lnTo>
                <a:lnTo>
                  <a:pt x="30" y="874"/>
                </a:lnTo>
                <a:lnTo>
                  <a:pt x="52" y="927"/>
                </a:lnTo>
                <a:lnTo>
                  <a:pt x="70" y="967"/>
                </a:lnTo>
                <a:lnTo>
                  <a:pt x="83" y="1007"/>
                </a:lnTo>
                <a:lnTo>
                  <a:pt x="119" y="1064"/>
                </a:lnTo>
                <a:lnTo>
                  <a:pt x="158" y="1126"/>
                </a:lnTo>
                <a:lnTo>
                  <a:pt x="211" y="1170"/>
                </a:lnTo>
                <a:lnTo>
                  <a:pt x="220" y="1144"/>
                </a:lnTo>
                <a:lnTo>
                  <a:pt x="220" y="1126"/>
                </a:lnTo>
                <a:lnTo>
                  <a:pt x="224" y="1108"/>
                </a:lnTo>
                <a:lnTo>
                  <a:pt x="224" y="1086"/>
                </a:lnTo>
                <a:lnTo>
                  <a:pt x="246" y="1113"/>
                </a:lnTo>
                <a:lnTo>
                  <a:pt x="264" y="1152"/>
                </a:lnTo>
                <a:lnTo>
                  <a:pt x="299" y="1192"/>
                </a:lnTo>
                <a:lnTo>
                  <a:pt x="361" y="1232"/>
                </a:lnTo>
                <a:lnTo>
                  <a:pt x="357" y="1205"/>
                </a:lnTo>
                <a:lnTo>
                  <a:pt x="357" y="1183"/>
                </a:lnTo>
                <a:lnTo>
                  <a:pt x="357" y="1179"/>
                </a:lnTo>
                <a:lnTo>
                  <a:pt x="357" y="1170"/>
                </a:lnTo>
                <a:lnTo>
                  <a:pt x="401" y="1210"/>
                </a:lnTo>
                <a:lnTo>
                  <a:pt x="427" y="1232"/>
                </a:lnTo>
                <a:lnTo>
                  <a:pt x="440" y="1241"/>
                </a:lnTo>
                <a:lnTo>
                  <a:pt x="477" y="1245"/>
                </a:lnTo>
                <a:lnTo>
                  <a:pt x="486" y="1214"/>
                </a:lnTo>
                <a:lnTo>
                  <a:pt x="494" y="1188"/>
                </a:lnTo>
                <a:lnTo>
                  <a:pt x="516" y="1166"/>
                </a:lnTo>
                <a:lnTo>
                  <a:pt x="556" y="1157"/>
                </a:lnTo>
                <a:lnTo>
                  <a:pt x="596" y="1139"/>
                </a:lnTo>
                <a:lnTo>
                  <a:pt x="631" y="1113"/>
                </a:lnTo>
                <a:lnTo>
                  <a:pt x="662" y="1082"/>
                </a:lnTo>
                <a:lnTo>
                  <a:pt x="710" y="1055"/>
                </a:lnTo>
                <a:lnTo>
                  <a:pt x="746" y="1033"/>
                </a:lnTo>
                <a:lnTo>
                  <a:pt x="785" y="1003"/>
                </a:lnTo>
                <a:lnTo>
                  <a:pt x="812" y="963"/>
                </a:lnTo>
                <a:lnTo>
                  <a:pt x="816" y="913"/>
                </a:lnTo>
                <a:lnTo>
                  <a:pt x="821" y="865"/>
                </a:lnTo>
                <a:lnTo>
                  <a:pt x="838" y="816"/>
                </a:lnTo>
                <a:lnTo>
                  <a:pt x="847" y="768"/>
                </a:lnTo>
                <a:lnTo>
                  <a:pt x="838" y="710"/>
                </a:lnTo>
                <a:lnTo>
                  <a:pt x="865" y="733"/>
                </a:lnTo>
                <a:lnTo>
                  <a:pt x="878" y="741"/>
                </a:lnTo>
                <a:lnTo>
                  <a:pt x="896" y="759"/>
                </a:lnTo>
                <a:lnTo>
                  <a:pt x="904" y="763"/>
                </a:lnTo>
                <a:lnTo>
                  <a:pt x="918" y="706"/>
                </a:lnTo>
                <a:lnTo>
                  <a:pt x="918" y="627"/>
                </a:lnTo>
                <a:lnTo>
                  <a:pt x="900" y="538"/>
                </a:lnTo>
                <a:lnTo>
                  <a:pt x="878" y="477"/>
                </a:lnTo>
                <a:lnTo>
                  <a:pt x="860" y="415"/>
                </a:lnTo>
                <a:lnTo>
                  <a:pt x="860" y="353"/>
                </a:lnTo>
                <a:lnTo>
                  <a:pt x="847" y="295"/>
                </a:lnTo>
                <a:lnTo>
                  <a:pt x="821" y="251"/>
                </a:lnTo>
                <a:lnTo>
                  <a:pt x="777" y="211"/>
                </a:lnTo>
                <a:lnTo>
                  <a:pt x="746" y="163"/>
                </a:lnTo>
                <a:lnTo>
                  <a:pt x="719" y="123"/>
                </a:lnTo>
                <a:lnTo>
                  <a:pt x="697" y="83"/>
                </a:lnTo>
                <a:lnTo>
                  <a:pt x="693" y="74"/>
                </a:lnTo>
                <a:lnTo>
                  <a:pt x="688" y="61"/>
                </a:lnTo>
                <a:lnTo>
                  <a:pt x="675" y="52"/>
                </a:lnTo>
                <a:lnTo>
                  <a:pt x="666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228600" y="5880240"/>
            <a:ext cx="4496040" cy="584640"/>
          </a:xfrm>
          <a:custGeom>
            <a:avLst/>
            <a:gdLst/>
            <a:ahLst/>
            <a:rect l="0" t="0" r="r" b="b"/>
            <a:pathLst>
              <a:path w="12489" h="1624">
                <a:moveTo>
                  <a:pt x="6633" y="176"/>
                </a:moveTo>
                <a:lnTo>
                  <a:pt x="6477" y="141"/>
                </a:lnTo>
                <a:lnTo>
                  <a:pt x="6361" y="141"/>
                </a:lnTo>
                <a:lnTo>
                  <a:pt x="6244" y="176"/>
                </a:lnTo>
                <a:lnTo>
                  <a:pt x="6127" y="211"/>
                </a:lnTo>
                <a:lnTo>
                  <a:pt x="6011" y="176"/>
                </a:lnTo>
                <a:lnTo>
                  <a:pt x="5895" y="176"/>
                </a:lnTo>
                <a:lnTo>
                  <a:pt x="5778" y="141"/>
                </a:lnTo>
                <a:lnTo>
                  <a:pt x="5662" y="141"/>
                </a:lnTo>
                <a:lnTo>
                  <a:pt x="5546" y="141"/>
                </a:lnTo>
                <a:lnTo>
                  <a:pt x="5429" y="141"/>
                </a:lnTo>
                <a:lnTo>
                  <a:pt x="5313" y="176"/>
                </a:lnTo>
                <a:lnTo>
                  <a:pt x="5197" y="176"/>
                </a:lnTo>
                <a:lnTo>
                  <a:pt x="5080" y="176"/>
                </a:lnTo>
                <a:lnTo>
                  <a:pt x="4964" y="176"/>
                </a:lnTo>
                <a:lnTo>
                  <a:pt x="4847" y="176"/>
                </a:lnTo>
                <a:lnTo>
                  <a:pt x="4731" y="176"/>
                </a:lnTo>
                <a:lnTo>
                  <a:pt x="4615" y="176"/>
                </a:lnTo>
                <a:lnTo>
                  <a:pt x="4498" y="176"/>
                </a:lnTo>
                <a:lnTo>
                  <a:pt x="4382" y="176"/>
                </a:lnTo>
                <a:lnTo>
                  <a:pt x="4266" y="141"/>
                </a:lnTo>
                <a:lnTo>
                  <a:pt x="4149" y="105"/>
                </a:lnTo>
                <a:lnTo>
                  <a:pt x="4033" y="105"/>
                </a:lnTo>
                <a:lnTo>
                  <a:pt x="3917" y="141"/>
                </a:lnTo>
                <a:lnTo>
                  <a:pt x="3762" y="176"/>
                </a:lnTo>
                <a:lnTo>
                  <a:pt x="3606" y="211"/>
                </a:lnTo>
                <a:lnTo>
                  <a:pt x="3451" y="176"/>
                </a:lnTo>
                <a:lnTo>
                  <a:pt x="3296" y="141"/>
                </a:lnTo>
                <a:lnTo>
                  <a:pt x="3180" y="105"/>
                </a:lnTo>
                <a:lnTo>
                  <a:pt x="3063" y="105"/>
                </a:lnTo>
                <a:lnTo>
                  <a:pt x="2947" y="105"/>
                </a:lnTo>
                <a:lnTo>
                  <a:pt x="2831" y="105"/>
                </a:lnTo>
                <a:lnTo>
                  <a:pt x="2714" y="105"/>
                </a:lnTo>
                <a:lnTo>
                  <a:pt x="2598" y="141"/>
                </a:lnTo>
                <a:lnTo>
                  <a:pt x="2482" y="141"/>
                </a:lnTo>
                <a:lnTo>
                  <a:pt x="2365" y="141"/>
                </a:lnTo>
                <a:lnTo>
                  <a:pt x="2249" y="105"/>
                </a:lnTo>
                <a:lnTo>
                  <a:pt x="2133" y="70"/>
                </a:lnTo>
                <a:lnTo>
                  <a:pt x="2016" y="35"/>
                </a:lnTo>
                <a:lnTo>
                  <a:pt x="1900" y="0"/>
                </a:lnTo>
                <a:lnTo>
                  <a:pt x="1784" y="35"/>
                </a:lnTo>
                <a:lnTo>
                  <a:pt x="1667" y="35"/>
                </a:lnTo>
                <a:lnTo>
                  <a:pt x="1551" y="35"/>
                </a:lnTo>
                <a:lnTo>
                  <a:pt x="1434" y="35"/>
                </a:lnTo>
                <a:lnTo>
                  <a:pt x="1318" y="35"/>
                </a:lnTo>
                <a:lnTo>
                  <a:pt x="1202" y="35"/>
                </a:lnTo>
                <a:lnTo>
                  <a:pt x="1085" y="70"/>
                </a:lnTo>
                <a:lnTo>
                  <a:pt x="969" y="141"/>
                </a:lnTo>
                <a:lnTo>
                  <a:pt x="853" y="246"/>
                </a:lnTo>
                <a:lnTo>
                  <a:pt x="736" y="317"/>
                </a:lnTo>
                <a:lnTo>
                  <a:pt x="620" y="352"/>
                </a:lnTo>
                <a:lnTo>
                  <a:pt x="504" y="352"/>
                </a:lnTo>
                <a:lnTo>
                  <a:pt x="387" y="352"/>
                </a:lnTo>
                <a:lnTo>
                  <a:pt x="271" y="352"/>
                </a:lnTo>
                <a:lnTo>
                  <a:pt x="155" y="388"/>
                </a:lnTo>
                <a:lnTo>
                  <a:pt x="38" y="388"/>
                </a:lnTo>
                <a:lnTo>
                  <a:pt x="0" y="494"/>
                </a:lnTo>
                <a:lnTo>
                  <a:pt x="0" y="600"/>
                </a:lnTo>
                <a:lnTo>
                  <a:pt x="0" y="706"/>
                </a:lnTo>
                <a:lnTo>
                  <a:pt x="116" y="812"/>
                </a:lnTo>
                <a:lnTo>
                  <a:pt x="232" y="882"/>
                </a:lnTo>
                <a:lnTo>
                  <a:pt x="349" y="882"/>
                </a:lnTo>
                <a:lnTo>
                  <a:pt x="465" y="882"/>
                </a:lnTo>
                <a:lnTo>
                  <a:pt x="581" y="882"/>
                </a:lnTo>
                <a:lnTo>
                  <a:pt x="698" y="882"/>
                </a:lnTo>
                <a:lnTo>
                  <a:pt x="814" y="918"/>
                </a:lnTo>
                <a:lnTo>
                  <a:pt x="892" y="1024"/>
                </a:lnTo>
                <a:lnTo>
                  <a:pt x="969" y="1129"/>
                </a:lnTo>
                <a:lnTo>
                  <a:pt x="1085" y="1200"/>
                </a:lnTo>
                <a:lnTo>
                  <a:pt x="1202" y="1200"/>
                </a:lnTo>
                <a:lnTo>
                  <a:pt x="1318" y="1165"/>
                </a:lnTo>
                <a:lnTo>
                  <a:pt x="1434" y="1129"/>
                </a:lnTo>
                <a:lnTo>
                  <a:pt x="1551" y="1094"/>
                </a:lnTo>
                <a:lnTo>
                  <a:pt x="1667" y="1094"/>
                </a:lnTo>
                <a:lnTo>
                  <a:pt x="1784" y="1165"/>
                </a:lnTo>
                <a:lnTo>
                  <a:pt x="1900" y="1236"/>
                </a:lnTo>
                <a:lnTo>
                  <a:pt x="2016" y="1272"/>
                </a:lnTo>
                <a:lnTo>
                  <a:pt x="2133" y="1272"/>
                </a:lnTo>
                <a:lnTo>
                  <a:pt x="2210" y="1377"/>
                </a:lnTo>
                <a:lnTo>
                  <a:pt x="2288" y="1483"/>
                </a:lnTo>
                <a:lnTo>
                  <a:pt x="2365" y="1589"/>
                </a:lnTo>
                <a:lnTo>
                  <a:pt x="2482" y="1624"/>
                </a:lnTo>
                <a:lnTo>
                  <a:pt x="2520" y="1518"/>
                </a:lnTo>
                <a:lnTo>
                  <a:pt x="2520" y="1413"/>
                </a:lnTo>
                <a:lnTo>
                  <a:pt x="2637" y="1377"/>
                </a:lnTo>
                <a:lnTo>
                  <a:pt x="2753" y="1377"/>
                </a:lnTo>
                <a:lnTo>
                  <a:pt x="2869" y="1483"/>
                </a:lnTo>
                <a:lnTo>
                  <a:pt x="2986" y="1518"/>
                </a:lnTo>
                <a:lnTo>
                  <a:pt x="3102" y="1554"/>
                </a:lnTo>
                <a:lnTo>
                  <a:pt x="3219" y="1518"/>
                </a:lnTo>
                <a:lnTo>
                  <a:pt x="3335" y="1413"/>
                </a:lnTo>
                <a:lnTo>
                  <a:pt x="3451" y="1413"/>
                </a:lnTo>
                <a:lnTo>
                  <a:pt x="3568" y="1413"/>
                </a:lnTo>
                <a:lnTo>
                  <a:pt x="3684" y="1448"/>
                </a:lnTo>
                <a:lnTo>
                  <a:pt x="3839" y="1554"/>
                </a:lnTo>
                <a:lnTo>
                  <a:pt x="3955" y="1589"/>
                </a:lnTo>
                <a:lnTo>
                  <a:pt x="4072" y="1624"/>
                </a:lnTo>
                <a:lnTo>
                  <a:pt x="4188" y="1518"/>
                </a:lnTo>
                <a:lnTo>
                  <a:pt x="4304" y="1483"/>
                </a:lnTo>
                <a:lnTo>
                  <a:pt x="4421" y="1448"/>
                </a:lnTo>
                <a:lnTo>
                  <a:pt x="4537" y="1413"/>
                </a:lnTo>
                <a:lnTo>
                  <a:pt x="4654" y="1377"/>
                </a:lnTo>
                <a:lnTo>
                  <a:pt x="4770" y="1342"/>
                </a:lnTo>
                <a:lnTo>
                  <a:pt x="4886" y="1342"/>
                </a:lnTo>
                <a:lnTo>
                  <a:pt x="5003" y="1342"/>
                </a:lnTo>
                <a:lnTo>
                  <a:pt x="5119" y="1377"/>
                </a:lnTo>
                <a:lnTo>
                  <a:pt x="5235" y="1413"/>
                </a:lnTo>
                <a:lnTo>
                  <a:pt x="5352" y="1448"/>
                </a:lnTo>
                <a:lnTo>
                  <a:pt x="5468" y="1448"/>
                </a:lnTo>
                <a:lnTo>
                  <a:pt x="5584" y="1483"/>
                </a:lnTo>
                <a:lnTo>
                  <a:pt x="5701" y="1483"/>
                </a:lnTo>
                <a:lnTo>
                  <a:pt x="5856" y="1448"/>
                </a:lnTo>
                <a:lnTo>
                  <a:pt x="5972" y="1413"/>
                </a:lnTo>
                <a:lnTo>
                  <a:pt x="6089" y="1377"/>
                </a:lnTo>
                <a:lnTo>
                  <a:pt x="6205" y="1377"/>
                </a:lnTo>
                <a:lnTo>
                  <a:pt x="6322" y="1342"/>
                </a:lnTo>
                <a:lnTo>
                  <a:pt x="6439" y="1307"/>
                </a:lnTo>
                <a:lnTo>
                  <a:pt x="6555" y="1272"/>
                </a:lnTo>
                <a:lnTo>
                  <a:pt x="6671" y="1236"/>
                </a:lnTo>
                <a:lnTo>
                  <a:pt x="6788" y="1200"/>
                </a:lnTo>
                <a:lnTo>
                  <a:pt x="6904" y="1165"/>
                </a:lnTo>
                <a:lnTo>
                  <a:pt x="7020" y="1165"/>
                </a:lnTo>
                <a:lnTo>
                  <a:pt x="7137" y="1165"/>
                </a:lnTo>
                <a:lnTo>
                  <a:pt x="7253" y="1165"/>
                </a:lnTo>
                <a:lnTo>
                  <a:pt x="7369" y="1165"/>
                </a:lnTo>
                <a:lnTo>
                  <a:pt x="7486" y="1200"/>
                </a:lnTo>
                <a:lnTo>
                  <a:pt x="7602" y="1236"/>
                </a:lnTo>
                <a:lnTo>
                  <a:pt x="7718" y="1272"/>
                </a:lnTo>
                <a:lnTo>
                  <a:pt x="7835" y="1272"/>
                </a:lnTo>
                <a:lnTo>
                  <a:pt x="7951" y="1272"/>
                </a:lnTo>
                <a:lnTo>
                  <a:pt x="8106" y="1272"/>
                </a:lnTo>
                <a:lnTo>
                  <a:pt x="8261" y="1200"/>
                </a:lnTo>
                <a:lnTo>
                  <a:pt x="8378" y="1165"/>
                </a:lnTo>
                <a:lnTo>
                  <a:pt x="8494" y="1129"/>
                </a:lnTo>
                <a:lnTo>
                  <a:pt x="8649" y="1129"/>
                </a:lnTo>
                <a:lnTo>
                  <a:pt x="8804" y="1165"/>
                </a:lnTo>
                <a:lnTo>
                  <a:pt x="8960" y="1200"/>
                </a:lnTo>
                <a:lnTo>
                  <a:pt x="9076" y="1272"/>
                </a:lnTo>
                <a:lnTo>
                  <a:pt x="9192" y="1307"/>
                </a:lnTo>
                <a:lnTo>
                  <a:pt x="9309" y="1342"/>
                </a:lnTo>
                <a:lnTo>
                  <a:pt x="9425" y="1342"/>
                </a:lnTo>
                <a:lnTo>
                  <a:pt x="9580" y="1272"/>
                </a:lnTo>
                <a:lnTo>
                  <a:pt x="9696" y="1236"/>
                </a:lnTo>
                <a:lnTo>
                  <a:pt x="9813" y="1165"/>
                </a:lnTo>
                <a:lnTo>
                  <a:pt x="9929" y="1129"/>
                </a:lnTo>
                <a:lnTo>
                  <a:pt x="10045" y="1129"/>
                </a:lnTo>
                <a:lnTo>
                  <a:pt x="10201" y="1129"/>
                </a:lnTo>
                <a:lnTo>
                  <a:pt x="10356" y="1129"/>
                </a:lnTo>
                <a:lnTo>
                  <a:pt x="10511" y="1129"/>
                </a:lnTo>
                <a:lnTo>
                  <a:pt x="10627" y="1165"/>
                </a:lnTo>
                <a:lnTo>
                  <a:pt x="10744" y="1165"/>
                </a:lnTo>
                <a:lnTo>
                  <a:pt x="10860" y="1200"/>
                </a:lnTo>
                <a:lnTo>
                  <a:pt x="10976" y="1200"/>
                </a:lnTo>
                <a:lnTo>
                  <a:pt x="11131" y="1200"/>
                </a:lnTo>
                <a:lnTo>
                  <a:pt x="11287" y="1200"/>
                </a:lnTo>
                <a:lnTo>
                  <a:pt x="11403" y="1129"/>
                </a:lnTo>
                <a:lnTo>
                  <a:pt x="11519" y="1094"/>
                </a:lnTo>
                <a:lnTo>
                  <a:pt x="11636" y="1094"/>
                </a:lnTo>
                <a:lnTo>
                  <a:pt x="11752" y="1094"/>
                </a:lnTo>
                <a:lnTo>
                  <a:pt x="11868" y="1094"/>
                </a:lnTo>
                <a:lnTo>
                  <a:pt x="11985" y="1094"/>
                </a:lnTo>
                <a:lnTo>
                  <a:pt x="12101" y="1059"/>
                </a:lnTo>
                <a:lnTo>
                  <a:pt x="12217" y="1024"/>
                </a:lnTo>
                <a:lnTo>
                  <a:pt x="12334" y="988"/>
                </a:lnTo>
                <a:lnTo>
                  <a:pt x="12450" y="918"/>
                </a:lnTo>
                <a:lnTo>
                  <a:pt x="12489" y="812"/>
                </a:lnTo>
                <a:lnTo>
                  <a:pt x="12489" y="706"/>
                </a:lnTo>
                <a:lnTo>
                  <a:pt x="12450" y="600"/>
                </a:lnTo>
                <a:lnTo>
                  <a:pt x="12334" y="494"/>
                </a:lnTo>
                <a:lnTo>
                  <a:pt x="12217" y="494"/>
                </a:lnTo>
                <a:lnTo>
                  <a:pt x="12101" y="459"/>
                </a:lnTo>
                <a:lnTo>
                  <a:pt x="11985" y="459"/>
                </a:lnTo>
                <a:lnTo>
                  <a:pt x="11868" y="424"/>
                </a:lnTo>
                <a:lnTo>
                  <a:pt x="11713" y="352"/>
                </a:lnTo>
                <a:lnTo>
                  <a:pt x="11597" y="317"/>
                </a:lnTo>
                <a:lnTo>
                  <a:pt x="11480" y="246"/>
                </a:lnTo>
                <a:lnTo>
                  <a:pt x="11364" y="211"/>
                </a:lnTo>
                <a:lnTo>
                  <a:pt x="11248" y="176"/>
                </a:lnTo>
                <a:lnTo>
                  <a:pt x="11131" y="211"/>
                </a:lnTo>
                <a:lnTo>
                  <a:pt x="11015" y="211"/>
                </a:lnTo>
                <a:lnTo>
                  <a:pt x="10899" y="211"/>
                </a:lnTo>
                <a:lnTo>
                  <a:pt x="10782" y="211"/>
                </a:lnTo>
                <a:lnTo>
                  <a:pt x="10666" y="211"/>
                </a:lnTo>
                <a:lnTo>
                  <a:pt x="10550" y="211"/>
                </a:lnTo>
                <a:lnTo>
                  <a:pt x="10433" y="211"/>
                </a:lnTo>
                <a:lnTo>
                  <a:pt x="10317" y="246"/>
                </a:lnTo>
                <a:lnTo>
                  <a:pt x="10201" y="246"/>
                </a:lnTo>
                <a:lnTo>
                  <a:pt x="10084" y="211"/>
                </a:lnTo>
                <a:lnTo>
                  <a:pt x="9968" y="211"/>
                </a:lnTo>
                <a:lnTo>
                  <a:pt x="9852" y="176"/>
                </a:lnTo>
                <a:lnTo>
                  <a:pt x="9735" y="176"/>
                </a:lnTo>
                <a:lnTo>
                  <a:pt x="9580" y="211"/>
                </a:lnTo>
                <a:lnTo>
                  <a:pt x="9464" y="246"/>
                </a:lnTo>
                <a:lnTo>
                  <a:pt x="9347" y="246"/>
                </a:lnTo>
                <a:lnTo>
                  <a:pt x="9231" y="246"/>
                </a:lnTo>
                <a:lnTo>
                  <a:pt x="9115" y="282"/>
                </a:lnTo>
                <a:lnTo>
                  <a:pt x="8998" y="282"/>
                </a:lnTo>
                <a:lnTo>
                  <a:pt x="8843" y="282"/>
                </a:lnTo>
                <a:lnTo>
                  <a:pt x="8727" y="282"/>
                </a:lnTo>
                <a:lnTo>
                  <a:pt x="8572" y="282"/>
                </a:lnTo>
                <a:lnTo>
                  <a:pt x="8417" y="211"/>
                </a:lnTo>
                <a:lnTo>
                  <a:pt x="8300" y="211"/>
                </a:lnTo>
                <a:lnTo>
                  <a:pt x="8184" y="211"/>
                </a:lnTo>
                <a:lnTo>
                  <a:pt x="8029" y="211"/>
                </a:lnTo>
                <a:lnTo>
                  <a:pt x="7874" y="211"/>
                </a:lnTo>
                <a:lnTo>
                  <a:pt x="7757" y="246"/>
                </a:lnTo>
                <a:lnTo>
                  <a:pt x="7641" y="282"/>
                </a:lnTo>
                <a:lnTo>
                  <a:pt x="7525" y="246"/>
                </a:lnTo>
                <a:lnTo>
                  <a:pt x="7408" y="246"/>
                </a:lnTo>
                <a:lnTo>
                  <a:pt x="7292" y="211"/>
                </a:lnTo>
                <a:lnTo>
                  <a:pt x="7175" y="211"/>
                </a:lnTo>
                <a:lnTo>
                  <a:pt x="7059" y="211"/>
                </a:lnTo>
                <a:lnTo>
                  <a:pt x="6943" y="211"/>
                </a:lnTo>
                <a:lnTo>
                  <a:pt x="6826" y="211"/>
                </a:lnTo>
                <a:lnTo>
                  <a:pt x="6633" y="176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7869240" y="703440"/>
            <a:ext cx="298800" cy="410040"/>
          </a:xfrm>
          <a:custGeom>
            <a:avLst/>
            <a:gdLst/>
            <a:ahLst/>
            <a:rect l="0" t="0" r="r" b="b"/>
            <a:pathLst>
              <a:path w="830" h="1139">
                <a:moveTo>
                  <a:pt x="512" y="0"/>
                </a:moveTo>
                <a:lnTo>
                  <a:pt x="468" y="0"/>
                </a:lnTo>
                <a:lnTo>
                  <a:pt x="433" y="0"/>
                </a:lnTo>
                <a:lnTo>
                  <a:pt x="396" y="4"/>
                </a:lnTo>
                <a:lnTo>
                  <a:pt x="374" y="17"/>
                </a:lnTo>
                <a:lnTo>
                  <a:pt x="357" y="26"/>
                </a:lnTo>
                <a:lnTo>
                  <a:pt x="339" y="30"/>
                </a:lnTo>
                <a:lnTo>
                  <a:pt x="321" y="44"/>
                </a:lnTo>
                <a:lnTo>
                  <a:pt x="308" y="48"/>
                </a:lnTo>
                <a:lnTo>
                  <a:pt x="282" y="52"/>
                </a:lnTo>
                <a:lnTo>
                  <a:pt x="255" y="57"/>
                </a:lnTo>
                <a:lnTo>
                  <a:pt x="229" y="70"/>
                </a:lnTo>
                <a:lnTo>
                  <a:pt x="202" y="79"/>
                </a:lnTo>
                <a:lnTo>
                  <a:pt x="176" y="97"/>
                </a:lnTo>
                <a:lnTo>
                  <a:pt x="149" y="105"/>
                </a:lnTo>
                <a:lnTo>
                  <a:pt x="132" y="123"/>
                </a:lnTo>
                <a:lnTo>
                  <a:pt x="114" y="136"/>
                </a:lnTo>
                <a:lnTo>
                  <a:pt x="132" y="136"/>
                </a:lnTo>
                <a:lnTo>
                  <a:pt x="141" y="145"/>
                </a:lnTo>
                <a:lnTo>
                  <a:pt x="158" y="145"/>
                </a:lnTo>
                <a:lnTo>
                  <a:pt x="167" y="145"/>
                </a:lnTo>
                <a:lnTo>
                  <a:pt x="110" y="194"/>
                </a:lnTo>
                <a:lnTo>
                  <a:pt x="83" y="246"/>
                </a:lnTo>
                <a:lnTo>
                  <a:pt x="61" y="305"/>
                </a:lnTo>
                <a:lnTo>
                  <a:pt x="30" y="358"/>
                </a:lnTo>
                <a:lnTo>
                  <a:pt x="57" y="358"/>
                </a:lnTo>
                <a:lnTo>
                  <a:pt x="88" y="344"/>
                </a:lnTo>
                <a:lnTo>
                  <a:pt x="119" y="331"/>
                </a:lnTo>
                <a:lnTo>
                  <a:pt x="154" y="331"/>
                </a:lnTo>
                <a:lnTo>
                  <a:pt x="132" y="358"/>
                </a:lnTo>
                <a:lnTo>
                  <a:pt x="110" y="402"/>
                </a:lnTo>
                <a:lnTo>
                  <a:pt x="83" y="455"/>
                </a:lnTo>
                <a:lnTo>
                  <a:pt x="57" y="512"/>
                </a:lnTo>
                <a:lnTo>
                  <a:pt x="35" y="574"/>
                </a:lnTo>
                <a:lnTo>
                  <a:pt x="13" y="627"/>
                </a:lnTo>
                <a:lnTo>
                  <a:pt x="4" y="671"/>
                </a:lnTo>
                <a:lnTo>
                  <a:pt x="0" y="702"/>
                </a:lnTo>
                <a:lnTo>
                  <a:pt x="8" y="755"/>
                </a:lnTo>
                <a:lnTo>
                  <a:pt x="30" y="807"/>
                </a:lnTo>
                <a:lnTo>
                  <a:pt x="57" y="857"/>
                </a:lnTo>
                <a:lnTo>
                  <a:pt x="66" y="897"/>
                </a:lnTo>
                <a:lnTo>
                  <a:pt x="79" y="923"/>
                </a:lnTo>
                <a:lnTo>
                  <a:pt x="88" y="958"/>
                </a:lnTo>
                <a:lnTo>
                  <a:pt x="105" y="998"/>
                </a:lnTo>
                <a:lnTo>
                  <a:pt x="136" y="1033"/>
                </a:lnTo>
                <a:lnTo>
                  <a:pt x="141" y="1011"/>
                </a:lnTo>
                <a:lnTo>
                  <a:pt x="154" y="989"/>
                </a:lnTo>
                <a:lnTo>
                  <a:pt x="158" y="976"/>
                </a:lnTo>
                <a:lnTo>
                  <a:pt x="167" y="958"/>
                </a:lnTo>
                <a:lnTo>
                  <a:pt x="189" y="985"/>
                </a:lnTo>
                <a:lnTo>
                  <a:pt x="211" y="1025"/>
                </a:lnTo>
                <a:lnTo>
                  <a:pt x="242" y="1064"/>
                </a:lnTo>
                <a:lnTo>
                  <a:pt x="286" y="1108"/>
                </a:lnTo>
                <a:lnTo>
                  <a:pt x="286" y="1082"/>
                </a:lnTo>
                <a:lnTo>
                  <a:pt x="291" y="1064"/>
                </a:lnTo>
                <a:lnTo>
                  <a:pt x="295" y="1055"/>
                </a:lnTo>
                <a:lnTo>
                  <a:pt x="295" y="1051"/>
                </a:lnTo>
                <a:lnTo>
                  <a:pt x="330" y="1082"/>
                </a:lnTo>
                <a:lnTo>
                  <a:pt x="357" y="1108"/>
                </a:lnTo>
                <a:lnTo>
                  <a:pt x="388" y="1130"/>
                </a:lnTo>
                <a:lnTo>
                  <a:pt x="410" y="1139"/>
                </a:lnTo>
                <a:lnTo>
                  <a:pt x="419" y="1113"/>
                </a:lnTo>
                <a:lnTo>
                  <a:pt x="433" y="1086"/>
                </a:lnTo>
                <a:lnTo>
                  <a:pt x="450" y="1073"/>
                </a:lnTo>
                <a:lnTo>
                  <a:pt x="490" y="1060"/>
                </a:lnTo>
                <a:lnTo>
                  <a:pt x="525" y="1051"/>
                </a:lnTo>
                <a:lnTo>
                  <a:pt x="552" y="1025"/>
                </a:lnTo>
                <a:lnTo>
                  <a:pt x="587" y="989"/>
                </a:lnTo>
                <a:lnTo>
                  <a:pt x="622" y="967"/>
                </a:lnTo>
                <a:lnTo>
                  <a:pt x="662" y="954"/>
                </a:lnTo>
                <a:lnTo>
                  <a:pt x="693" y="928"/>
                </a:lnTo>
                <a:lnTo>
                  <a:pt x="715" y="888"/>
                </a:lnTo>
                <a:lnTo>
                  <a:pt x="719" y="847"/>
                </a:lnTo>
                <a:lnTo>
                  <a:pt x="724" y="785"/>
                </a:lnTo>
                <a:lnTo>
                  <a:pt x="741" y="715"/>
                </a:lnTo>
                <a:lnTo>
                  <a:pt x="750" y="644"/>
                </a:lnTo>
                <a:lnTo>
                  <a:pt x="746" y="578"/>
                </a:lnTo>
                <a:lnTo>
                  <a:pt x="772" y="596"/>
                </a:lnTo>
                <a:lnTo>
                  <a:pt x="794" y="605"/>
                </a:lnTo>
                <a:lnTo>
                  <a:pt x="816" y="622"/>
                </a:lnTo>
                <a:lnTo>
                  <a:pt x="830" y="631"/>
                </a:lnTo>
                <a:lnTo>
                  <a:pt x="830" y="587"/>
                </a:lnTo>
                <a:lnTo>
                  <a:pt x="821" y="534"/>
                </a:lnTo>
                <a:lnTo>
                  <a:pt x="799" y="486"/>
                </a:lnTo>
                <a:lnTo>
                  <a:pt x="772" y="437"/>
                </a:lnTo>
                <a:lnTo>
                  <a:pt x="759" y="384"/>
                </a:lnTo>
                <a:lnTo>
                  <a:pt x="759" y="322"/>
                </a:lnTo>
                <a:lnTo>
                  <a:pt x="755" y="260"/>
                </a:lnTo>
                <a:lnTo>
                  <a:pt x="733" y="220"/>
                </a:lnTo>
                <a:lnTo>
                  <a:pt x="697" y="185"/>
                </a:lnTo>
                <a:lnTo>
                  <a:pt x="666" y="145"/>
                </a:lnTo>
                <a:lnTo>
                  <a:pt x="644" y="105"/>
                </a:lnTo>
                <a:lnTo>
                  <a:pt x="627" y="74"/>
                </a:lnTo>
                <a:lnTo>
                  <a:pt x="605" y="48"/>
                </a:lnTo>
                <a:lnTo>
                  <a:pt x="578" y="22"/>
                </a:lnTo>
                <a:lnTo>
                  <a:pt x="547" y="4"/>
                </a:lnTo>
                <a:lnTo>
                  <a:pt x="512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0" y="5600520"/>
            <a:ext cx="9207720" cy="140040"/>
          </a:xfrm>
          <a:custGeom>
            <a:avLst/>
            <a:gdLst/>
            <a:ahLst/>
            <a:rect l="0" t="0" r="r" b="b"/>
            <a:pathLst>
              <a:path fill="none" w="25577" h="389">
                <a:moveTo>
                  <a:pt x="0" y="353"/>
                </a:moveTo>
                <a:lnTo>
                  <a:pt x="2010" y="283"/>
                </a:lnTo>
                <a:lnTo>
                  <a:pt x="4833" y="318"/>
                </a:lnTo>
                <a:lnTo>
                  <a:pt x="10371" y="141"/>
                </a:lnTo>
                <a:lnTo>
                  <a:pt x="16264" y="70"/>
                </a:lnTo>
                <a:lnTo>
                  <a:pt x="18098" y="389"/>
                </a:lnTo>
                <a:lnTo>
                  <a:pt x="21238" y="176"/>
                </a:lnTo>
                <a:lnTo>
                  <a:pt x="23672" y="0"/>
                </a:lnTo>
                <a:lnTo>
                  <a:pt x="25577" y="176"/>
                </a:lnTo>
                <a:lnTo>
                  <a:pt x="25396" y="10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8255160" y="2727360"/>
            <a:ext cx="43200" cy="89280"/>
          </a:xfrm>
          <a:custGeom>
            <a:avLst/>
            <a:gdLst/>
            <a:ahLst/>
            <a:rect l="0" t="0" r="r" b="b"/>
            <a:pathLst>
              <a:path w="120" h="248">
                <a:moveTo>
                  <a:pt x="120" y="8"/>
                </a:moveTo>
                <a:lnTo>
                  <a:pt x="0" y="0"/>
                </a:lnTo>
                <a:lnTo>
                  <a:pt x="39" y="248"/>
                </a:lnTo>
                <a:lnTo>
                  <a:pt x="120" y="8"/>
                </a:lnTo>
                <a:close/>
              </a:path>
            </a:pathLst>
          </a:custGeom>
          <a:solidFill>
            <a:srgbClr val="ccf2f2"/>
          </a:solidFill>
          <a:ln w="0">
            <a:noFill/>
          </a:ln>
        </p:spPr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8018640" y="1238400"/>
            <a:ext cx="522360" cy="1762200"/>
            <a:chOff x="8018640" y="1238400"/>
            <a:chExt cx="522360" cy="1762200"/>
          </a:xfrm>
        </p:grpSpPr>
        <p:sp>
          <p:nvSpPr>
            <p:cNvPr id="1322" name=""/>
            <p:cNvSpPr/>
            <p:nvPr/>
          </p:nvSpPr>
          <p:spPr>
            <a:xfrm>
              <a:off x="8232840" y="1987560"/>
              <a:ext cx="240120" cy="1013040"/>
            </a:xfrm>
            <a:custGeom>
              <a:avLst/>
              <a:gdLst/>
              <a:ahLst/>
              <a:rect l="0" t="0" r="r" b="b"/>
              <a:pathLst>
                <a:path w="667" h="2814">
                  <a:moveTo>
                    <a:pt x="0" y="2055"/>
                  </a:moveTo>
                  <a:lnTo>
                    <a:pt x="97" y="2514"/>
                  </a:lnTo>
                  <a:lnTo>
                    <a:pt x="221" y="2113"/>
                  </a:lnTo>
                  <a:lnTo>
                    <a:pt x="256" y="2470"/>
                  </a:lnTo>
                  <a:lnTo>
                    <a:pt x="336" y="2329"/>
                  </a:lnTo>
                  <a:lnTo>
                    <a:pt x="411" y="2814"/>
                  </a:lnTo>
                  <a:lnTo>
                    <a:pt x="513" y="1919"/>
                  </a:lnTo>
                  <a:lnTo>
                    <a:pt x="592" y="2091"/>
                  </a:lnTo>
                  <a:lnTo>
                    <a:pt x="575" y="1115"/>
                  </a:lnTo>
                  <a:lnTo>
                    <a:pt x="667" y="1221"/>
                  </a:lnTo>
                  <a:lnTo>
                    <a:pt x="531" y="0"/>
                  </a:lnTo>
                  <a:lnTo>
                    <a:pt x="522" y="255"/>
                  </a:lnTo>
                  <a:lnTo>
                    <a:pt x="411" y="2077"/>
                  </a:lnTo>
                  <a:lnTo>
                    <a:pt x="247" y="2064"/>
                  </a:lnTo>
                  <a:lnTo>
                    <a:pt x="181" y="2064"/>
                  </a:lnTo>
                  <a:lnTo>
                    <a:pt x="61" y="2055"/>
                  </a:lnTo>
                  <a:lnTo>
                    <a:pt x="0" y="2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435880" y="1238400"/>
              <a:ext cx="105120" cy="757440"/>
            </a:xfrm>
            <a:custGeom>
              <a:avLst/>
              <a:gdLst/>
              <a:ahLst/>
              <a:rect l="0" t="0" r="r" b="b"/>
              <a:pathLst>
                <a:path w="292" h="2104">
                  <a:moveTo>
                    <a:pt x="0" y="1482"/>
                  </a:moveTo>
                  <a:lnTo>
                    <a:pt x="17" y="1169"/>
                  </a:lnTo>
                  <a:lnTo>
                    <a:pt x="66" y="330"/>
                  </a:lnTo>
                  <a:lnTo>
                    <a:pt x="88" y="0"/>
                  </a:lnTo>
                  <a:lnTo>
                    <a:pt x="292" y="1036"/>
                  </a:lnTo>
                  <a:lnTo>
                    <a:pt x="181" y="956"/>
                  </a:lnTo>
                  <a:lnTo>
                    <a:pt x="119" y="2104"/>
                  </a:lnTo>
                  <a:lnTo>
                    <a:pt x="0" y="1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018640" y="2712960"/>
              <a:ext cx="184680" cy="170280"/>
            </a:xfrm>
            <a:custGeom>
              <a:avLst/>
              <a:gdLst/>
              <a:ahLst/>
              <a:rect l="0" t="0" r="r" b="b"/>
              <a:pathLst>
                <a:path w="513" h="473">
                  <a:moveTo>
                    <a:pt x="0" y="0"/>
                  </a:moveTo>
                  <a:lnTo>
                    <a:pt x="22" y="239"/>
                  </a:lnTo>
                  <a:lnTo>
                    <a:pt x="97" y="164"/>
                  </a:lnTo>
                  <a:lnTo>
                    <a:pt x="155" y="473"/>
                  </a:lnTo>
                  <a:lnTo>
                    <a:pt x="239" y="172"/>
                  </a:lnTo>
                  <a:lnTo>
                    <a:pt x="283" y="243"/>
                  </a:lnTo>
                  <a:lnTo>
                    <a:pt x="375" y="70"/>
                  </a:lnTo>
                  <a:lnTo>
                    <a:pt x="412" y="146"/>
                  </a:lnTo>
                  <a:lnTo>
                    <a:pt x="513" y="35"/>
                  </a:lnTo>
                  <a:lnTo>
                    <a:pt x="456" y="26"/>
                  </a:lnTo>
                  <a:lnTo>
                    <a:pt x="394" y="22"/>
                  </a:lnTo>
                  <a:lnTo>
                    <a:pt x="358" y="22"/>
                  </a:lnTo>
                  <a:lnTo>
                    <a:pt x="5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321760" y="2079720"/>
              <a:ext cx="127440" cy="805320"/>
            </a:xfrm>
            <a:custGeom>
              <a:avLst/>
              <a:gdLst/>
              <a:ahLst/>
              <a:rect l="0" t="0" r="r" b="b"/>
              <a:pathLst>
                <a:path w="354" h="2237">
                  <a:moveTo>
                    <a:pt x="275" y="0"/>
                  </a:moveTo>
                  <a:lnTo>
                    <a:pt x="164" y="1823"/>
                  </a:lnTo>
                  <a:lnTo>
                    <a:pt x="0" y="1809"/>
                  </a:lnTo>
                  <a:lnTo>
                    <a:pt x="35" y="2065"/>
                  </a:lnTo>
                  <a:lnTo>
                    <a:pt x="111" y="1924"/>
                  </a:lnTo>
                  <a:lnTo>
                    <a:pt x="159" y="2237"/>
                  </a:lnTo>
                  <a:lnTo>
                    <a:pt x="234" y="1495"/>
                  </a:lnTo>
                  <a:lnTo>
                    <a:pt x="284" y="1597"/>
                  </a:lnTo>
                  <a:lnTo>
                    <a:pt x="266" y="719"/>
                  </a:lnTo>
                  <a:lnTo>
                    <a:pt x="354" y="807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037360" y="2714760"/>
              <a:ext cx="109800" cy="101880"/>
            </a:xfrm>
            <a:custGeom>
              <a:avLst/>
              <a:gdLst/>
              <a:ahLst/>
              <a:rect l="0" t="0" r="r" b="b"/>
              <a:pathLst>
                <a:path w="305" h="283">
                  <a:moveTo>
                    <a:pt x="0" y="0"/>
                  </a:moveTo>
                  <a:lnTo>
                    <a:pt x="305" y="17"/>
                  </a:lnTo>
                  <a:lnTo>
                    <a:pt x="225" y="146"/>
                  </a:lnTo>
                  <a:lnTo>
                    <a:pt x="181" y="97"/>
                  </a:lnTo>
                  <a:lnTo>
                    <a:pt x="105" y="283"/>
                  </a:lnTo>
                  <a:lnTo>
                    <a:pt x="70" y="88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442360" y="1357200"/>
              <a:ext cx="62280" cy="448200"/>
            </a:xfrm>
            <a:custGeom>
              <a:avLst/>
              <a:gdLst/>
              <a:ahLst/>
              <a:rect l="0" t="0" r="r" b="b"/>
              <a:pathLst>
                <a:path w="173" h="1245">
                  <a:moveTo>
                    <a:pt x="49" y="0"/>
                  </a:moveTo>
                  <a:lnTo>
                    <a:pt x="0" y="838"/>
                  </a:lnTo>
                  <a:lnTo>
                    <a:pt x="71" y="1245"/>
                  </a:lnTo>
                  <a:lnTo>
                    <a:pt x="106" y="477"/>
                  </a:lnTo>
                  <a:lnTo>
                    <a:pt x="173" y="54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7991640" y="685800"/>
            <a:ext cx="506880" cy="2061000"/>
            <a:chOff x="7991640" y="685800"/>
            <a:chExt cx="506880" cy="2061000"/>
          </a:xfrm>
        </p:grpSpPr>
        <p:sp>
          <p:nvSpPr>
            <p:cNvPr id="1329" name=""/>
            <p:cNvSpPr/>
            <p:nvPr/>
          </p:nvSpPr>
          <p:spPr>
            <a:xfrm>
              <a:off x="7991640" y="685800"/>
              <a:ext cx="506880" cy="2049840"/>
            </a:xfrm>
            <a:custGeom>
              <a:avLst/>
              <a:gdLst/>
              <a:ahLst/>
              <a:rect l="0" t="0" r="r" b="b"/>
              <a:pathLst>
                <a:path w="1408" h="5694">
                  <a:moveTo>
                    <a:pt x="0" y="5628"/>
                  </a:moveTo>
                  <a:lnTo>
                    <a:pt x="74" y="5633"/>
                  </a:lnTo>
                  <a:lnTo>
                    <a:pt x="127" y="5637"/>
                  </a:lnTo>
                  <a:lnTo>
                    <a:pt x="433" y="5655"/>
                  </a:lnTo>
                  <a:lnTo>
                    <a:pt x="468" y="5655"/>
                  </a:lnTo>
                  <a:lnTo>
                    <a:pt x="530" y="5659"/>
                  </a:lnTo>
                  <a:lnTo>
                    <a:pt x="587" y="5668"/>
                  </a:lnTo>
                  <a:lnTo>
                    <a:pt x="671" y="5672"/>
                  </a:lnTo>
                  <a:lnTo>
                    <a:pt x="733" y="5672"/>
                  </a:lnTo>
                  <a:lnTo>
                    <a:pt x="852" y="5681"/>
                  </a:lnTo>
                  <a:lnTo>
                    <a:pt x="918" y="5681"/>
                  </a:lnTo>
                  <a:lnTo>
                    <a:pt x="1082" y="5694"/>
                  </a:lnTo>
                  <a:lnTo>
                    <a:pt x="1192" y="3872"/>
                  </a:lnTo>
                  <a:lnTo>
                    <a:pt x="1201" y="3616"/>
                  </a:lnTo>
                  <a:lnTo>
                    <a:pt x="1236" y="3017"/>
                  </a:lnTo>
                  <a:lnTo>
                    <a:pt x="1254" y="2704"/>
                  </a:lnTo>
                  <a:lnTo>
                    <a:pt x="1302" y="1866"/>
                  </a:lnTo>
                  <a:lnTo>
                    <a:pt x="1324" y="1535"/>
                  </a:lnTo>
                  <a:lnTo>
                    <a:pt x="1408" y="0"/>
                  </a:lnTo>
                  <a:lnTo>
                    <a:pt x="52" y="114"/>
                  </a:lnTo>
                  <a:lnTo>
                    <a:pt x="0" y="56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024760" y="746280"/>
              <a:ext cx="410040" cy="1938600"/>
            </a:xfrm>
            <a:custGeom>
              <a:avLst/>
              <a:gdLst/>
              <a:ahLst/>
              <a:rect l="0" t="0" r="r" b="b"/>
              <a:pathLst>
                <a:path w="1139" h="5385">
                  <a:moveTo>
                    <a:pt x="83" y="57"/>
                  </a:moveTo>
                  <a:lnTo>
                    <a:pt x="1139" y="0"/>
                  </a:lnTo>
                  <a:lnTo>
                    <a:pt x="830" y="5385"/>
                  </a:lnTo>
                  <a:lnTo>
                    <a:pt x="0" y="5349"/>
                  </a:lnTo>
                  <a:lnTo>
                    <a:pt x="83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248680" y="2490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9" y="14"/>
                  </a:moveTo>
                  <a:lnTo>
                    <a:pt x="33" y="14"/>
                  </a:lnTo>
                  <a:lnTo>
                    <a:pt x="26" y="22"/>
                  </a:lnTo>
                  <a:lnTo>
                    <a:pt x="12" y="22"/>
                  </a:lnTo>
                  <a:lnTo>
                    <a:pt x="12" y="29"/>
                  </a:lnTo>
                  <a:lnTo>
                    <a:pt x="12" y="43"/>
                  </a:lnTo>
                  <a:lnTo>
                    <a:pt x="26" y="43"/>
                  </a:lnTo>
                  <a:lnTo>
                    <a:pt x="26" y="50"/>
                  </a:lnTo>
                  <a:lnTo>
                    <a:pt x="33" y="58"/>
                  </a:lnTo>
                  <a:lnTo>
                    <a:pt x="39" y="58"/>
                  </a:lnTo>
                  <a:lnTo>
                    <a:pt x="45" y="50"/>
                  </a:lnTo>
                  <a:lnTo>
                    <a:pt x="52" y="43"/>
                  </a:lnTo>
                  <a:lnTo>
                    <a:pt x="52" y="29"/>
                  </a:lnTo>
                  <a:lnTo>
                    <a:pt x="52" y="22"/>
                  </a:lnTo>
                  <a:lnTo>
                    <a:pt x="45" y="22"/>
                  </a:lnTo>
                  <a:lnTo>
                    <a:pt x="45" y="14"/>
                  </a:lnTo>
                  <a:lnTo>
                    <a:pt x="39" y="14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66" y="7"/>
                  </a:lnTo>
                  <a:lnTo>
                    <a:pt x="72" y="22"/>
                  </a:lnTo>
                  <a:lnTo>
                    <a:pt x="72" y="43"/>
                  </a:lnTo>
                  <a:lnTo>
                    <a:pt x="72" y="50"/>
                  </a:lnTo>
                  <a:lnTo>
                    <a:pt x="66" y="65"/>
                  </a:lnTo>
                  <a:lnTo>
                    <a:pt x="45" y="72"/>
                  </a:lnTo>
                  <a:lnTo>
                    <a:pt x="33" y="72"/>
                  </a:lnTo>
                  <a:lnTo>
                    <a:pt x="26" y="72"/>
                  </a:lnTo>
                  <a:lnTo>
                    <a:pt x="6" y="65"/>
                  </a:lnTo>
                  <a:lnTo>
                    <a:pt x="0" y="50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6" y="7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8269200" y="2500200"/>
              <a:ext cx="36720" cy="60840"/>
            </a:xfrm>
            <a:custGeom>
              <a:avLst/>
              <a:gdLst/>
              <a:ahLst/>
              <a:rect l="0" t="0" r="r" b="b"/>
              <a:pathLst>
                <a:path w="102" h="169">
                  <a:moveTo>
                    <a:pt x="0" y="165"/>
                  </a:moveTo>
                  <a:lnTo>
                    <a:pt x="13" y="0"/>
                  </a:lnTo>
                  <a:lnTo>
                    <a:pt x="102" y="0"/>
                  </a:lnTo>
                  <a:lnTo>
                    <a:pt x="102" y="35"/>
                  </a:lnTo>
                  <a:lnTo>
                    <a:pt x="48" y="30"/>
                  </a:lnTo>
                  <a:lnTo>
                    <a:pt x="44" y="62"/>
                  </a:lnTo>
                  <a:lnTo>
                    <a:pt x="98" y="62"/>
                  </a:lnTo>
                  <a:lnTo>
                    <a:pt x="93" y="102"/>
                  </a:lnTo>
                  <a:lnTo>
                    <a:pt x="44" y="93"/>
                  </a:lnTo>
                  <a:lnTo>
                    <a:pt x="44" y="169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8037360" y="2484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9" y="12"/>
                  </a:moveTo>
                  <a:lnTo>
                    <a:pt x="33" y="12"/>
                  </a:lnTo>
                  <a:lnTo>
                    <a:pt x="33" y="26"/>
                  </a:lnTo>
                  <a:lnTo>
                    <a:pt x="26" y="26"/>
                  </a:lnTo>
                  <a:lnTo>
                    <a:pt x="26" y="33"/>
                  </a:lnTo>
                  <a:lnTo>
                    <a:pt x="26" y="39"/>
                  </a:lnTo>
                  <a:lnTo>
                    <a:pt x="33" y="39"/>
                  </a:lnTo>
                  <a:lnTo>
                    <a:pt x="33" y="45"/>
                  </a:lnTo>
                  <a:lnTo>
                    <a:pt x="39" y="45"/>
                  </a:lnTo>
                  <a:lnTo>
                    <a:pt x="45" y="45"/>
                  </a:lnTo>
                  <a:lnTo>
                    <a:pt x="45" y="39"/>
                  </a:lnTo>
                  <a:lnTo>
                    <a:pt x="52" y="39"/>
                  </a:lnTo>
                  <a:lnTo>
                    <a:pt x="52" y="33"/>
                  </a:lnTo>
                  <a:lnTo>
                    <a:pt x="52" y="26"/>
                  </a:lnTo>
                  <a:lnTo>
                    <a:pt x="45" y="26"/>
                  </a:lnTo>
                  <a:lnTo>
                    <a:pt x="45" y="12"/>
                  </a:lnTo>
                  <a:lnTo>
                    <a:pt x="39" y="12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66" y="6"/>
                  </a:lnTo>
                  <a:lnTo>
                    <a:pt x="72" y="26"/>
                  </a:lnTo>
                  <a:lnTo>
                    <a:pt x="72" y="33"/>
                  </a:lnTo>
                  <a:lnTo>
                    <a:pt x="72" y="45"/>
                  </a:lnTo>
                  <a:lnTo>
                    <a:pt x="66" y="66"/>
                  </a:lnTo>
                  <a:lnTo>
                    <a:pt x="45" y="72"/>
                  </a:lnTo>
                  <a:lnTo>
                    <a:pt x="39" y="72"/>
                  </a:lnTo>
                  <a:lnTo>
                    <a:pt x="26" y="66"/>
                  </a:lnTo>
                  <a:lnTo>
                    <a:pt x="6" y="52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12"/>
                  </a:lnTo>
                  <a:lnTo>
                    <a:pt x="6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061480" y="2492280"/>
              <a:ext cx="38520" cy="59040"/>
            </a:xfrm>
            <a:custGeom>
              <a:avLst/>
              <a:gdLst/>
              <a:ahLst/>
              <a:rect l="0" t="0" r="r" b="b"/>
              <a:pathLst>
                <a:path w="107" h="164">
                  <a:moveTo>
                    <a:pt x="62" y="57"/>
                  </a:moveTo>
                  <a:lnTo>
                    <a:pt x="67" y="48"/>
                  </a:lnTo>
                  <a:lnTo>
                    <a:pt x="67" y="39"/>
                  </a:lnTo>
                  <a:lnTo>
                    <a:pt x="62" y="30"/>
                  </a:lnTo>
                  <a:lnTo>
                    <a:pt x="58" y="26"/>
                  </a:lnTo>
                  <a:lnTo>
                    <a:pt x="53" y="26"/>
                  </a:lnTo>
                  <a:lnTo>
                    <a:pt x="45" y="26"/>
                  </a:lnTo>
                  <a:lnTo>
                    <a:pt x="40" y="30"/>
                  </a:lnTo>
                  <a:lnTo>
                    <a:pt x="40" y="35"/>
                  </a:lnTo>
                  <a:lnTo>
                    <a:pt x="40" y="39"/>
                  </a:lnTo>
                  <a:lnTo>
                    <a:pt x="36" y="124"/>
                  </a:lnTo>
                  <a:lnTo>
                    <a:pt x="36" y="128"/>
                  </a:lnTo>
                  <a:lnTo>
                    <a:pt x="40" y="133"/>
                  </a:lnTo>
                  <a:lnTo>
                    <a:pt x="40" y="137"/>
                  </a:lnTo>
                  <a:lnTo>
                    <a:pt x="45" y="137"/>
                  </a:lnTo>
                  <a:lnTo>
                    <a:pt x="58" y="137"/>
                  </a:lnTo>
                  <a:lnTo>
                    <a:pt x="62" y="128"/>
                  </a:lnTo>
                  <a:lnTo>
                    <a:pt x="62" y="124"/>
                  </a:lnTo>
                  <a:lnTo>
                    <a:pt x="62" y="115"/>
                  </a:lnTo>
                  <a:lnTo>
                    <a:pt x="62" y="102"/>
                  </a:lnTo>
                  <a:lnTo>
                    <a:pt x="99" y="102"/>
                  </a:lnTo>
                  <a:lnTo>
                    <a:pt x="99" y="124"/>
                  </a:lnTo>
                  <a:lnTo>
                    <a:pt x="94" y="137"/>
                  </a:lnTo>
                  <a:lnTo>
                    <a:pt x="90" y="155"/>
                  </a:lnTo>
                  <a:lnTo>
                    <a:pt x="71" y="159"/>
                  </a:lnTo>
                  <a:lnTo>
                    <a:pt x="45" y="164"/>
                  </a:lnTo>
                  <a:lnTo>
                    <a:pt x="26" y="159"/>
                  </a:lnTo>
                  <a:lnTo>
                    <a:pt x="8" y="150"/>
                  </a:lnTo>
                  <a:lnTo>
                    <a:pt x="0" y="133"/>
                  </a:lnTo>
                  <a:lnTo>
                    <a:pt x="0" y="111"/>
                  </a:lnTo>
                  <a:lnTo>
                    <a:pt x="4" y="48"/>
                  </a:lnTo>
                  <a:lnTo>
                    <a:pt x="8" y="26"/>
                  </a:lnTo>
                  <a:lnTo>
                    <a:pt x="13" y="8"/>
                  </a:lnTo>
                  <a:lnTo>
                    <a:pt x="31" y="4"/>
                  </a:lnTo>
                  <a:lnTo>
                    <a:pt x="53" y="0"/>
                  </a:lnTo>
                  <a:lnTo>
                    <a:pt x="71" y="4"/>
                  </a:lnTo>
                  <a:lnTo>
                    <a:pt x="90" y="8"/>
                  </a:lnTo>
                  <a:lnTo>
                    <a:pt x="99" y="26"/>
                  </a:lnTo>
                  <a:lnTo>
                    <a:pt x="107" y="48"/>
                  </a:lnTo>
                  <a:lnTo>
                    <a:pt x="99" y="57"/>
                  </a:lnTo>
                  <a:lnTo>
                    <a:pt x="6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113680" y="1216080"/>
              <a:ext cx="128880" cy="1386360"/>
            </a:xfrm>
            <a:custGeom>
              <a:avLst/>
              <a:gdLst/>
              <a:ahLst/>
              <a:rect l="0" t="0" r="r" b="b"/>
              <a:pathLst>
                <a:path w="358" h="3851">
                  <a:moveTo>
                    <a:pt x="0" y="3829"/>
                  </a:moveTo>
                  <a:lnTo>
                    <a:pt x="309" y="3851"/>
                  </a:lnTo>
                  <a:lnTo>
                    <a:pt x="327" y="3445"/>
                  </a:lnTo>
                  <a:lnTo>
                    <a:pt x="230" y="3441"/>
                  </a:lnTo>
                  <a:lnTo>
                    <a:pt x="230" y="3375"/>
                  </a:lnTo>
                  <a:lnTo>
                    <a:pt x="239" y="3344"/>
                  </a:lnTo>
                  <a:lnTo>
                    <a:pt x="247" y="3018"/>
                  </a:lnTo>
                  <a:lnTo>
                    <a:pt x="247" y="2991"/>
                  </a:lnTo>
                  <a:lnTo>
                    <a:pt x="265" y="2646"/>
                  </a:lnTo>
                  <a:lnTo>
                    <a:pt x="265" y="2615"/>
                  </a:lnTo>
                  <a:lnTo>
                    <a:pt x="274" y="2285"/>
                  </a:lnTo>
                  <a:lnTo>
                    <a:pt x="274" y="2249"/>
                  </a:lnTo>
                  <a:lnTo>
                    <a:pt x="292" y="1901"/>
                  </a:lnTo>
                  <a:lnTo>
                    <a:pt x="292" y="1870"/>
                  </a:lnTo>
                  <a:lnTo>
                    <a:pt x="305" y="1517"/>
                  </a:lnTo>
                  <a:lnTo>
                    <a:pt x="305" y="1487"/>
                  </a:lnTo>
                  <a:lnTo>
                    <a:pt x="318" y="1121"/>
                  </a:lnTo>
                  <a:lnTo>
                    <a:pt x="322" y="1090"/>
                  </a:lnTo>
                  <a:lnTo>
                    <a:pt x="331" y="727"/>
                  </a:lnTo>
                  <a:lnTo>
                    <a:pt x="336" y="692"/>
                  </a:lnTo>
                  <a:lnTo>
                    <a:pt x="349" y="313"/>
                  </a:lnTo>
                  <a:lnTo>
                    <a:pt x="349" y="282"/>
                  </a:lnTo>
                  <a:lnTo>
                    <a:pt x="358" y="0"/>
                  </a:lnTo>
                  <a:lnTo>
                    <a:pt x="203" y="8"/>
                  </a:lnTo>
                  <a:lnTo>
                    <a:pt x="199" y="268"/>
                  </a:lnTo>
                  <a:lnTo>
                    <a:pt x="195" y="304"/>
                  </a:lnTo>
                  <a:lnTo>
                    <a:pt x="181" y="635"/>
                  </a:lnTo>
                  <a:lnTo>
                    <a:pt x="181" y="661"/>
                  </a:lnTo>
                  <a:lnTo>
                    <a:pt x="171" y="988"/>
                  </a:lnTo>
                  <a:lnTo>
                    <a:pt x="171" y="1019"/>
                  </a:lnTo>
                  <a:lnTo>
                    <a:pt x="163" y="1345"/>
                  </a:lnTo>
                  <a:lnTo>
                    <a:pt x="163" y="1372"/>
                  </a:lnTo>
                  <a:lnTo>
                    <a:pt x="149" y="1685"/>
                  </a:lnTo>
                  <a:lnTo>
                    <a:pt x="149" y="1716"/>
                  </a:lnTo>
                  <a:lnTo>
                    <a:pt x="141" y="2038"/>
                  </a:lnTo>
                  <a:lnTo>
                    <a:pt x="141" y="2069"/>
                  </a:lnTo>
                  <a:lnTo>
                    <a:pt x="127" y="2360"/>
                  </a:lnTo>
                  <a:lnTo>
                    <a:pt x="127" y="2391"/>
                  </a:lnTo>
                  <a:lnTo>
                    <a:pt x="119" y="2695"/>
                  </a:lnTo>
                  <a:lnTo>
                    <a:pt x="119" y="2726"/>
                  </a:lnTo>
                  <a:lnTo>
                    <a:pt x="110" y="3009"/>
                  </a:lnTo>
                  <a:lnTo>
                    <a:pt x="110" y="3044"/>
                  </a:lnTo>
                  <a:lnTo>
                    <a:pt x="97" y="3335"/>
                  </a:lnTo>
                  <a:lnTo>
                    <a:pt x="97" y="3371"/>
                  </a:lnTo>
                  <a:lnTo>
                    <a:pt x="97" y="3441"/>
                  </a:lnTo>
                  <a:lnTo>
                    <a:pt x="8" y="3432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037360" y="2295360"/>
              <a:ext cx="116280" cy="25920"/>
            </a:xfrm>
            <a:custGeom>
              <a:avLst/>
              <a:gdLst/>
              <a:ahLst/>
              <a:rect l="0" t="0" r="r" b="b"/>
              <a:pathLst>
                <a:path w="323" h="72">
                  <a:moveTo>
                    <a:pt x="323" y="72"/>
                  </a:moveTo>
                  <a:lnTo>
                    <a:pt x="323" y="14"/>
                  </a:lnTo>
                  <a:lnTo>
                    <a:pt x="4" y="0"/>
                  </a:lnTo>
                  <a:lnTo>
                    <a:pt x="0" y="50"/>
                  </a:lnTo>
                  <a:lnTo>
                    <a:pt x="32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202600" y="2292480"/>
              <a:ext cx="127440" cy="25920"/>
            </a:xfrm>
            <a:custGeom>
              <a:avLst/>
              <a:gdLst/>
              <a:ahLst/>
              <a:rect l="0" t="0" r="r" b="b"/>
              <a:pathLst>
                <a:path w="354" h="72">
                  <a:moveTo>
                    <a:pt x="0" y="53"/>
                  </a:moveTo>
                  <a:lnTo>
                    <a:pt x="0" y="0"/>
                  </a:lnTo>
                  <a:lnTo>
                    <a:pt x="354" y="8"/>
                  </a:lnTo>
                  <a:lnTo>
                    <a:pt x="354" y="72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211960" y="2025720"/>
              <a:ext cx="132120" cy="25920"/>
            </a:xfrm>
            <a:custGeom>
              <a:avLst/>
              <a:gdLst/>
              <a:ahLst/>
              <a:rect l="0" t="0" r="r" b="b"/>
              <a:pathLst>
                <a:path w="367" h="72">
                  <a:moveTo>
                    <a:pt x="0" y="72"/>
                  </a:moveTo>
                  <a:lnTo>
                    <a:pt x="0" y="0"/>
                  </a:lnTo>
                  <a:lnTo>
                    <a:pt x="367" y="0"/>
                  </a:lnTo>
                  <a:lnTo>
                    <a:pt x="367" y="72"/>
                  </a:lnTo>
                  <a:lnTo>
                    <a:pt x="353" y="72"/>
                  </a:lnTo>
                  <a:lnTo>
                    <a:pt x="314" y="72"/>
                  </a:lnTo>
                  <a:lnTo>
                    <a:pt x="256" y="72"/>
                  </a:lnTo>
                  <a:lnTo>
                    <a:pt x="186" y="72"/>
                  </a:lnTo>
                  <a:lnTo>
                    <a:pt x="123" y="72"/>
                  </a:lnTo>
                  <a:lnTo>
                    <a:pt x="61" y="72"/>
                  </a:lnTo>
                  <a:lnTo>
                    <a:pt x="2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040600" y="2065320"/>
              <a:ext cx="119520" cy="25920"/>
            </a:xfrm>
            <a:custGeom>
              <a:avLst/>
              <a:gdLst/>
              <a:ahLst/>
              <a:rect l="0" t="0" r="r" b="b"/>
              <a:pathLst>
                <a:path w="332" h="72">
                  <a:moveTo>
                    <a:pt x="332" y="0"/>
                  </a:moveTo>
                  <a:lnTo>
                    <a:pt x="332" y="72"/>
                  </a:lnTo>
                  <a:lnTo>
                    <a:pt x="8" y="72"/>
                  </a:lnTo>
                  <a:lnTo>
                    <a:pt x="0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39160" y="2184480"/>
              <a:ext cx="117720" cy="25920"/>
            </a:xfrm>
            <a:custGeom>
              <a:avLst/>
              <a:gdLst/>
              <a:ahLst/>
              <a:rect l="0" t="0" r="r" b="b"/>
              <a:pathLst>
                <a:path w="327" h="72">
                  <a:moveTo>
                    <a:pt x="327" y="72"/>
                  </a:moveTo>
                  <a:lnTo>
                    <a:pt x="327" y="8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27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209080" y="2157480"/>
              <a:ext cx="128880" cy="25920"/>
            </a:xfrm>
            <a:custGeom>
              <a:avLst/>
              <a:gdLst/>
              <a:ahLst/>
              <a:rect l="0" t="0" r="r" b="b"/>
              <a:pathLst>
                <a:path w="358" h="72">
                  <a:moveTo>
                    <a:pt x="0" y="63"/>
                  </a:moveTo>
                  <a:lnTo>
                    <a:pt x="0" y="0"/>
                  </a:lnTo>
                  <a:lnTo>
                    <a:pt x="358" y="8"/>
                  </a:lnTo>
                  <a:lnTo>
                    <a:pt x="358" y="7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053560" y="1444680"/>
              <a:ext cx="125640" cy="25920"/>
            </a:xfrm>
            <a:custGeom>
              <a:avLst/>
              <a:gdLst/>
              <a:ahLst/>
              <a:rect l="0" t="0" r="r" b="b"/>
              <a:pathLst>
                <a:path w="349" h="72">
                  <a:moveTo>
                    <a:pt x="349" y="53"/>
                  </a:moveTo>
                  <a:lnTo>
                    <a:pt x="349" y="0"/>
                  </a:lnTo>
                  <a:lnTo>
                    <a:pt x="0" y="17"/>
                  </a:lnTo>
                  <a:lnTo>
                    <a:pt x="0" y="72"/>
                  </a:lnTo>
                  <a:lnTo>
                    <a:pt x="3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232840" y="1461960"/>
              <a:ext cx="144720" cy="25920"/>
            </a:xfrm>
            <a:custGeom>
              <a:avLst/>
              <a:gdLst/>
              <a:ahLst/>
              <a:rect l="0" t="0" r="r" b="b"/>
              <a:pathLst>
                <a:path w="402" h="72">
                  <a:moveTo>
                    <a:pt x="0" y="72"/>
                  </a:moveTo>
                  <a:lnTo>
                    <a:pt x="4" y="14"/>
                  </a:lnTo>
                  <a:lnTo>
                    <a:pt x="402" y="0"/>
                  </a:lnTo>
                  <a:lnTo>
                    <a:pt x="402" y="5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050320" y="1571760"/>
              <a:ext cx="125640" cy="25920"/>
            </a:xfrm>
            <a:custGeom>
              <a:avLst/>
              <a:gdLst/>
              <a:ahLst/>
              <a:rect l="0" t="0" r="r" b="b"/>
              <a:pathLst>
                <a:path w="349" h="72">
                  <a:moveTo>
                    <a:pt x="349" y="0"/>
                  </a:moveTo>
                  <a:lnTo>
                    <a:pt x="349" y="50"/>
                  </a:lnTo>
                  <a:lnTo>
                    <a:pt x="0" y="72"/>
                  </a:lnTo>
                  <a:lnTo>
                    <a:pt x="0" y="14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055000" y="1312920"/>
              <a:ext cx="130680" cy="25920"/>
            </a:xfrm>
            <a:custGeom>
              <a:avLst/>
              <a:gdLst/>
              <a:ahLst/>
              <a:rect l="0" t="0" r="r" b="b"/>
              <a:pathLst>
                <a:path w="363" h="72">
                  <a:moveTo>
                    <a:pt x="363" y="0"/>
                  </a:moveTo>
                  <a:lnTo>
                    <a:pt x="359" y="58"/>
                  </a:lnTo>
                  <a:lnTo>
                    <a:pt x="0" y="72"/>
                  </a:lnTo>
                  <a:lnTo>
                    <a:pt x="0" y="2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238960" y="1312920"/>
              <a:ext cx="147960" cy="25920"/>
            </a:xfrm>
            <a:custGeom>
              <a:avLst/>
              <a:gdLst/>
              <a:ahLst/>
              <a:rect l="0" t="0" r="r" b="b"/>
              <a:pathLst>
                <a:path w="411" h="72">
                  <a:moveTo>
                    <a:pt x="0" y="22"/>
                  </a:moveTo>
                  <a:lnTo>
                    <a:pt x="0" y="72"/>
                  </a:lnTo>
                  <a:lnTo>
                    <a:pt x="406" y="58"/>
                  </a:lnTo>
                  <a:lnTo>
                    <a:pt x="411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196120" y="2419200"/>
              <a:ext cx="125640" cy="25920"/>
            </a:xfrm>
            <a:custGeom>
              <a:avLst/>
              <a:gdLst/>
              <a:ahLst/>
              <a:rect l="0" t="0" r="r" b="b"/>
              <a:pathLst>
                <a:path w="349" h="72">
                  <a:moveTo>
                    <a:pt x="0" y="56"/>
                  </a:moveTo>
                  <a:lnTo>
                    <a:pt x="349" y="72"/>
                  </a:lnTo>
                  <a:lnTo>
                    <a:pt x="349" y="15"/>
                  </a:lnTo>
                  <a:lnTo>
                    <a:pt x="8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037360" y="2413080"/>
              <a:ext cx="111600" cy="25920"/>
            </a:xfrm>
            <a:custGeom>
              <a:avLst/>
              <a:gdLst/>
              <a:ahLst/>
              <a:rect l="0" t="0" r="r" b="b"/>
              <a:pathLst>
                <a:path w="310" h="72">
                  <a:moveTo>
                    <a:pt x="310" y="72"/>
                  </a:moveTo>
                  <a:lnTo>
                    <a:pt x="301" y="72"/>
                  </a:lnTo>
                  <a:lnTo>
                    <a:pt x="262" y="72"/>
                  </a:lnTo>
                  <a:lnTo>
                    <a:pt x="212" y="65"/>
                  </a:lnTo>
                  <a:lnTo>
                    <a:pt x="155" y="65"/>
                  </a:lnTo>
                  <a:lnTo>
                    <a:pt x="98" y="65"/>
                  </a:lnTo>
                  <a:lnTo>
                    <a:pt x="48" y="50"/>
                  </a:lnTo>
                  <a:lnTo>
                    <a:pt x="8" y="50"/>
                  </a:lnTo>
                  <a:lnTo>
                    <a:pt x="0" y="50"/>
                  </a:lnTo>
                  <a:lnTo>
                    <a:pt x="0" y="0"/>
                  </a:lnTo>
                  <a:lnTo>
                    <a:pt x="8" y="0"/>
                  </a:lnTo>
                  <a:lnTo>
                    <a:pt x="48" y="0"/>
                  </a:lnTo>
                  <a:lnTo>
                    <a:pt x="98" y="7"/>
                  </a:lnTo>
                  <a:lnTo>
                    <a:pt x="155" y="7"/>
                  </a:lnTo>
                  <a:lnTo>
                    <a:pt x="212" y="7"/>
                  </a:lnTo>
                  <a:lnTo>
                    <a:pt x="262" y="14"/>
                  </a:lnTo>
                  <a:lnTo>
                    <a:pt x="301" y="14"/>
                  </a:lnTo>
                  <a:lnTo>
                    <a:pt x="310" y="14"/>
                  </a:lnTo>
                  <a:lnTo>
                    <a:pt x="31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228160" y="1606680"/>
              <a:ext cx="141480" cy="25920"/>
            </a:xfrm>
            <a:custGeom>
              <a:avLst/>
              <a:gdLst/>
              <a:ahLst/>
              <a:rect l="0" t="0" r="r" b="b"/>
              <a:pathLst>
                <a:path w="393" h="72">
                  <a:moveTo>
                    <a:pt x="0" y="72"/>
                  </a:moveTo>
                  <a:lnTo>
                    <a:pt x="4" y="8"/>
                  </a:lnTo>
                  <a:lnTo>
                    <a:pt x="393" y="0"/>
                  </a:lnTo>
                  <a:lnTo>
                    <a:pt x="393" y="63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047080" y="1700280"/>
              <a:ext cx="125640" cy="25920"/>
            </a:xfrm>
            <a:custGeom>
              <a:avLst/>
              <a:gdLst/>
              <a:ahLst/>
              <a:rect l="0" t="0" r="r" b="b"/>
              <a:pathLst>
                <a:path w="349" h="72">
                  <a:moveTo>
                    <a:pt x="349" y="0"/>
                  </a:moveTo>
                  <a:lnTo>
                    <a:pt x="349" y="48"/>
                  </a:lnTo>
                  <a:lnTo>
                    <a:pt x="4" y="72"/>
                  </a:lnTo>
                  <a:lnTo>
                    <a:pt x="0" y="7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223120" y="1749600"/>
              <a:ext cx="138600" cy="25920"/>
            </a:xfrm>
            <a:custGeom>
              <a:avLst/>
              <a:gdLst/>
              <a:ahLst/>
              <a:rect l="0" t="0" r="r" b="b"/>
              <a:pathLst>
                <a:path w="385" h="72">
                  <a:moveTo>
                    <a:pt x="0" y="72"/>
                  </a:moveTo>
                  <a:lnTo>
                    <a:pt x="0" y="8"/>
                  </a:lnTo>
                  <a:lnTo>
                    <a:pt x="385" y="0"/>
                  </a:lnTo>
                  <a:lnTo>
                    <a:pt x="385" y="63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047080" y="1822320"/>
              <a:ext cx="120960" cy="25920"/>
            </a:xfrm>
            <a:custGeom>
              <a:avLst/>
              <a:gdLst/>
              <a:ahLst/>
              <a:rect l="0" t="0" r="r" b="b"/>
              <a:pathLst>
                <a:path w="336" h="72">
                  <a:moveTo>
                    <a:pt x="336" y="63"/>
                  </a:moveTo>
                  <a:lnTo>
                    <a:pt x="336" y="0"/>
                  </a:lnTo>
                  <a:lnTo>
                    <a:pt x="0" y="8"/>
                  </a:lnTo>
                  <a:lnTo>
                    <a:pt x="0" y="72"/>
                  </a:lnTo>
                  <a:lnTo>
                    <a:pt x="33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218440" y="1889280"/>
              <a:ext cx="135360" cy="25920"/>
            </a:xfrm>
            <a:custGeom>
              <a:avLst/>
              <a:gdLst/>
              <a:ahLst/>
              <a:rect l="0" t="0" r="r" b="b"/>
              <a:pathLst>
                <a:path w="376" h="72">
                  <a:moveTo>
                    <a:pt x="0" y="72"/>
                  </a:moveTo>
                  <a:lnTo>
                    <a:pt x="0" y="0"/>
                  </a:lnTo>
                  <a:lnTo>
                    <a:pt x="376" y="0"/>
                  </a:lnTo>
                  <a:lnTo>
                    <a:pt x="3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043840" y="1949400"/>
              <a:ext cx="120960" cy="25920"/>
            </a:xfrm>
            <a:custGeom>
              <a:avLst/>
              <a:gdLst/>
              <a:ahLst/>
              <a:rect l="0" t="0" r="r" b="b"/>
              <a:pathLst>
                <a:path w="336" h="72">
                  <a:moveTo>
                    <a:pt x="336" y="63"/>
                  </a:moveTo>
                  <a:lnTo>
                    <a:pt x="336" y="0"/>
                  </a:lnTo>
                  <a:lnTo>
                    <a:pt x="0" y="8"/>
                  </a:lnTo>
                  <a:lnTo>
                    <a:pt x="4" y="72"/>
                  </a:lnTo>
                  <a:lnTo>
                    <a:pt x="33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15976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26" y="72"/>
                  </a:lnTo>
                  <a:lnTo>
                    <a:pt x="7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126280" y="1236600"/>
              <a:ext cx="97200" cy="1337040"/>
            </a:xfrm>
            <a:custGeom>
              <a:avLst/>
              <a:gdLst/>
              <a:ahLst/>
              <a:rect l="0" t="0" r="r" b="b"/>
              <a:pathLst>
                <a:path w="270" h="3714">
                  <a:moveTo>
                    <a:pt x="106" y="3115"/>
                  </a:moveTo>
                  <a:lnTo>
                    <a:pt x="218" y="30"/>
                  </a:lnTo>
                  <a:lnTo>
                    <a:pt x="218" y="22"/>
                  </a:lnTo>
                  <a:lnTo>
                    <a:pt x="222" y="8"/>
                  </a:lnTo>
                  <a:lnTo>
                    <a:pt x="235" y="4"/>
                  </a:lnTo>
                  <a:lnTo>
                    <a:pt x="244" y="0"/>
                  </a:lnTo>
                  <a:lnTo>
                    <a:pt x="257" y="0"/>
                  </a:lnTo>
                  <a:lnTo>
                    <a:pt x="266" y="4"/>
                  </a:lnTo>
                  <a:lnTo>
                    <a:pt x="270" y="17"/>
                  </a:lnTo>
                  <a:lnTo>
                    <a:pt x="270" y="26"/>
                  </a:lnTo>
                  <a:lnTo>
                    <a:pt x="159" y="3115"/>
                  </a:lnTo>
                  <a:lnTo>
                    <a:pt x="146" y="3485"/>
                  </a:lnTo>
                  <a:lnTo>
                    <a:pt x="181" y="3498"/>
                  </a:lnTo>
                  <a:lnTo>
                    <a:pt x="204" y="3520"/>
                  </a:lnTo>
                  <a:lnTo>
                    <a:pt x="218" y="3551"/>
                  </a:lnTo>
                  <a:lnTo>
                    <a:pt x="222" y="3595"/>
                  </a:lnTo>
                  <a:lnTo>
                    <a:pt x="213" y="3640"/>
                  </a:lnTo>
                  <a:lnTo>
                    <a:pt x="190" y="3675"/>
                  </a:lnTo>
                  <a:lnTo>
                    <a:pt x="159" y="3701"/>
                  </a:lnTo>
                  <a:lnTo>
                    <a:pt x="115" y="3714"/>
                  </a:lnTo>
                  <a:lnTo>
                    <a:pt x="75" y="3701"/>
                  </a:lnTo>
                  <a:lnTo>
                    <a:pt x="35" y="3675"/>
                  </a:lnTo>
                  <a:lnTo>
                    <a:pt x="8" y="3640"/>
                  </a:lnTo>
                  <a:lnTo>
                    <a:pt x="0" y="3595"/>
                  </a:lnTo>
                  <a:lnTo>
                    <a:pt x="4" y="3551"/>
                  </a:lnTo>
                  <a:lnTo>
                    <a:pt x="26" y="3520"/>
                  </a:lnTo>
                  <a:lnTo>
                    <a:pt x="57" y="3494"/>
                  </a:lnTo>
                  <a:lnTo>
                    <a:pt x="93" y="3476"/>
                  </a:lnTo>
                  <a:lnTo>
                    <a:pt x="106" y="3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126280" y="2357280"/>
              <a:ext cx="79560" cy="216360"/>
            </a:xfrm>
            <a:custGeom>
              <a:avLst/>
              <a:gdLst/>
              <a:ahLst/>
              <a:rect l="0" t="0" r="r" b="b"/>
              <a:pathLst>
                <a:path w="221" h="601">
                  <a:moveTo>
                    <a:pt x="159" y="0"/>
                  </a:moveTo>
                  <a:lnTo>
                    <a:pt x="146" y="371"/>
                  </a:lnTo>
                  <a:lnTo>
                    <a:pt x="181" y="384"/>
                  </a:lnTo>
                  <a:lnTo>
                    <a:pt x="203" y="406"/>
                  </a:lnTo>
                  <a:lnTo>
                    <a:pt x="217" y="437"/>
                  </a:lnTo>
                  <a:lnTo>
                    <a:pt x="221" y="482"/>
                  </a:lnTo>
                  <a:lnTo>
                    <a:pt x="212" y="526"/>
                  </a:lnTo>
                  <a:lnTo>
                    <a:pt x="190" y="562"/>
                  </a:lnTo>
                  <a:lnTo>
                    <a:pt x="159" y="588"/>
                  </a:lnTo>
                  <a:lnTo>
                    <a:pt x="115" y="601"/>
                  </a:lnTo>
                  <a:lnTo>
                    <a:pt x="74" y="588"/>
                  </a:lnTo>
                  <a:lnTo>
                    <a:pt x="35" y="562"/>
                  </a:lnTo>
                  <a:lnTo>
                    <a:pt x="8" y="526"/>
                  </a:lnTo>
                  <a:lnTo>
                    <a:pt x="0" y="482"/>
                  </a:lnTo>
                  <a:lnTo>
                    <a:pt x="4" y="437"/>
                  </a:lnTo>
                  <a:lnTo>
                    <a:pt x="26" y="406"/>
                  </a:lnTo>
                  <a:lnTo>
                    <a:pt x="57" y="380"/>
                  </a:lnTo>
                  <a:lnTo>
                    <a:pt x="92" y="362"/>
                  </a:lnTo>
                  <a:lnTo>
                    <a:pt x="105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8" name=""/>
          <p:cNvSpPr/>
          <p:nvPr/>
        </p:nvSpPr>
        <p:spPr>
          <a:xfrm>
            <a:off x="2558880" y="5102280"/>
            <a:ext cx="1235520" cy="1070280"/>
          </a:xfrm>
          <a:custGeom>
            <a:avLst/>
            <a:gdLst/>
            <a:ahLst/>
            <a:rect l="0" t="0" r="r" b="b"/>
            <a:pathLst>
              <a:path w="3432" h="2973">
                <a:moveTo>
                  <a:pt x="1374" y="2552"/>
                </a:moveTo>
                <a:lnTo>
                  <a:pt x="1739" y="2387"/>
                </a:lnTo>
                <a:lnTo>
                  <a:pt x="2394" y="2312"/>
                </a:lnTo>
                <a:lnTo>
                  <a:pt x="2772" y="2184"/>
                </a:lnTo>
                <a:lnTo>
                  <a:pt x="2957" y="1977"/>
                </a:lnTo>
                <a:lnTo>
                  <a:pt x="3021" y="1508"/>
                </a:lnTo>
                <a:lnTo>
                  <a:pt x="2969" y="1310"/>
                </a:lnTo>
                <a:lnTo>
                  <a:pt x="2627" y="1118"/>
                </a:lnTo>
                <a:lnTo>
                  <a:pt x="2203" y="964"/>
                </a:lnTo>
                <a:lnTo>
                  <a:pt x="1687" y="964"/>
                </a:lnTo>
                <a:lnTo>
                  <a:pt x="1148" y="1022"/>
                </a:lnTo>
                <a:lnTo>
                  <a:pt x="997" y="916"/>
                </a:lnTo>
                <a:lnTo>
                  <a:pt x="846" y="633"/>
                </a:lnTo>
                <a:lnTo>
                  <a:pt x="550" y="468"/>
                </a:lnTo>
                <a:lnTo>
                  <a:pt x="254" y="468"/>
                </a:lnTo>
                <a:lnTo>
                  <a:pt x="63" y="527"/>
                </a:lnTo>
                <a:lnTo>
                  <a:pt x="0" y="372"/>
                </a:lnTo>
                <a:lnTo>
                  <a:pt x="162" y="26"/>
                </a:lnTo>
                <a:lnTo>
                  <a:pt x="359" y="0"/>
                </a:lnTo>
                <a:lnTo>
                  <a:pt x="718" y="207"/>
                </a:lnTo>
                <a:lnTo>
                  <a:pt x="951" y="388"/>
                </a:lnTo>
                <a:lnTo>
                  <a:pt x="1160" y="692"/>
                </a:lnTo>
                <a:lnTo>
                  <a:pt x="1212" y="798"/>
                </a:lnTo>
                <a:lnTo>
                  <a:pt x="1623" y="719"/>
                </a:lnTo>
                <a:lnTo>
                  <a:pt x="2185" y="692"/>
                </a:lnTo>
                <a:lnTo>
                  <a:pt x="2662" y="782"/>
                </a:lnTo>
                <a:lnTo>
                  <a:pt x="3067" y="964"/>
                </a:lnTo>
                <a:lnTo>
                  <a:pt x="3363" y="1219"/>
                </a:lnTo>
                <a:lnTo>
                  <a:pt x="3432" y="1416"/>
                </a:lnTo>
                <a:lnTo>
                  <a:pt x="3334" y="1966"/>
                </a:lnTo>
                <a:lnTo>
                  <a:pt x="3102" y="2371"/>
                </a:lnTo>
                <a:lnTo>
                  <a:pt x="2475" y="2776"/>
                </a:lnTo>
                <a:lnTo>
                  <a:pt x="1785" y="2973"/>
                </a:lnTo>
                <a:lnTo>
                  <a:pt x="1426" y="2946"/>
                </a:lnTo>
                <a:lnTo>
                  <a:pt x="1310" y="2760"/>
                </a:lnTo>
                <a:lnTo>
                  <a:pt x="1374" y="2552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073240" y="5402160"/>
            <a:ext cx="1433880" cy="770400"/>
          </a:xfrm>
          <a:custGeom>
            <a:avLst/>
            <a:gdLst/>
            <a:ahLst/>
            <a:rect l="0" t="0" r="r" b="b"/>
            <a:pathLst>
              <a:path w="3983" h="2140">
                <a:moveTo>
                  <a:pt x="224" y="860"/>
                </a:moveTo>
                <a:lnTo>
                  <a:pt x="22" y="1160"/>
                </a:lnTo>
                <a:lnTo>
                  <a:pt x="0" y="1566"/>
                </a:lnTo>
                <a:lnTo>
                  <a:pt x="141" y="1889"/>
                </a:lnTo>
                <a:lnTo>
                  <a:pt x="414" y="2118"/>
                </a:lnTo>
                <a:lnTo>
                  <a:pt x="608" y="2140"/>
                </a:lnTo>
                <a:lnTo>
                  <a:pt x="855" y="2087"/>
                </a:lnTo>
                <a:lnTo>
                  <a:pt x="1046" y="1937"/>
                </a:lnTo>
                <a:lnTo>
                  <a:pt x="1376" y="1690"/>
                </a:lnTo>
                <a:lnTo>
                  <a:pt x="1778" y="1544"/>
                </a:lnTo>
                <a:lnTo>
                  <a:pt x="2117" y="1465"/>
                </a:lnTo>
                <a:lnTo>
                  <a:pt x="2527" y="1482"/>
                </a:lnTo>
                <a:lnTo>
                  <a:pt x="2924" y="1638"/>
                </a:lnTo>
                <a:lnTo>
                  <a:pt x="3318" y="1660"/>
                </a:lnTo>
                <a:lnTo>
                  <a:pt x="3644" y="1597"/>
                </a:lnTo>
                <a:lnTo>
                  <a:pt x="3882" y="1381"/>
                </a:lnTo>
                <a:lnTo>
                  <a:pt x="3983" y="1138"/>
                </a:lnTo>
                <a:lnTo>
                  <a:pt x="3953" y="838"/>
                </a:lnTo>
                <a:lnTo>
                  <a:pt x="3895" y="502"/>
                </a:lnTo>
                <a:lnTo>
                  <a:pt x="3697" y="260"/>
                </a:lnTo>
                <a:lnTo>
                  <a:pt x="3203" y="110"/>
                </a:lnTo>
                <a:lnTo>
                  <a:pt x="2770" y="0"/>
                </a:lnTo>
                <a:lnTo>
                  <a:pt x="2157" y="35"/>
                </a:lnTo>
                <a:lnTo>
                  <a:pt x="1641" y="171"/>
                </a:lnTo>
                <a:lnTo>
                  <a:pt x="1099" y="374"/>
                </a:lnTo>
                <a:lnTo>
                  <a:pt x="542" y="627"/>
                </a:lnTo>
                <a:lnTo>
                  <a:pt x="224" y="860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8058240" y="538200"/>
            <a:ext cx="484560" cy="178200"/>
          </a:xfrm>
          <a:custGeom>
            <a:avLst/>
            <a:gdLst/>
            <a:ahLst/>
            <a:rect l="0" t="0" r="r" b="b"/>
            <a:pathLst>
              <a:path w="1346" h="495">
                <a:moveTo>
                  <a:pt x="1346" y="429"/>
                </a:moveTo>
                <a:lnTo>
                  <a:pt x="1329" y="390"/>
                </a:lnTo>
                <a:lnTo>
                  <a:pt x="1302" y="331"/>
                </a:lnTo>
                <a:lnTo>
                  <a:pt x="1254" y="256"/>
                </a:lnTo>
                <a:lnTo>
                  <a:pt x="1188" y="181"/>
                </a:lnTo>
                <a:lnTo>
                  <a:pt x="1091" y="110"/>
                </a:lnTo>
                <a:lnTo>
                  <a:pt x="962" y="48"/>
                </a:lnTo>
                <a:lnTo>
                  <a:pt x="807" y="8"/>
                </a:lnTo>
                <a:lnTo>
                  <a:pt x="609" y="0"/>
                </a:lnTo>
                <a:lnTo>
                  <a:pt x="455" y="17"/>
                </a:lnTo>
                <a:lnTo>
                  <a:pt x="326" y="61"/>
                </a:lnTo>
                <a:lnTo>
                  <a:pt x="224" y="123"/>
                </a:lnTo>
                <a:lnTo>
                  <a:pt x="145" y="190"/>
                </a:lnTo>
                <a:lnTo>
                  <a:pt x="79" y="261"/>
                </a:lnTo>
                <a:lnTo>
                  <a:pt x="44" y="327"/>
                </a:lnTo>
                <a:lnTo>
                  <a:pt x="17" y="381"/>
                </a:lnTo>
                <a:lnTo>
                  <a:pt x="0" y="407"/>
                </a:lnTo>
                <a:lnTo>
                  <a:pt x="26" y="412"/>
                </a:lnTo>
                <a:lnTo>
                  <a:pt x="52" y="416"/>
                </a:lnTo>
                <a:lnTo>
                  <a:pt x="74" y="434"/>
                </a:lnTo>
                <a:lnTo>
                  <a:pt x="97" y="451"/>
                </a:lnTo>
                <a:lnTo>
                  <a:pt x="105" y="460"/>
                </a:lnTo>
                <a:lnTo>
                  <a:pt x="119" y="469"/>
                </a:lnTo>
                <a:lnTo>
                  <a:pt x="123" y="482"/>
                </a:lnTo>
                <a:lnTo>
                  <a:pt x="127" y="491"/>
                </a:lnTo>
                <a:lnTo>
                  <a:pt x="145" y="451"/>
                </a:lnTo>
                <a:lnTo>
                  <a:pt x="171" y="403"/>
                </a:lnTo>
                <a:lnTo>
                  <a:pt x="207" y="353"/>
                </a:lnTo>
                <a:lnTo>
                  <a:pt x="264" y="305"/>
                </a:lnTo>
                <a:lnTo>
                  <a:pt x="326" y="256"/>
                </a:lnTo>
                <a:lnTo>
                  <a:pt x="402" y="217"/>
                </a:lnTo>
                <a:lnTo>
                  <a:pt x="499" y="190"/>
                </a:lnTo>
                <a:lnTo>
                  <a:pt x="609" y="181"/>
                </a:lnTo>
                <a:lnTo>
                  <a:pt x="755" y="190"/>
                </a:lnTo>
                <a:lnTo>
                  <a:pt x="865" y="217"/>
                </a:lnTo>
                <a:lnTo>
                  <a:pt x="949" y="265"/>
                </a:lnTo>
                <a:lnTo>
                  <a:pt x="1020" y="314"/>
                </a:lnTo>
                <a:lnTo>
                  <a:pt x="1069" y="376"/>
                </a:lnTo>
                <a:lnTo>
                  <a:pt x="1104" y="420"/>
                </a:lnTo>
                <a:lnTo>
                  <a:pt x="1126" y="469"/>
                </a:lnTo>
                <a:lnTo>
                  <a:pt x="1148" y="495"/>
                </a:lnTo>
                <a:lnTo>
                  <a:pt x="1161" y="487"/>
                </a:lnTo>
                <a:lnTo>
                  <a:pt x="1170" y="469"/>
                </a:lnTo>
                <a:lnTo>
                  <a:pt x="1179" y="460"/>
                </a:lnTo>
                <a:lnTo>
                  <a:pt x="1197" y="451"/>
                </a:lnTo>
                <a:lnTo>
                  <a:pt x="1219" y="438"/>
                </a:lnTo>
                <a:lnTo>
                  <a:pt x="1241" y="429"/>
                </a:lnTo>
                <a:lnTo>
                  <a:pt x="1263" y="420"/>
                </a:lnTo>
                <a:lnTo>
                  <a:pt x="1289" y="420"/>
                </a:lnTo>
                <a:lnTo>
                  <a:pt x="1302" y="420"/>
                </a:lnTo>
                <a:lnTo>
                  <a:pt x="1320" y="420"/>
                </a:lnTo>
                <a:lnTo>
                  <a:pt x="1333" y="429"/>
                </a:lnTo>
                <a:lnTo>
                  <a:pt x="1346" y="4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8377200" y="689040"/>
            <a:ext cx="332280" cy="451080"/>
          </a:xfrm>
          <a:custGeom>
            <a:avLst/>
            <a:gdLst/>
            <a:ahLst/>
            <a:rect l="0" t="0" r="r" b="b"/>
            <a:pathLst>
              <a:path w="923" h="1253">
                <a:moveTo>
                  <a:pt x="309" y="30"/>
                </a:moveTo>
                <a:lnTo>
                  <a:pt x="331" y="17"/>
                </a:lnTo>
                <a:lnTo>
                  <a:pt x="353" y="8"/>
                </a:lnTo>
                <a:lnTo>
                  <a:pt x="375" y="0"/>
                </a:lnTo>
                <a:lnTo>
                  <a:pt x="402" y="0"/>
                </a:lnTo>
                <a:lnTo>
                  <a:pt x="415" y="0"/>
                </a:lnTo>
                <a:lnTo>
                  <a:pt x="433" y="0"/>
                </a:lnTo>
                <a:lnTo>
                  <a:pt x="446" y="8"/>
                </a:lnTo>
                <a:lnTo>
                  <a:pt x="459" y="8"/>
                </a:lnTo>
                <a:lnTo>
                  <a:pt x="490" y="13"/>
                </a:lnTo>
                <a:lnTo>
                  <a:pt x="521" y="22"/>
                </a:lnTo>
                <a:lnTo>
                  <a:pt x="543" y="35"/>
                </a:lnTo>
                <a:lnTo>
                  <a:pt x="561" y="44"/>
                </a:lnTo>
                <a:lnTo>
                  <a:pt x="574" y="57"/>
                </a:lnTo>
                <a:lnTo>
                  <a:pt x="591" y="66"/>
                </a:lnTo>
                <a:lnTo>
                  <a:pt x="600" y="70"/>
                </a:lnTo>
                <a:lnTo>
                  <a:pt x="618" y="74"/>
                </a:lnTo>
                <a:lnTo>
                  <a:pt x="649" y="88"/>
                </a:lnTo>
                <a:lnTo>
                  <a:pt x="688" y="97"/>
                </a:lnTo>
                <a:lnTo>
                  <a:pt x="725" y="119"/>
                </a:lnTo>
                <a:lnTo>
                  <a:pt x="769" y="141"/>
                </a:lnTo>
                <a:lnTo>
                  <a:pt x="804" y="171"/>
                </a:lnTo>
                <a:lnTo>
                  <a:pt x="839" y="207"/>
                </a:lnTo>
                <a:lnTo>
                  <a:pt x="866" y="242"/>
                </a:lnTo>
                <a:lnTo>
                  <a:pt x="888" y="286"/>
                </a:lnTo>
                <a:lnTo>
                  <a:pt x="870" y="282"/>
                </a:lnTo>
                <a:lnTo>
                  <a:pt x="853" y="273"/>
                </a:lnTo>
                <a:lnTo>
                  <a:pt x="831" y="264"/>
                </a:lnTo>
                <a:lnTo>
                  <a:pt x="817" y="260"/>
                </a:lnTo>
                <a:lnTo>
                  <a:pt x="857" y="313"/>
                </a:lnTo>
                <a:lnTo>
                  <a:pt x="879" y="383"/>
                </a:lnTo>
                <a:lnTo>
                  <a:pt x="897" y="445"/>
                </a:lnTo>
                <a:lnTo>
                  <a:pt x="923" y="511"/>
                </a:lnTo>
                <a:lnTo>
                  <a:pt x="892" y="511"/>
                </a:lnTo>
                <a:lnTo>
                  <a:pt x="866" y="502"/>
                </a:lnTo>
                <a:lnTo>
                  <a:pt x="831" y="489"/>
                </a:lnTo>
                <a:lnTo>
                  <a:pt x="813" y="476"/>
                </a:lnTo>
                <a:lnTo>
                  <a:pt x="844" y="533"/>
                </a:lnTo>
                <a:lnTo>
                  <a:pt x="879" y="621"/>
                </a:lnTo>
                <a:lnTo>
                  <a:pt x="905" y="719"/>
                </a:lnTo>
                <a:lnTo>
                  <a:pt x="914" y="794"/>
                </a:lnTo>
                <a:lnTo>
                  <a:pt x="897" y="852"/>
                </a:lnTo>
                <a:lnTo>
                  <a:pt x="870" y="913"/>
                </a:lnTo>
                <a:lnTo>
                  <a:pt x="844" y="971"/>
                </a:lnTo>
                <a:lnTo>
                  <a:pt x="822" y="1006"/>
                </a:lnTo>
                <a:lnTo>
                  <a:pt x="804" y="1046"/>
                </a:lnTo>
                <a:lnTo>
                  <a:pt x="769" y="1099"/>
                </a:lnTo>
                <a:lnTo>
                  <a:pt x="725" y="1156"/>
                </a:lnTo>
                <a:lnTo>
                  <a:pt x="666" y="1200"/>
                </a:lnTo>
                <a:lnTo>
                  <a:pt x="666" y="1173"/>
                </a:lnTo>
                <a:lnTo>
                  <a:pt x="666" y="1151"/>
                </a:lnTo>
                <a:lnTo>
                  <a:pt x="662" y="1138"/>
                </a:lnTo>
                <a:lnTo>
                  <a:pt x="662" y="1116"/>
                </a:lnTo>
                <a:lnTo>
                  <a:pt x="640" y="1143"/>
                </a:lnTo>
                <a:lnTo>
                  <a:pt x="618" y="1173"/>
                </a:lnTo>
                <a:lnTo>
                  <a:pt x="574" y="1213"/>
                </a:lnTo>
                <a:lnTo>
                  <a:pt x="512" y="1244"/>
                </a:lnTo>
                <a:lnTo>
                  <a:pt x="516" y="1218"/>
                </a:lnTo>
                <a:lnTo>
                  <a:pt x="521" y="1200"/>
                </a:lnTo>
                <a:lnTo>
                  <a:pt x="521" y="1196"/>
                </a:lnTo>
                <a:lnTo>
                  <a:pt x="521" y="1191"/>
                </a:lnTo>
                <a:lnTo>
                  <a:pt x="472" y="1222"/>
                </a:lnTo>
                <a:lnTo>
                  <a:pt x="455" y="1244"/>
                </a:lnTo>
                <a:lnTo>
                  <a:pt x="433" y="1253"/>
                </a:lnTo>
                <a:lnTo>
                  <a:pt x="402" y="1253"/>
                </a:lnTo>
                <a:lnTo>
                  <a:pt x="393" y="1222"/>
                </a:lnTo>
                <a:lnTo>
                  <a:pt x="384" y="1196"/>
                </a:lnTo>
                <a:lnTo>
                  <a:pt x="362" y="1173"/>
                </a:lnTo>
                <a:lnTo>
                  <a:pt x="327" y="1165"/>
                </a:lnTo>
                <a:lnTo>
                  <a:pt x="283" y="1143"/>
                </a:lnTo>
                <a:lnTo>
                  <a:pt x="256" y="1112"/>
                </a:lnTo>
                <a:lnTo>
                  <a:pt x="224" y="1072"/>
                </a:lnTo>
                <a:lnTo>
                  <a:pt x="180" y="1046"/>
                </a:lnTo>
                <a:lnTo>
                  <a:pt x="145" y="1024"/>
                </a:lnTo>
                <a:lnTo>
                  <a:pt x="110" y="988"/>
                </a:lnTo>
                <a:lnTo>
                  <a:pt x="88" y="944"/>
                </a:lnTo>
                <a:lnTo>
                  <a:pt x="83" y="896"/>
                </a:lnTo>
                <a:lnTo>
                  <a:pt x="83" y="847"/>
                </a:lnTo>
                <a:lnTo>
                  <a:pt x="74" y="799"/>
                </a:lnTo>
                <a:lnTo>
                  <a:pt x="61" y="750"/>
                </a:lnTo>
                <a:lnTo>
                  <a:pt x="79" y="693"/>
                </a:lnTo>
                <a:lnTo>
                  <a:pt x="52" y="715"/>
                </a:lnTo>
                <a:lnTo>
                  <a:pt x="30" y="724"/>
                </a:lnTo>
                <a:lnTo>
                  <a:pt x="17" y="741"/>
                </a:lnTo>
                <a:lnTo>
                  <a:pt x="4" y="746"/>
                </a:lnTo>
                <a:lnTo>
                  <a:pt x="0" y="684"/>
                </a:lnTo>
                <a:lnTo>
                  <a:pt x="4" y="599"/>
                </a:lnTo>
                <a:lnTo>
                  <a:pt x="26" y="520"/>
                </a:lnTo>
                <a:lnTo>
                  <a:pt x="52" y="458"/>
                </a:lnTo>
                <a:lnTo>
                  <a:pt x="74" y="401"/>
                </a:lnTo>
                <a:lnTo>
                  <a:pt x="83" y="339"/>
                </a:lnTo>
                <a:lnTo>
                  <a:pt x="97" y="282"/>
                </a:lnTo>
                <a:lnTo>
                  <a:pt x="127" y="238"/>
                </a:lnTo>
                <a:lnTo>
                  <a:pt x="171" y="198"/>
                </a:lnTo>
                <a:lnTo>
                  <a:pt x="207" y="158"/>
                </a:lnTo>
                <a:lnTo>
                  <a:pt x="239" y="114"/>
                </a:lnTo>
                <a:lnTo>
                  <a:pt x="261" y="74"/>
                </a:lnTo>
                <a:lnTo>
                  <a:pt x="274" y="66"/>
                </a:lnTo>
                <a:lnTo>
                  <a:pt x="283" y="48"/>
                </a:lnTo>
                <a:lnTo>
                  <a:pt x="292" y="39"/>
                </a:lnTo>
                <a:lnTo>
                  <a:pt x="30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336840" y="5442120"/>
            <a:ext cx="1352880" cy="883080"/>
          </a:xfrm>
          <a:custGeom>
            <a:avLst/>
            <a:gdLst/>
            <a:ahLst/>
            <a:rect l="0" t="0" r="r" b="b"/>
            <a:pathLst>
              <a:path w="3758" h="2453">
                <a:moveTo>
                  <a:pt x="418" y="1103"/>
                </a:moveTo>
                <a:lnTo>
                  <a:pt x="176" y="1632"/>
                </a:lnTo>
                <a:lnTo>
                  <a:pt x="0" y="2017"/>
                </a:lnTo>
                <a:lnTo>
                  <a:pt x="123" y="2321"/>
                </a:lnTo>
                <a:lnTo>
                  <a:pt x="361" y="2453"/>
                </a:lnTo>
                <a:lnTo>
                  <a:pt x="586" y="2299"/>
                </a:lnTo>
                <a:lnTo>
                  <a:pt x="696" y="1915"/>
                </a:lnTo>
                <a:lnTo>
                  <a:pt x="1049" y="816"/>
                </a:lnTo>
                <a:lnTo>
                  <a:pt x="1203" y="515"/>
                </a:lnTo>
                <a:lnTo>
                  <a:pt x="1314" y="458"/>
                </a:lnTo>
                <a:lnTo>
                  <a:pt x="1605" y="573"/>
                </a:lnTo>
                <a:lnTo>
                  <a:pt x="2117" y="1046"/>
                </a:lnTo>
                <a:lnTo>
                  <a:pt x="2558" y="1372"/>
                </a:lnTo>
                <a:lnTo>
                  <a:pt x="2779" y="1412"/>
                </a:lnTo>
                <a:lnTo>
                  <a:pt x="2995" y="1372"/>
                </a:lnTo>
                <a:lnTo>
                  <a:pt x="3387" y="1134"/>
                </a:lnTo>
                <a:lnTo>
                  <a:pt x="3586" y="927"/>
                </a:lnTo>
                <a:lnTo>
                  <a:pt x="3758" y="542"/>
                </a:lnTo>
                <a:lnTo>
                  <a:pt x="3652" y="335"/>
                </a:lnTo>
                <a:lnTo>
                  <a:pt x="3396" y="171"/>
                </a:lnTo>
                <a:lnTo>
                  <a:pt x="3295" y="224"/>
                </a:lnTo>
                <a:lnTo>
                  <a:pt x="3295" y="485"/>
                </a:lnTo>
                <a:lnTo>
                  <a:pt x="3273" y="785"/>
                </a:lnTo>
                <a:lnTo>
                  <a:pt x="3180" y="1015"/>
                </a:lnTo>
                <a:lnTo>
                  <a:pt x="2854" y="1222"/>
                </a:lnTo>
                <a:lnTo>
                  <a:pt x="2660" y="1173"/>
                </a:lnTo>
                <a:lnTo>
                  <a:pt x="2430" y="997"/>
                </a:lnTo>
                <a:lnTo>
                  <a:pt x="2073" y="627"/>
                </a:lnTo>
                <a:lnTo>
                  <a:pt x="1530" y="97"/>
                </a:lnTo>
                <a:lnTo>
                  <a:pt x="1278" y="0"/>
                </a:lnTo>
                <a:lnTo>
                  <a:pt x="1036" y="123"/>
                </a:lnTo>
                <a:lnTo>
                  <a:pt x="806" y="467"/>
                </a:lnTo>
                <a:lnTo>
                  <a:pt x="621" y="777"/>
                </a:lnTo>
                <a:lnTo>
                  <a:pt x="418" y="1103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057320" y="5324400"/>
            <a:ext cx="1427400" cy="735480"/>
          </a:xfrm>
          <a:custGeom>
            <a:avLst/>
            <a:gdLst/>
            <a:ahLst/>
            <a:rect l="0" t="0" r="r" b="b"/>
            <a:pathLst>
              <a:path w="3965" h="2043">
                <a:moveTo>
                  <a:pt x="648" y="737"/>
                </a:moveTo>
                <a:lnTo>
                  <a:pt x="189" y="1103"/>
                </a:lnTo>
                <a:lnTo>
                  <a:pt x="0" y="1536"/>
                </a:lnTo>
                <a:lnTo>
                  <a:pt x="158" y="1911"/>
                </a:lnTo>
                <a:lnTo>
                  <a:pt x="542" y="1726"/>
                </a:lnTo>
                <a:lnTo>
                  <a:pt x="776" y="1372"/>
                </a:lnTo>
                <a:lnTo>
                  <a:pt x="1455" y="583"/>
                </a:lnTo>
                <a:lnTo>
                  <a:pt x="1653" y="396"/>
                </a:lnTo>
                <a:lnTo>
                  <a:pt x="1803" y="432"/>
                </a:lnTo>
                <a:lnTo>
                  <a:pt x="2042" y="856"/>
                </a:lnTo>
                <a:lnTo>
                  <a:pt x="2435" y="1589"/>
                </a:lnTo>
                <a:lnTo>
                  <a:pt x="2774" y="2004"/>
                </a:lnTo>
                <a:lnTo>
                  <a:pt x="2951" y="2043"/>
                </a:lnTo>
                <a:lnTo>
                  <a:pt x="3043" y="2034"/>
                </a:lnTo>
                <a:lnTo>
                  <a:pt x="3136" y="1752"/>
                </a:lnTo>
                <a:lnTo>
                  <a:pt x="3431" y="1306"/>
                </a:lnTo>
                <a:lnTo>
                  <a:pt x="3771" y="1046"/>
                </a:lnTo>
                <a:lnTo>
                  <a:pt x="3965" y="860"/>
                </a:lnTo>
                <a:lnTo>
                  <a:pt x="3965" y="724"/>
                </a:lnTo>
                <a:lnTo>
                  <a:pt x="3687" y="454"/>
                </a:lnTo>
                <a:lnTo>
                  <a:pt x="3502" y="587"/>
                </a:lnTo>
                <a:lnTo>
                  <a:pt x="3233" y="1068"/>
                </a:lnTo>
                <a:lnTo>
                  <a:pt x="3004" y="1549"/>
                </a:lnTo>
                <a:lnTo>
                  <a:pt x="2951" y="1774"/>
                </a:lnTo>
                <a:lnTo>
                  <a:pt x="2880" y="1832"/>
                </a:lnTo>
                <a:lnTo>
                  <a:pt x="2757" y="1664"/>
                </a:lnTo>
                <a:lnTo>
                  <a:pt x="2602" y="1253"/>
                </a:lnTo>
                <a:lnTo>
                  <a:pt x="2448" y="710"/>
                </a:lnTo>
                <a:lnTo>
                  <a:pt x="2166" y="207"/>
                </a:lnTo>
                <a:lnTo>
                  <a:pt x="1900" y="8"/>
                </a:lnTo>
                <a:lnTo>
                  <a:pt x="1591" y="0"/>
                </a:lnTo>
                <a:lnTo>
                  <a:pt x="1195" y="251"/>
                </a:lnTo>
                <a:lnTo>
                  <a:pt x="895" y="485"/>
                </a:lnTo>
                <a:lnTo>
                  <a:pt x="648" y="737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8393040" y="711360"/>
            <a:ext cx="297360" cy="411480"/>
          </a:xfrm>
          <a:custGeom>
            <a:avLst/>
            <a:gdLst/>
            <a:ahLst/>
            <a:rect l="0" t="0" r="r" b="b"/>
            <a:pathLst>
              <a:path w="826" h="1143">
                <a:moveTo>
                  <a:pt x="367" y="0"/>
                </a:moveTo>
                <a:lnTo>
                  <a:pt x="411" y="0"/>
                </a:lnTo>
                <a:lnTo>
                  <a:pt x="446" y="4"/>
                </a:lnTo>
                <a:lnTo>
                  <a:pt x="472" y="13"/>
                </a:lnTo>
                <a:lnTo>
                  <a:pt x="499" y="26"/>
                </a:lnTo>
                <a:lnTo>
                  <a:pt x="516" y="35"/>
                </a:lnTo>
                <a:lnTo>
                  <a:pt x="530" y="48"/>
                </a:lnTo>
                <a:lnTo>
                  <a:pt x="547" y="57"/>
                </a:lnTo>
                <a:lnTo>
                  <a:pt x="565" y="61"/>
                </a:lnTo>
                <a:lnTo>
                  <a:pt x="591" y="70"/>
                </a:lnTo>
                <a:lnTo>
                  <a:pt x="618" y="79"/>
                </a:lnTo>
                <a:lnTo>
                  <a:pt x="645" y="88"/>
                </a:lnTo>
                <a:lnTo>
                  <a:pt x="672" y="105"/>
                </a:lnTo>
                <a:lnTo>
                  <a:pt x="694" y="123"/>
                </a:lnTo>
                <a:lnTo>
                  <a:pt x="716" y="132"/>
                </a:lnTo>
                <a:lnTo>
                  <a:pt x="734" y="154"/>
                </a:lnTo>
                <a:lnTo>
                  <a:pt x="747" y="171"/>
                </a:lnTo>
                <a:lnTo>
                  <a:pt x="729" y="171"/>
                </a:lnTo>
                <a:lnTo>
                  <a:pt x="720" y="171"/>
                </a:lnTo>
                <a:lnTo>
                  <a:pt x="703" y="171"/>
                </a:lnTo>
                <a:lnTo>
                  <a:pt x="694" y="171"/>
                </a:lnTo>
                <a:lnTo>
                  <a:pt x="747" y="220"/>
                </a:lnTo>
                <a:lnTo>
                  <a:pt x="773" y="277"/>
                </a:lnTo>
                <a:lnTo>
                  <a:pt x="786" y="335"/>
                </a:lnTo>
                <a:lnTo>
                  <a:pt x="822" y="388"/>
                </a:lnTo>
                <a:lnTo>
                  <a:pt x="795" y="383"/>
                </a:lnTo>
                <a:lnTo>
                  <a:pt x="760" y="366"/>
                </a:lnTo>
                <a:lnTo>
                  <a:pt x="729" y="357"/>
                </a:lnTo>
                <a:lnTo>
                  <a:pt x="698" y="352"/>
                </a:lnTo>
                <a:lnTo>
                  <a:pt x="734" y="427"/>
                </a:lnTo>
                <a:lnTo>
                  <a:pt x="778" y="546"/>
                </a:lnTo>
                <a:lnTo>
                  <a:pt x="813" y="662"/>
                </a:lnTo>
                <a:lnTo>
                  <a:pt x="826" y="737"/>
                </a:lnTo>
                <a:lnTo>
                  <a:pt x="808" y="785"/>
                </a:lnTo>
                <a:lnTo>
                  <a:pt x="782" y="838"/>
                </a:lnTo>
                <a:lnTo>
                  <a:pt x="756" y="887"/>
                </a:lnTo>
                <a:lnTo>
                  <a:pt x="742" y="918"/>
                </a:lnTo>
                <a:lnTo>
                  <a:pt x="729" y="944"/>
                </a:lnTo>
                <a:lnTo>
                  <a:pt x="720" y="984"/>
                </a:lnTo>
                <a:lnTo>
                  <a:pt x="694" y="1019"/>
                </a:lnTo>
                <a:lnTo>
                  <a:pt x="659" y="1054"/>
                </a:lnTo>
                <a:lnTo>
                  <a:pt x="654" y="1032"/>
                </a:lnTo>
                <a:lnTo>
                  <a:pt x="650" y="1010"/>
                </a:lnTo>
                <a:lnTo>
                  <a:pt x="645" y="993"/>
                </a:lnTo>
                <a:lnTo>
                  <a:pt x="632" y="979"/>
                </a:lnTo>
                <a:lnTo>
                  <a:pt x="613" y="1006"/>
                </a:lnTo>
                <a:lnTo>
                  <a:pt x="591" y="1041"/>
                </a:lnTo>
                <a:lnTo>
                  <a:pt x="552" y="1085"/>
                </a:lnTo>
                <a:lnTo>
                  <a:pt x="512" y="1125"/>
                </a:lnTo>
                <a:lnTo>
                  <a:pt x="512" y="1094"/>
                </a:lnTo>
                <a:lnTo>
                  <a:pt x="503" y="1076"/>
                </a:lnTo>
                <a:lnTo>
                  <a:pt x="499" y="1063"/>
                </a:lnTo>
                <a:lnTo>
                  <a:pt x="499" y="1059"/>
                </a:lnTo>
                <a:lnTo>
                  <a:pt x="468" y="1090"/>
                </a:lnTo>
                <a:lnTo>
                  <a:pt x="437" y="1112"/>
                </a:lnTo>
                <a:lnTo>
                  <a:pt x="411" y="1134"/>
                </a:lnTo>
                <a:lnTo>
                  <a:pt x="384" y="1143"/>
                </a:lnTo>
                <a:lnTo>
                  <a:pt x="375" y="1112"/>
                </a:lnTo>
                <a:lnTo>
                  <a:pt x="362" y="1090"/>
                </a:lnTo>
                <a:lnTo>
                  <a:pt x="344" y="1068"/>
                </a:lnTo>
                <a:lnTo>
                  <a:pt x="309" y="1059"/>
                </a:lnTo>
                <a:lnTo>
                  <a:pt x="269" y="1041"/>
                </a:lnTo>
                <a:lnTo>
                  <a:pt x="243" y="1015"/>
                </a:lnTo>
                <a:lnTo>
                  <a:pt x="217" y="984"/>
                </a:lnTo>
                <a:lnTo>
                  <a:pt x="180" y="957"/>
                </a:lnTo>
                <a:lnTo>
                  <a:pt x="141" y="935"/>
                </a:lnTo>
                <a:lnTo>
                  <a:pt x="114" y="909"/>
                </a:lnTo>
                <a:lnTo>
                  <a:pt x="92" y="874"/>
                </a:lnTo>
                <a:lnTo>
                  <a:pt x="92" y="830"/>
                </a:lnTo>
                <a:lnTo>
                  <a:pt x="92" y="768"/>
                </a:lnTo>
                <a:lnTo>
                  <a:pt x="83" y="693"/>
                </a:lnTo>
                <a:lnTo>
                  <a:pt x="79" y="622"/>
                </a:lnTo>
                <a:lnTo>
                  <a:pt x="83" y="555"/>
                </a:lnTo>
                <a:lnTo>
                  <a:pt x="57" y="574"/>
                </a:lnTo>
                <a:lnTo>
                  <a:pt x="35" y="583"/>
                </a:lnTo>
                <a:lnTo>
                  <a:pt x="13" y="591"/>
                </a:lnTo>
                <a:lnTo>
                  <a:pt x="0" y="605"/>
                </a:lnTo>
                <a:lnTo>
                  <a:pt x="4" y="560"/>
                </a:lnTo>
                <a:lnTo>
                  <a:pt x="17" y="511"/>
                </a:lnTo>
                <a:lnTo>
                  <a:pt x="39" y="463"/>
                </a:lnTo>
                <a:lnTo>
                  <a:pt x="66" y="414"/>
                </a:lnTo>
                <a:lnTo>
                  <a:pt x="88" y="361"/>
                </a:lnTo>
                <a:lnTo>
                  <a:pt x="92" y="299"/>
                </a:lnTo>
                <a:lnTo>
                  <a:pt x="101" y="238"/>
                </a:lnTo>
                <a:lnTo>
                  <a:pt x="127" y="202"/>
                </a:lnTo>
                <a:lnTo>
                  <a:pt x="163" y="171"/>
                </a:lnTo>
                <a:lnTo>
                  <a:pt x="194" y="132"/>
                </a:lnTo>
                <a:lnTo>
                  <a:pt x="221" y="97"/>
                </a:lnTo>
                <a:lnTo>
                  <a:pt x="243" y="61"/>
                </a:lnTo>
                <a:lnTo>
                  <a:pt x="265" y="44"/>
                </a:lnTo>
                <a:lnTo>
                  <a:pt x="292" y="22"/>
                </a:lnTo>
                <a:lnTo>
                  <a:pt x="322" y="4"/>
                </a:lnTo>
                <a:lnTo>
                  <a:pt x="367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8050320" y="757080"/>
            <a:ext cx="346320" cy="444960"/>
            <a:chOff x="8050320" y="757080"/>
            <a:chExt cx="346320" cy="444960"/>
          </a:xfrm>
        </p:grpSpPr>
        <p:sp>
          <p:nvSpPr>
            <p:cNvPr id="1366" name=""/>
            <p:cNvSpPr/>
            <p:nvPr/>
          </p:nvSpPr>
          <p:spPr>
            <a:xfrm>
              <a:off x="8113680" y="820800"/>
              <a:ext cx="225720" cy="154440"/>
            </a:xfrm>
            <a:custGeom>
              <a:avLst/>
              <a:gdLst/>
              <a:ahLst/>
              <a:rect l="0" t="0" r="r" b="b"/>
              <a:pathLst>
                <a:path w="627" h="429">
                  <a:moveTo>
                    <a:pt x="238" y="398"/>
                  </a:moveTo>
                  <a:lnTo>
                    <a:pt x="255" y="376"/>
                  </a:lnTo>
                  <a:lnTo>
                    <a:pt x="277" y="345"/>
                  </a:lnTo>
                  <a:lnTo>
                    <a:pt x="295" y="309"/>
                  </a:lnTo>
                  <a:lnTo>
                    <a:pt x="304" y="274"/>
                  </a:lnTo>
                  <a:lnTo>
                    <a:pt x="327" y="337"/>
                  </a:lnTo>
                  <a:lnTo>
                    <a:pt x="367" y="385"/>
                  </a:lnTo>
                  <a:lnTo>
                    <a:pt x="411" y="420"/>
                  </a:lnTo>
                  <a:lnTo>
                    <a:pt x="459" y="429"/>
                  </a:lnTo>
                  <a:lnTo>
                    <a:pt x="494" y="425"/>
                  </a:lnTo>
                  <a:lnTo>
                    <a:pt x="525" y="412"/>
                  </a:lnTo>
                  <a:lnTo>
                    <a:pt x="552" y="390"/>
                  </a:lnTo>
                  <a:lnTo>
                    <a:pt x="578" y="363"/>
                  </a:lnTo>
                  <a:lnTo>
                    <a:pt x="600" y="332"/>
                  </a:lnTo>
                  <a:lnTo>
                    <a:pt x="613" y="300"/>
                  </a:lnTo>
                  <a:lnTo>
                    <a:pt x="622" y="256"/>
                  </a:lnTo>
                  <a:lnTo>
                    <a:pt x="627" y="212"/>
                  </a:lnTo>
                  <a:lnTo>
                    <a:pt x="622" y="172"/>
                  </a:lnTo>
                  <a:lnTo>
                    <a:pt x="613" y="128"/>
                  </a:lnTo>
                  <a:lnTo>
                    <a:pt x="600" y="97"/>
                  </a:lnTo>
                  <a:lnTo>
                    <a:pt x="578" y="61"/>
                  </a:lnTo>
                  <a:lnTo>
                    <a:pt x="552" y="35"/>
                  </a:lnTo>
                  <a:lnTo>
                    <a:pt x="525" y="17"/>
                  </a:lnTo>
                  <a:lnTo>
                    <a:pt x="494" y="4"/>
                  </a:lnTo>
                  <a:lnTo>
                    <a:pt x="459" y="0"/>
                  </a:lnTo>
                  <a:lnTo>
                    <a:pt x="433" y="4"/>
                  </a:lnTo>
                  <a:lnTo>
                    <a:pt x="406" y="8"/>
                  </a:lnTo>
                  <a:lnTo>
                    <a:pt x="380" y="26"/>
                  </a:lnTo>
                  <a:lnTo>
                    <a:pt x="358" y="48"/>
                  </a:lnTo>
                  <a:lnTo>
                    <a:pt x="336" y="70"/>
                  </a:lnTo>
                  <a:lnTo>
                    <a:pt x="322" y="101"/>
                  </a:lnTo>
                  <a:lnTo>
                    <a:pt x="308" y="128"/>
                  </a:lnTo>
                  <a:lnTo>
                    <a:pt x="299" y="168"/>
                  </a:lnTo>
                  <a:lnTo>
                    <a:pt x="277" y="111"/>
                  </a:lnTo>
                  <a:lnTo>
                    <a:pt x="246" y="70"/>
                  </a:lnTo>
                  <a:lnTo>
                    <a:pt x="202" y="44"/>
                  </a:lnTo>
                  <a:lnTo>
                    <a:pt x="154" y="30"/>
                  </a:lnTo>
                  <a:lnTo>
                    <a:pt x="97" y="48"/>
                  </a:lnTo>
                  <a:lnTo>
                    <a:pt x="48" y="92"/>
                  </a:lnTo>
                  <a:lnTo>
                    <a:pt x="13" y="150"/>
                  </a:lnTo>
                  <a:lnTo>
                    <a:pt x="0" y="230"/>
                  </a:lnTo>
                  <a:lnTo>
                    <a:pt x="13" y="305"/>
                  </a:lnTo>
                  <a:lnTo>
                    <a:pt x="48" y="363"/>
                  </a:lnTo>
                  <a:lnTo>
                    <a:pt x="97" y="407"/>
                  </a:lnTo>
                  <a:lnTo>
                    <a:pt x="154" y="425"/>
                  </a:lnTo>
                  <a:lnTo>
                    <a:pt x="176" y="425"/>
                  </a:lnTo>
                  <a:lnTo>
                    <a:pt x="198" y="420"/>
                  </a:lnTo>
                  <a:lnTo>
                    <a:pt x="216" y="407"/>
                  </a:lnTo>
                  <a:lnTo>
                    <a:pt x="238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156520" y="963720"/>
              <a:ext cx="54360" cy="74880"/>
            </a:xfrm>
            <a:custGeom>
              <a:avLst/>
              <a:gdLst/>
              <a:ahLst/>
              <a:rect l="0" t="0" r="r" b="b"/>
              <a:pathLst>
                <a:path w="151" h="208">
                  <a:moveTo>
                    <a:pt x="121" y="0"/>
                  </a:moveTo>
                  <a:lnTo>
                    <a:pt x="58" y="52"/>
                  </a:lnTo>
                  <a:lnTo>
                    <a:pt x="49" y="111"/>
                  </a:lnTo>
                  <a:lnTo>
                    <a:pt x="75" y="172"/>
                  </a:lnTo>
                  <a:lnTo>
                    <a:pt x="151" y="208"/>
                  </a:lnTo>
                  <a:lnTo>
                    <a:pt x="106" y="208"/>
                  </a:lnTo>
                  <a:lnTo>
                    <a:pt x="71" y="190"/>
                  </a:lnTo>
                  <a:lnTo>
                    <a:pt x="45" y="177"/>
                  </a:lnTo>
                  <a:lnTo>
                    <a:pt x="17" y="150"/>
                  </a:lnTo>
                  <a:lnTo>
                    <a:pt x="4" y="115"/>
                  </a:lnTo>
                  <a:lnTo>
                    <a:pt x="0" y="83"/>
                  </a:lnTo>
                  <a:lnTo>
                    <a:pt x="8" y="57"/>
                  </a:lnTo>
                  <a:lnTo>
                    <a:pt x="35" y="26"/>
                  </a:lnTo>
                  <a:lnTo>
                    <a:pt x="58" y="26"/>
                  </a:lnTo>
                  <a:lnTo>
                    <a:pt x="80" y="22"/>
                  </a:lnTo>
                  <a:lnTo>
                    <a:pt x="98" y="8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231040" y="995400"/>
              <a:ext cx="43200" cy="41760"/>
            </a:xfrm>
            <a:custGeom>
              <a:avLst/>
              <a:gdLst/>
              <a:ahLst/>
              <a:rect l="0" t="0" r="r" b="b"/>
              <a:pathLst>
                <a:path w="120" h="116">
                  <a:moveTo>
                    <a:pt x="0" y="116"/>
                  </a:moveTo>
                  <a:lnTo>
                    <a:pt x="67" y="112"/>
                  </a:lnTo>
                  <a:lnTo>
                    <a:pt x="106" y="84"/>
                  </a:lnTo>
                  <a:lnTo>
                    <a:pt x="120" y="45"/>
                  </a:lnTo>
                  <a:lnTo>
                    <a:pt x="102" y="0"/>
                  </a:lnTo>
                  <a:lnTo>
                    <a:pt x="98" y="36"/>
                  </a:lnTo>
                  <a:lnTo>
                    <a:pt x="84" y="62"/>
                  </a:lnTo>
                  <a:lnTo>
                    <a:pt x="52" y="9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8163000" y="1050840"/>
              <a:ext cx="151200" cy="106560"/>
            </a:xfrm>
            <a:custGeom>
              <a:avLst/>
              <a:gdLst/>
              <a:ahLst/>
              <a:rect l="0" t="0" r="r" b="b"/>
              <a:pathLst>
                <a:path w="420" h="296">
                  <a:moveTo>
                    <a:pt x="0" y="8"/>
                  </a:moveTo>
                  <a:lnTo>
                    <a:pt x="52" y="0"/>
                  </a:lnTo>
                  <a:lnTo>
                    <a:pt x="106" y="0"/>
                  </a:lnTo>
                  <a:lnTo>
                    <a:pt x="168" y="8"/>
                  </a:lnTo>
                  <a:lnTo>
                    <a:pt x="230" y="17"/>
                  </a:lnTo>
                  <a:lnTo>
                    <a:pt x="287" y="39"/>
                  </a:lnTo>
                  <a:lnTo>
                    <a:pt x="341" y="70"/>
                  </a:lnTo>
                  <a:lnTo>
                    <a:pt x="385" y="119"/>
                  </a:lnTo>
                  <a:lnTo>
                    <a:pt x="420" y="181"/>
                  </a:lnTo>
                  <a:lnTo>
                    <a:pt x="385" y="212"/>
                  </a:lnTo>
                  <a:lnTo>
                    <a:pt x="341" y="243"/>
                  </a:lnTo>
                  <a:lnTo>
                    <a:pt x="296" y="269"/>
                  </a:lnTo>
                  <a:lnTo>
                    <a:pt x="247" y="287"/>
                  </a:lnTo>
                  <a:lnTo>
                    <a:pt x="195" y="296"/>
                  </a:lnTo>
                  <a:lnTo>
                    <a:pt x="137" y="296"/>
                  </a:lnTo>
                  <a:lnTo>
                    <a:pt x="70" y="287"/>
                  </a:lnTo>
                  <a:lnTo>
                    <a:pt x="4" y="265"/>
                  </a:lnTo>
                  <a:lnTo>
                    <a:pt x="44" y="15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8292960" y="1041480"/>
              <a:ext cx="35280" cy="49680"/>
            </a:xfrm>
            <a:custGeom>
              <a:avLst/>
              <a:gdLst/>
              <a:ahLst/>
              <a:rect l="0" t="0" r="r" b="b"/>
              <a:pathLst>
                <a:path w="98" h="138">
                  <a:moveTo>
                    <a:pt x="98" y="138"/>
                  </a:moveTo>
                  <a:lnTo>
                    <a:pt x="98" y="67"/>
                  </a:lnTo>
                  <a:lnTo>
                    <a:pt x="75" y="22"/>
                  </a:lnTo>
                  <a:lnTo>
                    <a:pt x="39" y="0"/>
                  </a:lnTo>
                  <a:lnTo>
                    <a:pt x="0" y="8"/>
                  </a:lnTo>
                  <a:lnTo>
                    <a:pt x="30" y="17"/>
                  </a:lnTo>
                  <a:lnTo>
                    <a:pt x="58" y="40"/>
                  </a:lnTo>
                  <a:lnTo>
                    <a:pt x="80" y="75"/>
                  </a:lnTo>
                  <a:lnTo>
                    <a:pt x="98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313840" y="1020600"/>
              <a:ext cx="35280" cy="46440"/>
            </a:xfrm>
            <a:custGeom>
              <a:avLst/>
              <a:gdLst/>
              <a:ahLst/>
              <a:rect l="0" t="0" r="r" b="b"/>
              <a:pathLst>
                <a:path w="98" h="129">
                  <a:moveTo>
                    <a:pt x="98" y="129"/>
                  </a:moveTo>
                  <a:lnTo>
                    <a:pt x="98" y="67"/>
                  </a:lnTo>
                  <a:lnTo>
                    <a:pt x="80" y="17"/>
                  </a:lnTo>
                  <a:lnTo>
                    <a:pt x="44" y="0"/>
                  </a:lnTo>
                  <a:lnTo>
                    <a:pt x="0" y="4"/>
                  </a:lnTo>
                  <a:lnTo>
                    <a:pt x="30" y="17"/>
                  </a:lnTo>
                  <a:lnTo>
                    <a:pt x="58" y="40"/>
                  </a:lnTo>
                  <a:lnTo>
                    <a:pt x="80" y="71"/>
                  </a:lnTo>
                  <a:lnTo>
                    <a:pt x="98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147160" y="1147680"/>
              <a:ext cx="52920" cy="27360"/>
            </a:xfrm>
            <a:custGeom>
              <a:avLst/>
              <a:gdLst/>
              <a:ahLst/>
              <a:rect l="0" t="0" r="r" b="b"/>
              <a:pathLst>
                <a:path w="147" h="76">
                  <a:moveTo>
                    <a:pt x="147" y="59"/>
                  </a:moveTo>
                  <a:lnTo>
                    <a:pt x="112" y="72"/>
                  </a:lnTo>
                  <a:lnTo>
                    <a:pt x="84" y="76"/>
                  </a:lnTo>
                  <a:lnTo>
                    <a:pt x="58" y="76"/>
                  </a:lnTo>
                  <a:lnTo>
                    <a:pt x="30" y="72"/>
                  </a:lnTo>
                  <a:lnTo>
                    <a:pt x="17" y="59"/>
                  </a:lnTo>
                  <a:lnTo>
                    <a:pt x="4" y="4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2" y="27"/>
                  </a:lnTo>
                  <a:lnTo>
                    <a:pt x="45" y="45"/>
                  </a:lnTo>
                  <a:lnTo>
                    <a:pt x="80" y="59"/>
                  </a:lnTo>
                  <a:lnTo>
                    <a:pt x="14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131320" y="1174680"/>
              <a:ext cx="54360" cy="27360"/>
            </a:xfrm>
            <a:custGeom>
              <a:avLst/>
              <a:gdLst/>
              <a:ahLst/>
              <a:rect l="0" t="0" r="r" b="b"/>
              <a:pathLst>
                <a:path w="151" h="76">
                  <a:moveTo>
                    <a:pt x="151" y="59"/>
                  </a:moveTo>
                  <a:lnTo>
                    <a:pt x="121" y="72"/>
                  </a:lnTo>
                  <a:lnTo>
                    <a:pt x="89" y="76"/>
                  </a:lnTo>
                  <a:lnTo>
                    <a:pt x="62" y="76"/>
                  </a:lnTo>
                  <a:lnTo>
                    <a:pt x="40" y="72"/>
                  </a:lnTo>
                  <a:lnTo>
                    <a:pt x="17" y="59"/>
                  </a:lnTo>
                  <a:lnTo>
                    <a:pt x="4" y="4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2" y="27"/>
                  </a:lnTo>
                  <a:lnTo>
                    <a:pt x="49" y="45"/>
                  </a:lnTo>
                  <a:lnTo>
                    <a:pt x="89" y="59"/>
                  </a:lnTo>
                  <a:lnTo>
                    <a:pt x="15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240760" y="757080"/>
              <a:ext cx="155880" cy="100440"/>
            </a:xfrm>
            <a:custGeom>
              <a:avLst/>
              <a:gdLst/>
              <a:ahLst/>
              <a:rect l="0" t="0" r="r" b="b"/>
              <a:pathLst>
                <a:path w="433" h="279">
                  <a:moveTo>
                    <a:pt x="0" y="98"/>
                  </a:moveTo>
                  <a:lnTo>
                    <a:pt x="52" y="98"/>
                  </a:lnTo>
                  <a:lnTo>
                    <a:pt x="97" y="111"/>
                  </a:lnTo>
                  <a:lnTo>
                    <a:pt x="127" y="133"/>
                  </a:lnTo>
                  <a:lnTo>
                    <a:pt x="145" y="168"/>
                  </a:lnTo>
                  <a:lnTo>
                    <a:pt x="154" y="146"/>
                  </a:lnTo>
                  <a:lnTo>
                    <a:pt x="167" y="124"/>
                  </a:lnTo>
                  <a:lnTo>
                    <a:pt x="171" y="106"/>
                  </a:lnTo>
                  <a:lnTo>
                    <a:pt x="171" y="93"/>
                  </a:lnTo>
                  <a:lnTo>
                    <a:pt x="221" y="124"/>
                  </a:lnTo>
                  <a:lnTo>
                    <a:pt x="261" y="168"/>
                  </a:lnTo>
                  <a:lnTo>
                    <a:pt x="300" y="222"/>
                  </a:lnTo>
                  <a:lnTo>
                    <a:pt x="314" y="279"/>
                  </a:lnTo>
                  <a:lnTo>
                    <a:pt x="327" y="240"/>
                  </a:lnTo>
                  <a:lnTo>
                    <a:pt x="340" y="213"/>
                  </a:lnTo>
                  <a:lnTo>
                    <a:pt x="349" y="186"/>
                  </a:lnTo>
                  <a:lnTo>
                    <a:pt x="349" y="159"/>
                  </a:lnTo>
                  <a:lnTo>
                    <a:pt x="371" y="177"/>
                  </a:lnTo>
                  <a:lnTo>
                    <a:pt x="389" y="199"/>
                  </a:lnTo>
                  <a:lnTo>
                    <a:pt x="406" y="222"/>
                  </a:lnTo>
                  <a:lnTo>
                    <a:pt x="428" y="253"/>
                  </a:lnTo>
                  <a:lnTo>
                    <a:pt x="428" y="172"/>
                  </a:lnTo>
                  <a:lnTo>
                    <a:pt x="415" y="124"/>
                  </a:lnTo>
                  <a:lnTo>
                    <a:pt x="397" y="98"/>
                  </a:lnTo>
                  <a:lnTo>
                    <a:pt x="362" y="80"/>
                  </a:lnTo>
                  <a:lnTo>
                    <a:pt x="384" y="75"/>
                  </a:lnTo>
                  <a:lnTo>
                    <a:pt x="402" y="71"/>
                  </a:lnTo>
                  <a:lnTo>
                    <a:pt x="415" y="61"/>
                  </a:lnTo>
                  <a:lnTo>
                    <a:pt x="433" y="61"/>
                  </a:lnTo>
                  <a:lnTo>
                    <a:pt x="424" y="52"/>
                  </a:lnTo>
                  <a:lnTo>
                    <a:pt x="406" y="44"/>
                  </a:lnTo>
                  <a:lnTo>
                    <a:pt x="389" y="30"/>
                  </a:lnTo>
                  <a:lnTo>
                    <a:pt x="362" y="22"/>
                  </a:lnTo>
                  <a:lnTo>
                    <a:pt x="336" y="8"/>
                  </a:lnTo>
                  <a:lnTo>
                    <a:pt x="300" y="4"/>
                  </a:lnTo>
                  <a:lnTo>
                    <a:pt x="261" y="0"/>
                  </a:lnTo>
                  <a:lnTo>
                    <a:pt x="211" y="0"/>
                  </a:lnTo>
                  <a:lnTo>
                    <a:pt x="167" y="4"/>
                  </a:lnTo>
                  <a:lnTo>
                    <a:pt x="123" y="4"/>
                  </a:lnTo>
                  <a:lnTo>
                    <a:pt x="92" y="17"/>
                  </a:lnTo>
                  <a:lnTo>
                    <a:pt x="66" y="22"/>
                  </a:lnTo>
                  <a:lnTo>
                    <a:pt x="44" y="35"/>
                  </a:lnTo>
                  <a:lnTo>
                    <a:pt x="26" y="52"/>
                  </a:lnTo>
                  <a:lnTo>
                    <a:pt x="17" y="75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050320" y="773280"/>
              <a:ext cx="138600" cy="86040"/>
            </a:xfrm>
            <a:custGeom>
              <a:avLst/>
              <a:gdLst/>
              <a:ahLst/>
              <a:rect l="0" t="0" r="r" b="b"/>
              <a:pathLst>
                <a:path w="385" h="239">
                  <a:moveTo>
                    <a:pt x="39" y="239"/>
                  </a:moveTo>
                  <a:lnTo>
                    <a:pt x="30" y="203"/>
                  </a:lnTo>
                  <a:lnTo>
                    <a:pt x="35" y="164"/>
                  </a:lnTo>
                  <a:lnTo>
                    <a:pt x="44" y="128"/>
                  </a:lnTo>
                  <a:lnTo>
                    <a:pt x="61" y="92"/>
                  </a:lnTo>
                  <a:lnTo>
                    <a:pt x="57" y="88"/>
                  </a:lnTo>
                  <a:lnTo>
                    <a:pt x="39" y="83"/>
                  </a:lnTo>
                  <a:lnTo>
                    <a:pt x="22" y="88"/>
                  </a:lnTo>
                  <a:lnTo>
                    <a:pt x="0" y="88"/>
                  </a:lnTo>
                  <a:lnTo>
                    <a:pt x="17" y="74"/>
                  </a:lnTo>
                  <a:lnTo>
                    <a:pt x="35" y="57"/>
                  </a:lnTo>
                  <a:lnTo>
                    <a:pt x="61" y="39"/>
                  </a:lnTo>
                  <a:lnTo>
                    <a:pt x="88" y="26"/>
                  </a:lnTo>
                  <a:lnTo>
                    <a:pt x="111" y="13"/>
                  </a:lnTo>
                  <a:lnTo>
                    <a:pt x="137" y="8"/>
                  </a:lnTo>
                  <a:lnTo>
                    <a:pt x="164" y="4"/>
                  </a:lnTo>
                  <a:lnTo>
                    <a:pt x="186" y="0"/>
                  </a:lnTo>
                  <a:lnTo>
                    <a:pt x="225" y="0"/>
                  </a:lnTo>
                  <a:lnTo>
                    <a:pt x="265" y="4"/>
                  </a:lnTo>
                  <a:lnTo>
                    <a:pt x="297" y="13"/>
                  </a:lnTo>
                  <a:lnTo>
                    <a:pt x="328" y="30"/>
                  </a:lnTo>
                  <a:lnTo>
                    <a:pt x="354" y="52"/>
                  </a:lnTo>
                  <a:lnTo>
                    <a:pt x="372" y="79"/>
                  </a:lnTo>
                  <a:lnTo>
                    <a:pt x="381" y="110"/>
                  </a:lnTo>
                  <a:lnTo>
                    <a:pt x="385" y="150"/>
                  </a:lnTo>
                  <a:lnTo>
                    <a:pt x="359" y="128"/>
                  </a:lnTo>
                  <a:lnTo>
                    <a:pt x="341" y="114"/>
                  </a:lnTo>
                  <a:lnTo>
                    <a:pt x="319" y="110"/>
                  </a:lnTo>
                  <a:lnTo>
                    <a:pt x="297" y="105"/>
                  </a:lnTo>
                  <a:lnTo>
                    <a:pt x="265" y="133"/>
                  </a:lnTo>
                  <a:lnTo>
                    <a:pt x="225" y="159"/>
                  </a:lnTo>
                  <a:lnTo>
                    <a:pt x="195" y="190"/>
                  </a:lnTo>
                  <a:lnTo>
                    <a:pt x="172" y="225"/>
                  </a:lnTo>
                  <a:lnTo>
                    <a:pt x="168" y="195"/>
                  </a:lnTo>
                  <a:lnTo>
                    <a:pt x="164" y="168"/>
                  </a:lnTo>
                  <a:lnTo>
                    <a:pt x="159" y="155"/>
                  </a:lnTo>
                  <a:lnTo>
                    <a:pt x="150" y="133"/>
                  </a:lnTo>
                  <a:lnTo>
                    <a:pt x="128" y="150"/>
                  </a:lnTo>
                  <a:lnTo>
                    <a:pt x="102" y="164"/>
                  </a:lnTo>
                  <a:lnTo>
                    <a:pt x="70" y="195"/>
                  </a:lnTo>
                  <a:lnTo>
                    <a:pt x="39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259840" y="765000"/>
              <a:ext cx="127440" cy="62280"/>
            </a:xfrm>
            <a:custGeom>
              <a:avLst/>
              <a:gdLst/>
              <a:ahLst/>
              <a:rect l="0" t="0" r="r" b="b"/>
              <a:pathLst>
                <a:path w="354" h="173">
                  <a:moveTo>
                    <a:pt x="0" y="53"/>
                  </a:moveTo>
                  <a:lnTo>
                    <a:pt x="22" y="53"/>
                  </a:lnTo>
                  <a:lnTo>
                    <a:pt x="48" y="58"/>
                  </a:lnTo>
                  <a:lnTo>
                    <a:pt x="70" y="71"/>
                  </a:lnTo>
                  <a:lnTo>
                    <a:pt x="89" y="89"/>
                  </a:lnTo>
                  <a:lnTo>
                    <a:pt x="93" y="75"/>
                  </a:lnTo>
                  <a:lnTo>
                    <a:pt x="93" y="58"/>
                  </a:lnTo>
                  <a:lnTo>
                    <a:pt x="93" y="39"/>
                  </a:lnTo>
                  <a:lnTo>
                    <a:pt x="89" y="22"/>
                  </a:lnTo>
                  <a:lnTo>
                    <a:pt x="115" y="30"/>
                  </a:lnTo>
                  <a:lnTo>
                    <a:pt x="142" y="49"/>
                  </a:lnTo>
                  <a:lnTo>
                    <a:pt x="159" y="58"/>
                  </a:lnTo>
                  <a:lnTo>
                    <a:pt x="181" y="75"/>
                  </a:lnTo>
                  <a:lnTo>
                    <a:pt x="203" y="98"/>
                  </a:lnTo>
                  <a:lnTo>
                    <a:pt x="225" y="115"/>
                  </a:lnTo>
                  <a:lnTo>
                    <a:pt x="247" y="138"/>
                  </a:lnTo>
                  <a:lnTo>
                    <a:pt x="261" y="173"/>
                  </a:lnTo>
                  <a:lnTo>
                    <a:pt x="270" y="151"/>
                  </a:lnTo>
                  <a:lnTo>
                    <a:pt x="270" y="128"/>
                  </a:lnTo>
                  <a:lnTo>
                    <a:pt x="270" y="111"/>
                  </a:lnTo>
                  <a:lnTo>
                    <a:pt x="270" y="102"/>
                  </a:lnTo>
                  <a:lnTo>
                    <a:pt x="284" y="111"/>
                  </a:lnTo>
                  <a:lnTo>
                    <a:pt x="310" y="124"/>
                  </a:lnTo>
                  <a:lnTo>
                    <a:pt x="332" y="134"/>
                  </a:lnTo>
                  <a:lnTo>
                    <a:pt x="354" y="151"/>
                  </a:lnTo>
                  <a:lnTo>
                    <a:pt x="337" y="115"/>
                  </a:lnTo>
                  <a:lnTo>
                    <a:pt x="310" y="89"/>
                  </a:lnTo>
                  <a:lnTo>
                    <a:pt x="284" y="71"/>
                  </a:lnTo>
                  <a:lnTo>
                    <a:pt x="256" y="53"/>
                  </a:lnTo>
                  <a:lnTo>
                    <a:pt x="275" y="49"/>
                  </a:lnTo>
                  <a:lnTo>
                    <a:pt x="288" y="39"/>
                  </a:lnTo>
                  <a:lnTo>
                    <a:pt x="306" y="35"/>
                  </a:lnTo>
                  <a:lnTo>
                    <a:pt x="323" y="30"/>
                  </a:lnTo>
                  <a:lnTo>
                    <a:pt x="310" y="26"/>
                  </a:lnTo>
                  <a:lnTo>
                    <a:pt x="297" y="22"/>
                  </a:lnTo>
                  <a:lnTo>
                    <a:pt x="279" y="13"/>
                  </a:lnTo>
                  <a:lnTo>
                    <a:pt x="261" y="8"/>
                  </a:lnTo>
                  <a:lnTo>
                    <a:pt x="243" y="4"/>
                  </a:lnTo>
                  <a:lnTo>
                    <a:pt x="217" y="4"/>
                  </a:lnTo>
                  <a:lnTo>
                    <a:pt x="190" y="0"/>
                  </a:lnTo>
                  <a:lnTo>
                    <a:pt x="155" y="0"/>
                  </a:lnTo>
                  <a:lnTo>
                    <a:pt x="102" y="4"/>
                  </a:lnTo>
                  <a:lnTo>
                    <a:pt x="52" y="8"/>
                  </a:lnTo>
                  <a:lnTo>
                    <a:pt x="22" y="26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070840" y="779400"/>
              <a:ext cx="105120" cy="57600"/>
            </a:xfrm>
            <a:custGeom>
              <a:avLst/>
              <a:gdLst/>
              <a:ahLst/>
              <a:rect l="0" t="0" r="r" b="b"/>
              <a:pathLst>
                <a:path w="292" h="160">
                  <a:moveTo>
                    <a:pt x="0" y="160"/>
                  </a:moveTo>
                  <a:lnTo>
                    <a:pt x="8" y="125"/>
                  </a:lnTo>
                  <a:lnTo>
                    <a:pt x="17" y="98"/>
                  </a:lnTo>
                  <a:lnTo>
                    <a:pt x="35" y="75"/>
                  </a:lnTo>
                  <a:lnTo>
                    <a:pt x="44" y="58"/>
                  </a:lnTo>
                  <a:lnTo>
                    <a:pt x="35" y="49"/>
                  </a:lnTo>
                  <a:lnTo>
                    <a:pt x="26" y="49"/>
                  </a:lnTo>
                  <a:lnTo>
                    <a:pt x="13" y="49"/>
                  </a:lnTo>
                  <a:lnTo>
                    <a:pt x="0" y="49"/>
                  </a:lnTo>
                  <a:lnTo>
                    <a:pt x="17" y="35"/>
                  </a:lnTo>
                  <a:lnTo>
                    <a:pt x="52" y="22"/>
                  </a:lnTo>
                  <a:lnTo>
                    <a:pt x="88" y="13"/>
                  </a:lnTo>
                  <a:lnTo>
                    <a:pt x="114" y="8"/>
                  </a:lnTo>
                  <a:lnTo>
                    <a:pt x="145" y="0"/>
                  </a:lnTo>
                  <a:lnTo>
                    <a:pt x="172" y="8"/>
                  </a:lnTo>
                  <a:lnTo>
                    <a:pt x="199" y="8"/>
                  </a:lnTo>
                  <a:lnTo>
                    <a:pt x="221" y="13"/>
                  </a:lnTo>
                  <a:lnTo>
                    <a:pt x="243" y="22"/>
                  </a:lnTo>
                  <a:lnTo>
                    <a:pt x="265" y="39"/>
                  </a:lnTo>
                  <a:lnTo>
                    <a:pt x="283" y="62"/>
                  </a:lnTo>
                  <a:lnTo>
                    <a:pt x="292" y="84"/>
                  </a:lnTo>
                  <a:lnTo>
                    <a:pt x="274" y="71"/>
                  </a:lnTo>
                  <a:lnTo>
                    <a:pt x="265" y="62"/>
                  </a:lnTo>
                  <a:lnTo>
                    <a:pt x="247" y="62"/>
                  </a:lnTo>
                  <a:lnTo>
                    <a:pt x="234" y="58"/>
                  </a:lnTo>
                  <a:lnTo>
                    <a:pt x="208" y="75"/>
                  </a:lnTo>
                  <a:lnTo>
                    <a:pt x="181" y="106"/>
                  </a:lnTo>
                  <a:lnTo>
                    <a:pt x="155" y="125"/>
                  </a:lnTo>
                  <a:lnTo>
                    <a:pt x="132" y="147"/>
                  </a:lnTo>
                  <a:lnTo>
                    <a:pt x="127" y="125"/>
                  </a:lnTo>
                  <a:lnTo>
                    <a:pt x="119" y="111"/>
                  </a:lnTo>
                  <a:lnTo>
                    <a:pt x="114" y="93"/>
                  </a:lnTo>
                  <a:lnTo>
                    <a:pt x="110" y="75"/>
                  </a:lnTo>
                  <a:lnTo>
                    <a:pt x="92" y="89"/>
                  </a:lnTo>
                  <a:lnTo>
                    <a:pt x="61" y="106"/>
                  </a:lnTo>
                  <a:lnTo>
                    <a:pt x="30" y="134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126280" y="836640"/>
              <a:ext cx="201960" cy="124200"/>
            </a:xfrm>
            <a:custGeom>
              <a:avLst/>
              <a:gdLst/>
              <a:ahLst/>
              <a:rect l="0" t="0" r="r" b="b"/>
              <a:pathLst>
                <a:path w="561" h="345">
                  <a:moveTo>
                    <a:pt x="268" y="199"/>
                  </a:moveTo>
                  <a:lnTo>
                    <a:pt x="292" y="252"/>
                  </a:lnTo>
                  <a:lnTo>
                    <a:pt x="322" y="301"/>
                  </a:lnTo>
                  <a:lnTo>
                    <a:pt x="362" y="337"/>
                  </a:lnTo>
                  <a:lnTo>
                    <a:pt x="411" y="345"/>
                  </a:lnTo>
                  <a:lnTo>
                    <a:pt x="468" y="337"/>
                  </a:lnTo>
                  <a:lnTo>
                    <a:pt x="516" y="301"/>
                  </a:lnTo>
                  <a:lnTo>
                    <a:pt x="547" y="239"/>
                  </a:lnTo>
                  <a:lnTo>
                    <a:pt x="561" y="168"/>
                  </a:lnTo>
                  <a:lnTo>
                    <a:pt x="547" y="102"/>
                  </a:lnTo>
                  <a:lnTo>
                    <a:pt x="516" y="48"/>
                  </a:lnTo>
                  <a:lnTo>
                    <a:pt x="468" y="8"/>
                  </a:lnTo>
                  <a:lnTo>
                    <a:pt x="411" y="0"/>
                  </a:lnTo>
                  <a:lnTo>
                    <a:pt x="362" y="13"/>
                  </a:lnTo>
                  <a:lnTo>
                    <a:pt x="318" y="48"/>
                  </a:lnTo>
                  <a:lnTo>
                    <a:pt x="287" y="102"/>
                  </a:lnTo>
                  <a:lnTo>
                    <a:pt x="264" y="159"/>
                  </a:lnTo>
                  <a:lnTo>
                    <a:pt x="246" y="111"/>
                  </a:lnTo>
                  <a:lnTo>
                    <a:pt x="216" y="61"/>
                  </a:lnTo>
                  <a:lnTo>
                    <a:pt x="180" y="30"/>
                  </a:lnTo>
                  <a:lnTo>
                    <a:pt x="136" y="17"/>
                  </a:lnTo>
                  <a:lnTo>
                    <a:pt x="83" y="30"/>
                  </a:lnTo>
                  <a:lnTo>
                    <a:pt x="35" y="66"/>
                  </a:lnTo>
                  <a:lnTo>
                    <a:pt x="8" y="124"/>
                  </a:lnTo>
                  <a:lnTo>
                    <a:pt x="0" y="181"/>
                  </a:lnTo>
                  <a:lnTo>
                    <a:pt x="8" y="243"/>
                  </a:lnTo>
                  <a:lnTo>
                    <a:pt x="35" y="293"/>
                  </a:lnTo>
                  <a:lnTo>
                    <a:pt x="83" y="332"/>
                  </a:lnTo>
                  <a:lnTo>
                    <a:pt x="136" y="341"/>
                  </a:lnTo>
                  <a:lnTo>
                    <a:pt x="185" y="332"/>
                  </a:lnTo>
                  <a:lnTo>
                    <a:pt x="220" y="293"/>
                  </a:lnTo>
                  <a:lnTo>
                    <a:pt x="255" y="252"/>
                  </a:lnTo>
                  <a:lnTo>
                    <a:pt x="268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140680" y="885960"/>
              <a:ext cx="36720" cy="52920"/>
            </a:xfrm>
            <a:custGeom>
              <a:avLst/>
              <a:gdLst/>
              <a:ahLst/>
              <a:rect l="0" t="0" r="r" b="b"/>
              <a:pathLst>
                <a:path w="102" h="147">
                  <a:moveTo>
                    <a:pt x="53" y="147"/>
                  </a:moveTo>
                  <a:lnTo>
                    <a:pt x="75" y="143"/>
                  </a:lnTo>
                  <a:lnTo>
                    <a:pt x="89" y="125"/>
                  </a:lnTo>
                  <a:lnTo>
                    <a:pt x="98" y="102"/>
                  </a:lnTo>
                  <a:lnTo>
                    <a:pt x="102" y="71"/>
                  </a:lnTo>
                  <a:lnTo>
                    <a:pt x="98" y="45"/>
                  </a:lnTo>
                  <a:lnTo>
                    <a:pt x="89" y="22"/>
                  </a:lnTo>
                  <a:lnTo>
                    <a:pt x="75" y="4"/>
                  </a:lnTo>
                  <a:lnTo>
                    <a:pt x="53" y="0"/>
                  </a:lnTo>
                  <a:lnTo>
                    <a:pt x="35" y="4"/>
                  </a:lnTo>
                  <a:lnTo>
                    <a:pt x="17" y="22"/>
                  </a:lnTo>
                  <a:lnTo>
                    <a:pt x="4" y="45"/>
                  </a:lnTo>
                  <a:lnTo>
                    <a:pt x="0" y="71"/>
                  </a:lnTo>
                  <a:lnTo>
                    <a:pt x="4" y="102"/>
                  </a:lnTo>
                  <a:lnTo>
                    <a:pt x="17" y="125"/>
                  </a:lnTo>
                  <a:lnTo>
                    <a:pt x="35" y="143"/>
                  </a:lnTo>
                  <a:lnTo>
                    <a:pt x="5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250120" y="882720"/>
              <a:ext cx="38520" cy="57600"/>
            </a:xfrm>
            <a:custGeom>
              <a:avLst/>
              <a:gdLst/>
              <a:ahLst/>
              <a:rect l="0" t="0" r="r" b="b"/>
              <a:pathLst>
                <a:path w="107" h="160">
                  <a:moveTo>
                    <a:pt x="53" y="160"/>
                  </a:moveTo>
                  <a:lnTo>
                    <a:pt x="75" y="156"/>
                  </a:lnTo>
                  <a:lnTo>
                    <a:pt x="94" y="138"/>
                  </a:lnTo>
                  <a:lnTo>
                    <a:pt x="103" y="111"/>
                  </a:lnTo>
                  <a:lnTo>
                    <a:pt x="107" y="80"/>
                  </a:lnTo>
                  <a:lnTo>
                    <a:pt x="103" y="49"/>
                  </a:lnTo>
                  <a:lnTo>
                    <a:pt x="94" y="22"/>
                  </a:lnTo>
                  <a:lnTo>
                    <a:pt x="75" y="4"/>
                  </a:lnTo>
                  <a:lnTo>
                    <a:pt x="53" y="0"/>
                  </a:lnTo>
                  <a:lnTo>
                    <a:pt x="31" y="4"/>
                  </a:lnTo>
                  <a:lnTo>
                    <a:pt x="17" y="22"/>
                  </a:lnTo>
                  <a:lnTo>
                    <a:pt x="4" y="49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7" y="138"/>
                  </a:lnTo>
                  <a:lnTo>
                    <a:pt x="31" y="156"/>
                  </a:lnTo>
                  <a:lnTo>
                    <a:pt x="5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210520" y="111132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59" y="94"/>
                  </a:moveTo>
                  <a:lnTo>
                    <a:pt x="40" y="94"/>
                  </a:lnTo>
                  <a:lnTo>
                    <a:pt x="31" y="94"/>
                  </a:lnTo>
                  <a:lnTo>
                    <a:pt x="13" y="94"/>
                  </a:lnTo>
                  <a:lnTo>
                    <a:pt x="0" y="94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76" y="0"/>
                  </a:lnTo>
                  <a:lnTo>
                    <a:pt x="59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247240" y="11095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0" y="94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72" y="0"/>
                  </a:lnTo>
                  <a:lnTo>
                    <a:pt x="52" y="81"/>
                  </a:lnTo>
                  <a:lnTo>
                    <a:pt x="39" y="85"/>
                  </a:lnTo>
                  <a:lnTo>
                    <a:pt x="33" y="85"/>
                  </a:lnTo>
                  <a:lnTo>
                    <a:pt x="12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248680" y="1074600"/>
              <a:ext cx="25920" cy="28800"/>
            </a:xfrm>
            <a:custGeom>
              <a:avLst/>
              <a:gdLst/>
              <a:ahLst/>
              <a:rect l="0" t="0" r="r" b="b"/>
              <a:pathLst>
                <a:path w="72" h="80">
                  <a:moveTo>
                    <a:pt x="0" y="80"/>
                  </a:moveTo>
                  <a:lnTo>
                    <a:pt x="11" y="75"/>
                  </a:lnTo>
                  <a:lnTo>
                    <a:pt x="30" y="75"/>
                  </a:lnTo>
                  <a:lnTo>
                    <a:pt x="42" y="75"/>
                  </a:lnTo>
                  <a:lnTo>
                    <a:pt x="60" y="75"/>
                  </a:lnTo>
                  <a:lnTo>
                    <a:pt x="72" y="17"/>
                  </a:lnTo>
                  <a:lnTo>
                    <a:pt x="60" y="8"/>
                  </a:lnTo>
                  <a:lnTo>
                    <a:pt x="42" y="4"/>
                  </a:lnTo>
                  <a:lnTo>
                    <a:pt x="30" y="4"/>
                  </a:lnTo>
                  <a:lnTo>
                    <a:pt x="11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8215200" y="106524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10" y="107"/>
                  </a:moveTo>
                  <a:lnTo>
                    <a:pt x="21" y="107"/>
                  </a:lnTo>
                  <a:lnTo>
                    <a:pt x="41" y="107"/>
                  </a:lnTo>
                  <a:lnTo>
                    <a:pt x="51" y="107"/>
                  </a:lnTo>
                  <a:lnTo>
                    <a:pt x="72" y="107"/>
                  </a:lnTo>
                  <a:lnTo>
                    <a:pt x="72" y="8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21" y="4"/>
                  </a:lnTo>
                  <a:lnTo>
                    <a:pt x="0" y="0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8178840" y="1109520"/>
              <a:ext cx="27360" cy="35280"/>
            </a:xfrm>
            <a:custGeom>
              <a:avLst/>
              <a:gdLst/>
              <a:ahLst/>
              <a:rect l="0" t="0" r="r" b="b"/>
              <a:pathLst>
                <a:path w="76" h="98">
                  <a:moveTo>
                    <a:pt x="49" y="98"/>
                  </a:moveTo>
                  <a:lnTo>
                    <a:pt x="36" y="93"/>
                  </a:lnTo>
                  <a:lnTo>
                    <a:pt x="23" y="84"/>
                  </a:lnTo>
                  <a:lnTo>
                    <a:pt x="13" y="84"/>
                  </a:lnTo>
                  <a:lnTo>
                    <a:pt x="0" y="80"/>
                  </a:lnTo>
                  <a:lnTo>
                    <a:pt x="27" y="0"/>
                  </a:lnTo>
                  <a:lnTo>
                    <a:pt x="40" y="4"/>
                  </a:lnTo>
                  <a:lnTo>
                    <a:pt x="49" y="4"/>
                  </a:lnTo>
                  <a:lnTo>
                    <a:pt x="63" y="4"/>
                  </a:lnTo>
                  <a:lnTo>
                    <a:pt x="76" y="4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177040" y="1063800"/>
              <a:ext cx="32040" cy="39960"/>
            </a:xfrm>
            <a:custGeom>
              <a:avLst/>
              <a:gdLst/>
              <a:ahLst/>
              <a:rect l="0" t="0" r="r" b="b"/>
              <a:pathLst>
                <a:path w="89" h="111">
                  <a:moveTo>
                    <a:pt x="71" y="4"/>
                  </a:moveTo>
                  <a:lnTo>
                    <a:pt x="53" y="0"/>
                  </a:lnTo>
                  <a:lnTo>
                    <a:pt x="39" y="0"/>
                  </a:lnTo>
                  <a:lnTo>
                    <a:pt x="17" y="0"/>
                  </a:lnTo>
                  <a:lnTo>
                    <a:pt x="0" y="4"/>
                  </a:lnTo>
                  <a:lnTo>
                    <a:pt x="30" y="106"/>
                  </a:lnTo>
                  <a:lnTo>
                    <a:pt x="45" y="106"/>
                  </a:lnTo>
                  <a:lnTo>
                    <a:pt x="62" y="106"/>
                  </a:lnTo>
                  <a:lnTo>
                    <a:pt x="71" y="106"/>
                  </a:lnTo>
                  <a:lnTo>
                    <a:pt x="89" y="111"/>
                  </a:lnTo>
                  <a:lnTo>
                    <a:pt x="7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8250120" y="557280"/>
            <a:ext cx="271800" cy="143280"/>
          </a:xfrm>
          <a:custGeom>
            <a:avLst/>
            <a:gdLst/>
            <a:ahLst/>
            <a:rect l="0" t="0" r="r" b="b"/>
            <a:pathLst>
              <a:path w="755" h="398">
                <a:moveTo>
                  <a:pt x="0" y="4"/>
                </a:moveTo>
                <a:lnTo>
                  <a:pt x="176" y="0"/>
                </a:lnTo>
                <a:lnTo>
                  <a:pt x="326" y="22"/>
                </a:lnTo>
                <a:lnTo>
                  <a:pt x="455" y="70"/>
                </a:lnTo>
                <a:lnTo>
                  <a:pt x="556" y="124"/>
                </a:lnTo>
                <a:lnTo>
                  <a:pt x="631" y="190"/>
                </a:lnTo>
                <a:lnTo>
                  <a:pt x="688" y="256"/>
                </a:lnTo>
                <a:lnTo>
                  <a:pt x="733" y="323"/>
                </a:lnTo>
                <a:lnTo>
                  <a:pt x="755" y="368"/>
                </a:lnTo>
                <a:lnTo>
                  <a:pt x="728" y="368"/>
                </a:lnTo>
                <a:lnTo>
                  <a:pt x="706" y="376"/>
                </a:lnTo>
                <a:lnTo>
                  <a:pt x="684" y="385"/>
                </a:lnTo>
                <a:lnTo>
                  <a:pt x="662" y="398"/>
                </a:lnTo>
                <a:lnTo>
                  <a:pt x="640" y="354"/>
                </a:lnTo>
                <a:lnTo>
                  <a:pt x="609" y="301"/>
                </a:lnTo>
                <a:lnTo>
                  <a:pt x="556" y="239"/>
                </a:lnTo>
                <a:lnTo>
                  <a:pt x="490" y="177"/>
                </a:lnTo>
                <a:lnTo>
                  <a:pt x="406" y="115"/>
                </a:lnTo>
                <a:lnTo>
                  <a:pt x="295" y="70"/>
                </a:lnTo>
                <a:lnTo>
                  <a:pt x="158" y="26"/>
                </a:lnTo>
                <a:lnTo>
                  <a:pt x="0" y="4"/>
                </a:lnTo>
                <a:close/>
              </a:path>
            </a:pathLst>
          </a:custGeom>
          <a:solidFill>
            <a:srgbClr val="ccf2f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1"/>
          <a:stretch/>
        </p:blipFill>
        <p:spPr>
          <a:xfrm>
            <a:off x="5029200" y="5207040"/>
            <a:ext cx="353880" cy="654120"/>
          </a:xfrm>
          <a:prstGeom prst="rect">
            <a:avLst/>
          </a:prstGeom>
          <a:ln w="0">
            <a:noFill/>
          </a:ln>
        </p:spPr>
      </p:pic>
      <p:grpSp>
        <p:nvGrpSpPr>
          <p:cNvPr id="1389" name=""/>
          <p:cNvGrpSpPr/>
          <p:nvPr/>
        </p:nvGrpSpPr>
        <p:grpSpPr>
          <a:xfrm>
            <a:off x="304920" y="1244520"/>
            <a:ext cx="8242200" cy="4597560"/>
            <a:chOff x="304920" y="1244520"/>
            <a:chExt cx="8242200" cy="4597560"/>
          </a:xfrm>
        </p:grpSpPr>
        <p:sp>
          <p:nvSpPr>
            <p:cNvPr id="1390" name=""/>
            <p:cNvSpPr/>
            <p:nvPr/>
          </p:nvSpPr>
          <p:spPr>
            <a:xfrm>
              <a:off x="609480" y="2552760"/>
              <a:ext cx="34308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410080" y="4406760"/>
              <a:ext cx="228600" cy="24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447920" y="13590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292640" y="49402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30600" y="4013280"/>
              <a:ext cx="216000" cy="203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166240" y="38354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613480" y="2108160"/>
              <a:ext cx="27936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717640" y="1739880"/>
              <a:ext cx="190440" cy="190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204040" y="5537160"/>
              <a:ext cx="29196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457880" y="2374920"/>
              <a:ext cx="152280" cy="190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68280" y="37972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327800" y="14223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04920" y="1244520"/>
              <a:ext cx="190440" cy="190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873600" y="4038480"/>
              <a:ext cx="241200" cy="254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507960" y="5084640"/>
            <a:ext cx="1384920" cy="1087920"/>
            <a:chOff x="507960" y="5084640"/>
            <a:chExt cx="1384920" cy="1087920"/>
          </a:xfrm>
        </p:grpSpPr>
        <p:sp>
          <p:nvSpPr>
            <p:cNvPr id="1405" name=""/>
            <p:cNvSpPr/>
            <p:nvPr/>
          </p:nvSpPr>
          <p:spPr>
            <a:xfrm>
              <a:off x="797040" y="5084640"/>
              <a:ext cx="1095840" cy="943200"/>
            </a:xfrm>
            <a:custGeom>
              <a:avLst/>
              <a:gdLst/>
              <a:ahLst/>
              <a:rect l="0" t="0" r="r" b="b"/>
              <a:pathLst>
                <a:path w="3044" h="2620">
                  <a:moveTo>
                    <a:pt x="727" y="926"/>
                  </a:moveTo>
                  <a:lnTo>
                    <a:pt x="361" y="1084"/>
                  </a:lnTo>
                  <a:lnTo>
                    <a:pt x="97" y="1407"/>
                  </a:lnTo>
                  <a:lnTo>
                    <a:pt x="0" y="1773"/>
                  </a:lnTo>
                  <a:lnTo>
                    <a:pt x="57" y="2135"/>
                  </a:lnTo>
                  <a:lnTo>
                    <a:pt x="357" y="2430"/>
                  </a:lnTo>
                  <a:lnTo>
                    <a:pt x="909" y="2620"/>
                  </a:lnTo>
                  <a:lnTo>
                    <a:pt x="1628" y="2602"/>
                  </a:lnTo>
                  <a:lnTo>
                    <a:pt x="2272" y="2443"/>
                  </a:lnTo>
                  <a:lnTo>
                    <a:pt x="2652" y="2192"/>
                  </a:lnTo>
                  <a:lnTo>
                    <a:pt x="2916" y="1835"/>
                  </a:lnTo>
                  <a:lnTo>
                    <a:pt x="3044" y="1491"/>
                  </a:lnTo>
                  <a:lnTo>
                    <a:pt x="2965" y="1009"/>
                  </a:lnTo>
                  <a:lnTo>
                    <a:pt x="2718" y="829"/>
                  </a:lnTo>
                  <a:lnTo>
                    <a:pt x="2254" y="665"/>
                  </a:lnTo>
                  <a:lnTo>
                    <a:pt x="2280" y="956"/>
                  </a:lnTo>
                  <a:lnTo>
                    <a:pt x="2166" y="1376"/>
                  </a:lnTo>
                  <a:lnTo>
                    <a:pt x="1667" y="1910"/>
                  </a:lnTo>
                  <a:lnTo>
                    <a:pt x="1711" y="1403"/>
                  </a:lnTo>
                  <a:lnTo>
                    <a:pt x="1694" y="1120"/>
                  </a:lnTo>
                  <a:lnTo>
                    <a:pt x="1610" y="639"/>
                  </a:lnTo>
                  <a:lnTo>
                    <a:pt x="1002" y="732"/>
                  </a:lnTo>
                  <a:lnTo>
                    <a:pt x="352" y="30"/>
                  </a:lnTo>
                  <a:lnTo>
                    <a:pt x="194" y="0"/>
                  </a:lnTo>
                  <a:lnTo>
                    <a:pt x="48" y="136"/>
                  </a:lnTo>
                  <a:lnTo>
                    <a:pt x="92" y="268"/>
                  </a:lnTo>
                  <a:lnTo>
                    <a:pt x="727" y="926"/>
                  </a:lnTo>
                  <a:close/>
                </a:path>
              </a:pathLst>
            </a:custGeom>
            <a:solidFill>
              <a:srgbClr val="66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47640" y="5283360"/>
              <a:ext cx="760680" cy="889200"/>
            </a:xfrm>
            <a:custGeom>
              <a:avLst/>
              <a:gdLst/>
              <a:ahLst/>
              <a:rect l="0" t="0" r="r" b="b"/>
              <a:pathLst>
                <a:path w="2113" h="2470">
                  <a:moveTo>
                    <a:pt x="895" y="1892"/>
                  </a:moveTo>
                  <a:lnTo>
                    <a:pt x="560" y="1172"/>
                  </a:lnTo>
                  <a:lnTo>
                    <a:pt x="383" y="436"/>
                  </a:lnTo>
                  <a:lnTo>
                    <a:pt x="299" y="0"/>
                  </a:lnTo>
                  <a:lnTo>
                    <a:pt x="74" y="476"/>
                  </a:lnTo>
                  <a:lnTo>
                    <a:pt x="0" y="1221"/>
                  </a:lnTo>
                  <a:lnTo>
                    <a:pt x="154" y="1689"/>
                  </a:lnTo>
                  <a:lnTo>
                    <a:pt x="511" y="2047"/>
                  </a:lnTo>
                  <a:lnTo>
                    <a:pt x="815" y="2047"/>
                  </a:lnTo>
                  <a:lnTo>
                    <a:pt x="877" y="2351"/>
                  </a:lnTo>
                  <a:lnTo>
                    <a:pt x="1301" y="2470"/>
                  </a:lnTo>
                  <a:lnTo>
                    <a:pt x="1698" y="2360"/>
                  </a:lnTo>
                  <a:lnTo>
                    <a:pt x="2113" y="2042"/>
                  </a:lnTo>
                  <a:lnTo>
                    <a:pt x="1883" y="2064"/>
                  </a:lnTo>
                  <a:lnTo>
                    <a:pt x="1870" y="1919"/>
                  </a:lnTo>
                  <a:lnTo>
                    <a:pt x="1963" y="1729"/>
                  </a:lnTo>
                  <a:lnTo>
                    <a:pt x="1654" y="1883"/>
                  </a:lnTo>
                  <a:lnTo>
                    <a:pt x="1332" y="1663"/>
                  </a:lnTo>
                  <a:lnTo>
                    <a:pt x="895" y="1892"/>
                  </a:lnTo>
                  <a:close/>
                </a:path>
              </a:pathLst>
            </a:custGeom>
            <a:solidFill>
              <a:srgbClr val="cc990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969840" y="5506920"/>
              <a:ext cx="209880" cy="198720"/>
            </a:xfrm>
            <a:custGeom>
              <a:avLst/>
              <a:gdLst/>
              <a:ahLst/>
              <a:rect l="0" t="0" r="r" b="b"/>
              <a:pathLst>
                <a:path w="583" h="552">
                  <a:moveTo>
                    <a:pt x="468" y="0"/>
                  </a:moveTo>
                  <a:lnTo>
                    <a:pt x="251" y="105"/>
                  </a:lnTo>
                  <a:lnTo>
                    <a:pt x="92" y="242"/>
                  </a:lnTo>
                  <a:lnTo>
                    <a:pt x="0" y="389"/>
                  </a:lnTo>
                  <a:lnTo>
                    <a:pt x="26" y="481"/>
                  </a:lnTo>
                  <a:lnTo>
                    <a:pt x="110" y="525"/>
                  </a:lnTo>
                  <a:lnTo>
                    <a:pt x="277" y="552"/>
                  </a:lnTo>
                  <a:lnTo>
                    <a:pt x="468" y="455"/>
                  </a:lnTo>
                  <a:lnTo>
                    <a:pt x="583" y="375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66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07960" y="5289480"/>
              <a:ext cx="351360" cy="740160"/>
            </a:xfrm>
            <a:custGeom>
              <a:avLst/>
              <a:gdLst/>
              <a:ahLst/>
              <a:rect l="0" t="0" r="r" b="b"/>
              <a:pathLst>
                <a:path w="976" h="2056">
                  <a:moveTo>
                    <a:pt x="583" y="1673"/>
                  </a:moveTo>
                  <a:lnTo>
                    <a:pt x="613" y="1531"/>
                  </a:lnTo>
                  <a:lnTo>
                    <a:pt x="600" y="1407"/>
                  </a:lnTo>
                  <a:lnTo>
                    <a:pt x="644" y="1310"/>
                  </a:lnTo>
                  <a:lnTo>
                    <a:pt x="631" y="1187"/>
                  </a:lnTo>
                  <a:lnTo>
                    <a:pt x="587" y="1041"/>
                  </a:lnTo>
                  <a:lnTo>
                    <a:pt x="600" y="931"/>
                  </a:lnTo>
                  <a:lnTo>
                    <a:pt x="587" y="807"/>
                  </a:lnTo>
                  <a:lnTo>
                    <a:pt x="653" y="680"/>
                  </a:lnTo>
                  <a:lnTo>
                    <a:pt x="605" y="538"/>
                  </a:lnTo>
                  <a:lnTo>
                    <a:pt x="622" y="427"/>
                  </a:lnTo>
                  <a:lnTo>
                    <a:pt x="640" y="317"/>
                  </a:lnTo>
                  <a:lnTo>
                    <a:pt x="622" y="189"/>
                  </a:lnTo>
                  <a:lnTo>
                    <a:pt x="640" y="79"/>
                  </a:lnTo>
                  <a:lnTo>
                    <a:pt x="561" y="0"/>
                  </a:lnTo>
                  <a:lnTo>
                    <a:pt x="481" y="79"/>
                  </a:lnTo>
                  <a:lnTo>
                    <a:pt x="371" y="141"/>
                  </a:lnTo>
                  <a:lnTo>
                    <a:pt x="322" y="233"/>
                  </a:lnTo>
                  <a:lnTo>
                    <a:pt x="274" y="330"/>
                  </a:lnTo>
                  <a:lnTo>
                    <a:pt x="322" y="471"/>
                  </a:lnTo>
                  <a:lnTo>
                    <a:pt x="274" y="565"/>
                  </a:lnTo>
                  <a:lnTo>
                    <a:pt x="256" y="675"/>
                  </a:lnTo>
                  <a:lnTo>
                    <a:pt x="207" y="772"/>
                  </a:lnTo>
                  <a:lnTo>
                    <a:pt x="189" y="882"/>
                  </a:lnTo>
                  <a:lnTo>
                    <a:pt x="176" y="993"/>
                  </a:lnTo>
                  <a:lnTo>
                    <a:pt x="110" y="1116"/>
                  </a:lnTo>
                  <a:lnTo>
                    <a:pt x="48" y="1244"/>
                  </a:lnTo>
                  <a:lnTo>
                    <a:pt x="0" y="1337"/>
                  </a:lnTo>
                  <a:lnTo>
                    <a:pt x="13" y="1465"/>
                  </a:lnTo>
                  <a:lnTo>
                    <a:pt x="61" y="1607"/>
                  </a:lnTo>
                  <a:lnTo>
                    <a:pt x="136" y="1686"/>
                  </a:lnTo>
                  <a:lnTo>
                    <a:pt x="198" y="1796"/>
                  </a:lnTo>
                  <a:lnTo>
                    <a:pt x="296" y="1924"/>
                  </a:lnTo>
                  <a:lnTo>
                    <a:pt x="406" y="1942"/>
                  </a:lnTo>
                  <a:lnTo>
                    <a:pt x="516" y="1959"/>
                  </a:lnTo>
                  <a:lnTo>
                    <a:pt x="609" y="2008"/>
                  </a:lnTo>
                  <a:lnTo>
                    <a:pt x="702" y="2056"/>
                  </a:lnTo>
                  <a:lnTo>
                    <a:pt x="831" y="1880"/>
                  </a:lnTo>
                  <a:lnTo>
                    <a:pt x="976" y="1836"/>
                  </a:lnTo>
                  <a:lnTo>
                    <a:pt x="914" y="1726"/>
                  </a:lnTo>
                  <a:lnTo>
                    <a:pt x="817" y="1677"/>
                  </a:lnTo>
                  <a:lnTo>
                    <a:pt x="583" y="16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3801240" y="2788920"/>
            <a:ext cx="1010880" cy="927720"/>
            <a:chOff x="3801240" y="2788920"/>
            <a:chExt cx="1010880" cy="927720"/>
          </a:xfrm>
        </p:grpSpPr>
        <p:sp>
          <p:nvSpPr>
            <p:cNvPr id="1410" name=""/>
            <p:cNvSpPr/>
            <p:nvPr/>
          </p:nvSpPr>
          <p:spPr>
            <a:xfrm>
              <a:off x="3917880" y="2913120"/>
              <a:ext cx="894240" cy="803520"/>
            </a:xfrm>
            <a:custGeom>
              <a:avLst/>
              <a:gdLst/>
              <a:ahLst/>
              <a:rect l="0" t="0" r="r" b="b"/>
              <a:pathLst>
                <a:path w="2484" h="2232">
                  <a:moveTo>
                    <a:pt x="2400" y="2232"/>
                  </a:moveTo>
                  <a:lnTo>
                    <a:pt x="2484" y="2069"/>
                  </a:lnTo>
                  <a:lnTo>
                    <a:pt x="2400" y="1795"/>
                  </a:lnTo>
                  <a:lnTo>
                    <a:pt x="1800" y="1262"/>
                  </a:lnTo>
                  <a:lnTo>
                    <a:pt x="604" y="0"/>
                  </a:lnTo>
                  <a:lnTo>
                    <a:pt x="0" y="555"/>
                  </a:lnTo>
                  <a:lnTo>
                    <a:pt x="1099" y="1579"/>
                  </a:lnTo>
                  <a:lnTo>
                    <a:pt x="2026" y="2232"/>
                  </a:lnTo>
                  <a:lnTo>
                    <a:pt x="2400" y="223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801240" y="2788920"/>
              <a:ext cx="284400" cy="263880"/>
            </a:xfrm>
            <a:custGeom>
              <a:avLst/>
              <a:gdLst/>
              <a:ahLst/>
              <a:rect l="0" t="0" r="r" b="b"/>
              <a:pathLst>
                <a:path w="790" h="733">
                  <a:moveTo>
                    <a:pt x="743" y="140"/>
                  </a:moveTo>
                  <a:lnTo>
                    <a:pt x="743" y="140"/>
                  </a:lnTo>
                  <a:cubicBezTo>
                    <a:pt x="710" y="90"/>
                    <a:pt x="662" y="50"/>
                    <a:pt x="603" y="27"/>
                  </a:cubicBezTo>
                  <a:cubicBezTo>
                    <a:pt x="544" y="2"/>
                    <a:pt x="476" y="-5"/>
                    <a:pt x="407" y="4"/>
                  </a:cubicBezTo>
                  <a:cubicBezTo>
                    <a:pt x="337" y="13"/>
                    <a:pt x="269" y="38"/>
                    <a:pt x="208" y="78"/>
                  </a:cubicBezTo>
                  <a:cubicBezTo>
                    <a:pt x="147" y="118"/>
                    <a:pt x="95" y="170"/>
                    <a:pt x="59" y="230"/>
                  </a:cubicBezTo>
                  <a:cubicBezTo>
                    <a:pt x="22" y="289"/>
                    <a:pt x="2" y="354"/>
                    <a:pt x="0" y="418"/>
                  </a:cubicBezTo>
                  <a:cubicBezTo>
                    <a:pt x="-2" y="482"/>
                    <a:pt x="14" y="542"/>
                    <a:pt x="47" y="593"/>
                  </a:cubicBezTo>
                  <a:lnTo>
                    <a:pt x="47" y="593"/>
                  </a:lnTo>
                  <a:lnTo>
                    <a:pt x="47" y="593"/>
                  </a:lnTo>
                  <a:cubicBezTo>
                    <a:pt x="80" y="643"/>
                    <a:pt x="128" y="683"/>
                    <a:pt x="187" y="706"/>
                  </a:cubicBezTo>
                  <a:cubicBezTo>
                    <a:pt x="246" y="731"/>
                    <a:pt x="314" y="738"/>
                    <a:pt x="383" y="729"/>
                  </a:cubicBezTo>
                  <a:cubicBezTo>
                    <a:pt x="453" y="720"/>
                    <a:pt x="521" y="695"/>
                    <a:pt x="582" y="655"/>
                  </a:cubicBezTo>
                  <a:cubicBezTo>
                    <a:pt x="643" y="615"/>
                    <a:pt x="695" y="563"/>
                    <a:pt x="731" y="503"/>
                  </a:cubicBezTo>
                  <a:cubicBezTo>
                    <a:pt x="768" y="444"/>
                    <a:pt x="788" y="379"/>
                    <a:pt x="790" y="315"/>
                  </a:cubicBezTo>
                  <a:cubicBezTo>
                    <a:pt x="792" y="251"/>
                    <a:pt x="776" y="191"/>
                    <a:pt x="743" y="14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2" name="" descr=""/>
          <p:cNvPicPr/>
          <p:nvPr/>
        </p:nvPicPr>
        <p:blipFill>
          <a:blip r:embed="rId2"/>
          <a:stretch/>
        </p:blipFill>
        <p:spPr>
          <a:xfrm>
            <a:off x="5856120" y="5168880"/>
            <a:ext cx="353880" cy="654120"/>
          </a:xfrm>
          <a:prstGeom prst="rect">
            <a:avLst/>
          </a:prstGeom>
          <a:ln w="0">
            <a:noFill/>
          </a:ln>
        </p:spPr>
      </p:pic>
      <p:pic>
        <p:nvPicPr>
          <p:cNvPr id="1413" name="" descr=""/>
          <p:cNvPicPr/>
          <p:nvPr/>
        </p:nvPicPr>
        <p:blipFill>
          <a:blip r:embed="rId3"/>
          <a:stretch/>
        </p:blipFill>
        <p:spPr>
          <a:xfrm>
            <a:off x="6248520" y="5181480"/>
            <a:ext cx="353880" cy="65412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4"/>
          <a:stretch/>
        </p:blipFill>
        <p:spPr>
          <a:xfrm>
            <a:off x="7327800" y="5092560"/>
            <a:ext cx="353880" cy="654120"/>
          </a:xfrm>
          <a:prstGeom prst="rect">
            <a:avLst/>
          </a:prstGeom>
          <a:ln w="0">
            <a:noFill/>
          </a:ln>
        </p:spPr>
      </p:pic>
      <p:grpSp>
        <p:nvGrpSpPr>
          <p:cNvPr id="1415" name=""/>
          <p:cNvGrpSpPr/>
          <p:nvPr/>
        </p:nvGrpSpPr>
        <p:grpSpPr>
          <a:xfrm>
            <a:off x="4343400" y="1816200"/>
            <a:ext cx="1495800" cy="4346640"/>
            <a:chOff x="4343400" y="1816200"/>
            <a:chExt cx="1495800" cy="4346640"/>
          </a:xfrm>
        </p:grpSpPr>
        <p:pic>
          <p:nvPicPr>
            <p:cNvPr id="1416" name="" descr=""/>
            <p:cNvPicPr/>
            <p:nvPr/>
          </p:nvPicPr>
          <p:blipFill>
            <a:blip r:embed="rId5"/>
            <a:stretch/>
          </p:blipFill>
          <p:spPr>
            <a:xfrm>
              <a:off x="4965840" y="5194440"/>
              <a:ext cx="35388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7" name=""/>
            <p:cNvGrpSpPr/>
            <p:nvPr/>
          </p:nvGrpSpPr>
          <p:grpSpPr>
            <a:xfrm>
              <a:off x="4343400" y="4554360"/>
              <a:ext cx="1495800" cy="1608480"/>
              <a:chOff x="4343400" y="4554360"/>
              <a:chExt cx="1495800" cy="1608480"/>
            </a:xfrm>
          </p:grpSpPr>
          <p:sp>
            <p:nvSpPr>
              <p:cNvPr id="1418" name=""/>
              <p:cNvSpPr/>
              <p:nvPr/>
            </p:nvSpPr>
            <p:spPr>
              <a:xfrm>
                <a:off x="4721400" y="4554360"/>
                <a:ext cx="646560" cy="1483200"/>
              </a:xfrm>
              <a:custGeom>
                <a:avLst/>
                <a:gdLst/>
                <a:ahLst/>
                <a:rect l="0" t="0" r="r" b="b"/>
                <a:pathLst>
                  <a:path w="1796" h="4120">
                    <a:moveTo>
                      <a:pt x="0" y="0"/>
                    </a:moveTo>
                    <a:lnTo>
                      <a:pt x="312" y="4120"/>
                    </a:lnTo>
                    <a:lnTo>
                      <a:pt x="1015" y="4120"/>
                    </a:lnTo>
                    <a:lnTo>
                      <a:pt x="911" y="1116"/>
                    </a:lnTo>
                    <a:lnTo>
                      <a:pt x="1015" y="4120"/>
                    </a:lnTo>
                    <a:lnTo>
                      <a:pt x="1796" y="4120"/>
                    </a:lnTo>
                    <a:lnTo>
                      <a:pt x="1718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343400" y="5983200"/>
                <a:ext cx="743400" cy="179640"/>
              </a:xfrm>
              <a:custGeom>
                <a:avLst/>
                <a:gdLst/>
                <a:ahLst/>
                <a:rect l="0" t="0" r="r" b="b"/>
                <a:pathLst>
                  <a:path w="2065" h="499">
                    <a:moveTo>
                      <a:pt x="1359" y="158"/>
                    </a:moveTo>
                    <a:lnTo>
                      <a:pt x="967" y="45"/>
                    </a:lnTo>
                    <a:lnTo>
                      <a:pt x="706" y="0"/>
                    </a:lnTo>
                    <a:lnTo>
                      <a:pt x="417" y="90"/>
                    </a:lnTo>
                    <a:lnTo>
                      <a:pt x="130" y="226"/>
                    </a:lnTo>
                    <a:lnTo>
                      <a:pt x="0" y="408"/>
                    </a:lnTo>
                    <a:lnTo>
                      <a:pt x="182" y="499"/>
                    </a:lnTo>
                    <a:lnTo>
                      <a:pt x="2065" y="499"/>
                    </a:lnTo>
                    <a:lnTo>
                      <a:pt x="2065" y="158"/>
                    </a:lnTo>
                    <a:lnTo>
                      <a:pt x="1359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095800" y="5983200"/>
                <a:ext cx="743400" cy="179640"/>
              </a:xfrm>
              <a:custGeom>
                <a:avLst/>
                <a:gdLst/>
                <a:ahLst/>
                <a:rect l="0" t="0" r="r" b="b"/>
                <a:pathLst>
                  <a:path w="2065" h="499">
                    <a:moveTo>
                      <a:pt x="706" y="158"/>
                    </a:moveTo>
                    <a:lnTo>
                      <a:pt x="1098" y="45"/>
                    </a:lnTo>
                    <a:lnTo>
                      <a:pt x="1359" y="0"/>
                    </a:lnTo>
                    <a:lnTo>
                      <a:pt x="1647" y="90"/>
                    </a:lnTo>
                    <a:lnTo>
                      <a:pt x="1935" y="226"/>
                    </a:lnTo>
                    <a:lnTo>
                      <a:pt x="2065" y="408"/>
                    </a:lnTo>
                    <a:lnTo>
                      <a:pt x="1882" y="499"/>
                    </a:lnTo>
                    <a:lnTo>
                      <a:pt x="0" y="499"/>
                    </a:lnTo>
                    <a:lnTo>
                      <a:pt x="0" y="158"/>
                    </a:lnTo>
                    <a:lnTo>
                      <a:pt x="706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4498920" y="1905120"/>
              <a:ext cx="1068840" cy="2821320"/>
              <a:chOff x="4498920" y="1905120"/>
              <a:chExt cx="1068840" cy="2821320"/>
            </a:xfrm>
          </p:grpSpPr>
          <p:sp>
            <p:nvSpPr>
              <p:cNvPr id="1422" name=""/>
              <p:cNvSpPr/>
              <p:nvPr/>
            </p:nvSpPr>
            <p:spPr>
              <a:xfrm>
                <a:off x="4597560" y="3346560"/>
                <a:ext cx="970200" cy="1379880"/>
              </a:xfrm>
              <a:custGeom>
                <a:avLst/>
                <a:gdLst/>
                <a:ahLst/>
                <a:rect l="0" t="0" r="r" b="b"/>
                <a:pathLst>
                  <a:path w="2695" h="3833">
                    <a:moveTo>
                      <a:pt x="943" y="323"/>
                    </a:moveTo>
                    <a:lnTo>
                      <a:pt x="856" y="338"/>
                    </a:lnTo>
                    <a:lnTo>
                      <a:pt x="790" y="376"/>
                    </a:lnTo>
                    <a:lnTo>
                      <a:pt x="664" y="501"/>
                    </a:lnTo>
                    <a:lnTo>
                      <a:pt x="534" y="623"/>
                    </a:lnTo>
                    <a:lnTo>
                      <a:pt x="386" y="733"/>
                    </a:lnTo>
                    <a:lnTo>
                      <a:pt x="365" y="767"/>
                    </a:lnTo>
                    <a:lnTo>
                      <a:pt x="343" y="802"/>
                    </a:lnTo>
                    <a:lnTo>
                      <a:pt x="343" y="802"/>
                    </a:lnTo>
                    <a:lnTo>
                      <a:pt x="365" y="802"/>
                    </a:lnTo>
                    <a:lnTo>
                      <a:pt x="152" y="1338"/>
                    </a:lnTo>
                    <a:lnTo>
                      <a:pt x="0" y="3745"/>
                    </a:lnTo>
                    <a:lnTo>
                      <a:pt x="2695" y="3833"/>
                    </a:lnTo>
                    <a:lnTo>
                      <a:pt x="2291" y="1589"/>
                    </a:lnTo>
                    <a:lnTo>
                      <a:pt x="2095" y="357"/>
                    </a:lnTo>
                    <a:lnTo>
                      <a:pt x="1369" y="0"/>
                    </a:lnTo>
                    <a:lnTo>
                      <a:pt x="943" y="323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889520" y="3355920"/>
                <a:ext cx="300240" cy="155880"/>
              </a:xfrm>
              <a:custGeom>
                <a:avLst/>
                <a:gdLst/>
                <a:ahLst/>
                <a:rect l="0" t="0" r="r" b="b"/>
                <a:pathLst>
                  <a:path w="834" h="433">
                    <a:moveTo>
                      <a:pt x="0" y="296"/>
                    </a:moveTo>
                    <a:lnTo>
                      <a:pt x="234" y="410"/>
                    </a:lnTo>
                    <a:lnTo>
                      <a:pt x="652" y="433"/>
                    </a:lnTo>
                    <a:lnTo>
                      <a:pt x="834" y="228"/>
                    </a:lnTo>
                    <a:lnTo>
                      <a:pt x="834" y="68"/>
                    </a:lnTo>
                    <a:lnTo>
                      <a:pt x="652" y="0"/>
                    </a:lnTo>
                    <a:lnTo>
                      <a:pt x="469" y="228"/>
                    </a:lnTo>
                    <a:lnTo>
                      <a:pt x="182" y="251"/>
                    </a:lnTo>
                    <a:lnTo>
                      <a:pt x="0" y="296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4" name=""/>
              <p:cNvGrpSpPr/>
              <p:nvPr/>
            </p:nvGrpSpPr>
            <p:grpSpPr>
              <a:xfrm>
                <a:off x="4498920" y="1905120"/>
                <a:ext cx="992520" cy="1567440"/>
                <a:chOff x="4498920" y="1905120"/>
                <a:chExt cx="992520" cy="156744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4606920" y="2109960"/>
                  <a:ext cx="884520" cy="1362600"/>
                </a:xfrm>
                <a:custGeom>
                  <a:avLst/>
                  <a:gdLst/>
                  <a:ahLst/>
                  <a:rect l="0" t="0" r="r" b="b"/>
                  <a:pathLst>
                    <a:path w="2457" h="3785">
                      <a:moveTo>
                        <a:pt x="574" y="0"/>
                      </a:moveTo>
                      <a:lnTo>
                        <a:pt x="261" y="227"/>
                      </a:lnTo>
                      <a:lnTo>
                        <a:pt x="78" y="592"/>
                      </a:lnTo>
                      <a:lnTo>
                        <a:pt x="26" y="1049"/>
                      </a:lnTo>
                      <a:lnTo>
                        <a:pt x="0" y="2325"/>
                      </a:lnTo>
                      <a:lnTo>
                        <a:pt x="52" y="3056"/>
                      </a:lnTo>
                      <a:lnTo>
                        <a:pt x="810" y="3101"/>
                      </a:lnTo>
                      <a:lnTo>
                        <a:pt x="914" y="3512"/>
                      </a:lnTo>
                      <a:lnTo>
                        <a:pt x="1019" y="3785"/>
                      </a:lnTo>
                      <a:lnTo>
                        <a:pt x="1255" y="3785"/>
                      </a:lnTo>
                      <a:lnTo>
                        <a:pt x="1385" y="3534"/>
                      </a:lnTo>
                      <a:lnTo>
                        <a:pt x="1307" y="3101"/>
                      </a:lnTo>
                      <a:lnTo>
                        <a:pt x="2013" y="3033"/>
                      </a:lnTo>
                      <a:lnTo>
                        <a:pt x="2039" y="2599"/>
                      </a:lnTo>
                      <a:lnTo>
                        <a:pt x="2195" y="2667"/>
                      </a:lnTo>
                      <a:lnTo>
                        <a:pt x="2352" y="2622"/>
                      </a:lnTo>
                      <a:lnTo>
                        <a:pt x="2457" y="2257"/>
                      </a:lnTo>
                      <a:lnTo>
                        <a:pt x="2326" y="2075"/>
                      </a:lnTo>
                      <a:lnTo>
                        <a:pt x="2169" y="2097"/>
                      </a:lnTo>
                      <a:lnTo>
                        <a:pt x="2326" y="159"/>
                      </a:lnTo>
                      <a:lnTo>
                        <a:pt x="5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4498920" y="2489040"/>
                  <a:ext cx="404640" cy="3538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4846680" y="2457360"/>
                  <a:ext cx="479520" cy="420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4835520" y="1932120"/>
                  <a:ext cx="648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 flipV="1">
                  <a:off x="4946760" y="1914480"/>
                  <a:ext cx="1584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 flipV="1">
                  <a:off x="5106960" y="1905120"/>
                  <a:ext cx="36720" cy="196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 flipV="1">
                  <a:off x="5267160" y="1946160"/>
                  <a:ext cx="54000" cy="173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 flipV="1">
                  <a:off x="5407200" y="1971720"/>
                  <a:ext cx="53640" cy="15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4635360" y="3009960"/>
                  <a:ext cx="508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4533840" y="2679840"/>
                  <a:ext cx="774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5" name=""/>
            <p:cNvGrpSpPr/>
            <p:nvPr/>
          </p:nvGrpSpPr>
          <p:grpSpPr>
            <a:xfrm>
              <a:off x="5264280" y="3494160"/>
              <a:ext cx="502920" cy="1246320"/>
              <a:chOff x="5264280" y="3494160"/>
              <a:chExt cx="502920" cy="1246320"/>
            </a:xfrm>
          </p:grpSpPr>
          <p:sp>
            <p:nvSpPr>
              <p:cNvPr id="1436" name=""/>
              <p:cNvSpPr/>
              <p:nvPr/>
            </p:nvSpPr>
            <p:spPr>
              <a:xfrm>
                <a:off x="5264280" y="3494160"/>
                <a:ext cx="481320" cy="1026000"/>
              </a:xfrm>
              <a:custGeom>
                <a:avLst/>
                <a:gdLst/>
                <a:ahLst/>
                <a:rect l="0" t="0" r="r" b="b"/>
                <a:pathLst>
                  <a:path w="1337" h="2850">
                    <a:moveTo>
                      <a:pt x="235" y="0"/>
                    </a:moveTo>
                    <a:lnTo>
                      <a:pt x="78" y="91"/>
                    </a:lnTo>
                    <a:lnTo>
                      <a:pt x="0" y="364"/>
                    </a:lnTo>
                    <a:lnTo>
                      <a:pt x="209" y="1140"/>
                    </a:lnTo>
                    <a:lnTo>
                      <a:pt x="523" y="2850"/>
                    </a:lnTo>
                    <a:lnTo>
                      <a:pt x="1337" y="2713"/>
                    </a:lnTo>
                    <a:lnTo>
                      <a:pt x="970" y="1254"/>
                    </a:lnTo>
                    <a:lnTo>
                      <a:pt x="550" y="205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468760" y="4494240"/>
                <a:ext cx="29844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8" name=""/>
            <p:cNvSpPr/>
            <p:nvPr/>
          </p:nvSpPr>
          <p:spPr>
            <a:xfrm>
              <a:off x="4800600" y="1816200"/>
              <a:ext cx="736920" cy="203400"/>
            </a:xfrm>
            <a:custGeom>
              <a:avLst/>
              <a:gdLst/>
              <a:ahLst/>
              <a:rect l="0" t="0" r="r" b="b"/>
              <a:pathLst>
                <a:path w="2047" h="565">
                  <a:moveTo>
                    <a:pt x="176" y="424"/>
                  </a:moveTo>
                  <a:lnTo>
                    <a:pt x="458" y="389"/>
                  </a:lnTo>
                  <a:lnTo>
                    <a:pt x="564" y="318"/>
                  </a:lnTo>
                  <a:lnTo>
                    <a:pt x="670" y="318"/>
                  </a:lnTo>
                  <a:lnTo>
                    <a:pt x="811" y="353"/>
                  </a:lnTo>
                  <a:lnTo>
                    <a:pt x="1094" y="389"/>
                  </a:lnTo>
                  <a:lnTo>
                    <a:pt x="1200" y="424"/>
                  </a:lnTo>
                  <a:lnTo>
                    <a:pt x="1306" y="494"/>
                  </a:lnTo>
                  <a:lnTo>
                    <a:pt x="1412" y="494"/>
                  </a:lnTo>
                  <a:lnTo>
                    <a:pt x="1517" y="565"/>
                  </a:lnTo>
                  <a:lnTo>
                    <a:pt x="1623" y="565"/>
                  </a:lnTo>
                  <a:lnTo>
                    <a:pt x="1729" y="494"/>
                  </a:lnTo>
                  <a:lnTo>
                    <a:pt x="1870" y="494"/>
                  </a:lnTo>
                  <a:lnTo>
                    <a:pt x="1976" y="494"/>
                  </a:lnTo>
                  <a:lnTo>
                    <a:pt x="2047" y="389"/>
                  </a:lnTo>
                  <a:lnTo>
                    <a:pt x="1976" y="283"/>
                  </a:lnTo>
                  <a:lnTo>
                    <a:pt x="1870" y="283"/>
                  </a:lnTo>
                  <a:lnTo>
                    <a:pt x="1764" y="283"/>
                  </a:lnTo>
                  <a:lnTo>
                    <a:pt x="1659" y="283"/>
                  </a:lnTo>
                  <a:lnTo>
                    <a:pt x="1553" y="283"/>
                  </a:lnTo>
                  <a:lnTo>
                    <a:pt x="1447" y="211"/>
                  </a:lnTo>
                  <a:lnTo>
                    <a:pt x="1306" y="141"/>
                  </a:lnTo>
                  <a:lnTo>
                    <a:pt x="1165" y="141"/>
                  </a:lnTo>
                  <a:lnTo>
                    <a:pt x="1059" y="70"/>
                  </a:lnTo>
                  <a:lnTo>
                    <a:pt x="952" y="70"/>
                  </a:lnTo>
                  <a:lnTo>
                    <a:pt x="846" y="35"/>
                  </a:lnTo>
                  <a:lnTo>
                    <a:pt x="740" y="0"/>
                  </a:lnTo>
                  <a:lnTo>
                    <a:pt x="635" y="0"/>
                  </a:lnTo>
                  <a:lnTo>
                    <a:pt x="529" y="0"/>
                  </a:lnTo>
                  <a:lnTo>
                    <a:pt x="423" y="0"/>
                  </a:lnTo>
                  <a:lnTo>
                    <a:pt x="317" y="0"/>
                  </a:lnTo>
                  <a:lnTo>
                    <a:pt x="211" y="70"/>
                  </a:lnTo>
                  <a:lnTo>
                    <a:pt x="105" y="141"/>
                  </a:lnTo>
                  <a:lnTo>
                    <a:pt x="0" y="176"/>
                  </a:lnTo>
                  <a:lnTo>
                    <a:pt x="0" y="283"/>
                  </a:lnTo>
                  <a:lnTo>
                    <a:pt x="35" y="389"/>
                  </a:lnTo>
                  <a:lnTo>
                    <a:pt x="176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1660680" y="5137200"/>
            <a:ext cx="1020960" cy="1035360"/>
          </a:xfrm>
          <a:custGeom>
            <a:avLst/>
            <a:gdLst/>
            <a:ahLst/>
            <a:rect l="0" t="0" r="r" b="b"/>
            <a:pathLst>
              <a:path w="2836" h="2876">
                <a:moveTo>
                  <a:pt x="2442" y="181"/>
                </a:moveTo>
                <a:lnTo>
                  <a:pt x="2273" y="58"/>
                </a:lnTo>
                <a:lnTo>
                  <a:pt x="1949" y="0"/>
                </a:lnTo>
                <a:lnTo>
                  <a:pt x="1549" y="213"/>
                </a:lnTo>
                <a:lnTo>
                  <a:pt x="956" y="453"/>
                </a:lnTo>
                <a:lnTo>
                  <a:pt x="498" y="874"/>
                </a:lnTo>
                <a:lnTo>
                  <a:pt x="133" y="1392"/>
                </a:lnTo>
                <a:lnTo>
                  <a:pt x="0" y="1697"/>
                </a:lnTo>
                <a:lnTo>
                  <a:pt x="34" y="1846"/>
                </a:lnTo>
                <a:lnTo>
                  <a:pt x="330" y="2028"/>
                </a:lnTo>
                <a:lnTo>
                  <a:pt x="1026" y="2118"/>
                </a:lnTo>
                <a:lnTo>
                  <a:pt x="1781" y="2086"/>
                </a:lnTo>
                <a:lnTo>
                  <a:pt x="2076" y="2209"/>
                </a:lnTo>
                <a:lnTo>
                  <a:pt x="2042" y="2417"/>
                </a:lnTo>
                <a:lnTo>
                  <a:pt x="1746" y="2721"/>
                </a:lnTo>
                <a:lnTo>
                  <a:pt x="1850" y="2785"/>
                </a:lnTo>
                <a:lnTo>
                  <a:pt x="2181" y="2481"/>
                </a:lnTo>
                <a:lnTo>
                  <a:pt x="2245" y="2513"/>
                </a:lnTo>
                <a:lnTo>
                  <a:pt x="2273" y="2876"/>
                </a:lnTo>
                <a:lnTo>
                  <a:pt x="2372" y="2876"/>
                </a:lnTo>
                <a:lnTo>
                  <a:pt x="2372" y="2454"/>
                </a:lnTo>
                <a:lnTo>
                  <a:pt x="2442" y="2417"/>
                </a:lnTo>
                <a:lnTo>
                  <a:pt x="2708" y="2662"/>
                </a:lnTo>
                <a:lnTo>
                  <a:pt x="2772" y="2572"/>
                </a:lnTo>
                <a:lnTo>
                  <a:pt x="2476" y="2332"/>
                </a:lnTo>
                <a:lnTo>
                  <a:pt x="2476" y="2241"/>
                </a:lnTo>
                <a:lnTo>
                  <a:pt x="2836" y="2086"/>
                </a:lnTo>
                <a:lnTo>
                  <a:pt x="2801" y="2028"/>
                </a:lnTo>
                <a:lnTo>
                  <a:pt x="2372" y="2086"/>
                </a:lnTo>
                <a:lnTo>
                  <a:pt x="2111" y="2028"/>
                </a:lnTo>
                <a:lnTo>
                  <a:pt x="1850" y="1937"/>
                </a:lnTo>
                <a:lnTo>
                  <a:pt x="1514" y="1910"/>
                </a:lnTo>
                <a:lnTo>
                  <a:pt x="1090" y="1878"/>
                </a:lnTo>
                <a:lnTo>
                  <a:pt x="661" y="1814"/>
                </a:lnTo>
                <a:lnTo>
                  <a:pt x="394" y="1665"/>
                </a:lnTo>
                <a:lnTo>
                  <a:pt x="394" y="1569"/>
                </a:lnTo>
                <a:lnTo>
                  <a:pt x="591" y="1301"/>
                </a:lnTo>
                <a:lnTo>
                  <a:pt x="956" y="1061"/>
                </a:lnTo>
                <a:lnTo>
                  <a:pt x="1351" y="874"/>
                </a:lnTo>
                <a:lnTo>
                  <a:pt x="1978" y="725"/>
                </a:lnTo>
                <a:lnTo>
                  <a:pt x="2337" y="544"/>
                </a:lnTo>
                <a:lnTo>
                  <a:pt x="2442" y="181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619440" y="3936960"/>
            <a:ext cx="267120" cy="457560"/>
          </a:xfrm>
          <a:custGeom>
            <a:avLst/>
            <a:gdLst/>
            <a:ahLst/>
            <a:rect l="0" t="0" r="r" b="b"/>
            <a:pathLst>
              <a:path w="742" h="1271">
                <a:moveTo>
                  <a:pt x="0" y="141"/>
                </a:moveTo>
                <a:lnTo>
                  <a:pt x="424" y="777"/>
                </a:lnTo>
                <a:lnTo>
                  <a:pt x="530" y="1271"/>
                </a:lnTo>
                <a:lnTo>
                  <a:pt x="742" y="1235"/>
                </a:lnTo>
                <a:lnTo>
                  <a:pt x="601" y="599"/>
                </a:lnTo>
                <a:lnTo>
                  <a:pt x="176" y="0"/>
                </a:lnTo>
                <a:lnTo>
                  <a:pt x="0" y="1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3141720" y="2308320"/>
            <a:ext cx="919440" cy="714600"/>
            <a:chOff x="3141720" y="2308320"/>
            <a:chExt cx="919440" cy="714600"/>
          </a:xfrm>
        </p:grpSpPr>
        <p:grpSp>
          <p:nvGrpSpPr>
            <p:cNvPr id="1442" name=""/>
            <p:cNvGrpSpPr/>
            <p:nvPr/>
          </p:nvGrpSpPr>
          <p:grpSpPr>
            <a:xfrm>
              <a:off x="3362400" y="2502000"/>
              <a:ext cx="698760" cy="520920"/>
              <a:chOff x="3362400" y="2502000"/>
              <a:chExt cx="698760" cy="520920"/>
            </a:xfrm>
          </p:grpSpPr>
          <p:sp>
            <p:nvSpPr>
              <p:cNvPr id="1443" name=""/>
              <p:cNvSpPr/>
              <p:nvPr/>
            </p:nvSpPr>
            <p:spPr>
              <a:xfrm>
                <a:off x="3362400" y="2511360"/>
                <a:ext cx="694080" cy="511560"/>
              </a:xfrm>
              <a:custGeom>
                <a:avLst/>
                <a:gdLst/>
                <a:ahLst/>
                <a:rect l="0" t="0" r="r" b="b"/>
                <a:pathLst>
                  <a:path w="1928" h="1421">
                    <a:moveTo>
                      <a:pt x="127" y="0"/>
                    </a:moveTo>
                    <a:lnTo>
                      <a:pt x="674" y="339"/>
                    </a:lnTo>
                    <a:lnTo>
                      <a:pt x="1081" y="596"/>
                    </a:lnTo>
                    <a:lnTo>
                      <a:pt x="1451" y="834"/>
                    </a:lnTo>
                    <a:lnTo>
                      <a:pt x="1619" y="918"/>
                    </a:lnTo>
                    <a:lnTo>
                      <a:pt x="1831" y="1006"/>
                    </a:lnTo>
                    <a:lnTo>
                      <a:pt x="1928" y="1050"/>
                    </a:lnTo>
                    <a:lnTo>
                      <a:pt x="1905" y="1192"/>
                    </a:lnTo>
                    <a:lnTo>
                      <a:pt x="1835" y="1316"/>
                    </a:lnTo>
                    <a:lnTo>
                      <a:pt x="1764" y="1386"/>
                    </a:lnTo>
                    <a:lnTo>
                      <a:pt x="1720" y="1421"/>
                    </a:lnTo>
                    <a:lnTo>
                      <a:pt x="1539" y="1280"/>
                    </a:lnTo>
                    <a:lnTo>
                      <a:pt x="1284" y="1104"/>
                    </a:lnTo>
                    <a:lnTo>
                      <a:pt x="939" y="847"/>
                    </a:lnTo>
                    <a:lnTo>
                      <a:pt x="639" y="636"/>
                    </a:lnTo>
                    <a:lnTo>
                      <a:pt x="299" y="384"/>
                    </a:lnTo>
                    <a:lnTo>
                      <a:pt x="0" y="18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60606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370320" y="2502000"/>
                <a:ext cx="690840" cy="514800"/>
              </a:xfrm>
              <a:custGeom>
                <a:avLst/>
                <a:gdLst/>
                <a:ahLst/>
                <a:rect l="0" t="0" r="r" b="b"/>
                <a:pathLst>
                  <a:path w="1919" h="1430">
                    <a:moveTo>
                      <a:pt x="123" y="0"/>
                    </a:moveTo>
                    <a:lnTo>
                      <a:pt x="665" y="339"/>
                    </a:lnTo>
                    <a:lnTo>
                      <a:pt x="1072" y="605"/>
                    </a:lnTo>
                    <a:lnTo>
                      <a:pt x="1447" y="834"/>
                    </a:lnTo>
                    <a:lnTo>
                      <a:pt x="1606" y="922"/>
                    </a:lnTo>
                    <a:lnTo>
                      <a:pt x="1817" y="1010"/>
                    </a:lnTo>
                    <a:lnTo>
                      <a:pt x="1919" y="1059"/>
                    </a:lnTo>
                    <a:lnTo>
                      <a:pt x="1910" y="1122"/>
                    </a:lnTo>
                    <a:lnTo>
                      <a:pt x="1897" y="1205"/>
                    </a:lnTo>
                    <a:lnTo>
                      <a:pt x="1866" y="1263"/>
                    </a:lnTo>
                    <a:lnTo>
                      <a:pt x="1826" y="1329"/>
                    </a:lnTo>
                    <a:lnTo>
                      <a:pt x="1804" y="1355"/>
                    </a:lnTo>
                    <a:lnTo>
                      <a:pt x="1764" y="1399"/>
                    </a:lnTo>
                    <a:lnTo>
                      <a:pt x="1716" y="1430"/>
                    </a:lnTo>
                    <a:lnTo>
                      <a:pt x="1531" y="1289"/>
                    </a:lnTo>
                    <a:lnTo>
                      <a:pt x="1279" y="1113"/>
                    </a:lnTo>
                    <a:lnTo>
                      <a:pt x="930" y="847"/>
                    </a:lnTo>
                    <a:lnTo>
                      <a:pt x="630" y="631"/>
                    </a:lnTo>
                    <a:lnTo>
                      <a:pt x="295" y="384"/>
                    </a:lnTo>
                    <a:lnTo>
                      <a:pt x="0" y="176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3173400" y="2308320"/>
              <a:ext cx="357480" cy="327240"/>
              <a:chOff x="3173400" y="2308320"/>
              <a:chExt cx="357480" cy="327240"/>
            </a:xfrm>
          </p:grpSpPr>
          <p:sp>
            <p:nvSpPr>
              <p:cNvPr id="1446" name=""/>
              <p:cNvSpPr/>
              <p:nvPr/>
            </p:nvSpPr>
            <p:spPr>
              <a:xfrm>
                <a:off x="3178080" y="2314440"/>
                <a:ext cx="352800" cy="321120"/>
              </a:xfrm>
              <a:custGeom>
                <a:avLst/>
                <a:gdLst/>
                <a:ahLst/>
                <a:rect l="0" t="0" r="r" b="b"/>
                <a:pathLst>
                  <a:path w="980" h="892">
                    <a:moveTo>
                      <a:pt x="0" y="813"/>
                    </a:moveTo>
                    <a:lnTo>
                      <a:pt x="171" y="892"/>
                    </a:lnTo>
                    <a:lnTo>
                      <a:pt x="309" y="685"/>
                    </a:lnTo>
                    <a:lnTo>
                      <a:pt x="349" y="662"/>
                    </a:lnTo>
                    <a:lnTo>
                      <a:pt x="384" y="653"/>
                    </a:lnTo>
                    <a:lnTo>
                      <a:pt x="424" y="658"/>
                    </a:lnTo>
                    <a:lnTo>
                      <a:pt x="521" y="725"/>
                    </a:lnTo>
                    <a:lnTo>
                      <a:pt x="658" y="521"/>
                    </a:lnTo>
                    <a:lnTo>
                      <a:pt x="547" y="446"/>
                    </a:lnTo>
                    <a:lnTo>
                      <a:pt x="521" y="406"/>
                    </a:lnTo>
                    <a:lnTo>
                      <a:pt x="512" y="362"/>
                    </a:lnTo>
                    <a:lnTo>
                      <a:pt x="516" y="322"/>
                    </a:lnTo>
                    <a:lnTo>
                      <a:pt x="534" y="296"/>
                    </a:lnTo>
                    <a:lnTo>
                      <a:pt x="556" y="265"/>
                    </a:lnTo>
                    <a:lnTo>
                      <a:pt x="613" y="211"/>
                    </a:lnTo>
                    <a:lnTo>
                      <a:pt x="688" y="145"/>
                    </a:lnTo>
                    <a:lnTo>
                      <a:pt x="795" y="83"/>
                    </a:lnTo>
                    <a:lnTo>
                      <a:pt x="897" y="39"/>
                    </a:lnTo>
                    <a:lnTo>
                      <a:pt x="980" y="0"/>
                    </a:lnTo>
                    <a:lnTo>
                      <a:pt x="804" y="35"/>
                    </a:lnTo>
                    <a:lnTo>
                      <a:pt x="640" y="83"/>
                    </a:lnTo>
                    <a:lnTo>
                      <a:pt x="552" y="123"/>
                    </a:lnTo>
                    <a:lnTo>
                      <a:pt x="494" y="149"/>
                    </a:lnTo>
                    <a:lnTo>
                      <a:pt x="384" y="225"/>
                    </a:lnTo>
                    <a:lnTo>
                      <a:pt x="322" y="283"/>
                    </a:lnTo>
                    <a:lnTo>
                      <a:pt x="265" y="344"/>
                    </a:lnTo>
                    <a:lnTo>
                      <a:pt x="216" y="415"/>
                    </a:lnTo>
                    <a:lnTo>
                      <a:pt x="171" y="486"/>
                    </a:lnTo>
                    <a:lnTo>
                      <a:pt x="123" y="578"/>
                    </a:lnTo>
                    <a:lnTo>
                      <a:pt x="83" y="666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173400" y="2308320"/>
                <a:ext cx="349560" cy="322560"/>
              </a:xfrm>
              <a:custGeom>
                <a:avLst/>
                <a:gdLst/>
                <a:ahLst/>
                <a:rect l="0" t="0" r="r" b="b"/>
                <a:pathLst>
                  <a:path w="971" h="896">
                    <a:moveTo>
                      <a:pt x="0" y="816"/>
                    </a:moveTo>
                    <a:lnTo>
                      <a:pt x="167" y="896"/>
                    </a:lnTo>
                    <a:lnTo>
                      <a:pt x="299" y="693"/>
                    </a:lnTo>
                    <a:lnTo>
                      <a:pt x="335" y="671"/>
                    </a:lnTo>
                    <a:lnTo>
                      <a:pt x="370" y="649"/>
                    </a:lnTo>
                    <a:lnTo>
                      <a:pt x="410" y="666"/>
                    </a:lnTo>
                    <a:lnTo>
                      <a:pt x="512" y="728"/>
                    </a:lnTo>
                    <a:lnTo>
                      <a:pt x="644" y="525"/>
                    </a:lnTo>
                    <a:lnTo>
                      <a:pt x="543" y="440"/>
                    </a:lnTo>
                    <a:lnTo>
                      <a:pt x="512" y="405"/>
                    </a:lnTo>
                    <a:lnTo>
                      <a:pt x="508" y="361"/>
                    </a:lnTo>
                    <a:lnTo>
                      <a:pt x="512" y="321"/>
                    </a:lnTo>
                    <a:lnTo>
                      <a:pt x="521" y="299"/>
                    </a:lnTo>
                    <a:lnTo>
                      <a:pt x="547" y="264"/>
                    </a:lnTo>
                    <a:lnTo>
                      <a:pt x="609" y="211"/>
                    </a:lnTo>
                    <a:lnTo>
                      <a:pt x="680" y="154"/>
                    </a:lnTo>
                    <a:lnTo>
                      <a:pt x="785" y="88"/>
                    </a:lnTo>
                    <a:lnTo>
                      <a:pt x="887" y="39"/>
                    </a:lnTo>
                    <a:lnTo>
                      <a:pt x="971" y="0"/>
                    </a:lnTo>
                    <a:lnTo>
                      <a:pt x="794" y="35"/>
                    </a:lnTo>
                    <a:lnTo>
                      <a:pt x="627" y="88"/>
                    </a:lnTo>
                    <a:lnTo>
                      <a:pt x="534" y="123"/>
                    </a:lnTo>
                    <a:lnTo>
                      <a:pt x="480" y="154"/>
                    </a:lnTo>
                    <a:lnTo>
                      <a:pt x="418" y="180"/>
                    </a:lnTo>
                    <a:lnTo>
                      <a:pt x="366" y="229"/>
                    </a:lnTo>
                    <a:lnTo>
                      <a:pt x="308" y="295"/>
                    </a:lnTo>
                    <a:lnTo>
                      <a:pt x="255" y="348"/>
                    </a:lnTo>
                    <a:lnTo>
                      <a:pt x="207" y="418"/>
                    </a:lnTo>
                    <a:lnTo>
                      <a:pt x="167" y="490"/>
                    </a:lnTo>
                    <a:lnTo>
                      <a:pt x="110" y="583"/>
                    </a:lnTo>
                    <a:lnTo>
                      <a:pt x="70" y="671"/>
                    </a:lnTo>
                    <a:lnTo>
                      <a:pt x="0" y="81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3141720" y="2592360"/>
              <a:ext cx="108360" cy="102240"/>
              <a:chOff x="3141720" y="2592360"/>
              <a:chExt cx="108360" cy="102240"/>
            </a:xfrm>
          </p:grpSpPr>
          <p:sp>
            <p:nvSpPr>
              <p:cNvPr id="1449" name=""/>
              <p:cNvSpPr/>
              <p:nvPr/>
            </p:nvSpPr>
            <p:spPr>
              <a:xfrm>
                <a:off x="3141720" y="2598840"/>
                <a:ext cx="108360" cy="95760"/>
              </a:xfrm>
              <a:custGeom>
                <a:avLst/>
                <a:gdLst/>
                <a:ahLst/>
                <a:rect l="0" t="0" r="r" b="b"/>
                <a:pathLst>
                  <a:path w="301" h="266">
                    <a:moveTo>
                      <a:pt x="61" y="0"/>
                    </a:moveTo>
                    <a:lnTo>
                      <a:pt x="186" y="67"/>
                    </a:lnTo>
                    <a:lnTo>
                      <a:pt x="301" y="133"/>
                    </a:lnTo>
                    <a:lnTo>
                      <a:pt x="240" y="266"/>
                    </a:lnTo>
                    <a:lnTo>
                      <a:pt x="208" y="257"/>
                    </a:lnTo>
                    <a:lnTo>
                      <a:pt x="164" y="257"/>
                    </a:lnTo>
                    <a:lnTo>
                      <a:pt x="133" y="240"/>
                    </a:lnTo>
                    <a:lnTo>
                      <a:pt x="80" y="213"/>
                    </a:lnTo>
                    <a:lnTo>
                      <a:pt x="44" y="177"/>
                    </a:lnTo>
                    <a:lnTo>
                      <a:pt x="13" y="150"/>
                    </a:lnTo>
                    <a:lnTo>
                      <a:pt x="0" y="111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141720" y="2592360"/>
                <a:ext cx="108360" cy="93960"/>
              </a:xfrm>
              <a:custGeom>
                <a:avLst/>
                <a:gdLst/>
                <a:ahLst/>
                <a:rect l="0" t="0" r="r" b="b"/>
                <a:pathLst>
                  <a:path w="301" h="261">
                    <a:moveTo>
                      <a:pt x="66" y="0"/>
                    </a:moveTo>
                    <a:lnTo>
                      <a:pt x="190" y="70"/>
                    </a:lnTo>
                    <a:lnTo>
                      <a:pt x="301" y="119"/>
                    </a:lnTo>
                    <a:lnTo>
                      <a:pt x="240" y="261"/>
                    </a:lnTo>
                    <a:lnTo>
                      <a:pt x="199" y="261"/>
                    </a:lnTo>
                    <a:lnTo>
                      <a:pt x="164" y="247"/>
                    </a:lnTo>
                    <a:lnTo>
                      <a:pt x="133" y="239"/>
                    </a:lnTo>
                    <a:lnTo>
                      <a:pt x="84" y="203"/>
                    </a:lnTo>
                    <a:lnTo>
                      <a:pt x="39" y="168"/>
                    </a:lnTo>
                    <a:lnTo>
                      <a:pt x="13" y="142"/>
                    </a:lnTo>
                    <a:lnTo>
                      <a:pt x="0" y="11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1" name=""/>
          <p:cNvGrpSpPr/>
          <p:nvPr/>
        </p:nvGrpSpPr>
        <p:grpSpPr>
          <a:xfrm>
            <a:off x="1429920" y="6217920"/>
            <a:ext cx="230040" cy="242640"/>
            <a:chOff x="1429920" y="6217920"/>
            <a:chExt cx="230040" cy="242640"/>
          </a:xfrm>
        </p:grpSpPr>
        <p:sp>
          <p:nvSpPr>
            <p:cNvPr id="1452" name=""/>
            <p:cNvSpPr/>
            <p:nvPr/>
          </p:nvSpPr>
          <p:spPr>
            <a:xfrm>
              <a:off x="1429920" y="6217920"/>
              <a:ext cx="230040" cy="242640"/>
            </a:xfrm>
            <a:custGeom>
              <a:avLst/>
              <a:gdLst/>
              <a:ahLst/>
              <a:rect l="0" t="0" r="r" b="b"/>
              <a:pathLst>
                <a:path w="639" h="674">
                  <a:moveTo>
                    <a:pt x="116" y="47"/>
                  </a:moveTo>
                  <a:lnTo>
                    <a:pt x="116" y="47"/>
                  </a:lnTo>
                  <a:cubicBezTo>
                    <a:pt x="73" y="77"/>
                    <a:pt x="40" y="121"/>
                    <a:pt x="21" y="172"/>
                  </a:cubicBezTo>
                  <a:cubicBezTo>
                    <a:pt x="1" y="224"/>
                    <a:pt x="-5" y="282"/>
                    <a:pt x="5" y="341"/>
                  </a:cubicBezTo>
                  <a:cubicBezTo>
                    <a:pt x="14" y="401"/>
                    <a:pt x="38" y="459"/>
                    <a:pt x="73" y="509"/>
                  </a:cubicBezTo>
                  <a:cubicBezTo>
                    <a:pt x="109" y="560"/>
                    <a:pt x="155" y="602"/>
                    <a:pt x="208" y="631"/>
                  </a:cubicBezTo>
                  <a:cubicBezTo>
                    <a:pt x="260" y="660"/>
                    <a:pt x="317" y="675"/>
                    <a:pt x="372" y="674"/>
                  </a:cubicBezTo>
                  <a:cubicBezTo>
                    <a:pt x="427" y="674"/>
                    <a:pt x="479" y="657"/>
                    <a:pt x="523" y="627"/>
                  </a:cubicBezTo>
                  <a:lnTo>
                    <a:pt x="523" y="627"/>
                  </a:lnTo>
                  <a:lnTo>
                    <a:pt x="523" y="627"/>
                  </a:lnTo>
                  <a:cubicBezTo>
                    <a:pt x="566" y="597"/>
                    <a:pt x="599" y="553"/>
                    <a:pt x="618" y="502"/>
                  </a:cubicBezTo>
                  <a:cubicBezTo>
                    <a:pt x="638" y="450"/>
                    <a:pt x="644" y="392"/>
                    <a:pt x="634" y="333"/>
                  </a:cubicBezTo>
                  <a:cubicBezTo>
                    <a:pt x="625" y="273"/>
                    <a:pt x="601" y="215"/>
                    <a:pt x="566" y="165"/>
                  </a:cubicBezTo>
                  <a:cubicBezTo>
                    <a:pt x="530" y="114"/>
                    <a:pt x="484" y="72"/>
                    <a:pt x="431" y="43"/>
                  </a:cubicBezTo>
                  <a:cubicBezTo>
                    <a:pt x="379" y="14"/>
                    <a:pt x="322" y="-1"/>
                    <a:pt x="267" y="0"/>
                  </a:cubicBezTo>
                  <a:cubicBezTo>
                    <a:pt x="212" y="0"/>
                    <a:pt x="160" y="17"/>
                    <a:pt x="116" y="47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547640" y="6324480"/>
              <a:ext cx="51480" cy="51120"/>
            </a:xfrm>
            <a:custGeom>
              <a:avLst/>
              <a:gdLst/>
              <a:ahLst/>
              <a:rect l="0" t="0" r="r" b="b"/>
              <a:pathLst>
                <a:path w="143" h="142">
                  <a:moveTo>
                    <a:pt x="30" y="13"/>
                  </a:moveTo>
                  <a:lnTo>
                    <a:pt x="30" y="13"/>
                  </a:lnTo>
                  <a:lnTo>
                    <a:pt x="30" y="13"/>
                  </a:lnTo>
                  <a:cubicBezTo>
                    <a:pt x="20" y="20"/>
                    <a:pt x="12" y="30"/>
                    <a:pt x="6" y="41"/>
                  </a:cubicBezTo>
                  <a:cubicBezTo>
                    <a:pt x="1" y="53"/>
                    <a:pt x="-1" y="65"/>
                    <a:pt x="0" y="78"/>
                  </a:cubicBezTo>
                  <a:cubicBezTo>
                    <a:pt x="1" y="90"/>
                    <a:pt x="5" y="102"/>
                    <a:pt x="13" y="112"/>
                  </a:cubicBezTo>
                  <a:cubicBezTo>
                    <a:pt x="20" y="123"/>
                    <a:pt x="30" y="131"/>
                    <a:pt x="41" y="136"/>
                  </a:cubicBezTo>
                  <a:cubicBezTo>
                    <a:pt x="52" y="141"/>
                    <a:pt x="65" y="144"/>
                    <a:pt x="77" y="142"/>
                  </a:cubicBezTo>
                  <a:cubicBezTo>
                    <a:pt x="90" y="141"/>
                    <a:pt x="102" y="137"/>
                    <a:pt x="112" y="130"/>
                  </a:cubicBezTo>
                  <a:lnTo>
                    <a:pt x="112" y="130"/>
                  </a:lnTo>
                  <a:lnTo>
                    <a:pt x="112" y="130"/>
                  </a:lnTo>
                  <a:cubicBezTo>
                    <a:pt x="122" y="123"/>
                    <a:pt x="130" y="113"/>
                    <a:pt x="136" y="102"/>
                  </a:cubicBezTo>
                  <a:cubicBezTo>
                    <a:pt x="141" y="90"/>
                    <a:pt x="143" y="78"/>
                    <a:pt x="142" y="65"/>
                  </a:cubicBezTo>
                  <a:cubicBezTo>
                    <a:pt x="141" y="53"/>
                    <a:pt x="137" y="41"/>
                    <a:pt x="129" y="31"/>
                  </a:cubicBezTo>
                  <a:cubicBezTo>
                    <a:pt x="122" y="20"/>
                    <a:pt x="112" y="12"/>
                    <a:pt x="101" y="7"/>
                  </a:cubicBezTo>
                  <a:cubicBezTo>
                    <a:pt x="90" y="2"/>
                    <a:pt x="77" y="-1"/>
                    <a:pt x="65" y="1"/>
                  </a:cubicBezTo>
                  <a:cubicBezTo>
                    <a:pt x="52" y="2"/>
                    <a:pt x="40" y="6"/>
                    <a:pt x="30" y="13"/>
                  </a:cubicBez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1013760" y="5535000"/>
            <a:ext cx="196920" cy="156600"/>
          </a:xfrm>
          <a:custGeom>
            <a:avLst/>
            <a:gdLst/>
            <a:ahLst/>
            <a:rect l="0" t="0" r="r" b="b"/>
            <a:pathLst>
              <a:path w="547" h="435">
                <a:moveTo>
                  <a:pt x="18" y="376"/>
                </a:moveTo>
                <a:lnTo>
                  <a:pt x="18" y="376"/>
                </a:lnTo>
                <a:cubicBezTo>
                  <a:pt x="34" y="401"/>
                  <a:pt x="61" y="418"/>
                  <a:pt x="96" y="427"/>
                </a:cubicBezTo>
                <a:cubicBezTo>
                  <a:pt x="133" y="437"/>
                  <a:pt x="177" y="437"/>
                  <a:pt x="224" y="426"/>
                </a:cubicBezTo>
                <a:cubicBezTo>
                  <a:pt x="271" y="416"/>
                  <a:pt x="320" y="396"/>
                  <a:pt x="365" y="369"/>
                </a:cubicBezTo>
                <a:cubicBezTo>
                  <a:pt x="411" y="342"/>
                  <a:pt x="451" y="308"/>
                  <a:pt x="482" y="271"/>
                </a:cubicBezTo>
                <a:cubicBezTo>
                  <a:pt x="513" y="234"/>
                  <a:pt x="534" y="195"/>
                  <a:pt x="543" y="159"/>
                </a:cubicBezTo>
                <a:cubicBezTo>
                  <a:pt x="552" y="122"/>
                  <a:pt x="548" y="88"/>
                  <a:pt x="532" y="62"/>
                </a:cubicBezTo>
                <a:cubicBezTo>
                  <a:pt x="531" y="61"/>
                  <a:pt x="531" y="59"/>
                  <a:pt x="530" y="58"/>
                </a:cubicBezTo>
                <a:lnTo>
                  <a:pt x="530" y="58"/>
                </a:lnTo>
                <a:cubicBezTo>
                  <a:pt x="514" y="33"/>
                  <a:pt x="487" y="16"/>
                  <a:pt x="452" y="7"/>
                </a:cubicBezTo>
                <a:cubicBezTo>
                  <a:pt x="415" y="-3"/>
                  <a:pt x="371" y="-3"/>
                  <a:pt x="324" y="8"/>
                </a:cubicBezTo>
                <a:cubicBezTo>
                  <a:pt x="277" y="18"/>
                  <a:pt x="228" y="38"/>
                  <a:pt x="183" y="65"/>
                </a:cubicBezTo>
                <a:cubicBezTo>
                  <a:pt x="137" y="92"/>
                  <a:pt x="97" y="126"/>
                  <a:pt x="66" y="163"/>
                </a:cubicBezTo>
                <a:cubicBezTo>
                  <a:pt x="35" y="200"/>
                  <a:pt x="14" y="239"/>
                  <a:pt x="5" y="275"/>
                </a:cubicBezTo>
                <a:cubicBezTo>
                  <a:pt x="-4" y="312"/>
                  <a:pt x="0" y="346"/>
                  <a:pt x="16" y="372"/>
                </a:cubicBezTo>
                <a:cubicBezTo>
                  <a:pt x="17" y="373"/>
                  <a:pt x="17" y="375"/>
                  <a:pt x="18" y="376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2115720" y="6217560"/>
            <a:ext cx="229320" cy="242640"/>
            <a:chOff x="2115720" y="6217560"/>
            <a:chExt cx="229320" cy="242640"/>
          </a:xfrm>
        </p:grpSpPr>
        <p:sp>
          <p:nvSpPr>
            <p:cNvPr id="1456" name=""/>
            <p:cNvSpPr/>
            <p:nvPr/>
          </p:nvSpPr>
          <p:spPr>
            <a:xfrm>
              <a:off x="2115720" y="6217560"/>
              <a:ext cx="229320" cy="242640"/>
            </a:xfrm>
            <a:custGeom>
              <a:avLst/>
              <a:gdLst/>
              <a:ahLst/>
              <a:rect l="0" t="0" r="r" b="b"/>
              <a:pathLst>
                <a:path w="637" h="674">
                  <a:moveTo>
                    <a:pt x="116" y="47"/>
                  </a:moveTo>
                  <a:lnTo>
                    <a:pt x="116" y="47"/>
                  </a:lnTo>
                  <a:lnTo>
                    <a:pt x="116" y="47"/>
                  </a:lnTo>
                  <a:cubicBezTo>
                    <a:pt x="73" y="78"/>
                    <a:pt x="40" y="121"/>
                    <a:pt x="20" y="172"/>
                  </a:cubicBezTo>
                  <a:cubicBezTo>
                    <a:pt x="1" y="224"/>
                    <a:pt x="-5" y="282"/>
                    <a:pt x="4" y="341"/>
                  </a:cubicBezTo>
                  <a:cubicBezTo>
                    <a:pt x="14" y="401"/>
                    <a:pt x="37" y="458"/>
                    <a:pt x="73" y="509"/>
                  </a:cubicBezTo>
                  <a:cubicBezTo>
                    <a:pt x="108" y="560"/>
                    <a:pt x="155" y="602"/>
                    <a:pt x="207" y="631"/>
                  </a:cubicBezTo>
                  <a:cubicBezTo>
                    <a:pt x="259" y="660"/>
                    <a:pt x="316" y="675"/>
                    <a:pt x="371" y="674"/>
                  </a:cubicBezTo>
                  <a:cubicBezTo>
                    <a:pt x="426" y="673"/>
                    <a:pt x="478" y="657"/>
                    <a:pt x="521" y="627"/>
                  </a:cubicBezTo>
                  <a:lnTo>
                    <a:pt x="521" y="627"/>
                  </a:lnTo>
                  <a:lnTo>
                    <a:pt x="521" y="627"/>
                  </a:lnTo>
                  <a:cubicBezTo>
                    <a:pt x="564" y="596"/>
                    <a:pt x="597" y="553"/>
                    <a:pt x="617" y="502"/>
                  </a:cubicBezTo>
                  <a:cubicBezTo>
                    <a:pt x="636" y="450"/>
                    <a:pt x="642" y="392"/>
                    <a:pt x="633" y="333"/>
                  </a:cubicBezTo>
                  <a:cubicBezTo>
                    <a:pt x="623" y="273"/>
                    <a:pt x="600" y="216"/>
                    <a:pt x="564" y="165"/>
                  </a:cubicBezTo>
                  <a:cubicBezTo>
                    <a:pt x="529" y="114"/>
                    <a:pt x="482" y="72"/>
                    <a:pt x="430" y="43"/>
                  </a:cubicBezTo>
                  <a:cubicBezTo>
                    <a:pt x="378" y="14"/>
                    <a:pt x="321" y="-1"/>
                    <a:pt x="266" y="0"/>
                  </a:cubicBezTo>
                  <a:cubicBezTo>
                    <a:pt x="211" y="1"/>
                    <a:pt x="159" y="17"/>
                    <a:pt x="116" y="47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233440" y="6324480"/>
              <a:ext cx="51840" cy="51120"/>
            </a:xfrm>
            <a:custGeom>
              <a:avLst/>
              <a:gdLst/>
              <a:ahLst/>
              <a:rect l="0" t="0" r="r" b="b"/>
              <a:pathLst>
                <a:path w="144" h="142">
                  <a:moveTo>
                    <a:pt x="30" y="13"/>
                  </a:moveTo>
                  <a:lnTo>
                    <a:pt x="30" y="13"/>
                  </a:lnTo>
                  <a:lnTo>
                    <a:pt x="30" y="13"/>
                  </a:lnTo>
                  <a:cubicBezTo>
                    <a:pt x="20" y="20"/>
                    <a:pt x="12" y="30"/>
                    <a:pt x="6" y="41"/>
                  </a:cubicBezTo>
                  <a:cubicBezTo>
                    <a:pt x="1" y="53"/>
                    <a:pt x="-1" y="65"/>
                    <a:pt x="0" y="78"/>
                  </a:cubicBezTo>
                  <a:cubicBezTo>
                    <a:pt x="1" y="90"/>
                    <a:pt x="6" y="102"/>
                    <a:pt x="13" y="112"/>
                  </a:cubicBezTo>
                  <a:cubicBezTo>
                    <a:pt x="20" y="123"/>
                    <a:pt x="30" y="131"/>
                    <a:pt x="41" y="136"/>
                  </a:cubicBezTo>
                  <a:cubicBezTo>
                    <a:pt x="53" y="141"/>
                    <a:pt x="65" y="144"/>
                    <a:pt x="78" y="142"/>
                  </a:cubicBezTo>
                  <a:cubicBezTo>
                    <a:pt x="90" y="141"/>
                    <a:pt x="102" y="137"/>
                    <a:pt x="113" y="130"/>
                  </a:cubicBezTo>
                  <a:lnTo>
                    <a:pt x="113" y="130"/>
                  </a:lnTo>
                  <a:lnTo>
                    <a:pt x="113" y="130"/>
                  </a:lnTo>
                  <a:cubicBezTo>
                    <a:pt x="123" y="123"/>
                    <a:pt x="131" y="113"/>
                    <a:pt x="137" y="102"/>
                  </a:cubicBezTo>
                  <a:cubicBezTo>
                    <a:pt x="142" y="90"/>
                    <a:pt x="144" y="78"/>
                    <a:pt x="143" y="65"/>
                  </a:cubicBezTo>
                  <a:cubicBezTo>
                    <a:pt x="142" y="53"/>
                    <a:pt x="137" y="41"/>
                    <a:pt x="130" y="31"/>
                  </a:cubicBezTo>
                  <a:cubicBezTo>
                    <a:pt x="123" y="20"/>
                    <a:pt x="113" y="12"/>
                    <a:pt x="102" y="7"/>
                  </a:cubicBezTo>
                  <a:cubicBezTo>
                    <a:pt x="90" y="2"/>
                    <a:pt x="78" y="-1"/>
                    <a:pt x="65" y="1"/>
                  </a:cubicBezTo>
                  <a:cubicBezTo>
                    <a:pt x="53" y="2"/>
                    <a:pt x="41" y="6"/>
                    <a:pt x="30" y="13"/>
                  </a:cubicBez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8" name=""/>
          <p:cNvSpPr/>
          <p:nvPr/>
        </p:nvSpPr>
        <p:spPr>
          <a:xfrm>
            <a:off x="2590920" y="5473800"/>
            <a:ext cx="660600" cy="343440"/>
          </a:xfrm>
          <a:custGeom>
            <a:avLst/>
            <a:gdLst/>
            <a:ahLst/>
            <a:rect l="0" t="0" r="r" b="b"/>
            <a:pathLst>
              <a:path w="1835" h="954">
                <a:moveTo>
                  <a:pt x="493" y="0"/>
                </a:moveTo>
                <a:lnTo>
                  <a:pt x="705" y="0"/>
                </a:lnTo>
                <a:lnTo>
                  <a:pt x="918" y="35"/>
                </a:lnTo>
                <a:lnTo>
                  <a:pt x="1129" y="70"/>
                </a:lnTo>
                <a:lnTo>
                  <a:pt x="1235" y="141"/>
                </a:lnTo>
                <a:lnTo>
                  <a:pt x="1271" y="247"/>
                </a:lnTo>
                <a:lnTo>
                  <a:pt x="1376" y="353"/>
                </a:lnTo>
                <a:lnTo>
                  <a:pt x="1482" y="424"/>
                </a:lnTo>
                <a:lnTo>
                  <a:pt x="1553" y="565"/>
                </a:lnTo>
                <a:lnTo>
                  <a:pt x="1659" y="600"/>
                </a:lnTo>
                <a:lnTo>
                  <a:pt x="1764" y="742"/>
                </a:lnTo>
                <a:lnTo>
                  <a:pt x="1835" y="848"/>
                </a:lnTo>
                <a:lnTo>
                  <a:pt x="1800" y="954"/>
                </a:lnTo>
                <a:lnTo>
                  <a:pt x="1694" y="954"/>
                </a:lnTo>
                <a:lnTo>
                  <a:pt x="1588" y="848"/>
                </a:lnTo>
                <a:lnTo>
                  <a:pt x="1482" y="706"/>
                </a:lnTo>
                <a:lnTo>
                  <a:pt x="1235" y="848"/>
                </a:lnTo>
                <a:lnTo>
                  <a:pt x="1024" y="883"/>
                </a:lnTo>
                <a:lnTo>
                  <a:pt x="881" y="954"/>
                </a:lnTo>
                <a:lnTo>
                  <a:pt x="918" y="848"/>
                </a:lnTo>
                <a:lnTo>
                  <a:pt x="1024" y="813"/>
                </a:lnTo>
                <a:lnTo>
                  <a:pt x="1129" y="742"/>
                </a:lnTo>
                <a:lnTo>
                  <a:pt x="1165" y="636"/>
                </a:lnTo>
                <a:lnTo>
                  <a:pt x="1165" y="494"/>
                </a:lnTo>
                <a:lnTo>
                  <a:pt x="1059" y="424"/>
                </a:lnTo>
                <a:lnTo>
                  <a:pt x="846" y="424"/>
                </a:lnTo>
                <a:lnTo>
                  <a:pt x="705" y="530"/>
                </a:lnTo>
                <a:lnTo>
                  <a:pt x="811" y="459"/>
                </a:lnTo>
                <a:lnTo>
                  <a:pt x="918" y="353"/>
                </a:lnTo>
                <a:lnTo>
                  <a:pt x="881" y="247"/>
                </a:lnTo>
                <a:lnTo>
                  <a:pt x="776" y="211"/>
                </a:lnTo>
                <a:lnTo>
                  <a:pt x="670" y="283"/>
                </a:lnTo>
                <a:lnTo>
                  <a:pt x="564" y="353"/>
                </a:lnTo>
                <a:lnTo>
                  <a:pt x="423" y="424"/>
                </a:lnTo>
                <a:lnTo>
                  <a:pt x="282" y="530"/>
                </a:lnTo>
                <a:lnTo>
                  <a:pt x="0" y="565"/>
                </a:lnTo>
                <a:lnTo>
                  <a:pt x="0" y="459"/>
                </a:lnTo>
                <a:lnTo>
                  <a:pt x="282" y="424"/>
                </a:lnTo>
                <a:lnTo>
                  <a:pt x="493" y="424"/>
                </a:lnTo>
                <a:lnTo>
                  <a:pt x="635" y="353"/>
                </a:lnTo>
                <a:lnTo>
                  <a:pt x="705" y="247"/>
                </a:lnTo>
                <a:lnTo>
                  <a:pt x="705" y="141"/>
                </a:lnTo>
                <a:lnTo>
                  <a:pt x="493" y="0"/>
                </a:lnTo>
                <a:close/>
              </a:path>
            </a:pathLst>
          </a:custGeom>
          <a:solidFill>
            <a:srgbClr val="ff00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930320" y="5257800"/>
            <a:ext cx="406800" cy="178200"/>
          </a:xfrm>
          <a:custGeom>
            <a:avLst/>
            <a:gdLst/>
            <a:ahLst/>
            <a:rect l="0" t="0" r="r" b="b"/>
            <a:pathLst>
              <a:path w="1130" h="495">
                <a:moveTo>
                  <a:pt x="954" y="0"/>
                </a:moveTo>
                <a:lnTo>
                  <a:pt x="883" y="212"/>
                </a:lnTo>
                <a:lnTo>
                  <a:pt x="777" y="283"/>
                </a:lnTo>
                <a:lnTo>
                  <a:pt x="494" y="283"/>
                </a:lnTo>
                <a:lnTo>
                  <a:pt x="283" y="318"/>
                </a:lnTo>
                <a:lnTo>
                  <a:pt x="0" y="318"/>
                </a:lnTo>
                <a:lnTo>
                  <a:pt x="0" y="425"/>
                </a:lnTo>
                <a:lnTo>
                  <a:pt x="105" y="495"/>
                </a:lnTo>
                <a:lnTo>
                  <a:pt x="211" y="495"/>
                </a:lnTo>
                <a:lnTo>
                  <a:pt x="318" y="460"/>
                </a:lnTo>
                <a:lnTo>
                  <a:pt x="424" y="425"/>
                </a:lnTo>
                <a:lnTo>
                  <a:pt x="565" y="425"/>
                </a:lnTo>
                <a:lnTo>
                  <a:pt x="671" y="390"/>
                </a:lnTo>
                <a:lnTo>
                  <a:pt x="777" y="353"/>
                </a:lnTo>
                <a:lnTo>
                  <a:pt x="883" y="318"/>
                </a:lnTo>
                <a:lnTo>
                  <a:pt x="989" y="283"/>
                </a:lnTo>
                <a:lnTo>
                  <a:pt x="1095" y="177"/>
                </a:lnTo>
                <a:lnTo>
                  <a:pt x="1130" y="35"/>
                </a:lnTo>
                <a:lnTo>
                  <a:pt x="954" y="0"/>
                </a:lnTo>
                <a:lnTo>
                  <a:pt x="989" y="142"/>
                </a:lnTo>
                <a:lnTo>
                  <a:pt x="954" y="0"/>
                </a:lnTo>
                <a:close/>
              </a:path>
            </a:pathLst>
          </a:custGeom>
          <a:solidFill>
            <a:srgbClr val="ff00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003320" y="5638680"/>
            <a:ext cx="432000" cy="241560"/>
          </a:xfrm>
          <a:custGeom>
            <a:avLst/>
            <a:gdLst/>
            <a:ahLst/>
            <a:rect l="0" t="0" r="r" b="b"/>
            <a:pathLst>
              <a:path w="1200" h="671">
                <a:moveTo>
                  <a:pt x="777" y="141"/>
                </a:moveTo>
                <a:lnTo>
                  <a:pt x="599" y="246"/>
                </a:lnTo>
                <a:lnTo>
                  <a:pt x="282" y="246"/>
                </a:lnTo>
                <a:lnTo>
                  <a:pt x="0" y="246"/>
                </a:lnTo>
                <a:lnTo>
                  <a:pt x="0" y="353"/>
                </a:lnTo>
                <a:lnTo>
                  <a:pt x="105" y="353"/>
                </a:lnTo>
                <a:lnTo>
                  <a:pt x="388" y="353"/>
                </a:lnTo>
                <a:lnTo>
                  <a:pt x="529" y="565"/>
                </a:lnTo>
                <a:lnTo>
                  <a:pt x="636" y="600"/>
                </a:lnTo>
                <a:lnTo>
                  <a:pt x="706" y="494"/>
                </a:lnTo>
                <a:lnTo>
                  <a:pt x="812" y="424"/>
                </a:lnTo>
                <a:lnTo>
                  <a:pt x="882" y="530"/>
                </a:lnTo>
                <a:lnTo>
                  <a:pt x="988" y="565"/>
                </a:lnTo>
                <a:lnTo>
                  <a:pt x="1094" y="671"/>
                </a:lnTo>
                <a:lnTo>
                  <a:pt x="1200" y="600"/>
                </a:lnTo>
                <a:lnTo>
                  <a:pt x="1094" y="565"/>
                </a:lnTo>
                <a:lnTo>
                  <a:pt x="1059" y="353"/>
                </a:lnTo>
                <a:lnTo>
                  <a:pt x="988" y="246"/>
                </a:lnTo>
                <a:lnTo>
                  <a:pt x="777" y="141"/>
                </a:lnTo>
                <a:lnTo>
                  <a:pt x="812" y="0"/>
                </a:lnTo>
                <a:lnTo>
                  <a:pt x="777" y="141"/>
                </a:lnTo>
                <a:close/>
              </a:path>
            </a:pathLst>
          </a:custGeom>
          <a:solidFill>
            <a:srgbClr val="ff00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1371600" y="380880"/>
            <a:ext cx="5943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Don’t Want to Know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"/>
          <p:cNvSpPr/>
          <p:nvPr/>
        </p:nvSpPr>
        <p:spPr>
          <a:xfrm>
            <a:off x="1841400" y="1231920"/>
            <a:ext cx="5905800" cy="4191480"/>
          </a:xfrm>
          <a:custGeom>
            <a:avLst/>
            <a:gdLst/>
            <a:ahLst/>
            <a:rect l="0" t="0" r="r" b="b"/>
            <a:pathLst>
              <a:path w="16405" h="11643">
                <a:moveTo>
                  <a:pt x="8008" y="2081"/>
                </a:moveTo>
                <a:lnTo>
                  <a:pt x="7620" y="2151"/>
                </a:lnTo>
                <a:lnTo>
                  <a:pt x="7196" y="2116"/>
                </a:lnTo>
                <a:lnTo>
                  <a:pt x="6914" y="2081"/>
                </a:lnTo>
                <a:lnTo>
                  <a:pt x="6808" y="1975"/>
                </a:lnTo>
                <a:lnTo>
                  <a:pt x="6702" y="1834"/>
                </a:lnTo>
                <a:lnTo>
                  <a:pt x="6491" y="1763"/>
                </a:lnTo>
                <a:lnTo>
                  <a:pt x="6279" y="1481"/>
                </a:lnTo>
                <a:lnTo>
                  <a:pt x="6067" y="1270"/>
                </a:lnTo>
                <a:lnTo>
                  <a:pt x="5856" y="1058"/>
                </a:lnTo>
                <a:lnTo>
                  <a:pt x="5644" y="987"/>
                </a:lnTo>
                <a:lnTo>
                  <a:pt x="5362" y="917"/>
                </a:lnTo>
                <a:lnTo>
                  <a:pt x="5256" y="881"/>
                </a:lnTo>
                <a:lnTo>
                  <a:pt x="5009" y="917"/>
                </a:lnTo>
                <a:lnTo>
                  <a:pt x="4797" y="952"/>
                </a:lnTo>
                <a:lnTo>
                  <a:pt x="4586" y="987"/>
                </a:lnTo>
                <a:lnTo>
                  <a:pt x="4445" y="1128"/>
                </a:lnTo>
                <a:lnTo>
                  <a:pt x="4374" y="1411"/>
                </a:lnTo>
                <a:lnTo>
                  <a:pt x="4339" y="1693"/>
                </a:lnTo>
                <a:lnTo>
                  <a:pt x="4586" y="1834"/>
                </a:lnTo>
                <a:lnTo>
                  <a:pt x="4797" y="1834"/>
                </a:lnTo>
                <a:lnTo>
                  <a:pt x="5080" y="1940"/>
                </a:lnTo>
                <a:lnTo>
                  <a:pt x="5362" y="1975"/>
                </a:lnTo>
                <a:lnTo>
                  <a:pt x="5503" y="2081"/>
                </a:lnTo>
                <a:lnTo>
                  <a:pt x="5503" y="2187"/>
                </a:lnTo>
                <a:lnTo>
                  <a:pt x="5503" y="2293"/>
                </a:lnTo>
                <a:lnTo>
                  <a:pt x="5503" y="2504"/>
                </a:lnTo>
                <a:lnTo>
                  <a:pt x="5432" y="2786"/>
                </a:lnTo>
                <a:lnTo>
                  <a:pt x="5397" y="2999"/>
                </a:lnTo>
                <a:lnTo>
                  <a:pt x="5291" y="3105"/>
                </a:lnTo>
                <a:lnTo>
                  <a:pt x="4938" y="3105"/>
                </a:lnTo>
                <a:lnTo>
                  <a:pt x="4656" y="3105"/>
                </a:lnTo>
                <a:lnTo>
                  <a:pt x="4374" y="3070"/>
                </a:lnTo>
                <a:lnTo>
                  <a:pt x="4162" y="3034"/>
                </a:lnTo>
                <a:lnTo>
                  <a:pt x="4021" y="2964"/>
                </a:lnTo>
                <a:lnTo>
                  <a:pt x="3774" y="2892"/>
                </a:lnTo>
                <a:lnTo>
                  <a:pt x="3492" y="2822"/>
                </a:lnTo>
                <a:lnTo>
                  <a:pt x="3139" y="2751"/>
                </a:lnTo>
                <a:lnTo>
                  <a:pt x="2928" y="2751"/>
                </a:lnTo>
                <a:lnTo>
                  <a:pt x="2786" y="2751"/>
                </a:lnTo>
                <a:lnTo>
                  <a:pt x="2575" y="2822"/>
                </a:lnTo>
                <a:lnTo>
                  <a:pt x="2293" y="2892"/>
                </a:lnTo>
                <a:lnTo>
                  <a:pt x="2257" y="3105"/>
                </a:lnTo>
                <a:lnTo>
                  <a:pt x="2222" y="3458"/>
                </a:lnTo>
                <a:lnTo>
                  <a:pt x="2222" y="3669"/>
                </a:lnTo>
                <a:lnTo>
                  <a:pt x="2222" y="3775"/>
                </a:lnTo>
                <a:lnTo>
                  <a:pt x="2222" y="3916"/>
                </a:lnTo>
                <a:lnTo>
                  <a:pt x="2293" y="4199"/>
                </a:lnTo>
                <a:lnTo>
                  <a:pt x="2363" y="4304"/>
                </a:lnTo>
                <a:lnTo>
                  <a:pt x="2328" y="4410"/>
                </a:lnTo>
                <a:lnTo>
                  <a:pt x="2046" y="4551"/>
                </a:lnTo>
                <a:lnTo>
                  <a:pt x="1763" y="4587"/>
                </a:lnTo>
                <a:lnTo>
                  <a:pt x="1622" y="4622"/>
                </a:lnTo>
                <a:lnTo>
                  <a:pt x="1375" y="4657"/>
                </a:lnTo>
                <a:lnTo>
                  <a:pt x="1093" y="4728"/>
                </a:lnTo>
                <a:lnTo>
                  <a:pt x="811" y="4763"/>
                </a:lnTo>
                <a:lnTo>
                  <a:pt x="529" y="4834"/>
                </a:lnTo>
                <a:lnTo>
                  <a:pt x="388" y="4975"/>
                </a:lnTo>
                <a:lnTo>
                  <a:pt x="105" y="5257"/>
                </a:lnTo>
                <a:lnTo>
                  <a:pt x="0" y="5539"/>
                </a:lnTo>
                <a:lnTo>
                  <a:pt x="0" y="5751"/>
                </a:lnTo>
                <a:lnTo>
                  <a:pt x="0" y="6033"/>
                </a:lnTo>
                <a:lnTo>
                  <a:pt x="70" y="6315"/>
                </a:lnTo>
                <a:lnTo>
                  <a:pt x="141" y="6421"/>
                </a:lnTo>
                <a:lnTo>
                  <a:pt x="352" y="6456"/>
                </a:lnTo>
                <a:lnTo>
                  <a:pt x="635" y="6492"/>
                </a:lnTo>
                <a:lnTo>
                  <a:pt x="846" y="6492"/>
                </a:lnTo>
                <a:lnTo>
                  <a:pt x="987" y="6456"/>
                </a:lnTo>
                <a:lnTo>
                  <a:pt x="1199" y="6386"/>
                </a:lnTo>
                <a:lnTo>
                  <a:pt x="1305" y="6315"/>
                </a:lnTo>
                <a:lnTo>
                  <a:pt x="1446" y="6315"/>
                </a:lnTo>
                <a:lnTo>
                  <a:pt x="1658" y="6351"/>
                </a:lnTo>
                <a:lnTo>
                  <a:pt x="2081" y="6562"/>
                </a:lnTo>
                <a:lnTo>
                  <a:pt x="2363" y="6633"/>
                </a:lnTo>
                <a:lnTo>
                  <a:pt x="2469" y="6703"/>
                </a:lnTo>
                <a:lnTo>
                  <a:pt x="2504" y="6844"/>
                </a:lnTo>
                <a:lnTo>
                  <a:pt x="2504" y="7056"/>
                </a:lnTo>
                <a:lnTo>
                  <a:pt x="2504" y="7268"/>
                </a:lnTo>
                <a:lnTo>
                  <a:pt x="2469" y="7479"/>
                </a:lnTo>
                <a:lnTo>
                  <a:pt x="2434" y="7762"/>
                </a:lnTo>
                <a:lnTo>
                  <a:pt x="2398" y="7973"/>
                </a:lnTo>
                <a:lnTo>
                  <a:pt x="2293" y="8114"/>
                </a:lnTo>
                <a:lnTo>
                  <a:pt x="2257" y="8326"/>
                </a:lnTo>
                <a:lnTo>
                  <a:pt x="2257" y="8467"/>
                </a:lnTo>
                <a:lnTo>
                  <a:pt x="2257" y="8608"/>
                </a:lnTo>
                <a:lnTo>
                  <a:pt x="2328" y="8821"/>
                </a:lnTo>
                <a:lnTo>
                  <a:pt x="2398" y="9033"/>
                </a:lnTo>
                <a:lnTo>
                  <a:pt x="2681" y="9103"/>
                </a:lnTo>
                <a:lnTo>
                  <a:pt x="2892" y="9138"/>
                </a:lnTo>
                <a:lnTo>
                  <a:pt x="3175" y="9209"/>
                </a:lnTo>
                <a:lnTo>
                  <a:pt x="3316" y="9244"/>
                </a:lnTo>
                <a:lnTo>
                  <a:pt x="3527" y="9209"/>
                </a:lnTo>
                <a:lnTo>
                  <a:pt x="3668" y="9138"/>
                </a:lnTo>
                <a:lnTo>
                  <a:pt x="3951" y="9033"/>
                </a:lnTo>
                <a:lnTo>
                  <a:pt x="4092" y="8962"/>
                </a:lnTo>
                <a:lnTo>
                  <a:pt x="4233" y="8892"/>
                </a:lnTo>
                <a:lnTo>
                  <a:pt x="4339" y="8892"/>
                </a:lnTo>
                <a:lnTo>
                  <a:pt x="4621" y="8997"/>
                </a:lnTo>
                <a:lnTo>
                  <a:pt x="4762" y="9103"/>
                </a:lnTo>
                <a:lnTo>
                  <a:pt x="4797" y="9209"/>
                </a:lnTo>
                <a:lnTo>
                  <a:pt x="4833" y="9315"/>
                </a:lnTo>
                <a:lnTo>
                  <a:pt x="4833" y="9456"/>
                </a:lnTo>
                <a:lnTo>
                  <a:pt x="4833" y="9738"/>
                </a:lnTo>
                <a:lnTo>
                  <a:pt x="4797" y="9879"/>
                </a:lnTo>
                <a:lnTo>
                  <a:pt x="4797" y="9985"/>
                </a:lnTo>
                <a:lnTo>
                  <a:pt x="4797" y="10197"/>
                </a:lnTo>
                <a:lnTo>
                  <a:pt x="4833" y="10408"/>
                </a:lnTo>
                <a:lnTo>
                  <a:pt x="4833" y="10691"/>
                </a:lnTo>
                <a:lnTo>
                  <a:pt x="4868" y="10973"/>
                </a:lnTo>
                <a:lnTo>
                  <a:pt x="4903" y="11185"/>
                </a:lnTo>
                <a:lnTo>
                  <a:pt x="4974" y="11290"/>
                </a:lnTo>
                <a:lnTo>
                  <a:pt x="5115" y="11432"/>
                </a:lnTo>
                <a:lnTo>
                  <a:pt x="5221" y="11432"/>
                </a:lnTo>
                <a:lnTo>
                  <a:pt x="5503" y="11432"/>
                </a:lnTo>
                <a:lnTo>
                  <a:pt x="5644" y="11396"/>
                </a:lnTo>
                <a:lnTo>
                  <a:pt x="5715" y="11290"/>
                </a:lnTo>
                <a:lnTo>
                  <a:pt x="5715" y="11149"/>
                </a:lnTo>
                <a:lnTo>
                  <a:pt x="5679" y="10938"/>
                </a:lnTo>
                <a:lnTo>
                  <a:pt x="5679" y="10832"/>
                </a:lnTo>
                <a:lnTo>
                  <a:pt x="5679" y="10620"/>
                </a:lnTo>
                <a:lnTo>
                  <a:pt x="5644" y="10267"/>
                </a:lnTo>
                <a:lnTo>
                  <a:pt x="5644" y="9985"/>
                </a:lnTo>
                <a:lnTo>
                  <a:pt x="5644" y="9703"/>
                </a:lnTo>
                <a:lnTo>
                  <a:pt x="5679" y="9562"/>
                </a:lnTo>
                <a:lnTo>
                  <a:pt x="5715" y="9350"/>
                </a:lnTo>
                <a:lnTo>
                  <a:pt x="5820" y="9209"/>
                </a:lnTo>
                <a:lnTo>
                  <a:pt x="6103" y="9209"/>
                </a:lnTo>
                <a:lnTo>
                  <a:pt x="6244" y="9280"/>
                </a:lnTo>
                <a:lnTo>
                  <a:pt x="6385" y="9421"/>
                </a:lnTo>
                <a:lnTo>
                  <a:pt x="6455" y="9562"/>
                </a:lnTo>
                <a:lnTo>
                  <a:pt x="6526" y="9703"/>
                </a:lnTo>
                <a:lnTo>
                  <a:pt x="6561" y="9844"/>
                </a:lnTo>
                <a:lnTo>
                  <a:pt x="6596" y="10126"/>
                </a:lnTo>
                <a:lnTo>
                  <a:pt x="6632" y="10408"/>
                </a:lnTo>
                <a:lnTo>
                  <a:pt x="6667" y="10620"/>
                </a:lnTo>
                <a:lnTo>
                  <a:pt x="6702" y="10832"/>
                </a:lnTo>
                <a:lnTo>
                  <a:pt x="6914" y="11114"/>
                </a:lnTo>
                <a:lnTo>
                  <a:pt x="7126" y="11326"/>
                </a:lnTo>
                <a:lnTo>
                  <a:pt x="7408" y="11537"/>
                </a:lnTo>
                <a:lnTo>
                  <a:pt x="7690" y="11608"/>
                </a:lnTo>
                <a:lnTo>
                  <a:pt x="7902" y="11608"/>
                </a:lnTo>
                <a:lnTo>
                  <a:pt x="8184" y="11643"/>
                </a:lnTo>
                <a:lnTo>
                  <a:pt x="8467" y="11643"/>
                </a:lnTo>
                <a:lnTo>
                  <a:pt x="8608" y="11608"/>
                </a:lnTo>
                <a:lnTo>
                  <a:pt x="8749" y="11502"/>
                </a:lnTo>
                <a:lnTo>
                  <a:pt x="8820" y="11149"/>
                </a:lnTo>
                <a:lnTo>
                  <a:pt x="8820" y="10797"/>
                </a:lnTo>
                <a:lnTo>
                  <a:pt x="8820" y="10585"/>
                </a:lnTo>
                <a:lnTo>
                  <a:pt x="8820" y="10303"/>
                </a:lnTo>
                <a:lnTo>
                  <a:pt x="8820" y="10091"/>
                </a:lnTo>
                <a:lnTo>
                  <a:pt x="8820" y="9950"/>
                </a:lnTo>
                <a:lnTo>
                  <a:pt x="8820" y="9738"/>
                </a:lnTo>
                <a:lnTo>
                  <a:pt x="8855" y="9597"/>
                </a:lnTo>
                <a:lnTo>
                  <a:pt x="8961" y="9491"/>
                </a:lnTo>
                <a:lnTo>
                  <a:pt x="9173" y="9491"/>
                </a:lnTo>
                <a:lnTo>
                  <a:pt x="9279" y="9456"/>
                </a:lnTo>
                <a:lnTo>
                  <a:pt x="9420" y="9456"/>
                </a:lnTo>
                <a:lnTo>
                  <a:pt x="9702" y="9527"/>
                </a:lnTo>
                <a:lnTo>
                  <a:pt x="10125" y="9738"/>
                </a:lnTo>
                <a:lnTo>
                  <a:pt x="10478" y="9950"/>
                </a:lnTo>
                <a:lnTo>
                  <a:pt x="10831" y="10020"/>
                </a:lnTo>
                <a:lnTo>
                  <a:pt x="11113" y="10303"/>
                </a:lnTo>
                <a:lnTo>
                  <a:pt x="11395" y="10514"/>
                </a:lnTo>
                <a:lnTo>
                  <a:pt x="11677" y="10726"/>
                </a:lnTo>
                <a:lnTo>
                  <a:pt x="11819" y="10797"/>
                </a:lnTo>
                <a:lnTo>
                  <a:pt x="12207" y="10832"/>
                </a:lnTo>
                <a:lnTo>
                  <a:pt x="12630" y="10832"/>
                </a:lnTo>
                <a:lnTo>
                  <a:pt x="12842" y="10761"/>
                </a:lnTo>
                <a:lnTo>
                  <a:pt x="13194" y="10620"/>
                </a:lnTo>
                <a:lnTo>
                  <a:pt x="13406" y="10550"/>
                </a:lnTo>
                <a:lnTo>
                  <a:pt x="13688" y="10444"/>
                </a:lnTo>
                <a:lnTo>
                  <a:pt x="13794" y="10338"/>
                </a:lnTo>
                <a:lnTo>
                  <a:pt x="13865" y="10056"/>
                </a:lnTo>
                <a:lnTo>
                  <a:pt x="13900" y="9844"/>
                </a:lnTo>
                <a:lnTo>
                  <a:pt x="13900" y="9632"/>
                </a:lnTo>
                <a:lnTo>
                  <a:pt x="13900" y="9527"/>
                </a:lnTo>
                <a:lnTo>
                  <a:pt x="13829" y="9315"/>
                </a:lnTo>
                <a:lnTo>
                  <a:pt x="13618" y="9033"/>
                </a:lnTo>
                <a:lnTo>
                  <a:pt x="13547" y="8750"/>
                </a:lnTo>
                <a:lnTo>
                  <a:pt x="13477" y="8538"/>
                </a:lnTo>
                <a:lnTo>
                  <a:pt x="13477" y="8397"/>
                </a:lnTo>
                <a:lnTo>
                  <a:pt x="13441" y="8256"/>
                </a:lnTo>
                <a:lnTo>
                  <a:pt x="13441" y="7973"/>
                </a:lnTo>
                <a:lnTo>
                  <a:pt x="13477" y="7762"/>
                </a:lnTo>
                <a:lnTo>
                  <a:pt x="13547" y="7550"/>
                </a:lnTo>
                <a:lnTo>
                  <a:pt x="13653" y="7409"/>
                </a:lnTo>
                <a:lnTo>
                  <a:pt x="13794" y="7338"/>
                </a:lnTo>
                <a:lnTo>
                  <a:pt x="14076" y="7268"/>
                </a:lnTo>
                <a:lnTo>
                  <a:pt x="14359" y="7232"/>
                </a:lnTo>
                <a:lnTo>
                  <a:pt x="14570" y="7232"/>
                </a:lnTo>
                <a:lnTo>
                  <a:pt x="14711" y="7197"/>
                </a:lnTo>
                <a:lnTo>
                  <a:pt x="14923" y="7162"/>
                </a:lnTo>
                <a:lnTo>
                  <a:pt x="15135" y="7127"/>
                </a:lnTo>
                <a:lnTo>
                  <a:pt x="15346" y="7127"/>
                </a:lnTo>
                <a:lnTo>
                  <a:pt x="15629" y="7056"/>
                </a:lnTo>
                <a:lnTo>
                  <a:pt x="15911" y="6915"/>
                </a:lnTo>
                <a:lnTo>
                  <a:pt x="16017" y="6809"/>
                </a:lnTo>
                <a:lnTo>
                  <a:pt x="16228" y="6597"/>
                </a:lnTo>
                <a:lnTo>
                  <a:pt x="16299" y="6386"/>
                </a:lnTo>
                <a:lnTo>
                  <a:pt x="16369" y="6104"/>
                </a:lnTo>
                <a:lnTo>
                  <a:pt x="16405" y="5892"/>
                </a:lnTo>
                <a:lnTo>
                  <a:pt x="16405" y="5680"/>
                </a:lnTo>
                <a:lnTo>
                  <a:pt x="16405" y="5539"/>
                </a:lnTo>
                <a:lnTo>
                  <a:pt x="16405" y="5257"/>
                </a:lnTo>
                <a:lnTo>
                  <a:pt x="16334" y="4975"/>
                </a:lnTo>
                <a:lnTo>
                  <a:pt x="16264" y="4763"/>
                </a:lnTo>
                <a:lnTo>
                  <a:pt x="16052" y="4551"/>
                </a:lnTo>
                <a:lnTo>
                  <a:pt x="15487" y="4587"/>
                </a:lnTo>
                <a:lnTo>
                  <a:pt x="15205" y="4622"/>
                </a:lnTo>
                <a:lnTo>
                  <a:pt x="14994" y="4692"/>
                </a:lnTo>
                <a:lnTo>
                  <a:pt x="14782" y="4728"/>
                </a:lnTo>
                <a:lnTo>
                  <a:pt x="14570" y="4728"/>
                </a:lnTo>
                <a:lnTo>
                  <a:pt x="14359" y="4763"/>
                </a:lnTo>
                <a:lnTo>
                  <a:pt x="14147" y="4798"/>
                </a:lnTo>
                <a:lnTo>
                  <a:pt x="13935" y="4798"/>
                </a:lnTo>
                <a:lnTo>
                  <a:pt x="13829" y="4798"/>
                </a:lnTo>
                <a:lnTo>
                  <a:pt x="13618" y="4798"/>
                </a:lnTo>
                <a:lnTo>
                  <a:pt x="13406" y="4763"/>
                </a:lnTo>
                <a:lnTo>
                  <a:pt x="13336" y="4657"/>
                </a:lnTo>
                <a:lnTo>
                  <a:pt x="13336" y="4516"/>
                </a:lnTo>
                <a:lnTo>
                  <a:pt x="13371" y="4375"/>
                </a:lnTo>
                <a:lnTo>
                  <a:pt x="13406" y="4163"/>
                </a:lnTo>
                <a:lnTo>
                  <a:pt x="13441" y="3952"/>
                </a:lnTo>
                <a:lnTo>
                  <a:pt x="13724" y="3669"/>
                </a:lnTo>
                <a:lnTo>
                  <a:pt x="13935" y="3599"/>
                </a:lnTo>
                <a:lnTo>
                  <a:pt x="14006" y="3387"/>
                </a:lnTo>
                <a:lnTo>
                  <a:pt x="14147" y="3246"/>
                </a:lnTo>
                <a:lnTo>
                  <a:pt x="14429" y="2964"/>
                </a:lnTo>
                <a:lnTo>
                  <a:pt x="14641" y="2681"/>
                </a:lnTo>
                <a:lnTo>
                  <a:pt x="14711" y="2398"/>
                </a:lnTo>
                <a:lnTo>
                  <a:pt x="14817" y="2116"/>
                </a:lnTo>
                <a:lnTo>
                  <a:pt x="14888" y="1834"/>
                </a:lnTo>
                <a:lnTo>
                  <a:pt x="14923" y="1552"/>
                </a:lnTo>
                <a:lnTo>
                  <a:pt x="14923" y="1270"/>
                </a:lnTo>
                <a:lnTo>
                  <a:pt x="14888" y="987"/>
                </a:lnTo>
                <a:lnTo>
                  <a:pt x="14852" y="705"/>
                </a:lnTo>
                <a:lnTo>
                  <a:pt x="14641" y="352"/>
                </a:lnTo>
                <a:lnTo>
                  <a:pt x="14288" y="70"/>
                </a:lnTo>
                <a:lnTo>
                  <a:pt x="14147" y="0"/>
                </a:lnTo>
                <a:lnTo>
                  <a:pt x="13935" y="0"/>
                </a:lnTo>
                <a:lnTo>
                  <a:pt x="13724" y="0"/>
                </a:lnTo>
                <a:lnTo>
                  <a:pt x="13441" y="35"/>
                </a:lnTo>
                <a:lnTo>
                  <a:pt x="13159" y="35"/>
                </a:lnTo>
                <a:lnTo>
                  <a:pt x="12947" y="70"/>
                </a:lnTo>
                <a:lnTo>
                  <a:pt x="12736" y="105"/>
                </a:lnTo>
                <a:lnTo>
                  <a:pt x="12630" y="211"/>
                </a:lnTo>
                <a:lnTo>
                  <a:pt x="12489" y="493"/>
                </a:lnTo>
                <a:lnTo>
                  <a:pt x="12418" y="705"/>
                </a:lnTo>
                <a:lnTo>
                  <a:pt x="12136" y="917"/>
                </a:lnTo>
                <a:lnTo>
                  <a:pt x="11924" y="1128"/>
                </a:lnTo>
                <a:lnTo>
                  <a:pt x="11819" y="1199"/>
                </a:lnTo>
                <a:lnTo>
                  <a:pt x="11395" y="1164"/>
                </a:lnTo>
                <a:lnTo>
                  <a:pt x="10901" y="1128"/>
                </a:lnTo>
                <a:lnTo>
                  <a:pt x="10407" y="1093"/>
                </a:lnTo>
                <a:lnTo>
                  <a:pt x="10055" y="1023"/>
                </a:lnTo>
                <a:lnTo>
                  <a:pt x="9843" y="987"/>
                </a:lnTo>
                <a:lnTo>
                  <a:pt x="9702" y="917"/>
                </a:lnTo>
                <a:lnTo>
                  <a:pt x="9420" y="917"/>
                </a:lnTo>
                <a:lnTo>
                  <a:pt x="9208" y="952"/>
                </a:lnTo>
                <a:lnTo>
                  <a:pt x="8855" y="1023"/>
                </a:lnTo>
                <a:lnTo>
                  <a:pt x="8573" y="1058"/>
                </a:lnTo>
                <a:lnTo>
                  <a:pt x="8361" y="1128"/>
                </a:lnTo>
                <a:lnTo>
                  <a:pt x="8291" y="1234"/>
                </a:lnTo>
                <a:lnTo>
                  <a:pt x="8256" y="1375"/>
                </a:lnTo>
                <a:lnTo>
                  <a:pt x="8220" y="1516"/>
                </a:lnTo>
                <a:lnTo>
                  <a:pt x="8184" y="1658"/>
                </a:lnTo>
                <a:lnTo>
                  <a:pt x="8078" y="1799"/>
                </a:lnTo>
                <a:lnTo>
                  <a:pt x="8008" y="2081"/>
                </a:lnTo>
                <a:close/>
              </a:path>
            </a:pathLst>
          </a:custGeom>
          <a:solidFill>
            <a:srgbClr val="e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685800" y="243828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EN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4" name="" descr=""/>
          <p:cNvPicPr/>
          <p:nvPr/>
        </p:nvPicPr>
        <p:blipFill>
          <a:blip r:embed="rId1"/>
          <a:stretch/>
        </p:blipFill>
        <p:spPr>
          <a:xfrm>
            <a:off x="3919680" y="609480"/>
            <a:ext cx="11714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8042400" y="704880"/>
            <a:ext cx="535320" cy="1962360"/>
            <a:chOff x="8042400" y="704880"/>
            <a:chExt cx="535320" cy="1962360"/>
          </a:xfrm>
        </p:grpSpPr>
        <p:grpSp>
          <p:nvGrpSpPr>
            <p:cNvPr id="60" name=""/>
            <p:cNvGrpSpPr/>
            <p:nvPr/>
          </p:nvGrpSpPr>
          <p:grpSpPr>
            <a:xfrm>
              <a:off x="8042400" y="704880"/>
              <a:ext cx="535320" cy="1962360"/>
              <a:chOff x="8042400" y="704880"/>
              <a:chExt cx="535320" cy="196236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8042400" y="704880"/>
                <a:ext cx="524160" cy="1962360"/>
                <a:chOff x="8042400" y="704880"/>
                <a:chExt cx="524160" cy="196236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042400" y="704880"/>
                  <a:ext cx="524160" cy="1962360"/>
                </a:xfrm>
                <a:custGeom>
                  <a:avLst/>
                  <a:gdLst/>
                  <a:ahLst/>
                  <a:rect l="0" t="0" r="r" b="b"/>
                  <a:pathLst>
                    <a:path w="1456" h="5451">
                      <a:moveTo>
                        <a:pt x="0" y="5385"/>
                      </a:moveTo>
                      <a:lnTo>
                        <a:pt x="1090" y="5451"/>
                      </a:lnTo>
                      <a:lnTo>
                        <a:pt x="1456" y="0"/>
                      </a:lnTo>
                      <a:lnTo>
                        <a:pt x="89" y="96"/>
                      </a:lnTo>
                      <a:lnTo>
                        <a:pt x="0" y="53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074080" y="758880"/>
                  <a:ext cx="430560" cy="1860840"/>
                </a:xfrm>
                <a:custGeom>
                  <a:avLst/>
                  <a:gdLst/>
                  <a:ahLst/>
                  <a:rect l="0" t="0" r="r" b="b"/>
                  <a:pathLst>
                    <a:path w="1196" h="5169">
                      <a:moveTo>
                        <a:pt x="126" y="54"/>
                      </a:moveTo>
                      <a:lnTo>
                        <a:pt x="1196" y="0"/>
                      </a:lnTo>
                      <a:lnTo>
                        <a:pt x="844" y="5169"/>
                      </a:lnTo>
                      <a:lnTo>
                        <a:pt x="0" y="5126"/>
                      </a:lnTo>
                      <a:lnTo>
                        <a:pt x="126" y="5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077320" y="2422440"/>
                  <a:ext cx="43200" cy="32040"/>
                </a:xfrm>
                <a:custGeom>
                  <a:avLst/>
                  <a:gdLst/>
                  <a:ahLst/>
                  <a:rect l="0" t="0" r="r" b="b"/>
                  <a:pathLst>
                    <a:path w="120" h="89">
                      <a:moveTo>
                        <a:pt x="70" y="22"/>
                      </a:moveTo>
                      <a:lnTo>
                        <a:pt x="80" y="22"/>
                      </a:lnTo>
                      <a:lnTo>
                        <a:pt x="80" y="29"/>
                      </a:lnTo>
                      <a:lnTo>
                        <a:pt x="90" y="29"/>
                      </a:lnTo>
                      <a:lnTo>
                        <a:pt x="90" y="36"/>
                      </a:lnTo>
                      <a:lnTo>
                        <a:pt x="90" y="52"/>
                      </a:lnTo>
                      <a:lnTo>
                        <a:pt x="80" y="52"/>
                      </a:lnTo>
                      <a:lnTo>
                        <a:pt x="80" y="59"/>
                      </a:lnTo>
                      <a:lnTo>
                        <a:pt x="70" y="59"/>
                      </a:lnTo>
                      <a:lnTo>
                        <a:pt x="49" y="59"/>
                      </a:lnTo>
                      <a:lnTo>
                        <a:pt x="49" y="52"/>
                      </a:lnTo>
                      <a:lnTo>
                        <a:pt x="39" y="52"/>
                      </a:lnTo>
                      <a:lnTo>
                        <a:pt x="39" y="36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49" y="22"/>
                      </a:lnTo>
                      <a:lnTo>
                        <a:pt x="70" y="22"/>
                      </a:lnTo>
                      <a:lnTo>
                        <a:pt x="70" y="0"/>
                      </a:lnTo>
                      <a:lnTo>
                        <a:pt x="49" y="0"/>
                      </a:lnTo>
                      <a:lnTo>
                        <a:pt x="29" y="7"/>
                      </a:lnTo>
                      <a:lnTo>
                        <a:pt x="19" y="29"/>
                      </a:lnTo>
                      <a:lnTo>
                        <a:pt x="0" y="36"/>
                      </a:lnTo>
                      <a:lnTo>
                        <a:pt x="0" y="59"/>
                      </a:lnTo>
                      <a:lnTo>
                        <a:pt x="19" y="67"/>
                      </a:lnTo>
                      <a:lnTo>
                        <a:pt x="39" y="81"/>
                      </a:lnTo>
                      <a:lnTo>
                        <a:pt x="70" y="89"/>
                      </a:lnTo>
                      <a:lnTo>
                        <a:pt x="80" y="89"/>
                      </a:lnTo>
                      <a:lnTo>
                        <a:pt x="110" y="81"/>
                      </a:lnTo>
                      <a:lnTo>
                        <a:pt x="120" y="59"/>
                      </a:lnTo>
                      <a:lnTo>
                        <a:pt x="120" y="36"/>
                      </a:lnTo>
                      <a:lnTo>
                        <a:pt x="120" y="29"/>
                      </a:lnTo>
                      <a:lnTo>
                        <a:pt x="110" y="7"/>
                      </a:lnTo>
                      <a:lnTo>
                        <a:pt x="90" y="0"/>
                      </a:lnTo>
                      <a:lnTo>
                        <a:pt x="70" y="0"/>
                      </a:lnTo>
                      <a:lnTo>
                        <a:pt x="7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120160" y="2432160"/>
                  <a:ext cx="41760" cy="55800"/>
                </a:xfrm>
                <a:custGeom>
                  <a:avLst/>
                  <a:gdLst/>
                  <a:ahLst/>
                  <a:rect l="0" t="0" r="r" b="b"/>
                  <a:pathLst>
                    <a:path w="116" h="155">
                      <a:moveTo>
                        <a:pt x="8" y="155"/>
                      </a:moveTo>
                      <a:lnTo>
                        <a:pt x="0" y="4"/>
                      </a:lnTo>
                      <a:lnTo>
                        <a:pt x="116" y="0"/>
                      </a:lnTo>
                      <a:lnTo>
                        <a:pt x="116" y="30"/>
                      </a:lnTo>
                      <a:lnTo>
                        <a:pt x="53" y="30"/>
                      </a:lnTo>
                      <a:lnTo>
                        <a:pt x="53" y="61"/>
                      </a:lnTo>
                      <a:lnTo>
                        <a:pt x="116" y="61"/>
                      </a:lnTo>
                      <a:lnTo>
                        <a:pt x="116" y="93"/>
                      </a:lnTo>
                      <a:lnTo>
                        <a:pt x="62" y="93"/>
                      </a:lnTo>
                      <a:lnTo>
                        <a:pt x="62" y="155"/>
                      </a:lnTo>
                      <a:lnTo>
                        <a:pt x="8" y="1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8294760" y="2428920"/>
                  <a:ext cx="43200" cy="32040"/>
                </a:xfrm>
                <a:custGeom>
                  <a:avLst/>
                  <a:gdLst/>
                  <a:ahLst/>
                  <a:rect l="0" t="0" r="r" b="b"/>
                  <a:pathLst>
                    <a:path w="120" h="89">
                      <a:moveTo>
                        <a:pt x="65" y="27"/>
                      </a:moveTo>
                      <a:lnTo>
                        <a:pt x="74" y="27"/>
                      </a:lnTo>
                      <a:lnTo>
                        <a:pt x="74" y="33"/>
                      </a:lnTo>
                      <a:lnTo>
                        <a:pt x="83" y="33"/>
                      </a:lnTo>
                      <a:lnTo>
                        <a:pt x="83" y="48"/>
                      </a:lnTo>
                      <a:lnTo>
                        <a:pt x="83" y="55"/>
                      </a:lnTo>
                      <a:lnTo>
                        <a:pt x="74" y="55"/>
                      </a:lnTo>
                      <a:lnTo>
                        <a:pt x="74" y="62"/>
                      </a:lnTo>
                      <a:lnTo>
                        <a:pt x="65" y="62"/>
                      </a:lnTo>
                      <a:lnTo>
                        <a:pt x="45" y="62"/>
                      </a:lnTo>
                      <a:lnTo>
                        <a:pt x="36" y="55"/>
                      </a:lnTo>
                      <a:lnTo>
                        <a:pt x="36" y="48"/>
                      </a:lnTo>
                      <a:lnTo>
                        <a:pt x="36" y="33"/>
                      </a:lnTo>
                      <a:lnTo>
                        <a:pt x="45" y="33"/>
                      </a:lnTo>
                      <a:lnTo>
                        <a:pt x="45" y="27"/>
                      </a:lnTo>
                      <a:lnTo>
                        <a:pt x="65" y="27"/>
                      </a:lnTo>
                      <a:lnTo>
                        <a:pt x="65" y="0"/>
                      </a:lnTo>
                      <a:lnTo>
                        <a:pt x="36" y="0"/>
                      </a:lnTo>
                      <a:lnTo>
                        <a:pt x="9" y="6"/>
                      </a:lnTo>
                      <a:lnTo>
                        <a:pt x="0" y="27"/>
                      </a:lnTo>
                      <a:lnTo>
                        <a:pt x="0" y="48"/>
                      </a:lnTo>
                      <a:lnTo>
                        <a:pt x="0" y="62"/>
                      </a:lnTo>
                      <a:lnTo>
                        <a:pt x="9" y="75"/>
                      </a:lnTo>
                      <a:lnTo>
                        <a:pt x="36" y="82"/>
                      </a:lnTo>
                      <a:lnTo>
                        <a:pt x="45" y="89"/>
                      </a:lnTo>
                      <a:lnTo>
                        <a:pt x="74" y="89"/>
                      </a:lnTo>
                      <a:lnTo>
                        <a:pt x="92" y="82"/>
                      </a:lnTo>
                      <a:lnTo>
                        <a:pt x="110" y="62"/>
                      </a:lnTo>
                      <a:lnTo>
                        <a:pt x="120" y="48"/>
                      </a:lnTo>
                      <a:lnTo>
                        <a:pt x="120" y="27"/>
                      </a:lnTo>
                      <a:lnTo>
                        <a:pt x="110" y="20"/>
                      </a:lnTo>
                      <a:lnTo>
                        <a:pt x="83" y="0"/>
                      </a:lnTo>
                      <a:lnTo>
                        <a:pt x="65" y="0"/>
                      </a:lnTo>
                      <a:lnTo>
                        <a:pt x="65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331120" y="2435400"/>
                  <a:ext cx="41760" cy="60840"/>
                </a:xfrm>
                <a:custGeom>
                  <a:avLst/>
                  <a:gdLst/>
                  <a:ahLst/>
                  <a:rect l="0" t="0" r="r" b="b"/>
                  <a:pathLst>
                    <a:path w="116" h="169">
                      <a:moveTo>
                        <a:pt x="67" y="62"/>
                      </a:moveTo>
                      <a:lnTo>
                        <a:pt x="67" y="49"/>
                      </a:lnTo>
                      <a:lnTo>
                        <a:pt x="67" y="45"/>
                      </a:lnTo>
                      <a:lnTo>
                        <a:pt x="67" y="35"/>
                      </a:lnTo>
                      <a:lnTo>
                        <a:pt x="62" y="30"/>
                      </a:lnTo>
                      <a:lnTo>
                        <a:pt x="49" y="30"/>
                      </a:lnTo>
                      <a:lnTo>
                        <a:pt x="45" y="35"/>
                      </a:lnTo>
                      <a:lnTo>
                        <a:pt x="45" y="45"/>
                      </a:lnTo>
                      <a:lnTo>
                        <a:pt x="45" y="45"/>
                      </a:lnTo>
                      <a:lnTo>
                        <a:pt x="49" y="129"/>
                      </a:lnTo>
                      <a:lnTo>
                        <a:pt x="49" y="129"/>
                      </a:lnTo>
                      <a:lnTo>
                        <a:pt x="58" y="138"/>
                      </a:lnTo>
                      <a:lnTo>
                        <a:pt x="62" y="138"/>
                      </a:lnTo>
                      <a:lnTo>
                        <a:pt x="67" y="138"/>
                      </a:lnTo>
                      <a:lnTo>
                        <a:pt x="75" y="129"/>
                      </a:lnTo>
                      <a:lnTo>
                        <a:pt x="75" y="124"/>
                      </a:lnTo>
                      <a:lnTo>
                        <a:pt x="75" y="120"/>
                      </a:lnTo>
                      <a:lnTo>
                        <a:pt x="75" y="102"/>
                      </a:lnTo>
                      <a:lnTo>
                        <a:pt x="112" y="98"/>
                      </a:lnTo>
                      <a:lnTo>
                        <a:pt x="116" y="120"/>
                      </a:lnTo>
                      <a:lnTo>
                        <a:pt x="112" y="138"/>
                      </a:lnTo>
                      <a:lnTo>
                        <a:pt x="103" y="156"/>
                      </a:lnTo>
                      <a:lnTo>
                        <a:pt x="90" y="160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6" y="156"/>
                      </a:lnTo>
                      <a:lnTo>
                        <a:pt x="13" y="143"/>
                      </a:lnTo>
                      <a:lnTo>
                        <a:pt x="8" y="124"/>
                      </a:lnTo>
                      <a:lnTo>
                        <a:pt x="0" y="58"/>
                      </a:lnTo>
                      <a:lnTo>
                        <a:pt x="8" y="30"/>
                      </a:lnTo>
                      <a:lnTo>
                        <a:pt x="13" y="13"/>
                      </a:lnTo>
                      <a:lnTo>
                        <a:pt x="31" y="4"/>
                      </a:lnTo>
                      <a:lnTo>
                        <a:pt x="58" y="0"/>
                      </a:lnTo>
                      <a:lnTo>
                        <a:pt x="80" y="0"/>
                      </a:lnTo>
                      <a:lnTo>
                        <a:pt x="94" y="13"/>
                      </a:lnTo>
                      <a:lnTo>
                        <a:pt x="103" y="17"/>
                      </a:lnTo>
                      <a:lnTo>
                        <a:pt x="112" y="45"/>
                      </a:lnTo>
                      <a:lnTo>
                        <a:pt x="112" y="58"/>
                      </a:lnTo>
                      <a:lnTo>
                        <a:pt x="67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8167680" y="1211400"/>
                  <a:ext cx="140040" cy="1327680"/>
                </a:xfrm>
                <a:custGeom>
                  <a:avLst/>
                  <a:gdLst/>
                  <a:ahLst/>
                  <a:rect l="0" t="0" r="r" b="b"/>
                  <a:pathLst>
                    <a:path w="389" h="3688">
                      <a:moveTo>
                        <a:pt x="0" y="3673"/>
                      </a:moveTo>
                      <a:lnTo>
                        <a:pt x="307" y="3688"/>
                      </a:lnTo>
                      <a:lnTo>
                        <a:pt x="327" y="3301"/>
                      </a:lnTo>
                      <a:lnTo>
                        <a:pt x="233" y="3301"/>
                      </a:lnTo>
                      <a:lnTo>
                        <a:pt x="237" y="3231"/>
                      </a:lnTo>
                      <a:lnTo>
                        <a:pt x="237" y="3208"/>
                      </a:lnTo>
                      <a:lnTo>
                        <a:pt x="254" y="2894"/>
                      </a:lnTo>
                      <a:lnTo>
                        <a:pt x="254" y="2863"/>
                      </a:lnTo>
                      <a:lnTo>
                        <a:pt x="270" y="2537"/>
                      </a:lnTo>
                      <a:lnTo>
                        <a:pt x="270" y="2506"/>
                      </a:lnTo>
                      <a:lnTo>
                        <a:pt x="286" y="2185"/>
                      </a:lnTo>
                      <a:lnTo>
                        <a:pt x="286" y="2154"/>
                      </a:lnTo>
                      <a:lnTo>
                        <a:pt x="303" y="1821"/>
                      </a:lnTo>
                      <a:lnTo>
                        <a:pt x="303" y="1790"/>
                      </a:lnTo>
                      <a:lnTo>
                        <a:pt x="319" y="1457"/>
                      </a:lnTo>
                      <a:lnTo>
                        <a:pt x="319" y="1426"/>
                      </a:lnTo>
                      <a:lnTo>
                        <a:pt x="335" y="1077"/>
                      </a:lnTo>
                      <a:lnTo>
                        <a:pt x="340" y="1046"/>
                      </a:lnTo>
                      <a:lnTo>
                        <a:pt x="356" y="689"/>
                      </a:lnTo>
                      <a:lnTo>
                        <a:pt x="356" y="666"/>
                      </a:lnTo>
                      <a:lnTo>
                        <a:pt x="372" y="302"/>
                      </a:lnTo>
                      <a:lnTo>
                        <a:pt x="376" y="271"/>
                      </a:lnTo>
                      <a:lnTo>
                        <a:pt x="389" y="0"/>
                      </a:lnTo>
                      <a:lnTo>
                        <a:pt x="233" y="3"/>
                      </a:lnTo>
                      <a:lnTo>
                        <a:pt x="221" y="259"/>
                      </a:lnTo>
                      <a:lnTo>
                        <a:pt x="217" y="290"/>
                      </a:lnTo>
                      <a:lnTo>
                        <a:pt x="205" y="604"/>
                      </a:lnTo>
                      <a:lnTo>
                        <a:pt x="205" y="635"/>
                      </a:lnTo>
                      <a:lnTo>
                        <a:pt x="187" y="949"/>
                      </a:lnTo>
                      <a:lnTo>
                        <a:pt x="187" y="980"/>
                      </a:lnTo>
                      <a:lnTo>
                        <a:pt x="175" y="1286"/>
                      </a:lnTo>
                      <a:lnTo>
                        <a:pt x="175" y="1317"/>
                      </a:lnTo>
                      <a:lnTo>
                        <a:pt x="159" y="1615"/>
                      </a:lnTo>
                      <a:lnTo>
                        <a:pt x="159" y="1646"/>
                      </a:lnTo>
                      <a:lnTo>
                        <a:pt x="151" y="1952"/>
                      </a:lnTo>
                      <a:lnTo>
                        <a:pt x="151" y="1983"/>
                      </a:lnTo>
                      <a:lnTo>
                        <a:pt x="134" y="2262"/>
                      </a:lnTo>
                      <a:lnTo>
                        <a:pt x="134" y="2293"/>
                      </a:lnTo>
                      <a:lnTo>
                        <a:pt x="122" y="2583"/>
                      </a:lnTo>
                      <a:lnTo>
                        <a:pt x="122" y="2614"/>
                      </a:lnTo>
                      <a:lnTo>
                        <a:pt x="110" y="2883"/>
                      </a:lnTo>
                      <a:lnTo>
                        <a:pt x="110" y="2914"/>
                      </a:lnTo>
                      <a:lnTo>
                        <a:pt x="98" y="3200"/>
                      </a:lnTo>
                      <a:lnTo>
                        <a:pt x="98" y="3231"/>
                      </a:lnTo>
                      <a:lnTo>
                        <a:pt x="98" y="3293"/>
                      </a:lnTo>
                      <a:lnTo>
                        <a:pt x="4" y="3293"/>
                      </a:lnTo>
                      <a:lnTo>
                        <a:pt x="0" y="36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091360" y="2244600"/>
                  <a:ext cx="116280" cy="32040"/>
                </a:xfrm>
                <a:custGeom>
                  <a:avLst/>
                  <a:gdLst/>
                  <a:ahLst/>
                  <a:rect l="0" t="0" r="r" b="b"/>
                  <a:pathLst>
                    <a:path w="323" h="89">
                      <a:moveTo>
                        <a:pt x="323" y="89"/>
                      </a:moveTo>
                      <a:lnTo>
                        <a:pt x="323" y="17"/>
                      </a:lnTo>
                      <a:lnTo>
                        <a:pt x="0" y="0"/>
                      </a:lnTo>
                      <a:lnTo>
                        <a:pt x="0" y="71"/>
                      </a:lnTo>
                      <a:lnTo>
                        <a:pt x="323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259840" y="2239920"/>
                  <a:ext cx="127440" cy="33840"/>
                </a:xfrm>
                <a:custGeom>
                  <a:avLst/>
                  <a:gdLst/>
                  <a:ahLst/>
                  <a:rect l="0" t="0" r="r" b="b"/>
                  <a:pathLst>
                    <a:path w="354" h="94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354" y="26"/>
                      </a:lnTo>
                      <a:lnTo>
                        <a:pt x="354" y="94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271000" y="1986120"/>
                  <a:ext cx="133560" cy="35280"/>
                </a:xfrm>
                <a:custGeom>
                  <a:avLst/>
                  <a:gdLst/>
                  <a:ahLst/>
                  <a:rect l="0" t="0" r="r" b="b"/>
                  <a:pathLst>
                    <a:path w="371" h="98">
                      <a:moveTo>
                        <a:pt x="0" y="87"/>
                      </a:moveTo>
                      <a:lnTo>
                        <a:pt x="0" y="0"/>
                      </a:lnTo>
                      <a:lnTo>
                        <a:pt x="371" y="10"/>
                      </a:lnTo>
                      <a:lnTo>
                        <a:pt x="371" y="98"/>
                      </a:lnTo>
                      <a:lnTo>
                        <a:pt x="355" y="98"/>
                      </a:lnTo>
                      <a:lnTo>
                        <a:pt x="310" y="98"/>
                      </a:lnTo>
                      <a:lnTo>
                        <a:pt x="253" y="98"/>
                      </a:lnTo>
                      <a:lnTo>
                        <a:pt x="188" y="87"/>
                      </a:lnTo>
                      <a:lnTo>
                        <a:pt x="118" y="87"/>
                      </a:lnTo>
                      <a:lnTo>
                        <a:pt x="56" y="87"/>
                      </a:lnTo>
                      <a:lnTo>
                        <a:pt x="16" y="87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097840" y="2023920"/>
                  <a:ext cx="117720" cy="35280"/>
                </a:xfrm>
                <a:custGeom>
                  <a:avLst/>
                  <a:gdLst/>
                  <a:ahLst/>
                  <a:rect l="0" t="0" r="r" b="b"/>
                  <a:pathLst>
                    <a:path w="327" h="98">
                      <a:moveTo>
                        <a:pt x="327" y="10"/>
                      </a:moveTo>
                      <a:lnTo>
                        <a:pt x="327" y="98"/>
                      </a:lnTo>
                      <a:lnTo>
                        <a:pt x="0" y="87"/>
                      </a:lnTo>
                      <a:lnTo>
                        <a:pt x="0" y="0"/>
                      </a:lnTo>
                      <a:lnTo>
                        <a:pt x="32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091360" y="2138400"/>
                  <a:ext cx="120960" cy="32040"/>
                </a:xfrm>
                <a:custGeom>
                  <a:avLst/>
                  <a:gdLst/>
                  <a:ahLst/>
                  <a:rect l="0" t="0" r="r" b="b"/>
                  <a:pathLst>
                    <a:path w="336" h="89">
                      <a:moveTo>
                        <a:pt x="336" y="89"/>
                      </a:moveTo>
                      <a:lnTo>
                        <a:pt x="336" y="17"/>
                      </a:lnTo>
                      <a:lnTo>
                        <a:pt x="8" y="0"/>
                      </a:lnTo>
                      <a:lnTo>
                        <a:pt x="0" y="71"/>
                      </a:lnTo>
                      <a:lnTo>
                        <a:pt x="336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264520" y="2112840"/>
                  <a:ext cx="128880" cy="33840"/>
                </a:xfrm>
                <a:custGeom>
                  <a:avLst/>
                  <a:gdLst/>
                  <a:ahLst/>
                  <a:rect l="0" t="0" r="r" b="b"/>
                  <a:pathLst>
                    <a:path w="358" h="94">
                      <a:moveTo>
                        <a:pt x="0" y="76"/>
                      </a:moveTo>
                      <a:lnTo>
                        <a:pt x="0" y="0"/>
                      </a:lnTo>
                      <a:lnTo>
                        <a:pt x="358" y="18"/>
                      </a:lnTo>
                      <a:lnTo>
                        <a:pt x="358" y="94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110440" y="1430280"/>
                  <a:ext cx="132120" cy="32040"/>
                </a:xfrm>
                <a:custGeom>
                  <a:avLst/>
                  <a:gdLst/>
                  <a:ahLst/>
                  <a:rect l="0" t="0" r="r" b="b"/>
                  <a:pathLst>
                    <a:path w="367" h="89">
                      <a:moveTo>
                        <a:pt x="367" y="79"/>
                      </a:moveTo>
                      <a:lnTo>
                        <a:pt x="367" y="0"/>
                      </a:lnTo>
                      <a:lnTo>
                        <a:pt x="0" y="29"/>
                      </a:lnTo>
                      <a:lnTo>
                        <a:pt x="0" y="89"/>
                      </a:lnTo>
                      <a:lnTo>
                        <a:pt x="367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96200" y="1447920"/>
                  <a:ext cx="144720" cy="33840"/>
                </a:xfrm>
                <a:custGeom>
                  <a:avLst/>
                  <a:gdLst/>
                  <a:ahLst/>
                  <a:rect l="0" t="0" r="r" b="b"/>
                  <a:pathLst>
                    <a:path w="402" h="94">
                      <a:moveTo>
                        <a:pt x="0" y="94"/>
                      </a:moveTo>
                      <a:lnTo>
                        <a:pt x="0" y="31"/>
                      </a:lnTo>
                      <a:lnTo>
                        <a:pt x="402" y="0"/>
                      </a:lnTo>
                      <a:lnTo>
                        <a:pt x="402" y="84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107200" y="1554120"/>
                  <a:ext cx="128880" cy="32040"/>
                </a:xfrm>
                <a:custGeom>
                  <a:avLst/>
                  <a:gdLst/>
                  <a:ahLst/>
                  <a:rect l="0" t="0" r="r" b="b"/>
                  <a:pathLst>
                    <a:path w="358" h="89">
                      <a:moveTo>
                        <a:pt x="358" y="0"/>
                      </a:moveTo>
                      <a:lnTo>
                        <a:pt x="358" y="79"/>
                      </a:lnTo>
                      <a:lnTo>
                        <a:pt x="0" y="89"/>
                      </a:lnTo>
                      <a:lnTo>
                        <a:pt x="0" y="9"/>
                      </a:lnTo>
                      <a:lnTo>
                        <a:pt x="3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115480" y="1305000"/>
                  <a:ext cx="132120" cy="33840"/>
                </a:xfrm>
                <a:custGeom>
                  <a:avLst/>
                  <a:gdLst/>
                  <a:ahLst/>
                  <a:rect l="0" t="0" r="r" b="b"/>
                  <a:pathLst>
                    <a:path w="367" h="94">
                      <a:moveTo>
                        <a:pt x="367" y="0"/>
                      </a:moveTo>
                      <a:lnTo>
                        <a:pt x="362" y="84"/>
                      </a:lnTo>
                      <a:lnTo>
                        <a:pt x="0" y="94"/>
                      </a:lnTo>
                      <a:lnTo>
                        <a:pt x="0" y="10"/>
                      </a:lnTo>
                      <a:lnTo>
                        <a:pt x="36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300880" y="1305000"/>
                  <a:ext cx="151200" cy="33840"/>
                </a:xfrm>
                <a:custGeom>
                  <a:avLst/>
                  <a:gdLst/>
                  <a:ahLst/>
                  <a:rect l="0" t="0" r="r" b="b"/>
                  <a:pathLst>
                    <a:path w="420" h="94">
                      <a:moveTo>
                        <a:pt x="4" y="26"/>
                      </a:moveTo>
                      <a:lnTo>
                        <a:pt x="0" y="94"/>
                      </a:lnTo>
                      <a:lnTo>
                        <a:pt x="412" y="68"/>
                      </a:lnTo>
                      <a:lnTo>
                        <a:pt x="420" y="0"/>
                      </a:lnTo>
                      <a:lnTo>
                        <a:pt x="4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251920" y="2365200"/>
                  <a:ext cx="124200" cy="32040"/>
                </a:xfrm>
                <a:custGeom>
                  <a:avLst/>
                  <a:gdLst/>
                  <a:ahLst/>
                  <a:rect l="0" t="0" r="r" b="b"/>
                  <a:pathLst>
                    <a:path w="345" h="89">
                      <a:moveTo>
                        <a:pt x="0" y="53"/>
                      </a:moveTo>
                      <a:lnTo>
                        <a:pt x="345" y="89"/>
                      </a:lnTo>
                      <a:lnTo>
                        <a:pt x="345" y="17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089920" y="2355840"/>
                  <a:ext cx="113040" cy="33840"/>
                </a:xfrm>
                <a:custGeom>
                  <a:avLst/>
                  <a:gdLst/>
                  <a:ahLst/>
                  <a:rect l="0" t="0" r="r" b="b"/>
                  <a:pathLst>
                    <a:path w="314" h="94">
                      <a:moveTo>
                        <a:pt x="314" y="94"/>
                      </a:moveTo>
                      <a:lnTo>
                        <a:pt x="301" y="94"/>
                      </a:lnTo>
                      <a:lnTo>
                        <a:pt x="265" y="94"/>
                      </a:lnTo>
                      <a:lnTo>
                        <a:pt x="216" y="86"/>
                      </a:lnTo>
                      <a:lnTo>
                        <a:pt x="154" y="79"/>
                      </a:lnTo>
                      <a:lnTo>
                        <a:pt x="101" y="79"/>
                      </a:lnTo>
                      <a:lnTo>
                        <a:pt x="48" y="62"/>
                      </a:lnTo>
                      <a:lnTo>
                        <a:pt x="16" y="62"/>
                      </a:lnTo>
                      <a:lnTo>
                        <a:pt x="0" y="62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48" y="0"/>
                      </a:lnTo>
                      <a:lnTo>
                        <a:pt x="101" y="15"/>
                      </a:lnTo>
                      <a:lnTo>
                        <a:pt x="154" y="15"/>
                      </a:lnTo>
                      <a:lnTo>
                        <a:pt x="216" y="24"/>
                      </a:lnTo>
                      <a:lnTo>
                        <a:pt x="265" y="31"/>
                      </a:lnTo>
                      <a:lnTo>
                        <a:pt x="301" y="31"/>
                      </a:lnTo>
                      <a:lnTo>
                        <a:pt x="314" y="31"/>
                      </a:lnTo>
                      <a:lnTo>
                        <a:pt x="314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288280" y="1585800"/>
                  <a:ext cx="141480" cy="35280"/>
                </a:xfrm>
                <a:custGeom>
                  <a:avLst/>
                  <a:gdLst/>
                  <a:ahLst/>
                  <a:rect l="0" t="0" r="r" b="b"/>
                  <a:pathLst>
                    <a:path w="393" h="98">
                      <a:moveTo>
                        <a:pt x="0" y="98"/>
                      </a:moveTo>
                      <a:lnTo>
                        <a:pt x="4" y="10"/>
                      </a:lnTo>
                      <a:lnTo>
                        <a:pt x="393" y="0"/>
                      </a:lnTo>
                      <a:lnTo>
                        <a:pt x="393" y="76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8105760" y="1674720"/>
                  <a:ext cx="125640" cy="32040"/>
                </a:xfrm>
                <a:custGeom>
                  <a:avLst/>
                  <a:gdLst/>
                  <a:ahLst/>
                  <a:rect l="0" t="0" r="r" b="b"/>
                  <a:pathLst>
                    <a:path w="349" h="89">
                      <a:moveTo>
                        <a:pt x="349" y="0"/>
                      </a:moveTo>
                      <a:lnTo>
                        <a:pt x="349" y="79"/>
                      </a:lnTo>
                      <a:lnTo>
                        <a:pt x="0" y="89"/>
                      </a:lnTo>
                      <a:lnTo>
                        <a:pt x="0" y="9"/>
                      </a:lnTo>
                      <a:lnTo>
                        <a:pt x="3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283600" y="1724040"/>
                  <a:ext cx="138600" cy="32040"/>
                </a:xfrm>
                <a:custGeom>
                  <a:avLst/>
                  <a:gdLst/>
                  <a:ahLst/>
                  <a:rect l="0" t="0" r="r" b="b"/>
                  <a:pathLst>
                    <a:path w="385" h="89">
                      <a:moveTo>
                        <a:pt x="0" y="89"/>
                      </a:moveTo>
                      <a:lnTo>
                        <a:pt x="0" y="9"/>
                      </a:lnTo>
                      <a:lnTo>
                        <a:pt x="385" y="0"/>
                      </a:lnTo>
                      <a:lnTo>
                        <a:pt x="385" y="7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8102520" y="1792440"/>
                  <a:ext cx="122400" cy="33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275680" y="1854360"/>
                  <a:ext cx="140040" cy="33840"/>
                </a:xfrm>
                <a:custGeom>
                  <a:avLst/>
                  <a:gdLst/>
                  <a:ahLst/>
                  <a:rect l="0" t="0" r="r" b="b"/>
                  <a:pathLst>
                    <a:path w="389" h="9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389" y="10"/>
                      </a:lnTo>
                      <a:lnTo>
                        <a:pt x="380" y="94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097840" y="1914480"/>
                  <a:ext cx="125640" cy="33840"/>
                </a:xfrm>
                <a:custGeom>
                  <a:avLst/>
                  <a:gdLst/>
                  <a:ahLst/>
                  <a:rect l="0" t="0" r="r" b="b"/>
                  <a:pathLst>
                    <a:path w="349" h="94">
                      <a:moveTo>
                        <a:pt x="349" y="94"/>
                      </a:moveTo>
                      <a:lnTo>
                        <a:pt x="349" y="0"/>
                      </a:lnTo>
                      <a:lnTo>
                        <a:pt x="0" y="0"/>
                      </a:lnTo>
                      <a:lnTo>
                        <a:pt x="0" y="83"/>
                      </a:lnTo>
                      <a:lnTo>
                        <a:pt x="349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178840" y="1230480"/>
                  <a:ext cx="109800" cy="1281600"/>
                </a:xfrm>
                <a:custGeom>
                  <a:avLst/>
                  <a:gdLst/>
                  <a:ahLst/>
                  <a:rect l="0" t="0" r="r" b="b"/>
                  <a:pathLst>
                    <a:path w="305" h="3560">
                      <a:moveTo>
                        <a:pt x="227" y="437"/>
                      </a:moveTo>
                      <a:lnTo>
                        <a:pt x="243" y="27"/>
                      </a:lnTo>
                      <a:lnTo>
                        <a:pt x="247" y="15"/>
                      </a:lnTo>
                      <a:lnTo>
                        <a:pt x="255" y="3"/>
                      </a:lnTo>
                      <a:lnTo>
                        <a:pt x="264" y="0"/>
                      </a:lnTo>
                      <a:lnTo>
                        <a:pt x="276" y="0"/>
                      </a:lnTo>
                      <a:lnTo>
                        <a:pt x="288" y="0"/>
                      </a:lnTo>
                      <a:lnTo>
                        <a:pt x="297" y="3"/>
                      </a:lnTo>
                      <a:lnTo>
                        <a:pt x="305" y="15"/>
                      </a:lnTo>
                      <a:lnTo>
                        <a:pt x="305" y="27"/>
                      </a:lnTo>
                      <a:lnTo>
                        <a:pt x="280" y="429"/>
                      </a:lnTo>
                      <a:lnTo>
                        <a:pt x="143" y="3332"/>
                      </a:lnTo>
                      <a:lnTo>
                        <a:pt x="177" y="3347"/>
                      </a:lnTo>
                      <a:lnTo>
                        <a:pt x="206" y="3371"/>
                      </a:lnTo>
                      <a:lnTo>
                        <a:pt x="223" y="3405"/>
                      </a:lnTo>
                      <a:lnTo>
                        <a:pt x="227" y="3440"/>
                      </a:lnTo>
                      <a:lnTo>
                        <a:pt x="218" y="3487"/>
                      </a:lnTo>
                      <a:lnTo>
                        <a:pt x="194" y="3521"/>
                      </a:lnTo>
                      <a:lnTo>
                        <a:pt x="161" y="3549"/>
                      </a:lnTo>
                      <a:lnTo>
                        <a:pt x="119" y="3560"/>
                      </a:lnTo>
                      <a:lnTo>
                        <a:pt x="69" y="3549"/>
                      </a:lnTo>
                      <a:lnTo>
                        <a:pt x="32" y="3521"/>
                      </a:lnTo>
                      <a:lnTo>
                        <a:pt x="8" y="3487"/>
                      </a:lnTo>
                      <a:lnTo>
                        <a:pt x="0" y="3440"/>
                      </a:lnTo>
                      <a:lnTo>
                        <a:pt x="4" y="3405"/>
                      </a:lnTo>
                      <a:lnTo>
                        <a:pt x="24" y="3371"/>
                      </a:lnTo>
                      <a:lnTo>
                        <a:pt x="57" y="3347"/>
                      </a:lnTo>
                      <a:lnTo>
                        <a:pt x="94" y="3332"/>
                      </a:lnTo>
                      <a:lnTo>
                        <a:pt x="227" y="4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"/>
              <p:cNvSpPr/>
              <p:nvPr/>
            </p:nvSpPr>
            <p:spPr>
              <a:xfrm>
                <a:off x="8172360" y="939960"/>
                <a:ext cx="51120" cy="76680"/>
              </a:xfrm>
              <a:custGeom>
                <a:avLst/>
                <a:gdLst/>
                <a:ahLst/>
                <a:rect l="0" t="0" r="r" b="b"/>
                <a:pathLst>
                  <a:path w="142" h="213">
                    <a:moveTo>
                      <a:pt x="129" y="0"/>
                    </a:moveTo>
                    <a:lnTo>
                      <a:pt x="66" y="47"/>
                    </a:lnTo>
                    <a:lnTo>
                      <a:pt x="41" y="104"/>
                    </a:lnTo>
                    <a:lnTo>
                      <a:pt x="70" y="165"/>
                    </a:lnTo>
                    <a:lnTo>
                      <a:pt x="142" y="213"/>
                    </a:lnTo>
                    <a:lnTo>
                      <a:pt x="66" y="185"/>
                    </a:lnTo>
                    <a:lnTo>
                      <a:pt x="16" y="152"/>
                    </a:lnTo>
                    <a:lnTo>
                      <a:pt x="0" y="120"/>
                    </a:lnTo>
                    <a:lnTo>
                      <a:pt x="4" y="84"/>
                    </a:lnTo>
                    <a:lnTo>
                      <a:pt x="24" y="51"/>
                    </a:lnTo>
                    <a:lnTo>
                      <a:pt x="58" y="23"/>
                    </a:lnTo>
                    <a:lnTo>
                      <a:pt x="96" y="3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44000" y="979560"/>
                <a:ext cx="47880" cy="36720"/>
              </a:xfrm>
              <a:custGeom>
                <a:avLst/>
                <a:gdLst/>
                <a:ahLst/>
                <a:rect l="0" t="0" r="r" b="b"/>
                <a:pathLst>
                  <a:path w="133" h="102">
                    <a:moveTo>
                      <a:pt x="0" y="102"/>
                    </a:moveTo>
                    <a:lnTo>
                      <a:pt x="64" y="102"/>
                    </a:lnTo>
                    <a:lnTo>
                      <a:pt x="111" y="78"/>
                    </a:lnTo>
                    <a:lnTo>
                      <a:pt x="133" y="40"/>
                    </a:lnTo>
                    <a:lnTo>
                      <a:pt x="124" y="0"/>
                    </a:lnTo>
                    <a:lnTo>
                      <a:pt x="111" y="32"/>
                    </a:lnTo>
                    <a:lnTo>
                      <a:pt x="94" y="57"/>
                    </a:lnTo>
                    <a:lnTo>
                      <a:pt x="59" y="7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8050320" y="822240"/>
                <a:ext cx="527400" cy="163800"/>
                <a:chOff x="8050320" y="822240"/>
                <a:chExt cx="527400" cy="1638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8050320" y="822240"/>
                  <a:ext cx="527400" cy="163800"/>
                </a:xfrm>
                <a:custGeom>
                  <a:avLst/>
                  <a:gdLst/>
                  <a:ahLst/>
                  <a:rect l="0" t="0" r="r" b="b"/>
                  <a:pathLst>
                    <a:path w="1465" h="455">
                      <a:moveTo>
                        <a:pt x="1114" y="42"/>
                      </a:moveTo>
                      <a:lnTo>
                        <a:pt x="1073" y="19"/>
                      </a:lnTo>
                      <a:lnTo>
                        <a:pt x="1016" y="11"/>
                      </a:lnTo>
                      <a:lnTo>
                        <a:pt x="934" y="0"/>
                      </a:lnTo>
                      <a:lnTo>
                        <a:pt x="845" y="0"/>
                      </a:lnTo>
                      <a:lnTo>
                        <a:pt x="751" y="0"/>
                      </a:lnTo>
                      <a:lnTo>
                        <a:pt x="668" y="11"/>
                      </a:lnTo>
                      <a:lnTo>
                        <a:pt x="611" y="19"/>
                      </a:lnTo>
                      <a:lnTo>
                        <a:pt x="579" y="34"/>
                      </a:lnTo>
                      <a:lnTo>
                        <a:pt x="546" y="96"/>
                      </a:lnTo>
                      <a:lnTo>
                        <a:pt x="517" y="92"/>
                      </a:lnTo>
                      <a:lnTo>
                        <a:pt x="493" y="96"/>
                      </a:lnTo>
                      <a:lnTo>
                        <a:pt x="468" y="100"/>
                      </a:lnTo>
                      <a:lnTo>
                        <a:pt x="444" y="111"/>
                      </a:lnTo>
                      <a:lnTo>
                        <a:pt x="424" y="30"/>
                      </a:lnTo>
                      <a:lnTo>
                        <a:pt x="395" y="19"/>
                      </a:lnTo>
                      <a:lnTo>
                        <a:pt x="346" y="11"/>
                      </a:lnTo>
                      <a:lnTo>
                        <a:pt x="281" y="3"/>
                      </a:lnTo>
                      <a:lnTo>
                        <a:pt x="212" y="3"/>
                      </a:lnTo>
                      <a:lnTo>
                        <a:pt x="146" y="11"/>
                      </a:lnTo>
                      <a:lnTo>
                        <a:pt x="89" y="11"/>
                      </a:lnTo>
                      <a:lnTo>
                        <a:pt x="44" y="19"/>
                      </a:lnTo>
                      <a:lnTo>
                        <a:pt x="24" y="30"/>
                      </a:lnTo>
                      <a:lnTo>
                        <a:pt x="0" y="111"/>
                      </a:lnTo>
                      <a:lnTo>
                        <a:pt x="12" y="215"/>
                      </a:lnTo>
                      <a:lnTo>
                        <a:pt x="40" y="316"/>
                      </a:lnTo>
                      <a:lnTo>
                        <a:pt x="81" y="374"/>
                      </a:lnTo>
                      <a:lnTo>
                        <a:pt x="106" y="382"/>
                      </a:lnTo>
                      <a:lnTo>
                        <a:pt x="130" y="393"/>
                      </a:lnTo>
                      <a:lnTo>
                        <a:pt x="163" y="405"/>
                      </a:lnTo>
                      <a:lnTo>
                        <a:pt x="195" y="409"/>
                      </a:lnTo>
                      <a:lnTo>
                        <a:pt x="232" y="412"/>
                      </a:lnTo>
                      <a:lnTo>
                        <a:pt x="269" y="412"/>
                      </a:lnTo>
                      <a:lnTo>
                        <a:pt x="309" y="409"/>
                      </a:lnTo>
                      <a:lnTo>
                        <a:pt x="342" y="397"/>
                      </a:lnTo>
                      <a:lnTo>
                        <a:pt x="395" y="351"/>
                      </a:lnTo>
                      <a:lnTo>
                        <a:pt x="428" y="293"/>
                      </a:lnTo>
                      <a:lnTo>
                        <a:pt x="448" y="239"/>
                      </a:lnTo>
                      <a:lnTo>
                        <a:pt x="452" y="219"/>
                      </a:lnTo>
                      <a:lnTo>
                        <a:pt x="477" y="215"/>
                      </a:lnTo>
                      <a:lnTo>
                        <a:pt x="509" y="215"/>
                      </a:lnTo>
                      <a:lnTo>
                        <a:pt x="534" y="219"/>
                      </a:lnTo>
                      <a:lnTo>
                        <a:pt x="562" y="235"/>
                      </a:lnTo>
                      <a:lnTo>
                        <a:pt x="575" y="262"/>
                      </a:lnTo>
                      <a:lnTo>
                        <a:pt x="599" y="312"/>
                      </a:lnTo>
                      <a:lnTo>
                        <a:pt x="644" y="378"/>
                      </a:lnTo>
                      <a:lnTo>
                        <a:pt x="697" y="424"/>
                      </a:lnTo>
                      <a:lnTo>
                        <a:pt x="735" y="439"/>
                      </a:lnTo>
                      <a:lnTo>
                        <a:pt x="783" y="443"/>
                      </a:lnTo>
                      <a:lnTo>
                        <a:pt x="845" y="451"/>
                      </a:lnTo>
                      <a:lnTo>
                        <a:pt x="902" y="455"/>
                      </a:lnTo>
                      <a:lnTo>
                        <a:pt x="967" y="451"/>
                      </a:lnTo>
                      <a:lnTo>
                        <a:pt x="1020" y="443"/>
                      </a:lnTo>
                      <a:lnTo>
                        <a:pt x="1065" y="439"/>
                      </a:lnTo>
                      <a:lnTo>
                        <a:pt x="1089" y="428"/>
                      </a:lnTo>
                      <a:lnTo>
                        <a:pt x="1122" y="378"/>
                      </a:lnTo>
                      <a:lnTo>
                        <a:pt x="1138" y="301"/>
                      </a:lnTo>
                      <a:lnTo>
                        <a:pt x="1151" y="231"/>
                      </a:lnTo>
                      <a:lnTo>
                        <a:pt x="1155" y="200"/>
                      </a:lnTo>
                      <a:lnTo>
                        <a:pt x="1465" y="107"/>
                      </a:lnTo>
                      <a:lnTo>
                        <a:pt x="1465" y="0"/>
                      </a:lnTo>
                      <a:lnTo>
                        <a:pt x="1114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296200" y="839880"/>
                  <a:ext cx="100440" cy="130680"/>
                </a:xfrm>
                <a:custGeom>
                  <a:avLst/>
                  <a:gdLst/>
                  <a:ahLst/>
                  <a:rect l="0" t="0" r="r" b="b"/>
                  <a:pathLst>
                    <a:path w="279" h="363">
                      <a:moveTo>
                        <a:pt x="178" y="0"/>
                      </a:moveTo>
                      <a:lnTo>
                        <a:pt x="279" y="203"/>
                      </a:lnTo>
                      <a:lnTo>
                        <a:pt x="145" y="187"/>
                      </a:lnTo>
                      <a:lnTo>
                        <a:pt x="215" y="355"/>
                      </a:lnTo>
                      <a:lnTo>
                        <a:pt x="186" y="363"/>
                      </a:lnTo>
                      <a:lnTo>
                        <a:pt x="153" y="363"/>
                      </a:lnTo>
                      <a:lnTo>
                        <a:pt x="129" y="355"/>
                      </a:lnTo>
                      <a:lnTo>
                        <a:pt x="97" y="351"/>
                      </a:lnTo>
                      <a:lnTo>
                        <a:pt x="0" y="109"/>
                      </a:lnTo>
                      <a:lnTo>
                        <a:pt x="117" y="117"/>
                      </a:lnTo>
                      <a:lnTo>
                        <a:pt x="56" y="11"/>
                      </a:lnTo>
                      <a:lnTo>
                        <a:pt x="85" y="3"/>
                      </a:lnTo>
                      <a:lnTo>
                        <a:pt x="117" y="3"/>
                      </a:lnTo>
                      <a:lnTo>
                        <a:pt x="149" y="0"/>
                      </a:lnTo>
                      <a:lnTo>
                        <a:pt x="17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078760" y="841320"/>
                  <a:ext cx="89280" cy="114840"/>
                </a:xfrm>
                <a:custGeom>
                  <a:avLst/>
                  <a:gdLst/>
                  <a:ahLst/>
                  <a:rect l="0" t="0" r="r" b="b"/>
                  <a:pathLst>
                    <a:path w="248" h="319">
                      <a:moveTo>
                        <a:pt x="154" y="0"/>
                      </a:moveTo>
                      <a:lnTo>
                        <a:pt x="248" y="182"/>
                      </a:lnTo>
                      <a:lnTo>
                        <a:pt x="130" y="167"/>
                      </a:lnTo>
                      <a:lnTo>
                        <a:pt x="188" y="319"/>
                      </a:lnTo>
                      <a:lnTo>
                        <a:pt x="166" y="319"/>
                      </a:lnTo>
                      <a:lnTo>
                        <a:pt x="138" y="319"/>
                      </a:lnTo>
                      <a:lnTo>
                        <a:pt x="118" y="315"/>
                      </a:lnTo>
                      <a:lnTo>
                        <a:pt x="90" y="311"/>
                      </a:lnTo>
                      <a:lnTo>
                        <a:pt x="0" y="93"/>
                      </a:lnTo>
                      <a:lnTo>
                        <a:pt x="114" y="105"/>
                      </a:lnTo>
                      <a:lnTo>
                        <a:pt x="52" y="11"/>
                      </a:lnTo>
                      <a:lnTo>
                        <a:pt x="73" y="7"/>
                      </a:lnTo>
                      <a:lnTo>
                        <a:pt x="102" y="7"/>
                      </a:lnTo>
                      <a:lnTo>
                        <a:pt x="134" y="0"/>
                      </a:lnTo>
                      <a:lnTo>
                        <a:pt x="15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8139240" y="107640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8137440" y="1471680"/>
              <a:ext cx="146520" cy="1035360"/>
            </a:xfrm>
            <a:custGeom>
              <a:avLst/>
              <a:gdLst/>
              <a:ahLst/>
              <a:rect l="0" t="0" r="r" b="b"/>
              <a:pathLst>
                <a:path w="407" h="2876">
                  <a:moveTo>
                    <a:pt x="407" y="0"/>
                  </a:moveTo>
                  <a:lnTo>
                    <a:pt x="247" y="2665"/>
                  </a:lnTo>
                  <a:lnTo>
                    <a:pt x="310" y="2675"/>
                  </a:lnTo>
                  <a:lnTo>
                    <a:pt x="359" y="2695"/>
                  </a:lnTo>
                  <a:lnTo>
                    <a:pt x="390" y="2725"/>
                  </a:lnTo>
                  <a:lnTo>
                    <a:pt x="398" y="2760"/>
                  </a:lnTo>
                  <a:lnTo>
                    <a:pt x="385" y="2800"/>
                  </a:lnTo>
                  <a:lnTo>
                    <a:pt x="341" y="2835"/>
                  </a:lnTo>
                  <a:lnTo>
                    <a:pt x="283" y="2861"/>
                  </a:lnTo>
                  <a:lnTo>
                    <a:pt x="212" y="2876"/>
                  </a:lnTo>
                  <a:lnTo>
                    <a:pt x="124" y="2871"/>
                  </a:lnTo>
                  <a:lnTo>
                    <a:pt x="57" y="2846"/>
                  </a:lnTo>
                  <a:lnTo>
                    <a:pt x="13" y="2815"/>
                  </a:lnTo>
                  <a:lnTo>
                    <a:pt x="0" y="2775"/>
                  </a:lnTo>
                  <a:lnTo>
                    <a:pt x="4" y="2740"/>
                  </a:lnTo>
                  <a:lnTo>
                    <a:pt x="39" y="2710"/>
                  </a:lnTo>
                  <a:lnTo>
                    <a:pt x="97" y="2685"/>
                  </a:lnTo>
                  <a:lnTo>
                    <a:pt x="164" y="2670"/>
                  </a:lnTo>
                  <a:lnTo>
                    <a:pt x="310" y="10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111480" y="2125800"/>
            <a:ext cx="2491200" cy="4110120"/>
            <a:chOff x="3111480" y="2125800"/>
            <a:chExt cx="2491200" cy="4110120"/>
          </a:xfrm>
        </p:grpSpPr>
        <p:grpSp>
          <p:nvGrpSpPr>
            <p:cNvPr id="98" name=""/>
            <p:cNvGrpSpPr/>
            <p:nvPr/>
          </p:nvGrpSpPr>
          <p:grpSpPr>
            <a:xfrm>
              <a:off x="3251160" y="2125800"/>
              <a:ext cx="2351520" cy="2845080"/>
              <a:chOff x="3251160" y="2125800"/>
              <a:chExt cx="2351520" cy="2845080"/>
            </a:xfrm>
          </p:grpSpPr>
          <p:sp>
            <p:nvSpPr>
              <p:cNvPr id="99" name=""/>
              <p:cNvSpPr/>
              <p:nvPr/>
            </p:nvSpPr>
            <p:spPr>
              <a:xfrm>
                <a:off x="3679920" y="3521160"/>
                <a:ext cx="827280" cy="1449720"/>
              </a:xfrm>
              <a:custGeom>
                <a:avLst/>
                <a:gdLst/>
                <a:ahLst/>
                <a:rect l="0" t="0" r="r" b="b"/>
                <a:pathLst>
                  <a:path w="2298" h="4027">
                    <a:moveTo>
                      <a:pt x="771" y="599"/>
                    </a:moveTo>
                    <a:lnTo>
                      <a:pt x="1053" y="299"/>
                    </a:lnTo>
                    <a:lnTo>
                      <a:pt x="1526" y="13"/>
                    </a:lnTo>
                    <a:lnTo>
                      <a:pt x="1738" y="0"/>
                    </a:lnTo>
                    <a:lnTo>
                      <a:pt x="2126" y="127"/>
                    </a:lnTo>
                    <a:lnTo>
                      <a:pt x="2298" y="317"/>
                    </a:lnTo>
                    <a:lnTo>
                      <a:pt x="2298" y="599"/>
                    </a:lnTo>
                    <a:lnTo>
                      <a:pt x="2011" y="1128"/>
                    </a:lnTo>
                    <a:lnTo>
                      <a:pt x="1698" y="1543"/>
                    </a:lnTo>
                    <a:lnTo>
                      <a:pt x="1566" y="1887"/>
                    </a:lnTo>
                    <a:lnTo>
                      <a:pt x="1482" y="2285"/>
                    </a:lnTo>
                    <a:lnTo>
                      <a:pt x="1566" y="2673"/>
                    </a:lnTo>
                    <a:lnTo>
                      <a:pt x="1654" y="3043"/>
                    </a:lnTo>
                    <a:lnTo>
                      <a:pt x="1654" y="3471"/>
                    </a:lnTo>
                    <a:lnTo>
                      <a:pt x="1526" y="3731"/>
                    </a:lnTo>
                    <a:lnTo>
                      <a:pt x="1240" y="3872"/>
                    </a:lnTo>
                    <a:lnTo>
                      <a:pt x="899" y="4027"/>
                    </a:lnTo>
                    <a:lnTo>
                      <a:pt x="582" y="4027"/>
                    </a:lnTo>
                    <a:lnTo>
                      <a:pt x="370" y="3912"/>
                    </a:lnTo>
                    <a:lnTo>
                      <a:pt x="88" y="3444"/>
                    </a:lnTo>
                    <a:lnTo>
                      <a:pt x="0" y="2959"/>
                    </a:lnTo>
                    <a:lnTo>
                      <a:pt x="30" y="2333"/>
                    </a:lnTo>
                    <a:lnTo>
                      <a:pt x="242" y="1543"/>
                    </a:lnTo>
                    <a:lnTo>
                      <a:pt x="454" y="1031"/>
                    </a:lnTo>
                    <a:lnTo>
                      <a:pt x="771" y="5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251160" y="2125800"/>
                <a:ext cx="933840" cy="1624320"/>
              </a:xfrm>
              <a:custGeom>
                <a:avLst/>
                <a:gdLst/>
                <a:ahLst/>
                <a:rect l="0" t="0" r="r" b="b"/>
                <a:pathLst>
                  <a:path w="2594" h="4512">
                    <a:moveTo>
                      <a:pt x="1650" y="3422"/>
                    </a:moveTo>
                    <a:lnTo>
                      <a:pt x="2078" y="3855"/>
                    </a:lnTo>
                    <a:lnTo>
                      <a:pt x="2250" y="3855"/>
                    </a:lnTo>
                    <a:lnTo>
                      <a:pt x="2537" y="4027"/>
                    </a:lnTo>
                    <a:lnTo>
                      <a:pt x="2594" y="4225"/>
                    </a:lnTo>
                    <a:lnTo>
                      <a:pt x="2511" y="4481"/>
                    </a:lnTo>
                    <a:lnTo>
                      <a:pt x="2281" y="4512"/>
                    </a:lnTo>
                    <a:lnTo>
                      <a:pt x="1995" y="4309"/>
                    </a:lnTo>
                    <a:lnTo>
                      <a:pt x="1420" y="3766"/>
                    </a:lnTo>
                    <a:lnTo>
                      <a:pt x="1054" y="3255"/>
                    </a:lnTo>
                    <a:lnTo>
                      <a:pt x="882" y="2854"/>
                    </a:lnTo>
                    <a:lnTo>
                      <a:pt x="768" y="2169"/>
                    </a:lnTo>
                    <a:lnTo>
                      <a:pt x="768" y="1283"/>
                    </a:lnTo>
                    <a:lnTo>
                      <a:pt x="737" y="1058"/>
                    </a:lnTo>
                    <a:lnTo>
                      <a:pt x="568" y="886"/>
                    </a:lnTo>
                    <a:lnTo>
                      <a:pt x="79" y="912"/>
                    </a:lnTo>
                    <a:lnTo>
                      <a:pt x="0" y="829"/>
                    </a:lnTo>
                    <a:lnTo>
                      <a:pt x="110" y="771"/>
                    </a:lnTo>
                    <a:lnTo>
                      <a:pt x="454" y="740"/>
                    </a:lnTo>
                    <a:lnTo>
                      <a:pt x="511" y="683"/>
                    </a:lnTo>
                    <a:lnTo>
                      <a:pt x="22" y="396"/>
                    </a:lnTo>
                    <a:lnTo>
                      <a:pt x="22" y="286"/>
                    </a:lnTo>
                    <a:lnTo>
                      <a:pt x="110" y="260"/>
                    </a:lnTo>
                    <a:lnTo>
                      <a:pt x="511" y="485"/>
                    </a:lnTo>
                    <a:lnTo>
                      <a:pt x="599" y="454"/>
                    </a:lnTo>
                    <a:lnTo>
                      <a:pt x="511" y="30"/>
                    </a:lnTo>
                    <a:lnTo>
                      <a:pt x="568" y="0"/>
                    </a:lnTo>
                    <a:lnTo>
                      <a:pt x="626" y="30"/>
                    </a:lnTo>
                    <a:lnTo>
                      <a:pt x="737" y="454"/>
                    </a:lnTo>
                    <a:lnTo>
                      <a:pt x="825" y="485"/>
                    </a:lnTo>
                    <a:lnTo>
                      <a:pt x="1054" y="30"/>
                    </a:lnTo>
                    <a:lnTo>
                      <a:pt x="1112" y="30"/>
                    </a:lnTo>
                    <a:lnTo>
                      <a:pt x="1112" y="171"/>
                    </a:lnTo>
                    <a:lnTo>
                      <a:pt x="966" y="542"/>
                    </a:lnTo>
                    <a:lnTo>
                      <a:pt x="966" y="740"/>
                    </a:lnTo>
                    <a:lnTo>
                      <a:pt x="1024" y="1001"/>
                    </a:lnTo>
                    <a:lnTo>
                      <a:pt x="997" y="1340"/>
                    </a:lnTo>
                    <a:lnTo>
                      <a:pt x="1024" y="1966"/>
                    </a:lnTo>
                    <a:lnTo>
                      <a:pt x="1081" y="2369"/>
                    </a:lnTo>
                    <a:lnTo>
                      <a:pt x="1226" y="2827"/>
                    </a:lnTo>
                    <a:lnTo>
                      <a:pt x="1420" y="3171"/>
                    </a:lnTo>
                    <a:lnTo>
                      <a:pt x="1650" y="34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381560" y="2268360"/>
                <a:ext cx="1221120" cy="1521360"/>
              </a:xfrm>
              <a:custGeom>
                <a:avLst/>
                <a:gdLst/>
                <a:ahLst/>
                <a:rect l="0" t="0" r="r" b="b"/>
                <a:pathLst>
                  <a:path w="3392" h="4226">
                    <a:moveTo>
                      <a:pt x="57" y="3741"/>
                    </a:moveTo>
                    <a:lnTo>
                      <a:pt x="0" y="3939"/>
                    </a:lnTo>
                    <a:lnTo>
                      <a:pt x="57" y="4226"/>
                    </a:lnTo>
                    <a:lnTo>
                      <a:pt x="255" y="4226"/>
                    </a:lnTo>
                    <a:lnTo>
                      <a:pt x="855" y="4111"/>
                    </a:lnTo>
                    <a:lnTo>
                      <a:pt x="1512" y="3882"/>
                    </a:lnTo>
                    <a:lnTo>
                      <a:pt x="2051" y="3512"/>
                    </a:lnTo>
                    <a:lnTo>
                      <a:pt x="2369" y="3026"/>
                    </a:lnTo>
                    <a:lnTo>
                      <a:pt x="2651" y="2197"/>
                    </a:lnTo>
                    <a:lnTo>
                      <a:pt x="2735" y="1429"/>
                    </a:lnTo>
                    <a:lnTo>
                      <a:pt x="2735" y="1059"/>
                    </a:lnTo>
                    <a:lnTo>
                      <a:pt x="2880" y="829"/>
                    </a:lnTo>
                    <a:lnTo>
                      <a:pt x="3136" y="740"/>
                    </a:lnTo>
                    <a:lnTo>
                      <a:pt x="3365" y="740"/>
                    </a:lnTo>
                    <a:lnTo>
                      <a:pt x="3392" y="626"/>
                    </a:lnTo>
                    <a:lnTo>
                      <a:pt x="3052" y="657"/>
                    </a:lnTo>
                    <a:lnTo>
                      <a:pt x="2995" y="568"/>
                    </a:lnTo>
                    <a:lnTo>
                      <a:pt x="3277" y="260"/>
                    </a:lnTo>
                    <a:lnTo>
                      <a:pt x="3220" y="171"/>
                    </a:lnTo>
                    <a:lnTo>
                      <a:pt x="3162" y="229"/>
                    </a:lnTo>
                    <a:lnTo>
                      <a:pt x="2937" y="454"/>
                    </a:lnTo>
                    <a:lnTo>
                      <a:pt x="2880" y="454"/>
                    </a:lnTo>
                    <a:lnTo>
                      <a:pt x="2880" y="57"/>
                    </a:lnTo>
                    <a:lnTo>
                      <a:pt x="2823" y="0"/>
                    </a:lnTo>
                    <a:lnTo>
                      <a:pt x="2735" y="30"/>
                    </a:lnTo>
                    <a:lnTo>
                      <a:pt x="2765" y="454"/>
                    </a:lnTo>
                    <a:lnTo>
                      <a:pt x="2708" y="485"/>
                    </a:lnTo>
                    <a:lnTo>
                      <a:pt x="2479" y="260"/>
                    </a:lnTo>
                    <a:lnTo>
                      <a:pt x="2311" y="229"/>
                    </a:lnTo>
                    <a:lnTo>
                      <a:pt x="2338" y="343"/>
                    </a:lnTo>
                    <a:lnTo>
                      <a:pt x="2593" y="599"/>
                    </a:lnTo>
                    <a:lnTo>
                      <a:pt x="2593" y="740"/>
                    </a:lnTo>
                    <a:lnTo>
                      <a:pt x="2505" y="1031"/>
                    </a:lnTo>
                    <a:lnTo>
                      <a:pt x="2505" y="1284"/>
                    </a:lnTo>
                    <a:lnTo>
                      <a:pt x="2505" y="1716"/>
                    </a:lnTo>
                    <a:lnTo>
                      <a:pt x="2391" y="2258"/>
                    </a:lnTo>
                    <a:lnTo>
                      <a:pt x="2280" y="2598"/>
                    </a:lnTo>
                    <a:lnTo>
                      <a:pt x="2082" y="3026"/>
                    </a:lnTo>
                    <a:lnTo>
                      <a:pt x="1853" y="3366"/>
                    </a:lnTo>
                    <a:lnTo>
                      <a:pt x="1684" y="3543"/>
                    </a:lnTo>
                    <a:lnTo>
                      <a:pt x="1225" y="3684"/>
                    </a:lnTo>
                    <a:lnTo>
                      <a:pt x="798" y="3741"/>
                    </a:lnTo>
                    <a:lnTo>
                      <a:pt x="366" y="3798"/>
                    </a:lnTo>
                    <a:lnTo>
                      <a:pt x="57" y="3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4114800" y="4772160"/>
              <a:ext cx="460800" cy="1414800"/>
            </a:xfrm>
            <a:custGeom>
              <a:avLst/>
              <a:gdLst/>
              <a:ahLst/>
              <a:rect l="0" t="0" r="r" b="b"/>
              <a:pathLst>
                <a:path w="1280" h="3930">
                  <a:moveTo>
                    <a:pt x="233" y="449"/>
                  </a:moveTo>
                  <a:lnTo>
                    <a:pt x="66" y="189"/>
                  </a:lnTo>
                  <a:lnTo>
                    <a:pt x="123" y="0"/>
                  </a:lnTo>
                  <a:lnTo>
                    <a:pt x="291" y="0"/>
                  </a:lnTo>
                  <a:lnTo>
                    <a:pt x="486" y="207"/>
                  </a:lnTo>
                  <a:lnTo>
                    <a:pt x="737" y="643"/>
                  </a:lnTo>
                  <a:lnTo>
                    <a:pt x="874" y="1062"/>
                  </a:lnTo>
                  <a:lnTo>
                    <a:pt x="998" y="1464"/>
                  </a:lnTo>
                  <a:lnTo>
                    <a:pt x="1042" y="1834"/>
                  </a:lnTo>
                  <a:lnTo>
                    <a:pt x="1029" y="2029"/>
                  </a:lnTo>
                  <a:lnTo>
                    <a:pt x="904" y="2267"/>
                  </a:lnTo>
                  <a:lnTo>
                    <a:pt x="697" y="2915"/>
                  </a:lnTo>
                  <a:lnTo>
                    <a:pt x="459" y="3286"/>
                  </a:lnTo>
                  <a:lnTo>
                    <a:pt x="402" y="3444"/>
                  </a:lnTo>
                  <a:lnTo>
                    <a:pt x="627" y="3475"/>
                  </a:lnTo>
                  <a:lnTo>
                    <a:pt x="918" y="3475"/>
                  </a:lnTo>
                  <a:lnTo>
                    <a:pt x="1280" y="3625"/>
                  </a:lnTo>
                  <a:lnTo>
                    <a:pt x="1254" y="3736"/>
                  </a:lnTo>
                  <a:lnTo>
                    <a:pt x="1197" y="3868"/>
                  </a:lnTo>
                  <a:lnTo>
                    <a:pt x="1086" y="3930"/>
                  </a:lnTo>
                  <a:lnTo>
                    <a:pt x="865" y="3833"/>
                  </a:lnTo>
                  <a:lnTo>
                    <a:pt x="627" y="3691"/>
                  </a:lnTo>
                  <a:lnTo>
                    <a:pt x="291" y="3674"/>
                  </a:lnTo>
                  <a:lnTo>
                    <a:pt x="83" y="3722"/>
                  </a:lnTo>
                  <a:lnTo>
                    <a:pt x="0" y="3643"/>
                  </a:lnTo>
                  <a:lnTo>
                    <a:pt x="0" y="3524"/>
                  </a:lnTo>
                  <a:lnTo>
                    <a:pt x="110" y="3396"/>
                  </a:lnTo>
                  <a:lnTo>
                    <a:pt x="291" y="3189"/>
                  </a:lnTo>
                  <a:lnTo>
                    <a:pt x="613" y="2655"/>
                  </a:lnTo>
                  <a:lnTo>
                    <a:pt x="750" y="2188"/>
                  </a:lnTo>
                  <a:lnTo>
                    <a:pt x="790" y="1741"/>
                  </a:lnTo>
                  <a:lnTo>
                    <a:pt x="781" y="1494"/>
                  </a:lnTo>
                  <a:lnTo>
                    <a:pt x="666" y="1062"/>
                  </a:lnTo>
                  <a:lnTo>
                    <a:pt x="375" y="595"/>
                  </a:lnTo>
                  <a:lnTo>
                    <a:pt x="167" y="357"/>
                  </a:lnTo>
                  <a:lnTo>
                    <a:pt x="233" y="4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11480" y="4676760"/>
              <a:ext cx="676800" cy="1559160"/>
            </a:xfrm>
            <a:custGeom>
              <a:avLst/>
              <a:gdLst/>
              <a:ahLst/>
              <a:rect l="0" t="0" r="r" b="b"/>
              <a:pathLst>
                <a:path w="1880" h="4331">
                  <a:moveTo>
                    <a:pt x="1099" y="754"/>
                  </a:moveTo>
                  <a:lnTo>
                    <a:pt x="1376" y="335"/>
                  </a:lnTo>
                  <a:lnTo>
                    <a:pt x="1629" y="0"/>
                  </a:lnTo>
                  <a:lnTo>
                    <a:pt x="1796" y="30"/>
                  </a:lnTo>
                  <a:lnTo>
                    <a:pt x="1880" y="176"/>
                  </a:lnTo>
                  <a:lnTo>
                    <a:pt x="1880" y="436"/>
                  </a:lnTo>
                  <a:lnTo>
                    <a:pt x="1726" y="582"/>
                  </a:lnTo>
                  <a:lnTo>
                    <a:pt x="1461" y="771"/>
                  </a:lnTo>
                  <a:lnTo>
                    <a:pt x="1253" y="1014"/>
                  </a:lnTo>
                  <a:lnTo>
                    <a:pt x="1015" y="1336"/>
                  </a:lnTo>
                  <a:lnTo>
                    <a:pt x="918" y="1574"/>
                  </a:lnTo>
                  <a:lnTo>
                    <a:pt x="807" y="1869"/>
                  </a:lnTo>
                  <a:lnTo>
                    <a:pt x="750" y="2254"/>
                  </a:lnTo>
                  <a:lnTo>
                    <a:pt x="750" y="2611"/>
                  </a:lnTo>
                  <a:lnTo>
                    <a:pt x="807" y="3043"/>
                  </a:lnTo>
                  <a:lnTo>
                    <a:pt x="957" y="3462"/>
                  </a:lnTo>
                  <a:lnTo>
                    <a:pt x="1081" y="3700"/>
                  </a:lnTo>
                  <a:lnTo>
                    <a:pt x="1169" y="3863"/>
                  </a:lnTo>
                  <a:lnTo>
                    <a:pt x="1169" y="3996"/>
                  </a:lnTo>
                  <a:lnTo>
                    <a:pt x="1081" y="4044"/>
                  </a:lnTo>
                  <a:lnTo>
                    <a:pt x="891" y="4044"/>
                  </a:lnTo>
                  <a:lnTo>
                    <a:pt x="583" y="4106"/>
                  </a:lnTo>
                  <a:lnTo>
                    <a:pt x="348" y="4203"/>
                  </a:lnTo>
                  <a:lnTo>
                    <a:pt x="207" y="4331"/>
                  </a:lnTo>
                  <a:lnTo>
                    <a:pt x="83" y="4282"/>
                  </a:lnTo>
                  <a:lnTo>
                    <a:pt x="0" y="4106"/>
                  </a:lnTo>
                  <a:lnTo>
                    <a:pt x="13" y="3960"/>
                  </a:lnTo>
                  <a:lnTo>
                    <a:pt x="246" y="3846"/>
                  </a:lnTo>
                  <a:lnTo>
                    <a:pt x="622" y="3815"/>
                  </a:lnTo>
                  <a:lnTo>
                    <a:pt x="971" y="3815"/>
                  </a:lnTo>
                  <a:lnTo>
                    <a:pt x="834" y="3621"/>
                  </a:lnTo>
                  <a:lnTo>
                    <a:pt x="763" y="3383"/>
                  </a:lnTo>
                  <a:lnTo>
                    <a:pt x="666" y="3043"/>
                  </a:lnTo>
                  <a:lnTo>
                    <a:pt x="556" y="2690"/>
                  </a:lnTo>
                  <a:lnTo>
                    <a:pt x="556" y="2272"/>
                  </a:lnTo>
                  <a:lnTo>
                    <a:pt x="583" y="1869"/>
                  </a:lnTo>
                  <a:lnTo>
                    <a:pt x="706" y="1494"/>
                  </a:lnTo>
                  <a:lnTo>
                    <a:pt x="931" y="1014"/>
                  </a:lnTo>
                  <a:lnTo>
                    <a:pt x="1099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162320" y="2387520"/>
            <a:ext cx="1127520" cy="1232280"/>
            <a:chOff x="4162320" y="2387520"/>
            <a:chExt cx="1127520" cy="1232280"/>
          </a:xfrm>
        </p:grpSpPr>
        <p:sp>
          <p:nvSpPr>
            <p:cNvPr id="105" name=""/>
            <p:cNvSpPr/>
            <p:nvPr/>
          </p:nvSpPr>
          <p:spPr>
            <a:xfrm>
              <a:off x="4162320" y="2506680"/>
              <a:ext cx="1127520" cy="1113120"/>
            </a:xfrm>
            <a:custGeom>
              <a:avLst/>
              <a:gdLst/>
              <a:ahLst/>
              <a:rect l="0" t="0" r="r" b="b"/>
              <a:pathLst>
                <a:path w="3132" h="3092">
                  <a:moveTo>
                    <a:pt x="2064" y="1159"/>
                  </a:moveTo>
                  <a:lnTo>
                    <a:pt x="2095" y="758"/>
                  </a:lnTo>
                  <a:lnTo>
                    <a:pt x="1936" y="374"/>
                  </a:lnTo>
                  <a:lnTo>
                    <a:pt x="1659" y="114"/>
                  </a:lnTo>
                  <a:lnTo>
                    <a:pt x="1310" y="0"/>
                  </a:lnTo>
                  <a:lnTo>
                    <a:pt x="909" y="123"/>
                  </a:lnTo>
                  <a:lnTo>
                    <a:pt x="485" y="520"/>
                  </a:lnTo>
                  <a:lnTo>
                    <a:pt x="163" y="1164"/>
                  </a:lnTo>
                  <a:lnTo>
                    <a:pt x="0" y="1808"/>
                  </a:lnTo>
                  <a:lnTo>
                    <a:pt x="44" y="2258"/>
                  </a:lnTo>
                  <a:lnTo>
                    <a:pt x="233" y="2660"/>
                  </a:lnTo>
                  <a:lnTo>
                    <a:pt x="480" y="2937"/>
                  </a:lnTo>
                  <a:lnTo>
                    <a:pt x="940" y="3092"/>
                  </a:lnTo>
                  <a:lnTo>
                    <a:pt x="1218" y="2959"/>
                  </a:lnTo>
                  <a:lnTo>
                    <a:pt x="1579" y="2629"/>
                  </a:lnTo>
                  <a:lnTo>
                    <a:pt x="1306" y="2510"/>
                  </a:lnTo>
                  <a:lnTo>
                    <a:pt x="993" y="2219"/>
                  </a:lnTo>
                  <a:lnTo>
                    <a:pt x="754" y="1525"/>
                  </a:lnTo>
                  <a:lnTo>
                    <a:pt x="1182" y="1800"/>
                  </a:lnTo>
                  <a:lnTo>
                    <a:pt x="1438" y="1919"/>
                  </a:lnTo>
                  <a:lnTo>
                    <a:pt x="1906" y="2073"/>
                  </a:lnTo>
                  <a:lnTo>
                    <a:pt x="2108" y="1490"/>
                  </a:lnTo>
                  <a:lnTo>
                    <a:pt x="3031" y="1247"/>
                  </a:lnTo>
                  <a:lnTo>
                    <a:pt x="3132" y="1120"/>
                  </a:lnTo>
                  <a:lnTo>
                    <a:pt x="3084" y="930"/>
                  </a:lnTo>
                  <a:lnTo>
                    <a:pt x="2943" y="908"/>
                  </a:lnTo>
                  <a:lnTo>
                    <a:pt x="2064" y="115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81400" y="2387520"/>
              <a:ext cx="986040" cy="567000"/>
            </a:xfrm>
            <a:custGeom>
              <a:avLst/>
              <a:gdLst/>
              <a:ahLst/>
              <a:rect l="0" t="0" r="r" b="b"/>
              <a:pathLst>
                <a:path w="2739" h="1575">
                  <a:moveTo>
                    <a:pt x="789" y="560"/>
                  </a:moveTo>
                  <a:lnTo>
                    <a:pt x="1579" y="599"/>
                  </a:lnTo>
                  <a:lnTo>
                    <a:pt x="2316" y="790"/>
                  </a:lnTo>
                  <a:lnTo>
                    <a:pt x="2739" y="918"/>
                  </a:lnTo>
                  <a:lnTo>
                    <a:pt x="2426" y="498"/>
                  </a:lnTo>
                  <a:lnTo>
                    <a:pt x="1804" y="83"/>
                  </a:lnTo>
                  <a:lnTo>
                    <a:pt x="1314" y="0"/>
                  </a:lnTo>
                  <a:lnTo>
                    <a:pt x="833" y="145"/>
                  </a:lnTo>
                  <a:lnTo>
                    <a:pt x="687" y="414"/>
                  </a:lnTo>
                  <a:lnTo>
                    <a:pt x="392" y="326"/>
                  </a:lnTo>
                  <a:lnTo>
                    <a:pt x="88" y="643"/>
                  </a:lnTo>
                  <a:lnTo>
                    <a:pt x="0" y="1046"/>
                  </a:lnTo>
                  <a:lnTo>
                    <a:pt x="88" y="1562"/>
                  </a:lnTo>
                  <a:lnTo>
                    <a:pt x="171" y="1350"/>
                  </a:lnTo>
                  <a:lnTo>
                    <a:pt x="308" y="1407"/>
                  </a:lnTo>
                  <a:lnTo>
                    <a:pt x="427" y="1575"/>
                  </a:lnTo>
                  <a:lnTo>
                    <a:pt x="440" y="1231"/>
                  </a:lnTo>
                  <a:lnTo>
                    <a:pt x="784" y="1054"/>
                  </a:lnTo>
                  <a:lnTo>
                    <a:pt x="789" y="560"/>
                  </a:lnTo>
                  <a:close/>
                </a:path>
              </a:pathLst>
            </a:custGeom>
            <a:solidFill>
              <a:srgbClr val="cc990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630320" y="2690280"/>
              <a:ext cx="230040" cy="242640"/>
              <a:chOff x="4630320" y="2690280"/>
              <a:chExt cx="230040" cy="242640"/>
            </a:xfrm>
          </p:grpSpPr>
          <p:sp>
            <p:nvSpPr>
              <p:cNvPr id="108" name=""/>
              <p:cNvSpPr/>
              <p:nvPr/>
            </p:nvSpPr>
            <p:spPr>
              <a:xfrm>
                <a:off x="4630320" y="2690280"/>
                <a:ext cx="230040" cy="242640"/>
              </a:xfrm>
              <a:custGeom>
                <a:avLst/>
                <a:gdLst/>
                <a:ahLst/>
                <a:rect l="0" t="0" r="r" b="b"/>
                <a:pathLst>
                  <a:path w="639" h="674">
                    <a:moveTo>
                      <a:pt x="116" y="47"/>
                    </a:moveTo>
                    <a:lnTo>
                      <a:pt x="116" y="47"/>
                    </a:lnTo>
                    <a:cubicBezTo>
                      <a:pt x="73" y="77"/>
                      <a:pt x="40" y="121"/>
                      <a:pt x="21" y="172"/>
                    </a:cubicBezTo>
                    <a:cubicBezTo>
                      <a:pt x="1" y="224"/>
                      <a:pt x="-5" y="282"/>
                      <a:pt x="5" y="341"/>
                    </a:cubicBezTo>
                    <a:cubicBezTo>
                      <a:pt x="14" y="401"/>
                      <a:pt x="38" y="459"/>
                      <a:pt x="73" y="509"/>
                    </a:cubicBezTo>
                    <a:cubicBezTo>
                      <a:pt x="109" y="560"/>
                      <a:pt x="155" y="602"/>
                      <a:pt x="208" y="631"/>
                    </a:cubicBezTo>
                    <a:cubicBezTo>
                      <a:pt x="260" y="660"/>
                      <a:pt x="317" y="675"/>
                      <a:pt x="372" y="674"/>
                    </a:cubicBezTo>
                    <a:cubicBezTo>
                      <a:pt x="427" y="674"/>
                      <a:pt x="479" y="657"/>
                      <a:pt x="523" y="627"/>
                    </a:cubicBezTo>
                    <a:lnTo>
                      <a:pt x="523" y="627"/>
                    </a:lnTo>
                    <a:lnTo>
                      <a:pt x="523" y="627"/>
                    </a:lnTo>
                    <a:cubicBezTo>
                      <a:pt x="566" y="597"/>
                      <a:pt x="599" y="553"/>
                      <a:pt x="618" y="502"/>
                    </a:cubicBezTo>
                    <a:cubicBezTo>
                      <a:pt x="638" y="450"/>
                      <a:pt x="644" y="392"/>
                      <a:pt x="634" y="333"/>
                    </a:cubicBezTo>
                    <a:cubicBezTo>
                      <a:pt x="625" y="273"/>
                      <a:pt x="601" y="215"/>
                      <a:pt x="566" y="165"/>
                    </a:cubicBezTo>
                    <a:cubicBezTo>
                      <a:pt x="530" y="114"/>
                      <a:pt x="484" y="72"/>
                      <a:pt x="431" y="43"/>
                    </a:cubicBezTo>
                    <a:cubicBezTo>
                      <a:pt x="379" y="14"/>
                      <a:pt x="322" y="-1"/>
                      <a:pt x="267" y="0"/>
                    </a:cubicBezTo>
                    <a:cubicBezTo>
                      <a:pt x="212" y="0"/>
                      <a:pt x="160" y="17"/>
                      <a:pt x="116" y="47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748040" y="2797200"/>
                <a:ext cx="51480" cy="51120"/>
              </a:xfrm>
              <a:custGeom>
                <a:avLst/>
                <a:gdLst/>
                <a:ahLst/>
                <a:rect l="0" t="0" r="r" b="b"/>
                <a:pathLst>
                  <a:path w="143" h="142">
                    <a:moveTo>
                      <a:pt x="30" y="13"/>
                    </a:moveTo>
                    <a:lnTo>
                      <a:pt x="30" y="13"/>
                    </a:lnTo>
                    <a:lnTo>
                      <a:pt x="30" y="13"/>
                    </a:lnTo>
                    <a:cubicBezTo>
                      <a:pt x="20" y="20"/>
                      <a:pt x="12" y="30"/>
                      <a:pt x="6" y="41"/>
                    </a:cubicBezTo>
                    <a:cubicBezTo>
                      <a:pt x="1" y="53"/>
                      <a:pt x="-1" y="65"/>
                      <a:pt x="0" y="78"/>
                    </a:cubicBezTo>
                    <a:cubicBezTo>
                      <a:pt x="1" y="90"/>
                      <a:pt x="5" y="102"/>
                      <a:pt x="13" y="112"/>
                    </a:cubicBezTo>
                    <a:cubicBezTo>
                      <a:pt x="20" y="123"/>
                      <a:pt x="30" y="131"/>
                      <a:pt x="41" y="136"/>
                    </a:cubicBezTo>
                    <a:cubicBezTo>
                      <a:pt x="52" y="141"/>
                      <a:pt x="65" y="144"/>
                      <a:pt x="77" y="142"/>
                    </a:cubicBezTo>
                    <a:cubicBezTo>
                      <a:pt x="90" y="141"/>
                      <a:pt x="102" y="137"/>
                      <a:pt x="112" y="130"/>
                    </a:cubicBezTo>
                    <a:lnTo>
                      <a:pt x="112" y="130"/>
                    </a:lnTo>
                    <a:lnTo>
                      <a:pt x="112" y="130"/>
                    </a:lnTo>
                    <a:cubicBezTo>
                      <a:pt x="122" y="123"/>
                      <a:pt x="130" y="113"/>
                      <a:pt x="136" y="102"/>
                    </a:cubicBezTo>
                    <a:cubicBezTo>
                      <a:pt x="141" y="90"/>
                      <a:pt x="143" y="78"/>
                      <a:pt x="142" y="65"/>
                    </a:cubicBezTo>
                    <a:cubicBezTo>
                      <a:pt x="141" y="53"/>
                      <a:pt x="137" y="41"/>
                      <a:pt x="129" y="31"/>
                    </a:cubicBezTo>
                    <a:cubicBezTo>
                      <a:pt x="122" y="20"/>
                      <a:pt x="112" y="12"/>
                      <a:pt x="101" y="7"/>
                    </a:cubicBezTo>
                    <a:cubicBezTo>
                      <a:pt x="90" y="2"/>
                      <a:pt x="77" y="-1"/>
                      <a:pt x="65" y="1"/>
                    </a:cubicBezTo>
                    <a:cubicBezTo>
                      <a:pt x="52" y="2"/>
                      <a:pt x="40" y="6"/>
                      <a:pt x="30" y="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"/>
          <p:cNvSpPr/>
          <p:nvPr/>
        </p:nvSpPr>
        <p:spPr>
          <a:xfrm>
            <a:off x="228600" y="1905120"/>
            <a:ext cx="2819880" cy="1524240"/>
          </a:xfrm>
          <a:custGeom>
            <a:avLst/>
            <a:gdLst/>
            <a:ahLst/>
            <a:rect l="0" t="0" r="r" b="b"/>
            <a:pathLst>
              <a:path w="7833" h="4234">
                <a:moveTo>
                  <a:pt x="7833" y="423"/>
                </a:moveTo>
                <a:lnTo>
                  <a:pt x="7833" y="3387"/>
                </a:lnTo>
                <a:lnTo>
                  <a:pt x="7050" y="3811"/>
                </a:lnTo>
                <a:lnTo>
                  <a:pt x="6267" y="3811"/>
                </a:lnTo>
                <a:lnTo>
                  <a:pt x="7050" y="4234"/>
                </a:lnTo>
                <a:lnTo>
                  <a:pt x="5483" y="3811"/>
                </a:lnTo>
                <a:lnTo>
                  <a:pt x="783" y="3811"/>
                </a:lnTo>
                <a:lnTo>
                  <a:pt x="0" y="3387"/>
                </a:lnTo>
                <a:lnTo>
                  <a:pt x="0" y="423"/>
                </a:lnTo>
                <a:lnTo>
                  <a:pt x="783" y="0"/>
                </a:lnTo>
                <a:lnTo>
                  <a:pt x="7050" y="0"/>
                </a:lnTo>
                <a:lnTo>
                  <a:pt x="7833" y="423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2133720"/>
            <a:ext cx="2514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n, he …..!    Isn’t That Fun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248520" y="1905120"/>
            <a:ext cx="1495800" cy="4257720"/>
            <a:chOff x="6248520" y="1905120"/>
            <a:chExt cx="1495800" cy="4257720"/>
          </a:xfrm>
        </p:grpSpPr>
        <p:grpSp>
          <p:nvGrpSpPr>
            <p:cNvPr id="113" name=""/>
            <p:cNvGrpSpPr/>
            <p:nvPr/>
          </p:nvGrpSpPr>
          <p:grpSpPr>
            <a:xfrm>
              <a:off x="6248520" y="4554360"/>
              <a:ext cx="1495800" cy="1608480"/>
              <a:chOff x="6248520" y="4554360"/>
              <a:chExt cx="1495800" cy="1608480"/>
            </a:xfrm>
          </p:grpSpPr>
          <p:sp>
            <p:nvSpPr>
              <p:cNvPr id="114" name=""/>
              <p:cNvSpPr/>
              <p:nvPr/>
            </p:nvSpPr>
            <p:spPr>
              <a:xfrm>
                <a:off x="6626160" y="4554360"/>
                <a:ext cx="646560" cy="1483200"/>
              </a:xfrm>
              <a:custGeom>
                <a:avLst/>
                <a:gdLst/>
                <a:ahLst/>
                <a:rect l="0" t="0" r="r" b="b"/>
                <a:pathLst>
                  <a:path w="1796" h="4120">
                    <a:moveTo>
                      <a:pt x="0" y="0"/>
                    </a:moveTo>
                    <a:lnTo>
                      <a:pt x="312" y="4120"/>
                    </a:lnTo>
                    <a:lnTo>
                      <a:pt x="1015" y="4120"/>
                    </a:lnTo>
                    <a:lnTo>
                      <a:pt x="911" y="1116"/>
                    </a:lnTo>
                    <a:lnTo>
                      <a:pt x="1015" y="4120"/>
                    </a:lnTo>
                    <a:lnTo>
                      <a:pt x="1796" y="4120"/>
                    </a:lnTo>
                    <a:lnTo>
                      <a:pt x="1718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248520" y="5983200"/>
                <a:ext cx="743400" cy="179640"/>
              </a:xfrm>
              <a:custGeom>
                <a:avLst/>
                <a:gdLst/>
                <a:ahLst/>
                <a:rect l="0" t="0" r="r" b="b"/>
                <a:pathLst>
                  <a:path w="2065" h="499">
                    <a:moveTo>
                      <a:pt x="1359" y="158"/>
                    </a:moveTo>
                    <a:lnTo>
                      <a:pt x="967" y="45"/>
                    </a:lnTo>
                    <a:lnTo>
                      <a:pt x="706" y="0"/>
                    </a:lnTo>
                    <a:lnTo>
                      <a:pt x="417" y="90"/>
                    </a:lnTo>
                    <a:lnTo>
                      <a:pt x="130" y="226"/>
                    </a:lnTo>
                    <a:lnTo>
                      <a:pt x="0" y="408"/>
                    </a:lnTo>
                    <a:lnTo>
                      <a:pt x="182" y="499"/>
                    </a:lnTo>
                    <a:lnTo>
                      <a:pt x="2065" y="499"/>
                    </a:lnTo>
                    <a:lnTo>
                      <a:pt x="2065" y="158"/>
                    </a:lnTo>
                    <a:lnTo>
                      <a:pt x="1359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00920" y="5983200"/>
                <a:ext cx="743400" cy="179640"/>
              </a:xfrm>
              <a:custGeom>
                <a:avLst/>
                <a:gdLst/>
                <a:ahLst/>
                <a:rect l="0" t="0" r="r" b="b"/>
                <a:pathLst>
                  <a:path w="2065" h="499">
                    <a:moveTo>
                      <a:pt x="706" y="158"/>
                    </a:moveTo>
                    <a:lnTo>
                      <a:pt x="1098" y="45"/>
                    </a:lnTo>
                    <a:lnTo>
                      <a:pt x="1359" y="0"/>
                    </a:lnTo>
                    <a:lnTo>
                      <a:pt x="1647" y="90"/>
                    </a:lnTo>
                    <a:lnTo>
                      <a:pt x="1935" y="226"/>
                    </a:lnTo>
                    <a:lnTo>
                      <a:pt x="2065" y="408"/>
                    </a:lnTo>
                    <a:lnTo>
                      <a:pt x="1882" y="499"/>
                    </a:lnTo>
                    <a:lnTo>
                      <a:pt x="0" y="499"/>
                    </a:lnTo>
                    <a:lnTo>
                      <a:pt x="0" y="158"/>
                    </a:lnTo>
                    <a:lnTo>
                      <a:pt x="706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291360" y="3479760"/>
              <a:ext cx="503640" cy="1243080"/>
              <a:chOff x="6291360" y="3479760"/>
              <a:chExt cx="503640" cy="1243080"/>
            </a:xfrm>
          </p:grpSpPr>
          <p:sp>
            <p:nvSpPr>
              <p:cNvPr id="118" name=""/>
              <p:cNvSpPr/>
              <p:nvPr/>
            </p:nvSpPr>
            <p:spPr>
              <a:xfrm>
                <a:off x="6315120" y="3479760"/>
                <a:ext cx="479880" cy="1026000"/>
              </a:xfrm>
              <a:custGeom>
                <a:avLst/>
                <a:gdLst/>
                <a:ahLst/>
                <a:rect l="0" t="0" r="r" b="b"/>
                <a:pathLst>
                  <a:path w="1333" h="2850">
                    <a:moveTo>
                      <a:pt x="1098" y="0"/>
                    </a:moveTo>
                    <a:lnTo>
                      <a:pt x="1255" y="91"/>
                    </a:lnTo>
                    <a:lnTo>
                      <a:pt x="1333" y="364"/>
                    </a:lnTo>
                    <a:lnTo>
                      <a:pt x="1124" y="1140"/>
                    </a:lnTo>
                    <a:lnTo>
                      <a:pt x="810" y="2850"/>
                    </a:lnTo>
                    <a:lnTo>
                      <a:pt x="0" y="2713"/>
                    </a:lnTo>
                    <a:lnTo>
                      <a:pt x="366" y="1254"/>
                    </a:lnTo>
                    <a:lnTo>
                      <a:pt x="784" y="205"/>
                    </a:lnTo>
                    <a:lnTo>
                      <a:pt x="1098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91360" y="4476600"/>
                <a:ext cx="29988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404040" y="1905120"/>
              <a:ext cx="1068480" cy="2821320"/>
              <a:chOff x="6404040" y="1905120"/>
              <a:chExt cx="1068480" cy="2821320"/>
            </a:xfrm>
          </p:grpSpPr>
          <p:sp>
            <p:nvSpPr>
              <p:cNvPr id="121" name=""/>
              <p:cNvSpPr/>
              <p:nvPr/>
            </p:nvSpPr>
            <p:spPr>
              <a:xfrm>
                <a:off x="6502320" y="3346560"/>
                <a:ext cx="970200" cy="1379880"/>
              </a:xfrm>
              <a:custGeom>
                <a:avLst/>
                <a:gdLst/>
                <a:ahLst/>
                <a:rect l="0" t="0" r="r" b="b"/>
                <a:pathLst>
                  <a:path w="2695" h="3833">
                    <a:moveTo>
                      <a:pt x="943" y="323"/>
                    </a:moveTo>
                    <a:lnTo>
                      <a:pt x="856" y="338"/>
                    </a:lnTo>
                    <a:lnTo>
                      <a:pt x="790" y="376"/>
                    </a:lnTo>
                    <a:lnTo>
                      <a:pt x="664" y="501"/>
                    </a:lnTo>
                    <a:lnTo>
                      <a:pt x="534" y="623"/>
                    </a:lnTo>
                    <a:lnTo>
                      <a:pt x="386" y="733"/>
                    </a:lnTo>
                    <a:lnTo>
                      <a:pt x="365" y="767"/>
                    </a:lnTo>
                    <a:lnTo>
                      <a:pt x="343" y="802"/>
                    </a:lnTo>
                    <a:lnTo>
                      <a:pt x="343" y="802"/>
                    </a:lnTo>
                    <a:lnTo>
                      <a:pt x="365" y="802"/>
                    </a:lnTo>
                    <a:lnTo>
                      <a:pt x="152" y="1338"/>
                    </a:lnTo>
                    <a:lnTo>
                      <a:pt x="0" y="3745"/>
                    </a:lnTo>
                    <a:lnTo>
                      <a:pt x="2695" y="3833"/>
                    </a:lnTo>
                    <a:lnTo>
                      <a:pt x="2291" y="1589"/>
                    </a:lnTo>
                    <a:lnTo>
                      <a:pt x="2095" y="357"/>
                    </a:lnTo>
                    <a:lnTo>
                      <a:pt x="1369" y="0"/>
                    </a:lnTo>
                    <a:lnTo>
                      <a:pt x="943" y="323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6404040" y="1905120"/>
                <a:ext cx="992520" cy="1567440"/>
                <a:chOff x="6404040" y="1905120"/>
                <a:chExt cx="992520" cy="15674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512040" y="2109960"/>
                  <a:ext cx="884520" cy="1362600"/>
                </a:xfrm>
                <a:custGeom>
                  <a:avLst/>
                  <a:gdLst/>
                  <a:ahLst/>
                  <a:rect l="0" t="0" r="r" b="b"/>
                  <a:pathLst>
                    <a:path w="2457" h="3785">
                      <a:moveTo>
                        <a:pt x="574" y="0"/>
                      </a:moveTo>
                      <a:lnTo>
                        <a:pt x="261" y="227"/>
                      </a:lnTo>
                      <a:lnTo>
                        <a:pt x="78" y="592"/>
                      </a:lnTo>
                      <a:lnTo>
                        <a:pt x="26" y="1049"/>
                      </a:lnTo>
                      <a:lnTo>
                        <a:pt x="0" y="2325"/>
                      </a:lnTo>
                      <a:lnTo>
                        <a:pt x="52" y="3056"/>
                      </a:lnTo>
                      <a:lnTo>
                        <a:pt x="810" y="3101"/>
                      </a:lnTo>
                      <a:lnTo>
                        <a:pt x="914" y="3512"/>
                      </a:lnTo>
                      <a:lnTo>
                        <a:pt x="1019" y="3785"/>
                      </a:lnTo>
                      <a:lnTo>
                        <a:pt x="1255" y="3785"/>
                      </a:lnTo>
                      <a:lnTo>
                        <a:pt x="1385" y="3534"/>
                      </a:lnTo>
                      <a:lnTo>
                        <a:pt x="1307" y="3101"/>
                      </a:lnTo>
                      <a:lnTo>
                        <a:pt x="2013" y="3033"/>
                      </a:lnTo>
                      <a:lnTo>
                        <a:pt x="2039" y="2599"/>
                      </a:lnTo>
                      <a:lnTo>
                        <a:pt x="2195" y="2667"/>
                      </a:lnTo>
                      <a:lnTo>
                        <a:pt x="2352" y="2622"/>
                      </a:lnTo>
                      <a:lnTo>
                        <a:pt x="2457" y="2257"/>
                      </a:lnTo>
                      <a:lnTo>
                        <a:pt x="2326" y="2075"/>
                      </a:lnTo>
                      <a:lnTo>
                        <a:pt x="2169" y="2097"/>
                      </a:lnTo>
                      <a:lnTo>
                        <a:pt x="2326" y="159"/>
                      </a:lnTo>
                      <a:lnTo>
                        <a:pt x="5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4040" y="2489040"/>
                  <a:ext cx="404640" cy="3538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751800" y="2457360"/>
                  <a:ext cx="479520" cy="420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939000" y="2631960"/>
                  <a:ext cx="84240" cy="71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534000" y="2637000"/>
                  <a:ext cx="84240" cy="763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740640" y="1932120"/>
                  <a:ext cx="612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6851520" y="1914480"/>
                  <a:ext cx="1584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7012080" y="1905120"/>
                  <a:ext cx="36360" cy="196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7172280" y="1946160"/>
                  <a:ext cx="54000" cy="173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>
                  <a:off x="7311960" y="1971720"/>
                  <a:ext cx="54000" cy="15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502320" y="2928960"/>
                  <a:ext cx="649800" cy="221040"/>
                </a:xfrm>
                <a:custGeom>
                  <a:avLst/>
                  <a:gdLst/>
                  <a:ahLst/>
                  <a:rect l="0" t="0" r="r" b="b"/>
                  <a:pathLst>
                    <a:path w="1805" h="614">
                      <a:moveTo>
                        <a:pt x="0" y="0"/>
                      </a:moveTo>
                      <a:lnTo>
                        <a:pt x="1805" y="139"/>
                      </a:lnTo>
                      <a:lnTo>
                        <a:pt x="737" y="6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6794640" y="3355920"/>
                <a:ext cx="300240" cy="155880"/>
              </a:xfrm>
              <a:custGeom>
                <a:avLst/>
                <a:gdLst/>
                <a:ahLst/>
                <a:rect l="0" t="0" r="r" b="b"/>
                <a:pathLst>
                  <a:path w="834" h="433">
                    <a:moveTo>
                      <a:pt x="0" y="296"/>
                    </a:moveTo>
                    <a:lnTo>
                      <a:pt x="234" y="410"/>
                    </a:lnTo>
                    <a:lnTo>
                      <a:pt x="652" y="433"/>
                    </a:lnTo>
                    <a:lnTo>
                      <a:pt x="834" y="228"/>
                    </a:lnTo>
                    <a:lnTo>
                      <a:pt x="834" y="68"/>
                    </a:lnTo>
                    <a:lnTo>
                      <a:pt x="652" y="0"/>
                    </a:lnTo>
                    <a:lnTo>
                      <a:pt x="469" y="228"/>
                    </a:lnTo>
                    <a:lnTo>
                      <a:pt x="182" y="251"/>
                    </a:lnTo>
                    <a:lnTo>
                      <a:pt x="0" y="296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7169040" y="3494160"/>
              <a:ext cx="503280" cy="1246320"/>
              <a:chOff x="7169040" y="3494160"/>
              <a:chExt cx="503280" cy="1246320"/>
            </a:xfrm>
          </p:grpSpPr>
          <p:sp>
            <p:nvSpPr>
              <p:cNvPr id="136" name=""/>
              <p:cNvSpPr/>
              <p:nvPr/>
            </p:nvSpPr>
            <p:spPr>
              <a:xfrm>
                <a:off x="7169040" y="3494160"/>
                <a:ext cx="481320" cy="1026000"/>
              </a:xfrm>
              <a:custGeom>
                <a:avLst/>
                <a:gdLst/>
                <a:ahLst/>
                <a:rect l="0" t="0" r="r" b="b"/>
                <a:pathLst>
                  <a:path w="1337" h="2850">
                    <a:moveTo>
                      <a:pt x="235" y="0"/>
                    </a:moveTo>
                    <a:lnTo>
                      <a:pt x="78" y="91"/>
                    </a:lnTo>
                    <a:lnTo>
                      <a:pt x="0" y="364"/>
                    </a:lnTo>
                    <a:lnTo>
                      <a:pt x="209" y="1140"/>
                    </a:lnTo>
                    <a:lnTo>
                      <a:pt x="523" y="2850"/>
                    </a:lnTo>
                    <a:lnTo>
                      <a:pt x="1337" y="2713"/>
                    </a:lnTo>
                    <a:lnTo>
                      <a:pt x="970" y="1254"/>
                    </a:lnTo>
                    <a:lnTo>
                      <a:pt x="550" y="205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373880" y="4494240"/>
                <a:ext cx="29844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1271520" cy="1271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438280" y="533520"/>
            <a:ext cx="5334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’S EXPRESS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8042400" y="704880"/>
            <a:ext cx="535320" cy="1962360"/>
            <a:chOff x="8042400" y="704880"/>
            <a:chExt cx="535320" cy="1962360"/>
          </a:xfrm>
        </p:grpSpPr>
        <p:grpSp>
          <p:nvGrpSpPr>
            <p:cNvPr id="141" name=""/>
            <p:cNvGrpSpPr/>
            <p:nvPr/>
          </p:nvGrpSpPr>
          <p:grpSpPr>
            <a:xfrm>
              <a:off x="8042400" y="704880"/>
              <a:ext cx="524160" cy="1962360"/>
              <a:chOff x="8042400" y="704880"/>
              <a:chExt cx="524160" cy="1962360"/>
            </a:xfrm>
          </p:grpSpPr>
          <p:sp>
            <p:nvSpPr>
              <p:cNvPr id="142" name=""/>
              <p:cNvSpPr/>
              <p:nvPr/>
            </p:nvSpPr>
            <p:spPr>
              <a:xfrm>
                <a:off x="8042400" y="704880"/>
                <a:ext cx="524160" cy="1962360"/>
              </a:xfrm>
              <a:custGeom>
                <a:avLst/>
                <a:gdLst/>
                <a:ahLst/>
                <a:rect l="0" t="0" r="r" b="b"/>
                <a:pathLst>
                  <a:path w="1456" h="5451">
                    <a:moveTo>
                      <a:pt x="0" y="5385"/>
                    </a:moveTo>
                    <a:lnTo>
                      <a:pt x="1090" y="5451"/>
                    </a:lnTo>
                    <a:lnTo>
                      <a:pt x="1456" y="0"/>
                    </a:lnTo>
                    <a:lnTo>
                      <a:pt x="89" y="96"/>
                    </a:lnTo>
                    <a:lnTo>
                      <a:pt x="0" y="53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074080" y="758880"/>
                <a:ext cx="430560" cy="1860840"/>
              </a:xfrm>
              <a:custGeom>
                <a:avLst/>
                <a:gdLst/>
                <a:ahLst/>
                <a:rect l="0" t="0" r="r" b="b"/>
                <a:pathLst>
                  <a:path w="1196" h="5169">
                    <a:moveTo>
                      <a:pt x="126" y="54"/>
                    </a:moveTo>
                    <a:lnTo>
                      <a:pt x="1196" y="0"/>
                    </a:lnTo>
                    <a:lnTo>
                      <a:pt x="844" y="5169"/>
                    </a:lnTo>
                    <a:lnTo>
                      <a:pt x="0" y="5126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77320" y="2422440"/>
                <a:ext cx="43200" cy="32040"/>
              </a:xfrm>
              <a:custGeom>
                <a:avLst/>
                <a:gdLst/>
                <a:ahLst/>
                <a:rect l="0" t="0" r="r" b="b"/>
                <a:pathLst>
                  <a:path w="120" h="89">
                    <a:moveTo>
                      <a:pt x="70" y="22"/>
                    </a:moveTo>
                    <a:lnTo>
                      <a:pt x="80" y="22"/>
                    </a:lnTo>
                    <a:lnTo>
                      <a:pt x="80" y="29"/>
                    </a:lnTo>
                    <a:lnTo>
                      <a:pt x="90" y="29"/>
                    </a:lnTo>
                    <a:lnTo>
                      <a:pt x="90" y="36"/>
                    </a:lnTo>
                    <a:lnTo>
                      <a:pt x="90" y="52"/>
                    </a:lnTo>
                    <a:lnTo>
                      <a:pt x="80" y="52"/>
                    </a:lnTo>
                    <a:lnTo>
                      <a:pt x="80" y="59"/>
                    </a:lnTo>
                    <a:lnTo>
                      <a:pt x="70" y="59"/>
                    </a:lnTo>
                    <a:lnTo>
                      <a:pt x="49" y="59"/>
                    </a:lnTo>
                    <a:lnTo>
                      <a:pt x="49" y="52"/>
                    </a:lnTo>
                    <a:lnTo>
                      <a:pt x="39" y="52"/>
                    </a:lnTo>
                    <a:lnTo>
                      <a:pt x="39" y="36"/>
                    </a:lnTo>
                    <a:lnTo>
                      <a:pt x="39" y="29"/>
                    </a:lnTo>
                    <a:lnTo>
                      <a:pt x="49" y="29"/>
                    </a:lnTo>
                    <a:lnTo>
                      <a:pt x="49" y="22"/>
                    </a:lnTo>
                    <a:lnTo>
                      <a:pt x="70" y="22"/>
                    </a:lnTo>
                    <a:lnTo>
                      <a:pt x="70" y="0"/>
                    </a:lnTo>
                    <a:lnTo>
                      <a:pt x="49" y="0"/>
                    </a:lnTo>
                    <a:lnTo>
                      <a:pt x="29" y="7"/>
                    </a:lnTo>
                    <a:lnTo>
                      <a:pt x="19" y="29"/>
                    </a:lnTo>
                    <a:lnTo>
                      <a:pt x="0" y="36"/>
                    </a:lnTo>
                    <a:lnTo>
                      <a:pt x="0" y="59"/>
                    </a:lnTo>
                    <a:lnTo>
                      <a:pt x="19" y="67"/>
                    </a:lnTo>
                    <a:lnTo>
                      <a:pt x="39" y="81"/>
                    </a:lnTo>
                    <a:lnTo>
                      <a:pt x="70" y="89"/>
                    </a:lnTo>
                    <a:lnTo>
                      <a:pt x="80" y="89"/>
                    </a:lnTo>
                    <a:lnTo>
                      <a:pt x="110" y="81"/>
                    </a:lnTo>
                    <a:lnTo>
                      <a:pt x="120" y="59"/>
                    </a:lnTo>
                    <a:lnTo>
                      <a:pt x="120" y="36"/>
                    </a:lnTo>
                    <a:lnTo>
                      <a:pt x="120" y="29"/>
                    </a:lnTo>
                    <a:lnTo>
                      <a:pt x="110" y="7"/>
                    </a:lnTo>
                    <a:lnTo>
                      <a:pt x="90" y="0"/>
                    </a:lnTo>
                    <a:lnTo>
                      <a:pt x="70" y="0"/>
                    </a:lnTo>
                    <a:lnTo>
                      <a:pt x="7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120160" y="2432160"/>
                <a:ext cx="41760" cy="55800"/>
              </a:xfrm>
              <a:custGeom>
                <a:avLst/>
                <a:gdLst/>
                <a:ahLst/>
                <a:rect l="0" t="0" r="r" b="b"/>
                <a:pathLst>
                  <a:path w="116" h="155">
                    <a:moveTo>
                      <a:pt x="8" y="155"/>
                    </a:moveTo>
                    <a:lnTo>
                      <a:pt x="0" y="4"/>
                    </a:lnTo>
                    <a:lnTo>
                      <a:pt x="116" y="0"/>
                    </a:lnTo>
                    <a:lnTo>
                      <a:pt x="116" y="30"/>
                    </a:lnTo>
                    <a:lnTo>
                      <a:pt x="53" y="30"/>
                    </a:lnTo>
                    <a:lnTo>
                      <a:pt x="53" y="61"/>
                    </a:lnTo>
                    <a:lnTo>
                      <a:pt x="116" y="61"/>
                    </a:lnTo>
                    <a:lnTo>
                      <a:pt x="116" y="93"/>
                    </a:lnTo>
                    <a:lnTo>
                      <a:pt x="62" y="93"/>
                    </a:lnTo>
                    <a:lnTo>
                      <a:pt x="62" y="155"/>
                    </a:lnTo>
                    <a:lnTo>
                      <a:pt x="8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294760" y="2428920"/>
                <a:ext cx="43200" cy="32040"/>
              </a:xfrm>
              <a:custGeom>
                <a:avLst/>
                <a:gdLst/>
                <a:ahLst/>
                <a:rect l="0" t="0" r="r" b="b"/>
                <a:pathLst>
                  <a:path w="120" h="89">
                    <a:moveTo>
                      <a:pt x="65" y="27"/>
                    </a:moveTo>
                    <a:lnTo>
                      <a:pt x="74" y="27"/>
                    </a:lnTo>
                    <a:lnTo>
                      <a:pt x="74" y="33"/>
                    </a:lnTo>
                    <a:lnTo>
                      <a:pt x="83" y="33"/>
                    </a:lnTo>
                    <a:lnTo>
                      <a:pt x="83" y="48"/>
                    </a:lnTo>
                    <a:lnTo>
                      <a:pt x="83" y="55"/>
                    </a:lnTo>
                    <a:lnTo>
                      <a:pt x="74" y="55"/>
                    </a:lnTo>
                    <a:lnTo>
                      <a:pt x="74" y="62"/>
                    </a:lnTo>
                    <a:lnTo>
                      <a:pt x="65" y="62"/>
                    </a:lnTo>
                    <a:lnTo>
                      <a:pt x="45" y="62"/>
                    </a:lnTo>
                    <a:lnTo>
                      <a:pt x="36" y="55"/>
                    </a:lnTo>
                    <a:lnTo>
                      <a:pt x="36" y="48"/>
                    </a:lnTo>
                    <a:lnTo>
                      <a:pt x="36" y="33"/>
                    </a:lnTo>
                    <a:lnTo>
                      <a:pt x="45" y="33"/>
                    </a:lnTo>
                    <a:lnTo>
                      <a:pt x="45" y="27"/>
                    </a:lnTo>
                    <a:lnTo>
                      <a:pt x="65" y="27"/>
                    </a:lnTo>
                    <a:lnTo>
                      <a:pt x="65" y="0"/>
                    </a:lnTo>
                    <a:lnTo>
                      <a:pt x="36" y="0"/>
                    </a:lnTo>
                    <a:lnTo>
                      <a:pt x="9" y="6"/>
                    </a:lnTo>
                    <a:lnTo>
                      <a:pt x="0" y="27"/>
                    </a:lnTo>
                    <a:lnTo>
                      <a:pt x="0" y="48"/>
                    </a:lnTo>
                    <a:lnTo>
                      <a:pt x="0" y="62"/>
                    </a:lnTo>
                    <a:lnTo>
                      <a:pt x="9" y="75"/>
                    </a:lnTo>
                    <a:lnTo>
                      <a:pt x="36" y="82"/>
                    </a:lnTo>
                    <a:lnTo>
                      <a:pt x="45" y="89"/>
                    </a:lnTo>
                    <a:lnTo>
                      <a:pt x="74" y="89"/>
                    </a:lnTo>
                    <a:lnTo>
                      <a:pt x="92" y="82"/>
                    </a:lnTo>
                    <a:lnTo>
                      <a:pt x="110" y="62"/>
                    </a:lnTo>
                    <a:lnTo>
                      <a:pt x="120" y="48"/>
                    </a:lnTo>
                    <a:lnTo>
                      <a:pt x="120" y="27"/>
                    </a:lnTo>
                    <a:lnTo>
                      <a:pt x="110" y="20"/>
                    </a:lnTo>
                    <a:lnTo>
                      <a:pt x="83" y="0"/>
                    </a:lnTo>
                    <a:lnTo>
                      <a:pt x="65" y="0"/>
                    </a:lnTo>
                    <a:lnTo>
                      <a:pt x="65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331120" y="2435400"/>
                <a:ext cx="41760" cy="60840"/>
              </a:xfrm>
              <a:custGeom>
                <a:avLst/>
                <a:gdLst/>
                <a:ahLst/>
                <a:rect l="0" t="0" r="r" b="b"/>
                <a:pathLst>
                  <a:path w="116" h="169">
                    <a:moveTo>
                      <a:pt x="67" y="62"/>
                    </a:moveTo>
                    <a:lnTo>
                      <a:pt x="67" y="49"/>
                    </a:lnTo>
                    <a:lnTo>
                      <a:pt x="67" y="45"/>
                    </a:lnTo>
                    <a:lnTo>
                      <a:pt x="67" y="35"/>
                    </a:lnTo>
                    <a:lnTo>
                      <a:pt x="62" y="30"/>
                    </a:lnTo>
                    <a:lnTo>
                      <a:pt x="49" y="30"/>
                    </a:lnTo>
                    <a:lnTo>
                      <a:pt x="45" y="35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49" y="129"/>
                    </a:lnTo>
                    <a:lnTo>
                      <a:pt x="49" y="129"/>
                    </a:lnTo>
                    <a:lnTo>
                      <a:pt x="58" y="138"/>
                    </a:lnTo>
                    <a:lnTo>
                      <a:pt x="62" y="138"/>
                    </a:lnTo>
                    <a:lnTo>
                      <a:pt x="67" y="138"/>
                    </a:lnTo>
                    <a:lnTo>
                      <a:pt x="75" y="129"/>
                    </a:lnTo>
                    <a:lnTo>
                      <a:pt x="75" y="124"/>
                    </a:lnTo>
                    <a:lnTo>
                      <a:pt x="75" y="120"/>
                    </a:lnTo>
                    <a:lnTo>
                      <a:pt x="75" y="102"/>
                    </a:lnTo>
                    <a:lnTo>
                      <a:pt x="112" y="98"/>
                    </a:lnTo>
                    <a:lnTo>
                      <a:pt x="116" y="120"/>
                    </a:lnTo>
                    <a:lnTo>
                      <a:pt x="112" y="138"/>
                    </a:lnTo>
                    <a:lnTo>
                      <a:pt x="103" y="156"/>
                    </a:lnTo>
                    <a:lnTo>
                      <a:pt x="90" y="160"/>
                    </a:lnTo>
                    <a:lnTo>
                      <a:pt x="62" y="169"/>
                    </a:lnTo>
                    <a:lnTo>
                      <a:pt x="40" y="169"/>
                    </a:lnTo>
                    <a:lnTo>
                      <a:pt x="26" y="156"/>
                    </a:lnTo>
                    <a:lnTo>
                      <a:pt x="13" y="143"/>
                    </a:lnTo>
                    <a:lnTo>
                      <a:pt x="8" y="124"/>
                    </a:lnTo>
                    <a:lnTo>
                      <a:pt x="0" y="58"/>
                    </a:lnTo>
                    <a:lnTo>
                      <a:pt x="8" y="30"/>
                    </a:lnTo>
                    <a:lnTo>
                      <a:pt x="13" y="13"/>
                    </a:lnTo>
                    <a:lnTo>
                      <a:pt x="31" y="4"/>
                    </a:lnTo>
                    <a:lnTo>
                      <a:pt x="58" y="0"/>
                    </a:lnTo>
                    <a:lnTo>
                      <a:pt x="80" y="0"/>
                    </a:lnTo>
                    <a:lnTo>
                      <a:pt x="94" y="13"/>
                    </a:lnTo>
                    <a:lnTo>
                      <a:pt x="103" y="17"/>
                    </a:lnTo>
                    <a:lnTo>
                      <a:pt x="112" y="45"/>
                    </a:lnTo>
                    <a:lnTo>
                      <a:pt x="112" y="58"/>
                    </a:lnTo>
                    <a:lnTo>
                      <a:pt x="6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167680" y="1211400"/>
                <a:ext cx="140040" cy="1327680"/>
              </a:xfrm>
              <a:custGeom>
                <a:avLst/>
                <a:gdLst/>
                <a:ahLst/>
                <a:rect l="0" t="0" r="r" b="b"/>
                <a:pathLst>
                  <a:path w="389" h="3688">
                    <a:moveTo>
                      <a:pt x="0" y="3673"/>
                    </a:moveTo>
                    <a:lnTo>
                      <a:pt x="307" y="3688"/>
                    </a:lnTo>
                    <a:lnTo>
                      <a:pt x="327" y="3301"/>
                    </a:lnTo>
                    <a:lnTo>
                      <a:pt x="233" y="3301"/>
                    </a:lnTo>
                    <a:lnTo>
                      <a:pt x="237" y="3231"/>
                    </a:lnTo>
                    <a:lnTo>
                      <a:pt x="237" y="3208"/>
                    </a:lnTo>
                    <a:lnTo>
                      <a:pt x="254" y="2894"/>
                    </a:lnTo>
                    <a:lnTo>
                      <a:pt x="254" y="2863"/>
                    </a:lnTo>
                    <a:lnTo>
                      <a:pt x="270" y="2537"/>
                    </a:lnTo>
                    <a:lnTo>
                      <a:pt x="270" y="2506"/>
                    </a:lnTo>
                    <a:lnTo>
                      <a:pt x="286" y="2185"/>
                    </a:lnTo>
                    <a:lnTo>
                      <a:pt x="286" y="2154"/>
                    </a:lnTo>
                    <a:lnTo>
                      <a:pt x="303" y="1821"/>
                    </a:lnTo>
                    <a:lnTo>
                      <a:pt x="303" y="1790"/>
                    </a:lnTo>
                    <a:lnTo>
                      <a:pt x="319" y="1457"/>
                    </a:lnTo>
                    <a:lnTo>
                      <a:pt x="319" y="1426"/>
                    </a:lnTo>
                    <a:lnTo>
                      <a:pt x="335" y="1077"/>
                    </a:lnTo>
                    <a:lnTo>
                      <a:pt x="340" y="1046"/>
                    </a:lnTo>
                    <a:lnTo>
                      <a:pt x="356" y="689"/>
                    </a:lnTo>
                    <a:lnTo>
                      <a:pt x="356" y="666"/>
                    </a:lnTo>
                    <a:lnTo>
                      <a:pt x="372" y="302"/>
                    </a:lnTo>
                    <a:lnTo>
                      <a:pt x="376" y="271"/>
                    </a:lnTo>
                    <a:lnTo>
                      <a:pt x="389" y="0"/>
                    </a:lnTo>
                    <a:lnTo>
                      <a:pt x="233" y="3"/>
                    </a:lnTo>
                    <a:lnTo>
                      <a:pt x="221" y="259"/>
                    </a:lnTo>
                    <a:lnTo>
                      <a:pt x="217" y="290"/>
                    </a:lnTo>
                    <a:lnTo>
                      <a:pt x="205" y="604"/>
                    </a:lnTo>
                    <a:lnTo>
                      <a:pt x="205" y="635"/>
                    </a:lnTo>
                    <a:lnTo>
                      <a:pt x="187" y="949"/>
                    </a:lnTo>
                    <a:lnTo>
                      <a:pt x="187" y="980"/>
                    </a:lnTo>
                    <a:lnTo>
                      <a:pt x="175" y="1286"/>
                    </a:lnTo>
                    <a:lnTo>
                      <a:pt x="175" y="1317"/>
                    </a:lnTo>
                    <a:lnTo>
                      <a:pt x="159" y="1615"/>
                    </a:lnTo>
                    <a:lnTo>
                      <a:pt x="159" y="1646"/>
                    </a:lnTo>
                    <a:lnTo>
                      <a:pt x="151" y="1952"/>
                    </a:lnTo>
                    <a:lnTo>
                      <a:pt x="151" y="1983"/>
                    </a:lnTo>
                    <a:lnTo>
                      <a:pt x="134" y="2262"/>
                    </a:lnTo>
                    <a:lnTo>
                      <a:pt x="134" y="2293"/>
                    </a:lnTo>
                    <a:lnTo>
                      <a:pt x="122" y="2583"/>
                    </a:lnTo>
                    <a:lnTo>
                      <a:pt x="122" y="2614"/>
                    </a:lnTo>
                    <a:lnTo>
                      <a:pt x="110" y="2883"/>
                    </a:lnTo>
                    <a:lnTo>
                      <a:pt x="110" y="2914"/>
                    </a:lnTo>
                    <a:lnTo>
                      <a:pt x="98" y="3200"/>
                    </a:lnTo>
                    <a:lnTo>
                      <a:pt x="98" y="3231"/>
                    </a:lnTo>
                    <a:lnTo>
                      <a:pt x="98" y="3293"/>
                    </a:lnTo>
                    <a:lnTo>
                      <a:pt x="4" y="3293"/>
                    </a:lnTo>
                    <a:lnTo>
                      <a:pt x="0" y="36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091360" y="2244600"/>
                <a:ext cx="116280" cy="32040"/>
              </a:xfrm>
              <a:custGeom>
                <a:avLst/>
                <a:gdLst/>
                <a:ahLst/>
                <a:rect l="0" t="0" r="r" b="b"/>
                <a:pathLst>
                  <a:path w="323" h="89">
                    <a:moveTo>
                      <a:pt x="323" y="89"/>
                    </a:moveTo>
                    <a:lnTo>
                      <a:pt x="323" y="17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323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259840" y="2239920"/>
                <a:ext cx="127440" cy="33840"/>
              </a:xfrm>
              <a:custGeom>
                <a:avLst/>
                <a:gdLst/>
                <a:ahLst/>
                <a:rect l="0" t="0" r="r" b="b"/>
                <a:pathLst>
                  <a:path w="354" h="94">
                    <a:moveTo>
                      <a:pt x="0" y="68"/>
                    </a:moveTo>
                    <a:lnTo>
                      <a:pt x="0" y="0"/>
                    </a:lnTo>
                    <a:lnTo>
                      <a:pt x="354" y="26"/>
                    </a:lnTo>
                    <a:lnTo>
                      <a:pt x="354" y="94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271000" y="1986120"/>
                <a:ext cx="133560" cy="35280"/>
              </a:xfrm>
              <a:custGeom>
                <a:avLst/>
                <a:gdLst/>
                <a:ahLst/>
                <a:rect l="0" t="0" r="r" b="b"/>
                <a:pathLst>
                  <a:path w="371" h="98">
                    <a:moveTo>
                      <a:pt x="0" y="87"/>
                    </a:moveTo>
                    <a:lnTo>
                      <a:pt x="0" y="0"/>
                    </a:lnTo>
                    <a:lnTo>
                      <a:pt x="371" y="10"/>
                    </a:lnTo>
                    <a:lnTo>
                      <a:pt x="371" y="98"/>
                    </a:lnTo>
                    <a:lnTo>
                      <a:pt x="355" y="98"/>
                    </a:lnTo>
                    <a:lnTo>
                      <a:pt x="310" y="98"/>
                    </a:lnTo>
                    <a:lnTo>
                      <a:pt x="253" y="98"/>
                    </a:lnTo>
                    <a:lnTo>
                      <a:pt x="188" y="87"/>
                    </a:lnTo>
                    <a:lnTo>
                      <a:pt x="118" y="87"/>
                    </a:lnTo>
                    <a:lnTo>
                      <a:pt x="56" y="87"/>
                    </a:lnTo>
                    <a:lnTo>
                      <a:pt x="16" y="87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97840" y="2023920"/>
                <a:ext cx="117720" cy="35280"/>
              </a:xfrm>
              <a:custGeom>
                <a:avLst/>
                <a:gdLst/>
                <a:ahLst/>
                <a:rect l="0" t="0" r="r" b="b"/>
                <a:pathLst>
                  <a:path w="327" h="98">
                    <a:moveTo>
                      <a:pt x="327" y="10"/>
                    </a:moveTo>
                    <a:lnTo>
                      <a:pt x="327" y="98"/>
                    </a:lnTo>
                    <a:lnTo>
                      <a:pt x="0" y="87"/>
                    </a:lnTo>
                    <a:lnTo>
                      <a:pt x="0" y="0"/>
                    </a:lnTo>
                    <a:lnTo>
                      <a:pt x="32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91360" y="2138400"/>
                <a:ext cx="120960" cy="32040"/>
              </a:xfrm>
              <a:custGeom>
                <a:avLst/>
                <a:gdLst/>
                <a:ahLst/>
                <a:rect l="0" t="0" r="r" b="b"/>
                <a:pathLst>
                  <a:path w="336" h="89">
                    <a:moveTo>
                      <a:pt x="336" y="89"/>
                    </a:moveTo>
                    <a:lnTo>
                      <a:pt x="336" y="17"/>
                    </a:lnTo>
                    <a:lnTo>
                      <a:pt x="8" y="0"/>
                    </a:lnTo>
                    <a:lnTo>
                      <a:pt x="0" y="71"/>
                    </a:lnTo>
                    <a:lnTo>
                      <a:pt x="336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264520" y="2112840"/>
                <a:ext cx="128880" cy="33840"/>
              </a:xfrm>
              <a:custGeom>
                <a:avLst/>
                <a:gdLst/>
                <a:ahLst/>
                <a:rect l="0" t="0" r="r" b="b"/>
                <a:pathLst>
                  <a:path w="358" h="94">
                    <a:moveTo>
                      <a:pt x="0" y="76"/>
                    </a:moveTo>
                    <a:lnTo>
                      <a:pt x="0" y="0"/>
                    </a:lnTo>
                    <a:lnTo>
                      <a:pt x="358" y="18"/>
                    </a:lnTo>
                    <a:lnTo>
                      <a:pt x="358" y="9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110440" y="1430280"/>
                <a:ext cx="132120" cy="32040"/>
              </a:xfrm>
              <a:custGeom>
                <a:avLst/>
                <a:gdLst/>
                <a:ahLst/>
                <a:rect l="0" t="0" r="r" b="b"/>
                <a:pathLst>
                  <a:path w="367" h="89">
                    <a:moveTo>
                      <a:pt x="367" y="79"/>
                    </a:moveTo>
                    <a:lnTo>
                      <a:pt x="367" y="0"/>
                    </a:lnTo>
                    <a:lnTo>
                      <a:pt x="0" y="29"/>
                    </a:lnTo>
                    <a:lnTo>
                      <a:pt x="0" y="89"/>
                    </a:lnTo>
                    <a:lnTo>
                      <a:pt x="367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296200" y="1447920"/>
                <a:ext cx="144720" cy="33840"/>
              </a:xfrm>
              <a:custGeom>
                <a:avLst/>
                <a:gdLst/>
                <a:ahLst/>
                <a:rect l="0" t="0" r="r" b="b"/>
                <a:pathLst>
                  <a:path w="402" h="94">
                    <a:moveTo>
                      <a:pt x="0" y="94"/>
                    </a:moveTo>
                    <a:lnTo>
                      <a:pt x="0" y="31"/>
                    </a:lnTo>
                    <a:lnTo>
                      <a:pt x="402" y="0"/>
                    </a:lnTo>
                    <a:lnTo>
                      <a:pt x="402" y="8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107200" y="1554120"/>
                <a:ext cx="128880" cy="32040"/>
              </a:xfrm>
              <a:custGeom>
                <a:avLst/>
                <a:gdLst/>
                <a:ahLst/>
                <a:rect l="0" t="0" r="r" b="b"/>
                <a:pathLst>
                  <a:path w="358" h="89">
                    <a:moveTo>
                      <a:pt x="358" y="0"/>
                    </a:moveTo>
                    <a:lnTo>
                      <a:pt x="358" y="79"/>
                    </a:lnTo>
                    <a:lnTo>
                      <a:pt x="0" y="89"/>
                    </a:lnTo>
                    <a:lnTo>
                      <a:pt x="0" y="9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115480" y="1305000"/>
                <a:ext cx="132120" cy="33840"/>
              </a:xfrm>
              <a:custGeom>
                <a:avLst/>
                <a:gdLst/>
                <a:ahLst/>
                <a:rect l="0" t="0" r="r" b="b"/>
                <a:pathLst>
                  <a:path w="367" h="94">
                    <a:moveTo>
                      <a:pt x="367" y="0"/>
                    </a:moveTo>
                    <a:lnTo>
                      <a:pt x="362" y="84"/>
                    </a:lnTo>
                    <a:lnTo>
                      <a:pt x="0" y="94"/>
                    </a:lnTo>
                    <a:lnTo>
                      <a:pt x="0" y="10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300880" y="1305000"/>
                <a:ext cx="151200" cy="33840"/>
              </a:xfrm>
              <a:custGeom>
                <a:avLst/>
                <a:gdLst/>
                <a:ahLst/>
                <a:rect l="0" t="0" r="r" b="b"/>
                <a:pathLst>
                  <a:path w="420" h="94">
                    <a:moveTo>
                      <a:pt x="4" y="26"/>
                    </a:moveTo>
                    <a:lnTo>
                      <a:pt x="0" y="94"/>
                    </a:lnTo>
                    <a:lnTo>
                      <a:pt x="412" y="68"/>
                    </a:lnTo>
                    <a:lnTo>
                      <a:pt x="420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51920" y="2365200"/>
                <a:ext cx="124200" cy="32040"/>
              </a:xfrm>
              <a:custGeom>
                <a:avLst/>
                <a:gdLst/>
                <a:ahLst/>
                <a:rect l="0" t="0" r="r" b="b"/>
                <a:pathLst>
                  <a:path w="345" h="89">
                    <a:moveTo>
                      <a:pt x="0" y="53"/>
                    </a:moveTo>
                    <a:lnTo>
                      <a:pt x="345" y="89"/>
                    </a:lnTo>
                    <a:lnTo>
                      <a:pt x="345" y="17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089920" y="2355840"/>
                <a:ext cx="113040" cy="33840"/>
              </a:xfrm>
              <a:custGeom>
                <a:avLst/>
                <a:gdLst/>
                <a:ahLst/>
                <a:rect l="0" t="0" r="r" b="b"/>
                <a:pathLst>
                  <a:path w="314" h="94">
                    <a:moveTo>
                      <a:pt x="314" y="94"/>
                    </a:moveTo>
                    <a:lnTo>
                      <a:pt x="301" y="94"/>
                    </a:lnTo>
                    <a:lnTo>
                      <a:pt x="265" y="94"/>
                    </a:lnTo>
                    <a:lnTo>
                      <a:pt x="216" y="86"/>
                    </a:lnTo>
                    <a:lnTo>
                      <a:pt x="154" y="79"/>
                    </a:lnTo>
                    <a:lnTo>
                      <a:pt x="101" y="79"/>
                    </a:lnTo>
                    <a:lnTo>
                      <a:pt x="48" y="62"/>
                    </a:lnTo>
                    <a:lnTo>
                      <a:pt x="16" y="62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48" y="0"/>
                    </a:lnTo>
                    <a:lnTo>
                      <a:pt x="101" y="15"/>
                    </a:lnTo>
                    <a:lnTo>
                      <a:pt x="154" y="15"/>
                    </a:lnTo>
                    <a:lnTo>
                      <a:pt x="216" y="24"/>
                    </a:lnTo>
                    <a:lnTo>
                      <a:pt x="265" y="31"/>
                    </a:lnTo>
                    <a:lnTo>
                      <a:pt x="301" y="31"/>
                    </a:lnTo>
                    <a:lnTo>
                      <a:pt x="314" y="31"/>
                    </a:lnTo>
                    <a:lnTo>
                      <a:pt x="314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288280" y="1585800"/>
                <a:ext cx="141480" cy="35280"/>
              </a:xfrm>
              <a:custGeom>
                <a:avLst/>
                <a:gdLst/>
                <a:ahLst/>
                <a:rect l="0" t="0" r="r" b="b"/>
                <a:pathLst>
                  <a:path w="393" h="98">
                    <a:moveTo>
                      <a:pt x="0" y="98"/>
                    </a:moveTo>
                    <a:lnTo>
                      <a:pt x="4" y="10"/>
                    </a:lnTo>
                    <a:lnTo>
                      <a:pt x="393" y="0"/>
                    </a:lnTo>
                    <a:lnTo>
                      <a:pt x="393" y="7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105760" y="1674720"/>
                <a:ext cx="125640" cy="32040"/>
              </a:xfrm>
              <a:custGeom>
                <a:avLst/>
                <a:gdLst/>
                <a:ahLst/>
                <a:rect l="0" t="0" r="r" b="b"/>
                <a:pathLst>
                  <a:path w="349" h="89">
                    <a:moveTo>
                      <a:pt x="349" y="0"/>
                    </a:moveTo>
                    <a:lnTo>
                      <a:pt x="349" y="79"/>
                    </a:lnTo>
                    <a:lnTo>
                      <a:pt x="0" y="89"/>
                    </a:lnTo>
                    <a:lnTo>
                      <a:pt x="0" y="9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83600" y="1724040"/>
                <a:ext cx="138600" cy="32040"/>
              </a:xfrm>
              <a:custGeom>
                <a:avLst/>
                <a:gdLst/>
                <a:ahLst/>
                <a:rect l="0" t="0" r="r" b="b"/>
                <a:pathLst>
                  <a:path w="385" h="89">
                    <a:moveTo>
                      <a:pt x="0" y="89"/>
                    </a:moveTo>
                    <a:lnTo>
                      <a:pt x="0" y="9"/>
                    </a:lnTo>
                    <a:lnTo>
                      <a:pt x="385" y="0"/>
                    </a:lnTo>
                    <a:lnTo>
                      <a:pt x="385" y="7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102520" y="1792440"/>
                <a:ext cx="122400" cy="3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75680" y="1854360"/>
                <a:ext cx="140040" cy="33840"/>
              </a:xfrm>
              <a:custGeom>
                <a:avLst/>
                <a:gdLst/>
                <a:ahLst/>
                <a:rect l="0" t="0" r="r" b="b"/>
                <a:pathLst>
                  <a:path w="389" h="94">
                    <a:moveTo>
                      <a:pt x="0" y="84"/>
                    </a:moveTo>
                    <a:lnTo>
                      <a:pt x="0" y="0"/>
                    </a:lnTo>
                    <a:lnTo>
                      <a:pt x="389" y="10"/>
                    </a:lnTo>
                    <a:lnTo>
                      <a:pt x="380" y="9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97840" y="1914480"/>
                <a:ext cx="125640" cy="33840"/>
              </a:xfrm>
              <a:custGeom>
                <a:avLst/>
                <a:gdLst/>
                <a:ahLst/>
                <a:rect l="0" t="0" r="r" b="b"/>
                <a:pathLst>
                  <a:path w="349" h="94">
                    <a:moveTo>
                      <a:pt x="349" y="94"/>
                    </a:moveTo>
                    <a:lnTo>
                      <a:pt x="349" y="0"/>
                    </a:lnTo>
                    <a:lnTo>
                      <a:pt x="0" y="0"/>
                    </a:lnTo>
                    <a:lnTo>
                      <a:pt x="0" y="83"/>
                    </a:lnTo>
                    <a:lnTo>
                      <a:pt x="349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178840" y="1230480"/>
                <a:ext cx="109800" cy="1281600"/>
              </a:xfrm>
              <a:custGeom>
                <a:avLst/>
                <a:gdLst/>
                <a:ahLst/>
                <a:rect l="0" t="0" r="r" b="b"/>
                <a:pathLst>
                  <a:path w="305" h="3560">
                    <a:moveTo>
                      <a:pt x="227" y="437"/>
                    </a:moveTo>
                    <a:lnTo>
                      <a:pt x="243" y="27"/>
                    </a:lnTo>
                    <a:lnTo>
                      <a:pt x="247" y="15"/>
                    </a:lnTo>
                    <a:lnTo>
                      <a:pt x="255" y="3"/>
                    </a:lnTo>
                    <a:lnTo>
                      <a:pt x="264" y="0"/>
                    </a:lnTo>
                    <a:lnTo>
                      <a:pt x="276" y="0"/>
                    </a:lnTo>
                    <a:lnTo>
                      <a:pt x="288" y="0"/>
                    </a:lnTo>
                    <a:lnTo>
                      <a:pt x="297" y="3"/>
                    </a:lnTo>
                    <a:lnTo>
                      <a:pt x="305" y="15"/>
                    </a:lnTo>
                    <a:lnTo>
                      <a:pt x="305" y="27"/>
                    </a:lnTo>
                    <a:lnTo>
                      <a:pt x="280" y="429"/>
                    </a:lnTo>
                    <a:lnTo>
                      <a:pt x="143" y="3332"/>
                    </a:lnTo>
                    <a:lnTo>
                      <a:pt x="177" y="3347"/>
                    </a:lnTo>
                    <a:lnTo>
                      <a:pt x="206" y="3371"/>
                    </a:lnTo>
                    <a:lnTo>
                      <a:pt x="223" y="3405"/>
                    </a:lnTo>
                    <a:lnTo>
                      <a:pt x="227" y="3440"/>
                    </a:lnTo>
                    <a:lnTo>
                      <a:pt x="218" y="3487"/>
                    </a:lnTo>
                    <a:lnTo>
                      <a:pt x="194" y="3521"/>
                    </a:lnTo>
                    <a:lnTo>
                      <a:pt x="161" y="3549"/>
                    </a:lnTo>
                    <a:lnTo>
                      <a:pt x="119" y="3560"/>
                    </a:lnTo>
                    <a:lnTo>
                      <a:pt x="69" y="3549"/>
                    </a:lnTo>
                    <a:lnTo>
                      <a:pt x="32" y="3521"/>
                    </a:lnTo>
                    <a:lnTo>
                      <a:pt x="8" y="3487"/>
                    </a:lnTo>
                    <a:lnTo>
                      <a:pt x="0" y="3440"/>
                    </a:lnTo>
                    <a:lnTo>
                      <a:pt x="4" y="3405"/>
                    </a:lnTo>
                    <a:lnTo>
                      <a:pt x="24" y="3371"/>
                    </a:lnTo>
                    <a:lnTo>
                      <a:pt x="57" y="3347"/>
                    </a:lnTo>
                    <a:lnTo>
                      <a:pt x="94" y="3332"/>
                    </a:lnTo>
                    <a:lnTo>
                      <a:pt x="227" y="4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8172360" y="939960"/>
              <a:ext cx="51120" cy="76680"/>
            </a:xfrm>
            <a:custGeom>
              <a:avLst/>
              <a:gdLst/>
              <a:ahLst/>
              <a:rect l="0" t="0" r="r" b="b"/>
              <a:pathLst>
                <a:path w="142" h="213">
                  <a:moveTo>
                    <a:pt x="129" y="0"/>
                  </a:moveTo>
                  <a:lnTo>
                    <a:pt x="66" y="47"/>
                  </a:lnTo>
                  <a:lnTo>
                    <a:pt x="41" y="104"/>
                  </a:lnTo>
                  <a:lnTo>
                    <a:pt x="70" y="165"/>
                  </a:lnTo>
                  <a:lnTo>
                    <a:pt x="142" y="213"/>
                  </a:lnTo>
                  <a:lnTo>
                    <a:pt x="66" y="185"/>
                  </a:lnTo>
                  <a:lnTo>
                    <a:pt x="16" y="152"/>
                  </a:lnTo>
                  <a:lnTo>
                    <a:pt x="0" y="120"/>
                  </a:lnTo>
                  <a:lnTo>
                    <a:pt x="4" y="84"/>
                  </a:lnTo>
                  <a:lnTo>
                    <a:pt x="24" y="51"/>
                  </a:lnTo>
                  <a:lnTo>
                    <a:pt x="58" y="23"/>
                  </a:lnTo>
                  <a:lnTo>
                    <a:pt x="96" y="3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44000" y="979560"/>
              <a:ext cx="47880" cy="36720"/>
            </a:xfrm>
            <a:custGeom>
              <a:avLst/>
              <a:gdLst/>
              <a:ahLst/>
              <a:rect l="0" t="0" r="r" b="b"/>
              <a:pathLst>
                <a:path w="133" h="102">
                  <a:moveTo>
                    <a:pt x="0" y="102"/>
                  </a:moveTo>
                  <a:lnTo>
                    <a:pt x="64" y="102"/>
                  </a:lnTo>
                  <a:lnTo>
                    <a:pt x="111" y="78"/>
                  </a:lnTo>
                  <a:lnTo>
                    <a:pt x="133" y="40"/>
                  </a:lnTo>
                  <a:lnTo>
                    <a:pt x="124" y="0"/>
                  </a:lnTo>
                  <a:lnTo>
                    <a:pt x="111" y="32"/>
                  </a:lnTo>
                  <a:lnTo>
                    <a:pt x="94" y="57"/>
                  </a:lnTo>
                  <a:lnTo>
                    <a:pt x="59" y="7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8050320" y="822240"/>
              <a:ext cx="527400" cy="163800"/>
              <a:chOff x="8050320" y="822240"/>
              <a:chExt cx="527400" cy="163800"/>
            </a:xfrm>
          </p:grpSpPr>
          <p:sp>
            <p:nvSpPr>
              <p:cNvPr id="172" name=""/>
              <p:cNvSpPr/>
              <p:nvPr/>
            </p:nvSpPr>
            <p:spPr>
              <a:xfrm>
                <a:off x="8050320" y="822240"/>
                <a:ext cx="527400" cy="163800"/>
              </a:xfrm>
              <a:custGeom>
                <a:avLst/>
                <a:gdLst/>
                <a:ahLst/>
                <a:rect l="0" t="0" r="r" b="b"/>
                <a:pathLst>
                  <a:path w="1465" h="455">
                    <a:moveTo>
                      <a:pt x="1114" y="42"/>
                    </a:moveTo>
                    <a:lnTo>
                      <a:pt x="1073" y="19"/>
                    </a:lnTo>
                    <a:lnTo>
                      <a:pt x="1016" y="11"/>
                    </a:lnTo>
                    <a:lnTo>
                      <a:pt x="934" y="0"/>
                    </a:lnTo>
                    <a:lnTo>
                      <a:pt x="845" y="0"/>
                    </a:lnTo>
                    <a:lnTo>
                      <a:pt x="751" y="0"/>
                    </a:lnTo>
                    <a:lnTo>
                      <a:pt x="668" y="11"/>
                    </a:lnTo>
                    <a:lnTo>
                      <a:pt x="611" y="19"/>
                    </a:lnTo>
                    <a:lnTo>
                      <a:pt x="579" y="34"/>
                    </a:lnTo>
                    <a:lnTo>
                      <a:pt x="546" y="96"/>
                    </a:lnTo>
                    <a:lnTo>
                      <a:pt x="517" y="92"/>
                    </a:lnTo>
                    <a:lnTo>
                      <a:pt x="493" y="96"/>
                    </a:lnTo>
                    <a:lnTo>
                      <a:pt x="468" y="100"/>
                    </a:lnTo>
                    <a:lnTo>
                      <a:pt x="444" y="111"/>
                    </a:lnTo>
                    <a:lnTo>
                      <a:pt x="424" y="30"/>
                    </a:lnTo>
                    <a:lnTo>
                      <a:pt x="395" y="19"/>
                    </a:lnTo>
                    <a:lnTo>
                      <a:pt x="346" y="11"/>
                    </a:lnTo>
                    <a:lnTo>
                      <a:pt x="281" y="3"/>
                    </a:lnTo>
                    <a:lnTo>
                      <a:pt x="212" y="3"/>
                    </a:lnTo>
                    <a:lnTo>
                      <a:pt x="146" y="11"/>
                    </a:lnTo>
                    <a:lnTo>
                      <a:pt x="89" y="11"/>
                    </a:lnTo>
                    <a:lnTo>
                      <a:pt x="44" y="19"/>
                    </a:lnTo>
                    <a:lnTo>
                      <a:pt x="24" y="30"/>
                    </a:lnTo>
                    <a:lnTo>
                      <a:pt x="0" y="111"/>
                    </a:lnTo>
                    <a:lnTo>
                      <a:pt x="12" y="215"/>
                    </a:lnTo>
                    <a:lnTo>
                      <a:pt x="40" y="316"/>
                    </a:lnTo>
                    <a:lnTo>
                      <a:pt x="81" y="374"/>
                    </a:lnTo>
                    <a:lnTo>
                      <a:pt x="106" y="382"/>
                    </a:lnTo>
                    <a:lnTo>
                      <a:pt x="130" y="393"/>
                    </a:lnTo>
                    <a:lnTo>
                      <a:pt x="163" y="405"/>
                    </a:lnTo>
                    <a:lnTo>
                      <a:pt x="195" y="409"/>
                    </a:lnTo>
                    <a:lnTo>
                      <a:pt x="232" y="412"/>
                    </a:lnTo>
                    <a:lnTo>
                      <a:pt x="269" y="412"/>
                    </a:lnTo>
                    <a:lnTo>
                      <a:pt x="309" y="409"/>
                    </a:lnTo>
                    <a:lnTo>
                      <a:pt x="342" y="397"/>
                    </a:lnTo>
                    <a:lnTo>
                      <a:pt x="395" y="351"/>
                    </a:lnTo>
                    <a:lnTo>
                      <a:pt x="428" y="293"/>
                    </a:lnTo>
                    <a:lnTo>
                      <a:pt x="448" y="239"/>
                    </a:lnTo>
                    <a:lnTo>
                      <a:pt x="452" y="219"/>
                    </a:lnTo>
                    <a:lnTo>
                      <a:pt x="477" y="215"/>
                    </a:lnTo>
                    <a:lnTo>
                      <a:pt x="509" y="215"/>
                    </a:lnTo>
                    <a:lnTo>
                      <a:pt x="534" y="219"/>
                    </a:lnTo>
                    <a:lnTo>
                      <a:pt x="562" y="235"/>
                    </a:lnTo>
                    <a:lnTo>
                      <a:pt x="575" y="262"/>
                    </a:lnTo>
                    <a:lnTo>
                      <a:pt x="599" y="312"/>
                    </a:lnTo>
                    <a:lnTo>
                      <a:pt x="644" y="378"/>
                    </a:lnTo>
                    <a:lnTo>
                      <a:pt x="697" y="424"/>
                    </a:lnTo>
                    <a:lnTo>
                      <a:pt x="735" y="439"/>
                    </a:lnTo>
                    <a:lnTo>
                      <a:pt x="783" y="443"/>
                    </a:lnTo>
                    <a:lnTo>
                      <a:pt x="845" y="451"/>
                    </a:lnTo>
                    <a:lnTo>
                      <a:pt x="902" y="455"/>
                    </a:lnTo>
                    <a:lnTo>
                      <a:pt x="967" y="451"/>
                    </a:lnTo>
                    <a:lnTo>
                      <a:pt x="1020" y="443"/>
                    </a:lnTo>
                    <a:lnTo>
                      <a:pt x="1065" y="439"/>
                    </a:lnTo>
                    <a:lnTo>
                      <a:pt x="1089" y="428"/>
                    </a:lnTo>
                    <a:lnTo>
                      <a:pt x="1122" y="378"/>
                    </a:lnTo>
                    <a:lnTo>
                      <a:pt x="1138" y="301"/>
                    </a:lnTo>
                    <a:lnTo>
                      <a:pt x="1151" y="231"/>
                    </a:lnTo>
                    <a:lnTo>
                      <a:pt x="1155" y="200"/>
                    </a:lnTo>
                    <a:lnTo>
                      <a:pt x="1465" y="107"/>
                    </a:lnTo>
                    <a:lnTo>
                      <a:pt x="1465" y="0"/>
                    </a:lnTo>
                    <a:lnTo>
                      <a:pt x="1114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296200" y="839880"/>
                <a:ext cx="100440" cy="130680"/>
              </a:xfrm>
              <a:custGeom>
                <a:avLst/>
                <a:gdLst/>
                <a:ahLst/>
                <a:rect l="0" t="0" r="r" b="b"/>
                <a:pathLst>
                  <a:path w="279" h="363">
                    <a:moveTo>
                      <a:pt x="178" y="0"/>
                    </a:moveTo>
                    <a:lnTo>
                      <a:pt x="279" y="203"/>
                    </a:lnTo>
                    <a:lnTo>
                      <a:pt x="145" y="187"/>
                    </a:lnTo>
                    <a:lnTo>
                      <a:pt x="215" y="355"/>
                    </a:lnTo>
                    <a:lnTo>
                      <a:pt x="186" y="363"/>
                    </a:lnTo>
                    <a:lnTo>
                      <a:pt x="153" y="363"/>
                    </a:lnTo>
                    <a:lnTo>
                      <a:pt x="129" y="355"/>
                    </a:lnTo>
                    <a:lnTo>
                      <a:pt x="97" y="351"/>
                    </a:lnTo>
                    <a:lnTo>
                      <a:pt x="0" y="109"/>
                    </a:lnTo>
                    <a:lnTo>
                      <a:pt x="117" y="117"/>
                    </a:lnTo>
                    <a:lnTo>
                      <a:pt x="56" y="11"/>
                    </a:lnTo>
                    <a:lnTo>
                      <a:pt x="85" y="3"/>
                    </a:lnTo>
                    <a:lnTo>
                      <a:pt x="117" y="3"/>
                    </a:lnTo>
                    <a:lnTo>
                      <a:pt x="149" y="0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078760" y="841320"/>
                <a:ext cx="89280" cy="114840"/>
              </a:xfrm>
              <a:custGeom>
                <a:avLst/>
                <a:gdLst/>
                <a:ahLst/>
                <a:rect l="0" t="0" r="r" b="b"/>
                <a:pathLst>
                  <a:path w="248" h="319">
                    <a:moveTo>
                      <a:pt x="154" y="0"/>
                    </a:moveTo>
                    <a:lnTo>
                      <a:pt x="248" y="182"/>
                    </a:lnTo>
                    <a:lnTo>
                      <a:pt x="130" y="167"/>
                    </a:lnTo>
                    <a:lnTo>
                      <a:pt x="188" y="319"/>
                    </a:lnTo>
                    <a:lnTo>
                      <a:pt x="166" y="319"/>
                    </a:lnTo>
                    <a:lnTo>
                      <a:pt x="138" y="319"/>
                    </a:lnTo>
                    <a:lnTo>
                      <a:pt x="118" y="315"/>
                    </a:lnTo>
                    <a:lnTo>
                      <a:pt x="90" y="311"/>
                    </a:lnTo>
                    <a:lnTo>
                      <a:pt x="0" y="93"/>
                    </a:lnTo>
                    <a:lnTo>
                      <a:pt x="114" y="105"/>
                    </a:lnTo>
                    <a:lnTo>
                      <a:pt x="52" y="11"/>
                    </a:lnTo>
                    <a:lnTo>
                      <a:pt x="73" y="7"/>
                    </a:lnTo>
                    <a:lnTo>
                      <a:pt x="102" y="7"/>
                    </a:lnTo>
                    <a:lnTo>
                      <a:pt x="134" y="0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8143920" y="1052640"/>
              <a:ext cx="257400" cy="71640"/>
            </a:xfrm>
            <a:custGeom>
              <a:avLst/>
              <a:gdLst/>
              <a:ahLst/>
              <a:rect l="0" t="0" r="r" b="b"/>
              <a:pathLst>
                <a:path w="715" h="199">
                  <a:moveTo>
                    <a:pt x="0" y="186"/>
                  </a:moveTo>
                  <a:lnTo>
                    <a:pt x="198" y="39"/>
                  </a:lnTo>
                  <a:lnTo>
                    <a:pt x="251" y="0"/>
                  </a:lnTo>
                  <a:lnTo>
                    <a:pt x="715" y="199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8137440" y="1676520"/>
            <a:ext cx="146520" cy="830520"/>
          </a:xfrm>
          <a:custGeom>
            <a:avLst/>
            <a:gdLst/>
            <a:ahLst/>
            <a:rect l="0" t="0" r="r" b="b"/>
            <a:pathLst>
              <a:path w="407" h="2307">
                <a:moveTo>
                  <a:pt x="407" y="0"/>
                </a:moveTo>
                <a:lnTo>
                  <a:pt x="247" y="2138"/>
                </a:lnTo>
                <a:lnTo>
                  <a:pt x="310" y="2146"/>
                </a:lnTo>
                <a:lnTo>
                  <a:pt x="359" y="2162"/>
                </a:lnTo>
                <a:lnTo>
                  <a:pt x="390" y="2186"/>
                </a:lnTo>
                <a:lnTo>
                  <a:pt x="398" y="2214"/>
                </a:lnTo>
                <a:lnTo>
                  <a:pt x="385" y="2246"/>
                </a:lnTo>
                <a:lnTo>
                  <a:pt x="341" y="2275"/>
                </a:lnTo>
                <a:lnTo>
                  <a:pt x="283" y="2295"/>
                </a:lnTo>
                <a:lnTo>
                  <a:pt x="212" y="2307"/>
                </a:lnTo>
                <a:lnTo>
                  <a:pt x="124" y="2303"/>
                </a:lnTo>
                <a:lnTo>
                  <a:pt x="57" y="2283"/>
                </a:lnTo>
                <a:lnTo>
                  <a:pt x="13" y="2258"/>
                </a:lnTo>
                <a:lnTo>
                  <a:pt x="0" y="2226"/>
                </a:lnTo>
                <a:lnTo>
                  <a:pt x="4" y="2198"/>
                </a:lnTo>
                <a:lnTo>
                  <a:pt x="39" y="2174"/>
                </a:lnTo>
                <a:lnTo>
                  <a:pt x="97" y="2154"/>
                </a:lnTo>
                <a:lnTo>
                  <a:pt x="164" y="2142"/>
                </a:lnTo>
                <a:lnTo>
                  <a:pt x="310" y="8"/>
                </a:lnTo>
                <a:lnTo>
                  <a:pt x="407" y="0"/>
                </a:lnTo>
                <a:close/>
              </a:path>
            </a:pathLst>
          </a:custGeom>
          <a:solidFill>
            <a:srgbClr val="ff00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2362680" cy="1524240"/>
            <a:chOff x="228600" y="3809880"/>
            <a:chExt cx="2362680" cy="152424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2362680" cy="1524240"/>
            </a:xfrm>
            <a:custGeom>
              <a:avLst/>
              <a:gdLst/>
              <a:ahLst/>
              <a:rect l="0" t="0" r="r" b="b"/>
              <a:pathLst>
                <a:path w="6563" h="4234">
                  <a:moveTo>
                    <a:pt x="6563" y="3811"/>
                  </a:moveTo>
                  <a:lnTo>
                    <a:pt x="6563" y="846"/>
                  </a:lnTo>
                  <a:lnTo>
                    <a:pt x="5907" y="423"/>
                  </a:lnTo>
                  <a:lnTo>
                    <a:pt x="5251" y="423"/>
                  </a:lnTo>
                  <a:lnTo>
                    <a:pt x="5907" y="0"/>
                  </a:lnTo>
                  <a:lnTo>
                    <a:pt x="4594" y="423"/>
                  </a:lnTo>
                  <a:lnTo>
                    <a:pt x="656" y="423"/>
                  </a:lnTo>
                  <a:lnTo>
                    <a:pt x="0" y="846"/>
                  </a:lnTo>
                  <a:lnTo>
                    <a:pt x="0" y="3811"/>
                  </a:lnTo>
                  <a:lnTo>
                    <a:pt x="656" y="4234"/>
                  </a:lnTo>
                  <a:lnTo>
                    <a:pt x="5907" y="4234"/>
                  </a:lnTo>
                  <a:lnTo>
                    <a:pt x="6563" y="381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385920" y="4267080"/>
              <a:ext cx="212580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HAHAHAHAHAHAHA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886040" y="1905120"/>
            <a:ext cx="3829320" cy="4405680"/>
            <a:chOff x="1886040" y="1905120"/>
            <a:chExt cx="3829320" cy="4405680"/>
          </a:xfrm>
        </p:grpSpPr>
        <p:sp>
          <p:nvSpPr>
            <p:cNvPr id="181" name=""/>
            <p:cNvSpPr/>
            <p:nvPr/>
          </p:nvSpPr>
          <p:spPr>
            <a:xfrm>
              <a:off x="3456000" y="3638520"/>
              <a:ext cx="810000" cy="1422720"/>
            </a:xfrm>
            <a:custGeom>
              <a:avLst/>
              <a:gdLst/>
              <a:ahLst/>
              <a:rect l="0" t="0" r="r" b="b"/>
              <a:pathLst>
                <a:path w="2250" h="3952">
                  <a:moveTo>
                    <a:pt x="1258" y="186"/>
                  </a:moveTo>
                  <a:lnTo>
                    <a:pt x="945" y="0"/>
                  </a:lnTo>
                  <a:lnTo>
                    <a:pt x="539" y="0"/>
                  </a:lnTo>
                  <a:lnTo>
                    <a:pt x="226" y="154"/>
                  </a:lnTo>
                  <a:lnTo>
                    <a:pt x="11" y="442"/>
                  </a:lnTo>
                  <a:lnTo>
                    <a:pt x="0" y="634"/>
                  </a:lnTo>
                  <a:lnTo>
                    <a:pt x="63" y="879"/>
                  </a:lnTo>
                  <a:lnTo>
                    <a:pt x="226" y="1061"/>
                  </a:lnTo>
                  <a:lnTo>
                    <a:pt x="486" y="1381"/>
                  </a:lnTo>
                  <a:lnTo>
                    <a:pt x="655" y="1770"/>
                  </a:lnTo>
                  <a:lnTo>
                    <a:pt x="754" y="2107"/>
                  </a:lnTo>
                  <a:lnTo>
                    <a:pt x="754" y="2517"/>
                  </a:lnTo>
                  <a:lnTo>
                    <a:pt x="621" y="2923"/>
                  </a:lnTo>
                  <a:lnTo>
                    <a:pt x="621" y="3317"/>
                  </a:lnTo>
                  <a:lnTo>
                    <a:pt x="702" y="3637"/>
                  </a:lnTo>
                  <a:lnTo>
                    <a:pt x="928" y="3866"/>
                  </a:lnTo>
                  <a:lnTo>
                    <a:pt x="1177" y="3952"/>
                  </a:lnTo>
                  <a:lnTo>
                    <a:pt x="1473" y="3909"/>
                  </a:lnTo>
                  <a:lnTo>
                    <a:pt x="1804" y="3834"/>
                  </a:lnTo>
                  <a:lnTo>
                    <a:pt x="2036" y="3621"/>
                  </a:lnTo>
                  <a:lnTo>
                    <a:pt x="2164" y="3120"/>
                  </a:lnTo>
                  <a:lnTo>
                    <a:pt x="2250" y="2683"/>
                  </a:lnTo>
                  <a:lnTo>
                    <a:pt x="2181" y="2075"/>
                  </a:lnTo>
                  <a:lnTo>
                    <a:pt x="2019" y="1562"/>
                  </a:lnTo>
                  <a:lnTo>
                    <a:pt x="1787" y="1034"/>
                  </a:lnTo>
                  <a:lnTo>
                    <a:pt x="1508" y="490"/>
                  </a:lnTo>
                  <a:lnTo>
                    <a:pt x="1258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25840" y="1905120"/>
              <a:ext cx="373320" cy="451080"/>
            </a:xfrm>
            <a:custGeom>
              <a:avLst/>
              <a:gdLst/>
              <a:ahLst/>
              <a:rect l="0" t="0" r="r" b="b"/>
              <a:pathLst>
                <a:path w="1037" h="1253">
                  <a:moveTo>
                    <a:pt x="1037" y="1226"/>
                  </a:moveTo>
                  <a:lnTo>
                    <a:pt x="885" y="752"/>
                  </a:lnTo>
                  <a:lnTo>
                    <a:pt x="477" y="271"/>
                  </a:lnTo>
                  <a:lnTo>
                    <a:pt x="110" y="0"/>
                  </a:lnTo>
                  <a:lnTo>
                    <a:pt x="0" y="101"/>
                  </a:lnTo>
                  <a:lnTo>
                    <a:pt x="395" y="378"/>
                  </a:lnTo>
                  <a:lnTo>
                    <a:pt x="542" y="543"/>
                  </a:lnTo>
                  <a:lnTo>
                    <a:pt x="757" y="864"/>
                  </a:lnTo>
                  <a:lnTo>
                    <a:pt x="874" y="1253"/>
                  </a:lnTo>
                  <a:lnTo>
                    <a:pt x="1037" y="1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6040" y="2427120"/>
              <a:ext cx="616320" cy="284400"/>
            </a:xfrm>
            <a:custGeom>
              <a:avLst/>
              <a:gdLst/>
              <a:ahLst/>
              <a:rect l="0" t="0" r="r" b="b"/>
              <a:pathLst>
                <a:path w="1712" h="790">
                  <a:moveTo>
                    <a:pt x="1712" y="689"/>
                  </a:moveTo>
                  <a:lnTo>
                    <a:pt x="1218" y="368"/>
                  </a:lnTo>
                  <a:lnTo>
                    <a:pt x="609" y="122"/>
                  </a:lnTo>
                  <a:lnTo>
                    <a:pt x="69" y="0"/>
                  </a:lnTo>
                  <a:lnTo>
                    <a:pt x="0" y="197"/>
                  </a:lnTo>
                  <a:lnTo>
                    <a:pt x="760" y="336"/>
                  </a:lnTo>
                  <a:lnTo>
                    <a:pt x="1388" y="641"/>
                  </a:lnTo>
                  <a:lnTo>
                    <a:pt x="1660" y="790"/>
                  </a:lnTo>
                  <a:lnTo>
                    <a:pt x="1712" y="6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63800" y="3220920"/>
              <a:ext cx="609840" cy="402120"/>
            </a:xfrm>
            <a:custGeom>
              <a:avLst/>
              <a:gdLst/>
              <a:ahLst/>
              <a:rect l="0" t="0" r="r" b="b"/>
              <a:pathLst>
                <a:path w="1694" h="1117">
                  <a:moveTo>
                    <a:pt x="1526" y="0"/>
                  </a:moveTo>
                  <a:lnTo>
                    <a:pt x="853" y="319"/>
                  </a:lnTo>
                  <a:lnTo>
                    <a:pt x="307" y="649"/>
                  </a:lnTo>
                  <a:lnTo>
                    <a:pt x="0" y="921"/>
                  </a:lnTo>
                  <a:lnTo>
                    <a:pt x="278" y="1117"/>
                  </a:lnTo>
                  <a:lnTo>
                    <a:pt x="620" y="649"/>
                  </a:lnTo>
                  <a:lnTo>
                    <a:pt x="1184" y="346"/>
                  </a:lnTo>
                  <a:lnTo>
                    <a:pt x="1694" y="74"/>
                  </a:lnTo>
                  <a:lnTo>
                    <a:pt x="15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27360" y="3784680"/>
              <a:ext cx="1020960" cy="1035360"/>
            </a:xfrm>
            <a:custGeom>
              <a:avLst/>
              <a:gdLst/>
              <a:ahLst/>
              <a:rect l="0" t="0" r="r" b="b"/>
              <a:pathLst>
                <a:path w="2836" h="2876">
                  <a:moveTo>
                    <a:pt x="2442" y="181"/>
                  </a:moveTo>
                  <a:lnTo>
                    <a:pt x="2273" y="58"/>
                  </a:lnTo>
                  <a:lnTo>
                    <a:pt x="1949" y="0"/>
                  </a:lnTo>
                  <a:lnTo>
                    <a:pt x="1549" y="213"/>
                  </a:lnTo>
                  <a:lnTo>
                    <a:pt x="956" y="453"/>
                  </a:lnTo>
                  <a:lnTo>
                    <a:pt x="498" y="874"/>
                  </a:lnTo>
                  <a:lnTo>
                    <a:pt x="133" y="1392"/>
                  </a:lnTo>
                  <a:lnTo>
                    <a:pt x="0" y="1697"/>
                  </a:lnTo>
                  <a:lnTo>
                    <a:pt x="34" y="1846"/>
                  </a:lnTo>
                  <a:lnTo>
                    <a:pt x="330" y="2028"/>
                  </a:lnTo>
                  <a:lnTo>
                    <a:pt x="1026" y="2118"/>
                  </a:lnTo>
                  <a:lnTo>
                    <a:pt x="1781" y="2086"/>
                  </a:lnTo>
                  <a:lnTo>
                    <a:pt x="2076" y="2209"/>
                  </a:lnTo>
                  <a:lnTo>
                    <a:pt x="2042" y="2417"/>
                  </a:lnTo>
                  <a:lnTo>
                    <a:pt x="1746" y="2721"/>
                  </a:lnTo>
                  <a:lnTo>
                    <a:pt x="1850" y="2785"/>
                  </a:lnTo>
                  <a:lnTo>
                    <a:pt x="2181" y="2481"/>
                  </a:lnTo>
                  <a:lnTo>
                    <a:pt x="2245" y="2513"/>
                  </a:lnTo>
                  <a:lnTo>
                    <a:pt x="2273" y="2876"/>
                  </a:lnTo>
                  <a:lnTo>
                    <a:pt x="2372" y="2876"/>
                  </a:lnTo>
                  <a:lnTo>
                    <a:pt x="2372" y="2454"/>
                  </a:lnTo>
                  <a:lnTo>
                    <a:pt x="2442" y="2417"/>
                  </a:lnTo>
                  <a:lnTo>
                    <a:pt x="2708" y="2662"/>
                  </a:lnTo>
                  <a:lnTo>
                    <a:pt x="2772" y="2572"/>
                  </a:lnTo>
                  <a:lnTo>
                    <a:pt x="2476" y="2332"/>
                  </a:lnTo>
                  <a:lnTo>
                    <a:pt x="2476" y="2241"/>
                  </a:lnTo>
                  <a:lnTo>
                    <a:pt x="2836" y="2086"/>
                  </a:lnTo>
                  <a:lnTo>
                    <a:pt x="2801" y="2028"/>
                  </a:lnTo>
                  <a:lnTo>
                    <a:pt x="2372" y="2086"/>
                  </a:lnTo>
                  <a:lnTo>
                    <a:pt x="2111" y="2028"/>
                  </a:lnTo>
                  <a:lnTo>
                    <a:pt x="1850" y="1937"/>
                  </a:lnTo>
                  <a:lnTo>
                    <a:pt x="1514" y="1910"/>
                  </a:lnTo>
                  <a:lnTo>
                    <a:pt x="1090" y="1878"/>
                  </a:lnTo>
                  <a:lnTo>
                    <a:pt x="661" y="1814"/>
                  </a:lnTo>
                  <a:lnTo>
                    <a:pt x="394" y="1665"/>
                  </a:lnTo>
                  <a:lnTo>
                    <a:pt x="394" y="1569"/>
                  </a:lnTo>
                  <a:lnTo>
                    <a:pt x="591" y="1301"/>
                  </a:lnTo>
                  <a:lnTo>
                    <a:pt x="956" y="1061"/>
                  </a:lnTo>
                  <a:lnTo>
                    <a:pt x="1351" y="874"/>
                  </a:lnTo>
                  <a:lnTo>
                    <a:pt x="1978" y="725"/>
                  </a:lnTo>
                  <a:lnTo>
                    <a:pt x="2337" y="544"/>
                  </a:lnTo>
                  <a:lnTo>
                    <a:pt x="2442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21000" y="2727360"/>
              <a:ext cx="1235520" cy="1070280"/>
            </a:xfrm>
            <a:custGeom>
              <a:avLst/>
              <a:gdLst/>
              <a:ahLst/>
              <a:rect l="0" t="0" r="r" b="b"/>
              <a:pathLst>
                <a:path w="3432" h="2973">
                  <a:moveTo>
                    <a:pt x="1374" y="2552"/>
                  </a:moveTo>
                  <a:lnTo>
                    <a:pt x="1739" y="2387"/>
                  </a:lnTo>
                  <a:lnTo>
                    <a:pt x="2394" y="2312"/>
                  </a:lnTo>
                  <a:lnTo>
                    <a:pt x="2772" y="2184"/>
                  </a:lnTo>
                  <a:lnTo>
                    <a:pt x="2957" y="1977"/>
                  </a:lnTo>
                  <a:lnTo>
                    <a:pt x="3021" y="1508"/>
                  </a:lnTo>
                  <a:lnTo>
                    <a:pt x="2969" y="1310"/>
                  </a:lnTo>
                  <a:lnTo>
                    <a:pt x="2627" y="1118"/>
                  </a:lnTo>
                  <a:lnTo>
                    <a:pt x="2203" y="964"/>
                  </a:lnTo>
                  <a:lnTo>
                    <a:pt x="1687" y="964"/>
                  </a:lnTo>
                  <a:lnTo>
                    <a:pt x="1148" y="1022"/>
                  </a:lnTo>
                  <a:lnTo>
                    <a:pt x="997" y="916"/>
                  </a:lnTo>
                  <a:lnTo>
                    <a:pt x="846" y="633"/>
                  </a:lnTo>
                  <a:lnTo>
                    <a:pt x="550" y="468"/>
                  </a:lnTo>
                  <a:lnTo>
                    <a:pt x="254" y="468"/>
                  </a:lnTo>
                  <a:lnTo>
                    <a:pt x="63" y="527"/>
                  </a:lnTo>
                  <a:lnTo>
                    <a:pt x="0" y="372"/>
                  </a:lnTo>
                  <a:lnTo>
                    <a:pt x="162" y="26"/>
                  </a:lnTo>
                  <a:lnTo>
                    <a:pt x="359" y="0"/>
                  </a:lnTo>
                  <a:lnTo>
                    <a:pt x="718" y="207"/>
                  </a:lnTo>
                  <a:lnTo>
                    <a:pt x="951" y="388"/>
                  </a:lnTo>
                  <a:lnTo>
                    <a:pt x="1160" y="692"/>
                  </a:lnTo>
                  <a:lnTo>
                    <a:pt x="1212" y="798"/>
                  </a:lnTo>
                  <a:lnTo>
                    <a:pt x="1623" y="719"/>
                  </a:lnTo>
                  <a:lnTo>
                    <a:pt x="2185" y="692"/>
                  </a:lnTo>
                  <a:lnTo>
                    <a:pt x="2662" y="782"/>
                  </a:lnTo>
                  <a:lnTo>
                    <a:pt x="3067" y="964"/>
                  </a:lnTo>
                  <a:lnTo>
                    <a:pt x="3363" y="1219"/>
                  </a:lnTo>
                  <a:lnTo>
                    <a:pt x="3432" y="1416"/>
                  </a:lnTo>
                  <a:lnTo>
                    <a:pt x="3334" y="1966"/>
                  </a:lnTo>
                  <a:lnTo>
                    <a:pt x="3102" y="2371"/>
                  </a:lnTo>
                  <a:lnTo>
                    <a:pt x="2475" y="2776"/>
                  </a:lnTo>
                  <a:lnTo>
                    <a:pt x="1785" y="2973"/>
                  </a:lnTo>
                  <a:lnTo>
                    <a:pt x="1426" y="2946"/>
                  </a:lnTo>
                  <a:lnTo>
                    <a:pt x="1310" y="2760"/>
                  </a:lnTo>
                  <a:lnTo>
                    <a:pt x="1374" y="25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59280" y="4853160"/>
              <a:ext cx="808560" cy="1337040"/>
            </a:xfrm>
            <a:custGeom>
              <a:avLst/>
              <a:gdLst/>
              <a:ahLst/>
              <a:rect l="0" t="0" r="r" b="b"/>
              <a:pathLst>
                <a:path w="2246" h="3714">
                  <a:moveTo>
                    <a:pt x="1253" y="452"/>
                  </a:moveTo>
                  <a:lnTo>
                    <a:pt x="795" y="90"/>
                  </a:lnTo>
                  <a:lnTo>
                    <a:pt x="330" y="0"/>
                  </a:lnTo>
                  <a:lnTo>
                    <a:pt x="0" y="239"/>
                  </a:lnTo>
                  <a:lnTo>
                    <a:pt x="266" y="574"/>
                  </a:lnTo>
                  <a:lnTo>
                    <a:pt x="662" y="723"/>
                  </a:lnTo>
                  <a:lnTo>
                    <a:pt x="1584" y="1208"/>
                  </a:lnTo>
                  <a:lnTo>
                    <a:pt x="1811" y="1357"/>
                  </a:lnTo>
                  <a:lnTo>
                    <a:pt x="1811" y="1511"/>
                  </a:lnTo>
                  <a:lnTo>
                    <a:pt x="1450" y="1841"/>
                  </a:lnTo>
                  <a:lnTo>
                    <a:pt x="824" y="2389"/>
                  </a:lnTo>
                  <a:lnTo>
                    <a:pt x="498" y="2810"/>
                  </a:lnTo>
                  <a:lnTo>
                    <a:pt x="498" y="2991"/>
                  </a:lnTo>
                  <a:lnTo>
                    <a:pt x="527" y="3081"/>
                  </a:lnTo>
                  <a:lnTo>
                    <a:pt x="824" y="3108"/>
                  </a:lnTo>
                  <a:lnTo>
                    <a:pt x="1323" y="3294"/>
                  </a:lnTo>
                  <a:lnTo>
                    <a:pt x="1653" y="3566"/>
                  </a:lnTo>
                  <a:lnTo>
                    <a:pt x="1881" y="3714"/>
                  </a:lnTo>
                  <a:lnTo>
                    <a:pt x="2014" y="3683"/>
                  </a:lnTo>
                  <a:lnTo>
                    <a:pt x="2211" y="3353"/>
                  </a:lnTo>
                  <a:lnTo>
                    <a:pt x="2043" y="3204"/>
                  </a:lnTo>
                  <a:lnTo>
                    <a:pt x="1514" y="3050"/>
                  </a:lnTo>
                  <a:lnTo>
                    <a:pt x="992" y="2933"/>
                  </a:lnTo>
                  <a:lnTo>
                    <a:pt x="760" y="2933"/>
                  </a:lnTo>
                  <a:lnTo>
                    <a:pt x="691" y="2874"/>
                  </a:lnTo>
                  <a:lnTo>
                    <a:pt x="824" y="2719"/>
                  </a:lnTo>
                  <a:lnTo>
                    <a:pt x="1189" y="2474"/>
                  </a:lnTo>
                  <a:lnTo>
                    <a:pt x="1682" y="2203"/>
                  </a:lnTo>
                  <a:lnTo>
                    <a:pt x="2113" y="1814"/>
                  </a:lnTo>
                  <a:lnTo>
                    <a:pt x="2246" y="1511"/>
                  </a:lnTo>
                  <a:lnTo>
                    <a:pt x="2182" y="1208"/>
                  </a:lnTo>
                  <a:lnTo>
                    <a:pt x="1852" y="877"/>
                  </a:lnTo>
                  <a:lnTo>
                    <a:pt x="1555" y="638"/>
                  </a:lnTo>
                  <a:lnTo>
                    <a:pt x="1253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4854600"/>
              <a:ext cx="721080" cy="1456200"/>
            </a:xfrm>
            <a:custGeom>
              <a:avLst/>
              <a:gdLst/>
              <a:ahLst/>
              <a:rect l="0" t="0" r="r" b="b"/>
              <a:pathLst>
                <a:path w="2003" h="4045">
                  <a:moveTo>
                    <a:pt x="1407" y="814"/>
                  </a:moveTo>
                  <a:lnTo>
                    <a:pt x="1048" y="356"/>
                  </a:lnTo>
                  <a:lnTo>
                    <a:pt x="786" y="26"/>
                  </a:lnTo>
                  <a:lnTo>
                    <a:pt x="457" y="0"/>
                  </a:lnTo>
                  <a:lnTo>
                    <a:pt x="231" y="148"/>
                  </a:lnTo>
                  <a:lnTo>
                    <a:pt x="266" y="420"/>
                  </a:lnTo>
                  <a:lnTo>
                    <a:pt x="561" y="691"/>
                  </a:lnTo>
                  <a:lnTo>
                    <a:pt x="1378" y="1506"/>
                  </a:lnTo>
                  <a:lnTo>
                    <a:pt x="1574" y="1778"/>
                  </a:lnTo>
                  <a:lnTo>
                    <a:pt x="1574" y="1905"/>
                  </a:lnTo>
                  <a:lnTo>
                    <a:pt x="1343" y="2113"/>
                  </a:lnTo>
                  <a:lnTo>
                    <a:pt x="688" y="2352"/>
                  </a:lnTo>
                  <a:lnTo>
                    <a:pt x="196" y="2597"/>
                  </a:lnTo>
                  <a:lnTo>
                    <a:pt x="63" y="2778"/>
                  </a:lnTo>
                  <a:lnTo>
                    <a:pt x="0" y="2985"/>
                  </a:lnTo>
                  <a:lnTo>
                    <a:pt x="34" y="3444"/>
                  </a:lnTo>
                  <a:lnTo>
                    <a:pt x="127" y="3715"/>
                  </a:lnTo>
                  <a:lnTo>
                    <a:pt x="393" y="4045"/>
                  </a:lnTo>
                  <a:lnTo>
                    <a:pt x="624" y="4045"/>
                  </a:lnTo>
                  <a:lnTo>
                    <a:pt x="885" y="3891"/>
                  </a:lnTo>
                  <a:lnTo>
                    <a:pt x="885" y="3774"/>
                  </a:lnTo>
                  <a:lnTo>
                    <a:pt x="653" y="3657"/>
                  </a:lnTo>
                  <a:lnTo>
                    <a:pt x="393" y="3503"/>
                  </a:lnTo>
                  <a:lnTo>
                    <a:pt x="231" y="3316"/>
                  </a:lnTo>
                  <a:lnTo>
                    <a:pt x="196" y="2927"/>
                  </a:lnTo>
                  <a:lnTo>
                    <a:pt x="329" y="2778"/>
                  </a:lnTo>
                  <a:lnTo>
                    <a:pt x="590" y="2656"/>
                  </a:lnTo>
                  <a:lnTo>
                    <a:pt x="1083" y="2507"/>
                  </a:lnTo>
                  <a:lnTo>
                    <a:pt x="1800" y="2262"/>
                  </a:lnTo>
                  <a:lnTo>
                    <a:pt x="2003" y="2081"/>
                  </a:lnTo>
                  <a:lnTo>
                    <a:pt x="2003" y="1810"/>
                  </a:lnTo>
                  <a:lnTo>
                    <a:pt x="1800" y="1448"/>
                  </a:lnTo>
                  <a:lnTo>
                    <a:pt x="1609" y="1144"/>
                  </a:lnTo>
                  <a:lnTo>
                    <a:pt x="1407" y="8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0600" y="3516480"/>
              <a:ext cx="644760" cy="190800"/>
            </a:xfrm>
            <a:custGeom>
              <a:avLst/>
              <a:gdLst/>
              <a:ahLst/>
              <a:rect l="0" t="0" r="r" b="b"/>
              <a:pathLst>
                <a:path w="1791" h="530">
                  <a:moveTo>
                    <a:pt x="28" y="0"/>
                  </a:moveTo>
                  <a:lnTo>
                    <a:pt x="619" y="0"/>
                  </a:lnTo>
                  <a:lnTo>
                    <a:pt x="1281" y="137"/>
                  </a:lnTo>
                  <a:lnTo>
                    <a:pt x="1791" y="334"/>
                  </a:lnTo>
                  <a:lnTo>
                    <a:pt x="1727" y="530"/>
                  </a:lnTo>
                  <a:lnTo>
                    <a:pt x="1014" y="227"/>
                  </a:lnTo>
                  <a:lnTo>
                    <a:pt x="324" y="137"/>
                  </a:lnTo>
                  <a:lnTo>
                    <a:pt x="0" y="10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96000" y="3840120"/>
              <a:ext cx="608400" cy="403560"/>
            </a:xfrm>
            <a:custGeom>
              <a:avLst/>
              <a:gdLst/>
              <a:ahLst/>
              <a:rect l="0" t="0" r="r" b="b"/>
              <a:pathLst>
                <a:path w="1690" h="1121">
                  <a:moveTo>
                    <a:pt x="161" y="0"/>
                  </a:moveTo>
                  <a:lnTo>
                    <a:pt x="833" y="314"/>
                  </a:lnTo>
                  <a:lnTo>
                    <a:pt x="1378" y="646"/>
                  </a:lnTo>
                  <a:lnTo>
                    <a:pt x="1690" y="918"/>
                  </a:lnTo>
                  <a:lnTo>
                    <a:pt x="1407" y="1121"/>
                  </a:lnTo>
                  <a:lnTo>
                    <a:pt x="1065" y="646"/>
                  </a:lnTo>
                  <a:lnTo>
                    <a:pt x="504" y="346"/>
                  </a:lnTo>
                  <a:lnTo>
                    <a:pt x="0" y="69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655720" y="2448000"/>
              <a:ext cx="1032480" cy="1197360"/>
              <a:chOff x="2655720" y="2448000"/>
              <a:chExt cx="1032480" cy="1197360"/>
            </a:xfrm>
          </p:grpSpPr>
          <p:sp>
            <p:nvSpPr>
              <p:cNvPr id="192" name=""/>
              <p:cNvSpPr/>
              <p:nvPr/>
            </p:nvSpPr>
            <p:spPr>
              <a:xfrm>
                <a:off x="2789280" y="2448000"/>
                <a:ext cx="898920" cy="1197360"/>
              </a:xfrm>
              <a:custGeom>
                <a:avLst/>
                <a:gdLst/>
                <a:ahLst/>
                <a:rect l="0" t="0" r="r" b="b"/>
                <a:pathLst>
                  <a:path w="2497" h="3326">
                    <a:moveTo>
                      <a:pt x="1512" y="965"/>
                    </a:moveTo>
                    <a:lnTo>
                      <a:pt x="1199" y="708"/>
                    </a:lnTo>
                    <a:lnTo>
                      <a:pt x="794" y="618"/>
                    </a:lnTo>
                    <a:lnTo>
                      <a:pt x="422" y="698"/>
                    </a:lnTo>
                    <a:lnTo>
                      <a:pt x="127" y="917"/>
                    </a:lnTo>
                    <a:lnTo>
                      <a:pt x="0" y="1317"/>
                    </a:lnTo>
                    <a:lnTo>
                      <a:pt x="81" y="1892"/>
                    </a:lnTo>
                    <a:lnTo>
                      <a:pt x="422" y="2527"/>
                    </a:lnTo>
                    <a:lnTo>
                      <a:pt x="858" y="3028"/>
                    </a:lnTo>
                    <a:lnTo>
                      <a:pt x="1251" y="3252"/>
                    </a:lnTo>
                    <a:lnTo>
                      <a:pt x="1691" y="3326"/>
                    </a:lnTo>
                    <a:lnTo>
                      <a:pt x="2057" y="3284"/>
                    </a:lnTo>
                    <a:lnTo>
                      <a:pt x="2451" y="2996"/>
                    </a:lnTo>
                    <a:lnTo>
                      <a:pt x="2497" y="2692"/>
                    </a:lnTo>
                    <a:lnTo>
                      <a:pt x="2434" y="2206"/>
                    </a:lnTo>
                    <a:lnTo>
                      <a:pt x="2185" y="2361"/>
                    </a:lnTo>
                    <a:lnTo>
                      <a:pt x="1761" y="2452"/>
                    </a:lnTo>
                    <a:lnTo>
                      <a:pt x="1060" y="2249"/>
                    </a:lnTo>
                    <a:lnTo>
                      <a:pt x="1529" y="2057"/>
                    </a:lnTo>
                    <a:lnTo>
                      <a:pt x="1773" y="1913"/>
                    </a:lnTo>
                    <a:lnTo>
                      <a:pt x="2167" y="1620"/>
                    </a:lnTo>
                    <a:lnTo>
                      <a:pt x="1807" y="1119"/>
                    </a:lnTo>
                    <a:lnTo>
                      <a:pt x="2138" y="223"/>
                    </a:lnTo>
                    <a:lnTo>
                      <a:pt x="2092" y="69"/>
                    </a:lnTo>
                    <a:lnTo>
                      <a:pt x="1907" y="0"/>
                    </a:lnTo>
                    <a:lnTo>
                      <a:pt x="1807" y="101"/>
                    </a:lnTo>
                    <a:lnTo>
                      <a:pt x="1512" y="965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55720" y="2462040"/>
                <a:ext cx="659160" cy="914760"/>
              </a:xfrm>
              <a:custGeom>
                <a:avLst/>
                <a:gdLst/>
                <a:ahLst/>
                <a:rect l="0" t="0" r="r" b="b"/>
                <a:pathLst>
                  <a:path w="1831" h="2541">
                    <a:moveTo>
                      <a:pt x="418" y="1390"/>
                    </a:moveTo>
                    <a:lnTo>
                      <a:pt x="906" y="766"/>
                    </a:lnTo>
                    <a:lnTo>
                      <a:pt x="1482" y="271"/>
                    </a:lnTo>
                    <a:lnTo>
                      <a:pt x="1831" y="0"/>
                    </a:lnTo>
                    <a:lnTo>
                      <a:pt x="1308" y="15"/>
                    </a:lnTo>
                    <a:lnTo>
                      <a:pt x="610" y="287"/>
                    </a:lnTo>
                    <a:lnTo>
                      <a:pt x="261" y="638"/>
                    </a:lnTo>
                    <a:lnTo>
                      <a:pt x="104" y="1118"/>
                    </a:lnTo>
                    <a:lnTo>
                      <a:pt x="244" y="1390"/>
                    </a:lnTo>
                    <a:lnTo>
                      <a:pt x="0" y="1582"/>
                    </a:lnTo>
                    <a:lnTo>
                      <a:pt x="87" y="2013"/>
                    </a:lnTo>
                    <a:lnTo>
                      <a:pt x="366" y="2317"/>
                    </a:lnTo>
                    <a:lnTo>
                      <a:pt x="836" y="2541"/>
                    </a:lnTo>
                    <a:lnTo>
                      <a:pt x="714" y="2349"/>
                    </a:lnTo>
                    <a:lnTo>
                      <a:pt x="836" y="2269"/>
                    </a:lnTo>
                    <a:lnTo>
                      <a:pt x="1046" y="2269"/>
                    </a:lnTo>
                    <a:lnTo>
                      <a:pt x="766" y="2061"/>
                    </a:lnTo>
                    <a:lnTo>
                      <a:pt x="819" y="1678"/>
                    </a:lnTo>
                    <a:lnTo>
                      <a:pt x="418" y="1390"/>
                    </a:lnTo>
                    <a:close/>
                  </a:path>
                </a:pathLst>
              </a:custGeom>
              <a:solidFill>
                <a:srgbClr val="cc990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63960" y="2819520"/>
                <a:ext cx="225720" cy="184680"/>
              </a:xfrm>
              <a:custGeom>
                <a:avLst/>
                <a:gdLst/>
                <a:ahLst/>
                <a:rect l="0" t="0" r="r" b="b"/>
                <a:pathLst>
                  <a:path fill="none" w="627" h="513">
                    <a:moveTo>
                      <a:pt x="627" y="240"/>
                    </a:moveTo>
                    <a:lnTo>
                      <a:pt x="435" y="95"/>
                    </a:lnTo>
                    <a:lnTo>
                      <a:pt x="243" y="15"/>
                    </a:lnTo>
                    <a:lnTo>
                      <a:pt x="69" y="0"/>
                    </a:lnTo>
                    <a:lnTo>
                      <a:pt x="0" y="63"/>
                    </a:lnTo>
                    <a:lnTo>
                      <a:pt x="0" y="160"/>
                    </a:lnTo>
                    <a:lnTo>
                      <a:pt x="52" y="320"/>
                    </a:lnTo>
                    <a:lnTo>
                      <a:pt x="226" y="449"/>
                    </a:lnTo>
                    <a:lnTo>
                      <a:pt x="348" y="513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6248520" y="1914480"/>
            <a:ext cx="1495800" cy="4258080"/>
            <a:chOff x="6248520" y="1914480"/>
            <a:chExt cx="1495800" cy="4258080"/>
          </a:xfrm>
        </p:grpSpPr>
        <p:grpSp>
          <p:nvGrpSpPr>
            <p:cNvPr id="196" name=""/>
            <p:cNvGrpSpPr/>
            <p:nvPr/>
          </p:nvGrpSpPr>
          <p:grpSpPr>
            <a:xfrm>
              <a:off x="6248520" y="4564080"/>
              <a:ext cx="1495800" cy="1608480"/>
              <a:chOff x="6248520" y="4564080"/>
              <a:chExt cx="1495800" cy="1608480"/>
            </a:xfrm>
          </p:grpSpPr>
          <p:sp>
            <p:nvSpPr>
              <p:cNvPr id="197" name=""/>
              <p:cNvSpPr/>
              <p:nvPr/>
            </p:nvSpPr>
            <p:spPr>
              <a:xfrm>
                <a:off x="6626160" y="4564080"/>
                <a:ext cx="646560" cy="1483200"/>
              </a:xfrm>
              <a:custGeom>
                <a:avLst/>
                <a:gdLst/>
                <a:ahLst/>
                <a:rect l="0" t="0" r="r" b="b"/>
                <a:pathLst>
                  <a:path w="1796" h="4120">
                    <a:moveTo>
                      <a:pt x="0" y="0"/>
                    </a:moveTo>
                    <a:lnTo>
                      <a:pt x="312" y="4120"/>
                    </a:lnTo>
                    <a:lnTo>
                      <a:pt x="1015" y="4120"/>
                    </a:lnTo>
                    <a:lnTo>
                      <a:pt x="911" y="1116"/>
                    </a:lnTo>
                    <a:lnTo>
                      <a:pt x="1015" y="4120"/>
                    </a:lnTo>
                    <a:lnTo>
                      <a:pt x="1796" y="4120"/>
                    </a:lnTo>
                    <a:lnTo>
                      <a:pt x="1718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248520" y="5992920"/>
                <a:ext cx="743400" cy="179640"/>
              </a:xfrm>
              <a:custGeom>
                <a:avLst/>
                <a:gdLst/>
                <a:ahLst/>
                <a:rect l="0" t="0" r="r" b="b"/>
                <a:pathLst>
                  <a:path w="2065" h="499">
                    <a:moveTo>
                      <a:pt x="1359" y="158"/>
                    </a:moveTo>
                    <a:lnTo>
                      <a:pt x="967" y="45"/>
                    </a:lnTo>
                    <a:lnTo>
                      <a:pt x="706" y="0"/>
                    </a:lnTo>
                    <a:lnTo>
                      <a:pt x="417" y="90"/>
                    </a:lnTo>
                    <a:lnTo>
                      <a:pt x="130" y="226"/>
                    </a:lnTo>
                    <a:lnTo>
                      <a:pt x="0" y="408"/>
                    </a:lnTo>
                    <a:lnTo>
                      <a:pt x="182" y="499"/>
                    </a:lnTo>
                    <a:lnTo>
                      <a:pt x="2065" y="499"/>
                    </a:lnTo>
                    <a:lnTo>
                      <a:pt x="2065" y="158"/>
                    </a:lnTo>
                    <a:lnTo>
                      <a:pt x="1359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000920" y="5992920"/>
                <a:ext cx="743400" cy="179640"/>
              </a:xfrm>
              <a:custGeom>
                <a:avLst/>
                <a:gdLst/>
                <a:ahLst/>
                <a:rect l="0" t="0" r="r" b="b"/>
                <a:pathLst>
                  <a:path w="2065" h="499">
                    <a:moveTo>
                      <a:pt x="706" y="158"/>
                    </a:moveTo>
                    <a:lnTo>
                      <a:pt x="1098" y="45"/>
                    </a:lnTo>
                    <a:lnTo>
                      <a:pt x="1359" y="0"/>
                    </a:lnTo>
                    <a:lnTo>
                      <a:pt x="1647" y="90"/>
                    </a:lnTo>
                    <a:lnTo>
                      <a:pt x="1935" y="226"/>
                    </a:lnTo>
                    <a:lnTo>
                      <a:pt x="2065" y="408"/>
                    </a:lnTo>
                    <a:lnTo>
                      <a:pt x="1882" y="499"/>
                    </a:lnTo>
                    <a:lnTo>
                      <a:pt x="0" y="499"/>
                    </a:lnTo>
                    <a:lnTo>
                      <a:pt x="0" y="158"/>
                    </a:lnTo>
                    <a:lnTo>
                      <a:pt x="706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291360" y="3489480"/>
              <a:ext cx="503640" cy="1243080"/>
              <a:chOff x="6291360" y="3489480"/>
              <a:chExt cx="503640" cy="1243080"/>
            </a:xfrm>
          </p:grpSpPr>
          <p:sp>
            <p:nvSpPr>
              <p:cNvPr id="201" name=""/>
              <p:cNvSpPr/>
              <p:nvPr/>
            </p:nvSpPr>
            <p:spPr>
              <a:xfrm>
                <a:off x="6315120" y="3489480"/>
                <a:ext cx="479880" cy="1026000"/>
              </a:xfrm>
              <a:custGeom>
                <a:avLst/>
                <a:gdLst/>
                <a:ahLst/>
                <a:rect l="0" t="0" r="r" b="b"/>
                <a:pathLst>
                  <a:path w="1333" h="2850">
                    <a:moveTo>
                      <a:pt x="1098" y="0"/>
                    </a:moveTo>
                    <a:lnTo>
                      <a:pt x="1255" y="91"/>
                    </a:lnTo>
                    <a:lnTo>
                      <a:pt x="1333" y="364"/>
                    </a:lnTo>
                    <a:lnTo>
                      <a:pt x="1124" y="1140"/>
                    </a:lnTo>
                    <a:lnTo>
                      <a:pt x="810" y="2850"/>
                    </a:lnTo>
                    <a:lnTo>
                      <a:pt x="0" y="2713"/>
                    </a:lnTo>
                    <a:lnTo>
                      <a:pt x="366" y="1254"/>
                    </a:lnTo>
                    <a:lnTo>
                      <a:pt x="784" y="205"/>
                    </a:lnTo>
                    <a:lnTo>
                      <a:pt x="1098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291360" y="4486320"/>
                <a:ext cx="29988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404040" y="1914480"/>
              <a:ext cx="1068480" cy="2821320"/>
              <a:chOff x="6404040" y="1914480"/>
              <a:chExt cx="1068480" cy="2821320"/>
            </a:xfrm>
          </p:grpSpPr>
          <p:sp>
            <p:nvSpPr>
              <p:cNvPr id="204" name=""/>
              <p:cNvSpPr/>
              <p:nvPr/>
            </p:nvSpPr>
            <p:spPr>
              <a:xfrm>
                <a:off x="6502320" y="3355920"/>
                <a:ext cx="970200" cy="1379880"/>
              </a:xfrm>
              <a:custGeom>
                <a:avLst/>
                <a:gdLst/>
                <a:ahLst/>
                <a:rect l="0" t="0" r="r" b="b"/>
                <a:pathLst>
                  <a:path w="2695" h="3833">
                    <a:moveTo>
                      <a:pt x="943" y="323"/>
                    </a:moveTo>
                    <a:lnTo>
                      <a:pt x="856" y="338"/>
                    </a:lnTo>
                    <a:lnTo>
                      <a:pt x="790" y="376"/>
                    </a:lnTo>
                    <a:lnTo>
                      <a:pt x="664" y="501"/>
                    </a:lnTo>
                    <a:lnTo>
                      <a:pt x="534" y="623"/>
                    </a:lnTo>
                    <a:lnTo>
                      <a:pt x="386" y="733"/>
                    </a:lnTo>
                    <a:lnTo>
                      <a:pt x="365" y="767"/>
                    </a:lnTo>
                    <a:lnTo>
                      <a:pt x="343" y="802"/>
                    </a:lnTo>
                    <a:lnTo>
                      <a:pt x="343" y="802"/>
                    </a:lnTo>
                    <a:lnTo>
                      <a:pt x="365" y="802"/>
                    </a:lnTo>
                    <a:lnTo>
                      <a:pt x="152" y="1338"/>
                    </a:lnTo>
                    <a:lnTo>
                      <a:pt x="0" y="3745"/>
                    </a:lnTo>
                    <a:lnTo>
                      <a:pt x="2695" y="3833"/>
                    </a:lnTo>
                    <a:lnTo>
                      <a:pt x="2291" y="1589"/>
                    </a:lnTo>
                    <a:lnTo>
                      <a:pt x="2095" y="357"/>
                    </a:lnTo>
                    <a:lnTo>
                      <a:pt x="1369" y="0"/>
                    </a:lnTo>
                    <a:lnTo>
                      <a:pt x="943" y="323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6404040" y="1914480"/>
                <a:ext cx="992520" cy="1567440"/>
                <a:chOff x="6404040" y="1914480"/>
                <a:chExt cx="992520" cy="15674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512040" y="2119320"/>
                  <a:ext cx="884520" cy="1362600"/>
                </a:xfrm>
                <a:custGeom>
                  <a:avLst/>
                  <a:gdLst/>
                  <a:ahLst/>
                  <a:rect l="0" t="0" r="r" b="b"/>
                  <a:pathLst>
                    <a:path w="2457" h="3785">
                      <a:moveTo>
                        <a:pt x="574" y="0"/>
                      </a:moveTo>
                      <a:lnTo>
                        <a:pt x="261" y="227"/>
                      </a:lnTo>
                      <a:lnTo>
                        <a:pt x="78" y="592"/>
                      </a:lnTo>
                      <a:lnTo>
                        <a:pt x="26" y="1049"/>
                      </a:lnTo>
                      <a:lnTo>
                        <a:pt x="0" y="2325"/>
                      </a:lnTo>
                      <a:lnTo>
                        <a:pt x="52" y="3056"/>
                      </a:lnTo>
                      <a:lnTo>
                        <a:pt x="810" y="3101"/>
                      </a:lnTo>
                      <a:lnTo>
                        <a:pt x="914" y="3512"/>
                      </a:lnTo>
                      <a:lnTo>
                        <a:pt x="1019" y="3785"/>
                      </a:lnTo>
                      <a:lnTo>
                        <a:pt x="1255" y="3785"/>
                      </a:lnTo>
                      <a:lnTo>
                        <a:pt x="1385" y="3534"/>
                      </a:lnTo>
                      <a:lnTo>
                        <a:pt x="1307" y="3101"/>
                      </a:lnTo>
                      <a:lnTo>
                        <a:pt x="2013" y="3033"/>
                      </a:lnTo>
                      <a:lnTo>
                        <a:pt x="2039" y="2599"/>
                      </a:lnTo>
                      <a:lnTo>
                        <a:pt x="2195" y="2667"/>
                      </a:lnTo>
                      <a:lnTo>
                        <a:pt x="2352" y="2622"/>
                      </a:lnTo>
                      <a:lnTo>
                        <a:pt x="2457" y="2257"/>
                      </a:lnTo>
                      <a:lnTo>
                        <a:pt x="2326" y="2075"/>
                      </a:lnTo>
                      <a:lnTo>
                        <a:pt x="2169" y="2097"/>
                      </a:lnTo>
                      <a:lnTo>
                        <a:pt x="2326" y="159"/>
                      </a:lnTo>
                      <a:lnTo>
                        <a:pt x="5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404040" y="2498760"/>
                  <a:ext cx="404640" cy="3538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751800" y="2467080"/>
                  <a:ext cx="479520" cy="420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39000" y="2641680"/>
                  <a:ext cx="84240" cy="71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534000" y="2646360"/>
                  <a:ext cx="84240" cy="763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740640" y="1941480"/>
                  <a:ext cx="612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6851520" y="1924200"/>
                  <a:ext cx="1584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7012080" y="1914480"/>
                  <a:ext cx="36360" cy="196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>
                  <a:off x="7172280" y="1955880"/>
                  <a:ext cx="54000" cy="172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7311960" y="1981080"/>
                  <a:ext cx="54000" cy="152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502320" y="2938320"/>
                  <a:ext cx="649800" cy="221040"/>
                </a:xfrm>
                <a:custGeom>
                  <a:avLst/>
                  <a:gdLst/>
                  <a:ahLst/>
                  <a:rect l="0" t="0" r="r" b="b"/>
                  <a:pathLst>
                    <a:path w="1805" h="614">
                      <a:moveTo>
                        <a:pt x="0" y="0"/>
                      </a:moveTo>
                      <a:lnTo>
                        <a:pt x="1805" y="139"/>
                      </a:lnTo>
                      <a:lnTo>
                        <a:pt x="737" y="6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6794640" y="3365640"/>
                <a:ext cx="300240" cy="155880"/>
              </a:xfrm>
              <a:custGeom>
                <a:avLst/>
                <a:gdLst/>
                <a:ahLst/>
                <a:rect l="0" t="0" r="r" b="b"/>
                <a:pathLst>
                  <a:path w="834" h="433">
                    <a:moveTo>
                      <a:pt x="0" y="296"/>
                    </a:moveTo>
                    <a:lnTo>
                      <a:pt x="234" y="410"/>
                    </a:lnTo>
                    <a:lnTo>
                      <a:pt x="652" y="433"/>
                    </a:lnTo>
                    <a:lnTo>
                      <a:pt x="834" y="228"/>
                    </a:lnTo>
                    <a:lnTo>
                      <a:pt x="834" y="68"/>
                    </a:lnTo>
                    <a:lnTo>
                      <a:pt x="652" y="0"/>
                    </a:lnTo>
                    <a:lnTo>
                      <a:pt x="469" y="228"/>
                    </a:lnTo>
                    <a:lnTo>
                      <a:pt x="182" y="251"/>
                    </a:lnTo>
                    <a:lnTo>
                      <a:pt x="0" y="296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7169040" y="3503520"/>
              <a:ext cx="503280" cy="1246320"/>
              <a:chOff x="7169040" y="3503520"/>
              <a:chExt cx="503280" cy="1246320"/>
            </a:xfrm>
          </p:grpSpPr>
          <p:sp>
            <p:nvSpPr>
              <p:cNvPr id="219" name=""/>
              <p:cNvSpPr/>
              <p:nvPr/>
            </p:nvSpPr>
            <p:spPr>
              <a:xfrm>
                <a:off x="7169040" y="3503520"/>
                <a:ext cx="481320" cy="1026000"/>
              </a:xfrm>
              <a:custGeom>
                <a:avLst/>
                <a:gdLst/>
                <a:ahLst/>
                <a:rect l="0" t="0" r="r" b="b"/>
                <a:pathLst>
                  <a:path w="1337" h="2850">
                    <a:moveTo>
                      <a:pt x="235" y="0"/>
                    </a:moveTo>
                    <a:lnTo>
                      <a:pt x="78" y="91"/>
                    </a:lnTo>
                    <a:lnTo>
                      <a:pt x="0" y="364"/>
                    </a:lnTo>
                    <a:lnTo>
                      <a:pt x="209" y="1140"/>
                    </a:lnTo>
                    <a:lnTo>
                      <a:pt x="523" y="2850"/>
                    </a:lnTo>
                    <a:lnTo>
                      <a:pt x="1337" y="2713"/>
                    </a:lnTo>
                    <a:lnTo>
                      <a:pt x="970" y="1254"/>
                    </a:lnTo>
                    <a:lnTo>
                      <a:pt x="550" y="205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373880" y="4503600"/>
                <a:ext cx="29844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6937200" y="2301840"/>
            <a:ext cx="185760" cy="157320"/>
            <a:chOff x="6937200" y="2301840"/>
            <a:chExt cx="185760" cy="157320"/>
          </a:xfrm>
        </p:grpSpPr>
        <p:sp>
          <p:nvSpPr>
            <p:cNvPr id="222" name=""/>
            <p:cNvSpPr/>
            <p:nvPr/>
          </p:nvSpPr>
          <p:spPr>
            <a:xfrm>
              <a:off x="6937200" y="2301840"/>
              <a:ext cx="0" cy="157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89760" y="230184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32600" y="2301840"/>
              <a:ext cx="0" cy="157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85160" y="230652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22960" y="2306520"/>
              <a:ext cx="0" cy="147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572960" y="2998800"/>
            <a:ext cx="1190160" cy="887400"/>
            <a:chOff x="7572960" y="2998800"/>
            <a:chExt cx="1190160" cy="887400"/>
          </a:xfrm>
        </p:grpSpPr>
        <p:sp>
          <p:nvSpPr>
            <p:cNvPr id="228" name=""/>
            <p:cNvSpPr/>
            <p:nvPr/>
          </p:nvSpPr>
          <p:spPr>
            <a:xfrm>
              <a:off x="7620120" y="3276720"/>
              <a:ext cx="1143000" cy="609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72960" y="3196440"/>
              <a:ext cx="272160" cy="272160"/>
            </a:xfrm>
            <a:custGeom>
              <a:avLst/>
              <a:gdLst/>
              <a:ahLst/>
              <a:rect l="0" t="0" r="r" b="b"/>
              <a:pathLst>
                <a:path w="756" h="756">
                  <a:moveTo>
                    <a:pt x="456" y="756"/>
                  </a:moveTo>
                  <a:lnTo>
                    <a:pt x="756" y="456"/>
                  </a:lnTo>
                  <a:lnTo>
                    <a:pt x="0" y="0"/>
                  </a:lnTo>
                  <a:lnTo>
                    <a:pt x="456" y="75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44280" y="2998800"/>
              <a:ext cx="152640" cy="310680"/>
            </a:xfrm>
            <a:custGeom>
              <a:avLst/>
              <a:gdLst/>
              <a:ahLst/>
              <a:rect l="0" t="0" r="r" b="b"/>
              <a:pathLst>
                <a:path w="424" h="863">
                  <a:moveTo>
                    <a:pt x="0" y="863"/>
                  </a:moveTo>
                  <a:lnTo>
                    <a:pt x="424" y="848"/>
                  </a:lnTo>
                  <a:lnTo>
                    <a:pt x="182" y="0"/>
                  </a:lnTo>
                  <a:lnTo>
                    <a:pt x="0" y="863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05800" y="3362400"/>
              <a:ext cx="143280" cy="114840"/>
            </a:xfrm>
            <a:custGeom>
              <a:avLst/>
              <a:gdLst/>
              <a:ahLst/>
              <a:rect l="0" t="0" r="r" b="b"/>
              <a:pathLst>
                <a:path w="398" h="319">
                  <a:moveTo>
                    <a:pt x="146" y="26"/>
                  </a:moveTo>
                  <a:lnTo>
                    <a:pt x="120" y="93"/>
                  </a:lnTo>
                  <a:lnTo>
                    <a:pt x="92" y="133"/>
                  </a:lnTo>
                  <a:lnTo>
                    <a:pt x="66" y="172"/>
                  </a:lnTo>
                  <a:lnTo>
                    <a:pt x="26" y="212"/>
                  </a:lnTo>
                  <a:lnTo>
                    <a:pt x="0" y="266"/>
                  </a:lnTo>
                  <a:lnTo>
                    <a:pt x="13" y="306"/>
                  </a:lnTo>
                  <a:lnTo>
                    <a:pt x="52" y="319"/>
                  </a:lnTo>
                  <a:lnTo>
                    <a:pt x="92" y="319"/>
                  </a:lnTo>
                  <a:lnTo>
                    <a:pt x="133" y="319"/>
                  </a:lnTo>
                  <a:lnTo>
                    <a:pt x="172" y="306"/>
                  </a:lnTo>
                  <a:lnTo>
                    <a:pt x="212" y="293"/>
                  </a:lnTo>
                  <a:lnTo>
                    <a:pt x="252" y="266"/>
                  </a:lnTo>
                  <a:lnTo>
                    <a:pt x="278" y="225"/>
                  </a:lnTo>
                  <a:lnTo>
                    <a:pt x="319" y="186"/>
                  </a:lnTo>
                  <a:lnTo>
                    <a:pt x="359" y="159"/>
                  </a:lnTo>
                  <a:lnTo>
                    <a:pt x="385" y="120"/>
                  </a:lnTo>
                  <a:lnTo>
                    <a:pt x="398" y="79"/>
                  </a:lnTo>
                  <a:lnTo>
                    <a:pt x="359" y="52"/>
                  </a:lnTo>
                  <a:lnTo>
                    <a:pt x="319" y="26"/>
                  </a:lnTo>
                  <a:lnTo>
                    <a:pt x="278" y="13"/>
                  </a:lnTo>
                  <a:lnTo>
                    <a:pt x="239" y="0"/>
                  </a:lnTo>
                  <a:lnTo>
                    <a:pt x="199" y="13"/>
                  </a:lnTo>
                  <a:lnTo>
                    <a:pt x="14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20160" y="3271680"/>
              <a:ext cx="181440" cy="71640"/>
            </a:xfrm>
            <a:custGeom>
              <a:avLst/>
              <a:gdLst/>
              <a:ahLst/>
              <a:rect l="0" t="0" r="r" b="b"/>
              <a:pathLst>
                <a:path w="504" h="199">
                  <a:moveTo>
                    <a:pt x="197" y="24"/>
                  </a:moveTo>
                  <a:lnTo>
                    <a:pt x="270" y="24"/>
                  </a:lnTo>
                  <a:lnTo>
                    <a:pt x="319" y="12"/>
                  </a:lnTo>
                  <a:lnTo>
                    <a:pt x="368" y="0"/>
                  </a:lnTo>
                  <a:lnTo>
                    <a:pt x="406" y="0"/>
                  </a:lnTo>
                  <a:lnTo>
                    <a:pt x="443" y="24"/>
                  </a:lnTo>
                  <a:lnTo>
                    <a:pt x="467" y="62"/>
                  </a:lnTo>
                  <a:lnTo>
                    <a:pt x="480" y="99"/>
                  </a:lnTo>
                  <a:lnTo>
                    <a:pt x="504" y="137"/>
                  </a:lnTo>
                  <a:lnTo>
                    <a:pt x="492" y="174"/>
                  </a:lnTo>
                  <a:lnTo>
                    <a:pt x="455" y="187"/>
                  </a:lnTo>
                  <a:lnTo>
                    <a:pt x="418" y="187"/>
                  </a:lnTo>
                  <a:lnTo>
                    <a:pt x="382" y="187"/>
                  </a:lnTo>
                  <a:lnTo>
                    <a:pt x="344" y="187"/>
                  </a:lnTo>
                  <a:lnTo>
                    <a:pt x="307" y="187"/>
                  </a:lnTo>
                  <a:lnTo>
                    <a:pt x="197" y="187"/>
                  </a:lnTo>
                  <a:lnTo>
                    <a:pt x="98" y="199"/>
                  </a:lnTo>
                  <a:lnTo>
                    <a:pt x="24" y="199"/>
                  </a:lnTo>
                  <a:lnTo>
                    <a:pt x="0" y="162"/>
                  </a:lnTo>
                  <a:lnTo>
                    <a:pt x="36" y="137"/>
                  </a:lnTo>
                  <a:lnTo>
                    <a:pt x="73" y="99"/>
                  </a:lnTo>
                  <a:lnTo>
                    <a:pt x="98" y="62"/>
                  </a:lnTo>
                  <a:lnTo>
                    <a:pt x="122" y="24"/>
                  </a:lnTo>
                  <a:lnTo>
                    <a:pt x="197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 txBox="1"/>
          <p:nvPr/>
        </p:nvSpPr>
        <p:spPr>
          <a:xfrm>
            <a:off x="7848720" y="334008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84280" y="380880"/>
            <a:ext cx="124200" cy="257400"/>
          </a:xfrm>
          <a:custGeom>
            <a:avLst/>
            <a:gdLst/>
            <a:ahLst/>
            <a:rect l="0" t="0" r="r" b="b"/>
            <a:pathLst>
              <a:path w="345" h="715">
                <a:moveTo>
                  <a:pt x="168" y="0"/>
                </a:moveTo>
                <a:lnTo>
                  <a:pt x="155" y="44"/>
                </a:lnTo>
                <a:lnTo>
                  <a:pt x="137" y="123"/>
                </a:lnTo>
                <a:lnTo>
                  <a:pt x="115" y="229"/>
                </a:lnTo>
                <a:lnTo>
                  <a:pt x="89" y="343"/>
                </a:lnTo>
                <a:lnTo>
                  <a:pt x="57" y="464"/>
                </a:lnTo>
                <a:lnTo>
                  <a:pt x="35" y="569"/>
                </a:lnTo>
                <a:lnTo>
                  <a:pt x="13" y="653"/>
                </a:lnTo>
                <a:lnTo>
                  <a:pt x="0" y="710"/>
                </a:lnTo>
                <a:lnTo>
                  <a:pt x="39" y="702"/>
                </a:lnTo>
                <a:lnTo>
                  <a:pt x="83" y="702"/>
                </a:lnTo>
                <a:lnTo>
                  <a:pt x="128" y="697"/>
                </a:lnTo>
                <a:lnTo>
                  <a:pt x="172" y="697"/>
                </a:lnTo>
                <a:lnTo>
                  <a:pt x="217" y="697"/>
                </a:lnTo>
                <a:lnTo>
                  <a:pt x="262" y="702"/>
                </a:lnTo>
                <a:lnTo>
                  <a:pt x="306" y="706"/>
                </a:lnTo>
                <a:lnTo>
                  <a:pt x="345" y="715"/>
                </a:lnTo>
                <a:lnTo>
                  <a:pt x="332" y="680"/>
                </a:lnTo>
                <a:lnTo>
                  <a:pt x="319" y="613"/>
                </a:lnTo>
                <a:lnTo>
                  <a:pt x="297" y="516"/>
                </a:lnTo>
                <a:lnTo>
                  <a:pt x="266" y="406"/>
                </a:lnTo>
                <a:lnTo>
                  <a:pt x="239" y="291"/>
                </a:lnTo>
                <a:lnTo>
                  <a:pt x="212" y="176"/>
                </a:lnTo>
                <a:lnTo>
                  <a:pt x="190" y="74"/>
                </a:lnTo>
                <a:lnTo>
                  <a:pt x="168" y="0"/>
                </a:lnTo>
                <a:close/>
              </a:path>
            </a:pathLst>
          </a:custGeom>
          <a:solidFill>
            <a:srgbClr val="f2aa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914400" y="407880"/>
            <a:ext cx="1259280" cy="1230840"/>
            <a:chOff x="914400" y="407880"/>
            <a:chExt cx="1259280" cy="1230840"/>
          </a:xfrm>
        </p:grpSpPr>
        <p:sp>
          <p:nvSpPr>
            <p:cNvPr id="236" name=""/>
            <p:cNvSpPr/>
            <p:nvPr/>
          </p:nvSpPr>
          <p:spPr>
            <a:xfrm>
              <a:off x="1608120" y="409680"/>
              <a:ext cx="124200" cy="263880"/>
            </a:xfrm>
            <a:custGeom>
              <a:avLst/>
              <a:gdLst/>
              <a:ahLst/>
              <a:rect l="0" t="0" r="r" b="b"/>
              <a:pathLst>
                <a:path w="345" h="733">
                  <a:moveTo>
                    <a:pt x="297" y="733"/>
                  </a:moveTo>
                  <a:lnTo>
                    <a:pt x="323" y="587"/>
                  </a:lnTo>
                  <a:lnTo>
                    <a:pt x="328" y="490"/>
                  </a:lnTo>
                  <a:lnTo>
                    <a:pt x="319" y="415"/>
                  </a:lnTo>
                  <a:lnTo>
                    <a:pt x="323" y="348"/>
                  </a:lnTo>
                  <a:lnTo>
                    <a:pt x="341" y="264"/>
                  </a:lnTo>
                  <a:lnTo>
                    <a:pt x="345" y="163"/>
                  </a:lnTo>
                  <a:lnTo>
                    <a:pt x="332" y="66"/>
                  </a:lnTo>
                  <a:lnTo>
                    <a:pt x="293" y="0"/>
                  </a:lnTo>
                  <a:lnTo>
                    <a:pt x="284" y="39"/>
                  </a:lnTo>
                  <a:lnTo>
                    <a:pt x="266" y="79"/>
                  </a:lnTo>
                  <a:lnTo>
                    <a:pt x="239" y="127"/>
                  </a:lnTo>
                  <a:lnTo>
                    <a:pt x="208" y="176"/>
                  </a:lnTo>
                  <a:lnTo>
                    <a:pt x="172" y="220"/>
                  </a:lnTo>
                  <a:lnTo>
                    <a:pt x="142" y="268"/>
                  </a:lnTo>
                  <a:lnTo>
                    <a:pt x="111" y="313"/>
                  </a:lnTo>
                  <a:lnTo>
                    <a:pt x="93" y="352"/>
                  </a:lnTo>
                  <a:lnTo>
                    <a:pt x="74" y="393"/>
                  </a:lnTo>
                  <a:lnTo>
                    <a:pt x="57" y="428"/>
                  </a:lnTo>
                  <a:lnTo>
                    <a:pt x="44" y="464"/>
                  </a:lnTo>
                  <a:lnTo>
                    <a:pt x="26" y="499"/>
                  </a:lnTo>
                  <a:lnTo>
                    <a:pt x="13" y="534"/>
                  </a:lnTo>
                  <a:lnTo>
                    <a:pt x="4" y="569"/>
                  </a:lnTo>
                  <a:lnTo>
                    <a:pt x="0" y="600"/>
                  </a:lnTo>
                  <a:lnTo>
                    <a:pt x="0" y="635"/>
                  </a:lnTo>
                  <a:lnTo>
                    <a:pt x="30" y="640"/>
                  </a:lnTo>
                  <a:lnTo>
                    <a:pt x="66" y="644"/>
                  </a:lnTo>
                  <a:lnTo>
                    <a:pt x="106" y="658"/>
                  </a:lnTo>
                  <a:lnTo>
                    <a:pt x="142" y="671"/>
                  </a:lnTo>
                  <a:lnTo>
                    <a:pt x="181" y="680"/>
                  </a:lnTo>
                  <a:lnTo>
                    <a:pt x="221" y="697"/>
                  </a:lnTo>
                  <a:lnTo>
                    <a:pt x="262" y="715"/>
                  </a:lnTo>
                  <a:lnTo>
                    <a:pt x="297" y="733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63560" y="468360"/>
              <a:ext cx="187560" cy="235440"/>
            </a:xfrm>
            <a:custGeom>
              <a:avLst/>
              <a:gdLst/>
              <a:ahLst/>
              <a:rect l="0" t="0" r="r" b="b"/>
              <a:pathLst>
                <a:path w="521" h="654">
                  <a:moveTo>
                    <a:pt x="0" y="509"/>
                  </a:moveTo>
                  <a:lnTo>
                    <a:pt x="44" y="441"/>
                  </a:lnTo>
                  <a:lnTo>
                    <a:pt x="83" y="389"/>
                  </a:lnTo>
                  <a:lnTo>
                    <a:pt x="119" y="349"/>
                  </a:lnTo>
                  <a:lnTo>
                    <a:pt x="154" y="318"/>
                  </a:lnTo>
                  <a:lnTo>
                    <a:pt x="185" y="292"/>
                  </a:lnTo>
                  <a:lnTo>
                    <a:pt x="211" y="269"/>
                  </a:lnTo>
                  <a:lnTo>
                    <a:pt x="233" y="247"/>
                  </a:lnTo>
                  <a:lnTo>
                    <a:pt x="251" y="221"/>
                  </a:lnTo>
                  <a:lnTo>
                    <a:pt x="274" y="190"/>
                  </a:lnTo>
                  <a:lnTo>
                    <a:pt x="300" y="149"/>
                  </a:lnTo>
                  <a:lnTo>
                    <a:pt x="331" y="114"/>
                  </a:lnTo>
                  <a:lnTo>
                    <a:pt x="367" y="74"/>
                  </a:lnTo>
                  <a:lnTo>
                    <a:pt x="406" y="44"/>
                  </a:lnTo>
                  <a:lnTo>
                    <a:pt x="446" y="17"/>
                  </a:lnTo>
                  <a:lnTo>
                    <a:pt x="486" y="4"/>
                  </a:lnTo>
                  <a:lnTo>
                    <a:pt x="521" y="0"/>
                  </a:lnTo>
                  <a:lnTo>
                    <a:pt x="499" y="30"/>
                  </a:lnTo>
                  <a:lnTo>
                    <a:pt x="486" y="74"/>
                  </a:lnTo>
                  <a:lnTo>
                    <a:pt x="468" y="127"/>
                  </a:lnTo>
                  <a:lnTo>
                    <a:pt x="459" y="186"/>
                  </a:lnTo>
                  <a:lnTo>
                    <a:pt x="450" y="243"/>
                  </a:lnTo>
                  <a:lnTo>
                    <a:pt x="437" y="296"/>
                  </a:lnTo>
                  <a:lnTo>
                    <a:pt x="428" y="349"/>
                  </a:lnTo>
                  <a:lnTo>
                    <a:pt x="415" y="389"/>
                  </a:lnTo>
                  <a:lnTo>
                    <a:pt x="397" y="428"/>
                  </a:lnTo>
                  <a:lnTo>
                    <a:pt x="380" y="464"/>
                  </a:lnTo>
                  <a:lnTo>
                    <a:pt x="367" y="504"/>
                  </a:lnTo>
                  <a:lnTo>
                    <a:pt x="353" y="539"/>
                  </a:lnTo>
                  <a:lnTo>
                    <a:pt x="336" y="570"/>
                  </a:lnTo>
                  <a:lnTo>
                    <a:pt x="318" y="601"/>
                  </a:lnTo>
                  <a:lnTo>
                    <a:pt x="300" y="632"/>
                  </a:lnTo>
                  <a:lnTo>
                    <a:pt x="278" y="654"/>
                  </a:lnTo>
                  <a:lnTo>
                    <a:pt x="246" y="637"/>
                  </a:lnTo>
                  <a:lnTo>
                    <a:pt x="220" y="614"/>
                  </a:lnTo>
                  <a:lnTo>
                    <a:pt x="189" y="592"/>
                  </a:lnTo>
                  <a:lnTo>
                    <a:pt x="154" y="575"/>
                  </a:lnTo>
                  <a:lnTo>
                    <a:pt x="114" y="553"/>
                  </a:lnTo>
                  <a:lnTo>
                    <a:pt x="74" y="539"/>
                  </a:lnTo>
                  <a:lnTo>
                    <a:pt x="35" y="522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60440" y="407880"/>
              <a:ext cx="124200" cy="263880"/>
            </a:xfrm>
            <a:custGeom>
              <a:avLst/>
              <a:gdLst/>
              <a:ahLst/>
              <a:rect l="0" t="0" r="r" b="b"/>
              <a:pathLst>
                <a:path w="345" h="733">
                  <a:moveTo>
                    <a:pt x="44" y="733"/>
                  </a:moveTo>
                  <a:lnTo>
                    <a:pt x="17" y="587"/>
                  </a:lnTo>
                  <a:lnTo>
                    <a:pt x="17" y="486"/>
                  </a:lnTo>
                  <a:lnTo>
                    <a:pt x="26" y="415"/>
                  </a:lnTo>
                  <a:lnTo>
                    <a:pt x="22" y="352"/>
                  </a:lnTo>
                  <a:lnTo>
                    <a:pt x="4" y="264"/>
                  </a:lnTo>
                  <a:lnTo>
                    <a:pt x="0" y="163"/>
                  </a:lnTo>
                  <a:lnTo>
                    <a:pt x="13" y="70"/>
                  </a:lnTo>
                  <a:lnTo>
                    <a:pt x="57" y="0"/>
                  </a:lnTo>
                  <a:lnTo>
                    <a:pt x="61" y="39"/>
                  </a:lnTo>
                  <a:lnTo>
                    <a:pt x="83" y="79"/>
                  </a:lnTo>
                  <a:lnTo>
                    <a:pt x="106" y="127"/>
                  </a:lnTo>
                  <a:lnTo>
                    <a:pt x="142" y="176"/>
                  </a:lnTo>
                  <a:lnTo>
                    <a:pt x="172" y="224"/>
                  </a:lnTo>
                  <a:lnTo>
                    <a:pt x="203" y="268"/>
                  </a:lnTo>
                  <a:lnTo>
                    <a:pt x="234" y="317"/>
                  </a:lnTo>
                  <a:lnTo>
                    <a:pt x="252" y="352"/>
                  </a:lnTo>
                  <a:lnTo>
                    <a:pt x="284" y="428"/>
                  </a:lnTo>
                  <a:lnTo>
                    <a:pt x="315" y="499"/>
                  </a:lnTo>
                  <a:lnTo>
                    <a:pt x="337" y="569"/>
                  </a:lnTo>
                  <a:lnTo>
                    <a:pt x="345" y="636"/>
                  </a:lnTo>
                  <a:lnTo>
                    <a:pt x="310" y="640"/>
                  </a:lnTo>
                  <a:lnTo>
                    <a:pt x="275" y="649"/>
                  </a:lnTo>
                  <a:lnTo>
                    <a:pt x="239" y="658"/>
                  </a:lnTo>
                  <a:lnTo>
                    <a:pt x="199" y="671"/>
                  </a:lnTo>
                  <a:lnTo>
                    <a:pt x="155" y="684"/>
                  </a:lnTo>
                  <a:lnTo>
                    <a:pt x="120" y="697"/>
                  </a:lnTo>
                  <a:lnTo>
                    <a:pt x="83" y="710"/>
                  </a:lnTo>
                  <a:lnTo>
                    <a:pt x="44" y="733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41280" y="466560"/>
              <a:ext cx="187560" cy="235440"/>
            </a:xfrm>
            <a:custGeom>
              <a:avLst/>
              <a:gdLst/>
              <a:ahLst/>
              <a:rect l="0" t="0" r="r" b="b"/>
              <a:pathLst>
                <a:path w="521" h="654">
                  <a:moveTo>
                    <a:pt x="521" y="513"/>
                  </a:moveTo>
                  <a:lnTo>
                    <a:pt x="472" y="441"/>
                  </a:lnTo>
                  <a:lnTo>
                    <a:pt x="437" y="389"/>
                  </a:lnTo>
                  <a:lnTo>
                    <a:pt x="397" y="349"/>
                  </a:lnTo>
                  <a:lnTo>
                    <a:pt x="367" y="318"/>
                  </a:lnTo>
                  <a:lnTo>
                    <a:pt x="336" y="296"/>
                  </a:lnTo>
                  <a:lnTo>
                    <a:pt x="309" y="274"/>
                  </a:lnTo>
                  <a:lnTo>
                    <a:pt x="287" y="252"/>
                  </a:lnTo>
                  <a:lnTo>
                    <a:pt x="269" y="221"/>
                  </a:lnTo>
                  <a:lnTo>
                    <a:pt x="246" y="190"/>
                  </a:lnTo>
                  <a:lnTo>
                    <a:pt x="220" y="149"/>
                  </a:lnTo>
                  <a:lnTo>
                    <a:pt x="189" y="110"/>
                  </a:lnTo>
                  <a:lnTo>
                    <a:pt x="154" y="70"/>
                  </a:lnTo>
                  <a:lnTo>
                    <a:pt x="114" y="39"/>
                  </a:lnTo>
                  <a:lnTo>
                    <a:pt x="74" y="13"/>
                  </a:lnTo>
                  <a:lnTo>
                    <a:pt x="35" y="0"/>
                  </a:lnTo>
                  <a:lnTo>
                    <a:pt x="0" y="0"/>
                  </a:lnTo>
                  <a:lnTo>
                    <a:pt x="22" y="30"/>
                  </a:lnTo>
                  <a:lnTo>
                    <a:pt x="35" y="70"/>
                  </a:lnTo>
                  <a:lnTo>
                    <a:pt x="48" y="123"/>
                  </a:lnTo>
                  <a:lnTo>
                    <a:pt x="61" y="181"/>
                  </a:lnTo>
                  <a:lnTo>
                    <a:pt x="70" y="239"/>
                  </a:lnTo>
                  <a:lnTo>
                    <a:pt x="79" y="296"/>
                  </a:lnTo>
                  <a:lnTo>
                    <a:pt x="92" y="344"/>
                  </a:lnTo>
                  <a:lnTo>
                    <a:pt x="105" y="389"/>
                  </a:lnTo>
                  <a:lnTo>
                    <a:pt x="119" y="428"/>
                  </a:lnTo>
                  <a:lnTo>
                    <a:pt x="136" y="464"/>
                  </a:lnTo>
                  <a:lnTo>
                    <a:pt x="149" y="500"/>
                  </a:lnTo>
                  <a:lnTo>
                    <a:pt x="163" y="535"/>
                  </a:lnTo>
                  <a:lnTo>
                    <a:pt x="180" y="570"/>
                  </a:lnTo>
                  <a:lnTo>
                    <a:pt x="198" y="601"/>
                  </a:lnTo>
                  <a:lnTo>
                    <a:pt x="216" y="632"/>
                  </a:lnTo>
                  <a:lnTo>
                    <a:pt x="233" y="654"/>
                  </a:lnTo>
                  <a:lnTo>
                    <a:pt x="265" y="632"/>
                  </a:lnTo>
                  <a:lnTo>
                    <a:pt x="296" y="614"/>
                  </a:lnTo>
                  <a:lnTo>
                    <a:pt x="331" y="597"/>
                  </a:lnTo>
                  <a:lnTo>
                    <a:pt x="367" y="575"/>
                  </a:lnTo>
                  <a:lnTo>
                    <a:pt x="402" y="557"/>
                  </a:lnTo>
                  <a:lnTo>
                    <a:pt x="437" y="539"/>
                  </a:lnTo>
                  <a:lnTo>
                    <a:pt x="481" y="522"/>
                  </a:lnTo>
                  <a:lnTo>
                    <a:pt x="521" y="513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84280" y="1379520"/>
              <a:ext cx="124200" cy="259200"/>
            </a:xfrm>
            <a:custGeom>
              <a:avLst/>
              <a:gdLst/>
              <a:ahLst/>
              <a:rect l="0" t="0" r="r" b="b"/>
              <a:pathLst>
                <a:path w="345" h="720">
                  <a:moveTo>
                    <a:pt x="345" y="0"/>
                  </a:moveTo>
                  <a:lnTo>
                    <a:pt x="332" y="30"/>
                  </a:lnTo>
                  <a:lnTo>
                    <a:pt x="319" y="101"/>
                  </a:lnTo>
                  <a:lnTo>
                    <a:pt x="297" y="195"/>
                  </a:lnTo>
                  <a:lnTo>
                    <a:pt x="266" y="305"/>
                  </a:lnTo>
                  <a:lnTo>
                    <a:pt x="239" y="424"/>
                  </a:lnTo>
                  <a:lnTo>
                    <a:pt x="212" y="538"/>
                  </a:lnTo>
                  <a:lnTo>
                    <a:pt x="190" y="641"/>
                  </a:lnTo>
                  <a:lnTo>
                    <a:pt x="168" y="720"/>
                  </a:lnTo>
                  <a:lnTo>
                    <a:pt x="155" y="672"/>
                  </a:lnTo>
                  <a:lnTo>
                    <a:pt x="137" y="592"/>
                  </a:lnTo>
                  <a:lnTo>
                    <a:pt x="115" y="486"/>
                  </a:lnTo>
                  <a:lnTo>
                    <a:pt x="89" y="371"/>
                  </a:lnTo>
                  <a:lnTo>
                    <a:pt x="57" y="252"/>
                  </a:lnTo>
                  <a:lnTo>
                    <a:pt x="35" y="145"/>
                  </a:lnTo>
                  <a:lnTo>
                    <a:pt x="13" y="57"/>
                  </a:lnTo>
                  <a:lnTo>
                    <a:pt x="0" y="0"/>
                  </a:lnTo>
                  <a:lnTo>
                    <a:pt x="39" y="8"/>
                  </a:lnTo>
                  <a:lnTo>
                    <a:pt x="83" y="13"/>
                  </a:lnTo>
                  <a:lnTo>
                    <a:pt x="128" y="13"/>
                  </a:lnTo>
                  <a:lnTo>
                    <a:pt x="172" y="13"/>
                  </a:lnTo>
                  <a:lnTo>
                    <a:pt x="217" y="13"/>
                  </a:lnTo>
                  <a:lnTo>
                    <a:pt x="262" y="13"/>
                  </a:lnTo>
                  <a:lnTo>
                    <a:pt x="306" y="4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08120" y="1344600"/>
              <a:ext cx="124200" cy="262440"/>
            </a:xfrm>
            <a:custGeom>
              <a:avLst/>
              <a:gdLst/>
              <a:ahLst/>
              <a:rect l="0" t="0" r="r" b="b"/>
              <a:pathLst>
                <a:path w="345" h="729">
                  <a:moveTo>
                    <a:pt x="297" y="0"/>
                  </a:moveTo>
                  <a:lnTo>
                    <a:pt x="323" y="145"/>
                  </a:lnTo>
                  <a:lnTo>
                    <a:pt x="328" y="243"/>
                  </a:lnTo>
                  <a:lnTo>
                    <a:pt x="319" y="314"/>
                  </a:lnTo>
                  <a:lnTo>
                    <a:pt x="323" y="380"/>
                  </a:lnTo>
                  <a:lnTo>
                    <a:pt x="341" y="464"/>
                  </a:lnTo>
                  <a:lnTo>
                    <a:pt x="345" y="566"/>
                  </a:lnTo>
                  <a:lnTo>
                    <a:pt x="332" y="663"/>
                  </a:lnTo>
                  <a:lnTo>
                    <a:pt x="293" y="729"/>
                  </a:lnTo>
                  <a:lnTo>
                    <a:pt x="284" y="694"/>
                  </a:lnTo>
                  <a:lnTo>
                    <a:pt x="266" y="650"/>
                  </a:lnTo>
                  <a:lnTo>
                    <a:pt x="239" y="601"/>
                  </a:lnTo>
                  <a:lnTo>
                    <a:pt x="208" y="553"/>
                  </a:lnTo>
                  <a:lnTo>
                    <a:pt x="172" y="508"/>
                  </a:lnTo>
                  <a:lnTo>
                    <a:pt x="142" y="459"/>
                  </a:lnTo>
                  <a:lnTo>
                    <a:pt x="111" y="415"/>
                  </a:lnTo>
                  <a:lnTo>
                    <a:pt x="93" y="375"/>
                  </a:lnTo>
                  <a:lnTo>
                    <a:pt x="74" y="336"/>
                  </a:lnTo>
                  <a:lnTo>
                    <a:pt x="57" y="300"/>
                  </a:lnTo>
                  <a:lnTo>
                    <a:pt x="44" y="265"/>
                  </a:lnTo>
                  <a:lnTo>
                    <a:pt x="26" y="230"/>
                  </a:lnTo>
                  <a:lnTo>
                    <a:pt x="13" y="195"/>
                  </a:lnTo>
                  <a:lnTo>
                    <a:pt x="4" y="158"/>
                  </a:lnTo>
                  <a:lnTo>
                    <a:pt x="0" y="127"/>
                  </a:lnTo>
                  <a:lnTo>
                    <a:pt x="0" y="97"/>
                  </a:lnTo>
                  <a:lnTo>
                    <a:pt x="30" y="88"/>
                  </a:lnTo>
                  <a:lnTo>
                    <a:pt x="66" y="83"/>
                  </a:lnTo>
                  <a:lnTo>
                    <a:pt x="106" y="74"/>
                  </a:lnTo>
                  <a:lnTo>
                    <a:pt x="142" y="61"/>
                  </a:lnTo>
                  <a:lnTo>
                    <a:pt x="181" y="48"/>
                  </a:lnTo>
                  <a:lnTo>
                    <a:pt x="221" y="35"/>
                  </a:lnTo>
                  <a:lnTo>
                    <a:pt x="262" y="17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63560" y="1312920"/>
              <a:ext cx="187560" cy="235440"/>
            </a:xfrm>
            <a:custGeom>
              <a:avLst/>
              <a:gdLst/>
              <a:ahLst/>
              <a:rect l="0" t="0" r="r" b="b"/>
              <a:pathLst>
                <a:path w="521" h="654">
                  <a:moveTo>
                    <a:pt x="0" y="145"/>
                  </a:moveTo>
                  <a:lnTo>
                    <a:pt x="44" y="212"/>
                  </a:lnTo>
                  <a:lnTo>
                    <a:pt x="83" y="265"/>
                  </a:lnTo>
                  <a:lnTo>
                    <a:pt x="119" y="305"/>
                  </a:lnTo>
                  <a:lnTo>
                    <a:pt x="154" y="336"/>
                  </a:lnTo>
                  <a:lnTo>
                    <a:pt x="185" y="362"/>
                  </a:lnTo>
                  <a:lnTo>
                    <a:pt x="211" y="384"/>
                  </a:lnTo>
                  <a:lnTo>
                    <a:pt x="233" y="406"/>
                  </a:lnTo>
                  <a:lnTo>
                    <a:pt x="251" y="433"/>
                  </a:lnTo>
                  <a:lnTo>
                    <a:pt x="274" y="464"/>
                  </a:lnTo>
                  <a:lnTo>
                    <a:pt x="300" y="504"/>
                  </a:lnTo>
                  <a:lnTo>
                    <a:pt x="331" y="544"/>
                  </a:lnTo>
                  <a:lnTo>
                    <a:pt x="367" y="579"/>
                  </a:lnTo>
                  <a:lnTo>
                    <a:pt x="406" y="614"/>
                  </a:lnTo>
                  <a:lnTo>
                    <a:pt x="446" y="641"/>
                  </a:lnTo>
                  <a:lnTo>
                    <a:pt x="486" y="654"/>
                  </a:lnTo>
                  <a:lnTo>
                    <a:pt x="521" y="654"/>
                  </a:lnTo>
                  <a:lnTo>
                    <a:pt x="499" y="623"/>
                  </a:lnTo>
                  <a:lnTo>
                    <a:pt x="486" y="579"/>
                  </a:lnTo>
                  <a:lnTo>
                    <a:pt x="468" y="531"/>
                  </a:lnTo>
                  <a:lnTo>
                    <a:pt x="459" y="472"/>
                  </a:lnTo>
                  <a:lnTo>
                    <a:pt x="450" y="411"/>
                  </a:lnTo>
                  <a:lnTo>
                    <a:pt x="437" y="358"/>
                  </a:lnTo>
                  <a:lnTo>
                    <a:pt x="428" y="305"/>
                  </a:lnTo>
                  <a:lnTo>
                    <a:pt x="415" y="265"/>
                  </a:lnTo>
                  <a:lnTo>
                    <a:pt x="397" y="225"/>
                  </a:lnTo>
                  <a:lnTo>
                    <a:pt x="380" y="190"/>
                  </a:lnTo>
                  <a:lnTo>
                    <a:pt x="367" y="149"/>
                  </a:lnTo>
                  <a:lnTo>
                    <a:pt x="353" y="114"/>
                  </a:lnTo>
                  <a:lnTo>
                    <a:pt x="336" y="83"/>
                  </a:lnTo>
                  <a:lnTo>
                    <a:pt x="318" y="52"/>
                  </a:lnTo>
                  <a:lnTo>
                    <a:pt x="300" y="22"/>
                  </a:lnTo>
                  <a:lnTo>
                    <a:pt x="278" y="0"/>
                  </a:lnTo>
                  <a:lnTo>
                    <a:pt x="246" y="22"/>
                  </a:lnTo>
                  <a:lnTo>
                    <a:pt x="220" y="39"/>
                  </a:lnTo>
                  <a:lnTo>
                    <a:pt x="189" y="61"/>
                  </a:lnTo>
                  <a:lnTo>
                    <a:pt x="154" y="79"/>
                  </a:lnTo>
                  <a:lnTo>
                    <a:pt x="114" y="101"/>
                  </a:lnTo>
                  <a:lnTo>
                    <a:pt x="74" y="114"/>
                  </a:lnTo>
                  <a:lnTo>
                    <a:pt x="35" y="132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60440" y="1346040"/>
              <a:ext cx="124200" cy="262440"/>
            </a:xfrm>
            <a:custGeom>
              <a:avLst/>
              <a:gdLst/>
              <a:ahLst/>
              <a:rect l="0" t="0" r="r" b="b"/>
              <a:pathLst>
                <a:path w="345" h="729">
                  <a:moveTo>
                    <a:pt x="44" y="0"/>
                  </a:moveTo>
                  <a:lnTo>
                    <a:pt x="17" y="141"/>
                  </a:lnTo>
                  <a:lnTo>
                    <a:pt x="17" y="243"/>
                  </a:lnTo>
                  <a:lnTo>
                    <a:pt x="26" y="314"/>
                  </a:lnTo>
                  <a:lnTo>
                    <a:pt x="22" y="380"/>
                  </a:lnTo>
                  <a:lnTo>
                    <a:pt x="4" y="464"/>
                  </a:lnTo>
                  <a:lnTo>
                    <a:pt x="0" y="570"/>
                  </a:lnTo>
                  <a:lnTo>
                    <a:pt x="13" y="663"/>
                  </a:lnTo>
                  <a:lnTo>
                    <a:pt x="57" y="729"/>
                  </a:lnTo>
                  <a:lnTo>
                    <a:pt x="61" y="689"/>
                  </a:lnTo>
                  <a:lnTo>
                    <a:pt x="83" y="650"/>
                  </a:lnTo>
                  <a:lnTo>
                    <a:pt x="106" y="601"/>
                  </a:lnTo>
                  <a:lnTo>
                    <a:pt x="142" y="553"/>
                  </a:lnTo>
                  <a:lnTo>
                    <a:pt x="172" y="508"/>
                  </a:lnTo>
                  <a:lnTo>
                    <a:pt x="203" y="459"/>
                  </a:lnTo>
                  <a:lnTo>
                    <a:pt x="234" y="415"/>
                  </a:lnTo>
                  <a:lnTo>
                    <a:pt x="252" y="375"/>
                  </a:lnTo>
                  <a:lnTo>
                    <a:pt x="284" y="300"/>
                  </a:lnTo>
                  <a:lnTo>
                    <a:pt x="315" y="230"/>
                  </a:lnTo>
                  <a:lnTo>
                    <a:pt x="337" y="158"/>
                  </a:lnTo>
                  <a:lnTo>
                    <a:pt x="345" y="92"/>
                  </a:lnTo>
                  <a:lnTo>
                    <a:pt x="310" y="88"/>
                  </a:lnTo>
                  <a:lnTo>
                    <a:pt x="275" y="79"/>
                  </a:lnTo>
                  <a:lnTo>
                    <a:pt x="239" y="70"/>
                  </a:lnTo>
                  <a:lnTo>
                    <a:pt x="199" y="57"/>
                  </a:lnTo>
                  <a:lnTo>
                    <a:pt x="155" y="48"/>
                  </a:lnTo>
                  <a:lnTo>
                    <a:pt x="120" y="35"/>
                  </a:lnTo>
                  <a:lnTo>
                    <a:pt x="83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41280" y="1316160"/>
              <a:ext cx="187560" cy="235440"/>
            </a:xfrm>
            <a:custGeom>
              <a:avLst/>
              <a:gdLst/>
              <a:ahLst/>
              <a:rect l="0" t="0" r="r" b="b"/>
              <a:pathLst>
                <a:path w="521" h="654">
                  <a:moveTo>
                    <a:pt x="521" y="141"/>
                  </a:moveTo>
                  <a:lnTo>
                    <a:pt x="472" y="212"/>
                  </a:lnTo>
                  <a:lnTo>
                    <a:pt x="437" y="261"/>
                  </a:lnTo>
                  <a:lnTo>
                    <a:pt x="397" y="300"/>
                  </a:lnTo>
                  <a:lnTo>
                    <a:pt x="367" y="331"/>
                  </a:lnTo>
                  <a:lnTo>
                    <a:pt x="336" y="358"/>
                  </a:lnTo>
                  <a:lnTo>
                    <a:pt x="309" y="380"/>
                  </a:lnTo>
                  <a:lnTo>
                    <a:pt x="287" y="402"/>
                  </a:lnTo>
                  <a:lnTo>
                    <a:pt x="269" y="428"/>
                  </a:lnTo>
                  <a:lnTo>
                    <a:pt x="246" y="464"/>
                  </a:lnTo>
                  <a:lnTo>
                    <a:pt x="220" y="500"/>
                  </a:lnTo>
                  <a:lnTo>
                    <a:pt x="189" y="539"/>
                  </a:lnTo>
                  <a:lnTo>
                    <a:pt x="154" y="579"/>
                  </a:lnTo>
                  <a:lnTo>
                    <a:pt x="114" y="614"/>
                  </a:lnTo>
                  <a:lnTo>
                    <a:pt x="74" y="641"/>
                  </a:lnTo>
                  <a:lnTo>
                    <a:pt x="35" y="654"/>
                  </a:lnTo>
                  <a:lnTo>
                    <a:pt x="0" y="654"/>
                  </a:lnTo>
                  <a:lnTo>
                    <a:pt x="22" y="623"/>
                  </a:lnTo>
                  <a:lnTo>
                    <a:pt x="35" y="579"/>
                  </a:lnTo>
                  <a:lnTo>
                    <a:pt x="48" y="526"/>
                  </a:lnTo>
                  <a:lnTo>
                    <a:pt x="61" y="468"/>
                  </a:lnTo>
                  <a:lnTo>
                    <a:pt x="70" y="411"/>
                  </a:lnTo>
                  <a:lnTo>
                    <a:pt x="79" y="358"/>
                  </a:lnTo>
                  <a:lnTo>
                    <a:pt x="92" y="305"/>
                  </a:lnTo>
                  <a:lnTo>
                    <a:pt x="105" y="261"/>
                  </a:lnTo>
                  <a:lnTo>
                    <a:pt x="119" y="225"/>
                  </a:lnTo>
                  <a:lnTo>
                    <a:pt x="136" y="190"/>
                  </a:lnTo>
                  <a:lnTo>
                    <a:pt x="149" y="149"/>
                  </a:lnTo>
                  <a:lnTo>
                    <a:pt x="163" y="114"/>
                  </a:lnTo>
                  <a:lnTo>
                    <a:pt x="180" y="83"/>
                  </a:lnTo>
                  <a:lnTo>
                    <a:pt x="198" y="48"/>
                  </a:lnTo>
                  <a:lnTo>
                    <a:pt x="216" y="22"/>
                  </a:lnTo>
                  <a:lnTo>
                    <a:pt x="233" y="0"/>
                  </a:lnTo>
                  <a:lnTo>
                    <a:pt x="265" y="17"/>
                  </a:lnTo>
                  <a:lnTo>
                    <a:pt x="296" y="35"/>
                  </a:lnTo>
                  <a:lnTo>
                    <a:pt x="331" y="57"/>
                  </a:lnTo>
                  <a:lnTo>
                    <a:pt x="367" y="74"/>
                  </a:lnTo>
                  <a:lnTo>
                    <a:pt x="402" y="97"/>
                  </a:lnTo>
                  <a:lnTo>
                    <a:pt x="437" y="110"/>
                  </a:lnTo>
                  <a:lnTo>
                    <a:pt x="481" y="127"/>
                  </a:lnTo>
                  <a:lnTo>
                    <a:pt x="521" y="141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14400" y="944640"/>
              <a:ext cx="259200" cy="124200"/>
            </a:xfrm>
            <a:custGeom>
              <a:avLst/>
              <a:gdLst/>
              <a:ahLst/>
              <a:rect l="0" t="0" r="r" b="b"/>
              <a:pathLst>
                <a:path w="720" h="345">
                  <a:moveTo>
                    <a:pt x="720" y="0"/>
                  </a:moveTo>
                  <a:lnTo>
                    <a:pt x="707" y="4"/>
                  </a:lnTo>
                  <a:lnTo>
                    <a:pt x="689" y="13"/>
                  </a:lnTo>
                  <a:lnTo>
                    <a:pt x="659" y="17"/>
                  </a:lnTo>
                  <a:lnTo>
                    <a:pt x="619" y="26"/>
                  </a:lnTo>
                  <a:lnTo>
                    <a:pt x="575" y="35"/>
                  </a:lnTo>
                  <a:lnTo>
                    <a:pt x="525" y="48"/>
                  </a:lnTo>
                  <a:lnTo>
                    <a:pt x="468" y="61"/>
                  </a:lnTo>
                  <a:lnTo>
                    <a:pt x="415" y="79"/>
                  </a:lnTo>
                  <a:lnTo>
                    <a:pt x="353" y="93"/>
                  </a:lnTo>
                  <a:lnTo>
                    <a:pt x="296" y="106"/>
                  </a:lnTo>
                  <a:lnTo>
                    <a:pt x="239" y="120"/>
                  </a:lnTo>
                  <a:lnTo>
                    <a:pt x="181" y="133"/>
                  </a:lnTo>
                  <a:lnTo>
                    <a:pt x="127" y="146"/>
                  </a:lnTo>
                  <a:lnTo>
                    <a:pt x="79" y="159"/>
                  </a:lnTo>
                  <a:lnTo>
                    <a:pt x="35" y="168"/>
                  </a:lnTo>
                  <a:lnTo>
                    <a:pt x="0" y="181"/>
                  </a:lnTo>
                  <a:lnTo>
                    <a:pt x="17" y="181"/>
                  </a:lnTo>
                  <a:lnTo>
                    <a:pt x="48" y="190"/>
                  </a:lnTo>
                  <a:lnTo>
                    <a:pt x="88" y="199"/>
                  </a:lnTo>
                  <a:lnTo>
                    <a:pt x="127" y="208"/>
                  </a:lnTo>
                  <a:lnTo>
                    <a:pt x="181" y="221"/>
                  </a:lnTo>
                  <a:lnTo>
                    <a:pt x="234" y="234"/>
                  </a:lnTo>
                  <a:lnTo>
                    <a:pt x="292" y="247"/>
                  </a:lnTo>
                  <a:lnTo>
                    <a:pt x="349" y="262"/>
                  </a:lnTo>
                  <a:lnTo>
                    <a:pt x="411" y="275"/>
                  </a:lnTo>
                  <a:lnTo>
                    <a:pt x="468" y="288"/>
                  </a:lnTo>
                  <a:lnTo>
                    <a:pt x="525" y="297"/>
                  </a:lnTo>
                  <a:lnTo>
                    <a:pt x="575" y="310"/>
                  </a:lnTo>
                  <a:lnTo>
                    <a:pt x="623" y="323"/>
                  </a:lnTo>
                  <a:lnTo>
                    <a:pt x="663" y="332"/>
                  </a:lnTo>
                  <a:lnTo>
                    <a:pt x="694" y="341"/>
                  </a:lnTo>
                  <a:lnTo>
                    <a:pt x="720" y="345"/>
                  </a:lnTo>
                  <a:lnTo>
                    <a:pt x="707" y="266"/>
                  </a:lnTo>
                  <a:lnTo>
                    <a:pt x="707" y="177"/>
                  </a:lnTo>
                  <a:lnTo>
                    <a:pt x="707" y="83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46080" y="819000"/>
              <a:ext cx="262440" cy="125640"/>
            </a:xfrm>
            <a:custGeom>
              <a:avLst/>
              <a:gdLst/>
              <a:ahLst/>
              <a:rect l="0" t="0" r="r" b="b"/>
              <a:pathLst>
                <a:path w="729" h="349">
                  <a:moveTo>
                    <a:pt x="729" y="52"/>
                  </a:moveTo>
                  <a:lnTo>
                    <a:pt x="650" y="30"/>
                  </a:lnTo>
                  <a:lnTo>
                    <a:pt x="584" y="26"/>
                  </a:lnTo>
                  <a:lnTo>
                    <a:pt x="530" y="22"/>
                  </a:lnTo>
                  <a:lnTo>
                    <a:pt x="486" y="22"/>
                  </a:lnTo>
                  <a:lnTo>
                    <a:pt x="450" y="30"/>
                  </a:lnTo>
                  <a:lnTo>
                    <a:pt x="415" y="30"/>
                  </a:lnTo>
                  <a:lnTo>
                    <a:pt x="380" y="30"/>
                  </a:lnTo>
                  <a:lnTo>
                    <a:pt x="349" y="26"/>
                  </a:lnTo>
                  <a:lnTo>
                    <a:pt x="309" y="17"/>
                  </a:lnTo>
                  <a:lnTo>
                    <a:pt x="261" y="8"/>
                  </a:lnTo>
                  <a:lnTo>
                    <a:pt x="217" y="4"/>
                  </a:lnTo>
                  <a:lnTo>
                    <a:pt x="158" y="0"/>
                  </a:lnTo>
                  <a:lnTo>
                    <a:pt x="110" y="4"/>
                  </a:lnTo>
                  <a:lnTo>
                    <a:pt x="66" y="13"/>
                  </a:lnTo>
                  <a:lnTo>
                    <a:pt x="26" y="30"/>
                  </a:lnTo>
                  <a:lnTo>
                    <a:pt x="0" y="57"/>
                  </a:lnTo>
                  <a:lnTo>
                    <a:pt x="35" y="66"/>
                  </a:lnTo>
                  <a:lnTo>
                    <a:pt x="79" y="83"/>
                  </a:lnTo>
                  <a:lnTo>
                    <a:pt x="127" y="110"/>
                  </a:lnTo>
                  <a:lnTo>
                    <a:pt x="176" y="141"/>
                  </a:lnTo>
                  <a:lnTo>
                    <a:pt x="221" y="177"/>
                  </a:lnTo>
                  <a:lnTo>
                    <a:pt x="269" y="208"/>
                  </a:lnTo>
                  <a:lnTo>
                    <a:pt x="314" y="239"/>
                  </a:lnTo>
                  <a:lnTo>
                    <a:pt x="353" y="256"/>
                  </a:lnTo>
                  <a:lnTo>
                    <a:pt x="393" y="274"/>
                  </a:lnTo>
                  <a:lnTo>
                    <a:pt x="428" y="292"/>
                  </a:lnTo>
                  <a:lnTo>
                    <a:pt x="464" y="300"/>
                  </a:lnTo>
                  <a:lnTo>
                    <a:pt x="499" y="318"/>
                  </a:lnTo>
                  <a:lnTo>
                    <a:pt x="534" y="331"/>
                  </a:lnTo>
                  <a:lnTo>
                    <a:pt x="570" y="340"/>
                  </a:lnTo>
                  <a:lnTo>
                    <a:pt x="601" y="349"/>
                  </a:lnTo>
                  <a:lnTo>
                    <a:pt x="632" y="349"/>
                  </a:lnTo>
                  <a:lnTo>
                    <a:pt x="641" y="314"/>
                  </a:lnTo>
                  <a:lnTo>
                    <a:pt x="645" y="278"/>
                  </a:lnTo>
                  <a:lnTo>
                    <a:pt x="654" y="243"/>
                  </a:lnTo>
                  <a:lnTo>
                    <a:pt x="667" y="208"/>
                  </a:lnTo>
                  <a:lnTo>
                    <a:pt x="681" y="163"/>
                  </a:lnTo>
                  <a:lnTo>
                    <a:pt x="694" y="123"/>
                  </a:lnTo>
                  <a:lnTo>
                    <a:pt x="711" y="88"/>
                  </a:lnTo>
                  <a:lnTo>
                    <a:pt x="729" y="52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04760" y="701640"/>
              <a:ext cx="233640" cy="187560"/>
            </a:xfrm>
            <a:custGeom>
              <a:avLst/>
              <a:gdLst/>
              <a:ahLst/>
              <a:rect l="0" t="0" r="r" b="b"/>
              <a:pathLst>
                <a:path w="649" h="521">
                  <a:moveTo>
                    <a:pt x="508" y="521"/>
                  </a:moveTo>
                  <a:lnTo>
                    <a:pt x="441" y="477"/>
                  </a:lnTo>
                  <a:lnTo>
                    <a:pt x="384" y="437"/>
                  </a:lnTo>
                  <a:lnTo>
                    <a:pt x="349" y="402"/>
                  </a:lnTo>
                  <a:lnTo>
                    <a:pt x="317" y="367"/>
                  </a:lnTo>
                  <a:lnTo>
                    <a:pt x="291" y="336"/>
                  </a:lnTo>
                  <a:lnTo>
                    <a:pt x="268" y="309"/>
                  </a:lnTo>
                  <a:lnTo>
                    <a:pt x="246" y="287"/>
                  </a:lnTo>
                  <a:lnTo>
                    <a:pt x="220" y="269"/>
                  </a:lnTo>
                  <a:lnTo>
                    <a:pt x="185" y="246"/>
                  </a:lnTo>
                  <a:lnTo>
                    <a:pt x="145" y="220"/>
                  </a:lnTo>
                  <a:lnTo>
                    <a:pt x="110" y="189"/>
                  </a:lnTo>
                  <a:lnTo>
                    <a:pt x="74" y="154"/>
                  </a:lnTo>
                  <a:lnTo>
                    <a:pt x="39" y="114"/>
                  </a:lnTo>
                  <a:lnTo>
                    <a:pt x="13" y="74"/>
                  </a:lnTo>
                  <a:lnTo>
                    <a:pt x="0" y="35"/>
                  </a:lnTo>
                  <a:lnTo>
                    <a:pt x="0" y="0"/>
                  </a:lnTo>
                  <a:lnTo>
                    <a:pt x="30" y="22"/>
                  </a:lnTo>
                  <a:lnTo>
                    <a:pt x="74" y="35"/>
                  </a:lnTo>
                  <a:lnTo>
                    <a:pt x="123" y="48"/>
                  </a:lnTo>
                  <a:lnTo>
                    <a:pt x="180" y="61"/>
                  </a:lnTo>
                  <a:lnTo>
                    <a:pt x="242" y="70"/>
                  </a:lnTo>
                  <a:lnTo>
                    <a:pt x="295" y="83"/>
                  </a:lnTo>
                  <a:lnTo>
                    <a:pt x="349" y="92"/>
                  </a:lnTo>
                  <a:lnTo>
                    <a:pt x="389" y="105"/>
                  </a:lnTo>
                  <a:lnTo>
                    <a:pt x="428" y="123"/>
                  </a:lnTo>
                  <a:lnTo>
                    <a:pt x="464" y="141"/>
                  </a:lnTo>
                  <a:lnTo>
                    <a:pt x="503" y="154"/>
                  </a:lnTo>
                  <a:lnTo>
                    <a:pt x="534" y="167"/>
                  </a:lnTo>
                  <a:lnTo>
                    <a:pt x="569" y="185"/>
                  </a:lnTo>
                  <a:lnTo>
                    <a:pt x="596" y="202"/>
                  </a:lnTo>
                  <a:lnTo>
                    <a:pt x="627" y="220"/>
                  </a:lnTo>
                  <a:lnTo>
                    <a:pt x="649" y="242"/>
                  </a:lnTo>
                  <a:lnTo>
                    <a:pt x="631" y="274"/>
                  </a:lnTo>
                  <a:lnTo>
                    <a:pt x="609" y="300"/>
                  </a:lnTo>
                  <a:lnTo>
                    <a:pt x="591" y="331"/>
                  </a:lnTo>
                  <a:lnTo>
                    <a:pt x="574" y="367"/>
                  </a:lnTo>
                  <a:lnTo>
                    <a:pt x="552" y="406"/>
                  </a:lnTo>
                  <a:lnTo>
                    <a:pt x="538" y="446"/>
                  </a:lnTo>
                  <a:lnTo>
                    <a:pt x="521" y="486"/>
                  </a:lnTo>
                  <a:lnTo>
                    <a:pt x="508" y="521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44640" y="1069920"/>
              <a:ext cx="262440" cy="122760"/>
            </a:xfrm>
            <a:custGeom>
              <a:avLst/>
              <a:gdLst/>
              <a:ahLst/>
              <a:rect l="0" t="0" r="r" b="b"/>
              <a:pathLst>
                <a:path w="729" h="341">
                  <a:moveTo>
                    <a:pt x="729" y="297"/>
                  </a:moveTo>
                  <a:lnTo>
                    <a:pt x="650" y="315"/>
                  </a:lnTo>
                  <a:lnTo>
                    <a:pt x="588" y="323"/>
                  </a:lnTo>
                  <a:lnTo>
                    <a:pt x="530" y="323"/>
                  </a:lnTo>
                  <a:lnTo>
                    <a:pt x="486" y="323"/>
                  </a:lnTo>
                  <a:lnTo>
                    <a:pt x="446" y="319"/>
                  </a:lnTo>
                  <a:lnTo>
                    <a:pt x="415" y="315"/>
                  </a:lnTo>
                  <a:lnTo>
                    <a:pt x="380" y="315"/>
                  </a:lnTo>
                  <a:lnTo>
                    <a:pt x="349" y="319"/>
                  </a:lnTo>
                  <a:lnTo>
                    <a:pt x="309" y="328"/>
                  </a:lnTo>
                  <a:lnTo>
                    <a:pt x="265" y="337"/>
                  </a:lnTo>
                  <a:lnTo>
                    <a:pt x="212" y="341"/>
                  </a:lnTo>
                  <a:lnTo>
                    <a:pt x="158" y="341"/>
                  </a:lnTo>
                  <a:lnTo>
                    <a:pt x="110" y="341"/>
                  </a:lnTo>
                  <a:lnTo>
                    <a:pt x="66" y="328"/>
                  </a:lnTo>
                  <a:lnTo>
                    <a:pt x="30" y="310"/>
                  </a:lnTo>
                  <a:lnTo>
                    <a:pt x="0" y="284"/>
                  </a:lnTo>
                  <a:lnTo>
                    <a:pt x="39" y="279"/>
                  </a:lnTo>
                  <a:lnTo>
                    <a:pt x="79" y="257"/>
                  </a:lnTo>
                  <a:lnTo>
                    <a:pt x="127" y="234"/>
                  </a:lnTo>
                  <a:lnTo>
                    <a:pt x="176" y="199"/>
                  </a:lnTo>
                  <a:lnTo>
                    <a:pt x="221" y="168"/>
                  </a:lnTo>
                  <a:lnTo>
                    <a:pt x="269" y="137"/>
                  </a:lnTo>
                  <a:lnTo>
                    <a:pt x="314" y="106"/>
                  </a:lnTo>
                  <a:lnTo>
                    <a:pt x="353" y="89"/>
                  </a:lnTo>
                  <a:lnTo>
                    <a:pt x="393" y="74"/>
                  </a:lnTo>
                  <a:lnTo>
                    <a:pt x="428" y="57"/>
                  </a:lnTo>
                  <a:lnTo>
                    <a:pt x="464" y="44"/>
                  </a:lnTo>
                  <a:lnTo>
                    <a:pt x="499" y="30"/>
                  </a:lnTo>
                  <a:lnTo>
                    <a:pt x="534" y="17"/>
                  </a:lnTo>
                  <a:lnTo>
                    <a:pt x="570" y="8"/>
                  </a:lnTo>
                  <a:lnTo>
                    <a:pt x="601" y="0"/>
                  </a:lnTo>
                  <a:lnTo>
                    <a:pt x="637" y="0"/>
                  </a:lnTo>
                  <a:lnTo>
                    <a:pt x="641" y="30"/>
                  </a:lnTo>
                  <a:lnTo>
                    <a:pt x="645" y="66"/>
                  </a:lnTo>
                  <a:lnTo>
                    <a:pt x="659" y="102"/>
                  </a:lnTo>
                  <a:lnTo>
                    <a:pt x="672" y="142"/>
                  </a:lnTo>
                  <a:lnTo>
                    <a:pt x="681" y="181"/>
                  </a:lnTo>
                  <a:lnTo>
                    <a:pt x="694" y="221"/>
                  </a:lnTo>
                  <a:lnTo>
                    <a:pt x="711" y="257"/>
                  </a:lnTo>
                  <a:lnTo>
                    <a:pt x="729" y="297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01880" y="1123920"/>
              <a:ext cx="235440" cy="187560"/>
            </a:xfrm>
            <a:custGeom>
              <a:avLst/>
              <a:gdLst/>
              <a:ahLst/>
              <a:rect l="0" t="0" r="r" b="b"/>
              <a:pathLst>
                <a:path w="654" h="521">
                  <a:moveTo>
                    <a:pt x="513" y="0"/>
                  </a:moveTo>
                  <a:lnTo>
                    <a:pt x="441" y="48"/>
                  </a:lnTo>
                  <a:lnTo>
                    <a:pt x="393" y="83"/>
                  </a:lnTo>
                  <a:lnTo>
                    <a:pt x="353" y="119"/>
                  </a:lnTo>
                  <a:lnTo>
                    <a:pt x="322" y="154"/>
                  </a:lnTo>
                  <a:lnTo>
                    <a:pt x="296" y="185"/>
                  </a:lnTo>
                  <a:lnTo>
                    <a:pt x="274" y="211"/>
                  </a:lnTo>
                  <a:lnTo>
                    <a:pt x="252" y="233"/>
                  </a:lnTo>
                  <a:lnTo>
                    <a:pt x="225" y="251"/>
                  </a:lnTo>
                  <a:lnTo>
                    <a:pt x="190" y="274"/>
                  </a:lnTo>
                  <a:lnTo>
                    <a:pt x="154" y="300"/>
                  </a:lnTo>
                  <a:lnTo>
                    <a:pt x="114" y="331"/>
                  </a:lnTo>
                  <a:lnTo>
                    <a:pt x="74" y="367"/>
                  </a:lnTo>
                  <a:lnTo>
                    <a:pt x="39" y="406"/>
                  </a:lnTo>
                  <a:lnTo>
                    <a:pt x="13" y="446"/>
                  </a:lnTo>
                  <a:lnTo>
                    <a:pt x="0" y="486"/>
                  </a:lnTo>
                  <a:lnTo>
                    <a:pt x="0" y="521"/>
                  </a:lnTo>
                  <a:lnTo>
                    <a:pt x="30" y="499"/>
                  </a:lnTo>
                  <a:lnTo>
                    <a:pt x="74" y="486"/>
                  </a:lnTo>
                  <a:lnTo>
                    <a:pt x="127" y="472"/>
                  </a:lnTo>
                  <a:lnTo>
                    <a:pt x="186" y="459"/>
                  </a:lnTo>
                  <a:lnTo>
                    <a:pt x="243" y="450"/>
                  </a:lnTo>
                  <a:lnTo>
                    <a:pt x="296" y="441"/>
                  </a:lnTo>
                  <a:lnTo>
                    <a:pt x="349" y="428"/>
                  </a:lnTo>
                  <a:lnTo>
                    <a:pt x="393" y="415"/>
                  </a:lnTo>
                  <a:lnTo>
                    <a:pt x="428" y="397"/>
                  </a:lnTo>
                  <a:lnTo>
                    <a:pt x="464" y="384"/>
                  </a:lnTo>
                  <a:lnTo>
                    <a:pt x="504" y="367"/>
                  </a:lnTo>
                  <a:lnTo>
                    <a:pt x="539" y="358"/>
                  </a:lnTo>
                  <a:lnTo>
                    <a:pt x="570" y="340"/>
                  </a:lnTo>
                  <a:lnTo>
                    <a:pt x="606" y="322"/>
                  </a:lnTo>
                  <a:lnTo>
                    <a:pt x="632" y="305"/>
                  </a:lnTo>
                  <a:lnTo>
                    <a:pt x="654" y="287"/>
                  </a:lnTo>
                  <a:lnTo>
                    <a:pt x="637" y="255"/>
                  </a:lnTo>
                  <a:lnTo>
                    <a:pt x="619" y="224"/>
                  </a:lnTo>
                  <a:lnTo>
                    <a:pt x="597" y="189"/>
                  </a:lnTo>
                  <a:lnTo>
                    <a:pt x="579" y="154"/>
                  </a:lnTo>
                  <a:lnTo>
                    <a:pt x="557" y="119"/>
                  </a:lnTo>
                  <a:lnTo>
                    <a:pt x="544" y="83"/>
                  </a:lnTo>
                  <a:lnTo>
                    <a:pt x="526" y="39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14480" y="944640"/>
              <a:ext cx="259200" cy="124200"/>
            </a:xfrm>
            <a:custGeom>
              <a:avLst/>
              <a:gdLst/>
              <a:ahLst/>
              <a:rect l="0" t="0" r="r" b="b"/>
              <a:pathLst>
                <a:path w="720" h="345">
                  <a:moveTo>
                    <a:pt x="0" y="0"/>
                  </a:moveTo>
                  <a:lnTo>
                    <a:pt x="13" y="4"/>
                  </a:lnTo>
                  <a:lnTo>
                    <a:pt x="35" y="13"/>
                  </a:lnTo>
                  <a:lnTo>
                    <a:pt x="66" y="17"/>
                  </a:lnTo>
                  <a:lnTo>
                    <a:pt x="101" y="26"/>
                  </a:lnTo>
                  <a:lnTo>
                    <a:pt x="145" y="35"/>
                  </a:lnTo>
                  <a:lnTo>
                    <a:pt x="199" y="48"/>
                  </a:lnTo>
                  <a:lnTo>
                    <a:pt x="252" y="61"/>
                  </a:lnTo>
                  <a:lnTo>
                    <a:pt x="309" y="79"/>
                  </a:lnTo>
                  <a:lnTo>
                    <a:pt x="367" y="93"/>
                  </a:lnTo>
                  <a:lnTo>
                    <a:pt x="424" y="106"/>
                  </a:lnTo>
                  <a:lnTo>
                    <a:pt x="481" y="120"/>
                  </a:lnTo>
                  <a:lnTo>
                    <a:pt x="538" y="133"/>
                  </a:lnTo>
                  <a:lnTo>
                    <a:pt x="592" y="146"/>
                  </a:lnTo>
                  <a:lnTo>
                    <a:pt x="641" y="159"/>
                  </a:lnTo>
                  <a:lnTo>
                    <a:pt x="685" y="168"/>
                  </a:lnTo>
                  <a:lnTo>
                    <a:pt x="720" y="181"/>
                  </a:lnTo>
                  <a:lnTo>
                    <a:pt x="703" y="181"/>
                  </a:lnTo>
                  <a:lnTo>
                    <a:pt x="672" y="190"/>
                  </a:lnTo>
                  <a:lnTo>
                    <a:pt x="637" y="199"/>
                  </a:lnTo>
                  <a:lnTo>
                    <a:pt x="592" y="208"/>
                  </a:lnTo>
                  <a:lnTo>
                    <a:pt x="538" y="221"/>
                  </a:lnTo>
                  <a:lnTo>
                    <a:pt x="486" y="234"/>
                  </a:lnTo>
                  <a:lnTo>
                    <a:pt x="428" y="247"/>
                  </a:lnTo>
                  <a:lnTo>
                    <a:pt x="371" y="262"/>
                  </a:lnTo>
                  <a:lnTo>
                    <a:pt x="309" y="275"/>
                  </a:lnTo>
                  <a:lnTo>
                    <a:pt x="252" y="288"/>
                  </a:lnTo>
                  <a:lnTo>
                    <a:pt x="195" y="297"/>
                  </a:lnTo>
                  <a:lnTo>
                    <a:pt x="145" y="310"/>
                  </a:lnTo>
                  <a:lnTo>
                    <a:pt x="97" y="323"/>
                  </a:lnTo>
                  <a:lnTo>
                    <a:pt x="57" y="332"/>
                  </a:lnTo>
                  <a:lnTo>
                    <a:pt x="26" y="341"/>
                  </a:lnTo>
                  <a:lnTo>
                    <a:pt x="0" y="345"/>
                  </a:lnTo>
                  <a:lnTo>
                    <a:pt x="13" y="266"/>
                  </a:lnTo>
                  <a:lnTo>
                    <a:pt x="17" y="177"/>
                  </a:lnTo>
                  <a:lnTo>
                    <a:pt x="13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79560" y="819000"/>
              <a:ext cx="262440" cy="125640"/>
            </a:xfrm>
            <a:custGeom>
              <a:avLst/>
              <a:gdLst/>
              <a:ahLst/>
              <a:rect l="0" t="0" r="r" b="b"/>
              <a:pathLst>
                <a:path w="729" h="349">
                  <a:moveTo>
                    <a:pt x="0" y="52"/>
                  </a:moveTo>
                  <a:lnTo>
                    <a:pt x="79" y="30"/>
                  </a:lnTo>
                  <a:lnTo>
                    <a:pt x="145" y="26"/>
                  </a:lnTo>
                  <a:lnTo>
                    <a:pt x="199" y="22"/>
                  </a:lnTo>
                  <a:lnTo>
                    <a:pt x="243" y="22"/>
                  </a:lnTo>
                  <a:lnTo>
                    <a:pt x="283" y="30"/>
                  </a:lnTo>
                  <a:lnTo>
                    <a:pt x="318" y="30"/>
                  </a:lnTo>
                  <a:lnTo>
                    <a:pt x="349" y="30"/>
                  </a:lnTo>
                  <a:lnTo>
                    <a:pt x="384" y="26"/>
                  </a:lnTo>
                  <a:lnTo>
                    <a:pt x="419" y="17"/>
                  </a:lnTo>
                  <a:lnTo>
                    <a:pt x="468" y="8"/>
                  </a:lnTo>
                  <a:lnTo>
                    <a:pt x="516" y="4"/>
                  </a:lnTo>
                  <a:lnTo>
                    <a:pt x="570" y="0"/>
                  </a:lnTo>
                  <a:lnTo>
                    <a:pt x="619" y="4"/>
                  </a:lnTo>
                  <a:lnTo>
                    <a:pt x="663" y="13"/>
                  </a:lnTo>
                  <a:lnTo>
                    <a:pt x="703" y="30"/>
                  </a:lnTo>
                  <a:lnTo>
                    <a:pt x="729" y="57"/>
                  </a:lnTo>
                  <a:lnTo>
                    <a:pt x="694" y="66"/>
                  </a:lnTo>
                  <a:lnTo>
                    <a:pt x="650" y="83"/>
                  </a:lnTo>
                  <a:lnTo>
                    <a:pt x="606" y="110"/>
                  </a:lnTo>
                  <a:lnTo>
                    <a:pt x="557" y="141"/>
                  </a:lnTo>
                  <a:lnTo>
                    <a:pt x="508" y="177"/>
                  </a:lnTo>
                  <a:lnTo>
                    <a:pt x="464" y="208"/>
                  </a:lnTo>
                  <a:lnTo>
                    <a:pt x="419" y="239"/>
                  </a:lnTo>
                  <a:lnTo>
                    <a:pt x="380" y="256"/>
                  </a:lnTo>
                  <a:lnTo>
                    <a:pt x="340" y="274"/>
                  </a:lnTo>
                  <a:lnTo>
                    <a:pt x="305" y="292"/>
                  </a:lnTo>
                  <a:lnTo>
                    <a:pt x="269" y="300"/>
                  </a:lnTo>
                  <a:lnTo>
                    <a:pt x="234" y="318"/>
                  </a:lnTo>
                  <a:lnTo>
                    <a:pt x="199" y="331"/>
                  </a:lnTo>
                  <a:lnTo>
                    <a:pt x="163" y="340"/>
                  </a:lnTo>
                  <a:lnTo>
                    <a:pt x="132" y="349"/>
                  </a:lnTo>
                  <a:lnTo>
                    <a:pt x="97" y="349"/>
                  </a:lnTo>
                  <a:lnTo>
                    <a:pt x="92" y="314"/>
                  </a:lnTo>
                  <a:lnTo>
                    <a:pt x="83" y="278"/>
                  </a:lnTo>
                  <a:lnTo>
                    <a:pt x="74" y="243"/>
                  </a:lnTo>
                  <a:lnTo>
                    <a:pt x="61" y="208"/>
                  </a:lnTo>
                  <a:lnTo>
                    <a:pt x="52" y="163"/>
                  </a:lnTo>
                  <a:lnTo>
                    <a:pt x="35" y="123"/>
                  </a:lnTo>
                  <a:lnTo>
                    <a:pt x="17" y="88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49320" y="701640"/>
              <a:ext cx="235440" cy="187560"/>
            </a:xfrm>
            <a:custGeom>
              <a:avLst/>
              <a:gdLst/>
              <a:ahLst/>
              <a:rect l="0" t="0" r="r" b="b"/>
              <a:pathLst>
                <a:path w="654" h="521">
                  <a:moveTo>
                    <a:pt x="145" y="521"/>
                  </a:moveTo>
                  <a:lnTo>
                    <a:pt x="212" y="477"/>
                  </a:lnTo>
                  <a:lnTo>
                    <a:pt x="265" y="437"/>
                  </a:lnTo>
                  <a:lnTo>
                    <a:pt x="305" y="402"/>
                  </a:lnTo>
                  <a:lnTo>
                    <a:pt x="336" y="367"/>
                  </a:lnTo>
                  <a:lnTo>
                    <a:pt x="362" y="336"/>
                  </a:lnTo>
                  <a:lnTo>
                    <a:pt x="384" y="309"/>
                  </a:lnTo>
                  <a:lnTo>
                    <a:pt x="406" y="287"/>
                  </a:lnTo>
                  <a:lnTo>
                    <a:pt x="433" y="269"/>
                  </a:lnTo>
                  <a:lnTo>
                    <a:pt x="464" y="246"/>
                  </a:lnTo>
                  <a:lnTo>
                    <a:pt x="504" y="220"/>
                  </a:lnTo>
                  <a:lnTo>
                    <a:pt x="539" y="189"/>
                  </a:lnTo>
                  <a:lnTo>
                    <a:pt x="579" y="154"/>
                  </a:lnTo>
                  <a:lnTo>
                    <a:pt x="610" y="114"/>
                  </a:lnTo>
                  <a:lnTo>
                    <a:pt x="637" y="74"/>
                  </a:lnTo>
                  <a:lnTo>
                    <a:pt x="650" y="35"/>
                  </a:lnTo>
                  <a:lnTo>
                    <a:pt x="654" y="0"/>
                  </a:lnTo>
                  <a:lnTo>
                    <a:pt x="623" y="22"/>
                  </a:lnTo>
                  <a:lnTo>
                    <a:pt x="575" y="35"/>
                  </a:lnTo>
                  <a:lnTo>
                    <a:pt x="526" y="48"/>
                  </a:lnTo>
                  <a:lnTo>
                    <a:pt x="468" y="61"/>
                  </a:lnTo>
                  <a:lnTo>
                    <a:pt x="411" y="70"/>
                  </a:lnTo>
                  <a:lnTo>
                    <a:pt x="358" y="83"/>
                  </a:lnTo>
                  <a:lnTo>
                    <a:pt x="305" y="92"/>
                  </a:lnTo>
                  <a:lnTo>
                    <a:pt x="265" y="105"/>
                  </a:lnTo>
                  <a:lnTo>
                    <a:pt x="225" y="123"/>
                  </a:lnTo>
                  <a:lnTo>
                    <a:pt x="190" y="141"/>
                  </a:lnTo>
                  <a:lnTo>
                    <a:pt x="149" y="154"/>
                  </a:lnTo>
                  <a:lnTo>
                    <a:pt x="114" y="167"/>
                  </a:lnTo>
                  <a:lnTo>
                    <a:pt x="83" y="185"/>
                  </a:lnTo>
                  <a:lnTo>
                    <a:pt x="52" y="202"/>
                  </a:lnTo>
                  <a:lnTo>
                    <a:pt x="22" y="220"/>
                  </a:lnTo>
                  <a:lnTo>
                    <a:pt x="0" y="242"/>
                  </a:lnTo>
                  <a:lnTo>
                    <a:pt x="17" y="274"/>
                  </a:lnTo>
                  <a:lnTo>
                    <a:pt x="39" y="300"/>
                  </a:lnTo>
                  <a:lnTo>
                    <a:pt x="61" y="331"/>
                  </a:lnTo>
                  <a:lnTo>
                    <a:pt x="79" y="367"/>
                  </a:lnTo>
                  <a:lnTo>
                    <a:pt x="101" y="406"/>
                  </a:lnTo>
                  <a:lnTo>
                    <a:pt x="114" y="446"/>
                  </a:lnTo>
                  <a:lnTo>
                    <a:pt x="132" y="486"/>
                  </a:lnTo>
                  <a:lnTo>
                    <a:pt x="145" y="521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81360" y="1069920"/>
              <a:ext cx="263880" cy="122760"/>
            </a:xfrm>
            <a:custGeom>
              <a:avLst/>
              <a:gdLst/>
              <a:ahLst/>
              <a:rect l="0" t="0" r="r" b="b"/>
              <a:pathLst>
                <a:path w="733" h="341">
                  <a:moveTo>
                    <a:pt x="0" y="297"/>
                  </a:moveTo>
                  <a:lnTo>
                    <a:pt x="83" y="315"/>
                  </a:lnTo>
                  <a:lnTo>
                    <a:pt x="145" y="323"/>
                  </a:lnTo>
                  <a:lnTo>
                    <a:pt x="202" y="323"/>
                  </a:lnTo>
                  <a:lnTo>
                    <a:pt x="246" y="323"/>
                  </a:lnTo>
                  <a:lnTo>
                    <a:pt x="282" y="319"/>
                  </a:lnTo>
                  <a:lnTo>
                    <a:pt x="317" y="315"/>
                  </a:lnTo>
                  <a:lnTo>
                    <a:pt x="348" y="315"/>
                  </a:lnTo>
                  <a:lnTo>
                    <a:pt x="380" y="319"/>
                  </a:lnTo>
                  <a:lnTo>
                    <a:pt x="419" y="328"/>
                  </a:lnTo>
                  <a:lnTo>
                    <a:pt x="464" y="337"/>
                  </a:lnTo>
                  <a:lnTo>
                    <a:pt x="516" y="341"/>
                  </a:lnTo>
                  <a:lnTo>
                    <a:pt x="569" y="341"/>
                  </a:lnTo>
                  <a:lnTo>
                    <a:pt x="618" y="341"/>
                  </a:lnTo>
                  <a:lnTo>
                    <a:pt x="662" y="328"/>
                  </a:lnTo>
                  <a:lnTo>
                    <a:pt x="702" y="310"/>
                  </a:lnTo>
                  <a:lnTo>
                    <a:pt x="733" y="284"/>
                  </a:lnTo>
                  <a:lnTo>
                    <a:pt x="693" y="279"/>
                  </a:lnTo>
                  <a:lnTo>
                    <a:pt x="653" y="257"/>
                  </a:lnTo>
                  <a:lnTo>
                    <a:pt x="605" y="234"/>
                  </a:lnTo>
                  <a:lnTo>
                    <a:pt x="556" y="199"/>
                  </a:lnTo>
                  <a:lnTo>
                    <a:pt x="508" y="168"/>
                  </a:lnTo>
                  <a:lnTo>
                    <a:pt x="464" y="137"/>
                  </a:lnTo>
                  <a:lnTo>
                    <a:pt x="415" y="106"/>
                  </a:lnTo>
                  <a:lnTo>
                    <a:pt x="380" y="89"/>
                  </a:lnTo>
                  <a:lnTo>
                    <a:pt x="339" y="74"/>
                  </a:lnTo>
                  <a:lnTo>
                    <a:pt x="299" y="57"/>
                  </a:lnTo>
                  <a:lnTo>
                    <a:pt x="264" y="44"/>
                  </a:lnTo>
                  <a:lnTo>
                    <a:pt x="229" y="30"/>
                  </a:lnTo>
                  <a:lnTo>
                    <a:pt x="194" y="17"/>
                  </a:lnTo>
                  <a:lnTo>
                    <a:pt x="158" y="8"/>
                  </a:lnTo>
                  <a:lnTo>
                    <a:pt x="127" y="0"/>
                  </a:lnTo>
                  <a:lnTo>
                    <a:pt x="92" y="0"/>
                  </a:lnTo>
                  <a:lnTo>
                    <a:pt x="83" y="66"/>
                  </a:lnTo>
                  <a:lnTo>
                    <a:pt x="61" y="142"/>
                  </a:lnTo>
                  <a:lnTo>
                    <a:pt x="35" y="221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51120" y="1123920"/>
              <a:ext cx="235440" cy="187560"/>
            </a:xfrm>
            <a:custGeom>
              <a:avLst/>
              <a:gdLst/>
              <a:ahLst/>
              <a:rect l="0" t="0" r="r" b="b"/>
              <a:pathLst>
                <a:path w="654" h="521">
                  <a:moveTo>
                    <a:pt x="141" y="0"/>
                  </a:moveTo>
                  <a:lnTo>
                    <a:pt x="212" y="48"/>
                  </a:lnTo>
                  <a:lnTo>
                    <a:pt x="261" y="83"/>
                  </a:lnTo>
                  <a:lnTo>
                    <a:pt x="305" y="119"/>
                  </a:lnTo>
                  <a:lnTo>
                    <a:pt x="331" y="154"/>
                  </a:lnTo>
                  <a:lnTo>
                    <a:pt x="358" y="185"/>
                  </a:lnTo>
                  <a:lnTo>
                    <a:pt x="380" y="211"/>
                  </a:lnTo>
                  <a:lnTo>
                    <a:pt x="402" y="233"/>
                  </a:lnTo>
                  <a:lnTo>
                    <a:pt x="433" y="251"/>
                  </a:lnTo>
                  <a:lnTo>
                    <a:pt x="464" y="274"/>
                  </a:lnTo>
                  <a:lnTo>
                    <a:pt x="504" y="300"/>
                  </a:lnTo>
                  <a:lnTo>
                    <a:pt x="544" y="331"/>
                  </a:lnTo>
                  <a:lnTo>
                    <a:pt x="584" y="367"/>
                  </a:lnTo>
                  <a:lnTo>
                    <a:pt x="614" y="406"/>
                  </a:lnTo>
                  <a:lnTo>
                    <a:pt x="641" y="446"/>
                  </a:lnTo>
                  <a:lnTo>
                    <a:pt x="654" y="486"/>
                  </a:lnTo>
                  <a:lnTo>
                    <a:pt x="654" y="521"/>
                  </a:lnTo>
                  <a:lnTo>
                    <a:pt x="623" y="499"/>
                  </a:lnTo>
                  <a:lnTo>
                    <a:pt x="584" y="486"/>
                  </a:lnTo>
                  <a:lnTo>
                    <a:pt x="531" y="472"/>
                  </a:lnTo>
                  <a:lnTo>
                    <a:pt x="472" y="459"/>
                  </a:lnTo>
                  <a:lnTo>
                    <a:pt x="415" y="450"/>
                  </a:lnTo>
                  <a:lnTo>
                    <a:pt x="358" y="441"/>
                  </a:lnTo>
                  <a:lnTo>
                    <a:pt x="309" y="428"/>
                  </a:lnTo>
                  <a:lnTo>
                    <a:pt x="265" y="415"/>
                  </a:lnTo>
                  <a:lnTo>
                    <a:pt x="225" y="397"/>
                  </a:lnTo>
                  <a:lnTo>
                    <a:pt x="190" y="384"/>
                  </a:lnTo>
                  <a:lnTo>
                    <a:pt x="154" y="367"/>
                  </a:lnTo>
                  <a:lnTo>
                    <a:pt x="119" y="358"/>
                  </a:lnTo>
                  <a:lnTo>
                    <a:pt x="83" y="340"/>
                  </a:lnTo>
                  <a:lnTo>
                    <a:pt x="52" y="322"/>
                  </a:lnTo>
                  <a:lnTo>
                    <a:pt x="22" y="305"/>
                  </a:lnTo>
                  <a:lnTo>
                    <a:pt x="0" y="287"/>
                  </a:lnTo>
                  <a:lnTo>
                    <a:pt x="22" y="255"/>
                  </a:lnTo>
                  <a:lnTo>
                    <a:pt x="39" y="224"/>
                  </a:lnTo>
                  <a:lnTo>
                    <a:pt x="57" y="189"/>
                  </a:lnTo>
                  <a:lnTo>
                    <a:pt x="79" y="154"/>
                  </a:lnTo>
                  <a:lnTo>
                    <a:pt x="97" y="119"/>
                  </a:lnTo>
                  <a:lnTo>
                    <a:pt x="114" y="83"/>
                  </a:lnTo>
                  <a:lnTo>
                    <a:pt x="132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00160" y="563400"/>
              <a:ext cx="227520" cy="224280"/>
            </a:xfrm>
            <a:custGeom>
              <a:avLst/>
              <a:gdLst/>
              <a:ahLst/>
              <a:rect l="0" t="0" r="r" b="b"/>
              <a:pathLst>
                <a:path w="632" h="623">
                  <a:moveTo>
                    <a:pt x="632" y="384"/>
                  </a:moveTo>
                  <a:lnTo>
                    <a:pt x="623" y="375"/>
                  </a:lnTo>
                  <a:lnTo>
                    <a:pt x="606" y="367"/>
                  </a:lnTo>
                  <a:lnTo>
                    <a:pt x="575" y="349"/>
                  </a:lnTo>
                  <a:lnTo>
                    <a:pt x="544" y="327"/>
                  </a:lnTo>
                  <a:lnTo>
                    <a:pt x="504" y="305"/>
                  </a:lnTo>
                  <a:lnTo>
                    <a:pt x="459" y="278"/>
                  </a:lnTo>
                  <a:lnTo>
                    <a:pt x="411" y="252"/>
                  </a:lnTo>
                  <a:lnTo>
                    <a:pt x="362" y="217"/>
                  </a:lnTo>
                  <a:lnTo>
                    <a:pt x="309" y="190"/>
                  </a:lnTo>
                  <a:lnTo>
                    <a:pt x="261" y="159"/>
                  </a:lnTo>
                  <a:lnTo>
                    <a:pt x="208" y="123"/>
                  </a:lnTo>
                  <a:lnTo>
                    <a:pt x="159" y="97"/>
                  </a:lnTo>
                  <a:lnTo>
                    <a:pt x="110" y="66"/>
                  </a:lnTo>
                  <a:lnTo>
                    <a:pt x="70" y="39"/>
                  </a:lnTo>
                  <a:lnTo>
                    <a:pt x="30" y="17"/>
                  </a:lnTo>
                  <a:lnTo>
                    <a:pt x="0" y="0"/>
                  </a:lnTo>
                  <a:lnTo>
                    <a:pt x="22" y="39"/>
                  </a:lnTo>
                  <a:lnTo>
                    <a:pt x="70" y="110"/>
                  </a:lnTo>
                  <a:lnTo>
                    <a:pt x="127" y="203"/>
                  </a:lnTo>
                  <a:lnTo>
                    <a:pt x="190" y="305"/>
                  </a:lnTo>
                  <a:lnTo>
                    <a:pt x="252" y="406"/>
                  </a:lnTo>
                  <a:lnTo>
                    <a:pt x="309" y="504"/>
                  </a:lnTo>
                  <a:lnTo>
                    <a:pt x="358" y="575"/>
                  </a:lnTo>
                  <a:lnTo>
                    <a:pt x="384" y="623"/>
                  </a:lnTo>
                  <a:lnTo>
                    <a:pt x="411" y="592"/>
                  </a:lnTo>
                  <a:lnTo>
                    <a:pt x="437" y="562"/>
                  </a:lnTo>
                  <a:lnTo>
                    <a:pt x="464" y="526"/>
                  </a:lnTo>
                  <a:lnTo>
                    <a:pt x="500" y="491"/>
                  </a:lnTo>
                  <a:lnTo>
                    <a:pt x="531" y="464"/>
                  </a:lnTo>
                  <a:lnTo>
                    <a:pt x="566" y="433"/>
                  </a:lnTo>
                  <a:lnTo>
                    <a:pt x="597" y="406"/>
                  </a:lnTo>
                  <a:lnTo>
                    <a:pt x="632" y="384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00160" y="1225440"/>
              <a:ext cx="224280" cy="227520"/>
            </a:xfrm>
            <a:custGeom>
              <a:avLst/>
              <a:gdLst/>
              <a:ahLst/>
              <a:rect l="0" t="0" r="r" b="b"/>
              <a:pathLst>
                <a:path w="623" h="632">
                  <a:moveTo>
                    <a:pt x="380" y="0"/>
                  </a:moveTo>
                  <a:lnTo>
                    <a:pt x="367" y="26"/>
                  </a:lnTo>
                  <a:lnTo>
                    <a:pt x="327" y="88"/>
                  </a:lnTo>
                  <a:lnTo>
                    <a:pt x="278" y="172"/>
                  </a:lnTo>
                  <a:lnTo>
                    <a:pt x="217" y="269"/>
                  </a:lnTo>
                  <a:lnTo>
                    <a:pt x="154" y="371"/>
                  </a:lnTo>
                  <a:lnTo>
                    <a:pt x="92" y="472"/>
                  </a:lnTo>
                  <a:lnTo>
                    <a:pt x="39" y="562"/>
                  </a:lnTo>
                  <a:lnTo>
                    <a:pt x="0" y="632"/>
                  </a:lnTo>
                  <a:lnTo>
                    <a:pt x="13" y="623"/>
                  </a:lnTo>
                  <a:lnTo>
                    <a:pt x="39" y="610"/>
                  </a:lnTo>
                  <a:lnTo>
                    <a:pt x="70" y="588"/>
                  </a:lnTo>
                  <a:lnTo>
                    <a:pt x="110" y="562"/>
                  </a:lnTo>
                  <a:lnTo>
                    <a:pt x="154" y="539"/>
                  </a:lnTo>
                  <a:lnTo>
                    <a:pt x="203" y="504"/>
                  </a:lnTo>
                  <a:lnTo>
                    <a:pt x="252" y="478"/>
                  </a:lnTo>
                  <a:lnTo>
                    <a:pt x="305" y="441"/>
                  </a:lnTo>
                  <a:lnTo>
                    <a:pt x="358" y="411"/>
                  </a:lnTo>
                  <a:lnTo>
                    <a:pt x="402" y="380"/>
                  </a:lnTo>
                  <a:lnTo>
                    <a:pt x="455" y="349"/>
                  </a:lnTo>
                  <a:lnTo>
                    <a:pt x="500" y="322"/>
                  </a:lnTo>
                  <a:lnTo>
                    <a:pt x="539" y="296"/>
                  </a:lnTo>
                  <a:lnTo>
                    <a:pt x="575" y="274"/>
                  </a:lnTo>
                  <a:lnTo>
                    <a:pt x="606" y="256"/>
                  </a:lnTo>
                  <a:lnTo>
                    <a:pt x="623" y="243"/>
                  </a:lnTo>
                  <a:lnTo>
                    <a:pt x="592" y="221"/>
                  </a:lnTo>
                  <a:lnTo>
                    <a:pt x="557" y="195"/>
                  </a:lnTo>
                  <a:lnTo>
                    <a:pt x="526" y="164"/>
                  </a:lnTo>
                  <a:lnTo>
                    <a:pt x="495" y="132"/>
                  </a:lnTo>
                  <a:lnTo>
                    <a:pt x="464" y="97"/>
                  </a:lnTo>
                  <a:lnTo>
                    <a:pt x="428" y="66"/>
                  </a:lnTo>
                  <a:lnTo>
                    <a:pt x="402" y="30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62200" y="1228680"/>
              <a:ext cx="227520" cy="224280"/>
            </a:xfrm>
            <a:custGeom>
              <a:avLst/>
              <a:gdLst/>
              <a:ahLst/>
              <a:rect l="0" t="0" r="r" b="b"/>
              <a:pathLst>
                <a:path w="632" h="623">
                  <a:moveTo>
                    <a:pt x="0" y="243"/>
                  </a:moveTo>
                  <a:lnTo>
                    <a:pt x="8" y="247"/>
                  </a:lnTo>
                  <a:lnTo>
                    <a:pt x="26" y="256"/>
                  </a:lnTo>
                  <a:lnTo>
                    <a:pt x="52" y="274"/>
                  </a:lnTo>
                  <a:lnTo>
                    <a:pt x="88" y="296"/>
                  </a:lnTo>
                  <a:lnTo>
                    <a:pt x="127" y="318"/>
                  </a:lnTo>
                  <a:lnTo>
                    <a:pt x="172" y="344"/>
                  </a:lnTo>
                  <a:lnTo>
                    <a:pt x="217" y="375"/>
                  </a:lnTo>
                  <a:lnTo>
                    <a:pt x="269" y="402"/>
                  </a:lnTo>
                  <a:lnTo>
                    <a:pt x="318" y="433"/>
                  </a:lnTo>
                  <a:lnTo>
                    <a:pt x="371" y="469"/>
                  </a:lnTo>
                  <a:lnTo>
                    <a:pt x="424" y="500"/>
                  </a:lnTo>
                  <a:lnTo>
                    <a:pt x="472" y="531"/>
                  </a:lnTo>
                  <a:lnTo>
                    <a:pt x="522" y="557"/>
                  </a:lnTo>
                  <a:lnTo>
                    <a:pt x="562" y="584"/>
                  </a:lnTo>
                  <a:lnTo>
                    <a:pt x="601" y="606"/>
                  </a:lnTo>
                  <a:lnTo>
                    <a:pt x="632" y="623"/>
                  </a:lnTo>
                  <a:lnTo>
                    <a:pt x="606" y="584"/>
                  </a:lnTo>
                  <a:lnTo>
                    <a:pt x="562" y="513"/>
                  </a:lnTo>
                  <a:lnTo>
                    <a:pt x="504" y="419"/>
                  </a:lnTo>
                  <a:lnTo>
                    <a:pt x="441" y="318"/>
                  </a:lnTo>
                  <a:lnTo>
                    <a:pt x="380" y="221"/>
                  </a:lnTo>
                  <a:lnTo>
                    <a:pt x="318" y="123"/>
                  </a:lnTo>
                  <a:lnTo>
                    <a:pt x="269" y="48"/>
                  </a:lnTo>
                  <a:lnTo>
                    <a:pt x="243" y="0"/>
                  </a:lnTo>
                  <a:lnTo>
                    <a:pt x="221" y="30"/>
                  </a:lnTo>
                  <a:lnTo>
                    <a:pt x="190" y="66"/>
                  </a:lnTo>
                  <a:lnTo>
                    <a:pt x="164" y="97"/>
                  </a:lnTo>
                  <a:lnTo>
                    <a:pt x="127" y="127"/>
                  </a:lnTo>
                  <a:lnTo>
                    <a:pt x="97" y="159"/>
                  </a:lnTo>
                  <a:lnTo>
                    <a:pt x="66" y="195"/>
                  </a:lnTo>
                  <a:lnTo>
                    <a:pt x="30" y="221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63640" y="563400"/>
              <a:ext cx="225720" cy="227520"/>
            </a:xfrm>
            <a:custGeom>
              <a:avLst/>
              <a:gdLst/>
              <a:ahLst/>
              <a:rect l="0" t="0" r="r" b="b"/>
              <a:pathLst>
                <a:path w="627" h="632">
                  <a:moveTo>
                    <a:pt x="242" y="632"/>
                  </a:moveTo>
                  <a:lnTo>
                    <a:pt x="260" y="606"/>
                  </a:lnTo>
                  <a:lnTo>
                    <a:pt x="295" y="544"/>
                  </a:lnTo>
                  <a:lnTo>
                    <a:pt x="349" y="459"/>
                  </a:lnTo>
                  <a:lnTo>
                    <a:pt x="406" y="362"/>
                  </a:lnTo>
                  <a:lnTo>
                    <a:pt x="468" y="261"/>
                  </a:lnTo>
                  <a:lnTo>
                    <a:pt x="530" y="159"/>
                  </a:lnTo>
                  <a:lnTo>
                    <a:pt x="587" y="70"/>
                  </a:lnTo>
                  <a:lnTo>
                    <a:pt x="627" y="0"/>
                  </a:lnTo>
                  <a:lnTo>
                    <a:pt x="609" y="8"/>
                  </a:lnTo>
                  <a:lnTo>
                    <a:pt x="587" y="26"/>
                  </a:lnTo>
                  <a:lnTo>
                    <a:pt x="552" y="44"/>
                  </a:lnTo>
                  <a:lnTo>
                    <a:pt x="516" y="70"/>
                  </a:lnTo>
                  <a:lnTo>
                    <a:pt x="468" y="97"/>
                  </a:lnTo>
                  <a:lnTo>
                    <a:pt x="419" y="127"/>
                  </a:lnTo>
                  <a:lnTo>
                    <a:pt x="375" y="159"/>
                  </a:lnTo>
                  <a:lnTo>
                    <a:pt x="322" y="190"/>
                  </a:lnTo>
                  <a:lnTo>
                    <a:pt x="268" y="221"/>
                  </a:lnTo>
                  <a:lnTo>
                    <a:pt x="220" y="252"/>
                  </a:lnTo>
                  <a:lnTo>
                    <a:pt x="171" y="287"/>
                  </a:lnTo>
                  <a:lnTo>
                    <a:pt x="123" y="314"/>
                  </a:lnTo>
                  <a:lnTo>
                    <a:pt x="83" y="336"/>
                  </a:lnTo>
                  <a:lnTo>
                    <a:pt x="48" y="362"/>
                  </a:lnTo>
                  <a:lnTo>
                    <a:pt x="17" y="375"/>
                  </a:lnTo>
                  <a:lnTo>
                    <a:pt x="0" y="389"/>
                  </a:lnTo>
                  <a:lnTo>
                    <a:pt x="30" y="411"/>
                  </a:lnTo>
                  <a:lnTo>
                    <a:pt x="66" y="441"/>
                  </a:lnTo>
                  <a:lnTo>
                    <a:pt x="101" y="468"/>
                  </a:lnTo>
                  <a:lnTo>
                    <a:pt x="132" y="504"/>
                  </a:lnTo>
                  <a:lnTo>
                    <a:pt x="163" y="535"/>
                  </a:lnTo>
                  <a:lnTo>
                    <a:pt x="194" y="566"/>
                  </a:lnTo>
                  <a:lnTo>
                    <a:pt x="220" y="601"/>
                  </a:lnTo>
                  <a:lnTo>
                    <a:pt x="242" y="632"/>
                  </a:lnTo>
                  <a:close/>
                </a:path>
              </a:pathLst>
            </a:custGeom>
            <a:solidFill>
              <a:srgbClr val="f2aa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20720" y="431640"/>
              <a:ext cx="101880" cy="235440"/>
            </a:xfrm>
            <a:custGeom>
              <a:avLst/>
              <a:gdLst/>
              <a:ahLst/>
              <a:rect l="0" t="0" r="r" b="b"/>
              <a:pathLst>
                <a:path w="283" h="654">
                  <a:moveTo>
                    <a:pt x="0" y="579"/>
                  </a:moveTo>
                  <a:lnTo>
                    <a:pt x="13" y="517"/>
                  </a:lnTo>
                  <a:lnTo>
                    <a:pt x="30" y="441"/>
                  </a:lnTo>
                  <a:lnTo>
                    <a:pt x="57" y="367"/>
                  </a:lnTo>
                  <a:lnTo>
                    <a:pt x="83" y="300"/>
                  </a:lnTo>
                  <a:lnTo>
                    <a:pt x="97" y="265"/>
                  </a:lnTo>
                  <a:lnTo>
                    <a:pt x="123" y="230"/>
                  </a:lnTo>
                  <a:lnTo>
                    <a:pt x="155" y="190"/>
                  </a:lnTo>
                  <a:lnTo>
                    <a:pt x="181" y="145"/>
                  </a:lnTo>
                  <a:lnTo>
                    <a:pt x="212" y="105"/>
                  </a:lnTo>
                  <a:lnTo>
                    <a:pt x="239" y="66"/>
                  </a:lnTo>
                  <a:lnTo>
                    <a:pt x="252" y="30"/>
                  </a:lnTo>
                  <a:lnTo>
                    <a:pt x="261" y="0"/>
                  </a:lnTo>
                  <a:lnTo>
                    <a:pt x="283" y="61"/>
                  </a:lnTo>
                  <a:lnTo>
                    <a:pt x="283" y="145"/>
                  </a:lnTo>
                  <a:lnTo>
                    <a:pt x="269" y="234"/>
                  </a:lnTo>
                  <a:lnTo>
                    <a:pt x="252" y="305"/>
                  </a:lnTo>
                  <a:lnTo>
                    <a:pt x="247" y="362"/>
                  </a:lnTo>
                  <a:lnTo>
                    <a:pt x="252" y="437"/>
                  </a:lnTo>
                  <a:lnTo>
                    <a:pt x="252" y="535"/>
                  </a:lnTo>
                  <a:lnTo>
                    <a:pt x="230" y="654"/>
                  </a:lnTo>
                  <a:lnTo>
                    <a:pt x="199" y="641"/>
                  </a:lnTo>
                  <a:lnTo>
                    <a:pt x="168" y="628"/>
                  </a:lnTo>
                  <a:lnTo>
                    <a:pt x="132" y="614"/>
                  </a:lnTo>
                  <a:lnTo>
                    <a:pt x="101" y="606"/>
                  </a:lnTo>
                  <a:lnTo>
                    <a:pt x="70" y="597"/>
                  </a:lnTo>
                  <a:lnTo>
                    <a:pt x="48" y="588"/>
                  </a:lnTo>
                  <a:lnTo>
                    <a:pt x="22" y="584"/>
                  </a:lnTo>
                  <a:lnTo>
                    <a:pt x="0" y="579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74720" y="482760"/>
              <a:ext cx="160560" cy="213120"/>
            </a:xfrm>
            <a:custGeom>
              <a:avLst/>
              <a:gdLst/>
              <a:ahLst/>
              <a:rect l="0" t="0" r="r" b="b"/>
              <a:pathLst>
                <a:path w="446" h="592">
                  <a:moveTo>
                    <a:pt x="216" y="592"/>
                  </a:moveTo>
                  <a:lnTo>
                    <a:pt x="234" y="570"/>
                  </a:lnTo>
                  <a:lnTo>
                    <a:pt x="252" y="544"/>
                  </a:lnTo>
                  <a:lnTo>
                    <a:pt x="274" y="513"/>
                  </a:lnTo>
                  <a:lnTo>
                    <a:pt x="292" y="478"/>
                  </a:lnTo>
                  <a:lnTo>
                    <a:pt x="314" y="437"/>
                  </a:lnTo>
                  <a:lnTo>
                    <a:pt x="327" y="402"/>
                  </a:lnTo>
                  <a:lnTo>
                    <a:pt x="344" y="367"/>
                  </a:lnTo>
                  <a:lnTo>
                    <a:pt x="358" y="336"/>
                  </a:lnTo>
                  <a:lnTo>
                    <a:pt x="380" y="256"/>
                  </a:lnTo>
                  <a:lnTo>
                    <a:pt x="397" y="159"/>
                  </a:lnTo>
                  <a:lnTo>
                    <a:pt x="415" y="61"/>
                  </a:lnTo>
                  <a:lnTo>
                    <a:pt x="446" y="0"/>
                  </a:lnTo>
                  <a:lnTo>
                    <a:pt x="419" y="8"/>
                  </a:lnTo>
                  <a:lnTo>
                    <a:pt x="389" y="26"/>
                  </a:lnTo>
                  <a:lnTo>
                    <a:pt x="358" y="52"/>
                  </a:lnTo>
                  <a:lnTo>
                    <a:pt x="327" y="88"/>
                  </a:lnTo>
                  <a:lnTo>
                    <a:pt x="300" y="123"/>
                  </a:lnTo>
                  <a:lnTo>
                    <a:pt x="274" y="159"/>
                  </a:lnTo>
                  <a:lnTo>
                    <a:pt x="252" y="190"/>
                  </a:lnTo>
                  <a:lnTo>
                    <a:pt x="234" y="217"/>
                  </a:lnTo>
                  <a:lnTo>
                    <a:pt x="216" y="243"/>
                  </a:lnTo>
                  <a:lnTo>
                    <a:pt x="194" y="265"/>
                  </a:lnTo>
                  <a:lnTo>
                    <a:pt x="167" y="287"/>
                  </a:lnTo>
                  <a:lnTo>
                    <a:pt x="141" y="314"/>
                  </a:lnTo>
                  <a:lnTo>
                    <a:pt x="110" y="340"/>
                  </a:lnTo>
                  <a:lnTo>
                    <a:pt x="74" y="380"/>
                  </a:lnTo>
                  <a:lnTo>
                    <a:pt x="39" y="424"/>
                  </a:lnTo>
                  <a:lnTo>
                    <a:pt x="0" y="482"/>
                  </a:lnTo>
                  <a:lnTo>
                    <a:pt x="35" y="495"/>
                  </a:lnTo>
                  <a:lnTo>
                    <a:pt x="66" y="509"/>
                  </a:lnTo>
                  <a:lnTo>
                    <a:pt x="97" y="526"/>
                  </a:lnTo>
                  <a:lnTo>
                    <a:pt x="127" y="539"/>
                  </a:lnTo>
                  <a:lnTo>
                    <a:pt x="154" y="553"/>
                  </a:lnTo>
                  <a:lnTo>
                    <a:pt x="176" y="566"/>
                  </a:lnTo>
                  <a:lnTo>
                    <a:pt x="198" y="579"/>
                  </a:lnTo>
                  <a:lnTo>
                    <a:pt x="216" y="592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70160" y="430200"/>
              <a:ext cx="100440" cy="236880"/>
            </a:xfrm>
            <a:custGeom>
              <a:avLst/>
              <a:gdLst/>
              <a:ahLst/>
              <a:rect l="0" t="0" r="r" b="b"/>
              <a:pathLst>
                <a:path w="279" h="658">
                  <a:moveTo>
                    <a:pt x="279" y="583"/>
                  </a:moveTo>
                  <a:lnTo>
                    <a:pt x="270" y="521"/>
                  </a:lnTo>
                  <a:lnTo>
                    <a:pt x="248" y="446"/>
                  </a:lnTo>
                  <a:lnTo>
                    <a:pt x="222" y="367"/>
                  </a:lnTo>
                  <a:lnTo>
                    <a:pt x="199" y="299"/>
                  </a:lnTo>
                  <a:lnTo>
                    <a:pt x="181" y="268"/>
                  </a:lnTo>
                  <a:lnTo>
                    <a:pt x="155" y="229"/>
                  </a:lnTo>
                  <a:lnTo>
                    <a:pt x="128" y="189"/>
                  </a:lnTo>
                  <a:lnTo>
                    <a:pt x="98" y="149"/>
                  </a:lnTo>
                  <a:lnTo>
                    <a:pt x="66" y="105"/>
                  </a:lnTo>
                  <a:lnTo>
                    <a:pt x="44" y="66"/>
                  </a:lnTo>
                  <a:lnTo>
                    <a:pt x="30" y="30"/>
                  </a:lnTo>
                  <a:lnTo>
                    <a:pt x="22" y="0"/>
                  </a:lnTo>
                  <a:lnTo>
                    <a:pt x="0" y="61"/>
                  </a:lnTo>
                  <a:lnTo>
                    <a:pt x="0" y="145"/>
                  </a:lnTo>
                  <a:lnTo>
                    <a:pt x="13" y="233"/>
                  </a:lnTo>
                  <a:lnTo>
                    <a:pt x="30" y="304"/>
                  </a:lnTo>
                  <a:lnTo>
                    <a:pt x="30" y="362"/>
                  </a:lnTo>
                  <a:lnTo>
                    <a:pt x="30" y="437"/>
                  </a:lnTo>
                  <a:lnTo>
                    <a:pt x="26" y="534"/>
                  </a:lnTo>
                  <a:lnTo>
                    <a:pt x="44" y="658"/>
                  </a:lnTo>
                  <a:lnTo>
                    <a:pt x="80" y="640"/>
                  </a:lnTo>
                  <a:lnTo>
                    <a:pt x="115" y="627"/>
                  </a:lnTo>
                  <a:lnTo>
                    <a:pt x="146" y="618"/>
                  </a:lnTo>
                  <a:lnTo>
                    <a:pt x="177" y="605"/>
                  </a:lnTo>
                  <a:lnTo>
                    <a:pt x="208" y="600"/>
                  </a:lnTo>
                  <a:lnTo>
                    <a:pt x="235" y="591"/>
                  </a:lnTo>
                  <a:lnTo>
                    <a:pt x="257" y="587"/>
                  </a:lnTo>
                  <a:lnTo>
                    <a:pt x="279" y="583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57480" y="479520"/>
              <a:ext cx="159120" cy="214560"/>
            </a:xfrm>
            <a:custGeom>
              <a:avLst/>
              <a:gdLst/>
              <a:ahLst/>
              <a:rect l="0" t="0" r="r" b="b"/>
              <a:pathLst>
                <a:path w="442" h="596">
                  <a:moveTo>
                    <a:pt x="225" y="596"/>
                  </a:moveTo>
                  <a:lnTo>
                    <a:pt x="203" y="574"/>
                  </a:lnTo>
                  <a:lnTo>
                    <a:pt x="186" y="547"/>
                  </a:lnTo>
                  <a:lnTo>
                    <a:pt x="168" y="512"/>
                  </a:lnTo>
                  <a:lnTo>
                    <a:pt x="150" y="477"/>
                  </a:lnTo>
                  <a:lnTo>
                    <a:pt x="133" y="441"/>
                  </a:lnTo>
                  <a:lnTo>
                    <a:pt x="115" y="406"/>
                  </a:lnTo>
                  <a:lnTo>
                    <a:pt x="97" y="371"/>
                  </a:lnTo>
                  <a:lnTo>
                    <a:pt x="83" y="336"/>
                  </a:lnTo>
                  <a:lnTo>
                    <a:pt x="61" y="260"/>
                  </a:lnTo>
                  <a:lnTo>
                    <a:pt x="48" y="158"/>
                  </a:lnTo>
                  <a:lnTo>
                    <a:pt x="26" y="66"/>
                  </a:lnTo>
                  <a:lnTo>
                    <a:pt x="0" y="0"/>
                  </a:lnTo>
                  <a:lnTo>
                    <a:pt x="26" y="13"/>
                  </a:lnTo>
                  <a:lnTo>
                    <a:pt x="57" y="30"/>
                  </a:lnTo>
                  <a:lnTo>
                    <a:pt x="88" y="57"/>
                  </a:lnTo>
                  <a:lnTo>
                    <a:pt x="120" y="92"/>
                  </a:lnTo>
                  <a:lnTo>
                    <a:pt x="146" y="127"/>
                  </a:lnTo>
                  <a:lnTo>
                    <a:pt x="168" y="163"/>
                  </a:lnTo>
                  <a:lnTo>
                    <a:pt x="190" y="194"/>
                  </a:lnTo>
                  <a:lnTo>
                    <a:pt x="208" y="224"/>
                  </a:lnTo>
                  <a:lnTo>
                    <a:pt x="225" y="246"/>
                  </a:lnTo>
                  <a:lnTo>
                    <a:pt x="247" y="268"/>
                  </a:lnTo>
                  <a:lnTo>
                    <a:pt x="274" y="291"/>
                  </a:lnTo>
                  <a:lnTo>
                    <a:pt x="305" y="318"/>
                  </a:lnTo>
                  <a:lnTo>
                    <a:pt x="337" y="344"/>
                  </a:lnTo>
                  <a:lnTo>
                    <a:pt x="372" y="384"/>
                  </a:lnTo>
                  <a:lnTo>
                    <a:pt x="407" y="428"/>
                  </a:lnTo>
                  <a:lnTo>
                    <a:pt x="442" y="486"/>
                  </a:lnTo>
                  <a:lnTo>
                    <a:pt x="407" y="499"/>
                  </a:lnTo>
                  <a:lnTo>
                    <a:pt x="376" y="512"/>
                  </a:lnTo>
                  <a:lnTo>
                    <a:pt x="345" y="525"/>
                  </a:lnTo>
                  <a:lnTo>
                    <a:pt x="314" y="538"/>
                  </a:lnTo>
                  <a:lnTo>
                    <a:pt x="287" y="556"/>
                  </a:lnTo>
                  <a:lnTo>
                    <a:pt x="265" y="569"/>
                  </a:lnTo>
                  <a:lnTo>
                    <a:pt x="243" y="583"/>
                  </a:lnTo>
                  <a:lnTo>
                    <a:pt x="225" y="596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20720" y="1349280"/>
              <a:ext cx="101880" cy="235440"/>
            </a:xfrm>
            <a:custGeom>
              <a:avLst/>
              <a:gdLst/>
              <a:ahLst/>
              <a:rect l="0" t="0" r="r" b="b"/>
              <a:pathLst>
                <a:path w="283" h="654">
                  <a:moveTo>
                    <a:pt x="0" y="74"/>
                  </a:moveTo>
                  <a:lnTo>
                    <a:pt x="13" y="136"/>
                  </a:lnTo>
                  <a:lnTo>
                    <a:pt x="30" y="212"/>
                  </a:lnTo>
                  <a:lnTo>
                    <a:pt x="57" y="287"/>
                  </a:lnTo>
                  <a:lnTo>
                    <a:pt x="83" y="358"/>
                  </a:lnTo>
                  <a:lnTo>
                    <a:pt x="97" y="389"/>
                  </a:lnTo>
                  <a:lnTo>
                    <a:pt x="123" y="428"/>
                  </a:lnTo>
                  <a:lnTo>
                    <a:pt x="155" y="464"/>
                  </a:lnTo>
                  <a:lnTo>
                    <a:pt x="181" y="509"/>
                  </a:lnTo>
                  <a:lnTo>
                    <a:pt x="212" y="548"/>
                  </a:lnTo>
                  <a:lnTo>
                    <a:pt x="239" y="588"/>
                  </a:lnTo>
                  <a:lnTo>
                    <a:pt x="252" y="623"/>
                  </a:lnTo>
                  <a:lnTo>
                    <a:pt x="261" y="654"/>
                  </a:lnTo>
                  <a:lnTo>
                    <a:pt x="283" y="597"/>
                  </a:lnTo>
                  <a:lnTo>
                    <a:pt x="283" y="509"/>
                  </a:lnTo>
                  <a:lnTo>
                    <a:pt x="269" y="419"/>
                  </a:lnTo>
                  <a:lnTo>
                    <a:pt x="252" y="349"/>
                  </a:lnTo>
                  <a:lnTo>
                    <a:pt x="247" y="292"/>
                  </a:lnTo>
                  <a:lnTo>
                    <a:pt x="252" y="217"/>
                  </a:lnTo>
                  <a:lnTo>
                    <a:pt x="252" y="119"/>
                  </a:lnTo>
                  <a:lnTo>
                    <a:pt x="230" y="0"/>
                  </a:lnTo>
                  <a:lnTo>
                    <a:pt x="199" y="13"/>
                  </a:lnTo>
                  <a:lnTo>
                    <a:pt x="168" y="26"/>
                  </a:lnTo>
                  <a:lnTo>
                    <a:pt x="132" y="39"/>
                  </a:lnTo>
                  <a:lnTo>
                    <a:pt x="101" y="48"/>
                  </a:lnTo>
                  <a:lnTo>
                    <a:pt x="70" y="61"/>
                  </a:lnTo>
                  <a:lnTo>
                    <a:pt x="48" y="66"/>
                  </a:lnTo>
                  <a:lnTo>
                    <a:pt x="22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74720" y="1320840"/>
              <a:ext cx="160560" cy="213120"/>
            </a:xfrm>
            <a:custGeom>
              <a:avLst/>
              <a:gdLst/>
              <a:ahLst/>
              <a:rect l="0" t="0" r="r" b="b"/>
              <a:pathLst>
                <a:path w="446" h="592">
                  <a:moveTo>
                    <a:pt x="216" y="0"/>
                  </a:moveTo>
                  <a:lnTo>
                    <a:pt x="234" y="22"/>
                  </a:lnTo>
                  <a:lnTo>
                    <a:pt x="252" y="48"/>
                  </a:lnTo>
                  <a:lnTo>
                    <a:pt x="274" y="83"/>
                  </a:lnTo>
                  <a:lnTo>
                    <a:pt x="292" y="119"/>
                  </a:lnTo>
                  <a:lnTo>
                    <a:pt x="314" y="155"/>
                  </a:lnTo>
                  <a:lnTo>
                    <a:pt x="327" y="190"/>
                  </a:lnTo>
                  <a:lnTo>
                    <a:pt x="344" y="225"/>
                  </a:lnTo>
                  <a:lnTo>
                    <a:pt x="358" y="261"/>
                  </a:lnTo>
                  <a:lnTo>
                    <a:pt x="380" y="336"/>
                  </a:lnTo>
                  <a:lnTo>
                    <a:pt x="397" y="437"/>
                  </a:lnTo>
                  <a:lnTo>
                    <a:pt x="415" y="531"/>
                  </a:lnTo>
                  <a:lnTo>
                    <a:pt x="446" y="592"/>
                  </a:lnTo>
                  <a:lnTo>
                    <a:pt x="419" y="584"/>
                  </a:lnTo>
                  <a:lnTo>
                    <a:pt x="389" y="566"/>
                  </a:lnTo>
                  <a:lnTo>
                    <a:pt x="358" y="539"/>
                  </a:lnTo>
                  <a:lnTo>
                    <a:pt x="327" y="509"/>
                  </a:lnTo>
                  <a:lnTo>
                    <a:pt x="300" y="473"/>
                  </a:lnTo>
                  <a:lnTo>
                    <a:pt x="274" y="437"/>
                  </a:lnTo>
                  <a:lnTo>
                    <a:pt x="252" y="402"/>
                  </a:lnTo>
                  <a:lnTo>
                    <a:pt x="234" y="375"/>
                  </a:lnTo>
                  <a:lnTo>
                    <a:pt x="216" y="353"/>
                  </a:lnTo>
                  <a:lnTo>
                    <a:pt x="194" y="331"/>
                  </a:lnTo>
                  <a:lnTo>
                    <a:pt x="167" y="309"/>
                  </a:lnTo>
                  <a:lnTo>
                    <a:pt x="141" y="283"/>
                  </a:lnTo>
                  <a:lnTo>
                    <a:pt x="110" y="252"/>
                  </a:lnTo>
                  <a:lnTo>
                    <a:pt x="74" y="212"/>
                  </a:lnTo>
                  <a:lnTo>
                    <a:pt x="39" y="168"/>
                  </a:lnTo>
                  <a:lnTo>
                    <a:pt x="0" y="110"/>
                  </a:lnTo>
                  <a:lnTo>
                    <a:pt x="35" y="97"/>
                  </a:lnTo>
                  <a:lnTo>
                    <a:pt x="66" y="83"/>
                  </a:lnTo>
                  <a:lnTo>
                    <a:pt x="97" y="70"/>
                  </a:lnTo>
                  <a:lnTo>
                    <a:pt x="127" y="57"/>
                  </a:lnTo>
                  <a:lnTo>
                    <a:pt x="154" y="44"/>
                  </a:lnTo>
                  <a:lnTo>
                    <a:pt x="176" y="26"/>
                  </a:lnTo>
                  <a:lnTo>
                    <a:pt x="198" y="13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70160" y="1351080"/>
              <a:ext cx="100440" cy="235440"/>
            </a:xfrm>
            <a:custGeom>
              <a:avLst/>
              <a:gdLst/>
              <a:ahLst/>
              <a:rect l="0" t="0" r="r" b="b"/>
              <a:pathLst>
                <a:path w="279" h="654">
                  <a:moveTo>
                    <a:pt x="279" y="74"/>
                  </a:moveTo>
                  <a:lnTo>
                    <a:pt x="270" y="136"/>
                  </a:lnTo>
                  <a:lnTo>
                    <a:pt x="248" y="212"/>
                  </a:lnTo>
                  <a:lnTo>
                    <a:pt x="222" y="287"/>
                  </a:lnTo>
                  <a:lnTo>
                    <a:pt x="199" y="353"/>
                  </a:lnTo>
                  <a:lnTo>
                    <a:pt x="181" y="389"/>
                  </a:lnTo>
                  <a:lnTo>
                    <a:pt x="155" y="424"/>
                  </a:lnTo>
                  <a:lnTo>
                    <a:pt x="128" y="464"/>
                  </a:lnTo>
                  <a:lnTo>
                    <a:pt x="98" y="509"/>
                  </a:lnTo>
                  <a:lnTo>
                    <a:pt x="66" y="548"/>
                  </a:lnTo>
                  <a:lnTo>
                    <a:pt x="44" y="588"/>
                  </a:lnTo>
                  <a:lnTo>
                    <a:pt x="30" y="623"/>
                  </a:lnTo>
                  <a:lnTo>
                    <a:pt x="22" y="654"/>
                  </a:lnTo>
                  <a:lnTo>
                    <a:pt x="0" y="592"/>
                  </a:lnTo>
                  <a:lnTo>
                    <a:pt x="0" y="509"/>
                  </a:lnTo>
                  <a:lnTo>
                    <a:pt x="13" y="424"/>
                  </a:lnTo>
                  <a:lnTo>
                    <a:pt x="30" y="353"/>
                  </a:lnTo>
                  <a:lnTo>
                    <a:pt x="30" y="292"/>
                  </a:lnTo>
                  <a:lnTo>
                    <a:pt x="30" y="217"/>
                  </a:lnTo>
                  <a:lnTo>
                    <a:pt x="26" y="119"/>
                  </a:lnTo>
                  <a:lnTo>
                    <a:pt x="44" y="0"/>
                  </a:lnTo>
                  <a:lnTo>
                    <a:pt x="80" y="13"/>
                  </a:lnTo>
                  <a:lnTo>
                    <a:pt x="115" y="26"/>
                  </a:lnTo>
                  <a:lnTo>
                    <a:pt x="146" y="39"/>
                  </a:lnTo>
                  <a:lnTo>
                    <a:pt x="177" y="48"/>
                  </a:lnTo>
                  <a:lnTo>
                    <a:pt x="208" y="57"/>
                  </a:lnTo>
                  <a:lnTo>
                    <a:pt x="235" y="66"/>
                  </a:lnTo>
                  <a:lnTo>
                    <a:pt x="257" y="70"/>
                  </a:lnTo>
                  <a:lnTo>
                    <a:pt x="279" y="7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57480" y="1324080"/>
              <a:ext cx="159120" cy="213120"/>
            </a:xfrm>
            <a:custGeom>
              <a:avLst/>
              <a:gdLst/>
              <a:ahLst/>
              <a:rect l="0" t="0" r="r" b="b"/>
              <a:pathLst>
                <a:path w="442" h="592">
                  <a:moveTo>
                    <a:pt x="225" y="0"/>
                  </a:moveTo>
                  <a:lnTo>
                    <a:pt x="203" y="17"/>
                  </a:lnTo>
                  <a:lnTo>
                    <a:pt x="186" y="48"/>
                  </a:lnTo>
                  <a:lnTo>
                    <a:pt x="168" y="79"/>
                  </a:lnTo>
                  <a:lnTo>
                    <a:pt x="150" y="114"/>
                  </a:lnTo>
                  <a:lnTo>
                    <a:pt x="133" y="150"/>
                  </a:lnTo>
                  <a:lnTo>
                    <a:pt x="115" y="190"/>
                  </a:lnTo>
                  <a:lnTo>
                    <a:pt x="97" y="225"/>
                  </a:lnTo>
                  <a:lnTo>
                    <a:pt x="83" y="256"/>
                  </a:lnTo>
                  <a:lnTo>
                    <a:pt x="61" y="336"/>
                  </a:lnTo>
                  <a:lnTo>
                    <a:pt x="48" y="433"/>
                  </a:lnTo>
                  <a:lnTo>
                    <a:pt x="26" y="526"/>
                  </a:lnTo>
                  <a:lnTo>
                    <a:pt x="0" y="592"/>
                  </a:lnTo>
                  <a:lnTo>
                    <a:pt x="26" y="584"/>
                  </a:lnTo>
                  <a:lnTo>
                    <a:pt x="57" y="562"/>
                  </a:lnTo>
                  <a:lnTo>
                    <a:pt x="88" y="535"/>
                  </a:lnTo>
                  <a:lnTo>
                    <a:pt x="120" y="504"/>
                  </a:lnTo>
                  <a:lnTo>
                    <a:pt x="146" y="469"/>
                  </a:lnTo>
                  <a:lnTo>
                    <a:pt x="168" y="428"/>
                  </a:lnTo>
                  <a:lnTo>
                    <a:pt x="190" y="397"/>
                  </a:lnTo>
                  <a:lnTo>
                    <a:pt x="208" y="371"/>
                  </a:lnTo>
                  <a:lnTo>
                    <a:pt x="225" y="344"/>
                  </a:lnTo>
                  <a:lnTo>
                    <a:pt x="247" y="322"/>
                  </a:lnTo>
                  <a:lnTo>
                    <a:pt x="274" y="300"/>
                  </a:lnTo>
                  <a:lnTo>
                    <a:pt x="305" y="274"/>
                  </a:lnTo>
                  <a:lnTo>
                    <a:pt x="337" y="247"/>
                  </a:lnTo>
                  <a:lnTo>
                    <a:pt x="372" y="208"/>
                  </a:lnTo>
                  <a:lnTo>
                    <a:pt x="407" y="164"/>
                  </a:lnTo>
                  <a:lnTo>
                    <a:pt x="442" y="105"/>
                  </a:lnTo>
                  <a:lnTo>
                    <a:pt x="407" y="92"/>
                  </a:lnTo>
                  <a:lnTo>
                    <a:pt x="376" y="79"/>
                  </a:lnTo>
                  <a:lnTo>
                    <a:pt x="345" y="66"/>
                  </a:lnTo>
                  <a:lnTo>
                    <a:pt x="314" y="48"/>
                  </a:lnTo>
                  <a:lnTo>
                    <a:pt x="287" y="35"/>
                  </a:lnTo>
                  <a:lnTo>
                    <a:pt x="265" y="26"/>
                  </a:lnTo>
                  <a:lnTo>
                    <a:pt x="243" y="13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68400" y="830160"/>
              <a:ext cx="235440" cy="101880"/>
            </a:xfrm>
            <a:custGeom>
              <a:avLst/>
              <a:gdLst/>
              <a:ahLst/>
              <a:rect l="0" t="0" r="r" b="b"/>
              <a:pathLst>
                <a:path w="654" h="283">
                  <a:moveTo>
                    <a:pt x="579" y="283"/>
                  </a:moveTo>
                  <a:lnTo>
                    <a:pt x="548" y="278"/>
                  </a:lnTo>
                  <a:lnTo>
                    <a:pt x="517" y="269"/>
                  </a:lnTo>
                  <a:lnTo>
                    <a:pt x="481" y="265"/>
                  </a:lnTo>
                  <a:lnTo>
                    <a:pt x="441" y="252"/>
                  </a:lnTo>
                  <a:lnTo>
                    <a:pt x="402" y="239"/>
                  </a:lnTo>
                  <a:lnTo>
                    <a:pt x="367" y="225"/>
                  </a:lnTo>
                  <a:lnTo>
                    <a:pt x="331" y="212"/>
                  </a:lnTo>
                  <a:lnTo>
                    <a:pt x="296" y="199"/>
                  </a:lnTo>
                  <a:lnTo>
                    <a:pt x="265" y="181"/>
                  </a:lnTo>
                  <a:lnTo>
                    <a:pt x="225" y="155"/>
                  </a:lnTo>
                  <a:lnTo>
                    <a:pt x="190" y="127"/>
                  </a:lnTo>
                  <a:lnTo>
                    <a:pt x="145" y="97"/>
                  </a:lnTo>
                  <a:lnTo>
                    <a:pt x="105" y="70"/>
                  </a:lnTo>
                  <a:lnTo>
                    <a:pt x="66" y="44"/>
                  </a:lnTo>
                  <a:lnTo>
                    <a:pt x="30" y="26"/>
                  </a:lnTo>
                  <a:lnTo>
                    <a:pt x="0" y="22"/>
                  </a:lnTo>
                  <a:lnTo>
                    <a:pt x="22" y="8"/>
                  </a:lnTo>
                  <a:lnTo>
                    <a:pt x="57" y="0"/>
                  </a:lnTo>
                  <a:lnTo>
                    <a:pt x="97" y="0"/>
                  </a:lnTo>
                  <a:lnTo>
                    <a:pt x="141" y="0"/>
                  </a:lnTo>
                  <a:lnTo>
                    <a:pt x="190" y="8"/>
                  </a:lnTo>
                  <a:lnTo>
                    <a:pt x="234" y="13"/>
                  </a:lnTo>
                  <a:lnTo>
                    <a:pt x="269" y="22"/>
                  </a:lnTo>
                  <a:lnTo>
                    <a:pt x="305" y="30"/>
                  </a:lnTo>
                  <a:lnTo>
                    <a:pt x="331" y="35"/>
                  </a:lnTo>
                  <a:lnTo>
                    <a:pt x="362" y="35"/>
                  </a:lnTo>
                  <a:lnTo>
                    <a:pt x="397" y="35"/>
                  </a:lnTo>
                  <a:lnTo>
                    <a:pt x="437" y="30"/>
                  </a:lnTo>
                  <a:lnTo>
                    <a:pt x="481" y="26"/>
                  </a:lnTo>
                  <a:lnTo>
                    <a:pt x="535" y="30"/>
                  </a:lnTo>
                  <a:lnTo>
                    <a:pt x="592" y="35"/>
                  </a:lnTo>
                  <a:lnTo>
                    <a:pt x="654" y="52"/>
                  </a:lnTo>
                  <a:lnTo>
                    <a:pt x="628" y="114"/>
                  </a:lnTo>
                  <a:lnTo>
                    <a:pt x="606" y="181"/>
                  </a:lnTo>
                  <a:lnTo>
                    <a:pt x="588" y="234"/>
                  </a:lnTo>
                  <a:lnTo>
                    <a:pt x="579" y="283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19160" y="717480"/>
              <a:ext cx="211320" cy="160560"/>
            </a:xfrm>
            <a:custGeom>
              <a:avLst/>
              <a:gdLst/>
              <a:ahLst/>
              <a:rect l="0" t="0" r="r" b="b"/>
              <a:pathLst>
                <a:path w="587" h="446">
                  <a:moveTo>
                    <a:pt x="587" y="230"/>
                  </a:moveTo>
                  <a:lnTo>
                    <a:pt x="569" y="211"/>
                  </a:lnTo>
                  <a:lnTo>
                    <a:pt x="538" y="194"/>
                  </a:lnTo>
                  <a:lnTo>
                    <a:pt x="508" y="171"/>
                  </a:lnTo>
                  <a:lnTo>
                    <a:pt x="472" y="154"/>
                  </a:lnTo>
                  <a:lnTo>
                    <a:pt x="437" y="132"/>
                  </a:lnTo>
                  <a:lnTo>
                    <a:pt x="402" y="119"/>
                  </a:lnTo>
                  <a:lnTo>
                    <a:pt x="367" y="97"/>
                  </a:lnTo>
                  <a:lnTo>
                    <a:pt x="331" y="88"/>
                  </a:lnTo>
                  <a:lnTo>
                    <a:pt x="296" y="74"/>
                  </a:lnTo>
                  <a:lnTo>
                    <a:pt x="255" y="66"/>
                  </a:lnTo>
                  <a:lnTo>
                    <a:pt x="207" y="57"/>
                  </a:lnTo>
                  <a:lnTo>
                    <a:pt x="154" y="48"/>
                  </a:lnTo>
                  <a:lnTo>
                    <a:pt x="105" y="39"/>
                  </a:lnTo>
                  <a:lnTo>
                    <a:pt x="61" y="30"/>
                  </a:lnTo>
                  <a:lnTo>
                    <a:pt x="22" y="13"/>
                  </a:lnTo>
                  <a:lnTo>
                    <a:pt x="0" y="0"/>
                  </a:lnTo>
                  <a:lnTo>
                    <a:pt x="8" y="26"/>
                  </a:lnTo>
                  <a:lnTo>
                    <a:pt x="26" y="57"/>
                  </a:lnTo>
                  <a:lnTo>
                    <a:pt x="52" y="88"/>
                  </a:lnTo>
                  <a:lnTo>
                    <a:pt x="83" y="119"/>
                  </a:lnTo>
                  <a:lnTo>
                    <a:pt x="119" y="145"/>
                  </a:lnTo>
                  <a:lnTo>
                    <a:pt x="154" y="167"/>
                  </a:lnTo>
                  <a:lnTo>
                    <a:pt x="189" y="194"/>
                  </a:lnTo>
                  <a:lnTo>
                    <a:pt x="216" y="207"/>
                  </a:lnTo>
                  <a:lnTo>
                    <a:pt x="238" y="225"/>
                  </a:lnTo>
                  <a:lnTo>
                    <a:pt x="260" y="247"/>
                  </a:lnTo>
                  <a:lnTo>
                    <a:pt x="282" y="278"/>
                  </a:lnTo>
                  <a:lnTo>
                    <a:pt x="309" y="305"/>
                  </a:lnTo>
                  <a:lnTo>
                    <a:pt x="340" y="336"/>
                  </a:lnTo>
                  <a:lnTo>
                    <a:pt x="380" y="371"/>
                  </a:lnTo>
                  <a:lnTo>
                    <a:pt x="424" y="406"/>
                  </a:lnTo>
                  <a:lnTo>
                    <a:pt x="477" y="446"/>
                  </a:lnTo>
                  <a:lnTo>
                    <a:pt x="490" y="411"/>
                  </a:lnTo>
                  <a:lnTo>
                    <a:pt x="503" y="380"/>
                  </a:lnTo>
                  <a:lnTo>
                    <a:pt x="521" y="349"/>
                  </a:lnTo>
                  <a:lnTo>
                    <a:pt x="534" y="318"/>
                  </a:lnTo>
                  <a:lnTo>
                    <a:pt x="547" y="292"/>
                  </a:lnTo>
                  <a:lnTo>
                    <a:pt x="561" y="269"/>
                  </a:lnTo>
                  <a:lnTo>
                    <a:pt x="574" y="247"/>
                  </a:lnTo>
                  <a:lnTo>
                    <a:pt x="587" y="23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65160" y="1084320"/>
              <a:ext cx="236880" cy="100440"/>
            </a:xfrm>
            <a:custGeom>
              <a:avLst/>
              <a:gdLst/>
              <a:ahLst/>
              <a:rect l="0" t="0" r="r" b="b"/>
              <a:pathLst>
                <a:path w="658" h="279">
                  <a:moveTo>
                    <a:pt x="583" y="0"/>
                  </a:moveTo>
                  <a:lnTo>
                    <a:pt x="556" y="0"/>
                  </a:lnTo>
                  <a:lnTo>
                    <a:pt x="521" y="4"/>
                  </a:lnTo>
                  <a:lnTo>
                    <a:pt x="486" y="17"/>
                  </a:lnTo>
                  <a:lnTo>
                    <a:pt x="446" y="26"/>
                  </a:lnTo>
                  <a:lnTo>
                    <a:pt x="411" y="39"/>
                  </a:lnTo>
                  <a:lnTo>
                    <a:pt x="371" y="52"/>
                  </a:lnTo>
                  <a:lnTo>
                    <a:pt x="336" y="61"/>
                  </a:lnTo>
                  <a:lnTo>
                    <a:pt x="304" y="75"/>
                  </a:lnTo>
                  <a:lnTo>
                    <a:pt x="268" y="93"/>
                  </a:lnTo>
                  <a:lnTo>
                    <a:pt x="233" y="115"/>
                  </a:lnTo>
                  <a:lnTo>
                    <a:pt x="194" y="146"/>
                  </a:lnTo>
                  <a:lnTo>
                    <a:pt x="149" y="172"/>
                  </a:lnTo>
                  <a:lnTo>
                    <a:pt x="110" y="203"/>
                  </a:lnTo>
                  <a:lnTo>
                    <a:pt x="66" y="226"/>
                  </a:lnTo>
                  <a:lnTo>
                    <a:pt x="30" y="244"/>
                  </a:lnTo>
                  <a:lnTo>
                    <a:pt x="0" y="253"/>
                  </a:lnTo>
                  <a:lnTo>
                    <a:pt x="26" y="266"/>
                  </a:lnTo>
                  <a:lnTo>
                    <a:pt x="61" y="275"/>
                  </a:lnTo>
                  <a:lnTo>
                    <a:pt x="101" y="279"/>
                  </a:lnTo>
                  <a:lnTo>
                    <a:pt x="149" y="275"/>
                  </a:lnTo>
                  <a:lnTo>
                    <a:pt x="194" y="266"/>
                  </a:lnTo>
                  <a:lnTo>
                    <a:pt x="233" y="262"/>
                  </a:lnTo>
                  <a:lnTo>
                    <a:pt x="273" y="253"/>
                  </a:lnTo>
                  <a:lnTo>
                    <a:pt x="304" y="244"/>
                  </a:lnTo>
                  <a:lnTo>
                    <a:pt x="336" y="244"/>
                  </a:lnTo>
                  <a:lnTo>
                    <a:pt x="367" y="244"/>
                  </a:lnTo>
                  <a:lnTo>
                    <a:pt x="397" y="244"/>
                  </a:lnTo>
                  <a:lnTo>
                    <a:pt x="441" y="244"/>
                  </a:lnTo>
                  <a:lnTo>
                    <a:pt x="481" y="248"/>
                  </a:lnTo>
                  <a:lnTo>
                    <a:pt x="534" y="244"/>
                  </a:lnTo>
                  <a:lnTo>
                    <a:pt x="591" y="240"/>
                  </a:lnTo>
                  <a:lnTo>
                    <a:pt x="658" y="226"/>
                  </a:lnTo>
                  <a:lnTo>
                    <a:pt x="631" y="159"/>
                  </a:lnTo>
                  <a:lnTo>
                    <a:pt x="609" y="98"/>
                  </a:lnTo>
                  <a:lnTo>
                    <a:pt x="591" y="39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14480" y="1136520"/>
              <a:ext cx="214560" cy="159120"/>
            </a:xfrm>
            <a:custGeom>
              <a:avLst/>
              <a:gdLst/>
              <a:ahLst/>
              <a:rect l="0" t="0" r="r" b="b"/>
              <a:pathLst>
                <a:path w="596" h="442">
                  <a:moveTo>
                    <a:pt x="596" y="217"/>
                  </a:moveTo>
                  <a:lnTo>
                    <a:pt x="574" y="234"/>
                  </a:lnTo>
                  <a:lnTo>
                    <a:pt x="547" y="252"/>
                  </a:lnTo>
                  <a:lnTo>
                    <a:pt x="516" y="274"/>
                  </a:lnTo>
                  <a:lnTo>
                    <a:pt x="481" y="292"/>
                  </a:lnTo>
                  <a:lnTo>
                    <a:pt x="441" y="309"/>
                  </a:lnTo>
                  <a:lnTo>
                    <a:pt x="406" y="327"/>
                  </a:lnTo>
                  <a:lnTo>
                    <a:pt x="371" y="345"/>
                  </a:lnTo>
                  <a:lnTo>
                    <a:pt x="340" y="359"/>
                  </a:lnTo>
                  <a:lnTo>
                    <a:pt x="305" y="368"/>
                  </a:lnTo>
                  <a:lnTo>
                    <a:pt x="260" y="376"/>
                  </a:lnTo>
                  <a:lnTo>
                    <a:pt x="216" y="385"/>
                  </a:lnTo>
                  <a:lnTo>
                    <a:pt x="163" y="394"/>
                  </a:lnTo>
                  <a:lnTo>
                    <a:pt x="114" y="403"/>
                  </a:lnTo>
                  <a:lnTo>
                    <a:pt x="66" y="412"/>
                  </a:lnTo>
                  <a:lnTo>
                    <a:pt x="30" y="425"/>
                  </a:lnTo>
                  <a:lnTo>
                    <a:pt x="0" y="442"/>
                  </a:lnTo>
                  <a:lnTo>
                    <a:pt x="13" y="416"/>
                  </a:lnTo>
                  <a:lnTo>
                    <a:pt x="30" y="385"/>
                  </a:lnTo>
                  <a:lnTo>
                    <a:pt x="61" y="354"/>
                  </a:lnTo>
                  <a:lnTo>
                    <a:pt x="92" y="322"/>
                  </a:lnTo>
                  <a:lnTo>
                    <a:pt x="127" y="296"/>
                  </a:lnTo>
                  <a:lnTo>
                    <a:pt x="163" y="274"/>
                  </a:lnTo>
                  <a:lnTo>
                    <a:pt x="194" y="252"/>
                  </a:lnTo>
                  <a:lnTo>
                    <a:pt x="224" y="234"/>
                  </a:lnTo>
                  <a:lnTo>
                    <a:pt x="246" y="217"/>
                  </a:lnTo>
                  <a:lnTo>
                    <a:pt x="268" y="195"/>
                  </a:lnTo>
                  <a:lnTo>
                    <a:pt x="291" y="168"/>
                  </a:lnTo>
                  <a:lnTo>
                    <a:pt x="318" y="137"/>
                  </a:lnTo>
                  <a:lnTo>
                    <a:pt x="349" y="105"/>
                  </a:lnTo>
                  <a:lnTo>
                    <a:pt x="384" y="70"/>
                  </a:lnTo>
                  <a:lnTo>
                    <a:pt x="428" y="35"/>
                  </a:lnTo>
                  <a:lnTo>
                    <a:pt x="486" y="0"/>
                  </a:lnTo>
                  <a:lnTo>
                    <a:pt x="499" y="35"/>
                  </a:lnTo>
                  <a:lnTo>
                    <a:pt x="512" y="66"/>
                  </a:lnTo>
                  <a:lnTo>
                    <a:pt x="530" y="97"/>
                  </a:lnTo>
                  <a:lnTo>
                    <a:pt x="543" y="124"/>
                  </a:lnTo>
                  <a:lnTo>
                    <a:pt x="561" y="155"/>
                  </a:lnTo>
                  <a:lnTo>
                    <a:pt x="569" y="177"/>
                  </a:lnTo>
                  <a:lnTo>
                    <a:pt x="583" y="199"/>
                  </a:lnTo>
                  <a:lnTo>
                    <a:pt x="596" y="21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86040" y="830160"/>
              <a:ext cx="235440" cy="101880"/>
            </a:xfrm>
            <a:custGeom>
              <a:avLst/>
              <a:gdLst/>
              <a:ahLst/>
              <a:rect l="0" t="0" r="r" b="b"/>
              <a:pathLst>
                <a:path w="654" h="283">
                  <a:moveTo>
                    <a:pt x="74" y="283"/>
                  </a:moveTo>
                  <a:lnTo>
                    <a:pt x="101" y="278"/>
                  </a:lnTo>
                  <a:lnTo>
                    <a:pt x="136" y="269"/>
                  </a:lnTo>
                  <a:lnTo>
                    <a:pt x="172" y="265"/>
                  </a:lnTo>
                  <a:lnTo>
                    <a:pt x="212" y="252"/>
                  </a:lnTo>
                  <a:lnTo>
                    <a:pt x="247" y="239"/>
                  </a:lnTo>
                  <a:lnTo>
                    <a:pt x="287" y="225"/>
                  </a:lnTo>
                  <a:lnTo>
                    <a:pt x="322" y="212"/>
                  </a:lnTo>
                  <a:lnTo>
                    <a:pt x="353" y="199"/>
                  </a:lnTo>
                  <a:lnTo>
                    <a:pt x="389" y="181"/>
                  </a:lnTo>
                  <a:lnTo>
                    <a:pt x="424" y="155"/>
                  </a:lnTo>
                  <a:lnTo>
                    <a:pt x="464" y="127"/>
                  </a:lnTo>
                  <a:lnTo>
                    <a:pt x="509" y="97"/>
                  </a:lnTo>
                  <a:lnTo>
                    <a:pt x="548" y="70"/>
                  </a:lnTo>
                  <a:lnTo>
                    <a:pt x="588" y="44"/>
                  </a:lnTo>
                  <a:lnTo>
                    <a:pt x="623" y="26"/>
                  </a:lnTo>
                  <a:lnTo>
                    <a:pt x="654" y="22"/>
                  </a:lnTo>
                  <a:lnTo>
                    <a:pt x="628" y="8"/>
                  </a:lnTo>
                  <a:lnTo>
                    <a:pt x="592" y="0"/>
                  </a:lnTo>
                  <a:lnTo>
                    <a:pt x="553" y="0"/>
                  </a:lnTo>
                  <a:lnTo>
                    <a:pt x="509" y="0"/>
                  </a:lnTo>
                  <a:lnTo>
                    <a:pt x="459" y="8"/>
                  </a:lnTo>
                  <a:lnTo>
                    <a:pt x="419" y="13"/>
                  </a:lnTo>
                  <a:lnTo>
                    <a:pt x="380" y="22"/>
                  </a:lnTo>
                  <a:lnTo>
                    <a:pt x="349" y="30"/>
                  </a:lnTo>
                  <a:lnTo>
                    <a:pt x="318" y="35"/>
                  </a:lnTo>
                  <a:lnTo>
                    <a:pt x="287" y="35"/>
                  </a:lnTo>
                  <a:lnTo>
                    <a:pt x="256" y="35"/>
                  </a:lnTo>
                  <a:lnTo>
                    <a:pt x="217" y="30"/>
                  </a:lnTo>
                  <a:lnTo>
                    <a:pt x="172" y="26"/>
                  </a:lnTo>
                  <a:lnTo>
                    <a:pt x="119" y="30"/>
                  </a:lnTo>
                  <a:lnTo>
                    <a:pt x="61" y="35"/>
                  </a:lnTo>
                  <a:lnTo>
                    <a:pt x="0" y="52"/>
                  </a:lnTo>
                  <a:lnTo>
                    <a:pt x="26" y="114"/>
                  </a:lnTo>
                  <a:lnTo>
                    <a:pt x="48" y="181"/>
                  </a:lnTo>
                  <a:lnTo>
                    <a:pt x="66" y="234"/>
                  </a:lnTo>
                  <a:lnTo>
                    <a:pt x="74" y="283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57240" y="717480"/>
              <a:ext cx="213120" cy="160560"/>
            </a:xfrm>
            <a:custGeom>
              <a:avLst/>
              <a:gdLst/>
              <a:ahLst/>
              <a:rect l="0" t="0" r="r" b="b"/>
              <a:pathLst>
                <a:path w="592" h="446">
                  <a:moveTo>
                    <a:pt x="0" y="230"/>
                  </a:moveTo>
                  <a:lnTo>
                    <a:pt x="17" y="211"/>
                  </a:lnTo>
                  <a:lnTo>
                    <a:pt x="48" y="194"/>
                  </a:lnTo>
                  <a:lnTo>
                    <a:pt x="79" y="171"/>
                  </a:lnTo>
                  <a:lnTo>
                    <a:pt x="114" y="154"/>
                  </a:lnTo>
                  <a:lnTo>
                    <a:pt x="150" y="132"/>
                  </a:lnTo>
                  <a:lnTo>
                    <a:pt x="190" y="119"/>
                  </a:lnTo>
                  <a:lnTo>
                    <a:pt x="221" y="97"/>
                  </a:lnTo>
                  <a:lnTo>
                    <a:pt x="256" y="88"/>
                  </a:lnTo>
                  <a:lnTo>
                    <a:pt x="292" y="74"/>
                  </a:lnTo>
                  <a:lnTo>
                    <a:pt x="336" y="66"/>
                  </a:lnTo>
                  <a:lnTo>
                    <a:pt x="384" y="57"/>
                  </a:lnTo>
                  <a:lnTo>
                    <a:pt x="433" y="48"/>
                  </a:lnTo>
                  <a:lnTo>
                    <a:pt x="482" y="39"/>
                  </a:lnTo>
                  <a:lnTo>
                    <a:pt x="531" y="30"/>
                  </a:lnTo>
                  <a:lnTo>
                    <a:pt x="566" y="13"/>
                  </a:lnTo>
                  <a:lnTo>
                    <a:pt x="592" y="0"/>
                  </a:lnTo>
                  <a:lnTo>
                    <a:pt x="584" y="26"/>
                  </a:lnTo>
                  <a:lnTo>
                    <a:pt x="566" y="57"/>
                  </a:lnTo>
                  <a:lnTo>
                    <a:pt x="539" y="88"/>
                  </a:lnTo>
                  <a:lnTo>
                    <a:pt x="504" y="119"/>
                  </a:lnTo>
                  <a:lnTo>
                    <a:pt x="469" y="145"/>
                  </a:lnTo>
                  <a:lnTo>
                    <a:pt x="433" y="167"/>
                  </a:lnTo>
                  <a:lnTo>
                    <a:pt x="397" y="194"/>
                  </a:lnTo>
                  <a:lnTo>
                    <a:pt x="371" y="207"/>
                  </a:lnTo>
                  <a:lnTo>
                    <a:pt x="349" y="225"/>
                  </a:lnTo>
                  <a:lnTo>
                    <a:pt x="327" y="247"/>
                  </a:lnTo>
                  <a:lnTo>
                    <a:pt x="305" y="278"/>
                  </a:lnTo>
                  <a:lnTo>
                    <a:pt x="278" y="305"/>
                  </a:lnTo>
                  <a:lnTo>
                    <a:pt x="247" y="336"/>
                  </a:lnTo>
                  <a:lnTo>
                    <a:pt x="212" y="371"/>
                  </a:lnTo>
                  <a:lnTo>
                    <a:pt x="168" y="406"/>
                  </a:lnTo>
                  <a:lnTo>
                    <a:pt x="110" y="446"/>
                  </a:lnTo>
                  <a:lnTo>
                    <a:pt x="97" y="411"/>
                  </a:lnTo>
                  <a:lnTo>
                    <a:pt x="83" y="380"/>
                  </a:lnTo>
                  <a:lnTo>
                    <a:pt x="66" y="349"/>
                  </a:lnTo>
                  <a:lnTo>
                    <a:pt x="52" y="318"/>
                  </a:lnTo>
                  <a:lnTo>
                    <a:pt x="39" y="292"/>
                  </a:lnTo>
                  <a:lnTo>
                    <a:pt x="26" y="269"/>
                  </a:lnTo>
                  <a:lnTo>
                    <a:pt x="13" y="247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86040" y="1084320"/>
              <a:ext cx="236880" cy="100440"/>
            </a:xfrm>
            <a:custGeom>
              <a:avLst/>
              <a:gdLst/>
              <a:ahLst/>
              <a:rect l="0" t="0" r="r" b="b"/>
              <a:pathLst>
                <a:path w="658" h="279">
                  <a:moveTo>
                    <a:pt x="74" y="0"/>
                  </a:moveTo>
                  <a:lnTo>
                    <a:pt x="105" y="0"/>
                  </a:lnTo>
                  <a:lnTo>
                    <a:pt x="136" y="4"/>
                  </a:lnTo>
                  <a:lnTo>
                    <a:pt x="171" y="17"/>
                  </a:lnTo>
                  <a:lnTo>
                    <a:pt x="211" y="26"/>
                  </a:lnTo>
                  <a:lnTo>
                    <a:pt x="251" y="39"/>
                  </a:lnTo>
                  <a:lnTo>
                    <a:pt x="291" y="52"/>
                  </a:lnTo>
                  <a:lnTo>
                    <a:pt x="326" y="61"/>
                  </a:lnTo>
                  <a:lnTo>
                    <a:pt x="358" y="75"/>
                  </a:lnTo>
                  <a:lnTo>
                    <a:pt x="389" y="93"/>
                  </a:lnTo>
                  <a:lnTo>
                    <a:pt x="428" y="115"/>
                  </a:lnTo>
                  <a:lnTo>
                    <a:pt x="468" y="146"/>
                  </a:lnTo>
                  <a:lnTo>
                    <a:pt x="508" y="172"/>
                  </a:lnTo>
                  <a:lnTo>
                    <a:pt x="552" y="203"/>
                  </a:lnTo>
                  <a:lnTo>
                    <a:pt x="591" y="226"/>
                  </a:lnTo>
                  <a:lnTo>
                    <a:pt x="627" y="244"/>
                  </a:lnTo>
                  <a:lnTo>
                    <a:pt x="658" y="253"/>
                  </a:lnTo>
                  <a:lnTo>
                    <a:pt x="631" y="266"/>
                  </a:lnTo>
                  <a:lnTo>
                    <a:pt x="596" y="275"/>
                  </a:lnTo>
                  <a:lnTo>
                    <a:pt x="556" y="279"/>
                  </a:lnTo>
                  <a:lnTo>
                    <a:pt x="508" y="275"/>
                  </a:lnTo>
                  <a:lnTo>
                    <a:pt x="464" y="266"/>
                  </a:lnTo>
                  <a:lnTo>
                    <a:pt x="424" y="262"/>
                  </a:lnTo>
                  <a:lnTo>
                    <a:pt x="384" y="253"/>
                  </a:lnTo>
                  <a:lnTo>
                    <a:pt x="353" y="244"/>
                  </a:lnTo>
                  <a:lnTo>
                    <a:pt x="321" y="244"/>
                  </a:lnTo>
                  <a:lnTo>
                    <a:pt x="295" y="244"/>
                  </a:lnTo>
                  <a:lnTo>
                    <a:pt x="260" y="244"/>
                  </a:lnTo>
                  <a:lnTo>
                    <a:pt x="220" y="244"/>
                  </a:lnTo>
                  <a:lnTo>
                    <a:pt x="176" y="248"/>
                  </a:lnTo>
                  <a:lnTo>
                    <a:pt x="123" y="244"/>
                  </a:lnTo>
                  <a:lnTo>
                    <a:pt x="66" y="240"/>
                  </a:lnTo>
                  <a:lnTo>
                    <a:pt x="0" y="226"/>
                  </a:lnTo>
                  <a:lnTo>
                    <a:pt x="30" y="159"/>
                  </a:lnTo>
                  <a:lnTo>
                    <a:pt x="48" y="98"/>
                  </a:lnTo>
                  <a:lnTo>
                    <a:pt x="66" y="3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59040" y="1136520"/>
              <a:ext cx="214560" cy="159120"/>
            </a:xfrm>
            <a:custGeom>
              <a:avLst/>
              <a:gdLst/>
              <a:ahLst/>
              <a:rect l="0" t="0" r="r" b="b"/>
              <a:pathLst>
                <a:path w="596" h="442">
                  <a:moveTo>
                    <a:pt x="0" y="217"/>
                  </a:moveTo>
                  <a:lnTo>
                    <a:pt x="22" y="234"/>
                  </a:lnTo>
                  <a:lnTo>
                    <a:pt x="48" y="252"/>
                  </a:lnTo>
                  <a:lnTo>
                    <a:pt x="83" y="274"/>
                  </a:lnTo>
                  <a:lnTo>
                    <a:pt x="119" y="292"/>
                  </a:lnTo>
                  <a:lnTo>
                    <a:pt x="154" y="309"/>
                  </a:lnTo>
                  <a:lnTo>
                    <a:pt x="189" y="327"/>
                  </a:lnTo>
                  <a:lnTo>
                    <a:pt x="224" y="345"/>
                  </a:lnTo>
                  <a:lnTo>
                    <a:pt x="255" y="359"/>
                  </a:lnTo>
                  <a:lnTo>
                    <a:pt x="291" y="368"/>
                  </a:lnTo>
                  <a:lnTo>
                    <a:pt x="336" y="376"/>
                  </a:lnTo>
                  <a:lnTo>
                    <a:pt x="384" y="385"/>
                  </a:lnTo>
                  <a:lnTo>
                    <a:pt x="437" y="394"/>
                  </a:lnTo>
                  <a:lnTo>
                    <a:pt x="486" y="403"/>
                  </a:lnTo>
                  <a:lnTo>
                    <a:pt x="530" y="412"/>
                  </a:lnTo>
                  <a:lnTo>
                    <a:pt x="569" y="425"/>
                  </a:lnTo>
                  <a:lnTo>
                    <a:pt x="596" y="442"/>
                  </a:lnTo>
                  <a:lnTo>
                    <a:pt x="583" y="416"/>
                  </a:lnTo>
                  <a:lnTo>
                    <a:pt x="565" y="385"/>
                  </a:lnTo>
                  <a:lnTo>
                    <a:pt x="538" y="354"/>
                  </a:lnTo>
                  <a:lnTo>
                    <a:pt x="503" y="322"/>
                  </a:lnTo>
                  <a:lnTo>
                    <a:pt x="468" y="296"/>
                  </a:lnTo>
                  <a:lnTo>
                    <a:pt x="433" y="274"/>
                  </a:lnTo>
                  <a:lnTo>
                    <a:pt x="402" y="252"/>
                  </a:lnTo>
                  <a:lnTo>
                    <a:pt x="371" y="234"/>
                  </a:lnTo>
                  <a:lnTo>
                    <a:pt x="349" y="217"/>
                  </a:lnTo>
                  <a:lnTo>
                    <a:pt x="327" y="195"/>
                  </a:lnTo>
                  <a:lnTo>
                    <a:pt x="305" y="168"/>
                  </a:lnTo>
                  <a:lnTo>
                    <a:pt x="277" y="137"/>
                  </a:lnTo>
                  <a:lnTo>
                    <a:pt x="251" y="105"/>
                  </a:lnTo>
                  <a:lnTo>
                    <a:pt x="211" y="70"/>
                  </a:lnTo>
                  <a:lnTo>
                    <a:pt x="167" y="35"/>
                  </a:lnTo>
                  <a:lnTo>
                    <a:pt x="110" y="0"/>
                  </a:lnTo>
                  <a:lnTo>
                    <a:pt x="97" y="35"/>
                  </a:lnTo>
                  <a:lnTo>
                    <a:pt x="83" y="66"/>
                  </a:lnTo>
                  <a:lnTo>
                    <a:pt x="70" y="97"/>
                  </a:lnTo>
                  <a:lnTo>
                    <a:pt x="57" y="124"/>
                  </a:lnTo>
                  <a:lnTo>
                    <a:pt x="39" y="155"/>
                  </a:lnTo>
                  <a:lnTo>
                    <a:pt x="26" y="177"/>
                  </a:lnTo>
                  <a:lnTo>
                    <a:pt x="13" y="199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92200" y="428760"/>
              <a:ext cx="103680" cy="206640"/>
            </a:xfrm>
            <a:custGeom>
              <a:avLst/>
              <a:gdLst/>
              <a:ahLst/>
              <a:rect l="0" t="0" r="r" b="b"/>
              <a:pathLst>
                <a:path w="288" h="574">
                  <a:moveTo>
                    <a:pt x="146" y="0"/>
                  </a:moveTo>
                  <a:lnTo>
                    <a:pt x="133" y="61"/>
                  </a:lnTo>
                  <a:lnTo>
                    <a:pt x="111" y="141"/>
                  </a:lnTo>
                  <a:lnTo>
                    <a:pt x="89" y="233"/>
                  </a:lnTo>
                  <a:lnTo>
                    <a:pt x="66" y="331"/>
                  </a:lnTo>
                  <a:lnTo>
                    <a:pt x="44" y="415"/>
                  </a:lnTo>
                  <a:lnTo>
                    <a:pt x="26" y="494"/>
                  </a:lnTo>
                  <a:lnTo>
                    <a:pt x="8" y="547"/>
                  </a:lnTo>
                  <a:lnTo>
                    <a:pt x="0" y="574"/>
                  </a:lnTo>
                  <a:lnTo>
                    <a:pt x="44" y="569"/>
                  </a:lnTo>
                  <a:lnTo>
                    <a:pt x="84" y="569"/>
                  </a:lnTo>
                  <a:lnTo>
                    <a:pt x="120" y="565"/>
                  </a:lnTo>
                  <a:lnTo>
                    <a:pt x="155" y="565"/>
                  </a:lnTo>
                  <a:lnTo>
                    <a:pt x="190" y="565"/>
                  </a:lnTo>
                  <a:lnTo>
                    <a:pt x="226" y="569"/>
                  </a:lnTo>
                  <a:lnTo>
                    <a:pt x="257" y="569"/>
                  </a:lnTo>
                  <a:lnTo>
                    <a:pt x="288" y="574"/>
                  </a:lnTo>
                  <a:lnTo>
                    <a:pt x="279" y="547"/>
                  </a:lnTo>
                  <a:lnTo>
                    <a:pt x="266" y="494"/>
                  </a:lnTo>
                  <a:lnTo>
                    <a:pt x="248" y="415"/>
                  </a:lnTo>
                  <a:lnTo>
                    <a:pt x="226" y="331"/>
                  </a:lnTo>
                  <a:lnTo>
                    <a:pt x="203" y="233"/>
                  </a:lnTo>
                  <a:lnTo>
                    <a:pt x="181" y="141"/>
                  </a:lnTo>
                  <a:lnTo>
                    <a:pt x="164" y="61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92200" y="1380960"/>
              <a:ext cx="103680" cy="208440"/>
            </a:xfrm>
            <a:custGeom>
              <a:avLst/>
              <a:gdLst/>
              <a:ahLst/>
              <a:rect l="0" t="0" r="r" b="b"/>
              <a:pathLst>
                <a:path w="288" h="579">
                  <a:moveTo>
                    <a:pt x="146" y="579"/>
                  </a:moveTo>
                  <a:lnTo>
                    <a:pt x="133" y="513"/>
                  </a:lnTo>
                  <a:lnTo>
                    <a:pt x="111" y="433"/>
                  </a:lnTo>
                  <a:lnTo>
                    <a:pt x="89" y="340"/>
                  </a:lnTo>
                  <a:lnTo>
                    <a:pt x="66" y="247"/>
                  </a:lnTo>
                  <a:lnTo>
                    <a:pt x="44" y="159"/>
                  </a:lnTo>
                  <a:lnTo>
                    <a:pt x="26" y="79"/>
                  </a:lnTo>
                  <a:lnTo>
                    <a:pt x="8" y="26"/>
                  </a:lnTo>
                  <a:lnTo>
                    <a:pt x="0" y="0"/>
                  </a:lnTo>
                  <a:lnTo>
                    <a:pt x="44" y="4"/>
                  </a:lnTo>
                  <a:lnTo>
                    <a:pt x="84" y="8"/>
                  </a:lnTo>
                  <a:lnTo>
                    <a:pt x="120" y="8"/>
                  </a:lnTo>
                  <a:lnTo>
                    <a:pt x="155" y="8"/>
                  </a:lnTo>
                  <a:lnTo>
                    <a:pt x="190" y="8"/>
                  </a:lnTo>
                  <a:lnTo>
                    <a:pt x="226" y="8"/>
                  </a:lnTo>
                  <a:lnTo>
                    <a:pt x="257" y="4"/>
                  </a:lnTo>
                  <a:lnTo>
                    <a:pt x="288" y="0"/>
                  </a:lnTo>
                  <a:lnTo>
                    <a:pt x="279" y="26"/>
                  </a:lnTo>
                  <a:lnTo>
                    <a:pt x="266" y="79"/>
                  </a:lnTo>
                  <a:lnTo>
                    <a:pt x="248" y="159"/>
                  </a:lnTo>
                  <a:lnTo>
                    <a:pt x="226" y="247"/>
                  </a:lnTo>
                  <a:lnTo>
                    <a:pt x="203" y="340"/>
                  </a:lnTo>
                  <a:lnTo>
                    <a:pt x="181" y="433"/>
                  </a:lnTo>
                  <a:lnTo>
                    <a:pt x="164" y="513"/>
                  </a:lnTo>
                  <a:lnTo>
                    <a:pt x="146" y="579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63720" y="957240"/>
              <a:ext cx="208440" cy="103680"/>
            </a:xfrm>
            <a:custGeom>
              <a:avLst/>
              <a:gdLst/>
              <a:ahLst/>
              <a:rect l="0" t="0" r="r" b="b"/>
              <a:pathLst>
                <a:path w="579" h="288">
                  <a:moveTo>
                    <a:pt x="0" y="146"/>
                  </a:moveTo>
                  <a:lnTo>
                    <a:pt x="26" y="150"/>
                  </a:lnTo>
                  <a:lnTo>
                    <a:pt x="61" y="159"/>
                  </a:lnTo>
                  <a:lnTo>
                    <a:pt x="101" y="168"/>
                  </a:lnTo>
                  <a:lnTo>
                    <a:pt x="146" y="181"/>
                  </a:lnTo>
                  <a:lnTo>
                    <a:pt x="190" y="190"/>
                  </a:lnTo>
                  <a:lnTo>
                    <a:pt x="239" y="203"/>
                  </a:lnTo>
                  <a:lnTo>
                    <a:pt x="283" y="218"/>
                  </a:lnTo>
                  <a:lnTo>
                    <a:pt x="331" y="226"/>
                  </a:lnTo>
                  <a:lnTo>
                    <a:pt x="380" y="240"/>
                  </a:lnTo>
                  <a:lnTo>
                    <a:pt x="419" y="248"/>
                  </a:lnTo>
                  <a:lnTo>
                    <a:pt x="465" y="257"/>
                  </a:lnTo>
                  <a:lnTo>
                    <a:pt x="500" y="266"/>
                  </a:lnTo>
                  <a:lnTo>
                    <a:pt x="526" y="275"/>
                  </a:lnTo>
                  <a:lnTo>
                    <a:pt x="553" y="284"/>
                  </a:lnTo>
                  <a:lnTo>
                    <a:pt x="570" y="288"/>
                  </a:lnTo>
                  <a:lnTo>
                    <a:pt x="579" y="288"/>
                  </a:lnTo>
                  <a:lnTo>
                    <a:pt x="570" y="203"/>
                  </a:lnTo>
                  <a:lnTo>
                    <a:pt x="570" y="133"/>
                  </a:lnTo>
                  <a:lnTo>
                    <a:pt x="570" y="61"/>
                  </a:lnTo>
                  <a:lnTo>
                    <a:pt x="579" y="0"/>
                  </a:lnTo>
                  <a:lnTo>
                    <a:pt x="570" y="4"/>
                  </a:lnTo>
                  <a:lnTo>
                    <a:pt x="553" y="8"/>
                  </a:lnTo>
                  <a:lnTo>
                    <a:pt x="526" y="13"/>
                  </a:lnTo>
                  <a:lnTo>
                    <a:pt x="500" y="22"/>
                  </a:lnTo>
                  <a:lnTo>
                    <a:pt x="465" y="30"/>
                  </a:lnTo>
                  <a:lnTo>
                    <a:pt x="419" y="39"/>
                  </a:lnTo>
                  <a:lnTo>
                    <a:pt x="380" y="48"/>
                  </a:lnTo>
                  <a:lnTo>
                    <a:pt x="331" y="61"/>
                  </a:lnTo>
                  <a:lnTo>
                    <a:pt x="283" y="70"/>
                  </a:lnTo>
                  <a:lnTo>
                    <a:pt x="239" y="84"/>
                  </a:lnTo>
                  <a:lnTo>
                    <a:pt x="190" y="98"/>
                  </a:lnTo>
                  <a:lnTo>
                    <a:pt x="146" y="106"/>
                  </a:lnTo>
                  <a:lnTo>
                    <a:pt x="101" y="120"/>
                  </a:lnTo>
                  <a:lnTo>
                    <a:pt x="61" y="128"/>
                  </a:lnTo>
                  <a:lnTo>
                    <a:pt x="26" y="137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17720" y="957240"/>
              <a:ext cx="206640" cy="103680"/>
            </a:xfrm>
            <a:custGeom>
              <a:avLst/>
              <a:gdLst/>
              <a:ahLst/>
              <a:rect l="0" t="0" r="r" b="b"/>
              <a:pathLst>
                <a:path w="574" h="288">
                  <a:moveTo>
                    <a:pt x="574" y="146"/>
                  </a:moveTo>
                  <a:lnTo>
                    <a:pt x="547" y="150"/>
                  </a:lnTo>
                  <a:lnTo>
                    <a:pt x="512" y="159"/>
                  </a:lnTo>
                  <a:lnTo>
                    <a:pt x="472" y="168"/>
                  </a:lnTo>
                  <a:lnTo>
                    <a:pt x="433" y="181"/>
                  </a:lnTo>
                  <a:lnTo>
                    <a:pt x="384" y="190"/>
                  </a:lnTo>
                  <a:lnTo>
                    <a:pt x="340" y="203"/>
                  </a:lnTo>
                  <a:lnTo>
                    <a:pt x="292" y="218"/>
                  </a:lnTo>
                  <a:lnTo>
                    <a:pt x="242" y="226"/>
                  </a:lnTo>
                  <a:lnTo>
                    <a:pt x="198" y="240"/>
                  </a:lnTo>
                  <a:lnTo>
                    <a:pt x="158" y="248"/>
                  </a:lnTo>
                  <a:lnTo>
                    <a:pt x="114" y="257"/>
                  </a:lnTo>
                  <a:lnTo>
                    <a:pt x="79" y="266"/>
                  </a:lnTo>
                  <a:lnTo>
                    <a:pt x="52" y="275"/>
                  </a:lnTo>
                  <a:lnTo>
                    <a:pt x="26" y="284"/>
                  </a:lnTo>
                  <a:lnTo>
                    <a:pt x="8" y="288"/>
                  </a:lnTo>
                  <a:lnTo>
                    <a:pt x="0" y="288"/>
                  </a:lnTo>
                  <a:lnTo>
                    <a:pt x="4" y="203"/>
                  </a:lnTo>
                  <a:lnTo>
                    <a:pt x="8" y="133"/>
                  </a:lnTo>
                  <a:lnTo>
                    <a:pt x="4" y="61"/>
                  </a:lnTo>
                  <a:lnTo>
                    <a:pt x="0" y="0"/>
                  </a:lnTo>
                  <a:lnTo>
                    <a:pt x="8" y="4"/>
                  </a:lnTo>
                  <a:lnTo>
                    <a:pt x="26" y="8"/>
                  </a:lnTo>
                  <a:lnTo>
                    <a:pt x="52" y="13"/>
                  </a:lnTo>
                  <a:lnTo>
                    <a:pt x="79" y="22"/>
                  </a:lnTo>
                  <a:lnTo>
                    <a:pt x="114" y="30"/>
                  </a:lnTo>
                  <a:lnTo>
                    <a:pt x="158" y="39"/>
                  </a:lnTo>
                  <a:lnTo>
                    <a:pt x="198" y="48"/>
                  </a:lnTo>
                  <a:lnTo>
                    <a:pt x="242" y="61"/>
                  </a:lnTo>
                  <a:lnTo>
                    <a:pt x="292" y="70"/>
                  </a:lnTo>
                  <a:lnTo>
                    <a:pt x="340" y="84"/>
                  </a:lnTo>
                  <a:lnTo>
                    <a:pt x="384" y="98"/>
                  </a:lnTo>
                  <a:lnTo>
                    <a:pt x="433" y="106"/>
                  </a:lnTo>
                  <a:lnTo>
                    <a:pt x="472" y="120"/>
                  </a:lnTo>
                  <a:lnTo>
                    <a:pt x="512" y="128"/>
                  </a:lnTo>
                  <a:lnTo>
                    <a:pt x="547" y="137"/>
                  </a:lnTo>
                  <a:lnTo>
                    <a:pt x="574" y="146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33640" y="598320"/>
              <a:ext cx="184680" cy="182880"/>
            </a:xfrm>
            <a:custGeom>
              <a:avLst/>
              <a:gdLst/>
              <a:ahLst/>
              <a:rect l="0" t="0" r="r" b="b"/>
              <a:pathLst>
                <a:path w="513" h="508">
                  <a:moveTo>
                    <a:pt x="0" y="0"/>
                  </a:moveTo>
                  <a:lnTo>
                    <a:pt x="35" y="52"/>
                  </a:lnTo>
                  <a:lnTo>
                    <a:pt x="74" y="127"/>
                  </a:lnTo>
                  <a:lnTo>
                    <a:pt x="123" y="207"/>
                  </a:lnTo>
                  <a:lnTo>
                    <a:pt x="177" y="292"/>
                  </a:lnTo>
                  <a:lnTo>
                    <a:pt x="225" y="371"/>
                  </a:lnTo>
                  <a:lnTo>
                    <a:pt x="265" y="437"/>
                  </a:lnTo>
                  <a:lnTo>
                    <a:pt x="296" y="486"/>
                  </a:lnTo>
                  <a:lnTo>
                    <a:pt x="309" y="508"/>
                  </a:lnTo>
                  <a:lnTo>
                    <a:pt x="336" y="477"/>
                  </a:lnTo>
                  <a:lnTo>
                    <a:pt x="358" y="446"/>
                  </a:lnTo>
                  <a:lnTo>
                    <a:pt x="384" y="419"/>
                  </a:lnTo>
                  <a:lnTo>
                    <a:pt x="412" y="393"/>
                  </a:lnTo>
                  <a:lnTo>
                    <a:pt x="438" y="371"/>
                  </a:lnTo>
                  <a:lnTo>
                    <a:pt x="460" y="344"/>
                  </a:lnTo>
                  <a:lnTo>
                    <a:pt x="487" y="322"/>
                  </a:lnTo>
                  <a:lnTo>
                    <a:pt x="513" y="305"/>
                  </a:lnTo>
                  <a:lnTo>
                    <a:pt x="487" y="292"/>
                  </a:lnTo>
                  <a:lnTo>
                    <a:pt x="438" y="265"/>
                  </a:lnTo>
                  <a:lnTo>
                    <a:pt x="371" y="220"/>
                  </a:lnTo>
                  <a:lnTo>
                    <a:pt x="292" y="176"/>
                  </a:lnTo>
                  <a:lnTo>
                    <a:pt x="208" y="123"/>
                  </a:lnTo>
                  <a:lnTo>
                    <a:pt x="127" y="74"/>
                  </a:lnTo>
                  <a:lnTo>
                    <a:pt x="5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33640" y="1235160"/>
              <a:ext cx="184680" cy="184680"/>
            </a:xfrm>
            <a:custGeom>
              <a:avLst/>
              <a:gdLst/>
              <a:ahLst/>
              <a:rect l="0" t="0" r="r" b="b"/>
              <a:pathLst>
                <a:path w="513" h="513">
                  <a:moveTo>
                    <a:pt x="0" y="513"/>
                  </a:moveTo>
                  <a:lnTo>
                    <a:pt x="57" y="473"/>
                  </a:lnTo>
                  <a:lnTo>
                    <a:pt x="133" y="434"/>
                  </a:lnTo>
                  <a:lnTo>
                    <a:pt x="212" y="384"/>
                  </a:lnTo>
                  <a:lnTo>
                    <a:pt x="292" y="331"/>
                  </a:lnTo>
                  <a:lnTo>
                    <a:pt x="371" y="287"/>
                  </a:lnTo>
                  <a:lnTo>
                    <a:pt x="438" y="247"/>
                  </a:lnTo>
                  <a:lnTo>
                    <a:pt x="487" y="217"/>
                  </a:lnTo>
                  <a:lnTo>
                    <a:pt x="513" y="203"/>
                  </a:lnTo>
                  <a:lnTo>
                    <a:pt x="478" y="177"/>
                  </a:lnTo>
                  <a:lnTo>
                    <a:pt x="447" y="155"/>
                  </a:lnTo>
                  <a:lnTo>
                    <a:pt x="420" y="127"/>
                  </a:lnTo>
                  <a:lnTo>
                    <a:pt x="394" y="101"/>
                  </a:lnTo>
                  <a:lnTo>
                    <a:pt x="371" y="74"/>
                  </a:lnTo>
                  <a:lnTo>
                    <a:pt x="344" y="52"/>
                  </a:lnTo>
                  <a:lnTo>
                    <a:pt x="327" y="26"/>
                  </a:lnTo>
                  <a:lnTo>
                    <a:pt x="309" y="0"/>
                  </a:lnTo>
                  <a:lnTo>
                    <a:pt x="296" y="26"/>
                  </a:lnTo>
                  <a:lnTo>
                    <a:pt x="265" y="74"/>
                  </a:lnTo>
                  <a:lnTo>
                    <a:pt x="225" y="142"/>
                  </a:lnTo>
                  <a:lnTo>
                    <a:pt x="181" y="221"/>
                  </a:lnTo>
                  <a:lnTo>
                    <a:pt x="127" y="300"/>
                  </a:lnTo>
                  <a:lnTo>
                    <a:pt x="79" y="380"/>
                  </a:lnTo>
                  <a:lnTo>
                    <a:pt x="39" y="456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71560" y="1235160"/>
              <a:ext cx="182880" cy="184680"/>
            </a:xfrm>
            <a:custGeom>
              <a:avLst/>
              <a:gdLst/>
              <a:ahLst/>
              <a:rect l="0" t="0" r="r" b="b"/>
              <a:pathLst>
                <a:path w="508" h="513">
                  <a:moveTo>
                    <a:pt x="508" y="513"/>
                  </a:moveTo>
                  <a:lnTo>
                    <a:pt x="472" y="456"/>
                  </a:lnTo>
                  <a:lnTo>
                    <a:pt x="433" y="380"/>
                  </a:lnTo>
                  <a:lnTo>
                    <a:pt x="384" y="300"/>
                  </a:lnTo>
                  <a:lnTo>
                    <a:pt x="331" y="217"/>
                  </a:lnTo>
                  <a:lnTo>
                    <a:pt x="283" y="142"/>
                  </a:lnTo>
                  <a:lnTo>
                    <a:pt x="242" y="70"/>
                  </a:lnTo>
                  <a:lnTo>
                    <a:pt x="216" y="22"/>
                  </a:lnTo>
                  <a:lnTo>
                    <a:pt x="202" y="0"/>
                  </a:lnTo>
                  <a:lnTo>
                    <a:pt x="176" y="35"/>
                  </a:lnTo>
                  <a:lnTo>
                    <a:pt x="149" y="66"/>
                  </a:lnTo>
                  <a:lnTo>
                    <a:pt x="123" y="92"/>
                  </a:lnTo>
                  <a:lnTo>
                    <a:pt x="101" y="119"/>
                  </a:lnTo>
                  <a:lnTo>
                    <a:pt x="74" y="142"/>
                  </a:lnTo>
                  <a:lnTo>
                    <a:pt x="48" y="168"/>
                  </a:lnTo>
                  <a:lnTo>
                    <a:pt x="26" y="186"/>
                  </a:lnTo>
                  <a:lnTo>
                    <a:pt x="0" y="203"/>
                  </a:lnTo>
                  <a:lnTo>
                    <a:pt x="22" y="217"/>
                  </a:lnTo>
                  <a:lnTo>
                    <a:pt x="70" y="247"/>
                  </a:lnTo>
                  <a:lnTo>
                    <a:pt x="136" y="287"/>
                  </a:lnTo>
                  <a:lnTo>
                    <a:pt x="216" y="331"/>
                  </a:lnTo>
                  <a:lnTo>
                    <a:pt x="300" y="384"/>
                  </a:lnTo>
                  <a:lnTo>
                    <a:pt x="380" y="434"/>
                  </a:lnTo>
                  <a:lnTo>
                    <a:pt x="455" y="473"/>
                  </a:lnTo>
                  <a:lnTo>
                    <a:pt x="508" y="513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71560" y="598320"/>
              <a:ext cx="182880" cy="182880"/>
            </a:xfrm>
            <a:custGeom>
              <a:avLst/>
              <a:gdLst/>
              <a:ahLst/>
              <a:rect l="0" t="0" r="r" b="b"/>
              <a:pathLst>
                <a:path w="508" h="508">
                  <a:moveTo>
                    <a:pt x="508" y="0"/>
                  </a:moveTo>
                  <a:lnTo>
                    <a:pt x="455" y="35"/>
                  </a:lnTo>
                  <a:lnTo>
                    <a:pt x="380" y="74"/>
                  </a:lnTo>
                  <a:lnTo>
                    <a:pt x="300" y="123"/>
                  </a:lnTo>
                  <a:lnTo>
                    <a:pt x="216" y="176"/>
                  </a:lnTo>
                  <a:lnTo>
                    <a:pt x="136" y="224"/>
                  </a:lnTo>
                  <a:lnTo>
                    <a:pt x="70" y="265"/>
                  </a:lnTo>
                  <a:lnTo>
                    <a:pt x="22" y="292"/>
                  </a:lnTo>
                  <a:lnTo>
                    <a:pt x="0" y="305"/>
                  </a:lnTo>
                  <a:lnTo>
                    <a:pt x="30" y="331"/>
                  </a:lnTo>
                  <a:lnTo>
                    <a:pt x="61" y="358"/>
                  </a:lnTo>
                  <a:lnTo>
                    <a:pt x="88" y="380"/>
                  </a:lnTo>
                  <a:lnTo>
                    <a:pt x="114" y="406"/>
                  </a:lnTo>
                  <a:lnTo>
                    <a:pt x="136" y="433"/>
                  </a:lnTo>
                  <a:lnTo>
                    <a:pt x="163" y="455"/>
                  </a:lnTo>
                  <a:lnTo>
                    <a:pt x="185" y="481"/>
                  </a:lnTo>
                  <a:lnTo>
                    <a:pt x="202" y="508"/>
                  </a:lnTo>
                  <a:lnTo>
                    <a:pt x="216" y="486"/>
                  </a:lnTo>
                  <a:lnTo>
                    <a:pt x="242" y="437"/>
                  </a:lnTo>
                  <a:lnTo>
                    <a:pt x="283" y="371"/>
                  </a:lnTo>
                  <a:lnTo>
                    <a:pt x="331" y="292"/>
                  </a:lnTo>
                  <a:lnTo>
                    <a:pt x="384" y="207"/>
                  </a:lnTo>
                  <a:lnTo>
                    <a:pt x="433" y="127"/>
                  </a:lnTo>
                  <a:lnTo>
                    <a:pt x="472" y="5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65320" y="630360"/>
              <a:ext cx="757440" cy="757440"/>
            </a:xfrm>
            <a:custGeom>
              <a:avLst/>
              <a:gdLst/>
              <a:ahLst/>
              <a:rect l="0" t="0" r="r" b="b"/>
              <a:pathLst>
                <a:path w="2104" h="2104">
                  <a:moveTo>
                    <a:pt x="1883" y="405"/>
                  </a:moveTo>
                  <a:lnTo>
                    <a:pt x="1844" y="361"/>
                  </a:lnTo>
                  <a:lnTo>
                    <a:pt x="1804" y="317"/>
                  </a:lnTo>
                  <a:lnTo>
                    <a:pt x="1764" y="277"/>
                  </a:lnTo>
                  <a:lnTo>
                    <a:pt x="1716" y="238"/>
                  </a:lnTo>
                  <a:lnTo>
                    <a:pt x="1672" y="202"/>
                  </a:lnTo>
                  <a:lnTo>
                    <a:pt x="1623" y="167"/>
                  </a:lnTo>
                  <a:lnTo>
                    <a:pt x="1575" y="141"/>
                  </a:lnTo>
                  <a:lnTo>
                    <a:pt x="1522" y="110"/>
                  </a:lnTo>
                  <a:lnTo>
                    <a:pt x="1469" y="83"/>
                  </a:lnTo>
                  <a:lnTo>
                    <a:pt x="1412" y="66"/>
                  </a:lnTo>
                  <a:lnTo>
                    <a:pt x="1359" y="44"/>
                  </a:lnTo>
                  <a:lnTo>
                    <a:pt x="1301" y="30"/>
                  </a:lnTo>
                  <a:lnTo>
                    <a:pt x="1240" y="17"/>
                  </a:lnTo>
                  <a:lnTo>
                    <a:pt x="1178" y="8"/>
                  </a:lnTo>
                  <a:lnTo>
                    <a:pt x="1116" y="4"/>
                  </a:lnTo>
                  <a:lnTo>
                    <a:pt x="1054" y="0"/>
                  </a:lnTo>
                  <a:lnTo>
                    <a:pt x="943" y="8"/>
                  </a:lnTo>
                  <a:lnTo>
                    <a:pt x="842" y="22"/>
                  </a:lnTo>
                  <a:lnTo>
                    <a:pt x="745" y="48"/>
                  </a:lnTo>
                  <a:lnTo>
                    <a:pt x="643" y="83"/>
                  </a:lnTo>
                  <a:lnTo>
                    <a:pt x="555" y="127"/>
                  </a:lnTo>
                  <a:lnTo>
                    <a:pt x="467" y="180"/>
                  </a:lnTo>
                  <a:lnTo>
                    <a:pt x="383" y="242"/>
                  </a:lnTo>
                  <a:lnTo>
                    <a:pt x="308" y="308"/>
                  </a:lnTo>
                  <a:lnTo>
                    <a:pt x="242" y="383"/>
                  </a:lnTo>
                  <a:lnTo>
                    <a:pt x="180" y="463"/>
                  </a:lnTo>
                  <a:lnTo>
                    <a:pt x="127" y="551"/>
                  </a:lnTo>
                  <a:lnTo>
                    <a:pt x="83" y="643"/>
                  </a:lnTo>
                  <a:lnTo>
                    <a:pt x="48" y="740"/>
                  </a:lnTo>
                  <a:lnTo>
                    <a:pt x="22" y="837"/>
                  </a:lnTo>
                  <a:lnTo>
                    <a:pt x="8" y="943"/>
                  </a:lnTo>
                  <a:lnTo>
                    <a:pt x="0" y="1054"/>
                  </a:lnTo>
                  <a:lnTo>
                    <a:pt x="8" y="1160"/>
                  </a:lnTo>
                  <a:lnTo>
                    <a:pt x="22" y="1266"/>
                  </a:lnTo>
                  <a:lnTo>
                    <a:pt x="48" y="1363"/>
                  </a:lnTo>
                  <a:lnTo>
                    <a:pt x="83" y="1460"/>
                  </a:lnTo>
                  <a:lnTo>
                    <a:pt x="127" y="1553"/>
                  </a:lnTo>
                  <a:lnTo>
                    <a:pt x="180" y="1641"/>
                  </a:lnTo>
                  <a:lnTo>
                    <a:pt x="242" y="1720"/>
                  </a:lnTo>
                  <a:lnTo>
                    <a:pt x="308" y="1795"/>
                  </a:lnTo>
                  <a:lnTo>
                    <a:pt x="383" y="1861"/>
                  </a:lnTo>
                  <a:lnTo>
                    <a:pt x="467" y="1923"/>
                  </a:lnTo>
                  <a:lnTo>
                    <a:pt x="555" y="1976"/>
                  </a:lnTo>
                  <a:lnTo>
                    <a:pt x="643" y="2020"/>
                  </a:lnTo>
                  <a:lnTo>
                    <a:pt x="745" y="2055"/>
                  </a:lnTo>
                  <a:lnTo>
                    <a:pt x="842" y="2082"/>
                  </a:lnTo>
                  <a:lnTo>
                    <a:pt x="943" y="2095"/>
                  </a:lnTo>
                  <a:lnTo>
                    <a:pt x="1054" y="2104"/>
                  </a:lnTo>
                  <a:lnTo>
                    <a:pt x="1160" y="2095"/>
                  </a:lnTo>
                  <a:lnTo>
                    <a:pt x="1266" y="2082"/>
                  </a:lnTo>
                  <a:lnTo>
                    <a:pt x="1368" y="2055"/>
                  </a:lnTo>
                  <a:lnTo>
                    <a:pt x="1460" y="2020"/>
                  </a:lnTo>
                  <a:lnTo>
                    <a:pt x="1553" y="1976"/>
                  </a:lnTo>
                  <a:lnTo>
                    <a:pt x="1641" y="1923"/>
                  </a:lnTo>
                  <a:lnTo>
                    <a:pt x="1720" y="1861"/>
                  </a:lnTo>
                  <a:lnTo>
                    <a:pt x="1795" y="1795"/>
                  </a:lnTo>
                  <a:lnTo>
                    <a:pt x="1861" y="1720"/>
                  </a:lnTo>
                  <a:lnTo>
                    <a:pt x="1923" y="1641"/>
                  </a:lnTo>
                  <a:lnTo>
                    <a:pt x="1976" y="1553"/>
                  </a:lnTo>
                  <a:lnTo>
                    <a:pt x="2020" y="1460"/>
                  </a:lnTo>
                  <a:lnTo>
                    <a:pt x="2055" y="1363"/>
                  </a:lnTo>
                  <a:lnTo>
                    <a:pt x="2082" y="1266"/>
                  </a:lnTo>
                  <a:lnTo>
                    <a:pt x="2095" y="1160"/>
                  </a:lnTo>
                  <a:lnTo>
                    <a:pt x="2104" y="1054"/>
                  </a:lnTo>
                  <a:lnTo>
                    <a:pt x="2100" y="961"/>
                  </a:lnTo>
                  <a:lnTo>
                    <a:pt x="2086" y="873"/>
                  </a:lnTo>
                  <a:lnTo>
                    <a:pt x="2073" y="789"/>
                  </a:lnTo>
                  <a:lnTo>
                    <a:pt x="2047" y="705"/>
                  </a:lnTo>
                  <a:lnTo>
                    <a:pt x="2011" y="626"/>
                  </a:lnTo>
                  <a:lnTo>
                    <a:pt x="1976" y="546"/>
                  </a:lnTo>
                  <a:lnTo>
                    <a:pt x="1928" y="476"/>
                  </a:lnTo>
                  <a:lnTo>
                    <a:pt x="1883" y="405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17600" y="87012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0" y="72"/>
                  </a:moveTo>
                  <a:lnTo>
                    <a:pt x="13" y="57"/>
                  </a:lnTo>
                  <a:lnTo>
                    <a:pt x="36" y="36"/>
                  </a:lnTo>
                  <a:lnTo>
                    <a:pt x="59" y="21"/>
                  </a:lnTo>
                  <a:lnTo>
                    <a:pt x="76" y="0"/>
                  </a:lnTo>
                  <a:lnTo>
                    <a:pt x="63" y="21"/>
                  </a:lnTo>
                  <a:lnTo>
                    <a:pt x="49" y="3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23" y="57"/>
                  </a:lnTo>
                  <a:lnTo>
                    <a:pt x="17" y="62"/>
                  </a:lnTo>
                  <a:lnTo>
                    <a:pt x="8" y="67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233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68440" y="8618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102" y="72"/>
                  </a:moveTo>
                  <a:lnTo>
                    <a:pt x="98" y="67"/>
                  </a:lnTo>
                  <a:lnTo>
                    <a:pt x="89" y="62"/>
                  </a:lnTo>
                  <a:lnTo>
                    <a:pt x="71" y="51"/>
                  </a:lnTo>
                  <a:lnTo>
                    <a:pt x="58" y="41"/>
                  </a:lnTo>
                  <a:lnTo>
                    <a:pt x="39" y="31"/>
                  </a:lnTo>
                  <a:lnTo>
                    <a:pt x="22" y="21"/>
                  </a:lnTo>
                  <a:lnTo>
                    <a:pt x="8" y="10"/>
                  </a:lnTo>
                  <a:lnTo>
                    <a:pt x="0" y="5"/>
                  </a:lnTo>
                  <a:lnTo>
                    <a:pt x="13" y="0"/>
                  </a:lnTo>
                  <a:lnTo>
                    <a:pt x="30" y="5"/>
                  </a:lnTo>
                  <a:lnTo>
                    <a:pt x="48" y="5"/>
                  </a:lnTo>
                  <a:lnTo>
                    <a:pt x="67" y="10"/>
                  </a:lnTo>
                  <a:lnTo>
                    <a:pt x="58" y="15"/>
                  </a:lnTo>
                  <a:lnTo>
                    <a:pt x="53" y="15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102" y="72"/>
                  </a:lnTo>
                  <a:close/>
                </a:path>
              </a:pathLst>
            </a:custGeom>
            <a:solidFill>
              <a:srgbClr val="b233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30200" y="974880"/>
              <a:ext cx="43200" cy="38520"/>
            </a:xfrm>
            <a:custGeom>
              <a:avLst/>
              <a:gdLst/>
              <a:ahLst/>
              <a:rect l="0" t="0" r="r" b="b"/>
              <a:pathLst>
                <a:path w="120" h="107">
                  <a:moveTo>
                    <a:pt x="62" y="13"/>
                  </a:moveTo>
                  <a:lnTo>
                    <a:pt x="71" y="26"/>
                  </a:lnTo>
                  <a:lnTo>
                    <a:pt x="93" y="58"/>
                  </a:lnTo>
                  <a:lnTo>
                    <a:pt x="111" y="85"/>
                  </a:lnTo>
                  <a:lnTo>
                    <a:pt x="120" y="107"/>
                  </a:lnTo>
                  <a:lnTo>
                    <a:pt x="115" y="103"/>
                  </a:lnTo>
                  <a:lnTo>
                    <a:pt x="106" y="94"/>
                  </a:lnTo>
                  <a:lnTo>
                    <a:pt x="93" y="75"/>
                  </a:lnTo>
                  <a:lnTo>
                    <a:pt x="80" y="62"/>
                  </a:lnTo>
                  <a:lnTo>
                    <a:pt x="62" y="49"/>
                  </a:lnTo>
                  <a:lnTo>
                    <a:pt x="48" y="31"/>
                  </a:lnTo>
                  <a:lnTo>
                    <a:pt x="22" y="13"/>
                  </a:lnTo>
                  <a:lnTo>
                    <a:pt x="0" y="0"/>
                  </a:lnTo>
                  <a:lnTo>
                    <a:pt x="22" y="8"/>
                  </a:lnTo>
                  <a:lnTo>
                    <a:pt x="35" y="17"/>
                  </a:lnTo>
                  <a:lnTo>
                    <a:pt x="52" y="22"/>
                  </a:lnTo>
                  <a:lnTo>
                    <a:pt x="62" y="36"/>
                  </a:lnTo>
                  <a:lnTo>
                    <a:pt x="62" y="26"/>
                  </a:lnTo>
                  <a:lnTo>
                    <a:pt x="62" y="22"/>
                  </a:lnTo>
                  <a:lnTo>
                    <a:pt x="62" y="17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b233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06600" y="954000"/>
              <a:ext cx="25920" cy="32040"/>
            </a:xfrm>
            <a:custGeom>
              <a:avLst/>
              <a:gdLst/>
              <a:ahLst/>
              <a:rect l="0" t="0" r="r" b="b"/>
              <a:pathLst>
                <a:path w="72" h="89">
                  <a:moveTo>
                    <a:pt x="59" y="0"/>
                  </a:moveTo>
                  <a:lnTo>
                    <a:pt x="59" y="22"/>
                  </a:lnTo>
                  <a:lnTo>
                    <a:pt x="59" y="45"/>
                  </a:lnTo>
                  <a:lnTo>
                    <a:pt x="63" y="71"/>
                  </a:lnTo>
                  <a:lnTo>
                    <a:pt x="72" y="89"/>
                  </a:lnTo>
                  <a:lnTo>
                    <a:pt x="59" y="80"/>
                  </a:lnTo>
                  <a:lnTo>
                    <a:pt x="36" y="71"/>
                  </a:lnTo>
                  <a:lnTo>
                    <a:pt x="23" y="67"/>
                  </a:lnTo>
                  <a:lnTo>
                    <a:pt x="0" y="71"/>
                  </a:lnTo>
                  <a:lnTo>
                    <a:pt x="23" y="62"/>
                  </a:lnTo>
                  <a:lnTo>
                    <a:pt x="40" y="53"/>
                  </a:lnTo>
                  <a:lnTo>
                    <a:pt x="49" y="3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b233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36600" y="927000"/>
              <a:ext cx="55800" cy="25920"/>
            </a:xfrm>
            <a:custGeom>
              <a:avLst/>
              <a:gdLst/>
              <a:ahLst/>
              <a:rect l="0" t="0" r="r" b="b"/>
              <a:pathLst>
                <a:path w="155" h="72">
                  <a:moveTo>
                    <a:pt x="155" y="0"/>
                  </a:moveTo>
                  <a:lnTo>
                    <a:pt x="155" y="12"/>
                  </a:lnTo>
                  <a:lnTo>
                    <a:pt x="150" y="33"/>
                  </a:lnTo>
                  <a:lnTo>
                    <a:pt x="146" y="52"/>
                  </a:lnTo>
                  <a:lnTo>
                    <a:pt x="146" y="66"/>
                  </a:lnTo>
                  <a:lnTo>
                    <a:pt x="133" y="72"/>
                  </a:lnTo>
                  <a:lnTo>
                    <a:pt x="120" y="72"/>
                  </a:lnTo>
                  <a:lnTo>
                    <a:pt x="98" y="72"/>
                  </a:lnTo>
                  <a:lnTo>
                    <a:pt x="80" y="66"/>
                  </a:lnTo>
                  <a:lnTo>
                    <a:pt x="57" y="59"/>
                  </a:lnTo>
                  <a:lnTo>
                    <a:pt x="35" y="52"/>
                  </a:lnTo>
                  <a:lnTo>
                    <a:pt x="13" y="39"/>
                  </a:lnTo>
                  <a:lnTo>
                    <a:pt x="0" y="26"/>
                  </a:lnTo>
                  <a:lnTo>
                    <a:pt x="26" y="39"/>
                  </a:lnTo>
                  <a:lnTo>
                    <a:pt x="52" y="39"/>
                  </a:lnTo>
                  <a:lnTo>
                    <a:pt x="70" y="52"/>
                  </a:lnTo>
                  <a:lnTo>
                    <a:pt x="93" y="52"/>
                  </a:lnTo>
                  <a:lnTo>
                    <a:pt x="106" y="45"/>
                  </a:lnTo>
                  <a:lnTo>
                    <a:pt x="124" y="39"/>
                  </a:lnTo>
                  <a:lnTo>
                    <a:pt x="142" y="2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233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52680" y="873000"/>
              <a:ext cx="32040" cy="49680"/>
            </a:xfrm>
            <a:custGeom>
              <a:avLst/>
              <a:gdLst/>
              <a:ahLst/>
              <a:rect l="0" t="0" r="r" b="b"/>
              <a:pathLst>
                <a:path w="89" h="138">
                  <a:moveTo>
                    <a:pt x="22" y="138"/>
                  </a:moveTo>
                  <a:lnTo>
                    <a:pt x="22" y="107"/>
                  </a:lnTo>
                  <a:lnTo>
                    <a:pt x="26" y="62"/>
                  </a:lnTo>
                  <a:lnTo>
                    <a:pt x="49" y="22"/>
                  </a:lnTo>
                  <a:lnTo>
                    <a:pt x="89" y="0"/>
                  </a:lnTo>
                  <a:lnTo>
                    <a:pt x="49" y="13"/>
                  </a:lnTo>
                  <a:lnTo>
                    <a:pt x="26" y="22"/>
                  </a:lnTo>
                  <a:lnTo>
                    <a:pt x="13" y="36"/>
                  </a:lnTo>
                  <a:lnTo>
                    <a:pt x="0" y="40"/>
                  </a:lnTo>
                  <a:lnTo>
                    <a:pt x="4" y="67"/>
                  </a:lnTo>
                  <a:lnTo>
                    <a:pt x="13" y="93"/>
                  </a:lnTo>
                  <a:lnTo>
                    <a:pt x="17" y="116"/>
                  </a:lnTo>
                  <a:lnTo>
                    <a:pt x="22" y="138"/>
                  </a:lnTo>
                  <a:close/>
                </a:path>
              </a:pathLst>
            </a:custGeom>
            <a:solidFill>
              <a:srgbClr val="b233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04960" y="851040"/>
              <a:ext cx="63720" cy="28800"/>
            </a:xfrm>
            <a:custGeom>
              <a:avLst/>
              <a:gdLst/>
              <a:ahLst/>
              <a:rect l="0" t="0" r="r" b="b"/>
              <a:pathLst>
                <a:path w="177" h="80">
                  <a:moveTo>
                    <a:pt x="0" y="0"/>
                  </a:moveTo>
                  <a:lnTo>
                    <a:pt x="4" y="4"/>
                  </a:lnTo>
                  <a:lnTo>
                    <a:pt x="22" y="8"/>
                  </a:lnTo>
                  <a:lnTo>
                    <a:pt x="39" y="13"/>
                  </a:lnTo>
                  <a:lnTo>
                    <a:pt x="57" y="22"/>
                  </a:lnTo>
                  <a:lnTo>
                    <a:pt x="74" y="35"/>
                  </a:lnTo>
                  <a:lnTo>
                    <a:pt x="98" y="49"/>
                  </a:lnTo>
                  <a:lnTo>
                    <a:pt x="120" y="58"/>
                  </a:lnTo>
                  <a:lnTo>
                    <a:pt x="133" y="71"/>
                  </a:lnTo>
                  <a:lnTo>
                    <a:pt x="146" y="71"/>
                  </a:lnTo>
                  <a:lnTo>
                    <a:pt x="159" y="75"/>
                  </a:lnTo>
                  <a:lnTo>
                    <a:pt x="168" y="80"/>
                  </a:lnTo>
                  <a:lnTo>
                    <a:pt x="177" y="80"/>
                  </a:lnTo>
                  <a:lnTo>
                    <a:pt x="155" y="62"/>
                  </a:lnTo>
                  <a:lnTo>
                    <a:pt x="133" y="49"/>
                  </a:lnTo>
                  <a:lnTo>
                    <a:pt x="106" y="35"/>
                  </a:lnTo>
                  <a:lnTo>
                    <a:pt x="83" y="26"/>
                  </a:lnTo>
                  <a:lnTo>
                    <a:pt x="61" y="17"/>
                  </a:lnTo>
                  <a:lnTo>
                    <a:pt x="39" y="13"/>
                  </a:lnTo>
                  <a:lnTo>
                    <a:pt x="1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33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90640" y="936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17"/>
                  </a:lnTo>
                  <a:lnTo>
                    <a:pt x="0" y="27"/>
                  </a:lnTo>
                  <a:lnTo>
                    <a:pt x="0" y="45"/>
                  </a:lnTo>
                  <a:lnTo>
                    <a:pt x="7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33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67000" y="1044720"/>
              <a:ext cx="152640" cy="62280"/>
            </a:xfrm>
            <a:custGeom>
              <a:avLst/>
              <a:gdLst/>
              <a:ahLst/>
              <a:rect l="0" t="0" r="r" b="b"/>
              <a:pathLst>
                <a:path w="424" h="173">
                  <a:moveTo>
                    <a:pt x="13" y="0"/>
                  </a:moveTo>
                  <a:lnTo>
                    <a:pt x="17" y="13"/>
                  </a:lnTo>
                  <a:lnTo>
                    <a:pt x="22" y="30"/>
                  </a:lnTo>
                  <a:lnTo>
                    <a:pt x="22" y="45"/>
                  </a:lnTo>
                  <a:lnTo>
                    <a:pt x="22" y="53"/>
                  </a:lnTo>
                  <a:lnTo>
                    <a:pt x="30" y="62"/>
                  </a:lnTo>
                  <a:lnTo>
                    <a:pt x="48" y="67"/>
                  </a:lnTo>
                  <a:lnTo>
                    <a:pt x="61" y="71"/>
                  </a:lnTo>
                  <a:lnTo>
                    <a:pt x="70" y="71"/>
                  </a:lnTo>
                  <a:lnTo>
                    <a:pt x="74" y="67"/>
                  </a:lnTo>
                  <a:lnTo>
                    <a:pt x="83" y="62"/>
                  </a:lnTo>
                  <a:lnTo>
                    <a:pt x="83" y="58"/>
                  </a:lnTo>
                  <a:lnTo>
                    <a:pt x="92" y="58"/>
                  </a:lnTo>
                  <a:lnTo>
                    <a:pt x="101" y="58"/>
                  </a:lnTo>
                  <a:lnTo>
                    <a:pt x="105" y="62"/>
                  </a:lnTo>
                  <a:lnTo>
                    <a:pt x="114" y="67"/>
                  </a:lnTo>
                  <a:lnTo>
                    <a:pt x="119" y="71"/>
                  </a:lnTo>
                  <a:lnTo>
                    <a:pt x="132" y="84"/>
                  </a:lnTo>
                  <a:lnTo>
                    <a:pt x="154" y="102"/>
                  </a:lnTo>
                  <a:lnTo>
                    <a:pt x="180" y="115"/>
                  </a:lnTo>
                  <a:lnTo>
                    <a:pt x="217" y="115"/>
                  </a:lnTo>
                  <a:lnTo>
                    <a:pt x="239" y="115"/>
                  </a:lnTo>
                  <a:lnTo>
                    <a:pt x="252" y="106"/>
                  </a:lnTo>
                  <a:lnTo>
                    <a:pt x="269" y="98"/>
                  </a:lnTo>
                  <a:lnTo>
                    <a:pt x="278" y="89"/>
                  </a:lnTo>
                  <a:lnTo>
                    <a:pt x="292" y="80"/>
                  </a:lnTo>
                  <a:lnTo>
                    <a:pt x="296" y="67"/>
                  </a:lnTo>
                  <a:lnTo>
                    <a:pt x="309" y="62"/>
                  </a:lnTo>
                  <a:lnTo>
                    <a:pt x="314" y="62"/>
                  </a:lnTo>
                  <a:lnTo>
                    <a:pt x="327" y="67"/>
                  </a:lnTo>
                  <a:lnTo>
                    <a:pt x="331" y="71"/>
                  </a:lnTo>
                  <a:lnTo>
                    <a:pt x="344" y="75"/>
                  </a:lnTo>
                  <a:lnTo>
                    <a:pt x="353" y="80"/>
                  </a:lnTo>
                  <a:lnTo>
                    <a:pt x="362" y="75"/>
                  </a:lnTo>
                  <a:lnTo>
                    <a:pt x="371" y="67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389" y="45"/>
                  </a:lnTo>
                  <a:lnTo>
                    <a:pt x="393" y="39"/>
                  </a:lnTo>
                  <a:lnTo>
                    <a:pt x="393" y="30"/>
                  </a:lnTo>
                  <a:lnTo>
                    <a:pt x="389" y="17"/>
                  </a:lnTo>
                  <a:lnTo>
                    <a:pt x="402" y="22"/>
                  </a:lnTo>
                  <a:lnTo>
                    <a:pt x="415" y="30"/>
                  </a:lnTo>
                  <a:lnTo>
                    <a:pt x="419" y="45"/>
                  </a:lnTo>
                  <a:lnTo>
                    <a:pt x="424" y="58"/>
                  </a:lnTo>
                  <a:lnTo>
                    <a:pt x="415" y="75"/>
                  </a:lnTo>
                  <a:lnTo>
                    <a:pt x="411" y="89"/>
                  </a:lnTo>
                  <a:lnTo>
                    <a:pt x="397" y="102"/>
                  </a:lnTo>
                  <a:lnTo>
                    <a:pt x="389" y="115"/>
                  </a:lnTo>
                  <a:lnTo>
                    <a:pt x="375" y="120"/>
                  </a:lnTo>
                  <a:lnTo>
                    <a:pt x="362" y="120"/>
                  </a:lnTo>
                  <a:lnTo>
                    <a:pt x="344" y="120"/>
                  </a:lnTo>
                  <a:lnTo>
                    <a:pt x="331" y="120"/>
                  </a:lnTo>
                  <a:lnTo>
                    <a:pt x="322" y="128"/>
                  </a:lnTo>
                  <a:lnTo>
                    <a:pt x="314" y="138"/>
                  </a:lnTo>
                  <a:lnTo>
                    <a:pt x="300" y="147"/>
                  </a:lnTo>
                  <a:lnTo>
                    <a:pt x="287" y="151"/>
                  </a:lnTo>
                  <a:lnTo>
                    <a:pt x="269" y="165"/>
                  </a:lnTo>
                  <a:lnTo>
                    <a:pt x="252" y="165"/>
                  </a:lnTo>
                  <a:lnTo>
                    <a:pt x="234" y="173"/>
                  </a:lnTo>
                  <a:lnTo>
                    <a:pt x="217" y="173"/>
                  </a:lnTo>
                  <a:lnTo>
                    <a:pt x="202" y="173"/>
                  </a:lnTo>
                  <a:lnTo>
                    <a:pt x="185" y="169"/>
                  </a:lnTo>
                  <a:lnTo>
                    <a:pt x="171" y="165"/>
                  </a:lnTo>
                  <a:lnTo>
                    <a:pt x="154" y="156"/>
                  </a:lnTo>
                  <a:lnTo>
                    <a:pt x="145" y="151"/>
                  </a:lnTo>
                  <a:lnTo>
                    <a:pt x="132" y="138"/>
                  </a:lnTo>
                  <a:lnTo>
                    <a:pt x="123" y="134"/>
                  </a:lnTo>
                  <a:lnTo>
                    <a:pt x="114" y="124"/>
                  </a:lnTo>
                  <a:lnTo>
                    <a:pt x="101" y="124"/>
                  </a:lnTo>
                  <a:lnTo>
                    <a:pt x="83" y="120"/>
                  </a:lnTo>
                  <a:lnTo>
                    <a:pt x="57" y="115"/>
                  </a:lnTo>
                  <a:lnTo>
                    <a:pt x="35" y="106"/>
                  </a:lnTo>
                  <a:lnTo>
                    <a:pt x="13" y="93"/>
                  </a:lnTo>
                  <a:lnTo>
                    <a:pt x="0" y="71"/>
                  </a:lnTo>
                  <a:lnTo>
                    <a:pt x="0" y="4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233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12800" y="1160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53"/>
                  </a:moveTo>
                  <a:lnTo>
                    <a:pt x="12" y="53"/>
                  </a:lnTo>
                  <a:lnTo>
                    <a:pt x="39" y="72"/>
                  </a:lnTo>
                  <a:lnTo>
                    <a:pt x="59" y="72"/>
                  </a:lnTo>
                  <a:lnTo>
                    <a:pt x="72" y="72"/>
                  </a:lnTo>
                  <a:lnTo>
                    <a:pt x="72" y="53"/>
                  </a:lnTo>
                  <a:lnTo>
                    <a:pt x="72" y="36"/>
                  </a:lnTo>
                  <a:lnTo>
                    <a:pt x="66" y="17"/>
                  </a:lnTo>
                  <a:lnTo>
                    <a:pt x="66" y="0"/>
                  </a:lnTo>
                  <a:lnTo>
                    <a:pt x="45" y="17"/>
                  </a:lnTo>
                  <a:lnTo>
                    <a:pt x="26" y="17"/>
                  </a:lnTo>
                  <a:lnTo>
                    <a:pt x="12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b233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27040" y="1117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3" y="72"/>
                  </a:moveTo>
                  <a:lnTo>
                    <a:pt x="36" y="56"/>
                  </a:lnTo>
                  <a:lnTo>
                    <a:pt x="29" y="32"/>
                  </a:lnTo>
                  <a:lnTo>
                    <a:pt x="14" y="7"/>
                  </a:lnTo>
                  <a:lnTo>
                    <a:pt x="0" y="0"/>
                  </a:lnTo>
                  <a:lnTo>
                    <a:pt x="22" y="15"/>
                  </a:lnTo>
                  <a:lnTo>
                    <a:pt x="43" y="32"/>
                  </a:lnTo>
                  <a:lnTo>
                    <a:pt x="65" y="48"/>
                  </a:lnTo>
                  <a:lnTo>
                    <a:pt x="72" y="64"/>
                  </a:lnTo>
                  <a:lnTo>
                    <a:pt x="65" y="64"/>
                  </a:lnTo>
                  <a:lnTo>
                    <a:pt x="50" y="64"/>
                  </a:lnTo>
                  <a:lnTo>
                    <a:pt x="43" y="72"/>
                  </a:lnTo>
                  <a:close/>
                </a:path>
              </a:pathLst>
            </a:custGeom>
            <a:solidFill>
              <a:srgbClr val="b233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36560" y="1160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7" y="0"/>
                  </a:moveTo>
                  <a:lnTo>
                    <a:pt x="27" y="17"/>
                  </a:lnTo>
                  <a:lnTo>
                    <a:pt x="36" y="36"/>
                  </a:lnTo>
                  <a:lnTo>
                    <a:pt x="53" y="53"/>
                  </a:lnTo>
                  <a:lnTo>
                    <a:pt x="72" y="72"/>
                  </a:lnTo>
                  <a:lnTo>
                    <a:pt x="36" y="63"/>
                  </a:lnTo>
                  <a:lnTo>
                    <a:pt x="17" y="36"/>
                  </a:lnTo>
                  <a:lnTo>
                    <a:pt x="8" y="8"/>
                  </a:lnTo>
                  <a:lnTo>
                    <a:pt x="0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233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36840" y="1112760"/>
              <a:ext cx="25920" cy="28800"/>
            </a:xfrm>
            <a:custGeom>
              <a:avLst/>
              <a:gdLst/>
              <a:ahLst/>
              <a:rect l="0" t="0" r="r" b="b"/>
              <a:pathLst>
                <a:path w="72" h="80">
                  <a:moveTo>
                    <a:pt x="43" y="0"/>
                  </a:moveTo>
                  <a:lnTo>
                    <a:pt x="29" y="22"/>
                  </a:lnTo>
                  <a:lnTo>
                    <a:pt x="14" y="49"/>
                  </a:lnTo>
                  <a:lnTo>
                    <a:pt x="0" y="71"/>
                  </a:lnTo>
                  <a:lnTo>
                    <a:pt x="29" y="80"/>
                  </a:lnTo>
                  <a:lnTo>
                    <a:pt x="72" y="71"/>
                  </a:lnTo>
                  <a:lnTo>
                    <a:pt x="72" y="49"/>
                  </a:lnTo>
                  <a:lnTo>
                    <a:pt x="58" y="1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233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28640" y="108432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17" y="124"/>
                  </a:moveTo>
                  <a:lnTo>
                    <a:pt x="13" y="124"/>
                  </a:lnTo>
                  <a:lnTo>
                    <a:pt x="8" y="124"/>
                  </a:lnTo>
                  <a:lnTo>
                    <a:pt x="4" y="120"/>
                  </a:lnTo>
                  <a:lnTo>
                    <a:pt x="0" y="115"/>
                  </a:lnTo>
                  <a:lnTo>
                    <a:pt x="27" y="93"/>
                  </a:lnTo>
                  <a:lnTo>
                    <a:pt x="49" y="61"/>
                  </a:lnTo>
                  <a:lnTo>
                    <a:pt x="63" y="30"/>
                  </a:lnTo>
                  <a:lnTo>
                    <a:pt x="63" y="0"/>
                  </a:lnTo>
                  <a:lnTo>
                    <a:pt x="72" y="39"/>
                  </a:lnTo>
                  <a:lnTo>
                    <a:pt x="59" y="80"/>
                  </a:lnTo>
                  <a:lnTo>
                    <a:pt x="36" y="111"/>
                  </a:lnTo>
                  <a:lnTo>
                    <a:pt x="17" y="124"/>
                  </a:lnTo>
                  <a:close/>
                </a:path>
              </a:pathLst>
            </a:custGeom>
            <a:solidFill>
              <a:srgbClr val="b2330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03520" y="1011240"/>
              <a:ext cx="95760" cy="73440"/>
            </a:xfrm>
            <a:custGeom>
              <a:avLst/>
              <a:gdLst/>
              <a:ahLst/>
              <a:rect l="0" t="0" r="r" b="b"/>
              <a:pathLst>
                <a:path w="266" h="204">
                  <a:moveTo>
                    <a:pt x="8" y="111"/>
                  </a:moveTo>
                  <a:lnTo>
                    <a:pt x="13" y="102"/>
                  </a:lnTo>
                  <a:lnTo>
                    <a:pt x="30" y="84"/>
                  </a:lnTo>
                  <a:lnTo>
                    <a:pt x="61" y="67"/>
                  </a:lnTo>
                  <a:lnTo>
                    <a:pt x="102" y="44"/>
                  </a:lnTo>
                  <a:lnTo>
                    <a:pt x="142" y="30"/>
                  </a:lnTo>
                  <a:lnTo>
                    <a:pt x="186" y="13"/>
                  </a:lnTo>
                  <a:lnTo>
                    <a:pt x="226" y="4"/>
                  </a:lnTo>
                  <a:lnTo>
                    <a:pt x="266" y="0"/>
                  </a:lnTo>
                  <a:lnTo>
                    <a:pt x="235" y="13"/>
                  </a:lnTo>
                  <a:lnTo>
                    <a:pt x="200" y="30"/>
                  </a:lnTo>
                  <a:lnTo>
                    <a:pt x="155" y="48"/>
                  </a:lnTo>
                  <a:lnTo>
                    <a:pt x="115" y="71"/>
                  </a:lnTo>
                  <a:lnTo>
                    <a:pt x="71" y="102"/>
                  </a:lnTo>
                  <a:lnTo>
                    <a:pt x="35" y="128"/>
                  </a:lnTo>
                  <a:lnTo>
                    <a:pt x="13" y="165"/>
                  </a:lnTo>
                  <a:lnTo>
                    <a:pt x="0" y="204"/>
                  </a:lnTo>
                  <a:lnTo>
                    <a:pt x="0" y="173"/>
                  </a:lnTo>
                  <a:lnTo>
                    <a:pt x="4" y="150"/>
                  </a:lnTo>
                  <a:lnTo>
                    <a:pt x="8" y="128"/>
                  </a:lnTo>
                  <a:lnTo>
                    <a:pt x="8" y="111"/>
                  </a:lnTo>
                  <a:close/>
                </a:path>
              </a:pathLst>
            </a:custGeom>
            <a:solidFill>
              <a:srgbClr val="b2330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86080" y="1176480"/>
              <a:ext cx="105120" cy="41760"/>
            </a:xfrm>
            <a:custGeom>
              <a:avLst/>
              <a:gdLst/>
              <a:ahLst/>
              <a:rect l="0" t="0" r="r" b="b"/>
              <a:pathLst>
                <a:path w="292" h="116">
                  <a:moveTo>
                    <a:pt x="30" y="58"/>
                  </a:moveTo>
                  <a:lnTo>
                    <a:pt x="30" y="45"/>
                  </a:lnTo>
                  <a:lnTo>
                    <a:pt x="22" y="36"/>
                  </a:lnTo>
                  <a:lnTo>
                    <a:pt x="17" y="26"/>
                  </a:lnTo>
                  <a:lnTo>
                    <a:pt x="13" y="22"/>
                  </a:lnTo>
                  <a:lnTo>
                    <a:pt x="13" y="17"/>
                  </a:lnTo>
                  <a:lnTo>
                    <a:pt x="13" y="8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0" y="8"/>
                  </a:lnTo>
                  <a:lnTo>
                    <a:pt x="52" y="22"/>
                  </a:lnTo>
                  <a:lnTo>
                    <a:pt x="70" y="31"/>
                  </a:lnTo>
                  <a:lnTo>
                    <a:pt x="83" y="36"/>
                  </a:lnTo>
                  <a:lnTo>
                    <a:pt x="88" y="36"/>
                  </a:lnTo>
                  <a:lnTo>
                    <a:pt x="101" y="36"/>
                  </a:lnTo>
                  <a:lnTo>
                    <a:pt x="114" y="36"/>
                  </a:lnTo>
                  <a:lnTo>
                    <a:pt x="132" y="36"/>
                  </a:lnTo>
                  <a:lnTo>
                    <a:pt x="150" y="36"/>
                  </a:lnTo>
                  <a:lnTo>
                    <a:pt x="164" y="36"/>
                  </a:lnTo>
                  <a:lnTo>
                    <a:pt x="177" y="36"/>
                  </a:lnTo>
                  <a:lnTo>
                    <a:pt x="190" y="36"/>
                  </a:lnTo>
                  <a:lnTo>
                    <a:pt x="208" y="26"/>
                  </a:lnTo>
                  <a:lnTo>
                    <a:pt x="234" y="22"/>
                  </a:lnTo>
                  <a:lnTo>
                    <a:pt x="252" y="17"/>
                  </a:lnTo>
                  <a:lnTo>
                    <a:pt x="261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78" y="8"/>
                  </a:lnTo>
                  <a:lnTo>
                    <a:pt x="283" y="8"/>
                  </a:lnTo>
                  <a:lnTo>
                    <a:pt x="278" y="36"/>
                  </a:lnTo>
                  <a:lnTo>
                    <a:pt x="278" y="58"/>
                  </a:lnTo>
                  <a:lnTo>
                    <a:pt x="283" y="84"/>
                  </a:lnTo>
                  <a:lnTo>
                    <a:pt x="292" y="103"/>
                  </a:lnTo>
                  <a:lnTo>
                    <a:pt x="292" y="112"/>
                  </a:lnTo>
                  <a:lnTo>
                    <a:pt x="292" y="116"/>
                  </a:lnTo>
                  <a:lnTo>
                    <a:pt x="283" y="116"/>
                  </a:lnTo>
                  <a:lnTo>
                    <a:pt x="274" y="107"/>
                  </a:lnTo>
                  <a:lnTo>
                    <a:pt x="261" y="99"/>
                  </a:lnTo>
                  <a:lnTo>
                    <a:pt x="243" y="84"/>
                  </a:lnTo>
                  <a:lnTo>
                    <a:pt x="221" y="75"/>
                  </a:lnTo>
                  <a:lnTo>
                    <a:pt x="208" y="71"/>
                  </a:lnTo>
                  <a:lnTo>
                    <a:pt x="199" y="71"/>
                  </a:lnTo>
                  <a:lnTo>
                    <a:pt x="186" y="71"/>
                  </a:lnTo>
                  <a:lnTo>
                    <a:pt x="172" y="71"/>
                  </a:lnTo>
                  <a:lnTo>
                    <a:pt x="155" y="71"/>
                  </a:lnTo>
                  <a:lnTo>
                    <a:pt x="136" y="71"/>
                  </a:lnTo>
                  <a:lnTo>
                    <a:pt x="123" y="71"/>
                  </a:lnTo>
                  <a:lnTo>
                    <a:pt x="114" y="71"/>
                  </a:lnTo>
                  <a:lnTo>
                    <a:pt x="101" y="71"/>
                  </a:lnTo>
                  <a:lnTo>
                    <a:pt x="88" y="71"/>
                  </a:lnTo>
                  <a:lnTo>
                    <a:pt x="70" y="75"/>
                  </a:lnTo>
                  <a:lnTo>
                    <a:pt x="57" y="80"/>
                  </a:lnTo>
                  <a:lnTo>
                    <a:pt x="48" y="84"/>
                  </a:lnTo>
                  <a:lnTo>
                    <a:pt x="44" y="94"/>
                  </a:lnTo>
                  <a:lnTo>
                    <a:pt x="35" y="99"/>
                  </a:lnTo>
                  <a:lnTo>
                    <a:pt x="30" y="107"/>
                  </a:lnTo>
                  <a:lnTo>
                    <a:pt x="26" y="112"/>
                  </a:lnTo>
                  <a:lnTo>
                    <a:pt x="17" y="112"/>
                  </a:lnTo>
                  <a:lnTo>
                    <a:pt x="13" y="112"/>
                  </a:lnTo>
                  <a:lnTo>
                    <a:pt x="8" y="112"/>
                  </a:lnTo>
                  <a:lnTo>
                    <a:pt x="0" y="112"/>
                  </a:lnTo>
                  <a:lnTo>
                    <a:pt x="13" y="99"/>
                  </a:lnTo>
                  <a:lnTo>
                    <a:pt x="17" y="84"/>
                  </a:lnTo>
                  <a:lnTo>
                    <a:pt x="26" y="71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b233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65320" y="630360"/>
              <a:ext cx="757440" cy="757440"/>
            </a:xfrm>
            <a:custGeom>
              <a:avLst/>
              <a:gdLst/>
              <a:ahLst/>
              <a:rect l="0" t="0" r="r" b="b"/>
              <a:pathLst>
                <a:path w="2104" h="2104">
                  <a:moveTo>
                    <a:pt x="282" y="396"/>
                  </a:moveTo>
                  <a:lnTo>
                    <a:pt x="317" y="357"/>
                  </a:lnTo>
                  <a:lnTo>
                    <a:pt x="357" y="317"/>
                  </a:lnTo>
                  <a:lnTo>
                    <a:pt x="396" y="282"/>
                  </a:lnTo>
                  <a:lnTo>
                    <a:pt x="436" y="251"/>
                  </a:lnTo>
                  <a:lnTo>
                    <a:pt x="480" y="220"/>
                  </a:lnTo>
                  <a:lnTo>
                    <a:pt x="529" y="189"/>
                  </a:lnTo>
                  <a:lnTo>
                    <a:pt x="577" y="163"/>
                  </a:lnTo>
                  <a:lnTo>
                    <a:pt x="626" y="141"/>
                  </a:lnTo>
                  <a:lnTo>
                    <a:pt x="670" y="114"/>
                  </a:lnTo>
                  <a:lnTo>
                    <a:pt x="723" y="97"/>
                  </a:lnTo>
                  <a:lnTo>
                    <a:pt x="776" y="79"/>
                  </a:lnTo>
                  <a:lnTo>
                    <a:pt x="829" y="66"/>
                  </a:lnTo>
                  <a:lnTo>
                    <a:pt x="886" y="57"/>
                  </a:lnTo>
                  <a:lnTo>
                    <a:pt x="943" y="48"/>
                  </a:lnTo>
                  <a:lnTo>
                    <a:pt x="996" y="44"/>
                  </a:lnTo>
                  <a:lnTo>
                    <a:pt x="1054" y="44"/>
                  </a:lnTo>
                  <a:lnTo>
                    <a:pt x="1112" y="44"/>
                  </a:lnTo>
                  <a:lnTo>
                    <a:pt x="1169" y="48"/>
                  </a:lnTo>
                  <a:lnTo>
                    <a:pt x="1226" y="57"/>
                  </a:lnTo>
                  <a:lnTo>
                    <a:pt x="1279" y="66"/>
                  </a:lnTo>
                  <a:lnTo>
                    <a:pt x="1337" y="79"/>
                  </a:lnTo>
                  <a:lnTo>
                    <a:pt x="1385" y="97"/>
                  </a:lnTo>
                  <a:lnTo>
                    <a:pt x="1438" y="114"/>
                  </a:lnTo>
                  <a:lnTo>
                    <a:pt x="1491" y="141"/>
                  </a:lnTo>
                  <a:lnTo>
                    <a:pt x="1539" y="163"/>
                  </a:lnTo>
                  <a:lnTo>
                    <a:pt x="1584" y="189"/>
                  </a:lnTo>
                  <a:lnTo>
                    <a:pt x="1632" y="220"/>
                  </a:lnTo>
                  <a:lnTo>
                    <a:pt x="1672" y="251"/>
                  </a:lnTo>
                  <a:lnTo>
                    <a:pt x="1716" y="282"/>
                  </a:lnTo>
                  <a:lnTo>
                    <a:pt x="1756" y="317"/>
                  </a:lnTo>
                  <a:lnTo>
                    <a:pt x="1795" y="357"/>
                  </a:lnTo>
                  <a:lnTo>
                    <a:pt x="1831" y="401"/>
                  </a:lnTo>
                  <a:lnTo>
                    <a:pt x="1839" y="401"/>
                  </a:lnTo>
                  <a:lnTo>
                    <a:pt x="1857" y="401"/>
                  </a:lnTo>
                  <a:lnTo>
                    <a:pt x="1870" y="405"/>
                  </a:lnTo>
                  <a:lnTo>
                    <a:pt x="1883" y="405"/>
                  </a:lnTo>
                  <a:lnTo>
                    <a:pt x="1844" y="361"/>
                  </a:lnTo>
                  <a:lnTo>
                    <a:pt x="1804" y="317"/>
                  </a:lnTo>
                  <a:lnTo>
                    <a:pt x="1764" y="277"/>
                  </a:lnTo>
                  <a:lnTo>
                    <a:pt x="1716" y="238"/>
                  </a:lnTo>
                  <a:lnTo>
                    <a:pt x="1672" y="202"/>
                  </a:lnTo>
                  <a:lnTo>
                    <a:pt x="1623" y="167"/>
                  </a:lnTo>
                  <a:lnTo>
                    <a:pt x="1575" y="141"/>
                  </a:lnTo>
                  <a:lnTo>
                    <a:pt x="1522" y="110"/>
                  </a:lnTo>
                  <a:lnTo>
                    <a:pt x="1469" y="83"/>
                  </a:lnTo>
                  <a:lnTo>
                    <a:pt x="1412" y="66"/>
                  </a:lnTo>
                  <a:lnTo>
                    <a:pt x="1359" y="44"/>
                  </a:lnTo>
                  <a:lnTo>
                    <a:pt x="1301" y="30"/>
                  </a:lnTo>
                  <a:lnTo>
                    <a:pt x="1240" y="17"/>
                  </a:lnTo>
                  <a:lnTo>
                    <a:pt x="1178" y="8"/>
                  </a:lnTo>
                  <a:lnTo>
                    <a:pt x="1116" y="4"/>
                  </a:lnTo>
                  <a:lnTo>
                    <a:pt x="1054" y="0"/>
                  </a:lnTo>
                  <a:lnTo>
                    <a:pt x="943" y="8"/>
                  </a:lnTo>
                  <a:lnTo>
                    <a:pt x="842" y="22"/>
                  </a:lnTo>
                  <a:lnTo>
                    <a:pt x="745" y="48"/>
                  </a:lnTo>
                  <a:lnTo>
                    <a:pt x="643" y="83"/>
                  </a:lnTo>
                  <a:lnTo>
                    <a:pt x="555" y="127"/>
                  </a:lnTo>
                  <a:lnTo>
                    <a:pt x="467" y="180"/>
                  </a:lnTo>
                  <a:lnTo>
                    <a:pt x="383" y="242"/>
                  </a:lnTo>
                  <a:lnTo>
                    <a:pt x="308" y="308"/>
                  </a:lnTo>
                  <a:lnTo>
                    <a:pt x="242" y="383"/>
                  </a:lnTo>
                  <a:lnTo>
                    <a:pt x="180" y="463"/>
                  </a:lnTo>
                  <a:lnTo>
                    <a:pt x="127" y="551"/>
                  </a:lnTo>
                  <a:lnTo>
                    <a:pt x="83" y="643"/>
                  </a:lnTo>
                  <a:lnTo>
                    <a:pt x="48" y="740"/>
                  </a:lnTo>
                  <a:lnTo>
                    <a:pt x="22" y="837"/>
                  </a:lnTo>
                  <a:lnTo>
                    <a:pt x="8" y="943"/>
                  </a:lnTo>
                  <a:lnTo>
                    <a:pt x="0" y="1054"/>
                  </a:lnTo>
                  <a:lnTo>
                    <a:pt x="8" y="1160"/>
                  </a:lnTo>
                  <a:lnTo>
                    <a:pt x="22" y="1266"/>
                  </a:lnTo>
                  <a:lnTo>
                    <a:pt x="48" y="1363"/>
                  </a:lnTo>
                  <a:lnTo>
                    <a:pt x="83" y="1460"/>
                  </a:lnTo>
                  <a:lnTo>
                    <a:pt x="127" y="1553"/>
                  </a:lnTo>
                  <a:lnTo>
                    <a:pt x="180" y="1641"/>
                  </a:lnTo>
                  <a:lnTo>
                    <a:pt x="242" y="1720"/>
                  </a:lnTo>
                  <a:lnTo>
                    <a:pt x="308" y="1795"/>
                  </a:lnTo>
                  <a:lnTo>
                    <a:pt x="383" y="1861"/>
                  </a:lnTo>
                  <a:lnTo>
                    <a:pt x="467" y="1923"/>
                  </a:lnTo>
                  <a:lnTo>
                    <a:pt x="555" y="1976"/>
                  </a:lnTo>
                  <a:lnTo>
                    <a:pt x="643" y="2020"/>
                  </a:lnTo>
                  <a:lnTo>
                    <a:pt x="745" y="2055"/>
                  </a:lnTo>
                  <a:lnTo>
                    <a:pt x="842" y="2082"/>
                  </a:lnTo>
                  <a:lnTo>
                    <a:pt x="943" y="2095"/>
                  </a:lnTo>
                  <a:lnTo>
                    <a:pt x="1054" y="2104"/>
                  </a:lnTo>
                  <a:lnTo>
                    <a:pt x="1160" y="2095"/>
                  </a:lnTo>
                  <a:lnTo>
                    <a:pt x="1266" y="2082"/>
                  </a:lnTo>
                  <a:lnTo>
                    <a:pt x="1368" y="2055"/>
                  </a:lnTo>
                  <a:lnTo>
                    <a:pt x="1460" y="2020"/>
                  </a:lnTo>
                  <a:lnTo>
                    <a:pt x="1553" y="1976"/>
                  </a:lnTo>
                  <a:lnTo>
                    <a:pt x="1641" y="1923"/>
                  </a:lnTo>
                  <a:lnTo>
                    <a:pt x="1720" y="1861"/>
                  </a:lnTo>
                  <a:lnTo>
                    <a:pt x="1795" y="1795"/>
                  </a:lnTo>
                  <a:lnTo>
                    <a:pt x="1861" y="1720"/>
                  </a:lnTo>
                  <a:lnTo>
                    <a:pt x="1923" y="1641"/>
                  </a:lnTo>
                  <a:lnTo>
                    <a:pt x="1976" y="1553"/>
                  </a:lnTo>
                  <a:lnTo>
                    <a:pt x="2020" y="1460"/>
                  </a:lnTo>
                  <a:lnTo>
                    <a:pt x="2055" y="1363"/>
                  </a:lnTo>
                  <a:lnTo>
                    <a:pt x="2082" y="1266"/>
                  </a:lnTo>
                  <a:lnTo>
                    <a:pt x="2095" y="1160"/>
                  </a:lnTo>
                  <a:lnTo>
                    <a:pt x="2104" y="1054"/>
                  </a:lnTo>
                  <a:lnTo>
                    <a:pt x="2100" y="961"/>
                  </a:lnTo>
                  <a:lnTo>
                    <a:pt x="2086" y="873"/>
                  </a:lnTo>
                  <a:lnTo>
                    <a:pt x="2073" y="789"/>
                  </a:lnTo>
                  <a:lnTo>
                    <a:pt x="2047" y="705"/>
                  </a:lnTo>
                  <a:lnTo>
                    <a:pt x="2011" y="626"/>
                  </a:lnTo>
                  <a:lnTo>
                    <a:pt x="1976" y="546"/>
                  </a:lnTo>
                  <a:lnTo>
                    <a:pt x="1928" y="476"/>
                  </a:lnTo>
                  <a:lnTo>
                    <a:pt x="1883" y="405"/>
                  </a:lnTo>
                  <a:lnTo>
                    <a:pt x="1870" y="405"/>
                  </a:lnTo>
                  <a:lnTo>
                    <a:pt x="1853" y="405"/>
                  </a:lnTo>
                  <a:lnTo>
                    <a:pt x="1839" y="405"/>
                  </a:lnTo>
                  <a:lnTo>
                    <a:pt x="1831" y="405"/>
                  </a:lnTo>
                  <a:lnTo>
                    <a:pt x="1813" y="401"/>
                  </a:lnTo>
                  <a:lnTo>
                    <a:pt x="1800" y="396"/>
                  </a:lnTo>
                  <a:lnTo>
                    <a:pt x="1778" y="392"/>
                  </a:lnTo>
                  <a:lnTo>
                    <a:pt x="1764" y="388"/>
                  </a:lnTo>
                  <a:lnTo>
                    <a:pt x="1773" y="401"/>
                  </a:lnTo>
                  <a:lnTo>
                    <a:pt x="1791" y="414"/>
                  </a:lnTo>
                  <a:lnTo>
                    <a:pt x="1813" y="436"/>
                  </a:lnTo>
                  <a:lnTo>
                    <a:pt x="1835" y="463"/>
                  </a:lnTo>
                  <a:lnTo>
                    <a:pt x="1861" y="489"/>
                  </a:lnTo>
                  <a:lnTo>
                    <a:pt x="1883" y="511"/>
                  </a:lnTo>
                  <a:lnTo>
                    <a:pt x="1897" y="529"/>
                  </a:lnTo>
                  <a:lnTo>
                    <a:pt x="1905" y="542"/>
                  </a:lnTo>
                  <a:lnTo>
                    <a:pt x="1910" y="560"/>
                  </a:lnTo>
                  <a:lnTo>
                    <a:pt x="1910" y="573"/>
                  </a:lnTo>
                  <a:lnTo>
                    <a:pt x="1905" y="582"/>
                  </a:lnTo>
                  <a:lnTo>
                    <a:pt x="1892" y="577"/>
                  </a:lnTo>
                  <a:lnTo>
                    <a:pt x="1870" y="568"/>
                  </a:lnTo>
                  <a:lnTo>
                    <a:pt x="1853" y="555"/>
                  </a:lnTo>
                  <a:lnTo>
                    <a:pt x="1835" y="542"/>
                  </a:lnTo>
                  <a:lnTo>
                    <a:pt x="1826" y="529"/>
                  </a:lnTo>
                  <a:lnTo>
                    <a:pt x="1831" y="542"/>
                  </a:lnTo>
                  <a:lnTo>
                    <a:pt x="1839" y="560"/>
                  </a:lnTo>
                  <a:lnTo>
                    <a:pt x="1853" y="577"/>
                  </a:lnTo>
                  <a:lnTo>
                    <a:pt x="1870" y="590"/>
                  </a:lnTo>
                  <a:lnTo>
                    <a:pt x="1888" y="608"/>
                  </a:lnTo>
                  <a:lnTo>
                    <a:pt x="1905" y="621"/>
                  </a:lnTo>
                  <a:lnTo>
                    <a:pt x="1919" y="630"/>
                  </a:lnTo>
                  <a:lnTo>
                    <a:pt x="1932" y="635"/>
                  </a:lnTo>
                  <a:lnTo>
                    <a:pt x="1945" y="648"/>
                  </a:lnTo>
                  <a:lnTo>
                    <a:pt x="1954" y="661"/>
                  </a:lnTo>
                  <a:lnTo>
                    <a:pt x="1950" y="674"/>
                  </a:lnTo>
                  <a:lnTo>
                    <a:pt x="1936" y="674"/>
                  </a:lnTo>
                  <a:lnTo>
                    <a:pt x="1919" y="665"/>
                  </a:lnTo>
                  <a:lnTo>
                    <a:pt x="1892" y="648"/>
                  </a:lnTo>
                  <a:lnTo>
                    <a:pt x="1879" y="635"/>
                  </a:lnTo>
                  <a:lnTo>
                    <a:pt x="1870" y="626"/>
                  </a:lnTo>
                  <a:lnTo>
                    <a:pt x="1875" y="643"/>
                  </a:lnTo>
                  <a:lnTo>
                    <a:pt x="1888" y="661"/>
                  </a:lnTo>
                  <a:lnTo>
                    <a:pt x="1905" y="683"/>
                  </a:lnTo>
                  <a:lnTo>
                    <a:pt x="1928" y="705"/>
                  </a:lnTo>
                  <a:lnTo>
                    <a:pt x="1945" y="727"/>
                  </a:lnTo>
                  <a:lnTo>
                    <a:pt x="1963" y="749"/>
                  </a:lnTo>
                  <a:lnTo>
                    <a:pt x="1980" y="767"/>
                  </a:lnTo>
                  <a:lnTo>
                    <a:pt x="1994" y="784"/>
                  </a:lnTo>
                  <a:lnTo>
                    <a:pt x="2011" y="820"/>
                  </a:lnTo>
                  <a:lnTo>
                    <a:pt x="2016" y="851"/>
                  </a:lnTo>
                  <a:lnTo>
                    <a:pt x="2011" y="868"/>
                  </a:lnTo>
                  <a:lnTo>
                    <a:pt x="1989" y="851"/>
                  </a:lnTo>
                  <a:lnTo>
                    <a:pt x="1976" y="837"/>
                  </a:lnTo>
                  <a:lnTo>
                    <a:pt x="1958" y="820"/>
                  </a:lnTo>
                  <a:lnTo>
                    <a:pt x="1941" y="806"/>
                  </a:lnTo>
                  <a:lnTo>
                    <a:pt x="1928" y="798"/>
                  </a:lnTo>
                  <a:lnTo>
                    <a:pt x="1923" y="793"/>
                  </a:lnTo>
                  <a:lnTo>
                    <a:pt x="1914" y="798"/>
                  </a:lnTo>
                  <a:lnTo>
                    <a:pt x="1914" y="802"/>
                  </a:lnTo>
                  <a:lnTo>
                    <a:pt x="1919" y="811"/>
                  </a:lnTo>
                  <a:lnTo>
                    <a:pt x="1932" y="829"/>
                  </a:lnTo>
                  <a:lnTo>
                    <a:pt x="1963" y="859"/>
                  </a:lnTo>
                  <a:lnTo>
                    <a:pt x="1989" y="895"/>
                  </a:lnTo>
                  <a:lnTo>
                    <a:pt x="2007" y="917"/>
                  </a:lnTo>
                  <a:lnTo>
                    <a:pt x="2016" y="939"/>
                  </a:lnTo>
                  <a:lnTo>
                    <a:pt x="2016" y="961"/>
                  </a:lnTo>
                  <a:lnTo>
                    <a:pt x="2003" y="970"/>
                  </a:lnTo>
                  <a:lnTo>
                    <a:pt x="1976" y="956"/>
                  </a:lnTo>
                  <a:lnTo>
                    <a:pt x="1963" y="939"/>
                  </a:lnTo>
                  <a:lnTo>
                    <a:pt x="1954" y="921"/>
                  </a:lnTo>
                  <a:lnTo>
                    <a:pt x="1936" y="908"/>
                  </a:lnTo>
                  <a:lnTo>
                    <a:pt x="1923" y="895"/>
                  </a:lnTo>
                  <a:lnTo>
                    <a:pt x="1905" y="881"/>
                  </a:lnTo>
                  <a:lnTo>
                    <a:pt x="1888" y="873"/>
                  </a:lnTo>
                  <a:lnTo>
                    <a:pt x="1870" y="868"/>
                  </a:lnTo>
                  <a:lnTo>
                    <a:pt x="1853" y="864"/>
                  </a:lnTo>
                  <a:lnTo>
                    <a:pt x="1875" y="886"/>
                  </a:lnTo>
                  <a:lnTo>
                    <a:pt x="1897" y="908"/>
                  </a:lnTo>
                  <a:lnTo>
                    <a:pt x="1923" y="934"/>
                  </a:lnTo>
                  <a:lnTo>
                    <a:pt x="1945" y="956"/>
                  </a:lnTo>
                  <a:lnTo>
                    <a:pt x="1963" y="983"/>
                  </a:lnTo>
                  <a:lnTo>
                    <a:pt x="1985" y="1005"/>
                  </a:lnTo>
                  <a:lnTo>
                    <a:pt x="1998" y="1027"/>
                  </a:lnTo>
                  <a:lnTo>
                    <a:pt x="2003" y="1045"/>
                  </a:lnTo>
                  <a:lnTo>
                    <a:pt x="2011" y="1076"/>
                  </a:lnTo>
                  <a:lnTo>
                    <a:pt x="2020" y="1107"/>
                  </a:lnTo>
                  <a:lnTo>
                    <a:pt x="2011" y="1121"/>
                  </a:lnTo>
                  <a:lnTo>
                    <a:pt x="1989" y="1099"/>
                  </a:lnTo>
                  <a:lnTo>
                    <a:pt x="1972" y="1072"/>
                  </a:lnTo>
                  <a:lnTo>
                    <a:pt x="1950" y="1040"/>
                  </a:lnTo>
                  <a:lnTo>
                    <a:pt x="1928" y="1018"/>
                  </a:lnTo>
                  <a:lnTo>
                    <a:pt x="1901" y="996"/>
                  </a:lnTo>
                  <a:lnTo>
                    <a:pt x="1875" y="978"/>
                  </a:lnTo>
                  <a:lnTo>
                    <a:pt x="1853" y="961"/>
                  </a:lnTo>
                  <a:lnTo>
                    <a:pt x="1831" y="948"/>
                  </a:lnTo>
                  <a:lnTo>
                    <a:pt x="1813" y="939"/>
                  </a:lnTo>
                  <a:lnTo>
                    <a:pt x="1831" y="961"/>
                  </a:lnTo>
                  <a:lnTo>
                    <a:pt x="1857" y="992"/>
                  </a:lnTo>
                  <a:lnTo>
                    <a:pt x="1883" y="1018"/>
                  </a:lnTo>
                  <a:lnTo>
                    <a:pt x="1910" y="1049"/>
                  </a:lnTo>
                  <a:lnTo>
                    <a:pt x="1932" y="1081"/>
                  </a:lnTo>
                  <a:lnTo>
                    <a:pt x="1958" y="1107"/>
                  </a:lnTo>
                  <a:lnTo>
                    <a:pt x="1976" y="1134"/>
                  </a:lnTo>
                  <a:lnTo>
                    <a:pt x="1989" y="1156"/>
                  </a:lnTo>
                  <a:lnTo>
                    <a:pt x="2003" y="1187"/>
                  </a:lnTo>
                  <a:lnTo>
                    <a:pt x="2007" y="1218"/>
                  </a:lnTo>
                  <a:lnTo>
                    <a:pt x="2003" y="1231"/>
                  </a:lnTo>
                  <a:lnTo>
                    <a:pt x="1976" y="1204"/>
                  </a:lnTo>
                  <a:lnTo>
                    <a:pt x="1958" y="1178"/>
                  </a:lnTo>
                  <a:lnTo>
                    <a:pt x="1936" y="1151"/>
                  </a:lnTo>
                  <a:lnTo>
                    <a:pt x="1910" y="1125"/>
                  </a:lnTo>
                  <a:lnTo>
                    <a:pt x="1888" y="1103"/>
                  </a:lnTo>
                  <a:lnTo>
                    <a:pt x="1861" y="1081"/>
                  </a:lnTo>
                  <a:lnTo>
                    <a:pt x="1839" y="1063"/>
                  </a:lnTo>
                  <a:lnTo>
                    <a:pt x="1817" y="1049"/>
                  </a:lnTo>
                  <a:lnTo>
                    <a:pt x="1800" y="1040"/>
                  </a:lnTo>
                  <a:lnTo>
                    <a:pt x="1822" y="1063"/>
                  </a:lnTo>
                  <a:lnTo>
                    <a:pt x="1848" y="1094"/>
                  </a:lnTo>
                  <a:lnTo>
                    <a:pt x="1870" y="1125"/>
                  </a:lnTo>
                  <a:lnTo>
                    <a:pt x="1897" y="1156"/>
                  </a:lnTo>
                  <a:lnTo>
                    <a:pt x="1923" y="1187"/>
                  </a:lnTo>
                  <a:lnTo>
                    <a:pt x="1941" y="1213"/>
                  </a:lnTo>
                  <a:lnTo>
                    <a:pt x="1958" y="1235"/>
                  </a:lnTo>
                  <a:lnTo>
                    <a:pt x="1967" y="1253"/>
                  </a:lnTo>
                  <a:lnTo>
                    <a:pt x="1976" y="1284"/>
                  </a:lnTo>
                  <a:lnTo>
                    <a:pt x="1972" y="1301"/>
                  </a:lnTo>
                  <a:lnTo>
                    <a:pt x="1958" y="1306"/>
                  </a:lnTo>
                  <a:lnTo>
                    <a:pt x="1932" y="1279"/>
                  </a:lnTo>
                  <a:lnTo>
                    <a:pt x="1919" y="1253"/>
                  </a:lnTo>
                  <a:lnTo>
                    <a:pt x="1901" y="1231"/>
                  </a:lnTo>
                  <a:lnTo>
                    <a:pt x="1883" y="1204"/>
                  </a:lnTo>
                  <a:lnTo>
                    <a:pt x="1861" y="1178"/>
                  </a:lnTo>
                  <a:lnTo>
                    <a:pt x="1844" y="1156"/>
                  </a:lnTo>
                  <a:lnTo>
                    <a:pt x="1822" y="1134"/>
                  </a:lnTo>
                  <a:lnTo>
                    <a:pt x="1804" y="1125"/>
                  </a:lnTo>
                  <a:lnTo>
                    <a:pt x="1786" y="1116"/>
                  </a:lnTo>
                  <a:lnTo>
                    <a:pt x="1813" y="1156"/>
                  </a:lnTo>
                  <a:lnTo>
                    <a:pt x="1839" y="1191"/>
                  </a:lnTo>
                  <a:lnTo>
                    <a:pt x="1861" y="1226"/>
                  </a:lnTo>
                  <a:lnTo>
                    <a:pt x="1883" y="1262"/>
                  </a:lnTo>
                  <a:lnTo>
                    <a:pt x="1905" y="1293"/>
                  </a:lnTo>
                  <a:lnTo>
                    <a:pt x="1919" y="1319"/>
                  </a:lnTo>
                  <a:lnTo>
                    <a:pt x="1932" y="1345"/>
                  </a:lnTo>
                  <a:lnTo>
                    <a:pt x="1941" y="1363"/>
                  </a:lnTo>
                  <a:lnTo>
                    <a:pt x="1954" y="1407"/>
                  </a:lnTo>
                  <a:lnTo>
                    <a:pt x="1954" y="1451"/>
                  </a:lnTo>
                  <a:lnTo>
                    <a:pt x="1941" y="1465"/>
                  </a:lnTo>
                  <a:lnTo>
                    <a:pt x="1905" y="1416"/>
                  </a:lnTo>
                  <a:lnTo>
                    <a:pt x="1883" y="1372"/>
                  </a:lnTo>
                  <a:lnTo>
                    <a:pt x="1866" y="1337"/>
                  </a:lnTo>
                  <a:lnTo>
                    <a:pt x="1844" y="1301"/>
                  </a:lnTo>
                  <a:lnTo>
                    <a:pt x="1822" y="1266"/>
                  </a:lnTo>
                  <a:lnTo>
                    <a:pt x="1800" y="1240"/>
                  </a:lnTo>
                  <a:lnTo>
                    <a:pt x="1773" y="1218"/>
                  </a:lnTo>
                  <a:lnTo>
                    <a:pt x="1751" y="1196"/>
                  </a:lnTo>
                  <a:lnTo>
                    <a:pt x="1729" y="1182"/>
                  </a:lnTo>
                  <a:lnTo>
                    <a:pt x="1756" y="1226"/>
                  </a:lnTo>
                  <a:lnTo>
                    <a:pt x="1786" y="1271"/>
                  </a:lnTo>
                  <a:lnTo>
                    <a:pt x="1813" y="1315"/>
                  </a:lnTo>
                  <a:lnTo>
                    <a:pt x="1839" y="1354"/>
                  </a:lnTo>
                  <a:lnTo>
                    <a:pt x="1857" y="1394"/>
                  </a:lnTo>
                  <a:lnTo>
                    <a:pt x="1879" y="1425"/>
                  </a:lnTo>
                  <a:lnTo>
                    <a:pt x="1888" y="1456"/>
                  </a:lnTo>
                  <a:lnTo>
                    <a:pt x="1892" y="1473"/>
                  </a:lnTo>
                  <a:lnTo>
                    <a:pt x="1897" y="1504"/>
                  </a:lnTo>
                  <a:lnTo>
                    <a:pt x="1897" y="1531"/>
                  </a:lnTo>
                  <a:lnTo>
                    <a:pt x="1883" y="1535"/>
                  </a:lnTo>
                  <a:lnTo>
                    <a:pt x="1857" y="1504"/>
                  </a:lnTo>
                  <a:lnTo>
                    <a:pt x="1844" y="1473"/>
                  </a:lnTo>
                  <a:lnTo>
                    <a:pt x="1826" y="1447"/>
                  </a:lnTo>
                  <a:lnTo>
                    <a:pt x="1813" y="1425"/>
                  </a:lnTo>
                  <a:lnTo>
                    <a:pt x="1800" y="1403"/>
                  </a:lnTo>
                  <a:lnTo>
                    <a:pt x="1791" y="1385"/>
                  </a:lnTo>
                  <a:lnTo>
                    <a:pt x="1782" y="1372"/>
                  </a:lnTo>
                  <a:lnTo>
                    <a:pt x="1773" y="1359"/>
                  </a:lnTo>
                  <a:lnTo>
                    <a:pt x="1764" y="1350"/>
                  </a:lnTo>
                  <a:lnTo>
                    <a:pt x="1782" y="1407"/>
                  </a:lnTo>
                  <a:lnTo>
                    <a:pt x="1813" y="1478"/>
                  </a:lnTo>
                  <a:lnTo>
                    <a:pt x="1835" y="1548"/>
                  </a:lnTo>
                  <a:lnTo>
                    <a:pt x="1848" y="1597"/>
                  </a:lnTo>
                  <a:lnTo>
                    <a:pt x="1848" y="1632"/>
                  </a:lnTo>
                  <a:lnTo>
                    <a:pt x="1835" y="1659"/>
                  </a:lnTo>
                  <a:lnTo>
                    <a:pt x="1822" y="1667"/>
                  </a:lnTo>
                  <a:lnTo>
                    <a:pt x="1808" y="1628"/>
                  </a:lnTo>
                  <a:lnTo>
                    <a:pt x="1800" y="1592"/>
                  </a:lnTo>
                  <a:lnTo>
                    <a:pt x="1782" y="1548"/>
                  </a:lnTo>
                  <a:lnTo>
                    <a:pt x="1760" y="1509"/>
                  </a:lnTo>
                  <a:lnTo>
                    <a:pt x="1738" y="1465"/>
                  </a:lnTo>
                  <a:lnTo>
                    <a:pt x="1711" y="1420"/>
                  </a:lnTo>
                  <a:lnTo>
                    <a:pt x="1685" y="1385"/>
                  </a:lnTo>
                  <a:lnTo>
                    <a:pt x="1659" y="1359"/>
                  </a:lnTo>
                  <a:lnTo>
                    <a:pt x="1637" y="1341"/>
                  </a:lnTo>
                  <a:lnTo>
                    <a:pt x="1654" y="1372"/>
                  </a:lnTo>
                  <a:lnTo>
                    <a:pt x="1672" y="1407"/>
                  </a:lnTo>
                  <a:lnTo>
                    <a:pt x="1694" y="1456"/>
                  </a:lnTo>
                  <a:lnTo>
                    <a:pt x="1720" y="1504"/>
                  </a:lnTo>
                  <a:lnTo>
                    <a:pt x="1742" y="1548"/>
                  </a:lnTo>
                  <a:lnTo>
                    <a:pt x="1764" y="1592"/>
                  </a:lnTo>
                  <a:lnTo>
                    <a:pt x="1778" y="1632"/>
                  </a:lnTo>
                  <a:lnTo>
                    <a:pt x="1786" y="1659"/>
                  </a:lnTo>
                  <a:lnTo>
                    <a:pt x="1786" y="1698"/>
                  </a:lnTo>
                  <a:lnTo>
                    <a:pt x="1778" y="1720"/>
                  </a:lnTo>
                  <a:lnTo>
                    <a:pt x="1764" y="1716"/>
                  </a:lnTo>
                  <a:lnTo>
                    <a:pt x="1747" y="1667"/>
                  </a:lnTo>
                  <a:lnTo>
                    <a:pt x="1734" y="1632"/>
                  </a:lnTo>
                  <a:lnTo>
                    <a:pt x="1716" y="1588"/>
                  </a:lnTo>
                  <a:lnTo>
                    <a:pt x="1689" y="1539"/>
                  </a:lnTo>
                  <a:lnTo>
                    <a:pt x="1659" y="1491"/>
                  </a:lnTo>
                  <a:lnTo>
                    <a:pt x="1632" y="1447"/>
                  </a:lnTo>
                  <a:lnTo>
                    <a:pt x="1606" y="1407"/>
                  </a:lnTo>
                  <a:lnTo>
                    <a:pt x="1584" y="1381"/>
                  </a:lnTo>
                  <a:lnTo>
                    <a:pt x="1562" y="1359"/>
                  </a:lnTo>
                  <a:lnTo>
                    <a:pt x="1592" y="1420"/>
                  </a:lnTo>
                  <a:lnTo>
                    <a:pt x="1619" y="1469"/>
                  </a:lnTo>
                  <a:lnTo>
                    <a:pt x="1645" y="1517"/>
                  </a:lnTo>
                  <a:lnTo>
                    <a:pt x="1663" y="1562"/>
                  </a:lnTo>
                  <a:lnTo>
                    <a:pt x="1681" y="1597"/>
                  </a:lnTo>
                  <a:lnTo>
                    <a:pt x="1694" y="1632"/>
                  </a:lnTo>
                  <a:lnTo>
                    <a:pt x="1703" y="1659"/>
                  </a:lnTo>
                  <a:lnTo>
                    <a:pt x="1707" y="1681"/>
                  </a:lnTo>
                  <a:lnTo>
                    <a:pt x="1711" y="1716"/>
                  </a:lnTo>
                  <a:lnTo>
                    <a:pt x="1703" y="1747"/>
                  </a:lnTo>
                  <a:lnTo>
                    <a:pt x="1694" y="1756"/>
                  </a:lnTo>
                  <a:lnTo>
                    <a:pt x="1681" y="1720"/>
                  </a:lnTo>
                  <a:lnTo>
                    <a:pt x="1672" y="1689"/>
                  </a:lnTo>
                  <a:lnTo>
                    <a:pt x="1663" y="1659"/>
                  </a:lnTo>
                  <a:lnTo>
                    <a:pt x="1645" y="1628"/>
                  </a:lnTo>
                  <a:lnTo>
                    <a:pt x="1632" y="1601"/>
                  </a:lnTo>
                  <a:lnTo>
                    <a:pt x="1619" y="1575"/>
                  </a:lnTo>
                  <a:lnTo>
                    <a:pt x="1601" y="1557"/>
                  </a:lnTo>
                  <a:lnTo>
                    <a:pt x="1584" y="1544"/>
                  </a:lnTo>
                  <a:lnTo>
                    <a:pt x="1575" y="1535"/>
                  </a:lnTo>
                  <a:lnTo>
                    <a:pt x="1606" y="1601"/>
                  </a:lnTo>
                  <a:lnTo>
                    <a:pt x="1628" y="1667"/>
                  </a:lnTo>
                  <a:lnTo>
                    <a:pt x="1645" y="1729"/>
                  </a:lnTo>
                  <a:lnTo>
                    <a:pt x="1650" y="1773"/>
                  </a:lnTo>
                  <a:lnTo>
                    <a:pt x="1645" y="1813"/>
                  </a:lnTo>
                  <a:lnTo>
                    <a:pt x="1641" y="1835"/>
                  </a:lnTo>
                  <a:lnTo>
                    <a:pt x="1632" y="1835"/>
                  </a:lnTo>
                  <a:lnTo>
                    <a:pt x="1619" y="1795"/>
                  </a:lnTo>
                  <a:lnTo>
                    <a:pt x="1610" y="1764"/>
                  </a:lnTo>
                  <a:lnTo>
                    <a:pt x="1597" y="1729"/>
                  </a:lnTo>
                  <a:lnTo>
                    <a:pt x="1584" y="1703"/>
                  </a:lnTo>
                  <a:lnTo>
                    <a:pt x="1575" y="1672"/>
                  </a:lnTo>
                  <a:lnTo>
                    <a:pt x="1557" y="1650"/>
                  </a:lnTo>
                  <a:lnTo>
                    <a:pt x="1544" y="1632"/>
                  </a:lnTo>
                  <a:lnTo>
                    <a:pt x="1531" y="1619"/>
                  </a:lnTo>
                  <a:lnTo>
                    <a:pt x="1522" y="1610"/>
                  </a:lnTo>
                  <a:lnTo>
                    <a:pt x="1548" y="1672"/>
                  </a:lnTo>
                  <a:lnTo>
                    <a:pt x="1566" y="1738"/>
                  </a:lnTo>
                  <a:lnTo>
                    <a:pt x="1584" y="1800"/>
                  </a:lnTo>
                  <a:lnTo>
                    <a:pt x="1588" y="1844"/>
                  </a:lnTo>
                  <a:lnTo>
                    <a:pt x="1584" y="1870"/>
                  </a:lnTo>
                  <a:lnTo>
                    <a:pt x="1575" y="1883"/>
                  </a:lnTo>
                  <a:lnTo>
                    <a:pt x="1562" y="1875"/>
                  </a:lnTo>
                  <a:lnTo>
                    <a:pt x="1553" y="1835"/>
                  </a:lnTo>
                  <a:lnTo>
                    <a:pt x="1544" y="1786"/>
                  </a:lnTo>
                  <a:lnTo>
                    <a:pt x="1526" y="1751"/>
                  </a:lnTo>
                  <a:lnTo>
                    <a:pt x="1509" y="1729"/>
                  </a:lnTo>
                  <a:lnTo>
                    <a:pt x="1487" y="1711"/>
                  </a:lnTo>
                  <a:lnTo>
                    <a:pt x="1500" y="1756"/>
                  </a:lnTo>
                  <a:lnTo>
                    <a:pt x="1513" y="1817"/>
                  </a:lnTo>
                  <a:lnTo>
                    <a:pt x="1517" y="1870"/>
                  </a:lnTo>
                  <a:lnTo>
                    <a:pt x="1517" y="1906"/>
                  </a:lnTo>
                  <a:lnTo>
                    <a:pt x="1509" y="1928"/>
                  </a:lnTo>
                  <a:lnTo>
                    <a:pt x="1491" y="1945"/>
                  </a:lnTo>
                  <a:lnTo>
                    <a:pt x="1469" y="1954"/>
                  </a:lnTo>
                  <a:lnTo>
                    <a:pt x="1451" y="1923"/>
                  </a:lnTo>
                  <a:lnTo>
                    <a:pt x="1438" y="1879"/>
                  </a:lnTo>
                  <a:lnTo>
                    <a:pt x="1425" y="1839"/>
                  </a:lnTo>
                  <a:lnTo>
                    <a:pt x="1407" y="1808"/>
                  </a:lnTo>
                  <a:lnTo>
                    <a:pt x="1390" y="1786"/>
                  </a:lnTo>
                  <a:lnTo>
                    <a:pt x="1398" y="1848"/>
                  </a:lnTo>
                  <a:lnTo>
                    <a:pt x="1403" y="1906"/>
                  </a:lnTo>
                  <a:lnTo>
                    <a:pt x="1394" y="1954"/>
                  </a:lnTo>
                  <a:lnTo>
                    <a:pt x="1381" y="1985"/>
                  </a:lnTo>
                  <a:lnTo>
                    <a:pt x="1359" y="2003"/>
                  </a:lnTo>
                  <a:lnTo>
                    <a:pt x="1341" y="2011"/>
                  </a:lnTo>
                  <a:lnTo>
                    <a:pt x="1328" y="2003"/>
                  </a:lnTo>
                  <a:lnTo>
                    <a:pt x="1323" y="1980"/>
                  </a:lnTo>
                  <a:lnTo>
                    <a:pt x="1328" y="1945"/>
                  </a:lnTo>
                  <a:lnTo>
                    <a:pt x="1328" y="1914"/>
                  </a:lnTo>
                  <a:lnTo>
                    <a:pt x="1323" y="1888"/>
                  </a:lnTo>
                  <a:lnTo>
                    <a:pt x="1315" y="1870"/>
                  </a:lnTo>
                  <a:lnTo>
                    <a:pt x="1310" y="1914"/>
                  </a:lnTo>
                  <a:lnTo>
                    <a:pt x="1301" y="1967"/>
                  </a:lnTo>
                  <a:lnTo>
                    <a:pt x="1284" y="2016"/>
                  </a:lnTo>
                  <a:lnTo>
                    <a:pt x="1262" y="2038"/>
                  </a:lnTo>
                  <a:lnTo>
                    <a:pt x="1240" y="2038"/>
                  </a:lnTo>
                  <a:lnTo>
                    <a:pt x="1235" y="2016"/>
                  </a:lnTo>
                  <a:lnTo>
                    <a:pt x="1240" y="1985"/>
                  </a:lnTo>
                  <a:lnTo>
                    <a:pt x="1231" y="1950"/>
                  </a:lnTo>
                  <a:lnTo>
                    <a:pt x="1226" y="1972"/>
                  </a:lnTo>
                  <a:lnTo>
                    <a:pt x="1218" y="1994"/>
                  </a:lnTo>
                  <a:lnTo>
                    <a:pt x="1204" y="2011"/>
                  </a:lnTo>
                  <a:lnTo>
                    <a:pt x="1182" y="2033"/>
                  </a:lnTo>
                  <a:lnTo>
                    <a:pt x="1160" y="2047"/>
                  </a:lnTo>
                  <a:lnTo>
                    <a:pt x="1134" y="2060"/>
                  </a:lnTo>
                  <a:lnTo>
                    <a:pt x="1103" y="2064"/>
                  </a:lnTo>
                  <a:lnTo>
                    <a:pt x="1072" y="2069"/>
                  </a:lnTo>
                  <a:lnTo>
                    <a:pt x="1040" y="2069"/>
                  </a:lnTo>
                  <a:lnTo>
                    <a:pt x="1005" y="2069"/>
                  </a:lnTo>
                  <a:lnTo>
                    <a:pt x="974" y="2064"/>
                  </a:lnTo>
                  <a:lnTo>
                    <a:pt x="943" y="2055"/>
                  </a:lnTo>
                  <a:lnTo>
                    <a:pt x="912" y="2042"/>
                  </a:lnTo>
                  <a:lnTo>
                    <a:pt x="895" y="2020"/>
                  </a:lnTo>
                  <a:lnTo>
                    <a:pt x="881" y="1989"/>
                  </a:lnTo>
                  <a:lnTo>
                    <a:pt x="877" y="1950"/>
                  </a:lnTo>
                  <a:lnTo>
                    <a:pt x="859" y="1963"/>
                  </a:lnTo>
                  <a:lnTo>
                    <a:pt x="855" y="1989"/>
                  </a:lnTo>
                  <a:lnTo>
                    <a:pt x="851" y="2016"/>
                  </a:lnTo>
                  <a:lnTo>
                    <a:pt x="846" y="2038"/>
                  </a:lnTo>
                  <a:lnTo>
                    <a:pt x="833" y="2047"/>
                  </a:lnTo>
                  <a:lnTo>
                    <a:pt x="815" y="2038"/>
                  </a:lnTo>
                  <a:lnTo>
                    <a:pt x="793" y="2016"/>
                  </a:lnTo>
                  <a:lnTo>
                    <a:pt x="780" y="1985"/>
                  </a:lnTo>
                  <a:lnTo>
                    <a:pt x="776" y="1941"/>
                  </a:lnTo>
                  <a:lnTo>
                    <a:pt x="776" y="1883"/>
                  </a:lnTo>
                  <a:lnTo>
                    <a:pt x="780" y="1831"/>
                  </a:lnTo>
                  <a:lnTo>
                    <a:pt x="802" y="1800"/>
                  </a:lnTo>
                  <a:lnTo>
                    <a:pt x="776" y="1839"/>
                  </a:lnTo>
                  <a:lnTo>
                    <a:pt x="758" y="1897"/>
                  </a:lnTo>
                  <a:lnTo>
                    <a:pt x="745" y="1950"/>
                  </a:lnTo>
                  <a:lnTo>
                    <a:pt x="732" y="1976"/>
                  </a:lnTo>
                  <a:lnTo>
                    <a:pt x="714" y="1976"/>
                  </a:lnTo>
                  <a:lnTo>
                    <a:pt x="696" y="1967"/>
                  </a:lnTo>
                  <a:lnTo>
                    <a:pt x="683" y="1950"/>
                  </a:lnTo>
                  <a:lnTo>
                    <a:pt x="683" y="1923"/>
                  </a:lnTo>
                  <a:lnTo>
                    <a:pt x="683" y="1883"/>
                  </a:lnTo>
                  <a:lnTo>
                    <a:pt x="683" y="1839"/>
                  </a:lnTo>
                  <a:lnTo>
                    <a:pt x="696" y="1800"/>
                  </a:lnTo>
                  <a:lnTo>
                    <a:pt x="718" y="1773"/>
                  </a:lnTo>
                  <a:lnTo>
                    <a:pt x="687" y="1800"/>
                  </a:lnTo>
                  <a:lnTo>
                    <a:pt x="661" y="1839"/>
                  </a:lnTo>
                  <a:lnTo>
                    <a:pt x="648" y="1892"/>
                  </a:lnTo>
                  <a:lnTo>
                    <a:pt x="643" y="1941"/>
                  </a:lnTo>
                  <a:lnTo>
                    <a:pt x="639" y="1963"/>
                  </a:lnTo>
                  <a:lnTo>
                    <a:pt x="626" y="1963"/>
                  </a:lnTo>
                  <a:lnTo>
                    <a:pt x="608" y="1941"/>
                  </a:lnTo>
                  <a:lnTo>
                    <a:pt x="595" y="1906"/>
                  </a:lnTo>
                  <a:lnTo>
                    <a:pt x="595" y="1857"/>
                  </a:lnTo>
                  <a:lnTo>
                    <a:pt x="599" y="1786"/>
                  </a:lnTo>
                  <a:lnTo>
                    <a:pt x="617" y="1716"/>
                  </a:lnTo>
                  <a:lnTo>
                    <a:pt x="639" y="1667"/>
                  </a:lnTo>
                  <a:lnTo>
                    <a:pt x="599" y="1716"/>
                  </a:lnTo>
                  <a:lnTo>
                    <a:pt x="573" y="1769"/>
                  </a:lnTo>
                  <a:lnTo>
                    <a:pt x="555" y="1822"/>
                  </a:lnTo>
                  <a:lnTo>
                    <a:pt x="546" y="1861"/>
                  </a:lnTo>
                  <a:lnTo>
                    <a:pt x="533" y="1888"/>
                  </a:lnTo>
                  <a:lnTo>
                    <a:pt x="515" y="1892"/>
                  </a:lnTo>
                  <a:lnTo>
                    <a:pt x="498" y="1879"/>
                  </a:lnTo>
                  <a:lnTo>
                    <a:pt x="489" y="1835"/>
                  </a:lnTo>
                  <a:lnTo>
                    <a:pt x="498" y="1773"/>
                  </a:lnTo>
                  <a:lnTo>
                    <a:pt x="524" y="1707"/>
                  </a:lnTo>
                  <a:lnTo>
                    <a:pt x="555" y="1654"/>
                  </a:lnTo>
                  <a:lnTo>
                    <a:pt x="582" y="1619"/>
                  </a:lnTo>
                  <a:lnTo>
                    <a:pt x="560" y="1632"/>
                  </a:lnTo>
                  <a:lnTo>
                    <a:pt x="537" y="1645"/>
                  </a:lnTo>
                  <a:lnTo>
                    <a:pt x="520" y="1667"/>
                  </a:lnTo>
                  <a:lnTo>
                    <a:pt x="498" y="1694"/>
                  </a:lnTo>
                  <a:lnTo>
                    <a:pt x="480" y="1725"/>
                  </a:lnTo>
                  <a:lnTo>
                    <a:pt x="467" y="1751"/>
                  </a:lnTo>
                  <a:lnTo>
                    <a:pt x="458" y="1773"/>
                  </a:lnTo>
                  <a:lnTo>
                    <a:pt x="454" y="1791"/>
                  </a:lnTo>
                  <a:lnTo>
                    <a:pt x="445" y="1813"/>
                  </a:lnTo>
                  <a:lnTo>
                    <a:pt x="423" y="1813"/>
                  </a:lnTo>
                  <a:lnTo>
                    <a:pt x="414" y="1791"/>
                  </a:lnTo>
                  <a:lnTo>
                    <a:pt x="423" y="1738"/>
                  </a:lnTo>
                  <a:lnTo>
                    <a:pt x="432" y="1703"/>
                  </a:lnTo>
                  <a:lnTo>
                    <a:pt x="445" y="1667"/>
                  </a:lnTo>
                  <a:lnTo>
                    <a:pt x="458" y="1632"/>
                  </a:lnTo>
                  <a:lnTo>
                    <a:pt x="471" y="1601"/>
                  </a:lnTo>
                  <a:lnTo>
                    <a:pt x="480" y="1575"/>
                  </a:lnTo>
                  <a:lnTo>
                    <a:pt x="493" y="1548"/>
                  </a:lnTo>
                  <a:lnTo>
                    <a:pt x="511" y="1531"/>
                  </a:lnTo>
                  <a:lnTo>
                    <a:pt x="529" y="1517"/>
                  </a:lnTo>
                  <a:lnTo>
                    <a:pt x="498" y="1544"/>
                  </a:lnTo>
                  <a:lnTo>
                    <a:pt x="471" y="1570"/>
                  </a:lnTo>
                  <a:lnTo>
                    <a:pt x="445" y="1597"/>
                  </a:lnTo>
                  <a:lnTo>
                    <a:pt x="427" y="1628"/>
                  </a:lnTo>
                  <a:lnTo>
                    <a:pt x="410" y="1654"/>
                  </a:lnTo>
                  <a:lnTo>
                    <a:pt x="401" y="1681"/>
                  </a:lnTo>
                  <a:lnTo>
                    <a:pt x="388" y="1703"/>
                  </a:lnTo>
                  <a:lnTo>
                    <a:pt x="383" y="1720"/>
                  </a:lnTo>
                  <a:lnTo>
                    <a:pt x="374" y="1738"/>
                  </a:lnTo>
                  <a:lnTo>
                    <a:pt x="357" y="1734"/>
                  </a:lnTo>
                  <a:lnTo>
                    <a:pt x="352" y="1707"/>
                  </a:lnTo>
                  <a:lnTo>
                    <a:pt x="357" y="1667"/>
                  </a:lnTo>
                  <a:lnTo>
                    <a:pt x="370" y="1628"/>
                  </a:lnTo>
                  <a:lnTo>
                    <a:pt x="374" y="1588"/>
                  </a:lnTo>
                  <a:lnTo>
                    <a:pt x="383" y="1562"/>
                  </a:lnTo>
                  <a:lnTo>
                    <a:pt x="396" y="1544"/>
                  </a:lnTo>
                  <a:lnTo>
                    <a:pt x="366" y="1570"/>
                  </a:lnTo>
                  <a:lnTo>
                    <a:pt x="339" y="1606"/>
                  </a:lnTo>
                  <a:lnTo>
                    <a:pt x="317" y="1637"/>
                  </a:lnTo>
                  <a:lnTo>
                    <a:pt x="304" y="1667"/>
                  </a:lnTo>
                  <a:lnTo>
                    <a:pt x="291" y="1681"/>
                  </a:lnTo>
                  <a:lnTo>
                    <a:pt x="282" y="1672"/>
                  </a:lnTo>
                  <a:lnTo>
                    <a:pt x="268" y="1650"/>
                  </a:lnTo>
                  <a:lnTo>
                    <a:pt x="268" y="1614"/>
                  </a:lnTo>
                  <a:lnTo>
                    <a:pt x="286" y="1570"/>
                  </a:lnTo>
                  <a:lnTo>
                    <a:pt x="308" y="1526"/>
                  </a:lnTo>
                  <a:lnTo>
                    <a:pt x="330" y="1487"/>
                  </a:lnTo>
                  <a:lnTo>
                    <a:pt x="357" y="1465"/>
                  </a:lnTo>
                  <a:lnTo>
                    <a:pt x="339" y="1473"/>
                  </a:lnTo>
                  <a:lnTo>
                    <a:pt x="317" y="1487"/>
                  </a:lnTo>
                  <a:lnTo>
                    <a:pt x="299" y="1504"/>
                  </a:lnTo>
                  <a:lnTo>
                    <a:pt x="282" y="1517"/>
                  </a:lnTo>
                  <a:lnTo>
                    <a:pt x="268" y="1535"/>
                  </a:lnTo>
                  <a:lnTo>
                    <a:pt x="255" y="1548"/>
                  </a:lnTo>
                  <a:lnTo>
                    <a:pt x="246" y="1562"/>
                  </a:lnTo>
                  <a:lnTo>
                    <a:pt x="238" y="1575"/>
                  </a:lnTo>
                  <a:lnTo>
                    <a:pt x="224" y="1579"/>
                  </a:lnTo>
                  <a:lnTo>
                    <a:pt x="211" y="1566"/>
                  </a:lnTo>
                  <a:lnTo>
                    <a:pt x="211" y="1539"/>
                  </a:lnTo>
                  <a:lnTo>
                    <a:pt x="216" y="1513"/>
                  </a:lnTo>
                  <a:lnTo>
                    <a:pt x="220" y="1500"/>
                  </a:lnTo>
                  <a:lnTo>
                    <a:pt x="233" y="1478"/>
                  </a:lnTo>
                  <a:lnTo>
                    <a:pt x="246" y="1456"/>
                  </a:lnTo>
                  <a:lnTo>
                    <a:pt x="255" y="1434"/>
                  </a:lnTo>
                  <a:lnTo>
                    <a:pt x="273" y="1407"/>
                  </a:lnTo>
                  <a:lnTo>
                    <a:pt x="291" y="1385"/>
                  </a:lnTo>
                  <a:lnTo>
                    <a:pt x="308" y="1368"/>
                  </a:lnTo>
                  <a:lnTo>
                    <a:pt x="330" y="1354"/>
                  </a:lnTo>
                  <a:lnTo>
                    <a:pt x="304" y="1363"/>
                  </a:lnTo>
                  <a:lnTo>
                    <a:pt x="282" y="1372"/>
                  </a:lnTo>
                  <a:lnTo>
                    <a:pt x="264" y="1385"/>
                  </a:lnTo>
                  <a:lnTo>
                    <a:pt x="246" y="1403"/>
                  </a:lnTo>
                  <a:lnTo>
                    <a:pt x="229" y="1420"/>
                  </a:lnTo>
                  <a:lnTo>
                    <a:pt x="216" y="1434"/>
                  </a:lnTo>
                  <a:lnTo>
                    <a:pt x="202" y="1447"/>
                  </a:lnTo>
                  <a:lnTo>
                    <a:pt x="194" y="1465"/>
                  </a:lnTo>
                  <a:lnTo>
                    <a:pt x="176" y="1478"/>
                  </a:lnTo>
                  <a:lnTo>
                    <a:pt x="163" y="1478"/>
                  </a:lnTo>
                  <a:lnTo>
                    <a:pt x="149" y="1456"/>
                  </a:lnTo>
                  <a:lnTo>
                    <a:pt x="163" y="1425"/>
                  </a:lnTo>
                  <a:lnTo>
                    <a:pt x="185" y="1385"/>
                  </a:lnTo>
                  <a:lnTo>
                    <a:pt x="198" y="1354"/>
                  </a:lnTo>
                  <a:lnTo>
                    <a:pt x="211" y="1328"/>
                  </a:lnTo>
                  <a:lnTo>
                    <a:pt x="229" y="1315"/>
                  </a:lnTo>
                  <a:lnTo>
                    <a:pt x="202" y="1328"/>
                  </a:lnTo>
                  <a:lnTo>
                    <a:pt x="180" y="1341"/>
                  </a:lnTo>
                  <a:lnTo>
                    <a:pt x="163" y="1359"/>
                  </a:lnTo>
                  <a:lnTo>
                    <a:pt x="141" y="1385"/>
                  </a:lnTo>
                  <a:lnTo>
                    <a:pt x="127" y="1394"/>
                  </a:lnTo>
                  <a:lnTo>
                    <a:pt x="114" y="1381"/>
                  </a:lnTo>
                  <a:lnTo>
                    <a:pt x="114" y="1354"/>
                  </a:lnTo>
                  <a:lnTo>
                    <a:pt x="127" y="1323"/>
                  </a:lnTo>
                  <a:lnTo>
                    <a:pt x="141" y="1293"/>
                  </a:lnTo>
                  <a:lnTo>
                    <a:pt x="154" y="1262"/>
                  </a:lnTo>
                  <a:lnTo>
                    <a:pt x="171" y="1226"/>
                  </a:lnTo>
                  <a:lnTo>
                    <a:pt x="198" y="1200"/>
                  </a:lnTo>
                  <a:lnTo>
                    <a:pt x="167" y="1218"/>
                  </a:lnTo>
                  <a:lnTo>
                    <a:pt x="141" y="1240"/>
                  </a:lnTo>
                  <a:lnTo>
                    <a:pt x="123" y="1257"/>
                  </a:lnTo>
                  <a:lnTo>
                    <a:pt x="110" y="1275"/>
                  </a:lnTo>
                  <a:lnTo>
                    <a:pt x="101" y="1275"/>
                  </a:lnTo>
                  <a:lnTo>
                    <a:pt x="92" y="1257"/>
                  </a:lnTo>
                  <a:lnTo>
                    <a:pt x="92" y="1231"/>
                  </a:lnTo>
                  <a:lnTo>
                    <a:pt x="105" y="1204"/>
                  </a:lnTo>
                  <a:lnTo>
                    <a:pt x="127" y="1169"/>
                  </a:lnTo>
                  <a:lnTo>
                    <a:pt x="149" y="1138"/>
                  </a:lnTo>
                  <a:lnTo>
                    <a:pt x="176" y="1112"/>
                  </a:lnTo>
                  <a:lnTo>
                    <a:pt x="198" y="1094"/>
                  </a:lnTo>
                  <a:lnTo>
                    <a:pt x="171" y="1099"/>
                  </a:lnTo>
                  <a:lnTo>
                    <a:pt x="149" y="1107"/>
                  </a:lnTo>
                  <a:lnTo>
                    <a:pt x="127" y="1116"/>
                  </a:lnTo>
                  <a:lnTo>
                    <a:pt x="110" y="1129"/>
                  </a:lnTo>
                  <a:lnTo>
                    <a:pt x="92" y="1138"/>
                  </a:lnTo>
                  <a:lnTo>
                    <a:pt x="79" y="1129"/>
                  </a:lnTo>
                  <a:lnTo>
                    <a:pt x="74" y="1103"/>
                  </a:lnTo>
                  <a:lnTo>
                    <a:pt x="92" y="1072"/>
                  </a:lnTo>
                  <a:lnTo>
                    <a:pt x="105" y="1054"/>
                  </a:lnTo>
                  <a:lnTo>
                    <a:pt x="119" y="1040"/>
                  </a:lnTo>
                  <a:lnTo>
                    <a:pt x="127" y="1027"/>
                  </a:lnTo>
                  <a:lnTo>
                    <a:pt x="141" y="1014"/>
                  </a:lnTo>
                  <a:lnTo>
                    <a:pt x="149" y="1005"/>
                  </a:lnTo>
                  <a:lnTo>
                    <a:pt x="163" y="992"/>
                  </a:lnTo>
                  <a:lnTo>
                    <a:pt x="176" y="983"/>
                  </a:lnTo>
                  <a:lnTo>
                    <a:pt x="198" y="974"/>
                  </a:lnTo>
                  <a:lnTo>
                    <a:pt x="176" y="978"/>
                  </a:lnTo>
                  <a:lnTo>
                    <a:pt x="163" y="978"/>
                  </a:lnTo>
                  <a:lnTo>
                    <a:pt x="149" y="983"/>
                  </a:lnTo>
                  <a:lnTo>
                    <a:pt x="136" y="987"/>
                  </a:lnTo>
                  <a:lnTo>
                    <a:pt x="123" y="992"/>
                  </a:lnTo>
                  <a:lnTo>
                    <a:pt x="114" y="996"/>
                  </a:lnTo>
                  <a:lnTo>
                    <a:pt x="105" y="1005"/>
                  </a:lnTo>
                  <a:lnTo>
                    <a:pt x="97" y="1014"/>
                  </a:lnTo>
                  <a:lnTo>
                    <a:pt x="79" y="1018"/>
                  </a:lnTo>
                  <a:lnTo>
                    <a:pt x="66" y="1005"/>
                  </a:lnTo>
                  <a:lnTo>
                    <a:pt x="66" y="983"/>
                  </a:lnTo>
                  <a:lnTo>
                    <a:pt x="92" y="952"/>
                  </a:lnTo>
                  <a:lnTo>
                    <a:pt x="105" y="934"/>
                  </a:lnTo>
                  <a:lnTo>
                    <a:pt x="119" y="921"/>
                  </a:lnTo>
                  <a:lnTo>
                    <a:pt x="136" y="912"/>
                  </a:lnTo>
                  <a:lnTo>
                    <a:pt x="149" y="903"/>
                  </a:lnTo>
                  <a:lnTo>
                    <a:pt x="163" y="895"/>
                  </a:lnTo>
                  <a:lnTo>
                    <a:pt x="176" y="886"/>
                  </a:lnTo>
                  <a:lnTo>
                    <a:pt x="185" y="881"/>
                  </a:lnTo>
                  <a:lnTo>
                    <a:pt x="198" y="873"/>
                  </a:lnTo>
                  <a:lnTo>
                    <a:pt x="185" y="873"/>
                  </a:lnTo>
                  <a:lnTo>
                    <a:pt x="171" y="873"/>
                  </a:lnTo>
                  <a:lnTo>
                    <a:pt x="158" y="873"/>
                  </a:lnTo>
                  <a:lnTo>
                    <a:pt x="145" y="877"/>
                  </a:lnTo>
                  <a:lnTo>
                    <a:pt x="136" y="877"/>
                  </a:lnTo>
                  <a:lnTo>
                    <a:pt x="123" y="881"/>
                  </a:lnTo>
                  <a:lnTo>
                    <a:pt x="114" y="886"/>
                  </a:lnTo>
                  <a:lnTo>
                    <a:pt x="101" y="890"/>
                  </a:lnTo>
                  <a:lnTo>
                    <a:pt x="83" y="890"/>
                  </a:lnTo>
                  <a:lnTo>
                    <a:pt x="70" y="873"/>
                  </a:lnTo>
                  <a:lnTo>
                    <a:pt x="74" y="842"/>
                  </a:lnTo>
                  <a:lnTo>
                    <a:pt x="101" y="802"/>
                  </a:lnTo>
                  <a:lnTo>
                    <a:pt x="119" y="784"/>
                  </a:lnTo>
                  <a:lnTo>
                    <a:pt x="141" y="767"/>
                  </a:lnTo>
                  <a:lnTo>
                    <a:pt x="158" y="754"/>
                  </a:lnTo>
                  <a:lnTo>
                    <a:pt x="176" y="736"/>
                  </a:lnTo>
                  <a:lnTo>
                    <a:pt x="194" y="723"/>
                  </a:lnTo>
                  <a:lnTo>
                    <a:pt x="211" y="709"/>
                  </a:lnTo>
                  <a:lnTo>
                    <a:pt x="233" y="701"/>
                  </a:lnTo>
                  <a:lnTo>
                    <a:pt x="255" y="692"/>
                  </a:lnTo>
                  <a:lnTo>
                    <a:pt x="233" y="696"/>
                  </a:lnTo>
                  <a:lnTo>
                    <a:pt x="216" y="701"/>
                  </a:lnTo>
                  <a:lnTo>
                    <a:pt x="198" y="705"/>
                  </a:lnTo>
                  <a:lnTo>
                    <a:pt x="185" y="709"/>
                  </a:lnTo>
                  <a:lnTo>
                    <a:pt x="171" y="714"/>
                  </a:lnTo>
                  <a:lnTo>
                    <a:pt x="158" y="718"/>
                  </a:lnTo>
                  <a:lnTo>
                    <a:pt x="145" y="723"/>
                  </a:lnTo>
                  <a:lnTo>
                    <a:pt x="136" y="732"/>
                  </a:lnTo>
                  <a:lnTo>
                    <a:pt x="127" y="718"/>
                  </a:lnTo>
                  <a:lnTo>
                    <a:pt x="127" y="687"/>
                  </a:lnTo>
                  <a:lnTo>
                    <a:pt x="149" y="648"/>
                  </a:lnTo>
                  <a:lnTo>
                    <a:pt x="176" y="612"/>
                  </a:lnTo>
                  <a:lnTo>
                    <a:pt x="207" y="595"/>
                  </a:lnTo>
                  <a:lnTo>
                    <a:pt x="229" y="577"/>
                  </a:lnTo>
                  <a:lnTo>
                    <a:pt x="246" y="568"/>
                  </a:lnTo>
                  <a:lnTo>
                    <a:pt x="268" y="564"/>
                  </a:lnTo>
                  <a:lnTo>
                    <a:pt x="233" y="568"/>
                  </a:lnTo>
                  <a:lnTo>
                    <a:pt x="211" y="577"/>
                  </a:lnTo>
                  <a:lnTo>
                    <a:pt x="189" y="577"/>
                  </a:lnTo>
                  <a:lnTo>
                    <a:pt x="180" y="564"/>
                  </a:lnTo>
                  <a:lnTo>
                    <a:pt x="185" y="555"/>
                  </a:lnTo>
                  <a:lnTo>
                    <a:pt x="194" y="533"/>
                  </a:lnTo>
                  <a:lnTo>
                    <a:pt x="211" y="507"/>
                  </a:lnTo>
                  <a:lnTo>
                    <a:pt x="242" y="480"/>
                  </a:lnTo>
                  <a:lnTo>
                    <a:pt x="268" y="454"/>
                  </a:lnTo>
                  <a:lnTo>
                    <a:pt x="308" y="432"/>
                  </a:lnTo>
                  <a:lnTo>
                    <a:pt x="348" y="414"/>
                  </a:lnTo>
                  <a:lnTo>
                    <a:pt x="388" y="405"/>
                  </a:lnTo>
                  <a:lnTo>
                    <a:pt x="370" y="401"/>
                  </a:lnTo>
                  <a:lnTo>
                    <a:pt x="352" y="401"/>
                  </a:lnTo>
                  <a:lnTo>
                    <a:pt x="339" y="401"/>
                  </a:lnTo>
                  <a:lnTo>
                    <a:pt x="330" y="401"/>
                  </a:lnTo>
                  <a:lnTo>
                    <a:pt x="317" y="401"/>
                  </a:lnTo>
                  <a:lnTo>
                    <a:pt x="304" y="396"/>
                  </a:lnTo>
                  <a:lnTo>
                    <a:pt x="291" y="396"/>
                  </a:lnTo>
                  <a:lnTo>
                    <a:pt x="282" y="396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74920" y="1155600"/>
              <a:ext cx="114840" cy="25920"/>
            </a:xfrm>
            <a:custGeom>
              <a:avLst/>
              <a:gdLst/>
              <a:ahLst/>
              <a:rect l="0" t="0" r="r" b="b"/>
              <a:pathLst>
                <a:path w="319" h="72">
                  <a:moveTo>
                    <a:pt x="0" y="0"/>
                  </a:moveTo>
                  <a:lnTo>
                    <a:pt x="4" y="0"/>
                  </a:lnTo>
                  <a:lnTo>
                    <a:pt x="22" y="11"/>
                  </a:lnTo>
                  <a:lnTo>
                    <a:pt x="44" y="17"/>
                  </a:lnTo>
                  <a:lnTo>
                    <a:pt x="70" y="24"/>
                  </a:lnTo>
                  <a:lnTo>
                    <a:pt x="98" y="42"/>
                  </a:lnTo>
                  <a:lnTo>
                    <a:pt x="120" y="48"/>
                  </a:lnTo>
                  <a:lnTo>
                    <a:pt x="133" y="60"/>
                  </a:lnTo>
                  <a:lnTo>
                    <a:pt x="146" y="60"/>
                  </a:lnTo>
                  <a:lnTo>
                    <a:pt x="172" y="72"/>
                  </a:lnTo>
                  <a:lnTo>
                    <a:pt x="195" y="72"/>
                  </a:lnTo>
                  <a:lnTo>
                    <a:pt x="208" y="60"/>
                  </a:lnTo>
                  <a:lnTo>
                    <a:pt x="230" y="60"/>
                  </a:lnTo>
                  <a:lnTo>
                    <a:pt x="234" y="53"/>
                  </a:lnTo>
                  <a:lnTo>
                    <a:pt x="248" y="48"/>
                  </a:lnTo>
                  <a:lnTo>
                    <a:pt x="262" y="42"/>
                  </a:lnTo>
                  <a:lnTo>
                    <a:pt x="279" y="24"/>
                  </a:lnTo>
                  <a:lnTo>
                    <a:pt x="297" y="17"/>
                  </a:lnTo>
                  <a:lnTo>
                    <a:pt x="310" y="11"/>
                  </a:lnTo>
                  <a:lnTo>
                    <a:pt x="315" y="0"/>
                  </a:lnTo>
                  <a:lnTo>
                    <a:pt x="319" y="0"/>
                  </a:lnTo>
                  <a:lnTo>
                    <a:pt x="310" y="5"/>
                  </a:lnTo>
                  <a:lnTo>
                    <a:pt x="293" y="11"/>
                  </a:lnTo>
                  <a:lnTo>
                    <a:pt x="275" y="11"/>
                  </a:lnTo>
                  <a:lnTo>
                    <a:pt x="253" y="17"/>
                  </a:lnTo>
                  <a:lnTo>
                    <a:pt x="225" y="24"/>
                  </a:lnTo>
                  <a:lnTo>
                    <a:pt x="203" y="24"/>
                  </a:lnTo>
                  <a:lnTo>
                    <a:pt x="190" y="24"/>
                  </a:lnTo>
                  <a:lnTo>
                    <a:pt x="181" y="24"/>
                  </a:lnTo>
                  <a:lnTo>
                    <a:pt x="164" y="24"/>
                  </a:lnTo>
                  <a:lnTo>
                    <a:pt x="142" y="24"/>
                  </a:lnTo>
                  <a:lnTo>
                    <a:pt x="115" y="17"/>
                  </a:lnTo>
                  <a:lnTo>
                    <a:pt x="89" y="11"/>
                  </a:lnTo>
                  <a:lnTo>
                    <a:pt x="61" y="11"/>
                  </a:lnTo>
                  <a:lnTo>
                    <a:pt x="39" y="5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5520" y="892080"/>
              <a:ext cx="173520" cy="49680"/>
            </a:xfrm>
            <a:custGeom>
              <a:avLst/>
              <a:gdLst/>
              <a:ahLst/>
              <a:rect l="0" t="0" r="r" b="b"/>
              <a:pathLst>
                <a:path w="482" h="138">
                  <a:moveTo>
                    <a:pt x="478" y="125"/>
                  </a:moveTo>
                  <a:lnTo>
                    <a:pt x="465" y="121"/>
                  </a:lnTo>
                  <a:lnTo>
                    <a:pt x="456" y="112"/>
                  </a:lnTo>
                  <a:lnTo>
                    <a:pt x="442" y="98"/>
                  </a:lnTo>
                  <a:lnTo>
                    <a:pt x="420" y="80"/>
                  </a:lnTo>
                  <a:lnTo>
                    <a:pt x="398" y="62"/>
                  </a:lnTo>
                  <a:lnTo>
                    <a:pt x="372" y="49"/>
                  </a:lnTo>
                  <a:lnTo>
                    <a:pt x="327" y="40"/>
                  </a:lnTo>
                  <a:lnTo>
                    <a:pt x="278" y="36"/>
                  </a:lnTo>
                  <a:lnTo>
                    <a:pt x="256" y="36"/>
                  </a:lnTo>
                  <a:lnTo>
                    <a:pt x="234" y="40"/>
                  </a:lnTo>
                  <a:lnTo>
                    <a:pt x="217" y="40"/>
                  </a:lnTo>
                  <a:lnTo>
                    <a:pt x="195" y="45"/>
                  </a:lnTo>
                  <a:lnTo>
                    <a:pt x="177" y="53"/>
                  </a:lnTo>
                  <a:lnTo>
                    <a:pt x="159" y="62"/>
                  </a:lnTo>
                  <a:lnTo>
                    <a:pt x="146" y="67"/>
                  </a:lnTo>
                  <a:lnTo>
                    <a:pt x="128" y="75"/>
                  </a:lnTo>
                  <a:lnTo>
                    <a:pt x="128" y="75"/>
                  </a:lnTo>
                  <a:lnTo>
                    <a:pt x="124" y="80"/>
                  </a:lnTo>
                  <a:lnTo>
                    <a:pt x="119" y="89"/>
                  </a:lnTo>
                  <a:lnTo>
                    <a:pt x="110" y="89"/>
                  </a:lnTo>
                  <a:lnTo>
                    <a:pt x="110" y="80"/>
                  </a:lnTo>
                  <a:lnTo>
                    <a:pt x="114" y="75"/>
                  </a:lnTo>
                  <a:lnTo>
                    <a:pt x="119" y="67"/>
                  </a:lnTo>
                  <a:lnTo>
                    <a:pt x="124" y="58"/>
                  </a:lnTo>
                  <a:lnTo>
                    <a:pt x="110" y="67"/>
                  </a:lnTo>
                  <a:lnTo>
                    <a:pt x="97" y="80"/>
                  </a:lnTo>
                  <a:lnTo>
                    <a:pt x="83" y="98"/>
                  </a:lnTo>
                  <a:lnTo>
                    <a:pt x="74" y="112"/>
                  </a:lnTo>
                  <a:lnTo>
                    <a:pt x="48" y="125"/>
                  </a:lnTo>
                  <a:lnTo>
                    <a:pt x="26" y="134"/>
                  </a:lnTo>
                  <a:lnTo>
                    <a:pt x="8" y="138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8" y="121"/>
                  </a:lnTo>
                  <a:lnTo>
                    <a:pt x="13" y="112"/>
                  </a:lnTo>
                  <a:lnTo>
                    <a:pt x="22" y="98"/>
                  </a:lnTo>
                  <a:lnTo>
                    <a:pt x="35" y="89"/>
                  </a:lnTo>
                  <a:lnTo>
                    <a:pt x="61" y="75"/>
                  </a:lnTo>
                  <a:lnTo>
                    <a:pt x="88" y="62"/>
                  </a:lnTo>
                  <a:lnTo>
                    <a:pt x="119" y="45"/>
                  </a:lnTo>
                  <a:lnTo>
                    <a:pt x="155" y="26"/>
                  </a:lnTo>
                  <a:lnTo>
                    <a:pt x="195" y="13"/>
                  </a:lnTo>
                  <a:lnTo>
                    <a:pt x="239" y="4"/>
                  </a:lnTo>
                  <a:lnTo>
                    <a:pt x="274" y="0"/>
                  </a:lnTo>
                  <a:lnTo>
                    <a:pt x="300" y="0"/>
                  </a:lnTo>
                  <a:lnTo>
                    <a:pt x="322" y="4"/>
                  </a:lnTo>
                  <a:lnTo>
                    <a:pt x="340" y="4"/>
                  </a:lnTo>
                  <a:lnTo>
                    <a:pt x="358" y="8"/>
                  </a:lnTo>
                  <a:lnTo>
                    <a:pt x="381" y="17"/>
                  </a:lnTo>
                  <a:lnTo>
                    <a:pt x="394" y="22"/>
                  </a:lnTo>
                  <a:lnTo>
                    <a:pt x="407" y="26"/>
                  </a:lnTo>
                  <a:lnTo>
                    <a:pt x="420" y="36"/>
                  </a:lnTo>
                  <a:lnTo>
                    <a:pt x="420" y="26"/>
                  </a:lnTo>
                  <a:lnTo>
                    <a:pt x="416" y="22"/>
                  </a:lnTo>
                  <a:lnTo>
                    <a:pt x="412" y="13"/>
                  </a:lnTo>
                  <a:lnTo>
                    <a:pt x="403" y="0"/>
                  </a:lnTo>
                  <a:lnTo>
                    <a:pt x="416" y="13"/>
                  </a:lnTo>
                  <a:lnTo>
                    <a:pt x="438" y="26"/>
                  </a:lnTo>
                  <a:lnTo>
                    <a:pt x="451" y="40"/>
                  </a:lnTo>
                  <a:lnTo>
                    <a:pt x="465" y="58"/>
                  </a:lnTo>
                  <a:lnTo>
                    <a:pt x="478" y="75"/>
                  </a:lnTo>
                  <a:lnTo>
                    <a:pt x="482" y="93"/>
                  </a:lnTo>
                  <a:lnTo>
                    <a:pt x="482" y="112"/>
                  </a:lnTo>
                  <a:lnTo>
                    <a:pt x="478" y="12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1440" y="932040"/>
              <a:ext cx="49680" cy="43200"/>
            </a:xfrm>
            <a:custGeom>
              <a:avLst/>
              <a:gdLst/>
              <a:ahLst/>
              <a:rect l="0" t="0" r="r" b="b"/>
              <a:pathLst>
                <a:path w="138" h="120">
                  <a:moveTo>
                    <a:pt x="71" y="0"/>
                  </a:moveTo>
                  <a:lnTo>
                    <a:pt x="75" y="30"/>
                  </a:lnTo>
                  <a:lnTo>
                    <a:pt x="67" y="71"/>
                  </a:lnTo>
                  <a:lnTo>
                    <a:pt x="40" y="106"/>
                  </a:lnTo>
                  <a:lnTo>
                    <a:pt x="0" y="120"/>
                  </a:lnTo>
                  <a:lnTo>
                    <a:pt x="26" y="120"/>
                  </a:lnTo>
                  <a:lnTo>
                    <a:pt x="49" y="115"/>
                  </a:lnTo>
                  <a:lnTo>
                    <a:pt x="67" y="106"/>
                  </a:lnTo>
                  <a:lnTo>
                    <a:pt x="84" y="102"/>
                  </a:lnTo>
                  <a:lnTo>
                    <a:pt x="98" y="93"/>
                  </a:lnTo>
                  <a:lnTo>
                    <a:pt x="112" y="80"/>
                  </a:lnTo>
                  <a:lnTo>
                    <a:pt x="125" y="67"/>
                  </a:lnTo>
                  <a:lnTo>
                    <a:pt x="138" y="48"/>
                  </a:lnTo>
                  <a:lnTo>
                    <a:pt x="129" y="35"/>
                  </a:lnTo>
                  <a:lnTo>
                    <a:pt x="112" y="22"/>
                  </a:lnTo>
                  <a:lnTo>
                    <a:pt x="93" y="1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55760" y="934920"/>
              <a:ext cx="38520" cy="39960"/>
            </a:xfrm>
            <a:custGeom>
              <a:avLst/>
              <a:gdLst/>
              <a:ahLst/>
              <a:rect l="0" t="0" r="r" b="b"/>
              <a:pathLst>
                <a:path w="107" h="111">
                  <a:moveTo>
                    <a:pt x="107" y="111"/>
                  </a:moveTo>
                  <a:lnTo>
                    <a:pt x="85" y="98"/>
                  </a:lnTo>
                  <a:lnTo>
                    <a:pt x="62" y="62"/>
                  </a:lnTo>
                  <a:lnTo>
                    <a:pt x="62" y="26"/>
                  </a:lnTo>
                  <a:lnTo>
                    <a:pt x="71" y="0"/>
                  </a:lnTo>
                  <a:lnTo>
                    <a:pt x="49" y="8"/>
                  </a:lnTo>
                  <a:lnTo>
                    <a:pt x="26" y="17"/>
                  </a:lnTo>
                  <a:lnTo>
                    <a:pt x="13" y="26"/>
                  </a:lnTo>
                  <a:lnTo>
                    <a:pt x="0" y="39"/>
                  </a:lnTo>
                  <a:lnTo>
                    <a:pt x="13" y="52"/>
                  </a:lnTo>
                  <a:lnTo>
                    <a:pt x="22" y="62"/>
                  </a:lnTo>
                  <a:lnTo>
                    <a:pt x="36" y="75"/>
                  </a:lnTo>
                  <a:lnTo>
                    <a:pt x="49" y="89"/>
                  </a:lnTo>
                  <a:lnTo>
                    <a:pt x="62" y="98"/>
                  </a:lnTo>
                  <a:lnTo>
                    <a:pt x="71" y="106"/>
                  </a:lnTo>
                  <a:lnTo>
                    <a:pt x="90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00200" y="892080"/>
              <a:ext cx="163800" cy="57600"/>
            </a:xfrm>
            <a:custGeom>
              <a:avLst/>
              <a:gdLst/>
              <a:ahLst/>
              <a:rect l="0" t="0" r="r" b="b"/>
              <a:pathLst>
                <a:path w="455" h="160">
                  <a:moveTo>
                    <a:pt x="424" y="160"/>
                  </a:moveTo>
                  <a:lnTo>
                    <a:pt x="415" y="156"/>
                  </a:lnTo>
                  <a:lnTo>
                    <a:pt x="402" y="147"/>
                  </a:lnTo>
                  <a:lnTo>
                    <a:pt x="389" y="138"/>
                  </a:lnTo>
                  <a:lnTo>
                    <a:pt x="371" y="125"/>
                  </a:lnTo>
                  <a:lnTo>
                    <a:pt x="353" y="111"/>
                  </a:lnTo>
                  <a:lnTo>
                    <a:pt x="340" y="102"/>
                  </a:lnTo>
                  <a:lnTo>
                    <a:pt x="327" y="93"/>
                  </a:lnTo>
                  <a:lnTo>
                    <a:pt x="318" y="84"/>
                  </a:lnTo>
                  <a:lnTo>
                    <a:pt x="314" y="75"/>
                  </a:lnTo>
                  <a:lnTo>
                    <a:pt x="305" y="71"/>
                  </a:lnTo>
                  <a:lnTo>
                    <a:pt x="287" y="62"/>
                  </a:lnTo>
                  <a:lnTo>
                    <a:pt x="274" y="62"/>
                  </a:lnTo>
                  <a:lnTo>
                    <a:pt x="261" y="58"/>
                  </a:lnTo>
                  <a:lnTo>
                    <a:pt x="239" y="53"/>
                  </a:lnTo>
                  <a:lnTo>
                    <a:pt x="224" y="53"/>
                  </a:lnTo>
                  <a:lnTo>
                    <a:pt x="211" y="53"/>
                  </a:lnTo>
                  <a:lnTo>
                    <a:pt x="171" y="53"/>
                  </a:lnTo>
                  <a:lnTo>
                    <a:pt x="141" y="58"/>
                  </a:lnTo>
                  <a:lnTo>
                    <a:pt x="114" y="62"/>
                  </a:lnTo>
                  <a:lnTo>
                    <a:pt x="92" y="75"/>
                  </a:lnTo>
                  <a:lnTo>
                    <a:pt x="70" y="89"/>
                  </a:lnTo>
                  <a:lnTo>
                    <a:pt x="48" y="102"/>
                  </a:lnTo>
                  <a:lnTo>
                    <a:pt x="26" y="125"/>
                  </a:lnTo>
                  <a:lnTo>
                    <a:pt x="0" y="147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0" y="111"/>
                  </a:lnTo>
                  <a:lnTo>
                    <a:pt x="4" y="93"/>
                  </a:lnTo>
                  <a:lnTo>
                    <a:pt x="13" y="67"/>
                  </a:lnTo>
                  <a:lnTo>
                    <a:pt x="22" y="39"/>
                  </a:lnTo>
                  <a:lnTo>
                    <a:pt x="39" y="22"/>
                  </a:lnTo>
                  <a:lnTo>
                    <a:pt x="35" y="39"/>
                  </a:lnTo>
                  <a:lnTo>
                    <a:pt x="30" y="53"/>
                  </a:lnTo>
                  <a:lnTo>
                    <a:pt x="26" y="71"/>
                  </a:lnTo>
                  <a:lnTo>
                    <a:pt x="26" y="80"/>
                  </a:lnTo>
                  <a:lnTo>
                    <a:pt x="39" y="62"/>
                  </a:lnTo>
                  <a:lnTo>
                    <a:pt x="52" y="49"/>
                  </a:lnTo>
                  <a:lnTo>
                    <a:pt x="70" y="35"/>
                  </a:lnTo>
                  <a:lnTo>
                    <a:pt x="92" y="22"/>
                  </a:lnTo>
                  <a:lnTo>
                    <a:pt x="119" y="13"/>
                  </a:lnTo>
                  <a:lnTo>
                    <a:pt x="145" y="4"/>
                  </a:lnTo>
                  <a:lnTo>
                    <a:pt x="176" y="0"/>
                  </a:lnTo>
                  <a:lnTo>
                    <a:pt x="207" y="0"/>
                  </a:lnTo>
                  <a:lnTo>
                    <a:pt x="234" y="4"/>
                  </a:lnTo>
                  <a:lnTo>
                    <a:pt x="261" y="4"/>
                  </a:lnTo>
                  <a:lnTo>
                    <a:pt x="283" y="8"/>
                  </a:lnTo>
                  <a:lnTo>
                    <a:pt x="305" y="17"/>
                  </a:lnTo>
                  <a:lnTo>
                    <a:pt x="318" y="26"/>
                  </a:lnTo>
                  <a:lnTo>
                    <a:pt x="340" y="35"/>
                  </a:lnTo>
                  <a:lnTo>
                    <a:pt x="353" y="45"/>
                  </a:lnTo>
                  <a:lnTo>
                    <a:pt x="367" y="53"/>
                  </a:lnTo>
                  <a:lnTo>
                    <a:pt x="384" y="67"/>
                  </a:lnTo>
                  <a:lnTo>
                    <a:pt x="402" y="80"/>
                  </a:lnTo>
                  <a:lnTo>
                    <a:pt x="415" y="89"/>
                  </a:lnTo>
                  <a:lnTo>
                    <a:pt x="424" y="98"/>
                  </a:lnTo>
                  <a:lnTo>
                    <a:pt x="411" y="89"/>
                  </a:lnTo>
                  <a:lnTo>
                    <a:pt x="393" y="84"/>
                  </a:lnTo>
                  <a:lnTo>
                    <a:pt x="375" y="75"/>
                  </a:lnTo>
                  <a:lnTo>
                    <a:pt x="367" y="71"/>
                  </a:lnTo>
                  <a:lnTo>
                    <a:pt x="389" y="84"/>
                  </a:lnTo>
                  <a:lnTo>
                    <a:pt x="402" y="98"/>
                  </a:lnTo>
                  <a:lnTo>
                    <a:pt x="415" y="111"/>
                  </a:lnTo>
                  <a:lnTo>
                    <a:pt x="424" y="121"/>
                  </a:lnTo>
                  <a:lnTo>
                    <a:pt x="433" y="134"/>
                  </a:lnTo>
                  <a:lnTo>
                    <a:pt x="441" y="143"/>
                  </a:lnTo>
                  <a:lnTo>
                    <a:pt x="450" y="147"/>
                  </a:lnTo>
                  <a:lnTo>
                    <a:pt x="455" y="156"/>
                  </a:lnTo>
                  <a:lnTo>
                    <a:pt x="441" y="147"/>
                  </a:lnTo>
                  <a:lnTo>
                    <a:pt x="433" y="147"/>
                  </a:lnTo>
                  <a:lnTo>
                    <a:pt x="424" y="143"/>
                  </a:lnTo>
                  <a:lnTo>
                    <a:pt x="415" y="134"/>
                  </a:lnTo>
                  <a:lnTo>
                    <a:pt x="419" y="143"/>
                  </a:lnTo>
                  <a:lnTo>
                    <a:pt x="424" y="147"/>
                  </a:lnTo>
                  <a:lnTo>
                    <a:pt x="424" y="156"/>
                  </a:lnTo>
                  <a:lnTo>
                    <a:pt x="424" y="16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11360" y="938160"/>
              <a:ext cx="38520" cy="38520"/>
            </a:xfrm>
            <a:custGeom>
              <a:avLst/>
              <a:gdLst/>
              <a:ahLst/>
              <a:rect l="0" t="0" r="r" b="b"/>
              <a:pathLst>
                <a:path w="107" h="107">
                  <a:moveTo>
                    <a:pt x="62" y="0"/>
                  </a:moveTo>
                  <a:lnTo>
                    <a:pt x="62" y="31"/>
                  </a:lnTo>
                  <a:lnTo>
                    <a:pt x="71" y="62"/>
                  </a:lnTo>
                  <a:lnTo>
                    <a:pt x="85" y="94"/>
                  </a:lnTo>
                  <a:lnTo>
                    <a:pt x="107" y="107"/>
                  </a:lnTo>
                  <a:lnTo>
                    <a:pt x="90" y="103"/>
                  </a:lnTo>
                  <a:lnTo>
                    <a:pt x="75" y="99"/>
                  </a:lnTo>
                  <a:lnTo>
                    <a:pt x="62" y="90"/>
                  </a:lnTo>
                  <a:lnTo>
                    <a:pt x="49" y="81"/>
                  </a:lnTo>
                  <a:lnTo>
                    <a:pt x="40" y="67"/>
                  </a:lnTo>
                  <a:lnTo>
                    <a:pt x="26" y="53"/>
                  </a:lnTo>
                  <a:lnTo>
                    <a:pt x="13" y="45"/>
                  </a:lnTo>
                  <a:lnTo>
                    <a:pt x="0" y="31"/>
                  </a:lnTo>
                  <a:lnTo>
                    <a:pt x="8" y="17"/>
                  </a:lnTo>
                  <a:lnTo>
                    <a:pt x="26" y="8"/>
                  </a:lnTo>
                  <a:lnTo>
                    <a:pt x="45" y="4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01720" y="939960"/>
              <a:ext cx="38520" cy="35280"/>
            </a:xfrm>
            <a:custGeom>
              <a:avLst/>
              <a:gdLst/>
              <a:ahLst/>
              <a:rect l="0" t="0" r="r" b="b"/>
              <a:pathLst>
                <a:path w="107" h="98">
                  <a:moveTo>
                    <a:pt x="53" y="0"/>
                  </a:moveTo>
                  <a:lnTo>
                    <a:pt x="49" y="26"/>
                  </a:lnTo>
                  <a:lnTo>
                    <a:pt x="36" y="58"/>
                  </a:lnTo>
                  <a:lnTo>
                    <a:pt x="22" y="84"/>
                  </a:lnTo>
                  <a:lnTo>
                    <a:pt x="0" y="98"/>
                  </a:lnTo>
                  <a:lnTo>
                    <a:pt x="17" y="98"/>
                  </a:lnTo>
                  <a:lnTo>
                    <a:pt x="36" y="93"/>
                  </a:lnTo>
                  <a:lnTo>
                    <a:pt x="49" y="84"/>
                  </a:lnTo>
                  <a:lnTo>
                    <a:pt x="62" y="84"/>
                  </a:lnTo>
                  <a:lnTo>
                    <a:pt x="75" y="75"/>
                  </a:lnTo>
                  <a:lnTo>
                    <a:pt x="90" y="75"/>
                  </a:lnTo>
                  <a:lnTo>
                    <a:pt x="99" y="71"/>
                  </a:lnTo>
                  <a:lnTo>
                    <a:pt x="107" y="67"/>
                  </a:lnTo>
                  <a:lnTo>
                    <a:pt x="94" y="48"/>
                  </a:lnTo>
                  <a:lnTo>
                    <a:pt x="81" y="26"/>
                  </a:lnTo>
                  <a:lnTo>
                    <a:pt x="67" y="8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44480" y="458640"/>
              <a:ext cx="71640" cy="187560"/>
            </a:xfrm>
            <a:custGeom>
              <a:avLst/>
              <a:gdLst/>
              <a:ahLst/>
              <a:rect l="0" t="0" r="r" b="b"/>
              <a:pathLst>
                <a:path w="199" h="521">
                  <a:moveTo>
                    <a:pt x="199" y="0"/>
                  </a:moveTo>
                  <a:lnTo>
                    <a:pt x="195" y="8"/>
                  </a:lnTo>
                  <a:lnTo>
                    <a:pt x="181" y="35"/>
                  </a:lnTo>
                  <a:lnTo>
                    <a:pt x="168" y="61"/>
                  </a:lnTo>
                  <a:lnTo>
                    <a:pt x="146" y="92"/>
                  </a:lnTo>
                  <a:lnTo>
                    <a:pt x="128" y="127"/>
                  </a:lnTo>
                  <a:lnTo>
                    <a:pt x="111" y="163"/>
                  </a:lnTo>
                  <a:lnTo>
                    <a:pt x="97" y="194"/>
                  </a:lnTo>
                  <a:lnTo>
                    <a:pt x="88" y="224"/>
                  </a:lnTo>
                  <a:lnTo>
                    <a:pt x="74" y="296"/>
                  </a:lnTo>
                  <a:lnTo>
                    <a:pt x="61" y="384"/>
                  </a:lnTo>
                  <a:lnTo>
                    <a:pt x="52" y="468"/>
                  </a:lnTo>
                  <a:lnTo>
                    <a:pt x="44" y="521"/>
                  </a:lnTo>
                  <a:lnTo>
                    <a:pt x="48" y="459"/>
                  </a:lnTo>
                  <a:lnTo>
                    <a:pt x="48" y="406"/>
                  </a:lnTo>
                  <a:lnTo>
                    <a:pt x="48" y="367"/>
                  </a:lnTo>
                  <a:lnTo>
                    <a:pt x="52" y="336"/>
                  </a:lnTo>
                  <a:lnTo>
                    <a:pt x="39" y="380"/>
                  </a:lnTo>
                  <a:lnTo>
                    <a:pt x="26" y="428"/>
                  </a:lnTo>
                  <a:lnTo>
                    <a:pt x="17" y="477"/>
                  </a:lnTo>
                  <a:lnTo>
                    <a:pt x="17" y="512"/>
                  </a:lnTo>
                  <a:lnTo>
                    <a:pt x="17" y="437"/>
                  </a:lnTo>
                  <a:lnTo>
                    <a:pt x="30" y="353"/>
                  </a:lnTo>
                  <a:lnTo>
                    <a:pt x="48" y="278"/>
                  </a:lnTo>
                  <a:lnTo>
                    <a:pt x="66" y="224"/>
                  </a:lnTo>
                  <a:lnTo>
                    <a:pt x="39" y="296"/>
                  </a:lnTo>
                  <a:lnTo>
                    <a:pt x="17" y="349"/>
                  </a:lnTo>
                  <a:lnTo>
                    <a:pt x="8" y="384"/>
                  </a:lnTo>
                  <a:lnTo>
                    <a:pt x="0" y="415"/>
                  </a:lnTo>
                  <a:lnTo>
                    <a:pt x="13" y="344"/>
                  </a:lnTo>
                  <a:lnTo>
                    <a:pt x="26" y="287"/>
                  </a:lnTo>
                  <a:lnTo>
                    <a:pt x="48" y="233"/>
                  </a:lnTo>
                  <a:lnTo>
                    <a:pt x="70" y="185"/>
                  </a:lnTo>
                  <a:lnTo>
                    <a:pt x="102" y="141"/>
                  </a:lnTo>
                  <a:lnTo>
                    <a:pt x="128" y="92"/>
                  </a:lnTo>
                  <a:lnTo>
                    <a:pt x="164" y="44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82640" y="479520"/>
              <a:ext cx="28800" cy="163800"/>
            </a:xfrm>
            <a:custGeom>
              <a:avLst/>
              <a:gdLst/>
              <a:ahLst/>
              <a:rect l="0" t="0" r="r" b="b"/>
              <a:pathLst>
                <a:path w="80" h="455">
                  <a:moveTo>
                    <a:pt x="80" y="0"/>
                  </a:moveTo>
                  <a:lnTo>
                    <a:pt x="67" y="35"/>
                  </a:lnTo>
                  <a:lnTo>
                    <a:pt x="49" y="97"/>
                  </a:lnTo>
                  <a:lnTo>
                    <a:pt x="30" y="154"/>
                  </a:lnTo>
                  <a:lnTo>
                    <a:pt x="22" y="194"/>
                  </a:lnTo>
                  <a:lnTo>
                    <a:pt x="30" y="243"/>
                  </a:lnTo>
                  <a:lnTo>
                    <a:pt x="39" y="322"/>
                  </a:lnTo>
                  <a:lnTo>
                    <a:pt x="45" y="402"/>
                  </a:lnTo>
                  <a:lnTo>
                    <a:pt x="39" y="455"/>
                  </a:lnTo>
                  <a:lnTo>
                    <a:pt x="30" y="397"/>
                  </a:lnTo>
                  <a:lnTo>
                    <a:pt x="17" y="322"/>
                  </a:lnTo>
                  <a:lnTo>
                    <a:pt x="4" y="243"/>
                  </a:lnTo>
                  <a:lnTo>
                    <a:pt x="0" y="189"/>
                  </a:lnTo>
                  <a:lnTo>
                    <a:pt x="13" y="145"/>
                  </a:lnTo>
                  <a:lnTo>
                    <a:pt x="39" y="92"/>
                  </a:lnTo>
                  <a:lnTo>
                    <a:pt x="67" y="35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20800" y="500040"/>
              <a:ext cx="95760" cy="176400"/>
            </a:xfrm>
            <a:custGeom>
              <a:avLst/>
              <a:gdLst/>
              <a:ahLst/>
              <a:rect l="0" t="0" r="r" b="b"/>
              <a:pathLst>
                <a:path w="266" h="490">
                  <a:moveTo>
                    <a:pt x="266" y="0"/>
                  </a:moveTo>
                  <a:lnTo>
                    <a:pt x="253" y="39"/>
                  </a:lnTo>
                  <a:lnTo>
                    <a:pt x="231" y="101"/>
                  </a:lnTo>
                  <a:lnTo>
                    <a:pt x="209" y="176"/>
                  </a:lnTo>
                  <a:lnTo>
                    <a:pt x="181" y="238"/>
                  </a:lnTo>
                  <a:lnTo>
                    <a:pt x="159" y="265"/>
                  </a:lnTo>
                  <a:lnTo>
                    <a:pt x="137" y="300"/>
                  </a:lnTo>
                  <a:lnTo>
                    <a:pt x="111" y="336"/>
                  </a:lnTo>
                  <a:lnTo>
                    <a:pt x="80" y="371"/>
                  </a:lnTo>
                  <a:lnTo>
                    <a:pt x="52" y="402"/>
                  </a:lnTo>
                  <a:lnTo>
                    <a:pt x="30" y="433"/>
                  </a:lnTo>
                  <a:lnTo>
                    <a:pt x="8" y="459"/>
                  </a:lnTo>
                  <a:lnTo>
                    <a:pt x="0" y="477"/>
                  </a:lnTo>
                  <a:lnTo>
                    <a:pt x="22" y="455"/>
                  </a:lnTo>
                  <a:lnTo>
                    <a:pt x="39" y="428"/>
                  </a:lnTo>
                  <a:lnTo>
                    <a:pt x="61" y="411"/>
                  </a:lnTo>
                  <a:lnTo>
                    <a:pt x="80" y="393"/>
                  </a:lnTo>
                  <a:lnTo>
                    <a:pt x="93" y="380"/>
                  </a:lnTo>
                  <a:lnTo>
                    <a:pt x="106" y="362"/>
                  </a:lnTo>
                  <a:lnTo>
                    <a:pt x="115" y="349"/>
                  </a:lnTo>
                  <a:lnTo>
                    <a:pt x="124" y="340"/>
                  </a:lnTo>
                  <a:lnTo>
                    <a:pt x="115" y="358"/>
                  </a:lnTo>
                  <a:lnTo>
                    <a:pt x="102" y="380"/>
                  </a:lnTo>
                  <a:lnTo>
                    <a:pt x="89" y="402"/>
                  </a:lnTo>
                  <a:lnTo>
                    <a:pt x="75" y="424"/>
                  </a:lnTo>
                  <a:lnTo>
                    <a:pt x="61" y="441"/>
                  </a:lnTo>
                  <a:lnTo>
                    <a:pt x="44" y="464"/>
                  </a:lnTo>
                  <a:lnTo>
                    <a:pt x="35" y="477"/>
                  </a:lnTo>
                  <a:lnTo>
                    <a:pt x="26" y="490"/>
                  </a:lnTo>
                  <a:lnTo>
                    <a:pt x="52" y="464"/>
                  </a:lnTo>
                  <a:lnTo>
                    <a:pt x="80" y="433"/>
                  </a:lnTo>
                  <a:lnTo>
                    <a:pt x="102" y="402"/>
                  </a:lnTo>
                  <a:lnTo>
                    <a:pt x="124" y="371"/>
                  </a:lnTo>
                  <a:lnTo>
                    <a:pt x="150" y="336"/>
                  </a:lnTo>
                  <a:lnTo>
                    <a:pt x="168" y="300"/>
                  </a:lnTo>
                  <a:lnTo>
                    <a:pt x="186" y="274"/>
                  </a:lnTo>
                  <a:lnTo>
                    <a:pt x="195" y="252"/>
                  </a:lnTo>
                  <a:lnTo>
                    <a:pt x="159" y="322"/>
                  </a:lnTo>
                  <a:lnTo>
                    <a:pt x="137" y="371"/>
                  </a:lnTo>
                  <a:lnTo>
                    <a:pt x="124" y="406"/>
                  </a:lnTo>
                  <a:lnTo>
                    <a:pt x="106" y="433"/>
                  </a:lnTo>
                  <a:lnTo>
                    <a:pt x="146" y="380"/>
                  </a:lnTo>
                  <a:lnTo>
                    <a:pt x="172" y="322"/>
                  </a:lnTo>
                  <a:lnTo>
                    <a:pt x="200" y="274"/>
                  </a:lnTo>
                  <a:lnTo>
                    <a:pt x="222" y="220"/>
                  </a:lnTo>
                  <a:lnTo>
                    <a:pt x="231" y="167"/>
                  </a:lnTo>
                  <a:lnTo>
                    <a:pt x="244" y="119"/>
                  </a:lnTo>
                  <a:lnTo>
                    <a:pt x="257" y="61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97040" y="517680"/>
              <a:ext cx="106560" cy="125640"/>
            </a:xfrm>
            <a:custGeom>
              <a:avLst/>
              <a:gdLst/>
              <a:ahLst/>
              <a:rect l="0" t="0" r="r" b="b"/>
              <a:pathLst>
                <a:path w="296" h="349">
                  <a:moveTo>
                    <a:pt x="296" y="0"/>
                  </a:moveTo>
                  <a:lnTo>
                    <a:pt x="292" y="13"/>
                  </a:lnTo>
                  <a:lnTo>
                    <a:pt x="283" y="30"/>
                  </a:lnTo>
                  <a:lnTo>
                    <a:pt x="269" y="61"/>
                  </a:lnTo>
                  <a:lnTo>
                    <a:pt x="252" y="88"/>
                  </a:lnTo>
                  <a:lnTo>
                    <a:pt x="234" y="119"/>
                  </a:lnTo>
                  <a:lnTo>
                    <a:pt x="217" y="145"/>
                  </a:lnTo>
                  <a:lnTo>
                    <a:pt x="203" y="167"/>
                  </a:lnTo>
                  <a:lnTo>
                    <a:pt x="195" y="181"/>
                  </a:lnTo>
                  <a:lnTo>
                    <a:pt x="181" y="190"/>
                  </a:lnTo>
                  <a:lnTo>
                    <a:pt x="159" y="208"/>
                  </a:lnTo>
                  <a:lnTo>
                    <a:pt x="127" y="230"/>
                  </a:lnTo>
                  <a:lnTo>
                    <a:pt x="97" y="256"/>
                  </a:lnTo>
                  <a:lnTo>
                    <a:pt x="66" y="283"/>
                  </a:lnTo>
                  <a:lnTo>
                    <a:pt x="35" y="309"/>
                  </a:lnTo>
                  <a:lnTo>
                    <a:pt x="13" y="331"/>
                  </a:lnTo>
                  <a:lnTo>
                    <a:pt x="0" y="349"/>
                  </a:lnTo>
                  <a:lnTo>
                    <a:pt x="17" y="336"/>
                  </a:lnTo>
                  <a:lnTo>
                    <a:pt x="48" y="318"/>
                  </a:lnTo>
                  <a:lnTo>
                    <a:pt x="79" y="296"/>
                  </a:lnTo>
                  <a:lnTo>
                    <a:pt x="114" y="274"/>
                  </a:lnTo>
                  <a:lnTo>
                    <a:pt x="145" y="252"/>
                  </a:lnTo>
                  <a:lnTo>
                    <a:pt x="177" y="225"/>
                  </a:lnTo>
                  <a:lnTo>
                    <a:pt x="203" y="208"/>
                  </a:lnTo>
                  <a:lnTo>
                    <a:pt x="217" y="190"/>
                  </a:lnTo>
                  <a:lnTo>
                    <a:pt x="239" y="154"/>
                  </a:lnTo>
                  <a:lnTo>
                    <a:pt x="261" y="97"/>
                  </a:lnTo>
                  <a:lnTo>
                    <a:pt x="283" y="39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78080" y="457200"/>
              <a:ext cx="68760" cy="187560"/>
            </a:xfrm>
            <a:custGeom>
              <a:avLst/>
              <a:gdLst/>
              <a:ahLst/>
              <a:rect l="0" t="0" r="r" b="b"/>
              <a:pathLst>
                <a:path w="191" h="521">
                  <a:moveTo>
                    <a:pt x="0" y="0"/>
                  </a:moveTo>
                  <a:lnTo>
                    <a:pt x="4" y="13"/>
                  </a:lnTo>
                  <a:lnTo>
                    <a:pt x="13" y="35"/>
                  </a:lnTo>
                  <a:lnTo>
                    <a:pt x="30" y="61"/>
                  </a:lnTo>
                  <a:lnTo>
                    <a:pt x="44" y="97"/>
                  </a:lnTo>
                  <a:lnTo>
                    <a:pt x="67" y="127"/>
                  </a:lnTo>
                  <a:lnTo>
                    <a:pt x="80" y="163"/>
                  </a:lnTo>
                  <a:lnTo>
                    <a:pt x="98" y="194"/>
                  </a:lnTo>
                  <a:lnTo>
                    <a:pt x="106" y="224"/>
                  </a:lnTo>
                  <a:lnTo>
                    <a:pt x="120" y="300"/>
                  </a:lnTo>
                  <a:lnTo>
                    <a:pt x="128" y="389"/>
                  </a:lnTo>
                  <a:lnTo>
                    <a:pt x="137" y="472"/>
                  </a:lnTo>
                  <a:lnTo>
                    <a:pt x="147" y="521"/>
                  </a:lnTo>
                  <a:lnTo>
                    <a:pt x="142" y="459"/>
                  </a:lnTo>
                  <a:lnTo>
                    <a:pt x="142" y="406"/>
                  </a:lnTo>
                  <a:lnTo>
                    <a:pt x="142" y="367"/>
                  </a:lnTo>
                  <a:lnTo>
                    <a:pt x="142" y="336"/>
                  </a:lnTo>
                  <a:lnTo>
                    <a:pt x="151" y="380"/>
                  </a:lnTo>
                  <a:lnTo>
                    <a:pt x="165" y="433"/>
                  </a:lnTo>
                  <a:lnTo>
                    <a:pt x="173" y="481"/>
                  </a:lnTo>
                  <a:lnTo>
                    <a:pt x="173" y="512"/>
                  </a:lnTo>
                  <a:lnTo>
                    <a:pt x="169" y="441"/>
                  </a:lnTo>
                  <a:lnTo>
                    <a:pt x="160" y="358"/>
                  </a:lnTo>
                  <a:lnTo>
                    <a:pt x="142" y="278"/>
                  </a:lnTo>
                  <a:lnTo>
                    <a:pt x="124" y="224"/>
                  </a:lnTo>
                  <a:lnTo>
                    <a:pt x="156" y="300"/>
                  </a:lnTo>
                  <a:lnTo>
                    <a:pt x="173" y="349"/>
                  </a:lnTo>
                  <a:lnTo>
                    <a:pt x="187" y="389"/>
                  </a:lnTo>
                  <a:lnTo>
                    <a:pt x="191" y="419"/>
                  </a:lnTo>
                  <a:lnTo>
                    <a:pt x="178" y="349"/>
                  </a:lnTo>
                  <a:lnTo>
                    <a:pt x="165" y="292"/>
                  </a:lnTo>
                  <a:lnTo>
                    <a:pt x="142" y="238"/>
                  </a:lnTo>
                  <a:lnTo>
                    <a:pt x="120" y="189"/>
                  </a:lnTo>
                  <a:lnTo>
                    <a:pt x="93" y="141"/>
                  </a:lnTo>
                  <a:lnTo>
                    <a:pt x="67" y="97"/>
                  </a:lnTo>
                  <a:lnTo>
                    <a:pt x="35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80960" y="476280"/>
              <a:ext cx="28800" cy="165600"/>
            </a:xfrm>
            <a:custGeom>
              <a:avLst/>
              <a:gdLst/>
              <a:ahLst/>
              <a:rect l="0" t="0" r="r" b="b"/>
              <a:pathLst>
                <a:path w="80" h="460">
                  <a:moveTo>
                    <a:pt x="0" y="0"/>
                  </a:moveTo>
                  <a:lnTo>
                    <a:pt x="13" y="35"/>
                  </a:lnTo>
                  <a:lnTo>
                    <a:pt x="30" y="97"/>
                  </a:lnTo>
                  <a:lnTo>
                    <a:pt x="49" y="164"/>
                  </a:lnTo>
                  <a:lnTo>
                    <a:pt x="53" y="199"/>
                  </a:lnTo>
                  <a:lnTo>
                    <a:pt x="49" y="247"/>
                  </a:lnTo>
                  <a:lnTo>
                    <a:pt x="39" y="327"/>
                  </a:lnTo>
                  <a:lnTo>
                    <a:pt x="30" y="403"/>
                  </a:lnTo>
                  <a:lnTo>
                    <a:pt x="35" y="460"/>
                  </a:lnTo>
                  <a:lnTo>
                    <a:pt x="45" y="403"/>
                  </a:lnTo>
                  <a:lnTo>
                    <a:pt x="62" y="327"/>
                  </a:lnTo>
                  <a:lnTo>
                    <a:pt x="75" y="247"/>
                  </a:lnTo>
                  <a:lnTo>
                    <a:pt x="80" y="199"/>
                  </a:lnTo>
                  <a:lnTo>
                    <a:pt x="67" y="150"/>
                  </a:lnTo>
                  <a:lnTo>
                    <a:pt x="39" y="97"/>
                  </a:lnTo>
                  <a:lnTo>
                    <a:pt x="13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76200" y="496800"/>
              <a:ext cx="93960" cy="178200"/>
            </a:xfrm>
            <a:custGeom>
              <a:avLst/>
              <a:gdLst/>
              <a:ahLst/>
              <a:rect l="0" t="0" r="r" b="b"/>
              <a:pathLst>
                <a:path w="261" h="495">
                  <a:moveTo>
                    <a:pt x="0" y="0"/>
                  </a:moveTo>
                  <a:lnTo>
                    <a:pt x="13" y="39"/>
                  </a:lnTo>
                  <a:lnTo>
                    <a:pt x="30" y="105"/>
                  </a:lnTo>
                  <a:lnTo>
                    <a:pt x="57" y="177"/>
                  </a:lnTo>
                  <a:lnTo>
                    <a:pt x="79" y="243"/>
                  </a:lnTo>
                  <a:lnTo>
                    <a:pt x="101" y="269"/>
                  </a:lnTo>
                  <a:lnTo>
                    <a:pt x="123" y="300"/>
                  </a:lnTo>
                  <a:lnTo>
                    <a:pt x="150" y="336"/>
                  </a:lnTo>
                  <a:lnTo>
                    <a:pt x="181" y="372"/>
                  </a:lnTo>
                  <a:lnTo>
                    <a:pt x="212" y="407"/>
                  </a:lnTo>
                  <a:lnTo>
                    <a:pt x="234" y="438"/>
                  </a:lnTo>
                  <a:lnTo>
                    <a:pt x="252" y="465"/>
                  </a:lnTo>
                  <a:lnTo>
                    <a:pt x="261" y="482"/>
                  </a:lnTo>
                  <a:lnTo>
                    <a:pt x="239" y="460"/>
                  </a:lnTo>
                  <a:lnTo>
                    <a:pt x="221" y="438"/>
                  </a:lnTo>
                  <a:lnTo>
                    <a:pt x="199" y="416"/>
                  </a:lnTo>
                  <a:lnTo>
                    <a:pt x="186" y="398"/>
                  </a:lnTo>
                  <a:lnTo>
                    <a:pt x="168" y="381"/>
                  </a:lnTo>
                  <a:lnTo>
                    <a:pt x="155" y="367"/>
                  </a:lnTo>
                  <a:lnTo>
                    <a:pt x="146" y="358"/>
                  </a:lnTo>
                  <a:lnTo>
                    <a:pt x="137" y="344"/>
                  </a:lnTo>
                  <a:lnTo>
                    <a:pt x="146" y="362"/>
                  </a:lnTo>
                  <a:lnTo>
                    <a:pt x="159" y="381"/>
                  </a:lnTo>
                  <a:lnTo>
                    <a:pt x="172" y="403"/>
                  </a:lnTo>
                  <a:lnTo>
                    <a:pt x="186" y="429"/>
                  </a:lnTo>
                  <a:lnTo>
                    <a:pt x="199" y="451"/>
                  </a:lnTo>
                  <a:lnTo>
                    <a:pt x="212" y="469"/>
                  </a:lnTo>
                  <a:lnTo>
                    <a:pt x="225" y="487"/>
                  </a:lnTo>
                  <a:lnTo>
                    <a:pt x="234" y="495"/>
                  </a:lnTo>
                  <a:lnTo>
                    <a:pt x="212" y="469"/>
                  </a:lnTo>
                  <a:lnTo>
                    <a:pt x="186" y="438"/>
                  </a:lnTo>
                  <a:lnTo>
                    <a:pt x="164" y="407"/>
                  </a:lnTo>
                  <a:lnTo>
                    <a:pt x="137" y="372"/>
                  </a:lnTo>
                  <a:lnTo>
                    <a:pt x="114" y="340"/>
                  </a:lnTo>
                  <a:lnTo>
                    <a:pt x="92" y="309"/>
                  </a:lnTo>
                  <a:lnTo>
                    <a:pt x="79" y="278"/>
                  </a:lnTo>
                  <a:lnTo>
                    <a:pt x="66" y="252"/>
                  </a:lnTo>
                  <a:lnTo>
                    <a:pt x="101" y="327"/>
                  </a:lnTo>
                  <a:lnTo>
                    <a:pt x="123" y="376"/>
                  </a:lnTo>
                  <a:lnTo>
                    <a:pt x="137" y="412"/>
                  </a:lnTo>
                  <a:lnTo>
                    <a:pt x="155" y="438"/>
                  </a:lnTo>
                  <a:lnTo>
                    <a:pt x="114" y="381"/>
                  </a:lnTo>
                  <a:lnTo>
                    <a:pt x="88" y="327"/>
                  </a:lnTo>
                  <a:lnTo>
                    <a:pt x="61" y="274"/>
                  </a:lnTo>
                  <a:lnTo>
                    <a:pt x="44" y="225"/>
                  </a:lnTo>
                  <a:lnTo>
                    <a:pt x="30" y="172"/>
                  </a:lnTo>
                  <a:lnTo>
                    <a:pt x="22" y="119"/>
                  </a:lnTo>
                  <a:lnTo>
                    <a:pt x="8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87360" y="514440"/>
              <a:ext cx="106560" cy="127440"/>
            </a:xfrm>
            <a:custGeom>
              <a:avLst/>
              <a:gdLst/>
              <a:ahLst/>
              <a:rect l="0" t="0" r="r" b="b"/>
              <a:pathLst>
                <a:path w="296" h="354">
                  <a:moveTo>
                    <a:pt x="0" y="0"/>
                  </a:moveTo>
                  <a:lnTo>
                    <a:pt x="8" y="13"/>
                  </a:lnTo>
                  <a:lnTo>
                    <a:pt x="17" y="35"/>
                  </a:lnTo>
                  <a:lnTo>
                    <a:pt x="30" y="61"/>
                  </a:lnTo>
                  <a:lnTo>
                    <a:pt x="48" y="93"/>
                  </a:lnTo>
                  <a:lnTo>
                    <a:pt x="66" y="120"/>
                  </a:lnTo>
                  <a:lnTo>
                    <a:pt x="79" y="150"/>
                  </a:lnTo>
                  <a:lnTo>
                    <a:pt x="92" y="168"/>
                  </a:lnTo>
                  <a:lnTo>
                    <a:pt x="101" y="181"/>
                  </a:lnTo>
                  <a:lnTo>
                    <a:pt x="114" y="195"/>
                  </a:lnTo>
                  <a:lnTo>
                    <a:pt x="141" y="212"/>
                  </a:lnTo>
                  <a:lnTo>
                    <a:pt x="168" y="234"/>
                  </a:lnTo>
                  <a:lnTo>
                    <a:pt x="203" y="261"/>
                  </a:lnTo>
                  <a:lnTo>
                    <a:pt x="230" y="288"/>
                  </a:lnTo>
                  <a:lnTo>
                    <a:pt x="261" y="315"/>
                  </a:lnTo>
                  <a:lnTo>
                    <a:pt x="287" y="337"/>
                  </a:lnTo>
                  <a:lnTo>
                    <a:pt x="296" y="354"/>
                  </a:lnTo>
                  <a:lnTo>
                    <a:pt x="278" y="341"/>
                  </a:lnTo>
                  <a:lnTo>
                    <a:pt x="252" y="319"/>
                  </a:lnTo>
                  <a:lnTo>
                    <a:pt x="217" y="301"/>
                  </a:lnTo>
                  <a:lnTo>
                    <a:pt x="186" y="279"/>
                  </a:lnTo>
                  <a:lnTo>
                    <a:pt x="150" y="256"/>
                  </a:lnTo>
                  <a:lnTo>
                    <a:pt x="119" y="234"/>
                  </a:lnTo>
                  <a:lnTo>
                    <a:pt x="97" y="212"/>
                  </a:lnTo>
                  <a:lnTo>
                    <a:pt x="83" y="199"/>
                  </a:lnTo>
                  <a:lnTo>
                    <a:pt x="61" y="155"/>
                  </a:lnTo>
                  <a:lnTo>
                    <a:pt x="35" y="98"/>
                  </a:lnTo>
                  <a:lnTo>
                    <a:pt x="1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44480" y="1371600"/>
              <a:ext cx="71640" cy="187560"/>
            </a:xfrm>
            <a:custGeom>
              <a:avLst/>
              <a:gdLst/>
              <a:ahLst/>
              <a:rect l="0" t="0" r="r" b="b"/>
              <a:pathLst>
                <a:path w="199" h="521">
                  <a:moveTo>
                    <a:pt x="199" y="521"/>
                  </a:moveTo>
                  <a:lnTo>
                    <a:pt x="195" y="508"/>
                  </a:lnTo>
                  <a:lnTo>
                    <a:pt x="181" y="486"/>
                  </a:lnTo>
                  <a:lnTo>
                    <a:pt x="168" y="455"/>
                  </a:lnTo>
                  <a:lnTo>
                    <a:pt x="146" y="424"/>
                  </a:lnTo>
                  <a:lnTo>
                    <a:pt x="128" y="393"/>
                  </a:lnTo>
                  <a:lnTo>
                    <a:pt x="111" y="358"/>
                  </a:lnTo>
                  <a:lnTo>
                    <a:pt x="97" y="322"/>
                  </a:lnTo>
                  <a:lnTo>
                    <a:pt x="88" y="296"/>
                  </a:lnTo>
                  <a:lnTo>
                    <a:pt x="74" y="220"/>
                  </a:lnTo>
                  <a:lnTo>
                    <a:pt x="61" y="132"/>
                  </a:lnTo>
                  <a:lnTo>
                    <a:pt x="52" y="48"/>
                  </a:lnTo>
                  <a:lnTo>
                    <a:pt x="44" y="0"/>
                  </a:lnTo>
                  <a:lnTo>
                    <a:pt x="48" y="57"/>
                  </a:lnTo>
                  <a:lnTo>
                    <a:pt x="48" y="110"/>
                  </a:lnTo>
                  <a:lnTo>
                    <a:pt x="48" y="154"/>
                  </a:lnTo>
                  <a:lnTo>
                    <a:pt x="52" y="180"/>
                  </a:lnTo>
                  <a:lnTo>
                    <a:pt x="39" y="141"/>
                  </a:lnTo>
                  <a:lnTo>
                    <a:pt x="26" y="88"/>
                  </a:lnTo>
                  <a:lnTo>
                    <a:pt x="17" y="39"/>
                  </a:lnTo>
                  <a:lnTo>
                    <a:pt x="17" y="8"/>
                  </a:lnTo>
                  <a:lnTo>
                    <a:pt x="17" y="83"/>
                  </a:lnTo>
                  <a:lnTo>
                    <a:pt x="30" y="163"/>
                  </a:lnTo>
                  <a:lnTo>
                    <a:pt x="48" y="238"/>
                  </a:lnTo>
                  <a:lnTo>
                    <a:pt x="66" y="296"/>
                  </a:lnTo>
                  <a:lnTo>
                    <a:pt x="39" y="220"/>
                  </a:lnTo>
                  <a:lnTo>
                    <a:pt x="17" y="167"/>
                  </a:lnTo>
                  <a:lnTo>
                    <a:pt x="8" y="132"/>
                  </a:lnTo>
                  <a:lnTo>
                    <a:pt x="0" y="105"/>
                  </a:lnTo>
                  <a:lnTo>
                    <a:pt x="13" y="171"/>
                  </a:lnTo>
                  <a:lnTo>
                    <a:pt x="26" y="229"/>
                  </a:lnTo>
                  <a:lnTo>
                    <a:pt x="48" y="287"/>
                  </a:lnTo>
                  <a:lnTo>
                    <a:pt x="70" y="331"/>
                  </a:lnTo>
                  <a:lnTo>
                    <a:pt x="102" y="380"/>
                  </a:lnTo>
                  <a:lnTo>
                    <a:pt x="128" y="424"/>
                  </a:lnTo>
                  <a:lnTo>
                    <a:pt x="164" y="472"/>
                  </a:lnTo>
                  <a:lnTo>
                    <a:pt x="199" y="521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82640" y="1374840"/>
              <a:ext cx="28800" cy="163800"/>
            </a:xfrm>
            <a:custGeom>
              <a:avLst/>
              <a:gdLst/>
              <a:ahLst/>
              <a:rect l="0" t="0" r="r" b="b"/>
              <a:pathLst>
                <a:path w="80" h="455">
                  <a:moveTo>
                    <a:pt x="80" y="455"/>
                  </a:moveTo>
                  <a:lnTo>
                    <a:pt x="67" y="419"/>
                  </a:lnTo>
                  <a:lnTo>
                    <a:pt x="49" y="358"/>
                  </a:lnTo>
                  <a:lnTo>
                    <a:pt x="30" y="296"/>
                  </a:lnTo>
                  <a:lnTo>
                    <a:pt x="22" y="256"/>
                  </a:lnTo>
                  <a:lnTo>
                    <a:pt x="30" y="207"/>
                  </a:lnTo>
                  <a:lnTo>
                    <a:pt x="39" y="132"/>
                  </a:lnTo>
                  <a:lnTo>
                    <a:pt x="45" y="52"/>
                  </a:lnTo>
                  <a:lnTo>
                    <a:pt x="39" y="0"/>
                  </a:lnTo>
                  <a:lnTo>
                    <a:pt x="30" y="52"/>
                  </a:lnTo>
                  <a:lnTo>
                    <a:pt x="17" y="132"/>
                  </a:lnTo>
                  <a:lnTo>
                    <a:pt x="4" y="207"/>
                  </a:lnTo>
                  <a:lnTo>
                    <a:pt x="0" y="261"/>
                  </a:lnTo>
                  <a:lnTo>
                    <a:pt x="13" y="305"/>
                  </a:lnTo>
                  <a:lnTo>
                    <a:pt x="39" y="358"/>
                  </a:lnTo>
                  <a:lnTo>
                    <a:pt x="67" y="415"/>
                  </a:lnTo>
                  <a:lnTo>
                    <a:pt x="80" y="455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20800" y="1341360"/>
              <a:ext cx="95760" cy="174960"/>
            </a:xfrm>
            <a:custGeom>
              <a:avLst/>
              <a:gdLst/>
              <a:ahLst/>
              <a:rect l="0" t="0" r="r" b="b"/>
              <a:pathLst>
                <a:path w="266" h="486">
                  <a:moveTo>
                    <a:pt x="266" y="486"/>
                  </a:moveTo>
                  <a:lnTo>
                    <a:pt x="253" y="450"/>
                  </a:lnTo>
                  <a:lnTo>
                    <a:pt x="231" y="384"/>
                  </a:lnTo>
                  <a:lnTo>
                    <a:pt x="209" y="309"/>
                  </a:lnTo>
                  <a:lnTo>
                    <a:pt x="181" y="252"/>
                  </a:lnTo>
                  <a:lnTo>
                    <a:pt x="159" y="220"/>
                  </a:lnTo>
                  <a:lnTo>
                    <a:pt x="137" y="189"/>
                  </a:lnTo>
                  <a:lnTo>
                    <a:pt x="111" y="154"/>
                  </a:lnTo>
                  <a:lnTo>
                    <a:pt x="80" y="119"/>
                  </a:lnTo>
                  <a:lnTo>
                    <a:pt x="52" y="83"/>
                  </a:lnTo>
                  <a:lnTo>
                    <a:pt x="30" y="52"/>
                  </a:lnTo>
                  <a:lnTo>
                    <a:pt x="8" y="26"/>
                  </a:lnTo>
                  <a:lnTo>
                    <a:pt x="0" y="13"/>
                  </a:lnTo>
                  <a:lnTo>
                    <a:pt x="22" y="35"/>
                  </a:lnTo>
                  <a:lnTo>
                    <a:pt x="39" y="57"/>
                  </a:lnTo>
                  <a:lnTo>
                    <a:pt x="61" y="74"/>
                  </a:lnTo>
                  <a:lnTo>
                    <a:pt x="80" y="92"/>
                  </a:lnTo>
                  <a:lnTo>
                    <a:pt x="93" y="105"/>
                  </a:lnTo>
                  <a:lnTo>
                    <a:pt x="106" y="123"/>
                  </a:lnTo>
                  <a:lnTo>
                    <a:pt x="115" y="136"/>
                  </a:lnTo>
                  <a:lnTo>
                    <a:pt x="124" y="145"/>
                  </a:lnTo>
                  <a:lnTo>
                    <a:pt x="115" y="132"/>
                  </a:lnTo>
                  <a:lnTo>
                    <a:pt x="102" y="105"/>
                  </a:lnTo>
                  <a:lnTo>
                    <a:pt x="89" y="83"/>
                  </a:lnTo>
                  <a:lnTo>
                    <a:pt x="75" y="61"/>
                  </a:lnTo>
                  <a:lnTo>
                    <a:pt x="61" y="44"/>
                  </a:lnTo>
                  <a:lnTo>
                    <a:pt x="44" y="26"/>
                  </a:lnTo>
                  <a:lnTo>
                    <a:pt x="35" y="8"/>
                  </a:lnTo>
                  <a:lnTo>
                    <a:pt x="26" y="0"/>
                  </a:lnTo>
                  <a:lnTo>
                    <a:pt x="52" y="26"/>
                  </a:lnTo>
                  <a:lnTo>
                    <a:pt x="80" y="52"/>
                  </a:lnTo>
                  <a:lnTo>
                    <a:pt x="102" y="83"/>
                  </a:lnTo>
                  <a:lnTo>
                    <a:pt x="124" y="119"/>
                  </a:lnTo>
                  <a:lnTo>
                    <a:pt x="150" y="154"/>
                  </a:lnTo>
                  <a:lnTo>
                    <a:pt x="168" y="185"/>
                  </a:lnTo>
                  <a:lnTo>
                    <a:pt x="186" y="211"/>
                  </a:lnTo>
                  <a:lnTo>
                    <a:pt x="195" y="238"/>
                  </a:lnTo>
                  <a:lnTo>
                    <a:pt x="159" y="163"/>
                  </a:lnTo>
                  <a:lnTo>
                    <a:pt x="137" y="114"/>
                  </a:lnTo>
                  <a:lnTo>
                    <a:pt x="124" y="79"/>
                  </a:lnTo>
                  <a:lnTo>
                    <a:pt x="106" y="52"/>
                  </a:lnTo>
                  <a:lnTo>
                    <a:pt x="146" y="105"/>
                  </a:lnTo>
                  <a:lnTo>
                    <a:pt x="172" y="163"/>
                  </a:lnTo>
                  <a:lnTo>
                    <a:pt x="200" y="216"/>
                  </a:lnTo>
                  <a:lnTo>
                    <a:pt x="222" y="265"/>
                  </a:lnTo>
                  <a:lnTo>
                    <a:pt x="231" y="318"/>
                  </a:lnTo>
                  <a:lnTo>
                    <a:pt x="244" y="371"/>
                  </a:lnTo>
                  <a:lnTo>
                    <a:pt x="257" y="428"/>
                  </a:lnTo>
                  <a:lnTo>
                    <a:pt x="266" y="486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97040" y="1374840"/>
              <a:ext cx="106560" cy="125640"/>
            </a:xfrm>
            <a:custGeom>
              <a:avLst/>
              <a:gdLst/>
              <a:ahLst/>
              <a:rect l="0" t="0" r="r" b="b"/>
              <a:pathLst>
                <a:path w="296" h="349">
                  <a:moveTo>
                    <a:pt x="296" y="349"/>
                  </a:moveTo>
                  <a:lnTo>
                    <a:pt x="292" y="336"/>
                  </a:lnTo>
                  <a:lnTo>
                    <a:pt x="283" y="314"/>
                  </a:lnTo>
                  <a:lnTo>
                    <a:pt x="269" y="287"/>
                  </a:lnTo>
                  <a:lnTo>
                    <a:pt x="252" y="256"/>
                  </a:lnTo>
                  <a:lnTo>
                    <a:pt x="234" y="230"/>
                  </a:lnTo>
                  <a:lnTo>
                    <a:pt x="217" y="199"/>
                  </a:lnTo>
                  <a:lnTo>
                    <a:pt x="203" y="181"/>
                  </a:lnTo>
                  <a:lnTo>
                    <a:pt x="195" y="167"/>
                  </a:lnTo>
                  <a:lnTo>
                    <a:pt x="181" y="154"/>
                  </a:lnTo>
                  <a:lnTo>
                    <a:pt x="159" y="136"/>
                  </a:lnTo>
                  <a:lnTo>
                    <a:pt x="127" y="114"/>
                  </a:lnTo>
                  <a:lnTo>
                    <a:pt x="97" y="88"/>
                  </a:lnTo>
                  <a:lnTo>
                    <a:pt x="66" y="61"/>
                  </a:lnTo>
                  <a:lnTo>
                    <a:pt x="35" y="39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48" y="30"/>
                  </a:lnTo>
                  <a:lnTo>
                    <a:pt x="79" y="48"/>
                  </a:lnTo>
                  <a:lnTo>
                    <a:pt x="114" y="74"/>
                  </a:lnTo>
                  <a:lnTo>
                    <a:pt x="145" y="97"/>
                  </a:lnTo>
                  <a:lnTo>
                    <a:pt x="177" y="119"/>
                  </a:lnTo>
                  <a:lnTo>
                    <a:pt x="203" y="136"/>
                  </a:lnTo>
                  <a:lnTo>
                    <a:pt x="217" y="154"/>
                  </a:lnTo>
                  <a:lnTo>
                    <a:pt x="239" y="195"/>
                  </a:lnTo>
                  <a:lnTo>
                    <a:pt x="261" y="252"/>
                  </a:lnTo>
                  <a:lnTo>
                    <a:pt x="283" y="305"/>
                  </a:lnTo>
                  <a:lnTo>
                    <a:pt x="296" y="349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78080" y="1371600"/>
              <a:ext cx="68760" cy="187560"/>
            </a:xfrm>
            <a:custGeom>
              <a:avLst/>
              <a:gdLst/>
              <a:ahLst/>
              <a:rect l="0" t="0" r="r" b="b"/>
              <a:pathLst>
                <a:path w="191" h="521">
                  <a:moveTo>
                    <a:pt x="0" y="521"/>
                  </a:moveTo>
                  <a:lnTo>
                    <a:pt x="4" y="512"/>
                  </a:lnTo>
                  <a:lnTo>
                    <a:pt x="13" y="486"/>
                  </a:lnTo>
                  <a:lnTo>
                    <a:pt x="30" y="459"/>
                  </a:lnTo>
                  <a:lnTo>
                    <a:pt x="44" y="428"/>
                  </a:lnTo>
                  <a:lnTo>
                    <a:pt x="67" y="393"/>
                  </a:lnTo>
                  <a:lnTo>
                    <a:pt x="80" y="362"/>
                  </a:lnTo>
                  <a:lnTo>
                    <a:pt x="98" y="327"/>
                  </a:lnTo>
                  <a:lnTo>
                    <a:pt x="106" y="296"/>
                  </a:lnTo>
                  <a:lnTo>
                    <a:pt x="120" y="224"/>
                  </a:lnTo>
                  <a:lnTo>
                    <a:pt x="128" y="132"/>
                  </a:lnTo>
                  <a:lnTo>
                    <a:pt x="137" y="52"/>
                  </a:lnTo>
                  <a:lnTo>
                    <a:pt x="147" y="0"/>
                  </a:lnTo>
                  <a:lnTo>
                    <a:pt x="142" y="61"/>
                  </a:lnTo>
                  <a:lnTo>
                    <a:pt x="142" y="114"/>
                  </a:lnTo>
                  <a:lnTo>
                    <a:pt x="142" y="154"/>
                  </a:lnTo>
                  <a:lnTo>
                    <a:pt x="142" y="185"/>
                  </a:lnTo>
                  <a:lnTo>
                    <a:pt x="151" y="141"/>
                  </a:lnTo>
                  <a:lnTo>
                    <a:pt x="165" y="92"/>
                  </a:lnTo>
                  <a:lnTo>
                    <a:pt x="173" y="39"/>
                  </a:lnTo>
                  <a:lnTo>
                    <a:pt x="173" y="8"/>
                  </a:lnTo>
                  <a:lnTo>
                    <a:pt x="169" y="83"/>
                  </a:lnTo>
                  <a:lnTo>
                    <a:pt x="160" y="167"/>
                  </a:lnTo>
                  <a:lnTo>
                    <a:pt x="142" y="242"/>
                  </a:lnTo>
                  <a:lnTo>
                    <a:pt x="124" y="296"/>
                  </a:lnTo>
                  <a:lnTo>
                    <a:pt x="156" y="224"/>
                  </a:lnTo>
                  <a:lnTo>
                    <a:pt x="173" y="171"/>
                  </a:lnTo>
                  <a:lnTo>
                    <a:pt x="187" y="136"/>
                  </a:lnTo>
                  <a:lnTo>
                    <a:pt x="191" y="105"/>
                  </a:lnTo>
                  <a:lnTo>
                    <a:pt x="178" y="176"/>
                  </a:lnTo>
                  <a:lnTo>
                    <a:pt x="165" y="233"/>
                  </a:lnTo>
                  <a:lnTo>
                    <a:pt x="142" y="287"/>
                  </a:lnTo>
                  <a:lnTo>
                    <a:pt x="120" y="336"/>
                  </a:lnTo>
                  <a:lnTo>
                    <a:pt x="93" y="380"/>
                  </a:lnTo>
                  <a:lnTo>
                    <a:pt x="67" y="428"/>
                  </a:lnTo>
                  <a:lnTo>
                    <a:pt x="35" y="477"/>
                  </a:lnTo>
                  <a:lnTo>
                    <a:pt x="0" y="521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80960" y="1376280"/>
              <a:ext cx="28800" cy="163800"/>
            </a:xfrm>
            <a:custGeom>
              <a:avLst/>
              <a:gdLst/>
              <a:ahLst/>
              <a:rect l="0" t="0" r="r" b="b"/>
              <a:pathLst>
                <a:path w="80" h="455">
                  <a:moveTo>
                    <a:pt x="0" y="455"/>
                  </a:moveTo>
                  <a:lnTo>
                    <a:pt x="13" y="419"/>
                  </a:lnTo>
                  <a:lnTo>
                    <a:pt x="30" y="358"/>
                  </a:lnTo>
                  <a:lnTo>
                    <a:pt x="49" y="296"/>
                  </a:lnTo>
                  <a:lnTo>
                    <a:pt x="53" y="256"/>
                  </a:lnTo>
                  <a:lnTo>
                    <a:pt x="49" y="207"/>
                  </a:lnTo>
                  <a:lnTo>
                    <a:pt x="39" y="127"/>
                  </a:lnTo>
                  <a:lnTo>
                    <a:pt x="30" y="52"/>
                  </a:lnTo>
                  <a:lnTo>
                    <a:pt x="35" y="0"/>
                  </a:lnTo>
                  <a:lnTo>
                    <a:pt x="45" y="52"/>
                  </a:lnTo>
                  <a:lnTo>
                    <a:pt x="62" y="127"/>
                  </a:lnTo>
                  <a:lnTo>
                    <a:pt x="75" y="207"/>
                  </a:lnTo>
                  <a:lnTo>
                    <a:pt x="80" y="261"/>
                  </a:lnTo>
                  <a:lnTo>
                    <a:pt x="67" y="305"/>
                  </a:lnTo>
                  <a:lnTo>
                    <a:pt x="39" y="358"/>
                  </a:lnTo>
                  <a:lnTo>
                    <a:pt x="13" y="415"/>
                  </a:lnTo>
                  <a:lnTo>
                    <a:pt x="0" y="455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76200" y="1341360"/>
              <a:ext cx="93960" cy="178200"/>
            </a:xfrm>
            <a:custGeom>
              <a:avLst/>
              <a:gdLst/>
              <a:ahLst/>
              <a:rect l="0" t="0" r="r" b="b"/>
              <a:pathLst>
                <a:path w="261" h="495">
                  <a:moveTo>
                    <a:pt x="0" y="495"/>
                  </a:moveTo>
                  <a:lnTo>
                    <a:pt x="13" y="456"/>
                  </a:lnTo>
                  <a:lnTo>
                    <a:pt x="30" y="394"/>
                  </a:lnTo>
                  <a:lnTo>
                    <a:pt x="57" y="318"/>
                  </a:lnTo>
                  <a:lnTo>
                    <a:pt x="79" y="256"/>
                  </a:lnTo>
                  <a:lnTo>
                    <a:pt x="101" y="225"/>
                  </a:lnTo>
                  <a:lnTo>
                    <a:pt x="123" y="195"/>
                  </a:lnTo>
                  <a:lnTo>
                    <a:pt x="150" y="159"/>
                  </a:lnTo>
                  <a:lnTo>
                    <a:pt x="181" y="123"/>
                  </a:lnTo>
                  <a:lnTo>
                    <a:pt x="212" y="88"/>
                  </a:lnTo>
                  <a:lnTo>
                    <a:pt x="234" y="61"/>
                  </a:lnTo>
                  <a:lnTo>
                    <a:pt x="252" y="35"/>
                  </a:lnTo>
                  <a:lnTo>
                    <a:pt x="261" y="17"/>
                  </a:lnTo>
                  <a:lnTo>
                    <a:pt x="239" y="39"/>
                  </a:lnTo>
                  <a:lnTo>
                    <a:pt x="221" y="61"/>
                  </a:lnTo>
                  <a:lnTo>
                    <a:pt x="199" y="83"/>
                  </a:lnTo>
                  <a:lnTo>
                    <a:pt x="186" y="97"/>
                  </a:lnTo>
                  <a:lnTo>
                    <a:pt x="168" y="114"/>
                  </a:lnTo>
                  <a:lnTo>
                    <a:pt x="155" y="128"/>
                  </a:lnTo>
                  <a:lnTo>
                    <a:pt x="146" y="142"/>
                  </a:lnTo>
                  <a:lnTo>
                    <a:pt x="137" y="150"/>
                  </a:lnTo>
                  <a:lnTo>
                    <a:pt x="146" y="133"/>
                  </a:lnTo>
                  <a:lnTo>
                    <a:pt x="159" y="114"/>
                  </a:lnTo>
                  <a:lnTo>
                    <a:pt x="172" y="92"/>
                  </a:lnTo>
                  <a:lnTo>
                    <a:pt x="186" y="70"/>
                  </a:lnTo>
                  <a:lnTo>
                    <a:pt x="199" y="48"/>
                  </a:lnTo>
                  <a:lnTo>
                    <a:pt x="212" y="26"/>
                  </a:lnTo>
                  <a:lnTo>
                    <a:pt x="225" y="13"/>
                  </a:lnTo>
                  <a:lnTo>
                    <a:pt x="234" y="0"/>
                  </a:lnTo>
                  <a:lnTo>
                    <a:pt x="212" y="26"/>
                  </a:lnTo>
                  <a:lnTo>
                    <a:pt x="186" y="57"/>
                  </a:lnTo>
                  <a:lnTo>
                    <a:pt x="164" y="88"/>
                  </a:lnTo>
                  <a:lnTo>
                    <a:pt x="137" y="123"/>
                  </a:lnTo>
                  <a:lnTo>
                    <a:pt x="114" y="155"/>
                  </a:lnTo>
                  <a:lnTo>
                    <a:pt x="92" y="190"/>
                  </a:lnTo>
                  <a:lnTo>
                    <a:pt x="79" y="217"/>
                  </a:lnTo>
                  <a:lnTo>
                    <a:pt x="66" y="243"/>
                  </a:lnTo>
                  <a:lnTo>
                    <a:pt x="101" y="168"/>
                  </a:lnTo>
                  <a:lnTo>
                    <a:pt x="123" y="119"/>
                  </a:lnTo>
                  <a:lnTo>
                    <a:pt x="137" y="83"/>
                  </a:lnTo>
                  <a:lnTo>
                    <a:pt x="155" y="61"/>
                  </a:lnTo>
                  <a:lnTo>
                    <a:pt x="114" y="114"/>
                  </a:lnTo>
                  <a:lnTo>
                    <a:pt x="88" y="168"/>
                  </a:lnTo>
                  <a:lnTo>
                    <a:pt x="61" y="221"/>
                  </a:lnTo>
                  <a:lnTo>
                    <a:pt x="44" y="274"/>
                  </a:lnTo>
                  <a:lnTo>
                    <a:pt x="30" y="322"/>
                  </a:lnTo>
                  <a:lnTo>
                    <a:pt x="22" y="376"/>
                  </a:lnTo>
                  <a:lnTo>
                    <a:pt x="8" y="434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87360" y="1376280"/>
              <a:ext cx="106560" cy="125640"/>
            </a:xfrm>
            <a:custGeom>
              <a:avLst/>
              <a:gdLst/>
              <a:ahLst/>
              <a:rect l="0" t="0" r="r" b="b"/>
              <a:pathLst>
                <a:path w="296" h="349">
                  <a:moveTo>
                    <a:pt x="0" y="349"/>
                  </a:moveTo>
                  <a:lnTo>
                    <a:pt x="8" y="336"/>
                  </a:lnTo>
                  <a:lnTo>
                    <a:pt x="17" y="318"/>
                  </a:lnTo>
                  <a:lnTo>
                    <a:pt x="30" y="287"/>
                  </a:lnTo>
                  <a:lnTo>
                    <a:pt x="48" y="261"/>
                  </a:lnTo>
                  <a:lnTo>
                    <a:pt x="66" y="230"/>
                  </a:lnTo>
                  <a:lnTo>
                    <a:pt x="79" y="199"/>
                  </a:lnTo>
                  <a:lnTo>
                    <a:pt x="92" y="181"/>
                  </a:lnTo>
                  <a:lnTo>
                    <a:pt x="101" y="167"/>
                  </a:lnTo>
                  <a:lnTo>
                    <a:pt x="114" y="154"/>
                  </a:lnTo>
                  <a:lnTo>
                    <a:pt x="141" y="141"/>
                  </a:lnTo>
                  <a:lnTo>
                    <a:pt x="168" y="119"/>
                  </a:lnTo>
                  <a:lnTo>
                    <a:pt x="203" y="92"/>
                  </a:lnTo>
                  <a:lnTo>
                    <a:pt x="230" y="66"/>
                  </a:lnTo>
                  <a:lnTo>
                    <a:pt x="261" y="39"/>
                  </a:lnTo>
                  <a:lnTo>
                    <a:pt x="287" y="17"/>
                  </a:lnTo>
                  <a:lnTo>
                    <a:pt x="296" y="0"/>
                  </a:lnTo>
                  <a:lnTo>
                    <a:pt x="278" y="8"/>
                  </a:lnTo>
                  <a:lnTo>
                    <a:pt x="252" y="30"/>
                  </a:lnTo>
                  <a:lnTo>
                    <a:pt x="217" y="48"/>
                  </a:lnTo>
                  <a:lnTo>
                    <a:pt x="186" y="70"/>
                  </a:lnTo>
                  <a:lnTo>
                    <a:pt x="150" y="97"/>
                  </a:lnTo>
                  <a:lnTo>
                    <a:pt x="119" y="119"/>
                  </a:lnTo>
                  <a:lnTo>
                    <a:pt x="97" y="141"/>
                  </a:lnTo>
                  <a:lnTo>
                    <a:pt x="83" y="154"/>
                  </a:lnTo>
                  <a:lnTo>
                    <a:pt x="61" y="195"/>
                  </a:lnTo>
                  <a:lnTo>
                    <a:pt x="35" y="252"/>
                  </a:lnTo>
                  <a:lnTo>
                    <a:pt x="17" y="309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93600" y="836640"/>
              <a:ext cx="187560" cy="71640"/>
            </a:xfrm>
            <a:custGeom>
              <a:avLst/>
              <a:gdLst/>
              <a:ahLst/>
              <a:rect l="0" t="0" r="r" b="b"/>
              <a:pathLst>
                <a:path w="521" h="199">
                  <a:moveTo>
                    <a:pt x="0" y="0"/>
                  </a:moveTo>
                  <a:lnTo>
                    <a:pt x="13" y="4"/>
                  </a:lnTo>
                  <a:lnTo>
                    <a:pt x="35" y="17"/>
                  </a:lnTo>
                  <a:lnTo>
                    <a:pt x="66" y="30"/>
                  </a:lnTo>
                  <a:lnTo>
                    <a:pt x="92" y="52"/>
                  </a:lnTo>
                  <a:lnTo>
                    <a:pt x="127" y="70"/>
                  </a:lnTo>
                  <a:lnTo>
                    <a:pt x="163" y="88"/>
                  </a:lnTo>
                  <a:lnTo>
                    <a:pt x="198" y="102"/>
                  </a:lnTo>
                  <a:lnTo>
                    <a:pt x="224" y="111"/>
                  </a:lnTo>
                  <a:lnTo>
                    <a:pt x="261" y="120"/>
                  </a:lnTo>
                  <a:lnTo>
                    <a:pt x="300" y="124"/>
                  </a:lnTo>
                  <a:lnTo>
                    <a:pt x="344" y="128"/>
                  </a:lnTo>
                  <a:lnTo>
                    <a:pt x="389" y="137"/>
                  </a:lnTo>
                  <a:lnTo>
                    <a:pt x="433" y="137"/>
                  </a:lnTo>
                  <a:lnTo>
                    <a:pt x="472" y="146"/>
                  </a:lnTo>
                  <a:lnTo>
                    <a:pt x="503" y="146"/>
                  </a:lnTo>
                  <a:lnTo>
                    <a:pt x="521" y="155"/>
                  </a:lnTo>
                  <a:lnTo>
                    <a:pt x="490" y="155"/>
                  </a:lnTo>
                  <a:lnTo>
                    <a:pt x="464" y="150"/>
                  </a:lnTo>
                  <a:lnTo>
                    <a:pt x="433" y="150"/>
                  </a:lnTo>
                  <a:lnTo>
                    <a:pt x="411" y="150"/>
                  </a:lnTo>
                  <a:lnTo>
                    <a:pt x="389" y="146"/>
                  </a:lnTo>
                  <a:lnTo>
                    <a:pt x="367" y="146"/>
                  </a:lnTo>
                  <a:lnTo>
                    <a:pt x="353" y="146"/>
                  </a:lnTo>
                  <a:lnTo>
                    <a:pt x="340" y="146"/>
                  </a:lnTo>
                  <a:lnTo>
                    <a:pt x="358" y="150"/>
                  </a:lnTo>
                  <a:lnTo>
                    <a:pt x="380" y="159"/>
                  </a:lnTo>
                  <a:lnTo>
                    <a:pt x="406" y="164"/>
                  </a:lnTo>
                  <a:lnTo>
                    <a:pt x="433" y="172"/>
                  </a:lnTo>
                  <a:lnTo>
                    <a:pt x="459" y="177"/>
                  </a:lnTo>
                  <a:lnTo>
                    <a:pt x="481" y="181"/>
                  </a:lnTo>
                  <a:lnTo>
                    <a:pt x="499" y="181"/>
                  </a:lnTo>
                  <a:lnTo>
                    <a:pt x="512" y="181"/>
                  </a:lnTo>
                  <a:lnTo>
                    <a:pt x="477" y="181"/>
                  </a:lnTo>
                  <a:lnTo>
                    <a:pt x="437" y="177"/>
                  </a:lnTo>
                  <a:lnTo>
                    <a:pt x="397" y="172"/>
                  </a:lnTo>
                  <a:lnTo>
                    <a:pt x="358" y="164"/>
                  </a:lnTo>
                  <a:lnTo>
                    <a:pt x="318" y="159"/>
                  </a:lnTo>
                  <a:lnTo>
                    <a:pt x="283" y="146"/>
                  </a:lnTo>
                  <a:lnTo>
                    <a:pt x="251" y="137"/>
                  </a:lnTo>
                  <a:lnTo>
                    <a:pt x="224" y="128"/>
                  </a:lnTo>
                  <a:lnTo>
                    <a:pt x="265" y="146"/>
                  </a:lnTo>
                  <a:lnTo>
                    <a:pt x="300" y="159"/>
                  </a:lnTo>
                  <a:lnTo>
                    <a:pt x="331" y="168"/>
                  </a:lnTo>
                  <a:lnTo>
                    <a:pt x="353" y="177"/>
                  </a:lnTo>
                  <a:lnTo>
                    <a:pt x="371" y="181"/>
                  </a:lnTo>
                  <a:lnTo>
                    <a:pt x="389" y="190"/>
                  </a:lnTo>
                  <a:lnTo>
                    <a:pt x="402" y="195"/>
                  </a:lnTo>
                  <a:lnTo>
                    <a:pt x="415" y="199"/>
                  </a:lnTo>
                  <a:lnTo>
                    <a:pt x="349" y="186"/>
                  </a:lnTo>
                  <a:lnTo>
                    <a:pt x="292" y="172"/>
                  </a:lnTo>
                  <a:lnTo>
                    <a:pt x="233" y="146"/>
                  </a:lnTo>
                  <a:lnTo>
                    <a:pt x="189" y="124"/>
                  </a:lnTo>
                  <a:lnTo>
                    <a:pt x="141" y="97"/>
                  </a:lnTo>
                  <a:lnTo>
                    <a:pt x="97" y="70"/>
                  </a:lnTo>
                  <a:lnTo>
                    <a:pt x="48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14480" y="841320"/>
              <a:ext cx="163800" cy="28800"/>
            </a:xfrm>
            <a:custGeom>
              <a:avLst/>
              <a:gdLst/>
              <a:ahLst/>
              <a:rect l="0" t="0" r="r" b="b"/>
              <a:pathLst>
                <a:path w="455" h="80">
                  <a:moveTo>
                    <a:pt x="0" y="0"/>
                  </a:moveTo>
                  <a:lnTo>
                    <a:pt x="13" y="4"/>
                  </a:lnTo>
                  <a:lnTo>
                    <a:pt x="35" y="13"/>
                  </a:lnTo>
                  <a:lnTo>
                    <a:pt x="61" y="22"/>
                  </a:lnTo>
                  <a:lnTo>
                    <a:pt x="97" y="30"/>
                  </a:lnTo>
                  <a:lnTo>
                    <a:pt x="127" y="39"/>
                  </a:lnTo>
                  <a:lnTo>
                    <a:pt x="158" y="49"/>
                  </a:lnTo>
                  <a:lnTo>
                    <a:pt x="180" y="53"/>
                  </a:lnTo>
                  <a:lnTo>
                    <a:pt x="198" y="58"/>
                  </a:lnTo>
                  <a:lnTo>
                    <a:pt x="216" y="58"/>
                  </a:lnTo>
                  <a:lnTo>
                    <a:pt x="247" y="49"/>
                  </a:lnTo>
                  <a:lnTo>
                    <a:pt x="283" y="49"/>
                  </a:lnTo>
                  <a:lnTo>
                    <a:pt x="322" y="39"/>
                  </a:lnTo>
                  <a:lnTo>
                    <a:pt x="367" y="39"/>
                  </a:lnTo>
                  <a:lnTo>
                    <a:pt x="402" y="35"/>
                  </a:lnTo>
                  <a:lnTo>
                    <a:pt x="433" y="35"/>
                  </a:lnTo>
                  <a:lnTo>
                    <a:pt x="455" y="39"/>
                  </a:lnTo>
                  <a:lnTo>
                    <a:pt x="433" y="39"/>
                  </a:lnTo>
                  <a:lnTo>
                    <a:pt x="402" y="49"/>
                  </a:lnTo>
                  <a:lnTo>
                    <a:pt x="362" y="58"/>
                  </a:lnTo>
                  <a:lnTo>
                    <a:pt x="322" y="62"/>
                  </a:lnTo>
                  <a:lnTo>
                    <a:pt x="287" y="71"/>
                  </a:lnTo>
                  <a:lnTo>
                    <a:pt x="247" y="75"/>
                  </a:lnTo>
                  <a:lnTo>
                    <a:pt x="216" y="80"/>
                  </a:lnTo>
                  <a:lnTo>
                    <a:pt x="194" y="80"/>
                  </a:lnTo>
                  <a:lnTo>
                    <a:pt x="176" y="75"/>
                  </a:lnTo>
                  <a:lnTo>
                    <a:pt x="149" y="67"/>
                  </a:lnTo>
                  <a:lnTo>
                    <a:pt x="119" y="53"/>
                  </a:lnTo>
                  <a:lnTo>
                    <a:pt x="92" y="39"/>
                  </a:lnTo>
                  <a:lnTo>
                    <a:pt x="66" y="26"/>
                  </a:lnTo>
                  <a:lnTo>
                    <a:pt x="35" y="13"/>
                  </a:lnTo>
                  <a:lnTo>
                    <a:pt x="1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36800" y="736560"/>
              <a:ext cx="174960" cy="95760"/>
            </a:xfrm>
            <a:custGeom>
              <a:avLst/>
              <a:gdLst/>
              <a:ahLst/>
              <a:rect l="0" t="0" r="r" b="b"/>
              <a:pathLst>
                <a:path w="486" h="266">
                  <a:moveTo>
                    <a:pt x="0" y="0"/>
                  </a:moveTo>
                  <a:lnTo>
                    <a:pt x="8" y="8"/>
                  </a:lnTo>
                  <a:lnTo>
                    <a:pt x="35" y="13"/>
                  </a:lnTo>
                  <a:lnTo>
                    <a:pt x="66" y="22"/>
                  </a:lnTo>
                  <a:lnTo>
                    <a:pt x="101" y="35"/>
                  </a:lnTo>
                  <a:lnTo>
                    <a:pt x="141" y="44"/>
                  </a:lnTo>
                  <a:lnTo>
                    <a:pt x="176" y="57"/>
                  </a:lnTo>
                  <a:lnTo>
                    <a:pt x="207" y="71"/>
                  </a:lnTo>
                  <a:lnTo>
                    <a:pt x="233" y="84"/>
                  </a:lnTo>
                  <a:lnTo>
                    <a:pt x="261" y="106"/>
                  </a:lnTo>
                  <a:lnTo>
                    <a:pt x="296" y="128"/>
                  </a:lnTo>
                  <a:lnTo>
                    <a:pt x="331" y="155"/>
                  </a:lnTo>
                  <a:lnTo>
                    <a:pt x="367" y="186"/>
                  </a:lnTo>
                  <a:lnTo>
                    <a:pt x="402" y="213"/>
                  </a:lnTo>
                  <a:lnTo>
                    <a:pt x="433" y="235"/>
                  </a:lnTo>
                  <a:lnTo>
                    <a:pt x="455" y="257"/>
                  </a:lnTo>
                  <a:lnTo>
                    <a:pt x="472" y="266"/>
                  </a:lnTo>
                  <a:lnTo>
                    <a:pt x="450" y="244"/>
                  </a:lnTo>
                  <a:lnTo>
                    <a:pt x="428" y="226"/>
                  </a:lnTo>
                  <a:lnTo>
                    <a:pt x="411" y="204"/>
                  </a:lnTo>
                  <a:lnTo>
                    <a:pt x="393" y="186"/>
                  </a:lnTo>
                  <a:lnTo>
                    <a:pt x="380" y="172"/>
                  </a:lnTo>
                  <a:lnTo>
                    <a:pt x="362" y="159"/>
                  </a:lnTo>
                  <a:lnTo>
                    <a:pt x="349" y="150"/>
                  </a:lnTo>
                  <a:lnTo>
                    <a:pt x="340" y="142"/>
                  </a:lnTo>
                  <a:lnTo>
                    <a:pt x="353" y="150"/>
                  </a:lnTo>
                  <a:lnTo>
                    <a:pt x="380" y="164"/>
                  </a:lnTo>
                  <a:lnTo>
                    <a:pt x="402" y="177"/>
                  </a:lnTo>
                  <a:lnTo>
                    <a:pt x="424" y="190"/>
                  </a:lnTo>
                  <a:lnTo>
                    <a:pt x="441" y="204"/>
                  </a:lnTo>
                  <a:lnTo>
                    <a:pt x="459" y="222"/>
                  </a:lnTo>
                  <a:lnTo>
                    <a:pt x="477" y="231"/>
                  </a:lnTo>
                  <a:lnTo>
                    <a:pt x="486" y="240"/>
                  </a:lnTo>
                  <a:lnTo>
                    <a:pt x="459" y="213"/>
                  </a:lnTo>
                  <a:lnTo>
                    <a:pt x="433" y="186"/>
                  </a:lnTo>
                  <a:lnTo>
                    <a:pt x="402" y="164"/>
                  </a:lnTo>
                  <a:lnTo>
                    <a:pt x="367" y="142"/>
                  </a:lnTo>
                  <a:lnTo>
                    <a:pt x="331" y="115"/>
                  </a:lnTo>
                  <a:lnTo>
                    <a:pt x="300" y="98"/>
                  </a:lnTo>
                  <a:lnTo>
                    <a:pt x="269" y="80"/>
                  </a:lnTo>
                  <a:lnTo>
                    <a:pt x="247" y="71"/>
                  </a:lnTo>
                  <a:lnTo>
                    <a:pt x="287" y="89"/>
                  </a:lnTo>
                  <a:lnTo>
                    <a:pt x="318" y="106"/>
                  </a:lnTo>
                  <a:lnTo>
                    <a:pt x="349" y="115"/>
                  </a:lnTo>
                  <a:lnTo>
                    <a:pt x="371" y="128"/>
                  </a:lnTo>
                  <a:lnTo>
                    <a:pt x="389" y="137"/>
                  </a:lnTo>
                  <a:lnTo>
                    <a:pt x="402" y="142"/>
                  </a:lnTo>
                  <a:lnTo>
                    <a:pt x="419" y="150"/>
                  </a:lnTo>
                  <a:lnTo>
                    <a:pt x="433" y="159"/>
                  </a:lnTo>
                  <a:lnTo>
                    <a:pt x="380" y="120"/>
                  </a:lnTo>
                  <a:lnTo>
                    <a:pt x="322" y="93"/>
                  </a:lnTo>
                  <a:lnTo>
                    <a:pt x="269" y="67"/>
                  </a:lnTo>
                  <a:lnTo>
                    <a:pt x="220" y="44"/>
                  </a:lnTo>
                  <a:lnTo>
                    <a:pt x="167" y="35"/>
                  </a:lnTo>
                  <a:lnTo>
                    <a:pt x="114" y="22"/>
                  </a:lnTo>
                  <a:lnTo>
                    <a:pt x="57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52640" y="749160"/>
              <a:ext cx="125640" cy="106560"/>
            </a:xfrm>
            <a:custGeom>
              <a:avLst/>
              <a:gdLst/>
              <a:ahLst/>
              <a:rect l="0" t="0" r="r" b="b"/>
              <a:pathLst>
                <a:path w="349" h="296">
                  <a:moveTo>
                    <a:pt x="0" y="0"/>
                  </a:moveTo>
                  <a:lnTo>
                    <a:pt x="13" y="4"/>
                  </a:lnTo>
                  <a:lnTo>
                    <a:pt x="35" y="13"/>
                  </a:lnTo>
                  <a:lnTo>
                    <a:pt x="61" y="26"/>
                  </a:lnTo>
                  <a:lnTo>
                    <a:pt x="92" y="44"/>
                  </a:lnTo>
                  <a:lnTo>
                    <a:pt x="119" y="61"/>
                  </a:lnTo>
                  <a:lnTo>
                    <a:pt x="149" y="74"/>
                  </a:lnTo>
                  <a:lnTo>
                    <a:pt x="167" y="88"/>
                  </a:lnTo>
                  <a:lnTo>
                    <a:pt x="181" y="97"/>
                  </a:lnTo>
                  <a:lnTo>
                    <a:pt x="195" y="114"/>
                  </a:lnTo>
                  <a:lnTo>
                    <a:pt x="212" y="136"/>
                  </a:lnTo>
                  <a:lnTo>
                    <a:pt x="234" y="164"/>
                  </a:lnTo>
                  <a:lnTo>
                    <a:pt x="261" y="199"/>
                  </a:lnTo>
                  <a:lnTo>
                    <a:pt x="287" y="230"/>
                  </a:lnTo>
                  <a:lnTo>
                    <a:pt x="309" y="261"/>
                  </a:lnTo>
                  <a:lnTo>
                    <a:pt x="336" y="283"/>
                  </a:lnTo>
                  <a:lnTo>
                    <a:pt x="349" y="296"/>
                  </a:lnTo>
                  <a:lnTo>
                    <a:pt x="336" y="274"/>
                  </a:lnTo>
                  <a:lnTo>
                    <a:pt x="318" y="247"/>
                  </a:lnTo>
                  <a:lnTo>
                    <a:pt x="300" y="217"/>
                  </a:lnTo>
                  <a:lnTo>
                    <a:pt x="274" y="181"/>
                  </a:lnTo>
                  <a:lnTo>
                    <a:pt x="252" y="150"/>
                  </a:lnTo>
                  <a:lnTo>
                    <a:pt x="230" y="119"/>
                  </a:lnTo>
                  <a:lnTo>
                    <a:pt x="212" y="92"/>
                  </a:lnTo>
                  <a:lnTo>
                    <a:pt x="195" y="79"/>
                  </a:lnTo>
                  <a:lnTo>
                    <a:pt x="181" y="70"/>
                  </a:lnTo>
                  <a:lnTo>
                    <a:pt x="154" y="57"/>
                  </a:lnTo>
                  <a:lnTo>
                    <a:pt x="127" y="44"/>
                  </a:lnTo>
                  <a:lnTo>
                    <a:pt x="97" y="35"/>
                  </a:lnTo>
                  <a:lnTo>
                    <a:pt x="70" y="22"/>
                  </a:lnTo>
                  <a:lnTo>
                    <a:pt x="39" y="13"/>
                  </a:lnTo>
                  <a:lnTo>
                    <a:pt x="1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93600" y="1106640"/>
              <a:ext cx="187560" cy="68760"/>
            </a:xfrm>
            <a:custGeom>
              <a:avLst/>
              <a:gdLst/>
              <a:ahLst/>
              <a:rect l="0" t="0" r="r" b="b"/>
              <a:pathLst>
                <a:path w="521" h="191">
                  <a:moveTo>
                    <a:pt x="0" y="191"/>
                  </a:moveTo>
                  <a:lnTo>
                    <a:pt x="8" y="187"/>
                  </a:lnTo>
                  <a:lnTo>
                    <a:pt x="35" y="178"/>
                  </a:lnTo>
                  <a:lnTo>
                    <a:pt x="61" y="160"/>
                  </a:lnTo>
                  <a:lnTo>
                    <a:pt x="92" y="147"/>
                  </a:lnTo>
                  <a:lnTo>
                    <a:pt x="127" y="124"/>
                  </a:lnTo>
                  <a:lnTo>
                    <a:pt x="158" y="111"/>
                  </a:lnTo>
                  <a:lnTo>
                    <a:pt x="194" y="93"/>
                  </a:lnTo>
                  <a:lnTo>
                    <a:pt x="224" y="84"/>
                  </a:lnTo>
                  <a:lnTo>
                    <a:pt x="255" y="75"/>
                  </a:lnTo>
                  <a:lnTo>
                    <a:pt x="296" y="71"/>
                  </a:lnTo>
                  <a:lnTo>
                    <a:pt x="340" y="67"/>
                  </a:lnTo>
                  <a:lnTo>
                    <a:pt x="389" y="62"/>
                  </a:lnTo>
                  <a:lnTo>
                    <a:pt x="428" y="58"/>
                  </a:lnTo>
                  <a:lnTo>
                    <a:pt x="468" y="53"/>
                  </a:lnTo>
                  <a:lnTo>
                    <a:pt x="499" y="49"/>
                  </a:lnTo>
                  <a:lnTo>
                    <a:pt x="521" y="44"/>
                  </a:lnTo>
                  <a:lnTo>
                    <a:pt x="486" y="44"/>
                  </a:lnTo>
                  <a:lnTo>
                    <a:pt x="459" y="49"/>
                  </a:lnTo>
                  <a:lnTo>
                    <a:pt x="433" y="49"/>
                  </a:lnTo>
                  <a:lnTo>
                    <a:pt x="406" y="49"/>
                  </a:lnTo>
                  <a:lnTo>
                    <a:pt x="384" y="49"/>
                  </a:lnTo>
                  <a:lnTo>
                    <a:pt x="367" y="49"/>
                  </a:lnTo>
                  <a:lnTo>
                    <a:pt x="349" y="49"/>
                  </a:lnTo>
                  <a:lnTo>
                    <a:pt x="336" y="49"/>
                  </a:lnTo>
                  <a:lnTo>
                    <a:pt x="353" y="44"/>
                  </a:lnTo>
                  <a:lnTo>
                    <a:pt x="380" y="35"/>
                  </a:lnTo>
                  <a:lnTo>
                    <a:pt x="402" y="30"/>
                  </a:lnTo>
                  <a:lnTo>
                    <a:pt x="428" y="26"/>
                  </a:lnTo>
                  <a:lnTo>
                    <a:pt x="455" y="22"/>
                  </a:lnTo>
                  <a:lnTo>
                    <a:pt x="477" y="17"/>
                  </a:lnTo>
                  <a:lnTo>
                    <a:pt x="499" y="13"/>
                  </a:lnTo>
                  <a:lnTo>
                    <a:pt x="508" y="13"/>
                  </a:lnTo>
                  <a:lnTo>
                    <a:pt x="472" y="13"/>
                  </a:lnTo>
                  <a:lnTo>
                    <a:pt x="437" y="17"/>
                  </a:lnTo>
                  <a:lnTo>
                    <a:pt x="393" y="26"/>
                  </a:lnTo>
                  <a:lnTo>
                    <a:pt x="353" y="30"/>
                  </a:lnTo>
                  <a:lnTo>
                    <a:pt x="318" y="35"/>
                  </a:lnTo>
                  <a:lnTo>
                    <a:pt x="278" y="49"/>
                  </a:lnTo>
                  <a:lnTo>
                    <a:pt x="246" y="58"/>
                  </a:lnTo>
                  <a:lnTo>
                    <a:pt x="224" y="67"/>
                  </a:lnTo>
                  <a:lnTo>
                    <a:pt x="261" y="49"/>
                  </a:lnTo>
                  <a:lnTo>
                    <a:pt x="296" y="35"/>
                  </a:lnTo>
                  <a:lnTo>
                    <a:pt x="327" y="26"/>
                  </a:lnTo>
                  <a:lnTo>
                    <a:pt x="349" y="17"/>
                  </a:lnTo>
                  <a:lnTo>
                    <a:pt x="367" y="13"/>
                  </a:lnTo>
                  <a:lnTo>
                    <a:pt x="384" y="4"/>
                  </a:lnTo>
                  <a:lnTo>
                    <a:pt x="402" y="0"/>
                  </a:lnTo>
                  <a:lnTo>
                    <a:pt x="415" y="0"/>
                  </a:lnTo>
                  <a:lnTo>
                    <a:pt x="344" y="13"/>
                  </a:lnTo>
                  <a:lnTo>
                    <a:pt x="287" y="26"/>
                  </a:lnTo>
                  <a:lnTo>
                    <a:pt x="233" y="49"/>
                  </a:lnTo>
                  <a:lnTo>
                    <a:pt x="185" y="67"/>
                  </a:lnTo>
                  <a:lnTo>
                    <a:pt x="141" y="93"/>
                  </a:lnTo>
                  <a:lnTo>
                    <a:pt x="92" y="120"/>
                  </a:lnTo>
                  <a:lnTo>
                    <a:pt x="44" y="156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12680" y="1143000"/>
              <a:ext cx="163800" cy="28800"/>
            </a:xfrm>
            <a:custGeom>
              <a:avLst/>
              <a:gdLst/>
              <a:ahLst/>
              <a:rect l="0" t="0" r="r" b="b"/>
              <a:pathLst>
                <a:path w="455" h="80">
                  <a:moveTo>
                    <a:pt x="0" y="80"/>
                  </a:moveTo>
                  <a:lnTo>
                    <a:pt x="13" y="75"/>
                  </a:lnTo>
                  <a:lnTo>
                    <a:pt x="35" y="67"/>
                  </a:lnTo>
                  <a:lnTo>
                    <a:pt x="66" y="58"/>
                  </a:lnTo>
                  <a:lnTo>
                    <a:pt x="97" y="49"/>
                  </a:lnTo>
                  <a:lnTo>
                    <a:pt x="127" y="45"/>
                  </a:lnTo>
                  <a:lnTo>
                    <a:pt x="158" y="30"/>
                  </a:lnTo>
                  <a:lnTo>
                    <a:pt x="180" y="30"/>
                  </a:lnTo>
                  <a:lnTo>
                    <a:pt x="198" y="26"/>
                  </a:lnTo>
                  <a:lnTo>
                    <a:pt x="220" y="26"/>
                  </a:lnTo>
                  <a:lnTo>
                    <a:pt x="247" y="30"/>
                  </a:lnTo>
                  <a:lnTo>
                    <a:pt x="283" y="35"/>
                  </a:lnTo>
                  <a:lnTo>
                    <a:pt x="327" y="39"/>
                  </a:lnTo>
                  <a:lnTo>
                    <a:pt x="367" y="45"/>
                  </a:lnTo>
                  <a:lnTo>
                    <a:pt x="402" y="49"/>
                  </a:lnTo>
                  <a:lnTo>
                    <a:pt x="433" y="49"/>
                  </a:lnTo>
                  <a:lnTo>
                    <a:pt x="455" y="45"/>
                  </a:lnTo>
                  <a:lnTo>
                    <a:pt x="433" y="39"/>
                  </a:lnTo>
                  <a:lnTo>
                    <a:pt x="402" y="30"/>
                  </a:lnTo>
                  <a:lnTo>
                    <a:pt x="362" y="26"/>
                  </a:lnTo>
                  <a:lnTo>
                    <a:pt x="327" y="17"/>
                  </a:lnTo>
                  <a:lnTo>
                    <a:pt x="287" y="8"/>
                  </a:lnTo>
                  <a:lnTo>
                    <a:pt x="247" y="4"/>
                  </a:lnTo>
                  <a:lnTo>
                    <a:pt x="216" y="0"/>
                  </a:lnTo>
                  <a:lnTo>
                    <a:pt x="194" y="0"/>
                  </a:lnTo>
                  <a:lnTo>
                    <a:pt x="171" y="4"/>
                  </a:lnTo>
                  <a:lnTo>
                    <a:pt x="145" y="13"/>
                  </a:lnTo>
                  <a:lnTo>
                    <a:pt x="123" y="22"/>
                  </a:lnTo>
                  <a:lnTo>
                    <a:pt x="92" y="35"/>
                  </a:lnTo>
                  <a:lnTo>
                    <a:pt x="66" y="49"/>
                  </a:lnTo>
                  <a:lnTo>
                    <a:pt x="39" y="62"/>
                  </a:lnTo>
                  <a:lnTo>
                    <a:pt x="17" y="71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33560" y="1182600"/>
              <a:ext cx="176400" cy="93960"/>
            </a:xfrm>
            <a:custGeom>
              <a:avLst/>
              <a:gdLst/>
              <a:ahLst/>
              <a:rect l="0" t="0" r="r" b="b"/>
              <a:pathLst>
                <a:path w="490" h="261">
                  <a:moveTo>
                    <a:pt x="0" y="261"/>
                  </a:moveTo>
                  <a:lnTo>
                    <a:pt x="13" y="252"/>
                  </a:lnTo>
                  <a:lnTo>
                    <a:pt x="39" y="247"/>
                  </a:lnTo>
                  <a:lnTo>
                    <a:pt x="66" y="239"/>
                  </a:lnTo>
                  <a:lnTo>
                    <a:pt x="101" y="230"/>
                  </a:lnTo>
                  <a:lnTo>
                    <a:pt x="141" y="217"/>
                  </a:lnTo>
                  <a:lnTo>
                    <a:pt x="176" y="203"/>
                  </a:lnTo>
                  <a:lnTo>
                    <a:pt x="207" y="195"/>
                  </a:lnTo>
                  <a:lnTo>
                    <a:pt x="238" y="181"/>
                  </a:lnTo>
                  <a:lnTo>
                    <a:pt x="269" y="159"/>
                  </a:lnTo>
                  <a:lnTo>
                    <a:pt x="300" y="137"/>
                  </a:lnTo>
                  <a:lnTo>
                    <a:pt x="336" y="110"/>
                  </a:lnTo>
                  <a:lnTo>
                    <a:pt x="371" y="79"/>
                  </a:lnTo>
                  <a:lnTo>
                    <a:pt x="402" y="48"/>
                  </a:lnTo>
                  <a:lnTo>
                    <a:pt x="433" y="26"/>
                  </a:lnTo>
                  <a:lnTo>
                    <a:pt x="459" y="8"/>
                  </a:lnTo>
                  <a:lnTo>
                    <a:pt x="477" y="0"/>
                  </a:lnTo>
                  <a:lnTo>
                    <a:pt x="455" y="22"/>
                  </a:lnTo>
                  <a:lnTo>
                    <a:pt x="433" y="39"/>
                  </a:lnTo>
                  <a:lnTo>
                    <a:pt x="411" y="61"/>
                  </a:lnTo>
                  <a:lnTo>
                    <a:pt x="397" y="74"/>
                  </a:lnTo>
                  <a:lnTo>
                    <a:pt x="380" y="92"/>
                  </a:lnTo>
                  <a:lnTo>
                    <a:pt x="367" y="105"/>
                  </a:lnTo>
                  <a:lnTo>
                    <a:pt x="353" y="114"/>
                  </a:lnTo>
                  <a:lnTo>
                    <a:pt x="344" y="123"/>
                  </a:lnTo>
                  <a:lnTo>
                    <a:pt x="362" y="114"/>
                  </a:lnTo>
                  <a:lnTo>
                    <a:pt x="380" y="101"/>
                  </a:lnTo>
                  <a:lnTo>
                    <a:pt x="402" y="88"/>
                  </a:lnTo>
                  <a:lnTo>
                    <a:pt x="424" y="74"/>
                  </a:lnTo>
                  <a:lnTo>
                    <a:pt x="446" y="61"/>
                  </a:lnTo>
                  <a:lnTo>
                    <a:pt x="468" y="44"/>
                  </a:lnTo>
                  <a:lnTo>
                    <a:pt x="481" y="35"/>
                  </a:lnTo>
                  <a:lnTo>
                    <a:pt x="490" y="26"/>
                  </a:lnTo>
                  <a:lnTo>
                    <a:pt x="464" y="48"/>
                  </a:lnTo>
                  <a:lnTo>
                    <a:pt x="433" y="74"/>
                  </a:lnTo>
                  <a:lnTo>
                    <a:pt x="402" y="97"/>
                  </a:lnTo>
                  <a:lnTo>
                    <a:pt x="371" y="123"/>
                  </a:lnTo>
                  <a:lnTo>
                    <a:pt x="340" y="146"/>
                  </a:lnTo>
                  <a:lnTo>
                    <a:pt x="305" y="164"/>
                  </a:lnTo>
                  <a:lnTo>
                    <a:pt x="278" y="181"/>
                  </a:lnTo>
                  <a:lnTo>
                    <a:pt x="252" y="190"/>
                  </a:lnTo>
                  <a:lnTo>
                    <a:pt x="292" y="172"/>
                  </a:lnTo>
                  <a:lnTo>
                    <a:pt x="327" y="159"/>
                  </a:lnTo>
                  <a:lnTo>
                    <a:pt x="353" y="146"/>
                  </a:lnTo>
                  <a:lnTo>
                    <a:pt x="375" y="137"/>
                  </a:lnTo>
                  <a:lnTo>
                    <a:pt x="393" y="127"/>
                  </a:lnTo>
                  <a:lnTo>
                    <a:pt x="411" y="123"/>
                  </a:lnTo>
                  <a:lnTo>
                    <a:pt x="424" y="110"/>
                  </a:lnTo>
                  <a:lnTo>
                    <a:pt x="433" y="105"/>
                  </a:lnTo>
                  <a:lnTo>
                    <a:pt x="380" y="146"/>
                  </a:lnTo>
                  <a:lnTo>
                    <a:pt x="327" y="172"/>
                  </a:lnTo>
                  <a:lnTo>
                    <a:pt x="274" y="199"/>
                  </a:lnTo>
                  <a:lnTo>
                    <a:pt x="220" y="217"/>
                  </a:lnTo>
                  <a:lnTo>
                    <a:pt x="171" y="230"/>
                  </a:lnTo>
                  <a:lnTo>
                    <a:pt x="119" y="239"/>
                  </a:lnTo>
                  <a:lnTo>
                    <a:pt x="61" y="252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50840" y="1158840"/>
              <a:ext cx="125640" cy="106560"/>
            </a:xfrm>
            <a:custGeom>
              <a:avLst/>
              <a:gdLst/>
              <a:ahLst/>
              <a:rect l="0" t="0" r="r" b="b"/>
              <a:pathLst>
                <a:path w="349" h="296">
                  <a:moveTo>
                    <a:pt x="0" y="296"/>
                  </a:moveTo>
                  <a:lnTo>
                    <a:pt x="13" y="287"/>
                  </a:lnTo>
                  <a:lnTo>
                    <a:pt x="30" y="278"/>
                  </a:lnTo>
                  <a:lnTo>
                    <a:pt x="61" y="265"/>
                  </a:lnTo>
                  <a:lnTo>
                    <a:pt x="88" y="247"/>
                  </a:lnTo>
                  <a:lnTo>
                    <a:pt x="119" y="230"/>
                  </a:lnTo>
                  <a:lnTo>
                    <a:pt x="149" y="217"/>
                  </a:lnTo>
                  <a:lnTo>
                    <a:pt x="167" y="203"/>
                  </a:lnTo>
                  <a:lnTo>
                    <a:pt x="181" y="195"/>
                  </a:lnTo>
                  <a:lnTo>
                    <a:pt x="195" y="181"/>
                  </a:lnTo>
                  <a:lnTo>
                    <a:pt x="208" y="155"/>
                  </a:lnTo>
                  <a:lnTo>
                    <a:pt x="230" y="127"/>
                  </a:lnTo>
                  <a:lnTo>
                    <a:pt x="256" y="92"/>
                  </a:lnTo>
                  <a:lnTo>
                    <a:pt x="283" y="61"/>
                  </a:lnTo>
                  <a:lnTo>
                    <a:pt x="309" y="35"/>
                  </a:lnTo>
                  <a:lnTo>
                    <a:pt x="331" y="8"/>
                  </a:lnTo>
                  <a:lnTo>
                    <a:pt x="349" y="0"/>
                  </a:lnTo>
                  <a:lnTo>
                    <a:pt x="340" y="17"/>
                  </a:lnTo>
                  <a:lnTo>
                    <a:pt x="318" y="44"/>
                  </a:lnTo>
                  <a:lnTo>
                    <a:pt x="300" y="79"/>
                  </a:lnTo>
                  <a:lnTo>
                    <a:pt x="278" y="110"/>
                  </a:lnTo>
                  <a:lnTo>
                    <a:pt x="252" y="145"/>
                  </a:lnTo>
                  <a:lnTo>
                    <a:pt x="230" y="177"/>
                  </a:lnTo>
                  <a:lnTo>
                    <a:pt x="208" y="199"/>
                  </a:lnTo>
                  <a:lnTo>
                    <a:pt x="195" y="212"/>
                  </a:lnTo>
                  <a:lnTo>
                    <a:pt x="177" y="225"/>
                  </a:lnTo>
                  <a:lnTo>
                    <a:pt x="154" y="234"/>
                  </a:lnTo>
                  <a:lnTo>
                    <a:pt x="123" y="247"/>
                  </a:lnTo>
                  <a:lnTo>
                    <a:pt x="97" y="261"/>
                  </a:lnTo>
                  <a:lnTo>
                    <a:pt x="66" y="269"/>
                  </a:lnTo>
                  <a:lnTo>
                    <a:pt x="39" y="278"/>
                  </a:lnTo>
                  <a:lnTo>
                    <a:pt x="17" y="287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06560" y="836640"/>
              <a:ext cx="187560" cy="71640"/>
            </a:xfrm>
            <a:custGeom>
              <a:avLst/>
              <a:gdLst/>
              <a:ahLst/>
              <a:rect l="0" t="0" r="r" b="b"/>
              <a:pathLst>
                <a:path w="521" h="199">
                  <a:moveTo>
                    <a:pt x="521" y="0"/>
                  </a:moveTo>
                  <a:lnTo>
                    <a:pt x="512" y="4"/>
                  </a:lnTo>
                  <a:lnTo>
                    <a:pt x="486" y="17"/>
                  </a:lnTo>
                  <a:lnTo>
                    <a:pt x="459" y="30"/>
                  </a:lnTo>
                  <a:lnTo>
                    <a:pt x="428" y="52"/>
                  </a:lnTo>
                  <a:lnTo>
                    <a:pt x="393" y="70"/>
                  </a:lnTo>
                  <a:lnTo>
                    <a:pt x="358" y="88"/>
                  </a:lnTo>
                  <a:lnTo>
                    <a:pt x="322" y="102"/>
                  </a:lnTo>
                  <a:lnTo>
                    <a:pt x="296" y="111"/>
                  </a:lnTo>
                  <a:lnTo>
                    <a:pt x="261" y="120"/>
                  </a:lnTo>
                  <a:lnTo>
                    <a:pt x="224" y="124"/>
                  </a:lnTo>
                  <a:lnTo>
                    <a:pt x="176" y="128"/>
                  </a:lnTo>
                  <a:lnTo>
                    <a:pt x="132" y="137"/>
                  </a:lnTo>
                  <a:lnTo>
                    <a:pt x="88" y="137"/>
                  </a:lnTo>
                  <a:lnTo>
                    <a:pt x="48" y="146"/>
                  </a:lnTo>
                  <a:lnTo>
                    <a:pt x="22" y="146"/>
                  </a:lnTo>
                  <a:lnTo>
                    <a:pt x="0" y="155"/>
                  </a:lnTo>
                  <a:lnTo>
                    <a:pt x="35" y="155"/>
                  </a:lnTo>
                  <a:lnTo>
                    <a:pt x="61" y="150"/>
                  </a:lnTo>
                  <a:lnTo>
                    <a:pt x="88" y="150"/>
                  </a:lnTo>
                  <a:lnTo>
                    <a:pt x="114" y="150"/>
                  </a:lnTo>
                  <a:lnTo>
                    <a:pt x="136" y="146"/>
                  </a:lnTo>
                  <a:lnTo>
                    <a:pt x="154" y="146"/>
                  </a:lnTo>
                  <a:lnTo>
                    <a:pt x="171" y="146"/>
                  </a:lnTo>
                  <a:lnTo>
                    <a:pt x="185" y="146"/>
                  </a:lnTo>
                  <a:lnTo>
                    <a:pt x="167" y="150"/>
                  </a:lnTo>
                  <a:lnTo>
                    <a:pt x="141" y="159"/>
                  </a:lnTo>
                  <a:lnTo>
                    <a:pt x="119" y="164"/>
                  </a:lnTo>
                  <a:lnTo>
                    <a:pt x="92" y="172"/>
                  </a:lnTo>
                  <a:lnTo>
                    <a:pt x="61" y="177"/>
                  </a:lnTo>
                  <a:lnTo>
                    <a:pt x="39" y="181"/>
                  </a:lnTo>
                  <a:lnTo>
                    <a:pt x="22" y="181"/>
                  </a:lnTo>
                  <a:lnTo>
                    <a:pt x="8" y="181"/>
                  </a:lnTo>
                  <a:lnTo>
                    <a:pt x="44" y="181"/>
                  </a:lnTo>
                  <a:lnTo>
                    <a:pt x="83" y="177"/>
                  </a:lnTo>
                  <a:lnTo>
                    <a:pt x="123" y="172"/>
                  </a:lnTo>
                  <a:lnTo>
                    <a:pt x="167" y="164"/>
                  </a:lnTo>
                  <a:lnTo>
                    <a:pt x="202" y="159"/>
                  </a:lnTo>
                  <a:lnTo>
                    <a:pt x="238" y="146"/>
                  </a:lnTo>
                  <a:lnTo>
                    <a:pt x="274" y="137"/>
                  </a:lnTo>
                  <a:lnTo>
                    <a:pt x="296" y="128"/>
                  </a:lnTo>
                  <a:lnTo>
                    <a:pt x="255" y="146"/>
                  </a:lnTo>
                  <a:lnTo>
                    <a:pt x="224" y="159"/>
                  </a:lnTo>
                  <a:lnTo>
                    <a:pt x="194" y="168"/>
                  </a:lnTo>
                  <a:lnTo>
                    <a:pt x="171" y="177"/>
                  </a:lnTo>
                  <a:lnTo>
                    <a:pt x="154" y="181"/>
                  </a:lnTo>
                  <a:lnTo>
                    <a:pt x="132" y="190"/>
                  </a:lnTo>
                  <a:lnTo>
                    <a:pt x="119" y="195"/>
                  </a:lnTo>
                  <a:lnTo>
                    <a:pt x="105" y="199"/>
                  </a:lnTo>
                  <a:lnTo>
                    <a:pt x="171" y="186"/>
                  </a:lnTo>
                  <a:lnTo>
                    <a:pt x="229" y="172"/>
                  </a:lnTo>
                  <a:lnTo>
                    <a:pt x="287" y="146"/>
                  </a:lnTo>
                  <a:lnTo>
                    <a:pt x="331" y="124"/>
                  </a:lnTo>
                  <a:lnTo>
                    <a:pt x="380" y="97"/>
                  </a:lnTo>
                  <a:lnTo>
                    <a:pt x="428" y="70"/>
                  </a:lnTo>
                  <a:lnTo>
                    <a:pt x="477" y="35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09800" y="841320"/>
              <a:ext cx="163800" cy="28800"/>
            </a:xfrm>
            <a:custGeom>
              <a:avLst/>
              <a:gdLst/>
              <a:ahLst/>
              <a:rect l="0" t="0" r="r" b="b"/>
              <a:pathLst>
                <a:path w="455" h="80">
                  <a:moveTo>
                    <a:pt x="455" y="0"/>
                  </a:moveTo>
                  <a:lnTo>
                    <a:pt x="441" y="4"/>
                  </a:lnTo>
                  <a:lnTo>
                    <a:pt x="419" y="13"/>
                  </a:lnTo>
                  <a:lnTo>
                    <a:pt x="393" y="22"/>
                  </a:lnTo>
                  <a:lnTo>
                    <a:pt x="358" y="30"/>
                  </a:lnTo>
                  <a:lnTo>
                    <a:pt x="327" y="39"/>
                  </a:lnTo>
                  <a:lnTo>
                    <a:pt x="300" y="49"/>
                  </a:lnTo>
                  <a:lnTo>
                    <a:pt x="278" y="53"/>
                  </a:lnTo>
                  <a:lnTo>
                    <a:pt x="261" y="58"/>
                  </a:lnTo>
                  <a:lnTo>
                    <a:pt x="239" y="58"/>
                  </a:lnTo>
                  <a:lnTo>
                    <a:pt x="211" y="49"/>
                  </a:lnTo>
                  <a:lnTo>
                    <a:pt x="176" y="49"/>
                  </a:lnTo>
                  <a:lnTo>
                    <a:pt x="132" y="39"/>
                  </a:lnTo>
                  <a:lnTo>
                    <a:pt x="92" y="39"/>
                  </a:lnTo>
                  <a:lnTo>
                    <a:pt x="52" y="35"/>
                  </a:lnTo>
                  <a:lnTo>
                    <a:pt x="22" y="35"/>
                  </a:lnTo>
                  <a:lnTo>
                    <a:pt x="0" y="39"/>
                  </a:lnTo>
                  <a:lnTo>
                    <a:pt x="26" y="39"/>
                  </a:lnTo>
                  <a:lnTo>
                    <a:pt x="57" y="49"/>
                  </a:lnTo>
                  <a:lnTo>
                    <a:pt x="92" y="58"/>
                  </a:lnTo>
                  <a:lnTo>
                    <a:pt x="132" y="62"/>
                  </a:lnTo>
                  <a:lnTo>
                    <a:pt x="171" y="71"/>
                  </a:lnTo>
                  <a:lnTo>
                    <a:pt x="211" y="75"/>
                  </a:lnTo>
                  <a:lnTo>
                    <a:pt x="239" y="80"/>
                  </a:lnTo>
                  <a:lnTo>
                    <a:pt x="265" y="80"/>
                  </a:lnTo>
                  <a:lnTo>
                    <a:pt x="283" y="75"/>
                  </a:lnTo>
                  <a:lnTo>
                    <a:pt x="309" y="67"/>
                  </a:lnTo>
                  <a:lnTo>
                    <a:pt x="336" y="53"/>
                  </a:lnTo>
                  <a:lnTo>
                    <a:pt x="362" y="39"/>
                  </a:lnTo>
                  <a:lnTo>
                    <a:pt x="389" y="26"/>
                  </a:lnTo>
                  <a:lnTo>
                    <a:pt x="419" y="13"/>
                  </a:lnTo>
                  <a:lnTo>
                    <a:pt x="441" y="4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76320" y="736560"/>
              <a:ext cx="176400" cy="95760"/>
            </a:xfrm>
            <a:custGeom>
              <a:avLst/>
              <a:gdLst/>
              <a:ahLst/>
              <a:rect l="0" t="0" r="r" b="b"/>
              <a:pathLst>
                <a:path w="490" h="266">
                  <a:moveTo>
                    <a:pt x="490" y="0"/>
                  </a:moveTo>
                  <a:lnTo>
                    <a:pt x="477" y="8"/>
                  </a:lnTo>
                  <a:lnTo>
                    <a:pt x="450" y="13"/>
                  </a:lnTo>
                  <a:lnTo>
                    <a:pt x="424" y="22"/>
                  </a:lnTo>
                  <a:lnTo>
                    <a:pt x="389" y="35"/>
                  </a:lnTo>
                  <a:lnTo>
                    <a:pt x="349" y="44"/>
                  </a:lnTo>
                  <a:lnTo>
                    <a:pt x="314" y="57"/>
                  </a:lnTo>
                  <a:lnTo>
                    <a:pt x="278" y="71"/>
                  </a:lnTo>
                  <a:lnTo>
                    <a:pt x="252" y="84"/>
                  </a:lnTo>
                  <a:lnTo>
                    <a:pt x="224" y="106"/>
                  </a:lnTo>
                  <a:lnTo>
                    <a:pt x="189" y="128"/>
                  </a:lnTo>
                  <a:lnTo>
                    <a:pt x="154" y="155"/>
                  </a:lnTo>
                  <a:lnTo>
                    <a:pt x="119" y="186"/>
                  </a:lnTo>
                  <a:lnTo>
                    <a:pt x="88" y="213"/>
                  </a:lnTo>
                  <a:lnTo>
                    <a:pt x="57" y="235"/>
                  </a:lnTo>
                  <a:lnTo>
                    <a:pt x="30" y="257"/>
                  </a:lnTo>
                  <a:lnTo>
                    <a:pt x="13" y="266"/>
                  </a:lnTo>
                  <a:lnTo>
                    <a:pt x="35" y="244"/>
                  </a:lnTo>
                  <a:lnTo>
                    <a:pt x="61" y="226"/>
                  </a:lnTo>
                  <a:lnTo>
                    <a:pt x="79" y="204"/>
                  </a:lnTo>
                  <a:lnTo>
                    <a:pt x="97" y="186"/>
                  </a:lnTo>
                  <a:lnTo>
                    <a:pt x="110" y="172"/>
                  </a:lnTo>
                  <a:lnTo>
                    <a:pt x="123" y="159"/>
                  </a:lnTo>
                  <a:lnTo>
                    <a:pt x="136" y="150"/>
                  </a:lnTo>
                  <a:lnTo>
                    <a:pt x="145" y="142"/>
                  </a:lnTo>
                  <a:lnTo>
                    <a:pt x="132" y="150"/>
                  </a:lnTo>
                  <a:lnTo>
                    <a:pt x="110" y="164"/>
                  </a:lnTo>
                  <a:lnTo>
                    <a:pt x="88" y="177"/>
                  </a:lnTo>
                  <a:lnTo>
                    <a:pt x="66" y="190"/>
                  </a:lnTo>
                  <a:lnTo>
                    <a:pt x="44" y="204"/>
                  </a:lnTo>
                  <a:lnTo>
                    <a:pt x="26" y="222"/>
                  </a:lnTo>
                  <a:lnTo>
                    <a:pt x="13" y="231"/>
                  </a:lnTo>
                  <a:lnTo>
                    <a:pt x="0" y="240"/>
                  </a:lnTo>
                  <a:lnTo>
                    <a:pt x="26" y="213"/>
                  </a:lnTo>
                  <a:lnTo>
                    <a:pt x="57" y="186"/>
                  </a:lnTo>
                  <a:lnTo>
                    <a:pt x="88" y="164"/>
                  </a:lnTo>
                  <a:lnTo>
                    <a:pt x="119" y="142"/>
                  </a:lnTo>
                  <a:lnTo>
                    <a:pt x="154" y="115"/>
                  </a:lnTo>
                  <a:lnTo>
                    <a:pt x="185" y="98"/>
                  </a:lnTo>
                  <a:lnTo>
                    <a:pt x="216" y="80"/>
                  </a:lnTo>
                  <a:lnTo>
                    <a:pt x="238" y="71"/>
                  </a:lnTo>
                  <a:lnTo>
                    <a:pt x="202" y="89"/>
                  </a:lnTo>
                  <a:lnTo>
                    <a:pt x="167" y="106"/>
                  </a:lnTo>
                  <a:lnTo>
                    <a:pt x="141" y="115"/>
                  </a:lnTo>
                  <a:lnTo>
                    <a:pt x="119" y="128"/>
                  </a:lnTo>
                  <a:lnTo>
                    <a:pt x="97" y="137"/>
                  </a:lnTo>
                  <a:lnTo>
                    <a:pt x="83" y="142"/>
                  </a:lnTo>
                  <a:lnTo>
                    <a:pt x="70" y="150"/>
                  </a:lnTo>
                  <a:lnTo>
                    <a:pt x="57" y="159"/>
                  </a:lnTo>
                  <a:lnTo>
                    <a:pt x="110" y="120"/>
                  </a:lnTo>
                  <a:lnTo>
                    <a:pt x="167" y="93"/>
                  </a:lnTo>
                  <a:lnTo>
                    <a:pt x="216" y="67"/>
                  </a:lnTo>
                  <a:lnTo>
                    <a:pt x="269" y="44"/>
                  </a:lnTo>
                  <a:lnTo>
                    <a:pt x="322" y="35"/>
                  </a:lnTo>
                  <a:lnTo>
                    <a:pt x="371" y="22"/>
                  </a:lnTo>
                  <a:lnTo>
                    <a:pt x="428" y="8"/>
                  </a:lnTo>
                  <a:lnTo>
                    <a:pt x="490" y="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09800" y="749160"/>
              <a:ext cx="125640" cy="106560"/>
            </a:xfrm>
            <a:custGeom>
              <a:avLst/>
              <a:gdLst/>
              <a:ahLst/>
              <a:rect l="0" t="0" r="r" b="b"/>
              <a:pathLst>
                <a:path w="349" h="296">
                  <a:moveTo>
                    <a:pt x="349" y="0"/>
                  </a:moveTo>
                  <a:lnTo>
                    <a:pt x="336" y="4"/>
                  </a:lnTo>
                  <a:lnTo>
                    <a:pt x="314" y="13"/>
                  </a:lnTo>
                  <a:lnTo>
                    <a:pt x="287" y="26"/>
                  </a:lnTo>
                  <a:lnTo>
                    <a:pt x="261" y="44"/>
                  </a:lnTo>
                  <a:lnTo>
                    <a:pt x="230" y="61"/>
                  </a:lnTo>
                  <a:lnTo>
                    <a:pt x="203" y="74"/>
                  </a:lnTo>
                  <a:lnTo>
                    <a:pt x="181" y="88"/>
                  </a:lnTo>
                  <a:lnTo>
                    <a:pt x="167" y="97"/>
                  </a:lnTo>
                  <a:lnTo>
                    <a:pt x="158" y="114"/>
                  </a:lnTo>
                  <a:lnTo>
                    <a:pt x="141" y="136"/>
                  </a:lnTo>
                  <a:lnTo>
                    <a:pt x="119" y="164"/>
                  </a:lnTo>
                  <a:lnTo>
                    <a:pt x="92" y="199"/>
                  </a:lnTo>
                  <a:lnTo>
                    <a:pt x="66" y="230"/>
                  </a:lnTo>
                  <a:lnTo>
                    <a:pt x="39" y="261"/>
                  </a:lnTo>
                  <a:lnTo>
                    <a:pt x="17" y="283"/>
                  </a:lnTo>
                  <a:lnTo>
                    <a:pt x="0" y="296"/>
                  </a:lnTo>
                  <a:lnTo>
                    <a:pt x="13" y="274"/>
                  </a:lnTo>
                  <a:lnTo>
                    <a:pt x="30" y="247"/>
                  </a:lnTo>
                  <a:lnTo>
                    <a:pt x="52" y="217"/>
                  </a:lnTo>
                  <a:lnTo>
                    <a:pt x="74" y="181"/>
                  </a:lnTo>
                  <a:lnTo>
                    <a:pt x="97" y="150"/>
                  </a:lnTo>
                  <a:lnTo>
                    <a:pt x="123" y="119"/>
                  </a:lnTo>
                  <a:lnTo>
                    <a:pt x="141" y="92"/>
                  </a:lnTo>
                  <a:lnTo>
                    <a:pt x="158" y="79"/>
                  </a:lnTo>
                  <a:lnTo>
                    <a:pt x="171" y="70"/>
                  </a:lnTo>
                  <a:lnTo>
                    <a:pt x="195" y="57"/>
                  </a:lnTo>
                  <a:lnTo>
                    <a:pt x="225" y="44"/>
                  </a:lnTo>
                  <a:lnTo>
                    <a:pt x="252" y="35"/>
                  </a:lnTo>
                  <a:lnTo>
                    <a:pt x="278" y="22"/>
                  </a:lnTo>
                  <a:lnTo>
                    <a:pt x="309" y="13"/>
                  </a:lnTo>
                  <a:lnTo>
                    <a:pt x="331" y="4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08000" y="1106640"/>
              <a:ext cx="187560" cy="68760"/>
            </a:xfrm>
            <a:custGeom>
              <a:avLst/>
              <a:gdLst/>
              <a:ahLst/>
              <a:rect l="0" t="0" r="r" b="b"/>
              <a:pathLst>
                <a:path w="521" h="191">
                  <a:moveTo>
                    <a:pt x="521" y="191"/>
                  </a:moveTo>
                  <a:lnTo>
                    <a:pt x="508" y="187"/>
                  </a:lnTo>
                  <a:lnTo>
                    <a:pt x="486" y="178"/>
                  </a:lnTo>
                  <a:lnTo>
                    <a:pt x="459" y="160"/>
                  </a:lnTo>
                  <a:lnTo>
                    <a:pt x="424" y="147"/>
                  </a:lnTo>
                  <a:lnTo>
                    <a:pt x="389" y="124"/>
                  </a:lnTo>
                  <a:lnTo>
                    <a:pt x="358" y="111"/>
                  </a:lnTo>
                  <a:lnTo>
                    <a:pt x="322" y="93"/>
                  </a:lnTo>
                  <a:lnTo>
                    <a:pt x="292" y="84"/>
                  </a:lnTo>
                  <a:lnTo>
                    <a:pt x="261" y="75"/>
                  </a:lnTo>
                  <a:lnTo>
                    <a:pt x="220" y="71"/>
                  </a:lnTo>
                  <a:lnTo>
                    <a:pt x="176" y="67"/>
                  </a:lnTo>
                  <a:lnTo>
                    <a:pt x="132" y="62"/>
                  </a:lnTo>
                  <a:lnTo>
                    <a:pt x="88" y="58"/>
                  </a:lnTo>
                  <a:lnTo>
                    <a:pt x="48" y="53"/>
                  </a:lnTo>
                  <a:lnTo>
                    <a:pt x="17" y="49"/>
                  </a:lnTo>
                  <a:lnTo>
                    <a:pt x="0" y="44"/>
                  </a:lnTo>
                  <a:lnTo>
                    <a:pt x="30" y="44"/>
                  </a:lnTo>
                  <a:lnTo>
                    <a:pt x="61" y="49"/>
                  </a:lnTo>
                  <a:lnTo>
                    <a:pt x="88" y="49"/>
                  </a:lnTo>
                  <a:lnTo>
                    <a:pt x="110" y="49"/>
                  </a:lnTo>
                  <a:lnTo>
                    <a:pt x="132" y="49"/>
                  </a:lnTo>
                  <a:lnTo>
                    <a:pt x="149" y="49"/>
                  </a:lnTo>
                  <a:lnTo>
                    <a:pt x="167" y="49"/>
                  </a:lnTo>
                  <a:lnTo>
                    <a:pt x="180" y="49"/>
                  </a:lnTo>
                  <a:lnTo>
                    <a:pt x="163" y="44"/>
                  </a:lnTo>
                  <a:lnTo>
                    <a:pt x="141" y="35"/>
                  </a:lnTo>
                  <a:lnTo>
                    <a:pt x="114" y="30"/>
                  </a:lnTo>
                  <a:lnTo>
                    <a:pt x="88" y="26"/>
                  </a:lnTo>
                  <a:lnTo>
                    <a:pt x="61" y="22"/>
                  </a:lnTo>
                  <a:lnTo>
                    <a:pt x="39" y="17"/>
                  </a:lnTo>
                  <a:lnTo>
                    <a:pt x="17" y="13"/>
                  </a:lnTo>
                  <a:lnTo>
                    <a:pt x="8" y="13"/>
                  </a:lnTo>
                  <a:lnTo>
                    <a:pt x="44" y="13"/>
                  </a:lnTo>
                  <a:lnTo>
                    <a:pt x="79" y="17"/>
                  </a:lnTo>
                  <a:lnTo>
                    <a:pt x="123" y="26"/>
                  </a:lnTo>
                  <a:lnTo>
                    <a:pt x="163" y="30"/>
                  </a:lnTo>
                  <a:lnTo>
                    <a:pt x="202" y="35"/>
                  </a:lnTo>
                  <a:lnTo>
                    <a:pt x="238" y="49"/>
                  </a:lnTo>
                  <a:lnTo>
                    <a:pt x="269" y="58"/>
                  </a:lnTo>
                  <a:lnTo>
                    <a:pt x="292" y="67"/>
                  </a:lnTo>
                  <a:lnTo>
                    <a:pt x="255" y="49"/>
                  </a:lnTo>
                  <a:lnTo>
                    <a:pt x="220" y="35"/>
                  </a:lnTo>
                  <a:lnTo>
                    <a:pt x="194" y="26"/>
                  </a:lnTo>
                  <a:lnTo>
                    <a:pt x="171" y="17"/>
                  </a:lnTo>
                  <a:lnTo>
                    <a:pt x="149" y="13"/>
                  </a:lnTo>
                  <a:lnTo>
                    <a:pt x="132" y="4"/>
                  </a:lnTo>
                  <a:lnTo>
                    <a:pt x="119" y="0"/>
                  </a:lnTo>
                  <a:lnTo>
                    <a:pt x="101" y="0"/>
                  </a:lnTo>
                  <a:lnTo>
                    <a:pt x="171" y="13"/>
                  </a:lnTo>
                  <a:lnTo>
                    <a:pt x="229" y="26"/>
                  </a:lnTo>
                  <a:lnTo>
                    <a:pt x="283" y="49"/>
                  </a:lnTo>
                  <a:lnTo>
                    <a:pt x="331" y="67"/>
                  </a:lnTo>
                  <a:lnTo>
                    <a:pt x="380" y="93"/>
                  </a:lnTo>
                  <a:lnTo>
                    <a:pt x="424" y="120"/>
                  </a:lnTo>
                  <a:lnTo>
                    <a:pt x="472" y="156"/>
                  </a:lnTo>
                  <a:lnTo>
                    <a:pt x="521" y="191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11240" y="1143000"/>
              <a:ext cx="165600" cy="28800"/>
            </a:xfrm>
            <a:custGeom>
              <a:avLst/>
              <a:gdLst/>
              <a:ahLst/>
              <a:rect l="0" t="0" r="r" b="b"/>
              <a:pathLst>
                <a:path w="460" h="80">
                  <a:moveTo>
                    <a:pt x="460" y="80"/>
                  </a:moveTo>
                  <a:lnTo>
                    <a:pt x="447" y="75"/>
                  </a:lnTo>
                  <a:lnTo>
                    <a:pt x="425" y="67"/>
                  </a:lnTo>
                  <a:lnTo>
                    <a:pt x="394" y="58"/>
                  </a:lnTo>
                  <a:lnTo>
                    <a:pt x="363" y="49"/>
                  </a:lnTo>
                  <a:lnTo>
                    <a:pt x="331" y="45"/>
                  </a:lnTo>
                  <a:lnTo>
                    <a:pt x="296" y="30"/>
                  </a:lnTo>
                  <a:lnTo>
                    <a:pt x="274" y="30"/>
                  </a:lnTo>
                  <a:lnTo>
                    <a:pt x="261" y="26"/>
                  </a:lnTo>
                  <a:lnTo>
                    <a:pt x="239" y="26"/>
                  </a:lnTo>
                  <a:lnTo>
                    <a:pt x="212" y="30"/>
                  </a:lnTo>
                  <a:lnTo>
                    <a:pt x="177" y="35"/>
                  </a:lnTo>
                  <a:lnTo>
                    <a:pt x="133" y="39"/>
                  </a:lnTo>
                  <a:lnTo>
                    <a:pt x="92" y="45"/>
                  </a:lnTo>
                  <a:lnTo>
                    <a:pt x="52" y="49"/>
                  </a:lnTo>
                  <a:lnTo>
                    <a:pt x="22" y="49"/>
                  </a:lnTo>
                  <a:lnTo>
                    <a:pt x="0" y="45"/>
                  </a:lnTo>
                  <a:lnTo>
                    <a:pt x="22" y="39"/>
                  </a:lnTo>
                  <a:lnTo>
                    <a:pt x="57" y="30"/>
                  </a:lnTo>
                  <a:lnTo>
                    <a:pt x="92" y="26"/>
                  </a:lnTo>
                  <a:lnTo>
                    <a:pt x="133" y="17"/>
                  </a:lnTo>
                  <a:lnTo>
                    <a:pt x="172" y="8"/>
                  </a:lnTo>
                  <a:lnTo>
                    <a:pt x="212" y="4"/>
                  </a:lnTo>
                  <a:lnTo>
                    <a:pt x="239" y="0"/>
                  </a:lnTo>
                  <a:lnTo>
                    <a:pt x="261" y="0"/>
                  </a:lnTo>
                  <a:lnTo>
                    <a:pt x="283" y="4"/>
                  </a:lnTo>
                  <a:lnTo>
                    <a:pt x="309" y="13"/>
                  </a:lnTo>
                  <a:lnTo>
                    <a:pt x="331" y="22"/>
                  </a:lnTo>
                  <a:lnTo>
                    <a:pt x="363" y="35"/>
                  </a:lnTo>
                  <a:lnTo>
                    <a:pt x="390" y="49"/>
                  </a:lnTo>
                  <a:lnTo>
                    <a:pt x="416" y="62"/>
                  </a:lnTo>
                  <a:lnTo>
                    <a:pt x="438" y="71"/>
                  </a:lnTo>
                  <a:lnTo>
                    <a:pt x="460" y="8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78120" y="1182600"/>
              <a:ext cx="178200" cy="93960"/>
            </a:xfrm>
            <a:custGeom>
              <a:avLst/>
              <a:gdLst/>
              <a:ahLst/>
              <a:rect l="0" t="0" r="r" b="b"/>
              <a:pathLst>
                <a:path w="495" h="261">
                  <a:moveTo>
                    <a:pt x="495" y="261"/>
                  </a:moveTo>
                  <a:lnTo>
                    <a:pt x="482" y="252"/>
                  </a:lnTo>
                  <a:lnTo>
                    <a:pt x="456" y="247"/>
                  </a:lnTo>
                  <a:lnTo>
                    <a:pt x="425" y="239"/>
                  </a:lnTo>
                  <a:lnTo>
                    <a:pt x="390" y="230"/>
                  </a:lnTo>
                  <a:lnTo>
                    <a:pt x="353" y="217"/>
                  </a:lnTo>
                  <a:lnTo>
                    <a:pt x="318" y="203"/>
                  </a:lnTo>
                  <a:lnTo>
                    <a:pt x="283" y="195"/>
                  </a:lnTo>
                  <a:lnTo>
                    <a:pt x="252" y="181"/>
                  </a:lnTo>
                  <a:lnTo>
                    <a:pt x="225" y="159"/>
                  </a:lnTo>
                  <a:lnTo>
                    <a:pt x="195" y="137"/>
                  </a:lnTo>
                  <a:lnTo>
                    <a:pt x="159" y="110"/>
                  </a:lnTo>
                  <a:lnTo>
                    <a:pt x="123" y="79"/>
                  </a:lnTo>
                  <a:lnTo>
                    <a:pt x="88" y="48"/>
                  </a:lnTo>
                  <a:lnTo>
                    <a:pt x="57" y="26"/>
                  </a:lnTo>
                  <a:lnTo>
                    <a:pt x="30" y="8"/>
                  </a:lnTo>
                  <a:lnTo>
                    <a:pt x="13" y="0"/>
                  </a:lnTo>
                  <a:lnTo>
                    <a:pt x="35" y="22"/>
                  </a:lnTo>
                  <a:lnTo>
                    <a:pt x="57" y="39"/>
                  </a:lnTo>
                  <a:lnTo>
                    <a:pt x="79" y="61"/>
                  </a:lnTo>
                  <a:lnTo>
                    <a:pt x="97" y="74"/>
                  </a:lnTo>
                  <a:lnTo>
                    <a:pt x="110" y="92"/>
                  </a:lnTo>
                  <a:lnTo>
                    <a:pt x="128" y="105"/>
                  </a:lnTo>
                  <a:lnTo>
                    <a:pt x="137" y="114"/>
                  </a:lnTo>
                  <a:lnTo>
                    <a:pt x="150" y="123"/>
                  </a:lnTo>
                  <a:lnTo>
                    <a:pt x="133" y="114"/>
                  </a:lnTo>
                  <a:lnTo>
                    <a:pt x="114" y="101"/>
                  </a:lnTo>
                  <a:lnTo>
                    <a:pt x="92" y="88"/>
                  </a:lnTo>
                  <a:lnTo>
                    <a:pt x="66" y="74"/>
                  </a:lnTo>
                  <a:lnTo>
                    <a:pt x="44" y="61"/>
                  </a:lnTo>
                  <a:lnTo>
                    <a:pt x="26" y="44"/>
                  </a:lnTo>
                  <a:lnTo>
                    <a:pt x="8" y="35"/>
                  </a:lnTo>
                  <a:lnTo>
                    <a:pt x="0" y="26"/>
                  </a:lnTo>
                  <a:lnTo>
                    <a:pt x="26" y="48"/>
                  </a:lnTo>
                  <a:lnTo>
                    <a:pt x="57" y="74"/>
                  </a:lnTo>
                  <a:lnTo>
                    <a:pt x="88" y="97"/>
                  </a:lnTo>
                  <a:lnTo>
                    <a:pt x="123" y="123"/>
                  </a:lnTo>
                  <a:lnTo>
                    <a:pt x="155" y="146"/>
                  </a:lnTo>
                  <a:lnTo>
                    <a:pt x="186" y="164"/>
                  </a:lnTo>
                  <a:lnTo>
                    <a:pt x="217" y="181"/>
                  </a:lnTo>
                  <a:lnTo>
                    <a:pt x="239" y="190"/>
                  </a:lnTo>
                  <a:lnTo>
                    <a:pt x="199" y="172"/>
                  </a:lnTo>
                  <a:lnTo>
                    <a:pt x="168" y="159"/>
                  </a:lnTo>
                  <a:lnTo>
                    <a:pt x="142" y="146"/>
                  </a:lnTo>
                  <a:lnTo>
                    <a:pt x="119" y="137"/>
                  </a:lnTo>
                  <a:lnTo>
                    <a:pt x="101" y="127"/>
                  </a:lnTo>
                  <a:lnTo>
                    <a:pt x="83" y="123"/>
                  </a:lnTo>
                  <a:lnTo>
                    <a:pt x="70" y="110"/>
                  </a:lnTo>
                  <a:lnTo>
                    <a:pt x="57" y="105"/>
                  </a:lnTo>
                  <a:lnTo>
                    <a:pt x="114" y="146"/>
                  </a:lnTo>
                  <a:lnTo>
                    <a:pt x="168" y="172"/>
                  </a:lnTo>
                  <a:lnTo>
                    <a:pt x="221" y="199"/>
                  </a:lnTo>
                  <a:lnTo>
                    <a:pt x="269" y="217"/>
                  </a:lnTo>
                  <a:lnTo>
                    <a:pt x="322" y="230"/>
                  </a:lnTo>
                  <a:lnTo>
                    <a:pt x="376" y="239"/>
                  </a:lnTo>
                  <a:lnTo>
                    <a:pt x="434" y="252"/>
                  </a:lnTo>
                  <a:lnTo>
                    <a:pt x="495" y="261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11240" y="1158840"/>
              <a:ext cx="125640" cy="106560"/>
            </a:xfrm>
            <a:custGeom>
              <a:avLst/>
              <a:gdLst/>
              <a:ahLst/>
              <a:rect l="0" t="0" r="r" b="b"/>
              <a:pathLst>
                <a:path w="349" h="296">
                  <a:moveTo>
                    <a:pt x="349" y="296"/>
                  </a:moveTo>
                  <a:lnTo>
                    <a:pt x="336" y="287"/>
                  </a:lnTo>
                  <a:lnTo>
                    <a:pt x="318" y="278"/>
                  </a:lnTo>
                  <a:lnTo>
                    <a:pt x="292" y="265"/>
                  </a:lnTo>
                  <a:lnTo>
                    <a:pt x="261" y="247"/>
                  </a:lnTo>
                  <a:lnTo>
                    <a:pt x="230" y="230"/>
                  </a:lnTo>
                  <a:lnTo>
                    <a:pt x="203" y="217"/>
                  </a:lnTo>
                  <a:lnTo>
                    <a:pt x="186" y="203"/>
                  </a:lnTo>
                  <a:lnTo>
                    <a:pt x="171" y="195"/>
                  </a:lnTo>
                  <a:lnTo>
                    <a:pt x="158" y="181"/>
                  </a:lnTo>
                  <a:lnTo>
                    <a:pt x="141" y="155"/>
                  </a:lnTo>
                  <a:lnTo>
                    <a:pt x="119" y="127"/>
                  </a:lnTo>
                  <a:lnTo>
                    <a:pt x="92" y="92"/>
                  </a:lnTo>
                  <a:lnTo>
                    <a:pt x="66" y="61"/>
                  </a:lnTo>
                  <a:lnTo>
                    <a:pt x="39" y="35"/>
                  </a:lnTo>
                  <a:lnTo>
                    <a:pt x="17" y="8"/>
                  </a:lnTo>
                  <a:lnTo>
                    <a:pt x="0" y="0"/>
                  </a:lnTo>
                  <a:lnTo>
                    <a:pt x="13" y="17"/>
                  </a:lnTo>
                  <a:lnTo>
                    <a:pt x="30" y="44"/>
                  </a:lnTo>
                  <a:lnTo>
                    <a:pt x="52" y="79"/>
                  </a:lnTo>
                  <a:lnTo>
                    <a:pt x="74" y="110"/>
                  </a:lnTo>
                  <a:lnTo>
                    <a:pt x="97" y="145"/>
                  </a:lnTo>
                  <a:lnTo>
                    <a:pt x="119" y="177"/>
                  </a:lnTo>
                  <a:lnTo>
                    <a:pt x="141" y="199"/>
                  </a:lnTo>
                  <a:lnTo>
                    <a:pt x="154" y="212"/>
                  </a:lnTo>
                  <a:lnTo>
                    <a:pt x="177" y="225"/>
                  </a:lnTo>
                  <a:lnTo>
                    <a:pt x="199" y="234"/>
                  </a:lnTo>
                  <a:lnTo>
                    <a:pt x="225" y="247"/>
                  </a:lnTo>
                  <a:lnTo>
                    <a:pt x="252" y="261"/>
                  </a:lnTo>
                  <a:lnTo>
                    <a:pt x="283" y="269"/>
                  </a:lnTo>
                  <a:lnTo>
                    <a:pt x="309" y="278"/>
                  </a:lnTo>
                  <a:lnTo>
                    <a:pt x="331" y="287"/>
                  </a:lnTo>
                  <a:lnTo>
                    <a:pt x="349" y="296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09840" y="506520"/>
              <a:ext cx="70200" cy="127440"/>
            </a:xfrm>
            <a:custGeom>
              <a:avLst/>
              <a:gdLst/>
              <a:ahLst/>
              <a:rect l="0" t="0" r="r" b="b"/>
              <a:pathLst>
                <a:path w="195" h="354">
                  <a:moveTo>
                    <a:pt x="142" y="354"/>
                  </a:moveTo>
                  <a:lnTo>
                    <a:pt x="150" y="319"/>
                  </a:lnTo>
                  <a:lnTo>
                    <a:pt x="133" y="337"/>
                  </a:lnTo>
                  <a:lnTo>
                    <a:pt x="124" y="270"/>
                  </a:lnTo>
                  <a:lnTo>
                    <a:pt x="111" y="319"/>
                  </a:lnTo>
                  <a:lnTo>
                    <a:pt x="98" y="199"/>
                  </a:lnTo>
                  <a:lnTo>
                    <a:pt x="83" y="319"/>
                  </a:lnTo>
                  <a:lnTo>
                    <a:pt x="70" y="270"/>
                  </a:lnTo>
                  <a:lnTo>
                    <a:pt x="61" y="337"/>
                  </a:lnTo>
                  <a:lnTo>
                    <a:pt x="48" y="319"/>
                  </a:lnTo>
                  <a:lnTo>
                    <a:pt x="52" y="354"/>
                  </a:lnTo>
                  <a:lnTo>
                    <a:pt x="0" y="354"/>
                  </a:lnTo>
                  <a:lnTo>
                    <a:pt x="13" y="266"/>
                  </a:lnTo>
                  <a:lnTo>
                    <a:pt x="35" y="301"/>
                  </a:lnTo>
                  <a:lnTo>
                    <a:pt x="48" y="150"/>
                  </a:lnTo>
                  <a:lnTo>
                    <a:pt x="70" y="252"/>
                  </a:lnTo>
                  <a:lnTo>
                    <a:pt x="98" y="0"/>
                  </a:lnTo>
                  <a:lnTo>
                    <a:pt x="124" y="252"/>
                  </a:lnTo>
                  <a:lnTo>
                    <a:pt x="146" y="150"/>
                  </a:lnTo>
                  <a:lnTo>
                    <a:pt x="155" y="301"/>
                  </a:lnTo>
                  <a:lnTo>
                    <a:pt x="181" y="266"/>
                  </a:lnTo>
                  <a:lnTo>
                    <a:pt x="195" y="354"/>
                  </a:lnTo>
                  <a:lnTo>
                    <a:pt x="142" y="354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09840" y="1382760"/>
              <a:ext cx="70200" cy="127440"/>
            </a:xfrm>
            <a:custGeom>
              <a:avLst/>
              <a:gdLst/>
              <a:ahLst/>
              <a:rect l="0" t="0" r="r" b="b"/>
              <a:pathLst>
                <a:path w="195" h="354">
                  <a:moveTo>
                    <a:pt x="52" y="4"/>
                  </a:moveTo>
                  <a:lnTo>
                    <a:pt x="48" y="35"/>
                  </a:lnTo>
                  <a:lnTo>
                    <a:pt x="61" y="17"/>
                  </a:lnTo>
                  <a:lnTo>
                    <a:pt x="70" y="83"/>
                  </a:lnTo>
                  <a:lnTo>
                    <a:pt x="83" y="39"/>
                  </a:lnTo>
                  <a:lnTo>
                    <a:pt x="98" y="155"/>
                  </a:lnTo>
                  <a:lnTo>
                    <a:pt x="111" y="39"/>
                  </a:lnTo>
                  <a:lnTo>
                    <a:pt x="124" y="83"/>
                  </a:lnTo>
                  <a:lnTo>
                    <a:pt x="133" y="17"/>
                  </a:lnTo>
                  <a:lnTo>
                    <a:pt x="150" y="35"/>
                  </a:lnTo>
                  <a:lnTo>
                    <a:pt x="142" y="4"/>
                  </a:lnTo>
                  <a:lnTo>
                    <a:pt x="195" y="4"/>
                  </a:lnTo>
                  <a:lnTo>
                    <a:pt x="181" y="93"/>
                  </a:lnTo>
                  <a:lnTo>
                    <a:pt x="155" y="52"/>
                  </a:lnTo>
                  <a:lnTo>
                    <a:pt x="146" y="203"/>
                  </a:lnTo>
                  <a:lnTo>
                    <a:pt x="124" y="106"/>
                  </a:lnTo>
                  <a:lnTo>
                    <a:pt x="98" y="354"/>
                  </a:lnTo>
                  <a:lnTo>
                    <a:pt x="70" y="106"/>
                  </a:lnTo>
                  <a:lnTo>
                    <a:pt x="48" y="203"/>
                  </a:lnTo>
                  <a:lnTo>
                    <a:pt x="35" y="52"/>
                  </a:lnTo>
                  <a:lnTo>
                    <a:pt x="13" y="93"/>
                  </a:lnTo>
                  <a:lnTo>
                    <a:pt x="0" y="0"/>
                  </a:lnTo>
                  <a:lnTo>
                    <a:pt x="52" y="4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42920" y="974880"/>
              <a:ext cx="125640" cy="70200"/>
            </a:xfrm>
            <a:custGeom>
              <a:avLst/>
              <a:gdLst/>
              <a:ahLst/>
              <a:rect l="0" t="0" r="r" b="b"/>
              <a:pathLst>
                <a:path w="349" h="195">
                  <a:moveTo>
                    <a:pt x="349" y="142"/>
                  </a:moveTo>
                  <a:lnTo>
                    <a:pt x="318" y="146"/>
                  </a:lnTo>
                  <a:lnTo>
                    <a:pt x="336" y="133"/>
                  </a:lnTo>
                  <a:lnTo>
                    <a:pt x="269" y="124"/>
                  </a:lnTo>
                  <a:lnTo>
                    <a:pt x="314" y="111"/>
                  </a:lnTo>
                  <a:lnTo>
                    <a:pt x="195" y="98"/>
                  </a:lnTo>
                  <a:lnTo>
                    <a:pt x="314" y="79"/>
                  </a:lnTo>
                  <a:lnTo>
                    <a:pt x="269" y="70"/>
                  </a:lnTo>
                  <a:lnTo>
                    <a:pt x="336" y="61"/>
                  </a:lnTo>
                  <a:lnTo>
                    <a:pt x="318" y="44"/>
                  </a:lnTo>
                  <a:lnTo>
                    <a:pt x="349" y="48"/>
                  </a:lnTo>
                  <a:lnTo>
                    <a:pt x="349" y="0"/>
                  </a:lnTo>
                  <a:lnTo>
                    <a:pt x="261" y="13"/>
                  </a:lnTo>
                  <a:lnTo>
                    <a:pt x="300" y="35"/>
                  </a:lnTo>
                  <a:lnTo>
                    <a:pt x="149" y="48"/>
                  </a:lnTo>
                  <a:lnTo>
                    <a:pt x="247" y="70"/>
                  </a:lnTo>
                  <a:lnTo>
                    <a:pt x="0" y="98"/>
                  </a:lnTo>
                  <a:lnTo>
                    <a:pt x="247" y="124"/>
                  </a:lnTo>
                  <a:lnTo>
                    <a:pt x="149" y="142"/>
                  </a:lnTo>
                  <a:lnTo>
                    <a:pt x="300" y="155"/>
                  </a:lnTo>
                  <a:lnTo>
                    <a:pt x="261" y="181"/>
                  </a:lnTo>
                  <a:lnTo>
                    <a:pt x="349" y="195"/>
                  </a:lnTo>
                  <a:lnTo>
                    <a:pt x="349" y="142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19160" y="974880"/>
              <a:ext cx="127440" cy="70200"/>
            </a:xfrm>
            <a:custGeom>
              <a:avLst/>
              <a:gdLst/>
              <a:ahLst/>
              <a:rect l="0" t="0" r="r" b="b"/>
              <a:pathLst>
                <a:path w="354" h="195">
                  <a:moveTo>
                    <a:pt x="0" y="142"/>
                  </a:moveTo>
                  <a:lnTo>
                    <a:pt x="35" y="146"/>
                  </a:lnTo>
                  <a:lnTo>
                    <a:pt x="13" y="133"/>
                  </a:lnTo>
                  <a:lnTo>
                    <a:pt x="83" y="124"/>
                  </a:lnTo>
                  <a:lnTo>
                    <a:pt x="35" y="111"/>
                  </a:lnTo>
                  <a:lnTo>
                    <a:pt x="155" y="98"/>
                  </a:lnTo>
                  <a:lnTo>
                    <a:pt x="35" y="79"/>
                  </a:lnTo>
                  <a:lnTo>
                    <a:pt x="83" y="70"/>
                  </a:lnTo>
                  <a:lnTo>
                    <a:pt x="13" y="61"/>
                  </a:lnTo>
                  <a:lnTo>
                    <a:pt x="35" y="44"/>
                  </a:lnTo>
                  <a:lnTo>
                    <a:pt x="0" y="48"/>
                  </a:lnTo>
                  <a:lnTo>
                    <a:pt x="0" y="0"/>
                  </a:lnTo>
                  <a:lnTo>
                    <a:pt x="89" y="13"/>
                  </a:lnTo>
                  <a:lnTo>
                    <a:pt x="52" y="35"/>
                  </a:lnTo>
                  <a:lnTo>
                    <a:pt x="199" y="48"/>
                  </a:lnTo>
                  <a:lnTo>
                    <a:pt x="102" y="70"/>
                  </a:lnTo>
                  <a:lnTo>
                    <a:pt x="354" y="98"/>
                  </a:lnTo>
                  <a:lnTo>
                    <a:pt x="102" y="124"/>
                  </a:lnTo>
                  <a:lnTo>
                    <a:pt x="199" y="142"/>
                  </a:lnTo>
                  <a:lnTo>
                    <a:pt x="52" y="155"/>
                  </a:lnTo>
                  <a:lnTo>
                    <a:pt x="89" y="181"/>
                  </a:lnTo>
                  <a:lnTo>
                    <a:pt x="0" y="195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89080" y="654120"/>
              <a:ext cx="114840" cy="114840"/>
            </a:xfrm>
            <a:custGeom>
              <a:avLst/>
              <a:gdLst/>
              <a:ahLst/>
              <a:rect l="0" t="0" r="r" b="b"/>
              <a:pathLst>
                <a:path w="319" h="319">
                  <a:moveTo>
                    <a:pt x="217" y="279"/>
                  </a:moveTo>
                  <a:lnTo>
                    <a:pt x="190" y="262"/>
                  </a:lnTo>
                  <a:lnTo>
                    <a:pt x="217" y="262"/>
                  </a:lnTo>
                  <a:lnTo>
                    <a:pt x="172" y="212"/>
                  </a:lnTo>
                  <a:lnTo>
                    <a:pt x="212" y="234"/>
                  </a:lnTo>
                  <a:lnTo>
                    <a:pt x="142" y="142"/>
                  </a:lnTo>
                  <a:lnTo>
                    <a:pt x="234" y="212"/>
                  </a:lnTo>
                  <a:lnTo>
                    <a:pt x="212" y="172"/>
                  </a:lnTo>
                  <a:lnTo>
                    <a:pt x="266" y="212"/>
                  </a:lnTo>
                  <a:lnTo>
                    <a:pt x="266" y="190"/>
                  </a:lnTo>
                  <a:lnTo>
                    <a:pt x="284" y="217"/>
                  </a:lnTo>
                  <a:lnTo>
                    <a:pt x="319" y="181"/>
                  </a:lnTo>
                  <a:lnTo>
                    <a:pt x="248" y="124"/>
                  </a:lnTo>
                  <a:lnTo>
                    <a:pt x="257" y="168"/>
                  </a:lnTo>
                  <a:lnTo>
                    <a:pt x="146" y="74"/>
                  </a:lnTo>
                  <a:lnTo>
                    <a:pt x="199" y="155"/>
                  </a:lnTo>
                  <a:lnTo>
                    <a:pt x="0" y="0"/>
                  </a:lnTo>
                  <a:lnTo>
                    <a:pt x="159" y="195"/>
                  </a:lnTo>
                  <a:lnTo>
                    <a:pt x="74" y="142"/>
                  </a:lnTo>
                  <a:lnTo>
                    <a:pt x="168" y="253"/>
                  </a:lnTo>
                  <a:lnTo>
                    <a:pt x="128" y="248"/>
                  </a:lnTo>
                  <a:lnTo>
                    <a:pt x="181" y="319"/>
                  </a:lnTo>
                  <a:lnTo>
                    <a:pt x="217" y="279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89080" y="1249200"/>
              <a:ext cx="116280" cy="114840"/>
            </a:xfrm>
            <a:custGeom>
              <a:avLst/>
              <a:gdLst/>
              <a:ahLst/>
              <a:rect l="0" t="0" r="r" b="b"/>
              <a:pathLst>
                <a:path w="323" h="319">
                  <a:moveTo>
                    <a:pt x="284" y="102"/>
                  </a:moveTo>
                  <a:lnTo>
                    <a:pt x="266" y="128"/>
                  </a:lnTo>
                  <a:lnTo>
                    <a:pt x="266" y="102"/>
                  </a:lnTo>
                  <a:lnTo>
                    <a:pt x="212" y="146"/>
                  </a:lnTo>
                  <a:lnTo>
                    <a:pt x="234" y="102"/>
                  </a:lnTo>
                  <a:lnTo>
                    <a:pt x="146" y="172"/>
                  </a:lnTo>
                  <a:lnTo>
                    <a:pt x="217" y="84"/>
                  </a:lnTo>
                  <a:lnTo>
                    <a:pt x="172" y="106"/>
                  </a:lnTo>
                  <a:lnTo>
                    <a:pt x="217" y="52"/>
                  </a:lnTo>
                  <a:lnTo>
                    <a:pt x="190" y="52"/>
                  </a:lnTo>
                  <a:lnTo>
                    <a:pt x="217" y="35"/>
                  </a:lnTo>
                  <a:lnTo>
                    <a:pt x="181" y="0"/>
                  </a:lnTo>
                  <a:lnTo>
                    <a:pt x="128" y="70"/>
                  </a:lnTo>
                  <a:lnTo>
                    <a:pt x="168" y="61"/>
                  </a:lnTo>
                  <a:lnTo>
                    <a:pt x="74" y="172"/>
                  </a:lnTo>
                  <a:lnTo>
                    <a:pt x="159" y="120"/>
                  </a:lnTo>
                  <a:lnTo>
                    <a:pt x="0" y="319"/>
                  </a:lnTo>
                  <a:lnTo>
                    <a:pt x="199" y="159"/>
                  </a:lnTo>
                  <a:lnTo>
                    <a:pt x="146" y="244"/>
                  </a:lnTo>
                  <a:lnTo>
                    <a:pt x="257" y="146"/>
                  </a:lnTo>
                  <a:lnTo>
                    <a:pt x="248" y="190"/>
                  </a:lnTo>
                  <a:lnTo>
                    <a:pt x="323" y="137"/>
                  </a:lnTo>
                  <a:lnTo>
                    <a:pt x="284" y="102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84520" y="1247760"/>
              <a:ext cx="114840" cy="116280"/>
            </a:xfrm>
            <a:custGeom>
              <a:avLst/>
              <a:gdLst/>
              <a:ahLst/>
              <a:rect l="0" t="0" r="r" b="b"/>
              <a:pathLst>
                <a:path w="319" h="323">
                  <a:moveTo>
                    <a:pt x="39" y="106"/>
                  </a:moveTo>
                  <a:lnTo>
                    <a:pt x="52" y="133"/>
                  </a:lnTo>
                  <a:lnTo>
                    <a:pt x="52" y="106"/>
                  </a:lnTo>
                  <a:lnTo>
                    <a:pt x="106" y="146"/>
                  </a:lnTo>
                  <a:lnTo>
                    <a:pt x="84" y="106"/>
                  </a:lnTo>
                  <a:lnTo>
                    <a:pt x="177" y="177"/>
                  </a:lnTo>
                  <a:lnTo>
                    <a:pt x="106" y="89"/>
                  </a:lnTo>
                  <a:lnTo>
                    <a:pt x="146" y="111"/>
                  </a:lnTo>
                  <a:lnTo>
                    <a:pt x="102" y="57"/>
                  </a:lnTo>
                  <a:lnTo>
                    <a:pt x="128" y="57"/>
                  </a:lnTo>
                  <a:lnTo>
                    <a:pt x="102" y="39"/>
                  </a:lnTo>
                  <a:lnTo>
                    <a:pt x="137" y="0"/>
                  </a:lnTo>
                  <a:lnTo>
                    <a:pt x="195" y="70"/>
                  </a:lnTo>
                  <a:lnTo>
                    <a:pt x="150" y="66"/>
                  </a:lnTo>
                  <a:lnTo>
                    <a:pt x="244" y="177"/>
                  </a:lnTo>
                  <a:lnTo>
                    <a:pt x="164" y="124"/>
                  </a:lnTo>
                  <a:lnTo>
                    <a:pt x="319" y="323"/>
                  </a:lnTo>
                  <a:lnTo>
                    <a:pt x="124" y="164"/>
                  </a:lnTo>
                  <a:lnTo>
                    <a:pt x="172" y="248"/>
                  </a:lnTo>
                  <a:lnTo>
                    <a:pt x="66" y="150"/>
                  </a:lnTo>
                  <a:lnTo>
                    <a:pt x="70" y="195"/>
                  </a:lnTo>
                  <a:lnTo>
                    <a:pt x="0" y="142"/>
                  </a:lnTo>
                  <a:lnTo>
                    <a:pt x="39" y="106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84520" y="654120"/>
              <a:ext cx="114840" cy="114840"/>
            </a:xfrm>
            <a:custGeom>
              <a:avLst/>
              <a:gdLst/>
              <a:ahLst/>
              <a:rect l="0" t="0" r="r" b="b"/>
              <a:pathLst>
                <a:path w="319" h="319">
                  <a:moveTo>
                    <a:pt x="102" y="279"/>
                  </a:moveTo>
                  <a:lnTo>
                    <a:pt x="128" y="262"/>
                  </a:lnTo>
                  <a:lnTo>
                    <a:pt x="102" y="262"/>
                  </a:lnTo>
                  <a:lnTo>
                    <a:pt x="146" y="208"/>
                  </a:lnTo>
                  <a:lnTo>
                    <a:pt x="106" y="234"/>
                  </a:lnTo>
                  <a:lnTo>
                    <a:pt x="177" y="142"/>
                  </a:lnTo>
                  <a:lnTo>
                    <a:pt x="84" y="212"/>
                  </a:lnTo>
                  <a:lnTo>
                    <a:pt x="106" y="172"/>
                  </a:lnTo>
                  <a:lnTo>
                    <a:pt x="52" y="212"/>
                  </a:lnTo>
                  <a:lnTo>
                    <a:pt x="52" y="190"/>
                  </a:lnTo>
                  <a:lnTo>
                    <a:pt x="39" y="217"/>
                  </a:lnTo>
                  <a:lnTo>
                    <a:pt x="0" y="181"/>
                  </a:lnTo>
                  <a:lnTo>
                    <a:pt x="70" y="124"/>
                  </a:lnTo>
                  <a:lnTo>
                    <a:pt x="66" y="168"/>
                  </a:lnTo>
                  <a:lnTo>
                    <a:pt x="172" y="74"/>
                  </a:lnTo>
                  <a:lnTo>
                    <a:pt x="124" y="155"/>
                  </a:lnTo>
                  <a:lnTo>
                    <a:pt x="319" y="0"/>
                  </a:lnTo>
                  <a:lnTo>
                    <a:pt x="164" y="195"/>
                  </a:lnTo>
                  <a:lnTo>
                    <a:pt x="244" y="142"/>
                  </a:lnTo>
                  <a:lnTo>
                    <a:pt x="150" y="253"/>
                  </a:lnTo>
                  <a:lnTo>
                    <a:pt x="195" y="248"/>
                  </a:lnTo>
                  <a:lnTo>
                    <a:pt x="137" y="319"/>
                  </a:lnTo>
                  <a:lnTo>
                    <a:pt x="102" y="279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43160" y="928800"/>
              <a:ext cx="137880" cy="4680"/>
            </a:xfrm>
            <a:prstGeom prst="line">
              <a:avLst/>
            </a:prstGeom>
            <a:ln w="25560">
              <a:solidFill>
                <a:srgbClr val="b25b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920" bIns="-52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14600" y="933480"/>
              <a:ext cx="137880" cy="4680"/>
            </a:xfrm>
            <a:prstGeom prst="line">
              <a:avLst/>
            </a:prstGeom>
            <a:ln w="25560">
              <a:solidFill>
                <a:srgbClr val="b25b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920" bIns="-52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 txBox="1"/>
          <p:nvPr/>
        </p:nvSpPr>
        <p:spPr>
          <a:xfrm>
            <a:off x="2590920" y="380880"/>
            <a:ext cx="54100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People TRY to Be Funny, Telling You (According to His Point of View) the Best Jokes He has ever Heard of, then Laughing their Butt off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8042400" y="704880"/>
            <a:ext cx="535320" cy="1962360"/>
            <a:chOff x="8042400" y="704880"/>
            <a:chExt cx="535320" cy="1962360"/>
          </a:xfrm>
        </p:grpSpPr>
        <p:grpSp>
          <p:nvGrpSpPr>
            <p:cNvPr id="352" name=""/>
            <p:cNvGrpSpPr/>
            <p:nvPr/>
          </p:nvGrpSpPr>
          <p:grpSpPr>
            <a:xfrm>
              <a:off x="8042400" y="704880"/>
              <a:ext cx="524160" cy="1962360"/>
              <a:chOff x="8042400" y="704880"/>
              <a:chExt cx="524160" cy="1962360"/>
            </a:xfrm>
          </p:grpSpPr>
          <p:sp>
            <p:nvSpPr>
              <p:cNvPr id="353" name=""/>
              <p:cNvSpPr/>
              <p:nvPr/>
            </p:nvSpPr>
            <p:spPr>
              <a:xfrm>
                <a:off x="8042400" y="704880"/>
                <a:ext cx="524160" cy="1962360"/>
              </a:xfrm>
              <a:custGeom>
                <a:avLst/>
                <a:gdLst/>
                <a:ahLst/>
                <a:rect l="0" t="0" r="r" b="b"/>
                <a:pathLst>
                  <a:path w="1456" h="5451">
                    <a:moveTo>
                      <a:pt x="0" y="5385"/>
                    </a:moveTo>
                    <a:lnTo>
                      <a:pt x="1090" y="5451"/>
                    </a:lnTo>
                    <a:lnTo>
                      <a:pt x="1456" y="0"/>
                    </a:lnTo>
                    <a:lnTo>
                      <a:pt x="89" y="96"/>
                    </a:lnTo>
                    <a:lnTo>
                      <a:pt x="0" y="53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074080" y="758880"/>
                <a:ext cx="430560" cy="1860840"/>
              </a:xfrm>
              <a:custGeom>
                <a:avLst/>
                <a:gdLst/>
                <a:ahLst/>
                <a:rect l="0" t="0" r="r" b="b"/>
                <a:pathLst>
                  <a:path w="1196" h="5169">
                    <a:moveTo>
                      <a:pt x="126" y="54"/>
                    </a:moveTo>
                    <a:lnTo>
                      <a:pt x="1196" y="0"/>
                    </a:lnTo>
                    <a:lnTo>
                      <a:pt x="844" y="5169"/>
                    </a:lnTo>
                    <a:lnTo>
                      <a:pt x="0" y="5126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077320" y="2422440"/>
                <a:ext cx="43200" cy="32040"/>
              </a:xfrm>
              <a:custGeom>
                <a:avLst/>
                <a:gdLst/>
                <a:ahLst/>
                <a:rect l="0" t="0" r="r" b="b"/>
                <a:pathLst>
                  <a:path w="120" h="89">
                    <a:moveTo>
                      <a:pt x="70" y="22"/>
                    </a:moveTo>
                    <a:lnTo>
                      <a:pt x="80" y="22"/>
                    </a:lnTo>
                    <a:lnTo>
                      <a:pt x="80" y="29"/>
                    </a:lnTo>
                    <a:lnTo>
                      <a:pt x="90" y="29"/>
                    </a:lnTo>
                    <a:lnTo>
                      <a:pt x="90" y="36"/>
                    </a:lnTo>
                    <a:lnTo>
                      <a:pt x="90" y="52"/>
                    </a:lnTo>
                    <a:lnTo>
                      <a:pt x="80" y="52"/>
                    </a:lnTo>
                    <a:lnTo>
                      <a:pt x="80" y="59"/>
                    </a:lnTo>
                    <a:lnTo>
                      <a:pt x="70" y="59"/>
                    </a:lnTo>
                    <a:lnTo>
                      <a:pt x="49" y="59"/>
                    </a:lnTo>
                    <a:lnTo>
                      <a:pt x="49" y="52"/>
                    </a:lnTo>
                    <a:lnTo>
                      <a:pt x="39" y="52"/>
                    </a:lnTo>
                    <a:lnTo>
                      <a:pt x="39" y="36"/>
                    </a:lnTo>
                    <a:lnTo>
                      <a:pt x="39" y="29"/>
                    </a:lnTo>
                    <a:lnTo>
                      <a:pt x="49" y="29"/>
                    </a:lnTo>
                    <a:lnTo>
                      <a:pt x="49" y="22"/>
                    </a:lnTo>
                    <a:lnTo>
                      <a:pt x="70" y="22"/>
                    </a:lnTo>
                    <a:lnTo>
                      <a:pt x="70" y="0"/>
                    </a:lnTo>
                    <a:lnTo>
                      <a:pt x="49" y="0"/>
                    </a:lnTo>
                    <a:lnTo>
                      <a:pt x="29" y="7"/>
                    </a:lnTo>
                    <a:lnTo>
                      <a:pt x="19" y="29"/>
                    </a:lnTo>
                    <a:lnTo>
                      <a:pt x="0" y="36"/>
                    </a:lnTo>
                    <a:lnTo>
                      <a:pt x="0" y="59"/>
                    </a:lnTo>
                    <a:lnTo>
                      <a:pt x="19" y="67"/>
                    </a:lnTo>
                    <a:lnTo>
                      <a:pt x="39" y="81"/>
                    </a:lnTo>
                    <a:lnTo>
                      <a:pt x="70" y="89"/>
                    </a:lnTo>
                    <a:lnTo>
                      <a:pt x="80" y="89"/>
                    </a:lnTo>
                    <a:lnTo>
                      <a:pt x="110" y="81"/>
                    </a:lnTo>
                    <a:lnTo>
                      <a:pt x="120" y="59"/>
                    </a:lnTo>
                    <a:lnTo>
                      <a:pt x="120" y="36"/>
                    </a:lnTo>
                    <a:lnTo>
                      <a:pt x="120" y="29"/>
                    </a:lnTo>
                    <a:lnTo>
                      <a:pt x="110" y="7"/>
                    </a:lnTo>
                    <a:lnTo>
                      <a:pt x="90" y="0"/>
                    </a:lnTo>
                    <a:lnTo>
                      <a:pt x="70" y="0"/>
                    </a:lnTo>
                    <a:lnTo>
                      <a:pt x="7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120160" y="2432160"/>
                <a:ext cx="41760" cy="55800"/>
              </a:xfrm>
              <a:custGeom>
                <a:avLst/>
                <a:gdLst/>
                <a:ahLst/>
                <a:rect l="0" t="0" r="r" b="b"/>
                <a:pathLst>
                  <a:path w="116" h="155">
                    <a:moveTo>
                      <a:pt x="8" y="155"/>
                    </a:moveTo>
                    <a:lnTo>
                      <a:pt x="0" y="4"/>
                    </a:lnTo>
                    <a:lnTo>
                      <a:pt x="116" y="0"/>
                    </a:lnTo>
                    <a:lnTo>
                      <a:pt x="116" y="30"/>
                    </a:lnTo>
                    <a:lnTo>
                      <a:pt x="53" y="30"/>
                    </a:lnTo>
                    <a:lnTo>
                      <a:pt x="53" y="61"/>
                    </a:lnTo>
                    <a:lnTo>
                      <a:pt x="116" y="61"/>
                    </a:lnTo>
                    <a:lnTo>
                      <a:pt x="116" y="93"/>
                    </a:lnTo>
                    <a:lnTo>
                      <a:pt x="62" y="93"/>
                    </a:lnTo>
                    <a:lnTo>
                      <a:pt x="62" y="155"/>
                    </a:lnTo>
                    <a:lnTo>
                      <a:pt x="8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294760" y="2428920"/>
                <a:ext cx="43200" cy="32040"/>
              </a:xfrm>
              <a:custGeom>
                <a:avLst/>
                <a:gdLst/>
                <a:ahLst/>
                <a:rect l="0" t="0" r="r" b="b"/>
                <a:pathLst>
                  <a:path w="120" h="89">
                    <a:moveTo>
                      <a:pt x="65" y="27"/>
                    </a:moveTo>
                    <a:lnTo>
                      <a:pt x="74" y="27"/>
                    </a:lnTo>
                    <a:lnTo>
                      <a:pt x="74" y="33"/>
                    </a:lnTo>
                    <a:lnTo>
                      <a:pt x="83" y="33"/>
                    </a:lnTo>
                    <a:lnTo>
                      <a:pt x="83" y="48"/>
                    </a:lnTo>
                    <a:lnTo>
                      <a:pt x="83" y="55"/>
                    </a:lnTo>
                    <a:lnTo>
                      <a:pt x="74" y="55"/>
                    </a:lnTo>
                    <a:lnTo>
                      <a:pt x="74" y="62"/>
                    </a:lnTo>
                    <a:lnTo>
                      <a:pt x="65" y="62"/>
                    </a:lnTo>
                    <a:lnTo>
                      <a:pt x="45" y="62"/>
                    </a:lnTo>
                    <a:lnTo>
                      <a:pt x="36" y="55"/>
                    </a:lnTo>
                    <a:lnTo>
                      <a:pt x="36" y="48"/>
                    </a:lnTo>
                    <a:lnTo>
                      <a:pt x="36" y="33"/>
                    </a:lnTo>
                    <a:lnTo>
                      <a:pt x="45" y="33"/>
                    </a:lnTo>
                    <a:lnTo>
                      <a:pt x="45" y="27"/>
                    </a:lnTo>
                    <a:lnTo>
                      <a:pt x="65" y="27"/>
                    </a:lnTo>
                    <a:lnTo>
                      <a:pt x="65" y="0"/>
                    </a:lnTo>
                    <a:lnTo>
                      <a:pt x="36" y="0"/>
                    </a:lnTo>
                    <a:lnTo>
                      <a:pt x="9" y="6"/>
                    </a:lnTo>
                    <a:lnTo>
                      <a:pt x="0" y="27"/>
                    </a:lnTo>
                    <a:lnTo>
                      <a:pt x="0" y="48"/>
                    </a:lnTo>
                    <a:lnTo>
                      <a:pt x="0" y="62"/>
                    </a:lnTo>
                    <a:lnTo>
                      <a:pt x="9" y="75"/>
                    </a:lnTo>
                    <a:lnTo>
                      <a:pt x="36" y="82"/>
                    </a:lnTo>
                    <a:lnTo>
                      <a:pt x="45" y="89"/>
                    </a:lnTo>
                    <a:lnTo>
                      <a:pt x="74" y="89"/>
                    </a:lnTo>
                    <a:lnTo>
                      <a:pt x="92" y="82"/>
                    </a:lnTo>
                    <a:lnTo>
                      <a:pt x="110" y="62"/>
                    </a:lnTo>
                    <a:lnTo>
                      <a:pt x="120" y="48"/>
                    </a:lnTo>
                    <a:lnTo>
                      <a:pt x="120" y="27"/>
                    </a:lnTo>
                    <a:lnTo>
                      <a:pt x="110" y="20"/>
                    </a:lnTo>
                    <a:lnTo>
                      <a:pt x="83" y="0"/>
                    </a:lnTo>
                    <a:lnTo>
                      <a:pt x="65" y="0"/>
                    </a:lnTo>
                    <a:lnTo>
                      <a:pt x="65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331120" y="2435400"/>
                <a:ext cx="41760" cy="60840"/>
              </a:xfrm>
              <a:custGeom>
                <a:avLst/>
                <a:gdLst/>
                <a:ahLst/>
                <a:rect l="0" t="0" r="r" b="b"/>
                <a:pathLst>
                  <a:path w="116" h="169">
                    <a:moveTo>
                      <a:pt x="67" y="62"/>
                    </a:moveTo>
                    <a:lnTo>
                      <a:pt x="67" y="49"/>
                    </a:lnTo>
                    <a:lnTo>
                      <a:pt x="67" y="45"/>
                    </a:lnTo>
                    <a:lnTo>
                      <a:pt x="67" y="35"/>
                    </a:lnTo>
                    <a:lnTo>
                      <a:pt x="62" y="30"/>
                    </a:lnTo>
                    <a:lnTo>
                      <a:pt x="49" y="30"/>
                    </a:lnTo>
                    <a:lnTo>
                      <a:pt x="45" y="35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49" y="129"/>
                    </a:lnTo>
                    <a:lnTo>
                      <a:pt x="49" y="129"/>
                    </a:lnTo>
                    <a:lnTo>
                      <a:pt x="58" y="138"/>
                    </a:lnTo>
                    <a:lnTo>
                      <a:pt x="62" y="138"/>
                    </a:lnTo>
                    <a:lnTo>
                      <a:pt x="67" y="138"/>
                    </a:lnTo>
                    <a:lnTo>
                      <a:pt x="75" y="129"/>
                    </a:lnTo>
                    <a:lnTo>
                      <a:pt x="75" y="124"/>
                    </a:lnTo>
                    <a:lnTo>
                      <a:pt x="75" y="120"/>
                    </a:lnTo>
                    <a:lnTo>
                      <a:pt x="75" y="102"/>
                    </a:lnTo>
                    <a:lnTo>
                      <a:pt x="112" y="98"/>
                    </a:lnTo>
                    <a:lnTo>
                      <a:pt x="116" y="120"/>
                    </a:lnTo>
                    <a:lnTo>
                      <a:pt x="112" y="138"/>
                    </a:lnTo>
                    <a:lnTo>
                      <a:pt x="103" y="156"/>
                    </a:lnTo>
                    <a:lnTo>
                      <a:pt x="90" y="160"/>
                    </a:lnTo>
                    <a:lnTo>
                      <a:pt x="62" y="169"/>
                    </a:lnTo>
                    <a:lnTo>
                      <a:pt x="40" y="169"/>
                    </a:lnTo>
                    <a:lnTo>
                      <a:pt x="26" y="156"/>
                    </a:lnTo>
                    <a:lnTo>
                      <a:pt x="13" y="143"/>
                    </a:lnTo>
                    <a:lnTo>
                      <a:pt x="8" y="124"/>
                    </a:lnTo>
                    <a:lnTo>
                      <a:pt x="0" y="58"/>
                    </a:lnTo>
                    <a:lnTo>
                      <a:pt x="8" y="30"/>
                    </a:lnTo>
                    <a:lnTo>
                      <a:pt x="13" y="13"/>
                    </a:lnTo>
                    <a:lnTo>
                      <a:pt x="31" y="4"/>
                    </a:lnTo>
                    <a:lnTo>
                      <a:pt x="58" y="0"/>
                    </a:lnTo>
                    <a:lnTo>
                      <a:pt x="80" y="0"/>
                    </a:lnTo>
                    <a:lnTo>
                      <a:pt x="94" y="13"/>
                    </a:lnTo>
                    <a:lnTo>
                      <a:pt x="103" y="17"/>
                    </a:lnTo>
                    <a:lnTo>
                      <a:pt x="112" y="45"/>
                    </a:lnTo>
                    <a:lnTo>
                      <a:pt x="112" y="58"/>
                    </a:lnTo>
                    <a:lnTo>
                      <a:pt x="6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167680" y="1211400"/>
                <a:ext cx="140040" cy="1327680"/>
              </a:xfrm>
              <a:custGeom>
                <a:avLst/>
                <a:gdLst/>
                <a:ahLst/>
                <a:rect l="0" t="0" r="r" b="b"/>
                <a:pathLst>
                  <a:path w="389" h="3688">
                    <a:moveTo>
                      <a:pt x="0" y="3673"/>
                    </a:moveTo>
                    <a:lnTo>
                      <a:pt x="307" y="3688"/>
                    </a:lnTo>
                    <a:lnTo>
                      <a:pt x="327" y="3301"/>
                    </a:lnTo>
                    <a:lnTo>
                      <a:pt x="233" y="3301"/>
                    </a:lnTo>
                    <a:lnTo>
                      <a:pt x="237" y="3231"/>
                    </a:lnTo>
                    <a:lnTo>
                      <a:pt x="237" y="3208"/>
                    </a:lnTo>
                    <a:lnTo>
                      <a:pt x="254" y="2894"/>
                    </a:lnTo>
                    <a:lnTo>
                      <a:pt x="254" y="2863"/>
                    </a:lnTo>
                    <a:lnTo>
                      <a:pt x="270" y="2537"/>
                    </a:lnTo>
                    <a:lnTo>
                      <a:pt x="270" y="2506"/>
                    </a:lnTo>
                    <a:lnTo>
                      <a:pt x="286" y="2185"/>
                    </a:lnTo>
                    <a:lnTo>
                      <a:pt x="286" y="2154"/>
                    </a:lnTo>
                    <a:lnTo>
                      <a:pt x="303" y="1821"/>
                    </a:lnTo>
                    <a:lnTo>
                      <a:pt x="303" y="1790"/>
                    </a:lnTo>
                    <a:lnTo>
                      <a:pt x="319" y="1457"/>
                    </a:lnTo>
                    <a:lnTo>
                      <a:pt x="319" y="1426"/>
                    </a:lnTo>
                    <a:lnTo>
                      <a:pt x="335" y="1077"/>
                    </a:lnTo>
                    <a:lnTo>
                      <a:pt x="340" y="1046"/>
                    </a:lnTo>
                    <a:lnTo>
                      <a:pt x="356" y="689"/>
                    </a:lnTo>
                    <a:lnTo>
                      <a:pt x="356" y="666"/>
                    </a:lnTo>
                    <a:lnTo>
                      <a:pt x="372" y="302"/>
                    </a:lnTo>
                    <a:lnTo>
                      <a:pt x="376" y="271"/>
                    </a:lnTo>
                    <a:lnTo>
                      <a:pt x="389" y="0"/>
                    </a:lnTo>
                    <a:lnTo>
                      <a:pt x="233" y="3"/>
                    </a:lnTo>
                    <a:lnTo>
                      <a:pt x="221" y="259"/>
                    </a:lnTo>
                    <a:lnTo>
                      <a:pt x="217" y="290"/>
                    </a:lnTo>
                    <a:lnTo>
                      <a:pt x="205" y="604"/>
                    </a:lnTo>
                    <a:lnTo>
                      <a:pt x="205" y="635"/>
                    </a:lnTo>
                    <a:lnTo>
                      <a:pt x="187" y="949"/>
                    </a:lnTo>
                    <a:lnTo>
                      <a:pt x="187" y="980"/>
                    </a:lnTo>
                    <a:lnTo>
                      <a:pt x="175" y="1286"/>
                    </a:lnTo>
                    <a:lnTo>
                      <a:pt x="175" y="1317"/>
                    </a:lnTo>
                    <a:lnTo>
                      <a:pt x="159" y="1615"/>
                    </a:lnTo>
                    <a:lnTo>
                      <a:pt x="159" y="1646"/>
                    </a:lnTo>
                    <a:lnTo>
                      <a:pt x="151" y="1952"/>
                    </a:lnTo>
                    <a:lnTo>
                      <a:pt x="151" y="1983"/>
                    </a:lnTo>
                    <a:lnTo>
                      <a:pt x="134" y="2262"/>
                    </a:lnTo>
                    <a:lnTo>
                      <a:pt x="134" y="2293"/>
                    </a:lnTo>
                    <a:lnTo>
                      <a:pt x="122" y="2583"/>
                    </a:lnTo>
                    <a:lnTo>
                      <a:pt x="122" y="2614"/>
                    </a:lnTo>
                    <a:lnTo>
                      <a:pt x="110" y="2883"/>
                    </a:lnTo>
                    <a:lnTo>
                      <a:pt x="110" y="2914"/>
                    </a:lnTo>
                    <a:lnTo>
                      <a:pt x="98" y="3200"/>
                    </a:lnTo>
                    <a:lnTo>
                      <a:pt x="98" y="3231"/>
                    </a:lnTo>
                    <a:lnTo>
                      <a:pt x="98" y="3293"/>
                    </a:lnTo>
                    <a:lnTo>
                      <a:pt x="4" y="3293"/>
                    </a:lnTo>
                    <a:lnTo>
                      <a:pt x="0" y="36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091360" y="2244600"/>
                <a:ext cx="116280" cy="32040"/>
              </a:xfrm>
              <a:custGeom>
                <a:avLst/>
                <a:gdLst/>
                <a:ahLst/>
                <a:rect l="0" t="0" r="r" b="b"/>
                <a:pathLst>
                  <a:path w="323" h="89">
                    <a:moveTo>
                      <a:pt x="323" y="89"/>
                    </a:moveTo>
                    <a:lnTo>
                      <a:pt x="323" y="17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323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259840" y="2239920"/>
                <a:ext cx="127440" cy="33840"/>
              </a:xfrm>
              <a:custGeom>
                <a:avLst/>
                <a:gdLst/>
                <a:ahLst/>
                <a:rect l="0" t="0" r="r" b="b"/>
                <a:pathLst>
                  <a:path w="354" h="94">
                    <a:moveTo>
                      <a:pt x="0" y="68"/>
                    </a:moveTo>
                    <a:lnTo>
                      <a:pt x="0" y="0"/>
                    </a:lnTo>
                    <a:lnTo>
                      <a:pt x="354" y="26"/>
                    </a:lnTo>
                    <a:lnTo>
                      <a:pt x="354" y="94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271000" y="1986120"/>
                <a:ext cx="133560" cy="35280"/>
              </a:xfrm>
              <a:custGeom>
                <a:avLst/>
                <a:gdLst/>
                <a:ahLst/>
                <a:rect l="0" t="0" r="r" b="b"/>
                <a:pathLst>
                  <a:path w="371" h="98">
                    <a:moveTo>
                      <a:pt x="0" y="87"/>
                    </a:moveTo>
                    <a:lnTo>
                      <a:pt x="0" y="0"/>
                    </a:lnTo>
                    <a:lnTo>
                      <a:pt x="371" y="10"/>
                    </a:lnTo>
                    <a:lnTo>
                      <a:pt x="371" y="98"/>
                    </a:lnTo>
                    <a:lnTo>
                      <a:pt x="355" y="98"/>
                    </a:lnTo>
                    <a:lnTo>
                      <a:pt x="310" y="98"/>
                    </a:lnTo>
                    <a:lnTo>
                      <a:pt x="253" y="98"/>
                    </a:lnTo>
                    <a:lnTo>
                      <a:pt x="188" y="87"/>
                    </a:lnTo>
                    <a:lnTo>
                      <a:pt x="118" y="87"/>
                    </a:lnTo>
                    <a:lnTo>
                      <a:pt x="56" y="87"/>
                    </a:lnTo>
                    <a:lnTo>
                      <a:pt x="16" y="87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097840" y="2023920"/>
                <a:ext cx="117720" cy="35280"/>
              </a:xfrm>
              <a:custGeom>
                <a:avLst/>
                <a:gdLst/>
                <a:ahLst/>
                <a:rect l="0" t="0" r="r" b="b"/>
                <a:pathLst>
                  <a:path w="327" h="98">
                    <a:moveTo>
                      <a:pt x="327" y="10"/>
                    </a:moveTo>
                    <a:lnTo>
                      <a:pt x="327" y="98"/>
                    </a:lnTo>
                    <a:lnTo>
                      <a:pt x="0" y="87"/>
                    </a:lnTo>
                    <a:lnTo>
                      <a:pt x="0" y="0"/>
                    </a:lnTo>
                    <a:lnTo>
                      <a:pt x="32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091360" y="2138400"/>
                <a:ext cx="120960" cy="32040"/>
              </a:xfrm>
              <a:custGeom>
                <a:avLst/>
                <a:gdLst/>
                <a:ahLst/>
                <a:rect l="0" t="0" r="r" b="b"/>
                <a:pathLst>
                  <a:path w="336" h="89">
                    <a:moveTo>
                      <a:pt x="336" y="89"/>
                    </a:moveTo>
                    <a:lnTo>
                      <a:pt x="336" y="17"/>
                    </a:lnTo>
                    <a:lnTo>
                      <a:pt x="8" y="0"/>
                    </a:lnTo>
                    <a:lnTo>
                      <a:pt x="0" y="71"/>
                    </a:lnTo>
                    <a:lnTo>
                      <a:pt x="336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264520" y="2112840"/>
                <a:ext cx="128880" cy="33840"/>
              </a:xfrm>
              <a:custGeom>
                <a:avLst/>
                <a:gdLst/>
                <a:ahLst/>
                <a:rect l="0" t="0" r="r" b="b"/>
                <a:pathLst>
                  <a:path w="358" h="94">
                    <a:moveTo>
                      <a:pt x="0" y="76"/>
                    </a:moveTo>
                    <a:lnTo>
                      <a:pt x="0" y="0"/>
                    </a:lnTo>
                    <a:lnTo>
                      <a:pt x="358" y="18"/>
                    </a:lnTo>
                    <a:lnTo>
                      <a:pt x="358" y="9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110440" y="1430280"/>
                <a:ext cx="132120" cy="32040"/>
              </a:xfrm>
              <a:custGeom>
                <a:avLst/>
                <a:gdLst/>
                <a:ahLst/>
                <a:rect l="0" t="0" r="r" b="b"/>
                <a:pathLst>
                  <a:path w="367" h="89">
                    <a:moveTo>
                      <a:pt x="367" y="79"/>
                    </a:moveTo>
                    <a:lnTo>
                      <a:pt x="367" y="0"/>
                    </a:lnTo>
                    <a:lnTo>
                      <a:pt x="0" y="29"/>
                    </a:lnTo>
                    <a:lnTo>
                      <a:pt x="0" y="89"/>
                    </a:lnTo>
                    <a:lnTo>
                      <a:pt x="367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296200" y="1447920"/>
                <a:ext cx="144720" cy="33840"/>
              </a:xfrm>
              <a:custGeom>
                <a:avLst/>
                <a:gdLst/>
                <a:ahLst/>
                <a:rect l="0" t="0" r="r" b="b"/>
                <a:pathLst>
                  <a:path w="402" h="94">
                    <a:moveTo>
                      <a:pt x="0" y="94"/>
                    </a:moveTo>
                    <a:lnTo>
                      <a:pt x="0" y="31"/>
                    </a:lnTo>
                    <a:lnTo>
                      <a:pt x="402" y="0"/>
                    </a:lnTo>
                    <a:lnTo>
                      <a:pt x="402" y="8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107200" y="1554120"/>
                <a:ext cx="128880" cy="32040"/>
              </a:xfrm>
              <a:custGeom>
                <a:avLst/>
                <a:gdLst/>
                <a:ahLst/>
                <a:rect l="0" t="0" r="r" b="b"/>
                <a:pathLst>
                  <a:path w="358" h="89">
                    <a:moveTo>
                      <a:pt x="358" y="0"/>
                    </a:moveTo>
                    <a:lnTo>
                      <a:pt x="358" y="79"/>
                    </a:lnTo>
                    <a:lnTo>
                      <a:pt x="0" y="89"/>
                    </a:lnTo>
                    <a:lnTo>
                      <a:pt x="0" y="9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115480" y="1305000"/>
                <a:ext cx="132120" cy="33840"/>
              </a:xfrm>
              <a:custGeom>
                <a:avLst/>
                <a:gdLst/>
                <a:ahLst/>
                <a:rect l="0" t="0" r="r" b="b"/>
                <a:pathLst>
                  <a:path w="367" h="94">
                    <a:moveTo>
                      <a:pt x="367" y="0"/>
                    </a:moveTo>
                    <a:lnTo>
                      <a:pt x="362" y="84"/>
                    </a:lnTo>
                    <a:lnTo>
                      <a:pt x="0" y="94"/>
                    </a:lnTo>
                    <a:lnTo>
                      <a:pt x="0" y="10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300880" y="1305000"/>
                <a:ext cx="151200" cy="33840"/>
              </a:xfrm>
              <a:custGeom>
                <a:avLst/>
                <a:gdLst/>
                <a:ahLst/>
                <a:rect l="0" t="0" r="r" b="b"/>
                <a:pathLst>
                  <a:path w="420" h="94">
                    <a:moveTo>
                      <a:pt x="4" y="26"/>
                    </a:moveTo>
                    <a:lnTo>
                      <a:pt x="0" y="94"/>
                    </a:lnTo>
                    <a:lnTo>
                      <a:pt x="412" y="68"/>
                    </a:lnTo>
                    <a:lnTo>
                      <a:pt x="420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251920" y="2365200"/>
                <a:ext cx="124200" cy="32040"/>
              </a:xfrm>
              <a:custGeom>
                <a:avLst/>
                <a:gdLst/>
                <a:ahLst/>
                <a:rect l="0" t="0" r="r" b="b"/>
                <a:pathLst>
                  <a:path w="345" h="89">
                    <a:moveTo>
                      <a:pt x="0" y="53"/>
                    </a:moveTo>
                    <a:lnTo>
                      <a:pt x="345" y="89"/>
                    </a:lnTo>
                    <a:lnTo>
                      <a:pt x="345" y="17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089920" y="2355840"/>
                <a:ext cx="113040" cy="33840"/>
              </a:xfrm>
              <a:custGeom>
                <a:avLst/>
                <a:gdLst/>
                <a:ahLst/>
                <a:rect l="0" t="0" r="r" b="b"/>
                <a:pathLst>
                  <a:path w="314" h="94">
                    <a:moveTo>
                      <a:pt x="314" y="94"/>
                    </a:moveTo>
                    <a:lnTo>
                      <a:pt x="301" y="94"/>
                    </a:lnTo>
                    <a:lnTo>
                      <a:pt x="265" y="94"/>
                    </a:lnTo>
                    <a:lnTo>
                      <a:pt x="216" y="86"/>
                    </a:lnTo>
                    <a:lnTo>
                      <a:pt x="154" y="79"/>
                    </a:lnTo>
                    <a:lnTo>
                      <a:pt x="101" y="79"/>
                    </a:lnTo>
                    <a:lnTo>
                      <a:pt x="48" y="62"/>
                    </a:lnTo>
                    <a:lnTo>
                      <a:pt x="16" y="62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48" y="0"/>
                    </a:lnTo>
                    <a:lnTo>
                      <a:pt x="101" y="15"/>
                    </a:lnTo>
                    <a:lnTo>
                      <a:pt x="154" y="15"/>
                    </a:lnTo>
                    <a:lnTo>
                      <a:pt x="216" y="24"/>
                    </a:lnTo>
                    <a:lnTo>
                      <a:pt x="265" y="31"/>
                    </a:lnTo>
                    <a:lnTo>
                      <a:pt x="301" y="31"/>
                    </a:lnTo>
                    <a:lnTo>
                      <a:pt x="314" y="31"/>
                    </a:lnTo>
                    <a:lnTo>
                      <a:pt x="314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288280" y="1585800"/>
                <a:ext cx="141480" cy="35280"/>
              </a:xfrm>
              <a:custGeom>
                <a:avLst/>
                <a:gdLst/>
                <a:ahLst/>
                <a:rect l="0" t="0" r="r" b="b"/>
                <a:pathLst>
                  <a:path w="393" h="98">
                    <a:moveTo>
                      <a:pt x="0" y="98"/>
                    </a:moveTo>
                    <a:lnTo>
                      <a:pt x="4" y="10"/>
                    </a:lnTo>
                    <a:lnTo>
                      <a:pt x="393" y="0"/>
                    </a:lnTo>
                    <a:lnTo>
                      <a:pt x="393" y="7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105760" y="1674720"/>
                <a:ext cx="125640" cy="32040"/>
              </a:xfrm>
              <a:custGeom>
                <a:avLst/>
                <a:gdLst/>
                <a:ahLst/>
                <a:rect l="0" t="0" r="r" b="b"/>
                <a:pathLst>
                  <a:path w="349" h="89">
                    <a:moveTo>
                      <a:pt x="349" y="0"/>
                    </a:moveTo>
                    <a:lnTo>
                      <a:pt x="349" y="79"/>
                    </a:lnTo>
                    <a:lnTo>
                      <a:pt x="0" y="89"/>
                    </a:lnTo>
                    <a:lnTo>
                      <a:pt x="0" y="9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283600" y="1724040"/>
                <a:ext cx="138600" cy="32040"/>
              </a:xfrm>
              <a:custGeom>
                <a:avLst/>
                <a:gdLst/>
                <a:ahLst/>
                <a:rect l="0" t="0" r="r" b="b"/>
                <a:pathLst>
                  <a:path w="385" h="89">
                    <a:moveTo>
                      <a:pt x="0" y="89"/>
                    </a:moveTo>
                    <a:lnTo>
                      <a:pt x="0" y="9"/>
                    </a:lnTo>
                    <a:lnTo>
                      <a:pt x="385" y="0"/>
                    </a:lnTo>
                    <a:lnTo>
                      <a:pt x="385" y="7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102520" y="1792440"/>
                <a:ext cx="122400" cy="3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275680" y="1854360"/>
                <a:ext cx="140040" cy="33840"/>
              </a:xfrm>
              <a:custGeom>
                <a:avLst/>
                <a:gdLst/>
                <a:ahLst/>
                <a:rect l="0" t="0" r="r" b="b"/>
                <a:pathLst>
                  <a:path w="389" h="94">
                    <a:moveTo>
                      <a:pt x="0" y="84"/>
                    </a:moveTo>
                    <a:lnTo>
                      <a:pt x="0" y="0"/>
                    </a:lnTo>
                    <a:lnTo>
                      <a:pt x="389" y="10"/>
                    </a:lnTo>
                    <a:lnTo>
                      <a:pt x="380" y="9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097840" y="1914480"/>
                <a:ext cx="125640" cy="33840"/>
              </a:xfrm>
              <a:custGeom>
                <a:avLst/>
                <a:gdLst/>
                <a:ahLst/>
                <a:rect l="0" t="0" r="r" b="b"/>
                <a:pathLst>
                  <a:path w="349" h="94">
                    <a:moveTo>
                      <a:pt x="349" y="94"/>
                    </a:moveTo>
                    <a:lnTo>
                      <a:pt x="349" y="0"/>
                    </a:lnTo>
                    <a:lnTo>
                      <a:pt x="0" y="0"/>
                    </a:lnTo>
                    <a:lnTo>
                      <a:pt x="0" y="83"/>
                    </a:lnTo>
                    <a:lnTo>
                      <a:pt x="349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178840" y="1230480"/>
                <a:ext cx="109800" cy="1281600"/>
              </a:xfrm>
              <a:custGeom>
                <a:avLst/>
                <a:gdLst/>
                <a:ahLst/>
                <a:rect l="0" t="0" r="r" b="b"/>
                <a:pathLst>
                  <a:path w="305" h="3560">
                    <a:moveTo>
                      <a:pt x="227" y="437"/>
                    </a:moveTo>
                    <a:lnTo>
                      <a:pt x="243" y="27"/>
                    </a:lnTo>
                    <a:lnTo>
                      <a:pt x="247" y="15"/>
                    </a:lnTo>
                    <a:lnTo>
                      <a:pt x="255" y="3"/>
                    </a:lnTo>
                    <a:lnTo>
                      <a:pt x="264" y="0"/>
                    </a:lnTo>
                    <a:lnTo>
                      <a:pt x="276" y="0"/>
                    </a:lnTo>
                    <a:lnTo>
                      <a:pt x="288" y="0"/>
                    </a:lnTo>
                    <a:lnTo>
                      <a:pt x="297" y="3"/>
                    </a:lnTo>
                    <a:lnTo>
                      <a:pt x="305" y="15"/>
                    </a:lnTo>
                    <a:lnTo>
                      <a:pt x="305" y="27"/>
                    </a:lnTo>
                    <a:lnTo>
                      <a:pt x="280" y="429"/>
                    </a:lnTo>
                    <a:lnTo>
                      <a:pt x="143" y="3332"/>
                    </a:lnTo>
                    <a:lnTo>
                      <a:pt x="177" y="3347"/>
                    </a:lnTo>
                    <a:lnTo>
                      <a:pt x="206" y="3371"/>
                    </a:lnTo>
                    <a:lnTo>
                      <a:pt x="223" y="3405"/>
                    </a:lnTo>
                    <a:lnTo>
                      <a:pt x="227" y="3440"/>
                    </a:lnTo>
                    <a:lnTo>
                      <a:pt x="218" y="3487"/>
                    </a:lnTo>
                    <a:lnTo>
                      <a:pt x="194" y="3521"/>
                    </a:lnTo>
                    <a:lnTo>
                      <a:pt x="161" y="3549"/>
                    </a:lnTo>
                    <a:lnTo>
                      <a:pt x="119" y="3560"/>
                    </a:lnTo>
                    <a:lnTo>
                      <a:pt x="69" y="3549"/>
                    </a:lnTo>
                    <a:lnTo>
                      <a:pt x="32" y="3521"/>
                    </a:lnTo>
                    <a:lnTo>
                      <a:pt x="8" y="3487"/>
                    </a:lnTo>
                    <a:lnTo>
                      <a:pt x="0" y="3440"/>
                    </a:lnTo>
                    <a:lnTo>
                      <a:pt x="4" y="3405"/>
                    </a:lnTo>
                    <a:lnTo>
                      <a:pt x="24" y="3371"/>
                    </a:lnTo>
                    <a:lnTo>
                      <a:pt x="57" y="3347"/>
                    </a:lnTo>
                    <a:lnTo>
                      <a:pt x="94" y="3332"/>
                    </a:lnTo>
                    <a:lnTo>
                      <a:pt x="227" y="4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8172360" y="939960"/>
              <a:ext cx="51120" cy="76680"/>
            </a:xfrm>
            <a:custGeom>
              <a:avLst/>
              <a:gdLst/>
              <a:ahLst/>
              <a:rect l="0" t="0" r="r" b="b"/>
              <a:pathLst>
                <a:path w="142" h="213">
                  <a:moveTo>
                    <a:pt x="129" y="0"/>
                  </a:moveTo>
                  <a:lnTo>
                    <a:pt x="66" y="47"/>
                  </a:lnTo>
                  <a:lnTo>
                    <a:pt x="41" y="104"/>
                  </a:lnTo>
                  <a:lnTo>
                    <a:pt x="70" y="165"/>
                  </a:lnTo>
                  <a:lnTo>
                    <a:pt x="142" y="213"/>
                  </a:lnTo>
                  <a:lnTo>
                    <a:pt x="66" y="185"/>
                  </a:lnTo>
                  <a:lnTo>
                    <a:pt x="16" y="152"/>
                  </a:lnTo>
                  <a:lnTo>
                    <a:pt x="0" y="120"/>
                  </a:lnTo>
                  <a:lnTo>
                    <a:pt x="4" y="84"/>
                  </a:lnTo>
                  <a:lnTo>
                    <a:pt x="24" y="51"/>
                  </a:lnTo>
                  <a:lnTo>
                    <a:pt x="58" y="23"/>
                  </a:lnTo>
                  <a:lnTo>
                    <a:pt x="96" y="3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244000" y="979560"/>
              <a:ext cx="47880" cy="36720"/>
            </a:xfrm>
            <a:custGeom>
              <a:avLst/>
              <a:gdLst/>
              <a:ahLst/>
              <a:rect l="0" t="0" r="r" b="b"/>
              <a:pathLst>
                <a:path w="133" h="102">
                  <a:moveTo>
                    <a:pt x="0" y="102"/>
                  </a:moveTo>
                  <a:lnTo>
                    <a:pt x="64" y="102"/>
                  </a:lnTo>
                  <a:lnTo>
                    <a:pt x="111" y="78"/>
                  </a:lnTo>
                  <a:lnTo>
                    <a:pt x="133" y="40"/>
                  </a:lnTo>
                  <a:lnTo>
                    <a:pt x="124" y="0"/>
                  </a:lnTo>
                  <a:lnTo>
                    <a:pt x="111" y="32"/>
                  </a:lnTo>
                  <a:lnTo>
                    <a:pt x="94" y="57"/>
                  </a:lnTo>
                  <a:lnTo>
                    <a:pt x="59" y="7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8050320" y="822240"/>
              <a:ext cx="527400" cy="163800"/>
              <a:chOff x="8050320" y="822240"/>
              <a:chExt cx="527400" cy="163800"/>
            </a:xfrm>
          </p:grpSpPr>
          <p:sp>
            <p:nvSpPr>
              <p:cNvPr id="383" name=""/>
              <p:cNvSpPr/>
              <p:nvPr/>
            </p:nvSpPr>
            <p:spPr>
              <a:xfrm>
                <a:off x="8050320" y="822240"/>
                <a:ext cx="527400" cy="163800"/>
              </a:xfrm>
              <a:custGeom>
                <a:avLst/>
                <a:gdLst/>
                <a:ahLst/>
                <a:rect l="0" t="0" r="r" b="b"/>
                <a:pathLst>
                  <a:path w="1465" h="455">
                    <a:moveTo>
                      <a:pt x="1114" y="42"/>
                    </a:moveTo>
                    <a:lnTo>
                      <a:pt x="1073" y="19"/>
                    </a:lnTo>
                    <a:lnTo>
                      <a:pt x="1016" y="11"/>
                    </a:lnTo>
                    <a:lnTo>
                      <a:pt x="934" y="0"/>
                    </a:lnTo>
                    <a:lnTo>
                      <a:pt x="845" y="0"/>
                    </a:lnTo>
                    <a:lnTo>
                      <a:pt x="751" y="0"/>
                    </a:lnTo>
                    <a:lnTo>
                      <a:pt x="668" y="11"/>
                    </a:lnTo>
                    <a:lnTo>
                      <a:pt x="611" y="19"/>
                    </a:lnTo>
                    <a:lnTo>
                      <a:pt x="579" y="34"/>
                    </a:lnTo>
                    <a:lnTo>
                      <a:pt x="546" y="96"/>
                    </a:lnTo>
                    <a:lnTo>
                      <a:pt x="517" y="92"/>
                    </a:lnTo>
                    <a:lnTo>
                      <a:pt x="493" y="96"/>
                    </a:lnTo>
                    <a:lnTo>
                      <a:pt x="468" y="100"/>
                    </a:lnTo>
                    <a:lnTo>
                      <a:pt x="444" y="111"/>
                    </a:lnTo>
                    <a:lnTo>
                      <a:pt x="424" y="30"/>
                    </a:lnTo>
                    <a:lnTo>
                      <a:pt x="395" y="19"/>
                    </a:lnTo>
                    <a:lnTo>
                      <a:pt x="346" y="11"/>
                    </a:lnTo>
                    <a:lnTo>
                      <a:pt x="281" y="3"/>
                    </a:lnTo>
                    <a:lnTo>
                      <a:pt x="212" y="3"/>
                    </a:lnTo>
                    <a:lnTo>
                      <a:pt x="146" y="11"/>
                    </a:lnTo>
                    <a:lnTo>
                      <a:pt x="89" y="11"/>
                    </a:lnTo>
                    <a:lnTo>
                      <a:pt x="44" y="19"/>
                    </a:lnTo>
                    <a:lnTo>
                      <a:pt x="24" y="30"/>
                    </a:lnTo>
                    <a:lnTo>
                      <a:pt x="0" y="111"/>
                    </a:lnTo>
                    <a:lnTo>
                      <a:pt x="12" y="215"/>
                    </a:lnTo>
                    <a:lnTo>
                      <a:pt x="40" y="316"/>
                    </a:lnTo>
                    <a:lnTo>
                      <a:pt x="81" y="374"/>
                    </a:lnTo>
                    <a:lnTo>
                      <a:pt x="106" y="382"/>
                    </a:lnTo>
                    <a:lnTo>
                      <a:pt x="130" y="393"/>
                    </a:lnTo>
                    <a:lnTo>
                      <a:pt x="163" y="405"/>
                    </a:lnTo>
                    <a:lnTo>
                      <a:pt x="195" y="409"/>
                    </a:lnTo>
                    <a:lnTo>
                      <a:pt x="232" y="412"/>
                    </a:lnTo>
                    <a:lnTo>
                      <a:pt x="269" y="412"/>
                    </a:lnTo>
                    <a:lnTo>
                      <a:pt x="309" y="409"/>
                    </a:lnTo>
                    <a:lnTo>
                      <a:pt x="342" y="397"/>
                    </a:lnTo>
                    <a:lnTo>
                      <a:pt x="395" y="351"/>
                    </a:lnTo>
                    <a:lnTo>
                      <a:pt x="428" y="293"/>
                    </a:lnTo>
                    <a:lnTo>
                      <a:pt x="448" y="239"/>
                    </a:lnTo>
                    <a:lnTo>
                      <a:pt x="452" y="219"/>
                    </a:lnTo>
                    <a:lnTo>
                      <a:pt x="477" y="215"/>
                    </a:lnTo>
                    <a:lnTo>
                      <a:pt x="509" y="215"/>
                    </a:lnTo>
                    <a:lnTo>
                      <a:pt x="534" y="219"/>
                    </a:lnTo>
                    <a:lnTo>
                      <a:pt x="562" y="235"/>
                    </a:lnTo>
                    <a:lnTo>
                      <a:pt x="575" y="262"/>
                    </a:lnTo>
                    <a:lnTo>
                      <a:pt x="599" y="312"/>
                    </a:lnTo>
                    <a:lnTo>
                      <a:pt x="644" y="378"/>
                    </a:lnTo>
                    <a:lnTo>
                      <a:pt x="697" y="424"/>
                    </a:lnTo>
                    <a:lnTo>
                      <a:pt x="735" y="439"/>
                    </a:lnTo>
                    <a:lnTo>
                      <a:pt x="783" y="443"/>
                    </a:lnTo>
                    <a:lnTo>
                      <a:pt x="845" y="451"/>
                    </a:lnTo>
                    <a:lnTo>
                      <a:pt x="902" y="455"/>
                    </a:lnTo>
                    <a:lnTo>
                      <a:pt x="967" y="451"/>
                    </a:lnTo>
                    <a:lnTo>
                      <a:pt x="1020" y="443"/>
                    </a:lnTo>
                    <a:lnTo>
                      <a:pt x="1065" y="439"/>
                    </a:lnTo>
                    <a:lnTo>
                      <a:pt x="1089" y="428"/>
                    </a:lnTo>
                    <a:lnTo>
                      <a:pt x="1122" y="378"/>
                    </a:lnTo>
                    <a:lnTo>
                      <a:pt x="1138" y="301"/>
                    </a:lnTo>
                    <a:lnTo>
                      <a:pt x="1151" y="231"/>
                    </a:lnTo>
                    <a:lnTo>
                      <a:pt x="1155" y="200"/>
                    </a:lnTo>
                    <a:lnTo>
                      <a:pt x="1465" y="107"/>
                    </a:lnTo>
                    <a:lnTo>
                      <a:pt x="1465" y="0"/>
                    </a:lnTo>
                    <a:lnTo>
                      <a:pt x="1114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296200" y="839880"/>
                <a:ext cx="100440" cy="130680"/>
              </a:xfrm>
              <a:custGeom>
                <a:avLst/>
                <a:gdLst/>
                <a:ahLst/>
                <a:rect l="0" t="0" r="r" b="b"/>
                <a:pathLst>
                  <a:path w="279" h="363">
                    <a:moveTo>
                      <a:pt x="178" y="0"/>
                    </a:moveTo>
                    <a:lnTo>
                      <a:pt x="279" y="203"/>
                    </a:lnTo>
                    <a:lnTo>
                      <a:pt x="145" y="187"/>
                    </a:lnTo>
                    <a:lnTo>
                      <a:pt x="215" y="355"/>
                    </a:lnTo>
                    <a:lnTo>
                      <a:pt x="186" y="363"/>
                    </a:lnTo>
                    <a:lnTo>
                      <a:pt x="153" y="363"/>
                    </a:lnTo>
                    <a:lnTo>
                      <a:pt x="129" y="355"/>
                    </a:lnTo>
                    <a:lnTo>
                      <a:pt x="97" y="351"/>
                    </a:lnTo>
                    <a:lnTo>
                      <a:pt x="0" y="109"/>
                    </a:lnTo>
                    <a:lnTo>
                      <a:pt x="117" y="117"/>
                    </a:lnTo>
                    <a:lnTo>
                      <a:pt x="56" y="11"/>
                    </a:lnTo>
                    <a:lnTo>
                      <a:pt x="85" y="3"/>
                    </a:lnTo>
                    <a:lnTo>
                      <a:pt x="117" y="3"/>
                    </a:lnTo>
                    <a:lnTo>
                      <a:pt x="149" y="0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78760" y="841320"/>
                <a:ext cx="89280" cy="114840"/>
              </a:xfrm>
              <a:custGeom>
                <a:avLst/>
                <a:gdLst/>
                <a:ahLst/>
                <a:rect l="0" t="0" r="r" b="b"/>
                <a:pathLst>
                  <a:path w="248" h="319">
                    <a:moveTo>
                      <a:pt x="154" y="0"/>
                    </a:moveTo>
                    <a:lnTo>
                      <a:pt x="248" y="182"/>
                    </a:lnTo>
                    <a:lnTo>
                      <a:pt x="130" y="167"/>
                    </a:lnTo>
                    <a:lnTo>
                      <a:pt x="188" y="319"/>
                    </a:lnTo>
                    <a:lnTo>
                      <a:pt x="166" y="319"/>
                    </a:lnTo>
                    <a:lnTo>
                      <a:pt x="138" y="319"/>
                    </a:lnTo>
                    <a:lnTo>
                      <a:pt x="118" y="315"/>
                    </a:lnTo>
                    <a:lnTo>
                      <a:pt x="90" y="311"/>
                    </a:lnTo>
                    <a:lnTo>
                      <a:pt x="0" y="93"/>
                    </a:lnTo>
                    <a:lnTo>
                      <a:pt x="114" y="105"/>
                    </a:lnTo>
                    <a:lnTo>
                      <a:pt x="52" y="11"/>
                    </a:lnTo>
                    <a:lnTo>
                      <a:pt x="73" y="7"/>
                    </a:lnTo>
                    <a:lnTo>
                      <a:pt x="102" y="7"/>
                    </a:lnTo>
                    <a:lnTo>
                      <a:pt x="134" y="0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8143920" y="1052640"/>
              <a:ext cx="257400" cy="71640"/>
            </a:xfrm>
            <a:custGeom>
              <a:avLst/>
              <a:gdLst/>
              <a:ahLst/>
              <a:rect l="0" t="0" r="r" b="b"/>
              <a:pathLst>
                <a:path w="715" h="199">
                  <a:moveTo>
                    <a:pt x="0" y="186"/>
                  </a:moveTo>
                  <a:lnTo>
                    <a:pt x="198" y="39"/>
                  </a:lnTo>
                  <a:lnTo>
                    <a:pt x="251" y="0"/>
                  </a:lnTo>
                  <a:lnTo>
                    <a:pt x="715" y="199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8134200" y="2014560"/>
            <a:ext cx="163800" cy="495720"/>
          </a:xfrm>
          <a:custGeom>
            <a:avLst/>
            <a:gdLst/>
            <a:ahLst/>
            <a:rect l="0" t="0" r="r" b="b"/>
            <a:pathLst>
              <a:path w="455" h="1377">
                <a:moveTo>
                  <a:pt x="375" y="0"/>
                </a:moveTo>
                <a:lnTo>
                  <a:pt x="283" y="1275"/>
                </a:lnTo>
                <a:lnTo>
                  <a:pt x="353" y="1278"/>
                </a:lnTo>
                <a:lnTo>
                  <a:pt x="411" y="1284"/>
                </a:lnTo>
                <a:lnTo>
                  <a:pt x="446" y="1300"/>
                </a:lnTo>
                <a:lnTo>
                  <a:pt x="455" y="1316"/>
                </a:lnTo>
                <a:lnTo>
                  <a:pt x="441" y="1336"/>
                </a:lnTo>
                <a:lnTo>
                  <a:pt x="393" y="1352"/>
                </a:lnTo>
                <a:lnTo>
                  <a:pt x="327" y="1368"/>
                </a:lnTo>
                <a:lnTo>
                  <a:pt x="247" y="1377"/>
                </a:lnTo>
                <a:lnTo>
                  <a:pt x="145" y="1377"/>
                </a:lnTo>
                <a:lnTo>
                  <a:pt x="66" y="1371"/>
                </a:lnTo>
                <a:lnTo>
                  <a:pt x="17" y="1355"/>
                </a:lnTo>
                <a:lnTo>
                  <a:pt x="0" y="1339"/>
                </a:lnTo>
                <a:lnTo>
                  <a:pt x="0" y="1320"/>
                </a:lnTo>
                <a:lnTo>
                  <a:pt x="39" y="1304"/>
                </a:lnTo>
                <a:lnTo>
                  <a:pt x="110" y="1291"/>
                </a:lnTo>
                <a:lnTo>
                  <a:pt x="185" y="1284"/>
                </a:lnTo>
                <a:lnTo>
                  <a:pt x="265" y="9"/>
                </a:lnTo>
                <a:lnTo>
                  <a:pt x="375" y="0"/>
                </a:lnTo>
                <a:close/>
              </a:path>
            </a:pathLst>
          </a:custGeom>
          <a:solidFill>
            <a:srgbClr val="ff00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28600" y="3809880"/>
            <a:ext cx="2362680" cy="2399040"/>
            <a:chOff x="228600" y="3809880"/>
            <a:chExt cx="2362680" cy="2399040"/>
          </a:xfrm>
        </p:grpSpPr>
        <p:sp>
          <p:nvSpPr>
            <p:cNvPr id="389" name=""/>
            <p:cNvSpPr/>
            <p:nvPr/>
          </p:nvSpPr>
          <p:spPr>
            <a:xfrm>
              <a:off x="228600" y="3809880"/>
              <a:ext cx="2362680" cy="2399040"/>
            </a:xfrm>
            <a:custGeom>
              <a:avLst/>
              <a:gdLst/>
              <a:ahLst/>
              <a:rect l="0" t="0" r="r" b="b"/>
              <a:pathLst>
                <a:path w="6563" h="6664">
                  <a:moveTo>
                    <a:pt x="6563" y="5997"/>
                  </a:moveTo>
                  <a:lnTo>
                    <a:pt x="6563" y="1332"/>
                  </a:lnTo>
                  <a:lnTo>
                    <a:pt x="5907" y="666"/>
                  </a:lnTo>
                  <a:lnTo>
                    <a:pt x="5251" y="666"/>
                  </a:lnTo>
                  <a:lnTo>
                    <a:pt x="5907" y="0"/>
                  </a:lnTo>
                  <a:lnTo>
                    <a:pt x="4594" y="666"/>
                  </a:lnTo>
                  <a:lnTo>
                    <a:pt x="656" y="666"/>
                  </a:lnTo>
                  <a:lnTo>
                    <a:pt x="0" y="1332"/>
                  </a:lnTo>
                  <a:lnTo>
                    <a:pt x="0" y="5997"/>
                  </a:lnTo>
                  <a:lnTo>
                    <a:pt x="656" y="6664"/>
                  </a:lnTo>
                  <a:lnTo>
                    <a:pt x="5907" y="6664"/>
                  </a:lnTo>
                  <a:lnTo>
                    <a:pt x="6563" y="5997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385920" y="4530600"/>
              <a:ext cx="2125800" cy="155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HAHAHAHAHAHAHA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886040" y="1905120"/>
            <a:ext cx="3829320" cy="4405680"/>
            <a:chOff x="1886040" y="1905120"/>
            <a:chExt cx="3829320" cy="4405680"/>
          </a:xfrm>
        </p:grpSpPr>
        <p:sp>
          <p:nvSpPr>
            <p:cNvPr id="392" name=""/>
            <p:cNvSpPr/>
            <p:nvPr/>
          </p:nvSpPr>
          <p:spPr>
            <a:xfrm>
              <a:off x="3456000" y="3638520"/>
              <a:ext cx="810000" cy="1422720"/>
            </a:xfrm>
            <a:custGeom>
              <a:avLst/>
              <a:gdLst/>
              <a:ahLst/>
              <a:rect l="0" t="0" r="r" b="b"/>
              <a:pathLst>
                <a:path w="2250" h="3952">
                  <a:moveTo>
                    <a:pt x="1258" y="186"/>
                  </a:moveTo>
                  <a:lnTo>
                    <a:pt x="945" y="0"/>
                  </a:lnTo>
                  <a:lnTo>
                    <a:pt x="539" y="0"/>
                  </a:lnTo>
                  <a:lnTo>
                    <a:pt x="226" y="154"/>
                  </a:lnTo>
                  <a:lnTo>
                    <a:pt x="11" y="442"/>
                  </a:lnTo>
                  <a:lnTo>
                    <a:pt x="0" y="634"/>
                  </a:lnTo>
                  <a:lnTo>
                    <a:pt x="63" y="879"/>
                  </a:lnTo>
                  <a:lnTo>
                    <a:pt x="226" y="1061"/>
                  </a:lnTo>
                  <a:lnTo>
                    <a:pt x="486" y="1381"/>
                  </a:lnTo>
                  <a:lnTo>
                    <a:pt x="655" y="1770"/>
                  </a:lnTo>
                  <a:lnTo>
                    <a:pt x="754" y="2107"/>
                  </a:lnTo>
                  <a:lnTo>
                    <a:pt x="754" y="2517"/>
                  </a:lnTo>
                  <a:lnTo>
                    <a:pt x="621" y="2923"/>
                  </a:lnTo>
                  <a:lnTo>
                    <a:pt x="621" y="3317"/>
                  </a:lnTo>
                  <a:lnTo>
                    <a:pt x="702" y="3637"/>
                  </a:lnTo>
                  <a:lnTo>
                    <a:pt x="928" y="3866"/>
                  </a:lnTo>
                  <a:lnTo>
                    <a:pt x="1177" y="3952"/>
                  </a:lnTo>
                  <a:lnTo>
                    <a:pt x="1473" y="3909"/>
                  </a:lnTo>
                  <a:lnTo>
                    <a:pt x="1804" y="3834"/>
                  </a:lnTo>
                  <a:lnTo>
                    <a:pt x="2036" y="3621"/>
                  </a:lnTo>
                  <a:lnTo>
                    <a:pt x="2164" y="3120"/>
                  </a:lnTo>
                  <a:lnTo>
                    <a:pt x="2250" y="2683"/>
                  </a:lnTo>
                  <a:lnTo>
                    <a:pt x="2181" y="2075"/>
                  </a:lnTo>
                  <a:lnTo>
                    <a:pt x="2019" y="1562"/>
                  </a:lnTo>
                  <a:lnTo>
                    <a:pt x="1787" y="1034"/>
                  </a:lnTo>
                  <a:lnTo>
                    <a:pt x="1508" y="490"/>
                  </a:lnTo>
                  <a:lnTo>
                    <a:pt x="1258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625840" y="1905120"/>
              <a:ext cx="373320" cy="451080"/>
            </a:xfrm>
            <a:custGeom>
              <a:avLst/>
              <a:gdLst/>
              <a:ahLst/>
              <a:rect l="0" t="0" r="r" b="b"/>
              <a:pathLst>
                <a:path w="1037" h="1253">
                  <a:moveTo>
                    <a:pt x="1037" y="1226"/>
                  </a:moveTo>
                  <a:lnTo>
                    <a:pt x="885" y="752"/>
                  </a:lnTo>
                  <a:lnTo>
                    <a:pt x="477" y="271"/>
                  </a:lnTo>
                  <a:lnTo>
                    <a:pt x="110" y="0"/>
                  </a:lnTo>
                  <a:lnTo>
                    <a:pt x="0" y="101"/>
                  </a:lnTo>
                  <a:lnTo>
                    <a:pt x="395" y="378"/>
                  </a:lnTo>
                  <a:lnTo>
                    <a:pt x="542" y="543"/>
                  </a:lnTo>
                  <a:lnTo>
                    <a:pt x="757" y="864"/>
                  </a:lnTo>
                  <a:lnTo>
                    <a:pt x="874" y="1253"/>
                  </a:lnTo>
                  <a:lnTo>
                    <a:pt x="1037" y="1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86040" y="2427120"/>
              <a:ext cx="616320" cy="284400"/>
            </a:xfrm>
            <a:custGeom>
              <a:avLst/>
              <a:gdLst/>
              <a:ahLst/>
              <a:rect l="0" t="0" r="r" b="b"/>
              <a:pathLst>
                <a:path w="1712" h="790">
                  <a:moveTo>
                    <a:pt x="1712" y="689"/>
                  </a:moveTo>
                  <a:lnTo>
                    <a:pt x="1218" y="368"/>
                  </a:lnTo>
                  <a:lnTo>
                    <a:pt x="609" y="122"/>
                  </a:lnTo>
                  <a:lnTo>
                    <a:pt x="69" y="0"/>
                  </a:lnTo>
                  <a:lnTo>
                    <a:pt x="0" y="197"/>
                  </a:lnTo>
                  <a:lnTo>
                    <a:pt x="760" y="336"/>
                  </a:lnTo>
                  <a:lnTo>
                    <a:pt x="1388" y="641"/>
                  </a:lnTo>
                  <a:lnTo>
                    <a:pt x="1660" y="790"/>
                  </a:lnTo>
                  <a:lnTo>
                    <a:pt x="1712" y="6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63800" y="3220920"/>
              <a:ext cx="609840" cy="402120"/>
            </a:xfrm>
            <a:custGeom>
              <a:avLst/>
              <a:gdLst/>
              <a:ahLst/>
              <a:rect l="0" t="0" r="r" b="b"/>
              <a:pathLst>
                <a:path w="1694" h="1117">
                  <a:moveTo>
                    <a:pt x="1526" y="0"/>
                  </a:moveTo>
                  <a:lnTo>
                    <a:pt x="853" y="319"/>
                  </a:lnTo>
                  <a:lnTo>
                    <a:pt x="307" y="649"/>
                  </a:lnTo>
                  <a:lnTo>
                    <a:pt x="0" y="921"/>
                  </a:lnTo>
                  <a:lnTo>
                    <a:pt x="278" y="1117"/>
                  </a:lnTo>
                  <a:lnTo>
                    <a:pt x="620" y="649"/>
                  </a:lnTo>
                  <a:lnTo>
                    <a:pt x="1184" y="346"/>
                  </a:lnTo>
                  <a:lnTo>
                    <a:pt x="1694" y="74"/>
                  </a:lnTo>
                  <a:lnTo>
                    <a:pt x="15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27360" y="3784680"/>
              <a:ext cx="1020960" cy="1035360"/>
            </a:xfrm>
            <a:custGeom>
              <a:avLst/>
              <a:gdLst/>
              <a:ahLst/>
              <a:rect l="0" t="0" r="r" b="b"/>
              <a:pathLst>
                <a:path w="2836" h="2876">
                  <a:moveTo>
                    <a:pt x="2442" y="181"/>
                  </a:moveTo>
                  <a:lnTo>
                    <a:pt x="2273" y="58"/>
                  </a:lnTo>
                  <a:lnTo>
                    <a:pt x="1949" y="0"/>
                  </a:lnTo>
                  <a:lnTo>
                    <a:pt x="1549" y="213"/>
                  </a:lnTo>
                  <a:lnTo>
                    <a:pt x="956" y="453"/>
                  </a:lnTo>
                  <a:lnTo>
                    <a:pt x="498" y="874"/>
                  </a:lnTo>
                  <a:lnTo>
                    <a:pt x="133" y="1392"/>
                  </a:lnTo>
                  <a:lnTo>
                    <a:pt x="0" y="1697"/>
                  </a:lnTo>
                  <a:lnTo>
                    <a:pt x="34" y="1846"/>
                  </a:lnTo>
                  <a:lnTo>
                    <a:pt x="330" y="2028"/>
                  </a:lnTo>
                  <a:lnTo>
                    <a:pt x="1026" y="2118"/>
                  </a:lnTo>
                  <a:lnTo>
                    <a:pt x="1781" y="2086"/>
                  </a:lnTo>
                  <a:lnTo>
                    <a:pt x="2076" y="2209"/>
                  </a:lnTo>
                  <a:lnTo>
                    <a:pt x="2042" y="2417"/>
                  </a:lnTo>
                  <a:lnTo>
                    <a:pt x="1746" y="2721"/>
                  </a:lnTo>
                  <a:lnTo>
                    <a:pt x="1850" y="2785"/>
                  </a:lnTo>
                  <a:lnTo>
                    <a:pt x="2181" y="2481"/>
                  </a:lnTo>
                  <a:lnTo>
                    <a:pt x="2245" y="2513"/>
                  </a:lnTo>
                  <a:lnTo>
                    <a:pt x="2273" y="2876"/>
                  </a:lnTo>
                  <a:lnTo>
                    <a:pt x="2372" y="2876"/>
                  </a:lnTo>
                  <a:lnTo>
                    <a:pt x="2372" y="2454"/>
                  </a:lnTo>
                  <a:lnTo>
                    <a:pt x="2442" y="2417"/>
                  </a:lnTo>
                  <a:lnTo>
                    <a:pt x="2708" y="2662"/>
                  </a:lnTo>
                  <a:lnTo>
                    <a:pt x="2772" y="2572"/>
                  </a:lnTo>
                  <a:lnTo>
                    <a:pt x="2476" y="2332"/>
                  </a:lnTo>
                  <a:lnTo>
                    <a:pt x="2476" y="2241"/>
                  </a:lnTo>
                  <a:lnTo>
                    <a:pt x="2836" y="2086"/>
                  </a:lnTo>
                  <a:lnTo>
                    <a:pt x="2801" y="2028"/>
                  </a:lnTo>
                  <a:lnTo>
                    <a:pt x="2372" y="2086"/>
                  </a:lnTo>
                  <a:lnTo>
                    <a:pt x="2111" y="2028"/>
                  </a:lnTo>
                  <a:lnTo>
                    <a:pt x="1850" y="1937"/>
                  </a:lnTo>
                  <a:lnTo>
                    <a:pt x="1514" y="1910"/>
                  </a:lnTo>
                  <a:lnTo>
                    <a:pt x="1090" y="1878"/>
                  </a:lnTo>
                  <a:lnTo>
                    <a:pt x="661" y="1814"/>
                  </a:lnTo>
                  <a:lnTo>
                    <a:pt x="394" y="1665"/>
                  </a:lnTo>
                  <a:lnTo>
                    <a:pt x="394" y="1569"/>
                  </a:lnTo>
                  <a:lnTo>
                    <a:pt x="591" y="1301"/>
                  </a:lnTo>
                  <a:lnTo>
                    <a:pt x="956" y="1061"/>
                  </a:lnTo>
                  <a:lnTo>
                    <a:pt x="1351" y="874"/>
                  </a:lnTo>
                  <a:lnTo>
                    <a:pt x="1978" y="725"/>
                  </a:lnTo>
                  <a:lnTo>
                    <a:pt x="2337" y="544"/>
                  </a:lnTo>
                  <a:lnTo>
                    <a:pt x="2442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21000" y="2727360"/>
              <a:ext cx="1235520" cy="1070280"/>
            </a:xfrm>
            <a:custGeom>
              <a:avLst/>
              <a:gdLst/>
              <a:ahLst/>
              <a:rect l="0" t="0" r="r" b="b"/>
              <a:pathLst>
                <a:path w="3432" h="2973">
                  <a:moveTo>
                    <a:pt x="1374" y="2552"/>
                  </a:moveTo>
                  <a:lnTo>
                    <a:pt x="1739" y="2387"/>
                  </a:lnTo>
                  <a:lnTo>
                    <a:pt x="2394" y="2312"/>
                  </a:lnTo>
                  <a:lnTo>
                    <a:pt x="2772" y="2184"/>
                  </a:lnTo>
                  <a:lnTo>
                    <a:pt x="2957" y="1977"/>
                  </a:lnTo>
                  <a:lnTo>
                    <a:pt x="3021" y="1508"/>
                  </a:lnTo>
                  <a:lnTo>
                    <a:pt x="2969" y="1310"/>
                  </a:lnTo>
                  <a:lnTo>
                    <a:pt x="2627" y="1118"/>
                  </a:lnTo>
                  <a:lnTo>
                    <a:pt x="2203" y="964"/>
                  </a:lnTo>
                  <a:lnTo>
                    <a:pt x="1687" y="964"/>
                  </a:lnTo>
                  <a:lnTo>
                    <a:pt x="1148" y="1022"/>
                  </a:lnTo>
                  <a:lnTo>
                    <a:pt x="997" y="916"/>
                  </a:lnTo>
                  <a:lnTo>
                    <a:pt x="846" y="633"/>
                  </a:lnTo>
                  <a:lnTo>
                    <a:pt x="550" y="468"/>
                  </a:lnTo>
                  <a:lnTo>
                    <a:pt x="254" y="468"/>
                  </a:lnTo>
                  <a:lnTo>
                    <a:pt x="63" y="527"/>
                  </a:lnTo>
                  <a:lnTo>
                    <a:pt x="0" y="372"/>
                  </a:lnTo>
                  <a:lnTo>
                    <a:pt x="162" y="26"/>
                  </a:lnTo>
                  <a:lnTo>
                    <a:pt x="359" y="0"/>
                  </a:lnTo>
                  <a:lnTo>
                    <a:pt x="718" y="207"/>
                  </a:lnTo>
                  <a:lnTo>
                    <a:pt x="951" y="388"/>
                  </a:lnTo>
                  <a:lnTo>
                    <a:pt x="1160" y="692"/>
                  </a:lnTo>
                  <a:lnTo>
                    <a:pt x="1212" y="798"/>
                  </a:lnTo>
                  <a:lnTo>
                    <a:pt x="1623" y="719"/>
                  </a:lnTo>
                  <a:lnTo>
                    <a:pt x="2185" y="692"/>
                  </a:lnTo>
                  <a:lnTo>
                    <a:pt x="2662" y="782"/>
                  </a:lnTo>
                  <a:lnTo>
                    <a:pt x="3067" y="964"/>
                  </a:lnTo>
                  <a:lnTo>
                    <a:pt x="3363" y="1219"/>
                  </a:lnTo>
                  <a:lnTo>
                    <a:pt x="3432" y="1416"/>
                  </a:lnTo>
                  <a:lnTo>
                    <a:pt x="3334" y="1966"/>
                  </a:lnTo>
                  <a:lnTo>
                    <a:pt x="3102" y="2371"/>
                  </a:lnTo>
                  <a:lnTo>
                    <a:pt x="2475" y="2776"/>
                  </a:lnTo>
                  <a:lnTo>
                    <a:pt x="1785" y="2973"/>
                  </a:lnTo>
                  <a:lnTo>
                    <a:pt x="1426" y="2946"/>
                  </a:lnTo>
                  <a:lnTo>
                    <a:pt x="1310" y="2760"/>
                  </a:lnTo>
                  <a:lnTo>
                    <a:pt x="1374" y="25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59280" y="4853160"/>
              <a:ext cx="808560" cy="1337040"/>
            </a:xfrm>
            <a:custGeom>
              <a:avLst/>
              <a:gdLst/>
              <a:ahLst/>
              <a:rect l="0" t="0" r="r" b="b"/>
              <a:pathLst>
                <a:path w="2246" h="3714">
                  <a:moveTo>
                    <a:pt x="1253" y="452"/>
                  </a:moveTo>
                  <a:lnTo>
                    <a:pt x="795" y="90"/>
                  </a:lnTo>
                  <a:lnTo>
                    <a:pt x="330" y="0"/>
                  </a:lnTo>
                  <a:lnTo>
                    <a:pt x="0" y="239"/>
                  </a:lnTo>
                  <a:lnTo>
                    <a:pt x="266" y="574"/>
                  </a:lnTo>
                  <a:lnTo>
                    <a:pt x="662" y="723"/>
                  </a:lnTo>
                  <a:lnTo>
                    <a:pt x="1584" y="1208"/>
                  </a:lnTo>
                  <a:lnTo>
                    <a:pt x="1811" y="1357"/>
                  </a:lnTo>
                  <a:lnTo>
                    <a:pt x="1811" y="1511"/>
                  </a:lnTo>
                  <a:lnTo>
                    <a:pt x="1450" y="1841"/>
                  </a:lnTo>
                  <a:lnTo>
                    <a:pt x="824" y="2389"/>
                  </a:lnTo>
                  <a:lnTo>
                    <a:pt x="498" y="2810"/>
                  </a:lnTo>
                  <a:lnTo>
                    <a:pt x="498" y="2991"/>
                  </a:lnTo>
                  <a:lnTo>
                    <a:pt x="527" y="3081"/>
                  </a:lnTo>
                  <a:lnTo>
                    <a:pt x="824" y="3108"/>
                  </a:lnTo>
                  <a:lnTo>
                    <a:pt x="1323" y="3294"/>
                  </a:lnTo>
                  <a:lnTo>
                    <a:pt x="1653" y="3566"/>
                  </a:lnTo>
                  <a:lnTo>
                    <a:pt x="1881" y="3714"/>
                  </a:lnTo>
                  <a:lnTo>
                    <a:pt x="2014" y="3683"/>
                  </a:lnTo>
                  <a:lnTo>
                    <a:pt x="2211" y="3353"/>
                  </a:lnTo>
                  <a:lnTo>
                    <a:pt x="2043" y="3204"/>
                  </a:lnTo>
                  <a:lnTo>
                    <a:pt x="1514" y="3050"/>
                  </a:lnTo>
                  <a:lnTo>
                    <a:pt x="992" y="2933"/>
                  </a:lnTo>
                  <a:lnTo>
                    <a:pt x="760" y="2933"/>
                  </a:lnTo>
                  <a:lnTo>
                    <a:pt x="691" y="2874"/>
                  </a:lnTo>
                  <a:lnTo>
                    <a:pt x="824" y="2719"/>
                  </a:lnTo>
                  <a:lnTo>
                    <a:pt x="1189" y="2474"/>
                  </a:lnTo>
                  <a:lnTo>
                    <a:pt x="1682" y="2203"/>
                  </a:lnTo>
                  <a:lnTo>
                    <a:pt x="2113" y="1814"/>
                  </a:lnTo>
                  <a:lnTo>
                    <a:pt x="2246" y="1511"/>
                  </a:lnTo>
                  <a:lnTo>
                    <a:pt x="2182" y="1208"/>
                  </a:lnTo>
                  <a:lnTo>
                    <a:pt x="1852" y="877"/>
                  </a:lnTo>
                  <a:lnTo>
                    <a:pt x="1555" y="638"/>
                  </a:lnTo>
                  <a:lnTo>
                    <a:pt x="1253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81280" y="4854600"/>
              <a:ext cx="721080" cy="1456200"/>
            </a:xfrm>
            <a:custGeom>
              <a:avLst/>
              <a:gdLst/>
              <a:ahLst/>
              <a:rect l="0" t="0" r="r" b="b"/>
              <a:pathLst>
                <a:path w="2003" h="4045">
                  <a:moveTo>
                    <a:pt x="1407" y="814"/>
                  </a:moveTo>
                  <a:lnTo>
                    <a:pt x="1048" y="356"/>
                  </a:lnTo>
                  <a:lnTo>
                    <a:pt x="786" y="26"/>
                  </a:lnTo>
                  <a:lnTo>
                    <a:pt x="457" y="0"/>
                  </a:lnTo>
                  <a:lnTo>
                    <a:pt x="231" y="148"/>
                  </a:lnTo>
                  <a:lnTo>
                    <a:pt x="266" y="420"/>
                  </a:lnTo>
                  <a:lnTo>
                    <a:pt x="561" y="691"/>
                  </a:lnTo>
                  <a:lnTo>
                    <a:pt x="1378" y="1506"/>
                  </a:lnTo>
                  <a:lnTo>
                    <a:pt x="1574" y="1778"/>
                  </a:lnTo>
                  <a:lnTo>
                    <a:pt x="1574" y="1905"/>
                  </a:lnTo>
                  <a:lnTo>
                    <a:pt x="1343" y="2113"/>
                  </a:lnTo>
                  <a:lnTo>
                    <a:pt x="688" y="2352"/>
                  </a:lnTo>
                  <a:lnTo>
                    <a:pt x="196" y="2597"/>
                  </a:lnTo>
                  <a:lnTo>
                    <a:pt x="63" y="2778"/>
                  </a:lnTo>
                  <a:lnTo>
                    <a:pt x="0" y="2985"/>
                  </a:lnTo>
                  <a:lnTo>
                    <a:pt x="34" y="3444"/>
                  </a:lnTo>
                  <a:lnTo>
                    <a:pt x="127" y="3715"/>
                  </a:lnTo>
                  <a:lnTo>
                    <a:pt x="393" y="4045"/>
                  </a:lnTo>
                  <a:lnTo>
                    <a:pt x="624" y="4045"/>
                  </a:lnTo>
                  <a:lnTo>
                    <a:pt x="885" y="3891"/>
                  </a:lnTo>
                  <a:lnTo>
                    <a:pt x="885" y="3774"/>
                  </a:lnTo>
                  <a:lnTo>
                    <a:pt x="653" y="3657"/>
                  </a:lnTo>
                  <a:lnTo>
                    <a:pt x="393" y="3503"/>
                  </a:lnTo>
                  <a:lnTo>
                    <a:pt x="231" y="3316"/>
                  </a:lnTo>
                  <a:lnTo>
                    <a:pt x="196" y="2927"/>
                  </a:lnTo>
                  <a:lnTo>
                    <a:pt x="329" y="2778"/>
                  </a:lnTo>
                  <a:lnTo>
                    <a:pt x="590" y="2656"/>
                  </a:lnTo>
                  <a:lnTo>
                    <a:pt x="1083" y="2507"/>
                  </a:lnTo>
                  <a:lnTo>
                    <a:pt x="1800" y="2262"/>
                  </a:lnTo>
                  <a:lnTo>
                    <a:pt x="2003" y="2081"/>
                  </a:lnTo>
                  <a:lnTo>
                    <a:pt x="2003" y="1810"/>
                  </a:lnTo>
                  <a:lnTo>
                    <a:pt x="1800" y="1448"/>
                  </a:lnTo>
                  <a:lnTo>
                    <a:pt x="1609" y="1144"/>
                  </a:lnTo>
                  <a:lnTo>
                    <a:pt x="1407" y="8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70600" y="3516480"/>
              <a:ext cx="644760" cy="190800"/>
            </a:xfrm>
            <a:custGeom>
              <a:avLst/>
              <a:gdLst/>
              <a:ahLst/>
              <a:rect l="0" t="0" r="r" b="b"/>
              <a:pathLst>
                <a:path w="1791" h="530">
                  <a:moveTo>
                    <a:pt x="28" y="0"/>
                  </a:moveTo>
                  <a:lnTo>
                    <a:pt x="619" y="0"/>
                  </a:lnTo>
                  <a:lnTo>
                    <a:pt x="1281" y="137"/>
                  </a:lnTo>
                  <a:lnTo>
                    <a:pt x="1791" y="334"/>
                  </a:lnTo>
                  <a:lnTo>
                    <a:pt x="1727" y="530"/>
                  </a:lnTo>
                  <a:lnTo>
                    <a:pt x="1014" y="227"/>
                  </a:lnTo>
                  <a:lnTo>
                    <a:pt x="324" y="137"/>
                  </a:lnTo>
                  <a:lnTo>
                    <a:pt x="0" y="10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96000" y="3840120"/>
              <a:ext cx="608400" cy="403560"/>
            </a:xfrm>
            <a:custGeom>
              <a:avLst/>
              <a:gdLst/>
              <a:ahLst/>
              <a:rect l="0" t="0" r="r" b="b"/>
              <a:pathLst>
                <a:path w="1690" h="1121">
                  <a:moveTo>
                    <a:pt x="161" y="0"/>
                  </a:moveTo>
                  <a:lnTo>
                    <a:pt x="833" y="314"/>
                  </a:lnTo>
                  <a:lnTo>
                    <a:pt x="1378" y="646"/>
                  </a:lnTo>
                  <a:lnTo>
                    <a:pt x="1690" y="918"/>
                  </a:lnTo>
                  <a:lnTo>
                    <a:pt x="1407" y="1121"/>
                  </a:lnTo>
                  <a:lnTo>
                    <a:pt x="1065" y="646"/>
                  </a:lnTo>
                  <a:lnTo>
                    <a:pt x="504" y="346"/>
                  </a:lnTo>
                  <a:lnTo>
                    <a:pt x="0" y="69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655720" y="2448000"/>
              <a:ext cx="1032480" cy="1197360"/>
              <a:chOff x="2655720" y="2448000"/>
              <a:chExt cx="1032480" cy="1197360"/>
            </a:xfrm>
          </p:grpSpPr>
          <p:sp>
            <p:nvSpPr>
              <p:cNvPr id="403" name=""/>
              <p:cNvSpPr/>
              <p:nvPr/>
            </p:nvSpPr>
            <p:spPr>
              <a:xfrm>
                <a:off x="2789280" y="2448000"/>
                <a:ext cx="898920" cy="1197360"/>
              </a:xfrm>
              <a:custGeom>
                <a:avLst/>
                <a:gdLst/>
                <a:ahLst/>
                <a:rect l="0" t="0" r="r" b="b"/>
                <a:pathLst>
                  <a:path w="2497" h="3326">
                    <a:moveTo>
                      <a:pt x="1512" y="965"/>
                    </a:moveTo>
                    <a:lnTo>
                      <a:pt x="1199" y="708"/>
                    </a:lnTo>
                    <a:lnTo>
                      <a:pt x="794" y="618"/>
                    </a:lnTo>
                    <a:lnTo>
                      <a:pt x="422" y="698"/>
                    </a:lnTo>
                    <a:lnTo>
                      <a:pt x="127" y="917"/>
                    </a:lnTo>
                    <a:lnTo>
                      <a:pt x="0" y="1317"/>
                    </a:lnTo>
                    <a:lnTo>
                      <a:pt x="81" y="1892"/>
                    </a:lnTo>
                    <a:lnTo>
                      <a:pt x="422" y="2527"/>
                    </a:lnTo>
                    <a:lnTo>
                      <a:pt x="858" y="3028"/>
                    </a:lnTo>
                    <a:lnTo>
                      <a:pt x="1251" y="3252"/>
                    </a:lnTo>
                    <a:lnTo>
                      <a:pt x="1691" y="3326"/>
                    </a:lnTo>
                    <a:lnTo>
                      <a:pt x="2057" y="3284"/>
                    </a:lnTo>
                    <a:lnTo>
                      <a:pt x="2451" y="2996"/>
                    </a:lnTo>
                    <a:lnTo>
                      <a:pt x="2497" y="2692"/>
                    </a:lnTo>
                    <a:lnTo>
                      <a:pt x="2434" y="2206"/>
                    </a:lnTo>
                    <a:lnTo>
                      <a:pt x="2185" y="2361"/>
                    </a:lnTo>
                    <a:lnTo>
                      <a:pt x="1761" y="2452"/>
                    </a:lnTo>
                    <a:lnTo>
                      <a:pt x="1060" y="2249"/>
                    </a:lnTo>
                    <a:lnTo>
                      <a:pt x="1529" y="2057"/>
                    </a:lnTo>
                    <a:lnTo>
                      <a:pt x="1773" y="1913"/>
                    </a:lnTo>
                    <a:lnTo>
                      <a:pt x="2167" y="1620"/>
                    </a:lnTo>
                    <a:lnTo>
                      <a:pt x="1807" y="1119"/>
                    </a:lnTo>
                    <a:lnTo>
                      <a:pt x="2138" y="223"/>
                    </a:lnTo>
                    <a:lnTo>
                      <a:pt x="2092" y="69"/>
                    </a:lnTo>
                    <a:lnTo>
                      <a:pt x="1907" y="0"/>
                    </a:lnTo>
                    <a:lnTo>
                      <a:pt x="1807" y="101"/>
                    </a:lnTo>
                    <a:lnTo>
                      <a:pt x="1512" y="965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655720" y="2462040"/>
                <a:ext cx="659160" cy="914760"/>
              </a:xfrm>
              <a:custGeom>
                <a:avLst/>
                <a:gdLst/>
                <a:ahLst/>
                <a:rect l="0" t="0" r="r" b="b"/>
                <a:pathLst>
                  <a:path w="1831" h="2541">
                    <a:moveTo>
                      <a:pt x="418" y="1390"/>
                    </a:moveTo>
                    <a:lnTo>
                      <a:pt x="906" y="766"/>
                    </a:lnTo>
                    <a:lnTo>
                      <a:pt x="1482" y="271"/>
                    </a:lnTo>
                    <a:lnTo>
                      <a:pt x="1831" y="0"/>
                    </a:lnTo>
                    <a:lnTo>
                      <a:pt x="1308" y="15"/>
                    </a:lnTo>
                    <a:lnTo>
                      <a:pt x="610" y="287"/>
                    </a:lnTo>
                    <a:lnTo>
                      <a:pt x="261" y="638"/>
                    </a:lnTo>
                    <a:lnTo>
                      <a:pt x="104" y="1118"/>
                    </a:lnTo>
                    <a:lnTo>
                      <a:pt x="244" y="1390"/>
                    </a:lnTo>
                    <a:lnTo>
                      <a:pt x="0" y="1582"/>
                    </a:lnTo>
                    <a:lnTo>
                      <a:pt x="87" y="2013"/>
                    </a:lnTo>
                    <a:lnTo>
                      <a:pt x="366" y="2317"/>
                    </a:lnTo>
                    <a:lnTo>
                      <a:pt x="836" y="2541"/>
                    </a:lnTo>
                    <a:lnTo>
                      <a:pt x="714" y="2349"/>
                    </a:lnTo>
                    <a:lnTo>
                      <a:pt x="836" y="2269"/>
                    </a:lnTo>
                    <a:lnTo>
                      <a:pt x="1046" y="2269"/>
                    </a:lnTo>
                    <a:lnTo>
                      <a:pt x="766" y="2061"/>
                    </a:lnTo>
                    <a:lnTo>
                      <a:pt x="819" y="1678"/>
                    </a:lnTo>
                    <a:lnTo>
                      <a:pt x="418" y="1390"/>
                    </a:lnTo>
                    <a:close/>
                  </a:path>
                </a:pathLst>
              </a:custGeom>
              <a:solidFill>
                <a:srgbClr val="cc990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063960" y="2819520"/>
                <a:ext cx="225720" cy="184680"/>
              </a:xfrm>
              <a:custGeom>
                <a:avLst/>
                <a:gdLst/>
                <a:ahLst/>
                <a:rect l="0" t="0" r="r" b="b"/>
                <a:pathLst>
                  <a:path fill="none" w="627" h="513">
                    <a:moveTo>
                      <a:pt x="627" y="240"/>
                    </a:moveTo>
                    <a:lnTo>
                      <a:pt x="435" y="95"/>
                    </a:lnTo>
                    <a:lnTo>
                      <a:pt x="243" y="15"/>
                    </a:lnTo>
                    <a:lnTo>
                      <a:pt x="69" y="0"/>
                    </a:lnTo>
                    <a:lnTo>
                      <a:pt x="0" y="63"/>
                    </a:lnTo>
                    <a:lnTo>
                      <a:pt x="0" y="160"/>
                    </a:lnTo>
                    <a:lnTo>
                      <a:pt x="52" y="320"/>
                    </a:lnTo>
                    <a:lnTo>
                      <a:pt x="226" y="449"/>
                    </a:lnTo>
                    <a:lnTo>
                      <a:pt x="348" y="513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6" name=""/>
          <p:cNvGrpSpPr/>
          <p:nvPr/>
        </p:nvGrpSpPr>
        <p:grpSpPr>
          <a:xfrm>
            <a:off x="6248520" y="1905120"/>
            <a:ext cx="1495800" cy="4257720"/>
            <a:chOff x="6248520" y="1905120"/>
            <a:chExt cx="1495800" cy="4257720"/>
          </a:xfrm>
        </p:grpSpPr>
        <p:grpSp>
          <p:nvGrpSpPr>
            <p:cNvPr id="407" name=""/>
            <p:cNvGrpSpPr/>
            <p:nvPr/>
          </p:nvGrpSpPr>
          <p:grpSpPr>
            <a:xfrm>
              <a:off x="6248520" y="4554360"/>
              <a:ext cx="1495800" cy="1608480"/>
              <a:chOff x="6248520" y="4554360"/>
              <a:chExt cx="1495800" cy="1608480"/>
            </a:xfrm>
          </p:grpSpPr>
          <p:sp>
            <p:nvSpPr>
              <p:cNvPr id="408" name=""/>
              <p:cNvSpPr/>
              <p:nvPr/>
            </p:nvSpPr>
            <p:spPr>
              <a:xfrm>
                <a:off x="6626160" y="4554360"/>
                <a:ext cx="646560" cy="1483200"/>
              </a:xfrm>
              <a:custGeom>
                <a:avLst/>
                <a:gdLst/>
                <a:ahLst/>
                <a:rect l="0" t="0" r="r" b="b"/>
                <a:pathLst>
                  <a:path w="1796" h="4120">
                    <a:moveTo>
                      <a:pt x="0" y="0"/>
                    </a:moveTo>
                    <a:lnTo>
                      <a:pt x="312" y="4120"/>
                    </a:lnTo>
                    <a:lnTo>
                      <a:pt x="1015" y="4120"/>
                    </a:lnTo>
                    <a:lnTo>
                      <a:pt x="911" y="1116"/>
                    </a:lnTo>
                    <a:lnTo>
                      <a:pt x="1015" y="4120"/>
                    </a:lnTo>
                    <a:lnTo>
                      <a:pt x="1796" y="4120"/>
                    </a:lnTo>
                    <a:lnTo>
                      <a:pt x="1718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48520" y="5983200"/>
                <a:ext cx="743400" cy="179640"/>
              </a:xfrm>
              <a:custGeom>
                <a:avLst/>
                <a:gdLst/>
                <a:ahLst/>
                <a:rect l="0" t="0" r="r" b="b"/>
                <a:pathLst>
                  <a:path w="2065" h="499">
                    <a:moveTo>
                      <a:pt x="1359" y="158"/>
                    </a:moveTo>
                    <a:lnTo>
                      <a:pt x="967" y="45"/>
                    </a:lnTo>
                    <a:lnTo>
                      <a:pt x="706" y="0"/>
                    </a:lnTo>
                    <a:lnTo>
                      <a:pt x="417" y="90"/>
                    </a:lnTo>
                    <a:lnTo>
                      <a:pt x="130" y="226"/>
                    </a:lnTo>
                    <a:lnTo>
                      <a:pt x="0" y="408"/>
                    </a:lnTo>
                    <a:lnTo>
                      <a:pt x="182" y="499"/>
                    </a:lnTo>
                    <a:lnTo>
                      <a:pt x="2065" y="499"/>
                    </a:lnTo>
                    <a:lnTo>
                      <a:pt x="2065" y="158"/>
                    </a:lnTo>
                    <a:lnTo>
                      <a:pt x="1359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000920" y="5983200"/>
                <a:ext cx="743400" cy="179640"/>
              </a:xfrm>
              <a:custGeom>
                <a:avLst/>
                <a:gdLst/>
                <a:ahLst/>
                <a:rect l="0" t="0" r="r" b="b"/>
                <a:pathLst>
                  <a:path w="2065" h="499">
                    <a:moveTo>
                      <a:pt x="706" y="158"/>
                    </a:moveTo>
                    <a:lnTo>
                      <a:pt x="1098" y="45"/>
                    </a:lnTo>
                    <a:lnTo>
                      <a:pt x="1359" y="0"/>
                    </a:lnTo>
                    <a:lnTo>
                      <a:pt x="1647" y="90"/>
                    </a:lnTo>
                    <a:lnTo>
                      <a:pt x="1935" y="226"/>
                    </a:lnTo>
                    <a:lnTo>
                      <a:pt x="2065" y="408"/>
                    </a:lnTo>
                    <a:lnTo>
                      <a:pt x="1882" y="499"/>
                    </a:lnTo>
                    <a:lnTo>
                      <a:pt x="0" y="499"/>
                    </a:lnTo>
                    <a:lnTo>
                      <a:pt x="0" y="158"/>
                    </a:lnTo>
                    <a:lnTo>
                      <a:pt x="706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291360" y="3479760"/>
              <a:ext cx="503640" cy="1243080"/>
              <a:chOff x="6291360" y="3479760"/>
              <a:chExt cx="503640" cy="1243080"/>
            </a:xfrm>
          </p:grpSpPr>
          <p:sp>
            <p:nvSpPr>
              <p:cNvPr id="412" name=""/>
              <p:cNvSpPr/>
              <p:nvPr/>
            </p:nvSpPr>
            <p:spPr>
              <a:xfrm>
                <a:off x="6315120" y="3479760"/>
                <a:ext cx="479880" cy="1026000"/>
              </a:xfrm>
              <a:custGeom>
                <a:avLst/>
                <a:gdLst/>
                <a:ahLst/>
                <a:rect l="0" t="0" r="r" b="b"/>
                <a:pathLst>
                  <a:path w="1333" h="2850">
                    <a:moveTo>
                      <a:pt x="1098" y="0"/>
                    </a:moveTo>
                    <a:lnTo>
                      <a:pt x="1255" y="91"/>
                    </a:lnTo>
                    <a:lnTo>
                      <a:pt x="1333" y="364"/>
                    </a:lnTo>
                    <a:lnTo>
                      <a:pt x="1124" y="1140"/>
                    </a:lnTo>
                    <a:lnTo>
                      <a:pt x="810" y="2850"/>
                    </a:lnTo>
                    <a:lnTo>
                      <a:pt x="0" y="2713"/>
                    </a:lnTo>
                    <a:lnTo>
                      <a:pt x="366" y="1254"/>
                    </a:lnTo>
                    <a:lnTo>
                      <a:pt x="784" y="205"/>
                    </a:lnTo>
                    <a:lnTo>
                      <a:pt x="1098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291360" y="4476600"/>
                <a:ext cx="29988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6404040" y="1905120"/>
              <a:ext cx="1068480" cy="2821320"/>
              <a:chOff x="6404040" y="1905120"/>
              <a:chExt cx="1068480" cy="2821320"/>
            </a:xfrm>
          </p:grpSpPr>
          <p:sp>
            <p:nvSpPr>
              <p:cNvPr id="415" name=""/>
              <p:cNvSpPr/>
              <p:nvPr/>
            </p:nvSpPr>
            <p:spPr>
              <a:xfrm>
                <a:off x="6502320" y="3346560"/>
                <a:ext cx="970200" cy="1379880"/>
              </a:xfrm>
              <a:custGeom>
                <a:avLst/>
                <a:gdLst/>
                <a:ahLst/>
                <a:rect l="0" t="0" r="r" b="b"/>
                <a:pathLst>
                  <a:path w="2695" h="3833">
                    <a:moveTo>
                      <a:pt x="943" y="323"/>
                    </a:moveTo>
                    <a:lnTo>
                      <a:pt x="856" y="338"/>
                    </a:lnTo>
                    <a:lnTo>
                      <a:pt x="790" y="376"/>
                    </a:lnTo>
                    <a:lnTo>
                      <a:pt x="664" y="501"/>
                    </a:lnTo>
                    <a:lnTo>
                      <a:pt x="534" y="623"/>
                    </a:lnTo>
                    <a:lnTo>
                      <a:pt x="386" y="733"/>
                    </a:lnTo>
                    <a:lnTo>
                      <a:pt x="365" y="767"/>
                    </a:lnTo>
                    <a:lnTo>
                      <a:pt x="343" y="802"/>
                    </a:lnTo>
                    <a:lnTo>
                      <a:pt x="343" y="802"/>
                    </a:lnTo>
                    <a:lnTo>
                      <a:pt x="365" y="802"/>
                    </a:lnTo>
                    <a:lnTo>
                      <a:pt x="152" y="1338"/>
                    </a:lnTo>
                    <a:lnTo>
                      <a:pt x="0" y="3745"/>
                    </a:lnTo>
                    <a:lnTo>
                      <a:pt x="2695" y="3833"/>
                    </a:lnTo>
                    <a:lnTo>
                      <a:pt x="2291" y="1589"/>
                    </a:lnTo>
                    <a:lnTo>
                      <a:pt x="2095" y="357"/>
                    </a:lnTo>
                    <a:lnTo>
                      <a:pt x="1369" y="0"/>
                    </a:lnTo>
                    <a:lnTo>
                      <a:pt x="943" y="323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794640" y="3355920"/>
                <a:ext cx="300240" cy="155880"/>
              </a:xfrm>
              <a:custGeom>
                <a:avLst/>
                <a:gdLst/>
                <a:ahLst/>
                <a:rect l="0" t="0" r="r" b="b"/>
                <a:pathLst>
                  <a:path w="834" h="433">
                    <a:moveTo>
                      <a:pt x="0" y="296"/>
                    </a:moveTo>
                    <a:lnTo>
                      <a:pt x="234" y="410"/>
                    </a:lnTo>
                    <a:lnTo>
                      <a:pt x="652" y="433"/>
                    </a:lnTo>
                    <a:lnTo>
                      <a:pt x="834" y="228"/>
                    </a:lnTo>
                    <a:lnTo>
                      <a:pt x="834" y="68"/>
                    </a:lnTo>
                    <a:lnTo>
                      <a:pt x="652" y="0"/>
                    </a:lnTo>
                    <a:lnTo>
                      <a:pt x="469" y="228"/>
                    </a:lnTo>
                    <a:lnTo>
                      <a:pt x="182" y="251"/>
                    </a:lnTo>
                    <a:lnTo>
                      <a:pt x="0" y="296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6404040" y="1905120"/>
                <a:ext cx="992520" cy="1567440"/>
                <a:chOff x="6404040" y="1905120"/>
                <a:chExt cx="992520" cy="15674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6512040" y="2109960"/>
                  <a:ext cx="884520" cy="1362600"/>
                </a:xfrm>
                <a:custGeom>
                  <a:avLst/>
                  <a:gdLst/>
                  <a:ahLst/>
                  <a:rect l="0" t="0" r="r" b="b"/>
                  <a:pathLst>
                    <a:path w="2457" h="3785">
                      <a:moveTo>
                        <a:pt x="574" y="0"/>
                      </a:moveTo>
                      <a:lnTo>
                        <a:pt x="261" y="227"/>
                      </a:lnTo>
                      <a:lnTo>
                        <a:pt x="78" y="592"/>
                      </a:lnTo>
                      <a:lnTo>
                        <a:pt x="26" y="1049"/>
                      </a:lnTo>
                      <a:lnTo>
                        <a:pt x="0" y="2325"/>
                      </a:lnTo>
                      <a:lnTo>
                        <a:pt x="52" y="3056"/>
                      </a:lnTo>
                      <a:lnTo>
                        <a:pt x="810" y="3101"/>
                      </a:lnTo>
                      <a:lnTo>
                        <a:pt x="914" y="3512"/>
                      </a:lnTo>
                      <a:lnTo>
                        <a:pt x="1019" y="3785"/>
                      </a:lnTo>
                      <a:lnTo>
                        <a:pt x="1255" y="3785"/>
                      </a:lnTo>
                      <a:lnTo>
                        <a:pt x="1385" y="3534"/>
                      </a:lnTo>
                      <a:lnTo>
                        <a:pt x="1307" y="3101"/>
                      </a:lnTo>
                      <a:lnTo>
                        <a:pt x="2013" y="3033"/>
                      </a:lnTo>
                      <a:lnTo>
                        <a:pt x="2039" y="2599"/>
                      </a:lnTo>
                      <a:lnTo>
                        <a:pt x="2195" y="2667"/>
                      </a:lnTo>
                      <a:lnTo>
                        <a:pt x="2352" y="2622"/>
                      </a:lnTo>
                      <a:lnTo>
                        <a:pt x="2457" y="2257"/>
                      </a:lnTo>
                      <a:lnTo>
                        <a:pt x="2326" y="2075"/>
                      </a:lnTo>
                      <a:lnTo>
                        <a:pt x="2169" y="2097"/>
                      </a:lnTo>
                      <a:lnTo>
                        <a:pt x="2326" y="159"/>
                      </a:lnTo>
                      <a:lnTo>
                        <a:pt x="5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404040" y="2489040"/>
                  <a:ext cx="404640" cy="3538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751800" y="2457360"/>
                  <a:ext cx="479520" cy="420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740640" y="1932120"/>
                  <a:ext cx="612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6851520" y="1914480"/>
                  <a:ext cx="1584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7012080" y="1905120"/>
                  <a:ext cx="36360" cy="196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7172280" y="1946160"/>
                  <a:ext cx="54000" cy="173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7311960" y="1971720"/>
                  <a:ext cx="54000" cy="15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540480" y="3009960"/>
                  <a:ext cx="507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438960" y="2679840"/>
                  <a:ext cx="774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8" name=""/>
            <p:cNvGrpSpPr/>
            <p:nvPr/>
          </p:nvGrpSpPr>
          <p:grpSpPr>
            <a:xfrm>
              <a:off x="7169040" y="3494160"/>
              <a:ext cx="503280" cy="1246320"/>
              <a:chOff x="7169040" y="3494160"/>
              <a:chExt cx="503280" cy="1246320"/>
            </a:xfrm>
          </p:grpSpPr>
          <p:sp>
            <p:nvSpPr>
              <p:cNvPr id="429" name=""/>
              <p:cNvSpPr/>
              <p:nvPr/>
            </p:nvSpPr>
            <p:spPr>
              <a:xfrm>
                <a:off x="7169040" y="3494160"/>
                <a:ext cx="481320" cy="1026000"/>
              </a:xfrm>
              <a:custGeom>
                <a:avLst/>
                <a:gdLst/>
                <a:ahLst/>
                <a:rect l="0" t="0" r="r" b="b"/>
                <a:pathLst>
                  <a:path w="1337" h="2850">
                    <a:moveTo>
                      <a:pt x="235" y="0"/>
                    </a:moveTo>
                    <a:lnTo>
                      <a:pt x="78" y="91"/>
                    </a:lnTo>
                    <a:lnTo>
                      <a:pt x="0" y="364"/>
                    </a:lnTo>
                    <a:lnTo>
                      <a:pt x="209" y="1140"/>
                    </a:lnTo>
                    <a:lnTo>
                      <a:pt x="523" y="2850"/>
                    </a:lnTo>
                    <a:lnTo>
                      <a:pt x="1337" y="2713"/>
                    </a:lnTo>
                    <a:lnTo>
                      <a:pt x="970" y="1254"/>
                    </a:lnTo>
                    <a:lnTo>
                      <a:pt x="550" y="205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73880" y="4494240"/>
                <a:ext cx="29844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"/>
          <p:cNvSpPr/>
          <p:nvPr/>
        </p:nvSpPr>
        <p:spPr>
          <a:xfrm>
            <a:off x="7620120" y="3124080"/>
            <a:ext cx="1219680" cy="762480"/>
          </a:xfrm>
          <a:custGeom>
            <a:avLst/>
            <a:gdLst/>
            <a:ahLst/>
            <a:rect l="0" t="0" r="r" b="b"/>
            <a:pathLst>
              <a:path w="3388" h="2118">
                <a:moveTo>
                  <a:pt x="0" y="1907"/>
                </a:moveTo>
                <a:lnTo>
                  <a:pt x="0" y="423"/>
                </a:lnTo>
                <a:lnTo>
                  <a:pt x="338" y="211"/>
                </a:lnTo>
                <a:lnTo>
                  <a:pt x="677" y="211"/>
                </a:lnTo>
                <a:lnTo>
                  <a:pt x="338" y="0"/>
                </a:lnTo>
                <a:lnTo>
                  <a:pt x="1016" y="211"/>
                </a:lnTo>
                <a:lnTo>
                  <a:pt x="3050" y="211"/>
                </a:lnTo>
                <a:lnTo>
                  <a:pt x="3388" y="423"/>
                </a:lnTo>
                <a:lnTo>
                  <a:pt x="3388" y="1907"/>
                </a:lnTo>
                <a:lnTo>
                  <a:pt x="3050" y="2118"/>
                </a:lnTo>
                <a:lnTo>
                  <a:pt x="338" y="2118"/>
                </a:lnTo>
                <a:lnTo>
                  <a:pt x="0" y="1907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772400" y="3352680"/>
            <a:ext cx="106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H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7939080" y="4800600"/>
            <a:ext cx="665280" cy="7984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959200" y="5079960"/>
            <a:ext cx="4775400" cy="762480"/>
          </a:xfrm>
          <a:custGeom>
            <a:avLst/>
            <a:gdLst/>
            <a:ahLst/>
            <a:rect l="0" t="0" r="r" b="b"/>
            <a:pathLst>
              <a:path fill="none" w="13265" h="2118">
                <a:moveTo>
                  <a:pt x="0" y="0"/>
                </a:moveTo>
                <a:lnTo>
                  <a:pt x="2046" y="847"/>
                </a:lnTo>
                <a:lnTo>
                  <a:pt x="4938" y="1730"/>
                </a:lnTo>
                <a:lnTo>
                  <a:pt x="7585" y="2118"/>
                </a:lnTo>
                <a:lnTo>
                  <a:pt x="9878" y="2048"/>
                </a:lnTo>
                <a:lnTo>
                  <a:pt x="11748" y="1730"/>
                </a:lnTo>
                <a:lnTo>
                  <a:pt x="13265" y="1376"/>
                </a:lnTo>
                <a:lnTo>
                  <a:pt x="13159" y="134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328680" y="2263680"/>
            <a:ext cx="940320" cy="491040"/>
            <a:chOff x="328680" y="2263680"/>
            <a:chExt cx="940320" cy="491040"/>
          </a:xfrm>
        </p:grpSpPr>
        <p:sp>
          <p:nvSpPr>
            <p:cNvPr id="436" name=""/>
            <p:cNvSpPr/>
            <p:nvPr/>
          </p:nvSpPr>
          <p:spPr>
            <a:xfrm>
              <a:off x="328680" y="2263680"/>
              <a:ext cx="940320" cy="491040"/>
            </a:xfrm>
            <a:custGeom>
              <a:avLst/>
              <a:gdLst/>
              <a:ahLst/>
              <a:rect l="0" t="0" r="r" b="b"/>
              <a:pathLst>
                <a:path w="2612" h="1364">
                  <a:moveTo>
                    <a:pt x="61" y="957"/>
                  </a:moveTo>
                  <a:lnTo>
                    <a:pt x="268" y="688"/>
                  </a:lnTo>
                  <a:lnTo>
                    <a:pt x="436" y="521"/>
                  </a:lnTo>
                  <a:lnTo>
                    <a:pt x="560" y="437"/>
                  </a:lnTo>
                  <a:lnTo>
                    <a:pt x="599" y="411"/>
                  </a:lnTo>
                  <a:lnTo>
                    <a:pt x="551" y="367"/>
                  </a:lnTo>
                  <a:lnTo>
                    <a:pt x="648" y="299"/>
                  </a:lnTo>
                  <a:lnTo>
                    <a:pt x="737" y="242"/>
                  </a:lnTo>
                  <a:lnTo>
                    <a:pt x="812" y="211"/>
                  </a:lnTo>
                  <a:lnTo>
                    <a:pt x="887" y="189"/>
                  </a:lnTo>
                  <a:lnTo>
                    <a:pt x="953" y="171"/>
                  </a:lnTo>
                  <a:lnTo>
                    <a:pt x="1006" y="163"/>
                  </a:lnTo>
                  <a:lnTo>
                    <a:pt x="1032" y="158"/>
                  </a:lnTo>
                  <a:lnTo>
                    <a:pt x="1046" y="158"/>
                  </a:lnTo>
                  <a:lnTo>
                    <a:pt x="979" y="97"/>
                  </a:lnTo>
                  <a:lnTo>
                    <a:pt x="1090" y="35"/>
                  </a:lnTo>
                  <a:lnTo>
                    <a:pt x="1200" y="8"/>
                  </a:lnTo>
                  <a:lnTo>
                    <a:pt x="1315" y="0"/>
                  </a:lnTo>
                  <a:lnTo>
                    <a:pt x="1420" y="13"/>
                  </a:lnTo>
                  <a:lnTo>
                    <a:pt x="1513" y="35"/>
                  </a:lnTo>
                  <a:lnTo>
                    <a:pt x="1584" y="57"/>
                  </a:lnTo>
                  <a:lnTo>
                    <a:pt x="1632" y="79"/>
                  </a:lnTo>
                  <a:lnTo>
                    <a:pt x="1645" y="83"/>
                  </a:lnTo>
                  <a:lnTo>
                    <a:pt x="1623" y="30"/>
                  </a:lnTo>
                  <a:lnTo>
                    <a:pt x="1685" y="35"/>
                  </a:lnTo>
                  <a:lnTo>
                    <a:pt x="1738" y="52"/>
                  </a:lnTo>
                  <a:lnTo>
                    <a:pt x="1791" y="83"/>
                  </a:lnTo>
                  <a:lnTo>
                    <a:pt x="1835" y="105"/>
                  </a:lnTo>
                  <a:lnTo>
                    <a:pt x="1883" y="141"/>
                  </a:lnTo>
                  <a:lnTo>
                    <a:pt x="1919" y="180"/>
                  </a:lnTo>
                  <a:lnTo>
                    <a:pt x="1950" y="220"/>
                  </a:lnTo>
                  <a:lnTo>
                    <a:pt x="1981" y="264"/>
                  </a:lnTo>
                  <a:lnTo>
                    <a:pt x="2008" y="308"/>
                  </a:lnTo>
                  <a:lnTo>
                    <a:pt x="2030" y="353"/>
                  </a:lnTo>
                  <a:lnTo>
                    <a:pt x="2048" y="397"/>
                  </a:lnTo>
                  <a:lnTo>
                    <a:pt x="2061" y="428"/>
                  </a:lnTo>
                  <a:lnTo>
                    <a:pt x="2065" y="468"/>
                  </a:lnTo>
                  <a:lnTo>
                    <a:pt x="2074" y="494"/>
                  </a:lnTo>
                  <a:lnTo>
                    <a:pt x="2083" y="521"/>
                  </a:lnTo>
                  <a:lnTo>
                    <a:pt x="2078" y="538"/>
                  </a:lnTo>
                  <a:lnTo>
                    <a:pt x="2096" y="538"/>
                  </a:lnTo>
                  <a:lnTo>
                    <a:pt x="2145" y="534"/>
                  </a:lnTo>
                  <a:lnTo>
                    <a:pt x="2211" y="538"/>
                  </a:lnTo>
                  <a:lnTo>
                    <a:pt x="2290" y="561"/>
                  </a:lnTo>
                  <a:lnTo>
                    <a:pt x="2378" y="596"/>
                  </a:lnTo>
                  <a:lnTo>
                    <a:pt x="2467" y="653"/>
                  </a:lnTo>
                  <a:lnTo>
                    <a:pt x="2546" y="737"/>
                  </a:lnTo>
                  <a:lnTo>
                    <a:pt x="2612" y="856"/>
                  </a:lnTo>
                  <a:lnTo>
                    <a:pt x="2608" y="856"/>
                  </a:lnTo>
                  <a:lnTo>
                    <a:pt x="2594" y="865"/>
                  </a:lnTo>
                  <a:lnTo>
                    <a:pt x="2586" y="878"/>
                  </a:lnTo>
                  <a:lnTo>
                    <a:pt x="2572" y="896"/>
                  </a:lnTo>
                  <a:lnTo>
                    <a:pt x="2568" y="878"/>
                  </a:lnTo>
                  <a:lnTo>
                    <a:pt x="2555" y="838"/>
                  </a:lnTo>
                  <a:lnTo>
                    <a:pt x="2515" y="777"/>
                  </a:lnTo>
                  <a:lnTo>
                    <a:pt x="2467" y="715"/>
                  </a:lnTo>
                  <a:lnTo>
                    <a:pt x="2396" y="653"/>
                  </a:lnTo>
                  <a:lnTo>
                    <a:pt x="2321" y="605"/>
                  </a:lnTo>
                  <a:lnTo>
                    <a:pt x="2220" y="574"/>
                  </a:lnTo>
                  <a:lnTo>
                    <a:pt x="2101" y="578"/>
                  </a:lnTo>
                  <a:lnTo>
                    <a:pt x="2105" y="596"/>
                  </a:lnTo>
                  <a:lnTo>
                    <a:pt x="2118" y="644"/>
                  </a:lnTo>
                  <a:lnTo>
                    <a:pt x="2127" y="719"/>
                  </a:lnTo>
                  <a:lnTo>
                    <a:pt x="2123" y="807"/>
                  </a:lnTo>
                  <a:lnTo>
                    <a:pt x="2118" y="900"/>
                  </a:lnTo>
                  <a:lnTo>
                    <a:pt x="2092" y="988"/>
                  </a:lnTo>
                  <a:lnTo>
                    <a:pt x="2052" y="1069"/>
                  </a:lnTo>
                  <a:lnTo>
                    <a:pt x="1981" y="1130"/>
                  </a:lnTo>
                  <a:lnTo>
                    <a:pt x="1986" y="1051"/>
                  </a:lnTo>
                  <a:lnTo>
                    <a:pt x="1977" y="1064"/>
                  </a:lnTo>
                  <a:lnTo>
                    <a:pt x="1945" y="1104"/>
                  </a:lnTo>
                  <a:lnTo>
                    <a:pt x="1901" y="1157"/>
                  </a:lnTo>
                  <a:lnTo>
                    <a:pt x="1831" y="1214"/>
                  </a:lnTo>
                  <a:lnTo>
                    <a:pt x="1742" y="1272"/>
                  </a:lnTo>
                  <a:lnTo>
                    <a:pt x="1632" y="1320"/>
                  </a:lnTo>
                  <a:lnTo>
                    <a:pt x="1495" y="1351"/>
                  </a:lnTo>
                  <a:lnTo>
                    <a:pt x="1337" y="1351"/>
                  </a:lnTo>
                  <a:lnTo>
                    <a:pt x="1363" y="1276"/>
                  </a:lnTo>
                  <a:lnTo>
                    <a:pt x="1354" y="1280"/>
                  </a:lnTo>
                  <a:lnTo>
                    <a:pt x="1315" y="1298"/>
                  </a:lnTo>
                  <a:lnTo>
                    <a:pt x="1257" y="1316"/>
                  </a:lnTo>
                  <a:lnTo>
                    <a:pt x="1187" y="1338"/>
                  </a:lnTo>
                  <a:lnTo>
                    <a:pt x="1107" y="1355"/>
                  </a:lnTo>
                  <a:lnTo>
                    <a:pt x="1019" y="1364"/>
                  </a:lnTo>
                  <a:lnTo>
                    <a:pt x="927" y="1364"/>
                  </a:lnTo>
                  <a:lnTo>
                    <a:pt x="838" y="1355"/>
                  </a:lnTo>
                  <a:lnTo>
                    <a:pt x="869" y="1307"/>
                  </a:lnTo>
                  <a:lnTo>
                    <a:pt x="856" y="1302"/>
                  </a:lnTo>
                  <a:lnTo>
                    <a:pt x="816" y="1302"/>
                  </a:lnTo>
                  <a:lnTo>
                    <a:pt x="755" y="1294"/>
                  </a:lnTo>
                  <a:lnTo>
                    <a:pt x="671" y="1276"/>
                  </a:lnTo>
                  <a:lnTo>
                    <a:pt x="573" y="1254"/>
                  </a:lnTo>
                  <a:lnTo>
                    <a:pt x="463" y="1219"/>
                  </a:lnTo>
                  <a:lnTo>
                    <a:pt x="348" y="1170"/>
                  </a:lnTo>
                  <a:lnTo>
                    <a:pt x="238" y="1108"/>
                  </a:lnTo>
                  <a:lnTo>
                    <a:pt x="194" y="1086"/>
                  </a:lnTo>
                  <a:lnTo>
                    <a:pt x="167" y="1069"/>
                  </a:lnTo>
                  <a:lnTo>
                    <a:pt x="136" y="1060"/>
                  </a:lnTo>
                  <a:lnTo>
                    <a:pt x="110" y="1055"/>
                  </a:lnTo>
                  <a:lnTo>
                    <a:pt x="92" y="1055"/>
                  </a:lnTo>
                  <a:lnTo>
                    <a:pt x="70" y="1055"/>
                  </a:lnTo>
                  <a:lnTo>
                    <a:pt x="48" y="1051"/>
                  </a:lnTo>
                  <a:lnTo>
                    <a:pt x="22" y="1051"/>
                  </a:lnTo>
                  <a:lnTo>
                    <a:pt x="0" y="1033"/>
                  </a:lnTo>
                  <a:lnTo>
                    <a:pt x="17" y="1002"/>
                  </a:lnTo>
                  <a:lnTo>
                    <a:pt x="44" y="971"/>
                  </a:lnTo>
                  <a:lnTo>
                    <a:pt x="61" y="957"/>
                  </a:lnTo>
                  <a:close/>
                </a:path>
              </a:pathLst>
            </a:custGeom>
            <a:solidFill>
              <a:srgbClr val="d3211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7760" y="2465280"/>
              <a:ext cx="730440" cy="165600"/>
            </a:xfrm>
            <a:custGeom>
              <a:avLst/>
              <a:gdLst/>
              <a:ahLst/>
              <a:rect l="0" t="0" r="r" b="b"/>
              <a:pathLst>
                <a:path fill="none" w="2029" h="460">
                  <a:moveTo>
                    <a:pt x="2029" y="0"/>
                  </a:moveTo>
                  <a:lnTo>
                    <a:pt x="2029" y="0"/>
                  </a:lnTo>
                  <a:lnTo>
                    <a:pt x="1972" y="4"/>
                  </a:lnTo>
                  <a:lnTo>
                    <a:pt x="1901" y="13"/>
                  </a:lnTo>
                  <a:lnTo>
                    <a:pt x="1808" y="17"/>
                  </a:lnTo>
                  <a:lnTo>
                    <a:pt x="1703" y="35"/>
                  </a:lnTo>
                  <a:lnTo>
                    <a:pt x="1588" y="52"/>
                  </a:lnTo>
                  <a:lnTo>
                    <a:pt x="1465" y="70"/>
                  </a:lnTo>
                  <a:lnTo>
                    <a:pt x="1328" y="92"/>
                  </a:lnTo>
                  <a:lnTo>
                    <a:pt x="1178" y="120"/>
                  </a:lnTo>
                  <a:lnTo>
                    <a:pt x="1032" y="150"/>
                  </a:lnTo>
                  <a:lnTo>
                    <a:pt x="881" y="177"/>
                  </a:lnTo>
                  <a:lnTo>
                    <a:pt x="727" y="221"/>
                  </a:lnTo>
                  <a:lnTo>
                    <a:pt x="573" y="256"/>
                  </a:lnTo>
                  <a:lnTo>
                    <a:pt x="423" y="300"/>
                  </a:lnTo>
                  <a:lnTo>
                    <a:pt x="277" y="354"/>
                  </a:lnTo>
                  <a:lnTo>
                    <a:pt x="132" y="407"/>
                  </a:lnTo>
                  <a:lnTo>
                    <a:pt x="0" y="46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2280" y="2293920"/>
              <a:ext cx="370080" cy="444960"/>
            </a:xfrm>
            <a:custGeom>
              <a:avLst/>
              <a:gdLst/>
              <a:ahLst/>
              <a:rect l="0" t="0" r="r" b="b"/>
              <a:pathLst>
                <a:path fill="none" w="1028" h="1236">
                  <a:moveTo>
                    <a:pt x="0" y="8"/>
                  </a:moveTo>
                  <a:lnTo>
                    <a:pt x="0" y="8"/>
                  </a:lnTo>
                  <a:lnTo>
                    <a:pt x="105" y="0"/>
                  </a:lnTo>
                  <a:lnTo>
                    <a:pt x="202" y="8"/>
                  </a:lnTo>
                  <a:lnTo>
                    <a:pt x="304" y="30"/>
                  </a:lnTo>
                  <a:lnTo>
                    <a:pt x="401" y="52"/>
                  </a:lnTo>
                  <a:lnTo>
                    <a:pt x="485" y="88"/>
                  </a:lnTo>
                  <a:lnTo>
                    <a:pt x="569" y="127"/>
                  </a:lnTo>
                  <a:lnTo>
                    <a:pt x="653" y="171"/>
                  </a:lnTo>
                  <a:lnTo>
                    <a:pt x="724" y="220"/>
                  </a:lnTo>
                  <a:lnTo>
                    <a:pt x="790" y="264"/>
                  </a:lnTo>
                  <a:lnTo>
                    <a:pt x="847" y="314"/>
                  </a:lnTo>
                  <a:lnTo>
                    <a:pt x="900" y="358"/>
                  </a:lnTo>
                  <a:lnTo>
                    <a:pt x="949" y="397"/>
                  </a:lnTo>
                  <a:lnTo>
                    <a:pt x="979" y="428"/>
                  </a:lnTo>
                  <a:lnTo>
                    <a:pt x="1002" y="455"/>
                  </a:lnTo>
                  <a:lnTo>
                    <a:pt x="1019" y="472"/>
                  </a:lnTo>
                  <a:lnTo>
                    <a:pt x="1028" y="481"/>
                  </a:lnTo>
                  <a:lnTo>
                    <a:pt x="1028" y="481"/>
                  </a:lnTo>
                  <a:lnTo>
                    <a:pt x="1015" y="494"/>
                  </a:lnTo>
                  <a:lnTo>
                    <a:pt x="1002" y="534"/>
                  </a:lnTo>
                  <a:lnTo>
                    <a:pt x="979" y="587"/>
                  </a:lnTo>
                  <a:lnTo>
                    <a:pt x="949" y="658"/>
                  </a:lnTo>
                  <a:lnTo>
                    <a:pt x="913" y="733"/>
                  </a:lnTo>
                  <a:lnTo>
                    <a:pt x="878" y="807"/>
                  </a:lnTo>
                  <a:lnTo>
                    <a:pt x="843" y="874"/>
                  </a:lnTo>
                  <a:lnTo>
                    <a:pt x="812" y="932"/>
                  </a:lnTo>
                  <a:lnTo>
                    <a:pt x="812" y="932"/>
                  </a:lnTo>
                  <a:lnTo>
                    <a:pt x="777" y="985"/>
                  </a:lnTo>
                  <a:lnTo>
                    <a:pt x="724" y="1038"/>
                  </a:lnTo>
                  <a:lnTo>
                    <a:pt x="662" y="1086"/>
                  </a:lnTo>
                  <a:lnTo>
                    <a:pt x="596" y="1130"/>
                  </a:lnTo>
                  <a:lnTo>
                    <a:pt x="530" y="1170"/>
                  </a:lnTo>
                  <a:lnTo>
                    <a:pt x="467" y="1205"/>
                  </a:lnTo>
                  <a:lnTo>
                    <a:pt x="418" y="1227"/>
                  </a:lnTo>
                  <a:lnTo>
                    <a:pt x="374" y="123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1440" y="2378160"/>
              <a:ext cx="354240" cy="367200"/>
            </a:xfrm>
            <a:custGeom>
              <a:avLst/>
              <a:gdLst/>
              <a:ahLst/>
              <a:rect l="0" t="0" r="r" b="b"/>
              <a:pathLst>
                <a:path fill="none" w="984" h="1020">
                  <a:moveTo>
                    <a:pt x="0" y="44"/>
                  </a:moveTo>
                  <a:lnTo>
                    <a:pt x="0" y="44"/>
                  </a:lnTo>
                  <a:lnTo>
                    <a:pt x="88" y="17"/>
                  </a:lnTo>
                  <a:lnTo>
                    <a:pt x="176" y="0"/>
                  </a:lnTo>
                  <a:lnTo>
                    <a:pt x="264" y="0"/>
                  </a:lnTo>
                  <a:lnTo>
                    <a:pt x="357" y="8"/>
                  </a:lnTo>
                  <a:lnTo>
                    <a:pt x="440" y="26"/>
                  </a:lnTo>
                  <a:lnTo>
                    <a:pt x="521" y="48"/>
                  </a:lnTo>
                  <a:lnTo>
                    <a:pt x="600" y="74"/>
                  </a:lnTo>
                  <a:lnTo>
                    <a:pt x="671" y="105"/>
                  </a:lnTo>
                  <a:lnTo>
                    <a:pt x="737" y="141"/>
                  </a:lnTo>
                  <a:lnTo>
                    <a:pt x="799" y="171"/>
                  </a:lnTo>
                  <a:lnTo>
                    <a:pt x="852" y="207"/>
                  </a:lnTo>
                  <a:lnTo>
                    <a:pt x="900" y="238"/>
                  </a:lnTo>
                  <a:lnTo>
                    <a:pt x="935" y="265"/>
                  </a:lnTo>
                  <a:lnTo>
                    <a:pt x="966" y="287"/>
                  </a:lnTo>
                  <a:lnTo>
                    <a:pt x="975" y="300"/>
                  </a:lnTo>
                  <a:lnTo>
                    <a:pt x="984" y="305"/>
                  </a:lnTo>
                  <a:lnTo>
                    <a:pt x="984" y="305"/>
                  </a:lnTo>
                  <a:lnTo>
                    <a:pt x="979" y="336"/>
                  </a:lnTo>
                  <a:lnTo>
                    <a:pt x="953" y="402"/>
                  </a:lnTo>
                  <a:lnTo>
                    <a:pt x="909" y="503"/>
                  </a:lnTo>
                  <a:lnTo>
                    <a:pt x="843" y="627"/>
                  </a:lnTo>
                  <a:lnTo>
                    <a:pt x="750" y="750"/>
                  </a:lnTo>
                  <a:lnTo>
                    <a:pt x="631" y="861"/>
                  </a:lnTo>
                  <a:lnTo>
                    <a:pt x="471" y="958"/>
                  </a:lnTo>
                  <a:lnTo>
                    <a:pt x="282" y="10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7960" y="2476440"/>
              <a:ext cx="178200" cy="176400"/>
            </a:xfrm>
            <a:custGeom>
              <a:avLst/>
              <a:gdLst/>
              <a:ahLst/>
              <a:rect l="0" t="0" r="r" b="b"/>
              <a:pathLst>
                <a:path fill="none" w="495" h="490">
                  <a:moveTo>
                    <a:pt x="0" y="22"/>
                  </a:moveTo>
                  <a:lnTo>
                    <a:pt x="0" y="22"/>
                  </a:lnTo>
                  <a:lnTo>
                    <a:pt x="88" y="0"/>
                  </a:lnTo>
                  <a:lnTo>
                    <a:pt x="172" y="8"/>
                  </a:lnTo>
                  <a:lnTo>
                    <a:pt x="261" y="17"/>
                  </a:lnTo>
                  <a:lnTo>
                    <a:pt x="336" y="48"/>
                  </a:lnTo>
                  <a:lnTo>
                    <a:pt x="398" y="79"/>
                  </a:lnTo>
                  <a:lnTo>
                    <a:pt x="447" y="105"/>
                  </a:lnTo>
                  <a:lnTo>
                    <a:pt x="482" y="127"/>
                  </a:lnTo>
                  <a:lnTo>
                    <a:pt x="495" y="136"/>
                  </a:lnTo>
                  <a:lnTo>
                    <a:pt x="495" y="136"/>
                  </a:lnTo>
                  <a:lnTo>
                    <a:pt x="491" y="158"/>
                  </a:lnTo>
                  <a:lnTo>
                    <a:pt x="473" y="194"/>
                  </a:lnTo>
                  <a:lnTo>
                    <a:pt x="442" y="252"/>
                  </a:lnTo>
                  <a:lnTo>
                    <a:pt x="398" y="314"/>
                  </a:lnTo>
                  <a:lnTo>
                    <a:pt x="340" y="384"/>
                  </a:lnTo>
                  <a:lnTo>
                    <a:pt x="274" y="441"/>
                  </a:lnTo>
                  <a:lnTo>
                    <a:pt x="195" y="481"/>
                  </a:lnTo>
                  <a:lnTo>
                    <a:pt x="101" y="4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5205240" y="2720880"/>
            <a:ext cx="940320" cy="491040"/>
            <a:chOff x="5205240" y="2720880"/>
            <a:chExt cx="940320" cy="491040"/>
          </a:xfrm>
        </p:grpSpPr>
        <p:sp>
          <p:nvSpPr>
            <p:cNvPr id="442" name=""/>
            <p:cNvSpPr/>
            <p:nvPr/>
          </p:nvSpPr>
          <p:spPr>
            <a:xfrm>
              <a:off x="5205240" y="2720880"/>
              <a:ext cx="940320" cy="491040"/>
            </a:xfrm>
            <a:custGeom>
              <a:avLst/>
              <a:gdLst/>
              <a:ahLst/>
              <a:rect l="0" t="0" r="r" b="b"/>
              <a:pathLst>
                <a:path w="2612" h="1364">
                  <a:moveTo>
                    <a:pt x="2550" y="957"/>
                  </a:moveTo>
                  <a:lnTo>
                    <a:pt x="2343" y="688"/>
                  </a:lnTo>
                  <a:lnTo>
                    <a:pt x="2175" y="521"/>
                  </a:lnTo>
                  <a:lnTo>
                    <a:pt x="2052" y="437"/>
                  </a:lnTo>
                  <a:lnTo>
                    <a:pt x="2012" y="411"/>
                  </a:lnTo>
                  <a:lnTo>
                    <a:pt x="2061" y="367"/>
                  </a:lnTo>
                  <a:lnTo>
                    <a:pt x="1964" y="299"/>
                  </a:lnTo>
                  <a:lnTo>
                    <a:pt x="1875" y="242"/>
                  </a:lnTo>
                  <a:lnTo>
                    <a:pt x="1800" y="211"/>
                  </a:lnTo>
                  <a:lnTo>
                    <a:pt x="1725" y="189"/>
                  </a:lnTo>
                  <a:lnTo>
                    <a:pt x="1659" y="171"/>
                  </a:lnTo>
                  <a:lnTo>
                    <a:pt x="1606" y="163"/>
                  </a:lnTo>
                  <a:lnTo>
                    <a:pt x="1579" y="158"/>
                  </a:lnTo>
                  <a:lnTo>
                    <a:pt x="1566" y="158"/>
                  </a:lnTo>
                  <a:lnTo>
                    <a:pt x="1632" y="97"/>
                  </a:lnTo>
                  <a:lnTo>
                    <a:pt x="1522" y="35"/>
                  </a:lnTo>
                  <a:lnTo>
                    <a:pt x="1412" y="8"/>
                  </a:lnTo>
                  <a:lnTo>
                    <a:pt x="1297" y="0"/>
                  </a:lnTo>
                  <a:lnTo>
                    <a:pt x="1191" y="13"/>
                  </a:lnTo>
                  <a:lnTo>
                    <a:pt x="1099" y="35"/>
                  </a:lnTo>
                  <a:lnTo>
                    <a:pt x="1028" y="57"/>
                  </a:lnTo>
                  <a:lnTo>
                    <a:pt x="979" y="79"/>
                  </a:lnTo>
                  <a:lnTo>
                    <a:pt x="966" y="83"/>
                  </a:lnTo>
                  <a:lnTo>
                    <a:pt x="988" y="30"/>
                  </a:lnTo>
                  <a:lnTo>
                    <a:pt x="927" y="35"/>
                  </a:lnTo>
                  <a:lnTo>
                    <a:pt x="874" y="52"/>
                  </a:lnTo>
                  <a:lnTo>
                    <a:pt x="821" y="83"/>
                  </a:lnTo>
                  <a:lnTo>
                    <a:pt x="777" y="105"/>
                  </a:lnTo>
                  <a:lnTo>
                    <a:pt x="728" y="141"/>
                  </a:lnTo>
                  <a:lnTo>
                    <a:pt x="693" y="180"/>
                  </a:lnTo>
                  <a:lnTo>
                    <a:pt x="662" y="220"/>
                  </a:lnTo>
                  <a:lnTo>
                    <a:pt x="630" y="264"/>
                  </a:lnTo>
                  <a:lnTo>
                    <a:pt x="604" y="308"/>
                  </a:lnTo>
                  <a:lnTo>
                    <a:pt x="582" y="353"/>
                  </a:lnTo>
                  <a:lnTo>
                    <a:pt x="564" y="397"/>
                  </a:lnTo>
                  <a:lnTo>
                    <a:pt x="551" y="428"/>
                  </a:lnTo>
                  <a:lnTo>
                    <a:pt x="546" y="468"/>
                  </a:lnTo>
                  <a:lnTo>
                    <a:pt x="537" y="494"/>
                  </a:lnTo>
                  <a:lnTo>
                    <a:pt x="529" y="521"/>
                  </a:lnTo>
                  <a:lnTo>
                    <a:pt x="533" y="538"/>
                  </a:lnTo>
                  <a:lnTo>
                    <a:pt x="515" y="538"/>
                  </a:lnTo>
                  <a:lnTo>
                    <a:pt x="467" y="534"/>
                  </a:lnTo>
                  <a:lnTo>
                    <a:pt x="401" y="538"/>
                  </a:lnTo>
                  <a:lnTo>
                    <a:pt x="321" y="561"/>
                  </a:lnTo>
                  <a:lnTo>
                    <a:pt x="233" y="596"/>
                  </a:lnTo>
                  <a:lnTo>
                    <a:pt x="145" y="653"/>
                  </a:lnTo>
                  <a:lnTo>
                    <a:pt x="66" y="737"/>
                  </a:lnTo>
                  <a:lnTo>
                    <a:pt x="0" y="856"/>
                  </a:lnTo>
                  <a:lnTo>
                    <a:pt x="4" y="856"/>
                  </a:lnTo>
                  <a:lnTo>
                    <a:pt x="17" y="865"/>
                  </a:lnTo>
                  <a:lnTo>
                    <a:pt x="26" y="878"/>
                  </a:lnTo>
                  <a:lnTo>
                    <a:pt x="39" y="896"/>
                  </a:lnTo>
                  <a:lnTo>
                    <a:pt x="44" y="878"/>
                  </a:lnTo>
                  <a:lnTo>
                    <a:pt x="57" y="838"/>
                  </a:lnTo>
                  <a:lnTo>
                    <a:pt x="97" y="777"/>
                  </a:lnTo>
                  <a:lnTo>
                    <a:pt x="145" y="715"/>
                  </a:lnTo>
                  <a:lnTo>
                    <a:pt x="216" y="653"/>
                  </a:lnTo>
                  <a:lnTo>
                    <a:pt x="291" y="605"/>
                  </a:lnTo>
                  <a:lnTo>
                    <a:pt x="392" y="574"/>
                  </a:lnTo>
                  <a:lnTo>
                    <a:pt x="511" y="578"/>
                  </a:lnTo>
                  <a:lnTo>
                    <a:pt x="507" y="596"/>
                  </a:lnTo>
                  <a:lnTo>
                    <a:pt x="493" y="644"/>
                  </a:lnTo>
                  <a:lnTo>
                    <a:pt x="485" y="719"/>
                  </a:lnTo>
                  <a:lnTo>
                    <a:pt x="489" y="807"/>
                  </a:lnTo>
                  <a:lnTo>
                    <a:pt x="493" y="900"/>
                  </a:lnTo>
                  <a:lnTo>
                    <a:pt x="520" y="988"/>
                  </a:lnTo>
                  <a:lnTo>
                    <a:pt x="560" y="1069"/>
                  </a:lnTo>
                  <a:lnTo>
                    <a:pt x="630" y="1130"/>
                  </a:lnTo>
                  <a:lnTo>
                    <a:pt x="626" y="1051"/>
                  </a:lnTo>
                  <a:lnTo>
                    <a:pt x="635" y="1064"/>
                  </a:lnTo>
                  <a:lnTo>
                    <a:pt x="666" y="1104"/>
                  </a:lnTo>
                  <a:lnTo>
                    <a:pt x="710" y="1157"/>
                  </a:lnTo>
                  <a:lnTo>
                    <a:pt x="781" y="1214"/>
                  </a:lnTo>
                  <a:lnTo>
                    <a:pt x="869" y="1272"/>
                  </a:lnTo>
                  <a:lnTo>
                    <a:pt x="979" y="1320"/>
                  </a:lnTo>
                  <a:lnTo>
                    <a:pt x="1116" y="1351"/>
                  </a:lnTo>
                  <a:lnTo>
                    <a:pt x="1275" y="1351"/>
                  </a:lnTo>
                  <a:lnTo>
                    <a:pt x="1248" y="1276"/>
                  </a:lnTo>
                  <a:lnTo>
                    <a:pt x="1257" y="1280"/>
                  </a:lnTo>
                  <a:lnTo>
                    <a:pt x="1297" y="1298"/>
                  </a:lnTo>
                  <a:lnTo>
                    <a:pt x="1354" y="1316"/>
                  </a:lnTo>
                  <a:lnTo>
                    <a:pt x="1425" y="1338"/>
                  </a:lnTo>
                  <a:lnTo>
                    <a:pt x="1504" y="1355"/>
                  </a:lnTo>
                  <a:lnTo>
                    <a:pt x="1592" y="1364"/>
                  </a:lnTo>
                  <a:lnTo>
                    <a:pt x="1685" y="1364"/>
                  </a:lnTo>
                  <a:lnTo>
                    <a:pt x="1773" y="1355"/>
                  </a:lnTo>
                  <a:lnTo>
                    <a:pt x="1742" y="1307"/>
                  </a:lnTo>
                  <a:lnTo>
                    <a:pt x="1756" y="1302"/>
                  </a:lnTo>
                  <a:lnTo>
                    <a:pt x="1795" y="1302"/>
                  </a:lnTo>
                  <a:lnTo>
                    <a:pt x="1857" y="1294"/>
                  </a:lnTo>
                  <a:lnTo>
                    <a:pt x="1941" y="1276"/>
                  </a:lnTo>
                  <a:lnTo>
                    <a:pt x="2039" y="1254"/>
                  </a:lnTo>
                  <a:lnTo>
                    <a:pt x="2149" y="1219"/>
                  </a:lnTo>
                  <a:lnTo>
                    <a:pt x="2264" y="1170"/>
                  </a:lnTo>
                  <a:lnTo>
                    <a:pt x="2374" y="1108"/>
                  </a:lnTo>
                  <a:lnTo>
                    <a:pt x="2418" y="1086"/>
                  </a:lnTo>
                  <a:lnTo>
                    <a:pt x="2444" y="1069"/>
                  </a:lnTo>
                  <a:lnTo>
                    <a:pt x="2475" y="1060"/>
                  </a:lnTo>
                  <a:lnTo>
                    <a:pt x="2502" y="1055"/>
                  </a:lnTo>
                  <a:lnTo>
                    <a:pt x="2519" y="1055"/>
                  </a:lnTo>
                  <a:lnTo>
                    <a:pt x="2542" y="1055"/>
                  </a:lnTo>
                  <a:lnTo>
                    <a:pt x="2564" y="1051"/>
                  </a:lnTo>
                  <a:lnTo>
                    <a:pt x="2590" y="1051"/>
                  </a:lnTo>
                  <a:lnTo>
                    <a:pt x="2612" y="1033"/>
                  </a:lnTo>
                  <a:lnTo>
                    <a:pt x="2594" y="1002"/>
                  </a:lnTo>
                  <a:lnTo>
                    <a:pt x="2568" y="971"/>
                  </a:lnTo>
                  <a:lnTo>
                    <a:pt x="2550" y="957"/>
                  </a:lnTo>
                  <a:close/>
                </a:path>
              </a:pathLst>
            </a:custGeom>
            <a:solidFill>
              <a:srgbClr val="d3211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96040" y="2922480"/>
              <a:ext cx="730440" cy="165600"/>
            </a:xfrm>
            <a:custGeom>
              <a:avLst/>
              <a:gdLst/>
              <a:ahLst/>
              <a:rect l="0" t="0" r="r" b="b"/>
              <a:pathLst>
                <a:path fill="none" w="2029" h="460">
                  <a:moveTo>
                    <a:pt x="0" y="0"/>
                  </a:moveTo>
                  <a:lnTo>
                    <a:pt x="0" y="0"/>
                  </a:lnTo>
                  <a:lnTo>
                    <a:pt x="57" y="4"/>
                  </a:lnTo>
                  <a:lnTo>
                    <a:pt x="127" y="13"/>
                  </a:lnTo>
                  <a:lnTo>
                    <a:pt x="220" y="17"/>
                  </a:lnTo>
                  <a:lnTo>
                    <a:pt x="326" y="35"/>
                  </a:lnTo>
                  <a:lnTo>
                    <a:pt x="440" y="52"/>
                  </a:lnTo>
                  <a:lnTo>
                    <a:pt x="564" y="70"/>
                  </a:lnTo>
                  <a:lnTo>
                    <a:pt x="701" y="92"/>
                  </a:lnTo>
                  <a:lnTo>
                    <a:pt x="851" y="120"/>
                  </a:lnTo>
                  <a:lnTo>
                    <a:pt x="996" y="150"/>
                  </a:lnTo>
                  <a:lnTo>
                    <a:pt x="1147" y="177"/>
                  </a:lnTo>
                  <a:lnTo>
                    <a:pt x="1301" y="221"/>
                  </a:lnTo>
                  <a:lnTo>
                    <a:pt x="1456" y="256"/>
                  </a:lnTo>
                  <a:lnTo>
                    <a:pt x="1606" y="300"/>
                  </a:lnTo>
                  <a:lnTo>
                    <a:pt x="1751" y="354"/>
                  </a:lnTo>
                  <a:lnTo>
                    <a:pt x="1897" y="407"/>
                  </a:lnTo>
                  <a:lnTo>
                    <a:pt x="2029" y="46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11880" y="2751120"/>
              <a:ext cx="370080" cy="444960"/>
            </a:xfrm>
            <a:custGeom>
              <a:avLst/>
              <a:gdLst/>
              <a:ahLst/>
              <a:rect l="0" t="0" r="r" b="b"/>
              <a:pathLst>
                <a:path fill="none" w="1028" h="1236">
                  <a:moveTo>
                    <a:pt x="1028" y="8"/>
                  </a:moveTo>
                  <a:lnTo>
                    <a:pt x="1028" y="8"/>
                  </a:lnTo>
                  <a:lnTo>
                    <a:pt x="922" y="0"/>
                  </a:lnTo>
                  <a:lnTo>
                    <a:pt x="825" y="8"/>
                  </a:lnTo>
                  <a:lnTo>
                    <a:pt x="724" y="30"/>
                  </a:lnTo>
                  <a:lnTo>
                    <a:pt x="627" y="52"/>
                  </a:lnTo>
                  <a:lnTo>
                    <a:pt x="543" y="88"/>
                  </a:lnTo>
                  <a:lnTo>
                    <a:pt x="458" y="127"/>
                  </a:lnTo>
                  <a:lnTo>
                    <a:pt x="374" y="171"/>
                  </a:lnTo>
                  <a:lnTo>
                    <a:pt x="304" y="220"/>
                  </a:lnTo>
                  <a:lnTo>
                    <a:pt x="238" y="264"/>
                  </a:lnTo>
                  <a:lnTo>
                    <a:pt x="180" y="314"/>
                  </a:lnTo>
                  <a:lnTo>
                    <a:pt x="127" y="358"/>
                  </a:lnTo>
                  <a:lnTo>
                    <a:pt x="79" y="397"/>
                  </a:lnTo>
                  <a:lnTo>
                    <a:pt x="48" y="428"/>
                  </a:lnTo>
                  <a:lnTo>
                    <a:pt x="26" y="455"/>
                  </a:lnTo>
                  <a:lnTo>
                    <a:pt x="8" y="472"/>
                  </a:lnTo>
                  <a:lnTo>
                    <a:pt x="0" y="481"/>
                  </a:lnTo>
                  <a:lnTo>
                    <a:pt x="0" y="481"/>
                  </a:lnTo>
                  <a:lnTo>
                    <a:pt x="13" y="494"/>
                  </a:lnTo>
                  <a:lnTo>
                    <a:pt x="26" y="534"/>
                  </a:lnTo>
                  <a:lnTo>
                    <a:pt x="48" y="587"/>
                  </a:lnTo>
                  <a:lnTo>
                    <a:pt x="79" y="658"/>
                  </a:lnTo>
                  <a:lnTo>
                    <a:pt x="114" y="733"/>
                  </a:lnTo>
                  <a:lnTo>
                    <a:pt x="149" y="807"/>
                  </a:lnTo>
                  <a:lnTo>
                    <a:pt x="185" y="874"/>
                  </a:lnTo>
                  <a:lnTo>
                    <a:pt x="216" y="932"/>
                  </a:lnTo>
                  <a:lnTo>
                    <a:pt x="216" y="932"/>
                  </a:lnTo>
                  <a:lnTo>
                    <a:pt x="251" y="985"/>
                  </a:lnTo>
                  <a:lnTo>
                    <a:pt x="304" y="1038"/>
                  </a:lnTo>
                  <a:lnTo>
                    <a:pt x="366" y="1086"/>
                  </a:lnTo>
                  <a:lnTo>
                    <a:pt x="432" y="1130"/>
                  </a:lnTo>
                  <a:lnTo>
                    <a:pt x="498" y="1170"/>
                  </a:lnTo>
                  <a:lnTo>
                    <a:pt x="561" y="1205"/>
                  </a:lnTo>
                  <a:lnTo>
                    <a:pt x="609" y="1227"/>
                  </a:lnTo>
                  <a:lnTo>
                    <a:pt x="653" y="123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78560" y="2835360"/>
              <a:ext cx="354240" cy="367200"/>
            </a:xfrm>
            <a:custGeom>
              <a:avLst/>
              <a:gdLst/>
              <a:ahLst/>
              <a:rect l="0" t="0" r="r" b="b"/>
              <a:pathLst>
                <a:path fill="none" w="984" h="1020">
                  <a:moveTo>
                    <a:pt x="984" y="44"/>
                  </a:moveTo>
                  <a:lnTo>
                    <a:pt x="984" y="44"/>
                  </a:lnTo>
                  <a:lnTo>
                    <a:pt x="896" y="17"/>
                  </a:lnTo>
                  <a:lnTo>
                    <a:pt x="807" y="0"/>
                  </a:lnTo>
                  <a:lnTo>
                    <a:pt x="719" y="0"/>
                  </a:lnTo>
                  <a:lnTo>
                    <a:pt x="627" y="8"/>
                  </a:lnTo>
                  <a:lnTo>
                    <a:pt x="543" y="26"/>
                  </a:lnTo>
                  <a:lnTo>
                    <a:pt x="463" y="48"/>
                  </a:lnTo>
                  <a:lnTo>
                    <a:pt x="383" y="74"/>
                  </a:lnTo>
                  <a:lnTo>
                    <a:pt x="313" y="105"/>
                  </a:lnTo>
                  <a:lnTo>
                    <a:pt x="246" y="141"/>
                  </a:lnTo>
                  <a:lnTo>
                    <a:pt x="185" y="171"/>
                  </a:lnTo>
                  <a:lnTo>
                    <a:pt x="132" y="207"/>
                  </a:lnTo>
                  <a:lnTo>
                    <a:pt x="83" y="238"/>
                  </a:lnTo>
                  <a:lnTo>
                    <a:pt x="48" y="265"/>
                  </a:lnTo>
                  <a:lnTo>
                    <a:pt x="17" y="287"/>
                  </a:lnTo>
                  <a:lnTo>
                    <a:pt x="8" y="300"/>
                  </a:lnTo>
                  <a:lnTo>
                    <a:pt x="0" y="305"/>
                  </a:lnTo>
                  <a:lnTo>
                    <a:pt x="0" y="305"/>
                  </a:lnTo>
                  <a:lnTo>
                    <a:pt x="4" y="336"/>
                  </a:lnTo>
                  <a:lnTo>
                    <a:pt x="30" y="402"/>
                  </a:lnTo>
                  <a:lnTo>
                    <a:pt x="74" y="503"/>
                  </a:lnTo>
                  <a:lnTo>
                    <a:pt x="141" y="627"/>
                  </a:lnTo>
                  <a:lnTo>
                    <a:pt x="233" y="750"/>
                  </a:lnTo>
                  <a:lnTo>
                    <a:pt x="352" y="861"/>
                  </a:lnTo>
                  <a:lnTo>
                    <a:pt x="512" y="958"/>
                  </a:lnTo>
                  <a:lnTo>
                    <a:pt x="702" y="10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88080" y="2933640"/>
              <a:ext cx="178200" cy="176400"/>
            </a:xfrm>
            <a:custGeom>
              <a:avLst/>
              <a:gdLst/>
              <a:ahLst/>
              <a:rect l="0" t="0" r="r" b="b"/>
              <a:pathLst>
                <a:path fill="none" w="495" h="490">
                  <a:moveTo>
                    <a:pt x="495" y="22"/>
                  </a:moveTo>
                  <a:lnTo>
                    <a:pt x="495" y="22"/>
                  </a:lnTo>
                  <a:lnTo>
                    <a:pt x="407" y="0"/>
                  </a:lnTo>
                  <a:lnTo>
                    <a:pt x="322" y="8"/>
                  </a:lnTo>
                  <a:lnTo>
                    <a:pt x="234" y="17"/>
                  </a:lnTo>
                  <a:lnTo>
                    <a:pt x="159" y="48"/>
                  </a:lnTo>
                  <a:lnTo>
                    <a:pt x="97" y="79"/>
                  </a:lnTo>
                  <a:lnTo>
                    <a:pt x="48" y="105"/>
                  </a:lnTo>
                  <a:lnTo>
                    <a:pt x="13" y="127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4" y="158"/>
                  </a:lnTo>
                  <a:lnTo>
                    <a:pt x="22" y="194"/>
                  </a:lnTo>
                  <a:lnTo>
                    <a:pt x="52" y="252"/>
                  </a:lnTo>
                  <a:lnTo>
                    <a:pt x="97" y="314"/>
                  </a:lnTo>
                  <a:lnTo>
                    <a:pt x="155" y="384"/>
                  </a:lnTo>
                  <a:lnTo>
                    <a:pt x="221" y="441"/>
                  </a:lnTo>
                  <a:lnTo>
                    <a:pt x="300" y="481"/>
                  </a:lnTo>
                  <a:lnTo>
                    <a:pt x="394" y="4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759120" y="1727280"/>
            <a:ext cx="1283040" cy="1232280"/>
          </a:xfrm>
          <a:custGeom>
            <a:avLst/>
            <a:gdLst/>
            <a:ahLst/>
            <a:rect l="0" t="0" r="r" b="b"/>
            <a:pathLst>
              <a:path fill="none" w="3564" h="3423">
                <a:moveTo>
                  <a:pt x="0" y="0"/>
                </a:moveTo>
                <a:lnTo>
                  <a:pt x="0" y="776"/>
                </a:lnTo>
                <a:lnTo>
                  <a:pt x="141" y="1271"/>
                </a:lnTo>
                <a:lnTo>
                  <a:pt x="458" y="1800"/>
                </a:lnTo>
                <a:lnTo>
                  <a:pt x="1058" y="2399"/>
                </a:lnTo>
                <a:lnTo>
                  <a:pt x="1622" y="2647"/>
                </a:lnTo>
                <a:lnTo>
                  <a:pt x="1941" y="2577"/>
                </a:lnTo>
                <a:lnTo>
                  <a:pt x="2047" y="2047"/>
                </a:lnTo>
                <a:lnTo>
                  <a:pt x="1941" y="2011"/>
                </a:lnTo>
                <a:lnTo>
                  <a:pt x="1835" y="1976"/>
                </a:lnTo>
                <a:lnTo>
                  <a:pt x="1728" y="1941"/>
                </a:lnTo>
                <a:lnTo>
                  <a:pt x="1622" y="1941"/>
                </a:lnTo>
                <a:lnTo>
                  <a:pt x="1516" y="2011"/>
                </a:lnTo>
                <a:lnTo>
                  <a:pt x="1411" y="2117"/>
                </a:lnTo>
                <a:lnTo>
                  <a:pt x="1375" y="2223"/>
                </a:lnTo>
                <a:lnTo>
                  <a:pt x="1340" y="2329"/>
                </a:lnTo>
                <a:lnTo>
                  <a:pt x="1340" y="2435"/>
                </a:lnTo>
                <a:lnTo>
                  <a:pt x="1340" y="2541"/>
                </a:lnTo>
                <a:lnTo>
                  <a:pt x="1340" y="2647"/>
                </a:lnTo>
                <a:lnTo>
                  <a:pt x="1375" y="2753"/>
                </a:lnTo>
                <a:lnTo>
                  <a:pt x="1481" y="2859"/>
                </a:lnTo>
                <a:lnTo>
                  <a:pt x="1587" y="2930"/>
                </a:lnTo>
                <a:lnTo>
                  <a:pt x="1693" y="3000"/>
                </a:lnTo>
                <a:lnTo>
                  <a:pt x="1800" y="3035"/>
                </a:lnTo>
                <a:lnTo>
                  <a:pt x="2435" y="3247"/>
                </a:lnTo>
                <a:lnTo>
                  <a:pt x="2752" y="3212"/>
                </a:lnTo>
                <a:lnTo>
                  <a:pt x="3458" y="3318"/>
                </a:lnTo>
                <a:lnTo>
                  <a:pt x="3564" y="342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33520" y="380880"/>
            <a:ext cx="74674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 Joke Is So Stupid and Not Even Close To being ‘Funny’, leaving you and everyone else speechless and at a loss how to react, You Can Say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8042400" y="704880"/>
            <a:ext cx="535320" cy="1962360"/>
            <a:chOff x="8042400" y="704880"/>
            <a:chExt cx="535320" cy="1962360"/>
          </a:xfrm>
        </p:grpSpPr>
        <p:grpSp>
          <p:nvGrpSpPr>
            <p:cNvPr id="450" name=""/>
            <p:cNvGrpSpPr/>
            <p:nvPr/>
          </p:nvGrpSpPr>
          <p:grpSpPr>
            <a:xfrm>
              <a:off x="8042400" y="704880"/>
              <a:ext cx="524160" cy="1962360"/>
              <a:chOff x="8042400" y="704880"/>
              <a:chExt cx="524160" cy="1962360"/>
            </a:xfrm>
          </p:grpSpPr>
          <p:sp>
            <p:nvSpPr>
              <p:cNvPr id="451" name=""/>
              <p:cNvSpPr/>
              <p:nvPr/>
            </p:nvSpPr>
            <p:spPr>
              <a:xfrm>
                <a:off x="8042400" y="704880"/>
                <a:ext cx="524160" cy="1962360"/>
              </a:xfrm>
              <a:custGeom>
                <a:avLst/>
                <a:gdLst/>
                <a:ahLst/>
                <a:rect l="0" t="0" r="r" b="b"/>
                <a:pathLst>
                  <a:path w="1456" h="5451">
                    <a:moveTo>
                      <a:pt x="0" y="5385"/>
                    </a:moveTo>
                    <a:lnTo>
                      <a:pt x="1090" y="5451"/>
                    </a:lnTo>
                    <a:lnTo>
                      <a:pt x="1456" y="0"/>
                    </a:lnTo>
                    <a:lnTo>
                      <a:pt x="89" y="96"/>
                    </a:lnTo>
                    <a:lnTo>
                      <a:pt x="0" y="53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074080" y="758880"/>
                <a:ext cx="430560" cy="1860840"/>
              </a:xfrm>
              <a:custGeom>
                <a:avLst/>
                <a:gdLst/>
                <a:ahLst/>
                <a:rect l="0" t="0" r="r" b="b"/>
                <a:pathLst>
                  <a:path w="1196" h="5169">
                    <a:moveTo>
                      <a:pt x="126" y="54"/>
                    </a:moveTo>
                    <a:lnTo>
                      <a:pt x="1196" y="0"/>
                    </a:lnTo>
                    <a:lnTo>
                      <a:pt x="844" y="5169"/>
                    </a:lnTo>
                    <a:lnTo>
                      <a:pt x="0" y="5126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077320" y="2422440"/>
                <a:ext cx="43200" cy="32040"/>
              </a:xfrm>
              <a:custGeom>
                <a:avLst/>
                <a:gdLst/>
                <a:ahLst/>
                <a:rect l="0" t="0" r="r" b="b"/>
                <a:pathLst>
                  <a:path w="120" h="89">
                    <a:moveTo>
                      <a:pt x="70" y="22"/>
                    </a:moveTo>
                    <a:lnTo>
                      <a:pt x="80" y="22"/>
                    </a:lnTo>
                    <a:lnTo>
                      <a:pt x="80" y="29"/>
                    </a:lnTo>
                    <a:lnTo>
                      <a:pt x="90" y="29"/>
                    </a:lnTo>
                    <a:lnTo>
                      <a:pt x="90" y="36"/>
                    </a:lnTo>
                    <a:lnTo>
                      <a:pt x="90" y="52"/>
                    </a:lnTo>
                    <a:lnTo>
                      <a:pt x="80" y="52"/>
                    </a:lnTo>
                    <a:lnTo>
                      <a:pt x="80" y="59"/>
                    </a:lnTo>
                    <a:lnTo>
                      <a:pt x="70" y="59"/>
                    </a:lnTo>
                    <a:lnTo>
                      <a:pt x="49" y="59"/>
                    </a:lnTo>
                    <a:lnTo>
                      <a:pt x="49" y="52"/>
                    </a:lnTo>
                    <a:lnTo>
                      <a:pt x="39" y="52"/>
                    </a:lnTo>
                    <a:lnTo>
                      <a:pt x="39" y="36"/>
                    </a:lnTo>
                    <a:lnTo>
                      <a:pt x="39" y="29"/>
                    </a:lnTo>
                    <a:lnTo>
                      <a:pt x="49" y="29"/>
                    </a:lnTo>
                    <a:lnTo>
                      <a:pt x="49" y="22"/>
                    </a:lnTo>
                    <a:lnTo>
                      <a:pt x="70" y="22"/>
                    </a:lnTo>
                    <a:lnTo>
                      <a:pt x="70" y="0"/>
                    </a:lnTo>
                    <a:lnTo>
                      <a:pt x="49" y="0"/>
                    </a:lnTo>
                    <a:lnTo>
                      <a:pt x="29" y="7"/>
                    </a:lnTo>
                    <a:lnTo>
                      <a:pt x="19" y="29"/>
                    </a:lnTo>
                    <a:lnTo>
                      <a:pt x="0" y="36"/>
                    </a:lnTo>
                    <a:lnTo>
                      <a:pt x="0" y="59"/>
                    </a:lnTo>
                    <a:lnTo>
                      <a:pt x="19" y="67"/>
                    </a:lnTo>
                    <a:lnTo>
                      <a:pt x="39" y="81"/>
                    </a:lnTo>
                    <a:lnTo>
                      <a:pt x="70" y="89"/>
                    </a:lnTo>
                    <a:lnTo>
                      <a:pt x="80" y="89"/>
                    </a:lnTo>
                    <a:lnTo>
                      <a:pt x="110" y="81"/>
                    </a:lnTo>
                    <a:lnTo>
                      <a:pt x="120" y="59"/>
                    </a:lnTo>
                    <a:lnTo>
                      <a:pt x="120" y="36"/>
                    </a:lnTo>
                    <a:lnTo>
                      <a:pt x="120" y="29"/>
                    </a:lnTo>
                    <a:lnTo>
                      <a:pt x="110" y="7"/>
                    </a:lnTo>
                    <a:lnTo>
                      <a:pt x="90" y="0"/>
                    </a:lnTo>
                    <a:lnTo>
                      <a:pt x="70" y="0"/>
                    </a:lnTo>
                    <a:lnTo>
                      <a:pt x="7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120160" y="2432160"/>
                <a:ext cx="41760" cy="55800"/>
              </a:xfrm>
              <a:custGeom>
                <a:avLst/>
                <a:gdLst/>
                <a:ahLst/>
                <a:rect l="0" t="0" r="r" b="b"/>
                <a:pathLst>
                  <a:path w="116" h="155">
                    <a:moveTo>
                      <a:pt x="8" y="155"/>
                    </a:moveTo>
                    <a:lnTo>
                      <a:pt x="0" y="4"/>
                    </a:lnTo>
                    <a:lnTo>
                      <a:pt x="116" y="0"/>
                    </a:lnTo>
                    <a:lnTo>
                      <a:pt x="116" y="30"/>
                    </a:lnTo>
                    <a:lnTo>
                      <a:pt x="53" y="30"/>
                    </a:lnTo>
                    <a:lnTo>
                      <a:pt x="53" y="61"/>
                    </a:lnTo>
                    <a:lnTo>
                      <a:pt x="116" y="61"/>
                    </a:lnTo>
                    <a:lnTo>
                      <a:pt x="116" y="93"/>
                    </a:lnTo>
                    <a:lnTo>
                      <a:pt x="62" y="93"/>
                    </a:lnTo>
                    <a:lnTo>
                      <a:pt x="62" y="155"/>
                    </a:lnTo>
                    <a:lnTo>
                      <a:pt x="8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294760" y="2428920"/>
                <a:ext cx="43200" cy="32040"/>
              </a:xfrm>
              <a:custGeom>
                <a:avLst/>
                <a:gdLst/>
                <a:ahLst/>
                <a:rect l="0" t="0" r="r" b="b"/>
                <a:pathLst>
                  <a:path w="120" h="89">
                    <a:moveTo>
                      <a:pt x="65" y="27"/>
                    </a:moveTo>
                    <a:lnTo>
                      <a:pt x="74" y="27"/>
                    </a:lnTo>
                    <a:lnTo>
                      <a:pt x="74" y="33"/>
                    </a:lnTo>
                    <a:lnTo>
                      <a:pt x="83" y="33"/>
                    </a:lnTo>
                    <a:lnTo>
                      <a:pt x="83" y="48"/>
                    </a:lnTo>
                    <a:lnTo>
                      <a:pt x="83" y="55"/>
                    </a:lnTo>
                    <a:lnTo>
                      <a:pt x="74" y="55"/>
                    </a:lnTo>
                    <a:lnTo>
                      <a:pt x="74" y="62"/>
                    </a:lnTo>
                    <a:lnTo>
                      <a:pt x="65" y="62"/>
                    </a:lnTo>
                    <a:lnTo>
                      <a:pt x="45" y="62"/>
                    </a:lnTo>
                    <a:lnTo>
                      <a:pt x="36" y="55"/>
                    </a:lnTo>
                    <a:lnTo>
                      <a:pt x="36" y="48"/>
                    </a:lnTo>
                    <a:lnTo>
                      <a:pt x="36" y="33"/>
                    </a:lnTo>
                    <a:lnTo>
                      <a:pt x="45" y="33"/>
                    </a:lnTo>
                    <a:lnTo>
                      <a:pt x="45" y="27"/>
                    </a:lnTo>
                    <a:lnTo>
                      <a:pt x="65" y="27"/>
                    </a:lnTo>
                    <a:lnTo>
                      <a:pt x="65" y="0"/>
                    </a:lnTo>
                    <a:lnTo>
                      <a:pt x="36" y="0"/>
                    </a:lnTo>
                    <a:lnTo>
                      <a:pt x="9" y="6"/>
                    </a:lnTo>
                    <a:lnTo>
                      <a:pt x="0" y="27"/>
                    </a:lnTo>
                    <a:lnTo>
                      <a:pt x="0" y="48"/>
                    </a:lnTo>
                    <a:lnTo>
                      <a:pt x="0" y="62"/>
                    </a:lnTo>
                    <a:lnTo>
                      <a:pt x="9" y="75"/>
                    </a:lnTo>
                    <a:lnTo>
                      <a:pt x="36" y="82"/>
                    </a:lnTo>
                    <a:lnTo>
                      <a:pt x="45" y="89"/>
                    </a:lnTo>
                    <a:lnTo>
                      <a:pt x="74" y="89"/>
                    </a:lnTo>
                    <a:lnTo>
                      <a:pt x="92" y="82"/>
                    </a:lnTo>
                    <a:lnTo>
                      <a:pt x="110" y="62"/>
                    </a:lnTo>
                    <a:lnTo>
                      <a:pt x="120" y="48"/>
                    </a:lnTo>
                    <a:lnTo>
                      <a:pt x="120" y="27"/>
                    </a:lnTo>
                    <a:lnTo>
                      <a:pt x="110" y="20"/>
                    </a:lnTo>
                    <a:lnTo>
                      <a:pt x="83" y="0"/>
                    </a:lnTo>
                    <a:lnTo>
                      <a:pt x="65" y="0"/>
                    </a:lnTo>
                    <a:lnTo>
                      <a:pt x="65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331120" y="2435400"/>
                <a:ext cx="41760" cy="60840"/>
              </a:xfrm>
              <a:custGeom>
                <a:avLst/>
                <a:gdLst/>
                <a:ahLst/>
                <a:rect l="0" t="0" r="r" b="b"/>
                <a:pathLst>
                  <a:path w="116" h="169">
                    <a:moveTo>
                      <a:pt x="67" y="62"/>
                    </a:moveTo>
                    <a:lnTo>
                      <a:pt x="67" y="49"/>
                    </a:lnTo>
                    <a:lnTo>
                      <a:pt x="67" y="45"/>
                    </a:lnTo>
                    <a:lnTo>
                      <a:pt x="67" y="35"/>
                    </a:lnTo>
                    <a:lnTo>
                      <a:pt x="62" y="30"/>
                    </a:lnTo>
                    <a:lnTo>
                      <a:pt x="49" y="30"/>
                    </a:lnTo>
                    <a:lnTo>
                      <a:pt x="45" y="35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49" y="129"/>
                    </a:lnTo>
                    <a:lnTo>
                      <a:pt x="49" y="129"/>
                    </a:lnTo>
                    <a:lnTo>
                      <a:pt x="58" y="138"/>
                    </a:lnTo>
                    <a:lnTo>
                      <a:pt x="62" y="138"/>
                    </a:lnTo>
                    <a:lnTo>
                      <a:pt x="67" y="138"/>
                    </a:lnTo>
                    <a:lnTo>
                      <a:pt x="75" y="129"/>
                    </a:lnTo>
                    <a:lnTo>
                      <a:pt x="75" y="124"/>
                    </a:lnTo>
                    <a:lnTo>
                      <a:pt x="75" y="120"/>
                    </a:lnTo>
                    <a:lnTo>
                      <a:pt x="75" y="102"/>
                    </a:lnTo>
                    <a:lnTo>
                      <a:pt x="112" y="98"/>
                    </a:lnTo>
                    <a:lnTo>
                      <a:pt x="116" y="120"/>
                    </a:lnTo>
                    <a:lnTo>
                      <a:pt x="112" y="138"/>
                    </a:lnTo>
                    <a:lnTo>
                      <a:pt x="103" y="156"/>
                    </a:lnTo>
                    <a:lnTo>
                      <a:pt x="90" y="160"/>
                    </a:lnTo>
                    <a:lnTo>
                      <a:pt x="62" y="169"/>
                    </a:lnTo>
                    <a:lnTo>
                      <a:pt x="40" y="169"/>
                    </a:lnTo>
                    <a:lnTo>
                      <a:pt x="26" y="156"/>
                    </a:lnTo>
                    <a:lnTo>
                      <a:pt x="13" y="143"/>
                    </a:lnTo>
                    <a:lnTo>
                      <a:pt x="8" y="124"/>
                    </a:lnTo>
                    <a:lnTo>
                      <a:pt x="0" y="58"/>
                    </a:lnTo>
                    <a:lnTo>
                      <a:pt x="8" y="30"/>
                    </a:lnTo>
                    <a:lnTo>
                      <a:pt x="13" y="13"/>
                    </a:lnTo>
                    <a:lnTo>
                      <a:pt x="31" y="4"/>
                    </a:lnTo>
                    <a:lnTo>
                      <a:pt x="58" y="0"/>
                    </a:lnTo>
                    <a:lnTo>
                      <a:pt x="80" y="0"/>
                    </a:lnTo>
                    <a:lnTo>
                      <a:pt x="94" y="13"/>
                    </a:lnTo>
                    <a:lnTo>
                      <a:pt x="103" y="17"/>
                    </a:lnTo>
                    <a:lnTo>
                      <a:pt x="112" y="45"/>
                    </a:lnTo>
                    <a:lnTo>
                      <a:pt x="112" y="58"/>
                    </a:lnTo>
                    <a:lnTo>
                      <a:pt x="6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167680" y="1211400"/>
                <a:ext cx="140040" cy="1327680"/>
              </a:xfrm>
              <a:custGeom>
                <a:avLst/>
                <a:gdLst/>
                <a:ahLst/>
                <a:rect l="0" t="0" r="r" b="b"/>
                <a:pathLst>
                  <a:path w="389" h="3688">
                    <a:moveTo>
                      <a:pt x="0" y="3673"/>
                    </a:moveTo>
                    <a:lnTo>
                      <a:pt x="307" y="3688"/>
                    </a:lnTo>
                    <a:lnTo>
                      <a:pt x="327" y="3301"/>
                    </a:lnTo>
                    <a:lnTo>
                      <a:pt x="233" y="3301"/>
                    </a:lnTo>
                    <a:lnTo>
                      <a:pt x="237" y="3231"/>
                    </a:lnTo>
                    <a:lnTo>
                      <a:pt x="237" y="3208"/>
                    </a:lnTo>
                    <a:lnTo>
                      <a:pt x="254" y="2894"/>
                    </a:lnTo>
                    <a:lnTo>
                      <a:pt x="254" y="2863"/>
                    </a:lnTo>
                    <a:lnTo>
                      <a:pt x="270" y="2537"/>
                    </a:lnTo>
                    <a:lnTo>
                      <a:pt x="270" y="2506"/>
                    </a:lnTo>
                    <a:lnTo>
                      <a:pt x="286" y="2185"/>
                    </a:lnTo>
                    <a:lnTo>
                      <a:pt x="286" y="2154"/>
                    </a:lnTo>
                    <a:lnTo>
                      <a:pt x="303" y="1821"/>
                    </a:lnTo>
                    <a:lnTo>
                      <a:pt x="303" y="1790"/>
                    </a:lnTo>
                    <a:lnTo>
                      <a:pt x="319" y="1457"/>
                    </a:lnTo>
                    <a:lnTo>
                      <a:pt x="319" y="1426"/>
                    </a:lnTo>
                    <a:lnTo>
                      <a:pt x="335" y="1077"/>
                    </a:lnTo>
                    <a:lnTo>
                      <a:pt x="340" y="1046"/>
                    </a:lnTo>
                    <a:lnTo>
                      <a:pt x="356" y="689"/>
                    </a:lnTo>
                    <a:lnTo>
                      <a:pt x="356" y="666"/>
                    </a:lnTo>
                    <a:lnTo>
                      <a:pt x="372" y="302"/>
                    </a:lnTo>
                    <a:lnTo>
                      <a:pt x="376" y="271"/>
                    </a:lnTo>
                    <a:lnTo>
                      <a:pt x="389" y="0"/>
                    </a:lnTo>
                    <a:lnTo>
                      <a:pt x="233" y="3"/>
                    </a:lnTo>
                    <a:lnTo>
                      <a:pt x="221" y="259"/>
                    </a:lnTo>
                    <a:lnTo>
                      <a:pt x="217" y="290"/>
                    </a:lnTo>
                    <a:lnTo>
                      <a:pt x="205" y="604"/>
                    </a:lnTo>
                    <a:lnTo>
                      <a:pt x="205" y="635"/>
                    </a:lnTo>
                    <a:lnTo>
                      <a:pt x="187" y="949"/>
                    </a:lnTo>
                    <a:lnTo>
                      <a:pt x="187" y="980"/>
                    </a:lnTo>
                    <a:lnTo>
                      <a:pt x="175" y="1286"/>
                    </a:lnTo>
                    <a:lnTo>
                      <a:pt x="175" y="1317"/>
                    </a:lnTo>
                    <a:lnTo>
                      <a:pt x="159" y="1615"/>
                    </a:lnTo>
                    <a:lnTo>
                      <a:pt x="159" y="1646"/>
                    </a:lnTo>
                    <a:lnTo>
                      <a:pt x="151" y="1952"/>
                    </a:lnTo>
                    <a:lnTo>
                      <a:pt x="151" y="1983"/>
                    </a:lnTo>
                    <a:lnTo>
                      <a:pt x="134" y="2262"/>
                    </a:lnTo>
                    <a:lnTo>
                      <a:pt x="134" y="2293"/>
                    </a:lnTo>
                    <a:lnTo>
                      <a:pt x="122" y="2583"/>
                    </a:lnTo>
                    <a:lnTo>
                      <a:pt x="122" y="2614"/>
                    </a:lnTo>
                    <a:lnTo>
                      <a:pt x="110" y="2883"/>
                    </a:lnTo>
                    <a:lnTo>
                      <a:pt x="110" y="2914"/>
                    </a:lnTo>
                    <a:lnTo>
                      <a:pt x="98" y="3200"/>
                    </a:lnTo>
                    <a:lnTo>
                      <a:pt x="98" y="3231"/>
                    </a:lnTo>
                    <a:lnTo>
                      <a:pt x="98" y="3293"/>
                    </a:lnTo>
                    <a:lnTo>
                      <a:pt x="4" y="3293"/>
                    </a:lnTo>
                    <a:lnTo>
                      <a:pt x="0" y="36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091360" y="2244600"/>
                <a:ext cx="116280" cy="32040"/>
              </a:xfrm>
              <a:custGeom>
                <a:avLst/>
                <a:gdLst/>
                <a:ahLst/>
                <a:rect l="0" t="0" r="r" b="b"/>
                <a:pathLst>
                  <a:path w="323" h="89">
                    <a:moveTo>
                      <a:pt x="323" y="89"/>
                    </a:moveTo>
                    <a:lnTo>
                      <a:pt x="323" y="17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323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259840" y="2239920"/>
                <a:ext cx="127440" cy="33840"/>
              </a:xfrm>
              <a:custGeom>
                <a:avLst/>
                <a:gdLst/>
                <a:ahLst/>
                <a:rect l="0" t="0" r="r" b="b"/>
                <a:pathLst>
                  <a:path w="354" h="94">
                    <a:moveTo>
                      <a:pt x="0" y="68"/>
                    </a:moveTo>
                    <a:lnTo>
                      <a:pt x="0" y="0"/>
                    </a:lnTo>
                    <a:lnTo>
                      <a:pt x="354" y="26"/>
                    </a:lnTo>
                    <a:lnTo>
                      <a:pt x="354" y="94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271000" y="1986120"/>
                <a:ext cx="133560" cy="35280"/>
              </a:xfrm>
              <a:custGeom>
                <a:avLst/>
                <a:gdLst/>
                <a:ahLst/>
                <a:rect l="0" t="0" r="r" b="b"/>
                <a:pathLst>
                  <a:path w="371" h="98">
                    <a:moveTo>
                      <a:pt x="0" y="87"/>
                    </a:moveTo>
                    <a:lnTo>
                      <a:pt x="0" y="0"/>
                    </a:lnTo>
                    <a:lnTo>
                      <a:pt x="371" y="10"/>
                    </a:lnTo>
                    <a:lnTo>
                      <a:pt x="371" y="98"/>
                    </a:lnTo>
                    <a:lnTo>
                      <a:pt x="355" y="98"/>
                    </a:lnTo>
                    <a:lnTo>
                      <a:pt x="310" y="98"/>
                    </a:lnTo>
                    <a:lnTo>
                      <a:pt x="253" y="98"/>
                    </a:lnTo>
                    <a:lnTo>
                      <a:pt x="188" y="87"/>
                    </a:lnTo>
                    <a:lnTo>
                      <a:pt x="118" y="87"/>
                    </a:lnTo>
                    <a:lnTo>
                      <a:pt x="56" y="87"/>
                    </a:lnTo>
                    <a:lnTo>
                      <a:pt x="16" y="87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097840" y="2023920"/>
                <a:ext cx="117720" cy="35280"/>
              </a:xfrm>
              <a:custGeom>
                <a:avLst/>
                <a:gdLst/>
                <a:ahLst/>
                <a:rect l="0" t="0" r="r" b="b"/>
                <a:pathLst>
                  <a:path w="327" h="98">
                    <a:moveTo>
                      <a:pt x="327" y="10"/>
                    </a:moveTo>
                    <a:lnTo>
                      <a:pt x="327" y="98"/>
                    </a:lnTo>
                    <a:lnTo>
                      <a:pt x="0" y="87"/>
                    </a:lnTo>
                    <a:lnTo>
                      <a:pt x="0" y="0"/>
                    </a:lnTo>
                    <a:lnTo>
                      <a:pt x="32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091360" y="2138400"/>
                <a:ext cx="120960" cy="32040"/>
              </a:xfrm>
              <a:custGeom>
                <a:avLst/>
                <a:gdLst/>
                <a:ahLst/>
                <a:rect l="0" t="0" r="r" b="b"/>
                <a:pathLst>
                  <a:path w="336" h="89">
                    <a:moveTo>
                      <a:pt x="336" y="89"/>
                    </a:moveTo>
                    <a:lnTo>
                      <a:pt x="336" y="17"/>
                    </a:lnTo>
                    <a:lnTo>
                      <a:pt x="8" y="0"/>
                    </a:lnTo>
                    <a:lnTo>
                      <a:pt x="0" y="71"/>
                    </a:lnTo>
                    <a:lnTo>
                      <a:pt x="336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264520" y="2112840"/>
                <a:ext cx="128880" cy="33840"/>
              </a:xfrm>
              <a:custGeom>
                <a:avLst/>
                <a:gdLst/>
                <a:ahLst/>
                <a:rect l="0" t="0" r="r" b="b"/>
                <a:pathLst>
                  <a:path w="358" h="94">
                    <a:moveTo>
                      <a:pt x="0" y="76"/>
                    </a:moveTo>
                    <a:lnTo>
                      <a:pt x="0" y="0"/>
                    </a:lnTo>
                    <a:lnTo>
                      <a:pt x="358" y="18"/>
                    </a:lnTo>
                    <a:lnTo>
                      <a:pt x="358" y="9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110440" y="1430280"/>
                <a:ext cx="132120" cy="32040"/>
              </a:xfrm>
              <a:custGeom>
                <a:avLst/>
                <a:gdLst/>
                <a:ahLst/>
                <a:rect l="0" t="0" r="r" b="b"/>
                <a:pathLst>
                  <a:path w="367" h="89">
                    <a:moveTo>
                      <a:pt x="367" y="79"/>
                    </a:moveTo>
                    <a:lnTo>
                      <a:pt x="367" y="0"/>
                    </a:lnTo>
                    <a:lnTo>
                      <a:pt x="0" y="29"/>
                    </a:lnTo>
                    <a:lnTo>
                      <a:pt x="0" y="89"/>
                    </a:lnTo>
                    <a:lnTo>
                      <a:pt x="367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296200" y="1447920"/>
                <a:ext cx="144720" cy="33840"/>
              </a:xfrm>
              <a:custGeom>
                <a:avLst/>
                <a:gdLst/>
                <a:ahLst/>
                <a:rect l="0" t="0" r="r" b="b"/>
                <a:pathLst>
                  <a:path w="402" h="94">
                    <a:moveTo>
                      <a:pt x="0" y="94"/>
                    </a:moveTo>
                    <a:lnTo>
                      <a:pt x="0" y="31"/>
                    </a:lnTo>
                    <a:lnTo>
                      <a:pt x="402" y="0"/>
                    </a:lnTo>
                    <a:lnTo>
                      <a:pt x="402" y="8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107200" y="1554120"/>
                <a:ext cx="128880" cy="32040"/>
              </a:xfrm>
              <a:custGeom>
                <a:avLst/>
                <a:gdLst/>
                <a:ahLst/>
                <a:rect l="0" t="0" r="r" b="b"/>
                <a:pathLst>
                  <a:path w="358" h="89">
                    <a:moveTo>
                      <a:pt x="358" y="0"/>
                    </a:moveTo>
                    <a:lnTo>
                      <a:pt x="358" y="79"/>
                    </a:lnTo>
                    <a:lnTo>
                      <a:pt x="0" y="89"/>
                    </a:lnTo>
                    <a:lnTo>
                      <a:pt x="0" y="9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115480" y="1305000"/>
                <a:ext cx="132120" cy="33840"/>
              </a:xfrm>
              <a:custGeom>
                <a:avLst/>
                <a:gdLst/>
                <a:ahLst/>
                <a:rect l="0" t="0" r="r" b="b"/>
                <a:pathLst>
                  <a:path w="367" h="94">
                    <a:moveTo>
                      <a:pt x="367" y="0"/>
                    </a:moveTo>
                    <a:lnTo>
                      <a:pt x="362" y="84"/>
                    </a:lnTo>
                    <a:lnTo>
                      <a:pt x="0" y="94"/>
                    </a:lnTo>
                    <a:lnTo>
                      <a:pt x="0" y="10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300880" y="1305000"/>
                <a:ext cx="151200" cy="33840"/>
              </a:xfrm>
              <a:custGeom>
                <a:avLst/>
                <a:gdLst/>
                <a:ahLst/>
                <a:rect l="0" t="0" r="r" b="b"/>
                <a:pathLst>
                  <a:path w="420" h="94">
                    <a:moveTo>
                      <a:pt x="4" y="26"/>
                    </a:moveTo>
                    <a:lnTo>
                      <a:pt x="0" y="94"/>
                    </a:lnTo>
                    <a:lnTo>
                      <a:pt x="412" y="68"/>
                    </a:lnTo>
                    <a:lnTo>
                      <a:pt x="420" y="0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251920" y="2365200"/>
                <a:ext cx="124200" cy="32040"/>
              </a:xfrm>
              <a:custGeom>
                <a:avLst/>
                <a:gdLst/>
                <a:ahLst/>
                <a:rect l="0" t="0" r="r" b="b"/>
                <a:pathLst>
                  <a:path w="345" h="89">
                    <a:moveTo>
                      <a:pt x="0" y="53"/>
                    </a:moveTo>
                    <a:lnTo>
                      <a:pt x="345" y="89"/>
                    </a:lnTo>
                    <a:lnTo>
                      <a:pt x="345" y="17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089920" y="2355840"/>
                <a:ext cx="113040" cy="33840"/>
              </a:xfrm>
              <a:custGeom>
                <a:avLst/>
                <a:gdLst/>
                <a:ahLst/>
                <a:rect l="0" t="0" r="r" b="b"/>
                <a:pathLst>
                  <a:path w="314" h="94">
                    <a:moveTo>
                      <a:pt x="314" y="94"/>
                    </a:moveTo>
                    <a:lnTo>
                      <a:pt x="301" y="94"/>
                    </a:lnTo>
                    <a:lnTo>
                      <a:pt x="265" y="94"/>
                    </a:lnTo>
                    <a:lnTo>
                      <a:pt x="216" y="86"/>
                    </a:lnTo>
                    <a:lnTo>
                      <a:pt x="154" y="79"/>
                    </a:lnTo>
                    <a:lnTo>
                      <a:pt x="101" y="79"/>
                    </a:lnTo>
                    <a:lnTo>
                      <a:pt x="48" y="62"/>
                    </a:lnTo>
                    <a:lnTo>
                      <a:pt x="16" y="62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48" y="0"/>
                    </a:lnTo>
                    <a:lnTo>
                      <a:pt x="101" y="15"/>
                    </a:lnTo>
                    <a:lnTo>
                      <a:pt x="154" y="15"/>
                    </a:lnTo>
                    <a:lnTo>
                      <a:pt x="216" y="24"/>
                    </a:lnTo>
                    <a:lnTo>
                      <a:pt x="265" y="31"/>
                    </a:lnTo>
                    <a:lnTo>
                      <a:pt x="301" y="31"/>
                    </a:lnTo>
                    <a:lnTo>
                      <a:pt x="314" y="31"/>
                    </a:lnTo>
                    <a:lnTo>
                      <a:pt x="314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288280" y="1585800"/>
                <a:ext cx="141480" cy="35280"/>
              </a:xfrm>
              <a:custGeom>
                <a:avLst/>
                <a:gdLst/>
                <a:ahLst/>
                <a:rect l="0" t="0" r="r" b="b"/>
                <a:pathLst>
                  <a:path w="393" h="98">
                    <a:moveTo>
                      <a:pt x="0" y="98"/>
                    </a:moveTo>
                    <a:lnTo>
                      <a:pt x="4" y="10"/>
                    </a:lnTo>
                    <a:lnTo>
                      <a:pt x="393" y="0"/>
                    </a:lnTo>
                    <a:lnTo>
                      <a:pt x="393" y="7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105760" y="1674720"/>
                <a:ext cx="125640" cy="32040"/>
              </a:xfrm>
              <a:custGeom>
                <a:avLst/>
                <a:gdLst/>
                <a:ahLst/>
                <a:rect l="0" t="0" r="r" b="b"/>
                <a:pathLst>
                  <a:path w="349" h="89">
                    <a:moveTo>
                      <a:pt x="349" y="0"/>
                    </a:moveTo>
                    <a:lnTo>
                      <a:pt x="349" y="79"/>
                    </a:lnTo>
                    <a:lnTo>
                      <a:pt x="0" y="89"/>
                    </a:lnTo>
                    <a:lnTo>
                      <a:pt x="0" y="9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283600" y="1724040"/>
                <a:ext cx="138600" cy="32040"/>
              </a:xfrm>
              <a:custGeom>
                <a:avLst/>
                <a:gdLst/>
                <a:ahLst/>
                <a:rect l="0" t="0" r="r" b="b"/>
                <a:pathLst>
                  <a:path w="385" h="89">
                    <a:moveTo>
                      <a:pt x="0" y="89"/>
                    </a:moveTo>
                    <a:lnTo>
                      <a:pt x="0" y="9"/>
                    </a:lnTo>
                    <a:lnTo>
                      <a:pt x="385" y="0"/>
                    </a:lnTo>
                    <a:lnTo>
                      <a:pt x="385" y="7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102520" y="1792440"/>
                <a:ext cx="122400" cy="3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275680" y="1854360"/>
                <a:ext cx="140040" cy="33840"/>
              </a:xfrm>
              <a:custGeom>
                <a:avLst/>
                <a:gdLst/>
                <a:ahLst/>
                <a:rect l="0" t="0" r="r" b="b"/>
                <a:pathLst>
                  <a:path w="389" h="94">
                    <a:moveTo>
                      <a:pt x="0" y="84"/>
                    </a:moveTo>
                    <a:lnTo>
                      <a:pt x="0" y="0"/>
                    </a:lnTo>
                    <a:lnTo>
                      <a:pt x="389" y="10"/>
                    </a:lnTo>
                    <a:lnTo>
                      <a:pt x="380" y="9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097840" y="1914480"/>
                <a:ext cx="125640" cy="33840"/>
              </a:xfrm>
              <a:custGeom>
                <a:avLst/>
                <a:gdLst/>
                <a:ahLst/>
                <a:rect l="0" t="0" r="r" b="b"/>
                <a:pathLst>
                  <a:path w="349" h="94">
                    <a:moveTo>
                      <a:pt x="349" y="94"/>
                    </a:moveTo>
                    <a:lnTo>
                      <a:pt x="349" y="0"/>
                    </a:lnTo>
                    <a:lnTo>
                      <a:pt x="0" y="0"/>
                    </a:lnTo>
                    <a:lnTo>
                      <a:pt x="0" y="83"/>
                    </a:lnTo>
                    <a:lnTo>
                      <a:pt x="349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178840" y="1230480"/>
                <a:ext cx="109800" cy="1281600"/>
              </a:xfrm>
              <a:custGeom>
                <a:avLst/>
                <a:gdLst/>
                <a:ahLst/>
                <a:rect l="0" t="0" r="r" b="b"/>
                <a:pathLst>
                  <a:path w="305" h="3560">
                    <a:moveTo>
                      <a:pt x="227" y="437"/>
                    </a:moveTo>
                    <a:lnTo>
                      <a:pt x="243" y="27"/>
                    </a:lnTo>
                    <a:lnTo>
                      <a:pt x="247" y="15"/>
                    </a:lnTo>
                    <a:lnTo>
                      <a:pt x="255" y="3"/>
                    </a:lnTo>
                    <a:lnTo>
                      <a:pt x="264" y="0"/>
                    </a:lnTo>
                    <a:lnTo>
                      <a:pt x="276" y="0"/>
                    </a:lnTo>
                    <a:lnTo>
                      <a:pt x="288" y="0"/>
                    </a:lnTo>
                    <a:lnTo>
                      <a:pt x="297" y="3"/>
                    </a:lnTo>
                    <a:lnTo>
                      <a:pt x="305" y="15"/>
                    </a:lnTo>
                    <a:lnTo>
                      <a:pt x="305" y="27"/>
                    </a:lnTo>
                    <a:lnTo>
                      <a:pt x="280" y="429"/>
                    </a:lnTo>
                    <a:lnTo>
                      <a:pt x="143" y="3332"/>
                    </a:lnTo>
                    <a:lnTo>
                      <a:pt x="177" y="3347"/>
                    </a:lnTo>
                    <a:lnTo>
                      <a:pt x="206" y="3371"/>
                    </a:lnTo>
                    <a:lnTo>
                      <a:pt x="223" y="3405"/>
                    </a:lnTo>
                    <a:lnTo>
                      <a:pt x="227" y="3440"/>
                    </a:lnTo>
                    <a:lnTo>
                      <a:pt x="218" y="3487"/>
                    </a:lnTo>
                    <a:lnTo>
                      <a:pt x="194" y="3521"/>
                    </a:lnTo>
                    <a:lnTo>
                      <a:pt x="161" y="3549"/>
                    </a:lnTo>
                    <a:lnTo>
                      <a:pt x="119" y="3560"/>
                    </a:lnTo>
                    <a:lnTo>
                      <a:pt x="69" y="3549"/>
                    </a:lnTo>
                    <a:lnTo>
                      <a:pt x="32" y="3521"/>
                    </a:lnTo>
                    <a:lnTo>
                      <a:pt x="8" y="3487"/>
                    </a:lnTo>
                    <a:lnTo>
                      <a:pt x="0" y="3440"/>
                    </a:lnTo>
                    <a:lnTo>
                      <a:pt x="4" y="3405"/>
                    </a:lnTo>
                    <a:lnTo>
                      <a:pt x="24" y="3371"/>
                    </a:lnTo>
                    <a:lnTo>
                      <a:pt x="57" y="3347"/>
                    </a:lnTo>
                    <a:lnTo>
                      <a:pt x="94" y="3332"/>
                    </a:lnTo>
                    <a:lnTo>
                      <a:pt x="227" y="4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8172360" y="939960"/>
              <a:ext cx="51120" cy="76680"/>
            </a:xfrm>
            <a:custGeom>
              <a:avLst/>
              <a:gdLst/>
              <a:ahLst/>
              <a:rect l="0" t="0" r="r" b="b"/>
              <a:pathLst>
                <a:path w="142" h="213">
                  <a:moveTo>
                    <a:pt x="129" y="0"/>
                  </a:moveTo>
                  <a:lnTo>
                    <a:pt x="66" y="47"/>
                  </a:lnTo>
                  <a:lnTo>
                    <a:pt x="41" y="104"/>
                  </a:lnTo>
                  <a:lnTo>
                    <a:pt x="70" y="165"/>
                  </a:lnTo>
                  <a:lnTo>
                    <a:pt x="142" y="213"/>
                  </a:lnTo>
                  <a:lnTo>
                    <a:pt x="66" y="185"/>
                  </a:lnTo>
                  <a:lnTo>
                    <a:pt x="16" y="152"/>
                  </a:lnTo>
                  <a:lnTo>
                    <a:pt x="0" y="120"/>
                  </a:lnTo>
                  <a:lnTo>
                    <a:pt x="4" y="84"/>
                  </a:lnTo>
                  <a:lnTo>
                    <a:pt x="24" y="51"/>
                  </a:lnTo>
                  <a:lnTo>
                    <a:pt x="58" y="23"/>
                  </a:lnTo>
                  <a:lnTo>
                    <a:pt x="96" y="3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44000" y="979560"/>
              <a:ext cx="47880" cy="36720"/>
            </a:xfrm>
            <a:custGeom>
              <a:avLst/>
              <a:gdLst/>
              <a:ahLst/>
              <a:rect l="0" t="0" r="r" b="b"/>
              <a:pathLst>
                <a:path w="133" h="102">
                  <a:moveTo>
                    <a:pt x="0" y="102"/>
                  </a:moveTo>
                  <a:lnTo>
                    <a:pt x="64" y="102"/>
                  </a:lnTo>
                  <a:lnTo>
                    <a:pt x="111" y="78"/>
                  </a:lnTo>
                  <a:lnTo>
                    <a:pt x="133" y="40"/>
                  </a:lnTo>
                  <a:lnTo>
                    <a:pt x="124" y="0"/>
                  </a:lnTo>
                  <a:lnTo>
                    <a:pt x="111" y="32"/>
                  </a:lnTo>
                  <a:lnTo>
                    <a:pt x="94" y="57"/>
                  </a:lnTo>
                  <a:lnTo>
                    <a:pt x="59" y="7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8050320" y="822240"/>
              <a:ext cx="527400" cy="163800"/>
              <a:chOff x="8050320" y="822240"/>
              <a:chExt cx="527400" cy="163800"/>
            </a:xfrm>
          </p:grpSpPr>
          <p:sp>
            <p:nvSpPr>
              <p:cNvPr id="481" name=""/>
              <p:cNvSpPr/>
              <p:nvPr/>
            </p:nvSpPr>
            <p:spPr>
              <a:xfrm>
                <a:off x="8050320" y="822240"/>
                <a:ext cx="527400" cy="163800"/>
              </a:xfrm>
              <a:custGeom>
                <a:avLst/>
                <a:gdLst/>
                <a:ahLst/>
                <a:rect l="0" t="0" r="r" b="b"/>
                <a:pathLst>
                  <a:path w="1465" h="455">
                    <a:moveTo>
                      <a:pt x="1114" y="42"/>
                    </a:moveTo>
                    <a:lnTo>
                      <a:pt x="1073" y="19"/>
                    </a:lnTo>
                    <a:lnTo>
                      <a:pt x="1016" y="11"/>
                    </a:lnTo>
                    <a:lnTo>
                      <a:pt x="934" y="0"/>
                    </a:lnTo>
                    <a:lnTo>
                      <a:pt x="845" y="0"/>
                    </a:lnTo>
                    <a:lnTo>
                      <a:pt x="751" y="0"/>
                    </a:lnTo>
                    <a:lnTo>
                      <a:pt x="668" y="11"/>
                    </a:lnTo>
                    <a:lnTo>
                      <a:pt x="611" y="19"/>
                    </a:lnTo>
                    <a:lnTo>
                      <a:pt x="579" y="34"/>
                    </a:lnTo>
                    <a:lnTo>
                      <a:pt x="546" y="96"/>
                    </a:lnTo>
                    <a:lnTo>
                      <a:pt x="517" y="92"/>
                    </a:lnTo>
                    <a:lnTo>
                      <a:pt x="493" y="96"/>
                    </a:lnTo>
                    <a:lnTo>
                      <a:pt x="468" y="100"/>
                    </a:lnTo>
                    <a:lnTo>
                      <a:pt x="444" y="111"/>
                    </a:lnTo>
                    <a:lnTo>
                      <a:pt x="424" y="30"/>
                    </a:lnTo>
                    <a:lnTo>
                      <a:pt x="395" y="19"/>
                    </a:lnTo>
                    <a:lnTo>
                      <a:pt x="346" y="11"/>
                    </a:lnTo>
                    <a:lnTo>
                      <a:pt x="281" y="3"/>
                    </a:lnTo>
                    <a:lnTo>
                      <a:pt x="212" y="3"/>
                    </a:lnTo>
                    <a:lnTo>
                      <a:pt x="146" y="11"/>
                    </a:lnTo>
                    <a:lnTo>
                      <a:pt x="89" y="11"/>
                    </a:lnTo>
                    <a:lnTo>
                      <a:pt x="44" y="19"/>
                    </a:lnTo>
                    <a:lnTo>
                      <a:pt x="24" y="30"/>
                    </a:lnTo>
                    <a:lnTo>
                      <a:pt x="0" y="111"/>
                    </a:lnTo>
                    <a:lnTo>
                      <a:pt x="12" y="215"/>
                    </a:lnTo>
                    <a:lnTo>
                      <a:pt x="40" y="316"/>
                    </a:lnTo>
                    <a:lnTo>
                      <a:pt x="81" y="374"/>
                    </a:lnTo>
                    <a:lnTo>
                      <a:pt x="106" y="382"/>
                    </a:lnTo>
                    <a:lnTo>
                      <a:pt x="130" y="393"/>
                    </a:lnTo>
                    <a:lnTo>
                      <a:pt x="163" y="405"/>
                    </a:lnTo>
                    <a:lnTo>
                      <a:pt x="195" y="409"/>
                    </a:lnTo>
                    <a:lnTo>
                      <a:pt x="232" y="412"/>
                    </a:lnTo>
                    <a:lnTo>
                      <a:pt x="269" y="412"/>
                    </a:lnTo>
                    <a:lnTo>
                      <a:pt x="309" y="409"/>
                    </a:lnTo>
                    <a:lnTo>
                      <a:pt x="342" y="397"/>
                    </a:lnTo>
                    <a:lnTo>
                      <a:pt x="395" y="351"/>
                    </a:lnTo>
                    <a:lnTo>
                      <a:pt x="428" y="293"/>
                    </a:lnTo>
                    <a:lnTo>
                      <a:pt x="448" y="239"/>
                    </a:lnTo>
                    <a:lnTo>
                      <a:pt x="452" y="219"/>
                    </a:lnTo>
                    <a:lnTo>
                      <a:pt x="477" y="215"/>
                    </a:lnTo>
                    <a:lnTo>
                      <a:pt x="509" y="215"/>
                    </a:lnTo>
                    <a:lnTo>
                      <a:pt x="534" y="219"/>
                    </a:lnTo>
                    <a:lnTo>
                      <a:pt x="562" y="235"/>
                    </a:lnTo>
                    <a:lnTo>
                      <a:pt x="575" y="262"/>
                    </a:lnTo>
                    <a:lnTo>
                      <a:pt x="599" y="312"/>
                    </a:lnTo>
                    <a:lnTo>
                      <a:pt x="644" y="378"/>
                    </a:lnTo>
                    <a:lnTo>
                      <a:pt x="697" y="424"/>
                    </a:lnTo>
                    <a:lnTo>
                      <a:pt x="735" y="439"/>
                    </a:lnTo>
                    <a:lnTo>
                      <a:pt x="783" y="443"/>
                    </a:lnTo>
                    <a:lnTo>
                      <a:pt x="845" y="451"/>
                    </a:lnTo>
                    <a:lnTo>
                      <a:pt x="902" y="455"/>
                    </a:lnTo>
                    <a:lnTo>
                      <a:pt x="967" y="451"/>
                    </a:lnTo>
                    <a:lnTo>
                      <a:pt x="1020" y="443"/>
                    </a:lnTo>
                    <a:lnTo>
                      <a:pt x="1065" y="439"/>
                    </a:lnTo>
                    <a:lnTo>
                      <a:pt x="1089" y="428"/>
                    </a:lnTo>
                    <a:lnTo>
                      <a:pt x="1122" y="378"/>
                    </a:lnTo>
                    <a:lnTo>
                      <a:pt x="1138" y="301"/>
                    </a:lnTo>
                    <a:lnTo>
                      <a:pt x="1151" y="231"/>
                    </a:lnTo>
                    <a:lnTo>
                      <a:pt x="1155" y="200"/>
                    </a:lnTo>
                    <a:lnTo>
                      <a:pt x="1465" y="107"/>
                    </a:lnTo>
                    <a:lnTo>
                      <a:pt x="1465" y="0"/>
                    </a:lnTo>
                    <a:lnTo>
                      <a:pt x="1114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296200" y="839880"/>
                <a:ext cx="100440" cy="130680"/>
              </a:xfrm>
              <a:custGeom>
                <a:avLst/>
                <a:gdLst/>
                <a:ahLst/>
                <a:rect l="0" t="0" r="r" b="b"/>
                <a:pathLst>
                  <a:path w="279" h="363">
                    <a:moveTo>
                      <a:pt x="178" y="0"/>
                    </a:moveTo>
                    <a:lnTo>
                      <a:pt x="279" y="203"/>
                    </a:lnTo>
                    <a:lnTo>
                      <a:pt x="145" y="187"/>
                    </a:lnTo>
                    <a:lnTo>
                      <a:pt x="215" y="355"/>
                    </a:lnTo>
                    <a:lnTo>
                      <a:pt x="186" y="363"/>
                    </a:lnTo>
                    <a:lnTo>
                      <a:pt x="153" y="363"/>
                    </a:lnTo>
                    <a:lnTo>
                      <a:pt x="129" y="355"/>
                    </a:lnTo>
                    <a:lnTo>
                      <a:pt x="97" y="351"/>
                    </a:lnTo>
                    <a:lnTo>
                      <a:pt x="0" y="109"/>
                    </a:lnTo>
                    <a:lnTo>
                      <a:pt x="117" y="117"/>
                    </a:lnTo>
                    <a:lnTo>
                      <a:pt x="56" y="11"/>
                    </a:lnTo>
                    <a:lnTo>
                      <a:pt x="85" y="3"/>
                    </a:lnTo>
                    <a:lnTo>
                      <a:pt x="117" y="3"/>
                    </a:lnTo>
                    <a:lnTo>
                      <a:pt x="149" y="0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8760" y="841320"/>
                <a:ext cx="89280" cy="114840"/>
              </a:xfrm>
              <a:custGeom>
                <a:avLst/>
                <a:gdLst/>
                <a:ahLst/>
                <a:rect l="0" t="0" r="r" b="b"/>
                <a:pathLst>
                  <a:path w="248" h="319">
                    <a:moveTo>
                      <a:pt x="154" y="0"/>
                    </a:moveTo>
                    <a:lnTo>
                      <a:pt x="248" y="182"/>
                    </a:lnTo>
                    <a:lnTo>
                      <a:pt x="130" y="167"/>
                    </a:lnTo>
                    <a:lnTo>
                      <a:pt x="188" y="319"/>
                    </a:lnTo>
                    <a:lnTo>
                      <a:pt x="166" y="319"/>
                    </a:lnTo>
                    <a:lnTo>
                      <a:pt x="138" y="319"/>
                    </a:lnTo>
                    <a:lnTo>
                      <a:pt x="118" y="315"/>
                    </a:lnTo>
                    <a:lnTo>
                      <a:pt x="90" y="311"/>
                    </a:lnTo>
                    <a:lnTo>
                      <a:pt x="0" y="93"/>
                    </a:lnTo>
                    <a:lnTo>
                      <a:pt x="114" y="105"/>
                    </a:lnTo>
                    <a:lnTo>
                      <a:pt x="52" y="11"/>
                    </a:lnTo>
                    <a:lnTo>
                      <a:pt x="73" y="7"/>
                    </a:lnTo>
                    <a:lnTo>
                      <a:pt x="102" y="7"/>
                    </a:lnTo>
                    <a:lnTo>
                      <a:pt x="134" y="0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8143920" y="1052640"/>
              <a:ext cx="257400" cy="71640"/>
            </a:xfrm>
            <a:custGeom>
              <a:avLst/>
              <a:gdLst/>
              <a:ahLst/>
              <a:rect l="0" t="0" r="r" b="b"/>
              <a:pathLst>
                <a:path w="715" h="199">
                  <a:moveTo>
                    <a:pt x="0" y="186"/>
                  </a:moveTo>
                  <a:lnTo>
                    <a:pt x="198" y="39"/>
                  </a:lnTo>
                  <a:lnTo>
                    <a:pt x="251" y="0"/>
                  </a:lnTo>
                  <a:lnTo>
                    <a:pt x="715" y="199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8153280" y="2162160"/>
            <a:ext cx="140040" cy="321120"/>
          </a:xfrm>
          <a:custGeom>
            <a:avLst/>
            <a:gdLst/>
            <a:ahLst/>
            <a:rect l="0" t="0" r="r" b="b"/>
            <a:pathLst>
              <a:path w="389" h="892">
                <a:moveTo>
                  <a:pt x="261" y="0"/>
                </a:moveTo>
                <a:lnTo>
                  <a:pt x="239" y="804"/>
                </a:lnTo>
                <a:lnTo>
                  <a:pt x="300" y="800"/>
                </a:lnTo>
                <a:lnTo>
                  <a:pt x="349" y="800"/>
                </a:lnTo>
                <a:lnTo>
                  <a:pt x="380" y="800"/>
                </a:lnTo>
                <a:lnTo>
                  <a:pt x="389" y="813"/>
                </a:lnTo>
                <a:lnTo>
                  <a:pt x="380" y="822"/>
                </a:lnTo>
                <a:lnTo>
                  <a:pt x="336" y="844"/>
                </a:lnTo>
                <a:lnTo>
                  <a:pt x="283" y="857"/>
                </a:lnTo>
                <a:lnTo>
                  <a:pt x="212" y="875"/>
                </a:lnTo>
                <a:lnTo>
                  <a:pt x="123" y="888"/>
                </a:lnTo>
                <a:lnTo>
                  <a:pt x="57" y="892"/>
                </a:lnTo>
                <a:lnTo>
                  <a:pt x="13" y="892"/>
                </a:lnTo>
                <a:lnTo>
                  <a:pt x="0" y="883"/>
                </a:lnTo>
                <a:lnTo>
                  <a:pt x="0" y="870"/>
                </a:lnTo>
                <a:lnTo>
                  <a:pt x="35" y="853"/>
                </a:lnTo>
                <a:lnTo>
                  <a:pt x="88" y="835"/>
                </a:lnTo>
                <a:lnTo>
                  <a:pt x="154" y="822"/>
                </a:lnTo>
                <a:lnTo>
                  <a:pt x="167" y="17"/>
                </a:lnTo>
                <a:lnTo>
                  <a:pt x="261" y="0"/>
                </a:lnTo>
                <a:close/>
              </a:path>
            </a:pathLst>
          </a:custGeom>
          <a:solidFill>
            <a:srgbClr val="ff00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28600" y="3809880"/>
            <a:ext cx="2362680" cy="2819880"/>
          </a:xfrm>
          <a:custGeom>
            <a:avLst/>
            <a:gdLst/>
            <a:ahLst/>
            <a:rect l="0" t="0" r="r" b="b"/>
            <a:pathLst>
              <a:path w="6563" h="7833">
                <a:moveTo>
                  <a:pt x="6563" y="7050"/>
                </a:moveTo>
                <a:lnTo>
                  <a:pt x="6563" y="1566"/>
                </a:lnTo>
                <a:lnTo>
                  <a:pt x="5907" y="783"/>
                </a:lnTo>
                <a:lnTo>
                  <a:pt x="5251" y="783"/>
                </a:lnTo>
                <a:lnTo>
                  <a:pt x="5907" y="0"/>
                </a:lnTo>
                <a:lnTo>
                  <a:pt x="4594" y="783"/>
                </a:lnTo>
                <a:lnTo>
                  <a:pt x="656" y="783"/>
                </a:lnTo>
                <a:lnTo>
                  <a:pt x="0" y="1566"/>
                </a:lnTo>
                <a:lnTo>
                  <a:pt x="0" y="7050"/>
                </a:lnTo>
                <a:lnTo>
                  <a:pt x="656" y="7833"/>
                </a:lnTo>
                <a:lnTo>
                  <a:pt x="5907" y="7833"/>
                </a:lnTo>
                <a:lnTo>
                  <a:pt x="6563" y="705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5920" y="4427640"/>
            <a:ext cx="212580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HAHAHAHAH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886040" y="1905120"/>
            <a:ext cx="3829320" cy="4405680"/>
            <a:chOff x="1886040" y="1905120"/>
            <a:chExt cx="3829320" cy="4405680"/>
          </a:xfrm>
        </p:grpSpPr>
        <p:sp>
          <p:nvSpPr>
            <p:cNvPr id="489" name=""/>
            <p:cNvSpPr/>
            <p:nvPr/>
          </p:nvSpPr>
          <p:spPr>
            <a:xfrm>
              <a:off x="3456000" y="3638520"/>
              <a:ext cx="810000" cy="1422720"/>
            </a:xfrm>
            <a:custGeom>
              <a:avLst/>
              <a:gdLst/>
              <a:ahLst/>
              <a:rect l="0" t="0" r="r" b="b"/>
              <a:pathLst>
                <a:path w="2250" h="3952">
                  <a:moveTo>
                    <a:pt x="1258" y="186"/>
                  </a:moveTo>
                  <a:lnTo>
                    <a:pt x="945" y="0"/>
                  </a:lnTo>
                  <a:lnTo>
                    <a:pt x="539" y="0"/>
                  </a:lnTo>
                  <a:lnTo>
                    <a:pt x="226" y="154"/>
                  </a:lnTo>
                  <a:lnTo>
                    <a:pt x="11" y="442"/>
                  </a:lnTo>
                  <a:lnTo>
                    <a:pt x="0" y="634"/>
                  </a:lnTo>
                  <a:lnTo>
                    <a:pt x="63" y="879"/>
                  </a:lnTo>
                  <a:lnTo>
                    <a:pt x="226" y="1061"/>
                  </a:lnTo>
                  <a:lnTo>
                    <a:pt x="486" y="1381"/>
                  </a:lnTo>
                  <a:lnTo>
                    <a:pt x="655" y="1770"/>
                  </a:lnTo>
                  <a:lnTo>
                    <a:pt x="754" y="2107"/>
                  </a:lnTo>
                  <a:lnTo>
                    <a:pt x="754" y="2517"/>
                  </a:lnTo>
                  <a:lnTo>
                    <a:pt x="621" y="2923"/>
                  </a:lnTo>
                  <a:lnTo>
                    <a:pt x="621" y="3317"/>
                  </a:lnTo>
                  <a:lnTo>
                    <a:pt x="702" y="3637"/>
                  </a:lnTo>
                  <a:lnTo>
                    <a:pt x="928" y="3866"/>
                  </a:lnTo>
                  <a:lnTo>
                    <a:pt x="1177" y="3952"/>
                  </a:lnTo>
                  <a:lnTo>
                    <a:pt x="1473" y="3909"/>
                  </a:lnTo>
                  <a:lnTo>
                    <a:pt x="1804" y="3834"/>
                  </a:lnTo>
                  <a:lnTo>
                    <a:pt x="2036" y="3621"/>
                  </a:lnTo>
                  <a:lnTo>
                    <a:pt x="2164" y="3120"/>
                  </a:lnTo>
                  <a:lnTo>
                    <a:pt x="2250" y="2683"/>
                  </a:lnTo>
                  <a:lnTo>
                    <a:pt x="2181" y="2075"/>
                  </a:lnTo>
                  <a:lnTo>
                    <a:pt x="2019" y="1562"/>
                  </a:lnTo>
                  <a:lnTo>
                    <a:pt x="1787" y="1034"/>
                  </a:lnTo>
                  <a:lnTo>
                    <a:pt x="1508" y="490"/>
                  </a:lnTo>
                  <a:lnTo>
                    <a:pt x="1258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25840" y="1905120"/>
              <a:ext cx="373320" cy="451080"/>
            </a:xfrm>
            <a:custGeom>
              <a:avLst/>
              <a:gdLst/>
              <a:ahLst/>
              <a:rect l="0" t="0" r="r" b="b"/>
              <a:pathLst>
                <a:path w="1037" h="1253">
                  <a:moveTo>
                    <a:pt x="1037" y="1226"/>
                  </a:moveTo>
                  <a:lnTo>
                    <a:pt x="885" y="752"/>
                  </a:lnTo>
                  <a:lnTo>
                    <a:pt x="477" y="271"/>
                  </a:lnTo>
                  <a:lnTo>
                    <a:pt x="110" y="0"/>
                  </a:lnTo>
                  <a:lnTo>
                    <a:pt x="0" y="101"/>
                  </a:lnTo>
                  <a:lnTo>
                    <a:pt x="395" y="378"/>
                  </a:lnTo>
                  <a:lnTo>
                    <a:pt x="542" y="543"/>
                  </a:lnTo>
                  <a:lnTo>
                    <a:pt x="757" y="864"/>
                  </a:lnTo>
                  <a:lnTo>
                    <a:pt x="874" y="1253"/>
                  </a:lnTo>
                  <a:lnTo>
                    <a:pt x="1037" y="1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86040" y="2427120"/>
              <a:ext cx="616320" cy="284400"/>
            </a:xfrm>
            <a:custGeom>
              <a:avLst/>
              <a:gdLst/>
              <a:ahLst/>
              <a:rect l="0" t="0" r="r" b="b"/>
              <a:pathLst>
                <a:path w="1712" h="790">
                  <a:moveTo>
                    <a:pt x="1712" y="689"/>
                  </a:moveTo>
                  <a:lnTo>
                    <a:pt x="1218" y="368"/>
                  </a:lnTo>
                  <a:lnTo>
                    <a:pt x="609" y="122"/>
                  </a:lnTo>
                  <a:lnTo>
                    <a:pt x="69" y="0"/>
                  </a:lnTo>
                  <a:lnTo>
                    <a:pt x="0" y="197"/>
                  </a:lnTo>
                  <a:lnTo>
                    <a:pt x="760" y="336"/>
                  </a:lnTo>
                  <a:lnTo>
                    <a:pt x="1388" y="641"/>
                  </a:lnTo>
                  <a:lnTo>
                    <a:pt x="1660" y="790"/>
                  </a:lnTo>
                  <a:lnTo>
                    <a:pt x="1712" y="6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63800" y="3220920"/>
              <a:ext cx="609840" cy="402120"/>
            </a:xfrm>
            <a:custGeom>
              <a:avLst/>
              <a:gdLst/>
              <a:ahLst/>
              <a:rect l="0" t="0" r="r" b="b"/>
              <a:pathLst>
                <a:path w="1694" h="1117">
                  <a:moveTo>
                    <a:pt x="1526" y="0"/>
                  </a:moveTo>
                  <a:lnTo>
                    <a:pt x="853" y="319"/>
                  </a:lnTo>
                  <a:lnTo>
                    <a:pt x="307" y="649"/>
                  </a:lnTo>
                  <a:lnTo>
                    <a:pt x="0" y="921"/>
                  </a:lnTo>
                  <a:lnTo>
                    <a:pt x="278" y="1117"/>
                  </a:lnTo>
                  <a:lnTo>
                    <a:pt x="620" y="649"/>
                  </a:lnTo>
                  <a:lnTo>
                    <a:pt x="1184" y="346"/>
                  </a:lnTo>
                  <a:lnTo>
                    <a:pt x="1694" y="74"/>
                  </a:lnTo>
                  <a:lnTo>
                    <a:pt x="15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27360" y="3784680"/>
              <a:ext cx="1020960" cy="1035360"/>
            </a:xfrm>
            <a:custGeom>
              <a:avLst/>
              <a:gdLst/>
              <a:ahLst/>
              <a:rect l="0" t="0" r="r" b="b"/>
              <a:pathLst>
                <a:path w="2836" h="2876">
                  <a:moveTo>
                    <a:pt x="2442" y="181"/>
                  </a:moveTo>
                  <a:lnTo>
                    <a:pt x="2273" y="58"/>
                  </a:lnTo>
                  <a:lnTo>
                    <a:pt x="1949" y="0"/>
                  </a:lnTo>
                  <a:lnTo>
                    <a:pt x="1549" y="213"/>
                  </a:lnTo>
                  <a:lnTo>
                    <a:pt x="956" y="453"/>
                  </a:lnTo>
                  <a:lnTo>
                    <a:pt x="498" y="874"/>
                  </a:lnTo>
                  <a:lnTo>
                    <a:pt x="133" y="1392"/>
                  </a:lnTo>
                  <a:lnTo>
                    <a:pt x="0" y="1697"/>
                  </a:lnTo>
                  <a:lnTo>
                    <a:pt x="34" y="1846"/>
                  </a:lnTo>
                  <a:lnTo>
                    <a:pt x="330" y="2028"/>
                  </a:lnTo>
                  <a:lnTo>
                    <a:pt x="1026" y="2118"/>
                  </a:lnTo>
                  <a:lnTo>
                    <a:pt x="1781" y="2086"/>
                  </a:lnTo>
                  <a:lnTo>
                    <a:pt x="2076" y="2209"/>
                  </a:lnTo>
                  <a:lnTo>
                    <a:pt x="2042" y="2417"/>
                  </a:lnTo>
                  <a:lnTo>
                    <a:pt x="1746" y="2721"/>
                  </a:lnTo>
                  <a:lnTo>
                    <a:pt x="1850" y="2785"/>
                  </a:lnTo>
                  <a:lnTo>
                    <a:pt x="2181" y="2481"/>
                  </a:lnTo>
                  <a:lnTo>
                    <a:pt x="2245" y="2513"/>
                  </a:lnTo>
                  <a:lnTo>
                    <a:pt x="2273" y="2876"/>
                  </a:lnTo>
                  <a:lnTo>
                    <a:pt x="2372" y="2876"/>
                  </a:lnTo>
                  <a:lnTo>
                    <a:pt x="2372" y="2454"/>
                  </a:lnTo>
                  <a:lnTo>
                    <a:pt x="2442" y="2417"/>
                  </a:lnTo>
                  <a:lnTo>
                    <a:pt x="2708" y="2662"/>
                  </a:lnTo>
                  <a:lnTo>
                    <a:pt x="2772" y="2572"/>
                  </a:lnTo>
                  <a:lnTo>
                    <a:pt x="2476" y="2332"/>
                  </a:lnTo>
                  <a:lnTo>
                    <a:pt x="2476" y="2241"/>
                  </a:lnTo>
                  <a:lnTo>
                    <a:pt x="2836" y="2086"/>
                  </a:lnTo>
                  <a:lnTo>
                    <a:pt x="2801" y="2028"/>
                  </a:lnTo>
                  <a:lnTo>
                    <a:pt x="2372" y="2086"/>
                  </a:lnTo>
                  <a:lnTo>
                    <a:pt x="2111" y="2028"/>
                  </a:lnTo>
                  <a:lnTo>
                    <a:pt x="1850" y="1937"/>
                  </a:lnTo>
                  <a:lnTo>
                    <a:pt x="1514" y="1910"/>
                  </a:lnTo>
                  <a:lnTo>
                    <a:pt x="1090" y="1878"/>
                  </a:lnTo>
                  <a:lnTo>
                    <a:pt x="661" y="1814"/>
                  </a:lnTo>
                  <a:lnTo>
                    <a:pt x="394" y="1665"/>
                  </a:lnTo>
                  <a:lnTo>
                    <a:pt x="394" y="1569"/>
                  </a:lnTo>
                  <a:lnTo>
                    <a:pt x="591" y="1301"/>
                  </a:lnTo>
                  <a:lnTo>
                    <a:pt x="956" y="1061"/>
                  </a:lnTo>
                  <a:lnTo>
                    <a:pt x="1351" y="874"/>
                  </a:lnTo>
                  <a:lnTo>
                    <a:pt x="1978" y="725"/>
                  </a:lnTo>
                  <a:lnTo>
                    <a:pt x="2337" y="544"/>
                  </a:lnTo>
                  <a:lnTo>
                    <a:pt x="2442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21000" y="2727360"/>
              <a:ext cx="1235520" cy="1070280"/>
            </a:xfrm>
            <a:custGeom>
              <a:avLst/>
              <a:gdLst/>
              <a:ahLst/>
              <a:rect l="0" t="0" r="r" b="b"/>
              <a:pathLst>
                <a:path w="3432" h="2973">
                  <a:moveTo>
                    <a:pt x="1374" y="2552"/>
                  </a:moveTo>
                  <a:lnTo>
                    <a:pt x="1739" y="2387"/>
                  </a:lnTo>
                  <a:lnTo>
                    <a:pt x="2394" y="2312"/>
                  </a:lnTo>
                  <a:lnTo>
                    <a:pt x="2772" y="2184"/>
                  </a:lnTo>
                  <a:lnTo>
                    <a:pt x="2957" y="1977"/>
                  </a:lnTo>
                  <a:lnTo>
                    <a:pt x="3021" y="1508"/>
                  </a:lnTo>
                  <a:lnTo>
                    <a:pt x="2969" y="1310"/>
                  </a:lnTo>
                  <a:lnTo>
                    <a:pt x="2627" y="1118"/>
                  </a:lnTo>
                  <a:lnTo>
                    <a:pt x="2203" y="964"/>
                  </a:lnTo>
                  <a:lnTo>
                    <a:pt x="1687" y="964"/>
                  </a:lnTo>
                  <a:lnTo>
                    <a:pt x="1148" y="1022"/>
                  </a:lnTo>
                  <a:lnTo>
                    <a:pt x="997" y="916"/>
                  </a:lnTo>
                  <a:lnTo>
                    <a:pt x="846" y="633"/>
                  </a:lnTo>
                  <a:lnTo>
                    <a:pt x="550" y="468"/>
                  </a:lnTo>
                  <a:lnTo>
                    <a:pt x="254" y="468"/>
                  </a:lnTo>
                  <a:lnTo>
                    <a:pt x="63" y="527"/>
                  </a:lnTo>
                  <a:lnTo>
                    <a:pt x="0" y="372"/>
                  </a:lnTo>
                  <a:lnTo>
                    <a:pt x="162" y="26"/>
                  </a:lnTo>
                  <a:lnTo>
                    <a:pt x="359" y="0"/>
                  </a:lnTo>
                  <a:lnTo>
                    <a:pt x="718" y="207"/>
                  </a:lnTo>
                  <a:lnTo>
                    <a:pt x="951" y="388"/>
                  </a:lnTo>
                  <a:lnTo>
                    <a:pt x="1160" y="692"/>
                  </a:lnTo>
                  <a:lnTo>
                    <a:pt x="1212" y="798"/>
                  </a:lnTo>
                  <a:lnTo>
                    <a:pt x="1623" y="719"/>
                  </a:lnTo>
                  <a:lnTo>
                    <a:pt x="2185" y="692"/>
                  </a:lnTo>
                  <a:lnTo>
                    <a:pt x="2662" y="782"/>
                  </a:lnTo>
                  <a:lnTo>
                    <a:pt x="3067" y="964"/>
                  </a:lnTo>
                  <a:lnTo>
                    <a:pt x="3363" y="1219"/>
                  </a:lnTo>
                  <a:lnTo>
                    <a:pt x="3432" y="1416"/>
                  </a:lnTo>
                  <a:lnTo>
                    <a:pt x="3334" y="1966"/>
                  </a:lnTo>
                  <a:lnTo>
                    <a:pt x="3102" y="2371"/>
                  </a:lnTo>
                  <a:lnTo>
                    <a:pt x="2475" y="2776"/>
                  </a:lnTo>
                  <a:lnTo>
                    <a:pt x="1785" y="2973"/>
                  </a:lnTo>
                  <a:lnTo>
                    <a:pt x="1426" y="2946"/>
                  </a:lnTo>
                  <a:lnTo>
                    <a:pt x="1310" y="2760"/>
                  </a:lnTo>
                  <a:lnTo>
                    <a:pt x="1374" y="25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59280" y="4853160"/>
              <a:ext cx="808560" cy="1337040"/>
            </a:xfrm>
            <a:custGeom>
              <a:avLst/>
              <a:gdLst/>
              <a:ahLst/>
              <a:rect l="0" t="0" r="r" b="b"/>
              <a:pathLst>
                <a:path w="2246" h="3714">
                  <a:moveTo>
                    <a:pt x="1253" y="452"/>
                  </a:moveTo>
                  <a:lnTo>
                    <a:pt x="795" y="90"/>
                  </a:lnTo>
                  <a:lnTo>
                    <a:pt x="330" y="0"/>
                  </a:lnTo>
                  <a:lnTo>
                    <a:pt x="0" y="239"/>
                  </a:lnTo>
                  <a:lnTo>
                    <a:pt x="266" y="574"/>
                  </a:lnTo>
                  <a:lnTo>
                    <a:pt x="662" y="723"/>
                  </a:lnTo>
                  <a:lnTo>
                    <a:pt x="1584" y="1208"/>
                  </a:lnTo>
                  <a:lnTo>
                    <a:pt x="1811" y="1357"/>
                  </a:lnTo>
                  <a:lnTo>
                    <a:pt x="1811" y="1511"/>
                  </a:lnTo>
                  <a:lnTo>
                    <a:pt x="1450" y="1841"/>
                  </a:lnTo>
                  <a:lnTo>
                    <a:pt x="824" y="2389"/>
                  </a:lnTo>
                  <a:lnTo>
                    <a:pt x="498" y="2810"/>
                  </a:lnTo>
                  <a:lnTo>
                    <a:pt x="498" y="2991"/>
                  </a:lnTo>
                  <a:lnTo>
                    <a:pt x="527" y="3081"/>
                  </a:lnTo>
                  <a:lnTo>
                    <a:pt x="824" y="3108"/>
                  </a:lnTo>
                  <a:lnTo>
                    <a:pt x="1323" y="3294"/>
                  </a:lnTo>
                  <a:lnTo>
                    <a:pt x="1653" y="3566"/>
                  </a:lnTo>
                  <a:lnTo>
                    <a:pt x="1881" y="3714"/>
                  </a:lnTo>
                  <a:lnTo>
                    <a:pt x="2014" y="3683"/>
                  </a:lnTo>
                  <a:lnTo>
                    <a:pt x="2211" y="3353"/>
                  </a:lnTo>
                  <a:lnTo>
                    <a:pt x="2043" y="3204"/>
                  </a:lnTo>
                  <a:lnTo>
                    <a:pt x="1514" y="3050"/>
                  </a:lnTo>
                  <a:lnTo>
                    <a:pt x="992" y="2933"/>
                  </a:lnTo>
                  <a:lnTo>
                    <a:pt x="760" y="2933"/>
                  </a:lnTo>
                  <a:lnTo>
                    <a:pt x="691" y="2874"/>
                  </a:lnTo>
                  <a:lnTo>
                    <a:pt x="824" y="2719"/>
                  </a:lnTo>
                  <a:lnTo>
                    <a:pt x="1189" y="2474"/>
                  </a:lnTo>
                  <a:lnTo>
                    <a:pt x="1682" y="2203"/>
                  </a:lnTo>
                  <a:lnTo>
                    <a:pt x="2113" y="1814"/>
                  </a:lnTo>
                  <a:lnTo>
                    <a:pt x="2246" y="1511"/>
                  </a:lnTo>
                  <a:lnTo>
                    <a:pt x="2182" y="1208"/>
                  </a:lnTo>
                  <a:lnTo>
                    <a:pt x="1852" y="877"/>
                  </a:lnTo>
                  <a:lnTo>
                    <a:pt x="1555" y="638"/>
                  </a:lnTo>
                  <a:lnTo>
                    <a:pt x="1253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581280" y="4854600"/>
              <a:ext cx="721080" cy="1456200"/>
            </a:xfrm>
            <a:custGeom>
              <a:avLst/>
              <a:gdLst/>
              <a:ahLst/>
              <a:rect l="0" t="0" r="r" b="b"/>
              <a:pathLst>
                <a:path w="2003" h="4045">
                  <a:moveTo>
                    <a:pt x="1407" y="814"/>
                  </a:moveTo>
                  <a:lnTo>
                    <a:pt x="1048" y="356"/>
                  </a:lnTo>
                  <a:lnTo>
                    <a:pt x="786" y="26"/>
                  </a:lnTo>
                  <a:lnTo>
                    <a:pt x="457" y="0"/>
                  </a:lnTo>
                  <a:lnTo>
                    <a:pt x="231" y="148"/>
                  </a:lnTo>
                  <a:lnTo>
                    <a:pt x="266" y="420"/>
                  </a:lnTo>
                  <a:lnTo>
                    <a:pt x="561" y="691"/>
                  </a:lnTo>
                  <a:lnTo>
                    <a:pt x="1378" y="1506"/>
                  </a:lnTo>
                  <a:lnTo>
                    <a:pt x="1574" y="1778"/>
                  </a:lnTo>
                  <a:lnTo>
                    <a:pt x="1574" y="1905"/>
                  </a:lnTo>
                  <a:lnTo>
                    <a:pt x="1343" y="2113"/>
                  </a:lnTo>
                  <a:lnTo>
                    <a:pt x="688" y="2352"/>
                  </a:lnTo>
                  <a:lnTo>
                    <a:pt x="196" y="2597"/>
                  </a:lnTo>
                  <a:lnTo>
                    <a:pt x="63" y="2778"/>
                  </a:lnTo>
                  <a:lnTo>
                    <a:pt x="0" y="2985"/>
                  </a:lnTo>
                  <a:lnTo>
                    <a:pt x="34" y="3444"/>
                  </a:lnTo>
                  <a:lnTo>
                    <a:pt x="127" y="3715"/>
                  </a:lnTo>
                  <a:lnTo>
                    <a:pt x="393" y="4045"/>
                  </a:lnTo>
                  <a:lnTo>
                    <a:pt x="624" y="4045"/>
                  </a:lnTo>
                  <a:lnTo>
                    <a:pt x="885" y="3891"/>
                  </a:lnTo>
                  <a:lnTo>
                    <a:pt x="885" y="3774"/>
                  </a:lnTo>
                  <a:lnTo>
                    <a:pt x="653" y="3657"/>
                  </a:lnTo>
                  <a:lnTo>
                    <a:pt x="393" y="3503"/>
                  </a:lnTo>
                  <a:lnTo>
                    <a:pt x="231" y="3316"/>
                  </a:lnTo>
                  <a:lnTo>
                    <a:pt x="196" y="2927"/>
                  </a:lnTo>
                  <a:lnTo>
                    <a:pt x="329" y="2778"/>
                  </a:lnTo>
                  <a:lnTo>
                    <a:pt x="590" y="2656"/>
                  </a:lnTo>
                  <a:lnTo>
                    <a:pt x="1083" y="2507"/>
                  </a:lnTo>
                  <a:lnTo>
                    <a:pt x="1800" y="2262"/>
                  </a:lnTo>
                  <a:lnTo>
                    <a:pt x="2003" y="2081"/>
                  </a:lnTo>
                  <a:lnTo>
                    <a:pt x="2003" y="1810"/>
                  </a:lnTo>
                  <a:lnTo>
                    <a:pt x="1800" y="1448"/>
                  </a:lnTo>
                  <a:lnTo>
                    <a:pt x="1609" y="1144"/>
                  </a:lnTo>
                  <a:lnTo>
                    <a:pt x="1407" y="8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70600" y="3516480"/>
              <a:ext cx="644760" cy="190800"/>
            </a:xfrm>
            <a:custGeom>
              <a:avLst/>
              <a:gdLst/>
              <a:ahLst/>
              <a:rect l="0" t="0" r="r" b="b"/>
              <a:pathLst>
                <a:path w="1791" h="530">
                  <a:moveTo>
                    <a:pt x="28" y="0"/>
                  </a:moveTo>
                  <a:lnTo>
                    <a:pt x="619" y="0"/>
                  </a:lnTo>
                  <a:lnTo>
                    <a:pt x="1281" y="137"/>
                  </a:lnTo>
                  <a:lnTo>
                    <a:pt x="1791" y="334"/>
                  </a:lnTo>
                  <a:lnTo>
                    <a:pt x="1727" y="530"/>
                  </a:lnTo>
                  <a:lnTo>
                    <a:pt x="1014" y="227"/>
                  </a:lnTo>
                  <a:lnTo>
                    <a:pt x="324" y="137"/>
                  </a:lnTo>
                  <a:lnTo>
                    <a:pt x="0" y="10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896000" y="3840120"/>
              <a:ext cx="608400" cy="403560"/>
            </a:xfrm>
            <a:custGeom>
              <a:avLst/>
              <a:gdLst/>
              <a:ahLst/>
              <a:rect l="0" t="0" r="r" b="b"/>
              <a:pathLst>
                <a:path w="1690" h="1121">
                  <a:moveTo>
                    <a:pt x="161" y="0"/>
                  </a:moveTo>
                  <a:lnTo>
                    <a:pt x="833" y="314"/>
                  </a:lnTo>
                  <a:lnTo>
                    <a:pt x="1378" y="646"/>
                  </a:lnTo>
                  <a:lnTo>
                    <a:pt x="1690" y="918"/>
                  </a:lnTo>
                  <a:lnTo>
                    <a:pt x="1407" y="1121"/>
                  </a:lnTo>
                  <a:lnTo>
                    <a:pt x="1065" y="646"/>
                  </a:lnTo>
                  <a:lnTo>
                    <a:pt x="504" y="346"/>
                  </a:lnTo>
                  <a:lnTo>
                    <a:pt x="0" y="69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2655720" y="2448000"/>
              <a:ext cx="1032480" cy="1197360"/>
              <a:chOff x="2655720" y="2448000"/>
              <a:chExt cx="1032480" cy="1197360"/>
            </a:xfrm>
          </p:grpSpPr>
          <p:sp>
            <p:nvSpPr>
              <p:cNvPr id="500" name=""/>
              <p:cNvSpPr/>
              <p:nvPr/>
            </p:nvSpPr>
            <p:spPr>
              <a:xfrm>
                <a:off x="2789280" y="2448000"/>
                <a:ext cx="898920" cy="1197360"/>
              </a:xfrm>
              <a:custGeom>
                <a:avLst/>
                <a:gdLst/>
                <a:ahLst/>
                <a:rect l="0" t="0" r="r" b="b"/>
                <a:pathLst>
                  <a:path w="2497" h="3326">
                    <a:moveTo>
                      <a:pt x="1512" y="965"/>
                    </a:moveTo>
                    <a:lnTo>
                      <a:pt x="1199" y="708"/>
                    </a:lnTo>
                    <a:lnTo>
                      <a:pt x="794" y="618"/>
                    </a:lnTo>
                    <a:lnTo>
                      <a:pt x="422" y="698"/>
                    </a:lnTo>
                    <a:lnTo>
                      <a:pt x="127" y="917"/>
                    </a:lnTo>
                    <a:lnTo>
                      <a:pt x="0" y="1317"/>
                    </a:lnTo>
                    <a:lnTo>
                      <a:pt x="81" y="1892"/>
                    </a:lnTo>
                    <a:lnTo>
                      <a:pt x="422" y="2527"/>
                    </a:lnTo>
                    <a:lnTo>
                      <a:pt x="858" y="3028"/>
                    </a:lnTo>
                    <a:lnTo>
                      <a:pt x="1251" y="3252"/>
                    </a:lnTo>
                    <a:lnTo>
                      <a:pt x="1691" y="3326"/>
                    </a:lnTo>
                    <a:lnTo>
                      <a:pt x="2057" y="3284"/>
                    </a:lnTo>
                    <a:lnTo>
                      <a:pt x="2451" y="2996"/>
                    </a:lnTo>
                    <a:lnTo>
                      <a:pt x="2497" y="2692"/>
                    </a:lnTo>
                    <a:lnTo>
                      <a:pt x="2434" y="2206"/>
                    </a:lnTo>
                    <a:lnTo>
                      <a:pt x="2185" y="2361"/>
                    </a:lnTo>
                    <a:lnTo>
                      <a:pt x="1761" y="2452"/>
                    </a:lnTo>
                    <a:lnTo>
                      <a:pt x="1060" y="2249"/>
                    </a:lnTo>
                    <a:lnTo>
                      <a:pt x="1529" y="2057"/>
                    </a:lnTo>
                    <a:lnTo>
                      <a:pt x="1773" y="1913"/>
                    </a:lnTo>
                    <a:lnTo>
                      <a:pt x="2167" y="1620"/>
                    </a:lnTo>
                    <a:lnTo>
                      <a:pt x="1807" y="1119"/>
                    </a:lnTo>
                    <a:lnTo>
                      <a:pt x="2138" y="223"/>
                    </a:lnTo>
                    <a:lnTo>
                      <a:pt x="2092" y="69"/>
                    </a:lnTo>
                    <a:lnTo>
                      <a:pt x="1907" y="0"/>
                    </a:lnTo>
                    <a:lnTo>
                      <a:pt x="1807" y="101"/>
                    </a:lnTo>
                    <a:lnTo>
                      <a:pt x="1512" y="965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655720" y="2462040"/>
                <a:ext cx="659160" cy="914760"/>
              </a:xfrm>
              <a:custGeom>
                <a:avLst/>
                <a:gdLst/>
                <a:ahLst/>
                <a:rect l="0" t="0" r="r" b="b"/>
                <a:pathLst>
                  <a:path w="1831" h="2541">
                    <a:moveTo>
                      <a:pt x="418" y="1390"/>
                    </a:moveTo>
                    <a:lnTo>
                      <a:pt x="906" y="766"/>
                    </a:lnTo>
                    <a:lnTo>
                      <a:pt x="1482" y="271"/>
                    </a:lnTo>
                    <a:lnTo>
                      <a:pt x="1831" y="0"/>
                    </a:lnTo>
                    <a:lnTo>
                      <a:pt x="1308" y="15"/>
                    </a:lnTo>
                    <a:lnTo>
                      <a:pt x="610" y="287"/>
                    </a:lnTo>
                    <a:lnTo>
                      <a:pt x="261" y="638"/>
                    </a:lnTo>
                    <a:lnTo>
                      <a:pt x="104" y="1118"/>
                    </a:lnTo>
                    <a:lnTo>
                      <a:pt x="244" y="1390"/>
                    </a:lnTo>
                    <a:lnTo>
                      <a:pt x="0" y="1582"/>
                    </a:lnTo>
                    <a:lnTo>
                      <a:pt x="87" y="2013"/>
                    </a:lnTo>
                    <a:lnTo>
                      <a:pt x="366" y="2317"/>
                    </a:lnTo>
                    <a:lnTo>
                      <a:pt x="836" y="2541"/>
                    </a:lnTo>
                    <a:lnTo>
                      <a:pt x="714" y="2349"/>
                    </a:lnTo>
                    <a:lnTo>
                      <a:pt x="836" y="2269"/>
                    </a:lnTo>
                    <a:lnTo>
                      <a:pt x="1046" y="2269"/>
                    </a:lnTo>
                    <a:lnTo>
                      <a:pt x="766" y="2061"/>
                    </a:lnTo>
                    <a:lnTo>
                      <a:pt x="819" y="1678"/>
                    </a:lnTo>
                    <a:lnTo>
                      <a:pt x="418" y="1390"/>
                    </a:lnTo>
                    <a:close/>
                  </a:path>
                </a:pathLst>
              </a:custGeom>
              <a:solidFill>
                <a:srgbClr val="cc990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063960" y="2819520"/>
                <a:ext cx="225720" cy="184680"/>
              </a:xfrm>
              <a:custGeom>
                <a:avLst/>
                <a:gdLst/>
                <a:ahLst/>
                <a:rect l="0" t="0" r="r" b="b"/>
                <a:pathLst>
                  <a:path fill="none" w="627" h="513">
                    <a:moveTo>
                      <a:pt x="627" y="240"/>
                    </a:moveTo>
                    <a:lnTo>
                      <a:pt x="435" y="95"/>
                    </a:lnTo>
                    <a:lnTo>
                      <a:pt x="243" y="15"/>
                    </a:lnTo>
                    <a:lnTo>
                      <a:pt x="69" y="0"/>
                    </a:lnTo>
                    <a:lnTo>
                      <a:pt x="0" y="63"/>
                    </a:lnTo>
                    <a:lnTo>
                      <a:pt x="0" y="160"/>
                    </a:lnTo>
                    <a:lnTo>
                      <a:pt x="52" y="320"/>
                    </a:lnTo>
                    <a:lnTo>
                      <a:pt x="226" y="449"/>
                    </a:lnTo>
                    <a:lnTo>
                      <a:pt x="348" y="513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"/>
          <p:cNvGrpSpPr/>
          <p:nvPr/>
        </p:nvGrpSpPr>
        <p:grpSpPr>
          <a:xfrm>
            <a:off x="6248520" y="1905120"/>
            <a:ext cx="1495800" cy="4257720"/>
            <a:chOff x="6248520" y="1905120"/>
            <a:chExt cx="1495800" cy="4257720"/>
          </a:xfrm>
        </p:grpSpPr>
        <p:grpSp>
          <p:nvGrpSpPr>
            <p:cNvPr id="504" name=""/>
            <p:cNvGrpSpPr/>
            <p:nvPr/>
          </p:nvGrpSpPr>
          <p:grpSpPr>
            <a:xfrm>
              <a:off x="6248520" y="4554360"/>
              <a:ext cx="1495800" cy="1608480"/>
              <a:chOff x="6248520" y="4554360"/>
              <a:chExt cx="1495800" cy="1608480"/>
            </a:xfrm>
          </p:grpSpPr>
          <p:sp>
            <p:nvSpPr>
              <p:cNvPr id="505" name=""/>
              <p:cNvSpPr/>
              <p:nvPr/>
            </p:nvSpPr>
            <p:spPr>
              <a:xfrm>
                <a:off x="6626160" y="4554360"/>
                <a:ext cx="646560" cy="1483200"/>
              </a:xfrm>
              <a:custGeom>
                <a:avLst/>
                <a:gdLst/>
                <a:ahLst/>
                <a:rect l="0" t="0" r="r" b="b"/>
                <a:pathLst>
                  <a:path w="1796" h="4120">
                    <a:moveTo>
                      <a:pt x="0" y="0"/>
                    </a:moveTo>
                    <a:lnTo>
                      <a:pt x="312" y="4120"/>
                    </a:lnTo>
                    <a:lnTo>
                      <a:pt x="1015" y="4120"/>
                    </a:lnTo>
                    <a:lnTo>
                      <a:pt x="911" y="1116"/>
                    </a:lnTo>
                    <a:lnTo>
                      <a:pt x="1015" y="4120"/>
                    </a:lnTo>
                    <a:lnTo>
                      <a:pt x="1796" y="4120"/>
                    </a:lnTo>
                    <a:lnTo>
                      <a:pt x="1718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248520" y="5983200"/>
                <a:ext cx="743400" cy="179640"/>
              </a:xfrm>
              <a:custGeom>
                <a:avLst/>
                <a:gdLst/>
                <a:ahLst/>
                <a:rect l="0" t="0" r="r" b="b"/>
                <a:pathLst>
                  <a:path w="2065" h="499">
                    <a:moveTo>
                      <a:pt x="1359" y="158"/>
                    </a:moveTo>
                    <a:lnTo>
                      <a:pt x="967" y="45"/>
                    </a:lnTo>
                    <a:lnTo>
                      <a:pt x="706" y="0"/>
                    </a:lnTo>
                    <a:lnTo>
                      <a:pt x="417" y="90"/>
                    </a:lnTo>
                    <a:lnTo>
                      <a:pt x="130" y="226"/>
                    </a:lnTo>
                    <a:lnTo>
                      <a:pt x="0" y="408"/>
                    </a:lnTo>
                    <a:lnTo>
                      <a:pt x="182" y="499"/>
                    </a:lnTo>
                    <a:lnTo>
                      <a:pt x="2065" y="499"/>
                    </a:lnTo>
                    <a:lnTo>
                      <a:pt x="2065" y="158"/>
                    </a:lnTo>
                    <a:lnTo>
                      <a:pt x="1359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000920" y="5983200"/>
                <a:ext cx="743400" cy="179640"/>
              </a:xfrm>
              <a:custGeom>
                <a:avLst/>
                <a:gdLst/>
                <a:ahLst/>
                <a:rect l="0" t="0" r="r" b="b"/>
                <a:pathLst>
                  <a:path w="2065" h="499">
                    <a:moveTo>
                      <a:pt x="706" y="158"/>
                    </a:moveTo>
                    <a:lnTo>
                      <a:pt x="1098" y="45"/>
                    </a:lnTo>
                    <a:lnTo>
                      <a:pt x="1359" y="0"/>
                    </a:lnTo>
                    <a:lnTo>
                      <a:pt x="1647" y="90"/>
                    </a:lnTo>
                    <a:lnTo>
                      <a:pt x="1935" y="226"/>
                    </a:lnTo>
                    <a:lnTo>
                      <a:pt x="2065" y="408"/>
                    </a:lnTo>
                    <a:lnTo>
                      <a:pt x="1882" y="499"/>
                    </a:lnTo>
                    <a:lnTo>
                      <a:pt x="0" y="499"/>
                    </a:lnTo>
                    <a:lnTo>
                      <a:pt x="0" y="158"/>
                    </a:lnTo>
                    <a:lnTo>
                      <a:pt x="706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6291360" y="3479760"/>
              <a:ext cx="503640" cy="1243080"/>
              <a:chOff x="6291360" y="3479760"/>
              <a:chExt cx="503640" cy="1243080"/>
            </a:xfrm>
          </p:grpSpPr>
          <p:sp>
            <p:nvSpPr>
              <p:cNvPr id="509" name=""/>
              <p:cNvSpPr/>
              <p:nvPr/>
            </p:nvSpPr>
            <p:spPr>
              <a:xfrm>
                <a:off x="6315120" y="3479760"/>
                <a:ext cx="479880" cy="1026000"/>
              </a:xfrm>
              <a:custGeom>
                <a:avLst/>
                <a:gdLst/>
                <a:ahLst/>
                <a:rect l="0" t="0" r="r" b="b"/>
                <a:pathLst>
                  <a:path w="1333" h="2850">
                    <a:moveTo>
                      <a:pt x="1098" y="0"/>
                    </a:moveTo>
                    <a:lnTo>
                      <a:pt x="1255" y="91"/>
                    </a:lnTo>
                    <a:lnTo>
                      <a:pt x="1333" y="364"/>
                    </a:lnTo>
                    <a:lnTo>
                      <a:pt x="1124" y="1140"/>
                    </a:lnTo>
                    <a:lnTo>
                      <a:pt x="810" y="2850"/>
                    </a:lnTo>
                    <a:lnTo>
                      <a:pt x="0" y="2713"/>
                    </a:lnTo>
                    <a:lnTo>
                      <a:pt x="366" y="1254"/>
                    </a:lnTo>
                    <a:lnTo>
                      <a:pt x="784" y="205"/>
                    </a:lnTo>
                    <a:lnTo>
                      <a:pt x="1098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291360" y="4476600"/>
                <a:ext cx="29988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6404040" y="1905120"/>
              <a:ext cx="1068480" cy="2821320"/>
              <a:chOff x="6404040" y="1905120"/>
              <a:chExt cx="1068480" cy="2821320"/>
            </a:xfrm>
          </p:grpSpPr>
          <p:sp>
            <p:nvSpPr>
              <p:cNvPr id="512" name=""/>
              <p:cNvSpPr/>
              <p:nvPr/>
            </p:nvSpPr>
            <p:spPr>
              <a:xfrm>
                <a:off x="6502320" y="3346560"/>
                <a:ext cx="970200" cy="1379880"/>
              </a:xfrm>
              <a:custGeom>
                <a:avLst/>
                <a:gdLst/>
                <a:ahLst/>
                <a:rect l="0" t="0" r="r" b="b"/>
                <a:pathLst>
                  <a:path w="2695" h="3833">
                    <a:moveTo>
                      <a:pt x="943" y="323"/>
                    </a:moveTo>
                    <a:lnTo>
                      <a:pt x="856" y="338"/>
                    </a:lnTo>
                    <a:lnTo>
                      <a:pt x="790" y="376"/>
                    </a:lnTo>
                    <a:lnTo>
                      <a:pt x="664" y="501"/>
                    </a:lnTo>
                    <a:lnTo>
                      <a:pt x="534" y="623"/>
                    </a:lnTo>
                    <a:lnTo>
                      <a:pt x="386" y="733"/>
                    </a:lnTo>
                    <a:lnTo>
                      <a:pt x="365" y="767"/>
                    </a:lnTo>
                    <a:lnTo>
                      <a:pt x="343" y="802"/>
                    </a:lnTo>
                    <a:lnTo>
                      <a:pt x="343" y="802"/>
                    </a:lnTo>
                    <a:lnTo>
                      <a:pt x="365" y="802"/>
                    </a:lnTo>
                    <a:lnTo>
                      <a:pt x="152" y="1338"/>
                    </a:lnTo>
                    <a:lnTo>
                      <a:pt x="0" y="3745"/>
                    </a:lnTo>
                    <a:lnTo>
                      <a:pt x="2695" y="3833"/>
                    </a:lnTo>
                    <a:lnTo>
                      <a:pt x="2291" y="1589"/>
                    </a:lnTo>
                    <a:lnTo>
                      <a:pt x="2095" y="357"/>
                    </a:lnTo>
                    <a:lnTo>
                      <a:pt x="1369" y="0"/>
                    </a:lnTo>
                    <a:lnTo>
                      <a:pt x="943" y="323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794640" y="3355920"/>
                <a:ext cx="300240" cy="155880"/>
              </a:xfrm>
              <a:custGeom>
                <a:avLst/>
                <a:gdLst/>
                <a:ahLst/>
                <a:rect l="0" t="0" r="r" b="b"/>
                <a:pathLst>
                  <a:path w="834" h="433">
                    <a:moveTo>
                      <a:pt x="0" y="296"/>
                    </a:moveTo>
                    <a:lnTo>
                      <a:pt x="234" y="410"/>
                    </a:lnTo>
                    <a:lnTo>
                      <a:pt x="652" y="433"/>
                    </a:lnTo>
                    <a:lnTo>
                      <a:pt x="834" y="228"/>
                    </a:lnTo>
                    <a:lnTo>
                      <a:pt x="834" y="68"/>
                    </a:lnTo>
                    <a:lnTo>
                      <a:pt x="652" y="0"/>
                    </a:lnTo>
                    <a:lnTo>
                      <a:pt x="469" y="228"/>
                    </a:lnTo>
                    <a:lnTo>
                      <a:pt x="182" y="251"/>
                    </a:lnTo>
                    <a:lnTo>
                      <a:pt x="0" y="296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" name=""/>
              <p:cNvGrpSpPr/>
              <p:nvPr/>
            </p:nvGrpSpPr>
            <p:grpSpPr>
              <a:xfrm>
                <a:off x="6404040" y="1905120"/>
                <a:ext cx="992520" cy="1567440"/>
                <a:chOff x="6404040" y="1905120"/>
                <a:chExt cx="992520" cy="156744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6512040" y="2109960"/>
                  <a:ext cx="884520" cy="1362600"/>
                </a:xfrm>
                <a:custGeom>
                  <a:avLst/>
                  <a:gdLst/>
                  <a:ahLst/>
                  <a:rect l="0" t="0" r="r" b="b"/>
                  <a:pathLst>
                    <a:path w="2457" h="3785">
                      <a:moveTo>
                        <a:pt x="574" y="0"/>
                      </a:moveTo>
                      <a:lnTo>
                        <a:pt x="261" y="227"/>
                      </a:lnTo>
                      <a:lnTo>
                        <a:pt x="78" y="592"/>
                      </a:lnTo>
                      <a:lnTo>
                        <a:pt x="26" y="1049"/>
                      </a:lnTo>
                      <a:lnTo>
                        <a:pt x="0" y="2325"/>
                      </a:lnTo>
                      <a:lnTo>
                        <a:pt x="52" y="3056"/>
                      </a:lnTo>
                      <a:lnTo>
                        <a:pt x="810" y="3101"/>
                      </a:lnTo>
                      <a:lnTo>
                        <a:pt x="914" y="3512"/>
                      </a:lnTo>
                      <a:lnTo>
                        <a:pt x="1019" y="3785"/>
                      </a:lnTo>
                      <a:lnTo>
                        <a:pt x="1255" y="3785"/>
                      </a:lnTo>
                      <a:lnTo>
                        <a:pt x="1385" y="3534"/>
                      </a:lnTo>
                      <a:lnTo>
                        <a:pt x="1307" y="3101"/>
                      </a:lnTo>
                      <a:lnTo>
                        <a:pt x="2013" y="3033"/>
                      </a:lnTo>
                      <a:lnTo>
                        <a:pt x="2039" y="2599"/>
                      </a:lnTo>
                      <a:lnTo>
                        <a:pt x="2195" y="2667"/>
                      </a:lnTo>
                      <a:lnTo>
                        <a:pt x="2352" y="2622"/>
                      </a:lnTo>
                      <a:lnTo>
                        <a:pt x="2457" y="2257"/>
                      </a:lnTo>
                      <a:lnTo>
                        <a:pt x="2326" y="2075"/>
                      </a:lnTo>
                      <a:lnTo>
                        <a:pt x="2169" y="2097"/>
                      </a:lnTo>
                      <a:lnTo>
                        <a:pt x="2326" y="159"/>
                      </a:lnTo>
                      <a:lnTo>
                        <a:pt x="5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404040" y="2489040"/>
                  <a:ext cx="404640" cy="3538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751800" y="2457360"/>
                  <a:ext cx="479520" cy="420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740640" y="1932120"/>
                  <a:ext cx="612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6851520" y="1914480"/>
                  <a:ext cx="1584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V="1">
                  <a:off x="7012080" y="1905120"/>
                  <a:ext cx="36360" cy="196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V="1">
                  <a:off x="7172280" y="1946160"/>
                  <a:ext cx="54000" cy="173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V="1">
                  <a:off x="7311960" y="1971720"/>
                  <a:ext cx="54000" cy="15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540480" y="3009960"/>
                  <a:ext cx="507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438960" y="2679840"/>
                  <a:ext cx="774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5" name=""/>
            <p:cNvGrpSpPr/>
            <p:nvPr/>
          </p:nvGrpSpPr>
          <p:grpSpPr>
            <a:xfrm>
              <a:off x="7169040" y="3494160"/>
              <a:ext cx="503280" cy="1246320"/>
              <a:chOff x="7169040" y="3494160"/>
              <a:chExt cx="503280" cy="1246320"/>
            </a:xfrm>
          </p:grpSpPr>
          <p:sp>
            <p:nvSpPr>
              <p:cNvPr id="526" name=""/>
              <p:cNvSpPr/>
              <p:nvPr/>
            </p:nvSpPr>
            <p:spPr>
              <a:xfrm>
                <a:off x="7169040" y="3494160"/>
                <a:ext cx="481320" cy="1026000"/>
              </a:xfrm>
              <a:custGeom>
                <a:avLst/>
                <a:gdLst/>
                <a:ahLst/>
                <a:rect l="0" t="0" r="r" b="b"/>
                <a:pathLst>
                  <a:path w="1337" h="2850">
                    <a:moveTo>
                      <a:pt x="235" y="0"/>
                    </a:moveTo>
                    <a:lnTo>
                      <a:pt x="78" y="91"/>
                    </a:lnTo>
                    <a:lnTo>
                      <a:pt x="0" y="364"/>
                    </a:lnTo>
                    <a:lnTo>
                      <a:pt x="209" y="1140"/>
                    </a:lnTo>
                    <a:lnTo>
                      <a:pt x="523" y="2850"/>
                    </a:lnTo>
                    <a:lnTo>
                      <a:pt x="1337" y="2713"/>
                    </a:lnTo>
                    <a:lnTo>
                      <a:pt x="970" y="1254"/>
                    </a:lnTo>
                    <a:lnTo>
                      <a:pt x="550" y="205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73880" y="4494240"/>
                <a:ext cx="29844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"/>
          <p:cNvSpPr/>
          <p:nvPr/>
        </p:nvSpPr>
        <p:spPr>
          <a:xfrm>
            <a:off x="7620120" y="3124080"/>
            <a:ext cx="1219680" cy="762480"/>
          </a:xfrm>
          <a:custGeom>
            <a:avLst/>
            <a:gdLst/>
            <a:ahLst/>
            <a:rect l="0" t="0" r="r" b="b"/>
            <a:pathLst>
              <a:path w="3388" h="2118">
                <a:moveTo>
                  <a:pt x="0" y="1907"/>
                </a:moveTo>
                <a:lnTo>
                  <a:pt x="0" y="423"/>
                </a:lnTo>
                <a:lnTo>
                  <a:pt x="338" y="211"/>
                </a:lnTo>
                <a:lnTo>
                  <a:pt x="677" y="211"/>
                </a:lnTo>
                <a:lnTo>
                  <a:pt x="338" y="0"/>
                </a:lnTo>
                <a:lnTo>
                  <a:pt x="1016" y="211"/>
                </a:lnTo>
                <a:lnTo>
                  <a:pt x="3050" y="211"/>
                </a:lnTo>
                <a:lnTo>
                  <a:pt x="3388" y="423"/>
                </a:lnTo>
                <a:lnTo>
                  <a:pt x="3388" y="1907"/>
                </a:lnTo>
                <a:lnTo>
                  <a:pt x="3050" y="2118"/>
                </a:lnTo>
                <a:lnTo>
                  <a:pt x="338" y="2118"/>
                </a:lnTo>
                <a:lnTo>
                  <a:pt x="0" y="1907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772400" y="3352680"/>
            <a:ext cx="106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304920" y="304920"/>
            <a:ext cx="8381880" cy="5715000"/>
            <a:chOff x="304920" y="304920"/>
            <a:chExt cx="8381880" cy="5715000"/>
          </a:xfrm>
        </p:grpSpPr>
        <p:sp>
          <p:nvSpPr>
            <p:cNvPr id="531" name=""/>
            <p:cNvSpPr/>
            <p:nvPr/>
          </p:nvSpPr>
          <p:spPr>
            <a:xfrm>
              <a:off x="533520" y="1828800"/>
              <a:ext cx="34308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62720" y="5168880"/>
              <a:ext cx="228600" cy="24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14400" y="4572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14800" y="43434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08440" y="3911760"/>
              <a:ext cx="216000" cy="203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305920" y="44197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40560" y="1523880"/>
              <a:ext cx="27936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71520" y="1866960"/>
              <a:ext cx="190440" cy="190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94840" y="5715000"/>
              <a:ext cx="29196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00600" y="2666880"/>
              <a:ext cx="152280" cy="190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920" y="34290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20120" y="304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 txBox="1"/>
          <p:nvPr/>
        </p:nvSpPr>
        <p:spPr>
          <a:xfrm>
            <a:off x="1371600" y="228600"/>
            <a:ext cx="678168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O-LONG-HAE-YOH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on’t Confuse With “SA-RANG-HAE-YO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5600520"/>
            <a:ext cx="9207720" cy="140040"/>
          </a:xfrm>
          <a:custGeom>
            <a:avLst/>
            <a:gdLst/>
            <a:ahLst/>
            <a:rect l="0" t="0" r="r" b="b"/>
            <a:pathLst>
              <a:path fill="none" w="25577" h="389">
                <a:moveTo>
                  <a:pt x="0" y="353"/>
                </a:moveTo>
                <a:lnTo>
                  <a:pt x="2010" y="283"/>
                </a:lnTo>
                <a:lnTo>
                  <a:pt x="4833" y="318"/>
                </a:lnTo>
                <a:lnTo>
                  <a:pt x="10371" y="141"/>
                </a:lnTo>
                <a:lnTo>
                  <a:pt x="16264" y="70"/>
                </a:lnTo>
                <a:lnTo>
                  <a:pt x="18098" y="389"/>
                </a:lnTo>
                <a:lnTo>
                  <a:pt x="21238" y="176"/>
                </a:lnTo>
                <a:lnTo>
                  <a:pt x="23672" y="0"/>
                </a:lnTo>
                <a:lnTo>
                  <a:pt x="25577" y="176"/>
                </a:lnTo>
                <a:lnTo>
                  <a:pt x="25396" y="10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0880" y="2971800"/>
            <a:ext cx="5791320" cy="30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8800" spc="-1" strike="noStrike">
                <a:solidFill>
                  <a:srgbClr val="ff0033"/>
                </a:solidFill>
                <a:latin typeface="Marigold"/>
                <a:ea typeface="Marigold"/>
              </a:rPr>
              <a:t>HAHAHAHAH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886040" y="1905120"/>
            <a:ext cx="3829320" cy="4405680"/>
            <a:chOff x="1886040" y="1905120"/>
            <a:chExt cx="3829320" cy="4405680"/>
          </a:xfrm>
        </p:grpSpPr>
        <p:sp>
          <p:nvSpPr>
            <p:cNvPr id="547" name=""/>
            <p:cNvSpPr/>
            <p:nvPr/>
          </p:nvSpPr>
          <p:spPr>
            <a:xfrm>
              <a:off x="3456000" y="3638520"/>
              <a:ext cx="810000" cy="1422720"/>
            </a:xfrm>
            <a:custGeom>
              <a:avLst/>
              <a:gdLst/>
              <a:ahLst/>
              <a:rect l="0" t="0" r="r" b="b"/>
              <a:pathLst>
                <a:path w="2250" h="3952">
                  <a:moveTo>
                    <a:pt x="1258" y="186"/>
                  </a:moveTo>
                  <a:lnTo>
                    <a:pt x="945" y="0"/>
                  </a:lnTo>
                  <a:lnTo>
                    <a:pt x="539" y="0"/>
                  </a:lnTo>
                  <a:lnTo>
                    <a:pt x="226" y="154"/>
                  </a:lnTo>
                  <a:lnTo>
                    <a:pt x="11" y="442"/>
                  </a:lnTo>
                  <a:lnTo>
                    <a:pt x="0" y="634"/>
                  </a:lnTo>
                  <a:lnTo>
                    <a:pt x="63" y="879"/>
                  </a:lnTo>
                  <a:lnTo>
                    <a:pt x="226" y="1061"/>
                  </a:lnTo>
                  <a:lnTo>
                    <a:pt x="486" y="1381"/>
                  </a:lnTo>
                  <a:lnTo>
                    <a:pt x="655" y="1770"/>
                  </a:lnTo>
                  <a:lnTo>
                    <a:pt x="754" y="2107"/>
                  </a:lnTo>
                  <a:lnTo>
                    <a:pt x="754" y="2517"/>
                  </a:lnTo>
                  <a:lnTo>
                    <a:pt x="621" y="2923"/>
                  </a:lnTo>
                  <a:lnTo>
                    <a:pt x="621" y="3317"/>
                  </a:lnTo>
                  <a:lnTo>
                    <a:pt x="702" y="3637"/>
                  </a:lnTo>
                  <a:lnTo>
                    <a:pt x="928" y="3866"/>
                  </a:lnTo>
                  <a:lnTo>
                    <a:pt x="1177" y="3952"/>
                  </a:lnTo>
                  <a:lnTo>
                    <a:pt x="1473" y="3909"/>
                  </a:lnTo>
                  <a:lnTo>
                    <a:pt x="1804" y="3834"/>
                  </a:lnTo>
                  <a:lnTo>
                    <a:pt x="2036" y="3621"/>
                  </a:lnTo>
                  <a:lnTo>
                    <a:pt x="2164" y="3120"/>
                  </a:lnTo>
                  <a:lnTo>
                    <a:pt x="2250" y="2683"/>
                  </a:lnTo>
                  <a:lnTo>
                    <a:pt x="2181" y="2075"/>
                  </a:lnTo>
                  <a:lnTo>
                    <a:pt x="2019" y="1562"/>
                  </a:lnTo>
                  <a:lnTo>
                    <a:pt x="1787" y="1034"/>
                  </a:lnTo>
                  <a:lnTo>
                    <a:pt x="1508" y="490"/>
                  </a:lnTo>
                  <a:lnTo>
                    <a:pt x="1258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25840" y="1905120"/>
              <a:ext cx="373320" cy="451080"/>
            </a:xfrm>
            <a:custGeom>
              <a:avLst/>
              <a:gdLst/>
              <a:ahLst/>
              <a:rect l="0" t="0" r="r" b="b"/>
              <a:pathLst>
                <a:path w="1037" h="1253">
                  <a:moveTo>
                    <a:pt x="1037" y="1226"/>
                  </a:moveTo>
                  <a:lnTo>
                    <a:pt x="885" y="752"/>
                  </a:lnTo>
                  <a:lnTo>
                    <a:pt x="477" y="271"/>
                  </a:lnTo>
                  <a:lnTo>
                    <a:pt x="110" y="0"/>
                  </a:lnTo>
                  <a:lnTo>
                    <a:pt x="0" y="101"/>
                  </a:lnTo>
                  <a:lnTo>
                    <a:pt x="395" y="378"/>
                  </a:lnTo>
                  <a:lnTo>
                    <a:pt x="542" y="543"/>
                  </a:lnTo>
                  <a:lnTo>
                    <a:pt x="757" y="864"/>
                  </a:lnTo>
                  <a:lnTo>
                    <a:pt x="874" y="1253"/>
                  </a:lnTo>
                  <a:lnTo>
                    <a:pt x="1037" y="1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886040" y="2427120"/>
              <a:ext cx="616320" cy="284400"/>
            </a:xfrm>
            <a:custGeom>
              <a:avLst/>
              <a:gdLst/>
              <a:ahLst/>
              <a:rect l="0" t="0" r="r" b="b"/>
              <a:pathLst>
                <a:path w="1712" h="790">
                  <a:moveTo>
                    <a:pt x="1712" y="689"/>
                  </a:moveTo>
                  <a:lnTo>
                    <a:pt x="1218" y="368"/>
                  </a:lnTo>
                  <a:lnTo>
                    <a:pt x="609" y="122"/>
                  </a:lnTo>
                  <a:lnTo>
                    <a:pt x="69" y="0"/>
                  </a:lnTo>
                  <a:lnTo>
                    <a:pt x="0" y="197"/>
                  </a:lnTo>
                  <a:lnTo>
                    <a:pt x="760" y="336"/>
                  </a:lnTo>
                  <a:lnTo>
                    <a:pt x="1388" y="641"/>
                  </a:lnTo>
                  <a:lnTo>
                    <a:pt x="1660" y="790"/>
                  </a:lnTo>
                  <a:lnTo>
                    <a:pt x="1712" y="6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63800" y="3220920"/>
              <a:ext cx="609840" cy="402120"/>
            </a:xfrm>
            <a:custGeom>
              <a:avLst/>
              <a:gdLst/>
              <a:ahLst/>
              <a:rect l="0" t="0" r="r" b="b"/>
              <a:pathLst>
                <a:path w="1694" h="1117">
                  <a:moveTo>
                    <a:pt x="1526" y="0"/>
                  </a:moveTo>
                  <a:lnTo>
                    <a:pt x="853" y="319"/>
                  </a:lnTo>
                  <a:lnTo>
                    <a:pt x="307" y="649"/>
                  </a:lnTo>
                  <a:lnTo>
                    <a:pt x="0" y="921"/>
                  </a:lnTo>
                  <a:lnTo>
                    <a:pt x="278" y="1117"/>
                  </a:lnTo>
                  <a:lnTo>
                    <a:pt x="620" y="649"/>
                  </a:lnTo>
                  <a:lnTo>
                    <a:pt x="1184" y="346"/>
                  </a:lnTo>
                  <a:lnTo>
                    <a:pt x="1694" y="74"/>
                  </a:lnTo>
                  <a:lnTo>
                    <a:pt x="15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27360" y="3784680"/>
              <a:ext cx="1020960" cy="1035360"/>
            </a:xfrm>
            <a:custGeom>
              <a:avLst/>
              <a:gdLst/>
              <a:ahLst/>
              <a:rect l="0" t="0" r="r" b="b"/>
              <a:pathLst>
                <a:path w="2836" h="2876">
                  <a:moveTo>
                    <a:pt x="2442" y="181"/>
                  </a:moveTo>
                  <a:lnTo>
                    <a:pt x="2273" y="58"/>
                  </a:lnTo>
                  <a:lnTo>
                    <a:pt x="1949" y="0"/>
                  </a:lnTo>
                  <a:lnTo>
                    <a:pt x="1549" y="213"/>
                  </a:lnTo>
                  <a:lnTo>
                    <a:pt x="956" y="453"/>
                  </a:lnTo>
                  <a:lnTo>
                    <a:pt x="498" y="874"/>
                  </a:lnTo>
                  <a:lnTo>
                    <a:pt x="133" y="1392"/>
                  </a:lnTo>
                  <a:lnTo>
                    <a:pt x="0" y="1697"/>
                  </a:lnTo>
                  <a:lnTo>
                    <a:pt x="34" y="1846"/>
                  </a:lnTo>
                  <a:lnTo>
                    <a:pt x="330" y="2028"/>
                  </a:lnTo>
                  <a:lnTo>
                    <a:pt x="1026" y="2118"/>
                  </a:lnTo>
                  <a:lnTo>
                    <a:pt x="1781" y="2086"/>
                  </a:lnTo>
                  <a:lnTo>
                    <a:pt x="2076" y="2209"/>
                  </a:lnTo>
                  <a:lnTo>
                    <a:pt x="2042" y="2417"/>
                  </a:lnTo>
                  <a:lnTo>
                    <a:pt x="1746" y="2721"/>
                  </a:lnTo>
                  <a:lnTo>
                    <a:pt x="1850" y="2785"/>
                  </a:lnTo>
                  <a:lnTo>
                    <a:pt x="2181" y="2481"/>
                  </a:lnTo>
                  <a:lnTo>
                    <a:pt x="2245" y="2513"/>
                  </a:lnTo>
                  <a:lnTo>
                    <a:pt x="2273" y="2876"/>
                  </a:lnTo>
                  <a:lnTo>
                    <a:pt x="2372" y="2876"/>
                  </a:lnTo>
                  <a:lnTo>
                    <a:pt x="2372" y="2454"/>
                  </a:lnTo>
                  <a:lnTo>
                    <a:pt x="2442" y="2417"/>
                  </a:lnTo>
                  <a:lnTo>
                    <a:pt x="2708" y="2662"/>
                  </a:lnTo>
                  <a:lnTo>
                    <a:pt x="2772" y="2572"/>
                  </a:lnTo>
                  <a:lnTo>
                    <a:pt x="2476" y="2332"/>
                  </a:lnTo>
                  <a:lnTo>
                    <a:pt x="2476" y="2241"/>
                  </a:lnTo>
                  <a:lnTo>
                    <a:pt x="2836" y="2086"/>
                  </a:lnTo>
                  <a:lnTo>
                    <a:pt x="2801" y="2028"/>
                  </a:lnTo>
                  <a:lnTo>
                    <a:pt x="2372" y="2086"/>
                  </a:lnTo>
                  <a:lnTo>
                    <a:pt x="2111" y="2028"/>
                  </a:lnTo>
                  <a:lnTo>
                    <a:pt x="1850" y="1937"/>
                  </a:lnTo>
                  <a:lnTo>
                    <a:pt x="1514" y="1910"/>
                  </a:lnTo>
                  <a:lnTo>
                    <a:pt x="1090" y="1878"/>
                  </a:lnTo>
                  <a:lnTo>
                    <a:pt x="661" y="1814"/>
                  </a:lnTo>
                  <a:lnTo>
                    <a:pt x="394" y="1665"/>
                  </a:lnTo>
                  <a:lnTo>
                    <a:pt x="394" y="1569"/>
                  </a:lnTo>
                  <a:lnTo>
                    <a:pt x="591" y="1301"/>
                  </a:lnTo>
                  <a:lnTo>
                    <a:pt x="956" y="1061"/>
                  </a:lnTo>
                  <a:lnTo>
                    <a:pt x="1351" y="874"/>
                  </a:lnTo>
                  <a:lnTo>
                    <a:pt x="1978" y="725"/>
                  </a:lnTo>
                  <a:lnTo>
                    <a:pt x="2337" y="544"/>
                  </a:lnTo>
                  <a:lnTo>
                    <a:pt x="2442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321000" y="2727360"/>
              <a:ext cx="1235520" cy="1070280"/>
            </a:xfrm>
            <a:custGeom>
              <a:avLst/>
              <a:gdLst/>
              <a:ahLst/>
              <a:rect l="0" t="0" r="r" b="b"/>
              <a:pathLst>
                <a:path w="3432" h="2973">
                  <a:moveTo>
                    <a:pt x="1374" y="2552"/>
                  </a:moveTo>
                  <a:lnTo>
                    <a:pt x="1739" y="2387"/>
                  </a:lnTo>
                  <a:lnTo>
                    <a:pt x="2394" y="2312"/>
                  </a:lnTo>
                  <a:lnTo>
                    <a:pt x="2772" y="2184"/>
                  </a:lnTo>
                  <a:lnTo>
                    <a:pt x="2957" y="1977"/>
                  </a:lnTo>
                  <a:lnTo>
                    <a:pt x="3021" y="1508"/>
                  </a:lnTo>
                  <a:lnTo>
                    <a:pt x="2969" y="1310"/>
                  </a:lnTo>
                  <a:lnTo>
                    <a:pt x="2627" y="1118"/>
                  </a:lnTo>
                  <a:lnTo>
                    <a:pt x="2203" y="964"/>
                  </a:lnTo>
                  <a:lnTo>
                    <a:pt x="1687" y="964"/>
                  </a:lnTo>
                  <a:lnTo>
                    <a:pt x="1148" y="1022"/>
                  </a:lnTo>
                  <a:lnTo>
                    <a:pt x="997" y="916"/>
                  </a:lnTo>
                  <a:lnTo>
                    <a:pt x="846" y="633"/>
                  </a:lnTo>
                  <a:lnTo>
                    <a:pt x="550" y="468"/>
                  </a:lnTo>
                  <a:lnTo>
                    <a:pt x="254" y="468"/>
                  </a:lnTo>
                  <a:lnTo>
                    <a:pt x="63" y="527"/>
                  </a:lnTo>
                  <a:lnTo>
                    <a:pt x="0" y="372"/>
                  </a:lnTo>
                  <a:lnTo>
                    <a:pt x="162" y="26"/>
                  </a:lnTo>
                  <a:lnTo>
                    <a:pt x="359" y="0"/>
                  </a:lnTo>
                  <a:lnTo>
                    <a:pt x="718" y="207"/>
                  </a:lnTo>
                  <a:lnTo>
                    <a:pt x="951" y="388"/>
                  </a:lnTo>
                  <a:lnTo>
                    <a:pt x="1160" y="692"/>
                  </a:lnTo>
                  <a:lnTo>
                    <a:pt x="1212" y="798"/>
                  </a:lnTo>
                  <a:lnTo>
                    <a:pt x="1623" y="719"/>
                  </a:lnTo>
                  <a:lnTo>
                    <a:pt x="2185" y="692"/>
                  </a:lnTo>
                  <a:lnTo>
                    <a:pt x="2662" y="782"/>
                  </a:lnTo>
                  <a:lnTo>
                    <a:pt x="3067" y="964"/>
                  </a:lnTo>
                  <a:lnTo>
                    <a:pt x="3363" y="1219"/>
                  </a:lnTo>
                  <a:lnTo>
                    <a:pt x="3432" y="1416"/>
                  </a:lnTo>
                  <a:lnTo>
                    <a:pt x="3334" y="1966"/>
                  </a:lnTo>
                  <a:lnTo>
                    <a:pt x="3102" y="2371"/>
                  </a:lnTo>
                  <a:lnTo>
                    <a:pt x="2475" y="2776"/>
                  </a:lnTo>
                  <a:lnTo>
                    <a:pt x="1785" y="2973"/>
                  </a:lnTo>
                  <a:lnTo>
                    <a:pt x="1426" y="2946"/>
                  </a:lnTo>
                  <a:lnTo>
                    <a:pt x="1310" y="2760"/>
                  </a:lnTo>
                  <a:lnTo>
                    <a:pt x="1374" y="25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59280" y="4853160"/>
              <a:ext cx="808560" cy="1337040"/>
            </a:xfrm>
            <a:custGeom>
              <a:avLst/>
              <a:gdLst/>
              <a:ahLst/>
              <a:rect l="0" t="0" r="r" b="b"/>
              <a:pathLst>
                <a:path w="2246" h="3714">
                  <a:moveTo>
                    <a:pt x="1253" y="452"/>
                  </a:moveTo>
                  <a:lnTo>
                    <a:pt x="795" y="90"/>
                  </a:lnTo>
                  <a:lnTo>
                    <a:pt x="330" y="0"/>
                  </a:lnTo>
                  <a:lnTo>
                    <a:pt x="0" y="239"/>
                  </a:lnTo>
                  <a:lnTo>
                    <a:pt x="266" y="574"/>
                  </a:lnTo>
                  <a:lnTo>
                    <a:pt x="662" y="723"/>
                  </a:lnTo>
                  <a:lnTo>
                    <a:pt x="1584" y="1208"/>
                  </a:lnTo>
                  <a:lnTo>
                    <a:pt x="1811" y="1357"/>
                  </a:lnTo>
                  <a:lnTo>
                    <a:pt x="1811" y="1511"/>
                  </a:lnTo>
                  <a:lnTo>
                    <a:pt x="1450" y="1841"/>
                  </a:lnTo>
                  <a:lnTo>
                    <a:pt x="824" y="2389"/>
                  </a:lnTo>
                  <a:lnTo>
                    <a:pt x="498" y="2810"/>
                  </a:lnTo>
                  <a:lnTo>
                    <a:pt x="498" y="2991"/>
                  </a:lnTo>
                  <a:lnTo>
                    <a:pt x="527" y="3081"/>
                  </a:lnTo>
                  <a:lnTo>
                    <a:pt x="824" y="3108"/>
                  </a:lnTo>
                  <a:lnTo>
                    <a:pt x="1323" y="3294"/>
                  </a:lnTo>
                  <a:lnTo>
                    <a:pt x="1653" y="3566"/>
                  </a:lnTo>
                  <a:lnTo>
                    <a:pt x="1881" y="3714"/>
                  </a:lnTo>
                  <a:lnTo>
                    <a:pt x="2014" y="3683"/>
                  </a:lnTo>
                  <a:lnTo>
                    <a:pt x="2211" y="3353"/>
                  </a:lnTo>
                  <a:lnTo>
                    <a:pt x="2043" y="3204"/>
                  </a:lnTo>
                  <a:lnTo>
                    <a:pt x="1514" y="3050"/>
                  </a:lnTo>
                  <a:lnTo>
                    <a:pt x="992" y="2933"/>
                  </a:lnTo>
                  <a:lnTo>
                    <a:pt x="760" y="2933"/>
                  </a:lnTo>
                  <a:lnTo>
                    <a:pt x="691" y="2874"/>
                  </a:lnTo>
                  <a:lnTo>
                    <a:pt x="824" y="2719"/>
                  </a:lnTo>
                  <a:lnTo>
                    <a:pt x="1189" y="2474"/>
                  </a:lnTo>
                  <a:lnTo>
                    <a:pt x="1682" y="2203"/>
                  </a:lnTo>
                  <a:lnTo>
                    <a:pt x="2113" y="1814"/>
                  </a:lnTo>
                  <a:lnTo>
                    <a:pt x="2246" y="1511"/>
                  </a:lnTo>
                  <a:lnTo>
                    <a:pt x="2182" y="1208"/>
                  </a:lnTo>
                  <a:lnTo>
                    <a:pt x="1852" y="877"/>
                  </a:lnTo>
                  <a:lnTo>
                    <a:pt x="1555" y="638"/>
                  </a:lnTo>
                  <a:lnTo>
                    <a:pt x="1253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81280" y="4854600"/>
              <a:ext cx="721080" cy="1456200"/>
            </a:xfrm>
            <a:custGeom>
              <a:avLst/>
              <a:gdLst/>
              <a:ahLst/>
              <a:rect l="0" t="0" r="r" b="b"/>
              <a:pathLst>
                <a:path w="2003" h="4045">
                  <a:moveTo>
                    <a:pt x="1407" y="814"/>
                  </a:moveTo>
                  <a:lnTo>
                    <a:pt x="1048" y="356"/>
                  </a:lnTo>
                  <a:lnTo>
                    <a:pt x="786" y="26"/>
                  </a:lnTo>
                  <a:lnTo>
                    <a:pt x="457" y="0"/>
                  </a:lnTo>
                  <a:lnTo>
                    <a:pt x="231" y="148"/>
                  </a:lnTo>
                  <a:lnTo>
                    <a:pt x="266" y="420"/>
                  </a:lnTo>
                  <a:lnTo>
                    <a:pt x="561" y="691"/>
                  </a:lnTo>
                  <a:lnTo>
                    <a:pt x="1378" y="1506"/>
                  </a:lnTo>
                  <a:lnTo>
                    <a:pt x="1574" y="1778"/>
                  </a:lnTo>
                  <a:lnTo>
                    <a:pt x="1574" y="1905"/>
                  </a:lnTo>
                  <a:lnTo>
                    <a:pt x="1343" y="2113"/>
                  </a:lnTo>
                  <a:lnTo>
                    <a:pt x="688" y="2352"/>
                  </a:lnTo>
                  <a:lnTo>
                    <a:pt x="196" y="2597"/>
                  </a:lnTo>
                  <a:lnTo>
                    <a:pt x="63" y="2778"/>
                  </a:lnTo>
                  <a:lnTo>
                    <a:pt x="0" y="2985"/>
                  </a:lnTo>
                  <a:lnTo>
                    <a:pt x="34" y="3444"/>
                  </a:lnTo>
                  <a:lnTo>
                    <a:pt x="127" y="3715"/>
                  </a:lnTo>
                  <a:lnTo>
                    <a:pt x="393" y="4045"/>
                  </a:lnTo>
                  <a:lnTo>
                    <a:pt x="624" y="4045"/>
                  </a:lnTo>
                  <a:lnTo>
                    <a:pt x="885" y="3891"/>
                  </a:lnTo>
                  <a:lnTo>
                    <a:pt x="885" y="3774"/>
                  </a:lnTo>
                  <a:lnTo>
                    <a:pt x="653" y="3657"/>
                  </a:lnTo>
                  <a:lnTo>
                    <a:pt x="393" y="3503"/>
                  </a:lnTo>
                  <a:lnTo>
                    <a:pt x="231" y="3316"/>
                  </a:lnTo>
                  <a:lnTo>
                    <a:pt x="196" y="2927"/>
                  </a:lnTo>
                  <a:lnTo>
                    <a:pt x="329" y="2778"/>
                  </a:lnTo>
                  <a:lnTo>
                    <a:pt x="590" y="2656"/>
                  </a:lnTo>
                  <a:lnTo>
                    <a:pt x="1083" y="2507"/>
                  </a:lnTo>
                  <a:lnTo>
                    <a:pt x="1800" y="2262"/>
                  </a:lnTo>
                  <a:lnTo>
                    <a:pt x="2003" y="2081"/>
                  </a:lnTo>
                  <a:lnTo>
                    <a:pt x="2003" y="1810"/>
                  </a:lnTo>
                  <a:lnTo>
                    <a:pt x="1800" y="1448"/>
                  </a:lnTo>
                  <a:lnTo>
                    <a:pt x="1609" y="1144"/>
                  </a:lnTo>
                  <a:lnTo>
                    <a:pt x="1407" y="8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70600" y="3516480"/>
              <a:ext cx="644760" cy="190800"/>
            </a:xfrm>
            <a:custGeom>
              <a:avLst/>
              <a:gdLst/>
              <a:ahLst/>
              <a:rect l="0" t="0" r="r" b="b"/>
              <a:pathLst>
                <a:path w="1791" h="530">
                  <a:moveTo>
                    <a:pt x="28" y="0"/>
                  </a:moveTo>
                  <a:lnTo>
                    <a:pt x="619" y="0"/>
                  </a:lnTo>
                  <a:lnTo>
                    <a:pt x="1281" y="137"/>
                  </a:lnTo>
                  <a:lnTo>
                    <a:pt x="1791" y="334"/>
                  </a:lnTo>
                  <a:lnTo>
                    <a:pt x="1727" y="530"/>
                  </a:lnTo>
                  <a:lnTo>
                    <a:pt x="1014" y="227"/>
                  </a:lnTo>
                  <a:lnTo>
                    <a:pt x="324" y="137"/>
                  </a:lnTo>
                  <a:lnTo>
                    <a:pt x="0" y="10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96000" y="3840120"/>
              <a:ext cx="608400" cy="403560"/>
            </a:xfrm>
            <a:custGeom>
              <a:avLst/>
              <a:gdLst/>
              <a:ahLst/>
              <a:rect l="0" t="0" r="r" b="b"/>
              <a:pathLst>
                <a:path w="1690" h="1121">
                  <a:moveTo>
                    <a:pt x="161" y="0"/>
                  </a:moveTo>
                  <a:lnTo>
                    <a:pt x="833" y="314"/>
                  </a:lnTo>
                  <a:lnTo>
                    <a:pt x="1378" y="646"/>
                  </a:lnTo>
                  <a:lnTo>
                    <a:pt x="1690" y="918"/>
                  </a:lnTo>
                  <a:lnTo>
                    <a:pt x="1407" y="1121"/>
                  </a:lnTo>
                  <a:lnTo>
                    <a:pt x="1065" y="646"/>
                  </a:lnTo>
                  <a:lnTo>
                    <a:pt x="504" y="346"/>
                  </a:lnTo>
                  <a:lnTo>
                    <a:pt x="0" y="69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2655720" y="2448000"/>
              <a:ext cx="1032480" cy="1197360"/>
              <a:chOff x="2655720" y="2448000"/>
              <a:chExt cx="1032480" cy="1197360"/>
            </a:xfrm>
          </p:grpSpPr>
          <p:sp>
            <p:nvSpPr>
              <p:cNvPr id="558" name=""/>
              <p:cNvSpPr/>
              <p:nvPr/>
            </p:nvSpPr>
            <p:spPr>
              <a:xfrm>
                <a:off x="2789280" y="2448000"/>
                <a:ext cx="898920" cy="1197360"/>
              </a:xfrm>
              <a:custGeom>
                <a:avLst/>
                <a:gdLst/>
                <a:ahLst/>
                <a:rect l="0" t="0" r="r" b="b"/>
                <a:pathLst>
                  <a:path w="2497" h="3326">
                    <a:moveTo>
                      <a:pt x="1512" y="965"/>
                    </a:moveTo>
                    <a:lnTo>
                      <a:pt x="1199" y="708"/>
                    </a:lnTo>
                    <a:lnTo>
                      <a:pt x="794" y="618"/>
                    </a:lnTo>
                    <a:lnTo>
                      <a:pt x="422" y="698"/>
                    </a:lnTo>
                    <a:lnTo>
                      <a:pt x="127" y="917"/>
                    </a:lnTo>
                    <a:lnTo>
                      <a:pt x="0" y="1317"/>
                    </a:lnTo>
                    <a:lnTo>
                      <a:pt x="81" y="1892"/>
                    </a:lnTo>
                    <a:lnTo>
                      <a:pt x="422" y="2527"/>
                    </a:lnTo>
                    <a:lnTo>
                      <a:pt x="858" y="3028"/>
                    </a:lnTo>
                    <a:lnTo>
                      <a:pt x="1251" y="3252"/>
                    </a:lnTo>
                    <a:lnTo>
                      <a:pt x="1691" y="3326"/>
                    </a:lnTo>
                    <a:lnTo>
                      <a:pt x="2057" y="3284"/>
                    </a:lnTo>
                    <a:lnTo>
                      <a:pt x="2451" y="2996"/>
                    </a:lnTo>
                    <a:lnTo>
                      <a:pt x="2497" y="2692"/>
                    </a:lnTo>
                    <a:lnTo>
                      <a:pt x="2434" y="2206"/>
                    </a:lnTo>
                    <a:lnTo>
                      <a:pt x="2185" y="2361"/>
                    </a:lnTo>
                    <a:lnTo>
                      <a:pt x="1761" y="2452"/>
                    </a:lnTo>
                    <a:lnTo>
                      <a:pt x="1060" y="2249"/>
                    </a:lnTo>
                    <a:lnTo>
                      <a:pt x="1529" y="2057"/>
                    </a:lnTo>
                    <a:lnTo>
                      <a:pt x="1773" y="1913"/>
                    </a:lnTo>
                    <a:lnTo>
                      <a:pt x="2167" y="1620"/>
                    </a:lnTo>
                    <a:lnTo>
                      <a:pt x="1807" y="1119"/>
                    </a:lnTo>
                    <a:lnTo>
                      <a:pt x="2138" y="223"/>
                    </a:lnTo>
                    <a:lnTo>
                      <a:pt x="2092" y="69"/>
                    </a:lnTo>
                    <a:lnTo>
                      <a:pt x="1907" y="0"/>
                    </a:lnTo>
                    <a:lnTo>
                      <a:pt x="1807" y="101"/>
                    </a:lnTo>
                    <a:lnTo>
                      <a:pt x="1512" y="965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655720" y="2462040"/>
                <a:ext cx="659160" cy="914760"/>
              </a:xfrm>
              <a:custGeom>
                <a:avLst/>
                <a:gdLst/>
                <a:ahLst/>
                <a:rect l="0" t="0" r="r" b="b"/>
                <a:pathLst>
                  <a:path w="1831" h="2541">
                    <a:moveTo>
                      <a:pt x="418" y="1390"/>
                    </a:moveTo>
                    <a:lnTo>
                      <a:pt x="906" y="766"/>
                    </a:lnTo>
                    <a:lnTo>
                      <a:pt x="1482" y="271"/>
                    </a:lnTo>
                    <a:lnTo>
                      <a:pt x="1831" y="0"/>
                    </a:lnTo>
                    <a:lnTo>
                      <a:pt x="1308" y="15"/>
                    </a:lnTo>
                    <a:lnTo>
                      <a:pt x="610" y="287"/>
                    </a:lnTo>
                    <a:lnTo>
                      <a:pt x="261" y="638"/>
                    </a:lnTo>
                    <a:lnTo>
                      <a:pt x="104" y="1118"/>
                    </a:lnTo>
                    <a:lnTo>
                      <a:pt x="244" y="1390"/>
                    </a:lnTo>
                    <a:lnTo>
                      <a:pt x="0" y="1582"/>
                    </a:lnTo>
                    <a:lnTo>
                      <a:pt x="87" y="2013"/>
                    </a:lnTo>
                    <a:lnTo>
                      <a:pt x="366" y="2317"/>
                    </a:lnTo>
                    <a:lnTo>
                      <a:pt x="836" y="2541"/>
                    </a:lnTo>
                    <a:lnTo>
                      <a:pt x="714" y="2349"/>
                    </a:lnTo>
                    <a:lnTo>
                      <a:pt x="836" y="2269"/>
                    </a:lnTo>
                    <a:lnTo>
                      <a:pt x="1046" y="2269"/>
                    </a:lnTo>
                    <a:lnTo>
                      <a:pt x="766" y="2061"/>
                    </a:lnTo>
                    <a:lnTo>
                      <a:pt x="819" y="1678"/>
                    </a:lnTo>
                    <a:lnTo>
                      <a:pt x="418" y="1390"/>
                    </a:lnTo>
                    <a:close/>
                  </a:path>
                </a:pathLst>
              </a:custGeom>
              <a:solidFill>
                <a:srgbClr val="cc990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063960" y="2819520"/>
                <a:ext cx="225720" cy="184680"/>
              </a:xfrm>
              <a:custGeom>
                <a:avLst/>
                <a:gdLst/>
                <a:ahLst/>
                <a:rect l="0" t="0" r="r" b="b"/>
                <a:pathLst>
                  <a:path fill="none" w="627" h="513">
                    <a:moveTo>
                      <a:pt x="627" y="240"/>
                    </a:moveTo>
                    <a:lnTo>
                      <a:pt x="435" y="95"/>
                    </a:lnTo>
                    <a:lnTo>
                      <a:pt x="243" y="15"/>
                    </a:lnTo>
                    <a:lnTo>
                      <a:pt x="69" y="0"/>
                    </a:lnTo>
                    <a:lnTo>
                      <a:pt x="0" y="63"/>
                    </a:lnTo>
                    <a:lnTo>
                      <a:pt x="0" y="160"/>
                    </a:lnTo>
                    <a:lnTo>
                      <a:pt x="52" y="320"/>
                    </a:lnTo>
                    <a:lnTo>
                      <a:pt x="226" y="449"/>
                    </a:lnTo>
                    <a:lnTo>
                      <a:pt x="348" y="513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7853400" y="533520"/>
            <a:ext cx="866880" cy="2479680"/>
          </a:xfrm>
          <a:prstGeom prst="rect">
            <a:avLst/>
          </a:prstGeom>
          <a:ln w="0">
            <a:noFill/>
          </a:ln>
        </p:spPr>
      </p:pic>
      <p:grpSp>
        <p:nvGrpSpPr>
          <p:cNvPr id="562" name=""/>
          <p:cNvGrpSpPr/>
          <p:nvPr/>
        </p:nvGrpSpPr>
        <p:grpSpPr>
          <a:xfrm>
            <a:off x="6248520" y="1905120"/>
            <a:ext cx="1495800" cy="4257720"/>
            <a:chOff x="6248520" y="1905120"/>
            <a:chExt cx="1495800" cy="4257720"/>
          </a:xfrm>
        </p:grpSpPr>
        <p:grpSp>
          <p:nvGrpSpPr>
            <p:cNvPr id="563" name=""/>
            <p:cNvGrpSpPr/>
            <p:nvPr/>
          </p:nvGrpSpPr>
          <p:grpSpPr>
            <a:xfrm>
              <a:off x="6248520" y="4554360"/>
              <a:ext cx="1495800" cy="1608480"/>
              <a:chOff x="6248520" y="4554360"/>
              <a:chExt cx="1495800" cy="1608480"/>
            </a:xfrm>
          </p:grpSpPr>
          <p:sp>
            <p:nvSpPr>
              <p:cNvPr id="564" name=""/>
              <p:cNvSpPr/>
              <p:nvPr/>
            </p:nvSpPr>
            <p:spPr>
              <a:xfrm>
                <a:off x="6626160" y="4554360"/>
                <a:ext cx="646560" cy="1483200"/>
              </a:xfrm>
              <a:custGeom>
                <a:avLst/>
                <a:gdLst/>
                <a:ahLst/>
                <a:rect l="0" t="0" r="r" b="b"/>
                <a:pathLst>
                  <a:path w="1796" h="4120">
                    <a:moveTo>
                      <a:pt x="0" y="0"/>
                    </a:moveTo>
                    <a:lnTo>
                      <a:pt x="312" y="4120"/>
                    </a:lnTo>
                    <a:lnTo>
                      <a:pt x="1015" y="4120"/>
                    </a:lnTo>
                    <a:lnTo>
                      <a:pt x="911" y="1116"/>
                    </a:lnTo>
                    <a:lnTo>
                      <a:pt x="1015" y="4120"/>
                    </a:lnTo>
                    <a:lnTo>
                      <a:pt x="1796" y="4120"/>
                    </a:lnTo>
                    <a:lnTo>
                      <a:pt x="1718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48520" y="5983200"/>
                <a:ext cx="743400" cy="179640"/>
              </a:xfrm>
              <a:custGeom>
                <a:avLst/>
                <a:gdLst/>
                <a:ahLst/>
                <a:rect l="0" t="0" r="r" b="b"/>
                <a:pathLst>
                  <a:path w="2065" h="499">
                    <a:moveTo>
                      <a:pt x="1359" y="158"/>
                    </a:moveTo>
                    <a:lnTo>
                      <a:pt x="967" y="45"/>
                    </a:lnTo>
                    <a:lnTo>
                      <a:pt x="706" y="0"/>
                    </a:lnTo>
                    <a:lnTo>
                      <a:pt x="417" y="90"/>
                    </a:lnTo>
                    <a:lnTo>
                      <a:pt x="130" y="226"/>
                    </a:lnTo>
                    <a:lnTo>
                      <a:pt x="0" y="408"/>
                    </a:lnTo>
                    <a:lnTo>
                      <a:pt x="182" y="499"/>
                    </a:lnTo>
                    <a:lnTo>
                      <a:pt x="2065" y="499"/>
                    </a:lnTo>
                    <a:lnTo>
                      <a:pt x="2065" y="158"/>
                    </a:lnTo>
                    <a:lnTo>
                      <a:pt x="1359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000920" y="5983200"/>
                <a:ext cx="743400" cy="179640"/>
              </a:xfrm>
              <a:custGeom>
                <a:avLst/>
                <a:gdLst/>
                <a:ahLst/>
                <a:rect l="0" t="0" r="r" b="b"/>
                <a:pathLst>
                  <a:path w="2065" h="499">
                    <a:moveTo>
                      <a:pt x="706" y="158"/>
                    </a:moveTo>
                    <a:lnTo>
                      <a:pt x="1098" y="45"/>
                    </a:lnTo>
                    <a:lnTo>
                      <a:pt x="1359" y="0"/>
                    </a:lnTo>
                    <a:lnTo>
                      <a:pt x="1647" y="90"/>
                    </a:lnTo>
                    <a:lnTo>
                      <a:pt x="1935" y="226"/>
                    </a:lnTo>
                    <a:lnTo>
                      <a:pt x="2065" y="408"/>
                    </a:lnTo>
                    <a:lnTo>
                      <a:pt x="1882" y="499"/>
                    </a:lnTo>
                    <a:lnTo>
                      <a:pt x="0" y="499"/>
                    </a:lnTo>
                    <a:lnTo>
                      <a:pt x="0" y="158"/>
                    </a:lnTo>
                    <a:lnTo>
                      <a:pt x="706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6291360" y="3479760"/>
              <a:ext cx="503640" cy="1243080"/>
              <a:chOff x="6291360" y="3479760"/>
              <a:chExt cx="503640" cy="1243080"/>
            </a:xfrm>
          </p:grpSpPr>
          <p:sp>
            <p:nvSpPr>
              <p:cNvPr id="568" name=""/>
              <p:cNvSpPr/>
              <p:nvPr/>
            </p:nvSpPr>
            <p:spPr>
              <a:xfrm>
                <a:off x="6315120" y="3479760"/>
                <a:ext cx="479880" cy="1026000"/>
              </a:xfrm>
              <a:custGeom>
                <a:avLst/>
                <a:gdLst/>
                <a:ahLst/>
                <a:rect l="0" t="0" r="r" b="b"/>
                <a:pathLst>
                  <a:path w="1333" h="2850">
                    <a:moveTo>
                      <a:pt x="1098" y="0"/>
                    </a:moveTo>
                    <a:lnTo>
                      <a:pt x="1255" y="91"/>
                    </a:lnTo>
                    <a:lnTo>
                      <a:pt x="1333" y="364"/>
                    </a:lnTo>
                    <a:lnTo>
                      <a:pt x="1124" y="1140"/>
                    </a:lnTo>
                    <a:lnTo>
                      <a:pt x="810" y="2850"/>
                    </a:lnTo>
                    <a:lnTo>
                      <a:pt x="0" y="2713"/>
                    </a:lnTo>
                    <a:lnTo>
                      <a:pt x="366" y="1254"/>
                    </a:lnTo>
                    <a:lnTo>
                      <a:pt x="784" y="205"/>
                    </a:lnTo>
                    <a:lnTo>
                      <a:pt x="1098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291360" y="4476600"/>
                <a:ext cx="29988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6404040" y="1905120"/>
              <a:ext cx="1068480" cy="2821320"/>
              <a:chOff x="6404040" y="1905120"/>
              <a:chExt cx="1068480" cy="2821320"/>
            </a:xfrm>
          </p:grpSpPr>
          <p:sp>
            <p:nvSpPr>
              <p:cNvPr id="571" name=""/>
              <p:cNvSpPr/>
              <p:nvPr/>
            </p:nvSpPr>
            <p:spPr>
              <a:xfrm>
                <a:off x="6502320" y="3346560"/>
                <a:ext cx="970200" cy="1379880"/>
              </a:xfrm>
              <a:custGeom>
                <a:avLst/>
                <a:gdLst/>
                <a:ahLst/>
                <a:rect l="0" t="0" r="r" b="b"/>
                <a:pathLst>
                  <a:path w="2695" h="3833">
                    <a:moveTo>
                      <a:pt x="943" y="323"/>
                    </a:moveTo>
                    <a:lnTo>
                      <a:pt x="856" y="338"/>
                    </a:lnTo>
                    <a:lnTo>
                      <a:pt x="790" y="376"/>
                    </a:lnTo>
                    <a:lnTo>
                      <a:pt x="664" y="501"/>
                    </a:lnTo>
                    <a:lnTo>
                      <a:pt x="534" y="623"/>
                    </a:lnTo>
                    <a:lnTo>
                      <a:pt x="386" y="733"/>
                    </a:lnTo>
                    <a:lnTo>
                      <a:pt x="365" y="767"/>
                    </a:lnTo>
                    <a:lnTo>
                      <a:pt x="343" y="802"/>
                    </a:lnTo>
                    <a:lnTo>
                      <a:pt x="343" y="802"/>
                    </a:lnTo>
                    <a:lnTo>
                      <a:pt x="365" y="802"/>
                    </a:lnTo>
                    <a:lnTo>
                      <a:pt x="152" y="1338"/>
                    </a:lnTo>
                    <a:lnTo>
                      <a:pt x="0" y="3745"/>
                    </a:lnTo>
                    <a:lnTo>
                      <a:pt x="2695" y="3833"/>
                    </a:lnTo>
                    <a:lnTo>
                      <a:pt x="2291" y="1589"/>
                    </a:lnTo>
                    <a:lnTo>
                      <a:pt x="2095" y="357"/>
                    </a:lnTo>
                    <a:lnTo>
                      <a:pt x="1369" y="0"/>
                    </a:lnTo>
                    <a:lnTo>
                      <a:pt x="943" y="323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794640" y="3355920"/>
                <a:ext cx="300240" cy="155880"/>
              </a:xfrm>
              <a:custGeom>
                <a:avLst/>
                <a:gdLst/>
                <a:ahLst/>
                <a:rect l="0" t="0" r="r" b="b"/>
                <a:pathLst>
                  <a:path w="834" h="433">
                    <a:moveTo>
                      <a:pt x="0" y="296"/>
                    </a:moveTo>
                    <a:lnTo>
                      <a:pt x="234" y="410"/>
                    </a:lnTo>
                    <a:lnTo>
                      <a:pt x="652" y="433"/>
                    </a:lnTo>
                    <a:lnTo>
                      <a:pt x="834" y="228"/>
                    </a:lnTo>
                    <a:lnTo>
                      <a:pt x="834" y="68"/>
                    </a:lnTo>
                    <a:lnTo>
                      <a:pt x="652" y="0"/>
                    </a:lnTo>
                    <a:lnTo>
                      <a:pt x="469" y="228"/>
                    </a:lnTo>
                    <a:lnTo>
                      <a:pt x="182" y="251"/>
                    </a:lnTo>
                    <a:lnTo>
                      <a:pt x="0" y="296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6404040" y="1905120"/>
                <a:ext cx="992520" cy="1567440"/>
                <a:chOff x="6404040" y="1905120"/>
                <a:chExt cx="992520" cy="156744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6512040" y="2109960"/>
                  <a:ext cx="884520" cy="1362600"/>
                </a:xfrm>
                <a:custGeom>
                  <a:avLst/>
                  <a:gdLst/>
                  <a:ahLst/>
                  <a:rect l="0" t="0" r="r" b="b"/>
                  <a:pathLst>
                    <a:path w="2457" h="3785">
                      <a:moveTo>
                        <a:pt x="574" y="0"/>
                      </a:moveTo>
                      <a:lnTo>
                        <a:pt x="261" y="227"/>
                      </a:lnTo>
                      <a:lnTo>
                        <a:pt x="78" y="592"/>
                      </a:lnTo>
                      <a:lnTo>
                        <a:pt x="26" y="1049"/>
                      </a:lnTo>
                      <a:lnTo>
                        <a:pt x="0" y="2325"/>
                      </a:lnTo>
                      <a:lnTo>
                        <a:pt x="52" y="3056"/>
                      </a:lnTo>
                      <a:lnTo>
                        <a:pt x="810" y="3101"/>
                      </a:lnTo>
                      <a:lnTo>
                        <a:pt x="914" y="3512"/>
                      </a:lnTo>
                      <a:lnTo>
                        <a:pt x="1019" y="3785"/>
                      </a:lnTo>
                      <a:lnTo>
                        <a:pt x="1255" y="3785"/>
                      </a:lnTo>
                      <a:lnTo>
                        <a:pt x="1385" y="3534"/>
                      </a:lnTo>
                      <a:lnTo>
                        <a:pt x="1307" y="3101"/>
                      </a:lnTo>
                      <a:lnTo>
                        <a:pt x="2013" y="3033"/>
                      </a:lnTo>
                      <a:lnTo>
                        <a:pt x="2039" y="2599"/>
                      </a:lnTo>
                      <a:lnTo>
                        <a:pt x="2195" y="2667"/>
                      </a:lnTo>
                      <a:lnTo>
                        <a:pt x="2352" y="2622"/>
                      </a:lnTo>
                      <a:lnTo>
                        <a:pt x="2457" y="2257"/>
                      </a:lnTo>
                      <a:lnTo>
                        <a:pt x="2326" y="2075"/>
                      </a:lnTo>
                      <a:lnTo>
                        <a:pt x="2169" y="2097"/>
                      </a:lnTo>
                      <a:lnTo>
                        <a:pt x="2326" y="159"/>
                      </a:lnTo>
                      <a:lnTo>
                        <a:pt x="5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6404040" y="2489040"/>
                  <a:ext cx="404640" cy="3538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751800" y="2457360"/>
                  <a:ext cx="479520" cy="420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740640" y="1932120"/>
                  <a:ext cx="612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V="1">
                  <a:off x="6851520" y="1914480"/>
                  <a:ext cx="1584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V="1">
                  <a:off x="7012080" y="1905120"/>
                  <a:ext cx="36360" cy="196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V="1">
                  <a:off x="7172280" y="1946160"/>
                  <a:ext cx="54000" cy="173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V="1">
                  <a:off x="7311960" y="1971720"/>
                  <a:ext cx="54000" cy="15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540480" y="3009960"/>
                  <a:ext cx="507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6438960" y="2679840"/>
                  <a:ext cx="774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4" name=""/>
            <p:cNvGrpSpPr/>
            <p:nvPr/>
          </p:nvGrpSpPr>
          <p:grpSpPr>
            <a:xfrm>
              <a:off x="7169040" y="3494160"/>
              <a:ext cx="503280" cy="1246320"/>
              <a:chOff x="7169040" y="3494160"/>
              <a:chExt cx="503280" cy="1246320"/>
            </a:xfrm>
          </p:grpSpPr>
          <p:sp>
            <p:nvSpPr>
              <p:cNvPr id="585" name=""/>
              <p:cNvSpPr/>
              <p:nvPr/>
            </p:nvSpPr>
            <p:spPr>
              <a:xfrm>
                <a:off x="7169040" y="3494160"/>
                <a:ext cx="481320" cy="1026000"/>
              </a:xfrm>
              <a:custGeom>
                <a:avLst/>
                <a:gdLst/>
                <a:ahLst/>
                <a:rect l="0" t="0" r="r" b="b"/>
                <a:pathLst>
                  <a:path w="1337" h="2850">
                    <a:moveTo>
                      <a:pt x="235" y="0"/>
                    </a:moveTo>
                    <a:lnTo>
                      <a:pt x="78" y="91"/>
                    </a:lnTo>
                    <a:lnTo>
                      <a:pt x="0" y="364"/>
                    </a:lnTo>
                    <a:lnTo>
                      <a:pt x="209" y="1140"/>
                    </a:lnTo>
                    <a:lnTo>
                      <a:pt x="523" y="2850"/>
                    </a:lnTo>
                    <a:lnTo>
                      <a:pt x="1337" y="2713"/>
                    </a:lnTo>
                    <a:lnTo>
                      <a:pt x="970" y="1254"/>
                    </a:lnTo>
                    <a:lnTo>
                      <a:pt x="550" y="205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73880" y="4494240"/>
                <a:ext cx="29844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7" name=""/>
          <p:cNvGrpSpPr/>
          <p:nvPr/>
        </p:nvGrpSpPr>
        <p:grpSpPr>
          <a:xfrm>
            <a:off x="1727280" y="4854600"/>
            <a:ext cx="828720" cy="1165680"/>
            <a:chOff x="1727280" y="4854600"/>
            <a:chExt cx="828720" cy="1165680"/>
          </a:xfrm>
        </p:grpSpPr>
        <p:sp>
          <p:nvSpPr>
            <p:cNvPr id="588" name=""/>
            <p:cNvSpPr/>
            <p:nvPr/>
          </p:nvSpPr>
          <p:spPr>
            <a:xfrm>
              <a:off x="1755720" y="5335560"/>
              <a:ext cx="582840" cy="675000"/>
            </a:xfrm>
            <a:custGeom>
              <a:avLst/>
              <a:gdLst/>
              <a:ahLst/>
              <a:rect l="0" t="0" r="r" b="b"/>
              <a:pathLst>
                <a:path w="1619" h="1875">
                  <a:moveTo>
                    <a:pt x="308" y="668"/>
                  </a:moveTo>
                  <a:lnTo>
                    <a:pt x="142" y="794"/>
                  </a:lnTo>
                  <a:lnTo>
                    <a:pt x="35" y="968"/>
                  </a:lnTo>
                  <a:lnTo>
                    <a:pt x="0" y="1137"/>
                  </a:lnTo>
                  <a:lnTo>
                    <a:pt x="11" y="1321"/>
                  </a:lnTo>
                  <a:lnTo>
                    <a:pt x="53" y="1491"/>
                  </a:lnTo>
                  <a:lnTo>
                    <a:pt x="91" y="1569"/>
                  </a:lnTo>
                  <a:lnTo>
                    <a:pt x="189" y="1663"/>
                  </a:lnTo>
                  <a:lnTo>
                    <a:pt x="320" y="1751"/>
                  </a:lnTo>
                  <a:lnTo>
                    <a:pt x="480" y="1838"/>
                  </a:lnTo>
                  <a:lnTo>
                    <a:pt x="580" y="1866"/>
                  </a:lnTo>
                  <a:lnTo>
                    <a:pt x="788" y="1875"/>
                  </a:lnTo>
                  <a:lnTo>
                    <a:pt x="970" y="1872"/>
                  </a:lnTo>
                  <a:lnTo>
                    <a:pt x="1079" y="1847"/>
                  </a:lnTo>
                  <a:lnTo>
                    <a:pt x="1242" y="1790"/>
                  </a:lnTo>
                  <a:lnTo>
                    <a:pt x="1400" y="1702"/>
                  </a:lnTo>
                  <a:lnTo>
                    <a:pt x="1515" y="1575"/>
                  </a:lnTo>
                  <a:lnTo>
                    <a:pt x="1589" y="1376"/>
                  </a:lnTo>
                  <a:lnTo>
                    <a:pt x="1619" y="1195"/>
                  </a:lnTo>
                  <a:lnTo>
                    <a:pt x="1592" y="1016"/>
                  </a:lnTo>
                  <a:lnTo>
                    <a:pt x="1518" y="876"/>
                  </a:lnTo>
                  <a:lnTo>
                    <a:pt x="1405" y="746"/>
                  </a:lnTo>
                  <a:lnTo>
                    <a:pt x="1325" y="661"/>
                  </a:lnTo>
                  <a:lnTo>
                    <a:pt x="1391" y="583"/>
                  </a:lnTo>
                  <a:lnTo>
                    <a:pt x="1423" y="459"/>
                  </a:lnTo>
                  <a:lnTo>
                    <a:pt x="1402" y="314"/>
                  </a:lnTo>
                  <a:lnTo>
                    <a:pt x="1349" y="211"/>
                  </a:lnTo>
                  <a:lnTo>
                    <a:pt x="1272" y="117"/>
                  </a:lnTo>
                  <a:lnTo>
                    <a:pt x="1174" y="45"/>
                  </a:lnTo>
                  <a:lnTo>
                    <a:pt x="1127" y="12"/>
                  </a:lnTo>
                  <a:lnTo>
                    <a:pt x="988" y="57"/>
                  </a:lnTo>
                  <a:lnTo>
                    <a:pt x="819" y="54"/>
                  </a:lnTo>
                  <a:lnTo>
                    <a:pt x="702" y="0"/>
                  </a:lnTo>
                  <a:lnTo>
                    <a:pt x="527" y="27"/>
                  </a:lnTo>
                  <a:lnTo>
                    <a:pt x="388" y="105"/>
                  </a:lnTo>
                  <a:lnTo>
                    <a:pt x="293" y="220"/>
                  </a:lnTo>
                  <a:lnTo>
                    <a:pt x="263" y="308"/>
                  </a:lnTo>
                  <a:lnTo>
                    <a:pt x="254" y="323"/>
                  </a:lnTo>
                  <a:lnTo>
                    <a:pt x="269" y="429"/>
                  </a:lnTo>
                  <a:lnTo>
                    <a:pt x="260" y="441"/>
                  </a:lnTo>
                  <a:lnTo>
                    <a:pt x="284" y="562"/>
                  </a:lnTo>
                  <a:lnTo>
                    <a:pt x="30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71720" y="5065560"/>
              <a:ext cx="259200" cy="292320"/>
            </a:xfrm>
            <a:custGeom>
              <a:avLst/>
              <a:gdLst/>
              <a:ahLst/>
              <a:rect l="0" t="0" r="r" b="b"/>
              <a:pathLst>
                <a:path w="720" h="812">
                  <a:moveTo>
                    <a:pt x="38" y="654"/>
                  </a:moveTo>
                  <a:lnTo>
                    <a:pt x="0" y="533"/>
                  </a:lnTo>
                  <a:lnTo>
                    <a:pt x="0" y="427"/>
                  </a:lnTo>
                  <a:lnTo>
                    <a:pt x="20" y="284"/>
                  </a:lnTo>
                  <a:lnTo>
                    <a:pt x="103" y="157"/>
                  </a:lnTo>
                  <a:lnTo>
                    <a:pt x="219" y="66"/>
                  </a:lnTo>
                  <a:lnTo>
                    <a:pt x="350" y="15"/>
                  </a:lnTo>
                  <a:lnTo>
                    <a:pt x="456" y="0"/>
                  </a:lnTo>
                  <a:lnTo>
                    <a:pt x="561" y="24"/>
                  </a:lnTo>
                  <a:lnTo>
                    <a:pt x="649" y="66"/>
                  </a:lnTo>
                  <a:lnTo>
                    <a:pt x="705" y="160"/>
                  </a:lnTo>
                  <a:lnTo>
                    <a:pt x="720" y="293"/>
                  </a:lnTo>
                  <a:lnTo>
                    <a:pt x="705" y="427"/>
                  </a:lnTo>
                  <a:lnTo>
                    <a:pt x="655" y="564"/>
                  </a:lnTo>
                  <a:lnTo>
                    <a:pt x="596" y="679"/>
                  </a:lnTo>
                  <a:lnTo>
                    <a:pt x="506" y="760"/>
                  </a:lnTo>
                  <a:lnTo>
                    <a:pt x="421" y="800"/>
                  </a:lnTo>
                  <a:lnTo>
                    <a:pt x="276" y="812"/>
                  </a:lnTo>
                  <a:lnTo>
                    <a:pt x="171" y="773"/>
                  </a:lnTo>
                  <a:lnTo>
                    <a:pt x="88" y="742"/>
                  </a:lnTo>
                  <a:lnTo>
                    <a:pt x="38" y="6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57320" y="5054760"/>
              <a:ext cx="282960" cy="311400"/>
            </a:xfrm>
            <a:custGeom>
              <a:avLst/>
              <a:gdLst/>
              <a:ahLst/>
              <a:rect l="0" t="0" r="r" b="b"/>
              <a:pathLst>
                <a:path w="786" h="865">
                  <a:moveTo>
                    <a:pt x="0" y="415"/>
                  </a:moveTo>
                  <a:lnTo>
                    <a:pt x="23" y="330"/>
                  </a:lnTo>
                  <a:lnTo>
                    <a:pt x="65" y="242"/>
                  </a:lnTo>
                  <a:lnTo>
                    <a:pt x="133" y="154"/>
                  </a:lnTo>
                  <a:lnTo>
                    <a:pt x="232" y="75"/>
                  </a:lnTo>
                  <a:lnTo>
                    <a:pt x="336" y="21"/>
                  </a:lnTo>
                  <a:lnTo>
                    <a:pt x="441" y="0"/>
                  </a:lnTo>
                  <a:lnTo>
                    <a:pt x="521" y="3"/>
                  </a:lnTo>
                  <a:lnTo>
                    <a:pt x="602" y="18"/>
                  </a:lnTo>
                  <a:lnTo>
                    <a:pt x="688" y="51"/>
                  </a:lnTo>
                  <a:lnTo>
                    <a:pt x="739" y="115"/>
                  </a:lnTo>
                  <a:lnTo>
                    <a:pt x="778" y="203"/>
                  </a:lnTo>
                  <a:lnTo>
                    <a:pt x="786" y="315"/>
                  </a:lnTo>
                  <a:lnTo>
                    <a:pt x="786" y="421"/>
                  </a:lnTo>
                  <a:lnTo>
                    <a:pt x="766" y="519"/>
                  </a:lnTo>
                  <a:lnTo>
                    <a:pt x="730" y="610"/>
                  </a:lnTo>
                  <a:lnTo>
                    <a:pt x="673" y="704"/>
                  </a:lnTo>
                  <a:lnTo>
                    <a:pt x="605" y="780"/>
                  </a:lnTo>
                  <a:lnTo>
                    <a:pt x="530" y="834"/>
                  </a:lnTo>
                  <a:lnTo>
                    <a:pt x="444" y="865"/>
                  </a:lnTo>
                  <a:lnTo>
                    <a:pt x="331" y="865"/>
                  </a:lnTo>
                  <a:lnTo>
                    <a:pt x="238" y="859"/>
                  </a:lnTo>
                  <a:lnTo>
                    <a:pt x="160" y="819"/>
                  </a:lnTo>
                  <a:lnTo>
                    <a:pt x="104" y="780"/>
                  </a:lnTo>
                  <a:lnTo>
                    <a:pt x="62" y="722"/>
                  </a:lnTo>
                  <a:lnTo>
                    <a:pt x="26" y="646"/>
                  </a:lnTo>
                  <a:lnTo>
                    <a:pt x="5" y="559"/>
                  </a:lnTo>
                  <a:lnTo>
                    <a:pt x="5" y="480"/>
                  </a:lnTo>
                  <a:lnTo>
                    <a:pt x="62" y="492"/>
                  </a:lnTo>
                  <a:lnTo>
                    <a:pt x="77" y="589"/>
                  </a:lnTo>
                  <a:lnTo>
                    <a:pt x="121" y="683"/>
                  </a:lnTo>
                  <a:lnTo>
                    <a:pt x="178" y="743"/>
                  </a:lnTo>
                  <a:lnTo>
                    <a:pt x="256" y="783"/>
                  </a:lnTo>
                  <a:lnTo>
                    <a:pt x="357" y="801"/>
                  </a:lnTo>
                  <a:lnTo>
                    <a:pt x="461" y="789"/>
                  </a:lnTo>
                  <a:lnTo>
                    <a:pt x="536" y="762"/>
                  </a:lnTo>
                  <a:lnTo>
                    <a:pt x="602" y="701"/>
                  </a:lnTo>
                  <a:lnTo>
                    <a:pt x="656" y="619"/>
                  </a:lnTo>
                  <a:lnTo>
                    <a:pt x="700" y="531"/>
                  </a:lnTo>
                  <a:lnTo>
                    <a:pt x="730" y="437"/>
                  </a:lnTo>
                  <a:lnTo>
                    <a:pt x="730" y="327"/>
                  </a:lnTo>
                  <a:lnTo>
                    <a:pt x="721" y="233"/>
                  </a:lnTo>
                  <a:lnTo>
                    <a:pt x="697" y="157"/>
                  </a:lnTo>
                  <a:lnTo>
                    <a:pt x="650" y="109"/>
                  </a:lnTo>
                  <a:lnTo>
                    <a:pt x="586" y="75"/>
                  </a:lnTo>
                  <a:lnTo>
                    <a:pt x="497" y="57"/>
                  </a:lnTo>
                  <a:lnTo>
                    <a:pt x="414" y="57"/>
                  </a:lnTo>
                  <a:lnTo>
                    <a:pt x="319" y="90"/>
                  </a:lnTo>
                  <a:lnTo>
                    <a:pt x="232" y="145"/>
                  </a:lnTo>
                  <a:lnTo>
                    <a:pt x="148" y="215"/>
                  </a:lnTo>
                  <a:lnTo>
                    <a:pt x="101" y="297"/>
                  </a:lnTo>
                  <a:lnTo>
                    <a:pt x="71" y="376"/>
                  </a:lnTo>
                  <a:lnTo>
                    <a:pt x="56" y="452"/>
                  </a:lnTo>
                  <a:lnTo>
                    <a:pt x="8" y="446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049480" y="5130720"/>
              <a:ext cx="49680" cy="51120"/>
            </a:xfrm>
            <a:custGeom>
              <a:avLst/>
              <a:gdLst/>
              <a:ahLst/>
              <a:rect l="0" t="0" r="r" b="b"/>
              <a:pathLst>
                <a:path w="138" h="142">
                  <a:moveTo>
                    <a:pt x="21" y="35"/>
                  </a:moveTo>
                  <a:lnTo>
                    <a:pt x="61" y="5"/>
                  </a:lnTo>
                  <a:lnTo>
                    <a:pt x="101" y="0"/>
                  </a:lnTo>
                  <a:lnTo>
                    <a:pt x="138" y="17"/>
                  </a:lnTo>
                  <a:lnTo>
                    <a:pt x="138" y="55"/>
                  </a:lnTo>
                  <a:lnTo>
                    <a:pt x="123" y="103"/>
                  </a:lnTo>
                  <a:lnTo>
                    <a:pt x="89" y="139"/>
                  </a:lnTo>
                  <a:lnTo>
                    <a:pt x="30" y="142"/>
                  </a:lnTo>
                  <a:lnTo>
                    <a:pt x="9" y="118"/>
                  </a:lnTo>
                  <a:lnTo>
                    <a:pt x="0" y="83"/>
                  </a:lnTo>
                  <a:lnTo>
                    <a:pt x="2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108160" y="5157720"/>
              <a:ext cx="47880" cy="49680"/>
            </a:xfrm>
            <a:custGeom>
              <a:avLst/>
              <a:gdLst/>
              <a:ahLst/>
              <a:rect l="0" t="0" r="r" b="b"/>
              <a:pathLst>
                <a:path w="133" h="138">
                  <a:moveTo>
                    <a:pt x="20" y="31"/>
                  </a:moveTo>
                  <a:lnTo>
                    <a:pt x="55" y="3"/>
                  </a:lnTo>
                  <a:lnTo>
                    <a:pt x="89" y="0"/>
                  </a:lnTo>
                  <a:lnTo>
                    <a:pt x="127" y="18"/>
                  </a:lnTo>
                  <a:lnTo>
                    <a:pt x="133" y="56"/>
                  </a:lnTo>
                  <a:lnTo>
                    <a:pt x="124" y="91"/>
                  </a:lnTo>
                  <a:lnTo>
                    <a:pt x="98" y="126"/>
                  </a:lnTo>
                  <a:lnTo>
                    <a:pt x="64" y="138"/>
                  </a:lnTo>
                  <a:lnTo>
                    <a:pt x="23" y="135"/>
                  </a:lnTo>
                  <a:lnTo>
                    <a:pt x="2" y="116"/>
                  </a:lnTo>
                  <a:lnTo>
                    <a:pt x="0" y="81"/>
                  </a:lnTo>
                  <a:lnTo>
                    <a:pt x="2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884240" y="5203800"/>
              <a:ext cx="174960" cy="38520"/>
            </a:xfrm>
            <a:custGeom>
              <a:avLst/>
              <a:gdLst/>
              <a:ahLst/>
              <a:rect l="0" t="0" r="r" b="b"/>
              <a:pathLst>
                <a:path w="486" h="107">
                  <a:moveTo>
                    <a:pt x="29" y="6"/>
                  </a:moveTo>
                  <a:lnTo>
                    <a:pt x="47" y="6"/>
                  </a:lnTo>
                  <a:lnTo>
                    <a:pt x="438" y="0"/>
                  </a:lnTo>
                  <a:lnTo>
                    <a:pt x="477" y="24"/>
                  </a:lnTo>
                  <a:lnTo>
                    <a:pt x="486" y="60"/>
                  </a:lnTo>
                  <a:lnTo>
                    <a:pt x="468" y="98"/>
                  </a:lnTo>
                  <a:lnTo>
                    <a:pt x="432" y="107"/>
                  </a:lnTo>
                  <a:lnTo>
                    <a:pt x="329" y="104"/>
                  </a:lnTo>
                  <a:lnTo>
                    <a:pt x="17" y="78"/>
                  </a:lnTo>
                  <a:lnTo>
                    <a:pt x="0" y="44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992240" y="5122800"/>
              <a:ext cx="235440" cy="224280"/>
            </a:xfrm>
            <a:custGeom>
              <a:avLst/>
              <a:gdLst/>
              <a:ahLst/>
              <a:rect l="0" t="0" r="r" b="b"/>
              <a:pathLst>
                <a:path w="654" h="623">
                  <a:moveTo>
                    <a:pt x="630" y="0"/>
                  </a:moveTo>
                  <a:lnTo>
                    <a:pt x="607" y="207"/>
                  </a:lnTo>
                  <a:lnTo>
                    <a:pt x="589" y="277"/>
                  </a:lnTo>
                  <a:lnTo>
                    <a:pt x="518" y="389"/>
                  </a:lnTo>
                  <a:lnTo>
                    <a:pt x="443" y="475"/>
                  </a:lnTo>
                  <a:lnTo>
                    <a:pt x="342" y="523"/>
                  </a:lnTo>
                  <a:lnTo>
                    <a:pt x="265" y="550"/>
                  </a:lnTo>
                  <a:lnTo>
                    <a:pt x="176" y="554"/>
                  </a:lnTo>
                  <a:lnTo>
                    <a:pt x="100" y="541"/>
                  </a:lnTo>
                  <a:lnTo>
                    <a:pt x="26" y="484"/>
                  </a:lnTo>
                  <a:lnTo>
                    <a:pt x="0" y="484"/>
                  </a:lnTo>
                  <a:lnTo>
                    <a:pt x="53" y="560"/>
                  </a:lnTo>
                  <a:lnTo>
                    <a:pt x="139" y="599"/>
                  </a:lnTo>
                  <a:lnTo>
                    <a:pt x="205" y="617"/>
                  </a:lnTo>
                  <a:lnTo>
                    <a:pt x="217" y="623"/>
                  </a:lnTo>
                  <a:lnTo>
                    <a:pt x="273" y="620"/>
                  </a:lnTo>
                  <a:lnTo>
                    <a:pt x="368" y="611"/>
                  </a:lnTo>
                  <a:lnTo>
                    <a:pt x="428" y="593"/>
                  </a:lnTo>
                  <a:lnTo>
                    <a:pt x="494" y="541"/>
                  </a:lnTo>
                  <a:lnTo>
                    <a:pt x="565" y="455"/>
                  </a:lnTo>
                  <a:lnTo>
                    <a:pt x="616" y="349"/>
                  </a:lnTo>
                  <a:lnTo>
                    <a:pt x="622" y="334"/>
                  </a:lnTo>
                  <a:lnTo>
                    <a:pt x="654" y="243"/>
                  </a:lnTo>
                  <a:lnTo>
                    <a:pt x="642" y="139"/>
                  </a:lnTo>
                  <a:lnTo>
                    <a:pt x="630" y="18"/>
                  </a:lnTo>
                  <a:lnTo>
                    <a:pt x="622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27280" y="5286240"/>
              <a:ext cx="160560" cy="120960"/>
            </a:xfrm>
            <a:custGeom>
              <a:avLst/>
              <a:gdLst/>
              <a:ahLst/>
              <a:rect l="0" t="0" r="r" b="b"/>
              <a:pathLst>
                <a:path w="446" h="336">
                  <a:moveTo>
                    <a:pt x="419" y="264"/>
                  </a:moveTo>
                  <a:lnTo>
                    <a:pt x="250" y="149"/>
                  </a:lnTo>
                  <a:lnTo>
                    <a:pt x="163" y="89"/>
                  </a:lnTo>
                  <a:lnTo>
                    <a:pt x="145" y="41"/>
                  </a:lnTo>
                  <a:lnTo>
                    <a:pt x="139" y="0"/>
                  </a:lnTo>
                  <a:lnTo>
                    <a:pt x="92" y="5"/>
                  </a:lnTo>
                  <a:lnTo>
                    <a:pt x="65" y="35"/>
                  </a:lnTo>
                  <a:lnTo>
                    <a:pt x="92" y="107"/>
                  </a:lnTo>
                  <a:lnTo>
                    <a:pt x="83" y="140"/>
                  </a:lnTo>
                  <a:lnTo>
                    <a:pt x="53" y="167"/>
                  </a:lnTo>
                  <a:lnTo>
                    <a:pt x="0" y="198"/>
                  </a:lnTo>
                  <a:lnTo>
                    <a:pt x="0" y="234"/>
                  </a:lnTo>
                  <a:lnTo>
                    <a:pt x="26" y="261"/>
                  </a:lnTo>
                  <a:lnTo>
                    <a:pt x="71" y="273"/>
                  </a:lnTo>
                  <a:lnTo>
                    <a:pt x="100" y="234"/>
                  </a:lnTo>
                  <a:lnTo>
                    <a:pt x="139" y="195"/>
                  </a:lnTo>
                  <a:lnTo>
                    <a:pt x="178" y="195"/>
                  </a:lnTo>
                  <a:lnTo>
                    <a:pt x="253" y="228"/>
                  </a:lnTo>
                  <a:lnTo>
                    <a:pt x="410" y="336"/>
                  </a:lnTo>
                  <a:lnTo>
                    <a:pt x="446" y="291"/>
                  </a:lnTo>
                  <a:lnTo>
                    <a:pt x="419" y="264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996920" y="5386320"/>
              <a:ext cx="57600" cy="55800"/>
            </a:xfrm>
            <a:custGeom>
              <a:avLst/>
              <a:gdLst/>
              <a:ahLst/>
              <a:rect l="0" t="0" r="r" b="b"/>
              <a:pathLst>
                <a:path w="160" h="155">
                  <a:moveTo>
                    <a:pt x="29" y="21"/>
                  </a:moveTo>
                  <a:lnTo>
                    <a:pt x="71" y="0"/>
                  </a:lnTo>
                  <a:lnTo>
                    <a:pt x="122" y="0"/>
                  </a:lnTo>
                  <a:lnTo>
                    <a:pt x="151" y="24"/>
                  </a:lnTo>
                  <a:lnTo>
                    <a:pt x="160" y="66"/>
                  </a:lnTo>
                  <a:lnTo>
                    <a:pt x="151" y="109"/>
                  </a:lnTo>
                  <a:lnTo>
                    <a:pt x="109" y="149"/>
                  </a:lnTo>
                  <a:lnTo>
                    <a:pt x="53" y="155"/>
                  </a:lnTo>
                  <a:lnTo>
                    <a:pt x="17" y="131"/>
                  </a:lnTo>
                  <a:lnTo>
                    <a:pt x="0" y="88"/>
                  </a:lnTo>
                  <a:lnTo>
                    <a:pt x="8" y="42"/>
                  </a:lnTo>
                  <a:lnTo>
                    <a:pt x="2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959120" y="5475240"/>
              <a:ext cx="51120" cy="60840"/>
            </a:xfrm>
            <a:custGeom>
              <a:avLst/>
              <a:gdLst/>
              <a:ahLst/>
              <a:rect l="0" t="0" r="r" b="b"/>
              <a:pathLst>
                <a:path w="142" h="169">
                  <a:moveTo>
                    <a:pt x="15" y="33"/>
                  </a:moveTo>
                  <a:lnTo>
                    <a:pt x="42" y="3"/>
                  </a:lnTo>
                  <a:lnTo>
                    <a:pt x="100" y="0"/>
                  </a:lnTo>
                  <a:lnTo>
                    <a:pt x="127" y="24"/>
                  </a:lnTo>
                  <a:lnTo>
                    <a:pt x="142" y="74"/>
                  </a:lnTo>
                  <a:lnTo>
                    <a:pt x="133" y="125"/>
                  </a:lnTo>
                  <a:lnTo>
                    <a:pt x="91" y="163"/>
                  </a:lnTo>
                  <a:lnTo>
                    <a:pt x="42" y="169"/>
                  </a:lnTo>
                  <a:lnTo>
                    <a:pt x="6" y="142"/>
                  </a:lnTo>
                  <a:lnTo>
                    <a:pt x="0" y="95"/>
                  </a:lnTo>
                  <a:lnTo>
                    <a:pt x="6" y="52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08160" y="5351400"/>
              <a:ext cx="154440" cy="276480"/>
            </a:xfrm>
            <a:custGeom>
              <a:avLst/>
              <a:gdLst/>
              <a:ahLst/>
              <a:rect l="0" t="0" r="r" b="b"/>
              <a:pathLst>
                <a:path w="429" h="768">
                  <a:moveTo>
                    <a:pt x="140" y="12"/>
                  </a:moveTo>
                  <a:lnTo>
                    <a:pt x="226" y="90"/>
                  </a:lnTo>
                  <a:lnTo>
                    <a:pt x="253" y="172"/>
                  </a:lnTo>
                  <a:lnTo>
                    <a:pt x="268" y="251"/>
                  </a:lnTo>
                  <a:lnTo>
                    <a:pt x="262" y="336"/>
                  </a:lnTo>
                  <a:lnTo>
                    <a:pt x="244" y="434"/>
                  </a:lnTo>
                  <a:lnTo>
                    <a:pt x="223" y="559"/>
                  </a:lnTo>
                  <a:lnTo>
                    <a:pt x="161" y="616"/>
                  </a:lnTo>
                  <a:lnTo>
                    <a:pt x="110" y="692"/>
                  </a:lnTo>
                  <a:lnTo>
                    <a:pt x="0" y="704"/>
                  </a:lnTo>
                  <a:lnTo>
                    <a:pt x="2" y="744"/>
                  </a:lnTo>
                  <a:lnTo>
                    <a:pt x="74" y="768"/>
                  </a:lnTo>
                  <a:lnTo>
                    <a:pt x="176" y="744"/>
                  </a:lnTo>
                  <a:lnTo>
                    <a:pt x="259" y="722"/>
                  </a:lnTo>
                  <a:lnTo>
                    <a:pt x="343" y="653"/>
                  </a:lnTo>
                  <a:lnTo>
                    <a:pt x="403" y="546"/>
                  </a:lnTo>
                  <a:lnTo>
                    <a:pt x="429" y="431"/>
                  </a:lnTo>
                  <a:lnTo>
                    <a:pt x="426" y="324"/>
                  </a:lnTo>
                  <a:lnTo>
                    <a:pt x="394" y="212"/>
                  </a:lnTo>
                  <a:lnTo>
                    <a:pt x="328" y="109"/>
                  </a:lnTo>
                  <a:lnTo>
                    <a:pt x="241" y="30"/>
                  </a:lnTo>
                  <a:lnTo>
                    <a:pt x="158" y="0"/>
                  </a:lnTo>
                  <a:lnTo>
                    <a:pt x="140" y="1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976400" y="5578560"/>
              <a:ext cx="49680" cy="52920"/>
            </a:xfrm>
            <a:custGeom>
              <a:avLst/>
              <a:gdLst/>
              <a:ahLst/>
              <a:rect l="0" t="0" r="r" b="b"/>
              <a:pathLst>
                <a:path w="138" h="147">
                  <a:moveTo>
                    <a:pt x="14" y="24"/>
                  </a:moveTo>
                  <a:lnTo>
                    <a:pt x="63" y="0"/>
                  </a:lnTo>
                  <a:lnTo>
                    <a:pt x="111" y="15"/>
                  </a:lnTo>
                  <a:lnTo>
                    <a:pt x="135" y="40"/>
                  </a:lnTo>
                  <a:lnTo>
                    <a:pt x="138" y="85"/>
                  </a:lnTo>
                  <a:lnTo>
                    <a:pt x="126" y="126"/>
                  </a:lnTo>
                  <a:lnTo>
                    <a:pt x="99" y="147"/>
                  </a:lnTo>
                  <a:lnTo>
                    <a:pt x="54" y="147"/>
                  </a:lnTo>
                  <a:lnTo>
                    <a:pt x="14" y="126"/>
                  </a:lnTo>
                  <a:lnTo>
                    <a:pt x="0" y="88"/>
                  </a:lnTo>
                  <a:lnTo>
                    <a:pt x="5" y="49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5624640"/>
              <a:ext cx="427320" cy="386280"/>
            </a:xfrm>
            <a:custGeom>
              <a:avLst/>
              <a:gdLst/>
              <a:ahLst/>
              <a:rect l="0" t="0" r="r" b="b"/>
              <a:pathLst>
                <a:path w="1187" h="1073">
                  <a:moveTo>
                    <a:pt x="1011" y="0"/>
                  </a:moveTo>
                  <a:lnTo>
                    <a:pt x="1115" y="102"/>
                  </a:lnTo>
                  <a:lnTo>
                    <a:pt x="1172" y="242"/>
                  </a:lnTo>
                  <a:lnTo>
                    <a:pt x="1187" y="376"/>
                  </a:lnTo>
                  <a:lnTo>
                    <a:pt x="1160" y="557"/>
                  </a:lnTo>
                  <a:lnTo>
                    <a:pt x="1103" y="736"/>
                  </a:lnTo>
                  <a:lnTo>
                    <a:pt x="1002" y="879"/>
                  </a:lnTo>
                  <a:lnTo>
                    <a:pt x="812" y="994"/>
                  </a:lnTo>
                  <a:lnTo>
                    <a:pt x="800" y="997"/>
                  </a:lnTo>
                  <a:lnTo>
                    <a:pt x="625" y="1061"/>
                  </a:lnTo>
                  <a:lnTo>
                    <a:pt x="386" y="1073"/>
                  </a:lnTo>
                  <a:lnTo>
                    <a:pt x="172" y="1061"/>
                  </a:lnTo>
                  <a:lnTo>
                    <a:pt x="0" y="994"/>
                  </a:lnTo>
                  <a:lnTo>
                    <a:pt x="196" y="997"/>
                  </a:lnTo>
                  <a:lnTo>
                    <a:pt x="365" y="994"/>
                  </a:lnTo>
                  <a:lnTo>
                    <a:pt x="538" y="946"/>
                  </a:lnTo>
                  <a:lnTo>
                    <a:pt x="696" y="891"/>
                  </a:lnTo>
                  <a:lnTo>
                    <a:pt x="791" y="831"/>
                  </a:lnTo>
                  <a:lnTo>
                    <a:pt x="889" y="754"/>
                  </a:lnTo>
                  <a:lnTo>
                    <a:pt x="964" y="660"/>
                  </a:lnTo>
                  <a:lnTo>
                    <a:pt x="1035" y="548"/>
                  </a:lnTo>
                  <a:lnTo>
                    <a:pt x="1065" y="442"/>
                  </a:lnTo>
                  <a:lnTo>
                    <a:pt x="1086" y="300"/>
                  </a:lnTo>
                  <a:lnTo>
                    <a:pt x="1056" y="142"/>
                  </a:lnTo>
                  <a:lnTo>
                    <a:pt x="1017" y="45"/>
                  </a:lnTo>
                  <a:lnTo>
                    <a:pt x="101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74760" y="5275440"/>
              <a:ext cx="381240" cy="167040"/>
            </a:xfrm>
            <a:custGeom>
              <a:avLst/>
              <a:gdLst/>
              <a:ahLst/>
              <a:rect l="0" t="0" r="r" b="b"/>
              <a:pathLst>
                <a:path w="1059" h="464">
                  <a:moveTo>
                    <a:pt x="142" y="351"/>
                  </a:moveTo>
                  <a:lnTo>
                    <a:pt x="65" y="397"/>
                  </a:lnTo>
                  <a:lnTo>
                    <a:pt x="0" y="418"/>
                  </a:lnTo>
                  <a:lnTo>
                    <a:pt x="0" y="445"/>
                  </a:lnTo>
                  <a:lnTo>
                    <a:pt x="47" y="464"/>
                  </a:lnTo>
                  <a:lnTo>
                    <a:pt x="104" y="454"/>
                  </a:lnTo>
                  <a:lnTo>
                    <a:pt x="208" y="418"/>
                  </a:lnTo>
                  <a:lnTo>
                    <a:pt x="395" y="351"/>
                  </a:lnTo>
                  <a:lnTo>
                    <a:pt x="583" y="308"/>
                  </a:lnTo>
                  <a:lnTo>
                    <a:pt x="708" y="278"/>
                  </a:lnTo>
                  <a:lnTo>
                    <a:pt x="815" y="287"/>
                  </a:lnTo>
                  <a:lnTo>
                    <a:pt x="895" y="299"/>
                  </a:lnTo>
                  <a:lnTo>
                    <a:pt x="990" y="326"/>
                  </a:lnTo>
                  <a:lnTo>
                    <a:pt x="1047" y="326"/>
                  </a:lnTo>
                  <a:lnTo>
                    <a:pt x="1059" y="293"/>
                  </a:lnTo>
                  <a:lnTo>
                    <a:pt x="1038" y="262"/>
                  </a:lnTo>
                  <a:lnTo>
                    <a:pt x="1011" y="244"/>
                  </a:lnTo>
                  <a:lnTo>
                    <a:pt x="943" y="231"/>
                  </a:lnTo>
                  <a:lnTo>
                    <a:pt x="872" y="219"/>
                  </a:lnTo>
                  <a:lnTo>
                    <a:pt x="863" y="194"/>
                  </a:lnTo>
                  <a:lnTo>
                    <a:pt x="886" y="164"/>
                  </a:lnTo>
                  <a:lnTo>
                    <a:pt x="937" y="146"/>
                  </a:lnTo>
                  <a:lnTo>
                    <a:pt x="999" y="97"/>
                  </a:lnTo>
                  <a:lnTo>
                    <a:pt x="1014" y="36"/>
                  </a:lnTo>
                  <a:lnTo>
                    <a:pt x="967" y="0"/>
                  </a:lnTo>
                  <a:lnTo>
                    <a:pt x="937" y="18"/>
                  </a:lnTo>
                  <a:lnTo>
                    <a:pt x="916" y="67"/>
                  </a:lnTo>
                  <a:lnTo>
                    <a:pt x="863" y="115"/>
                  </a:lnTo>
                  <a:lnTo>
                    <a:pt x="794" y="155"/>
                  </a:lnTo>
                  <a:lnTo>
                    <a:pt x="738" y="191"/>
                  </a:lnTo>
                  <a:lnTo>
                    <a:pt x="607" y="228"/>
                  </a:lnTo>
                  <a:lnTo>
                    <a:pt x="484" y="250"/>
                  </a:lnTo>
                  <a:lnTo>
                    <a:pt x="356" y="287"/>
                  </a:lnTo>
                  <a:lnTo>
                    <a:pt x="225" y="326"/>
                  </a:lnTo>
                  <a:lnTo>
                    <a:pt x="142" y="351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2023920" y="4854600"/>
              <a:ext cx="284400" cy="313200"/>
              <a:chOff x="2023920" y="4854600"/>
              <a:chExt cx="284400" cy="313200"/>
            </a:xfrm>
          </p:grpSpPr>
          <p:sp>
            <p:nvSpPr>
              <p:cNvPr id="603" name=""/>
              <p:cNvSpPr/>
              <p:nvPr/>
            </p:nvSpPr>
            <p:spPr>
              <a:xfrm>
                <a:off x="2066760" y="4865760"/>
                <a:ext cx="221040" cy="233640"/>
              </a:xfrm>
              <a:custGeom>
                <a:avLst/>
                <a:gdLst/>
                <a:ahLst/>
                <a:rect l="0" t="0" r="r" b="b"/>
                <a:pathLst>
                  <a:path w="614" h="649">
                    <a:moveTo>
                      <a:pt x="453" y="649"/>
                    </a:moveTo>
                    <a:lnTo>
                      <a:pt x="480" y="421"/>
                    </a:lnTo>
                    <a:lnTo>
                      <a:pt x="531" y="271"/>
                    </a:lnTo>
                    <a:lnTo>
                      <a:pt x="592" y="142"/>
                    </a:lnTo>
                    <a:lnTo>
                      <a:pt x="614" y="81"/>
                    </a:lnTo>
                    <a:lnTo>
                      <a:pt x="456" y="33"/>
                    </a:lnTo>
                    <a:lnTo>
                      <a:pt x="289" y="0"/>
                    </a:lnTo>
                    <a:lnTo>
                      <a:pt x="102" y="10"/>
                    </a:lnTo>
                    <a:lnTo>
                      <a:pt x="12" y="40"/>
                    </a:lnTo>
                    <a:lnTo>
                      <a:pt x="0" y="95"/>
                    </a:lnTo>
                    <a:lnTo>
                      <a:pt x="48" y="274"/>
                    </a:lnTo>
                    <a:lnTo>
                      <a:pt x="48" y="425"/>
                    </a:lnTo>
                    <a:lnTo>
                      <a:pt x="44" y="540"/>
                    </a:lnTo>
                    <a:lnTo>
                      <a:pt x="38" y="574"/>
                    </a:lnTo>
                    <a:lnTo>
                      <a:pt x="273" y="577"/>
                    </a:lnTo>
                    <a:lnTo>
                      <a:pt x="408" y="645"/>
                    </a:lnTo>
                    <a:lnTo>
                      <a:pt x="453" y="649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098800" y="5008680"/>
                <a:ext cx="154440" cy="79560"/>
              </a:xfrm>
              <a:custGeom>
                <a:avLst/>
                <a:gdLst/>
                <a:ahLst/>
                <a:rect l="0" t="0" r="r" b="b"/>
                <a:pathLst>
                  <a:path w="429" h="221">
                    <a:moveTo>
                      <a:pt x="29" y="0"/>
                    </a:moveTo>
                    <a:lnTo>
                      <a:pt x="154" y="0"/>
                    </a:lnTo>
                    <a:lnTo>
                      <a:pt x="278" y="29"/>
                    </a:lnTo>
                    <a:lnTo>
                      <a:pt x="429" y="100"/>
                    </a:lnTo>
                    <a:lnTo>
                      <a:pt x="420" y="221"/>
                    </a:lnTo>
                    <a:lnTo>
                      <a:pt x="263" y="143"/>
                    </a:lnTo>
                    <a:lnTo>
                      <a:pt x="133" y="100"/>
                    </a:lnTo>
                    <a:lnTo>
                      <a:pt x="0" y="104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052720" y="4854600"/>
                <a:ext cx="251280" cy="244800"/>
              </a:xfrm>
              <a:custGeom>
                <a:avLst/>
                <a:gdLst/>
                <a:ahLst/>
                <a:rect l="0" t="0" r="r" b="b"/>
                <a:pathLst>
                  <a:path w="698" h="680">
                    <a:moveTo>
                      <a:pt x="47" y="533"/>
                    </a:moveTo>
                    <a:lnTo>
                      <a:pt x="60" y="413"/>
                    </a:lnTo>
                    <a:lnTo>
                      <a:pt x="54" y="306"/>
                    </a:lnTo>
                    <a:lnTo>
                      <a:pt x="31" y="213"/>
                    </a:lnTo>
                    <a:lnTo>
                      <a:pt x="0" y="119"/>
                    </a:lnTo>
                    <a:lnTo>
                      <a:pt x="6" y="66"/>
                    </a:lnTo>
                    <a:lnTo>
                      <a:pt x="28" y="26"/>
                    </a:lnTo>
                    <a:lnTo>
                      <a:pt x="104" y="13"/>
                    </a:lnTo>
                    <a:lnTo>
                      <a:pt x="252" y="0"/>
                    </a:lnTo>
                    <a:lnTo>
                      <a:pt x="417" y="16"/>
                    </a:lnTo>
                    <a:lnTo>
                      <a:pt x="430" y="26"/>
                    </a:lnTo>
                    <a:lnTo>
                      <a:pt x="574" y="56"/>
                    </a:lnTo>
                    <a:lnTo>
                      <a:pt x="692" y="96"/>
                    </a:lnTo>
                    <a:lnTo>
                      <a:pt x="698" y="119"/>
                    </a:lnTo>
                    <a:lnTo>
                      <a:pt x="679" y="169"/>
                    </a:lnTo>
                    <a:lnTo>
                      <a:pt x="606" y="292"/>
                    </a:lnTo>
                    <a:lnTo>
                      <a:pt x="571" y="390"/>
                    </a:lnTo>
                    <a:lnTo>
                      <a:pt x="546" y="500"/>
                    </a:lnTo>
                    <a:lnTo>
                      <a:pt x="533" y="593"/>
                    </a:lnTo>
                    <a:lnTo>
                      <a:pt x="530" y="660"/>
                    </a:lnTo>
                    <a:lnTo>
                      <a:pt x="533" y="680"/>
                    </a:lnTo>
                    <a:lnTo>
                      <a:pt x="484" y="663"/>
                    </a:lnTo>
                    <a:lnTo>
                      <a:pt x="487" y="543"/>
                    </a:lnTo>
                    <a:lnTo>
                      <a:pt x="516" y="423"/>
                    </a:lnTo>
                    <a:lnTo>
                      <a:pt x="546" y="309"/>
                    </a:lnTo>
                    <a:lnTo>
                      <a:pt x="596" y="203"/>
                    </a:lnTo>
                    <a:lnTo>
                      <a:pt x="635" y="123"/>
                    </a:lnTo>
                    <a:lnTo>
                      <a:pt x="539" y="89"/>
                    </a:lnTo>
                    <a:lnTo>
                      <a:pt x="398" y="69"/>
                    </a:lnTo>
                    <a:lnTo>
                      <a:pt x="258" y="46"/>
                    </a:lnTo>
                    <a:lnTo>
                      <a:pt x="143" y="63"/>
                    </a:lnTo>
                    <a:lnTo>
                      <a:pt x="66" y="93"/>
                    </a:lnTo>
                    <a:lnTo>
                      <a:pt x="66" y="133"/>
                    </a:lnTo>
                    <a:lnTo>
                      <a:pt x="95" y="239"/>
                    </a:lnTo>
                    <a:lnTo>
                      <a:pt x="120" y="347"/>
                    </a:lnTo>
                    <a:lnTo>
                      <a:pt x="108" y="477"/>
                    </a:lnTo>
                    <a:lnTo>
                      <a:pt x="98" y="570"/>
                    </a:lnTo>
                    <a:lnTo>
                      <a:pt x="47" y="573"/>
                    </a:lnTo>
                    <a:lnTo>
                      <a:pt x="47" y="5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036880" y="5041800"/>
                <a:ext cx="259200" cy="113040"/>
              </a:xfrm>
              <a:custGeom>
                <a:avLst/>
                <a:gdLst/>
                <a:ahLst/>
                <a:rect l="0" t="0" r="r" b="b"/>
                <a:pathLst>
                  <a:path w="720" h="314">
                    <a:moveTo>
                      <a:pt x="87" y="29"/>
                    </a:moveTo>
                    <a:lnTo>
                      <a:pt x="210" y="0"/>
                    </a:lnTo>
                    <a:lnTo>
                      <a:pt x="315" y="16"/>
                    </a:lnTo>
                    <a:lnTo>
                      <a:pt x="454" y="56"/>
                    </a:lnTo>
                    <a:lnTo>
                      <a:pt x="552" y="99"/>
                    </a:lnTo>
                    <a:lnTo>
                      <a:pt x="653" y="153"/>
                    </a:lnTo>
                    <a:lnTo>
                      <a:pt x="712" y="214"/>
                    </a:lnTo>
                    <a:lnTo>
                      <a:pt x="717" y="230"/>
                    </a:lnTo>
                    <a:lnTo>
                      <a:pt x="720" y="267"/>
                    </a:lnTo>
                    <a:lnTo>
                      <a:pt x="700" y="307"/>
                    </a:lnTo>
                    <a:lnTo>
                      <a:pt x="656" y="314"/>
                    </a:lnTo>
                    <a:lnTo>
                      <a:pt x="592" y="277"/>
                    </a:lnTo>
                    <a:lnTo>
                      <a:pt x="478" y="197"/>
                    </a:lnTo>
                    <a:lnTo>
                      <a:pt x="361" y="153"/>
                    </a:lnTo>
                    <a:lnTo>
                      <a:pt x="248" y="133"/>
                    </a:lnTo>
                    <a:lnTo>
                      <a:pt x="165" y="139"/>
                    </a:lnTo>
                    <a:lnTo>
                      <a:pt x="64" y="143"/>
                    </a:lnTo>
                    <a:lnTo>
                      <a:pt x="11" y="136"/>
                    </a:lnTo>
                    <a:lnTo>
                      <a:pt x="0" y="93"/>
                    </a:lnTo>
                    <a:lnTo>
                      <a:pt x="37" y="59"/>
                    </a:lnTo>
                    <a:lnTo>
                      <a:pt x="87" y="29"/>
                    </a:lnTo>
                    <a:close/>
                  </a:path>
                </a:pathLst>
              </a:custGeom>
              <a:blipFill rotWithShape="0">
                <a:blip r:embed="rId4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023920" y="5032440"/>
                <a:ext cx="284400" cy="135360"/>
              </a:xfrm>
              <a:custGeom>
                <a:avLst/>
                <a:gdLst/>
                <a:ahLst/>
                <a:rect l="0" t="0" r="r" b="b"/>
                <a:pathLst>
                  <a:path w="790" h="376">
                    <a:moveTo>
                      <a:pt x="661" y="116"/>
                    </a:moveTo>
                    <a:lnTo>
                      <a:pt x="666" y="125"/>
                    </a:lnTo>
                    <a:lnTo>
                      <a:pt x="750" y="191"/>
                    </a:lnTo>
                    <a:lnTo>
                      <a:pt x="790" y="267"/>
                    </a:lnTo>
                    <a:lnTo>
                      <a:pt x="775" y="330"/>
                    </a:lnTo>
                    <a:lnTo>
                      <a:pt x="738" y="366"/>
                    </a:lnTo>
                    <a:lnTo>
                      <a:pt x="698" y="376"/>
                    </a:lnTo>
                    <a:lnTo>
                      <a:pt x="661" y="357"/>
                    </a:lnTo>
                    <a:lnTo>
                      <a:pt x="603" y="320"/>
                    </a:lnTo>
                    <a:lnTo>
                      <a:pt x="491" y="254"/>
                    </a:lnTo>
                    <a:lnTo>
                      <a:pt x="397" y="208"/>
                    </a:lnTo>
                    <a:lnTo>
                      <a:pt x="292" y="188"/>
                    </a:lnTo>
                    <a:lnTo>
                      <a:pt x="212" y="194"/>
                    </a:lnTo>
                    <a:lnTo>
                      <a:pt x="129" y="198"/>
                    </a:lnTo>
                    <a:lnTo>
                      <a:pt x="68" y="201"/>
                    </a:lnTo>
                    <a:lnTo>
                      <a:pt x="14" y="162"/>
                    </a:lnTo>
                    <a:lnTo>
                      <a:pt x="0" y="119"/>
                    </a:lnTo>
                    <a:lnTo>
                      <a:pt x="20" y="72"/>
                    </a:lnTo>
                    <a:lnTo>
                      <a:pt x="83" y="36"/>
                    </a:lnTo>
                    <a:lnTo>
                      <a:pt x="175" y="0"/>
                    </a:lnTo>
                    <a:lnTo>
                      <a:pt x="232" y="9"/>
                    </a:lnTo>
                    <a:lnTo>
                      <a:pt x="221" y="52"/>
                    </a:lnTo>
                    <a:lnTo>
                      <a:pt x="134" y="62"/>
                    </a:lnTo>
                    <a:lnTo>
                      <a:pt x="68" y="92"/>
                    </a:lnTo>
                    <a:lnTo>
                      <a:pt x="48" y="112"/>
                    </a:lnTo>
                    <a:lnTo>
                      <a:pt x="54" y="139"/>
                    </a:lnTo>
                    <a:lnTo>
                      <a:pt x="80" y="155"/>
                    </a:lnTo>
                    <a:lnTo>
                      <a:pt x="143" y="152"/>
                    </a:lnTo>
                    <a:lnTo>
                      <a:pt x="232" y="142"/>
                    </a:lnTo>
                    <a:lnTo>
                      <a:pt x="309" y="139"/>
                    </a:lnTo>
                    <a:lnTo>
                      <a:pt x="405" y="152"/>
                    </a:lnTo>
                    <a:lnTo>
                      <a:pt x="506" y="194"/>
                    </a:lnTo>
                    <a:lnTo>
                      <a:pt x="603" y="254"/>
                    </a:lnTo>
                    <a:lnTo>
                      <a:pt x="675" y="307"/>
                    </a:lnTo>
                    <a:lnTo>
                      <a:pt x="712" y="314"/>
                    </a:lnTo>
                    <a:lnTo>
                      <a:pt x="732" y="294"/>
                    </a:lnTo>
                    <a:lnTo>
                      <a:pt x="738" y="267"/>
                    </a:lnTo>
                    <a:lnTo>
                      <a:pt x="727" y="234"/>
                    </a:lnTo>
                    <a:lnTo>
                      <a:pt x="687" y="191"/>
                    </a:lnTo>
                    <a:lnTo>
                      <a:pt x="618" y="142"/>
                    </a:lnTo>
                    <a:lnTo>
                      <a:pt x="514" y="99"/>
                    </a:lnTo>
                    <a:lnTo>
                      <a:pt x="408" y="62"/>
                    </a:lnTo>
                    <a:lnTo>
                      <a:pt x="309" y="42"/>
                    </a:lnTo>
                    <a:lnTo>
                      <a:pt x="223" y="49"/>
                    </a:lnTo>
                    <a:lnTo>
                      <a:pt x="241" y="6"/>
                    </a:lnTo>
                    <a:lnTo>
                      <a:pt x="335" y="6"/>
                    </a:lnTo>
                    <a:lnTo>
                      <a:pt x="434" y="23"/>
                    </a:lnTo>
                    <a:lnTo>
                      <a:pt x="506" y="46"/>
                    </a:lnTo>
                    <a:lnTo>
                      <a:pt x="618" y="106"/>
                    </a:lnTo>
                    <a:lnTo>
                      <a:pt x="661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1746360" y="5330880"/>
              <a:ext cx="601920" cy="689400"/>
            </a:xfrm>
            <a:custGeom>
              <a:avLst/>
              <a:gdLst/>
              <a:ahLst/>
              <a:rect l="0" t="0" r="r" b="b"/>
              <a:pathLst>
                <a:path w="1672" h="1915">
                  <a:moveTo>
                    <a:pt x="365" y="133"/>
                  </a:moveTo>
                  <a:lnTo>
                    <a:pt x="431" y="78"/>
                  </a:lnTo>
                  <a:lnTo>
                    <a:pt x="502" y="39"/>
                  </a:lnTo>
                  <a:lnTo>
                    <a:pt x="579" y="27"/>
                  </a:lnTo>
                  <a:lnTo>
                    <a:pt x="609" y="36"/>
                  </a:lnTo>
                  <a:lnTo>
                    <a:pt x="627" y="60"/>
                  </a:lnTo>
                  <a:lnTo>
                    <a:pt x="600" y="93"/>
                  </a:lnTo>
                  <a:lnTo>
                    <a:pt x="532" y="112"/>
                  </a:lnTo>
                  <a:lnTo>
                    <a:pt x="440" y="151"/>
                  </a:lnTo>
                  <a:lnTo>
                    <a:pt x="392" y="202"/>
                  </a:lnTo>
                  <a:lnTo>
                    <a:pt x="344" y="275"/>
                  </a:lnTo>
                  <a:lnTo>
                    <a:pt x="327" y="342"/>
                  </a:lnTo>
                  <a:lnTo>
                    <a:pt x="327" y="354"/>
                  </a:lnTo>
                  <a:lnTo>
                    <a:pt x="324" y="439"/>
                  </a:lnTo>
                  <a:lnTo>
                    <a:pt x="336" y="527"/>
                  </a:lnTo>
                  <a:lnTo>
                    <a:pt x="362" y="615"/>
                  </a:lnTo>
                  <a:lnTo>
                    <a:pt x="392" y="664"/>
                  </a:lnTo>
                  <a:lnTo>
                    <a:pt x="440" y="715"/>
                  </a:lnTo>
                  <a:lnTo>
                    <a:pt x="493" y="755"/>
                  </a:lnTo>
                  <a:lnTo>
                    <a:pt x="505" y="788"/>
                  </a:lnTo>
                  <a:lnTo>
                    <a:pt x="484" y="806"/>
                  </a:lnTo>
                  <a:lnTo>
                    <a:pt x="469" y="815"/>
                  </a:lnTo>
                  <a:lnTo>
                    <a:pt x="446" y="812"/>
                  </a:lnTo>
                  <a:lnTo>
                    <a:pt x="383" y="779"/>
                  </a:lnTo>
                  <a:lnTo>
                    <a:pt x="333" y="745"/>
                  </a:lnTo>
                  <a:lnTo>
                    <a:pt x="270" y="758"/>
                  </a:lnTo>
                  <a:lnTo>
                    <a:pt x="196" y="821"/>
                  </a:lnTo>
                  <a:lnTo>
                    <a:pt x="127" y="903"/>
                  </a:lnTo>
                  <a:lnTo>
                    <a:pt x="89" y="985"/>
                  </a:lnTo>
                  <a:lnTo>
                    <a:pt x="65" y="1079"/>
                  </a:lnTo>
                  <a:lnTo>
                    <a:pt x="56" y="1185"/>
                  </a:lnTo>
                  <a:lnTo>
                    <a:pt x="65" y="1284"/>
                  </a:lnTo>
                  <a:lnTo>
                    <a:pt x="83" y="1400"/>
                  </a:lnTo>
                  <a:lnTo>
                    <a:pt x="113" y="1507"/>
                  </a:lnTo>
                  <a:lnTo>
                    <a:pt x="154" y="1588"/>
                  </a:lnTo>
                  <a:lnTo>
                    <a:pt x="205" y="1631"/>
                  </a:lnTo>
                  <a:lnTo>
                    <a:pt x="276" y="1688"/>
                  </a:lnTo>
                  <a:lnTo>
                    <a:pt x="362" y="1746"/>
                  </a:lnTo>
                  <a:lnTo>
                    <a:pt x="449" y="1791"/>
                  </a:lnTo>
                  <a:lnTo>
                    <a:pt x="544" y="1828"/>
                  </a:lnTo>
                  <a:lnTo>
                    <a:pt x="639" y="1855"/>
                  </a:lnTo>
                  <a:lnTo>
                    <a:pt x="749" y="1858"/>
                  </a:lnTo>
                  <a:lnTo>
                    <a:pt x="890" y="1855"/>
                  </a:lnTo>
                  <a:lnTo>
                    <a:pt x="1023" y="1840"/>
                  </a:lnTo>
                  <a:lnTo>
                    <a:pt x="1139" y="1812"/>
                  </a:lnTo>
                  <a:lnTo>
                    <a:pt x="1235" y="1770"/>
                  </a:lnTo>
                  <a:lnTo>
                    <a:pt x="1339" y="1722"/>
                  </a:lnTo>
                  <a:lnTo>
                    <a:pt x="1431" y="1655"/>
                  </a:lnTo>
                  <a:lnTo>
                    <a:pt x="1502" y="1579"/>
                  </a:lnTo>
                  <a:lnTo>
                    <a:pt x="1550" y="1497"/>
                  </a:lnTo>
                  <a:lnTo>
                    <a:pt x="1580" y="1390"/>
                  </a:lnTo>
                  <a:lnTo>
                    <a:pt x="1597" y="1281"/>
                  </a:lnTo>
                  <a:lnTo>
                    <a:pt x="1606" y="1188"/>
                  </a:lnTo>
                  <a:lnTo>
                    <a:pt x="1597" y="1094"/>
                  </a:lnTo>
                  <a:lnTo>
                    <a:pt x="1571" y="1015"/>
                  </a:lnTo>
                  <a:lnTo>
                    <a:pt x="1541" y="939"/>
                  </a:lnTo>
                  <a:lnTo>
                    <a:pt x="1496" y="873"/>
                  </a:lnTo>
                  <a:lnTo>
                    <a:pt x="1446" y="803"/>
                  </a:lnTo>
                  <a:lnTo>
                    <a:pt x="1419" y="773"/>
                  </a:lnTo>
                  <a:lnTo>
                    <a:pt x="1380" y="730"/>
                  </a:lnTo>
                  <a:lnTo>
                    <a:pt x="1336" y="706"/>
                  </a:lnTo>
                  <a:lnTo>
                    <a:pt x="1318" y="673"/>
                  </a:lnTo>
                  <a:lnTo>
                    <a:pt x="1333" y="649"/>
                  </a:lnTo>
                  <a:lnTo>
                    <a:pt x="1365" y="615"/>
                  </a:lnTo>
                  <a:lnTo>
                    <a:pt x="1401" y="555"/>
                  </a:lnTo>
                  <a:lnTo>
                    <a:pt x="1410" y="482"/>
                  </a:lnTo>
                  <a:lnTo>
                    <a:pt x="1413" y="393"/>
                  </a:lnTo>
                  <a:lnTo>
                    <a:pt x="1392" y="308"/>
                  </a:lnTo>
                  <a:lnTo>
                    <a:pt x="1371" y="257"/>
                  </a:lnTo>
                  <a:lnTo>
                    <a:pt x="1336" y="202"/>
                  </a:lnTo>
                  <a:lnTo>
                    <a:pt x="1282" y="160"/>
                  </a:lnTo>
                  <a:lnTo>
                    <a:pt x="1252" y="124"/>
                  </a:lnTo>
                  <a:lnTo>
                    <a:pt x="1193" y="93"/>
                  </a:lnTo>
                  <a:lnTo>
                    <a:pt x="1139" y="78"/>
                  </a:lnTo>
                  <a:lnTo>
                    <a:pt x="1092" y="66"/>
                  </a:lnTo>
                  <a:lnTo>
                    <a:pt x="1098" y="45"/>
                  </a:lnTo>
                  <a:lnTo>
                    <a:pt x="1163" y="18"/>
                  </a:lnTo>
                  <a:lnTo>
                    <a:pt x="1196" y="0"/>
                  </a:lnTo>
                  <a:lnTo>
                    <a:pt x="1276" y="60"/>
                  </a:lnTo>
                  <a:lnTo>
                    <a:pt x="1354" y="124"/>
                  </a:lnTo>
                  <a:lnTo>
                    <a:pt x="1404" y="190"/>
                  </a:lnTo>
                  <a:lnTo>
                    <a:pt x="1446" y="269"/>
                  </a:lnTo>
                  <a:lnTo>
                    <a:pt x="1470" y="366"/>
                  </a:lnTo>
                  <a:lnTo>
                    <a:pt x="1478" y="439"/>
                  </a:lnTo>
                  <a:lnTo>
                    <a:pt x="1476" y="524"/>
                  </a:lnTo>
                  <a:lnTo>
                    <a:pt x="1452" y="597"/>
                  </a:lnTo>
                  <a:lnTo>
                    <a:pt x="1422" y="652"/>
                  </a:lnTo>
                  <a:lnTo>
                    <a:pt x="1419" y="679"/>
                  </a:lnTo>
                  <a:lnTo>
                    <a:pt x="1440" y="706"/>
                  </a:lnTo>
                  <a:lnTo>
                    <a:pt x="1508" y="779"/>
                  </a:lnTo>
                  <a:lnTo>
                    <a:pt x="1571" y="870"/>
                  </a:lnTo>
                  <a:lnTo>
                    <a:pt x="1615" y="948"/>
                  </a:lnTo>
                  <a:lnTo>
                    <a:pt x="1654" y="1027"/>
                  </a:lnTo>
                  <a:lnTo>
                    <a:pt x="1672" y="1127"/>
                  </a:lnTo>
                  <a:lnTo>
                    <a:pt x="1672" y="1224"/>
                  </a:lnTo>
                  <a:lnTo>
                    <a:pt x="1657" y="1321"/>
                  </a:lnTo>
                  <a:lnTo>
                    <a:pt x="1627" y="1437"/>
                  </a:lnTo>
                  <a:lnTo>
                    <a:pt x="1597" y="1540"/>
                  </a:lnTo>
                  <a:lnTo>
                    <a:pt x="1544" y="1628"/>
                  </a:lnTo>
                  <a:lnTo>
                    <a:pt x="1493" y="1688"/>
                  </a:lnTo>
                  <a:lnTo>
                    <a:pt x="1419" y="1755"/>
                  </a:lnTo>
                  <a:lnTo>
                    <a:pt x="1327" y="1803"/>
                  </a:lnTo>
                  <a:lnTo>
                    <a:pt x="1226" y="1846"/>
                  </a:lnTo>
                  <a:lnTo>
                    <a:pt x="1136" y="1876"/>
                  </a:lnTo>
                  <a:lnTo>
                    <a:pt x="1041" y="1903"/>
                  </a:lnTo>
                  <a:lnTo>
                    <a:pt x="896" y="1912"/>
                  </a:lnTo>
                  <a:lnTo>
                    <a:pt x="734" y="1915"/>
                  </a:lnTo>
                  <a:lnTo>
                    <a:pt x="591" y="1915"/>
                  </a:lnTo>
                  <a:lnTo>
                    <a:pt x="469" y="1879"/>
                  </a:lnTo>
                  <a:lnTo>
                    <a:pt x="344" y="1803"/>
                  </a:lnTo>
                  <a:lnTo>
                    <a:pt x="214" y="1722"/>
                  </a:lnTo>
                  <a:lnTo>
                    <a:pt x="118" y="1637"/>
                  </a:lnTo>
                  <a:lnTo>
                    <a:pt x="56" y="1552"/>
                  </a:lnTo>
                  <a:lnTo>
                    <a:pt x="32" y="1437"/>
                  </a:lnTo>
                  <a:lnTo>
                    <a:pt x="5" y="1324"/>
                  </a:lnTo>
                  <a:lnTo>
                    <a:pt x="0" y="1224"/>
                  </a:lnTo>
                  <a:lnTo>
                    <a:pt x="0" y="1103"/>
                  </a:lnTo>
                  <a:lnTo>
                    <a:pt x="35" y="988"/>
                  </a:lnTo>
                  <a:lnTo>
                    <a:pt x="65" y="897"/>
                  </a:lnTo>
                  <a:lnTo>
                    <a:pt x="139" y="785"/>
                  </a:lnTo>
                  <a:lnTo>
                    <a:pt x="231" y="700"/>
                  </a:lnTo>
                  <a:lnTo>
                    <a:pt x="270" y="652"/>
                  </a:lnTo>
                  <a:lnTo>
                    <a:pt x="279" y="603"/>
                  </a:lnTo>
                  <a:lnTo>
                    <a:pt x="279" y="533"/>
                  </a:lnTo>
                  <a:lnTo>
                    <a:pt x="258" y="448"/>
                  </a:lnTo>
                  <a:lnTo>
                    <a:pt x="258" y="357"/>
                  </a:lnTo>
                  <a:lnTo>
                    <a:pt x="276" y="269"/>
                  </a:lnTo>
                  <a:lnTo>
                    <a:pt x="306" y="202"/>
                  </a:lnTo>
                  <a:lnTo>
                    <a:pt x="339" y="163"/>
                  </a:lnTo>
                  <a:lnTo>
                    <a:pt x="3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9" name="" descr=""/>
          <p:cNvPicPr/>
          <p:nvPr/>
        </p:nvPicPr>
        <p:blipFill>
          <a:blip r:embed="rId5"/>
          <a:stretch/>
        </p:blipFill>
        <p:spPr>
          <a:xfrm>
            <a:off x="5029200" y="5207040"/>
            <a:ext cx="353880" cy="65412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6"/>
          <a:stretch/>
        </p:blipFill>
        <p:spPr>
          <a:xfrm>
            <a:off x="5499000" y="5194440"/>
            <a:ext cx="353880" cy="6541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7"/>
          <a:stretch/>
        </p:blipFill>
        <p:spPr>
          <a:xfrm>
            <a:off x="5932440" y="5168880"/>
            <a:ext cx="353880" cy="6541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8"/>
          <a:stretch/>
        </p:blipFill>
        <p:spPr>
          <a:xfrm>
            <a:off x="6324480" y="5181480"/>
            <a:ext cx="353880" cy="65412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9"/>
          <a:stretch/>
        </p:blipFill>
        <p:spPr>
          <a:xfrm>
            <a:off x="7404120" y="5092560"/>
            <a:ext cx="353880" cy="654120"/>
          </a:xfrm>
          <a:prstGeom prst="rect">
            <a:avLst/>
          </a:prstGeom>
          <a:ln w="0">
            <a:noFill/>
          </a:ln>
        </p:spPr>
      </p:pic>
      <p:grpSp>
        <p:nvGrpSpPr>
          <p:cNvPr id="614" name=""/>
          <p:cNvGrpSpPr/>
          <p:nvPr/>
        </p:nvGrpSpPr>
        <p:grpSpPr>
          <a:xfrm>
            <a:off x="482760" y="1143000"/>
            <a:ext cx="8242200" cy="4597560"/>
            <a:chOff x="482760" y="1143000"/>
            <a:chExt cx="8242200" cy="4597560"/>
          </a:xfrm>
        </p:grpSpPr>
        <p:sp>
          <p:nvSpPr>
            <p:cNvPr id="615" name=""/>
            <p:cNvSpPr/>
            <p:nvPr/>
          </p:nvSpPr>
          <p:spPr>
            <a:xfrm>
              <a:off x="787320" y="2451240"/>
              <a:ext cx="34308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587920" y="4305240"/>
              <a:ext cx="228600" cy="24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625760" y="1257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470480" y="48387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908440" y="3911760"/>
              <a:ext cx="216000" cy="203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344080" y="3733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91320" y="2006640"/>
              <a:ext cx="27936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95480" y="1638360"/>
              <a:ext cx="190440" cy="190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1880" y="5435640"/>
              <a:ext cx="29196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35360" y="2273400"/>
              <a:ext cx="152280" cy="190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6120" y="36957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05640" y="13208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2760" y="1143000"/>
              <a:ext cx="190440" cy="190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51440" y="3936960"/>
              <a:ext cx="241200" cy="254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2628720" y="2387520"/>
            <a:ext cx="660600" cy="470160"/>
          </a:xfrm>
          <a:custGeom>
            <a:avLst/>
            <a:gdLst/>
            <a:ahLst/>
            <a:rect l="0" t="0" r="r" b="b"/>
            <a:pathLst>
              <a:path w="1835" h="1306">
                <a:moveTo>
                  <a:pt x="352" y="882"/>
                </a:moveTo>
                <a:lnTo>
                  <a:pt x="493" y="847"/>
                </a:lnTo>
                <a:lnTo>
                  <a:pt x="599" y="777"/>
                </a:lnTo>
                <a:lnTo>
                  <a:pt x="705" y="777"/>
                </a:lnTo>
                <a:lnTo>
                  <a:pt x="811" y="706"/>
                </a:lnTo>
                <a:lnTo>
                  <a:pt x="918" y="599"/>
                </a:lnTo>
                <a:lnTo>
                  <a:pt x="1024" y="564"/>
                </a:lnTo>
                <a:lnTo>
                  <a:pt x="1129" y="493"/>
                </a:lnTo>
                <a:lnTo>
                  <a:pt x="1271" y="493"/>
                </a:lnTo>
                <a:lnTo>
                  <a:pt x="1376" y="388"/>
                </a:lnTo>
                <a:lnTo>
                  <a:pt x="1482" y="352"/>
                </a:lnTo>
                <a:lnTo>
                  <a:pt x="1588" y="317"/>
                </a:lnTo>
                <a:lnTo>
                  <a:pt x="1694" y="246"/>
                </a:lnTo>
                <a:lnTo>
                  <a:pt x="1800" y="211"/>
                </a:lnTo>
                <a:lnTo>
                  <a:pt x="1835" y="105"/>
                </a:lnTo>
                <a:lnTo>
                  <a:pt x="1729" y="70"/>
                </a:lnTo>
                <a:lnTo>
                  <a:pt x="1623" y="0"/>
                </a:lnTo>
                <a:lnTo>
                  <a:pt x="1517" y="0"/>
                </a:lnTo>
                <a:lnTo>
                  <a:pt x="1412" y="0"/>
                </a:lnTo>
                <a:lnTo>
                  <a:pt x="1306" y="105"/>
                </a:lnTo>
                <a:lnTo>
                  <a:pt x="1200" y="105"/>
                </a:lnTo>
                <a:lnTo>
                  <a:pt x="1094" y="141"/>
                </a:lnTo>
                <a:lnTo>
                  <a:pt x="988" y="141"/>
                </a:lnTo>
                <a:lnTo>
                  <a:pt x="881" y="176"/>
                </a:lnTo>
                <a:lnTo>
                  <a:pt x="776" y="211"/>
                </a:lnTo>
                <a:lnTo>
                  <a:pt x="635" y="211"/>
                </a:lnTo>
                <a:lnTo>
                  <a:pt x="493" y="211"/>
                </a:lnTo>
                <a:lnTo>
                  <a:pt x="388" y="211"/>
                </a:lnTo>
                <a:lnTo>
                  <a:pt x="282" y="282"/>
                </a:lnTo>
                <a:lnTo>
                  <a:pt x="176" y="388"/>
                </a:lnTo>
                <a:lnTo>
                  <a:pt x="141" y="493"/>
                </a:lnTo>
                <a:lnTo>
                  <a:pt x="70" y="599"/>
                </a:lnTo>
                <a:lnTo>
                  <a:pt x="0" y="741"/>
                </a:lnTo>
                <a:lnTo>
                  <a:pt x="35" y="847"/>
                </a:lnTo>
                <a:lnTo>
                  <a:pt x="70" y="953"/>
                </a:lnTo>
                <a:lnTo>
                  <a:pt x="70" y="1059"/>
                </a:lnTo>
                <a:lnTo>
                  <a:pt x="70" y="1165"/>
                </a:lnTo>
                <a:lnTo>
                  <a:pt x="282" y="1200"/>
                </a:lnTo>
                <a:lnTo>
                  <a:pt x="388" y="1306"/>
                </a:lnTo>
                <a:lnTo>
                  <a:pt x="458" y="1200"/>
                </a:lnTo>
                <a:lnTo>
                  <a:pt x="458" y="1094"/>
                </a:lnTo>
                <a:lnTo>
                  <a:pt x="352" y="88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809880" y="2908440"/>
            <a:ext cx="584640" cy="178200"/>
          </a:xfrm>
          <a:custGeom>
            <a:avLst/>
            <a:gdLst/>
            <a:ahLst/>
            <a:rect l="0" t="0" r="r" b="b"/>
            <a:pathLst>
              <a:path fill="none" w="1624" h="495">
                <a:moveTo>
                  <a:pt x="211" y="247"/>
                </a:moveTo>
                <a:lnTo>
                  <a:pt x="424" y="212"/>
                </a:lnTo>
                <a:lnTo>
                  <a:pt x="530" y="177"/>
                </a:lnTo>
                <a:lnTo>
                  <a:pt x="636" y="177"/>
                </a:lnTo>
                <a:lnTo>
                  <a:pt x="741" y="247"/>
                </a:lnTo>
                <a:lnTo>
                  <a:pt x="847" y="283"/>
                </a:lnTo>
                <a:lnTo>
                  <a:pt x="953" y="283"/>
                </a:lnTo>
                <a:lnTo>
                  <a:pt x="1059" y="318"/>
                </a:lnTo>
                <a:lnTo>
                  <a:pt x="1165" y="390"/>
                </a:lnTo>
                <a:lnTo>
                  <a:pt x="1272" y="390"/>
                </a:lnTo>
                <a:lnTo>
                  <a:pt x="1377" y="460"/>
                </a:lnTo>
                <a:lnTo>
                  <a:pt x="1483" y="495"/>
                </a:lnTo>
                <a:lnTo>
                  <a:pt x="1624" y="460"/>
                </a:lnTo>
                <a:lnTo>
                  <a:pt x="1624" y="353"/>
                </a:lnTo>
                <a:lnTo>
                  <a:pt x="1518" y="247"/>
                </a:lnTo>
                <a:lnTo>
                  <a:pt x="1413" y="212"/>
                </a:lnTo>
                <a:lnTo>
                  <a:pt x="1272" y="105"/>
                </a:lnTo>
                <a:lnTo>
                  <a:pt x="1165" y="35"/>
                </a:lnTo>
                <a:lnTo>
                  <a:pt x="1059" y="35"/>
                </a:lnTo>
                <a:lnTo>
                  <a:pt x="953" y="0"/>
                </a:lnTo>
                <a:lnTo>
                  <a:pt x="671" y="0"/>
                </a:lnTo>
                <a:lnTo>
                  <a:pt x="317" y="35"/>
                </a:lnTo>
                <a:lnTo>
                  <a:pt x="211" y="35"/>
                </a:lnTo>
                <a:lnTo>
                  <a:pt x="105" y="70"/>
                </a:lnTo>
                <a:lnTo>
                  <a:pt x="35" y="212"/>
                </a:lnTo>
                <a:lnTo>
                  <a:pt x="0" y="17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705720" y="1816200"/>
            <a:ext cx="736920" cy="203400"/>
          </a:xfrm>
          <a:custGeom>
            <a:avLst/>
            <a:gdLst/>
            <a:ahLst/>
            <a:rect l="0" t="0" r="r" b="b"/>
            <a:pathLst>
              <a:path w="2047" h="565">
                <a:moveTo>
                  <a:pt x="176" y="424"/>
                </a:moveTo>
                <a:lnTo>
                  <a:pt x="458" y="389"/>
                </a:lnTo>
                <a:lnTo>
                  <a:pt x="564" y="318"/>
                </a:lnTo>
                <a:lnTo>
                  <a:pt x="670" y="318"/>
                </a:lnTo>
                <a:lnTo>
                  <a:pt x="811" y="353"/>
                </a:lnTo>
                <a:lnTo>
                  <a:pt x="1094" y="389"/>
                </a:lnTo>
                <a:lnTo>
                  <a:pt x="1200" y="424"/>
                </a:lnTo>
                <a:lnTo>
                  <a:pt x="1306" y="494"/>
                </a:lnTo>
                <a:lnTo>
                  <a:pt x="1412" y="494"/>
                </a:lnTo>
                <a:lnTo>
                  <a:pt x="1517" y="565"/>
                </a:lnTo>
                <a:lnTo>
                  <a:pt x="1623" y="565"/>
                </a:lnTo>
                <a:lnTo>
                  <a:pt x="1729" y="494"/>
                </a:lnTo>
                <a:lnTo>
                  <a:pt x="1870" y="494"/>
                </a:lnTo>
                <a:lnTo>
                  <a:pt x="1976" y="494"/>
                </a:lnTo>
                <a:lnTo>
                  <a:pt x="2047" y="389"/>
                </a:lnTo>
                <a:lnTo>
                  <a:pt x="1976" y="283"/>
                </a:lnTo>
                <a:lnTo>
                  <a:pt x="1870" y="283"/>
                </a:lnTo>
                <a:lnTo>
                  <a:pt x="1764" y="283"/>
                </a:lnTo>
                <a:lnTo>
                  <a:pt x="1659" y="283"/>
                </a:lnTo>
                <a:lnTo>
                  <a:pt x="1553" y="283"/>
                </a:lnTo>
                <a:lnTo>
                  <a:pt x="1447" y="211"/>
                </a:lnTo>
                <a:lnTo>
                  <a:pt x="1306" y="141"/>
                </a:lnTo>
                <a:lnTo>
                  <a:pt x="1165" y="141"/>
                </a:lnTo>
                <a:lnTo>
                  <a:pt x="1059" y="70"/>
                </a:lnTo>
                <a:lnTo>
                  <a:pt x="952" y="70"/>
                </a:lnTo>
                <a:lnTo>
                  <a:pt x="846" y="35"/>
                </a:lnTo>
                <a:lnTo>
                  <a:pt x="740" y="0"/>
                </a:lnTo>
                <a:lnTo>
                  <a:pt x="635" y="0"/>
                </a:lnTo>
                <a:lnTo>
                  <a:pt x="529" y="0"/>
                </a:lnTo>
                <a:lnTo>
                  <a:pt x="423" y="0"/>
                </a:lnTo>
                <a:lnTo>
                  <a:pt x="317" y="0"/>
                </a:lnTo>
                <a:lnTo>
                  <a:pt x="211" y="70"/>
                </a:lnTo>
                <a:lnTo>
                  <a:pt x="105" y="141"/>
                </a:lnTo>
                <a:lnTo>
                  <a:pt x="0" y="176"/>
                </a:lnTo>
                <a:lnTo>
                  <a:pt x="0" y="283"/>
                </a:lnTo>
                <a:lnTo>
                  <a:pt x="35" y="389"/>
                </a:lnTo>
                <a:lnTo>
                  <a:pt x="176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371600" y="380880"/>
            <a:ext cx="5943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lly : It’s Getting C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7853400" y="684360"/>
            <a:ext cx="330480" cy="448200"/>
          </a:xfrm>
          <a:custGeom>
            <a:avLst/>
            <a:gdLst/>
            <a:ahLst/>
            <a:rect l="0" t="0" r="r" b="b"/>
            <a:pathLst>
              <a:path w="918" h="1245">
                <a:moveTo>
                  <a:pt x="666" y="44"/>
                </a:moveTo>
                <a:lnTo>
                  <a:pt x="644" y="26"/>
                </a:lnTo>
                <a:lnTo>
                  <a:pt x="622" y="8"/>
                </a:lnTo>
                <a:lnTo>
                  <a:pt x="596" y="4"/>
                </a:lnTo>
                <a:lnTo>
                  <a:pt x="569" y="0"/>
                </a:lnTo>
                <a:lnTo>
                  <a:pt x="516" y="0"/>
                </a:lnTo>
                <a:lnTo>
                  <a:pt x="477" y="0"/>
                </a:lnTo>
                <a:lnTo>
                  <a:pt x="440" y="8"/>
                </a:lnTo>
                <a:lnTo>
                  <a:pt x="414" y="13"/>
                </a:lnTo>
                <a:lnTo>
                  <a:pt x="392" y="26"/>
                </a:lnTo>
                <a:lnTo>
                  <a:pt x="379" y="35"/>
                </a:lnTo>
                <a:lnTo>
                  <a:pt x="361" y="48"/>
                </a:lnTo>
                <a:lnTo>
                  <a:pt x="339" y="52"/>
                </a:lnTo>
                <a:lnTo>
                  <a:pt x="308" y="61"/>
                </a:lnTo>
                <a:lnTo>
                  <a:pt x="273" y="74"/>
                </a:lnTo>
                <a:lnTo>
                  <a:pt x="233" y="88"/>
                </a:lnTo>
                <a:lnTo>
                  <a:pt x="194" y="110"/>
                </a:lnTo>
                <a:lnTo>
                  <a:pt x="149" y="136"/>
                </a:lnTo>
                <a:lnTo>
                  <a:pt x="119" y="171"/>
                </a:lnTo>
                <a:lnTo>
                  <a:pt x="83" y="202"/>
                </a:lnTo>
                <a:lnTo>
                  <a:pt x="66" y="246"/>
                </a:lnTo>
                <a:lnTo>
                  <a:pt x="79" y="238"/>
                </a:lnTo>
                <a:lnTo>
                  <a:pt x="101" y="233"/>
                </a:lnTo>
                <a:lnTo>
                  <a:pt x="119" y="229"/>
                </a:lnTo>
                <a:lnTo>
                  <a:pt x="132" y="224"/>
                </a:lnTo>
                <a:lnTo>
                  <a:pt x="83" y="273"/>
                </a:lnTo>
                <a:lnTo>
                  <a:pt x="57" y="336"/>
                </a:lnTo>
                <a:lnTo>
                  <a:pt x="35" y="402"/>
                </a:lnTo>
                <a:lnTo>
                  <a:pt x="4" y="464"/>
                </a:lnTo>
                <a:lnTo>
                  <a:pt x="35" y="464"/>
                </a:lnTo>
                <a:lnTo>
                  <a:pt x="70" y="459"/>
                </a:lnTo>
                <a:lnTo>
                  <a:pt x="101" y="455"/>
                </a:lnTo>
                <a:lnTo>
                  <a:pt x="123" y="441"/>
                </a:lnTo>
                <a:lnTo>
                  <a:pt x="83" y="499"/>
                </a:lnTo>
                <a:lnTo>
                  <a:pt x="48" y="583"/>
                </a:lnTo>
                <a:lnTo>
                  <a:pt x="8" y="675"/>
                </a:lnTo>
                <a:lnTo>
                  <a:pt x="0" y="750"/>
                </a:lnTo>
                <a:lnTo>
                  <a:pt x="8" y="807"/>
                </a:lnTo>
                <a:lnTo>
                  <a:pt x="30" y="874"/>
                </a:lnTo>
                <a:lnTo>
                  <a:pt x="52" y="927"/>
                </a:lnTo>
                <a:lnTo>
                  <a:pt x="70" y="967"/>
                </a:lnTo>
                <a:lnTo>
                  <a:pt x="83" y="1007"/>
                </a:lnTo>
                <a:lnTo>
                  <a:pt x="119" y="1064"/>
                </a:lnTo>
                <a:lnTo>
                  <a:pt x="158" y="1126"/>
                </a:lnTo>
                <a:lnTo>
                  <a:pt x="211" y="1170"/>
                </a:lnTo>
                <a:lnTo>
                  <a:pt x="220" y="1144"/>
                </a:lnTo>
                <a:lnTo>
                  <a:pt x="220" y="1126"/>
                </a:lnTo>
                <a:lnTo>
                  <a:pt x="224" y="1108"/>
                </a:lnTo>
                <a:lnTo>
                  <a:pt x="224" y="1086"/>
                </a:lnTo>
                <a:lnTo>
                  <a:pt x="246" y="1113"/>
                </a:lnTo>
                <a:lnTo>
                  <a:pt x="264" y="1152"/>
                </a:lnTo>
                <a:lnTo>
                  <a:pt x="299" y="1192"/>
                </a:lnTo>
                <a:lnTo>
                  <a:pt x="361" y="1232"/>
                </a:lnTo>
                <a:lnTo>
                  <a:pt x="357" y="1205"/>
                </a:lnTo>
                <a:lnTo>
                  <a:pt x="357" y="1183"/>
                </a:lnTo>
                <a:lnTo>
                  <a:pt x="357" y="1179"/>
                </a:lnTo>
                <a:lnTo>
                  <a:pt x="357" y="1170"/>
                </a:lnTo>
                <a:lnTo>
                  <a:pt x="401" y="1210"/>
                </a:lnTo>
                <a:lnTo>
                  <a:pt x="427" y="1232"/>
                </a:lnTo>
                <a:lnTo>
                  <a:pt x="440" y="1241"/>
                </a:lnTo>
                <a:lnTo>
                  <a:pt x="477" y="1245"/>
                </a:lnTo>
                <a:lnTo>
                  <a:pt x="486" y="1214"/>
                </a:lnTo>
                <a:lnTo>
                  <a:pt x="494" y="1188"/>
                </a:lnTo>
                <a:lnTo>
                  <a:pt x="516" y="1166"/>
                </a:lnTo>
                <a:lnTo>
                  <a:pt x="556" y="1157"/>
                </a:lnTo>
                <a:lnTo>
                  <a:pt x="596" y="1139"/>
                </a:lnTo>
                <a:lnTo>
                  <a:pt x="631" y="1113"/>
                </a:lnTo>
                <a:lnTo>
                  <a:pt x="662" y="1082"/>
                </a:lnTo>
                <a:lnTo>
                  <a:pt x="710" y="1055"/>
                </a:lnTo>
                <a:lnTo>
                  <a:pt x="746" y="1033"/>
                </a:lnTo>
                <a:lnTo>
                  <a:pt x="785" y="1003"/>
                </a:lnTo>
                <a:lnTo>
                  <a:pt x="812" y="963"/>
                </a:lnTo>
                <a:lnTo>
                  <a:pt x="816" y="913"/>
                </a:lnTo>
                <a:lnTo>
                  <a:pt x="821" y="865"/>
                </a:lnTo>
                <a:lnTo>
                  <a:pt x="838" y="816"/>
                </a:lnTo>
                <a:lnTo>
                  <a:pt x="847" y="768"/>
                </a:lnTo>
                <a:lnTo>
                  <a:pt x="838" y="710"/>
                </a:lnTo>
                <a:lnTo>
                  <a:pt x="865" y="733"/>
                </a:lnTo>
                <a:lnTo>
                  <a:pt x="878" y="741"/>
                </a:lnTo>
                <a:lnTo>
                  <a:pt x="896" y="759"/>
                </a:lnTo>
                <a:lnTo>
                  <a:pt x="904" y="763"/>
                </a:lnTo>
                <a:lnTo>
                  <a:pt x="918" y="706"/>
                </a:lnTo>
                <a:lnTo>
                  <a:pt x="918" y="627"/>
                </a:lnTo>
                <a:lnTo>
                  <a:pt x="900" y="538"/>
                </a:lnTo>
                <a:lnTo>
                  <a:pt x="878" y="477"/>
                </a:lnTo>
                <a:lnTo>
                  <a:pt x="860" y="415"/>
                </a:lnTo>
                <a:lnTo>
                  <a:pt x="860" y="353"/>
                </a:lnTo>
                <a:lnTo>
                  <a:pt x="847" y="295"/>
                </a:lnTo>
                <a:lnTo>
                  <a:pt x="821" y="251"/>
                </a:lnTo>
                <a:lnTo>
                  <a:pt x="777" y="211"/>
                </a:lnTo>
                <a:lnTo>
                  <a:pt x="746" y="163"/>
                </a:lnTo>
                <a:lnTo>
                  <a:pt x="719" y="123"/>
                </a:lnTo>
                <a:lnTo>
                  <a:pt x="697" y="83"/>
                </a:lnTo>
                <a:lnTo>
                  <a:pt x="693" y="74"/>
                </a:lnTo>
                <a:lnTo>
                  <a:pt x="688" y="61"/>
                </a:lnTo>
                <a:lnTo>
                  <a:pt x="675" y="52"/>
                </a:lnTo>
                <a:lnTo>
                  <a:pt x="666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869240" y="703440"/>
            <a:ext cx="298800" cy="410040"/>
          </a:xfrm>
          <a:custGeom>
            <a:avLst/>
            <a:gdLst/>
            <a:ahLst/>
            <a:rect l="0" t="0" r="r" b="b"/>
            <a:pathLst>
              <a:path w="830" h="1139">
                <a:moveTo>
                  <a:pt x="512" y="0"/>
                </a:moveTo>
                <a:lnTo>
                  <a:pt x="468" y="0"/>
                </a:lnTo>
                <a:lnTo>
                  <a:pt x="433" y="0"/>
                </a:lnTo>
                <a:lnTo>
                  <a:pt x="396" y="4"/>
                </a:lnTo>
                <a:lnTo>
                  <a:pt x="374" y="17"/>
                </a:lnTo>
                <a:lnTo>
                  <a:pt x="357" y="26"/>
                </a:lnTo>
                <a:lnTo>
                  <a:pt x="339" y="30"/>
                </a:lnTo>
                <a:lnTo>
                  <a:pt x="321" y="44"/>
                </a:lnTo>
                <a:lnTo>
                  <a:pt x="308" y="48"/>
                </a:lnTo>
                <a:lnTo>
                  <a:pt x="282" y="52"/>
                </a:lnTo>
                <a:lnTo>
                  <a:pt x="255" y="57"/>
                </a:lnTo>
                <a:lnTo>
                  <a:pt x="229" y="70"/>
                </a:lnTo>
                <a:lnTo>
                  <a:pt x="202" y="79"/>
                </a:lnTo>
                <a:lnTo>
                  <a:pt x="176" y="97"/>
                </a:lnTo>
                <a:lnTo>
                  <a:pt x="149" y="105"/>
                </a:lnTo>
                <a:lnTo>
                  <a:pt x="132" y="123"/>
                </a:lnTo>
                <a:lnTo>
                  <a:pt x="114" y="136"/>
                </a:lnTo>
                <a:lnTo>
                  <a:pt x="132" y="136"/>
                </a:lnTo>
                <a:lnTo>
                  <a:pt x="141" y="145"/>
                </a:lnTo>
                <a:lnTo>
                  <a:pt x="158" y="145"/>
                </a:lnTo>
                <a:lnTo>
                  <a:pt x="167" y="145"/>
                </a:lnTo>
                <a:lnTo>
                  <a:pt x="110" y="194"/>
                </a:lnTo>
                <a:lnTo>
                  <a:pt x="83" y="246"/>
                </a:lnTo>
                <a:lnTo>
                  <a:pt x="61" y="305"/>
                </a:lnTo>
                <a:lnTo>
                  <a:pt x="30" y="358"/>
                </a:lnTo>
                <a:lnTo>
                  <a:pt x="57" y="358"/>
                </a:lnTo>
                <a:lnTo>
                  <a:pt x="88" y="344"/>
                </a:lnTo>
                <a:lnTo>
                  <a:pt x="119" y="331"/>
                </a:lnTo>
                <a:lnTo>
                  <a:pt x="154" y="331"/>
                </a:lnTo>
                <a:lnTo>
                  <a:pt x="132" y="358"/>
                </a:lnTo>
                <a:lnTo>
                  <a:pt x="110" y="402"/>
                </a:lnTo>
                <a:lnTo>
                  <a:pt x="83" y="455"/>
                </a:lnTo>
                <a:lnTo>
                  <a:pt x="57" y="512"/>
                </a:lnTo>
                <a:lnTo>
                  <a:pt x="35" y="574"/>
                </a:lnTo>
                <a:lnTo>
                  <a:pt x="13" y="627"/>
                </a:lnTo>
                <a:lnTo>
                  <a:pt x="4" y="671"/>
                </a:lnTo>
                <a:lnTo>
                  <a:pt x="0" y="702"/>
                </a:lnTo>
                <a:lnTo>
                  <a:pt x="8" y="755"/>
                </a:lnTo>
                <a:lnTo>
                  <a:pt x="30" y="807"/>
                </a:lnTo>
                <a:lnTo>
                  <a:pt x="57" y="857"/>
                </a:lnTo>
                <a:lnTo>
                  <a:pt x="66" y="897"/>
                </a:lnTo>
                <a:lnTo>
                  <a:pt x="79" y="923"/>
                </a:lnTo>
                <a:lnTo>
                  <a:pt x="88" y="958"/>
                </a:lnTo>
                <a:lnTo>
                  <a:pt x="105" y="998"/>
                </a:lnTo>
                <a:lnTo>
                  <a:pt x="136" y="1033"/>
                </a:lnTo>
                <a:lnTo>
                  <a:pt x="141" y="1011"/>
                </a:lnTo>
                <a:lnTo>
                  <a:pt x="154" y="989"/>
                </a:lnTo>
                <a:lnTo>
                  <a:pt x="158" y="976"/>
                </a:lnTo>
                <a:lnTo>
                  <a:pt x="167" y="958"/>
                </a:lnTo>
                <a:lnTo>
                  <a:pt x="189" y="985"/>
                </a:lnTo>
                <a:lnTo>
                  <a:pt x="211" y="1025"/>
                </a:lnTo>
                <a:lnTo>
                  <a:pt x="242" y="1064"/>
                </a:lnTo>
                <a:lnTo>
                  <a:pt x="286" y="1108"/>
                </a:lnTo>
                <a:lnTo>
                  <a:pt x="286" y="1082"/>
                </a:lnTo>
                <a:lnTo>
                  <a:pt x="291" y="1064"/>
                </a:lnTo>
                <a:lnTo>
                  <a:pt x="295" y="1055"/>
                </a:lnTo>
                <a:lnTo>
                  <a:pt x="295" y="1051"/>
                </a:lnTo>
                <a:lnTo>
                  <a:pt x="330" y="1082"/>
                </a:lnTo>
                <a:lnTo>
                  <a:pt x="357" y="1108"/>
                </a:lnTo>
                <a:lnTo>
                  <a:pt x="388" y="1130"/>
                </a:lnTo>
                <a:lnTo>
                  <a:pt x="410" y="1139"/>
                </a:lnTo>
                <a:lnTo>
                  <a:pt x="419" y="1113"/>
                </a:lnTo>
                <a:lnTo>
                  <a:pt x="433" y="1086"/>
                </a:lnTo>
                <a:lnTo>
                  <a:pt x="450" y="1073"/>
                </a:lnTo>
                <a:lnTo>
                  <a:pt x="490" y="1060"/>
                </a:lnTo>
                <a:lnTo>
                  <a:pt x="525" y="1051"/>
                </a:lnTo>
                <a:lnTo>
                  <a:pt x="552" y="1025"/>
                </a:lnTo>
                <a:lnTo>
                  <a:pt x="587" y="989"/>
                </a:lnTo>
                <a:lnTo>
                  <a:pt x="622" y="967"/>
                </a:lnTo>
                <a:lnTo>
                  <a:pt x="662" y="954"/>
                </a:lnTo>
                <a:lnTo>
                  <a:pt x="693" y="928"/>
                </a:lnTo>
                <a:lnTo>
                  <a:pt x="715" y="888"/>
                </a:lnTo>
                <a:lnTo>
                  <a:pt x="719" y="847"/>
                </a:lnTo>
                <a:lnTo>
                  <a:pt x="724" y="785"/>
                </a:lnTo>
                <a:lnTo>
                  <a:pt x="741" y="715"/>
                </a:lnTo>
                <a:lnTo>
                  <a:pt x="750" y="644"/>
                </a:lnTo>
                <a:lnTo>
                  <a:pt x="746" y="578"/>
                </a:lnTo>
                <a:lnTo>
                  <a:pt x="772" y="596"/>
                </a:lnTo>
                <a:lnTo>
                  <a:pt x="794" y="605"/>
                </a:lnTo>
                <a:lnTo>
                  <a:pt x="816" y="622"/>
                </a:lnTo>
                <a:lnTo>
                  <a:pt x="830" y="631"/>
                </a:lnTo>
                <a:lnTo>
                  <a:pt x="830" y="587"/>
                </a:lnTo>
                <a:lnTo>
                  <a:pt x="821" y="534"/>
                </a:lnTo>
                <a:lnTo>
                  <a:pt x="799" y="486"/>
                </a:lnTo>
                <a:lnTo>
                  <a:pt x="772" y="437"/>
                </a:lnTo>
                <a:lnTo>
                  <a:pt x="759" y="384"/>
                </a:lnTo>
                <a:lnTo>
                  <a:pt x="759" y="322"/>
                </a:lnTo>
                <a:lnTo>
                  <a:pt x="755" y="260"/>
                </a:lnTo>
                <a:lnTo>
                  <a:pt x="733" y="220"/>
                </a:lnTo>
                <a:lnTo>
                  <a:pt x="697" y="185"/>
                </a:lnTo>
                <a:lnTo>
                  <a:pt x="666" y="145"/>
                </a:lnTo>
                <a:lnTo>
                  <a:pt x="644" y="105"/>
                </a:lnTo>
                <a:lnTo>
                  <a:pt x="627" y="74"/>
                </a:lnTo>
                <a:lnTo>
                  <a:pt x="605" y="48"/>
                </a:lnTo>
                <a:lnTo>
                  <a:pt x="578" y="22"/>
                </a:lnTo>
                <a:lnTo>
                  <a:pt x="547" y="4"/>
                </a:lnTo>
                <a:lnTo>
                  <a:pt x="512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5600520"/>
            <a:ext cx="9207720" cy="140040"/>
          </a:xfrm>
          <a:custGeom>
            <a:avLst/>
            <a:gdLst/>
            <a:ahLst/>
            <a:rect l="0" t="0" r="r" b="b"/>
            <a:pathLst>
              <a:path fill="none" w="25577" h="389">
                <a:moveTo>
                  <a:pt x="0" y="353"/>
                </a:moveTo>
                <a:lnTo>
                  <a:pt x="2010" y="283"/>
                </a:lnTo>
                <a:lnTo>
                  <a:pt x="4833" y="318"/>
                </a:lnTo>
                <a:lnTo>
                  <a:pt x="10371" y="141"/>
                </a:lnTo>
                <a:lnTo>
                  <a:pt x="16264" y="70"/>
                </a:lnTo>
                <a:lnTo>
                  <a:pt x="18098" y="389"/>
                </a:lnTo>
                <a:lnTo>
                  <a:pt x="21238" y="176"/>
                </a:lnTo>
                <a:lnTo>
                  <a:pt x="23672" y="0"/>
                </a:lnTo>
                <a:lnTo>
                  <a:pt x="25577" y="176"/>
                </a:lnTo>
                <a:lnTo>
                  <a:pt x="25396" y="10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255160" y="2727360"/>
            <a:ext cx="43200" cy="89280"/>
          </a:xfrm>
          <a:custGeom>
            <a:avLst/>
            <a:gdLst/>
            <a:ahLst/>
            <a:rect l="0" t="0" r="r" b="b"/>
            <a:pathLst>
              <a:path w="120" h="248">
                <a:moveTo>
                  <a:pt x="120" y="8"/>
                </a:moveTo>
                <a:lnTo>
                  <a:pt x="0" y="0"/>
                </a:lnTo>
                <a:lnTo>
                  <a:pt x="39" y="248"/>
                </a:lnTo>
                <a:lnTo>
                  <a:pt x="120" y="8"/>
                </a:lnTo>
                <a:close/>
              </a:path>
            </a:pathLst>
          </a:custGeom>
          <a:solidFill>
            <a:srgbClr val="ccf2f2"/>
          </a:solidFill>
          <a:ln w="0">
            <a:noFill/>
          </a:ln>
        </p:spPr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8018640" y="1238400"/>
            <a:ext cx="522360" cy="1762200"/>
            <a:chOff x="8018640" y="1238400"/>
            <a:chExt cx="522360" cy="1762200"/>
          </a:xfrm>
        </p:grpSpPr>
        <p:sp>
          <p:nvSpPr>
            <p:cNvPr id="638" name=""/>
            <p:cNvSpPr/>
            <p:nvPr/>
          </p:nvSpPr>
          <p:spPr>
            <a:xfrm>
              <a:off x="8232840" y="1987560"/>
              <a:ext cx="240120" cy="1013040"/>
            </a:xfrm>
            <a:custGeom>
              <a:avLst/>
              <a:gdLst/>
              <a:ahLst/>
              <a:rect l="0" t="0" r="r" b="b"/>
              <a:pathLst>
                <a:path w="667" h="2814">
                  <a:moveTo>
                    <a:pt x="0" y="2055"/>
                  </a:moveTo>
                  <a:lnTo>
                    <a:pt x="97" y="2514"/>
                  </a:lnTo>
                  <a:lnTo>
                    <a:pt x="221" y="2113"/>
                  </a:lnTo>
                  <a:lnTo>
                    <a:pt x="256" y="2470"/>
                  </a:lnTo>
                  <a:lnTo>
                    <a:pt x="336" y="2329"/>
                  </a:lnTo>
                  <a:lnTo>
                    <a:pt x="411" y="2814"/>
                  </a:lnTo>
                  <a:lnTo>
                    <a:pt x="513" y="1919"/>
                  </a:lnTo>
                  <a:lnTo>
                    <a:pt x="592" y="2091"/>
                  </a:lnTo>
                  <a:lnTo>
                    <a:pt x="575" y="1115"/>
                  </a:lnTo>
                  <a:lnTo>
                    <a:pt x="667" y="1221"/>
                  </a:lnTo>
                  <a:lnTo>
                    <a:pt x="531" y="0"/>
                  </a:lnTo>
                  <a:lnTo>
                    <a:pt x="522" y="255"/>
                  </a:lnTo>
                  <a:lnTo>
                    <a:pt x="411" y="2077"/>
                  </a:lnTo>
                  <a:lnTo>
                    <a:pt x="247" y="2064"/>
                  </a:lnTo>
                  <a:lnTo>
                    <a:pt x="181" y="2064"/>
                  </a:lnTo>
                  <a:lnTo>
                    <a:pt x="61" y="2055"/>
                  </a:lnTo>
                  <a:lnTo>
                    <a:pt x="0" y="2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435880" y="1238400"/>
              <a:ext cx="105120" cy="757440"/>
            </a:xfrm>
            <a:custGeom>
              <a:avLst/>
              <a:gdLst/>
              <a:ahLst/>
              <a:rect l="0" t="0" r="r" b="b"/>
              <a:pathLst>
                <a:path w="292" h="2104">
                  <a:moveTo>
                    <a:pt x="0" y="1482"/>
                  </a:moveTo>
                  <a:lnTo>
                    <a:pt x="17" y="1169"/>
                  </a:lnTo>
                  <a:lnTo>
                    <a:pt x="66" y="330"/>
                  </a:lnTo>
                  <a:lnTo>
                    <a:pt x="88" y="0"/>
                  </a:lnTo>
                  <a:lnTo>
                    <a:pt x="292" y="1036"/>
                  </a:lnTo>
                  <a:lnTo>
                    <a:pt x="181" y="956"/>
                  </a:lnTo>
                  <a:lnTo>
                    <a:pt x="119" y="2104"/>
                  </a:lnTo>
                  <a:lnTo>
                    <a:pt x="0" y="1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018640" y="2712960"/>
              <a:ext cx="184680" cy="170280"/>
            </a:xfrm>
            <a:custGeom>
              <a:avLst/>
              <a:gdLst/>
              <a:ahLst/>
              <a:rect l="0" t="0" r="r" b="b"/>
              <a:pathLst>
                <a:path w="513" h="473">
                  <a:moveTo>
                    <a:pt x="0" y="0"/>
                  </a:moveTo>
                  <a:lnTo>
                    <a:pt x="22" y="239"/>
                  </a:lnTo>
                  <a:lnTo>
                    <a:pt x="97" y="164"/>
                  </a:lnTo>
                  <a:lnTo>
                    <a:pt x="155" y="473"/>
                  </a:lnTo>
                  <a:lnTo>
                    <a:pt x="239" y="172"/>
                  </a:lnTo>
                  <a:lnTo>
                    <a:pt x="283" y="243"/>
                  </a:lnTo>
                  <a:lnTo>
                    <a:pt x="375" y="70"/>
                  </a:lnTo>
                  <a:lnTo>
                    <a:pt x="412" y="146"/>
                  </a:lnTo>
                  <a:lnTo>
                    <a:pt x="513" y="35"/>
                  </a:lnTo>
                  <a:lnTo>
                    <a:pt x="456" y="26"/>
                  </a:lnTo>
                  <a:lnTo>
                    <a:pt x="394" y="22"/>
                  </a:lnTo>
                  <a:lnTo>
                    <a:pt x="358" y="22"/>
                  </a:lnTo>
                  <a:lnTo>
                    <a:pt x="5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21760" y="2079720"/>
              <a:ext cx="127440" cy="805320"/>
            </a:xfrm>
            <a:custGeom>
              <a:avLst/>
              <a:gdLst/>
              <a:ahLst/>
              <a:rect l="0" t="0" r="r" b="b"/>
              <a:pathLst>
                <a:path w="354" h="2237">
                  <a:moveTo>
                    <a:pt x="275" y="0"/>
                  </a:moveTo>
                  <a:lnTo>
                    <a:pt x="164" y="1823"/>
                  </a:lnTo>
                  <a:lnTo>
                    <a:pt x="0" y="1809"/>
                  </a:lnTo>
                  <a:lnTo>
                    <a:pt x="35" y="2065"/>
                  </a:lnTo>
                  <a:lnTo>
                    <a:pt x="111" y="1924"/>
                  </a:lnTo>
                  <a:lnTo>
                    <a:pt x="159" y="2237"/>
                  </a:lnTo>
                  <a:lnTo>
                    <a:pt x="234" y="1495"/>
                  </a:lnTo>
                  <a:lnTo>
                    <a:pt x="284" y="1597"/>
                  </a:lnTo>
                  <a:lnTo>
                    <a:pt x="266" y="719"/>
                  </a:lnTo>
                  <a:lnTo>
                    <a:pt x="354" y="807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037360" y="2714760"/>
              <a:ext cx="109800" cy="101880"/>
            </a:xfrm>
            <a:custGeom>
              <a:avLst/>
              <a:gdLst/>
              <a:ahLst/>
              <a:rect l="0" t="0" r="r" b="b"/>
              <a:pathLst>
                <a:path w="305" h="283">
                  <a:moveTo>
                    <a:pt x="0" y="0"/>
                  </a:moveTo>
                  <a:lnTo>
                    <a:pt x="305" y="17"/>
                  </a:lnTo>
                  <a:lnTo>
                    <a:pt x="225" y="146"/>
                  </a:lnTo>
                  <a:lnTo>
                    <a:pt x="181" y="97"/>
                  </a:lnTo>
                  <a:lnTo>
                    <a:pt x="105" y="283"/>
                  </a:lnTo>
                  <a:lnTo>
                    <a:pt x="70" y="88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442360" y="1357200"/>
              <a:ext cx="62280" cy="448200"/>
            </a:xfrm>
            <a:custGeom>
              <a:avLst/>
              <a:gdLst/>
              <a:ahLst/>
              <a:rect l="0" t="0" r="r" b="b"/>
              <a:pathLst>
                <a:path w="173" h="1245">
                  <a:moveTo>
                    <a:pt x="49" y="0"/>
                  </a:moveTo>
                  <a:lnTo>
                    <a:pt x="0" y="838"/>
                  </a:lnTo>
                  <a:lnTo>
                    <a:pt x="71" y="1245"/>
                  </a:lnTo>
                  <a:lnTo>
                    <a:pt x="106" y="477"/>
                  </a:lnTo>
                  <a:lnTo>
                    <a:pt x="173" y="54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7991640" y="685800"/>
            <a:ext cx="506880" cy="2061000"/>
            <a:chOff x="7991640" y="685800"/>
            <a:chExt cx="506880" cy="2061000"/>
          </a:xfrm>
        </p:grpSpPr>
        <p:sp>
          <p:nvSpPr>
            <p:cNvPr id="645" name=""/>
            <p:cNvSpPr/>
            <p:nvPr/>
          </p:nvSpPr>
          <p:spPr>
            <a:xfrm>
              <a:off x="7991640" y="685800"/>
              <a:ext cx="506880" cy="2049840"/>
            </a:xfrm>
            <a:custGeom>
              <a:avLst/>
              <a:gdLst/>
              <a:ahLst/>
              <a:rect l="0" t="0" r="r" b="b"/>
              <a:pathLst>
                <a:path w="1408" h="5694">
                  <a:moveTo>
                    <a:pt x="0" y="5628"/>
                  </a:moveTo>
                  <a:lnTo>
                    <a:pt x="74" y="5633"/>
                  </a:lnTo>
                  <a:lnTo>
                    <a:pt x="127" y="5637"/>
                  </a:lnTo>
                  <a:lnTo>
                    <a:pt x="433" y="5655"/>
                  </a:lnTo>
                  <a:lnTo>
                    <a:pt x="468" y="5655"/>
                  </a:lnTo>
                  <a:lnTo>
                    <a:pt x="530" y="5659"/>
                  </a:lnTo>
                  <a:lnTo>
                    <a:pt x="587" y="5668"/>
                  </a:lnTo>
                  <a:lnTo>
                    <a:pt x="671" y="5672"/>
                  </a:lnTo>
                  <a:lnTo>
                    <a:pt x="733" y="5672"/>
                  </a:lnTo>
                  <a:lnTo>
                    <a:pt x="852" y="5681"/>
                  </a:lnTo>
                  <a:lnTo>
                    <a:pt x="918" y="5681"/>
                  </a:lnTo>
                  <a:lnTo>
                    <a:pt x="1082" y="5694"/>
                  </a:lnTo>
                  <a:lnTo>
                    <a:pt x="1192" y="3872"/>
                  </a:lnTo>
                  <a:lnTo>
                    <a:pt x="1201" y="3616"/>
                  </a:lnTo>
                  <a:lnTo>
                    <a:pt x="1236" y="3017"/>
                  </a:lnTo>
                  <a:lnTo>
                    <a:pt x="1254" y="2704"/>
                  </a:lnTo>
                  <a:lnTo>
                    <a:pt x="1302" y="1866"/>
                  </a:lnTo>
                  <a:lnTo>
                    <a:pt x="1324" y="1535"/>
                  </a:lnTo>
                  <a:lnTo>
                    <a:pt x="1408" y="0"/>
                  </a:lnTo>
                  <a:lnTo>
                    <a:pt x="52" y="114"/>
                  </a:lnTo>
                  <a:lnTo>
                    <a:pt x="0" y="56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024760" y="746280"/>
              <a:ext cx="410040" cy="1938600"/>
            </a:xfrm>
            <a:custGeom>
              <a:avLst/>
              <a:gdLst/>
              <a:ahLst/>
              <a:rect l="0" t="0" r="r" b="b"/>
              <a:pathLst>
                <a:path w="1139" h="5385">
                  <a:moveTo>
                    <a:pt x="83" y="57"/>
                  </a:moveTo>
                  <a:lnTo>
                    <a:pt x="1139" y="0"/>
                  </a:lnTo>
                  <a:lnTo>
                    <a:pt x="830" y="5385"/>
                  </a:lnTo>
                  <a:lnTo>
                    <a:pt x="0" y="5349"/>
                  </a:lnTo>
                  <a:lnTo>
                    <a:pt x="83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248680" y="2490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9" y="14"/>
                  </a:moveTo>
                  <a:lnTo>
                    <a:pt x="33" y="14"/>
                  </a:lnTo>
                  <a:lnTo>
                    <a:pt x="26" y="22"/>
                  </a:lnTo>
                  <a:lnTo>
                    <a:pt x="12" y="22"/>
                  </a:lnTo>
                  <a:lnTo>
                    <a:pt x="12" y="29"/>
                  </a:lnTo>
                  <a:lnTo>
                    <a:pt x="12" y="43"/>
                  </a:lnTo>
                  <a:lnTo>
                    <a:pt x="26" y="43"/>
                  </a:lnTo>
                  <a:lnTo>
                    <a:pt x="26" y="50"/>
                  </a:lnTo>
                  <a:lnTo>
                    <a:pt x="33" y="58"/>
                  </a:lnTo>
                  <a:lnTo>
                    <a:pt x="39" y="58"/>
                  </a:lnTo>
                  <a:lnTo>
                    <a:pt x="45" y="50"/>
                  </a:lnTo>
                  <a:lnTo>
                    <a:pt x="52" y="43"/>
                  </a:lnTo>
                  <a:lnTo>
                    <a:pt x="52" y="29"/>
                  </a:lnTo>
                  <a:lnTo>
                    <a:pt x="52" y="22"/>
                  </a:lnTo>
                  <a:lnTo>
                    <a:pt x="45" y="22"/>
                  </a:lnTo>
                  <a:lnTo>
                    <a:pt x="45" y="14"/>
                  </a:lnTo>
                  <a:lnTo>
                    <a:pt x="39" y="14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66" y="7"/>
                  </a:lnTo>
                  <a:lnTo>
                    <a:pt x="72" y="22"/>
                  </a:lnTo>
                  <a:lnTo>
                    <a:pt x="72" y="43"/>
                  </a:lnTo>
                  <a:lnTo>
                    <a:pt x="72" y="50"/>
                  </a:lnTo>
                  <a:lnTo>
                    <a:pt x="66" y="65"/>
                  </a:lnTo>
                  <a:lnTo>
                    <a:pt x="45" y="72"/>
                  </a:lnTo>
                  <a:lnTo>
                    <a:pt x="33" y="72"/>
                  </a:lnTo>
                  <a:lnTo>
                    <a:pt x="26" y="72"/>
                  </a:lnTo>
                  <a:lnTo>
                    <a:pt x="6" y="65"/>
                  </a:lnTo>
                  <a:lnTo>
                    <a:pt x="0" y="50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6" y="7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69200" y="2500200"/>
              <a:ext cx="36720" cy="60840"/>
            </a:xfrm>
            <a:custGeom>
              <a:avLst/>
              <a:gdLst/>
              <a:ahLst/>
              <a:rect l="0" t="0" r="r" b="b"/>
              <a:pathLst>
                <a:path w="102" h="169">
                  <a:moveTo>
                    <a:pt x="0" y="165"/>
                  </a:moveTo>
                  <a:lnTo>
                    <a:pt x="13" y="0"/>
                  </a:lnTo>
                  <a:lnTo>
                    <a:pt x="102" y="0"/>
                  </a:lnTo>
                  <a:lnTo>
                    <a:pt x="102" y="35"/>
                  </a:lnTo>
                  <a:lnTo>
                    <a:pt x="48" y="30"/>
                  </a:lnTo>
                  <a:lnTo>
                    <a:pt x="44" y="62"/>
                  </a:lnTo>
                  <a:lnTo>
                    <a:pt x="98" y="62"/>
                  </a:lnTo>
                  <a:lnTo>
                    <a:pt x="93" y="102"/>
                  </a:lnTo>
                  <a:lnTo>
                    <a:pt x="44" y="93"/>
                  </a:lnTo>
                  <a:lnTo>
                    <a:pt x="44" y="169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37360" y="2484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9" y="12"/>
                  </a:moveTo>
                  <a:lnTo>
                    <a:pt x="33" y="12"/>
                  </a:lnTo>
                  <a:lnTo>
                    <a:pt x="33" y="26"/>
                  </a:lnTo>
                  <a:lnTo>
                    <a:pt x="26" y="26"/>
                  </a:lnTo>
                  <a:lnTo>
                    <a:pt x="26" y="33"/>
                  </a:lnTo>
                  <a:lnTo>
                    <a:pt x="26" y="39"/>
                  </a:lnTo>
                  <a:lnTo>
                    <a:pt x="33" y="39"/>
                  </a:lnTo>
                  <a:lnTo>
                    <a:pt x="33" y="45"/>
                  </a:lnTo>
                  <a:lnTo>
                    <a:pt x="39" y="45"/>
                  </a:lnTo>
                  <a:lnTo>
                    <a:pt x="45" y="45"/>
                  </a:lnTo>
                  <a:lnTo>
                    <a:pt x="45" y="39"/>
                  </a:lnTo>
                  <a:lnTo>
                    <a:pt x="52" y="39"/>
                  </a:lnTo>
                  <a:lnTo>
                    <a:pt x="52" y="33"/>
                  </a:lnTo>
                  <a:lnTo>
                    <a:pt x="52" y="26"/>
                  </a:lnTo>
                  <a:lnTo>
                    <a:pt x="45" y="26"/>
                  </a:lnTo>
                  <a:lnTo>
                    <a:pt x="45" y="12"/>
                  </a:lnTo>
                  <a:lnTo>
                    <a:pt x="39" y="12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66" y="6"/>
                  </a:lnTo>
                  <a:lnTo>
                    <a:pt x="72" y="26"/>
                  </a:lnTo>
                  <a:lnTo>
                    <a:pt x="72" y="33"/>
                  </a:lnTo>
                  <a:lnTo>
                    <a:pt x="72" y="45"/>
                  </a:lnTo>
                  <a:lnTo>
                    <a:pt x="66" y="66"/>
                  </a:lnTo>
                  <a:lnTo>
                    <a:pt x="45" y="72"/>
                  </a:lnTo>
                  <a:lnTo>
                    <a:pt x="39" y="72"/>
                  </a:lnTo>
                  <a:lnTo>
                    <a:pt x="26" y="66"/>
                  </a:lnTo>
                  <a:lnTo>
                    <a:pt x="6" y="52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12"/>
                  </a:lnTo>
                  <a:lnTo>
                    <a:pt x="6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61480" y="2492280"/>
              <a:ext cx="38520" cy="59040"/>
            </a:xfrm>
            <a:custGeom>
              <a:avLst/>
              <a:gdLst/>
              <a:ahLst/>
              <a:rect l="0" t="0" r="r" b="b"/>
              <a:pathLst>
                <a:path w="107" h="164">
                  <a:moveTo>
                    <a:pt x="62" y="57"/>
                  </a:moveTo>
                  <a:lnTo>
                    <a:pt x="67" y="48"/>
                  </a:lnTo>
                  <a:lnTo>
                    <a:pt x="67" y="39"/>
                  </a:lnTo>
                  <a:lnTo>
                    <a:pt x="62" y="30"/>
                  </a:lnTo>
                  <a:lnTo>
                    <a:pt x="58" y="26"/>
                  </a:lnTo>
                  <a:lnTo>
                    <a:pt x="53" y="26"/>
                  </a:lnTo>
                  <a:lnTo>
                    <a:pt x="45" y="26"/>
                  </a:lnTo>
                  <a:lnTo>
                    <a:pt x="40" y="30"/>
                  </a:lnTo>
                  <a:lnTo>
                    <a:pt x="40" y="35"/>
                  </a:lnTo>
                  <a:lnTo>
                    <a:pt x="40" y="39"/>
                  </a:lnTo>
                  <a:lnTo>
                    <a:pt x="36" y="124"/>
                  </a:lnTo>
                  <a:lnTo>
                    <a:pt x="36" y="128"/>
                  </a:lnTo>
                  <a:lnTo>
                    <a:pt x="40" y="133"/>
                  </a:lnTo>
                  <a:lnTo>
                    <a:pt x="40" y="137"/>
                  </a:lnTo>
                  <a:lnTo>
                    <a:pt x="45" y="137"/>
                  </a:lnTo>
                  <a:lnTo>
                    <a:pt x="58" y="137"/>
                  </a:lnTo>
                  <a:lnTo>
                    <a:pt x="62" y="128"/>
                  </a:lnTo>
                  <a:lnTo>
                    <a:pt x="62" y="124"/>
                  </a:lnTo>
                  <a:lnTo>
                    <a:pt x="62" y="115"/>
                  </a:lnTo>
                  <a:lnTo>
                    <a:pt x="62" y="102"/>
                  </a:lnTo>
                  <a:lnTo>
                    <a:pt x="99" y="102"/>
                  </a:lnTo>
                  <a:lnTo>
                    <a:pt x="99" y="124"/>
                  </a:lnTo>
                  <a:lnTo>
                    <a:pt x="94" y="137"/>
                  </a:lnTo>
                  <a:lnTo>
                    <a:pt x="90" y="155"/>
                  </a:lnTo>
                  <a:lnTo>
                    <a:pt x="71" y="159"/>
                  </a:lnTo>
                  <a:lnTo>
                    <a:pt x="45" y="164"/>
                  </a:lnTo>
                  <a:lnTo>
                    <a:pt x="26" y="159"/>
                  </a:lnTo>
                  <a:lnTo>
                    <a:pt x="8" y="150"/>
                  </a:lnTo>
                  <a:lnTo>
                    <a:pt x="0" y="133"/>
                  </a:lnTo>
                  <a:lnTo>
                    <a:pt x="0" y="111"/>
                  </a:lnTo>
                  <a:lnTo>
                    <a:pt x="4" y="48"/>
                  </a:lnTo>
                  <a:lnTo>
                    <a:pt x="8" y="26"/>
                  </a:lnTo>
                  <a:lnTo>
                    <a:pt x="13" y="8"/>
                  </a:lnTo>
                  <a:lnTo>
                    <a:pt x="31" y="4"/>
                  </a:lnTo>
                  <a:lnTo>
                    <a:pt x="53" y="0"/>
                  </a:lnTo>
                  <a:lnTo>
                    <a:pt x="71" y="4"/>
                  </a:lnTo>
                  <a:lnTo>
                    <a:pt x="90" y="8"/>
                  </a:lnTo>
                  <a:lnTo>
                    <a:pt x="99" y="26"/>
                  </a:lnTo>
                  <a:lnTo>
                    <a:pt x="107" y="48"/>
                  </a:lnTo>
                  <a:lnTo>
                    <a:pt x="99" y="57"/>
                  </a:lnTo>
                  <a:lnTo>
                    <a:pt x="6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13680" y="1216080"/>
              <a:ext cx="128880" cy="1386360"/>
            </a:xfrm>
            <a:custGeom>
              <a:avLst/>
              <a:gdLst/>
              <a:ahLst/>
              <a:rect l="0" t="0" r="r" b="b"/>
              <a:pathLst>
                <a:path w="358" h="3851">
                  <a:moveTo>
                    <a:pt x="0" y="3829"/>
                  </a:moveTo>
                  <a:lnTo>
                    <a:pt x="309" y="3851"/>
                  </a:lnTo>
                  <a:lnTo>
                    <a:pt x="327" y="3445"/>
                  </a:lnTo>
                  <a:lnTo>
                    <a:pt x="230" y="3441"/>
                  </a:lnTo>
                  <a:lnTo>
                    <a:pt x="230" y="3375"/>
                  </a:lnTo>
                  <a:lnTo>
                    <a:pt x="239" y="3344"/>
                  </a:lnTo>
                  <a:lnTo>
                    <a:pt x="247" y="3018"/>
                  </a:lnTo>
                  <a:lnTo>
                    <a:pt x="247" y="2991"/>
                  </a:lnTo>
                  <a:lnTo>
                    <a:pt x="265" y="2646"/>
                  </a:lnTo>
                  <a:lnTo>
                    <a:pt x="265" y="2615"/>
                  </a:lnTo>
                  <a:lnTo>
                    <a:pt x="274" y="2285"/>
                  </a:lnTo>
                  <a:lnTo>
                    <a:pt x="274" y="2249"/>
                  </a:lnTo>
                  <a:lnTo>
                    <a:pt x="292" y="1901"/>
                  </a:lnTo>
                  <a:lnTo>
                    <a:pt x="292" y="1870"/>
                  </a:lnTo>
                  <a:lnTo>
                    <a:pt x="305" y="1517"/>
                  </a:lnTo>
                  <a:lnTo>
                    <a:pt x="305" y="1487"/>
                  </a:lnTo>
                  <a:lnTo>
                    <a:pt x="318" y="1121"/>
                  </a:lnTo>
                  <a:lnTo>
                    <a:pt x="322" y="1090"/>
                  </a:lnTo>
                  <a:lnTo>
                    <a:pt x="331" y="727"/>
                  </a:lnTo>
                  <a:lnTo>
                    <a:pt x="336" y="692"/>
                  </a:lnTo>
                  <a:lnTo>
                    <a:pt x="349" y="313"/>
                  </a:lnTo>
                  <a:lnTo>
                    <a:pt x="349" y="282"/>
                  </a:lnTo>
                  <a:lnTo>
                    <a:pt x="358" y="0"/>
                  </a:lnTo>
                  <a:lnTo>
                    <a:pt x="203" y="8"/>
                  </a:lnTo>
                  <a:lnTo>
                    <a:pt x="199" y="268"/>
                  </a:lnTo>
                  <a:lnTo>
                    <a:pt x="195" y="304"/>
                  </a:lnTo>
                  <a:lnTo>
                    <a:pt x="181" y="635"/>
                  </a:lnTo>
                  <a:lnTo>
                    <a:pt x="181" y="661"/>
                  </a:lnTo>
                  <a:lnTo>
                    <a:pt x="171" y="988"/>
                  </a:lnTo>
                  <a:lnTo>
                    <a:pt x="171" y="1019"/>
                  </a:lnTo>
                  <a:lnTo>
                    <a:pt x="163" y="1345"/>
                  </a:lnTo>
                  <a:lnTo>
                    <a:pt x="163" y="1372"/>
                  </a:lnTo>
                  <a:lnTo>
                    <a:pt x="149" y="1685"/>
                  </a:lnTo>
                  <a:lnTo>
                    <a:pt x="149" y="1716"/>
                  </a:lnTo>
                  <a:lnTo>
                    <a:pt x="141" y="2038"/>
                  </a:lnTo>
                  <a:lnTo>
                    <a:pt x="141" y="2069"/>
                  </a:lnTo>
                  <a:lnTo>
                    <a:pt x="127" y="2360"/>
                  </a:lnTo>
                  <a:lnTo>
                    <a:pt x="127" y="2391"/>
                  </a:lnTo>
                  <a:lnTo>
                    <a:pt x="119" y="2695"/>
                  </a:lnTo>
                  <a:lnTo>
                    <a:pt x="119" y="2726"/>
                  </a:lnTo>
                  <a:lnTo>
                    <a:pt x="110" y="3009"/>
                  </a:lnTo>
                  <a:lnTo>
                    <a:pt x="110" y="3044"/>
                  </a:lnTo>
                  <a:lnTo>
                    <a:pt x="97" y="3335"/>
                  </a:lnTo>
                  <a:lnTo>
                    <a:pt x="97" y="3371"/>
                  </a:lnTo>
                  <a:lnTo>
                    <a:pt x="97" y="3441"/>
                  </a:lnTo>
                  <a:lnTo>
                    <a:pt x="8" y="3432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37360" y="2295360"/>
              <a:ext cx="116280" cy="25920"/>
            </a:xfrm>
            <a:custGeom>
              <a:avLst/>
              <a:gdLst/>
              <a:ahLst/>
              <a:rect l="0" t="0" r="r" b="b"/>
              <a:pathLst>
                <a:path w="323" h="72">
                  <a:moveTo>
                    <a:pt x="323" y="72"/>
                  </a:moveTo>
                  <a:lnTo>
                    <a:pt x="323" y="14"/>
                  </a:lnTo>
                  <a:lnTo>
                    <a:pt x="4" y="0"/>
                  </a:lnTo>
                  <a:lnTo>
                    <a:pt x="0" y="50"/>
                  </a:lnTo>
                  <a:lnTo>
                    <a:pt x="32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202600" y="2292480"/>
              <a:ext cx="127440" cy="25920"/>
            </a:xfrm>
            <a:custGeom>
              <a:avLst/>
              <a:gdLst/>
              <a:ahLst/>
              <a:rect l="0" t="0" r="r" b="b"/>
              <a:pathLst>
                <a:path w="354" h="72">
                  <a:moveTo>
                    <a:pt x="0" y="53"/>
                  </a:moveTo>
                  <a:lnTo>
                    <a:pt x="0" y="0"/>
                  </a:lnTo>
                  <a:lnTo>
                    <a:pt x="354" y="8"/>
                  </a:lnTo>
                  <a:lnTo>
                    <a:pt x="354" y="72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211960" y="2025720"/>
              <a:ext cx="132120" cy="25920"/>
            </a:xfrm>
            <a:custGeom>
              <a:avLst/>
              <a:gdLst/>
              <a:ahLst/>
              <a:rect l="0" t="0" r="r" b="b"/>
              <a:pathLst>
                <a:path w="367" h="72">
                  <a:moveTo>
                    <a:pt x="0" y="72"/>
                  </a:moveTo>
                  <a:lnTo>
                    <a:pt x="0" y="0"/>
                  </a:lnTo>
                  <a:lnTo>
                    <a:pt x="367" y="0"/>
                  </a:lnTo>
                  <a:lnTo>
                    <a:pt x="367" y="72"/>
                  </a:lnTo>
                  <a:lnTo>
                    <a:pt x="353" y="72"/>
                  </a:lnTo>
                  <a:lnTo>
                    <a:pt x="314" y="72"/>
                  </a:lnTo>
                  <a:lnTo>
                    <a:pt x="256" y="72"/>
                  </a:lnTo>
                  <a:lnTo>
                    <a:pt x="186" y="72"/>
                  </a:lnTo>
                  <a:lnTo>
                    <a:pt x="123" y="72"/>
                  </a:lnTo>
                  <a:lnTo>
                    <a:pt x="61" y="72"/>
                  </a:lnTo>
                  <a:lnTo>
                    <a:pt x="2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40600" y="2065320"/>
              <a:ext cx="119520" cy="25920"/>
            </a:xfrm>
            <a:custGeom>
              <a:avLst/>
              <a:gdLst/>
              <a:ahLst/>
              <a:rect l="0" t="0" r="r" b="b"/>
              <a:pathLst>
                <a:path w="332" h="72">
                  <a:moveTo>
                    <a:pt x="332" y="0"/>
                  </a:moveTo>
                  <a:lnTo>
                    <a:pt x="332" y="72"/>
                  </a:lnTo>
                  <a:lnTo>
                    <a:pt x="8" y="72"/>
                  </a:lnTo>
                  <a:lnTo>
                    <a:pt x="0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39160" y="2184480"/>
              <a:ext cx="117720" cy="25920"/>
            </a:xfrm>
            <a:custGeom>
              <a:avLst/>
              <a:gdLst/>
              <a:ahLst/>
              <a:rect l="0" t="0" r="r" b="b"/>
              <a:pathLst>
                <a:path w="327" h="72">
                  <a:moveTo>
                    <a:pt x="327" y="72"/>
                  </a:moveTo>
                  <a:lnTo>
                    <a:pt x="327" y="8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27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209080" y="2157480"/>
              <a:ext cx="128880" cy="25920"/>
            </a:xfrm>
            <a:custGeom>
              <a:avLst/>
              <a:gdLst/>
              <a:ahLst/>
              <a:rect l="0" t="0" r="r" b="b"/>
              <a:pathLst>
                <a:path w="358" h="72">
                  <a:moveTo>
                    <a:pt x="0" y="63"/>
                  </a:moveTo>
                  <a:lnTo>
                    <a:pt x="0" y="0"/>
                  </a:lnTo>
                  <a:lnTo>
                    <a:pt x="358" y="8"/>
                  </a:lnTo>
                  <a:lnTo>
                    <a:pt x="358" y="7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53560" y="1444680"/>
              <a:ext cx="125640" cy="25920"/>
            </a:xfrm>
            <a:custGeom>
              <a:avLst/>
              <a:gdLst/>
              <a:ahLst/>
              <a:rect l="0" t="0" r="r" b="b"/>
              <a:pathLst>
                <a:path w="349" h="72">
                  <a:moveTo>
                    <a:pt x="349" y="53"/>
                  </a:moveTo>
                  <a:lnTo>
                    <a:pt x="349" y="0"/>
                  </a:lnTo>
                  <a:lnTo>
                    <a:pt x="0" y="17"/>
                  </a:lnTo>
                  <a:lnTo>
                    <a:pt x="0" y="72"/>
                  </a:lnTo>
                  <a:lnTo>
                    <a:pt x="3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232840" y="1461960"/>
              <a:ext cx="144720" cy="25920"/>
            </a:xfrm>
            <a:custGeom>
              <a:avLst/>
              <a:gdLst/>
              <a:ahLst/>
              <a:rect l="0" t="0" r="r" b="b"/>
              <a:pathLst>
                <a:path w="402" h="72">
                  <a:moveTo>
                    <a:pt x="0" y="72"/>
                  </a:moveTo>
                  <a:lnTo>
                    <a:pt x="4" y="14"/>
                  </a:lnTo>
                  <a:lnTo>
                    <a:pt x="402" y="0"/>
                  </a:lnTo>
                  <a:lnTo>
                    <a:pt x="402" y="5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50320" y="1571760"/>
              <a:ext cx="125640" cy="25920"/>
            </a:xfrm>
            <a:custGeom>
              <a:avLst/>
              <a:gdLst/>
              <a:ahLst/>
              <a:rect l="0" t="0" r="r" b="b"/>
              <a:pathLst>
                <a:path w="349" h="72">
                  <a:moveTo>
                    <a:pt x="349" y="0"/>
                  </a:moveTo>
                  <a:lnTo>
                    <a:pt x="349" y="50"/>
                  </a:lnTo>
                  <a:lnTo>
                    <a:pt x="0" y="72"/>
                  </a:lnTo>
                  <a:lnTo>
                    <a:pt x="0" y="14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055000" y="1312920"/>
              <a:ext cx="130680" cy="25920"/>
            </a:xfrm>
            <a:custGeom>
              <a:avLst/>
              <a:gdLst/>
              <a:ahLst/>
              <a:rect l="0" t="0" r="r" b="b"/>
              <a:pathLst>
                <a:path w="363" h="72">
                  <a:moveTo>
                    <a:pt x="363" y="0"/>
                  </a:moveTo>
                  <a:lnTo>
                    <a:pt x="359" y="58"/>
                  </a:lnTo>
                  <a:lnTo>
                    <a:pt x="0" y="72"/>
                  </a:lnTo>
                  <a:lnTo>
                    <a:pt x="0" y="2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238960" y="1312920"/>
              <a:ext cx="147960" cy="25920"/>
            </a:xfrm>
            <a:custGeom>
              <a:avLst/>
              <a:gdLst/>
              <a:ahLst/>
              <a:rect l="0" t="0" r="r" b="b"/>
              <a:pathLst>
                <a:path w="411" h="72">
                  <a:moveTo>
                    <a:pt x="0" y="22"/>
                  </a:moveTo>
                  <a:lnTo>
                    <a:pt x="0" y="72"/>
                  </a:lnTo>
                  <a:lnTo>
                    <a:pt x="406" y="58"/>
                  </a:lnTo>
                  <a:lnTo>
                    <a:pt x="411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196120" y="2419200"/>
              <a:ext cx="125640" cy="25920"/>
            </a:xfrm>
            <a:custGeom>
              <a:avLst/>
              <a:gdLst/>
              <a:ahLst/>
              <a:rect l="0" t="0" r="r" b="b"/>
              <a:pathLst>
                <a:path w="349" h="72">
                  <a:moveTo>
                    <a:pt x="0" y="56"/>
                  </a:moveTo>
                  <a:lnTo>
                    <a:pt x="349" y="72"/>
                  </a:lnTo>
                  <a:lnTo>
                    <a:pt x="349" y="15"/>
                  </a:lnTo>
                  <a:lnTo>
                    <a:pt x="8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37360" y="2413080"/>
              <a:ext cx="111600" cy="25920"/>
            </a:xfrm>
            <a:custGeom>
              <a:avLst/>
              <a:gdLst/>
              <a:ahLst/>
              <a:rect l="0" t="0" r="r" b="b"/>
              <a:pathLst>
                <a:path w="310" h="72">
                  <a:moveTo>
                    <a:pt x="310" y="72"/>
                  </a:moveTo>
                  <a:lnTo>
                    <a:pt x="301" y="72"/>
                  </a:lnTo>
                  <a:lnTo>
                    <a:pt x="262" y="72"/>
                  </a:lnTo>
                  <a:lnTo>
                    <a:pt x="212" y="65"/>
                  </a:lnTo>
                  <a:lnTo>
                    <a:pt x="155" y="65"/>
                  </a:lnTo>
                  <a:lnTo>
                    <a:pt x="98" y="65"/>
                  </a:lnTo>
                  <a:lnTo>
                    <a:pt x="48" y="50"/>
                  </a:lnTo>
                  <a:lnTo>
                    <a:pt x="8" y="50"/>
                  </a:lnTo>
                  <a:lnTo>
                    <a:pt x="0" y="50"/>
                  </a:lnTo>
                  <a:lnTo>
                    <a:pt x="0" y="0"/>
                  </a:lnTo>
                  <a:lnTo>
                    <a:pt x="8" y="0"/>
                  </a:lnTo>
                  <a:lnTo>
                    <a:pt x="48" y="0"/>
                  </a:lnTo>
                  <a:lnTo>
                    <a:pt x="98" y="7"/>
                  </a:lnTo>
                  <a:lnTo>
                    <a:pt x="155" y="7"/>
                  </a:lnTo>
                  <a:lnTo>
                    <a:pt x="212" y="7"/>
                  </a:lnTo>
                  <a:lnTo>
                    <a:pt x="262" y="14"/>
                  </a:lnTo>
                  <a:lnTo>
                    <a:pt x="301" y="14"/>
                  </a:lnTo>
                  <a:lnTo>
                    <a:pt x="310" y="14"/>
                  </a:lnTo>
                  <a:lnTo>
                    <a:pt x="31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228160" y="1606680"/>
              <a:ext cx="141480" cy="25920"/>
            </a:xfrm>
            <a:custGeom>
              <a:avLst/>
              <a:gdLst/>
              <a:ahLst/>
              <a:rect l="0" t="0" r="r" b="b"/>
              <a:pathLst>
                <a:path w="393" h="72">
                  <a:moveTo>
                    <a:pt x="0" y="72"/>
                  </a:moveTo>
                  <a:lnTo>
                    <a:pt x="4" y="8"/>
                  </a:lnTo>
                  <a:lnTo>
                    <a:pt x="393" y="0"/>
                  </a:lnTo>
                  <a:lnTo>
                    <a:pt x="393" y="63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047080" y="1700280"/>
              <a:ext cx="125640" cy="25920"/>
            </a:xfrm>
            <a:custGeom>
              <a:avLst/>
              <a:gdLst/>
              <a:ahLst/>
              <a:rect l="0" t="0" r="r" b="b"/>
              <a:pathLst>
                <a:path w="349" h="72">
                  <a:moveTo>
                    <a:pt x="349" y="0"/>
                  </a:moveTo>
                  <a:lnTo>
                    <a:pt x="349" y="48"/>
                  </a:lnTo>
                  <a:lnTo>
                    <a:pt x="4" y="72"/>
                  </a:lnTo>
                  <a:lnTo>
                    <a:pt x="0" y="7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223120" y="1749600"/>
              <a:ext cx="138600" cy="25920"/>
            </a:xfrm>
            <a:custGeom>
              <a:avLst/>
              <a:gdLst/>
              <a:ahLst/>
              <a:rect l="0" t="0" r="r" b="b"/>
              <a:pathLst>
                <a:path w="385" h="72">
                  <a:moveTo>
                    <a:pt x="0" y="72"/>
                  </a:moveTo>
                  <a:lnTo>
                    <a:pt x="0" y="8"/>
                  </a:lnTo>
                  <a:lnTo>
                    <a:pt x="385" y="0"/>
                  </a:lnTo>
                  <a:lnTo>
                    <a:pt x="385" y="63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47080" y="1822320"/>
              <a:ext cx="120960" cy="25920"/>
            </a:xfrm>
            <a:custGeom>
              <a:avLst/>
              <a:gdLst/>
              <a:ahLst/>
              <a:rect l="0" t="0" r="r" b="b"/>
              <a:pathLst>
                <a:path w="336" h="72">
                  <a:moveTo>
                    <a:pt x="336" y="63"/>
                  </a:moveTo>
                  <a:lnTo>
                    <a:pt x="336" y="0"/>
                  </a:lnTo>
                  <a:lnTo>
                    <a:pt x="0" y="8"/>
                  </a:lnTo>
                  <a:lnTo>
                    <a:pt x="0" y="72"/>
                  </a:lnTo>
                  <a:lnTo>
                    <a:pt x="33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218440" y="1889280"/>
              <a:ext cx="135360" cy="25920"/>
            </a:xfrm>
            <a:custGeom>
              <a:avLst/>
              <a:gdLst/>
              <a:ahLst/>
              <a:rect l="0" t="0" r="r" b="b"/>
              <a:pathLst>
                <a:path w="376" h="72">
                  <a:moveTo>
                    <a:pt x="0" y="72"/>
                  </a:moveTo>
                  <a:lnTo>
                    <a:pt x="0" y="0"/>
                  </a:lnTo>
                  <a:lnTo>
                    <a:pt x="376" y="0"/>
                  </a:lnTo>
                  <a:lnTo>
                    <a:pt x="3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43840" y="1949400"/>
              <a:ext cx="120960" cy="25920"/>
            </a:xfrm>
            <a:custGeom>
              <a:avLst/>
              <a:gdLst/>
              <a:ahLst/>
              <a:rect l="0" t="0" r="r" b="b"/>
              <a:pathLst>
                <a:path w="336" h="72">
                  <a:moveTo>
                    <a:pt x="336" y="63"/>
                  </a:moveTo>
                  <a:lnTo>
                    <a:pt x="336" y="0"/>
                  </a:lnTo>
                  <a:lnTo>
                    <a:pt x="0" y="8"/>
                  </a:lnTo>
                  <a:lnTo>
                    <a:pt x="4" y="72"/>
                  </a:lnTo>
                  <a:lnTo>
                    <a:pt x="33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15976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26" y="72"/>
                  </a:lnTo>
                  <a:lnTo>
                    <a:pt x="7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126280" y="1236600"/>
              <a:ext cx="97200" cy="1337040"/>
            </a:xfrm>
            <a:custGeom>
              <a:avLst/>
              <a:gdLst/>
              <a:ahLst/>
              <a:rect l="0" t="0" r="r" b="b"/>
              <a:pathLst>
                <a:path w="270" h="3714">
                  <a:moveTo>
                    <a:pt x="106" y="3115"/>
                  </a:moveTo>
                  <a:lnTo>
                    <a:pt x="218" y="30"/>
                  </a:lnTo>
                  <a:lnTo>
                    <a:pt x="218" y="22"/>
                  </a:lnTo>
                  <a:lnTo>
                    <a:pt x="222" y="8"/>
                  </a:lnTo>
                  <a:lnTo>
                    <a:pt x="235" y="4"/>
                  </a:lnTo>
                  <a:lnTo>
                    <a:pt x="244" y="0"/>
                  </a:lnTo>
                  <a:lnTo>
                    <a:pt x="257" y="0"/>
                  </a:lnTo>
                  <a:lnTo>
                    <a:pt x="266" y="4"/>
                  </a:lnTo>
                  <a:lnTo>
                    <a:pt x="270" y="17"/>
                  </a:lnTo>
                  <a:lnTo>
                    <a:pt x="270" y="26"/>
                  </a:lnTo>
                  <a:lnTo>
                    <a:pt x="159" y="3115"/>
                  </a:lnTo>
                  <a:lnTo>
                    <a:pt x="146" y="3485"/>
                  </a:lnTo>
                  <a:lnTo>
                    <a:pt x="181" y="3498"/>
                  </a:lnTo>
                  <a:lnTo>
                    <a:pt x="204" y="3520"/>
                  </a:lnTo>
                  <a:lnTo>
                    <a:pt x="218" y="3551"/>
                  </a:lnTo>
                  <a:lnTo>
                    <a:pt x="222" y="3595"/>
                  </a:lnTo>
                  <a:lnTo>
                    <a:pt x="213" y="3640"/>
                  </a:lnTo>
                  <a:lnTo>
                    <a:pt x="190" y="3675"/>
                  </a:lnTo>
                  <a:lnTo>
                    <a:pt x="159" y="3701"/>
                  </a:lnTo>
                  <a:lnTo>
                    <a:pt x="115" y="3714"/>
                  </a:lnTo>
                  <a:lnTo>
                    <a:pt x="75" y="3701"/>
                  </a:lnTo>
                  <a:lnTo>
                    <a:pt x="35" y="3675"/>
                  </a:lnTo>
                  <a:lnTo>
                    <a:pt x="8" y="3640"/>
                  </a:lnTo>
                  <a:lnTo>
                    <a:pt x="0" y="3595"/>
                  </a:lnTo>
                  <a:lnTo>
                    <a:pt x="4" y="3551"/>
                  </a:lnTo>
                  <a:lnTo>
                    <a:pt x="26" y="3520"/>
                  </a:lnTo>
                  <a:lnTo>
                    <a:pt x="57" y="3494"/>
                  </a:lnTo>
                  <a:lnTo>
                    <a:pt x="93" y="3476"/>
                  </a:lnTo>
                  <a:lnTo>
                    <a:pt x="106" y="3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126280" y="2357280"/>
              <a:ext cx="79560" cy="216360"/>
            </a:xfrm>
            <a:custGeom>
              <a:avLst/>
              <a:gdLst/>
              <a:ahLst/>
              <a:rect l="0" t="0" r="r" b="b"/>
              <a:pathLst>
                <a:path w="221" h="601">
                  <a:moveTo>
                    <a:pt x="159" y="0"/>
                  </a:moveTo>
                  <a:lnTo>
                    <a:pt x="146" y="371"/>
                  </a:lnTo>
                  <a:lnTo>
                    <a:pt x="181" y="384"/>
                  </a:lnTo>
                  <a:lnTo>
                    <a:pt x="203" y="406"/>
                  </a:lnTo>
                  <a:lnTo>
                    <a:pt x="217" y="437"/>
                  </a:lnTo>
                  <a:lnTo>
                    <a:pt x="221" y="482"/>
                  </a:lnTo>
                  <a:lnTo>
                    <a:pt x="212" y="526"/>
                  </a:lnTo>
                  <a:lnTo>
                    <a:pt x="190" y="562"/>
                  </a:lnTo>
                  <a:lnTo>
                    <a:pt x="159" y="588"/>
                  </a:lnTo>
                  <a:lnTo>
                    <a:pt x="115" y="601"/>
                  </a:lnTo>
                  <a:lnTo>
                    <a:pt x="74" y="588"/>
                  </a:lnTo>
                  <a:lnTo>
                    <a:pt x="35" y="562"/>
                  </a:lnTo>
                  <a:lnTo>
                    <a:pt x="8" y="526"/>
                  </a:lnTo>
                  <a:lnTo>
                    <a:pt x="0" y="482"/>
                  </a:lnTo>
                  <a:lnTo>
                    <a:pt x="4" y="437"/>
                  </a:lnTo>
                  <a:lnTo>
                    <a:pt x="26" y="406"/>
                  </a:lnTo>
                  <a:lnTo>
                    <a:pt x="57" y="380"/>
                  </a:lnTo>
                  <a:lnTo>
                    <a:pt x="92" y="362"/>
                  </a:lnTo>
                  <a:lnTo>
                    <a:pt x="105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8058240" y="538200"/>
            <a:ext cx="484560" cy="178200"/>
          </a:xfrm>
          <a:custGeom>
            <a:avLst/>
            <a:gdLst/>
            <a:ahLst/>
            <a:rect l="0" t="0" r="r" b="b"/>
            <a:pathLst>
              <a:path w="1346" h="495">
                <a:moveTo>
                  <a:pt x="1346" y="429"/>
                </a:moveTo>
                <a:lnTo>
                  <a:pt x="1329" y="390"/>
                </a:lnTo>
                <a:lnTo>
                  <a:pt x="1302" y="331"/>
                </a:lnTo>
                <a:lnTo>
                  <a:pt x="1254" y="256"/>
                </a:lnTo>
                <a:lnTo>
                  <a:pt x="1188" y="181"/>
                </a:lnTo>
                <a:lnTo>
                  <a:pt x="1091" y="110"/>
                </a:lnTo>
                <a:lnTo>
                  <a:pt x="962" y="48"/>
                </a:lnTo>
                <a:lnTo>
                  <a:pt x="807" y="8"/>
                </a:lnTo>
                <a:lnTo>
                  <a:pt x="609" y="0"/>
                </a:lnTo>
                <a:lnTo>
                  <a:pt x="455" y="17"/>
                </a:lnTo>
                <a:lnTo>
                  <a:pt x="326" y="61"/>
                </a:lnTo>
                <a:lnTo>
                  <a:pt x="224" y="123"/>
                </a:lnTo>
                <a:lnTo>
                  <a:pt x="145" y="190"/>
                </a:lnTo>
                <a:lnTo>
                  <a:pt x="79" y="261"/>
                </a:lnTo>
                <a:lnTo>
                  <a:pt x="44" y="327"/>
                </a:lnTo>
                <a:lnTo>
                  <a:pt x="17" y="381"/>
                </a:lnTo>
                <a:lnTo>
                  <a:pt x="0" y="407"/>
                </a:lnTo>
                <a:lnTo>
                  <a:pt x="26" y="412"/>
                </a:lnTo>
                <a:lnTo>
                  <a:pt x="52" y="416"/>
                </a:lnTo>
                <a:lnTo>
                  <a:pt x="74" y="434"/>
                </a:lnTo>
                <a:lnTo>
                  <a:pt x="97" y="451"/>
                </a:lnTo>
                <a:lnTo>
                  <a:pt x="105" y="460"/>
                </a:lnTo>
                <a:lnTo>
                  <a:pt x="119" y="469"/>
                </a:lnTo>
                <a:lnTo>
                  <a:pt x="123" y="482"/>
                </a:lnTo>
                <a:lnTo>
                  <a:pt x="127" y="491"/>
                </a:lnTo>
                <a:lnTo>
                  <a:pt x="145" y="451"/>
                </a:lnTo>
                <a:lnTo>
                  <a:pt x="171" y="403"/>
                </a:lnTo>
                <a:lnTo>
                  <a:pt x="207" y="353"/>
                </a:lnTo>
                <a:lnTo>
                  <a:pt x="264" y="305"/>
                </a:lnTo>
                <a:lnTo>
                  <a:pt x="326" y="256"/>
                </a:lnTo>
                <a:lnTo>
                  <a:pt x="402" y="217"/>
                </a:lnTo>
                <a:lnTo>
                  <a:pt x="499" y="190"/>
                </a:lnTo>
                <a:lnTo>
                  <a:pt x="609" y="181"/>
                </a:lnTo>
                <a:lnTo>
                  <a:pt x="755" y="190"/>
                </a:lnTo>
                <a:lnTo>
                  <a:pt x="865" y="217"/>
                </a:lnTo>
                <a:lnTo>
                  <a:pt x="949" y="265"/>
                </a:lnTo>
                <a:lnTo>
                  <a:pt x="1020" y="314"/>
                </a:lnTo>
                <a:lnTo>
                  <a:pt x="1069" y="376"/>
                </a:lnTo>
                <a:lnTo>
                  <a:pt x="1104" y="420"/>
                </a:lnTo>
                <a:lnTo>
                  <a:pt x="1126" y="469"/>
                </a:lnTo>
                <a:lnTo>
                  <a:pt x="1148" y="495"/>
                </a:lnTo>
                <a:lnTo>
                  <a:pt x="1161" y="487"/>
                </a:lnTo>
                <a:lnTo>
                  <a:pt x="1170" y="469"/>
                </a:lnTo>
                <a:lnTo>
                  <a:pt x="1179" y="460"/>
                </a:lnTo>
                <a:lnTo>
                  <a:pt x="1197" y="451"/>
                </a:lnTo>
                <a:lnTo>
                  <a:pt x="1219" y="438"/>
                </a:lnTo>
                <a:lnTo>
                  <a:pt x="1241" y="429"/>
                </a:lnTo>
                <a:lnTo>
                  <a:pt x="1263" y="420"/>
                </a:lnTo>
                <a:lnTo>
                  <a:pt x="1289" y="420"/>
                </a:lnTo>
                <a:lnTo>
                  <a:pt x="1302" y="420"/>
                </a:lnTo>
                <a:lnTo>
                  <a:pt x="1320" y="420"/>
                </a:lnTo>
                <a:lnTo>
                  <a:pt x="1333" y="429"/>
                </a:lnTo>
                <a:lnTo>
                  <a:pt x="1346" y="4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8377200" y="689040"/>
            <a:ext cx="332280" cy="451080"/>
          </a:xfrm>
          <a:custGeom>
            <a:avLst/>
            <a:gdLst/>
            <a:ahLst/>
            <a:rect l="0" t="0" r="r" b="b"/>
            <a:pathLst>
              <a:path w="923" h="1253">
                <a:moveTo>
                  <a:pt x="309" y="30"/>
                </a:moveTo>
                <a:lnTo>
                  <a:pt x="331" y="17"/>
                </a:lnTo>
                <a:lnTo>
                  <a:pt x="353" y="8"/>
                </a:lnTo>
                <a:lnTo>
                  <a:pt x="375" y="0"/>
                </a:lnTo>
                <a:lnTo>
                  <a:pt x="402" y="0"/>
                </a:lnTo>
                <a:lnTo>
                  <a:pt x="415" y="0"/>
                </a:lnTo>
                <a:lnTo>
                  <a:pt x="433" y="0"/>
                </a:lnTo>
                <a:lnTo>
                  <a:pt x="446" y="8"/>
                </a:lnTo>
                <a:lnTo>
                  <a:pt x="459" y="8"/>
                </a:lnTo>
                <a:lnTo>
                  <a:pt x="490" y="13"/>
                </a:lnTo>
                <a:lnTo>
                  <a:pt x="521" y="22"/>
                </a:lnTo>
                <a:lnTo>
                  <a:pt x="543" y="35"/>
                </a:lnTo>
                <a:lnTo>
                  <a:pt x="561" y="44"/>
                </a:lnTo>
                <a:lnTo>
                  <a:pt x="574" y="57"/>
                </a:lnTo>
                <a:lnTo>
                  <a:pt x="591" y="66"/>
                </a:lnTo>
                <a:lnTo>
                  <a:pt x="600" y="70"/>
                </a:lnTo>
                <a:lnTo>
                  <a:pt x="618" y="74"/>
                </a:lnTo>
                <a:lnTo>
                  <a:pt x="649" y="88"/>
                </a:lnTo>
                <a:lnTo>
                  <a:pt x="688" y="97"/>
                </a:lnTo>
                <a:lnTo>
                  <a:pt x="725" y="119"/>
                </a:lnTo>
                <a:lnTo>
                  <a:pt x="769" y="141"/>
                </a:lnTo>
                <a:lnTo>
                  <a:pt x="804" y="171"/>
                </a:lnTo>
                <a:lnTo>
                  <a:pt x="839" y="207"/>
                </a:lnTo>
                <a:lnTo>
                  <a:pt x="866" y="242"/>
                </a:lnTo>
                <a:lnTo>
                  <a:pt x="888" y="286"/>
                </a:lnTo>
                <a:lnTo>
                  <a:pt x="870" y="282"/>
                </a:lnTo>
                <a:lnTo>
                  <a:pt x="853" y="273"/>
                </a:lnTo>
                <a:lnTo>
                  <a:pt x="831" y="264"/>
                </a:lnTo>
                <a:lnTo>
                  <a:pt x="817" y="260"/>
                </a:lnTo>
                <a:lnTo>
                  <a:pt x="857" y="313"/>
                </a:lnTo>
                <a:lnTo>
                  <a:pt x="879" y="383"/>
                </a:lnTo>
                <a:lnTo>
                  <a:pt x="897" y="445"/>
                </a:lnTo>
                <a:lnTo>
                  <a:pt x="923" y="511"/>
                </a:lnTo>
                <a:lnTo>
                  <a:pt x="892" y="511"/>
                </a:lnTo>
                <a:lnTo>
                  <a:pt x="866" y="502"/>
                </a:lnTo>
                <a:lnTo>
                  <a:pt x="831" y="489"/>
                </a:lnTo>
                <a:lnTo>
                  <a:pt x="813" y="476"/>
                </a:lnTo>
                <a:lnTo>
                  <a:pt x="844" y="533"/>
                </a:lnTo>
                <a:lnTo>
                  <a:pt x="879" y="621"/>
                </a:lnTo>
                <a:lnTo>
                  <a:pt x="905" y="719"/>
                </a:lnTo>
                <a:lnTo>
                  <a:pt x="914" y="794"/>
                </a:lnTo>
                <a:lnTo>
                  <a:pt x="897" y="852"/>
                </a:lnTo>
                <a:lnTo>
                  <a:pt x="870" y="913"/>
                </a:lnTo>
                <a:lnTo>
                  <a:pt x="844" y="971"/>
                </a:lnTo>
                <a:lnTo>
                  <a:pt x="822" y="1006"/>
                </a:lnTo>
                <a:lnTo>
                  <a:pt x="804" y="1046"/>
                </a:lnTo>
                <a:lnTo>
                  <a:pt x="769" y="1099"/>
                </a:lnTo>
                <a:lnTo>
                  <a:pt x="725" y="1156"/>
                </a:lnTo>
                <a:lnTo>
                  <a:pt x="666" y="1200"/>
                </a:lnTo>
                <a:lnTo>
                  <a:pt x="666" y="1173"/>
                </a:lnTo>
                <a:lnTo>
                  <a:pt x="666" y="1151"/>
                </a:lnTo>
                <a:lnTo>
                  <a:pt x="662" y="1138"/>
                </a:lnTo>
                <a:lnTo>
                  <a:pt x="662" y="1116"/>
                </a:lnTo>
                <a:lnTo>
                  <a:pt x="640" y="1143"/>
                </a:lnTo>
                <a:lnTo>
                  <a:pt x="618" y="1173"/>
                </a:lnTo>
                <a:lnTo>
                  <a:pt x="574" y="1213"/>
                </a:lnTo>
                <a:lnTo>
                  <a:pt x="512" y="1244"/>
                </a:lnTo>
                <a:lnTo>
                  <a:pt x="516" y="1218"/>
                </a:lnTo>
                <a:lnTo>
                  <a:pt x="521" y="1200"/>
                </a:lnTo>
                <a:lnTo>
                  <a:pt x="521" y="1196"/>
                </a:lnTo>
                <a:lnTo>
                  <a:pt x="521" y="1191"/>
                </a:lnTo>
                <a:lnTo>
                  <a:pt x="472" y="1222"/>
                </a:lnTo>
                <a:lnTo>
                  <a:pt x="455" y="1244"/>
                </a:lnTo>
                <a:lnTo>
                  <a:pt x="433" y="1253"/>
                </a:lnTo>
                <a:lnTo>
                  <a:pt x="402" y="1253"/>
                </a:lnTo>
                <a:lnTo>
                  <a:pt x="393" y="1222"/>
                </a:lnTo>
                <a:lnTo>
                  <a:pt x="384" y="1196"/>
                </a:lnTo>
                <a:lnTo>
                  <a:pt x="362" y="1173"/>
                </a:lnTo>
                <a:lnTo>
                  <a:pt x="327" y="1165"/>
                </a:lnTo>
                <a:lnTo>
                  <a:pt x="283" y="1143"/>
                </a:lnTo>
                <a:lnTo>
                  <a:pt x="256" y="1112"/>
                </a:lnTo>
                <a:lnTo>
                  <a:pt x="224" y="1072"/>
                </a:lnTo>
                <a:lnTo>
                  <a:pt x="180" y="1046"/>
                </a:lnTo>
                <a:lnTo>
                  <a:pt x="145" y="1024"/>
                </a:lnTo>
                <a:lnTo>
                  <a:pt x="110" y="988"/>
                </a:lnTo>
                <a:lnTo>
                  <a:pt x="88" y="944"/>
                </a:lnTo>
                <a:lnTo>
                  <a:pt x="83" y="896"/>
                </a:lnTo>
                <a:lnTo>
                  <a:pt x="83" y="847"/>
                </a:lnTo>
                <a:lnTo>
                  <a:pt x="74" y="799"/>
                </a:lnTo>
                <a:lnTo>
                  <a:pt x="61" y="750"/>
                </a:lnTo>
                <a:lnTo>
                  <a:pt x="79" y="693"/>
                </a:lnTo>
                <a:lnTo>
                  <a:pt x="52" y="715"/>
                </a:lnTo>
                <a:lnTo>
                  <a:pt x="30" y="724"/>
                </a:lnTo>
                <a:lnTo>
                  <a:pt x="17" y="741"/>
                </a:lnTo>
                <a:lnTo>
                  <a:pt x="4" y="746"/>
                </a:lnTo>
                <a:lnTo>
                  <a:pt x="0" y="684"/>
                </a:lnTo>
                <a:lnTo>
                  <a:pt x="4" y="599"/>
                </a:lnTo>
                <a:lnTo>
                  <a:pt x="26" y="520"/>
                </a:lnTo>
                <a:lnTo>
                  <a:pt x="52" y="458"/>
                </a:lnTo>
                <a:lnTo>
                  <a:pt x="74" y="401"/>
                </a:lnTo>
                <a:lnTo>
                  <a:pt x="83" y="339"/>
                </a:lnTo>
                <a:lnTo>
                  <a:pt x="97" y="282"/>
                </a:lnTo>
                <a:lnTo>
                  <a:pt x="127" y="238"/>
                </a:lnTo>
                <a:lnTo>
                  <a:pt x="171" y="198"/>
                </a:lnTo>
                <a:lnTo>
                  <a:pt x="207" y="158"/>
                </a:lnTo>
                <a:lnTo>
                  <a:pt x="239" y="114"/>
                </a:lnTo>
                <a:lnTo>
                  <a:pt x="261" y="74"/>
                </a:lnTo>
                <a:lnTo>
                  <a:pt x="274" y="66"/>
                </a:lnTo>
                <a:lnTo>
                  <a:pt x="283" y="48"/>
                </a:lnTo>
                <a:lnTo>
                  <a:pt x="292" y="39"/>
                </a:lnTo>
                <a:lnTo>
                  <a:pt x="30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8393040" y="711360"/>
            <a:ext cx="297360" cy="411480"/>
          </a:xfrm>
          <a:custGeom>
            <a:avLst/>
            <a:gdLst/>
            <a:ahLst/>
            <a:rect l="0" t="0" r="r" b="b"/>
            <a:pathLst>
              <a:path w="826" h="1143">
                <a:moveTo>
                  <a:pt x="367" y="0"/>
                </a:moveTo>
                <a:lnTo>
                  <a:pt x="411" y="0"/>
                </a:lnTo>
                <a:lnTo>
                  <a:pt x="446" y="4"/>
                </a:lnTo>
                <a:lnTo>
                  <a:pt x="472" y="13"/>
                </a:lnTo>
                <a:lnTo>
                  <a:pt x="499" y="26"/>
                </a:lnTo>
                <a:lnTo>
                  <a:pt x="516" y="35"/>
                </a:lnTo>
                <a:lnTo>
                  <a:pt x="530" y="48"/>
                </a:lnTo>
                <a:lnTo>
                  <a:pt x="547" y="57"/>
                </a:lnTo>
                <a:lnTo>
                  <a:pt x="565" y="61"/>
                </a:lnTo>
                <a:lnTo>
                  <a:pt x="591" y="70"/>
                </a:lnTo>
                <a:lnTo>
                  <a:pt x="618" y="79"/>
                </a:lnTo>
                <a:lnTo>
                  <a:pt x="645" y="88"/>
                </a:lnTo>
                <a:lnTo>
                  <a:pt x="672" y="105"/>
                </a:lnTo>
                <a:lnTo>
                  <a:pt x="694" y="123"/>
                </a:lnTo>
                <a:lnTo>
                  <a:pt x="716" y="132"/>
                </a:lnTo>
                <a:lnTo>
                  <a:pt x="734" y="154"/>
                </a:lnTo>
                <a:lnTo>
                  <a:pt x="747" y="171"/>
                </a:lnTo>
                <a:lnTo>
                  <a:pt x="729" y="171"/>
                </a:lnTo>
                <a:lnTo>
                  <a:pt x="720" y="171"/>
                </a:lnTo>
                <a:lnTo>
                  <a:pt x="703" y="171"/>
                </a:lnTo>
                <a:lnTo>
                  <a:pt x="694" y="171"/>
                </a:lnTo>
                <a:lnTo>
                  <a:pt x="747" y="220"/>
                </a:lnTo>
                <a:lnTo>
                  <a:pt x="773" y="277"/>
                </a:lnTo>
                <a:lnTo>
                  <a:pt x="786" y="335"/>
                </a:lnTo>
                <a:lnTo>
                  <a:pt x="822" y="388"/>
                </a:lnTo>
                <a:lnTo>
                  <a:pt x="795" y="383"/>
                </a:lnTo>
                <a:lnTo>
                  <a:pt x="760" y="366"/>
                </a:lnTo>
                <a:lnTo>
                  <a:pt x="729" y="357"/>
                </a:lnTo>
                <a:lnTo>
                  <a:pt x="698" y="352"/>
                </a:lnTo>
                <a:lnTo>
                  <a:pt x="734" y="427"/>
                </a:lnTo>
                <a:lnTo>
                  <a:pt x="778" y="546"/>
                </a:lnTo>
                <a:lnTo>
                  <a:pt x="813" y="662"/>
                </a:lnTo>
                <a:lnTo>
                  <a:pt x="826" y="737"/>
                </a:lnTo>
                <a:lnTo>
                  <a:pt x="808" y="785"/>
                </a:lnTo>
                <a:lnTo>
                  <a:pt x="782" y="838"/>
                </a:lnTo>
                <a:lnTo>
                  <a:pt x="756" y="887"/>
                </a:lnTo>
                <a:lnTo>
                  <a:pt x="742" y="918"/>
                </a:lnTo>
                <a:lnTo>
                  <a:pt x="729" y="944"/>
                </a:lnTo>
                <a:lnTo>
                  <a:pt x="720" y="984"/>
                </a:lnTo>
                <a:lnTo>
                  <a:pt x="694" y="1019"/>
                </a:lnTo>
                <a:lnTo>
                  <a:pt x="659" y="1054"/>
                </a:lnTo>
                <a:lnTo>
                  <a:pt x="654" y="1032"/>
                </a:lnTo>
                <a:lnTo>
                  <a:pt x="650" y="1010"/>
                </a:lnTo>
                <a:lnTo>
                  <a:pt x="645" y="993"/>
                </a:lnTo>
                <a:lnTo>
                  <a:pt x="632" y="979"/>
                </a:lnTo>
                <a:lnTo>
                  <a:pt x="613" y="1006"/>
                </a:lnTo>
                <a:lnTo>
                  <a:pt x="591" y="1041"/>
                </a:lnTo>
                <a:lnTo>
                  <a:pt x="552" y="1085"/>
                </a:lnTo>
                <a:lnTo>
                  <a:pt x="512" y="1125"/>
                </a:lnTo>
                <a:lnTo>
                  <a:pt x="512" y="1094"/>
                </a:lnTo>
                <a:lnTo>
                  <a:pt x="503" y="1076"/>
                </a:lnTo>
                <a:lnTo>
                  <a:pt x="499" y="1063"/>
                </a:lnTo>
                <a:lnTo>
                  <a:pt x="499" y="1059"/>
                </a:lnTo>
                <a:lnTo>
                  <a:pt x="468" y="1090"/>
                </a:lnTo>
                <a:lnTo>
                  <a:pt x="437" y="1112"/>
                </a:lnTo>
                <a:lnTo>
                  <a:pt x="411" y="1134"/>
                </a:lnTo>
                <a:lnTo>
                  <a:pt x="384" y="1143"/>
                </a:lnTo>
                <a:lnTo>
                  <a:pt x="375" y="1112"/>
                </a:lnTo>
                <a:lnTo>
                  <a:pt x="362" y="1090"/>
                </a:lnTo>
                <a:lnTo>
                  <a:pt x="344" y="1068"/>
                </a:lnTo>
                <a:lnTo>
                  <a:pt x="309" y="1059"/>
                </a:lnTo>
                <a:lnTo>
                  <a:pt x="269" y="1041"/>
                </a:lnTo>
                <a:lnTo>
                  <a:pt x="243" y="1015"/>
                </a:lnTo>
                <a:lnTo>
                  <a:pt x="217" y="984"/>
                </a:lnTo>
                <a:lnTo>
                  <a:pt x="180" y="957"/>
                </a:lnTo>
                <a:lnTo>
                  <a:pt x="141" y="935"/>
                </a:lnTo>
                <a:lnTo>
                  <a:pt x="114" y="909"/>
                </a:lnTo>
                <a:lnTo>
                  <a:pt x="92" y="874"/>
                </a:lnTo>
                <a:lnTo>
                  <a:pt x="92" y="830"/>
                </a:lnTo>
                <a:lnTo>
                  <a:pt x="92" y="768"/>
                </a:lnTo>
                <a:lnTo>
                  <a:pt x="83" y="693"/>
                </a:lnTo>
                <a:lnTo>
                  <a:pt x="79" y="622"/>
                </a:lnTo>
                <a:lnTo>
                  <a:pt x="83" y="555"/>
                </a:lnTo>
                <a:lnTo>
                  <a:pt x="57" y="574"/>
                </a:lnTo>
                <a:lnTo>
                  <a:pt x="35" y="583"/>
                </a:lnTo>
                <a:lnTo>
                  <a:pt x="13" y="591"/>
                </a:lnTo>
                <a:lnTo>
                  <a:pt x="0" y="605"/>
                </a:lnTo>
                <a:lnTo>
                  <a:pt x="4" y="560"/>
                </a:lnTo>
                <a:lnTo>
                  <a:pt x="17" y="511"/>
                </a:lnTo>
                <a:lnTo>
                  <a:pt x="39" y="463"/>
                </a:lnTo>
                <a:lnTo>
                  <a:pt x="66" y="414"/>
                </a:lnTo>
                <a:lnTo>
                  <a:pt x="88" y="361"/>
                </a:lnTo>
                <a:lnTo>
                  <a:pt x="92" y="299"/>
                </a:lnTo>
                <a:lnTo>
                  <a:pt x="101" y="238"/>
                </a:lnTo>
                <a:lnTo>
                  <a:pt x="127" y="202"/>
                </a:lnTo>
                <a:lnTo>
                  <a:pt x="163" y="171"/>
                </a:lnTo>
                <a:lnTo>
                  <a:pt x="194" y="132"/>
                </a:lnTo>
                <a:lnTo>
                  <a:pt x="221" y="97"/>
                </a:lnTo>
                <a:lnTo>
                  <a:pt x="243" y="61"/>
                </a:lnTo>
                <a:lnTo>
                  <a:pt x="265" y="44"/>
                </a:lnTo>
                <a:lnTo>
                  <a:pt x="292" y="22"/>
                </a:lnTo>
                <a:lnTo>
                  <a:pt x="322" y="4"/>
                </a:lnTo>
                <a:lnTo>
                  <a:pt x="367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8050320" y="757080"/>
            <a:ext cx="346320" cy="444960"/>
            <a:chOff x="8050320" y="757080"/>
            <a:chExt cx="346320" cy="444960"/>
          </a:xfrm>
        </p:grpSpPr>
        <p:sp>
          <p:nvSpPr>
            <p:cNvPr id="678" name=""/>
            <p:cNvSpPr/>
            <p:nvPr/>
          </p:nvSpPr>
          <p:spPr>
            <a:xfrm>
              <a:off x="8113680" y="820800"/>
              <a:ext cx="225720" cy="154440"/>
            </a:xfrm>
            <a:custGeom>
              <a:avLst/>
              <a:gdLst/>
              <a:ahLst/>
              <a:rect l="0" t="0" r="r" b="b"/>
              <a:pathLst>
                <a:path w="627" h="429">
                  <a:moveTo>
                    <a:pt x="238" y="398"/>
                  </a:moveTo>
                  <a:lnTo>
                    <a:pt x="255" y="376"/>
                  </a:lnTo>
                  <a:lnTo>
                    <a:pt x="277" y="345"/>
                  </a:lnTo>
                  <a:lnTo>
                    <a:pt x="295" y="309"/>
                  </a:lnTo>
                  <a:lnTo>
                    <a:pt x="304" y="274"/>
                  </a:lnTo>
                  <a:lnTo>
                    <a:pt x="327" y="337"/>
                  </a:lnTo>
                  <a:lnTo>
                    <a:pt x="367" y="385"/>
                  </a:lnTo>
                  <a:lnTo>
                    <a:pt x="411" y="420"/>
                  </a:lnTo>
                  <a:lnTo>
                    <a:pt x="459" y="429"/>
                  </a:lnTo>
                  <a:lnTo>
                    <a:pt x="494" y="425"/>
                  </a:lnTo>
                  <a:lnTo>
                    <a:pt x="525" y="412"/>
                  </a:lnTo>
                  <a:lnTo>
                    <a:pt x="552" y="390"/>
                  </a:lnTo>
                  <a:lnTo>
                    <a:pt x="578" y="363"/>
                  </a:lnTo>
                  <a:lnTo>
                    <a:pt x="600" y="332"/>
                  </a:lnTo>
                  <a:lnTo>
                    <a:pt x="613" y="300"/>
                  </a:lnTo>
                  <a:lnTo>
                    <a:pt x="622" y="256"/>
                  </a:lnTo>
                  <a:lnTo>
                    <a:pt x="627" y="212"/>
                  </a:lnTo>
                  <a:lnTo>
                    <a:pt x="622" y="172"/>
                  </a:lnTo>
                  <a:lnTo>
                    <a:pt x="613" y="128"/>
                  </a:lnTo>
                  <a:lnTo>
                    <a:pt x="600" y="97"/>
                  </a:lnTo>
                  <a:lnTo>
                    <a:pt x="578" y="61"/>
                  </a:lnTo>
                  <a:lnTo>
                    <a:pt x="552" y="35"/>
                  </a:lnTo>
                  <a:lnTo>
                    <a:pt x="525" y="17"/>
                  </a:lnTo>
                  <a:lnTo>
                    <a:pt x="494" y="4"/>
                  </a:lnTo>
                  <a:lnTo>
                    <a:pt x="459" y="0"/>
                  </a:lnTo>
                  <a:lnTo>
                    <a:pt x="433" y="4"/>
                  </a:lnTo>
                  <a:lnTo>
                    <a:pt x="406" y="8"/>
                  </a:lnTo>
                  <a:lnTo>
                    <a:pt x="380" y="26"/>
                  </a:lnTo>
                  <a:lnTo>
                    <a:pt x="358" y="48"/>
                  </a:lnTo>
                  <a:lnTo>
                    <a:pt x="336" y="70"/>
                  </a:lnTo>
                  <a:lnTo>
                    <a:pt x="322" y="101"/>
                  </a:lnTo>
                  <a:lnTo>
                    <a:pt x="308" y="128"/>
                  </a:lnTo>
                  <a:lnTo>
                    <a:pt x="299" y="168"/>
                  </a:lnTo>
                  <a:lnTo>
                    <a:pt x="277" y="111"/>
                  </a:lnTo>
                  <a:lnTo>
                    <a:pt x="246" y="70"/>
                  </a:lnTo>
                  <a:lnTo>
                    <a:pt x="202" y="44"/>
                  </a:lnTo>
                  <a:lnTo>
                    <a:pt x="154" y="30"/>
                  </a:lnTo>
                  <a:lnTo>
                    <a:pt x="97" y="48"/>
                  </a:lnTo>
                  <a:lnTo>
                    <a:pt x="48" y="92"/>
                  </a:lnTo>
                  <a:lnTo>
                    <a:pt x="13" y="150"/>
                  </a:lnTo>
                  <a:lnTo>
                    <a:pt x="0" y="230"/>
                  </a:lnTo>
                  <a:lnTo>
                    <a:pt x="13" y="305"/>
                  </a:lnTo>
                  <a:lnTo>
                    <a:pt x="48" y="363"/>
                  </a:lnTo>
                  <a:lnTo>
                    <a:pt x="97" y="407"/>
                  </a:lnTo>
                  <a:lnTo>
                    <a:pt x="154" y="425"/>
                  </a:lnTo>
                  <a:lnTo>
                    <a:pt x="176" y="425"/>
                  </a:lnTo>
                  <a:lnTo>
                    <a:pt x="198" y="420"/>
                  </a:lnTo>
                  <a:lnTo>
                    <a:pt x="216" y="407"/>
                  </a:lnTo>
                  <a:lnTo>
                    <a:pt x="238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156520" y="963720"/>
              <a:ext cx="54360" cy="74880"/>
            </a:xfrm>
            <a:custGeom>
              <a:avLst/>
              <a:gdLst/>
              <a:ahLst/>
              <a:rect l="0" t="0" r="r" b="b"/>
              <a:pathLst>
                <a:path w="151" h="208">
                  <a:moveTo>
                    <a:pt x="121" y="0"/>
                  </a:moveTo>
                  <a:lnTo>
                    <a:pt x="58" y="52"/>
                  </a:lnTo>
                  <a:lnTo>
                    <a:pt x="49" y="111"/>
                  </a:lnTo>
                  <a:lnTo>
                    <a:pt x="75" y="172"/>
                  </a:lnTo>
                  <a:lnTo>
                    <a:pt x="151" y="208"/>
                  </a:lnTo>
                  <a:lnTo>
                    <a:pt x="106" y="208"/>
                  </a:lnTo>
                  <a:lnTo>
                    <a:pt x="71" y="190"/>
                  </a:lnTo>
                  <a:lnTo>
                    <a:pt x="45" y="177"/>
                  </a:lnTo>
                  <a:lnTo>
                    <a:pt x="17" y="150"/>
                  </a:lnTo>
                  <a:lnTo>
                    <a:pt x="4" y="115"/>
                  </a:lnTo>
                  <a:lnTo>
                    <a:pt x="0" y="83"/>
                  </a:lnTo>
                  <a:lnTo>
                    <a:pt x="8" y="57"/>
                  </a:lnTo>
                  <a:lnTo>
                    <a:pt x="35" y="26"/>
                  </a:lnTo>
                  <a:lnTo>
                    <a:pt x="58" y="26"/>
                  </a:lnTo>
                  <a:lnTo>
                    <a:pt x="80" y="22"/>
                  </a:lnTo>
                  <a:lnTo>
                    <a:pt x="98" y="8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231040" y="995400"/>
              <a:ext cx="43200" cy="41760"/>
            </a:xfrm>
            <a:custGeom>
              <a:avLst/>
              <a:gdLst/>
              <a:ahLst/>
              <a:rect l="0" t="0" r="r" b="b"/>
              <a:pathLst>
                <a:path w="120" h="116">
                  <a:moveTo>
                    <a:pt x="0" y="116"/>
                  </a:moveTo>
                  <a:lnTo>
                    <a:pt x="67" y="112"/>
                  </a:lnTo>
                  <a:lnTo>
                    <a:pt x="106" y="84"/>
                  </a:lnTo>
                  <a:lnTo>
                    <a:pt x="120" y="45"/>
                  </a:lnTo>
                  <a:lnTo>
                    <a:pt x="102" y="0"/>
                  </a:lnTo>
                  <a:lnTo>
                    <a:pt x="98" y="36"/>
                  </a:lnTo>
                  <a:lnTo>
                    <a:pt x="84" y="62"/>
                  </a:lnTo>
                  <a:lnTo>
                    <a:pt x="52" y="9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163000" y="1050840"/>
              <a:ext cx="151200" cy="106560"/>
            </a:xfrm>
            <a:custGeom>
              <a:avLst/>
              <a:gdLst/>
              <a:ahLst/>
              <a:rect l="0" t="0" r="r" b="b"/>
              <a:pathLst>
                <a:path w="420" h="296">
                  <a:moveTo>
                    <a:pt x="0" y="8"/>
                  </a:moveTo>
                  <a:lnTo>
                    <a:pt x="52" y="0"/>
                  </a:lnTo>
                  <a:lnTo>
                    <a:pt x="106" y="0"/>
                  </a:lnTo>
                  <a:lnTo>
                    <a:pt x="168" y="8"/>
                  </a:lnTo>
                  <a:lnTo>
                    <a:pt x="230" y="17"/>
                  </a:lnTo>
                  <a:lnTo>
                    <a:pt x="287" y="39"/>
                  </a:lnTo>
                  <a:lnTo>
                    <a:pt x="341" y="70"/>
                  </a:lnTo>
                  <a:lnTo>
                    <a:pt x="385" y="119"/>
                  </a:lnTo>
                  <a:lnTo>
                    <a:pt x="420" y="181"/>
                  </a:lnTo>
                  <a:lnTo>
                    <a:pt x="385" y="212"/>
                  </a:lnTo>
                  <a:lnTo>
                    <a:pt x="341" y="243"/>
                  </a:lnTo>
                  <a:lnTo>
                    <a:pt x="296" y="269"/>
                  </a:lnTo>
                  <a:lnTo>
                    <a:pt x="247" y="287"/>
                  </a:lnTo>
                  <a:lnTo>
                    <a:pt x="195" y="296"/>
                  </a:lnTo>
                  <a:lnTo>
                    <a:pt x="137" y="296"/>
                  </a:lnTo>
                  <a:lnTo>
                    <a:pt x="70" y="287"/>
                  </a:lnTo>
                  <a:lnTo>
                    <a:pt x="4" y="265"/>
                  </a:lnTo>
                  <a:lnTo>
                    <a:pt x="44" y="15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92960" y="1041480"/>
              <a:ext cx="35280" cy="49680"/>
            </a:xfrm>
            <a:custGeom>
              <a:avLst/>
              <a:gdLst/>
              <a:ahLst/>
              <a:rect l="0" t="0" r="r" b="b"/>
              <a:pathLst>
                <a:path w="98" h="138">
                  <a:moveTo>
                    <a:pt x="98" y="138"/>
                  </a:moveTo>
                  <a:lnTo>
                    <a:pt x="98" y="67"/>
                  </a:lnTo>
                  <a:lnTo>
                    <a:pt x="75" y="22"/>
                  </a:lnTo>
                  <a:lnTo>
                    <a:pt x="39" y="0"/>
                  </a:lnTo>
                  <a:lnTo>
                    <a:pt x="0" y="8"/>
                  </a:lnTo>
                  <a:lnTo>
                    <a:pt x="30" y="17"/>
                  </a:lnTo>
                  <a:lnTo>
                    <a:pt x="58" y="40"/>
                  </a:lnTo>
                  <a:lnTo>
                    <a:pt x="80" y="75"/>
                  </a:lnTo>
                  <a:lnTo>
                    <a:pt x="98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13840" y="1020600"/>
              <a:ext cx="35280" cy="46440"/>
            </a:xfrm>
            <a:custGeom>
              <a:avLst/>
              <a:gdLst/>
              <a:ahLst/>
              <a:rect l="0" t="0" r="r" b="b"/>
              <a:pathLst>
                <a:path w="98" h="129">
                  <a:moveTo>
                    <a:pt x="98" y="129"/>
                  </a:moveTo>
                  <a:lnTo>
                    <a:pt x="98" y="67"/>
                  </a:lnTo>
                  <a:lnTo>
                    <a:pt x="80" y="17"/>
                  </a:lnTo>
                  <a:lnTo>
                    <a:pt x="44" y="0"/>
                  </a:lnTo>
                  <a:lnTo>
                    <a:pt x="0" y="4"/>
                  </a:lnTo>
                  <a:lnTo>
                    <a:pt x="30" y="17"/>
                  </a:lnTo>
                  <a:lnTo>
                    <a:pt x="58" y="40"/>
                  </a:lnTo>
                  <a:lnTo>
                    <a:pt x="80" y="71"/>
                  </a:lnTo>
                  <a:lnTo>
                    <a:pt x="98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147160" y="1147680"/>
              <a:ext cx="52920" cy="27360"/>
            </a:xfrm>
            <a:custGeom>
              <a:avLst/>
              <a:gdLst/>
              <a:ahLst/>
              <a:rect l="0" t="0" r="r" b="b"/>
              <a:pathLst>
                <a:path w="147" h="76">
                  <a:moveTo>
                    <a:pt x="147" y="59"/>
                  </a:moveTo>
                  <a:lnTo>
                    <a:pt x="112" y="72"/>
                  </a:lnTo>
                  <a:lnTo>
                    <a:pt x="84" y="76"/>
                  </a:lnTo>
                  <a:lnTo>
                    <a:pt x="58" y="76"/>
                  </a:lnTo>
                  <a:lnTo>
                    <a:pt x="30" y="72"/>
                  </a:lnTo>
                  <a:lnTo>
                    <a:pt x="17" y="59"/>
                  </a:lnTo>
                  <a:lnTo>
                    <a:pt x="4" y="4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2" y="27"/>
                  </a:lnTo>
                  <a:lnTo>
                    <a:pt x="45" y="45"/>
                  </a:lnTo>
                  <a:lnTo>
                    <a:pt x="80" y="59"/>
                  </a:lnTo>
                  <a:lnTo>
                    <a:pt x="14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131320" y="1174680"/>
              <a:ext cx="54360" cy="27360"/>
            </a:xfrm>
            <a:custGeom>
              <a:avLst/>
              <a:gdLst/>
              <a:ahLst/>
              <a:rect l="0" t="0" r="r" b="b"/>
              <a:pathLst>
                <a:path w="151" h="76">
                  <a:moveTo>
                    <a:pt x="151" y="59"/>
                  </a:moveTo>
                  <a:lnTo>
                    <a:pt x="121" y="72"/>
                  </a:lnTo>
                  <a:lnTo>
                    <a:pt x="89" y="76"/>
                  </a:lnTo>
                  <a:lnTo>
                    <a:pt x="62" y="76"/>
                  </a:lnTo>
                  <a:lnTo>
                    <a:pt x="40" y="72"/>
                  </a:lnTo>
                  <a:lnTo>
                    <a:pt x="17" y="59"/>
                  </a:lnTo>
                  <a:lnTo>
                    <a:pt x="4" y="4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2" y="27"/>
                  </a:lnTo>
                  <a:lnTo>
                    <a:pt x="49" y="45"/>
                  </a:lnTo>
                  <a:lnTo>
                    <a:pt x="89" y="59"/>
                  </a:lnTo>
                  <a:lnTo>
                    <a:pt x="15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40760" y="757080"/>
              <a:ext cx="155880" cy="100440"/>
            </a:xfrm>
            <a:custGeom>
              <a:avLst/>
              <a:gdLst/>
              <a:ahLst/>
              <a:rect l="0" t="0" r="r" b="b"/>
              <a:pathLst>
                <a:path w="433" h="279">
                  <a:moveTo>
                    <a:pt x="0" y="98"/>
                  </a:moveTo>
                  <a:lnTo>
                    <a:pt x="52" y="98"/>
                  </a:lnTo>
                  <a:lnTo>
                    <a:pt x="97" y="111"/>
                  </a:lnTo>
                  <a:lnTo>
                    <a:pt x="127" y="133"/>
                  </a:lnTo>
                  <a:lnTo>
                    <a:pt x="145" y="168"/>
                  </a:lnTo>
                  <a:lnTo>
                    <a:pt x="154" y="146"/>
                  </a:lnTo>
                  <a:lnTo>
                    <a:pt x="167" y="124"/>
                  </a:lnTo>
                  <a:lnTo>
                    <a:pt x="171" y="106"/>
                  </a:lnTo>
                  <a:lnTo>
                    <a:pt x="171" y="93"/>
                  </a:lnTo>
                  <a:lnTo>
                    <a:pt x="221" y="124"/>
                  </a:lnTo>
                  <a:lnTo>
                    <a:pt x="261" y="168"/>
                  </a:lnTo>
                  <a:lnTo>
                    <a:pt x="300" y="222"/>
                  </a:lnTo>
                  <a:lnTo>
                    <a:pt x="314" y="279"/>
                  </a:lnTo>
                  <a:lnTo>
                    <a:pt x="327" y="240"/>
                  </a:lnTo>
                  <a:lnTo>
                    <a:pt x="340" y="213"/>
                  </a:lnTo>
                  <a:lnTo>
                    <a:pt x="349" y="186"/>
                  </a:lnTo>
                  <a:lnTo>
                    <a:pt x="349" y="159"/>
                  </a:lnTo>
                  <a:lnTo>
                    <a:pt x="371" y="177"/>
                  </a:lnTo>
                  <a:lnTo>
                    <a:pt x="389" y="199"/>
                  </a:lnTo>
                  <a:lnTo>
                    <a:pt x="406" y="222"/>
                  </a:lnTo>
                  <a:lnTo>
                    <a:pt x="428" y="253"/>
                  </a:lnTo>
                  <a:lnTo>
                    <a:pt x="428" y="172"/>
                  </a:lnTo>
                  <a:lnTo>
                    <a:pt x="415" y="124"/>
                  </a:lnTo>
                  <a:lnTo>
                    <a:pt x="397" y="98"/>
                  </a:lnTo>
                  <a:lnTo>
                    <a:pt x="362" y="80"/>
                  </a:lnTo>
                  <a:lnTo>
                    <a:pt x="384" y="75"/>
                  </a:lnTo>
                  <a:lnTo>
                    <a:pt x="402" y="71"/>
                  </a:lnTo>
                  <a:lnTo>
                    <a:pt x="415" y="61"/>
                  </a:lnTo>
                  <a:lnTo>
                    <a:pt x="433" y="61"/>
                  </a:lnTo>
                  <a:lnTo>
                    <a:pt x="424" y="52"/>
                  </a:lnTo>
                  <a:lnTo>
                    <a:pt x="406" y="44"/>
                  </a:lnTo>
                  <a:lnTo>
                    <a:pt x="389" y="30"/>
                  </a:lnTo>
                  <a:lnTo>
                    <a:pt x="362" y="22"/>
                  </a:lnTo>
                  <a:lnTo>
                    <a:pt x="336" y="8"/>
                  </a:lnTo>
                  <a:lnTo>
                    <a:pt x="300" y="4"/>
                  </a:lnTo>
                  <a:lnTo>
                    <a:pt x="261" y="0"/>
                  </a:lnTo>
                  <a:lnTo>
                    <a:pt x="211" y="0"/>
                  </a:lnTo>
                  <a:lnTo>
                    <a:pt x="167" y="4"/>
                  </a:lnTo>
                  <a:lnTo>
                    <a:pt x="123" y="4"/>
                  </a:lnTo>
                  <a:lnTo>
                    <a:pt x="92" y="17"/>
                  </a:lnTo>
                  <a:lnTo>
                    <a:pt x="66" y="22"/>
                  </a:lnTo>
                  <a:lnTo>
                    <a:pt x="44" y="35"/>
                  </a:lnTo>
                  <a:lnTo>
                    <a:pt x="26" y="52"/>
                  </a:lnTo>
                  <a:lnTo>
                    <a:pt x="17" y="75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050320" y="773280"/>
              <a:ext cx="138600" cy="86040"/>
            </a:xfrm>
            <a:custGeom>
              <a:avLst/>
              <a:gdLst/>
              <a:ahLst/>
              <a:rect l="0" t="0" r="r" b="b"/>
              <a:pathLst>
                <a:path w="385" h="239">
                  <a:moveTo>
                    <a:pt x="39" y="239"/>
                  </a:moveTo>
                  <a:lnTo>
                    <a:pt x="30" y="203"/>
                  </a:lnTo>
                  <a:lnTo>
                    <a:pt x="35" y="164"/>
                  </a:lnTo>
                  <a:lnTo>
                    <a:pt x="44" y="128"/>
                  </a:lnTo>
                  <a:lnTo>
                    <a:pt x="61" y="92"/>
                  </a:lnTo>
                  <a:lnTo>
                    <a:pt x="57" y="88"/>
                  </a:lnTo>
                  <a:lnTo>
                    <a:pt x="39" y="83"/>
                  </a:lnTo>
                  <a:lnTo>
                    <a:pt x="22" y="88"/>
                  </a:lnTo>
                  <a:lnTo>
                    <a:pt x="0" y="88"/>
                  </a:lnTo>
                  <a:lnTo>
                    <a:pt x="17" y="74"/>
                  </a:lnTo>
                  <a:lnTo>
                    <a:pt x="35" y="57"/>
                  </a:lnTo>
                  <a:lnTo>
                    <a:pt x="61" y="39"/>
                  </a:lnTo>
                  <a:lnTo>
                    <a:pt x="88" y="26"/>
                  </a:lnTo>
                  <a:lnTo>
                    <a:pt x="111" y="13"/>
                  </a:lnTo>
                  <a:lnTo>
                    <a:pt x="137" y="8"/>
                  </a:lnTo>
                  <a:lnTo>
                    <a:pt x="164" y="4"/>
                  </a:lnTo>
                  <a:lnTo>
                    <a:pt x="186" y="0"/>
                  </a:lnTo>
                  <a:lnTo>
                    <a:pt x="225" y="0"/>
                  </a:lnTo>
                  <a:lnTo>
                    <a:pt x="265" y="4"/>
                  </a:lnTo>
                  <a:lnTo>
                    <a:pt x="297" y="13"/>
                  </a:lnTo>
                  <a:lnTo>
                    <a:pt x="328" y="30"/>
                  </a:lnTo>
                  <a:lnTo>
                    <a:pt x="354" y="52"/>
                  </a:lnTo>
                  <a:lnTo>
                    <a:pt x="372" y="79"/>
                  </a:lnTo>
                  <a:lnTo>
                    <a:pt x="381" y="110"/>
                  </a:lnTo>
                  <a:lnTo>
                    <a:pt x="385" y="150"/>
                  </a:lnTo>
                  <a:lnTo>
                    <a:pt x="359" y="128"/>
                  </a:lnTo>
                  <a:lnTo>
                    <a:pt x="341" y="114"/>
                  </a:lnTo>
                  <a:lnTo>
                    <a:pt x="319" y="110"/>
                  </a:lnTo>
                  <a:lnTo>
                    <a:pt x="297" y="105"/>
                  </a:lnTo>
                  <a:lnTo>
                    <a:pt x="265" y="133"/>
                  </a:lnTo>
                  <a:lnTo>
                    <a:pt x="225" y="159"/>
                  </a:lnTo>
                  <a:lnTo>
                    <a:pt x="195" y="190"/>
                  </a:lnTo>
                  <a:lnTo>
                    <a:pt x="172" y="225"/>
                  </a:lnTo>
                  <a:lnTo>
                    <a:pt x="168" y="195"/>
                  </a:lnTo>
                  <a:lnTo>
                    <a:pt x="164" y="168"/>
                  </a:lnTo>
                  <a:lnTo>
                    <a:pt x="159" y="155"/>
                  </a:lnTo>
                  <a:lnTo>
                    <a:pt x="150" y="133"/>
                  </a:lnTo>
                  <a:lnTo>
                    <a:pt x="128" y="150"/>
                  </a:lnTo>
                  <a:lnTo>
                    <a:pt x="102" y="164"/>
                  </a:lnTo>
                  <a:lnTo>
                    <a:pt x="70" y="195"/>
                  </a:lnTo>
                  <a:lnTo>
                    <a:pt x="39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59840" y="765000"/>
              <a:ext cx="127440" cy="62280"/>
            </a:xfrm>
            <a:custGeom>
              <a:avLst/>
              <a:gdLst/>
              <a:ahLst/>
              <a:rect l="0" t="0" r="r" b="b"/>
              <a:pathLst>
                <a:path w="354" h="173">
                  <a:moveTo>
                    <a:pt x="0" y="53"/>
                  </a:moveTo>
                  <a:lnTo>
                    <a:pt x="22" y="53"/>
                  </a:lnTo>
                  <a:lnTo>
                    <a:pt x="48" y="58"/>
                  </a:lnTo>
                  <a:lnTo>
                    <a:pt x="70" y="71"/>
                  </a:lnTo>
                  <a:lnTo>
                    <a:pt x="89" y="89"/>
                  </a:lnTo>
                  <a:lnTo>
                    <a:pt x="93" y="75"/>
                  </a:lnTo>
                  <a:lnTo>
                    <a:pt x="93" y="58"/>
                  </a:lnTo>
                  <a:lnTo>
                    <a:pt x="93" y="39"/>
                  </a:lnTo>
                  <a:lnTo>
                    <a:pt x="89" y="22"/>
                  </a:lnTo>
                  <a:lnTo>
                    <a:pt x="115" y="30"/>
                  </a:lnTo>
                  <a:lnTo>
                    <a:pt x="142" y="49"/>
                  </a:lnTo>
                  <a:lnTo>
                    <a:pt x="159" y="58"/>
                  </a:lnTo>
                  <a:lnTo>
                    <a:pt x="181" y="75"/>
                  </a:lnTo>
                  <a:lnTo>
                    <a:pt x="203" y="98"/>
                  </a:lnTo>
                  <a:lnTo>
                    <a:pt x="225" y="115"/>
                  </a:lnTo>
                  <a:lnTo>
                    <a:pt x="247" y="138"/>
                  </a:lnTo>
                  <a:lnTo>
                    <a:pt x="261" y="173"/>
                  </a:lnTo>
                  <a:lnTo>
                    <a:pt x="270" y="151"/>
                  </a:lnTo>
                  <a:lnTo>
                    <a:pt x="270" y="128"/>
                  </a:lnTo>
                  <a:lnTo>
                    <a:pt x="270" y="111"/>
                  </a:lnTo>
                  <a:lnTo>
                    <a:pt x="270" y="102"/>
                  </a:lnTo>
                  <a:lnTo>
                    <a:pt x="284" y="111"/>
                  </a:lnTo>
                  <a:lnTo>
                    <a:pt x="310" y="124"/>
                  </a:lnTo>
                  <a:lnTo>
                    <a:pt x="332" y="134"/>
                  </a:lnTo>
                  <a:lnTo>
                    <a:pt x="354" y="151"/>
                  </a:lnTo>
                  <a:lnTo>
                    <a:pt x="337" y="115"/>
                  </a:lnTo>
                  <a:lnTo>
                    <a:pt x="310" y="89"/>
                  </a:lnTo>
                  <a:lnTo>
                    <a:pt x="284" y="71"/>
                  </a:lnTo>
                  <a:lnTo>
                    <a:pt x="256" y="53"/>
                  </a:lnTo>
                  <a:lnTo>
                    <a:pt x="275" y="49"/>
                  </a:lnTo>
                  <a:lnTo>
                    <a:pt x="288" y="39"/>
                  </a:lnTo>
                  <a:lnTo>
                    <a:pt x="306" y="35"/>
                  </a:lnTo>
                  <a:lnTo>
                    <a:pt x="323" y="30"/>
                  </a:lnTo>
                  <a:lnTo>
                    <a:pt x="310" y="26"/>
                  </a:lnTo>
                  <a:lnTo>
                    <a:pt x="297" y="22"/>
                  </a:lnTo>
                  <a:lnTo>
                    <a:pt x="279" y="13"/>
                  </a:lnTo>
                  <a:lnTo>
                    <a:pt x="261" y="8"/>
                  </a:lnTo>
                  <a:lnTo>
                    <a:pt x="243" y="4"/>
                  </a:lnTo>
                  <a:lnTo>
                    <a:pt x="217" y="4"/>
                  </a:lnTo>
                  <a:lnTo>
                    <a:pt x="190" y="0"/>
                  </a:lnTo>
                  <a:lnTo>
                    <a:pt x="155" y="0"/>
                  </a:lnTo>
                  <a:lnTo>
                    <a:pt x="102" y="4"/>
                  </a:lnTo>
                  <a:lnTo>
                    <a:pt x="52" y="8"/>
                  </a:lnTo>
                  <a:lnTo>
                    <a:pt x="22" y="26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070840" y="779400"/>
              <a:ext cx="105120" cy="57600"/>
            </a:xfrm>
            <a:custGeom>
              <a:avLst/>
              <a:gdLst/>
              <a:ahLst/>
              <a:rect l="0" t="0" r="r" b="b"/>
              <a:pathLst>
                <a:path w="292" h="160">
                  <a:moveTo>
                    <a:pt x="0" y="160"/>
                  </a:moveTo>
                  <a:lnTo>
                    <a:pt x="8" y="125"/>
                  </a:lnTo>
                  <a:lnTo>
                    <a:pt x="17" y="98"/>
                  </a:lnTo>
                  <a:lnTo>
                    <a:pt x="35" y="75"/>
                  </a:lnTo>
                  <a:lnTo>
                    <a:pt x="44" y="58"/>
                  </a:lnTo>
                  <a:lnTo>
                    <a:pt x="35" y="49"/>
                  </a:lnTo>
                  <a:lnTo>
                    <a:pt x="26" y="49"/>
                  </a:lnTo>
                  <a:lnTo>
                    <a:pt x="13" y="49"/>
                  </a:lnTo>
                  <a:lnTo>
                    <a:pt x="0" y="49"/>
                  </a:lnTo>
                  <a:lnTo>
                    <a:pt x="17" y="35"/>
                  </a:lnTo>
                  <a:lnTo>
                    <a:pt x="52" y="22"/>
                  </a:lnTo>
                  <a:lnTo>
                    <a:pt x="88" y="13"/>
                  </a:lnTo>
                  <a:lnTo>
                    <a:pt x="114" y="8"/>
                  </a:lnTo>
                  <a:lnTo>
                    <a:pt x="145" y="0"/>
                  </a:lnTo>
                  <a:lnTo>
                    <a:pt x="172" y="8"/>
                  </a:lnTo>
                  <a:lnTo>
                    <a:pt x="199" y="8"/>
                  </a:lnTo>
                  <a:lnTo>
                    <a:pt x="221" y="13"/>
                  </a:lnTo>
                  <a:lnTo>
                    <a:pt x="243" y="22"/>
                  </a:lnTo>
                  <a:lnTo>
                    <a:pt x="265" y="39"/>
                  </a:lnTo>
                  <a:lnTo>
                    <a:pt x="283" y="62"/>
                  </a:lnTo>
                  <a:lnTo>
                    <a:pt x="292" y="84"/>
                  </a:lnTo>
                  <a:lnTo>
                    <a:pt x="274" y="71"/>
                  </a:lnTo>
                  <a:lnTo>
                    <a:pt x="265" y="62"/>
                  </a:lnTo>
                  <a:lnTo>
                    <a:pt x="247" y="62"/>
                  </a:lnTo>
                  <a:lnTo>
                    <a:pt x="234" y="58"/>
                  </a:lnTo>
                  <a:lnTo>
                    <a:pt x="208" y="75"/>
                  </a:lnTo>
                  <a:lnTo>
                    <a:pt x="181" y="106"/>
                  </a:lnTo>
                  <a:lnTo>
                    <a:pt x="155" y="125"/>
                  </a:lnTo>
                  <a:lnTo>
                    <a:pt x="132" y="147"/>
                  </a:lnTo>
                  <a:lnTo>
                    <a:pt x="127" y="125"/>
                  </a:lnTo>
                  <a:lnTo>
                    <a:pt x="119" y="111"/>
                  </a:lnTo>
                  <a:lnTo>
                    <a:pt x="114" y="93"/>
                  </a:lnTo>
                  <a:lnTo>
                    <a:pt x="110" y="75"/>
                  </a:lnTo>
                  <a:lnTo>
                    <a:pt x="92" y="89"/>
                  </a:lnTo>
                  <a:lnTo>
                    <a:pt x="61" y="106"/>
                  </a:lnTo>
                  <a:lnTo>
                    <a:pt x="30" y="134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26280" y="836640"/>
              <a:ext cx="201960" cy="124200"/>
            </a:xfrm>
            <a:custGeom>
              <a:avLst/>
              <a:gdLst/>
              <a:ahLst/>
              <a:rect l="0" t="0" r="r" b="b"/>
              <a:pathLst>
                <a:path w="561" h="345">
                  <a:moveTo>
                    <a:pt x="268" y="199"/>
                  </a:moveTo>
                  <a:lnTo>
                    <a:pt x="292" y="252"/>
                  </a:lnTo>
                  <a:lnTo>
                    <a:pt x="322" y="301"/>
                  </a:lnTo>
                  <a:lnTo>
                    <a:pt x="362" y="337"/>
                  </a:lnTo>
                  <a:lnTo>
                    <a:pt x="411" y="345"/>
                  </a:lnTo>
                  <a:lnTo>
                    <a:pt x="468" y="337"/>
                  </a:lnTo>
                  <a:lnTo>
                    <a:pt x="516" y="301"/>
                  </a:lnTo>
                  <a:lnTo>
                    <a:pt x="547" y="239"/>
                  </a:lnTo>
                  <a:lnTo>
                    <a:pt x="561" y="168"/>
                  </a:lnTo>
                  <a:lnTo>
                    <a:pt x="547" y="102"/>
                  </a:lnTo>
                  <a:lnTo>
                    <a:pt x="516" y="48"/>
                  </a:lnTo>
                  <a:lnTo>
                    <a:pt x="468" y="8"/>
                  </a:lnTo>
                  <a:lnTo>
                    <a:pt x="411" y="0"/>
                  </a:lnTo>
                  <a:lnTo>
                    <a:pt x="362" y="13"/>
                  </a:lnTo>
                  <a:lnTo>
                    <a:pt x="318" y="48"/>
                  </a:lnTo>
                  <a:lnTo>
                    <a:pt x="287" y="102"/>
                  </a:lnTo>
                  <a:lnTo>
                    <a:pt x="264" y="159"/>
                  </a:lnTo>
                  <a:lnTo>
                    <a:pt x="246" y="111"/>
                  </a:lnTo>
                  <a:lnTo>
                    <a:pt x="216" y="61"/>
                  </a:lnTo>
                  <a:lnTo>
                    <a:pt x="180" y="30"/>
                  </a:lnTo>
                  <a:lnTo>
                    <a:pt x="136" y="17"/>
                  </a:lnTo>
                  <a:lnTo>
                    <a:pt x="83" y="30"/>
                  </a:lnTo>
                  <a:lnTo>
                    <a:pt x="35" y="66"/>
                  </a:lnTo>
                  <a:lnTo>
                    <a:pt x="8" y="124"/>
                  </a:lnTo>
                  <a:lnTo>
                    <a:pt x="0" y="181"/>
                  </a:lnTo>
                  <a:lnTo>
                    <a:pt x="8" y="243"/>
                  </a:lnTo>
                  <a:lnTo>
                    <a:pt x="35" y="293"/>
                  </a:lnTo>
                  <a:lnTo>
                    <a:pt x="83" y="332"/>
                  </a:lnTo>
                  <a:lnTo>
                    <a:pt x="136" y="341"/>
                  </a:lnTo>
                  <a:lnTo>
                    <a:pt x="185" y="332"/>
                  </a:lnTo>
                  <a:lnTo>
                    <a:pt x="220" y="293"/>
                  </a:lnTo>
                  <a:lnTo>
                    <a:pt x="255" y="252"/>
                  </a:lnTo>
                  <a:lnTo>
                    <a:pt x="268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40680" y="885960"/>
              <a:ext cx="36720" cy="52920"/>
            </a:xfrm>
            <a:custGeom>
              <a:avLst/>
              <a:gdLst/>
              <a:ahLst/>
              <a:rect l="0" t="0" r="r" b="b"/>
              <a:pathLst>
                <a:path w="102" h="147">
                  <a:moveTo>
                    <a:pt x="53" y="147"/>
                  </a:moveTo>
                  <a:lnTo>
                    <a:pt x="75" y="143"/>
                  </a:lnTo>
                  <a:lnTo>
                    <a:pt x="89" y="125"/>
                  </a:lnTo>
                  <a:lnTo>
                    <a:pt x="98" y="102"/>
                  </a:lnTo>
                  <a:lnTo>
                    <a:pt x="102" y="71"/>
                  </a:lnTo>
                  <a:lnTo>
                    <a:pt x="98" y="45"/>
                  </a:lnTo>
                  <a:lnTo>
                    <a:pt x="89" y="22"/>
                  </a:lnTo>
                  <a:lnTo>
                    <a:pt x="75" y="4"/>
                  </a:lnTo>
                  <a:lnTo>
                    <a:pt x="53" y="0"/>
                  </a:lnTo>
                  <a:lnTo>
                    <a:pt x="35" y="4"/>
                  </a:lnTo>
                  <a:lnTo>
                    <a:pt x="17" y="22"/>
                  </a:lnTo>
                  <a:lnTo>
                    <a:pt x="4" y="45"/>
                  </a:lnTo>
                  <a:lnTo>
                    <a:pt x="0" y="71"/>
                  </a:lnTo>
                  <a:lnTo>
                    <a:pt x="4" y="102"/>
                  </a:lnTo>
                  <a:lnTo>
                    <a:pt x="17" y="125"/>
                  </a:lnTo>
                  <a:lnTo>
                    <a:pt x="35" y="143"/>
                  </a:lnTo>
                  <a:lnTo>
                    <a:pt x="5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250120" y="882720"/>
              <a:ext cx="38520" cy="57600"/>
            </a:xfrm>
            <a:custGeom>
              <a:avLst/>
              <a:gdLst/>
              <a:ahLst/>
              <a:rect l="0" t="0" r="r" b="b"/>
              <a:pathLst>
                <a:path w="107" h="160">
                  <a:moveTo>
                    <a:pt x="53" y="160"/>
                  </a:moveTo>
                  <a:lnTo>
                    <a:pt x="75" y="156"/>
                  </a:lnTo>
                  <a:lnTo>
                    <a:pt x="94" y="138"/>
                  </a:lnTo>
                  <a:lnTo>
                    <a:pt x="103" y="111"/>
                  </a:lnTo>
                  <a:lnTo>
                    <a:pt x="107" y="80"/>
                  </a:lnTo>
                  <a:lnTo>
                    <a:pt x="103" y="49"/>
                  </a:lnTo>
                  <a:lnTo>
                    <a:pt x="94" y="22"/>
                  </a:lnTo>
                  <a:lnTo>
                    <a:pt x="75" y="4"/>
                  </a:lnTo>
                  <a:lnTo>
                    <a:pt x="53" y="0"/>
                  </a:lnTo>
                  <a:lnTo>
                    <a:pt x="31" y="4"/>
                  </a:lnTo>
                  <a:lnTo>
                    <a:pt x="17" y="22"/>
                  </a:lnTo>
                  <a:lnTo>
                    <a:pt x="4" y="49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7" y="138"/>
                  </a:lnTo>
                  <a:lnTo>
                    <a:pt x="31" y="156"/>
                  </a:lnTo>
                  <a:lnTo>
                    <a:pt x="5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210520" y="111132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59" y="94"/>
                  </a:moveTo>
                  <a:lnTo>
                    <a:pt x="40" y="94"/>
                  </a:lnTo>
                  <a:lnTo>
                    <a:pt x="31" y="94"/>
                  </a:lnTo>
                  <a:lnTo>
                    <a:pt x="13" y="94"/>
                  </a:lnTo>
                  <a:lnTo>
                    <a:pt x="0" y="94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76" y="0"/>
                  </a:lnTo>
                  <a:lnTo>
                    <a:pt x="59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247240" y="11095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0" y="94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72" y="0"/>
                  </a:lnTo>
                  <a:lnTo>
                    <a:pt x="52" y="81"/>
                  </a:lnTo>
                  <a:lnTo>
                    <a:pt x="39" y="85"/>
                  </a:lnTo>
                  <a:lnTo>
                    <a:pt x="33" y="85"/>
                  </a:lnTo>
                  <a:lnTo>
                    <a:pt x="12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48680" y="1074600"/>
              <a:ext cx="25920" cy="28800"/>
            </a:xfrm>
            <a:custGeom>
              <a:avLst/>
              <a:gdLst/>
              <a:ahLst/>
              <a:rect l="0" t="0" r="r" b="b"/>
              <a:pathLst>
                <a:path w="72" h="80">
                  <a:moveTo>
                    <a:pt x="0" y="80"/>
                  </a:moveTo>
                  <a:lnTo>
                    <a:pt x="11" y="75"/>
                  </a:lnTo>
                  <a:lnTo>
                    <a:pt x="30" y="75"/>
                  </a:lnTo>
                  <a:lnTo>
                    <a:pt x="42" y="75"/>
                  </a:lnTo>
                  <a:lnTo>
                    <a:pt x="60" y="75"/>
                  </a:lnTo>
                  <a:lnTo>
                    <a:pt x="72" y="17"/>
                  </a:lnTo>
                  <a:lnTo>
                    <a:pt x="60" y="8"/>
                  </a:lnTo>
                  <a:lnTo>
                    <a:pt x="42" y="4"/>
                  </a:lnTo>
                  <a:lnTo>
                    <a:pt x="30" y="4"/>
                  </a:lnTo>
                  <a:lnTo>
                    <a:pt x="11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215200" y="106524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10" y="107"/>
                  </a:moveTo>
                  <a:lnTo>
                    <a:pt x="21" y="107"/>
                  </a:lnTo>
                  <a:lnTo>
                    <a:pt x="41" y="107"/>
                  </a:lnTo>
                  <a:lnTo>
                    <a:pt x="51" y="107"/>
                  </a:lnTo>
                  <a:lnTo>
                    <a:pt x="72" y="107"/>
                  </a:lnTo>
                  <a:lnTo>
                    <a:pt x="72" y="8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21" y="4"/>
                  </a:lnTo>
                  <a:lnTo>
                    <a:pt x="0" y="0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178840" y="1109520"/>
              <a:ext cx="27360" cy="35280"/>
            </a:xfrm>
            <a:custGeom>
              <a:avLst/>
              <a:gdLst/>
              <a:ahLst/>
              <a:rect l="0" t="0" r="r" b="b"/>
              <a:pathLst>
                <a:path w="76" h="98">
                  <a:moveTo>
                    <a:pt x="49" y="98"/>
                  </a:moveTo>
                  <a:lnTo>
                    <a:pt x="36" y="93"/>
                  </a:lnTo>
                  <a:lnTo>
                    <a:pt x="23" y="84"/>
                  </a:lnTo>
                  <a:lnTo>
                    <a:pt x="13" y="84"/>
                  </a:lnTo>
                  <a:lnTo>
                    <a:pt x="0" y="80"/>
                  </a:lnTo>
                  <a:lnTo>
                    <a:pt x="27" y="0"/>
                  </a:lnTo>
                  <a:lnTo>
                    <a:pt x="40" y="4"/>
                  </a:lnTo>
                  <a:lnTo>
                    <a:pt x="49" y="4"/>
                  </a:lnTo>
                  <a:lnTo>
                    <a:pt x="63" y="4"/>
                  </a:lnTo>
                  <a:lnTo>
                    <a:pt x="76" y="4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177040" y="1063800"/>
              <a:ext cx="32040" cy="39960"/>
            </a:xfrm>
            <a:custGeom>
              <a:avLst/>
              <a:gdLst/>
              <a:ahLst/>
              <a:rect l="0" t="0" r="r" b="b"/>
              <a:pathLst>
                <a:path w="89" h="111">
                  <a:moveTo>
                    <a:pt x="71" y="4"/>
                  </a:moveTo>
                  <a:lnTo>
                    <a:pt x="53" y="0"/>
                  </a:lnTo>
                  <a:lnTo>
                    <a:pt x="39" y="0"/>
                  </a:lnTo>
                  <a:lnTo>
                    <a:pt x="17" y="0"/>
                  </a:lnTo>
                  <a:lnTo>
                    <a:pt x="0" y="4"/>
                  </a:lnTo>
                  <a:lnTo>
                    <a:pt x="30" y="106"/>
                  </a:lnTo>
                  <a:lnTo>
                    <a:pt x="45" y="106"/>
                  </a:lnTo>
                  <a:lnTo>
                    <a:pt x="62" y="106"/>
                  </a:lnTo>
                  <a:lnTo>
                    <a:pt x="71" y="106"/>
                  </a:lnTo>
                  <a:lnTo>
                    <a:pt x="89" y="111"/>
                  </a:lnTo>
                  <a:lnTo>
                    <a:pt x="7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8250120" y="557280"/>
            <a:ext cx="271800" cy="143280"/>
          </a:xfrm>
          <a:custGeom>
            <a:avLst/>
            <a:gdLst/>
            <a:ahLst/>
            <a:rect l="0" t="0" r="r" b="b"/>
            <a:pathLst>
              <a:path w="755" h="398">
                <a:moveTo>
                  <a:pt x="0" y="4"/>
                </a:moveTo>
                <a:lnTo>
                  <a:pt x="176" y="0"/>
                </a:lnTo>
                <a:lnTo>
                  <a:pt x="326" y="22"/>
                </a:lnTo>
                <a:lnTo>
                  <a:pt x="455" y="70"/>
                </a:lnTo>
                <a:lnTo>
                  <a:pt x="556" y="124"/>
                </a:lnTo>
                <a:lnTo>
                  <a:pt x="631" y="190"/>
                </a:lnTo>
                <a:lnTo>
                  <a:pt x="688" y="256"/>
                </a:lnTo>
                <a:lnTo>
                  <a:pt x="733" y="323"/>
                </a:lnTo>
                <a:lnTo>
                  <a:pt x="755" y="368"/>
                </a:lnTo>
                <a:lnTo>
                  <a:pt x="728" y="368"/>
                </a:lnTo>
                <a:lnTo>
                  <a:pt x="706" y="376"/>
                </a:lnTo>
                <a:lnTo>
                  <a:pt x="684" y="385"/>
                </a:lnTo>
                <a:lnTo>
                  <a:pt x="662" y="398"/>
                </a:lnTo>
                <a:lnTo>
                  <a:pt x="640" y="354"/>
                </a:lnTo>
                <a:lnTo>
                  <a:pt x="609" y="301"/>
                </a:lnTo>
                <a:lnTo>
                  <a:pt x="556" y="239"/>
                </a:lnTo>
                <a:lnTo>
                  <a:pt x="490" y="177"/>
                </a:lnTo>
                <a:lnTo>
                  <a:pt x="406" y="115"/>
                </a:lnTo>
                <a:lnTo>
                  <a:pt x="295" y="70"/>
                </a:lnTo>
                <a:lnTo>
                  <a:pt x="158" y="26"/>
                </a:lnTo>
                <a:lnTo>
                  <a:pt x="0" y="4"/>
                </a:lnTo>
                <a:close/>
              </a:path>
            </a:pathLst>
          </a:custGeom>
          <a:solidFill>
            <a:srgbClr val="ccf2f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6248520" y="1905120"/>
            <a:ext cx="1495800" cy="4257720"/>
            <a:chOff x="6248520" y="1905120"/>
            <a:chExt cx="1495800" cy="4257720"/>
          </a:xfrm>
        </p:grpSpPr>
        <p:grpSp>
          <p:nvGrpSpPr>
            <p:cNvPr id="701" name=""/>
            <p:cNvGrpSpPr/>
            <p:nvPr/>
          </p:nvGrpSpPr>
          <p:grpSpPr>
            <a:xfrm>
              <a:off x="6248520" y="4554360"/>
              <a:ext cx="1495800" cy="1608480"/>
              <a:chOff x="6248520" y="4554360"/>
              <a:chExt cx="1495800" cy="1608480"/>
            </a:xfrm>
          </p:grpSpPr>
          <p:sp>
            <p:nvSpPr>
              <p:cNvPr id="702" name=""/>
              <p:cNvSpPr/>
              <p:nvPr/>
            </p:nvSpPr>
            <p:spPr>
              <a:xfrm>
                <a:off x="6626160" y="4554360"/>
                <a:ext cx="646560" cy="1483200"/>
              </a:xfrm>
              <a:custGeom>
                <a:avLst/>
                <a:gdLst/>
                <a:ahLst/>
                <a:rect l="0" t="0" r="r" b="b"/>
                <a:pathLst>
                  <a:path w="1796" h="4120">
                    <a:moveTo>
                      <a:pt x="0" y="0"/>
                    </a:moveTo>
                    <a:lnTo>
                      <a:pt x="312" y="4120"/>
                    </a:lnTo>
                    <a:lnTo>
                      <a:pt x="1015" y="4120"/>
                    </a:lnTo>
                    <a:lnTo>
                      <a:pt x="911" y="1116"/>
                    </a:lnTo>
                    <a:lnTo>
                      <a:pt x="1015" y="4120"/>
                    </a:lnTo>
                    <a:lnTo>
                      <a:pt x="1796" y="4120"/>
                    </a:lnTo>
                    <a:lnTo>
                      <a:pt x="1718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248520" y="5983200"/>
                <a:ext cx="743400" cy="179640"/>
              </a:xfrm>
              <a:custGeom>
                <a:avLst/>
                <a:gdLst/>
                <a:ahLst/>
                <a:rect l="0" t="0" r="r" b="b"/>
                <a:pathLst>
                  <a:path w="2065" h="499">
                    <a:moveTo>
                      <a:pt x="1359" y="158"/>
                    </a:moveTo>
                    <a:lnTo>
                      <a:pt x="967" y="45"/>
                    </a:lnTo>
                    <a:lnTo>
                      <a:pt x="706" y="0"/>
                    </a:lnTo>
                    <a:lnTo>
                      <a:pt x="417" y="90"/>
                    </a:lnTo>
                    <a:lnTo>
                      <a:pt x="130" y="226"/>
                    </a:lnTo>
                    <a:lnTo>
                      <a:pt x="0" y="408"/>
                    </a:lnTo>
                    <a:lnTo>
                      <a:pt x="182" y="499"/>
                    </a:lnTo>
                    <a:lnTo>
                      <a:pt x="2065" y="499"/>
                    </a:lnTo>
                    <a:lnTo>
                      <a:pt x="2065" y="158"/>
                    </a:lnTo>
                    <a:lnTo>
                      <a:pt x="1359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00920" y="5983200"/>
                <a:ext cx="743400" cy="179640"/>
              </a:xfrm>
              <a:custGeom>
                <a:avLst/>
                <a:gdLst/>
                <a:ahLst/>
                <a:rect l="0" t="0" r="r" b="b"/>
                <a:pathLst>
                  <a:path w="2065" h="499">
                    <a:moveTo>
                      <a:pt x="706" y="158"/>
                    </a:moveTo>
                    <a:lnTo>
                      <a:pt x="1098" y="45"/>
                    </a:lnTo>
                    <a:lnTo>
                      <a:pt x="1359" y="0"/>
                    </a:lnTo>
                    <a:lnTo>
                      <a:pt x="1647" y="90"/>
                    </a:lnTo>
                    <a:lnTo>
                      <a:pt x="1935" y="226"/>
                    </a:lnTo>
                    <a:lnTo>
                      <a:pt x="2065" y="408"/>
                    </a:lnTo>
                    <a:lnTo>
                      <a:pt x="1882" y="499"/>
                    </a:lnTo>
                    <a:lnTo>
                      <a:pt x="0" y="499"/>
                    </a:lnTo>
                    <a:lnTo>
                      <a:pt x="0" y="158"/>
                    </a:lnTo>
                    <a:lnTo>
                      <a:pt x="706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6291360" y="3479760"/>
              <a:ext cx="503640" cy="1243080"/>
              <a:chOff x="6291360" y="3479760"/>
              <a:chExt cx="503640" cy="1243080"/>
            </a:xfrm>
          </p:grpSpPr>
          <p:sp>
            <p:nvSpPr>
              <p:cNvPr id="706" name=""/>
              <p:cNvSpPr/>
              <p:nvPr/>
            </p:nvSpPr>
            <p:spPr>
              <a:xfrm>
                <a:off x="6315120" y="3479760"/>
                <a:ext cx="479880" cy="1026000"/>
              </a:xfrm>
              <a:custGeom>
                <a:avLst/>
                <a:gdLst/>
                <a:ahLst/>
                <a:rect l="0" t="0" r="r" b="b"/>
                <a:pathLst>
                  <a:path w="1333" h="2850">
                    <a:moveTo>
                      <a:pt x="1098" y="0"/>
                    </a:moveTo>
                    <a:lnTo>
                      <a:pt x="1255" y="91"/>
                    </a:lnTo>
                    <a:lnTo>
                      <a:pt x="1333" y="364"/>
                    </a:lnTo>
                    <a:lnTo>
                      <a:pt x="1124" y="1140"/>
                    </a:lnTo>
                    <a:lnTo>
                      <a:pt x="810" y="2850"/>
                    </a:lnTo>
                    <a:lnTo>
                      <a:pt x="0" y="2713"/>
                    </a:lnTo>
                    <a:lnTo>
                      <a:pt x="366" y="1254"/>
                    </a:lnTo>
                    <a:lnTo>
                      <a:pt x="784" y="205"/>
                    </a:lnTo>
                    <a:lnTo>
                      <a:pt x="1098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91360" y="4476600"/>
                <a:ext cx="29988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6404040" y="1905120"/>
              <a:ext cx="1068480" cy="2821320"/>
              <a:chOff x="6404040" y="1905120"/>
              <a:chExt cx="1068480" cy="2821320"/>
            </a:xfrm>
          </p:grpSpPr>
          <p:sp>
            <p:nvSpPr>
              <p:cNvPr id="709" name=""/>
              <p:cNvSpPr/>
              <p:nvPr/>
            </p:nvSpPr>
            <p:spPr>
              <a:xfrm>
                <a:off x="6502320" y="3346560"/>
                <a:ext cx="970200" cy="1379880"/>
              </a:xfrm>
              <a:custGeom>
                <a:avLst/>
                <a:gdLst/>
                <a:ahLst/>
                <a:rect l="0" t="0" r="r" b="b"/>
                <a:pathLst>
                  <a:path w="2695" h="3833">
                    <a:moveTo>
                      <a:pt x="943" y="323"/>
                    </a:moveTo>
                    <a:lnTo>
                      <a:pt x="856" y="338"/>
                    </a:lnTo>
                    <a:lnTo>
                      <a:pt x="790" y="376"/>
                    </a:lnTo>
                    <a:lnTo>
                      <a:pt x="664" y="501"/>
                    </a:lnTo>
                    <a:lnTo>
                      <a:pt x="534" y="623"/>
                    </a:lnTo>
                    <a:lnTo>
                      <a:pt x="386" y="733"/>
                    </a:lnTo>
                    <a:lnTo>
                      <a:pt x="365" y="767"/>
                    </a:lnTo>
                    <a:lnTo>
                      <a:pt x="343" y="802"/>
                    </a:lnTo>
                    <a:lnTo>
                      <a:pt x="343" y="802"/>
                    </a:lnTo>
                    <a:lnTo>
                      <a:pt x="365" y="802"/>
                    </a:lnTo>
                    <a:lnTo>
                      <a:pt x="152" y="1338"/>
                    </a:lnTo>
                    <a:lnTo>
                      <a:pt x="0" y="3745"/>
                    </a:lnTo>
                    <a:lnTo>
                      <a:pt x="2695" y="3833"/>
                    </a:lnTo>
                    <a:lnTo>
                      <a:pt x="2291" y="1589"/>
                    </a:lnTo>
                    <a:lnTo>
                      <a:pt x="2095" y="357"/>
                    </a:lnTo>
                    <a:lnTo>
                      <a:pt x="1369" y="0"/>
                    </a:lnTo>
                    <a:lnTo>
                      <a:pt x="943" y="323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794640" y="3355920"/>
                <a:ext cx="300240" cy="155880"/>
              </a:xfrm>
              <a:custGeom>
                <a:avLst/>
                <a:gdLst/>
                <a:ahLst/>
                <a:rect l="0" t="0" r="r" b="b"/>
                <a:pathLst>
                  <a:path w="834" h="433">
                    <a:moveTo>
                      <a:pt x="0" y="296"/>
                    </a:moveTo>
                    <a:lnTo>
                      <a:pt x="234" y="410"/>
                    </a:lnTo>
                    <a:lnTo>
                      <a:pt x="652" y="433"/>
                    </a:lnTo>
                    <a:lnTo>
                      <a:pt x="834" y="228"/>
                    </a:lnTo>
                    <a:lnTo>
                      <a:pt x="834" y="68"/>
                    </a:lnTo>
                    <a:lnTo>
                      <a:pt x="652" y="0"/>
                    </a:lnTo>
                    <a:lnTo>
                      <a:pt x="469" y="228"/>
                    </a:lnTo>
                    <a:lnTo>
                      <a:pt x="182" y="251"/>
                    </a:lnTo>
                    <a:lnTo>
                      <a:pt x="0" y="296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1" name=""/>
              <p:cNvGrpSpPr/>
              <p:nvPr/>
            </p:nvGrpSpPr>
            <p:grpSpPr>
              <a:xfrm>
                <a:off x="6404040" y="1905120"/>
                <a:ext cx="992520" cy="1567440"/>
                <a:chOff x="6404040" y="1905120"/>
                <a:chExt cx="992520" cy="15674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6512040" y="2109960"/>
                  <a:ext cx="884520" cy="1362600"/>
                </a:xfrm>
                <a:custGeom>
                  <a:avLst/>
                  <a:gdLst/>
                  <a:ahLst/>
                  <a:rect l="0" t="0" r="r" b="b"/>
                  <a:pathLst>
                    <a:path w="2457" h="3785">
                      <a:moveTo>
                        <a:pt x="574" y="0"/>
                      </a:moveTo>
                      <a:lnTo>
                        <a:pt x="261" y="227"/>
                      </a:lnTo>
                      <a:lnTo>
                        <a:pt x="78" y="592"/>
                      </a:lnTo>
                      <a:lnTo>
                        <a:pt x="26" y="1049"/>
                      </a:lnTo>
                      <a:lnTo>
                        <a:pt x="0" y="2325"/>
                      </a:lnTo>
                      <a:lnTo>
                        <a:pt x="52" y="3056"/>
                      </a:lnTo>
                      <a:lnTo>
                        <a:pt x="810" y="3101"/>
                      </a:lnTo>
                      <a:lnTo>
                        <a:pt x="914" y="3512"/>
                      </a:lnTo>
                      <a:lnTo>
                        <a:pt x="1019" y="3785"/>
                      </a:lnTo>
                      <a:lnTo>
                        <a:pt x="1255" y="3785"/>
                      </a:lnTo>
                      <a:lnTo>
                        <a:pt x="1385" y="3534"/>
                      </a:lnTo>
                      <a:lnTo>
                        <a:pt x="1307" y="3101"/>
                      </a:lnTo>
                      <a:lnTo>
                        <a:pt x="2013" y="3033"/>
                      </a:lnTo>
                      <a:lnTo>
                        <a:pt x="2039" y="2599"/>
                      </a:lnTo>
                      <a:lnTo>
                        <a:pt x="2195" y="2667"/>
                      </a:lnTo>
                      <a:lnTo>
                        <a:pt x="2352" y="2622"/>
                      </a:lnTo>
                      <a:lnTo>
                        <a:pt x="2457" y="2257"/>
                      </a:lnTo>
                      <a:lnTo>
                        <a:pt x="2326" y="2075"/>
                      </a:lnTo>
                      <a:lnTo>
                        <a:pt x="2169" y="2097"/>
                      </a:lnTo>
                      <a:lnTo>
                        <a:pt x="2326" y="159"/>
                      </a:lnTo>
                      <a:lnTo>
                        <a:pt x="5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404040" y="2489040"/>
                  <a:ext cx="404640" cy="3538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751800" y="2457360"/>
                  <a:ext cx="479520" cy="420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740640" y="1932120"/>
                  <a:ext cx="612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V="1">
                  <a:off x="6851520" y="1914480"/>
                  <a:ext cx="1584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V="1">
                  <a:off x="7012080" y="1905120"/>
                  <a:ext cx="36360" cy="196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V="1">
                  <a:off x="7172280" y="1946160"/>
                  <a:ext cx="54000" cy="173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V="1">
                  <a:off x="7311960" y="1971720"/>
                  <a:ext cx="54000" cy="15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540480" y="3009960"/>
                  <a:ext cx="507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438960" y="2679840"/>
                  <a:ext cx="774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2" name=""/>
            <p:cNvGrpSpPr/>
            <p:nvPr/>
          </p:nvGrpSpPr>
          <p:grpSpPr>
            <a:xfrm>
              <a:off x="7169040" y="3494160"/>
              <a:ext cx="503280" cy="1246320"/>
              <a:chOff x="7169040" y="3494160"/>
              <a:chExt cx="503280" cy="1246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169040" y="3494160"/>
                <a:ext cx="481320" cy="1026000"/>
              </a:xfrm>
              <a:custGeom>
                <a:avLst/>
                <a:gdLst/>
                <a:ahLst/>
                <a:rect l="0" t="0" r="r" b="b"/>
                <a:pathLst>
                  <a:path w="1337" h="2850">
                    <a:moveTo>
                      <a:pt x="235" y="0"/>
                    </a:moveTo>
                    <a:lnTo>
                      <a:pt x="78" y="91"/>
                    </a:lnTo>
                    <a:lnTo>
                      <a:pt x="0" y="364"/>
                    </a:lnTo>
                    <a:lnTo>
                      <a:pt x="209" y="1140"/>
                    </a:lnTo>
                    <a:lnTo>
                      <a:pt x="523" y="2850"/>
                    </a:lnTo>
                    <a:lnTo>
                      <a:pt x="1337" y="2713"/>
                    </a:lnTo>
                    <a:lnTo>
                      <a:pt x="970" y="1254"/>
                    </a:lnTo>
                    <a:lnTo>
                      <a:pt x="550" y="205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373880" y="4494240"/>
                <a:ext cx="29844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5" name=""/>
          <p:cNvGrpSpPr/>
          <p:nvPr/>
        </p:nvGrpSpPr>
        <p:grpSpPr>
          <a:xfrm>
            <a:off x="1727280" y="4854600"/>
            <a:ext cx="828720" cy="1165680"/>
            <a:chOff x="1727280" y="4854600"/>
            <a:chExt cx="828720" cy="1165680"/>
          </a:xfrm>
        </p:grpSpPr>
        <p:sp>
          <p:nvSpPr>
            <p:cNvPr id="726" name=""/>
            <p:cNvSpPr/>
            <p:nvPr/>
          </p:nvSpPr>
          <p:spPr>
            <a:xfrm>
              <a:off x="1755720" y="5335560"/>
              <a:ext cx="582840" cy="675000"/>
            </a:xfrm>
            <a:custGeom>
              <a:avLst/>
              <a:gdLst/>
              <a:ahLst/>
              <a:rect l="0" t="0" r="r" b="b"/>
              <a:pathLst>
                <a:path w="1619" h="1875">
                  <a:moveTo>
                    <a:pt x="308" y="668"/>
                  </a:moveTo>
                  <a:lnTo>
                    <a:pt x="142" y="794"/>
                  </a:lnTo>
                  <a:lnTo>
                    <a:pt x="35" y="968"/>
                  </a:lnTo>
                  <a:lnTo>
                    <a:pt x="0" y="1137"/>
                  </a:lnTo>
                  <a:lnTo>
                    <a:pt x="11" y="1321"/>
                  </a:lnTo>
                  <a:lnTo>
                    <a:pt x="53" y="1491"/>
                  </a:lnTo>
                  <a:lnTo>
                    <a:pt x="91" y="1569"/>
                  </a:lnTo>
                  <a:lnTo>
                    <a:pt x="189" y="1663"/>
                  </a:lnTo>
                  <a:lnTo>
                    <a:pt x="320" y="1751"/>
                  </a:lnTo>
                  <a:lnTo>
                    <a:pt x="480" y="1838"/>
                  </a:lnTo>
                  <a:lnTo>
                    <a:pt x="580" y="1866"/>
                  </a:lnTo>
                  <a:lnTo>
                    <a:pt x="788" y="1875"/>
                  </a:lnTo>
                  <a:lnTo>
                    <a:pt x="970" y="1872"/>
                  </a:lnTo>
                  <a:lnTo>
                    <a:pt x="1079" y="1847"/>
                  </a:lnTo>
                  <a:lnTo>
                    <a:pt x="1242" y="1790"/>
                  </a:lnTo>
                  <a:lnTo>
                    <a:pt x="1400" y="1702"/>
                  </a:lnTo>
                  <a:lnTo>
                    <a:pt x="1515" y="1575"/>
                  </a:lnTo>
                  <a:lnTo>
                    <a:pt x="1589" y="1376"/>
                  </a:lnTo>
                  <a:lnTo>
                    <a:pt x="1619" y="1195"/>
                  </a:lnTo>
                  <a:lnTo>
                    <a:pt x="1592" y="1016"/>
                  </a:lnTo>
                  <a:lnTo>
                    <a:pt x="1518" y="876"/>
                  </a:lnTo>
                  <a:lnTo>
                    <a:pt x="1405" y="746"/>
                  </a:lnTo>
                  <a:lnTo>
                    <a:pt x="1325" y="661"/>
                  </a:lnTo>
                  <a:lnTo>
                    <a:pt x="1391" y="583"/>
                  </a:lnTo>
                  <a:lnTo>
                    <a:pt x="1423" y="459"/>
                  </a:lnTo>
                  <a:lnTo>
                    <a:pt x="1402" y="314"/>
                  </a:lnTo>
                  <a:lnTo>
                    <a:pt x="1349" y="211"/>
                  </a:lnTo>
                  <a:lnTo>
                    <a:pt x="1272" y="117"/>
                  </a:lnTo>
                  <a:lnTo>
                    <a:pt x="1174" y="45"/>
                  </a:lnTo>
                  <a:lnTo>
                    <a:pt x="1127" y="12"/>
                  </a:lnTo>
                  <a:lnTo>
                    <a:pt x="988" y="57"/>
                  </a:lnTo>
                  <a:lnTo>
                    <a:pt x="819" y="54"/>
                  </a:lnTo>
                  <a:lnTo>
                    <a:pt x="702" y="0"/>
                  </a:lnTo>
                  <a:lnTo>
                    <a:pt x="527" y="27"/>
                  </a:lnTo>
                  <a:lnTo>
                    <a:pt x="388" y="105"/>
                  </a:lnTo>
                  <a:lnTo>
                    <a:pt x="293" y="220"/>
                  </a:lnTo>
                  <a:lnTo>
                    <a:pt x="263" y="308"/>
                  </a:lnTo>
                  <a:lnTo>
                    <a:pt x="254" y="323"/>
                  </a:lnTo>
                  <a:lnTo>
                    <a:pt x="269" y="429"/>
                  </a:lnTo>
                  <a:lnTo>
                    <a:pt x="260" y="441"/>
                  </a:lnTo>
                  <a:lnTo>
                    <a:pt x="284" y="562"/>
                  </a:lnTo>
                  <a:lnTo>
                    <a:pt x="30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71720" y="5065560"/>
              <a:ext cx="259200" cy="292320"/>
            </a:xfrm>
            <a:custGeom>
              <a:avLst/>
              <a:gdLst/>
              <a:ahLst/>
              <a:rect l="0" t="0" r="r" b="b"/>
              <a:pathLst>
                <a:path w="720" h="812">
                  <a:moveTo>
                    <a:pt x="38" y="654"/>
                  </a:moveTo>
                  <a:lnTo>
                    <a:pt x="0" y="533"/>
                  </a:lnTo>
                  <a:lnTo>
                    <a:pt x="0" y="427"/>
                  </a:lnTo>
                  <a:lnTo>
                    <a:pt x="20" y="284"/>
                  </a:lnTo>
                  <a:lnTo>
                    <a:pt x="103" y="157"/>
                  </a:lnTo>
                  <a:lnTo>
                    <a:pt x="219" y="66"/>
                  </a:lnTo>
                  <a:lnTo>
                    <a:pt x="350" y="15"/>
                  </a:lnTo>
                  <a:lnTo>
                    <a:pt x="456" y="0"/>
                  </a:lnTo>
                  <a:lnTo>
                    <a:pt x="561" y="24"/>
                  </a:lnTo>
                  <a:lnTo>
                    <a:pt x="649" y="66"/>
                  </a:lnTo>
                  <a:lnTo>
                    <a:pt x="705" y="160"/>
                  </a:lnTo>
                  <a:lnTo>
                    <a:pt x="720" y="293"/>
                  </a:lnTo>
                  <a:lnTo>
                    <a:pt x="705" y="427"/>
                  </a:lnTo>
                  <a:lnTo>
                    <a:pt x="655" y="564"/>
                  </a:lnTo>
                  <a:lnTo>
                    <a:pt x="596" y="679"/>
                  </a:lnTo>
                  <a:lnTo>
                    <a:pt x="506" y="760"/>
                  </a:lnTo>
                  <a:lnTo>
                    <a:pt x="421" y="800"/>
                  </a:lnTo>
                  <a:lnTo>
                    <a:pt x="276" y="812"/>
                  </a:lnTo>
                  <a:lnTo>
                    <a:pt x="171" y="773"/>
                  </a:lnTo>
                  <a:lnTo>
                    <a:pt x="88" y="742"/>
                  </a:lnTo>
                  <a:lnTo>
                    <a:pt x="38" y="6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57320" y="5054760"/>
              <a:ext cx="282960" cy="311400"/>
            </a:xfrm>
            <a:custGeom>
              <a:avLst/>
              <a:gdLst/>
              <a:ahLst/>
              <a:rect l="0" t="0" r="r" b="b"/>
              <a:pathLst>
                <a:path w="786" h="865">
                  <a:moveTo>
                    <a:pt x="0" y="415"/>
                  </a:moveTo>
                  <a:lnTo>
                    <a:pt x="23" y="330"/>
                  </a:lnTo>
                  <a:lnTo>
                    <a:pt x="65" y="242"/>
                  </a:lnTo>
                  <a:lnTo>
                    <a:pt x="133" y="154"/>
                  </a:lnTo>
                  <a:lnTo>
                    <a:pt x="232" y="75"/>
                  </a:lnTo>
                  <a:lnTo>
                    <a:pt x="336" y="21"/>
                  </a:lnTo>
                  <a:lnTo>
                    <a:pt x="441" y="0"/>
                  </a:lnTo>
                  <a:lnTo>
                    <a:pt x="521" y="3"/>
                  </a:lnTo>
                  <a:lnTo>
                    <a:pt x="602" y="18"/>
                  </a:lnTo>
                  <a:lnTo>
                    <a:pt x="688" y="51"/>
                  </a:lnTo>
                  <a:lnTo>
                    <a:pt x="739" y="115"/>
                  </a:lnTo>
                  <a:lnTo>
                    <a:pt x="778" y="203"/>
                  </a:lnTo>
                  <a:lnTo>
                    <a:pt x="786" y="315"/>
                  </a:lnTo>
                  <a:lnTo>
                    <a:pt x="786" y="421"/>
                  </a:lnTo>
                  <a:lnTo>
                    <a:pt x="766" y="519"/>
                  </a:lnTo>
                  <a:lnTo>
                    <a:pt x="730" y="610"/>
                  </a:lnTo>
                  <a:lnTo>
                    <a:pt x="673" y="704"/>
                  </a:lnTo>
                  <a:lnTo>
                    <a:pt x="605" y="780"/>
                  </a:lnTo>
                  <a:lnTo>
                    <a:pt x="530" y="834"/>
                  </a:lnTo>
                  <a:lnTo>
                    <a:pt x="444" y="865"/>
                  </a:lnTo>
                  <a:lnTo>
                    <a:pt x="331" y="865"/>
                  </a:lnTo>
                  <a:lnTo>
                    <a:pt x="238" y="859"/>
                  </a:lnTo>
                  <a:lnTo>
                    <a:pt x="160" y="819"/>
                  </a:lnTo>
                  <a:lnTo>
                    <a:pt x="104" y="780"/>
                  </a:lnTo>
                  <a:lnTo>
                    <a:pt x="62" y="722"/>
                  </a:lnTo>
                  <a:lnTo>
                    <a:pt x="26" y="646"/>
                  </a:lnTo>
                  <a:lnTo>
                    <a:pt x="5" y="559"/>
                  </a:lnTo>
                  <a:lnTo>
                    <a:pt x="5" y="480"/>
                  </a:lnTo>
                  <a:lnTo>
                    <a:pt x="62" y="492"/>
                  </a:lnTo>
                  <a:lnTo>
                    <a:pt x="77" y="589"/>
                  </a:lnTo>
                  <a:lnTo>
                    <a:pt x="121" y="683"/>
                  </a:lnTo>
                  <a:lnTo>
                    <a:pt x="178" y="743"/>
                  </a:lnTo>
                  <a:lnTo>
                    <a:pt x="256" y="783"/>
                  </a:lnTo>
                  <a:lnTo>
                    <a:pt x="357" y="801"/>
                  </a:lnTo>
                  <a:lnTo>
                    <a:pt x="461" y="789"/>
                  </a:lnTo>
                  <a:lnTo>
                    <a:pt x="536" y="762"/>
                  </a:lnTo>
                  <a:lnTo>
                    <a:pt x="602" y="701"/>
                  </a:lnTo>
                  <a:lnTo>
                    <a:pt x="656" y="619"/>
                  </a:lnTo>
                  <a:lnTo>
                    <a:pt x="700" y="531"/>
                  </a:lnTo>
                  <a:lnTo>
                    <a:pt x="730" y="437"/>
                  </a:lnTo>
                  <a:lnTo>
                    <a:pt x="730" y="327"/>
                  </a:lnTo>
                  <a:lnTo>
                    <a:pt x="721" y="233"/>
                  </a:lnTo>
                  <a:lnTo>
                    <a:pt x="697" y="157"/>
                  </a:lnTo>
                  <a:lnTo>
                    <a:pt x="650" y="109"/>
                  </a:lnTo>
                  <a:lnTo>
                    <a:pt x="586" y="75"/>
                  </a:lnTo>
                  <a:lnTo>
                    <a:pt x="497" y="57"/>
                  </a:lnTo>
                  <a:lnTo>
                    <a:pt x="414" y="57"/>
                  </a:lnTo>
                  <a:lnTo>
                    <a:pt x="319" y="90"/>
                  </a:lnTo>
                  <a:lnTo>
                    <a:pt x="232" y="145"/>
                  </a:lnTo>
                  <a:lnTo>
                    <a:pt x="148" y="215"/>
                  </a:lnTo>
                  <a:lnTo>
                    <a:pt x="101" y="297"/>
                  </a:lnTo>
                  <a:lnTo>
                    <a:pt x="71" y="376"/>
                  </a:lnTo>
                  <a:lnTo>
                    <a:pt x="56" y="452"/>
                  </a:lnTo>
                  <a:lnTo>
                    <a:pt x="8" y="446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49480" y="5130720"/>
              <a:ext cx="49680" cy="51120"/>
            </a:xfrm>
            <a:custGeom>
              <a:avLst/>
              <a:gdLst/>
              <a:ahLst/>
              <a:rect l="0" t="0" r="r" b="b"/>
              <a:pathLst>
                <a:path w="138" h="142">
                  <a:moveTo>
                    <a:pt x="21" y="35"/>
                  </a:moveTo>
                  <a:lnTo>
                    <a:pt x="61" y="5"/>
                  </a:lnTo>
                  <a:lnTo>
                    <a:pt x="101" y="0"/>
                  </a:lnTo>
                  <a:lnTo>
                    <a:pt x="138" y="17"/>
                  </a:lnTo>
                  <a:lnTo>
                    <a:pt x="138" y="55"/>
                  </a:lnTo>
                  <a:lnTo>
                    <a:pt x="123" y="103"/>
                  </a:lnTo>
                  <a:lnTo>
                    <a:pt x="89" y="139"/>
                  </a:lnTo>
                  <a:lnTo>
                    <a:pt x="30" y="142"/>
                  </a:lnTo>
                  <a:lnTo>
                    <a:pt x="9" y="118"/>
                  </a:lnTo>
                  <a:lnTo>
                    <a:pt x="0" y="83"/>
                  </a:lnTo>
                  <a:lnTo>
                    <a:pt x="2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08160" y="5157720"/>
              <a:ext cx="47880" cy="49680"/>
            </a:xfrm>
            <a:custGeom>
              <a:avLst/>
              <a:gdLst/>
              <a:ahLst/>
              <a:rect l="0" t="0" r="r" b="b"/>
              <a:pathLst>
                <a:path w="133" h="138">
                  <a:moveTo>
                    <a:pt x="20" y="31"/>
                  </a:moveTo>
                  <a:lnTo>
                    <a:pt x="55" y="3"/>
                  </a:lnTo>
                  <a:lnTo>
                    <a:pt x="89" y="0"/>
                  </a:lnTo>
                  <a:lnTo>
                    <a:pt x="127" y="18"/>
                  </a:lnTo>
                  <a:lnTo>
                    <a:pt x="133" y="56"/>
                  </a:lnTo>
                  <a:lnTo>
                    <a:pt x="124" y="91"/>
                  </a:lnTo>
                  <a:lnTo>
                    <a:pt x="98" y="126"/>
                  </a:lnTo>
                  <a:lnTo>
                    <a:pt x="64" y="138"/>
                  </a:lnTo>
                  <a:lnTo>
                    <a:pt x="23" y="135"/>
                  </a:lnTo>
                  <a:lnTo>
                    <a:pt x="2" y="116"/>
                  </a:lnTo>
                  <a:lnTo>
                    <a:pt x="0" y="81"/>
                  </a:lnTo>
                  <a:lnTo>
                    <a:pt x="2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84240" y="5203800"/>
              <a:ext cx="174960" cy="38520"/>
            </a:xfrm>
            <a:custGeom>
              <a:avLst/>
              <a:gdLst/>
              <a:ahLst/>
              <a:rect l="0" t="0" r="r" b="b"/>
              <a:pathLst>
                <a:path w="486" h="107">
                  <a:moveTo>
                    <a:pt x="29" y="6"/>
                  </a:moveTo>
                  <a:lnTo>
                    <a:pt x="47" y="6"/>
                  </a:lnTo>
                  <a:lnTo>
                    <a:pt x="438" y="0"/>
                  </a:lnTo>
                  <a:lnTo>
                    <a:pt x="477" y="24"/>
                  </a:lnTo>
                  <a:lnTo>
                    <a:pt x="486" y="60"/>
                  </a:lnTo>
                  <a:lnTo>
                    <a:pt x="468" y="98"/>
                  </a:lnTo>
                  <a:lnTo>
                    <a:pt x="432" y="107"/>
                  </a:lnTo>
                  <a:lnTo>
                    <a:pt x="329" y="104"/>
                  </a:lnTo>
                  <a:lnTo>
                    <a:pt x="17" y="78"/>
                  </a:lnTo>
                  <a:lnTo>
                    <a:pt x="0" y="44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92240" y="5122800"/>
              <a:ext cx="235440" cy="224280"/>
            </a:xfrm>
            <a:custGeom>
              <a:avLst/>
              <a:gdLst/>
              <a:ahLst/>
              <a:rect l="0" t="0" r="r" b="b"/>
              <a:pathLst>
                <a:path w="654" h="623">
                  <a:moveTo>
                    <a:pt x="630" y="0"/>
                  </a:moveTo>
                  <a:lnTo>
                    <a:pt x="607" y="207"/>
                  </a:lnTo>
                  <a:lnTo>
                    <a:pt x="589" y="277"/>
                  </a:lnTo>
                  <a:lnTo>
                    <a:pt x="518" y="389"/>
                  </a:lnTo>
                  <a:lnTo>
                    <a:pt x="443" y="475"/>
                  </a:lnTo>
                  <a:lnTo>
                    <a:pt x="342" y="523"/>
                  </a:lnTo>
                  <a:lnTo>
                    <a:pt x="265" y="550"/>
                  </a:lnTo>
                  <a:lnTo>
                    <a:pt x="176" y="554"/>
                  </a:lnTo>
                  <a:lnTo>
                    <a:pt x="100" y="541"/>
                  </a:lnTo>
                  <a:lnTo>
                    <a:pt x="26" y="484"/>
                  </a:lnTo>
                  <a:lnTo>
                    <a:pt x="0" y="484"/>
                  </a:lnTo>
                  <a:lnTo>
                    <a:pt x="53" y="560"/>
                  </a:lnTo>
                  <a:lnTo>
                    <a:pt x="139" y="599"/>
                  </a:lnTo>
                  <a:lnTo>
                    <a:pt x="205" y="617"/>
                  </a:lnTo>
                  <a:lnTo>
                    <a:pt x="217" y="623"/>
                  </a:lnTo>
                  <a:lnTo>
                    <a:pt x="273" y="620"/>
                  </a:lnTo>
                  <a:lnTo>
                    <a:pt x="368" y="611"/>
                  </a:lnTo>
                  <a:lnTo>
                    <a:pt x="428" y="593"/>
                  </a:lnTo>
                  <a:lnTo>
                    <a:pt x="494" y="541"/>
                  </a:lnTo>
                  <a:lnTo>
                    <a:pt x="565" y="455"/>
                  </a:lnTo>
                  <a:lnTo>
                    <a:pt x="616" y="349"/>
                  </a:lnTo>
                  <a:lnTo>
                    <a:pt x="622" y="334"/>
                  </a:lnTo>
                  <a:lnTo>
                    <a:pt x="654" y="243"/>
                  </a:lnTo>
                  <a:lnTo>
                    <a:pt x="642" y="139"/>
                  </a:lnTo>
                  <a:lnTo>
                    <a:pt x="630" y="18"/>
                  </a:lnTo>
                  <a:lnTo>
                    <a:pt x="622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27280" y="5286240"/>
              <a:ext cx="160560" cy="120960"/>
            </a:xfrm>
            <a:custGeom>
              <a:avLst/>
              <a:gdLst/>
              <a:ahLst/>
              <a:rect l="0" t="0" r="r" b="b"/>
              <a:pathLst>
                <a:path w="446" h="336">
                  <a:moveTo>
                    <a:pt x="419" y="264"/>
                  </a:moveTo>
                  <a:lnTo>
                    <a:pt x="250" y="149"/>
                  </a:lnTo>
                  <a:lnTo>
                    <a:pt x="163" y="89"/>
                  </a:lnTo>
                  <a:lnTo>
                    <a:pt x="145" y="41"/>
                  </a:lnTo>
                  <a:lnTo>
                    <a:pt x="139" y="0"/>
                  </a:lnTo>
                  <a:lnTo>
                    <a:pt x="92" y="5"/>
                  </a:lnTo>
                  <a:lnTo>
                    <a:pt x="65" y="35"/>
                  </a:lnTo>
                  <a:lnTo>
                    <a:pt x="92" y="107"/>
                  </a:lnTo>
                  <a:lnTo>
                    <a:pt x="83" y="140"/>
                  </a:lnTo>
                  <a:lnTo>
                    <a:pt x="53" y="167"/>
                  </a:lnTo>
                  <a:lnTo>
                    <a:pt x="0" y="198"/>
                  </a:lnTo>
                  <a:lnTo>
                    <a:pt x="0" y="234"/>
                  </a:lnTo>
                  <a:lnTo>
                    <a:pt x="26" y="261"/>
                  </a:lnTo>
                  <a:lnTo>
                    <a:pt x="71" y="273"/>
                  </a:lnTo>
                  <a:lnTo>
                    <a:pt x="100" y="234"/>
                  </a:lnTo>
                  <a:lnTo>
                    <a:pt x="139" y="195"/>
                  </a:lnTo>
                  <a:lnTo>
                    <a:pt x="178" y="195"/>
                  </a:lnTo>
                  <a:lnTo>
                    <a:pt x="253" y="228"/>
                  </a:lnTo>
                  <a:lnTo>
                    <a:pt x="410" y="336"/>
                  </a:lnTo>
                  <a:lnTo>
                    <a:pt x="446" y="291"/>
                  </a:lnTo>
                  <a:lnTo>
                    <a:pt x="419" y="264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96920" y="5386320"/>
              <a:ext cx="57600" cy="55800"/>
            </a:xfrm>
            <a:custGeom>
              <a:avLst/>
              <a:gdLst/>
              <a:ahLst/>
              <a:rect l="0" t="0" r="r" b="b"/>
              <a:pathLst>
                <a:path w="160" h="155">
                  <a:moveTo>
                    <a:pt x="29" y="21"/>
                  </a:moveTo>
                  <a:lnTo>
                    <a:pt x="71" y="0"/>
                  </a:lnTo>
                  <a:lnTo>
                    <a:pt x="122" y="0"/>
                  </a:lnTo>
                  <a:lnTo>
                    <a:pt x="151" y="24"/>
                  </a:lnTo>
                  <a:lnTo>
                    <a:pt x="160" y="66"/>
                  </a:lnTo>
                  <a:lnTo>
                    <a:pt x="151" y="109"/>
                  </a:lnTo>
                  <a:lnTo>
                    <a:pt x="109" y="149"/>
                  </a:lnTo>
                  <a:lnTo>
                    <a:pt x="53" y="155"/>
                  </a:lnTo>
                  <a:lnTo>
                    <a:pt x="17" y="131"/>
                  </a:lnTo>
                  <a:lnTo>
                    <a:pt x="0" y="88"/>
                  </a:lnTo>
                  <a:lnTo>
                    <a:pt x="8" y="42"/>
                  </a:lnTo>
                  <a:lnTo>
                    <a:pt x="2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959120" y="5475240"/>
              <a:ext cx="51120" cy="60840"/>
            </a:xfrm>
            <a:custGeom>
              <a:avLst/>
              <a:gdLst/>
              <a:ahLst/>
              <a:rect l="0" t="0" r="r" b="b"/>
              <a:pathLst>
                <a:path w="142" h="169">
                  <a:moveTo>
                    <a:pt x="15" y="33"/>
                  </a:moveTo>
                  <a:lnTo>
                    <a:pt x="42" y="3"/>
                  </a:lnTo>
                  <a:lnTo>
                    <a:pt x="100" y="0"/>
                  </a:lnTo>
                  <a:lnTo>
                    <a:pt x="127" y="24"/>
                  </a:lnTo>
                  <a:lnTo>
                    <a:pt x="142" y="74"/>
                  </a:lnTo>
                  <a:lnTo>
                    <a:pt x="133" y="125"/>
                  </a:lnTo>
                  <a:lnTo>
                    <a:pt x="91" y="163"/>
                  </a:lnTo>
                  <a:lnTo>
                    <a:pt x="42" y="169"/>
                  </a:lnTo>
                  <a:lnTo>
                    <a:pt x="6" y="142"/>
                  </a:lnTo>
                  <a:lnTo>
                    <a:pt x="0" y="95"/>
                  </a:lnTo>
                  <a:lnTo>
                    <a:pt x="6" y="52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08160" y="5351400"/>
              <a:ext cx="154440" cy="276480"/>
            </a:xfrm>
            <a:custGeom>
              <a:avLst/>
              <a:gdLst/>
              <a:ahLst/>
              <a:rect l="0" t="0" r="r" b="b"/>
              <a:pathLst>
                <a:path w="429" h="768">
                  <a:moveTo>
                    <a:pt x="140" y="12"/>
                  </a:moveTo>
                  <a:lnTo>
                    <a:pt x="226" y="90"/>
                  </a:lnTo>
                  <a:lnTo>
                    <a:pt x="253" y="172"/>
                  </a:lnTo>
                  <a:lnTo>
                    <a:pt x="268" y="251"/>
                  </a:lnTo>
                  <a:lnTo>
                    <a:pt x="262" y="336"/>
                  </a:lnTo>
                  <a:lnTo>
                    <a:pt x="244" y="434"/>
                  </a:lnTo>
                  <a:lnTo>
                    <a:pt x="223" y="559"/>
                  </a:lnTo>
                  <a:lnTo>
                    <a:pt x="161" y="616"/>
                  </a:lnTo>
                  <a:lnTo>
                    <a:pt x="110" y="692"/>
                  </a:lnTo>
                  <a:lnTo>
                    <a:pt x="0" y="704"/>
                  </a:lnTo>
                  <a:lnTo>
                    <a:pt x="2" y="744"/>
                  </a:lnTo>
                  <a:lnTo>
                    <a:pt x="74" y="768"/>
                  </a:lnTo>
                  <a:lnTo>
                    <a:pt x="176" y="744"/>
                  </a:lnTo>
                  <a:lnTo>
                    <a:pt x="259" y="722"/>
                  </a:lnTo>
                  <a:lnTo>
                    <a:pt x="343" y="653"/>
                  </a:lnTo>
                  <a:lnTo>
                    <a:pt x="403" y="546"/>
                  </a:lnTo>
                  <a:lnTo>
                    <a:pt x="429" y="431"/>
                  </a:lnTo>
                  <a:lnTo>
                    <a:pt x="426" y="324"/>
                  </a:lnTo>
                  <a:lnTo>
                    <a:pt x="394" y="212"/>
                  </a:lnTo>
                  <a:lnTo>
                    <a:pt x="328" y="109"/>
                  </a:lnTo>
                  <a:lnTo>
                    <a:pt x="241" y="30"/>
                  </a:lnTo>
                  <a:lnTo>
                    <a:pt x="158" y="0"/>
                  </a:lnTo>
                  <a:lnTo>
                    <a:pt x="140" y="1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76400" y="5578560"/>
              <a:ext cx="49680" cy="52920"/>
            </a:xfrm>
            <a:custGeom>
              <a:avLst/>
              <a:gdLst/>
              <a:ahLst/>
              <a:rect l="0" t="0" r="r" b="b"/>
              <a:pathLst>
                <a:path w="138" h="147">
                  <a:moveTo>
                    <a:pt x="14" y="24"/>
                  </a:moveTo>
                  <a:lnTo>
                    <a:pt x="63" y="0"/>
                  </a:lnTo>
                  <a:lnTo>
                    <a:pt x="111" y="15"/>
                  </a:lnTo>
                  <a:lnTo>
                    <a:pt x="135" y="40"/>
                  </a:lnTo>
                  <a:lnTo>
                    <a:pt x="138" y="85"/>
                  </a:lnTo>
                  <a:lnTo>
                    <a:pt x="126" y="126"/>
                  </a:lnTo>
                  <a:lnTo>
                    <a:pt x="99" y="147"/>
                  </a:lnTo>
                  <a:lnTo>
                    <a:pt x="54" y="147"/>
                  </a:lnTo>
                  <a:lnTo>
                    <a:pt x="14" y="126"/>
                  </a:lnTo>
                  <a:lnTo>
                    <a:pt x="0" y="88"/>
                  </a:lnTo>
                  <a:lnTo>
                    <a:pt x="5" y="49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05120" y="5624640"/>
              <a:ext cx="427320" cy="386280"/>
            </a:xfrm>
            <a:custGeom>
              <a:avLst/>
              <a:gdLst/>
              <a:ahLst/>
              <a:rect l="0" t="0" r="r" b="b"/>
              <a:pathLst>
                <a:path w="1187" h="1073">
                  <a:moveTo>
                    <a:pt x="1011" y="0"/>
                  </a:moveTo>
                  <a:lnTo>
                    <a:pt x="1115" y="102"/>
                  </a:lnTo>
                  <a:lnTo>
                    <a:pt x="1172" y="242"/>
                  </a:lnTo>
                  <a:lnTo>
                    <a:pt x="1187" y="376"/>
                  </a:lnTo>
                  <a:lnTo>
                    <a:pt x="1160" y="557"/>
                  </a:lnTo>
                  <a:lnTo>
                    <a:pt x="1103" y="736"/>
                  </a:lnTo>
                  <a:lnTo>
                    <a:pt x="1002" y="879"/>
                  </a:lnTo>
                  <a:lnTo>
                    <a:pt x="812" y="994"/>
                  </a:lnTo>
                  <a:lnTo>
                    <a:pt x="800" y="997"/>
                  </a:lnTo>
                  <a:lnTo>
                    <a:pt x="625" y="1061"/>
                  </a:lnTo>
                  <a:lnTo>
                    <a:pt x="386" y="1073"/>
                  </a:lnTo>
                  <a:lnTo>
                    <a:pt x="172" y="1061"/>
                  </a:lnTo>
                  <a:lnTo>
                    <a:pt x="0" y="994"/>
                  </a:lnTo>
                  <a:lnTo>
                    <a:pt x="196" y="997"/>
                  </a:lnTo>
                  <a:lnTo>
                    <a:pt x="365" y="994"/>
                  </a:lnTo>
                  <a:lnTo>
                    <a:pt x="538" y="946"/>
                  </a:lnTo>
                  <a:lnTo>
                    <a:pt x="696" y="891"/>
                  </a:lnTo>
                  <a:lnTo>
                    <a:pt x="791" y="831"/>
                  </a:lnTo>
                  <a:lnTo>
                    <a:pt x="889" y="754"/>
                  </a:lnTo>
                  <a:lnTo>
                    <a:pt x="964" y="660"/>
                  </a:lnTo>
                  <a:lnTo>
                    <a:pt x="1035" y="548"/>
                  </a:lnTo>
                  <a:lnTo>
                    <a:pt x="1065" y="442"/>
                  </a:lnTo>
                  <a:lnTo>
                    <a:pt x="1086" y="300"/>
                  </a:lnTo>
                  <a:lnTo>
                    <a:pt x="1056" y="142"/>
                  </a:lnTo>
                  <a:lnTo>
                    <a:pt x="1017" y="45"/>
                  </a:lnTo>
                  <a:lnTo>
                    <a:pt x="101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174760" y="5275440"/>
              <a:ext cx="381240" cy="167040"/>
            </a:xfrm>
            <a:custGeom>
              <a:avLst/>
              <a:gdLst/>
              <a:ahLst/>
              <a:rect l="0" t="0" r="r" b="b"/>
              <a:pathLst>
                <a:path w="1059" h="464">
                  <a:moveTo>
                    <a:pt x="142" y="351"/>
                  </a:moveTo>
                  <a:lnTo>
                    <a:pt x="65" y="397"/>
                  </a:lnTo>
                  <a:lnTo>
                    <a:pt x="0" y="418"/>
                  </a:lnTo>
                  <a:lnTo>
                    <a:pt x="0" y="445"/>
                  </a:lnTo>
                  <a:lnTo>
                    <a:pt x="47" y="464"/>
                  </a:lnTo>
                  <a:lnTo>
                    <a:pt x="104" y="454"/>
                  </a:lnTo>
                  <a:lnTo>
                    <a:pt x="208" y="418"/>
                  </a:lnTo>
                  <a:lnTo>
                    <a:pt x="395" y="351"/>
                  </a:lnTo>
                  <a:lnTo>
                    <a:pt x="583" y="308"/>
                  </a:lnTo>
                  <a:lnTo>
                    <a:pt x="708" y="278"/>
                  </a:lnTo>
                  <a:lnTo>
                    <a:pt x="815" y="287"/>
                  </a:lnTo>
                  <a:lnTo>
                    <a:pt x="895" y="299"/>
                  </a:lnTo>
                  <a:lnTo>
                    <a:pt x="990" y="326"/>
                  </a:lnTo>
                  <a:lnTo>
                    <a:pt x="1047" y="326"/>
                  </a:lnTo>
                  <a:lnTo>
                    <a:pt x="1059" y="293"/>
                  </a:lnTo>
                  <a:lnTo>
                    <a:pt x="1038" y="262"/>
                  </a:lnTo>
                  <a:lnTo>
                    <a:pt x="1011" y="244"/>
                  </a:lnTo>
                  <a:lnTo>
                    <a:pt x="943" y="231"/>
                  </a:lnTo>
                  <a:lnTo>
                    <a:pt x="872" y="219"/>
                  </a:lnTo>
                  <a:lnTo>
                    <a:pt x="863" y="194"/>
                  </a:lnTo>
                  <a:lnTo>
                    <a:pt x="886" y="164"/>
                  </a:lnTo>
                  <a:lnTo>
                    <a:pt x="937" y="146"/>
                  </a:lnTo>
                  <a:lnTo>
                    <a:pt x="999" y="97"/>
                  </a:lnTo>
                  <a:lnTo>
                    <a:pt x="1014" y="36"/>
                  </a:lnTo>
                  <a:lnTo>
                    <a:pt x="967" y="0"/>
                  </a:lnTo>
                  <a:lnTo>
                    <a:pt x="937" y="18"/>
                  </a:lnTo>
                  <a:lnTo>
                    <a:pt x="916" y="67"/>
                  </a:lnTo>
                  <a:lnTo>
                    <a:pt x="863" y="115"/>
                  </a:lnTo>
                  <a:lnTo>
                    <a:pt x="794" y="155"/>
                  </a:lnTo>
                  <a:lnTo>
                    <a:pt x="738" y="191"/>
                  </a:lnTo>
                  <a:lnTo>
                    <a:pt x="607" y="228"/>
                  </a:lnTo>
                  <a:lnTo>
                    <a:pt x="484" y="250"/>
                  </a:lnTo>
                  <a:lnTo>
                    <a:pt x="356" y="287"/>
                  </a:lnTo>
                  <a:lnTo>
                    <a:pt x="225" y="326"/>
                  </a:lnTo>
                  <a:lnTo>
                    <a:pt x="142" y="351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2023920" y="4854600"/>
              <a:ext cx="284400" cy="313200"/>
              <a:chOff x="2023920" y="4854600"/>
              <a:chExt cx="284400" cy="313200"/>
            </a:xfrm>
          </p:grpSpPr>
          <p:sp>
            <p:nvSpPr>
              <p:cNvPr id="741" name=""/>
              <p:cNvSpPr/>
              <p:nvPr/>
            </p:nvSpPr>
            <p:spPr>
              <a:xfrm>
                <a:off x="2066760" y="4865760"/>
                <a:ext cx="221040" cy="233640"/>
              </a:xfrm>
              <a:custGeom>
                <a:avLst/>
                <a:gdLst/>
                <a:ahLst/>
                <a:rect l="0" t="0" r="r" b="b"/>
                <a:pathLst>
                  <a:path w="614" h="649">
                    <a:moveTo>
                      <a:pt x="453" y="649"/>
                    </a:moveTo>
                    <a:lnTo>
                      <a:pt x="480" y="421"/>
                    </a:lnTo>
                    <a:lnTo>
                      <a:pt x="531" y="271"/>
                    </a:lnTo>
                    <a:lnTo>
                      <a:pt x="592" y="142"/>
                    </a:lnTo>
                    <a:lnTo>
                      <a:pt x="614" y="81"/>
                    </a:lnTo>
                    <a:lnTo>
                      <a:pt x="456" y="33"/>
                    </a:lnTo>
                    <a:lnTo>
                      <a:pt x="289" y="0"/>
                    </a:lnTo>
                    <a:lnTo>
                      <a:pt x="102" y="10"/>
                    </a:lnTo>
                    <a:lnTo>
                      <a:pt x="12" y="40"/>
                    </a:lnTo>
                    <a:lnTo>
                      <a:pt x="0" y="95"/>
                    </a:lnTo>
                    <a:lnTo>
                      <a:pt x="48" y="274"/>
                    </a:lnTo>
                    <a:lnTo>
                      <a:pt x="48" y="425"/>
                    </a:lnTo>
                    <a:lnTo>
                      <a:pt x="44" y="540"/>
                    </a:lnTo>
                    <a:lnTo>
                      <a:pt x="38" y="574"/>
                    </a:lnTo>
                    <a:lnTo>
                      <a:pt x="273" y="577"/>
                    </a:lnTo>
                    <a:lnTo>
                      <a:pt x="408" y="645"/>
                    </a:lnTo>
                    <a:lnTo>
                      <a:pt x="453" y="649"/>
                    </a:lnTo>
                    <a:close/>
                  </a:path>
                </a:pathLst>
              </a:custGeom>
              <a:blipFill rotWithShape="0">
                <a:blip r:embed="rId1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098800" y="5008680"/>
                <a:ext cx="154440" cy="79560"/>
              </a:xfrm>
              <a:custGeom>
                <a:avLst/>
                <a:gdLst/>
                <a:ahLst/>
                <a:rect l="0" t="0" r="r" b="b"/>
                <a:pathLst>
                  <a:path w="429" h="221">
                    <a:moveTo>
                      <a:pt x="29" y="0"/>
                    </a:moveTo>
                    <a:lnTo>
                      <a:pt x="154" y="0"/>
                    </a:lnTo>
                    <a:lnTo>
                      <a:pt x="278" y="29"/>
                    </a:lnTo>
                    <a:lnTo>
                      <a:pt x="429" y="100"/>
                    </a:lnTo>
                    <a:lnTo>
                      <a:pt x="420" y="221"/>
                    </a:lnTo>
                    <a:lnTo>
                      <a:pt x="263" y="143"/>
                    </a:lnTo>
                    <a:lnTo>
                      <a:pt x="133" y="100"/>
                    </a:lnTo>
                    <a:lnTo>
                      <a:pt x="0" y="104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052720" y="4854600"/>
                <a:ext cx="251280" cy="244800"/>
              </a:xfrm>
              <a:custGeom>
                <a:avLst/>
                <a:gdLst/>
                <a:ahLst/>
                <a:rect l="0" t="0" r="r" b="b"/>
                <a:pathLst>
                  <a:path w="698" h="680">
                    <a:moveTo>
                      <a:pt x="47" y="533"/>
                    </a:moveTo>
                    <a:lnTo>
                      <a:pt x="60" y="413"/>
                    </a:lnTo>
                    <a:lnTo>
                      <a:pt x="54" y="306"/>
                    </a:lnTo>
                    <a:lnTo>
                      <a:pt x="31" y="213"/>
                    </a:lnTo>
                    <a:lnTo>
                      <a:pt x="0" y="119"/>
                    </a:lnTo>
                    <a:lnTo>
                      <a:pt x="6" y="66"/>
                    </a:lnTo>
                    <a:lnTo>
                      <a:pt x="28" y="26"/>
                    </a:lnTo>
                    <a:lnTo>
                      <a:pt x="104" y="13"/>
                    </a:lnTo>
                    <a:lnTo>
                      <a:pt x="252" y="0"/>
                    </a:lnTo>
                    <a:lnTo>
                      <a:pt x="417" y="16"/>
                    </a:lnTo>
                    <a:lnTo>
                      <a:pt x="430" y="26"/>
                    </a:lnTo>
                    <a:lnTo>
                      <a:pt x="574" y="56"/>
                    </a:lnTo>
                    <a:lnTo>
                      <a:pt x="692" y="96"/>
                    </a:lnTo>
                    <a:lnTo>
                      <a:pt x="698" y="119"/>
                    </a:lnTo>
                    <a:lnTo>
                      <a:pt x="679" y="169"/>
                    </a:lnTo>
                    <a:lnTo>
                      <a:pt x="606" y="292"/>
                    </a:lnTo>
                    <a:lnTo>
                      <a:pt x="571" y="390"/>
                    </a:lnTo>
                    <a:lnTo>
                      <a:pt x="546" y="500"/>
                    </a:lnTo>
                    <a:lnTo>
                      <a:pt x="533" y="593"/>
                    </a:lnTo>
                    <a:lnTo>
                      <a:pt x="530" y="660"/>
                    </a:lnTo>
                    <a:lnTo>
                      <a:pt x="533" y="680"/>
                    </a:lnTo>
                    <a:lnTo>
                      <a:pt x="484" y="663"/>
                    </a:lnTo>
                    <a:lnTo>
                      <a:pt x="487" y="543"/>
                    </a:lnTo>
                    <a:lnTo>
                      <a:pt x="516" y="423"/>
                    </a:lnTo>
                    <a:lnTo>
                      <a:pt x="546" y="309"/>
                    </a:lnTo>
                    <a:lnTo>
                      <a:pt x="596" y="203"/>
                    </a:lnTo>
                    <a:lnTo>
                      <a:pt x="635" y="123"/>
                    </a:lnTo>
                    <a:lnTo>
                      <a:pt x="539" y="89"/>
                    </a:lnTo>
                    <a:lnTo>
                      <a:pt x="398" y="69"/>
                    </a:lnTo>
                    <a:lnTo>
                      <a:pt x="258" y="46"/>
                    </a:lnTo>
                    <a:lnTo>
                      <a:pt x="143" y="63"/>
                    </a:lnTo>
                    <a:lnTo>
                      <a:pt x="66" y="93"/>
                    </a:lnTo>
                    <a:lnTo>
                      <a:pt x="66" y="133"/>
                    </a:lnTo>
                    <a:lnTo>
                      <a:pt x="95" y="239"/>
                    </a:lnTo>
                    <a:lnTo>
                      <a:pt x="120" y="347"/>
                    </a:lnTo>
                    <a:lnTo>
                      <a:pt x="108" y="477"/>
                    </a:lnTo>
                    <a:lnTo>
                      <a:pt x="98" y="570"/>
                    </a:lnTo>
                    <a:lnTo>
                      <a:pt x="47" y="573"/>
                    </a:lnTo>
                    <a:lnTo>
                      <a:pt x="47" y="5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036880" y="5041800"/>
                <a:ext cx="259200" cy="113040"/>
              </a:xfrm>
              <a:custGeom>
                <a:avLst/>
                <a:gdLst/>
                <a:ahLst/>
                <a:rect l="0" t="0" r="r" b="b"/>
                <a:pathLst>
                  <a:path w="720" h="314">
                    <a:moveTo>
                      <a:pt x="87" y="29"/>
                    </a:moveTo>
                    <a:lnTo>
                      <a:pt x="210" y="0"/>
                    </a:lnTo>
                    <a:lnTo>
                      <a:pt x="315" y="16"/>
                    </a:lnTo>
                    <a:lnTo>
                      <a:pt x="454" y="56"/>
                    </a:lnTo>
                    <a:lnTo>
                      <a:pt x="552" y="99"/>
                    </a:lnTo>
                    <a:lnTo>
                      <a:pt x="653" y="153"/>
                    </a:lnTo>
                    <a:lnTo>
                      <a:pt x="712" y="214"/>
                    </a:lnTo>
                    <a:lnTo>
                      <a:pt x="717" y="230"/>
                    </a:lnTo>
                    <a:lnTo>
                      <a:pt x="720" y="267"/>
                    </a:lnTo>
                    <a:lnTo>
                      <a:pt x="700" y="307"/>
                    </a:lnTo>
                    <a:lnTo>
                      <a:pt x="656" y="314"/>
                    </a:lnTo>
                    <a:lnTo>
                      <a:pt x="592" y="277"/>
                    </a:lnTo>
                    <a:lnTo>
                      <a:pt x="478" y="197"/>
                    </a:lnTo>
                    <a:lnTo>
                      <a:pt x="361" y="153"/>
                    </a:lnTo>
                    <a:lnTo>
                      <a:pt x="248" y="133"/>
                    </a:lnTo>
                    <a:lnTo>
                      <a:pt x="165" y="139"/>
                    </a:lnTo>
                    <a:lnTo>
                      <a:pt x="64" y="143"/>
                    </a:lnTo>
                    <a:lnTo>
                      <a:pt x="11" y="136"/>
                    </a:lnTo>
                    <a:lnTo>
                      <a:pt x="0" y="93"/>
                    </a:lnTo>
                    <a:lnTo>
                      <a:pt x="37" y="59"/>
                    </a:lnTo>
                    <a:lnTo>
                      <a:pt x="87" y="29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023920" y="5032440"/>
                <a:ext cx="284400" cy="135360"/>
              </a:xfrm>
              <a:custGeom>
                <a:avLst/>
                <a:gdLst/>
                <a:ahLst/>
                <a:rect l="0" t="0" r="r" b="b"/>
                <a:pathLst>
                  <a:path w="790" h="376">
                    <a:moveTo>
                      <a:pt x="661" y="116"/>
                    </a:moveTo>
                    <a:lnTo>
                      <a:pt x="666" y="125"/>
                    </a:lnTo>
                    <a:lnTo>
                      <a:pt x="750" y="191"/>
                    </a:lnTo>
                    <a:lnTo>
                      <a:pt x="790" y="267"/>
                    </a:lnTo>
                    <a:lnTo>
                      <a:pt x="775" y="330"/>
                    </a:lnTo>
                    <a:lnTo>
                      <a:pt x="738" y="366"/>
                    </a:lnTo>
                    <a:lnTo>
                      <a:pt x="698" y="376"/>
                    </a:lnTo>
                    <a:lnTo>
                      <a:pt x="661" y="357"/>
                    </a:lnTo>
                    <a:lnTo>
                      <a:pt x="603" y="320"/>
                    </a:lnTo>
                    <a:lnTo>
                      <a:pt x="491" y="254"/>
                    </a:lnTo>
                    <a:lnTo>
                      <a:pt x="397" y="208"/>
                    </a:lnTo>
                    <a:lnTo>
                      <a:pt x="292" y="188"/>
                    </a:lnTo>
                    <a:lnTo>
                      <a:pt x="212" y="194"/>
                    </a:lnTo>
                    <a:lnTo>
                      <a:pt x="129" y="198"/>
                    </a:lnTo>
                    <a:lnTo>
                      <a:pt x="68" y="201"/>
                    </a:lnTo>
                    <a:lnTo>
                      <a:pt x="14" y="162"/>
                    </a:lnTo>
                    <a:lnTo>
                      <a:pt x="0" y="119"/>
                    </a:lnTo>
                    <a:lnTo>
                      <a:pt x="20" y="72"/>
                    </a:lnTo>
                    <a:lnTo>
                      <a:pt x="83" y="36"/>
                    </a:lnTo>
                    <a:lnTo>
                      <a:pt x="175" y="0"/>
                    </a:lnTo>
                    <a:lnTo>
                      <a:pt x="232" y="9"/>
                    </a:lnTo>
                    <a:lnTo>
                      <a:pt x="221" y="52"/>
                    </a:lnTo>
                    <a:lnTo>
                      <a:pt x="134" y="62"/>
                    </a:lnTo>
                    <a:lnTo>
                      <a:pt x="68" y="92"/>
                    </a:lnTo>
                    <a:lnTo>
                      <a:pt x="48" y="112"/>
                    </a:lnTo>
                    <a:lnTo>
                      <a:pt x="54" y="139"/>
                    </a:lnTo>
                    <a:lnTo>
                      <a:pt x="80" y="155"/>
                    </a:lnTo>
                    <a:lnTo>
                      <a:pt x="143" y="152"/>
                    </a:lnTo>
                    <a:lnTo>
                      <a:pt x="232" y="142"/>
                    </a:lnTo>
                    <a:lnTo>
                      <a:pt x="309" y="139"/>
                    </a:lnTo>
                    <a:lnTo>
                      <a:pt x="405" y="152"/>
                    </a:lnTo>
                    <a:lnTo>
                      <a:pt x="506" y="194"/>
                    </a:lnTo>
                    <a:lnTo>
                      <a:pt x="603" y="254"/>
                    </a:lnTo>
                    <a:lnTo>
                      <a:pt x="675" y="307"/>
                    </a:lnTo>
                    <a:lnTo>
                      <a:pt x="712" y="314"/>
                    </a:lnTo>
                    <a:lnTo>
                      <a:pt x="732" y="294"/>
                    </a:lnTo>
                    <a:lnTo>
                      <a:pt x="738" y="267"/>
                    </a:lnTo>
                    <a:lnTo>
                      <a:pt x="727" y="234"/>
                    </a:lnTo>
                    <a:lnTo>
                      <a:pt x="687" y="191"/>
                    </a:lnTo>
                    <a:lnTo>
                      <a:pt x="618" y="142"/>
                    </a:lnTo>
                    <a:lnTo>
                      <a:pt x="514" y="99"/>
                    </a:lnTo>
                    <a:lnTo>
                      <a:pt x="408" y="62"/>
                    </a:lnTo>
                    <a:lnTo>
                      <a:pt x="309" y="42"/>
                    </a:lnTo>
                    <a:lnTo>
                      <a:pt x="223" y="49"/>
                    </a:lnTo>
                    <a:lnTo>
                      <a:pt x="241" y="6"/>
                    </a:lnTo>
                    <a:lnTo>
                      <a:pt x="335" y="6"/>
                    </a:lnTo>
                    <a:lnTo>
                      <a:pt x="434" y="23"/>
                    </a:lnTo>
                    <a:lnTo>
                      <a:pt x="506" y="46"/>
                    </a:lnTo>
                    <a:lnTo>
                      <a:pt x="618" y="106"/>
                    </a:lnTo>
                    <a:lnTo>
                      <a:pt x="661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1746360" y="5330880"/>
              <a:ext cx="601920" cy="689400"/>
            </a:xfrm>
            <a:custGeom>
              <a:avLst/>
              <a:gdLst/>
              <a:ahLst/>
              <a:rect l="0" t="0" r="r" b="b"/>
              <a:pathLst>
                <a:path w="1672" h="1915">
                  <a:moveTo>
                    <a:pt x="365" y="133"/>
                  </a:moveTo>
                  <a:lnTo>
                    <a:pt x="431" y="78"/>
                  </a:lnTo>
                  <a:lnTo>
                    <a:pt x="502" y="39"/>
                  </a:lnTo>
                  <a:lnTo>
                    <a:pt x="579" y="27"/>
                  </a:lnTo>
                  <a:lnTo>
                    <a:pt x="609" y="36"/>
                  </a:lnTo>
                  <a:lnTo>
                    <a:pt x="627" y="60"/>
                  </a:lnTo>
                  <a:lnTo>
                    <a:pt x="600" y="93"/>
                  </a:lnTo>
                  <a:lnTo>
                    <a:pt x="532" y="112"/>
                  </a:lnTo>
                  <a:lnTo>
                    <a:pt x="440" y="151"/>
                  </a:lnTo>
                  <a:lnTo>
                    <a:pt x="392" y="202"/>
                  </a:lnTo>
                  <a:lnTo>
                    <a:pt x="344" y="275"/>
                  </a:lnTo>
                  <a:lnTo>
                    <a:pt x="327" y="342"/>
                  </a:lnTo>
                  <a:lnTo>
                    <a:pt x="327" y="354"/>
                  </a:lnTo>
                  <a:lnTo>
                    <a:pt x="324" y="439"/>
                  </a:lnTo>
                  <a:lnTo>
                    <a:pt x="336" y="527"/>
                  </a:lnTo>
                  <a:lnTo>
                    <a:pt x="362" y="615"/>
                  </a:lnTo>
                  <a:lnTo>
                    <a:pt x="392" y="664"/>
                  </a:lnTo>
                  <a:lnTo>
                    <a:pt x="440" y="715"/>
                  </a:lnTo>
                  <a:lnTo>
                    <a:pt x="493" y="755"/>
                  </a:lnTo>
                  <a:lnTo>
                    <a:pt x="505" y="788"/>
                  </a:lnTo>
                  <a:lnTo>
                    <a:pt x="484" y="806"/>
                  </a:lnTo>
                  <a:lnTo>
                    <a:pt x="469" y="815"/>
                  </a:lnTo>
                  <a:lnTo>
                    <a:pt x="446" y="812"/>
                  </a:lnTo>
                  <a:lnTo>
                    <a:pt x="383" y="779"/>
                  </a:lnTo>
                  <a:lnTo>
                    <a:pt x="333" y="745"/>
                  </a:lnTo>
                  <a:lnTo>
                    <a:pt x="270" y="758"/>
                  </a:lnTo>
                  <a:lnTo>
                    <a:pt x="196" y="821"/>
                  </a:lnTo>
                  <a:lnTo>
                    <a:pt x="127" y="903"/>
                  </a:lnTo>
                  <a:lnTo>
                    <a:pt x="89" y="985"/>
                  </a:lnTo>
                  <a:lnTo>
                    <a:pt x="65" y="1079"/>
                  </a:lnTo>
                  <a:lnTo>
                    <a:pt x="56" y="1185"/>
                  </a:lnTo>
                  <a:lnTo>
                    <a:pt x="65" y="1284"/>
                  </a:lnTo>
                  <a:lnTo>
                    <a:pt x="83" y="1400"/>
                  </a:lnTo>
                  <a:lnTo>
                    <a:pt x="113" y="1507"/>
                  </a:lnTo>
                  <a:lnTo>
                    <a:pt x="154" y="1588"/>
                  </a:lnTo>
                  <a:lnTo>
                    <a:pt x="205" y="1631"/>
                  </a:lnTo>
                  <a:lnTo>
                    <a:pt x="276" y="1688"/>
                  </a:lnTo>
                  <a:lnTo>
                    <a:pt x="362" y="1746"/>
                  </a:lnTo>
                  <a:lnTo>
                    <a:pt x="449" y="1791"/>
                  </a:lnTo>
                  <a:lnTo>
                    <a:pt x="544" y="1828"/>
                  </a:lnTo>
                  <a:lnTo>
                    <a:pt x="639" y="1855"/>
                  </a:lnTo>
                  <a:lnTo>
                    <a:pt x="749" y="1858"/>
                  </a:lnTo>
                  <a:lnTo>
                    <a:pt x="890" y="1855"/>
                  </a:lnTo>
                  <a:lnTo>
                    <a:pt x="1023" y="1840"/>
                  </a:lnTo>
                  <a:lnTo>
                    <a:pt x="1139" y="1812"/>
                  </a:lnTo>
                  <a:lnTo>
                    <a:pt x="1235" y="1770"/>
                  </a:lnTo>
                  <a:lnTo>
                    <a:pt x="1339" y="1722"/>
                  </a:lnTo>
                  <a:lnTo>
                    <a:pt x="1431" y="1655"/>
                  </a:lnTo>
                  <a:lnTo>
                    <a:pt x="1502" y="1579"/>
                  </a:lnTo>
                  <a:lnTo>
                    <a:pt x="1550" y="1497"/>
                  </a:lnTo>
                  <a:lnTo>
                    <a:pt x="1580" y="1390"/>
                  </a:lnTo>
                  <a:lnTo>
                    <a:pt x="1597" y="1281"/>
                  </a:lnTo>
                  <a:lnTo>
                    <a:pt x="1606" y="1188"/>
                  </a:lnTo>
                  <a:lnTo>
                    <a:pt x="1597" y="1094"/>
                  </a:lnTo>
                  <a:lnTo>
                    <a:pt x="1571" y="1015"/>
                  </a:lnTo>
                  <a:lnTo>
                    <a:pt x="1541" y="939"/>
                  </a:lnTo>
                  <a:lnTo>
                    <a:pt x="1496" y="873"/>
                  </a:lnTo>
                  <a:lnTo>
                    <a:pt x="1446" y="803"/>
                  </a:lnTo>
                  <a:lnTo>
                    <a:pt x="1419" y="773"/>
                  </a:lnTo>
                  <a:lnTo>
                    <a:pt x="1380" y="730"/>
                  </a:lnTo>
                  <a:lnTo>
                    <a:pt x="1336" y="706"/>
                  </a:lnTo>
                  <a:lnTo>
                    <a:pt x="1318" y="673"/>
                  </a:lnTo>
                  <a:lnTo>
                    <a:pt x="1333" y="649"/>
                  </a:lnTo>
                  <a:lnTo>
                    <a:pt x="1365" y="615"/>
                  </a:lnTo>
                  <a:lnTo>
                    <a:pt x="1401" y="555"/>
                  </a:lnTo>
                  <a:lnTo>
                    <a:pt x="1410" y="482"/>
                  </a:lnTo>
                  <a:lnTo>
                    <a:pt x="1413" y="393"/>
                  </a:lnTo>
                  <a:lnTo>
                    <a:pt x="1392" y="308"/>
                  </a:lnTo>
                  <a:lnTo>
                    <a:pt x="1371" y="257"/>
                  </a:lnTo>
                  <a:lnTo>
                    <a:pt x="1336" y="202"/>
                  </a:lnTo>
                  <a:lnTo>
                    <a:pt x="1282" y="160"/>
                  </a:lnTo>
                  <a:lnTo>
                    <a:pt x="1252" y="124"/>
                  </a:lnTo>
                  <a:lnTo>
                    <a:pt x="1193" y="93"/>
                  </a:lnTo>
                  <a:lnTo>
                    <a:pt x="1139" y="78"/>
                  </a:lnTo>
                  <a:lnTo>
                    <a:pt x="1092" y="66"/>
                  </a:lnTo>
                  <a:lnTo>
                    <a:pt x="1098" y="45"/>
                  </a:lnTo>
                  <a:lnTo>
                    <a:pt x="1163" y="18"/>
                  </a:lnTo>
                  <a:lnTo>
                    <a:pt x="1196" y="0"/>
                  </a:lnTo>
                  <a:lnTo>
                    <a:pt x="1276" y="60"/>
                  </a:lnTo>
                  <a:lnTo>
                    <a:pt x="1354" y="124"/>
                  </a:lnTo>
                  <a:lnTo>
                    <a:pt x="1404" y="190"/>
                  </a:lnTo>
                  <a:lnTo>
                    <a:pt x="1446" y="269"/>
                  </a:lnTo>
                  <a:lnTo>
                    <a:pt x="1470" y="366"/>
                  </a:lnTo>
                  <a:lnTo>
                    <a:pt x="1478" y="439"/>
                  </a:lnTo>
                  <a:lnTo>
                    <a:pt x="1476" y="524"/>
                  </a:lnTo>
                  <a:lnTo>
                    <a:pt x="1452" y="597"/>
                  </a:lnTo>
                  <a:lnTo>
                    <a:pt x="1422" y="652"/>
                  </a:lnTo>
                  <a:lnTo>
                    <a:pt x="1419" y="679"/>
                  </a:lnTo>
                  <a:lnTo>
                    <a:pt x="1440" y="706"/>
                  </a:lnTo>
                  <a:lnTo>
                    <a:pt x="1508" y="779"/>
                  </a:lnTo>
                  <a:lnTo>
                    <a:pt x="1571" y="870"/>
                  </a:lnTo>
                  <a:lnTo>
                    <a:pt x="1615" y="948"/>
                  </a:lnTo>
                  <a:lnTo>
                    <a:pt x="1654" y="1027"/>
                  </a:lnTo>
                  <a:lnTo>
                    <a:pt x="1672" y="1127"/>
                  </a:lnTo>
                  <a:lnTo>
                    <a:pt x="1672" y="1224"/>
                  </a:lnTo>
                  <a:lnTo>
                    <a:pt x="1657" y="1321"/>
                  </a:lnTo>
                  <a:lnTo>
                    <a:pt x="1627" y="1437"/>
                  </a:lnTo>
                  <a:lnTo>
                    <a:pt x="1597" y="1540"/>
                  </a:lnTo>
                  <a:lnTo>
                    <a:pt x="1544" y="1628"/>
                  </a:lnTo>
                  <a:lnTo>
                    <a:pt x="1493" y="1688"/>
                  </a:lnTo>
                  <a:lnTo>
                    <a:pt x="1419" y="1755"/>
                  </a:lnTo>
                  <a:lnTo>
                    <a:pt x="1327" y="1803"/>
                  </a:lnTo>
                  <a:lnTo>
                    <a:pt x="1226" y="1846"/>
                  </a:lnTo>
                  <a:lnTo>
                    <a:pt x="1136" y="1876"/>
                  </a:lnTo>
                  <a:lnTo>
                    <a:pt x="1041" y="1903"/>
                  </a:lnTo>
                  <a:lnTo>
                    <a:pt x="896" y="1912"/>
                  </a:lnTo>
                  <a:lnTo>
                    <a:pt x="734" y="1915"/>
                  </a:lnTo>
                  <a:lnTo>
                    <a:pt x="591" y="1915"/>
                  </a:lnTo>
                  <a:lnTo>
                    <a:pt x="469" y="1879"/>
                  </a:lnTo>
                  <a:lnTo>
                    <a:pt x="344" y="1803"/>
                  </a:lnTo>
                  <a:lnTo>
                    <a:pt x="214" y="1722"/>
                  </a:lnTo>
                  <a:lnTo>
                    <a:pt x="118" y="1637"/>
                  </a:lnTo>
                  <a:lnTo>
                    <a:pt x="56" y="1552"/>
                  </a:lnTo>
                  <a:lnTo>
                    <a:pt x="32" y="1437"/>
                  </a:lnTo>
                  <a:lnTo>
                    <a:pt x="5" y="1324"/>
                  </a:lnTo>
                  <a:lnTo>
                    <a:pt x="0" y="1224"/>
                  </a:lnTo>
                  <a:lnTo>
                    <a:pt x="0" y="1103"/>
                  </a:lnTo>
                  <a:lnTo>
                    <a:pt x="35" y="988"/>
                  </a:lnTo>
                  <a:lnTo>
                    <a:pt x="65" y="897"/>
                  </a:lnTo>
                  <a:lnTo>
                    <a:pt x="139" y="785"/>
                  </a:lnTo>
                  <a:lnTo>
                    <a:pt x="231" y="700"/>
                  </a:lnTo>
                  <a:lnTo>
                    <a:pt x="270" y="652"/>
                  </a:lnTo>
                  <a:lnTo>
                    <a:pt x="279" y="603"/>
                  </a:lnTo>
                  <a:lnTo>
                    <a:pt x="279" y="533"/>
                  </a:lnTo>
                  <a:lnTo>
                    <a:pt x="258" y="448"/>
                  </a:lnTo>
                  <a:lnTo>
                    <a:pt x="258" y="357"/>
                  </a:lnTo>
                  <a:lnTo>
                    <a:pt x="276" y="269"/>
                  </a:lnTo>
                  <a:lnTo>
                    <a:pt x="306" y="202"/>
                  </a:lnTo>
                  <a:lnTo>
                    <a:pt x="339" y="163"/>
                  </a:lnTo>
                  <a:lnTo>
                    <a:pt x="3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5029200" y="5092560"/>
            <a:ext cx="2728800" cy="768600"/>
            <a:chOff x="5029200" y="5092560"/>
            <a:chExt cx="2728800" cy="768600"/>
          </a:xfrm>
        </p:grpSpPr>
        <p:pic>
          <p:nvPicPr>
            <p:cNvPr id="748" name="" descr=""/>
            <p:cNvPicPr/>
            <p:nvPr/>
          </p:nvPicPr>
          <p:blipFill>
            <a:blip r:embed="rId4"/>
            <a:stretch/>
          </p:blipFill>
          <p:spPr>
            <a:xfrm>
              <a:off x="5029200" y="5207040"/>
              <a:ext cx="35388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" descr=""/>
            <p:cNvPicPr/>
            <p:nvPr/>
          </p:nvPicPr>
          <p:blipFill>
            <a:blip r:embed="rId5"/>
            <a:stretch/>
          </p:blipFill>
          <p:spPr>
            <a:xfrm>
              <a:off x="5499000" y="5194440"/>
              <a:ext cx="35388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" descr=""/>
            <p:cNvPicPr/>
            <p:nvPr/>
          </p:nvPicPr>
          <p:blipFill>
            <a:blip r:embed="rId6"/>
            <a:stretch/>
          </p:blipFill>
          <p:spPr>
            <a:xfrm>
              <a:off x="5932440" y="5168880"/>
              <a:ext cx="35388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" descr=""/>
            <p:cNvPicPr/>
            <p:nvPr/>
          </p:nvPicPr>
          <p:blipFill>
            <a:blip r:embed="rId7"/>
            <a:stretch/>
          </p:blipFill>
          <p:spPr>
            <a:xfrm>
              <a:off x="6324480" y="5181480"/>
              <a:ext cx="35388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" descr=""/>
            <p:cNvPicPr/>
            <p:nvPr/>
          </p:nvPicPr>
          <p:blipFill>
            <a:blip r:embed="rId8"/>
            <a:stretch/>
          </p:blipFill>
          <p:spPr>
            <a:xfrm>
              <a:off x="7404120" y="5092560"/>
              <a:ext cx="353880" cy="65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"/>
          <p:cNvSpPr/>
          <p:nvPr/>
        </p:nvSpPr>
        <p:spPr>
          <a:xfrm>
            <a:off x="3809880" y="2908440"/>
            <a:ext cx="584640" cy="178200"/>
          </a:xfrm>
          <a:custGeom>
            <a:avLst/>
            <a:gdLst/>
            <a:ahLst/>
            <a:rect l="0" t="0" r="r" b="b"/>
            <a:pathLst>
              <a:path w="1624" h="495">
                <a:moveTo>
                  <a:pt x="211" y="247"/>
                </a:moveTo>
                <a:lnTo>
                  <a:pt x="424" y="212"/>
                </a:lnTo>
                <a:lnTo>
                  <a:pt x="530" y="177"/>
                </a:lnTo>
                <a:lnTo>
                  <a:pt x="636" y="177"/>
                </a:lnTo>
                <a:lnTo>
                  <a:pt x="741" y="247"/>
                </a:lnTo>
                <a:lnTo>
                  <a:pt x="847" y="283"/>
                </a:lnTo>
                <a:lnTo>
                  <a:pt x="953" y="283"/>
                </a:lnTo>
                <a:lnTo>
                  <a:pt x="1059" y="318"/>
                </a:lnTo>
                <a:lnTo>
                  <a:pt x="1165" y="390"/>
                </a:lnTo>
                <a:lnTo>
                  <a:pt x="1272" y="390"/>
                </a:lnTo>
                <a:lnTo>
                  <a:pt x="1377" y="460"/>
                </a:lnTo>
                <a:lnTo>
                  <a:pt x="1483" y="495"/>
                </a:lnTo>
                <a:lnTo>
                  <a:pt x="1624" y="460"/>
                </a:lnTo>
                <a:lnTo>
                  <a:pt x="1624" y="353"/>
                </a:lnTo>
                <a:lnTo>
                  <a:pt x="1518" y="247"/>
                </a:lnTo>
                <a:lnTo>
                  <a:pt x="1413" y="212"/>
                </a:lnTo>
                <a:lnTo>
                  <a:pt x="1272" y="105"/>
                </a:lnTo>
                <a:lnTo>
                  <a:pt x="1165" y="35"/>
                </a:lnTo>
                <a:lnTo>
                  <a:pt x="1059" y="35"/>
                </a:lnTo>
                <a:lnTo>
                  <a:pt x="953" y="0"/>
                </a:lnTo>
                <a:lnTo>
                  <a:pt x="671" y="0"/>
                </a:lnTo>
                <a:lnTo>
                  <a:pt x="317" y="35"/>
                </a:lnTo>
                <a:lnTo>
                  <a:pt x="211" y="35"/>
                </a:lnTo>
                <a:lnTo>
                  <a:pt x="105" y="70"/>
                </a:lnTo>
                <a:lnTo>
                  <a:pt x="35" y="212"/>
                </a:lnTo>
                <a:lnTo>
                  <a:pt x="0" y="177"/>
                </a:lnTo>
                <a:lnTo>
                  <a:pt x="211" y="24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705720" y="1816200"/>
            <a:ext cx="736920" cy="203400"/>
          </a:xfrm>
          <a:custGeom>
            <a:avLst/>
            <a:gdLst/>
            <a:ahLst/>
            <a:rect l="0" t="0" r="r" b="b"/>
            <a:pathLst>
              <a:path w="2047" h="565">
                <a:moveTo>
                  <a:pt x="176" y="424"/>
                </a:moveTo>
                <a:lnTo>
                  <a:pt x="458" y="389"/>
                </a:lnTo>
                <a:lnTo>
                  <a:pt x="564" y="318"/>
                </a:lnTo>
                <a:lnTo>
                  <a:pt x="670" y="318"/>
                </a:lnTo>
                <a:lnTo>
                  <a:pt x="811" y="353"/>
                </a:lnTo>
                <a:lnTo>
                  <a:pt x="1094" y="389"/>
                </a:lnTo>
                <a:lnTo>
                  <a:pt x="1200" y="424"/>
                </a:lnTo>
                <a:lnTo>
                  <a:pt x="1306" y="494"/>
                </a:lnTo>
                <a:lnTo>
                  <a:pt x="1412" y="494"/>
                </a:lnTo>
                <a:lnTo>
                  <a:pt x="1517" y="565"/>
                </a:lnTo>
                <a:lnTo>
                  <a:pt x="1623" y="565"/>
                </a:lnTo>
                <a:lnTo>
                  <a:pt x="1729" y="494"/>
                </a:lnTo>
                <a:lnTo>
                  <a:pt x="1870" y="494"/>
                </a:lnTo>
                <a:lnTo>
                  <a:pt x="1976" y="494"/>
                </a:lnTo>
                <a:lnTo>
                  <a:pt x="2047" y="389"/>
                </a:lnTo>
                <a:lnTo>
                  <a:pt x="1976" y="283"/>
                </a:lnTo>
                <a:lnTo>
                  <a:pt x="1870" y="283"/>
                </a:lnTo>
                <a:lnTo>
                  <a:pt x="1764" y="283"/>
                </a:lnTo>
                <a:lnTo>
                  <a:pt x="1659" y="283"/>
                </a:lnTo>
                <a:lnTo>
                  <a:pt x="1553" y="283"/>
                </a:lnTo>
                <a:lnTo>
                  <a:pt x="1447" y="211"/>
                </a:lnTo>
                <a:lnTo>
                  <a:pt x="1306" y="141"/>
                </a:lnTo>
                <a:lnTo>
                  <a:pt x="1165" y="141"/>
                </a:lnTo>
                <a:lnTo>
                  <a:pt x="1059" y="70"/>
                </a:lnTo>
                <a:lnTo>
                  <a:pt x="952" y="70"/>
                </a:lnTo>
                <a:lnTo>
                  <a:pt x="846" y="35"/>
                </a:lnTo>
                <a:lnTo>
                  <a:pt x="740" y="0"/>
                </a:lnTo>
                <a:lnTo>
                  <a:pt x="635" y="0"/>
                </a:lnTo>
                <a:lnTo>
                  <a:pt x="529" y="0"/>
                </a:lnTo>
                <a:lnTo>
                  <a:pt x="423" y="0"/>
                </a:lnTo>
                <a:lnTo>
                  <a:pt x="317" y="0"/>
                </a:lnTo>
                <a:lnTo>
                  <a:pt x="211" y="70"/>
                </a:lnTo>
                <a:lnTo>
                  <a:pt x="105" y="141"/>
                </a:lnTo>
                <a:lnTo>
                  <a:pt x="0" y="176"/>
                </a:lnTo>
                <a:lnTo>
                  <a:pt x="0" y="283"/>
                </a:lnTo>
                <a:lnTo>
                  <a:pt x="35" y="389"/>
                </a:lnTo>
                <a:lnTo>
                  <a:pt x="176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1219320" y="3657600"/>
            <a:ext cx="1219680" cy="762480"/>
            <a:chOff x="1219320" y="3657600"/>
            <a:chExt cx="1219680" cy="762480"/>
          </a:xfrm>
        </p:grpSpPr>
        <p:sp>
          <p:nvSpPr>
            <p:cNvPr id="756" name=""/>
            <p:cNvSpPr/>
            <p:nvPr/>
          </p:nvSpPr>
          <p:spPr>
            <a:xfrm>
              <a:off x="1219320" y="3657600"/>
              <a:ext cx="1219680" cy="762480"/>
            </a:xfrm>
            <a:custGeom>
              <a:avLst/>
              <a:gdLst/>
              <a:ahLst/>
              <a:rect l="0" t="0" r="r" b="b"/>
              <a:pathLst>
                <a:path w="3388" h="2118">
                  <a:moveTo>
                    <a:pt x="3388" y="1907"/>
                  </a:moveTo>
                  <a:lnTo>
                    <a:pt x="3388" y="423"/>
                  </a:lnTo>
                  <a:lnTo>
                    <a:pt x="3049" y="211"/>
                  </a:lnTo>
                  <a:lnTo>
                    <a:pt x="2711" y="211"/>
                  </a:lnTo>
                  <a:lnTo>
                    <a:pt x="3049" y="0"/>
                  </a:lnTo>
                  <a:lnTo>
                    <a:pt x="2371" y="211"/>
                  </a:lnTo>
                  <a:lnTo>
                    <a:pt x="338" y="211"/>
                  </a:lnTo>
                  <a:lnTo>
                    <a:pt x="0" y="423"/>
                  </a:lnTo>
                  <a:lnTo>
                    <a:pt x="0" y="1907"/>
                  </a:lnTo>
                  <a:lnTo>
                    <a:pt x="338" y="2118"/>
                  </a:lnTo>
                  <a:lnTo>
                    <a:pt x="3049" y="2118"/>
                  </a:lnTo>
                  <a:lnTo>
                    <a:pt x="3388" y="1907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 txBox="1"/>
            <p:nvPr/>
          </p:nvSpPr>
          <p:spPr>
            <a:xfrm>
              <a:off x="1219320" y="3886200"/>
              <a:ext cx="10666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284720" y="3657600"/>
            <a:ext cx="59040" cy="140040"/>
            <a:chOff x="4284720" y="3657600"/>
            <a:chExt cx="59040" cy="140040"/>
          </a:xfrm>
        </p:grpSpPr>
        <p:sp>
          <p:nvSpPr>
            <p:cNvPr id="759" name=""/>
            <p:cNvSpPr/>
            <p:nvPr/>
          </p:nvSpPr>
          <p:spPr>
            <a:xfrm>
              <a:off x="4284720" y="3657600"/>
              <a:ext cx="59040" cy="140040"/>
            </a:xfrm>
            <a:custGeom>
              <a:avLst/>
              <a:gdLst/>
              <a:ahLst/>
              <a:rect l="0" t="0" r="r" b="b"/>
              <a:pathLst>
                <a:path w="164" h="389">
                  <a:moveTo>
                    <a:pt x="0" y="0"/>
                  </a:moveTo>
                  <a:lnTo>
                    <a:pt x="7" y="196"/>
                  </a:lnTo>
                  <a:lnTo>
                    <a:pt x="30" y="134"/>
                  </a:lnTo>
                  <a:lnTo>
                    <a:pt x="49" y="389"/>
                  </a:lnTo>
                  <a:lnTo>
                    <a:pt x="75" y="141"/>
                  </a:lnTo>
                  <a:lnTo>
                    <a:pt x="91" y="200"/>
                  </a:lnTo>
                  <a:lnTo>
                    <a:pt x="120" y="58"/>
                  </a:lnTo>
                  <a:lnTo>
                    <a:pt x="131" y="119"/>
                  </a:lnTo>
                  <a:lnTo>
                    <a:pt x="164" y="29"/>
                  </a:lnTo>
                  <a:lnTo>
                    <a:pt x="145" y="21"/>
                  </a:lnTo>
                  <a:lnTo>
                    <a:pt x="126" y="18"/>
                  </a:lnTo>
                  <a:lnTo>
                    <a:pt x="114" y="18"/>
                  </a:lnTo>
                  <a:lnTo>
                    <a:pt x="1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290840" y="3659040"/>
              <a:ext cx="35280" cy="82800"/>
            </a:xfrm>
            <a:custGeom>
              <a:avLst/>
              <a:gdLst/>
              <a:ahLst/>
              <a:rect l="0" t="0" r="r" b="b"/>
              <a:pathLst>
                <a:path w="98" h="230">
                  <a:moveTo>
                    <a:pt x="0" y="0"/>
                  </a:moveTo>
                  <a:lnTo>
                    <a:pt x="98" y="14"/>
                  </a:lnTo>
                  <a:lnTo>
                    <a:pt x="72" y="119"/>
                  </a:lnTo>
                  <a:lnTo>
                    <a:pt x="58" y="78"/>
                  </a:lnTo>
                  <a:lnTo>
                    <a:pt x="33" y="230"/>
                  </a:lnTo>
                  <a:lnTo>
                    <a:pt x="22" y="71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3314880" y="4033800"/>
            <a:ext cx="176400" cy="322560"/>
            <a:chOff x="3314880" y="4033800"/>
            <a:chExt cx="176400" cy="322560"/>
          </a:xfrm>
        </p:grpSpPr>
        <p:sp>
          <p:nvSpPr>
            <p:cNvPr id="762" name=""/>
            <p:cNvSpPr/>
            <p:nvPr/>
          </p:nvSpPr>
          <p:spPr>
            <a:xfrm>
              <a:off x="3314880" y="4033800"/>
              <a:ext cx="176400" cy="322560"/>
            </a:xfrm>
            <a:custGeom>
              <a:avLst/>
              <a:gdLst/>
              <a:ahLst/>
              <a:rect l="0" t="0" r="r" b="b"/>
              <a:pathLst>
                <a:path w="490" h="896">
                  <a:moveTo>
                    <a:pt x="0" y="0"/>
                  </a:moveTo>
                  <a:lnTo>
                    <a:pt x="21" y="452"/>
                  </a:lnTo>
                  <a:lnTo>
                    <a:pt x="92" y="309"/>
                  </a:lnTo>
                  <a:lnTo>
                    <a:pt x="147" y="896"/>
                  </a:lnTo>
                  <a:lnTo>
                    <a:pt x="227" y="326"/>
                  </a:lnTo>
                  <a:lnTo>
                    <a:pt x="271" y="461"/>
                  </a:lnTo>
                  <a:lnTo>
                    <a:pt x="359" y="133"/>
                  </a:lnTo>
                  <a:lnTo>
                    <a:pt x="393" y="276"/>
                  </a:lnTo>
                  <a:lnTo>
                    <a:pt x="490" y="66"/>
                  </a:lnTo>
                  <a:lnTo>
                    <a:pt x="435" y="50"/>
                  </a:lnTo>
                  <a:lnTo>
                    <a:pt x="376" y="41"/>
                  </a:lnTo>
                  <a:lnTo>
                    <a:pt x="342" y="41"/>
                  </a:lnTo>
                  <a:lnTo>
                    <a:pt x="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332160" y="4037040"/>
              <a:ext cx="106560" cy="192600"/>
            </a:xfrm>
            <a:custGeom>
              <a:avLst/>
              <a:gdLst/>
              <a:ahLst/>
              <a:rect l="0" t="0" r="r" b="b"/>
              <a:pathLst>
                <a:path w="296" h="535">
                  <a:moveTo>
                    <a:pt x="0" y="0"/>
                  </a:moveTo>
                  <a:lnTo>
                    <a:pt x="296" y="33"/>
                  </a:lnTo>
                  <a:lnTo>
                    <a:pt x="219" y="276"/>
                  </a:lnTo>
                  <a:lnTo>
                    <a:pt x="176" y="184"/>
                  </a:lnTo>
                  <a:lnTo>
                    <a:pt x="102" y="535"/>
                  </a:lnTo>
                  <a:lnTo>
                    <a:pt x="68" y="167"/>
                  </a:lnTo>
                  <a:lnTo>
                    <a:pt x="0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2976480" y="4516560"/>
            <a:ext cx="224280" cy="437040"/>
            <a:chOff x="2976480" y="4516560"/>
            <a:chExt cx="224280" cy="437040"/>
          </a:xfrm>
        </p:grpSpPr>
        <p:sp>
          <p:nvSpPr>
            <p:cNvPr id="765" name=""/>
            <p:cNvSpPr/>
            <p:nvPr/>
          </p:nvSpPr>
          <p:spPr>
            <a:xfrm>
              <a:off x="2976480" y="4516560"/>
              <a:ext cx="224280" cy="437040"/>
            </a:xfrm>
            <a:custGeom>
              <a:avLst/>
              <a:gdLst/>
              <a:ahLst/>
              <a:rect l="0" t="0" r="r" b="b"/>
              <a:pathLst>
                <a:path w="623" h="1214">
                  <a:moveTo>
                    <a:pt x="0" y="0"/>
                  </a:moveTo>
                  <a:lnTo>
                    <a:pt x="26" y="613"/>
                  </a:lnTo>
                  <a:lnTo>
                    <a:pt x="117" y="420"/>
                  </a:lnTo>
                  <a:lnTo>
                    <a:pt x="188" y="1214"/>
                  </a:lnTo>
                  <a:lnTo>
                    <a:pt x="290" y="443"/>
                  </a:lnTo>
                  <a:lnTo>
                    <a:pt x="344" y="624"/>
                  </a:lnTo>
                  <a:lnTo>
                    <a:pt x="456" y="181"/>
                  </a:lnTo>
                  <a:lnTo>
                    <a:pt x="500" y="375"/>
                  </a:lnTo>
                  <a:lnTo>
                    <a:pt x="623" y="90"/>
                  </a:lnTo>
                  <a:lnTo>
                    <a:pt x="554" y="67"/>
                  </a:lnTo>
                  <a:lnTo>
                    <a:pt x="479" y="56"/>
                  </a:lnTo>
                  <a:lnTo>
                    <a:pt x="435" y="56"/>
                  </a:lnTo>
                  <a:lnTo>
                    <a:pt x="64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00240" y="4521240"/>
              <a:ext cx="132120" cy="260640"/>
            </a:xfrm>
            <a:custGeom>
              <a:avLst/>
              <a:gdLst/>
              <a:ahLst/>
              <a:rect l="0" t="0" r="r" b="b"/>
              <a:pathLst>
                <a:path w="367" h="724">
                  <a:moveTo>
                    <a:pt x="0" y="0"/>
                  </a:moveTo>
                  <a:lnTo>
                    <a:pt x="367" y="45"/>
                  </a:lnTo>
                  <a:lnTo>
                    <a:pt x="271" y="373"/>
                  </a:lnTo>
                  <a:lnTo>
                    <a:pt x="218" y="248"/>
                  </a:lnTo>
                  <a:lnTo>
                    <a:pt x="127" y="724"/>
                  </a:lnTo>
                  <a:lnTo>
                    <a:pt x="84" y="225"/>
                  </a:lnTo>
                  <a:lnTo>
                    <a:pt x="0" y="3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28720" y="2387520"/>
            <a:ext cx="2139120" cy="3923280"/>
            <a:chOff x="2628720" y="2387520"/>
            <a:chExt cx="2139120" cy="3923280"/>
          </a:xfrm>
        </p:grpSpPr>
        <p:sp>
          <p:nvSpPr>
            <p:cNvPr id="768" name=""/>
            <p:cNvSpPr/>
            <p:nvPr/>
          </p:nvSpPr>
          <p:spPr>
            <a:xfrm>
              <a:off x="2727360" y="3784680"/>
              <a:ext cx="1020960" cy="1035360"/>
            </a:xfrm>
            <a:custGeom>
              <a:avLst/>
              <a:gdLst/>
              <a:ahLst/>
              <a:rect l="0" t="0" r="r" b="b"/>
              <a:pathLst>
                <a:path w="2836" h="2876">
                  <a:moveTo>
                    <a:pt x="2442" y="181"/>
                  </a:moveTo>
                  <a:lnTo>
                    <a:pt x="2273" y="58"/>
                  </a:lnTo>
                  <a:lnTo>
                    <a:pt x="1949" y="0"/>
                  </a:lnTo>
                  <a:lnTo>
                    <a:pt x="1549" y="213"/>
                  </a:lnTo>
                  <a:lnTo>
                    <a:pt x="956" y="453"/>
                  </a:lnTo>
                  <a:lnTo>
                    <a:pt x="498" y="874"/>
                  </a:lnTo>
                  <a:lnTo>
                    <a:pt x="133" y="1392"/>
                  </a:lnTo>
                  <a:lnTo>
                    <a:pt x="0" y="1697"/>
                  </a:lnTo>
                  <a:lnTo>
                    <a:pt x="34" y="1846"/>
                  </a:lnTo>
                  <a:lnTo>
                    <a:pt x="330" y="2028"/>
                  </a:lnTo>
                  <a:lnTo>
                    <a:pt x="1026" y="2118"/>
                  </a:lnTo>
                  <a:lnTo>
                    <a:pt x="1781" y="2086"/>
                  </a:lnTo>
                  <a:lnTo>
                    <a:pt x="2076" y="2209"/>
                  </a:lnTo>
                  <a:lnTo>
                    <a:pt x="2042" y="2417"/>
                  </a:lnTo>
                  <a:lnTo>
                    <a:pt x="1746" y="2721"/>
                  </a:lnTo>
                  <a:lnTo>
                    <a:pt x="1850" y="2785"/>
                  </a:lnTo>
                  <a:lnTo>
                    <a:pt x="2181" y="2481"/>
                  </a:lnTo>
                  <a:lnTo>
                    <a:pt x="2245" y="2513"/>
                  </a:lnTo>
                  <a:lnTo>
                    <a:pt x="2273" y="2876"/>
                  </a:lnTo>
                  <a:lnTo>
                    <a:pt x="2372" y="2876"/>
                  </a:lnTo>
                  <a:lnTo>
                    <a:pt x="2372" y="2454"/>
                  </a:lnTo>
                  <a:lnTo>
                    <a:pt x="2442" y="2417"/>
                  </a:lnTo>
                  <a:lnTo>
                    <a:pt x="2708" y="2662"/>
                  </a:lnTo>
                  <a:lnTo>
                    <a:pt x="2772" y="2572"/>
                  </a:lnTo>
                  <a:lnTo>
                    <a:pt x="2476" y="2332"/>
                  </a:lnTo>
                  <a:lnTo>
                    <a:pt x="2476" y="2241"/>
                  </a:lnTo>
                  <a:lnTo>
                    <a:pt x="2836" y="2086"/>
                  </a:lnTo>
                  <a:lnTo>
                    <a:pt x="2801" y="2028"/>
                  </a:lnTo>
                  <a:lnTo>
                    <a:pt x="2372" y="2086"/>
                  </a:lnTo>
                  <a:lnTo>
                    <a:pt x="2111" y="2028"/>
                  </a:lnTo>
                  <a:lnTo>
                    <a:pt x="1850" y="1937"/>
                  </a:lnTo>
                  <a:lnTo>
                    <a:pt x="1514" y="1910"/>
                  </a:lnTo>
                  <a:lnTo>
                    <a:pt x="1090" y="1878"/>
                  </a:lnTo>
                  <a:lnTo>
                    <a:pt x="661" y="1814"/>
                  </a:lnTo>
                  <a:lnTo>
                    <a:pt x="394" y="1665"/>
                  </a:lnTo>
                  <a:lnTo>
                    <a:pt x="394" y="1569"/>
                  </a:lnTo>
                  <a:lnTo>
                    <a:pt x="591" y="1301"/>
                  </a:lnTo>
                  <a:lnTo>
                    <a:pt x="956" y="1061"/>
                  </a:lnTo>
                  <a:lnTo>
                    <a:pt x="1351" y="874"/>
                  </a:lnTo>
                  <a:lnTo>
                    <a:pt x="1978" y="725"/>
                  </a:lnTo>
                  <a:lnTo>
                    <a:pt x="2337" y="544"/>
                  </a:lnTo>
                  <a:lnTo>
                    <a:pt x="2442" y="181"/>
                  </a:lnTo>
                  <a:close/>
                </a:path>
              </a:pathLst>
            </a:custGeom>
            <a:solidFill>
              <a:srgbClr val="66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21000" y="2727360"/>
              <a:ext cx="1235520" cy="1070280"/>
            </a:xfrm>
            <a:custGeom>
              <a:avLst/>
              <a:gdLst/>
              <a:ahLst/>
              <a:rect l="0" t="0" r="r" b="b"/>
              <a:pathLst>
                <a:path w="3432" h="2973">
                  <a:moveTo>
                    <a:pt x="1374" y="2552"/>
                  </a:moveTo>
                  <a:lnTo>
                    <a:pt x="1739" y="2387"/>
                  </a:lnTo>
                  <a:lnTo>
                    <a:pt x="2394" y="2312"/>
                  </a:lnTo>
                  <a:lnTo>
                    <a:pt x="2772" y="2184"/>
                  </a:lnTo>
                  <a:lnTo>
                    <a:pt x="2957" y="1977"/>
                  </a:lnTo>
                  <a:lnTo>
                    <a:pt x="3021" y="1508"/>
                  </a:lnTo>
                  <a:lnTo>
                    <a:pt x="2969" y="1310"/>
                  </a:lnTo>
                  <a:lnTo>
                    <a:pt x="2627" y="1118"/>
                  </a:lnTo>
                  <a:lnTo>
                    <a:pt x="2203" y="964"/>
                  </a:lnTo>
                  <a:lnTo>
                    <a:pt x="1687" y="964"/>
                  </a:lnTo>
                  <a:lnTo>
                    <a:pt x="1148" y="1022"/>
                  </a:lnTo>
                  <a:lnTo>
                    <a:pt x="997" y="916"/>
                  </a:lnTo>
                  <a:lnTo>
                    <a:pt x="846" y="633"/>
                  </a:lnTo>
                  <a:lnTo>
                    <a:pt x="550" y="468"/>
                  </a:lnTo>
                  <a:lnTo>
                    <a:pt x="254" y="468"/>
                  </a:lnTo>
                  <a:lnTo>
                    <a:pt x="63" y="527"/>
                  </a:lnTo>
                  <a:lnTo>
                    <a:pt x="0" y="372"/>
                  </a:lnTo>
                  <a:lnTo>
                    <a:pt x="162" y="26"/>
                  </a:lnTo>
                  <a:lnTo>
                    <a:pt x="359" y="0"/>
                  </a:lnTo>
                  <a:lnTo>
                    <a:pt x="718" y="207"/>
                  </a:lnTo>
                  <a:lnTo>
                    <a:pt x="951" y="388"/>
                  </a:lnTo>
                  <a:lnTo>
                    <a:pt x="1160" y="692"/>
                  </a:lnTo>
                  <a:lnTo>
                    <a:pt x="1212" y="798"/>
                  </a:lnTo>
                  <a:lnTo>
                    <a:pt x="1623" y="719"/>
                  </a:lnTo>
                  <a:lnTo>
                    <a:pt x="2185" y="692"/>
                  </a:lnTo>
                  <a:lnTo>
                    <a:pt x="2662" y="782"/>
                  </a:lnTo>
                  <a:lnTo>
                    <a:pt x="3067" y="964"/>
                  </a:lnTo>
                  <a:lnTo>
                    <a:pt x="3363" y="1219"/>
                  </a:lnTo>
                  <a:lnTo>
                    <a:pt x="3432" y="1416"/>
                  </a:lnTo>
                  <a:lnTo>
                    <a:pt x="3334" y="1966"/>
                  </a:lnTo>
                  <a:lnTo>
                    <a:pt x="3102" y="2371"/>
                  </a:lnTo>
                  <a:lnTo>
                    <a:pt x="2475" y="2776"/>
                  </a:lnTo>
                  <a:lnTo>
                    <a:pt x="1785" y="2973"/>
                  </a:lnTo>
                  <a:lnTo>
                    <a:pt x="1426" y="2946"/>
                  </a:lnTo>
                  <a:lnTo>
                    <a:pt x="1310" y="2760"/>
                  </a:lnTo>
                  <a:lnTo>
                    <a:pt x="1374" y="2552"/>
                  </a:lnTo>
                  <a:close/>
                </a:path>
              </a:pathLst>
            </a:custGeom>
            <a:solidFill>
              <a:srgbClr val="66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959280" y="4853160"/>
              <a:ext cx="808560" cy="1337040"/>
            </a:xfrm>
            <a:custGeom>
              <a:avLst/>
              <a:gdLst/>
              <a:ahLst/>
              <a:rect l="0" t="0" r="r" b="b"/>
              <a:pathLst>
                <a:path w="2246" h="3714">
                  <a:moveTo>
                    <a:pt x="1253" y="452"/>
                  </a:moveTo>
                  <a:lnTo>
                    <a:pt x="795" y="90"/>
                  </a:lnTo>
                  <a:lnTo>
                    <a:pt x="330" y="0"/>
                  </a:lnTo>
                  <a:lnTo>
                    <a:pt x="0" y="239"/>
                  </a:lnTo>
                  <a:lnTo>
                    <a:pt x="266" y="574"/>
                  </a:lnTo>
                  <a:lnTo>
                    <a:pt x="662" y="723"/>
                  </a:lnTo>
                  <a:lnTo>
                    <a:pt x="1584" y="1208"/>
                  </a:lnTo>
                  <a:lnTo>
                    <a:pt x="1811" y="1357"/>
                  </a:lnTo>
                  <a:lnTo>
                    <a:pt x="1811" y="1511"/>
                  </a:lnTo>
                  <a:lnTo>
                    <a:pt x="1450" y="1841"/>
                  </a:lnTo>
                  <a:lnTo>
                    <a:pt x="824" y="2389"/>
                  </a:lnTo>
                  <a:lnTo>
                    <a:pt x="498" y="2810"/>
                  </a:lnTo>
                  <a:lnTo>
                    <a:pt x="498" y="2991"/>
                  </a:lnTo>
                  <a:lnTo>
                    <a:pt x="527" y="3081"/>
                  </a:lnTo>
                  <a:lnTo>
                    <a:pt x="824" y="3108"/>
                  </a:lnTo>
                  <a:lnTo>
                    <a:pt x="1323" y="3294"/>
                  </a:lnTo>
                  <a:lnTo>
                    <a:pt x="1653" y="3566"/>
                  </a:lnTo>
                  <a:lnTo>
                    <a:pt x="1881" y="3714"/>
                  </a:lnTo>
                  <a:lnTo>
                    <a:pt x="2014" y="3683"/>
                  </a:lnTo>
                  <a:lnTo>
                    <a:pt x="2211" y="3353"/>
                  </a:lnTo>
                  <a:lnTo>
                    <a:pt x="2043" y="3204"/>
                  </a:lnTo>
                  <a:lnTo>
                    <a:pt x="1514" y="3050"/>
                  </a:lnTo>
                  <a:lnTo>
                    <a:pt x="992" y="2933"/>
                  </a:lnTo>
                  <a:lnTo>
                    <a:pt x="760" y="2933"/>
                  </a:lnTo>
                  <a:lnTo>
                    <a:pt x="691" y="2874"/>
                  </a:lnTo>
                  <a:lnTo>
                    <a:pt x="824" y="2719"/>
                  </a:lnTo>
                  <a:lnTo>
                    <a:pt x="1189" y="2474"/>
                  </a:lnTo>
                  <a:lnTo>
                    <a:pt x="1682" y="2203"/>
                  </a:lnTo>
                  <a:lnTo>
                    <a:pt x="2113" y="1814"/>
                  </a:lnTo>
                  <a:lnTo>
                    <a:pt x="2246" y="1511"/>
                  </a:lnTo>
                  <a:lnTo>
                    <a:pt x="2182" y="1208"/>
                  </a:lnTo>
                  <a:lnTo>
                    <a:pt x="1852" y="877"/>
                  </a:lnTo>
                  <a:lnTo>
                    <a:pt x="1555" y="638"/>
                  </a:lnTo>
                  <a:lnTo>
                    <a:pt x="1253" y="452"/>
                  </a:lnTo>
                  <a:close/>
                </a:path>
              </a:pathLst>
            </a:custGeom>
            <a:solidFill>
              <a:srgbClr val="66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581280" y="4854600"/>
              <a:ext cx="721080" cy="1456200"/>
            </a:xfrm>
            <a:custGeom>
              <a:avLst/>
              <a:gdLst/>
              <a:ahLst/>
              <a:rect l="0" t="0" r="r" b="b"/>
              <a:pathLst>
                <a:path w="2003" h="4045">
                  <a:moveTo>
                    <a:pt x="1407" y="814"/>
                  </a:moveTo>
                  <a:lnTo>
                    <a:pt x="1048" y="356"/>
                  </a:lnTo>
                  <a:lnTo>
                    <a:pt x="786" y="26"/>
                  </a:lnTo>
                  <a:lnTo>
                    <a:pt x="457" y="0"/>
                  </a:lnTo>
                  <a:lnTo>
                    <a:pt x="231" y="148"/>
                  </a:lnTo>
                  <a:lnTo>
                    <a:pt x="266" y="420"/>
                  </a:lnTo>
                  <a:lnTo>
                    <a:pt x="561" y="691"/>
                  </a:lnTo>
                  <a:lnTo>
                    <a:pt x="1378" y="1506"/>
                  </a:lnTo>
                  <a:lnTo>
                    <a:pt x="1574" y="1778"/>
                  </a:lnTo>
                  <a:lnTo>
                    <a:pt x="1574" y="1905"/>
                  </a:lnTo>
                  <a:lnTo>
                    <a:pt x="1343" y="2113"/>
                  </a:lnTo>
                  <a:lnTo>
                    <a:pt x="688" y="2352"/>
                  </a:lnTo>
                  <a:lnTo>
                    <a:pt x="196" y="2597"/>
                  </a:lnTo>
                  <a:lnTo>
                    <a:pt x="63" y="2778"/>
                  </a:lnTo>
                  <a:lnTo>
                    <a:pt x="0" y="2985"/>
                  </a:lnTo>
                  <a:lnTo>
                    <a:pt x="34" y="3444"/>
                  </a:lnTo>
                  <a:lnTo>
                    <a:pt x="127" y="3715"/>
                  </a:lnTo>
                  <a:lnTo>
                    <a:pt x="393" y="4045"/>
                  </a:lnTo>
                  <a:lnTo>
                    <a:pt x="624" y="4045"/>
                  </a:lnTo>
                  <a:lnTo>
                    <a:pt x="885" y="3891"/>
                  </a:lnTo>
                  <a:lnTo>
                    <a:pt x="885" y="3774"/>
                  </a:lnTo>
                  <a:lnTo>
                    <a:pt x="653" y="3657"/>
                  </a:lnTo>
                  <a:lnTo>
                    <a:pt x="393" y="3503"/>
                  </a:lnTo>
                  <a:lnTo>
                    <a:pt x="231" y="3316"/>
                  </a:lnTo>
                  <a:lnTo>
                    <a:pt x="196" y="2927"/>
                  </a:lnTo>
                  <a:lnTo>
                    <a:pt x="329" y="2778"/>
                  </a:lnTo>
                  <a:lnTo>
                    <a:pt x="590" y="2656"/>
                  </a:lnTo>
                  <a:lnTo>
                    <a:pt x="1083" y="2507"/>
                  </a:lnTo>
                  <a:lnTo>
                    <a:pt x="1800" y="2262"/>
                  </a:lnTo>
                  <a:lnTo>
                    <a:pt x="2003" y="2081"/>
                  </a:lnTo>
                  <a:lnTo>
                    <a:pt x="2003" y="1810"/>
                  </a:lnTo>
                  <a:lnTo>
                    <a:pt x="1800" y="1448"/>
                  </a:lnTo>
                  <a:lnTo>
                    <a:pt x="1609" y="1144"/>
                  </a:lnTo>
                  <a:lnTo>
                    <a:pt x="1407" y="814"/>
                  </a:lnTo>
                  <a:close/>
                </a:path>
              </a:pathLst>
            </a:custGeom>
            <a:solidFill>
              <a:srgbClr val="66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56000" y="3638520"/>
              <a:ext cx="810000" cy="1422720"/>
            </a:xfrm>
            <a:custGeom>
              <a:avLst/>
              <a:gdLst/>
              <a:ahLst/>
              <a:rect l="0" t="0" r="r" b="b"/>
              <a:pathLst>
                <a:path w="2250" h="3952">
                  <a:moveTo>
                    <a:pt x="1258" y="186"/>
                  </a:moveTo>
                  <a:lnTo>
                    <a:pt x="945" y="0"/>
                  </a:lnTo>
                  <a:lnTo>
                    <a:pt x="539" y="0"/>
                  </a:lnTo>
                  <a:lnTo>
                    <a:pt x="226" y="154"/>
                  </a:lnTo>
                  <a:lnTo>
                    <a:pt x="11" y="442"/>
                  </a:lnTo>
                  <a:lnTo>
                    <a:pt x="0" y="634"/>
                  </a:lnTo>
                  <a:lnTo>
                    <a:pt x="63" y="879"/>
                  </a:lnTo>
                  <a:lnTo>
                    <a:pt x="226" y="1061"/>
                  </a:lnTo>
                  <a:lnTo>
                    <a:pt x="486" y="1381"/>
                  </a:lnTo>
                  <a:lnTo>
                    <a:pt x="655" y="1770"/>
                  </a:lnTo>
                  <a:lnTo>
                    <a:pt x="754" y="2107"/>
                  </a:lnTo>
                  <a:lnTo>
                    <a:pt x="754" y="2517"/>
                  </a:lnTo>
                  <a:lnTo>
                    <a:pt x="621" y="2923"/>
                  </a:lnTo>
                  <a:lnTo>
                    <a:pt x="621" y="3317"/>
                  </a:lnTo>
                  <a:lnTo>
                    <a:pt x="702" y="3637"/>
                  </a:lnTo>
                  <a:lnTo>
                    <a:pt x="928" y="3866"/>
                  </a:lnTo>
                  <a:lnTo>
                    <a:pt x="1177" y="3952"/>
                  </a:lnTo>
                  <a:lnTo>
                    <a:pt x="1473" y="3909"/>
                  </a:lnTo>
                  <a:lnTo>
                    <a:pt x="1804" y="3834"/>
                  </a:lnTo>
                  <a:lnTo>
                    <a:pt x="2036" y="3621"/>
                  </a:lnTo>
                  <a:lnTo>
                    <a:pt x="2164" y="3120"/>
                  </a:lnTo>
                  <a:lnTo>
                    <a:pt x="2250" y="2683"/>
                  </a:lnTo>
                  <a:lnTo>
                    <a:pt x="2181" y="2075"/>
                  </a:lnTo>
                  <a:lnTo>
                    <a:pt x="2019" y="1562"/>
                  </a:lnTo>
                  <a:lnTo>
                    <a:pt x="1787" y="1034"/>
                  </a:lnTo>
                  <a:lnTo>
                    <a:pt x="1508" y="490"/>
                  </a:lnTo>
                  <a:lnTo>
                    <a:pt x="1258" y="186"/>
                  </a:lnTo>
                  <a:close/>
                </a:path>
              </a:pathLst>
            </a:custGeom>
            <a:solidFill>
              <a:srgbClr val="66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2628720" y="2387520"/>
              <a:ext cx="1059480" cy="1257840"/>
              <a:chOff x="2628720" y="2387520"/>
              <a:chExt cx="1059480" cy="1257840"/>
            </a:xfrm>
          </p:grpSpPr>
          <p:sp>
            <p:nvSpPr>
              <p:cNvPr id="774" name=""/>
              <p:cNvSpPr/>
              <p:nvPr/>
            </p:nvSpPr>
            <p:spPr>
              <a:xfrm>
                <a:off x="2789280" y="2448000"/>
                <a:ext cx="898920" cy="1197360"/>
              </a:xfrm>
              <a:custGeom>
                <a:avLst/>
                <a:gdLst/>
                <a:ahLst/>
                <a:rect l="0" t="0" r="r" b="b"/>
                <a:pathLst>
                  <a:path w="2497" h="3326">
                    <a:moveTo>
                      <a:pt x="1512" y="965"/>
                    </a:moveTo>
                    <a:lnTo>
                      <a:pt x="1199" y="708"/>
                    </a:lnTo>
                    <a:lnTo>
                      <a:pt x="794" y="618"/>
                    </a:lnTo>
                    <a:lnTo>
                      <a:pt x="422" y="698"/>
                    </a:lnTo>
                    <a:lnTo>
                      <a:pt x="127" y="917"/>
                    </a:lnTo>
                    <a:lnTo>
                      <a:pt x="0" y="1317"/>
                    </a:lnTo>
                    <a:lnTo>
                      <a:pt x="81" y="1892"/>
                    </a:lnTo>
                    <a:lnTo>
                      <a:pt x="422" y="2527"/>
                    </a:lnTo>
                    <a:lnTo>
                      <a:pt x="858" y="3028"/>
                    </a:lnTo>
                    <a:lnTo>
                      <a:pt x="1251" y="3252"/>
                    </a:lnTo>
                    <a:lnTo>
                      <a:pt x="1691" y="3326"/>
                    </a:lnTo>
                    <a:lnTo>
                      <a:pt x="2057" y="3284"/>
                    </a:lnTo>
                    <a:lnTo>
                      <a:pt x="2451" y="2996"/>
                    </a:lnTo>
                    <a:lnTo>
                      <a:pt x="2497" y="2692"/>
                    </a:lnTo>
                    <a:lnTo>
                      <a:pt x="2434" y="2206"/>
                    </a:lnTo>
                    <a:lnTo>
                      <a:pt x="2185" y="2361"/>
                    </a:lnTo>
                    <a:lnTo>
                      <a:pt x="1761" y="2452"/>
                    </a:lnTo>
                    <a:lnTo>
                      <a:pt x="1060" y="2249"/>
                    </a:lnTo>
                    <a:lnTo>
                      <a:pt x="1529" y="2057"/>
                    </a:lnTo>
                    <a:lnTo>
                      <a:pt x="1773" y="1913"/>
                    </a:lnTo>
                    <a:lnTo>
                      <a:pt x="2167" y="1620"/>
                    </a:lnTo>
                    <a:lnTo>
                      <a:pt x="1807" y="1119"/>
                    </a:lnTo>
                    <a:lnTo>
                      <a:pt x="2138" y="223"/>
                    </a:lnTo>
                    <a:lnTo>
                      <a:pt x="2092" y="69"/>
                    </a:lnTo>
                    <a:lnTo>
                      <a:pt x="1907" y="0"/>
                    </a:lnTo>
                    <a:lnTo>
                      <a:pt x="1807" y="101"/>
                    </a:lnTo>
                    <a:lnTo>
                      <a:pt x="1512" y="965"/>
                    </a:lnTo>
                    <a:close/>
                  </a:path>
                </a:pathLst>
              </a:custGeom>
              <a:solidFill>
                <a:srgbClr val="66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655720" y="2462040"/>
                <a:ext cx="659160" cy="914760"/>
              </a:xfrm>
              <a:custGeom>
                <a:avLst/>
                <a:gdLst/>
                <a:ahLst/>
                <a:rect l="0" t="0" r="r" b="b"/>
                <a:pathLst>
                  <a:path w="1831" h="2541">
                    <a:moveTo>
                      <a:pt x="418" y="1390"/>
                    </a:moveTo>
                    <a:lnTo>
                      <a:pt x="906" y="766"/>
                    </a:lnTo>
                    <a:lnTo>
                      <a:pt x="1482" y="271"/>
                    </a:lnTo>
                    <a:lnTo>
                      <a:pt x="1831" y="0"/>
                    </a:lnTo>
                    <a:lnTo>
                      <a:pt x="1308" y="15"/>
                    </a:lnTo>
                    <a:lnTo>
                      <a:pt x="610" y="287"/>
                    </a:lnTo>
                    <a:lnTo>
                      <a:pt x="261" y="638"/>
                    </a:lnTo>
                    <a:lnTo>
                      <a:pt x="104" y="1118"/>
                    </a:lnTo>
                    <a:lnTo>
                      <a:pt x="244" y="1390"/>
                    </a:lnTo>
                    <a:lnTo>
                      <a:pt x="0" y="1582"/>
                    </a:lnTo>
                    <a:lnTo>
                      <a:pt x="87" y="2013"/>
                    </a:lnTo>
                    <a:lnTo>
                      <a:pt x="366" y="2317"/>
                    </a:lnTo>
                    <a:lnTo>
                      <a:pt x="836" y="2541"/>
                    </a:lnTo>
                    <a:lnTo>
                      <a:pt x="714" y="2349"/>
                    </a:lnTo>
                    <a:lnTo>
                      <a:pt x="836" y="2269"/>
                    </a:lnTo>
                    <a:lnTo>
                      <a:pt x="1046" y="2269"/>
                    </a:lnTo>
                    <a:lnTo>
                      <a:pt x="766" y="2061"/>
                    </a:lnTo>
                    <a:lnTo>
                      <a:pt x="819" y="1678"/>
                    </a:lnTo>
                    <a:lnTo>
                      <a:pt x="418" y="1390"/>
                    </a:lnTo>
                    <a:close/>
                  </a:path>
                </a:pathLst>
              </a:custGeom>
              <a:solidFill>
                <a:srgbClr val="cc990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063960" y="2819520"/>
                <a:ext cx="225720" cy="184680"/>
              </a:xfrm>
              <a:custGeom>
                <a:avLst/>
                <a:gdLst/>
                <a:ahLst/>
                <a:rect l="0" t="0" r="r" b="b"/>
                <a:pathLst>
                  <a:path w="627" h="513">
                    <a:moveTo>
                      <a:pt x="627" y="240"/>
                    </a:moveTo>
                    <a:lnTo>
                      <a:pt x="435" y="95"/>
                    </a:lnTo>
                    <a:lnTo>
                      <a:pt x="243" y="15"/>
                    </a:lnTo>
                    <a:lnTo>
                      <a:pt x="69" y="0"/>
                    </a:lnTo>
                    <a:lnTo>
                      <a:pt x="0" y="63"/>
                    </a:lnTo>
                    <a:lnTo>
                      <a:pt x="0" y="160"/>
                    </a:lnTo>
                    <a:lnTo>
                      <a:pt x="52" y="320"/>
                    </a:lnTo>
                    <a:lnTo>
                      <a:pt x="226" y="449"/>
                    </a:lnTo>
                    <a:lnTo>
                      <a:pt x="348" y="513"/>
                    </a:lnTo>
                    <a:lnTo>
                      <a:pt x="627" y="240"/>
                    </a:lnTo>
                    <a:close/>
                  </a:path>
                </a:pathLst>
              </a:custGeom>
              <a:solidFill>
                <a:srgbClr val="66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628720" y="2387520"/>
                <a:ext cx="660600" cy="470160"/>
              </a:xfrm>
              <a:custGeom>
                <a:avLst/>
                <a:gdLst/>
                <a:ahLst/>
                <a:rect l="0" t="0" r="r" b="b"/>
                <a:pathLst>
                  <a:path w="1835" h="1306">
                    <a:moveTo>
                      <a:pt x="352" y="882"/>
                    </a:moveTo>
                    <a:lnTo>
                      <a:pt x="493" y="847"/>
                    </a:lnTo>
                    <a:lnTo>
                      <a:pt x="599" y="777"/>
                    </a:lnTo>
                    <a:lnTo>
                      <a:pt x="705" y="777"/>
                    </a:lnTo>
                    <a:lnTo>
                      <a:pt x="811" y="706"/>
                    </a:lnTo>
                    <a:lnTo>
                      <a:pt x="918" y="599"/>
                    </a:lnTo>
                    <a:lnTo>
                      <a:pt x="1024" y="564"/>
                    </a:lnTo>
                    <a:lnTo>
                      <a:pt x="1129" y="493"/>
                    </a:lnTo>
                    <a:lnTo>
                      <a:pt x="1271" y="493"/>
                    </a:lnTo>
                    <a:lnTo>
                      <a:pt x="1376" y="388"/>
                    </a:lnTo>
                    <a:lnTo>
                      <a:pt x="1482" y="352"/>
                    </a:lnTo>
                    <a:lnTo>
                      <a:pt x="1588" y="317"/>
                    </a:lnTo>
                    <a:lnTo>
                      <a:pt x="1694" y="246"/>
                    </a:lnTo>
                    <a:lnTo>
                      <a:pt x="1800" y="211"/>
                    </a:lnTo>
                    <a:lnTo>
                      <a:pt x="1835" y="105"/>
                    </a:lnTo>
                    <a:lnTo>
                      <a:pt x="1729" y="70"/>
                    </a:lnTo>
                    <a:lnTo>
                      <a:pt x="1623" y="0"/>
                    </a:lnTo>
                    <a:lnTo>
                      <a:pt x="1517" y="0"/>
                    </a:lnTo>
                    <a:lnTo>
                      <a:pt x="1412" y="0"/>
                    </a:lnTo>
                    <a:lnTo>
                      <a:pt x="1306" y="105"/>
                    </a:lnTo>
                    <a:lnTo>
                      <a:pt x="1200" y="105"/>
                    </a:lnTo>
                    <a:lnTo>
                      <a:pt x="1094" y="141"/>
                    </a:lnTo>
                    <a:lnTo>
                      <a:pt x="988" y="141"/>
                    </a:lnTo>
                    <a:lnTo>
                      <a:pt x="881" y="176"/>
                    </a:lnTo>
                    <a:lnTo>
                      <a:pt x="776" y="211"/>
                    </a:lnTo>
                    <a:lnTo>
                      <a:pt x="635" y="211"/>
                    </a:lnTo>
                    <a:lnTo>
                      <a:pt x="493" y="211"/>
                    </a:lnTo>
                    <a:lnTo>
                      <a:pt x="388" y="211"/>
                    </a:lnTo>
                    <a:lnTo>
                      <a:pt x="282" y="282"/>
                    </a:lnTo>
                    <a:lnTo>
                      <a:pt x="176" y="388"/>
                    </a:lnTo>
                    <a:lnTo>
                      <a:pt x="141" y="493"/>
                    </a:lnTo>
                    <a:lnTo>
                      <a:pt x="70" y="599"/>
                    </a:lnTo>
                    <a:lnTo>
                      <a:pt x="0" y="741"/>
                    </a:lnTo>
                    <a:lnTo>
                      <a:pt x="35" y="847"/>
                    </a:lnTo>
                    <a:lnTo>
                      <a:pt x="70" y="953"/>
                    </a:lnTo>
                    <a:lnTo>
                      <a:pt x="70" y="1059"/>
                    </a:lnTo>
                    <a:lnTo>
                      <a:pt x="70" y="1165"/>
                    </a:lnTo>
                    <a:lnTo>
                      <a:pt x="282" y="1200"/>
                    </a:lnTo>
                    <a:lnTo>
                      <a:pt x="388" y="1306"/>
                    </a:lnTo>
                    <a:lnTo>
                      <a:pt x="458" y="1200"/>
                    </a:lnTo>
                    <a:lnTo>
                      <a:pt x="458" y="1094"/>
                    </a:lnTo>
                    <a:lnTo>
                      <a:pt x="352" y="88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3619440" y="3936960"/>
              <a:ext cx="267120" cy="457560"/>
            </a:xfrm>
            <a:custGeom>
              <a:avLst/>
              <a:gdLst/>
              <a:ahLst/>
              <a:rect l="0" t="0" r="r" b="b"/>
              <a:pathLst>
                <a:path w="742" h="1271">
                  <a:moveTo>
                    <a:pt x="0" y="141"/>
                  </a:moveTo>
                  <a:lnTo>
                    <a:pt x="424" y="777"/>
                  </a:lnTo>
                  <a:lnTo>
                    <a:pt x="530" y="1271"/>
                  </a:lnTo>
                  <a:lnTo>
                    <a:pt x="742" y="1235"/>
                  </a:lnTo>
                  <a:lnTo>
                    <a:pt x="601" y="599"/>
                  </a:lnTo>
                  <a:lnTo>
                    <a:pt x="176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482760" y="1143000"/>
            <a:ext cx="8242200" cy="4597560"/>
            <a:chOff x="482760" y="1143000"/>
            <a:chExt cx="8242200" cy="4597560"/>
          </a:xfrm>
        </p:grpSpPr>
        <p:sp>
          <p:nvSpPr>
            <p:cNvPr id="780" name=""/>
            <p:cNvSpPr/>
            <p:nvPr/>
          </p:nvSpPr>
          <p:spPr>
            <a:xfrm>
              <a:off x="787320" y="2451240"/>
              <a:ext cx="34308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587920" y="4305240"/>
              <a:ext cx="228600" cy="24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625760" y="1257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470480" y="48387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08440" y="3911760"/>
              <a:ext cx="216000" cy="203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344080" y="3733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791320" y="2006640"/>
              <a:ext cx="27936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95480" y="1638360"/>
              <a:ext cx="190440" cy="190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381880" y="5435640"/>
              <a:ext cx="29196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635360" y="2273400"/>
              <a:ext cx="152280" cy="190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46120" y="36957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505640" y="13208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2760" y="1143000"/>
              <a:ext cx="190440" cy="190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51440" y="3936960"/>
              <a:ext cx="241200" cy="254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"/>
          <p:cNvSpPr txBox="1"/>
          <p:nvPr/>
        </p:nvSpPr>
        <p:spPr>
          <a:xfrm>
            <a:off x="914400" y="533520"/>
            <a:ext cx="7086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ing : NICE TRY. (In Fact, You Suck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7853400" y="684360"/>
            <a:ext cx="330480" cy="448200"/>
          </a:xfrm>
          <a:custGeom>
            <a:avLst/>
            <a:gdLst/>
            <a:ahLst/>
            <a:rect l="0" t="0" r="r" b="b"/>
            <a:pathLst>
              <a:path w="918" h="1245">
                <a:moveTo>
                  <a:pt x="666" y="44"/>
                </a:moveTo>
                <a:lnTo>
                  <a:pt x="644" y="26"/>
                </a:lnTo>
                <a:lnTo>
                  <a:pt x="622" y="8"/>
                </a:lnTo>
                <a:lnTo>
                  <a:pt x="596" y="4"/>
                </a:lnTo>
                <a:lnTo>
                  <a:pt x="569" y="0"/>
                </a:lnTo>
                <a:lnTo>
                  <a:pt x="516" y="0"/>
                </a:lnTo>
                <a:lnTo>
                  <a:pt x="477" y="0"/>
                </a:lnTo>
                <a:lnTo>
                  <a:pt x="440" y="8"/>
                </a:lnTo>
                <a:lnTo>
                  <a:pt x="414" y="13"/>
                </a:lnTo>
                <a:lnTo>
                  <a:pt x="392" y="26"/>
                </a:lnTo>
                <a:lnTo>
                  <a:pt x="379" y="35"/>
                </a:lnTo>
                <a:lnTo>
                  <a:pt x="361" y="48"/>
                </a:lnTo>
                <a:lnTo>
                  <a:pt x="339" y="52"/>
                </a:lnTo>
                <a:lnTo>
                  <a:pt x="308" y="61"/>
                </a:lnTo>
                <a:lnTo>
                  <a:pt x="273" y="74"/>
                </a:lnTo>
                <a:lnTo>
                  <a:pt x="233" y="88"/>
                </a:lnTo>
                <a:lnTo>
                  <a:pt x="194" y="110"/>
                </a:lnTo>
                <a:lnTo>
                  <a:pt x="149" y="136"/>
                </a:lnTo>
                <a:lnTo>
                  <a:pt x="119" y="171"/>
                </a:lnTo>
                <a:lnTo>
                  <a:pt x="83" y="202"/>
                </a:lnTo>
                <a:lnTo>
                  <a:pt x="66" y="246"/>
                </a:lnTo>
                <a:lnTo>
                  <a:pt x="79" y="238"/>
                </a:lnTo>
                <a:lnTo>
                  <a:pt x="101" y="233"/>
                </a:lnTo>
                <a:lnTo>
                  <a:pt x="119" y="229"/>
                </a:lnTo>
                <a:lnTo>
                  <a:pt x="132" y="224"/>
                </a:lnTo>
                <a:lnTo>
                  <a:pt x="83" y="273"/>
                </a:lnTo>
                <a:lnTo>
                  <a:pt x="57" y="336"/>
                </a:lnTo>
                <a:lnTo>
                  <a:pt x="35" y="402"/>
                </a:lnTo>
                <a:lnTo>
                  <a:pt x="4" y="464"/>
                </a:lnTo>
                <a:lnTo>
                  <a:pt x="35" y="464"/>
                </a:lnTo>
                <a:lnTo>
                  <a:pt x="70" y="459"/>
                </a:lnTo>
                <a:lnTo>
                  <a:pt x="101" y="455"/>
                </a:lnTo>
                <a:lnTo>
                  <a:pt x="123" y="441"/>
                </a:lnTo>
                <a:lnTo>
                  <a:pt x="83" y="499"/>
                </a:lnTo>
                <a:lnTo>
                  <a:pt x="48" y="583"/>
                </a:lnTo>
                <a:lnTo>
                  <a:pt x="8" y="675"/>
                </a:lnTo>
                <a:lnTo>
                  <a:pt x="0" y="750"/>
                </a:lnTo>
                <a:lnTo>
                  <a:pt x="8" y="807"/>
                </a:lnTo>
                <a:lnTo>
                  <a:pt x="30" y="874"/>
                </a:lnTo>
                <a:lnTo>
                  <a:pt x="52" y="927"/>
                </a:lnTo>
                <a:lnTo>
                  <a:pt x="70" y="967"/>
                </a:lnTo>
                <a:lnTo>
                  <a:pt x="83" y="1007"/>
                </a:lnTo>
                <a:lnTo>
                  <a:pt x="119" y="1064"/>
                </a:lnTo>
                <a:lnTo>
                  <a:pt x="158" y="1126"/>
                </a:lnTo>
                <a:lnTo>
                  <a:pt x="211" y="1170"/>
                </a:lnTo>
                <a:lnTo>
                  <a:pt x="220" y="1144"/>
                </a:lnTo>
                <a:lnTo>
                  <a:pt x="220" y="1126"/>
                </a:lnTo>
                <a:lnTo>
                  <a:pt x="224" y="1108"/>
                </a:lnTo>
                <a:lnTo>
                  <a:pt x="224" y="1086"/>
                </a:lnTo>
                <a:lnTo>
                  <a:pt x="246" y="1113"/>
                </a:lnTo>
                <a:lnTo>
                  <a:pt x="264" y="1152"/>
                </a:lnTo>
                <a:lnTo>
                  <a:pt x="299" y="1192"/>
                </a:lnTo>
                <a:lnTo>
                  <a:pt x="361" y="1232"/>
                </a:lnTo>
                <a:lnTo>
                  <a:pt x="357" y="1205"/>
                </a:lnTo>
                <a:lnTo>
                  <a:pt x="357" y="1183"/>
                </a:lnTo>
                <a:lnTo>
                  <a:pt x="357" y="1179"/>
                </a:lnTo>
                <a:lnTo>
                  <a:pt x="357" y="1170"/>
                </a:lnTo>
                <a:lnTo>
                  <a:pt x="401" y="1210"/>
                </a:lnTo>
                <a:lnTo>
                  <a:pt x="427" y="1232"/>
                </a:lnTo>
                <a:lnTo>
                  <a:pt x="440" y="1241"/>
                </a:lnTo>
                <a:lnTo>
                  <a:pt x="477" y="1245"/>
                </a:lnTo>
                <a:lnTo>
                  <a:pt x="486" y="1214"/>
                </a:lnTo>
                <a:lnTo>
                  <a:pt x="494" y="1188"/>
                </a:lnTo>
                <a:lnTo>
                  <a:pt x="516" y="1166"/>
                </a:lnTo>
                <a:lnTo>
                  <a:pt x="556" y="1157"/>
                </a:lnTo>
                <a:lnTo>
                  <a:pt x="596" y="1139"/>
                </a:lnTo>
                <a:lnTo>
                  <a:pt x="631" y="1113"/>
                </a:lnTo>
                <a:lnTo>
                  <a:pt x="662" y="1082"/>
                </a:lnTo>
                <a:lnTo>
                  <a:pt x="710" y="1055"/>
                </a:lnTo>
                <a:lnTo>
                  <a:pt x="746" y="1033"/>
                </a:lnTo>
                <a:lnTo>
                  <a:pt x="785" y="1003"/>
                </a:lnTo>
                <a:lnTo>
                  <a:pt x="812" y="963"/>
                </a:lnTo>
                <a:lnTo>
                  <a:pt x="816" y="913"/>
                </a:lnTo>
                <a:lnTo>
                  <a:pt x="821" y="865"/>
                </a:lnTo>
                <a:lnTo>
                  <a:pt x="838" y="816"/>
                </a:lnTo>
                <a:lnTo>
                  <a:pt x="847" y="768"/>
                </a:lnTo>
                <a:lnTo>
                  <a:pt x="838" y="710"/>
                </a:lnTo>
                <a:lnTo>
                  <a:pt x="865" y="733"/>
                </a:lnTo>
                <a:lnTo>
                  <a:pt x="878" y="741"/>
                </a:lnTo>
                <a:lnTo>
                  <a:pt x="896" y="759"/>
                </a:lnTo>
                <a:lnTo>
                  <a:pt x="904" y="763"/>
                </a:lnTo>
                <a:lnTo>
                  <a:pt x="918" y="706"/>
                </a:lnTo>
                <a:lnTo>
                  <a:pt x="918" y="627"/>
                </a:lnTo>
                <a:lnTo>
                  <a:pt x="900" y="538"/>
                </a:lnTo>
                <a:lnTo>
                  <a:pt x="878" y="477"/>
                </a:lnTo>
                <a:lnTo>
                  <a:pt x="860" y="415"/>
                </a:lnTo>
                <a:lnTo>
                  <a:pt x="860" y="353"/>
                </a:lnTo>
                <a:lnTo>
                  <a:pt x="847" y="295"/>
                </a:lnTo>
                <a:lnTo>
                  <a:pt x="821" y="251"/>
                </a:lnTo>
                <a:lnTo>
                  <a:pt x="777" y="211"/>
                </a:lnTo>
                <a:lnTo>
                  <a:pt x="746" y="163"/>
                </a:lnTo>
                <a:lnTo>
                  <a:pt x="719" y="123"/>
                </a:lnTo>
                <a:lnTo>
                  <a:pt x="697" y="83"/>
                </a:lnTo>
                <a:lnTo>
                  <a:pt x="693" y="74"/>
                </a:lnTo>
                <a:lnTo>
                  <a:pt x="688" y="61"/>
                </a:lnTo>
                <a:lnTo>
                  <a:pt x="675" y="52"/>
                </a:lnTo>
                <a:lnTo>
                  <a:pt x="666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869240" y="703440"/>
            <a:ext cx="298800" cy="410040"/>
          </a:xfrm>
          <a:custGeom>
            <a:avLst/>
            <a:gdLst/>
            <a:ahLst/>
            <a:rect l="0" t="0" r="r" b="b"/>
            <a:pathLst>
              <a:path w="830" h="1139">
                <a:moveTo>
                  <a:pt x="512" y="0"/>
                </a:moveTo>
                <a:lnTo>
                  <a:pt x="468" y="0"/>
                </a:lnTo>
                <a:lnTo>
                  <a:pt x="433" y="0"/>
                </a:lnTo>
                <a:lnTo>
                  <a:pt x="396" y="4"/>
                </a:lnTo>
                <a:lnTo>
                  <a:pt x="374" y="17"/>
                </a:lnTo>
                <a:lnTo>
                  <a:pt x="357" y="26"/>
                </a:lnTo>
                <a:lnTo>
                  <a:pt x="339" y="30"/>
                </a:lnTo>
                <a:lnTo>
                  <a:pt x="321" y="44"/>
                </a:lnTo>
                <a:lnTo>
                  <a:pt x="308" y="48"/>
                </a:lnTo>
                <a:lnTo>
                  <a:pt x="282" y="52"/>
                </a:lnTo>
                <a:lnTo>
                  <a:pt x="255" y="57"/>
                </a:lnTo>
                <a:lnTo>
                  <a:pt x="229" y="70"/>
                </a:lnTo>
                <a:lnTo>
                  <a:pt x="202" y="79"/>
                </a:lnTo>
                <a:lnTo>
                  <a:pt x="176" y="97"/>
                </a:lnTo>
                <a:lnTo>
                  <a:pt x="149" y="105"/>
                </a:lnTo>
                <a:lnTo>
                  <a:pt x="132" y="123"/>
                </a:lnTo>
                <a:lnTo>
                  <a:pt x="114" y="136"/>
                </a:lnTo>
                <a:lnTo>
                  <a:pt x="132" y="136"/>
                </a:lnTo>
                <a:lnTo>
                  <a:pt x="141" y="145"/>
                </a:lnTo>
                <a:lnTo>
                  <a:pt x="158" y="145"/>
                </a:lnTo>
                <a:lnTo>
                  <a:pt x="167" y="145"/>
                </a:lnTo>
                <a:lnTo>
                  <a:pt x="110" y="194"/>
                </a:lnTo>
                <a:lnTo>
                  <a:pt x="83" y="246"/>
                </a:lnTo>
                <a:lnTo>
                  <a:pt x="61" y="305"/>
                </a:lnTo>
                <a:lnTo>
                  <a:pt x="30" y="358"/>
                </a:lnTo>
                <a:lnTo>
                  <a:pt x="57" y="358"/>
                </a:lnTo>
                <a:lnTo>
                  <a:pt x="88" y="344"/>
                </a:lnTo>
                <a:lnTo>
                  <a:pt x="119" y="331"/>
                </a:lnTo>
                <a:lnTo>
                  <a:pt x="154" y="331"/>
                </a:lnTo>
                <a:lnTo>
                  <a:pt x="132" y="358"/>
                </a:lnTo>
                <a:lnTo>
                  <a:pt x="110" y="402"/>
                </a:lnTo>
                <a:lnTo>
                  <a:pt x="83" y="455"/>
                </a:lnTo>
                <a:lnTo>
                  <a:pt x="57" y="512"/>
                </a:lnTo>
                <a:lnTo>
                  <a:pt x="35" y="574"/>
                </a:lnTo>
                <a:lnTo>
                  <a:pt x="13" y="627"/>
                </a:lnTo>
                <a:lnTo>
                  <a:pt x="4" y="671"/>
                </a:lnTo>
                <a:lnTo>
                  <a:pt x="0" y="702"/>
                </a:lnTo>
                <a:lnTo>
                  <a:pt x="8" y="755"/>
                </a:lnTo>
                <a:lnTo>
                  <a:pt x="30" y="807"/>
                </a:lnTo>
                <a:lnTo>
                  <a:pt x="57" y="857"/>
                </a:lnTo>
                <a:lnTo>
                  <a:pt x="66" y="897"/>
                </a:lnTo>
                <a:lnTo>
                  <a:pt x="79" y="923"/>
                </a:lnTo>
                <a:lnTo>
                  <a:pt x="88" y="958"/>
                </a:lnTo>
                <a:lnTo>
                  <a:pt x="105" y="998"/>
                </a:lnTo>
                <a:lnTo>
                  <a:pt x="136" y="1033"/>
                </a:lnTo>
                <a:lnTo>
                  <a:pt x="141" y="1011"/>
                </a:lnTo>
                <a:lnTo>
                  <a:pt x="154" y="989"/>
                </a:lnTo>
                <a:lnTo>
                  <a:pt x="158" y="976"/>
                </a:lnTo>
                <a:lnTo>
                  <a:pt x="167" y="958"/>
                </a:lnTo>
                <a:lnTo>
                  <a:pt x="189" y="985"/>
                </a:lnTo>
                <a:lnTo>
                  <a:pt x="211" y="1025"/>
                </a:lnTo>
                <a:lnTo>
                  <a:pt x="242" y="1064"/>
                </a:lnTo>
                <a:lnTo>
                  <a:pt x="286" y="1108"/>
                </a:lnTo>
                <a:lnTo>
                  <a:pt x="286" y="1082"/>
                </a:lnTo>
                <a:lnTo>
                  <a:pt x="291" y="1064"/>
                </a:lnTo>
                <a:lnTo>
                  <a:pt x="295" y="1055"/>
                </a:lnTo>
                <a:lnTo>
                  <a:pt x="295" y="1051"/>
                </a:lnTo>
                <a:lnTo>
                  <a:pt x="330" y="1082"/>
                </a:lnTo>
                <a:lnTo>
                  <a:pt x="357" y="1108"/>
                </a:lnTo>
                <a:lnTo>
                  <a:pt x="388" y="1130"/>
                </a:lnTo>
                <a:lnTo>
                  <a:pt x="410" y="1139"/>
                </a:lnTo>
                <a:lnTo>
                  <a:pt x="419" y="1113"/>
                </a:lnTo>
                <a:lnTo>
                  <a:pt x="433" y="1086"/>
                </a:lnTo>
                <a:lnTo>
                  <a:pt x="450" y="1073"/>
                </a:lnTo>
                <a:lnTo>
                  <a:pt x="490" y="1060"/>
                </a:lnTo>
                <a:lnTo>
                  <a:pt x="525" y="1051"/>
                </a:lnTo>
                <a:lnTo>
                  <a:pt x="552" y="1025"/>
                </a:lnTo>
                <a:lnTo>
                  <a:pt x="587" y="989"/>
                </a:lnTo>
                <a:lnTo>
                  <a:pt x="622" y="967"/>
                </a:lnTo>
                <a:lnTo>
                  <a:pt x="662" y="954"/>
                </a:lnTo>
                <a:lnTo>
                  <a:pt x="693" y="928"/>
                </a:lnTo>
                <a:lnTo>
                  <a:pt x="715" y="888"/>
                </a:lnTo>
                <a:lnTo>
                  <a:pt x="719" y="847"/>
                </a:lnTo>
                <a:lnTo>
                  <a:pt x="724" y="785"/>
                </a:lnTo>
                <a:lnTo>
                  <a:pt x="741" y="715"/>
                </a:lnTo>
                <a:lnTo>
                  <a:pt x="750" y="644"/>
                </a:lnTo>
                <a:lnTo>
                  <a:pt x="746" y="578"/>
                </a:lnTo>
                <a:lnTo>
                  <a:pt x="772" y="596"/>
                </a:lnTo>
                <a:lnTo>
                  <a:pt x="794" y="605"/>
                </a:lnTo>
                <a:lnTo>
                  <a:pt x="816" y="622"/>
                </a:lnTo>
                <a:lnTo>
                  <a:pt x="830" y="631"/>
                </a:lnTo>
                <a:lnTo>
                  <a:pt x="830" y="587"/>
                </a:lnTo>
                <a:lnTo>
                  <a:pt x="821" y="534"/>
                </a:lnTo>
                <a:lnTo>
                  <a:pt x="799" y="486"/>
                </a:lnTo>
                <a:lnTo>
                  <a:pt x="772" y="437"/>
                </a:lnTo>
                <a:lnTo>
                  <a:pt x="759" y="384"/>
                </a:lnTo>
                <a:lnTo>
                  <a:pt x="759" y="322"/>
                </a:lnTo>
                <a:lnTo>
                  <a:pt x="755" y="260"/>
                </a:lnTo>
                <a:lnTo>
                  <a:pt x="733" y="220"/>
                </a:lnTo>
                <a:lnTo>
                  <a:pt x="697" y="185"/>
                </a:lnTo>
                <a:lnTo>
                  <a:pt x="666" y="145"/>
                </a:lnTo>
                <a:lnTo>
                  <a:pt x="644" y="105"/>
                </a:lnTo>
                <a:lnTo>
                  <a:pt x="627" y="74"/>
                </a:lnTo>
                <a:lnTo>
                  <a:pt x="605" y="48"/>
                </a:lnTo>
                <a:lnTo>
                  <a:pt x="578" y="22"/>
                </a:lnTo>
                <a:lnTo>
                  <a:pt x="547" y="4"/>
                </a:lnTo>
                <a:lnTo>
                  <a:pt x="512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5600520"/>
            <a:ext cx="9207720" cy="140040"/>
          </a:xfrm>
          <a:custGeom>
            <a:avLst/>
            <a:gdLst/>
            <a:ahLst/>
            <a:rect l="0" t="0" r="r" b="b"/>
            <a:pathLst>
              <a:path fill="none" w="25577" h="389">
                <a:moveTo>
                  <a:pt x="0" y="353"/>
                </a:moveTo>
                <a:lnTo>
                  <a:pt x="2010" y="283"/>
                </a:lnTo>
                <a:lnTo>
                  <a:pt x="4833" y="318"/>
                </a:lnTo>
                <a:lnTo>
                  <a:pt x="10371" y="141"/>
                </a:lnTo>
                <a:lnTo>
                  <a:pt x="16264" y="70"/>
                </a:lnTo>
                <a:lnTo>
                  <a:pt x="18098" y="389"/>
                </a:lnTo>
                <a:lnTo>
                  <a:pt x="21238" y="176"/>
                </a:lnTo>
                <a:lnTo>
                  <a:pt x="23672" y="0"/>
                </a:lnTo>
                <a:lnTo>
                  <a:pt x="25577" y="176"/>
                </a:lnTo>
                <a:lnTo>
                  <a:pt x="25396" y="10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8255160" y="2727360"/>
            <a:ext cx="43200" cy="89280"/>
          </a:xfrm>
          <a:custGeom>
            <a:avLst/>
            <a:gdLst/>
            <a:ahLst/>
            <a:rect l="0" t="0" r="r" b="b"/>
            <a:pathLst>
              <a:path w="120" h="248">
                <a:moveTo>
                  <a:pt x="120" y="8"/>
                </a:moveTo>
                <a:lnTo>
                  <a:pt x="0" y="0"/>
                </a:lnTo>
                <a:lnTo>
                  <a:pt x="39" y="248"/>
                </a:lnTo>
                <a:lnTo>
                  <a:pt x="120" y="8"/>
                </a:lnTo>
                <a:close/>
              </a:path>
            </a:pathLst>
          </a:custGeom>
          <a:solidFill>
            <a:srgbClr val="ccf2f2"/>
          </a:solidFill>
          <a:ln w="0">
            <a:noFill/>
          </a:ln>
        </p:spPr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8018640" y="1238400"/>
            <a:ext cx="522360" cy="1762200"/>
            <a:chOff x="8018640" y="1238400"/>
            <a:chExt cx="522360" cy="1762200"/>
          </a:xfrm>
        </p:grpSpPr>
        <p:sp>
          <p:nvSpPr>
            <p:cNvPr id="800" name=""/>
            <p:cNvSpPr/>
            <p:nvPr/>
          </p:nvSpPr>
          <p:spPr>
            <a:xfrm>
              <a:off x="8232840" y="1987560"/>
              <a:ext cx="240120" cy="1013040"/>
            </a:xfrm>
            <a:custGeom>
              <a:avLst/>
              <a:gdLst/>
              <a:ahLst/>
              <a:rect l="0" t="0" r="r" b="b"/>
              <a:pathLst>
                <a:path w="667" h="2814">
                  <a:moveTo>
                    <a:pt x="0" y="2055"/>
                  </a:moveTo>
                  <a:lnTo>
                    <a:pt x="97" y="2514"/>
                  </a:lnTo>
                  <a:lnTo>
                    <a:pt x="221" y="2113"/>
                  </a:lnTo>
                  <a:lnTo>
                    <a:pt x="256" y="2470"/>
                  </a:lnTo>
                  <a:lnTo>
                    <a:pt x="336" y="2329"/>
                  </a:lnTo>
                  <a:lnTo>
                    <a:pt x="411" y="2814"/>
                  </a:lnTo>
                  <a:lnTo>
                    <a:pt x="513" y="1919"/>
                  </a:lnTo>
                  <a:lnTo>
                    <a:pt x="592" y="2091"/>
                  </a:lnTo>
                  <a:lnTo>
                    <a:pt x="575" y="1115"/>
                  </a:lnTo>
                  <a:lnTo>
                    <a:pt x="667" y="1221"/>
                  </a:lnTo>
                  <a:lnTo>
                    <a:pt x="531" y="0"/>
                  </a:lnTo>
                  <a:lnTo>
                    <a:pt x="522" y="255"/>
                  </a:lnTo>
                  <a:lnTo>
                    <a:pt x="411" y="2077"/>
                  </a:lnTo>
                  <a:lnTo>
                    <a:pt x="247" y="2064"/>
                  </a:lnTo>
                  <a:lnTo>
                    <a:pt x="181" y="2064"/>
                  </a:lnTo>
                  <a:lnTo>
                    <a:pt x="61" y="2055"/>
                  </a:lnTo>
                  <a:lnTo>
                    <a:pt x="0" y="2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435880" y="1238400"/>
              <a:ext cx="105120" cy="757440"/>
            </a:xfrm>
            <a:custGeom>
              <a:avLst/>
              <a:gdLst/>
              <a:ahLst/>
              <a:rect l="0" t="0" r="r" b="b"/>
              <a:pathLst>
                <a:path w="292" h="2104">
                  <a:moveTo>
                    <a:pt x="0" y="1482"/>
                  </a:moveTo>
                  <a:lnTo>
                    <a:pt x="17" y="1169"/>
                  </a:lnTo>
                  <a:lnTo>
                    <a:pt x="66" y="330"/>
                  </a:lnTo>
                  <a:lnTo>
                    <a:pt x="88" y="0"/>
                  </a:lnTo>
                  <a:lnTo>
                    <a:pt x="292" y="1036"/>
                  </a:lnTo>
                  <a:lnTo>
                    <a:pt x="181" y="956"/>
                  </a:lnTo>
                  <a:lnTo>
                    <a:pt x="119" y="2104"/>
                  </a:lnTo>
                  <a:lnTo>
                    <a:pt x="0" y="1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018640" y="2712960"/>
              <a:ext cx="184680" cy="170280"/>
            </a:xfrm>
            <a:custGeom>
              <a:avLst/>
              <a:gdLst/>
              <a:ahLst/>
              <a:rect l="0" t="0" r="r" b="b"/>
              <a:pathLst>
                <a:path w="513" h="473">
                  <a:moveTo>
                    <a:pt x="0" y="0"/>
                  </a:moveTo>
                  <a:lnTo>
                    <a:pt x="22" y="239"/>
                  </a:lnTo>
                  <a:lnTo>
                    <a:pt x="97" y="164"/>
                  </a:lnTo>
                  <a:lnTo>
                    <a:pt x="155" y="473"/>
                  </a:lnTo>
                  <a:lnTo>
                    <a:pt x="239" y="172"/>
                  </a:lnTo>
                  <a:lnTo>
                    <a:pt x="283" y="243"/>
                  </a:lnTo>
                  <a:lnTo>
                    <a:pt x="375" y="70"/>
                  </a:lnTo>
                  <a:lnTo>
                    <a:pt x="412" y="146"/>
                  </a:lnTo>
                  <a:lnTo>
                    <a:pt x="513" y="35"/>
                  </a:lnTo>
                  <a:lnTo>
                    <a:pt x="456" y="26"/>
                  </a:lnTo>
                  <a:lnTo>
                    <a:pt x="394" y="22"/>
                  </a:lnTo>
                  <a:lnTo>
                    <a:pt x="358" y="22"/>
                  </a:lnTo>
                  <a:lnTo>
                    <a:pt x="5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321760" y="2079720"/>
              <a:ext cx="127440" cy="805320"/>
            </a:xfrm>
            <a:custGeom>
              <a:avLst/>
              <a:gdLst/>
              <a:ahLst/>
              <a:rect l="0" t="0" r="r" b="b"/>
              <a:pathLst>
                <a:path w="354" h="2237">
                  <a:moveTo>
                    <a:pt x="275" y="0"/>
                  </a:moveTo>
                  <a:lnTo>
                    <a:pt x="164" y="1823"/>
                  </a:lnTo>
                  <a:lnTo>
                    <a:pt x="0" y="1809"/>
                  </a:lnTo>
                  <a:lnTo>
                    <a:pt x="35" y="2065"/>
                  </a:lnTo>
                  <a:lnTo>
                    <a:pt x="111" y="1924"/>
                  </a:lnTo>
                  <a:lnTo>
                    <a:pt x="159" y="2237"/>
                  </a:lnTo>
                  <a:lnTo>
                    <a:pt x="234" y="1495"/>
                  </a:lnTo>
                  <a:lnTo>
                    <a:pt x="284" y="1597"/>
                  </a:lnTo>
                  <a:lnTo>
                    <a:pt x="266" y="719"/>
                  </a:lnTo>
                  <a:lnTo>
                    <a:pt x="354" y="807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037360" y="2714760"/>
              <a:ext cx="109800" cy="101880"/>
            </a:xfrm>
            <a:custGeom>
              <a:avLst/>
              <a:gdLst/>
              <a:ahLst/>
              <a:rect l="0" t="0" r="r" b="b"/>
              <a:pathLst>
                <a:path w="305" h="283">
                  <a:moveTo>
                    <a:pt x="0" y="0"/>
                  </a:moveTo>
                  <a:lnTo>
                    <a:pt x="305" y="17"/>
                  </a:lnTo>
                  <a:lnTo>
                    <a:pt x="225" y="146"/>
                  </a:lnTo>
                  <a:lnTo>
                    <a:pt x="181" y="97"/>
                  </a:lnTo>
                  <a:lnTo>
                    <a:pt x="105" y="283"/>
                  </a:lnTo>
                  <a:lnTo>
                    <a:pt x="70" y="88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442360" y="1357200"/>
              <a:ext cx="62280" cy="448200"/>
            </a:xfrm>
            <a:custGeom>
              <a:avLst/>
              <a:gdLst/>
              <a:ahLst/>
              <a:rect l="0" t="0" r="r" b="b"/>
              <a:pathLst>
                <a:path w="173" h="1245">
                  <a:moveTo>
                    <a:pt x="49" y="0"/>
                  </a:moveTo>
                  <a:lnTo>
                    <a:pt x="0" y="838"/>
                  </a:lnTo>
                  <a:lnTo>
                    <a:pt x="71" y="1245"/>
                  </a:lnTo>
                  <a:lnTo>
                    <a:pt x="106" y="477"/>
                  </a:lnTo>
                  <a:lnTo>
                    <a:pt x="173" y="54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7991640" y="685800"/>
            <a:ext cx="506880" cy="2061000"/>
            <a:chOff x="7991640" y="685800"/>
            <a:chExt cx="506880" cy="2061000"/>
          </a:xfrm>
        </p:grpSpPr>
        <p:sp>
          <p:nvSpPr>
            <p:cNvPr id="807" name=""/>
            <p:cNvSpPr/>
            <p:nvPr/>
          </p:nvSpPr>
          <p:spPr>
            <a:xfrm>
              <a:off x="7991640" y="685800"/>
              <a:ext cx="506880" cy="2049840"/>
            </a:xfrm>
            <a:custGeom>
              <a:avLst/>
              <a:gdLst/>
              <a:ahLst/>
              <a:rect l="0" t="0" r="r" b="b"/>
              <a:pathLst>
                <a:path w="1408" h="5694">
                  <a:moveTo>
                    <a:pt x="0" y="5628"/>
                  </a:moveTo>
                  <a:lnTo>
                    <a:pt x="74" y="5633"/>
                  </a:lnTo>
                  <a:lnTo>
                    <a:pt x="127" y="5637"/>
                  </a:lnTo>
                  <a:lnTo>
                    <a:pt x="433" y="5655"/>
                  </a:lnTo>
                  <a:lnTo>
                    <a:pt x="468" y="5655"/>
                  </a:lnTo>
                  <a:lnTo>
                    <a:pt x="530" y="5659"/>
                  </a:lnTo>
                  <a:lnTo>
                    <a:pt x="587" y="5668"/>
                  </a:lnTo>
                  <a:lnTo>
                    <a:pt x="671" y="5672"/>
                  </a:lnTo>
                  <a:lnTo>
                    <a:pt x="733" y="5672"/>
                  </a:lnTo>
                  <a:lnTo>
                    <a:pt x="852" y="5681"/>
                  </a:lnTo>
                  <a:lnTo>
                    <a:pt x="918" y="5681"/>
                  </a:lnTo>
                  <a:lnTo>
                    <a:pt x="1082" y="5694"/>
                  </a:lnTo>
                  <a:lnTo>
                    <a:pt x="1192" y="3872"/>
                  </a:lnTo>
                  <a:lnTo>
                    <a:pt x="1201" y="3616"/>
                  </a:lnTo>
                  <a:lnTo>
                    <a:pt x="1236" y="3017"/>
                  </a:lnTo>
                  <a:lnTo>
                    <a:pt x="1254" y="2704"/>
                  </a:lnTo>
                  <a:lnTo>
                    <a:pt x="1302" y="1866"/>
                  </a:lnTo>
                  <a:lnTo>
                    <a:pt x="1324" y="1535"/>
                  </a:lnTo>
                  <a:lnTo>
                    <a:pt x="1408" y="0"/>
                  </a:lnTo>
                  <a:lnTo>
                    <a:pt x="52" y="114"/>
                  </a:lnTo>
                  <a:lnTo>
                    <a:pt x="0" y="56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024760" y="746280"/>
              <a:ext cx="410040" cy="1938600"/>
            </a:xfrm>
            <a:custGeom>
              <a:avLst/>
              <a:gdLst/>
              <a:ahLst/>
              <a:rect l="0" t="0" r="r" b="b"/>
              <a:pathLst>
                <a:path w="1139" h="5385">
                  <a:moveTo>
                    <a:pt x="83" y="57"/>
                  </a:moveTo>
                  <a:lnTo>
                    <a:pt x="1139" y="0"/>
                  </a:lnTo>
                  <a:lnTo>
                    <a:pt x="830" y="5385"/>
                  </a:lnTo>
                  <a:lnTo>
                    <a:pt x="0" y="5349"/>
                  </a:lnTo>
                  <a:lnTo>
                    <a:pt x="83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248680" y="2490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9" y="14"/>
                  </a:moveTo>
                  <a:lnTo>
                    <a:pt x="33" y="14"/>
                  </a:lnTo>
                  <a:lnTo>
                    <a:pt x="26" y="22"/>
                  </a:lnTo>
                  <a:lnTo>
                    <a:pt x="12" y="22"/>
                  </a:lnTo>
                  <a:lnTo>
                    <a:pt x="12" y="29"/>
                  </a:lnTo>
                  <a:lnTo>
                    <a:pt x="12" y="43"/>
                  </a:lnTo>
                  <a:lnTo>
                    <a:pt x="26" y="43"/>
                  </a:lnTo>
                  <a:lnTo>
                    <a:pt x="26" y="50"/>
                  </a:lnTo>
                  <a:lnTo>
                    <a:pt x="33" y="58"/>
                  </a:lnTo>
                  <a:lnTo>
                    <a:pt x="39" y="58"/>
                  </a:lnTo>
                  <a:lnTo>
                    <a:pt x="45" y="50"/>
                  </a:lnTo>
                  <a:lnTo>
                    <a:pt x="52" y="43"/>
                  </a:lnTo>
                  <a:lnTo>
                    <a:pt x="52" y="29"/>
                  </a:lnTo>
                  <a:lnTo>
                    <a:pt x="52" y="22"/>
                  </a:lnTo>
                  <a:lnTo>
                    <a:pt x="45" y="22"/>
                  </a:lnTo>
                  <a:lnTo>
                    <a:pt x="45" y="14"/>
                  </a:lnTo>
                  <a:lnTo>
                    <a:pt x="39" y="14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66" y="7"/>
                  </a:lnTo>
                  <a:lnTo>
                    <a:pt x="72" y="22"/>
                  </a:lnTo>
                  <a:lnTo>
                    <a:pt x="72" y="43"/>
                  </a:lnTo>
                  <a:lnTo>
                    <a:pt x="72" y="50"/>
                  </a:lnTo>
                  <a:lnTo>
                    <a:pt x="66" y="65"/>
                  </a:lnTo>
                  <a:lnTo>
                    <a:pt x="45" y="72"/>
                  </a:lnTo>
                  <a:lnTo>
                    <a:pt x="33" y="72"/>
                  </a:lnTo>
                  <a:lnTo>
                    <a:pt x="26" y="72"/>
                  </a:lnTo>
                  <a:lnTo>
                    <a:pt x="6" y="65"/>
                  </a:lnTo>
                  <a:lnTo>
                    <a:pt x="0" y="50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6" y="7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269200" y="2500200"/>
              <a:ext cx="36720" cy="60840"/>
            </a:xfrm>
            <a:custGeom>
              <a:avLst/>
              <a:gdLst/>
              <a:ahLst/>
              <a:rect l="0" t="0" r="r" b="b"/>
              <a:pathLst>
                <a:path w="102" h="169">
                  <a:moveTo>
                    <a:pt x="0" y="165"/>
                  </a:moveTo>
                  <a:lnTo>
                    <a:pt x="13" y="0"/>
                  </a:lnTo>
                  <a:lnTo>
                    <a:pt x="102" y="0"/>
                  </a:lnTo>
                  <a:lnTo>
                    <a:pt x="102" y="35"/>
                  </a:lnTo>
                  <a:lnTo>
                    <a:pt x="48" y="30"/>
                  </a:lnTo>
                  <a:lnTo>
                    <a:pt x="44" y="62"/>
                  </a:lnTo>
                  <a:lnTo>
                    <a:pt x="98" y="62"/>
                  </a:lnTo>
                  <a:lnTo>
                    <a:pt x="93" y="102"/>
                  </a:lnTo>
                  <a:lnTo>
                    <a:pt x="44" y="93"/>
                  </a:lnTo>
                  <a:lnTo>
                    <a:pt x="44" y="169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037360" y="2484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9" y="12"/>
                  </a:moveTo>
                  <a:lnTo>
                    <a:pt x="33" y="12"/>
                  </a:lnTo>
                  <a:lnTo>
                    <a:pt x="33" y="26"/>
                  </a:lnTo>
                  <a:lnTo>
                    <a:pt x="26" y="26"/>
                  </a:lnTo>
                  <a:lnTo>
                    <a:pt x="26" y="33"/>
                  </a:lnTo>
                  <a:lnTo>
                    <a:pt x="26" y="39"/>
                  </a:lnTo>
                  <a:lnTo>
                    <a:pt x="33" y="39"/>
                  </a:lnTo>
                  <a:lnTo>
                    <a:pt x="33" y="45"/>
                  </a:lnTo>
                  <a:lnTo>
                    <a:pt x="39" y="45"/>
                  </a:lnTo>
                  <a:lnTo>
                    <a:pt x="45" y="45"/>
                  </a:lnTo>
                  <a:lnTo>
                    <a:pt x="45" y="39"/>
                  </a:lnTo>
                  <a:lnTo>
                    <a:pt x="52" y="39"/>
                  </a:lnTo>
                  <a:lnTo>
                    <a:pt x="52" y="33"/>
                  </a:lnTo>
                  <a:lnTo>
                    <a:pt x="52" y="26"/>
                  </a:lnTo>
                  <a:lnTo>
                    <a:pt x="45" y="26"/>
                  </a:lnTo>
                  <a:lnTo>
                    <a:pt x="45" y="12"/>
                  </a:lnTo>
                  <a:lnTo>
                    <a:pt x="39" y="12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66" y="6"/>
                  </a:lnTo>
                  <a:lnTo>
                    <a:pt x="72" y="26"/>
                  </a:lnTo>
                  <a:lnTo>
                    <a:pt x="72" y="33"/>
                  </a:lnTo>
                  <a:lnTo>
                    <a:pt x="72" y="45"/>
                  </a:lnTo>
                  <a:lnTo>
                    <a:pt x="66" y="66"/>
                  </a:lnTo>
                  <a:lnTo>
                    <a:pt x="45" y="72"/>
                  </a:lnTo>
                  <a:lnTo>
                    <a:pt x="39" y="72"/>
                  </a:lnTo>
                  <a:lnTo>
                    <a:pt x="26" y="66"/>
                  </a:lnTo>
                  <a:lnTo>
                    <a:pt x="6" y="52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12"/>
                  </a:lnTo>
                  <a:lnTo>
                    <a:pt x="6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061480" y="2492280"/>
              <a:ext cx="38520" cy="59040"/>
            </a:xfrm>
            <a:custGeom>
              <a:avLst/>
              <a:gdLst/>
              <a:ahLst/>
              <a:rect l="0" t="0" r="r" b="b"/>
              <a:pathLst>
                <a:path w="107" h="164">
                  <a:moveTo>
                    <a:pt x="62" y="57"/>
                  </a:moveTo>
                  <a:lnTo>
                    <a:pt x="67" y="48"/>
                  </a:lnTo>
                  <a:lnTo>
                    <a:pt x="67" y="39"/>
                  </a:lnTo>
                  <a:lnTo>
                    <a:pt x="62" y="30"/>
                  </a:lnTo>
                  <a:lnTo>
                    <a:pt x="58" y="26"/>
                  </a:lnTo>
                  <a:lnTo>
                    <a:pt x="53" y="26"/>
                  </a:lnTo>
                  <a:lnTo>
                    <a:pt x="45" y="26"/>
                  </a:lnTo>
                  <a:lnTo>
                    <a:pt x="40" y="30"/>
                  </a:lnTo>
                  <a:lnTo>
                    <a:pt x="40" y="35"/>
                  </a:lnTo>
                  <a:lnTo>
                    <a:pt x="40" y="39"/>
                  </a:lnTo>
                  <a:lnTo>
                    <a:pt x="36" y="124"/>
                  </a:lnTo>
                  <a:lnTo>
                    <a:pt x="36" y="128"/>
                  </a:lnTo>
                  <a:lnTo>
                    <a:pt x="40" y="133"/>
                  </a:lnTo>
                  <a:lnTo>
                    <a:pt x="40" y="137"/>
                  </a:lnTo>
                  <a:lnTo>
                    <a:pt x="45" y="137"/>
                  </a:lnTo>
                  <a:lnTo>
                    <a:pt x="58" y="137"/>
                  </a:lnTo>
                  <a:lnTo>
                    <a:pt x="62" y="128"/>
                  </a:lnTo>
                  <a:lnTo>
                    <a:pt x="62" y="124"/>
                  </a:lnTo>
                  <a:lnTo>
                    <a:pt x="62" y="115"/>
                  </a:lnTo>
                  <a:lnTo>
                    <a:pt x="62" y="102"/>
                  </a:lnTo>
                  <a:lnTo>
                    <a:pt x="99" y="102"/>
                  </a:lnTo>
                  <a:lnTo>
                    <a:pt x="99" y="124"/>
                  </a:lnTo>
                  <a:lnTo>
                    <a:pt x="94" y="137"/>
                  </a:lnTo>
                  <a:lnTo>
                    <a:pt x="90" y="155"/>
                  </a:lnTo>
                  <a:lnTo>
                    <a:pt x="71" y="159"/>
                  </a:lnTo>
                  <a:lnTo>
                    <a:pt x="45" y="164"/>
                  </a:lnTo>
                  <a:lnTo>
                    <a:pt x="26" y="159"/>
                  </a:lnTo>
                  <a:lnTo>
                    <a:pt x="8" y="150"/>
                  </a:lnTo>
                  <a:lnTo>
                    <a:pt x="0" y="133"/>
                  </a:lnTo>
                  <a:lnTo>
                    <a:pt x="0" y="111"/>
                  </a:lnTo>
                  <a:lnTo>
                    <a:pt x="4" y="48"/>
                  </a:lnTo>
                  <a:lnTo>
                    <a:pt x="8" y="26"/>
                  </a:lnTo>
                  <a:lnTo>
                    <a:pt x="13" y="8"/>
                  </a:lnTo>
                  <a:lnTo>
                    <a:pt x="31" y="4"/>
                  </a:lnTo>
                  <a:lnTo>
                    <a:pt x="53" y="0"/>
                  </a:lnTo>
                  <a:lnTo>
                    <a:pt x="71" y="4"/>
                  </a:lnTo>
                  <a:lnTo>
                    <a:pt x="90" y="8"/>
                  </a:lnTo>
                  <a:lnTo>
                    <a:pt x="99" y="26"/>
                  </a:lnTo>
                  <a:lnTo>
                    <a:pt x="107" y="48"/>
                  </a:lnTo>
                  <a:lnTo>
                    <a:pt x="99" y="57"/>
                  </a:lnTo>
                  <a:lnTo>
                    <a:pt x="6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113680" y="1216080"/>
              <a:ext cx="128880" cy="1386360"/>
            </a:xfrm>
            <a:custGeom>
              <a:avLst/>
              <a:gdLst/>
              <a:ahLst/>
              <a:rect l="0" t="0" r="r" b="b"/>
              <a:pathLst>
                <a:path w="358" h="3851">
                  <a:moveTo>
                    <a:pt x="0" y="3829"/>
                  </a:moveTo>
                  <a:lnTo>
                    <a:pt x="309" y="3851"/>
                  </a:lnTo>
                  <a:lnTo>
                    <a:pt x="327" y="3445"/>
                  </a:lnTo>
                  <a:lnTo>
                    <a:pt x="230" y="3441"/>
                  </a:lnTo>
                  <a:lnTo>
                    <a:pt x="230" y="3375"/>
                  </a:lnTo>
                  <a:lnTo>
                    <a:pt x="239" y="3344"/>
                  </a:lnTo>
                  <a:lnTo>
                    <a:pt x="247" y="3018"/>
                  </a:lnTo>
                  <a:lnTo>
                    <a:pt x="247" y="2991"/>
                  </a:lnTo>
                  <a:lnTo>
                    <a:pt x="265" y="2646"/>
                  </a:lnTo>
                  <a:lnTo>
                    <a:pt x="265" y="2615"/>
                  </a:lnTo>
                  <a:lnTo>
                    <a:pt x="274" y="2285"/>
                  </a:lnTo>
                  <a:lnTo>
                    <a:pt x="274" y="2249"/>
                  </a:lnTo>
                  <a:lnTo>
                    <a:pt x="292" y="1901"/>
                  </a:lnTo>
                  <a:lnTo>
                    <a:pt x="292" y="1870"/>
                  </a:lnTo>
                  <a:lnTo>
                    <a:pt x="305" y="1517"/>
                  </a:lnTo>
                  <a:lnTo>
                    <a:pt x="305" y="1487"/>
                  </a:lnTo>
                  <a:lnTo>
                    <a:pt x="318" y="1121"/>
                  </a:lnTo>
                  <a:lnTo>
                    <a:pt x="322" y="1090"/>
                  </a:lnTo>
                  <a:lnTo>
                    <a:pt x="331" y="727"/>
                  </a:lnTo>
                  <a:lnTo>
                    <a:pt x="336" y="692"/>
                  </a:lnTo>
                  <a:lnTo>
                    <a:pt x="349" y="313"/>
                  </a:lnTo>
                  <a:lnTo>
                    <a:pt x="349" y="282"/>
                  </a:lnTo>
                  <a:lnTo>
                    <a:pt x="358" y="0"/>
                  </a:lnTo>
                  <a:lnTo>
                    <a:pt x="203" y="8"/>
                  </a:lnTo>
                  <a:lnTo>
                    <a:pt x="199" y="268"/>
                  </a:lnTo>
                  <a:lnTo>
                    <a:pt x="195" y="304"/>
                  </a:lnTo>
                  <a:lnTo>
                    <a:pt x="181" y="635"/>
                  </a:lnTo>
                  <a:lnTo>
                    <a:pt x="181" y="661"/>
                  </a:lnTo>
                  <a:lnTo>
                    <a:pt x="171" y="988"/>
                  </a:lnTo>
                  <a:lnTo>
                    <a:pt x="171" y="1019"/>
                  </a:lnTo>
                  <a:lnTo>
                    <a:pt x="163" y="1345"/>
                  </a:lnTo>
                  <a:lnTo>
                    <a:pt x="163" y="1372"/>
                  </a:lnTo>
                  <a:lnTo>
                    <a:pt x="149" y="1685"/>
                  </a:lnTo>
                  <a:lnTo>
                    <a:pt x="149" y="1716"/>
                  </a:lnTo>
                  <a:lnTo>
                    <a:pt x="141" y="2038"/>
                  </a:lnTo>
                  <a:lnTo>
                    <a:pt x="141" y="2069"/>
                  </a:lnTo>
                  <a:lnTo>
                    <a:pt x="127" y="2360"/>
                  </a:lnTo>
                  <a:lnTo>
                    <a:pt x="127" y="2391"/>
                  </a:lnTo>
                  <a:lnTo>
                    <a:pt x="119" y="2695"/>
                  </a:lnTo>
                  <a:lnTo>
                    <a:pt x="119" y="2726"/>
                  </a:lnTo>
                  <a:lnTo>
                    <a:pt x="110" y="3009"/>
                  </a:lnTo>
                  <a:lnTo>
                    <a:pt x="110" y="3044"/>
                  </a:lnTo>
                  <a:lnTo>
                    <a:pt x="97" y="3335"/>
                  </a:lnTo>
                  <a:lnTo>
                    <a:pt x="97" y="3371"/>
                  </a:lnTo>
                  <a:lnTo>
                    <a:pt x="97" y="3441"/>
                  </a:lnTo>
                  <a:lnTo>
                    <a:pt x="8" y="3432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037360" y="2295360"/>
              <a:ext cx="116280" cy="25920"/>
            </a:xfrm>
            <a:custGeom>
              <a:avLst/>
              <a:gdLst/>
              <a:ahLst/>
              <a:rect l="0" t="0" r="r" b="b"/>
              <a:pathLst>
                <a:path w="323" h="72">
                  <a:moveTo>
                    <a:pt x="323" y="72"/>
                  </a:moveTo>
                  <a:lnTo>
                    <a:pt x="323" y="14"/>
                  </a:lnTo>
                  <a:lnTo>
                    <a:pt x="4" y="0"/>
                  </a:lnTo>
                  <a:lnTo>
                    <a:pt x="0" y="50"/>
                  </a:lnTo>
                  <a:lnTo>
                    <a:pt x="32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202600" y="2292480"/>
              <a:ext cx="127440" cy="25920"/>
            </a:xfrm>
            <a:custGeom>
              <a:avLst/>
              <a:gdLst/>
              <a:ahLst/>
              <a:rect l="0" t="0" r="r" b="b"/>
              <a:pathLst>
                <a:path w="354" h="72">
                  <a:moveTo>
                    <a:pt x="0" y="53"/>
                  </a:moveTo>
                  <a:lnTo>
                    <a:pt x="0" y="0"/>
                  </a:lnTo>
                  <a:lnTo>
                    <a:pt x="354" y="8"/>
                  </a:lnTo>
                  <a:lnTo>
                    <a:pt x="354" y="72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211960" y="2025720"/>
              <a:ext cx="132120" cy="25920"/>
            </a:xfrm>
            <a:custGeom>
              <a:avLst/>
              <a:gdLst/>
              <a:ahLst/>
              <a:rect l="0" t="0" r="r" b="b"/>
              <a:pathLst>
                <a:path w="367" h="72">
                  <a:moveTo>
                    <a:pt x="0" y="72"/>
                  </a:moveTo>
                  <a:lnTo>
                    <a:pt x="0" y="0"/>
                  </a:lnTo>
                  <a:lnTo>
                    <a:pt x="367" y="0"/>
                  </a:lnTo>
                  <a:lnTo>
                    <a:pt x="367" y="72"/>
                  </a:lnTo>
                  <a:lnTo>
                    <a:pt x="353" y="72"/>
                  </a:lnTo>
                  <a:lnTo>
                    <a:pt x="314" y="72"/>
                  </a:lnTo>
                  <a:lnTo>
                    <a:pt x="256" y="72"/>
                  </a:lnTo>
                  <a:lnTo>
                    <a:pt x="186" y="72"/>
                  </a:lnTo>
                  <a:lnTo>
                    <a:pt x="123" y="72"/>
                  </a:lnTo>
                  <a:lnTo>
                    <a:pt x="61" y="72"/>
                  </a:lnTo>
                  <a:lnTo>
                    <a:pt x="2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40600" y="2065320"/>
              <a:ext cx="119520" cy="25920"/>
            </a:xfrm>
            <a:custGeom>
              <a:avLst/>
              <a:gdLst/>
              <a:ahLst/>
              <a:rect l="0" t="0" r="r" b="b"/>
              <a:pathLst>
                <a:path w="332" h="72">
                  <a:moveTo>
                    <a:pt x="332" y="0"/>
                  </a:moveTo>
                  <a:lnTo>
                    <a:pt x="332" y="72"/>
                  </a:lnTo>
                  <a:lnTo>
                    <a:pt x="8" y="72"/>
                  </a:lnTo>
                  <a:lnTo>
                    <a:pt x="0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39160" y="2184480"/>
              <a:ext cx="117720" cy="25920"/>
            </a:xfrm>
            <a:custGeom>
              <a:avLst/>
              <a:gdLst/>
              <a:ahLst/>
              <a:rect l="0" t="0" r="r" b="b"/>
              <a:pathLst>
                <a:path w="327" h="72">
                  <a:moveTo>
                    <a:pt x="327" y="72"/>
                  </a:moveTo>
                  <a:lnTo>
                    <a:pt x="327" y="8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27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209080" y="2157480"/>
              <a:ext cx="128880" cy="25920"/>
            </a:xfrm>
            <a:custGeom>
              <a:avLst/>
              <a:gdLst/>
              <a:ahLst/>
              <a:rect l="0" t="0" r="r" b="b"/>
              <a:pathLst>
                <a:path w="358" h="72">
                  <a:moveTo>
                    <a:pt x="0" y="63"/>
                  </a:moveTo>
                  <a:lnTo>
                    <a:pt x="0" y="0"/>
                  </a:lnTo>
                  <a:lnTo>
                    <a:pt x="358" y="8"/>
                  </a:lnTo>
                  <a:lnTo>
                    <a:pt x="358" y="7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053560" y="1444680"/>
              <a:ext cx="125640" cy="25920"/>
            </a:xfrm>
            <a:custGeom>
              <a:avLst/>
              <a:gdLst/>
              <a:ahLst/>
              <a:rect l="0" t="0" r="r" b="b"/>
              <a:pathLst>
                <a:path w="349" h="72">
                  <a:moveTo>
                    <a:pt x="349" y="53"/>
                  </a:moveTo>
                  <a:lnTo>
                    <a:pt x="349" y="0"/>
                  </a:lnTo>
                  <a:lnTo>
                    <a:pt x="0" y="17"/>
                  </a:lnTo>
                  <a:lnTo>
                    <a:pt x="0" y="72"/>
                  </a:lnTo>
                  <a:lnTo>
                    <a:pt x="3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232840" y="1461960"/>
              <a:ext cx="144720" cy="25920"/>
            </a:xfrm>
            <a:custGeom>
              <a:avLst/>
              <a:gdLst/>
              <a:ahLst/>
              <a:rect l="0" t="0" r="r" b="b"/>
              <a:pathLst>
                <a:path w="402" h="72">
                  <a:moveTo>
                    <a:pt x="0" y="72"/>
                  </a:moveTo>
                  <a:lnTo>
                    <a:pt x="4" y="14"/>
                  </a:lnTo>
                  <a:lnTo>
                    <a:pt x="402" y="0"/>
                  </a:lnTo>
                  <a:lnTo>
                    <a:pt x="402" y="5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050320" y="1571760"/>
              <a:ext cx="125640" cy="25920"/>
            </a:xfrm>
            <a:custGeom>
              <a:avLst/>
              <a:gdLst/>
              <a:ahLst/>
              <a:rect l="0" t="0" r="r" b="b"/>
              <a:pathLst>
                <a:path w="349" h="72">
                  <a:moveTo>
                    <a:pt x="349" y="0"/>
                  </a:moveTo>
                  <a:lnTo>
                    <a:pt x="349" y="50"/>
                  </a:lnTo>
                  <a:lnTo>
                    <a:pt x="0" y="72"/>
                  </a:lnTo>
                  <a:lnTo>
                    <a:pt x="0" y="14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55000" y="1312920"/>
              <a:ext cx="130680" cy="25920"/>
            </a:xfrm>
            <a:custGeom>
              <a:avLst/>
              <a:gdLst/>
              <a:ahLst/>
              <a:rect l="0" t="0" r="r" b="b"/>
              <a:pathLst>
                <a:path w="363" h="72">
                  <a:moveTo>
                    <a:pt x="363" y="0"/>
                  </a:moveTo>
                  <a:lnTo>
                    <a:pt x="359" y="58"/>
                  </a:lnTo>
                  <a:lnTo>
                    <a:pt x="0" y="72"/>
                  </a:lnTo>
                  <a:lnTo>
                    <a:pt x="0" y="2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238960" y="1312920"/>
              <a:ext cx="147960" cy="25920"/>
            </a:xfrm>
            <a:custGeom>
              <a:avLst/>
              <a:gdLst/>
              <a:ahLst/>
              <a:rect l="0" t="0" r="r" b="b"/>
              <a:pathLst>
                <a:path w="411" h="72">
                  <a:moveTo>
                    <a:pt x="0" y="22"/>
                  </a:moveTo>
                  <a:lnTo>
                    <a:pt x="0" y="72"/>
                  </a:lnTo>
                  <a:lnTo>
                    <a:pt x="406" y="58"/>
                  </a:lnTo>
                  <a:lnTo>
                    <a:pt x="411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196120" y="2419200"/>
              <a:ext cx="125640" cy="25920"/>
            </a:xfrm>
            <a:custGeom>
              <a:avLst/>
              <a:gdLst/>
              <a:ahLst/>
              <a:rect l="0" t="0" r="r" b="b"/>
              <a:pathLst>
                <a:path w="349" h="72">
                  <a:moveTo>
                    <a:pt x="0" y="56"/>
                  </a:moveTo>
                  <a:lnTo>
                    <a:pt x="349" y="72"/>
                  </a:lnTo>
                  <a:lnTo>
                    <a:pt x="349" y="15"/>
                  </a:lnTo>
                  <a:lnTo>
                    <a:pt x="8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037360" y="2413080"/>
              <a:ext cx="111600" cy="25920"/>
            </a:xfrm>
            <a:custGeom>
              <a:avLst/>
              <a:gdLst/>
              <a:ahLst/>
              <a:rect l="0" t="0" r="r" b="b"/>
              <a:pathLst>
                <a:path w="310" h="72">
                  <a:moveTo>
                    <a:pt x="310" y="72"/>
                  </a:moveTo>
                  <a:lnTo>
                    <a:pt x="301" y="72"/>
                  </a:lnTo>
                  <a:lnTo>
                    <a:pt x="262" y="72"/>
                  </a:lnTo>
                  <a:lnTo>
                    <a:pt x="212" y="65"/>
                  </a:lnTo>
                  <a:lnTo>
                    <a:pt x="155" y="65"/>
                  </a:lnTo>
                  <a:lnTo>
                    <a:pt x="98" y="65"/>
                  </a:lnTo>
                  <a:lnTo>
                    <a:pt x="48" y="50"/>
                  </a:lnTo>
                  <a:lnTo>
                    <a:pt x="8" y="50"/>
                  </a:lnTo>
                  <a:lnTo>
                    <a:pt x="0" y="50"/>
                  </a:lnTo>
                  <a:lnTo>
                    <a:pt x="0" y="0"/>
                  </a:lnTo>
                  <a:lnTo>
                    <a:pt x="8" y="0"/>
                  </a:lnTo>
                  <a:lnTo>
                    <a:pt x="48" y="0"/>
                  </a:lnTo>
                  <a:lnTo>
                    <a:pt x="98" y="7"/>
                  </a:lnTo>
                  <a:lnTo>
                    <a:pt x="155" y="7"/>
                  </a:lnTo>
                  <a:lnTo>
                    <a:pt x="212" y="7"/>
                  </a:lnTo>
                  <a:lnTo>
                    <a:pt x="262" y="14"/>
                  </a:lnTo>
                  <a:lnTo>
                    <a:pt x="301" y="14"/>
                  </a:lnTo>
                  <a:lnTo>
                    <a:pt x="310" y="14"/>
                  </a:lnTo>
                  <a:lnTo>
                    <a:pt x="31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228160" y="1606680"/>
              <a:ext cx="141480" cy="25920"/>
            </a:xfrm>
            <a:custGeom>
              <a:avLst/>
              <a:gdLst/>
              <a:ahLst/>
              <a:rect l="0" t="0" r="r" b="b"/>
              <a:pathLst>
                <a:path w="393" h="72">
                  <a:moveTo>
                    <a:pt x="0" y="72"/>
                  </a:moveTo>
                  <a:lnTo>
                    <a:pt x="4" y="8"/>
                  </a:lnTo>
                  <a:lnTo>
                    <a:pt x="393" y="0"/>
                  </a:lnTo>
                  <a:lnTo>
                    <a:pt x="393" y="63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047080" y="1700280"/>
              <a:ext cx="125640" cy="25920"/>
            </a:xfrm>
            <a:custGeom>
              <a:avLst/>
              <a:gdLst/>
              <a:ahLst/>
              <a:rect l="0" t="0" r="r" b="b"/>
              <a:pathLst>
                <a:path w="349" h="72">
                  <a:moveTo>
                    <a:pt x="349" y="0"/>
                  </a:moveTo>
                  <a:lnTo>
                    <a:pt x="349" y="48"/>
                  </a:lnTo>
                  <a:lnTo>
                    <a:pt x="4" y="72"/>
                  </a:lnTo>
                  <a:lnTo>
                    <a:pt x="0" y="7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223120" y="1749600"/>
              <a:ext cx="138600" cy="25920"/>
            </a:xfrm>
            <a:custGeom>
              <a:avLst/>
              <a:gdLst/>
              <a:ahLst/>
              <a:rect l="0" t="0" r="r" b="b"/>
              <a:pathLst>
                <a:path w="385" h="72">
                  <a:moveTo>
                    <a:pt x="0" y="72"/>
                  </a:moveTo>
                  <a:lnTo>
                    <a:pt x="0" y="8"/>
                  </a:lnTo>
                  <a:lnTo>
                    <a:pt x="385" y="0"/>
                  </a:lnTo>
                  <a:lnTo>
                    <a:pt x="385" y="63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047080" y="1822320"/>
              <a:ext cx="120960" cy="25920"/>
            </a:xfrm>
            <a:custGeom>
              <a:avLst/>
              <a:gdLst/>
              <a:ahLst/>
              <a:rect l="0" t="0" r="r" b="b"/>
              <a:pathLst>
                <a:path w="336" h="72">
                  <a:moveTo>
                    <a:pt x="336" y="63"/>
                  </a:moveTo>
                  <a:lnTo>
                    <a:pt x="336" y="0"/>
                  </a:lnTo>
                  <a:lnTo>
                    <a:pt x="0" y="8"/>
                  </a:lnTo>
                  <a:lnTo>
                    <a:pt x="0" y="72"/>
                  </a:lnTo>
                  <a:lnTo>
                    <a:pt x="33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218440" y="1889280"/>
              <a:ext cx="135360" cy="25920"/>
            </a:xfrm>
            <a:custGeom>
              <a:avLst/>
              <a:gdLst/>
              <a:ahLst/>
              <a:rect l="0" t="0" r="r" b="b"/>
              <a:pathLst>
                <a:path w="376" h="72">
                  <a:moveTo>
                    <a:pt x="0" y="72"/>
                  </a:moveTo>
                  <a:lnTo>
                    <a:pt x="0" y="0"/>
                  </a:lnTo>
                  <a:lnTo>
                    <a:pt x="376" y="0"/>
                  </a:lnTo>
                  <a:lnTo>
                    <a:pt x="3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43840" y="1949400"/>
              <a:ext cx="120960" cy="25920"/>
            </a:xfrm>
            <a:custGeom>
              <a:avLst/>
              <a:gdLst/>
              <a:ahLst/>
              <a:rect l="0" t="0" r="r" b="b"/>
              <a:pathLst>
                <a:path w="336" h="72">
                  <a:moveTo>
                    <a:pt x="336" y="63"/>
                  </a:moveTo>
                  <a:lnTo>
                    <a:pt x="336" y="0"/>
                  </a:lnTo>
                  <a:lnTo>
                    <a:pt x="0" y="8"/>
                  </a:lnTo>
                  <a:lnTo>
                    <a:pt x="4" y="72"/>
                  </a:lnTo>
                  <a:lnTo>
                    <a:pt x="33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15976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26" y="72"/>
                  </a:lnTo>
                  <a:lnTo>
                    <a:pt x="7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126280" y="1236600"/>
              <a:ext cx="97200" cy="1337040"/>
            </a:xfrm>
            <a:custGeom>
              <a:avLst/>
              <a:gdLst/>
              <a:ahLst/>
              <a:rect l="0" t="0" r="r" b="b"/>
              <a:pathLst>
                <a:path w="270" h="3714">
                  <a:moveTo>
                    <a:pt x="106" y="3115"/>
                  </a:moveTo>
                  <a:lnTo>
                    <a:pt x="218" y="30"/>
                  </a:lnTo>
                  <a:lnTo>
                    <a:pt x="218" y="22"/>
                  </a:lnTo>
                  <a:lnTo>
                    <a:pt x="222" y="8"/>
                  </a:lnTo>
                  <a:lnTo>
                    <a:pt x="235" y="4"/>
                  </a:lnTo>
                  <a:lnTo>
                    <a:pt x="244" y="0"/>
                  </a:lnTo>
                  <a:lnTo>
                    <a:pt x="257" y="0"/>
                  </a:lnTo>
                  <a:lnTo>
                    <a:pt x="266" y="4"/>
                  </a:lnTo>
                  <a:lnTo>
                    <a:pt x="270" y="17"/>
                  </a:lnTo>
                  <a:lnTo>
                    <a:pt x="270" y="26"/>
                  </a:lnTo>
                  <a:lnTo>
                    <a:pt x="159" y="3115"/>
                  </a:lnTo>
                  <a:lnTo>
                    <a:pt x="146" y="3485"/>
                  </a:lnTo>
                  <a:lnTo>
                    <a:pt x="181" y="3498"/>
                  </a:lnTo>
                  <a:lnTo>
                    <a:pt x="204" y="3520"/>
                  </a:lnTo>
                  <a:lnTo>
                    <a:pt x="218" y="3551"/>
                  </a:lnTo>
                  <a:lnTo>
                    <a:pt x="222" y="3595"/>
                  </a:lnTo>
                  <a:lnTo>
                    <a:pt x="213" y="3640"/>
                  </a:lnTo>
                  <a:lnTo>
                    <a:pt x="190" y="3675"/>
                  </a:lnTo>
                  <a:lnTo>
                    <a:pt x="159" y="3701"/>
                  </a:lnTo>
                  <a:lnTo>
                    <a:pt x="115" y="3714"/>
                  </a:lnTo>
                  <a:lnTo>
                    <a:pt x="75" y="3701"/>
                  </a:lnTo>
                  <a:lnTo>
                    <a:pt x="35" y="3675"/>
                  </a:lnTo>
                  <a:lnTo>
                    <a:pt x="8" y="3640"/>
                  </a:lnTo>
                  <a:lnTo>
                    <a:pt x="0" y="3595"/>
                  </a:lnTo>
                  <a:lnTo>
                    <a:pt x="4" y="3551"/>
                  </a:lnTo>
                  <a:lnTo>
                    <a:pt x="26" y="3520"/>
                  </a:lnTo>
                  <a:lnTo>
                    <a:pt x="57" y="3494"/>
                  </a:lnTo>
                  <a:lnTo>
                    <a:pt x="93" y="3476"/>
                  </a:lnTo>
                  <a:lnTo>
                    <a:pt x="106" y="3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126280" y="2357280"/>
              <a:ext cx="79560" cy="216360"/>
            </a:xfrm>
            <a:custGeom>
              <a:avLst/>
              <a:gdLst/>
              <a:ahLst/>
              <a:rect l="0" t="0" r="r" b="b"/>
              <a:pathLst>
                <a:path w="221" h="601">
                  <a:moveTo>
                    <a:pt x="159" y="0"/>
                  </a:moveTo>
                  <a:lnTo>
                    <a:pt x="146" y="371"/>
                  </a:lnTo>
                  <a:lnTo>
                    <a:pt x="181" y="384"/>
                  </a:lnTo>
                  <a:lnTo>
                    <a:pt x="203" y="406"/>
                  </a:lnTo>
                  <a:lnTo>
                    <a:pt x="217" y="437"/>
                  </a:lnTo>
                  <a:lnTo>
                    <a:pt x="221" y="482"/>
                  </a:lnTo>
                  <a:lnTo>
                    <a:pt x="212" y="526"/>
                  </a:lnTo>
                  <a:lnTo>
                    <a:pt x="190" y="562"/>
                  </a:lnTo>
                  <a:lnTo>
                    <a:pt x="159" y="588"/>
                  </a:lnTo>
                  <a:lnTo>
                    <a:pt x="115" y="601"/>
                  </a:lnTo>
                  <a:lnTo>
                    <a:pt x="74" y="588"/>
                  </a:lnTo>
                  <a:lnTo>
                    <a:pt x="35" y="562"/>
                  </a:lnTo>
                  <a:lnTo>
                    <a:pt x="8" y="526"/>
                  </a:lnTo>
                  <a:lnTo>
                    <a:pt x="0" y="482"/>
                  </a:lnTo>
                  <a:lnTo>
                    <a:pt x="4" y="437"/>
                  </a:lnTo>
                  <a:lnTo>
                    <a:pt x="26" y="406"/>
                  </a:lnTo>
                  <a:lnTo>
                    <a:pt x="57" y="380"/>
                  </a:lnTo>
                  <a:lnTo>
                    <a:pt x="92" y="362"/>
                  </a:lnTo>
                  <a:lnTo>
                    <a:pt x="105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8058240" y="538200"/>
            <a:ext cx="484560" cy="178200"/>
          </a:xfrm>
          <a:custGeom>
            <a:avLst/>
            <a:gdLst/>
            <a:ahLst/>
            <a:rect l="0" t="0" r="r" b="b"/>
            <a:pathLst>
              <a:path w="1346" h="495">
                <a:moveTo>
                  <a:pt x="1346" y="429"/>
                </a:moveTo>
                <a:lnTo>
                  <a:pt x="1329" y="390"/>
                </a:lnTo>
                <a:lnTo>
                  <a:pt x="1302" y="331"/>
                </a:lnTo>
                <a:lnTo>
                  <a:pt x="1254" y="256"/>
                </a:lnTo>
                <a:lnTo>
                  <a:pt x="1188" y="181"/>
                </a:lnTo>
                <a:lnTo>
                  <a:pt x="1091" y="110"/>
                </a:lnTo>
                <a:lnTo>
                  <a:pt x="962" y="48"/>
                </a:lnTo>
                <a:lnTo>
                  <a:pt x="807" y="8"/>
                </a:lnTo>
                <a:lnTo>
                  <a:pt x="609" y="0"/>
                </a:lnTo>
                <a:lnTo>
                  <a:pt x="455" y="17"/>
                </a:lnTo>
                <a:lnTo>
                  <a:pt x="326" y="61"/>
                </a:lnTo>
                <a:lnTo>
                  <a:pt x="224" y="123"/>
                </a:lnTo>
                <a:lnTo>
                  <a:pt x="145" y="190"/>
                </a:lnTo>
                <a:lnTo>
                  <a:pt x="79" y="261"/>
                </a:lnTo>
                <a:lnTo>
                  <a:pt x="44" y="327"/>
                </a:lnTo>
                <a:lnTo>
                  <a:pt x="17" y="381"/>
                </a:lnTo>
                <a:lnTo>
                  <a:pt x="0" y="407"/>
                </a:lnTo>
                <a:lnTo>
                  <a:pt x="26" y="412"/>
                </a:lnTo>
                <a:lnTo>
                  <a:pt x="52" y="416"/>
                </a:lnTo>
                <a:lnTo>
                  <a:pt x="74" y="434"/>
                </a:lnTo>
                <a:lnTo>
                  <a:pt x="97" y="451"/>
                </a:lnTo>
                <a:lnTo>
                  <a:pt x="105" y="460"/>
                </a:lnTo>
                <a:lnTo>
                  <a:pt x="119" y="469"/>
                </a:lnTo>
                <a:lnTo>
                  <a:pt x="123" y="482"/>
                </a:lnTo>
                <a:lnTo>
                  <a:pt x="127" y="491"/>
                </a:lnTo>
                <a:lnTo>
                  <a:pt x="145" y="451"/>
                </a:lnTo>
                <a:lnTo>
                  <a:pt x="171" y="403"/>
                </a:lnTo>
                <a:lnTo>
                  <a:pt x="207" y="353"/>
                </a:lnTo>
                <a:lnTo>
                  <a:pt x="264" y="305"/>
                </a:lnTo>
                <a:lnTo>
                  <a:pt x="326" y="256"/>
                </a:lnTo>
                <a:lnTo>
                  <a:pt x="402" y="217"/>
                </a:lnTo>
                <a:lnTo>
                  <a:pt x="499" y="190"/>
                </a:lnTo>
                <a:lnTo>
                  <a:pt x="609" y="181"/>
                </a:lnTo>
                <a:lnTo>
                  <a:pt x="755" y="190"/>
                </a:lnTo>
                <a:lnTo>
                  <a:pt x="865" y="217"/>
                </a:lnTo>
                <a:lnTo>
                  <a:pt x="949" y="265"/>
                </a:lnTo>
                <a:lnTo>
                  <a:pt x="1020" y="314"/>
                </a:lnTo>
                <a:lnTo>
                  <a:pt x="1069" y="376"/>
                </a:lnTo>
                <a:lnTo>
                  <a:pt x="1104" y="420"/>
                </a:lnTo>
                <a:lnTo>
                  <a:pt x="1126" y="469"/>
                </a:lnTo>
                <a:lnTo>
                  <a:pt x="1148" y="495"/>
                </a:lnTo>
                <a:lnTo>
                  <a:pt x="1161" y="487"/>
                </a:lnTo>
                <a:lnTo>
                  <a:pt x="1170" y="469"/>
                </a:lnTo>
                <a:lnTo>
                  <a:pt x="1179" y="460"/>
                </a:lnTo>
                <a:lnTo>
                  <a:pt x="1197" y="451"/>
                </a:lnTo>
                <a:lnTo>
                  <a:pt x="1219" y="438"/>
                </a:lnTo>
                <a:lnTo>
                  <a:pt x="1241" y="429"/>
                </a:lnTo>
                <a:lnTo>
                  <a:pt x="1263" y="420"/>
                </a:lnTo>
                <a:lnTo>
                  <a:pt x="1289" y="420"/>
                </a:lnTo>
                <a:lnTo>
                  <a:pt x="1302" y="420"/>
                </a:lnTo>
                <a:lnTo>
                  <a:pt x="1320" y="420"/>
                </a:lnTo>
                <a:lnTo>
                  <a:pt x="1333" y="429"/>
                </a:lnTo>
                <a:lnTo>
                  <a:pt x="1346" y="4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8377200" y="689040"/>
            <a:ext cx="332280" cy="451080"/>
          </a:xfrm>
          <a:custGeom>
            <a:avLst/>
            <a:gdLst/>
            <a:ahLst/>
            <a:rect l="0" t="0" r="r" b="b"/>
            <a:pathLst>
              <a:path w="923" h="1253">
                <a:moveTo>
                  <a:pt x="309" y="30"/>
                </a:moveTo>
                <a:lnTo>
                  <a:pt x="331" y="17"/>
                </a:lnTo>
                <a:lnTo>
                  <a:pt x="353" y="8"/>
                </a:lnTo>
                <a:lnTo>
                  <a:pt x="375" y="0"/>
                </a:lnTo>
                <a:lnTo>
                  <a:pt x="402" y="0"/>
                </a:lnTo>
                <a:lnTo>
                  <a:pt x="415" y="0"/>
                </a:lnTo>
                <a:lnTo>
                  <a:pt x="433" y="0"/>
                </a:lnTo>
                <a:lnTo>
                  <a:pt x="446" y="8"/>
                </a:lnTo>
                <a:lnTo>
                  <a:pt x="459" y="8"/>
                </a:lnTo>
                <a:lnTo>
                  <a:pt x="490" y="13"/>
                </a:lnTo>
                <a:lnTo>
                  <a:pt x="521" y="22"/>
                </a:lnTo>
                <a:lnTo>
                  <a:pt x="543" y="35"/>
                </a:lnTo>
                <a:lnTo>
                  <a:pt x="561" y="44"/>
                </a:lnTo>
                <a:lnTo>
                  <a:pt x="574" y="57"/>
                </a:lnTo>
                <a:lnTo>
                  <a:pt x="591" y="66"/>
                </a:lnTo>
                <a:lnTo>
                  <a:pt x="600" y="70"/>
                </a:lnTo>
                <a:lnTo>
                  <a:pt x="618" y="74"/>
                </a:lnTo>
                <a:lnTo>
                  <a:pt x="649" y="88"/>
                </a:lnTo>
                <a:lnTo>
                  <a:pt x="688" y="97"/>
                </a:lnTo>
                <a:lnTo>
                  <a:pt x="725" y="119"/>
                </a:lnTo>
                <a:lnTo>
                  <a:pt x="769" y="141"/>
                </a:lnTo>
                <a:lnTo>
                  <a:pt x="804" y="171"/>
                </a:lnTo>
                <a:lnTo>
                  <a:pt x="839" y="207"/>
                </a:lnTo>
                <a:lnTo>
                  <a:pt x="866" y="242"/>
                </a:lnTo>
                <a:lnTo>
                  <a:pt x="888" y="286"/>
                </a:lnTo>
                <a:lnTo>
                  <a:pt x="870" y="282"/>
                </a:lnTo>
                <a:lnTo>
                  <a:pt x="853" y="273"/>
                </a:lnTo>
                <a:lnTo>
                  <a:pt x="831" y="264"/>
                </a:lnTo>
                <a:lnTo>
                  <a:pt x="817" y="260"/>
                </a:lnTo>
                <a:lnTo>
                  <a:pt x="857" y="313"/>
                </a:lnTo>
                <a:lnTo>
                  <a:pt x="879" y="383"/>
                </a:lnTo>
                <a:lnTo>
                  <a:pt x="897" y="445"/>
                </a:lnTo>
                <a:lnTo>
                  <a:pt x="923" y="511"/>
                </a:lnTo>
                <a:lnTo>
                  <a:pt x="892" y="511"/>
                </a:lnTo>
                <a:lnTo>
                  <a:pt x="866" y="502"/>
                </a:lnTo>
                <a:lnTo>
                  <a:pt x="831" y="489"/>
                </a:lnTo>
                <a:lnTo>
                  <a:pt x="813" y="476"/>
                </a:lnTo>
                <a:lnTo>
                  <a:pt x="844" y="533"/>
                </a:lnTo>
                <a:lnTo>
                  <a:pt x="879" y="621"/>
                </a:lnTo>
                <a:lnTo>
                  <a:pt x="905" y="719"/>
                </a:lnTo>
                <a:lnTo>
                  <a:pt x="914" y="794"/>
                </a:lnTo>
                <a:lnTo>
                  <a:pt x="897" y="852"/>
                </a:lnTo>
                <a:lnTo>
                  <a:pt x="870" y="913"/>
                </a:lnTo>
                <a:lnTo>
                  <a:pt x="844" y="971"/>
                </a:lnTo>
                <a:lnTo>
                  <a:pt x="822" y="1006"/>
                </a:lnTo>
                <a:lnTo>
                  <a:pt x="804" y="1046"/>
                </a:lnTo>
                <a:lnTo>
                  <a:pt x="769" y="1099"/>
                </a:lnTo>
                <a:lnTo>
                  <a:pt x="725" y="1156"/>
                </a:lnTo>
                <a:lnTo>
                  <a:pt x="666" y="1200"/>
                </a:lnTo>
                <a:lnTo>
                  <a:pt x="666" y="1173"/>
                </a:lnTo>
                <a:lnTo>
                  <a:pt x="666" y="1151"/>
                </a:lnTo>
                <a:lnTo>
                  <a:pt x="662" y="1138"/>
                </a:lnTo>
                <a:lnTo>
                  <a:pt x="662" y="1116"/>
                </a:lnTo>
                <a:lnTo>
                  <a:pt x="640" y="1143"/>
                </a:lnTo>
                <a:lnTo>
                  <a:pt x="618" y="1173"/>
                </a:lnTo>
                <a:lnTo>
                  <a:pt x="574" y="1213"/>
                </a:lnTo>
                <a:lnTo>
                  <a:pt x="512" y="1244"/>
                </a:lnTo>
                <a:lnTo>
                  <a:pt x="516" y="1218"/>
                </a:lnTo>
                <a:lnTo>
                  <a:pt x="521" y="1200"/>
                </a:lnTo>
                <a:lnTo>
                  <a:pt x="521" y="1196"/>
                </a:lnTo>
                <a:lnTo>
                  <a:pt x="521" y="1191"/>
                </a:lnTo>
                <a:lnTo>
                  <a:pt x="472" y="1222"/>
                </a:lnTo>
                <a:lnTo>
                  <a:pt x="455" y="1244"/>
                </a:lnTo>
                <a:lnTo>
                  <a:pt x="433" y="1253"/>
                </a:lnTo>
                <a:lnTo>
                  <a:pt x="402" y="1253"/>
                </a:lnTo>
                <a:lnTo>
                  <a:pt x="393" y="1222"/>
                </a:lnTo>
                <a:lnTo>
                  <a:pt x="384" y="1196"/>
                </a:lnTo>
                <a:lnTo>
                  <a:pt x="362" y="1173"/>
                </a:lnTo>
                <a:lnTo>
                  <a:pt x="327" y="1165"/>
                </a:lnTo>
                <a:lnTo>
                  <a:pt x="283" y="1143"/>
                </a:lnTo>
                <a:lnTo>
                  <a:pt x="256" y="1112"/>
                </a:lnTo>
                <a:lnTo>
                  <a:pt x="224" y="1072"/>
                </a:lnTo>
                <a:lnTo>
                  <a:pt x="180" y="1046"/>
                </a:lnTo>
                <a:lnTo>
                  <a:pt x="145" y="1024"/>
                </a:lnTo>
                <a:lnTo>
                  <a:pt x="110" y="988"/>
                </a:lnTo>
                <a:lnTo>
                  <a:pt x="88" y="944"/>
                </a:lnTo>
                <a:lnTo>
                  <a:pt x="83" y="896"/>
                </a:lnTo>
                <a:lnTo>
                  <a:pt x="83" y="847"/>
                </a:lnTo>
                <a:lnTo>
                  <a:pt x="74" y="799"/>
                </a:lnTo>
                <a:lnTo>
                  <a:pt x="61" y="750"/>
                </a:lnTo>
                <a:lnTo>
                  <a:pt x="79" y="693"/>
                </a:lnTo>
                <a:lnTo>
                  <a:pt x="52" y="715"/>
                </a:lnTo>
                <a:lnTo>
                  <a:pt x="30" y="724"/>
                </a:lnTo>
                <a:lnTo>
                  <a:pt x="17" y="741"/>
                </a:lnTo>
                <a:lnTo>
                  <a:pt x="4" y="746"/>
                </a:lnTo>
                <a:lnTo>
                  <a:pt x="0" y="684"/>
                </a:lnTo>
                <a:lnTo>
                  <a:pt x="4" y="599"/>
                </a:lnTo>
                <a:lnTo>
                  <a:pt x="26" y="520"/>
                </a:lnTo>
                <a:lnTo>
                  <a:pt x="52" y="458"/>
                </a:lnTo>
                <a:lnTo>
                  <a:pt x="74" y="401"/>
                </a:lnTo>
                <a:lnTo>
                  <a:pt x="83" y="339"/>
                </a:lnTo>
                <a:lnTo>
                  <a:pt x="97" y="282"/>
                </a:lnTo>
                <a:lnTo>
                  <a:pt x="127" y="238"/>
                </a:lnTo>
                <a:lnTo>
                  <a:pt x="171" y="198"/>
                </a:lnTo>
                <a:lnTo>
                  <a:pt x="207" y="158"/>
                </a:lnTo>
                <a:lnTo>
                  <a:pt x="239" y="114"/>
                </a:lnTo>
                <a:lnTo>
                  <a:pt x="261" y="74"/>
                </a:lnTo>
                <a:lnTo>
                  <a:pt x="274" y="66"/>
                </a:lnTo>
                <a:lnTo>
                  <a:pt x="283" y="48"/>
                </a:lnTo>
                <a:lnTo>
                  <a:pt x="292" y="39"/>
                </a:lnTo>
                <a:lnTo>
                  <a:pt x="30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5736960" y="3511440"/>
            <a:ext cx="1023120" cy="869400"/>
            <a:chOff x="5736960" y="3511440"/>
            <a:chExt cx="1023120" cy="869400"/>
          </a:xfrm>
        </p:grpSpPr>
        <p:sp>
          <p:nvSpPr>
            <p:cNvPr id="839" name=""/>
            <p:cNvSpPr/>
            <p:nvPr/>
          </p:nvSpPr>
          <p:spPr>
            <a:xfrm>
              <a:off x="5736960" y="4115160"/>
              <a:ext cx="250560" cy="265680"/>
            </a:xfrm>
            <a:custGeom>
              <a:avLst/>
              <a:gdLst/>
              <a:ahLst/>
              <a:rect l="0" t="0" r="r" b="b"/>
              <a:pathLst>
                <a:path w="696" h="738">
                  <a:moveTo>
                    <a:pt x="196" y="27"/>
                  </a:moveTo>
                  <a:lnTo>
                    <a:pt x="196" y="27"/>
                  </a:lnTo>
                  <a:lnTo>
                    <a:pt x="196" y="27"/>
                  </a:lnTo>
                  <a:cubicBezTo>
                    <a:pt x="141" y="52"/>
                    <a:pt x="94" y="91"/>
                    <a:pt x="60" y="143"/>
                  </a:cubicBezTo>
                  <a:cubicBezTo>
                    <a:pt x="26" y="194"/>
                    <a:pt x="6" y="254"/>
                    <a:pt x="1" y="318"/>
                  </a:cubicBezTo>
                  <a:cubicBezTo>
                    <a:pt x="-3" y="383"/>
                    <a:pt x="9" y="448"/>
                    <a:pt x="35" y="508"/>
                  </a:cubicBezTo>
                  <a:cubicBezTo>
                    <a:pt x="62" y="568"/>
                    <a:pt x="103" y="620"/>
                    <a:pt x="153" y="660"/>
                  </a:cubicBezTo>
                  <a:cubicBezTo>
                    <a:pt x="204" y="700"/>
                    <a:pt x="262" y="725"/>
                    <a:pt x="323" y="734"/>
                  </a:cubicBezTo>
                  <a:cubicBezTo>
                    <a:pt x="384" y="743"/>
                    <a:pt x="445" y="734"/>
                    <a:pt x="500" y="710"/>
                  </a:cubicBezTo>
                  <a:lnTo>
                    <a:pt x="500" y="710"/>
                  </a:lnTo>
                  <a:lnTo>
                    <a:pt x="500" y="710"/>
                  </a:lnTo>
                  <a:cubicBezTo>
                    <a:pt x="555" y="685"/>
                    <a:pt x="602" y="646"/>
                    <a:pt x="636" y="594"/>
                  </a:cubicBezTo>
                  <a:cubicBezTo>
                    <a:pt x="670" y="543"/>
                    <a:pt x="690" y="483"/>
                    <a:pt x="695" y="419"/>
                  </a:cubicBezTo>
                  <a:cubicBezTo>
                    <a:pt x="699" y="354"/>
                    <a:pt x="687" y="289"/>
                    <a:pt x="661" y="229"/>
                  </a:cubicBezTo>
                  <a:cubicBezTo>
                    <a:pt x="634" y="169"/>
                    <a:pt x="593" y="117"/>
                    <a:pt x="543" y="77"/>
                  </a:cubicBezTo>
                  <a:cubicBezTo>
                    <a:pt x="492" y="37"/>
                    <a:pt x="434" y="12"/>
                    <a:pt x="373" y="3"/>
                  </a:cubicBezTo>
                  <a:cubicBezTo>
                    <a:pt x="312" y="-6"/>
                    <a:pt x="251" y="3"/>
                    <a:pt x="196" y="27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954760" y="3511440"/>
              <a:ext cx="805320" cy="854280"/>
            </a:xfrm>
            <a:custGeom>
              <a:avLst/>
              <a:gdLst/>
              <a:ahLst/>
              <a:rect l="0" t="0" r="r" b="b"/>
              <a:pathLst>
                <a:path w="2237" h="2373">
                  <a:moveTo>
                    <a:pt x="1865" y="0"/>
                  </a:moveTo>
                  <a:lnTo>
                    <a:pt x="1677" y="182"/>
                  </a:lnTo>
                  <a:lnTo>
                    <a:pt x="1491" y="912"/>
                  </a:lnTo>
                  <a:lnTo>
                    <a:pt x="1305" y="1460"/>
                  </a:lnTo>
                  <a:lnTo>
                    <a:pt x="0" y="1643"/>
                  </a:lnTo>
                  <a:lnTo>
                    <a:pt x="186" y="2373"/>
                  </a:lnTo>
                  <a:lnTo>
                    <a:pt x="1865" y="2008"/>
                  </a:lnTo>
                  <a:lnTo>
                    <a:pt x="2237" y="547"/>
                  </a:lnTo>
                  <a:lnTo>
                    <a:pt x="2237" y="182"/>
                  </a:lnTo>
                  <a:lnTo>
                    <a:pt x="2051" y="0"/>
                  </a:lnTo>
                  <a:lnTo>
                    <a:pt x="1865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8393040" y="711360"/>
            <a:ext cx="297360" cy="411480"/>
          </a:xfrm>
          <a:custGeom>
            <a:avLst/>
            <a:gdLst/>
            <a:ahLst/>
            <a:rect l="0" t="0" r="r" b="b"/>
            <a:pathLst>
              <a:path w="826" h="1143">
                <a:moveTo>
                  <a:pt x="367" y="0"/>
                </a:moveTo>
                <a:lnTo>
                  <a:pt x="411" y="0"/>
                </a:lnTo>
                <a:lnTo>
                  <a:pt x="446" y="4"/>
                </a:lnTo>
                <a:lnTo>
                  <a:pt x="472" y="13"/>
                </a:lnTo>
                <a:lnTo>
                  <a:pt x="499" y="26"/>
                </a:lnTo>
                <a:lnTo>
                  <a:pt x="516" y="35"/>
                </a:lnTo>
                <a:lnTo>
                  <a:pt x="530" y="48"/>
                </a:lnTo>
                <a:lnTo>
                  <a:pt x="547" y="57"/>
                </a:lnTo>
                <a:lnTo>
                  <a:pt x="565" y="61"/>
                </a:lnTo>
                <a:lnTo>
                  <a:pt x="591" y="70"/>
                </a:lnTo>
                <a:lnTo>
                  <a:pt x="618" y="79"/>
                </a:lnTo>
                <a:lnTo>
                  <a:pt x="645" y="88"/>
                </a:lnTo>
                <a:lnTo>
                  <a:pt x="672" y="105"/>
                </a:lnTo>
                <a:lnTo>
                  <a:pt x="694" y="123"/>
                </a:lnTo>
                <a:lnTo>
                  <a:pt x="716" y="132"/>
                </a:lnTo>
                <a:lnTo>
                  <a:pt x="734" y="154"/>
                </a:lnTo>
                <a:lnTo>
                  <a:pt x="747" y="171"/>
                </a:lnTo>
                <a:lnTo>
                  <a:pt x="729" y="171"/>
                </a:lnTo>
                <a:lnTo>
                  <a:pt x="720" y="171"/>
                </a:lnTo>
                <a:lnTo>
                  <a:pt x="703" y="171"/>
                </a:lnTo>
                <a:lnTo>
                  <a:pt x="694" y="171"/>
                </a:lnTo>
                <a:lnTo>
                  <a:pt x="747" y="220"/>
                </a:lnTo>
                <a:lnTo>
                  <a:pt x="773" y="277"/>
                </a:lnTo>
                <a:lnTo>
                  <a:pt x="786" y="335"/>
                </a:lnTo>
                <a:lnTo>
                  <a:pt x="822" y="388"/>
                </a:lnTo>
                <a:lnTo>
                  <a:pt x="795" y="383"/>
                </a:lnTo>
                <a:lnTo>
                  <a:pt x="760" y="366"/>
                </a:lnTo>
                <a:lnTo>
                  <a:pt x="729" y="357"/>
                </a:lnTo>
                <a:lnTo>
                  <a:pt x="698" y="352"/>
                </a:lnTo>
                <a:lnTo>
                  <a:pt x="734" y="427"/>
                </a:lnTo>
                <a:lnTo>
                  <a:pt x="778" y="546"/>
                </a:lnTo>
                <a:lnTo>
                  <a:pt x="813" y="662"/>
                </a:lnTo>
                <a:lnTo>
                  <a:pt x="826" y="737"/>
                </a:lnTo>
                <a:lnTo>
                  <a:pt x="808" y="785"/>
                </a:lnTo>
                <a:lnTo>
                  <a:pt x="782" y="838"/>
                </a:lnTo>
                <a:lnTo>
                  <a:pt x="756" y="887"/>
                </a:lnTo>
                <a:lnTo>
                  <a:pt x="742" y="918"/>
                </a:lnTo>
                <a:lnTo>
                  <a:pt x="729" y="944"/>
                </a:lnTo>
                <a:lnTo>
                  <a:pt x="720" y="984"/>
                </a:lnTo>
                <a:lnTo>
                  <a:pt x="694" y="1019"/>
                </a:lnTo>
                <a:lnTo>
                  <a:pt x="659" y="1054"/>
                </a:lnTo>
                <a:lnTo>
                  <a:pt x="654" y="1032"/>
                </a:lnTo>
                <a:lnTo>
                  <a:pt x="650" y="1010"/>
                </a:lnTo>
                <a:lnTo>
                  <a:pt x="645" y="993"/>
                </a:lnTo>
                <a:lnTo>
                  <a:pt x="632" y="979"/>
                </a:lnTo>
                <a:lnTo>
                  <a:pt x="613" y="1006"/>
                </a:lnTo>
                <a:lnTo>
                  <a:pt x="591" y="1041"/>
                </a:lnTo>
                <a:lnTo>
                  <a:pt x="552" y="1085"/>
                </a:lnTo>
                <a:lnTo>
                  <a:pt x="512" y="1125"/>
                </a:lnTo>
                <a:lnTo>
                  <a:pt x="512" y="1094"/>
                </a:lnTo>
                <a:lnTo>
                  <a:pt x="503" y="1076"/>
                </a:lnTo>
                <a:lnTo>
                  <a:pt x="499" y="1063"/>
                </a:lnTo>
                <a:lnTo>
                  <a:pt x="499" y="1059"/>
                </a:lnTo>
                <a:lnTo>
                  <a:pt x="468" y="1090"/>
                </a:lnTo>
                <a:lnTo>
                  <a:pt x="437" y="1112"/>
                </a:lnTo>
                <a:lnTo>
                  <a:pt x="411" y="1134"/>
                </a:lnTo>
                <a:lnTo>
                  <a:pt x="384" y="1143"/>
                </a:lnTo>
                <a:lnTo>
                  <a:pt x="375" y="1112"/>
                </a:lnTo>
                <a:lnTo>
                  <a:pt x="362" y="1090"/>
                </a:lnTo>
                <a:lnTo>
                  <a:pt x="344" y="1068"/>
                </a:lnTo>
                <a:lnTo>
                  <a:pt x="309" y="1059"/>
                </a:lnTo>
                <a:lnTo>
                  <a:pt x="269" y="1041"/>
                </a:lnTo>
                <a:lnTo>
                  <a:pt x="243" y="1015"/>
                </a:lnTo>
                <a:lnTo>
                  <a:pt x="217" y="984"/>
                </a:lnTo>
                <a:lnTo>
                  <a:pt x="180" y="957"/>
                </a:lnTo>
                <a:lnTo>
                  <a:pt x="141" y="935"/>
                </a:lnTo>
                <a:lnTo>
                  <a:pt x="114" y="909"/>
                </a:lnTo>
                <a:lnTo>
                  <a:pt x="92" y="874"/>
                </a:lnTo>
                <a:lnTo>
                  <a:pt x="92" y="830"/>
                </a:lnTo>
                <a:lnTo>
                  <a:pt x="92" y="768"/>
                </a:lnTo>
                <a:lnTo>
                  <a:pt x="83" y="693"/>
                </a:lnTo>
                <a:lnTo>
                  <a:pt x="79" y="622"/>
                </a:lnTo>
                <a:lnTo>
                  <a:pt x="83" y="555"/>
                </a:lnTo>
                <a:lnTo>
                  <a:pt x="57" y="574"/>
                </a:lnTo>
                <a:lnTo>
                  <a:pt x="35" y="583"/>
                </a:lnTo>
                <a:lnTo>
                  <a:pt x="13" y="591"/>
                </a:lnTo>
                <a:lnTo>
                  <a:pt x="0" y="605"/>
                </a:lnTo>
                <a:lnTo>
                  <a:pt x="4" y="560"/>
                </a:lnTo>
                <a:lnTo>
                  <a:pt x="17" y="511"/>
                </a:lnTo>
                <a:lnTo>
                  <a:pt x="39" y="463"/>
                </a:lnTo>
                <a:lnTo>
                  <a:pt x="66" y="414"/>
                </a:lnTo>
                <a:lnTo>
                  <a:pt x="88" y="361"/>
                </a:lnTo>
                <a:lnTo>
                  <a:pt x="92" y="299"/>
                </a:lnTo>
                <a:lnTo>
                  <a:pt x="101" y="238"/>
                </a:lnTo>
                <a:lnTo>
                  <a:pt x="127" y="202"/>
                </a:lnTo>
                <a:lnTo>
                  <a:pt x="163" y="171"/>
                </a:lnTo>
                <a:lnTo>
                  <a:pt x="194" y="132"/>
                </a:lnTo>
                <a:lnTo>
                  <a:pt x="221" y="97"/>
                </a:lnTo>
                <a:lnTo>
                  <a:pt x="243" y="61"/>
                </a:lnTo>
                <a:lnTo>
                  <a:pt x="265" y="44"/>
                </a:lnTo>
                <a:lnTo>
                  <a:pt x="292" y="22"/>
                </a:lnTo>
                <a:lnTo>
                  <a:pt x="322" y="4"/>
                </a:lnTo>
                <a:lnTo>
                  <a:pt x="367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8050320" y="757080"/>
            <a:ext cx="346320" cy="444960"/>
            <a:chOff x="8050320" y="757080"/>
            <a:chExt cx="346320" cy="444960"/>
          </a:xfrm>
        </p:grpSpPr>
        <p:sp>
          <p:nvSpPr>
            <p:cNvPr id="843" name=""/>
            <p:cNvSpPr/>
            <p:nvPr/>
          </p:nvSpPr>
          <p:spPr>
            <a:xfrm>
              <a:off x="8113680" y="820800"/>
              <a:ext cx="225720" cy="154440"/>
            </a:xfrm>
            <a:custGeom>
              <a:avLst/>
              <a:gdLst/>
              <a:ahLst/>
              <a:rect l="0" t="0" r="r" b="b"/>
              <a:pathLst>
                <a:path w="627" h="429">
                  <a:moveTo>
                    <a:pt x="238" y="398"/>
                  </a:moveTo>
                  <a:lnTo>
                    <a:pt x="255" y="376"/>
                  </a:lnTo>
                  <a:lnTo>
                    <a:pt x="277" y="345"/>
                  </a:lnTo>
                  <a:lnTo>
                    <a:pt x="295" y="309"/>
                  </a:lnTo>
                  <a:lnTo>
                    <a:pt x="304" y="274"/>
                  </a:lnTo>
                  <a:lnTo>
                    <a:pt x="327" y="337"/>
                  </a:lnTo>
                  <a:lnTo>
                    <a:pt x="367" y="385"/>
                  </a:lnTo>
                  <a:lnTo>
                    <a:pt x="411" y="420"/>
                  </a:lnTo>
                  <a:lnTo>
                    <a:pt x="459" y="429"/>
                  </a:lnTo>
                  <a:lnTo>
                    <a:pt x="494" y="425"/>
                  </a:lnTo>
                  <a:lnTo>
                    <a:pt x="525" y="412"/>
                  </a:lnTo>
                  <a:lnTo>
                    <a:pt x="552" y="390"/>
                  </a:lnTo>
                  <a:lnTo>
                    <a:pt x="578" y="363"/>
                  </a:lnTo>
                  <a:lnTo>
                    <a:pt x="600" y="332"/>
                  </a:lnTo>
                  <a:lnTo>
                    <a:pt x="613" y="300"/>
                  </a:lnTo>
                  <a:lnTo>
                    <a:pt x="622" y="256"/>
                  </a:lnTo>
                  <a:lnTo>
                    <a:pt x="627" y="212"/>
                  </a:lnTo>
                  <a:lnTo>
                    <a:pt x="622" y="172"/>
                  </a:lnTo>
                  <a:lnTo>
                    <a:pt x="613" y="128"/>
                  </a:lnTo>
                  <a:lnTo>
                    <a:pt x="600" y="97"/>
                  </a:lnTo>
                  <a:lnTo>
                    <a:pt x="578" y="61"/>
                  </a:lnTo>
                  <a:lnTo>
                    <a:pt x="552" y="35"/>
                  </a:lnTo>
                  <a:lnTo>
                    <a:pt x="525" y="17"/>
                  </a:lnTo>
                  <a:lnTo>
                    <a:pt x="494" y="4"/>
                  </a:lnTo>
                  <a:lnTo>
                    <a:pt x="459" y="0"/>
                  </a:lnTo>
                  <a:lnTo>
                    <a:pt x="433" y="4"/>
                  </a:lnTo>
                  <a:lnTo>
                    <a:pt x="406" y="8"/>
                  </a:lnTo>
                  <a:lnTo>
                    <a:pt x="380" y="26"/>
                  </a:lnTo>
                  <a:lnTo>
                    <a:pt x="358" y="48"/>
                  </a:lnTo>
                  <a:lnTo>
                    <a:pt x="336" y="70"/>
                  </a:lnTo>
                  <a:lnTo>
                    <a:pt x="322" y="101"/>
                  </a:lnTo>
                  <a:lnTo>
                    <a:pt x="308" y="128"/>
                  </a:lnTo>
                  <a:lnTo>
                    <a:pt x="299" y="168"/>
                  </a:lnTo>
                  <a:lnTo>
                    <a:pt x="277" y="111"/>
                  </a:lnTo>
                  <a:lnTo>
                    <a:pt x="246" y="70"/>
                  </a:lnTo>
                  <a:lnTo>
                    <a:pt x="202" y="44"/>
                  </a:lnTo>
                  <a:lnTo>
                    <a:pt x="154" y="30"/>
                  </a:lnTo>
                  <a:lnTo>
                    <a:pt x="97" y="48"/>
                  </a:lnTo>
                  <a:lnTo>
                    <a:pt x="48" y="92"/>
                  </a:lnTo>
                  <a:lnTo>
                    <a:pt x="13" y="150"/>
                  </a:lnTo>
                  <a:lnTo>
                    <a:pt x="0" y="230"/>
                  </a:lnTo>
                  <a:lnTo>
                    <a:pt x="13" y="305"/>
                  </a:lnTo>
                  <a:lnTo>
                    <a:pt x="48" y="363"/>
                  </a:lnTo>
                  <a:lnTo>
                    <a:pt x="97" y="407"/>
                  </a:lnTo>
                  <a:lnTo>
                    <a:pt x="154" y="425"/>
                  </a:lnTo>
                  <a:lnTo>
                    <a:pt x="176" y="425"/>
                  </a:lnTo>
                  <a:lnTo>
                    <a:pt x="198" y="420"/>
                  </a:lnTo>
                  <a:lnTo>
                    <a:pt x="216" y="407"/>
                  </a:lnTo>
                  <a:lnTo>
                    <a:pt x="238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156520" y="963720"/>
              <a:ext cx="54360" cy="74880"/>
            </a:xfrm>
            <a:custGeom>
              <a:avLst/>
              <a:gdLst/>
              <a:ahLst/>
              <a:rect l="0" t="0" r="r" b="b"/>
              <a:pathLst>
                <a:path w="151" h="208">
                  <a:moveTo>
                    <a:pt x="121" y="0"/>
                  </a:moveTo>
                  <a:lnTo>
                    <a:pt x="58" y="52"/>
                  </a:lnTo>
                  <a:lnTo>
                    <a:pt x="49" y="111"/>
                  </a:lnTo>
                  <a:lnTo>
                    <a:pt x="75" y="172"/>
                  </a:lnTo>
                  <a:lnTo>
                    <a:pt x="151" y="208"/>
                  </a:lnTo>
                  <a:lnTo>
                    <a:pt x="106" y="208"/>
                  </a:lnTo>
                  <a:lnTo>
                    <a:pt x="71" y="190"/>
                  </a:lnTo>
                  <a:lnTo>
                    <a:pt x="45" y="177"/>
                  </a:lnTo>
                  <a:lnTo>
                    <a:pt x="17" y="150"/>
                  </a:lnTo>
                  <a:lnTo>
                    <a:pt x="4" y="115"/>
                  </a:lnTo>
                  <a:lnTo>
                    <a:pt x="0" y="83"/>
                  </a:lnTo>
                  <a:lnTo>
                    <a:pt x="8" y="57"/>
                  </a:lnTo>
                  <a:lnTo>
                    <a:pt x="35" y="26"/>
                  </a:lnTo>
                  <a:lnTo>
                    <a:pt x="58" y="26"/>
                  </a:lnTo>
                  <a:lnTo>
                    <a:pt x="80" y="22"/>
                  </a:lnTo>
                  <a:lnTo>
                    <a:pt x="98" y="8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231040" y="995400"/>
              <a:ext cx="43200" cy="41760"/>
            </a:xfrm>
            <a:custGeom>
              <a:avLst/>
              <a:gdLst/>
              <a:ahLst/>
              <a:rect l="0" t="0" r="r" b="b"/>
              <a:pathLst>
                <a:path w="120" h="116">
                  <a:moveTo>
                    <a:pt x="0" y="116"/>
                  </a:moveTo>
                  <a:lnTo>
                    <a:pt x="67" y="112"/>
                  </a:lnTo>
                  <a:lnTo>
                    <a:pt x="106" y="84"/>
                  </a:lnTo>
                  <a:lnTo>
                    <a:pt x="120" y="45"/>
                  </a:lnTo>
                  <a:lnTo>
                    <a:pt x="102" y="0"/>
                  </a:lnTo>
                  <a:lnTo>
                    <a:pt x="98" y="36"/>
                  </a:lnTo>
                  <a:lnTo>
                    <a:pt x="84" y="62"/>
                  </a:lnTo>
                  <a:lnTo>
                    <a:pt x="52" y="9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63000" y="1050840"/>
              <a:ext cx="151200" cy="106560"/>
            </a:xfrm>
            <a:custGeom>
              <a:avLst/>
              <a:gdLst/>
              <a:ahLst/>
              <a:rect l="0" t="0" r="r" b="b"/>
              <a:pathLst>
                <a:path w="420" h="296">
                  <a:moveTo>
                    <a:pt x="0" y="8"/>
                  </a:moveTo>
                  <a:lnTo>
                    <a:pt x="52" y="0"/>
                  </a:lnTo>
                  <a:lnTo>
                    <a:pt x="106" y="0"/>
                  </a:lnTo>
                  <a:lnTo>
                    <a:pt x="168" y="8"/>
                  </a:lnTo>
                  <a:lnTo>
                    <a:pt x="230" y="17"/>
                  </a:lnTo>
                  <a:lnTo>
                    <a:pt x="287" y="39"/>
                  </a:lnTo>
                  <a:lnTo>
                    <a:pt x="341" y="70"/>
                  </a:lnTo>
                  <a:lnTo>
                    <a:pt x="385" y="119"/>
                  </a:lnTo>
                  <a:lnTo>
                    <a:pt x="420" y="181"/>
                  </a:lnTo>
                  <a:lnTo>
                    <a:pt x="385" y="212"/>
                  </a:lnTo>
                  <a:lnTo>
                    <a:pt x="341" y="243"/>
                  </a:lnTo>
                  <a:lnTo>
                    <a:pt x="296" y="269"/>
                  </a:lnTo>
                  <a:lnTo>
                    <a:pt x="247" y="287"/>
                  </a:lnTo>
                  <a:lnTo>
                    <a:pt x="195" y="296"/>
                  </a:lnTo>
                  <a:lnTo>
                    <a:pt x="137" y="296"/>
                  </a:lnTo>
                  <a:lnTo>
                    <a:pt x="70" y="287"/>
                  </a:lnTo>
                  <a:lnTo>
                    <a:pt x="4" y="265"/>
                  </a:lnTo>
                  <a:lnTo>
                    <a:pt x="44" y="15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292960" y="1041480"/>
              <a:ext cx="35280" cy="49680"/>
            </a:xfrm>
            <a:custGeom>
              <a:avLst/>
              <a:gdLst/>
              <a:ahLst/>
              <a:rect l="0" t="0" r="r" b="b"/>
              <a:pathLst>
                <a:path w="98" h="138">
                  <a:moveTo>
                    <a:pt x="98" y="138"/>
                  </a:moveTo>
                  <a:lnTo>
                    <a:pt x="98" y="67"/>
                  </a:lnTo>
                  <a:lnTo>
                    <a:pt x="75" y="22"/>
                  </a:lnTo>
                  <a:lnTo>
                    <a:pt x="39" y="0"/>
                  </a:lnTo>
                  <a:lnTo>
                    <a:pt x="0" y="8"/>
                  </a:lnTo>
                  <a:lnTo>
                    <a:pt x="30" y="17"/>
                  </a:lnTo>
                  <a:lnTo>
                    <a:pt x="58" y="40"/>
                  </a:lnTo>
                  <a:lnTo>
                    <a:pt x="80" y="75"/>
                  </a:lnTo>
                  <a:lnTo>
                    <a:pt x="98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313840" y="1020600"/>
              <a:ext cx="35280" cy="46440"/>
            </a:xfrm>
            <a:custGeom>
              <a:avLst/>
              <a:gdLst/>
              <a:ahLst/>
              <a:rect l="0" t="0" r="r" b="b"/>
              <a:pathLst>
                <a:path w="98" h="129">
                  <a:moveTo>
                    <a:pt x="98" y="129"/>
                  </a:moveTo>
                  <a:lnTo>
                    <a:pt x="98" y="67"/>
                  </a:lnTo>
                  <a:lnTo>
                    <a:pt x="80" y="17"/>
                  </a:lnTo>
                  <a:lnTo>
                    <a:pt x="44" y="0"/>
                  </a:lnTo>
                  <a:lnTo>
                    <a:pt x="0" y="4"/>
                  </a:lnTo>
                  <a:lnTo>
                    <a:pt x="30" y="17"/>
                  </a:lnTo>
                  <a:lnTo>
                    <a:pt x="58" y="40"/>
                  </a:lnTo>
                  <a:lnTo>
                    <a:pt x="80" y="71"/>
                  </a:lnTo>
                  <a:lnTo>
                    <a:pt x="98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147160" y="1147680"/>
              <a:ext cx="52920" cy="27360"/>
            </a:xfrm>
            <a:custGeom>
              <a:avLst/>
              <a:gdLst/>
              <a:ahLst/>
              <a:rect l="0" t="0" r="r" b="b"/>
              <a:pathLst>
                <a:path w="147" h="76">
                  <a:moveTo>
                    <a:pt x="147" y="59"/>
                  </a:moveTo>
                  <a:lnTo>
                    <a:pt x="112" y="72"/>
                  </a:lnTo>
                  <a:lnTo>
                    <a:pt x="84" y="76"/>
                  </a:lnTo>
                  <a:lnTo>
                    <a:pt x="58" y="76"/>
                  </a:lnTo>
                  <a:lnTo>
                    <a:pt x="30" y="72"/>
                  </a:lnTo>
                  <a:lnTo>
                    <a:pt x="17" y="59"/>
                  </a:lnTo>
                  <a:lnTo>
                    <a:pt x="4" y="4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2" y="27"/>
                  </a:lnTo>
                  <a:lnTo>
                    <a:pt x="45" y="45"/>
                  </a:lnTo>
                  <a:lnTo>
                    <a:pt x="80" y="59"/>
                  </a:lnTo>
                  <a:lnTo>
                    <a:pt x="14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131320" y="1174680"/>
              <a:ext cx="54360" cy="27360"/>
            </a:xfrm>
            <a:custGeom>
              <a:avLst/>
              <a:gdLst/>
              <a:ahLst/>
              <a:rect l="0" t="0" r="r" b="b"/>
              <a:pathLst>
                <a:path w="151" h="76">
                  <a:moveTo>
                    <a:pt x="151" y="59"/>
                  </a:moveTo>
                  <a:lnTo>
                    <a:pt x="121" y="72"/>
                  </a:lnTo>
                  <a:lnTo>
                    <a:pt x="89" y="76"/>
                  </a:lnTo>
                  <a:lnTo>
                    <a:pt x="62" y="76"/>
                  </a:lnTo>
                  <a:lnTo>
                    <a:pt x="40" y="72"/>
                  </a:lnTo>
                  <a:lnTo>
                    <a:pt x="17" y="59"/>
                  </a:lnTo>
                  <a:lnTo>
                    <a:pt x="4" y="4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2" y="27"/>
                  </a:lnTo>
                  <a:lnTo>
                    <a:pt x="49" y="45"/>
                  </a:lnTo>
                  <a:lnTo>
                    <a:pt x="89" y="59"/>
                  </a:lnTo>
                  <a:lnTo>
                    <a:pt x="15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240760" y="757080"/>
              <a:ext cx="155880" cy="100440"/>
            </a:xfrm>
            <a:custGeom>
              <a:avLst/>
              <a:gdLst/>
              <a:ahLst/>
              <a:rect l="0" t="0" r="r" b="b"/>
              <a:pathLst>
                <a:path w="433" h="279">
                  <a:moveTo>
                    <a:pt x="0" y="98"/>
                  </a:moveTo>
                  <a:lnTo>
                    <a:pt x="52" y="98"/>
                  </a:lnTo>
                  <a:lnTo>
                    <a:pt x="97" y="111"/>
                  </a:lnTo>
                  <a:lnTo>
                    <a:pt x="127" y="133"/>
                  </a:lnTo>
                  <a:lnTo>
                    <a:pt x="145" y="168"/>
                  </a:lnTo>
                  <a:lnTo>
                    <a:pt x="154" y="146"/>
                  </a:lnTo>
                  <a:lnTo>
                    <a:pt x="167" y="124"/>
                  </a:lnTo>
                  <a:lnTo>
                    <a:pt x="171" y="106"/>
                  </a:lnTo>
                  <a:lnTo>
                    <a:pt x="171" y="93"/>
                  </a:lnTo>
                  <a:lnTo>
                    <a:pt x="221" y="124"/>
                  </a:lnTo>
                  <a:lnTo>
                    <a:pt x="261" y="168"/>
                  </a:lnTo>
                  <a:lnTo>
                    <a:pt x="300" y="222"/>
                  </a:lnTo>
                  <a:lnTo>
                    <a:pt x="314" y="279"/>
                  </a:lnTo>
                  <a:lnTo>
                    <a:pt x="327" y="240"/>
                  </a:lnTo>
                  <a:lnTo>
                    <a:pt x="340" y="213"/>
                  </a:lnTo>
                  <a:lnTo>
                    <a:pt x="349" y="186"/>
                  </a:lnTo>
                  <a:lnTo>
                    <a:pt x="349" y="159"/>
                  </a:lnTo>
                  <a:lnTo>
                    <a:pt x="371" y="177"/>
                  </a:lnTo>
                  <a:lnTo>
                    <a:pt x="389" y="199"/>
                  </a:lnTo>
                  <a:lnTo>
                    <a:pt x="406" y="222"/>
                  </a:lnTo>
                  <a:lnTo>
                    <a:pt x="428" y="253"/>
                  </a:lnTo>
                  <a:lnTo>
                    <a:pt x="428" y="172"/>
                  </a:lnTo>
                  <a:lnTo>
                    <a:pt x="415" y="124"/>
                  </a:lnTo>
                  <a:lnTo>
                    <a:pt x="397" y="98"/>
                  </a:lnTo>
                  <a:lnTo>
                    <a:pt x="362" y="80"/>
                  </a:lnTo>
                  <a:lnTo>
                    <a:pt x="384" y="75"/>
                  </a:lnTo>
                  <a:lnTo>
                    <a:pt x="402" y="71"/>
                  </a:lnTo>
                  <a:lnTo>
                    <a:pt x="415" y="61"/>
                  </a:lnTo>
                  <a:lnTo>
                    <a:pt x="433" y="61"/>
                  </a:lnTo>
                  <a:lnTo>
                    <a:pt x="424" y="52"/>
                  </a:lnTo>
                  <a:lnTo>
                    <a:pt x="406" y="44"/>
                  </a:lnTo>
                  <a:lnTo>
                    <a:pt x="389" y="30"/>
                  </a:lnTo>
                  <a:lnTo>
                    <a:pt x="362" y="22"/>
                  </a:lnTo>
                  <a:lnTo>
                    <a:pt x="336" y="8"/>
                  </a:lnTo>
                  <a:lnTo>
                    <a:pt x="300" y="4"/>
                  </a:lnTo>
                  <a:lnTo>
                    <a:pt x="261" y="0"/>
                  </a:lnTo>
                  <a:lnTo>
                    <a:pt x="211" y="0"/>
                  </a:lnTo>
                  <a:lnTo>
                    <a:pt x="167" y="4"/>
                  </a:lnTo>
                  <a:lnTo>
                    <a:pt x="123" y="4"/>
                  </a:lnTo>
                  <a:lnTo>
                    <a:pt x="92" y="17"/>
                  </a:lnTo>
                  <a:lnTo>
                    <a:pt x="66" y="22"/>
                  </a:lnTo>
                  <a:lnTo>
                    <a:pt x="44" y="35"/>
                  </a:lnTo>
                  <a:lnTo>
                    <a:pt x="26" y="52"/>
                  </a:lnTo>
                  <a:lnTo>
                    <a:pt x="17" y="75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050320" y="773280"/>
              <a:ext cx="138600" cy="86040"/>
            </a:xfrm>
            <a:custGeom>
              <a:avLst/>
              <a:gdLst/>
              <a:ahLst/>
              <a:rect l="0" t="0" r="r" b="b"/>
              <a:pathLst>
                <a:path w="385" h="239">
                  <a:moveTo>
                    <a:pt x="39" y="239"/>
                  </a:moveTo>
                  <a:lnTo>
                    <a:pt x="30" y="203"/>
                  </a:lnTo>
                  <a:lnTo>
                    <a:pt x="35" y="164"/>
                  </a:lnTo>
                  <a:lnTo>
                    <a:pt x="44" y="128"/>
                  </a:lnTo>
                  <a:lnTo>
                    <a:pt x="61" y="92"/>
                  </a:lnTo>
                  <a:lnTo>
                    <a:pt x="57" y="88"/>
                  </a:lnTo>
                  <a:lnTo>
                    <a:pt x="39" y="83"/>
                  </a:lnTo>
                  <a:lnTo>
                    <a:pt x="22" y="88"/>
                  </a:lnTo>
                  <a:lnTo>
                    <a:pt x="0" y="88"/>
                  </a:lnTo>
                  <a:lnTo>
                    <a:pt x="17" y="74"/>
                  </a:lnTo>
                  <a:lnTo>
                    <a:pt x="35" y="57"/>
                  </a:lnTo>
                  <a:lnTo>
                    <a:pt x="61" y="39"/>
                  </a:lnTo>
                  <a:lnTo>
                    <a:pt x="88" y="26"/>
                  </a:lnTo>
                  <a:lnTo>
                    <a:pt x="111" y="13"/>
                  </a:lnTo>
                  <a:lnTo>
                    <a:pt x="137" y="8"/>
                  </a:lnTo>
                  <a:lnTo>
                    <a:pt x="164" y="4"/>
                  </a:lnTo>
                  <a:lnTo>
                    <a:pt x="186" y="0"/>
                  </a:lnTo>
                  <a:lnTo>
                    <a:pt x="225" y="0"/>
                  </a:lnTo>
                  <a:lnTo>
                    <a:pt x="265" y="4"/>
                  </a:lnTo>
                  <a:lnTo>
                    <a:pt x="297" y="13"/>
                  </a:lnTo>
                  <a:lnTo>
                    <a:pt x="328" y="30"/>
                  </a:lnTo>
                  <a:lnTo>
                    <a:pt x="354" y="52"/>
                  </a:lnTo>
                  <a:lnTo>
                    <a:pt x="372" y="79"/>
                  </a:lnTo>
                  <a:lnTo>
                    <a:pt x="381" y="110"/>
                  </a:lnTo>
                  <a:lnTo>
                    <a:pt x="385" y="150"/>
                  </a:lnTo>
                  <a:lnTo>
                    <a:pt x="359" y="128"/>
                  </a:lnTo>
                  <a:lnTo>
                    <a:pt x="341" y="114"/>
                  </a:lnTo>
                  <a:lnTo>
                    <a:pt x="319" y="110"/>
                  </a:lnTo>
                  <a:lnTo>
                    <a:pt x="297" y="105"/>
                  </a:lnTo>
                  <a:lnTo>
                    <a:pt x="265" y="133"/>
                  </a:lnTo>
                  <a:lnTo>
                    <a:pt x="225" y="159"/>
                  </a:lnTo>
                  <a:lnTo>
                    <a:pt x="195" y="190"/>
                  </a:lnTo>
                  <a:lnTo>
                    <a:pt x="172" y="225"/>
                  </a:lnTo>
                  <a:lnTo>
                    <a:pt x="168" y="195"/>
                  </a:lnTo>
                  <a:lnTo>
                    <a:pt x="164" y="168"/>
                  </a:lnTo>
                  <a:lnTo>
                    <a:pt x="159" y="155"/>
                  </a:lnTo>
                  <a:lnTo>
                    <a:pt x="150" y="133"/>
                  </a:lnTo>
                  <a:lnTo>
                    <a:pt x="128" y="150"/>
                  </a:lnTo>
                  <a:lnTo>
                    <a:pt x="102" y="164"/>
                  </a:lnTo>
                  <a:lnTo>
                    <a:pt x="70" y="195"/>
                  </a:lnTo>
                  <a:lnTo>
                    <a:pt x="39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259840" y="765000"/>
              <a:ext cx="127440" cy="62280"/>
            </a:xfrm>
            <a:custGeom>
              <a:avLst/>
              <a:gdLst/>
              <a:ahLst/>
              <a:rect l="0" t="0" r="r" b="b"/>
              <a:pathLst>
                <a:path w="354" h="173">
                  <a:moveTo>
                    <a:pt x="0" y="53"/>
                  </a:moveTo>
                  <a:lnTo>
                    <a:pt x="22" y="53"/>
                  </a:lnTo>
                  <a:lnTo>
                    <a:pt x="48" y="58"/>
                  </a:lnTo>
                  <a:lnTo>
                    <a:pt x="70" y="71"/>
                  </a:lnTo>
                  <a:lnTo>
                    <a:pt x="89" y="89"/>
                  </a:lnTo>
                  <a:lnTo>
                    <a:pt x="93" y="75"/>
                  </a:lnTo>
                  <a:lnTo>
                    <a:pt x="93" y="58"/>
                  </a:lnTo>
                  <a:lnTo>
                    <a:pt x="93" y="39"/>
                  </a:lnTo>
                  <a:lnTo>
                    <a:pt x="89" y="22"/>
                  </a:lnTo>
                  <a:lnTo>
                    <a:pt x="115" y="30"/>
                  </a:lnTo>
                  <a:lnTo>
                    <a:pt x="142" y="49"/>
                  </a:lnTo>
                  <a:lnTo>
                    <a:pt x="159" y="58"/>
                  </a:lnTo>
                  <a:lnTo>
                    <a:pt x="181" y="75"/>
                  </a:lnTo>
                  <a:lnTo>
                    <a:pt x="203" y="98"/>
                  </a:lnTo>
                  <a:lnTo>
                    <a:pt x="225" y="115"/>
                  </a:lnTo>
                  <a:lnTo>
                    <a:pt x="247" y="138"/>
                  </a:lnTo>
                  <a:lnTo>
                    <a:pt x="261" y="173"/>
                  </a:lnTo>
                  <a:lnTo>
                    <a:pt x="270" y="151"/>
                  </a:lnTo>
                  <a:lnTo>
                    <a:pt x="270" y="128"/>
                  </a:lnTo>
                  <a:lnTo>
                    <a:pt x="270" y="111"/>
                  </a:lnTo>
                  <a:lnTo>
                    <a:pt x="270" y="102"/>
                  </a:lnTo>
                  <a:lnTo>
                    <a:pt x="284" y="111"/>
                  </a:lnTo>
                  <a:lnTo>
                    <a:pt x="310" y="124"/>
                  </a:lnTo>
                  <a:lnTo>
                    <a:pt x="332" y="134"/>
                  </a:lnTo>
                  <a:lnTo>
                    <a:pt x="354" y="151"/>
                  </a:lnTo>
                  <a:lnTo>
                    <a:pt x="337" y="115"/>
                  </a:lnTo>
                  <a:lnTo>
                    <a:pt x="310" y="89"/>
                  </a:lnTo>
                  <a:lnTo>
                    <a:pt x="284" y="71"/>
                  </a:lnTo>
                  <a:lnTo>
                    <a:pt x="256" y="53"/>
                  </a:lnTo>
                  <a:lnTo>
                    <a:pt x="275" y="49"/>
                  </a:lnTo>
                  <a:lnTo>
                    <a:pt x="288" y="39"/>
                  </a:lnTo>
                  <a:lnTo>
                    <a:pt x="306" y="35"/>
                  </a:lnTo>
                  <a:lnTo>
                    <a:pt x="323" y="30"/>
                  </a:lnTo>
                  <a:lnTo>
                    <a:pt x="310" y="26"/>
                  </a:lnTo>
                  <a:lnTo>
                    <a:pt x="297" y="22"/>
                  </a:lnTo>
                  <a:lnTo>
                    <a:pt x="279" y="13"/>
                  </a:lnTo>
                  <a:lnTo>
                    <a:pt x="261" y="8"/>
                  </a:lnTo>
                  <a:lnTo>
                    <a:pt x="243" y="4"/>
                  </a:lnTo>
                  <a:lnTo>
                    <a:pt x="217" y="4"/>
                  </a:lnTo>
                  <a:lnTo>
                    <a:pt x="190" y="0"/>
                  </a:lnTo>
                  <a:lnTo>
                    <a:pt x="155" y="0"/>
                  </a:lnTo>
                  <a:lnTo>
                    <a:pt x="102" y="4"/>
                  </a:lnTo>
                  <a:lnTo>
                    <a:pt x="52" y="8"/>
                  </a:lnTo>
                  <a:lnTo>
                    <a:pt x="22" y="26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070840" y="779400"/>
              <a:ext cx="105120" cy="57600"/>
            </a:xfrm>
            <a:custGeom>
              <a:avLst/>
              <a:gdLst/>
              <a:ahLst/>
              <a:rect l="0" t="0" r="r" b="b"/>
              <a:pathLst>
                <a:path w="292" h="160">
                  <a:moveTo>
                    <a:pt x="0" y="160"/>
                  </a:moveTo>
                  <a:lnTo>
                    <a:pt x="8" y="125"/>
                  </a:lnTo>
                  <a:lnTo>
                    <a:pt x="17" y="98"/>
                  </a:lnTo>
                  <a:lnTo>
                    <a:pt x="35" y="75"/>
                  </a:lnTo>
                  <a:lnTo>
                    <a:pt x="44" y="58"/>
                  </a:lnTo>
                  <a:lnTo>
                    <a:pt x="35" y="49"/>
                  </a:lnTo>
                  <a:lnTo>
                    <a:pt x="26" y="49"/>
                  </a:lnTo>
                  <a:lnTo>
                    <a:pt x="13" y="49"/>
                  </a:lnTo>
                  <a:lnTo>
                    <a:pt x="0" y="49"/>
                  </a:lnTo>
                  <a:lnTo>
                    <a:pt x="17" y="35"/>
                  </a:lnTo>
                  <a:lnTo>
                    <a:pt x="52" y="22"/>
                  </a:lnTo>
                  <a:lnTo>
                    <a:pt x="88" y="13"/>
                  </a:lnTo>
                  <a:lnTo>
                    <a:pt x="114" y="8"/>
                  </a:lnTo>
                  <a:lnTo>
                    <a:pt x="145" y="0"/>
                  </a:lnTo>
                  <a:lnTo>
                    <a:pt x="172" y="8"/>
                  </a:lnTo>
                  <a:lnTo>
                    <a:pt x="199" y="8"/>
                  </a:lnTo>
                  <a:lnTo>
                    <a:pt x="221" y="13"/>
                  </a:lnTo>
                  <a:lnTo>
                    <a:pt x="243" y="22"/>
                  </a:lnTo>
                  <a:lnTo>
                    <a:pt x="265" y="39"/>
                  </a:lnTo>
                  <a:lnTo>
                    <a:pt x="283" y="62"/>
                  </a:lnTo>
                  <a:lnTo>
                    <a:pt x="292" y="84"/>
                  </a:lnTo>
                  <a:lnTo>
                    <a:pt x="274" y="71"/>
                  </a:lnTo>
                  <a:lnTo>
                    <a:pt x="265" y="62"/>
                  </a:lnTo>
                  <a:lnTo>
                    <a:pt x="247" y="62"/>
                  </a:lnTo>
                  <a:lnTo>
                    <a:pt x="234" y="58"/>
                  </a:lnTo>
                  <a:lnTo>
                    <a:pt x="208" y="75"/>
                  </a:lnTo>
                  <a:lnTo>
                    <a:pt x="181" y="106"/>
                  </a:lnTo>
                  <a:lnTo>
                    <a:pt x="155" y="125"/>
                  </a:lnTo>
                  <a:lnTo>
                    <a:pt x="132" y="147"/>
                  </a:lnTo>
                  <a:lnTo>
                    <a:pt x="127" y="125"/>
                  </a:lnTo>
                  <a:lnTo>
                    <a:pt x="119" y="111"/>
                  </a:lnTo>
                  <a:lnTo>
                    <a:pt x="114" y="93"/>
                  </a:lnTo>
                  <a:lnTo>
                    <a:pt x="110" y="75"/>
                  </a:lnTo>
                  <a:lnTo>
                    <a:pt x="92" y="89"/>
                  </a:lnTo>
                  <a:lnTo>
                    <a:pt x="61" y="106"/>
                  </a:lnTo>
                  <a:lnTo>
                    <a:pt x="30" y="134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126280" y="836640"/>
              <a:ext cx="201960" cy="124200"/>
            </a:xfrm>
            <a:custGeom>
              <a:avLst/>
              <a:gdLst/>
              <a:ahLst/>
              <a:rect l="0" t="0" r="r" b="b"/>
              <a:pathLst>
                <a:path w="561" h="345">
                  <a:moveTo>
                    <a:pt x="268" y="199"/>
                  </a:moveTo>
                  <a:lnTo>
                    <a:pt x="292" y="252"/>
                  </a:lnTo>
                  <a:lnTo>
                    <a:pt x="322" y="301"/>
                  </a:lnTo>
                  <a:lnTo>
                    <a:pt x="362" y="337"/>
                  </a:lnTo>
                  <a:lnTo>
                    <a:pt x="411" y="345"/>
                  </a:lnTo>
                  <a:lnTo>
                    <a:pt x="468" y="337"/>
                  </a:lnTo>
                  <a:lnTo>
                    <a:pt x="516" y="301"/>
                  </a:lnTo>
                  <a:lnTo>
                    <a:pt x="547" y="239"/>
                  </a:lnTo>
                  <a:lnTo>
                    <a:pt x="561" y="168"/>
                  </a:lnTo>
                  <a:lnTo>
                    <a:pt x="547" y="102"/>
                  </a:lnTo>
                  <a:lnTo>
                    <a:pt x="516" y="48"/>
                  </a:lnTo>
                  <a:lnTo>
                    <a:pt x="468" y="8"/>
                  </a:lnTo>
                  <a:lnTo>
                    <a:pt x="411" y="0"/>
                  </a:lnTo>
                  <a:lnTo>
                    <a:pt x="362" y="13"/>
                  </a:lnTo>
                  <a:lnTo>
                    <a:pt x="318" y="48"/>
                  </a:lnTo>
                  <a:lnTo>
                    <a:pt x="287" y="102"/>
                  </a:lnTo>
                  <a:lnTo>
                    <a:pt x="264" y="159"/>
                  </a:lnTo>
                  <a:lnTo>
                    <a:pt x="246" y="111"/>
                  </a:lnTo>
                  <a:lnTo>
                    <a:pt x="216" y="61"/>
                  </a:lnTo>
                  <a:lnTo>
                    <a:pt x="180" y="30"/>
                  </a:lnTo>
                  <a:lnTo>
                    <a:pt x="136" y="17"/>
                  </a:lnTo>
                  <a:lnTo>
                    <a:pt x="83" y="30"/>
                  </a:lnTo>
                  <a:lnTo>
                    <a:pt x="35" y="66"/>
                  </a:lnTo>
                  <a:lnTo>
                    <a:pt x="8" y="124"/>
                  </a:lnTo>
                  <a:lnTo>
                    <a:pt x="0" y="181"/>
                  </a:lnTo>
                  <a:lnTo>
                    <a:pt x="8" y="243"/>
                  </a:lnTo>
                  <a:lnTo>
                    <a:pt x="35" y="293"/>
                  </a:lnTo>
                  <a:lnTo>
                    <a:pt x="83" y="332"/>
                  </a:lnTo>
                  <a:lnTo>
                    <a:pt x="136" y="341"/>
                  </a:lnTo>
                  <a:lnTo>
                    <a:pt x="185" y="332"/>
                  </a:lnTo>
                  <a:lnTo>
                    <a:pt x="220" y="293"/>
                  </a:lnTo>
                  <a:lnTo>
                    <a:pt x="255" y="252"/>
                  </a:lnTo>
                  <a:lnTo>
                    <a:pt x="268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140680" y="885960"/>
              <a:ext cx="36720" cy="52920"/>
            </a:xfrm>
            <a:custGeom>
              <a:avLst/>
              <a:gdLst/>
              <a:ahLst/>
              <a:rect l="0" t="0" r="r" b="b"/>
              <a:pathLst>
                <a:path w="102" h="147">
                  <a:moveTo>
                    <a:pt x="53" y="147"/>
                  </a:moveTo>
                  <a:lnTo>
                    <a:pt x="75" y="143"/>
                  </a:lnTo>
                  <a:lnTo>
                    <a:pt x="89" y="125"/>
                  </a:lnTo>
                  <a:lnTo>
                    <a:pt x="98" y="102"/>
                  </a:lnTo>
                  <a:lnTo>
                    <a:pt x="102" y="71"/>
                  </a:lnTo>
                  <a:lnTo>
                    <a:pt x="98" y="45"/>
                  </a:lnTo>
                  <a:lnTo>
                    <a:pt x="89" y="22"/>
                  </a:lnTo>
                  <a:lnTo>
                    <a:pt x="75" y="4"/>
                  </a:lnTo>
                  <a:lnTo>
                    <a:pt x="53" y="0"/>
                  </a:lnTo>
                  <a:lnTo>
                    <a:pt x="35" y="4"/>
                  </a:lnTo>
                  <a:lnTo>
                    <a:pt x="17" y="22"/>
                  </a:lnTo>
                  <a:lnTo>
                    <a:pt x="4" y="45"/>
                  </a:lnTo>
                  <a:lnTo>
                    <a:pt x="0" y="71"/>
                  </a:lnTo>
                  <a:lnTo>
                    <a:pt x="4" y="102"/>
                  </a:lnTo>
                  <a:lnTo>
                    <a:pt x="17" y="125"/>
                  </a:lnTo>
                  <a:lnTo>
                    <a:pt x="35" y="143"/>
                  </a:lnTo>
                  <a:lnTo>
                    <a:pt x="5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250120" y="882720"/>
              <a:ext cx="38520" cy="57600"/>
            </a:xfrm>
            <a:custGeom>
              <a:avLst/>
              <a:gdLst/>
              <a:ahLst/>
              <a:rect l="0" t="0" r="r" b="b"/>
              <a:pathLst>
                <a:path w="107" h="160">
                  <a:moveTo>
                    <a:pt x="53" y="160"/>
                  </a:moveTo>
                  <a:lnTo>
                    <a:pt x="75" y="156"/>
                  </a:lnTo>
                  <a:lnTo>
                    <a:pt x="94" y="138"/>
                  </a:lnTo>
                  <a:lnTo>
                    <a:pt x="103" y="111"/>
                  </a:lnTo>
                  <a:lnTo>
                    <a:pt x="107" y="80"/>
                  </a:lnTo>
                  <a:lnTo>
                    <a:pt x="103" y="49"/>
                  </a:lnTo>
                  <a:lnTo>
                    <a:pt x="94" y="22"/>
                  </a:lnTo>
                  <a:lnTo>
                    <a:pt x="75" y="4"/>
                  </a:lnTo>
                  <a:lnTo>
                    <a:pt x="53" y="0"/>
                  </a:lnTo>
                  <a:lnTo>
                    <a:pt x="31" y="4"/>
                  </a:lnTo>
                  <a:lnTo>
                    <a:pt x="17" y="22"/>
                  </a:lnTo>
                  <a:lnTo>
                    <a:pt x="4" y="49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7" y="138"/>
                  </a:lnTo>
                  <a:lnTo>
                    <a:pt x="31" y="156"/>
                  </a:lnTo>
                  <a:lnTo>
                    <a:pt x="5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210520" y="111132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59" y="94"/>
                  </a:moveTo>
                  <a:lnTo>
                    <a:pt x="40" y="94"/>
                  </a:lnTo>
                  <a:lnTo>
                    <a:pt x="31" y="94"/>
                  </a:lnTo>
                  <a:lnTo>
                    <a:pt x="13" y="94"/>
                  </a:lnTo>
                  <a:lnTo>
                    <a:pt x="0" y="94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76" y="0"/>
                  </a:lnTo>
                  <a:lnTo>
                    <a:pt x="59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47240" y="11095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0" y="94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72" y="0"/>
                  </a:lnTo>
                  <a:lnTo>
                    <a:pt x="52" y="81"/>
                  </a:lnTo>
                  <a:lnTo>
                    <a:pt x="39" y="85"/>
                  </a:lnTo>
                  <a:lnTo>
                    <a:pt x="33" y="85"/>
                  </a:lnTo>
                  <a:lnTo>
                    <a:pt x="12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248680" y="1074600"/>
              <a:ext cx="25920" cy="28800"/>
            </a:xfrm>
            <a:custGeom>
              <a:avLst/>
              <a:gdLst/>
              <a:ahLst/>
              <a:rect l="0" t="0" r="r" b="b"/>
              <a:pathLst>
                <a:path w="72" h="80">
                  <a:moveTo>
                    <a:pt x="0" y="80"/>
                  </a:moveTo>
                  <a:lnTo>
                    <a:pt x="11" y="75"/>
                  </a:lnTo>
                  <a:lnTo>
                    <a:pt x="30" y="75"/>
                  </a:lnTo>
                  <a:lnTo>
                    <a:pt x="42" y="75"/>
                  </a:lnTo>
                  <a:lnTo>
                    <a:pt x="60" y="75"/>
                  </a:lnTo>
                  <a:lnTo>
                    <a:pt x="72" y="17"/>
                  </a:lnTo>
                  <a:lnTo>
                    <a:pt x="60" y="8"/>
                  </a:lnTo>
                  <a:lnTo>
                    <a:pt x="42" y="4"/>
                  </a:lnTo>
                  <a:lnTo>
                    <a:pt x="30" y="4"/>
                  </a:lnTo>
                  <a:lnTo>
                    <a:pt x="11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215200" y="106524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10" y="107"/>
                  </a:moveTo>
                  <a:lnTo>
                    <a:pt x="21" y="107"/>
                  </a:lnTo>
                  <a:lnTo>
                    <a:pt x="41" y="107"/>
                  </a:lnTo>
                  <a:lnTo>
                    <a:pt x="51" y="107"/>
                  </a:lnTo>
                  <a:lnTo>
                    <a:pt x="72" y="107"/>
                  </a:lnTo>
                  <a:lnTo>
                    <a:pt x="72" y="8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21" y="4"/>
                  </a:lnTo>
                  <a:lnTo>
                    <a:pt x="0" y="0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178840" y="1109520"/>
              <a:ext cx="27360" cy="35280"/>
            </a:xfrm>
            <a:custGeom>
              <a:avLst/>
              <a:gdLst/>
              <a:ahLst/>
              <a:rect l="0" t="0" r="r" b="b"/>
              <a:pathLst>
                <a:path w="76" h="98">
                  <a:moveTo>
                    <a:pt x="49" y="98"/>
                  </a:moveTo>
                  <a:lnTo>
                    <a:pt x="36" y="93"/>
                  </a:lnTo>
                  <a:lnTo>
                    <a:pt x="23" y="84"/>
                  </a:lnTo>
                  <a:lnTo>
                    <a:pt x="13" y="84"/>
                  </a:lnTo>
                  <a:lnTo>
                    <a:pt x="0" y="80"/>
                  </a:lnTo>
                  <a:lnTo>
                    <a:pt x="27" y="0"/>
                  </a:lnTo>
                  <a:lnTo>
                    <a:pt x="40" y="4"/>
                  </a:lnTo>
                  <a:lnTo>
                    <a:pt x="49" y="4"/>
                  </a:lnTo>
                  <a:lnTo>
                    <a:pt x="63" y="4"/>
                  </a:lnTo>
                  <a:lnTo>
                    <a:pt x="76" y="4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177040" y="1063800"/>
              <a:ext cx="32040" cy="39960"/>
            </a:xfrm>
            <a:custGeom>
              <a:avLst/>
              <a:gdLst/>
              <a:ahLst/>
              <a:rect l="0" t="0" r="r" b="b"/>
              <a:pathLst>
                <a:path w="89" h="111">
                  <a:moveTo>
                    <a:pt x="71" y="4"/>
                  </a:moveTo>
                  <a:lnTo>
                    <a:pt x="53" y="0"/>
                  </a:lnTo>
                  <a:lnTo>
                    <a:pt x="39" y="0"/>
                  </a:lnTo>
                  <a:lnTo>
                    <a:pt x="17" y="0"/>
                  </a:lnTo>
                  <a:lnTo>
                    <a:pt x="0" y="4"/>
                  </a:lnTo>
                  <a:lnTo>
                    <a:pt x="30" y="106"/>
                  </a:lnTo>
                  <a:lnTo>
                    <a:pt x="45" y="106"/>
                  </a:lnTo>
                  <a:lnTo>
                    <a:pt x="62" y="106"/>
                  </a:lnTo>
                  <a:lnTo>
                    <a:pt x="71" y="106"/>
                  </a:lnTo>
                  <a:lnTo>
                    <a:pt x="89" y="111"/>
                  </a:lnTo>
                  <a:lnTo>
                    <a:pt x="7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8250120" y="557280"/>
            <a:ext cx="271800" cy="143280"/>
          </a:xfrm>
          <a:custGeom>
            <a:avLst/>
            <a:gdLst/>
            <a:ahLst/>
            <a:rect l="0" t="0" r="r" b="b"/>
            <a:pathLst>
              <a:path w="755" h="398">
                <a:moveTo>
                  <a:pt x="0" y="4"/>
                </a:moveTo>
                <a:lnTo>
                  <a:pt x="176" y="0"/>
                </a:lnTo>
                <a:lnTo>
                  <a:pt x="326" y="22"/>
                </a:lnTo>
                <a:lnTo>
                  <a:pt x="455" y="70"/>
                </a:lnTo>
                <a:lnTo>
                  <a:pt x="556" y="124"/>
                </a:lnTo>
                <a:lnTo>
                  <a:pt x="631" y="190"/>
                </a:lnTo>
                <a:lnTo>
                  <a:pt x="688" y="256"/>
                </a:lnTo>
                <a:lnTo>
                  <a:pt x="733" y="323"/>
                </a:lnTo>
                <a:lnTo>
                  <a:pt x="755" y="368"/>
                </a:lnTo>
                <a:lnTo>
                  <a:pt x="728" y="368"/>
                </a:lnTo>
                <a:lnTo>
                  <a:pt x="706" y="376"/>
                </a:lnTo>
                <a:lnTo>
                  <a:pt x="684" y="385"/>
                </a:lnTo>
                <a:lnTo>
                  <a:pt x="662" y="398"/>
                </a:lnTo>
                <a:lnTo>
                  <a:pt x="640" y="354"/>
                </a:lnTo>
                <a:lnTo>
                  <a:pt x="609" y="301"/>
                </a:lnTo>
                <a:lnTo>
                  <a:pt x="556" y="239"/>
                </a:lnTo>
                <a:lnTo>
                  <a:pt x="490" y="177"/>
                </a:lnTo>
                <a:lnTo>
                  <a:pt x="406" y="115"/>
                </a:lnTo>
                <a:lnTo>
                  <a:pt x="295" y="70"/>
                </a:lnTo>
                <a:lnTo>
                  <a:pt x="158" y="26"/>
                </a:lnTo>
                <a:lnTo>
                  <a:pt x="0" y="4"/>
                </a:lnTo>
                <a:close/>
              </a:path>
            </a:pathLst>
          </a:custGeom>
          <a:solidFill>
            <a:srgbClr val="ccf2f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6248520" y="4554360"/>
            <a:ext cx="1495800" cy="1608480"/>
            <a:chOff x="6248520" y="4554360"/>
            <a:chExt cx="1495800" cy="1608480"/>
          </a:xfrm>
        </p:grpSpPr>
        <p:sp>
          <p:nvSpPr>
            <p:cNvPr id="866" name=""/>
            <p:cNvSpPr/>
            <p:nvPr/>
          </p:nvSpPr>
          <p:spPr>
            <a:xfrm>
              <a:off x="6626160" y="4554360"/>
              <a:ext cx="646560" cy="1483200"/>
            </a:xfrm>
            <a:custGeom>
              <a:avLst/>
              <a:gdLst/>
              <a:ahLst/>
              <a:rect l="0" t="0" r="r" b="b"/>
              <a:pathLst>
                <a:path w="1796" h="4120">
                  <a:moveTo>
                    <a:pt x="0" y="0"/>
                  </a:moveTo>
                  <a:lnTo>
                    <a:pt x="312" y="4120"/>
                  </a:lnTo>
                  <a:lnTo>
                    <a:pt x="1015" y="4120"/>
                  </a:lnTo>
                  <a:lnTo>
                    <a:pt x="911" y="1116"/>
                  </a:lnTo>
                  <a:lnTo>
                    <a:pt x="1015" y="4120"/>
                  </a:lnTo>
                  <a:lnTo>
                    <a:pt x="1796" y="4120"/>
                  </a:lnTo>
                  <a:lnTo>
                    <a:pt x="1718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48520" y="5983200"/>
              <a:ext cx="743400" cy="179640"/>
            </a:xfrm>
            <a:custGeom>
              <a:avLst/>
              <a:gdLst/>
              <a:ahLst/>
              <a:rect l="0" t="0" r="r" b="b"/>
              <a:pathLst>
                <a:path w="2065" h="499">
                  <a:moveTo>
                    <a:pt x="1359" y="158"/>
                  </a:moveTo>
                  <a:lnTo>
                    <a:pt x="967" y="45"/>
                  </a:lnTo>
                  <a:lnTo>
                    <a:pt x="706" y="0"/>
                  </a:lnTo>
                  <a:lnTo>
                    <a:pt x="417" y="90"/>
                  </a:lnTo>
                  <a:lnTo>
                    <a:pt x="130" y="226"/>
                  </a:lnTo>
                  <a:lnTo>
                    <a:pt x="0" y="408"/>
                  </a:lnTo>
                  <a:lnTo>
                    <a:pt x="182" y="499"/>
                  </a:lnTo>
                  <a:lnTo>
                    <a:pt x="2065" y="499"/>
                  </a:lnTo>
                  <a:lnTo>
                    <a:pt x="2065" y="158"/>
                  </a:lnTo>
                  <a:lnTo>
                    <a:pt x="1359" y="15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000920" y="5983200"/>
              <a:ext cx="743400" cy="179640"/>
            </a:xfrm>
            <a:custGeom>
              <a:avLst/>
              <a:gdLst/>
              <a:ahLst/>
              <a:rect l="0" t="0" r="r" b="b"/>
              <a:pathLst>
                <a:path w="2065" h="499">
                  <a:moveTo>
                    <a:pt x="706" y="158"/>
                  </a:moveTo>
                  <a:lnTo>
                    <a:pt x="1098" y="45"/>
                  </a:lnTo>
                  <a:lnTo>
                    <a:pt x="1359" y="0"/>
                  </a:lnTo>
                  <a:lnTo>
                    <a:pt x="1647" y="90"/>
                  </a:lnTo>
                  <a:lnTo>
                    <a:pt x="1935" y="226"/>
                  </a:lnTo>
                  <a:lnTo>
                    <a:pt x="2065" y="408"/>
                  </a:lnTo>
                  <a:lnTo>
                    <a:pt x="1882" y="499"/>
                  </a:lnTo>
                  <a:lnTo>
                    <a:pt x="0" y="499"/>
                  </a:lnTo>
                  <a:lnTo>
                    <a:pt x="0" y="158"/>
                  </a:lnTo>
                  <a:lnTo>
                    <a:pt x="706" y="15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6404040" y="1905120"/>
            <a:ext cx="1068480" cy="2821320"/>
            <a:chOff x="6404040" y="1905120"/>
            <a:chExt cx="1068480" cy="2821320"/>
          </a:xfrm>
        </p:grpSpPr>
        <p:sp>
          <p:nvSpPr>
            <p:cNvPr id="870" name=""/>
            <p:cNvSpPr/>
            <p:nvPr/>
          </p:nvSpPr>
          <p:spPr>
            <a:xfrm>
              <a:off x="6502320" y="3346560"/>
              <a:ext cx="970200" cy="1379880"/>
            </a:xfrm>
            <a:custGeom>
              <a:avLst/>
              <a:gdLst/>
              <a:ahLst/>
              <a:rect l="0" t="0" r="r" b="b"/>
              <a:pathLst>
                <a:path w="2695" h="3833">
                  <a:moveTo>
                    <a:pt x="943" y="323"/>
                  </a:moveTo>
                  <a:lnTo>
                    <a:pt x="856" y="338"/>
                  </a:lnTo>
                  <a:lnTo>
                    <a:pt x="790" y="376"/>
                  </a:lnTo>
                  <a:lnTo>
                    <a:pt x="664" y="501"/>
                  </a:lnTo>
                  <a:lnTo>
                    <a:pt x="534" y="623"/>
                  </a:lnTo>
                  <a:lnTo>
                    <a:pt x="386" y="733"/>
                  </a:lnTo>
                  <a:lnTo>
                    <a:pt x="365" y="767"/>
                  </a:lnTo>
                  <a:lnTo>
                    <a:pt x="343" y="802"/>
                  </a:lnTo>
                  <a:lnTo>
                    <a:pt x="343" y="802"/>
                  </a:lnTo>
                  <a:lnTo>
                    <a:pt x="365" y="802"/>
                  </a:lnTo>
                  <a:lnTo>
                    <a:pt x="152" y="1338"/>
                  </a:lnTo>
                  <a:lnTo>
                    <a:pt x="0" y="3745"/>
                  </a:lnTo>
                  <a:lnTo>
                    <a:pt x="2695" y="3833"/>
                  </a:lnTo>
                  <a:lnTo>
                    <a:pt x="2291" y="1589"/>
                  </a:lnTo>
                  <a:lnTo>
                    <a:pt x="2095" y="357"/>
                  </a:lnTo>
                  <a:lnTo>
                    <a:pt x="1369" y="0"/>
                  </a:lnTo>
                  <a:lnTo>
                    <a:pt x="943" y="323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794640" y="3355920"/>
              <a:ext cx="300240" cy="155880"/>
            </a:xfrm>
            <a:custGeom>
              <a:avLst/>
              <a:gdLst/>
              <a:ahLst/>
              <a:rect l="0" t="0" r="r" b="b"/>
              <a:pathLst>
                <a:path w="834" h="433">
                  <a:moveTo>
                    <a:pt x="0" y="296"/>
                  </a:moveTo>
                  <a:lnTo>
                    <a:pt x="234" y="410"/>
                  </a:lnTo>
                  <a:lnTo>
                    <a:pt x="652" y="433"/>
                  </a:lnTo>
                  <a:lnTo>
                    <a:pt x="834" y="228"/>
                  </a:lnTo>
                  <a:lnTo>
                    <a:pt x="834" y="68"/>
                  </a:lnTo>
                  <a:lnTo>
                    <a:pt x="652" y="0"/>
                  </a:lnTo>
                  <a:lnTo>
                    <a:pt x="469" y="228"/>
                  </a:lnTo>
                  <a:lnTo>
                    <a:pt x="182" y="251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6404040" y="1905120"/>
              <a:ext cx="992520" cy="1567440"/>
              <a:chOff x="6404040" y="1905120"/>
              <a:chExt cx="992520" cy="1567440"/>
            </a:xfrm>
          </p:grpSpPr>
          <p:sp>
            <p:nvSpPr>
              <p:cNvPr id="873" name=""/>
              <p:cNvSpPr/>
              <p:nvPr/>
            </p:nvSpPr>
            <p:spPr>
              <a:xfrm>
                <a:off x="6512040" y="2109960"/>
                <a:ext cx="884520" cy="1362600"/>
              </a:xfrm>
              <a:custGeom>
                <a:avLst/>
                <a:gdLst/>
                <a:ahLst/>
                <a:rect l="0" t="0" r="r" b="b"/>
                <a:pathLst>
                  <a:path w="2457" h="3785">
                    <a:moveTo>
                      <a:pt x="574" y="0"/>
                    </a:moveTo>
                    <a:lnTo>
                      <a:pt x="261" y="227"/>
                    </a:lnTo>
                    <a:lnTo>
                      <a:pt x="78" y="592"/>
                    </a:lnTo>
                    <a:lnTo>
                      <a:pt x="26" y="1049"/>
                    </a:lnTo>
                    <a:lnTo>
                      <a:pt x="0" y="2325"/>
                    </a:lnTo>
                    <a:lnTo>
                      <a:pt x="52" y="3056"/>
                    </a:lnTo>
                    <a:lnTo>
                      <a:pt x="810" y="3101"/>
                    </a:lnTo>
                    <a:lnTo>
                      <a:pt x="914" y="3512"/>
                    </a:lnTo>
                    <a:lnTo>
                      <a:pt x="1019" y="3785"/>
                    </a:lnTo>
                    <a:lnTo>
                      <a:pt x="1255" y="3785"/>
                    </a:lnTo>
                    <a:lnTo>
                      <a:pt x="1385" y="3534"/>
                    </a:lnTo>
                    <a:lnTo>
                      <a:pt x="1307" y="3101"/>
                    </a:lnTo>
                    <a:lnTo>
                      <a:pt x="2013" y="3033"/>
                    </a:lnTo>
                    <a:lnTo>
                      <a:pt x="2039" y="2599"/>
                    </a:lnTo>
                    <a:lnTo>
                      <a:pt x="2195" y="2667"/>
                    </a:lnTo>
                    <a:lnTo>
                      <a:pt x="2352" y="2622"/>
                    </a:lnTo>
                    <a:lnTo>
                      <a:pt x="2457" y="2257"/>
                    </a:lnTo>
                    <a:lnTo>
                      <a:pt x="2326" y="2075"/>
                    </a:lnTo>
                    <a:lnTo>
                      <a:pt x="2169" y="2097"/>
                    </a:lnTo>
                    <a:lnTo>
                      <a:pt x="2326" y="159"/>
                    </a:lnTo>
                    <a:lnTo>
                      <a:pt x="5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404040" y="2489040"/>
                <a:ext cx="404640" cy="353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751800" y="2457360"/>
                <a:ext cx="479520" cy="42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740640" y="1932120"/>
                <a:ext cx="6120" cy="18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6851520" y="1914480"/>
                <a:ext cx="15840" cy="18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7012080" y="1905120"/>
                <a:ext cx="36360" cy="19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7172280" y="1946160"/>
                <a:ext cx="54000" cy="17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V="1">
                <a:off x="7311960" y="1971720"/>
                <a:ext cx="5400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540480" y="3009960"/>
                <a:ext cx="507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438960" y="2679840"/>
                <a:ext cx="77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3" name=""/>
          <p:cNvGrpSpPr/>
          <p:nvPr/>
        </p:nvGrpSpPr>
        <p:grpSpPr>
          <a:xfrm>
            <a:off x="7169040" y="3494160"/>
            <a:ext cx="503280" cy="1246320"/>
            <a:chOff x="7169040" y="3494160"/>
            <a:chExt cx="503280" cy="1246320"/>
          </a:xfrm>
        </p:grpSpPr>
        <p:sp>
          <p:nvSpPr>
            <p:cNvPr id="884" name=""/>
            <p:cNvSpPr/>
            <p:nvPr/>
          </p:nvSpPr>
          <p:spPr>
            <a:xfrm>
              <a:off x="7169040" y="3494160"/>
              <a:ext cx="481320" cy="1026000"/>
            </a:xfrm>
            <a:custGeom>
              <a:avLst/>
              <a:gdLst/>
              <a:ahLst/>
              <a:rect l="0" t="0" r="r" b="b"/>
              <a:pathLst>
                <a:path w="1337" h="2850">
                  <a:moveTo>
                    <a:pt x="235" y="0"/>
                  </a:moveTo>
                  <a:lnTo>
                    <a:pt x="78" y="91"/>
                  </a:lnTo>
                  <a:lnTo>
                    <a:pt x="0" y="364"/>
                  </a:lnTo>
                  <a:lnTo>
                    <a:pt x="209" y="1140"/>
                  </a:lnTo>
                  <a:lnTo>
                    <a:pt x="523" y="2850"/>
                  </a:lnTo>
                  <a:lnTo>
                    <a:pt x="1337" y="2713"/>
                  </a:lnTo>
                  <a:lnTo>
                    <a:pt x="970" y="1254"/>
                  </a:lnTo>
                  <a:lnTo>
                    <a:pt x="550" y="205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73880" y="4494240"/>
              <a:ext cx="298440" cy="24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1727280" y="4854600"/>
            <a:ext cx="828720" cy="1165680"/>
            <a:chOff x="1727280" y="4854600"/>
            <a:chExt cx="828720" cy="1165680"/>
          </a:xfrm>
        </p:grpSpPr>
        <p:sp>
          <p:nvSpPr>
            <p:cNvPr id="887" name=""/>
            <p:cNvSpPr/>
            <p:nvPr/>
          </p:nvSpPr>
          <p:spPr>
            <a:xfrm>
              <a:off x="1755720" y="5335560"/>
              <a:ext cx="582840" cy="675000"/>
            </a:xfrm>
            <a:custGeom>
              <a:avLst/>
              <a:gdLst/>
              <a:ahLst/>
              <a:rect l="0" t="0" r="r" b="b"/>
              <a:pathLst>
                <a:path w="1619" h="1875">
                  <a:moveTo>
                    <a:pt x="308" y="668"/>
                  </a:moveTo>
                  <a:lnTo>
                    <a:pt x="142" y="794"/>
                  </a:lnTo>
                  <a:lnTo>
                    <a:pt x="35" y="968"/>
                  </a:lnTo>
                  <a:lnTo>
                    <a:pt x="0" y="1137"/>
                  </a:lnTo>
                  <a:lnTo>
                    <a:pt x="11" y="1321"/>
                  </a:lnTo>
                  <a:lnTo>
                    <a:pt x="53" y="1491"/>
                  </a:lnTo>
                  <a:lnTo>
                    <a:pt x="91" y="1569"/>
                  </a:lnTo>
                  <a:lnTo>
                    <a:pt x="189" y="1663"/>
                  </a:lnTo>
                  <a:lnTo>
                    <a:pt x="320" y="1751"/>
                  </a:lnTo>
                  <a:lnTo>
                    <a:pt x="480" y="1838"/>
                  </a:lnTo>
                  <a:lnTo>
                    <a:pt x="580" y="1866"/>
                  </a:lnTo>
                  <a:lnTo>
                    <a:pt x="788" y="1875"/>
                  </a:lnTo>
                  <a:lnTo>
                    <a:pt x="970" y="1872"/>
                  </a:lnTo>
                  <a:lnTo>
                    <a:pt x="1079" y="1847"/>
                  </a:lnTo>
                  <a:lnTo>
                    <a:pt x="1242" y="1790"/>
                  </a:lnTo>
                  <a:lnTo>
                    <a:pt x="1400" y="1702"/>
                  </a:lnTo>
                  <a:lnTo>
                    <a:pt x="1515" y="1575"/>
                  </a:lnTo>
                  <a:lnTo>
                    <a:pt x="1589" y="1376"/>
                  </a:lnTo>
                  <a:lnTo>
                    <a:pt x="1619" y="1195"/>
                  </a:lnTo>
                  <a:lnTo>
                    <a:pt x="1592" y="1016"/>
                  </a:lnTo>
                  <a:lnTo>
                    <a:pt x="1518" y="876"/>
                  </a:lnTo>
                  <a:lnTo>
                    <a:pt x="1405" y="746"/>
                  </a:lnTo>
                  <a:lnTo>
                    <a:pt x="1325" y="661"/>
                  </a:lnTo>
                  <a:lnTo>
                    <a:pt x="1391" y="583"/>
                  </a:lnTo>
                  <a:lnTo>
                    <a:pt x="1423" y="459"/>
                  </a:lnTo>
                  <a:lnTo>
                    <a:pt x="1402" y="314"/>
                  </a:lnTo>
                  <a:lnTo>
                    <a:pt x="1349" y="211"/>
                  </a:lnTo>
                  <a:lnTo>
                    <a:pt x="1272" y="117"/>
                  </a:lnTo>
                  <a:lnTo>
                    <a:pt x="1174" y="45"/>
                  </a:lnTo>
                  <a:lnTo>
                    <a:pt x="1127" y="12"/>
                  </a:lnTo>
                  <a:lnTo>
                    <a:pt x="988" y="57"/>
                  </a:lnTo>
                  <a:lnTo>
                    <a:pt x="819" y="54"/>
                  </a:lnTo>
                  <a:lnTo>
                    <a:pt x="702" y="0"/>
                  </a:lnTo>
                  <a:lnTo>
                    <a:pt x="527" y="27"/>
                  </a:lnTo>
                  <a:lnTo>
                    <a:pt x="388" y="105"/>
                  </a:lnTo>
                  <a:lnTo>
                    <a:pt x="293" y="220"/>
                  </a:lnTo>
                  <a:lnTo>
                    <a:pt x="263" y="308"/>
                  </a:lnTo>
                  <a:lnTo>
                    <a:pt x="254" y="323"/>
                  </a:lnTo>
                  <a:lnTo>
                    <a:pt x="269" y="429"/>
                  </a:lnTo>
                  <a:lnTo>
                    <a:pt x="260" y="441"/>
                  </a:lnTo>
                  <a:lnTo>
                    <a:pt x="284" y="562"/>
                  </a:lnTo>
                  <a:lnTo>
                    <a:pt x="30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971720" y="5065560"/>
              <a:ext cx="259200" cy="292320"/>
            </a:xfrm>
            <a:custGeom>
              <a:avLst/>
              <a:gdLst/>
              <a:ahLst/>
              <a:rect l="0" t="0" r="r" b="b"/>
              <a:pathLst>
                <a:path w="720" h="812">
                  <a:moveTo>
                    <a:pt x="38" y="654"/>
                  </a:moveTo>
                  <a:lnTo>
                    <a:pt x="0" y="533"/>
                  </a:lnTo>
                  <a:lnTo>
                    <a:pt x="0" y="427"/>
                  </a:lnTo>
                  <a:lnTo>
                    <a:pt x="20" y="284"/>
                  </a:lnTo>
                  <a:lnTo>
                    <a:pt x="103" y="157"/>
                  </a:lnTo>
                  <a:lnTo>
                    <a:pt x="219" y="66"/>
                  </a:lnTo>
                  <a:lnTo>
                    <a:pt x="350" y="15"/>
                  </a:lnTo>
                  <a:lnTo>
                    <a:pt x="456" y="0"/>
                  </a:lnTo>
                  <a:lnTo>
                    <a:pt x="561" y="24"/>
                  </a:lnTo>
                  <a:lnTo>
                    <a:pt x="649" y="66"/>
                  </a:lnTo>
                  <a:lnTo>
                    <a:pt x="705" y="160"/>
                  </a:lnTo>
                  <a:lnTo>
                    <a:pt x="720" y="293"/>
                  </a:lnTo>
                  <a:lnTo>
                    <a:pt x="705" y="427"/>
                  </a:lnTo>
                  <a:lnTo>
                    <a:pt x="655" y="564"/>
                  </a:lnTo>
                  <a:lnTo>
                    <a:pt x="596" y="679"/>
                  </a:lnTo>
                  <a:lnTo>
                    <a:pt x="506" y="760"/>
                  </a:lnTo>
                  <a:lnTo>
                    <a:pt x="421" y="800"/>
                  </a:lnTo>
                  <a:lnTo>
                    <a:pt x="276" y="812"/>
                  </a:lnTo>
                  <a:lnTo>
                    <a:pt x="171" y="773"/>
                  </a:lnTo>
                  <a:lnTo>
                    <a:pt x="88" y="742"/>
                  </a:lnTo>
                  <a:lnTo>
                    <a:pt x="38" y="6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957320" y="5054760"/>
              <a:ext cx="282960" cy="311400"/>
            </a:xfrm>
            <a:custGeom>
              <a:avLst/>
              <a:gdLst/>
              <a:ahLst/>
              <a:rect l="0" t="0" r="r" b="b"/>
              <a:pathLst>
                <a:path w="786" h="865">
                  <a:moveTo>
                    <a:pt x="0" y="415"/>
                  </a:moveTo>
                  <a:lnTo>
                    <a:pt x="23" y="330"/>
                  </a:lnTo>
                  <a:lnTo>
                    <a:pt x="65" y="242"/>
                  </a:lnTo>
                  <a:lnTo>
                    <a:pt x="133" y="154"/>
                  </a:lnTo>
                  <a:lnTo>
                    <a:pt x="232" y="75"/>
                  </a:lnTo>
                  <a:lnTo>
                    <a:pt x="336" y="21"/>
                  </a:lnTo>
                  <a:lnTo>
                    <a:pt x="441" y="0"/>
                  </a:lnTo>
                  <a:lnTo>
                    <a:pt x="521" y="3"/>
                  </a:lnTo>
                  <a:lnTo>
                    <a:pt x="602" y="18"/>
                  </a:lnTo>
                  <a:lnTo>
                    <a:pt x="688" y="51"/>
                  </a:lnTo>
                  <a:lnTo>
                    <a:pt x="739" y="115"/>
                  </a:lnTo>
                  <a:lnTo>
                    <a:pt x="778" y="203"/>
                  </a:lnTo>
                  <a:lnTo>
                    <a:pt x="786" y="315"/>
                  </a:lnTo>
                  <a:lnTo>
                    <a:pt x="786" y="421"/>
                  </a:lnTo>
                  <a:lnTo>
                    <a:pt x="766" y="519"/>
                  </a:lnTo>
                  <a:lnTo>
                    <a:pt x="730" y="610"/>
                  </a:lnTo>
                  <a:lnTo>
                    <a:pt x="673" y="704"/>
                  </a:lnTo>
                  <a:lnTo>
                    <a:pt x="605" y="780"/>
                  </a:lnTo>
                  <a:lnTo>
                    <a:pt x="530" y="834"/>
                  </a:lnTo>
                  <a:lnTo>
                    <a:pt x="444" y="865"/>
                  </a:lnTo>
                  <a:lnTo>
                    <a:pt x="331" y="865"/>
                  </a:lnTo>
                  <a:lnTo>
                    <a:pt x="238" y="859"/>
                  </a:lnTo>
                  <a:lnTo>
                    <a:pt x="160" y="819"/>
                  </a:lnTo>
                  <a:lnTo>
                    <a:pt x="104" y="780"/>
                  </a:lnTo>
                  <a:lnTo>
                    <a:pt x="62" y="722"/>
                  </a:lnTo>
                  <a:lnTo>
                    <a:pt x="26" y="646"/>
                  </a:lnTo>
                  <a:lnTo>
                    <a:pt x="5" y="559"/>
                  </a:lnTo>
                  <a:lnTo>
                    <a:pt x="5" y="480"/>
                  </a:lnTo>
                  <a:lnTo>
                    <a:pt x="62" y="492"/>
                  </a:lnTo>
                  <a:lnTo>
                    <a:pt x="77" y="589"/>
                  </a:lnTo>
                  <a:lnTo>
                    <a:pt x="121" y="683"/>
                  </a:lnTo>
                  <a:lnTo>
                    <a:pt x="178" y="743"/>
                  </a:lnTo>
                  <a:lnTo>
                    <a:pt x="256" y="783"/>
                  </a:lnTo>
                  <a:lnTo>
                    <a:pt x="357" y="801"/>
                  </a:lnTo>
                  <a:lnTo>
                    <a:pt x="461" y="789"/>
                  </a:lnTo>
                  <a:lnTo>
                    <a:pt x="536" y="762"/>
                  </a:lnTo>
                  <a:lnTo>
                    <a:pt x="602" y="701"/>
                  </a:lnTo>
                  <a:lnTo>
                    <a:pt x="656" y="619"/>
                  </a:lnTo>
                  <a:lnTo>
                    <a:pt x="700" y="531"/>
                  </a:lnTo>
                  <a:lnTo>
                    <a:pt x="730" y="437"/>
                  </a:lnTo>
                  <a:lnTo>
                    <a:pt x="730" y="327"/>
                  </a:lnTo>
                  <a:lnTo>
                    <a:pt x="721" y="233"/>
                  </a:lnTo>
                  <a:lnTo>
                    <a:pt x="697" y="157"/>
                  </a:lnTo>
                  <a:lnTo>
                    <a:pt x="650" y="109"/>
                  </a:lnTo>
                  <a:lnTo>
                    <a:pt x="586" y="75"/>
                  </a:lnTo>
                  <a:lnTo>
                    <a:pt x="497" y="57"/>
                  </a:lnTo>
                  <a:lnTo>
                    <a:pt x="414" y="57"/>
                  </a:lnTo>
                  <a:lnTo>
                    <a:pt x="319" y="90"/>
                  </a:lnTo>
                  <a:lnTo>
                    <a:pt x="232" y="145"/>
                  </a:lnTo>
                  <a:lnTo>
                    <a:pt x="148" y="215"/>
                  </a:lnTo>
                  <a:lnTo>
                    <a:pt x="101" y="297"/>
                  </a:lnTo>
                  <a:lnTo>
                    <a:pt x="71" y="376"/>
                  </a:lnTo>
                  <a:lnTo>
                    <a:pt x="56" y="452"/>
                  </a:lnTo>
                  <a:lnTo>
                    <a:pt x="8" y="446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49480" y="5130720"/>
              <a:ext cx="49680" cy="51120"/>
            </a:xfrm>
            <a:custGeom>
              <a:avLst/>
              <a:gdLst/>
              <a:ahLst/>
              <a:rect l="0" t="0" r="r" b="b"/>
              <a:pathLst>
                <a:path w="138" h="142">
                  <a:moveTo>
                    <a:pt x="21" y="35"/>
                  </a:moveTo>
                  <a:lnTo>
                    <a:pt x="61" y="5"/>
                  </a:lnTo>
                  <a:lnTo>
                    <a:pt x="101" y="0"/>
                  </a:lnTo>
                  <a:lnTo>
                    <a:pt x="138" y="17"/>
                  </a:lnTo>
                  <a:lnTo>
                    <a:pt x="138" y="55"/>
                  </a:lnTo>
                  <a:lnTo>
                    <a:pt x="123" y="103"/>
                  </a:lnTo>
                  <a:lnTo>
                    <a:pt x="89" y="139"/>
                  </a:lnTo>
                  <a:lnTo>
                    <a:pt x="30" y="142"/>
                  </a:lnTo>
                  <a:lnTo>
                    <a:pt x="9" y="118"/>
                  </a:lnTo>
                  <a:lnTo>
                    <a:pt x="0" y="83"/>
                  </a:lnTo>
                  <a:lnTo>
                    <a:pt x="2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08160" y="5157720"/>
              <a:ext cx="47880" cy="49680"/>
            </a:xfrm>
            <a:custGeom>
              <a:avLst/>
              <a:gdLst/>
              <a:ahLst/>
              <a:rect l="0" t="0" r="r" b="b"/>
              <a:pathLst>
                <a:path w="133" h="138">
                  <a:moveTo>
                    <a:pt x="20" y="31"/>
                  </a:moveTo>
                  <a:lnTo>
                    <a:pt x="55" y="3"/>
                  </a:lnTo>
                  <a:lnTo>
                    <a:pt x="89" y="0"/>
                  </a:lnTo>
                  <a:lnTo>
                    <a:pt x="127" y="18"/>
                  </a:lnTo>
                  <a:lnTo>
                    <a:pt x="133" y="56"/>
                  </a:lnTo>
                  <a:lnTo>
                    <a:pt x="124" y="91"/>
                  </a:lnTo>
                  <a:lnTo>
                    <a:pt x="98" y="126"/>
                  </a:lnTo>
                  <a:lnTo>
                    <a:pt x="64" y="138"/>
                  </a:lnTo>
                  <a:lnTo>
                    <a:pt x="23" y="135"/>
                  </a:lnTo>
                  <a:lnTo>
                    <a:pt x="2" y="116"/>
                  </a:lnTo>
                  <a:lnTo>
                    <a:pt x="0" y="81"/>
                  </a:lnTo>
                  <a:lnTo>
                    <a:pt x="2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884240" y="5203800"/>
              <a:ext cx="174960" cy="38520"/>
            </a:xfrm>
            <a:custGeom>
              <a:avLst/>
              <a:gdLst/>
              <a:ahLst/>
              <a:rect l="0" t="0" r="r" b="b"/>
              <a:pathLst>
                <a:path w="486" h="107">
                  <a:moveTo>
                    <a:pt x="29" y="6"/>
                  </a:moveTo>
                  <a:lnTo>
                    <a:pt x="47" y="6"/>
                  </a:lnTo>
                  <a:lnTo>
                    <a:pt x="438" y="0"/>
                  </a:lnTo>
                  <a:lnTo>
                    <a:pt x="477" y="24"/>
                  </a:lnTo>
                  <a:lnTo>
                    <a:pt x="486" y="60"/>
                  </a:lnTo>
                  <a:lnTo>
                    <a:pt x="468" y="98"/>
                  </a:lnTo>
                  <a:lnTo>
                    <a:pt x="432" y="107"/>
                  </a:lnTo>
                  <a:lnTo>
                    <a:pt x="329" y="104"/>
                  </a:lnTo>
                  <a:lnTo>
                    <a:pt x="17" y="78"/>
                  </a:lnTo>
                  <a:lnTo>
                    <a:pt x="0" y="44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92240" y="5122800"/>
              <a:ext cx="235440" cy="224280"/>
            </a:xfrm>
            <a:custGeom>
              <a:avLst/>
              <a:gdLst/>
              <a:ahLst/>
              <a:rect l="0" t="0" r="r" b="b"/>
              <a:pathLst>
                <a:path w="654" h="623">
                  <a:moveTo>
                    <a:pt x="630" y="0"/>
                  </a:moveTo>
                  <a:lnTo>
                    <a:pt x="607" y="207"/>
                  </a:lnTo>
                  <a:lnTo>
                    <a:pt x="589" y="277"/>
                  </a:lnTo>
                  <a:lnTo>
                    <a:pt x="518" y="389"/>
                  </a:lnTo>
                  <a:lnTo>
                    <a:pt x="443" y="475"/>
                  </a:lnTo>
                  <a:lnTo>
                    <a:pt x="342" y="523"/>
                  </a:lnTo>
                  <a:lnTo>
                    <a:pt x="265" y="550"/>
                  </a:lnTo>
                  <a:lnTo>
                    <a:pt x="176" y="554"/>
                  </a:lnTo>
                  <a:lnTo>
                    <a:pt x="100" y="541"/>
                  </a:lnTo>
                  <a:lnTo>
                    <a:pt x="26" y="484"/>
                  </a:lnTo>
                  <a:lnTo>
                    <a:pt x="0" y="484"/>
                  </a:lnTo>
                  <a:lnTo>
                    <a:pt x="53" y="560"/>
                  </a:lnTo>
                  <a:lnTo>
                    <a:pt x="139" y="599"/>
                  </a:lnTo>
                  <a:lnTo>
                    <a:pt x="205" y="617"/>
                  </a:lnTo>
                  <a:lnTo>
                    <a:pt x="217" y="623"/>
                  </a:lnTo>
                  <a:lnTo>
                    <a:pt x="273" y="620"/>
                  </a:lnTo>
                  <a:lnTo>
                    <a:pt x="368" y="611"/>
                  </a:lnTo>
                  <a:lnTo>
                    <a:pt x="428" y="593"/>
                  </a:lnTo>
                  <a:lnTo>
                    <a:pt x="494" y="541"/>
                  </a:lnTo>
                  <a:lnTo>
                    <a:pt x="565" y="455"/>
                  </a:lnTo>
                  <a:lnTo>
                    <a:pt x="616" y="349"/>
                  </a:lnTo>
                  <a:lnTo>
                    <a:pt x="622" y="334"/>
                  </a:lnTo>
                  <a:lnTo>
                    <a:pt x="654" y="243"/>
                  </a:lnTo>
                  <a:lnTo>
                    <a:pt x="642" y="139"/>
                  </a:lnTo>
                  <a:lnTo>
                    <a:pt x="630" y="18"/>
                  </a:lnTo>
                  <a:lnTo>
                    <a:pt x="622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727280" y="5286240"/>
              <a:ext cx="160560" cy="120960"/>
            </a:xfrm>
            <a:custGeom>
              <a:avLst/>
              <a:gdLst/>
              <a:ahLst/>
              <a:rect l="0" t="0" r="r" b="b"/>
              <a:pathLst>
                <a:path w="446" h="336">
                  <a:moveTo>
                    <a:pt x="419" y="264"/>
                  </a:moveTo>
                  <a:lnTo>
                    <a:pt x="250" y="149"/>
                  </a:lnTo>
                  <a:lnTo>
                    <a:pt x="163" y="89"/>
                  </a:lnTo>
                  <a:lnTo>
                    <a:pt x="145" y="41"/>
                  </a:lnTo>
                  <a:lnTo>
                    <a:pt x="139" y="0"/>
                  </a:lnTo>
                  <a:lnTo>
                    <a:pt x="92" y="5"/>
                  </a:lnTo>
                  <a:lnTo>
                    <a:pt x="65" y="35"/>
                  </a:lnTo>
                  <a:lnTo>
                    <a:pt x="92" y="107"/>
                  </a:lnTo>
                  <a:lnTo>
                    <a:pt x="83" y="140"/>
                  </a:lnTo>
                  <a:lnTo>
                    <a:pt x="53" y="167"/>
                  </a:lnTo>
                  <a:lnTo>
                    <a:pt x="0" y="198"/>
                  </a:lnTo>
                  <a:lnTo>
                    <a:pt x="0" y="234"/>
                  </a:lnTo>
                  <a:lnTo>
                    <a:pt x="26" y="261"/>
                  </a:lnTo>
                  <a:lnTo>
                    <a:pt x="71" y="273"/>
                  </a:lnTo>
                  <a:lnTo>
                    <a:pt x="100" y="234"/>
                  </a:lnTo>
                  <a:lnTo>
                    <a:pt x="139" y="195"/>
                  </a:lnTo>
                  <a:lnTo>
                    <a:pt x="178" y="195"/>
                  </a:lnTo>
                  <a:lnTo>
                    <a:pt x="253" y="228"/>
                  </a:lnTo>
                  <a:lnTo>
                    <a:pt x="410" y="336"/>
                  </a:lnTo>
                  <a:lnTo>
                    <a:pt x="446" y="291"/>
                  </a:lnTo>
                  <a:lnTo>
                    <a:pt x="419" y="264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96920" y="5386320"/>
              <a:ext cx="57600" cy="55800"/>
            </a:xfrm>
            <a:custGeom>
              <a:avLst/>
              <a:gdLst/>
              <a:ahLst/>
              <a:rect l="0" t="0" r="r" b="b"/>
              <a:pathLst>
                <a:path w="160" h="155">
                  <a:moveTo>
                    <a:pt x="29" y="21"/>
                  </a:moveTo>
                  <a:lnTo>
                    <a:pt x="71" y="0"/>
                  </a:lnTo>
                  <a:lnTo>
                    <a:pt x="122" y="0"/>
                  </a:lnTo>
                  <a:lnTo>
                    <a:pt x="151" y="24"/>
                  </a:lnTo>
                  <a:lnTo>
                    <a:pt x="160" y="66"/>
                  </a:lnTo>
                  <a:lnTo>
                    <a:pt x="151" y="109"/>
                  </a:lnTo>
                  <a:lnTo>
                    <a:pt x="109" y="149"/>
                  </a:lnTo>
                  <a:lnTo>
                    <a:pt x="53" y="155"/>
                  </a:lnTo>
                  <a:lnTo>
                    <a:pt x="17" y="131"/>
                  </a:lnTo>
                  <a:lnTo>
                    <a:pt x="0" y="88"/>
                  </a:lnTo>
                  <a:lnTo>
                    <a:pt x="8" y="42"/>
                  </a:lnTo>
                  <a:lnTo>
                    <a:pt x="2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959120" y="5475240"/>
              <a:ext cx="51120" cy="60840"/>
            </a:xfrm>
            <a:custGeom>
              <a:avLst/>
              <a:gdLst/>
              <a:ahLst/>
              <a:rect l="0" t="0" r="r" b="b"/>
              <a:pathLst>
                <a:path w="142" h="169">
                  <a:moveTo>
                    <a:pt x="15" y="33"/>
                  </a:moveTo>
                  <a:lnTo>
                    <a:pt x="42" y="3"/>
                  </a:lnTo>
                  <a:lnTo>
                    <a:pt x="100" y="0"/>
                  </a:lnTo>
                  <a:lnTo>
                    <a:pt x="127" y="24"/>
                  </a:lnTo>
                  <a:lnTo>
                    <a:pt x="142" y="74"/>
                  </a:lnTo>
                  <a:lnTo>
                    <a:pt x="133" y="125"/>
                  </a:lnTo>
                  <a:lnTo>
                    <a:pt x="91" y="163"/>
                  </a:lnTo>
                  <a:lnTo>
                    <a:pt x="42" y="169"/>
                  </a:lnTo>
                  <a:lnTo>
                    <a:pt x="6" y="142"/>
                  </a:lnTo>
                  <a:lnTo>
                    <a:pt x="0" y="95"/>
                  </a:lnTo>
                  <a:lnTo>
                    <a:pt x="6" y="52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108160" y="5351400"/>
              <a:ext cx="154440" cy="276480"/>
            </a:xfrm>
            <a:custGeom>
              <a:avLst/>
              <a:gdLst/>
              <a:ahLst/>
              <a:rect l="0" t="0" r="r" b="b"/>
              <a:pathLst>
                <a:path w="429" h="768">
                  <a:moveTo>
                    <a:pt x="140" y="12"/>
                  </a:moveTo>
                  <a:lnTo>
                    <a:pt x="226" y="90"/>
                  </a:lnTo>
                  <a:lnTo>
                    <a:pt x="253" y="172"/>
                  </a:lnTo>
                  <a:lnTo>
                    <a:pt x="268" y="251"/>
                  </a:lnTo>
                  <a:lnTo>
                    <a:pt x="262" y="336"/>
                  </a:lnTo>
                  <a:lnTo>
                    <a:pt x="244" y="434"/>
                  </a:lnTo>
                  <a:lnTo>
                    <a:pt x="223" y="559"/>
                  </a:lnTo>
                  <a:lnTo>
                    <a:pt x="161" y="616"/>
                  </a:lnTo>
                  <a:lnTo>
                    <a:pt x="110" y="692"/>
                  </a:lnTo>
                  <a:lnTo>
                    <a:pt x="0" y="704"/>
                  </a:lnTo>
                  <a:lnTo>
                    <a:pt x="2" y="744"/>
                  </a:lnTo>
                  <a:lnTo>
                    <a:pt x="74" y="768"/>
                  </a:lnTo>
                  <a:lnTo>
                    <a:pt x="176" y="744"/>
                  </a:lnTo>
                  <a:lnTo>
                    <a:pt x="259" y="722"/>
                  </a:lnTo>
                  <a:lnTo>
                    <a:pt x="343" y="653"/>
                  </a:lnTo>
                  <a:lnTo>
                    <a:pt x="403" y="546"/>
                  </a:lnTo>
                  <a:lnTo>
                    <a:pt x="429" y="431"/>
                  </a:lnTo>
                  <a:lnTo>
                    <a:pt x="426" y="324"/>
                  </a:lnTo>
                  <a:lnTo>
                    <a:pt x="394" y="212"/>
                  </a:lnTo>
                  <a:lnTo>
                    <a:pt x="328" y="109"/>
                  </a:lnTo>
                  <a:lnTo>
                    <a:pt x="241" y="30"/>
                  </a:lnTo>
                  <a:lnTo>
                    <a:pt x="158" y="0"/>
                  </a:lnTo>
                  <a:lnTo>
                    <a:pt x="140" y="1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976400" y="5578560"/>
              <a:ext cx="49680" cy="52920"/>
            </a:xfrm>
            <a:custGeom>
              <a:avLst/>
              <a:gdLst/>
              <a:ahLst/>
              <a:rect l="0" t="0" r="r" b="b"/>
              <a:pathLst>
                <a:path w="138" h="147">
                  <a:moveTo>
                    <a:pt x="14" y="24"/>
                  </a:moveTo>
                  <a:lnTo>
                    <a:pt x="63" y="0"/>
                  </a:lnTo>
                  <a:lnTo>
                    <a:pt x="111" y="15"/>
                  </a:lnTo>
                  <a:lnTo>
                    <a:pt x="135" y="40"/>
                  </a:lnTo>
                  <a:lnTo>
                    <a:pt x="138" y="85"/>
                  </a:lnTo>
                  <a:lnTo>
                    <a:pt x="126" y="126"/>
                  </a:lnTo>
                  <a:lnTo>
                    <a:pt x="99" y="147"/>
                  </a:lnTo>
                  <a:lnTo>
                    <a:pt x="54" y="147"/>
                  </a:lnTo>
                  <a:lnTo>
                    <a:pt x="14" y="126"/>
                  </a:lnTo>
                  <a:lnTo>
                    <a:pt x="0" y="88"/>
                  </a:lnTo>
                  <a:lnTo>
                    <a:pt x="5" y="49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905120" y="5624640"/>
              <a:ext cx="427320" cy="386280"/>
            </a:xfrm>
            <a:custGeom>
              <a:avLst/>
              <a:gdLst/>
              <a:ahLst/>
              <a:rect l="0" t="0" r="r" b="b"/>
              <a:pathLst>
                <a:path w="1187" h="1073">
                  <a:moveTo>
                    <a:pt x="1011" y="0"/>
                  </a:moveTo>
                  <a:lnTo>
                    <a:pt x="1115" y="102"/>
                  </a:lnTo>
                  <a:lnTo>
                    <a:pt x="1172" y="242"/>
                  </a:lnTo>
                  <a:lnTo>
                    <a:pt x="1187" y="376"/>
                  </a:lnTo>
                  <a:lnTo>
                    <a:pt x="1160" y="557"/>
                  </a:lnTo>
                  <a:lnTo>
                    <a:pt x="1103" y="736"/>
                  </a:lnTo>
                  <a:lnTo>
                    <a:pt x="1002" y="879"/>
                  </a:lnTo>
                  <a:lnTo>
                    <a:pt x="812" y="994"/>
                  </a:lnTo>
                  <a:lnTo>
                    <a:pt x="800" y="997"/>
                  </a:lnTo>
                  <a:lnTo>
                    <a:pt x="625" y="1061"/>
                  </a:lnTo>
                  <a:lnTo>
                    <a:pt x="386" y="1073"/>
                  </a:lnTo>
                  <a:lnTo>
                    <a:pt x="172" y="1061"/>
                  </a:lnTo>
                  <a:lnTo>
                    <a:pt x="0" y="994"/>
                  </a:lnTo>
                  <a:lnTo>
                    <a:pt x="196" y="997"/>
                  </a:lnTo>
                  <a:lnTo>
                    <a:pt x="365" y="994"/>
                  </a:lnTo>
                  <a:lnTo>
                    <a:pt x="538" y="946"/>
                  </a:lnTo>
                  <a:lnTo>
                    <a:pt x="696" y="891"/>
                  </a:lnTo>
                  <a:lnTo>
                    <a:pt x="791" y="831"/>
                  </a:lnTo>
                  <a:lnTo>
                    <a:pt x="889" y="754"/>
                  </a:lnTo>
                  <a:lnTo>
                    <a:pt x="964" y="660"/>
                  </a:lnTo>
                  <a:lnTo>
                    <a:pt x="1035" y="548"/>
                  </a:lnTo>
                  <a:lnTo>
                    <a:pt x="1065" y="442"/>
                  </a:lnTo>
                  <a:lnTo>
                    <a:pt x="1086" y="300"/>
                  </a:lnTo>
                  <a:lnTo>
                    <a:pt x="1056" y="142"/>
                  </a:lnTo>
                  <a:lnTo>
                    <a:pt x="1017" y="45"/>
                  </a:lnTo>
                  <a:lnTo>
                    <a:pt x="101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174760" y="5275440"/>
              <a:ext cx="381240" cy="167040"/>
            </a:xfrm>
            <a:custGeom>
              <a:avLst/>
              <a:gdLst/>
              <a:ahLst/>
              <a:rect l="0" t="0" r="r" b="b"/>
              <a:pathLst>
                <a:path w="1059" h="464">
                  <a:moveTo>
                    <a:pt x="142" y="351"/>
                  </a:moveTo>
                  <a:lnTo>
                    <a:pt x="65" y="397"/>
                  </a:lnTo>
                  <a:lnTo>
                    <a:pt x="0" y="418"/>
                  </a:lnTo>
                  <a:lnTo>
                    <a:pt x="0" y="445"/>
                  </a:lnTo>
                  <a:lnTo>
                    <a:pt x="47" y="464"/>
                  </a:lnTo>
                  <a:lnTo>
                    <a:pt x="104" y="454"/>
                  </a:lnTo>
                  <a:lnTo>
                    <a:pt x="208" y="418"/>
                  </a:lnTo>
                  <a:lnTo>
                    <a:pt x="395" y="351"/>
                  </a:lnTo>
                  <a:lnTo>
                    <a:pt x="583" y="308"/>
                  </a:lnTo>
                  <a:lnTo>
                    <a:pt x="708" y="278"/>
                  </a:lnTo>
                  <a:lnTo>
                    <a:pt x="815" y="287"/>
                  </a:lnTo>
                  <a:lnTo>
                    <a:pt x="895" y="299"/>
                  </a:lnTo>
                  <a:lnTo>
                    <a:pt x="990" y="326"/>
                  </a:lnTo>
                  <a:lnTo>
                    <a:pt x="1047" y="326"/>
                  </a:lnTo>
                  <a:lnTo>
                    <a:pt x="1059" y="293"/>
                  </a:lnTo>
                  <a:lnTo>
                    <a:pt x="1038" y="262"/>
                  </a:lnTo>
                  <a:lnTo>
                    <a:pt x="1011" y="244"/>
                  </a:lnTo>
                  <a:lnTo>
                    <a:pt x="943" y="231"/>
                  </a:lnTo>
                  <a:lnTo>
                    <a:pt x="872" y="219"/>
                  </a:lnTo>
                  <a:lnTo>
                    <a:pt x="863" y="194"/>
                  </a:lnTo>
                  <a:lnTo>
                    <a:pt x="886" y="164"/>
                  </a:lnTo>
                  <a:lnTo>
                    <a:pt x="937" y="146"/>
                  </a:lnTo>
                  <a:lnTo>
                    <a:pt x="999" y="97"/>
                  </a:lnTo>
                  <a:lnTo>
                    <a:pt x="1014" y="36"/>
                  </a:lnTo>
                  <a:lnTo>
                    <a:pt x="967" y="0"/>
                  </a:lnTo>
                  <a:lnTo>
                    <a:pt x="937" y="18"/>
                  </a:lnTo>
                  <a:lnTo>
                    <a:pt x="916" y="67"/>
                  </a:lnTo>
                  <a:lnTo>
                    <a:pt x="863" y="115"/>
                  </a:lnTo>
                  <a:lnTo>
                    <a:pt x="794" y="155"/>
                  </a:lnTo>
                  <a:lnTo>
                    <a:pt x="738" y="191"/>
                  </a:lnTo>
                  <a:lnTo>
                    <a:pt x="607" y="228"/>
                  </a:lnTo>
                  <a:lnTo>
                    <a:pt x="484" y="250"/>
                  </a:lnTo>
                  <a:lnTo>
                    <a:pt x="356" y="287"/>
                  </a:lnTo>
                  <a:lnTo>
                    <a:pt x="225" y="326"/>
                  </a:lnTo>
                  <a:lnTo>
                    <a:pt x="142" y="351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2023920" y="4854600"/>
              <a:ext cx="284400" cy="313200"/>
              <a:chOff x="2023920" y="4854600"/>
              <a:chExt cx="284400" cy="313200"/>
            </a:xfrm>
          </p:grpSpPr>
          <p:sp>
            <p:nvSpPr>
              <p:cNvPr id="902" name=""/>
              <p:cNvSpPr/>
              <p:nvPr/>
            </p:nvSpPr>
            <p:spPr>
              <a:xfrm>
                <a:off x="2066760" y="4865760"/>
                <a:ext cx="221040" cy="233640"/>
              </a:xfrm>
              <a:custGeom>
                <a:avLst/>
                <a:gdLst/>
                <a:ahLst/>
                <a:rect l="0" t="0" r="r" b="b"/>
                <a:pathLst>
                  <a:path w="614" h="649">
                    <a:moveTo>
                      <a:pt x="453" y="649"/>
                    </a:moveTo>
                    <a:lnTo>
                      <a:pt x="480" y="421"/>
                    </a:lnTo>
                    <a:lnTo>
                      <a:pt x="531" y="271"/>
                    </a:lnTo>
                    <a:lnTo>
                      <a:pt x="592" y="142"/>
                    </a:lnTo>
                    <a:lnTo>
                      <a:pt x="614" y="81"/>
                    </a:lnTo>
                    <a:lnTo>
                      <a:pt x="456" y="33"/>
                    </a:lnTo>
                    <a:lnTo>
                      <a:pt x="289" y="0"/>
                    </a:lnTo>
                    <a:lnTo>
                      <a:pt x="102" y="10"/>
                    </a:lnTo>
                    <a:lnTo>
                      <a:pt x="12" y="40"/>
                    </a:lnTo>
                    <a:lnTo>
                      <a:pt x="0" y="95"/>
                    </a:lnTo>
                    <a:lnTo>
                      <a:pt x="48" y="274"/>
                    </a:lnTo>
                    <a:lnTo>
                      <a:pt x="48" y="425"/>
                    </a:lnTo>
                    <a:lnTo>
                      <a:pt x="44" y="540"/>
                    </a:lnTo>
                    <a:lnTo>
                      <a:pt x="38" y="574"/>
                    </a:lnTo>
                    <a:lnTo>
                      <a:pt x="273" y="577"/>
                    </a:lnTo>
                    <a:lnTo>
                      <a:pt x="408" y="645"/>
                    </a:lnTo>
                    <a:lnTo>
                      <a:pt x="453" y="649"/>
                    </a:lnTo>
                    <a:close/>
                  </a:path>
                </a:pathLst>
              </a:custGeom>
              <a:blipFill rotWithShape="0">
                <a:blip r:embed="rId1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098800" y="5008680"/>
                <a:ext cx="154440" cy="79560"/>
              </a:xfrm>
              <a:custGeom>
                <a:avLst/>
                <a:gdLst/>
                <a:ahLst/>
                <a:rect l="0" t="0" r="r" b="b"/>
                <a:pathLst>
                  <a:path w="429" h="221">
                    <a:moveTo>
                      <a:pt x="29" y="0"/>
                    </a:moveTo>
                    <a:lnTo>
                      <a:pt x="154" y="0"/>
                    </a:lnTo>
                    <a:lnTo>
                      <a:pt x="278" y="29"/>
                    </a:lnTo>
                    <a:lnTo>
                      <a:pt x="429" y="100"/>
                    </a:lnTo>
                    <a:lnTo>
                      <a:pt x="420" y="221"/>
                    </a:lnTo>
                    <a:lnTo>
                      <a:pt x="263" y="143"/>
                    </a:lnTo>
                    <a:lnTo>
                      <a:pt x="133" y="100"/>
                    </a:lnTo>
                    <a:lnTo>
                      <a:pt x="0" y="104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052720" y="4854600"/>
                <a:ext cx="251280" cy="244800"/>
              </a:xfrm>
              <a:custGeom>
                <a:avLst/>
                <a:gdLst/>
                <a:ahLst/>
                <a:rect l="0" t="0" r="r" b="b"/>
                <a:pathLst>
                  <a:path w="698" h="680">
                    <a:moveTo>
                      <a:pt x="47" y="533"/>
                    </a:moveTo>
                    <a:lnTo>
                      <a:pt x="60" y="413"/>
                    </a:lnTo>
                    <a:lnTo>
                      <a:pt x="54" y="306"/>
                    </a:lnTo>
                    <a:lnTo>
                      <a:pt x="31" y="213"/>
                    </a:lnTo>
                    <a:lnTo>
                      <a:pt x="0" y="119"/>
                    </a:lnTo>
                    <a:lnTo>
                      <a:pt x="6" y="66"/>
                    </a:lnTo>
                    <a:lnTo>
                      <a:pt x="28" y="26"/>
                    </a:lnTo>
                    <a:lnTo>
                      <a:pt x="104" y="13"/>
                    </a:lnTo>
                    <a:lnTo>
                      <a:pt x="252" y="0"/>
                    </a:lnTo>
                    <a:lnTo>
                      <a:pt x="417" y="16"/>
                    </a:lnTo>
                    <a:lnTo>
                      <a:pt x="430" y="26"/>
                    </a:lnTo>
                    <a:lnTo>
                      <a:pt x="574" y="56"/>
                    </a:lnTo>
                    <a:lnTo>
                      <a:pt x="692" y="96"/>
                    </a:lnTo>
                    <a:lnTo>
                      <a:pt x="698" y="119"/>
                    </a:lnTo>
                    <a:lnTo>
                      <a:pt x="679" y="169"/>
                    </a:lnTo>
                    <a:lnTo>
                      <a:pt x="606" y="292"/>
                    </a:lnTo>
                    <a:lnTo>
                      <a:pt x="571" y="390"/>
                    </a:lnTo>
                    <a:lnTo>
                      <a:pt x="546" y="500"/>
                    </a:lnTo>
                    <a:lnTo>
                      <a:pt x="533" y="593"/>
                    </a:lnTo>
                    <a:lnTo>
                      <a:pt x="530" y="660"/>
                    </a:lnTo>
                    <a:lnTo>
                      <a:pt x="533" y="680"/>
                    </a:lnTo>
                    <a:lnTo>
                      <a:pt x="484" y="663"/>
                    </a:lnTo>
                    <a:lnTo>
                      <a:pt x="487" y="543"/>
                    </a:lnTo>
                    <a:lnTo>
                      <a:pt x="516" y="423"/>
                    </a:lnTo>
                    <a:lnTo>
                      <a:pt x="546" y="309"/>
                    </a:lnTo>
                    <a:lnTo>
                      <a:pt x="596" y="203"/>
                    </a:lnTo>
                    <a:lnTo>
                      <a:pt x="635" y="123"/>
                    </a:lnTo>
                    <a:lnTo>
                      <a:pt x="539" y="89"/>
                    </a:lnTo>
                    <a:lnTo>
                      <a:pt x="398" y="69"/>
                    </a:lnTo>
                    <a:lnTo>
                      <a:pt x="258" y="46"/>
                    </a:lnTo>
                    <a:lnTo>
                      <a:pt x="143" y="63"/>
                    </a:lnTo>
                    <a:lnTo>
                      <a:pt x="66" y="93"/>
                    </a:lnTo>
                    <a:lnTo>
                      <a:pt x="66" y="133"/>
                    </a:lnTo>
                    <a:lnTo>
                      <a:pt x="95" y="239"/>
                    </a:lnTo>
                    <a:lnTo>
                      <a:pt x="120" y="347"/>
                    </a:lnTo>
                    <a:lnTo>
                      <a:pt x="108" y="477"/>
                    </a:lnTo>
                    <a:lnTo>
                      <a:pt x="98" y="570"/>
                    </a:lnTo>
                    <a:lnTo>
                      <a:pt x="47" y="573"/>
                    </a:lnTo>
                    <a:lnTo>
                      <a:pt x="47" y="5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036880" y="5041800"/>
                <a:ext cx="259200" cy="113040"/>
              </a:xfrm>
              <a:custGeom>
                <a:avLst/>
                <a:gdLst/>
                <a:ahLst/>
                <a:rect l="0" t="0" r="r" b="b"/>
                <a:pathLst>
                  <a:path w="720" h="314">
                    <a:moveTo>
                      <a:pt x="87" y="29"/>
                    </a:moveTo>
                    <a:lnTo>
                      <a:pt x="210" y="0"/>
                    </a:lnTo>
                    <a:lnTo>
                      <a:pt x="315" y="16"/>
                    </a:lnTo>
                    <a:lnTo>
                      <a:pt x="454" y="56"/>
                    </a:lnTo>
                    <a:lnTo>
                      <a:pt x="552" y="99"/>
                    </a:lnTo>
                    <a:lnTo>
                      <a:pt x="653" y="153"/>
                    </a:lnTo>
                    <a:lnTo>
                      <a:pt x="712" y="214"/>
                    </a:lnTo>
                    <a:lnTo>
                      <a:pt x="717" y="230"/>
                    </a:lnTo>
                    <a:lnTo>
                      <a:pt x="720" y="267"/>
                    </a:lnTo>
                    <a:lnTo>
                      <a:pt x="700" y="307"/>
                    </a:lnTo>
                    <a:lnTo>
                      <a:pt x="656" y="314"/>
                    </a:lnTo>
                    <a:lnTo>
                      <a:pt x="592" y="277"/>
                    </a:lnTo>
                    <a:lnTo>
                      <a:pt x="478" y="197"/>
                    </a:lnTo>
                    <a:lnTo>
                      <a:pt x="361" y="153"/>
                    </a:lnTo>
                    <a:lnTo>
                      <a:pt x="248" y="133"/>
                    </a:lnTo>
                    <a:lnTo>
                      <a:pt x="165" y="139"/>
                    </a:lnTo>
                    <a:lnTo>
                      <a:pt x="64" y="143"/>
                    </a:lnTo>
                    <a:lnTo>
                      <a:pt x="11" y="136"/>
                    </a:lnTo>
                    <a:lnTo>
                      <a:pt x="0" y="93"/>
                    </a:lnTo>
                    <a:lnTo>
                      <a:pt x="37" y="59"/>
                    </a:lnTo>
                    <a:lnTo>
                      <a:pt x="87" y="29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023920" y="5032440"/>
                <a:ext cx="284400" cy="135360"/>
              </a:xfrm>
              <a:custGeom>
                <a:avLst/>
                <a:gdLst/>
                <a:ahLst/>
                <a:rect l="0" t="0" r="r" b="b"/>
                <a:pathLst>
                  <a:path w="790" h="376">
                    <a:moveTo>
                      <a:pt x="661" y="116"/>
                    </a:moveTo>
                    <a:lnTo>
                      <a:pt x="666" y="125"/>
                    </a:lnTo>
                    <a:lnTo>
                      <a:pt x="750" y="191"/>
                    </a:lnTo>
                    <a:lnTo>
                      <a:pt x="790" y="267"/>
                    </a:lnTo>
                    <a:lnTo>
                      <a:pt x="775" y="330"/>
                    </a:lnTo>
                    <a:lnTo>
                      <a:pt x="738" y="366"/>
                    </a:lnTo>
                    <a:lnTo>
                      <a:pt x="698" y="376"/>
                    </a:lnTo>
                    <a:lnTo>
                      <a:pt x="661" y="357"/>
                    </a:lnTo>
                    <a:lnTo>
                      <a:pt x="603" y="320"/>
                    </a:lnTo>
                    <a:lnTo>
                      <a:pt x="491" y="254"/>
                    </a:lnTo>
                    <a:lnTo>
                      <a:pt x="397" y="208"/>
                    </a:lnTo>
                    <a:lnTo>
                      <a:pt x="292" y="188"/>
                    </a:lnTo>
                    <a:lnTo>
                      <a:pt x="212" y="194"/>
                    </a:lnTo>
                    <a:lnTo>
                      <a:pt x="129" y="198"/>
                    </a:lnTo>
                    <a:lnTo>
                      <a:pt x="68" y="201"/>
                    </a:lnTo>
                    <a:lnTo>
                      <a:pt x="14" y="162"/>
                    </a:lnTo>
                    <a:lnTo>
                      <a:pt x="0" y="119"/>
                    </a:lnTo>
                    <a:lnTo>
                      <a:pt x="20" y="72"/>
                    </a:lnTo>
                    <a:lnTo>
                      <a:pt x="83" y="36"/>
                    </a:lnTo>
                    <a:lnTo>
                      <a:pt x="175" y="0"/>
                    </a:lnTo>
                    <a:lnTo>
                      <a:pt x="232" y="9"/>
                    </a:lnTo>
                    <a:lnTo>
                      <a:pt x="221" y="52"/>
                    </a:lnTo>
                    <a:lnTo>
                      <a:pt x="134" y="62"/>
                    </a:lnTo>
                    <a:lnTo>
                      <a:pt x="68" y="92"/>
                    </a:lnTo>
                    <a:lnTo>
                      <a:pt x="48" y="112"/>
                    </a:lnTo>
                    <a:lnTo>
                      <a:pt x="54" y="139"/>
                    </a:lnTo>
                    <a:lnTo>
                      <a:pt x="80" y="155"/>
                    </a:lnTo>
                    <a:lnTo>
                      <a:pt x="143" y="152"/>
                    </a:lnTo>
                    <a:lnTo>
                      <a:pt x="232" y="142"/>
                    </a:lnTo>
                    <a:lnTo>
                      <a:pt x="309" y="139"/>
                    </a:lnTo>
                    <a:lnTo>
                      <a:pt x="405" y="152"/>
                    </a:lnTo>
                    <a:lnTo>
                      <a:pt x="506" y="194"/>
                    </a:lnTo>
                    <a:lnTo>
                      <a:pt x="603" y="254"/>
                    </a:lnTo>
                    <a:lnTo>
                      <a:pt x="675" y="307"/>
                    </a:lnTo>
                    <a:lnTo>
                      <a:pt x="712" y="314"/>
                    </a:lnTo>
                    <a:lnTo>
                      <a:pt x="732" y="294"/>
                    </a:lnTo>
                    <a:lnTo>
                      <a:pt x="738" y="267"/>
                    </a:lnTo>
                    <a:lnTo>
                      <a:pt x="727" y="234"/>
                    </a:lnTo>
                    <a:lnTo>
                      <a:pt x="687" y="191"/>
                    </a:lnTo>
                    <a:lnTo>
                      <a:pt x="618" y="142"/>
                    </a:lnTo>
                    <a:lnTo>
                      <a:pt x="514" y="99"/>
                    </a:lnTo>
                    <a:lnTo>
                      <a:pt x="408" y="62"/>
                    </a:lnTo>
                    <a:lnTo>
                      <a:pt x="309" y="42"/>
                    </a:lnTo>
                    <a:lnTo>
                      <a:pt x="223" y="49"/>
                    </a:lnTo>
                    <a:lnTo>
                      <a:pt x="241" y="6"/>
                    </a:lnTo>
                    <a:lnTo>
                      <a:pt x="335" y="6"/>
                    </a:lnTo>
                    <a:lnTo>
                      <a:pt x="434" y="23"/>
                    </a:lnTo>
                    <a:lnTo>
                      <a:pt x="506" y="46"/>
                    </a:lnTo>
                    <a:lnTo>
                      <a:pt x="618" y="106"/>
                    </a:lnTo>
                    <a:lnTo>
                      <a:pt x="661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7" name=""/>
            <p:cNvSpPr/>
            <p:nvPr/>
          </p:nvSpPr>
          <p:spPr>
            <a:xfrm>
              <a:off x="1746360" y="5330880"/>
              <a:ext cx="601920" cy="689400"/>
            </a:xfrm>
            <a:custGeom>
              <a:avLst/>
              <a:gdLst/>
              <a:ahLst/>
              <a:rect l="0" t="0" r="r" b="b"/>
              <a:pathLst>
                <a:path w="1672" h="1915">
                  <a:moveTo>
                    <a:pt x="365" y="133"/>
                  </a:moveTo>
                  <a:lnTo>
                    <a:pt x="431" y="78"/>
                  </a:lnTo>
                  <a:lnTo>
                    <a:pt x="502" y="39"/>
                  </a:lnTo>
                  <a:lnTo>
                    <a:pt x="579" y="27"/>
                  </a:lnTo>
                  <a:lnTo>
                    <a:pt x="609" y="36"/>
                  </a:lnTo>
                  <a:lnTo>
                    <a:pt x="627" y="60"/>
                  </a:lnTo>
                  <a:lnTo>
                    <a:pt x="600" y="93"/>
                  </a:lnTo>
                  <a:lnTo>
                    <a:pt x="532" y="112"/>
                  </a:lnTo>
                  <a:lnTo>
                    <a:pt x="440" y="151"/>
                  </a:lnTo>
                  <a:lnTo>
                    <a:pt x="392" y="202"/>
                  </a:lnTo>
                  <a:lnTo>
                    <a:pt x="344" y="275"/>
                  </a:lnTo>
                  <a:lnTo>
                    <a:pt x="327" y="342"/>
                  </a:lnTo>
                  <a:lnTo>
                    <a:pt x="327" y="354"/>
                  </a:lnTo>
                  <a:lnTo>
                    <a:pt x="324" y="439"/>
                  </a:lnTo>
                  <a:lnTo>
                    <a:pt x="336" y="527"/>
                  </a:lnTo>
                  <a:lnTo>
                    <a:pt x="362" y="615"/>
                  </a:lnTo>
                  <a:lnTo>
                    <a:pt x="392" y="664"/>
                  </a:lnTo>
                  <a:lnTo>
                    <a:pt x="440" y="715"/>
                  </a:lnTo>
                  <a:lnTo>
                    <a:pt x="493" y="755"/>
                  </a:lnTo>
                  <a:lnTo>
                    <a:pt x="505" y="788"/>
                  </a:lnTo>
                  <a:lnTo>
                    <a:pt x="484" y="806"/>
                  </a:lnTo>
                  <a:lnTo>
                    <a:pt x="469" y="815"/>
                  </a:lnTo>
                  <a:lnTo>
                    <a:pt x="446" y="812"/>
                  </a:lnTo>
                  <a:lnTo>
                    <a:pt x="383" y="779"/>
                  </a:lnTo>
                  <a:lnTo>
                    <a:pt x="333" y="745"/>
                  </a:lnTo>
                  <a:lnTo>
                    <a:pt x="270" y="758"/>
                  </a:lnTo>
                  <a:lnTo>
                    <a:pt x="196" y="821"/>
                  </a:lnTo>
                  <a:lnTo>
                    <a:pt x="127" y="903"/>
                  </a:lnTo>
                  <a:lnTo>
                    <a:pt x="89" y="985"/>
                  </a:lnTo>
                  <a:lnTo>
                    <a:pt x="65" y="1079"/>
                  </a:lnTo>
                  <a:lnTo>
                    <a:pt x="56" y="1185"/>
                  </a:lnTo>
                  <a:lnTo>
                    <a:pt x="65" y="1284"/>
                  </a:lnTo>
                  <a:lnTo>
                    <a:pt x="83" y="1400"/>
                  </a:lnTo>
                  <a:lnTo>
                    <a:pt x="113" y="1507"/>
                  </a:lnTo>
                  <a:lnTo>
                    <a:pt x="154" y="1588"/>
                  </a:lnTo>
                  <a:lnTo>
                    <a:pt x="205" y="1631"/>
                  </a:lnTo>
                  <a:lnTo>
                    <a:pt x="276" y="1688"/>
                  </a:lnTo>
                  <a:lnTo>
                    <a:pt x="362" y="1746"/>
                  </a:lnTo>
                  <a:lnTo>
                    <a:pt x="449" y="1791"/>
                  </a:lnTo>
                  <a:lnTo>
                    <a:pt x="544" y="1828"/>
                  </a:lnTo>
                  <a:lnTo>
                    <a:pt x="639" y="1855"/>
                  </a:lnTo>
                  <a:lnTo>
                    <a:pt x="749" y="1858"/>
                  </a:lnTo>
                  <a:lnTo>
                    <a:pt x="890" y="1855"/>
                  </a:lnTo>
                  <a:lnTo>
                    <a:pt x="1023" y="1840"/>
                  </a:lnTo>
                  <a:lnTo>
                    <a:pt x="1139" y="1812"/>
                  </a:lnTo>
                  <a:lnTo>
                    <a:pt x="1235" y="1770"/>
                  </a:lnTo>
                  <a:lnTo>
                    <a:pt x="1339" y="1722"/>
                  </a:lnTo>
                  <a:lnTo>
                    <a:pt x="1431" y="1655"/>
                  </a:lnTo>
                  <a:lnTo>
                    <a:pt x="1502" y="1579"/>
                  </a:lnTo>
                  <a:lnTo>
                    <a:pt x="1550" y="1497"/>
                  </a:lnTo>
                  <a:lnTo>
                    <a:pt x="1580" y="1390"/>
                  </a:lnTo>
                  <a:lnTo>
                    <a:pt x="1597" y="1281"/>
                  </a:lnTo>
                  <a:lnTo>
                    <a:pt x="1606" y="1188"/>
                  </a:lnTo>
                  <a:lnTo>
                    <a:pt x="1597" y="1094"/>
                  </a:lnTo>
                  <a:lnTo>
                    <a:pt x="1571" y="1015"/>
                  </a:lnTo>
                  <a:lnTo>
                    <a:pt x="1541" y="939"/>
                  </a:lnTo>
                  <a:lnTo>
                    <a:pt x="1496" y="873"/>
                  </a:lnTo>
                  <a:lnTo>
                    <a:pt x="1446" y="803"/>
                  </a:lnTo>
                  <a:lnTo>
                    <a:pt x="1419" y="773"/>
                  </a:lnTo>
                  <a:lnTo>
                    <a:pt x="1380" y="730"/>
                  </a:lnTo>
                  <a:lnTo>
                    <a:pt x="1336" y="706"/>
                  </a:lnTo>
                  <a:lnTo>
                    <a:pt x="1318" y="673"/>
                  </a:lnTo>
                  <a:lnTo>
                    <a:pt x="1333" y="649"/>
                  </a:lnTo>
                  <a:lnTo>
                    <a:pt x="1365" y="615"/>
                  </a:lnTo>
                  <a:lnTo>
                    <a:pt x="1401" y="555"/>
                  </a:lnTo>
                  <a:lnTo>
                    <a:pt x="1410" y="482"/>
                  </a:lnTo>
                  <a:lnTo>
                    <a:pt x="1413" y="393"/>
                  </a:lnTo>
                  <a:lnTo>
                    <a:pt x="1392" y="308"/>
                  </a:lnTo>
                  <a:lnTo>
                    <a:pt x="1371" y="257"/>
                  </a:lnTo>
                  <a:lnTo>
                    <a:pt x="1336" y="202"/>
                  </a:lnTo>
                  <a:lnTo>
                    <a:pt x="1282" y="160"/>
                  </a:lnTo>
                  <a:lnTo>
                    <a:pt x="1252" y="124"/>
                  </a:lnTo>
                  <a:lnTo>
                    <a:pt x="1193" y="93"/>
                  </a:lnTo>
                  <a:lnTo>
                    <a:pt x="1139" y="78"/>
                  </a:lnTo>
                  <a:lnTo>
                    <a:pt x="1092" y="66"/>
                  </a:lnTo>
                  <a:lnTo>
                    <a:pt x="1098" y="45"/>
                  </a:lnTo>
                  <a:lnTo>
                    <a:pt x="1163" y="18"/>
                  </a:lnTo>
                  <a:lnTo>
                    <a:pt x="1196" y="0"/>
                  </a:lnTo>
                  <a:lnTo>
                    <a:pt x="1276" y="60"/>
                  </a:lnTo>
                  <a:lnTo>
                    <a:pt x="1354" y="124"/>
                  </a:lnTo>
                  <a:lnTo>
                    <a:pt x="1404" y="190"/>
                  </a:lnTo>
                  <a:lnTo>
                    <a:pt x="1446" y="269"/>
                  </a:lnTo>
                  <a:lnTo>
                    <a:pt x="1470" y="366"/>
                  </a:lnTo>
                  <a:lnTo>
                    <a:pt x="1478" y="439"/>
                  </a:lnTo>
                  <a:lnTo>
                    <a:pt x="1476" y="524"/>
                  </a:lnTo>
                  <a:lnTo>
                    <a:pt x="1452" y="597"/>
                  </a:lnTo>
                  <a:lnTo>
                    <a:pt x="1422" y="652"/>
                  </a:lnTo>
                  <a:lnTo>
                    <a:pt x="1419" y="679"/>
                  </a:lnTo>
                  <a:lnTo>
                    <a:pt x="1440" y="706"/>
                  </a:lnTo>
                  <a:lnTo>
                    <a:pt x="1508" y="779"/>
                  </a:lnTo>
                  <a:lnTo>
                    <a:pt x="1571" y="870"/>
                  </a:lnTo>
                  <a:lnTo>
                    <a:pt x="1615" y="948"/>
                  </a:lnTo>
                  <a:lnTo>
                    <a:pt x="1654" y="1027"/>
                  </a:lnTo>
                  <a:lnTo>
                    <a:pt x="1672" y="1127"/>
                  </a:lnTo>
                  <a:lnTo>
                    <a:pt x="1672" y="1224"/>
                  </a:lnTo>
                  <a:lnTo>
                    <a:pt x="1657" y="1321"/>
                  </a:lnTo>
                  <a:lnTo>
                    <a:pt x="1627" y="1437"/>
                  </a:lnTo>
                  <a:lnTo>
                    <a:pt x="1597" y="1540"/>
                  </a:lnTo>
                  <a:lnTo>
                    <a:pt x="1544" y="1628"/>
                  </a:lnTo>
                  <a:lnTo>
                    <a:pt x="1493" y="1688"/>
                  </a:lnTo>
                  <a:lnTo>
                    <a:pt x="1419" y="1755"/>
                  </a:lnTo>
                  <a:lnTo>
                    <a:pt x="1327" y="1803"/>
                  </a:lnTo>
                  <a:lnTo>
                    <a:pt x="1226" y="1846"/>
                  </a:lnTo>
                  <a:lnTo>
                    <a:pt x="1136" y="1876"/>
                  </a:lnTo>
                  <a:lnTo>
                    <a:pt x="1041" y="1903"/>
                  </a:lnTo>
                  <a:lnTo>
                    <a:pt x="896" y="1912"/>
                  </a:lnTo>
                  <a:lnTo>
                    <a:pt x="734" y="1915"/>
                  </a:lnTo>
                  <a:lnTo>
                    <a:pt x="591" y="1915"/>
                  </a:lnTo>
                  <a:lnTo>
                    <a:pt x="469" y="1879"/>
                  </a:lnTo>
                  <a:lnTo>
                    <a:pt x="344" y="1803"/>
                  </a:lnTo>
                  <a:lnTo>
                    <a:pt x="214" y="1722"/>
                  </a:lnTo>
                  <a:lnTo>
                    <a:pt x="118" y="1637"/>
                  </a:lnTo>
                  <a:lnTo>
                    <a:pt x="56" y="1552"/>
                  </a:lnTo>
                  <a:lnTo>
                    <a:pt x="32" y="1437"/>
                  </a:lnTo>
                  <a:lnTo>
                    <a:pt x="5" y="1324"/>
                  </a:lnTo>
                  <a:lnTo>
                    <a:pt x="0" y="1224"/>
                  </a:lnTo>
                  <a:lnTo>
                    <a:pt x="0" y="1103"/>
                  </a:lnTo>
                  <a:lnTo>
                    <a:pt x="35" y="988"/>
                  </a:lnTo>
                  <a:lnTo>
                    <a:pt x="65" y="897"/>
                  </a:lnTo>
                  <a:lnTo>
                    <a:pt x="139" y="785"/>
                  </a:lnTo>
                  <a:lnTo>
                    <a:pt x="231" y="700"/>
                  </a:lnTo>
                  <a:lnTo>
                    <a:pt x="270" y="652"/>
                  </a:lnTo>
                  <a:lnTo>
                    <a:pt x="279" y="603"/>
                  </a:lnTo>
                  <a:lnTo>
                    <a:pt x="279" y="533"/>
                  </a:lnTo>
                  <a:lnTo>
                    <a:pt x="258" y="448"/>
                  </a:lnTo>
                  <a:lnTo>
                    <a:pt x="258" y="357"/>
                  </a:lnTo>
                  <a:lnTo>
                    <a:pt x="276" y="269"/>
                  </a:lnTo>
                  <a:lnTo>
                    <a:pt x="306" y="202"/>
                  </a:lnTo>
                  <a:lnTo>
                    <a:pt x="339" y="163"/>
                  </a:lnTo>
                  <a:lnTo>
                    <a:pt x="3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029200" y="5092560"/>
            <a:ext cx="2728800" cy="768600"/>
            <a:chOff x="5029200" y="5092560"/>
            <a:chExt cx="2728800" cy="768600"/>
          </a:xfrm>
        </p:grpSpPr>
        <p:pic>
          <p:nvPicPr>
            <p:cNvPr id="909" name="" descr=""/>
            <p:cNvPicPr/>
            <p:nvPr/>
          </p:nvPicPr>
          <p:blipFill>
            <a:blip r:embed="rId4"/>
            <a:stretch/>
          </p:blipFill>
          <p:spPr>
            <a:xfrm>
              <a:off x="5029200" y="5207040"/>
              <a:ext cx="35388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5"/>
            <a:stretch/>
          </p:blipFill>
          <p:spPr>
            <a:xfrm>
              <a:off x="5499000" y="5194440"/>
              <a:ext cx="35388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6"/>
            <a:stretch/>
          </p:blipFill>
          <p:spPr>
            <a:xfrm>
              <a:off x="5932440" y="5168880"/>
              <a:ext cx="35388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" descr=""/>
            <p:cNvPicPr/>
            <p:nvPr/>
          </p:nvPicPr>
          <p:blipFill>
            <a:blip r:embed="rId7"/>
            <a:stretch/>
          </p:blipFill>
          <p:spPr>
            <a:xfrm>
              <a:off x="6324480" y="5181480"/>
              <a:ext cx="35388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" descr=""/>
            <p:cNvPicPr/>
            <p:nvPr/>
          </p:nvPicPr>
          <p:blipFill>
            <a:blip r:embed="rId8"/>
            <a:stretch/>
          </p:blipFill>
          <p:spPr>
            <a:xfrm>
              <a:off x="7404120" y="5092560"/>
              <a:ext cx="353880" cy="65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4" name=""/>
          <p:cNvGrpSpPr/>
          <p:nvPr/>
        </p:nvGrpSpPr>
        <p:grpSpPr>
          <a:xfrm>
            <a:off x="304920" y="1244520"/>
            <a:ext cx="8242200" cy="4597560"/>
            <a:chOff x="304920" y="1244520"/>
            <a:chExt cx="8242200" cy="4597560"/>
          </a:xfrm>
        </p:grpSpPr>
        <p:sp>
          <p:nvSpPr>
            <p:cNvPr id="915" name=""/>
            <p:cNvSpPr/>
            <p:nvPr/>
          </p:nvSpPr>
          <p:spPr>
            <a:xfrm>
              <a:off x="609480" y="2552760"/>
              <a:ext cx="34308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10080" y="4406760"/>
              <a:ext cx="228600" cy="24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447920" y="13590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292640" y="49402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30600" y="4013280"/>
              <a:ext cx="216000" cy="203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166240" y="38354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613480" y="2108160"/>
              <a:ext cx="27936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717640" y="1739880"/>
              <a:ext cx="190440" cy="190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204040" y="5537160"/>
              <a:ext cx="29196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457880" y="2374920"/>
              <a:ext cx="152280" cy="190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8280" y="37972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327800" y="14223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4920" y="1244520"/>
              <a:ext cx="190440" cy="190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873600" y="4038480"/>
              <a:ext cx="241200" cy="254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3809880" y="2908440"/>
            <a:ext cx="584640" cy="178200"/>
          </a:xfrm>
          <a:custGeom>
            <a:avLst/>
            <a:gdLst/>
            <a:ahLst/>
            <a:rect l="0" t="0" r="r" b="b"/>
            <a:pathLst>
              <a:path w="1624" h="495">
                <a:moveTo>
                  <a:pt x="211" y="247"/>
                </a:moveTo>
                <a:lnTo>
                  <a:pt x="424" y="212"/>
                </a:lnTo>
                <a:lnTo>
                  <a:pt x="530" y="177"/>
                </a:lnTo>
                <a:lnTo>
                  <a:pt x="636" y="177"/>
                </a:lnTo>
                <a:lnTo>
                  <a:pt x="741" y="247"/>
                </a:lnTo>
                <a:lnTo>
                  <a:pt x="847" y="283"/>
                </a:lnTo>
                <a:lnTo>
                  <a:pt x="953" y="283"/>
                </a:lnTo>
                <a:lnTo>
                  <a:pt x="1059" y="318"/>
                </a:lnTo>
                <a:lnTo>
                  <a:pt x="1165" y="390"/>
                </a:lnTo>
                <a:lnTo>
                  <a:pt x="1272" y="390"/>
                </a:lnTo>
                <a:lnTo>
                  <a:pt x="1377" y="460"/>
                </a:lnTo>
                <a:lnTo>
                  <a:pt x="1483" y="495"/>
                </a:lnTo>
                <a:lnTo>
                  <a:pt x="1624" y="460"/>
                </a:lnTo>
                <a:lnTo>
                  <a:pt x="1624" y="353"/>
                </a:lnTo>
                <a:lnTo>
                  <a:pt x="1518" y="247"/>
                </a:lnTo>
                <a:lnTo>
                  <a:pt x="1413" y="212"/>
                </a:lnTo>
                <a:lnTo>
                  <a:pt x="1272" y="105"/>
                </a:lnTo>
                <a:lnTo>
                  <a:pt x="1165" y="35"/>
                </a:lnTo>
                <a:lnTo>
                  <a:pt x="1059" y="35"/>
                </a:lnTo>
                <a:lnTo>
                  <a:pt x="953" y="0"/>
                </a:lnTo>
                <a:lnTo>
                  <a:pt x="671" y="0"/>
                </a:lnTo>
                <a:lnTo>
                  <a:pt x="317" y="35"/>
                </a:lnTo>
                <a:lnTo>
                  <a:pt x="211" y="35"/>
                </a:lnTo>
                <a:lnTo>
                  <a:pt x="105" y="70"/>
                </a:lnTo>
                <a:lnTo>
                  <a:pt x="35" y="212"/>
                </a:lnTo>
                <a:lnTo>
                  <a:pt x="0" y="177"/>
                </a:lnTo>
                <a:lnTo>
                  <a:pt x="211" y="24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705720" y="1816200"/>
            <a:ext cx="736920" cy="203400"/>
          </a:xfrm>
          <a:custGeom>
            <a:avLst/>
            <a:gdLst/>
            <a:ahLst/>
            <a:rect l="0" t="0" r="r" b="b"/>
            <a:pathLst>
              <a:path w="2047" h="565">
                <a:moveTo>
                  <a:pt x="176" y="424"/>
                </a:moveTo>
                <a:lnTo>
                  <a:pt x="458" y="389"/>
                </a:lnTo>
                <a:lnTo>
                  <a:pt x="564" y="318"/>
                </a:lnTo>
                <a:lnTo>
                  <a:pt x="670" y="318"/>
                </a:lnTo>
                <a:lnTo>
                  <a:pt x="811" y="353"/>
                </a:lnTo>
                <a:lnTo>
                  <a:pt x="1094" y="389"/>
                </a:lnTo>
                <a:lnTo>
                  <a:pt x="1200" y="424"/>
                </a:lnTo>
                <a:lnTo>
                  <a:pt x="1306" y="494"/>
                </a:lnTo>
                <a:lnTo>
                  <a:pt x="1412" y="494"/>
                </a:lnTo>
                <a:lnTo>
                  <a:pt x="1517" y="565"/>
                </a:lnTo>
                <a:lnTo>
                  <a:pt x="1623" y="565"/>
                </a:lnTo>
                <a:lnTo>
                  <a:pt x="1729" y="494"/>
                </a:lnTo>
                <a:lnTo>
                  <a:pt x="1870" y="494"/>
                </a:lnTo>
                <a:lnTo>
                  <a:pt x="1976" y="494"/>
                </a:lnTo>
                <a:lnTo>
                  <a:pt x="2047" y="389"/>
                </a:lnTo>
                <a:lnTo>
                  <a:pt x="1976" y="283"/>
                </a:lnTo>
                <a:lnTo>
                  <a:pt x="1870" y="283"/>
                </a:lnTo>
                <a:lnTo>
                  <a:pt x="1764" y="283"/>
                </a:lnTo>
                <a:lnTo>
                  <a:pt x="1659" y="283"/>
                </a:lnTo>
                <a:lnTo>
                  <a:pt x="1553" y="283"/>
                </a:lnTo>
                <a:lnTo>
                  <a:pt x="1447" y="211"/>
                </a:lnTo>
                <a:lnTo>
                  <a:pt x="1306" y="141"/>
                </a:lnTo>
                <a:lnTo>
                  <a:pt x="1165" y="141"/>
                </a:lnTo>
                <a:lnTo>
                  <a:pt x="1059" y="70"/>
                </a:lnTo>
                <a:lnTo>
                  <a:pt x="952" y="70"/>
                </a:lnTo>
                <a:lnTo>
                  <a:pt x="846" y="35"/>
                </a:lnTo>
                <a:lnTo>
                  <a:pt x="740" y="0"/>
                </a:lnTo>
                <a:lnTo>
                  <a:pt x="635" y="0"/>
                </a:lnTo>
                <a:lnTo>
                  <a:pt x="529" y="0"/>
                </a:lnTo>
                <a:lnTo>
                  <a:pt x="423" y="0"/>
                </a:lnTo>
                <a:lnTo>
                  <a:pt x="317" y="0"/>
                </a:lnTo>
                <a:lnTo>
                  <a:pt x="211" y="70"/>
                </a:lnTo>
                <a:lnTo>
                  <a:pt x="105" y="141"/>
                </a:lnTo>
                <a:lnTo>
                  <a:pt x="0" y="176"/>
                </a:lnTo>
                <a:lnTo>
                  <a:pt x="0" y="283"/>
                </a:lnTo>
                <a:lnTo>
                  <a:pt x="35" y="389"/>
                </a:lnTo>
                <a:lnTo>
                  <a:pt x="176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219320" y="3657600"/>
            <a:ext cx="1219680" cy="762480"/>
            <a:chOff x="1219320" y="3657600"/>
            <a:chExt cx="1219680" cy="762480"/>
          </a:xfrm>
        </p:grpSpPr>
        <p:sp>
          <p:nvSpPr>
            <p:cNvPr id="932" name=""/>
            <p:cNvSpPr/>
            <p:nvPr/>
          </p:nvSpPr>
          <p:spPr>
            <a:xfrm>
              <a:off x="1219320" y="3657600"/>
              <a:ext cx="1219680" cy="762480"/>
            </a:xfrm>
            <a:custGeom>
              <a:avLst/>
              <a:gdLst/>
              <a:ahLst/>
              <a:rect l="0" t="0" r="r" b="b"/>
              <a:pathLst>
                <a:path w="3388" h="2118">
                  <a:moveTo>
                    <a:pt x="3388" y="1907"/>
                  </a:moveTo>
                  <a:lnTo>
                    <a:pt x="3388" y="423"/>
                  </a:lnTo>
                  <a:lnTo>
                    <a:pt x="3049" y="211"/>
                  </a:lnTo>
                  <a:lnTo>
                    <a:pt x="2711" y="211"/>
                  </a:lnTo>
                  <a:lnTo>
                    <a:pt x="3049" y="0"/>
                  </a:lnTo>
                  <a:lnTo>
                    <a:pt x="2371" y="211"/>
                  </a:lnTo>
                  <a:lnTo>
                    <a:pt x="338" y="211"/>
                  </a:lnTo>
                  <a:lnTo>
                    <a:pt x="0" y="423"/>
                  </a:lnTo>
                  <a:lnTo>
                    <a:pt x="0" y="1907"/>
                  </a:lnTo>
                  <a:lnTo>
                    <a:pt x="338" y="2118"/>
                  </a:lnTo>
                  <a:lnTo>
                    <a:pt x="3049" y="2118"/>
                  </a:lnTo>
                  <a:lnTo>
                    <a:pt x="3388" y="1907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 txBox="1"/>
            <p:nvPr/>
          </p:nvSpPr>
          <p:spPr>
            <a:xfrm>
              <a:off x="1219320" y="3886200"/>
              <a:ext cx="10666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4284720" y="3657600"/>
            <a:ext cx="59040" cy="140040"/>
            <a:chOff x="4284720" y="3657600"/>
            <a:chExt cx="59040" cy="140040"/>
          </a:xfrm>
        </p:grpSpPr>
        <p:sp>
          <p:nvSpPr>
            <p:cNvPr id="935" name=""/>
            <p:cNvSpPr/>
            <p:nvPr/>
          </p:nvSpPr>
          <p:spPr>
            <a:xfrm>
              <a:off x="4284720" y="3657600"/>
              <a:ext cx="59040" cy="140040"/>
            </a:xfrm>
            <a:custGeom>
              <a:avLst/>
              <a:gdLst/>
              <a:ahLst/>
              <a:rect l="0" t="0" r="r" b="b"/>
              <a:pathLst>
                <a:path w="164" h="389">
                  <a:moveTo>
                    <a:pt x="0" y="0"/>
                  </a:moveTo>
                  <a:lnTo>
                    <a:pt x="7" y="196"/>
                  </a:lnTo>
                  <a:lnTo>
                    <a:pt x="30" y="134"/>
                  </a:lnTo>
                  <a:lnTo>
                    <a:pt x="49" y="389"/>
                  </a:lnTo>
                  <a:lnTo>
                    <a:pt x="75" y="141"/>
                  </a:lnTo>
                  <a:lnTo>
                    <a:pt x="91" y="200"/>
                  </a:lnTo>
                  <a:lnTo>
                    <a:pt x="120" y="58"/>
                  </a:lnTo>
                  <a:lnTo>
                    <a:pt x="131" y="119"/>
                  </a:lnTo>
                  <a:lnTo>
                    <a:pt x="164" y="29"/>
                  </a:lnTo>
                  <a:lnTo>
                    <a:pt x="145" y="21"/>
                  </a:lnTo>
                  <a:lnTo>
                    <a:pt x="126" y="18"/>
                  </a:lnTo>
                  <a:lnTo>
                    <a:pt x="114" y="18"/>
                  </a:lnTo>
                  <a:lnTo>
                    <a:pt x="1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290840" y="3659040"/>
              <a:ext cx="35280" cy="82800"/>
            </a:xfrm>
            <a:custGeom>
              <a:avLst/>
              <a:gdLst/>
              <a:ahLst/>
              <a:rect l="0" t="0" r="r" b="b"/>
              <a:pathLst>
                <a:path w="98" h="230">
                  <a:moveTo>
                    <a:pt x="0" y="0"/>
                  </a:moveTo>
                  <a:lnTo>
                    <a:pt x="98" y="14"/>
                  </a:lnTo>
                  <a:lnTo>
                    <a:pt x="72" y="119"/>
                  </a:lnTo>
                  <a:lnTo>
                    <a:pt x="58" y="78"/>
                  </a:lnTo>
                  <a:lnTo>
                    <a:pt x="33" y="230"/>
                  </a:lnTo>
                  <a:lnTo>
                    <a:pt x="22" y="71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3314880" y="4033800"/>
            <a:ext cx="176400" cy="322560"/>
            <a:chOff x="3314880" y="4033800"/>
            <a:chExt cx="176400" cy="322560"/>
          </a:xfrm>
        </p:grpSpPr>
        <p:sp>
          <p:nvSpPr>
            <p:cNvPr id="938" name=""/>
            <p:cNvSpPr/>
            <p:nvPr/>
          </p:nvSpPr>
          <p:spPr>
            <a:xfrm>
              <a:off x="3314880" y="4033800"/>
              <a:ext cx="176400" cy="322560"/>
            </a:xfrm>
            <a:custGeom>
              <a:avLst/>
              <a:gdLst/>
              <a:ahLst/>
              <a:rect l="0" t="0" r="r" b="b"/>
              <a:pathLst>
                <a:path w="490" h="896">
                  <a:moveTo>
                    <a:pt x="0" y="0"/>
                  </a:moveTo>
                  <a:lnTo>
                    <a:pt x="21" y="452"/>
                  </a:lnTo>
                  <a:lnTo>
                    <a:pt x="92" y="309"/>
                  </a:lnTo>
                  <a:lnTo>
                    <a:pt x="147" y="896"/>
                  </a:lnTo>
                  <a:lnTo>
                    <a:pt x="227" y="326"/>
                  </a:lnTo>
                  <a:lnTo>
                    <a:pt x="271" y="461"/>
                  </a:lnTo>
                  <a:lnTo>
                    <a:pt x="359" y="133"/>
                  </a:lnTo>
                  <a:lnTo>
                    <a:pt x="393" y="276"/>
                  </a:lnTo>
                  <a:lnTo>
                    <a:pt x="490" y="66"/>
                  </a:lnTo>
                  <a:lnTo>
                    <a:pt x="435" y="50"/>
                  </a:lnTo>
                  <a:lnTo>
                    <a:pt x="376" y="41"/>
                  </a:lnTo>
                  <a:lnTo>
                    <a:pt x="342" y="41"/>
                  </a:lnTo>
                  <a:lnTo>
                    <a:pt x="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332160" y="4037040"/>
              <a:ext cx="106560" cy="192600"/>
            </a:xfrm>
            <a:custGeom>
              <a:avLst/>
              <a:gdLst/>
              <a:ahLst/>
              <a:rect l="0" t="0" r="r" b="b"/>
              <a:pathLst>
                <a:path w="296" h="535">
                  <a:moveTo>
                    <a:pt x="0" y="0"/>
                  </a:moveTo>
                  <a:lnTo>
                    <a:pt x="296" y="33"/>
                  </a:lnTo>
                  <a:lnTo>
                    <a:pt x="219" y="276"/>
                  </a:lnTo>
                  <a:lnTo>
                    <a:pt x="176" y="184"/>
                  </a:lnTo>
                  <a:lnTo>
                    <a:pt x="102" y="535"/>
                  </a:lnTo>
                  <a:lnTo>
                    <a:pt x="68" y="167"/>
                  </a:lnTo>
                  <a:lnTo>
                    <a:pt x="0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2976480" y="4516560"/>
            <a:ext cx="224280" cy="437040"/>
            <a:chOff x="2976480" y="4516560"/>
            <a:chExt cx="224280" cy="437040"/>
          </a:xfrm>
        </p:grpSpPr>
        <p:sp>
          <p:nvSpPr>
            <p:cNvPr id="941" name=""/>
            <p:cNvSpPr/>
            <p:nvPr/>
          </p:nvSpPr>
          <p:spPr>
            <a:xfrm>
              <a:off x="2976480" y="4516560"/>
              <a:ext cx="224280" cy="437040"/>
            </a:xfrm>
            <a:custGeom>
              <a:avLst/>
              <a:gdLst/>
              <a:ahLst/>
              <a:rect l="0" t="0" r="r" b="b"/>
              <a:pathLst>
                <a:path w="623" h="1214">
                  <a:moveTo>
                    <a:pt x="0" y="0"/>
                  </a:moveTo>
                  <a:lnTo>
                    <a:pt x="26" y="613"/>
                  </a:lnTo>
                  <a:lnTo>
                    <a:pt x="117" y="420"/>
                  </a:lnTo>
                  <a:lnTo>
                    <a:pt x="188" y="1214"/>
                  </a:lnTo>
                  <a:lnTo>
                    <a:pt x="290" y="443"/>
                  </a:lnTo>
                  <a:lnTo>
                    <a:pt x="344" y="624"/>
                  </a:lnTo>
                  <a:lnTo>
                    <a:pt x="456" y="181"/>
                  </a:lnTo>
                  <a:lnTo>
                    <a:pt x="500" y="375"/>
                  </a:lnTo>
                  <a:lnTo>
                    <a:pt x="623" y="90"/>
                  </a:lnTo>
                  <a:lnTo>
                    <a:pt x="554" y="67"/>
                  </a:lnTo>
                  <a:lnTo>
                    <a:pt x="479" y="56"/>
                  </a:lnTo>
                  <a:lnTo>
                    <a:pt x="435" y="56"/>
                  </a:lnTo>
                  <a:lnTo>
                    <a:pt x="64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00240" y="4521240"/>
              <a:ext cx="132120" cy="260640"/>
            </a:xfrm>
            <a:custGeom>
              <a:avLst/>
              <a:gdLst/>
              <a:ahLst/>
              <a:rect l="0" t="0" r="r" b="b"/>
              <a:pathLst>
                <a:path w="367" h="724">
                  <a:moveTo>
                    <a:pt x="0" y="0"/>
                  </a:moveTo>
                  <a:lnTo>
                    <a:pt x="367" y="45"/>
                  </a:lnTo>
                  <a:lnTo>
                    <a:pt x="271" y="373"/>
                  </a:lnTo>
                  <a:lnTo>
                    <a:pt x="218" y="248"/>
                  </a:lnTo>
                  <a:lnTo>
                    <a:pt x="127" y="724"/>
                  </a:lnTo>
                  <a:lnTo>
                    <a:pt x="84" y="225"/>
                  </a:lnTo>
                  <a:lnTo>
                    <a:pt x="0" y="3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2628720" y="2387520"/>
            <a:ext cx="2139120" cy="3923280"/>
            <a:chOff x="2628720" y="2387520"/>
            <a:chExt cx="2139120" cy="3923280"/>
          </a:xfrm>
        </p:grpSpPr>
        <p:sp>
          <p:nvSpPr>
            <p:cNvPr id="944" name=""/>
            <p:cNvSpPr/>
            <p:nvPr/>
          </p:nvSpPr>
          <p:spPr>
            <a:xfrm>
              <a:off x="2727360" y="3784680"/>
              <a:ext cx="1020960" cy="1035360"/>
            </a:xfrm>
            <a:custGeom>
              <a:avLst/>
              <a:gdLst/>
              <a:ahLst/>
              <a:rect l="0" t="0" r="r" b="b"/>
              <a:pathLst>
                <a:path w="2836" h="2876">
                  <a:moveTo>
                    <a:pt x="2442" y="181"/>
                  </a:moveTo>
                  <a:lnTo>
                    <a:pt x="2273" y="58"/>
                  </a:lnTo>
                  <a:lnTo>
                    <a:pt x="1949" y="0"/>
                  </a:lnTo>
                  <a:lnTo>
                    <a:pt x="1549" y="213"/>
                  </a:lnTo>
                  <a:lnTo>
                    <a:pt x="956" y="453"/>
                  </a:lnTo>
                  <a:lnTo>
                    <a:pt x="498" y="874"/>
                  </a:lnTo>
                  <a:lnTo>
                    <a:pt x="133" y="1392"/>
                  </a:lnTo>
                  <a:lnTo>
                    <a:pt x="0" y="1697"/>
                  </a:lnTo>
                  <a:lnTo>
                    <a:pt x="34" y="1846"/>
                  </a:lnTo>
                  <a:lnTo>
                    <a:pt x="330" y="2028"/>
                  </a:lnTo>
                  <a:lnTo>
                    <a:pt x="1026" y="2118"/>
                  </a:lnTo>
                  <a:lnTo>
                    <a:pt x="1781" y="2086"/>
                  </a:lnTo>
                  <a:lnTo>
                    <a:pt x="2076" y="2209"/>
                  </a:lnTo>
                  <a:lnTo>
                    <a:pt x="2042" y="2417"/>
                  </a:lnTo>
                  <a:lnTo>
                    <a:pt x="1746" y="2721"/>
                  </a:lnTo>
                  <a:lnTo>
                    <a:pt x="1850" y="2785"/>
                  </a:lnTo>
                  <a:lnTo>
                    <a:pt x="2181" y="2481"/>
                  </a:lnTo>
                  <a:lnTo>
                    <a:pt x="2245" y="2513"/>
                  </a:lnTo>
                  <a:lnTo>
                    <a:pt x="2273" y="2876"/>
                  </a:lnTo>
                  <a:lnTo>
                    <a:pt x="2372" y="2876"/>
                  </a:lnTo>
                  <a:lnTo>
                    <a:pt x="2372" y="2454"/>
                  </a:lnTo>
                  <a:lnTo>
                    <a:pt x="2442" y="2417"/>
                  </a:lnTo>
                  <a:lnTo>
                    <a:pt x="2708" y="2662"/>
                  </a:lnTo>
                  <a:lnTo>
                    <a:pt x="2772" y="2572"/>
                  </a:lnTo>
                  <a:lnTo>
                    <a:pt x="2476" y="2332"/>
                  </a:lnTo>
                  <a:lnTo>
                    <a:pt x="2476" y="2241"/>
                  </a:lnTo>
                  <a:lnTo>
                    <a:pt x="2836" y="2086"/>
                  </a:lnTo>
                  <a:lnTo>
                    <a:pt x="2801" y="2028"/>
                  </a:lnTo>
                  <a:lnTo>
                    <a:pt x="2372" y="2086"/>
                  </a:lnTo>
                  <a:lnTo>
                    <a:pt x="2111" y="2028"/>
                  </a:lnTo>
                  <a:lnTo>
                    <a:pt x="1850" y="1937"/>
                  </a:lnTo>
                  <a:lnTo>
                    <a:pt x="1514" y="1910"/>
                  </a:lnTo>
                  <a:lnTo>
                    <a:pt x="1090" y="1878"/>
                  </a:lnTo>
                  <a:lnTo>
                    <a:pt x="661" y="1814"/>
                  </a:lnTo>
                  <a:lnTo>
                    <a:pt x="394" y="1665"/>
                  </a:lnTo>
                  <a:lnTo>
                    <a:pt x="394" y="1569"/>
                  </a:lnTo>
                  <a:lnTo>
                    <a:pt x="591" y="1301"/>
                  </a:lnTo>
                  <a:lnTo>
                    <a:pt x="956" y="1061"/>
                  </a:lnTo>
                  <a:lnTo>
                    <a:pt x="1351" y="874"/>
                  </a:lnTo>
                  <a:lnTo>
                    <a:pt x="1978" y="725"/>
                  </a:lnTo>
                  <a:lnTo>
                    <a:pt x="2337" y="544"/>
                  </a:lnTo>
                  <a:lnTo>
                    <a:pt x="2442" y="181"/>
                  </a:lnTo>
                  <a:close/>
                </a:path>
              </a:pathLst>
            </a:custGeom>
            <a:solidFill>
              <a:srgbClr val="66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321000" y="2727360"/>
              <a:ext cx="1235520" cy="1070280"/>
            </a:xfrm>
            <a:custGeom>
              <a:avLst/>
              <a:gdLst/>
              <a:ahLst/>
              <a:rect l="0" t="0" r="r" b="b"/>
              <a:pathLst>
                <a:path w="3432" h="2973">
                  <a:moveTo>
                    <a:pt x="1374" y="2552"/>
                  </a:moveTo>
                  <a:lnTo>
                    <a:pt x="1739" y="2387"/>
                  </a:lnTo>
                  <a:lnTo>
                    <a:pt x="2394" y="2312"/>
                  </a:lnTo>
                  <a:lnTo>
                    <a:pt x="2772" y="2184"/>
                  </a:lnTo>
                  <a:lnTo>
                    <a:pt x="2957" y="1977"/>
                  </a:lnTo>
                  <a:lnTo>
                    <a:pt x="3021" y="1508"/>
                  </a:lnTo>
                  <a:lnTo>
                    <a:pt x="2969" y="1310"/>
                  </a:lnTo>
                  <a:lnTo>
                    <a:pt x="2627" y="1118"/>
                  </a:lnTo>
                  <a:lnTo>
                    <a:pt x="2203" y="964"/>
                  </a:lnTo>
                  <a:lnTo>
                    <a:pt x="1687" y="964"/>
                  </a:lnTo>
                  <a:lnTo>
                    <a:pt x="1148" y="1022"/>
                  </a:lnTo>
                  <a:lnTo>
                    <a:pt x="997" y="916"/>
                  </a:lnTo>
                  <a:lnTo>
                    <a:pt x="846" y="633"/>
                  </a:lnTo>
                  <a:lnTo>
                    <a:pt x="550" y="468"/>
                  </a:lnTo>
                  <a:lnTo>
                    <a:pt x="254" y="468"/>
                  </a:lnTo>
                  <a:lnTo>
                    <a:pt x="63" y="527"/>
                  </a:lnTo>
                  <a:lnTo>
                    <a:pt x="0" y="372"/>
                  </a:lnTo>
                  <a:lnTo>
                    <a:pt x="162" y="26"/>
                  </a:lnTo>
                  <a:lnTo>
                    <a:pt x="359" y="0"/>
                  </a:lnTo>
                  <a:lnTo>
                    <a:pt x="718" y="207"/>
                  </a:lnTo>
                  <a:lnTo>
                    <a:pt x="951" y="388"/>
                  </a:lnTo>
                  <a:lnTo>
                    <a:pt x="1160" y="692"/>
                  </a:lnTo>
                  <a:lnTo>
                    <a:pt x="1212" y="798"/>
                  </a:lnTo>
                  <a:lnTo>
                    <a:pt x="1623" y="719"/>
                  </a:lnTo>
                  <a:lnTo>
                    <a:pt x="2185" y="692"/>
                  </a:lnTo>
                  <a:lnTo>
                    <a:pt x="2662" y="782"/>
                  </a:lnTo>
                  <a:lnTo>
                    <a:pt x="3067" y="964"/>
                  </a:lnTo>
                  <a:lnTo>
                    <a:pt x="3363" y="1219"/>
                  </a:lnTo>
                  <a:lnTo>
                    <a:pt x="3432" y="1416"/>
                  </a:lnTo>
                  <a:lnTo>
                    <a:pt x="3334" y="1966"/>
                  </a:lnTo>
                  <a:lnTo>
                    <a:pt x="3102" y="2371"/>
                  </a:lnTo>
                  <a:lnTo>
                    <a:pt x="2475" y="2776"/>
                  </a:lnTo>
                  <a:lnTo>
                    <a:pt x="1785" y="2973"/>
                  </a:lnTo>
                  <a:lnTo>
                    <a:pt x="1426" y="2946"/>
                  </a:lnTo>
                  <a:lnTo>
                    <a:pt x="1310" y="2760"/>
                  </a:lnTo>
                  <a:lnTo>
                    <a:pt x="1374" y="2552"/>
                  </a:lnTo>
                  <a:close/>
                </a:path>
              </a:pathLst>
            </a:custGeom>
            <a:solidFill>
              <a:srgbClr val="66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959280" y="4853160"/>
              <a:ext cx="808560" cy="1337040"/>
            </a:xfrm>
            <a:custGeom>
              <a:avLst/>
              <a:gdLst/>
              <a:ahLst/>
              <a:rect l="0" t="0" r="r" b="b"/>
              <a:pathLst>
                <a:path w="2246" h="3714">
                  <a:moveTo>
                    <a:pt x="1253" y="452"/>
                  </a:moveTo>
                  <a:lnTo>
                    <a:pt x="795" y="90"/>
                  </a:lnTo>
                  <a:lnTo>
                    <a:pt x="330" y="0"/>
                  </a:lnTo>
                  <a:lnTo>
                    <a:pt x="0" y="239"/>
                  </a:lnTo>
                  <a:lnTo>
                    <a:pt x="266" y="574"/>
                  </a:lnTo>
                  <a:lnTo>
                    <a:pt x="662" y="723"/>
                  </a:lnTo>
                  <a:lnTo>
                    <a:pt x="1584" y="1208"/>
                  </a:lnTo>
                  <a:lnTo>
                    <a:pt x="1811" y="1357"/>
                  </a:lnTo>
                  <a:lnTo>
                    <a:pt x="1811" y="1511"/>
                  </a:lnTo>
                  <a:lnTo>
                    <a:pt x="1450" y="1841"/>
                  </a:lnTo>
                  <a:lnTo>
                    <a:pt x="824" y="2389"/>
                  </a:lnTo>
                  <a:lnTo>
                    <a:pt x="498" y="2810"/>
                  </a:lnTo>
                  <a:lnTo>
                    <a:pt x="498" y="2991"/>
                  </a:lnTo>
                  <a:lnTo>
                    <a:pt x="527" y="3081"/>
                  </a:lnTo>
                  <a:lnTo>
                    <a:pt x="824" y="3108"/>
                  </a:lnTo>
                  <a:lnTo>
                    <a:pt x="1323" y="3294"/>
                  </a:lnTo>
                  <a:lnTo>
                    <a:pt x="1653" y="3566"/>
                  </a:lnTo>
                  <a:lnTo>
                    <a:pt x="1881" y="3714"/>
                  </a:lnTo>
                  <a:lnTo>
                    <a:pt x="2014" y="3683"/>
                  </a:lnTo>
                  <a:lnTo>
                    <a:pt x="2211" y="3353"/>
                  </a:lnTo>
                  <a:lnTo>
                    <a:pt x="2043" y="3204"/>
                  </a:lnTo>
                  <a:lnTo>
                    <a:pt x="1514" y="3050"/>
                  </a:lnTo>
                  <a:lnTo>
                    <a:pt x="992" y="2933"/>
                  </a:lnTo>
                  <a:lnTo>
                    <a:pt x="760" y="2933"/>
                  </a:lnTo>
                  <a:lnTo>
                    <a:pt x="691" y="2874"/>
                  </a:lnTo>
                  <a:lnTo>
                    <a:pt x="824" y="2719"/>
                  </a:lnTo>
                  <a:lnTo>
                    <a:pt x="1189" y="2474"/>
                  </a:lnTo>
                  <a:lnTo>
                    <a:pt x="1682" y="2203"/>
                  </a:lnTo>
                  <a:lnTo>
                    <a:pt x="2113" y="1814"/>
                  </a:lnTo>
                  <a:lnTo>
                    <a:pt x="2246" y="1511"/>
                  </a:lnTo>
                  <a:lnTo>
                    <a:pt x="2182" y="1208"/>
                  </a:lnTo>
                  <a:lnTo>
                    <a:pt x="1852" y="877"/>
                  </a:lnTo>
                  <a:lnTo>
                    <a:pt x="1555" y="638"/>
                  </a:lnTo>
                  <a:lnTo>
                    <a:pt x="1253" y="452"/>
                  </a:lnTo>
                  <a:close/>
                </a:path>
              </a:pathLst>
            </a:custGeom>
            <a:solidFill>
              <a:srgbClr val="66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4854600"/>
              <a:ext cx="721080" cy="1456200"/>
            </a:xfrm>
            <a:custGeom>
              <a:avLst/>
              <a:gdLst/>
              <a:ahLst/>
              <a:rect l="0" t="0" r="r" b="b"/>
              <a:pathLst>
                <a:path w="2003" h="4045">
                  <a:moveTo>
                    <a:pt x="1407" y="814"/>
                  </a:moveTo>
                  <a:lnTo>
                    <a:pt x="1048" y="356"/>
                  </a:lnTo>
                  <a:lnTo>
                    <a:pt x="786" y="26"/>
                  </a:lnTo>
                  <a:lnTo>
                    <a:pt x="457" y="0"/>
                  </a:lnTo>
                  <a:lnTo>
                    <a:pt x="231" y="148"/>
                  </a:lnTo>
                  <a:lnTo>
                    <a:pt x="266" y="420"/>
                  </a:lnTo>
                  <a:lnTo>
                    <a:pt x="561" y="691"/>
                  </a:lnTo>
                  <a:lnTo>
                    <a:pt x="1378" y="1506"/>
                  </a:lnTo>
                  <a:lnTo>
                    <a:pt x="1574" y="1778"/>
                  </a:lnTo>
                  <a:lnTo>
                    <a:pt x="1574" y="1905"/>
                  </a:lnTo>
                  <a:lnTo>
                    <a:pt x="1343" y="2113"/>
                  </a:lnTo>
                  <a:lnTo>
                    <a:pt x="688" y="2352"/>
                  </a:lnTo>
                  <a:lnTo>
                    <a:pt x="196" y="2597"/>
                  </a:lnTo>
                  <a:lnTo>
                    <a:pt x="63" y="2778"/>
                  </a:lnTo>
                  <a:lnTo>
                    <a:pt x="0" y="2985"/>
                  </a:lnTo>
                  <a:lnTo>
                    <a:pt x="34" y="3444"/>
                  </a:lnTo>
                  <a:lnTo>
                    <a:pt x="127" y="3715"/>
                  </a:lnTo>
                  <a:lnTo>
                    <a:pt x="393" y="4045"/>
                  </a:lnTo>
                  <a:lnTo>
                    <a:pt x="624" y="4045"/>
                  </a:lnTo>
                  <a:lnTo>
                    <a:pt x="885" y="3891"/>
                  </a:lnTo>
                  <a:lnTo>
                    <a:pt x="885" y="3774"/>
                  </a:lnTo>
                  <a:lnTo>
                    <a:pt x="653" y="3657"/>
                  </a:lnTo>
                  <a:lnTo>
                    <a:pt x="393" y="3503"/>
                  </a:lnTo>
                  <a:lnTo>
                    <a:pt x="231" y="3316"/>
                  </a:lnTo>
                  <a:lnTo>
                    <a:pt x="196" y="2927"/>
                  </a:lnTo>
                  <a:lnTo>
                    <a:pt x="329" y="2778"/>
                  </a:lnTo>
                  <a:lnTo>
                    <a:pt x="590" y="2656"/>
                  </a:lnTo>
                  <a:lnTo>
                    <a:pt x="1083" y="2507"/>
                  </a:lnTo>
                  <a:lnTo>
                    <a:pt x="1800" y="2262"/>
                  </a:lnTo>
                  <a:lnTo>
                    <a:pt x="2003" y="2081"/>
                  </a:lnTo>
                  <a:lnTo>
                    <a:pt x="2003" y="1810"/>
                  </a:lnTo>
                  <a:lnTo>
                    <a:pt x="1800" y="1448"/>
                  </a:lnTo>
                  <a:lnTo>
                    <a:pt x="1609" y="1144"/>
                  </a:lnTo>
                  <a:lnTo>
                    <a:pt x="1407" y="814"/>
                  </a:lnTo>
                  <a:close/>
                </a:path>
              </a:pathLst>
            </a:custGeom>
            <a:solidFill>
              <a:srgbClr val="66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456000" y="3638520"/>
              <a:ext cx="810000" cy="1422720"/>
            </a:xfrm>
            <a:custGeom>
              <a:avLst/>
              <a:gdLst/>
              <a:ahLst/>
              <a:rect l="0" t="0" r="r" b="b"/>
              <a:pathLst>
                <a:path w="2250" h="3952">
                  <a:moveTo>
                    <a:pt x="1258" y="186"/>
                  </a:moveTo>
                  <a:lnTo>
                    <a:pt x="945" y="0"/>
                  </a:lnTo>
                  <a:lnTo>
                    <a:pt x="539" y="0"/>
                  </a:lnTo>
                  <a:lnTo>
                    <a:pt x="226" y="154"/>
                  </a:lnTo>
                  <a:lnTo>
                    <a:pt x="11" y="442"/>
                  </a:lnTo>
                  <a:lnTo>
                    <a:pt x="0" y="634"/>
                  </a:lnTo>
                  <a:lnTo>
                    <a:pt x="63" y="879"/>
                  </a:lnTo>
                  <a:lnTo>
                    <a:pt x="226" y="1061"/>
                  </a:lnTo>
                  <a:lnTo>
                    <a:pt x="486" y="1381"/>
                  </a:lnTo>
                  <a:lnTo>
                    <a:pt x="655" y="1770"/>
                  </a:lnTo>
                  <a:lnTo>
                    <a:pt x="754" y="2107"/>
                  </a:lnTo>
                  <a:lnTo>
                    <a:pt x="754" y="2517"/>
                  </a:lnTo>
                  <a:lnTo>
                    <a:pt x="621" y="2923"/>
                  </a:lnTo>
                  <a:lnTo>
                    <a:pt x="621" y="3317"/>
                  </a:lnTo>
                  <a:lnTo>
                    <a:pt x="702" y="3637"/>
                  </a:lnTo>
                  <a:lnTo>
                    <a:pt x="928" y="3866"/>
                  </a:lnTo>
                  <a:lnTo>
                    <a:pt x="1177" y="3952"/>
                  </a:lnTo>
                  <a:lnTo>
                    <a:pt x="1473" y="3909"/>
                  </a:lnTo>
                  <a:lnTo>
                    <a:pt x="1804" y="3834"/>
                  </a:lnTo>
                  <a:lnTo>
                    <a:pt x="2036" y="3621"/>
                  </a:lnTo>
                  <a:lnTo>
                    <a:pt x="2164" y="3120"/>
                  </a:lnTo>
                  <a:lnTo>
                    <a:pt x="2250" y="2683"/>
                  </a:lnTo>
                  <a:lnTo>
                    <a:pt x="2181" y="2075"/>
                  </a:lnTo>
                  <a:lnTo>
                    <a:pt x="2019" y="1562"/>
                  </a:lnTo>
                  <a:lnTo>
                    <a:pt x="1787" y="1034"/>
                  </a:lnTo>
                  <a:lnTo>
                    <a:pt x="1508" y="490"/>
                  </a:lnTo>
                  <a:lnTo>
                    <a:pt x="1258" y="186"/>
                  </a:lnTo>
                  <a:close/>
                </a:path>
              </a:pathLst>
            </a:custGeom>
            <a:solidFill>
              <a:srgbClr val="66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9" name=""/>
            <p:cNvGrpSpPr/>
            <p:nvPr/>
          </p:nvGrpSpPr>
          <p:grpSpPr>
            <a:xfrm>
              <a:off x="2628720" y="2387520"/>
              <a:ext cx="1059480" cy="1257840"/>
              <a:chOff x="2628720" y="2387520"/>
              <a:chExt cx="1059480" cy="1257840"/>
            </a:xfrm>
          </p:grpSpPr>
          <p:sp>
            <p:nvSpPr>
              <p:cNvPr id="950" name=""/>
              <p:cNvSpPr/>
              <p:nvPr/>
            </p:nvSpPr>
            <p:spPr>
              <a:xfrm>
                <a:off x="2789280" y="2448000"/>
                <a:ext cx="898920" cy="1197360"/>
              </a:xfrm>
              <a:custGeom>
                <a:avLst/>
                <a:gdLst/>
                <a:ahLst/>
                <a:rect l="0" t="0" r="r" b="b"/>
                <a:pathLst>
                  <a:path w="2497" h="3326">
                    <a:moveTo>
                      <a:pt x="1512" y="965"/>
                    </a:moveTo>
                    <a:lnTo>
                      <a:pt x="1199" y="708"/>
                    </a:lnTo>
                    <a:lnTo>
                      <a:pt x="794" y="618"/>
                    </a:lnTo>
                    <a:lnTo>
                      <a:pt x="422" y="698"/>
                    </a:lnTo>
                    <a:lnTo>
                      <a:pt x="127" y="917"/>
                    </a:lnTo>
                    <a:lnTo>
                      <a:pt x="0" y="1317"/>
                    </a:lnTo>
                    <a:lnTo>
                      <a:pt x="81" y="1892"/>
                    </a:lnTo>
                    <a:lnTo>
                      <a:pt x="422" y="2527"/>
                    </a:lnTo>
                    <a:lnTo>
                      <a:pt x="858" y="3028"/>
                    </a:lnTo>
                    <a:lnTo>
                      <a:pt x="1251" y="3252"/>
                    </a:lnTo>
                    <a:lnTo>
                      <a:pt x="1691" y="3326"/>
                    </a:lnTo>
                    <a:lnTo>
                      <a:pt x="2057" y="3284"/>
                    </a:lnTo>
                    <a:lnTo>
                      <a:pt x="2451" y="2996"/>
                    </a:lnTo>
                    <a:lnTo>
                      <a:pt x="2497" y="2692"/>
                    </a:lnTo>
                    <a:lnTo>
                      <a:pt x="2434" y="2206"/>
                    </a:lnTo>
                    <a:lnTo>
                      <a:pt x="2185" y="2361"/>
                    </a:lnTo>
                    <a:lnTo>
                      <a:pt x="1761" y="2452"/>
                    </a:lnTo>
                    <a:lnTo>
                      <a:pt x="1060" y="2249"/>
                    </a:lnTo>
                    <a:lnTo>
                      <a:pt x="1529" y="2057"/>
                    </a:lnTo>
                    <a:lnTo>
                      <a:pt x="1773" y="1913"/>
                    </a:lnTo>
                    <a:lnTo>
                      <a:pt x="2167" y="1620"/>
                    </a:lnTo>
                    <a:lnTo>
                      <a:pt x="1807" y="1119"/>
                    </a:lnTo>
                    <a:lnTo>
                      <a:pt x="2138" y="223"/>
                    </a:lnTo>
                    <a:lnTo>
                      <a:pt x="2092" y="69"/>
                    </a:lnTo>
                    <a:lnTo>
                      <a:pt x="1907" y="0"/>
                    </a:lnTo>
                    <a:lnTo>
                      <a:pt x="1807" y="101"/>
                    </a:lnTo>
                    <a:lnTo>
                      <a:pt x="1512" y="965"/>
                    </a:lnTo>
                    <a:close/>
                  </a:path>
                </a:pathLst>
              </a:custGeom>
              <a:solidFill>
                <a:srgbClr val="66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655720" y="2462040"/>
                <a:ext cx="659160" cy="914760"/>
              </a:xfrm>
              <a:custGeom>
                <a:avLst/>
                <a:gdLst/>
                <a:ahLst/>
                <a:rect l="0" t="0" r="r" b="b"/>
                <a:pathLst>
                  <a:path w="1831" h="2541">
                    <a:moveTo>
                      <a:pt x="418" y="1390"/>
                    </a:moveTo>
                    <a:lnTo>
                      <a:pt x="906" y="766"/>
                    </a:lnTo>
                    <a:lnTo>
                      <a:pt x="1482" y="271"/>
                    </a:lnTo>
                    <a:lnTo>
                      <a:pt x="1831" y="0"/>
                    </a:lnTo>
                    <a:lnTo>
                      <a:pt x="1308" y="15"/>
                    </a:lnTo>
                    <a:lnTo>
                      <a:pt x="610" y="287"/>
                    </a:lnTo>
                    <a:lnTo>
                      <a:pt x="261" y="638"/>
                    </a:lnTo>
                    <a:lnTo>
                      <a:pt x="104" y="1118"/>
                    </a:lnTo>
                    <a:lnTo>
                      <a:pt x="244" y="1390"/>
                    </a:lnTo>
                    <a:lnTo>
                      <a:pt x="0" y="1582"/>
                    </a:lnTo>
                    <a:lnTo>
                      <a:pt x="87" y="2013"/>
                    </a:lnTo>
                    <a:lnTo>
                      <a:pt x="366" y="2317"/>
                    </a:lnTo>
                    <a:lnTo>
                      <a:pt x="836" y="2541"/>
                    </a:lnTo>
                    <a:lnTo>
                      <a:pt x="714" y="2349"/>
                    </a:lnTo>
                    <a:lnTo>
                      <a:pt x="836" y="2269"/>
                    </a:lnTo>
                    <a:lnTo>
                      <a:pt x="1046" y="2269"/>
                    </a:lnTo>
                    <a:lnTo>
                      <a:pt x="766" y="2061"/>
                    </a:lnTo>
                    <a:lnTo>
                      <a:pt x="819" y="1678"/>
                    </a:lnTo>
                    <a:lnTo>
                      <a:pt x="418" y="1390"/>
                    </a:lnTo>
                    <a:close/>
                  </a:path>
                </a:pathLst>
              </a:custGeom>
              <a:solidFill>
                <a:srgbClr val="cc990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063960" y="2819520"/>
                <a:ext cx="225720" cy="184680"/>
              </a:xfrm>
              <a:custGeom>
                <a:avLst/>
                <a:gdLst/>
                <a:ahLst/>
                <a:rect l="0" t="0" r="r" b="b"/>
                <a:pathLst>
                  <a:path w="627" h="513">
                    <a:moveTo>
                      <a:pt x="627" y="240"/>
                    </a:moveTo>
                    <a:lnTo>
                      <a:pt x="435" y="95"/>
                    </a:lnTo>
                    <a:lnTo>
                      <a:pt x="243" y="15"/>
                    </a:lnTo>
                    <a:lnTo>
                      <a:pt x="69" y="0"/>
                    </a:lnTo>
                    <a:lnTo>
                      <a:pt x="0" y="63"/>
                    </a:lnTo>
                    <a:lnTo>
                      <a:pt x="0" y="160"/>
                    </a:lnTo>
                    <a:lnTo>
                      <a:pt x="52" y="320"/>
                    </a:lnTo>
                    <a:lnTo>
                      <a:pt x="226" y="449"/>
                    </a:lnTo>
                    <a:lnTo>
                      <a:pt x="348" y="513"/>
                    </a:lnTo>
                    <a:lnTo>
                      <a:pt x="627" y="240"/>
                    </a:lnTo>
                    <a:close/>
                  </a:path>
                </a:pathLst>
              </a:custGeom>
              <a:solidFill>
                <a:srgbClr val="66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628720" y="2387520"/>
                <a:ext cx="660600" cy="470160"/>
              </a:xfrm>
              <a:custGeom>
                <a:avLst/>
                <a:gdLst/>
                <a:ahLst/>
                <a:rect l="0" t="0" r="r" b="b"/>
                <a:pathLst>
                  <a:path w="1835" h="1306">
                    <a:moveTo>
                      <a:pt x="352" y="882"/>
                    </a:moveTo>
                    <a:lnTo>
                      <a:pt x="493" y="847"/>
                    </a:lnTo>
                    <a:lnTo>
                      <a:pt x="599" y="777"/>
                    </a:lnTo>
                    <a:lnTo>
                      <a:pt x="705" y="777"/>
                    </a:lnTo>
                    <a:lnTo>
                      <a:pt x="811" y="706"/>
                    </a:lnTo>
                    <a:lnTo>
                      <a:pt x="918" y="599"/>
                    </a:lnTo>
                    <a:lnTo>
                      <a:pt x="1024" y="564"/>
                    </a:lnTo>
                    <a:lnTo>
                      <a:pt x="1129" y="493"/>
                    </a:lnTo>
                    <a:lnTo>
                      <a:pt x="1271" y="493"/>
                    </a:lnTo>
                    <a:lnTo>
                      <a:pt x="1376" y="388"/>
                    </a:lnTo>
                    <a:lnTo>
                      <a:pt x="1482" y="352"/>
                    </a:lnTo>
                    <a:lnTo>
                      <a:pt x="1588" y="317"/>
                    </a:lnTo>
                    <a:lnTo>
                      <a:pt x="1694" y="246"/>
                    </a:lnTo>
                    <a:lnTo>
                      <a:pt x="1800" y="211"/>
                    </a:lnTo>
                    <a:lnTo>
                      <a:pt x="1835" y="105"/>
                    </a:lnTo>
                    <a:lnTo>
                      <a:pt x="1729" y="70"/>
                    </a:lnTo>
                    <a:lnTo>
                      <a:pt x="1623" y="0"/>
                    </a:lnTo>
                    <a:lnTo>
                      <a:pt x="1517" y="0"/>
                    </a:lnTo>
                    <a:lnTo>
                      <a:pt x="1412" y="0"/>
                    </a:lnTo>
                    <a:lnTo>
                      <a:pt x="1306" y="105"/>
                    </a:lnTo>
                    <a:lnTo>
                      <a:pt x="1200" y="105"/>
                    </a:lnTo>
                    <a:lnTo>
                      <a:pt x="1094" y="141"/>
                    </a:lnTo>
                    <a:lnTo>
                      <a:pt x="988" y="141"/>
                    </a:lnTo>
                    <a:lnTo>
                      <a:pt x="881" y="176"/>
                    </a:lnTo>
                    <a:lnTo>
                      <a:pt x="776" y="211"/>
                    </a:lnTo>
                    <a:lnTo>
                      <a:pt x="635" y="211"/>
                    </a:lnTo>
                    <a:lnTo>
                      <a:pt x="493" y="211"/>
                    </a:lnTo>
                    <a:lnTo>
                      <a:pt x="388" y="211"/>
                    </a:lnTo>
                    <a:lnTo>
                      <a:pt x="282" y="282"/>
                    </a:lnTo>
                    <a:lnTo>
                      <a:pt x="176" y="388"/>
                    </a:lnTo>
                    <a:lnTo>
                      <a:pt x="141" y="493"/>
                    </a:lnTo>
                    <a:lnTo>
                      <a:pt x="70" y="599"/>
                    </a:lnTo>
                    <a:lnTo>
                      <a:pt x="0" y="741"/>
                    </a:lnTo>
                    <a:lnTo>
                      <a:pt x="35" y="847"/>
                    </a:lnTo>
                    <a:lnTo>
                      <a:pt x="70" y="953"/>
                    </a:lnTo>
                    <a:lnTo>
                      <a:pt x="70" y="1059"/>
                    </a:lnTo>
                    <a:lnTo>
                      <a:pt x="70" y="1165"/>
                    </a:lnTo>
                    <a:lnTo>
                      <a:pt x="282" y="1200"/>
                    </a:lnTo>
                    <a:lnTo>
                      <a:pt x="388" y="1306"/>
                    </a:lnTo>
                    <a:lnTo>
                      <a:pt x="458" y="1200"/>
                    </a:lnTo>
                    <a:lnTo>
                      <a:pt x="458" y="1094"/>
                    </a:lnTo>
                    <a:lnTo>
                      <a:pt x="352" y="88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>
              <a:off x="3619440" y="3936960"/>
              <a:ext cx="267120" cy="457560"/>
            </a:xfrm>
            <a:custGeom>
              <a:avLst/>
              <a:gdLst/>
              <a:ahLst/>
              <a:rect l="0" t="0" r="r" b="b"/>
              <a:pathLst>
                <a:path w="742" h="1271">
                  <a:moveTo>
                    <a:pt x="0" y="141"/>
                  </a:moveTo>
                  <a:lnTo>
                    <a:pt x="424" y="777"/>
                  </a:lnTo>
                  <a:lnTo>
                    <a:pt x="530" y="1271"/>
                  </a:lnTo>
                  <a:lnTo>
                    <a:pt x="742" y="1235"/>
                  </a:lnTo>
                  <a:lnTo>
                    <a:pt x="601" y="599"/>
                  </a:lnTo>
                  <a:lnTo>
                    <a:pt x="176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5505480" y="3726000"/>
            <a:ext cx="511560" cy="927360"/>
            <a:chOff x="5505480" y="3726000"/>
            <a:chExt cx="511560" cy="927360"/>
          </a:xfrm>
        </p:grpSpPr>
        <p:grpSp>
          <p:nvGrpSpPr>
            <p:cNvPr id="956" name=""/>
            <p:cNvGrpSpPr/>
            <p:nvPr/>
          </p:nvGrpSpPr>
          <p:grpSpPr>
            <a:xfrm>
              <a:off x="5716440" y="3881520"/>
              <a:ext cx="295560" cy="771840"/>
              <a:chOff x="5716440" y="3881520"/>
              <a:chExt cx="295560" cy="771840"/>
            </a:xfrm>
          </p:grpSpPr>
          <p:sp>
            <p:nvSpPr>
              <p:cNvPr id="957" name=""/>
              <p:cNvSpPr/>
              <p:nvPr/>
            </p:nvSpPr>
            <p:spPr>
              <a:xfrm>
                <a:off x="5716440" y="3884760"/>
                <a:ext cx="287640" cy="765360"/>
              </a:xfrm>
              <a:custGeom>
                <a:avLst/>
                <a:gdLst/>
                <a:ahLst/>
                <a:rect l="0" t="0" r="r" b="b"/>
                <a:pathLst>
                  <a:path w="799" h="2126">
                    <a:moveTo>
                      <a:pt x="211" y="0"/>
                    </a:moveTo>
                    <a:lnTo>
                      <a:pt x="374" y="617"/>
                    </a:lnTo>
                    <a:lnTo>
                      <a:pt x="490" y="1085"/>
                    </a:lnTo>
                    <a:lnTo>
                      <a:pt x="600" y="1513"/>
                    </a:lnTo>
                    <a:lnTo>
                      <a:pt x="658" y="1685"/>
                    </a:lnTo>
                    <a:lnTo>
                      <a:pt x="755" y="1901"/>
                    </a:lnTo>
                    <a:lnTo>
                      <a:pt x="799" y="1998"/>
                    </a:lnTo>
                    <a:lnTo>
                      <a:pt x="684" y="2082"/>
                    </a:lnTo>
                    <a:lnTo>
                      <a:pt x="547" y="2126"/>
                    </a:lnTo>
                    <a:lnTo>
                      <a:pt x="446" y="2126"/>
                    </a:lnTo>
                    <a:lnTo>
                      <a:pt x="388" y="2126"/>
                    </a:lnTo>
                    <a:lnTo>
                      <a:pt x="352" y="1897"/>
                    </a:lnTo>
                    <a:lnTo>
                      <a:pt x="291" y="1597"/>
                    </a:lnTo>
                    <a:lnTo>
                      <a:pt x="220" y="1169"/>
                    </a:lnTo>
                    <a:lnTo>
                      <a:pt x="145" y="806"/>
                    </a:lnTo>
                    <a:lnTo>
                      <a:pt x="70" y="392"/>
                    </a:lnTo>
                    <a:lnTo>
                      <a:pt x="0" y="39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727600" y="3881520"/>
                <a:ext cx="284400" cy="771840"/>
              </a:xfrm>
              <a:custGeom>
                <a:avLst/>
                <a:gdLst/>
                <a:ahLst/>
                <a:rect l="0" t="0" r="r" b="b"/>
                <a:pathLst>
                  <a:path w="790" h="2144">
                    <a:moveTo>
                      <a:pt x="207" y="0"/>
                    </a:moveTo>
                    <a:lnTo>
                      <a:pt x="370" y="621"/>
                    </a:lnTo>
                    <a:lnTo>
                      <a:pt x="486" y="1090"/>
                    </a:lnTo>
                    <a:lnTo>
                      <a:pt x="600" y="1513"/>
                    </a:lnTo>
                    <a:lnTo>
                      <a:pt x="653" y="1685"/>
                    </a:lnTo>
                    <a:lnTo>
                      <a:pt x="750" y="1897"/>
                    </a:lnTo>
                    <a:lnTo>
                      <a:pt x="790" y="2003"/>
                    </a:lnTo>
                    <a:lnTo>
                      <a:pt x="741" y="2042"/>
                    </a:lnTo>
                    <a:lnTo>
                      <a:pt x="675" y="2091"/>
                    </a:lnTo>
                    <a:lnTo>
                      <a:pt x="609" y="2113"/>
                    </a:lnTo>
                    <a:lnTo>
                      <a:pt x="534" y="2135"/>
                    </a:lnTo>
                    <a:lnTo>
                      <a:pt x="499" y="2144"/>
                    </a:lnTo>
                    <a:lnTo>
                      <a:pt x="437" y="2144"/>
                    </a:lnTo>
                    <a:lnTo>
                      <a:pt x="383" y="2130"/>
                    </a:lnTo>
                    <a:lnTo>
                      <a:pt x="348" y="1901"/>
                    </a:lnTo>
                    <a:lnTo>
                      <a:pt x="286" y="1601"/>
                    </a:lnTo>
                    <a:lnTo>
                      <a:pt x="216" y="1169"/>
                    </a:lnTo>
                    <a:lnTo>
                      <a:pt x="145" y="811"/>
                    </a:lnTo>
                    <a:lnTo>
                      <a:pt x="70" y="392"/>
                    </a:lnTo>
                    <a:lnTo>
                      <a:pt x="0" y="44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5557680" y="3726000"/>
              <a:ext cx="459360" cy="174960"/>
              <a:chOff x="5557680" y="3726000"/>
              <a:chExt cx="459360" cy="174960"/>
            </a:xfrm>
          </p:grpSpPr>
          <p:sp>
            <p:nvSpPr>
              <p:cNvPr id="960" name=""/>
              <p:cNvSpPr/>
              <p:nvPr/>
            </p:nvSpPr>
            <p:spPr>
              <a:xfrm>
                <a:off x="5559480" y="3735360"/>
                <a:ext cx="457560" cy="165600"/>
              </a:xfrm>
              <a:custGeom>
                <a:avLst/>
                <a:gdLst/>
                <a:ahLst/>
                <a:rect l="0" t="0" r="r" b="b"/>
                <a:pathLst>
                  <a:path w="1271" h="460">
                    <a:moveTo>
                      <a:pt x="0" y="168"/>
                    </a:moveTo>
                    <a:lnTo>
                      <a:pt x="70" y="340"/>
                    </a:lnTo>
                    <a:lnTo>
                      <a:pt x="313" y="287"/>
                    </a:lnTo>
                    <a:lnTo>
                      <a:pt x="352" y="296"/>
                    </a:lnTo>
                    <a:lnTo>
                      <a:pt x="388" y="314"/>
                    </a:lnTo>
                    <a:lnTo>
                      <a:pt x="414" y="344"/>
                    </a:lnTo>
                    <a:lnTo>
                      <a:pt x="440" y="460"/>
                    </a:lnTo>
                    <a:lnTo>
                      <a:pt x="680" y="407"/>
                    </a:lnTo>
                    <a:lnTo>
                      <a:pt x="653" y="274"/>
                    </a:lnTo>
                    <a:lnTo>
                      <a:pt x="662" y="225"/>
                    </a:lnTo>
                    <a:lnTo>
                      <a:pt x="684" y="190"/>
                    </a:lnTo>
                    <a:lnTo>
                      <a:pt x="715" y="168"/>
                    </a:lnTo>
                    <a:lnTo>
                      <a:pt x="746" y="155"/>
                    </a:lnTo>
                    <a:lnTo>
                      <a:pt x="781" y="150"/>
                    </a:lnTo>
                    <a:lnTo>
                      <a:pt x="860" y="150"/>
                    </a:lnTo>
                    <a:lnTo>
                      <a:pt x="957" y="155"/>
                    </a:lnTo>
                    <a:lnTo>
                      <a:pt x="1076" y="181"/>
                    </a:lnTo>
                    <a:lnTo>
                      <a:pt x="1187" y="221"/>
                    </a:lnTo>
                    <a:lnTo>
                      <a:pt x="1271" y="247"/>
                    </a:lnTo>
                    <a:lnTo>
                      <a:pt x="1116" y="150"/>
                    </a:lnTo>
                    <a:lnTo>
                      <a:pt x="966" y="74"/>
                    </a:lnTo>
                    <a:lnTo>
                      <a:pt x="874" y="39"/>
                    </a:lnTo>
                    <a:lnTo>
                      <a:pt x="812" y="22"/>
                    </a:lnTo>
                    <a:lnTo>
                      <a:pt x="684" y="0"/>
                    </a:lnTo>
                    <a:lnTo>
                      <a:pt x="599" y="4"/>
                    </a:lnTo>
                    <a:lnTo>
                      <a:pt x="515" y="8"/>
                    </a:lnTo>
                    <a:lnTo>
                      <a:pt x="432" y="22"/>
                    </a:lnTo>
                    <a:lnTo>
                      <a:pt x="348" y="44"/>
                    </a:lnTo>
                    <a:lnTo>
                      <a:pt x="251" y="79"/>
                    </a:lnTo>
                    <a:lnTo>
                      <a:pt x="163" y="114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557680" y="3726000"/>
                <a:ext cx="457560" cy="165600"/>
              </a:xfrm>
              <a:custGeom>
                <a:avLst/>
                <a:gdLst/>
                <a:ahLst/>
                <a:rect l="0" t="0" r="r" b="b"/>
                <a:pathLst>
                  <a:path w="1271" h="460">
                    <a:moveTo>
                      <a:pt x="0" y="172"/>
                    </a:moveTo>
                    <a:lnTo>
                      <a:pt x="70" y="340"/>
                    </a:lnTo>
                    <a:lnTo>
                      <a:pt x="308" y="287"/>
                    </a:lnTo>
                    <a:lnTo>
                      <a:pt x="348" y="296"/>
                    </a:lnTo>
                    <a:lnTo>
                      <a:pt x="388" y="309"/>
                    </a:lnTo>
                    <a:lnTo>
                      <a:pt x="410" y="344"/>
                    </a:lnTo>
                    <a:lnTo>
                      <a:pt x="440" y="460"/>
                    </a:lnTo>
                    <a:lnTo>
                      <a:pt x="675" y="407"/>
                    </a:lnTo>
                    <a:lnTo>
                      <a:pt x="658" y="274"/>
                    </a:lnTo>
                    <a:lnTo>
                      <a:pt x="658" y="230"/>
                    </a:lnTo>
                    <a:lnTo>
                      <a:pt x="684" y="190"/>
                    </a:lnTo>
                    <a:lnTo>
                      <a:pt x="715" y="168"/>
                    </a:lnTo>
                    <a:lnTo>
                      <a:pt x="741" y="159"/>
                    </a:lnTo>
                    <a:lnTo>
                      <a:pt x="777" y="146"/>
                    </a:lnTo>
                    <a:lnTo>
                      <a:pt x="860" y="150"/>
                    </a:lnTo>
                    <a:lnTo>
                      <a:pt x="953" y="155"/>
                    </a:lnTo>
                    <a:lnTo>
                      <a:pt x="1072" y="181"/>
                    </a:lnTo>
                    <a:lnTo>
                      <a:pt x="1182" y="221"/>
                    </a:lnTo>
                    <a:lnTo>
                      <a:pt x="1271" y="247"/>
                    </a:lnTo>
                    <a:lnTo>
                      <a:pt x="1116" y="150"/>
                    </a:lnTo>
                    <a:lnTo>
                      <a:pt x="962" y="74"/>
                    </a:lnTo>
                    <a:lnTo>
                      <a:pt x="869" y="39"/>
                    </a:lnTo>
                    <a:lnTo>
                      <a:pt x="807" y="22"/>
                    </a:lnTo>
                    <a:lnTo>
                      <a:pt x="746" y="0"/>
                    </a:lnTo>
                    <a:lnTo>
                      <a:pt x="675" y="0"/>
                    </a:lnTo>
                    <a:lnTo>
                      <a:pt x="590" y="4"/>
                    </a:lnTo>
                    <a:lnTo>
                      <a:pt x="511" y="8"/>
                    </a:lnTo>
                    <a:lnTo>
                      <a:pt x="427" y="26"/>
                    </a:lnTo>
                    <a:lnTo>
                      <a:pt x="352" y="48"/>
                    </a:lnTo>
                    <a:lnTo>
                      <a:pt x="246" y="79"/>
                    </a:lnTo>
                    <a:lnTo>
                      <a:pt x="158" y="114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5505480" y="3774960"/>
              <a:ext cx="86040" cy="118080"/>
              <a:chOff x="5505480" y="3774960"/>
              <a:chExt cx="86040" cy="118080"/>
            </a:xfrm>
          </p:grpSpPr>
          <p:sp>
            <p:nvSpPr>
              <p:cNvPr id="963" name=""/>
              <p:cNvSpPr/>
              <p:nvPr/>
            </p:nvSpPr>
            <p:spPr>
              <a:xfrm>
                <a:off x="5505480" y="3778200"/>
                <a:ext cx="79560" cy="114840"/>
              </a:xfrm>
              <a:custGeom>
                <a:avLst/>
                <a:gdLst/>
                <a:ahLst/>
                <a:rect l="0" t="0" r="r" b="b"/>
                <a:pathLst>
                  <a:path w="221" h="319">
                    <a:moveTo>
                      <a:pt x="137" y="0"/>
                    </a:moveTo>
                    <a:lnTo>
                      <a:pt x="181" y="137"/>
                    </a:lnTo>
                    <a:lnTo>
                      <a:pt x="221" y="262"/>
                    </a:lnTo>
                    <a:lnTo>
                      <a:pt x="83" y="319"/>
                    </a:lnTo>
                    <a:lnTo>
                      <a:pt x="61" y="288"/>
                    </a:lnTo>
                    <a:lnTo>
                      <a:pt x="35" y="262"/>
                    </a:lnTo>
                    <a:lnTo>
                      <a:pt x="22" y="225"/>
                    </a:lnTo>
                    <a:lnTo>
                      <a:pt x="4" y="168"/>
                    </a:lnTo>
                    <a:lnTo>
                      <a:pt x="4" y="120"/>
                    </a:lnTo>
                    <a:lnTo>
                      <a:pt x="0" y="79"/>
                    </a:lnTo>
                    <a:lnTo>
                      <a:pt x="13" y="39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511960" y="3774960"/>
                <a:ext cx="79560" cy="111600"/>
              </a:xfrm>
              <a:custGeom>
                <a:avLst/>
                <a:gdLst/>
                <a:ahLst/>
                <a:rect l="0" t="0" r="r" b="b"/>
                <a:pathLst>
                  <a:path w="221" h="310">
                    <a:moveTo>
                      <a:pt x="137" y="0"/>
                    </a:moveTo>
                    <a:lnTo>
                      <a:pt x="177" y="137"/>
                    </a:lnTo>
                    <a:lnTo>
                      <a:pt x="221" y="253"/>
                    </a:lnTo>
                    <a:lnTo>
                      <a:pt x="79" y="310"/>
                    </a:lnTo>
                    <a:lnTo>
                      <a:pt x="52" y="279"/>
                    </a:lnTo>
                    <a:lnTo>
                      <a:pt x="35" y="248"/>
                    </a:lnTo>
                    <a:lnTo>
                      <a:pt x="22" y="221"/>
                    </a:lnTo>
                    <a:lnTo>
                      <a:pt x="4" y="164"/>
                    </a:lnTo>
                    <a:lnTo>
                      <a:pt x="0" y="106"/>
                    </a:lnTo>
                    <a:lnTo>
                      <a:pt x="0" y="66"/>
                    </a:lnTo>
                    <a:lnTo>
                      <a:pt x="13" y="35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5" name=""/>
          <p:cNvSpPr txBox="1"/>
          <p:nvPr/>
        </p:nvSpPr>
        <p:spPr>
          <a:xfrm>
            <a:off x="1371600" y="380880"/>
            <a:ext cx="59436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, After Saying That, We don’t Give Them A Second Ch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7853400" y="684360"/>
            <a:ext cx="330480" cy="448200"/>
          </a:xfrm>
          <a:custGeom>
            <a:avLst/>
            <a:gdLst/>
            <a:ahLst/>
            <a:rect l="0" t="0" r="r" b="b"/>
            <a:pathLst>
              <a:path w="918" h="1245">
                <a:moveTo>
                  <a:pt x="666" y="44"/>
                </a:moveTo>
                <a:lnTo>
                  <a:pt x="644" y="26"/>
                </a:lnTo>
                <a:lnTo>
                  <a:pt x="622" y="8"/>
                </a:lnTo>
                <a:lnTo>
                  <a:pt x="596" y="4"/>
                </a:lnTo>
                <a:lnTo>
                  <a:pt x="569" y="0"/>
                </a:lnTo>
                <a:lnTo>
                  <a:pt x="516" y="0"/>
                </a:lnTo>
                <a:lnTo>
                  <a:pt x="477" y="0"/>
                </a:lnTo>
                <a:lnTo>
                  <a:pt x="440" y="8"/>
                </a:lnTo>
                <a:lnTo>
                  <a:pt x="414" y="13"/>
                </a:lnTo>
                <a:lnTo>
                  <a:pt x="392" y="26"/>
                </a:lnTo>
                <a:lnTo>
                  <a:pt x="379" y="35"/>
                </a:lnTo>
                <a:lnTo>
                  <a:pt x="361" y="48"/>
                </a:lnTo>
                <a:lnTo>
                  <a:pt x="339" y="52"/>
                </a:lnTo>
                <a:lnTo>
                  <a:pt x="308" y="61"/>
                </a:lnTo>
                <a:lnTo>
                  <a:pt x="273" y="74"/>
                </a:lnTo>
                <a:lnTo>
                  <a:pt x="233" y="88"/>
                </a:lnTo>
                <a:lnTo>
                  <a:pt x="194" y="110"/>
                </a:lnTo>
                <a:lnTo>
                  <a:pt x="149" y="136"/>
                </a:lnTo>
                <a:lnTo>
                  <a:pt x="119" y="171"/>
                </a:lnTo>
                <a:lnTo>
                  <a:pt x="83" y="202"/>
                </a:lnTo>
                <a:lnTo>
                  <a:pt x="66" y="246"/>
                </a:lnTo>
                <a:lnTo>
                  <a:pt x="79" y="238"/>
                </a:lnTo>
                <a:lnTo>
                  <a:pt x="101" y="233"/>
                </a:lnTo>
                <a:lnTo>
                  <a:pt x="119" y="229"/>
                </a:lnTo>
                <a:lnTo>
                  <a:pt x="132" y="224"/>
                </a:lnTo>
                <a:lnTo>
                  <a:pt x="83" y="273"/>
                </a:lnTo>
                <a:lnTo>
                  <a:pt x="57" y="336"/>
                </a:lnTo>
                <a:lnTo>
                  <a:pt x="35" y="402"/>
                </a:lnTo>
                <a:lnTo>
                  <a:pt x="4" y="464"/>
                </a:lnTo>
                <a:lnTo>
                  <a:pt x="35" y="464"/>
                </a:lnTo>
                <a:lnTo>
                  <a:pt x="70" y="459"/>
                </a:lnTo>
                <a:lnTo>
                  <a:pt x="101" y="455"/>
                </a:lnTo>
                <a:lnTo>
                  <a:pt x="123" y="441"/>
                </a:lnTo>
                <a:lnTo>
                  <a:pt x="83" y="499"/>
                </a:lnTo>
                <a:lnTo>
                  <a:pt x="48" y="583"/>
                </a:lnTo>
                <a:lnTo>
                  <a:pt x="8" y="675"/>
                </a:lnTo>
                <a:lnTo>
                  <a:pt x="0" y="750"/>
                </a:lnTo>
                <a:lnTo>
                  <a:pt x="8" y="807"/>
                </a:lnTo>
                <a:lnTo>
                  <a:pt x="30" y="874"/>
                </a:lnTo>
                <a:lnTo>
                  <a:pt x="52" y="927"/>
                </a:lnTo>
                <a:lnTo>
                  <a:pt x="70" y="967"/>
                </a:lnTo>
                <a:lnTo>
                  <a:pt x="83" y="1007"/>
                </a:lnTo>
                <a:lnTo>
                  <a:pt x="119" y="1064"/>
                </a:lnTo>
                <a:lnTo>
                  <a:pt x="158" y="1126"/>
                </a:lnTo>
                <a:lnTo>
                  <a:pt x="211" y="1170"/>
                </a:lnTo>
                <a:lnTo>
                  <a:pt x="220" y="1144"/>
                </a:lnTo>
                <a:lnTo>
                  <a:pt x="220" y="1126"/>
                </a:lnTo>
                <a:lnTo>
                  <a:pt x="224" y="1108"/>
                </a:lnTo>
                <a:lnTo>
                  <a:pt x="224" y="1086"/>
                </a:lnTo>
                <a:lnTo>
                  <a:pt x="246" y="1113"/>
                </a:lnTo>
                <a:lnTo>
                  <a:pt x="264" y="1152"/>
                </a:lnTo>
                <a:lnTo>
                  <a:pt x="299" y="1192"/>
                </a:lnTo>
                <a:lnTo>
                  <a:pt x="361" y="1232"/>
                </a:lnTo>
                <a:lnTo>
                  <a:pt x="357" y="1205"/>
                </a:lnTo>
                <a:lnTo>
                  <a:pt x="357" y="1183"/>
                </a:lnTo>
                <a:lnTo>
                  <a:pt x="357" y="1179"/>
                </a:lnTo>
                <a:lnTo>
                  <a:pt x="357" y="1170"/>
                </a:lnTo>
                <a:lnTo>
                  <a:pt x="401" y="1210"/>
                </a:lnTo>
                <a:lnTo>
                  <a:pt x="427" y="1232"/>
                </a:lnTo>
                <a:lnTo>
                  <a:pt x="440" y="1241"/>
                </a:lnTo>
                <a:lnTo>
                  <a:pt x="477" y="1245"/>
                </a:lnTo>
                <a:lnTo>
                  <a:pt x="486" y="1214"/>
                </a:lnTo>
                <a:lnTo>
                  <a:pt x="494" y="1188"/>
                </a:lnTo>
                <a:lnTo>
                  <a:pt x="516" y="1166"/>
                </a:lnTo>
                <a:lnTo>
                  <a:pt x="556" y="1157"/>
                </a:lnTo>
                <a:lnTo>
                  <a:pt x="596" y="1139"/>
                </a:lnTo>
                <a:lnTo>
                  <a:pt x="631" y="1113"/>
                </a:lnTo>
                <a:lnTo>
                  <a:pt x="662" y="1082"/>
                </a:lnTo>
                <a:lnTo>
                  <a:pt x="710" y="1055"/>
                </a:lnTo>
                <a:lnTo>
                  <a:pt x="746" y="1033"/>
                </a:lnTo>
                <a:lnTo>
                  <a:pt x="785" y="1003"/>
                </a:lnTo>
                <a:lnTo>
                  <a:pt x="812" y="963"/>
                </a:lnTo>
                <a:lnTo>
                  <a:pt x="816" y="913"/>
                </a:lnTo>
                <a:lnTo>
                  <a:pt x="821" y="865"/>
                </a:lnTo>
                <a:lnTo>
                  <a:pt x="838" y="816"/>
                </a:lnTo>
                <a:lnTo>
                  <a:pt x="847" y="768"/>
                </a:lnTo>
                <a:lnTo>
                  <a:pt x="838" y="710"/>
                </a:lnTo>
                <a:lnTo>
                  <a:pt x="865" y="733"/>
                </a:lnTo>
                <a:lnTo>
                  <a:pt x="878" y="741"/>
                </a:lnTo>
                <a:lnTo>
                  <a:pt x="896" y="759"/>
                </a:lnTo>
                <a:lnTo>
                  <a:pt x="904" y="763"/>
                </a:lnTo>
                <a:lnTo>
                  <a:pt x="918" y="706"/>
                </a:lnTo>
                <a:lnTo>
                  <a:pt x="918" y="627"/>
                </a:lnTo>
                <a:lnTo>
                  <a:pt x="900" y="538"/>
                </a:lnTo>
                <a:lnTo>
                  <a:pt x="878" y="477"/>
                </a:lnTo>
                <a:lnTo>
                  <a:pt x="860" y="415"/>
                </a:lnTo>
                <a:lnTo>
                  <a:pt x="860" y="353"/>
                </a:lnTo>
                <a:lnTo>
                  <a:pt x="847" y="295"/>
                </a:lnTo>
                <a:lnTo>
                  <a:pt x="821" y="251"/>
                </a:lnTo>
                <a:lnTo>
                  <a:pt x="777" y="211"/>
                </a:lnTo>
                <a:lnTo>
                  <a:pt x="746" y="163"/>
                </a:lnTo>
                <a:lnTo>
                  <a:pt x="719" y="123"/>
                </a:lnTo>
                <a:lnTo>
                  <a:pt x="697" y="83"/>
                </a:lnTo>
                <a:lnTo>
                  <a:pt x="693" y="74"/>
                </a:lnTo>
                <a:lnTo>
                  <a:pt x="688" y="61"/>
                </a:lnTo>
                <a:lnTo>
                  <a:pt x="675" y="52"/>
                </a:lnTo>
                <a:lnTo>
                  <a:pt x="666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869240" y="703440"/>
            <a:ext cx="298800" cy="410040"/>
          </a:xfrm>
          <a:custGeom>
            <a:avLst/>
            <a:gdLst/>
            <a:ahLst/>
            <a:rect l="0" t="0" r="r" b="b"/>
            <a:pathLst>
              <a:path w="830" h="1139">
                <a:moveTo>
                  <a:pt x="512" y="0"/>
                </a:moveTo>
                <a:lnTo>
                  <a:pt x="468" y="0"/>
                </a:lnTo>
                <a:lnTo>
                  <a:pt x="433" y="0"/>
                </a:lnTo>
                <a:lnTo>
                  <a:pt x="396" y="4"/>
                </a:lnTo>
                <a:lnTo>
                  <a:pt x="374" y="17"/>
                </a:lnTo>
                <a:lnTo>
                  <a:pt x="357" y="26"/>
                </a:lnTo>
                <a:lnTo>
                  <a:pt x="339" y="30"/>
                </a:lnTo>
                <a:lnTo>
                  <a:pt x="321" y="44"/>
                </a:lnTo>
                <a:lnTo>
                  <a:pt x="308" y="48"/>
                </a:lnTo>
                <a:lnTo>
                  <a:pt x="282" y="52"/>
                </a:lnTo>
                <a:lnTo>
                  <a:pt x="255" y="57"/>
                </a:lnTo>
                <a:lnTo>
                  <a:pt x="229" y="70"/>
                </a:lnTo>
                <a:lnTo>
                  <a:pt x="202" y="79"/>
                </a:lnTo>
                <a:lnTo>
                  <a:pt x="176" y="97"/>
                </a:lnTo>
                <a:lnTo>
                  <a:pt x="149" y="105"/>
                </a:lnTo>
                <a:lnTo>
                  <a:pt x="132" y="123"/>
                </a:lnTo>
                <a:lnTo>
                  <a:pt x="114" y="136"/>
                </a:lnTo>
                <a:lnTo>
                  <a:pt x="132" y="136"/>
                </a:lnTo>
                <a:lnTo>
                  <a:pt x="141" y="145"/>
                </a:lnTo>
                <a:lnTo>
                  <a:pt x="158" y="145"/>
                </a:lnTo>
                <a:lnTo>
                  <a:pt x="167" y="145"/>
                </a:lnTo>
                <a:lnTo>
                  <a:pt x="110" y="194"/>
                </a:lnTo>
                <a:lnTo>
                  <a:pt x="83" y="246"/>
                </a:lnTo>
                <a:lnTo>
                  <a:pt x="61" y="305"/>
                </a:lnTo>
                <a:lnTo>
                  <a:pt x="30" y="358"/>
                </a:lnTo>
                <a:lnTo>
                  <a:pt x="57" y="358"/>
                </a:lnTo>
                <a:lnTo>
                  <a:pt x="88" y="344"/>
                </a:lnTo>
                <a:lnTo>
                  <a:pt x="119" y="331"/>
                </a:lnTo>
                <a:lnTo>
                  <a:pt x="154" y="331"/>
                </a:lnTo>
                <a:lnTo>
                  <a:pt x="132" y="358"/>
                </a:lnTo>
                <a:lnTo>
                  <a:pt x="110" y="402"/>
                </a:lnTo>
                <a:lnTo>
                  <a:pt x="83" y="455"/>
                </a:lnTo>
                <a:lnTo>
                  <a:pt x="57" y="512"/>
                </a:lnTo>
                <a:lnTo>
                  <a:pt x="35" y="574"/>
                </a:lnTo>
                <a:lnTo>
                  <a:pt x="13" y="627"/>
                </a:lnTo>
                <a:lnTo>
                  <a:pt x="4" y="671"/>
                </a:lnTo>
                <a:lnTo>
                  <a:pt x="0" y="702"/>
                </a:lnTo>
                <a:lnTo>
                  <a:pt x="8" y="755"/>
                </a:lnTo>
                <a:lnTo>
                  <a:pt x="30" y="807"/>
                </a:lnTo>
                <a:lnTo>
                  <a:pt x="57" y="857"/>
                </a:lnTo>
                <a:lnTo>
                  <a:pt x="66" y="897"/>
                </a:lnTo>
                <a:lnTo>
                  <a:pt x="79" y="923"/>
                </a:lnTo>
                <a:lnTo>
                  <a:pt x="88" y="958"/>
                </a:lnTo>
                <a:lnTo>
                  <a:pt x="105" y="998"/>
                </a:lnTo>
                <a:lnTo>
                  <a:pt x="136" y="1033"/>
                </a:lnTo>
                <a:lnTo>
                  <a:pt x="141" y="1011"/>
                </a:lnTo>
                <a:lnTo>
                  <a:pt x="154" y="989"/>
                </a:lnTo>
                <a:lnTo>
                  <a:pt x="158" y="976"/>
                </a:lnTo>
                <a:lnTo>
                  <a:pt x="167" y="958"/>
                </a:lnTo>
                <a:lnTo>
                  <a:pt x="189" y="985"/>
                </a:lnTo>
                <a:lnTo>
                  <a:pt x="211" y="1025"/>
                </a:lnTo>
                <a:lnTo>
                  <a:pt x="242" y="1064"/>
                </a:lnTo>
                <a:lnTo>
                  <a:pt x="286" y="1108"/>
                </a:lnTo>
                <a:lnTo>
                  <a:pt x="286" y="1082"/>
                </a:lnTo>
                <a:lnTo>
                  <a:pt x="291" y="1064"/>
                </a:lnTo>
                <a:lnTo>
                  <a:pt x="295" y="1055"/>
                </a:lnTo>
                <a:lnTo>
                  <a:pt x="295" y="1051"/>
                </a:lnTo>
                <a:lnTo>
                  <a:pt x="330" y="1082"/>
                </a:lnTo>
                <a:lnTo>
                  <a:pt x="357" y="1108"/>
                </a:lnTo>
                <a:lnTo>
                  <a:pt x="388" y="1130"/>
                </a:lnTo>
                <a:lnTo>
                  <a:pt x="410" y="1139"/>
                </a:lnTo>
                <a:lnTo>
                  <a:pt x="419" y="1113"/>
                </a:lnTo>
                <a:lnTo>
                  <a:pt x="433" y="1086"/>
                </a:lnTo>
                <a:lnTo>
                  <a:pt x="450" y="1073"/>
                </a:lnTo>
                <a:lnTo>
                  <a:pt x="490" y="1060"/>
                </a:lnTo>
                <a:lnTo>
                  <a:pt x="525" y="1051"/>
                </a:lnTo>
                <a:lnTo>
                  <a:pt x="552" y="1025"/>
                </a:lnTo>
                <a:lnTo>
                  <a:pt x="587" y="989"/>
                </a:lnTo>
                <a:lnTo>
                  <a:pt x="622" y="967"/>
                </a:lnTo>
                <a:lnTo>
                  <a:pt x="662" y="954"/>
                </a:lnTo>
                <a:lnTo>
                  <a:pt x="693" y="928"/>
                </a:lnTo>
                <a:lnTo>
                  <a:pt x="715" y="888"/>
                </a:lnTo>
                <a:lnTo>
                  <a:pt x="719" y="847"/>
                </a:lnTo>
                <a:lnTo>
                  <a:pt x="724" y="785"/>
                </a:lnTo>
                <a:lnTo>
                  <a:pt x="741" y="715"/>
                </a:lnTo>
                <a:lnTo>
                  <a:pt x="750" y="644"/>
                </a:lnTo>
                <a:lnTo>
                  <a:pt x="746" y="578"/>
                </a:lnTo>
                <a:lnTo>
                  <a:pt x="772" y="596"/>
                </a:lnTo>
                <a:lnTo>
                  <a:pt x="794" y="605"/>
                </a:lnTo>
                <a:lnTo>
                  <a:pt x="816" y="622"/>
                </a:lnTo>
                <a:lnTo>
                  <a:pt x="830" y="631"/>
                </a:lnTo>
                <a:lnTo>
                  <a:pt x="830" y="587"/>
                </a:lnTo>
                <a:lnTo>
                  <a:pt x="821" y="534"/>
                </a:lnTo>
                <a:lnTo>
                  <a:pt x="799" y="486"/>
                </a:lnTo>
                <a:lnTo>
                  <a:pt x="772" y="437"/>
                </a:lnTo>
                <a:lnTo>
                  <a:pt x="759" y="384"/>
                </a:lnTo>
                <a:lnTo>
                  <a:pt x="759" y="322"/>
                </a:lnTo>
                <a:lnTo>
                  <a:pt x="755" y="260"/>
                </a:lnTo>
                <a:lnTo>
                  <a:pt x="733" y="220"/>
                </a:lnTo>
                <a:lnTo>
                  <a:pt x="697" y="185"/>
                </a:lnTo>
                <a:lnTo>
                  <a:pt x="666" y="145"/>
                </a:lnTo>
                <a:lnTo>
                  <a:pt x="644" y="105"/>
                </a:lnTo>
                <a:lnTo>
                  <a:pt x="627" y="74"/>
                </a:lnTo>
                <a:lnTo>
                  <a:pt x="605" y="48"/>
                </a:lnTo>
                <a:lnTo>
                  <a:pt x="578" y="22"/>
                </a:lnTo>
                <a:lnTo>
                  <a:pt x="547" y="4"/>
                </a:lnTo>
                <a:lnTo>
                  <a:pt x="512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5600520"/>
            <a:ext cx="9207720" cy="140040"/>
          </a:xfrm>
          <a:custGeom>
            <a:avLst/>
            <a:gdLst/>
            <a:ahLst/>
            <a:rect l="0" t="0" r="r" b="b"/>
            <a:pathLst>
              <a:path fill="none" w="25577" h="389">
                <a:moveTo>
                  <a:pt x="0" y="353"/>
                </a:moveTo>
                <a:lnTo>
                  <a:pt x="2010" y="283"/>
                </a:lnTo>
                <a:lnTo>
                  <a:pt x="4833" y="318"/>
                </a:lnTo>
                <a:lnTo>
                  <a:pt x="10371" y="141"/>
                </a:lnTo>
                <a:lnTo>
                  <a:pt x="16264" y="70"/>
                </a:lnTo>
                <a:lnTo>
                  <a:pt x="18098" y="389"/>
                </a:lnTo>
                <a:lnTo>
                  <a:pt x="21238" y="176"/>
                </a:lnTo>
                <a:lnTo>
                  <a:pt x="23672" y="0"/>
                </a:lnTo>
                <a:lnTo>
                  <a:pt x="25577" y="176"/>
                </a:lnTo>
                <a:lnTo>
                  <a:pt x="25396" y="10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8255160" y="2727360"/>
            <a:ext cx="43200" cy="89280"/>
          </a:xfrm>
          <a:custGeom>
            <a:avLst/>
            <a:gdLst/>
            <a:ahLst/>
            <a:rect l="0" t="0" r="r" b="b"/>
            <a:pathLst>
              <a:path w="120" h="248">
                <a:moveTo>
                  <a:pt x="120" y="8"/>
                </a:moveTo>
                <a:lnTo>
                  <a:pt x="0" y="0"/>
                </a:lnTo>
                <a:lnTo>
                  <a:pt x="39" y="248"/>
                </a:lnTo>
                <a:lnTo>
                  <a:pt x="120" y="8"/>
                </a:lnTo>
                <a:close/>
              </a:path>
            </a:pathLst>
          </a:custGeom>
          <a:solidFill>
            <a:srgbClr val="ccf2f2"/>
          </a:solidFill>
          <a:ln w="0">
            <a:noFill/>
          </a:ln>
        </p:spPr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8018640" y="1238400"/>
            <a:ext cx="522360" cy="1762200"/>
            <a:chOff x="8018640" y="1238400"/>
            <a:chExt cx="522360" cy="1762200"/>
          </a:xfrm>
        </p:grpSpPr>
        <p:sp>
          <p:nvSpPr>
            <p:cNvPr id="971" name=""/>
            <p:cNvSpPr/>
            <p:nvPr/>
          </p:nvSpPr>
          <p:spPr>
            <a:xfrm>
              <a:off x="8232840" y="1987560"/>
              <a:ext cx="240120" cy="1013040"/>
            </a:xfrm>
            <a:custGeom>
              <a:avLst/>
              <a:gdLst/>
              <a:ahLst/>
              <a:rect l="0" t="0" r="r" b="b"/>
              <a:pathLst>
                <a:path w="667" h="2814">
                  <a:moveTo>
                    <a:pt x="0" y="2055"/>
                  </a:moveTo>
                  <a:lnTo>
                    <a:pt x="97" y="2514"/>
                  </a:lnTo>
                  <a:lnTo>
                    <a:pt x="221" y="2113"/>
                  </a:lnTo>
                  <a:lnTo>
                    <a:pt x="256" y="2470"/>
                  </a:lnTo>
                  <a:lnTo>
                    <a:pt x="336" y="2329"/>
                  </a:lnTo>
                  <a:lnTo>
                    <a:pt x="411" y="2814"/>
                  </a:lnTo>
                  <a:lnTo>
                    <a:pt x="513" y="1919"/>
                  </a:lnTo>
                  <a:lnTo>
                    <a:pt x="592" y="2091"/>
                  </a:lnTo>
                  <a:lnTo>
                    <a:pt x="575" y="1115"/>
                  </a:lnTo>
                  <a:lnTo>
                    <a:pt x="667" y="1221"/>
                  </a:lnTo>
                  <a:lnTo>
                    <a:pt x="531" y="0"/>
                  </a:lnTo>
                  <a:lnTo>
                    <a:pt x="522" y="255"/>
                  </a:lnTo>
                  <a:lnTo>
                    <a:pt x="411" y="2077"/>
                  </a:lnTo>
                  <a:lnTo>
                    <a:pt x="247" y="2064"/>
                  </a:lnTo>
                  <a:lnTo>
                    <a:pt x="181" y="2064"/>
                  </a:lnTo>
                  <a:lnTo>
                    <a:pt x="61" y="2055"/>
                  </a:lnTo>
                  <a:lnTo>
                    <a:pt x="0" y="2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435880" y="1238400"/>
              <a:ext cx="105120" cy="757440"/>
            </a:xfrm>
            <a:custGeom>
              <a:avLst/>
              <a:gdLst/>
              <a:ahLst/>
              <a:rect l="0" t="0" r="r" b="b"/>
              <a:pathLst>
                <a:path w="292" h="2104">
                  <a:moveTo>
                    <a:pt x="0" y="1482"/>
                  </a:moveTo>
                  <a:lnTo>
                    <a:pt x="17" y="1169"/>
                  </a:lnTo>
                  <a:lnTo>
                    <a:pt x="66" y="330"/>
                  </a:lnTo>
                  <a:lnTo>
                    <a:pt x="88" y="0"/>
                  </a:lnTo>
                  <a:lnTo>
                    <a:pt x="292" y="1036"/>
                  </a:lnTo>
                  <a:lnTo>
                    <a:pt x="181" y="956"/>
                  </a:lnTo>
                  <a:lnTo>
                    <a:pt x="119" y="2104"/>
                  </a:lnTo>
                  <a:lnTo>
                    <a:pt x="0" y="1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018640" y="2712960"/>
              <a:ext cx="184680" cy="170280"/>
            </a:xfrm>
            <a:custGeom>
              <a:avLst/>
              <a:gdLst/>
              <a:ahLst/>
              <a:rect l="0" t="0" r="r" b="b"/>
              <a:pathLst>
                <a:path w="513" h="473">
                  <a:moveTo>
                    <a:pt x="0" y="0"/>
                  </a:moveTo>
                  <a:lnTo>
                    <a:pt x="22" y="239"/>
                  </a:lnTo>
                  <a:lnTo>
                    <a:pt x="97" y="164"/>
                  </a:lnTo>
                  <a:lnTo>
                    <a:pt x="155" y="473"/>
                  </a:lnTo>
                  <a:lnTo>
                    <a:pt x="239" y="172"/>
                  </a:lnTo>
                  <a:lnTo>
                    <a:pt x="283" y="243"/>
                  </a:lnTo>
                  <a:lnTo>
                    <a:pt x="375" y="70"/>
                  </a:lnTo>
                  <a:lnTo>
                    <a:pt x="412" y="146"/>
                  </a:lnTo>
                  <a:lnTo>
                    <a:pt x="513" y="35"/>
                  </a:lnTo>
                  <a:lnTo>
                    <a:pt x="456" y="26"/>
                  </a:lnTo>
                  <a:lnTo>
                    <a:pt x="394" y="22"/>
                  </a:lnTo>
                  <a:lnTo>
                    <a:pt x="358" y="22"/>
                  </a:lnTo>
                  <a:lnTo>
                    <a:pt x="5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321760" y="2079720"/>
              <a:ext cx="127440" cy="805320"/>
            </a:xfrm>
            <a:custGeom>
              <a:avLst/>
              <a:gdLst/>
              <a:ahLst/>
              <a:rect l="0" t="0" r="r" b="b"/>
              <a:pathLst>
                <a:path w="354" h="2237">
                  <a:moveTo>
                    <a:pt x="275" y="0"/>
                  </a:moveTo>
                  <a:lnTo>
                    <a:pt x="164" y="1823"/>
                  </a:lnTo>
                  <a:lnTo>
                    <a:pt x="0" y="1809"/>
                  </a:lnTo>
                  <a:lnTo>
                    <a:pt x="35" y="2065"/>
                  </a:lnTo>
                  <a:lnTo>
                    <a:pt x="111" y="1924"/>
                  </a:lnTo>
                  <a:lnTo>
                    <a:pt x="159" y="2237"/>
                  </a:lnTo>
                  <a:lnTo>
                    <a:pt x="234" y="1495"/>
                  </a:lnTo>
                  <a:lnTo>
                    <a:pt x="284" y="1597"/>
                  </a:lnTo>
                  <a:lnTo>
                    <a:pt x="266" y="719"/>
                  </a:lnTo>
                  <a:lnTo>
                    <a:pt x="354" y="807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037360" y="2714760"/>
              <a:ext cx="109800" cy="101880"/>
            </a:xfrm>
            <a:custGeom>
              <a:avLst/>
              <a:gdLst/>
              <a:ahLst/>
              <a:rect l="0" t="0" r="r" b="b"/>
              <a:pathLst>
                <a:path w="305" h="283">
                  <a:moveTo>
                    <a:pt x="0" y="0"/>
                  </a:moveTo>
                  <a:lnTo>
                    <a:pt x="305" y="17"/>
                  </a:lnTo>
                  <a:lnTo>
                    <a:pt x="225" y="146"/>
                  </a:lnTo>
                  <a:lnTo>
                    <a:pt x="181" y="97"/>
                  </a:lnTo>
                  <a:lnTo>
                    <a:pt x="105" y="283"/>
                  </a:lnTo>
                  <a:lnTo>
                    <a:pt x="70" y="88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442360" y="1357200"/>
              <a:ext cx="62280" cy="448200"/>
            </a:xfrm>
            <a:custGeom>
              <a:avLst/>
              <a:gdLst/>
              <a:ahLst/>
              <a:rect l="0" t="0" r="r" b="b"/>
              <a:pathLst>
                <a:path w="173" h="1245">
                  <a:moveTo>
                    <a:pt x="49" y="0"/>
                  </a:moveTo>
                  <a:lnTo>
                    <a:pt x="0" y="838"/>
                  </a:lnTo>
                  <a:lnTo>
                    <a:pt x="71" y="1245"/>
                  </a:lnTo>
                  <a:lnTo>
                    <a:pt x="106" y="477"/>
                  </a:lnTo>
                  <a:lnTo>
                    <a:pt x="173" y="54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7991640" y="685800"/>
            <a:ext cx="506880" cy="2061000"/>
            <a:chOff x="7991640" y="685800"/>
            <a:chExt cx="506880" cy="2061000"/>
          </a:xfrm>
        </p:grpSpPr>
        <p:sp>
          <p:nvSpPr>
            <p:cNvPr id="978" name=""/>
            <p:cNvSpPr/>
            <p:nvPr/>
          </p:nvSpPr>
          <p:spPr>
            <a:xfrm>
              <a:off x="7991640" y="685800"/>
              <a:ext cx="506880" cy="2049840"/>
            </a:xfrm>
            <a:custGeom>
              <a:avLst/>
              <a:gdLst/>
              <a:ahLst/>
              <a:rect l="0" t="0" r="r" b="b"/>
              <a:pathLst>
                <a:path w="1408" h="5694">
                  <a:moveTo>
                    <a:pt x="0" y="5628"/>
                  </a:moveTo>
                  <a:lnTo>
                    <a:pt x="74" y="5633"/>
                  </a:lnTo>
                  <a:lnTo>
                    <a:pt x="127" y="5637"/>
                  </a:lnTo>
                  <a:lnTo>
                    <a:pt x="433" y="5655"/>
                  </a:lnTo>
                  <a:lnTo>
                    <a:pt x="468" y="5655"/>
                  </a:lnTo>
                  <a:lnTo>
                    <a:pt x="530" y="5659"/>
                  </a:lnTo>
                  <a:lnTo>
                    <a:pt x="587" y="5668"/>
                  </a:lnTo>
                  <a:lnTo>
                    <a:pt x="671" y="5672"/>
                  </a:lnTo>
                  <a:lnTo>
                    <a:pt x="733" y="5672"/>
                  </a:lnTo>
                  <a:lnTo>
                    <a:pt x="852" y="5681"/>
                  </a:lnTo>
                  <a:lnTo>
                    <a:pt x="918" y="5681"/>
                  </a:lnTo>
                  <a:lnTo>
                    <a:pt x="1082" y="5694"/>
                  </a:lnTo>
                  <a:lnTo>
                    <a:pt x="1192" y="3872"/>
                  </a:lnTo>
                  <a:lnTo>
                    <a:pt x="1201" y="3616"/>
                  </a:lnTo>
                  <a:lnTo>
                    <a:pt x="1236" y="3017"/>
                  </a:lnTo>
                  <a:lnTo>
                    <a:pt x="1254" y="2704"/>
                  </a:lnTo>
                  <a:lnTo>
                    <a:pt x="1302" y="1866"/>
                  </a:lnTo>
                  <a:lnTo>
                    <a:pt x="1324" y="1535"/>
                  </a:lnTo>
                  <a:lnTo>
                    <a:pt x="1408" y="0"/>
                  </a:lnTo>
                  <a:lnTo>
                    <a:pt x="52" y="114"/>
                  </a:lnTo>
                  <a:lnTo>
                    <a:pt x="0" y="56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024760" y="746280"/>
              <a:ext cx="410040" cy="1938600"/>
            </a:xfrm>
            <a:custGeom>
              <a:avLst/>
              <a:gdLst/>
              <a:ahLst/>
              <a:rect l="0" t="0" r="r" b="b"/>
              <a:pathLst>
                <a:path w="1139" h="5385">
                  <a:moveTo>
                    <a:pt x="83" y="57"/>
                  </a:moveTo>
                  <a:lnTo>
                    <a:pt x="1139" y="0"/>
                  </a:lnTo>
                  <a:lnTo>
                    <a:pt x="830" y="5385"/>
                  </a:lnTo>
                  <a:lnTo>
                    <a:pt x="0" y="5349"/>
                  </a:lnTo>
                  <a:lnTo>
                    <a:pt x="83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248680" y="2490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9" y="14"/>
                  </a:moveTo>
                  <a:lnTo>
                    <a:pt x="33" y="14"/>
                  </a:lnTo>
                  <a:lnTo>
                    <a:pt x="26" y="22"/>
                  </a:lnTo>
                  <a:lnTo>
                    <a:pt x="12" y="22"/>
                  </a:lnTo>
                  <a:lnTo>
                    <a:pt x="12" y="29"/>
                  </a:lnTo>
                  <a:lnTo>
                    <a:pt x="12" y="43"/>
                  </a:lnTo>
                  <a:lnTo>
                    <a:pt x="26" y="43"/>
                  </a:lnTo>
                  <a:lnTo>
                    <a:pt x="26" y="50"/>
                  </a:lnTo>
                  <a:lnTo>
                    <a:pt x="33" y="58"/>
                  </a:lnTo>
                  <a:lnTo>
                    <a:pt x="39" y="58"/>
                  </a:lnTo>
                  <a:lnTo>
                    <a:pt x="45" y="50"/>
                  </a:lnTo>
                  <a:lnTo>
                    <a:pt x="52" y="43"/>
                  </a:lnTo>
                  <a:lnTo>
                    <a:pt x="52" y="29"/>
                  </a:lnTo>
                  <a:lnTo>
                    <a:pt x="52" y="22"/>
                  </a:lnTo>
                  <a:lnTo>
                    <a:pt x="45" y="22"/>
                  </a:lnTo>
                  <a:lnTo>
                    <a:pt x="45" y="14"/>
                  </a:lnTo>
                  <a:lnTo>
                    <a:pt x="39" y="14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66" y="7"/>
                  </a:lnTo>
                  <a:lnTo>
                    <a:pt x="72" y="22"/>
                  </a:lnTo>
                  <a:lnTo>
                    <a:pt x="72" y="43"/>
                  </a:lnTo>
                  <a:lnTo>
                    <a:pt x="72" y="50"/>
                  </a:lnTo>
                  <a:lnTo>
                    <a:pt x="66" y="65"/>
                  </a:lnTo>
                  <a:lnTo>
                    <a:pt x="45" y="72"/>
                  </a:lnTo>
                  <a:lnTo>
                    <a:pt x="33" y="72"/>
                  </a:lnTo>
                  <a:lnTo>
                    <a:pt x="26" y="72"/>
                  </a:lnTo>
                  <a:lnTo>
                    <a:pt x="6" y="65"/>
                  </a:lnTo>
                  <a:lnTo>
                    <a:pt x="0" y="50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6" y="7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269200" y="2500200"/>
              <a:ext cx="36720" cy="60840"/>
            </a:xfrm>
            <a:custGeom>
              <a:avLst/>
              <a:gdLst/>
              <a:ahLst/>
              <a:rect l="0" t="0" r="r" b="b"/>
              <a:pathLst>
                <a:path w="102" h="169">
                  <a:moveTo>
                    <a:pt x="0" y="165"/>
                  </a:moveTo>
                  <a:lnTo>
                    <a:pt x="13" y="0"/>
                  </a:lnTo>
                  <a:lnTo>
                    <a:pt x="102" y="0"/>
                  </a:lnTo>
                  <a:lnTo>
                    <a:pt x="102" y="35"/>
                  </a:lnTo>
                  <a:lnTo>
                    <a:pt x="48" y="30"/>
                  </a:lnTo>
                  <a:lnTo>
                    <a:pt x="44" y="62"/>
                  </a:lnTo>
                  <a:lnTo>
                    <a:pt x="98" y="62"/>
                  </a:lnTo>
                  <a:lnTo>
                    <a:pt x="93" y="102"/>
                  </a:lnTo>
                  <a:lnTo>
                    <a:pt x="44" y="93"/>
                  </a:lnTo>
                  <a:lnTo>
                    <a:pt x="44" y="169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037360" y="2484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9" y="12"/>
                  </a:moveTo>
                  <a:lnTo>
                    <a:pt x="33" y="12"/>
                  </a:lnTo>
                  <a:lnTo>
                    <a:pt x="33" y="26"/>
                  </a:lnTo>
                  <a:lnTo>
                    <a:pt x="26" y="26"/>
                  </a:lnTo>
                  <a:lnTo>
                    <a:pt x="26" y="33"/>
                  </a:lnTo>
                  <a:lnTo>
                    <a:pt x="26" y="39"/>
                  </a:lnTo>
                  <a:lnTo>
                    <a:pt x="33" y="39"/>
                  </a:lnTo>
                  <a:lnTo>
                    <a:pt x="33" y="45"/>
                  </a:lnTo>
                  <a:lnTo>
                    <a:pt x="39" y="45"/>
                  </a:lnTo>
                  <a:lnTo>
                    <a:pt x="45" y="45"/>
                  </a:lnTo>
                  <a:lnTo>
                    <a:pt x="45" y="39"/>
                  </a:lnTo>
                  <a:lnTo>
                    <a:pt x="52" y="39"/>
                  </a:lnTo>
                  <a:lnTo>
                    <a:pt x="52" y="33"/>
                  </a:lnTo>
                  <a:lnTo>
                    <a:pt x="52" y="26"/>
                  </a:lnTo>
                  <a:lnTo>
                    <a:pt x="45" y="26"/>
                  </a:lnTo>
                  <a:lnTo>
                    <a:pt x="45" y="12"/>
                  </a:lnTo>
                  <a:lnTo>
                    <a:pt x="39" y="12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66" y="6"/>
                  </a:lnTo>
                  <a:lnTo>
                    <a:pt x="72" y="26"/>
                  </a:lnTo>
                  <a:lnTo>
                    <a:pt x="72" y="33"/>
                  </a:lnTo>
                  <a:lnTo>
                    <a:pt x="72" y="45"/>
                  </a:lnTo>
                  <a:lnTo>
                    <a:pt x="66" y="66"/>
                  </a:lnTo>
                  <a:lnTo>
                    <a:pt x="45" y="72"/>
                  </a:lnTo>
                  <a:lnTo>
                    <a:pt x="39" y="72"/>
                  </a:lnTo>
                  <a:lnTo>
                    <a:pt x="26" y="66"/>
                  </a:lnTo>
                  <a:lnTo>
                    <a:pt x="6" y="52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12"/>
                  </a:lnTo>
                  <a:lnTo>
                    <a:pt x="6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061480" y="2492280"/>
              <a:ext cx="38520" cy="59040"/>
            </a:xfrm>
            <a:custGeom>
              <a:avLst/>
              <a:gdLst/>
              <a:ahLst/>
              <a:rect l="0" t="0" r="r" b="b"/>
              <a:pathLst>
                <a:path w="107" h="164">
                  <a:moveTo>
                    <a:pt x="62" y="57"/>
                  </a:moveTo>
                  <a:lnTo>
                    <a:pt x="67" y="48"/>
                  </a:lnTo>
                  <a:lnTo>
                    <a:pt x="67" y="39"/>
                  </a:lnTo>
                  <a:lnTo>
                    <a:pt x="62" y="30"/>
                  </a:lnTo>
                  <a:lnTo>
                    <a:pt x="58" y="26"/>
                  </a:lnTo>
                  <a:lnTo>
                    <a:pt x="53" y="26"/>
                  </a:lnTo>
                  <a:lnTo>
                    <a:pt x="45" y="26"/>
                  </a:lnTo>
                  <a:lnTo>
                    <a:pt x="40" y="30"/>
                  </a:lnTo>
                  <a:lnTo>
                    <a:pt x="40" y="35"/>
                  </a:lnTo>
                  <a:lnTo>
                    <a:pt x="40" y="39"/>
                  </a:lnTo>
                  <a:lnTo>
                    <a:pt x="36" y="124"/>
                  </a:lnTo>
                  <a:lnTo>
                    <a:pt x="36" y="128"/>
                  </a:lnTo>
                  <a:lnTo>
                    <a:pt x="40" y="133"/>
                  </a:lnTo>
                  <a:lnTo>
                    <a:pt x="40" y="137"/>
                  </a:lnTo>
                  <a:lnTo>
                    <a:pt x="45" y="137"/>
                  </a:lnTo>
                  <a:lnTo>
                    <a:pt x="58" y="137"/>
                  </a:lnTo>
                  <a:lnTo>
                    <a:pt x="62" y="128"/>
                  </a:lnTo>
                  <a:lnTo>
                    <a:pt x="62" y="124"/>
                  </a:lnTo>
                  <a:lnTo>
                    <a:pt x="62" y="115"/>
                  </a:lnTo>
                  <a:lnTo>
                    <a:pt x="62" y="102"/>
                  </a:lnTo>
                  <a:lnTo>
                    <a:pt x="99" y="102"/>
                  </a:lnTo>
                  <a:lnTo>
                    <a:pt x="99" y="124"/>
                  </a:lnTo>
                  <a:lnTo>
                    <a:pt x="94" y="137"/>
                  </a:lnTo>
                  <a:lnTo>
                    <a:pt x="90" y="155"/>
                  </a:lnTo>
                  <a:lnTo>
                    <a:pt x="71" y="159"/>
                  </a:lnTo>
                  <a:lnTo>
                    <a:pt x="45" y="164"/>
                  </a:lnTo>
                  <a:lnTo>
                    <a:pt x="26" y="159"/>
                  </a:lnTo>
                  <a:lnTo>
                    <a:pt x="8" y="150"/>
                  </a:lnTo>
                  <a:lnTo>
                    <a:pt x="0" y="133"/>
                  </a:lnTo>
                  <a:lnTo>
                    <a:pt x="0" y="111"/>
                  </a:lnTo>
                  <a:lnTo>
                    <a:pt x="4" y="48"/>
                  </a:lnTo>
                  <a:lnTo>
                    <a:pt x="8" y="26"/>
                  </a:lnTo>
                  <a:lnTo>
                    <a:pt x="13" y="8"/>
                  </a:lnTo>
                  <a:lnTo>
                    <a:pt x="31" y="4"/>
                  </a:lnTo>
                  <a:lnTo>
                    <a:pt x="53" y="0"/>
                  </a:lnTo>
                  <a:lnTo>
                    <a:pt x="71" y="4"/>
                  </a:lnTo>
                  <a:lnTo>
                    <a:pt x="90" y="8"/>
                  </a:lnTo>
                  <a:lnTo>
                    <a:pt x="99" y="26"/>
                  </a:lnTo>
                  <a:lnTo>
                    <a:pt x="107" y="48"/>
                  </a:lnTo>
                  <a:lnTo>
                    <a:pt x="99" y="57"/>
                  </a:lnTo>
                  <a:lnTo>
                    <a:pt x="6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113680" y="1216080"/>
              <a:ext cx="128880" cy="1386360"/>
            </a:xfrm>
            <a:custGeom>
              <a:avLst/>
              <a:gdLst/>
              <a:ahLst/>
              <a:rect l="0" t="0" r="r" b="b"/>
              <a:pathLst>
                <a:path w="358" h="3851">
                  <a:moveTo>
                    <a:pt x="0" y="3829"/>
                  </a:moveTo>
                  <a:lnTo>
                    <a:pt x="309" y="3851"/>
                  </a:lnTo>
                  <a:lnTo>
                    <a:pt x="327" y="3445"/>
                  </a:lnTo>
                  <a:lnTo>
                    <a:pt x="230" y="3441"/>
                  </a:lnTo>
                  <a:lnTo>
                    <a:pt x="230" y="3375"/>
                  </a:lnTo>
                  <a:lnTo>
                    <a:pt x="239" y="3344"/>
                  </a:lnTo>
                  <a:lnTo>
                    <a:pt x="247" y="3018"/>
                  </a:lnTo>
                  <a:lnTo>
                    <a:pt x="247" y="2991"/>
                  </a:lnTo>
                  <a:lnTo>
                    <a:pt x="265" y="2646"/>
                  </a:lnTo>
                  <a:lnTo>
                    <a:pt x="265" y="2615"/>
                  </a:lnTo>
                  <a:lnTo>
                    <a:pt x="274" y="2285"/>
                  </a:lnTo>
                  <a:lnTo>
                    <a:pt x="274" y="2249"/>
                  </a:lnTo>
                  <a:lnTo>
                    <a:pt x="292" y="1901"/>
                  </a:lnTo>
                  <a:lnTo>
                    <a:pt x="292" y="1870"/>
                  </a:lnTo>
                  <a:lnTo>
                    <a:pt x="305" y="1517"/>
                  </a:lnTo>
                  <a:lnTo>
                    <a:pt x="305" y="1487"/>
                  </a:lnTo>
                  <a:lnTo>
                    <a:pt x="318" y="1121"/>
                  </a:lnTo>
                  <a:lnTo>
                    <a:pt x="322" y="1090"/>
                  </a:lnTo>
                  <a:lnTo>
                    <a:pt x="331" y="727"/>
                  </a:lnTo>
                  <a:lnTo>
                    <a:pt x="336" y="692"/>
                  </a:lnTo>
                  <a:lnTo>
                    <a:pt x="349" y="313"/>
                  </a:lnTo>
                  <a:lnTo>
                    <a:pt x="349" y="282"/>
                  </a:lnTo>
                  <a:lnTo>
                    <a:pt x="358" y="0"/>
                  </a:lnTo>
                  <a:lnTo>
                    <a:pt x="203" y="8"/>
                  </a:lnTo>
                  <a:lnTo>
                    <a:pt x="199" y="268"/>
                  </a:lnTo>
                  <a:lnTo>
                    <a:pt x="195" y="304"/>
                  </a:lnTo>
                  <a:lnTo>
                    <a:pt x="181" y="635"/>
                  </a:lnTo>
                  <a:lnTo>
                    <a:pt x="181" y="661"/>
                  </a:lnTo>
                  <a:lnTo>
                    <a:pt x="171" y="988"/>
                  </a:lnTo>
                  <a:lnTo>
                    <a:pt x="171" y="1019"/>
                  </a:lnTo>
                  <a:lnTo>
                    <a:pt x="163" y="1345"/>
                  </a:lnTo>
                  <a:lnTo>
                    <a:pt x="163" y="1372"/>
                  </a:lnTo>
                  <a:lnTo>
                    <a:pt x="149" y="1685"/>
                  </a:lnTo>
                  <a:lnTo>
                    <a:pt x="149" y="1716"/>
                  </a:lnTo>
                  <a:lnTo>
                    <a:pt x="141" y="2038"/>
                  </a:lnTo>
                  <a:lnTo>
                    <a:pt x="141" y="2069"/>
                  </a:lnTo>
                  <a:lnTo>
                    <a:pt x="127" y="2360"/>
                  </a:lnTo>
                  <a:lnTo>
                    <a:pt x="127" y="2391"/>
                  </a:lnTo>
                  <a:lnTo>
                    <a:pt x="119" y="2695"/>
                  </a:lnTo>
                  <a:lnTo>
                    <a:pt x="119" y="2726"/>
                  </a:lnTo>
                  <a:lnTo>
                    <a:pt x="110" y="3009"/>
                  </a:lnTo>
                  <a:lnTo>
                    <a:pt x="110" y="3044"/>
                  </a:lnTo>
                  <a:lnTo>
                    <a:pt x="97" y="3335"/>
                  </a:lnTo>
                  <a:lnTo>
                    <a:pt x="97" y="3371"/>
                  </a:lnTo>
                  <a:lnTo>
                    <a:pt x="97" y="3441"/>
                  </a:lnTo>
                  <a:lnTo>
                    <a:pt x="8" y="3432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37360" y="2295360"/>
              <a:ext cx="116280" cy="25920"/>
            </a:xfrm>
            <a:custGeom>
              <a:avLst/>
              <a:gdLst/>
              <a:ahLst/>
              <a:rect l="0" t="0" r="r" b="b"/>
              <a:pathLst>
                <a:path w="323" h="72">
                  <a:moveTo>
                    <a:pt x="323" y="72"/>
                  </a:moveTo>
                  <a:lnTo>
                    <a:pt x="323" y="14"/>
                  </a:lnTo>
                  <a:lnTo>
                    <a:pt x="4" y="0"/>
                  </a:lnTo>
                  <a:lnTo>
                    <a:pt x="0" y="50"/>
                  </a:lnTo>
                  <a:lnTo>
                    <a:pt x="32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202600" y="2292480"/>
              <a:ext cx="127440" cy="25920"/>
            </a:xfrm>
            <a:custGeom>
              <a:avLst/>
              <a:gdLst/>
              <a:ahLst/>
              <a:rect l="0" t="0" r="r" b="b"/>
              <a:pathLst>
                <a:path w="354" h="72">
                  <a:moveTo>
                    <a:pt x="0" y="53"/>
                  </a:moveTo>
                  <a:lnTo>
                    <a:pt x="0" y="0"/>
                  </a:lnTo>
                  <a:lnTo>
                    <a:pt x="354" y="8"/>
                  </a:lnTo>
                  <a:lnTo>
                    <a:pt x="354" y="72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211960" y="2025720"/>
              <a:ext cx="132120" cy="25920"/>
            </a:xfrm>
            <a:custGeom>
              <a:avLst/>
              <a:gdLst/>
              <a:ahLst/>
              <a:rect l="0" t="0" r="r" b="b"/>
              <a:pathLst>
                <a:path w="367" h="72">
                  <a:moveTo>
                    <a:pt x="0" y="72"/>
                  </a:moveTo>
                  <a:lnTo>
                    <a:pt x="0" y="0"/>
                  </a:lnTo>
                  <a:lnTo>
                    <a:pt x="367" y="0"/>
                  </a:lnTo>
                  <a:lnTo>
                    <a:pt x="367" y="72"/>
                  </a:lnTo>
                  <a:lnTo>
                    <a:pt x="353" y="72"/>
                  </a:lnTo>
                  <a:lnTo>
                    <a:pt x="314" y="72"/>
                  </a:lnTo>
                  <a:lnTo>
                    <a:pt x="256" y="72"/>
                  </a:lnTo>
                  <a:lnTo>
                    <a:pt x="186" y="72"/>
                  </a:lnTo>
                  <a:lnTo>
                    <a:pt x="123" y="72"/>
                  </a:lnTo>
                  <a:lnTo>
                    <a:pt x="61" y="72"/>
                  </a:lnTo>
                  <a:lnTo>
                    <a:pt x="2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040600" y="2065320"/>
              <a:ext cx="119520" cy="25920"/>
            </a:xfrm>
            <a:custGeom>
              <a:avLst/>
              <a:gdLst/>
              <a:ahLst/>
              <a:rect l="0" t="0" r="r" b="b"/>
              <a:pathLst>
                <a:path w="332" h="72">
                  <a:moveTo>
                    <a:pt x="332" y="0"/>
                  </a:moveTo>
                  <a:lnTo>
                    <a:pt x="332" y="72"/>
                  </a:lnTo>
                  <a:lnTo>
                    <a:pt x="8" y="72"/>
                  </a:lnTo>
                  <a:lnTo>
                    <a:pt x="0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039160" y="2184480"/>
              <a:ext cx="117720" cy="25920"/>
            </a:xfrm>
            <a:custGeom>
              <a:avLst/>
              <a:gdLst/>
              <a:ahLst/>
              <a:rect l="0" t="0" r="r" b="b"/>
              <a:pathLst>
                <a:path w="327" h="72">
                  <a:moveTo>
                    <a:pt x="327" y="72"/>
                  </a:moveTo>
                  <a:lnTo>
                    <a:pt x="327" y="8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27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209080" y="2157480"/>
              <a:ext cx="128880" cy="25920"/>
            </a:xfrm>
            <a:custGeom>
              <a:avLst/>
              <a:gdLst/>
              <a:ahLst/>
              <a:rect l="0" t="0" r="r" b="b"/>
              <a:pathLst>
                <a:path w="358" h="72">
                  <a:moveTo>
                    <a:pt x="0" y="63"/>
                  </a:moveTo>
                  <a:lnTo>
                    <a:pt x="0" y="0"/>
                  </a:lnTo>
                  <a:lnTo>
                    <a:pt x="358" y="8"/>
                  </a:lnTo>
                  <a:lnTo>
                    <a:pt x="358" y="7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053560" y="1444680"/>
              <a:ext cx="125640" cy="25920"/>
            </a:xfrm>
            <a:custGeom>
              <a:avLst/>
              <a:gdLst/>
              <a:ahLst/>
              <a:rect l="0" t="0" r="r" b="b"/>
              <a:pathLst>
                <a:path w="349" h="72">
                  <a:moveTo>
                    <a:pt x="349" y="53"/>
                  </a:moveTo>
                  <a:lnTo>
                    <a:pt x="349" y="0"/>
                  </a:lnTo>
                  <a:lnTo>
                    <a:pt x="0" y="17"/>
                  </a:lnTo>
                  <a:lnTo>
                    <a:pt x="0" y="72"/>
                  </a:lnTo>
                  <a:lnTo>
                    <a:pt x="3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232840" y="1461960"/>
              <a:ext cx="144720" cy="25920"/>
            </a:xfrm>
            <a:custGeom>
              <a:avLst/>
              <a:gdLst/>
              <a:ahLst/>
              <a:rect l="0" t="0" r="r" b="b"/>
              <a:pathLst>
                <a:path w="402" h="72">
                  <a:moveTo>
                    <a:pt x="0" y="72"/>
                  </a:moveTo>
                  <a:lnTo>
                    <a:pt x="4" y="14"/>
                  </a:lnTo>
                  <a:lnTo>
                    <a:pt x="402" y="0"/>
                  </a:lnTo>
                  <a:lnTo>
                    <a:pt x="402" y="5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050320" y="1571760"/>
              <a:ext cx="125640" cy="25920"/>
            </a:xfrm>
            <a:custGeom>
              <a:avLst/>
              <a:gdLst/>
              <a:ahLst/>
              <a:rect l="0" t="0" r="r" b="b"/>
              <a:pathLst>
                <a:path w="349" h="72">
                  <a:moveTo>
                    <a:pt x="349" y="0"/>
                  </a:moveTo>
                  <a:lnTo>
                    <a:pt x="349" y="50"/>
                  </a:lnTo>
                  <a:lnTo>
                    <a:pt x="0" y="72"/>
                  </a:lnTo>
                  <a:lnTo>
                    <a:pt x="0" y="14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055000" y="1312920"/>
              <a:ext cx="130680" cy="25920"/>
            </a:xfrm>
            <a:custGeom>
              <a:avLst/>
              <a:gdLst/>
              <a:ahLst/>
              <a:rect l="0" t="0" r="r" b="b"/>
              <a:pathLst>
                <a:path w="363" h="72">
                  <a:moveTo>
                    <a:pt x="363" y="0"/>
                  </a:moveTo>
                  <a:lnTo>
                    <a:pt x="359" y="58"/>
                  </a:lnTo>
                  <a:lnTo>
                    <a:pt x="0" y="72"/>
                  </a:lnTo>
                  <a:lnTo>
                    <a:pt x="0" y="2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238960" y="1312920"/>
              <a:ext cx="147960" cy="25920"/>
            </a:xfrm>
            <a:custGeom>
              <a:avLst/>
              <a:gdLst/>
              <a:ahLst/>
              <a:rect l="0" t="0" r="r" b="b"/>
              <a:pathLst>
                <a:path w="411" h="72">
                  <a:moveTo>
                    <a:pt x="0" y="22"/>
                  </a:moveTo>
                  <a:lnTo>
                    <a:pt x="0" y="72"/>
                  </a:lnTo>
                  <a:lnTo>
                    <a:pt x="406" y="58"/>
                  </a:lnTo>
                  <a:lnTo>
                    <a:pt x="411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196120" y="2419200"/>
              <a:ext cx="125640" cy="25920"/>
            </a:xfrm>
            <a:custGeom>
              <a:avLst/>
              <a:gdLst/>
              <a:ahLst/>
              <a:rect l="0" t="0" r="r" b="b"/>
              <a:pathLst>
                <a:path w="349" h="72">
                  <a:moveTo>
                    <a:pt x="0" y="56"/>
                  </a:moveTo>
                  <a:lnTo>
                    <a:pt x="349" y="72"/>
                  </a:lnTo>
                  <a:lnTo>
                    <a:pt x="349" y="15"/>
                  </a:lnTo>
                  <a:lnTo>
                    <a:pt x="8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037360" y="2413080"/>
              <a:ext cx="111600" cy="25920"/>
            </a:xfrm>
            <a:custGeom>
              <a:avLst/>
              <a:gdLst/>
              <a:ahLst/>
              <a:rect l="0" t="0" r="r" b="b"/>
              <a:pathLst>
                <a:path w="310" h="72">
                  <a:moveTo>
                    <a:pt x="310" y="72"/>
                  </a:moveTo>
                  <a:lnTo>
                    <a:pt x="301" y="72"/>
                  </a:lnTo>
                  <a:lnTo>
                    <a:pt x="262" y="72"/>
                  </a:lnTo>
                  <a:lnTo>
                    <a:pt x="212" y="65"/>
                  </a:lnTo>
                  <a:lnTo>
                    <a:pt x="155" y="65"/>
                  </a:lnTo>
                  <a:lnTo>
                    <a:pt x="98" y="65"/>
                  </a:lnTo>
                  <a:lnTo>
                    <a:pt x="48" y="50"/>
                  </a:lnTo>
                  <a:lnTo>
                    <a:pt x="8" y="50"/>
                  </a:lnTo>
                  <a:lnTo>
                    <a:pt x="0" y="50"/>
                  </a:lnTo>
                  <a:lnTo>
                    <a:pt x="0" y="0"/>
                  </a:lnTo>
                  <a:lnTo>
                    <a:pt x="8" y="0"/>
                  </a:lnTo>
                  <a:lnTo>
                    <a:pt x="48" y="0"/>
                  </a:lnTo>
                  <a:lnTo>
                    <a:pt x="98" y="7"/>
                  </a:lnTo>
                  <a:lnTo>
                    <a:pt x="155" y="7"/>
                  </a:lnTo>
                  <a:lnTo>
                    <a:pt x="212" y="7"/>
                  </a:lnTo>
                  <a:lnTo>
                    <a:pt x="262" y="14"/>
                  </a:lnTo>
                  <a:lnTo>
                    <a:pt x="301" y="14"/>
                  </a:lnTo>
                  <a:lnTo>
                    <a:pt x="310" y="14"/>
                  </a:lnTo>
                  <a:lnTo>
                    <a:pt x="31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228160" y="1606680"/>
              <a:ext cx="141480" cy="25920"/>
            </a:xfrm>
            <a:custGeom>
              <a:avLst/>
              <a:gdLst/>
              <a:ahLst/>
              <a:rect l="0" t="0" r="r" b="b"/>
              <a:pathLst>
                <a:path w="393" h="72">
                  <a:moveTo>
                    <a:pt x="0" y="72"/>
                  </a:moveTo>
                  <a:lnTo>
                    <a:pt x="4" y="8"/>
                  </a:lnTo>
                  <a:lnTo>
                    <a:pt x="393" y="0"/>
                  </a:lnTo>
                  <a:lnTo>
                    <a:pt x="393" y="63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047080" y="1700280"/>
              <a:ext cx="125640" cy="25920"/>
            </a:xfrm>
            <a:custGeom>
              <a:avLst/>
              <a:gdLst/>
              <a:ahLst/>
              <a:rect l="0" t="0" r="r" b="b"/>
              <a:pathLst>
                <a:path w="349" h="72">
                  <a:moveTo>
                    <a:pt x="349" y="0"/>
                  </a:moveTo>
                  <a:lnTo>
                    <a:pt x="349" y="48"/>
                  </a:lnTo>
                  <a:lnTo>
                    <a:pt x="4" y="72"/>
                  </a:lnTo>
                  <a:lnTo>
                    <a:pt x="0" y="7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223120" y="1749600"/>
              <a:ext cx="138600" cy="25920"/>
            </a:xfrm>
            <a:custGeom>
              <a:avLst/>
              <a:gdLst/>
              <a:ahLst/>
              <a:rect l="0" t="0" r="r" b="b"/>
              <a:pathLst>
                <a:path w="385" h="72">
                  <a:moveTo>
                    <a:pt x="0" y="72"/>
                  </a:moveTo>
                  <a:lnTo>
                    <a:pt x="0" y="8"/>
                  </a:lnTo>
                  <a:lnTo>
                    <a:pt x="385" y="0"/>
                  </a:lnTo>
                  <a:lnTo>
                    <a:pt x="385" y="63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47080" y="1822320"/>
              <a:ext cx="120960" cy="25920"/>
            </a:xfrm>
            <a:custGeom>
              <a:avLst/>
              <a:gdLst/>
              <a:ahLst/>
              <a:rect l="0" t="0" r="r" b="b"/>
              <a:pathLst>
                <a:path w="336" h="72">
                  <a:moveTo>
                    <a:pt x="336" y="63"/>
                  </a:moveTo>
                  <a:lnTo>
                    <a:pt x="336" y="0"/>
                  </a:lnTo>
                  <a:lnTo>
                    <a:pt x="0" y="8"/>
                  </a:lnTo>
                  <a:lnTo>
                    <a:pt x="0" y="72"/>
                  </a:lnTo>
                  <a:lnTo>
                    <a:pt x="33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218440" y="1889280"/>
              <a:ext cx="135360" cy="25920"/>
            </a:xfrm>
            <a:custGeom>
              <a:avLst/>
              <a:gdLst/>
              <a:ahLst/>
              <a:rect l="0" t="0" r="r" b="b"/>
              <a:pathLst>
                <a:path w="376" h="72">
                  <a:moveTo>
                    <a:pt x="0" y="72"/>
                  </a:moveTo>
                  <a:lnTo>
                    <a:pt x="0" y="0"/>
                  </a:lnTo>
                  <a:lnTo>
                    <a:pt x="376" y="0"/>
                  </a:lnTo>
                  <a:lnTo>
                    <a:pt x="3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043840" y="1949400"/>
              <a:ext cx="120960" cy="25920"/>
            </a:xfrm>
            <a:custGeom>
              <a:avLst/>
              <a:gdLst/>
              <a:ahLst/>
              <a:rect l="0" t="0" r="r" b="b"/>
              <a:pathLst>
                <a:path w="336" h="72">
                  <a:moveTo>
                    <a:pt x="336" y="63"/>
                  </a:moveTo>
                  <a:lnTo>
                    <a:pt x="336" y="0"/>
                  </a:lnTo>
                  <a:lnTo>
                    <a:pt x="0" y="8"/>
                  </a:lnTo>
                  <a:lnTo>
                    <a:pt x="4" y="72"/>
                  </a:lnTo>
                  <a:lnTo>
                    <a:pt x="33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15976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26" y="72"/>
                  </a:lnTo>
                  <a:lnTo>
                    <a:pt x="7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126280" y="1236600"/>
              <a:ext cx="97200" cy="1337040"/>
            </a:xfrm>
            <a:custGeom>
              <a:avLst/>
              <a:gdLst/>
              <a:ahLst/>
              <a:rect l="0" t="0" r="r" b="b"/>
              <a:pathLst>
                <a:path w="270" h="3714">
                  <a:moveTo>
                    <a:pt x="106" y="3115"/>
                  </a:moveTo>
                  <a:lnTo>
                    <a:pt x="218" y="30"/>
                  </a:lnTo>
                  <a:lnTo>
                    <a:pt x="218" y="22"/>
                  </a:lnTo>
                  <a:lnTo>
                    <a:pt x="222" y="8"/>
                  </a:lnTo>
                  <a:lnTo>
                    <a:pt x="235" y="4"/>
                  </a:lnTo>
                  <a:lnTo>
                    <a:pt x="244" y="0"/>
                  </a:lnTo>
                  <a:lnTo>
                    <a:pt x="257" y="0"/>
                  </a:lnTo>
                  <a:lnTo>
                    <a:pt x="266" y="4"/>
                  </a:lnTo>
                  <a:lnTo>
                    <a:pt x="270" y="17"/>
                  </a:lnTo>
                  <a:lnTo>
                    <a:pt x="270" y="26"/>
                  </a:lnTo>
                  <a:lnTo>
                    <a:pt x="159" y="3115"/>
                  </a:lnTo>
                  <a:lnTo>
                    <a:pt x="146" y="3485"/>
                  </a:lnTo>
                  <a:lnTo>
                    <a:pt x="181" y="3498"/>
                  </a:lnTo>
                  <a:lnTo>
                    <a:pt x="204" y="3520"/>
                  </a:lnTo>
                  <a:lnTo>
                    <a:pt x="218" y="3551"/>
                  </a:lnTo>
                  <a:lnTo>
                    <a:pt x="222" y="3595"/>
                  </a:lnTo>
                  <a:lnTo>
                    <a:pt x="213" y="3640"/>
                  </a:lnTo>
                  <a:lnTo>
                    <a:pt x="190" y="3675"/>
                  </a:lnTo>
                  <a:lnTo>
                    <a:pt x="159" y="3701"/>
                  </a:lnTo>
                  <a:lnTo>
                    <a:pt x="115" y="3714"/>
                  </a:lnTo>
                  <a:lnTo>
                    <a:pt x="75" y="3701"/>
                  </a:lnTo>
                  <a:lnTo>
                    <a:pt x="35" y="3675"/>
                  </a:lnTo>
                  <a:lnTo>
                    <a:pt x="8" y="3640"/>
                  </a:lnTo>
                  <a:lnTo>
                    <a:pt x="0" y="3595"/>
                  </a:lnTo>
                  <a:lnTo>
                    <a:pt x="4" y="3551"/>
                  </a:lnTo>
                  <a:lnTo>
                    <a:pt x="26" y="3520"/>
                  </a:lnTo>
                  <a:lnTo>
                    <a:pt x="57" y="3494"/>
                  </a:lnTo>
                  <a:lnTo>
                    <a:pt x="93" y="3476"/>
                  </a:lnTo>
                  <a:lnTo>
                    <a:pt x="106" y="3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126280" y="2357280"/>
              <a:ext cx="79560" cy="216360"/>
            </a:xfrm>
            <a:custGeom>
              <a:avLst/>
              <a:gdLst/>
              <a:ahLst/>
              <a:rect l="0" t="0" r="r" b="b"/>
              <a:pathLst>
                <a:path w="221" h="601">
                  <a:moveTo>
                    <a:pt x="159" y="0"/>
                  </a:moveTo>
                  <a:lnTo>
                    <a:pt x="146" y="371"/>
                  </a:lnTo>
                  <a:lnTo>
                    <a:pt x="181" y="384"/>
                  </a:lnTo>
                  <a:lnTo>
                    <a:pt x="203" y="406"/>
                  </a:lnTo>
                  <a:lnTo>
                    <a:pt x="217" y="437"/>
                  </a:lnTo>
                  <a:lnTo>
                    <a:pt x="221" y="482"/>
                  </a:lnTo>
                  <a:lnTo>
                    <a:pt x="212" y="526"/>
                  </a:lnTo>
                  <a:lnTo>
                    <a:pt x="190" y="562"/>
                  </a:lnTo>
                  <a:lnTo>
                    <a:pt x="159" y="588"/>
                  </a:lnTo>
                  <a:lnTo>
                    <a:pt x="115" y="601"/>
                  </a:lnTo>
                  <a:lnTo>
                    <a:pt x="74" y="588"/>
                  </a:lnTo>
                  <a:lnTo>
                    <a:pt x="35" y="562"/>
                  </a:lnTo>
                  <a:lnTo>
                    <a:pt x="8" y="526"/>
                  </a:lnTo>
                  <a:lnTo>
                    <a:pt x="0" y="482"/>
                  </a:lnTo>
                  <a:lnTo>
                    <a:pt x="4" y="437"/>
                  </a:lnTo>
                  <a:lnTo>
                    <a:pt x="26" y="406"/>
                  </a:lnTo>
                  <a:lnTo>
                    <a:pt x="57" y="380"/>
                  </a:lnTo>
                  <a:lnTo>
                    <a:pt x="92" y="362"/>
                  </a:lnTo>
                  <a:lnTo>
                    <a:pt x="105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8058240" y="538200"/>
            <a:ext cx="484560" cy="178200"/>
          </a:xfrm>
          <a:custGeom>
            <a:avLst/>
            <a:gdLst/>
            <a:ahLst/>
            <a:rect l="0" t="0" r="r" b="b"/>
            <a:pathLst>
              <a:path w="1346" h="495">
                <a:moveTo>
                  <a:pt x="1346" y="429"/>
                </a:moveTo>
                <a:lnTo>
                  <a:pt x="1329" y="390"/>
                </a:lnTo>
                <a:lnTo>
                  <a:pt x="1302" y="331"/>
                </a:lnTo>
                <a:lnTo>
                  <a:pt x="1254" y="256"/>
                </a:lnTo>
                <a:lnTo>
                  <a:pt x="1188" y="181"/>
                </a:lnTo>
                <a:lnTo>
                  <a:pt x="1091" y="110"/>
                </a:lnTo>
                <a:lnTo>
                  <a:pt x="962" y="48"/>
                </a:lnTo>
                <a:lnTo>
                  <a:pt x="807" y="8"/>
                </a:lnTo>
                <a:lnTo>
                  <a:pt x="609" y="0"/>
                </a:lnTo>
                <a:lnTo>
                  <a:pt x="455" y="17"/>
                </a:lnTo>
                <a:lnTo>
                  <a:pt x="326" y="61"/>
                </a:lnTo>
                <a:lnTo>
                  <a:pt x="224" y="123"/>
                </a:lnTo>
                <a:lnTo>
                  <a:pt x="145" y="190"/>
                </a:lnTo>
                <a:lnTo>
                  <a:pt x="79" y="261"/>
                </a:lnTo>
                <a:lnTo>
                  <a:pt x="44" y="327"/>
                </a:lnTo>
                <a:lnTo>
                  <a:pt x="17" y="381"/>
                </a:lnTo>
                <a:lnTo>
                  <a:pt x="0" y="407"/>
                </a:lnTo>
                <a:lnTo>
                  <a:pt x="26" y="412"/>
                </a:lnTo>
                <a:lnTo>
                  <a:pt x="52" y="416"/>
                </a:lnTo>
                <a:lnTo>
                  <a:pt x="74" y="434"/>
                </a:lnTo>
                <a:lnTo>
                  <a:pt x="97" y="451"/>
                </a:lnTo>
                <a:lnTo>
                  <a:pt x="105" y="460"/>
                </a:lnTo>
                <a:lnTo>
                  <a:pt x="119" y="469"/>
                </a:lnTo>
                <a:lnTo>
                  <a:pt x="123" y="482"/>
                </a:lnTo>
                <a:lnTo>
                  <a:pt x="127" y="491"/>
                </a:lnTo>
                <a:lnTo>
                  <a:pt x="145" y="451"/>
                </a:lnTo>
                <a:lnTo>
                  <a:pt x="171" y="403"/>
                </a:lnTo>
                <a:lnTo>
                  <a:pt x="207" y="353"/>
                </a:lnTo>
                <a:lnTo>
                  <a:pt x="264" y="305"/>
                </a:lnTo>
                <a:lnTo>
                  <a:pt x="326" y="256"/>
                </a:lnTo>
                <a:lnTo>
                  <a:pt x="402" y="217"/>
                </a:lnTo>
                <a:lnTo>
                  <a:pt x="499" y="190"/>
                </a:lnTo>
                <a:lnTo>
                  <a:pt x="609" y="181"/>
                </a:lnTo>
                <a:lnTo>
                  <a:pt x="755" y="190"/>
                </a:lnTo>
                <a:lnTo>
                  <a:pt x="865" y="217"/>
                </a:lnTo>
                <a:lnTo>
                  <a:pt x="949" y="265"/>
                </a:lnTo>
                <a:lnTo>
                  <a:pt x="1020" y="314"/>
                </a:lnTo>
                <a:lnTo>
                  <a:pt x="1069" y="376"/>
                </a:lnTo>
                <a:lnTo>
                  <a:pt x="1104" y="420"/>
                </a:lnTo>
                <a:lnTo>
                  <a:pt x="1126" y="469"/>
                </a:lnTo>
                <a:lnTo>
                  <a:pt x="1148" y="495"/>
                </a:lnTo>
                <a:lnTo>
                  <a:pt x="1161" y="487"/>
                </a:lnTo>
                <a:lnTo>
                  <a:pt x="1170" y="469"/>
                </a:lnTo>
                <a:lnTo>
                  <a:pt x="1179" y="460"/>
                </a:lnTo>
                <a:lnTo>
                  <a:pt x="1197" y="451"/>
                </a:lnTo>
                <a:lnTo>
                  <a:pt x="1219" y="438"/>
                </a:lnTo>
                <a:lnTo>
                  <a:pt x="1241" y="429"/>
                </a:lnTo>
                <a:lnTo>
                  <a:pt x="1263" y="420"/>
                </a:lnTo>
                <a:lnTo>
                  <a:pt x="1289" y="420"/>
                </a:lnTo>
                <a:lnTo>
                  <a:pt x="1302" y="420"/>
                </a:lnTo>
                <a:lnTo>
                  <a:pt x="1320" y="420"/>
                </a:lnTo>
                <a:lnTo>
                  <a:pt x="1333" y="429"/>
                </a:lnTo>
                <a:lnTo>
                  <a:pt x="1346" y="4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8377200" y="689040"/>
            <a:ext cx="332280" cy="451080"/>
          </a:xfrm>
          <a:custGeom>
            <a:avLst/>
            <a:gdLst/>
            <a:ahLst/>
            <a:rect l="0" t="0" r="r" b="b"/>
            <a:pathLst>
              <a:path w="923" h="1253">
                <a:moveTo>
                  <a:pt x="309" y="30"/>
                </a:moveTo>
                <a:lnTo>
                  <a:pt x="331" y="17"/>
                </a:lnTo>
                <a:lnTo>
                  <a:pt x="353" y="8"/>
                </a:lnTo>
                <a:lnTo>
                  <a:pt x="375" y="0"/>
                </a:lnTo>
                <a:lnTo>
                  <a:pt x="402" y="0"/>
                </a:lnTo>
                <a:lnTo>
                  <a:pt x="415" y="0"/>
                </a:lnTo>
                <a:lnTo>
                  <a:pt x="433" y="0"/>
                </a:lnTo>
                <a:lnTo>
                  <a:pt x="446" y="8"/>
                </a:lnTo>
                <a:lnTo>
                  <a:pt x="459" y="8"/>
                </a:lnTo>
                <a:lnTo>
                  <a:pt x="490" y="13"/>
                </a:lnTo>
                <a:lnTo>
                  <a:pt x="521" y="22"/>
                </a:lnTo>
                <a:lnTo>
                  <a:pt x="543" y="35"/>
                </a:lnTo>
                <a:lnTo>
                  <a:pt x="561" y="44"/>
                </a:lnTo>
                <a:lnTo>
                  <a:pt x="574" y="57"/>
                </a:lnTo>
                <a:lnTo>
                  <a:pt x="591" y="66"/>
                </a:lnTo>
                <a:lnTo>
                  <a:pt x="600" y="70"/>
                </a:lnTo>
                <a:lnTo>
                  <a:pt x="618" y="74"/>
                </a:lnTo>
                <a:lnTo>
                  <a:pt x="649" y="88"/>
                </a:lnTo>
                <a:lnTo>
                  <a:pt x="688" y="97"/>
                </a:lnTo>
                <a:lnTo>
                  <a:pt x="725" y="119"/>
                </a:lnTo>
                <a:lnTo>
                  <a:pt x="769" y="141"/>
                </a:lnTo>
                <a:lnTo>
                  <a:pt x="804" y="171"/>
                </a:lnTo>
                <a:lnTo>
                  <a:pt x="839" y="207"/>
                </a:lnTo>
                <a:lnTo>
                  <a:pt x="866" y="242"/>
                </a:lnTo>
                <a:lnTo>
                  <a:pt x="888" y="286"/>
                </a:lnTo>
                <a:lnTo>
                  <a:pt x="870" y="282"/>
                </a:lnTo>
                <a:lnTo>
                  <a:pt x="853" y="273"/>
                </a:lnTo>
                <a:lnTo>
                  <a:pt x="831" y="264"/>
                </a:lnTo>
                <a:lnTo>
                  <a:pt x="817" y="260"/>
                </a:lnTo>
                <a:lnTo>
                  <a:pt x="857" y="313"/>
                </a:lnTo>
                <a:lnTo>
                  <a:pt x="879" y="383"/>
                </a:lnTo>
                <a:lnTo>
                  <a:pt x="897" y="445"/>
                </a:lnTo>
                <a:lnTo>
                  <a:pt x="923" y="511"/>
                </a:lnTo>
                <a:lnTo>
                  <a:pt x="892" y="511"/>
                </a:lnTo>
                <a:lnTo>
                  <a:pt x="866" y="502"/>
                </a:lnTo>
                <a:lnTo>
                  <a:pt x="831" y="489"/>
                </a:lnTo>
                <a:lnTo>
                  <a:pt x="813" y="476"/>
                </a:lnTo>
                <a:lnTo>
                  <a:pt x="844" y="533"/>
                </a:lnTo>
                <a:lnTo>
                  <a:pt x="879" y="621"/>
                </a:lnTo>
                <a:lnTo>
                  <a:pt x="905" y="719"/>
                </a:lnTo>
                <a:lnTo>
                  <a:pt x="914" y="794"/>
                </a:lnTo>
                <a:lnTo>
                  <a:pt x="897" y="852"/>
                </a:lnTo>
                <a:lnTo>
                  <a:pt x="870" y="913"/>
                </a:lnTo>
                <a:lnTo>
                  <a:pt x="844" y="971"/>
                </a:lnTo>
                <a:lnTo>
                  <a:pt x="822" y="1006"/>
                </a:lnTo>
                <a:lnTo>
                  <a:pt x="804" y="1046"/>
                </a:lnTo>
                <a:lnTo>
                  <a:pt x="769" y="1099"/>
                </a:lnTo>
                <a:lnTo>
                  <a:pt x="725" y="1156"/>
                </a:lnTo>
                <a:lnTo>
                  <a:pt x="666" y="1200"/>
                </a:lnTo>
                <a:lnTo>
                  <a:pt x="666" y="1173"/>
                </a:lnTo>
                <a:lnTo>
                  <a:pt x="666" y="1151"/>
                </a:lnTo>
                <a:lnTo>
                  <a:pt x="662" y="1138"/>
                </a:lnTo>
                <a:lnTo>
                  <a:pt x="662" y="1116"/>
                </a:lnTo>
                <a:lnTo>
                  <a:pt x="640" y="1143"/>
                </a:lnTo>
                <a:lnTo>
                  <a:pt x="618" y="1173"/>
                </a:lnTo>
                <a:lnTo>
                  <a:pt x="574" y="1213"/>
                </a:lnTo>
                <a:lnTo>
                  <a:pt x="512" y="1244"/>
                </a:lnTo>
                <a:lnTo>
                  <a:pt x="516" y="1218"/>
                </a:lnTo>
                <a:lnTo>
                  <a:pt x="521" y="1200"/>
                </a:lnTo>
                <a:lnTo>
                  <a:pt x="521" y="1196"/>
                </a:lnTo>
                <a:lnTo>
                  <a:pt x="521" y="1191"/>
                </a:lnTo>
                <a:lnTo>
                  <a:pt x="472" y="1222"/>
                </a:lnTo>
                <a:lnTo>
                  <a:pt x="455" y="1244"/>
                </a:lnTo>
                <a:lnTo>
                  <a:pt x="433" y="1253"/>
                </a:lnTo>
                <a:lnTo>
                  <a:pt x="402" y="1253"/>
                </a:lnTo>
                <a:lnTo>
                  <a:pt x="393" y="1222"/>
                </a:lnTo>
                <a:lnTo>
                  <a:pt x="384" y="1196"/>
                </a:lnTo>
                <a:lnTo>
                  <a:pt x="362" y="1173"/>
                </a:lnTo>
                <a:lnTo>
                  <a:pt x="327" y="1165"/>
                </a:lnTo>
                <a:lnTo>
                  <a:pt x="283" y="1143"/>
                </a:lnTo>
                <a:lnTo>
                  <a:pt x="256" y="1112"/>
                </a:lnTo>
                <a:lnTo>
                  <a:pt x="224" y="1072"/>
                </a:lnTo>
                <a:lnTo>
                  <a:pt x="180" y="1046"/>
                </a:lnTo>
                <a:lnTo>
                  <a:pt x="145" y="1024"/>
                </a:lnTo>
                <a:lnTo>
                  <a:pt x="110" y="988"/>
                </a:lnTo>
                <a:lnTo>
                  <a:pt x="88" y="944"/>
                </a:lnTo>
                <a:lnTo>
                  <a:pt x="83" y="896"/>
                </a:lnTo>
                <a:lnTo>
                  <a:pt x="83" y="847"/>
                </a:lnTo>
                <a:lnTo>
                  <a:pt x="74" y="799"/>
                </a:lnTo>
                <a:lnTo>
                  <a:pt x="61" y="750"/>
                </a:lnTo>
                <a:lnTo>
                  <a:pt x="79" y="693"/>
                </a:lnTo>
                <a:lnTo>
                  <a:pt x="52" y="715"/>
                </a:lnTo>
                <a:lnTo>
                  <a:pt x="30" y="724"/>
                </a:lnTo>
                <a:lnTo>
                  <a:pt x="17" y="741"/>
                </a:lnTo>
                <a:lnTo>
                  <a:pt x="4" y="746"/>
                </a:lnTo>
                <a:lnTo>
                  <a:pt x="0" y="684"/>
                </a:lnTo>
                <a:lnTo>
                  <a:pt x="4" y="599"/>
                </a:lnTo>
                <a:lnTo>
                  <a:pt x="26" y="520"/>
                </a:lnTo>
                <a:lnTo>
                  <a:pt x="52" y="458"/>
                </a:lnTo>
                <a:lnTo>
                  <a:pt x="74" y="401"/>
                </a:lnTo>
                <a:lnTo>
                  <a:pt x="83" y="339"/>
                </a:lnTo>
                <a:lnTo>
                  <a:pt x="97" y="282"/>
                </a:lnTo>
                <a:lnTo>
                  <a:pt x="127" y="238"/>
                </a:lnTo>
                <a:lnTo>
                  <a:pt x="171" y="198"/>
                </a:lnTo>
                <a:lnTo>
                  <a:pt x="207" y="158"/>
                </a:lnTo>
                <a:lnTo>
                  <a:pt x="239" y="114"/>
                </a:lnTo>
                <a:lnTo>
                  <a:pt x="261" y="74"/>
                </a:lnTo>
                <a:lnTo>
                  <a:pt x="274" y="66"/>
                </a:lnTo>
                <a:lnTo>
                  <a:pt x="283" y="48"/>
                </a:lnTo>
                <a:lnTo>
                  <a:pt x="292" y="39"/>
                </a:lnTo>
                <a:lnTo>
                  <a:pt x="30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8393040" y="711360"/>
            <a:ext cx="297360" cy="411480"/>
          </a:xfrm>
          <a:custGeom>
            <a:avLst/>
            <a:gdLst/>
            <a:ahLst/>
            <a:rect l="0" t="0" r="r" b="b"/>
            <a:pathLst>
              <a:path w="826" h="1143">
                <a:moveTo>
                  <a:pt x="367" y="0"/>
                </a:moveTo>
                <a:lnTo>
                  <a:pt x="411" y="0"/>
                </a:lnTo>
                <a:lnTo>
                  <a:pt x="446" y="4"/>
                </a:lnTo>
                <a:lnTo>
                  <a:pt x="472" y="13"/>
                </a:lnTo>
                <a:lnTo>
                  <a:pt x="499" y="26"/>
                </a:lnTo>
                <a:lnTo>
                  <a:pt x="516" y="35"/>
                </a:lnTo>
                <a:lnTo>
                  <a:pt x="530" y="48"/>
                </a:lnTo>
                <a:lnTo>
                  <a:pt x="547" y="57"/>
                </a:lnTo>
                <a:lnTo>
                  <a:pt x="565" y="61"/>
                </a:lnTo>
                <a:lnTo>
                  <a:pt x="591" y="70"/>
                </a:lnTo>
                <a:lnTo>
                  <a:pt x="618" y="79"/>
                </a:lnTo>
                <a:lnTo>
                  <a:pt x="645" y="88"/>
                </a:lnTo>
                <a:lnTo>
                  <a:pt x="672" y="105"/>
                </a:lnTo>
                <a:lnTo>
                  <a:pt x="694" y="123"/>
                </a:lnTo>
                <a:lnTo>
                  <a:pt x="716" y="132"/>
                </a:lnTo>
                <a:lnTo>
                  <a:pt x="734" y="154"/>
                </a:lnTo>
                <a:lnTo>
                  <a:pt x="747" y="171"/>
                </a:lnTo>
                <a:lnTo>
                  <a:pt x="729" y="171"/>
                </a:lnTo>
                <a:lnTo>
                  <a:pt x="720" y="171"/>
                </a:lnTo>
                <a:lnTo>
                  <a:pt x="703" y="171"/>
                </a:lnTo>
                <a:lnTo>
                  <a:pt x="694" y="171"/>
                </a:lnTo>
                <a:lnTo>
                  <a:pt x="747" y="220"/>
                </a:lnTo>
                <a:lnTo>
                  <a:pt x="773" y="277"/>
                </a:lnTo>
                <a:lnTo>
                  <a:pt x="786" y="335"/>
                </a:lnTo>
                <a:lnTo>
                  <a:pt x="822" y="388"/>
                </a:lnTo>
                <a:lnTo>
                  <a:pt x="795" y="383"/>
                </a:lnTo>
                <a:lnTo>
                  <a:pt x="760" y="366"/>
                </a:lnTo>
                <a:lnTo>
                  <a:pt x="729" y="357"/>
                </a:lnTo>
                <a:lnTo>
                  <a:pt x="698" y="352"/>
                </a:lnTo>
                <a:lnTo>
                  <a:pt x="734" y="427"/>
                </a:lnTo>
                <a:lnTo>
                  <a:pt x="778" y="546"/>
                </a:lnTo>
                <a:lnTo>
                  <a:pt x="813" y="662"/>
                </a:lnTo>
                <a:lnTo>
                  <a:pt x="826" y="737"/>
                </a:lnTo>
                <a:lnTo>
                  <a:pt x="808" y="785"/>
                </a:lnTo>
                <a:lnTo>
                  <a:pt x="782" y="838"/>
                </a:lnTo>
                <a:lnTo>
                  <a:pt x="756" y="887"/>
                </a:lnTo>
                <a:lnTo>
                  <a:pt x="742" y="918"/>
                </a:lnTo>
                <a:lnTo>
                  <a:pt x="729" y="944"/>
                </a:lnTo>
                <a:lnTo>
                  <a:pt x="720" y="984"/>
                </a:lnTo>
                <a:lnTo>
                  <a:pt x="694" y="1019"/>
                </a:lnTo>
                <a:lnTo>
                  <a:pt x="659" y="1054"/>
                </a:lnTo>
                <a:lnTo>
                  <a:pt x="654" y="1032"/>
                </a:lnTo>
                <a:lnTo>
                  <a:pt x="650" y="1010"/>
                </a:lnTo>
                <a:lnTo>
                  <a:pt x="645" y="993"/>
                </a:lnTo>
                <a:lnTo>
                  <a:pt x="632" y="979"/>
                </a:lnTo>
                <a:lnTo>
                  <a:pt x="613" y="1006"/>
                </a:lnTo>
                <a:lnTo>
                  <a:pt x="591" y="1041"/>
                </a:lnTo>
                <a:lnTo>
                  <a:pt x="552" y="1085"/>
                </a:lnTo>
                <a:lnTo>
                  <a:pt x="512" y="1125"/>
                </a:lnTo>
                <a:lnTo>
                  <a:pt x="512" y="1094"/>
                </a:lnTo>
                <a:lnTo>
                  <a:pt x="503" y="1076"/>
                </a:lnTo>
                <a:lnTo>
                  <a:pt x="499" y="1063"/>
                </a:lnTo>
                <a:lnTo>
                  <a:pt x="499" y="1059"/>
                </a:lnTo>
                <a:lnTo>
                  <a:pt x="468" y="1090"/>
                </a:lnTo>
                <a:lnTo>
                  <a:pt x="437" y="1112"/>
                </a:lnTo>
                <a:lnTo>
                  <a:pt x="411" y="1134"/>
                </a:lnTo>
                <a:lnTo>
                  <a:pt x="384" y="1143"/>
                </a:lnTo>
                <a:lnTo>
                  <a:pt x="375" y="1112"/>
                </a:lnTo>
                <a:lnTo>
                  <a:pt x="362" y="1090"/>
                </a:lnTo>
                <a:lnTo>
                  <a:pt x="344" y="1068"/>
                </a:lnTo>
                <a:lnTo>
                  <a:pt x="309" y="1059"/>
                </a:lnTo>
                <a:lnTo>
                  <a:pt x="269" y="1041"/>
                </a:lnTo>
                <a:lnTo>
                  <a:pt x="243" y="1015"/>
                </a:lnTo>
                <a:lnTo>
                  <a:pt x="217" y="984"/>
                </a:lnTo>
                <a:lnTo>
                  <a:pt x="180" y="957"/>
                </a:lnTo>
                <a:lnTo>
                  <a:pt x="141" y="935"/>
                </a:lnTo>
                <a:lnTo>
                  <a:pt x="114" y="909"/>
                </a:lnTo>
                <a:lnTo>
                  <a:pt x="92" y="874"/>
                </a:lnTo>
                <a:lnTo>
                  <a:pt x="92" y="830"/>
                </a:lnTo>
                <a:lnTo>
                  <a:pt x="92" y="768"/>
                </a:lnTo>
                <a:lnTo>
                  <a:pt x="83" y="693"/>
                </a:lnTo>
                <a:lnTo>
                  <a:pt x="79" y="622"/>
                </a:lnTo>
                <a:lnTo>
                  <a:pt x="83" y="555"/>
                </a:lnTo>
                <a:lnTo>
                  <a:pt x="57" y="574"/>
                </a:lnTo>
                <a:lnTo>
                  <a:pt x="35" y="583"/>
                </a:lnTo>
                <a:lnTo>
                  <a:pt x="13" y="591"/>
                </a:lnTo>
                <a:lnTo>
                  <a:pt x="0" y="605"/>
                </a:lnTo>
                <a:lnTo>
                  <a:pt x="4" y="560"/>
                </a:lnTo>
                <a:lnTo>
                  <a:pt x="17" y="511"/>
                </a:lnTo>
                <a:lnTo>
                  <a:pt x="39" y="463"/>
                </a:lnTo>
                <a:lnTo>
                  <a:pt x="66" y="414"/>
                </a:lnTo>
                <a:lnTo>
                  <a:pt x="88" y="361"/>
                </a:lnTo>
                <a:lnTo>
                  <a:pt x="92" y="299"/>
                </a:lnTo>
                <a:lnTo>
                  <a:pt x="101" y="238"/>
                </a:lnTo>
                <a:lnTo>
                  <a:pt x="127" y="202"/>
                </a:lnTo>
                <a:lnTo>
                  <a:pt x="163" y="171"/>
                </a:lnTo>
                <a:lnTo>
                  <a:pt x="194" y="132"/>
                </a:lnTo>
                <a:lnTo>
                  <a:pt x="221" y="97"/>
                </a:lnTo>
                <a:lnTo>
                  <a:pt x="243" y="61"/>
                </a:lnTo>
                <a:lnTo>
                  <a:pt x="265" y="44"/>
                </a:lnTo>
                <a:lnTo>
                  <a:pt x="292" y="22"/>
                </a:lnTo>
                <a:lnTo>
                  <a:pt x="322" y="4"/>
                </a:lnTo>
                <a:lnTo>
                  <a:pt x="367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8050320" y="757080"/>
            <a:ext cx="346320" cy="444960"/>
            <a:chOff x="8050320" y="757080"/>
            <a:chExt cx="346320" cy="444960"/>
          </a:xfrm>
        </p:grpSpPr>
        <p:sp>
          <p:nvSpPr>
            <p:cNvPr id="1011" name=""/>
            <p:cNvSpPr/>
            <p:nvPr/>
          </p:nvSpPr>
          <p:spPr>
            <a:xfrm>
              <a:off x="8113680" y="820800"/>
              <a:ext cx="225720" cy="154440"/>
            </a:xfrm>
            <a:custGeom>
              <a:avLst/>
              <a:gdLst/>
              <a:ahLst/>
              <a:rect l="0" t="0" r="r" b="b"/>
              <a:pathLst>
                <a:path w="627" h="429">
                  <a:moveTo>
                    <a:pt x="238" y="398"/>
                  </a:moveTo>
                  <a:lnTo>
                    <a:pt x="255" y="376"/>
                  </a:lnTo>
                  <a:lnTo>
                    <a:pt x="277" y="345"/>
                  </a:lnTo>
                  <a:lnTo>
                    <a:pt x="295" y="309"/>
                  </a:lnTo>
                  <a:lnTo>
                    <a:pt x="304" y="274"/>
                  </a:lnTo>
                  <a:lnTo>
                    <a:pt x="327" y="337"/>
                  </a:lnTo>
                  <a:lnTo>
                    <a:pt x="367" y="385"/>
                  </a:lnTo>
                  <a:lnTo>
                    <a:pt x="411" y="420"/>
                  </a:lnTo>
                  <a:lnTo>
                    <a:pt x="459" y="429"/>
                  </a:lnTo>
                  <a:lnTo>
                    <a:pt x="494" y="425"/>
                  </a:lnTo>
                  <a:lnTo>
                    <a:pt x="525" y="412"/>
                  </a:lnTo>
                  <a:lnTo>
                    <a:pt x="552" y="390"/>
                  </a:lnTo>
                  <a:lnTo>
                    <a:pt x="578" y="363"/>
                  </a:lnTo>
                  <a:lnTo>
                    <a:pt x="600" y="332"/>
                  </a:lnTo>
                  <a:lnTo>
                    <a:pt x="613" y="300"/>
                  </a:lnTo>
                  <a:lnTo>
                    <a:pt x="622" y="256"/>
                  </a:lnTo>
                  <a:lnTo>
                    <a:pt x="627" y="212"/>
                  </a:lnTo>
                  <a:lnTo>
                    <a:pt x="622" y="172"/>
                  </a:lnTo>
                  <a:lnTo>
                    <a:pt x="613" y="128"/>
                  </a:lnTo>
                  <a:lnTo>
                    <a:pt x="600" y="97"/>
                  </a:lnTo>
                  <a:lnTo>
                    <a:pt x="578" y="61"/>
                  </a:lnTo>
                  <a:lnTo>
                    <a:pt x="552" y="35"/>
                  </a:lnTo>
                  <a:lnTo>
                    <a:pt x="525" y="17"/>
                  </a:lnTo>
                  <a:lnTo>
                    <a:pt x="494" y="4"/>
                  </a:lnTo>
                  <a:lnTo>
                    <a:pt x="459" y="0"/>
                  </a:lnTo>
                  <a:lnTo>
                    <a:pt x="433" y="4"/>
                  </a:lnTo>
                  <a:lnTo>
                    <a:pt x="406" y="8"/>
                  </a:lnTo>
                  <a:lnTo>
                    <a:pt x="380" y="26"/>
                  </a:lnTo>
                  <a:lnTo>
                    <a:pt x="358" y="48"/>
                  </a:lnTo>
                  <a:lnTo>
                    <a:pt x="336" y="70"/>
                  </a:lnTo>
                  <a:lnTo>
                    <a:pt x="322" y="101"/>
                  </a:lnTo>
                  <a:lnTo>
                    <a:pt x="308" y="128"/>
                  </a:lnTo>
                  <a:lnTo>
                    <a:pt x="299" y="168"/>
                  </a:lnTo>
                  <a:lnTo>
                    <a:pt x="277" y="111"/>
                  </a:lnTo>
                  <a:lnTo>
                    <a:pt x="246" y="70"/>
                  </a:lnTo>
                  <a:lnTo>
                    <a:pt x="202" y="44"/>
                  </a:lnTo>
                  <a:lnTo>
                    <a:pt x="154" y="30"/>
                  </a:lnTo>
                  <a:lnTo>
                    <a:pt x="97" y="48"/>
                  </a:lnTo>
                  <a:lnTo>
                    <a:pt x="48" y="92"/>
                  </a:lnTo>
                  <a:lnTo>
                    <a:pt x="13" y="150"/>
                  </a:lnTo>
                  <a:lnTo>
                    <a:pt x="0" y="230"/>
                  </a:lnTo>
                  <a:lnTo>
                    <a:pt x="13" y="305"/>
                  </a:lnTo>
                  <a:lnTo>
                    <a:pt x="48" y="363"/>
                  </a:lnTo>
                  <a:lnTo>
                    <a:pt x="97" y="407"/>
                  </a:lnTo>
                  <a:lnTo>
                    <a:pt x="154" y="425"/>
                  </a:lnTo>
                  <a:lnTo>
                    <a:pt x="176" y="425"/>
                  </a:lnTo>
                  <a:lnTo>
                    <a:pt x="198" y="420"/>
                  </a:lnTo>
                  <a:lnTo>
                    <a:pt x="216" y="407"/>
                  </a:lnTo>
                  <a:lnTo>
                    <a:pt x="238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156520" y="963720"/>
              <a:ext cx="54360" cy="74880"/>
            </a:xfrm>
            <a:custGeom>
              <a:avLst/>
              <a:gdLst/>
              <a:ahLst/>
              <a:rect l="0" t="0" r="r" b="b"/>
              <a:pathLst>
                <a:path w="151" h="208">
                  <a:moveTo>
                    <a:pt x="121" y="0"/>
                  </a:moveTo>
                  <a:lnTo>
                    <a:pt x="58" y="52"/>
                  </a:lnTo>
                  <a:lnTo>
                    <a:pt x="49" y="111"/>
                  </a:lnTo>
                  <a:lnTo>
                    <a:pt x="75" y="172"/>
                  </a:lnTo>
                  <a:lnTo>
                    <a:pt x="151" y="208"/>
                  </a:lnTo>
                  <a:lnTo>
                    <a:pt x="106" y="208"/>
                  </a:lnTo>
                  <a:lnTo>
                    <a:pt x="71" y="190"/>
                  </a:lnTo>
                  <a:lnTo>
                    <a:pt x="45" y="177"/>
                  </a:lnTo>
                  <a:lnTo>
                    <a:pt x="17" y="150"/>
                  </a:lnTo>
                  <a:lnTo>
                    <a:pt x="4" y="115"/>
                  </a:lnTo>
                  <a:lnTo>
                    <a:pt x="0" y="83"/>
                  </a:lnTo>
                  <a:lnTo>
                    <a:pt x="8" y="57"/>
                  </a:lnTo>
                  <a:lnTo>
                    <a:pt x="35" y="26"/>
                  </a:lnTo>
                  <a:lnTo>
                    <a:pt x="58" y="26"/>
                  </a:lnTo>
                  <a:lnTo>
                    <a:pt x="80" y="22"/>
                  </a:lnTo>
                  <a:lnTo>
                    <a:pt x="98" y="8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231040" y="995400"/>
              <a:ext cx="43200" cy="41760"/>
            </a:xfrm>
            <a:custGeom>
              <a:avLst/>
              <a:gdLst/>
              <a:ahLst/>
              <a:rect l="0" t="0" r="r" b="b"/>
              <a:pathLst>
                <a:path w="120" h="116">
                  <a:moveTo>
                    <a:pt x="0" y="116"/>
                  </a:moveTo>
                  <a:lnTo>
                    <a:pt x="67" y="112"/>
                  </a:lnTo>
                  <a:lnTo>
                    <a:pt x="106" y="84"/>
                  </a:lnTo>
                  <a:lnTo>
                    <a:pt x="120" y="45"/>
                  </a:lnTo>
                  <a:lnTo>
                    <a:pt x="102" y="0"/>
                  </a:lnTo>
                  <a:lnTo>
                    <a:pt x="98" y="36"/>
                  </a:lnTo>
                  <a:lnTo>
                    <a:pt x="84" y="62"/>
                  </a:lnTo>
                  <a:lnTo>
                    <a:pt x="52" y="9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163000" y="1050840"/>
              <a:ext cx="151200" cy="106560"/>
            </a:xfrm>
            <a:custGeom>
              <a:avLst/>
              <a:gdLst/>
              <a:ahLst/>
              <a:rect l="0" t="0" r="r" b="b"/>
              <a:pathLst>
                <a:path w="420" h="296">
                  <a:moveTo>
                    <a:pt x="0" y="8"/>
                  </a:moveTo>
                  <a:lnTo>
                    <a:pt x="52" y="0"/>
                  </a:lnTo>
                  <a:lnTo>
                    <a:pt x="106" y="0"/>
                  </a:lnTo>
                  <a:lnTo>
                    <a:pt x="168" y="8"/>
                  </a:lnTo>
                  <a:lnTo>
                    <a:pt x="230" y="17"/>
                  </a:lnTo>
                  <a:lnTo>
                    <a:pt x="287" y="39"/>
                  </a:lnTo>
                  <a:lnTo>
                    <a:pt x="341" y="70"/>
                  </a:lnTo>
                  <a:lnTo>
                    <a:pt x="385" y="119"/>
                  </a:lnTo>
                  <a:lnTo>
                    <a:pt x="420" y="181"/>
                  </a:lnTo>
                  <a:lnTo>
                    <a:pt x="385" y="212"/>
                  </a:lnTo>
                  <a:lnTo>
                    <a:pt x="341" y="243"/>
                  </a:lnTo>
                  <a:lnTo>
                    <a:pt x="296" y="269"/>
                  </a:lnTo>
                  <a:lnTo>
                    <a:pt x="247" y="287"/>
                  </a:lnTo>
                  <a:lnTo>
                    <a:pt x="195" y="296"/>
                  </a:lnTo>
                  <a:lnTo>
                    <a:pt x="137" y="296"/>
                  </a:lnTo>
                  <a:lnTo>
                    <a:pt x="70" y="287"/>
                  </a:lnTo>
                  <a:lnTo>
                    <a:pt x="4" y="265"/>
                  </a:lnTo>
                  <a:lnTo>
                    <a:pt x="44" y="15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8292960" y="1041480"/>
              <a:ext cx="35280" cy="49680"/>
            </a:xfrm>
            <a:custGeom>
              <a:avLst/>
              <a:gdLst/>
              <a:ahLst/>
              <a:rect l="0" t="0" r="r" b="b"/>
              <a:pathLst>
                <a:path w="98" h="138">
                  <a:moveTo>
                    <a:pt x="98" y="138"/>
                  </a:moveTo>
                  <a:lnTo>
                    <a:pt x="98" y="67"/>
                  </a:lnTo>
                  <a:lnTo>
                    <a:pt x="75" y="22"/>
                  </a:lnTo>
                  <a:lnTo>
                    <a:pt x="39" y="0"/>
                  </a:lnTo>
                  <a:lnTo>
                    <a:pt x="0" y="8"/>
                  </a:lnTo>
                  <a:lnTo>
                    <a:pt x="30" y="17"/>
                  </a:lnTo>
                  <a:lnTo>
                    <a:pt x="58" y="40"/>
                  </a:lnTo>
                  <a:lnTo>
                    <a:pt x="80" y="75"/>
                  </a:lnTo>
                  <a:lnTo>
                    <a:pt x="98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8313840" y="1020600"/>
              <a:ext cx="35280" cy="46440"/>
            </a:xfrm>
            <a:custGeom>
              <a:avLst/>
              <a:gdLst/>
              <a:ahLst/>
              <a:rect l="0" t="0" r="r" b="b"/>
              <a:pathLst>
                <a:path w="98" h="129">
                  <a:moveTo>
                    <a:pt x="98" y="129"/>
                  </a:moveTo>
                  <a:lnTo>
                    <a:pt x="98" y="67"/>
                  </a:lnTo>
                  <a:lnTo>
                    <a:pt x="80" y="17"/>
                  </a:lnTo>
                  <a:lnTo>
                    <a:pt x="44" y="0"/>
                  </a:lnTo>
                  <a:lnTo>
                    <a:pt x="0" y="4"/>
                  </a:lnTo>
                  <a:lnTo>
                    <a:pt x="30" y="17"/>
                  </a:lnTo>
                  <a:lnTo>
                    <a:pt x="58" y="40"/>
                  </a:lnTo>
                  <a:lnTo>
                    <a:pt x="80" y="71"/>
                  </a:lnTo>
                  <a:lnTo>
                    <a:pt x="98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147160" y="1147680"/>
              <a:ext cx="52920" cy="27360"/>
            </a:xfrm>
            <a:custGeom>
              <a:avLst/>
              <a:gdLst/>
              <a:ahLst/>
              <a:rect l="0" t="0" r="r" b="b"/>
              <a:pathLst>
                <a:path w="147" h="76">
                  <a:moveTo>
                    <a:pt x="147" y="59"/>
                  </a:moveTo>
                  <a:lnTo>
                    <a:pt x="112" y="72"/>
                  </a:lnTo>
                  <a:lnTo>
                    <a:pt x="84" y="76"/>
                  </a:lnTo>
                  <a:lnTo>
                    <a:pt x="58" y="76"/>
                  </a:lnTo>
                  <a:lnTo>
                    <a:pt x="30" y="72"/>
                  </a:lnTo>
                  <a:lnTo>
                    <a:pt x="17" y="59"/>
                  </a:lnTo>
                  <a:lnTo>
                    <a:pt x="4" y="4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2" y="27"/>
                  </a:lnTo>
                  <a:lnTo>
                    <a:pt x="45" y="45"/>
                  </a:lnTo>
                  <a:lnTo>
                    <a:pt x="80" y="59"/>
                  </a:lnTo>
                  <a:lnTo>
                    <a:pt x="14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131320" y="1174680"/>
              <a:ext cx="54360" cy="27360"/>
            </a:xfrm>
            <a:custGeom>
              <a:avLst/>
              <a:gdLst/>
              <a:ahLst/>
              <a:rect l="0" t="0" r="r" b="b"/>
              <a:pathLst>
                <a:path w="151" h="76">
                  <a:moveTo>
                    <a:pt x="151" y="59"/>
                  </a:moveTo>
                  <a:lnTo>
                    <a:pt x="121" y="72"/>
                  </a:lnTo>
                  <a:lnTo>
                    <a:pt x="89" y="76"/>
                  </a:lnTo>
                  <a:lnTo>
                    <a:pt x="62" y="76"/>
                  </a:lnTo>
                  <a:lnTo>
                    <a:pt x="40" y="72"/>
                  </a:lnTo>
                  <a:lnTo>
                    <a:pt x="17" y="59"/>
                  </a:lnTo>
                  <a:lnTo>
                    <a:pt x="4" y="4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2" y="27"/>
                  </a:lnTo>
                  <a:lnTo>
                    <a:pt x="49" y="45"/>
                  </a:lnTo>
                  <a:lnTo>
                    <a:pt x="89" y="59"/>
                  </a:lnTo>
                  <a:lnTo>
                    <a:pt x="15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240760" y="757080"/>
              <a:ext cx="155880" cy="100440"/>
            </a:xfrm>
            <a:custGeom>
              <a:avLst/>
              <a:gdLst/>
              <a:ahLst/>
              <a:rect l="0" t="0" r="r" b="b"/>
              <a:pathLst>
                <a:path w="433" h="279">
                  <a:moveTo>
                    <a:pt x="0" y="98"/>
                  </a:moveTo>
                  <a:lnTo>
                    <a:pt x="52" y="98"/>
                  </a:lnTo>
                  <a:lnTo>
                    <a:pt x="97" y="111"/>
                  </a:lnTo>
                  <a:lnTo>
                    <a:pt x="127" y="133"/>
                  </a:lnTo>
                  <a:lnTo>
                    <a:pt x="145" y="168"/>
                  </a:lnTo>
                  <a:lnTo>
                    <a:pt x="154" y="146"/>
                  </a:lnTo>
                  <a:lnTo>
                    <a:pt x="167" y="124"/>
                  </a:lnTo>
                  <a:lnTo>
                    <a:pt x="171" y="106"/>
                  </a:lnTo>
                  <a:lnTo>
                    <a:pt x="171" y="93"/>
                  </a:lnTo>
                  <a:lnTo>
                    <a:pt x="221" y="124"/>
                  </a:lnTo>
                  <a:lnTo>
                    <a:pt x="261" y="168"/>
                  </a:lnTo>
                  <a:lnTo>
                    <a:pt x="300" y="222"/>
                  </a:lnTo>
                  <a:lnTo>
                    <a:pt x="314" y="279"/>
                  </a:lnTo>
                  <a:lnTo>
                    <a:pt x="327" y="240"/>
                  </a:lnTo>
                  <a:lnTo>
                    <a:pt x="340" y="213"/>
                  </a:lnTo>
                  <a:lnTo>
                    <a:pt x="349" y="186"/>
                  </a:lnTo>
                  <a:lnTo>
                    <a:pt x="349" y="159"/>
                  </a:lnTo>
                  <a:lnTo>
                    <a:pt x="371" y="177"/>
                  </a:lnTo>
                  <a:lnTo>
                    <a:pt x="389" y="199"/>
                  </a:lnTo>
                  <a:lnTo>
                    <a:pt x="406" y="222"/>
                  </a:lnTo>
                  <a:lnTo>
                    <a:pt x="428" y="253"/>
                  </a:lnTo>
                  <a:lnTo>
                    <a:pt x="428" y="172"/>
                  </a:lnTo>
                  <a:lnTo>
                    <a:pt x="415" y="124"/>
                  </a:lnTo>
                  <a:lnTo>
                    <a:pt x="397" y="98"/>
                  </a:lnTo>
                  <a:lnTo>
                    <a:pt x="362" y="80"/>
                  </a:lnTo>
                  <a:lnTo>
                    <a:pt x="384" y="75"/>
                  </a:lnTo>
                  <a:lnTo>
                    <a:pt x="402" y="71"/>
                  </a:lnTo>
                  <a:lnTo>
                    <a:pt x="415" y="61"/>
                  </a:lnTo>
                  <a:lnTo>
                    <a:pt x="433" y="61"/>
                  </a:lnTo>
                  <a:lnTo>
                    <a:pt x="424" y="52"/>
                  </a:lnTo>
                  <a:lnTo>
                    <a:pt x="406" y="44"/>
                  </a:lnTo>
                  <a:lnTo>
                    <a:pt x="389" y="30"/>
                  </a:lnTo>
                  <a:lnTo>
                    <a:pt x="362" y="22"/>
                  </a:lnTo>
                  <a:lnTo>
                    <a:pt x="336" y="8"/>
                  </a:lnTo>
                  <a:lnTo>
                    <a:pt x="300" y="4"/>
                  </a:lnTo>
                  <a:lnTo>
                    <a:pt x="261" y="0"/>
                  </a:lnTo>
                  <a:lnTo>
                    <a:pt x="211" y="0"/>
                  </a:lnTo>
                  <a:lnTo>
                    <a:pt x="167" y="4"/>
                  </a:lnTo>
                  <a:lnTo>
                    <a:pt x="123" y="4"/>
                  </a:lnTo>
                  <a:lnTo>
                    <a:pt x="92" y="17"/>
                  </a:lnTo>
                  <a:lnTo>
                    <a:pt x="66" y="22"/>
                  </a:lnTo>
                  <a:lnTo>
                    <a:pt x="44" y="35"/>
                  </a:lnTo>
                  <a:lnTo>
                    <a:pt x="26" y="52"/>
                  </a:lnTo>
                  <a:lnTo>
                    <a:pt x="17" y="75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050320" y="773280"/>
              <a:ext cx="138600" cy="86040"/>
            </a:xfrm>
            <a:custGeom>
              <a:avLst/>
              <a:gdLst/>
              <a:ahLst/>
              <a:rect l="0" t="0" r="r" b="b"/>
              <a:pathLst>
                <a:path w="385" h="239">
                  <a:moveTo>
                    <a:pt x="39" y="239"/>
                  </a:moveTo>
                  <a:lnTo>
                    <a:pt x="30" y="203"/>
                  </a:lnTo>
                  <a:lnTo>
                    <a:pt x="35" y="164"/>
                  </a:lnTo>
                  <a:lnTo>
                    <a:pt x="44" y="128"/>
                  </a:lnTo>
                  <a:lnTo>
                    <a:pt x="61" y="92"/>
                  </a:lnTo>
                  <a:lnTo>
                    <a:pt x="57" y="88"/>
                  </a:lnTo>
                  <a:lnTo>
                    <a:pt x="39" y="83"/>
                  </a:lnTo>
                  <a:lnTo>
                    <a:pt x="22" y="88"/>
                  </a:lnTo>
                  <a:lnTo>
                    <a:pt x="0" y="88"/>
                  </a:lnTo>
                  <a:lnTo>
                    <a:pt x="17" y="74"/>
                  </a:lnTo>
                  <a:lnTo>
                    <a:pt x="35" y="57"/>
                  </a:lnTo>
                  <a:lnTo>
                    <a:pt x="61" y="39"/>
                  </a:lnTo>
                  <a:lnTo>
                    <a:pt x="88" y="26"/>
                  </a:lnTo>
                  <a:lnTo>
                    <a:pt x="111" y="13"/>
                  </a:lnTo>
                  <a:lnTo>
                    <a:pt x="137" y="8"/>
                  </a:lnTo>
                  <a:lnTo>
                    <a:pt x="164" y="4"/>
                  </a:lnTo>
                  <a:lnTo>
                    <a:pt x="186" y="0"/>
                  </a:lnTo>
                  <a:lnTo>
                    <a:pt x="225" y="0"/>
                  </a:lnTo>
                  <a:lnTo>
                    <a:pt x="265" y="4"/>
                  </a:lnTo>
                  <a:lnTo>
                    <a:pt x="297" y="13"/>
                  </a:lnTo>
                  <a:lnTo>
                    <a:pt x="328" y="30"/>
                  </a:lnTo>
                  <a:lnTo>
                    <a:pt x="354" y="52"/>
                  </a:lnTo>
                  <a:lnTo>
                    <a:pt x="372" y="79"/>
                  </a:lnTo>
                  <a:lnTo>
                    <a:pt x="381" y="110"/>
                  </a:lnTo>
                  <a:lnTo>
                    <a:pt x="385" y="150"/>
                  </a:lnTo>
                  <a:lnTo>
                    <a:pt x="359" y="128"/>
                  </a:lnTo>
                  <a:lnTo>
                    <a:pt x="341" y="114"/>
                  </a:lnTo>
                  <a:lnTo>
                    <a:pt x="319" y="110"/>
                  </a:lnTo>
                  <a:lnTo>
                    <a:pt x="297" y="105"/>
                  </a:lnTo>
                  <a:lnTo>
                    <a:pt x="265" y="133"/>
                  </a:lnTo>
                  <a:lnTo>
                    <a:pt x="225" y="159"/>
                  </a:lnTo>
                  <a:lnTo>
                    <a:pt x="195" y="190"/>
                  </a:lnTo>
                  <a:lnTo>
                    <a:pt x="172" y="225"/>
                  </a:lnTo>
                  <a:lnTo>
                    <a:pt x="168" y="195"/>
                  </a:lnTo>
                  <a:lnTo>
                    <a:pt x="164" y="168"/>
                  </a:lnTo>
                  <a:lnTo>
                    <a:pt x="159" y="155"/>
                  </a:lnTo>
                  <a:lnTo>
                    <a:pt x="150" y="133"/>
                  </a:lnTo>
                  <a:lnTo>
                    <a:pt x="128" y="150"/>
                  </a:lnTo>
                  <a:lnTo>
                    <a:pt x="102" y="164"/>
                  </a:lnTo>
                  <a:lnTo>
                    <a:pt x="70" y="195"/>
                  </a:lnTo>
                  <a:lnTo>
                    <a:pt x="39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259840" y="765000"/>
              <a:ext cx="127440" cy="62280"/>
            </a:xfrm>
            <a:custGeom>
              <a:avLst/>
              <a:gdLst/>
              <a:ahLst/>
              <a:rect l="0" t="0" r="r" b="b"/>
              <a:pathLst>
                <a:path w="354" h="173">
                  <a:moveTo>
                    <a:pt x="0" y="53"/>
                  </a:moveTo>
                  <a:lnTo>
                    <a:pt x="22" y="53"/>
                  </a:lnTo>
                  <a:lnTo>
                    <a:pt x="48" y="58"/>
                  </a:lnTo>
                  <a:lnTo>
                    <a:pt x="70" y="71"/>
                  </a:lnTo>
                  <a:lnTo>
                    <a:pt x="89" y="89"/>
                  </a:lnTo>
                  <a:lnTo>
                    <a:pt x="93" y="75"/>
                  </a:lnTo>
                  <a:lnTo>
                    <a:pt x="93" y="58"/>
                  </a:lnTo>
                  <a:lnTo>
                    <a:pt x="93" y="39"/>
                  </a:lnTo>
                  <a:lnTo>
                    <a:pt x="89" y="22"/>
                  </a:lnTo>
                  <a:lnTo>
                    <a:pt x="115" y="30"/>
                  </a:lnTo>
                  <a:lnTo>
                    <a:pt x="142" y="49"/>
                  </a:lnTo>
                  <a:lnTo>
                    <a:pt x="159" y="58"/>
                  </a:lnTo>
                  <a:lnTo>
                    <a:pt x="181" y="75"/>
                  </a:lnTo>
                  <a:lnTo>
                    <a:pt x="203" y="98"/>
                  </a:lnTo>
                  <a:lnTo>
                    <a:pt x="225" y="115"/>
                  </a:lnTo>
                  <a:lnTo>
                    <a:pt x="247" y="138"/>
                  </a:lnTo>
                  <a:lnTo>
                    <a:pt x="261" y="173"/>
                  </a:lnTo>
                  <a:lnTo>
                    <a:pt x="270" y="151"/>
                  </a:lnTo>
                  <a:lnTo>
                    <a:pt x="270" y="128"/>
                  </a:lnTo>
                  <a:lnTo>
                    <a:pt x="270" y="111"/>
                  </a:lnTo>
                  <a:lnTo>
                    <a:pt x="270" y="102"/>
                  </a:lnTo>
                  <a:lnTo>
                    <a:pt x="284" y="111"/>
                  </a:lnTo>
                  <a:lnTo>
                    <a:pt x="310" y="124"/>
                  </a:lnTo>
                  <a:lnTo>
                    <a:pt x="332" y="134"/>
                  </a:lnTo>
                  <a:lnTo>
                    <a:pt x="354" y="151"/>
                  </a:lnTo>
                  <a:lnTo>
                    <a:pt x="337" y="115"/>
                  </a:lnTo>
                  <a:lnTo>
                    <a:pt x="310" y="89"/>
                  </a:lnTo>
                  <a:lnTo>
                    <a:pt x="284" y="71"/>
                  </a:lnTo>
                  <a:lnTo>
                    <a:pt x="256" y="53"/>
                  </a:lnTo>
                  <a:lnTo>
                    <a:pt x="275" y="49"/>
                  </a:lnTo>
                  <a:lnTo>
                    <a:pt x="288" y="39"/>
                  </a:lnTo>
                  <a:lnTo>
                    <a:pt x="306" y="35"/>
                  </a:lnTo>
                  <a:lnTo>
                    <a:pt x="323" y="30"/>
                  </a:lnTo>
                  <a:lnTo>
                    <a:pt x="310" y="26"/>
                  </a:lnTo>
                  <a:lnTo>
                    <a:pt x="297" y="22"/>
                  </a:lnTo>
                  <a:lnTo>
                    <a:pt x="279" y="13"/>
                  </a:lnTo>
                  <a:lnTo>
                    <a:pt x="261" y="8"/>
                  </a:lnTo>
                  <a:lnTo>
                    <a:pt x="243" y="4"/>
                  </a:lnTo>
                  <a:lnTo>
                    <a:pt x="217" y="4"/>
                  </a:lnTo>
                  <a:lnTo>
                    <a:pt x="190" y="0"/>
                  </a:lnTo>
                  <a:lnTo>
                    <a:pt x="155" y="0"/>
                  </a:lnTo>
                  <a:lnTo>
                    <a:pt x="102" y="4"/>
                  </a:lnTo>
                  <a:lnTo>
                    <a:pt x="52" y="8"/>
                  </a:lnTo>
                  <a:lnTo>
                    <a:pt x="22" y="26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070840" y="779400"/>
              <a:ext cx="105120" cy="57600"/>
            </a:xfrm>
            <a:custGeom>
              <a:avLst/>
              <a:gdLst/>
              <a:ahLst/>
              <a:rect l="0" t="0" r="r" b="b"/>
              <a:pathLst>
                <a:path w="292" h="160">
                  <a:moveTo>
                    <a:pt x="0" y="160"/>
                  </a:moveTo>
                  <a:lnTo>
                    <a:pt x="8" y="125"/>
                  </a:lnTo>
                  <a:lnTo>
                    <a:pt x="17" y="98"/>
                  </a:lnTo>
                  <a:lnTo>
                    <a:pt x="35" y="75"/>
                  </a:lnTo>
                  <a:lnTo>
                    <a:pt x="44" y="58"/>
                  </a:lnTo>
                  <a:lnTo>
                    <a:pt x="35" y="49"/>
                  </a:lnTo>
                  <a:lnTo>
                    <a:pt x="26" y="49"/>
                  </a:lnTo>
                  <a:lnTo>
                    <a:pt x="13" y="49"/>
                  </a:lnTo>
                  <a:lnTo>
                    <a:pt x="0" y="49"/>
                  </a:lnTo>
                  <a:lnTo>
                    <a:pt x="17" y="35"/>
                  </a:lnTo>
                  <a:lnTo>
                    <a:pt x="52" y="22"/>
                  </a:lnTo>
                  <a:lnTo>
                    <a:pt x="88" y="13"/>
                  </a:lnTo>
                  <a:lnTo>
                    <a:pt x="114" y="8"/>
                  </a:lnTo>
                  <a:lnTo>
                    <a:pt x="145" y="0"/>
                  </a:lnTo>
                  <a:lnTo>
                    <a:pt x="172" y="8"/>
                  </a:lnTo>
                  <a:lnTo>
                    <a:pt x="199" y="8"/>
                  </a:lnTo>
                  <a:lnTo>
                    <a:pt x="221" y="13"/>
                  </a:lnTo>
                  <a:lnTo>
                    <a:pt x="243" y="22"/>
                  </a:lnTo>
                  <a:lnTo>
                    <a:pt x="265" y="39"/>
                  </a:lnTo>
                  <a:lnTo>
                    <a:pt x="283" y="62"/>
                  </a:lnTo>
                  <a:lnTo>
                    <a:pt x="292" y="84"/>
                  </a:lnTo>
                  <a:lnTo>
                    <a:pt x="274" y="71"/>
                  </a:lnTo>
                  <a:lnTo>
                    <a:pt x="265" y="62"/>
                  </a:lnTo>
                  <a:lnTo>
                    <a:pt x="247" y="62"/>
                  </a:lnTo>
                  <a:lnTo>
                    <a:pt x="234" y="58"/>
                  </a:lnTo>
                  <a:lnTo>
                    <a:pt x="208" y="75"/>
                  </a:lnTo>
                  <a:lnTo>
                    <a:pt x="181" y="106"/>
                  </a:lnTo>
                  <a:lnTo>
                    <a:pt x="155" y="125"/>
                  </a:lnTo>
                  <a:lnTo>
                    <a:pt x="132" y="147"/>
                  </a:lnTo>
                  <a:lnTo>
                    <a:pt x="127" y="125"/>
                  </a:lnTo>
                  <a:lnTo>
                    <a:pt x="119" y="111"/>
                  </a:lnTo>
                  <a:lnTo>
                    <a:pt x="114" y="93"/>
                  </a:lnTo>
                  <a:lnTo>
                    <a:pt x="110" y="75"/>
                  </a:lnTo>
                  <a:lnTo>
                    <a:pt x="92" y="89"/>
                  </a:lnTo>
                  <a:lnTo>
                    <a:pt x="61" y="106"/>
                  </a:lnTo>
                  <a:lnTo>
                    <a:pt x="30" y="134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126280" y="836640"/>
              <a:ext cx="201960" cy="124200"/>
            </a:xfrm>
            <a:custGeom>
              <a:avLst/>
              <a:gdLst/>
              <a:ahLst/>
              <a:rect l="0" t="0" r="r" b="b"/>
              <a:pathLst>
                <a:path w="561" h="345">
                  <a:moveTo>
                    <a:pt x="268" y="199"/>
                  </a:moveTo>
                  <a:lnTo>
                    <a:pt x="292" y="252"/>
                  </a:lnTo>
                  <a:lnTo>
                    <a:pt x="322" y="301"/>
                  </a:lnTo>
                  <a:lnTo>
                    <a:pt x="362" y="337"/>
                  </a:lnTo>
                  <a:lnTo>
                    <a:pt x="411" y="345"/>
                  </a:lnTo>
                  <a:lnTo>
                    <a:pt x="468" y="337"/>
                  </a:lnTo>
                  <a:lnTo>
                    <a:pt x="516" y="301"/>
                  </a:lnTo>
                  <a:lnTo>
                    <a:pt x="547" y="239"/>
                  </a:lnTo>
                  <a:lnTo>
                    <a:pt x="561" y="168"/>
                  </a:lnTo>
                  <a:lnTo>
                    <a:pt x="547" y="102"/>
                  </a:lnTo>
                  <a:lnTo>
                    <a:pt x="516" y="48"/>
                  </a:lnTo>
                  <a:lnTo>
                    <a:pt x="468" y="8"/>
                  </a:lnTo>
                  <a:lnTo>
                    <a:pt x="411" y="0"/>
                  </a:lnTo>
                  <a:lnTo>
                    <a:pt x="362" y="13"/>
                  </a:lnTo>
                  <a:lnTo>
                    <a:pt x="318" y="48"/>
                  </a:lnTo>
                  <a:lnTo>
                    <a:pt x="287" y="102"/>
                  </a:lnTo>
                  <a:lnTo>
                    <a:pt x="264" y="159"/>
                  </a:lnTo>
                  <a:lnTo>
                    <a:pt x="246" y="111"/>
                  </a:lnTo>
                  <a:lnTo>
                    <a:pt x="216" y="61"/>
                  </a:lnTo>
                  <a:lnTo>
                    <a:pt x="180" y="30"/>
                  </a:lnTo>
                  <a:lnTo>
                    <a:pt x="136" y="17"/>
                  </a:lnTo>
                  <a:lnTo>
                    <a:pt x="83" y="30"/>
                  </a:lnTo>
                  <a:lnTo>
                    <a:pt x="35" y="66"/>
                  </a:lnTo>
                  <a:lnTo>
                    <a:pt x="8" y="124"/>
                  </a:lnTo>
                  <a:lnTo>
                    <a:pt x="0" y="181"/>
                  </a:lnTo>
                  <a:lnTo>
                    <a:pt x="8" y="243"/>
                  </a:lnTo>
                  <a:lnTo>
                    <a:pt x="35" y="293"/>
                  </a:lnTo>
                  <a:lnTo>
                    <a:pt x="83" y="332"/>
                  </a:lnTo>
                  <a:lnTo>
                    <a:pt x="136" y="341"/>
                  </a:lnTo>
                  <a:lnTo>
                    <a:pt x="185" y="332"/>
                  </a:lnTo>
                  <a:lnTo>
                    <a:pt x="220" y="293"/>
                  </a:lnTo>
                  <a:lnTo>
                    <a:pt x="255" y="252"/>
                  </a:lnTo>
                  <a:lnTo>
                    <a:pt x="268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140680" y="885960"/>
              <a:ext cx="36720" cy="52920"/>
            </a:xfrm>
            <a:custGeom>
              <a:avLst/>
              <a:gdLst/>
              <a:ahLst/>
              <a:rect l="0" t="0" r="r" b="b"/>
              <a:pathLst>
                <a:path w="102" h="147">
                  <a:moveTo>
                    <a:pt x="53" y="147"/>
                  </a:moveTo>
                  <a:lnTo>
                    <a:pt x="75" y="143"/>
                  </a:lnTo>
                  <a:lnTo>
                    <a:pt x="89" y="125"/>
                  </a:lnTo>
                  <a:lnTo>
                    <a:pt x="98" y="102"/>
                  </a:lnTo>
                  <a:lnTo>
                    <a:pt x="102" y="71"/>
                  </a:lnTo>
                  <a:lnTo>
                    <a:pt x="98" y="45"/>
                  </a:lnTo>
                  <a:lnTo>
                    <a:pt x="89" y="22"/>
                  </a:lnTo>
                  <a:lnTo>
                    <a:pt x="75" y="4"/>
                  </a:lnTo>
                  <a:lnTo>
                    <a:pt x="53" y="0"/>
                  </a:lnTo>
                  <a:lnTo>
                    <a:pt x="35" y="4"/>
                  </a:lnTo>
                  <a:lnTo>
                    <a:pt x="17" y="22"/>
                  </a:lnTo>
                  <a:lnTo>
                    <a:pt x="4" y="45"/>
                  </a:lnTo>
                  <a:lnTo>
                    <a:pt x="0" y="71"/>
                  </a:lnTo>
                  <a:lnTo>
                    <a:pt x="4" y="102"/>
                  </a:lnTo>
                  <a:lnTo>
                    <a:pt x="17" y="125"/>
                  </a:lnTo>
                  <a:lnTo>
                    <a:pt x="35" y="143"/>
                  </a:lnTo>
                  <a:lnTo>
                    <a:pt x="5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250120" y="882720"/>
              <a:ext cx="38520" cy="57600"/>
            </a:xfrm>
            <a:custGeom>
              <a:avLst/>
              <a:gdLst/>
              <a:ahLst/>
              <a:rect l="0" t="0" r="r" b="b"/>
              <a:pathLst>
                <a:path w="107" h="160">
                  <a:moveTo>
                    <a:pt x="53" y="160"/>
                  </a:moveTo>
                  <a:lnTo>
                    <a:pt x="75" y="156"/>
                  </a:lnTo>
                  <a:lnTo>
                    <a:pt x="94" y="138"/>
                  </a:lnTo>
                  <a:lnTo>
                    <a:pt x="103" y="111"/>
                  </a:lnTo>
                  <a:lnTo>
                    <a:pt x="107" y="80"/>
                  </a:lnTo>
                  <a:lnTo>
                    <a:pt x="103" y="49"/>
                  </a:lnTo>
                  <a:lnTo>
                    <a:pt x="94" y="22"/>
                  </a:lnTo>
                  <a:lnTo>
                    <a:pt x="75" y="4"/>
                  </a:lnTo>
                  <a:lnTo>
                    <a:pt x="53" y="0"/>
                  </a:lnTo>
                  <a:lnTo>
                    <a:pt x="31" y="4"/>
                  </a:lnTo>
                  <a:lnTo>
                    <a:pt x="17" y="22"/>
                  </a:lnTo>
                  <a:lnTo>
                    <a:pt x="4" y="49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7" y="138"/>
                  </a:lnTo>
                  <a:lnTo>
                    <a:pt x="31" y="156"/>
                  </a:lnTo>
                  <a:lnTo>
                    <a:pt x="5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210520" y="111132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59" y="94"/>
                  </a:moveTo>
                  <a:lnTo>
                    <a:pt x="40" y="94"/>
                  </a:lnTo>
                  <a:lnTo>
                    <a:pt x="31" y="94"/>
                  </a:lnTo>
                  <a:lnTo>
                    <a:pt x="13" y="94"/>
                  </a:lnTo>
                  <a:lnTo>
                    <a:pt x="0" y="94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76" y="0"/>
                  </a:lnTo>
                  <a:lnTo>
                    <a:pt x="59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247240" y="11095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0" y="94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72" y="0"/>
                  </a:lnTo>
                  <a:lnTo>
                    <a:pt x="52" y="81"/>
                  </a:lnTo>
                  <a:lnTo>
                    <a:pt x="39" y="85"/>
                  </a:lnTo>
                  <a:lnTo>
                    <a:pt x="33" y="85"/>
                  </a:lnTo>
                  <a:lnTo>
                    <a:pt x="12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248680" y="1074600"/>
              <a:ext cx="25920" cy="28800"/>
            </a:xfrm>
            <a:custGeom>
              <a:avLst/>
              <a:gdLst/>
              <a:ahLst/>
              <a:rect l="0" t="0" r="r" b="b"/>
              <a:pathLst>
                <a:path w="72" h="80">
                  <a:moveTo>
                    <a:pt x="0" y="80"/>
                  </a:moveTo>
                  <a:lnTo>
                    <a:pt x="11" y="75"/>
                  </a:lnTo>
                  <a:lnTo>
                    <a:pt x="30" y="75"/>
                  </a:lnTo>
                  <a:lnTo>
                    <a:pt x="42" y="75"/>
                  </a:lnTo>
                  <a:lnTo>
                    <a:pt x="60" y="75"/>
                  </a:lnTo>
                  <a:lnTo>
                    <a:pt x="72" y="17"/>
                  </a:lnTo>
                  <a:lnTo>
                    <a:pt x="60" y="8"/>
                  </a:lnTo>
                  <a:lnTo>
                    <a:pt x="42" y="4"/>
                  </a:lnTo>
                  <a:lnTo>
                    <a:pt x="30" y="4"/>
                  </a:lnTo>
                  <a:lnTo>
                    <a:pt x="11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215200" y="106524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10" y="107"/>
                  </a:moveTo>
                  <a:lnTo>
                    <a:pt x="21" y="107"/>
                  </a:lnTo>
                  <a:lnTo>
                    <a:pt x="41" y="107"/>
                  </a:lnTo>
                  <a:lnTo>
                    <a:pt x="51" y="107"/>
                  </a:lnTo>
                  <a:lnTo>
                    <a:pt x="72" y="107"/>
                  </a:lnTo>
                  <a:lnTo>
                    <a:pt x="72" y="8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21" y="4"/>
                  </a:lnTo>
                  <a:lnTo>
                    <a:pt x="0" y="0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178840" y="1109520"/>
              <a:ext cx="27360" cy="35280"/>
            </a:xfrm>
            <a:custGeom>
              <a:avLst/>
              <a:gdLst/>
              <a:ahLst/>
              <a:rect l="0" t="0" r="r" b="b"/>
              <a:pathLst>
                <a:path w="76" h="98">
                  <a:moveTo>
                    <a:pt x="49" y="98"/>
                  </a:moveTo>
                  <a:lnTo>
                    <a:pt x="36" y="93"/>
                  </a:lnTo>
                  <a:lnTo>
                    <a:pt x="23" y="84"/>
                  </a:lnTo>
                  <a:lnTo>
                    <a:pt x="13" y="84"/>
                  </a:lnTo>
                  <a:lnTo>
                    <a:pt x="0" y="80"/>
                  </a:lnTo>
                  <a:lnTo>
                    <a:pt x="27" y="0"/>
                  </a:lnTo>
                  <a:lnTo>
                    <a:pt x="40" y="4"/>
                  </a:lnTo>
                  <a:lnTo>
                    <a:pt x="49" y="4"/>
                  </a:lnTo>
                  <a:lnTo>
                    <a:pt x="63" y="4"/>
                  </a:lnTo>
                  <a:lnTo>
                    <a:pt x="76" y="4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177040" y="1063800"/>
              <a:ext cx="32040" cy="39960"/>
            </a:xfrm>
            <a:custGeom>
              <a:avLst/>
              <a:gdLst/>
              <a:ahLst/>
              <a:rect l="0" t="0" r="r" b="b"/>
              <a:pathLst>
                <a:path w="89" h="111">
                  <a:moveTo>
                    <a:pt x="71" y="4"/>
                  </a:moveTo>
                  <a:lnTo>
                    <a:pt x="53" y="0"/>
                  </a:lnTo>
                  <a:lnTo>
                    <a:pt x="39" y="0"/>
                  </a:lnTo>
                  <a:lnTo>
                    <a:pt x="17" y="0"/>
                  </a:lnTo>
                  <a:lnTo>
                    <a:pt x="0" y="4"/>
                  </a:lnTo>
                  <a:lnTo>
                    <a:pt x="30" y="106"/>
                  </a:lnTo>
                  <a:lnTo>
                    <a:pt x="45" y="106"/>
                  </a:lnTo>
                  <a:lnTo>
                    <a:pt x="62" y="106"/>
                  </a:lnTo>
                  <a:lnTo>
                    <a:pt x="71" y="106"/>
                  </a:lnTo>
                  <a:lnTo>
                    <a:pt x="89" y="111"/>
                  </a:lnTo>
                  <a:lnTo>
                    <a:pt x="7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8250120" y="557280"/>
            <a:ext cx="271800" cy="143280"/>
          </a:xfrm>
          <a:custGeom>
            <a:avLst/>
            <a:gdLst/>
            <a:ahLst/>
            <a:rect l="0" t="0" r="r" b="b"/>
            <a:pathLst>
              <a:path w="755" h="398">
                <a:moveTo>
                  <a:pt x="0" y="4"/>
                </a:moveTo>
                <a:lnTo>
                  <a:pt x="176" y="0"/>
                </a:lnTo>
                <a:lnTo>
                  <a:pt x="326" y="22"/>
                </a:lnTo>
                <a:lnTo>
                  <a:pt x="455" y="70"/>
                </a:lnTo>
                <a:lnTo>
                  <a:pt x="556" y="124"/>
                </a:lnTo>
                <a:lnTo>
                  <a:pt x="631" y="190"/>
                </a:lnTo>
                <a:lnTo>
                  <a:pt x="688" y="256"/>
                </a:lnTo>
                <a:lnTo>
                  <a:pt x="733" y="323"/>
                </a:lnTo>
                <a:lnTo>
                  <a:pt x="755" y="368"/>
                </a:lnTo>
                <a:lnTo>
                  <a:pt x="728" y="368"/>
                </a:lnTo>
                <a:lnTo>
                  <a:pt x="706" y="376"/>
                </a:lnTo>
                <a:lnTo>
                  <a:pt x="684" y="385"/>
                </a:lnTo>
                <a:lnTo>
                  <a:pt x="662" y="398"/>
                </a:lnTo>
                <a:lnTo>
                  <a:pt x="640" y="354"/>
                </a:lnTo>
                <a:lnTo>
                  <a:pt x="609" y="301"/>
                </a:lnTo>
                <a:lnTo>
                  <a:pt x="556" y="239"/>
                </a:lnTo>
                <a:lnTo>
                  <a:pt x="490" y="177"/>
                </a:lnTo>
                <a:lnTo>
                  <a:pt x="406" y="115"/>
                </a:lnTo>
                <a:lnTo>
                  <a:pt x="295" y="70"/>
                </a:lnTo>
                <a:lnTo>
                  <a:pt x="158" y="26"/>
                </a:lnTo>
                <a:lnTo>
                  <a:pt x="0" y="4"/>
                </a:lnTo>
                <a:close/>
              </a:path>
            </a:pathLst>
          </a:custGeom>
          <a:solidFill>
            <a:srgbClr val="ccf2f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1727280" y="4854600"/>
            <a:ext cx="828720" cy="1165680"/>
            <a:chOff x="1727280" y="4854600"/>
            <a:chExt cx="828720" cy="1165680"/>
          </a:xfrm>
        </p:grpSpPr>
        <p:sp>
          <p:nvSpPr>
            <p:cNvPr id="1034" name=""/>
            <p:cNvSpPr/>
            <p:nvPr/>
          </p:nvSpPr>
          <p:spPr>
            <a:xfrm>
              <a:off x="1755720" y="5335560"/>
              <a:ext cx="582840" cy="675000"/>
            </a:xfrm>
            <a:custGeom>
              <a:avLst/>
              <a:gdLst/>
              <a:ahLst/>
              <a:rect l="0" t="0" r="r" b="b"/>
              <a:pathLst>
                <a:path w="1619" h="1875">
                  <a:moveTo>
                    <a:pt x="308" y="668"/>
                  </a:moveTo>
                  <a:lnTo>
                    <a:pt x="142" y="794"/>
                  </a:lnTo>
                  <a:lnTo>
                    <a:pt x="35" y="968"/>
                  </a:lnTo>
                  <a:lnTo>
                    <a:pt x="0" y="1137"/>
                  </a:lnTo>
                  <a:lnTo>
                    <a:pt x="11" y="1321"/>
                  </a:lnTo>
                  <a:lnTo>
                    <a:pt x="53" y="1491"/>
                  </a:lnTo>
                  <a:lnTo>
                    <a:pt x="91" y="1569"/>
                  </a:lnTo>
                  <a:lnTo>
                    <a:pt x="189" y="1663"/>
                  </a:lnTo>
                  <a:lnTo>
                    <a:pt x="320" y="1751"/>
                  </a:lnTo>
                  <a:lnTo>
                    <a:pt x="480" y="1838"/>
                  </a:lnTo>
                  <a:lnTo>
                    <a:pt x="580" y="1866"/>
                  </a:lnTo>
                  <a:lnTo>
                    <a:pt x="788" y="1875"/>
                  </a:lnTo>
                  <a:lnTo>
                    <a:pt x="970" y="1872"/>
                  </a:lnTo>
                  <a:lnTo>
                    <a:pt x="1079" y="1847"/>
                  </a:lnTo>
                  <a:lnTo>
                    <a:pt x="1242" y="1790"/>
                  </a:lnTo>
                  <a:lnTo>
                    <a:pt x="1400" y="1702"/>
                  </a:lnTo>
                  <a:lnTo>
                    <a:pt x="1515" y="1575"/>
                  </a:lnTo>
                  <a:lnTo>
                    <a:pt x="1589" y="1376"/>
                  </a:lnTo>
                  <a:lnTo>
                    <a:pt x="1619" y="1195"/>
                  </a:lnTo>
                  <a:lnTo>
                    <a:pt x="1592" y="1016"/>
                  </a:lnTo>
                  <a:lnTo>
                    <a:pt x="1518" y="876"/>
                  </a:lnTo>
                  <a:lnTo>
                    <a:pt x="1405" y="746"/>
                  </a:lnTo>
                  <a:lnTo>
                    <a:pt x="1325" y="661"/>
                  </a:lnTo>
                  <a:lnTo>
                    <a:pt x="1391" y="583"/>
                  </a:lnTo>
                  <a:lnTo>
                    <a:pt x="1423" y="459"/>
                  </a:lnTo>
                  <a:lnTo>
                    <a:pt x="1402" y="314"/>
                  </a:lnTo>
                  <a:lnTo>
                    <a:pt x="1349" y="211"/>
                  </a:lnTo>
                  <a:lnTo>
                    <a:pt x="1272" y="117"/>
                  </a:lnTo>
                  <a:lnTo>
                    <a:pt x="1174" y="45"/>
                  </a:lnTo>
                  <a:lnTo>
                    <a:pt x="1127" y="12"/>
                  </a:lnTo>
                  <a:lnTo>
                    <a:pt x="988" y="57"/>
                  </a:lnTo>
                  <a:lnTo>
                    <a:pt x="819" y="54"/>
                  </a:lnTo>
                  <a:lnTo>
                    <a:pt x="702" y="0"/>
                  </a:lnTo>
                  <a:lnTo>
                    <a:pt x="527" y="27"/>
                  </a:lnTo>
                  <a:lnTo>
                    <a:pt x="388" y="105"/>
                  </a:lnTo>
                  <a:lnTo>
                    <a:pt x="293" y="220"/>
                  </a:lnTo>
                  <a:lnTo>
                    <a:pt x="263" y="308"/>
                  </a:lnTo>
                  <a:lnTo>
                    <a:pt x="254" y="323"/>
                  </a:lnTo>
                  <a:lnTo>
                    <a:pt x="269" y="429"/>
                  </a:lnTo>
                  <a:lnTo>
                    <a:pt x="260" y="441"/>
                  </a:lnTo>
                  <a:lnTo>
                    <a:pt x="284" y="562"/>
                  </a:lnTo>
                  <a:lnTo>
                    <a:pt x="30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971720" y="5065560"/>
              <a:ext cx="259200" cy="292320"/>
            </a:xfrm>
            <a:custGeom>
              <a:avLst/>
              <a:gdLst/>
              <a:ahLst/>
              <a:rect l="0" t="0" r="r" b="b"/>
              <a:pathLst>
                <a:path w="720" h="812">
                  <a:moveTo>
                    <a:pt x="38" y="654"/>
                  </a:moveTo>
                  <a:lnTo>
                    <a:pt x="0" y="533"/>
                  </a:lnTo>
                  <a:lnTo>
                    <a:pt x="0" y="427"/>
                  </a:lnTo>
                  <a:lnTo>
                    <a:pt x="20" y="284"/>
                  </a:lnTo>
                  <a:lnTo>
                    <a:pt x="103" y="157"/>
                  </a:lnTo>
                  <a:lnTo>
                    <a:pt x="219" y="66"/>
                  </a:lnTo>
                  <a:lnTo>
                    <a:pt x="350" y="15"/>
                  </a:lnTo>
                  <a:lnTo>
                    <a:pt x="456" y="0"/>
                  </a:lnTo>
                  <a:lnTo>
                    <a:pt x="561" y="24"/>
                  </a:lnTo>
                  <a:lnTo>
                    <a:pt x="649" y="66"/>
                  </a:lnTo>
                  <a:lnTo>
                    <a:pt x="705" y="160"/>
                  </a:lnTo>
                  <a:lnTo>
                    <a:pt x="720" y="293"/>
                  </a:lnTo>
                  <a:lnTo>
                    <a:pt x="705" y="427"/>
                  </a:lnTo>
                  <a:lnTo>
                    <a:pt x="655" y="564"/>
                  </a:lnTo>
                  <a:lnTo>
                    <a:pt x="596" y="679"/>
                  </a:lnTo>
                  <a:lnTo>
                    <a:pt x="506" y="760"/>
                  </a:lnTo>
                  <a:lnTo>
                    <a:pt x="421" y="800"/>
                  </a:lnTo>
                  <a:lnTo>
                    <a:pt x="276" y="812"/>
                  </a:lnTo>
                  <a:lnTo>
                    <a:pt x="171" y="773"/>
                  </a:lnTo>
                  <a:lnTo>
                    <a:pt x="88" y="742"/>
                  </a:lnTo>
                  <a:lnTo>
                    <a:pt x="38" y="6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957320" y="5054760"/>
              <a:ext cx="282960" cy="311400"/>
            </a:xfrm>
            <a:custGeom>
              <a:avLst/>
              <a:gdLst/>
              <a:ahLst/>
              <a:rect l="0" t="0" r="r" b="b"/>
              <a:pathLst>
                <a:path w="786" h="865">
                  <a:moveTo>
                    <a:pt x="0" y="415"/>
                  </a:moveTo>
                  <a:lnTo>
                    <a:pt x="23" y="330"/>
                  </a:lnTo>
                  <a:lnTo>
                    <a:pt x="65" y="242"/>
                  </a:lnTo>
                  <a:lnTo>
                    <a:pt x="133" y="154"/>
                  </a:lnTo>
                  <a:lnTo>
                    <a:pt x="232" y="75"/>
                  </a:lnTo>
                  <a:lnTo>
                    <a:pt x="336" y="21"/>
                  </a:lnTo>
                  <a:lnTo>
                    <a:pt x="441" y="0"/>
                  </a:lnTo>
                  <a:lnTo>
                    <a:pt x="521" y="3"/>
                  </a:lnTo>
                  <a:lnTo>
                    <a:pt x="602" y="18"/>
                  </a:lnTo>
                  <a:lnTo>
                    <a:pt x="688" y="51"/>
                  </a:lnTo>
                  <a:lnTo>
                    <a:pt x="739" y="115"/>
                  </a:lnTo>
                  <a:lnTo>
                    <a:pt x="778" y="203"/>
                  </a:lnTo>
                  <a:lnTo>
                    <a:pt x="786" y="315"/>
                  </a:lnTo>
                  <a:lnTo>
                    <a:pt x="786" y="421"/>
                  </a:lnTo>
                  <a:lnTo>
                    <a:pt x="766" y="519"/>
                  </a:lnTo>
                  <a:lnTo>
                    <a:pt x="730" y="610"/>
                  </a:lnTo>
                  <a:lnTo>
                    <a:pt x="673" y="704"/>
                  </a:lnTo>
                  <a:lnTo>
                    <a:pt x="605" y="780"/>
                  </a:lnTo>
                  <a:lnTo>
                    <a:pt x="530" y="834"/>
                  </a:lnTo>
                  <a:lnTo>
                    <a:pt x="444" y="865"/>
                  </a:lnTo>
                  <a:lnTo>
                    <a:pt x="331" y="865"/>
                  </a:lnTo>
                  <a:lnTo>
                    <a:pt x="238" y="859"/>
                  </a:lnTo>
                  <a:lnTo>
                    <a:pt x="160" y="819"/>
                  </a:lnTo>
                  <a:lnTo>
                    <a:pt x="104" y="780"/>
                  </a:lnTo>
                  <a:lnTo>
                    <a:pt x="62" y="722"/>
                  </a:lnTo>
                  <a:lnTo>
                    <a:pt x="26" y="646"/>
                  </a:lnTo>
                  <a:lnTo>
                    <a:pt x="5" y="559"/>
                  </a:lnTo>
                  <a:lnTo>
                    <a:pt x="5" y="480"/>
                  </a:lnTo>
                  <a:lnTo>
                    <a:pt x="62" y="492"/>
                  </a:lnTo>
                  <a:lnTo>
                    <a:pt x="77" y="589"/>
                  </a:lnTo>
                  <a:lnTo>
                    <a:pt x="121" y="683"/>
                  </a:lnTo>
                  <a:lnTo>
                    <a:pt x="178" y="743"/>
                  </a:lnTo>
                  <a:lnTo>
                    <a:pt x="256" y="783"/>
                  </a:lnTo>
                  <a:lnTo>
                    <a:pt x="357" y="801"/>
                  </a:lnTo>
                  <a:lnTo>
                    <a:pt x="461" y="789"/>
                  </a:lnTo>
                  <a:lnTo>
                    <a:pt x="536" y="762"/>
                  </a:lnTo>
                  <a:lnTo>
                    <a:pt x="602" y="701"/>
                  </a:lnTo>
                  <a:lnTo>
                    <a:pt x="656" y="619"/>
                  </a:lnTo>
                  <a:lnTo>
                    <a:pt x="700" y="531"/>
                  </a:lnTo>
                  <a:lnTo>
                    <a:pt x="730" y="437"/>
                  </a:lnTo>
                  <a:lnTo>
                    <a:pt x="730" y="327"/>
                  </a:lnTo>
                  <a:lnTo>
                    <a:pt x="721" y="233"/>
                  </a:lnTo>
                  <a:lnTo>
                    <a:pt x="697" y="157"/>
                  </a:lnTo>
                  <a:lnTo>
                    <a:pt x="650" y="109"/>
                  </a:lnTo>
                  <a:lnTo>
                    <a:pt x="586" y="75"/>
                  </a:lnTo>
                  <a:lnTo>
                    <a:pt x="497" y="57"/>
                  </a:lnTo>
                  <a:lnTo>
                    <a:pt x="414" y="57"/>
                  </a:lnTo>
                  <a:lnTo>
                    <a:pt x="319" y="90"/>
                  </a:lnTo>
                  <a:lnTo>
                    <a:pt x="232" y="145"/>
                  </a:lnTo>
                  <a:lnTo>
                    <a:pt x="148" y="215"/>
                  </a:lnTo>
                  <a:lnTo>
                    <a:pt x="101" y="297"/>
                  </a:lnTo>
                  <a:lnTo>
                    <a:pt x="71" y="376"/>
                  </a:lnTo>
                  <a:lnTo>
                    <a:pt x="56" y="452"/>
                  </a:lnTo>
                  <a:lnTo>
                    <a:pt x="8" y="446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049480" y="5130720"/>
              <a:ext cx="49680" cy="51120"/>
            </a:xfrm>
            <a:custGeom>
              <a:avLst/>
              <a:gdLst/>
              <a:ahLst/>
              <a:rect l="0" t="0" r="r" b="b"/>
              <a:pathLst>
                <a:path w="138" h="142">
                  <a:moveTo>
                    <a:pt x="21" y="35"/>
                  </a:moveTo>
                  <a:lnTo>
                    <a:pt x="61" y="5"/>
                  </a:lnTo>
                  <a:lnTo>
                    <a:pt x="101" y="0"/>
                  </a:lnTo>
                  <a:lnTo>
                    <a:pt x="138" y="17"/>
                  </a:lnTo>
                  <a:lnTo>
                    <a:pt x="138" y="55"/>
                  </a:lnTo>
                  <a:lnTo>
                    <a:pt x="123" y="103"/>
                  </a:lnTo>
                  <a:lnTo>
                    <a:pt x="89" y="139"/>
                  </a:lnTo>
                  <a:lnTo>
                    <a:pt x="30" y="142"/>
                  </a:lnTo>
                  <a:lnTo>
                    <a:pt x="9" y="118"/>
                  </a:lnTo>
                  <a:lnTo>
                    <a:pt x="0" y="83"/>
                  </a:lnTo>
                  <a:lnTo>
                    <a:pt x="2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108160" y="5157720"/>
              <a:ext cx="47880" cy="49680"/>
            </a:xfrm>
            <a:custGeom>
              <a:avLst/>
              <a:gdLst/>
              <a:ahLst/>
              <a:rect l="0" t="0" r="r" b="b"/>
              <a:pathLst>
                <a:path w="133" h="138">
                  <a:moveTo>
                    <a:pt x="20" y="31"/>
                  </a:moveTo>
                  <a:lnTo>
                    <a:pt x="55" y="3"/>
                  </a:lnTo>
                  <a:lnTo>
                    <a:pt x="89" y="0"/>
                  </a:lnTo>
                  <a:lnTo>
                    <a:pt x="127" y="18"/>
                  </a:lnTo>
                  <a:lnTo>
                    <a:pt x="133" y="56"/>
                  </a:lnTo>
                  <a:lnTo>
                    <a:pt x="124" y="91"/>
                  </a:lnTo>
                  <a:lnTo>
                    <a:pt x="98" y="126"/>
                  </a:lnTo>
                  <a:lnTo>
                    <a:pt x="64" y="138"/>
                  </a:lnTo>
                  <a:lnTo>
                    <a:pt x="23" y="135"/>
                  </a:lnTo>
                  <a:lnTo>
                    <a:pt x="2" y="116"/>
                  </a:lnTo>
                  <a:lnTo>
                    <a:pt x="0" y="81"/>
                  </a:lnTo>
                  <a:lnTo>
                    <a:pt x="2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884240" y="5203800"/>
              <a:ext cx="174960" cy="38520"/>
            </a:xfrm>
            <a:custGeom>
              <a:avLst/>
              <a:gdLst/>
              <a:ahLst/>
              <a:rect l="0" t="0" r="r" b="b"/>
              <a:pathLst>
                <a:path w="486" h="107">
                  <a:moveTo>
                    <a:pt x="29" y="6"/>
                  </a:moveTo>
                  <a:lnTo>
                    <a:pt x="47" y="6"/>
                  </a:lnTo>
                  <a:lnTo>
                    <a:pt x="438" y="0"/>
                  </a:lnTo>
                  <a:lnTo>
                    <a:pt x="477" y="24"/>
                  </a:lnTo>
                  <a:lnTo>
                    <a:pt x="486" y="60"/>
                  </a:lnTo>
                  <a:lnTo>
                    <a:pt x="468" y="98"/>
                  </a:lnTo>
                  <a:lnTo>
                    <a:pt x="432" y="107"/>
                  </a:lnTo>
                  <a:lnTo>
                    <a:pt x="329" y="104"/>
                  </a:lnTo>
                  <a:lnTo>
                    <a:pt x="17" y="78"/>
                  </a:lnTo>
                  <a:lnTo>
                    <a:pt x="0" y="44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992240" y="5122800"/>
              <a:ext cx="235440" cy="224280"/>
            </a:xfrm>
            <a:custGeom>
              <a:avLst/>
              <a:gdLst/>
              <a:ahLst/>
              <a:rect l="0" t="0" r="r" b="b"/>
              <a:pathLst>
                <a:path w="654" h="623">
                  <a:moveTo>
                    <a:pt x="630" y="0"/>
                  </a:moveTo>
                  <a:lnTo>
                    <a:pt x="607" y="207"/>
                  </a:lnTo>
                  <a:lnTo>
                    <a:pt x="589" y="277"/>
                  </a:lnTo>
                  <a:lnTo>
                    <a:pt x="518" y="389"/>
                  </a:lnTo>
                  <a:lnTo>
                    <a:pt x="443" y="475"/>
                  </a:lnTo>
                  <a:lnTo>
                    <a:pt x="342" y="523"/>
                  </a:lnTo>
                  <a:lnTo>
                    <a:pt x="265" y="550"/>
                  </a:lnTo>
                  <a:lnTo>
                    <a:pt x="176" y="554"/>
                  </a:lnTo>
                  <a:lnTo>
                    <a:pt x="100" y="541"/>
                  </a:lnTo>
                  <a:lnTo>
                    <a:pt x="26" y="484"/>
                  </a:lnTo>
                  <a:lnTo>
                    <a:pt x="0" y="484"/>
                  </a:lnTo>
                  <a:lnTo>
                    <a:pt x="53" y="560"/>
                  </a:lnTo>
                  <a:lnTo>
                    <a:pt x="139" y="599"/>
                  </a:lnTo>
                  <a:lnTo>
                    <a:pt x="205" y="617"/>
                  </a:lnTo>
                  <a:lnTo>
                    <a:pt x="217" y="623"/>
                  </a:lnTo>
                  <a:lnTo>
                    <a:pt x="273" y="620"/>
                  </a:lnTo>
                  <a:lnTo>
                    <a:pt x="368" y="611"/>
                  </a:lnTo>
                  <a:lnTo>
                    <a:pt x="428" y="593"/>
                  </a:lnTo>
                  <a:lnTo>
                    <a:pt x="494" y="541"/>
                  </a:lnTo>
                  <a:lnTo>
                    <a:pt x="565" y="455"/>
                  </a:lnTo>
                  <a:lnTo>
                    <a:pt x="616" y="349"/>
                  </a:lnTo>
                  <a:lnTo>
                    <a:pt x="622" y="334"/>
                  </a:lnTo>
                  <a:lnTo>
                    <a:pt x="654" y="243"/>
                  </a:lnTo>
                  <a:lnTo>
                    <a:pt x="642" y="139"/>
                  </a:lnTo>
                  <a:lnTo>
                    <a:pt x="630" y="18"/>
                  </a:lnTo>
                  <a:lnTo>
                    <a:pt x="622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727280" y="5286240"/>
              <a:ext cx="160560" cy="120960"/>
            </a:xfrm>
            <a:custGeom>
              <a:avLst/>
              <a:gdLst/>
              <a:ahLst/>
              <a:rect l="0" t="0" r="r" b="b"/>
              <a:pathLst>
                <a:path w="446" h="336">
                  <a:moveTo>
                    <a:pt x="419" y="264"/>
                  </a:moveTo>
                  <a:lnTo>
                    <a:pt x="250" y="149"/>
                  </a:lnTo>
                  <a:lnTo>
                    <a:pt x="163" y="89"/>
                  </a:lnTo>
                  <a:lnTo>
                    <a:pt x="145" y="41"/>
                  </a:lnTo>
                  <a:lnTo>
                    <a:pt x="139" y="0"/>
                  </a:lnTo>
                  <a:lnTo>
                    <a:pt x="92" y="5"/>
                  </a:lnTo>
                  <a:lnTo>
                    <a:pt x="65" y="35"/>
                  </a:lnTo>
                  <a:lnTo>
                    <a:pt x="92" y="107"/>
                  </a:lnTo>
                  <a:lnTo>
                    <a:pt x="83" y="140"/>
                  </a:lnTo>
                  <a:lnTo>
                    <a:pt x="53" y="167"/>
                  </a:lnTo>
                  <a:lnTo>
                    <a:pt x="0" y="198"/>
                  </a:lnTo>
                  <a:lnTo>
                    <a:pt x="0" y="234"/>
                  </a:lnTo>
                  <a:lnTo>
                    <a:pt x="26" y="261"/>
                  </a:lnTo>
                  <a:lnTo>
                    <a:pt x="71" y="273"/>
                  </a:lnTo>
                  <a:lnTo>
                    <a:pt x="100" y="234"/>
                  </a:lnTo>
                  <a:lnTo>
                    <a:pt x="139" y="195"/>
                  </a:lnTo>
                  <a:lnTo>
                    <a:pt x="178" y="195"/>
                  </a:lnTo>
                  <a:lnTo>
                    <a:pt x="253" y="228"/>
                  </a:lnTo>
                  <a:lnTo>
                    <a:pt x="410" y="336"/>
                  </a:lnTo>
                  <a:lnTo>
                    <a:pt x="446" y="291"/>
                  </a:lnTo>
                  <a:lnTo>
                    <a:pt x="419" y="264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996920" y="5386320"/>
              <a:ext cx="57600" cy="55800"/>
            </a:xfrm>
            <a:custGeom>
              <a:avLst/>
              <a:gdLst/>
              <a:ahLst/>
              <a:rect l="0" t="0" r="r" b="b"/>
              <a:pathLst>
                <a:path w="160" h="155">
                  <a:moveTo>
                    <a:pt x="29" y="21"/>
                  </a:moveTo>
                  <a:lnTo>
                    <a:pt x="71" y="0"/>
                  </a:lnTo>
                  <a:lnTo>
                    <a:pt x="122" y="0"/>
                  </a:lnTo>
                  <a:lnTo>
                    <a:pt x="151" y="24"/>
                  </a:lnTo>
                  <a:lnTo>
                    <a:pt x="160" y="66"/>
                  </a:lnTo>
                  <a:lnTo>
                    <a:pt x="151" y="109"/>
                  </a:lnTo>
                  <a:lnTo>
                    <a:pt x="109" y="149"/>
                  </a:lnTo>
                  <a:lnTo>
                    <a:pt x="53" y="155"/>
                  </a:lnTo>
                  <a:lnTo>
                    <a:pt x="17" y="131"/>
                  </a:lnTo>
                  <a:lnTo>
                    <a:pt x="0" y="88"/>
                  </a:lnTo>
                  <a:lnTo>
                    <a:pt x="8" y="42"/>
                  </a:lnTo>
                  <a:lnTo>
                    <a:pt x="2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959120" y="5475240"/>
              <a:ext cx="51120" cy="60840"/>
            </a:xfrm>
            <a:custGeom>
              <a:avLst/>
              <a:gdLst/>
              <a:ahLst/>
              <a:rect l="0" t="0" r="r" b="b"/>
              <a:pathLst>
                <a:path w="142" h="169">
                  <a:moveTo>
                    <a:pt x="15" y="33"/>
                  </a:moveTo>
                  <a:lnTo>
                    <a:pt x="42" y="3"/>
                  </a:lnTo>
                  <a:lnTo>
                    <a:pt x="100" y="0"/>
                  </a:lnTo>
                  <a:lnTo>
                    <a:pt x="127" y="24"/>
                  </a:lnTo>
                  <a:lnTo>
                    <a:pt x="142" y="74"/>
                  </a:lnTo>
                  <a:lnTo>
                    <a:pt x="133" y="125"/>
                  </a:lnTo>
                  <a:lnTo>
                    <a:pt x="91" y="163"/>
                  </a:lnTo>
                  <a:lnTo>
                    <a:pt x="42" y="169"/>
                  </a:lnTo>
                  <a:lnTo>
                    <a:pt x="6" y="142"/>
                  </a:lnTo>
                  <a:lnTo>
                    <a:pt x="0" y="95"/>
                  </a:lnTo>
                  <a:lnTo>
                    <a:pt x="6" y="52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108160" y="5351400"/>
              <a:ext cx="154440" cy="276480"/>
            </a:xfrm>
            <a:custGeom>
              <a:avLst/>
              <a:gdLst/>
              <a:ahLst/>
              <a:rect l="0" t="0" r="r" b="b"/>
              <a:pathLst>
                <a:path w="429" h="768">
                  <a:moveTo>
                    <a:pt x="140" y="12"/>
                  </a:moveTo>
                  <a:lnTo>
                    <a:pt x="226" y="90"/>
                  </a:lnTo>
                  <a:lnTo>
                    <a:pt x="253" y="172"/>
                  </a:lnTo>
                  <a:lnTo>
                    <a:pt x="268" y="251"/>
                  </a:lnTo>
                  <a:lnTo>
                    <a:pt x="262" y="336"/>
                  </a:lnTo>
                  <a:lnTo>
                    <a:pt x="244" y="434"/>
                  </a:lnTo>
                  <a:lnTo>
                    <a:pt x="223" y="559"/>
                  </a:lnTo>
                  <a:lnTo>
                    <a:pt x="161" y="616"/>
                  </a:lnTo>
                  <a:lnTo>
                    <a:pt x="110" y="692"/>
                  </a:lnTo>
                  <a:lnTo>
                    <a:pt x="0" y="704"/>
                  </a:lnTo>
                  <a:lnTo>
                    <a:pt x="2" y="744"/>
                  </a:lnTo>
                  <a:lnTo>
                    <a:pt x="74" y="768"/>
                  </a:lnTo>
                  <a:lnTo>
                    <a:pt x="176" y="744"/>
                  </a:lnTo>
                  <a:lnTo>
                    <a:pt x="259" y="722"/>
                  </a:lnTo>
                  <a:lnTo>
                    <a:pt x="343" y="653"/>
                  </a:lnTo>
                  <a:lnTo>
                    <a:pt x="403" y="546"/>
                  </a:lnTo>
                  <a:lnTo>
                    <a:pt x="429" y="431"/>
                  </a:lnTo>
                  <a:lnTo>
                    <a:pt x="426" y="324"/>
                  </a:lnTo>
                  <a:lnTo>
                    <a:pt x="394" y="212"/>
                  </a:lnTo>
                  <a:lnTo>
                    <a:pt x="328" y="109"/>
                  </a:lnTo>
                  <a:lnTo>
                    <a:pt x="241" y="30"/>
                  </a:lnTo>
                  <a:lnTo>
                    <a:pt x="158" y="0"/>
                  </a:lnTo>
                  <a:lnTo>
                    <a:pt x="140" y="1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976400" y="5578560"/>
              <a:ext cx="49680" cy="52920"/>
            </a:xfrm>
            <a:custGeom>
              <a:avLst/>
              <a:gdLst/>
              <a:ahLst/>
              <a:rect l="0" t="0" r="r" b="b"/>
              <a:pathLst>
                <a:path w="138" h="147">
                  <a:moveTo>
                    <a:pt x="14" y="24"/>
                  </a:moveTo>
                  <a:lnTo>
                    <a:pt x="63" y="0"/>
                  </a:lnTo>
                  <a:lnTo>
                    <a:pt x="111" y="15"/>
                  </a:lnTo>
                  <a:lnTo>
                    <a:pt x="135" y="40"/>
                  </a:lnTo>
                  <a:lnTo>
                    <a:pt x="138" y="85"/>
                  </a:lnTo>
                  <a:lnTo>
                    <a:pt x="126" y="126"/>
                  </a:lnTo>
                  <a:lnTo>
                    <a:pt x="99" y="147"/>
                  </a:lnTo>
                  <a:lnTo>
                    <a:pt x="54" y="147"/>
                  </a:lnTo>
                  <a:lnTo>
                    <a:pt x="14" y="126"/>
                  </a:lnTo>
                  <a:lnTo>
                    <a:pt x="0" y="88"/>
                  </a:lnTo>
                  <a:lnTo>
                    <a:pt x="5" y="49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05120" y="5624640"/>
              <a:ext cx="427320" cy="386280"/>
            </a:xfrm>
            <a:custGeom>
              <a:avLst/>
              <a:gdLst/>
              <a:ahLst/>
              <a:rect l="0" t="0" r="r" b="b"/>
              <a:pathLst>
                <a:path w="1187" h="1073">
                  <a:moveTo>
                    <a:pt x="1011" y="0"/>
                  </a:moveTo>
                  <a:lnTo>
                    <a:pt x="1115" y="102"/>
                  </a:lnTo>
                  <a:lnTo>
                    <a:pt x="1172" y="242"/>
                  </a:lnTo>
                  <a:lnTo>
                    <a:pt x="1187" y="376"/>
                  </a:lnTo>
                  <a:lnTo>
                    <a:pt x="1160" y="557"/>
                  </a:lnTo>
                  <a:lnTo>
                    <a:pt x="1103" y="736"/>
                  </a:lnTo>
                  <a:lnTo>
                    <a:pt x="1002" y="879"/>
                  </a:lnTo>
                  <a:lnTo>
                    <a:pt x="812" y="994"/>
                  </a:lnTo>
                  <a:lnTo>
                    <a:pt x="800" y="997"/>
                  </a:lnTo>
                  <a:lnTo>
                    <a:pt x="625" y="1061"/>
                  </a:lnTo>
                  <a:lnTo>
                    <a:pt x="386" y="1073"/>
                  </a:lnTo>
                  <a:lnTo>
                    <a:pt x="172" y="1061"/>
                  </a:lnTo>
                  <a:lnTo>
                    <a:pt x="0" y="994"/>
                  </a:lnTo>
                  <a:lnTo>
                    <a:pt x="196" y="997"/>
                  </a:lnTo>
                  <a:lnTo>
                    <a:pt x="365" y="994"/>
                  </a:lnTo>
                  <a:lnTo>
                    <a:pt x="538" y="946"/>
                  </a:lnTo>
                  <a:lnTo>
                    <a:pt x="696" y="891"/>
                  </a:lnTo>
                  <a:lnTo>
                    <a:pt x="791" y="831"/>
                  </a:lnTo>
                  <a:lnTo>
                    <a:pt x="889" y="754"/>
                  </a:lnTo>
                  <a:lnTo>
                    <a:pt x="964" y="660"/>
                  </a:lnTo>
                  <a:lnTo>
                    <a:pt x="1035" y="548"/>
                  </a:lnTo>
                  <a:lnTo>
                    <a:pt x="1065" y="442"/>
                  </a:lnTo>
                  <a:lnTo>
                    <a:pt x="1086" y="300"/>
                  </a:lnTo>
                  <a:lnTo>
                    <a:pt x="1056" y="142"/>
                  </a:lnTo>
                  <a:lnTo>
                    <a:pt x="1017" y="45"/>
                  </a:lnTo>
                  <a:lnTo>
                    <a:pt x="101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174760" y="5275440"/>
              <a:ext cx="381240" cy="167040"/>
            </a:xfrm>
            <a:custGeom>
              <a:avLst/>
              <a:gdLst/>
              <a:ahLst/>
              <a:rect l="0" t="0" r="r" b="b"/>
              <a:pathLst>
                <a:path w="1059" h="464">
                  <a:moveTo>
                    <a:pt x="142" y="351"/>
                  </a:moveTo>
                  <a:lnTo>
                    <a:pt x="65" y="397"/>
                  </a:lnTo>
                  <a:lnTo>
                    <a:pt x="0" y="418"/>
                  </a:lnTo>
                  <a:lnTo>
                    <a:pt x="0" y="445"/>
                  </a:lnTo>
                  <a:lnTo>
                    <a:pt x="47" y="464"/>
                  </a:lnTo>
                  <a:lnTo>
                    <a:pt x="104" y="454"/>
                  </a:lnTo>
                  <a:lnTo>
                    <a:pt x="208" y="418"/>
                  </a:lnTo>
                  <a:lnTo>
                    <a:pt x="395" y="351"/>
                  </a:lnTo>
                  <a:lnTo>
                    <a:pt x="583" y="308"/>
                  </a:lnTo>
                  <a:lnTo>
                    <a:pt x="708" y="278"/>
                  </a:lnTo>
                  <a:lnTo>
                    <a:pt x="815" y="287"/>
                  </a:lnTo>
                  <a:lnTo>
                    <a:pt x="895" y="299"/>
                  </a:lnTo>
                  <a:lnTo>
                    <a:pt x="990" y="326"/>
                  </a:lnTo>
                  <a:lnTo>
                    <a:pt x="1047" y="326"/>
                  </a:lnTo>
                  <a:lnTo>
                    <a:pt x="1059" y="293"/>
                  </a:lnTo>
                  <a:lnTo>
                    <a:pt x="1038" y="262"/>
                  </a:lnTo>
                  <a:lnTo>
                    <a:pt x="1011" y="244"/>
                  </a:lnTo>
                  <a:lnTo>
                    <a:pt x="943" y="231"/>
                  </a:lnTo>
                  <a:lnTo>
                    <a:pt x="872" y="219"/>
                  </a:lnTo>
                  <a:lnTo>
                    <a:pt x="863" y="194"/>
                  </a:lnTo>
                  <a:lnTo>
                    <a:pt x="886" y="164"/>
                  </a:lnTo>
                  <a:lnTo>
                    <a:pt x="937" y="146"/>
                  </a:lnTo>
                  <a:lnTo>
                    <a:pt x="999" y="97"/>
                  </a:lnTo>
                  <a:lnTo>
                    <a:pt x="1014" y="36"/>
                  </a:lnTo>
                  <a:lnTo>
                    <a:pt x="967" y="0"/>
                  </a:lnTo>
                  <a:lnTo>
                    <a:pt x="937" y="18"/>
                  </a:lnTo>
                  <a:lnTo>
                    <a:pt x="916" y="67"/>
                  </a:lnTo>
                  <a:lnTo>
                    <a:pt x="863" y="115"/>
                  </a:lnTo>
                  <a:lnTo>
                    <a:pt x="794" y="155"/>
                  </a:lnTo>
                  <a:lnTo>
                    <a:pt x="738" y="191"/>
                  </a:lnTo>
                  <a:lnTo>
                    <a:pt x="607" y="228"/>
                  </a:lnTo>
                  <a:lnTo>
                    <a:pt x="484" y="250"/>
                  </a:lnTo>
                  <a:lnTo>
                    <a:pt x="356" y="287"/>
                  </a:lnTo>
                  <a:lnTo>
                    <a:pt x="225" y="326"/>
                  </a:lnTo>
                  <a:lnTo>
                    <a:pt x="142" y="351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2023920" y="4854600"/>
              <a:ext cx="284400" cy="313200"/>
              <a:chOff x="2023920" y="4854600"/>
              <a:chExt cx="284400" cy="313200"/>
            </a:xfrm>
          </p:grpSpPr>
          <p:sp>
            <p:nvSpPr>
              <p:cNvPr id="1049" name=""/>
              <p:cNvSpPr/>
              <p:nvPr/>
            </p:nvSpPr>
            <p:spPr>
              <a:xfrm>
                <a:off x="2066760" y="4865760"/>
                <a:ext cx="221040" cy="233640"/>
              </a:xfrm>
              <a:custGeom>
                <a:avLst/>
                <a:gdLst/>
                <a:ahLst/>
                <a:rect l="0" t="0" r="r" b="b"/>
                <a:pathLst>
                  <a:path w="614" h="649">
                    <a:moveTo>
                      <a:pt x="453" y="649"/>
                    </a:moveTo>
                    <a:lnTo>
                      <a:pt x="480" y="421"/>
                    </a:lnTo>
                    <a:lnTo>
                      <a:pt x="531" y="271"/>
                    </a:lnTo>
                    <a:lnTo>
                      <a:pt x="592" y="142"/>
                    </a:lnTo>
                    <a:lnTo>
                      <a:pt x="614" y="81"/>
                    </a:lnTo>
                    <a:lnTo>
                      <a:pt x="456" y="33"/>
                    </a:lnTo>
                    <a:lnTo>
                      <a:pt x="289" y="0"/>
                    </a:lnTo>
                    <a:lnTo>
                      <a:pt x="102" y="10"/>
                    </a:lnTo>
                    <a:lnTo>
                      <a:pt x="12" y="40"/>
                    </a:lnTo>
                    <a:lnTo>
                      <a:pt x="0" y="95"/>
                    </a:lnTo>
                    <a:lnTo>
                      <a:pt x="48" y="274"/>
                    </a:lnTo>
                    <a:lnTo>
                      <a:pt x="48" y="425"/>
                    </a:lnTo>
                    <a:lnTo>
                      <a:pt x="44" y="540"/>
                    </a:lnTo>
                    <a:lnTo>
                      <a:pt x="38" y="574"/>
                    </a:lnTo>
                    <a:lnTo>
                      <a:pt x="273" y="577"/>
                    </a:lnTo>
                    <a:lnTo>
                      <a:pt x="408" y="645"/>
                    </a:lnTo>
                    <a:lnTo>
                      <a:pt x="453" y="649"/>
                    </a:lnTo>
                    <a:close/>
                  </a:path>
                </a:pathLst>
              </a:custGeom>
              <a:blipFill rotWithShape="0">
                <a:blip r:embed="rId1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098800" y="5008680"/>
                <a:ext cx="154440" cy="79560"/>
              </a:xfrm>
              <a:custGeom>
                <a:avLst/>
                <a:gdLst/>
                <a:ahLst/>
                <a:rect l="0" t="0" r="r" b="b"/>
                <a:pathLst>
                  <a:path w="429" h="221">
                    <a:moveTo>
                      <a:pt x="29" y="0"/>
                    </a:moveTo>
                    <a:lnTo>
                      <a:pt x="154" y="0"/>
                    </a:lnTo>
                    <a:lnTo>
                      <a:pt x="278" y="29"/>
                    </a:lnTo>
                    <a:lnTo>
                      <a:pt x="429" y="100"/>
                    </a:lnTo>
                    <a:lnTo>
                      <a:pt x="420" y="221"/>
                    </a:lnTo>
                    <a:lnTo>
                      <a:pt x="263" y="143"/>
                    </a:lnTo>
                    <a:lnTo>
                      <a:pt x="133" y="100"/>
                    </a:lnTo>
                    <a:lnTo>
                      <a:pt x="0" y="104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052720" y="4854600"/>
                <a:ext cx="251280" cy="244800"/>
              </a:xfrm>
              <a:custGeom>
                <a:avLst/>
                <a:gdLst/>
                <a:ahLst/>
                <a:rect l="0" t="0" r="r" b="b"/>
                <a:pathLst>
                  <a:path w="698" h="680">
                    <a:moveTo>
                      <a:pt x="47" y="533"/>
                    </a:moveTo>
                    <a:lnTo>
                      <a:pt x="60" y="413"/>
                    </a:lnTo>
                    <a:lnTo>
                      <a:pt x="54" y="306"/>
                    </a:lnTo>
                    <a:lnTo>
                      <a:pt x="31" y="213"/>
                    </a:lnTo>
                    <a:lnTo>
                      <a:pt x="0" y="119"/>
                    </a:lnTo>
                    <a:lnTo>
                      <a:pt x="6" y="66"/>
                    </a:lnTo>
                    <a:lnTo>
                      <a:pt x="28" y="26"/>
                    </a:lnTo>
                    <a:lnTo>
                      <a:pt x="104" y="13"/>
                    </a:lnTo>
                    <a:lnTo>
                      <a:pt x="252" y="0"/>
                    </a:lnTo>
                    <a:lnTo>
                      <a:pt x="417" y="16"/>
                    </a:lnTo>
                    <a:lnTo>
                      <a:pt x="430" y="26"/>
                    </a:lnTo>
                    <a:lnTo>
                      <a:pt x="574" y="56"/>
                    </a:lnTo>
                    <a:lnTo>
                      <a:pt x="692" y="96"/>
                    </a:lnTo>
                    <a:lnTo>
                      <a:pt x="698" y="119"/>
                    </a:lnTo>
                    <a:lnTo>
                      <a:pt x="679" y="169"/>
                    </a:lnTo>
                    <a:lnTo>
                      <a:pt x="606" y="292"/>
                    </a:lnTo>
                    <a:lnTo>
                      <a:pt x="571" y="390"/>
                    </a:lnTo>
                    <a:lnTo>
                      <a:pt x="546" y="500"/>
                    </a:lnTo>
                    <a:lnTo>
                      <a:pt x="533" y="593"/>
                    </a:lnTo>
                    <a:lnTo>
                      <a:pt x="530" y="660"/>
                    </a:lnTo>
                    <a:lnTo>
                      <a:pt x="533" y="680"/>
                    </a:lnTo>
                    <a:lnTo>
                      <a:pt x="484" y="663"/>
                    </a:lnTo>
                    <a:lnTo>
                      <a:pt x="487" y="543"/>
                    </a:lnTo>
                    <a:lnTo>
                      <a:pt x="516" y="423"/>
                    </a:lnTo>
                    <a:lnTo>
                      <a:pt x="546" y="309"/>
                    </a:lnTo>
                    <a:lnTo>
                      <a:pt x="596" y="203"/>
                    </a:lnTo>
                    <a:lnTo>
                      <a:pt x="635" y="123"/>
                    </a:lnTo>
                    <a:lnTo>
                      <a:pt x="539" y="89"/>
                    </a:lnTo>
                    <a:lnTo>
                      <a:pt x="398" y="69"/>
                    </a:lnTo>
                    <a:lnTo>
                      <a:pt x="258" y="46"/>
                    </a:lnTo>
                    <a:lnTo>
                      <a:pt x="143" y="63"/>
                    </a:lnTo>
                    <a:lnTo>
                      <a:pt x="66" y="93"/>
                    </a:lnTo>
                    <a:lnTo>
                      <a:pt x="66" y="133"/>
                    </a:lnTo>
                    <a:lnTo>
                      <a:pt x="95" y="239"/>
                    </a:lnTo>
                    <a:lnTo>
                      <a:pt x="120" y="347"/>
                    </a:lnTo>
                    <a:lnTo>
                      <a:pt x="108" y="477"/>
                    </a:lnTo>
                    <a:lnTo>
                      <a:pt x="98" y="570"/>
                    </a:lnTo>
                    <a:lnTo>
                      <a:pt x="47" y="573"/>
                    </a:lnTo>
                    <a:lnTo>
                      <a:pt x="47" y="5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036880" y="5041800"/>
                <a:ext cx="259200" cy="113040"/>
              </a:xfrm>
              <a:custGeom>
                <a:avLst/>
                <a:gdLst/>
                <a:ahLst/>
                <a:rect l="0" t="0" r="r" b="b"/>
                <a:pathLst>
                  <a:path w="720" h="314">
                    <a:moveTo>
                      <a:pt x="87" y="29"/>
                    </a:moveTo>
                    <a:lnTo>
                      <a:pt x="210" y="0"/>
                    </a:lnTo>
                    <a:lnTo>
                      <a:pt x="315" y="16"/>
                    </a:lnTo>
                    <a:lnTo>
                      <a:pt x="454" y="56"/>
                    </a:lnTo>
                    <a:lnTo>
                      <a:pt x="552" y="99"/>
                    </a:lnTo>
                    <a:lnTo>
                      <a:pt x="653" y="153"/>
                    </a:lnTo>
                    <a:lnTo>
                      <a:pt x="712" y="214"/>
                    </a:lnTo>
                    <a:lnTo>
                      <a:pt x="717" y="230"/>
                    </a:lnTo>
                    <a:lnTo>
                      <a:pt x="720" y="267"/>
                    </a:lnTo>
                    <a:lnTo>
                      <a:pt x="700" y="307"/>
                    </a:lnTo>
                    <a:lnTo>
                      <a:pt x="656" y="314"/>
                    </a:lnTo>
                    <a:lnTo>
                      <a:pt x="592" y="277"/>
                    </a:lnTo>
                    <a:lnTo>
                      <a:pt x="478" y="197"/>
                    </a:lnTo>
                    <a:lnTo>
                      <a:pt x="361" y="153"/>
                    </a:lnTo>
                    <a:lnTo>
                      <a:pt x="248" y="133"/>
                    </a:lnTo>
                    <a:lnTo>
                      <a:pt x="165" y="139"/>
                    </a:lnTo>
                    <a:lnTo>
                      <a:pt x="64" y="143"/>
                    </a:lnTo>
                    <a:lnTo>
                      <a:pt x="11" y="136"/>
                    </a:lnTo>
                    <a:lnTo>
                      <a:pt x="0" y="93"/>
                    </a:lnTo>
                    <a:lnTo>
                      <a:pt x="37" y="59"/>
                    </a:lnTo>
                    <a:lnTo>
                      <a:pt x="87" y="29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023920" y="5032440"/>
                <a:ext cx="284400" cy="135360"/>
              </a:xfrm>
              <a:custGeom>
                <a:avLst/>
                <a:gdLst/>
                <a:ahLst/>
                <a:rect l="0" t="0" r="r" b="b"/>
                <a:pathLst>
                  <a:path w="790" h="376">
                    <a:moveTo>
                      <a:pt x="661" y="116"/>
                    </a:moveTo>
                    <a:lnTo>
                      <a:pt x="666" y="125"/>
                    </a:lnTo>
                    <a:lnTo>
                      <a:pt x="750" y="191"/>
                    </a:lnTo>
                    <a:lnTo>
                      <a:pt x="790" y="267"/>
                    </a:lnTo>
                    <a:lnTo>
                      <a:pt x="775" y="330"/>
                    </a:lnTo>
                    <a:lnTo>
                      <a:pt x="738" y="366"/>
                    </a:lnTo>
                    <a:lnTo>
                      <a:pt x="698" y="376"/>
                    </a:lnTo>
                    <a:lnTo>
                      <a:pt x="661" y="357"/>
                    </a:lnTo>
                    <a:lnTo>
                      <a:pt x="603" y="320"/>
                    </a:lnTo>
                    <a:lnTo>
                      <a:pt x="491" y="254"/>
                    </a:lnTo>
                    <a:lnTo>
                      <a:pt x="397" y="208"/>
                    </a:lnTo>
                    <a:lnTo>
                      <a:pt x="292" y="188"/>
                    </a:lnTo>
                    <a:lnTo>
                      <a:pt x="212" y="194"/>
                    </a:lnTo>
                    <a:lnTo>
                      <a:pt x="129" y="198"/>
                    </a:lnTo>
                    <a:lnTo>
                      <a:pt x="68" y="201"/>
                    </a:lnTo>
                    <a:lnTo>
                      <a:pt x="14" y="162"/>
                    </a:lnTo>
                    <a:lnTo>
                      <a:pt x="0" y="119"/>
                    </a:lnTo>
                    <a:lnTo>
                      <a:pt x="20" y="72"/>
                    </a:lnTo>
                    <a:lnTo>
                      <a:pt x="83" y="36"/>
                    </a:lnTo>
                    <a:lnTo>
                      <a:pt x="175" y="0"/>
                    </a:lnTo>
                    <a:lnTo>
                      <a:pt x="232" y="9"/>
                    </a:lnTo>
                    <a:lnTo>
                      <a:pt x="221" y="52"/>
                    </a:lnTo>
                    <a:lnTo>
                      <a:pt x="134" y="62"/>
                    </a:lnTo>
                    <a:lnTo>
                      <a:pt x="68" y="92"/>
                    </a:lnTo>
                    <a:lnTo>
                      <a:pt x="48" y="112"/>
                    </a:lnTo>
                    <a:lnTo>
                      <a:pt x="54" y="139"/>
                    </a:lnTo>
                    <a:lnTo>
                      <a:pt x="80" y="155"/>
                    </a:lnTo>
                    <a:lnTo>
                      <a:pt x="143" y="152"/>
                    </a:lnTo>
                    <a:lnTo>
                      <a:pt x="232" y="142"/>
                    </a:lnTo>
                    <a:lnTo>
                      <a:pt x="309" y="139"/>
                    </a:lnTo>
                    <a:lnTo>
                      <a:pt x="405" y="152"/>
                    </a:lnTo>
                    <a:lnTo>
                      <a:pt x="506" y="194"/>
                    </a:lnTo>
                    <a:lnTo>
                      <a:pt x="603" y="254"/>
                    </a:lnTo>
                    <a:lnTo>
                      <a:pt x="675" y="307"/>
                    </a:lnTo>
                    <a:lnTo>
                      <a:pt x="712" y="314"/>
                    </a:lnTo>
                    <a:lnTo>
                      <a:pt x="732" y="294"/>
                    </a:lnTo>
                    <a:lnTo>
                      <a:pt x="738" y="267"/>
                    </a:lnTo>
                    <a:lnTo>
                      <a:pt x="727" y="234"/>
                    </a:lnTo>
                    <a:lnTo>
                      <a:pt x="687" y="191"/>
                    </a:lnTo>
                    <a:lnTo>
                      <a:pt x="618" y="142"/>
                    </a:lnTo>
                    <a:lnTo>
                      <a:pt x="514" y="99"/>
                    </a:lnTo>
                    <a:lnTo>
                      <a:pt x="408" y="62"/>
                    </a:lnTo>
                    <a:lnTo>
                      <a:pt x="309" y="42"/>
                    </a:lnTo>
                    <a:lnTo>
                      <a:pt x="223" y="49"/>
                    </a:lnTo>
                    <a:lnTo>
                      <a:pt x="241" y="6"/>
                    </a:lnTo>
                    <a:lnTo>
                      <a:pt x="335" y="6"/>
                    </a:lnTo>
                    <a:lnTo>
                      <a:pt x="434" y="23"/>
                    </a:lnTo>
                    <a:lnTo>
                      <a:pt x="506" y="46"/>
                    </a:lnTo>
                    <a:lnTo>
                      <a:pt x="618" y="106"/>
                    </a:lnTo>
                    <a:lnTo>
                      <a:pt x="661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4" name=""/>
            <p:cNvSpPr/>
            <p:nvPr/>
          </p:nvSpPr>
          <p:spPr>
            <a:xfrm>
              <a:off x="1746360" y="5330880"/>
              <a:ext cx="601920" cy="689400"/>
            </a:xfrm>
            <a:custGeom>
              <a:avLst/>
              <a:gdLst/>
              <a:ahLst/>
              <a:rect l="0" t="0" r="r" b="b"/>
              <a:pathLst>
                <a:path w="1672" h="1915">
                  <a:moveTo>
                    <a:pt x="365" y="133"/>
                  </a:moveTo>
                  <a:lnTo>
                    <a:pt x="431" y="78"/>
                  </a:lnTo>
                  <a:lnTo>
                    <a:pt x="502" y="39"/>
                  </a:lnTo>
                  <a:lnTo>
                    <a:pt x="579" y="27"/>
                  </a:lnTo>
                  <a:lnTo>
                    <a:pt x="609" y="36"/>
                  </a:lnTo>
                  <a:lnTo>
                    <a:pt x="627" y="60"/>
                  </a:lnTo>
                  <a:lnTo>
                    <a:pt x="600" y="93"/>
                  </a:lnTo>
                  <a:lnTo>
                    <a:pt x="532" y="112"/>
                  </a:lnTo>
                  <a:lnTo>
                    <a:pt x="440" y="151"/>
                  </a:lnTo>
                  <a:lnTo>
                    <a:pt x="392" y="202"/>
                  </a:lnTo>
                  <a:lnTo>
                    <a:pt x="344" y="275"/>
                  </a:lnTo>
                  <a:lnTo>
                    <a:pt x="327" y="342"/>
                  </a:lnTo>
                  <a:lnTo>
                    <a:pt x="327" y="354"/>
                  </a:lnTo>
                  <a:lnTo>
                    <a:pt x="324" y="439"/>
                  </a:lnTo>
                  <a:lnTo>
                    <a:pt x="336" y="527"/>
                  </a:lnTo>
                  <a:lnTo>
                    <a:pt x="362" y="615"/>
                  </a:lnTo>
                  <a:lnTo>
                    <a:pt x="392" y="664"/>
                  </a:lnTo>
                  <a:lnTo>
                    <a:pt x="440" y="715"/>
                  </a:lnTo>
                  <a:lnTo>
                    <a:pt x="493" y="755"/>
                  </a:lnTo>
                  <a:lnTo>
                    <a:pt x="505" y="788"/>
                  </a:lnTo>
                  <a:lnTo>
                    <a:pt x="484" y="806"/>
                  </a:lnTo>
                  <a:lnTo>
                    <a:pt x="469" y="815"/>
                  </a:lnTo>
                  <a:lnTo>
                    <a:pt x="446" y="812"/>
                  </a:lnTo>
                  <a:lnTo>
                    <a:pt x="383" y="779"/>
                  </a:lnTo>
                  <a:lnTo>
                    <a:pt x="333" y="745"/>
                  </a:lnTo>
                  <a:lnTo>
                    <a:pt x="270" y="758"/>
                  </a:lnTo>
                  <a:lnTo>
                    <a:pt x="196" y="821"/>
                  </a:lnTo>
                  <a:lnTo>
                    <a:pt x="127" y="903"/>
                  </a:lnTo>
                  <a:lnTo>
                    <a:pt x="89" y="985"/>
                  </a:lnTo>
                  <a:lnTo>
                    <a:pt x="65" y="1079"/>
                  </a:lnTo>
                  <a:lnTo>
                    <a:pt x="56" y="1185"/>
                  </a:lnTo>
                  <a:lnTo>
                    <a:pt x="65" y="1284"/>
                  </a:lnTo>
                  <a:lnTo>
                    <a:pt x="83" y="1400"/>
                  </a:lnTo>
                  <a:lnTo>
                    <a:pt x="113" y="1507"/>
                  </a:lnTo>
                  <a:lnTo>
                    <a:pt x="154" y="1588"/>
                  </a:lnTo>
                  <a:lnTo>
                    <a:pt x="205" y="1631"/>
                  </a:lnTo>
                  <a:lnTo>
                    <a:pt x="276" y="1688"/>
                  </a:lnTo>
                  <a:lnTo>
                    <a:pt x="362" y="1746"/>
                  </a:lnTo>
                  <a:lnTo>
                    <a:pt x="449" y="1791"/>
                  </a:lnTo>
                  <a:lnTo>
                    <a:pt x="544" y="1828"/>
                  </a:lnTo>
                  <a:lnTo>
                    <a:pt x="639" y="1855"/>
                  </a:lnTo>
                  <a:lnTo>
                    <a:pt x="749" y="1858"/>
                  </a:lnTo>
                  <a:lnTo>
                    <a:pt x="890" y="1855"/>
                  </a:lnTo>
                  <a:lnTo>
                    <a:pt x="1023" y="1840"/>
                  </a:lnTo>
                  <a:lnTo>
                    <a:pt x="1139" y="1812"/>
                  </a:lnTo>
                  <a:lnTo>
                    <a:pt x="1235" y="1770"/>
                  </a:lnTo>
                  <a:lnTo>
                    <a:pt x="1339" y="1722"/>
                  </a:lnTo>
                  <a:lnTo>
                    <a:pt x="1431" y="1655"/>
                  </a:lnTo>
                  <a:lnTo>
                    <a:pt x="1502" y="1579"/>
                  </a:lnTo>
                  <a:lnTo>
                    <a:pt x="1550" y="1497"/>
                  </a:lnTo>
                  <a:lnTo>
                    <a:pt x="1580" y="1390"/>
                  </a:lnTo>
                  <a:lnTo>
                    <a:pt x="1597" y="1281"/>
                  </a:lnTo>
                  <a:lnTo>
                    <a:pt x="1606" y="1188"/>
                  </a:lnTo>
                  <a:lnTo>
                    <a:pt x="1597" y="1094"/>
                  </a:lnTo>
                  <a:lnTo>
                    <a:pt x="1571" y="1015"/>
                  </a:lnTo>
                  <a:lnTo>
                    <a:pt x="1541" y="939"/>
                  </a:lnTo>
                  <a:lnTo>
                    <a:pt x="1496" y="873"/>
                  </a:lnTo>
                  <a:lnTo>
                    <a:pt x="1446" y="803"/>
                  </a:lnTo>
                  <a:lnTo>
                    <a:pt x="1419" y="773"/>
                  </a:lnTo>
                  <a:lnTo>
                    <a:pt x="1380" y="730"/>
                  </a:lnTo>
                  <a:lnTo>
                    <a:pt x="1336" y="706"/>
                  </a:lnTo>
                  <a:lnTo>
                    <a:pt x="1318" y="673"/>
                  </a:lnTo>
                  <a:lnTo>
                    <a:pt x="1333" y="649"/>
                  </a:lnTo>
                  <a:lnTo>
                    <a:pt x="1365" y="615"/>
                  </a:lnTo>
                  <a:lnTo>
                    <a:pt x="1401" y="555"/>
                  </a:lnTo>
                  <a:lnTo>
                    <a:pt x="1410" y="482"/>
                  </a:lnTo>
                  <a:lnTo>
                    <a:pt x="1413" y="393"/>
                  </a:lnTo>
                  <a:lnTo>
                    <a:pt x="1392" y="308"/>
                  </a:lnTo>
                  <a:lnTo>
                    <a:pt x="1371" y="257"/>
                  </a:lnTo>
                  <a:lnTo>
                    <a:pt x="1336" y="202"/>
                  </a:lnTo>
                  <a:lnTo>
                    <a:pt x="1282" y="160"/>
                  </a:lnTo>
                  <a:lnTo>
                    <a:pt x="1252" y="124"/>
                  </a:lnTo>
                  <a:lnTo>
                    <a:pt x="1193" y="93"/>
                  </a:lnTo>
                  <a:lnTo>
                    <a:pt x="1139" y="78"/>
                  </a:lnTo>
                  <a:lnTo>
                    <a:pt x="1092" y="66"/>
                  </a:lnTo>
                  <a:lnTo>
                    <a:pt x="1098" y="45"/>
                  </a:lnTo>
                  <a:lnTo>
                    <a:pt x="1163" y="18"/>
                  </a:lnTo>
                  <a:lnTo>
                    <a:pt x="1196" y="0"/>
                  </a:lnTo>
                  <a:lnTo>
                    <a:pt x="1276" y="60"/>
                  </a:lnTo>
                  <a:lnTo>
                    <a:pt x="1354" y="124"/>
                  </a:lnTo>
                  <a:lnTo>
                    <a:pt x="1404" y="190"/>
                  </a:lnTo>
                  <a:lnTo>
                    <a:pt x="1446" y="269"/>
                  </a:lnTo>
                  <a:lnTo>
                    <a:pt x="1470" y="366"/>
                  </a:lnTo>
                  <a:lnTo>
                    <a:pt x="1478" y="439"/>
                  </a:lnTo>
                  <a:lnTo>
                    <a:pt x="1476" y="524"/>
                  </a:lnTo>
                  <a:lnTo>
                    <a:pt x="1452" y="597"/>
                  </a:lnTo>
                  <a:lnTo>
                    <a:pt x="1422" y="652"/>
                  </a:lnTo>
                  <a:lnTo>
                    <a:pt x="1419" y="679"/>
                  </a:lnTo>
                  <a:lnTo>
                    <a:pt x="1440" y="706"/>
                  </a:lnTo>
                  <a:lnTo>
                    <a:pt x="1508" y="779"/>
                  </a:lnTo>
                  <a:lnTo>
                    <a:pt x="1571" y="870"/>
                  </a:lnTo>
                  <a:lnTo>
                    <a:pt x="1615" y="948"/>
                  </a:lnTo>
                  <a:lnTo>
                    <a:pt x="1654" y="1027"/>
                  </a:lnTo>
                  <a:lnTo>
                    <a:pt x="1672" y="1127"/>
                  </a:lnTo>
                  <a:lnTo>
                    <a:pt x="1672" y="1224"/>
                  </a:lnTo>
                  <a:lnTo>
                    <a:pt x="1657" y="1321"/>
                  </a:lnTo>
                  <a:lnTo>
                    <a:pt x="1627" y="1437"/>
                  </a:lnTo>
                  <a:lnTo>
                    <a:pt x="1597" y="1540"/>
                  </a:lnTo>
                  <a:lnTo>
                    <a:pt x="1544" y="1628"/>
                  </a:lnTo>
                  <a:lnTo>
                    <a:pt x="1493" y="1688"/>
                  </a:lnTo>
                  <a:lnTo>
                    <a:pt x="1419" y="1755"/>
                  </a:lnTo>
                  <a:lnTo>
                    <a:pt x="1327" y="1803"/>
                  </a:lnTo>
                  <a:lnTo>
                    <a:pt x="1226" y="1846"/>
                  </a:lnTo>
                  <a:lnTo>
                    <a:pt x="1136" y="1876"/>
                  </a:lnTo>
                  <a:lnTo>
                    <a:pt x="1041" y="1903"/>
                  </a:lnTo>
                  <a:lnTo>
                    <a:pt x="896" y="1912"/>
                  </a:lnTo>
                  <a:lnTo>
                    <a:pt x="734" y="1915"/>
                  </a:lnTo>
                  <a:lnTo>
                    <a:pt x="591" y="1915"/>
                  </a:lnTo>
                  <a:lnTo>
                    <a:pt x="469" y="1879"/>
                  </a:lnTo>
                  <a:lnTo>
                    <a:pt x="344" y="1803"/>
                  </a:lnTo>
                  <a:lnTo>
                    <a:pt x="214" y="1722"/>
                  </a:lnTo>
                  <a:lnTo>
                    <a:pt x="118" y="1637"/>
                  </a:lnTo>
                  <a:lnTo>
                    <a:pt x="56" y="1552"/>
                  </a:lnTo>
                  <a:lnTo>
                    <a:pt x="32" y="1437"/>
                  </a:lnTo>
                  <a:lnTo>
                    <a:pt x="5" y="1324"/>
                  </a:lnTo>
                  <a:lnTo>
                    <a:pt x="0" y="1224"/>
                  </a:lnTo>
                  <a:lnTo>
                    <a:pt x="0" y="1103"/>
                  </a:lnTo>
                  <a:lnTo>
                    <a:pt x="35" y="988"/>
                  </a:lnTo>
                  <a:lnTo>
                    <a:pt x="65" y="897"/>
                  </a:lnTo>
                  <a:lnTo>
                    <a:pt x="139" y="785"/>
                  </a:lnTo>
                  <a:lnTo>
                    <a:pt x="231" y="700"/>
                  </a:lnTo>
                  <a:lnTo>
                    <a:pt x="270" y="652"/>
                  </a:lnTo>
                  <a:lnTo>
                    <a:pt x="279" y="603"/>
                  </a:lnTo>
                  <a:lnTo>
                    <a:pt x="279" y="533"/>
                  </a:lnTo>
                  <a:lnTo>
                    <a:pt x="258" y="448"/>
                  </a:lnTo>
                  <a:lnTo>
                    <a:pt x="258" y="357"/>
                  </a:lnTo>
                  <a:lnTo>
                    <a:pt x="276" y="269"/>
                  </a:lnTo>
                  <a:lnTo>
                    <a:pt x="306" y="202"/>
                  </a:lnTo>
                  <a:lnTo>
                    <a:pt x="339" y="163"/>
                  </a:lnTo>
                  <a:lnTo>
                    <a:pt x="3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304920" y="1244520"/>
            <a:ext cx="8242200" cy="4597560"/>
            <a:chOff x="304920" y="1244520"/>
            <a:chExt cx="8242200" cy="4597560"/>
          </a:xfrm>
        </p:grpSpPr>
        <p:sp>
          <p:nvSpPr>
            <p:cNvPr id="1056" name=""/>
            <p:cNvSpPr/>
            <p:nvPr/>
          </p:nvSpPr>
          <p:spPr>
            <a:xfrm>
              <a:off x="609480" y="2552760"/>
              <a:ext cx="34308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410080" y="4406760"/>
              <a:ext cx="228600" cy="24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447920" y="13590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92640" y="49402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730600" y="4013280"/>
              <a:ext cx="216000" cy="203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166240" y="38354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613480" y="2108160"/>
              <a:ext cx="27936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717640" y="1739880"/>
              <a:ext cx="190440" cy="190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204040" y="5537160"/>
              <a:ext cx="29196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57880" y="2374920"/>
              <a:ext cx="152280" cy="190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68280" y="37972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27800" y="14223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04920" y="1244520"/>
              <a:ext cx="190440" cy="190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873600" y="4038480"/>
              <a:ext cx="241200" cy="254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2628720" y="2387520"/>
            <a:ext cx="5052960" cy="3923280"/>
            <a:chOff x="2628720" y="2387520"/>
            <a:chExt cx="5052960" cy="3923280"/>
          </a:xfrm>
        </p:grpSpPr>
        <p:pic>
          <p:nvPicPr>
            <p:cNvPr id="1071" name="" descr=""/>
            <p:cNvPicPr/>
            <p:nvPr/>
          </p:nvPicPr>
          <p:blipFill>
            <a:blip r:embed="rId4"/>
            <a:stretch/>
          </p:blipFill>
          <p:spPr>
            <a:xfrm>
              <a:off x="5029200" y="5207040"/>
              <a:ext cx="35388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5"/>
            <a:stretch/>
          </p:blipFill>
          <p:spPr>
            <a:xfrm>
              <a:off x="5856120" y="5168880"/>
              <a:ext cx="35388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6"/>
            <a:stretch/>
          </p:blipFill>
          <p:spPr>
            <a:xfrm>
              <a:off x="6248520" y="5181480"/>
              <a:ext cx="35388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7"/>
            <a:stretch/>
          </p:blipFill>
          <p:spPr>
            <a:xfrm>
              <a:off x="7327800" y="5092560"/>
              <a:ext cx="35388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5" name=""/>
            <p:cNvGrpSpPr/>
            <p:nvPr/>
          </p:nvGrpSpPr>
          <p:grpSpPr>
            <a:xfrm>
              <a:off x="2628720" y="2387520"/>
              <a:ext cx="2139120" cy="3923280"/>
              <a:chOff x="2628720" y="2387520"/>
              <a:chExt cx="2139120" cy="3923280"/>
            </a:xfrm>
          </p:grpSpPr>
          <p:sp>
            <p:nvSpPr>
              <p:cNvPr id="1076" name=""/>
              <p:cNvSpPr/>
              <p:nvPr/>
            </p:nvSpPr>
            <p:spPr>
              <a:xfrm>
                <a:off x="2727360" y="3784680"/>
                <a:ext cx="1020960" cy="1035360"/>
              </a:xfrm>
              <a:custGeom>
                <a:avLst/>
                <a:gdLst/>
                <a:ahLst/>
                <a:rect l="0" t="0" r="r" b="b"/>
                <a:pathLst>
                  <a:path w="2836" h="2876">
                    <a:moveTo>
                      <a:pt x="2442" y="181"/>
                    </a:moveTo>
                    <a:lnTo>
                      <a:pt x="2273" y="58"/>
                    </a:lnTo>
                    <a:lnTo>
                      <a:pt x="1949" y="0"/>
                    </a:lnTo>
                    <a:lnTo>
                      <a:pt x="1549" y="213"/>
                    </a:lnTo>
                    <a:lnTo>
                      <a:pt x="956" y="453"/>
                    </a:lnTo>
                    <a:lnTo>
                      <a:pt x="498" y="874"/>
                    </a:lnTo>
                    <a:lnTo>
                      <a:pt x="133" y="1392"/>
                    </a:lnTo>
                    <a:lnTo>
                      <a:pt x="0" y="1697"/>
                    </a:lnTo>
                    <a:lnTo>
                      <a:pt x="34" y="1846"/>
                    </a:lnTo>
                    <a:lnTo>
                      <a:pt x="330" y="2028"/>
                    </a:lnTo>
                    <a:lnTo>
                      <a:pt x="1026" y="2118"/>
                    </a:lnTo>
                    <a:lnTo>
                      <a:pt x="1781" y="2086"/>
                    </a:lnTo>
                    <a:lnTo>
                      <a:pt x="2076" y="2209"/>
                    </a:lnTo>
                    <a:lnTo>
                      <a:pt x="2042" y="2417"/>
                    </a:lnTo>
                    <a:lnTo>
                      <a:pt x="1746" y="2721"/>
                    </a:lnTo>
                    <a:lnTo>
                      <a:pt x="1850" y="2785"/>
                    </a:lnTo>
                    <a:lnTo>
                      <a:pt x="2181" y="2481"/>
                    </a:lnTo>
                    <a:lnTo>
                      <a:pt x="2245" y="2513"/>
                    </a:lnTo>
                    <a:lnTo>
                      <a:pt x="2273" y="2876"/>
                    </a:lnTo>
                    <a:lnTo>
                      <a:pt x="2372" y="2876"/>
                    </a:lnTo>
                    <a:lnTo>
                      <a:pt x="2372" y="2454"/>
                    </a:lnTo>
                    <a:lnTo>
                      <a:pt x="2442" y="2417"/>
                    </a:lnTo>
                    <a:lnTo>
                      <a:pt x="2708" y="2662"/>
                    </a:lnTo>
                    <a:lnTo>
                      <a:pt x="2772" y="2572"/>
                    </a:lnTo>
                    <a:lnTo>
                      <a:pt x="2476" y="2332"/>
                    </a:lnTo>
                    <a:lnTo>
                      <a:pt x="2476" y="2241"/>
                    </a:lnTo>
                    <a:lnTo>
                      <a:pt x="2836" y="2086"/>
                    </a:lnTo>
                    <a:lnTo>
                      <a:pt x="2801" y="2028"/>
                    </a:lnTo>
                    <a:lnTo>
                      <a:pt x="2372" y="2086"/>
                    </a:lnTo>
                    <a:lnTo>
                      <a:pt x="2111" y="2028"/>
                    </a:lnTo>
                    <a:lnTo>
                      <a:pt x="1850" y="1937"/>
                    </a:lnTo>
                    <a:lnTo>
                      <a:pt x="1514" y="1910"/>
                    </a:lnTo>
                    <a:lnTo>
                      <a:pt x="1090" y="1878"/>
                    </a:lnTo>
                    <a:lnTo>
                      <a:pt x="661" y="1814"/>
                    </a:lnTo>
                    <a:lnTo>
                      <a:pt x="394" y="1665"/>
                    </a:lnTo>
                    <a:lnTo>
                      <a:pt x="394" y="1569"/>
                    </a:lnTo>
                    <a:lnTo>
                      <a:pt x="591" y="1301"/>
                    </a:lnTo>
                    <a:lnTo>
                      <a:pt x="956" y="1061"/>
                    </a:lnTo>
                    <a:lnTo>
                      <a:pt x="1351" y="874"/>
                    </a:lnTo>
                    <a:lnTo>
                      <a:pt x="1978" y="725"/>
                    </a:lnTo>
                    <a:lnTo>
                      <a:pt x="2337" y="544"/>
                    </a:lnTo>
                    <a:lnTo>
                      <a:pt x="2442" y="181"/>
                    </a:lnTo>
                    <a:close/>
                  </a:path>
                </a:pathLst>
              </a:custGeom>
              <a:solidFill>
                <a:srgbClr val="66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321000" y="2727360"/>
                <a:ext cx="1235520" cy="1070280"/>
              </a:xfrm>
              <a:custGeom>
                <a:avLst/>
                <a:gdLst/>
                <a:ahLst/>
                <a:rect l="0" t="0" r="r" b="b"/>
                <a:pathLst>
                  <a:path w="3432" h="2973">
                    <a:moveTo>
                      <a:pt x="1374" y="2552"/>
                    </a:moveTo>
                    <a:lnTo>
                      <a:pt x="1739" y="2387"/>
                    </a:lnTo>
                    <a:lnTo>
                      <a:pt x="2394" y="2312"/>
                    </a:lnTo>
                    <a:lnTo>
                      <a:pt x="2772" y="2184"/>
                    </a:lnTo>
                    <a:lnTo>
                      <a:pt x="2957" y="1977"/>
                    </a:lnTo>
                    <a:lnTo>
                      <a:pt x="3021" y="1508"/>
                    </a:lnTo>
                    <a:lnTo>
                      <a:pt x="2969" y="1310"/>
                    </a:lnTo>
                    <a:lnTo>
                      <a:pt x="2627" y="1118"/>
                    </a:lnTo>
                    <a:lnTo>
                      <a:pt x="2203" y="964"/>
                    </a:lnTo>
                    <a:lnTo>
                      <a:pt x="1687" y="964"/>
                    </a:lnTo>
                    <a:lnTo>
                      <a:pt x="1148" y="1022"/>
                    </a:lnTo>
                    <a:lnTo>
                      <a:pt x="997" y="916"/>
                    </a:lnTo>
                    <a:lnTo>
                      <a:pt x="846" y="633"/>
                    </a:lnTo>
                    <a:lnTo>
                      <a:pt x="550" y="468"/>
                    </a:lnTo>
                    <a:lnTo>
                      <a:pt x="254" y="468"/>
                    </a:lnTo>
                    <a:lnTo>
                      <a:pt x="63" y="527"/>
                    </a:lnTo>
                    <a:lnTo>
                      <a:pt x="0" y="372"/>
                    </a:lnTo>
                    <a:lnTo>
                      <a:pt x="162" y="26"/>
                    </a:lnTo>
                    <a:lnTo>
                      <a:pt x="359" y="0"/>
                    </a:lnTo>
                    <a:lnTo>
                      <a:pt x="718" y="207"/>
                    </a:lnTo>
                    <a:lnTo>
                      <a:pt x="951" y="388"/>
                    </a:lnTo>
                    <a:lnTo>
                      <a:pt x="1160" y="692"/>
                    </a:lnTo>
                    <a:lnTo>
                      <a:pt x="1212" y="798"/>
                    </a:lnTo>
                    <a:lnTo>
                      <a:pt x="1623" y="719"/>
                    </a:lnTo>
                    <a:lnTo>
                      <a:pt x="2185" y="692"/>
                    </a:lnTo>
                    <a:lnTo>
                      <a:pt x="2662" y="782"/>
                    </a:lnTo>
                    <a:lnTo>
                      <a:pt x="3067" y="964"/>
                    </a:lnTo>
                    <a:lnTo>
                      <a:pt x="3363" y="1219"/>
                    </a:lnTo>
                    <a:lnTo>
                      <a:pt x="3432" y="1416"/>
                    </a:lnTo>
                    <a:lnTo>
                      <a:pt x="3334" y="1966"/>
                    </a:lnTo>
                    <a:lnTo>
                      <a:pt x="3102" y="2371"/>
                    </a:lnTo>
                    <a:lnTo>
                      <a:pt x="2475" y="2776"/>
                    </a:lnTo>
                    <a:lnTo>
                      <a:pt x="1785" y="2973"/>
                    </a:lnTo>
                    <a:lnTo>
                      <a:pt x="1426" y="2946"/>
                    </a:lnTo>
                    <a:lnTo>
                      <a:pt x="1310" y="2760"/>
                    </a:lnTo>
                    <a:lnTo>
                      <a:pt x="1374" y="2552"/>
                    </a:lnTo>
                    <a:close/>
                  </a:path>
                </a:pathLst>
              </a:custGeom>
              <a:solidFill>
                <a:srgbClr val="66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959280" y="4853160"/>
                <a:ext cx="808560" cy="1337040"/>
              </a:xfrm>
              <a:custGeom>
                <a:avLst/>
                <a:gdLst/>
                <a:ahLst/>
                <a:rect l="0" t="0" r="r" b="b"/>
                <a:pathLst>
                  <a:path w="2246" h="3714">
                    <a:moveTo>
                      <a:pt x="1253" y="452"/>
                    </a:moveTo>
                    <a:lnTo>
                      <a:pt x="795" y="90"/>
                    </a:lnTo>
                    <a:lnTo>
                      <a:pt x="330" y="0"/>
                    </a:lnTo>
                    <a:lnTo>
                      <a:pt x="0" y="239"/>
                    </a:lnTo>
                    <a:lnTo>
                      <a:pt x="266" y="574"/>
                    </a:lnTo>
                    <a:lnTo>
                      <a:pt x="662" y="723"/>
                    </a:lnTo>
                    <a:lnTo>
                      <a:pt x="1584" y="1208"/>
                    </a:lnTo>
                    <a:lnTo>
                      <a:pt x="1811" y="1357"/>
                    </a:lnTo>
                    <a:lnTo>
                      <a:pt x="1811" y="1511"/>
                    </a:lnTo>
                    <a:lnTo>
                      <a:pt x="1450" y="1841"/>
                    </a:lnTo>
                    <a:lnTo>
                      <a:pt x="824" y="2389"/>
                    </a:lnTo>
                    <a:lnTo>
                      <a:pt x="498" y="2810"/>
                    </a:lnTo>
                    <a:lnTo>
                      <a:pt x="498" y="2991"/>
                    </a:lnTo>
                    <a:lnTo>
                      <a:pt x="527" y="3081"/>
                    </a:lnTo>
                    <a:lnTo>
                      <a:pt x="824" y="3108"/>
                    </a:lnTo>
                    <a:lnTo>
                      <a:pt x="1323" y="3294"/>
                    </a:lnTo>
                    <a:lnTo>
                      <a:pt x="1653" y="3566"/>
                    </a:lnTo>
                    <a:lnTo>
                      <a:pt x="1881" y="3714"/>
                    </a:lnTo>
                    <a:lnTo>
                      <a:pt x="2014" y="3683"/>
                    </a:lnTo>
                    <a:lnTo>
                      <a:pt x="2211" y="3353"/>
                    </a:lnTo>
                    <a:lnTo>
                      <a:pt x="2043" y="3204"/>
                    </a:lnTo>
                    <a:lnTo>
                      <a:pt x="1514" y="3050"/>
                    </a:lnTo>
                    <a:lnTo>
                      <a:pt x="992" y="2933"/>
                    </a:lnTo>
                    <a:lnTo>
                      <a:pt x="760" y="2933"/>
                    </a:lnTo>
                    <a:lnTo>
                      <a:pt x="691" y="2874"/>
                    </a:lnTo>
                    <a:lnTo>
                      <a:pt x="824" y="2719"/>
                    </a:lnTo>
                    <a:lnTo>
                      <a:pt x="1189" y="2474"/>
                    </a:lnTo>
                    <a:lnTo>
                      <a:pt x="1682" y="2203"/>
                    </a:lnTo>
                    <a:lnTo>
                      <a:pt x="2113" y="1814"/>
                    </a:lnTo>
                    <a:lnTo>
                      <a:pt x="2246" y="1511"/>
                    </a:lnTo>
                    <a:lnTo>
                      <a:pt x="2182" y="1208"/>
                    </a:lnTo>
                    <a:lnTo>
                      <a:pt x="1852" y="877"/>
                    </a:lnTo>
                    <a:lnTo>
                      <a:pt x="1555" y="638"/>
                    </a:lnTo>
                    <a:lnTo>
                      <a:pt x="1253" y="452"/>
                    </a:lnTo>
                    <a:close/>
                  </a:path>
                </a:pathLst>
              </a:custGeom>
              <a:solidFill>
                <a:srgbClr val="66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581280" y="4854600"/>
                <a:ext cx="721080" cy="1456200"/>
              </a:xfrm>
              <a:custGeom>
                <a:avLst/>
                <a:gdLst/>
                <a:ahLst/>
                <a:rect l="0" t="0" r="r" b="b"/>
                <a:pathLst>
                  <a:path w="2003" h="4045">
                    <a:moveTo>
                      <a:pt x="1407" y="814"/>
                    </a:moveTo>
                    <a:lnTo>
                      <a:pt x="1048" y="356"/>
                    </a:lnTo>
                    <a:lnTo>
                      <a:pt x="786" y="26"/>
                    </a:lnTo>
                    <a:lnTo>
                      <a:pt x="457" y="0"/>
                    </a:lnTo>
                    <a:lnTo>
                      <a:pt x="231" y="148"/>
                    </a:lnTo>
                    <a:lnTo>
                      <a:pt x="266" y="420"/>
                    </a:lnTo>
                    <a:lnTo>
                      <a:pt x="561" y="691"/>
                    </a:lnTo>
                    <a:lnTo>
                      <a:pt x="1378" y="1506"/>
                    </a:lnTo>
                    <a:lnTo>
                      <a:pt x="1574" y="1778"/>
                    </a:lnTo>
                    <a:lnTo>
                      <a:pt x="1574" y="1905"/>
                    </a:lnTo>
                    <a:lnTo>
                      <a:pt x="1343" y="2113"/>
                    </a:lnTo>
                    <a:lnTo>
                      <a:pt x="688" y="2352"/>
                    </a:lnTo>
                    <a:lnTo>
                      <a:pt x="196" y="2597"/>
                    </a:lnTo>
                    <a:lnTo>
                      <a:pt x="63" y="2778"/>
                    </a:lnTo>
                    <a:lnTo>
                      <a:pt x="0" y="2985"/>
                    </a:lnTo>
                    <a:lnTo>
                      <a:pt x="34" y="3444"/>
                    </a:lnTo>
                    <a:lnTo>
                      <a:pt x="127" y="3715"/>
                    </a:lnTo>
                    <a:lnTo>
                      <a:pt x="393" y="4045"/>
                    </a:lnTo>
                    <a:lnTo>
                      <a:pt x="624" y="4045"/>
                    </a:lnTo>
                    <a:lnTo>
                      <a:pt x="885" y="3891"/>
                    </a:lnTo>
                    <a:lnTo>
                      <a:pt x="885" y="3774"/>
                    </a:lnTo>
                    <a:lnTo>
                      <a:pt x="653" y="3657"/>
                    </a:lnTo>
                    <a:lnTo>
                      <a:pt x="393" y="3503"/>
                    </a:lnTo>
                    <a:lnTo>
                      <a:pt x="231" y="3316"/>
                    </a:lnTo>
                    <a:lnTo>
                      <a:pt x="196" y="2927"/>
                    </a:lnTo>
                    <a:lnTo>
                      <a:pt x="329" y="2778"/>
                    </a:lnTo>
                    <a:lnTo>
                      <a:pt x="590" y="2656"/>
                    </a:lnTo>
                    <a:lnTo>
                      <a:pt x="1083" y="2507"/>
                    </a:lnTo>
                    <a:lnTo>
                      <a:pt x="1800" y="2262"/>
                    </a:lnTo>
                    <a:lnTo>
                      <a:pt x="2003" y="2081"/>
                    </a:lnTo>
                    <a:lnTo>
                      <a:pt x="2003" y="1810"/>
                    </a:lnTo>
                    <a:lnTo>
                      <a:pt x="1800" y="1448"/>
                    </a:lnTo>
                    <a:lnTo>
                      <a:pt x="1609" y="1144"/>
                    </a:lnTo>
                    <a:lnTo>
                      <a:pt x="1407" y="814"/>
                    </a:lnTo>
                    <a:close/>
                  </a:path>
                </a:pathLst>
              </a:custGeom>
              <a:solidFill>
                <a:srgbClr val="66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456000" y="3638520"/>
                <a:ext cx="810000" cy="1422720"/>
              </a:xfrm>
              <a:custGeom>
                <a:avLst/>
                <a:gdLst/>
                <a:ahLst/>
                <a:rect l="0" t="0" r="r" b="b"/>
                <a:pathLst>
                  <a:path w="2250" h="3952">
                    <a:moveTo>
                      <a:pt x="1258" y="186"/>
                    </a:moveTo>
                    <a:lnTo>
                      <a:pt x="945" y="0"/>
                    </a:lnTo>
                    <a:lnTo>
                      <a:pt x="539" y="0"/>
                    </a:lnTo>
                    <a:lnTo>
                      <a:pt x="226" y="154"/>
                    </a:lnTo>
                    <a:lnTo>
                      <a:pt x="11" y="442"/>
                    </a:lnTo>
                    <a:lnTo>
                      <a:pt x="0" y="634"/>
                    </a:lnTo>
                    <a:lnTo>
                      <a:pt x="63" y="879"/>
                    </a:lnTo>
                    <a:lnTo>
                      <a:pt x="226" y="1061"/>
                    </a:lnTo>
                    <a:lnTo>
                      <a:pt x="486" y="1381"/>
                    </a:lnTo>
                    <a:lnTo>
                      <a:pt x="655" y="1770"/>
                    </a:lnTo>
                    <a:lnTo>
                      <a:pt x="754" y="2107"/>
                    </a:lnTo>
                    <a:lnTo>
                      <a:pt x="754" y="2517"/>
                    </a:lnTo>
                    <a:lnTo>
                      <a:pt x="621" y="2923"/>
                    </a:lnTo>
                    <a:lnTo>
                      <a:pt x="621" y="3317"/>
                    </a:lnTo>
                    <a:lnTo>
                      <a:pt x="702" y="3637"/>
                    </a:lnTo>
                    <a:lnTo>
                      <a:pt x="928" y="3866"/>
                    </a:lnTo>
                    <a:lnTo>
                      <a:pt x="1177" y="3952"/>
                    </a:lnTo>
                    <a:lnTo>
                      <a:pt x="1473" y="3909"/>
                    </a:lnTo>
                    <a:lnTo>
                      <a:pt x="1804" y="3834"/>
                    </a:lnTo>
                    <a:lnTo>
                      <a:pt x="2036" y="3621"/>
                    </a:lnTo>
                    <a:lnTo>
                      <a:pt x="2164" y="3120"/>
                    </a:lnTo>
                    <a:lnTo>
                      <a:pt x="2250" y="2683"/>
                    </a:lnTo>
                    <a:lnTo>
                      <a:pt x="2181" y="2075"/>
                    </a:lnTo>
                    <a:lnTo>
                      <a:pt x="2019" y="1562"/>
                    </a:lnTo>
                    <a:lnTo>
                      <a:pt x="1787" y="1034"/>
                    </a:lnTo>
                    <a:lnTo>
                      <a:pt x="1508" y="490"/>
                    </a:lnTo>
                    <a:lnTo>
                      <a:pt x="1258" y="186"/>
                    </a:lnTo>
                    <a:close/>
                  </a:path>
                </a:pathLst>
              </a:custGeom>
              <a:solidFill>
                <a:srgbClr val="66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1" name=""/>
              <p:cNvGrpSpPr/>
              <p:nvPr/>
            </p:nvGrpSpPr>
            <p:grpSpPr>
              <a:xfrm>
                <a:off x="2628720" y="2387520"/>
                <a:ext cx="1059480" cy="1257840"/>
                <a:chOff x="2628720" y="2387520"/>
                <a:chExt cx="1059480" cy="125784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2789280" y="2448000"/>
                  <a:ext cx="898920" cy="1197360"/>
                </a:xfrm>
                <a:custGeom>
                  <a:avLst/>
                  <a:gdLst/>
                  <a:ahLst/>
                  <a:rect l="0" t="0" r="r" b="b"/>
                  <a:pathLst>
                    <a:path w="2497" h="3326">
                      <a:moveTo>
                        <a:pt x="1512" y="965"/>
                      </a:moveTo>
                      <a:lnTo>
                        <a:pt x="1199" y="708"/>
                      </a:lnTo>
                      <a:lnTo>
                        <a:pt x="794" y="618"/>
                      </a:lnTo>
                      <a:lnTo>
                        <a:pt x="422" y="698"/>
                      </a:lnTo>
                      <a:lnTo>
                        <a:pt x="127" y="917"/>
                      </a:lnTo>
                      <a:lnTo>
                        <a:pt x="0" y="1317"/>
                      </a:lnTo>
                      <a:lnTo>
                        <a:pt x="81" y="1892"/>
                      </a:lnTo>
                      <a:lnTo>
                        <a:pt x="422" y="2527"/>
                      </a:lnTo>
                      <a:lnTo>
                        <a:pt x="858" y="3028"/>
                      </a:lnTo>
                      <a:lnTo>
                        <a:pt x="1251" y="3252"/>
                      </a:lnTo>
                      <a:lnTo>
                        <a:pt x="1691" y="3326"/>
                      </a:lnTo>
                      <a:lnTo>
                        <a:pt x="2057" y="3284"/>
                      </a:lnTo>
                      <a:lnTo>
                        <a:pt x="2451" y="2996"/>
                      </a:lnTo>
                      <a:lnTo>
                        <a:pt x="2497" y="2692"/>
                      </a:lnTo>
                      <a:lnTo>
                        <a:pt x="2434" y="2206"/>
                      </a:lnTo>
                      <a:lnTo>
                        <a:pt x="2185" y="2361"/>
                      </a:lnTo>
                      <a:lnTo>
                        <a:pt x="1761" y="2452"/>
                      </a:lnTo>
                      <a:lnTo>
                        <a:pt x="1060" y="2249"/>
                      </a:lnTo>
                      <a:lnTo>
                        <a:pt x="1529" y="2057"/>
                      </a:lnTo>
                      <a:lnTo>
                        <a:pt x="1773" y="1913"/>
                      </a:lnTo>
                      <a:lnTo>
                        <a:pt x="2167" y="1620"/>
                      </a:lnTo>
                      <a:lnTo>
                        <a:pt x="1807" y="1119"/>
                      </a:lnTo>
                      <a:lnTo>
                        <a:pt x="2138" y="223"/>
                      </a:lnTo>
                      <a:lnTo>
                        <a:pt x="2092" y="69"/>
                      </a:lnTo>
                      <a:lnTo>
                        <a:pt x="1907" y="0"/>
                      </a:lnTo>
                      <a:lnTo>
                        <a:pt x="1807" y="101"/>
                      </a:lnTo>
                      <a:lnTo>
                        <a:pt x="1512" y="965"/>
                      </a:lnTo>
                      <a:close/>
                    </a:path>
                  </a:pathLst>
                </a:custGeom>
                <a:solidFill>
                  <a:srgbClr val="66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2655720" y="2462040"/>
                  <a:ext cx="659160" cy="914760"/>
                </a:xfrm>
                <a:custGeom>
                  <a:avLst/>
                  <a:gdLst/>
                  <a:ahLst/>
                  <a:rect l="0" t="0" r="r" b="b"/>
                  <a:pathLst>
                    <a:path w="1831" h="2541">
                      <a:moveTo>
                        <a:pt x="418" y="1390"/>
                      </a:moveTo>
                      <a:lnTo>
                        <a:pt x="906" y="766"/>
                      </a:lnTo>
                      <a:lnTo>
                        <a:pt x="1482" y="271"/>
                      </a:lnTo>
                      <a:lnTo>
                        <a:pt x="1831" y="0"/>
                      </a:lnTo>
                      <a:lnTo>
                        <a:pt x="1308" y="15"/>
                      </a:lnTo>
                      <a:lnTo>
                        <a:pt x="610" y="287"/>
                      </a:lnTo>
                      <a:lnTo>
                        <a:pt x="261" y="638"/>
                      </a:lnTo>
                      <a:lnTo>
                        <a:pt x="104" y="1118"/>
                      </a:lnTo>
                      <a:lnTo>
                        <a:pt x="244" y="1390"/>
                      </a:lnTo>
                      <a:lnTo>
                        <a:pt x="0" y="1582"/>
                      </a:lnTo>
                      <a:lnTo>
                        <a:pt x="87" y="2013"/>
                      </a:lnTo>
                      <a:lnTo>
                        <a:pt x="366" y="2317"/>
                      </a:lnTo>
                      <a:lnTo>
                        <a:pt x="836" y="2541"/>
                      </a:lnTo>
                      <a:lnTo>
                        <a:pt x="714" y="2349"/>
                      </a:lnTo>
                      <a:lnTo>
                        <a:pt x="836" y="2269"/>
                      </a:lnTo>
                      <a:lnTo>
                        <a:pt x="1046" y="2269"/>
                      </a:lnTo>
                      <a:lnTo>
                        <a:pt x="766" y="2061"/>
                      </a:lnTo>
                      <a:lnTo>
                        <a:pt x="819" y="1678"/>
                      </a:lnTo>
                      <a:lnTo>
                        <a:pt x="418" y="1390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063960" y="2819520"/>
                  <a:ext cx="225720" cy="184680"/>
                </a:xfrm>
                <a:custGeom>
                  <a:avLst/>
                  <a:gdLst/>
                  <a:ahLst/>
                  <a:rect l="0" t="0" r="r" b="b"/>
                  <a:pathLst>
                    <a:path w="627" h="513">
                      <a:moveTo>
                        <a:pt x="627" y="240"/>
                      </a:moveTo>
                      <a:lnTo>
                        <a:pt x="435" y="95"/>
                      </a:lnTo>
                      <a:lnTo>
                        <a:pt x="243" y="15"/>
                      </a:lnTo>
                      <a:lnTo>
                        <a:pt x="69" y="0"/>
                      </a:lnTo>
                      <a:lnTo>
                        <a:pt x="0" y="63"/>
                      </a:lnTo>
                      <a:lnTo>
                        <a:pt x="0" y="160"/>
                      </a:lnTo>
                      <a:lnTo>
                        <a:pt x="52" y="320"/>
                      </a:lnTo>
                      <a:lnTo>
                        <a:pt x="226" y="449"/>
                      </a:lnTo>
                      <a:lnTo>
                        <a:pt x="348" y="513"/>
                      </a:lnTo>
                      <a:lnTo>
                        <a:pt x="627" y="240"/>
                      </a:lnTo>
                      <a:close/>
                    </a:path>
                  </a:pathLst>
                </a:custGeom>
                <a:solidFill>
                  <a:srgbClr val="66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2628720" y="2387520"/>
                  <a:ext cx="660600" cy="470160"/>
                </a:xfrm>
                <a:custGeom>
                  <a:avLst/>
                  <a:gdLst/>
                  <a:ahLst/>
                  <a:rect l="0" t="0" r="r" b="b"/>
                  <a:pathLst>
                    <a:path w="1835" h="1306">
                      <a:moveTo>
                        <a:pt x="352" y="882"/>
                      </a:moveTo>
                      <a:lnTo>
                        <a:pt x="493" y="847"/>
                      </a:lnTo>
                      <a:lnTo>
                        <a:pt x="599" y="777"/>
                      </a:lnTo>
                      <a:lnTo>
                        <a:pt x="705" y="777"/>
                      </a:lnTo>
                      <a:lnTo>
                        <a:pt x="811" y="706"/>
                      </a:lnTo>
                      <a:lnTo>
                        <a:pt x="918" y="599"/>
                      </a:lnTo>
                      <a:lnTo>
                        <a:pt x="1024" y="564"/>
                      </a:lnTo>
                      <a:lnTo>
                        <a:pt x="1129" y="493"/>
                      </a:lnTo>
                      <a:lnTo>
                        <a:pt x="1271" y="493"/>
                      </a:lnTo>
                      <a:lnTo>
                        <a:pt x="1376" y="388"/>
                      </a:lnTo>
                      <a:lnTo>
                        <a:pt x="1482" y="352"/>
                      </a:lnTo>
                      <a:lnTo>
                        <a:pt x="1588" y="317"/>
                      </a:lnTo>
                      <a:lnTo>
                        <a:pt x="1694" y="246"/>
                      </a:lnTo>
                      <a:lnTo>
                        <a:pt x="1800" y="211"/>
                      </a:lnTo>
                      <a:lnTo>
                        <a:pt x="1835" y="105"/>
                      </a:lnTo>
                      <a:lnTo>
                        <a:pt x="1729" y="70"/>
                      </a:lnTo>
                      <a:lnTo>
                        <a:pt x="1623" y="0"/>
                      </a:lnTo>
                      <a:lnTo>
                        <a:pt x="1517" y="0"/>
                      </a:lnTo>
                      <a:lnTo>
                        <a:pt x="1412" y="0"/>
                      </a:lnTo>
                      <a:lnTo>
                        <a:pt x="1306" y="105"/>
                      </a:lnTo>
                      <a:lnTo>
                        <a:pt x="1200" y="105"/>
                      </a:lnTo>
                      <a:lnTo>
                        <a:pt x="1094" y="141"/>
                      </a:lnTo>
                      <a:lnTo>
                        <a:pt x="988" y="141"/>
                      </a:lnTo>
                      <a:lnTo>
                        <a:pt x="881" y="176"/>
                      </a:lnTo>
                      <a:lnTo>
                        <a:pt x="776" y="211"/>
                      </a:lnTo>
                      <a:lnTo>
                        <a:pt x="635" y="211"/>
                      </a:lnTo>
                      <a:lnTo>
                        <a:pt x="493" y="211"/>
                      </a:lnTo>
                      <a:lnTo>
                        <a:pt x="388" y="211"/>
                      </a:lnTo>
                      <a:lnTo>
                        <a:pt x="282" y="282"/>
                      </a:lnTo>
                      <a:lnTo>
                        <a:pt x="176" y="388"/>
                      </a:lnTo>
                      <a:lnTo>
                        <a:pt x="141" y="493"/>
                      </a:lnTo>
                      <a:lnTo>
                        <a:pt x="70" y="599"/>
                      </a:lnTo>
                      <a:lnTo>
                        <a:pt x="0" y="741"/>
                      </a:lnTo>
                      <a:lnTo>
                        <a:pt x="35" y="847"/>
                      </a:lnTo>
                      <a:lnTo>
                        <a:pt x="70" y="953"/>
                      </a:lnTo>
                      <a:lnTo>
                        <a:pt x="70" y="1059"/>
                      </a:lnTo>
                      <a:lnTo>
                        <a:pt x="70" y="1165"/>
                      </a:lnTo>
                      <a:lnTo>
                        <a:pt x="282" y="1200"/>
                      </a:lnTo>
                      <a:lnTo>
                        <a:pt x="388" y="1306"/>
                      </a:lnTo>
                      <a:lnTo>
                        <a:pt x="458" y="1200"/>
                      </a:lnTo>
                      <a:lnTo>
                        <a:pt x="458" y="1094"/>
                      </a:lnTo>
                      <a:lnTo>
                        <a:pt x="352" y="8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6" name=""/>
              <p:cNvSpPr/>
              <p:nvPr/>
            </p:nvSpPr>
            <p:spPr>
              <a:xfrm>
                <a:off x="3619440" y="3936960"/>
                <a:ext cx="267120" cy="457560"/>
              </a:xfrm>
              <a:custGeom>
                <a:avLst/>
                <a:gdLst/>
                <a:ahLst/>
                <a:rect l="0" t="0" r="r" b="b"/>
                <a:pathLst>
                  <a:path w="742" h="1271">
                    <a:moveTo>
                      <a:pt x="0" y="141"/>
                    </a:moveTo>
                    <a:lnTo>
                      <a:pt x="424" y="777"/>
                    </a:lnTo>
                    <a:lnTo>
                      <a:pt x="530" y="1271"/>
                    </a:lnTo>
                    <a:lnTo>
                      <a:pt x="742" y="1235"/>
                    </a:lnTo>
                    <a:lnTo>
                      <a:pt x="601" y="599"/>
                    </a:lnTo>
                    <a:lnTo>
                      <a:pt x="176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7" name=""/>
          <p:cNvSpPr/>
          <p:nvPr/>
        </p:nvSpPr>
        <p:spPr>
          <a:xfrm>
            <a:off x="3809880" y="2908440"/>
            <a:ext cx="584640" cy="178200"/>
          </a:xfrm>
          <a:custGeom>
            <a:avLst/>
            <a:gdLst/>
            <a:ahLst/>
            <a:rect l="0" t="0" r="r" b="b"/>
            <a:pathLst>
              <a:path w="1624" h="495">
                <a:moveTo>
                  <a:pt x="211" y="247"/>
                </a:moveTo>
                <a:lnTo>
                  <a:pt x="424" y="212"/>
                </a:lnTo>
                <a:lnTo>
                  <a:pt x="530" y="177"/>
                </a:lnTo>
                <a:lnTo>
                  <a:pt x="636" y="177"/>
                </a:lnTo>
                <a:lnTo>
                  <a:pt x="741" y="247"/>
                </a:lnTo>
                <a:lnTo>
                  <a:pt x="847" y="283"/>
                </a:lnTo>
                <a:lnTo>
                  <a:pt x="953" y="283"/>
                </a:lnTo>
                <a:lnTo>
                  <a:pt x="1059" y="318"/>
                </a:lnTo>
                <a:lnTo>
                  <a:pt x="1165" y="390"/>
                </a:lnTo>
                <a:lnTo>
                  <a:pt x="1272" y="390"/>
                </a:lnTo>
                <a:lnTo>
                  <a:pt x="1377" y="460"/>
                </a:lnTo>
                <a:lnTo>
                  <a:pt x="1483" y="495"/>
                </a:lnTo>
                <a:lnTo>
                  <a:pt x="1624" y="460"/>
                </a:lnTo>
                <a:lnTo>
                  <a:pt x="1624" y="353"/>
                </a:lnTo>
                <a:lnTo>
                  <a:pt x="1518" y="247"/>
                </a:lnTo>
                <a:lnTo>
                  <a:pt x="1413" y="212"/>
                </a:lnTo>
                <a:lnTo>
                  <a:pt x="1272" y="105"/>
                </a:lnTo>
                <a:lnTo>
                  <a:pt x="1165" y="35"/>
                </a:lnTo>
                <a:lnTo>
                  <a:pt x="1059" y="35"/>
                </a:lnTo>
                <a:lnTo>
                  <a:pt x="953" y="0"/>
                </a:lnTo>
                <a:lnTo>
                  <a:pt x="671" y="0"/>
                </a:lnTo>
                <a:lnTo>
                  <a:pt x="317" y="35"/>
                </a:lnTo>
                <a:lnTo>
                  <a:pt x="211" y="35"/>
                </a:lnTo>
                <a:lnTo>
                  <a:pt x="105" y="70"/>
                </a:lnTo>
                <a:lnTo>
                  <a:pt x="35" y="212"/>
                </a:lnTo>
                <a:lnTo>
                  <a:pt x="0" y="177"/>
                </a:lnTo>
                <a:lnTo>
                  <a:pt x="211" y="24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4258440" y="2788920"/>
            <a:ext cx="1010880" cy="927720"/>
            <a:chOff x="4258440" y="2788920"/>
            <a:chExt cx="1010880" cy="927720"/>
          </a:xfrm>
        </p:grpSpPr>
        <p:sp>
          <p:nvSpPr>
            <p:cNvPr id="1089" name=""/>
            <p:cNvSpPr/>
            <p:nvPr/>
          </p:nvSpPr>
          <p:spPr>
            <a:xfrm>
              <a:off x="4375080" y="2913120"/>
              <a:ext cx="894240" cy="803520"/>
            </a:xfrm>
            <a:custGeom>
              <a:avLst/>
              <a:gdLst/>
              <a:ahLst/>
              <a:rect l="0" t="0" r="r" b="b"/>
              <a:pathLst>
                <a:path w="2484" h="2232">
                  <a:moveTo>
                    <a:pt x="2400" y="2232"/>
                  </a:moveTo>
                  <a:lnTo>
                    <a:pt x="2484" y="2069"/>
                  </a:lnTo>
                  <a:lnTo>
                    <a:pt x="2400" y="1795"/>
                  </a:lnTo>
                  <a:lnTo>
                    <a:pt x="1800" y="1262"/>
                  </a:lnTo>
                  <a:lnTo>
                    <a:pt x="604" y="0"/>
                  </a:lnTo>
                  <a:lnTo>
                    <a:pt x="0" y="555"/>
                  </a:lnTo>
                  <a:lnTo>
                    <a:pt x="1099" y="1579"/>
                  </a:lnTo>
                  <a:lnTo>
                    <a:pt x="2026" y="2232"/>
                  </a:lnTo>
                  <a:lnTo>
                    <a:pt x="2400" y="223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258440" y="2788920"/>
              <a:ext cx="284400" cy="263880"/>
            </a:xfrm>
            <a:custGeom>
              <a:avLst/>
              <a:gdLst/>
              <a:ahLst/>
              <a:rect l="0" t="0" r="r" b="b"/>
              <a:pathLst>
                <a:path w="790" h="733">
                  <a:moveTo>
                    <a:pt x="743" y="140"/>
                  </a:moveTo>
                  <a:lnTo>
                    <a:pt x="743" y="140"/>
                  </a:lnTo>
                  <a:cubicBezTo>
                    <a:pt x="710" y="90"/>
                    <a:pt x="662" y="50"/>
                    <a:pt x="603" y="27"/>
                  </a:cubicBezTo>
                  <a:cubicBezTo>
                    <a:pt x="544" y="2"/>
                    <a:pt x="476" y="-5"/>
                    <a:pt x="407" y="4"/>
                  </a:cubicBezTo>
                  <a:cubicBezTo>
                    <a:pt x="337" y="13"/>
                    <a:pt x="269" y="38"/>
                    <a:pt x="208" y="78"/>
                  </a:cubicBezTo>
                  <a:cubicBezTo>
                    <a:pt x="147" y="118"/>
                    <a:pt x="95" y="170"/>
                    <a:pt x="59" y="230"/>
                  </a:cubicBezTo>
                  <a:cubicBezTo>
                    <a:pt x="22" y="289"/>
                    <a:pt x="2" y="354"/>
                    <a:pt x="0" y="418"/>
                  </a:cubicBezTo>
                  <a:cubicBezTo>
                    <a:pt x="-2" y="482"/>
                    <a:pt x="14" y="542"/>
                    <a:pt x="47" y="593"/>
                  </a:cubicBezTo>
                  <a:lnTo>
                    <a:pt x="47" y="593"/>
                  </a:lnTo>
                  <a:lnTo>
                    <a:pt x="47" y="593"/>
                  </a:lnTo>
                  <a:cubicBezTo>
                    <a:pt x="80" y="643"/>
                    <a:pt x="128" y="683"/>
                    <a:pt x="187" y="706"/>
                  </a:cubicBezTo>
                  <a:cubicBezTo>
                    <a:pt x="246" y="731"/>
                    <a:pt x="314" y="738"/>
                    <a:pt x="383" y="729"/>
                  </a:cubicBezTo>
                  <a:cubicBezTo>
                    <a:pt x="453" y="720"/>
                    <a:pt x="521" y="695"/>
                    <a:pt x="582" y="655"/>
                  </a:cubicBezTo>
                  <a:cubicBezTo>
                    <a:pt x="643" y="615"/>
                    <a:pt x="695" y="563"/>
                    <a:pt x="731" y="503"/>
                  </a:cubicBezTo>
                  <a:cubicBezTo>
                    <a:pt x="768" y="444"/>
                    <a:pt x="788" y="379"/>
                    <a:pt x="790" y="315"/>
                  </a:cubicBezTo>
                  <a:cubicBezTo>
                    <a:pt x="792" y="251"/>
                    <a:pt x="776" y="191"/>
                    <a:pt x="743" y="14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4800600" y="1816200"/>
            <a:ext cx="1495800" cy="4346640"/>
            <a:chOff x="4800600" y="1816200"/>
            <a:chExt cx="1495800" cy="4346640"/>
          </a:xfrm>
        </p:grpSpPr>
        <p:pic>
          <p:nvPicPr>
            <p:cNvPr id="1092" name="" descr=""/>
            <p:cNvPicPr/>
            <p:nvPr/>
          </p:nvPicPr>
          <p:blipFill>
            <a:blip r:embed="rId8"/>
            <a:stretch/>
          </p:blipFill>
          <p:spPr>
            <a:xfrm>
              <a:off x="5423040" y="5194440"/>
              <a:ext cx="35388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3" name=""/>
            <p:cNvGrpSpPr/>
            <p:nvPr/>
          </p:nvGrpSpPr>
          <p:grpSpPr>
            <a:xfrm>
              <a:off x="4800600" y="4554360"/>
              <a:ext cx="1495800" cy="1608480"/>
              <a:chOff x="4800600" y="4554360"/>
              <a:chExt cx="1495800" cy="1608480"/>
            </a:xfrm>
          </p:grpSpPr>
          <p:sp>
            <p:nvSpPr>
              <p:cNvPr id="1094" name=""/>
              <p:cNvSpPr/>
              <p:nvPr/>
            </p:nvSpPr>
            <p:spPr>
              <a:xfrm>
                <a:off x="5178600" y="4554360"/>
                <a:ext cx="646560" cy="1483200"/>
              </a:xfrm>
              <a:custGeom>
                <a:avLst/>
                <a:gdLst/>
                <a:ahLst/>
                <a:rect l="0" t="0" r="r" b="b"/>
                <a:pathLst>
                  <a:path w="1796" h="4120">
                    <a:moveTo>
                      <a:pt x="0" y="0"/>
                    </a:moveTo>
                    <a:lnTo>
                      <a:pt x="312" y="4120"/>
                    </a:lnTo>
                    <a:lnTo>
                      <a:pt x="1015" y="4120"/>
                    </a:lnTo>
                    <a:lnTo>
                      <a:pt x="911" y="1116"/>
                    </a:lnTo>
                    <a:lnTo>
                      <a:pt x="1015" y="4120"/>
                    </a:lnTo>
                    <a:lnTo>
                      <a:pt x="1796" y="4120"/>
                    </a:lnTo>
                    <a:lnTo>
                      <a:pt x="1718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800600" y="5983200"/>
                <a:ext cx="743400" cy="179640"/>
              </a:xfrm>
              <a:custGeom>
                <a:avLst/>
                <a:gdLst/>
                <a:ahLst/>
                <a:rect l="0" t="0" r="r" b="b"/>
                <a:pathLst>
                  <a:path w="2065" h="499">
                    <a:moveTo>
                      <a:pt x="1359" y="158"/>
                    </a:moveTo>
                    <a:lnTo>
                      <a:pt x="967" y="45"/>
                    </a:lnTo>
                    <a:lnTo>
                      <a:pt x="706" y="0"/>
                    </a:lnTo>
                    <a:lnTo>
                      <a:pt x="417" y="90"/>
                    </a:lnTo>
                    <a:lnTo>
                      <a:pt x="130" y="226"/>
                    </a:lnTo>
                    <a:lnTo>
                      <a:pt x="0" y="408"/>
                    </a:lnTo>
                    <a:lnTo>
                      <a:pt x="182" y="499"/>
                    </a:lnTo>
                    <a:lnTo>
                      <a:pt x="2065" y="499"/>
                    </a:lnTo>
                    <a:lnTo>
                      <a:pt x="2065" y="158"/>
                    </a:lnTo>
                    <a:lnTo>
                      <a:pt x="1359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553000" y="5983200"/>
                <a:ext cx="743400" cy="179640"/>
              </a:xfrm>
              <a:custGeom>
                <a:avLst/>
                <a:gdLst/>
                <a:ahLst/>
                <a:rect l="0" t="0" r="r" b="b"/>
                <a:pathLst>
                  <a:path w="2065" h="499">
                    <a:moveTo>
                      <a:pt x="706" y="158"/>
                    </a:moveTo>
                    <a:lnTo>
                      <a:pt x="1098" y="45"/>
                    </a:lnTo>
                    <a:lnTo>
                      <a:pt x="1359" y="0"/>
                    </a:lnTo>
                    <a:lnTo>
                      <a:pt x="1647" y="90"/>
                    </a:lnTo>
                    <a:lnTo>
                      <a:pt x="1935" y="226"/>
                    </a:lnTo>
                    <a:lnTo>
                      <a:pt x="2065" y="408"/>
                    </a:lnTo>
                    <a:lnTo>
                      <a:pt x="1882" y="499"/>
                    </a:lnTo>
                    <a:lnTo>
                      <a:pt x="0" y="499"/>
                    </a:lnTo>
                    <a:lnTo>
                      <a:pt x="0" y="158"/>
                    </a:lnTo>
                    <a:lnTo>
                      <a:pt x="706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4956120" y="1905120"/>
              <a:ext cx="1068840" cy="2821320"/>
              <a:chOff x="4956120" y="1905120"/>
              <a:chExt cx="1068840" cy="2821320"/>
            </a:xfrm>
          </p:grpSpPr>
          <p:sp>
            <p:nvSpPr>
              <p:cNvPr id="1098" name=""/>
              <p:cNvSpPr/>
              <p:nvPr/>
            </p:nvSpPr>
            <p:spPr>
              <a:xfrm>
                <a:off x="5054760" y="3346560"/>
                <a:ext cx="970200" cy="1379880"/>
              </a:xfrm>
              <a:custGeom>
                <a:avLst/>
                <a:gdLst/>
                <a:ahLst/>
                <a:rect l="0" t="0" r="r" b="b"/>
                <a:pathLst>
                  <a:path w="2695" h="3833">
                    <a:moveTo>
                      <a:pt x="943" y="323"/>
                    </a:moveTo>
                    <a:lnTo>
                      <a:pt x="856" y="338"/>
                    </a:lnTo>
                    <a:lnTo>
                      <a:pt x="790" y="376"/>
                    </a:lnTo>
                    <a:lnTo>
                      <a:pt x="664" y="501"/>
                    </a:lnTo>
                    <a:lnTo>
                      <a:pt x="534" y="623"/>
                    </a:lnTo>
                    <a:lnTo>
                      <a:pt x="386" y="733"/>
                    </a:lnTo>
                    <a:lnTo>
                      <a:pt x="365" y="767"/>
                    </a:lnTo>
                    <a:lnTo>
                      <a:pt x="343" y="802"/>
                    </a:lnTo>
                    <a:lnTo>
                      <a:pt x="343" y="802"/>
                    </a:lnTo>
                    <a:lnTo>
                      <a:pt x="365" y="802"/>
                    </a:lnTo>
                    <a:lnTo>
                      <a:pt x="152" y="1338"/>
                    </a:lnTo>
                    <a:lnTo>
                      <a:pt x="0" y="3745"/>
                    </a:lnTo>
                    <a:lnTo>
                      <a:pt x="2695" y="3833"/>
                    </a:lnTo>
                    <a:lnTo>
                      <a:pt x="2291" y="1589"/>
                    </a:lnTo>
                    <a:lnTo>
                      <a:pt x="2095" y="357"/>
                    </a:lnTo>
                    <a:lnTo>
                      <a:pt x="1369" y="0"/>
                    </a:lnTo>
                    <a:lnTo>
                      <a:pt x="943" y="323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346720" y="3355920"/>
                <a:ext cx="300240" cy="155880"/>
              </a:xfrm>
              <a:custGeom>
                <a:avLst/>
                <a:gdLst/>
                <a:ahLst/>
                <a:rect l="0" t="0" r="r" b="b"/>
                <a:pathLst>
                  <a:path w="834" h="433">
                    <a:moveTo>
                      <a:pt x="0" y="296"/>
                    </a:moveTo>
                    <a:lnTo>
                      <a:pt x="234" y="410"/>
                    </a:lnTo>
                    <a:lnTo>
                      <a:pt x="652" y="433"/>
                    </a:lnTo>
                    <a:lnTo>
                      <a:pt x="834" y="228"/>
                    </a:lnTo>
                    <a:lnTo>
                      <a:pt x="834" y="68"/>
                    </a:lnTo>
                    <a:lnTo>
                      <a:pt x="652" y="0"/>
                    </a:lnTo>
                    <a:lnTo>
                      <a:pt x="469" y="228"/>
                    </a:lnTo>
                    <a:lnTo>
                      <a:pt x="182" y="251"/>
                    </a:lnTo>
                    <a:lnTo>
                      <a:pt x="0" y="296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0" name=""/>
              <p:cNvGrpSpPr/>
              <p:nvPr/>
            </p:nvGrpSpPr>
            <p:grpSpPr>
              <a:xfrm>
                <a:off x="4956120" y="1905120"/>
                <a:ext cx="992520" cy="1567440"/>
                <a:chOff x="4956120" y="1905120"/>
                <a:chExt cx="992520" cy="156744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5064120" y="2109960"/>
                  <a:ext cx="884520" cy="1362600"/>
                </a:xfrm>
                <a:custGeom>
                  <a:avLst/>
                  <a:gdLst/>
                  <a:ahLst/>
                  <a:rect l="0" t="0" r="r" b="b"/>
                  <a:pathLst>
                    <a:path w="2457" h="3785">
                      <a:moveTo>
                        <a:pt x="574" y="0"/>
                      </a:moveTo>
                      <a:lnTo>
                        <a:pt x="261" y="227"/>
                      </a:lnTo>
                      <a:lnTo>
                        <a:pt x="78" y="592"/>
                      </a:lnTo>
                      <a:lnTo>
                        <a:pt x="26" y="1049"/>
                      </a:lnTo>
                      <a:lnTo>
                        <a:pt x="0" y="2325"/>
                      </a:lnTo>
                      <a:lnTo>
                        <a:pt x="52" y="3056"/>
                      </a:lnTo>
                      <a:lnTo>
                        <a:pt x="810" y="3101"/>
                      </a:lnTo>
                      <a:lnTo>
                        <a:pt x="914" y="3512"/>
                      </a:lnTo>
                      <a:lnTo>
                        <a:pt x="1019" y="3785"/>
                      </a:lnTo>
                      <a:lnTo>
                        <a:pt x="1255" y="3785"/>
                      </a:lnTo>
                      <a:lnTo>
                        <a:pt x="1385" y="3534"/>
                      </a:lnTo>
                      <a:lnTo>
                        <a:pt x="1307" y="3101"/>
                      </a:lnTo>
                      <a:lnTo>
                        <a:pt x="2013" y="3033"/>
                      </a:lnTo>
                      <a:lnTo>
                        <a:pt x="2039" y="2599"/>
                      </a:lnTo>
                      <a:lnTo>
                        <a:pt x="2195" y="2667"/>
                      </a:lnTo>
                      <a:lnTo>
                        <a:pt x="2352" y="2622"/>
                      </a:lnTo>
                      <a:lnTo>
                        <a:pt x="2457" y="2257"/>
                      </a:lnTo>
                      <a:lnTo>
                        <a:pt x="2326" y="2075"/>
                      </a:lnTo>
                      <a:lnTo>
                        <a:pt x="2169" y="2097"/>
                      </a:lnTo>
                      <a:lnTo>
                        <a:pt x="2326" y="159"/>
                      </a:lnTo>
                      <a:lnTo>
                        <a:pt x="5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956120" y="2489040"/>
                  <a:ext cx="404640" cy="3538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303880" y="2457360"/>
                  <a:ext cx="479520" cy="420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5292720" y="1932120"/>
                  <a:ext cx="648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flipV="1">
                  <a:off x="5403960" y="1914480"/>
                  <a:ext cx="15840" cy="18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flipV="1">
                  <a:off x="5564160" y="1905120"/>
                  <a:ext cx="36720" cy="196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flipV="1">
                  <a:off x="5724360" y="1946160"/>
                  <a:ext cx="54000" cy="173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flipV="1">
                  <a:off x="5864400" y="1971720"/>
                  <a:ext cx="53640" cy="15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5092560" y="3009960"/>
                  <a:ext cx="508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991040" y="2679840"/>
                  <a:ext cx="774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1" name=""/>
            <p:cNvGrpSpPr/>
            <p:nvPr/>
          </p:nvGrpSpPr>
          <p:grpSpPr>
            <a:xfrm>
              <a:off x="5721480" y="3494160"/>
              <a:ext cx="502920" cy="1246320"/>
              <a:chOff x="5721480" y="3494160"/>
              <a:chExt cx="502920" cy="1246320"/>
            </a:xfrm>
          </p:grpSpPr>
          <p:sp>
            <p:nvSpPr>
              <p:cNvPr id="1112" name=""/>
              <p:cNvSpPr/>
              <p:nvPr/>
            </p:nvSpPr>
            <p:spPr>
              <a:xfrm>
                <a:off x="5721480" y="3494160"/>
                <a:ext cx="481320" cy="1026000"/>
              </a:xfrm>
              <a:custGeom>
                <a:avLst/>
                <a:gdLst/>
                <a:ahLst/>
                <a:rect l="0" t="0" r="r" b="b"/>
                <a:pathLst>
                  <a:path w="1337" h="2850">
                    <a:moveTo>
                      <a:pt x="235" y="0"/>
                    </a:moveTo>
                    <a:lnTo>
                      <a:pt x="78" y="91"/>
                    </a:lnTo>
                    <a:lnTo>
                      <a:pt x="0" y="364"/>
                    </a:lnTo>
                    <a:lnTo>
                      <a:pt x="209" y="1140"/>
                    </a:lnTo>
                    <a:lnTo>
                      <a:pt x="523" y="2850"/>
                    </a:lnTo>
                    <a:lnTo>
                      <a:pt x="1337" y="2713"/>
                    </a:lnTo>
                    <a:lnTo>
                      <a:pt x="970" y="1254"/>
                    </a:lnTo>
                    <a:lnTo>
                      <a:pt x="550" y="205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25960" y="4494240"/>
                <a:ext cx="298440" cy="246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4" name=""/>
            <p:cNvSpPr/>
            <p:nvPr/>
          </p:nvSpPr>
          <p:spPr>
            <a:xfrm>
              <a:off x="5257800" y="1816200"/>
              <a:ext cx="736920" cy="203400"/>
            </a:xfrm>
            <a:custGeom>
              <a:avLst/>
              <a:gdLst/>
              <a:ahLst/>
              <a:rect l="0" t="0" r="r" b="b"/>
              <a:pathLst>
                <a:path w="2047" h="565">
                  <a:moveTo>
                    <a:pt x="176" y="424"/>
                  </a:moveTo>
                  <a:lnTo>
                    <a:pt x="458" y="389"/>
                  </a:lnTo>
                  <a:lnTo>
                    <a:pt x="564" y="318"/>
                  </a:lnTo>
                  <a:lnTo>
                    <a:pt x="670" y="318"/>
                  </a:lnTo>
                  <a:lnTo>
                    <a:pt x="811" y="353"/>
                  </a:lnTo>
                  <a:lnTo>
                    <a:pt x="1094" y="389"/>
                  </a:lnTo>
                  <a:lnTo>
                    <a:pt x="1200" y="424"/>
                  </a:lnTo>
                  <a:lnTo>
                    <a:pt x="1306" y="494"/>
                  </a:lnTo>
                  <a:lnTo>
                    <a:pt x="1412" y="494"/>
                  </a:lnTo>
                  <a:lnTo>
                    <a:pt x="1517" y="565"/>
                  </a:lnTo>
                  <a:lnTo>
                    <a:pt x="1623" y="565"/>
                  </a:lnTo>
                  <a:lnTo>
                    <a:pt x="1729" y="494"/>
                  </a:lnTo>
                  <a:lnTo>
                    <a:pt x="1870" y="494"/>
                  </a:lnTo>
                  <a:lnTo>
                    <a:pt x="1976" y="494"/>
                  </a:lnTo>
                  <a:lnTo>
                    <a:pt x="2047" y="389"/>
                  </a:lnTo>
                  <a:lnTo>
                    <a:pt x="1976" y="283"/>
                  </a:lnTo>
                  <a:lnTo>
                    <a:pt x="1870" y="283"/>
                  </a:lnTo>
                  <a:lnTo>
                    <a:pt x="1764" y="283"/>
                  </a:lnTo>
                  <a:lnTo>
                    <a:pt x="1659" y="283"/>
                  </a:lnTo>
                  <a:lnTo>
                    <a:pt x="1553" y="283"/>
                  </a:lnTo>
                  <a:lnTo>
                    <a:pt x="1447" y="211"/>
                  </a:lnTo>
                  <a:lnTo>
                    <a:pt x="1306" y="141"/>
                  </a:lnTo>
                  <a:lnTo>
                    <a:pt x="1165" y="141"/>
                  </a:lnTo>
                  <a:lnTo>
                    <a:pt x="1059" y="70"/>
                  </a:lnTo>
                  <a:lnTo>
                    <a:pt x="952" y="70"/>
                  </a:lnTo>
                  <a:lnTo>
                    <a:pt x="846" y="35"/>
                  </a:lnTo>
                  <a:lnTo>
                    <a:pt x="740" y="0"/>
                  </a:lnTo>
                  <a:lnTo>
                    <a:pt x="635" y="0"/>
                  </a:lnTo>
                  <a:lnTo>
                    <a:pt x="529" y="0"/>
                  </a:lnTo>
                  <a:lnTo>
                    <a:pt x="423" y="0"/>
                  </a:lnTo>
                  <a:lnTo>
                    <a:pt x="317" y="0"/>
                  </a:lnTo>
                  <a:lnTo>
                    <a:pt x="211" y="70"/>
                  </a:lnTo>
                  <a:lnTo>
                    <a:pt x="105" y="141"/>
                  </a:lnTo>
                  <a:lnTo>
                    <a:pt x="0" y="176"/>
                  </a:lnTo>
                  <a:lnTo>
                    <a:pt x="0" y="283"/>
                  </a:lnTo>
                  <a:lnTo>
                    <a:pt x="35" y="389"/>
                  </a:lnTo>
                  <a:lnTo>
                    <a:pt x="176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1219320" y="3657600"/>
            <a:ext cx="1219680" cy="762480"/>
            <a:chOff x="1219320" y="3657600"/>
            <a:chExt cx="1219680" cy="762480"/>
          </a:xfrm>
        </p:grpSpPr>
        <p:sp>
          <p:nvSpPr>
            <p:cNvPr id="1116" name=""/>
            <p:cNvSpPr/>
            <p:nvPr/>
          </p:nvSpPr>
          <p:spPr>
            <a:xfrm>
              <a:off x="1219320" y="3657600"/>
              <a:ext cx="1219680" cy="762480"/>
            </a:xfrm>
            <a:custGeom>
              <a:avLst/>
              <a:gdLst/>
              <a:ahLst/>
              <a:rect l="0" t="0" r="r" b="b"/>
              <a:pathLst>
                <a:path w="3388" h="2118">
                  <a:moveTo>
                    <a:pt x="3388" y="1907"/>
                  </a:moveTo>
                  <a:lnTo>
                    <a:pt x="3388" y="423"/>
                  </a:lnTo>
                  <a:lnTo>
                    <a:pt x="3049" y="211"/>
                  </a:lnTo>
                  <a:lnTo>
                    <a:pt x="2711" y="211"/>
                  </a:lnTo>
                  <a:lnTo>
                    <a:pt x="3049" y="0"/>
                  </a:lnTo>
                  <a:lnTo>
                    <a:pt x="2371" y="211"/>
                  </a:lnTo>
                  <a:lnTo>
                    <a:pt x="338" y="211"/>
                  </a:lnTo>
                  <a:lnTo>
                    <a:pt x="0" y="423"/>
                  </a:lnTo>
                  <a:lnTo>
                    <a:pt x="0" y="1907"/>
                  </a:lnTo>
                  <a:lnTo>
                    <a:pt x="338" y="2118"/>
                  </a:lnTo>
                  <a:lnTo>
                    <a:pt x="3049" y="2118"/>
                  </a:lnTo>
                  <a:lnTo>
                    <a:pt x="3388" y="1907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 txBox="1"/>
            <p:nvPr/>
          </p:nvSpPr>
          <p:spPr>
            <a:xfrm>
              <a:off x="1219320" y="3886200"/>
              <a:ext cx="10666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…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4284720" y="3657600"/>
            <a:ext cx="59040" cy="140040"/>
            <a:chOff x="4284720" y="3657600"/>
            <a:chExt cx="59040" cy="140040"/>
          </a:xfrm>
        </p:grpSpPr>
        <p:sp>
          <p:nvSpPr>
            <p:cNvPr id="1119" name=""/>
            <p:cNvSpPr/>
            <p:nvPr/>
          </p:nvSpPr>
          <p:spPr>
            <a:xfrm>
              <a:off x="4284720" y="3657600"/>
              <a:ext cx="59040" cy="140040"/>
            </a:xfrm>
            <a:custGeom>
              <a:avLst/>
              <a:gdLst/>
              <a:ahLst/>
              <a:rect l="0" t="0" r="r" b="b"/>
              <a:pathLst>
                <a:path w="164" h="389">
                  <a:moveTo>
                    <a:pt x="0" y="0"/>
                  </a:moveTo>
                  <a:lnTo>
                    <a:pt x="7" y="196"/>
                  </a:lnTo>
                  <a:lnTo>
                    <a:pt x="30" y="134"/>
                  </a:lnTo>
                  <a:lnTo>
                    <a:pt x="49" y="389"/>
                  </a:lnTo>
                  <a:lnTo>
                    <a:pt x="75" y="141"/>
                  </a:lnTo>
                  <a:lnTo>
                    <a:pt x="91" y="200"/>
                  </a:lnTo>
                  <a:lnTo>
                    <a:pt x="120" y="58"/>
                  </a:lnTo>
                  <a:lnTo>
                    <a:pt x="131" y="119"/>
                  </a:lnTo>
                  <a:lnTo>
                    <a:pt x="164" y="29"/>
                  </a:lnTo>
                  <a:lnTo>
                    <a:pt x="145" y="21"/>
                  </a:lnTo>
                  <a:lnTo>
                    <a:pt x="126" y="18"/>
                  </a:lnTo>
                  <a:lnTo>
                    <a:pt x="114" y="18"/>
                  </a:lnTo>
                  <a:lnTo>
                    <a:pt x="1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290840" y="3659040"/>
              <a:ext cx="35280" cy="82800"/>
            </a:xfrm>
            <a:custGeom>
              <a:avLst/>
              <a:gdLst/>
              <a:ahLst/>
              <a:rect l="0" t="0" r="r" b="b"/>
              <a:pathLst>
                <a:path w="98" h="230">
                  <a:moveTo>
                    <a:pt x="0" y="0"/>
                  </a:moveTo>
                  <a:lnTo>
                    <a:pt x="98" y="14"/>
                  </a:lnTo>
                  <a:lnTo>
                    <a:pt x="72" y="119"/>
                  </a:lnTo>
                  <a:lnTo>
                    <a:pt x="58" y="78"/>
                  </a:lnTo>
                  <a:lnTo>
                    <a:pt x="33" y="230"/>
                  </a:lnTo>
                  <a:lnTo>
                    <a:pt x="22" y="71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3314880" y="4033800"/>
            <a:ext cx="176400" cy="322560"/>
            <a:chOff x="3314880" y="4033800"/>
            <a:chExt cx="176400" cy="322560"/>
          </a:xfrm>
        </p:grpSpPr>
        <p:sp>
          <p:nvSpPr>
            <p:cNvPr id="1122" name=""/>
            <p:cNvSpPr/>
            <p:nvPr/>
          </p:nvSpPr>
          <p:spPr>
            <a:xfrm>
              <a:off x="3314880" y="4033800"/>
              <a:ext cx="176400" cy="322560"/>
            </a:xfrm>
            <a:custGeom>
              <a:avLst/>
              <a:gdLst/>
              <a:ahLst/>
              <a:rect l="0" t="0" r="r" b="b"/>
              <a:pathLst>
                <a:path w="490" h="896">
                  <a:moveTo>
                    <a:pt x="0" y="0"/>
                  </a:moveTo>
                  <a:lnTo>
                    <a:pt x="21" y="452"/>
                  </a:lnTo>
                  <a:lnTo>
                    <a:pt x="92" y="309"/>
                  </a:lnTo>
                  <a:lnTo>
                    <a:pt x="147" y="896"/>
                  </a:lnTo>
                  <a:lnTo>
                    <a:pt x="227" y="326"/>
                  </a:lnTo>
                  <a:lnTo>
                    <a:pt x="271" y="461"/>
                  </a:lnTo>
                  <a:lnTo>
                    <a:pt x="359" y="133"/>
                  </a:lnTo>
                  <a:lnTo>
                    <a:pt x="393" y="276"/>
                  </a:lnTo>
                  <a:lnTo>
                    <a:pt x="490" y="66"/>
                  </a:lnTo>
                  <a:lnTo>
                    <a:pt x="435" y="50"/>
                  </a:lnTo>
                  <a:lnTo>
                    <a:pt x="376" y="41"/>
                  </a:lnTo>
                  <a:lnTo>
                    <a:pt x="342" y="41"/>
                  </a:lnTo>
                  <a:lnTo>
                    <a:pt x="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332160" y="4037040"/>
              <a:ext cx="106560" cy="192600"/>
            </a:xfrm>
            <a:custGeom>
              <a:avLst/>
              <a:gdLst/>
              <a:ahLst/>
              <a:rect l="0" t="0" r="r" b="b"/>
              <a:pathLst>
                <a:path w="296" h="535">
                  <a:moveTo>
                    <a:pt x="0" y="0"/>
                  </a:moveTo>
                  <a:lnTo>
                    <a:pt x="296" y="33"/>
                  </a:lnTo>
                  <a:lnTo>
                    <a:pt x="219" y="276"/>
                  </a:lnTo>
                  <a:lnTo>
                    <a:pt x="176" y="184"/>
                  </a:lnTo>
                  <a:lnTo>
                    <a:pt x="102" y="535"/>
                  </a:lnTo>
                  <a:lnTo>
                    <a:pt x="68" y="167"/>
                  </a:lnTo>
                  <a:lnTo>
                    <a:pt x="0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2976480" y="4516560"/>
            <a:ext cx="224280" cy="437040"/>
            <a:chOff x="2976480" y="4516560"/>
            <a:chExt cx="224280" cy="437040"/>
          </a:xfrm>
        </p:grpSpPr>
        <p:sp>
          <p:nvSpPr>
            <p:cNvPr id="1125" name=""/>
            <p:cNvSpPr/>
            <p:nvPr/>
          </p:nvSpPr>
          <p:spPr>
            <a:xfrm>
              <a:off x="2976480" y="4516560"/>
              <a:ext cx="224280" cy="437040"/>
            </a:xfrm>
            <a:custGeom>
              <a:avLst/>
              <a:gdLst/>
              <a:ahLst/>
              <a:rect l="0" t="0" r="r" b="b"/>
              <a:pathLst>
                <a:path w="623" h="1214">
                  <a:moveTo>
                    <a:pt x="0" y="0"/>
                  </a:moveTo>
                  <a:lnTo>
                    <a:pt x="26" y="613"/>
                  </a:lnTo>
                  <a:lnTo>
                    <a:pt x="117" y="420"/>
                  </a:lnTo>
                  <a:lnTo>
                    <a:pt x="188" y="1214"/>
                  </a:lnTo>
                  <a:lnTo>
                    <a:pt x="290" y="443"/>
                  </a:lnTo>
                  <a:lnTo>
                    <a:pt x="344" y="624"/>
                  </a:lnTo>
                  <a:lnTo>
                    <a:pt x="456" y="181"/>
                  </a:lnTo>
                  <a:lnTo>
                    <a:pt x="500" y="375"/>
                  </a:lnTo>
                  <a:lnTo>
                    <a:pt x="623" y="90"/>
                  </a:lnTo>
                  <a:lnTo>
                    <a:pt x="554" y="67"/>
                  </a:lnTo>
                  <a:lnTo>
                    <a:pt x="479" y="56"/>
                  </a:lnTo>
                  <a:lnTo>
                    <a:pt x="435" y="56"/>
                  </a:lnTo>
                  <a:lnTo>
                    <a:pt x="64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000240" y="4521240"/>
              <a:ext cx="132120" cy="260640"/>
            </a:xfrm>
            <a:custGeom>
              <a:avLst/>
              <a:gdLst/>
              <a:ahLst/>
              <a:rect l="0" t="0" r="r" b="b"/>
              <a:pathLst>
                <a:path w="367" h="724">
                  <a:moveTo>
                    <a:pt x="0" y="0"/>
                  </a:moveTo>
                  <a:lnTo>
                    <a:pt x="367" y="45"/>
                  </a:lnTo>
                  <a:lnTo>
                    <a:pt x="271" y="373"/>
                  </a:lnTo>
                  <a:lnTo>
                    <a:pt x="218" y="248"/>
                  </a:lnTo>
                  <a:lnTo>
                    <a:pt x="127" y="724"/>
                  </a:lnTo>
                  <a:lnTo>
                    <a:pt x="84" y="225"/>
                  </a:lnTo>
                  <a:lnTo>
                    <a:pt x="0" y="3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4295880" y="2144880"/>
            <a:ext cx="582840" cy="959040"/>
            <a:chOff x="4295880" y="2144880"/>
            <a:chExt cx="582840" cy="959040"/>
          </a:xfrm>
        </p:grpSpPr>
        <p:grpSp>
          <p:nvGrpSpPr>
            <p:cNvPr id="1128" name=""/>
            <p:cNvGrpSpPr/>
            <p:nvPr/>
          </p:nvGrpSpPr>
          <p:grpSpPr>
            <a:xfrm>
              <a:off x="4295880" y="2346480"/>
              <a:ext cx="368640" cy="757440"/>
              <a:chOff x="4295880" y="2346480"/>
              <a:chExt cx="368640" cy="757440"/>
            </a:xfrm>
          </p:grpSpPr>
          <p:sp>
            <p:nvSpPr>
              <p:cNvPr id="1129" name=""/>
              <p:cNvSpPr/>
              <p:nvPr/>
            </p:nvSpPr>
            <p:spPr>
              <a:xfrm>
                <a:off x="4295880" y="2346480"/>
                <a:ext cx="357480" cy="752760"/>
              </a:xfrm>
              <a:custGeom>
                <a:avLst/>
                <a:gdLst/>
                <a:ahLst/>
                <a:rect l="0" t="0" r="r" b="b"/>
                <a:pathLst>
                  <a:path w="993" h="2091">
                    <a:moveTo>
                      <a:pt x="993" y="79"/>
                    </a:moveTo>
                    <a:lnTo>
                      <a:pt x="799" y="692"/>
                    </a:lnTo>
                    <a:lnTo>
                      <a:pt x="644" y="1147"/>
                    </a:lnTo>
                    <a:lnTo>
                      <a:pt x="503" y="1566"/>
                    </a:lnTo>
                    <a:lnTo>
                      <a:pt x="463" y="1747"/>
                    </a:lnTo>
                    <a:lnTo>
                      <a:pt x="427" y="1976"/>
                    </a:lnTo>
                    <a:lnTo>
                      <a:pt x="410" y="2082"/>
                    </a:lnTo>
                    <a:lnTo>
                      <a:pt x="268" y="2091"/>
                    </a:lnTo>
                    <a:lnTo>
                      <a:pt x="132" y="2055"/>
                    </a:lnTo>
                    <a:lnTo>
                      <a:pt x="44" y="2003"/>
                    </a:lnTo>
                    <a:lnTo>
                      <a:pt x="0" y="1967"/>
                    </a:lnTo>
                    <a:lnTo>
                      <a:pt x="92" y="1760"/>
                    </a:lnTo>
                    <a:lnTo>
                      <a:pt x="202" y="1469"/>
                    </a:lnTo>
                    <a:lnTo>
                      <a:pt x="370" y="1072"/>
                    </a:lnTo>
                    <a:lnTo>
                      <a:pt x="503" y="727"/>
                    </a:lnTo>
                    <a:lnTo>
                      <a:pt x="662" y="339"/>
                    </a:lnTo>
                    <a:lnTo>
                      <a:pt x="790" y="0"/>
                    </a:lnTo>
                    <a:lnTo>
                      <a:pt x="993" y="79"/>
                    </a:lnTo>
                    <a:close/>
                  </a:path>
                </a:pathLst>
              </a:custGeom>
              <a:solidFill>
                <a:srgbClr val="60606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303800" y="2351160"/>
                <a:ext cx="360720" cy="752760"/>
              </a:xfrm>
              <a:custGeom>
                <a:avLst/>
                <a:gdLst/>
                <a:ahLst/>
                <a:rect l="0" t="0" r="r" b="b"/>
                <a:pathLst>
                  <a:path w="1002" h="2091">
                    <a:moveTo>
                      <a:pt x="1002" y="79"/>
                    </a:moveTo>
                    <a:lnTo>
                      <a:pt x="803" y="687"/>
                    </a:lnTo>
                    <a:lnTo>
                      <a:pt x="644" y="1143"/>
                    </a:lnTo>
                    <a:lnTo>
                      <a:pt x="512" y="1562"/>
                    </a:lnTo>
                    <a:lnTo>
                      <a:pt x="467" y="1738"/>
                    </a:lnTo>
                    <a:lnTo>
                      <a:pt x="432" y="1967"/>
                    </a:lnTo>
                    <a:lnTo>
                      <a:pt x="410" y="2073"/>
                    </a:lnTo>
                    <a:lnTo>
                      <a:pt x="348" y="2082"/>
                    </a:lnTo>
                    <a:lnTo>
                      <a:pt x="264" y="2091"/>
                    </a:lnTo>
                    <a:lnTo>
                      <a:pt x="198" y="2073"/>
                    </a:lnTo>
                    <a:lnTo>
                      <a:pt x="123" y="2051"/>
                    </a:lnTo>
                    <a:lnTo>
                      <a:pt x="92" y="2038"/>
                    </a:lnTo>
                    <a:lnTo>
                      <a:pt x="39" y="2007"/>
                    </a:lnTo>
                    <a:lnTo>
                      <a:pt x="0" y="1967"/>
                    </a:lnTo>
                    <a:lnTo>
                      <a:pt x="92" y="1756"/>
                    </a:lnTo>
                    <a:lnTo>
                      <a:pt x="202" y="1469"/>
                    </a:lnTo>
                    <a:lnTo>
                      <a:pt x="374" y="1068"/>
                    </a:lnTo>
                    <a:lnTo>
                      <a:pt x="512" y="723"/>
                    </a:lnTo>
                    <a:lnTo>
                      <a:pt x="671" y="335"/>
                    </a:lnTo>
                    <a:lnTo>
                      <a:pt x="799" y="0"/>
                    </a:lnTo>
                    <a:lnTo>
                      <a:pt x="1002" y="79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"/>
            <p:cNvGrpSpPr/>
            <p:nvPr/>
          </p:nvGrpSpPr>
          <p:grpSpPr>
            <a:xfrm>
              <a:off x="4492800" y="2168640"/>
              <a:ext cx="385920" cy="277920"/>
              <a:chOff x="4492800" y="2168640"/>
              <a:chExt cx="385920" cy="277920"/>
            </a:xfrm>
          </p:grpSpPr>
          <p:sp>
            <p:nvSpPr>
              <p:cNvPr id="1132" name=""/>
              <p:cNvSpPr/>
              <p:nvPr/>
            </p:nvSpPr>
            <p:spPr>
              <a:xfrm>
                <a:off x="4492800" y="2174760"/>
                <a:ext cx="381240" cy="271800"/>
              </a:xfrm>
              <a:custGeom>
                <a:avLst/>
                <a:gdLst/>
                <a:ahLst/>
                <a:rect l="0" t="0" r="r" b="b"/>
                <a:pathLst>
                  <a:path w="1059" h="755">
                    <a:moveTo>
                      <a:pt x="35" y="0"/>
                    </a:moveTo>
                    <a:lnTo>
                      <a:pt x="0" y="185"/>
                    </a:lnTo>
                    <a:lnTo>
                      <a:pt x="233" y="268"/>
                    </a:lnTo>
                    <a:lnTo>
                      <a:pt x="264" y="299"/>
                    </a:lnTo>
                    <a:lnTo>
                      <a:pt x="282" y="335"/>
                    </a:lnTo>
                    <a:lnTo>
                      <a:pt x="286" y="374"/>
                    </a:lnTo>
                    <a:lnTo>
                      <a:pt x="246" y="486"/>
                    </a:lnTo>
                    <a:lnTo>
                      <a:pt x="476" y="569"/>
                    </a:lnTo>
                    <a:lnTo>
                      <a:pt x="524" y="441"/>
                    </a:lnTo>
                    <a:lnTo>
                      <a:pt x="556" y="406"/>
                    </a:lnTo>
                    <a:lnTo>
                      <a:pt x="596" y="389"/>
                    </a:lnTo>
                    <a:lnTo>
                      <a:pt x="636" y="384"/>
                    </a:lnTo>
                    <a:lnTo>
                      <a:pt x="666" y="393"/>
                    </a:lnTo>
                    <a:lnTo>
                      <a:pt x="702" y="406"/>
                    </a:lnTo>
                    <a:lnTo>
                      <a:pt x="768" y="450"/>
                    </a:lnTo>
                    <a:lnTo>
                      <a:pt x="847" y="508"/>
                    </a:lnTo>
                    <a:lnTo>
                      <a:pt x="935" y="596"/>
                    </a:lnTo>
                    <a:lnTo>
                      <a:pt x="1002" y="684"/>
                    </a:lnTo>
                    <a:lnTo>
                      <a:pt x="1059" y="755"/>
                    </a:lnTo>
                    <a:lnTo>
                      <a:pt x="984" y="591"/>
                    </a:lnTo>
                    <a:lnTo>
                      <a:pt x="896" y="446"/>
                    </a:lnTo>
                    <a:lnTo>
                      <a:pt x="838" y="366"/>
                    </a:lnTo>
                    <a:lnTo>
                      <a:pt x="799" y="317"/>
                    </a:lnTo>
                    <a:lnTo>
                      <a:pt x="697" y="229"/>
                    </a:lnTo>
                    <a:lnTo>
                      <a:pt x="627" y="185"/>
                    </a:lnTo>
                    <a:lnTo>
                      <a:pt x="552" y="145"/>
                    </a:lnTo>
                    <a:lnTo>
                      <a:pt x="471" y="114"/>
                    </a:lnTo>
                    <a:lnTo>
                      <a:pt x="392" y="88"/>
                    </a:lnTo>
                    <a:lnTo>
                      <a:pt x="291" y="61"/>
                    </a:lnTo>
                    <a:lnTo>
                      <a:pt x="198" y="4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495680" y="2168640"/>
                <a:ext cx="383040" cy="268560"/>
              </a:xfrm>
              <a:custGeom>
                <a:avLst/>
                <a:gdLst/>
                <a:ahLst/>
                <a:rect l="0" t="0" r="r" b="b"/>
                <a:pathLst>
                  <a:path w="1064" h="746">
                    <a:moveTo>
                      <a:pt x="35" y="0"/>
                    </a:moveTo>
                    <a:lnTo>
                      <a:pt x="0" y="180"/>
                    </a:lnTo>
                    <a:lnTo>
                      <a:pt x="229" y="260"/>
                    </a:lnTo>
                    <a:lnTo>
                      <a:pt x="260" y="291"/>
                    </a:lnTo>
                    <a:lnTo>
                      <a:pt x="287" y="321"/>
                    </a:lnTo>
                    <a:lnTo>
                      <a:pt x="283" y="361"/>
                    </a:lnTo>
                    <a:lnTo>
                      <a:pt x="246" y="477"/>
                    </a:lnTo>
                    <a:lnTo>
                      <a:pt x="477" y="556"/>
                    </a:lnTo>
                    <a:lnTo>
                      <a:pt x="530" y="437"/>
                    </a:lnTo>
                    <a:lnTo>
                      <a:pt x="556" y="397"/>
                    </a:lnTo>
                    <a:lnTo>
                      <a:pt x="600" y="384"/>
                    </a:lnTo>
                    <a:lnTo>
                      <a:pt x="640" y="380"/>
                    </a:lnTo>
                    <a:lnTo>
                      <a:pt x="662" y="384"/>
                    </a:lnTo>
                    <a:lnTo>
                      <a:pt x="702" y="397"/>
                    </a:lnTo>
                    <a:lnTo>
                      <a:pt x="768" y="446"/>
                    </a:lnTo>
                    <a:lnTo>
                      <a:pt x="844" y="499"/>
                    </a:lnTo>
                    <a:lnTo>
                      <a:pt x="932" y="587"/>
                    </a:lnTo>
                    <a:lnTo>
                      <a:pt x="1007" y="675"/>
                    </a:lnTo>
                    <a:lnTo>
                      <a:pt x="1064" y="746"/>
                    </a:lnTo>
                    <a:lnTo>
                      <a:pt x="985" y="583"/>
                    </a:lnTo>
                    <a:lnTo>
                      <a:pt x="897" y="433"/>
                    </a:lnTo>
                    <a:lnTo>
                      <a:pt x="839" y="352"/>
                    </a:lnTo>
                    <a:lnTo>
                      <a:pt x="794" y="308"/>
                    </a:lnTo>
                    <a:lnTo>
                      <a:pt x="755" y="255"/>
                    </a:lnTo>
                    <a:lnTo>
                      <a:pt x="693" y="216"/>
                    </a:lnTo>
                    <a:lnTo>
                      <a:pt x="618" y="176"/>
                    </a:lnTo>
                    <a:lnTo>
                      <a:pt x="552" y="136"/>
                    </a:lnTo>
                    <a:lnTo>
                      <a:pt x="472" y="105"/>
                    </a:lnTo>
                    <a:lnTo>
                      <a:pt x="393" y="83"/>
                    </a:lnTo>
                    <a:lnTo>
                      <a:pt x="292" y="52"/>
                    </a:lnTo>
                    <a:lnTo>
                      <a:pt x="194" y="3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4429080" y="2144880"/>
              <a:ext cx="87480" cy="109800"/>
              <a:chOff x="4429080" y="2144880"/>
              <a:chExt cx="87480" cy="109800"/>
            </a:xfrm>
          </p:grpSpPr>
          <p:sp>
            <p:nvSpPr>
              <p:cNvPr id="1135" name=""/>
              <p:cNvSpPr/>
              <p:nvPr/>
            </p:nvSpPr>
            <p:spPr>
              <a:xfrm>
                <a:off x="4429080" y="2146320"/>
                <a:ext cx="81360" cy="108360"/>
              </a:xfrm>
              <a:custGeom>
                <a:avLst/>
                <a:gdLst/>
                <a:ahLst/>
                <a:rect l="0" t="0" r="r" b="b"/>
                <a:pathLst>
                  <a:path w="226" h="301">
                    <a:moveTo>
                      <a:pt x="226" y="35"/>
                    </a:moveTo>
                    <a:lnTo>
                      <a:pt x="191" y="172"/>
                    </a:lnTo>
                    <a:lnTo>
                      <a:pt x="155" y="301"/>
                    </a:lnTo>
                    <a:lnTo>
                      <a:pt x="8" y="270"/>
                    </a:lnTo>
                    <a:lnTo>
                      <a:pt x="8" y="240"/>
                    </a:lnTo>
                    <a:lnTo>
                      <a:pt x="0" y="195"/>
                    </a:lnTo>
                    <a:lnTo>
                      <a:pt x="8" y="164"/>
                    </a:lnTo>
                    <a:lnTo>
                      <a:pt x="22" y="106"/>
                    </a:lnTo>
                    <a:lnTo>
                      <a:pt x="48" y="61"/>
                    </a:lnTo>
                    <a:lnTo>
                      <a:pt x="67" y="26"/>
                    </a:lnTo>
                    <a:lnTo>
                      <a:pt x="102" y="0"/>
                    </a:lnTo>
                    <a:lnTo>
                      <a:pt x="226" y="3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437000" y="2144880"/>
                <a:ext cx="79560" cy="106560"/>
              </a:xfrm>
              <a:custGeom>
                <a:avLst/>
                <a:gdLst/>
                <a:ahLst/>
                <a:rect l="0" t="0" r="r" b="b"/>
                <a:pathLst>
                  <a:path w="221" h="296">
                    <a:moveTo>
                      <a:pt x="221" y="39"/>
                    </a:moveTo>
                    <a:lnTo>
                      <a:pt x="181" y="177"/>
                    </a:lnTo>
                    <a:lnTo>
                      <a:pt x="159" y="296"/>
                    </a:lnTo>
                    <a:lnTo>
                      <a:pt x="8" y="269"/>
                    </a:lnTo>
                    <a:lnTo>
                      <a:pt x="0" y="230"/>
                    </a:lnTo>
                    <a:lnTo>
                      <a:pt x="4" y="195"/>
                    </a:lnTo>
                    <a:lnTo>
                      <a:pt x="4" y="164"/>
                    </a:lnTo>
                    <a:lnTo>
                      <a:pt x="26" y="105"/>
                    </a:lnTo>
                    <a:lnTo>
                      <a:pt x="48" y="52"/>
                    </a:lnTo>
                    <a:lnTo>
                      <a:pt x="70" y="22"/>
                    </a:lnTo>
                    <a:lnTo>
                      <a:pt x="97" y="0"/>
                    </a:lnTo>
                    <a:lnTo>
                      <a:pt x="221" y="3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7" name=""/>
          <p:cNvSpPr/>
          <p:nvPr/>
        </p:nvSpPr>
        <p:spPr>
          <a:xfrm>
            <a:off x="1371600" y="3808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1371600" y="380880"/>
            <a:ext cx="5943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Fact, We Even Punish Those Gu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T #3  OPS</dc:creator>
  <dc:description/>
  <dc:language>en-US</dc:language>
  <cp:lastModifiedBy>CSCT #3  OPS</cp:lastModifiedBy>
  <cp:revision>0</cp:revision>
  <dc:subject/>
  <dc:title>No Slide Title</dc:title>
</cp:coreProperties>
</file>