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bmp" ContentType="image/bmp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76320"/>
            <a:ext cx="9142920" cy="6642000"/>
            <a:chOff x="0" y="76320"/>
            <a:chExt cx="9142920" cy="6642000"/>
          </a:xfrm>
        </p:grpSpPr>
        <p:sp>
          <p:nvSpPr>
            <p:cNvPr id="40" name=""/>
            <p:cNvSpPr/>
            <p:nvPr/>
          </p:nvSpPr>
          <p:spPr>
            <a:xfrm>
              <a:off x="19080" y="749160"/>
              <a:ext cx="9110880" cy="381240"/>
            </a:xfrm>
            <a:custGeom>
              <a:avLst/>
              <a:gdLst/>
              <a:ahLst/>
              <a:rect l="0" t="0" r="r" b="b"/>
              <a:pathLst>
                <a:path fill="none" w="25308" h="1059">
                  <a:moveTo>
                    <a:pt x="0" y="141"/>
                  </a:moveTo>
                  <a:lnTo>
                    <a:pt x="367" y="565"/>
                  </a:lnTo>
                  <a:lnTo>
                    <a:pt x="881" y="847"/>
                  </a:lnTo>
                  <a:lnTo>
                    <a:pt x="1616" y="953"/>
                  </a:lnTo>
                  <a:lnTo>
                    <a:pt x="2975" y="1059"/>
                  </a:lnTo>
                  <a:lnTo>
                    <a:pt x="22590" y="1059"/>
                  </a:lnTo>
                  <a:lnTo>
                    <a:pt x="24206" y="847"/>
                  </a:lnTo>
                  <a:lnTo>
                    <a:pt x="25014" y="458"/>
                  </a:lnTo>
                  <a:lnTo>
                    <a:pt x="25308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" name=""/>
            <p:cNvGrpSpPr/>
            <p:nvPr/>
          </p:nvGrpSpPr>
          <p:grpSpPr>
            <a:xfrm>
              <a:off x="0" y="76320"/>
              <a:ext cx="9142920" cy="6642000"/>
              <a:chOff x="0" y="76320"/>
              <a:chExt cx="9142920" cy="6642000"/>
            </a:xfrm>
          </p:grpSpPr>
          <p:sp>
            <p:nvSpPr>
              <p:cNvPr id="42" name=""/>
              <p:cNvSpPr/>
              <p:nvPr/>
            </p:nvSpPr>
            <p:spPr>
              <a:xfrm>
                <a:off x="19080" y="76320"/>
                <a:ext cx="9123840" cy="775080"/>
              </a:xfrm>
              <a:custGeom>
                <a:avLst/>
                <a:gdLst/>
                <a:ahLst/>
                <a:rect l="0" t="0" r="r" b="b"/>
                <a:pathLst>
                  <a:path fill="none" w="25344" h="2153">
                    <a:moveTo>
                      <a:pt x="0" y="1871"/>
                    </a:moveTo>
                    <a:lnTo>
                      <a:pt x="514" y="2083"/>
                    </a:lnTo>
                    <a:lnTo>
                      <a:pt x="1028" y="2153"/>
                    </a:lnTo>
                    <a:lnTo>
                      <a:pt x="1469" y="2048"/>
                    </a:lnTo>
                    <a:lnTo>
                      <a:pt x="1946" y="1341"/>
                    </a:lnTo>
                    <a:lnTo>
                      <a:pt x="2203" y="458"/>
                    </a:lnTo>
                    <a:lnTo>
                      <a:pt x="2056" y="0"/>
                    </a:lnTo>
                    <a:lnTo>
                      <a:pt x="22479" y="0"/>
                    </a:lnTo>
                    <a:lnTo>
                      <a:pt x="22443" y="529"/>
                    </a:lnTo>
                    <a:lnTo>
                      <a:pt x="22736" y="1306"/>
                    </a:lnTo>
                    <a:lnTo>
                      <a:pt x="23544" y="1977"/>
                    </a:lnTo>
                    <a:lnTo>
                      <a:pt x="24536" y="2048"/>
                    </a:lnTo>
                    <a:lnTo>
                      <a:pt x="25344" y="180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46280" y="1079640"/>
                <a:ext cx="237960" cy="5562720"/>
              </a:xfrm>
              <a:prstGeom prst="rect">
                <a:avLst/>
              </a:prstGeom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0"/>
              </a:gra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807320" y="1079640"/>
                <a:ext cx="236520" cy="5562720"/>
              </a:xfrm>
              <a:prstGeom prst="rect">
                <a:avLst/>
              </a:prstGeom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0"/>
              </a:gra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" name=""/>
              <p:cNvGrpSpPr/>
              <p:nvPr/>
            </p:nvGrpSpPr>
            <p:grpSpPr>
              <a:xfrm>
                <a:off x="271440" y="6032520"/>
                <a:ext cx="8407440" cy="685800"/>
                <a:chOff x="271440" y="6032520"/>
                <a:chExt cx="8407440" cy="68580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88960" y="6032520"/>
                  <a:ext cx="769320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5400000"/>
                </a:gra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28760" y="6261120"/>
                  <a:ext cx="801360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5400000"/>
                </a:gra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71440" y="6489720"/>
                  <a:ext cx="840744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5400000"/>
                </a:gra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" name=""/>
              <p:cNvSpPr/>
              <p:nvPr/>
            </p:nvSpPr>
            <p:spPr>
              <a:xfrm>
                <a:off x="0" y="88920"/>
                <a:ext cx="9136440" cy="1035360"/>
              </a:xfrm>
              <a:custGeom>
                <a:avLst/>
                <a:gdLst/>
                <a:ahLst/>
                <a:rect l="0" t="0" r="r" b="b"/>
                <a:pathLst>
                  <a:path w="25379" h="2876">
                    <a:moveTo>
                      <a:pt x="0" y="1853"/>
                    </a:moveTo>
                    <a:lnTo>
                      <a:pt x="201" y="2117"/>
                    </a:lnTo>
                    <a:lnTo>
                      <a:pt x="422" y="2382"/>
                    </a:lnTo>
                    <a:lnTo>
                      <a:pt x="936" y="2646"/>
                    </a:lnTo>
                    <a:lnTo>
                      <a:pt x="1744" y="2770"/>
                    </a:lnTo>
                    <a:lnTo>
                      <a:pt x="2056" y="2787"/>
                    </a:lnTo>
                    <a:lnTo>
                      <a:pt x="3360" y="2876"/>
                    </a:lnTo>
                    <a:lnTo>
                      <a:pt x="22588" y="2876"/>
                    </a:lnTo>
                    <a:lnTo>
                      <a:pt x="24241" y="2664"/>
                    </a:lnTo>
                    <a:lnTo>
                      <a:pt x="25031" y="2276"/>
                    </a:lnTo>
                    <a:lnTo>
                      <a:pt x="25379" y="1764"/>
                    </a:lnTo>
                    <a:lnTo>
                      <a:pt x="24608" y="2029"/>
                    </a:lnTo>
                    <a:lnTo>
                      <a:pt x="23543" y="1958"/>
                    </a:lnTo>
                    <a:lnTo>
                      <a:pt x="22772" y="1287"/>
                    </a:lnTo>
                    <a:lnTo>
                      <a:pt x="22441" y="458"/>
                    </a:lnTo>
                    <a:lnTo>
                      <a:pt x="22515" y="0"/>
                    </a:lnTo>
                    <a:lnTo>
                      <a:pt x="2130" y="0"/>
                    </a:lnTo>
                    <a:lnTo>
                      <a:pt x="2295" y="458"/>
                    </a:lnTo>
                    <a:lnTo>
                      <a:pt x="2038" y="1287"/>
                    </a:lnTo>
                    <a:lnTo>
                      <a:pt x="1542" y="2064"/>
                    </a:lnTo>
                    <a:lnTo>
                      <a:pt x="1101" y="2135"/>
                    </a:lnTo>
                    <a:lnTo>
                      <a:pt x="569" y="2064"/>
                    </a:lnTo>
                    <a:lnTo>
                      <a:pt x="0" y="18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" name=""/>
          <p:cNvGrpSpPr/>
          <p:nvPr/>
        </p:nvGrpSpPr>
        <p:grpSpPr>
          <a:xfrm>
            <a:off x="3048120" y="2057400"/>
            <a:ext cx="3124440" cy="2895840"/>
            <a:chOff x="3048120" y="2057400"/>
            <a:chExt cx="3124440" cy="2895840"/>
          </a:xfrm>
        </p:grpSpPr>
        <p:sp>
          <p:nvSpPr>
            <p:cNvPr id="51" name=""/>
            <p:cNvSpPr/>
            <p:nvPr/>
          </p:nvSpPr>
          <p:spPr>
            <a:xfrm>
              <a:off x="3165480" y="2568600"/>
              <a:ext cx="2876760" cy="2384640"/>
            </a:xfrm>
            <a:custGeom>
              <a:avLst/>
              <a:gdLst/>
              <a:ahLst/>
              <a:rect l="0" t="0" r="r" b="b"/>
              <a:pathLst>
                <a:path w="7991" h="6624">
                  <a:moveTo>
                    <a:pt x="4000" y="2609"/>
                  </a:moveTo>
                  <a:lnTo>
                    <a:pt x="3686" y="2587"/>
                  </a:lnTo>
                  <a:lnTo>
                    <a:pt x="3446" y="2341"/>
                  </a:lnTo>
                  <a:lnTo>
                    <a:pt x="3354" y="1980"/>
                  </a:lnTo>
                  <a:lnTo>
                    <a:pt x="3270" y="1626"/>
                  </a:lnTo>
                  <a:lnTo>
                    <a:pt x="3298" y="1284"/>
                  </a:lnTo>
                  <a:lnTo>
                    <a:pt x="3394" y="982"/>
                  </a:lnTo>
                  <a:lnTo>
                    <a:pt x="3550" y="714"/>
                  </a:lnTo>
                  <a:lnTo>
                    <a:pt x="3787" y="491"/>
                  </a:lnTo>
                  <a:lnTo>
                    <a:pt x="4060" y="338"/>
                  </a:lnTo>
                  <a:lnTo>
                    <a:pt x="4508" y="156"/>
                  </a:lnTo>
                  <a:lnTo>
                    <a:pt x="5049" y="18"/>
                  </a:lnTo>
                  <a:lnTo>
                    <a:pt x="5273" y="0"/>
                  </a:lnTo>
                  <a:lnTo>
                    <a:pt x="5497" y="29"/>
                  </a:lnTo>
                  <a:lnTo>
                    <a:pt x="6029" y="219"/>
                  </a:lnTo>
                  <a:lnTo>
                    <a:pt x="6350" y="364"/>
                  </a:lnTo>
                  <a:lnTo>
                    <a:pt x="6882" y="673"/>
                  </a:lnTo>
                  <a:lnTo>
                    <a:pt x="7206" y="1042"/>
                  </a:lnTo>
                  <a:lnTo>
                    <a:pt x="7723" y="1738"/>
                  </a:lnTo>
                  <a:lnTo>
                    <a:pt x="7919" y="2256"/>
                  </a:lnTo>
                  <a:lnTo>
                    <a:pt x="7991" y="2985"/>
                  </a:lnTo>
                  <a:lnTo>
                    <a:pt x="7983" y="3686"/>
                  </a:lnTo>
                  <a:lnTo>
                    <a:pt x="7843" y="4167"/>
                  </a:lnTo>
                  <a:lnTo>
                    <a:pt x="7639" y="4822"/>
                  </a:lnTo>
                  <a:lnTo>
                    <a:pt x="7402" y="5153"/>
                  </a:lnTo>
                  <a:lnTo>
                    <a:pt x="6894" y="5619"/>
                  </a:lnTo>
                  <a:lnTo>
                    <a:pt x="6418" y="5995"/>
                  </a:lnTo>
                  <a:lnTo>
                    <a:pt x="5765" y="6281"/>
                  </a:lnTo>
                  <a:lnTo>
                    <a:pt x="5237" y="6479"/>
                  </a:lnTo>
                  <a:lnTo>
                    <a:pt x="4376" y="6620"/>
                  </a:lnTo>
                  <a:lnTo>
                    <a:pt x="3767" y="6624"/>
                  </a:lnTo>
                  <a:lnTo>
                    <a:pt x="3110" y="6542"/>
                  </a:lnTo>
                  <a:lnTo>
                    <a:pt x="2401" y="6322"/>
                  </a:lnTo>
                  <a:lnTo>
                    <a:pt x="1677" y="5972"/>
                  </a:lnTo>
                  <a:lnTo>
                    <a:pt x="1192" y="5619"/>
                  </a:lnTo>
                  <a:lnTo>
                    <a:pt x="776" y="5235"/>
                  </a:lnTo>
                  <a:lnTo>
                    <a:pt x="420" y="4822"/>
                  </a:lnTo>
                  <a:lnTo>
                    <a:pt x="168" y="4409"/>
                  </a:lnTo>
                  <a:lnTo>
                    <a:pt x="0" y="4096"/>
                  </a:lnTo>
                  <a:lnTo>
                    <a:pt x="400" y="4479"/>
                  </a:lnTo>
                  <a:lnTo>
                    <a:pt x="788" y="4908"/>
                  </a:lnTo>
                  <a:lnTo>
                    <a:pt x="1417" y="5280"/>
                  </a:lnTo>
                  <a:lnTo>
                    <a:pt x="1965" y="5548"/>
                  </a:lnTo>
                  <a:lnTo>
                    <a:pt x="2465" y="5782"/>
                  </a:lnTo>
                  <a:lnTo>
                    <a:pt x="3182" y="5917"/>
                  </a:lnTo>
                  <a:lnTo>
                    <a:pt x="3795" y="5939"/>
                  </a:lnTo>
                  <a:lnTo>
                    <a:pt x="4160" y="5835"/>
                  </a:lnTo>
                  <a:lnTo>
                    <a:pt x="4780" y="5548"/>
                  </a:lnTo>
                  <a:lnTo>
                    <a:pt x="5341" y="5258"/>
                  </a:lnTo>
                  <a:lnTo>
                    <a:pt x="5653" y="4807"/>
                  </a:lnTo>
                  <a:lnTo>
                    <a:pt x="5953" y="4062"/>
                  </a:lnTo>
                  <a:lnTo>
                    <a:pt x="6013" y="3616"/>
                  </a:lnTo>
                  <a:lnTo>
                    <a:pt x="5909" y="3108"/>
                  </a:lnTo>
                  <a:lnTo>
                    <a:pt x="5561" y="2721"/>
                  </a:lnTo>
                  <a:lnTo>
                    <a:pt x="5201" y="2475"/>
                  </a:lnTo>
                  <a:lnTo>
                    <a:pt x="4760" y="2364"/>
                  </a:lnTo>
                  <a:lnTo>
                    <a:pt x="4412" y="2375"/>
                  </a:lnTo>
                  <a:lnTo>
                    <a:pt x="4256" y="2509"/>
                  </a:lnTo>
                  <a:lnTo>
                    <a:pt x="4000" y="260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2057400"/>
              <a:ext cx="2298960" cy="2659320"/>
            </a:xfrm>
            <a:custGeom>
              <a:avLst/>
              <a:gdLst/>
              <a:ahLst/>
              <a:rect l="0" t="0" r="r" b="b"/>
              <a:pathLst>
                <a:path w="6386" h="7387">
                  <a:moveTo>
                    <a:pt x="4332" y="4026"/>
                  </a:moveTo>
                  <a:lnTo>
                    <a:pt x="4612" y="3818"/>
                  </a:lnTo>
                  <a:lnTo>
                    <a:pt x="4917" y="3751"/>
                  </a:lnTo>
                  <a:lnTo>
                    <a:pt x="5325" y="3796"/>
                  </a:lnTo>
                  <a:lnTo>
                    <a:pt x="5685" y="3941"/>
                  </a:lnTo>
                  <a:lnTo>
                    <a:pt x="5985" y="4142"/>
                  </a:lnTo>
                  <a:lnTo>
                    <a:pt x="6154" y="4376"/>
                  </a:lnTo>
                  <a:lnTo>
                    <a:pt x="6314" y="4684"/>
                  </a:lnTo>
                  <a:lnTo>
                    <a:pt x="6386" y="4997"/>
                  </a:lnTo>
                  <a:lnTo>
                    <a:pt x="6374" y="5290"/>
                  </a:lnTo>
                  <a:lnTo>
                    <a:pt x="6290" y="5736"/>
                  </a:lnTo>
                  <a:lnTo>
                    <a:pt x="6114" y="6231"/>
                  </a:lnTo>
                  <a:lnTo>
                    <a:pt x="6001" y="6413"/>
                  </a:lnTo>
                  <a:lnTo>
                    <a:pt x="5857" y="6569"/>
                  </a:lnTo>
                  <a:lnTo>
                    <a:pt x="5393" y="6881"/>
                  </a:lnTo>
                  <a:lnTo>
                    <a:pt x="5081" y="7049"/>
                  </a:lnTo>
                  <a:lnTo>
                    <a:pt x="4512" y="7290"/>
                  </a:lnTo>
                  <a:lnTo>
                    <a:pt x="4064" y="7387"/>
                  </a:lnTo>
                  <a:lnTo>
                    <a:pt x="3094" y="7350"/>
                  </a:lnTo>
                  <a:lnTo>
                    <a:pt x="2369" y="7190"/>
                  </a:lnTo>
                  <a:lnTo>
                    <a:pt x="1825" y="6878"/>
                  </a:lnTo>
                  <a:lnTo>
                    <a:pt x="1200" y="6480"/>
                  </a:lnTo>
                  <a:lnTo>
                    <a:pt x="852" y="6108"/>
                  </a:lnTo>
                  <a:lnTo>
                    <a:pt x="372" y="5591"/>
                  </a:lnTo>
                  <a:lnTo>
                    <a:pt x="208" y="5223"/>
                  </a:lnTo>
                  <a:lnTo>
                    <a:pt x="72" y="4577"/>
                  </a:lnTo>
                  <a:lnTo>
                    <a:pt x="0" y="4000"/>
                  </a:lnTo>
                  <a:lnTo>
                    <a:pt x="100" y="3334"/>
                  </a:lnTo>
                  <a:lnTo>
                    <a:pt x="216" y="2817"/>
                  </a:lnTo>
                  <a:lnTo>
                    <a:pt x="564" y="2070"/>
                  </a:lnTo>
                  <a:lnTo>
                    <a:pt x="896" y="1594"/>
                  </a:lnTo>
                  <a:lnTo>
                    <a:pt x="1333" y="1133"/>
                  </a:lnTo>
                  <a:lnTo>
                    <a:pt x="1917" y="706"/>
                  </a:lnTo>
                  <a:lnTo>
                    <a:pt x="2634" y="341"/>
                  </a:lnTo>
                  <a:lnTo>
                    <a:pt x="3219" y="163"/>
                  </a:lnTo>
                  <a:lnTo>
                    <a:pt x="3796" y="44"/>
                  </a:lnTo>
                  <a:lnTo>
                    <a:pt x="4360" y="0"/>
                  </a:lnTo>
                  <a:lnTo>
                    <a:pt x="4873" y="63"/>
                  </a:lnTo>
                  <a:lnTo>
                    <a:pt x="5265" y="122"/>
                  </a:lnTo>
                  <a:lnTo>
                    <a:pt x="4680" y="174"/>
                  </a:lnTo>
                  <a:lnTo>
                    <a:pt x="4080" y="237"/>
                  </a:lnTo>
                  <a:lnTo>
                    <a:pt x="3363" y="464"/>
                  </a:lnTo>
                  <a:lnTo>
                    <a:pt x="2674" y="739"/>
                  </a:lnTo>
                  <a:lnTo>
                    <a:pt x="2317" y="1003"/>
                  </a:lnTo>
                  <a:lnTo>
                    <a:pt x="1853" y="1538"/>
                  </a:lnTo>
                  <a:lnTo>
                    <a:pt x="1433" y="2137"/>
                  </a:lnTo>
                  <a:lnTo>
                    <a:pt x="1385" y="2338"/>
                  </a:lnTo>
                  <a:lnTo>
                    <a:pt x="1237" y="2936"/>
                  </a:lnTo>
                  <a:lnTo>
                    <a:pt x="1253" y="3568"/>
                  </a:lnTo>
                  <a:lnTo>
                    <a:pt x="1481" y="4064"/>
                  </a:lnTo>
                  <a:lnTo>
                    <a:pt x="1989" y="4707"/>
                  </a:lnTo>
                  <a:lnTo>
                    <a:pt x="2357" y="4997"/>
                  </a:lnTo>
                  <a:lnTo>
                    <a:pt x="2862" y="5201"/>
                  </a:lnTo>
                  <a:lnTo>
                    <a:pt x="3443" y="5138"/>
                  </a:lnTo>
                  <a:lnTo>
                    <a:pt x="3844" y="4971"/>
                  </a:lnTo>
                  <a:lnTo>
                    <a:pt x="4204" y="4733"/>
                  </a:lnTo>
                  <a:lnTo>
                    <a:pt x="4408" y="4406"/>
                  </a:lnTo>
                  <a:lnTo>
                    <a:pt x="4396" y="4182"/>
                  </a:lnTo>
                  <a:lnTo>
                    <a:pt x="4332" y="4026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40160" y="2073240"/>
              <a:ext cx="2732400" cy="2304000"/>
            </a:xfrm>
            <a:custGeom>
              <a:avLst/>
              <a:gdLst/>
              <a:ahLst/>
              <a:rect l="0" t="0" r="r" b="b"/>
              <a:pathLst>
                <a:path w="7590" h="6400">
                  <a:moveTo>
                    <a:pt x="3279" y="3994"/>
                  </a:moveTo>
                  <a:lnTo>
                    <a:pt x="3364" y="4313"/>
                  </a:lnTo>
                  <a:lnTo>
                    <a:pt x="3295" y="4607"/>
                  </a:lnTo>
                  <a:lnTo>
                    <a:pt x="3063" y="4879"/>
                  </a:lnTo>
                  <a:lnTo>
                    <a:pt x="2787" y="5132"/>
                  </a:lnTo>
                  <a:lnTo>
                    <a:pt x="2458" y="5292"/>
                  </a:lnTo>
                  <a:lnTo>
                    <a:pt x="2138" y="5374"/>
                  </a:lnTo>
                  <a:lnTo>
                    <a:pt x="1810" y="5392"/>
                  </a:lnTo>
                  <a:lnTo>
                    <a:pt x="1477" y="5326"/>
                  </a:lnTo>
                  <a:lnTo>
                    <a:pt x="1193" y="5188"/>
                  </a:lnTo>
                  <a:lnTo>
                    <a:pt x="792" y="4939"/>
                  </a:lnTo>
                  <a:lnTo>
                    <a:pt x="372" y="4585"/>
                  </a:lnTo>
                  <a:lnTo>
                    <a:pt x="240" y="4410"/>
                  </a:lnTo>
                  <a:lnTo>
                    <a:pt x="148" y="4217"/>
                  </a:lnTo>
                  <a:lnTo>
                    <a:pt x="36" y="3704"/>
                  </a:lnTo>
                  <a:lnTo>
                    <a:pt x="0" y="3376"/>
                  </a:lnTo>
                  <a:lnTo>
                    <a:pt x="4" y="2793"/>
                  </a:lnTo>
                  <a:lnTo>
                    <a:pt x="172" y="2339"/>
                  </a:lnTo>
                  <a:lnTo>
                    <a:pt x="528" y="1565"/>
                  </a:lnTo>
                  <a:lnTo>
                    <a:pt x="897" y="1130"/>
                  </a:lnTo>
                  <a:lnTo>
                    <a:pt x="1525" y="691"/>
                  </a:lnTo>
                  <a:lnTo>
                    <a:pt x="2166" y="330"/>
                  </a:lnTo>
                  <a:lnTo>
                    <a:pt x="2683" y="189"/>
                  </a:lnTo>
                  <a:lnTo>
                    <a:pt x="3380" y="0"/>
                  </a:lnTo>
                  <a:lnTo>
                    <a:pt x="3809" y="7"/>
                  </a:lnTo>
                  <a:lnTo>
                    <a:pt x="4506" y="167"/>
                  </a:lnTo>
                  <a:lnTo>
                    <a:pt x="5103" y="342"/>
                  </a:lnTo>
                  <a:lnTo>
                    <a:pt x="5715" y="702"/>
                  </a:lnTo>
                  <a:lnTo>
                    <a:pt x="6164" y="1011"/>
                  </a:lnTo>
                  <a:lnTo>
                    <a:pt x="6757" y="1618"/>
                  </a:lnTo>
                  <a:lnTo>
                    <a:pt x="7085" y="2094"/>
                  </a:lnTo>
                  <a:lnTo>
                    <a:pt x="7357" y="2663"/>
                  </a:lnTo>
                  <a:lnTo>
                    <a:pt x="7538" y="3324"/>
                  </a:lnTo>
                  <a:lnTo>
                    <a:pt x="7590" y="4083"/>
                  </a:lnTo>
                  <a:lnTo>
                    <a:pt x="7526" y="4655"/>
                  </a:lnTo>
                  <a:lnTo>
                    <a:pt x="7401" y="5188"/>
                  </a:lnTo>
                  <a:lnTo>
                    <a:pt x="7213" y="5682"/>
                  </a:lnTo>
                  <a:lnTo>
                    <a:pt x="6949" y="6110"/>
                  </a:lnTo>
                  <a:lnTo>
                    <a:pt x="6733" y="6400"/>
                  </a:lnTo>
                  <a:lnTo>
                    <a:pt x="6909" y="5880"/>
                  </a:lnTo>
                  <a:lnTo>
                    <a:pt x="7097" y="5355"/>
                  </a:lnTo>
                  <a:lnTo>
                    <a:pt x="7169" y="4655"/>
                  </a:lnTo>
                  <a:lnTo>
                    <a:pt x="7165" y="3967"/>
                  </a:lnTo>
                  <a:lnTo>
                    <a:pt x="7077" y="3547"/>
                  </a:lnTo>
                  <a:lnTo>
                    <a:pt x="6745" y="2934"/>
                  </a:lnTo>
                  <a:lnTo>
                    <a:pt x="6332" y="2332"/>
                  </a:lnTo>
                  <a:lnTo>
                    <a:pt x="6152" y="2201"/>
                  </a:lnTo>
                  <a:lnTo>
                    <a:pt x="5631" y="1830"/>
                  </a:lnTo>
                  <a:lnTo>
                    <a:pt x="5003" y="1580"/>
                  </a:lnTo>
                  <a:lnTo>
                    <a:pt x="4422" y="1576"/>
                  </a:lnTo>
                  <a:lnTo>
                    <a:pt x="3588" y="1729"/>
                  </a:lnTo>
                  <a:lnTo>
                    <a:pt x="3147" y="1919"/>
                  </a:lnTo>
                  <a:lnTo>
                    <a:pt x="2743" y="2268"/>
                  </a:lnTo>
                  <a:lnTo>
                    <a:pt x="2559" y="2781"/>
                  </a:lnTo>
                  <a:lnTo>
                    <a:pt x="2551" y="3187"/>
                  </a:lnTo>
                  <a:lnTo>
                    <a:pt x="2659" y="3633"/>
                  </a:lnTo>
                  <a:lnTo>
                    <a:pt x="2875" y="3901"/>
                  </a:lnTo>
                  <a:lnTo>
                    <a:pt x="3091" y="3979"/>
                  </a:lnTo>
                  <a:lnTo>
                    <a:pt x="3279" y="399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 txBox="1"/>
          <p:nvPr/>
        </p:nvSpPr>
        <p:spPr>
          <a:xfrm>
            <a:off x="609480" y="0"/>
            <a:ext cx="8077320" cy="22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900" spc="-1" strike="noStrike">
                <a:solidFill>
                  <a:srgbClr val="000000"/>
                </a:solidFill>
                <a:latin typeface="Marigold"/>
                <a:ea typeface="Marigold"/>
              </a:rPr>
              <a:t>TALK TIPS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4940280"/>
            <a:ext cx="8077320" cy="20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6000" spc="-1" strike="noStrike">
                <a:solidFill>
                  <a:srgbClr val="000000"/>
                </a:solidFill>
                <a:latin typeface="Marigold"/>
                <a:ea typeface="Marigold"/>
              </a:rPr>
              <a:t>The Daily Language Pro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553080" y="2438280"/>
            <a:ext cx="22096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400800" y="350532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Getting Wors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62120" y="2743200"/>
            <a:ext cx="22860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e00000"/>
                </a:solidFill>
                <a:latin typeface="Times New Roman"/>
                <a:ea typeface="Times New Roman"/>
              </a:rPr>
              <a:t>NC-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1371600" y="5994360"/>
            <a:ext cx="5105880" cy="584640"/>
          </a:xfrm>
          <a:custGeom>
            <a:avLst/>
            <a:gdLst/>
            <a:ahLst/>
            <a:rect l="0" t="0" r="r" b="b"/>
            <a:pathLst>
              <a:path w="14183" h="1624">
                <a:moveTo>
                  <a:pt x="7532" y="176"/>
                </a:moveTo>
                <a:lnTo>
                  <a:pt x="7356" y="141"/>
                </a:lnTo>
                <a:lnTo>
                  <a:pt x="7223" y="141"/>
                </a:lnTo>
                <a:lnTo>
                  <a:pt x="7091" y="176"/>
                </a:lnTo>
                <a:lnTo>
                  <a:pt x="6959" y="211"/>
                </a:lnTo>
                <a:lnTo>
                  <a:pt x="6827" y="176"/>
                </a:lnTo>
                <a:lnTo>
                  <a:pt x="6695" y="176"/>
                </a:lnTo>
                <a:lnTo>
                  <a:pt x="6563" y="141"/>
                </a:lnTo>
                <a:lnTo>
                  <a:pt x="6431" y="141"/>
                </a:lnTo>
                <a:lnTo>
                  <a:pt x="6299" y="141"/>
                </a:lnTo>
                <a:lnTo>
                  <a:pt x="6166" y="141"/>
                </a:lnTo>
                <a:lnTo>
                  <a:pt x="6034" y="176"/>
                </a:lnTo>
                <a:lnTo>
                  <a:pt x="5902" y="176"/>
                </a:lnTo>
                <a:lnTo>
                  <a:pt x="5770" y="176"/>
                </a:lnTo>
                <a:lnTo>
                  <a:pt x="5638" y="176"/>
                </a:lnTo>
                <a:lnTo>
                  <a:pt x="5506" y="176"/>
                </a:lnTo>
                <a:lnTo>
                  <a:pt x="5374" y="176"/>
                </a:lnTo>
                <a:lnTo>
                  <a:pt x="5242" y="176"/>
                </a:lnTo>
                <a:lnTo>
                  <a:pt x="5109" y="176"/>
                </a:lnTo>
                <a:lnTo>
                  <a:pt x="4977" y="176"/>
                </a:lnTo>
                <a:lnTo>
                  <a:pt x="4845" y="141"/>
                </a:lnTo>
                <a:lnTo>
                  <a:pt x="4713" y="105"/>
                </a:lnTo>
                <a:lnTo>
                  <a:pt x="4581" y="105"/>
                </a:lnTo>
                <a:lnTo>
                  <a:pt x="4449" y="141"/>
                </a:lnTo>
                <a:lnTo>
                  <a:pt x="4273" y="176"/>
                </a:lnTo>
                <a:lnTo>
                  <a:pt x="4096" y="211"/>
                </a:lnTo>
                <a:lnTo>
                  <a:pt x="3920" y="176"/>
                </a:lnTo>
                <a:lnTo>
                  <a:pt x="3744" y="141"/>
                </a:lnTo>
                <a:lnTo>
                  <a:pt x="3612" y="105"/>
                </a:lnTo>
                <a:lnTo>
                  <a:pt x="3479" y="105"/>
                </a:lnTo>
                <a:lnTo>
                  <a:pt x="3347" y="105"/>
                </a:lnTo>
                <a:lnTo>
                  <a:pt x="3215" y="105"/>
                </a:lnTo>
                <a:lnTo>
                  <a:pt x="3082" y="105"/>
                </a:lnTo>
                <a:lnTo>
                  <a:pt x="2950" y="141"/>
                </a:lnTo>
                <a:lnTo>
                  <a:pt x="2818" y="141"/>
                </a:lnTo>
                <a:lnTo>
                  <a:pt x="2686" y="141"/>
                </a:lnTo>
                <a:lnTo>
                  <a:pt x="2554" y="105"/>
                </a:lnTo>
                <a:lnTo>
                  <a:pt x="2422" y="70"/>
                </a:lnTo>
                <a:lnTo>
                  <a:pt x="2290" y="35"/>
                </a:lnTo>
                <a:lnTo>
                  <a:pt x="2158" y="0"/>
                </a:lnTo>
                <a:lnTo>
                  <a:pt x="2025" y="35"/>
                </a:lnTo>
                <a:lnTo>
                  <a:pt x="1893" y="35"/>
                </a:lnTo>
                <a:lnTo>
                  <a:pt x="1761" y="35"/>
                </a:lnTo>
                <a:lnTo>
                  <a:pt x="1629" y="35"/>
                </a:lnTo>
                <a:lnTo>
                  <a:pt x="1497" y="35"/>
                </a:lnTo>
                <a:lnTo>
                  <a:pt x="1365" y="35"/>
                </a:lnTo>
                <a:lnTo>
                  <a:pt x="1233" y="70"/>
                </a:lnTo>
                <a:lnTo>
                  <a:pt x="1101" y="141"/>
                </a:lnTo>
                <a:lnTo>
                  <a:pt x="968" y="246"/>
                </a:lnTo>
                <a:lnTo>
                  <a:pt x="836" y="317"/>
                </a:lnTo>
                <a:lnTo>
                  <a:pt x="704" y="352"/>
                </a:lnTo>
                <a:lnTo>
                  <a:pt x="572" y="352"/>
                </a:lnTo>
                <a:lnTo>
                  <a:pt x="440" y="352"/>
                </a:lnTo>
                <a:lnTo>
                  <a:pt x="308" y="352"/>
                </a:lnTo>
                <a:lnTo>
                  <a:pt x="176" y="388"/>
                </a:lnTo>
                <a:lnTo>
                  <a:pt x="44" y="388"/>
                </a:lnTo>
                <a:lnTo>
                  <a:pt x="0" y="494"/>
                </a:lnTo>
                <a:lnTo>
                  <a:pt x="0" y="600"/>
                </a:lnTo>
                <a:lnTo>
                  <a:pt x="0" y="706"/>
                </a:lnTo>
                <a:lnTo>
                  <a:pt x="132" y="812"/>
                </a:lnTo>
                <a:lnTo>
                  <a:pt x="264" y="882"/>
                </a:lnTo>
                <a:lnTo>
                  <a:pt x="396" y="882"/>
                </a:lnTo>
                <a:lnTo>
                  <a:pt x="528" y="882"/>
                </a:lnTo>
                <a:lnTo>
                  <a:pt x="660" y="882"/>
                </a:lnTo>
                <a:lnTo>
                  <a:pt x="792" y="882"/>
                </a:lnTo>
                <a:lnTo>
                  <a:pt x="924" y="918"/>
                </a:lnTo>
                <a:lnTo>
                  <a:pt x="1012" y="1024"/>
                </a:lnTo>
                <a:lnTo>
                  <a:pt x="1101" y="1129"/>
                </a:lnTo>
                <a:lnTo>
                  <a:pt x="1233" y="1200"/>
                </a:lnTo>
                <a:lnTo>
                  <a:pt x="1365" y="1200"/>
                </a:lnTo>
                <a:lnTo>
                  <a:pt x="1497" y="1165"/>
                </a:lnTo>
                <a:lnTo>
                  <a:pt x="1629" y="1129"/>
                </a:lnTo>
                <a:lnTo>
                  <a:pt x="1761" y="1094"/>
                </a:lnTo>
                <a:lnTo>
                  <a:pt x="1893" y="1094"/>
                </a:lnTo>
                <a:lnTo>
                  <a:pt x="2025" y="1165"/>
                </a:lnTo>
                <a:lnTo>
                  <a:pt x="2158" y="1236"/>
                </a:lnTo>
                <a:lnTo>
                  <a:pt x="2290" y="1272"/>
                </a:lnTo>
                <a:lnTo>
                  <a:pt x="2422" y="1272"/>
                </a:lnTo>
                <a:lnTo>
                  <a:pt x="2510" y="1377"/>
                </a:lnTo>
                <a:lnTo>
                  <a:pt x="2598" y="1483"/>
                </a:lnTo>
                <a:lnTo>
                  <a:pt x="2686" y="1589"/>
                </a:lnTo>
                <a:lnTo>
                  <a:pt x="2818" y="1624"/>
                </a:lnTo>
                <a:lnTo>
                  <a:pt x="2862" y="1518"/>
                </a:lnTo>
                <a:lnTo>
                  <a:pt x="2862" y="1413"/>
                </a:lnTo>
                <a:lnTo>
                  <a:pt x="2994" y="1377"/>
                </a:lnTo>
                <a:lnTo>
                  <a:pt x="3127" y="1377"/>
                </a:lnTo>
                <a:lnTo>
                  <a:pt x="3259" y="1483"/>
                </a:lnTo>
                <a:lnTo>
                  <a:pt x="3391" y="1518"/>
                </a:lnTo>
                <a:lnTo>
                  <a:pt x="3523" y="1554"/>
                </a:lnTo>
                <a:lnTo>
                  <a:pt x="3656" y="1518"/>
                </a:lnTo>
                <a:lnTo>
                  <a:pt x="3788" y="1413"/>
                </a:lnTo>
                <a:lnTo>
                  <a:pt x="3920" y="1413"/>
                </a:lnTo>
                <a:lnTo>
                  <a:pt x="4052" y="1413"/>
                </a:lnTo>
                <a:lnTo>
                  <a:pt x="4185" y="1448"/>
                </a:lnTo>
                <a:lnTo>
                  <a:pt x="4361" y="1554"/>
                </a:lnTo>
                <a:lnTo>
                  <a:pt x="4493" y="1589"/>
                </a:lnTo>
                <a:lnTo>
                  <a:pt x="4625" y="1624"/>
                </a:lnTo>
                <a:lnTo>
                  <a:pt x="4757" y="1518"/>
                </a:lnTo>
                <a:lnTo>
                  <a:pt x="4889" y="1483"/>
                </a:lnTo>
                <a:lnTo>
                  <a:pt x="5021" y="1448"/>
                </a:lnTo>
                <a:lnTo>
                  <a:pt x="5153" y="1413"/>
                </a:lnTo>
                <a:lnTo>
                  <a:pt x="5286" y="1377"/>
                </a:lnTo>
                <a:lnTo>
                  <a:pt x="5418" y="1342"/>
                </a:lnTo>
                <a:lnTo>
                  <a:pt x="5550" y="1342"/>
                </a:lnTo>
                <a:lnTo>
                  <a:pt x="5682" y="1342"/>
                </a:lnTo>
                <a:lnTo>
                  <a:pt x="5814" y="1377"/>
                </a:lnTo>
                <a:lnTo>
                  <a:pt x="5946" y="1413"/>
                </a:lnTo>
                <a:lnTo>
                  <a:pt x="6078" y="1448"/>
                </a:lnTo>
                <a:lnTo>
                  <a:pt x="6210" y="1448"/>
                </a:lnTo>
                <a:lnTo>
                  <a:pt x="6343" y="1483"/>
                </a:lnTo>
                <a:lnTo>
                  <a:pt x="6475" y="1483"/>
                </a:lnTo>
                <a:lnTo>
                  <a:pt x="6651" y="1448"/>
                </a:lnTo>
                <a:lnTo>
                  <a:pt x="6783" y="1413"/>
                </a:lnTo>
                <a:lnTo>
                  <a:pt x="6915" y="1377"/>
                </a:lnTo>
                <a:lnTo>
                  <a:pt x="7047" y="1377"/>
                </a:lnTo>
                <a:lnTo>
                  <a:pt x="7179" y="1342"/>
                </a:lnTo>
                <a:lnTo>
                  <a:pt x="7312" y="1307"/>
                </a:lnTo>
                <a:lnTo>
                  <a:pt x="7444" y="1272"/>
                </a:lnTo>
                <a:lnTo>
                  <a:pt x="7576" y="1236"/>
                </a:lnTo>
                <a:lnTo>
                  <a:pt x="7708" y="1200"/>
                </a:lnTo>
                <a:lnTo>
                  <a:pt x="7840" y="1165"/>
                </a:lnTo>
                <a:lnTo>
                  <a:pt x="7972" y="1165"/>
                </a:lnTo>
                <a:lnTo>
                  <a:pt x="8104" y="1165"/>
                </a:lnTo>
                <a:lnTo>
                  <a:pt x="8236" y="1165"/>
                </a:lnTo>
                <a:lnTo>
                  <a:pt x="8369" y="1165"/>
                </a:lnTo>
                <a:lnTo>
                  <a:pt x="8501" y="1200"/>
                </a:lnTo>
                <a:lnTo>
                  <a:pt x="8633" y="1236"/>
                </a:lnTo>
                <a:lnTo>
                  <a:pt x="8765" y="1272"/>
                </a:lnTo>
                <a:lnTo>
                  <a:pt x="8897" y="1272"/>
                </a:lnTo>
                <a:lnTo>
                  <a:pt x="9029" y="1272"/>
                </a:lnTo>
                <a:lnTo>
                  <a:pt x="9205" y="1272"/>
                </a:lnTo>
                <a:lnTo>
                  <a:pt x="9382" y="1200"/>
                </a:lnTo>
                <a:lnTo>
                  <a:pt x="9514" y="1165"/>
                </a:lnTo>
                <a:lnTo>
                  <a:pt x="9646" y="1129"/>
                </a:lnTo>
                <a:lnTo>
                  <a:pt x="9822" y="1129"/>
                </a:lnTo>
                <a:lnTo>
                  <a:pt x="9998" y="1165"/>
                </a:lnTo>
                <a:lnTo>
                  <a:pt x="10174" y="1200"/>
                </a:lnTo>
                <a:lnTo>
                  <a:pt x="10306" y="1272"/>
                </a:lnTo>
                <a:lnTo>
                  <a:pt x="10439" y="1307"/>
                </a:lnTo>
                <a:lnTo>
                  <a:pt x="10571" y="1342"/>
                </a:lnTo>
                <a:lnTo>
                  <a:pt x="10704" y="1342"/>
                </a:lnTo>
                <a:lnTo>
                  <a:pt x="10880" y="1272"/>
                </a:lnTo>
                <a:lnTo>
                  <a:pt x="11012" y="1236"/>
                </a:lnTo>
                <a:lnTo>
                  <a:pt x="11144" y="1165"/>
                </a:lnTo>
                <a:lnTo>
                  <a:pt x="11276" y="1129"/>
                </a:lnTo>
                <a:lnTo>
                  <a:pt x="11408" y="1129"/>
                </a:lnTo>
                <a:lnTo>
                  <a:pt x="11585" y="1129"/>
                </a:lnTo>
                <a:lnTo>
                  <a:pt x="11761" y="1129"/>
                </a:lnTo>
                <a:lnTo>
                  <a:pt x="11937" y="1129"/>
                </a:lnTo>
                <a:lnTo>
                  <a:pt x="12069" y="1165"/>
                </a:lnTo>
                <a:lnTo>
                  <a:pt x="12201" y="1165"/>
                </a:lnTo>
                <a:lnTo>
                  <a:pt x="12333" y="1200"/>
                </a:lnTo>
                <a:lnTo>
                  <a:pt x="12466" y="1200"/>
                </a:lnTo>
                <a:lnTo>
                  <a:pt x="12642" y="1200"/>
                </a:lnTo>
                <a:lnTo>
                  <a:pt x="12818" y="1200"/>
                </a:lnTo>
                <a:lnTo>
                  <a:pt x="12950" y="1129"/>
                </a:lnTo>
                <a:lnTo>
                  <a:pt x="13082" y="1094"/>
                </a:lnTo>
                <a:lnTo>
                  <a:pt x="13214" y="1094"/>
                </a:lnTo>
                <a:lnTo>
                  <a:pt x="13346" y="1094"/>
                </a:lnTo>
                <a:lnTo>
                  <a:pt x="13478" y="1094"/>
                </a:lnTo>
                <a:lnTo>
                  <a:pt x="13611" y="1094"/>
                </a:lnTo>
                <a:lnTo>
                  <a:pt x="13743" y="1059"/>
                </a:lnTo>
                <a:lnTo>
                  <a:pt x="13875" y="1024"/>
                </a:lnTo>
                <a:lnTo>
                  <a:pt x="14007" y="988"/>
                </a:lnTo>
                <a:lnTo>
                  <a:pt x="14139" y="918"/>
                </a:lnTo>
                <a:lnTo>
                  <a:pt x="14183" y="812"/>
                </a:lnTo>
                <a:lnTo>
                  <a:pt x="14183" y="706"/>
                </a:lnTo>
                <a:lnTo>
                  <a:pt x="14139" y="600"/>
                </a:lnTo>
                <a:lnTo>
                  <a:pt x="14007" y="494"/>
                </a:lnTo>
                <a:lnTo>
                  <a:pt x="13875" y="494"/>
                </a:lnTo>
                <a:lnTo>
                  <a:pt x="13743" y="459"/>
                </a:lnTo>
                <a:lnTo>
                  <a:pt x="13611" y="459"/>
                </a:lnTo>
                <a:lnTo>
                  <a:pt x="13478" y="424"/>
                </a:lnTo>
                <a:lnTo>
                  <a:pt x="13302" y="352"/>
                </a:lnTo>
                <a:lnTo>
                  <a:pt x="13170" y="317"/>
                </a:lnTo>
                <a:lnTo>
                  <a:pt x="13038" y="246"/>
                </a:lnTo>
                <a:lnTo>
                  <a:pt x="12906" y="211"/>
                </a:lnTo>
                <a:lnTo>
                  <a:pt x="12774" y="176"/>
                </a:lnTo>
                <a:lnTo>
                  <a:pt x="12642" y="211"/>
                </a:lnTo>
                <a:lnTo>
                  <a:pt x="12510" y="211"/>
                </a:lnTo>
                <a:lnTo>
                  <a:pt x="12377" y="211"/>
                </a:lnTo>
                <a:lnTo>
                  <a:pt x="12245" y="211"/>
                </a:lnTo>
                <a:lnTo>
                  <a:pt x="12113" y="211"/>
                </a:lnTo>
                <a:lnTo>
                  <a:pt x="11981" y="211"/>
                </a:lnTo>
                <a:lnTo>
                  <a:pt x="11849" y="211"/>
                </a:lnTo>
                <a:lnTo>
                  <a:pt x="11717" y="246"/>
                </a:lnTo>
                <a:lnTo>
                  <a:pt x="11585" y="246"/>
                </a:lnTo>
                <a:lnTo>
                  <a:pt x="11453" y="211"/>
                </a:lnTo>
                <a:lnTo>
                  <a:pt x="11320" y="211"/>
                </a:lnTo>
                <a:lnTo>
                  <a:pt x="11188" y="176"/>
                </a:lnTo>
                <a:lnTo>
                  <a:pt x="11056" y="176"/>
                </a:lnTo>
                <a:lnTo>
                  <a:pt x="10880" y="211"/>
                </a:lnTo>
                <a:lnTo>
                  <a:pt x="10748" y="246"/>
                </a:lnTo>
                <a:lnTo>
                  <a:pt x="10615" y="246"/>
                </a:lnTo>
                <a:lnTo>
                  <a:pt x="10483" y="246"/>
                </a:lnTo>
                <a:lnTo>
                  <a:pt x="10350" y="282"/>
                </a:lnTo>
                <a:lnTo>
                  <a:pt x="10218" y="282"/>
                </a:lnTo>
                <a:lnTo>
                  <a:pt x="10042" y="282"/>
                </a:lnTo>
                <a:lnTo>
                  <a:pt x="9910" y="282"/>
                </a:lnTo>
                <a:lnTo>
                  <a:pt x="9734" y="282"/>
                </a:lnTo>
                <a:lnTo>
                  <a:pt x="9558" y="211"/>
                </a:lnTo>
                <a:lnTo>
                  <a:pt x="9426" y="211"/>
                </a:lnTo>
                <a:lnTo>
                  <a:pt x="9293" y="211"/>
                </a:lnTo>
                <a:lnTo>
                  <a:pt x="9117" y="211"/>
                </a:lnTo>
                <a:lnTo>
                  <a:pt x="8941" y="211"/>
                </a:lnTo>
                <a:lnTo>
                  <a:pt x="8809" y="246"/>
                </a:lnTo>
                <a:lnTo>
                  <a:pt x="8677" y="282"/>
                </a:lnTo>
                <a:lnTo>
                  <a:pt x="8545" y="246"/>
                </a:lnTo>
                <a:lnTo>
                  <a:pt x="8413" y="246"/>
                </a:lnTo>
                <a:lnTo>
                  <a:pt x="8280" y="211"/>
                </a:lnTo>
                <a:lnTo>
                  <a:pt x="8148" y="211"/>
                </a:lnTo>
                <a:lnTo>
                  <a:pt x="8016" y="211"/>
                </a:lnTo>
                <a:lnTo>
                  <a:pt x="7884" y="211"/>
                </a:lnTo>
                <a:lnTo>
                  <a:pt x="7752" y="211"/>
                </a:lnTo>
                <a:lnTo>
                  <a:pt x="7532" y="176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3638520" y="4448160"/>
            <a:ext cx="1514880" cy="1867320"/>
            <a:chOff x="3638520" y="4448160"/>
            <a:chExt cx="1514880" cy="1867320"/>
          </a:xfrm>
        </p:grpSpPr>
        <p:sp>
          <p:nvSpPr>
            <p:cNvPr id="752" name=""/>
            <p:cNvSpPr/>
            <p:nvPr/>
          </p:nvSpPr>
          <p:spPr>
            <a:xfrm>
              <a:off x="4019400" y="4448160"/>
              <a:ext cx="657720" cy="1724400"/>
            </a:xfrm>
            <a:custGeom>
              <a:avLst/>
              <a:gdLst/>
              <a:ahLst/>
              <a:rect l="0" t="0" r="r" b="b"/>
              <a:pathLst>
                <a:path w="1827" h="4790">
                  <a:moveTo>
                    <a:pt x="0" y="0"/>
                  </a:moveTo>
                  <a:lnTo>
                    <a:pt x="317" y="4790"/>
                  </a:lnTo>
                  <a:lnTo>
                    <a:pt x="1032" y="4790"/>
                  </a:lnTo>
                  <a:lnTo>
                    <a:pt x="927" y="1297"/>
                  </a:lnTo>
                  <a:lnTo>
                    <a:pt x="1032" y="4790"/>
                  </a:lnTo>
                  <a:lnTo>
                    <a:pt x="1827" y="4790"/>
                  </a:lnTo>
                  <a:lnTo>
                    <a:pt x="174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63852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1376" y="185"/>
                  </a:moveTo>
                  <a:lnTo>
                    <a:pt x="978" y="52"/>
                  </a:lnTo>
                  <a:lnTo>
                    <a:pt x="714" y="0"/>
                  </a:lnTo>
                  <a:lnTo>
                    <a:pt x="423" y="105"/>
                  </a:lnTo>
                  <a:lnTo>
                    <a:pt x="132" y="264"/>
                  </a:lnTo>
                  <a:lnTo>
                    <a:pt x="0" y="477"/>
                  </a:lnTo>
                  <a:lnTo>
                    <a:pt x="185" y="583"/>
                  </a:lnTo>
                  <a:lnTo>
                    <a:pt x="2091" y="583"/>
                  </a:lnTo>
                  <a:lnTo>
                    <a:pt x="2091" y="185"/>
                  </a:lnTo>
                  <a:lnTo>
                    <a:pt x="1376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40064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714" y="185"/>
                  </a:moveTo>
                  <a:lnTo>
                    <a:pt x="1112" y="52"/>
                  </a:lnTo>
                  <a:lnTo>
                    <a:pt x="1376" y="0"/>
                  </a:lnTo>
                  <a:lnTo>
                    <a:pt x="1667" y="105"/>
                  </a:lnTo>
                  <a:lnTo>
                    <a:pt x="1958" y="264"/>
                  </a:lnTo>
                  <a:lnTo>
                    <a:pt x="2091" y="477"/>
                  </a:lnTo>
                  <a:lnTo>
                    <a:pt x="1906" y="583"/>
                  </a:lnTo>
                  <a:lnTo>
                    <a:pt x="0" y="583"/>
                  </a:lnTo>
                  <a:lnTo>
                    <a:pt x="0" y="185"/>
                  </a:lnTo>
                  <a:lnTo>
                    <a:pt x="714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3681360" y="3200400"/>
            <a:ext cx="509760" cy="1443240"/>
            <a:chOff x="3681360" y="3200400"/>
            <a:chExt cx="509760" cy="1443240"/>
          </a:xfrm>
        </p:grpSpPr>
        <p:sp>
          <p:nvSpPr>
            <p:cNvPr id="756" name=""/>
            <p:cNvSpPr/>
            <p:nvPr/>
          </p:nvSpPr>
          <p:spPr>
            <a:xfrm>
              <a:off x="3705120" y="3200400"/>
              <a:ext cx="486000" cy="1190880"/>
            </a:xfrm>
            <a:custGeom>
              <a:avLst/>
              <a:gdLst/>
              <a:ahLst/>
              <a:rect l="0" t="0" r="r" b="b"/>
              <a:pathLst>
                <a:path w="1350" h="3308">
                  <a:moveTo>
                    <a:pt x="1112" y="0"/>
                  </a:moveTo>
                  <a:lnTo>
                    <a:pt x="1271" y="105"/>
                  </a:lnTo>
                  <a:lnTo>
                    <a:pt x="1350" y="423"/>
                  </a:lnTo>
                  <a:lnTo>
                    <a:pt x="1138" y="1322"/>
                  </a:lnTo>
                  <a:lnTo>
                    <a:pt x="821" y="3308"/>
                  </a:lnTo>
                  <a:lnTo>
                    <a:pt x="0" y="3149"/>
                  </a:lnTo>
                  <a:lnTo>
                    <a:pt x="370" y="1455"/>
                  </a:lnTo>
                  <a:lnTo>
                    <a:pt x="794" y="238"/>
                  </a:lnTo>
                  <a:lnTo>
                    <a:pt x="1112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681360" y="4357800"/>
              <a:ext cx="30492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3895560" y="3048120"/>
            <a:ext cx="981360" cy="1600560"/>
          </a:xfrm>
          <a:custGeom>
            <a:avLst/>
            <a:gdLst/>
            <a:ahLst/>
            <a:rect l="0" t="0" r="r" b="b"/>
            <a:pathLst>
              <a:path w="2726" h="4446">
                <a:moveTo>
                  <a:pt x="953" y="374"/>
                </a:moveTo>
                <a:lnTo>
                  <a:pt x="865" y="392"/>
                </a:lnTo>
                <a:lnTo>
                  <a:pt x="799" y="436"/>
                </a:lnTo>
                <a:lnTo>
                  <a:pt x="672" y="582"/>
                </a:lnTo>
                <a:lnTo>
                  <a:pt x="540" y="723"/>
                </a:lnTo>
                <a:lnTo>
                  <a:pt x="391" y="851"/>
                </a:lnTo>
                <a:lnTo>
                  <a:pt x="369" y="890"/>
                </a:lnTo>
                <a:lnTo>
                  <a:pt x="347" y="930"/>
                </a:lnTo>
                <a:lnTo>
                  <a:pt x="347" y="930"/>
                </a:lnTo>
                <a:lnTo>
                  <a:pt x="369" y="930"/>
                </a:lnTo>
                <a:lnTo>
                  <a:pt x="153" y="1553"/>
                </a:lnTo>
                <a:lnTo>
                  <a:pt x="0" y="4345"/>
                </a:lnTo>
                <a:lnTo>
                  <a:pt x="2726" y="4446"/>
                </a:lnTo>
                <a:lnTo>
                  <a:pt x="2317" y="1844"/>
                </a:lnTo>
                <a:lnTo>
                  <a:pt x="2119" y="414"/>
                </a:lnTo>
                <a:lnTo>
                  <a:pt x="1385" y="0"/>
                </a:lnTo>
                <a:lnTo>
                  <a:pt x="953" y="374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905280" y="1609560"/>
            <a:ext cx="895680" cy="1581480"/>
          </a:xfrm>
          <a:custGeom>
            <a:avLst/>
            <a:gdLst/>
            <a:ahLst/>
            <a:rect l="0" t="0" r="r" b="b"/>
            <a:pathLst>
              <a:path w="2488" h="4393">
                <a:moveTo>
                  <a:pt x="582" y="0"/>
                </a:moveTo>
                <a:lnTo>
                  <a:pt x="264" y="264"/>
                </a:lnTo>
                <a:lnTo>
                  <a:pt x="79" y="687"/>
                </a:lnTo>
                <a:lnTo>
                  <a:pt x="26" y="1217"/>
                </a:lnTo>
                <a:lnTo>
                  <a:pt x="0" y="2699"/>
                </a:lnTo>
                <a:lnTo>
                  <a:pt x="52" y="3546"/>
                </a:lnTo>
                <a:lnTo>
                  <a:pt x="820" y="3599"/>
                </a:lnTo>
                <a:lnTo>
                  <a:pt x="926" y="4075"/>
                </a:lnTo>
                <a:lnTo>
                  <a:pt x="1031" y="4393"/>
                </a:lnTo>
                <a:lnTo>
                  <a:pt x="1271" y="4393"/>
                </a:lnTo>
                <a:lnTo>
                  <a:pt x="1403" y="4102"/>
                </a:lnTo>
                <a:lnTo>
                  <a:pt x="1323" y="3599"/>
                </a:lnTo>
                <a:lnTo>
                  <a:pt x="2038" y="3519"/>
                </a:lnTo>
                <a:lnTo>
                  <a:pt x="2064" y="3017"/>
                </a:lnTo>
                <a:lnTo>
                  <a:pt x="2223" y="3096"/>
                </a:lnTo>
                <a:lnTo>
                  <a:pt x="2382" y="3043"/>
                </a:lnTo>
                <a:lnTo>
                  <a:pt x="2488" y="2620"/>
                </a:lnTo>
                <a:lnTo>
                  <a:pt x="2355" y="2408"/>
                </a:lnTo>
                <a:lnTo>
                  <a:pt x="2197" y="2435"/>
                </a:lnTo>
                <a:lnTo>
                  <a:pt x="2355" y="185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740040" y="1231920"/>
            <a:ext cx="1130760" cy="648000"/>
          </a:xfrm>
          <a:custGeom>
            <a:avLst/>
            <a:gdLst/>
            <a:ahLst/>
            <a:rect l="0" t="0" r="r" b="b"/>
            <a:pathLst>
              <a:path w="3141" h="1800">
                <a:moveTo>
                  <a:pt x="0" y="1588"/>
                </a:moveTo>
                <a:lnTo>
                  <a:pt x="3035" y="1800"/>
                </a:lnTo>
                <a:lnTo>
                  <a:pt x="3141" y="141"/>
                </a:lnTo>
                <a:lnTo>
                  <a:pt x="246" y="0"/>
                </a:lnTo>
                <a:lnTo>
                  <a:pt x="0" y="15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191120" y="3057480"/>
            <a:ext cx="305280" cy="181440"/>
          </a:xfrm>
          <a:custGeom>
            <a:avLst/>
            <a:gdLst/>
            <a:ahLst/>
            <a:rect l="0" t="0" r="r" b="b"/>
            <a:pathLst>
              <a:path w="848" h="504">
                <a:moveTo>
                  <a:pt x="0" y="344"/>
                </a:moveTo>
                <a:lnTo>
                  <a:pt x="239" y="478"/>
                </a:lnTo>
                <a:lnTo>
                  <a:pt x="663" y="504"/>
                </a:lnTo>
                <a:lnTo>
                  <a:pt x="848" y="265"/>
                </a:lnTo>
                <a:lnTo>
                  <a:pt x="848" y="79"/>
                </a:lnTo>
                <a:lnTo>
                  <a:pt x="663" y="0"/>
                </a:lnTo>
                <a:lnTo>
                  <a:pt x="477" y="265"/>
                </a:lnTo>
                <a:lnTo>
                  <a:pt x="185" y="292"/>
                </a:lnTo>
                <a:lnTo>
                  <a:pt x="0" y="344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3795840" y="1714680"/>
            <a:ext cx="962280" cy="1104840"/>
            <a:chOff x="3795840" y="1714680"/>
            <a:chExt cx="962280" cy="1104840"/>
          </a:xfrm>
        </p:grpSpPr>
        <p:sp>
          <p:nvSpPr>
            <p:cNvPr id="763" name=""/>
            <p:cNvSpPr/>
            <p:nvPr/>
          </p:nvSpPr>
          <p:spPr>
            <a:xfrm>
              <a:off x="3795840" y="2052720"/>
              <a:ext cx="409680" cy="409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148280" y="2014560"/>
              <a:ext cx="485640" cy="485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338720" y="2214720"/>
              <a:ext cx="85680" cy="85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929040" y="2224080"/>
              <a:ext cx="85680" cy="85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 flipV="1">
              <a:off x="3924360" y="1866960"/>
              <a:ext cx="799920" cy="3816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870360" y="2562120"/>
              <a:ext cx="657720" cy="257400"/>
            </a:xfrm>
            <a:custGeom>
              <a:avLst/>
              <a:gdLst/>
              <a:ahLst/>
              <a:rect l="0" t="0" r="r" b="b"/>
              <a:pathLst>
                <a:path w="1827" h="715">
                  <a:moveTo>
                    <a:pt x="0" y="0"/>
                  </a:moveTo>
                  <a:lnTo>
                    <a:pt x="1827" y="163"/>
                  </a:lnTo>
                  <a:lnTo>
                    <a:pt x="746" y="7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3975120" y="1714680"/>
              <a:ext cx="767160" cy="177840"/>
              <a:chOff x="3975120" y="1714680"/>
              <a:chExt cx="767160" cy="177840"/>
            </a:xfrm>
          </p:grpSpPr>
          <p:grpSp>
            <p:nvGrpSpPr>
              <p:cNvPr id="770" name=""/>
              <p:cNvGrpSpPr/>
              <p:nvPr/>
            </p:nvGrpSpPr>
            <p:grpSpPr>
              <a:xfrm>
                <a:off x="3975120" y="1714680"/>
                <a:ext cx="697320" cy="152640"/>
                <a:chOff x="3975120" y="1714680"/>
                <a:chExt cx="697320" cy="15264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3975120" y="1714680"/>
                  <a:ext cx="697320" cy="152640"/>
                </a:xfrm>
                <a:custGeom>
                  <a:avLst/>
                  <a:gdLst/>
                  <a:ahLst/>
                  <a:rect l="0" t="0" r="r" b="b"/>
                  <a:pathLst>
                    <a:path w="1937" h="424">
                      <a:moveTo>
                        <a:pt x="615" y="21"/>
                      </a:moveTo>
                      <a:lnTo>
                        <a:pt x="674" y="13"/>
                      </a:lnTo>
                      <a:lnTo>
                        <a:pt x="732" y="9"/>
                      </a:lnTo>
                      <a:lnTo>
                        <a:pt x="806" y="5"/>
                      </a:lnTo>
                      <a:lnTo>
                        <a:pt x="886" y="1"/>
                      </a:lnTo>
                      <a:lnTo>
                        <a:pt x="953" y="0"/>
                      </a:lnTo>
                      <a:lnTo>
                        <a:pt x="1031" y="2"/>
                      </a:lnTo>
                      <a:lnTo>
                        <a:pt x="1135" y="8"/>
                      </a:lnTo>
                      <a:lnTo>
                        <a:pt x="1263" y="18"/>
                      </a:lnTo>
                      <a:lnTo>
                        <a:pt x="1364" y="29"/>
                      </a:lnTo>
                      <a:lnTo>
                        <a:pt x="1452" y="42"/>
                      </a:lnTo>
                      <a:lnTo>
                        <a:pt x="1497" y="51"/>
                      </a:lnTo>
                      <a:lnTo>
                        <a:pt x="1537" y="60"/>
                      </a:lnTo>
                      <a:lnTo>
                        <a:pt x="1588" y="77"/>
                      </a:lnTo>
                      <a:lnTo>
                        <a:pt x="1610" y="86"/>
                      </a:lnTo>
                      <a:lnTo>
                        <a:pt x="1636" y="93"/>
                      </a:lnTo>
                      <a:lnTo>
                        <a:pt x="1680" y="99"/>
                      </a:lnTo>
                      <a:lnTo>
                        <a:pt x="1724" y="105"/>
                      </a:lnTo>
                      <a:lnTo>
                        <a:pt x="1768" y="114"/>
                      </a:lnTo>
                      <a:lnTo>
                        <a:pt x="1804" y="125"/>
                      </a:lnTo>
                      <a:lnTo>
                        <a:pt x="1824" y="134"/>
                      </a:lnTo>
                      <a:lnTo>
                        <a:pt x="1850" y="152"/>
                      </a:lnTo>
                      <a:lnTo>
                        <a:pt x="1880" y="181"/>
                      </a:lnTo>
                      <a:lnTo>
                        <a:pt x="1903" y="214"/>
                      </a:lnTo>
                      <a:lnTo>
                        <a:pt x="1923" y="241"/>
                      </a:lnTo>
                      <a:lnTo>
                        <a:pt x="1935" y="257"/>
                      </a:lnTo>
                      <a:lnTo>
                        <a:pt x="1937" y="275"/>
                      </a:lnTo>
                      <a:lnTo>
                        <a:pt x="1927" y="294"/>
                      </a:lnTo>
                      <a:lnTo>
                        <a:pt x="1917" y="316"/>
                      </a:lnTo>
                      <a:lnTo>
                        <a:pt x="1905" y="338"/>
                      </a:lnTo>
                      <a:lnTo>
                        <a:pt x="1892" y="356"/>
                      </a:lnTo>
                      <a:lnTo>
                        <a:pt x="1872" y="369"/>
                      </a:lnTo>
                      <a:lnTo>
                        <a:pt x="1852" y="378"/>
                      </a:lnTo>
                      <a:lnTo>
                        <a:pt x="1824" y="385"/>
                      </a:lnTo>
                      <a:lnTo>
                        <a:pt x="1802" y="389"/>
                      </a:lnTo>
                      <a:lnTo>
                        <a:pt x="1766" y="391"/>
                      </a:lnTo>
                      <a:lnTo>
                        <a:pt x="1686" y="393"/>
                      </a:lnTo>
                      <a:lnTo>
                        <a:pt x="1600" y="397"/>
                      </a:lnTo>
                      <a:lnTo>
                        <a:pt x="1517" y="404"/>
                      </a:lnTo>
                      <a:lnTo>
                        <a:pt x="1328" y="415"/>
                      </a:lnTo>
                      <a:lnTo>
                        <a:pt x="1221" y="419"/>
                      </a:lnTo>
                      <a:lnTo>
                        <a:pt x="1051" y="424"/>
                      </a:lnTo>
                      <a:lnTo>
                        <a:pt x="924" y="419"/>
                      </a:lnTo>
                      <a:lnTo>
                        <a:pt x="778" y="413"/>
                      </a:lnTo>
                      <a:lnTo>
                        <a:pt x="676" y="399"/>
                      </a:lnTo>
                      <a:lnTo>
                        <a:pt x="636" y="389"/>
                      </a:lnTo>
                      <a:lnTo>
                        <a:pt x="605" y="380"/>
                      </a:lnTo>
                      <a:lnTo>
                        <a:pt x="567" y="374"/>
                      </a:lnTo>
                      <a:lnTo>
                        <a:pt x="533" y="371"/>
                      </a:lnTo>
                      <a:lnTo>
                        <a:pt x="503" y="371"/>
                      </a:lnTo>
                      <a:lnTo>
                        <a:pt x="470" y="369"/>
                      </a:lnTo>
                      <a:lnTo>
                        <a:pt x="420" y="362"/>
                      </a:lnTo>
                      <a:lnTo>
                        <a:pt x="388" y="353"/>
                      </a:lnTo>
                      <a:lnTo>
                        <a:pt x="368" y="344"/>
                      </a:lnTo>
                      <a:lnTo>
                        <a:pt x="356" y="334"/>
                      </a:lnTo>
                      <a:lnTo>
                        <a:pt x="348" y="323"/>
                      </a:lnTo>
                      <a:lnTo>
                        <a:pt x="336" y="315"/>
                      </a:lnTo>
                      <a:lnTo>
                        <a:pt x="307" y="305"/>
                      </a:lnTo>
                      <a:lnTo>
                        <a:pt x="259" y="296"/>
                      </a:lnTo>
                      <a:lnTo>
                        <a:pt x="207" y="292"/>
                      </a:lnTo>
                      <a:lnTo>
                        <a:pt x="163" y="289"/>
                      </a:lnTo>
                      <a:lnTo>
                        <a:pt x="115" y="283"/>
                      </a:lnTo>
                      <a:lnTo>
                        <a:pt x="75" y="276"/>
                      </a:lnTo>
                      <a:lnTo>
                        <a:pt x="43" y="268"/>
                      </a:lnTo>
                      <a:lnTo>
                        <a:pt x="25" y="259"/>
                      </a:lnTo>
                      <a:lnTo>
                        <a:pt x="13" y="244"/>
                      </a:lnTo>
                      <a:lnTo>
                        <a:pt x="3" y="226"/>
                      </a:lnTo>
                      <a:lnTo>
                        <a:pt x="0" y="208"/>
                      </a:lnTo>
                      <a:lnTo>
                        <a:pt x="3" y="190"/>
                      </a:lnTo>
                      <a:lnTo>
                        <a:pt x="19" y="168"/>
                      </a:lnTo>
                      <a:lnTo>
                        <a:pt x="47" y="147"/>
                      </a:lnTo>
                      <a:lnTo>
                        <a:pt x="87" y="126"/>
                      </a:lnTo>
                      <a:lnTo>
                        <a:pt x="139" y="107"/>
                      </a:lnTo>
                      <a:lnTo>
                        <a:pt x="193" y="95"/>
                      </a:lnTo>
                      <a:lnTo>
                        <a:pt x="235" y="86"/>
                      </a:lnTo>
                      <a:lnTo>
                        <a:pt x="295" y="80"/>
                      </a:lnTo>
                      <a:lnTo>
                        <a:pt x="336" y="78"/>
                      </a:lnTo>
                      <a:lnTo>
                        <a:pt x="378" y="72"/>
                      </a:lnTo>
                      <a:lnTo>
                        <a:pt x="442" y="57"/>
                      </a:lnTo>
                      <a:lnTo>
                        <a:pt x="493" y="44"/>
                      </a:lnTo>
                      <a:lnTo>
                        <a:pt x="557" y="30"/>
                      </a:lnTo>
                      <a:lnTo>
                        <a:pt x="615" y="21"/>
                      </a:lnTo>
                      <a:close/>
                    </a:path>
                  </a:pathLst>
                </a:custGeom>
                <a:solidFill>
                  <a:srgbClr val="ff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2" name=""/>
                <p:cNvGrpSpPr/>
                <p:nvPr/>
              </p:nvGrpSpPr>
              <p:grpSpPr>
                <a:xfrm>
                  <a:off x="3992400" y="1717560"/>
                  <a:ext cx="656280" cy="126000"/>
                  <a:chOff x="3992400" y="1717560"/>
                  <a:chExt cx="656280" cy="126000"/>
                </a:xfrm>
              </p:grpSpPr>
              <p:grpSp>
                <p:nvGrpSpPr>
                  <p:cNvPr id="773" name=""/>
                  <p:cNvGrpSpPr/>
                  <p:nvPr/>
                </p:nvGrpSpPr>
                <p:grpSpPr>
                  <a:xfrm>
                    <a:off x="3992400" y="1771560"/>
                    <a:ext cx="117720" cy="59040"/>
                    <a:chOff x="3992400" y="1771560"/>
                    <a:chExt cx="117720" cy="59040"/>
                  </a:xfrm>
                </p:grpSpPr>
                <p:sp>
                  <p:nvSpPr>
                    <p:cNvPr id="774" name=""/>
                    <p:cNvSpPr/>
                    <p:nvPr/>
                  </p:nvSpPr>
                  <p:spPr>
                    <a:xfrm>
                      <a:off x="3992400" y="1771560"/>
                      <a:ext cx="117720" cy="59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327" h="164">
                          <a:moveTo>
                            <a:pt x="3" y="0"/>
                          </a:moveTo>
                          <a:lnTo>
                            <a:pt x="1" y="6"/>
                          </a:lnTo>
                          <a:lnTo>
                            <a:pt x="0" y="14"/>
                          </a:lnTo>
                          <a:lnTo>
                            <a:pt x="1" y="21"/>
                          </a:lnTo>
                          <a:lnTo>
                            <a:pt x="7" y="30"/>
                          </a:lnTo>
                          <a:lnTo>
                            <a:pt x="13" y="37"/>
                          </a:lnTo>
                          <a:lnTo>
                            <a:pt x="27" y="44"/>
                          </a:lnTo>
                          <a:lnTo>
                            <a:pt x="43" y="52"/>
                          </a:lnTo>
                          <a:lnTo>
                            <a:pt x="69" y="57"/>
                          </a:lnTo>
                          <a:lnTo>
                            <a:pt x="92" y="61"/>
                          </a:lnTo>
                          <a:lnTo>
                            <a:pt x="118" y="66"/>
                          </a:lnTo>
                          <a:lnTo>
                            <a:pt x="124" y="72"/>
                          </a:lnTo>
                          <a:lnTo>
                            <a:pt x="132" y="83"/>
                          </a:lnTo>
                          <a:lnTo>
                            <a:pt x="148" y="91"/>
                          </a:lnTo>
                          <a:lnTo>
                            <a:pt x="167" y="101"/>
                          </a:lnTo>
                          <a:lnTo>
                            <a:pt x="198" y="111"/>
                          </a:lnTo>
                          <a:lnTo>
                            <a:pt x="222" y="118"/>
                          </a:lnTo>
                          <a:lnTo>
                            <a:pt x="240" y="122"/>
                          </a:lnTo>
                          <a:lnTo>
                            <a:pt x="269" y="127"/>
                          </a:lnTo>
                          <a:lnTo>
                            <a:pt x="301" y="130"/>
                          </a:lnTo>
                          <a:lnTo>
                            <a:pt x="315" y="132"/>
                          </a:lnTo>
                          <a:lnTo>
                            <a:pt x="323" y="135"/>
                          </a:lnTo>
                          <a:lnTo>
                            <a:pt x="327" y="139"/>
                          </a:lnTo>
                          <a:lnTo>
                            <a:pt x="321" y="153"/>
                          </a:lnTo>
                          <a:lnTo>
                            <a:pt x="313" y="164"/>
                          </a:lnTo>
                        </a:path>
                      </a:pathLst>
                    </a:custGeom>
                    <a:ln w="12600">
                      <a:solidFill>
                        <a:srgbClr val="ff8080"/>
                      </a:solidFill>
                      <a:round/>
                    </a:ln>
                  </p:spPr>
                  <p:txBody>
                    <a:bodyPr lIns="96120" rIns="9612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>
                      <a:off x="4037040" y="177948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72" h="72">
                          <a:moveTo>
                            <a:pt x="45" y="0"/>
                          </a:moveTo>
                          <a:lnTo>
                            <a:pt x="63" y="21"/>
                          </a:lnTo>
                          <a:lnTo>
                            <a:pt x="72" y="37"/>
                          </a:lnTo>
                          <a:lnTo>
                            <a:pt x="53" y="56"/>
                          </a:lnTo>
                          <a:lnTo>
                            <a:pt x="0" y="72"/>
                          </a:lnTo>
                        </a:path>
                      </a:pathLst>
                    </a:custGeom>
                    <a:ln w="12600">
                      <a:solidFill>
                        <a:srgbClr val="ff808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6" name=""/>
                  <p:cNvSpPr/>
                  <p:nvPr/>
                </p:nvSpPr>
                <p:spPr>
                  <a:xfrm>
                    <a:off x="4094280" y="1787400"/>
                    <a:ext cx="11304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14" h="89">
                        <a:moveTo>
                          <a:pt x="0" y="0"/>
                        </a:moveTo>
                        <a:lnTo>
                          <a:pt x="6" y="12"/>
                        </a:lnTo>
                        <a:lnTo>
                          <a:pt x="16" y="27"/>
                        </a:lnTo>
                        <a:lnTo>
                          <a:pt x="26" y="38"/>
                        </a:lnTo>
                        <a:lnTo>
                          <a:pt x="40" y="46"/>
                        </a:lnTo>
                        <a:lnTo>
                          <a:pt x="68" y="53"/>
                        </a:lnTo>
                        <a:lnTo>
                          <a:pt x="92" y="56"/>
                        </a:lnTo>
                        <a:lnTo>
                          <a:pt x="120" y="61"/>
                        </a:lnTo>
                        <a:lnTo>
                          <a:pt x="161" y="68"/>
                        </a:lnTo>
                        <a:lnTo>
                          <a:pt x="197" y="77"/>
                        </a:lnTo>
                        <a:lnTo>
                          <a:pt x="223" y="84"/>
                        </a:lnTo>
                        <a:lnTo>
                          <a:pt x="247" y="87"/>
                        </a:lnTo>
                        <a:lnTo>
                          <a:pt x="273" y="89"/>
                        </a:lnTo>
                        <a:lnTo>
                          <a:pt x="312" y="88"/>
                        </a:lnTo>
                        <a:lnTo>
                          <a:pt x="314" y="88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4105440" y="1762200"/>
                    <a:ext cx="766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13" h="72">
                        <a:moveTo>
                          <a:pt x="0" y="72"/>
                        </a:moveTo>
                        <a:lnTo>
                          <a:pt x="27" y="49"/>
                        </a:lnTo>
                        <a:lnTo>
                          <a:pt x="51" y="32"/>
                        </a:lnTo>
                        <a:lnTo>
                          <a:pt x="88" y="12"/>
                        </a:lnTo>
                        <a:lnTo>
                          <a:pt x="117" y="4"/>
                        </a:lnTo>
                        <a:lnTo>
                          <a:pt x="151" y="0"/>
                        </a:lnTo>
                        <a:lnTo>
                          <a:pt x="182" y="2"/>
                        </a:lnTo>
                        <a:lnTo>
                          <a:pt x="213" y="12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4071960" y="1746360"/>
                    <a:ext cx="25920" cy="385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2" h="107">
                        <a:moveTo>
                          <a:pt x="27" y="0"/>
                        </a:moveTo>
                        <a:lnTo>
                          <a:pt x="45" y="9"/>
                        </a:lnTo>
                        <a:lnTo>
                          <a:pt x="59" y="17"/>
                        </a:lnTo>
                        <a:lnTo>
                          <a:pt x="68" y="28"/>
                        </a:lnTo>
                        <a:lnTo>
                          <a:pt x="72" y="41"/>
                        </a:lnTo>
                        <a:lnTo>
                          <a:pt x="68" y="56"/>
                        </a:lnTo>
                        <a:lnTo>
                          <a:pt x="61" y="70"/>
                        </a:lnTo>
                        <a:lnTo>
                          <a:pt x="51" y="82"/>
                        </a:lnTo>
                        <a:lnTo>
                          <a:pt x="38" y="90"/>
                        </a:lnTo>
                        <a:lnTo>
                          <a:pt x="15" y="101"/>
                        </a:lnTo>
                        <a:lnTo>
                          <a:pt x="0" y="107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4105440" y="1733400"/>
                    <a:ext cx="590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64" h="72">
                        <a:moveTo>
                          <a:pt x="0" y="72"/>
                        </a:moveTo>
                        <a:lnTo>
                          <a:pt x="38" y="55"/>
                        </a:lnTo>
                        <a:lnTo>
                          <a:pt x="73" y="37"/>
                        </a:lnTo>
                        <a:lnTo>
                          <a:pt x="113" y="21"/>
                        </a:lnTo>
                        <a:lnTo>
                          <a:pt x="164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4276800" y="1717560"/>
                    <a:ext cx="338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94" h="72">
                        <a:moveTo>
                          <a:pt x="0" y="72"/>
                        </a:moveTo>
                        <a:lnTo>
                          <a:pt x="34" y="40"/>
                        </a:lnTo>
                        <a:lnTo>
                          <a:pt x="94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4191120" y="1725480"/>
                    <a:ext cx="2336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649" h="72">
                        <a:moveTo>
                          <a:pt x="0" y="72"/>
                        </a:moveTo>
                        <a:lnTo>
                          <a:pt x="24" y="70"/>
                        </a:lnTo>
                        <a:lnTo>
                          <a:pt x="42" y="66"/>
                        </a:lnTo>
                        <a:lnTo>
                          <a:pt x="58" y="62"/>
                        </a:lnTo>
                        <a:lnTo>
                          <a:pt x="70" y="55"/>
                        </a:lnTo>
                        <a:lnTo>
                          <a:pt x="76" y="46"/>
                        </a:lnTo>
                        <a:lnTo>
                          <a:pt x="80" y="37"/>
                        </a:lnTo>
                        <a:lnTo>
                          <a:pt x="88" y="47"/>
                        </a:lnTo>
                        <a:lnTo>
                          <a:pt x="98" y="53"/>
                        </a:lnTo>
                        <a:lnTo>
                          <a:pt x="116" y="58"/>
                        </a:lnTo>
                        <a:lnTo>
                          <a:pt x="138" y="60"/>
                        </a:lnTo>
                        <a:lnTo>
                          <a:pt x="164" y="61"/>
                        </a:lnTo>
                        <a:lnTo>
                          <a:pt x="206" y="60"/>
                        </a:lnTo>
                        <a:lnTo>
                          <a:pt x="248" y="58"/>
                        </a:lnTo>
                        <a:lnTo>
                          <a:pt x="286" y="55"/>
                        </a:lnTo>
                        <a:lnTo>
                          <a:pt x="316" y="52"/>
                        </a:lnTo>
                        <a:lnTo>
                          <a:pt x="351" y="45"/>
                        </a:lnTo>
                        <a:lnTo>
                          <a:pt x="377" y="39"/>
                        </a:lnTo>
                        <a:lnTo>
                          <a:pt x="401" y="32"/>
                        </a:lnTo>
                        <a:lnTo>
                          <a:pt x="417" y="21"/>
                        </a:lnTo>
                        <a:lnTo>
                          <a:pt x="427" y="29"/>
                        </a:lnTo>
                        <a:lnTo>
                          <a:pt x="441" y="35"/>
                        </a:lnTo>
                        <a:lnTo>
                          <a:pt x="457" y="41"/>
                        </a:lnTo>
                        <a:lnTo>
                          <a:pt x="483" y="44"/>
                        </a:lnTo>
                        <a:lnTo>
                          <a:pt x="515" y="45"/>
                        </a:lnTo>
                        <a:lnTo>
                          <a:pt x="541" y="44"/>
                        </a:lnTo>
                        <a:lnTo>
                          <a:pt x="559" y="42"/>
                        </a:lnTo>
                        <a:lnTo>
                          <a:pt x="587" y="39"/>
                        </a:lnTo>
                        <a:lnTo>
                          <a:pt x="605" y="35"/>
                        </a:lnTo>
                        <a:lnTo>
                          <a:pt x="621" y="31"/>
                        </a:lnTo>
                        <a:lnTo>
                          <a:pt x="631" y="23"/>
                        </a:lnTo>
                        <a:lnTo>
                          <a:pt x="639" y="13"/>
                        </a:lnTo>
                        <a:lnTo>
                          <a:pt x="649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4165560" y="1762200"/>
                    <a:ext cx="2624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29" h="72">
                        <a:moveTo>
                          <a:pt x="0" y="46"/>
                        </a:moveTo>
                        <a:lnTo>
                          <a:pt x="25" y="36"/>
                        </a:lnTo>
                        <a:lnTo>
                          <a:pt x="55" y="26"/>
                        </a:lnTo>
                        <a:lnTo>
                          <a:pt x="81" y="17"/>
                        </a:lnTo>
                        <a:lnTo>
                          <a:pt x="109" y="11"/>
                        </a:lnTo>
                        <a:lnTo>
                          <a:pt x="139" y="4"/>
                        </a:lnTo>
                        <a:lnTo>
                          <a:pt x="157" y="2"/>
                        </a:lnTo>
                        <a:lnTo>
                          <a:pt x="188" y="0"/>
                        </a:lnTo>
                        <a:lnTo>
                          <a:pt x="248" y="0"/>
                        </a:lnTo>
                        <a:lnTo>
                          <a:pt x="312" y="0"/>
                        </a:lnTo>
                        <a:lnTo>
                          <a:pt x="370" y="2"/>
                        </a:lnTo>
                        <a:lnTo>
                          <a:pt x="432" y="4"/>
                        </a:lnTo>
                        <a:lnTo>
                          <a:pt x="478" y="8"/>
                        </a:lnTo>
                        <a:lnTo>
                          <a:pt x="522" y="13"/>
                        </a:lnTo>
                        <a:lnTo>
                          <a:pt x="561" y="21"/>
                        </a:lnTo>
                        <a:lnTo>
                          <a:pt x="603" y="30"/>
                        </a:lnTo>
                        <a:lnTo>
                          <a:pt x="645" y="39"/>
                        </a:lnTo>
                        <a:lnTo>
                          <a:pt x="675" y="49"/>
                        </a:lnTo>
                        <a:lnTo>
                          <a:pt x="705" y="61"/>
                        </a:lnTo>
                        <a:lnTo>
                          <a:pt x="729" y="72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4356000" y="1752480"/>
                    <a:ext cx="558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55" h="72">
                        <a:moveTo>
                          <a:pt x="0" y="63"/>
                        </a:moveTo>
                        <a:lnTo>
                          <a:pt x="28" y="69"/>
                        </a:lnTo>
                        <a:lnTo>
                          <a:pt x="57" y="72"/>
                        </a:lnTo>
                        <a:lnTo>
                          <a:pt x="83" y="67"/>
                        </a:lnTo>
                        <a:lnTo>
                          <a:pt x="108" y="57"/>
                        </a:lnTo>
                        <a:lnTo>
                          <a:pt x="130" y="40"/>
                        </a:lnTo>
                        <a:lnTo>
                          <a:pt x="142" y="21"/>
                        </a:lnTo>
                        <a:lnTo>
                          <a:pt x="155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4440240" y="1731960"/>
                    <a:ext cx="46440" cy="417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29" h="116">
                        <a:moveTo>
                          <a:pt x="113" y="0"/>
                        </a:moveTo>
                        <a:lnTo>
                          <a:pt x="101" y="9"/>
                        </a:lnTo>
                        <a:lnTo>
                          <a:pt x="84" y="19"/>
                        </a:lnTo>
                        <a:lnTo>
                          <a:pt x="66" y="24"/>
                        </a:lnTo>
                        <a:lnTo>
                          <a:pt x="54" y="27"/>
                        </a:lnTo>
                        <a:lnTo>
                          <a:pt x="36" y="27"/>
                        </a:lnTo>
                        <a:lnTo>
                          <a:pt x="15" y="27"/>
                        </a:lnTo>
                        <a:lnTo>
                          <a:pt x="0" y="24"/>
                        </a:lnTo>
                        <a:lnTo>
                          <a:pt x="23" y="32"/>
                        </a:lnTo>
                        <a:lnTo>
                          <a:pt x="40" y="37"/>
                        </a:lnTo>
                        <a:lnTo>
                          <a:pt x="48" y="42"/>
                        </a:lnTo>
                        <a:lnTo>
                          <a:pt x="52" y="45"/>
                        </a:lnTo>
                        <a:lnTo>
                          <a:pt x="50" y="51"/>
                        </a:lnTo>
                        <a:lnTo>
                          <a:pt x="48" y="58"/>
                        </a:lnTo>
                        <a:lnTo>
                          <a:pt x="44" y="69"/>
                        </a:lnTo>
                        <a:lnTo>
                          <a:pt x="48" y="78"/>
                        </a:lnTo>
                        <a:lnTo>
                          <a:pt x="56" y="90"/>
                        </a:lnTo>
                        <a:lnTo>
                          <a:pt x="66" y="96"/>
                        </a:lnTo>
                        <a:lnTo>
                          <a:pt x="78" y="102"/>
                        </a:lnTo>
                        <a:lnTo>
                          <a:pt x="101" y="108"/>
                        </a:lnTo>
                        <a:lnTo>
                          <a:pt x="129" y="116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4494240" y="1741320"/>
                    <a:ext cx="147960" cy="385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411" h="107">
                        <a:moveTo>
                          <a:pt x="90" y="0"/>
                        </a:moveTo>
                        <a:lnTo>
                          <a:pt x="82" y="7"/>
                        </a:lnTo>
                        <a:lnTo>
                          <a:pt x="70" y="15"/>
                        </a:lnTo>
                        <a:lnTo>
                          <a:pt x="54" y="21"/>
                        </a:lnTo>
                        <a:lnTo>
                          <a:pt x="30" y="29"/>
                        </a:lnTo>
                        <a:lnTo>
                          <a:pt x="0" y="37"/>
                        </a:lnTo>
                        <a:lnTo>
                          <a:pt x="24" y="39"/>
                        </a:lnTo>
                        <a:lnTo>
                          <a:pt x="50" y="40"/>
                        </a:lnTo>
                        <a:lnTo>
                          <a:pt x="72" y="42"/>
                        </a:lnTo>
                        <a:lnTo>
                          <a:pt x="88" y="45"/>
                        </a:lnTo>
                        <a:lnTo>
                          <a:pt x="100" y="48"/>
                        </a:lnTo>
                        <a:lnTo>
                          <a:pt x="112" y="55"/>
                        </a:lnTo>
                        <a:lnTo>
                          <a:pt x="120" y="60"/>
                        </a:lnTo>
                        <a:lnTo>
                          <a:pt x="126" y="68"/>
                        </a:lnTo>
                        <a:lnTo>
                          <a:pt x="130" y="79"/>
                        </a:lnTo>
                        <a:lnTo>
                          <a:pt x="126" y="100"/>
                        </a:lnTo>
                        <a:lnTo>
                          <a:pt x="142" y="95"/>
                        </a:lnTo>
                        <a:lnTo>
                          <a:pt x="160" y="89"/>
                        </a:lnTo>
                        <a:lnTo>
                          <a:pt x="178" y="84"/>
                        </a:lnTo>
                        <a:lnTo>
                          <a:pt x="202" y="79"/>
                        </a:lnTo>
                        <a:lnTo>
                          <a:pt x="225" y="77"/>
                        </a:lnTo>
                        <a:lnTo>
                          <a:pt x="251" y="77"/>
                        </a:lnTo>
                        <a:lnTo>
                          <a:pt x="281" y="78"/>
                        </a:lnTo>
                        <a:lnTo>
                          <a:pt x="309" y="82"/>
                        </a:lnTo>
                        <a:lnTo>
                          <a:pt x="329" y="84"/>
                        </a:lnTo>
                        <a:lnTo>
                          <a:pt x="353" y="89"/>
                        </a:lnTo>
                        <a:lnTo>
                          <a:pt x="371" y="94"/>
                        </a:lnTo>
                        <a:lnTo>
                          <a:pt x="411" y="107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4489560" y="1770120"/>
                    <a:ext cx="55800" cy="273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55" h="76">
                        <a:moveTo>
                          <a:pt x="22" y="0"/>
                        </a:moveTo>
                        <a:lnTo>
                          <a:pt x="12" y="9"/>
                        </a:lnTo>
                        <a:lnTo>
                          <a:pt x="2" y="18"/>
                        </a:lnTo>
                        <a:lnTo>
                          <a:pt x="0" y="27"/>
                        </a:lnTo>
                        <a:lnTo>
                          <a:pt x="4" y="37"/>
                        </a:lnTo>
                        <a:lnTo>
                          <a:pt x="16" y="49"/>
                        </a:lnTo>
                        <a:lnTo>
                          <a:pt x="30" y="65"/>
                        </a:lnTo>
                        <a:lnTo>
                          <a:pt x="40" y="70"/>
                        </a:lnTo>
                        <a:lnTo>
                          <a:pt x="50" y="74"/>
                        </a:lnTo>
                        <a:lnTo>
                          <a:pt x="62" y="75"/>
                        </a:lnTo>
                        <a:lnTo>
                          <a:pt x="103" y="76"/>
                        </a:lnTo>
                        <a:lnTo>
                          <a:pt x="155" y="75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4551480" y="1790640"/>
                    <a:ext cx="828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30" h="72">
                        <a:moveTo>
                          <a:pt x="0" y="52"/>
                        </a:moveTo>
                        <a:lnTo>
                          <a:pt x="27" y="62"/>
                        </a:lnTo>
                        <a:lnTo>
                          <a:pt x="51" y="67"/>
                        </a:lnTo>
                        <a:lnTo>
                          <a:pt x="79" y="72"/>
                        </a:lnTo>
                        <a:lnTo>
                          <a:pt x="112" y="72"/>
                        </a:lnTo>
                        <a:lnTo>
                          <a:pt x="141" y="66"/>
                        </a:lnTo>
                        <a:lnTo>
                          <a:pt x="169" y="56"/>
                        </a:lnTo>
                        <a:lnTo>
                          <a:pt x="192" y="39"/>
                        </a:lnTo>
                        <a:lnTo>
                          <a:pt x="214" y="17"/>
                        </a:lnTo>
                        <a:lnTo>
                          <a:pt x="230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4532400" y="1809720"/>
                    <a:ext cx="116280" cy="338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23" h="94">
                        <a:moveTo>
                          <a:pt x="323" y="0"/>
                        </a:moveTo>
                        <a:lnTo>
                          <a:pt x="313" y="8"/>
                        </a:lnTo>
                        <a:lnTo>
                          <a:pt x="298" y="16"/>
                        </a:lnTo>
                        <a:lnTo>
                          <a:pt x="272" y="25"/>
                        </a:lnTo>
                        <a:lnTo>
                          <a:pt x="258" y="27"/>
                        </a:lnTo>
                        <a:lnTo>
                          <a:pt x="233" y="30"/>
                        </a:lnTo>
                        <a:lnTo>
                          <a:pt x="199" y="27"/>
                        </a:lnTo>
                        <a:lnTo>
                          <a:pt x="163" y="25"/>
                        </a:lnTo>
                        <a:lnTo>
                          <a:pt x="120" y="21"/>
                        </a:lnTo>
                        <a:lnTo>
                          <a:pt x="84" y="18"/>
                        </a:lnTo>
                        <a:lnTo>
                          <a:pt x="53" y="16"/>
                        </a:lnTo>
                        <a:lnTo>
                          <a:pt x="17" y="16"/>
                        </a:lnTo>
                        <a:lnTo>
                          <a:pt x="0" y="18"/>
                        </a:lnTo>
                        <a:lnTo>
                          <a:pt x="21" y="20"/>
                        </a:lnTo>
                        <a:lnTo>
                          <a:pt x="39" y="26"/>
                        </a:lnTo>
                        <a:lnTo>
                          <a:pt x="55" y="30"/>
                        </a:lnTo>
                        <a:lnTo>
                          <a:pt x="77" y="38"/>
                        </a:lnTo>
                        <a:lnTo>
                          <a:pt x="96" y="46"/>
                        </a:lnTo>
                        <a:lnTo>
                          <a:pt x="118" y="57"/>
                        </a:lnTo>
                        <a:lnTo>
                          <a:pt x="136" y="66"/>
                        </a:lnTo>
                        <a:lnTo>
                          <a:pt x="154" y="80"/>
                        </a:lnTo>
                        <a:lnTo>
                          <a:pt x="169" y="94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4457880" y="1784520"/>
                    <a:ext cx="81360" cy="52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26" h="147">
                        <a:moveTo>
                          <a:pt x="58" y="0"/>
                        </a:moveTo>
                        <a:lnTo>
                          <a:pt x="39" y="2"/>
                        </a:lnTo>
                        <a:lnTo>
                          <a:pt x="17" y="7"/>
                        </a:lnTo>
                        <a:lnTo>
                          <a:pt x="5" y="13"/>
                        </a:lnTo>
                        <a:lnTo>
                          <a:pt x="1" y="17"/>
                        </a:lnTo>
                        <a:lnTo>
                          <a:pt x="0" y="21"/>
                        </a:lnTo>
                        <a:lnTo>
                          <a:pt x="3" y="29"/>
                        </a:lnTo>
                        <a:lnTo>
                          <a:pt x="11" y="39"/>
                        </a:lnTo>
                        <a:lnTo>
                          <a:pt x="23" y="50"/>
                        </a:lnTo>
                        <a:lnTo>
                          <a:pt x="37" y="60"/>
                        </a:lnTo>
                        <a:lnTo>
                          <a:pt x="55" y="69"/>
                        </a:lnTo>
                        <a:lnTo>
                          <a:pt x="74" y="77"/>
                        </a:lnTo>
                        <a:lnTo>
                          <a:pt x="98" y="84"/>
                        </a:lnTo>
                        <a:lnTo>
                          <a:pt x="120" y="90"/>
                        </a:lnTo>
                        <a:lnTo>
                          <a:pt x="148" y="96"/>
                        </a:lnTo>
                        <a:lnTo>
                          <a:pt x="162" y="109"/>
                        </a:lnTo>
                        <a:lnTo>
                          <a:pt x="179" y="121"/>
                        </a:lnTo>
                        <a:lnTo>
                          <a:pt x="205" y="135"/>
                        </a:lnTo>
                        <a:lnTo>
                          <a:pt x="226" y="147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0" name=""/>
              <p:cNvGrpSpPr/>
              <p:nvPr/>
            </p:nvGrpSpPr>
            <p:grpSpPr>
              <a:xfrm>
                <a:off x="4044960" y="1739880"/>
                <a:ext cx="697320" cy="152640"/>
                <a:chOff x="4044960" y="1739880"/>
                <a:chExt cx="697320" cy="15264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4044960" y="1739880"/>
                  <a:ext cx="697320" cy="152640"/>
                </a:xfrm>
                <a:custGeom>
                  <a:avLst/>
                  <a:gdLst/>
                  <a:ahLst/>
                  <a:rect l="0" t="0" r="r" b="b"/>
                  <a:pathLst>
                    <a:path w="1937" h="424">
                      <a:moveTo>
                        <a:pt x="615" y="21"/>
                      </a:moveTo>
                      <a:lnTo>
                        <a:pt x="674" y="13"/>
                      </a:lnTo>
                      <a:lnTo>
                        <a:pt x="732" y="9"/>
                      </a:lnTo>
                      <a:lnTo>
                        <a:pt x="806" y="5"/>
                      </a:lnTo>
                      <a:lnTo>
                        <a:pt x="886" y="1"/>
                      </a:lnTo>
                      <a:lnTo>
                        <a:pt x="953" y="0"/>
                      </a:lnTo>
                      <a:lnTo>
                        <a:pt x="1031" y="2"/>
                      </a:lnTo>
                      <a:lnTo>
                        <a:pt x="1135" y="8"/>
                      </a:lnTo>
                      <a:lnTo>
                        <a:pt x="1263" y="18"/>
                      </a:lnTo>
                      <a:lnTo>
                        <a:pt x="1364" y="29"/>
                      </a:lnTo>
                      <a:lnTo>
                        <a:pt x="1452" y="42"/>
                      </a:lnTo>
                      <a:lnTo>
                        <a:pt x="1497" y="51"/>
                      </a:lnTo>
                      <a:lnTo>
                        <a:pt x="1537" y="60"/>
                      </a:lnTo>
                      <a:lnTo>
                        <a:pt x="1588" y="77"/>
                      </a:lnTo>
                      <a:lnTo>
                        <a:pt x="1610" y="86"/>
                      </a:lnTo>
                      <a:lnTo>
                        <a:pt x="1636" y="93"/>
                      </a:lnTo>
                      <a:lnTo>
                        <a:pt x="1680" y="99"/>
                      </a:lnTo>
                      <a:lnTo>
                        <a:pt x="1724" y="105"/>
                      </a:lnTo>
                      <a:lnTo>
                        <a:pt x="1768" y="114"/>
                      </a:lnTo>
                      <a:lnTo>
                        <a:pt x="1804" y="125"/>
                      </a:lnTo>
                      <a:lnTo>
                        <a:pt x="1824" y="134"/>
                      </a:lnTo>
                      <a:lnTo>
                        <a:pt x="1850" y="152"/>
                      </a:lnTo>
                      <a:lnTo>
                        <a:pt x="1880" y="181"/>
                      </a:lnTo>
                      <a:lnTo>
                        <a:pt x="1903" y="214"/>
                      </a:lnTo>
                      <a:lnTo>
                        <a:pt x="1923" y="241"/>
                      </a:lnTo>
                      <a:lnTo>
                        <a:pt x="1935" y="257"/>
                      </a:lnTo>
                      <a:lnTo>
                        <a:pt x="1937" y="275"/>
                      </a:lnTo>
                      <a:lnTo>
                        <a:pt x="1927" y="294"/>
                      </a:lnTo>
                      <a:lnTo>
                        <a:pt x="1917" y="316"/>
                      </a:lnTo>
                      <a:lnTo>
                        <a:pt x="1905" y="338"/>
                      </a:lnTo>
                      <a:lnTo>
                        <a:pt x="1892" y="356"/>
                      </a:lnTo>
                      <a:lnTo>
                        <a:pt x="1872" y="369"/>
                      </a:lnTo>
                      <a:lnTo>
                        <a:pt x="1852" y="378"/>
                      </a:lnTo>
                      <a:lnTo>
                        <a:pt x="1824" y="385"/>
                      </a:lnTo>
                      <a:lnTo>
                        <a:pt x="1802" y="389"/>
                      </a:lnTo>
                      <a:lnTo>
                        <a:pt x="1766" y="391"/>
                      </a:lnTo>
                      <a:lnTo>
                        <a:pt x="1686" y="393"/>
                      </a:lnTo>
                      <a:lnTo>
                        <a:pt x="1600" y="397"/>
                      </a:lnTo>
                      <a:lnTo>
                        <a:pt x="1517" y="404"/>
                      </a:lnTo>
                      <a:lnTo>
                        <a:pt x="1328" y="415"/>
                      </a:lnTo>
                      <a:lnTo>
                        <a:pt x="1221" y="419"/>
                      </a:lnTo>
                      <a:lnTo>
                        <a:pt x="1051" y="424"/>
                      </a:lnTo>
                      <a:lnTo>
                        <a:pt x="924" y="419"/>
                      </a:lnTo>
                      <a:lnTo>
                        <a:pt x="778" y="413"/>
                      </a:lnTo>
                      <a:lnTo>
                        <a:pt x="676" y="399"/>
                      </a:lnTo>
                      <a:lnTo>
                        <a:pt x="636" y="389"/>
                      </a:lnTo>
                      <a:lnTo>
                        <a:pt x="605" y="380"/>
                      </a:lnTo>
                      <a:lnTo>
                        <a:pt x="567" y="374"/>
                      </a:lnTo>
                      <a:lnTo>
                        <a:pt x="533" y="371"/>
                      </a:lnTo>
                      <a:lnTo>
                        <a:pt x="503" y="371"/>
                      </a:lnTo>
                      <a:lnTo>
                        <a:pt x="470" y="369"/>
                      </a:lnTo>
                      <a:lnTo>
                        <a:pt x="420" y="362"/>
                      </a:lnTo>
                      <a:lnTo>
                        <a:pt x="388" y="353"/>
                      </a:lnTo>
                      <a:lnTo>
                        <a:pt x="368" y="344"/>
                      </a:lnTo>
                      <a:lnTo>
                        <a:pt x="356" y="334"/>
                      </a:lnTo>
                      <a:lnTo>
                        <a:pt x="348" y="323"/>
                      </a:lnTo>
                      <a:lnTo>
                        <a:pt x="336" y="315"/>
                      </a:lnTo>
                      <a:lnTo>
                        <a:pt x="307" y="305"/>
                      </a:lnTo>
                      <a:lnTo>
                        <a:pt x="259" y="296"/>
                      </a:lnTo>
                      <a:lnTo>
                        <a:pt x="207" y="292"/>
                      </a:lnTo>
                      <a:lnTo>
                        <a:pt x="163" y="289"/>
                      </a:lnTo>
                      <a:lnTo>
                        <a:pt x="115" y="283"/>
                      </a:lnTo>
                      <a:lnTo>
                        <a:pt x="75" y="276"/>
                      </a:lnTo>
                      <a:lnTo>
                        <a:pt x="43" y="268"/>
                      </a:lnTo>
                      <a:lnTo>
                        <a:pt x="25" y="259"/>
                      </a:lnTo>
                      <a:lnTo>
                        <a:pt x="13" y="244"/>
                      </a:lnTo>
                      <a:lnTo>
                        <a:pt x="3" y="226"/>
                      </a:lnTo>
                      <a:lnTo>
                        <a:pt x="0" y="208"/>
                      </a:lnTo>
                      <a:lnTo>
                        <a:pt x="3" y="190"/>
                      </a:lnTo>
                      <a:lnTo>
                        <a:pt x="19" y="168"/>
                      </a:lnTo>
                      <a:lnTo>
                        <a:pt x="47" y="147"/>
                      </a:lnTo>
                      <a:lnTo>
                        <a:pt x="87" y="126"/>
                      </a:lnTo>
                      <a:lnTo>
                        <a:pt x="139" y="107"/>
                      </a:lnTo>
                      <a:lnTo>
                        <a:pt x="193" y="95"/>
                      </a:lnTo>
                      <a:lnTo>
                        <a:pt x="235" y="86"/>
                      </a:lnTo>
                      <a:lnTo>
                        <a:pt x="295" y="80"/>
                      </a:lnTo>
                      <a:lnTo>
                        <a:pt x="336" y="78"/>
                      </a:lnTo>
                      <a:lnTo>
                        <a:pt x="378" y="72"/>
                      </a:lnTo>
                      <a:lnTo>
                        <a:pt x="442" y="57"/>
                      </a:lnTo>
                      <a:lnTo>
                        <a:pt x="493" y="44"/>
                      </a:lnTo>
                      <a:lnTo>
                        <a:pt x="557" y="30"/>
                      </a:lnTo>
                      <a:lnTo>
                        <a:pt x="615" y="21"/>
                      </a:lnTo>
                      <a:close/>
                    </a:path>
                  </a:pathLst>
                </a:custGeom>
                <a:solidFill>
                  <a:srgbClr val="ff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2" name=""/>
                <p:cNvGrpSpPr/>
                <p:nvPr/>
              </p:nvGrpSpPr>
              <p:grpSpPr>
                <a:xfrm>
                  <a:off x="4060800" y="1746360"/>
                  <a:ext cx="657360" cy="120960"/>
                  <a:chOff x="4060800" y="1746360"/>
                  <a:chExt cx="657360" cy="120960"/>
                </a:xfrm>
              </p:grpSpPr>
              <p:grpSp>
                <p:nvGrpSpPr>
                  <p:cNvPr id="793" name=""/>
                  <p:cNvGrpSpPr/>
                  <p:nvPr/>
                </p:nvGrpSpPr>
                <p:grpSpPr>
                  <a:xfrm>
                    <a:off x="4060800" y="1798560"/>
                    <a:ext cx="119520" cy="59040"/>
                    <a:chOff x="4060800" y="1798560"/>
                    <a:chExt cx="119520" cy="59040"/>
                  </a:xfrm>
                </p:grpSpPr>
                <p:sp>
                  <p:nvSpPr>
                    <p:cNvPr id="794" name=""/>
                    <p:cNvSpPr/>
                    <p:nvPr/>
                  </p:nvSpPr>
                  <p:spPr>
                    <a:xfrm>
                      <a:off x="4060800" y="1798560"/>
                      <a:ext cx="119520" cy="59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332" h="164">
                          <a:moveTo>
                            <a:pt x="4" y="0"/>
                          </a:moveTo>
                          <a:lnTo>
                            <a:pt x="2" y="6"/>
                          </a:lnTo>
                          <a:lnTo>
                            <a:pt x="0" y="14"/>
                          </a:lnTo>
                          <a:lnTo>
                            <a:pt x="2" y="21"/>
                          </a:lnTo>
                          <a:lnTo>
                            <a:pt x="8" y="30"/>
                          </a:lnTo>
                          <a:lnTo>
                            <a:pt x="14" y="37"/>
                          </a:lnTo>
                          <a:lnTo>
                            <a:pt x="28" y="44"/>
                          </a:lnTo>
                          <a:lnTo>
                            <a:pt x="44" y="52"/>
                          </a:lnTo>
                          <a:lnTo>
                            <a:pt x="70" y="57"/>
                          </a:lnTo>
                          <a:lnTo>
                            <a:pt x="95" y="61"/>
                          </a:lnTo>
                          <a:lnTo>
                            <a:pt x="121" y="66"/>
                          </a:lnTo>
                          <a:lnTo>
                            <a:pt x="127" y="72"/>
                          </a:lnTo>
                          <a:lnTo>
                            <a:pt x="135" y="83"/>
                          </a:lnTo>
                          <a:lnTo>
                            <a:pt x="151" y="91"/>
                          </a:lnTo>
                          <a:lnTo>
                            <a:pt x="169" y="101"/>
                          </a:lnTo>
                          <a:lnTo>
                            <a:pt x="201" y="111"/>
                          </a:lnTo>
                          <a:lnTo>
                            <a:pt x="225" y="118"/>
                          </a:lnTo>
                          <a:lnTo>
                            <a:pt x="243" y="122"/>
                          </a:lnTo>
                          <a:lnTo>
                            <a:pt x="274" y="127"/>
                          </a:lnTo>
                          <a:lnTo>
                            <a:pt x="306" y="130"/>
                          </a:lnTo>
                          <a:lnTo>
                            <a:pt x="320" y="132"/>
                          </a:lnTo>
                          <a:lnTo>
                            <a:pt x="328" y="135"/>
                          </a:lnTo>
                          <a:lnTo>
                            <a:pt x="332" y="139"/>
                          </a:lnTo>
                          <a:lnTo>
                            <a:pt x="326" y="153"/>
                          </a:lnTo>
                          <a:lnTo>
                            <a:pt x="318" y="164"/>
                          </a:lnTo>
                        </a:path>
                      </a:pathLst>
                    </a:custGeom>
                    <a:ln w="12600">
                      <a:solidFill>
                        <a:srgbClr val="ff8080"/>
                      </a:solidFill>
                      <a:round/>
                    </a:ln>
                  </p:spPr>
                  <p:txBody>
                    <a:bodyPr lIns="96120" rIns="9612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>
                      <a:off x="4105440" y="180504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72" h="72">
                          <a:moveTo>
                            <a:pt x="45" y="0"/>
                          </a:moveTo>
                          <a:lnTo>
                            <a:pt x="63" y="21"/>
                          </a:lnTo>
                          <a:lnTo>
                            <a:pt x="72" y="37"/>
                          </a:lnTo>
                          <a:lnTo>
                            <a:pt x="53" y="56"/>
                          </a:lnTo>
                          <a:lnTo>
                            <a:pt x="0" y="72"/>
                          </a:lnTo>
                        </a:path>
                      </a:pathLst>
                    </a:custGeom>
                    <a:ln w="12600">
                      <a:solidFill>
                        <a:srgbClr val="ff808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6" name=""/>
                  <p:cNvSpPr/>
                  <p:nvPr/>
                </p:nvSpPr>
                <p:spPr>
                  <a:xfrm>
                    <a:off x="4164120" y="1814400"/>
                    <a:ext cx="113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14" h="85">
                        <a:moveTo>
                          <a:pt x="0" y="0"/>
                        </a:moveTo>
                        <a:lnTo>
                          <a:pt x="6" y="11"/>
                        </a:lnTo>
                        <a:lnTo>
                          <a:pt x="16" y="27"/>
                        </a:lnTo>
                        <a:lnTo>
                          <a:pt x="26" y="37"/>
                        </a:lnTo>
                        <a:lnTo>
                          <a:pt x="40" y="43"/>
                        </a:lnTo>
                        <a:lnTo>
                          <a:pt x="68" y="50"/>
                        </a:lnTo>
                        <a:lnTo>
                          <a:pt x="92" y="54"/>
                        </a:lnTo>
                        <a:lnTo>
                          <a:pt x="120" y="58"/>
                        </a:lnTo>
                        <a:lnTo>
                          <a:pt x="161" y="66"/>
                        </a:lnTo>
                        <a:lnTo>
                          <a:pt x="197" y="74"/>
                        </a:lnTo>
                        <a:lnTo>
                          <a:pt x="223" y="81"/>
                        </a:lnTo>
                        <a:lnTo>
                          <a:pt x="247" y="84"/>
                        </a:lnTo>
                        <a:lnTo>
                          <a:pt x="273" y="85"/>
                        </a:lnTo>
                        <a:lnTo>
                          <a:pt x="312" y="85"/>
                        </a:lnTo>
                        <a:lnTo>
                          <a:pt x="314" y="85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4173480" y="1787400"/>
                    <a:ext cx="766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13" h="72">
                        <a:moveTo>
                          <a:pt x="0" y="72"/>
                        </a:moveTo>
                        <a:lnTo>
                          <a:pt x="27" y="49"/>
                        </a:lnTo>
                        <a:lnTo>
                          <a:pt x="51" y="32"/>
                        </a:lnTo>
                        <a:lnTo>
                          <a:pt x="88" y="12"/>
                        </a:lnTo>
                        <a:lnTo>
                          <a:pt x="117" y="4"/>
                        </a:lnTo>
                        <a:lnTo>
                          <a:pt x="151" y="0"/>
                        </a:lnTo>
                        <a:lnTo>
                          <a:pt x="182" y="2"/>
                        </a:lnTo>
                        <a:lnTo>
                          <a:pt x="213" y="12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4141800" y="1771560"/>
                    <a:ext cx="25920" cy="385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2" h="107">
                        <a:moveTo>
                          <a:pt x="27" y="0"/>
                        </a:moveTo>
                        <a:lnTo>
                          <a:pt x="45" y="9"/>
                        </a:lnTo>
                        <a:lnTo>
                          <a:pt x="59" y="17"/>
                        </a:lnTo>
                        <a:lnTo>
                          <a:pt x="68" y="28"/>
                        </a:lnTo>
                        <a:lnTo>
                          <a:pt x="72" y="41"/>
                        </a:lnTo>
                        <a:lnTo>
                          <a:pt x="68" y="56"/>
                        </a:lnTo>
                        <a:lnTo>
                          <a:pt x="61" y="70"/>
                        </a:lnTo>
                        <a:lnTo>
                          <a:pt x="51" y="82"/>
                        </a:lnTo>
                        <a:lnTo>
                          <a:pt x="38" y="90"/>
                        </a:lnTo>
                        <a:lnTo>
                          <a:pt x="15" y="101"/>
                        </a:lnTo>
                        <a:lnTo>
                          <a:pt x="0" y="107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4173480" y="1758960"/>
                    <a:ext cx="590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64" h="72">
                        <a:moveTo>
                          <a:pt x="0" y="72"/>
                        </a:moveTo>
                        <a:lnTo>
                          <a:pt x="38" y="55"/>
                        </a:lnTo>
                        <a:lnTo>
                          <a:pt x="73" y="37"/>
                        </a:lnTo>
                        <a:lnTo>
                          <a:pt x="113" y="21"/>
                        </a:lnTo>
                        <a:lnTo>
                          <a:pt x="164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4346640" y="1746360"/>
                    <a:ext cx="320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89" h="72">
                        <a:moveTo>
                          <a:pt x="0" y="72"/>
                        </a:moveTo>
                        <a:lnTo>
                          <a:pt x="32" y="40"/>
                        </a:lnTo>
                        <a:lnTo>
                          <a:pt x="89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4259160" y="1751040"/>
                    <a:ext cx="2336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649" h="72">
                        <a:moveTo>
                          <a:pt x="0" y="72"/>
                        </a:moveTo>
                        <a:lnTo>
                          <a:pt x="24" y="70"/>
                        </a:lnTo>
                        <a:lnTo>
                          <a:pt x="42" y="66"/>
                        </a:lnTo>
                        <a:lnTo>
                          <a:pt x="58" y="62"/>
                        </a:lnTo>
                        <a:lnTo>
                          <a:pt x="70" y="55"/>
                        </a:lnTo>
                        <a:lnTo>
                          <a:pt x="76" y="46"/>
                        </a:lnTo>
                        <a:lnTo>
                          <a:pt x="80" y="37"/>
                        </a:lnTo>
                        <a:lnTo>
                          <a:pt x="88" y="47"/>
                        </a:lnTo>
                        <a:lnTo>
                          <a:pt x="98" y="53"/>
                        </a:lnTo>
                        <a:lnTo>
                          <a:pt x="116" y="58"/>
                        </a:lnTo>
                        <a:lnTo>
                          <a:pt x="138" y="60"/>
                        </a:lnTo>
                        <a:lnTo>
                          <a:pt x="164" y="61"/>
                        </a:lnTo>
                        <a:lnTo>
                          <a:pt x="206" y="60"/>
                        </a:lnTo>
                        <a:lnTo>
                          <a:pt x="248" y="58"/>
                        </a:lnTo>
                        <a:lnTo>
                          <a:pt x="286" y="55"/>
                        </a:lnTo>
                        <a:lnTo>
                          <a:pt x="316" y="52"/>
                        </a:lnTo>
                        <a:lnTo>
                          <a:pt x="351" y="45"/>
                        </a:lnTo>
                        <a:lnTo>
                          <a:pt x="377" y="39"/>
                        </a:lnTo>
                        <a:lnTo>
                          <a:pt x="401" y="32"/>
                        </a:lnTo>
                        <a:lnTo>
                          <a:pt x="417" y="21"/>
                        </a:lnTo>
                        <a:lnTo>
                          <a:pt x="427" y="29"/>
                        </a:lnTo>
                        <a:lnTo>
                          <a:pt x="441" y="35"/>
                        </a:lnTo>
                        <a:lnTo>
                          <a:pt x="457" y="41"/>
                        </a:lnTo>
                        <a:lnTo>
                          <a:pt x="483" y="44"/>
                        </a:lnTo>
                        <a:lnTo>
                          <a:pt x="515" y="45"/>
                        </a:lnTo>
                        <a:lnTo>
                          <a:pt x="541" y="44"/>
                        </a:lnTo>
                        <a:lnTo>
                          <a:pt x="559" y="42"/>
                        </a:lnTo>
                        <a:lnTo>
                          <a:pt x="587" y="39"/>
                        </a:lnTo>
                        <a:lnTo>
                          <a:pt x="605" y="35"/>
                        </a:lnTo>
                        <a:lnTo>
                          <a:pt x="621" y="31"/>
                        </a:lnTo>
                        <a:lnTo>
                          <a:pt x="631" y="23"/>
                        </a:lnTo>
                        <a:lnTo>
                          <a:pt x="639" y="13"/>
                        </a:lnTo>
                        <a:lnTo>
                          <a:pt x="649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4233960" y="1785960"/>
                    <a:ext cx="2624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29" h="72">
                        <a:moveTo>
                          <a:pt x="0" y="46"/>
                        </a:moveTo>
                        <a:lnTo>
                          <a:pt x="25" y="36"/>
                        </a:lnTo>
                        <a:lnTo>
                          <a:pt x="55" y="26"/>
                        </a:lnTo>
                        <a:lnTo>
                          <a:pt x="81" y="17"/>
                        </a:lnTo>
                        <a:lnTo>
                          <a:pt x="109" y="11"/>
                        </a:lnTo>
                        <a:lnTo>
                          <a:pt x="139" y="4"/>
                        </a:lnTo>
                        <a:lnTo>
                          <a:pt x="157" y="2"/>
                        </a:lnTo>
                        <a:lnTo>
                          <a:pt x="188" y="0"/>
                        </a:lnTo>
                        <a:lnTo>
                          <a:pt x="248" y="0"/>
                        </a:lnTo>
                        <a:lnTo>
                          <a:pt x="312" y="0"/>
                        </a:lnTo>
                        <a:lnTo>
                          <a:pt x="370" y="2"/>
                        </a:lnTo>
                        <a:lnTo>
                          <a:pt x="432" y="4"/>
                        </a:lnTo>
                        <a:lnTo>
                          <a:pt x="478" y="8"/>
                        </a:lnTo>
                        <a:lnTo>
                          <a:pt x="522" y="13"/>
                        </a:lnTo>
                        <a:lnTo>
                          <a:pt x="561" y="21"/>
                        </a:lnTo>
                        <a:lnTo>
                          <a:pt x="603" y="30"/>
                        </a:lnTo>
                        <a:lnTo>
                          <a:pt x="645" y="39"/>
                        </a:lnTo>
                        <a:lnTo>
                          <a:pt x="675" y="49"/>
                        </a:lnTo>
                        <a:lnTo>
                          <a:pt x="705" y="61"/>
                        </a:lnTo>
                        <a:lnTo>
                          <a:pt x="729" y="72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4425840" y="1778040"/>
                    <a:ext cx="543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51" h="72">
                        <a:moveTo>
                          <a:pt x="0" y="63"/>
                        </a:moveTo>
                        <a:lnTo>
                          <a:pt x="27" y="69"/>
                        </a:lnTo>
                        <a:lnTo>
                          <a:pt x="56" y="72"/>
                        </a:lnTo>
                        <a:lnTo>
                          <a:pt x="80" y="67"/>
                        </a:lnTo>
                        <a:lnTo>
                          <a:pt x="104" y="57"/>
                        </a:lnTo>
                        <a:lnTo>
                          <a:pt x="127" y="40"/>
                        </a:lnTo>
                        <a:lnTo>
                          <a:pt x="139" y="21"/>
                        </a:lnTo>
                        <a:lnTo>
                          <a:pt x="151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4508640" y="1757520"/>
                    <a:ext cx="4788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33" h="120">
                        <a:moveTo>
                          <a:pt x="116" y="0"/>
                        </a:moveTo>
                        <a:lnTo>
                          <a:pt x="104" y="9"/>
                        </a:lnTo>
                        <a:lnTo>
                          <a:pt x="87" y="20"/>
                        </a:lnTo>
                        <a:lnTo>
                          <a:pt x="69" y="25"/>
                        </a:lnTo>
                        <a:lnTo>
                          <a:pt x="55" y="28"/>
                        </a:lnTo>
                        <a:lnTo>
                          <a:pt x="37" y="29"/>
                        </a:lnTo>
                        <a:lnTo>
                          <a:pt x="16" y="28"/>
                        </a:lnTo>
                        <a:lnTo>
                          <a:pt x="0" y="25"/>
                        </a:lnTo>
                        <a:lnTo>
                          <a:pt x="24" y="32"/>
                        </a:lnTo>
                        <a:lnTo>
                          <a:pt x="41" y="37"/>
                        </a:lnTo>
                        <a:lnTo>
                          <a:pt x="49" y="42"/>
                        </a:lnTo>
                        <a:lnTo>
                          <a:pt x="53" y="46"/>
                        </a:lnTo>
                        <a:lnTo>
                          <a:pt x="51" y="52"/>
                        </a:lnTo>
                        <a:lnTo>
                          <a:pt x="49" y="59"/>
                        </a:lnTo>
                        <a:lnTo>
                          <a:pt x="45" y="71"/>
                        </a:lnTo>
                        <a:lnTo>
                          <a:pt x="49" y="81"/>
                        </a:lnTo>
                        <a:lnTo>
                          <a:pt x="57" y="92"/>
                        </a:lnTo>
                        <a:lnTo>
                          <a:pt x="69" y="99"/>
                        </a:lnTo>
                        <a:lnTo>
                          <a:pt x="81" y="105"/>
                        </a:lnTo>
                        <a:lnTo>
                          <a:pt x="104" y="111"/>
                        </a:lnTo>
                        <a:lnTo>
                          <a:pt x="133" y="12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4564080" y="1768320"/>
                    <a:ext cx="147960" cy="385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411" h="107">
                        <a:moveTo>
                          <a:pt x="90" y="0"/>
                        </a:moveTo>
                        <a:lnTo>
                          <a:pt x="82" y="7"/>
                        </a:lnTo>
                        <a:lnTo>
                          <a:pt x="70" y="15"/>
                        </a:lnTo>
                        <a:lnTo>
                          <a:pt x="54" y="21"/>
                        </a:lnTo>
                        <a:lnTo>
                          <a:pt x="30" y="29"/>
                        </a:lnTo>
                        <a:lnTo>
                          <a:pt x="0" y="37"/>
                        </a:lnTo>
                        <a:lnTo>
                          <a:pt x="24" y="39"/>
                        </a:lnTo>
                        <a:lnTo>
                          <a:pt x="50" y="40"/>
                        </a:lnTo>
                        <a:lnTo>
                          <a:pt x="72" y="42"/>
                        </a:lnTo>
                        <a:lnTo>
                          <a:pt x="88" y="45"/>
                        </a:lnTo>
                        <a:lnTo>
                          <a:pt x="100" y="48"/>
                        </a:lnTo>
                        <a:lnTo>
                          <a:pt x="112" y="55"/>
                        </a:lnTo>
                        <a:lnTo>
                          <a:pt x="120" y="60"/>
                        </a:lnTo>
                        <a:lnTo>
                          <a:pt x="126" y="68"/>
                        </a:lnTo>
                        <a:lnTo>
                          <a:pt x="130" y="79"/>
                        </a:lnTo>
                        <a:lnTo>
                          <a:pt x="126" y="100"/>
                        </a:lnTo>
                        <a:lnTo>
                          <a:pt x="142" y="95"/>
                        </a:lnTo>
                        <a:lnTo>
                          <a:pt x="160" y="89"/>
                        </a:lnTo>
                        <a:lnTo>
                          <a:pt x="178" y="84"/>
                        </a:lnTo>
                        <a:lnTo>
                          <a:pt x="202" y="79"/>
                        </a:lnTo>
                        <a:lnTo>
                          <a:pt x="225" y="77"/>
                        </a:lnTo>
                        <a:lnTo>
                          <a:pt x="251" y="77"/>
                        </a:lnTo>
                        <a:lnTo>
                          <a:pt x="281" y="78"/>
                        </a:lnTo>
                        <a:lnTo>
                          <a:pt x="309" y="82"/>
                        </a:lnTo>
                        <a:lnTo>
                          <a:pt x="329" y="84"/>
                        </a:lnTo>
                        <a:lnTo>
                          <a:pt x="353" y="89"/>
                        </a:lnTo>
                        <a:lnTo>
                          <a:pt x="371" y="94"/>
                        </a:lnTo>
                        <a:lnTo>
                          <a:pt x="411" y="107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4559400" y="1797120"/>
                    <a:ext cx="558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55" h="72">
                        <a:moveTo>
                          <a:pt x="22" y="0"/>
                        </a:moveTo>
                        <a:lnTo>
                          <a:pt x="12" y="9"/>
                        </a:lnTo>
                        <a:lnTo>
                          <a:pt x="2" y="17"/>
                        </a:lnTo>
                        <a:lnTo>
                          <a:pt x="0" y="26"/>
                        </a:lnTo>
                        <a:lnTo>
                          <a:pt x="4" y="35"/>
                        </a:lnTo>
                        <a:lnTo>
                          <a:pt x="16" y="46"/>
                        </a:lnTo>
                        <a:lnTo>
                          <a:pt x="30" y="61"/>
                        </a:lnTo>
                        <a:lnTo>
                          <a:pt x="40" y="66"/>
                        </a:lnTo>
                        <a:lnTo>
                          <a:pt x="50" y="70"/>
                        </a:lnTo>
                        <a:lnTo>
                          <a:pt x="62" y="71"/>
                        </a:lnTo>
                        <a:lnTo>
                          <a:pt x="103" y="72"/>
                        </a:lnTo>
                        <a:lnTo>
                          <a:pt x="155" y="71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4619520" y="1816200"/>
                    <a:ext cx="846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35" h="72">
                        <a:moveTo>
                          <a:pt x="0" y="52"/>
                        </a:moveTo>
                        <a:lnTo>
                          <a:pt x="28" y="62"/>
                        </a:lnTo>
                        <a:lnTo>
                          <a:pt x="52" y="67"/>
                        </a:lnTo>
                        <a:lnTo>
                          <a:pt x="81" y="72"/>
                        </a:lnTo>
                        <a:lnTo>
                          <a:pt x="115" y="72"/>
                        </a:lnTo>
                        <a:lnTo>
                          <a:pt x="144" y="66"/>
                        </a:lnTo>
                        <a:lnTo>
                          <a:pt x="172" y="56"/>
                        </a:lnTo>
                        <a:lnTo>
                          <a:pt x="197" y="39"/>
                        </a:lnTo>
                        <a:lnTo>
                          <a:pt x="219" y="17"/>
                        </a:lnTo>
                        <a:lnTo>
                          <a:pt x="235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4600440" y="1835280"/>
                    <a:ext cx="11772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27" h="89">
                        <a:moveTo>
                          <a:pt x="327" y="0"/>
                        </a:moveTo>
                        <a:lnTo>
                          <a:pt x="317" y="8"/>
                        </a:lnTo>
                        <a:lnTo>
                          <a:pt x="301" y="16"/>
                        </a:lnTo>
                        <a:lnTo>
                          <a:pt x="274" y="23"/>
                        </a:lnTo>
                        <a:lnTo>
                          <a:pt x="260" y="25"/>
                        </a:lnTo>
                        <a:lnTo>
                          <a:pt x="236" y="27"/>
                        </a:lnTo>
                        <a:lnTo>
                          <a:pt x="202" y="25"/>
                        </a:lnTo>
                        <a:lnTo>
                          <a:pt x="166" y="23"/>
                        </a:lnTo>
                        <a:lnTo>
                          <a:pt x="120" y="20"/>
                        </a:lnTo>
                        <a:lnTo>
                          <a:pt x="84" y="17"/>
                        </a:lnTo>
                        <a:lnTo>
                          <a:pt x="54" y="15"/>
                        </a:lnTo>
                        <a:lnTo>
                          <a:pt x="18" y="16"/>
                        </a:lnTo>
                        <a:lnTo>
                          <a:pt x="0" y="17"/>
                        </a:lnTo>
                        <a:lnTo>
                          <a:pt x="22" y="19"/>
                        </a:lnTo>
                        <a:lnTo>
                          <a:pt x="40" y="24"/>
                        </a:lnTo>
                        <a:lnTo>
                          <a:pt x="56" y="28"/>
                        </a:lnTo>
                        <a:lnTo>
                          <a:pt x="78" y="35"/>
                        </a:lnTo>
                        <a:lnTo>
                          <a:pt x="96" y="43"/>
                        </a:lnTo>
                        <a:lnTo>
                          <a:pt x="118" y="54"/>
                        </a:lnTo>
                        <a:lnTo>
                          <a:pt x="136" y="63"/>
                        </a:lnTo>
                        <a:lnTo>
                          <a:pt x="155" y="76"/>
                        </a:lnTo>
                        <a:lnTo>
                          <a:pt x="172" y="89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4525920" y="1808280"/>
                    <a:ext cx="82800" cy="558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30" h="155">
                        <a:moveTo>
                          <a:pt x="58" y="0"/>
                        </a:moveTo>
                        <a:lnTo>
                          <a:pt x="40" y="2"/>
                        </a:lnTo>
                        <a:lnTo>
                          <a:pt x="18" y="8"/>
                        </a:lnTo>
                        <a:lnTo>
                          <a:pt x="6" y="13"/>
                        </a:lnTo>
                        <a:lnTo>
                          <a:pt x="2" y="18"/>
                        </a:lnTo>
                        <a:lnTo>
                          <a:pt x="0" y="23"/>
                        </a:lnTo>
                        <a:lnTo>
                          <a:pt x="4" y="31"/>
                        </a:lnTo>
                        <a:lnTo>
                          <a:pt x="12" y="40"/>
                        </a:lnTo>
                        <a:lnTo>
                          <a:pt x="24" y="52"/>
                        </a:lnTo>
                        <a:lnTo>
                          <a:pt x="38" y="62"/>
                        </a:lnTo>
                        <a:lnTo>
                          <a:pt x="56" y="72"/>
                        </a:lnTo>
                        <a:lnTo>
                          <a:pt x="75" y="81"/>
                        </a:lnTo>
                        <a:lnTo>
                          <a:pt x="99" y="90"/>
                        </a:lnTo>
                        <a:lnTo>
                          <a:pt x="122" y="95"/>
                        </a:lnTo>
                        <a:lnTo>
                          <a:pt x="151" y="102"/>
                        </a:lnTo>
                        <a:lnTo>
                          <a:pt x="165" y="116"/>
                        </a:lnTo>
                        <a:lnTo>
                          <a:pt x="181" y="127"/>
                        </a:lnTo>
                        <a:lnTo>
                          <a:pt x="207" y="143"/>
                        </a:lnTo>
                        <a:lnTo>
                          <a:pt x="230" y="155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10" name=""/>
              <p:cNvSpPr/>
              <p:nvPr/>
            </p:nvSpPr>
            <p:spPr>
              <a:xfrm>
                <a:off x="4321080" y="1857240"/>
                <a:ext cx="260640" cy="25920"/>
              </a:xfrm>
              <a:custGeom>
                <a:avLst/>
                <a:gdLst/>
                <a:ahLst/>
                <a:rect l="0" t="0" r="r" b="b"/>
                <a:pathLst>
                  <a:path fill="none" w="724" h="72">
                    <a:moveTo>
                      <a:pt x="0" y="46"/>
                    </a:moveTo>
                    <a:lnTo>
                      <a:pt x="25" y="36"/>
                    </a:lnTo>
                    <a:lnTo>
                      <a:pt x="55" y="26"/>
                    </a:lnTo>
                    <a:lnTo>
                      <a:pt x="81" y="17"/>
                    </a:lnTo>
                    <a:lnTo>
                      <a:pt x="109" y="11"/>
                    </a:lnTo>
                    <a:lnTo>
                      <a:pt x="139" y="4"/>
                    </a:lnTo>
                    <a:lnTo>
                      <a:pt x="156" y="2"/>
                    </a:lnTo>
                    <a:lnTo>
                      <a:pt x="186" y="0"/>
                    </a:lnTo>
                    <a:lnTo>
                      <a:pt x="246" y="0"/>
                    </a:lnTo>
                    <a:lnTo>
                      <a:pt x="309" y="0"/>
                    </a:lnTo>
                    <a:lnTo>
                      <a:pt x="368" y="2"/>
                    </a:lnTo>
                    <a:lnTo>
                      <a:pt x="430" y="4"/>
                    </a:lnTo>
                    <a:lnTo>
                      <a:pt x="475" y="8"/>
                    </a:lnTo>
                    <a:lnTo>
                      <a:pt x="519" y="13"/>
                    </a:lnTo>
                    <a:lnTo>
                      <a:pt x="557" y="21"/>
                    </a:lnTo>
                    <a:lnTo>
                      <a:pt x="599" y="30"/>
                    </a:lnTo>
                    <a:lnTo>
                      <a:pt x="640" y="39"/>
                    </a:lnTo>
                    <a:lnTo>
                      <a:pt x="670" y="49"/>
                    </a:lnTo>
                    <a:lnTo>
                      <a:pt x="700" y="61"/>
                    </a:lnTo>
                    <a:lnTo>
                      <a:pt x="724" y="72"/>
                    </a:lnTo>
                  </a:path>
                </a:pathLst>
              </a:custGeom>
              <a:ln w="12600">
                <a:solidFill>
                  <a:srgbClr val="ff808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354560" y="1805040"/>
                <a:ext cx="78120" cy="25920"/>
              </a:xfrm>
              <a:custGeom>
                <a:avLst/>
                <a:gdLst/>
                <a:ahLst/>
                <a:rect l="0" t="0" r="r" b="b"/>
                <a:pathLst>
                  <a:path fill="none" w="217" h="72">
                    <a:moveTo>
                      <a:pt x="0" y="72"/>
                    </a:moveTo>
                    <a:lnTo>
                      <a:pt x="28" y="49"/>
                    </a:lnTo>
                    <a:lnTo>
                      <a:pt x="52" y="32"/>
                    </a:lnTo>
                    <a:lnTo>
                      <a:pt x="88" y="12"/>
                    </a:lnTo>
                    <a:lnTo>
                      <a:pt x="120" y="4"/>
                    </a:lnTo>
                    <a:lnTo>
                      <a:pt x="154" y="0"/>
                    </a:lnTo>
                    <a:lnTo>
                      <a:pt x="184" y="2"/>
                    </a:lnTo>
                    <a:lnTo>
                      <a:pt x="217" y="12"/>
                    </a:lnTo>
                  </a:path>
                </a:pathLst>
              </a:custGeom>
              <a:ln w="12600">
                <a:solidFill>
                  <a:srgbClr val="ff808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251240" y="180504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fill="none" w="94" h="72">
                    <a:moveTo>
                      <a:pt x="36" y="0"/>
                    </a:moveTo>
                    <a:lnTo>
                      <a:pt x="60" y="6"/>
                    </a:lnTo>
                    <a:lnTo>
                      <a:pt x="76" y="11"/>
                    </a:lnTo>
                    <a:lnTo>
                      <a:pt x="90" y="19"/>
                    </a:lnTo>
                    <a:lnTo>
                      <a:pt x="94" y="27"/>
                    </a:lnTo>
                    <a:lnTo>
                      <a:pt x="90" y="37"/>
                    </a:lnTo>
                    <a:lnTo>
                      <a:pt x="80" y="46"/>
                    </a:lnTo>
                    <a:lnTo>
                      <a:pt x="67" y="55"/>
                    </a:lnTo>
                    <a:lnTo>
                      <a:pt x="50" y="61"/>
                    </a:lnTo>
                    <a:lnTo>
                      <a:pt x="21" y="67"/>
                    </a:lnTo>
                    <a:lnTo>
                      <a:pt x="0" y="72"/>
                    </a:lnTo>
                  </a:path>
                </a:pathLst>
              </a:custGeom>
              <a:ln w="12600">
                <a:solidFill>
                  <a:srgbClr val="ff808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300560" y="1827360"/>
                <a:ext cx="233640" cy="25920"/>
              </a:xfrm>
              <a:custGeom>
                <a:avLst/>
                <a:gdLst/>
                <a:ahLst/>
                <a:rect l="0" t="0" r="r" b="b"/>
                <a:pathLst>
                  <a:path fill="none" w="649" h="72">
                    <a:moveTo>
                      <a:pt x="0" y="0"/>
                    </a:moveTo>
                    <a:lnTo>
                      <a:pt x="24" y="2"/>
                    </a:lnTo>
                    <a:lnTo>
                      <a:pt x="42" y="5"/>
                    </a:lnTo>
                    <a:lnTo>
                      <a:pt x="58" y="10"/>
                    </a:lnTo>
                    <a:lnTo>
                      <a:pt x="70" y="16"/>
                    </a:lnTo>
                    <a:lnTo>
                      <a:pt x="76" y="26"/>
                    </a:lnTo>
                    <a:lnTo>
                      <a:pt x="80" y="35"/>
                    </a:lnTo>
                    <a:lnTo>
                      <a:pt x="88" y="25"/>
                    </a:lnTo>
                    <a:lnTo>
                      <a:pt x="98" y="19"/>
                    </a:lnTo>
                    <a:lnTo>
                      <a:pt x="116" y="14"/>
                    </a:lnTo>
                    <a:lnTo>
                      <a:pt x="138" y="11"/>
                    </a:lnTo>
                    <a:lnTo>
                      <a:pt x="164" y="10"/>
                    </a:lnTo>
                    <a:lnTo>
                      <a:pt x="206" y="11"/>
                    </a:lnTo>
                    <a:lnTo>
                      <a:pt x="248" y="14"/>
                    </a:lnTo>
                    <a:lnTo>
                      <a:pt x="286" y="16"/>
                    </a:lnTo>
                    <a:lnTo>
                      <a:pt x="316" y="20"/>
                    </a:lnTo>
                    <a:lnTo>
                      <a:pt x="351" y="27"/>
                    </a:lnTo>
                    <a:lnTo>
                      <a:pt x="377" y="32"/>
                    </a:lnTo>
                    <a:lnTo>
                      <a:pt x="401" y="40"/>
                    </a:lnTo>
                    <a:lnTo>
                      <a:pt x="417" y="50"/>
                    </a:lnTo>
                    <a:lnTo>
                      <a:pt x="427" y="42"/>
                    </a:lnTo>
                    <a:lnTo>
                      <a:pt x="441" y="37"/>
                    </a:lnTo>
                    <a:lnTo>
                      <a:pt x="457" y="31"/>
                    </a:lnTo>
                    <a:lnTo>
                      <a:pt x="483" y="27"/>
                    </a:lnTo>
                    <a:lnTo>
                      <a:pt x="515" y="27"/>
                    </a:lnTo>
                    <a:lnTo>
                      <a:pt x="541" y="27"/>
                    </a:lnTo>
                    <a:lnTo>
                      <a:pt x="559" y="30"/>
                    </a:lnTo>
                    <a:lnTo>
                      <a:pt x="587" y="32"/>
                    </a:lnTo>
                    <a:lnTo>
                      <a:pt x="605" y="37"/>
                    </a:lnTo>
                    <a:lnTo>
                      <a:pt x="621" y="41"/>
                    </a:lnTo>
                    <a:lnTo>
                      <a:pt x="631" y="48"/>
                    </a:lnTo>
                    <a:lnTo>
                      <a:pt x="639" y="59"/>
                    </a:lnTo>
                    <a:lnTo>
                      <a:pt x="649" y="72"/>
                    </a:lnTo>
                  </a:path>
                </a:pathLst>
              </a:custGeom>
              <a:ln w="12600">
                <a:solidFill>
                  <a:srgbClr val="ff808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3929040" y="1833480"/>
              <a:ext cx="829080" cy="190800"/>
            </a:xfrm>
            <a:custGeom>
              <a:avLst/>
              <a:gdLst/>
              <a:ahLst/>
              <a:rect l="0" t="0" r="r" b="b"/>
              <a:pathLst>
                <a:path w="2303" h="530">
                  <a:moveTo>
                    <a:pt x="13" y="0"/>
                  </a:moveTo>
                  <a:lnTo>
                    <a:pt x="145" y="0"/>
                  </a:lnTo>
                  <a:lnTo>
                    <a:pt x="304" y="0"/>
                  </a:lnTo>
                  <a:lnTo>
                    <a:pt x="383" y="0"/>
                  </a:lnTo>
                  <a:lnTo>
                    <a:pt x="489" y="0"/>
                  </a:lnTo>
                  <a:lnTo>
                    <a:pt x="529" y="0"/>
                  </a:lnTo>
                  <a:lnTo>
                    <a:pt x="568" y="0"/>
                  </a:lnTo>
                  <a:lnTo>
                    <a:pt x="609" y="13"/>
                  </a:lnTo>
                  <a:lnTo>
                    <a:pt x="649" y="26"/>
                  </a:lnTo>
                  <a:lnTo>
                    <a:pt x="755" y="52"/>
                  </a:lnTo>
                  <a:lnTo>
                    <a:pt x="794" y="66"/>
                  </a:lnTo>
                  <a:lnTo>
                    <a:pt x="834" y="66"/>
                  </a:lnTo>
                  <a:lnTo>
                    <a:pt x="874" y="52"/>
                  </a:lnTo>
                  <a:lnTo>
                    <a:pt x="913" y="26"/>
                  </a:lnTo>
                  <a:lnTo>
                    <a:pt x="953" y="0"/>
                  </a:lnTo>
                  <a:lnTo>
                    <a:pt x="993" y="0"/>
                  </a:lnTo>
                  <a:lnTo>
                    <a:pt x="1046" y="13"/>
                  </a:lnTo>
                  <a:lnTo>
                    <a:pt x="1099" y="26"/>
                  </a:lnTo>
                  <a:lnTo>
                    <a:pt x="1138" y="26"/>
                  </a:lnTo>
                  <a:lnTo>
                    <a:pt x="1178" y="26"/>
                  </a:lnTo>
                  <a:lnTo>
                    <a:pt x="1218" y="13"/>
                  </a:lnTo>
                  <a:lnTo>
                    <a:pt x="1271" y="0"/>
                  </a:lnTo>
                  <a:lnTo>
                    <a:pt x="1323" y="0"/>
                  </a:lnTo>
                  <a:lnTo>
                    <a:pt x="1363" y="0"/>
                  </a:lnTo>
                  <a:lnTo>
                    <a:pt x="1403" y="26"/>
                  </a:lnTo>
                  <a:lnTo>
                    <a:pt x="1442" y="39"/>
                  </a:lnTo>
                  <a:lnTo>
                    <a:pt x="1495" y="52"/>
                  </a:lnTo>
                  <a:lnTo>
                    <a:pt x="1548" y="39"/>
                  </a:lnTo>
                  <a:lnTo>
                    <a:pt x="1601" y="39"/>
                  </a:lnTo>
                  <a:lnTo>
                    <a:pt x="1641" y="39"/>
                  </a:lnTo>
                  <a:lnTo>
                    <a:pt x="1748" y="39"/>
                  </a:lnTo>
                  <a:lnTo>
                    <a:pt x="1787" y="52"/>
                  </a:lnTo>
                  <a:lnTo>
                    <a:pt x="1827" y="66"/>
                  </a:lnTo>
                  <a:lnTo>
                    <a:pt x="1867" y="66"/>
                  </a:lnTo>
                  <a:lnTo>
                    <a:pt x="1920" y="92"/>
                  </a:lnTo>
                  <a:lnTo>
                    <a:pt x="1999" y="92"/>
                  </a:lnTo>
                  <a:lnTo>
                    <a:pt x="2039" y="92"/>
                  </a:lnTo>
                  <a:lnTo>
                    <a:pt x="2078" y="92"/>
                  </a:lnTo>
                  <a:lnTo>
                    <a:pt x="2118" y="105"/>
                  </a:lnTo>
                  <a:lnTo>
                    <a:pt x="2171" y="119"/>
                  </a:lnTo>
                  <a:lnTo>
                    <a:pt x="2211" y="132"/>
                  </a:lnTo>
                  <a:lnTo>
                    <a:pt x="2264" y="145"/>
                  </a:lnTo>
                  <a:lnTo>
                    <a:pt x="2303" y="171"/>
                  </a:lnTo>
                  <a:lnTo>
                    <a:pt x="2264" y="198"/>
                  </a:lnTo>
                  <a:lnTo>
                    <a:pt x="2171" y="198"/>
                  </a:lnTo>
                  <a:lnTo>
                    <a:pt x="2131" y="198"/>
                  </a:lnTo>
                  <a:lnTo>
                    <a:pt x="2078" y="185"/>
                  </a:lnTo>
                  <a:lnTo>
                    <a:pt x="2026" y="171"/>
                  </a:lnTo>
                  <a:lnTo>
                    <a:pt x="1986" y="171"/>
                  </a:lnTo>
                  <a:lnTo>
                    <a:pt x="1880" y="158"/>
                  </a:lnTo>
                  <a:lnTo>
                    <a:pt x="1827" y="145"/>
                  </a:lnTo>
                  <a:lnTo>
                    <a:pt x="1787" y="145"/>
                  </a:lnTo>
                  <a:lnTo>
                    <a:pt x="1735" y="145"/>
                  </a:lnTo>
                  <a:lnTo>
                    <a:pt x="1694" y="145"/>
                  </a:lnTo>
                  <a:lnTo>
                    <a:pt x="1614" y="145"/>
                  </a:lnTo>
                  <a:lnTo>
                    <a:pt x="1535" y="145"/>
                  </a:lnTo>
                  <a:lnTo>
                    <a:pt x="1482" y="145"/>
                  </a:lnTo>
                  <a:lnTo>
                    <a:pt x="1442" y="158"/>
                  </a:lnTo>
                  <a:lnTo>
                    <a:pt x="1337" y="145"/>
                  </a:lnTo>
                  <a:lnTo>
                    <a:pt x="1284" y="145"/>
                  </a:lnTo>
                  <a:lnTo>
                    <a:pt x="1244" y="119"/>
                  </a:lnTo>
                  <a:lnTo>
                    <a:pt x="1204" y="105"/>
                  </a:lnTo>
                  <a:lnTo>
                    <a:pt x="1125" y="105"/>
                  </a:lnTo>
                  <a:lnTo>
                    <a:pt x="1019" y="105"/>
                  </a:lnTo>
                  <a:lnTo>
                    <a:pt x="979" y="119"/>
                  </a:lnTo>
                  <a:lnTo>
                    <a:pt x="874" y="145"/>
                  </a:lnTo>
                  <a:lnTo>
                    <a:pt x="794" y="158"/>
                  </a:lnTo>
                  <a:lnTo>
                    <a:pt x="755" y="158"/>
                  </a:lnTo>
                  <a:lnTo>
                    <a:pt x="675" y="145"/>
                  </a:lnTo>
                  <a:lnTo>
                    <a:pt x="515" y="132"/>
                  </a:lnTo>
                  <a:lnTo>
                    <a:pt x="476" y="119"/>
                  </a:lnTo>
                  <a:lnTo>
                    <a:pt x="436" y="119"/>
                  </a:lnTo>
                  <a:lnTo>
                    <a:pt x="396" y="145"/>
                  </a:lnTo>
                  <a:lnTo>
                    <a:pt x="370" y="198"/>
                  </a:lnTo>
                  <a:lnTo>
                    <a:pt x="330" y="211"/>
                  </a:lnTo>
                  <a:lnTo>
                    <a:pt x="291" y="238"/>
                  </a:lnTo>
                  <a:lnTo>
                    <a:pt x="211" y="238"/>
                  </a:lnTo>
                  <a:lnTo>
                    <a:pt x="158" y="238"/>
                  </a:lnTo>
                  <a:lnTo>
                    <a:pt x="132" y="198"/>
                  </a:lnTo>
                  <a:lnTo>
                    <a:pt x="132" y="158"/>
                  </a:lnTo>
                  <a:lnTo>
                    <a:pt x="105" y="119"/>
                  </a:lnTo>
                  <a:lnTo>
                    <a:pt x="13" y="119"/>
                  </a:lnTo>
                  <a:lnTo>
                    <a:pt x="0" y="79"/>
                  </a:lnTo>
                  <a:lnTo>
                    <a:pt x="0" y="119"/>
                  </a:lnTo>
                  <a:lnTo>
                    <a:pt x="0" y="158"/>
                  </a:lnTo>
                  <a:lnTo>
                    <a:pt x="39" y="185"/>
                  </a:lnTo>
                  <a:lnTo>
                    <a:pt x="92" y="185"/>
                  </a:lnTo>
                  <a:lnTo>
                    <a:pt x="119" y="238"/>
                  </a:lnTo>
                  <a:lnTo>
                    <a:pt x="119" y="278"/>
                  </a:lnTo>
                  <a:lnTo>
                    <a:pt x="119" y="371"/>
                  </a:lnTo>
                  <a:lnTo>
                    <a:pt x="119" y="411"/>
                  </a:lnTo>
                  <a:lnTo>
                    <a:pt x="132" y="450"/>
                  </a:lnTo>
                  <a:lnTo>
                    <a:pt x="132" y="490"/>
                  </a:lnTo>
                  <a:lnTo>
                    <a:pt x="158" y="530"/>
                  </a:lnTo>
                  <a:lnTo>
                    <a:pt x="198" y="530"/>
                  </a:lnTo>
                  <a:lnTo>
                    <a:pt x="224" y="490"/>
                  </a:lnTo>
                  <a:lnTo>
                    <a:pt x="238" y="450"/>
                  </a:lnTo>
                  <a:lnTo>
                    <a:pt x="198" y="424"/>
                  </a:lnTo>
                  <a:lnTo>
                    <a:pt x="171" y="384"/>
                  </a:lnTo>
                  <a:lnTo>
                    <a:pt x="158" y="344"/>
                  </a:lnTo>
                  <a:lnTo>
                    <a:pt x="158" y="305"/>
                  </a:lnTo>
                  <a:lnTo>
                    <a:pt x="198" y="278"/>
                  </a:lnTo>
                  <a:lnTo>
                    <a:pt x="238" y="331"/>
                  </a:lnTo>
                  <a:lnTo>
                    <a:pt x="264" y="371"/>
                  </a:lnTo>
                  <a:lnTo>
                    <a:pt x="304" y="371"/>
                  </a:lnTo>
                  <a:lnTo>
                    <a:pt x="330" y="331"/>
                  </a:lnTo>
                  <a:lnTo>
                    <a:pt x="357" y="292"/>
                  </a:lnTo>
                  <a:lnTo>
                    <a:pt x="396" y="292"/>
                  </a:lnTo>
                  <a:lnTo>
                    <a:pt x="410" y="251"/>
                  </a:lnTo>
                  <a:lnTo>
                    <a:pt x="410" y="211"/>
                  </a:lnTo>
                  <a:lnTo>
                    <a:pt x="304" y="19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c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2523960" y="5708520"/>
            <a:ext cx="859320" cy="624240"/>
            <a:chOff x="2523960" y="5708520"/>
            <a:chExt cx="859320" cy="624240"/>
          </a:xfrm>
        </p:grpSpPr>
        <p:grpSp>
          <p:nvGrpSpPr>
            <p:cNvPr id="816" name=""/>
            <p:cNvGrpSpPr/>
            <p:nvPr/>
          </p:nvGrpSpPr>
          <p:grpSpPr>
            <a:xfrm>
              <a:off x="2523960" y="5708520"/>
              <a:ext cx="859320" cy="624240"/>
              <a:chOff x="2523960" y="5708520"/>
              <a:chExt cx="859320" cy="624240"/>
            </a:xfrm>
          </p:grpSpPr>
          <p:sp>
            <p:nvSpPr>
              <p:cNvPr id="817" name=""/>
              <p:cNvSpPr/>
              <p:nvPr/>
            </p:nvSpPr>
            <p:spPr>
              <a:xfrm>
                <a:off x="2540160" y="5934240"/>
                <a:ext cx="814680" cy="352800"/>
              </a:xfrm>
              <a:custGeom>
                <a:avLst/>
                <a:gdLst/>
                <a:ahLst/>
                <a:rect l="0" t="0" r="r" b="b"/>
                <a:pathLst>
                  <a:path w="2263" h="980">
                    <a:moveTo>
                      <a:pt x="79" y="980"/>
                    </a:moveTo>
                    <a:lnTo>
                      <a:pt x="238" y="371"/>
                    </a:lnTo>
                    <a:lnTo>
                      <a:pt x="542" y="66"/>
                    </a:lnTo>
                    <a:lnTo>
                      <a:pt x="648" y="105"/>
                    </a:lnTo>
                    <a:lnTo>
                      <a:pt x="859" y="39"/>
                    </a:lnTo>
                    <a:lnTo>
                      <a:pt x="1337" y="0"/>
                    </a:lnTo>
                    <a:lnTo>
                      <a:pt x="1786" y="26"/>
                    </a:lnTo>
                    <a:lnTo>
                      <a:pt x="2197" y="26"/>
                    </a:lnTo>
                    <a:lnTo>
                      <a:pt x="2263" y="145"/>
                    </a:lnTo>
                    <a:lnTo>
                      <a:pt x="2183" y="238"/>
                    </a:lnTo>
                    <a:lnTo>
                      <a:pt x="2223" y="265"/>
                    </a:lnTo>
                    <a:lnTo>
                      <a:pt x="2249" y="437"/>
                    </a:lnTo>
                    <a:lnTo>
                      <a:pt x="2236" y="861"/>
                    </a:lnTo>
                    <a:lnTo>
                      <a:pt x="2263" y="954"/>
                    </a:lnTo>
                    <a:lnTo>
                      <a:pt x="1681" y="901"/>
                    </a:lnTo>
                    <a:lnTo>
                      <a:pt x="846" y="914"/>
                    </a:lnTo>
                    <a:lnTo>
                      <a:pt x="330" y="941"/>
                    </a:lnTo>
                    <a:lnTo>
                      <a:pt x="92" y="928"/>
                    </a:lnTo>
                    <a:lnTo>
                      <a:pt x="0" y="875"/>
                    </a:lnTo>
                    <a:lnTo>
                      <a:pt x="79" y="9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8" name=""/>
              <p:cNvGrpSpPr/>
              <p:nvPr/>
            </p:nvGrpSpPr>
            <p:grpSpPr>
              <a:xfrm>
                <a:off x="2523960" y="5708520"/>
                <a:ext cx="859320" cy="624240"/>
                <a:chOff x="2523960" y="5708520"/>
                <a:chExt cx="859320" cy="624240"/>
              </a:xfrm>
            </p:grpSpPr>
            <p:grpSp>
              <p:nvGrpSpPr>
                <p:cNvPr id="819" name=""/>
                <p:cNvGrpSpPr/>
                <p:nvPr/>
              </p:nvGrpSpPr>
              <p:grpSpPr>
                <a:xfrm>
                  <a:off x="2730600" y="5708520"/>
                  <a:ext cx="636480" cy="263520"/>
                  <a:chOff x="2730600" y="5708520"/>
                  <a:chExt cx="636480" cy="26352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>
                    <a:off x="2730600" y="5754600"/>
                    <a:ext cx="19080" cy="217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flipV="1">
                    <a:off x="2854440" y="5729400"/>
                    <a:ext cx="6120" cy="217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 flipV="1">
                    <a:off x="3016080" y="5708520"/>
                    <a:ext cx="24120" cy="2304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 flipV="1">
                    <a:off x="3179880" y="5746680"/>
                    <a:ext cx="44280" cy="20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flipV="1">
                    <a:off x="3321000" y="5769000"/>
                    <a:ext cx="46080" cy="1810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5" name=""/>
                <p:cNvSpPr/>
                <p:nvPr/>
              </p:nvSpPr>
              <p:spPr>
                <a:xfrm>
                  <a:off x="2541600" y="5962680"/>
                  <a:ext cx="824400" cy="329040"/>
                </a:xfrm>
                <a:custGeom>
                  <a:avLst/>
                  <a:gdLst/>
                  <a:ahLst/>
                  <a:rect l="0" t="0" r="r" b="b"/>
                  <a:pathLst>
                    <a:path fill="none" w="2290" h="914">
                      <a:moveTo>
                        <a:pt x="498" y="0"/>
                      </a:moveTo>
                      <a:lnTo>
                        <a:pt x="194" y="283"/>
                      </a:lnTo>
                      <a:lnTo>
                        <a:pt x="70" y="703"/>
                      </a:lnTo>
                      <a:lnTo>
                        <a:pt x="0" y="914"/>
                      </a:lnTo>
                      <a:lnTo>
                        <a:pt x="2268" y="905"/>
                      </a:lnTo>
                      <a:lnTo>
                        <a:pt x="2290" y="92"/>
                      </a:lnTo>
                      <a:lnTo>
                        <a:pt x="2206" y="202"/>
                      </a:lnTo>
                    </a:path>
                  </a:pathLst>
                </a:custGeom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2523960" y="6249960"/>
                  <a:ext cx="859320" cy="82800"/>
                </a:xfrm>
                <a:custGeom>
                  <a:avLst/>
                  <a:gdLst/>
                  <a:ahLst/>
                  <a:rect l="0" t="0" r="r" b="b"/>
                  <a:pathLst>
                    <a:path w="2387" h="230">
                      <a:moveTo>
                        <a:pt x="66" y="114"/>
                      </a:moveTo>
                      <a:lnTo>
                        <a:pt x="119" y="114"/>
                      </a:lnTo>
                      <a:lnTo>
                        <a:pt x="154" y="88"/>
                      </a:lnTo>
                      <a:lnTo>
                        <a:pt x="194" y="83"/>
                      </a:lnTo>
                      <a:lnTo>
                        <a:pt x="233" y="83"/>
                      </a:lnTo>
                      <a:lnTo>
                        <a:pt x="242" y="39"/>
                      </a:lnTo>
                      <a:lnTo>
                        <a:pt x="282" y="39"/>
                      </a:lnTo>
                      <a:lnTo>
                        <a:pt x="339" y="48"/>
                      </a:lnTo>
                      <a:lnTo>
                        <a:pt x="374" y="61"/>
                      </a:lnTo>
                      <a:lnTo>
                        <a:pt x="418" y="57"/>
                      </a:lnTo>
                      <a:lnTo>
                        <a:pt x="454" y="39"/>
                      </a:lnTo>
                      <a:lnTo>
                        <a:pt x="498" y="39"/>
                      </a:lnTo>
                      <a:lnTo>
                        <a:pt x="533" y="35"/>
                      </a:lnTo>
                      <a:lnTo>
                        <a:pt x="577" y="48"/>
                      </a:lnTo>
                      <a:lnTo>
                        <a:pt x="613" y="48"/>
                      </a:lnTo>
                      <a:lnTo>
                        <a:pt x="658" y="44"/>
                      </a:lnTo>
                      <a:lnTo>
                        <a:pt x="693" y="44"/>
                      </a:lnTo>
                      <a:lnTo>
                        <a:pt x="733" y="30"/>
                      </a:lnTo>
                      <a:lnTo>
                        <a:pt x="777" y="26"/>
                      </a:lnTo>
                      <a:lnTo>
                        <a:pt x="816" y="61"/>
                      </a:lnTo>
                      <a:lnTo>
                        <a:pt x="856" y="74"/>
                      </a:lnTo>
                      <a:lnTo>
                        <a:pt x="896" y="74"/>
                      </a:lnTo>
                      <a:lnTo>
                        <a:pt x="949" y="39"/>
                      </a:lnTo>
                      <a:lnTo>
                        <a:pt x="1002" y="39"/>
                      </a:lnTo>
                      <a:lnTo>
                        <a:pt x="1050" y="26"/>
                      </a:lnTo>
                      <a:lnTo>
                        <a:pt x="1090" y="22"/>
                      </a:lnTo>
                      <a:lnTo>
                        <a:pt x="1196" y="30"/>
                      </a:lnTo>
                      <a:lnTo>
                        <a:pt x="1253" y="44"/>
                      </a:lnTo>
                      <a:lnTo>
                        <a:pt x="1306" y="26"/>
                      </a:lnTo>
                      <a:lnTo>
                        <a:pt x="1354" y="22"/>
                      </a:lnTo>
                      <a:lnTo>
                        <a:pt x="1438" y="17"/>
                      </a:lnTo>
                      <a:lnTo>
                        <a:pt x="1473" y="0"/>
                      </a:lnTo>
                      <a:lnTo>
                        <a:pt x="1517" y="13"/>
                      </a:lnTo>
                      <a:lnTo>
                        <a:pt x="1557" y="13"/>
                      </a:lnTo>
                      <a:lnTo>
                        <a:pt x="1597" y="8"/>
                      </a:lnTo>
                      <a:lnTo>
                        <a:pt x="1637" y="8"/>
                      </a:lnTo>
                      <a:lnTo>
                        <a:pt x="1685" y="17"/>
                      </a:lnTo>
                      <a:lnTo>
                        <a:pt x="1769" y="26"/>
                      </a:lnTo>
                      <a:lnTo>
                        <a:pt x="1845" y="22"/>
                      </a:lnTo>
                      <a:lnTo>
                        <a:pt x="1889" y="35"/>
                      </a:lnTo>
                      <a:lnTo>
                        <a:pt x="1929" y="48"/>
                      </a:lnTo>
                      <a:lnTo>
                        <a:pt x="1973" y="44"/>
                      </a:lnTo>
                      <a:lnTo>
                        <a:pt x="2008" y="44"/>
                      </a:lnTo>
                      <a:lnTo>
                        <a:pt x="2048" y="39"/>
                      </a:lnTo>
                      <a:lnTo>
                        <a:pt x="2096" y="35"/>
                      </a:lnTo>
                      <a:lnTo>
                        <a:pt x="2140" y="30"/>
                      </a:lnTo>
                      <a:lnTo>
                        <a:pt x="2180" y="44"/>
                      </a:lnTo>
                      <a:lnTo>
                        <a:pt x="2220" y="57"/>
                      </a:lnTo>
                      <a:lnTo>
                        <a:pt x="2273" y="52"/>
                      </a:lnTo>
                      <a:lnTo>
                        <a:pt x="2325" y="61"/>
                      </a:lnTo>
                      <a:lnTo>
                        <a:pt x="2370" y="88"/>
                      </a:lnTo>
                      <a:lnTo>
                        <a:pt x="2383" y="128"/>
                      </a:lnTo>
                      <a:lnTo>
                        <a:pt x="2387" y="168"/>
                      </a:lnTo>
                      <a:lnTo>
                        <a:pt x="2347" y="168"/>
                      </a:lnTo>
                      <a:lnTo>
                        <a:pt x="2308" y="172"/>
                      </a:lnTo>
                      <a:lnTo>
                        <a:pt x="2250" y="172"/>
                      </a:lnTo>
                      <a:lnTo>
                        <a:pt x="2215" y="177"/>
                      </a:lnTo>
                      <a:lnTo>
                        <a:pt x="2175" y="195"/>
                      </a:lnTo>
                      <a:lnTo>
                        <a:pt x="2136" y="195"/>
                      </a:lnTo>
                      <a:lnTo>
                        <a:pt x="2096" y="195"/>
                      </a:lnTo>
                      <a:lnTo>
                        <a:pt x="2004" y="186"/>
                      </a:lnTo>
                      <a:lnTo>
                        <a:pt x="1964" y="177"/>
                      </a:lnTo>
                      <a:lnTo>
                        <a:pt x="1924" y="177"/>
                      </a:lnTo>
                      <a:lnTo>
                        <a:pt x="1884" y="208"/>
                      </a:lnTo>
                      <a:lnTo>
                        <a:pt x="1845" y="221"/>
                      </a:lnTo>
                      <a:lnTo>
                        <a:pt x="1805" y="225"/>
                      </a:lnTo>
                      <a:lnTo>
                        <a:pt x="1764" y="225"/>
                      </a:lnTo>
                      <a:lnTo>
                        <a:pt x="1725" y="230"/>
                      </a:lnTo>
                      <a:lnTo>
                        <a:pt x="1650" y="230"/>
                      </a:lnTo>
                      <a:lnTo>
                        <a:pt x="1592" y="225"/>
                      </a:lnTo>
                      <a:lnTo>
                        <a:pt x="1553" y="225"/>
                      </a:lnTo>
                      <a:lnTo>
                        <a:pt x="1447" y="217"/>
                      </a:lnTo>
                      <a:lnTo>
                        <a:pt x="1407" y="221"/>
                      </a:lnTo>
                      <a:lnTo>
                        <a:pt x="1363" y="208"/>
                      </a:lnTo>
                      <a:lnTo>
                        <a:pt x="1275" y="199"/>
                      </a:lnTo>
                      <a:lnTo>
                        <a:pt x="1169" y="203"/>
                      </a:lnTo>
                      <a:lnTo>
                        <a:pt x="1129" y="181"/>
                      </a:lnTo>
                      <a:lnTo>
                        <a:pt x="1076" y="181"/>
                      </a:lnTo>
                      <a:lnTo>
                        <a:pt x="984" y="203"/>
                      </a:lnTo>
                      <a:lnTo>
                        <a:pt x="944" y="203"/>
                      </a:lnTo>
                      <a:lnTo>
                        <a:pt x="891" y="208"/>
                      </a:lnTo>
                      <a:lnTo>
                        <a:pt x="812" y="212"/>
                      </a:lnTo>
                      <a:lnTo>
                        <a:pt x="755" y="212"/>
                      </a:lnTo>
                      <a:lnTo>
                        <a:pt x="702" y="217"/>
                      </a:lnTo>
                      <a:lnTo>
                        <a:pt x="622" y="221"/>
                      </a:lnTo>
                      <a:lnTo>
                        <a:pt x="586" y="221"/>
                      </a:lnTo>
                      <a:lnTo>
                        <a:pt x="546" y="212"/>
                      </a:lnTo>
                      <a:lnTo>
                        <a:pt x="436" y="217"/>
                      </a:lnTo>
                      <a:lnTo>
                        <a:pt x="383" y="203"/>
                      </a:lnTo>
                      <a:lnTo>
                        <a:pt x="348" y="208"/>
                      </a:lnTo>
                      <a:lnTo>
                        <a:pt x="238" y="199"/>
                      </a:lnTo>
                      <a:lnTo>
                        <a:pt x="185" y="190"/>
                      </a:lnTo>
                      <a:lnTo>
                        <a:pt x="149" y="190"/>
                      </a:lnTo>
                      <a:lnTo>
                        <a:pt x="13" y="172"/>
                      </a:lnTo>
                      <a:lnTo>
                        <a:pt x="0" y="133"/>
                      </a:lnTo>
                      <a:lnTo>
                        <a:pt x="66" y="114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0">
                  <a:noFill/>
                </a:ln>
              </p:spPr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079800" y="6046920"/>
                  <a:ext cx="197280" cy="151200"/>
                </a:xfrm>
                <a:custGeom>
                  <a:avLst/>
                  <a:gdLst/>
                  <a:ahLst/>
                  <a:rect l="0" t="0" r="r" b="b"/>
                  <a:pathLst>
                    <a:path w="548" h="420">
                      <a:moveTo>
                        <a:pt x="429" y="208"/>
                      </a:moveTo>
                      <a:lnTo>
                        <a:pt x="336" y="217"/>
                      </a:lnTo>
                      <a:lnTo>
                        <a:pt x="296" y="230"/>
                      </a:lnTo>
                      <a:lnTo>
                        <a:pt x="190" y="239"/>
                      </a:lnTo>
                      <a:lnTo>
                        <a:pt x="168" y="287"/>
                      </a:lnTo>
                      <a:lnTo>
                        <a:pt x="159" y="332"/>
                      </a:lnTo>
                      <a:lnTo>
                        <a:pt x="132" y="372"/>
                      </a:lnTo>
                      <a:lnTo>
                        <a:pt x="92" y="403"/>
                      </a:lnTo>
                      <a:lnTo>
                        <a:pt x="177" y="412"/>
                      </a:lnTo>
                      <a:lnTo>
                        <a:pt x="256" y="420"/>
                      </a:lnTo>
                      <a:lnTo>
                        <a:pt x="292" y="416"/>
                      </a:lnTo>
                      <a:lnTo>
                        <a:pt x="305" y="337"/>
                      </a:lnTo>
                      <a:lnTo>
                        <a:pt x="274" y="296"/>
                      </a:lnTo>
                      <a:lnTo>
                        <a:pt x="358" y="278"/>
                      </a:lnTo>
                      <a:lnTo>
                        <a:pt x="406" y="305"/>
                      </a:lnTo>
                      <a:lnTo>
                        <a:pt x="447" y="328"/>
                      </a:lnTo>
                      <a:lnTo>
                        <a:pt x="478" y="385"/>
                      </a:lnTo>
                      <a:lnTo>
                        <a:pt x="522" y="407"/>
                      </a:lnTo>
                      <a:lnTo>
                        <a:pt x="548" y="363"/>
                      </a:lnTo>
                      <a:lnTo>
                        <a:pt x="544" y="283"/>
                      </a:lnTo>
                      <a:lnTo>
                        <a:pt x="535" y="234"/>
                      </a:lnTo>
                      <a:lnTo>
                        <a:pt x="535" y="181"/>
                      </a:lnTo>
                      <a:lnTo>
                        <a:pt x="504" y="124"/>
                      </a:lnTo>
                      <a:lnTo>
                        <a:pt x="465" y="101"/>
                      </a:lnTo>
                      <a:lnTo>
                        <a:pt x="425" y="101"/>
                      </a:lnTo>
                      <a:lnTo>
                        <a:pt x="371" y="79"/>
                      </a:lnTo>
                      <a:lnTo>
                        <a:pt x="344" y="39"/>
                      </a:lnTo>
                      <a:lnTo>
                        <a:pt x="300" y="30"/>
                      </a:lnTo>
                      <a:lnTo>
                        <a:pt x="208" y="8"/>
                      </a:lnTo>
                      <a:lnTo>
                        <a:pt x="127" y="0"/>
                      </a:lnTo>
                      <a:lnTo>
                        <a:pt x="88" y="4"/>
                      </a:lnTo>
                      <a:lnTo>
                        <a:pt x="48" y="4"/>
                      </a:lnTo>
                      <a:lnTo>
                        <a:pt x="8" y="17"/>
                      </a:lnTo>
                      <a:lnTo>
                        <a:pt x="0" y="115"/>
                      </a:lnTo>
                      <a:lnTo>
                        <a:pt x="17" y="168"/>
                      </a:lnTo>
                      <a:lnTo>
                        <a:pt x="70" y="190"/>
                      </a:lnTo>
                      <a:lnTo>
                        <a:pt x="110" y="190"/>
                      </a:lnTo>
                      <a:lnTo>
                        <a:pt x="164" y="172"/>
                      </a:lnTo>
                      <a:lnTo>
                        <a:pt x="203" y="172"/>
                      </a:lnTo>
                      <a:lnTo>
                        <a:pt x="239" y="155"/>
                      </a:lnTo>
                      <a:lnTo>
                        <a:pt x="349" y="177"/>
                      </a:lnTo>
                      <a:lnTo>
                        <a:pt x="429" y="208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2719440" y="6122880"/>
                  <a:ext cx="241560" cy="84600"/>
                </a:xfrm>
                <a:custGeom>
                  <a:avLst/>
                  <a:gdLst/>
                  <a:ahLst/>
                  <a:rect l="0" t="0" r="r" b="b"/>
                  <a:pathLst>
                    <a:path w="671" h="235">
                      <a:moveTo>
                        <a:pt x="583" y="52"/>
                      </a:moveTo>
                      <a:lnTo>
                        <a:pt x="508" y="75"/>
                      </a:lnTo>
                      <a:lnTo>
                        <a:pt x="349" y="111"/>
                      </a:lnTo>
                      <a:lnTo>
                        <a:pt x="273" y="124"/>
                      </a:lnTo>
                      <a:lnTo>
                        <a:pt x="233" y="142"/>
                      </a:lnTo>
                      <a:lnTo>
                        <a:pt x="194" y="146"/>
                      </a:lnTo>
                      <a:lnTo>
                        <a:pt x="154" y="159"/>
                      </a:lnTo>
                      <a:lnTo>
                        <a:pt x="101" y="159"/>
                      </a:lnTo>
                      <a:lnTo>
                        <a:pt x="57" y="164"/>
                      </a:lnTo>
                      <a:lnTo>
                        <a:pt x="22" y="128"/>
                      </a:lnTo>
                      <a:lnTo>
                        <a:pt x="0" y="75"/>
                      </a:lnTo>
                      <a:lnTo>
                        <a:pt x="52" y="30"/>
                      </a:lnTo>
                      <a:lnTo>
                        <a:pt x="92" y="26"/>
                      </a:lnTo>
                      <a:lnTo>
                        <a:pt x="132" y="39"/>
                      </a:lnTo>
                      <a:lnTo>
                        <a:pt x="163" y="89"/>
                      </a:lnTo>
                      <a:lnTo>
                        <a:pt x="202" y="89"/>
                      </a:lnTo>
                      <a:lnTo>
                        <a:pt x="238" y="57"/>
                      </a:lnTo>
                      <a:lnTo>
                        <a:pt x="277" y="30"/>
                      </a:lnTo>
                      <a:lnTo>
                        <a:pt x="317" y="0"/>
                      </a:lnTo>
                      <a:lnTo>
                        <a:pt x="349" y="39"/>
                      </a:lnTo>
                      <a:lnTo>
                        <a:pt x="402" y="67"/>
                      </a:lnTo>
                      <a:lnTo>
                        <a:pt x="437" y="48"/>
                      </a:lnTo>
                      <a:lnTo>
                        <a:pt x="477" y="35"/>
                      </a:lnTo>
                      <a:lnTo>
                        <a:pt x="521" y="22"/>
                      </a:lnTo>
                      <a:lnTo>
                        <a:pt x="583" y="52"/>
                      </a:lnTo>
                      <a:lnTo>
                        <a:pt x="644" y="93"/>
                      </a:lnTo>
                      <a:lnTo>
                        <a:pt x="671" y="128"/>
                      </a:lnTo>
                      <a:lnTo>
                        <a:pt x="671" y="172"/>
                      </a:lnTo>
                      <a:lnTo>
                        <a:pt x="636" y="200"/>
                      </a:lnTo>
                      <a:lnTo>
                        <a:pt x="583" y="226"/>
                      </a:lnTo>
                      <a:lnTo>
                        <a:pt x="543" y="231"/>
                      </a:lnTo>
                      <a:lnTo>
                        <a:pt x="503" y="235"/>
                      </a:lnTo>
                      <a:lnTo>
                        <a:pt x="486" y="182"/>
                      </a:lnTo>
                      <a:lnTo>
                        <a:pt x="538" y="150"/>
                      </a:lnTo>
                      <a:lnTo>
                        <a:pt x="578" y="111"/>
                      </a:lnTo>
                      <a:lnTo>
                        <a:pt x="534" y="84"/>
                      </a:lnTo>
                      <a:lnTo>
                        <a:pt x="583" y="52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0">
                  <a:noFill/>
                </a:ln>
              </p:spPr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"/>
            <p:cNvSpPr/>
            <p:nvPr/>
          </p:nvSpPr>
          <p:spPr>
            <a:xfrm>
              <a:off x="2549520" y="6267600"/>
              <a:ext cx="814680" cy="25920"/>
            </a:xfrm>
            <a:custGeom>
              <a:avLst/>
              <a:gdLst/>
              <a:ahLst/>
              <a:rect l="0" t="0" r="r" b="b"/>
              <a:pathLst>
                <a:path fill="none" w="2263" h="72">
                  <a:moveTo>
                    <a:pt x="0" y="72"/>
                  </a:moveTo>
                  <a:lnTo>
                    <a:pt x="343" y="72"/>
                  </a:lnTo>
                  <a:lnTo>
                    <a:pt x="1178" y="0"/>
                  </a:lnTo>
                  <a:lnTo>
                    <a:pt x="1707" y="36"/>
                  </a:lnTo>
                  <a:lnTo>
                    <a:pt x="2263" y="5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4064040" y="3467160"/>
            <a:ext cx="508320" cy="1740240"/>
            <a:chOff x="4064040" y="3467160"/>
            <a:chExt cx="508320" cy="1740240"/>
          </a:xfrm>
        </p:grpSpPr>
        <p:sp>
          <p:nvSpPr>
            <p:cNvPr id="831" name=""/>
            <p:cNvSpPr/>
            <p:nvPr/>
          </p:nvSpPr>
          <p:spPr>
            <a:xfrm>
              <a:off x="4149720" y="3814920"/>
              <a:ext cx="371880" cy="562320"/>
            </a:xfrm>
            <a:custGeom>
              <a:avLst/>
              <a:gdLst/>
              <a:ahLst/>
              <a:rect l="0" t="0" r="r" b="b"/>
              <a:pathLst>
                <a:path w="1033" h="1562">
                  <a:moveTo>
                    <a:pt x="264" y="62"/>
                  </a:moveTo>
                  <a:lnTo>
                    <a:pt x="317" y="22"/>
                  </a:lnTo>
                  <a:lnTo>
                    <a:pt x="370" y="0"/>
                  </a:lnTo>
                  <a:lnTo>
                    <a:pt x="423" y="22"/>
                  </a:lnTo>
                  <a:lnTo>
                    <a:pt x="505" y="40"/>
                  </a:lnTo>
                  <a:lnTo>
                    <a:pt x="634" y="0"/>
                  </a:lnTo>
                  <a:lnTo>
                    <a:pt x="686" y="0"/>
                  </a:lnTo>
                  <a:lnTo>
                    <a:pt x="769" y="0"/>
                  </a:lnTo>
                  <a:lnTo>
                    <a:pt x="769" y="62"/>
                  </a:lnTo>
                  <a:lnTo>
                    <a:pt x="769" y="80"/>
                  </a:lnTo>
                  <a:lnTo>
                    <a:pt x="686" y="142"/>
                  </a:lnTo>
                  <a:lnTo>
                    <a:pt x="716" y="227"/>
                  </a:lnTo>
                  <a:lnTo>
                    <a:pt x="716" y="289"/>
                  </a:lnTo>
                  <a:lnTo>
                    <a:pt x="769" y="330"/>
                  </a:lnTo>
                  <a:lnTo>
                    <a:pt x="822" y="392"/>
                  </a:lnTo>
                  <a:lnTo>
                    <a:pt x="793" y="535"/>
                  </a:lnTo>
                  <a:lnTo>
                    <a:pt x="739" y="637"/>
                  </a:lnTo>
                  <a:lnTo>
                    <a:pt x="793" y="700"/>
                  </a:lnTo>
                  <a:lnTo>
                    <a:pt x="875" y="780"/>
                  </a:lnTo>
                  <a:lnTo>
                    <a:pt x="951" y="861"/>
                  </a:lnTo>
                  <a:lnTo>
                    <a:pt x="981" y="924"/>
                  </a:lnTo>
                  <a:lnTo>
                    <a:pt x="1004" y="986"/>
                  </a:lnTo>
                  <a:lnTo>
                    <a:pt x="1033" y="1026"/>
                  </a:lnTo>
                  <a:lnTo>
                    <a:pt x="1033" y="1026"/>
                  </a:lnTo>
                  <a:lnTo>
                    <a:pt x="1004" y="1174"/>
                  </a:lnTo>
                  <a:lnTo>
                    <a:pt x="981" y="1294"/>
                  </a:lnTo>
                  <a:lnTo>
                    <a:pt x="951" y="1419"/>
                  </a:lnTo>
                  <a:lnTo>
                    <a:pt x="899" y="1562"/>
                  </a:lnTo>
                  <a:lnTo>
                    <a:pt x="899" y="1521"/>
                  </a:lnTo>
                  <a:lnTo>
                    <a:pt x="899" y="1481"/>
                  </a:lnTo>
                  <a:lnTo>
                    <a:pt x="928" y="1437"/>
                  </a:lnTo>
                  <a:lnTo>
                    <a:pt x="928" y="1419"/>
                  </a:lnTo>
                  <a:lnTo>
                    <a:pt x="899" y="1356"/>
                  </a:lnTo>
                  <a:lnTo>
                    <a:pt x="875" y="1276"/>
                  </a:lnTo>
                  <a:lnTo>
                    <a:pt x="899" y="1214"/>
                  </a:lnTo>
                  <a:lnTo>
                    <a:pt x="928" y="1191"/>
                  </a:lnTo>
                  <a:lnTo>
                    <a:pt x="928" y="1174"/>
                  </a:lnTo>
                  <a:lnTo>
                    <a:pt x="899" y="1049"/>
                  </a:lnTo>
                  <a:lnTo>
                    <a:pt x="846" y="986"/>
                  </a:lnTo>
                  <a:lnTo>
                    <a:pt x="793" y="946"/>
                  </a:lnTo>
                  <a:lnTo>
                    <a:pt x="739" y="884"/>
                  </a:lnTo>
                  <a:lnTo>
                    <a:pt x="686" y="821"/>
                  </a:lnTo>
                  <a:lnTo>
                    <a:pt x="634" y="861"/>
                  </a:lnTo>
                  <a:lnTo>
                    <a:pt x="581" y="884"/>
                  </a:lnTo>
                  <a:lnTo>
                    <a:pt x="528" y="906"/>
                  </a:lnTo>
                  <a:lnTo>
                    <a:pt x="505" y="924"/>
                  </a:lnTo>
                  <a:lnTo>
                    <a:pt x="475" y="924"/>
                  </a:lnTo>
                  <a:lnTo>
                    <a:pt x="475" y="843"/>
                  </a:lnTo>
                  <a:lnTo>
                    <a:pt x="475" y="821"/>
                  </a:lnTo>
                  <a:lnTo>
                    <a:pt x="475" y="803"/>
                  </a:lnTo>
                  <a:lnTo>
                    <a:pt x="505" y="758"/>
                  </a:lnTo>
                  <a:lnTo>
                    <a:pt x="528" y="718"/>
                  </a:lnTo>
                  <a:lnTo>
                    <a:pt x="528" y="718"/>
                  </a:lnTo>
                  <a:lnTo>
                    <a:pt x="528" y="740"/>
                  </a:lnTo>
                  <a:lnTo>
                    <a:pt x="528" y="758"/>
                  </a:lnTo>
                  <a:lnTo>
                    <a:pt x="505" y="780"/>
                  </a:lnTo>
                  <a:lnTo>
                    <a:pt x="452" y="758"/>
                  </a:lnTo>
                  <a:lnTo>
                    <a:pt x="423" y="740"/>
                  </a:lnTo>
                  <a:lnTo>
                    <a:pt x="399" y="740"/>
                  </a:lnTo>
                  <a:lnTo>
                    <a:pt x="370" y="758"/>
                  </a:lnTo>
                  <a:lnTo>
                    <a:pt x="346" y="780"/>
                  </a:lnTo>
                  <a:lnTo>
                    <a:pt x="264" y="718"/>
                  </a:lnTo>
                  <a:lnTo>
                    <a:pt x="240" y="780"/>
                  </a:lnTo>
                  <a:lnTo>
                    <a:pt x="211" y="803"/>
                  </a:lnTo>
                  <a:lnTo>
                    <a:pt x="158" y="780"/>
                  </a:lnTo>
                  <a:lnTo>
                    <a:pt x="52" y="758"/>
                  </a:lnTo>
                  <a:lnTo>
                    <a:pt x="23" y="740"/>
                  </a:lnTo>
                  <a:lnTo>
                    <a:pt x="0" y="700"/>
                  </a:lnTo>
                  <a:lnTo>
                    <a:pt x="23" y="677"/>
                  </a:lnTo>
                  <a:lnTo>
                    <a:pt x="52" y="677"/>
                  </a:lnTo>
                  <a:lnTo>
                    <a:pt x="158" y="700"/>
                  </a:lnTo>
                  <a:lnTo>
                    <a:pt x="264" y="718"/>
                  </a:lnTo>
                  <a:lnTo>
                    <a:pt x="264" y="718"/>
                  </a:lnTo>
                  <a:lnTo>
                    <a:pt x="240" y="700"/>
                  </a:lnTo>
                  <a:lnTo>
                    <a:pt x="211" y="677"/>
                  </a:lnTo>
                  <a:lnTo>
                    <a:pt x="187" y="655"/>
                  </a:lnTo>
                  <a:lnTo>
                    <a:pt x="187" y="637"/>
                  </a:lnTo>
                  <a:lnTo>
                    <a:pt x="187" y="597"/>
                  </a:lnTo>
                  <a:lnTo>
                    <a:pt x="211" y="553"/>
                  </a:lnTo>
                  <a:lnTo>
                    <a:pt x="240" y="535"/>
                  </a:lnTo>
                  <a:lnTo>
                    <a:pt x="240" y="472"/>
                  </a:lnTo>
                  <a:lnTo>
                    <a:pt x="240" y="410"/>
                  </a:lnTo>
                  <a:lnTo>
                    <a:pt x="240" y="267"/>
                  </a:lnTo>
                  <a:lnTo>
                    <a:pt x="187" y="227"/>
                  </a:lnTo>
                  <a:lnTo>
                    <a:pt x="158" y="205"/>
                  </a:lnTo>
                  <a:lnTo>
                    <a:pt x="158" y="182"/>
                  </a:lnTo>
                  <a:lnTo>
                    <a:pt x="187" y="165"/>
                  </a:lnTo>
                  <a:lnTo>
                    <a:pt x="211" y="142"/>
                  </a:lnTo>
                  <a:lnTo>
                    <a:pt x="211" y="124"/>
                  </a:lnTo>
                  <a:lnTo>
                    <a:pt x="264" y="6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332240" y="3998880"/>
              <a:ext cx="117720" cy="122760"/>
            </a:xfrm>
            <a:custGeom>
              <a:avLst/>
              <a:gdLst/>
              <a:ahLst/>
              <a:rect l="0" t="0" r="r" b="b"/>
              <a:pathLst>
                <a:path w="327" h="341">
                  <a:moveTo>
                    <a:pt x="67" y="200"/>
                  </a:moveTo>
                  <a:lnTo>
                    <a:pt x="67" y="140"/>
                  </a:lnTo>
                  <a:lnTo>
                    <a:pt x="101" y="76"/>
                  </a:lnTo>
                  <a:lnTo>
                    <a:pt x="173" y="38"/>
                  </a:lnTo>
                  <a:lnTo>
                    <a:pt x="241" y="0"/>
                  </a:lnTo>
                  <a:lnTo>
                    <a:pt x="278" y="25"/>
                  </a:lnTo>
                  <a:lnTo>
                    <a:pt x="327" y="63"/>
                  </a:lnTo>
                  <a:lnTo>
                    <a:pt x="327" y="89"/>
                  </a:lnTo>
                  <a:lnTo>
                    <a:pt x="327" y="89"/>
                  </a:lnTo>
                  <a:lnTo>
                    <a:pt x="293" y="89"/>
                  </a:lnTo>
                  <a:lnTo>
                    <a:pt x="226" y="127"/>
                  </a:lnTo>
                  <a:lnTo>
                    <a:pt x="153" y="178"/>
                  </a:lnTo>
                  <a:lnTo>
                    <a:pt x="138" y="239"/>
                  </a:lnTo>
                  <a:lnTo>
                    <a:pt x="138" y="265"/>
                  </a:lnTo>
                  <a:lnTo>
                    <a:pt x="120" y="290"/>
                  </a:lnTo>
                  <a:lnTo>
                    <a:pt x="101" y="316"/>
                  </a:lnTo>
                  <a:lnTo>
                    <a:pt x="67" y="328"/>
                  </a:lnTo>
                  <a:lnTo>
                    <a:pt x="48" y="341"/>
                  </a:lnTo>
                  <a:lnTo>
                    <a:pt x="33" y="341"/>
                  </a:lnTo>
                  <a:lnTo>
                    <a:pt x="0" y="316"/>
                  </a:lnTo>
                  <a:lnTo>
                    <a:pt x="0" y="290"/>
                  </a:lnTo>
                  <a:lnTo>
                    <a:pt x="15" y="278"/>
                  </a:lnTo>
                  <a:lnTo>
                    <a:pt x="33" y="226"/>
                  </a:lnTo>
                  <a:lnTo>
                    <a:pt x="48" y="213"/>
                  </a:lnTo>
                  <a:lnTo>
                    <a:pt x="67" y="213"/>
                  </a:lnTo>
                  <a:lnTo>
                    <a:pt x="67" y="20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064040" y="4125960"/>
              <a:ext cx="135360" cy="197280"/>
            </a:xfrm>
            <a:custGeom>
              <a:avLst/>
              <a:gdLst/>
              <a:ahLst/>
              <a:rect l="0" t="0" r="r" b="b"/>
              <a:pathLst>
                <a:path w="376" h="548">
                  <a:moveTo>
                    <a:pt x="285" y="429"/>
                  </a:moveTo>
                  <a:lnTo>
                    <a:pt x="211" y="326"/>
                  </a:lnTo>
                  <a:lnTo>
                    <a:pt x="137" y="207"/>
                  </a:lnTo>
                  <a:lnTo>
                    <a:pt x="137" y="148"/>
                  </a:lnTo>
                  <a:lnTo>
                    <a:pt x="137" y="87"/>
                  </a:lnTo>
                  <a:lnTo>
                    <a:pt x="165" y="42"/>
                  </a:lnTo>
                  <a:lnTo>
                    <a:pt x="211" y="0"/>
                  </a:lnTo>
                  <a:lnTo>
                    <a:pt x="225" y="28"/>
                  </a:lnTo>
                  <a:lnTo>
                    <a:pt x="256" y="42"/>
                  </a:lnTo>
                  <a:lnTo>
                    <a:pt x="270" y="73"/>
                  </a:lnTo>
                  <a:lnTo>
                    <a:pt x="270" y="87"/>
                  </a:lnTo>
                  <a:lnTo>
                    <a:pt x="197" y="119"/>
                  </a:lnTo>
                  <a:lnTo>
                    <a:pt x="120" y="148"/>
                  </a:lnTo>
                  <a:lnTo>
                    <a:pt x="151" y="162"/>
                  </a:lnTo>
                  <a:lnTo>
                    <a:pt x="165" y="162"/>
                  </a:lnTo>
                  <a:lnTo>
                    <a:pt x="197" y="162"/>
                  </a:lnTo>
                  <a:lnTo>
                    <a:pt x="211" y="162"/>
                  </a:lnTo>
                  <a:lnTo>
                    <a:pt x="239" y="179"/>
                  </a:lnTo>
                  <a:lnTo>
                    <a:pt x="299" y="193"/>
                  </a:lnTo>
                  <a:lnTo>
                    <a:pt x="317" y="207"/>
                  </a:lnTo>
                  <a:lnTo>
                    <a:pt x="331" y="207"/>
                  </a:lnTo>
                  <a:lnTo>
                    <a:pt x="359" y="267"/>
                  </a:lnTo>
                  <a:lnTo>
                    <a:pt x="376" y="326"/>
                  </a:lnTo>
                  <a:lnTo>
                    <a:pt x="359" y="372"/>
                  </a:lnTo>
                  <a:lnTo>
                    <a:pt x="331" y="400"/>
                  </a:lnTo>
                  <a:lnTo>
                    <a:pt x="239" y="447"/>
                  </a:lnTo>
                  <a:lnTo>
                    <a:pt x="137" y="475"/>
                  </a:lnTo>
                  <a:lnTo>
                    <a:pt x="106" y="506"/>
                  </a:lnTo>
                  <a:lnTo>
                    <a:pt x="59" y="534"/>
                  </a:lnTo>
                  <a:lnTo>
                    <a:pt x="31" y="548"/>
                  </a:lnTo>
                  <a:lnTo>
                    <a:pt x="17" y="534"/>
                  </a:lnTo>
                  <a:lnTo>
                    <a:pt x="0" y="506"/>
                  </a:lnTo>
                  <a:lnTo>
                    <a:pt x="59" y="475"/>
                  </a:lnTo>
                  <a:lnTo>
                    <a:pt x="106" y="475"/>
                  </a:lnTo>
                  <a:lnTo>
                    <a:pt x="151" y="461"/>
                  </a:lnTo>
                  <a:lnTo>
                    <a:pt x="211" y="429"/>
                  </a:lnTo>
                  <a:lnTo>
                    <a:pt x="239" y="400"/>
                  </a:lnTo>
                  <a:lnTo>
                    <a:pt x="239" y="386"/>
                  </a:lnTo>
                  <a:lnTo>
                    <a:pt x="256" y="400"/>
                  </a:lnTo>
                  <a:lnTo>
                    <a:pt x="285" y="429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114800" y="4492800"/>
              <a:ext cx="200520" cy="81360"/>
            </a:xfrm>
            <a:custGeom>
              <a:avLst/>
              <a:gdLst/>
              <a:ahLst/>
              <a:rect l="0" t="0" r="r" b="b"/>
              <a:pathLst>
                <a:path w="557" h="226">
                  <a:moveTo>
                    <a:pt x="422" y="49"/>
                  </a:moveTo>
                  <a:lnTo>
                    <a:pt x="377" y="99"/>
                  </a:lnTo>
                  <a:lnTo>
                    <a:pt x="346" y="127"/>
                  </a:lnTo>
                  <a:lnTo>
                    <a:pt x="316" y="77"/>
                  </a:lnTo>
                  <a:lnTo>
                    <a:pt x="272" y="27"/>
                  </a:lnTo>
                  <a:lnTo>
                    <a:pt x="135" y="77"/>
                  </a:lnTo>
                  <a:lnTo>
                    <a:pt x="0" y="154"/>
                  </a:lnTo>
                  <a:lnTo>
                    <a:pt x="13" y="226"/>
                  </a:lnTo>
                  <a:lnTo>
                    <a:pt x="60" y="226"/>
                  </a:lnTo>
                  <a:lnTo>
                    <a:pt x="167" y="226"/>
                  </a:lnTo>
                  <a:lnTo>
                    <a:pt x="180" y="204"/>
                  </a:lnTo>
                  <a:lnTo>
                    <a:pt x="224" y="177"/>
                  </a:lnTo>
                  <a:lnTo>
                    <a:pt x="255" y="154"/>
                  </a:lnTo>
                  <a:lnTo>
                    <a:pt x="272" y="154"/>
                  </a:lnTo>
                  <a:lnTo>
                    <a:pt x="302" y="177"/>
                  </a:lnTo>
                  <a:lnTo>
                    <a:pt x="346" y="204"/>
                  </a:lnTo>
                  <a:lnTo>
                    <a:pt x="377" y="226"/>
                  </a:lnTo>
                  <a:lnTo>
                    <a:pt x="390" y="226"/>
                  </a:lnTo>
                  <a:lnTo>
                    <a:pt x="435" y="226"/>
                  </a:lnTo>
                  <a:lnTo>
                    <a:pt x="483" y="204"/>
                  </a:lnTo>
                  <a:lnTo>
                    <a:pt x="496" y="154"/>
                  </a:lnTo>
                  <a:lnTo>
                    <a:pt x="540" y="49"/>
                  </a:lnTo>
                  <a:lnTo>
                    <a:pt x="557" y="27"/>
                  </a:lnTo>
                  <a:lnTo>
                    <a:pt x="557" y="0"/>
                  </a:lnTo>
                  <a:lnTo>
                    <a:pt x="540" y="27"/>
                  </a:lnTo>
                  <a:lnTo>
                    <a:pt x="513" y="49"/>
                  </a:lnTo>
                  <a:lnTo>
                    <a:pt x="483" y="127"/>
                  </a:lnTo>
                  <a:lnTo>
                    <a:pt x="452" y="177"/>
                  </a:lnTo>
                  <a:lnTo>
                    <a:pt x="435" y="177"/>
                  </a:lnTo>
                  <a:lnTo>
                    <a:pt x="422" y="177"/>
                  </a:lnTo>
                  <a:lnTo>
                    <a:pt x="422" y="127"/>
                  </a:lnTo>
                  <a:lnTo>
                    <a:pt x="422" y="49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108320" y="3924360"/>
              <a:ext cx="187560" cy="170280"/>
            </a:xfrm>
            <a:custGeom>
              <a:avLst/>
              <a:gdLst/>
              <a:ahLst/>
              <a:rect l="0" t="0" r="r" b="b"/>
              <a:pathLst>
                <a:path w="521" h="473">
                  <a:moveTo>
                    <a:pt x="435" y="447"/>
                  </a:moveTo>
                  <a:lnTo>
                    <a:pt x="422" y="315"/>
                  </a:lnTo>
                  <a:lnTo>
                    <a:pt x="422" y="198"/>
                  </a:lnTo>
                  <a:lnTo>
                    <a:pt x="422" y="144"/>
                  </a:lnTo>
                  <a:lnTo>
                    <a:pt x="393" y="90"/>
                  </a:lnTo>
                  <a:lnTo>
                    <a:pt x="364" y="40"/>
                  </a:lnTo>
                  <a:lnTo>
                    <a:pt x="310" y="0"/>
                  </a:lnTo>
                  <a:lnTo>
                    <a:pt x="323" y="90"/>
                  </a:lnTo>
                  <a:lnTo>
                    <a:pt x="352" y="131"/>
                  </a:lnTo>
                  <a:lnTo>
                    <a:pt x="380" y="185"/>
                  </a:lnTo>
                  <a:lnTo>
                    <a:pt x="265" y="248"/>
                  </a:lnTo>
                  <a:lnTo>
                    <a:pt x="153" y="288"/>
                  </a:lnTo>
                  <a:lnTo>
                    <a:pt x="124" y="275"/>
                  </a:lnTo>
                  <a:lnTo>
                    <a:pt x="98" y="262"/>
                  </a:lnTo>
                  <a:lnTo>
                    <a:pt x="70" y="238"/>
                  </a:lnTo>
                  <a:lnTo>
                    <a:pt x="28" y="198"/>
                  </a:lnTo>
                  <a:lnTo>
                    <a:pt x="12" y="158"/>
                  </a:lnTo>
                  <a:lnTo>
                    <a:pt x="0" y="144"/>
                  </a:lnTo>
                  <a:lnTo>
                    <a:pt x="0" y="198"/>
                  </a:lnTo>
                  <a:lnTo>
                    <a:pt x="12" y="225"/>
                  </a:lnTo>
                  <a:lnTo>
                    <a:pt x="54" y="275"/>
                  </a:lnTo>
                  <a:lnTo>
                    <a:pt x="124" y="288"/>
                  </a:lnTo>
                  <a:lnTo>
                    <a:pt x="210" y="302"/>
                  </a:lnTo>
                  <a:lnTo>
                    <a:pt x="239" y="315"/>
                  </a:lnTo>
                  <a:lnTo>
                    <a:pt x="252" y="328"/>
                  </a:lnTo>
                  <a:lnTo>
                    <a:pt x="281" y="356"/>
                  </a:lnTo>
                  <a:lnTo>
                    <a:pt x="294" y="383"/>
                  </a:lnTo>
                  <a:lnTo>
                    <a:pt x="310" y="406"/>
                  </a:lnTo>
                  <a:lnTo>
                    <a:pt x="336" y="420"/>
                  </a:lnTo>
                  <a:lnTo>
                    <a:pt x="380" y="383"/>
                  </a:lnTo>
                  <a:lnTo>
                    <a:pt x="393" y="356"/>
                  </a:lnTo>
                  <a:lnTo>
                    <a:pt x="406" y="315"/>
                  </a:lnTo>
                  <a:lnTo>
                    <a:pt x="422" y="262"/>
                  </a:lnTo>
                  <a:lnTo>
                    <a:pt x="406" y="238"/>
                  </a:lnTo>
                  <a:lnTo>
                    <a:pt x="406" y="238"/>
                  </a:lnTo>
                  <a:lnTo>
                    <a:pt x="393" y="248"/>
                  </a:lnTo>
                  <a:lnTo>
                    <a:pt x="364" y="275"/>
                  </a:lnTo>
                  <a:lnTo>
                    <a:pt x="352" y="315"/>
                  </a:lnTo>
                  <a:lnTo>
                    <a:pt x="406" y="383"/>
                  </a:lnTo>
                  <a:lnTo>
                    <a:pt x="435" y="396"/>
                  </a:lnTo>
                  <a:lnTo>
                    <a:pt x="463" y="406"/>
                  </a:lnTo>
                  <a:lnTo>
                    <a:pt x="476" y="420"/>
                  </a:lnTo>
                  <a:lnTo>
                    <a:pt x="505" y="433"/>
                  </a:lnTo>
                  <a:lnTo>
                    <a:pt x="521" y="433"/>
                  </a:lnTo>
                  <a:lnTo>
                    <a:pt x="521" y="447"/>
                  </a:lnTo>
                  <a:lnTo>
                    <a:pt x="492" y="460"/>
                  </a:lnTo>
                  <a:lnTo>
                    <a:pt x="463" y="460"/>
                  </a:lnTo>
                  <a:lnTo>
                    <a:pt x="393" y="460"/>
                  </a:lnTo>
                  <a:lnTo>
                    <a:pt x="393" y="473"/>
                  </a:lnTo>
                  <a:lnTo>
                    <a:pt x="380" y="473"/>
                  </a:lnTo>
                  <a:lnTo>
                    <a:pt x="364" y="473"/>
                  </a:lnTo>
                  <a:lnTo>
                    <a:pt x="364" y="473"/>
                  </a:lnTo>
                  <a:lnTo>
                    <a:pt x="406" y="460"/>
                  </a:lnTo>
                  <a:lnTo>
                    <a:pt x="435" y="44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106880" y="4767120"/>
              <a:ext cx="89280" cy="236880"/>
            </a:xfrm>
            <a:custGeom>
              <a:avLst/>
              <a:gdLst/>
              <a:ahLst/>
              <a:rect l="0" t="0" r="r" b="b"/>
              <a:pathLst>
                <a:path w="248" h="658">
                  <a:moveTo>
                    <a:pt x="124" y="16"/>
                  </a:moveTo>
                  <a:lnTo>
                    <a:pt x="111" y="83"/>
                  </a:lnTo>
                  <a:lnTo>
                    <a:pt x="82" y="137"/>
                  </a:lnTo>
                  <a:lnTo>
                    <a:pt x="42" y="291"/>
                  </a:lnTo>
                  <a:lnTo>
                    <a:pt x="0" y="450"/>
                  </a:lnTo>
                  <a:lnTo>
                    <a:pt x="12" y="500"/>
                  </a:lnTo>
                  <a:lnTo>
                    <a:pt x="42" y="537"/>
                  </a:lnTo>
                  <a:lnTo>
                    <a:pt x="69" y="570"/>
                  </a:lnTo>
                  <a:lnTo>
                    <a:pt x="111" y="604"/>
                  </a:lnTo>
                  <a:lnTo>
                    <a:pt x="153" y="624"/>
                  </a:lnTo>
                  <a:lnTo>
                    <a:pt x="179" y="624"/>
                  </a:lnTo>
                  <a:lnTo>
                    <a:pt x="179" y="641"/>
                  </a:lnTo>
                  <a:lnTo>
                    <a:pt x="179" y="658"/>
                  </a:lnTo>
                  <a:lnTo>
                    <a:pt x="153" y="658"/>
                  </a:lnTo>
                  <a:lnTo>
                    <a:pt x="111" y="641"/>
                  </a:lnTo>
                  <a:lnTo>
                    <a:pt x="111" y="483"/>
                  </a:lnTo>
                  <a:lnTo>
                    <a:pt x="98" y="466"/>
                  </a:lnTo>
                  <a:lnTo>
                    <a:pt x="98" y="450"/>
                  </a:lnTo>
                  <a:lnTo>
                    <a:pt x="124" y="433"/>
                  </a:lnTo>
                  <a:lnTo>
                    <a:pt x="166" y="396"/>
                  </a:lnTo>
                  <a:lnTo>
                    <a:pt x="209" y="379"/>
                  </a:lnTo>
                  <a:lnTo>
                    <a:pt x="235" y="379"/>
                  </a:lnTo>
                  <a:lnTo>
                    <a:pt x="248" y="346"/>
                  </a:lnTo>
                  <a:lnTo>
                    <a:pt x="248" y="311"/>
                  </a:lnTo>
                  <a:lnTo>
                    <a:pt x="235" y="291"/>
                  </a:lnTo>
                  <a:lnTo>
                    <a:pt x="193" y="274"/>
                  </a:lnTo>
                  <a:lnTo>
                    <a:pt x="166" y="291"/>
                  </a:lnTo>
                  <a:lnTo>
                    <a:pt x="153" y="328"/>
                  </a:lnTo>
                  <a:lnTo>
                    <a:pt x="124" y="379"/>
                  </a:lnTo>
                  <a:lnTo>
                    <a:pt x="82" y="328"/>
                  </a:lnTo>
                  <a:lnTo>
                    <a:pt x="69" y="311"/>
                  </a:lnTo>
                  <a:lnTo>
                    <a:pt x="98" y="274"/>
                  </a:lnTo>
                  <a:lnTo>
                    <a:pt x="137" y="241"/>
                  </a:lnTo>
                  <a:lnTo>
                    <a:pt x="153" y="224"/>
                  </a:lnTo>
                  <a:lnTo>
                    <a:pt x="166" y="207"/>
                  </a:lnTo>
                  <a:lnTo>
                    <a:pt x="222" y="0"/>
                  </a:lnTo>
                  <a:lnTo>
                    <a:pt x="209" y="33"/>
                  </a:lnTo>
                  <a:lnTo>
                    <a:pt x="166" y="67"/>
                  </a:lnTo>
                  <a:lnTo>
                    <a:pt x="137" y="67"/>
                  </a:lnTo>
                  <a:lnTo>
                    <a:pt x="124" y="50"/>
                  </a:lnTo>
                  <a:lnTo>
                    <a:pt x="124" y="16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354560" y="5033880"/>
              <a:ext cx="70200" cy="173520"/>
            </a:xfrm>
            <a:custGeom>
              <a:avLst/>
              <a:gdLst/>
              <a:ahLst/>
              <a:rect l="0" t="0" r="r" b="b"/>
              <a:pathLst>
                <a:path w="195" h="482">
                  <a:moveTo>
                    <a:pt x="98" y="71"/>
                  </a:moveTo>
                  <a:lnTo>
                    <a:pt x="69" y="125"/>
                  </a:lnTo>
                  <a:lnTo>
                    <a:pt x="54" y="161"/>
                  </a:lnTo>
                  <a:lnTo>
                    <a:pt x="42" y="197"/>
                  </a:lnTo>
                  <a:lnTo>
                    <a:pt x="27" y="249"/>
                  </a:lnTo>
                  <a:lnTo>
                    <a:pt x="15" y="285"/>
                  </a:lnTo>
                  <a:lnTo>
                    <a:pt x="0" y="321"/>
                  </a:lnTo>
                  <a:lnTo>
                    <a:pt x="0" y="321"/>
                  </a:lnTo>
                  <a:lnTo>
                    <a:pt x="27" y="374"/>
                  </a:lnTo>
                  <a:lnTo>
                    <a:pt x="54" y="430"/>
                  </a:lnTo>
                  <a:lnTo>
                    <a:pt x="140" y="482"/>
                  </a:lnTo>
                  <a:lnTo>
                    <a:pt x="113" y="446"/>
                  </a:lnTo>
                  <a:lnTo>
                    <a:pt x="98" y="410"/>
                  </a:lnTo>
                  <a:lnTo>
                    <a:pt x="98" y="394"/>
                  </a:lnTo>
                  <a:lnTo>
                    <a:pt x="125" y="337"/>
                  </a:lnTo>
                  <a:lnTo>
                    <a:pt x="98" y="321"/>
                  </a:lnTo>
                  <a:lnTo>
                    <a:pt x="98" y="285"/>
                  </a:lnTo>
                  <a:lnTo>
                    <a:pt x="113" y="269"/>
                  </a:lnTo>
                  <a:lnTo>
                    <a:pt x="140" y="249"/>
                  </a:lnTo>
                  <a:lnTo>
                    <a:pt x="167" y="213"/>
                  </a:lnTo>
                  <a:lnTo>
                    <a:pt x="195" y="177"/>
                  </a:lnTo>
                  <a:lnTo>
                    <a:pt x="195" y="161"/>
                  </a:lnTo>
                  <a:lnTo>
                    <a:pt x="195" y="125"/>
                  </a:lnTo>
                  <a:lnTo>
                    <a:pt x="182" y="71"/>
                  </a:lnTo>
                  <a:lnTo>
                    <a:pt x="140" y="19"/>
                  </a:lnTo>
                  <a:lnTo>
                    <a:pt x="113" y="0"/>
                  </a:lnTo>
                  <a:lnTo>
                    <a:pt x="113" y="19"/>
                  </a:lnTo>
                  <a:lnTo>
                    <a:pt x="98" y="35"/>
                  </a:lnTo>
                  <a:lnTo>
                    <a:pt x="98" y="71"/>
                  </a:lnTo>
                  <a:lnTo>
                    <a:pt x="98" y="88"/>
                  </a:lnTo>
                  <a:lnTo>
                    <a:pt x="98" y="88"/>
                  </a:lnTo>
                  <a:lnTo>
                    <a:pt x="98" y="7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221000" y="4422600"/>
              <a:ext cx="351360" cy="225720"/>
            </a:xfrm>
            <a:custGeom>
              <a:avLst/>
              <a:gdLst/>
              <a:ahLst/>
              <a:rect l="0" t="0" r="r" b="b"/>
              <a:pathLst>
                <a:path w="976" h="627">
                  <a:moveTo>
                    <a:pt x="561" y="145"/>
                  </a:moveTo>
                  <a:lnTo>
                    <a:pt x="534" y="286"/>
                  </a:lnTo>
                  <a:lnTo>
                    <a:pt x="503" y="359"/>
                  </a:lnTo>
                  <a:lnTo>
                    <a:pt x="457" y="413"/>
                  </a:lnTo>
                  <a:lnTo>
                    <a:pt x="399" y="394"/>
                  </a:lnTo>
                  <a:lnTo>
                    <a:pt x="371" y="375"/>
                  </a:lnTo>
                  <a:lnTo>
                    <a:pt x="325" y="375"/>
                  </a:lnTo>
                  <a:lnTo>
                    <a:pt x="267" y="394"/>
                  </a:lnTo>
                  <a:lnTo>
                    <a:pt x="208" y="447"/>
                  </a:lnTo>
                  <a:lnTo>
                    <a:pt x="134" y="466"/>
                  </a:lnTo>
                  <a:lnTo>
                    <a:pt x="0" y="539"/>
                  </a:lnTo>
                  <a:lnTo>
                    <a:pt x="0" y="573"/>
                  </a:lnTo>
                  <a:lnTo>
                    <a:pt x="15" y="608"/>
                  </a:lnTo>
                  <a:lnTo>
                    <a:pt x="73" y="627"/>
                  </a:lnTo>
                  <a:lnTo>
                    <a:pt x="147" y="608"/>
                  </a:lnTo>
                  <a:lnTo>
                    <a:pt x="208" y="592"/>
                  </a:lnTo>
                  <a:lnTo>
                    <a:pt x="356" y="539"/>
                  </a:lnTo>
                  <a:lnTo>
                    <a:pt x="488" y="466"/>
                  </a:lnTo>
                  <a:lnTo>
                    <a:pt x="534" y="466"/>
                  </a:lnTo>
                  <a:lnTo>
                    <a:pt x="577" y="485"/>
                  </a:lnTo>
                  <a:lnTo>
                    <a:pt x="620" y="501"/>
                  </a:lnTo>
                  <a:lnTo>
                    <a:pt x="650" y="539"/>
                  </a:lnTo>
                  <a:lnTo>
                    <a:pt x="708" y="573"/>
                  </a:lnTo>
                  <a:lnTo>
                    <a:pt x="724" y="539"/>
                  </a:lnTo>
                  <a:lnTo>
                    <a:pt x="740" y="520"/>
                  </a:lnTo>
                  <a:lnTo>
                    <a:pt x="771" y="520"/>
                  </a:lnTo>
                  <a:lnTo>
                    <a:pt x="814" y="520"/>
                  </a:lnTo>
                  <a:lnTo>
                    <a:pt x="844" y="520"/>
                  </a:lnTo>
                  <a:lnTo>
                    <a:pt x="872" y="485"/>
                  </a:lnTo>
                  <a:lnTo>
                    <a:pt x="902" y="413"/>
                  </a:lnTo>
                  <a:lnTo>
                    <a:pt x="933" y="321"/>
                  </a:lnTo>
                  <a:lnTo>
                    <a:pt x="961" y="232"/>
                  </a:lnTo>
                  <a:lnTo>
                    <a:pt x="976" y="198"/>
                  </a:lnTo>
                  <a:lnTo>
                    <a:pt x="976" y="179"/>
                  </a:lnTo>
                  <a:lnTo>
                    <a:pt x="933" y="160"/>
                  </a:lnTo>
                  <a:lnTo>
                    <a:pt x="872" y="145"/>
                  </a:lnTo>
                  <a:lnTo>
                    <a:pt x="814" y="126"/>
                  </a:lnTo>
                  <a:lnTo>
                    <a:pt x="783" y="126"/>
                  </a:lnTo>
                  <a:lnTo>
                    <a:pt x="755" y="106"/>
                  </a:lnTo>
                  <a:lnTo>
                    <a:pt x="708" y="91"/>
                  </a:lnTo>
                  <a:lnTo>
                    <a:pt x="708" y="53"/>
                  </a:lnTo>
                  <a:lnTo>
                    <a:pt x="696" y="19"/>
                  </a:lnTo>
                  <a:lnTo>
                    <a:pt x="635" y="0"/>
                  </a:lnTo>
                  <a:lnTo>
                    <a:pt x="561" y="0"/>
                  </a:lnTo>
                  <a:lnTo>
                    <a:pt x="503" y="0"/>
                  </a:lnTo>
                  <a:lnTo>
                    <a:pt x="518" y="38"/>
                  </a:lnTo>
                  <a:lnTo>
                    <a:pt x="518" y="53"/>
                  </a:lnTo>
                  <a:lnTo>
                    <a:pt x="561" y="145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205160" y="3508200"/>
              <a:ext cx="93960" cy="73440"/>
            </a:xfrm>
            <a:custGeom>
              <a:avLst/>
              <a:gdLst/>
              <a:ahLst/>
              <a:rect l="0" t="0" r="r" b="b"/>
              <a:pathLst>
                <a:path w="261" h="204">
                  <a:moveTo>
                    <a:pt x="208" y="121"/>
                  </a:moveTo>
                  <a:lnTo>
                    <a:pt x="208" y="85"/>
                  </a:lnTo>
                  <a:lnTo>
                    <a:pt x="177" y="46"/>
                  </a:lnTo>
                  <a:lnTo>
                    <a:pt x="123" y="23"/>
                  </a:lnTo>
                  <a:lnTo>
                    <a:pt x="70" y="0"/>
                  </a:lnTo>
                  <a:lnTo>
                    <a:pt x="39" y="15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6" y="54"/>
                  </a:lnTo>
                  <a:lnTo>
                    <a:pt x="79" y="78"/>
                  </a:lnTo>
                  <a:lnTo>
                    <a:pt x="137" y="106"/>
                  </a:lnTo>
                  <a:lnTo>
                    <a:pt x="150" y="144"/>
                  </a:lnTo>
                  <a:lnTo>
                    <a:pt x="150" y="158"/>
                  </a:lnTo>
                  <a:lnTo>
                    <a:pt x="164" y="174"/>
                  </a:lnTo>
                  <a:lnTo>
                    <a:pt x="177" y="189"/>
                  </a:lnTo>
                  <a:lnTo>
                    <a:pt x="208" y="197"/>
                  </a:lnTo>
                  <a:lnTo>
                    <a:pt x="221" y="204"/>
                  </a:lnTo>
                  <a:lnTo>
                    <a:pt x="234" y="204"/>
                  </a:lnTo>
                  <a:lnTo>
                    <a:pt x="261" y="189"/>
                  </a:lnTo>
                  <a:lnTo>
                    <a:pt x="261" y="174"/>
                  </a:lnTo>
                  <a:lnTo>
                    <a:pt x="247" y="166"/>
                  </a:lnTo>
                  <a:lnTo>
                    <a:pt x="234" y="137"/>
                  </a:lnTo>
                  <a:lnTo>
                    <a:pt x="221" y="129"/>
                  </a:lnTo>
                  <a:lnTo>
                    <a:pt x="208" y="129"/>
                  </a:lnTo>
                  <a:lnTo>
                    <a:pt x="208" y="12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459320" y="3584520"/>
              <a:ext cx="113040" cy="106560"/>
            </a:xfrm>
            <a:custGeom>
              <a:avLst/>
              <a:gdLst/>
              <a:ahLst/>
              <a:rect l="0" t="0" r="r" b="b"/>
              <a:pathLst>
                <a:path w="314" h="296">
                  <a:moveTo>
                    <a:pt x="74" y="232"/>
                  </a:moveTo>
                  <a:lnTo>
                    <a:pt x="136" y="178"/>
                  </a:lnTo>
                  <a:lnTo>
                    <a:pt x="199" y="113"/>
                  </a:lnTo>
                  <a:lnTo>
                    <a:pt x="199" y="79"/>
                  </a:lnTo>
                  <a:lnTo>
                    <a:pt x="199" y="46"/>
                  </a:lnTo>
                  <a:lnTo>
                    <a:pt x="177" y="23"/>
                  </a:lnTo>
                  <a:lnTo>
                    <a:pt x="136" y="0"/>
                  </a:lnTo>
                  <a:lnTo>
                    <a:pt x="123" y="15"/>
                  </a:lnTo>
                  <a:lnTo>
                    <a:pt x="97" y="23"/>
                  </a:lnTo>
                  <a:lnTo>
                    <a:pt x="88" y="41"/>
                  </a:lnTo>
                  <a:lnTo>
                    <a:pt x="88" y="46"/>
                  </a:lnTo>
                  <a:lnTo>
                    <a:pt x="149" y="64"/>
                  </a:lnTo>
                  <a:lnTo>
                    <a:pt x="212" y="79"/>
                  </a:lnTo>
                  <a:lnTo>
                    <a:pt x="186" y="87"/>
                  </a:lnTo>
                  <a:lnTo>
                    <a:pt x="177" y="87"/>
                  </a:lnTo>
                  <a:lnTo>
                    <a:pt x="149" y="87"/>
                  </a:lnTo>
                  <a:lnTo>
                    <a:pt x="136" y="87"/>
                  </a:lnTo>
                  <a:lnTo>
                    <a:pt x="114" y="97"/>
                  </a:lnTo>
                  <a:lnTo>
                    <a:pt x="61" y="105"/>
                  </a:lnTo>
                  <a:lnTo>
                    <a:pt x="48" y="113"/>
                  </a:lnTo>
                  <a:lnTo>
                    <a:pt x="35" y="113"/>
                  </a:lnTo>
                  <a:lnTo>
                    <a:pt x="13" y="143"/>
                  </a:lnTo>
                  <a:lnTo>
                    <a:pt x="0" y="178"/>
                  </a:lnTo>
                  <a:lnTo>
                    <a:pt x="13" y="201"/>
                  </a:lnTo>
                  <a:lnTo>
                    <a:pt x="35" y="216"/>
                  </a:lnTo>
                  <a:lnTo>
                    <a:pt x="114" y="242"/>
                  </a:lnTo>
                  <a:lnTo>
                    <a:pt x="199" y="257"/>
                  </a:lnTo>
                  <a:lnTo>
                    <a:pt x="225" y="273"/>
                  </a:lnTo>
                  <a:lnTo>
                    <a:pt x="265" y="288"/>
                  </a:lnTo>
                  <a:lnTo>
                    <a:pt x="287" y="296"/>
                  </a:lnTo>
                  <a:lnTo>
                    <a:pt x="300" y="288"/>
                  </a:lnTo>
                  <a:lnTo>
                    <a:pt x="314" y="273"/>
                  </a:lnTo>
                  <a:lnTo>
                    <a:pt x="265" y="257"/>
                  </a:lnTo>
                  <a:lnTo>
                    <a:pt x="225" y="257"/>
                  </a:lnTo>
                  <a:lnTo>
                    <a:pt x="186" y="250"/>
                  </a:lnTo>
                  <a:lnTo>
                    <a:pt x="136" y="232"/>
                  </a:lnTo>
                  <a:lnTo>
                    <a:pt x="114" y="216"/>
                  </a:lnTo>
                  <a:lnTo>
                    <a:pt x="114" y="209"/>
                  </a:lnTo>
                  <a:lnTo>
                    <a:pt x="97" y="216"/>
                  </a:lnTo>
                  <a:lnTo>
                    <a:pt x="74" y="23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343400" y="3808440"/>
              <a:ext cx="174960" cy="28800"/>
            </a:xfrm>
            <a:custGeom>
              <a:avLst/>
              <a:gdLst/>
              <a:ahLst/>
              <a:rect l="0" t="0" r="r" b="b"/>
              <a:pathLst>
                <a:path w="486" h="80">
                  <a:moveTo>
                    <a:pt x="119" y="18"/>
                  </a:moveTo>
                  <a:lnTo>
                    <a:pt x="158" y="34"/>
                  </a:lnTo>
                  <a:lnTo>
                    <a:pt x="185" y="45"/>
                  </a:lnTo>
                  <a:lnTo>
                    <a:pt x="211" y="26"/>
                  </a:lnTo>
                  <a:lnTo>
                    <a:pt x="247" y="10"/>
                  </a:lnTo>
                  <a:lnTo>
                    <a:pt x="367" y="26"/>
                  </a:lnTo>
                  <a:lnTo>
                    <a:pt x="486" y="56"/>
                  </a:lnTo>
                  <a:lnTo>
                    <a:pt x="477" y="80"/>
                  </a:lnTo>
                  <a:lnTo>
                    <a:pt x="433" y="80"/>
                  </a:lnTo>
                  <a:lnTo>
                    <a:pt x="340" y="80"/>
                  </a:lnTo>
                  <a:lnTo>
                    <a:pt x="331" y="72"/>
                  </a:lnTo>
                  <a:lnTo>
                    <a:pt x="292" y="61"/>
                  </a:lnTo>
                  <a:lnTo>
                    <a:pt x="265" y="56"/>
                  </a:lnTo>
                  <a:lnTo>
                    <a:pt x="247" y="56"/>
                  </a:lnTo>
                  <a:lnTo>
                    <a:pt x="220" y="61"/>
                  </a:lnTo>
                  <a:lnTo>
                    <a:pt x="185" y="72"/>
                  </a:lnTo>
                  <a:lnTo>
                    <a:pt x="158" y="80"/>
                  </a:lnTo>
                  <a:lnTo>
                    <a:pt x="145" y="80"/>
                  </a:lnTo>
                  <a:lnTo>
                    <a:pt x="105" y="80"/>
                  </a:lnTo>
                  <a:lnTo>
                    <a:pt x="66" y="72"/>
                  </a:lnTo>
                  <a:lnTo>
                    <a:pt x="52" y="56"/>
                  </a:lnTo>
                  <a:lnTo>
                    <a:pt x="13" y="18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39" y="18"/>
                  </a:lnTo>
                  <a:lnTo>
                    <a:pt x="66" y="45"/>
                  </a:lnTo>
                  <a:lnTo>
                    <a:pt x="92" y="61"/>
                  </a:lnTo>
                  <a:lnTo>
                    <a:pt x="105" y="61"/>
                  </a:lnTo>
                  <a:lnTo>
                    <a:pt x="119" y="61"/>
                  </a:lnTo>
                  <a:lnTo>
                    <a:pt x="119" y="45"/>
                  </a:lnTo>
                  <a:lnTo>
                    <a:pt x="119" y="18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343400" y="3467160"/>
              <a:ext cx="173520" cy="97200"/>
            </a:xfrm>
            <a:custGeom>
              <a:avLst/>
              <a:gdLst/>
              <a:ahLst/>
              <a:rect l="0" t="0" r="r" b="b"/>
              <a:pathLst>
                <a:path w="482" h="270">
                  <a:moveTo>
                    <a:pt x="79" y="255"/>
                  </a:moveTo>
                  <a:lnTo>
                    <a:pt x="92" y="179"/>
                  </a:lnTo>
                  <a:lnTo>
                    <a:pt x="92" y="112"/>
                  </a:lnTo>
                  <a:lnTo>
                    <a:pt x="92" y="81"/>
                  </a:lnTo>
                  <a:lnTo>
                    <a:pt x="119" y="51"/>
                  </a:lnTo>
                  <a:lnTo>
                    <a:pt x="146" y="20"/>
                  </a:lnTo>
                  <a:lnTo>
                    <a:pt x="195" y="0"/>
                  </a:lnTo>
                  <a:lnTo>
                    <a:pt x="186" y="51"/>
                  </a:lnTo>
                  <a:lnTo>
                    <a:pt x="159" y="73"/>
                  </a:lnTo>
                  <a:lnTo>
                    <a:pt x="133" y="104"/>
                  </a:lnTo>
                  <a:lnTo>
                    <a:pt x="239" y="140"/>
                  </a:lnTo>
                  <a:lnTo>
                    <a:pt x="340" y="163"/>
                  </a:lnTo>
                  <a:lnTo>
                    <a:pt x="368" y="156"/>
                  </a:lnTo>
                  <a:lnTo>
                    <a:pt x="394" y="148"/>
                  </a:lnTo>
                  <a:lnTo>
                    <a:pt x="420" y="135"/>
                  </a:lnTo>
                  <a:lnTo>
                    <a:pt x="456" y="112"/>
                  </a:lnTo>
                  <a:lnTo>
                    <a:pt x="473" y="88"/>
                  </a:lnTo>
                  <a:lnTo>
                    <a:pt x="482" y="81"/>
                  </a:lnTo>
                  <a:lnTo>
                    <a:pt x="482" y="112"/>
                  </a:lnTo>
                  <a:lnTo>
                    <a:pt x="473" y="127"/>
                  </a:lnTo>
                  <a:lnTo>
                    <a:pt x="434" y="156"/>
                  </a:lnTo>
                  <a:lnTo>
                    <a:pt x="368" y="163"/>
                  </a:lnTo>
                  <a:lnTo>
                    <a:pt x="287" y="171"/>
                  </a:lnTo>
                  <a:lnTo>
                    <a:pt x="261" y="179"/>
                  </a:lnTo>
                  <a:lnTo>
                    <a:pt x="247" y="187"/>
                  </a:lnTo>
                  <a:lnTo>
                    <a:pt x="221" y="202"/>
                  </a:lnTo>
                  <a:lnTo>
                    <a:pt x="212" y="219"/>
                  </a:lnTo>
                  <a:lnTo>
                    <a:pt x="195" y="232"/>
                  </a:lnTo>
                  <a:lnTo>
                    <a:pt x="172" y="239"/>
                  </a:lnTo>
                  <a:lnTo>
                    <a:pt x="133" y="219"/>
                  </a:lnTo>
                  <a:lnTo>
                    <a:pt x="119" y="202"/>
                  </a:lnTo>
                  <a:lnTo>
                    <a:pt x="105" y="179"/>
                  </a:lnTo>
                  <a:lnTo>
                    <a:pt x="92" y="148"/>
                  </a:lnTo>
                  <a:lnTo>
                    <a:pt x="105" y="135"/>
                  </a:lnTo>
                  <a:lnTo>
                    <a:pt x="105" y="135"/>
                  </a:lnTo>
                  <a:lnTo>
                    <a:pt x="119" y="140"/>
                  </a:lnTo>
                  <a:lnTo>
                    <a:pt x="146" y="156"/>
                  </a:lnTo>
                  <a:lnTo>
                    <a:pt x="159" y="179"/>
                  </a:lnTo>
                  <a:lnTo>
                    <a:pt x="105" y="219"/>
                  </a:lnTo>
                  <a:lnTo>
                    <a:pt x="79" y="227"/>
                  </a:lnTo>
                  <a:lnTo>
                    <a:pt x="52" y="232"/>
                  </a:lnTo>
                  <a:lnTo>
                    <a:pt x="39" y="239"/>
                  </a:lnTo>
                  <a:lnTo>
                    <a:pt x="13" y="247"/>
                  </a:lnTo>
                  <a:lnTo>
                    <a:pt x="0" y="247"/>
                  </a:lnTo>
                  <a:lnTo>
                    <a:pt x="0" y="255"/>
                  </a:lnTo>
                  <a:lnTo>
                    <a:pt x="26" y="263"/>
                  </a:lnTo>
                  <a:lnTo>
                    <a:pt x="52" y="263"/>
                  </a:lnTo>
                  <a:lnTo>
                    <a:pt x="119" y="263"/>
                  </a:lnTo>
                  <a:lnTo>
                    <a:pt x="119" y="270"/>
                  </a:lnTo>
                  <a:lnTo>
                    <a:pt x="133" y="270"/>
                  </a:lnTo>
                  <a:lnTo>
                    <a:pt x="146" y="270"/>
                  </a:lnTo>
                  <a:lnTo>
                    <a:pt x="146" y="270"/>
                  </a:lnTo>
                  <a:lnTo>
                    <a:pt x="105" y="263"/>
                  </a:lnTo>
                  <a:lnTo>
                    <a:pt x="79" y="255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448160" y="3960720"/>
              <a:ext cx="81360" cy="133560"/>
            </a:xfrm>
            <a:custGeom>
              <a:avLst/>
              <a:gdLst/>
              <a:ahLst/>
              <a:rect l="0" t="0" r="r" b="b"/>
              <a:pathLst>
                <a:path w="226" h="371">
                  <a:moveTo>
                    <a:pt x="115" y="10"/>
                  </a:moveTo>
                  <a:lnTo>
                    <a:pt x="124" y="46"/>
                  </a:lnTo>
                  <a:lnTo>
                    <a:pt x="150" y="77"/>
                  </a:lnTo>
                  <a:lnTo>
                    <a:pt x="187" y="164"/>
                  </a:lnTo>
                  <a:lnTo>
                    <a:pt x="226" y="253"/>
                  </a:lnTo>
                  <a:lnTo>
                    <a:pt x="213" y="281"/>
                  </a:lnTo>
                  <a:lnTo>
                    <a:pt x="187" y="304"/>
                  </a:lnTo>
                  <a:lnTo>
                    <a:pt x="164" y="322"/>
                  </a:lnTo>
                  <a:lnTo>
                    <a:pt x="124" y="340"/>
                  </a:lnTo>
                  <a:lnTo>
                    <a:pt x="89" y="353"/>
                  </a:lnTo>
                  <a:lnTo>
                    <a:pt x="62" y="353"/>
                  </a:lnTo>
                  <a:lnTo>
                    <a:pt x="62" y="361"/>
                  </a:lnTo>
                  <a:lnTo>
                    <a:pt x="62" y="371"/>
                  </a:lnTo>
                  <a:lnTo>
                    <a:pt x="89" y="371"/>
                  </a:lnTo>
                  <a:lnTo>
                    <a:pt x="124" y="361"/>
                  </a:lnTo>
                  <a:lnTo>
                    <a:pt x="124" y="273"/>
                  </a:lnTo>
                  <a:lnTo>
                    <a:pt x="137" y="263"/>
                  </a:lnTo>
                  <a:lnTo>
                    <a:pt x="137" y="253"/>
                  </a:lnTo>
                  <a:lnTo>
                    <a:pt x="115" y="245"/>
                  </a:lnTo>
                  <a:lnTo>
                    <a:pt x="75" y="224"/>
                  </a:lnTo>
                  <a:lnTo>
                    <a:pt x="35" y="214"/>
                  </a:lnTo>
                  <a:lnTo>
                    <a:pt x="13" y="214"/>
                  </a:lnTo>
                  <a:lnTo>
                    <a:pt x="0" y="196"/>
                  </a:lnTo>
                  <a:lnTo>
                    <a:pt x="0" y="174"/>
                  </a:lnTo>
                  <a:lnTo>
                    <a:pt x="13" y="164"/>
                  </a:lnTo>
                  <a:lnTo>
                    <a:pt x="52" y="154"/>
                  </a:lnTo>
                  <a:lnTo>
                    <a:pt x="75" y="164"/>
                  </a:lnTo>
                  <a:lnTo>
                    <a:pt x="89" y="186"/>
                  </a:lnTo>
                  <a:lnTo>
                    <a:pt x="115" y="214"/>
                  </a:lnTo>
                  <a:lnTo>
                    <a:pt x="150" y="186"/>
                  </a:lnTo>
                  <a:lnTo>
                    <a:pt x="164" y="174"/>
                  </a:lnTo>
                  <a:lnTo>
                    <a:pt x="137" y="154"/>
                  </a:lnTo>
                  <a:lnTo>
                    <a:pt x="102" y="136"/>
                  </a:lnTo>
                  <a:lnTo>
                    <a:pt x="89" y="126"/>
                  </a:lnTo>
                  <a:lnTo>
                    <a:pt x="75" y="118"/>
                  </a:lnTo>
                  <a:lnTo>
                    <a:pt x="26" y="0"/>
                  </a:lnTo>
                  <a:lnTo>
                    <a:pt x="35" y="18"/>
                  </a:lnTo>
                  <a:lnTo>
                    <a:pt x="75" y="38"/>
                  </a:lnTo>
                  <a:lnTo>
                    <a:pt x="102" y="38"/>
                  </a:lnTo>
                  <a:lnTo>
                    <a:pt x="115" y="28"/>
                  </a:lnTo>
                  <a:lnTo>
                    <a:pt x="115" y="1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216320" y="4116240"/>
              <a:ext cx="66960" cy="100440"/>
            </a:xfrm>
            <a:custGeom>
              <a:avLst/>
              <a:gdLst/>
              <a:ahLst/>
              <a:rect l="0" t="0" r="r" b="b"/>
              <a:pathLst>
                <a:path w="186" h="279">
                  <a:moveTo>
                    <a:pt x="92" y="41"/>
                  </a:moveTo>
                  <a:lnTo>
                    <a:pt x="120" y="73"/>
                  </a:lnTo>
                  <a:lnTo>
                    <a:pt x="133" y="93"/>
                  </a:lnTo>
                  <a:lnTo>
                    <a:pt x="146" y="114"/>
                  </a:lnTo>
                  <a:lnTo>
                    <a:pt x="159" y="145"/>
                  </a:lnTo>
                  <a:lnTo>
                    <a:pt x="172" y="165"/>
                  </a:lnTo>
                  <a:lnTo>
                    <a:pt x="186" y="186"/>
                  </a:lnTo>
                  <a:lnTo>
                    <a:pt x="186" y="186"/>
                  </a:lnTo>
                  <a:lnTo>
                    <a:pt x="159" y="218"/>
                  </a:lnTo>
                  <a:lnTo>
                    <a:pt x="133" y="248"/>
                  </a:lnTo>
                  <a:lnTo>
                    <a:pt x="52" y="279"/>
                  </a:lnTo>
                  <a:lnTo>
                    <a:pt x="79" y="259"/>
                  </a:lnTo>
                  <a:lnTo>
                    <a:pt x="92" y="238"/>
                  </a:lnTo>
                  <a:lnTo>
                    <a:pt x="92" y="228"/>
                  </a:lnTo>
                  <a:lnTo>
                    <a:pt x="66" y="196"/>
                  </a:lnTo>
                  <a:lnTo>
                    <a:pt x="92" y="186"/>
                  </a:lnTo>
                  <a:lnTo>
                    <a:pt x="92" y="165"/>
                  </a:lnTo>
                  <a:lnTo>
                    <a:pt x="79" y="155"/>
                  </a:lnTo>
                  <a:lnTo>
                    <a:pt x="52" y="145"/>
                  </a:lnTo>
                  <a:lnTo>
                    <a:pt x="26" y="124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73"/>
                  </a:lnTo>
                  <a:lnTo>
                    <a:pt x="8" y="41"/>
                  </a:lnTo>
                  <a:lnTo>
                    <a:pt x="52" y="10"/>
                  </a:lnTo>
                  <a:lnTo>
                    <a:pt x="79" y="0"/>
                  </a:lnTo>
                  <a:lnTo>
                    <a:pt x="79" y="10"/>
                  </a:lnTo>
                  <a:lnTo>
                    <a:pt x="92" y="20"/>
                  </a:lnTo>
                  <a:lnTo>
                    <a:pt x="92" y="41"/>
                  </a:lnTo>
                  <a:lnTo>
                    <a:pt x="92" y="51"/>
                  </a:lnTo>
                  <a:lnTo>
                    <a:pt x="92" y="51"/>
                  </a:lnTo>
                  <a:lnTo>
                    <a:pt x="92" y="4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064040" y="3768840"/>
              <a:ext cx="340200" cy="113040"/>
            </a:xfrm>
            <a:custGeom>
              <a:avLst/>
              <a:gdLst/>
              <a:ahLst/>
              <a:rect l="0" t="0" r="r" b="b"/>
              <a:pathLst>
                <a:path w="945" h="314">
                  <a:moveTo>
                    <a:pt x="402" y="72"/>
                  </a:moveTo>
                  <a:lnTo>
                    <a:pt x="428" y="142"/>
                  </a:lnTo>
                  <a:lnTo>
                    <a:pt x="459" y="179"/>
                  </a:lnTo>
                  <a:lnTo>
                    <a:pt x="503" y="208"/>
                  </a:lnTo>
                  <a:lnTo>
                    <a:pt x="556" y="197"/>
                  </a:lnTo>
                  <a:lnTo>
                    <a:pt x="587" y="187"/>
                  </a:lnTo>
                  <a:lnTo>
                    <a:pt x="631" y="187"/>
                  </a:lnTo>
                  <a:lnTo>
                    <a:pt x="684" y="197"/>
                  </a:lnTo>
                  <a:lnTo>
                    <a:pt x="742" y="223"/>
                  </a:lnTo>
                  <a:lnTo>
                    <a:pt x="813" y="233"/>
                  </a:lnTo>
                  <a:lnTo>
                    <a:pt x="945" y="270"/>
                  </a:lnTo>
                  <a:lnTo>
                    <a:pt x="945" y="288"/>
                  </a:lnTo>
                  <a:lnTo>
                    <a:pt x="932" y="303"/>
                  </a:lnTo>
                  <a:lnTo>
                    <a:pt x="875" y="314"/>
                  </a:lnTo>
                  <a:lnTo>
                    <a:pt x="804" y="303"/>
                  </a:lnTo>
                  <a:lnTo>
                    <a:pt x="742" y="295"/>
                  </a:lnTo>
                  <a:lnTo>
                    <a:pt x="600" y="270"/>
                  </a:lnTo>
                  <a:lnTo>
                    <a:pt x="472" y="233"/>
                  </a:lnTo>
                  <a:lnTo>
                    <a:pt x="428" y="233"/>
                  </a:lnTo>
                  <a:lnTo>
                    <a:pt x="384" y="244"/>
                  </a:lnTo>
                  <a:lnTo>
                    <a:pt x="344" y="251"/>
                  </a:lnTo>
                  <a:lnTo>
                    <a:pt x="314" y="270"/>
                  </a:lnTo>
                  <a:lnTo>
                    <a:pt x="256" y="288"/>
                  </a:lnTo>
                  <a:lnTo>
                    <a:pt x="243" y="270"/>
                  </a:lnTo>
                  <a:lnTo>
                    <a:pt x="229" y="259"/>
                  </a:lnTo>
                  <a:lnTo>
                    <a:pt x="198" y="259"/>
                  </a:lnTo>
                  <a:lnTo>
                    <a:pt x="158" y="259"/>
                  </a:lnTo>
                  <a:lnTo>
                    <a:pt x="127" y="259"/>
                  </a:lnTo>
                  <a:lnTo>
                    <a:pt x="101" y="244"/>
                  </a:lnTo>
                  <a:lnTo>
                    <a:pt x="70" y="208"/>
                  </a:lnTo>
                  <a:lnTo>
                    <a:pt x="39" y="161"/>
                  </a:lnTo>
                  <a:lnTo>
                    <a:pt x="13" y="116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39" y="80"/>
                  </a:lnTo>
                  <a:lnTo>
                    <a:pt x="101" y="72"/>
                  </a:lnTo>
                  <a:lnTo>
                    <a:pt x="158" y="62"/>
                  </a:lnTo>
                  <a:lnTo>
                    <a:pt x="185" y="62"/>
                  </a:lnTo>
                  <a:lnTo>
                    <a:pt x="211" y="54"/>
                  </a:lnTo>
                  <a:lnTo>
                    <a:pt x="256" y="46"/>
                  </a:lnTo>
                  <a:lnTo>
                    <a:pt x="256" y="25"/>
                  </a:lnTo>
                  <a:lnTo>
                    <a:pt x="269" y="10"/>
                  </a:lnTo>
                  <a:lnTo>
                    <a:pt x="331" y="0"/>
                  </a:lnTo>
                  <a:lnTo>
                    <a:pt x="402" y="0"/>
                  </a:lnTo>
                  <a:lnTo>
                    <a:pt x="459" y="0"/>
                  </a:lnTo>
                  <a:lnTo>
                    <a:pt x="441" y="18"/>
                  </a:lnTo>
                  <a:lnTo>
                    <a:pt x="441" y="25"/>
                  </a:lnTo>
                  <a:lnTo>
                    <a:pt x="402" y="7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"/>
          <p:cNvSpPr txBox="1"/>
          <p:nvPr/>
        </p:nvSpPr>
        <p:spPr>
          <a:xfrm>
            <a:off x="304920" y="457200"/>
            <a:ext cx="7391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gram Is Brought To You By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4417920" y="4371840"/>
            <a:ext cx="937080" cy="506880"/>
            <a:chOff x="4417920" y="4371840"/>
            <a:chExt cx="937080" cy="506880"/>
          </a:xfrm>
        </p:grpSpPr>
        <p:grpSp>
          <p:nvGrpSpPr>
            <p:cNvPr id="848" name=""/>
            <p:cNvGrpSpPr/>
            <p:nvPr/>
          </p:nvGrpSpPr>
          <p:grpSpPr>
            <a:xfrm>
              <a:off x="4576680" y="4484520"/>
              <a:ext cx="778320" cy="195840"/>
              <a:chOff x="4576680" y="4484520"/>
              <a:chExt cx="778320" cy="195840"/>
            </a:xfrm>
          </p:grpSpPr>
          <p:sp>
            <p:nvSpPr>
              <p:cNvPr id="849" name=""/>
              <p:cNvSpPr/>
              <p:nvPr/>
            </p:nvSpPr>
            <p:spPr>
              <a:xfrm>
                <a:off x="4578480" y="4492800"/>
                <a:ext cx="775080" cy="187560"/>
              </a:xfrm>
              <a:custGeom>
                <a:avLst/>
                <a:gdLst/>
                <a:ahLst/>
                <a:rect l="0" t="0" r="r" b="b"/>
                <a:pathLst>
                  <a:path w="2153" h="521">
                    <a:moveTo>
                      <a:pt x="0" y="305"/>
                    </a:moveTo>
                    <a:lnTo>
                      <a:pt x="636" y="229"/>
                    </a:lnTo>
                    <a:lnTo>
                      <a:pt x="1112" y="180"/>
                    </a:lnTo>
                    <a:lnTo>
                      <a:pt x="1553" y="127"/>
                    </a:lnTo>
                    <a:lnTo>
                      <a:pt x="1730" y="97"/>
                    </a:lnTo>
                    <a:lnTo>
                      <a:pt x="1959" y="30"/>
                    </a:lnTo>
                    <a:lnTo>
                      <a:pt x="2061" y="0"/>
                    </a:lnTo>
                    <a:lnTo>
                      <a:pt x="2127" y="127"/>
                    </a:lnTo>
                    <a:lnTo>
                      <a:pt x="2153" y="269"/>
                    </a:lnTo>
                    <a:lnTo>
                      <a:pt x="2140" y="371"/>
                    </a:lnTo>
                    <a:lnTo>
                      <a:pt x="2131" y="424"/>
                    </a:lnTo>
                    <a:lnTo>
                      <a:pt x="1898" y="428"/>
                    </a:lnTo>
                    <a:lnTo>
                      <a:pt x="1592" y="446"/>
                    </a:lnTo>
                    <a:lnTo>
                      <a:pt x="1160" y="459"/>
                    </a:lnTo>
                    <a:lnTo>
                      <a:pt x="790" y="481"/>
                    </a:lnTo>
                    <a:lnTo>
                      <a:pt x="370" y="499"/>
                    </a:lnTo>
                    <a:lnTo>
                      <a:pt x="8" y="521"/>
                    </a:lnTo>
                    <a:lnTo>
                      <a:pt x="0" y="305"/>
                    </a:lnTo>
                    <a:close/>
                  </a:path>
                </a:pathLst>
              </a:custGeom>
              <a:solidFill>
                <a:srgbClr val="60606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576680" y="4484520"/>
                <a:ext cx="778320" cy="184680"/>
              </a:xfrm>
              <a:custGeom>
                <a:avLst/>
                <a:gdLst/>
                <a:ahLst/>
                <a:rect l="0" t="0" r="r" b="b"/>
                <a:pathLst>
                  <a:path w="2162" h="513">
                    <a:moveTo>
                      <a:pt x="0" y="300"/>
                    </a:moveTo>
                    <a:lnTo>
                      <a:pt x="640" y="225"/>
                    </a:lnTo>
                    <a:lnTo>
                      <a:pt x="1116" y="177"/>
                    </a:lnTo>
                    <a:lnTo>
                      <a:pt x="1553" y="119"/>
                    </a:lnTo>
                    <a:lnTo>
                      <a:pt x="1730" y="92"/>
                    </a:lnTo>
                    <a:lnTo>
                      <a:pt x="1955" y="26"/>
                    </a:lnTo>
                    <a:lnTo>
                      <a:pt x="2065" y="0"/>
                    </a:lnTo>
                    <a:lnTo>
                      <a:pt x="2096" y="52"/>
                    </a:lnTo>
                    <a:lnTo>
                      <a:pt x="2136" y="127"/>
                    </a:lnTo>
                    <a:lnTo>
                      <a:pt x="2149" y="195"/>
                    </a:lnTo>
                    <a:lnTo>
                      <a:pt x="2158" y="274"/>
                    </a:lnTo>
                    <a:lnTo>
                      <a:pt x="2162" y="309"/>
                    </a:lnTo>
                    <a:lnTo>
                      <a:pt x="2153" y="371"/>
                    </a:lnTo>
                    <a:lnTo>
                      <a:pt x="2136" y="420"/>
                    </a:lnTo>
                    <a:lnTo>
                      <a:pt x="1902" y="425"/>
                    </a:lnTo>
                    <a:lnTo>
                      <a:pt x="1597" y="442"/>
                    </a:lnTo>
                    <a:lnTo>
                      <a:pt x="1160" y="456"/>
                    </a:lnTo>
                    <a:lnTo>
                      <a:pt x="794" y="473"/>
                    </a:lnTo>
                    <a:lnTo>
                      <a:pt x="370" y="491"/>
                    </a:lnTo>
                    <a:lnTo>
                      <a:pt x="13" y="513"/>
                    </a:lnTo>
                    <a:lnTo>
                      <a:pt x="0" y="30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4417920" y="4371840"/>
              <a:ext cx="165600" cy="449640"/>
              <a:chOff x="4417920" y="4371840"/>
              <a:chExt cx="165600" cy="449640"/>
            </a:xfrm>
          </p:grpSpPr>
          <p:sp>
            <p:nvSpPr>
              <p:cNvPr id="852" name=""/>
              <p:cNvSpPr/>
              <p:nvPr/>
            </p:nvSpPr>
            <p:spPr>
              <a:xfrm>
                <a:off x="4427640" y="4371840"/>
                <a:ext cx="155880" cy="449640"/>
              </a:xfrm>
              <a:custGeom>
                <a:avLst/>
                <a:gdLst/>
                <a:ahLst/>
                <a:rect l="0" t="0" r="r" b="b"/>
                <a:pathLst>
                  <a:path w="433" h="1249">
                    <a:moveTo>
                      <a:pt x="83" y="1249"/>
                    </a:moveTo>
                    <a:lnTo>
                      <a:pt x="265" y="1201"/>
                    </a:lnTo>
                    <a:lnTo>
                      <a:pt x="247" y="954"/>
                    </a:lnTo>
                    <a:lnTo>
                      <a:pt x="261" y="913"/>
                    </a:lnTo>
                    <a:lnTo>
                      <a:pt x="283" y="882"/>
                    </a:lnTo>
                    <a:lnTo>
                      <a:pt x="318" y="860"/>
                    </a:lnTo>
                    <a:lnTo>
                      <a:pt x="433" y="852"/>
                    </a:lnTo>
                    <a:lnTo>
                      <a:pt x="415" y="609"/>
                    </a:lnTo>
                    <a:lnTo>
                      <a:pt x="283" y="613"/>
                    </a:lnTo>
                    <a:lnTo>
                      <a:pt x="234" y="600"/>
                    </a:lnTo>
                    <a:lnTo>
                      <a:pt x="202" y="574"/>
                    </a:lnTo>
                    <a:lnTo>
                      <a:pt x="185" y="538"/>
                    </a:lnTo>
                    <a:lnTo>
                      <a:pt x="176" y="508"/>
                    </a:lnTo>
                    <a:lnTo>
                      <a:pt x="176" y="472"/>
                    </a:lnTo>
                    <a:lnTo>
                      <a:pt x="185" y="393"/>
                    </a:lnTo>
                    <a:lnTo>
                      <a:pt x="202" y="295"/>
                    </a:lnTo>
                    <a:lnTo>
                      <a:pt x="247" y="180"/>
                    </a:lnTo>
                    <a:lnTo>
                      <a:pt x="300" y="79"/>
                    </a:lnTo>
                    <a:lnTo>
                      <a:pt x="340" y="0"/>
                    </a:lnTo>
                    <a:lnTo>
                      <a:pt x="221" y="141"/>
                    </a:lnTo>
                    <a:lnTo>
                      <a:pt x="127" y="277"/>
                    </a:lnTo>
                    <a:lnTo>
                      <a:pt x="79" y="367"/>
                    </a:lnTo>
                    <a:lnTo>
                      <a:pt x="52" y="424"/>
                    </a:lnTo>
                    <a:lnTo>
                      <a:pt x="13" y="547"/>
                    </a:lnTo>
                    <a:lnTo>
                      <a:pt x="4" y="631"/>
                    </a:lnTo>
                    <a:lnTo>
                      <a:pt x="0" y="715"/>
                    </a:lnTo>
                    <a:lnTo>
                      <a:pt x="0" y="799"/>
                    </a:lnTo>
                    <a:lnTo>
                      <a:pt x="8" y="882"/>
                    </a:lnTo>
                    <a:lnTo>
                      <a:pt x="30" y="985"/>
                    </a:lnTo>
                    <a:lnTo>
                      <a:pt x="52" y="1077"/>
                    </a:lnTo>
                    <a:lnTo>
                      <a:pt x="83" y="124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417920" y="4371840"/>
                <a:ext cx="155880" cy="449640"/>
              </a:xfrm>
              <a:custGeom>
                <a:avLst/>
                <a:gdLst/>
                <a:ahLst/>
                <a:rect l="0" t="0" r="r" b="b"/>
                <a:pathLst>
                  <a:path w="433" h="1249">
                    <a:moveTo>
                      <a:pt x="88" y="1249"/>
                    </a:moveTo>
                    <a:lnTo>
                      <a:pt x="265" y="1201"/>
                    </a:lnTo>
                    <a:lnTo>
                      <a:pt x="247" y="958"/>
                    </a:lnTo>
                    <a:lnTo>
                      <a:pt x="261" y="922"/>
                    </a:lnTo>
                    <a:lnTo>
                      <a:pt x="278" y="882"/>
                    </a:lnTo>
                    <a:lnTo>
                      <a:pt x="318" y="865"/>
                    </a:lnTo>
                    <a:lnTo>
                      <a:pt x="433" y="852"/>
                    </a:lnTo>
                    <a:lnTo>
                      <a:pt x="415" y="613"/>
                    </a:lnTo>
                    <a:lnTo>
                      <a:pt x="283" y="613"/>
                    </a:lnTo>
                    <a:lnTo>
                      <a:pt x="239" y="605"/>
                    </a:lnTo>
                    <a:lnTo>
                      <a:pt x="202" y="574"/>
                    </a:lnTo>
                    <a:lnTo>
                      <a:pt x="185" y="538"/>
                    </a:lnTo>
                    <a:lnTo>
                      <a:pt x="176" y="512"/>
                    </a:lnTo>
                    <a:lnTo>
                      <a:pt x="171" y="477"/>
                    </a:lnTo>
                    <a:lnTo>
                      <a:pt x="185" y="393"/>
                    </a:lnTo>
                    <a:lnTo>
                      <a:pt x="202" y="299"/>
                    </a:lnTo>
                    <a:lnTo>
                      <a:pt x="247" y="189"/>
                    </a:lnTo>
                    <a:lnTo>
                      <a:pt x="300" y="83"/>
                    </a:lnTo>
                    <a:lnTo>
                      <a:pt x="340" y="0"/>
                    </a:lnTo>
                    <a:lnTo>
                      <a:pt x="221" y="141"/>
                    </a:lnTo>
                    <a:lnTo>
                      <a:pt x="127" y="282"/>
                    </a:lnTo>
                    <a:lnTo>
                      <a:pt x="79" y="371"/>
                    </a:lnTo>
                    <a:lnTo>
                      <a:pt x="52" y="428"/>
                    </a:lnTo>
                    <a:lnTo>
                      <a:pt x="22" y="486"/>
                    </a:lnTo>
                    <a:lnTo>
                      <a:pt x="13" y="556"/>
                    </a:lnTo>
                    <a:lnTo>
                      <a:pt x="4" y="640"/>
                    </a:lnTo>
                    <a:lnTo>
                      <a:pt x="0" y="719"/>
                    </a:lnTo>
                    <a:lnTo>
                      <a:pt x="4" y="803"/>
                    </a:lnTo>
                    <a:lnTo>
                      <a:pt x="13" y="882"/>
                    </a:lnTo>
                    <a:lnTo>
                      <a:pt x="30" y="994"/>
                    </a:lnTo>
                    <a:lnTo>
                      <a:pt x="52" y="1082"/>
                    </a:lnTo>
                    <a:lnTo>
                      <a:pt x="88" y="124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4437000" y="4799160"/>
              <a:ext cx="113040" cy="79560"/>
              <a:chOff x="4437000" y="4799160"/>
              <a:chExt cx="113040" cy="79560"/>
            </a:xfrm>
          </p:grpSpPr>
          <p:sp>
            <p:nvSpPr>
              <p:cNvPr id="855" name=""/>
              <p:cNvSpPr/>
              <p:nvPr/>
            </p:nvSpPr>
            <p:spPr>
              <a:xfrm>
                <a:off x="4440240" y="4807080"/>
                <a:ext cx="109800" cy="71640"/>
              </a:xfrm>
              <a:custGeom>
                <a:avLst/>
                <a:gdLst/>
                <a:ahLst/>
                <a:rect l="0" t="0" r="r" b="b"/>
                <a:pathLst>
                  <a:path w="305" h="199">
                    <a:moveTo>
                      <a:pt x="0" y="44"/>
                    </a:moveTo>
                    <a:lnTo>
                      <a:pt x="141" y="22"/>
                    </a:lnTo>
                    <a:lnTo>
                      <a:pt x="269" y="0"/>
                    </a:lnTo>
                    <a:lnTo>
                      <a:pt x="305" y="142"/>
                    </a:lnTo>
                    <a:lnTo>
                      <a:pt x="274" y="159"/>
                    </a:lnTo>
                    <a:lnTo>
                      <a:pt x="243" y="181"/>
                    </a:lnTo>
                    <a:lnTo>
                      <a:pt x="208" y="190"/>
                    </a:lnTo>
                    <a:lnTo>
                      <a:pt x="145" y="199"/>
                    </a:lnTo>
                    <a:lnTo>
                      <a:pt x="97" y="195"/>
                    </a:lnTo>
                    <a:lnTo>
                      <a:pt x="57" y="190"/>
                    </a:lnTo>
                    <a:lnTo>
                      <a:pt x="22" y="172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437000" y="4799160"/>
                <a:ext cx="108360" cy="73440"/>
              </a:xfrm>
              <a:custGeom>
                <a:avLst/>
                <a:gdLst/>
                <a:ahLst/>
                <a:rect l="0" t="0" r="r" b="b"/>
                <a:pathLst>
                  <a:path w="301" h="204">
                    <a:moveTo>
                      <a:pt x="0" y="48"/>
                    </a:moveTo>
                    <a:lnTo>
                      <a:pt x="142" y="26"/>
                    </a:lnTo>
                    <a:lnTo>
                      <a:pt x="266" y="0"/>
                    </a:lnTo>
                    <a:lnTo>
                      <a:pt x="301" y="146"/>
                    </a:lnTo>
                    <a:lnTo>
                      <a:pt x="266" y="169"/>
                    </a:lnTo>
                    <a:lnTo>
                      <a:pt x="235" y="182"/>
                    </a:lnTo>
                    <a:lnTo>
                      <a:pt x="203" y="196"/>
                    </a:lnTo>
                    <a:lnTo>
                      <a:pt x="146" y="204"/>
                    </a:lnTo>
                    <a:lnTo>
                      <a:pt x="89" y="200"/>
                    </a:lnTo>
                    <a:lnTo>
                      <a:pt x="48" y="196"/>
                    </a:lnTo>
                    <a:lnTo>
                      <a:pt x="17" y="17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4572000" y="3219480"/>
            <a:ext cx="509760" cy="1443240"/>
            <a:chOff x="4572000" y="3219480"/>
            <a:chExt cx="509760" cy="1443240"/>
          </a:xfrm>
        </p:grpSpPr>
        <p:sp>
          <p:nvSpPr>
            <p:cNvPr id="858" name=""/>
            <p:cNvSpPr/>
            <p:nvPr/>
          </p:nvSpPr>
          <p:spPr>
            <a:xfrm>
              <a:off x="4572000" y="3219480"/>
              <a:ext cx="486000" cy="1190880"/>
            </a:xfrm>
            <a:custGeom>
              <a:avLst/>
              <a:gdLst/>
              <a:ahLst/>
              <a:rect l="0" t="0" r="r" b="b"/>
              <a:pathLst>
                <a:path w="1350" h="3308">
                  <a:moveTo>
                    <a:pt x="238" y="0"/>
                  </a:moveTo>
                  <a:lnTo>
                    <a:pt x="79" y="105"/>
                  </a:lnTo>
                  <a:lnTo>
                    <a:pt x="0" y="423"/>
                  </a:lnTo>
                  <a:lnTo>
                    <a:pt x="211" y="1322"/>
                  </a:lnTo>
                  <a:lnTo>
                    <a:pt x="529" y="3308"/>
                  </a:lnTo>
                  <a:lnTo>
                    <a:pt x="1350" y="3149"/>
                  </a:lnTo>
                  <a:lnTo>
                    <a:pt x="979" y="1455"/>
                  </a:lnTo>
                  <a:lnTo>
                    <a:pt x="555" y="238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776840" y="4376880"/>
              <a:ext cx="30492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1371600" y="5994360"/>
            <a:ext cx="5105880" cy="584640"/>
          </a:xfrm>
          <a:custGeom>
            <a:avLst/>
            <a:gdLst/>
            <a:ahLst/>
            <a:rect l="0" t="0" r="r" b="b"/>
            <a:pathLst>
              <a:path w="14183" h="1624">
                <a:moveTo>
                  <a:pt x="7532" y="176"/>
                </a:moveTo>
                <a:lnTo>
                  <a:pt x="7356" y="141"/>
                </a:lnTo>
                <a:lnTo>
                  <a:pt x="7223" y="141"/>
                </a:lnTo>
                <a:lnTo>
                  <a:pt x="7091" y="176"/>
                </a:lnTo>
                <a:lnTo>
                  <a:pt x="6959" y="211"/>
                </a:lnTo>
                <a:lnTo>
                  <a:pt x="6827" y="176"/>
                </a:lnTo>
                <a:lnTo>
                  <a:pt x="6695" y="176"/>
                </a:lnTo>
                <a:lnTo>
                  <a:pt x="6563" y="141"/>
                </a:lnTo>
                <a:lnTo>
                  <a:pt x="6431" y="141"/>
                </a:lnTo>
                <a:lnTo>
                  <a:pt x="6299" y="141"/>
                </a:lnTo>
                <a:lnTo>
                  <a:pt x="6166" y="141"/>
                </a:lnTo>
                <a:lnTo>
                  <a:pt x="6034" y="176"/>
                </a:lnTo>
                <a:lnTo>
                  <a:pt x="5902" y="176"/>
                </a:lnTo>
                <a:lnTo>
                  <a:pt x="5770" y="176"/>
                </a:lnTo>
                <a:lnTo>
                  <a:pt x="5638" y="176"/>
                </a:lnTo>
                <a:lnTo>
                  <a:pt x="5506" y="176"/>
                </a:lnTo>
                <a:lnTo>
                  <a:pt x="5374" y="176"/>
                </a:lnTo>
                <a:lnTo>
                  <a:pt x="5242" y="176"/>
                </a:lnTo>
                <a:lnTo>
                  <a:pt x="5109" y="176"/>
                </a:lnTo>
                <a:lnTo>
                  <a:pt x="4977" y="176"/>
                </a:lnTo>
                <a:lnTo>
                  <a:pt x="4845" y="141"/>
                </a:lnTo>
                <a:lnTo>
                  <a:pt x="4713" y="105"/>
                </a:lnTo>
                <a:lnTo>
                  <a:pt x="4581" y="105"/>
                </a:lnTo>
                <a:lnTo>
                  <a:pt x="4449" y="141"/>
                </a:lnTo>
                <a:lnTo>
                  <a:pt x="4273" y="176"/>
                </a:lnTo>
                <a:lnTo>
                  <a:pt x="4096" y="211"/>
                </a:lnTo>
                <a:lnTo>
                  <a:pt x="3920" y="176"/>
                </a:lnTo>
                <a:lnTo>
                  <a:pt x="3744" y="141"/>
                </a:lnTo>
                <a:lnTo>
                  <a:pt x="3612" y="105"/>
                </a:lnTo>
                <a:lnTo>
                  <a:pt x="3479" y="105"/>
                </a:lnTo>
                <a:lnTo>
                  <a:pt x="3347" y="105"/>
                </a:lnTo>
                <a:lnTo>
                  <a:pt x="3215" y="105"/>
                </a:lnTo>
                <a:lnTo>
                  <a:pt x="3082" y="105"/>
                </a:lnTo>
                <a:lnTo>
                  <a:pt x="2950" y="141"/>
                </a:lnTo>
                <a:lnTo>
                  <a:pt x="2818" y="141"/>
                </a:lnTo>
                <a:lnTo>
                  <a:pt x="2686" y="141"/>
                </a:lnTo>
                <a:lnTo>
                  <a:pt x="2554" y="105"/>
                </a:lnTo>
                <a:lnTo>
                  <a:pt x="2422" y="70"/>
                </a:lnTo>
                <a:lnTo>
                  <a:pt x="2290" y="35"/>
                </a:lnTo>
                <a:lnTo>
                  <a:pt x="2158" y="0"/>
                </a:lnTo>
                <a:lnTo>
                  <a:pt x="2025" y="35"/>
                </a:lnTo>
                <a:lnTo>
                  <a:pt x="1893" y="35"/>
                </a:lnTo>
                <a:lnTo>
                  <a:pt x="1761" y="35"/>
                </a:lnTo>
                <a:lnTo>
                  <a:pt x="1629" y="35"/>
                </a:lnTo>
                <a:lnTo>
                  <a:pt x="1497" y="35"/>
                </a:lnTo>
                <a:lnTo>
                  <a:pt x="1365" y="35"/>
                </a:lnTo>
                <a:lnTo>
                  <a:pt x="1233" y="70"/>
                </a:lnTo>
                <a:lnTo>
                  <a:pt x="1101" y="141"/>
                </a:lnTo>
                <a:lnTo>
                  <a:pt x="968" y="246"/>
                </a:lnTo>
                <a:lnTo>
                  <a:pt x="836" y="317"/>
                </a:lnTo>
                <a:lnTo>
                  <a:pt x="704" y="352"/>
                </a:lnTo>
                <a:lnTo>
                  <a:pt x="572" y="352"/>
                </a:lnTo>
                <a:lnTo>
                  <a:pt x="440" y="352"/>
                </a:lnTo>
                <a:lnTo>
                  <a:pt x="308" y="352"/>
                </a:lnTo>
                <a:lnTo>
                  <a:pt x="176" y="388"/>
                </a:lnTo>
                <a:lnTo>
                  <a:pt x="44" y="388"/>
                </a:lnTo>
                <a:lnTo>
                  <a:pt x="0" y="494"/>
                </a:lnTo>
                <a:lnTo>
                  <a:pt x="0" y="600"/>
                </a:lnTo>
                <a:lnTo>
                  <a:pt x="0" y="706"/>
                </a:lnTo>
                <a:lnTo>
                  <a:pt x="132" y="812"/>
                </a:lnTo>
                <a:lnTo>
                  <a:pt x="264" y="882"/>
                </a:lnTo>
                <a:lnTo>
                  <a:pt x="396" y="882"/>
                </a:lnTo>
                <a:lnTo>
                  <a:pt x="528" y="882"/>
                </a:lnTo>
                <a:lnTo>
                  <a:pt x="660" y="882"/>
                </a:lnTo>
                <a:lnTo>
                  <a:pt x="792" y="882"/>
                </a:lnTo>
                <a:lnTo>
                  <a:pt x="924" y="918"/>
                </a:lnTo>
                <a:lnTo>
                  <a:pt x="1012" y="1024"/>
                </a:lnTo>
                <a:lnTo>
                  <a:pt x="1101" y="1129"/>
                </a:lnTo>
                <a:lnTo>
                  <a:pt x="1233" y="1200"/>
                </a:lnTo>
                <a:lnTo>
                  <a:pt x="1365" y="1200"/>
                </a:lnTo>
                <a:lnTo>
                  <a:pt x="1497" y="1165"/>
                </a:lnTo>
                <a:lnTo>
                  <a:pt x="1629" y="1129"/>
                </a:lnTo>
                <a:lnTo>
                  <a:pt x="1761" y="1094"/>
                </a:lnTo>
                <a:lnTo>
                  <a:pt x="1893" y="1094"/>
                </a:lnTo>
                <a:lnTo>
                  <a:pt x="2025" y="1165"/>
                </a:lnTo>
                <a:lnTo>
                  <a:pt x="2158" y="1236"/>
                </a:lnTo>
                <a:lnTo>
                  <a:pt x="2290" y="1272"/>
                </a:lnTo>
                <a:lnTo>
                  <a:pt x="2422" y="1272"/>
                </a:lnTo>
                <a:lnTo>
                  <a:pt x="2510" y="1377"/>
                </a:lnTo>
                <a:lnTo>
                  <a:pt x="2598" y="1483"/>
                </a:lnTo>
                <a:lnTo>
                  <a:pt x="2686" y="1589"/>
                </a:lnTo>
                <a:lnTo>
                  <a:pt x="2818" y="1624"/>
                </a:lnTo>
                <a:lnTo>
                  <a:pt x="2862" y="1518"/>
                </a:lnTo>
                <a:lnTo>
                  <a:pt x="2862" y="1413"/>
                </a:lnTo>
                <a:lnTo>
                  <a:pt x="2994" y="1377"/>
                </a:lnTo>
                <a:lnTo>
                  <a:pt x="3127" y="1377"/>
                </a:lnTo>
                <a:lnTo>
                  <a:pt x="3259" y="1483"/>
                </a:lnTo>
                <a:lnTo>
                  <a:pt x="3391" y="1518"/>
                </a:lnTo>
                <a:lnTo>
                  <a:pt x="3523" y="1554"/>
                </a:lnTo>
                <a:lnTo>
                  <a:pt x="3656" y="1518"/>
                </a:lnTo>
                <a:lnTo>
                  <a:pt x="3788" y="1413"/>
                </a:lnTo>
                <a:lnTo>
                  <a:pt x="3920" y="1413"/>
                </a:lnTo>
                <a:lnTo>
                  <a:pt x="4052" y="1413"/>
                </a:lnTo>
                <a:lnTo>
                  <a:pt x="4185" y="1448"/>
                </a:lnTo>
                <a:lnTo>
                  <a:pt x="4361" y="1554"/>
                </a:lnTo>
                <a:lnTo>
                  <a:pt x="4493" y="1589"/>
                </a:lnTo>
                <a:lnTo>
                  <a:pt x="4625" y="1624"/>
                </a:lnTo>
                <a:lnTo>
                  <a:pt x="4757" y="1518"/>
                </a:lnTo>
                <a:lnTo>
                  <a:pt x="4889" y="1483"/>
                </a:lnTo>
                <a:lnTo>
                  <a:pt x="5021" y="1448"/>
                </a:lnTo>
                <a:lnTo>
                  <a:pt x="5153" y="1413"/>
                </a:lnTo>
                <a:lnTo>
                  <a:pt x="5286" y="1377"/>
                </a:lnTo>
                <a:lnTo>
                  <a:pt x="5418" y="1342"/>
                </a:lnTo>
                <a:lnTo>
                  <a:pt x="5550" y="1342"/>
                </a:lnTo>
                <a:lnTo>
                  <a:pt x="5682" y="1342"/>
                </a:lnTo>
                <a:lnTo>
                  <a:pt x="5814" y="1377"/>
                </a:lnTo>
                <a:lnTo>
                  <a:pt x="5946" y="1413"/>
                </a:lnTo>
                <a:lnTo>
                  <a:pt x="6078" y="1448"/>
                </a:lnTo>
                <a:lnTo>
                  <a:pt x="6210" y="1448"/>
                </a:lnTo>
                <a:lnTo>
                  <a:pt x="6343" y="1483"/>
                </a:lnTo>
                <a:lnTo>
                  <a:pt x="6475" y="1483"/>
                </a:lnTo>
                <a:lnTo>
                  <a:pt x="6651" y="1448"/>
                </a:lnTo>
                <a:lnTo>
                  <a:pt x="6783" y="1413"/>
                </a:lnTo>
                <a:lnTo>
                  <a:pt x="6915" y="1377"/>
                </a:lnTo>
                <a:lnTo>
                  <a:pt x="7047" y="1377"/>
                </a:lnTo>
                <a:lnTo>
                  <a:pt x="7179" y="1342"/>
                </a:lnTo>
                <a:lnTo>
                  <a:pt x="7312" y="1307"/>
                </a:lnTo>
                <a:lnTo>
                  <a:pt x="7444" y="1272"/>
                </a:lnTo>
                <a:lnTo>
                  <a:pt x="7576" y="1236"/>
                </a:lnTo>
                <a:lnTo>
                  <a:pt x="7708" y="1200"/>
                </a:lnTo>
                <a:lnTo>
                  <a:pt x="7840" y="1165"/>
                </a:lnTo>
                <a:lnTo>
                  <a:pt x="7972" y="1165"/>
                </a:lnTo>
                <a:lnTo>
                  <a:pt x="8104" y="1165"/>
                </a:lnTo>
                <a:lnTo>
                  <a:pt x="8236" y="1165"/>
                </a:lnTo>
                <a:lnTo>
                  <a:pt x="8369" y="1165"/>
                </a:lnTo>
                <a:lnTo>
                  <a:pt x="8501" y="1200"/>
                </a:lnTo>
                <a:lnTo>
                  <a:pt x="8633" y="1236"/>
                </a:lnTo>
                <a:lnTo>
                  <a:pt x="8765" y="1272"/>
                </a:lnTo>
                <a:lnTo>
                  <a:pt x="8897" y="1272"/>
                </a:lnTo>
                <a:lnTo>
                  <a:pt x="9029" y="1272"/>
                </a:lnTo>
                <a:lnTo>
                  <a:pt x="9205" y="1272"/>
                </a:lnTo>
                <a:lnTo>
                  <a:pt x="9382" y="1200"/>
                </a:lnTo>
                <a:lnTo>
                  <a:pt x="9514" y="1165"/>
                </a:lnTo>
                <a:lnTo>
                  <a:pt x="9646" y="1129"/>
                </a:lnTo>
                <a:lnTo>
                  <a:pt x="9822" y="1129"/>
                </a:lnTo>
                <a:lnTo>
                  <a:pt x="9998" y="1165"/>
                </a:lnTo>
                <a:lnTo>
                  <a:pt x="10174" y="1200"/>
                </a:lnTo>
                <a:lnTo>
                  <a:pt x="10306" y="1272"/>
                </a:lnTo>
                <a:lnTo>
                  <a:pt x="10439" y="1307"/>
                </a:lnTo>
                <a:lnTo>
                  <a:pt x="10571" y="1342"/>
                </a:lnTo>
                <a:lnTo>
                  <a:pt x="10704" y="1342"/>
                </a:lnTo>
                <a:lnTo>
                  <a:pt x="10880" y="1272"/>
                </a:lnTo>
                <a:lnTo>
                  <a:pt x="11012" y="1236"/>
                </a:lnTo>
                <a:lnTo>
                  <a:pt x="11144" y="1165"/>
                </a:lnTo>
                <a:lnTo>
                  <a:pt x="11276" y="1129"/>
                </a:lnTo>
                <a:lnTo>
                  <a:pt x="11408" y="1129"/>
                </a:lnTo>
                <a:lnTo>
                  <a:pt x="11585" y="1129"/>
                </a:lnTo>
                <a:lnTo>
                  <a:pt x="11761" y="1129"/>
                </a:lnTo>
                <a:lnTo>
                  <a:pt x="11937" y="1129"/>
                </a:lnTo>
                <a:lnTo>
                  <a:pt x="12069" y="1165"/>
                </a:lnTo>
                <a:lnTo>
                  <a:pt x="12201" y="1165"/>
                </a:lnTo>
                <a:lnTo>
                  <a:pt x="12333" y="1200"/>
                </a:lnTo>
                <a:lnTo>
                  <a:pt x="12466" y="1200"/>
                </a:lnTo>
                <a:lnTo>
                  <a:pt x="12642" y="1200"/>
                </a:lnTo>
                <a:lnTo>
                  <a:pt x="12818" y="1200"/>
                </a:lnTo>
                <a:lnTo>
                  <a:pt x="12950" y="1129"/>
                </a:lnTo>
                <a:lnTo>
                  <a:pt x="13082" y="1094"/>
                </a:lnTo>
                <a:lnTo>
                  <a:pt x="13214" y="1094"/>
                </a:lnTo>
                <a:lnTo>
                  <a:pt x="13346" y="1094"/>
                </a:lnTo>
                <a:lnTo>
                  <a:pt x="13478" y="1094"/>
                </a:lnTo>
                <a:lnTo>
                  <a:pt x="13611" y="1094"/>
                </a:lnTo>
                <a:lnTo>
                  <a:pt x="13743" y="1059"/>
                </a:lnTo>
                <a:lnTo>
                  <a:pt x="13875" y="1024"/>
                </a:lnTo>
                <a:lnTo>
                  <a:pt x="14007" y="988"/>
                </a:lnTo>
                <a:lnTo>
                  <a:pt x="14139" y="918"/>
                </a:lnTo>
                <a:lnTo>
                  <a:pt x="14183" y="812"/>
                </a:lnTo>
                <a:lnTo>
                  <a:pt x="14183" y="706"/>
                </a:lnTo>
                <a:lnTo>
                  <a:pt x="14139" y="600"/>
                </a:lnTo>
                <a:lnTo>
                  <a:pt x="14007" y="494"/>
                </a:lnTo>
                <a:lnTo>
                  <a:pt x="13875" y="494"/>
                </a:lnTo>
                <a:lnTo>
                  <a:pt x="13743" y="459"/>
                </a:lnTo>
                <a:lnTo>
                  <a:pt x="13611" y="459"/>
                </a:lnTo>
                <a:lnTo>
                  <a:pt x="13478" y="424"/>
                </a:lnTo>
                <a:lnTo>
                  <a:pt x="13302" y="352"/>
                </a:lnTo>
                <a:lnTo>
                  <a:pt x="13170" y="317"/>
                </a:lnTo>
                <a:lnTo>
                  <a:pt x="13038" y="246"/>
                </a:lnTo>
                <a:lnTo>
                  <a:pt x="12906" y="211"/>
                </a:lnTo>
                <a:lnTo>
                  <a:pt x="12774" y="176"/>
                </a:lnTo>
                <a:lnTo>
                  <a:pt x="12642" y="211"/>
                </a:lnTo>
                <a:lnTo>
                  <a:pt x="12510" y="211"/>
                </a:lnTo>
                <a:lnTo>
                  <a:pt x="12377" y="211"/>
                </a:lnTo>
                <a:lnTo>
                  <a:pt x="12245" y="211"/>
                </a:lnTo>
                <a:lnTo>
                  <a:pt x="12113" y="211"/>
                </a:lnTo>
                <a:lnTo>
                  <a:pt x="11981" y="211"/>
                </a:lnTo>
                <a:lnTo>
                  <a:pt x="11849" y="211"/>
                </a:lnTo>
                <a:lnTo>
                  <a:pt x="11717" y="246"/>
                </a:lnTo>
                <a:lnTo>
                  <a:pt x="11585" y="246"/>
                </a:lnTo>
                <a:lnTo>
                  <a:pt x="11453" y="211"/>
                </a:lnTo>
                <a:lnTo>
                  <a:pt x="11320" y="211"/>
                </a:lnTo>
                <a:lnTo>
                  <a:pt x="11188" y="176"/>
                </a:lnTo>
                <a:lnTo>
                  <a:pt x="11056" y="176"/>
                </a:lnTo>
                <a:lnTo>
                  <a:pt x="10880" y="211"/>
                </a:lnTo>
                <a:lnTo>
                  <a:pt x="10748" y="246"/>
                </a:lnTo>
                <a:lnTo>
                  <a:pt x="10615" y="246"/>
                </a:lnTo>
                <a:lnTo>
                  <a:pt x="10483" y="246"/>
                </a:lnTo>
                <a:lnTo>
                  <a:pt x="10350" y="282"/>
                </a:lnTo>
                <a:lnTo>
                  <a:pt x="10218" y="282"/>
                </a:lnTo>
                <a:lnTo>
                  <a:pt x="10042" y="282"/>
                </a:lnTo>
                <a:lnTo>
                  <a:pt x="9910" y="282"/>
                </a:lnTo>
                <a:lnTo>
                  <a:pt x="9734" y="282"/>
                </a:lnTo>
                <a:lnTo>
                  <a:pt x="9558" y="211"/>
                </a:lnTo>
                <a:lnTo>
                  <a:pt x="9426" y="211"/>
                </a:lnTo>
                <a:lnTo>
                  <a:pt x="9293" y="211"/>
                </a:lnTo>
                <a:lnTo>
                  <a:pt x="9117" y="211"/>
                </a:lnTo>
                <a:lnTo>
                  <a:pt x="8941" y="211"/>
                </a:lnTo>
                <a:lnTo>
                  <a:pt x="8809" y="246"/>
                </a:lnTo>
                <a:lnTo>
                  <a:pt x="8677" y="282"/>
                </a:lnTo>
                <a:lnTo>
                  <a:pt x="8545" y="246"/>
                </a:lnTo>
                <a:lnTo>
                  <a:pt x="8413" y="246"/>
                </a:lnTo>
                <a:lnTo>
                  <a:pt x="8280" y="211"/>
                </a:lnTo>
                <a:lnTo>
                  <a:pt x="8148" y="211"/>
                </a:lnTo>
                <a:lnTo>
                  <a:pt x="8016" y="211"/>
                </a:lnTo>
                <a:lnTo>
                  <a:pt x="7884" y="211"/>
                </a:lnTo>
                <a:lnTo>
                  <a:pt x="7752" y="211"/>
                </a:lnTo>
                <a:lnTo>
                  <a:pt x="7532" y="176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3069000" y="4414680"/>
            <a:ext cx="684360" cy="1384200"/>
            <a:chOff x="3069000" y="4414680"/>
            <a:chExt cx="684360" cy="1384200"/>
          </a:xfrm>
        </p:grpSpPr>
        <p:sp>
          <p:nvSpPr>
            <p:cNvPr id="862" name=""/>
            <p:cNvSpPr/>
            <p:nvPr/>
          </p:nvSpPr>
          <p:spPr>
            <a:xfrm>
              <a:off x="3121200" y="4414680"/>
              <a:ext cx="632160" cy="1159200"/>
            </a:xfrm>
            <a:custGeom>
              <a:avLst/>
              <a:gdLst/>
              <a:ahLst/>
              <a:rect l="0" t="0" r="r" b="b"/>
              <a:pathLst>
                <a:path w="1756" h="3220">
                  <a:moveTo>
                    <a:pt x="1592" y="0"/>
                  </a:moveTo>
                  <a:lnTo>
                    <a:pt x="1729" y="127"/>
                  </a:lnTo>
                  <a:lnTo>
                    <a:pt x="1756" y="454"/>
                  </a:lnTo>
                  <a:lnTo>
                    <a:pt x="1407" y="1309"/>
                  </a:lnTo>
                  <a:lnTo>
                    <a:pt x="784" y="3220"/>
                  </a:lnTo>
                  <a:lnTo>
                    <a:pt x="0" y="2933"/>
                  </a:lnTo>
                  <a:lnTo>
                    <a:pt x="630" y="1318"/>
                  </a:lnTo>
                  <a:lnTo>
                    <a:pt x="1240" y="185"/>
                  </a:lnTo>
                  <a:lnTo>
                    <a:pt x="1592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069000" y="5513040"/>
              <a:ext cx="304560" cy="285840"/>
            </a:xfrm>
            <a:custGeom>
              <a:avLst/>
              <a:gdLst/>
              <a:ahLst/>
              <a:rect l="0" t="0" r="r" b="b"/>
              <a:pathLst>
                <a:path w="846" h="794">
                  <a:moveTo>
                    <a:pt x="5" y="331"/>
                  </a:moveTo>
                  <a:lnTo>
                    <a:pt x="5" y="331"/>
                  </a:lnTo>
                  <a:cubicBezTo>
                    <a:pt x="-6" y="400"/>
                    <a:pt x="3" y="471"/>
                    <a:pt x="30" y="536"/>
                  </a:cubicBezTo>
                  <a:cubicBezTo>
                    <a:pt x="57" y="601"/>
                    <a:pt x="102" y="659"/>
                    <a:pt x="161" y="704"/>
                  </a:cubicBezTo>
                  <a:cubicBezTo>
                    <a:pt x="219" y="748"/>
                    <a:pt x="288" y="778"/>
                    <a:pt x="361" y="789"/>
                  </a:cubicBezTo>
                  <a:cubicBezTo>
                    <a:pt x="435" y="801"/>
                    <a:pt x="510" y="794"/>
                    <a:pt x="579" y="770"/>
                  </a:cubicBezTo>
                  <a:cubicBezTo>
                    <a:pt x="648" y="746"/>
                    <a:pt x="709" y="705"/>
                    <a:pt x="755" y="651"/>
                  </a:cubicBezTo>
                  <a:cubicBezTo>
                    <a:pt x="801" y="597"/>
                    <a:pt x="831" y="533"/>
                    <a:pt x="842" y="464"/>
                  </a:cubicBezTo>
                  <a:lnTo>
                    <a:pt x="842" y="464"/>
                  </a:lnTo>
                  <a:lnTo>
                    <a:pt x="842" y="464"/>
                  </a:lnTo>
                  <a:cubicBezTo>
                    <a:pt x="853" y="395"/>
                    <a:pt x="844" y="324"/>
                    <a:pt x="817" y="259"/>
                  </a:cubicBezTo>
                  <a:cubicBezTo>
                    <a:pt x="790" y="194"/>
                    <a:pt x="745" y="136"/>
                    <a:pt x="686" y="91"/>
                  </a:cubicBezTo>
                  <a:cubicBezTo>
                    <a:pt x="628" y="47"/>
                    <a:pt x="559" y="17"/>
                    <a:pt x="486" y="6"/>
                  </a:cubicBezTo>
                  <a:cubicBezTo>
                    <a:pt x="412" y="-6"/>
                    <a:pt x="337" y="1"/>
                    <a:pt x="268" y="25"/>
                  </a:cubicBezTo>
                  <a:cubicBezTo>
                    <a:pt x="199" y="49"/>
                    <a:pt x="138" y="90"/>
                    <a:pt x="92" y="144"/>
                  </a:cubicBezTo>
                  <a:cubicBezTo>
                    <a:pt x="46" y="198"/>
                    <a:pt x="16" y="262"/>
                    <a:pt x="5" y="331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4267080" y="4102200"/>
            <a:ext cx="1514880" cy="2213280"/>
            <a:chOff x="4267080" y="4102200"/>
            <a:chExt cx="1514880" cy="2213280"/>
          </a:xfrm>
        </p:grpSpPr>
        <p:sp>
          <p:nvSpPr>
            <p:cNvPr id="865" name=""/>
            <p:cNvSpPr/>
            <p:nvPr/>
          </p:nvSpPr>
          <p:spPr>
            <a:xfrm>
              <a:off x="4648320" y="4448160"/>
              <a:ext cx="657720" cy="1724400"/>
            </a:xfrm>
            <a:custGeom>
              <a:avLst/>
              <a:gdLst/>
              <a:ahLst/>
              <a:rect l="0" t="0" r="r" b="b"/>
              <a:pathLst>
                <a:path w="1827" h="4790">
                  <a:moveTo>
                    <a:pt x="0" y="0"/>
                  </a:moveTo>
                  <a:lnTo>
                    <a:pt x="317" y="4790"/>
                  </a:lnTo>
                  <a:lnTo>
                    <a:pt x="1032" y="4790"/>
                  </a:lnTo>
                  <a:lnTo>
                    <a:pt x="927" y="1297"/>
                  </a:lnTo>
                  <a:lnTo>
                    <a:pt x="1032" y="4790"/>
                  </a:lnTo>
                  <a:lnTo>
                    <a:pt x="1827" y="4790"/>
                  </a:lnTo>
                  <a:lnTo>
                    <a:pt x="174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26708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1376" y="185"/>
                  </a:moveTo>
                  <a:lnTo>
                    <a:pt x="978" y="52"/>
                  </a:lnTo>
                  <a:lnTo>
                    <a:pt x="714" y="0"/>
                  </a:lnTo>
                  <a:lnTo>
                    <a:pt x="423" y="105"/>
                  </a:lnTo>
                  <a:lnTo>
                    <a:pt x="132" y="264"/>
                  </a:lnTo>
                  <a:lnTo>
                    <a:pt x="0" y="477"/>
                  </a:lnTo>
                  <a:lnTo>
                    <a:pt x="185" y="583"/>
                  </a:lnTo>
                  <a:lnTo>
                    <a:pt x="2091" y="583"/>
                  </a:lnTo>
                  <a:lnTo>
                    <a:pt x="2091" y="185"/>
                  </a:lnTo>
                  <a:lnTo>
                    <a:pt x="1376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02920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714" y="185"/>
                  </a:moveTo>
                  <a:lnTo>
                    <a:pt x="1112" y="52"/>
                  </a:lnTo>
                  <a:lnTo>
                    <a:pt x="1376" y="0"/>
                  </a:lnTo>
                  <a:lnTo>
                    <a:pt x="1667" y="105"/>
                  </a:lnTo>
                  <a:lnTo>
                    <a:pt x="1958" y="264"/>
                  </a:lnTo>
                  <a:lnTo>
                    <a:pt x="2091" y="477"/>
                  </a:lnTo>
                  <a:lnTo>
                    <a:pt x="1906" y="583"/>
                  </a:lnTo>
                  <a:lnTo>
                    <a:pt x="0" y="583"/>
                  </a:lnTo>
                  <a:lnTo>
                    <a:pt x="0" y="185"/>
                  </a:lnTo>
                  <a:lnTo>
                    <a:pt x="714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003640" y="4102200"/>
              <a:ext cx="279720" cy="457560"/>
            </a:xfrm>
            <a:custGeom>
              <a:avLst/>
              <a:gdLst/>
              <a:ahLst/>
              <a:rect l="0" t="0" r="r" b="b"/>
              <a:pathLst>
                <a:path w="777" h="1271">
                  <a:moveTo>
                    <a:pt x="777" y="953"/>
                  </a:moveTo>
                  <a:lnTo>
                    <a:pt x="530" y="211"/>
                  </a:lnTo>
                  <a:lnTo>
                    <a:pt x="105" y="0"/>
                  </a:lnTo>
                  <a:lnTo>
                    <a:pt x="0" y="918"/>
                  </a:lnTo>
                  <a:lnTo>
                    <a:pt x="0" y="1271"/>
                  </a:lnTo>
                  <a:lnTo>
                    <a:pt x="565" y="1129"/>
                  </a:lnTo>
                  <a:lnTo>
                    <a:pt x="777" y="9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016600" y="4127400"/>
              <a:ext cx="254520" cy="317880"/>
            </a:xfrm>
            <a:custGeom>
              <a:avLst/>
              <a:gdLst/>
              <a:ahLst/>
              <a:rect l="0" t="0" r="r" b="b"/>
              <a:pathLst>
                <a:path fill="none" w="707" h="883">
                  <a:moveTo>
                    <a:pt x="707" y="883"/>
                  </a:moveTo>
                  <a:lnTo>
                    <a:pt x="601" y="424"/>
                  </a:lnTo>
                  <a:lnTo>
                    <a:pt x="212" y="105"/>
                  </a:lnTo>
                  <a:lnTo>
                    <a:pt x="70" y="0"/>
                  </a:lnTo>
                  <a:lnTo>
                    <a:pt x="0" y="494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3417840" y="3946680"/>
            <a:ext cx="1667160" cy="1043280"/>
          </a:xfrm>
          <a:custGeom>
            <a:avLst/>
            <a:gdLst/>
            <a:ahLst/>
            <a:rect l="0" t="0" r="r" b="b"/>
            <a:pathLst>
              <a:path w="4631" h="2898">
                <a:moveTo>
                  <a:pt x="277" y="1133"/>
                </a:moveTo>
                <a:lnTo>
                  <a:pt x="277" y="1225"/>
                </a:lnTo>
                <a:lnTo>
                  <a:pt x="304" y="1296"/>
                </a:lnTo>
                <a:lnTo>
                  <a:pt x="423" y="1456"/>
                </a:lnTo>
                <a:lnTo>
                  <a:pt x="533" y="1614"/>
                </a:lnTo>
                <a:lnTo>
                  <a:pt x="626" y="1786"/>
                </a:lnTo>
                <a:lnTo>
                  <a:pt x="661" y="1817"/>
                </a:lnTo>
                <a:lnTo>
                  <a:pt x="696" y="1844"/>
                </a:lnTo>
                <a:lnTo>
                  <a:pt x="696" y="1844"/>
                </a:lnTo>
                <a:lnTo>
                  <a:pt x="701" y="1822"/>
                </a:lnTo>
                <a:lnTo>
                  <a:pt x="1261" y="2166"/>
                </a:lnTo>
                <a:lnTo>
                  <a:pt x="3960" y="2898"/>
                </a:lnTo>
                <a:lnTo>
                  <a:pt x="4631" y="242"/>
                </a:lnTo>
                <a:lnTo>
                  <a:pt x="1997" y="101"/>
                </a:lnTo>
                <a:lnTo>
                  <a:pt x="560" y="0"/>
                </a:lnTo>
                <a:lnTo>
                  <a:pt x="0" y="635"/>
                </a:lnTo>
                <a:lnTo>
                  <a:pt x="277" y="1133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3540600" y="4286160"/>
            <a:ext cx="350640" cy="1468800"/>
            <a:chOff x="3540600" y="4286160"/>
            <a:chExt cx="350640" cy="1468800"/>
          </a:xfrm>
        </p:grpSpPr>
        <p:sp>
          <p:nvSpPr>
            <p:cNvPr id="872" name=""/>
            <p:cNvSpPr/>
            <p:nvPr/>
          </p:nvSpPr>
          <p:spPr>
            <a:xfrm>
              <a:off x="3560760" y="4286160"/>
              <a:ext cx="330480" cy="1198800"/>
            </a:xfrm>
            <a:custGeom>
              <a:avLst/>
              <a:gdLst/>
              <a:ahLst/>
              <a:rect l="0" t="0" r="r" b="b"/>
              <a:pathLst>
                <a:path w="918" h="3330">
                  <a:moveTo>
                    <a:pt x="587" y="0"/>
                  </a:moveTo>
                  <a:lnTo>
                    <a:pt x="405" y="61"/>
                  </a:lnTo>
                  <a:lnTo>
                    <a:pt x="246" y="348"/>
                  </a:lnTo>
                  <a:lnTo>
                    <a:pt x="211" y="1274"/>
                  </a:lnTo>
                  <a:lnTo>
                    <a:pt x="0" y="3268"/>
                  </a:lnTo>
                  <a:lnTo>
                    <a:pt x="830" y="3330"/>
                  </a:lnTo>
                  <a:lnTo>
                    <a:pt x="918" y="1600"/>
                  </a:lnTo>
                  <a:lnTo>
                    <a:pt x="834" y="313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540600" y="5465160"/>
              <a:ext cx="305640" cy="289800"/>
            </a:xfrm>
            <a:custGeom>
              <a:avLst/>
              <a:gdLst/>
              <a:ahLst/>
              <a:rect l="0" t="0" r="r" b="b"/>
              <a:pathLst>
                <a:path w="849" h="805">
                  <a:moveTo>
                    <a:pt x="13" y="291"/>
                  </a:moveTo>
                  <a:lnTo>
                    <a:pt x="13" y="291"/>
                  </a:lnTo>
                  <a:lnTo>
                    <a:pt x="13" y="292"/>
                  </a:lnTo>
                  <a:cubicBezTo>
                    <a:pt x="-6" y="360"/>
                    <a:pt x="-4" y="432"/>
                    <a:pt x="16" y="500"/>
                  </a:cubicBezTo>
                  <a:cubicBezTo>
                    <a:pt x="36" y="569"/>
                    <a:pt x="75" y="631"/>
                    <a:pt x="129" y="682"/>
                  </a:cubicBezTo>
                  <a:cubicBezTo>
                    <a:pt x="182" y="733"/>
                    <a:pt x="249" y="770"/>
                    <a:pt x="321" y="789"/>
                  </a:cubicBezTo>
                  <a:cubicBezTo>
                    <a:pt x="393" y="809"/>
                    <a:pt x="469" y="810"/>
                    <a:pt x="541" y="793"/>
                  </a:cubicBezTo>
                  <a:cubicBezTo>
                    <a:pt x="612" y="775"/>
                    <a:pt x="677" y="741"/>
                    <a:pt x="729" y="691"/>
                  </a:cubicBezTo>
                  <a:cubicBezTo>
                    <a:pt x="781" y="643"/>
                    <a:pt x="818" y="582"/>
                    <a:pt x="836" y="514"/>
                  </a:cubicBezTo>
                  <a:lnTo>
                    <a:pt x="836" y="514"/>
                  </a:lnTo>
                  <a:lnTo>
                    <a:pt x="836" y="513"/>
                  </a:lnTo>
                  <a:cubicBezTo>
                    <a:pt x="855" y="445"/>
                    <a:pt x="853" y="373"/>
                    <a:pt x="833" y="305"/>
                  </a:cubicBezTo>
                  <a:cubicBezTo>
                    <a:pt x="813" y="236"/>
                    <a:pt x="774" y="174"/>
                    <a:pt x="720" y="123"/>
                  </a:cubicBezTo>
                  <a:cubicBezTo>
                    <a:pt x="667" y="72"/>
                    <a:pt x="600" y="35"/>
                    <a:pt x="528" y="16"/>
                  </a:cubicBezTo>
                  <a:cubicBezTo>
                    <a:pt x="456" y="-4"/>
                    <a:pt x="380" y="-5"/>
                    <a:pt x="308" y="12"/>
                  </a:cubicBezTo>
                  <a:cubicBezTo>
                    <a:pt x="237" y="30"/>
                    <a:pt x="172" y="64"/>
                    <a:pt x="120" y="114"/>
                  </a:cubicBezTo>
                  <a:cubicBezTo>
                    <a:pt x="68" y="162"/>
                    <a:pt x="31" y="223"/>
                    <a:pt x="13" y="291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3433680" y="4083120"/>
            <a:ext cx="176400" cy="317880"/>
          </a:xfrm>
          <a:custGeom>
            <a:avLst/>
            <a:gdLst/>
            <a:ahLst/>
            <a:rect l="0" t="0" r="r" b="b"/>
            <a:pathLst>
              <a:path w="490" h="883">
                <a:moveTo>
                  <a:pt x="198" y="883"/>
                </a:moveTo>
                <a:lnTo>
                  <a:pt x="375" y="681"/>
                </a:lnTo>
                <a:lnTo>
                  <a:pt x="490" y="269"/>
                </a:lnTo>
                <a:lnTo>
                  <a:pt x="296" y="39"/>
                </a:lnTo>
                <a:lnTo>
                  <a:pt x="114" y="0"/>
                </a:lnTo>
                <a:lnTo>
                  <a:pt x="0" y="163"/>
                </a:lnTo>
                <a:lnTo>
                  <a:pt x="220" y="402"/>
                </a:lnTo>
                <a:lnTo>
                  <a:pt x="185" y="694"/>
                </a:lnTo>
                <a:lnTo>
                  <a:pt x="198" y="883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1522440" y="3341520"/>
            <a:ext cx="2027520" cy="1259280"/>
            <a:chOff x="1522440" y="3341520"/>
            <a:chExt cx="2027520" cy="1259280"/>
          </a:xfrm>
        </p:grpSpPr>
        <p:sp>
          <p:nvSpPr>
            <p:cNvPr id="876" name=""/>
            <p:cNvSpPr/>
            <p:nvPr/>
          </p:nvSpPr>
          <p:spPr>
            <a:xfrm>
              <a:off x="1952640" y="3538440"/>
              <a:ext cx="1597320" cy="1062360"/>
            </a:xfrm>
            <a:custGeom>
              <a:avLst/>
              <a:gdLst/>
              <a:ahLst/>
              <a:rect l="0" t="0" r="r" b="b"/>
              <a:pathLst>
                <a:path w="4437" h="2951">
                  <a:moveTo>
                    <a:pt x="0" y="1694"/>
                  </a:moveTo>
                  <a:lnTo>
                    <a:pt x="189" y="2060"/>
                  </a:lnTo>
                  <a:lnTo>
                    <a:pt x="564" y="2329"/>
                  </a:lnTo>
                  <a:lnTo>
                    <a:pt x="1071" y="2492"/>
                  </a:lnTo>
                  <a:lnTo>
                    <a:pt x="2518" y="2827"/>
                  </a:lnTo>
                  <a:lnTo>
                    <a:pt x="3356" y="2951"/>
                  </a:lnTo>
                  <a:lnTo>
                    <a:pt x="3568" y="2210"/>
                  </a:lnTo>
                  <a:lnTo>
                    <a:pt x="4053" y="2205"/>
                  </a:lnTo>
                  <a:lnTo>
                    <a:pt x="4388" y="2170"/>
                  </a:lnTo>
                  <a:lnTo>
                    <a:pt x="4437" y="1936"/>
                  </a:lnTo>
                  <a:lnTo>
                    <a:pt x="4181" y="1747"/>
                  </a:lnTo>
                  <a:lnTo>
                    <a:pt x="3674" y="1720"/>
                  </a:lnTo>
                  <a:lnTo>
                    <a:pt x="3744" y="1001"/>
                  </a:lnTo>
                  <a:lnTo>
                    <a:pt x="3255" y="873"/>
                  </a:lnTo>
                  <a:lnTo>
                    <a:pt x="3365" y="732"/>
                  </a:lnTo>
                  <a:lnTo>
                    <a:pt x="3347" y="568"/>
                  </a:lnTo>
                  <a:lnTo>
                    <a:pt x="2955" y="374"/>
                  </a:lnTo>
                  <a:lnTo>
                    <a:pt x="2721" y="463"/>
                  </a:lnTo>
                  <a:lnTo>
                    <a:pt x="2717" y="621"/>
                  </a:lnTo>
                  <a:lnTo>
                    <a:pt x="546" y="0"/>
                  </a:lnTo>
                  <a:lnTo>
                    <a:pt x="0" y="169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522440" y="3341520"/>
              <a:ext cx="843480" cy="1213200"/>
            </a:xfrm>
            <a:custGeom>
              <a:avLst/>
              <a:gdLst/>
              <a:ahLst/>
              <a:rect l="0" t="0" r="r" b="b"/>
              <a:pathLst>
                <a:path w="2343" h="3370">
                  <a:moveTo>
                    <a:pt x="1504" y="3370"/>
                  </a:moveTo>
                  <a:lnTo>
                    <a:pt x="2343" y="449"/>
                  </a:lnTo>
                  <a:lnTo>
                    <a:pt x="741" y="0"/>
                  </a:lnTo>
                  <a:lnTo>
                    <a:pt x="0" y="2801"/>
                  </a:lnTo>
                  <a:lnTo>
                    <a:pt x="1504" y="33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357280" y="4189320"/>
              <a:ext cx="411480" cy="411480"/>
            </a:xfrm>
            <a:custGeom>
              <a:avLst/>
              <a:gdLst/>
              <a:ahLst/>
              <a:rect l="0" t="0" r="r" b="b"/>
              <a:pathLst>
                <a:path w="1143" h="1143">
                  <a:moveTo>
                    <a:pt x="452" y="1131"/>
                  </a:moveTo>
                  <a:lnTo>
                    <a:pt x="452" y="1131"/>
                  </a:lnTo>
                  <a:lnTo>
                    <a:pt x="453" y="1131"/>
                  </a:lnTo>
                  <a:cubicBezTo>
                    <a:pt x="551" y="1152"/>
                    <a:pt x="653" y="1147"/>
                    <a:pt x="748" y="1116"/>
                  </a:cubicBezTo>
                  <a:cubicBezTo>
                    <a:pt x="844" y="1085"/>
                    <a:pt x="929" y="1029"/>
                    <a:pt x="996" y="954"/>
                  </a:cubicBezTo>
                  <a:cubicBezTo>
                    <a:pt x="1063" y="880"/>
                    <a:pt x="1110" y="789"/>
                    <a:pt x="1131" y="691"/>
                  </a:cubicBezTo>
                  <a:cubicBezTo>
                    <a:pt x="1151" y="593"/>
                    <a:pt x="1146" y="491"/>
                    <a:pt x="1115" y="395"/>
                  </a:cubicBezTo>
                  <a:cubicBezTo>
                    <a:pt x="1084" y="300"/>
                    <a:pt x="1028" y="214"/>
                    <a:pt x="954" y="147"/>
                  </a:cubicBezTo>
                  <a:cubicBezTo>
                    <a:pt x="879" y="80"/>
                    <a:pt x="789" y="34"/>
                    <a:pt x="691" y="13"/>
                  </a:cubicBezTo>
                  <a:lnTo>
                    <a:pt x="691" y="13"/>
                  </a:lnTo>
                  <a:lnTo>
                    <a:pt x="690" y="13"/>
                  </a:lnTo>
                  <a:cubicBezTo>
                    <a:pt x="592" y="-8"/>
                    <a:pt x="490" y="-3"/>
                    <a:pt x="395" y="28"/>
                  </a:cubicBezTo>
                  <a:cubicBezTo>
                    <a:pt x="299" y="59"/>
                    <a:pt x="214" y="115"/>
                    <a:pt x="147" y="190"/>
                  </a:cubicBezTo>
                  <a:cubicBezTo>
                    <a:pt x="80" y="264"/>
                    <a:pt x="33" y="355"/>
                    <a:pt x="12" y="453"/>
                  </a:cubicBezTo>
                  <a:cubicBezTo>
                    <a:pt x="-8" y="551"/>
                    <a:pt x="-3" y="653"/>
                    <a:pt x="28" y="749"/>
                  </a:cubicBezTo>
                  <a:cubicBezTo>
                    <a:pt x="59" y="844"/>
                    <a:pt x="115" y="930"/>
                    <a:pt x="189" y="997"/>
                  </a:cubicBezTo>
                  <a:cubicBezTo>
                    <a:pt x="264" y="1064"/>
                    <a:pt x="354" y="1110"/>
                    <a:pt x="452" y="1131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397600" y="3769560"/>
              <a:ext cx="486000" cy="488160"/>
            </a:xfrm>
            <a:custGeom>
              <a:avLst/>
              <a:gdLst/>
              <a:ahLst/>
              <a:rect l="0" t="0" r="r" b="b"/>
              <a:pathLst>
                <a:path w="1350" h="1356">
                  <a:moveTo>
                    <a:pt x="534" y="1341"/>
                  </a:moveTo>
                  <a:lnTo>
                    <a:pt x="534" y="1341"/>
                  </a:lnTo>
                  <a:cubicBezTo>
                    <a:pt x="650" y="1366"/>
                    <a:pt x="771" y="1359"/>
                    <a:pt x="883" y="1322"/>
                  </a:cubicBezTo>
                  <a:cubicBezTo>
                    <a:pt x="996" y="1286"/>
                    <a:pt x="1097" y="1220"/>
                    <a:pt x="1177" y="1131"/>
                  </a:cubicBezTo>
                  <a:cubicBezTo>
                    <a:pt x="1256" y="1043"/>
                    <a:pt x="1311" y="935"/>
                    <a:pt x="1335" y="818"/>
                  </a:cubicBezTo>
                  <a:cubicBezTo>
                    <a:pt x="1360" y="702"/>
                    <a:pt x="1354" y="581"/>
                    <a:pt x="1317" y="468"/>
                  </a:cubicBezTo>
                  <a:cubicBezTo>
                    <a:pt x="1281" y="355"/>
                    <a:pt x="1215" y="254"/>
                    <a:pt x="1127" y="174"/>
                  </a:cubicBezTo>
                  <a:cubicBezTo>
                    <a:pt x="1039" y="95"/>
                    <a:pt x="932" y="40"/>
                    <a:pt x="816" y="15"/>
                  </a:cubicBezTo>
                  <a:lnTo>
                    <a:pt x="816" y="15"/>
                  </a:lnTo>
                  <a:lnTo>
                    <a:pt x="816" y="15"/>
                  </a:lnTo>
                  <a:cubicBezTo>
                    <a:pt x="700" y="-10"/>
                    <a:pt x="579" y="-3"/>
                    <a:pt x="467" y="34"/>
                  </a:cubicBezTo>
                  <a:cubicBezTo>
                    <a:pt x="354" y="70"/>
                    <a:pt x="253" y="136"/>
                    <a:pt x="173" y="225"/>
                  </a:cubicBezTo>
                  <a:cubicBezTo>
                    <a:pt x="94" y="313"/>
                    <a:pt x="39" y="421"/>
                    <a:pt x="15" y="538"/>
                  </a:cubicBezTo>
                  <a:cubicBezTo>
                    <a:pt x="-10" y="654"/>
                    <a:pt x="-4" y="775"/>
                    <a:pt x="33" y="888"/>
                  </a:cubicBezTo>
                  <a:cubicBezTo>
                    <a:pt x="69" y="1001"/>
                    <a:pt x="135" y="1102"/>
                    <a:pt x="223" y="1182"/>
                  </a:cubicBezTo>
                  <a:cubicBezTo>
                    <a:pt x="311" y="1261"/>
                    <a:pt x="418" y="1316"/>
                    <a:pt x="534" y="1341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583720" y="4120200"/>
              <a:ext cx="87480" cy="86040"/>
            </a:xfrm>
            <a:custGeom>
              <a:avLst/>
              <a:gdLst/>
              <a:ahLst/>
              <a:rect l="0" t="0" r="r" b="b"/>
              <a:pathLst>
                <a:path w="243" h="239">
                  <a:moveTo>
                    <a:pt x="96" y="236"/>
                  </a:moveTo>
                  <a:lnTo>
                    <a:pt x="96" y="236"/>
                  </a:lnTo>
                  <a:cubicBezTo>
                    <a:pt x="117" y="240"/>
                    <a:pt x="139" y="239"/>
                    <a:pt x="159" y="233"/>
                  </a:cubicBezTo>
                  <a:cubicBezTo>
                    <a:pt x="179" y="226"/>
                    <a:pt x="197" y="215"/>
                    <a:pt x="212" y="199"/>
                  </a:cubicBezTo>
                  <a:cubicBezTo>
                    <a:pt x="226" y="184"/>
                    <a:pt x="236" y="165"/>
                    <a:pt x="240" y="144"/>
                  </a:cubicBezTo>
                  <a:cubicBezTo>
                    <a:pt x="244" y="124"/>
                    <a:pt x="243" y="102"/>
                    <a:pt x="236" y="82"/>
                  </a:cubicBezTo>
                  <a:cubicBezTo>
                    <a:pt x="230" y="62"/>
                    <a:pt x="218" y="44"/>
                    <a:pt x="202" y="30"/>
                  </a:cubicBezTo>
                  <a:cubicBezTo>
                    <a:pt x="186" y="16"/>
                    <a:pt x="167" y="6"/>
                    <a:pt x="146" y="2"/>
                  </a:cubicBezTo>
                  <a:lnTo>
                    <a:pt x="146" y="2"/>
                  </a:lnTo>
                  <a:lnTo>
                    <a:pt x="146" y="2"/>
                  </a:lnTo>
                  <a:cubicBezTo>
                    <a:pt x="125" y="-2"/>
                    <a:pt x="103" y="-1"/>
                    <a:pt x="83" y="5"/>
                  </a:cubicBezTo>
                  <a:cubicBezTo>
                    <a:pt x="63" y="12"/>
                    <a:pt x="45" y="23"/>
                    <a:pt x="30" y="39"/>
                  </a:cubicBezTo>
                  <a:cubicBezTo>
                    <a:pt x="16" y="54"/>
                    <a:pt x="6" y="73"/>
                    <a:pt x="2" y="94"/>
                  </a:cubicBezTo>
                  <a:cubicBezTo>
                    <a:pt x="-2" y="114"/>
                    <a:pt x="-1" y="136"/>
                    <a:pt x="6" y="156"/>
                  </a:cubicBezTo>
                  <a:cubicBezTo>
                    <a:pt x="12" y="176"/>
                    <a:pt x="24" y="194"/>
                    <a:pt x="40" y="208"/>
                  </a:cubicBezTo>
                  <a:cubicBezTo>
                    <a:pt x="56" y="222"/>
                    <a:pt x="75" y="231"/>
                    <a:pt x="96" y="236"/>
                  </a:cubicBez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509920" y="4483080"/>
              <a:ext cx="86040" cy="86040"/>
            </a:xfrm>
            <a:custGeom>
              <a:avLst/>
              <a:gdLst/>
              <a:ahLst/>
              <a:rect l="0" t="0" r="r" b="b"/>
              <a:pathLst>
                <a:path w="239" h="239">
                  <a:moveTo>
                    <a:pt x="94" y="236"/>
                  </a:moveTo>
                  <a:lnTo>
                    <a:pt x="94" y="236"/>
                  </a:lnTo>
                  <a:cubicBezTo>
                    <a:pt x="115" y="240"/>
                    <a:pt x="136" y="239"/>
                    <a:pt x="156" y="233"/>
                  </a:cubicBezTo>
                  <a:cubicBezTo>
                    <a:pt x="176" y="226"/>
                    <a:pt x="194" y="215"/>
                    <a:pt x="208" y="199"/>
                  </a:cubicBezTo>
                  <a:cubicBezTo>
                    <a:pt x="222" y="183"/>
                    <a:pt x="232" y="164"/>
                    <a:pt x="236" y="144"/>
                  </a:cubicBezTo>
                  <a:cubicBezTo>
                    <a:pt x="240" y="123"/>
                    <a:pt x="239" y="102"/>
                    <a:pt x="233" y="82"/>
                  </a:cubicBezTo>
                  <a:cubicBezTo>
                    <a:pt x="226" y="62"/>
                    <a:pt x="215" y="44"/>
                    <a:pt x="199" y="30"/>
                  </a:cubicBezTo>
                  <a:cubicBezTo>
                    <a:pt x="183" y="16"/>
                    <a:pt x="164" y="6"/>
                    <a:pt x="144" y="2"/>
                  </a:cubicBezTo>
                  <a:lnTo>
                    <a:pt x="144" y="2"/>
                  </a:lnTo>
                  <a:lnTo>
                    <a:pt x="144" y="2"/>
                  </a:lnTo>
                  <a:cubicBezTo>
                    <a:pt x="123" y="-2"/>
                    <a:pt x="102" y="-1"/>
                    <a:pt x="82" y="5"/>
                  </a:cubicBezTo>
                  <a:cubicBezTo>
                    <a:pt x="62" y="12"/>
                    <a:pt x="44" y="23"/>
                    <a:pt x="30" y="39"/>
                  </a:cubicBezTo>
                  <a:cubicBezTo>
                    <a:pt x="16" y="55"/>
                    <a:pt x="6" y="74"/>
                    <a:pt x="2" y="94"/>
                  </a:cubicBezTo>
                  <a:cubicBezTo>
                    <a:pt x="-2" y="115"/>
                    <a:pt x="-1" y="136"/>
                    <a:pt x="5" y="156"/>
                  </a:cubicBezTo>
                  <a:cubicBezTo>
                    <a:pt x="12" y="176"/>
                    <a:pt x="23" y="194"/>
                    <a:pt x="39" y="208"/>
                  </a:cubicBezTo>
                  <a:cubicBezTo>
                    <a:pt x="55" y="222"/>
                    <a:pt x="74" y="232"/>
                    <a:pt x="94" y="236"/>
                  </a:cubicBez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2163600" y="3613320"/>
              <a:ext cx="203400" cy="77436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832120" y="3954600"/>
              <a:ext cx="308160" cy="632160"/>
            </a:xfrm>
            <a:custGeom>
              <a:avLst/>
              <a:gdLst/>
              <a:ahLst/>
              <a:rect l="0" t="0" r="r" b="b"/>
              <a:pathLst>
                <a:path w="856" h="1756">
                  <a:moveTo>
                    <a:pt x="0" y="1756"/>
                  </a:moveTo>
                  <a:lnTo>
                    <a:pt x="543" y="0"/>
                  </a:lnTo>
                  <a:lnTo>
                    <a:pt x="856" y="1173"/>
                  </a:lnTo>
                  <a:lnTo>
                    <a:pt x="0" y="175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2073240" y="3583080"/>
              <a:ext cx="263880" cy="740160"/>
              <a:chOff x="2073240" y="3583080"/>
              <a:chExt cx="263880" cy="740160"/>
            </a:xfrm>
          </p:grpSpPr>
          <p:grpSp>
            <p:nvGrpSpPr>
              <p:cNvPr id="885" name=""/>
              <p:cNvGrpSpPr/>
              <p:nvPr/>
            </p:nvGrpSpPr>
            <p:grpSpPr>
              <a:xfrm>
                <a:off x="2073240" y="3645000"/>
                <a:ext cx="224280" cy="678240"/>
                <a:chOff x="2073240" y="3645000"/>
                <a:chExt cx="224280" cy="678240"/>
              </a:xfrm>
            </p:grpSpPr>
            <p:sp>
              <p:nvSpPr>
                <p:cNvPr id="886" name=""/>
                <p:cNvSpPr/>
                <p:nvPr/>
              </p:nvSpPr>
              <p:spPr>
                <a:xfrm>
                  <a:off x="2073240" y="3645000"/>
                  <a:ext cx="224280" cy="678240"/>
                </a:xfrm>
                <a:custGeom>
                  <a:avLst/>
                  <a:gdLst/>
                  <a:ahLst/>
                  <a:rect l="0" t="0" r="r" b="b"/>
                  <a:pathLst>
                    <a:path w="623" h="1884">
                      <a:moveTo>
                        <a:pt x="13" y="1244"/>
                      </a:moveTo>
                      <a:lnTo>
                        <a:pt x="17" y="1187"/>
                      </a:lnTo>
                      <a:lnTo>
                        <a:pt x="26" y="1125"/>
                      </a:lnTo>
                      <a:lnTo>
                        <a:pt x="39" y="1054"/>
                      </a:lnTo>
                      <a:lnTo>
                        <a:pt x="52" y="975"/>
                      </a:lnTo>
                      <a:lnTo>
                        <a:pt x="66" y="909"/>
                      </a:lnTo>
                      <a:lnTo>
                        <a:pt x="83" y="834"/>
                      </a:lnTo>
                      <a:lnTo>
                        <a:pt x="110" y="733"/>
                      </a:lnTo>
                      <a:lnTo>
                        <a:pt x="145" y="609"/>
                      </a:lnTo>
                      <a:lnTo>
                        <a:pt x="177" y="512"/>
                      </a:lnTo>
                      <a:lnTo>
                        <a:pt x="212" y="427"/>
                      </a:lnTo>
                      <a:lnTo>
                        <a:pt x="230" y="388"/>
                      </a:lnTo>
                      <a:lnTo>
                        <a:pt x="247" y="352"/>
                      </a:lnTo>
                      <a:lnTo>
                        <a:pt x="274" y="304"/>
                      </a:lnTo>
                      <a:lnTo>
                        <a:pt x="287" y="286"/>
                      </a:lnTo>
                      <a:lnTo>
                        <a:pt x="300" y="260"/>
                      </a:lnTo>
                      <a:lnTo>
                        <a:pt x="314" y="220"/>
                      </a:lnTo>
                      <a:lnTo>
                        <a:pt x="327" y="176"/>
                      </a:lnTo>
                      <a:lnTo>
                        <a:pt x="344" y="136"/>
                      </a:lnTo>
                      <a:lnTo>
                        <a:pt x="362" y="101"/>
                      </a:lnTo>
                      <a:lnTo>
                        <a:pt x="375" y="83"/>
                      </a:lnTo>
                      <a:lnTo>
                        <a:pt x="402" y="66"/>
                      </a:lnTo>
                      <a:lnTo>
                        <a:pt x="437" y="39"/>
                      </a:lnTo>
                      <a:lnTo>
                        <a:pt x="473" y="26"/>
                      </a:lnTo>
                      <a:lnTo>
                        <a:pt x="504" y="8"/>
                      </a:lnTo>
                      <a:lnTo>
                        <a:pt x="522" y="0"/>
                      </a:lnTo>
                      <a:lnTo>
                        <a:pt x="539" y="4"/>
                      </a:lnTo>
                      <a:lnTo>
                        <a:pt x="557" y="17"/>
                      </a:lnTo>
                      <a:lnTo>
                        <a:pt x="575" y="30"/>
                      </a:lnTo>
                      <a:lnTo>
                        <a:pt x="592" y="48"/>
                      </a:lnTo>
                      <a:lnTo>
                        <a:pt x="610" y="66"/>
                      </a:lnTo>
                      <a:lnTo>
                        <a:pt x="619" y="88"/>
                      </a:lnTo>
                      <a:lnTo>
                        <a:pt x="623" y="110"/>
                      </a:lnTo>
                      <a:lnTo>
                        <a:pt x="623" y="136"/>
                      </a:lnTo>
                      <a:lnTo>
                        <a:pt x="623" y="158"/>
                      </a:lnTo>
                      <a:lnTo>
                        <a:pt x="614" y="194"/>
                      </a:lnTo>
                      <a:lnTo>
                        <a:pt x="601" y="273"/>
                      </a:lnTo>
                      <a:lnTo>
                        <a:pt x="588" y="357"/>
                      </a:lnTo>
                      <a:lnTo>
                        <a:pt x="579" y="440"/>
                      </a:lnTo>
                      <a:lnTo>
                        <a:pt x="548" y="627"/>
                      </a:lnTo>
                      <a:lnTo>
                        <a:pt x="531" y="733"/>
                      </a:lnTo>
                      <a:lnTo>
                        <a:pt x="500" y="900"/>
                      </a:lnTo>
                      <a:lnTo>
                        <a:pt x="469" y="1024"/>
                      </a:lnTo>
                      <a:lnTo>
                        <a:pt x="433" y="1165"/>
                      </a:lnTo>
                      <a:lnTo>
                        <a:pt x="397" y="1262"/>
                      </a:lnTo>
                      <a:lnTo>
                        <a:pt x="380" y="1301"/>
                      </a:lnTo>
                      <a:lnTo>
                        <a:pt x="362" y="1328"/>
                      </a:lnTo>
                      <a:lnTo>
                        <a:pt x="349" y="1363"/>
                      </a:lnTo>
                      <a:lnTo>
                        <a:pt x="340" y="1398"/>
                      </a:lnTo>
                      <a:lnTo>
                        <a:pt x="331" y="1426"/>
                      </a:lnTo>
                      <a:lnTo>
                        <a:pt x="327" y="1457"/>
                      </a:lnTo>
                      <a:lnTo>
                        <a:pt x="309" y="1505"/>
                      </a:lnTo>
                      <a:lnTo>
                        <a:pt x="292" y="1536"/>
                      </a:lnTo>
                      <a:lnTo>
                        <a:pt x="278" y="1554"/>
                      </a:lnTo>
                      <a:lnTo>
                        <a:pt x="265" y="1563"/>
                      </a:lnTo>
                      <a:lnTo>
                        <a:pt x="256" y="1567"/>
                      </a:lnTo>
                      <a:lnTo>
                        <a:pt x="243" y="1576"/>
                      </a:lnTo>
                      <a:lnTo>
                        <a:pt x="230" y="1607"/>
                      </a:lnTo>
                      <a:lnTo>
                        <a:pt x="212" y="1651"/>
                      </a:lnTo>
                      <a:lnTo>
                        <a:pt x="195" y="1699"/>
                      </a:lnTo>
                      <a:lnTo>
                        <a:pt x="186" y="1743"/>
                      </a:lnTo>
                      <a:lnTo>
                        <a:pt x="168" y="1787"/>
                      </a:lnTo>
                      <a:lnTo>
                        <a:pt x="149" y="1827"/>
                      </a:lnTo>
                      <a:lnTo>
                        <a:pt x="136" y="1854"/>
                      </a:lnTo>
                      <a:lnTo>
                        <a:pt x="123" y="1871"/>
                      </a:lnTo>
                      <a:lnTo>
                        <a:pt x="105" y="1880"/>
                      </a:lnTo>
                      <a:lnTo>
                        <a:pt x="88" y="1884"/>
                      </a:lnTo>
                      <a:lnTo>
                        <a:pt x="70" y="1884"/>
                      </a:lnTo>
                      <a:lnTo>
                        <a:pt x="52" y="1876"/>
                      </a:lnTo>
                      <a:lnTo>
                        <a:pt x="35" y="1858"/>
                      </a:lnTo>
                      <a:lnTo>
                        <a:pt x="22" y="1827"/>
                      </a:lnTo>
                      <a:lnTo>
                        <a:pt x="8" y="1783"/>
                      </a:lnTo>
                      <a:lnTo>
                        <a:pt x="0" y="1726"/>
                      </a:lnTo>
                      <a:lnTo>
                        <a:pt x="0" y="1673"/>
                      </a:lnTo>
                      <a:lnTo>
                        <a:pt x="0" y="1629"/>
                      </a:lnTo>
                      <a:lnTo>
                        <a:pt x="4" y="1571"/>
                      </a:lnTo>
                      <a:lnTo>
                        <a:pt x="13" y="1527"/>
                      </a:lnTo>
                      <a:lnTo>
                        <a:pt x="17" y="1488"/>
                      </a:lnTo>
                      <a:lnTo>
                        <a:pt x="13" y="1421"/>
                      </a:lnTo>
                      <a:lnTo>
                        <a:pt x="13" y="1368"/>
                      </a:lnTo>
                      <a:lnTo>
                        <a:pt x="13" y="1301"/>
                      </a:lnTo>
                      <a:lnTo>
                        <a:pt x="13" y="1244"/>
                      </a:lnTo>
                      <a:close/>
                    </a:path>
                  </a:pathLst>
                </a:custGeom>
                <a:solidFill>
                  <a:srgbClr val="ff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7" name=""/>
                <p:cNvGrpSpPr/>
                <p:nvPr/>
              </p:nvGrpSpPr>
              <p:grpSpPr>
                <a:xfrm>
                  <a:off x="2077920" y="3668760"/>
                  <a:ext cx="200520" cy="633600"/>
                  <a:chOff x="2077920" y="3668760"/>
                  <a:chExt cx="200520" cy="633600"/>
                </a:xfrm>
              </p:grpSpPr>
              <p:grpSp>
                <p:nvGrpSpPr>
                  <p:cNvPr id="888" name=""/>
                  <p:cNvGrpSpPr/>
                  <p:nvPr/>
                </p:nvGrpSpPr>
                <p:grpSpPr>
                  <a:xfrm>
                    <a:off x="2084400" y="4197240"/>
                    <a:ext cx="81360" cy="105120"/>
                    <a:chOff x="2084400" y="4197240"/>
                    <a:chExt cx="81360" cy="105120"/>
                  </a:xfrm>
                </p:grpSpPr>
                <p:sp>
                  <p:nvSpPr>
                    <p:cNvPr id="889" name=""/>
                    <p:cNvSpPr/>
                    <p:nvPr/>
                  </p:nvSpPr>
                  <p:spPr>
                    <a:xfrm>
                      <a:off x="2084400" y="4197240"/>
                      <a:ext cx="81360" cy="1051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226" h="292">
                          <a:moveTo>
                            <a:pt x="0" y="287"/>
                          </a:moveTo>
                          <a:lnTo>
                            <a:pt x="4" y="287"/>
                          </a:lnTo>
                          <a:lnTo>
                            <a:pt x="13" y="292"/>
                          </a:lnTo>
                          <a:lnTo>
                            <a:pt x="22" y="292"/>
                          </a:lnTo>
                          <a:lnTo>
                            <a:pt x="30" y="287"/>
                          </a:lnTo>
                          <a:lnTo>
                            <a:pt x="39" y="283"/>
                          </a:lnTo>
                          <a:lnTo>
                            <a:pt x="48" y="269"/>
                          </a:lnTo>
                          <a:lnTo>
                            <a:pt x="62" y="256"/>
                          </a:lnTo>
                          <a:lnTo>
                            <a:pt x="71" y="234"/>
                          </a:lnTo>
                          <a:lnTo>
                            <a:pt x="80" y="212"/>
                          </a:lnTo>
                          <a:lnTo>
                            <a:pt x="89" y="186"/>
                          </a:lnTo>
                          <a:lnTo>
                            <a:pt x="98" y="181"/>
                          </a:lnTo>
                          <a:lnTo>
                            <a:pt x="106" y="177"/>
                          </a:lnTo>
                          <a:lnTo>
                            <a:pt x="120" y="164"/>
                          </a:lnTo>
                          <a:lnTo>
                            <a:pt x="133" y="145"/>
                          </a:lnTo>
                          <a:lnTo>
                            <a:pt x="150" y="119"/>
                          </a:lnTo>
                          <a:lnTo>
                            <a:pt x="159" y="97"/>
                          </a:lnTo>
                          <a:lnTo>
                            <a:pt x="168" y="79"/>
                          </a:lnTo>
                          <a:lnTo>
                            <a:pt x="178" y="52"/>
                          </a:lnTo>
                          <a:lnTo>
                            <a:pt x="191" y="22"/>
                          </a:lnTo>
                          <a:lnTo>
                            <a:pt x="196" y="8"/>
                          </a:lnTo>
                          <a:lnTo>
                            <a:pt x="200" y="0"/>
                          </a:lnTo>
                          <a:lnTo>
                            <a:pt x="204" y="0"/>
                          </a:lnTo>
                          <a:lnTo>
                            <a:pt x="218" y="8"/>
                          </a:lnTo>
                          <a:lnTo>
                            <a:pt x="226" y="17"/>
                          </a:lnTo>
                        </a:path>
                      </a:pathLst>
                    </a:custGeom>
                    <a:ln w="12600">
                      <a:solidFill>
                        <a:srgbClr val="ff808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0" name=""/>
                    <p:cNvSpPr/>
                    <p:nvPr/>
                  </p:nvSpPr>
                  <p:spPr>
                    <a:xfrm>
                      <a:off x="2104920" y="4238640"/>
                      <a:ext cx="25920" cy="273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72" h="76">
                          <a:moveTo>
                            <a:pt x="0" y="17"/>
                          </a:moveTo>
                          <a:lnTo>
                            <a:pt x="26" y="4"/>
                          </a:lnTo>
                          <a:lnTo>
                            <a:pt x="51" y="0"/>
                          </a:lnTo>
                          <a:lnTo>
                            <a:pt x="67" y="17"/>
                          </a:lnTo>
                          <a:lnTo>
                            <a:pt x="72" y="76"/>
                          </a:lnTo>
                        </a:path>
                      </a:pathLst>
                    </a:custGeom>
                    <a:ln w="12600">
                      <a:solidFill>
                        <a:srgbClr val="ff8080"/>
                      </a:solidFill>
                      <a:round/>
                    </a:ln>
                  </p:spPr>
                  <p:txBody>
                    <a:bodyPr lIns="96120" rIns="9612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1" name=""/>
                  <p:cNvSpPr/>
                  <p:nvPr/>
                </p:nvSpPr>
                <p:spPr>
                  <a:xfrm>
                    <a:off x="2120760" y="4102200"/>
                    <a:ext cx="54360" cy="1051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51" h="292">
                        <a:moveTo>
                          <a:pt x="0" y="292"/>
                        </a:moveTo>
                        <a:lnTo>
                          <a:pt x="13" y="287"/>
                        </a:lnTo>
                        <a:lnTo>
                          <a:pt x="30" y="283"/>
                        </a:lnTo>
                        <a:lnTo>
                          <a:pt x="45" y="274"/>
                        </a:lnTo>
                        <a:lnTo>
                          <a:pt x="53" y="261"/>
                        </a:lnTo>
                        <a:lnTo>
                          <a:pt x="67" y="234"/>
                        </a:lnTo>
                        <a:lnTo>
                          <a:pt x="75" y="212"/>
                        </a:lnTo>
                        <a:lnTo>
                          <a:pt x="84" y="186"/>
                        </a:lnTo>
                        <a:lnTo>
                          <a:pt x="102" y="145"/>
                        </a:lnTo>
                        <a:lnTo>
                          <a:pt x="121" y="114"/>
                        </a:lnTo>
                        <a:lnTo>
                          <a:pt x="129" y="88"/>
                        </a:lnTo>
                        <a:lnTo>
                          <a:pt x="138" y="66"/>
                        </a:lnTo>
                        <a:lnTo>
                          <a:pt x="147" y="39"/>
                        </a:lnTo>
                        <a:lnTo>
                          <a:pt x="151" y="4"/>
                        </a:lnTo>
                        <a:lnTo>
                          <a:pt x="151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2109960" y="4116240"/>
                    <a:ext cx="25920" cy="781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2" h="217">
                        <a:moveTo>
                          <a:pt x="72" y="217"/>
                        </a:moveTo>
                        <a:lnTo>
                          <a:pt x="48" y="186"/>
                        </a:lnTo>
                        <a:lnTo>
                          <a:pt x="24" y="159"/>
                        </a:lnTo>
                        <a:lnTo>
                          <a:pt x="0" y="120"/>
                        </a:lnTo>
                        <a:lnTo>
                          <a:pt x="0" y="88"/>
                        </a:lnTo>
                        <a:lnTo>
                          <a:pt x="7" y="57"/>
                        </a:lnTo>
                        <a:lnTo>
                          <a:pt x="24" y="26"/>
                        </a:lnTo>
                        <a:lnTo>
                          <a:pt x="48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2077920" y="4197240"/>
                    <a:ext cx="3528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98" h="85">
                        <a:moveTo>
                          <a:pt x="0" y="36"/>
                        </a:moveTo>
                        <a:lnTo>
                          <a:pt x="13" y="17"/>
                        </a:lnTo>
                        <a:lnTo>
                          <a:pt x="26" y="8"/>
                        </a:lnTo>
                        <a:lnTo>
                          <a:pt x="35" y="0"/>
                        </a:lnTo>
                        <a:lnTo>
                          <a:pt x="48" y="0"/>
                        </a:lnTo>
                        <a:lnTo>
                          <a:pt x="62" y="4"/>
                        </a:lnTo>
                        <a:lnTo>
                          <a:pt x="75" y="17"/>
                        </a:lnTo>
                        <a:lnTo>
                          <a:pt x="84" y="27"/>
                        </a:lnTo>
                        <a:lnTo>
                          <a:pt x="89" y="40"/>
                        </a:lnTo>
                        <a:lnTo>
                          <a:pt x="98" y="68"/>
                        </a:lnTo>
                        <a:lnTo>
                          <a:pt x="98" y="85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2082960" y="4127400"/>
                    <a:ext cx="25920" cy="6228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2" h="173">
                        <a:moveTo>
                          <a:pt x="72" y="173"/>
                        </a:moveTo>
                        <a:lnTo>
                          <a:pt x="53" y="134"/>
                        </a:lnTo>
                        <a:lnTo>
                          <a:pt x="36" y="93"/>
                        </a:lnTo>
                        <a:lnTo>
                          <a:pt x="17" y="53"/>
                        </a:lnTo>
                        <a:lnTo>
                          <a:pt x="0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2097000" y="3981600"/>
                    <a:ext cx="25920" cy="367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2" h="102">
                        <a:moveTo>
                          <a:pt x="72" y="102"/>
                        </a:moveTo>
                        <a:lnTo>
                          <a:pt x="42" y="67"/>
                        </a:lnTo>
                        <a:lnTo>
                          <a:pt x="0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2100240" y="3870360"/>
                    <a:ext cx="38520" cy="233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07" h="649">
                        <a:moveTo>
                          <a:pt x="13" y="649"/>
                        </a:moveTo>
                        <a:lnTo>
                          <a:pt x="17" y="627"/>
                        </a:lnTo>
                        <a:lnTo>
                          <a:pt x="17" y="609"/>
                        </a:lnTo>
                        <a:lnTo>
                          <a:pt x="17" y="591"/>
                        </a:lnTo>
                        <a:lnTo>
                          <a:pt x="13" y="578"/>
                        </a:lnTo>
                        <a:lnTo>
                          <a:pt x="4" y="569"/>
                        </a:lnTo>
                        <a:lnTo>
                          <a:pt x="0" y="565"/>
                        </a:lnTo>
                        <a:lnTo>
                          <a:pt x="8" y="561"/>
                        </a:lnTo>
                        <a:lnTo>
                          <a:pt x="17" y="552"/>
                        </a:lnTo>
                        <a:lnTo>
                          <a:pt x="26" y="534"/>
                        </a:lnTo>
                        <a:lnTo>
                          <a:pt x="31" y="512"/>
                        </a:lnTo>
                        <a:lnTo>
                          <a:pt x="40" y="486"/>
                        </a:lnTo>
                        <a:lnTo>
                          <a:pt x="49" y="446"/>
                        </a:lnTo>
                        <a:lnTo>
                          <a:pt x="53" y="406"/>
                        </a:lnTo>
                        <a:lnTo>
                          <a:pt x="58" y="367"/>
                        </a:lnTo>
                        <a:lnTo>
                          <a:pt x="62" y="336"/>
                        </a:lnTo>
                        <a:lnTo>
                          <a:pt x="62" y="299"/>
                        </a:lnTo>
                        <a:lnTo>
                          <a:pt x="62" y="273"/>
                        </a:lnTo>
                        <a:lnTo>
                          <a:pt x="62" y="251"/>
                        </a:lnTo>
                        <a:lnTo>
                          <a:pt x="53" y="233"/>
                        </a:lnTo>
                        <a:lnTo>
                          <a:pt x="62" y="224"/>
                        </a:lnTo>
                        <a:lnTo>
                          <a:pt x="71" y="211"/>
                        </a:lnTo>
                        <a:lnTo>
                          <a:pt x="81" y="198"/>
                        </a:lnTo>
                        <a:lnTo>
                          <a:pt x="90" y="171"/>
                        </a:lnTo>
                        <a:lnTo>
                          <a:pt x="99" y="141"/>
                        </a:lnTo>
                        <a:lnTo>
                          <a:pt x="103" y="114"/>
                        </a:lnTo>
                        <a:lnTo>
                          <a:pt x="103" y="97"/>
                        </a:lnTo>
                        <a:lnTo>
                          <a:pt x="107" y="70"/>
                        </a:lnTo>
                        <a:lnTo>
                          <a:pt x="107" y="52"/>
                        </a:lnTo>
                        <a:lnTo>
                          <a:pt x="107" y="35"/>
                        </a:lnTo>
                        <a:lnTo>
                          <a:pt x="103" y="22"/>
                        </a:lnTo>
                        <a:lnTo>
                          <a:pt x="94" y="13"/>
                        </a:lnTo>
                        <a:lnTo>
                          <a:pt x="81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2124000" y="3879720"/>
                    <a:ext cx="66960" cy="2559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86" h="711">
                        <a:moveTo>
                          <a:pt x="8" y="711"/>
                        </a:moveTo>
                        <a:lnTo>
                          <a:pt x="4" y="681"/>
                        </a:lnTo>
                        <a:lnTo>
                          <a:pt x="0" y="650"/>
                        </a:lnTo>
                        <a:lnTo>
                          <a:pt x="0" y="623"/>
                        </a:lnTo>
                        <a:lnTo>
                          <a:pt x="0" y="597"/>
                        </a:lnTo>
                        <a:lnTo>
                          <a:pt x="0" y="566"/>
                        </a:lnTo>
                        <a:lnTo>
                          <a:pt x="0" y="548"/>
                        </a:lnTo>
                        <a:lnTo>
                          <a:pt x="4" y="516"/>
                        </a:lnTo>
                        <a:lnTo>
                          <a:pt x="17" y="455"/>
                        </a:lnTo>
                        <a:lnTo>
                          <a:pt x="30" y="393"/>
                        </a:lnTo>
                        <a:lnTo>
                          <a:pt x="44" y="340"/>
                        </a:lnTo>
                        <a:lnTo>
                          <a:pt x="61" y="278"/>
                        </a:lnTo>
                        <a:lnTo>
                          <a:pt x="74" y="234"/>
                        </a:lnTo>
                        <a:lnTo>
                          <a:pt x="88" y="190"/>
                        </a:lnTo>
                        <a:lnTo>
                          <a:pt x="102" y="154"/>
                        </a:lnTo>
                        <a:lnTo>
                          <a:pt x="120" y="114"/>
                        </a:lnTo>
                        <a:lnTo>
                          <a:pt x="137" y="79"/>
                        </a:lnTo>
                        <a:lnTo>
                          <a:pt x="155" y="48"/>
                        </a:lnTo>
                        <a:lnTo>
                          <a:pt x="168" y="22"/>
                        </a:lnTo>
                        <a:lnTo>
                          <a:pt x="186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2154240" y="3887640"/>
                    <a:ext cx="25920" cy="608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2" h="169">
                        <a:moveTo>
                          <a:pt x="39" y="169"/>
                        </a:moveTo>
                        <a:lnTo>
                          <a:pt x="59" y="138"/>
                        </a:lnTo>
                        <a:lnTo>
                          <a:pt x="72" y="111"/>
                        </a:lnTo>
                        <a:lnTo>
                          <a:pt x="72" y="84"/>
                        </a:lnTo>
                        <a:lnTo>
                          <a:pt x="66" y="58"/>
                        </a:lnTo>
                        <a:lnTo>
                          <a:pt x="45" y="35"/>
                        </a:lnTo>
                        <a:lnTo>
                          <a:pt x="26" y="17"/>
                        </a:lnTo>
                        <a:lnTo>
                          <a:pt x="0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9720" bIns="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2147760" y="3816360"/>
                    <a:ext cx="41760" cy="417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16" h="116">
                        <a:moveTo>
                          <a:pt x="0" y="0"/>
                        </a:moveTo>
                        <a:lnTo>
                          <a:pt x="4" y="17"/>
                        </a:lnTo>
                        <a:lnTo>
                          <a:pt x="13" y="36"/>
                        </a:lnTo>
                        <a:lnTo>
                          <a:pt x="13" y="53"/>
                        </a:lnTo>
                        <a:lnTo>
                          <a:pt x="13" y="67"/>
                        </a:lnTo>
                        <a:lnTo>
                          <a:pt x="8" y="84"/>
                        </a:lnTo>
                        <a:lnTo>
                          <a:pt x="4" y="103"/>
                        </a:lnTo>
                        <a:lnTo>
                          <a:pt x="0" y="116"/>
                        </a:lnTo>
                        <a:lnTo>
                          <a:pt x="8" y="94"/>
                        </a:lnTo>
                        <a:lnTo>
                          <a:pt x="17" y="80"/>
                        </a:lnTo>
                        <a:lnTo>
                          <a:pt x="26" y="75"/>
                        </a:lnTo>
                        <a:lnTo>
                          <a:pt x="31" y="71"/>
                        </a:lnTo>
                        <a:lnTo>
                          <a:pt x="36" y="75"/>
                        </a:lnTo>
                        <a:lnTo>
                          <a:pt x="40" y="75"/>
                        </a:lnTo>
                        <a:lnTo>
                          <a:pt x="53" y="84"/>
                        </a:lnTo>
                        <a:lnTo>
                          <a:pt x="62" y="80"/>
                        </a:lnTo>
                        <a:lnTo>
                          <a:pt x="75" y="75"/>
                        </a:lnTo>
                        <a:lnTo>
                          <a:pt x="80" y="67"/>
                        </a:lnTo>
                        <a:lnTo>
                          <a:pt x="90" y="58"/>
                        </a:lnTo>
                        <a:lnTo>
                          <a:pt x="103" y="36"/>
                        </a:lnTo>
                        <a:lnTo>
                          <a:pt x="116" y="8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2166840" y="3668760"/>
                    <a:ext cx="60840" cy="1400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69" h="389">
                        <a:moveTo>
                          <a:pt x="0" y="292"/>
                        </a:moveTo>
                        <a:lnTo>
                          <a:pt x="4" y="300"/>
                        </a:lnTo>
                        <a:lnTo>
                          <a:pt x="8" y="314"/>
                        </a:lnTo>
                        <a:lnTo>
                          <a:pt x="13" y="331"/>
                        </a:lnTo>
                        <a:lnTo>
                          <a:pt x="13" y="358"/>
                        </a:lnTo>
                        <a:lnTo>
                          <a:pt x="17" y="389"/>
                        </a:lnTo>
                        <a:lnTo>
                          <a:pt x="22" y="367"/>
                        </a:lnTo>
                        <a:lnTo>
                          <a:pt x="30" y="340"/>
                        </a:lnTo>
                        <a:lnTo>
                          <a:pt x="35" y="318"/>
                        </a:lnTo>
                        <a:lnTo>
                          <a:pt x="39" y="305"/>
                        </a:lnTo>
                        <a:lnTo>
                          <a:pt x="49" y="292"/>
                        </a:lnTo>
                        <a:lnTo>
                          <a:pt x="58" y="283"/>
                        </a:lnTo>
                        <a:lnTo>
                          <a:pt x="62" y="274"/>
                        </a:lnTo>
                        <a:lnTo>
                          <a:pt x="71" y="269"/>
                        </a:lnTo>
                        <a:lnTo>
                          <a:pt x="84" y="269"/>
                        </a:lnTo>
                        <a:lnTo>
                          <a:pt x="102" y="278"/>
                        </a:lnTo>
                        <a:lnTo>
                          <a:pt x="102" y="261"/>
                        </a:lnTo>
                        <a:lnTo>
                          <a:pt x="98" y="243"/>
                        </a:lnTo>
                        <a:lnTo>
                          <a:pt x="98" y="221"/>
                        </a:lnTo>
                        <a:lnTo>
                          <a:pt x="98" y="199"/>
                        </a:lnTo>
                        <a:lnTo>
                          <a:pt x="102" y="176"/>
                        </a:lnTo>
                        <a:lnTo>
                          <a:pt x="106" y="149"/>
                        </a:lnTo>
                        <a:lnTo>
                          <a:pt x="115" y="123"/>
                        </a:lnTo>
                        <a:lnTo>
                          <a:pt x="124" y="97"/>
                        </a:lnTo>
                        <a:lnTo>
                          <a:pt x="129" y="74"/>
                        </a:lnTo>
                        <a:lnTo>
                          <a:pt x="138" y="52"/>
                        </a:lnTo>
                        <a:lnTo>
                          <a:pt x="147" y="35"/>
                        </a:lnTo>
                        <a:lnTo>
                          <a:pt x="169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2187720" y="3767040"/>
                    <a:ext cx="35280" cy="511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98" h="142">
                        <a:moveTo>
                          <a:pt x="0" y="115"/>
                        </a:moveTo>
                        <a:lnTo>
                          <a:pt x="8" y="124"/>
                        </a:lnTo>
                        <a:lnTo>
                          <a:pt x="13" y="137"/>
                        </a:lnTo>
                        <a:lnTo>
                          <a:pt x="22" y="142"/>
                        </a:lnTo>
                        <a:lnTo>
                          <a:pt x="30" y="137"/>
                        </a:lnTo>
                        <a:lnTo>
                          <a:pt x="44" y="128"/>
                        </a:lnTo>
                        <a:lnTo>
                          <a:pt x="62" y="120"/>
                        </a:lnTo>
                        <a:lnTo>
                          <a:pt x="71" y="111"/>
                        </a:lnTo>
                        <a:lnTo>
                          <a:pt x="75" y="102"/>
                        </a:lnTo>
                        <a:lnTo>
                          <a:pt x="80" y="89"/>
                        </a:lnTo>
                        <a:lnTo>
                          <a:pt x="89" y="48"/>
                        </a:lnTo>
                        <a:lnTo>
                          <a:pt x="98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2236680" y="3678120"/>
                    <a:ext cx="25920" cy="846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2" h="235">
                        <a:moveTo>
                          <a:pt x="7" y="235"/>
                        </a:moveTo>
                        <a:lnTo>
                          <a:pt x="29" y="213"/>
                        </a:lnTo>
                        <a:lnTo>
                          <a:pt x="43" y="191"/>
                        </a:lnTo>
                        <a:lnTo>
                          <a:pt x="65" y="164"/>
                        </a:lnTo>
                        <a:lnTo>
                          <a:pt x="72" y="128"/>
                        </a:lnTo>
                        <a:lnTo>
                          <a:pt x="72" y="102"/>
                        </a:lnTo>
                        <a:lnTo>
                          <a:pt x="65" y="71"/>
                        </a:lnTo>
                        <a:lnTo>
                          <a:pt x="50" y="44"/>
                        </a:lnTo>
                        <a:lnTo>
                          <a:pt x="22" y="17"/>
                        </a:lnTo>
                        <a:lnTo>
                          <a:pt x="0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2239920" y="3668760"/>
                    <a:ext cx="38520" cy="11628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07" h="323">
                        <a:moveTo>
                          <a:pt x="49" y="0"/>
                        </a:moveTo>
                        <a:lnTo>
                          <a:pt x="53" y="13"/>
                        </a:lnTo>
                        <a:lnTo>
                          <a:pt x="62" y="30"/>
                        </a:lnTo>
                        <a:lnTo>
                          <a:pt x="62" y="57"/>
                        </a:lnTo>
                        <a:lnTo>
                          <a:pt x="62" y="70"/>
                        </a:lnTo>
                        <a:lnTo>
                          <a:pt x="58" y="93"/>
                        </a:lnTo>
                        <a:lnTo>
                          <a:pt x="49" y="128"/>
                        </a:lnTo>
                        <a:lnTo>
                          <a:pt x="40" y="164"/>
                        </a:lnTo>
                        <a:lnTo>
                          <a:pt x="26" y="203"/>
                        </a:lnTo>
                        <a:lnTo>
                          <a:pt x="17" y="239"/>
                        </a:lnTo>
                        <a:lnTo>
                          <a:pt x="8" y="266"/>
                        </a:lnTo>
                        <a:lnTo>
                          <a:pt x="0" y="301"/>
                        </a:lnTo>
                        <a:lnTo>
                          <a:pt x="0" y="323"/>
                        </a:lnTo>
                        <a:lnTo>
                          <a:pt x="8" y="301"/>
                        </a:lnTo>
                        <a:lnTo>
                          <a:pt x="13" y="284"/>
                        </a:lnTo>
                        <a:lnTo>
                          <a:pt x="22" y="270"/>
                        </a:lnTo>
                        <a:lnTo>
                          <a:pt x="36" y="248"/>
                        </a:lnTo>
                        <a:lnTo>
                          <a:pt x="49" y="234"/>
                        </a:lnTo>
                        <a:lnTo>
                          <a:pt x="62" y="212"/>
                        </a:lnTo>
                        <a:lnTo>
                          <a:pt x="75" y="199"/>
                        </a:lnTo>
                        <a:lnTo>
                          <a:pt x="94" y="181"/>
                        </a:lnTo>
                        <a:lnTo>
                          <a:pt x="107" y="172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2197080" y="3781440"/>
                    <a:ext cx="63720" cy="702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77" h="195">
                        <a:moveTo>
                          <a:pt x="0" y="133"/>
                        </a:moveTo>
                        <a:lnTo>
                          <a:pt x="0" y="150"/>
                        </a:lnTo>
                        <a:lnTo>
                          <a:pt x="0" y="172"/>
                        </a:lnTo>
                        <a:lnTo>
                          <a:pt x="4" y="186"/>
                        </a:lnTo>
                        <a:lnTo>
                          <a:pt x="4" y="190"/>
                        </a:lnTo>
                        <a:lnTo>
                          <a:pt x="8" y="195"/>
                        </a:lnTo>
                        <a:lnTo>
                          <a:pt x="17" y="195"/>
                        </a:lnTo>
                        <a:lnTo>
                          <a:pt x="30" y="186"/>
                        </a:lnTo>
                        <a:lnTo>
                          <a:pt x="44" y="177"/>
                        </a:lnTo>
                        <a:lnTo>
                          <a:pt x="52" y="164"/>
                        </a:lnTo>
                        <a:lnTo>
                          <a:pt x="66" y="150"/>
                        </a:lnTo>
                        <a:lnTo>
                          <a:pt x="79" y="133"/>
                        </a:lnTo>
                        <a:lnTo>
                          <a:pt x="93" y="111"/>
                        </a:lnTo>
                        <a:lnTo>
                          <a:pt x="102" y="92"/>
                        </a:lnTo>
                        <a:lnTo>
                          <a:pt x="115" y="66"/>
                        </a:lnTo>
                        <a:lnTo>
                          <a:pt x="128" y="52"/>
                        </a:lnTo>
                        <a:lnTo>
                          <a:pt x="142" y="39"/>
                        </a:lnTo>
                        <a:lnTo>
                          <a:pt x="164" y="17"/>
                        </a:lnTo>
                        <a:lnTo>
                          <a:pt x="177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5" name=""/>
              <p:cNvGrpSpPr/>
              <p:nvPr/>
            </p:nvGrpSpPr>
            <p:grpSpPr>
              <a:xfrm>
                <a:off x="2112840" y="3583080"/>
                <a:ext cx="224280" cy="676800"/>
                <a:chOff x="2112840" y="3583080"/>
                <a:chExt cx="224280" cy="676800"/>
              </a:xfrm>
            </p:grpSpPr>
            <p:sp>
              <p:nvSpPr>
                <p:cNvPr id="906" name=""/>
                <p:cNvSpPr/>
                <p:nvPr/>
              </p:nvSpPr>
              <p:spPr>
                <a:xfrm>
                  <a:off x="2112840" y="3583080"/>
                  <a:ext cx="224280" cy="676800"/>
                </a:xfrm>
                <a:custGeom>
                  <a:avLst/>
                  <a:gdLst/>
                  <a:ahLst/>
                  <a:rect l="0" t="0" r="r" b="b"/>
                  <a:pathLst>
                    <a:path w="623" h="1880">
                      <a:moveTo>
                        <a:pt x="13" y="1240"/>
                      </a:moveTo>
                      <a:lnTo>
                        <a:pt x="17" y="1182"/>
                      </a:lnTo>
                      <a:lnTo>
                        <a:pt x="26" y="1125"/>
                      </a:lnTo>
                      <a:lnTo>
                        <a:pt x="39" y="1050"/>
                      </a:lnTo>
                      <a:lnTo>
                        <a:pt x="52" y="971"/>
                      </a:lnTo>
                      <a:lnTo>
                        <a:pt x="61" y="904"/>
                      </a:lnTo>
                      <a:lnTo>
                        <a:pt x="83" y="830"/>
                      </a:lnTo>
                      <a:lnTo>
                        <a:pt x="110" y="728"/>
                      </a:lnTo>
                      <a:lnTo>
                        <a:pt x="145" y="609"/>
                      </a:lnTo>
                      <a:lnTo>
                        <a:pt x="177" y="512"/>
                      </a:lnTo>
                      <a:lnTo>
                        <a:pt x="208" y="427"/>
                      </a:lnTo>
                      <a:lnTo>
                        <a:pt x="225" y="383"/>
                      </a:lnTo>
                      <a:lnTo>
                        <a:pt x="243" y="348"/>
                      </a:lnTo>
                      <a:lnTo>
                        <a:pt x="269" y="299"/>
                      </a:lnTo>
                      <a:lnTo>
                        <a:pt x="287" y="282"/>
                      </a:lnTo>
                      <a:lnTo>
                        <a:pt x="296" y="255"/>
                      </a:lnTo>
                      <a:lnTo>
                        <a:pt x="314" y="216"/>
                      </a:lnTo>
                      <a:lnTo>
                        <a:pt x="327" y="176"/>
                      </a:lnTo>
                      <a:lnTo>
                        <a:pt x="344" y="132"/>
                      </a:lnTo>
                      <a:lnTo>
                        <a:pt x="362" y="101"/>
                      </a:lnTo>
                      <a:lnTo>
                        <a:pt x="375" y="83"/>
                      </a:lnTo>
                      <a:lnTo>
                        <a:pt x="397" y="61"/>
                      </a:lnTo>
                      <a:lnTo>
                        <a:pt x="433" y="39"/>
                      </a:lnTo>
                      <a:lnTo>
                        <a:pt x="473" y="22"/>
                      </a:lnTo>
                      <a:lnTo>
                        <a:pt x="504" y="8"/>
                      </a:lnTo>
                      <a:lnTo>
                        <a:pt x="522" y="0"/>
                      </a:lnTo>
                      <a:lnTo>
                        <a:pt x="539" y="0"/>
                      </a:lnTo>
                      <a:lnTo>
                        <a:pt x="553" y="13"/>
                      </a:lnTo>
                      <a:lnTo>
                        <a:pt x="575" y="30"/>
                      </a:lnTo>
                      <a:lnTo>
                        <a:pt x="592" y="44"/>
                      </a:lnTo>
                      <a:lnTo>
                        <a:pt x="606" y="61"/>
                      </a:lnTo>
                      <a:lnTo>
                        <a:pt x="614" y="83"/>
                      </a:lnTo>
                      <a:lnTo>
                        <a:pt x="619" y="105"/>
                      </a:lnTo>
                      <a:lnTo>
                        <a:pt x="623" y="136"/>
                      </a:lnTo>
                      <a:lnTo>
                        <a:pt x="619" y="158"/>
                      </a:lnTo>
                      <a:lnTo>
                        <a:pt x="614" y="194"/>
                      </a:lnTo>
                      <a:lnTo>
                        <a:pt x="601" y="268"/>
                      </a:lnTo>
                      <a:lnTo>
                        <a:pt x="588" y="357"/>
                      </a:lnTo>
                      <a:lnTo>
                        <a:pt x="575" y="440"/>
                      </a:lnTo>
                      <a:lnTo>
                        <a:pt x="548" y="627"/>
                      </a:lnTo>
                      <a:lnTo>
                        <a:pt x="531" y="733"/>
                      </a:lnTo>
                      <a:lnTo>
                        <a:pt x="500" y="900"/>
                      </a:lnTo>
                      <a:lnTo>
                        <a:pt x="469" y="1024"/>
                      </a:lnTo>
                      <a:lnTo>
                        <a:pt x="433" y="1165"/>
                      </a:lnTo>
                      <a:lnTo>
                        <a:pt x="397" y="1262"/>
                      </a:lnTo>
                      <a:lnTo>
                        <a:pt x="380" y="1297"/>
                      </a:lnTo>
                      <a:lnTo>
                        <a:pt x="362" y="1328"/>
                      </a:lnTo>
                      <a:lnTo>
                        <a:pt x="349" y="1363"/>
                      </a:lnTo>
                      <a:lnTo>
                        <a:pt x="340" y="1394"/>
                      </a:lnTo>
                      <a:lnTo>
                        <a:pt x="331" y="1426"/>
                      </a:lnTo>
                      <a:lnTo>
                        <a:pt x="322" y="1457"/>
                      </a:lnTo>
                      <a:lnTo>
                        <a:pt x="305" y="1501"/>
                      </a:lnTo>
                      <a:lnTo>
                        <a:pt x="292" y="1532"/>
                      </a:lnTo>
                      <a:lnTo>
                        <a:pt x="278" y="1549"/>
                      </a:lnTo>
                      <a:lnTo>
                        <a:pt x="265" y="1558"/>
                      </a:lnTo>
                      <a:lnTo>
                        <a:pt x="252" y="1563"/>
                      </a:lnTo>
                      <a:lnTo>
                        <a:pt x="243" y="1576"/>
                      </a:lnTo>
                      <a:lnTo>
                        <a:pt x="230" y="1602"/>
                      </a:lnTo>
                      <a:lnTo>
                        <a:pt x="208" y="1646"/>
                      </a:lnTo>
                      <a:lnTo>
                        <a:pt x="195" y="1695"/>
                      </a:lnTo>
                      <a:lnTo>
                        <a:pt x="181" y="1739"/>
                      </a:lnTo>
                      <a:lnTo>
                        <a:pt x="168" y="1783"/>
                      </a:lnTo>
                      <a:lnTo>
                        <a:pt x="149" y="1823"/>
                      </a:lnTo>
                      <a:lnTo>
                        <a:pt x="136" y="1854"/>
                      </a:lnTo>
                      <a:lnTo>
                        <a:pt x="123" y="1867"/>
                      </a:lnTo>
                      <a:lnTo>
                        <a:pt x="105" y="1876"/>
                      </a:lnTo>
                      <a:lnTo>
                        <a:pt x="88" y="1880"/>
                      </a:lnTo>
                      <a:lnTo>
                        <a:pt x="70" y="1880"/>
                      </a:lnTo>
                      <a:lnTo>
                        <a:pt x="52" y="1876"/>
                      </a:lnTo>
                      <a:lnTo>
                        <a:pt x="35" y="1854"/>
                      </a:lnTo>
                      <a:lnTo>
                        <a:pt x="22" y="1823"/>
                      </a:lnTo>
                      <a:lnTo>
                        <a:pt x="8" y="1779"/>
                      </a:lnTo>
                      <a:lnTo>
                        <a:pt x="0" y="1726"/>
                      </a:lnTo>
                      <a:lnTo>
                        <a:pt x="0" y="1668"/>
                      </a:lnTo>
                      <a:lnTo>
                        <a:pt x="0" y="1629"/>
                      </a:lnTo>
                      <a:lnTo>
                        <a:pt x="4" y="1567"/>
                      </a:lnTo>
                      <a:lnTo>
                        <a:pt x="13" y="1527"/>
                      </a:lnTo>
                      <a:lnTo>
                        <a:pt x="13" y="1483"/>
                      </a:lnTo>
                      <a:lnTo>
                        <a:pt x="13" y="1417"/>
                      </a:lnTo>
                      <a:lnTo>
                        <a:pt x="13" y="1363"/>
                      </a:lnTo>
                      <a:lnTo>
                        <a:pt x="8" y="1301"/>
                      </a:lnTo>
                      <a:lnTo>
                        <a:pt x="13" y="1240"/>
                      </a:lnTo>
                      <a:close/>
                    </a:path>
                  </a:pathLst>
                </a:custGeom>
                <a:solidFill>
                  <a:srgbClr val="ff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7" name=""/>
                <p:cNvGrpSpPr/>
                <p:nvPr/>
              </p:nvGrpSpPr>
              <p:grpSpPr>
                <a:xfrm>
                  <a:off x="2117880" y="3605040"/>
                  <a:ext cx="200160" cy="636840"/>
                  <a:chOff x="2117880" y="3605040"/>
                  <a:chExt cx="200160" cy="636840"/>
                </a:xfrm>
              </p:grpSpPr>
              <p:grpSp>
                <p:nvGrpSpPr>
                  <p:cNvPr id="908" name=""/>
                  <p:cNvGrpSpPr/>
                  <p:nvPr/>
                </p:nvGrpSpPr>
                <p:grpSpPr>
                  <a:xfrm>
                    <a:off x="2124000" y="4135320"/>
                    <a:ext cx="81360" cy="106560"/>
                    <a:chOff x="2124000" y="4135320"/>
                    <a:chExt cx="81360" cy="106560"/>
                  </a:xfrm>
                </p:grpSpPr>
                <p:sp>
                  <p:nvSpPr>
                    <p:cNvPr id="909" name=""/>
                    <p:cNvSpPr/>
                    <p:nvPr/>
                  </p:nvSpPr>
                  <p:spPr>
                    <a:xfrm>
                      <a:off x="2124000" y="4135320"/>
                      <a:ext cx="81360" cy="1065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226" h="296">
                          <a:moveTo>
                            <a:pt x="0" y="292"/>
                          </a:moveTo>
                          <a:lnTo>
                            <a:pt x="8" y="292"/>
                          </a:lnTo>
                          <a:lnTo>
                            <a:pt x="17" y="296"/>
                          </a:lnTo>
                          <a:lnTo>
                            <a:pt x="22" y="296"/>
                          </a:lnTo>
                          <a:lnTo>
                            <a:pt x="30" y="292"/>
                          </a:lnTo>
                          <a:lnTo>
                            <a:pt x="39" y="287"/>
                          </a:lnTo>
                          <a:lnTo>
                            <a:pt x="48" y="274"/>
                          </a:lnTo>
                          <a:lnTo>
                            <a:pt x="62" y="261"/>
                          </a:lnTo>
                          <a:lnTo>
                            <a:pt x="71" y="239"/>
                          </a:lnTo>
                          <a:lnTo>
                            <a:pt x="80" y="212"/>
                          </a:lnTo>
                          <a:lnTo>
                            <a:pt x="93" y="190"/>
                          </a:lnTo>
                          <a:lnTo>
                            <a:pt x="98" y="186"/>
                          </a:lnTo>
                          <a:lnTo>
                            <a:pt x="111" y="181"/>
                          </a:lnTo>
                          <a:lnTo>
                            <a:pt x="120" y="164"/>
                          </a:lnTo>
                          <a:lnTo>
                            <a:pt x="133" y="150"/>
                          </a:lnTo>
                          <a:lnTo>
                            <a:pt x="150" y="119"/>
                          </a:lnTo>
                          <a:lnTo>
                            <a:pt x="164" y="97"/>
                          </a:lnTo>
                          <a:lnTo>
                            <a:pt x="173" y="79"/>
                          </a:lnTo>
                          <a:lnTo>
                            <a:pt x="182" y="52"/>
                          </a:lnTo>
                          <a:lnTo>
                            <a:pt x="191" y="22"/>
                          </a:lnTo>
                          <a:lnTo>
                            <a:pt x="196" y="8"/>
                          </a:lnTo>
                          <a:lnTo>
                            <a:pt x="204" y="0"/>
                          </a:lnTo>
                          <a:lnTo>
                            <a:pt x="209" y="0"/>
                          </a:lnTo>
                          <a:lnTo>
                            <a:pt x="218" y="8"/>
                          </a:lnTo>
                          <a:lnTo>
                            <a:pt x="226" y="17"/>
                          </a:lnTo>
                        </a:path>
                      </a:pathLst>
                    </a:custGeom>
                    <a:ln w="12600">
                      <a:solidFill>
                        <a:srgbClr val="ff808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0" name=""/>
                    <p:cNvSpPr/>
                    <p:nvPr/>
                  </p:nvSpPr>
                  <p:spPr>
                    <a:xfrm>
                      <a:off x="2144880" y="4176720"/>
                      <a:ext cx="25920" cy="273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72" h="76">
                          <a:moveTo>
                            <a:pt x="0" y="17"/>
                          </a:moveTo>
                          <a:lnTo>
                            <a:pt x="28" y="4"/>
                          </a:lnTo>
                          <a:lnTo>
                            <a:pt x="49" y="0"/>
                          </a:lnTo>
                          <a:lnTo>
                            <a:pt x="67" y="23"/>
                          </a:lnTo>
                          <a:lnTo>
                            <a:pt x="72" y="76"/>
                          </a:lnTo>
                        </a:path>
                      </a:pathLst>
                    </a:custGeom>
                    <a:ln w="12600">
                      <a:solidFill>
                        <a:srgbClr val="ff8080"/>
                      </a:solidFill>
                      <a:round/>
                    </a:ln>
                  </p:spPr>
                  <p:txBody>
                    <a:bodyPr lIns="96120" rIns="9612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1" name=""/>
                  <p:cNvSpPr/>
                  <p:nvPr/>
                </p:nvSpPr>
                <p:spPr>
                  <a:xfrm>
                    <a:off x="2162160" y="4040280"/>
                    <a:ext cx="52920" cy="10368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47" h="288">
                        <a:moveTo>
                          <a:pt x="0" y="288"/>
                        </a:moveTo>
                        <a:lnTo>
                          <a:pt x="8" y="284"/>
                        </a:lnTo>
                        <a:lnTo>
                          <a:pt x="26" y="279"/>
                        </a:lnTo>
                        <a:lnTo>
                          <a:pt x="40" y="270"/>
                        </a:lnTo>
                        <a:lnTo>
                          <a:pt x="49" y="257"/>
                        </a:lnTo>
                        <a:lnTo>
                          <a:pt x="62" y="231"/>
                        </a:lnTo>
                        <a:lnTo>
                          <a:pt x="71" y="208"/>
                        </a:lnTo>
                        <a:lnTo>
                          <a:pt x="80" y="181"/>
                        </a:lnTo>
                        <a:lnTo>
                          <a:pt x="93" y="146"/>
                        </a:lnTo>
                        <a:lnTo>
                          <a:pt x="112" y="111"/>
                        </a:lnTo>
                        <a:lnTo>
                          <a:pt x="125" y="89"/>
                        </a:lnTo>
                        <a:lnTo>
                          <a:pt x="134" y="61"/>
                        </a:lnTo>
                        <a:lnTo>
                          <a:pt x="138" y="39"/>
                        </a:lnTo>
                        <a:lnTo>
                          <a:pt x="147" y="0"/>
                        </a:lnTo>
                        <a:lnTo>
                          <a:pt x="147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2149560" y="4054320"/>
                    <a:ext cx="25920" cy="795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2" h="221">
                        <a:moveTo>
                          <a:pt x="72" y="221"/>
                        </a:moveTo>
                        <a:lnTo>
                          <a:pt x="40" y="186"/>
                        </a:lnTo>
                        <a:lnTo>
                          <a:pt x="24" y="159"/>
                        </a:lnTo>
                        <a:lnTo>
                          <a:pt x="0" y="120"/>
                        </a:lnTo>
                        <a:lnTo>
                          <a:pt x="0" y="92"/>
                        </a:lnTo>
                        <a:lnTo>
                          <a:pt x="0" y="57"/>
                        </a:lnTo>
                        <a:lnTo>
                          <a:pt x="15" y="26"/>
                        </a:lnTo>
                        <a:lnTo>
                          <a:pt x="48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28440" bIns="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2117880" y="4133880"/>
                    <a:ext cx="3528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98" h="85">
                        <a:moveTo>
                          <a:pt x="0" y="36"/>
                        </a:moveTo>
                        <a:lnTo>
                          <a:pt x="13" y="23"/>
                        </a:lnTo>
                        <a:lnTo>
                          <a:pt x="22" y="8"/>
                        </a:lnTo>
                        <a:lnTo>
                          <a:pt x="35" y="0"/>
                        </a:lnTo>
                        <a:lnTo>
                          <a:pt x="48" y="0"/>
                        </a:lnTo>
                        <a:lnTo>
                          <a:pt x="62" y="8"/>
                        </a:lnTo>
                        <a:lnTo>
                          <a:pt x="75" y="17"/>
                        </a:lnTo>
                        <a:lnTo>
                          <a:pt x="84" y="27"/>
                        </a:lnTo>
                        <a:lnTo>
                          <a:pt x="89" y="45"/>
                        </a:lnTo>
                        <a:lnTo>
                          <a:pt x="98" y="68"/>
                        </a:lnTo>
                        <a:lnTo>
                          <a:pt x="98" y="85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2122560" y="4065480"/>
                    <a:ext cx="25920" cy="6228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2" h="173">
                        <a:moveTo>
                          <a:pt x="72" y="173"/>
                        </a:moveTo>
                        <a:lnTo>
                          <a:pt x="53" y="134"/>
                        </a:lnTo>
                        <a:lnTo>
                          <a:pt x="36" y="98"/>
                        </a:lnTo>
                        <a:lnTo>
                          <a:pt x="17" y="53"/>
                        </a:lnTo>
                        <a:lnTo>
                          <a:pt x="0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2139840" y="3919680"/>
                    <a:ext cx="25920" cy="367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2" h="102">
                        <a:moveTo>
                          <a:pt x="72" y="102"/>
                        </a:moveTo>
                        <a:lnTo>
                          <a:pt x="36" y="62"/>
                        </a:lnTo>
                        <a:lnTo>
                          <a:pt x="0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2138400" y="3808440"/>
                    <a:ext cx="39960" cy="2354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11" h="654">
                        <a:moveTo>
                          <a:pt x="17" y="654"/>
                        </a:moveTo>
                        <a:lnTo>
                          <a:pt x="22" y="628"/>
                        </a:lnTo>
                        <a:lnTo>
                          <a:pt x="22" y="610"/>
                        </a:lnTo>
                        <a:lnTo>
                          <a:pt x="22" y="592"/>
                        </a:lnTo>
                        <a:lnTo>
                          <a:pt x="17" y="579"/>
                        </a:lnTo>
                        <a:lnTo>
                          <a:pt x="8" y="575"/>
                        </a:lnTo>
                        <a:lnTo>
                          <a:pt x="0" y="566"/>
                        </a:lnTo>
                        <a:lnTo>
                          <a:pt x="13" y="562"/>
                        </a:lnTo>
                        <a:lnTo>
                          <a:pt x="22" y="553"/>
                        </a:lnTo>
                        <a:lnTo>
                          <a:pt x="26" y="535"/>
                        </a:lnTo>
                        <a:lnTo>
                          <a:pt x="35" y="513"/>
                        </a:lnTo>
                        <a:lnTo>
                          <a:pt x="39" y="491"/>
                        </a:lnTo>
                        <a:lnTo>
                          <a:pt x="48" y="446"/>
                        </a:lnTo>
                        <a:lnTo>
                          <a:pt x="58" y="406"/>
                        </a:lnTo>
                        <a:lnTo>
                          <a:pt x="62" y="367"/>
                        </a:lnTo>
                        <a:lnTo>
                          <a:pt x="67" y="340"/>
                        </a:lnTo>
                        <a:lnTo>
                          <a:pt x="67" y="305"/>
                        </a:lnTo>
                        <a:lnTo>
                          <a:pt x="67" y="278"/>
                        </a:lnTo>
                        <a:lnTo>
                          <a:pt x="62" y="252"/>
                        </a:lnTo>
                        <a:lnTo>
                          <a:pt x="58" y="234"/>
                        </a:lnTo>
                        <a:lnTo>
                          <a:pt x="67" y="225"/>
                        </a:lnTo>
                        <a:lnTo>
                          <a:pt x="75" y="212"/>
                        </a:lnTo>
                        <a:lnTo>
                          <a:pt x="84" y="199"/>
                        </a:lnTo>
                        <a:lnTo>
                          <a:pt x="93" y="172"/>
                        </a:lnTo>
                        <a:lnTo>
                          <a:pt x="98" y="141"/>
                        </a:lnTo>
                        <a:lnTo>
                          <a:pt x="106" y="119"/>
                        </a:lnTo>
                        <a:lnTo>
                          <a:pt x="106" y="97"/>
                        </a:lnTo>
                        <a:lnTo>
                          <a:pt x="111" y="70"/>
                        </a:lnTo>
                        <a:lnTo>
                          <a:pt x="106" y="52"/>
                        </a:lnTo>
                        <a:lnTo>
                          <a:pt x="106" y="35"/>
                        </a:lnTo>
                        <a:lnTo>
                          <a:pt x="102" y="26"/>
                        </a:lnTo>
                        <a:lnTo>
                          <a:pt x="93" y="13"/>
                        </a:lnTo>
                        <a:lnTo>
                          <a:pt x="84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2160720" y="3817800"/>
                    <a:ext cx="68760" cy="2559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1" h="711">
                        <a:moveTo>
                          <a:pt x="13" y="711"/>
                        </a:moveTo>
                        <a:lnTo>
                          <a:pt x="8" y="681"/>
                        </a:lnTo>
                        <a:lnTo>
                          <a:pt x="4" y="650"/>
                        </a:lnTo>
                        <a:lnTo>
                          <a:pt x="4" y="623"/>
                        </a:lnTo>
                        <a:lnTo>
                          <a:pt x="4" y="597"/>
                        </a:lnTo>
                        <a:lnTo>
                          <a:pt x="0" y="566"/>
                        </a:lnTo>
                        <a:lnTo>
                          <a:pt x="4" y="548"/>
                        </a:lnTo>
                        <a:lnTo>
                          <a:pt x="8" y="516"/>
                        </a:lnTo>
                        <a:lnTo>
                          <a:pt x="17" y="459"/>
                        </a:lnTo>
                        <a:lnTo>
                          <a:pt x="35" y="393"/>
                        </a:lnTo>
                        <a:lnTo>
                          <a:pt x="49" y="340"/>
                        </a:lnTo>
                        <a:lnTo>
                          <a:pt x="62" y="278"/>
                        </a:lnTo>
                        <a:lnTo>
                          <a:pt x="75" y="234"/>
                        </a:lnTo>
                        <a:lnTo>
                          <a:pt x="89" y="190"/>
                        </a:lnTo>
                        <a:lnTo>
                          <a:pt x="106" y="154"/>
                        </a:lnTo>
                        <a:lnTo>
                          <a:pt x="124" y="114"/>
                        </a:lnTo>
                        <a:lnTo>
                          <a:pt x="142" y="79"/>
                        </a:lnTo>
                        <a:lnTo>
                          <a:pt x="156" y="48"/>
                        </a:lnTo>
                        <a:lnTo>
                          <a:pt x="173" y="22"/>
                        </a:lnTo>
                        <a:lnTo>
                          <a:pt x="191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2192400" y="3825720"/>
                    <a:ext cx="25920" cy="576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2" h="160">
                        <a:moveTo>
                          <a:pt x="45" y="160"/>
                        </a:moveTo>
                        <a:lnTo>
                          <a:pt x="59" y="134"/>
                        </a:lnTo>
                        <a:lnTo>
                          <a:pt x="72" y="106"/>
                        </a:lnTo>
                        <a:lnTo>
                          <a:pt x="72" y="84"/>
                        </a:lnTo>
                        <a:lnTo>
                          <a:pt x="66" y="58"/>
                        </a:lnTo>
                        <a:lnTo>
                          <a:pt x="52" y="30"/>
                        </a:lnTo>
                        <a:lnTo>
                          <a:pt x="26" y="17"/>
                        </a:lnTo>
                        <a:lnTo>
                          <a:pt x="0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6480" bIns="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2185920" y="3753000"/>
                    <a:ext cx="4320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20" h="120">
                        <a:moveTo>
                          <a:pt x="0" y="0"/>
                        </a:moveTo>
                        <a:lnTo>
                          <a:pt x="8" y="13"/>
                        </a:lnTo>
                        <a:lnTo>
                          <a:pt x="13" y="35"/>
                        </a:lnTo>
                        <a:lnTo>
                          <a:pt x="17" y="52"/>
                        </a:lnTo>
                        <a:lnTo>
                          <a:pt x="13" y="67"/>
                        </a:lnTo>
                        <a:lnTo>
                          <a:pt x="13" y="84"/>
                        </a:lnTo>
                        <a:lnTo>
                          <a:pt x="8" y="106"/>
                        </a:lnTo>
                        <a:lnTo>
                          <a:pt x="0" y="120"/>
                        </a:lnTo>
                        <a:lnTo>
                          <a:pt x="13" y="98"/>
                        </a:lnTo>
                        <a:lnTo>
                          <a:pt x="22" y="84"/>
                        </a:lnTo>
                        <a:lnTo>
                          <a:pt x="26" y="75"/>
                        </a:lnTo>
                        <a:lnTo>
                          <a:pt x="30" y="71"/>
                        </a:lnTo>
                        <a:lnTo>
                          <a:pt x="39" y="75"/>
                        </a:lnTo>
                        <a:lnTo>
                          <a:pt x="44" y="80"/>
                        </a:lnTo>
                        <a:lnTo>
                          <a:pt x="52" y="84"/>
                        </a:lnTo>
                        <a:lnTo>
                          <a:pt x="67" y="84"/>
                        </a:lnTo>
                        <a:lnTo>
                          <a:pt x="80" y="75"/>
                        </a:lnTo>
                        <a:lnTo>
                          <a:pt x="89" y="67"/>
                        </a:lnTo>
                        <a:lnTo>
                          <a:pt x="98" y="57"/>
                        </a:lnTo>
                        <a:lnTo>
                          <a:pt x="106" y="35"/>
                        </a:lnTo>
                        <a:lnTo>
                          <a:pt x="120" y="8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2206800" y="3606840"/>
                    <a:ext cx="62280" cy="1386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73" h="385">
                        <a:moveTo>
                          <a:pt x="0" y="293"/>
                        </a:moveTo>
                        <a:lnTo>
                          <a:pt x="8" y="301"/>
                        </a:lnTo>
                        <a:lnTo>
                          <a:pt x="13" y="315"/>
                        </a:lnTo>
                        <a:lnTo>
                          <a:pt x="13" y="332"/>
                        </a:lnTo>
                        <a:lnTo>
                          <a:pt x="17" y="354"/>
                        </a:lnTo>
                        <a:lnTo>
                          <a:pt x="17" y="385"/>
                        </a:lnTo>
                        <a:lnTo>
                          <a:pt x="26" y="363"/>
                        </a:lnTo>
                        <a:lnTo>
                          <a:pt x="30" y="337"/>
                        </a:lnTo>
                        <a:lnTo>
                          <a:pt x="39" y="319"/>
                        </a:lnTo>
                        <a:lnTo>
                          <a:pt x="45" y="301"/>
                        </a:lnTo>
                        <a:lnTo>
                          <a:pt x="49" y="293"/>
                        </a:lnTo>
                        <a:lnTo>
                          <a:pt x="58" y="278"/>
                        </a:lnTo>
                        <a:lnTo>
                          <a:pt x="67" y="274"/>
                        </a:lnTo>
                        <a:lnTo>
                          <a:pt x="75" y="269"/>
                        </a:lnTo>
                        <a:lnTo>
                          <a:pt x="89" y="265"/>
                        </a:lnTo>
                        <a:lnTo>
                          <a:pt x="106" y="274"/>
                        </a:lnTo>
                        <a:lnTo>
                          <a:pt x="106" y="256"/>
                        </a:lnTo>
                        <a:lnTo>
                          <a:pt x="102" y="239"/>
                        </a:lnTo>
                        <a:lnTo>
                          <a:pt x="102" y="221"/>
                        </a:lnTo>
                        <a:lnTo>
                          <a:pt x="102" y="195"/>
                        </a:lnTo>
                        <a:lnTo>
                          <a:pt x="106" y="172"/>
                        </a:lnTo>
                        <a:lnTo>
                          <a:pt x="111" y="150"/>
                        </a:lnTo>
                        <a:lnTo>
                          <a:pt x="120" y="120"/>
                        </a:lnTo>
                        <a:lnTo>
                          <a:pt x="128" y="92"/>
                        </a:lnTo>
                        <a:lnTo>
                          <a:pt x="134" y="74"/>
                        </a:lnTo>
                        <a:lnTo>
                          <a:pt x="143" y="52"/>
                        </a:lnTo>
                        <a:lnTo>
                          <a:pt x="151" y="35"/>
                        </a:lnTo>
                        <a:lnTo>
                          <a:pt x="173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2228760" y="3703680"/>
                    <a:ext cx="35280" cy="511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98" h="142">
                        <a:moveTo>
                          <a:pt x="0" y="115"/>
                        </a:moveTo>
                        <a:lnTo>
                          <a:pt x="8" y="128"/>
                        </a:lnTo>
                        <a:lnTo>
                          <a:pt x="13" y="142"/>
                        </a:lnTo>
                        <a:lnTo>
                          <a:pt x="22" y="142"/>
                        </a:lnTo>
                        <a:lnTo>
                          <a:pt x="30" y="142"/>
                        </a:lnTo>
                        <a:lnTo>
                          <a:pt x="44" y="133"/>
                        </a:lnTo>
                        <a:lnTo>
                          <a:pt x="62" y="120"/>
                        </a:lnTo>
                        <a:lnTo>
                          <a:pt x="67" y="111"/>
                        </a:lnTo>
                        <a:lnTo>
                          <a:pt x="75" y="102"/>
                        </a:lnTo>
                        <a:lnTo>
                          <a:pt x="75" y="93"/>
                        </a:lnTo>
                        <a:lnTo>
                          <a:pt x="89" y="52"/>
                        </a:lnTo>
                        <a:lnTo>
                          <a:pt x="98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2276640" y="3616200"/>
                    <a:ext cx="25920" cy="860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2" h="239">
                        <a:moveTo>
                          <a:pt x="0" y="239"/>
                        </a:moveTo>
                        <a:lnTo>
                          <a:pt x="29" y="212"/>
                        </a:lnTo>
                        <a:lnTo>
                          <a:pt x="43" y="190"/>
                        </a:lnTo>
                        <a:lnTo>
                          <a:pt x="58" y="164"/>
                        </a:lnTo>
                        <a:lnTo>
                          <a:pt x="72" y="133"/>
                        </a:lnTo>
                        <a:lnTo>
                          <a:pt x="72" y="101"/>
                        </a:lnTo>
                        <a:lnTo>
                          <a:pt x="65" y="70"/>
                        </a:lnTo>
                        <a:lnTo>
                          <a:pt x="43" y="44"/>
                        </a:lnTo>
                        <a:lnTo>
                          <a:pt x="22" y="17"/>
                        </a:lnTo>
                        <a:lnTo>
                          <a:pt x="0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34920" bIns="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2279520" y="3605040"/>
                    <a:ext cx="38520" cy="11628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07" h="323">
                        <a:moveTo>
                          <a:pt x="49" y="0"/>
                        </a:moveTo>
                        <a:lnTo>
                          <a:pt x="58" y="13"/>
                        </a:lnTo>
                        <a:lnTo>
                          <a:pt x="62" y="30"/>
                        </a:lnTo>
                        <a:lnTo>
                          <a:pt x="62" y="57"/>
                        </a:lnTo>
                        <a:lnTo>
                          <a:pt x="62" y="70"/>
                        </a:lnTo>
                        <a:lnTo>
                          <a:pt x="58" y="98"/>
                        </a:lnTo>
                        <a:lnTo>
                          <a:pt x="49" y="128"/>
                        </a:lnTo>
                        <a:lnTo>
                          <a:pt x="40" y="164"/>
                        </a:lnTo>
                        <a:lnTo>
                          <a:pt x="26" y="208"/>
                        </a:lnTo>
                        <a:lnTo>
                          <a:pt x="17" y="244"/>
                        </a:lnTo>
                        <a:lnTo>
                          <a:pt x="8" y="270"/>
                        </a:lnTo>
                        <a:lnTo>
                          <a:pt x="4" y="306"/>
                        </a:lnTo>
                        <a:lnTo>
                          <a:pt x="0" y="323"/>
                        </a:lnTo>
                        <a:lnTo>
                          <a:pt x="8" y="306"/>
                        </a:lnTo>
                        <a:lnTo>
                          <a:pt x="13" y="288"/>
                        </a:lnTo>
                        <a:lnTo>
                          <a:pt x="22" y="270"/>
                        </a:lnTo>
                        <a:lnTo>
                          <a:pt x="36" y="253"/>
                        </a:lnTo>
                        <a:lnTo>
                          <a:pt x="45" y="234"/>
                        </a:lnTo>
                        <a:lnTo>
                          <a:pt x="62" y="217"/>
                        </a:lnTo>
                        <a:lnTo>
                          <a:pt x="71" y="199"/>
                        </a:lnTo>
                        <a:lnTo>
                          <a:pt x="90" y="186"/>
                        </a:lnTo>
                        <a:lnTo>
                          <a:pt x="107" y="172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2235240" y="3718080"/>
                    <a:ext cx="6696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86" h="199">
                        <a:moveTo>
                          <a:pt x="0" y="137"/>
                        </a:moveTo>
                        <a:lnTo>
                          <a:pt x="0" y="155"/>
                        </a:lnTo>
                        <a:lnTo>
                          <a:pt x="0" y="177"/>
                        </a:lnTo>
                        <a:lnTo>
                          <a:pt x="4" y="190"/>
                        </a:lnTo>
                        <a:lnTo>
                          <a:pt x="4" y="195"/>
                        </a:lnTo>
                        <a:lnTo>
                          <a:pt x="8" y="199"/>
                        </a:lnTo>
                        <a:lnTo>
                          <a:pt x="17" y="195"/>
                        </a:lnTo>
                        <a:lnTo>
                          <a:pt x="30" y="190"/>
                        </a:lnTo>
                        <a:lnTo>
                          <a:pt x="44" y="181"/>
                        </a:lnTo>
                        <a:lnTo>
                          <a:pt x="57" y="168"/>
                        </a:lnTo>
                        <a:lnTo>
                          <a:pt x="70" y="150"/>
                        </a:lnTo>
                        <a:lnTo>
                          <a:pt x="83" y="137"/>
                        </a:lnTo>
                        <a:lnTo>
                          <a:pt x="98" y="115"/>
                        </a:lnTo>
                        <a:lnTo>
                          <a:pt x="106" y="92"/>
                        </a:lnTo>
                        <a:lnTo>
                          <a:pt x="120" y="66"/>
                        </a:lnTo>
                        <a:lnTo>
                          <a:pt x="137" y="57"/>
                        </a:lnTo>
                        <a:lnTo>
                          <a:pt x="150" y="44"/>
                        </a:lnTo>
                        <a:lnTo>
                          <a:pt x="172" y="17"/>
                        </a:lnTo>
                        <a:lnTo>
                          <a:pt x="186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5" name=""/>
              <p:cNvSpPr/>
              <p:nvPr/>
            </p:nvSpPr>
            <p:spPr>
              <a:xfrm>
                <a:off x="2249640" y="3747960"/>
                <a:ext cx="66960" cy="254520"/>
              </a:xfrm>
              <a:custGeom>
                <a:avLst/>
                <a:gdLst/>
                <a:ahLst/>
                <a:rect l="0" t="0" r="r" b="b"/>
                <a:pathLst>
                  <a:path fill="none" w="186" h="707">
                    <a:moveTo>
                      <a:pt x="8" y="707"/>
                    </a:moveTo>
                    <a:lnTo>
                      <a:pt x="4" y="681"/>
                    </a:lnTo>
                    <a:lnTo>
                      <a:pt x="4" y="645"/>
                    </a:lnTo>
                    <a:lnTo>
                      <a:pt x="0" y="619"/>
                    </a:lnTo>
                    <a:lnTo>
                      <a:pt x="0" y="592"/>
                    </a:lnTo>
                    <a:lnTo>
                      <a:pt x="0" y="562"/>
                    </a:lnTo>
                    <a:lnTo>
                      <a:pt x="0" y="544"/>
                    </a:lnTo>
                    <a:lnTo>
                      <a:pt x="4" y="512"/>
                    </a:lnTo>
                    <a:lnTo>
                      <a:pt x="17" y="455"/>
                    </a:lnTo>
                    <a:lnTo>
                      <a:pt x="30" y="393"/>
                    </a:lnTo>
                    <a:lnTo>
                      <a:pt x="44" y="336"/>
                    </a:lnTo>
                    <a:lnTo>
                      <a:pt x="61" y="278"/>
                    </a:lnTo>
                    <a:lnTo>
                      <a:pt x="74" y="234"/>
                    </a:lnTo>
                    <a:lnTo>
                      <a:pt x="88" y="190"/>
                    </a:lnTo>
                    <a:lnTo>
                      <a:pt x="102" y="154"/>
                    </a:lnTo>
                    <a:lnTo>
                      <a:pt x="120" y="114"/>
                    </a:lnTo>
                    <a:lnTo>
                      <a:pt x="137" y="79"/>
                    </a:lnTo>
                    <a:lnTo>
                      <a:pt x="155" y="48"/>
                    </a:lnTo>
                    <a:lnTo>
                      <a:pt x="168" y="22"/>
                    </a:lnTo>
                    <a:lnTo>
                      <a:pt x="186" y="0"/>
                    </a:lnTo>
                  </a:path>
                </a:pathLst>
              </a:custGeom>
              <a:ln w="12600">
                <a:solidFill>
                  <a:srgbClr val="ff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203560" y="3879720"/>
                <a:ext cx="25920" cy="81360"/>
              </a:xfrm>
              <a:custGeom>
                <a:avLst/>
                <a:gdLst/>
                <a:ahLst/>
                <a:rect l="0" t="0" r="r" b="b"/>
                <a:pathLst>
                  <a:path fill="none" w="72" h="226">
                    <a:moveTo>
                      <a:pt x="72" y="226"/>
                    </a:moveTo>
                    <a:lnTo>
                      <a:pt x="48" y="196"/>
                    </a:lnTo>
                    <a:lnTo>
                      <a:pt x="24" y="164"/>
                    </a:lnTo>
                    <a:lnTo>
                      <a:pt x="0" y="124"/>
                    </a:lnTo>
                    <a:lnTo>
                      <a:pt x="0" y="93"/>
                    </a:lnTo>
                    <a:lnTo>
                      <a:pt x="7" y="58"/>
                    </a:lnTo>
                    <a:lnTo>
                      <a:pt x="24" y="30"/>
                    </a:lnTo>
                    <a:lnTo>
                      <a:pt x="48" y="0"/>
                    </a:lnTo>
                  </a:path>
                </a:pathLst>
              </a:custGeom>
              <a:ln w="12600">
                <a:solidFill>
                  <a:srgbClr val="ff8080"/>
                </a:solidFill>
                <a:round/>
              </a:ln>
            </p:spPr>
            <p:txBody>
              <a:bodyPr lIns="96120" rIns="9612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173320" y="4025880"/>
                <a:ext cx="25920" cy="35280"/>
              </a:xfrm>
              <a:custGeom>
                <a:avLst/>
                <a:gdLst/>
                <a:ahLst/>
                <a:rect l="0" t="0" r="r" b="b"/>
                <a:pathLst>
                  <a:path fill="none" w="72" h="98">
                    <a:moveTo>
                      <a:pt x="0" y="48"/>
                    </a:moveTo>
                    <a:lnTo>
                      <a:pt x="15" y="26"/>
                    </a:lnTo>
                    <a:lnTo>
                      <a:pt x="26" y="13"/>
                    </a:lnTo>
                    <a:lnTo>
                      <a:pt x="36" y="0"/>
                    </a:lnTo>
                    <a:lnTo>
                      <a:pt x="46" y="0"/>
                    </a:lnTo>
                    <a:lnTo>
                      <a:pt x="57" y="4"/>
                    </a:lnTo>
                    <a:lnTo>
                      <a:pt x="67" y="17"/>
                    </a:lnTo>
                    <a:lnTo>
                      <a:pt x="72" y="30"/>
                    </a:lnTo>
                    <a:lnTo>
                      <a:pt x="72" y="48"/>
                    </a:lnTo>
                    <a:lnTo>
                      <a:pt x="72" y="75"/>
                    </a:lnTo>
                    <a:lnTo>
                      <a:pt x="72" y="98"/>
                    </a:lnTo>
                  </a:path>
                </a:pathLst>
              </a:custGeom>
              <a:ln w="12600">
                <a:solidFill>
                  <a:srgbClr val="ff808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203560" y="3789360"/>
                <a:ext cx="73440" cy="224280"/>
              </a:xfrm>
              <a:custGeom>
                <a:avLst/>
                <a:gdLst/>
                <a:ahLst/>
                <a:rect l="0" t="0" r="r" b="b"/>
                <a:pathLst>
                  <a:path fill="none" w="204" h="623">
                    <a:moveTo>
                      <a:pt x="0" y="623"/>
                    </a:moveTo>
                    <a:lnTo>
                      <a:pt x="4" y="601"/>
                    </a:lnTo>
                    <a:lnTo>
                      <a:pt x="13" y="584"/>
                    </a:lnTo>
                    <a:lnTo>
                      <a:pt x="22" y="566"/>
                    </a:lnTo>
                    <a:lnTo>
                      <a:pt x="30" y="557"/>
                    </a:lnTo>
                    <a:lnTo>
                      <a:pt x="39" y="553"/>
                    </a:lnTo>
                    <a:lnTo>
                      <a:pt x="48" y="553"/>
                    </a:lnTo>
                    <a:lnTo>
                      <a:pt x="39" y="539"/>
                    </a:lnTo>
                    <a:lnTo>
                      <a:pt x="35" y="531"/>
                    </a:lnTo>
                    <a:lnTo>
                      <a:pt x="35" y="513"/>
                    </a:lnTo>
                    <a:lnTo>
                      <a:pt x="39" y="491"/>
                    </a:lnTo>
                    <a:lnTo>
                      <a:pt x="44" y="464"/>
                    </a:lnTo>
                    <a:lnTo>
                      <a:pt x="53" y="424"/>
                    </a:lnTo>
                    <a:lnTo>
                      <a:pt x="67" y="380"/>
                    </a:lnTo>
                    <a:lnTo>
                      <a:pt x="75" y="344"/>
                    </a:lnTo>
                    <a:lnTo>
                      <a:pt x="84" y="318"/>
                    </a:lnTo>
                    <a:lnTo>
                      <a:pt x="98" y="283"/>
                    </a:lnTo>
                    <a:lnTo>
                      <a:pt x="111" y="261"/>
                    </a:lnTo>
                    <a:lnTo>
                      <a:pt x="120" y="239"/>
                    </a:lnTo>
                    <a:lnTo>
                      <a:pt x="133" y="225"/>
                    </a:lnTo>
                    <a:lnTo>
                      <a:pt x="128" y="212"/>
                    </a:lnTo>
                    <a:lnTo>
                      <a:pt x="124" y="199"/>
                    </a:lnTo>
                    <a:lnTo>
                      <a:pt x="124" y="181"/>
                    </a:lnTo>
                    <a:lnTo>
                      <a:pt x="124" y="154"/>
                    </a:lnTo>
                    <a:lnTo>
                      <a:pt x="133" y="123"/>
                    </a:lnTo>
                    <a:lnTo>
                      <a:pt x="137" y="97"/>
                    </a:lnTo>
                    <a:lnTo>
                      <a:pt x="146" y="79"/>
                    </a:lnTo>
                    <a:lnTo>
                      <a:pt x="150" y="52"/>
                    </a:lnTo>
                    <a:lnTo>
                      <a:pt x="160" y="35"/>
                    </a:lnTo>
                    <a:lnTo>
                      <a:pt x="169" y="22"/>
                    </a:lnTo>
                    <a:lnTo>
                      <a:pt x="178" y="13"/>
                    </a:lnTo>
                    <a:lnTo>
                      <a:pt x="187" y="8"/>
                    </a:lnTo>
                    <a:lnTo>
                      <a:pt x="204" y="0"/>
                    </a:lnTo>
                  </a:path>
                </a:pathLst>
              </a:custGeom>
              <a:ln w="12600">
                <a:solidFill>
                  <a:srgbClr val="ff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9" name=""/>
            <p:cNvSpPr/>
            <p:nvPr/>
          </p:nvSpPr>
          <p:spPr>
            <a:xfrm>
              <a:off x="2133720" y="3579840"/>
              <a:ext cx="238320" cy="810000"/>
            </a:xfrm>
            <a:custGeom>
              <a:avLst/>
              <a:gdLst/>
              <a:ahLst/>
              <a:rect l="0" t="0" r="r" b="b"/>
              <a:pathLst>
                <a:path w="662" h="2250">
                  <a:moveTo>
                    <a:pt x="0" y="2202"/>
                  </a:moveTo>
                  <a:lnTo>
                    <a:pt x="26" y="2074"/>
                  </a:lnTo>
                  <a:lnTo>
                    <a:pt x="57" y="1920"/>
                  </a:lnTo>
                  <a:lnTo>
                    <a:pt x="74" y="1840"/>
                  </a:lnTo>
                  <a:lnTo>
                    <a:pt x="97" y="1735"/>
                  </a:lnTo>
                  <a:lnTo>
                    <a:pt x="105" y="1699"/>
                  </a:lnTo>
                  <a:lnTo>
                    <a:pt x="114" y="1659"/>
                  </a:lnTo>
                  <a:lnTo>
                    <a:pt x="136" y="1623"/>
                  </a:lnTo>
                  <a:lnTo>
                    <a:pt x="158" y="1584"/>
                  </a:lnTo>
                  <a:lnTo>
                    <a:pt x="202" y="1487"/>
                  </a:lnTo>
                  <a:lnTo>
                    <a:pt x="224" y="1451"/>
                  </a:lnTo>
                  <a:lnTo>
                    <a:pt x="233" y="1412"/>
                  </a:lnTo>
                  <a:lnTo>
                    <a:pt x="229" y="1372"/>
                  </a:lnTo>
                  <a:lnTo>
                    <a:pt x="211" y="1328"/>
                  </a:lnTo>
                  <a:lnTo>
                    <a:pt x="194" y="1284"/>
                  </a:lnTo>
                  <a:lnTo>
                    <a:pt x="202" y="1244"/>
                  </a:lnTo>
                  <a:lnTo>
                    <a:pt x="224" y="1196"/>
                  </a:lnTo>
                  <a:lnTo>
                    <a:pt x="251" y="1147"/>
                  </a:lnTo>
                  <a:lnTo>
                    <a:pt x="260" y="1107"/>
                  </a:lnTo>
                  <a:lnTo>
                    <a:pt x="264" y="1068"/>
                  </a:lnTo>
                  <a:lnTo>
                    <a:pt x="260" y="1028"/>
                  </a:lnTo>
                  <a:lnTo>
                    <a:pt x="260" y="971"/>
                  </a:lnTo>
                  <a:lnTo>
                    <a:pt x="268" y="922"/>
                  </a:lnTo>
                  <a:lnTo>
                    <a:pt x="277" y="882"/>
                  </a:lnTo>
                  <a:lnTo>
                    <a:pt x="313" y="847"/>
                  </a:lnTo>
                  <a:lnTo>
                    <a:pt x="336" y="812"/>
                  </a:lnTo>
                  <a:lnTo>
                    <a:pt x="358" y="763"/>
                  </a:lnTo>
                  <a:lnTo>
                    <a:pt x="358" y="710"/>
                  </a:lnTo>
                  <a:lnTo>
                    <a:pt x="367" y="658"/>
                  </a:lnTo>
                  <a:lnTo>
                    <a:pt x="375" y="618"/>
                  </a:lnTo>
                  <a:lnTo>
                    <a:pt x="397" y="515"/>
                  </a:lnTo>
                  <a:lnTo>
                    <a:pt x="419" y="476"/>
                  </a:lnTo>
                  <a:lnTo>
                    <a:pt x="441" y="440"/>
                  </a:lnTo>
                  <a:lnTo>
                    <a:pt x="450" y="401"/>
                  </a:lnTo>
                  <a:lnTo>
                    <a:pt x="486" y="357"/>
                  </a:lnTo>
                  <a:lnTo>
                    <a:pt x="503" y="277"/>
                  </a:lnTo>
                  <a:lnTo>
                    <a:pt x="512" y="242"/>
                  </a:lnTo>
                  <a:lnTo>
                    <a:pt x="521" y="202"/>
                  </a:lnTo>
                  <a:lnTo>
                    <a:pt x="538" y="167"/>
                  </a:lnTo>
                  <a:lnTo>
                    <a:pt x="565" y="114"/>
                  </a:lnTo>
                  <a:lnTo>
                    <a:pt x="587" y="79"/>
                  </a:lnTo>
                  <a:lnTo>
                    <a:pt x="609" y="30"/>
                  </a:lnTo>
                  <a:lnTo>
                    <a:pt x="644" y="0"/>
                  </a:lnTo>
                  <a:lnTo>
                    <a:pt x="662" y="44"/>
                  </a:lnTo>
                  <a:lnTo>
                    <a:pt x="640" y="132"/>
                  </a:lnTo>
                  <a:lnTo>
                    <a:pt x="636" y="171"/>
                  </a:lnTo>
                  <a:lnTo>
                    <a:pt x="609" y="220"/>
                  </a:lnTo>
                  <a:lnTo>
                    <a:pt x="587" y="268"/>
                  </a:lnTo>
                  <a:lnTo>
                    <a:pt x="578" y="308"/>
                  </a:lnTo>
                  <a:lnTo>
                    <a:pt x="543" y="410"/>
                  </a:lnTo>
                  <a:lnTo>
                    <a:pt x="516" y="458"/>
                  </a:lnTo>
                  <a:lnTo>
                    <a:pt x="512" y="498"/>
                  </a:lnTo>
                  <a:lnTo>
                    <a:pt x="499" y="546"/>
                  </a:lnTo>
                  <a:lnTo>
                    <a:pt x="490" y="587"/>
                  </a:lnTo>
                  <a:lnTo>
                    <a:pt x="472" y="666"/>
                  </a:lnTo>
                  <a:lnTo>
                    <a:pt x="459" y="746"/>
                  </a:lnTo>
                  <a:lnTo>
                    <a:pt x="446" y="794"/>
                  </a:lnTo>
                  <a:lnTo>
                    <a:pt x="450" y="838"/>
                  </a:lnTo>
                  <a:lnTo>
                    <a:pt x="415" y="940"/>
                  </a:lnTo>
                  <a:lnTo>
                    <a:pt x="406" y="988"/>
                  </a:lnTo>
                  <a:lnTo>
                    <a:pt x="371" y="1024"/>
                  </a:lnTo>
                  <a:lnTo>
                    <a:pt x="349" y="1059"/>
                  </a:lnTo>
                  <a:lnTo>
                    <a:pt x="336" y="1138"/>
                  </a:lnTo>
                  <a:lnTo>
                    <a:pt x="313" y="1240"/>
                  </a:lnTo>
                  <a:lnTo>
                    <a:pt x="317" y="1284"/>
                  </a:lnTo>
                  <a:lnTo>
                    <a:pt x="321" y="1390"/>
                  </a:lnTo>
                  <a:lnTo>
                    <a:pt x="317" y="1469"/>
                  </a:lnTo>
                  <a:lnTo>
                    <a:pt x="308" y="1509"/>
                  </a:lnTo>
                  <a:lnTo>
                    <a:pt x="277" y="1584"/>
                  </a:lnTo>
                  <a:lnTo>
                    <a:pt x="233" y="1739"/>
                  </a:lnTo>
                  <a:lnTo>
                    <a:pt x="211" y="1774"/>
                  </a:lnTo>
                  <a:lnTo>
                    <a:pt x="202" y="1814"/>
                  </a:lnTo>
                  <a:lnTo>
                    <a:pt x="220" y="1858"/>
                  </a:lnTo>
                  <a:lnTo>
                    <a:pt x="268" y="1893"/>
                  </a:lnTo>
                  <a:lnTo>
                    <a:pt x="273" y="1937"/>
                  </a:lnTo>
                  <a:lnTo>
                    <a:pt x="291" y="1981"/>
                  </a:lnTo>
                  <a:lnTo>
                    <a:pt x="273" y="2056"/>
                  </a:lnTo>
                  <a:lnTo>
                    <a:pt x="260" y="2109"/>
                  </a:lnTo>
                  <a:lnTo>
                    <a:pt x="216" y="2127"/>
                  </a:lnTo>
                  <a:lnTo>
                    <a:pt x="180" y="2118"/>
                  </a:lnTo>
                  <a:lnTo>
                    <a:pt x="132" y="2136"/>
                  </a:lnTo>
                  <a:lnTo>
                    <a:pt x="114" y="2228"/>
                  </a:lnTo>
                  <a:lnTo>
                    <a:pt x="74" y="2233"/>
                  </a:lnTo>
                  <a:lnTo>
                    <a:pt x="114" y="2242"/>
                  </a:lnTo>
                  <a:lnTo>
                    <a:pt x="149" y="2250"/>
                  </a:lnTo>
                  <a:lnTo>
                    <a:pt x="185" y="2215"/>
                  </a:lnTo>
                  <a:lnTo>
                    <a:pt x="198" y="2162"/>
                  </a:lnTo>
                  <a:lnTo>
                    <a:pt x="255" y="2149"/>
                  </a:lnTo>
                  <a:lnTo>
                    <a:pt x="291" y="2158"/>
                  </a:lnTo>
                  <a:lnTo>
                    <a:pt x="384" y="2175"/>
                  </a:lnTo>
                  <a:lnTo>
                    <a:pt x="424" y="2184"/>
                  </a:lnTo>
                  <a:lnTo>
                    <a:pt x="464" y="2180"/>
                  </a:lnTo>
                  <a:lnTo>
                    <a:pt x="503" y="2189"/>
                  </a:lnTo>
                  <a:lnTo>
                    <a:pt x="547" y="2171"/>
                  </a:lnTo>
                  <a:lnTo>
                    <a:pt x="556" y="2131"/>
                  </a:lnTo>
                  <a:lnTo>
                    <a:pt x="521" y="2096"/>
                  </a:lnTo>
                  <a:lnTo>
                    <a:pt x="486" y="2074"/>
                  </a:lnTo>
                  <a:lnTo>
                    <a:pt x="450" y="2109"/>
                  </a:lnTo>
                  <a:lnTo>
                    <a:pt x="406" y="2127"/>
                  </a:lnTo>
                  <a:lnTo>
                    <a:pt x="367" y="2131"/>
                  </a:lnTo>
                  <a:lnTo>
                    <a:pt x="326" y="2123"/>
                  </a:lnTo>
                  <a:lnTo>
                    <a:pt x="308" y="2078"/>
                  </a:lnTo>
                  <a:lnTo>
                    <a:pt x="371" y="2052"/>
                  </a:lnTo>
                  <a:lnTo>
                    <a:pt x="415" y="2034"/>
                  </a:lnTo>
                  <a:lnTo>
                    <a:pt x="424" y="1995"/>
                  </a:lnTo>
                  <a:lnTo>
                    <a:pt x="389" y="1959"/>
                  </a:lnTo>
                  <a:lnTo>
                    <a:pt x="353" y="1929"/>
                  </a:lnTo>
                  <a:lnTo>
                    <a:pt x="362" y="1889"/>
                  </a:lnTo>
                  <a:lnTo>
                    <a:pt x="326" y="1867"/>
                  </a:lnTo>
                  <a:lnTo>
                    <a:pt x="286" y="1858"/>
                  </a:lnTo>
                  <a:lnTo>
                    <a:pt x="251" y="1959"/>
                  </a:lnTo>
                  <a:lnTo>
                    <a:pt x="0" y="2202"/>
                  </a:lnTo>
                  <a:close/>
                </a:path>
              </a:pathLst>
            </a:custGeom>
            <a:solidFill>
              <a:srgbClr val="cc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3124080" y="2438280"/>
            <a:ext cx="2057760" cy="914760"/>
          </a:xfrm>
          <a:custGeom>
            <a:avLst/>
            <a:gdLst/>
            <a:ahLst/>
            <a:rect l="0" t="0" r="r" b="b"/>
            <a:pathLst>
              <a:path fill="none" w="5716" h="2541">
                <a:moveTo>
                  <a:pt x="0" y="253"/>
                </a:moveTo>
                <a:lnTo>
                  <a:pt x="0" y="2033"/>
                </a:lnTo>
                <a:lnTo>
                  <a:pt x="571" y="2286"/>
                </a:lnTo>
                <a:lnTo>
                  <a:pt x="1142" y="2286"/>
                </a:lnTo>
                <a:lnTo>
                  <a:pt x="571" y="2541"/>
                </a:lnTo>
                <a:lnTo>
                  <a:pt x="1714" y="2286"/>
                </a:lnTo>
                <a:lnTo>
                  <a:pt x="5144" y="2286"/>
                </a:lnTo>
                <a:lnTo>
                  <a:pt x="5716" y="2033"/>
                </a:lnTo>
                <a:lnTo>
                  <a:pt x="5716" y="253"/>
                </a:lnTo>
                <a:lnTo>
                  <a:pt x="5144" y="0"/>
                </a:lnTo>
                <a:lnTo>
                  <a:pt x="571" y="0"/>
                </a:lnTo>
                <a:lnTo>
                  <a:pt x="0" y="253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314880" y="25909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HAIR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2523960" y="5708520"/>
            <a:ext cx="859320" cy="624240"/>
            <a:chOff x="2523960" y="5708520"/>
            <a:chExt cx="859320" cy="624240"/>
          </a:xfrm>
        </p:grpSpPr>
        <p:grpSp>
          <p:nvGrpSpPr>
            <p:cNvPr id="933" name=""/>
            <p:cNvGrpSpPr/>
            <p:nvPr/>
          </p:nvGrpSpPr>
          <p:grpSpPr>
            <a:xfrm>
              <a:off x="2523960" y="5708520"/>
              <a:ext cx="859320" cy="624240"/>
              <a:chOff x="2523960" y="5708520"/>
              <a:chExt cx="859320" cy="624240"/>
            </a:xfrm>
          </p:grpSpPr>
          <p:sp>
            <p:nvSpPr>
              <p:cNvPr id="934" name=""/>
              <p:cNvSpPr/>
              <p:nvPr/>
            </p:nvSpPr>
            <p:spPr>
              <a:xfrm>
                <a:off x="2540160" y="5934240"/>
                <a:ext cx="814680" cy="352800"/>
              </a:xfrm>
              <a:custGeom>
                <a:avLst/>
                <a:gdLst/>
                <a:ahLst/>
                <a:rect l="0" t="0" r="r" b="b"/>
                <a:pathLst>
                  <a:path w="2263" h="980">
                    <a:moveTo>
                      <a:pt x="79" y="980"/>
                    </a:moveTo>
                    <a:lnTo>
                      <a:pt x="238" y="371"/>
                    </a:lnTo>
                    <a:lnTo>
                      <a:pt x="542" y="66"/>
                    </a:lnTo>
                    <a:lnTo>
                      <a:pt x="648" y="105"/>
                    </a:lnTo>
                    <a:lnTo>
                      <a:pt x="859" y="39"/>
                    </a:lnTo>
                    <a:lnTo>
                      <a:pt x="1337" y="0"/>
                    </a:lnTo>
                    <a:lnTo>
                      <a:pt x="1786" y="26"/>
                    </a:lnTo>
                    <a:lnTo>
                      <a:pt x="2197" y="26"/>
                    </a:lnTo>
                    <a:lnTo>
                      <a:pt x="2263" y="145"/>
                    </a:lnTo>
                    <a:lnTo>
                      <a:pt x="2183" y="238"/>
                    </a:lnTo>
                    <a:lnTo>
                      <a:pt x="2223" y="265"/>
                    </a:lnTo>
                    <a:lnTo>
                      <a:pt x="2249" y="437"/>
                    </a:lnTo>
                    <a:lnTo>
                      <a:pt x="2236" y="861"/>
                    </a:lnTo>
                    <a:lnTo>
                      <a:pt x="2263" y="954"/>
                    </a:lnTo>
                    <a:lnTo>
                      <a:pt x="1681" y="901"/>
                    </a:lnTo>
                    <a:lnTo>
                      <a:pt x="846" y="914"/>
                    </a:lnTo>
                    <a:lnTo>
                      <a:pt x="330" y="941"/>
                    </a:lnTo>
                    <a:lnTo>
                      <a:pt x="92" y="928"/>
                    </a:lnTo>
                    <a:lnTo>
                      <a:pt x="0" y="875"/>
                    </a:lnTo>
                    <a:lnTo>
                      <a:pt x="79" y="9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5" name=""/>
              <p:cNvGrpSpPr/>
              <p:nvPr/>
            </p:nvGrpSpPr>
            <p:grpSpPr>
              <a:xfrm>
                <a:off x="2523960" y="5708520"/>
                <a:ext cx="859320" cy="624240"/>
                <a:chOff x="2523960" y="5708520"/>
                <a:chExt cx="859320" cy="624240"/>
              </a:xfrm>
            </p:grpSpPr>
            <p:grpSp>
              <p:nvGrpSpPr>
                <p:cNvPr id="936" name=""/>
                <p:cNvGrpSpPr/>
                <p:nvPr/>
              </p:nvGrpSpPr>
              <p:grpSpPr>
                <a:xfrm>
                  <a:off x="2730600" y="5708520"/>
                  <a:ext cx="636480" cy="263520"/>
                  <a:chOff x="2730600" y="5708520"/>
                  <a:chExt cx="636480" cy="263520"/>
                </a:xfrm>
              </p:grpSpPr>
              <p:sp>
                <p:nvSpPr>
                  <p:cNvPr id="937" name=""/>
                  <p:cNvSpPr/>
                  <p:nvPr/>
                </p:nvSpPr>
                <p:spPr>
                  <a:xfrm>
                    <a:off x="2730600" y="5754600"/>
                    <a:ext cx="19080" cy="217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 flipV="1">
                    <a:off x="2854440" y="5729400"/>
                    <a:ext cx="6120" cy="217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 flipV="1">
                    <a:off x="3016080" y="5708520"/>
                    <a:ext cx="24120" cy="2304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 flipV="1">
                    <a:off x="3179880" y="5746680"/>
                    <a:ext cx="44280" cy="20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 flipV="1">
                    <a:off x="3321000" y="5769000"/>
                    <a:ext cx="46080" cy="1810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2" name=""/>
                <p:cNvSpPr/>
                <p:nvPr/>
              </p:nvSpPr>
              <p:spPr>
                <a:xfrm>
                  <a:off x="2541600" y="5962680"/>
                  <a:ext cx="824400" cy="329040"/>
                </a:xfrm>
                <a:custGeom>
                  <a:avLst/>
                  <a:gdLst/>
                  <a:ahLst/>
                  <a:rect l="0" t="0" r="r" b="b"/>
                  <a:pathLst>
                    <a:path fill="none" w="2290" h="914">
                      <a:moveTo>
                        <a:pt x="498" y="0"/>
                      </a:moveTo>
                      <a:lnTo>
                        <a:pt x="194" y="283"/>
                      </a:lnTo>
                      <a:lnTo>
                        <a:pt x="70" y="703"/>
                      </a:lnTo>
                      <a:lnTo>
                        <a:pt x="0" y="914"/>
                      </a:lnTo>
                      <a:lnTo>
                        <a:pt x="2268" y="905"/>
                      </a:lnTo>
                      <a:lnTo>
                        <a:pt x="2290" y="92"/>
                      </a:lnTo>
                      <a:lnTo>
                        <a:pt x="2206" y="202"/>
                      </a:lnTo>
                    </a:path>
                  </a:pathLst>
                </a:custGeom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2523960" y="6249960"/>
                  <a:ext cx="859320" cy="82800"/>
                </a:xfrm>
                <a:custGeom>
                  <a:avLst/>
                  <a:gdLst/>
                  <a:ahLst/>
                  <a:rect l="0" t="0" r="r" b="b"/>
                  <a:pathLst>
                    <a:path w="2387" h="230">
                      <a:moveTo>
                        <a:pt x="66" y="114"/>
                      </a:moveTo>
                      <a:lnTo>
                        <a:pt x="119" y="114"/>
                      </a:lnTo>
                      <a:lnTo>
                        <a:pt x="154" y="88"/>
                      </a:lnTo>
                      <a:lnTo>
                        <a:pt x="194" y="83"/>
                      </a:lnTo>
                      <a:lnTo>
                        <a:pt x="233" y="83"/>
                      </a:lnTo>
                      <a:lnTo>
                        <a:pt x="242" y="39"/>
                      </a:lnTo>
                      <a:lnTo>
                        <a:pt x="282" y="39"/>
                      </a:lnTo>
                      <a:lnTo>
                        <a:pt x="339" y="48"/>
                      </a:lnTo>
                      <a:lnTo>
                        <a:pt x="374" y="61"/>
                      </a:lnTo>
                      <a:lnTo>
                        <a:pt x="418" y="57"/>
                      </a:lnTo>
                      <a:lnTo>
                        <a:pt x="454" y="39"/>
                      </a:lnTo>
                      <a:lnTo>
                        <a:pt x="498" y="39"/>
                      </a:lnTo>
                      <a:lnTo>
                        <a:pt x="533" y="35"/>
                      </a:lnTo>
                      <a:lnTo>
                        <a:pt x="577" y="48"/>
                      </a:lnTo>
                      <a:lnTo>
                        <a:pt x="613" y="48"/>
                      </a:lnTo>
                      <a:lnTo>
                        <a:pt x="658" y="44"/>
                      </a:lnTo>
                      <a:lnTo>
                        <a:pt x="693" y="44"/>
                      </a:lnTo>
                      <a:lnTo>
                        <a:pt x="733" y="30"/>
                      </a:lnTo>
                      <a:lnTo>
                        <a:pt x="777" y="26"/>
                      </a:lnTo>
                      <a:lnTo>
                        <a:pt x="816" y="61"/>
                      </a:lnTo>
                      <a:lnTo>
                        <a:pt x="856" y="74"/>
                      </a:lnTo>
                      <a:lnTo>
                        <a:pt x="896" y="74"/>
                      </a:lnTo>
                      <a:lnTo>
                        <a:pt x="949" y="39"/>
                      </a:lnTo>
                      <a:lnTo>
                        <a:pt x="1002" y="39"/>
                      </a:lnTo>
                      <a:lnTo>
                        <a:pt x="1050" y="26"/>
                      </a:lnTo>
                      <a:lnTo>
                        <a:pt x="1090" y="22"/>
                      </a:lnTo>
                      <a:lnTo>
                        <a:pt x="1196" y="30"/>
                      </a:lnTo>
                      <a:lnTo>
                        <a:pt x="1253" y="44"/>
                      </a:lnTo>
                      <a:lnTo>
                        <a:pt x="1306" y="26"/>
                      </a:lnTo>
                      <a:lnTo>
                        <a:pt x="1354" y="22"/>
                      </a:lnTo>
                      <a:lnTo>
                        <a:pt x="1438" y="17"/>
                      </a:lnTo>
                      <a:lnTo>
                        <a:pt x="1473" y="0"/>
                      </a:lnTo>
                      <a:lnTo>
                        <a:pt x="1517" y="13"/>
                      </a:lnTo>
                      <a:lnTo>
                        <a:pt x="1557" y="13"/>
                      </a:lnTo>
                      <a:lnTo>
                        <a:pt x="1597" y="8"/>
                      </a:lnTo>
                      <a:lnTo>
                        <a:pt x="1637" y="8"/>
                      </a:lnTo>
                      <a:lnTo>
                        <a:pt x="1685" y="17"/>
                      </a:lnTo>
                      <a:lnTo>
                        <a:pt x="1769" y="26"/>
                      </a:lnTo>
                      <a:lnTo>
                        <a:pt x="1845" y="22"/>
                      </a:lnTo>
                      <a:lnTo>
                        <a:pt x="1889" y="35"/>
                      </a:lnTo>
                      <a:lnTo>
                        <a:pt x="1929" y="48"/>
                      </a:lnTo>
                      <a:lnTo>
                        <a:pt x="1973" y="44"/>
                      </a:lnTo>
                      <a:lnTo>
                        <a:pt x="2008" y="44"/>
                      </a:lnTo>
                      <a:lnTo>
                        <a:pt x="2048" y="39"/>
                      </a:lnTo>
                      <a:lnTo>
                        <a:pt x="2096" y="35"/>
                      </a:lnTo>
                      <a:lnTo>
                        <a:pt x="2140" y="30"/>
                      </a:lnTo>
                      <a:lnTo>
                        <a:pt x="2180" y="44"/>
                      </a:lnTo>
                      <a:lnTo>
                        <a:pt x="2220" y="57"/>
                      </a:lnTo>
                      <a:lnTo>
                        <a:pt x="2273" y="52"/>
                      </a:lnTo>
                      <a:lnTo>
                        <a:pt x="2325" y="61"/>
                      </a:lnTo>
                      <a:lnTo>
                        <a:pt x="2370" y="88"/>
                      </a:lnTo>
                      <a:lnTo>
                        <a:pt x="2383" y="128"/>
                      </a:lnTo>
                      <a:lnTo>
                        <a:pt x="2387" y="168"/>
                      </a:lnTo>
                      <a:lnTo>
                        <a:pt x="2347" y="168"/>
                      </a:lnTo>
                      <a:lnTo>
                        <a:pt x="2308" y="172"/>
                      </a:lnTo>
                      <a:lnTo>
                        <a:pt x="2250" y="172"/>
                      </a:lnTo>
                      <a:lnTo>
                        <a:pt x="2215" y="177"/>
                      </a:lnTo>
                      <a:lnTo>
                        <a:pt x="2175" y="195"/>
                      </a:lnTo>
                      <a:lnTo>
                        <a:pt x="2136" y="195"/>
                      </a:lnTo>
                      <a:lnTo>
                        <a:pt x="2096" y="195"/>
                      </a:lnTo>
                      <a:lnTo>
                        <a:pt x="2004" y="186"/>
                      </a:lnTo>
                      <a:lnTo>
                        <a:pt x="1964" y="177"/>
                      </a:lnTo>
                      <a:lnTo>
                        <a:pt x="1924" y="177"/>
                      </a:lnTo>
                      <a:lnTo>
                        <a:pt x="1884" y="208"/>
                      </a:lnTo>
                      <a:lnTo>
                        <a:pt x="1845" y="221"/>
                      </a:lnTo>
                      <a:lnTo>
                        <a:pt x="1805" y="225"/>
                      </a:lnTo>
                      <a:lnTo>
                        <a:pt x="1764" y="225"/>
                      </a:lnTo>
                      <a:lnTo>
                        <a:pt x="1725" y="230"/>
                      </a:lnTo>
                      <a:lnTo>
                        <a:pt x="1650" y="230"/>
                      </a:lnTo>
                      <a:lnTo>
                        <a:pt x="1592" y="225"/>
                      </a:lnTo>
                      <a:lnTo>
                        <a:pt x="1553" y="225"/>
                      </a:lnTo>
                      <a:lnTo>
                        <a:pt x="1447" y="217"/>
                      </a:lnTo>
                      <a:lnTo>
                        <a:pt x="1407" y="221"/>
                      </a:lnTo>
                      <a:lnTo>
                        <a:pt x="1363" y="208"/>
                      </a:lnTo>
                      <a:lnTo>
                        <a:pt x="1275" y="199"/>
                      </a:lnTo>
                      <a:lnTo>
                        <a:pt x="1169" y="203"/>
                      </a:lnTo>
                      <a:lnTo>
                        <a:pt x="1129" y="181"/>
                      </a:lnTo>
                      <a:lnTo>
                        <a:pt x="1076" y="181"/>
                      </a:lnTo>
                      <a:lnTo>
                        <a:pt x="984" y="203"/>
                      </a:lnTo>
                      <a:lnTo>
                        <a:pt x="944" y="203"/>
                      </a:lnTo>
                      <a:lnTo>
                        <a:pt x="891" y="208"/>
                      </a:lnTo>
                      <a:lnTo>
                        <a:pt x="812" y="212"/>
                      </a:lnTo>
                      <a:lnTo>
                        <a:pt x="755" y="212"/>
                      </a:lnTo>
                      <a:lnTo>
                        <a:pt x="702" y="217"/>
                      </a:lnTo>
                      <a:lnTo>
                        <a:pt x="622" y="221"/>
                      </a:lnTo>
                      <a:lnTo>
                        <a:pt x="586" y="221"/>
                      </a:lnTo>
                      <a:lnTo>
                        <a:pt x="546" y="212"/>
                      </a:lnTo>
                      <a:lnTo>
                        <a:pt x="436" y="217"/>
                      </a:lnTo>
                      <a:lnTo>
                        <a:pt x="383" y="203"/>
                      </a:lnTo>
                      <a:lnTo>
                        <a:pt x="348" y="208"/>
                      </a:lnTo>
                      <a:lnTo>
                        <a:pt x="238" y="199"/>
                      </a:lnTo>
                      <a:lnTo>
                        <a:pt x="185" y="190"/>
                      </a:lnTo>
                      <a:lnTo>
                        <a:pt x="149" y="190"/>
                      </a:lnTo>
                      <a:lnTo>
                        <a:pt x="13" y="172"/>
                      </a:lnTo>
                      <a:lnTo>
                        <a:pt x="0" y="133"/>
                      </a:lnTo>
                      <a:lnTo>
                        <a:pt x="66" y="114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0">
                  <a:noFill/>
                </a:ln>
              </p:spPr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3079800" y="6046920"/>
                  <a:ext cx="197280" cy="151200"/>
                </a:xfrm>
                <a:custGeom>
                  <a:avLst/>
                  <a:gdLst/>
                  <a:ahLst/>
                  <a:rect l="0" t="0" r="r" b="b"/>
                  <a:pathLst>
                    <a:path w="548" h="420">
                      <a:moveTo>
                        <a:pt x="429" y="208"/>
                      </a:moveTo>
                      <a:lnTo>
                        <a:pt x="336" y="217"/>
                      </a:lnTo>
                      <a:lnTo>
                        <a:pt x="296" y="230"/>
                      </a:lnTo>
                      <a:lnTo>
                        <a:pt x="190" y="239"/>
                      </a:lnTo>
                      <a:lnTo>
                        <a:pt x="168" y="287"/>
                      </a:lnTo>
                      <a:lnTo>
                        <a:pt x="159" y="332"/>
                      </a:lnTo>
                      <a:lnTo>
                        <a:pt x="132" y="372"/>
                      </a:lnTo>
                      <a:lnTo>
                        <a:pt x="92" y="403"/>
                      </a:lnTo>
                      <a:lnTo>
                        <a:pt x="177" y="412"/>
                      </a:lnTo>
                      <a:lnTo>
                        <a:pt x="256" y="420"/>
                      </a:lnTo>
                      <a:lnTo>
                        <a:pt x="292" y="416"/>
                      </a:lnTo>
                      <a:lnTo>
                        <a:pt x="305" y="337"/>
                      </a:lnTo>
                      <a:lnTo>
                        <a:pt x="274" y="296"/>
                      </a:lnTo>
                      <a:lnTo>
                        <a:pt x="358" y="278"/>
                      </a:lnTo>
                      <a:lnTo>
                        <a:pt x="406" y="305"/>
                      </a:lnTo>
                      <a:lnTo>
                        <a:pt x="447" y="328"/>
                      </a:lnTo>
                      <a:lnTo>
                        <a:pt x="478" y="385"/>
                      </a:lnTo>
                      <a:lnTo>
                        <a:pt x="522" y="407"/>
                      </a:lnTo>
                      <a:lnTo>
                        <a:pt x="548" y="363"/>
                      </a:lnTo>
                      <a:lnTo>
                        <a:pt x="544" y="283"/>
                      </a:lnTo>
                      <a:lnTo>
                        <a:pt x="535" y="234"/>
                      </a:lnTo>
                      <a:lnTo>
                        <a:pt x="535" y="181"/>
                      </a:lnTo>
                      <a:lnTo>
                        <a:pt x="504" y="124"/>
                      </a:lnTo>
                      <a:lnTo>
                        <a:pt x="465" y="101"/>
                      </a:lnTo>
                      <a:lnTo>
                        <a:pt x="425" y="101"/>
                      </a:lnTo>
                      <a:lnTo>
                        <a:pt x="371" y="79"/>
                      </a:lnTo>
                      <a:lnTo>
                        <a:pt x="344" y="39"/>
                      </a:lnTo>
                      <a:lnTo>
                        <a:pt x="300" y="30"/>
                      </a:lnTo>
                      <a:lnTo>
                        <a:pt x="208" y="8"/>
                      </a:lnTo>
                      <a:lnTo>
                        <a:pt x="127" y="0"/>
                      </a:lnTo>
                      <a:lnTo>
                        <a:pt x="88" y="4"/>
                      </a:lnTo>
                      <a:lnTo>
                        <a:pt x="48" y="4"/>
                      </a:lnTo>
                      <a:lnTo>
                        <a:pt x="8" y="17"/>
                      </a:lnTo>
                      <a:lnTo>
                        <a:pt x="0" y="115"/>
                      </a:lnTo>
                      <a:lnTo>
                        <a:pt x="17" y="168"/>
                      </a:lnTo>
                      <a:lnTo>
                        <a:pt x="70" y="190"/>
                      </a:lnTo>
                      <a:lnTo>
                        <a:pt x="110" y="190"/>
                      </a:lnTo>
                      <a:lnTo>
                        <a:pt x="164" y="172"/>
                      </a:lnTo>
                      <a:lnTo>
                        <a:pt x="203" y="172"/>
                      </a:lnTo>
                      <a:lnTo>
                        <a:pt x="239" y="155"/>
                      </a:lnTo>
                      <a:lnTo>
                        <a:pt x="349" y="177"/>
                      </a:lnTo>
                      <a:lnTo>
                        <a:pt x="429" y="208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2719440" y="6122880"/>
                  <a:ext cx="241560" cy="84600"/>
                </a:xfrm>
                <a:custGeom>
                  <a:avLst/>
                  <a:gdLst/>
                  <a:ahLst/>
                  <a:rect l="0" t="0" r="r" b="b"/>
                  <a:pathLst>
                    <a:path w="671" h="235">
                      <a:moveTo>
                        <a:pt x="583" y="52"/>
                      </a:moveTo>
                      <a:lnTo>
                        <a:pt x="508" y="75"/>
                      </a:lnTo>
                      <a:lnTo>
                        <a:pt x="349" y="111"/>
                      </a:lnTo>
                      <a:lnTo>
                        <a:pt x="273" y="124"/>
                      </a:lnTo>
                      <a:lnTo>
                        <a:pt x="233" y="142"/>
                      </a:lnTo>
                      <a:lnTo>
                        <a:pt x="194" y="146"/>
                      </a:lnTo>
                      <a:lnTo>
                        <a:pt x="154" y="159"/>
                      </a:lnTo>
                      <a:lnTo>
                        <a:pt x="101" y="159"/>
                      </a:lnTo>
                      <a:lnTo>
                        <a:pt x="57" y="164"/>
                      </a:lnTo>
                      <a:lnTo>
                        <a:pt x="22" y="128"/>
                      </a:lnTo>
                      <a:lnTo>
                        <a:pt x="0" y="75"/>
                      </a:lnTo>
                      <a:lnTo>
                        <a:pt x="52" y="30"/>
                      </a:lnTo>
                      <a:lnTo>
                        <a:pt x="92" y="26"/>
                      </a:lnTo>
                      <a:lnTo>
                        <a:pt x="132" y="39"/>
                      </a:lnTo>
                      <a:lnTo>
                        <a:pt x="163" y="89"/>
                      </a:lnTo>
                      <a:lnTo>
                        <a:pt x="202" y="89"/>
                      </a:lnTo>
                      <a:lnTo>
                        <a:pt x="238" y="57"/>
                      </a:lnTo>
                      <a:lnTo>
                        <a:pt x="277" y="30"/>
                      </a:lnTo>
                      <a:lnTo>
                        <a:pt x="317" y="0"/>
                      </a:lnTo>
                      <a:lnTo>
                        <a:pt x="349" y="39"/>
                      </a:lnTo>
                      <a:lnTo>
                        <a:pt x="402" y="67"/>
                      </a:lnTo>
                      <a:lnTo>
                        <a:pt x="437" y="48"/>
                      </a:lnTo>
                      <a:lnTo>
                        <a:pt x="477" y="35"/>
                      </a:lnTo>
                      <a:lnTo>
                        <a:pt x="521" y="22"/>
                      </a:lnTo>
                      <a:lnTo>
                        <a:pt x="583" y="52"/>
                      </a:lnTo>
                      <a:lnTo>
                        <a:pt x="644" y="93"/>
                      </a:lnTo>
                      <a:lnTo>
                        <a:pt x="671" y="128"/>
                      </a:lnTo>
                      <a:lnTo>
                        <a:pt x="671" y="172"/>
                      </a:lnTo>
                      <a:lnTo>
                        <a:pt x="636" y="200"/>
                      </a:lnTo>
                      <a:lnTo>
                        <a:pt x="583" y="226"/>
                      </a:lnTo>
                      <a:lnTo>
                        <a:pt x="543" y="231"/>
                      </a:lnTo>
                      <a:lnTo>
                        <a:pt x="503" y="235"/>
                      </a:lnTo>
                      <a:lnTo>
                        <a:pt x="486" y="182"/>
                      </a:lnTo>
                      <a:lnTo>
                        <a:pt x="538" y="150"/>
                      </a:lnTo>
                      <a:lnTo>
                        <a:pt x="578" y="111"/>
                      </a:lnTo>
                      <a:lnTo>
                        <a:pt x="534" y="84"/>
                      </a:lnTo>
                      <a:lnTo>
                        <a:pt x="583" y="52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0">
                  <a:noFill/>
                </a:ln>
              </p:spPr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6" name=""/>
            <p:cNvSpPr/>
            <p:nvPr/>
          </p:nvSpPr>
          <p:spPr>
            <a:xfrm>
              <a:off x="2549520" y="6267600"/>
              <a:ext cx="814680" cy="25920"/>
            </a:xfrm>
            <a:custGeom>
              <a:avLst/>
              <a:gdLst/>
              <a:ahLst/>
              <a:rect l="0" t="0" r="r" b="b"/>
              <a:pathLst>
                <a:path fill="none" w="2263" h="72">
                  <a:moveTo>
                    <a:pt x="0" y="72"/>
                  </a:moveTo>
                  <a:lnTo>
                    <a:pt x="343" y="72"/>
                  </a:lnTo>
                  <a:lnTo>
                    <a:pt x="1178" y="0"/>
                  </a:lnTo>
                  <a:lnTo>
                    <a:pt x="1707" y="36"/>
                  </a:lnTo>
                  <a:lnTo>
                    <a:pt x="2263" y="5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3819600" y="3925800"/>
            <a:ext cx="1505160" cy="1148400"/>
            <a:chOff x="3819600" y="3925800"/>
            <a:chExt cx="1505160" cy="1148400"/>
          </a:xfrm>
        </p:grpSpPr>
        <p:sp>
          <p:nvSpPr>
            <p:cNvPr id="948" name=""/>
            <p:cNvSpPr/>
            <p:nvPr/>
          </p:nvSpPr>
          <p:spPr>
            <a:xfrm>
              <a:off x="4105440" y="4183200"/>
              <a:ext cx="573480" cy="373320"/>
            </a:xfrm>
            <a:custGeom>
              <a:avLst/>
              <a:gdLst/>
              <a:ahLst/>
              <a:rect l="0" t="0" r="r" b="b"/>
              <a:pathLst>
                <a:path w="1593" h="1037">
                  <a:moveTo>
                    <a:pt x="4" y="458"/>
                  </a:moveTo>
                  <a:lnTo>
                    <a:pt x="0" y="392"/>
                  </a:lnTo>
                  <a:lnTo>
                    <a:pt x="13" y="335"/>
                  </a:lnTo>
                  <a:lnTo>
                    <a:pt x="61" y="304"/>
                  </a:lnTo>
                  <a:lnTo>
                    <a:pt x="123" y="242"/>
                  </a:lnTo>
                  <a:lnTo>
                    <a:pt x="158" y="114"/>
                  </a:lnTo>
                  <a:lnTo>
                    <a:pt x="189" y="70"/>
                  </a:lnTo>
                  <a:lnTo>
                    <a:pt x="238" y="0"/>
                  </a:lnTo>
                  <a:lnTo>
                    <a:pt x="291" y="35"/>
                  </a:lnTo>
                  <a:lnTo>
                    <a:pt x="304" y="48"/>
                  </a:lnTo>
                  <a:lnTo>
                    <a:pt x="313" y="149"/>
                  </a:lnTo>
                  <a:lnTo>
                    <a:pt x="396" y="171"/>
                  </a:lnTo>
                  <a:lnTo>
                    <a:pt x="446" y="207"/>
                  </a:lnTo>
                  <a:lnTo>
                    <a:pt x="512" y="180"/>
                  </a:lnTo>
                  <a:lnTo>
                    <a:pt x="591" y="171"/>
                  </a:lnTo>
                  <a:lnTo>
                    <a:pt x="693" y="277"/>
                  </a:lnTo>
                  <a:lnTo>
                    <a:pt x="746" y="379"/>
                  </a:lnTo>
                  <a:lnTo>
                    <a:pt x="830" y="370"/>
                  </a:lnTo>
                  <a:lnTo>
                    <a:pt x="940" y="343"/>
                  </a:lnTo>
                  <a:lnTo>
                    <a:pt x="1046" y="326"/>
                  </a:lnTo>
                  <a:lnTo>
                    <a:pt x="1116" y="335"/>
                  </a:lnTo>
                  <a:lnTo>
                    <a:pt x="1182" y="348"/>
                  </a:lnTo>
                  <a:lnTo>
                    <a:pt x="1232" y="348"/>
                  </a:lnTo>
                  <a:lnTo>
                    <a:pt x="1232" y="348"/>
                  </a:lnTo>
                  <a:lnTo>
                    <a:pt x="1333" y="454"/>
                  </a:lnTo>
                  <a:lnTo>
                    <a:pt x="1421" y="538"/>
                  </a:lnTo>
                  <a:lnTo>
                    <a:pt x="1505" y="636"/>
                  </a:lnTo>
                  <a:lnTo>
                    <a:pt x="1593" y="759"/>
                  </a:lnTo>
                  <a:lnTo>
                    <a:pt x="1563" y="737"/>
                  </a:lnTo>
                  <a:lnTo>
                    <a:pt x="1527" y="710"/>
                  </a:lnTo>
                  <a:lnTo>
                    <a:pt x="1510" y="662"/>
                  </a:lnTo>
                  <a:lnTo>
                    <a:pt x="1492" y="658"/>
                  </a:lnTo>
                  <a:lnTo>
                    <a:pt x="1426" y="644"/>
                  </a:lnTo>
                  <a:lnTo>
                    <a:pt x="1346" y="622"/>
                  </a:lnTo>
                  <a:lnTo>
                    <a:pt x="1311" y="565"/>
                  </a:lnTo>
                  <a:lnTo>
                    <a:pt x="1307" y="530"/>
                  </a:lnTo>
                  <a:lnTo>
                    <a:pt x="1294" y="515"/>
                  </a:lnTo>
                  <a:lnTo>
                    <a:pt x="1173" y="471"/>
                  </a:lnTo>
                  <a:lnTo>
                    <a:pt x="1090" y="480"/>
                  </a:lnTo>
                  <a:lnTo>
                    <a:pt x="1028" y="507"/>
                  </a:lnTo>
                  <a:lnTo>
                    <a:pt x="944" y="515"/>
                  </a:lnTo>
                  <a:lnTo>
                    <a:pt x="865" y="521"/>
                  </a:lnTo>
                  <a:lnTo>
                    <a:pt x="869" y="591"/>
                  </a:lnTo>
                  <a:lnTo>
                    <a:pt x="856" y="649"/>
                  </a:lnTo>
                  <a:lnTo>
                    <a:pt x="847" y="702"/>
                  </a:lnTo>
                  <a:lnTo>
                    <a:pt x="843" y="733"/>
                  </a:lnTo>
                  <a:lnTo>
                    <a:pt x="830" y="759"/>
                  </a:lnTo>
                  <a:lnTo>
                    <a:pt x="763" y="715"/>
                  </a:lnTo>
                  <a:lnTo>
                    <a:pt x="746" y="702"/>
                  </a:lnTo>
                  <a:lnTo>
                    <a:pt x="733" y="693"/>
                  </a:lnTo>
                  <a:lnTo>
                    <a:pt x="715" y="644"/>
                  </a:lnTo>
                  <a:lnTo>
                    <a:pt x="693" y="600"/>
                  </a:lnTo>
                  <a:lnTo>
                    <a:pt x="693" y="600"/>
                  </a:lnTo>
                  <a:lnTo>
                    <a:pt x="710" y="613"/>
                  </a:lnTo>
                  <a:lnTo>
                    <a:pt x="724" y="622"/>
                  </a:lnTo>
                  <a:lnTo>
                    <a:pt x="728" y="658"/>
                  </a:lnTo>
                  <a:lnTo>
                    <a:pt x="684" y="688"/>
                  </a:lnTo>
                  <a:lnTo>
                    <a:pt x="649" y="702"/>
                  </a:lnTo>
                  <a:lnTo>
                    <a:pt x="636" y="719"/>
                  </a:lnTo>
                  <a:lnTo>
                    <a:pt x="636" y="755"/>
                  </a:lnTo>
                  <a:lnTo>
                    <a:pt x="640" y="790"/>
                  </a:lnTo>
                  <a:lnTo>
                    <a:pt x="543" y="821"/>
                  </a:lnTo>
                  <a:lnTo>
                    <a:pt x="583" y="878"/>
                  </a:lnTo>
                  <a:lnTo>
                    <a:pt x="583" y="913"/>
                  </a:lnTo>
                  <a:lnTo>
                    <a:pt x="534" y="944"/>
                  </a:lnTo>
                  <a:lnTo>
                    <a:pt x="459" y="1019"/>
                  </a:lnTo>
                  <a:lnTo>
                    <a:pt x="424" y="1037"/>
                  </a:lnTo>
                  <a:lnTo>
                    <a:pt x="379" y="1032"/>
                  </a:lnTo>
                  <a:lnTo>
                    <a:pt x="370" y="1002"/>
                  </a:lnTo>
                  <a:lnTo>
                    <a:pt x="388" y="975"/>
                  </a:lnTo>
                  <a:lnTo>
                    <a:pt x="472" y="900"/>
                  </a:lnTo>
                  <a:lnTo>
                    <a:pt x="543" y="821"/>
                  </a:lnTo>
                  <a:lnTo>
                    <a:pt x="543" y="821"/>
                  </a:lnTo>
                  <a:lnTo>
                    <a:pt x="512" y="834"/>
                  </a:lnTo>
                  <a:lnTo>
                    <a:pt x="481" y="843"/>
                  </a:lnTo>
                  <a:lnTo>
                    <a:pt x="446" y="852"/>
                  </a:lnTo>
                  <a:lnTo>
                    <a:pt x="433" y="843"/>
                  </a:lnTo>
                  <a:lnTo>
                    <a:pt x="402" y="816"/>
                  </a:lnTo>
                  <a:lnTo>
                    <a:pt x="374" y="772"/>
                  </a:lnTo>
                  <a:lnTo>
                    <a:pt x="379" y="741"/>
                  </a:lnTo>
                  <a:lnTo>
                    <a:pt x="330" y="706"/>
                  </a:lnTo>
                  <a:lnTo>
                    <a:pt x="277" y="671"/>
                  </a:lnTo>
                  <a:lnTo>
                    <a:pt x="163" y="591"/>
                  </a:lnTo>
                  <a:lnTo>
                    <a:pt x="97" y="618"/>
                  </a:lnTo>
                  <a:lnTo>
                    <a:pt x="61" y="627"/>
                  </a:lnTo>
                  <a:lnTo>
                    <a:pt x="44" y="618"/>
                  </a:lnTo>
                  <a:lnTo>
                    <a:pt x="48" y="583"/>
                  </a:lnTo>
                  <a:lnTo>
                    <a:pt x="39" y="547"/>
                  </a:lnTo>
                  <a:lnTo>
                    <a:pt x="26" y="538"/>
                  </a:lnTo>
                  <a:lnTo>
                    <a:pt x="4" y="458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322880" y="4290840"/>
              <a:ext cx="74880" cy="128880"/>
            </a:xfrm>
            <a:custGeom>
              <a:avLst/>
              <a:gdLst/>
              <a:ahLst/>
              <a:rect l="0" t="0" r="r" b="b"/>
              <a:pathLst>
                <a:path w="208" h="358">
                  <a:moveTo>
                    <a:pt x="92" y="247"/>
                  </a:moveTo>
                  <a:lnTo>
                    <a:pt x="44" y="212"/>
                  </a:lnTo>
                  <a:lnTo>
                    <a:pt x="4" y="154"/>
                  </a:lnTo>
                  <a:lnTo>
                    <a:pt x="0" y="88"/>
                  </a:lnTo>
                  <a:lnTo>
                    <a:pt x="0" y="22"/>
                  </a:lnTo>
                  <a:lnTo>
                    <a:pt x="35" y="8"/>
                  </a:lnTo>
                  <a:lnTo>
                    <a:pt x="92" y="0"/>
                  </a:lnTo>
                  <a:lnTo>
                    <a:pt x="115" y="13"/>
                  </a:lnTo>
                  <a:lnTo>
                    <a:pt x="115" y="13"/>
                  </a:lnTo>
                  <a:lnTo>
                    <a:pt x="101" y="39"/>
                  </a:lnTo>
                  <a:lnTo>
                    <a:pt x="101" y="101"/>
                  </a:lnTo>
                  <a:lnTo>
                    <a:pt x="115" y="181"/>
                  </a:lnTo>
                  <a:lnTo>
                    <a:pt x="155" y="221"/>
                  </a:lnTo>
                  <a:lnTo>
                    <a:pt x="181" y="239"/>
                  </a:lnTo>
                  <a:lnTo>
                    <a:pt x="195" y="265"/>
                  </a:lnTo>
                  <a:lnTo>
                    <a:pt x="208" y="292"/>
                  </a:lnTo>
                  <a:lnTo>
                    <a:pt x="203" y="322"/>
                  </a:lnTo>
                  <a:lnTo>
                    <a:pt x="208" y="344"/>
                  </a:lnTo>
                  <a:lnTo>
                    <a:pt x="199" y="349"/>
                  </a:lnTo>
                  <a:lnTo>
                    <a:pt x="164" y="358"/>
                  </a:lnTo>
                  <a:lnTo>
                    <a:pt x="142" y="344"/>
                  </a:lnTo>
                  <a:lnTo>
                    <a:pt x="137" y="327"/>
                  </a:lnTo>
                  <a:lnTo>
                    <a:pt x="101" y="283"/>
                  </a:lnTo>
                  <a:lnTo>
                    <a:pt x="101" y="265"/>
                  </a:lnTo>
                  <a:lnTo>
                    <a:pt x="106" y="256"/>
                  </a:lnTo>
                  <a:lnTo>
                    <a:pt x="92" y="24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275000" y="4597560"/>
              <a:ext cx="132120" cy="152640"/>
            </a:xfrm>
            <a:custGeom>
              <a:avLst/>
              <a:gdLst/>
              <a:ahLst/>
              <a:rect l="0" t="0" r="r" b="b"/>
              <a:pathLst>
                <a:path w="367" h="424">
                  <a:moveTo>
                    <a:pt x="367" y="180"/>
                  </a:moveTo>
                  <a:lnTo>
                    <a:pt x="252" y="180"/>
                  </a:lnTo>
                  <a:lnTo>
                    <a:pt x="123" y="171"/>
                  </a:lnTo>
                  <a:lnTo>
                    <a:pt x="74" y="141"/>
                  </a:lnTo>
                  <a:lnTo>
                    <a:pt x="35" y="110"/>
                  </a:lnTo>
                  <a:lnTo>
                    <a:pt x="8" y="66"/>
                  </a:lnTo>
                  <a:lnTo>
                    <a:pt x="0" y="13"/>
                  </a:lnTo>
                  <a:lnTo>
                    <a:pt x="26" y="13"/>
                  </a:lnTo>
                  <a:lnTo>
                    <a:pt x="52" y="0"/>
                  </a:lnTo>
                  <a:lnTo>
                    <a:pt x="83" y="4"/>
                  </a:lnTo>
                  <a:lnTo>
                    <a:pt x="92" y="17"/>
                  </a:lnTo>
                  <a:lnTo>
                    <a:pt x="88" y="83"/>
                  </a:lnTo>
                  <a:lnTo>
                    <a:pt x="70" y="154"/>
                  </a:lnTo>
                  <a:lnTo>
                    <a:pt x="97" y="136"/>
                  </a:lnTo>
                  <a:lnTo>
                    <a:pt x="101" y="127"/>
                  </a:lnTo>
                  <a:lnTo>
                    <a:pt x="119" y="105"/>
                  </a:lnTo>
                  <a:lnTo>
                    <a:pt x="123" y="92"/>
                  </a:lnTo>
                  <a:lnTo>
                    <a:pt x="149" y="83"/>
                  </a:lnTo>
                  <a:lnTo>
                    <a:pt x="190" y="52"/>
                  </a:lnTo>
                  <a:lnTo>
                    <a:pt x="212" y="48"/>
                  </a:lnTo>
                  <a:lnTo>
                    <a:pt x="217" y="35"/>
                  </a:lnTo>
                  <a:lnTo>
                    <a:pt x="274" y="48"/>
                  </a:lnTo>
                  <a:lnTo>
                    <a:pt x="327" y="66"/>
                  </a:lnTo>
                  <a:lnTo>
                    <a:pt x="358" y="105"/>
                  </a:lnTo>
                  <a:lnTo>
                    <a:pt x="367" y="136"/>
                  </a:lnTo>
                  <a:lnTo>
                    <a:pt x="358" y="225"/>
                  </a:lnTo>
                  <a:lnTo>
                    <a:pt x="331" y="309"/>
                  </a:lnTo>
                  <a:lnTo>
                    <a:pt x="340" y="349"/>
                  </a:lnTo>
                  <a:lnTo>
                    <a:pt x="336" y="393"/>
                  </a:lnTo>
                  <a:lnTo>
                    <a:pt x="336" y="424"/>
                  </a:lnTo>
                  <a:lnTo>
                    <a:pt x="318" y="424"/>
                  </a:lnTo>
                  <a:lnTo>
                    <a:pt x="287" y="419"/>
                  </a:lnTo>
                  <a:lnTo>
                    <a:pt x="296" y="362"/>
                  </a:lnTo>
                  <a:lnTo>
                    <a:pt x="318" y="331"/>
                  </a:lnTo>
                  <a:lnTo>
                    <a:pt x="322" y="292"/>
                  </a:lnTo>
                  <a:lnTo>
                    <a:pt x="331" y="234"/>
                  </a:lnTo>
                  <a:lnTo>
                    <a:pt x="322" y="202"/>
                  </a:lnTo>
                  <a:lnTo>
                    <a:pt x="309" y="194"/>
                  </a:lnTo>
                  <a:lnTo>
                    <a:pt x="327" y="189"/>
                  </a:lnTo>
                  <a:lnTo>
                    <a:pt x="367" y="18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614840" y="4680000"/>
              <a:ext cx="93960" cy="167040"/>
            </a:xfrm>
            <a:custGeom>
              <a:avLst/>
              <a:gdLst/>
              <a:ahLst/>
              <a:rect l="0" t="0" r="r" b="b"/>
              <a:pathLst>
                <a:path w="261" h="464">
                  <a:moveTo>
                    <a:pt x="155" y="114"/>
                  </a:moveTo>
                  <a:lnTo>
                    <a:pt x="159" y="163"/>
                  </a:lnTo>
                  <a:lnTo>
                    <a:pt x="159" y="194"/>
                  </a:lnTo>
                  <a:lnTo>
                    <a:pt x="114" y="198"/>
                  </a:lnTo>
                  <a:lnTo>
                    <a:pt x="74" y="216"/>
                  </a:lnTo>
                  <a:lnTo>
                    <a:pt x="30" y="331"/>
                  </a:lnTo>
                  <a:lnTo>
                    <a:pt x="0" y="455"/>
                  </a:lnTo>
                  <a:lnTo>
                    <a:pt x="44" y="464"/>
                  </a:lnTo>
                  <a:lnTo>
                    <a:pt x="66" y="433"/>
                  </a:lnTo>
                  <a:lnTo>
                    <a:pt x="114" y="358"/>
                  </a:lnTo>
                  <a:lnTo>
                    <a:pt x="110" y="340"/>
                  </a:lnTo>
                  <a:lnTo>
                    <a:pt x="123" y="300"/>
                  </a:lnTo>
                  <a:lnTo>
                    <a:pt x="127" y="269"/>
                  </a:lnTo>
                  <a:lnTo>
                    <a:pt x="133" y="256"/>
                  </a:lnTo>
                  <a:lnTo>
                    <a:pt x="159" y="239"/>
                  </a:lnTo>
                  <a:lnTo>
                    <a:pt x="195" y="220"/>
                  </a:lnTo>
                  <a:lnTo>
                    <a:pt x="221" y="202"/>
                  </a:lnTo>
                  <a:lnTo>
                    <a:pt x="225" y="194"/>
                  </a:lnTo>
                  <a:lnTo>
                    <a:pt x="247" y="163"/>
                  </a:lnTo>
                  <a:lnTo>
                    <a:pt x="261" y="119"/>
                  </a:lnTo>
                  <a:lnTo>
                    <a:pt x="243" y="92"/>
                  </a:lnTo>
                  <a:lnTo>
                    <a:pt x="217" y="30"/>
                  </a:lnTo>
                  <a:lnTo>
                    <a:pt x="212" y="8"/>
                  </a:lnTo>
                  <a:lnTo>
                    <a:pt x="199" y="0"/>
                  </a:lnTo>
                  <a:lnTo>
                    <a:pt x="203" y="17"/>
                  </a:lnTo>
                  <a:lnTo>
                    <a:pt x="203" y="48"/>
                  </a:lnTo>
                  <a:lnTo>
                    <a:pt x="225" y="92"/>
                  </a:lnTo>
                  <a:lnTo>
                    <a:pt x="234" y="132"/>
                  </a:lnTo>
                  <a:lnTo>
                    <a:pt x="225" y="145"/>
                  </a:lnTo>
                  <a:lnTo>
                    <a:pt x="221" y="154"/>
                  </a:lnTo>
                  <a:lnTo>
                    <a:pt x="195" y="136"/>
                  </a:lnTo>
                  <a:lnTo>
                    <a:pt x="155" y="114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145040" y="4403880"/>
              <a:ext cx="186120" cy="133560"/>
            </a:xfrm>
            <a:custGeom>
              <a:avLst/>
              <a:gdLst/>
              <a:ahLst/>
              <a:rect l="0" t="0" r="r" b="b"/>
              <a:pathLst>
                <a:path w="517" h="371">
                  <a:moveTo>
                    <a:pt x="473" y="167"/>
                  </a:moveTo>
                  <a:lnTo>
                    <a:pt x="358" y="105"/>
                  </a:lnTo>
                  <a:lnTo>
                    <a:pt x="265" y="44"/>
                  </a:lnTo>
                  <a:lnTo>
                    <a:pt x="221" y="13"/>
                  </a:lnTo>
                  <a:lnTo>
                    <a:pt x="164" y="8"/>
                  </a:lnTo>
                  <a:lnTo>
                    <a:pt x="105" y="0"/>
                  </a:lnTo>
                  <a:lnTo>
                    <a:pt x="48" y="22"/>
                  </a:lnTo>
                  <a:lnTo>
                    <a:pt x="127" y="57"/>
                  </a:lnTo>
                  <a:lnTo>
                    <a:pt x="172" y="57"/>
                  </a:lnTo>
                  <a:lnTo>
                    <a:pt x="234" y="70"/>
                  </a:lnTo>
                  <a:lnTo>
                    <a:pt x="225" y="190"/>
                  </a:lnTo>
                  <a:lnTo>
                    <a:pt x="199" y="296"/>
                  </a:lnTo>
                  <a:lnTo>
                    <a:pt x="172" y="314"/>
                  </a:lnTo>
                  <a:lnTo>
                    <a:pt x="150" y="322"/>
                  </a:lnTo>
                  <a:lnTo>
                    <a:pt x="114" y="336"/>
                  </a:lnTo>
                  <a:lnTo>
                    <a:pt x="57" y="344"/>
                  </a:lnTo>
                  <a:lnTo>
                    <a:pt x="22" y="336"/>
                  </a:lnTo>
                  <a:lnTo>
                    <a:pt x="0" y="336"/>
                  </a:lnTo>
                  <a:lnTo>
                    <a:pt x="44" y="367"/>
                  </a:lnTo>
                  <a:lnTo>
                    <a:pt x="70" y="371"/>
                  </a:lnTo>
                  <a:lnTo>
                    <a:pt x="137" y="367"/>
                  </a:lnTo>
                  <a:lnTo>
                    <a:pt x="186" y="318"/>
                  </a:lnTo>
                  <a:lnTo>
                    <a:pt x="239" y="261"/>
                  </a:lnTo>
                  <a:lnTo>
                    <a:pt x="265" y="243"/>
                  </a:lnTo>
                  <a:lnTo>
                    <a:pt x="283" y="243"/>
                  </a:lnTo>
                  <a:lnTo>
                    <a:pt x="318" y="239"/>
                  </a:lnTo>
                  <a:lnTo>
                    <a:pt x="344" y="243"/>
                  </a:lnTo>
                  <a:lnTo>
                    <a:pt x="371" y="243"/>
                  </a:lnTo>
                  <a:lnTo>
                    <a:pt x="398" y="230"/>
                  </a:lnTo>
                  <a:lnTo>
                    <a:pt x="390" y="171"/>
                  </a:lnTo>
                  <a:lnTo>
                    <a:pt x="375" y="145"/>
                  </a:lnTo>
                  <a:lnTo>
                    <a:pt x="349" y="114"/>
                  </a:lnTo>
                  <a:lnTo>
                    <a:pt x="318" y="79"/>
                  </a:lnTo>
                  <a:lnTo>
                    <a:pt x="292" y="74"/>
                  </a:lnTo>
                  <a:lnTo>
                    <a:pt x="292" y="74"/>
                  </a:lnTo>
                  <a:lnTo>
                    <a:pt x="292" y="92"/>
                  </a:lnTo>
                  <a:lnTo>
                    <a:pt x="296" y="127"/>
                  </a:lnTo>
                  <a:lnTo>
                    <a:pt x="318" y="158"/>
                  </a:lnTo>
                  <a:lnTo>
                    <a:pt x="407" y="154"/>
                  </a:lnTo>
                  <a:lnTo>
                    <a:pt x="434" y="141"/>
                  </a:lnTo>
                  <a:lnTo>
                    <a:pt x="451" y="119"/>
                  </a:lnTo>
                  <a:lnTo>
                    <a:pt x="473" y="119"/>
                  </a:lnTo>
                  <a:lnTo>
                    <a:pt x="495" y="105"/>
                  </a:lnTo>
                  <a:lnTo>
                    <a:pt x="504" y="92"/>
                  </a:lnTo>
                  <a:lnTo>
                    <a:pt x="517" y="101"/>
                  </a:lnTo>
                  <a:lnTo>
                    <a:pt x="509" y="132"/>
                  </a:lnTo>
                  <a:lnTo>
                    <a:pt x="495" y="149"/>
                  </a:lnTo>
                  <a:lnTo>
                    <a:pt x="460" y="208"/>
                  </a:lnTo>
                  <a:lnTo>
                    <a:pt x="473" y="212"/>
                  </a:lnTo>
                  <a:lnTo>
                    <a:pt x="469" y="221"/>
                  </a:lnTo>
                  <a:lnTo>
                    <a:pt x="456" y="234"/>
                  </a:lnTo>
                  <a:lnTo>
                    <a:pt x="456" y="234"/>
                  </a:lnTo>
                  <a:lnTo>
                    <a:pt x="469" y="195"/>
                  </a:lnTo>
                  <a:lnTo>
                    <a:pt x="473" y="16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824360" y="4919760"/>
              <a:ext cx="195480" cy="154440"/>
            </a:xfrm>
            <a:custGeom>
              <a:avLst/>
              <a:gdLst/>
              <a:ahLst/>
              <a:rect l="0" t="0" r="r" b="b"/>
              <a:pathLst>
                <a:path w="543" h="429">
                  <a:moveTo>
                    <a:pt x="0" y="83"/>
                  </a:moveTo>
                  <a:lnTo>
                    <a:pt x="48" y="128"/>
                  </a:lnTo>
                  <a:lnTo>
                    <a:pt x="79" y="181"/>
                  </a:lnTo>
                  <a:lnTo>
                    <a:pt x="180" y="292"/>
                  </a:lnTo>
                  <a:lnTo>
                    <a:pt x="287" y="412"/>
                  </a:lnTo>
                  <a:lnTo>
                    <a:pt x="331" y="429"/>
                  </a:lnTo>
                  <a:lnTo>
                    <a:pt x="375" y="425"/>
                  </a:lnTo>
                  <a:lnTo>
                    <a:pt x="415" y="425"/>
                  </a:lnTo>
                  <a:lnTo>
                    <a:pt x="464" y="412"/>
                  </a:lnTo>
                  <a:lnTo>
                    <a:pt x="503" y="390"/>
                  </a:lnTo>
                  <a:lnTo>
                    <a:pt x="516" y="372"/>
                  </a:lnTo>
                  <a:lnTo>
                    <a:pt x="530" y="376"/>
                  </a:lnTo>
                  <a:lnTo>
                    <a:pt x="543" y="390"/>
                  </a:lnTo>
                  <a:lnTo>
                    <a:pt x="534" y="407"/>
                  </a:lnTo>
                  <a:lnTo>
                    <a:pt x="499" y="429"/>
                  </a:lnTo>
                  <a:lnTo>
                    <a:pt x="367" y="345"/>
                  </a:lnTo>
                  <a:lnTo>
                    <a:pt x="349" y="345"/>
                  </a:lnTo>
                  <a:lnTo>
                    <a:pt x="336" y="337"/>
                  </a:lnTo>
                  <a:lnTo>
                    <a:pt x="336" y="309"/>
                  </a:lnTo>
                  <a:lnTo>
                    <a:pt x="327" y="256"/>
                  </a:lnTo>
                  <a:lnTo>
                    <a:pt x="336" y="212"/>
                  </a:lnTo>
                  <a:lnTo>
                    <a:pt x="349" y="195"/>
                  </a:lnTo>
                  <a:lnTo>
                    <a:pt x="327" y="168"/>
                  </a:lnTo>
                  <a:lnTo>
                    <a:pt x="300" y="150"/>
                  </a:lnTo>
                  <a:lnTo>
                    <a:pt x="278" y="150"/>
                  </a:lnTo>
                  <a:lnTo>
                    <a:pt x="242" y="168"/>
                  </a:lnTo>
                  <a:lnTo>
                    <a:pt x="246" y="199"/>
                  </a:lnTo>
                  <a:lnTo>
                    <a:pt x="268" y="230"/>
                  </a:lnTo>
                  <a:lnTo>
                    <a:pt x="292" y="278"/>
                  </a:lnTo>
                  <a:lnTo>
                    <a:pt x="229" y="283"/>
                  </a:lnTo>
                  <a:lnTo>
                    <a:pt x="207" y="287"/>
                  </a:lnTo>
                  <a:lnTo>
                    <a:pt x="194" y="243"/>
                  </a:lnTo>
                  <a:lnTo>
                    <a:pt x="189" y="190"/>
                  </a:lnTo>
                  <a:lnTo>
                    <a:pt x="185" y="172"/>
                  </a:lnTo>
                  <a:lnTo>
                    <a:pt x="176" y="155"/>
                  </a:lnTo>
                  <a:lnTo>
                    <a:pt x="39" y="0"/>
                  </a:lnTo>
                  <a:lnTo>
                    <a:pt x="57" y="30"/>
                  </a:lnTo>
                  <a:lnTo>
                    <a:pt x="66" y="74"/>
                  </a:lnTo>
                  <a:lnTo>
                    <a:pt x="48" y="101"/>
                  </a:lnTo>
                  <a:lnTo>
                    <a:pt x="30" y="101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176800" y="4884840"/>
              <a:ext cx="147960" cy="108360"/>
            </a:xfrm>
            <a:custGeom>
              <a:avLst/>
              <a:gdLst/>
              <a:ahLst/>
              <a:rect l="0" t="0" r="r" b="b"/>
              <a:pathLst>
                <a:path w="411" h="301">
                  <a:moveTo>
                    <a:pt x="48" y="70"/>
                  </a:moveTo>
                  <a:lnTo>
                    <a:pt x="79" y="124"/>
                  </a:lnTo>
                  <a:lnTo>
                    <a:pt x="101" y="155"/>
                  </a:lnTo>
                  <a:lnTo>
                    <a:pt x="123" y="186"/>
                  </a:lnTo>
                  <a:lnTo>
                    <a:pt x="158" y="225"/>
                  </a:lnTo>
                  <a:lnTo>
                    <a:pt x="185" y="257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61" y="297"/>
                  </a:lnTo>
                  <a:lnTo>
                    <a:pt x="322" y="301"/>
                  </a:lnTo>
                  <a:lnTo>
                    <a:pt x="411" y="266"/>
                  </a:lnTo>
                  <a:lnTo>
                    <a:pt x="367" y="266"/>
                  </a:lnTo>
                  <a:lnTo>
                    <a:pt x="331" y="257"/>
                  </a:lnTo>
                  <a:lnTo>
                    <a:pt x="314" y="253"/>
                  </a:lnTo>
                  <a:lnTo>
                    <a:pt x="283" y="195"/>
                  </a:lnTo>
                  <a:lnTo>
                    <a:pt x="256" y="208"/>
                  </a:lnTo>
                  <a:lnTo>
                    <a:pt x="225" y="190"/>
                  </a:lnTo>
                  <a:lnTo>
                    <a:pt x="221" y="168"/>
                  </a:lnTo>
                  <a:lnTo>
                    <a:pt x="217" y="137"/>
                  </a:lnTo>
                  <a:lnTo>
                    <a:pt x="202" y="93"/>
                  </a:lnTo>
                  <a:lnTo>
                    <a:pt x="189" y="48"/>
                  </a:lnTo>
                  <a:lnTo>
                    <a:pt x="176" y="44"/>
                  </a:lnTo>
                  <a:lnTo>
                    <a:pt x="145" y="22"/>
                  </a:lnTo>
                  <a:lnTo>
                    <a:pt x="97" y="0"/>
                  </a:lnTo>
                  <a:lnTo>
                    <a:pt x="30" y="8"/>
                  </a:lnTo>
                  <a:lnTo>
                    <a:pt x="0" y="22"/>
                  </a:lnTo>
                  <a:lnTo>
                    <a:pt x="17" y="26"/>
                  </a:lnTo>
                  <a:lnTo>
                    <a:pt x="22" y="52"/>
                  </a:lnTo>
                  <a:lnTo>
                    <a:pt x="48" y="70"/>
                  </a:lnTo>
                  <a:lnTo>
                    <a:pt x="66" y="80"/>
                  </a:lnTo>
                  <a:lnTo>
                    <a:pt x="66" y="80"/>
                  </a:lnTo>
                  <a:lnTo>
                    <a:pt x="48" y="7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692600" y="4441680"/>
              <a:ext cx="198720" cy="349560"/>
            </a:xfrm>
            <a:custGeom>
              <a:avLst/>
              <a:gdLst/>
              <a:ahLst/>
              <a:rect l="0" t="0" r="r" b="b"/>
              <a:pathLst>
                <a:path w="552" h="971">
                  <a:moveTo>
                    <a:pt x="136" y="313"/>
                  </a:moveTo>
                  <a:lnTo>
                    <a:pt x="224" y="405"/>
                  </a:lnTo>
                  <a:lnTo>
                    <a:pt x="260" y="458"/>
                  </a:lnTo>
                  <a:lnTo>
                    <a:pt x="268" y="525"/>
                  </a:lnTo>
                  <a:lnTo>
                    <a:pt x="220" y="561"/>
                  </a:lnTo>
                  <a:lnTo>
                    <a:pt x="194" y="574"/>
                  </a:lnTo>
                  <a:lnTo>
                    <a:pt x="167" y="609"/>
                  </a:lnTo>
                  <a:lnTo>
                    <a:pt x="149" y="671"/>
                  </a:lnTo>
                  <a:lnTo>
                    <a:pt x="158" y="737"/>
                  </a:lnTo>
                  <a:lnTo>
                    <a:pt x="127" y="807"/>
                  </a:lnTo>
                  <a:lnTo>
                    <a:pt x="110" y="953"/>
                  </a:lnTo>
                  <a:lnTo>
                    <a:pt x="132" y="966"/>
                  </a:lnTo>
                  <a:lnTo>
                    <a:pt x="167" y="971"/>
                  </a:lnTo>
                  <a:lnTo>
                    <a:pt x="211" y="935"/>
                  </a:lnTo>
                  <a:lnTo>
                    <a:pt x="238" y="865"/>
                  </a:lnTo>
                  <a:lnTo>
                    <a:pt x="260" y="807"/>
                  </a:lnTo>
                  <a:lnTo>
                    <a:pt x="305" y="666"/>
                  </a:lnTo>
                  <a:lnTo>
                    <a:pt x="322" y="525"/>
                  </a:lnTo>
                  <a:lnTo>
                    <a:pt x="349" y="490"/>
                  </a:lnTo>
                  <a:lnTo>
                    <a:pt x="384" y="463"/>
                  </a:lnTo>
                  <a:lnTo>
                    <a:pt x="419" y="432"/>
                  </a:lnTo>
                  <a:lnTo>
                    <a:pt x="459" y="427"/>
                  </a:lnTo>
                  <a:lnTo>
                    <a:pt x="521" y="396"/>
                  </a:lnTo>
                  <a:lnTo>
                    <a:pt x="503" y="366"/>
                  </a:lnTo>
                  <a:lnTo>
                    <a:pt x="499" y="348"/>
                  </a:lnTo>
                  <a:lnTo>
                    <a:pt x="516" y="326"/>
                  </a:lnTo>
                  <a:lnTo>
                    <a:pt x="534" y="286"/>
                  </a:lnTo>
                  <a:lnTo>
                    <a:pt x="552" y="264"/>
                  </a:lnTo>
                  <a:lnTo>
                    <a:pt x="547" y="229"/>
                  </a:lnTo>
                  <a:lnTo>
                    <a:pt x="512" y="167"/>
                  </a:lnTo>
                  <a:lnTo>
                    <a:pt x="464" y="97"/>
                  </a:lnTo>
                  <a:lnTo>
                    <a:pt x="415" y="35"/>
                  </a:lnTo>
                  <a:lnTo>
                    <a:pt x="402" y="4"/>
                  </a:lnTo>
                  <a:lnTo>
                    <a:pt x="384" y="0"/>
                  </a:lnTo>
                  <a:lnTo>
                    <a:pt x="349" y="22"/>
                  </a:lnTo>
                  <a:lnTo>
                    <a:pt x="305" y="66"/>
                  </a:lnTo>
                  <a:lnTo>
                    <a:pt x="260" y="101"/>
                  </a:lnTo>
                  <a:lnTo>
                    <a:pt x="242" y="123"/>
                  </a:lnTo>
                  <a:lnTo>
                    <a:pt x="216" y="136"/>
                  </a:lnTo>
                  <a:lnTo>
                    <a:pt x="180" y="167"/>
                  </a:lnTo>
                  <a:lnTo>
                    <a:pt x="149" y="149"/>
                  </a:lnTo>
                  <a:lnTo>
                    <a:pt x="119" y="145"/>
                  </a:lnTo>
                  <a:lnTo>
                    <a:pt x="74" y="185"/>
                  </a:lnTo>
                  <a:lnTo>
                    <a:pt x="35" y="246"/>
                  </a:lnTo>
                  <a:lnTo>
                    <a:pt x="0" y="286"/>
                  </a:lnTo>
                  <a:lnTo>
                    <a:pt x="35" y="295"/>
                  </a:lnTo>
                  <a:lnTo>
                    <a:pt x="48" y="299"/>
                  </a:lnTo>
                  <a:lnTo>
                    <a:pt x="136" y="313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819600" y="4148280"/>
              <a:ext cx="95760" cy="55800"/>
            </a:xfrm>
            <a:custGeom>
              <a:avLst/>
              <a:gdLst/>
              <a:ahLst/>
              <a:rect l="0" t="0" r="r" b="b"/>
              <a:pathLst>
                <a:path w="266" h="155">
                  <a:moveTo>
                    <a:pt x="181" y="17"/>
                  </a:moveTo>
                  <a:lnTo>
                    <a:pt x="150" y="0"/>
                  </a:lnTo>
                  <a:lnTo>
                    <a:pt x="102" y="0"/>
                  </a:lnTo>
                  <a:lnTo>
                    <a:pt x="52" y="30"/>
                  </a:lnTo>
                  <a:lnTo>
                    <a:pt x="4" y="61"/>
                  </a:lnTo>
                  <a:lnTo>
                    <a:pt x="0" y="98"/>
                  </a:lnTo>
                  <a:lnTo>
                    <a:pt x="0" y="146"/>
                  </a:lnTo>
                  <a:lnTo>
                    <a:pt x="8" y="155"/>
                  </a:lnTo>
                  <a:lnTo>
                    <a:pt x="8" y="155"/>
                  </a:lnTo>
                  <a:lnTo>
                    <a:pt x="22" y="128"/>
                  </a:lnTo>
                  <a:lnTo>
                    <a:pt x="75" y="98"/>
                  </a:lnTo>
                  <a:lnTo>
                    <a:pt x="128" y="66"/>
                  </a:lnTo>
                  <a:lnTo>
                    <a:pt x="168" y="80"/>
                  </a:lnTo>
                  <a:lnTo>
                    <a:pt x="181" y="84"/>
                  </a:lnTo>
                  <a:lnTo>
                    <a:pt x="200" y="84"/>
                  </a:lnTo>
                  <a:lnTo>
                    <a:pt x="222" y="80"/>
                  </a:lnTo>
                  <a:lnTo>
                    <a:pt x="244" y="61"/>
                  </a:lnTo>
                  <a:lnTo>
                    <a:pt x="257" y="52"/>
                  </a:lnTo>
                  <a:lnTo>
                    <a:pt x="266" y="44"/>
                  </a:lnTo>
                  <a:lnTo>
                    <a:pt x="266" y="13"/>
                  </a:lnTo>
                  <a:lnTo>
                    <a:pt x="253" y="4"/>
                  </a:lnTo>
                  <a:lnTo>
                    <a:pt x="240" y="8"/>
                  </a:lnTo>
                  <a:lnTo>
                    <a:pt x="209" y="4"/>
                  </a:lnTo>
                  <a:lnTo>
                    <a:pt x="195" y="13"/>
                  </a:lnTo>
                  <a:lnTo>
                    <a:pt x="186" y="26"/>
                  </a:lnTo>
                  <a:lnTo>
                    <a:pt x="181" y="1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038480" y="3973680"/>
              <a:ext cx="119520" cy="87840"/>
            </a:xfrm>
            <a:custGeom>
              <a:avLst/>
              <a:gdLst/>
              <a:ahLst/>
              <a:rect l="0" t="0" r="r" b="b"/>
              <a:pathLst>
                <a:path w="332" h="244">
                  <a:moveTo>
                    <a:pt x="159" y="209"/>
                  </a:moveTo>
                  <a:lnTo>
                    <a:pt x="146" y="128"/>
                  </a:lnTo>
                  <a:lnTo>
                    <a:pt x="133" y="39"/>
                  </a:lnTo>
                  <a:lnTo>
                    <a:pt x="102" y="22"/>
                  </a:lnTo>
                  <a:lnTo>
                    <a:pt x="74" y="0"/>
                  </a:lnTo>
                  <a:lnTo>
                    <a:pt x="44" y="4"/>
                  </a:lnTo>
                  <a:lnTo>
                    <a:pt x="4" y="30"/>
                  </a:lnTo>
                  <a:lnTo>
                    <a:pt x="8" y="48"/>
                  </a:lnTo>
                  <a:lnTo>
                    <a:pt x="0" y="75"/>
                  </a:lnTo>
                  <a:lnTo>
                    <a:pt x="8" y="89"/>
                  </a:lnTo>
                  <a:lnTo>
                    <a:pt x="13" y="93"/>
                  </a:lnTo>
                  <a:lnTo>
                    <a:pt x="61" y="52"/>
                  </a:lnTo>
                  <a:lnTo>
                    <a:pt x="111" y="8"/>
                  </a:lnTo>
                  <a:lnTo>
                    <a:pt x="102" y="35"/>
                  </a:lnTo>
                  <a:lnTo>
                    <a:pt x="93" y="39"/>
                  </a:lnTo>
                  <a:lnTo>
                    <a:pt x="79" y="67"/>
                  </a:lnTo>
                  <a:lnTo>
                    <a:pt x="74" y="80"/>
                  </a:lnTo>
                  <a:lnTo>
                    <a:pt x="70" y="102"/>
                  </a:lnTo>
                  <a:lnTo>
                    <a:pt x="48" y="150"/>
                  </a:lnTo>
                  <a:lnTo>
                    <a:pt x="44" y="164"/>
                  </a:lnTo>
                  <a:lnTo>
                    <a:pt x="39" y="177"/>
                  </a:lnTo>
                  <a:lnTo>
                    <a:pt x="52" y="209"/>
                  </a:lnTo>
                  <a:lnTo>
                    <a:pt x="74" y="240"/>
                  </a:lnTo>
                  <a:lnTo>
                    <a:pt x="98" y="244"/>
                  </a:lnTo>
                  <a:lnTo>
                    <a:pt x="124" y="231"/>
                  </a:lnTo>
                  <a:lnTo>
                    <a:pt x="190" y="181"/>
                  </a:lnTo>
                  <a:lnTo>
                    <a:pt x="253" y="120"/>
                  </a:lnTo>
                  <a:lnTo>
                    <a:pt x="279" y="106"/>
                  </a:lnTo>
                  <a:lnTo>
                    <a:pt x="310" y="84"/>
                  </a:lnTo>
                  <a:lnTo>
                    <a:pt x="332" y="71"/>
                  </a:lnTo>
                  <a:lnTo>
                    <a:pt x="332" y="52"/>
                  </a:lnTo>
                  <a:lnTo>
                    <a:pt x="328" y="30"/>
                  </a:lnTo>
                  <a:lnTo>
                    <a:pt x="288" y="67"/>
                  </a:lnTo>
                  <a:lnTo>
                    <a:pt x="266" y="98"/>
                  </a:lnTo>
                  <a:lnTo>
                    <a:pt x="239" y="124"/>
                  </a:lnTo>
                  <a:lnTo>
                    <a:pt x="195" y="159"/>
                  </a:lnTo>
                  <a:lnTo>
                    <a:pt x="168" y="168"/>
                  </a:lnTo>
                  <a:lnTo>
                    <a:pt x="164" y="159"/>
                  </a:lnTo>
                  <a:lnTo>
                    <a:pt x="159" y="181"/>
                  </a:lnTo>
                  <a:lnTo>
                    <a:pt x="159" y="209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132440" y="4113360"/>
              <a:ext cx="120960" cy="135360"/>
            </a:xfrm>
            <a:custGeom>
              <a:avLst/>
              <a:gdLst/>
              <a:ahLst/>
              <a:rect l="0" t="0" r="r" b="b"/>
              <a:pathLst>
                <a:path w="336" h="376">
                  <a:moveTo>
                    <a:pt x="83" y="278"/>
                  </a:moveTo>
                  <a:lnTo>
                    <a:pt x="119" y="252"/>
                  </a:lnTo>
                  <a:lnTo>
                    <a:pt x="141" y="239"/>
                  </a:lnTo>
                  <a:lnTo>
                    <a:pt x="141" y="208"/>
                  </a:lnTo>
                  <a:lnTo>
                    <a:pt x="145" y="168"/>
                  </a:lnTo>
                  <a:lnTo>
                    <a:pt x="230" y="79"/>
                  </a:lnTo>
                  <a:lnTo>
                    <a:pt x="322" y="0"/>
                  </a:lnTo>
                  <a:lnTo>
                    <a:pt x="336" y="17"/>
                  </a:lnTo>
                  <a:lnTo>
                    <a:pt x="309" y="52"/>
                  </a:lnTo>
                  <a:lnTo>
                    <a:pt x="256" y="133"/>
                  </a:lnTo>
                  <a:lnTo>
                    <a:pt x="247" y="133"/>
                  </a:lnTo>
                  <a:lnTo>
                    <a:pt x="217" y="159"/>
                  </a:lnTo>
                  <a:lnTo>
                    <a:pt x="195" y="177"/>
                  </a:lnTo>
                  <a:lnTo>
                    <a:pt x="186" y="195"/>
                  </a:lnTo>
                  <a:lnTo>
                    <a:pt x="172" y="221"/>
                  </a:lnTo>
                  <a:lnTo>
                    <a:pt x="163" y="252"/>
                  </a:lnTo>
                  <a:lnTo>
                    <a:pt x="154" y="278"/>
                  </a:lnTo>
                  <a:lnTo>
                    <a:pt x="145" y="293"/>
                  </a:lnTo>
                  <a:lnTo>
                    <a:pt x="127" y="323"/>
                  </a:lnTo>
                  <a:lnTo>
                    <a:pt x="97" y="354"/>
                  </a:lnTo>
                  <a:lnTo>
                    <a:pt x="79" y="354"/>
                  </a:lnTo>
                  <a:lnTo>
                    <a:pt x="22" y="368"/>
                  </a:lnTo>
                  <a:lnTo>
                    <a:pt x="8" y="376"/>
                  </a:lnTo>
                  <a:lnTo>
                    <a:pt x="0" y="368"/>
                  </a:lnTo>
                  <a:lnTo>
                    <a:pt x="17" y="363"/>
                  </a:lnTo>
                  <a:lnTo>
                    <a:pt x="39" y="345"/>
                  </a:lnTo>
                  <a:lnTo>
                    <a:pt x="74" y="337"/>
                  </a:lnTo>
                  <a:lnTo>
                    <a:pt x="101" y="323"/>
                  </a:lnTo>
                  <a:lnTo>
                    <a:pt x="110" y="315"/>
                  </a:lnTo>
                  <a:lnTo>
                    <a:pt x="119" y="306"/>
                  </a:lnTo>
                  <a:lnTo>
                    <a:pt x="105" y="293"/>
                  </a:lnTo>
                  <a:lnTo>
                    <a:pt x="83" y="278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884760" y="3925800"/>
              <a:ext cx="97200" cy="179640"/>
            </a:xfrm>
            <a:custGeom>
              <a:avLst/>
              <a:gdLst/>
              <a:ahLst/>
              <a:rect l="0" t="0" r="r" b="b"/>
              <a:pathLst>
                <a:path w="270" h="499">
                  <a:moveTo>
                    <a:pt x="155" y="433"/>
                  </a:moveTo>
                  <a:lnTo>
                    <a:pt x="102" y="380"/>
                  </a:lnTo>
                  <a:lnTo>
                    <a:pt x="44" y="340"/>
                  </a:lnTo>
                  <a:lnTo>
                    <a:pt x="22" y="327"/>
                  </a:lnTo>
                  <a:lnTo>
                    <a:pt x="8" y="283"/>
                  </a:lnTo>
                  <a:lnTo>
                    <a:pt x="0" y="246"/>
                  </a:lnTo>
                  <a:lnTo>
                    <a:pt x="8" y="194"/>
                  </a:lnTo>
                  <a:lnTo>
                    <a:pt x="44" y="233"/>
                  </a:lnTo>
                  <a:lnTo>
                    <a:pt x="48" y="265"/>
                  </a:lnTo>
                  <a:lnTo>
                    <a:pt x="61" y="305"/>
                  </a:lnTo>
                  <a:lnTo>
                    <a:pt x="150" y="238"/>
                  </a:lnTo>
                  <a:lnTo>
                    <a:pt x="231" y="167"/>
                  </a:lnTo>
                  <a:lnTo>
                    <a:pt x="235" y="141"/>
                  </a:lnTo>
                  <a:lnTo>
                    <a:pt x="244" y="114"/>
                  </a:lnTo>
                  <a:lnTo>
                    <a:pt x="248" y="83"/>
                  </a:lnTo>
                  <a:lnTo>
                    <a:pt x="248" y="39"/>
                  </a:lnTo>
                  <a:lnTo>
                    <a:pt x="240" y="13"/>
                  </a:lnTo>
                  <a:lnTo>
                    <a:pt x="235" y="0"/>
                  </a:lnTo>
                  <a:lnTo>
                    <a:pt x="266" y="22"/>
                  </a:lnTo>
                  <a:lnTo>
                    <a:pt x="270" y="35"/>
                  </a:lnTo>
                  <a:lnTo>
                    <a:pt x="270" y="83"/>
                  </a:lnTo>
                  <a:lnTo>
                    <a:pt x="244" y="145"/>
                  </a:lnTo>
                  <a:lnTo>
                    <a:pt x="204" y="216"/>
                  </a:lnTo>
                  <a:lnTo>
                    <a:pt x="195" y="238"/>
                  </a:lnTo>
                  <a:lnTo>
                    <a:pt x="195" y="256"/>
                  </a:lnTo>
                  <a:lnTo>
                    <a:pt x="195" y="287"/>
                  </a:lnTo>
                  <a:lnTo>
                    <a:pt x="199" y="300"/>
                  </a:lnTo>
                  <a:lnTo>
                    <a:pt x="199" y="322"/>
                  </a:lnTo>
                  <a:lnTo>
                    <a:pt x="195" y="349"/>
                  </a:lnTo>
                  <a:lnTo>
                    <a:pt x="155" y="371"/>
                  </a:lnTo>
                  <a:lnTo>
                    <a:pt x="133" y="371"/>
                  </a:lnTo>
                  <a:lnTo>
                    <a:pt x="106" y="371"/>
                  </a:lnTo>
                  <a:lnTo>
                    <a:pt x="75" y="362"/>
                  </a:lnTo>
                  <a:lnTo>
                    <a:pt x="71" y="344"/>
                  </a:lnTo>
                  <a:lnTo>
                    <a:pt x="71" y="344"/>
                  </a:lnTo>
                  <a:lnTo>
                    <a:pt x="80" y="336"/>
                  </a:lnTo>
                  <a:lnTo>
                    <a:pt x="111" y="322"/>
                  </a:lnTo>
                  <a:lnTo>
                    <a:pt x="137" y="327"/>
                  </a:lnTo>
                  <a:lnTo>
                    <a:pt x="142" y="389"/>
                  </a:lnTo>
                  <a:lnTo>
                    <a:pt x="128" y="419"/>
                  </a:lnTo>
                  <a:lnTo>
                    <a:pt x="120" y="441"/>
                  </a:lnTo>
                  <a:lnTo>
                    <a:pt x="120" y="455"/>
                  </a:lnTo>
                  <a:lnTo>
                    <a:pt x="115" y="481"/>
                  </a:lnTo>
                  <a:lnTo>
                    <a:pt x="102" y="494"/>
                  </a:lnTo>
                  <a:lnTo>
                    <a:pt x="111" y="499"/>
                  </a:lnTo>
                  <a:lnTo>
                    <a:pt x="133" y="481"/>
                  </a:lnTo>
                  <a:lnTo>
                    <a:pt x="146" y="455"/>
                  </a:lnTo>
                  <a:lnTo>
                    <a:pt x="186" y="406"/>
                  </a:lnTo>
                  <a:lnTo>
                    <a:pt x="190" y="406"/>
                  </a:lnTo>
                  <a:lnTo>
                    <a:pt x="195" y="397"/>
                  </a:lnTo>
                  <a:lnTo>
                    <a:pt x="209" y="389"/>
                  </a:lnTo>
                  <a:lnTo>
                    <a:pt x="209" y="389"/>
                  </a:lnTo>
                  <a:lnTo>
                    <a:pt x="177" y="411"/>
                  </a:lnTo>
                  <a:lnTo>
                    <a:pt x="155" y="433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322880" y="4211640"/>
              <a:ext cx="127440" cy="87840"/>
            </a:xfrm>
            <a:custGeom>
              <a:avLst/>
              <a:gdLst/>
              <a:ahLst/>
              <a:rect l="0" t="0" r="r" b="b"/>
              <a:pathLst>
                <a:path w="354" h="244">
                  <a:moveTo>
                    <a:pt x="61" y="0"/>
                  </a:moveTo>
                  <a:lnTo>
                    <a:pt x="93" y="8"/>
                  </a:lnTo>
                  <a:lnTo>
                    <a:pt x="133" y="8"/>
                  </a:lnTo>
                  <a:lnTo>
                    <a:pt x="225" y="30"/>
                  </a:lnTo>
                  <a:lnTo>
                    <a:pt x="323" y="44"/>
                  </a:lnTo>
                  <a:lnTo>
                    <a:pt x="337" y="71"/>
                  </a:lnTo>
                  <a:lnTo>
                    <a:pt x="341" y="106"/>
                  </a:lnTo>
                  <a:lnTo>
                    <a:pt x="345" y="137"/>
                  </a:lnTo>
                  <a:lnTo>
                    <a:pt x="341" y="177"/>
                  </a:lnTo>
                  <a:lnTo>
                    <a:pt x="328" y="213"/>
                  </a:lnTo>
                  <a:lnTo>
                    <a:pt x="315" y="235"/>
                  </a:lnTo>
                  <a:lnTo>
                    <a:pt x="319" y="240"/>
                  </a:lnTo>
                  <a:lnTo>
                    <a:pt x="328" y="244"/>
                  </a:lnTo>
                  <a:lnTo>
                    <a:pt x="345" y="226"/>
                  </a:lnTo>
                  <a:lnTo>
                    <a:pt x="354" y="187"/>
                  </a:lnTo>
                  <a:lnTo>
                    <a:pt x="284" y="137"/>
                  </a:lnTo>
                  <a:lnTo>
                    <a:pt x="279" y="124"/>
                  </a:lnTo>
                  <a:lnTo>
                    <a:pt x="275" y="120"/>
                  </a:lnTo>
                  <a:lnTo>
                    <a:pt x="252" y="128"/>
                  </a:lnTo>
                  <a:lnTo>
                    <a:pt x="212" y="155"/>
                  </a:lnTo>
                  <a:lnTo>
                    <a:pt x="181" y="177"/>
                  </a:lnTo>
                  <a:lnTo>
                    <a:pt x="168" y="200"/>
                  </a:lnTo>
                  <a:lnTo>
                    <a:pt x="146" y="200"/>
                  </a:lnTo>
                  <a:lnTo>
                    <a:pt x="128" y="191"/>
                  </a:lnTo>
                  <a:lnTo>
                    <a:pt x="128" y="168"/>
                  </a:lnTo>
                  <a:lnTo>
                    <a:pt x="146" y="133"/>
                  </a:lnTo>
                  <a:lnTo>
                    <a:pt x="164" y="120"/>
                  </a:lnTo>
                  <a:lnTo>
                    <a:pt x="186" y="120"/>
                  </a:lnTo>
                  <a:lnTo>
                    <a:pt x="230" y="115"/>
                  </a:lnTo>
                  <a:lnTo>
                    <a:pt x="221" y="71"/>
                  </a:lnTo>
                  <a:lnTo>
                    <a:pt x="221" y="52"/>
                  </a:lnTo>
                  <a:lnTo>
                    <a:pt x="190" y="62"/>
                  </a:lnTo>
                  <a:lnTo>
                    <a:pt x="155" y="80"/>
                  </a:lnTo>
                  <a:lnTo>
                    <a:pt x="137" y="89"/>
                  </a:lnTo>
                  <a:lnTo>
                    <a:pt x="124" y="93"/>
                  </a:lnTo>
                  <a:lnTo>
                    <a:pt x="0" y="67"/>
                  </a:lnTo>
                  <a:lnTo>
                    <a:pt x="22" y="71"/>
                  </a:lnTo>
                  <a:lnTo>
                    <a:pt x="61" y="48"/>
                  </a:lnTo>
                  <a:lnTo>
                    <a:pt x="74" y="26"/>
                  </a:lnTo>
                  <a:lnTo>
                    <a:pt x="70" y="1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330800" y="4497480"/>
              <a:ext cx="86040" cy="65520"/>
            </a:xfrm>
            <a:custGeom>
              <a:avLst/>
              <a:gdLst/>
              <a:ahLst/>
              <a:rect l="0" t="0" r="r" b="b"/>
              <a:pathLst>
                <a:path w="239" h="182">
                  <a:moveTo>
                    <a:pt x="48" y="13"/>
                  </a:moveTo>
                  <a:lnTo>
                    <a:pt x="83" y="13"/>
                  </a:lnTo>
                  <a:lnTo>
                    <a:pt x="110" y="13"/>
                  </a:lnTo>
                  <a:lnTo>
                    <a:pt x="133" y="13"/>
                  </a:lnTo>
                  <a:lnTo>
                    <a:pt x="168" y="17"/>
                  </a:lnTo>
                  <a:lnTo>
                    <a:pt x="195" y="17"/>
                  </a:lnTo>
                  <a:lnTo>
                    <a:pt x="217" y="17"/>
                  </a:lnTo>
                  <a:lnTo>
                    <a:pt x="217" y="17"/>
                  </a:lnTo>
                  <a:lnTo>
                    <a:pt x="230" y="62"/>
                  </a:lnTo>
                  <a:lnTo>
                    <a:pt x="239" y="98"/>
                  </a:lnTo>
                  <a:lnTo>
                    <a:pt x="221" y="182"/>
                  </a:lnTo>
                  <a:lnTo>
                    <a:pt x="217" y="147"/>
                  </a:lnTo>
                  <a:lnTo>
                    <a:pt x="208" y="124"/>
                  </a:lnTo>
                  <a:lnTo>
                    <a:pt x="199" y="120"/>
                  </a:lnTo>
                  <a:lnTo>
                    <a:pt x="159" y="124"/>
                  </a:lnTo>
                  <a:lnTo>
                    <a:pt x="164" y="98"/>
                  </a:lnTo>
                  <a:lnTo>
                    <a:pt x="146" y="84"/>
                  </a:lnTo>
                  <a:lnTo>
                    <a:pt x="133" y="93"/>
                  </a:lnTo>
                  <a:lnTo>
                    <a:pt x="105" y="106"/>
                  </a:lnTo>
                  <a:lnTo>
                    <a:pt x="79" y="120"/>
                  </a:lnTo>
                  <a:lnTo>
                    <a:pt x="44" y="128"/>
                  </a:lnTo>
                  <a:lnTo>
                    <a:pt x="39" y="120"/>
                  </a:lnTo>
                  <a:lnTo>
                    <a:pt x="17" y="106"/>
                  </a:lnTo>
                  <a:lnTo>
                    <a:pt x="0" y="89"/>
                  </a:lnTo>
                  <a:lnTo>
                    <a:pt x="0" y="30"/>
                  </a:lnTo>
                  <a:lnTo>
                    <a:pt x="4" y="4"/>
                  </a:lnTo>
                  <a:lnTo>
                    <a:pt x="13" y="8"/>
                  </a:lnTo>
                  <a:lnTo>
                    <a:pt x="26" y="0"/>
                  </a:lnTo>
                  <a:lnTo>
                    <a:pt x="48" y="13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968640" y="4227480"/>
              <a:ext cx="251280" cy="248040"/>
            </a:xfrm>
            <a:custGeom>
              <a:avLst/>
              <a:gdLst/>
              <a:ahLst/>
              <a:rect l="0" t="0" r="r" b="b"/>
              <a:pathLst>
                <a:path w="698" h="689">
                  <a:moveTo>
                    <a:pt x="217" y="340"/>
                  </a:moveTo>
                  <a:lnTo>
                    <a:pt x="287" y="358"/>
                  </a:lnTo>
                  <a:lnTo>
                    <a:pt x="336" y="353"/>
                  </a:lnTo>
                  <a:lnTo>
                    <a:pt x="384" y="327"/>
                  </a:lnTo>
                  <a:lnTo>
                    <a:pt x="406" y="283"/>
                  </a:lnTo>
                  <a:lnTo>
                    <a:pt x="411" y="247"/>
                  </a:lnTo>
                  <a:lnTo>
                    <a:pt x="433" y="212"/>
                  </a:lnTo>
                  <a:lnTo>
                    <a:pt x="472" y="171"/>
                  </a:lnTo>
                  <a:lnTo>
                    <a:pt x="526" y="141"/>
                  </a:lnTo>
                  <a:lnTo>
                    <a:pt x="579" y="88"/>
                  </a:lnTo>
                  <a:lnTo>
                    <a:pt x="681" y="0"/>
                  </a:lnTo>
                  <a:lnTo>
                    <a:pt x="694" y="8"/>
                  </a:lnTo>
                  <a:lnTo>
                    <a:pt x="698" y="30"/>
                  </a:lnTo>
                  <a:lnTo>
                    <a:pt x="676" y="79"/>
                  </a:lnTo>
                  <a:lnTo>
                    <a:pt x="628" y="132"/>
                  </a:lnTo>
                  <a:lnTo>
                    <a:pt x="588" y="181"/>
                  </a:lnTo>
                  <a:lnTo>
                    <a:pt x="490" y="283"/>
                  </a:lnTo>
                  <a:lnTo>
                    <a:pt x="384" y="371"/>
                  </a:lnTo>
                  <a:lnTo>
                    <a:pt x="362" y="406"/>
                  </a:lnTo>
                  <a:lnTo>
                    <a:pt x="344" y="446"/>
                  </a:lnTo>
                  <a:lnTo>
                    <a:pt x="327" y="486"/>
                  </a:lnTo>
                  <a:lnTo>
                    <a:pt x="327" y="522"/>
                  </a:lnTo>
                  <a:lnTo>
                    <a:pt x="314" y="579"/>
                  </a:lnTo>
                  <a:lnTo>
                    <a:pt x="287" y="584"/>
                  </a:lnTo>
                  <a:lnTo>
                    <a:pt x="269" y="588"/>
                  </a:lnTo>
                  <a:lnTo>
                    <a:pt x="256" y="610"/>
                  </a:lnTo>
                  <a:lnTo>
                    <a:pt x="234" y="645"/>
                  </a:lnTo>
                  <a:lnTo>
                    <a:pt x="217" y="672"/>
                  </a:lnTo>
                  <a:lnTo>
                    <a:pt x="186" y="685"/>
                  </a:lnTo>
                  <a:lnTo>
                    <a:pt x="141" y="689"/>
                  </a:lnTo>
                  <a:lnTo>
                    <a:pt x="83" y="689"/>
                  </a:lnTo>
                  <a:lnTo>
                    <a:pt x="35" y="685"/>
                  </a:lnTo>
                  <a:lnTo>
                    <a:pt x="8" y="689"/>
                  </a:lnTo>
                  <a:lnTo>
                    <a:pt x="0" y="685"/>
                  </a:lnTo>
                  <a:lnTo>
                    <a:pt x="17" y="645"/>
                  </a:lnTo>
                  <a:lnTo>
                    <a:pt x="44" y="588"/>
                  </a:lnTo>
                  <a:lnTo>
                    <a:pt x="70" y="535"/>
                  </a:lnTo>
                  <a:lnTo>
                    <a:pt x="83" y="512"/>
                  </a:lnTo>
                  <a:lnTo>
                    <a:pt x="88" y="486"/>
                  </a:lnTo>
                  <a:lnTo>
                    <a:pt x="110" y="446"/>
                  </a:lnTo>
                  <a:lnTo>
                    <a:pt x="97" y="433"/>
                  </a:lnTo>
                  <a:lnTo>
                    <a:pt x="88" y="415"/>
                  </a:lnTo>
                  <a:lnTo>
                    <a:pt x="114" y="358"/>
                  </a:lnTo>
                  <a:lnTo>
                    <a:pt x="154" y="296"/>
                  </a:lnTo>
                  <a:lnTo>
                    <a:pt x="186" y="247"/>
                  </a:lnTo>
                  <a:lnTo>
                    <a:pt x="190" y="278"/>
                  </a:lnTo>
                  <a:lnTo>
                    <a:pt x="199" y="283"/>
                  </a:lnTo>
                  <a:lnTo>
                    <a:pt x="217" y="34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"/>
          <p:cNvSpPr txBox="1"/>
          <p:nvPr/>
        </p:nvSpPr>
        <p:spPr>
          <a:xfrm>
            <a:off x="304920" y="457200"/>
            <a:ext cx="7391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Well, Who Do You Thin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/>
          <p:nvPr/>
        </p:nvSpPr>
        <p:spPr>
          <a:xfrm>
            <a:off x="1371600" y="5969160"/>
            <a:ext cx="5105880" cy="711720"/>
          </a:xfrm>
          <a:custGeom>
            <a:avLst/>
            <a:gdLst/>
            <a:ahLst/>
            <a:rect l="0" t="0" r="r" b="b"/>
            <a:pathLst>
              <a:path w="14183" h="1977">
                <a:moveTo>
                  <a:pt x="7532" y="214"/>
                </a:moveTo>
                <a:lnTo>
                  <a:pt x="7356" y="171"/>
                </a:lnTo>
                <a:lnTo>
                  <a:pt x="7223" y="171"/>
                </a:lnTo>
                <a:lnTo>
                  <a:pt x="7091" y="214"/>
                </a:lnTo>
                <a:lnTo>
                  <a:pt x="6959" y="257"/>
                </a:lnTo>
                <a:lnTo>
                  <a:pt x="6827" y="214"/>
                </a:lnTo>
                <a:lnTo>
                  <a:pt x="6695" y="214"/>
                </a:lnTo>
                <a:lnTo>
                  <a:pt x="6563" y="171"/>
                </a:lnTo>
                <a:lnTo>
                  <a:pt x="6431" y="171"/>
                </a:lnTo>
                <a:lnTo>
                  <a:pt x="6299" y="171"/>
                </a:lnTo>
                <a:lnTo>
                  <a:pt x="6166" y="171"/>
                </a:lnTo>
                <a:lnTo>
                  <a:pt x="6034" y="214"/>
                </a:lnTo>
                <a:lnTo>
                  <a:pt x="5902" y="214"/>
                </a:lnTo>
                <a:lnTo>
                  <a:pt x="5770" y="214"/>
                </a:lnTo>
                <a:lnTo>
                  <a:pt x="5638" y="214"/>
                </a:lnTo>
                <a:lnTo>
                  <a:pt x="5506" y="214"/>
                </a:lnTo>
                <a:lnTo>
                  <a:pt x="5374" y="214"/>
                </a:lnTo>
                <a:lnTo>
                  <a:pt x="5242" y="214"/>
                </a:lnTo>
                <a:lnTo>
                  <a:pt x="5109" y="214"/>
                </a:lnTo>
                <a:lnTo>
                  <a:pt x="4977" y="214"/>
                </a:lnTo>
                <a:lnTo>
                  <a:pt x="4845" y="171"/>
                </a:lnTo>
                <a:lnTo>
                  <a:pt x="4713" y="128"/>
                </a:lnTo>
                <a:lnTo>
                  <a:pt x="4581" y="128"/>
                </a:lnTo>
                <a:lnTo>
                  <a:pt x="4449" y="171"/>
                </a:lnTo>
                <a:lnTo>
                  <a:pt x="4273" y="214"/>
                </a:lnTo>
                <a:lnTo>
                  <a:pt x="4096" y="257"/>
                </a:lnTo>
                <a:lnTo>
                  <a:pt x="3920" y="214"/>
                </a:lnTo>
                <a:lnTo>
                  <a:pt x="3744" y="171"/>
                </a:lnTo>
                <a:lnTo>
                  <a:pt x="3612" y="128"/>
                </a:lnTo>
                <a:lnTo>
                  <a:pt x="3479" y="128"/>
                </a:lnTo>
                <a:lnTo>
                  <a:pt x="3347" y="128"/>
                </a:lnTo>
                <a:lnTo>
                  <a:pt x="3215" y="128"/>
                </a:lnTo>
                <a:lnTo>
                  <a:pt x="3082" y="128"/>
                </a:lnTo>
                <a:lnTo>
                  <a:pt x="2950" y="171"/>
                </a:lnTo>
                <a:lnTo>
                  <a:pt x="2818" y="171"/>
                </a:lnTo>
                <a:lnTo>
                  <a:pt x="2686" y="171"/>
                </a:lnTo>
                <a:lnTo>
                  <a:pt x="2554" y="128"/>
                </a:lnTo>
                <a:lnTo>
                  <a:pt x="2422" y="85"/>
                </a:lnTo>
                <a:lnTo>
                  <a:pt x="2290" y="42"/>
                </a:lnTo>
                <a:lnTo>
                  <a:pt x="2158" y="0"/>
                </a:lnTo>
                <a:lnTo>
                  <a:pt x="2025" y="42"/>
                </a:lnTo>
                <a:lnTo>
                  <a:pt x="1893" y="42"/>
                </a:lnTo>
                <a:lnTo>
                  <a:pt x="1761" y="42"/>
                </a:lnTo>
                <a:lnTo>
                  <a:pt x="1629" y="42"/>
                </a:lnTo>
                <a:lnTo>
                  <a:pt x="1497" y="42"/>
                </a:lnTo>
                <a:lnTo>
                  <a:pt x="1365" y="42"/>
                </a:lnTo>
                <a:lnTo>
                  <a:pt x="1233" y="85"/>
                </a:lnTo>
                <a:lnTo>
                  <a:pt x="1101" y="171"/>
                </a:lnTo>
                <a:lnTo>
                  <a:pt x="968" y="300"/>
                </a:lnTo>
                <a:lnTo>
                  <a:pt x="836" y="386"/>
                </a:lnTo>
                <a:lnTo>
                  <a:pt x="704" y="429"/>
                </a:lnTo>
                <a:lnTo>
                  <a:pt x="572" y="429"/>
                </a:lnTo>
                <a:lnTo>
                  <a:pt x="440" y="429"/>
                </a:lnTo>
                <a:lnTo>
                  <a:pt x="308" y="429"/>
                </a:lnTo>
                <a:lnTo>
                  <a:pt x="176" y="472"/>
                </a:lnTo>
                <a:lnTo>
                  <a:pt x="44" y="472"/>
                </a:lnTo>
                <a:lnTo>
                  <a:pt x="0" y="602"/>
                </a:lnTo>
                <a:lnTo>
                  <a:pt x="0" y="731"/>
                </a:lnTo>
                <a:lnTo>
                  <a:pt x="0" y="859"/>
                </a:lnTo>
                <a:lnTo>
                  <a:pt x="132" y="988"/>
                </a:lnTo>
                <a:lnTo>
                  <a:pt x="264" y="1074"/>
                </a:lnTo>
                <a:lnTo>
                  <a:pt x="396" y="1074"/>
                </a:lnTo>
                <a:lnTo>
                  <a:pt x="528" y="1074"/>
                </a:lnTo>
                <a:lnTo>
                  <a:pt x="660" y="1074"/>
                </a:lnTo>
                <a:lnTo>
                  <a:pt x="792" y="1074"/>
                </a:lnTo>
                <a:lnTo>
                  <a:pt x="924" y="1117"/>
                </a:lnTo>
                <a:lnTo>
                  <a:pt x="1012" y="1246"/>
                </a:lnTo>
                <a:lnTo>
                  <a:pt x="1101" y="1375"/>
                </a:lnTo>
                <a:lnTo>
                  <a:pt x="1233" y="1461"/>
                </a:lnTo>
                <a:lnTo>
                  <a:pt x="1365" y="1461"/>
                </a:lnTo>
                <a:lnTo>
                  <a:pt x="1497" y="1418"/>
                </a:lnTo>
                <a:lnTo>
                  <a:pt x="1629" y="1375"/>
                </a:lnTo>
                <a:lnTo>
                  <a:pt x="1761" y="1332"/>
                </a:lnTo>
                <a:lnTo>
                  <a:pt x="1893" y="1332"/>
                </a:lnTo>
                <a:lnTo>
                  <a:pt x="2025" y="1418"/>
                </a:lnTo>
                <a:lnTo>
                  <a:pt x="2158" y="1505"/>
                </a:lnTo>
                <a:lnTo>
                  <a:pt x="2290" y="1548"/>
                </a:lnTo>
                <a:lnTo>
                  <a:pt x="2422" y="1548"/>
                </a:lnTo>
                <a:lnTo>
                  <a:pt x="2510" y="1676"/>
                </a:lnTo>
                <a:lnTo>
                  <a:pt x="2598" y="1805"/>
                </a:lnTo>
                <a:lnTo>
                  <a:pt x="2686" y="1934"/>
                </a:lnTo>
                <a:lnTo>
                  <a:pt x="2818" y="1977"/>
                </a:lnTo>
                <a:lnTo>
                  <a:pt x="2862" y="1848"/>
                </a:lnTo>
                <a:lnTo>
                  <a:pt x="2862" y="1719"/>
                </a:lnTo>
                <a:lnTo>
                  <a:pt x="2994" y="1676"/>
                </a:lnTo>
                <a:lnTo>
                  <a:pt x="3127" y="1676"/>
                </a:lnTo>
                <a:lnTo>
                  <a:pt x="3259" y="1805"/>
                </a:lnTo>
                <a:lnTo>
                  <a:pt x="3391" y="1848"/>
                </a:lnTo>
                <a:lnTo>
                  <a:pt x="3523" y="1891"/>
                </a:lnTo>
                <a:lnTo>
                  <a:pt x="3656" y="1848"/>
                </a:lnTo>
                <a:lnTo>
                  <a:pt x="3788" y="1719"/>
                </a:lnTo>
                <a:lnTo>
                  <a:pt x="3920" y="1719"/>
                </a:lnTo>
                <a:lnTo>
                  <a:pt x="4052" y="1719"/>
                </a:lnTo>
                <a:lnTo>
                  <a:pt x="4185" y="1762"/>
                </a:lnTo>
                <a:lnTo>
                  <a:pt x="4361" y="1891"/>
                </a:lnTo>
                <a:lnTo>
                  <a:pt x="4493" y="1934"/>
                </a:lnTo>
                <a:lnTo>
                  <a:pt x="4625" y="1977"/>
                </a:lnTo>
                <a:lnTo>
                  <a:pt x="4757" y="1848"/>
                </a:lnTo>
                <a:lnTo>
                  <a:pt x="4889" y="1805"/>
                </a:lnTo>
                <a:lnTo>
                  <a:pt x="5021" y="1762"/>
                </a:lnTo>
                <a:lnTo>
                  <a:pt x="5153" y="1719"/>
                </a:lnTo>
                <a:lnTo>
                  <a:pt x="5286" y="1676"/>
                </a:lnTo>
                <a:lnTo>
                  <a:pt x="5418" y="1633"/>
                </a:lnTo>
                <a:lnTo>
                  <a:pt x="5550" y="1633"/>
                </a:lnTo>
                <a:lnTo>
                  <a:pt x="5682" y="1633"/>
                </a:lnTo>
                <a:lnTo>
                  <a:pt x="5814" y="1676"/>
                </a:lnTo>
                <a:lnTo>
                  <a:pt x="5946" y="1719"/>
                </a:lnTo>
                <a:lnTo>
                  <a:pt x="6078" y="1762"/>
                </a:lnTo>
                <a:lnTo>
                  <a:pt x="6210" y="1762"/>
                </a:lnTo>
                <a:lnTo>
                  <a:pt x="6343" y="1805"/>
                </a:lnTo>
                <a:lnTo>
                  <a:pt x="6475" y="1805"/>
                </a:lnTo>
                <a:lnTo>
                  <a:pt x="6651" y="1762"/>
                </a:lnTo>
                <a:lnTo>
                  <a:pt x="6783" y="1719"/>
                </a:lnTo>
                <a:lnTo>
                  <a:pt x="6915" y="1676"/>
                </a:lnTo>
                <a:lnTo>
                  <a:pt x="7047" y="1676"/>
                </a:lnTo>
                <a:lnTo>
                  <a:pt x="7179" y="1633"/>
                </a:lnTo>
                <a:lnTo>
                  <a:pt x="7312" y="1591"/>
                </a:lnTo>
                <a:lnTo>
                  <a:pt x="7444" y="1548"/>
                </a:lnTo>
                <a:lnTo>
                  <a:pt x="7576" y="1505"/>
                </a:lnTo>
                <a:lnTo>
                  <a:pt x="7708" y="1461"/>
                </a:lnTo>
                <a:lnTo>
                  <a:pt x="7840" y="1418"/>
                </a:lnTo>
                <a:lnTo>
                  <a:pt x="7972" y="1418"/>
                </a:lnTo>
                <a:lnTo>
                  <a:pt x="8104" y="1418"/>
                </a:lnTo>
                <a:lnTo>
                  <a:pt x="8236" y="1418"/>
                </a:lnTo>
                <a:lnTo>
                  <a:pt x="8369" y="1418"/>
                </a:lnTo>
                <a:lnTo>
                  <a:pt x="8501" y="1461"/>
                </a:lnTo>
                <a:lnTo>
                  <a:pt x="8633" y="1505"/>
                </a:lnTo>
                <a:lnTo>
                  <a:pt x="8765" y="1548"/>
                </a:lnTo>
                <a:lnTo>
                  <a:pt x="8897" y="1548"/>
                </a:lnTo>
                <a:lnTo>
                  <a:pt x="9029" y="1548"/>
                </a:lnTo>
                <a:lnTo>
                  <a:pt x="9205" y="1548"/>
                </a:lnTo>
                <a:lnTo>
                  <a:pt x="9382" y="1461"/>
                </a:lnTo>
                <a:lnTo>
                  <a:pt x="9514" y="1418"/>
                </a:lnTo>
                <a:lnTo>
                  <a:pt x="9646" y="1375"/>
                </a:lnTo>
                <a:lnTo>
                  <a:pt x="9822" y="1375"/>
                </a:lnTo>
                <a:lnTo>
                  <a:pt x="9998" y="1418"/>
                </a:lnTo>
                <a:lnTo>
                  <a:pt x="10174" y="1461"/>
                </a:lnTo>
                <a:lnTo>
                  <a:pt x="10306" y="1548"/>
                </a:lnTo>
                <a:lnTo>
                  <a:pt x="10439" y="1591"/>
                </a:lnTo>
                <a:lnTo>
                  <a:pt x="10571" y="1633"/>
                </a:lnTo>
                <a:lnTo>
                  <a:pt x="10704" y="1633"/>
                </a:lnTo>
                <a:lnTo>
                  <a:pt x="10880" y="1548"/>
                </a:lnTo>
                <a:lnTo>
                  <a:pt x="11012" y="1505"/>
                </a:lnTo>
                <a:lnTo>
                  <a:pt x="11144" y="1418"/>
                </a:lnTo>
                <a:lnTo>
                  <a:pt x="11276" y="1375"/>
                </a:lnTo>
                <a:lnTo>
                  <a:pt x="11408" y="1375"/>
                </a:lnTo>
                <a:lnTo>
                  <a:pt x="11585" y="1375"/>
                </a:lnTo>
                <a:lnTo>
                  <a:pt x="11761" y="1375"/>
                </a:lnTo>
                <a:lnTo>
                  <a:pt x="11937" y="1375"/>
                </a:lnTo>
                <a:lnTo>
                  <a:pt x="12069" y="1418"/>
                </a:lnTo>
                <a:lnTo>
                  <a:pt x="12201" y="1418"/>
                </a:lnTo>
                <a:lnTo>
                  <a:pt x="12333" y="1461"/>
                </a:lnTo>
                <a:lnTo>
                  <a:pt x="12466" y="1461"/>
                </a:lnTo>
                <a:lnTo>
                  <a:pt x="12642" y="1461"/>
                </a:lnTo>
                <a:lnTo>
                  <a:pt x="12818" y="1461"/>
                </a:lnTo>
                <a:lnTo>
                  <a:pt x="12950" y="1375"/>
                </a:lnTo>
                <a:lnTo>
                  <a:pt x="13082" y="1332"/>
                </a:lnTo>
                <a:lnTo>
                  <a:pt x="13214" y="1332"/>
                </a:lnTo>
                <a:lnTo>
                  <a:pt x="13346" y="1332"/>
                </a:lnTo>
                <a:lnTo>
                  <a:pt x="13478" y="1332"/>
                </a:lnTo>
                <a:lnTo>
                  <a:pt x="13611" y="1332"/>
                </a:lnTo>
                <a:lnTo>
                  <a:pt x="13743" y="1289"/>
                </a:lnTo>
                <a:lnTo>
                  <a:pt x="13875" y="1246"/>
                </a:lnTo>
                <a:lnTo>
                  <a:pt x="14007" y="1203"/>
                </a:lnTo>
                <a:lnTo>
                  <a:pt x="14139" y="1117"/>
                </a:lnTo>
                <a:lnTo>
                  <a:pt x="14183" y="988"/>
                </a:lnTo>
                <a:lnTo>
                  <a:pt x="14183" y="859"/>
                </a:lnTo>
                <a:lnTo>
                  <a:pt x="14139" y="731"/>
                </a:lnTo>
                <a:lnTo>
                  <a:pt x="14007" y="602"/>
                </a:lnTo>
                <a:lnTo>
                  <a:pt x="13875" y="602"/>
                </a:lnTo>
                <a:lnTo>
                  <a:pt x="13743" y="559"/>
                </a:lnTo>
                <a:lnTo>
                  <a:pt x="13611" y="559"/>
                </a:lnTo>
                <a:lnTo>
                  <a:pt x="13478" y="516"/>
                </a:lnTo>
                <a:lnTo>
                  <a:pt x="13302" y="429"/>
                </a:lnTo>
                <a:lnTo>
                  <a:pt x="13170" y="386"/>
                </a:lnTo>
                <a:lnTo>
                  <a:pt x="13038" y="300"/>
                </a:lnTo>
                <a:lnTo>
                  <a:pt x="12906" y="257"/>
                </a:lnTo>
                <a:lnTo>
                  <a:pt x="12774" y="214"/>
                </a:lnTo>
                <a:lnTo>
                  <a:pt x="12642" y="257"/>
                </a:lnTo>
                <a:lnTo>
                  <a:pt x="12510" y="257"/>
                </a:lnTo>
                <a:lnTo>
                  <a:pt x="12377" y="257"/>
                </a:lnTo>
                <a:lnTo>
                  <a:pt x="12245" y="257"/>
                </a:lnTo>
                <a:lnTo>
                  <a:pt x="12113" y="257"/>
                </a:lnTo>
                <a:lnTo>
                  <a:pt x="11981" y="257"/>
                </a:lnTo>
                <a:lnTo>
                  <a:pt x="11849" y="257"/>
                </a:lnTo>
                <a:lnTo>
                  <a:pt x="11717" y="300"/>
                </a:lnTo>
                <a:lnTo>
                  <a:pt x="11585" y="300"/>
                </a:lnTo>
                <a:lnTo>
                  <a:pt x="11453" y="257"/>
                </a:lnTo>
                <a:lnTo>
                  <a:pt x="11320" y="257"/>
                </a:lnTo>
                <a:lnTo>
                  <a:pt x="11188" y="214"/>
                </a:lnTo>
                <a:lnTo>
                  <a:pt x="11056" y="214"/>
                </a:lnTo>
                <a:lnTo>
                  <a:pt x="10880" y="257"/>
                </a:lnTo>
                <a:lnTo>
                  <a:pt x="10748" y="300"/>
                </a:lnTo>
                <a:lnTo>
                  <a:pt x="10615" y="300"/>
                </a:lnTo>
                <a:lnTo>
                  <a:pt x="10483" y="300"/>
                </a:lnTo>
                <a:lnTo>
                  <a:pt x="10350" y="343"/>
                </a:lnTo>
                <a:lnTo>
                  <a:pt x="10218" y="343"/>
                </a:lnTo>
                <a:lnTo>
                  <a:pt x="10042" y="343"/>
                </a:lnTo>
                <a:lnTo>
                  <a:pt x="9910" y="343"/>
                </a:lnTo>
                <a:lnTo>
                  <a:pt x="9734" y="343"/>
                </a:lnTo>
                <a:lnTo>
                  <a:pt x="9558" y="257"/>
                </a:lnTo>
                <a:lnTo>
                  <a:pt x="9426" y="257"/>
                </a:lnTo>
                <a:lnTo>
                  <a:pt x="9293" y="257"/>
                </a:lnTo>
                <a:lnTo>
                  <a:pt x="9117" y="257"/>
                </a:lnTo>
                <a:lnTo>
                  <a:pt x="8941" y="257"/>
                </a:lnTo>
                <a:lnTo>
                  <a:pt x="8809" y="300"/>
                </a:lnTo>
                <a:lnTo>
                  <a:pt x="8677" y="343"/>
                </a:lnTo>
                <a:lnTo>
                  <a:pt x="8545" y="300"/>
                </a:lnTo>
                <a:lnTo>
                  <a:pt x="8413" y="300"/>
                </a:lnTo>
                <a:lnTo>
                  <a:pt x="8280" y="257"/>
                </a:lnTo>
                <a:lnTo>
                  <a:pt x="8148" y="257"/>
                </a:lnTo>
                <a:lnTo>
                  <a:pt x="8016" y="257"/>
                </a:lnTo>
                <a:lnTo>
                  <a:pt x="7884" y="257"/>
                </a:lnTo>
                <a:lnTo>
                  <a:pt x="7752" y="257"/>
                </a:lnTo>
                <a:lnTo>
                  <a:pt x="7532" y="214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4267080" y="4102200"/>
            <a:ext cx="1514880" cy="2213280"/>
            <a:chOff x="4267080" y="4102200"/>
            <a:chExt cx="1514880" cy="2213280"/>
          </a:xfrm>
        </p:grpSpPr>
        <p:sp>
          <p:nvSpPr>
            <p:cNvPr id="966" name=""/>
            <p:cNvSpPr/>
            <p:nvPr/>
          </p:nvSpPr>
          <p:spPr>
            <a:xfrm>
              <a:off x="4648320" y="4448160"/>
              <a:ext cx="657720" cy="1724400"/>
            </a:xfrm>
            <a:custGeom>
              <a:avLst/>
              <a:gdLst/>
              <a:ahLst/>
              <a:rect l="0" t="0" r="r" b="b"/>
              <a:pathLst>
                <a:path w="1827" h="4790">
                  <a:moveTo>
                    <a:pt x="0" y="0"/>
                  </a:moveTo>
                  <a:lnTo>
                    <a:pt x="317" y="4790"/>
                  </a:lnTo>
                  <a:lnTo>
                    <a:pt x="1032" y="4790"/>
                  </a:lnTo>
                  <a:lnTo>
                    <a:pt x="927" y="1297"/>
                  </a:lnTo>
                  <a:lnTo>
                    <a:pt x="1032" y="4790"/>
                  </a:lnTo>
                  <a:lnTo>
                    <a:pt x="1827" y="4790"/>
                  </a:lnTo>
                  <a:lnTo>
                    <a:pt x="174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26708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1376" y="185"/>
                  </a:moveTo>
                  <a:lnTo>
                    <a:pt x="978" y="52"/>
                  </a:lnTo>
                  <a:lnTo>
                    <a:pt x="714" y="0"/>
                  </a:lnTo>
                  <a:lnTo>
                    <a:pt x="423" y="105"/>
                  </a:lnTo>
                  <a:lnTo>
                    <a:pt x="132" y="264"/>
                  </a:lnTo>
                  <a:lnTo>
                    <a:pt x="0" y="477"/>
                  </a:lnTo>
                  <a:lnTo>
                    <a:pt x="185" y="583"/>
                  </a:lnTo>
                  <a:lnTo>
                    <a:pt x="2091" y="583"/>
                  </a:lnTo>
                  <a:lnTo>
                    <a:pt x="2091" y="185"/>
                  </a:lnTo>
                  <a:lnTo>
                    <a:pt x="1376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02920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714" y="185"/>
                  </a:moveTo>
                  <a:lnTo>
                    <a:pt x="1112" y="52"/>
                  </a:lnTo>
                  <a:lnTo>
                    <a:pt x="1376" y="0"/>
                  </a:lnTo>
                  <a:lnTo>
                    <a:pt x="1667" y="105"/>
                  </a:lnTo>
                  <a:lnTo>
                    <a:pt x="1958" y="264"/>
                  </a:lnTo>
                  <a:lnTo>
                    <a:pt x="2091" y="477"/>
                  </a:lnTo>
                  <a:lnTo>
                    <a:pt x="1906" y="583"/>
                  </a:lnTo>
                  <a:lnTo>
                    <a:pt x="0" y="583"/>
                  </a:lnTo>
                  <a:lnTo>
                    <a:pt x="0" y="185"/>
                  </a:lnTo>
                  <a:lnTo>
                    <a:pt x="714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003640" y="4102200"/>
              <a:ext cx="279720" cy="457560"/>
            </a:xfrm>
            <a:custGeom>
              <a:avLst/>
              <a:gdLst/>
              <a:ahLst/>
              <a:rect l="0" t="0" r="r" b="b"/>
              <a:pathLst>
                <a:path w="777" h="1271">
                  <a:moveTo>
                    <a:pt x="777" y="953"/>
                  </a:moveTo>
                  <a:lnTo>
                    <a:pt x="530" y="211"/>
                  </a:lnTo>
                  <a:lnTo>
                    <a:pt x="105" y="0"/>
                  </a:lnTo>
                  <a:lnTo>
                    <a:pt x="0" y="918"/>
                  </a:lnTo>
                  <a:lnTo>
                    <a:pt x="0" y="1271"/>
                  </a:lnTo>
                  <a:lnTo>
                    <a:pt x="565" y="1129"/>
                  </a:lnTo>
                  <a:lnTo>
                    <a:pt x="777" y="9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016600" y="4127400"/>
              <a:ext cx="254520" cy="317880"/>
            </a:xfrm>
            <a:custGeom>
              <a:avLst/>
              <a:gdLst/>
              <a:ahLst/>
              <a:rect l="0" t="0" r="r" b="b"/>
              <a:pathLst>
                <a:path fill="none" w="707" h="883">
                  <a:moveTo>
                    <a:pt x="707" y="883"/>
                  </a:moveTo>
                  <a:lnTo>
                    <a:pt x="601" y="424"/>
                  </a:lnTo>
                  <a:lnTo>
                    <a:pt x="212" y="105"/>
                  </a:lnTo>
                  <a:lnTo>
                    <a:pt x="70" y="0"/>
                  </a:lnTo>
                  <a:lnTo>
                    <a:pt x="0" y="494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3069000" y="3946680"/>
            <a:ext cx="2016000" cy="1852200"/>
            <a:chOff x="3069000" y="3946680"/>
            <a:chExt cx="2016000" cy="1852200"/>
          </a:xfrm>
        </p:grpSpPr>
        <p:grpSp>
          <p:nvGrpSpPr>
            <p:cNvPr id="972" name=""/>
            <p:cNvGrpSpPr/>
            <p:nvPr/>
          </p:nvGrpSpPr>
          <p:grpSpPr>
            <a:xfrm>
              <a:off x="3069000" y="4414680"/>
              <a:ext cx="684360" cy="1384200"/>
              <a:chOff x="3069000" y="4414680"/>
              <a:chExt cx="684360" cy="1384200"/>
            </a:xfrm>
          </p:grpSpPr>
          <p:sp>
            <p:nvSpPr>
              <p:cNvPr id="973" name=""/>
              <p:cNvSpPr/>
              <p:nvPr/>
            </p:nvSpPr>
            <p:spPr>
              <a:xfrm>
                <a:off x="3121200" y="4414680"/>
                <a:ext cx="632160" cy="1159200"/>
              </a:xfrm>
              <a:custGeom>
                <a:avLst/>
                <a:gdLst/>
                <a:ahLst/>
                <a:rect l="0" t="0" r="r" b="b"/>
                <a:pathLst>
                  <a:path w="1756" h="3220">
                    <a:moveTo>
                      <a:pt x="1592" y="0"/>
                    </a:moveTo>
                    <a:lnTo>
                      <a:pt x="1729" y="127"/>
                    </a:lnTo>
                    <a:lnTo>
                      <a:pt x="1756" y="454"/>
                    </a:lnTo>
                    <a:lnTo>
                      <a:pt x="1407" y="1309"/>
                    </a:lnTo>
                    <a:lnTo>
                      <a:pt x="784" y="3220"/>
                    </a:lnTo>
                    <a:lnTo>
                      <a:pt x="0" y="2933"/>
                    </a:lnTo>
                    <a:lnTo>
                      <a:pt x="630" y="1318"/>
                    </a:lnTo>
                    <a:lnTo>
                      <a:pt x="1240" y="185"/>
                    </a:lnTo>
                    <a:lnTo>
                      <a:pt x="15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069000" y="5513040"/>
                <a:ext cx="304560" cy="285840"/>
              </a:xfrm>
              <a:custGeom>
                <a:avLst/>
                <a:gdLst/>
                <a:ahLst/>
                <a:rect l="0" t="0" r="r" b="b"/>
                <a:pathLst>
                  <a:path w="846" h="794">
                    <a:moveTo>
                      <a:pt x="5" y="331"/>
                    </a:moveTo>
                    <a:lnTo>
                      <a:pt x="5" y="331"/>
                    </a:lnTo>
                    <a:cubicBezTo>
                      <a:pt x="-6" y="400"/>
                      <a:pt x="3" y="471"/>
                      <a:pt x="30" y="536"/>
                    </a:cubicBezTo>
                    <a:cubicBezTo>
                      <a:pt x="57" y="601"/>
                      <a:pt x="102" y="659"/>
                      <a:pt x="161" y="704"/>
                    </a:cubicBezTo>
                    <a:cubicBezTo>
                      <a:pt x="219" y="748"/>
                      <a:pt x="288" y="778"/>
                      <a:pt x="361" y="789"/>
                    </a:cubicBezTo>
                    <a:cubicBezTo>
                      <a:pt x="435" y="801"/>
                      <a:pt x="510" y="794"/>
                      <a:pt x="579" y="770"/>
                    </a:cubicBezTo>
                    <a:cubicBezTo>
                      <a:pt x="648" y="746"/>
                      <a:pt x="709" y="705"/>
                      <a:pt x="755" y="651"/>
                    </a:cubicBezTo>
                    <a:cubicBezTo>
                      <a:pt x="801" y="597"/>
                      <a:pt x="831" y="533"/>
                      <a:pt x="842" y="464"/>
                    </a:cubicBezTo>
                    <a:lnTo>
                      <a:pt x="842" y="464"/>
                    </a:lnTo>
                    <a:lnTo>
                      <a:pt x="842" y="464"/>
                    </a:lnTo>
                    <a:cubicBezTo>
                      <a:pt x="853" y="395"/>
                      <a:pt x="844" y="324"/>
                      <a:pt x="817" y="259"/>
                    </a:cubicBezTo>
                    <a:cubicBezTo>
                      <a:pt x="790" y="194"/>
                      <a:pt x="745" y="136"/>
                      <a:pt x="686" y="91"/>
                    </a:cubicBezTo>
                    <a:cubicBezTo>
                      <a:pt x="628" y="47"/>
                      <a:pt x="559" y="17"/>
                      <a:pt x="486" y="6"/>
                    </a:cubicBezTo>
                    <a:cubicBezTo>
                      <a:pt x="412" y="-6"/>
                      <a:pt x="337" y="1"/>
                      <a:pt x="268" y="25"/>
                    </a:cubicBezTo>
                    <a:cubicBezTo>
                      <a:pt x="199" y="49"/>
                      <a:pt x="138" y="90"/>
                      <a:pt x="92" y="144"/>
                    </a:cubicBezTo>
                    <a:cubicBezTo>
                      <a:pt x="46" y="198"/>
                      <a:pt x="16" y="262"/>
                      <a:pt x="5" y="331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5" name=""/>
            <p:cNvSpPr/>
            <p:nvPr/>
          </p:nvSpPr>
          <p:spPr>
            <a:xfrm>
              <a:off x="3417840" y="3946680"/>
              <a:ext cx="1667160" cy="1043280"/>
            </a:xfrm>
            <a:custGeom>
              <a:avLst/>
              <a:gdLst/>
              <a:ahLst/>
              <a:rect l="0" t="0" r="r" b="b"/>
              <a:pathLst>
                <a:path w="4631" h="2898">
                  <a:moveTo>
                    <a:pt x="277" y="1133"/>
                  </a:moveTo>
                  <a:lnTo>
                    <a:pt x="277" y="1225"/>
                  </a:lnTo>
                  <a:lnTo>
                    <a:pt x="304" y="1296"/>
                  </a:lnTo>
                  <a:lnTo>
                    <a:pt x="423" y="1456"/>
                  </a:lnTo>
                  <a:lnTo>
                    <a:pt x="533" y="1614"/>
                  </a:lnTo>
                  <a:lnTo>
                    <a:pt x="626" y="1786"/>
                  </a:lnTo>
                  <a:lnTo>
                    <a:pt x="661" y="1817"/>
                  </a:lnTo>
                  <a:lnTo>
                    <a:pt x="696" y="1844"/>
                  </a:lnTo>
                  <a:lnTo>
                    <a:pt x="696" y="1844"/>
                  </a:lnTo>
                  <a:lnTo>
                    <a:pt x="701" y="1822"/>
                  </a:lnTo>
                  <a:lnTo>
                    <a:pt x="1261" y="2166"/>
                  </a:lnTo>
                  <a:lnTo>
                    <a:pt x="3960" y="2898"/>
                  </a:lnTo>
                  <a:lnTo>
                    <a:pt x="4631" y="242"/>
                  </a:lnTo>
                  <a:lnTo>
                    <a:pt x="1997" y="101"/>
                  </a:lnTo>
                  <a:lnTo>
                    <a:pt x="560" y="0"/>
                  </a:lnTo>
                  <a:lnTo>
                    <a:pt x="0" y="635"/>
                  </a:lnTo>
                  <a:lnTo>
                    <a:pt x="277" y="1133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6" name=""/>
            <p:cNvGrpSpPr/>
            <p:nvPr/>
          </p:nvGrpSpPr>
          <p:grpSpPr>
            <a:xfrm>
              <a:off x="3540600" y="4286160"/>
              <a:ext cx="350640" cy="1468800"/>
              <a:chOff x="3540600" y="4286160"/>
              <a:chExt cx="350640" cy="1468800"/>
            </a:xfrm>
          </p:grpSpPr>
          <p:sp>
            <p:nvSpPr>
              <p:cNvPr id="977" name=""/>
              <p:cNvSpPr/>
              <p:nvPr/>
            </p:nvSpPr>
            <p:spPr>
              <a:xfrm>
                <a:off x="3560760" y="4286160"/>
                <a:ext cx="330480" cy="1198800"/>
              </a:xfrm>
              <a:custGeom>
                <a:avLst/>
                <a:gdLst/>
                <a:ahLst/>
                <a:rect l="0" t="0" r="r" b="b"/>
                <a:pathLst>
                  <a:path w="918" h="3330">
                    <a:moveTo>
                      <a:pt x="587" y="0"/>
                    </a:moveTo>
                    <a:lnTo>
                      <a:pt x="405" y="61"/>
                    </a:lnTo>
                    <a:lnTo>
                      <a:pt x="246" y="348"/>
                    </a:lnTo>
                    <a:lnTo>
                      <a:pt x="211" y="1274"/>
                    </a:lnTo>
                    <a:lnTo>
                      <a:pt x="0" y="3268"/>
                    </a:lnTo>
                    <a:lnTo>
                      <a:pt x="830" y="3330"/>
                    </a:lnTo>
                    <a:lnTo>
                      <a:pt x="918" y="1600"/>
                    </a:lnTo>
                    <a:lnTo>
                      <a:pt x="834" y="313"/>
                    </a:lnTo>
                    <a:lnTo>
                      <a:pt x="587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540600" y="5465160"/>
                <a:ext cx="305640" cy="289800"/>
              </a:xfrm>
              <a:custGeom>
                <a:avLst/>
                <a:gdLst/>
                <a:ahLst/>
                <a:rect l="0" t="0" r="r" b="b"/>
                <a:pathLst>
                  <a:path w="849" h="805">
                    <a:moveTo>
                      <a:pt x="13" y="291"/>
                    </a:moveTo>
                    <a:lnTo>
                      <a:pt x="13" y="291"/>
                    </a:lnTo>
                    <a:lnTo>
                      <a:pt x="13" y="292"/>
                    </a:lnTo>
                    <a:cubicBezTo>
                      <a:pt x="-6" y="360"/>
                      <a:pt x="-4" y="432"/>
                      <a:pt x="16" y="500"/>
                    </a:cubicBezTo>
                    <a:cubicBezTo>
                      <a:pt x="36" y="569"/>
                      <a:pt x="75" y="631"/>
                      <a:pt x="129" y="682"/>
                    </a:cubicBezTo>
                    <a:cubicBezTo>
                      <a:pt x="182" y="733"/>
                      <a:pt x="249" y="770"/>
                      <a:pt x="321" y="789"/>
                    </a:cubicBezTo>
                    <a:cubicBezTo>
                      <a:pt x="393" y="809"/>
                      <a:pt x="469" y="810"/>
                      <a:pt x="541" y="793"/>
                    </a:cubicBezTo>
                    <a:cubicBezTo>
                      <a:pt x="612" y="775"/>
                      <a:pt x="677" y="741"/>
                      <a:pt x="729" y="691"/>
                    </a:cubicBezTo>
                    <a:cubicBezTo>
                      <a:pt x="781" y="643"/>
                      <a:pt x="818" y="582"/>
                      <a:pt x="836" y="514"/>
                    </a:cubicBezTo>
                    <a:lnTo>
                      <a:pt x="836" y="514"/>
                    </a:lnTo>
                    <a:lnTo>
                      <a:pt x="836" y="513"/>
                    </a:lnTo>
                    <a:cubicBezTo>
                      <a:pt x="855" y="445"/>
                      <a:pt x="853" y="373"/>
                      <a:pt x="833" y="305"/>
                    </a:cubicBezTo>
                    <a:cubicBezTo>
                      <a:pt x="813" y="236"/>
                      <a:pt x="774" y="174"/>
                      <a:pt x="720" y="123"/>
                    </a:cubicBezTo>
                    <a:cubicBezTo>
                      <a:pt x="667" y="72"/>
                      <a:pt x="600" y="35"/>
                      <a:pt x="528" y="16"/>
                    </a:cubicBezTo>
                    <a:cubicBezTo>
                      <a:pt x="456" y="-4"/>
                      <a:pt x="380" y="-5"/>
                      <a:pt x="308" y="12"/>
                    </a:cubicBezTo>
                    <a:cubicBezTo>
                      <a:pt x="237" y="30"/>
                      <a:pt x="172" y="64"/>
                      <a:pt x="120" y="114"/>
                    </a:cubicBezTo>
                    <a:cubicBezTo>
                      <a:pt x="68" y="162"/>
                      <a:pt x="31" y="223"/>
                      <a:pt x="13" y="291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9" name=""/>
          <p:cNvSpPr/>
          <p:nvPr/>
        </p:nvSpPr>
        <p:spPr>
          <a:xfrm>
            <a:off x="3433680" y="4083120"/>
            <a:ext cx="176400" cy="317880"/>
          </a:xfrm>
          <a:custGeom>
            <a:avLst/>
            <a:gdLst/>
            <a:ahLst/>
            <a:rect l="0" t="0" r="r" b="b"/>
            <a:pathLst>
              <a:path w="490" h="883">
                <a:moveTo>
                  <a:pt x="198" y="883"/>
                </a:moveTo>
                <a:lnTo>
                  <a:pt x="375" y="681"/>
                </a:lnTo>
                <a:lnTo>
                  <a:pt x="490" y="269"/>
                </a:lnTo>
                <a:lnTo>
                  <a:pt x="296" y="39"/>
                </a:lnTo>
                <a:lnTo>
                  <a:pt x="114" y="0"/>
                </a:lnTo>
                <a:lnTo>
                  <a:pt x="0" y="163"/>
                </a:lnTo>
                <a:lnTo>
                  <a:pt x="220" y="402"/>
                </a:lnTo>
                <a:lnTo>
                  <a:pt x="185" y="694"/>
                </a:lnTo>
                <a:lnTo>
                  <a:pt x="198" y="883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1522440" y="3341520"/>
            <a:ext cx="2027520" cy="1259280"/>
            <a:chOff x="1522440" y="3341520"/>
            <a:chExt cx="2027520" cy="1259280"/>
          </a:xfrm>
        </p:grpSpPr>
        <p:sp>
          <p:nvSpPr>
            <p:cNvPr id="981" name=""/>
            <p:cNvSpPr/>
            <p:nvPr/>
          </p:nvSpPr>
          <p:spPr>
            <a:xfrm>
              <a:off x="1952640" y="3538440"/>
              <a:ext cx="1597320" cy="1062360"/>
            </a:xfrm>
            <a:custGeom>
              <a:avLst/>
              <a:gdLst/>
              <a:ahLst/>
              <a:rect l="0" t="0" r="r" b="b"/>
              <a:pathLst>
                <a:path w="4437" h="2951">
                  <a:moveTo>
                    <a:pt x="0" y="1694"/>
                  </a:moveTo>
                  <a:lnTo>
                    <a:pt x="189" y="2060"/>
                  </a:lnTo>
                  <a:lnTo>
                    <a:pt x="564" y="2329"/>
                  </a:lnTo>
                  <a:lnTo>
                    <a:pt x="1071" y="2492"/>
                  </a:lnTo>
                  <a:lnTo>
                    <a:pt x="2518" y="2827"/>
                  </a:lnTo>
                  <a:lnTo>
                    <a:pt x="3356" y="2951"/>
                  </a:lnTo>
                  <a:lnTo>
                    <a:pt x="3568" y="2210"/>
                  </a:lnTo>
                  <a:lnTo>
                    <a:pt x="4053" y="2205"/>
                  </a:lnTo>
                  <a:lnTo>
                    <a:pt x="4388" y="2170"/>
                  </a:lnTo>
                  <a:lnTo>
                    <a:pt x="4437" y="1936"/>
                  </a:lnTo>
                  <a:lnTo>
                    <a:pt x="4181" y="1747"/>
                  </a:lnTo>
                  <a:lnTo>
                    <a:pt x="3674" y="1720"/>
                  </a:lnTo>
                  <a:lnTo>
                    <a:pt x="3744" y="1001"/>
                  </a:lnTo>
                  <a:lnTo>
                    <a:pt x="3255" y="873"/>
                  </a:lnTo>
                  <a:lnTo>
                    <a:pt x="3365" y="732"/>
                  </a:lnTo>
                  <a:lnTo>
                    <a:pt x="3347" y="568"/>
                  </a:lnTo>
                  <a:lnTo>
                    <a:pt x="2955" y="374"/>
                  </a:lnTo>
                  <a:lnTo>
                    <a:pt x="2721" y="463"/>
                  </a:lnTo>
                  <a:lnTo>
                    <a:pt x="2717" y="621"/>
                  </a:lnTo>
                  <a:lnTo>
                    <a:pt x="546" y="0"/>
                  </a:lnTo>
                  <a:lnTo>
                    <a:pt x="0" y="169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522440" y="3341520"/>
              <a:ext cx="843480" cy="1213200"/>
            </a:xfrm>
            <a:custGeom>
              <a:avLst/>
              <a:gdLst/>
              <a:ahLst/>
              <a:rect l="0" t="0" r="r" b="b"/>
              <a:pathLst>
                <a:path w="2343" h="3370">
                  <a:moveTo>
                    <a:pt x="1504" y="3370"/>
                  </a:moveTo>
                  <a:lnTo>
                    <a:pt x="2343" y="449"/>
                  </a:lnTo>
                  <a:lnTo>
                    <a:pt x="741" y="0"/>
                  </a:lnTo>
                  <a:lnTo>
                    <a:pt x="0" y="2801"/>
                  </a:lnTo>
                  <a:lnTo>
                    <a:pt x="1504" y="33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57280" y="4189320"/>
              <a:ext cx="411480" cy="411480"/>
            </a:xfrm>
            <a:custGeom>
              <a:avLst/>
              <a:gdLst/>
              <a:ahLst/>
              <a:rect l="0" t="0" r="r" b="b"/>
              <a:pathLst>
                <a:path w="1143" h="1143">
                  <a:moveTo>
                    <a:pt x="452" y="1131"/>
                  </a:moveTo>
                  <a:lnTo>
                    <a:pt x="452" y="1131"/>
                  </a:lnTo>
                  <a:lnTo>
                    <a:pt x="453" y="1131"/>
                  </a:lnTo>
                  <a:cubicBezTo>
                    <a:pt x="551" y="1152"/>
                    <a:pt x="653" y="1147"/>
                    <a:pt x="748" y="1116"/>
                  </a:cubicBezTo>
                  <a:cubicBezTo>
                    <a:pt x="844" y="1085"/>
                    <a:pt x="929" y="1029"/>
                    <a:pt x="996" y="954"/>
                  </a:cubicBezTo>
                  <a:cubicBezTo>
                    <a:pt x="1063" y="880"/>
                    <a:pt x="1110" y="789"/>
                    <a:pt x="1131" y="691"/>
                  </a:cubicBezTo>
                  <a:cubicBezTo>
                    <a:pt x="1151" y="593"/>
                    <a:pt x="1146" y="491"/>
                    <a:pt x="1115" y="395"/>
                  </a:cubicBezTo>
                  <a:cubicBezTo>
                    <a:pt x="1084" y="300"/>
                    <a:pt x="1028" y="214"/>
                    <a:pt x="954" y="147"/>
                  </a:cubicBezTo>
                  <a:cubicBezTo>
                    <a:pt x="879" y="80"/>
                    <a:pt x="789" y="34"/>
                    <a:pt x="691" y="13"/>
                  </a:cubicBezTo>
                  <a:lnTo>
                    <a:pt x="691" y="13"/>
                  </a:lnTo>
                  <a:lnTo>
                    <a:pt x="690" y="13"/>
                  </a:lnTo>
                  <a:cubicBezTo>
                    <a:pt x="592" y="-8"/>
                    <a:pt x="490" y="-3"/>
                    <a:pt x="395" y="28"/>
                  </a:cubicBezTo>
                  <a:cubicBezTo>
                    <a:pt x="299" y="59"/>
                    <a:pt x="214" y="115"/>
                    <a:pt x="147" y="190"/>
                  </a:cubicBezTo>
                  <a:cubicBezTo>
                    <a:pt x="80" y="264"/>
                    <a:pt x="33" y="355"/>
                    <a:pt x="12" y="453"/>
                  </a:cubicBezTo>
                  <a:cubicBezTo>
                    <a:pt x="-8" y="551"/>
                    <a:pt x="-3" y="653"/>
                    <a:pt x="28" y="749"/>
                  </a:cubicBezTo>
                  <a:cubicBezTo>
                    <a:pt x="59" y="844"/>
                    <a:pt x="115" y="930"/>
                    <a:pt x="189" y="997"/>
                  </a:cubicBezTo>
                  <a:cubicBezTo>
                    <a:pt x="264" y="1064"/>
                    <a:pt x="354" y="1110"/>
                    <a:pt x="452" y="1131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397600" y="3769560"/>
              <a:ext cx="486000" cy="488160"/>
            </a:xfrm>
            <a:custGeom>
              <a:avLst/>
              <a:gdLst/>
              <a:ahLst/>
              <a:rect l="0" t="0" r="r" b="b"/>
              <a:pathLst>
                <a:path w="1350" h="1356">
                  <a:moveTo>
                    <a:pt x="534" y="1341"/>
                  </a:moveTo>
                  <a:lnTo>
                    <a:pt x="534" y="1341"/>
                  </a:lnTo>
                  <a:cubicBezTo>
                    <a:pt x="650" y="1366"/>
                    <a:pt x="771" y="1359"/>
                    <a:pt x="883" y="1322"/>
                  </a:cubicBezTo>
                  <a:cubicBezTo>
                    <a:pt x="996" y="1286"/>
                    <a:pt x="1097" y="1220"/>
                    <a:pt x="1177" y="1131"/>
                  </a:cubicBezTo>
                  <a:cubicBezTo>
                    <a:pt x="1256" y="1043"/>
                    <a:pt x="1311" y="935"/>
                    <a:pt x="1335" y="818"/>
                  </a:cubicBezTo>
                  <a:cubicBezTo>
                    <a:pt x="1360" y="702"/>
                    <a:pt x="1354" y="581"/>
                    <a:pt x="1317" y="468"/>
                  </a:cubicBezTo>
                  <a:cubicBezTo>
                    <a:pt x="1281" y="355"/>
                    <a:pt x="1215" y="254"/>
                    <a:pt x="1127" y="174"/>
                  </a:cubicBezTo>
                  <a:cubicBezTo>
                    <a:pt x="1039" y="95"/>
                    <a:pt x="932" y="40"/>
                    <a:pt x="816" y="15"/>
                  </a:cubicBezTo>
                  <a:lnTo>
                    <a:pt x="816" y="15"/>
                  </a:lnTo>
                  <a:lnTo>
                    <a:pt x="816" y="15"/>
                  </a:lnTo>
                  <a:cubicBezTo>
                    <a:pt x="700" y="-10"/>
                    <a:pt x="579" y="-3"/>
                    <a:pt x="467" y="34"/>
                  </a:cubicBezTo>
                  <a:cubicBezTo>
                    <a:pt x="354" y="70"/>
                    <a:pt x="253" y="136"/>
                    <a:pt x="173" y="225"/>
                  </a:cubicBezTo>
                  <a:cubicBezTo>
                    <a:pt x="94" y="313"/>
                    <a:pt x="39" y="421"/>
                    <a:pt x="15" y="538"/>
                  </a:cubicBezTo>
                  <a:cubicBezTo>
                    <a:pt x="-10" y="654"/>
                    <a:pt x="-4" y="775"/>
                    <a:pt x="33" y="888"/>
                  </a:cubicBezTo>
                  <a:cubicBezTo>
                    <a:pt x="69" y="1001"/>
                    <a:pt x="135" y="1102"/>
                    <a:pt x="223" y="1182"/>
                  </a:cubicBezTo>
                  <a:cubicBezTo>
                    <a:pt x="311" y="1261"/>
                    <a:pt x="418" y="1316"/>
                    <a:pt x="534" y="1341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83720" y="4120200"/>
              <a:ext cx="87480" cy="86040"/>
            </a:xfrm>
            <a:custGeom>
              <a:avLst/>
              <a:gdLst/>
              <a:ahLst/>
              <a:rect l="0" t="0" r="r" b="b"/>
              <a:pathLst>
                <a:path w="243" h="239">
                  <a:moveTo>
                    <a:pt x="96" y="236"/>
                  </a:moveTo>
                  <a:lnTo>
                    <a:pt x="96" y="236"/>
                  </a:lnTo>
                  <a:cubicBezTo>
                    <a:pt x="117" y="240"/>
                    <a:pt x="139" y="239"/>
                    <a:pt x="159" y="233"/>
                  </a:cubicBezTo>
                  <a:cubicBezTo>
                    <a:pt x="179" y="226"/>
                    <a:pt x="197" y="215"/>
                    <a:pt x="212" y="199"/>
                  </a:cubicBezTo>
                  <a:cubicBezTo>
                    <a:pt x="226" y="184"/>
                    <a:pt x="236" y="165"/>
                    <a:pt x="240" y="144"/>
                  </a:cubicBezTo>
                  <a:cubicBezTo>
                    <a:pt x="244" y="124"/>
                    <a:pt x="243" y="102"/>
                    <a:pt x="236" y="82"/>
                  </a:cubicBezTo>
                  <a:cubicBezTo>
                    <a:pt x="230" y="62"/>
                    <a:pt x="218" y="44"/>
                    <a:pt x="202" y="30"/>
                  </a:cubicBezTo>
                  <a:cubicBezTo>
                    <a:pt x="186" y="16"/>
                    <a:pt x="167" y="6"/>
                    <a:pt x="146" y="2"/>
                  </a:cubicBezTo>
                  <a:lnTo>
                    <a:pt x="146" y="2"/>
                  </a:lnTo>
                  <a:lnTo>
                    <a:pt x="146" y="2"/>
                  </a:lnTo>
                  <a:cubicBezTo>
                    <a:pt x="125" y="-2"/>
                    <a:pt x="103" y="-1"/>
                    <a:pt x="83" y="5"/>
                  </a:cubicBezTo>
                  <a:cubicBezTo>
                    <a:pt x="63" y="12"/>
                    <a:pt x="45" y="23"/>
                    <a:pt x="30" y="39"/>
                  </a:cubicBezTo>
                  <a:cubicBezTo>
                    <a:pt x="16" y="54"/>
                    <a:pt x="6" y="73"/>
                    <a:pt x="2" y="94"/>
                  </a:cubicBezTo>
                  <a:cubicBezTo>
                    <a:pt x="-2" y="114"/>
                    <a:pt x="-1" y="136"/>
                    <a:pt x="6" y="156"/>
                  </a:cubicBezTo>
                  <a:cubicBezTo>
                    <a:pt x="12" y="176"/>
                    <a:pt x="24" y="194"/>
                    <a:pt x="40" y="208"/>
                  </a:cubicBezTo>
                  <a:cubicBezTo>
                    <a:pt x="56" y="222"/>
                    <a:pt x="75" y="231"/>
                    <a:pt x="96" y="236"/>
                  </a:cubicBez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09920" y="4483080"/>
              <a:ext cx="86040" cy="86040"/>
            </a:xfrm>
            <a:custGeom>
              <a:avLst/>
              <a:gdLst/>
              <a:ahLst/>
              <a:rect l="0" t="0" r="r" b="b"/>
              <a:pathLst>
                <a:path w="239" h="239">
                  <a:moveTo>
                    <a:pt x="94" y="236"/>
                  </a:moveTo>
                  <a:lnTo>
                    <a:pt x="94" y="236"/>
                  </a:lnTo>
                  <a:cubicBezTo>
                    <a:pt x="115" y="240"/>
                    <a:pt x="136" y="239"/>
                    <a:pt x="156" y="233"/>
                  </a:cubicBezTo>
                  <a:cubicBezTo>
                    <a:pt x="176" y="226"/>
                    <a:pt x="194" y="215"/>
                    <a:pt x="208" y="199"/>
                  </a:cubicBezTo>
                  <a:cubicBezTo>
                    <a:pt x="222" y="183"/>
                    <a:pt x="232" y="164"/>
                    <a:pt x="236" y="144"/>
                  </a:cubicBezTo>
                  <a:cubicBezTo>
                    <a:pt x="240" y="123"/>
                    <a:pt x="239" y="102"/>
                    <a:pt x="233" y="82"/>
                  </a:cubicBezTo>
                  <a:cubicBezTo>
                    <a:pt x="226" y="62"/>
                    <a:pt x="215" y="44"/>
                    <a:pt x="199" y="30"/>
                  </a:cubicBezTo>
                  <a:cubicBezTo>
                    <a:pt x="183" y="16"/>
                    <a:pt x="164" y="6"/>
                    <a:pt x="144" y="2"/>
                  </a:cubicBezTo>
                  <a:lnTo>
                    <a:pt x="144" y="2"/>
                  </a:lnTo>
                  <a:lnTo>
                    <a:pt x="144" y="2"/>
                  </a:lnTo>
                  <a:cubicBezTo>
                    <a:pt x="123" y="-2"/>
                    <a:pt x="102" y="-1"/>
                    <a:pt x="82" y="5"/>
                  </a:cubicBezTo>
                  <a:cubicBezTo>
                    <a:pt x="62" y="12"/>
                    <a:pt x="44" y="23"/>
                    <a:pt x="30" y="39"/>
                  </a:cubicBezTo>
                  <a:cubicBezTo>
                    <a:pt x="16" y="55"/>
                    <a:pt x="6" y="74"/>
                    <a:pt x="2" y="94"/>
                  </a:cubicBezTo>
                  <a:cubicBezTo>
                    <a:pt x="-2" y="115"/>
                    <a:pt x="-1" y="136"/>
                    <a:pt x="5" y="156"/>
                  </a:cubicBezTo>
                  <a:cubicBezTo>
                    <a:pt x="12" y="176"/>
                    <a:pt x="23" y="194"/>
                    <a:pt x="39" y="208"/>
                  </a:cubicBezTo>
                  <a:cubicBezTo>
                    <a:pt x="55" y="222"/>
                    <a:pt x="74" y="232"/>
                    <a:pt x="94" y="236"/>
                  </a:cubicBez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flipH="1">
              <a:off x="2163600" y="3613320"/>
              <a:ext cx="203400" cy="77436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832120" y="3954600"/>
              <a:ext cx="308160" cy="632160"/>
            </a:xfrm>
            <a:custGeom>
              <a:avLst/>
              <a:gdLst/>
              <a:ahLst/>
              <a:rect l="0" t="0" r="r" b="b"/>
              <a:pathLst>
                <a:path w="856" h="1756">
                  <a:moveTo>
                    <a:pt x="0" y="1756"/>
                  </a:moveTo>
                  <a:lnTo>
                    <a:pt x="543" y="0"/>
                  </a:lnTo>
                  <a:lnTo>
                    <a:pt x="856" y="1173"/>
                  </a:lnTo>
                  <a:lnTo>
                    <a:pt x="0" y="175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33720" y="3579840"/>
              <a:ext cx="238320" cy="810000"/>
            </a:xfrm>
            <a:custGeom>
              <a:avLst/>
              <a:gdLst/>
              <a:ahLst/>
              <a:rect l="0" t="0" r="r" b="b"/>
              <a:pathLst>
                <a:path w="662" h="2250">
                  <a:moveTo>
                    <a:pt x="0" y="2202"/>
                  </a:moveTo>
                  <a:lnTo>
                    <a:pt x="26" y="2074"/>
                  </a:lnTo>
                  <a:lnTo>
                    <a:pt x="57" y="1920"/>
                  </a:lnTo>
                  <a:lnTo>
                    <a:pt x="74" y="1840"/>
                  </a:lnTo>
                  <a:lnTo>
                    <a:pt x="97" y="1735"/>
                  </a:lnTo>
                  <a:lnTo>
                    <a:pt x="105" y="1699"/>
                  </a:lnTo>
                  <a:lnTo>
                    <a:pt x="114" y="1659"/>
                  </a:lnTo>
                  <a:lnTo>
                    <a:pt x="136" y="1623"/>
                  </a:lnTo>
                  <a:lnTo>
                    <a:pt x="158" y="1584"/>
                  </a:lnTo>
                  <a:lnTo>
                    <a:pt x="202" y="1487"/>
                  </a:lnTo>
                  <a:lnTo>
                    <a:pt x="224" y="1451"/>
                  </a:lnTo>
                  <a:lnTo>
                    <a:pt x="233" y="1412"/>
                  </a:lnTo>
                  <a:lnTo>
                    <a:pt x="229" y="1372"/>
                  </a:lnTo>
                  <a:lnTo>
                    <a:pt x="211" y="1328"/>
                  </a:lnTo>
                  <a:lnTo>
                    <a:pt x="194" y="1284"/>
                  </a:lnTo>
                  <a:lnTo>
                    <a:pt x="202" y="1244"/>
                  </a:lnTo>
                  <a:lnTo>
                    <a:pt x="224" y="1196"/>
                  </a:lnTo>
                  <a:lnTo>
                    <a:pt x="251" y="1147"/>
                  </a:lnTo>
                  <a:lnTo>
                    <a:pt x="260" y="1107"/>
                  </a:lnTo>
                  <a:lnTo>
                    <a:pt x="264" y="1068"/>
                  </a:lnTo>
                  <a:lnTo>
                    <a:pt x="260" y="1028"/>
                  </a:lnTo>
                  <a:lnTo>
                    <a:pt x="260" y="971"/>
                  </a:lnTo>
                  <a:lnTo>
                    <a:pt x="268" y="922"/>
                  </a:lnTo>
                  <a:lnTo>
                    <a:pt x="277" y="882"/>
                  </a:lnTo>
                  <a:lnTo>
                    <a:pt x="313" y="847"/>
                  </a:lnTo>
                  <a:lnTo>
                    <a:pt x="336" y="812"/>
                  </a:lnTo>
                  <a:lnTo>
                    <a:pt x="358" y="763"/>
                  </a:lnTo>
                  <a:lnTo>
                    <a:pt x="358" y="710"/>
                  </a:lnTo>
                  <a:lnTo>
                    <a:pt x="367" y="658"/>
                  </a:lnTo>
                  <a:lnTo>
                    <a:pt x="375" y="618"/>
                  </a:lnTo>
                  <a:lnTo>
                    <a:pt x="397" y="515"/>
                  </a:lnTo>
                  <a:lnTo>
                    <a:pt x="419" y="476"/>
                  </a:lnTo>
                  <a:lnTo>
                    <a:pt x="441" y="440"/>
                  </a:lnTo>
                  <a:lnTo>
                    <a:pt x="450" y="401"/>
                  </a:lnTo>
                  <a:lnTo>
                    <a:pt x="486" y="357"/>
                  </a:lnTo>
                  <a:lnTo>
                    <a:pt x="503" y="277"/>
                  </a:lnTo>
                  <a:lnTo>
                    <a:pt x="512" y="242"/>
                  </a:lnTo>
                  <a:lnTo>
                    <a:pt x="521" y="202"/>
                  </a:lnTo>
                  <a:lnTo>
                    <a:pt x="538" y="167"/>
                  </a:lnTo>
                  <a:lnTo>
                    <a:pt x="565" y="114"/>
                  </a:lnTo>
                  <a:lnTo>
                    <a:pt x="587" y="79"/>
                  </a:lnTo>
                  <a:lnTo>
                    <a:pt x="609" y="30"/>
                  </a:lnTo>
                  <a:lnTo>
                    <a:pt x="644" y="0"/>
                  </a:lnTo>
                  <a:lnTo>
                    <a:pt x="662" y="44"/>
                  </a:lnTo>
                  <a:lnTo>
                    <a:pt x="640" y="132"/>
                  </a:lnTo>
                  <a:lnTo>
                    <a:pt x="636" y="171"/>
                  </a:lnTo>
                  <a:lnTo>
                    <a:pt x="609" y="220"/>
                  </a:lnTo>
                  <a:lnTo>
                    <a:pt x="587" y="268"/>
                  </a:lnTo>
                  <a:lnTo>
                    <a:pt x="578" y="308"/>
                  </a:lnTo>
                  <a:lnTo>
                    <a:pt x="543" y="410"/>
                  </a:lnTo>
                  <a:lnTo>
                    <a:pt x="516" y="458"/>
                  </a:lnTo>
                  <a:lnTo>
                    <a:pt x="512" y="498"/>
                  </a:lnTo>
                  <a:lnTo>
                    <a:pt x="499" y="546"/>
                  </a:lnTo>
                  <a:lnTo>
                    <a:pt x="490" y="587"/>
                  </a:lnTo>
                  <a:lnTo>
                    <a:pt x="472" y="666"/>
                  </a:lnTo>
                  <a:lnTo>
                    <a:pt x="459" y="746"/>
                  </a:lnTo>
                  <a:lnTo>
                    <a:pt x="446" y="794"/>
                  </a:lnTo>
                  <a:lnTo>
                    <a:pt x="450" y="838"/>
                  </a:lnTo>
                  <a:lnTo>
                    <a:pt x="415" y="940"/>
                  </a:lnTo>
                  <a:lnTo>
                    <a:pt x="406" y="988"/>
                  </a:lnTo>
                  <a:lnTo>
                    <a:pt x="371" y="1024"/>
                  </a:lnTo>
                  <a:lnTo>
                    <a:pt x="349" y="1059"/>
                  </a:lnTo>
                  <a:lnTo>
                    <a:pt x="336" y="1138"/>
                  </a:lnTo>
                  <a:lnTo>
                    <a:pt x="313" y="1240"/>
                  </a:lnTo>
                  <a:lnTo>
                    <a:pt x="317" y="1284"/>
                  </a:lnTo>
                  <a:lnTo>
                    <a:pt x="321" y="1390"/>
                  </a:lnTo>
                  <a:lnTo>
                    <a:pt x="317" y="1469"/>
                  </a:lnTo>
                  <a:lnTo>
                    <a:pt x="308" y="1509"/>
                  </a:lnTo>
                  <a:lnTo>
                    <a:pt x="277" y="1584"/>
                  </a:lnTo>
                  <a:lnTo>
                    <a:pt x="233" y="1739"/>
                  </a:lnTo>
                  <a:lnTo>
                    <a:pt x="211" y="1774"/>
                  </a:lnTo>
                  <a:lnTo>
                    <a:pt x="202" y="1814"/>
                  </a:lnTo>
                  <a:lnTo>
                    <a:pt x="220" y="1858"/>
                  </a:lnTo>
                  <a:lnTo>
                    <a:pt x="268" y="1893"/>
                  </a:lnTo>
                  <a:lnTo>
                    <a:pt x="273" y="1937"/>
                  </a:lnTo>
                  <a:lnTo>
                    <a:pt x="291" y="1981"/>
                  </a:lnTo>
                  <a:lnTo>
                    <a:pt x="273" y="2056"/>
                  </a:lnTo>
                  <a:lnTo>
                    <a:pt x="260" y="2109"/>
                  </a:lnTo>
                  <a:lnTo>
                    <a:pt x="216" y="2127"/>
                  </a:lnTo>
                  <a:lnTo>
                    <a:pt x="180" y="2118"/>
                  </a:lnTo>
                  <a:lnTo>
                    <a:pt x="132" y="2136"/>
                  </a:lnTo>
                  <a:lnTo>
                    <a:pt x="114" y="2228"/>
                  </a:lnTo>
                  <a:lnTo>
                    <a:pt x="74" y="2233"/>
                  </a:lnTo>
                  <a:lnTo>
                    <a:pt x="114" y="2242"/>
                  </a:lnTo>
                  <a:lnTo>
                    <a:pt x="149" y="2250"/>
                  </a:lnTo>
                  <a:lnTo>
                    <a:pt x="185" y="2215"/>
                  </a:lnTo>
                  <a:lnTo>
                    <a:pt x="198" y="2162"/>
                  </a:lnTo>
                  <a:lnTo>
                    <a:pt x="255" y="2149"/>
                  </a:lnTo>
                  <a:lnTo>
                    <a:pt x="291" y="2158"/>
                  </a:lnTo>
                  <a:lnTo>
                    <a:pt x="384" y="2175"/>
                  </a:lnTo>
                  <a:lnTo>
                    <a:pt x="424" y="2184"/>
                  </a:lnTo>
                  <a:lnTo>
                    <a:pt x="464" y="2180"/>
                  </a:lnTo>
                  <a:lnTo>
                    <a:pt x="503" y="2189"/>
                  </a:lnTo>
                  <a:lnTo>
                    <a:pt x="547" y="2171"/>
                  </a:lnTo>
                  <a:lnTo>
                    <a:pt x="556" y="2131"/>
                  </a:lnTo>
                  <a:lnTo>
                    <a:pt x="521" y="2096"/>
                  </a:lnTo>
                  <a:lnTo>
                    <a:pt x="486" y="2074"/>
                  </a:lnTo>
                  <a:lnTo>
                    <a:pt x="450" y="2109"/>
                  </a:lnTo>
                  <a:lnTo>
                    <a:pt x="406" y="2127"/>
                  </a:lnTo>
                  <a:lnTo>
                    <a:pt x="367" y="2131"/>
                  </a:lnTo>
                  <a:lnTo>
                    <a:pt x="326" y="2123"/>
                  </a:lnTo>
                  <a:lnTo>
                    <a:pt x="308" y="2078"/>
                  </a:lnTo>
                  <a:lnTo>
                    <a:pt x="371" y="2052"/>
                  </a:lnTo>
                  <a:lnTo>
                    <a:pt x="415" y="2034"/>
                  </a:lnTo>
                  <a:lnTo>
                    <a:pt x="424" y="1995"/>
                  </a:lnTo>
                  <a:lnTo>
                    <a:pt x="389" y="1959"/>
                  </a:lnTo>
                  <a:lnTo>
                    <a:pt x="353" y="1929"/>
                  </a:lnTo>
                  <a:lnTo>
                    <a:pt x="362" y="1889"/>
                  </a:lnTo>
                  <a:lnTo>
                    <a:pt x="326" y="1867"/>
                  </a:lnTo>
                  <a:lnTo>
                    <a:pt x="286" y="1858"/>
                  </a:lnTo>
                  <a:lnTo>
                    <a:pt x="251" y="1959"/>
                  </a:lnTo>
                  <a:lnTo>
                    <a:pt x="0" y="2202"/>
                  </a:lnTo>
                  <a:close/>
                </a:path>
              </a:pathLst>
            </a:custGeom>
            <a:solidFill>
              <a:srgbClr val="cc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1986120" y="3814920"/>
            <a:ext cx="290880" cy="395640"/>
          </a:xfrm>
          <a:custGeom>
            <a:avLst/>
            <a:gdLst/>
            <a:ahLst/>
            <a:rect l="0" t="0" r="r" b="b"/>
            <a:pathLst>
              <a:path w="808" h="1099">
                <a:moveTo>
                  <a:pt x="198" y="1099"/>
                </a:moveTo>
                <a:lnTo>
                  <a:pt x="384" y="675"/>
                </a:lnTo>
                <a:lnTo>
                  <a:pt x="742" y="264"/>
                </a:lnTo>
                <a:lnTo>
                  <a:pt x="808" y="0"/>
                </a:lnTo>
                <a:lnTo>
                  <a:pt x="569" y="171"/>
                </a:lnTo>
                <a:lnTo>
                  <a:pt x="265" y="449"/>
                </a:lnTo>
                <a:lnTo>
                  <a:pt x="132" y="636"/>
                </a:lnTo>
                <a:lnTo>
                  <a:pt x="0" y="900"/>
                </a:lnTo>
                <a:lnTo>
                  <a:pt x="198" y="109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1776240" y="5859360"/>
            <a:ext cx="178200" cy="203400"/>
            <a:chOff x="1776240" y="5859360"/>
            <a:chExt cx="178200" cy="203400"/>
          </a:xfrm>
        </p:grpSpPr>
        <p:sp>
          <p:nvSpPr>
            <p:cNvPr id="992" name=""/>
            <p:cNvSpPr/>
            <p:nvPr/>
          </p:nvSpPr>
          <p:spPr>
            <a:xfrm>
              <a:off x="1776240" y="5859360"/>
              <a:ext cx="178200" cy="203400"/>
            </a:xfrm>
            <a:custGeom>
              <a:avLst/>
              <a:gdLst/>
              <a:ahLst/>
              <a:rect l="0" t="0" r="r" b="b"/>
              <a:pathLst>
                <a:path w="495" h="565">
                  <a:moveTo>
                    <a:pt x="388" y="284"/>
                  </a:moveTo>
                  <a:lnTo>
                    <a:pt x="407" y="298"/>
                  </a:lnTo>
                  <a:lnTo>
                    <a:pt x="424" y="316"/>
                  </a:lnTo>
                  <a:lnTo>
                    <a:pt x="433" y="333"/>
                  </a:lnTo>
                  <a:lnTo>
                    <a:pt x="439" y="353"/>
                  </a:lnTo>
                  <a:lnTo>
                    <a:pt x="441" y="379"/>
                  </a:lnTo>
                  <a:lnTo>
                    <a:pt x="447" y="402"/>
                  </a:lnTo>
                  <a:lnTo>
                    <a:pt x="444" y="427"/>
                  </a:lnTo>
                  <a:lnTo>
                    <a:pt x="441" y="456"/>
                  </a:lnTo>
                  <a:lnTo>
                    <a:pt x="430" y="482"/>
                  </a:lnTo>
                  <a:lnTo>
                    <a:pt x="416" y="499"/>
                  </a:lnTo>
                  <a:lnTo>
                    <a:pt x="396" y="522"/>
                  </a:lnTo>
                  <a:lnTo>
                    <a:pt x="376" y="533"/>
                  </a:lnTo>
                  <a:lnTo>
                    <a:pt x="350" y="551"/>
                  </a:lnTo>
                  <a:lnTo>
                    <a:pt x="327" y="559"/>
                  </a:lnTo>
                  <a:lnTo>
                    <a:pt x="307" y="565"/>
                  </a:lnTo>
                  <a:lnTo>
                    <a:pt x="282" y="565"/>
                  </a:lnTo>
                  <a:lnTo>
                    <a:pt x="256" y="562"/>
                  </a:lnTo>
                  <a:lnTo>
                    <a:pt x="222" y="551"/>
                  </a:lnTo>
                  <a:lnTo>
                    <a:pt x="179" y="533"/>
                  </a:lnTo>
                  <a:lnTo>
                    <a:pt x="145" y="513"/>
                  </a:lnTo>
                  <a:lnTo>
                    <a:pt x="113" y="493"/>
                  </a:lnTo>
                  <a:lnTo>
                    <a:pt x="79" y="462"/>
                  </a:lnTo>
                  <a:lnTo>
                    <a:pt x="53" y="433"/>
                  </a:lnTo>
                  <a:lnTo>
                    <a:pt x="36" y="407"/>
                  </a:lnTo>
                  <a:lnTo>
                    <a:pt x="22" y="379"/>
                  </a:lnTo>
                  <a:lnTo>
                    <a:pt x="14" y="336"/>
                  </a:lnTo>
                  <a:lnTo>
                    <a:pt x="2" y="304"/>
                  </a:lnTo>
                  <a:lnTo>
                    <a:pt x="0" y="269"/>
                  </a:lnTo>
                  <a:lnTo>
                    <a:pt x="0" y="234"/>
                  </a:lnTo>
                  <a:lnTo>
                    <a:pt x="2" y="191"/>
                  </a:lnTo>
                  <a:lnTo>
                    <a:pt x="14" y="151"/>
                  </a:lnTo>
                  <a:lnTo>
                    <a:pt x="31" y="114"/>
                  </a:lnTo>
                  <a:lnTo>
                    <a:pt x="51" y="85"/>
                  </a:lnTo>
                  <a:lnTo>
                    <a:pt x="68" y="68"/>
                  </a:lnTo>
                  <a:lnTo>
                    <a:pt x="90" y="57"/>
                  </a:lnTo>
                  <a:lnTo>
                    <a:pt x="116" y="45"/>
                  </a:lnTo>
                  <a:lnTo>
                    <a:pt x="159" y="31"/>
                  </a:lnTo>
                  <a:lnTo>
                    <a:pt x="191" y="20"/>
                  </a:lnTo>
                  <a:lnTo>
                    <a:pt x="233" y="5"/>
                  </a:lnTo>
                  <a:lnTo>
                    <a:pt x="273" y="0"/>
                  </a:lnTo>
                  <a:lnTo>
                    <a:pt x="304" y="2"/>
                  </a:lnTo>
                  <a:lnTo>
                    <a:pt x="344" y="5"/>
                  </a:lnTo>
                  <a:lnTo>
                    <a:pt x="379" y="14"/>
                  </a:lnTo>
                  <a:lnTo>
                    <a:pt x="410" y="28"/>
                  </a:lnTo>
                  <a:lnTo>
                    <a:pt x="436" y="42"/>
                  </a:lnTo>
                  <a:lnTo>
                    <a:pt x="453" y="63"/>
                  </a:lnTo>
                  <a:lnTo>
                    <a:pt x="473" y="85"/>
                  </a:lnTo>
                  <a:lnTo>
                    <a:pt x="484" y="120"/>
                  </a:lnTo>
                  <a:lnTo>
                    <a:pt x="490" y="143"/>
                  </a:lnTo>
                  <a:lnTo>
                    <a:pt x="495" y="169"/>
                  </a:lnTo>
                  <a:lnTo>
                    <a:pt x="493" y="194"/>
                  </a:lnTo>
                  <a:lnTo>
                    <a:pt x="481" y="226"/>
                  </a:lnTo>
                  <a:lnTo>
                    <a:pt x="464" y="255"/>
                  </a:lnTo>
                  <a:lnTo>
                    <a:pt x="447" y="275"/>
                  </a:lnTo>
                  <a:lnTo>
                    <a:pt x="430" y="284"/>
                  </a:lnTo>
                  <a:lnTo>
                    <a:pt x="410" y="287"/>
                  </a:lnTo>
                  <a:lnTo>
                    <a:pt x="388" y="284"/>
                  </a:lnTo>
                  <a:close/>
                </a:path>
              </a:pathLst>
            </a:custGeom>
            <a:solidFill>
              <a:srgbClr val="a05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3" name=""/>
            <p:cNvGrpSpPr/>
            <p:nvPr/>
          </p:nvGrpSpPr>
          <p:grpSpPr>
            <a:xfrm>
              <a:off x="1809720" y="5894280"/>
              <a:ext cx="98640" cy="103680"/>
              <a:chOff x="1809720" y="5894280"/>
              <a:chExt cx="98640" cy="103680"/>
            </a:xfrm>
          </p:grpSpPr>
          <p:sp>
            <p:nvSpPr>
              <p:cNvPr id="994" name=""/>
              <p:cNvSpPr/>
              <p:nvPr/>
            </p:nvSpPr>
            <p:spPr>
              <a:xfrm>
                <a:off x="1809720" y="5943600"/>
                <a:ext cx="98640" cy="25920"/>
              </a:xfrm>
              <a:custGeom>
                <a:avLst/>
                <a:gdLst/>
                <a:ahLst/>
                <a:rect l="0" t="0" r="r" b="b"/>
                <a:pathLst>
                  <a:path fill="none" w="274" h="72">
                    <a:moveTo>
                      <a:pt x="0" y="72"/>
                    </a:moveTo>
                    <a:lnTo>
                      <a:pt x="11" y="60"/>
                    </a:lnTo>
                    <a:lnTo>
                      <a:pt x="36" y="30"/>
                    </a:lnTo>
                    <a:lnTo>
                      <a:pt x="62" y="12"/>
                    </a:lnTo>
                    <a:lnTo>
                      <a:pt x="90" y="4"/>
                    </a:lnTo>
                    <a:lnTo>
                      <a:pt x="112" y="0"/>
                    </a:lnTo>
                    <a:lnTo>
                      <a:pt x="141" y="0"/>
                    </a:lnTo>
                    <a:lnTo>
                      <a:pt x="167" y="4"/>
                    </a:lnTo>
                    <a:lnTo>
                      <a:pt x="184" y="8"/>
                    </a:lnTo>
                    <a:lnTo>
                      <a:pt x="212" y="25"/>
                    </a:lnTo>
                    <a:lnTo>
                      <a:pt x="240" y="42"/>
                    </a:lnTo>
                    <a:lnTo>
                      <a:pt x="274" y="72"/>
                    </a:lnTo>
                  </a:path>
                </a:pathLst>
              </a:custGeom>
              <a:ln w="12600">
                <a:solidFill>
                  <a:srgbClr val="ffe0c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836720" y="5894280"/>
                <a:ext cx="36720" cy="103680"/>
              </a:xfrm>
              <a:custGeom>
                <a:avLst/>
                <a:gdLst/>
                <a:ahLst/>
                <a:rect l="0" t="0" r="r" b="b"/>
                <a:pathLst>
                  <a:path fill="none" w="102" h="288">
                    <a:moveTo>
                      <a:pt x="11" y="288"/>
                    </a:moveTo>
                    <a:lnTo>
                      <a:pt x="5" y="265"/>
                    </a:lnTo>
                    <a:lnTo>
                      <a:pt x="0" y="227"/>
                    </a:lnTo>
                    <a:lnTo>
                      <a:pt x="0" y="200"/>
                    </a:lnTo>
                    <a:lnTo>
                      <a:pt x="0" y="180"/>
                    </a:lnTo>
                    <a:lnTo>
                      <a:pt x="14" y="166"/>
                    </a:lnTo>
                    <a:lnTo>
                      <a:pt x="40" y="151"/>
                    </a:lnTo>
                    <a:lnTo>
                      <a:pt x="53" y="139"/>
                    </a:lnTo>
                    <a:lnTo>
                      <a:pt x="61" y="125"/>
                    </a:lnTo>
                    <a:lnTo>
                      <a:pt x="61" y="108"/>
                    </a:lnTo>
                    <a:lnTo>
                      <a:pt x="53" y="90"/>
                    </a:lnTo>
                    <a:lnTo>
                      <a:pt x="43" y="69"/>
                    </a:lnTo>
                    <a:lnTo>
                      <a:pt x="37" y="55"/>
                    </a:lnTo>
                    <a:lnTo>
                      <a:pt x="49" y="52"/>
                    </a:lnTo>
                    <a:lnTo>
                      <a:pt x="64" y="34"/>
                    </a:lnTo>
                    <a:lnTo>
                      <a:pt x="87" y="20"/>
                    </a:lnTo>
                    <a:lnTo>
                      <a:pt x="102" y="0"/>
                    </a:lnTo>
                  </a:path>
                </a:pathLst>
              </a:custGeom>
              <a:ln w="12600">
                <a:solidFill>
                  <a:srgbClr val="ffe0c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873080" y="5911920"/>
                <a:ext cx="25920" cy="71640"/>
              </a:xfrm>
              <a:custGeom>
                <a:avLst/>
                <a:gdLst/>
                <a:ahLst/>
                <a:rect l="0" t="0" r="r" b="b"/>
                <a:pathLst>
                  <a:path fill="none" w="72" h="199">
                    <a:moveTo>
                      <a:pt x="16" y="199"/>
                    </a:moveTo>
                    <a:lnTo>
                      <a:pt x="8" y="182"/>
                    </a:lnTo>
                    <a:lnTo>
                      <a:pt x="0" y="164"/>
                    </a:lnTo>
                    <a:lnTo>
                      <a:pt x="2" y="141"/>
                    </a:lnTo>
                    <a:lnTo>
                      <a:pt x="2" y="116"/>
                    </a:lnTo>
                    <a:lnTo>
                      <a:pt x="8" y="80"/>
                    </a:lnTo>
                    <a:lnTo>
                      <a:pt x="20" y="54"/>
                    </a:lnTo>
                    <a:lnTo>
                      <a:pt x="34" y="31"/>
                    </a:lnTo>
                    <a:lnTo>
                      <a:pt x="51" y="11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ffe0c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827360" y="5911920"/>
                <a:ext cx="25920" cy="28800"/>
              </a:xfrm>
              <a:custGeom>
                <a:avLst/>
                <a:gdLst/>
                <a:ahLst/>
                <a:rect l="0" t="0" r="r" b="b"/>
                <a:pathLst>
                  <a:path fill="none" w="72" h="80">
                    <a:moveTo>
                      <a:pt x="72" y="80"/>
                    </a:moveTo>
                    <a:lnTo>
                      <a:pt x="49" y="66"/>
                    </a:lnTo>
                    <a:lnTo>
                      <a:pt x="29" y="53"/>
                    </a:lnTo>
                    <a:lnTo>
                      <a:pt x="16" y="38"/>
                    </a:lnTo>
                    <a:lnTo>
                      <a:pt x="6" y="16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e0c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8" name=""/>
          <p:cNvGrpSpPr/>
          <p:nvPr/>
        </p:nvGrpSpPr>
        <p:grpSpPr>
          <a:xfrm>
            <a:off x="1755720" y="3800520"/>
            <a:ext cx="520920" cy="2372040"/>
            <a:chOff x="1755720" y="3800520"/>
            <a:chExt cx="520920" cy="2372040"/>
          </a:xfrm>
        </p:grpSpPr>
        <p:grpSp>
          <p:nvGrpSpPr>
            <p:cNvPr id="999" name=""/>
            <p:cNvGrpSpPr/>
            <p:nvPr/>
          </p:nvGrpSpPr>
          <p:grpSpPr>
            <a:xfrm>
              <a:off x="1755720" y="4106880"/>
              <a:ext cx="302040" cy="2065680"/>
              <a:chOff x="1755720" y="4106880"/>
              <a:chExt cx="302040" cy="2065680"/>
            </a:xfrm>
          </p:grpSpPr>
          <p:grpSp>
            <p:nvGrpSpPr>
              <p:cNvPr id="1000" name=""/>
              <p:cNvGrpSpPr/>
              <p:nvPr/>
            </p:nvGrpSpPr>
            <p:grpSpPr>
              <a:xfrm>
                <a:off x="1755720" y="5657760"/>
                <a:ext cx="290880" cy="514800"/>
                <a:chOff x="1755720" y="5657760"/>
                <a:chExt cx="290880" cy="514800"/>
              </a:xfrm>
            </p:grpSpPr>
            <p:grpSp>
              <p:nvGrpSpPr>
                <p:cNvPr id="1001" name=""/>
                <p:cNvGrpSpPr/>
                <p:nvPr/>
              </p:nvGrpSpPr>
              <p:grpSpPr>
                <a:xfrm>
                  <a:off x="1755720" y="5657760"/>
                  <a:ext cx="290880" cy="514800"/>
                  <a:chOff x="1755720" y="5657760"/>
                  <a:chExt cx="290880" cy="514800"/>
                </a:xfrm>
              </p:grpSpPr>
              <p:grpSp>
                <p:nvGrpSpPr>
                  <p:cNvPr id="1002" name=""/>
                  <p:cNvGrpSpPr/>
                  <p:nvPr/>
                </p:nvGrpSpPr>
                <p:grpSpPr>
                  <a:xfrm>
                    <a:off x="1755720" y="5657760"/>
                    <a:ext cx="290880" cy="514800"/>
                    <a:chOff x="1755720" y="5657760"/>
                    <a:chExt cx="290880" cy="514800"/>
                  </a:xfrm>
                </p:grpSpPr>
                <p:sp>
                  <p:nvSpPr>
                    <p:cNvPr id="1003" name=""/>
                    <p:cNvSpPr/>
                    <p:nvPr/>
                  </p:nvSpPr>
                  <p:spPr>
                    <a:xfrm>
                      <a:off x="1755720" y="5657760"/>
                      <a:ext cx="290880" cy="514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08" h="1430">
                          <a:moveTo>
                            <a:pt x="633" y="9"/>
                          </a:moveTo>
                          <a:lnTo>
                            <a:pt x="655" y="0"/>
                          </a:lnTo>
                          <a:lnTo>
                            <a:pt x="675" y="0"/>
                          </a:lnTo>
                          <a:lnTo>
                            <a:pt x="700" y="9"/>
                          </a:lnTo>
                          <a:lnTo>
                            <a:pt x="719" y="28"/>
                          </a:lnTo>
                          <a:lnTo>
                            <a:pt x="732" y="67"/>
                          </a:lnTo>
                          <a:lnTo>
                            <a:pt x="738" y="95"/>
                          </a:lnTo>
                          <a:lnTo>
                            <a:pt x="741" y="143"/>
                          </a:lnTo>
                          <a:lnTo>
                            <a:pt x="738" y="191"/>
                          </a:lnTo>
                          <a:lnTo>
                            <a:pt x="729" y="230"/>
                          </a:lnTo>
                          <a:lnTo>
                            <a:pt x="713" y="258"/>
                          </a:lnTo>
                          <a:lnTo>
                            <a:pt x="694" y="287"/>
                          </a:lnTo>
                          <a:lnTo>
                            <a:pt x="668" y="306"/>
                          </a:lnTo>
                          <a:lnTo>
                            <a:pt x="643" y="306"/>
                          </a:lnTo>
                          <a:lnTo>
                            <a:pt x="617" y="297"/>
                          </a:lnTo>
                          <a:lnTo>
                            <a:pt x="591" y="306"/>
                          </a:lnTo>
                          <a:lnTo>
                            <a:pt x="639" y="394"/>
                          </a:lnTo>
                          <a:lnTo>
                            <a:pt x="617" y="432"/>
                          </a:lnTo>
                          <a:lnTo>
                            <a:pt x="587" y="490"/>
                          </a:lnTo>
                          <a:lnTo>
                            <a:pt x="565" y="547"/>
                          </a:lnTo>
                          <a:lnTo>
                            <a:pt x="552" y="605"/>
                          </a:lnTo>
                          <a:lnTo>
                            <a:pt x="546" y="672"/>
                          </a:lnTo>
                          <a:lnTo>
                            <a:pt x="555" y="700"/>
                          </a:lnTo>
                          <a:lnTo>
                            <a:pt x="578" y="739"/>
                          </a:lnTo>
                          <a:lnTo>
                            <a:pt x="603" y="796"/>
                          </a:lnTo>
                          <a:lnTo>
                            <a:pt x="652" y="835"/>
                          </a:lnTo>
                          <a:lnTo>
                            <a:pt x="802" y="969"/>
                          </a:lnTo>
                          <a:lnTo>
                            <a:pt x="808" y="1055"/>
                          </a:lnTo>
                          <a:lnTo>
                            <a:pt x="808" y="1123"/>
                          </a:lnTo>
                          <a:lnTo>
                            <a:pt x="808" y="1181"/>
                          </a:lnTo>
                          <a:lnTo>
                            <a:pt x="799" y="1229"/>
                          </a:lnTo>
                          <a:lnTo>
                            <a:pt x="786" y="1277"/>
                          </a:lnTo>
                          <a:lnTo>
                            <a:pt x="773" y="1315"/>
                          </a:lnTo>
                          <a:lnTo>
                            <a:pt x="757" y="1344"/>
                          </a:lnTo>
                          <a:lnTo>
                            <a:pt x="735" y="1373"/>
                          </a:lnTo>
                          <a:lnTo>
                            <a:pt x="706" y="1401"/>
                          </a:lnTo>
                          <a:lnTo>
                            <a:pt x="681" y="1411"/>
                          </a:lnTo>
                          <a:lnTo>
                            <a:pt x="646" y="1430"/>
                          </a:lnTo>
                          <a:lnTo>
                            <a:pt x="600" y="1421"/>
                          </a:lnTo>
                          <a:lnTo>
                            <a:pt x="552" y="1421"/>
                          </a:lnTo>
                          <a:lnTo>
                            <a:pt x="508" y="1421"/>
                          </a:lnTo>
                          <a:lnTo>
                            <a:pt x="466" y="1411"/>
                          </a:lnTo>
                          <a:lnTo>
                            <a:pt x="428" y="1401"/>
                          </a:lnTo>
                          <a:lnTo>
                            <a:pt x="393" y="1382"/>
                          </a:lnTo>
                          <a:lnTo>
                            <a:pt x="348" y="1354"/>
                          </a:lnTo>
                          <a:lnTo>
                            <a:pt x="300" y="1306"/>
                          </a:lnTo>
                          <a:lnTo>
                            <a:pt x="275" y="1238"/>
                          </a:lnTo>
                          <a:lnTo>
                            <a:pt x="256" y="1171"/>
                          </a:lnTo>
                          <a:lnTo>
                            <a:pt x="240" y="1104"/>
                          </a:lnTo>
                          <a:lnTo>
                            <a:pt x="230" y="1036"/>
                          </a:lnTo>
                          <a:lnTo>
                            <a:pt x="191" y="1017"/>
                          </a:lnTo>
                          <a:lnTo>
                            <a:pt x="149" y="959"/>
                          </a:lnTo>
                          <a:lnTo>
                            <a:pt x="108" y="892"/>
                          </a:lnTo>
                          <a:lnTo>
                            <a:pt x="79" y="787"/>
                          </a:lnTo>
                          <a:lnTo>
                            <a:pt x="57" y="691"/>
                          </a:lnTo>
                          <a:lnTo>
                            <a:pt x="38" y="595"/>
                          </a:lnTo>
                          <a:lnTo>
                            <a:pt x="19" y="480"/>
                          </a:lnTo>
                          <a:lnTo>
                            <a:pt x="6" y="374"/>
                          </a:lnTo>
                          <a:lnTo>
                            <a:pt x="3" y="268"/>
                          </a:lnTo>
                          <a:lnTo>
                            <a:pt x="0" y="191"/>
                          </a:lnTo>
                          <a:lnTo>
                            <a:pt x="38" y="86"/>
                          </a:lnTo>
                          <a:lnTo>
                            <a:pt x="70" y="191"/>
                          </a:lnTo>
                          <a:lnTo>
                            <a:pt x="130" y="354"/>
                          </a:lnTo>
                          <a:lnTo>
                            <a:pt x="156" y="374"/>
                          </a:lnTo>
                          <a:lnTo>
                            <a:pt x="191" y="374"/>
                          </a:lnTo>
                          <a:lnTo>
                            <a:pt x="237" y="326"/>
                          </a:lnTo>
                          <a:lnTo>
                            <a:pt x="281" y="258"/>
                          </a:lnTo>
                          <a:lnTo>
                            <a:pt x="316" y="163"/>
                          </a:lnTo>
                          <a:lnTo>
                            <a:pt x="377" y="28"/>
                          </a:lnTo>
                          <a:lnTo>
                            <a:pt x="633" y="9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4" name=""/>
                    <p:cNvSpPr/>
                    <p:nvPr/>
                  </p:nvSpPr>
                  <p:spPr>
                    <a:xfrm>
                      <a:off x="1805040" y="5762520"/>
                      <a:ext cx="197280" cy="3243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48" h="901">
                          <a:moveTo>
                            <a:pt x="548" y="679"/>
                          </a:moveTo>
                          <a:lnTo>
                            <a:pt x="526" y="766"/>
                          </a:lnTo>
                          <a:lnTo>
                            <a:pt x="504" y="814"/>
                          </a:lnTo>
                          <a:lnTo>
                            <a:pt x="479" y="853"/>
                          </a:lnTo>
                          <a:lnTo>
                            <a:pt x="450" y="872"/>
                          </a:lnTo>
                          <a:lnTo>
                            <a:pt x="422" y="882"/>
                          </a:lnTo>
                          <a:lnTo>
                            <a:pt x="386" y="901"/>
                          </a:lnTo>
                          <a:lnTo>
                            <a:pt x="348" y="891"/>
                          </a:lnTo>
                          <a:lnTo>
                            <a:pt x="304" y="853"/>
                          </a:lnTo>
                          <a:lnTo>
                            <a:pt x="241" y="804"/>
                          </a:lnTo>
                          <a:lnTo>
                            <a:pt x="165" y="717"/>
                          </a:lnTo>
                          <a:lnTo>
                            <a:pt x="123" y="658"/>
                          </a:lnTo>
                          <a:lnTo>
                            <a:pt x="97" y="591"/>
                          </a:lnTo>
                          <a:lnTo>
                            <a:pt x="72" y="523"/>
                          </a:lnTo>
                          <a:lnTo>
                            <a:pt x="44" y="445"/>
                          </a:lnTo>
                          <a:lnTo>
                            <a:pt x="22" y="368"/>
                          </a:lnTo>
                          <a:lnTo>
                            <a:pt x="0" y="310"/>
                          </a:lnTo>
                          <a:lnTo>
                            <a:pt x="6" y="281"/>
                          </a:lnTo>
                          <a:lnTo>
                            <a:pt x="18" y="252"/>
                          </a:lnTo>
                          <a:lnTo>
                            <a:pt x="34" y="233"/>
                          </a:lnTo>
                          <a:lnTo>
                            <a:pt x="269" y="0"/>
                          </a:lnTo>
                          <a:lnTo>
                            <a:pt x="425" y="174"/>
                          </a:lnTo>
                          <a:lnTo>
                            <a:pt x="408" y="358"/>
                          </a:lnTo>
                          <a:lnTo>
                            <a:pt x="416" y="407"/>
                          </a:lnTo>
                          <a:lnTo>
                            <a:pt x="428" y="465"/>
                          </a:lnTo>
                          <a:lnTo>
                            <a:pt x="450" y="513"/>
                          </a:lnTo>
                          <a:lnTo>
                            <a:pt x="482" y="571"/>
                          </a:lnTo>
                          <a:lnTo>
                            <a:pt x="523" y="639"/>
                          </a:lnTo>
                          <a:lnTo>
                            <a:pt x="548" y="679"/>
                          </a:lnTo>
                          <a:close/>
                        </a:path>
                      </a:pathLst>
                    </a:custGeom>
                    <a:solidFill>
                      <a:srgbClr val="8080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05" name=""/>
                  <p:cNvSpPr/>
                  <p:nvPr/>
                </p:nvSpPr>
                <p:spPr>
                  <a:xfrm>
                    <a:off x="1906920" y="5908680"/>
                    <a:ext cx="39600" cy="82440"/>
                  </a:xfrm>
                  <a:custGeom>
                    <a:avLst/>
                    <a:gdLst/>
                    <a:ahLst/>
                    <a:rect l="0" t="0" r="r" b="b"/>
                    <a:pathLst>
                      <a:path w="110" h="229">
                        <a:moveTo>
                          <a:pt x="95" y="128"/>
                        </a:moveTo>
                        <a:lnTo>
                          <a:pt x="95" y="128"/>
                        </a:lnTo>
                        <a:lnTo>
                          <a:pt x="95" y="128"/>
                        </a:lnTo>
                        <a:cubicBezTo>
                          <a:pt x="101" y="108"/>
                          <a:pt x="106" y="88"/>
                          <a:pt x="108" y="69"/>
                        </a:cubicBezTo>
                        <a:cubicBezTo>
                          <a:pt x="110" y="51"/>
                          <a:pt x="110" y="35"/>
                          <a:pt x="107" y="23"/>
                        </a:cubicBezTo>
                        <a:cubicBezTo>
                          <a:pt x="104" y="11"/>
                          <a:pt x="99" y="3"/>
                          <a:pt x="92" y="1"/>
                        </a:cubicBezTo>
                        <a:cubicBezTo>
                          <a:pt x="85" y="-1"/>
                          <a:pt x="76" y="2"/>
                          <a:pt x="66" y="10"/>
                        </a:cubicBezTo>
                        <a:cubicBezTo>
                          <a:pt x="57" y="18"/>
                          <a:pt x="47" y="30"/>
                          <a:pt x="38" y="47"/>
                        </a:cubicBezTo>
                        <a:cubicBezTo>
                          <a:pt x="29" y="63"/>
                          <a:pt x="21" y="82"/>
                          <a:pt x="14" y="102"/>
                        </a:cubicBezTo>
                        <a:lnTo>
                          <a:pt x="14" y="102"/>
                        </a:lnTo>
                        <a:lnTo>
                          <a:pt x="14" y="102"/>
                        </a:lnTo>
                        <a:cubicBezTo>
                          <a:pt x="8" y="122"/>
                          <a:pt x="3" y="142"/>
                          <a:pt x="1" y="161"/>
                        </a:cubicBezTo>
                        <a:cubicBezTo>
                          <a:pt x="-1" y="179"/>
                          <a:pt x="-1" y="195"/>
                          <a:pt x="2" y="207"/>
                        </a:cubicBezTo>
                        <a:cubicBezTo>
                          <a:pt x="5" y="219"/>
                          <a:pt x="10" y="227"/>
                          <a:pt x="17" y="229"/>
                        </a:cubicBezTo>
                        <a:cubicBezTo>
                          <a:pt x="24" y="231"/>
                          <a:pt x="33" y="228"/>
                          <a:pt x="43" y="220"/>
                        </a:cubicBezTo>
                        <a:cubicBezTo>
                          <a:pt x="52" y="212"/>
                          <a:pt x="62" y="200"/>
                          <a:pt x="71" y="183"/>
                        </a:cubicBezTo>
                        <a:cubicBezTo>
                          <a:pt x="80" y="167"/>
                          <a:pt x="88" y="148"/>
                          <a:pt x="95" y="128"/>
                        </a:cubicBez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6" name=""/>
                <p:cNvGrpSpPr/>
                <p:nvPr/>
              </p:nvGrpSpPr>
              <p:grpSpPr>
                <a:xfrm>
                  <a:off x="1762200" y="5816520"/>
                  <a:ext cx="269640" cy="344520"/>
                  <a:chOff x="1762200" y="5816520"/>
                  <a:chExt cx="269640" cy="344520"/>
                </a:xfrm>
              </p:grpSpPr>
              <p:sp>
                <p:nvSpPr>
                  <p:cNvPr id="1007" name=""/>
                  <p:cNvSpPr/>
                  <p:nvPr/>
                </p:nvSpPr>
                <p:spPr>
                  <a:xfrm flipH="1" flipV="1">
                    <a:off x="2001960" y="6006960"/>
                    <a:ext cx="29880" cy="63720"/>
                  </a:xfrm>
                  <a:prstGeom prst="line">
                    <a:avLst/>
                  </a:prstGeom>
                  <a:ln w="12600">
                    <a:solidFill>
                      <a:srgbClr val="c06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 flipH="1" flipV="1">
                    <a:off x="1987560" y="6054840"/>
                    <a:ext cx="23760" cy="81000"/>
                  </a:xfrm>
                  <a:prstGeom prst="line">
                    <a:avLst/>
                  </a:prstGeom>
                  <a:ln w="12600">
                    <a:solidFill>
                      <a:srgbClr val="c06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29880" bIns="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 flipH="1" flipV="1">
                    <a:off x="1971720" y="6070680"/>
                    <a:ext cx="7920" cy="90360"/>
                  </a:xfrm>
                  <a:prstGeom prst="line">
                    <a:avLst/>
                  </a:prstGeom>
                  <a:ln w="12600">
                    <a:solidFill>
                      <a:srgbClr val="c06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 flipH="1" flipV="1">
                    <a:off x="1938240" y="6081840"/>
                    <a:ext cx="5040" cy="69840"/>
                  </a:xfrm>
                  <a:prstGeom prst="line">
                    <a:avLst/>
                  </a:prstGeom>
                  <a:ln w="12600">
                    <a:solidFill>
                      <a:srgbClr val="c06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18720" bIns="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 flipV="1">
                    <a:off x="1905120" y="6066000"/>
                    <a:ext cx="7920" cy="85680"/>
                  </a:xfrm>
                  <a:prstGeom prst="line">
                    <a:avLst/>
                  </a:prstGeom>
                  <a:ln w="12600">
                    <a:solidFill>
                      <a:srgbClr val="c06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34560" bIns="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 flipV="1">
                    <a:off x="1873080" y="6039000"/>
                    <a:ext cx="16200" cy="80640"/>
                  </a:xfrm>
                  <a:prstGeom prst="line">
                    <a:avLst/>
                  </a:prstGeom>
                  <a:ln w="12600">
                    <a:solidFill>
                      <a:srgbClr val="c06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 flipV="1">
                    <a:off x="1847880" y="6022800"/>
                    <a:ext cx="14400" cy="43200"/>
                  </a:xfrm>
                  <a:prstGeom prst="line">
                    <a:avLst/>
                  </a:prstGeom>
                  <a:ln w="12600">
                    <a:solidFill>
                      <a:srgbClr val="c06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 flipV="1">
                    <a:off x="1828800" y="5991120"/>
                    <a:ext cx="12600" cy="22320"/>
                  </a:xfrm>
                  <a:prstGeom prst="line">
                    <a:avLst/>
                  </a:prstGeom>
                  <a:ln w="12600">
                    <a:solidFill>
                      <a:srgbClr val="c06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 flipV="1">
                    <a:off x="1798560" y="5932440"/>
                    <a:ext cx="25560" cy="38160"/>
                  </a:xfrm>
                  <a:prstGeom prst="line">
                    <a:avLst/>
                  </a:prstGeom>
                  <a:ln w="12600">
                    <a:solidFill>
                      <a:srgbClr val="c06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 flipV="1">
                    <a:off x="1779480" y="5869080"/>
                    <a:ext cx="20880" cy="27000"/>
                  </a:xfrm>
                  <a:prstGeom prst="line">
                    <a:avLst/>
                  </a:prstGeom>
                  <a:ln w="12600">
                    <a:solidFill>
                      <a:srgbClr val="c06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1762200" y="5816520"/>
                    <a:ext cx="38160" cy="20880"/>
                  </a:xfrm>
                  <a:prstGeom prst="line">
                    <a:avLst/>
                  </a:prstGeom>
                  <a:ln w="12600">
                    <a:solidFill>
                      <a:srgbClr val="c06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18" name=""/>
              <p:cNvGrpSpPr/>
              <p:nvPr/>
            </p:nvGrpSpPr>
            <p:grpSpPr>
              <a:xfrm>
                <a:off x="1808280" y="4106880"/>
                <a:ext cx="249480" cy="1773720"/>
                <a:chOff x="1808280" y="4106880"/>
                <a:chExt cx="249480" cy="1773720"/>
              </a:xfrm>
            </p:grpSpPr>
            <p:grpSp>
              <p:nvGrpSpPr>
                <p:cNvPr id="1019" name=""/>
                <p:cNvGrpSpPr/>
                <p:nvPr/>
              </p:nvGrpSpPr>
              <p:grpSpPr>
                <a:xfrm>
                  <a:off x="1808280" y="4106880"/>
                  <a:ext cx="249480" cy="1773720"/>
                  <a:chOff x="1808280" y="4106880"/>
                  <a:chExt cx="249480" cy="1773720"/>
                </a:xfrm>
              </p:grpSpPr>
              <p:grpSp>
                <p:nvGrpSpPr>
                  <p:cNvPr id="1020" name=""/>
                  <p:cNvGrpSpPr/>
                  <p:nvPr/>
                </p:nvGrpSpPr>
                <p:grpSpPr>
                  <a:xfrm>
                    <a:off x="1808280" y="4106880"/>
                    <a:ext cx="249480" cy="1773720"/>
                    <a:chOff x="1808280" y="4106880"/>
                    <a:chExt cx="249480" cy="1773720"/>
                  </a:xfrm>
                </p:grpSpPr>
                <p:grpSp>
                  <p:nvGrpSpPr>
                    <p:cNvPr id="1021" name=""/>
                    <p:cNvGrpSpPr/>
                    <p:nvPr/>
                  </p:nvGrpSpPr>
                  <p:grpSpPr>
                    <a:xfrm>
                      <a:off x="1886040" y="4106880"/>
                      <a:ext cx="171720" cy="1710000"/>
                      <a:chOff x="1886040" y="4106880"/>
                      <a:chExt cx="171720" cy="1710000"/>
                    </a:xfrm>
                  </p:grpSpPr>
                  <p:sp>
                    <p:nvSpPr>
                      <p:cNvPr id="1022" name=""/>
                      <p:cNvSpPr/>
                      <p:nvPr/>
                    </p:nvSpPr>
                    <p:spPr>
                      <a:xfrm>
                        <a:off x="1886040" y="4106880"/>
                        <a:ext cx="171720" cy="17100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77" h="4750">
                            <a:moveTo>
                              <a:pt x="63" y="4702"/>
                            </a:moveTo>
                            <a:lnTo>
                              <a:pt x="92" y="4731"/>
                            </a:lnTo>
                            <a:lnTo>
                              <a:pt x="127" y="4740"/>
                            </a:lnTo>
                            <a:lnTo>
                              <a:pt x="159" y="4750"/>
                            </a:lnTo>
                            <a:lnTo>
                              <a:pt x="191" y="4740"/>
                            </a:lnTo>
                            <a:lnTo>
                              <a:pt x="207" y="4711"/>
                            </a:lnTo>
                            <a:lnTo>
                              <a:pt x="223" y="4692"/>
                            </a:lnTo>
                            <a:lnTo>
                              <a:pt x="243" y="4635"/>
                            </a:lnTo>
                            <a:lnTo>
                              <a:pt x="259" y="4567"/>
                            </a:lnTo>
                            <a:lnTo>
                              <a:pt x="285" y="4472"/>
                            </a:lnTo>
                            <a:lnTo>
                              <a:pt x="314" y="4385"/>
                            </a:lnTo>
                            <a:lnTo>
                              <a:pt x="339" y="4328"/>
                            </a:lnTo>
                            <a:lnTo>
                              <a:pt x="358" y="4280"/>
                            </a:lnTo>
                            <a:lnTo>
                              <a:pt x="381" y="4212"/>
                            </a:lnTo>
                            <a:lnTo>
                              <a:pt x="400" y="4126"/>
                            </a:lnTo>
                            <a:lnTo>
                              <a:pt x="410" y="4049"/>
                            </a:lnTo>
                            <a:lnTo>
                              <a:pt x="416" y="3925"/>
                            </a:lnTo>
                            <a:lnTo>
                              <a:pt x="422" y="3829"/>
                            </a:lnTo>
                            <a:lnTo>
                              <a:pt x="422" y="3733"/>
                            </a:lnTo>
                            <a:lnTo>
                              <a:pt x="419" y="3666"/>
                            </a:lnTo>
                            <a:lnTo>
                              <a:pt x="410" y="3579"/>
                            </a:lnTo>
                            <a:lnTo>
                              <a:pt x="394" y="3483"/>
                            </a:lnTo>
                            <a:lnTo>
                              <a:pt x="381" y="3416"/>
                            </a:lnTo>
                            <a:lnTo>
                              <a:pt x="362" y="3378"/>
                            </a:lnTo>
                            <a:lnTo>
                              <a:pt x="320" y="3330"/>
                            </a:lnTo>
                            <a:lnTo>
                              <a:pt x="298" y="3311"/>
                            </a:lnTo>
                            <a:lnTo>
                              <a:pt x="317" y="3205"/>
                            </a:lnTo>
                            <a:lnTo>
                              <a:pt x="333" y="3128"/>
                            </a:lnTo>
                            <a:lnTo>
                              <a:pt x="349" y="3032"/>
                            </a:lnTo>
                            <a:lnTo>
                              <a:pt x="368" y="2936"/>
                            </a:lnTo>
                            <a:lnTo>
                              <a:pt x="374" y="2860"/>
                            </a:lnTo>
                            <a:lnTo>
                              <a:pt x="371" y="2792"/>
                            </a:lnTo>
                            <a:lnTo>
                              <a:pt x="365" y="2687"/>
                            </a:lnTo>
                            <a:lnTo>
                              <a:pt x="355" y="2562"/>
                            </a:lnTo>
                            <a:lnTo>
                              <a:pt x="346" y="2457"/>
                            </a:lnTo>
                            <a:lnTo>
                              <a:pt x="336" y="2380"/>
                            </a:lnTo>
                            <a:lnTo>
                              <a:pt x="336" y="2264"/>
                            </a:lnTo>
                            <a:lnTo>
                              <a:pt x="343" y="2101"/>
                            </a:lnTo>
                            <a:lnTo>
                              <a:pt x="346" y="1928"/>
                            </a:lnTo>
                            <a:lnTo>
                              <a:pt x="352" y="1813"/>
                            </a:lnTo>
                            <a:lnTo>
                              <a:pt x="362" y="1669"/>
                            </a:lnTo>
                            <a:lnTo>
                              <a:pt x="371" y="1525"/>
                            </a:lnTo>
                            <a:lnTo>
                              <a:pt x="390" y="1276"/>
                            </a:lnTo>
                            <a:lnTo>
                              <a:pt x="416" y="949"/>
                            </a:lnTo>
                            <a:lnTo>
                              <a:pt x="442" y="662"/>
                            </a:lnTo>
                            <a:lnTo>
                              <a:pt x="461" y="422"/>
                            </a:lnTo>
                            <a:lnTo>
                              <a:pt x="477" y="230"/>
                            </a:lnTo>
                            <a:lnTo>
                              <a:pt x="243" y="0"/>
                            </a:lnTo>
                            <a:lnTo>
                              <a:pt x="240" y="105"/>
                            </a:lnTo>
                            <a:lnTo>
                              <a:pt x="236" y="220"/>
                            </a:lnTo>
                            <a:lnTo>
                              <a:pt x="233" y="326"/>
                            </a:lnTo>
                            <a:lnTo>
                              <a:pt x="207" y="633"/>
                            </a:lnTo>
                            <a:lnTo>
                              <a:pt x="175" y="988"/>
                            </a:lnTo>
                            <a:lnTo>
                              <a:pt x="153" y="1276"/>
                            </a:lnTo>
                            <a:lnTo>
                              <a:pt x="140" y="1535"/>
                            </a:lnTo>
                            <a:lnTo>
                              <a:pt x="121" y="1880"/>
                            </a:lnTo>
                            <a:lnTo>
                              <a:pt x="102" y="2225"/>
                            </a:lnTo>
                            <a:lnTo>
                              <a:pt x="76" y="2601"/>
                            </a:lnTo>
                            <a:lnTo>
                              <a:pt x="60" y="2869"/>
                            </a:lnTo>
                            <a:lnTo>
                              <a:pt x="57" y="2984"/>
                            </a:lnTo>
                            <a:lnTo>
                              <a:pt x="57" y="3100"/>
                            </a:lnTo>
                            <a:lnTo>
                              <a:pt x="57" y="3195"/>
                            </a:lnTo>
                            <a:lnTo>
                              <a:pt x="47" y="3301"/>
                            </a:lnTo>
                            <a:lnTo>
                              <a:pt x="31" y="3455"/>
                            </a:lnTo>
                            <a:lnTo>
                              <a:pt x="22" y="3608"/>
                            </a:lnTo>
                            <a:lnTo>
                              <a:pt x="15" y="3790"/>
                            </a:lnTo>
                            <a:lnTo>
                              <a:pt x="6" y="4030"/>
                            </a:lnTo>
                            <a:lnTo>
                              <a:pt x="0" y="4232"/>
                            </a:lnTo>
                            <a:lnTo>
                              <a:pt x="3" y="4299"/>
                            </a:lnTo>
                            <a:lnTo>
                              <a:pt x="9" y="4395"/>
                            </a:lnTo>
                            <a:lnTo>
                              <a:pt x="25" y="4529"/>
                            </a:lnTo>
                            <a:lnTo>
                              <a:pt x="47" y="4635"/>
                            </a:lnTo>
                            <a:lnTo>
                              <a:pt x="63" y="4702"/>
                            </a:lnTo>
                            <a:close/>
                          </a:path>
                        </a:pathLst>
                      </a:custGeom>
                      <a:solidFill>
                        <a:srgbClr val="ffff4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3" name=""/>
                      <p:cNvSpPr/>
                      <p:nvPr/>
                    </p:nvSpPr>
                    <p:spPr>
                      <a:xfrm>
                        <a:off x="1954080" y="5651640"/>
                        <a:ext cx="65520" cy="1288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82" h="358">
                            <a:moveTo>
                              <a:pt x="0" y="358"/>
                            </a:moveTo>
                            <a:lnTo>
                              <a:pt x="25" y="338"/>
                            </a:lnTo>
                            <a:lnTo>
                              <a:pt x="41" y="319"/>
                            </a:lnTo>
                            <a:lnTo>
                              <a:pt x="64" y="319"/>
                            </a:lnTo>
                            <a:lnTo>
                              <a:pt x="86" y="319"/>
                            </a:lnTo>
                            <a:lnTo>
                              <a:pt x="105" y="329"/>
                            </a:lnTo>
                            <a:lnTo>
                              <a:pt x="124" y="338"/>
                            </a:lnTo>
                            <a:lnTo>
                              <a:pt x="138" y="329"/>
                            </a:lnTo>
                            <a:lnTo>
                              <a:pt x="151" y="300"/>
                            </a:lnTo>
                            <a:lnTo>
                              <a:pt x="163" y="271"/>
                            </a:lnTo>
                            <a:lnTo>
                              <a:pt x="170" y="251"/>
                            </a:lnTo>
                            <a:lnTo>
                              <a:pt x="179" y="213"/>
                            </a:lnTo>
                            <a:lnTo>
                              <a:pt x="182" y="184"/>
                            </a:lnTo>
                            <a:lnTo>
                              <a:pt x="182" y="125"/>
                            </a:lnTo>
                            <a:lnTo>
                              <a:pt x="182" y="77"/>
                            </a:lnTo>
                            <a:lnTo>
                              <a:pt x="179" y="57"/>
                            </a:lnTo>
                            <a:lnTo>
                              <a:pt x="170" y="38"/>
                            </a:lnTo>
                            <a:lnTo>
                              <a:pt x="154" y="28"/>
                            </a:lnTo>
                            <a:lnTo>
                              <a:pt x="138" y="28"/>
                            </a:lnTo>
                            <a:lnTo>
                              <a:pt x="124" y="0"/>
                            </a:lnTo>
                            <a:lnTo>
                              <a:pt x="115" y="28"/>
                            </a:lnTo>
                            <a:lnTo>
                              <a:pt x="102" y="67"/>
                            </a:lnTo>
                            <a:lnTo>
                              <a:pt x="89" y="86"/>
                            </a:lnTo>
                            <a:lnTo>
                              <a:pt x="77" y="115"/>
                            </a:lnTo>
                            <a:lnTo>
                              <a:pt x="67" y="135"/>
                            </a:lnTo>
                            <a:lnTo>
                              <a:pt x="64" y="164"/>
                            </a:lnTo>
                            <a:lnTo>
                              <a:pt x="58" y="203"/>
                            </a:lnTo>
                            <a:lnTo>
                              <a:pt x="48" y="242"/>
                            </a:lnTo>
                            <a:lnTo>
                              <a:pt x="38" y="271"/>
                            </a:lnTo>
                            <a:lnTo>
                              <a:pt x="22" y="309"/>
                            </a:lnTo>
                            <a:lnTo>
                              <a:pt x="0" y="358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24" name=""/>
                    <p:cNvSpPr/>
                    <p:nvPr/>
                  </p:nvSpPr>
                  <p:spPr>
                    <a:xfrm>
                      <a:off x="1808280" y="4118040"/>
                      <a:ext cx="219600" cy="17625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10" h="4896">
                          <a:moveTo>
                            <a:pt x="25" y="4829"/>
                          </a:moveTo>
                          <a:lnTo>
                            <a:pt x="37" y="4858"/>
                          </a:lnTo>
                          <a:lnTo>
                            <a:pt x="50" y="4877"/>
                          </a:lnTo>
                          <a:lnTo>
                            <a:pt x="66" y="4887"/>
                          </a:lnTo>
                          <a:lnTo>
                            <a:pt x="78" y="4896"/>
                          </a:lnTo>
                          <a:lnTo>
                            <a:pt x="91" y="4896"/>
                          </a:lnTo>
                          <a:lnTo>
                            <a:pt x="107" y="4887"/>
                          </a:lnTo>
                          <a:lnTo>
                            <a:pt x="132" y="4858"/>
                          </a:lnTo>
                          <a:lnTo>
                            <a:pt x="155" y="4829"/>
                          </a:lnTo>
                          <a:lnTo>
                            <a:pt x="180" y="4781"/>
                          </a:lnTo>
                          <a:lnTo>
                            <a:pt x="196" y="4743"/>
                          </a:lnTo>
                          <a:lnTo>
                            <a:pt x="209" y="4695"/>
                          </a:lnTo>
                          <a:lnTo>
                            <a:pt x="224" y="4647"/>
                          </a:lnTo>
                          <a:lnTo>
                            <a:pt x="237" y="4609"/>
                          </a:lnTo>
                          <a:lnTo>
                            <a:pt x="256" y="4590"/>
                          </a:lnTo>
                          <a:lnTo>
                            <a:pt x="275" y="4571"/>
                          </a:lnTo>
                          <a:lnTo>
                            <a:pt x="281" y="4580"/>
                          </a:lnTo>
                          <a:lnTo>
                            <a:pt x="297" y="4599"/>
                          </a:lnTo>
                          <a:lnTo>
                            <a:pt x="306" y="4619"/>
                          </a:lnTo>
                          <a:lnTo>
                            <a:pt x="319" y="4628"/>
                          </a:lnTo>
                          <a:lnTo>
                            <a:pt x="338" y="4628"/>
                          </a:lnTo>
                          <a:lnTo>
                            <a:pt x="354" y="4619"/>
                          </a:lnTo>
                          <a:lnTo>
                            <a:pt x="373" y="4609"/>
                          </a:lnTo>
                          <a:lnTo>
                            <a:pt x="385" y="4590"/>
                          </a:lnTo>
                          <a:lnTo>
                            <a:pt x="398" y="4551"/>
                          </a:lnTo>
                          <a:lnTo>
                            <a:pt x="407" y="4523"/>
                          </a:lnTo>
                          <a:lnTo>
                            <a:pt x="417" y="4475"/>
                          </a:lnTo>
                          <a:lnTo>
                            <a:pt x="455" y="4197"/>
                          </a:lnTo>
                          <a:lnTo>
                            <a:pt x="487" y="3900"/>
                          </a:lnTo>
                          <a:lnTo>
                            <a:pt x="451" y="3430"/>
                          </a:lnTo>
                          <a:lnTo>
                            <a:pt x="459" y="3324"/>
                          </a:lnTo>
                          <a:lnTo>
                            <a:pt x="490" y="3334"/>
                          </a:lnTo>
                          <a:lnTo>
                            <a:pt x="484" y="3152"/>
                          </a:lnTo>
                          <a:lnTo>
                            <a:pt x="487" y="2951"/>
                          </a:lnTo>
                          <a:lnTo>
                            <a:pt x="487" y="2798"/>
                          </a:lnTo>
                          <a:lnTo>
                            <a:pt x="487" y="2577"/>
                          </a:lnTo>
                          <a:lnTo>
                            <a:pt x="497" y="2328"/>
                          </a:lnTo>
                          <a:lnTo>
                            <a:pt x="509" y="2070"/>
                          </a:lnTo>
                          <a:lnTo>
                            <a:pt x="515" y="1897"/>
                          </a:lnTo>
                          <a:lnTo>
                            <a:pt x="512" y="1744"/>
                          </a:lnTo>
                          <a:lnTo>
                            <a:pt x="512" y="1591"/>
                          </a:lnTo>
                          <a:lnTo>
                            <a:pt x="512" y="1456"/>
                          </a:lnTo>
                          <a:lnTo>
                            <a:pt x="519" y="1351"/>
                          </a:lnTo>
                          <a:lnTo>
                            <a:pt x="525" y="1206"/>
                          </a:lnTo>
                          <a:lnTo>
                            <a:pt x="531" y="1053"/>
                          </a:lnTo>
                          <a:lnTo>
                            <a:pt x="541" y="890"/>
                          </a:lnTo>
                          <a:lnTo>
                            <a:pt x="547" y="747"/>
                          </a:lnTo>
                          <a:lnTo>
                            <a:pt x="556" y="613"/>
                          </a:lnTo>
                          <a:lnTo>
                            <a:pt x="569" y="507"/>
                          </a:lnTo>
                          <a:lnTo>
                            <a:pt x="585" y="363"/>
                          </a:lnTo>
                          <a:lnTo>
                            <a:pt x="597" y="239"/>
                          </a:lnTo>
                          <a:lnTo>
                            <a:pt x="610" y="114"/>
                          </a:lnTo>
                          <a:lnTo>
                            <a:pt x="497" y="0"/>
                          </a:lnTo>
                          <a:lnTo>
                            <a:pt x="468" y="287"/>
                          </a:lnTo>
                          <a:lnTo>
                            <a:pt x="451" y="478"/>
                          </a:lnTo>
                          <a:lnTo>
                            <a:pt x="432" y="641"/>
                          </a:lnTo>
                          <a:lnTo>
                            <a:pt x="420" y="823"/>
                          </a:lnTo>
                          <a:lnTo>
                            <a:pt x="410" y="977"/>
                          </a:lnTo>
                          <a:lnTo>
                            <a:pt x="401" y="1130"/>
                          </a:lnTo>
                          <a:lnTo>
                            <a:pt x="391" y="1303"/>
                          </a:lnTo>
                          <a:lnTo>
                            <a:pt x="382" y="1476"/>
                          </a:lnTo>
                          <a:lnTo>
                            <a:pt x="369" y="1696"/>
                          </a:lnTo>
                          <a:lnTo>
                            <a:pt x="360" y="1868"/>
                          </a:lnTo>
                          <a:lnTo>
                            <a:pt x="354" y="2050"/>
                          </a:lnTo>
                          <a:lnTo>
                            <a:pt x="341" y="2338"/>
                          </a:lnTo>
                          <a:lnTo>
                            <a:pt x="325" y="2510"/>
                          </a:lnTo>
                          <a:lnTo>
                            <a:pt x="310" y="2692"/>
                          </a:lnTo>
                          <a:lnTo>
                            <a:pt x="303" y="2769"/>
                          </a:lnTo>
                          <a:lnTo>
                            <a:pt x="303" y="2874"/>
                          </a:lnTo>
                          <a:lnTo>
                            <a:pt x="300" y="2989"/>
                          </a:lnTo>
                          <a:lnTo>
                            <a:pt x="297" y="3094"/>
                          </a:lnTo>
                          <a:lnTo>
                            <a:pt x="291" y="3190"/>
                          </a:lnTo>
                          <a:lnTo>
                            <a:pt x="281" y="3296"/>
                          </a:lnTo>
                          <a:lnTo>
                            <a:pt x="265" y="3411"/>
                          </a:lnTo>
                          <a:lnTo>
                            <a:pt x="253" y="3506"/>
                          </a:lnTo>
                          <a:lnTo>
                            <a:pt x="243" y="3583"/>
                          </a:lnTo>
                          <a:lnTo>
                            <a:pt x="240" y="3621"/>
                          </a:lnTo>
                          <a:lnTo>
                            <a:pt x="240" y="3699"/>
                          </a:lnTo>
                          <a:lnTo>
                            <a:pt x="240" y="3785"/>
                          </a:lnTo>
                          <a:lnTo>
                            <a:pt x="240" y="3891"/>
                          </a:lnTo>
                          <a:lnTo>
                            <a:pt x="240" y="4005"/>
                          </a:lnTo>
                          <a:lnTo>
                            <a:pt x="237" y="4111"/>
                          </a:lnTo>
                          <a:lnTo>
                            <a:pt x="234" y="4178"/>
                          </a:lnTo>
                          <a:lnTo>
                            <a:pt x="234" y="4235"/>
                          </a:lnTo>
                          <a:lnTo>
                            <a:pt x="234" y="4283"/>
                          </a:lnTo>
                          <a:lnTo>
                            <a:pt x="221" y="4302"/>
                          </a:lnTo>
                          <a:lnTo>
                            <a:pt x="202" y="4341"/>
                          </a:lnTo>
                          <a:lnTo>
                            <a:pt x="183" y="4389"/>
                          </a:lnTo>
                          <a:lnTo>
                            <a:pt x="168" y="4427"/>
                          </a:lnTo>
                          <a:lnTo>
                            <a:pt x="145" y="4484"/>
                          </a:lnTo>
                          <a:lnTo>
                            <a:pt x="126" y="4532"/>
                          </a:lnTo>
                          <a:lnTo>
                            <a:pt x="110" y="4561"/>
                          </a:lnTo>
                          <a:lnTo>
                            <a:pt x="88" y="4590"/>
                          </a:lnTo>
                          <a:lnTo>
                            <a:pt x="69" y="4609"/>
                          </a:lnTo>
                          <a:lnTo>
                            <a:pt x="50" y="4619"/>
                          </a:lnTo>
                          <a:lnTo>
                            <a:pt x="28" y="4619"/>
                          </a:lnTo>
                          <a:lnTo>
                            <a:pt x="9" y="4609"/>
                          </a:lnTo>
                          <a:lnTo>
                            <a:pt x="0" y="4599"/>
                          </a:lnTo>
                          <a:lnTo>
                            <a:pt x="25" y="4829"/>
                          </a:lnTo>
                          <a:close/>
                        </a:path>
                      </a:pathLst>
                    </a:custGeom>
                    <a:solidFill>
                      <a:srgbClr val="ffa040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25" name=""/>
                  <p:cNvSpPr/>
                  <p:nvPr/>
                </p:nvSpPr>
                <p:spPr>
                  <a:xfrm>
                    <a:off x="1933560" y="5343480"/>
                    <a:ext cx="95760" cy="387720"/>
                  </a:xfrm>
                  <a:custGeom>
                    <a:avLst/>
                    <a:gdLst/>
                    <a:ahLst/>
                    <a:rect l="0" t="0" r="r" b="b"/>
                    <a:pathLst>
                      <a:path w="266" h="1077">
                        <a:moveTo>
                          <a:pt x="225" y="762"/>
                        </a:moveTo>
                        <a:lnTo>
                          <a:pt x="209" y="830"/>
                        </a:lnTo>
                        <a:lnTo>
                          <a:pt x="192" y="878"/>
                        </a:lnTo>
                        <a:lnTo>
                          <a:pt x="173" y="925"/>
                        </a:lnTo>
                        <a:lnTo>
                          <a:pt x="154" y="973"/>
                        </a:lnTo>
                        <a:lnTo>
                          <a:pt x="131" y="1020"/>
                        </a:lnTo>
                        <a:lnTo>
                          <a:pt x="109" y="1049"/>
                        </a:lnTo>
                        <a:lnTo>
                          <a:pt x="90" y="1068"/>
                        </a:lnTo>
                        <a:lnTo>
                          <a:pt x="80" y="1077"/>
                        </a:lnTo>
                        <a:lnTo>
                          <a:pt x="63" y="1077"/>
                        </a:lnTo>
                        <a:lnTo>
                          <a:pt x="54" y="1068"/>
                        </a:lnTo>
                        <a:lnTo>
                          <a:pt x="51" y="1068"/>
                        </a:lnTo>
                        <a:lnTo>
                          <a:pt x="41" y="1039"/>
                        </a:lnTo>
                        <a:lnTo>
                          <a:pt x="31" y="1011"/>
                        </a:lnTo>
                        <a:lnTo>
                          <a:pt x="25" y="982"/>
                        </a:lnTo>
                        <a:lnTo>
                          <a:pt x="15" y="916"/>
                        </a:lnTo>
                        <a:lnTo>
                          <a:pt x="6" y="858"/>
                        </a:lnTo>
                        <a:lnTo>
                          <a:pt x="3" y="800"/>
                        </a:lnTo>
                        <a:lnTo>
                          <a:pt x="0" y="724"/>
                        </a:lnTo>
                        <a:lnTo>
                          <a:pt x="0" y="658"/>
                        </a:lnTo>
                        <a:lnTo>
                          <a:pt x="3" y="591"/>
                        </a:lnTo>
                        <a:lnTo>
                          <a:pt x="9" y="505"/>
                        </a:lnTo>
                        <a:lnTo>
                          <a:pt x="15" y="419"/>
                        </a:lnTo>
                        <a:lnTo>
                          <a:pt x="25" y="362"/>
                        </a:lnTo>
                        <a:lnTo>
                          <a:pt x="44" y="286"/>
                        </a:lnTo>
                        <a:lnTo>
                          <a:pt x="54" y="238"/>
                        </a:lnTo>
                        <a:lnTo>
                          <a:pt x="67" y="171"/>
                        </a:lnTo>
                        <a:lnTo>
                          <a:pt x="83" y="104"/>
                        </a:lnTo>
                        <a:lnTo>
                          <a:pt x="103" y="57"/>
                        </a:lnTo>
                        <a:lnTo>
                          <a:pt x="118" y="28"/>
                        </a:lnTo>
                        <a:lnTo>
                          <a:pt x="134" y="9"/>
                        </a:lnTo>
                        <a:lnTo>
                          <a:pt x="150" y="0"/>
                        </a:lnTo>
                        <a:lnTo>
                          <a:pt x="166" y="0"/>
                        </a:lnTo>
                        <a:lnTo>
                          <a:pt x="189" y="19"/>
                        </a:lnTo>
                        <a:lnTo>
                          <a:pt x="206" y="28"/>
                        </a:lnTo>
                        <a:lnTo>
                          <a:pt x="225" y="57"/>
                        </a:lnTo>
                        <a:lnTo>
                          <a:pt x="241" y="76"/>
                        </a:lnTo>
                        <a:lnTo>
                          <a:pt x="250" y="104"/>
                        </a:lnTo>
                        <a:lnTo>
                          <a:pt x="257" y="142"/>
                        </a:lnTo>
                        <a:lnTo>
                          <a:pt x="260" y="180"/>
                        </a:lnTo>
                        <a:lnTo>
                          <a:pt x="266" y="238"/>
                        </a:lnTo>
                        <a:lnTo>
                          <a:pt x="266" y="296"/>
                        </a:lnTo>
                        <a:lnTo>
                          <a:pt x="263" y="372"/>
                        </a:lnTo>
                        <a:lnTo>
                          <a:pt x="263" y="419"/>
                        </a:lnTo>
                        <a:lnTo>
                          <a:pt x="260" y="486"/>
                        </a:lnTo>
                        <a:lnTo>
                          <a:pt x="253" y="553"/>
                        </a:lnTo>
                        <a:lnTo>
                          <a:pt x="247" y="629"/>
                        </a:lnTo>
                        <a:lnTo>
                          <a:pt x="237" y="705"/>
                        </a:lnTo>
                        <a:lnTo>
                          <a:pt x="225" y="762"/>
                        </a:lnTo>
                        <a:close/>
                      </a:path>
                    </a:pathLst>
                  </a:custGeom>
                  <a:solidFill>
                    <a:srgbClr val="e07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6" name=""/>
                <p:cNvGrpSpPr/>
                <p:nvPr/>
              </p:nvGrpSpPr>
              <p:grpSpPr>
                <a:xfrm>
                  <a:off x="1895400" y="4595760"/>
                  <a:ext cx="103320" cy="833760"/>
                  <a:chOff x="1895400" y="4595760"/>
                  <a:chExt cx="103320" cy="833760"/>
                </a:xfrm>
              </p:grpSpPr>
              <p:sp>
                <p:nvSpPr>
                  <p:cNvPr id="1027" name=""/>
                  <p:cNvSpPr/>
                  <p:nvPr/>
                </p:nvSpPr>
                <p:spPr>
                  <a:xfrm>
                    <a:off x="1895400" y="5253120"/>
                    <a:ext cx="32040" cy="176400"/>
                  </a:xfrm>
                  <a:custGeom>
                    <a:avLst/>
                    <a:gdLst/>
                    <a:ahLst/>
                    <a:rect l="0" t="0" r="r" b="b"/>
                    <a:pathLst>
                      <a:path w="89" h="490">
                        <a:moveTo>
                          <a:pt x="0" y="481"/>
                        </a:moveTo>
                        <a:lnTo>
                          <a:pt x="15" y="490"/>
                        </a:lnTo>
                        <a:lnTo>
                          <a:pt x="28" y="490"/>
                        </a:lnTo>
                        <a:lnTo>
                          <a:pt x="37" y="481"/>
                        </a:lnTo>
                        <a:lnTo>
                          <a:pt x="51" y="452"/>
                        </a:lnTo>
                        <a:lnTo>
                          <a:pt x="60" y="415"/>
                        </a:lnTo>
                        <a:lnTo>
                          <a:pt x="70" y="377"/>
                        </a:lnTo>
                        <a:lnTo>
                          <a:pt x="76" y="330"/>
                        </a:lnTo>
                        <a:lnTo>
                          <a:pt x="82" y="283"/>
                        </a:lnTo>
                        <a:lnTo>
                          <a:pt x="89" y="216"/>
                        </a:lnTo>
                        <a:lnTo>
                          <a:pt x="89" y="160"/>
                        </a:lnTo>
                        <a:lnTo>
                          <a:pt x="89" y="103"/>
                        </a:lnTo>
                        <a:lnTo>
                          <a:pt x="82" y="65"/>
                        </a:lnTo>
                        <a:lnTo>
                          <a:pt x="73" y="37"/>
                        </a:lnTo>
                        <a:lnTo>
                          <a:pt x="63" y="9"/>
                        </a:lnTo>
                        <a:lnTo>
                          <a:pt x="54" y="0"/>
                        </a:lnTo>
                        <a:lnTo>
                          <a:pt x="48" y="65"/>
                        </a:lnTo>
                        <a:lnTo>
                          <a:pt x="40" y="150"/>
                        </a:lnTo>
                        <a:lnTo>
                          <a:pt x="25" y="264"/>
                        </a:lnTo>
                        <a:lnTo>
                          <a:pt x="12" y="349"/>
                        </a:lnTo>
                        <a:lnTo>
                          <a:pt x="3" y="424"/>
                        </a:lnTo>
                        <a:lnTo>
                          <a:pt x="0" y="481"/>
                        </a:lnTo>
                        <a:close/>
                      </a:path>
                    </a:pathLst>
                  </a:custGeom>
                  <a:solidFill>
                    <a:srgbClr val="c0c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1952640" y="5067360"/>
                    <a:ext cx="30600" cy="197280"/>
                  </a:xfrm>
                  <a:custGeom>
                    <a:avLst/>
                    <a:gdLst/>
                    <a:ahLst/>
                    <a:rect l="0" t="0" r="r" b="b"/>
                    <a:pathLst>
                      <a:path w="85" h="548">
                        <a:moveTo>
                          <a:pt x="46" y="548"/>
                        </a:moveTo>
                        <a:lnTo>
                          <a:pt x="33" y="529"/>
                        </a:lnTo>
                        <a:lnTo>
                          <a:pt x="23" y="500"/>
                        </a:lnTo>
                        <a:lnTo>
                          <a:pt x="12" y="452"/>
                        </a:lnTo>
                        <a:lnTo>
                          <a:pt x="6" y="414"/>
                        </a:lnTo>
                        <a:lnTo>
                          <a:pt x="3" y="365"/>
                        </a:lnTo>
                        <a:lnTo>
                          <a:pt x="0" y="288"/>
                        </a:lnTo>
                        <a:lnTo>
                          <a:pt x="3" y="231"/>
                        </a:lnTo>
                        <a:lnTo>
                          <a:pt x="9" y="154"/>
                        </a:lnTo>
                        <a:lnTo>
                          <a:pt x="16" y="115"/>
                        </a:lnTo>
                        <a:lnTo>
                          <a:pt x="26" y="67"/>
                        </a:lnTo>
                        <a:lnTo>
                          <a:pt x="39" y="19"/>
                        </a:lnTo>
                        <a:lnTo>
                          <a:pt x="49" y="0"/>
                        </a:lnTo>
                        <a:lnTo>
                          <a:pt x="59" y="19"/>
                        </a:lnTo>
                        <a:lnTo>
                          <a:pt x="69" y="57"/>
                        </a:lnTo>
                        <a:lnTo>
                          <a:pt x="76" y="86"/>
                        </a:lnTo>
                        <a:lnTo>
                          <a:pt x="82" y="134"/>
                        </a:lnTo>
                        <a:lnTo>
                          <a:pt x="82" y="164"/>
                        </a:lnTo>
                        <a:lnTo>
                          <a:pt x="85" y="212"/>
                        </a:lnTo>
                        <a:lnTo>
                          <a:pt x="85" y="269"/>
                        </a:lnTo>
                        <a:lnTo>
                          <a:pt x="82" y="327"/>
                        </a:lnTo>
                        <a:lnTo>
                          <a:pt x="79" y="384"/>
                        </a:lnTo>
                        <a:lnTo>
                          <a:pt x="76" y="443"/>
                        </a:lnTo>
                        <a:lnTo>
                          <a:pt x="66" y="491"/>
                        </a:lnTo>
                        <a:lnTo>
                          <a:pt x="52" y="529"/>
                        </a:lnTo>
                        <a:lnTo>
                          <a:pt x="46" y="548"/>
                        </a:lnTo>
                        <a:close/>
                      </a:path>
                    </a:pathLst>
                  </a:custGeom>
                  <a:solidFill>
                    <a:srgbClr val="c0c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1969920" y="4595760"/>
                    <a:ext cx="28800" cy="23364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649">
                        <a:moveTo>
                          <a:pt x="55" y="649"/>
                        </a:moveTo>
                        <a:lnTo>
                          <a:pt x="36" y="639"/>
                        </a:lnTo>
                        <a:lnTo>
                          <a:pt x="25" y="620"/>
                        </a:lnTo>
                        <a:lnTo>
                          <a:pt x="18" y="592"/>
                        </a:lnTo>
                        <a:lnTo>
                          <a:pt x="10" y="563"/>
                        </a:lnTo>
                        <a:lnTo>
                          <a:pt x="3" y="515"/>
                        </a:lnTo>
                        <a:lnTo>
                          <a:pt x="3" y="477"/>
                        </a:lnTo>
                        <a:lnTo>
                          <a:pt x="0" y="420"/>
                        </a:lnTo>
                        <a:lnTo>
                          <a:pt x="0" y="363"/>
                        </a:lnTo>
                        <a:lnTo>
                          <a:pt x="7" y="305"/>
                        </a:lnTo>
                        <a:lnTo>
                          <a:pt x="10" y="257"/>
                        </a:lnTo>
                        <a:lnTo>
                          <a:pt x="7" y="219"/>
                        </a:lnTo>
                        <a:lnTo>
                          <a:pt x="7" y="181"/>
                        </a:lnTo>
                        <a:lnTo>
                          <a:pt x="7" y="142"/>
                        </a:lnTo>
                        <a:lnTo>
                          <a:pt x="14" y="104"/>
                        </a:lnTo>
                        <a:lnTo>
                          <a:pt x="28" y="66"/>
                        </a:lnTo>
                        <a:lnTo>
                          <a:pt x="44" y="38"/>
                        </a:lnTo>
                        <a:lnTo>
                          <a:pt x="51" y="19"/>
                        </a:lnTo>
                        <a:lnTo>
                          <a:pt x="62" y="0"/>
                        </a:lnTo>
                        <a:lnTo>
                          <a:pt x="69" y="0"/>
                        </a:lnTo>
                        <a:lnTo>
                          <a:pt x="76" y="19"/>
                        </a:lnTo>
                        <a:lnTo>
                          <a:pt x="80" y="28"/>
                        </a:lnTo>
                        <a:lnTo>
                          <a:pt x="76" y="142"/>
                        </a:lnTo>
                        <a:lnTo>
                          <a:pt x="73" y="190"/>
                        </a:lnTo>
                        <a:lnTo>
                          <a:pt x="69" y="266"/>
                        </a:lnTo>
                        <a:lnTo>
                          <a:pt x="65" y="353"/>
                        </a:lnTo>
                        <a:lnTo>
                          <a:pt x="62" y="429"/>
                        </a:lnTo>
                        <a:lnTo>
                          <a:pt x="58" y="506"/>
                        </a:lnTo>
                        <a:lnTo>
                          <a:pt x="58" y="582"/>
                        </a:lnTo>
                        <a:lnTo>
                          <a:pt x="55" y="649"/>
                        </a:lnTo>
                        <a:close/>
                      </a:path>
                    </a:pathLst>
                  </a:custGeom>
                  <a:solidFill>
                    <a:srgbClr val="c0c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030" name=""/>
            <p:cNvSpPr/>
            <p:nvPr/>
          </p:nvSpPr>
          <p:spPr>
            <a:xfrm>
              <a:off x="1981080" y="3800520"/>
              <a:ext cx="295560" cy="410040"/>
            </a:xfrm>
            <a:custGeom>
              <a:avLst/>
              <a:gdLst/>
              <a:ahLst/>
              <a:rect l="0" t="0" r="r" b="b"/>
              <a:pathLst>
                <a:path w="821" h="1139">
                  <a:moveTo>
                    <a:pt x="119" y="1060"/>
                  </a:moveTo>
                  <a:lnTo>
                    <a:pt x="264" y="728"/>
                  </a:lnTo>
                  <a:lnTo>
                    <a:pt x="543" y="331"/>
                  </a:lnTo>
                  <a:lnTo>
                    <a:pt x="794" y="171"/>
                  </a:lnTo>
                  <a:lnTo>
                    <a:pt x="821" y="0"/>
                  </a:lnTo>
                  <a:lnTo>
                    <a:pt x="530" y="185"/>
                  </a:lnTo>
                  <a:lnTo>
                    <a:pt x="330" y="424"/>
                  </a:lnTo>
                  <a:lnTo>
                    <a:pt x="132" y="688"/>
                  </a:lnTo>
                  <a:lnTo>
                    <a:pt x="0" y="994"/>
                  </a:lnTo>
                  <a:lnTo>
                    <a:pt x="52" y="1139"/>
                  </a:lnTo>
                  <a:lnTo>
                    <a:pt x="119" y="106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892160" y="3848040"/>
              <a:ext cx="330480" cy="1727640"/>
            </a:xfrm>
            <a:custGeom>
              <a:avLst/>
              <a:gdLst/>
              <a:ahLst/>
              <a:rect l="0" t="0" r="r" b="b"/>
              <a:pathLst>
                <a:path fill="none" w="918" h="4799">
                  <a:moveTo>
                    <a:pt x="918" y="0"/>
                  </a:moveTo>
                  <a:lnTo>
                    <a:pt x="494" y="635"/>
                  </a:lnTo>
                  <a:lnTo>
                    <a:pt x="282" y="1199"/>
                  </a:lnTo>
                  <a:lnTo>
                    <a:pt x="246" y="2435"/>
                  </a:lnTo>
                  <a:lnTo>
                    <a:pt x="105" y="3882"/>
                  </a:lnTo>
                  <a:lnTo>
                    <a:pt x="211" y="4658"/>
                  </a:lnTo>
                  <a:lnTo>
                    <a:pt x="0" y="4799"/>
                  </a:lnTo>
                </a:path>
              </a:pathLst>
            </a:custGeom>
            <a:ln w="12600">
              <a:solidFill>
                <a:srgbClr val="cc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1600200" y="5902200"/>
            <a:ext cx="636840" cy="525960"/>
            <a:chOff x="1600200" y="5902200"/>
            <a:chExt cx="636840" cy="525960"/>
          </a:xfrm>
        </p:grpSpPr>
        <p:grpSp>
          <p:nvGrpSpPr>
            <p:cNvPr id="1033" name=""/>
            <p:cNvGrpSpPr/>
            <p:nvPr/>
          </p:nvGrpSpPr>
          <p:grpSpPr>
            <a:xfrm>
              <a:off x="1638360" y="5986440"/>
              <a:ext cx="598680" cy="441720"/>
              <a:chOff x="1638360" y="5986440"/>
              <a:chExt cx="598680" cy="441720"/>
            </a:xfrm>
          </p:grpSpPr>
          <p:sp>
            <p:nvSpPr>
              <p:cNvPr id="1034" name=""/>
              <p:cNvSpPr/>
              <p:nvPr/>
            </p:nvSpPr>
            <p:spPr>
              <a:xfrm>
                <a:off x="1638360" y="5986440"/>
                <a:ext cx="598680" cy="441720"/>
              </a:xfrm>
              <a:custGeom>
                <a:avLst/>
                <a:gdLst/>
                <a:ahLst/>
                <a:rect l="0" t="0" r="r" b="b"/>
                <a:pathLst>
                  <a:path w="1663" h="1227">
                    <a:moveTo>
                      <a:pt x="969" y="1227"/>
                    </a:moveTo>
                    <a:lnTo>
                      <a:pt x="910" y="1227"/>
                    </a:lnTo>
                    <a:lnTo>
                      <a:pt x="859" y="1225"/>
                    </a:lnTo>
                    <a:lnTo>
                      <a:pt x="790" y="1210"/>
                    </a:lnTo>
                    <a:lnTo>
                      <a:pt x="719" y="1199"/>
                    </a:lnTo>
                    <a:lnTo>
                      <a:pt x="657" y="1182"/>
                    </a:lnTo>
                    <a:lnTo>
                      <a:pt x="591" y="1156"/>
                    </a:lnTo>
                    <a:lnTo>
                      <a:pt x="506" y="1110"/>
                    </a:lnTo>
                    <a:lnTo>
                      <a:pt x="404" y="1050"/>
                    </a:lnTo>
                    <a:lnTo>
                      <a:pt x="325" y="996"/>
                    </a:lnTo>
                    <a:lnTo>
                      <a:pt x="260" y="936"/>
                    </a:lnTo>
                    <a:lnTo>
                      <a:pt x="229" y="901"/>
                    </a:lnTo>
                    <a:lnTo>
                      <a:pt x="201" y="869"/>
                    </a:lnTo>
                    <a:lnTo>
                      <a:pt x="169" y="815"/>
                    </a:lnTo>
                    <a:lnTo>
                      <a:pt x="158" y="786"/>
                    </a:lnTo>
                    <a:lnTo>
                      <a:pt x="141" y="761"/>
                    </a:lnTo>
                    <a:lnTo>
                      <a:pt x="107" y="732"/>
                    </a:lnTo>
                    <a:lnTo>
                      <a:pt x="76" y="706"/>
                    </a:lnTo>
                    <a:lnTo>
                      <a:pt x="42" y="675"/>
                    </a:lnTo>
                    <a:lnTo>
                      <a:pt x="22" y="635"/>
                    </a:lnTo>
                    <a:lnTo>
                      <a:pt x="11" y="609"/>
                    </a:lnTo>
                    <a:lnTo>
                      <a:pt x="2" y="558"/>
                    </a:lnTo>
                    <a:lnTo>
                      <a:pt x="0" y="478"/>
                    </a:lnTo>
                    <a:lnTo>
                      <a:pt x="2" y="392"/>
                    </a:lnTo>
                    <a:lnTo>
                      <a:pt x="8" y="321"/>
                    </a:lnTo>
                    <a:lnTo>
                      <a:pt x="11" y="280"/>
                    </a:lnTo>
                    <a:lnTo>
                      <a:pt x="22" y="234"/>
                    </a:lnTo>
                    <a:lnTo>
                      <a:pt x="45" y="191"/>
                    </a:lnTo>
                    <a:lnTo>
                      <a:pt x="70" y="140"/>
                    </a:lnTo>
                    <a:lnTo>
                      <a:pt x="99" y="91"/>
                    </a:lnTo>
                    <a:lnTo>
                      <a:pt x="124" y="54"/>
                    </a:lnTo>
                    <a:lnTo>
                      <a:pt x="152" y="25"/>
                    </a:lnTo>
                    <a:lnTo>
                      <a:pt x="175" y="11"/>
                    </a:lnTo>
                    <a:lnTo>
                      <a:pt x="206" y="2"/>
                    </a:lnTo>
                    <a:lnTo>
                      <a:pt x="229" y="0"/>
                    </a:lnTo>
                    <a:lnTo>
                      <a:pt x="260" y="2"/>
                    </a:lnTo>
                    <a:lnTo>
                      <a:pt x="331" y="20"/>
                    </a:lnTo>
                    <a:lnTo>
                      <a:pt x="407" y="37"/>
                    </a:lnTo>
                    <a:lnTo>
                      <a:pt x="487" y="42"/>
                    </a:lnTo>
                    <a:lnTo>
                      <a:pt x="657" y="68"/>
                    </a:lnTo>
                    <a:lnTo>
                      <a:pt x="753" y="88"/>
                    </a:lnTo>
                    <a:lnTo>
                      <a:pt x="904" y="125"/>
                    </a:lnTo>
                    <a:lnTo>
                      <a:pt x="1012" y="174"/>
                    </a:lnTo>
                    <a:lnTo>
                      <a:pt x="1133" y="231"/>
                    </a:lnTo>
                    <a:lnTo>
                      <a:pt x="1210" y="291"/>
                    </a:lnTo>
                    <a:lnTo>
                      <a:pt x="1235" y="329"/>
                    </a:lnTo>
                    <a:lnTo>
                      <a:pt x="1258" y="358"/>
                    </a:lnTo>
                    <a:lnTo>
                      <a:pt x="1286" y="386"/>
                    </a:lnTo>
                    <a:lnTo>
                      <a:pt x="1312" y="403"/>
                    </a:lnTo>
                    <a:lnTo>
                      <a:pt x="1337" y="412"/>
                    </a:lnTo>
                    <a:lnTo>
                      <a:pt x="1366" y="423"/>
                    </a:lnTo>
                    <a:lnTo>
                      <a:pt x="1402" y="455"/>
                    </a:lnTo>
                    <a:lnTo>
                      <a:pt x="1422" y="486"/>
                    </a:lnTo>
                    <a:lnTo>
                      <a:pt x="1434" y="512"/>
                    </a:lnTo>
                    <a:lnTo>
                      <a:pt x="1436" y="541"/>
                    </a:lnTo>
                    <a:lnTo>
                      <a:pt x="1434" y="572"/>
                    </a:lnTo>
                    <a:lnTo>
                      <a:pt x="1436" y="592"/>
                    </a:lnTo>
                    <a:lnTo>
                      <a:pt x="1456" y="626"/>
                    </a:lnTo>
                    <a:lnTo>
                      <a:pt x="1490" y="661"/>
                    </a:lnTo>
                    <a:lnTo>
                      <a:pt x="1533" y="683"/>
                    </a:lnTo>
                    <a:lnTo>
                      <a:pt x="1567" y="703"/>
                    </a:lnTo>
                    <a:lnTo>
                      <a:pt x="1603" y="735"/>
                    </a:lnTo>
                    <a:lnTo>
                      <a:pt x="1635" y="761"/>
                    </a:lnTo>
                    <a:lnTo>
                      <a:pt x="1654" y="792"/>
                    </a:lnTo>
                    <a:lnTo>
                      <a:pt x="1663" y="815"/>
                    </a:lnTo>
                    <a:lnTo>
                      <a:pt x="1660" y="858"/>
                    </a:lnTo>
                    <a:lnTo>
                      <a:pt x="1657" y="903"/>
                    </a:lnTo>
                    <a:lnTo>
                      <a:pt x="1646" y="947"/>
                    </a:lnTo>
                    <a:lnTo>
                      <a:pt x="1629" y="990"/>
                    </a:lnTo>
                    <a:lnTo>
                      <a:pt x="1598" y="1039"/>
                    </a:lnTo>
                    <a:lnTo>
                      <a:pt x="1558" y="1082"/>
                    </a:lnTo>
                    <a:lnTo>
                      <a:pt x="1507" y="1122"/>
                    </a:lnTo>
                    <a:lnTo>
                      <a:pt x="1448" y="1153"/>
                    </a:lnTo>
                    <a:lnTo>
                      <a:pt x="1391" y="1167"/>
                    </a:lnTo>
                    <a:lnTo>
                      <a:pt x="1349" y="1176"/>
                    </a:lnTo>
                    <a:lnTo>
                      <a:pt x="1292" y="1173"/>
                    </a:lnTo>
                    <a:lnTo>
                      <a:pt x="1252" y="1167"/>
                    </a:lnTo>
                    <a:lnTo>
                      <a:pt x="1213" y="1170"/>
                    </a:lnTo>
                    <a:lnTo>
                      <a:pt x="1145" y="1187"/>
                    </a:lnTo>
                    <a:lnTo>
                      <a:pt x="1091" y="1205"/>
                    </a:lnTo>
                    <a:lnTo>
                      <a:pt x="1026" y="1222"/>
                    </a:lnTo>
                    <a:lnTo>
                      <a:pt x="969" y="1227"/>
                    </a:lnTo>
                    <a:close/>
                  </a:path>
                </a:pathLst>
              </a:custGeom>
              <a:solidFill>
                <a:srgbClr val="ff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5" name=""/>
              <p:cNvGrpSpPr/>
              <p:nvPr/>
            </p:nvGrpSpPr>
            <p:grpSpPr>
              <a:xfrm>
                <a:off x="1647720" y="6022800"/>
                <a:ext cx="562320" cy="394560"/>
                <a:chOff x="1647720" y="6022800"/>
                <a:chExt cx="562320" cy="394560"/>
              </a:xfrm>
            </p:grpSpPr>
            <p:grpSp>
              <p:nvGrpSpPr>
                <p:cNvPr id="1036" name=""/>
                <p:cNvGrpSpPr/>
                <p:nvPr/>
              </p:nvGrpSpPr>
              <p:grpSpPr>
                <a:xfrm>
                  <a:off x="2139840" y="6189840"/>
                  <a:ext cx="70200" cy="174960"/>
                  <a:chOff x="2139840" y="6189840"/>
                  <a:chExt cx="70200" cy="174960"/>
                </a:xfrm>
              </p:grpSpPr>
              <p:sp>
                <p:nvSpPr>
                  <p:cNvPr id="1037" name=""/>
                  <p:cNvSpPr/>
                  <p:nvPr/>
                </p:nvSpPr>
                <p:spPr>
                  <a:xfrm>
                    <a:off x="2139840" y="6189840"/>
                    <a:ext cx="70200" cy="1749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5" h="486">
                        <a:moveTo>
                          <a:pt x="174" y="486"/>
                        </a:moveTo>
                        <a:lnTo>
                          <a:pt x="180" y="471"/>
                        </a:lnTo>
                        <a:lnTo>
                          <a:pt x="189" y="451"/>
                        </a:lnTo>
                        <a:lnTo>
                          <a:pt x="192" y="434"/>
                        </a:lnTo>
                        <a:lnTo>
                          <a:pt x="195" y="411"/>
                        </a:lnTo>
                        <a:lnTo>
                          <a:pt x="195" y="394"/>
                        </a:lnTo>
                        <a:lnTo>
                          <a:pt x="189" y="371"/>
                        </a:lnTo>
                        <a:lnTo>
                          <a:pt x="180" y="346"/>
                        </a:lnTo>
                        <a:lnTo>
                          <a:pt x="163" y="326"/>
                        </a:lnTo>
                        <a:lnTo>
                          <a:pt x="145" y="312"/>
                        </a:lnTo>
                        <a:lnTo>
                          <a:pt x="125" y="292"/>
                        </a:lnTo>
                        <a:lnTo>
                          <a:pt x="125" y="274"/>
                        </a:lnTo>
                        <a:lnTo>
                          <a:pt x="125" y="249"/>
                        </a:lnTo>
                        <a:lnTo>
                          <a:pt x="119" y="225"/>
                        </a:lnTo>
                        <a:lnTo>
                          <a:pt x="111" y="196"/>
                        </a:lnTo>
                        <a:lnTo>
                          <a:pt x="89" y="159"/>
                        </a:lnTo>
                        <a:lnTo>
                          <a:pt x="75" y="136"/>
                        </a:lnTo>
                        <a:lnTo>
                          <a:pt x="63" y="122"/>
                        </a:lnTo>
                        <a:lnTo>
                          <a:pt x="40" y="102"/>
                        </a:lnTo>
                        <a:lnTo>
                          <a:pt x="14" y="85"/>
                        </a:lnTo>
                        <a:lnTo>
                          <a:pt x="2" y="77"/>
                        </a:lnTo>
                        <a:lnTo>
                          <a:pt x="0" y="65"/>
                        </a:lnTo>
                        <a:lnTo>
                          <a:pt x="0" y="57"/>
                        </a:lnTo>
                        <a:lnTo>
                          <a:pt x="14" y="22"/>
                        </a:lnTo>
                        <a:lnTo>
                          <a:pt x="31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2160720" y="6292800"/>
                    <a:ext cx="25920" cy="385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2" h="107">
                        <a:moveTo>
                          <a:pt x="0" y="107"/>
                        </a:moveTo>
                        <a:lnTo>
                          <a:pt x="0" y="69"/>
                        </a:lnTo>
                        <a:lnTo>
                          <a:pt x="3" y="41"/>
                        </a:lnTo>
                        <a:lnTo>
                          <a:pt x="26" y="14"/>
                        </a:lnTo>
                        <a:lnTo>
                          <a:pt x="72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9" name=""/>
                <p:cNvSpPr/>
                <p:nvPr/>
              </p:nvSpPr>
              <p:spPr>
                <a:xfrm>
                  <a:off x="2054160" y="6189840"/>
                  <a:ext cx="74880" cy="106560"/>
                </a:xfrm>
                <a:custGeom>
                  <a:avLst/>
                  <a:gdLst/>
                  <a:ahLst/>
                  <a:rect l="0" t="0" r="r" b="b"/>
                  <a:pathLst>
                    <a:path fill="none" w="208" h="296">
                      <a:moveTo>
                        <a:pt x="199" y="296"/>
                      </a:moveTo>
                      <a:lnTo>
                        <a:pt x="205" y="265"/>
                      </a:lnTo>
                      <a:lnTo>
                        <a:pt x="208" y="228"/>
                      </a:lnTo>
                      <a:lnTo>
                        <a:pt x="208" y="199"/>
                      </a:lnTo>
                      <a:lnTo>
                        <a:pt x="199" y="177"/>
                      </a:lnTo>
                      <a:lnTo>
                        <a:pt x="183" y="154"/>
                      </a:lnTo>
                      <a:lnTo>
                        <a:pt x="163" y="136"/>
                      </a:lnTo>
                      <a:lnTo>
                        <a:pt x="143" y="119"/>
                      </a:lnTo>
                      <a:lnTo>
                        <a:pt x="115" y="90"/>
                      </a:lnTo>
                      <a:lnTo>
                        <a:pt x="89" y="56"/>
                      </a:lnTo>
                      <a:lnTo>
                        <a:pt x="72" y="34"/>
                      </a:lnTo>
                      <a:lnTo>
                        <a:pt x="56" y="19"/>
                      </a:lnTo>
                      <a:lnTo>
                        <a:pt x="33" y="8"/>
                      </a:lnTo>
                      <a:lnTo>
                        <a:pt x="2" y="0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2033640" y="6332400"/>
                  <a:ext cx="71640" cy="2592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72">
                      <a:moveTo>
                        <a:pt x="199" y="33"/>
                      </a:moveTo>
                      <a:lnTo>
                        <a:pt x="168" y="49"/>
                      </a:lnTo>
                      <a:lnTo>
                        <a:pt x="145" y="61"/>
                      </a:lnTo>
                      <a:lnTo>
                        <a:pt x="108" y="72"/>
                      </a:lnTo>
                      <a:lnTo>
                        <a:pt x="79" y="67"/>
                      </a:lnTo>
                      <a:lnTo>
                        <a:pt x="51" y="56"/>
                      </a:lnTo>
                      <a:lnTo>
                        <a:pt x="25" y="33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2101680" y="6313320"/>
                  <a:ext cx="43200" cy="90720"/>
                </a:xfrm>
                <a:custGeom>
                  <a:avLst/>
                  <a:gdLst/>
                  <a:ahLst/>
                  <a:rect l="0" t="0" r="r" b="b"/>
                  <a:pathLst>
                    <a:path fill="none" w="120" h="252">
                      <a:moveTo>
                        <a:pt x="11" y="252"/>
                      </a:moveTo>
                      <a:lnTo>
                        <a:pt x="5" y="223"/>
                      </a:lnTo>
                      <a:lnTo>
                        <a:pt x="0" y="203"/>
                      </a:lnTo>
                      <a:lnTo>
                        <a:pt x="2" y="175"/>
                      </a:lnTo>
                      <a:lnTo>
                        <a:pt x="8" y="143"/>
                      </a:lnTo>
                      <a:lnTo>
                        <a:pt x="23" y="108"/>
                      </a:lnTo>
                      <a:lnTo>
                        <a:pt x="40" y="74"/>
                      </a:lnTo>
                      <a:lnTo>
                        <a:pt x="58" y="48"/>
                      </a:lnTo>
                      <a:lnTo>
                        <a:pt x="76" y="34"/>
                      </a:lnTo>
                      <a:lnTo>
                        <a:pt x="102" y="14"/>
                      </a:lnTo>
                      <a:lnTo>
                        <a:pt x="120" y="0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2025720" y="6381720"/>
                  <a:ext cx="65520" cy="27360"/>
                </a:xfrm>
                <a:custGeom>
                  <a:avLst/>
                  <a:gdLst/>
                  <a:ahLst/>
                  <a:rect l="0" t="0" r="r" b="b"/>
                  <a:pathLst>
                    <a:path fill="none" w="182" h="76">
                      <a:moveTo>
                        <a:pt x="182" y="0"/>
                      </a:moveTo>
                      <a:lnTo>
                        <a:pt x="138" y="20"/>
                      </a:lnTo>
                      <a:lnTo>
                        <a:pt x="98" y="37"/>
                      </a:lnTo>
                      <a:lnTo>
                        <a:pt x="56" y="56"/>
                      </a:lnTo>
                      <a:lnTo>
                        <a:pt x="0" y="76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1887480" y="6391440"/>
                  <a:ext cx="35280" cy="25920"/>
                </a:xfrm>
                <a:custGeom>
                  <a:avLst/>
                  <a:gdLst/>
                  <a:ahLst/>
                  <a:rect l="0" t="0" r="r" b="b"/>
                  <a:pathLst>
                    <a:path fill="none" w="98" h="72">
                      <a:moveTo>
                        <a:pt x="98" y="0"/>
                      </a:moveTo>
                      <a:lnTo>
                        <a:pt x="61" y="30"/>
                      </a:lnTo>
                      <a:lnTo>
                        <a:pt x="0" y="72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1795320" y="6332400"/>
                  <a:ext cx="219600" cy="52920"/>
                </a:xfrm>
                <a:custGeom>
                  <a:avLst/>
                  <a:gdLst/>
                  <a:ahLst/>
                  <a:rect l="0" t="0" r="r" b="b"/>
                  <a:pathLst>
                    <a:path fill="none" w="610" h="147">
                      <a:moveTo>
                        <a:pt x="610" y="93"/>
                      </a:moveTo>
                      <a:lnTo>
                        <a:pt x="587" y="93"/>
                      </a:lnTo>
                      <a:lnTo>
                        <a:pt x="568" y="96"/>
                      </a:lnTo>
                      <a:lnTo>
                        <a:pt x="553" y="98"/>
                      </a:lnTo>
                      <a:lnTo>
                        <a:pt x="536" y="111"/>
                      </a:lnTo>
                      <a:lnTo>
                        <a:pt x="525" y="127"/>
                      </a:lnTo>
                      <a:lnTo>
                        <a:pt x="517" y="147"/>
                      </a:lnTo>
                      <a:lnTo>
                        <a:pt x="517" y="122"/>
                      </a:lnTo>
                      <a:lnTo>
                        <a:pt x="511" y="107"/>
                      </a:lnTo>
                      <a:lnTo>
                        <a:pt x="500" y="93"/>
                      </a:lnTo>
                      <a:lnTo>
                        <a:pt x="483" y="82"/>
                      </a:lnTo>
                      <a:lnTo>
                        <a:pt x="460" y="73"/>
                      </a:lnTo>
                      <a:lnTo>
                        <a:pt x="422" y="62"/>
                      </a:lnTo>
                      <a:lnTo>
                        <a:pt x="385" y="56"/>
                      </a:lnTo>
                      <a:lnTo>
                        <a:pt x="351" y="51"/>
                      </a:lnTo>
                      <a:lnTo>
                        <a:pt x="323" y="48"/>
                      </a:lnTo>
                      <a:lnTo>
                        <a:pt x="289" y="54"/>
                      </a:lnTo>
                      <a:lnTo>
                        <a:pt x="261" y="59"/>
                      </a:lnTo>
                      <a:lnTo>
                        <a:pt x="235" y="68"/>
                      </a:lnTo>
                      <a:lnTo>
                        <a:pt x="216" y="84"/>
                      </a:lnTo>
                      <a:lnTo>
                        <a:pt x="213" y="68"/>
                      </a:lnTo>
                      <a:lnTo>
                        <a:pt x="204" y="51"/>
                      </a:lnTo>
                      <a:lnTo>
                        <a:pt x="196" y="33"/>
                      </a:lnTo>
                      <a:lnTo>
                        <a:pt x="173" y="16"/>
                      </a:lnTo>
                      <a:lnTo>
                        <a:pt x="147" y="8"/>
                      </a:lnTo>
                      <a:lnTo>
                        <a:pt x="124" y="2"/>
                      </a:lnTo>
                      <a:lnTo>
                        <a:pt x="107" y="2"/>
                      </a:lnTo>
                      <a:lnTo>
                        <a:pt x="82" y="0"/>
                      </a:lnTo>
                      <a:lnTo>
                        <a:pt x="62" y="2"/>
                      </a:lnTo>
                      <a:lnTo>
                        <a:pt x="45" y="8"/>
                      </a:lnTo>
                      <a:lnTo>
                        <a:pt x="31" y="22"/>
                      </a:lnTo>
                      <a:lnTo>
                        <a:pt x="19" y="40"/>
                      </a:lnTo>
                      <a:lnTo>
                        <a:pt x="0" y="68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1833480" y="6221520"/>
                  <a:ext cx="221040" cy="101880"/>
                </a:xfrm>
                <a:custGeom>
                  <a:avLst/>
                  <a:gdLst/>
                  <a:ahLst/>
                  <a:rect l="0" t="0" r="r" b="b"/>
                  <a:pathLst>
                    <a:path fill="none" w="614" h="283">
                      <a:moveTo>
                        <a:pt x="614" y="249"/>
                      </a:moveTo>
                      <a:lnTo>
                        <a:pt x="586" y="260"/>
                      </a:lnTo>
                      <a:lnTo>
                        <a:pt x="555" y="268"/>
                      </a:lnTo>
                      <a:lnTo>
                        <a:pt x="527" y="277"/>
                      </a:lnTo>
                      <a:lnTo>
                        <a:pt x="501" y="280"/>
                      </a:lnTo>
                      <a:lnTo>
                        <a:pt x="470" y="283"/>
                      </a:lnTo>
                      <a:lnTo>
                        <a:pt x="452" y="283"/>
                      </a:lnTo>
                      <a:lnTo>
                        <a:pt x="427" y="277"/>
                      </a:lnTo>
                      <a:lnTo>
                        <a:pt x="373" y="263"/>
                      </a:lnTo>
                      <a:lnTo>
                        <a:pt x="320" y="243"/>
                      </a:lnTo>
                      <a:lnTo>
                        <a:pt x="272" y="223"/>
                      </a:lnTo>
                      <a:lnTo>
                        <a:pt x="218" y="203"/>
                      </a:lnTo>
                      <a:lnTo>
                        <a:pt x="181" y="180"/>
                      </a:lnTo>
                      <a:lnTo>
                        <a:pt x="146" y="160"/>
                      </a:lnTo>
                      <a:lnTo>
                        <a:pt x="115" y="136"/>
                      </a:lnTo>
                      <a:lnTo>
                        <a:pt x="84" y="108"/>
                      </a:lnTo>
                      <a:lnTo>
                        <a:pt x="56" y="79"/>
                      </a:lnTo>
                      <a:lnTo>
                        <a:pt x="33" y="54"/>
                      </a:lnTo>
                      <a:lnTo>
                        <a:pt x="16" y="25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0760" bIns="50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1825560" y="6273720"/>
                  <a:ext cx="54360" cy="25920"/>
                </a:xfrm>
                <a:custGeom>
                  <a:avLst/>
                  <a:gdLst/>
                  <a:ahLst/>
                  <a:rect l="0" t="0" r="r" b="b"/>
                  <a:pathLst>
                    <a:path fill="none" w="151" h="72">
                      <a:moveTo>
                        <a:pt x="151" y="36"/>
                      </a:moveTo>
                      <a:lnTo>
                        <a:pt x="132" y="20"/>
                      </a:lnTo>
                      <a:lnTo>
                        <a:pt x="105" y="3"/>
                      </a:lnTo>
                      <a:lnTo>
                        <a:pt x="83" y="0"/>
                      </a:lnTo>
                      <a:lnTo>
                        <a:pt x="60" y="7"/>
                      </a:lnTo>
                      <a:lnTo>
                        <a:pt x="33" y="20"/>
                      </a:lnTo>
                      <a:lnTo>
                        <a:pt x="16" y="44"/>
                      </a:lnTo>
                      <a:lnTo>
                        <a:pt x="0" y="72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1749600" y="6221520"/>
                  <a:ext cx="43200" cy="105120"/>
                </a:xfrm>
                <a:custGeom>
                  <a:avLst/>
                  <a:gdLst/>
                  <a:ahLst/>
                  <a:rect l="0" t="0" r="r" b="b"/>
                  <a:pathLst>
                    <a:path fill="none" w="120" h="292">
                      <a:moveTo>
                        <a:pt x="0" y="292"/>
                      </a:moveTo>
                      <a:lnTo>
                        <a:pt x="19" y="269"/>
                      </a:lnTo>
                      <a:lnTo>
                        <a:pt x="42" y="249"/>
                      </a:lnTo>
                      <a:lnTo>
                        <a:pt x="63" y="240"/>
                      </a:lnTo>
                      <a:lnTo>
                        <a:pt x="74" y="240"/>
                      </a:lnTo>
                      <a:lnTo>
                        <a:pt x="88" y="243"/>
                      </a:lnTo>
                      <a:lnTo>
                        <a:pt x="105" y="249"/>
                      </a:lnTo>
                      <a:lnTo>
                        <a:pt x="117" y="263"/>
                      </a:lnTo>
                      <a:lnTo>
                        <a:pt x="103" y="237"/>
                      </a:lnTo>
                      <a:lnTo>
                        <a:pt x="94" y="220"/>
                      </a:lnTo>
                      <a:lnTo>
                        <a:pt x="91" y="206"/>
                      </a:lnTo>
                      <a:lnTo>
                        <a:pt x="88" y="195"/>
                      </a:lnTo>
                      <a:lnTo>
                        <a:pt x="97" y="183"/>
                      </a:lnTo>
                      <a:lnTo>
                        <a:pt x="103" y="166"/>
                      </a:lnTo>
                      <a:lnTo>
                        <a:pt x="114" y="139"/>
                      </a:lnTo>
                      <a:lnTo>
                        <a:pt x="120" y="114"/>
                      </a:lnTo>
                      <a:lnTo>
                        <a:pt x="120" y="85"/>
                      </a:lnTo>
                      <a:lnTo>
                        <a:pt x="117" y="68"/>
                      </a:lnTo>
                      <a:lnTo>
                        <a:pt x="111" y="48"/>
                      </a:lnTo>
                      <a:lnTo>
                        <a:pt x="97" y="28"/>
                      </a:lnTo>
                      <a:lnTo>
                        <a:pt x="80" y="0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1647720" y="6162840"/>
                  <a:ext cx="108360" cy="124200"/>
                </a:xfrm>
                <a:custGeom>
                  <a:avLst/>
                  <a:gdLst/>
                  <a:ahLst/>
                  <a:rect l="0" t="0" r="r" b="b"/>
                  <a:pathLst>
                    <a:path fill="none" w="301" h="345">
                      <a:moveTo>
                        <a:pt x="196" y="345"/>
                      </a:moveTo>
                      <a:lnTo>
                        <a:pt x="207" y="328"/>
                      </a:lnTo>
                      <a:lnTo>
                        <a:pt x="224" y="314"/>
                      </a:lnTo>
                      <a:lnTo>
                        <a:pt x="242" y="302"/>
                      </a:lnTo>
                      <a:lnTo>
                        <a:pt x="270" y="294"/>
                      </a:lnTo>
                      <a:lnTo>
                        <a:pt x="301" y="282"/>
                      </a:lnTo>
                      <a:lnTo>
                        <a:pt x="282" y="271"/>
                      </a:lnTo>
                      <a:lnTo>
                        <a:pt x="262" y="258"/>
                      </a:lnTo>
                      <a:lnTo>
                        <a:pt x="245" y="247"/>
                      </a:lnTo>
                      <a:lnTo>
                        <a:pt x="231" y="238"/>
                      </a:lnTo>
                      <a:lnTo>
                        <a:pt x="224" y="227"/>
                      </a:lnTo>
                      <a:lnTo>
                        <a:pt x="218" y="207"/>
                      </a:lnTo>
                      <a:lnTo>
                        <a:pt x="215" y="193"/>
                      </a:lnTo>
                      <a:lnTo>
                        <a:pt x="215" y="172"/>
                      </a:lnTo>
                      <a:lnTo>
                        <a:pt x="221" y="144"/>
                      </a:lnTo>
                      <a:lnTo>
                        <a:pt x="242" y="95"/>
                      </a:lnTo>
                      <a:lnTo>
                        <a:pt x="221" y="104"/>
                      </a:lnTo>
                      <a:lnTo>
                        <a:pt x="201" y="112"/>
                      </a:lnTo>
                      <a:lnTo>
                        <a:pt x="184" y="121"/>
                      </a:lnTo>
                      <a:lnTo>
                        <a:pt x="159" y="124"/>
                      </a:lnTo>
                      <a:lnTo>
                        <a:pt x="139" y="121"/>
                      </a:lnTo>
                      <a:lnTo>
                        <a:pt x="116" y="115"/>
                      </a:lnTo>
                      <a:lnTo>
                        <a:pt x="91" y="104"/>
                      </a:lnTo>
                      <a:lnTo>
                        <a:pt x="67" y="89"/>
                      </a:lnTo>
                      <a:lnTo>
                        <a:pt x="53" y="77"/>
                      </a:lnTo>
                      <a:lnTo>
                        <a:pt x="36" y="60"/>
                      </a:lnTo>
                      <a:lnTo>
                        <a:pt x="25" y="40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1744560" y="6146640"/>
                  <a:ext cx="36720" cy="78120"/>
                </a:xfrm>
                <a:custGeom>
                  <a:avLst/>
                  <a:gdLst/>
                  <a:ahLst/>
                  <a:rect l="0" t="0" r="r" b="b"/>
                  <a:pathLst>
                    <a:path fill="none" w="102" h="217">
                      <a:moveTo>
                        <a:pt x="58" y="217"/>
                      </a:moveTo>
                      <a:lnTo>
                        <a:pt x="76" y="194"/>
                      </a:lnTo>
                      <a:lnTo>
                        <a:pt x="90" y="176"/>
                      </a:lnTo>
                      <a:lnTo>
                        <a:pt x="99" y="159"/>
                      </a:lnTo>
                      <a:lnTo>
                        <a:pt x="102" y="133"/>
                      </a:lnTo>
                      <a:lnTo>
                        <a:pt x="102" y="100"/>
                      </a:lnTo>
                      <a:lnTo>
                        <a:pt x="102" y="60"/>
                      </a:lnTo>
                      <a:lnTo>
                        <a:pt x="96" y="43"/>
                      </a:lnTo>
                      <a:lnTo>
                        <a:pt x="90" y="31"/>
                      </a:lnTo>
                      <a:lnTo>
                        <a:pt x="82" y="25"/>
                      </a:lnTo>
                      <a:lnTo>
                        <a:pt x="46" y="11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1663560" y="6119640"/>
                  <a:ext cx="79560" cy="25920"/>
                </a:xfrm>
                <a:custGeom>
                  <a:avLst/>
                  <a:gdLst/>
                  <a:ahLst/>
                  <a:rect l="0" t="0" r="r" b="b"/>
                  <a:pathLst>
                    <a:path fill="none" w="221" h="72">
                      <a:moveTo>
                        <a:pt x="221" y="72"/>
                      </a:moveTo>
                      <a:lnTo>
                        <a:pt x="201" y="49"/>
                      </a:lnTo>
                      <a:lnTo>
                        <a:pt x="181" y="30"/>
                      </a:lnTo>
                      <a:lnTo>
                        <a:pt x="158" y="14"/>
                      </a:lnTo>
                      <a:lnTo>
                        <a:pt x="129" y="0"/>
                      </a:lnTo>
                      <a:lnTo>
                        <a:pt x="103" y="0"/>
                      </a:lnTo>
                      <a:lnTo>
                        <a:pt x="74" y="3"/>
                      </a:lnTo>
                      <a:lnTo>
                        <a:pt x="48" y="19"/>
                      </a:lnTo>
                      <a:lnTo>
                        <a:pt x="20" y="41"/>
                      </a:lnTo>
                      <a:lnTo>
                        <a:pt x="0" y="61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1665360" y="6022800"/>
                  <a:ext cx="106560" cy="81360"/>
                </a:xfrm>
                <a:custGeom>
                  <a:avLst/>
                  <a:gdLst/>
                  <a:ahLst/>
                  <a:rect l="0" t="0" r="r" b="b"/>
                  <a:pathLst>
                    <a:path fill="none" w="296" h="226">
                      <a:moveTo>
                        <a:pt x="0" y="178"/>
                      </a:moveTo>
                      <a:lnTo>
                        <a:pt x="17" y="160"/>
                      </a:lnTo>
                      <a:lnTo>
                        <a:pt x="36" y="146"/>
                      </a:lnTo>
                      <a:lnTo>
                        <a:pt x="65" y="134"/>
                      </a:lnTo>
                      <a:lnTo>
                        <a:pt x="79" y="134"/>
                      </a:lnTo>
                      <a:lnTo>
                        <a:pt x="102" y="134"/>
                      </a:lnTo>
                      <a:lnTo>
                        <a:pt x="127" y="149"/>
                      </a:lnTo>
                      <a:lnTo>
                        <a:pt x="160" y="166"/>
                      </a:lnTo>
                      <a:lnTo>
                        <a:pt x="194" y="187"/>
                      </a:lnTo>
                      <a:lnTo>
                        <a:pt x="222" y="204"/>
                      </a:lnTo>
                      <a:lnTo>
                        <a:pt x="248" y="218"/>
                      </a:lnTo>
                      <a:lnTo>
                        <a:pt x="279" y="226"/>
                      </a:lnTo>
                      <a:lnTo>
                        <a:pt x="296" y="226"/>
                      </a:lnTo>
                      <a:lnTo>
                        <a:pt x="279" y="215"/>
                      </a:lnTo>
                      <a:lnTo>
                        <a:pt x="268" y="198"/>
                      </a:lnTo>
                      <a:lnTo>
                        <a:pt x="256" y="184"/>
                      </a:lnTo>
                      <a:lnTo>
                        <a:pt x="242" y="157"/>
                      </a:lnTo>
                      <a:lnTo>
                        <a:pt x="233" y="134"/>
                      </a:lnTo>
                      <a:lnTo>
                        <a:pt x="222" y="103"/>
                      </a:lnTo>
                      <a:lnTo>
                        <a:pt x="214" y="75"/>
                      </a:lnTo>
                      <a:lnTo>
                        <a:pt x="208" y="39"/>
                      </a:lnTo>
                      <a:lnTo>
                        <a:pt x="205" y="0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1782720" y="6049800"/>
                  <a:ext cx="33840" cy="147960"/>
                </a:xfrm>
                <a:custGeom>
                  <a:avLst/>
                  <a:gdLst/>
                  <a:ahLst/>
                  <a:rect l="0" t="0" r="r" b="b"/>
                  <a:pathLst>
                    <a:path fill="none" w="94" h="411">
                      <a:moveTo>
                        <a:pt x="25" y="411"/>
                      </a:moveTo>
                      <a:lnTo>
                        <a:pt x="41" y="411"/>
                      </a:lnTo>
                      <a:lnTo>
                        <a:pt x="63" y="402"/>
                      </a:lnTo>
                      <a:lnTo>
                        <a:pt x="80" y="394"/>
                      </a:lnTo>
                      <a:lnTo>
                        <a:pt x="86" y="385"/>
                      </a:lnTo>
                      <a:lnTo>
                        <a:pt x="91" y="374"/>
                      </a:lnTo>
                      <a:lnTo>
                        <a:pt x="94" y="354"/>
                      </a:lnTo>
                      <a:lnTo>
                        <a:pt x="94" y="328"/>
                      </a:lnTo>
                      <a:lnTo>
                        <a:pt x="94" y="297"/>
                      </a:lnTo>
                      <a:lnTo>
                        <a:pt x="89" y="268"/>
                      </a:lnTo>
                      <a:lnTo>
                        <a:pt x="80" y="243"/>
                      </a:lnTo>
                      <a:lnTo>
                        <a:pt x="72" y="217"/>
                      </a:lnTo>
                      <a:lnTo>
                        <a:pt x="58" y="190"/>
                      </a:lnTo>
                      <a:lnTo>
                        <a:pt x="44" y="170"/>
                      </a:lnTo>
                      <a:lnTo>
                        <a:pt x="25" y="148"/>
                      </a:lnTo>
                      <a:lnTo>
                        <a:pt x="21" y="111"/>
                      </a:lnTo>
                      <a:lnTo>
                        <a:pt x="19" y="79"/>
                      </a:lnTo>
                      <a:lnTo>
                        <a:pt x="8" y="37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3" name=""/>
            <p:cNvGrpSpPr/>
            <p:nvPr/>
          </p:nvGrpSpPr>
          <p:grpSpPr>
            <a:xfrm>
              <a:off x="1600200" y="5902200"/>
              <a:ext cx="598680" cy="444960"/>
              <a:chOff x="1600200" y="5902200"/>
              <a:chExt cx="598680" cy="444960"/>
            </a:xfrm>
          </p:grpSpPr>
          <p:sp>
            <p:nvSpPr>
              <p:cNvPr id="1054" name=""/>
              <p:cNvSpPr/>
              <p:nvPr/>
            </p:nvSpPr>
            <p:spPr>
              <a:xfrm>
                <a:off x="1600200" y="5902200"/>
                <a:ext cx="598680" cy="444960"/>
              </a:xfrm>
              <a:custGeom>
                <a:avLst/>
                <a:gdLst/>
                <a:ahLst/>
                <a:rect l="0" t="0" r="r" b="b"/>
                <a:pathLst>
                  <a:path w="1663" h="1236">
                    <a:moveTo>
                      <a:pt x="969" y="1233"/>
                    </a:moveTo>
                    <a:lnTo>
                      <a:pt x="910" y="1236"/>
                    </a:lnTo>
                    <a:lnTo>
                      <a:pt x="856" y="1230"/>
                    </a:lnTo>
                    <a:lnTo>
                      <a:pt x="790" y="1219"/>
                    </a:lnTo>
                    <a:lnTo>
                      <a:pt x="716" y="1205"/>
                    </a:lnTo>
                    <a:lnTo>
                      <a:pt x="657" y="1187"/>
                    </a:lnTo>
                    <a:lnTo>
                      <a:pt x="591" y="1162"/>
                    </a:lnTo>
                    <a:lnTo>
                      <a:pt x="506" y="1116"/>
                    </a:lnTo>
                    <a:lnTo>
                      <a:pt x="404" y="1058"/>
                    </a:lnTo>
                    <a:lnTo>
                      <a:pt x="325" y="1001"/>
                    </a:lnTo>
                    <a:lnTo>
                      <a:pt x="260" y="943"/>
                    </a:lnTo>
                    <a:lnTo>
                      <a:pt x="229" y="908"/>
                    </a:lnTo>
                    <a:lnTo>
                      <a:pt x="201" y="873"/>
                    </a:lnTo>
                    <a:lnTo>
                      <a:pt x="169" y="819"/>
                    </a:lnTo>
                    <a:lnTo>
                      <a:pt x="158" y="790"/>
                    </a:lnTo>
                    <a:lnTo>
                      <a:pt x="141" y="764"/>
                    </a:lnTo>
                    <a:lnTo>
                      <a:pt x="107" y="738"/>
                    </a:lnTo>
                    <a:lnTo>
                      <a:pt x="73" y="710"/>
                    </a:lnTo>
                    <a:lnTo>
                      <a:pt x="42" y="678"/>
                    </a:lnTo>
                    <a:lnTo>
                      <a:pt x="19" y="641"/>
                    </a:lnTo>
                    <a:lnTo>
                      <a:pt x="11" y="612"/>
                    </a:lnTo>
                    <a:lnTo>
                      <a:pt x="2" y="560"/>
                    </a:lnTo>
                    <a:lnTo>
                      <a:pt x="0" y="480"/>
                    </a:lnTo>
                    <a:lnTo>
                      <a:pt x="2" y="397"/>
                    </a:lnTo>
                    <a:lnTo>
                      <a:pt x="8" y="325"/>
                    </a:lnTo>
                    <a:lnTo>
                      <a:pt x="8" y="281"/>
                    </a:lnTo>
                    <a:lnTo>
                      <a:pt x="22" y="238"/>
                    </a:lnTo>
                    <a:lnTo>
                      <a:pt x="45" y="195"/>
                    </a:lnTo>
                    <a:lnTo>
                      <a:pt x="70" y="143"/>
                    </a:lnTo>
                    <a:lnTo>
                      <a:pt x="99" y="91"/>
                    </a:lnTo>
                    <a:lnTo>
                      <a:pt x="124" y="54"/>
                    </a:lnTo>
                    <a:lnTo>
                      <a:pt x="152" y="25"/>
                    </a:lnTo>
                    <a:lnTo>
                      <a:pt x="175" y="11"/>
                    </a:lnTo>
                    <a:lnTo>
                      <a:pt x="206" y="2"/>
                    </a:lnTo>
                    <a:lnTo>
                      <a:pt x="226" y="0"/>
                    </a:lnTo>
                    <a:lnTo>
                      <a:pt x="260" y="2"/>
                    </a:lnTo>
                    <a:lnTo>
                      <a:pt x="331" y="20"/>
                    </a:lnTo>
                    <a:lnTo>
                      <a:pt x="407" y="37"/>
                    </a:lnTo>
                    <a:lnTo>
                      <a:pt x="487" y="43"/>
                    </a:lnTo>
                    <a:lnTo>
                      <a:pt x="657" y="68"/>
                    </a:lnTo>
                    <a:lnTo>
                      <a:pt x="753" y="89"/>
                    </a:lnTo>
                    <a:lnTo>
                      <a:pt x="904" y="126"/>
                    </a:lnTo>
                    <a:lnTo>
                      <a:pt x="1012" y="175"/>
                    </a:lnTo>
                    <a:lnTo>
                      <a:pt x="1133" y="232"/>
                    </a:lnTo>
                    <a:lnTo>
                      <a:pt x="1210" y="295"/>
                    </a:lnTo>
                    <a:lnTo>
                      <a:pt x="1235" y="331"/>
                    </a:lnTo>
                    <a:lnTo>
                      <a:pt x="1258" y="362"/>
                    </a:lnTo>
                    <a:lnTo>
                      <a:pt x="1283" y="388"/>
                    </a:lnTo>
                    <a:lnTo>
                      <a:pt x="1312" y="405"/>
                    </a:lnTo>
                    <a:lnTo>
                      <a:pt x="1337" y="414"/>
                    </a:lnTo>
                    <a:lnTo>
                      <a:pt x="1363" y="425"/>
                    </a:lnTo>
                    <a:lnTo>
                      <a:pt x="1400" y="460"/>
                    </a:lnTo>
                    <a:lnTo>
                      <a:pt x="1422" y="492"/>
                    </a:lnTo>
                    <a:lnTo>
                      <a:pt x="1434" y="517"/>
                    </a:lnTo>
                    <a:lnTo>
                      <a:pt x="1434" y="546"/>
                    </a:lnTo>
                    <a:lnTo>
                      <a:pt x="1434" y="575"/>
                    </a:lnTo>
                    <a:lnTo>
                      <a:pt x="1436" y="598"/>
                    </a:lnTo>
                    <a:lnTo>
                      <a:pt x="1456" y="629"/>
                    </a:lnTo>
                    <a:lnTo>
                      <a:pt x="1490" y="664"/>
                    </a:lnTo>
                    <a:lnTo>
                      <a:pt x="1533" y="690"/>
                    </a:lnTo>
                    <a:lnTo>
                      <a:pt x="1567" y="707"/>
                    </a:lnTo>
                    <a:lnTo>
                      <a:pt x="1603" y="738"/>
                    </a:lnTo>
                    <a:lnTo>
                      <a:pt x="1632" y="767"/>
                    </a:lnTo>
                    <a:lnTo>
                      <a:pt x="1654" y="796"/>
                    </a:lnTo>
                    <a:lnTo>
                      <a:pt x="1663" y="822"/>
                    </a:lnTo>
                    <a:lnTo>
                      <a:pt x="1660" y="862"/>
                    </a:lnTo>
                    <a:lnTo>
                      <a:pt x="1654" y="908"/>
                    </a:lnTo>
                    <a:lnTo>
                      <a:pt x="1646" y="952"/>
                    </a:lnTo>
                    <a:lnTo>
                      <a:pt x="1629" y="995"/>
                    </a:lnTo>
                    <a:lnTo>
                      <a:pt x="1598" y="1044"/>
                    </a:lnTo>
                    <a:lnTo>
                      <a:pt x="1558" y="1087"/>
                    </a:lnTo>
                    <a:lnTo>
                      <a:pt x="1504" y="1127"/>
                    </a:lnTo>
                    <a:lnTo>
                      <a:pt x="1445" y="1159"/>
                    </a:lnTo>
                    <a:lnTo>
                      <a:pt x="1391" y="1173"/>
                    </a:lnTo>
                    <a:lnTo>
                      <a:pt x="1346" y="1182"/>
                    </a:lnTo>
                    <a:lnTo>
                      <a:pt x="1289" y="1182"/>
                    </a:lnTo>
                    <a:lnTo>
                      <a:pt x="1252" y="1173"/>
                    </a:lnTo>
                    <a:lnTo>
                      <a:pt x="1213" y="1176"/>
                    </a:lnTo>
                    <a:lnTo>
                      <a:pt x="1145" y="1193"/>
                    </a:lnTo>
                    <a:lnTo>
                      <a:pt x="1091" y="1213"/>
                    </a:lnTo>
                    <a:lnTo>
                      <a:pt x="1026" y="1228"/>
                    </a:lnTo>
                    <a:lnTo>
                      <a:pt x="969" y="1233"/>
                    </a:lnTo>
                    <a:close/>
                  </a:path>
                </a:pathLst>
              </a:custGeom>
              <a:solidFill>
                <a:srgbClr val="ff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"/>
              <p:cNvGrpSpPr/>
              <p:nvPr/>
            </p:nvGrpSpPr>
            <p:grpSpPr>
              <a:xfrm>
                <a:off x="1609560" y="5940360"/>
                <a:ext cx="560880" cy="394200"/>
                <a:chOff x="1609560" y="5940360"/>
                <a:chExt cx="560880" cy="394200"/>
              </a:xfrm>
            </p:grpSpPr>
            <p:grpSp>
              <p:nvGrpSpPr>
                <p:cNvPr id="1056" name=""/>
                <p:cNvGrpSpPr/>
                <p:nvPr/>
              </p:nvGrpSpPr>
              <p:grpSpPr>
                <a:xfrm>
                  <a:off x="2100240" y="6105600"/>
                  <a:ext cx="70200" cy="176400"/>
                  <a:chOff x="2100240" y="6105600"/>
                  <a:chExt cx="70200" cy="176400"/>
                </a:xfrm>
              </p:grpSpPr>
              <p:sp>
                <p:nvSpPr>
                  <p:cNvPr id="1057" name=""/>
                  <p:cNvSpPr/>
                  <p:nvPr/>
                </p:nvSpPr>
                <p:spPr>
                  <a:xfrm>
                    <a:off x="2100240" y="6105600"/>
                    <a:ext cx="70200" cy="1764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5" h="490">
                        <a:moveTo>
                          <a:pt x="175" y="490"/>
                        </a:moveTo>
                        <a:lnTo>
                          <a:pt x="180" y="473"/>
                        </a:lnTo>
                        <a:lnTo>
                          <a:pt x="189" y="453"/>
                        </a:lnTo>
                        <a:lnTo>
                          <a:pt x="195" y="436"/>
                        </a:lnTo>
                        <a:lnTo>
                          <a:pt x="195" y="413"/>
                        </a:lnTo>
                        <a:lnTo>
                          <a:pt x="195" y="396"/>
                        </a:lnTo>
                        <a:lnTo>
                          <a:pt x="189" y="373"/>
                        </a:lnTo>
                        <a:lnTo>
                          <a:pt x="180" y="347"/>
                        </a:lnTo>
                        <a:lnTo>
                          <a:pt x="163" y="327"/>
                        </a:lnTo>
                        <a:lnTo>
                          <a:pt x="146" y="313"/>
                        </a:lnTo>
                        <a:lnTo>
                          <a:pt x="126" y="292"/>
                        </a:lnTo>
                        <a:lnTo>
                          <a:pt x="126" y="275"/>
                        </a:lnTo>
                        <a:lnTo>
                          <a:pt x="126" y="250"/>
                        </a:lnTo>
                        <a:lnTo>
                          <a:pt x="120" y="226"/>
                        </a:lnTo>
                        <a:lnTo>
                          <a:pt x="112" y="194"/>
                        </a:lnTo>
                        <a:lnTo>
                          <a:pt x="91" y="160"/>
                        </a:lnTo>
                        <a:lnTo>
                          <a:pt x="77" y="137"/>
                        </a:lnTo>
                        <a:lnTo>
                          <a:pt x="62" y="123"/>
                        </a:lnTo>
                        <a:lnTo>
                          <a:pt x="39" y="103"/>
                        </a:lnTo>
                        <a:lnTo>
                          <a:pt x="14" y="85"/>
                        </a:lnTo>
                        <a:lnTo>
                          <a:pt x="5" y="77"/>
                        </a:lnTo>
                        <a:lnTo>
                          <a:pt x="0" y="65"/>
                        </a:lnTo>
                        <a:lnTo>
                          <a:pt x="0" y="54"/>
                        </a:lnTo>
                        <a:lnTo>
                          <a:pt x="17" y="22"/>
                        </a:lnTo>
                        <a:lnTo>
                          <a:pt x="31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122560" y="6210360"/>
                    <a:ext cx="25920" cy="385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2" h="107">
                        <a:moveTo>
                          <a:pt x="0" y="107"/>
                        </a:moveTo>
                        <a:lnTo>
                          <a:pt x="0" y="69"/>
                        </a:lnTo>
                        <a:lnTo>
                          <a:pt x="3" y="41"/>
                        </a:lnTo>
                        <a:lnTo>
                          <a:pt x="26" y="14"/>
                        </a:lnTo>
                        <a:lnTo>
                          <a:pt x="72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9" name=""/>
                <p:cNvSpPr/>
                <p:nvPr/>
              </p:nvSpPr>
              <p:spPr>
                <a:xfrm>
                  <a:off x="2014560" y="6108840"/>
                  <a:ext cx="74880" cy="106560"/>
                </a:xfrm>
                <a:custGeom>
                  <a:avLst/>
                  <a:gdLst/>
                  <a:ahLst/>
                  <a:rect l="0" t="0" r="r" b="b"/>
                  <a:pathLst>
                    <a:path fill="none" w="208" h="296">
                      <a:moveTo>
                        <a:pt x="199" y="296"/>
                      </a:moveTo>
                      <a:lnTo>
                        <a:pt x="205" y="264"/>
                      </a:lnTo>
                      <a:lnTo>
                        <a:pt x="208" y="227"/>
                      </a:lnTo>
                      <a:lnTo>
                        <a:pt x="208" y="198"/>
                      </a:lnTo>
                      <a:lnTo>
                        <a:pt x="199" y="178"/>
                      </a:lnTo>
                      <a:lnTo>
                        <a:pt x="180" y="153"/>
                      </a:lnTo>
                      <a:lnTo>
                        <a:pt x="163" y="137"/>
                      </a:lnTo>
                      <a:lnTo>
                        <a:pt x="143" y="117"/>
                      </a:lnTo>
                      <a:lnTo>
                        <a:pt x="115" y="88"/>
                      </a:lnTo>
                      <a:lnTo>
                        <a:pt x="89" y="57"/>
                      </a:lnTo>
                      <a:lnTo>
                        <a:pt x="72" y="34"/>
                      </a:lnTo>
                      <a:lnTo>
                        <a:pt x="56" y="20"/>
                      </a:lnTo>
                      <a:lnTo>
                        <a:pt x="33" y="8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1994040" y="6249960"/>
                  <a:ext cx="71640" cy="2592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72">
                      <a:moveTo>
                        <a:pt x="199" y="30"/>
                      </a:moveTo>
                      <a:lnTo>
                        <a:pt x="168" y="48"/>
                      </a:lnTo>
                      <a:lnTo>
                        <a:pt x="146" y="60"/>
                      </a:lnTo>
                      <a:lnTo>
                        <a:pt x="110" y="72"/>
                      </a:lnTo>
                      <a:lnTo>
                        <a:pt x="81" y="66"/>
                      </a:lnTo>
                      <a:lnTo>
                        <a:pt x="50" y="53"/>
                      </a:lnTo>
                      <a:lnTo>
                        <a:pt x="25" y="30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2063880" y="6227640"/>
                  <a:ext cx="41760" cy="92520"/>
                </a:xfrm>
                <a:custGeom>
                  <a:avLst/>
                  <a:gdLst/>
                  <a:ahLst/>
                  <a:rect l="0" t="0" r="r" b="b"/>
                  <a:pathLst>
                    <a:path fill="none" w="116" h="257">
                      <a:moveTo>
                        <a:pt x="8" y="257"/>
                      </a:moveTo>
                      <a:lnTo>
                        <a:pt x="2" y="231"/>
                      </a:lnTo>
                      <a:lnTo>
                        <a:pt x="0" y="208"/>
                      </a:lnTo>
                      <a:lnTo>
                        <a:pt x="0" y="178"/>
                      </a:lnTo>
                      <a:lnTo>
                        <a:pt x="5" y="146"/>
                      </a:lnTo>
                      <a:lnTo>
                        <a:pt x="22" y="111"/>
                      </a:lnTo>
                      <a:lnTo>
                        <a:pt x="38" y="76"/>
                      </a:lnTo>
                      <a:lnTo>
                        <a:pt x="55" y="52"/>
                      </a:lnTo>
                      <a:lnTo>
                        <a:pt x="72" y="34"/>
                      </a:lnTo>
                      <a:lnTo>
                        <a:pt x="99" y="14"/>
                      </a:lnTo>
                      <a:lnTo>
                        <a:pt x="116" y="0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1986120" y="6299280"/>
                  <a:ext cx="65520" cy="27360"/>
                </a:xfrm>
                <a:custGeom>
                  <a:avLst/>
                  <a:gdLst/>
                  <a:ahLst/>
                  <a:rect l="0" t="0" r="r" b="b"/>
                  <a:pathLst>
                    <a:path fill="none" w="182" h="76">
                      <a:moveTo>
                        <a:pt x="182" y="0"/>
                      </a:moveTo>
                      <a:lnTo>
                        <a:pt x="138" y="20"/>
                      </a:lnTo>
                      <a:lnTo>
                        <a:pt x="98" y="37"/>
                      </a:lnTo>
                      <a:lnTo>
                        <a:pt x="56" y="53"/>
                      </a:lnTo>
                      <a:lnTo>
                        <a:pt x="0" y="76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1849320" y="6308640"/>
                  <a:ext cx="33840" cy="25920"/>
                </a:xfrm>
                <a:custGeom>
                  <a:avLst/>
                  <a:gdLst/>
                  <a:ahLst/>
                  <a:rect l="0" t="0" r="r" b="b"/>
                  <a:pathLst>
                    <a:path fill="none" w="94" h="72">
                      <a:moveTo>
                        <a:pt x="94" y="0"/>
                      </a:moveTo>
                      <a:lnTo>
                        <a:pt x="57" y="33"/>
                      </a:lnTo>
                      <a:lnTo>
                        <a:pt x="0" y="72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1755720" y="6248520"/>
                  <a:ext cx="219600" cy="54360"/>
                </a:xfrm>
                <a:custGeom>
                  <a:avLst/>
                  <a:gdLst/>
                  <a:ahLst/>
                  <a:rect l="0" t="0" r="r" b="b"/>
                  <a:pathLst>
                    <a:path fill="none" w="610" h="151">
                      <a:moveTo>
                        <a:pt x="610" y="99"/>
                      </a:moveTo>
                      <a:lnTo>
                        <a:pt x="587" y="99"/>
                      </a:lnTo>
                      <a:lnTo>
                        <a:pt x="570" y="99"/>
                      </a:lnTo>
                      <a:lnTo>
                        <a:pt x="553" y="104"/>
                      </a:lnTo>
                      <a:lnTo>
                        <a:pt x="539" y="117"/>
                      </a:lnTo>
                      <a:lnTo>
                        <a:pt x="528" y="131"/>
                      </a:lnTo>
                      <a:lnTo>
                        <a:pt x="517" y="151"/>
                      </a:lnTo>
                      <a:lnTo>
                        <a:pt x="517" y="128"/>
                      </a:lnTo>
                      <a:lnTo>
                        <a:pt x="514" y="110"/>
                      </a:lnTo>
                      <a:lnTo>
                        <a:pt x="500" y="96"/>
                      </a:lnTo>
                      <a:lnTo>
                        <a:pt x="483" y="84"/>
                      </a:lnTo>
                      <a:lnTo>
                        <a:pt x="460" y="75"/>
                      </a:lnTo>
                      <a:lnTo>
                        <a:pt x="422" y="64"/>
                      </a:lnTo>
                      <a:lnTo>
                        <a:pt x="385" y="58"/>
                      </a:lnTo>
                      <a:lnTo>
                        <a:pt x="351" y="52"/>
                      </a:lnTo>
                      <a:lnTo>
                        <a:pt x="323" y="50"/>
                      </a:lnTo>
                      <a:lnTo>
                        <a:pt x="289" y="55"/>
                      </a:lnTo>
                      <a:lnTo>
                        <a:pt x="261" y="61"/>
                      </a:lnTo>
                      <a:lnTo>
                        <a:pt x="235" y="70"/>
                      </a:lnTo>
                      <a:lnTo>
                        <a:pt x="216" y="87"/>
                      </a:lnTo>
                      <a:lnTo>
                        <a:pt x="213" y="67"/>
                      </a:lnTo>
                      <a:lnTo>
                        <a:pt x="204" y="52"/>
                      </a:lnTo>
                      <a:lnTo>
                        <a:pt x="193" y="34"/>
                      </a:lnTo>
                      <a:lnTo>
                        <a:pt x="173" y="17"/>
                      </a:lnTo>
                      <a:lnTo>
                        <a:pt x="147" y="8"/>
                      </a:lnTo>
                      <a:lnTo>
                        <a:pt x="124" y="2"/>
                      </a:lnTo>
                      <a:lnTo>
                        <a:pt x="107" y="2"/>
                      </a:lnTo>
                      <a:lnTo>
                        <a:pt x="79" y="0"/>
                      </a:lnTo>
                      <a:lnTo>
                        <a:pt x="62" y="2"/>
                      </a:lnTo>
                      <a:lnTo>
                        <a:pt x="45" y="8"/>
                      </a:lnTo>
                      <a:lnTo>
                        <a:pt x="31" y="23"/>
                      </a:lnTo>
                      <a:lnTo>
                        <a:pt x="16" y="41"/>
                      </a:lnTo>
                      <a:lnTo>
                        <a:pt x="0" y="67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1795320" y="6137280"/>
                  <a:ext cx="219600" cy="105120"/>
                </a:xfrm>
                <a:custGeom>
                  <a:avLst/>
                  <a:gdLst/>
                  <a:ahLst/>
                  <a:rect l="0" t="0" r="r" b="b"/>
                  <a:pathLst>
                    <a:path fill="none" w="610" h="292">
                      <a:moveTo>
                        <a:pt x="610" y="257"/>
                      </a:moveTo>
                      <a:lnTo>
                        <a:pt x="582" y="265"/>
                      </a:lnTo>
                      <a:lnTo>
                        <a:pt x="551" y="277"/>
                      </a:lnTo>
                      <a:lnTo>
                        <a:pt x="523" y="286"/>
                      </a:lnTo>
                      <a:lnTo>
                        <a:pt x="495" y="289"/>
                      </a:lnTo>
                      <a:lnTo>
                        <a:pt x="466" y="292"/>
                      </a:lnTo>
                      <a:lnTo>
                        <a:pt x="448" y="292"/>
                      </a:lnTo>
                      <a:lnTo>
                        <a:pt x="420" y="286"/>
                      </a:lnTo>
                      <a:lnTo>
                        <a:pt x="370" y="271"/>
                      </a:lnTo>
                      <a:lnTo>
                        <a:pt x="316" y="251"/>
                      </a:lnTo>
                      <a:lnTo>
                        <a:pt x="265" y="230"/>
                      </a:lnTo>
                      <a:lnTo>
                        <a:pt x="215" y="207"/>
                      </a:lnTo>
                      <a:lnTo>
                        <a:pt x="178" y="187"/>
                      </a:lnTo>
                      <a:lnTo>
                        <a:pt x="143" y="166"/>
                      </a:lnTo>
                      <a:lnTo>
                        <a:pt x="112" y="139"/>
                      </a:lnTo>
                      <a:lnTo>
                        <a:pt x="84" y="110"/>
                      </a:lnTo>
                      <a:lnTo>
                        <a:pt x="53" y="81"/>
                      </a:lnTo>
                      <a:lnTo>
                        <a:pt x="33" y="55"/>
                      </a:lnTo>
                      <a:lnTo>
                        <a:pt x="14" y="26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1787400" y="6189840"/>
                  <a:ext cx="54360" cy="25920"/>
                </a:xfrm>
                <a:custGeom>
                  <a:avLst/>
                  <a:gdLst/>
                  <a:ahLst/>
                  <a:rect l="0" t="0" r="r" b="b"/>
                  <a:pathLst>
                    <a:path fill="none" w="151" h="72">
                      <a:moveTo>
                        <a:pt x="151" y="40"/>
                      </a:moveTo>
                      <a:lnTo>
                        <a:pt x="129" y="20"/>
                      </a:lnTo>
                      <a:lnTo>
                        <a:pt x="105" y="3"/>
                      </a:lnTo>
                      <a:lnTo>
                        <a:pt x="83" y="0"/>
                      </a:lnTo>
                      <a:lnTo>
                        <a:pt x="60" y="7"/>
                      </a:lnTo>
                      <a:lnTo>
                        <a:pt x="33" y="24"/>
                      </a:lnTo>
                      <a:lnTo>
                        <a:pt x="16" y="48"/>
                      </a:lnTo>
                      <a:lnTo>
                        <a:pt x="0" y="72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1709640" y="6137280"/>
                  <a:ext cx="43200" cy="106560"/>
                </a:xfrm>
                <a:custGeom>
                  <a:avLst/>
                  <a:gdLst/>
                  <a:ahLst/>
                  <a:rect l="0" t="0" r="r" b="b"/>
                  <a:pathLst>
                    <a:path fill="none" w="120" h="296">
                      <a:moveTo>
                        <a:pt x="0" y="296"/>
                      </a:moveTo>
                      <a:lnTo>
                        <a:pt x="19" y="273"/>
                      </a:lnTo>
                      <a:lnTo>
                        <a:pt x="39" y="253"/>
                      </a:lnTo>
                      <a:lnTo>
                        <a:pt x="59" y="244"/>
                      </a:lnTo>
                      <a:lnTo>
                        <a:pt x="74" y="244"/>
                      </a:lnTo>
                      <a:lnTo>
                        <a:pt x="88" y="247"/>
                      </a:lnTo>
                      <a:lnTo>
                        <a:pt x="105" y="253"/>
                      </a:lnTo>
                      <a:lnTo>
                        <a:pt x="117" y="267"/>
                      </a:lnTo>
                      <a:lnTo>
                        <a:pt x="103" y="241"/>
                      </a:lnTo>
                      <a:lnTo>
                        <a:pt x="91" y="224"/>
                      </a:lnTo>
                      <a:lnTo>
                        <a:pt x="88" y="209"/>
                      </a:lnTo>
                      <a:lnTo>
                        <a:pt x="88" y="197"/>
                      </a:lnTo>
                      <a:lnTo>
                        <a:pt x="94" y="186"/>
                      </a:lnTo>
                      <a:lnTo>
                        <a:pt x="103" y="169"/>
                      </a:lnTo>
                      <a:lnTo>
                        <a:pt x="114" y="141"/>
                      </a:lnTo>
                      <a:lnTo>
                        <a:pt x="120" y="115"/>
                      </a:lnTo>
                      <a:lnTo>
                        <a:pt x="120" y="86"/>
                      </a:lnTo>
                      <a:lnTo>
                        <a:pt x="117" y="69"/>
                      </a:lnTo>
                      <a:lnTo>
                        <a:pt x="111" y="49"/>
                      </a:lnTo>
                      <a:lnTo>
                        <a:pt x="97" y="28"/>
                      </a:lnTo>
                      <a:lnTo>
                        <a:pt x="80" y="0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1609560" y="6078600"/>
                  <a:ext cx="106560" cy="124200"/>
                </a:xfrm>
                <a:custGeom>
                  <a:avLst/>
                  <a:gdLst/>
                  <a:ahLst/>
                  <a:rect l="0" t="0" r="r" b="b"/>
                  <a:pathLst>
                    <a:path fill="none" w="296" h="345">
                      <a:moveTo>
                        <a:pt x="190" y="345"/>
                      </a:moveTo>
                      <a:lnTo>
                        <a:pt x="204" y="328"/>
                      </a:lnTo>
                      <a:lnTo>
                        <a:pt x="221" y="314"/>
                      </a:lnTo>
                      <a:lnTo>
                        <a:pt x="237" y="305"/>
                      </a:lnTo>
                      <a:lnTo>
                        <a:pt x="263" y="294"/>
                      </a:lnTo>
                      <a:lnTo>
                        <a:pt x="296" y="282"/>
                      </a:lnTo>
                      <a:lnTo>
                        <a:pt x="276" y="274"/>
                      </a:lnTo>
                      <a:lnTo>
                        <a:pt x="254" y="262"/>
                      </a:lnTo>
                      <a:lnTo>
                        <a:pt x="237" y="250"/>
                      </a:lnTo>
                      <a:lnTo>
                        <a:pt x="226" y="238"/>
                      </a:lnTo>
                      <a:lnTo>
                        <a:pt x="218" y="227"/>
                      </a:lnTo>
                      <a:lnTo>
                        <a:pt x="212" y="207"/>
                      </a:lnTo>
                      <a:lnTo>
                        <a:pt x="212" y="193"/>
                      </a:lnTo>
                      <a:lnTo>
                        <a:pt x="212" y="172"/>
                      </a:lnTo>
                      <a:lnTo>
                        <a:pt x="218" y="144"/>
                      </a:lnTo>
                      <a:lnTo>
                        <a:pt x="235" y="98"/>
                      </a:lnTo>
                      <a:lnTo>
                        <a:pt x="218" y="104"/>
                      </a:lnTo>
                      <a:lnTo>
                        <a:pt x="198" y="115"/>
                      </a:lnTo>
                      <a:lnTo>
                        <a:pt x="179" y="121"/>
                      </a:lnTo>
                      <a:lnTo>
                        <a:pt x="157" y="124"/>
                      </a:lnTo>
                      <a:lnTo>
                        <a:pt x="136" y="121"/>
                      </a:lnTo>
                      <a:lnTo>
                        <a:pt x="114" y="115"/>
                      </a:lnTo>
                      <a:lnTo>
                        <a:pt x="89" y="104"/>
                      </a:lnTo>
                      <a:lnTo>
                        <a:pt x="66" y="89"/>
                      </a:lnTo>
                      <a:lnTo>
                        <a:pt x="52" y="77"/>
                      </a:lnTo>
                      <a:lnTo>
                        <a:pt x="36" y="60"/>
                      </a:lnTo>
                      <a:lnTo>
                        <a:pt x="25" y="42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1703520" y="6066000"/>
                  <a:ext cx="39960" cy="76680"/>
                </a:xfrm>
                <a:custGeom>
                  <a:avLst/>
                  <a:gdLst/>
                  <a:ahLst/>
                  <a:rect l="0" t="0" r="r" b="b"/>
                  <a:pathLst>
                    <a:path fill="none" w="111" h="213">
                      <a:moveTo>
                        <a:pt x="63" y="213"/>
                      </a:moveTo>
                      <a:lnTo>
                        <a:pt x="81" y="193"/>
                      </a:lnTo>
                      <a:lnTo>
                        <a:pt x="96" y="175"/>
                      </a:lnTo>
                      <a:lnTo>
                        <a:pt x="105" y="157"/>
                      </a:lnTo>
                      <a:lnTo>
                        <a:pt x="111" y="131"/>
                      </a:lnTo>
                      <a:lnTo>
                        <a:pt x="108" y="99"/>
                      </a:lnTo>
                      <a:lnTo>
                        <a:pt x="108" y="58"/>
                      </a:lnTo>
                      <a:lnTo>
                        <a:pt x="102" y="43"/>
                      </a:lnTo>
                      <a:lnTo>
                        <a:pt x="96" y="31"/>
                      </a:lnTo>
                      <a:lnTo>
                        <a:pt x="87" y="26"/>
                      </a:lnTo>
                      <a:lnTo>
                        <a:pt x="50" y="11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1623960" y="6037200"/>
                  <a:ext cx="79560" cy="25920"/>
                </a:xfrm>
                <a:custGeom>
                  <a:avLst/>
                  <a:gdLst/>
                  <a:ahLst/>
                  <a:rect l="0" t="0" r="r" b="b"/>
                  <a:pathLst>
                    <a:path fill="none" w="221" h="72">
                      <a:moveTo>
                        <a:pt x="221" y="72"/>
                      </a:moveTo>
                      <a:lnTo>
                        <a:pt x="201" y="49"/>
                      </a:lnTo>
                      <a:lnTo>
                        <a:pt x="181" y="34"/>
                      </a:lnTo>
                      <a:lnTo>
                        <a:pt x="158" y="14"/>
                      </a:lnTo>
                      <a:lnTo>
                        <a:pt x="129" y="3"/>
                      </a:lnTo>
                      <a:lnTo>
                        <a:pt x="100" y="0"/>
                      </a:lnTo>
                      <a:lnTo>
                        <a:pt x="74" y="3"/>
                      </a:lnTo>
                      <a:lnTo>
                        <a:pt x="45" y="19"/>
                      </a:lnTo>
                      <a:lnTo>
                        <a:pt x="20" y="41"/>
                      </a:lnTo>
                      <a:lnTo>
                        <a:pt x="0" y="65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1627200" y="5940360"/>
                  <a:ext cx="105120" cy="81360"/>
                </a:xfrm>
                <a:custGeom>
                  <a:avLst/>
                  <a:gdLst/>
                  <a:ahLst/>
                  <a:rect l="0" t="0" r="r" b="b"/>
                  <a:pathLst>
                    <a:path fill="none" w="292" h="226">
                      <a:moveTo>
                        <a:pt x="0" y="180"/>
                      </a:moveTo>
                      <a:lnTo>
                        <a:pt x="16" y="162"/>
                      </a:lnTo>
                      <a:lnTo>
                        <a:pt x="36" y="145"/>
                      </a:lnTo>
                      <a:lnTo>
                        <a:pt x="64" y="133"/>
                      </a:lnTo>
                      <a:lnTo>
                        <a:pt x="79" y="133"/>
                      </a:lnTo>
                      <a:lnTo>
                        <a:pt x="101" y="133"/>
                      </a:lnTo>
                      <a:lnTo>
                        <a:pt x="127" y="150"/>
                      </a:lnTo>
                      <a:lnTo>
                        <a:pt x="156" y="165"/>
                      </a:lnTo>
                      <a:lnTo>
                        <a:pt x="193" y="186"/>
                      </a:lnTo>
                      <a:lnTo>
                        <a:pt x="221" y="203"/>
                      </a:lnTo>
                      <a:lnTo>
                        <a:pt x="244" y="218"/>
                      </a:lnTo>
                      <a:lnTo>
                        <a:pt x="277" y="226"/>
                      </a:lnTo>
                      <a:lnTo>
                        <a:pt x="292" y="226"/>
                      </a:lnTo>
                      <a:lnTo>
                        <a:pt x="275" y="215"/>
                      </a:lnTo>
                      <a:lnTo>
                        <a:pt x="263" y="200"/>
                      </a:lnTo>
                      <a:lnTo>
                        <a:pt x="255" y="183"/>
                      </a:lnTo>
                      <a:lnTo>
                        <a:pt x="241" y="159"/>
                      </a:lnTo>
                      <a:lnTo>
                        <a:pt x="232" y="133"/>
                      </a:lnTo>
                      <a:lnTo>
                        <a:pt x="221" y="101"/>
                      </a:lnTo>
                      <a:lnTo>
                        <a:pt x="212" y="73"/>
                      </a:lnTo>
                      <a:lnTo>
                        <a:pt x="207" y="37"/>
                      </a:lnTo>
                      <a:lnTo>
                        <a:pt x="204" y="0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1743120" y="5967360"/>
                  <a:ext cx="35280" cy="149760"/>
                </a:xfrm>
                <a:custGeom>
                  <a:avLst/>
                  <a:gdLst/>
                  <a:ahLst/>
                  <a:rect l="0" t="0" r="r" b="b"/>
                  <a:pathLst>
                    <a:path fill="none" w="98" h="416">
                      <a:moveTo>
                        <a:pt x="25" y="416"/>
                      </a:moveTo>
                      <a:lnTo>
                        <a:pt x="42" y="416"/>
                      </a:lnTo>
                      <a:lnTo>
                        <a:pt x="66" y="407"/>
                      </a:lnTo>
                      <a:lnTo>
                        <a:pt x="80" y="399"/>
                      </a:lnTo>
                      <a:lnTo>
                        <a:pt x="89" y="387"/>
                      </a:lnTo>
                      <a:lnTo>
                        <a:pt x="92" y="379"/>
                      </a:lnTo>
                      <a:lnTo>
                        <a:pt x="98" y="356"/>
                      </a:lnTo>
                      <a:lnTo>
                        <a:pt x="98" y="333"/>
                      </a:lnTo>
                      <a:lnTo>
                        <a:pt x="95" y="298"/>
                      </a:lnTo>
                      <a:lnTo>
                        <a:pt x="92" y="272"/>
                      </a:lnTo>
                      <a:lnTo>
                        <a:pt x="83" y="243"/>
                      </a:lnTo>
                      <a:lnTo>
                        <a:pt x="75" y="218"/>
                      </a:lnTo>
                      <a:lnTo>
                        <a:pt x="60" y="192"/>
                      </a:lnTo>
                      <a:lnTo>
                        <a:pt x="42" y="172"/>
                      </a:lnTo>
                      <a:lnTo>
                        <a:pt x="25" y="149"/>
                      </a:lnTo>
                      <a:lnTo>
                        <a:pt x="22" y="112"/>
                      </a:lnTo>
                      <a:lnTo>
                        <a:pt x="19" y="80"/>
                      </a:lnTo>
                      <a:lnTo>
                        <a:pt x="8" y="37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73" name=""/>
            <p:cNvSpPr/>
            <p:nvPr/>
          </p:nvSpPr>
          <p:spPr>
            <a:xfrm>
              <a:off x="1776240" y="5943600"/>
              <a:ext cx="219600" cy="103680"/>
            </a:xfrm>
            <a:custGeom>
              <a:avLst/>
              <a:gdLst/>
              <a:ahLst/>
              <a:rect l="0" t="0" r="r" b="b"/>
              <a:pathLst>
                <a:path fill="none" w="610" h="288">
                  <a:moveTo>
                    <a:pt x="610" y="254"/>
                  </a:moveTo>
                  <a:lnTo>
                    <a:pt x="582" y="262"/>
                  </a:lnTo>
                  <a:lnTo>
                    <a:pt x="551" y="274"/>
                  </a:lnTo>
                  <a:lnTo>
                    <a:pt x="526" y="280"/>
                  </a:lnTo>
                  <a:lnTo>
                    <a:pt x="497" y="282"/>
                  </a:lnTo>
                  <a:lnTo>
                    <a:pt x="466" y="288"/>
                  </a:lnTo>
                  <a:lnTo>
                    <a:pt x="448" y="285"/>
                  </a:lnTo>
                  <a:lnTo>
                    <a:pt x="423" y="280"/>
                  </a:lnTo>
                  <a:lnTo>
                    <a:pt x="370" y="265"/>
                  </a:lnTo>
                  <a:lnTo>
                    <a:pt x="316" y="245"/>
                  </a:lnTo>
                  <a:lnTo>
                    <a:pt x="268" y="225"/>
                  </a:lnTo>
                  <a:lnTo>
                    <a:pt x="215" y="204"/>
                  </a:lnTo>
                  <a:lnTo>
                    <a:pt x="178" y="184"/>
                  </a:lnTo>
                  <a:lnTo>
                    <a:pt x="143" y="161"/>
                  </a:lnTo>
                  <a:lnTo>
                    <a:pt x="115" y="138"/>
                  </a:lnTo>
                  <a:lnTo>
                    <a:pt x="84" y="109"/>
                  </a:lnTo>
                  <a:lnTo>
                    <a:pt x="53" y="81"/>
                  </a:lnTo>
                  <a:lnTo>
                    <a:pt x="33" y="54"/>
                  </a:lnTo>
                  <a:lnTo>
                    <a:pt x="14" y="25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f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851120" y="6156360"/>
              <a:ext cx="71640" cy="25920"/>
            </a:xfrm>
            <a:custGeom>
              <a:avLst/>
              <a:gdLst/>
              <a:ahLst/>
              <a:rect l="0" t="0" r="r" b="b"/>
              <a:pathLst>
                <a:path fill="none" w="199" h="72">
                  <a:moveTo>
                    <a:pt x="199" y="33"/>
                  </a:moveTo>
                  <a:lnTo>
                    <a:pt x="168" y="49"/>
                  </a:lnTo>
                  <a:lnTo>
                    <a:pt x="145" y="61"/>
                  </a:lnTo>
                  <a:lnTo>
                    <a:pt x="108" y="72"/>
                  </a:lnTo>
                  <a:lnTo>
                    <a:pt x="79" y="67"/>
                  </a:lnTo>
                  <a:lnTo>
                    <a:pt x="51" y="56"/>
                  </a:lnTo>
                  <a:lnTo>
                    <a:pt x="25" y="3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f808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981080" y="6161040"/>
              <a:ext cx="39960" cy="44640"/>
            </a:xfrm>
            <a:custGeom>
              <a:avLst/>
              <a:gdLst/>
              <a:ahLst/>
              <a:rect l="0" t="0" r="r" b="b"/>
              <a:pathLst>
                <a:path fill="none" w="111" h="124">
                  <a:moveTo>
                    <a:pt x="33" y="124"/>
                  </a:moveTo>
                  <a:lnTo>
                    <a:pt x="16" y="104"/>
                  </a:lnTo>
                  <a:lnTo>
                    <a:pt x="8" y="93"/>
                  </a:lnTo>
                  <a:lnTo>
                    <a:pt x="0" y="76"/>
                  </a:lnTo>
                  <a:lnTo>
                    <a:pt x="2" y="58"/>
                  </a:lnTo>
                  <a:lnTo>
                    <a:pt x="11" y="42"/>
                  </a:lnTo>
                  <a:lnTo>
                    <a:pt x="25" y="25"/>
                  </a:lnTo>
                  <a:lnTo>
                    <a:pt x="39" y="14"/>
                  </a:lnTo>
                  <a:lnTo>
                    <a:pt x="60" y="8"/>
                  </a:lnTo>
                  <a:lnTo>
                    <a:pt x="88" y="2"/>
                  </a:lnTo>
                  <a:lnTo>
                    <a:pt x="111" y="0"/>
                  </a:lnTo>
                </a:path>
              </a:pathLst>
            </a:custGeom>
            <a:ln w="12600">
              <a:solidFill>
                <a:srgbClr val="ff808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795320" y="6022800"/>
              <a:ext cx="184680" cy="120960"/>
            </a:xfrm>
            <a:custGeom>
              <a:avLst/>
              <a:gdLst/>
              <a:ahLst/>
              <a:rect l="0" t="0" r="r" b="b"/>
              <a:pathLst>
                <a:path fill="none" w="513" h="336">
                  <a:moveTo>
                    <a:pt x="513" y="336"/>
                  </a:moveTo>
                  <a:lnTo>
                    <a:pt x="493" y="324"/>
                  </a:lnTo>
                  <a:lnTo>
                    <a:pt x="482" y="310"/>
                  </a:lnTo>
                  <a:lnTo>
                    <a:pt x="470" y="296"/>
                  </a:lnTo>
                  <a:lnTo>
                    <a:pt x="465" y="278"/>
                  </a:lnTo>
                  <a:lnTo>
                    <a:pt x="465" y="258"/>
                  </a:lnTo>
                  <a:lnTo>
                    <a:pt x="468" y="238"/>
                  </a:lnTo>
                  <a:lnTo>
                    <a:pt x="453" y="258"/>
                  </a:lnTo>
                  <a:lnTo>
                    <a:pt x="442" y="267"/>
                  </a:lnTo>
                  <a:lnTo>
                    <a:pt x="422" y="273"/>
                  </a:lnTo>
                  <a:lnTo>
                    <a:pt x="402" y="270"/>
                  </a:lnTo>
                  <a:lnTo>
                    <a:pt x="378" y="264"/>
                  </a:lnTo>
                  <a:lnTo>
                    <a:pt x="342" y="253"/>
                  </a:lnTo>
                  <a:lnTo>
                    <a:pt x="307" y="235"/>
                  </a:lnTo>
                  <a:lnTo>
                    <a:pt x="276" y="218"/>
                  </a:lnTo>
                  <a:lnTo>
                    <a:pt x="253" y="204"/>
                  </a:lnTo>
                  <a:lnTo>
                    <a:pt x="228" y="181"/>
                  </a:lnTo>
                  <a:lnTo>
                    <a:pt x="208" y="160"/>
                  </a:lnTo>
                  <a:lnTo>
                    <a:pt x="194" y="137"/>
                  </a:lnTo>
                  <a:lnTo>
                    <a:pt x="188" y="108"/>
                  </a:lnTo>
                  <a:lnTo>
                    <a:pt x="174" y="123"/>
                  </a:lnTo>
                  <a:lnTo>
                    <a:pt x="157" y="131"/>
                  </a:lnTo>
                  <a:lnTo>
                    <a:pt x="140" y="140"/>
                  </a:lnTo>
                  <a:lnTo>
                    <a:pt x="113" y="140"/>
                  </a:lnTo>
                  <a:lnTo>
                    <a:pt x="85" y="131"/>
                  </a:lnTo>
                  <a:lnTo>
                    <a:pt x="62" y="123"/>
                  </a:lnTo>
                  <a:lnTo>
                    <a:pt x="51" y="114"/>
                  </a:lnTo>
                  <a:lnTo>
                    <a:pt x="28" y="100"/>
                  </a:lnTo>
                  <a:lnTo>
                    <a:pt x="14" y="85"/>
                  </a:lnTo>
                  <a:lnTo>
                    <a:pt x="2" y="71"/>
                  </a:lnTo>
                  <a:lnTo>
                    <a:pt x="0" y="5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f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2523960" y="5708520"/>
            <a:ext cx="859320" cy="624240"/>
            <a:chOff x="2523960" y="5708520"/>
            <a:chExt cx="859320" cy="624240"/>
          </a:xfrm>
        </p:grpSpPr>
        <p:grpSp>
          <p:nvGrpSpPr>
            <p:cNvPr id="1078" name=""/>
            <p:cNvGrpSpPr/>
            <p:nvPr/>
          </p:nvGrpSpPr>
          <p:grpSpPr>
            <a:xfrm>
              <a:off x="2523960" y="5708520"/>
              <a:ext cx="859320" cy="624240"/>
              <a:chOff x="2523960" y="5708520"/>
              <a:chExt cx="859320" cy="624240"/>
            </a:xfrm>
          </p:grpSpPr>
          <p:sp>
            <p:nvSpPr>
              <p:cNvPr id="1079" name=""/>
              <p:cNvSpPr/>
              <p:nvPr/>
            </p:nvSpPr>
            <p:spPr>
              <a:xfrm>
                <a:off x="2540160" y="5934240"/>
                <a:ext cx="814680" cy="352800"/>
              </a:xfrm>
              <a:custGeom>
                <a:avLst/>
                <a:gdLst/>
                <a:ahLst/>
                <a:rect l="0" t="0" r="r" b="b"/>
                <a:pathLst>
                  <a:path w="2263" h="980">
                    <a:moveTo>
                      <a:pt x="79" y="980"/>
                    </a:moveTo>
                    <a:lnTo>
                      <a:pt x="238" y="371"/>
                    </a:lnTo>
                    <a:lnTo>
                      <a:pt x="542" y="66"/>
                    </a:lnTo>
                    <a:lnTo>
                      <a:pt x="648" y="105"/>
                    </a:lnTo>
                    <a:lnTo>
                      <a:pt x="859" y="39"/>
                    </a:lnTo>
                    <a:lnTo>
                      <a:pt x="1337" y="0"/>
                    </a:lnTo>
                    <a:lnTo>
                      <a:pt x="1786" y="26"/>
                    </a:lnTo>
                    <a:lnTo>
                      <a:pt x="2197" y="26"/>
                    </a:lnTo>
                    <a:lnTo>
                      <a:pt x="2263" y="145"/>
                    </a:lnTo>
                    <a:lnTo>
                      <a:pt x="2183" y="238"/>
                    </a:lnTo>
                    <a:lnTo>
                      <a:pt x="2223" y="265"/>
                    </a:lnTo>
                    <a:lnTo>
                      <a:pt x="2249" y="437"/>
                    </a:lnTo>
                    <a:lnTo>
                      <a:pt x="2236" y="861"/>
                    </a:lnTo>
                    <a:lnTo>
                      <a:pt x="2263" y="954"/>
                    </a:lnTo>
                    <a:lnTo>
                      <a:pt x="1681" y="901"/>
                    </a:lnTo>
                    <a:lnTo>
                      <a:pt x="846" y="914"/>
                    </a:lnTo>
                    <a:lnTo>
                      <a:pt x="330" y="941"/>
                    </a:lnTo>
                    <a:lnTo>
                      <a:pt x="92" y="928"/>
                    </a:lnTo>
                    <a:lnTo>
                      <a:pt x="0" y="875"/>
                    </a:lnTo>
                    <a:lnTo>
                      <a:pt x="79" y="9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2523960" y="5708520"/>
                <a:ext cx="859320" cy="624240"/>
                <a:chOff x="2523960" y="5708520"/>
                <a:chExt cx="859320" cy="624240"/>
              </a:xfrm>
            </p:grpSpPr>
            <p:grpSp>
              <p:nvGrpSpPr>
                <p:cNvPr id="1081" name=""/>
                <p:cNvGrpSpPr/>
                <p:nvPr/>
              </p:nvGrpSpPr>
              <p:grpSpPr>
                <a:xfrm>
                  <a:off x="2730600" y="5708520"/>
                  <a:ext cx="636480" cy="263520"/>
                  <a:chOff x="2730600" y="5708520"/>
                  <a:chExt cx="636480" cy="263520"/>
                </a:xfrm>
              </p:grpSpPr>
              <p:sp>
                <p:nvSpPr>
                  <p:cNvPr id="1082" name=""/>
                  <p:cNvSpPr/>
                  <p:nvPr/>
                </p:nvSpPr>
                <p:spPr>
                  <a:xfrm>
                    <a:off x="2730600" y="5754600"/>
                    <a:ext cx="19080" cy="217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 flipV="1">
                    <a:off x="2854440" y="5729400"/>
                    <a:ext cx="6120" cy="217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 flipV="1">
                    <a:off x="3016080" y="5708520"/>
                    <a:ext cx="24120" cy="2304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 flipV="1">
                    <a:off x="3179880" y="5746680"/>
                    <a:ext cx="44280" cy="20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 flipV="1">
                    <a:off x="3321000" y="5769000"/>
                    <a:ext cx="46080" cy="1810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7" name=""/>
                <p:cNvSpPr/>
                <p:nvPr/>
              </p:nvSpPr>
              <p:spPr>
                <a:xfrm>
                  <a:off x="2541600" y="5962680"/>
                  <a:ext cx="824400" cy="329040"/>
                </a:xfrm>
                <a:custGeom>
                  <a:avLst/>
                  <a:gdLst/>
                  <a:ahLst/>
                  <a:rect l="0" t="0" r="r" b="b"/>
                  <a:pathLst>
                    <a:path fill="none" w="2290" h="914">
                      <a:moveTo>
                        <a:pt x="498" y="0"/>
                      </a:moveTo>
                      <a:lnTo>
                        <a:pt x="194" y="283"/>
                      </a:lnTo>
                      <a:lnTo>
                        <a:pt x="70" y="703"/>
                      </a:lnTo>
                      <a:lnTo>
                        <a:pt x="0" y="914"/>
                      </a:lnTo>
                      <a:lnTo>
                        <a:pt x="2268" y="905"/>
                      </a:lnTo>
                      <a:lnTo>
                        <a:pt x="2290" y="92"/>
                      </a:lnTo>
                      <a:lnTo>
                        <a:pt x="2206" y="202"/>
                      </a:lnTo>
                    </a:path>
                  </a:pathLst>
                </a:custGeom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2523960" y="6249960"/>
                  <a:ext cx="859320" cy="82800"/>
                </a:xfrm>
                <a:custGeom>
                  <a:avLst/>
                  <a:gdLst/>
                  <a:ahLst/>
                  <a:rect l="0" t="0" r="r" b="b"/>
                  <a:pathLst>
                    <a:path w="2387" h="230">
                      <a:moveTo>
                        <a:pt x="66" y="114"/>
                      </a:moveTo>
                      <a:lnTo>
                        <a:pt x="119" y="114"/>
                      </a:lnTo>
                      <a:lnTo>
                        <a:pt x="154" y="88"/>
                      </a:lnTo>
                      <a:lnTo>
                        <a:pt x="194" y="83"/>
                      </a:lnTo>
                      <a:lnTo>
                        <a:pt x="233" y="83"/>
                      </a:lnTo>
                      <a:lnTo>
                        <a:pt x="242" y="39"/>
                      </a:lnTo>
                      <a:lnTo>
                        <a:pt x="282" y="39"/>
                      </a:lnTo>
                      <a:lnTo>
                        <a:pt x="339" y="48"/>
                      </a:lnTo>
                      <a:lnTo>
                        <a:pt x="374" y="61"/>
                      </a:lnTo>
                      <a:lnTo>
                        <a:pt x="418" y="57"/>
                      </a:lnTo>
                      <a:lnTo>
                        <a:pt x="454" y="39"/>
                      </a:lnTo>
                      <a:lnTo>
                        <a:pt x="498" y="39"/>
                      </a:lnTo>
                      <a:lnTo>
                        <a:pt x="533" y="35"/>
                      </a:lnTo>
                      <a:lnTo>
                        <a:pt x="577" y="48"/>
                      </a:lnTo>
                      <a:lnTo>
                        <a:pt x="613" y="48"/>
                      </a:lnTo>
                      <a:lnTo>
                        <a:pt x="658" y="44"/>
                      </a:lnTo>
                      <a:lnTo>
                        <a:pt x="693" y="44"/>
                      </a:lnTo>
                      <a:lnTo>
                        <a:pt x="733" y="30"/>
                      </a:lnTo>
                      <a:lnTo>
                        <a:pt x="777" y="26"/>
                      </a:lnTo>
                      <a:lnTo>
                        <a:pt x="816" y="61"/>
                      </a:lnTo>
                      <a:lnTo>
                        <a:pt x="856" y="74"/>
                      </a:lnTo>
                      <a:lnTo>
                        <a:pt x="896" y="74"/>
                      </a:lnTo>
                      <a:lnTo>
                        <a:pt x="949" y="39"/>
                      </a:lnTo>
                      <a:lnTo>
                        <a:pt x="1002" y="39"/>
                      </a:lnTo>
                      <a:lnTo>
                        <a:pt x="1050" y="26"/>
                      </a:lnTo>
                      <a:lnTo>
                        <a:pt x="1090" y="22"/>
                      </a:lnTo>
                      <a:lnTo>
                        <a:pt x="1196" y="30"/>
                      </a:lnTo>
                      <a:lnTo>
                        <a:pt x="1253" y="44"/>
                      </a:lnTo>
                      <a:lnTo>
                        <a:pt x="1306" y="26"/>
                      </a:lnTo>
                      <a:lnTo>
                        <a:pt x="1354" y="22"/>
                      </a:lnTo>
                      <a:lnTo>
                        <a:pt x="1438" y="17"/>
                      </a:lnTo>
                      <a:lnTo>
                        <a:pt x="1473" y="0"/>
                      </a:lnTo>
                      <a:lnTo>
                        <a:pt x="1517" y="13"/>
                      </a:lnTo>
                      <a:lnTo>
                        <a:pt x="1557" y="13"/>
                      </a:lnTo>
                      <a:lnTo>
                        <a:pt x="1597" y="8"/>
                      </a:lnTo>
                      <a:lnTo>
                        <a:pt x="1637" y="8"/>
                      </a:lnTo>
                      <a:lnTo>
                        <a:pt x="1685" y="17"/>
                      </a:lnTo>
                      <a:lnTo>
                        <a:pt x="1769" y="26"/>
                      </a:lnTo>
                      <a:lnTo>
                        <a:pt x="1845" y="22"/>
                      </a:lnTo>
                      <a:lnTo>
                        <a:pt x="1889" y="35"/>
                      </a:lnTo>
                      <a:lnTo>
                        <a:pt x="1929" y="48"/>
                      </a:lnTo>
                      <a:lnTo>
                        <a:pt x="1973" y="44"/>
                      </a:lnTo>
                      <a:lnTo>
                        <a:pt x="2008" y="44"/>
                      </a:lnTo>
                      <a:lnTo>
                        <a:pt x="2048" y="39"/>
                      </a:lnTo>
                      <a:lnTo>
                        <a:pt x="2096" y="35"/>
                      </a:lnTo>
                      <a:lnTo>
                        <a:pt x="2140" y="30"/>
                      </a:lnTo>
                      <a:lnTo>
                        <a:pt x="2180" y="44"/>
                      </a:lnTo>
                      <a:lnTo>
                        <a:pt x="2220" y="57"/>
                      </a:lnTo>
                      <a:lnTo>
                        <a:pt x="2273" y="52"/>
                      </a:lnTo>
                      <a:lnTo>
                        <a:pt x="2325" y="61"/>
                      </a:lnTo>
                      <a:lnTo>
                        <a:pt x="2370" y="88"/>
                      </a:lnTo>
                      <a:lnTo>
                        <a:pt x="2383" y="128"/>
                      </a:lnTo>
                      <a:lnTo>
                        <a:pt x="2387" y="168"/>
                      </a:lnTo>
                      <a:lnTo>
                        <a:pt x="2347" y="168"/>
                      </a:lnTo>
                      <a:lnTo>
                        <a:pt x="2308" y="172"/>
                      </a:lnTo>
                      <a:lnTo>
                        <a:pt x="2250" y="172"/>
                      </a:lnTo>
                      <a:lnTo>
                        <a:pt x="2215" y="177"/>
                      </a:lnTo>
                      <a:lnTo>
                        <a:pt x="2175" y="195"/>
                      </a:lnTo>
                      <a:lnTo>
                        <a:pt x="2136" y="195"/>
                      </a:lnTo>
                      <a:lnTo>
                        <a:pt x="2096" y="195"/>
                      </a:lnTo>
                      <a:lnTo>
                        <a:pt x="2004" y="186"/>
                      </a:lnTo>
                      <a:lnTo>
                        <a:pt x="1964" y="177"/>
                      </a:lnTo>
                      <a:lnTo>
                        <a:pt x="1924" y="177"/>
                      </a:lnTo>
                      <a:lnTo>
                        <a:pt x="1884" y="208"/>
                      </a:lnTo>
                      <a:lnTo>
                        <a:pt x="1845" y="221"/>
                      </a:lnTo>
                      <a:lnTo>
                        <a:pt x="1805" y="225"/>
                      </a:lnTo>
                      <a:lnTo>
                        <a:pt x="1764" y="225"/>
                      </a:lnTo>
                      <a:lnTo>
                        <a:pt x="1725" y="230"/>
                      </a:lnTo>
                      <a:lnTo>
                        <a:pt x="1650" y="230"/>
                      </a:lnTo>
                      <a:lnTo>
                        <a:pt x="1592" y="225"/>
                      </a:lnTo>
                      <a:lnTo>
                        <a:pt x="1553" y="225"/>
                      </a:lnTo>
                      <a:lnTo>
                        <a:pt x="1447" y="217"/>
                      </a:lnTo>
                      <a:lnTo>
                        <a:pt x="1407" y="221"/>
                      </a:lnTo>
                      <a:lnTo>
                        <a:pt x="1363" y="208"/>
                      </a:lnTo>
                      <a:lnTo>
                        <a:pt x="1275" y="199"/>
                      </a:lnTo>
                      <a:lnTo>
                        <a:pt x="1169" y="203"/>
                      </a:lnTo>
                      <a:lnTo>
                        <a:pt x="1129" y="181"/>
                      </a:lnTo>
                      <a:lnTo>
                        <a:pt x="1076" y="181"/>
                      </a:lnTo>
                      <a:lnTo>
                        <a:pt x="984" y="203"/>
                      </a:lnTo>
                      <a:lnTo>
                        <a:pt x="944" y="203"/>
                      </a:lnTo>
                      <a:lnTo>
                        <a:pt x="891" y="208"/>
                      </a:lnTo>
                      <a:lnTo>
                        <a:pt x="812" y="212"/>
                      </a:lnTo>
                      <a:lnTo>
                        <a:pt x="755" y="212"/>
                      </a:lnTo>
                      <a:lnTo>
                        <a:pt x="702" y="217"/>
                      </a:lnTo>
                      <a:lnTo>
                        <a:pt x="622" y="221"/>
                      </a:lnTo>
                      <a:lnTo>
                        <a:pt x="586" y="221"/>
                      </a:lnTo>
                      <a:lnTo>
                        <a:pt x="546" y="212"/>
                      </a:lnTo>
                      <a:lnTo>
                        <a:pt x="436" y="217"/>
                      </a:lnTo>
                      <a:lnTo>
                        <a:pt x="383" y="203"/>
                      </a:lnTo>
                      <a:lnTo>
                        <a:pt x="348" y="208"/>
                      </a:lnTo>
                      <a:lnTo>
                        <a:pt x="238" y="199"/>
                      </a:lnTo>
                      <a:lnTo>
                        <a:pt x="185" y="190"/>
                      </a:lnTo>
                      <a:lnTo>
                        <a:pt x="149" y="190"/>
                      </a:lnTo>
                      <a:lnTo>
                        <a:pt x="13" y="172"/>
                      </a:lnTo>
                      <a:lnTo>
                        <a:pt x="0" y="133"/>
                      </a:lnTo>
                      <a:lnTo>
                        <a:pt x="66" y="114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0">
                  <a:noFill/>
                </a:ln>
              </p:spPr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3079800" y="6046920"/>
                  <a:ext cx="197280" cy="151200"/>
                </a:xfrm>
                <a:custGeom>
                  <a:avLst/>
                  <a:gdLst/>
                  <a:ahLst/>
                  <a:rect l="0" t="0" r="r" b="b"/>
                  <a:pathLst>
                    <a:path w="548" h="420">
                      <a:moveTo>
                        <a:pt x="429" y="208"/>
                      </a:moveTo>
                      <a:lnTo>
                        <a:pt x="336" y="217"/>
                      </a:lnTo>
                      <a:lnTo>
                        <a:pt x="296" y="230"/>
                      </a:lnTo>
                      <a:lnTo>
                        <a:pt x="190" y="239"/>
                      </a:lnTo>
                      <a:lnTo>
                        <a:pt x="168" y="287"/>
                      </a:lnTo>
                      <a:lnTo>
                        <a:pt x="159" y="332"/>
                      </a:lnTo>
                      <a:lnTo>
                        <a:pt x="132" y="372"/>
                      </a:lnTo>
                      <a:lnTo>
                        <a:pt x="92" y="403"/>
                      </a:lnTo>
                      <a:lnTo>
                        <a:pt x="177" y="412"/>
                      </a:lnTo>
                      <a:lnTo>
                        <a:pt x="256" y="420"/>
                      </a:lnTo>
                      <a:lnTo>
                        <a:pt x="292" y="416"/>
                      </a:lnTo>
                      <a:lnTo>
                        <a:pt x="305" y="337"/>
                      </a:lnTo>
                      <a:lnTo>
                        <a:pt x="274" y="296"/>
                      </a:lnTo>
                      <a:lnTo>
                        <a:pt x="358" y="278"/>
                      </a:lnTo>
                      <a:lnTo>
                        <a:pt x="406" y="305"/>
                      </a:lnTo>
                      <a:lnTo>
                        <a:pt x="447" y="328"/>
                      </a:lnTo>
                      <a:lnTo>
                        <a:pt x="478" y="385"/>
                      </a:lnTo>
                      <a:lnTo>
                        <a:pt x="522" y="407"/>
                      </a:lnTo>
                      <a:lnTo>
                        <a:pt x="548" y="363"/>
                      </a:lnTo>
                      <a:lnTo>
                        <a:pt x="544" y="283"/>
                      </a:lnTo>
                      <a:lnTo>
                        <a:pt x="535" y="234"/>
                      </a:lnTo>
                      <a:lnTo>
                        <a:pt x="535" y="181"/>
                      </a:lnTo>
                      <a:lnTo>
                        <a:pt x="504" y="124"/>
                      </a:lnTo>
                      <a:lnTo>
                        <a:pt x="465" y="101"/>
                      </a:lnTo>
                      <a:lnTo>
                        <a:pt x="425" y="101"/>
                      </a:lnTo>
                      <a:lnTo>
                        <a:pt x="371" y="79"/>
                      </a:lnTo>
                      <a:lnTo>
                        <a:pt x="344" y="39"/>
                      </a:lnTo>
                      <a:lnTo>
                        <a:pt x="300" y="30"/>
                      </a:lnTo>
                      <a:lnTo>
                        <a:pt x="208" y="8"/>
                      </a:lnTo>
                      <a:lnTo>
                        <a:pt x="127" y="0"/>
                      </a:lnTo>
                      <a:lnTo>
                        <a:pt x="88" y="4"/>
                      </a:lnTo>
                      <a:lnTo>
                        <a:pt x="48" y="4"/>
                      </a:lnTo>
                      <a:lnTo>
                        <a:pt x="8" y="17"/>
                      </a:lnTo>
                      <a:lnTo>
                        <a:pt x="0" y="115"/>
                      </a:lnTo>
                      <a:lnTo>
                        <a:pt x="17" y="168"/>
                      </a:lnTo>
                      <a:lnTo>
                        <a:pt x="70" y="190"/>
                      </a:lnTo>
                      <a:lnTo>
                        <a:pt x="110" y="190"/>
                      </a:lnTo>
                      <a:lnTo>
                        <a:pt x="164" y="172"/>
                      </a:lnTo>
                      <a:lnTo>
                        <a:pt x="203" y="172"/>
                      </a:lnTo>
                      <a:lnTo>
                        <a:pt x="239" y="155"/>
                      </a:lnTo>
                      <a:lnTo>
                        <a:pt x="349" y="177"/>
                      </a:lnTo>
                      <a:lnTo>
                        <a:pt x="429" y="208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2719440" y="6122880"/>
                  <a:ext cx="241560" cy="84600"/>
                </a:xfrm>
                <a:custGeom>
                  <a:avLst/>
                  <a:gdLst/>
                  <a:ahLst/>
                  <a:rect l="0" t="0" r="r" b="b"/>
                  <a:pathLst>
                    <a:path w="671" h="235">
                      <a:moveTo>
                        <a:pt x="583" y="52"/>
                      </a:moveTo>
                      <a:lnTo>
                        <a:pt x="508" y="75"/>
                      </a:lnTo>
                      <a:lnTo>
                        <a:pt x="349" y="111"/>
                      </a:lnTo>
                      <a:lnTo>
                        <a:pt x="273" y="124"/>
                      </a:lnTo>
                      <a:lnTo>
                        <a:pt x="233" y="142"/>
                      </a:lnTo>
                      <a:lnTo>
                        <a:pt x="194" y="146"/>
                      </a:lnTo>
                      <a:lnTo>
                        <a:pt x="154" y="159"/>
                      </a:lnTo>
                      <a:lnTo>
                        <a:pt x="101" y="159"/>
                      </a:lnTo>
                      <a:lnTo>
                        <a:pt x="57" y="164"/>
                      </a:lnTo>
                      <a:lnTo>
                        <a:pt x="22" y="128"/>
                      </a:lnTo>
                      <a:lnTo>
                        <a:pt x="0" y="75"/>
                      </a:lnTo>
                      <a:lnTo>
                        <a:pt x="52" y="30"/>
                      </a:lnTo>
                      <a:lnTo>
                        <a:pt x="92" y="26"/>
                      </a:lnTo>
                      <a:lnTo>
                        <a:pt x="132" y="39"/>
                      </a:lnTo>
                      <a:lnTo>
                        <a:pt x="163" y="89"/>
                      </a:lnTo>
                      <a:lnTo>
                        <a:pt x="202" y="89"/>
                      </a:lnTo>
                      <a:lnTo>
                        <a:pt x="238" y="57"/>
                      </a:lnTo>
                      <a:lnTo>
                        <a:pt x="277" y="30"/>
                      </a:lnTo>
                      <a:lnTo>
                        <a:pt x="317" y="0"/>
                      </a:lnTo>
                      <a:lnTo>
                        <a:pt x="349" y="39"/>
                      </a:lnTo>
                      <a:lnTo>
                        <a:pt x="402" y="67"/>
                      </a:lnTo>
                      <a:lnTo>
                        <a:pt x="437" y="48"/>
                      </a:lnTo>
                      <a:lnTo>
                        <a:pt x="477" y="35"/>
                      </a:lnTo>
                      <a:lnTo>
                        <a:pt x="521" y="22"/>
                      </a:lnTo>
                      <a:lnTo>
                        <a:pt x="583" y="52"/>
                      </a:lnTo>
                      <a:lnTo>
                        <a:pt x="644" y="93"/>
                      </a:lnTo>
                      <a:lnTo>
                        <a:pt x="671" y="128"/>
                      </a:lnTo>
                      <a:lnTo>
                        <a:pt x="671" y="172"/>
                      </a:lnTo>
                      <a:lnTo>
                        <a:pt x="636" y="200"/>
                      </a:lnTo>
                      <a:lnTo>
                        <a:pt x="583" y="226"/>
                      </a:lnTo>
                      <a:lnTo>
                        <a:pt x="543" y="231"/>
                      </a:lnTo>
                      <a:lnTo>
                        <a:pt x="503" y="235"/>
                      </a:lnTo>
                      <a:lnTo>
                        <a:pt x="486" y="182"/>
                      </a:lnTo>
                      <a:lnTo>
                        <a:pt x="538" y="150"/>
                      </a:lnTo>
                      <a:lnTo>
                        <a:pt x="578" y="111"/>
                      </a:lnTo>
                      <a:lnTo>
                        <a:pt x="534" y="84"/>
                      </a:lnTo>
                      <a:lnTo>
                        <a:pt x="583" y="52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0">
                  <a:noFill/>
                </a:ln>
              </p:spPr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1" name=""/>
            <p:cNvSpPr/>
            <p:nvPr/>
          </p:nvSpPr>
          <p:spPr>
            <a:xfrm>
              <a:off x="2549520" y="6267600"/>
              <a:ext cx="814680" cy="25920"/>
            </a:xfrm>
            <a:custGeom>
              <a:avLst/>
              <a:gdLst/>
              <a:ahLst/>
              <a:rect l="0" t="0" r="r" b="b"/>
              <a:pathLst>
                <a:path fill="none" w="2263" h="72">
                  <a:moveTo>
                    <a:pt x="0" y="72"/>
                  </a:moveTo>
                  <a:lnTo>
                    <a:pt x="343" y="72"/>
                  </a:lnTo>
                  <a:lnTo>
                    <a:pt x="1178" y="0"/>
                  </a:lnTo>
                  <a:lnTo>
                    <a:pt x="1707" y="36"/>
                  </a:lnTo>
                  <a:lnTo>
                    <a:pt x="2263" y="5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3819600" y="3925800"/>
            <a:ext cx="1505160" cy="1148400"/>
            <a:chOff x="3819600" y="3925800"/>
            <a:chExt cx="1505160" cy="1148400"/>
          </a:xfrm>
        </p:grpSpPr>
        <p:sp>
          <p:nvSpPr>
            <p:cNvPr id="1093" name=""/>
            <p:cNvSpPr/>
            <p:nvPr/>
          </p:nvSpPr>
          <p:spPr>
            <a:xfrm>
              <a:off x="4105440" y="4183200"/>
              <a:ext cx="573480" cy="373320"/>
            </a:xfrm>
            <a:custGeom>
              <a:avLst/>
              <a:gdLst/>
              <a:ahLst/>
              <a:rect l="0" t="0" r="r" b="b"/>
              <a:pathLst>
                <a:path w="1593" h="1037">
                  <a:moveTo>
                    <a:pt x="4" y="458"/>
                  </a:moveTo>
                  <a:lnTo>
                    <a:pt x="0" y="392"/>
                  </a:lnTo>
                  <a:lnTo>
                    <a:pt x="13" y="335"/>
                  </a:lnTo>
                  <a:lnTo>
                    <a:pt x="61" y="304"/>
                  </a:lnTo>
                  <a:lnTo>
                    <a:pt x="123" y="242"/>
                  </a:lnTo>
                  <a:lnTo>
                    <a:pt x="158" y="114"/>
                  </a:lnTo>
                  <a:lnTo>
                    <a:pt x="189" y="70"/>
                  </a:lnTo>
                  <a:lnTo>
                    <a:pt x="238" y="0"/>
                  </a:lnTo>
                  <a:lnTo>
                    <a:pt x="291" y="35"/>
                  </a:lnTo>
                  <a:lnTo>
                    <a:pt x="304" y="48"/>
                  </a:lnTo>
                  <a:lnTo>
                    <a:pt x="313" y="149"/>
                  </a:lnTo>
                  <a:lnTo>
                    <a:pt x="396" y="171"/>
                  </a:lnTo>
                  <a:lnTo>
                    <a:pt x="446" y="207"/>
                  </a:lnTo>
                  <a:lnTo>
                    <a:pt x="512" y="180"/>
                  </a:lnTo>
                  <a:lnTo>
                    <a:pt x="591" y="171"/>
                  </a:lnTo>
                  <a:lnTo>
                    <a:pt x="693" y="277"/>
                  </a:lnTo>
                  <a:lnTo>
                    <a:pt x="746" y="379"/>
                  </a:lnTo>
                  <a:lnTo>
                    <a:pt x="830" y="370"/>
                  </a:lnTo>
                  <a:lnTo>
                    <a:pt x="940" y="343"/>
                  </a:lnTo>
                  <a:lnTo>
                    <a:pt x="1046" y="326"/>
                  </a:lnTo>
                  <a:lnTo>
                    <a:pt x="1116" y="335"/>
                  </a:lnTo>
                  <a:lnTo>
                    <a:pt x="1182" y="348"/>
                  </a:lnTo>
                  <a:lnTo>
                    <a:pt x="1232" y="348"/>
                  </a:lnTo>
                  <a:lnTo>
                    <a:pt x="1232" y="348"/>
                  </a:lnTo>
                  <a:lnTo>
                    <a:pt x="1333" y="454"/>
                  </a:lnTo>
                  <a:lnTo>
                    <a:pt x="1421" y="538"/>
                  </a:lnTo>
                  <a:lnTo>
                    <a:pt x="1505" y="636"/>
                  </a:lnTo>
                  <a:lnTo>
                    <a:pt x="1593" y="759"/>
                  </a:lnTo>
                  <a:lnTo>
                    <a:pt x="1563" y="737"/>
                  </a:lnTo>
                  <a:lnTo>
                    <a:pt x="1527" y="710"/>
                  </a:lnTo>
                  <a:lnTo>
                    <a:pt x="1510" y="662"/>
                  </a:lnTo>
                  <a:lnTo>
                    <a:pt x="1492" y="658"/>
                  </a:lnTo>
                  <a:lnTo>
                    <a:pt x="1426" y="644"/>
                  </a:lnTo>
                  <a:lnTo>
                    <a:pt x="1346" y="622"/>
                  </a:lnTo>
                  <a:lnTo>
                    <a:pt x="1311" y="565"/>
                  </a:lnTo>
                  <a:lnTo>
                    <a:pt x="1307" y="530"/>
                  </a:lnTo>
                  <a:lnTo>
                    <a:pt x="1294" y="515"/>
                  </a:lnTo>
                  <a:lnTo>
                    <a:pt x="1173" y="471"/>
                  </a:lnTo>
                  <a:lnTo>
                    <a:pt x="1090" y="480"/>
                  </a:lnTo>
                  <a:lnTo>
                    <a:pt x="1028" y="507"/>
                  </a:lnTo>
                  <a:lnTo>
                    <a:pt x="944" y="515"/>
                  </a:lnTo>
                  <a:lnTo>
                    <a:pt x="865" y="521"/>
                  </a:lnTo>
                  <a:lnTo>
                    <a:pt x="869" y="591"/>
                  </a:lnTo>
                  <a:lnTo>
                    <a:pt x="856" y="649"/>
                  </a:lnTo>
                  <a:lnTo>
                    <a:pt x="847" y="702"/>
                  </a:lnTo>
                  <a:lnTo>
                    <a:pt x="843" y="733"/>
                  </a:lnTo>
                  <a:lnTo>
                    <a:pt x="830" y="759"/>
                  </a:lnTo>
                  <a:lnTo>
                    <a:pt x="763" y="715"/>
                  </a:lnTo>
                  <a:lnTo>
                    <a:pt x="746" y="702"/>
                  </a:lnTo>
                  <a:lnTo>
                    <a:pt x="733" y="693"/>
                  </a:lnTo>
                  <a:lnTo>
                    <a:pt x="715" y="644"/>
                  </a:lnTo>
                  <a:lnTo>
                    <a:pt x="693" y="600"/>
                  </a:lnTo>
                  <a:lnTo>
                    <a:pt x="693" y="600"/>
                  </a:lnTo>
                  <a:lnTo>
                    <a:pt x="710" y="613"/>
                  </a:lnTo>
                  <a:lnTo>
                    <a:pt x="724" y="622"/>
                  </a:lnTo>
                  <a:lnTo>
                    <a:pt x="728" y="658"/>
                  </a:lnTo>
                  <a:lnTo>
                    <a:pt x="684" y="688"/>
                  </a:lnTo>
                  <a:lnTo>
                    <a:pt x="649" y="702"/>
                  </a:lnTo>
                  <a:lnTo>
                    <a:pt x="636" y="719"/>
                  </a:lnTo>
                  <a:lnTo>
                    <a:pt x="636" y="755"/>
                  </a:lnTo>
                  <a:lnTo>
                    <a:pt x="640" y="790"/>
                  </a:lnTo>
                  <a:lnTo>
                    <a:pt x="543" y="821"/>
                  </a:lnTo>
                  <a:lnTo>
                    <a:pt x="583" y="878"/>
                  </a:lnTo>
                  <a:lnTo>
                    <a:pt x="583" y="913"/>
                  </a:lnTo>
                  <a:lnTo>
                    <a:pt x="534" y="944"/>
                  </a:lnTo>
                  <a:lnTo>
                    <a:pt x="459" y="1019"/>
                  </a:lnTo>
                  <a:lnTo>
                    <a:pt x="424" y="1037"/>
                  </a:lnTo>
                  <a:lnTo>
                    <a:pt x="379" y="1032"/>
                  </a:lnTo>
                  <a:lnTo>
                    <a:pt x="370" y="1002"/>
                  </a:lnTo>
                  <a:lnTo>
                    <a:pt x="388" y="975"/>
                  </a:lnTo>
                  <a:lnTo>
                    <a:pt x="472" y="900"/>
                  </a:lnTo>
                  <a:lnTo>
                    <a:pt x="543" y="821"/>
                  </a:lnTo>
                  <a:lnTo>
                    <a:pt x="543" y="821"/>
                  </a:lnTo>
                  <a:lnTo>
                    <a:pt x="512" y="834"/>
                  </a:lnTo>
                  <a:lnTo>
                    <a:pt x="481" y="843"/>
                  </a:lnTo>
                  <a:lnTo>
                    <a:pt x="446" y="852"/>
                  </a:lnTo>
                  <a:lnTo>
                    <a:pt x="433" y="843"/>
                  </a:lnTo>
                  <a:lnTo>
                    <a:pt x="402" y="816"/>
                  </a:lnTo>
                  <a:lnTo>
                    <a:pt x="374" y="772"/>
                  </a:lnTo>
                  <a:lnTo>
                    <a:pt x="379" y="741"/>
                  </a:lnTo>
                  <a:lnTo>
                    <a:pt x="330" y="706"/>
                  </a:lnTo>
                  <a:lnTo>
                    <a:pt x="277" y="671"/>
                  </a:lnTo>
                  <a:lnTo>
                    <a:pt x="163" y="591"/>
                  </a:lnTo>
                  <a:lnTo>
                    <a:pt x="97" y="618"/>
                  </a:lnTo>
                  <a:lnTo>
                    <a:pt x="61" y="627"/>
                  </a:lnTo>
                  <a:lnTo>
                    <a:pt x="44" y="618"/>
                  </a:lnTo>
                  <a:lnTo>
                    <a:pt x="48" y="583"/>
                  </a:lnTo>
                  <a:lnTo>
                    <a:pt x="39" y="547"/>
                  </a:lnTo>
                  <a:lnTo>
                    <a:pt x="26" y="538"/>
                  </a:lnTo>
                  <a:lnTo>
                    <a:pt x="4" y="458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322880" y="4290840"/>
              <a:ext cx="74880" cy="128880"/>
            </a:xfrm>
            <a:custGeom>
              <a:avLst/>
              <a:gdLst/>
              <a:ahLst/>
              <a:rect l="0" t="0" r="r" b="b"/>
              <a:pathLst>
                <a:path w="208" h="358">
                  <a:moveTo>
                    <a:pt x="92" y="247"/>
                  </a:moveTo>
                  <a:lnTo>
                    <a:pt x="44" y="212"/>
                  </a:lnTo>
                  <a:lnTo>
                    <a:pt x="4" y="154"/>
                  </a:lnTo>
                  <a:lnTo>
                    <a:pt x="0" y="88"/>
                  </a:lnTo>
                  <a:lnTo>
                    <a:pt x="0" y="22"/>
                  </a:lnTo>
                  <a:lnTo>
                    <a:pt x="35" y="8"/>
                  </a:lnTo>
                  <a:lnTo>
                    <a:pt x="92" y="0"/>
                  </a:lnTo>
                  <a:lnTo>
                    <a:pt x="115" y="13"/>
                  </a:lnTo>
                  <a:lnTo>
                    <a:pt x="115" y="13"/>
                  </a:lnTo>
                  <a:lnTo>
                    <a:pt x="101" y="39"/>
                  </a:lnTo>
                  <a:lnTo>
                    <a:pt x="101" y="101"/>
                  </a:lnTo>
                  <a:lnTo>
                    <a:pt x="115" y="181"/>
                  </a:lnTo>
                  <a:lnTo>
                    <a:pt x="155" y="221"/>
                  </a:lnTo>
                  <a:lnTo>
                    <a:pt x="181" y="239"/>
                  </a:lnTo>
                  <a:lnTo>
                    <a:pt x="195" y="265"/>
                  </a:lnTo>
                  <a:lnTo>
                    <a:pt x="208" y="292"/>
                  </a:lnTo>
                  <a:lnTo>
                    <a:pt x="203" y="322"/>
                  </a:lnTo>
                  <a:lnTo>
                    <a:pt x="208" y="344"/>
                  </a:lnTo>
                  <a:lnTo>
                    <a:pt x="199" y="349"/>
                  </a:lnTo>
                  <a:lnTo>
                    <a:pt x="164" y="358"/>
                  </a:lnTo>
                  <a:lnTo>
                    <a:pt x="142" y="344"/>
                  </a:lnTo>
                  <a:lnTo>
                    <a:pt x="137" y="327"/>
                  </a:lnTo>
                  <a:lnTo>
                    <a:pt x="101" y="283"/>
                  </a:lnTo>
                  <a:lnTo>
                    <a:pt x="101" y="265"/>
                  </a:lnTo>
                  <a:lnTo>
                    <a:pt x="106" y="256"/>
                  </a:lnTo>
                  <a:lnTo>
                    <a:pt x="92" y="24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75000" y="4597560"/>
              <a:ext cx="132120" cy="152640"/>
            </a:xfrm>
            <a:custGeom>
              <a:avLst/>
              <a:gdLst/>
              <a:ahLst/>
              <a:rect l="0" t="0" r="r" b="b"/>
              <a:pathLst>
                <a:path w="367" h="424">
                  <a:moveTo>
                    <a:pt x="367" y="180"/>
                  </a:moveTo>
                  <a:lnTo>
                    <a:pt x="252" y="180"/>
                  </a:lnTo>
                  <a:lnTo>
                    <a:pt x="123" y="171"/>
                  </a:lnTo>
                  <a:lnTo>
                    <a:pt x="74" y="141"/>
                  </a:lnTo>
                  <a:lnTo>
                    <a:pt x="35" y="110"/>
                  </a:lnTo>
                  <a:lnTo>
                    <a:pt x="8" y="66"/>
                  </a:lnTo>
                  <a:lnTo>
                    <a:pt x="0" y="13"/>
                  </a:lnTo>
                  <a:lnTo>
                    <a:pt x="26" y="13"/>
                  </a:lnTo>
                  <a:lnTo>
                    <a:pt x="52" y="0"/>
                  </a:lnTo>
                  <a:lnTo>
                    <a:pt x="83" y="4"/>
                  </a:lnTo>
                  <a:lnTo>
                    <a:pt x="92" y="17"/>
                  </a:lnTo>
                  <a:lnTo>
                    <a:pt x="88" y="83"/>
                  </a:lnTo>
                  <a:lnTo>
                    <a:pt x="70" y="154"/>
                  </a:lnTo>
                  <a:lnTo>
                    <a:pt x="97" y="136"/>
                  </a:lnTo>
                  <a:lnTo>
                    <a:pt x="101" y="127"/>
                  </a:lnTo>
                  <a:lnTo>
                    <a:pt x="119" y="105"/>
                  </a:lnTo>
                  <a:lnTo>
                    <a:pt x="123" y="92"/>
                  </a:lnTo>
                  <a:lnTo>
                    <a:pt x="149" y="83"/>
                  </a:lnTo>
                  <a:lnTo>
                    <a:pt x="190" y="52"/>
                  </a:lnTo>
                  <a:lnTo>
                    <a:pt x="212" y="48"/>
                  </a:lnTo>
                  <a:lnTo>
                    <a:pt x="217" y="35"/>
                  </a:lnTo>
                  <a:lnTo>
                    <a:pt x="274" y="48"/>
                  </a:lnTo>
                  <a:lnTo>
                    <a:pt x="327" y="66"/>
                  </a:lnTo>
                  <a:lnTo>
                    <a:pt x="358" y="105"/>
                  </a:lnTo>
                  <a:lnTo>
                    <a:pt x="367" y="136"/>
                  </a:lnTo>
                  <a:lnTo>
                    <a:pt x="358" y="225"/>
                  </a:lnTo>
                  <a:lnTo>
                    <a:pt x="331" y="309"/>
                  </a:lnTo>
                  <a:lnTo>
                    <a:pt x="340" y="349"/>
                  </a:lnTo>
                  <a:lnTo>
                    <a:pt x="336" y="393"/>
                  </a:lnTo>
                  <a:lnTo>
                    <a:pt x="336" y="424"/>
                  </a:lnTo>
                  <a:lnTo>
                    <a:pt x="318" y="424"/>
                  </a:lnTo>
                  <a:lnTo>
                    <a:pt x="287" y="419"/>
                  </a:lnTo>
                  <a:lnTo>
                    <a:pt x="296" y="362"/>
                  </a:lnTo>
                  <a:lnTo>
                    <a:pt x="318" y="331"/>
                  </a:lnTo>
                  <a:lnTo>
                    <a:pt x="322" y="292"/>
                  </a:lnTo>
                  <a:lnTo>
                    <a:pt x="331" y="234"/>
                  </a:lnTo>
                  <a:lnTo>
                    <a:pt x="322" y="202"/>
                  </a:lnTo>
                  <a:lnTo>
                    <a:pt x="309" y="194"/>
                  </a:lnTo>
                  <a:lnTo>
                    <a:pt x="327" y="189"/>
                  </a:lnTo>
                  <a:lnTo>
                    <a:pt x="367" y="18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614840" y="4680000"/>
              <a:ext cx="93960" cy="167040"/>
            </a:xfrm>
            <a:custGeom>
              <a:avLst/>
              <a:gdLst/>
              <a:ahLst/>
              <a:rect l="0" t="0" r="r" b="b"/>
              <a:pathLst>
                <a:path w="261" h="464">
                  <a:moveTo>
                    <a:pt x="155" y="114"/>
                  </a:moveTo>
                  <a:lnTo>
                    <a:pt x="159" y="163"/>
                  </a:lnTo>
                  <a:lnTo>
                    <a:pt x="159" y="194"/>
                  </a:lnTo>
                  <a:lnTo>
                    <a:pt x="114" y="198"/>
                  </a:lnTo>
                  <a:lnTo>
                    <a:pt x="74" y="216"/>
                  </a:lnTo>
                  <a:lnTo>
                    <a:pt x="30" y="331"/>
                  </a:lnTo>
                  <a:lnTo>
                    <a:pt x="0" y="455"/>
                  </a:lnTo>
                  <a:lnTo>
                    <a:pt x="44" y="464"/>
                  </a:lnTo>
                  <a:lnTo>
                    <a:pt x="66" y="433"/>
                  </a:lnTo>
                  <a:lnTo>
                    <a:pt x="114" y="358"/>
                  </a:lnTo>
                  <a:lnTo>
                    <a:pt x="110" y="340"/>
                  </a:lnTo>
                  <a:lnTo>
                    <a:pt x="123" y="300"/>
                  </a:lnTo>
                  <a:lnTo>
                    <a:pt x="127" y="269"/>
                  </a:lnTo>
                  <a:lnTo>
                    <a:pt x="133" y="256"/>
                  </a:lnTo>
                  <a:lnTo>
                    <a:pt x="159" y="239"/>
                  </a:lnTo>
                  <a:lnTo>
                    <a:pt x="195" y="220"/>
                  </a:lnTo>
                  <a:lnTo>
                    <a:pt x="221" y="202"/>
                  </a:lnTo>
                  <a:lnTo>
                    <a:pt x="225" y="194"/>
                  </a:lnTo>
                  <a:lnTo>
                    <a:pt x="247" y="163"/>
                  </a:lnTo>
                  <a:lnTo>
                    <a:pt x="261" y="119"/>
                  </a:lnTo>
                  <a:lnTo>
                    <a:pt x="243" y="92"/>
                  </a:lnTo>
                  <a:lnTo>
                    <a:pt x="217" y="30"/>
                  </a:lnTo>
                  <a:lnTo>
                    <a:pt x="212" y="8"/>
                  </a:lnTo>
                  <a:lnTo>
                    <a:pt x="199" y="0"/>
                  </a:lnTo>
                  <a:lnTo>
                    <a:pt x="203" y="17"/>
                  </a:lnTo>
                  <a:lnTo>
                    <a:pt x="203" y="48"/>
                  </a:lnTo>
                  <a:lnTo>
                    <a:pt x="225" y="92"/>
                  </a:lnTo>
                  <a:lnTo>
                    <a:pt x="234" y="132"/>
                  </a:lnTo>
                  <a:lnTo>
                    <a:pt x="225" y="145"/>
                  </a:lnTo>
                  <a:lnTo>
                    <a:pt x="221" y="154"/>
                  </a:lnTo>
                  <a:lnTo>
                    <a:pt x="195" y="136"/>
                  </a:lnTo>
                  <a:lnTo>
                    <a:pt x="155" y="114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145040" y="4403880"/>
              <a:ext cx="186120" cy="133560"/>
            </a:xfrm>
            <a:custGeom>
              <a:avLst/>
              <a:gdLst/>
              <a:ahLst/>
              <a:rect l="0" t="0" r="r" b="b"/>
              <a:pathLst>
                <a:path w="517" h="371">
                  <a:moveTo>
                    <a:pt x="473" y="167"/>
                  </a:moveTo>
                  <a:lnTo>
                    <a:pt x="358" y="105"/>
                  </a:lnTo>
                  <a:lnTo>
                    <a:pt x="265" y="44"/>
                  </a:lnTo>
                  <a:lnTo>
                    <a:pt x="221" y="13"/>
                  </a:lnTo>
                  <a:lnTo>
                    <a:pt x="164" y="8"/>
                  </a:lnTo>
                  <a:lnTo>
                    <a:pt x="105" y="0"/>
                  </a:lnTo>
                  <a:lnTo>
                    <a:pt x="48" y="22"/>
                  </a:lnTo>
                  <a:lnTo>
                    <a:pt x="127" y="57"/>
                  </a:lnTo>
                  <a:lnTo>
                    <a:pt x="172" y="57"/>
                  </a:lnTo>
                  <a:lnTo>
                    <a:pt x="234" y="70"/>
                  </a:lnTo>
                  <a:lnTo>
                    <a:pt x="225" y="190"/>
                  </a:lnTo>
                  <a:lnTo>
                    <a:pt x="199" y="296"/>
                  </a:lnTo>
                  <a:lnTo>
                    <a:pt x="172" y="314"/>
                  </a:lnTo>
                  <a:lnTo>
                    <a:pt x="150" y="322"/>
                  </a:lnTo>
                  <a:lnTo>
                    <a:pt x="114" y="336"/>
                  </a:lnTo>
                  <a:lnTo>
                    <a:pt x="57" y="344"/>
                  </a:lnTo>
                  <a:lnTo>
                    <a:pt x="22" y="336"/>
                  </a:lnTo>
                  <a:lnTo>
                    <a:pt x="0" y="336"/>
                  </a:lnTo>
                  <a:lnTo>
                    <a:pt x="44" y="367"/>
                  </a:lnTo>
                  <a:lnTo>
                    <a:pt x="70" y="371"/>
                  </a:lnTo>
                  <a:lnTo>
                    <a:pt x="137" y="367"/>
                  </a:lnTo>
                  <a:lnTo>
                    <a:pt x="186" y="318"/>
                  </a:lnTo>
                  <a:lnTo>
                    <a:pt x="239" y="261"/>
                  </a:lnTo>
                  <a:lnTo>
                    <a:pt x="265" y="243"/>
                  </a:lnTo>
                  <a:lnTo>
                    <a:pt x="283" y="243"/>
                  </a:lnTo>
                  <a:lnTo>
                    <a:pt x="318" y="239"/>
                  </a:lnTo>
                  <a:lnTo>
                    <a:pt x="344" y="243"/>
                  </a:lnTo>
                  <a:lnTo>
                    <a:pt x="371" y="243"/>
                  </a:lnTo>
                  <a:lnTo>
                    <a:pt x="398" y="230"/>
                  </a:lnTo>
                  <a:lnTo>
                    <a:pt x="390" y="171"/>
                  </a:lnTo>
                  <a:lnTo>
                    <a:pt x="375" y="145"/>
                  </a:lnTo>
                  <a:lnTo>
                    <a:pt x="349" y="114"/>
                  </a:lnTo>
                  <a:lnTo>
                    <a:pt x="318" y="79"/>
                  </a:lnTo>
                  <a:lnTo>
                    <a:pt x="292" y="74"/>
                  </a:lnTo>
                  <a:lnTo>
                    <a:pt x="292" y="74"/>
                  </a:lnTo>
                  <a:lnTo>
                    <a:pt x="292" y="92"/>
                  </a:lnTo>
                  <a:lnTo>
                    <a:pt x="296" y="127"/>
                  </a:lnTo>
                  <a:lnTo>
                    <a:pt x="318" y="158"/>
                  </a:lnTo>
                  <a:lnTo>
                    <a:pt x="407" y="154"/>
                  </a:lnTo>
                  <a:lnTo>
                    <a:pt x="434" y="141"/>
                  </a:lnTo>
                  <a:lnTo>
                    <a:pt x="451" y="119"/>
                  </a:lnTo>
                  <a:lnTo>
                    <a:pt x="473" y="119"/>
                  </a:lnTo>
                  <a:lnTo>
                    <a:pt x="495" y="105"/>
                  </a:lnTo>
                  <a:lnTo>
                    <a:pt x="504" y="92"/>
                  </a:lnTo>
                  <a:lnTo>
                    <a:pt x="517" y="101"/>
                  </a:lnTo>
                  <a:lnTo>
                    <a:pt x="509" y="132"/>
                  </a:lnTo>
                  <a:lnTo>
                    <a:pt x="495" y="149"/>
                  </a:lnTo>
                  <a:lnTo>
                    <a:pt x="460" y="208"/>
                  </a:lnTo>
                  <a:lnTo>
                    <a:pt x="473" y="212"/>
                  </a:lnTo>
                  <a:lnTo>
                    <a:pt x="469" y="221"/>
                  </a:lnTo>
                  <a:lnTo>
                    <a:pt x="456" y="234"/>
                  </a:lnTo>
                  <a:lnTo>
                    <a:pt x="456" y="234"/>
                  </a:lnTo>
                  <a:lnTo>
                    <a:pt x="469" y="195"/>
                  </a:lnTo>
                  <a:lnTo>
                    <a:pt x="473" y="16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824360" y="4919760"/>
              <a:ext cx="195480" cy="154440"/>
            </a:xfrm>
            <a:custGeom>
              <a:avLst/>
              <a:gdLst/>
              <a:ahLst/>
              <a:rect l="0" t="0" r="r" b="b"/>
              <a:pathLst>
                <a:path w="543" h="429">
                  <a:moveTo>
                    <a:pt x="0" y="83"/>
                  </a:moveTo>
                  <a:lnTo>
                    <a:pt x="48" y="128"/>
                  </a:lnTo>
                  <a:lnTo>
                    <a:pt x="79" y="181"/>
                  </a:lnTo>
                  <a:lnTo>
                    <a:pt x="180" y="292"/>
                  </a:lnTo>
                  <a:lnTo>
                    <a:pt x="287" y="412"/>
                  </a:lnTo>
                  <a:lnTo>
                    <a:pt x="331" y="429"/>
                  </a:lnTo>
                  <a:lnTo>
                    <a:pt x="375" y="425"/>
                  </a:lnTo>
                  <a:lnTo>
                    <a:pt x="415" y="425"/>
                  </a:lnTo>
                  <a:lnTo>
                    <a:pt x="464" y="412"/>
                  </a:lnTo>
                  <a:lnTo>
                    <a:pt x="503" y="390"/>
                  </a:lnTo>
                  <a:lnTo>
                    <a:pt x="516" y="372"/>
                  </a:lnTo>
                  <a:lnTo>
                    <a:pt x="530" y="376"/>
                  </a:lnTo>
                  <a:lnTo>
                    <a:pt x="543" y="390"/>
                  </a:lnTo>
                  <a:lnTo>
                    <a:pt x="534" y="407"/>
                  </a:lnTo>
                  <a:lnTo>
                    <a:pt x="499" y="429"/>
                  </a:lnTo>
                  <a:lnTo>
                    <a:pt x="367" y="345"/>
                  </a:lnTo>
                  <a:lnTo>
                    <a:pt x="349" y="345"/>
                  </a:lnTo>
                  <a:lnTo>
                    <a:pt x="336" y="337"/>
                  </a:lnTo>
                  <a:lnTo>
                    <a:pt x="336" y="309"/>
                  </a:lnTo>
                  <a:lnTo>
                    <a:pt x="327" y="256"/>
                  </a:lnTo>
                  <a:lnTo>
                    <a:pt x="336" y="212"/>
                  </a:lnTo>
                  <a:lnTo>
                    <a:pt x="349" y="195"/>
                  </a:lnTo>
                  <a:lnTo>
                    <a:pt x="327" y="168"/>
                  </a:lnTo>
                  <a:lnTo>
                    <a:pt x="300" y="150"/>
                  </a:lnTo>
                  <a:lnTo>
                    <a:pt x="278" y="150"/>
                  </a:lnTo>
                  <a:lnTo>
                    <a:pt x="242" y="168"/>
                  </a:lnTo>
                  <a:lnTo>
                    <a:pt x="246" y="199"/>
                  </a:lnTo>
                  <a:lnTo>
                    <a:pt x="268" y="230"/>
                  </a:lnTo>
                  <a:lnTo>
                    <a:pt x="292" y="278"/>
                  </a:lnTo>
                  <a:lnTo>
                    <a:pt x="229" y="283"/>
                  </a:lnTo>
                  <a:lnTo>
                    <a:pt x="207" y="287"/>
                  </a:lnTo>
                  <a:lnTo>
                    <a:pt x="194" y="243"/>
                  </a:lnTo>
                  <a:lnTo>
                    <a:pt x="189" y="190"/>
                  </a:lnTo>
                  <a:lnTo>
                    <a:pt x="185" y="172"/>
                  </a:lnTo>
                  <a:lnTo>
                    <a:pt x="176" y="155"/>
                  </a:lnTo>
                  <a:lnTo>
                    <a:pt x="39" y="0"/>
                  </a:lnTo>
                  <a:lnTo>
                    <a:pt x="57" y="30"/>
                  </a:lnTo>
                  <a:lnTo>
                    <a:pt x="66" y="74"/>
                  </a:lnTo>
                  <a:lnTo>
                    <a:pt x="48" y="101"/>
                  </a:lnTo>
                  <a:lnTo>
                    <a:pt x="30" y="101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176800" y="4884840"/>
              <a:ext cx="147960" cy="108360"/>
            </a:xfrm>
            <a:custGeom>
              <a:avLst/>
              <a:gdLst/>
              <a:ahLst/>
              <a:rect l="0" t="0" r="r" b="b"/>
              <a:pathLst>
                <a:path w="411" h="301">
                  <a:moveTo>
                    <a:pt x="48" y="70"/>
                  </a:moveTo>
                  <a:lnTo>
                    <a:pt x="79" y="124"/>
                  </a:lnTo>
                  <a:lnTo>
                    <a:pt x="101" y="155"/>
                  </a:lnTo>
                  <a:lnTo>
                    <a:pt x="123" y="186"/>
                  </a:lnTo>
                  <a:lnTo>
                    <a:pt x="158" y="225"/>
                  </a:lnTo>
                  <a:lnTo>
                    <a:pt x="185" y="257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61" y="297"/>
                  </a:lnTo>
                  <a:lnTo>
                    <a:pt x="322" y="301"/>
                  </a:lnTo>
                  <a:lnTo>
                    <a:pt x="411" y="266"/>
                  </a:lnTo>
                  <a:lnTo>
                    <a:pt x="367" y="266"/>
                  </a:lnTo>
                  <a:lnTo>
                    <a:pt x="331" y="257"/>
                  </a:lnTo>
                  <a:lnTo>
                    <a:pt x="314" y="253"/>
                  </a:lnTo>
                  <a:lnTo>
                    <a:pt x="283" y="195"/>
                  </a:lnTo>
                  <a:lnTo>
                    <a:pt x="256" y="208"/>
                  </a:lnTo>
                  <a:lnTo>
                    <a:pt x="225" y="190"/>
                  </a:lnTo>
                  <a:lnTo>
                    <a:pt x="221" y="168"/>
                  </a:lnTo>
                  <a:lnTo>
                    <a:pt x="217" y="137"/>
                  </a:lnTo>
                  <a:lnTo>
                    <a:pt x="202" y="93"/>
                  </a:lnTo>
                  <a:lnTo>
                    <a:pt x="189" y="48"/>
                  </a:lnTo>
                  <a:lnTo>
                    <a:pt x="176" y="44"/>
                  </a:lnTo>
                  <a:lnTo>
                    <a:pt x="145" y="22"/>
                  </a:lnTo>
                  <a:lnTo>
                    <a:pt x="97" y="0"/>
                  </a:lnTo>
                  <a:lnTo>
                    <a:pt x="30" y="8"/>
                  </a:lnTo>
                  <a:lnTo>
                    <a:pt x="0" y="22"/>
                  </a:lnTo>
                  <a:lnTo>
                    <a:pt x="17" y="26"/>
                  </a:lnTo>
                  <a:lnTo>
                    <a:pt x="22" y="52"/>
                  </a:lnTo>
                  <a:lnTo>
                    <a:pt x="48" y="70"/>
                  </a:lnTo>
                  <a:lnTo>
                    <a:pt x="66" y="80"/>
                  </a:lnTo>
                  <a:lnTo>
                    <a:pt x="66" y="80"/>
                  </a:lnTo>
                  <a:lnTo>
                    <a:pt x="48" y="7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92600" y="4441680"/>
              <a:ext cx="198720" cy="349560"/>
            </a:xfrm>
            <a:custGeom>
              <a:avLst/>
              <a:gdLst/>
              <a:ahLst/>
              <a:rect l="0" t="0" r="r" b="b"/>
              <a:pathLst>
                <a:path w="552" h="971">
                  <a:moveTo>
                    <a:pt x="136" y="313"/>
                  </a:moveTo>
                  <a:lnTo>
                    <a:pt x="224" y="405"/>
                  </a:lnTo>
                  <a:lnTo>
                    <a:pt x="260" y="458"/>
                  </a:lnTo>
                  <a:lnTo>
                    <a:pt x="268" y="525"/>
                  </a:lnTo>
                  <a:lnTo>
                    <a:pt x="220" y="561"/>
                  </a:lnTo>
                  <a:lnTo>
                    <a:pt x="194" y="574"/>
                  </a:lnTo>
                  <a:lnTo>
                    <a:pt x="167" y="609"/>
                  </a:lnTo>
                  <a:lnTo>
                    <a:pt x="149" y="671"/>
                  </a:lnTo>
                  <a:lnTo>
                    <a:pt x="158" y="737"/>
                  </a:lnTo>
                  <a:lnTo>
                    <a:pt x="127" y="807"/>
                  </a:lnTo>
                  <a:lnTo>
                    <a:pt x="110" y="953"/>
                  </a:lnTo>
                  <a:lnTo>
                    <a:pt x="132" y="966"/>
                  </a:lnTo>
                  <a:lnTo>
                    <a:pt x="167" y="971"/>
                  </a:lnTo>
                  <a:lnTo>
                    <a:pt x="211" y="935"/>
                  </a:lnTo>
                  <a:lnTo>
                    <a:pt x="238" y="865"/>
                  </a:lnTo>
                  <a:lnTo>
                    <a:pt x="260" y="807"/>
                  </a:lnTo>
                  <a:lnTo>
                    <a:pt x="305" y="666"/>
                  </a:lnTo>
                  <a:lnTo>
                    <a:pt x="322" y="525"/>
                  </a:lnTo>
                  <a:lnTo>
                    <a:pt x="349" y="490"/>
                  </a:lnTo>
                  <a:lnTo>
                    <a:pt x="384" y="463"/>
                  </a:lnTo>
                  <a:lnTo>
                    <a:pt x="419" y="432"/>
                  </a:lnTo>
                  <a:lnTo>
                    <a:pt x="459" y="427"/>
                  </a:lnTo>
                  <a:lnTo>
                    <a:pt x="521" y="396"/>
                  </a:lnTo>
                  <a:lnTo>
                    <a:pt x="503" y="366"/>
                  </a:lnTo>
                  <a:lnTo>
                    <a:pt x="499" y="348"/>
                  </a:lnTo>
                  <a:lnTo>
                    <a:pt x="516" y="326"/>
                  </a:lnTo>
                  <a:lnTo>
                    <a:pt x="534" y="286"/>
                  </a:lnTo>
                  <a:lnTo>
                    <a:pt x="552" y="264"/>
                  </a:lnTo>
                  <a:lnTo>
                    <a:pt x="547" y="229"/>
                  </a:lnTo>
                  <a:lnTo>
                    <a:pt x="512" y="167"/>
                  </a:lnTo>
                  <a:lnTo>
                    <a:pt x="464" y="97"/>
                  </a:lnTo>
                  <a:lnTo>
                    <a:pt x="415" y="35"/>
                  </a:lnTo>
                  <a:lnTo>
                    <a:pt x="402" y="4"/>
                  </a:lnTo>
                  <a:lnTo>
                    <a:pt x="384" y="0"/>
                  </a:lnTo>
                  <a:lnTo>
                    <a:pt x="349" y="22"/>
                  </a:lnTo>
                  <a:lnTo>
                    <a:pt x="305" y="66"/>
                  </a:lnTo>
                  <a:lnTo>
                    <a:pt x="260" y="101"/>
                  </a:lnTo>
                  <a:lnTo>
                    <a:pt x="242" y="123"/>
                  </a:lnTo>
                  <a:lnTo>
                    <a:pt x="216" y="136"/>
                  </a:lnTo>
                  <a:lnTo>
                    <a:pt x="180" y="167"/>
                  </a:lnTo>
                  <a:lnTo>
                    <a:pt x="149" y="149"/>
                  </a:lnTo>
                  <a:lnTo>
                    <a:pt x="119" y="145"/>
                  </a:lnTo>
                  <a:lnTo>
                    <a:pt x="74" y="185"/>
                  </a:lnTo>
                  <a:lnTo>
                    <a:pt x="35" y="246"/>
                  </a:lnTo>
                  <a:lnTo>
                    <a:pt x="0" y="286"/>
                  </a:lnTo>
                  <a:lnTo>
                    <a:pt x="35" y="295"/>
                  </a:lnTo>
                  <a:lnTo>
                    <a:pt x="48" y="299"/>
                  </a:lnTo>
                  <a:lnTo>
                    <a:pt x="136" y="313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819600" y="4148280"/>
              <a:ext cx="95760" cy="55800"/>
            </a:xfrm>
            <a:custGeom>
              <a:avLst/>
              <a:gdLst/>
              <a:ahLst/>
              <a:rect l="0" t="0" r="r" b="b"/>
              <a:pathLst>
                <a:path w="266" h="155">
                  <a:moveTo>
                    <a:pt x="181" y="17"/>
                  </a:moveTo>
                  <a:lnTo>
                    <a:pt x="150" y="0"/>
                  </a:lnTo>
                  <a:lnTo>
                    <a:pt x="102" y="0"/>
                  </a:lnTo>
                  <a:lnTo>
                    <a:pt x="52" y="30"/>
                  </a:lnTo>
                  <a:lnTo>
                    <a:pt x="4" y="61"/>
                  </a:lnTo>
                  <a:lnTo>
                    <a:pt x="0" y="98"/>
                  </a:lnTo>
                  <a:lnTo>
                    <a:pt x="0" y="146"/>
                  </a:lnTo>
                  <a:lnTo>
                    <a:pt x="8" y="155"/>
                  </a:lnTo>
                  <a:lnTo>
                    <a:pt x="8" y="155"/>
                  </a:lnTo>
                  <a:lnTo>
                    <a:pt x="22" y="128"/>
                  </a:lnTo>
                  <a:lnTo>
                    <a:pt x="75" y="98"/>
                  </a:lnTo>
                  <a:lnTo>
                    <a:pt x="128" y="66"/>
                  </a:lnTo>
                  <a:lnTo>
                    <a:pt x="168" y="80"/>
                  </a:lnTo>
                  <a:lnTo>
                    <a:pt x="181" y="84"/>
                  </a:lnTo>
                  <a:lnTo>
                    <a:pt x="200" y="84"/>
                  </a:lnTo>
                  <a:lnTo>
                    <a:pt x="222" y="80"/>
                  </a:lnTo>
                  <a:lnTo>
                    <a:pt x="244" y="61"/>
                  </a:lnTo>
                  <a:lnTo>
                    <a:pt x="257" y="52"/>
                  </a:lnTo>
                  <a:lnTo>
                    <a:pt x="266" y="44"/>
                  </a:lnTo>
                  <a:lnTo>
                    <a:pt x="266" y="13"/>
                  </a:lnTo>
                  <a:lnTo>
                    <a:pt x="253" y="4"/>
                  </a:lnTo>
                  <a:lnTo>
                    <a:pt x="240" y="8"/>
                  </a:lnTo>
                  <a:lnTo>
                    <a:pt x="209" y="4"/>
                  </a:lnTo>
                  <a:lnTo>
                    <a:pt x="195" y="13"/>
                  </a:lnTo>
                  <a:lnTo>
                    <a:pt x="186" y="26"/>
                  </a:lnTo>
                  <a:lnTo>
                    <a:pt x="181" y="1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38480" y="3973680"/>
              <a:ext cx="119520" cy="87840"/>
            </a:xfrm>
            <a:custGeom>
              <a:avLst/>
              <a:gdLst/>
              <a:ahLst/>
              <a:rect l="0" t="0" r="r" b="b"/>
              <a:pathLst>
                <a:path w="332" h="244">
                  <a:moveTo>
                    <a:pt x="159" y="209"/>
                  </a:moveTo>
                  <a:lnTo>
                    <a:pt x="146" y="128"/>
                  </a:lnTo>
                  <a:lnTo>
                    <a:pt x="133" y="39"/>
                  </a:lnTo>
                  <a:lnTo>
                    <a:pt x="102" y="22"/>
                  </a:lnTo>
                  <a:lnTo>
                    <a:pt x="74" y="0"/>
                  </a:lnTo>
                  <a:lnTo>
                    <a:pt x="44" y="4"/>
                  </a:lnTo>
                  <a:lnTo>
                    <a:pt x="4" y="30"/>
                  </a:lnTo>
                  <a:lnTo>
                    <a:pt x="8" y="48"/>
                  </a:lnTo>
                  <a:lnTo>
                    <a:pt x="0" y="75"/>
                  </a:lnTo>
                  <a:lnTo>
                    <a:pt x="8" y="89"/>
                  </a:lnTo>
                  <a:lnTo>
                    <a:pt x="13" y="93"/>
                  </a:lnTo>
                  <a:lnTo>
                    <a:pt x="61" y="52"/>
                  </a:lnTo>
                  <a:lnTo>
                    <a:pt x="111" y="8"/>
                  </a:lnTo>
                  <a:lnTo>
                    <a:pt x="102" y="35"/>
                  </a:lnTo>
                  <a:lnTo>
                    <a:pt x="93" y="39"/>
                  </a:lnTo>
                  <a:lnTo>
                    <a:pt x="79" y="67"/>
                  </a:lnTo>
                  <a:lnTo>
                    <a:pt x="74" y="80"/>
                  </a:lnTo>
                  <a:lnTo>
                    <a:pt x="70" y="102"/>
                  </a:lnTo>
                  <a:lnTo>
                    <a:pt x="48" y="150"/>
                  </a:lnTo>
                  <a:lnTo>
                    <a:pt x="44" y="164"/>
                  </a:lnTo>
                  <a:lnTo>
                    <a:pt x="39" y="177"/>
                  </a:lnTo>
                  <a:lnTo>
                    <a:pt x="52" y="209"/>
                  </a:lnTo>
                  <a:lnTo>
                    <a:pt x="74" y="240"/>
                  </a:lnTo>
                  <a:lnTo>
                    <a:pt x="98" y="244"/>
                  </a:lnTo>
                  <a:lnTo>
                    <a:pt x="124" y="231"/>
                  </a:lnTo>
                  <a:lnTo>
                    <a:pt x="190" y="181"/>
                  </a:lnTo>
                  <a:lnTo>
                    <a:pt x="253" y="120"/>
                  </a:lnTo>
                  <a:lnTo>
                    <a:pt x="279" y="106"/>
                  </a:lnTo>
                  <a:lnTo>
                    <a:pt x="310" y="84"/>
                  </a:lnTo>
                  <a:lnTo>
                    <a:pt x="332" y="71"/>
                  </a:lnTo>
                  <a:lnTo>
                    <a:pt x="332" y="52"/>
                  </a:lnTo>
                  <a:lnTo>
                    <a:pt x="328" y="30"/>
                  </a:lnTo>
                  <a:lnTo>
                    <a:pt x="288" y="67"/>
                  </a:lnTo>
                  <a:lnTo>
                    <a:pt x="266" y="98"/>
                  </a:lnTo>
                  <a:lnTo>
                    <a:pt x="239" y="124"/>
                  </a:lnTo>
                  <a:lnTo>
                    <a:pt x="195" y="159"/>
                  </a:lnTo>
                  <a:lnTo>
                    <a:pt x="168" y="168"/>
                  </a:lnTo>
                  <a:lnTo>
                    <a:pt x="164" y="159"/>
                  </a:lnTo>
                  <a:lnTo>
                    <a:pt x="159" y="181"/>
                  </a:lnTo>
                  <a:lnTo>
                    <a:pt x="159" y="209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132440" y="4113360"/>
              <a:ext cx="120960" cy="135360"/>
            </a:xfrm>
            <a:custGeom>
              <a:avLst/>
              <a:gdLst/>
              <a:ahLst/>
              <a:rect l="0" t="0" r="r" b="b"/>
              <a:pathLst>
                <a:path w="336" h="376">
                  <a:moveTo>
                    <a:pt x="83" y="278"/>
                  </a:moveTo>
                  <a:lnTo>
                    <a:pt x="119" y="252"/>
                  </a:lnTo>
                  <a:lnTo>
                    <a:pt x="141" y="239"/>
                  </a:lnTo>
                  <a:lnTo>
                    <a:pt x="141" y="208"/>
                  </a:lnTo>
                  <a:lnTo>
                    <a:pt x="145" y="168"/>
                  </a:lnTo>
                  <a:lnTo>
                    <a:pt x="230" y="79"/>
                  </a:lnTo>
                  <a:lnTo>
                    <a:pt x="322" y="0"/>
                  </a:lnTo>
                  <a:lnTo>
                    <a:pt x="336" y="17"/>
                  </a:lnTo>
                  <a:lnTo>
                    <a:pt x="309" y="52"/>
                  </a:lnTo>
                  <a:lnTo>
                    <a:pt x="256" y="133"/>
                  </a:lnTo>
                  <a:lnTo>
                    <a:pt x="247" y="133"/>
                  </a:lnTo>
                  <a:lnTo>
                    <a:pt x="217" y="159"/>
                  </a:lnTo>
                  <a:lnTo>
                    <a:pt x="195" y="177"/>
                  </a:lnTo>
                  <a:lnTo>
                    <a:pt x="186" y="195"/>
                  </a:lnTo>
                  <a:lnTo>
                    <a:pt x="172" y="221"/>
                  </a:lnTo>
                  <a:lnTo>
                    <a:pt x="163" y="252"/>
                  </a:lnTo>
                  <a:lnTo>
                    <a:pt x="154" y="278"/>
                  </a:lnTo>
                  <a:lnTo>
                    <a:pt x="145" y="293"/>
                  </a:lnTo>
                  <a:lnTo>
                    <a:pt x="127" y="323"/>
                  </a:lnTo>
                  <a:lnTo>
                    <a:pt x="97" y="354"/>
                  </a:lnTo>
                  <a:lnTo>
                    <a:pt x="79" y="354"/>
                  </a:lnTo>
                  <a:lnTo>
                    <a:pt x="22" y="368"/>
                  </a:lnTo>
                  <a:lnTo>
                    <a:pt x="8" y="376"/>
                  </a:lnTo>
                  <a:lnTo>
                    <a:pt x="0" y="368"/>
                  </a:lnTo>
                  <a:lnTo>
                    <a:pt x="17" y="363"/>
                  </a:lnTo>
                  <a:lnTo>
                    <a:pt x="39" y="345"/>
                  </a:lnTo>
                  <a:lnTo>
                    <a:pt x="74" y="337"/>
                  </a:lnTo>
                  <a:lnTo>
                    <a:pt x="101" y="323"/>
                  </a:lnTo>
                  <a:lnTo>
                    <a:pt x="110" y="315"/>
                  </a:lnTo>
                  <a:lnTo>
                    <a:pt x="119" y="306"/>
                  </a:lnTo>
                  <a:lnTo>
                    <a:pt x="105" y="293"/>
                  </a:lnTo>
                  <a:lnTo>
                    <a:pt x="83" y="278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884760" y="3925800"/>
              <a:ext cx="97200" cy="179640"/>
            </a:xfrm>
            <a:custGeom>
              <a:avLst/>
              <a:gdLst/>
              <a:ahLst/>
              <a:rect l="0" t="0" r="r" b="b"/>
              <a:pathLst>
                <a:path w="270" h="499">
                  <a:moveTo>
                    <a:pt x="155" y="433"/>
                  </a:moveTo>
                  <a:lnTo>
                    <a:pt x="102" y="380"/>
                  </a:lnTo>
                  <a:lnTo>
                    <a:pt x="44" y="340"/>
                  </a:lnTo>
                  <a:lnTo>
                    <a:pt x="22" y="327"/>
                  </a:lnTo>
                  <a:lnTo>
                    <a:pt x="8" y="283"/>
                  </a:lnTo>
                  <a:lnTo>
                    <a:pt x="0" y="246"/>
                  </a:lnTo>
                  <a:lnTo>
                    <a:pt x="8" y="194"/>
                  </a:lnTo>
                  <a:lnTo>
                    <a:pt x="44" y="233"/>
                  </a:lnTo>
                  <a:lnTo>
                    <a:pt x="48" y="265"/>
                  </a:lnTo>
                  <a:lnTo>
                    <a:pt x="61" y="305"/>
                  </a:lnTo>
                  <a:lnTo>
                    <a:pt x="150" y="238"/>
                  </a:lnTo>
                  <a:lnTo>
                    <a:pt x="231" y="167"/>
                  </a:lnTo>
                  <a:lnTo>
                    <a:pt x="235" y="141"/>
                  </a:lnTo>
                  <a:lnTo>
                    <a:pt x="244" y="114"/>
                  </a:lnTo>
                  <a:lnTo>
                    <a:pt x="248" y="83"/>
                  </a:lnTo>
                  <a:lnTo>
                    <a:pt x="248" y="39"/>
                  </a:lnTo>
                  <a:lnTo>
                    <a:pt x="240" y="13"/>
                  </a:lnTo>
                  <a:lnTo>
                    <a:pt x="235" y="0"/>
                  </a:lnTo>
                  <a:lnTo>
                    <a:pt x="266" y="22"/>
                  </a:lnTo>
                  <a:lnTo>
                    <a:pt x="270" y="35"/>
                  </a:lnTo>
                  <a:lnTo>
                    <a:pt x="270" y="83"/>
                  </a:lnTo>
                  <a:lnTo>
                    <a:pt x="244" y="145"/>
                  </a:lnTo>
                  <a:lnTo>
                    <a:pt x="204" y="216"/>
                  </a:lnTo>
                  <a:lnTo>
                    <a:pt x="195" y="238"/>
                  </a:lnTo>
                  <a:lnTo>
                    <a:pt x="195" y="256"/>
                  </a:lnTo>
                  <a:lnTo>
                    <a:pt x="195" y="287"/>
                  </a:lnTo>
                  <a:lnTo>
                    <a:pt x="199" y="300"/>
                  </a:lnTo>
                  <a:lnTo>
                    <a:pt x="199" y="322"/>
                  </a:lnTo>
                  <a:lnTo>
                    <a:pt x="195" y="349"/>
                  </a:lnTo>
                  <a:lnTo>
                    <a:pt x="155" y="371"/>
                  </a:lnTo>
                  <a:lnTo>
                    <a:pt x="133" y="371"/>
                  </a:lnTo>
                  <a:lnTo>
                    <a:pt x="106" y="371"/>
                  </a:lnTo>
                  <a:lnTo>
                    <a:pt x="75" y="362"/>
                  </a:lnTo>
                  <a:lnTo>
                    <a:pt x="71" y="344"/>
                  </a:lnTo>
                  <a:lnTo>
                    <a:pt x="71" y="344"/>
                  </a:lnTo>
                  <a:lnTo>
                    <a:pt x="80" y="336"/>
                  </a:lnTo>
                  <a:lnTo>
                    <a:pt x="111" y="322"/>
                  </a:lnTo>
                  <a:lnTo>
                    <a:pt x="137" y="327"/>
                  </a:lnTo>
                  <a:lnTo>
                    <a:pt x="142" y="389"/>
                  </a:lnTo>
                  <a:lnTo>
                    <a:pt x="128" y="419"/>
                  </a:lnTo>
                  <a:lnTo>
                    <a:pt x="120" y="441"/>
                  </a:lnTo>
                  <a:lnTo>
                    <a:pt x="120" y="455"/>
                  </a:lnTo>
                  <a:lnTo>
                    <a:pt x="115" y="481"/>
                  </a:lnTo>
                  <a:lnTo>
                    <a:pt x="102" y="494"/>
                  </a:lnTo>
                  <a:lnTo>
                    <a:pt x="111" y="499"/>
                  </a:lnTo>
                  <a:lnTo>
                    <a:pt x="133" y="481"/>
                  </a:lnTo>
                  <a:lnTo>
                    <a:pt x="146" y="455"/>
                  </a:lnTo>
                  <a:lnTo>
                    <a:pt x="186" y="406"/>
                  </a:lnTo>
                  <a:lnTo>
                    <a:pt x="190" y="406"/>
                  </a:lnTo>
                  <a:lnTo>
                    <a:pt x="195" y="397"/>
                  </a:lnTo>
                  <a:lnTo>
                    <a:pt x="209" y="389"/>
                  </a:lnTo>
                  <a:lnTo>
                    <a:pt x="209" y="389"/>
                  </a:lnTo>
                  <a:lnTo>
                    <a:pt x="177" y="411"/>
                  </a:lnTo>
                  <a:lnTo>
                    <a:pt x="155" y="433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322880" y="4211640"/>
              <a:ext cx="127440" cy="87840"/>
            </a:xfrm>
            <a:custGeom>
              <a:avLst/>
              <a:gdLst/>
              <a:ahLst/>
              <a:rect l="0" t="0" r="r" b="b"/>
              <a:pathLst>
                <a:path w="354" h="244">
                  <a:moveTo>
                    <a:pt x="61" y="0"/>
                  </a:moveTo>
                  <a:lnTo>
                    <a:pt x="93" y="8"/>
                  </a:lnTo>
                  <a:lnTo>
                    <a:pt x="133" y="8"/>
                  </a:lnTo>
                  <a:lnTo>
                    <a:pt x="225" y="30"/>
                  </a:lnTo>
                  <a:lnTo>
                    <a:pt x="323" y="44"/>
                  </a:lnTo>
                  <a:lnTo>
                    <a:pt x="337" y="71"/>
                  </a:lnTo>
                  <a:lnTo>
                    <a:pt x="341" y="106"/>
                  </a:lnTo>
                  <a:lnTo>
                    <a:pt x="345" y="137"/>
                  </a:lnTo>
                  <a:lnTo>
                    <a:pt x="341" y="177"/>
                  </a:lnTo>
                  <a:lnTo>
                    <a:pt x="328" y="213"/>
                  </a:lnTo>
                  <a:lnTo>
                    <a:pt x="315" y="235"/>
                  </a:lnTo>
                  <a:lnTo>
                    <a:pt x="319" y="240"/>
                  </a:lnTo>
                  <a:lnTo>
                    <a:pt x="328" y="244"/>
                  </a:lnTo>
                  <a:lnTo>
                    <a:pt x="345" y="226"/>
                  </a:lnTo>
                  <a:lnTo>
                    <a:pt x="354" y="187"/>
                  </a:lnTo>
                  <a:lnTo>
                    <a:pt x="284" y="137"/>
                  </a:lnTo>
                  <a:lnTo>
                    <a:pt x="279" y="124"/>
                  </a:lnTo>
                  <a:lnTo>
                    <a:pt x="275" y="120"/>
                  </a:lnTo>
                  <a:lnTo>
                    <a:pt x="252" y="128"/>
                  </a:lnTo>
                  <a:lnTo>
                    <a:pt x="212" y="155"/>
                  </a:lnTo>
                  <a:lnTo>
                    <a:pt x="181" y="177"/>
                  </a:lnTo>
                  <a:lnTo>
                    <a:pt x="168" y="200"/>
                  </a:lnTo>
                  <a:lnTo>
                    <a:pt x="146" y="200"/>
                  </a:lnTo>
                  <a:lnTo>
                    <a:pt x="128" y="191"/>
                  </a:lnTo>
                  <a:lnTo>
                    <a:pt x="128" y="168"/>
                  </a:lnTo>
                  <a:lnTo>
                    <a:pt x="146" y="133"/>
                  </a:lnTo>
                  <a:lnTo>
                    <a:pt x="164" y="120"/>
                  </a:lnTo>
                  <a:lnTo>
                    <a:pt x="186" y="120"/>
                  </a:lnTo>
                  <a:lnTo>
                    <a:pt x="230" y="115"/>
                  </a:lnTo>
                  <a:lnTo>
                    <a:pt x="221" y="71"/>
                  </a:lnTo>
                  <a:lnTo>
                    <a:pt x="221" y="52"/>
                  </a:lnTo>
                  <a:lnTo>
                    <a:pt x="190" y="62"/>
                  </a:lnTo>
                  <a:lnTo>
                    <a:pt x="155" y="80"/>
                  </a:lnTo>
                  <a:lnTo>
                    <a:pt x="137" y="89"/>
                  </a:lnTo>
                  <a:lnTo>
                    <a:pt x="124" y="93"/>
                  </a:lnTo>
                  <a:lnTo>
                    <a:pt x="0" y="67"/>
                  </a:lnTo>
                  <a:lnTo>
                    <a:pt x="22" y="71"/>
                  </a:lnTo>
                  <a:lnTo>
                    <a:pt x="61" y="48"/>
                  </a:lnTo>
                  <a:lnTo>
                    <a:pt x="74" y="26"/>
                  </a:lnTo>
                  <a:lnTo>
                    <a:pt x="70" y="1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330800" y="4497480"/>
              <a:ext cx="86040" cy="65520"/>
            </a:xfrm>
            <a:custGeom>
              <a:avLst/>
              <a:gdLst/>
              <a:ahLst/>
              <a:rect l="0" t="0" r="r" b="b"/>
              <a:pathLst>
                <a:path w="239" h="182">
                  <a:moveTo>
                    <a:pt x="48" y="13"/>
                  </a:moveTo>
                  <a:lnTo>
                    <a:pt x="83" y="13"/>
                  </a:lnTo>
                  <a:lnTo>
                    <a:pt x="110" y="13"/>
                  </a:lnTo>
                  <a:lnTo>
                    <a:pt x="133" y="13"/>
                  </a:lnTo>
                  <a:lnTo>
                    <a:pt x="168" y="17"/>
                  </a:lnTo>
                  <a:lnTo>
                    <a:pt x="195" y="17"/>
                  </a:lnTo>
                  <a:lnTo>
                    <a:pt x="217" y="17"/>
                  </a:lnTo>
                  <a:lnTo>
                    <a:pt x="217" y="17"/>
                  </a:lnTo>
                  <a:lnTo>
                    <a:pt x="230" y="62"/>
                  </a:lnTo>
                  <a:lnTo>
                    <a:pt x="239" y="98"/>
                  </a:lnTo>
                  <a:lnTo>
                    <a:pt x="221" y="182"/>
                  </a:lnTo>
                  <a:lnTo>
                    <a:pt x="217" y="147"/>
                  </a:lnTo>
                  <a:lnTo>
                    <a:pt x="208" y="124"/>
                  </a:lnTo>
                  <a:lnTo>
                    <a:pt x="199" y="120"/>
                  </a:lnTo>
                  <a:lnTo>
                    <a:pt x="159" y="124"/>
                  </a:lnTo>
                  <a:lnTo>
                    <a:pt x="164" y="98"/>
                  </a:lnTo>
                  <a:lnTo>
                    <a:pt x="146" y="84"/>
                  </a:lnTo>
                  <a:lnTo>
                    <a:pt x="133" y="93"/>
                  </a:lnTo>
                  <a:lnTo>
                    <a:pt x="105" y="106"/>
                  </a:lnTo>
                  <a:lnTo>
                    <a:pt x="79" y="120"/>
                  </a:lnTo>
                  <a:lnTo>
                    <a:pt x="44" y="128"/>
                  </a:lnTo>
                  <a:lnTo>
                    <a:pt x="39" y="120"/>
                  </a:lnTo>
                  <a:lnTo>
                    <a:pt x="17" y="106"/>
                  </a:lnTo>
                  <a:lnTo>
                    <a:pt x="0" y="89"/>
                  </a:lnTo>
                  <a:lnTo>
                    <a:pt x="0" y="30"/>
                  </a:lnTo>
                  <a:lnTo>
                    <a:pt x="4" y="4"/>
                  </a:lnTo>
                  <a:lnTo>
                    <a:pt x="13" y="8"/>
                  </a:lnTo>
                  <a:lnTo>
                    <a:pt x="26" y="0"/>
                  </a:lnTo>
                  <a:lnTo>
                    <a:pt x="48" y="13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968640" y="4227480"/>
              <a:ext cx="251280" cy="248040"/>
            </a:xfrm>
            <a:custGeom>
              <a:avLst/>
              <a:gdLst/>
              <a:ahLst/>
              <a:rect l="0" t="0" r="r" b="b"/>
              <a:pathLst>
                <a:path w="698" h="689">
                  <a:moveTo>
                    <a:pt x="217" y="340"/>
                  </a:moveTo>
                  <a:lnTo>
                    <a:pt x="287" y="358"/>
                  </a:lnTo>
                  <a:lnTo>
                    <a:pt x="336" y="353"/>
                  </a:lnTo>
                  <a:lnTo>
                    <a:pt x="384" y="327"/>
                  </a:lnTo>
                  <a:lnTo>
                    <a:pt x="406" y="283"/>
                  </a:lnTo>
                  <a:lnTo>
                    <a:pt x="411" y="247"/>
                  </a:lnTo>
                  <a:lnTo>
                    <a:pt x="433" y="212"/>
                  </a:lnTo>
                  <a:lnTo>
                    <a:pt x="472" y="171"/>
                  </a:lnTo>
                  <a:lnTo>
                    <a:pt x="526" y="141"/>
                  </a:lnTo>
                  <a:lnTo>
                    <a:pt x="579" y="88"/>
                  </a:lnTo>
                  <a:lnTo>
                    <a:pt x="681" y="0"/>
                  </a:lnTo>
                  <a:lnTo>
                    <a:pt x="694" y="8"/>
                  </a:lnTo>
                  <a:lnTo>
                    <a:pt x="698" y="30"/>
                  </a:lnTo>
                  <a:lnTo>
                    <a:pt x="676" y="79"/>
                  </a:lnTo>
                  <a:lnTo>
                    <a:pt x="628" y="132"/>
                  </a:lnTo>
                  <a:lnTo>
                    <a:pt x="588" y="181"/>
                  </a:lnTo>
                  <a:lnTo>
                    <a:pt x="490" y="283"/>
                  </a:lnTo>
                  <a:lnTo>
                    <a:pt x="384" y="371"/>
                  </a:lnTo>
                  <a:lnTo>
                    <a:pt x="362" y="406"/>
                  </a:lnTo>
                  <a:lnTo>
                    <a:pt x="344" y="446"/>
                  </a:lnTo>
                  <a:lnTo>
                    <a:pt x="327" y="486"/>
                  </a:lnTo>
                  <a:lnTo>
                    <a:pt x="327" y="522"/>
                  </a:lnTo>
                  <a:lnTo>
                    <a:pt x="314" y="579"/>
                  </a:lnTo>
                  <a:lnTo>
                    <a:pt x="287" y="584"/>
                  </a:lnTo>
                  <a:lnTo>
                    <a:pt x="269" y="588"/>
                  </a:lnTo>
                  <a:lnTo>
                    <a:pt x="256" y="610"/>
                  </a:lnTo>
                  <a:lnTo>
                    <a:pt x="234" y="645"/>
                  </a:lnTo>
                  <a:lnTo>
                    <a:pt x="217" y="672"/>
                  </a:lnTo>
                  <a:lnTo>
                    <a:pt x="186" y="685"/>
                  </a:lnTo>
                  <a:lnTo>
                    <a:pt x="141" y="689"/>
                  </a:lnTo>
                  <a:lnTo>
                    <a:pt x="83" y="689"/>
                  </a:lnTo>
                  <a:lnTo>
                    <a:pt x="35" y="685"/>
                  </a:lnTo>
                  <a:lnTo>
                    <a:pt x="8" y="689"/>
                  </a:lnTo>
                  <a:lnTo>
                    <a:pt x="0" y="685"/>
                  </a:lnTo>
                  <a:lnTo>
                    <a:pt x="17" y="645"/>
                  </a:lnTo>
                  <a:lnTo>
                    <a:pt x="44" y="588"/>
                  </a:lnTo>
                  <a:lnTo>
                    <a:pt x="70" y="535"/>
                  </a:lnTo>
                  <a:lnTo>
                    <a:pt x="83" y="512"/>
                  </a:lnTo>
                  <a:lnTo>
                    <a:pt x="88" y="486"/>
                  </a:lnTo>
                  <a:lnTo>
                    <a:pt x="110" y="446"/>
                  </a:lnTo>
                  <a:lnTo>
                    <a:pt x="97" y="433"/>
                  </a:lnTo>
                  <a:lnTo>
                    <a:pt x="88" y="415"/>
                  </a:lnTo>
                  <a:lnTo>
                    <a:pt x="114" y="358"/>
                  </a:lnTo>
                  <a:lnTo>
                    <a:pt x="154" y="296"/>
                  </a:lnTo>
                  <a:lnTo>
                    <a:pt x="186" y="247"/>
                  </a:lnTo>
                  <a:lnTo>
                    <a:pt x="190" y="278"/>
                  </a:lnTo>
                  <a:lnTo>
                    <a:pt x="199" y="283"/>
                  </a:lnTo>
                  <a:lnTo>
                    <a:pt x="217" y="34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8" name=""/>
          <p:cNvSpPr txBox="1"/>
          <p:nvPr/>
        </p:nvSpPr>
        <p:spPr>
          <a:xfrm>
            <a:off x="609480" y="53341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lbertus Medium"/>
                <a:ea typeface="Albertus Medium"/>
              </a:rPr>
              <a:t>SPLASH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914400" y="5194440"/>
            <a:ext cx="1968840" cy="1327320"/>
            <a:chOff x="914400" y="5194440"/>
            <a:chExt cx="1968840" cy="1327320"/>
          </a:xfrm>
        </p:grpSpPr>
        <p:sp>
          <p:nvSpPr>
            <p:cNvPr id="1110" name=""/>
            <p:cNvSpPr/>
            <p:nvPr/>
          </p:nvSpPr>
          <p:spPr>
            <a:xfrm>
              <a:off x="2158920" y="5194440"/>
              <a:ext cx="673560" cy="978120"/>
            </a:xfrm>
            <a:custGeom>
              <a:avLst/>
              <a:gdLst/>
              <a:ahLst/>
              <a:rect l="0" t="0" r="r" b="b"/>
              <a:pathLst>
                <a:path w="1871" h="2717">
                  <a:moveTo>
                    <a:pt x="35" y="2576"/>
                  </a:moveTo>
                  <a:lnTo>
                    <a:pt x="211" y="2329"/>
                  </a:lnTo>
                  <a:lnTo>
                    <a:pt x="211" y="2188"/>
                  </a:lnTo>
                  <a:lnTo>
                    <a:pt x="211" y="2082"/>
                  </a:lnTo>
                  <a:lnTo>
                    <a:pt x="211" y="1941"/>
                  </a:lnTo>
                  <a:lnTo>
                    <a:pt x="317" y="2047"/>
                  </a:lnTo>
                  <a:lnTo>
                    <a:pt x="352" y="1906"/>
                  </a:lnTo>
                  <a:lnTo>
                    <a:pt x="388" y="1764"/>
                  </a:lnTo>
                  <a:lnTo>
                    <a:pt x="388" y="1623"/>
                  </a:lnTo>
                  <a:lnTo>
                    <a:pt x="458" y="1412"/>
                  </a:lnTo>
                  <a:lnTo>
                    <a:pt x="530" y="1128"/>
                  </a:lnTo>
                  <a:lnTo>
                    <a:pt x="741" y="1058"/>
                  </a:lnTo>
                  <a:lnTo>
                    <a:pt x="953" y="776"/>
                  </a:lnTo>
                  <a:lnTo>
                    <a:pt x="1235" y="423"/>
                  </a:lnTo>
                  <a:lnTo>
                    <a:pt x="1518" y="70"/>
                  </a:lnTo>
                  <a:lnTo>
                    <a:pt x="1730" y="0"/>
                  </a:lnTo>
                  <a:lnTo>
                    <a:pt x="1554" y="0"/>
                  </a:lnTo>
                  <a:lnTo>
                    <a:pt x="1271" y="282"/>
                  </a:lnTo>
                  <a:lnTo>
                    <a:pt x="1059" y="564"/>
                  </a:lnTo>
                  <a:lnTo>
                    <a:pt x="1024" y="705"/>
                  </a:lnTo>
                  <a:lnTo>
                    <a:pt x="953" y="811"/>
                  </a:lnTo>
                  <a:lnTo>
                    <a:pt x="882" y="952"/>
                  </a:lnTo>
                  <a:lnTo>
                    <a:pt x="847" y="1093"/>
                  </a:lnTo>
                  <a:lnTo>
                    <a:pt x="777" y="1199"/>
                  </a:lnTo>
                  <a:lnTo>
                    <a:pt x="706" y="1412"/>
                  </a:lnTo>
                  <a:lnTo>
                    <a:pt x="600" y="1764"/>
                  </a:lnTo>
                  <a:lnTo>
                    <a:pt x="530" y="1976"/>
                  </a:lnTo>
                  <a:lnTo>
                    <a:pt x="494" y="2082"/>
                  </a:lnTo>
                  <a:lnTo>
                    <a:pt x="600" y="1941"/>
                  </a:lnTo>
                  <a:lnTo>
                    <a:pt x="812" y="1729"/>
                  </a:lnTo>
                  <a:lnTo>
                    <a:pt x="1094" y="1517"/>
                  </a:lnTo>
                  <a:lnTo>
                    <a:pt x="1306" y="1305"/>
                  </a:lnTo>
                  <a:lnTo>
                    <a:pt x="1413" y="1234"/>
                  </a:lnTo>
                  <a:lnTo>
                    <a:pt x="1554" y="1199"/>
                  </a:lnTo>
                  <a:lnTo>
                    <a:pt x="1413" y="1234"/>
                  </a:lnTo>
                  <a:lnTo>
                    <a:pt x="1200" y="1305"/>
                  </a:lnTo>
                  <a:lnTo>
                    <a:pt x="1165" y="1517"/>
                  </a:lnTo>
                  <a:lnTo>
                    <a:pt x="1024" y="1659"/>
                  </a:lnTo>
                  <a:lnTo>
                    <a:pt x="953" y="1800"/>
                  </a:lnTo>
                  <a:lnTo>
                    <a:pt x="847" y="1906"/>
                  </a:lnTo>
                  <a:lnTo>
                    <a:pt x="777" y="2011"/>
                  </a:lnTo>
                  <a:lnTo>
                    <a:pt x="1024" y="2011"/>
                  </a:lnTo>
                  <a:lnTo>
                    <a:pt x="1306" y="1976"/>
                  </a:lnTo>
                  <a:lnTo>
                    <a:pt x="1518" y="1941"/>
                  </a:lnTo>
                  <a:lnTo>
                    <a:pt x="1624" y="1906"/>
                  </a:lnTo>
                  <a:lnTo>
                    <a:pt x="1765" y="1906"/>
                  </a:lnTo>
                  <a:lnTo>
                    <a:pt x="1871" y="1870"/>
                  </a:lnTo>
                  <a:lnTo>
                    <a:pt x="1765" y="1870"/>
                  </a:lnTo>
                  <a:lnTo>
                    <a:pt x="1483" y="1870"/>
                  </a:lnTo>
                  <a:lnTo>
                    <a:pt x="1271" y="1870"/>
                  </a:lnTo>
                  <a:lnTo>
                    <a:pt x="1129" y="1906"/>
                  </a:lnTo>
                  <a:lnTo>
                    <a:pt x="1024" y="1976"/>
                  </a:lnTo>
                  <a:lnTo>
                    <a:pt x="741" y="2082"/>
                  </a:lnTo>
                  <a:lnTo>
                    <a:pt x="1024" y="2188"/>
                  </a:lnTo>
                  <a:lnTo>
                    <a:pt x="1129" y="2188"/>
                  </a:lnTo>
                  <a:lnTo>
                    <a:pt x="1235" y="2188"/>
                  </a:lnTo>
                  <a:lnTo>
                    <a:pt x="918" y="2188"/>
                  </a:lnTo>
                  <a:lnTo>
                    <a:pt x="706" y="2188"/>
                  </a:lnTo>
                  <a:lnTo>
                    <a:pt x="600" y="2223"/>
                  </a:lnTo>
                  <a:lnTo>
                    <a:pt x="530" y="2364"/>
                  </a:lnTo>
                  <a:lnTo>
                    <a:pt x="458" y="2470"/>
                  </a:lnTo>
                  <a:lnTo>
                    <a:pt x="352" y="2541"/>
                  </a:lnTo>
                  <a:lnTo>
                    <a:pt x="246" y="2611"/>
                  </a:lnTo>
                  <a:lnTo>
                    <a:pt x="35" y="2576"/>
                  </a:lnTo>
                  <a:lnTo>
                    <a:pt x="35" y="2717"/>
                  </a:lnTo>
                  <a:lnTo>
                    <a:pt x="35" y="2576"/>
                  </a:lnTo>
                  <a:lnTo>
                    <a:pt x="0" y="2294"/>
                  </a:lnTo>
                  <a:lnTo>
                    <a:pt x="0" y="2188"/>
                  </a:lnTo>
                  <a:lnTo>
                    <a:pt x="35" y="2082"/>
                  </a:lnTo>
                  <a:lnTo>
                    <a:pt x="105" y="1870"/>
                  </a:lnTo>
                  <a:lnTo>
                    <a:pt x="141" y="1588"/>
                  </a:lnTo>
                  <a:lnTo>
                    <a:pt x="141" y="1800"/>
                  </a:lnTo>
                  <a:lnTo>
                    <a:pt x="141" y="2082"/>
                  </a:lnTo>
                  <a:lnTo>
                    <a:pt x="141" y="2188"/>
                  </a:lnTo>
                  <a:lnTo>
                    <a:pt x="141" y="2294"/>
                  </a:lnTo>
                  <a:lnTo>
                    <a:pt x="141" y="2399"/>
                  </a:lnTo>
                  <a:lnTo>
                    <a:pt x="246" y="2364"/>
                  </a:lnTo>
                  <a:lnTo>
                    <a:pt x="35" y="2576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914400" y="5873760"/>
              <a:ext cx="698760" cy="597240"/>
            </a:xfrm>
            <a:custGeom>
              <a:avLst/>
              <a:gdLst/>
              <a:ahLst/>
              <a:rect l="0" t="0" r="r" b="b"/>
              <a:pathLst>
                <a:path w="1941" h="1659">
                  <a:moveTo>
                    <a:pt x="1906" y="1659"/>
                  </a:moveTo>
                  <a:lnTo>
                    <a:pt x="1941" y="1271"/>
                  </a:lnTo>
                  <a:lnTo>
                    <a:pt x="1941" y="988"/>
                  </a:lnTo>
                  <a:lnTo>
                    <a:pt x="1906" y="705"/>
                  </a:lnTo>
                  <a:lnTo>
                    <a:pt x="1870" y="564"/>
                  </a:lnTo>
                  <a:lnTo>
                    <a:pt x="1835" y="458"/>
                  </a:lnTo>
                  <a:lnTo>
                    <a:pt x="1694" y="176"/>
                  </a:lnTo>
                  <a:lnTo>
                    <a:pt x="1659" y="70"/>
                  </a:lnTo>
                  <a:lnTo>
                    <a:pt x="1517" y="0"/>
                  </a:lnTo>
                  <a:lnTo>
                    <a:pt x="1553" y="211"/>
                  </a:lnTo>
                  <a:lnTo>
                    <a:pt x="1623" y="317"/>
                  </a:lnTo>
                  <a:lnTo>
                    <a:pt x="1623" y="423"/>
                  </a:lnTo>
                  <a:lnTo>
                    <a:pt x="1659" y="564"/>
                  </a:lnTo>
                  <a:lnTo>
                    <a:pt x="1623" y="423"/>
                  </a:lnTo>
                  <a:lnTo>
                    <a:pt x="1341" y="352"/>
                  </a:lnTo>
                  <a:lnTo>
                    <a:pt x="846" y="282"/>
                  </a:lnTo>
                  <a:lnTo>
                    <a:pt x="705" y="176"/>
                  </a:lnTo>
                  <a:lnTo>
                    <a:pt x="493" y="105"/>
                  </a:lnTo>
                  <a:lnTo>
                    <a:pt x="352" y="70"/>
                  </a:lnTo>
                  <a:lnTo>
                    <a:pt x="105" y="35"/>
                  </a:lnTo>
                  <a:lnTo>
                    <a:pt x="0" y="0"/>
                  </a:lnTo>
                  <a:lnTo>
                    <a:pt x="388" y="105"/>
                  </a:lnTo>
                  <a:lnTo>
                    <a:pt x="811" y="141"/>
                  </a:lnTo>
                  <a:lnTo>
                    <a:pt x="1024" y="211"/>
                  </a:lnTo>
                  <a:lnTo>
                    <a:pt x="1306" y="317"/>
                  </a:lnTo>
                  <a:lnTo>
                    <a:pt x="1412" y="388"/>
                  </a:lnTo>
                  <a:lnTo>
                    <a:pt x="1517" y="635"/>
                  </a:lnTo>
                  <a:lnTo>
                    <a:pt x="1588" y="740"/>
                  </a:lnTo>
                  <a:lnTo>
                    <a:pt x="1623" y="847"/>
                  </a:lnTo>
                  <a:lnTo>
                    <a:pt x="1694" y="988"/>
                  </a:lnTo>
                  <a:lnTo>
                    <a:pt x="1623" y="882"/>
                  </a:lnTo>
                  <a:lnTo>
                    <a:pt x="1412" y="811"/>
                  </a:lnTo>
                  <a:lnTo>
                    <a:pt x="1200" y="776"/>
                  </a:lnTo>
                  <a:lnTo>
                    <a:pt x="1094" y="705"/>
                  </a:lnTo>
                  <a:lnTo>
                    <a:pt x="988" y="635"/>
                  </a:lnTo>
                  <a:lnTo>
                    <a:pt x="881" y="635"/>
                  </a:lnTo>
                  <a:lnTo>
                    <a:pt x="599" y="599"/>
                  </a:lnTo>
                  <a:lnTo>
                    <a:pt x="811" y="599"/>
                  </a:lnTo>
                  <a:lnTo>
                    <a:pt x="1094" y="599"/>
                  </a:lnTo>
                  <a:lnTo>
                    <a:pt x="1376" y="670"/>
                  </a:lnTo>
                  <a:lnTo>
                    <a:pt x="1517" y="705"/>
                  </a:lnTo>
                  <a:lnTo>
                    <a:pt x="1623" y="740"/>
                  </a:lnTo>
                  <a:lnTo>
                    <a:pt x="1659" y="847"/>
                  </a:lnTo>
                  <a:lnTo>
                    <a:pt x="1694" y="953"/>
                  </a:lnTo>
                  <a:lnTo>
                    <a:pt x="1800" y="988"/>
                  </a:lnTo>
                  <a:lnTo>
                    <a:pt x="1906" y="1059"/>
                  </a:lnTo>
                  <a:lnTo>
                    <a:pt x="1764" y="1165"/>
                  </a:lnTo>
                  <a:lnTo>
                    <a:pt x="1553" y="1165"/>
                  </a:lnTo>
                  <a:lnTo>
                    <a:pt x="1412" y="1165"/>
                  </a:lnTo>
                  <a:lnTo>
                    <a:pt x="1129" y="1165"/>
                  </a:lnTo>
                  <a:lnTo>
                    <a:pt x="846" y="1129"/>
                  </a:lnTo>
                  <a:lnTo>
                    <a:pt x="1094" y="1200"/>
                  </a:lnTo>
                  <a:lnTo>
                    <a:pt x="1306" y="1235"/>
                  </a:lnTo>
                  <a:lnTo>
                    <a:pt x="1412" y="1306"/>
                  </a:lnTo>
                  <a:lnTo>
                    <a:pt x="1517" y="1376"/>
                  </a:lnTo>
                  <a:lnTo>
                    <a:pt x="1623" y="1412"/>
                  </a:lnTo>
                  <a:lnTo>
                    <a:pt x="1517" y="1341"/>
                  </a:lnTo>
                  <a:lnTo>
                    <a:pt x="1412" y="1306"/>
                  </a:lnTo>
                  <a:lnTo>
                    <a:pt x="1306" y="1341"/>
                  </a:lnTo>
                  <a:lnTo>
                    <a:pt x="1376" y="1482"/>
                  </a:lnTo>
                  <a:lnTo>
                    <a:pt x="1517" y="1553"/>
                  </a:lnTo>
                  <a:lnTo>
                    <a:pt x="1623" y="1553"/>
                  </a:lnTo>
                  <a:lnTo>
                    <a:pt x="1729" y="1659"/>
                  </a:lnTo>
                  <a:lnTo>
                    <a:pt x="1906" y="1659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209680" y="5607000"/>
              <a:ext cx="673560" cy="730440"/>
            </a:xfrm>
            <a:custGeom>
              <a:avLst/>
              <a:gdLst/>
              <a:ahLst/>
              <a:rect l="0" t="0" r="r" b="b"/>
              <a:pathLst>
                <a:path w="1871" h="2029">
                  <a:moveTo>
                    <a:pt x="17" y="1906"/>
                  </a:moveTo>
                  <a:lnTo>
                    <a:pt x="17" y="1800"/>
                  </a:lnTo>
                  <a:lnTo>
                    <a:pt x="35" y="1623"/>
                  </a:lnTo>
                  <a:lnTo>
                    <a:pt x="35" y="1517"/>
                  </a:lnTo>
                  <a:lnTo>
                    <a:pt x="52" y="1412"/>
                  </a:lnTo>
                  <a:lnTo>
                    <a:pt x="88" y="1359"/>
                  </a:lnTo>
                  <a:lnTo>
                    <a:pt x="141" y="1323"/>
                  </a:lnTo>
                  <a:lnTo>
                    <a:pt x="194" y="1323"/>
                  </a:lnTo>
                  <a:lnTo>
                    <a:pt x="246" y="1306"/>
                  </a:lnTo>
                  <a:lnTo>
                    <a:pt x="299" y="1271"/>
                  </a:lnTo>
                  <a:lnTo>
                    <a:pt x="335" y="1147"/>
                  </a:lnTo>
                  <a:lnTo>
                    <a:pt x="352" y="1005"/>
                  </a:lnTo>
                  <a:lnTo>
                    <a:pt x="388" y="934"/>
                  </a:lnTo>
                  <a:lnTo>
                    <a:pt x="388" y="1005"/>
                  </a:lnTo>
                  <a:lnTo>
                    <a:pt x="352" y="1112"/>
                  </a:lnTo>
                  <a:lnTo>
                    <a:pt x="335" y="1323"/>
                  </a:lnTo>
                  <a:lnTo>
                    <a:pt x="317" y="1500"/>
                  </a:lnTo>
                  <a:lnTo>
                    <a:pt x="282" y="1641"/>
                  </a:lnTo>
                  <a:lnTo>
                    <a:pt x="264" y="1747"/>
                  </a:lnTo>
                  <a:lnTo>
                    <a:pt x="229" y="1888"/>
                  </a:lnTo>
                  <a:lnTo>
                    <a:pt x="176" y="1888"/>
                  </a:lnTo>
                  <a:lnTo>
                    <a:pt x="176" y="1782"/>
                  </a:lnTo>
                  <a:lnTo>
                    <a:pt x="229" y="1711"/>
                  </a:lnTo>
                  <a:lnTo>
                    <a:pt x="264" y="1641"/>
                  </a:lnTo>
                  <a:lnTo>
                    <a:pt x="317" y="1588"/>
                  </a:lnTo>
                  <a:lnTo>
                    <a:pt x="370" y="1517"/>
                  </a:lnTo>
                  <a:lnTo>
                    <a:pt x="388" y="1412"/>
                  </a:lnTo>
                  <a:lnTo>
                    <a:pt x="512" y="1271"/>
                  </a:lnTo>
                  <a:lnTo>
                    <a:pt x="547" y="1165"/>
                  </a:lnTo>
                  <a:lnTo>
                    <a:pt x="688" y="1024"/>
                  </a:lnTo>
                  <a:lnTo>
                    <a:pt x="794" y="917"/>
                  </a:lnTo>
                  <a:lnTo>
                    <a:pt x="935" y="776"/>
                  </a:lnTo>
                  <a:lnTo>
                    <a:pt x="1041" y="635"/>
                  </a:lnTo>
                  <a:lnTo>
                    <a:pt x="1147" y="529"/>
                  </a:lnTo>
                  <a:lnTo>
                    <a:pt x="1288" y="388"/>
                  </a:lnTo>
                  <a:lnTo>
                    <a:pt x="1394" y="282"/>
                  </a:lnTo>
                  <a:lnTo>
                    <a:pt x="1536" y="246"/>
                  </a:lnTo>
                  <a:lnTo>
                    <a:pt x="1642" y="141"/>
                  </a:lnTo>
                  <a:lnTo>
                    <a:pt x="1712" y="70"/>
                  </a:lnTo>
                  <a:lnTo>
                    <a:pt x="1765" y="35"/>
                  </a:lnTo>
                  <a:lnTo>
                    <a:pt x="1871" y="0"/>
                  </a:lnTo>
                  <a:lnTo>
                    <a:pt x="1801" y="0"/>
                  </a:lnTo>
                  <a:lnTo>
                    <a:pt x="1624" y="141"/>
                  </a:lnTo>
                  <a:lnTo>
                    <a:pt x="1413" y="317"/>
                  </a:lnTo>
                  <a:lnTo>
                    <a:pt x="1235" y="458"/>
                  </a:lnTo>
                  <a:lnTo>
                    <a:pt x="1094" y="564"/>
                  </a:lnTo>
                  <a:lnTo>
                    <a:pt x="988" y="705"/>
                  </a:lnTo>
                  <a:lnTo>
                    <a:pt x="882" y="811"/>
                  </a:lnTo>
                  <a:lnTo>
                    <a:pt x="777" y="917"/>
                  </a:lnTo>
                  <a:lnTo>
                    <a:pt x="671" y="1059"/>
                  </a:lnTo>
                  <a:lnTo>
                    <a:pt x="530" y="1129"/>
                  </a:lnTo>
                  <a:lnTo>
                    <a:pt x="352" y="1235"/>
                  </a:lnTo>
                  <a:lnTo>
                    <a:pt x="211" y="1376"/>
                  </a:lnTo>
                  <a:lnTo>
                    <a:pt x="158" y="1412"/>
                  </a:lnTo>
                  <a:lnTo>
                    <a:pt x="141" y="1465"/>
                  </a:lnTo>
                  <a:lnTo>
                    <a:pt x="282" y="1359"/>
                  </a:lnTo>
                  <a:lnTo>
                    <a:pt x="317" y="1253"/>
                  </a:lnTo>
                  <a:lnTo>
                    <a:pt x="423" y="1147"/>
                  </a:lnTo>
                  <a:lnTo>
                    <a:pt x="530" y="1112"/>
                  </a:lnTo>
                  <a:lnTo>
                    <a:pt x="671" y="1076"/>
                  </a:lnTo>
                  <a:lnTo>
                    <a:pt x="777" y="1059"/>
                  </a:lnTo>
                  <a:lnTo>
                    <a:pt x="882" y="1059"/>
                  </a:lnTo>
                  <a:lnTo>
                    <a:pt x="988" y="1041"/>
                  </a:lnTo>
                  <a:lnTo>
                    <a:pt x="1094" y="1041"/>
                  </a:lnTo>
                  <a:lnTo>
                    <a:pt x="1235" y="1024"/>
                  </a:lnTo>
                  <a:lnTo>
                    <a:pt x="1376" y="1005"/>
                  </a:lnTo>
                  <a:lnTo>
                    <a:pt x="1518" y="1005"/>
                  </a:lnTo>
                  <a:lnTo>
                    <a:pt x="1660" y="1005"/>
                  </a:lnTo>
                  <a:lnTo>
                    <a:pt x="1765" y="987"/>
                  </a:lnTo>
                  <a:lnTo>
                    <a:pt x="1818" y="987"/>
                  </a:lnTo>
                  <a:lnTo>
                    <a:pt x="1660" y="987"/>
                  </a:lnTo>
                  <a:lnTo>
                    <a:pt x="1518" y="1005"/>
                  </a:lnTo>
                  <a:lnTo>
                    <a:pt x="1341" y="1041"/>
                  </a:lnTo>
                  <a:lnTo>
                    <a:pt x="1200" y="1076"/>
                  </a:lnTo>
                  <a:lnTo>
                    <a:pt x="953" y="1094"/>
                  </a:lnTo>
                  <a:lnTo>
                    <a:pt x="812" y="1112"/>
                  </a:lnTo>
                  <a:lnTo>
                    <a:pt x="636" y="1112"/>
                  </a:lnTo>
                  <a:lnTo>
                    <a:pt x="565" y="1165"/>
                  </a:lnTo>
                  <a:lnTo>
                    <a:pt x="458" y="1182"/>
                  </a:lnTo>
                  <a:lnTo>
                    <a:pt x="352" y="1218"/>
                  </a:lnTo>
                  <a:lnTo>
                    <a:pt x="299" y="1271"/>
                  </a:lnTo>
                  <a:lnTo>
                    <a:pt x="370" y="1306"/>
                  </a:lnTo>
                  <a:lnTo>
                    <a:pt x="547" y="1306"/>
                  </a:lnTo>
                  <a:lnTo>
                    <a:pt x="759" y="1306"/>
                  </a:lnTo>
                  <a:lnTo>
                    <a:pt x="900" y="1306"/>
                  </a:lnTo>
                  <a:lnTo>
                    <a:pt x="1006" y="1306"/>
                  </a:lnTo>
                  <a:lnTo>
                    <a:pt x="1112" y="1306"/>
                  </a:lnTo>
                  <a:lnTo>
                    <a:pt x="1218" y="1306"/>
                  </a:lnTo>
                  <a:lnTo>
                    <a:pt x="1359" y="1306"/>
                  </a:lnTo>
                  <a:lnTo>
                    <a:pt x="1501" y="1306"/>
                  </a:lnTo>
                  <a:lnTo>
                    <a:pt x="1642" y="1323"/>
                  </a:lnTo>
                  <a:lnTo>
                    <a:pt x="1748" y="1323"/>
                  </a:lnTo>
                  <a:lnTo>
                    <a:pt x="1624" y="1323"/>
                  </a:lnTo>
                  <a:lnTo>
                    <a:pt x="1448" y="1323"/>
                  </a:lnTo>
                  <a:lnTo>
                    <a:pt x="1306" y="1341"/>
                  </a:lnTo>
                  <a:lnTo>
                    <a:pt x="1200" y="1359"/>
                  </a:lnTo>
                  <a:lnTo>
                    <a:pt x="1059" y="1376"/>
                  </a:lnTo>
                  <a:lnTo>
                    <a:pt x="882" y="1394"/>
                  </a:lnTo>
                  <a:lnTo>
                    <a:pt x="671" y="1412"/>
                  </a:lnTo>
                  <a:lnTo>
                    <a:pt x="494" y="1429"/>
                  </a:lnTo>
                  <a:lnTo>
                    <a:pt x="388" y="1447"/>
                  </a:lnTo>
                  <a:lnTo>
                    <a:pt x="317" y="1517"/>
                  </a:lnTo>
                  <a:lnTo>
                    <a:pt x="246" y="1553"/>
                  </a:lnTo>
                  <a:lnTo>
                    <a:pt x="335" y="1570"/>
                  </a:lnTo>
                  <a:lnTo>
                    <a:pt x="477" y="1570"/>
                  </a:lnTo>
                  <a:lnTo>
                    <a:pt x="653" y="1570"/>
                  </a:lnTo>
                  <a:lnTo>
                    <a:pt x="794" y="1570"/>
                  </a:lnTo>
                  <a:lnTo>
                    <a:pt x="971" y="1588"/>
                  </a:lnTo>
                  <a:lnTo>
                    <a:pt x="1112" y="1606"/>
                  </a:lnTo>
                  <a:lnTo>
                    <a:pt x="1253" y="1623"/>
                  </a:lnTo>
                  <a:lnTo>
                    <a:pt x="1306" y="1641"/>
                  </a:lnTo>
                  <a:lnTo>
                    <a:pt x="1165" y="1623"/>
                  </a:lnTo>
                  <a:lnTo>
                    <a:pt x="1059" y="1623"/>
                  </a:lnTo>
                  <a:lnTo>
                    <a:pt x="953" y="1623"/>
                  </a:lnTo>
                  <a:lnTo>
                    <a:pt x="847" y="1641"/>
                  </a:lnTo>
                  <a:lnTo>
                    <a:pt x="741" y="1641"/>
                  </a:lnTo>
                  <a:lnTo>
                    <a:pt x="565" y="1659"/>
                  </a:lnTo>
                  <a:lnTo>
                    <a:pt x="352" y="1676"/>
                  </a:lnTo>
                  <a:lnTo>
                    <a:pt x="211" y="1676"/>
                  </a:lnTo>
                  <a:lnTo>
                    <a:pt x="317" y="1694"/>
                  </a:lnTo>
                  <a:lnTo>
                    <a:pt x="388" y="1747"/>
                  </a:lnTo>
                  <a:lnTo>
                    <a:pt x="423" y="1853"/>
                  </a:lnTo>
                  <a:lnTo>
                    <a:pt x="370" y="1888"/>
                  </a:lnTo>
                  <a:lnTo>
                    <a:pt x="317" y="1906"/>
                  </a:lnTo>
                  <a:lnTo>
                    <a:pt x="264" y="1923"/>
                  </a:lnTo>
                  <a:lnTo>
                    <a:pt x="211" y="1958"/>
                  </a:lnTo>
                  <a:lnTo>
                    <a:pt x="70" y="1976"/>
                  </a:lnTo>
                  <a:lnTo>
                    <a:pt x="52" y="2029"/>
                  </a:lnTo>
                  <a:lnTo>
                    <a:pt x="0" y="1994"/>
                  </a:lnTo>
                  <a:lnTo>
                    <a:pt x="17" y="1906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273400" y="5816520"/>
              <a:ext cx="603720" cy="317880"/>
            </a:xfrm>
            <a:custGeom>
              <a:avLst/>
              <a:gdLst/>
              <a:ahLst/>
              <a:rect l="0" t="0" r="r" b="b"/>
              <a:pathLst>
                <a:path w="1677" h="883">
                  <a:moveTo>
                    <a:pt x="0" y="883"/>
                  </a:moveTo>
                  <a:lnTo>
                    <a:pt x="17" y="742"/>
                  </a:lnTo>
                  <a:lnTo>
                    <a:pt x="70" y="600"/>
                  </a:lnTo>
                  <a:lnTo>
                    <a:pt x="105" y="494"/>
                  </a:lnTo>
                  <a:lnTo>
                    <a:pt x="211" y="389"/>
                  </a:lnTo>
                  <a:lnTo>
                    <a:pt x="317" y="283"/>
                  </a:lnTo>
                  <a:lnTo>
                    <a:pt x="424" y="247"/>
                  </a:lnTo>
                  <a:lnTo>
                    <a:pt x="477" y="176"/>
                  </a:lnTo>
                  <a:lnTo>
                    <a:pt x="547" y="123"/>
                  </a:lnTo>
                  <a:lnTo>
                    <a:pt x="653" y="88"/>
                  </a:lnTo>
                  <a:lnTo>
                    <a:pt x="794" y="35"/>
                  </a:lnTo>
                  <a:lnTo>
                    <a:pt x="865" y="0"/>
                  </a:lnTo>
                  <a:lnTo>
                    <a:pt x="741" y="141"/>
                  </a:lnTo>
                  <a:lnTo>
                    <a:pt x="565" y="247"/>
                  </a:lnTo>
                  <a:lnTo>
                    <a:pt x="388" y="353"/>
                  </a:lnTo>
                  <a:lnTo>
                    <a:pt x="317" y="424"/>
                  </a:lnTo>
                  <a:lnTo>
                    <a:pt x="282" y="494"/>
                  </a:lnTo>
                  <a:lnTo>
                    <a:pt x="229" y="530"/>
                  </a:lnTo>
                  <a:lnTo>
                    <a:pt x="158" y="600"/>
                  </a:lnTo>
                  <a:lnTo>
                    <a:pt x="105" y="672"/>
                  </a:lnTo>
                  <a:lnTo>
                    <a:pt x="52" y="725"/>
                  </a:lnTo>
                  <a:lnTo>
                    <a:pt x="52" y="636"/>
                  </a:lnTo>
                  <a:lnTo>
                    <a:pt x="88" y="530"/>
                  </a:lnTo>
                  <a:lnTo>
                    <a:pt x="229" y="424"/>
                  </a:lnTo>
                  <a:lnTo>
                    <a:pt x="370" y="318"/>
                  </a:lnTo>
                  <a:lnTo>
                    <a:pt x="547" y="283"/>
                  </a:lnTo>
                  <a:lnTo>
                    <a:pt x="688" y="247"/>
                  </a:lnTo>
                  <a:lnTo>
                    <a:pt x="830" y="230"/>
                  </a:lnTo>
                  <a:lnTo>
                    <a:pt x="971" y="194"/>
                  </a:lnTo>
                  <a:lnTo>
                    <a:pt x="1076" y="176"/>
                  </a:lnTo>
                  <a:lnTo>
                    <a:pt x="1253" y="158"/>
                  </a:lnTo>
                  <a:lnTo>
                    <a:pt x="1395" y="158"/>
                  </a:lnTo>
                  <a:lnTo>
                    <a:pt x="1501" y="158"/>
                  </a:lnTo>
                  <a:lnTo>
                    <a:pt x="1607" y="158"/>
                  </a:lnTo>
                  <a:lnTo>
                    <a:pt x="1677" y="176"/>
                  </a:lnTo>
                  <a:lnTo>
                    <a:pt x="1571" y="211"/>
                  </a:lnTo>
                  <a:lnTo>
                    <a:pt x="1430" y="318"/>
                  </a:lnTo>
                  <a:lnTo>
                    <a:pt x="1289" y="424"/>
                  </a:lnTo>
                  <a:lnTo>
                    <a:pt x="1147" y="441"/>
                  </a:lnTo>
                  <a:lnTo>
                    <a:pt x="1041" y="477"/>
                  </a:lnTo>
                  <a:lnTo>
                    <a:pt x="865" y="494"/>
                  </a:lnTo>
                  <a:lnTo>
                    <a:pt x="724" y="512"/>
                  </a:lnTo>
                  <a:lnTo>
                    <a:pt x="618" y="547"/>
                  </a:lnTo>
                  <a:lnTo>
                    <a:pt x="512" y="565"/>
                  </a:lnTo>
                  <a:lnTo>
                    <a:pt x="370" y="583"/>
                  </a:lnTo>
                  <a:lnTo>
                    <a:pt x="229" y="600"/>
                  </a:lnTo>
                  <a:lnTo>
                    <a:pt x="123" y="636"/>
                  </a:lnTo>
                  <a:lnTo>
                    <a:pt x="52" y="672"/>
                  </a:lnTo>
                  <a:lnTo>
                    <a:pt x="317" y="707"/>
                  </a:lnTo>
                  <a:lnTo>
                    <a:pt x="600" y="725"/>
                  </a:lnTo>
                  <a:lnTo>
                    <a:pt x="741" y="742"/>
                  </a:lnTo>
                  <a:lnTo>
                    <a:pt x="865" y="742"/>
                  </a:lnTo>
                  <a:lnTo>
                    <a:pt x="935" y="760"/>
                  </a:lnTo>
                  <a:lnTo>
                    <a:pt x="777" y="760"/>
                  </a:lnTo>
                  <a:lnTo>
                    <a:pt x="600" y="778"/>
                  </a:lnTo>
                  <a:lnTo>
                    <a:pt x="459" y="795"/>
                  </a:lnTo>
                  <a:lnTo>
                    <a:pt x="405" y="795"/>
                  </a:lnTo>
                  <a:lnTo>
                    <a:pt x="352" y="795"/>
                  </a:lnTo>
                  <a:lnTo>
                    <a:pt x="211" y="795"/>
                  </a:lnTo>
                  <a:lnTo>
                    <a:pt x="105" y="795"/>
                  </a:lnTo>
                  <a:lnTo>
                    <a:pt x="52" y="778"/>
                  </a:lnTo>
                  <a:lnTo>
                    <a:pt x="35" y="778"/>
                  </a:lnTo>
                  <a:lnTo>
                    <a:pt x="0" y="883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378080" y="6311880"/>
              <a:ext cx="794160" cy="209880"/>
            </a:xfrm>
            <a:custGeom>
              <a:avLst/>
              <a:gdLst/>
              <a:ahLst/>
              <a:rect l="0" t="0" r="r" b="b"/>
              <a:pathLst>
                <a:path w="2206" h="583">
                  <a:moveTo>
                    <a:pt x="1253" y="246"/>
                  </a:moveTo>
                  <a:lnTo>
                    <a:pt x="1359" y="194"/>
                  </a:lnTo>
                  <a:lnTo>
                    <a:pt x="1306" y="176"/>
                  </a:lnTo>
                  <a:lnTo>
                    <a:pt x="1165" y="123"/>
                  </a:lnTo>
                  <a:lnTo>
                    <a:pt x="1024" y="70"/>
                  </a:lnTo>
                  <a:lnTo>
                    <a:pt x="918" y="35"/>
                  </a:lnTo>
                  <a:lnTo>
                    <a:pt x="865" y="17"/>
                  </a:lnTo>
                  <a:lnTo>
                    <a:pt x="741" y="17"/>
                  </a:lnTo>
                  <a:lnTo>
                    <a:pt x="636" y="17"/>
                  </a:lnTo>
                  <a:lnTo>
                    <a:pt x="458" y="17"/>
                  </a:lnTo>
                  <a:lnTo>
                    <a:pt x="600" y="52"/>
                  </a:lnTo>
                  <a:lnTo>
                    <a:pt x="671" y="88"/>
                  </a:lnTo>
                  <a:lnTo>
                    <a:pt x="812" y="123"/>
                  </a:lnTo>
                  <a:lnTo>
                    <a:pt x="918" y="123"/>
                  </a:lnTo>
                  <a:lnTo>
                    <a:pt x="971" y="141"/>
                  </a:lnTo>
                  <a:lnTo>
                    <a:pt x="1024" y="158"/>
                  </a:lnTo>
                  <a:lnTo>
                    <a:pt x="847" y="176"/>
                  </a:lnTo>
                  <a:lnTo>
                    <a:pt x="706" y="158"/>
                  </a:lnTo>
                  <a:lnTo>
                    <a:pt x="565" y="158"/>
                  </a:lnTo>
                  <a:lnTo>
                    <a:pt x="511" y="141"/>
                  </a:lnTo>
                  <a:lnTo>
                    <a:pt x="440" y="123"/>
                  </a:lnTo>
                  <a:lnTo>
                    <a:pt x="335" y="123"/>
                  </a:lnTo>
                  <a:lnTo>
                    <a:pt x="282" y="123"/>
                  </a:lnTo>
                  <a:lnTo>
                    <a:pt x="229" y="105"/>
                  </a:lnTo>
                  <a:lnTo>
                    <a:pt x="52" y="70"/>
                  </a:lnTo>
                  <a:lnTo>
                    <a:pt x="0" y="17"/>
                  </a:lnTo>
                  <a:lnTo>
                    <a:pt x="70" y="0"/>
                  </a:lnTo>
                  <a:lnTo>
                    <a:pt x="211" y="17"/>
                  </a:lnTo>
                  <a:lnTo>
                    <a:pt x="317" y="17"/>
                  </a:lnTo>
                  <a:lnTo>
                    <a:pt x="423" y="35"/>
                  </a:lnTo>
                  <a:lnTo>
                    <a:pt x="493" y="70"/>
                  </a:lnTo>
                  <a:lnTo>
                    <a:pt x="546" y="88"/>
                  </a:lnTo>
                  <a:lnTo>
                    <a:pt x="600" y="123"/>
                  </a:lnTo>
                  <a:lnTo>
                    <a:pt x="671" y="158"/>
                  </a:lnTo>
                  <a:lnTo>
                    <a:pt x="565" y="158"/>
                  </a:lnTo>
                  <a:lnTo>
                    <a:pt x="511" y="211"/>
                  </a:lnTo>
                  <a:lnTo>
                    <a:pt x="370" y="229"/>
                  </a:lnTo>
                  <a:lnTo>
                    <a:pt x="264" y="246"/>
                  </a:lnTo>
                  <a:lnTo>
                    <a:pt x="370" y="282"/>
                  </a:lnTo>
                  <a:lnTo>
                    <a:pt x="546" y="282"/>
                  </a:lnTo>
                  <a:lnTo>
                    <a:pt x="759" y="300"/>
                  </a:lnTo>
                  <a:lnTo>
                    <a:pt x="1041" y="300"/>
                  </a:lnTo>
                  <a:lnTo>
                    <a:pt x="1182" y="300"/>
                  </a:lnTo>
                  <a:lnTo>
                    <a:pt x="1253" y="246"/>
                  </a:lnTo>
                  <a:lnTo>
                    <a:pt x="1323" y="211"/>
                  </a:lnTo>
                  <a:lnTo>
                    <a:pt x="1306" y="318"/>
                  </a:lnTo>
                  <a:lnTo>
                    <a:pt x="1200" y="424"/>
                  </a:lnTo>
                  <a:lnTo>
                    <a:pt x="1271" y="459"/>
                  </a:lnTo>
                  <a:lnTo>
                    <a:pt x="1412" y="441"/>
                  </a:lnTo>
                  <a:lnTo>
                    <a:pt x="1517" y="424"/>
                  </a:lnTo>
                  <a:lnTo>
                    <a:pt x="1588" y="371"/>
                  </a:lnTo>
                  <a:lnTo>
                    <a:pt x="1765" y="459"/>
                  </a:lnTo>
                  <a:lnTo>
                    <a:pt x="1942" y="565"/>
                  </a:lnTo>
                  <a:lnTo>
                    <a:pt x="2118" y="583"/>
                  </a:lnTo>
                  <a:lnTo>
                    <a:pt x="2171" y="530"/>
                  </a:lnTo>
                  <a:lnTo>
                    <a:pt x="2206" y="424"/>
                  </a:lnTo>
                  <a:lnTo>
                    <a:pt x="2206" y="318"/>
                  </a:lnTo>
                  <a:lnTo>
                    <a:pt x="2065" y="300"/>
                  </a:lnTo>
                  <a:lnTo>
                    <a:pt x="1959" y="300"/>
                  </a:lnTo>
                  <a:lnTo>
                    <a:pt x="1854" y="282"/>
                  </a:lnTo>
                  <a:lnTo>
                    <a:pt x="1748" y="264"/>
                  </a:lnTo>
                  <a:lnTo>
                    <a:pt x="1695" y="246"/>
                  </a:lnTo>
                  <a:lnTo>
                    <a:pt x="1482" y="229"/>
                  </a:lnTo>
                  <a:lnTo>
                    <a:pt x="1429" y="211"/>
                  </a:lnTo>
                  <a:lnTo>
                    <a:pt x="1376" y="176"/>
                  </a:lnTo>
                  <a:lnTo>
                    <a:pt x="1323" y="123"/>
                  </a:lnTo>
                  <a:lnTo>
                    <a:pt x="1218" y="105"/>
                  </a:lnTo>
                  <a:lnTo>
                    <a:pt x="1253" y="35"/>
                  </a:lnTo>
                  <a:lnTo>
                    <a:pt x="1253" y="246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5" name=""/>
          <p:cNvSpPr txBox="1"/>
          <p:nvPr/>
        </p:nvSpPr>
        <p:spPr>
          <a:xfrm>
            <a:off x="304920" y="457200"/>
            <a:ext cx="7391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OOOOOOOP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841400" y="1231920"/>
            <a:ext cx="5905800" cy="4191480"/>
          </a:xfrm>
          <a:custGeom>
            <a:avLst/>
            <a:gdLst/>
            <a:ahLst/>
            <a:rect l="0" t="0" r="r" b="b"/>
            <a:pathLst>
              <a:path w="16405" h="11643">
                <a:moveTo>
                  <a:pt x="8008" y="2081"/>
                </a:moveTo>
                <a:lnTo>
                  <a:pt x="7620" y="2151"/>
                </a:lnTo>
                <a:lnTo>
                  <a:pt x="7196" y="2116"/>
                </a:lnTo>
                <a:lnTo>
                  <a:pt x="6914" y="2081"/>
                </a:lnTo>
                <a:lnTo>
                  <a:pt x="6808" y="1975"/>
                </a:lnTo>
                <a:lnTo>
                  <a:pt x="6702" y="1834"/>
                </a:lnTo>
                <a:lnTo>
                  <a:pt x="6491" y="1763"/>
                </a:lnTo>
                <a:lnTo>
                  <a:pt x="6279" y="1481"/>
                </a:lnTo>
                <a:lnTo>
                  <a:pt x="6067" y="1270"/>
                </a:lnTo>
                <a:lnTo>
                  <a:pt x="5856" y="1058"/>
                </a:lnTo>
                <a:lnTo>
                  <a:pt x="5644" y="987"/>
                </a:lnTo>
                <a:lnTo>
                  <a:pt x="5362" y="917"/>
                </a:lnTo>
                <a:lnTo>
                  <a:pt x="5256" y="881"/>
                </a:lnTo>
                <a:lnTo>
                  <a:pt x="5009" y="917"/>
                </a:lnTo>
                <a:lnTo>
                  <a:pt x="4797" y="952"/>
                </a:lnTo>
                <a:lnTo>
                  <a:pt x="4586" y="987"/>
                </a:lnTo>
                <a:lnTo>
                  <a:pt x="4445" y="1128"/>
                </a:lnTo>
                <a:lnTo>
                  <a:pt x="4374" y="1411"/>
                </a:lnTo>
                <a:lnTo>
                  <a:pt x="4339" y="1693"/>
                </a:lnTo>
                <a:lnTo>
                  <a:pt x="4586" y="1834"/>
                </a:lnTo>
                <a:lnTo>
                  <a:pt x="4797" y="1834"/>
                </a:lnTo>
                <a:lnTo>
                  <a:pt x="5080" y="1940"/>
                </a:lnTo>
                <a:lnTo>
                  <a:pt x="5362" y="1975"/>
                </a:lnTo>
                <a:lnTo>
                  <a:pt x="5503" y="2081"/>
                </a:lnTo>
                <a:lnTo>
                  <a:pt x="5503" y="2187"/>
                </a:lnTo>
                <a:lnTo>
                  <a:pt x="5503" y="2293"/>
                </a:lnTo>
                <a:lnTo>
                  <a:pt x="5503" y="2504"/>
                </a:lnTo>
                <a:lnTo>
                  <a:pt x="5432" y="2786"/>
                </a:lnTo>
                <a:lnTo>
                  <a:pt x="5397" y="2999"/>
                </a:lnTo>
                <a:lnTo>
                  <a:pt x="5291" y="3105"/>
                </a:lnTo>
                <a:lnTo>
                  <a:pt x="4938" y="3105"/>
                </a:lnTo>
                <a:lnTo>
                  <a:pt x="4656" y="3105"/>
                </a:lnTo>
                <a:lnTo>
                  <a:pt x="4374" y="3070"/>
                </a:lnTo>
                <a:lnTo>
                  <a:pt x="4162" y="3034"/>
                </a:lnTo>
                <a:lnTo>
                  <a:pt x="4021" y="2964"/>
                </a:lnTo>
                <a:lnTo>
                  <a:pt x="3774" y="2892"/>
                </a:lnTo>
                <a:lnTo>
                  <a:pt x="3492" y="2822"/>
                </a:lnTo>
                <a:lnTo>
                  <a:pt x="3139" y="2751"/>
                </a:lnTo>
                <a:lnTo>
                  <a:pt x="2928" y="2751"/>
                </a:lnTo>
                <a:lnTo>
                  <a:pt x="2786" y="2751"/>
                </a:lnTo>
                <a:lnTo>
                  <a:pt x="2575" y="2822"/>
                </a:lnTo>
                <a:lnTo>
                  <a:pt x="2293" y="2892"/>
                </a:lnTo>
                <a:lnTo>
                  <a:pt x="2257" y="3105"/>
                </a:lnTo>
                <a:lnTo>
                  <a:pt x="2222" y="3458"/>
                </a:lnTo>
                <a:lnTo>
                  <a:pt x="2222" y="3669"/>
                </a:lnTo>
                <a:lnTo>
                  <a:pt x="2222" y="3775"/>
                </a:lnTo>
                <a:lnTo>
                  <a:pt x="2222" y="3916"/>
                </a:lnTo>
                <a:lnTo>
                  <a:pt x="2293" y="4199"/>
                </a:lnTo>
                <a:lnTo>
                  <a:pt x="2363" y="4304"/>
                </a:lnTo>
                <a:lnTo>
                  <a:pt x="2328" y="4410"/>
                </a:lnTo>
                <a:lnTo>
                  <a:pt x="2046" y="4551"/>
                </a:lnTo>
                <a:lnTo>
                  <a:pt x="1763" y="4587"/>
                </a:lnTo>
                <a:lnTo>
                  <a:pt x="1622" y="4622"/>
                </a:lnTo>
                <a:lnTo>
                  <a:pt x="1375" y="4657"/>
                </a:lnTo>
                <a:lnTo>
                  <a:pt x="1093" y="4728"/>
                </a:lnTo>
                <a:lnTo>
                  <a:pt x="811" y="4763"/>
                </a:lnTo>
                <a:lnTo>
                  <a:pt x="529" y="4834"/>
                </a:lnTo>
                <a:lnTo>
                  <a:pt x="388" y="4975"/>
                </a:lnTo>
                <a:lnTo>
                  <a:pt x="105" y="5257"/>
                </a:lnTo>
                <a:lnTo>
                  <a:pt x="0" y="5539"/>
                </a:lnTo>
                <a:lnTo>
                  <a:pt x="0" y="5751"/>
                </a:lnTo>
                <a:lnTo>
                  <a:pt x="0" y="6033"/>
                </a:lnTo>
                <a:lnTo>
                  <a:pt x="70" y="6315"/>
                </a:lnTo>
                <a:lnTo>
                  <a:pt x="141" y="6421"/>
                </a:lnTo>
                <a:lnTo>
                  <a:pt x="352" y="6456"/>
                </a:lnTo>
                <a:lnTo>
                  <a:pt x="635" y="6492"/>
                </a:lnTo>
                <a:lnTo>
                  <a:pt x="846" y="6492"/>
                </a:lnTo>
                <a:lnTo>
                  <a:pt x="987" y="6456"/>
                </a:lnTo>
                <a:lnTo>
                  <a:pt x="1199" y="6386"/>
                </a:lnTo>
                <a:lnTo>
                  <a:pt x="1305" y="6315"/>
                </a:lnTo>
                <a:lnTo>
                  <a:pt x="1446" y="6315"/>
                </a:lnTo>
                <a:lnTo>
                  <a:pt x="1658" y="6351"/>
                </a:lnTo>
                <a:lnTo>
                  <a:pt x="2081" y="6562"/>
                </a:lnTo>
                <a:lnTo>
                  <a:pt x="2363" y="6633"/>
                </a:lnTo>
                <a:lnTo>
                  <a:pt x="2469" y="6703"/>
                </a:lnTo>
                <a:lnTo>
                  <a:pt x="2504" y="6844"/>
                </a:lnTo>
                <a:lnTo>
                  <a:pt x="2504" y="7056"/>
                </a:lnTo>
                <a:lnTo>
                  <a:pt x="2504" y="7268"/>
                </a:lnTo>
                <a:lnTo>
                  <a:pt x="2469" y="7479"/>
                </a:lnTo>
                <a:lnTo>
                  <a:pt x="2434" y="7762"/>
                </a:lnTo>
                <a:lnTo>
                  <a:pt x="2398" y="7973"/>
                </a:lnTo>
                <a:lnTo>
                  <a:pt x="2293" y="8114"/>
                </a:lnTo>
                <a:lnTo>
                  <a:pt x="2257" y="8326"/>
                </a:lnTo>
                <a:lnTo>
                  <a:pt x="2257" y="8467"/>
                </a:lnTo>
                <a:lnTo>
                  <a:pt x="2257" y="8608"/>
                </a:lnTo>
                <a:lnTo>
                  <a:pt x="2328" y="8821"/>
                </a:lnTo>
                <a:lnTo>
                  <a:pt x="2398" y="9033"/>
                </a:lnTo>
                <a:lnTo>
                  <a:pt x="2681" y="9103"/>
                </a:lnTo>
                <a:lnTo>
                  <a:pt x="2892" y="9138"/>
                </a:lnTo>
                <a:lnTo>
                  <a:pt x="3175" y="9209"/>
                </a:lnTo>
                <a:lnTo>
                  <a:pt x="3316" y="9244"/>
                </a:lnTo>
                <a:lnTo>
                  <a:pt x="3527" y="9209"/>
                </a:lnTo>
                <a:lnTo>
                  <a:pt x="3668" y="9138"/>
                </a:lnTo>
                <a:lnTo>
                  <a:pt x="3951" y="9033"/>
                </a:lnTo>
                <a:lnTo>
                  <a:pt x="4092" y="8962"/>
                </a:lnTo>
                <a:lnTo>
                  <a:pt x="4233" y="8892"/>
                </a:lnTo>
                <a:lnTo>
                  <a:pt x="4339" y="8892"/>
                </a:lnTo>
                <a:lnTo>
                  <a:pt x="4621" y="8997"/>
                </a:lnTo>
                <a:lnTo>
                  <a:pt x="4762" y="9103"/>
                </a:lnTo>
                <a:lnTo>
                  <a:pt x="4797" y="9209"/>
                </a:lnTo>
                <a:lnTo>
                  <a:pt x="4833" y="9315"/>
                </a:lnTo>
                <a:lnTo>
                  <a:pt x="4833" y="9456"/>
                </a:lnTo>
                <a:lnTo>
                  <a:pt x="4833" y="9738"/>
                </a:lnTo>
                <a:lnTo>
                  <a:pt x="4797" y="9879"/>
                </a:lnTo>
                <a:lnTo>
                  <a:pt x="4797" y="9985"/>
                </a:lnTo>
                <a:lnTo>
                  <a:pt x="4797" y="10197"/>
                </a:lnTo>
                <a:lnTo>
                  <a:pt x="4833" y="10408"/>
                </a:lnTo>
                <a:lnTo>
                  <a:pt x="4833" y="10691"/>
                </a:lnTo>
                <a:lnTo>
                  <a:pt x="4868" y="10973"/>
                </a:lnTo>
                <a:lnTo>
                  <a:pt x="4903" y="11185"/>
                </a:lnTo>
                <a:lnTo>
                  <a:pt x="4974" y="11290"/>
                </a:lnTo>
                <a:lnTo>
                  <a:pt x="5115" y="11432"/>
                </a:lnTo>
                <a:lnTo>
                  <a:pt x="5221" y="11432"/>
                </a:lnTo>
                <a:lnTo>
                  <a:pt x="5503" y="11432"/>
                </a:lnTo>
                <a:lnTo>
                  <a:pt x="5644" y="11396"/>
                </a:lnTo>
                <a:lnTo>
                  <a:pt x="5715" y="11290"/>
                </a:lnTo>
                <a:lnTo>
                  <a:pt x="5715" y="11149"/>
                </a:lnTo>
                <a:lnTo>
                  <a:pt x="5679" y="10938"/>
                </a:lnTo>
                <a:lnTo>
                  <a:pt x="5679" y="10832"/>
                </a:lnTo>
                <a:lnTo>
                  <a:pt x="5679" y="10620"/>
                </a:lnTo>
                <a:lnTo>
                  <a:pt x="5644" y="10267"/>
                </a:lnTo>
                <a:lnTo>
                  <a:pt x="5644" y="9985"/>
                </a:lnTo>
                <a:lnTo>
                  <a:pt x="5644" y="9703"/>
                </a:lnTo>
                <a:lnTo>
                  <a:pt x="5679" y="9562"/>
                </a:lnTo>
                <a:lnTo>
                  <a:pt x="5715" y="9350"/>
                </a:lnTo>
                <a:lnTo>
                  <a:pt x="5820" y="9209"/>
                </a:lnTo>
                <a:lnTo>
                  <a:pt x="6103" y="9209"/>
                </a:lnTo>
                <a:lnTo>
                  <a:pt x="6244" y="9280"/>
                </a:lnTo>
                <a:lnTo>
                  <a:pt x="6385" y="9421"/>
                </a:lnTo>
                <a:lnTo>
                  <a:pt x="6455" y="9562"/>
                </a:lnTo>
                <a:lnTo>
                  <a:pt x="6526" y="9703"/>
                </a:lnTo>
                <a:lnTo>
                  <a:pt x="6561" y="9844"/>
                </a:lnTo>
                <a:lnTo>
                  <a:pt x="6596" y="10126"/>
                </a:lnTo>
                <a:lnTo>
                  <a:pt x="6632" y="10408"/>
                </a:lnTo>
                <a:lnTo>
                  <a:pt x="6667" y="10620"/>
                </a:lnTo>
                <a:lnTo>
                  <a:pt x="6702" y="10832"/>
                </a:lnTo>
                <a:lnTo>
                  <a:pt x="6914" y="11114"/>
                </a:lnTo>
                <a:lnTo>
                  <a:pt x="7126" y="11326"/>
                </a:lnTo>
                <a:lnTo>
                  <a:pt x="7408" y="11537"/>
                </a:lnTo>
                <a:lnTo>
                  <a:pt x="7690" y="11608"/>
                </a:lnTo>
                <a:lnTo>
                  <a:pt x="7902" y="11608"/>
                </a:lnTo>
                <a:lnTo>
                  <a:pt x="8184" y="11643"/>
                </a:lnTo>
                <a:lnTo>
                  <a:pt x="8467" y="11643"/>
                </a:lnTo>
                <a:lnTo>
                  <a:pt x="8608" y="11608"/>
                </a:lnTo>
                <a:lnTo>
                  <a:pt x="8749" y="11502"/>
                </a:lnTo>
                <a:lnTo>
                  <a:pt x="8820" y="11149"/>
                </a:lnTo>
                <a:lnTo>
                  <a:pt x="8820" y="10797"/>
                </a:lnTo>
                <a:lnTo>
                  <a:pt x="8820" y="10585"/>
                </a:lnTo>
                <a:lnTo>
                  <a:pt x="8820" y="10303"/>
                </a:lnTo>
                <a:lnTo>
                  <a:pt x="8820" y="10091"/>
                </a:lnTo>
                <a:lnTo>
                  <a:pt x="8820" y="9950"/>
                </a:lnTo>
                <a:lnTo>
                  <a:pt x="8820" y="9738"/>
                </a:lnTo>
                <a:lnTo>
                  <a:pt x="8855" y="9597"/>
                </a:lnTo>
                <a:lnTo>
                  <a:pt x="8961" y="9491"/>
                </a:lnTo>
                <a:lnTo>
                  <a:pt x="9173" y="9491"/>
                </a:lnTo>
                <a:lnTo>
                  <a:pt x="9279" y="9456"/>
                </a:lnTo>
                <a:lnTo>
                  <a:pt x="9420" y="9456"/>
                </a:lnTo>
                <a:lnTo>
                  <a:pt x="9702" y="9527"/>
                </a:lnTo>
                <a:lnTo>
                  <a:pt x="10125" y="9738"/>
                </a:lnTo>
                <a:lnTo>
                  <a:pt x="10478" y="9950"/>
                </a:lnTo>
                <a:lnTo>
                  <a:pt x="10831" y="10020"/>
                </a:lnTo>
                <a:lnTo>
                  <a:pt x="11113" y="10303"/>
                </a:lnTo>
                <a:lnTo>
                  <a:pt x="11395" y="10514"/>
                </a:lnTo>
                <a:lnTo>
                  <a:pt x="11677" y="10726"/>
                </a:lnTo>
                <a:lnTo>
                  <a:pt x="11819" y="10797"/>
                </a:lnTo>
                <a:lnTo>
                  <a:pt x="12207" y="10832"/>
                </a:lnTo>
                <a:lnTo>
                  <a:pt x="12630" y="10832"/>
                </a:lnTo>
                <a:lnTo>
                  <a:pt x="12842" y="10761"/>
                </a:lnTo>
                <a:lnTo>
                  <a:pt x="13194" y="10620"/>
                </a:lnTo>
                <a:lnTo>
                  <a:pt x="13406" y="10550"/>
                </a:lnTo>
                <a:lnTo>
                  <a:pt x="13688" y="10444"/>
                </a:lnTo>
                <a:lnTo>
                  <a:pt x="13794" y="10338"/>
                </a:lnTo>
                <a:lnTo>
                  <a:pt x="13865" y="10056"/>
                </a:lnTo>
                <a:lnTo>
                  <a:pt x="13900" y="9844"/>
                </a:lnTo>
                <a:lnTo>
                  <a:pt x="13900" y="9632"/>
                </a:lnTo>
                <a:lnTo>
                  <a:pt x="13900" y="9527"/>
                </a:lnTo>
                <a:lnTo>
                  <a:pt x="13829" y="9315"/>
                </a:lnTo>
                <a:lnTo>
                  <a:pt x="13618" y="9033"/>
                </a:lnTo>
                <a:lnTo>
                  <a:pt x="13547" y="8750"/>
                </a:lnTo>
                <a:lnTo>
                  <a:pt x="13477" y="8538"/>
                </a:lnTo>
                <a:lnTo>
                  <a:pt x="13477" y="8397"/>
                </a:lnTo>
                <a:lnTo>
                  <a:pt x="13441" y="8256"/>
                </a:lnTo>
                <a:lnTo>
                  <a:pt x="13441" y="7973"/>
                </a:lnTo>
                <a:lnTo>
                  <a:pt x="13477" y="7762"/>
                </a:lnTo>
                <a:lnTo>
                  <a:pt x="13547" y="7550"/>
                </a:lnTo>
                <a:lnTo>
                  <a:pt x="13653" y="7409"/>
                </a:lnTo>
                <a:lnTo>
                  <a:pt x="13794" y="7338"/>
                </a:lnTo>
                <a:lnTo>
                  <a:pt x="14076" y="7268"/>
                </a:lnTo>
                <a:lnTo>
                  <a:pt x="14359" y="7232"/>
                </a:lnTo>
                <a:lnTo>
                  <a:pt x="14570" y="7232"/>
                </a:lnTo>
                <a:lnTo>
                  <a:pt x="14711" y="7197"/>
                </a:lnTo>
                <a:lnTo>
                  <a:pt x="14923" y="7162"/>
                </a:lnTo>
                <a:lnTo>
                  <a:pt x="15135" y="7127"/>
                </a:lnTo>
                <a:lnTo>
                  <a:pt x="15346" y="7127"/>
                </a:lnTo>
                <a:lnTo>
                  <a:pt x="15629" y="7056"/>
                </a:lnTo>
                <a:lnTo>
                  <a:pt x="15911" y="6915"/>
                </a:lnTo>
                <a:lnTo>
                  <a:pt x="16017" y="6809"/>
                </a:lnTo>
                <a:lnTo>
                  <a:pt x="16228" y="6597"/>
                </a:lnTo>
                <a:lnTo>
                  <a:pt x="16299" y="6386"/>
                </a:lnTo>
                <a:lnTo>
                  <a:pt x="16369" y="6104"/>
                </a:lnTo>
                <a:lnTo>
                  <a:pt x="16405" y="5892"/>
                </a:lnTo>
                <a:lnTo>
                  <a:pt x="16405" y="5680"/>
                </a:lnTo>
                <a:lnTo>
                  <a:pt x="16405" y="5539"/>
                </a:lnTo>
                <a:lnTo>
                  <a:pt x="16405" y="5257"/>
                </a:lnTo>
                <a:lnTo>
                  <a:pt x="16334" y="4975"/>
                </a:lnTo>
                <a:lnTo>
                  <a:pt x="16264" y="4763"/>
                </a:lnTo>
                <a:lnTo>
                  <a:pt x="16052" y="4551"/>
                </a:lnTo>
                <a:lnTo>
                  <a:pt x="15487" y="4587"/>
                </a:lnTo>
                <a:lnTo>
                  <a:pt x="15205" y="4622"/>
                </a:lnTo>
                <a:lnTo>
                  <a:pt x="14994" y="4692"/>
                </a:lnTo>
                <a:lnTo>
                  <a:pt x="14782" y="4728"/>
                </a:lnTo>
                <a:lnTo>
                  <a:pt x="14570" y="4728"/>
                </a:lnTo>
                <a:lnTo>
                  <a:pt x="14359" y="4763"/>
                </a:lnTo>
                <a:lnTo>
                  <a:pt x="14147" y="4798"/>
                </a:lnTo>
                <a:lnTo>
                  <a:pt x="13935" y="4798"/>
                </a:lnTo>
                <a:lnTo>
                  <a:pt x="13829" y="4798"/>
                </a:lnTo>
                <a:lnTo>
                  <a:pt x="13618" y="4798"/>
                </a:lnTo>
                <a:lnTo>
                  <a:pt x="13406" y="4763"/>
                </a:lnTo>
                <a:lnTo>
                  <a:pt x="13336" y="4657"/>
                </a:lnTo>
                <a:lnTo>
                  <a:pt x="13336" y="4516"/>
                </a:lnTo>
                <a:lnTo>
                  <a:pt x="13371" y="4375"/>
                </a:lnTo>
                <a:lnTo>
                  <a:pt x="13406" y="4163"/>
                </a:lnTo>
                <a:lnTo>
                  <a:pt x="13441" y="3952"/>
                </a:lnTo>
                <a:lnTo>
                  <a:pt x="13724" y="3669"/>
                </a:lnTo>
                <a:lnTo>
                  <a:pt x="13935" y="3599"/>
                </a:lnTo>
                <a:lnTo>
                  <a:pt x="14006" y="3387"/>
                </a:lnTo>
                <a:lnTo>
                  <a:pt x="14147" y="3246"/>
                </a:lnTo>
                <a:lnTo>
                  <a:pt x="14429" y="2964"/>
                </a:lnTo>
                <a:lnTo>
                  <a:pt x="14641" y="2681"/>
                </a:lnTo>
                <a:lnTo>
                  <a:pt x="14711" y="2398"/>
                </a:lnTo>
                <a:lnTo>
                  <a:pt x="14817" y="2116"/>
                </a:lnTo>
                <a:lnTo>
                  <a:pt x="14888" y="1834"/>
                </a:lnTo>
                <a:lnTo>
                  <a:pt x="14923" y="1552"/>
                </a:lnTo>
                <a:lnTo>
                  <a:pt x="14923" y="1270"/>
                </a:lnTo>
                <a:lnTo>
                  <a:pt x="14888" y="987"/>
                </a:lnTo>
                <a:lnTo>
                  <a:pt x="14852" y="705"/>
                </a:lnTo>
                <a:lnTo>
                  <a:pt x="14641" y="352"/>
                </a:lnTo>
                <a:lnTo>
                  <a:pt x="14288" y="70"/>
                </a:lnTo>
                <a:lnTo>
                  <a:pt x="14147" y="0"/>
                </a:lnTo>
                <a:lnTo>
                  <a:pt x="13935" y="0"/>
                </a:lnTo>
                <a:lnTo>
                  <a:pt x="13724" y="0"/>
                </a:lnTo>
                <a:lnTo>
                  <a:pt x="13441" y="35"/>
                </a:lnTo>
                <a:lnTo>
                  <a:pt x="13159" y="35"/>
                </a:lnTo>
                <a:lnTo>
                  <a:pt x="12947" y="70"/>
                </a:lnTo>
                <a:lnTo>
                  <a:pt x="12736" y="105"/>
                </a:lnTo>
                <a:lnTo>
                  <a:pt x="12630" y="211"/>
                </a:lnTo>
                <a:lnTo>
                  <a:pt x="12489" y="493"/>
                </a:lnTo>
                <a:lnTo>
                  <a:pt x="12418" y="705"/>
                </a:lnTo>
                <a:lnTo>
                  <a:pt x="12136" y="917"/>
                </a:lnTo>
                <a:lnTo>
                  <a:pt x="11924" y="1128"/>
                </a:lnTo>
                <a:lnTo>
                  <a:pt x="11819" y="1199"/>
                </a:lnTo>
                <a:lnTo>
                  <a:pt x="11395" y="1164"/>
                </a:lnTo>
                <a:lnTo>
                  <a:pt x="10901" y="1128"/>
                </a:lnTo>
                <a:lnTo>
                  <a:pt x="10407" y="1093"/>
                </a:lnTo>
                <a:lnTo>
                  <a:pt x="10055" y="1023"/>
                </a:lnTo>
                <a:lnTo>
                  <a:pt x="9843" y="987"/>
                </a:lnTo>
                <a:lnTo>
                  <a:pt x="9702" y="917"/>
                </a:lnTo>
                <a:lnTo>
                  <a:pt x="9420" y="917"/>
                </a:lnTo>
                <a:lnTo>
                  <a:pt x="9208" y="952"/>
                </a:lnTo>
                <a:lnTo>
                  <a:pt x="8855" y="1023"/>
                </a:lnTo>
                <a:lnTo>
                  <a:pt x="8573" y="1058"/>
                </a:lnTo>
                <a:lnTo>
                  <a:pt x="8361" y="1128"/>
                </a:lnTo>
                <a:lnTo>
                  <a:pt x="8291" y="1234"/>
                </a:lnTo>
                <a:lnTo>
                  <a:pt x="8256" y="1375"/>
                </a:lnTo>
                <a:lnTo>
                  <a:pt x="8220" y="1516"/>
                </a:lnTo>
                <a:lnTo>
                  <a:pt x="8184" y="1658"/>
                </a:lnTo>
                <a:lnTo>
                  <a:pt x="8078" y="1799"/>
                </a:lnTo>
                <a:lnTo>
                  <a:pt x="8008" y="2081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685800" y="243828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END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3543120" y="1523880"/>
            <a:ext cx="2057760" cy="1219680"/>
            <a:chOff x="3543120" y="1523880"/>
            <a:chExt cx="2057760" cy="1219680"/>
          </a:xfrm>
        </p:grpSpPr>
        <p:grpSp>
          <p:nvGrpSpPr>
            <p:cNvPr id="1119" name=""/>
            <p:cNvGrpSpPr/>
            <p:nvPr/>
          </p:nvGrpSpPr>
          <p:grpSpPr>
            <a:xfrm>
              <a:off x="3543120" y="1523880"/>
              <a:ext cx="1825920" cy="1095840"/>
              <a:chOff x="3543120" y="1523880"/>
              <a:chExt cx="1825920" cy="1095840"/>
            </a:xfrm>
          </p:grpSpPr>
          <p:sp>
            <p:nvSpPr>
              <p:cNvPr id="1120" name=""/>
              <p:cNvSpPr/>
              <p:nvPr/>
            </p:nvSpPr>
            <p:spPr>
              <a:xfrm>
                <a:off x="3543120" y="1523880"/>
                <a:ext cx="1825920" cy="1095840"/>
              </a:xfrm>
              <a:custGeom>
                <a:avLst/>
                <a:gdLst/>
                <a:ahLst/>
                <a:rect l="0" t="0" r="r" b="b"/>
                <a:pathLst>
                  <a:path w="5072" h="3044">
                    <a:moveTo>
                      <a:pt x="1112" y="552"/>
                    </a:moveTo>
                    <a:lnTo>
                      <a:pt x="1251" y="453"/>
                    </a:lnTo>
                    <a:lnTo>
                      <a:pt x="1378" y="380"/>
                    </a:lnTo>
                    <a:lnTo>
                      <a:pt x="1555" y="294"/>
                    </a:lnTo>
                    <a:lnTo>
                      <a:pt x="1732" y="196"/>
                    </a:lnTo>
                    <a:lnTo>
                      <a:pt x="1909" y="134"/>
                    </a:lnTo>
                    <a:lnTo>
                      <a:pt x="2099" y="85"/>
                    </a:lnTo>
                    <a:lnTo>
                      <a:pt x="2377" y="49"/>
                    </a:lnTo>
                    <a:lnTo>
                      <a:pt x="2707" y="12"/>
                    </a:lnTo>
                    <a:lnTo>
                      <a:pt x="2985" y="0"/>
                    </a:lnTo>
                    <a:lnTo>
                      <a:pt x="3238" y="12"/>
                    </a:lnTo>
                    <a:lnTo>
                      <a:pt x="3377" y="36"/>
                    </a:lnTo>
                    <a:lnTo>
                      <a:pt x="3491" y="61"/>
                    </a:lnTo>
                    <a:lnTo>
                      <a:pt x="3655" y="134"/>
                    </a:lnTo>
                    <a:lnTo>
                      <a:pt x="3731" y="171"/>
                    </a:lnTo>
                    <a:lnTo>
                      <a:pt x="3820" y="208"/>
                    </a:lnTo>
                    <a:lnTo>
                      <a:pt x="3946" y="208"/>
                    </a:lnTo>
                    <a:lnTo>
                      <a:pt x="4060" y="220"/>
                    </a:lnTo>
                    <a:lnTo>
                      <a:pt x="4186" y="233"/>
                    </a:lnTo>
                    <a:lnTo>
                      <a:pt x="4300" y="282"/>
                    </a:lnTo>
                    <a:lnTo>
                      <a:pt x="4376" y="318"/>
                    </a:lnTo>
                    <a:lnTo>
                      <a:pt x="4477" y="429"/>
                    </a:lnTo>
                    <a:lnTo>
                      <a:pt x="4629" y="601"/>
                    </a:lnTo>
                    <a:lnTo>
                      <a:pt x="4768" y="798"/>
                    </a:lnTo>
                    <a:lnTo>
                      <a:pt x="4882" y="957"/>
                    </a:lnTo>
                    <a:lnTo>
                      <a:pt x="4945" y="1056"/>
                    </a:lnTo>
                    <a:lnTo>
                      <a:pt x="4996" y="1178"/>
                    </a:lnTo>
                    <a:lnTo>
                      <a:pt x="5021" y="1313"/>
                    </a:lnTo>
                    <a:lnTo>
                      <a:pt x="5046" y="1461"/>
                    </a:lnTo>
                    <a:lnTo>
                      <a:pt x="5059" y="1620"/>
                    </a:lnTo>
                    <a:lnTo>
                      <a:pt x="5072" y="1743"/>
                    </a:lnTo>
                    <a:lnTo>
                      <a:pt x="5059" y="1853"/>
                    </a:lnTo>
                    <a:lnTo>
                      <a:pt x="5034" y="1927"/>
                    </a:lnTo>
                    <a:lnTo>
                      <a:pt x="4971" y="2000"/>
                    </a:lnTo>
                    <a:lnTo>
                      <a:pt x="4920" y="2037"/>
                    </a:lnTo>
                    <a:lnTo>
                      <a:pt x="4844" y="2086"/>
                    </a:lnTo>
                    <a:lnTo>
                      <a:pt x="4654" y="2172"/>
                    </a:lnTo>
                    <a:lnTo>
                      <a:pt x="4452" y="2258"/>
                    </a:lnTo>
                    <a:lnTo>
                      <a:pt x="4262" y="2382"/>
                    </a:lnTo>
                    <a:lnTo>
                      <a:pt x="3832" y="2603"/>
                    </a:lnTo>
                    <a:lnTo>
                      <a:pt x="3567" y="2725"/>
                    </a:lnTo>
                    <a:lnTo>
                      <a:pt x="3162" y="2897"/>
                    </a:lnTo>
                    <a:lnTo>
                      <a:pt x="2833" y="2971"/>
                    </a:lnTo>
                    <a:lnTo>
                      <a:pt x="2453" y="3044"/>
                    </a:lnTo>
                    <a:lnTo>
                      <a:pt x="2175" y="3032"/>
                    </a:lnTo>
                    <a:lnTo>
                      <a:pt x="2048" y="2995"/>
                    </a:lnTo>
                    <a:lnTo>
                      <a:pt x="1947" y="2971"/>
                    </a:lnTo>
                    <a:lnTo>
                      <a:pt x="1833" y="2958"/>
                    </a:lnTo>
                    <a:lnTo>
                      <a:pt x="1745" y="2958"/>
                    </a:lnTo>
                    <a:lnTo>
                      <a:pt x="1681" y="2983"/>
                    </a:lnTo>
                    <a:lnTo>
                      <a:pt x="1593" y="3007"/>
                    </a:lnTo>
                    <a:lnTo>
                      <a:pt x="1454" y="2995"/>
                    </a:lnTo>
                    <a:lnTo>
                      <a:pt x="1353" y="2958"/>
                    </a:lnTo>
                    <a:lnTo>
                      <a:pt x="1289" y="2922"/>
                    </a:lnTo>
                    <a:lnTo>
                      <a:pt x="1226" y="2860"/>
                    </a:lnTo>
                    <a:lnTo>
                      <a:pt x="1176" y="2787"/>
                    </a:lnTo>
                    <a:lnTo>
                      <a:pt x="1138" y="2750"/>
                    </a:lnTo>
                    <a:lnTo>
                      <a:pt x="1036" y="2701"/>
                    </a:lnTo>
                    <a:lnTo>
                      <a:pt x="897" y="2688"/>
                    </a:lnTo>
                    <a:lnTo>
                      <a:pt x="758" y="2713"/>
                    </a:lnTo>
                    <a:lnTo>
                      <a:pt x="644" y="2725"/>
                    </a:lnTo>
                    <a:lnTo>
                      <a:pt x="505" y="2713"/>
                    </a:lnTo>
                    <a:lnTo>
                      <a:pt x="392" y="2713"/>
                    </a:lnTo>
                    <a:lnTo>
                      <a:pt x="290" y="2676"/>
                    </a:lnTo>
                    <a:lnTo>
                      <a:pt x="240" y="2639"/>
                    </a:lnTo>
                    <a:lnTo>
                      <a:pt x="164" y="2529"/>
                    </a:lnTo>
                    <a:lnTo>
                      <a:pt x="101" y="2431"/>
                    </a:lnTo>
                    <a:lnTo>
                      <a:pt x="50" y="2308"/>
                    </a:lnTo>
                    <a:lnTo>
                      <a:pt x="12" y="2184"/>
                    </a:lnTo>
                    <a:lnTo>
                      <a:pt x="0" y="2025"/>
                    </a:lnTo>
                    <a:lnTo>
                      <a:pt x="12" y="1865"/>
                    </a:lnTo>
                    <a:lnTo>
                      <a:pt x="63" y="1694"/>
                    </a:lnTo>
                    <a:lnTo>
                      <a:pt x="151" y="1522"/>
                    </a:lnTo>
                    <a:lnTo>
                      <a:pt x="252" y="1399"/>
                    </a:lnTo>
                    <a:lnTo>
                      <a:pt x="328" y="1301"/>
                    </a:lnTo>
                    <a:lnTo>
                      <a:pt x="467" y="1215"/>
                    </a:lnTo>
                    <a:lnTo>
                      <a:pt x="569" y="1166"/>
                    </a:lnTo>
                    <a:lnTo>
                      <a:pt x="657" y="1092"/>
                    </a:lnTo>
                    <a:lnTo>
                      <a:pt x="784" y="945"/>
                    </a:lnTo>
                    <a:lnTo>
                      <a:pt x="872" y="810"/>
                    </a:lnTo>
                    <a:lnTo>
                      <a:pt x="999" y="662"/>
                    </a:lnTo>
                    <a:lnTo>
                      <a:pt x="1112" y="552"/>
                    </a:lnTo>
                    <a:close/>
                  </a:path>
                </a:pathLst>
              </a:custGeom>
              <a:solidFill>
                <a:srgbClr val="ff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"/>
              <p:cNvGrpSpPr/>
              <p:nvPr/>
            </p:nvGrpSpPr>
            <p:grpSpPr>
              <a:xfrm>
                <a:off x="3562200" y="1549440"/>
                <a:ext cx="1711800" cy="983160"/>
                <a:chOff x="3562200" y="1549440"/>
                <a:chExt cx="1711800" cy="983160"/>
              </a:xfrm>
            </p:grpSpPr>
            <p:grpSp>
              <p:nvGrpSpPr>
                <p:cNvPr id="1122" name=""/>
                <p:cNvGrpSpPr/>
                <p:nvPr/>
              </p:nvGrpSpPr>
              <p:grpSpPr>
                <a:xfrm>
                  <a:off x="3562200" y="2230560"/>
                  <a:ext cx="417960" cy="302040"/>
                  <a:chOff x="3562200" y="2230560"/>
                  <a:chExt cx="417960" cy="302040"/>
                </a:xfrm>
              </p:grpSpPr>
              <p:sp>
                <p:nvSpPr>
                  <p:cNvPr id="1123" name=""/>
                  <p:cNvSpPr/>
                  <p:nvPr/>
                </p:nvSpPr>
                <p:spPr>
                  <a:xfrm>
                    <a:off x="3562200" y="2230560"/>
                    <a:ext cx="417960" cy="3020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161" h="839">
                        <a:moveTo>
                          <a:pt x="0" y="0"/>
                        </a:moveTo>
                        <a:lnTo>
                          <a:pt x="12" y="36"/>
                        </a:lnTo>
                        <a:lnTo>
                          <a:pt x="25" y="98"/>
                        </a:lnTo>
                        <a:lnTo>
                          <a:pt x="50" y="135"/>
                        </a:lnTo>
                        <a:lnTo>
                          <a:pt x="75" y="197"/>
                        </a:lnTo>
                        <a:lnTo>
                          <a:pt x="100" y="235"/>
                        </a:lnTo>
                        <a:lnTo>
                          <a:pt x="163" y="272"/>
                        </a:lnTo>
                        <a:lnTo>
                          <a:pt x="226" y="321"/>
                        </a:lnTo>
                        <a:lnTo>
                          <a:pt x="303" y="333"/>
                        </a:lnTo>
                        <a:lnTo>
                          <a:pt x="366" y="333"/>
                        </a:lnTo>
                        <a:lnTo>
                          <a:pt x="442" y="345"/>
                        </a:lnTo>
                        <a:lnTo>
                          <a:pt x="467" y="382"/>
                        </a:lnTo>
                        <a:lnTo>
                          <a:pt x="517" y="444"/>
                        </a:lnTo>
                        <a:lnTo>
                          <a:pt x="568" y="481"/>
                        </a:lnTo>
                        <a:lnTo>
                          <a:pt x="643" y="530"/>
                        </a:lnTo>
                        <a:lnTo>
                          <a:pt x="744" y="580"/>
                        </a:lnTo>
                        <a:lnTo>
                          <a:pt x="820" y="604"/>
                        </a:lnTo>
                        <a:lnTo>
                          <a:pt x="870" y="617"/>
                        </a:lnTo>
                        <a:lnTo>
                          <a:pt x="960" y="630"/>
                        </a:lnTo>
                        <a:lnTo>
                          <a:pt x="1048" y="617"/>
                        </a:lnTo>
                        <a:lnTo>
                          <a:pt x="1086" y="617"/>
                        </a:lnTo>
                        <a:lnTo>
                          <a:pt x="1111" y="642"/>
                        </a:lnTo>
                        <a:lnTo>
                          <a:pt x="1136" y="655"/>
                        </a:lnTo>
                        <a:lnTo>
                          <a:pt x="1161" y="765"/>
                        </a:lnTo>
                        <a:lnTo>
                          <a:pt x="1161" y="839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3711600" y="2230560"/>
                    <a:ext cx="73440" cy="12888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04" h="358">
                        <a:moveTo>
                          <a:pt x="0" y="0"/>
                        </a:moveTo>
                        <a:lnTo>
                          <a:pt x="136" y="86"/>
                        </a:lnTo>
                        <a:lnTo>
                          <a:pt x="204" y="147"/>
                        </a:lnTo>
                        <a:lnTo>
                          <a:pt x="182" y="247"/>
                        </a:lnTo>
                        <a:lnTo>
                          <a:pt x="45" y="358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5" name=""/>
                <p:cNvSpPr/>
                <p:nvPr/>
              </p:nvSpPr>
              <p:spPr>
                <a:xfrm>
                  <a:off x="3855960" y="2252520"/>
                  <a:ext cx="346320" cy="133560"/>
                </a:xfrm>
                <a:custGeom>
                  <a:avLst/>
                  <a:gdLst/>
                  <a:ahLst/>
                  <a:rect l="0" t="0" r="r" b="b"/>
                  <a:pathLst>
                    <a:path fill="none" w="962" h="371">
                      <a:moveTo>
                        <a:pt x="0" y="0"/>
                      </a:moveTo>
                      <a:lnTo>
                        <a:pt x="37" y="74"/>
                      </a:lnTo>
                      <a:lnTo>
                        <a:pt x="101" y="160"/>
                      </a:lnTo>
                      <a:lnTo>
                        <a:pt x="151" y="223"/>
                      </a:lnTo>
                      <a:lnTo>
                        <a:pt x="202" y="260"/>
                      </a:lnTo>
                      <a:lnTo>
                        <a:pt x="278" y="284"/>
                      </a:lnTo>
                      <a:lnTo>
                        <a:pt x="354" y="297"/>
                      </a:lnTo>
                      <a:lnTo>
                        <a:pt x="430" y="297"/>
                      </a:lnTo>
                      <a:lnTo>
                        <a:pt x="544" y="309"/>
                      </a:lnTo>
                      <a:lnTo>
                        <a:pt x="658" y="346"/>
                      </a:lnTo>
                      <a:lnTo>
                        <a:pt x="747" y="371"/>
                      </a:lnTo>
                      <a:lnTo>
                        <a:pt x="810" y="371"/>
                      </a:lnTo>
                      <a:lnTo>
                        <a:pt x="873" y="359"/>
                      </a:lnTo>
                      <a:lnTo>
                        <a:pt x="962" y="322"/>
                      </a:lnTo>
                      <a:lnTo>
                        <a:pt x="962" y="322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3821040" y="2000160"/>
                  <a:ext cx="182880" cy="106560"/>
                </a:xfrm>
                <a:custGeom>
                  <a:avLst/>
                  <a:gdLst/>
                  <a:ahLst/>
                  <a:rect l="0" t="0" r="r" b="b"/>
                  <a:pathLst>
                    <a:path fill="none" w="508" h="296">
                      <a:moveTo>
                        <a:pt x="0" y="296"/>
                      </a:moveTo>
                      <a:lnTo>
                        <a:pt x="38" y="197"/>
                      </a:lnTo>
                      <a:lnTo>
                        <a:pt x="76" y="135"/>
                      </a:lnTo>
                      <a:lnTo>
                        <a:pt x="139" y="49"/>
                      </a:lnTo>
                      <a:lnTo>
                        <a:pt x="215" y="24"/>
                      </a:lnTo>
                      <a:lnTo>
                        <a:pt x="292" y="0"/>
                      </a:lnTo>
                      <a:lnTo>
                        <a:pt x="394" y="0"/>
                      </a:lnTo>
                      <a:lnTo>
                        <a:pt x="508" y="24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3714840" y="1979640"/>
                  <a:ext cx="89280" cy="265320"/>
                </a:xfrm>
                <a:custGeom>
                  <a:avLst/>
                  <a:gdLst/>
                  <a:ahLst/>
                  <a:rect l="0" t="0" r="r" b="b"/>
                  <a:pathLst>
                    <a:path fill="none" w="248" h="737">
                      <a:moveTo>
                        <a:pt x="0" y="0"/>
                      </a:moveTo>
                      <a:lnTo>
                        <a:pt x="65" y="49"/>
                      </a:lnTo>
                      <a:lnTo>
                        <a:pt x="117" y="85"/>
                      </a:lnTo>
                      <a:lnTo>
                        <a:pt x="156" y="159"/>
                      </a:lnTo>
                      <a:lnTo>
                        <a:pt x="196" y="233"/>
                      </a:lnTo>
                      <a:lnTo>
                        <a:pt x="222" y="343"/>
                      </a:lnTo>
                      <a:lnTo>
                        <a:pt x="248" y="442"/>
                      </a:lnTo>
                      <a:lnTo>
                        <a:pt x="248" y="528"/>
                      </a:lnTo>
                      <a:lnTo>
                        <a:pt x="235" y="590"/>
                      </a:lnTo>
                      <a:lnTo>
                        <a:pt x="209" y="676"/>
                      </a:lnTo>
                      <a:lnTo>
                        <a:pt x="196" y="737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3789360" y="1833480"/>
                  <a:ext cx="100440" cy="167040"/>
                </a:xfrm>
                <a:custGeom>
                  <a:avLst/>
                  <a:gdLst/>
                  <a:ahLst/>
                  <a:rect l="0" t="0" r="r" b="b"/>
                  <a:pathLst>
                    <a:path fill="none" w="279" h="464">
                      <a:moveTo>
                        <a:pt x="0" y="464"/>
                      </a:moveTo>
                      <a:lnTo>
                        <a:pt x="63" y="354"/>
                      </a:lnTo>
                      <a:lnTo>
                        <a:pt x="127" y="244"/>
                      </a:lnTo>
                      <a:lnTo>
                        <a:pt x="190" y="134"/>
                      </a:lnTo>
                      <a:lnTo>
                        <a:pt x="279" y="0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4152960" y="1585800"/>
                  <a:ext cx="74880" cy="116280"/>
                </a:xfrm>
                <a:custGeom>
                  <a:avLst/>
                  <a:gdLst/>
                  <a:ahLst/>
                  <a:rect l="0" t="0" r="r" b="b"/>
                  <a:pathLst>
                    <a:path fill="none" w="208" h="323">
                      <a:moveTo>
                        <a:pt x="0" y="323"/>
                      </a:moveTo>
                      <a:lnTo>
                        <a:pt x="77" y="199"/>
                      </a:lnTo>
                      <a:lnTo>
                        <a:pt x="208" y="0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989520" y="1563840"/>
                  <a:ext cx="518040" cy="349560"/>
                </a:xfrm>
                <a:custGeom>
                  <a:avLst/>
                  <a:gdLst/>
                  <a:ahLst/>
                  <a:rect l="0" t="0" r="r" b="b"/>
                  <a:pathLst>
                    <a:path fill="none" w="1439" h="971">
                      <a:moveTo>
                        <a:pt x="0" y="971"/>
                      </a:moveTo>
                      <a:lnTo>
                        <a:pt x="50" y="934"/>
                      </a:lnTo>
                      <a:lnTo>
                        <a:pt x="88" y="897"/>
                      </a:lnTo>
                      <a:lnTo>
                        <a:pt x="113" y="860"/>
                      </a:lnTo>
                      <a:lnTo>
                        <a:pt x="138" y="811"/>
                      </a:lnTo>
                      <a:lnTo>
                        <a:pt x="138" y="750"/>
                      </a:lnTo>
                      <a:lnTo>
                        <a:pt x="126" y="700"/>
                      </a:lnTo>
                      <a:lnTo>
                        <a:pt x="163" y="750"/>
                      </a:lnTo>
                      <a:lnTo>
                        <a:pt x="201" y="774"/>
                      </a:lnTo>
                      <a:lnTo>
                        <a:pt x="252" y="786"/>
                      </a:lnTo>
                      <a:lnTo>
                        <a:pt x="315" y="786"/>
                      </a:lnTo>
                      <a:lnTo>
                        <a:pt x="379" y="762"/>
                      </a:lnTo>
                      <a:lnTo>
                        <a:pt x="480" y="725"/>
                      </a:lnTo>
                      <a:lnTo>
                        <a:pt x="568" y="676"/>
                      </a:lnTo>
                      <a:lnTo>
                        <a:pt x="656" y="627"/>
                      </a:lnTo>
                      <a:lnTo>
                        <a:pt x="732" y="590"/>
                      </a:lnTo>
                      <a:lnTo>
                        <a:pt x="795" y="516"/>
                      </a:lnTo>
                      <a:lnTo>
                        <a:pt x="858" y="454"/>
                      </a:lnTo>
                      <a:lnTo>
                        <a:pt x="896" y="392"/>
                      </a:lnTo>
                      <a:lnTo>
                        <a:pt x="908" y="331"/>
                      </a:lnTo>
                      <a:lnTo>
                        <a:pt x="946" y="356"/>
                      </a:lnTo>
                      <a:lnTo>
                        <a:pt x="997" y="380"/>
                      </a:lnTo>
                      <a:lnTo>
                        <a:pt x="1047" y="405"/>
                      </a:lnTo>
                      <a:lnTo>
                        <a:pt x="1124" y="405"/>
                      </a:lnTo>
                      <a:lnTo>
                        <a:pt x="1199" y="380"/>
                      </a:lnTo>
                      <a:lnTo>
                        <a:pt x="1263" y="356"/>
                      </a:lnTo>
                      <a:lnTo>
                        <a:pt x="1300" y="331"/>
                      </a:lnTo>
                      <a:lnTo>
                        <a:pt x="1363" y="294"/>
                      </a:lnTo>
                      <a:lnTo>
                        <a:pt x="1401" y="257"/>
                      </a:lnTo>
                      <a:lnTo>
                        <a:pt x="1426" y="208"/>
                      </a:lnTo>
                      <a:lnTo>
                        <a:pt x="1439" y="159"/>
                      </a:lnTo>
                      <a:lnTo>
                        <a:pt x="1439" y="98"/>
                      </a:lnTo>
                      <a:lnTo>
                        <a:pt x="1439" y="0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3994200" y="1887480"/>
                  <a:ext cx="660600" cy="211320"/>
                </a:xfrm>
                <a:custGeom>
                  <a:avLst/>
                  <a:gdLst/>
                  <a:ahLst/>
                  <a:rect l="0" t="0" r="r" b="b"/>
                  <a:pathLst>
                    <a:path fill="none" w="1835" h="587">
                      <a:moveTo>
                        <a:pt x="0" y="587"/>
                      </a:moveTo>
                      <a:lnTo>
                        <a:pt x="37" y="514"/>
                      </a:lnTo>
                      <a:lnTo>
                        <a:pt x="101" y="440"/>
                      </a:lnTo>
                      <a:lnTo>
                        <a:pt x="151" y="379"/>
                      </a:lnTo>
                      <a:lnTo>
                        <a:pt x="202" y="330"/>
                      </a:lnTo>
                      <a:lnTo>
                        <a:pt x="265" y="268"/>
                      </a:lnTo>
                      <a:lnTo>
                        <a:pt x="303" y="244"/>
                      </a:lnTo>
                      <a:lnTo>
                        <a:pt x="379" y="207"/>
                      </a:lnTo>
                      <a:lnTo>
                        <a:pt x="518" y="146"/>
                      </a:lnTo>
                      <a:lnTo>
                        <a:pt x="683" y="109"/>
                      </a:lnTo>
                      <a:lnTo>
                        <a:pt x="822" y="73"/>
                      </a:lnTo>
                      <a:lnTo>
                        <a:pt x="987" y="24"/>
                      </a:lnTo>
                      <a:lnTo>
                        <a:pt x="1101" y="12"/>
                      </a:lnTo>
                      <a:lnTo>
                        <a:pt x="1215" y="0"/>
                      </a:lnTo>
                      <a:lnTo>
                        <a:pt x="1329" y="0"/>
                      </a:lnTo>
                      <a:lnTo>
                        <a:pt x="1443" y="12"/>
                      </a:lnTo>
                      <a:lnTo>
                        <a:pt x="1557" y="24"/>
                      </a:lnTo>
                      <a:lnTo>
                        <a:pt x="1658" y="48"/>
                      </a:lnTo>
                      <a:lnTo>
                        <a:pt x="1746" y="85"/>
                      </a:lnTo>
                      <a:lnTo>
                        <a:pt x="1835" y="109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435560" y="1739880"/>
                  <a:ext cx="105120" cy="119520"/>
                </a:xfrm>
                <a:custGeom>
                  <a:avLst/>
                  <a:gdLst/>
                  <a:ahLst/>
                  <a:rect l="0" t="0" r="r" b="b"/>
                  <a:pathLst>
                    <a:path fill="none" w="292" h="332">
                      <a:moveTo>
                        <a:pt x="0" y="332"/>
                      </a:moveTo>
                      <a:lnTo>
                        <a:pt x="63" y="332"/>
                      </a:lnTo>
                      <a:lnTo>
                        <a:pt x="152" y="332"/>
                      </a:lnTo>
                      <a:lnTo>
                        <a:pt x="216" y="295"/>
                      </a:lnTo>
                      <a:lnTo>
                        <a:pt x="254" y="245"/>
                      </a:lnTo>
                      <a:lnTo>
                        <a:pt x="292" y="172"/>
                      </a:lnTo>
                      <a:lnTo>
                        <a:pt x="292" y="98"/>
                      </a:lnTo>
                      <a:lnTo>
                        <a:pt x="279" y="0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4589640" y="1549440"/>
                  <a:ext cx="192600" cy="284400"/>
                </a:xfrm>
                <a:custGeom>
                  <a:avLst/>
                  <a:gdLst/>
                  <a:ahLst/>
                  <a:rect l="0" t="0" r="r" b="b"/>
                  <a:pathLst>
                    <a:path fill="none" w="535" h="790">
                      <a:moveTo>
                        <a:pt x="216" y="0"/>
                      </a:moveTo>
                      <a:lnTo>
                        <a:pt x="204" y="86"/>
                      </a:lnTo>
                      <a:lnTo>
                        <a:pt x="191" y="172"/>
                      </a:lnTo>
                      <a:lnTo>
                        <a:pt x="153" y="222"/>
                      </a:lnTo>
                      <a:lnTo>
                        <a:pt x="127" y="246"/>
                      </a:lnTo>
                      <a:lnTo>
                        <a:pt x="88" y="259"/>
                      </a:lnTo>
                      <a:lnTo>
                        <a:pt x="50" y="283"/>
                      </a:lnTo>
                      <a:lnTo>
                        <a:pt x="0" y="259"/>
                      </a:lnTo>
                      <a:lnTo>
                        <a:pt x="76" y="296"/>
                      </a:lnTo>
                      <a:lnTo>
                        <a:pt x="114" y="320"/>
                      </a:lnTo>
                      <a:lnTo>
                        <a:pt x="153" y="345"/>
                      </a:lnTo>
                      <a:lnTo>
                        <a:pt x="178" y="370"/>
                      </a:lnTo>
                      <a:lnTo>
                        <a:pt x="178" y="408"/>
                      </a:lnTo>
                      <a:lnTo>
                        <a:pt x="191" y="457"/>
                      </a:lnTo>
                      <a:lnTo>
                        <a:pt x="216" y="531"/>
                      </a:lnTo>
                      <a:lnTo>
                        <a:pt x="242" y="605"/>
                      </a:lnTo>
                      <a:lnTo>
                        <a:pt x="293" y="667"/>
                      </a:lnTo>
                      <a:lnTo>
                        <a:pt x="331" y="704"/>
                      </a:lnTo>
                      <a:lnTo>
                        <a:pt x="382" y="728"/>
                      </a:lnTo>
                      <a:lnTo>
                        <a:pt x="446" y="753"/>
                      </a:lnTo>
                      <a:lnTo>
                        <a:pt x="535" y="790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4759200" y="1590840"/>
                  <a:ext cx="417960" cy="225720"/>
                </a:xfrm>
                <a:custGeom>
                  <a:avLst/>
                  <a:gdLst/>
                  <a:ahLst/>
                  <a:rect l="0" t="0" r="r" b="b"/>
                  <a:pathLst>
                    <a:path fill="none" w="1161" h="627">
                      <a:moveTo>
                        <a:pt x="126" y="0"/>
                      </a:moveTo>
                      <a:lnTo>
                        <a:pt x="126" y="49"/>
                      </a:lnTo>
                      <a:lnTo>
                        <a:pt x="113" y="110"/>
                      </a:lnTo>
                      <a:lnTo>
                        <a:pt x="100" y="171"/>
                      </a:lnTo>
                      <a:lnTo>
                        <a:pt x="50" y="233"/>
                      </a:lnTo>
                      <a:lnTo>
                        <a:pt x="0" y="320"/>
                      </a:lnTo>
                      <a:lnTo>
                        <a:pt x="63" y="306"/>
                      </a:lnTo>
                      <a:lnTo>
                        <a:pt x="126" y="294"/>
                      </a:lnTo>
                      <a:lnTo>
                        <a:pt x="189" y="294"/>
                      </a:lnTo>
                      <a:lnTo>
                        <a:pt x="226" y="294"/>
                      </a:lnTo>
                      <a:lnTo>
                        <a:pt x="264" y="306"/>
                      </a:lnTo>
                      <a:lnTo>
                        <a:pt x="316" y="344"/>
                      </a:lnTo>
                      <a:lnTo>
                        <a:pt x="341" y="369"/>
                      </a:lnTo>
                      <a:lnTo>
                        <a:pt x="379" y="418"/>
                      </a:lnTo>
                      <a:lnTo>
                        <a:pt x="416" y="492"/>
                      </a:lnTo>
                      <a:lnTo>
                        <a:pt x="454" y="627"/>
                      </a:lnTo>
                      <a:lnTo>
                        <a:pt x="480" y="578"/>
                      </a:lnTo>
                      <a:lnTo>
                        <a:pt x="517" y="528"/>
                      </a:lnTo>
                      <a:lnTo>
                        <a:pt x="543" y="479"/>
                      </a:lnTo>
                      <a:lnTo>
                        <a:pt x="593" y="430"/>
                      </a:lnTo>
                      <a:lnTo>
                        <a:pt x="643" y="406"/>
                      </a:lnTo>
                      <a:lnTo>
                        <a:pt x="706" y="381"/>
                      </a:lnTo>
                      <a:lnTo>
                        <a:pt x="782" y="357"/>
                      </a:lnTo>
                      <a:lnTo>
                        <a:pt x="858" y="357"/>
                      </a:lnTo>
                      <a:lnTo>
                        <a:pt x="909" y="357"/>
                      </a:lnTo>
                      <a:lnTo>
                        <a:pt x="972" y="369"/>
                      </a:lnTo>
                      <a:lnTo>
                        <a:pt x="1035" y="393"/>
                      </a:lnTo>
                      <a:lnTo>
                        <a:pt x="1161" y="430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4803840" y="1806480"/>
                  <a:ext cx="182880" cy="168480"/>
                </a:xfrm>
                <a:custGeom>
                  <a:avLst/>
                  <a:gdLst/>
                  <a:ahLst/>
                  <a:rect l="0" t="0" r="r" b="b"/>
                  <a:pathLst>
                    <a:path fill="none" w="508" h="468">
                      <a:moveTo>
                        <a:pt x="0" y="0"/>
                      </a:moveTo>
                      <a:lnTo>
                        <a:pt x="0" y="86"/>
                      </a:lnTo>
                      <a:lnTo>
                        <a:pt x="0" y="147"/>
                      </a:lnTo>
                      <a:lnTo>
                        <a:pt x="0" y="196"/>
                      </a:lnTo>
                      <a:lnTo>
                        <a:pt x="38" y="259"/>
                      </a:lnTo>
                      <a:lnTo>
                        <a:pt x="101" y="333"/>
                      </a:lnTo>
                      <a:lnTo>
                        <a:pt x="164" y="419"/>
                      </a:lnTo>
                      <a:lnTo>
                        <a:pt x="215" y="443"/>
                      </a:lnTo>
                      <a:lnTo>
                        <a:pt x="240" y="468"/>
                      </a:lnTo>
                      <a:lnTo>
                        <a:pt x="279" y="468"/>
                      </a:lnTo>
                      <a:lnTo>
                        <a:pt x="381" y="431"/>
                      </a:lnTo>
                      <a:lnTo>
                        <a:pt x="508" y="382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91040" y="1819440"/>
                  <a:ext cx="186120" cy="133560"/>
                </a:xfrm>
                <a:custGeom>
                  <a:avLst/>
                  <a:gdLst/>
                  <a:ahLst/>
                  <a:rect l="0" t="0" r="r" b="b"/>
                  <a:pathLst>
                    <a:path fill="none" w="517" h="371">
                      <a:moveTo>
                        <a:pt x="0" y="346"/>
                      </a:moveTo>
                      <a:lnTo>
                        <a:pt x="75" y="371"/>
                      </a:lnTo>
                      <a:lnTo>
                        <a:pt x="152" y="371"/>
                      </a:lnTo>
                      <a:lnTo>
                        <a:pt x="240" y="371"/>
                      </a:lnTo>
                      <a:lnTo>
                        <a:pt x="328" y="359"/>
                      </a:lnTo>
                      <a:lnTo>
                        <a:pt x="378" y="309"/>
                      </a:lnTo>
                      <a:lnTo>
                        <a:pt x="442" y="247"/>
                      </a:lnTo>
                      <a:lnTo>
                        <a:pt x="480" y="172"/>
                      </a:lnTo>
                      <a:lnTo>
                        <a:pt x="505" y="74"/>
                      </a:lnTo>
                      <a:lnTo>
                        <a:pt x="517" y="0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5000760" y="1943280"/>
                  <a:ext cx="273240" cy="265320"/>
                </a:xfrm>
                <a:custGeom>
                  <a:avLst/>
                  <a:gdLst/>
                  <a:ahLst/>
                  <a:rect l="0" t="0" r="r" b="b"/>
                  <a:pathLst>
                    <a:path fill="none" w="759" h="737">
                      <a:moveTo>
                        <a:pt x="759" y="0"/>
                      </a:moveTo>
                      <a:lnTo>
                        <a:pt x="746" y="73"/>
                      </a:lnTo>
                      <a:lnTo>
                        <a:pt x="734" y="135"/>
                      </a:lnTo>
                      <a:lnTo>
                        <a:pt x="683" y="208"/>
                      </a:lnTo>
                      <a:lnTo>
                        <a:pt x="645" y="233"/>
                      </a:lnTo>
                      <a:lnTo>
                        <a:pt x="595" y="270"/>
                      </a:lnTo>
                      <a:lnTo>
                        <a:pt x="519" y="282"/>
                      </a:lnTo>
                      <a:lnTo>
                        <a:pt x="418" y="294"/>
                      </a:lnTo>
                      <a:lnTo>
                        <a:pt x="303" y="306"/>
                      </a:lnTo>
                      <a:lnTo>
                        <a:pt x="202" y="319"/>
                      </a:lnTo>
                      <a:lnTo>
                        <a:pt x="126" y="331"/>
                      </a:lnTo>
                      <a:lnTo>
                        <a:pt x="37" y="355"/>
                      </a:lnTo>
                      <a:lnTo>
                        <a:pt x="0" y="393"/>
                      </a:lnTo>
                      <a:lnTo>
                        <a:pt x="50" y="393"/>
                      </a:lnTo>
                      <a:lnTo>
                        <a:pt x="113" y="406"/>
                      </a:lnTo>
                      <a:lnTo>
                        <a:pt x="164" y="418"/>
                      </a:lnTo>
                      <a:lnTo>
                        <a:pt x="240" y="455"/>
                      </a:lnTo>
                      <a:lnTo>
                        <a:pt x="303" y="491"/>
                      </a:lnTo>
                      <a:lnTo>
                        <a:pt x="380" y="541"/>
                      </a:lnTo>
                      <a:lnTo>
                        <a:pt x="443" y="590"/>
                      </a:lnTo>
                      <a:lnTo>
                        <a:pt x="519" y="651"/>
                      </a:lnTo>
                      <a:lnTo>
                        <a:pt x="595" y="737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759200" y="1913040"/>
                  <a:ext cx="309960" cy="309960"/>
                </a:xfrm>
                <a:custGeom>
                  <a:avLst/>
                  <a:gdLst/>
                  <a:ahLst/>
                  <a:rect l="0" t="0" r="r" b="b"/>
                  <a:pathLst>
                    <a:path fill="none" w="861" h="861">
                      <a:moveTo>
                        <a:pt x="101" y="0"/>
                      </a:moveTo>
                      <a:lnTo>
                        <a:pt x="63" y="24"/>
                      </a:lnTo>
                      <a:lnTo>
                        <a:pt x="25" y="73"/>
                      </a:lnTo>
                      <a:lnTo>
                        <a:pt x="0" y="122"/>
                      </a:lnTo>
                      <a:lnTo>
                        <a:pt x="0" y="147"/>
                      </a:lnTo>
                      <a:lnTo>
                        <a:pt x="12" y="184"/>
                      </a:lnTo>
                      <a:lnTo>
                        <a:pt x="37" y="234"/>
                      </a:lnTo>
                      <a:lnTo>
                        <a:pt x="75" y="295"/>
                      </a:lnTo>
                      <a:lnTo>
                        <a:pt x="139" y="357"/>
                      </a:lnTo>
                      <a:lnTo>
                        <a:pt x="202" y="418"/>
                      </a:lnTo>
                      <a:lnTo>
                        <a:pt x="266" y="455"/>
                      </a:lnTo>
                      <a:lnTo>
                        <a:pt x="329" y="504"/>
                      </a:lnTo>
                      <a:lnTo>
                        <a:pt x="405" y="541"/>
                      </a:lnTo>
                      <a:lnTo>
                        <a:pt x="468" y="553"/>
                      </a:lnTo>
                      <a:lnTo>
                        <a:pt x="544" y="578"/>
                      </a:lnTo>
                      <a:lnTo>
                        <a:pt x="620" y="653"/>
                      </a:lnTo>
                      <a:lnTo>
                        <a:pt x="684" y="726"/>
                      </a:lnTo>
                      <a:lnTo>
                        <a:pt x="773" y="800"/>
                      </a:lnTo>
                      <a:lnTo>
                        <a:pt x="861" y="861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9" name=""/>
            <p:cNvGrpSpPr/>
            <p:nvPr/>
          </p:nvGrpSpPr>
          <p:grpSpPr>
            <a:xfrm>
              <a:off x="3774960" y="1643040"/>
              <a:ext cx="1825920" cy="1100520"/>
              <a:chOff x="3774960" y="1643040"/>
              <a:chExt cx="1825920" cy="1100520"/>
            </a:xfrm>
          </p:grpSpPr>
          <p:sp>
            <p:nvSpPr>
              <p:cNvPr id="1140" name=""/>
              <p:cNvSpPr/>
              <p:nvPr/>
            </p:nvSpPr>
            <p:spPr>
              <a:xfrm>
                <a:off x="3774960" y="1643040"/>
                <a:ext cx="1825920" cy="1100520"/>
              </a:xfrm>
              <a:custGeom>
                <a:avLst/>
                <a:gdLst/>
                <a:ahLst/>
                <a:rect l="0" t="0" r="r" b="b"/>
                <a:pathLst>
                  <a:path w="5072" h="3057">
                    <a:moveTo>
                      <a:pt x="1112" y="552"/>
                    </a:moveTo>
                    <a:lnTo>
                      <a:pt x="1239" y="454"/>
                    </a:lnTo>
                    <a:lnTo>
                      <a:pt x="1378" y="368"/>
                    </a:lnTo>
                    <a:lnTo>
                      <a:pt x="1542" y="294"/>
                    </a:lnTo>
                    <a:lnTo>
                      <a:pt x="1732" y="196"/>
                    </a:lnTo>
                    <a:lnTo>
                      <a:pt x="1896" y="135"/>
                    </a:lnTo>
                    <a:lnTo>
                      <a:pt x="2099" y="85"/>
                    </a:lnTo>
                    <a:lnTo>
                      <a:pt x="2364" y="49"/>
                    </a:lnTo>
                    <a:lnTo>
                      <a:pt x="2707" y="0"/>
                    </a:lnTo>
                    <a:lnTo>
                      <a:pt x="2985" y="0"/>
                    </a:lnTo>
                    <a:lnTo>
                      <a:pt x="3225" y="12"/>
                    </a:lnTo>
                    <a:lnTo>
                      <a:pt x="3364" y="36"/>
                    </a:lnTo>
                    <a:lnTo>
                      <a:pt x="3491" y="73"/>
                    </a:lnTo>
                    <a:lnTo>
                      <a:pt x="3655" y="135"/>
                    </a:lnTo>
                    <a:lnTo>
                      <a:pt x="3731" y="184"/>
                    </a:lnTo>
                    <a:lnTo>
                      <a:pt x="3807" y="208"/>
                    </a:lnTo>
                    <a:lnTo>
                      <a:pt x="3934" y="208"/>
                    </a:lnTo>
                    <a:lnTo>
                      <a:pt x="4060" y="220"/>
                    </a:lnTo>
                    <a:lnTo>
                      <a:pt x="4186" y="233"/>
                    </a:lnTo>
                    <a:lnTo>
                      <a:pt x="4300" y="282"/>
                    </a:lnTo>
                    <a:lnTo>
                      <a:pt x="4376" y="331"/>
                    </a:lnTo>
                    <a:lnTo>
                      <a:pt x="4477" y="429"/>
                    </a:lnTo>
                    <a:lnTo>
                      <a:pt x="4629" y="601"/>
                    </a:lnTo>
                    <a:lnTo>
                      <a:pt x="4768" y="798"/>
                    </a:lnTo>
                    <a:lnTo>
                      <a:pt x="4869" y="970"/>
                    </a:lnTo>
                    <a:lnTo>
                      <a:pt x="4945" y="1068"/>
                    </a:lnTo>
                    <a:lnTo>
                      <a:pt x="4996" y="1179"/>
                    </a:lnTo>
                    <a:lnTo>
                      <a:pt x="5008" y="1314"/>
                    </a:lnTo>
                    <a:lnTo>
                      <a:pt x="5046" y="1473"/>
                    </a:lnTo>
                    <a:lnTo>
                      <a:pt x="5072" y="1633"/>
                    </a:lnTo>
                    <a:lnTo>
                      <a:pt x="5072" y="1756"/>
                    </a:lnTo>
                    <a:lnTo>
                      <a:pt x="5059" y="1866"/>
                    </a:lnTo>
                    <a:lnTo>
                      <a:pt x="5034" y="1940"/>
                    </a:lnTo>
                    <a:lnTo>
                      <a:pt x="4971" y="2013"/>
                    </a:lnTo>
                    <a:lnTo>
                      <a:pt x="4933" y="2050"/>
                    </a:lnTo>
                    <a:lnTo>
                      <a:pt x="4857" y="2099"/>
                    </a:lnTo>
                    <a:lnTo>
                      <a:pt x="4654" y="2185"/>
                    </a:lnTo>
                    <a:lnTo>
                      <a:pt x="4452" y="2271"/>
                    </a:lnTo>
                    <a:lnTo>
                      <a:pt x="4262" y="2395"/>
                    </a:lnTo>
                    <a:lnTo>
                      <a:pt x="3832" y="2616"/>
                    </a:lnTo>
                    <a:lnTo>
                      <a:pt x="3579" y="2738"/>
                    </a:lnTo>
                    <a:lnTo>
                      <a:pt x="3162" y="2910"/>
                    </a:lnTo>
                    <a:lnTo>
                      <a:pt x="2833" y="2984"/>
                    </a:lnTo>
                    <a:lnTo>
                      <a:pt x="2453" y="3057"/>
                    </a:lnTo>
                    <a:lnTo>
                      <a:pt x="2175" y="3045"/>
                    </a:lnTo>
                    <a:lnTo>
                      <a:pt x="2048" y="3008"/>
                    </a:lnTo>
                    <a:lnTo>
                      <a:pt x="1947" y="2972"/>
                    </a:lnTo>
                    <a:lnTo>
                      <a:pt x="1846" y="2959"/>
                    </a:lnTo>
                    <a:lnTo>
                      <a:pt x="1745" y="2972"/>
                    </a:lnTo>
                    <a:lnTo>
                      <a:pt x="1681" y="2996"/>
                    </a:lnTo>
                    <a:lnTo>
                      <a:pt x="1593" y="3008"/>
                    </a:lnTo>
                    <a:lnTo>
                      <a:pt x="1454" y="2996"/>
                    </a:lnTo>
                    <a:lnTo>
                      <a:pt x="1353" y="2959"/>
                    </a:lnTo>
                    <a:lnTo>
                      <a:pt x="1277" y="2922"/>
                    </a:lnTo>
                    <a:lnTo>
                      <a:pt x="1226" y="2861"/>
                    </a:lnTo>
                    <a:lnTo>
                      <a:pt x="1176" y="2800"/>
                    </a:lnTo>
                    <a:lnTo>
                      <a:pt x="1138" y="2751"/>
                    </a:lnTo>
                    <a:lnTo>
                      <a:pt x="1036" y="2714"/>
                    </a:lnTo>
                    <a:lnTo>
                      <a:pt x="897" y="2689"/>
                    </a:lnTo>
                    <a:lnTo>
                      <a:pt x="758" y="2714"/>
                    </a:lnTo>
                    <a:lnTo>
                      <a:pt x="644" y="2726"/>
                    </a:lnTo>
                    <a:lnTo>
                      <a:pt x="505" y="2714"/>
                    </a:lnTo>
                    <a:lnTo>
                      <a:pt x="392" y="2702"/>
                    </a:lnTo>
                    <a:lnTo>
                      <a:pt x="290" y="2677"/>
                    </a:lnTo>
                    <a:lnTo>
                      <a:pt x="227" y="2628"/>
                    </a:lnTo>
                    <a:lnTo>
                      <a:pt x="164" y="2542"/>
                    </a:lnTo>
                    <a:lnTo>
                      <a:pt x="101" y="2432"/>
                    </a:lnTo>
                    <a:lnTo>
                      <a:pt x="37" y="2321"/>
                    </a:lnTo>
                    <a:lnTo>
                      <a:pt x="12" y="2197"/>
                    </a:lnTo>
                    <a:lnTo>
                      <a:pt x="0" y="2038"/>
                    </a:lnTo>
                    <a:lnTo>
                      <a:pt x="12" y="1866"/>
                    </a:lnTo>
                    <a:lnTo>
                      <a:pt x="63" y="1694"/>
                    </a:lnTo>
                    <a:lnTo>
                      <a:pt x="151" y="1522"/>
                    </a:lnTo>
                    <a:lnTo>
                      <a:pt x="240" y="1400"/>
                    </a:lnTo>
                    <a:lnTo>
                      <a:pt x="328" y="1301"/>
                    </a:lnTo>
                    <a:lnTo>
                      <a:pt x="467" y="1203"/>
                    </a:lnTo>
                    <a:lnTo>
                      <a:pt x="569" y="1166"/>
                    </a:lnTo>
                    <a:lnTo>
                      <a:pt x="644" y="1093"/>
                    </a:lnTo>
                    <a:lnTo>
                      <a:pt x="771" y="946"/>
                    </a:lnTo>
                    <a:lnTo>
                      <a:pt x="859" y="811"/>
                    </a:lnTo>
                    <a:lnTo>
                      <a:pt x="986" y="662"/>
                    </a:lnTo>
                    <a:lnTo>
                      <a:pt x="1112" y="552"/>
                    </a:lnTo>
                    <a:close/>
                  </a:path>
                </a:pathLst>
              </a:custGeom>
              <a:solidFill>
                <a:srgbClr val="ff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1" name=""/>
              <p:cNvGrpSpPr/>
              <p:nvPr/>
            </p:nvGrpSpPr>
            <p:grpSpPr>
              <a:xfrm>
                <a:off x="3792600" y="1670040"/>
                <a:ext cx="1708200" cy="981720"/>
                <a:chOff x="3792600" y="1670040"/>
                <a:chExt cx="1708200" cy="981720"/>
              </a:xfrm>
            </p:grpSpPr>
            <p:grpSp>
              <p:nvGrpSpPr>
                <p:cNvPr id="1142" name=""/>
                <p:cNvGrpSpPr/>
                <p:nvPr/>
              </p:nvGrpSpPr>
              <p:grpSpPr>
                <a:xfrm>
                  <a:off x="3792600" y="2346480"/>
                  <a:ext cx="424080" cy="305280"/>
                  <a:chOff x="3792600" y="2346480"/>
                  <a:chExt cx="424080" cy="305280"/>
                </a:xfrm>
              </p:grpSpPr>
              <p:sp>
                <p:nvSpPr>
                  <p:cNvPr id="1143" name=""/>
                  <p:cNvSpPr/>
                  <p:nvPr/>
                </p:nvSpPr>
                <p:spPr>
                  <a:xfrm>
                    <a:off x="3792600" y="2346480"/>
                    <a:ext cx="424080" cy="30528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178" h="848">
                        <a:moveTo>
                          <a:pt x="0" y="0"/>
                        </a:moveTo>
                        <a:lnTo>
                          <a:pt x="25" y="49"/>
                        </a:lnTo>
                        <a:lnTo>
                          <a:pt x="37" y="110"/>
                        </a:lnTo>
                        <a:lnTo>
                          <a:pt x="50" y="159"/>
                        </a:lnTo>
                        <a:lnTo>
                          <a:pt x="88" y="208"/>
                        </a:lnTo>
                        <a:lnTo>
                          <a:pt x="113" y="246"/>
                        </a:lnTo>
                        <a:lnTo>
                          <a:pt x="177" y="283"/>
                        </a:lnTo>
                        <a:lnTo>
                          <a:pt x="240" y="332"/>
                        </a:lnTo>
                        <a:lnTo>
                          <a:pt x="316" y="344"/>
                        </a:lnTo>
                        <a:lnTo>
                          <a:pt x="379" y="344"/>
                        </a:lnTo>
                        <a:lnTo>
                          <a:pt x="455" y="356"/>
                        </a:lnTo>
                        <a:lnTo>
                          <a:pt x="481" y="393"/>
                        </a:lnTo>
                        <a:lnTo>
                          <a:pt x="531" y="455"/>
                        </a:lnTo>
                        <a:lnTo>
                          <a:pt x="582" y="491"/>
                        </a:lnTo>
                        <a:lnTo>
                          <a:pt x="659" y="553"/>
                        </a:lnTo>
                        <a:lnTo>
                          <a:pt x="760" y="589"/>
                        </a:lnTo>
                        <a:lnTo>
                          <a:pt x="836" y="626"/>
                        </a:lnTo>
                        <a:lnTo>
                          <a:pt x="887" y="626"/>
                        </a:lnTo>
                        <a:lnTo>
                          <a:pt x="975" y="640"/>
                        </a:lnTo>
                        <a:lnTo>
                          <a:pt x="1064" y="626"/>
                        </a:lnTo>
                        <a:lnTo>
                          <a:pt x="1102" y="640"/>
                        </a:lnTo>
                        <a:lnTo>
                          <a:pt x="1140" y="652"/>
                        </a:lnTo>
                        <a:lnTo>
                          <a:pt x="1153" y="676"/>
                        </a:lnTo>
                        <a:lnTo>
                          <a:pt x="1165" y="775"/>
                        </a:lnTo>
                        <a:lnTo>
                          <a:pt x="1178" y="848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3944880" y="2349360"/>
                    <a:ext cx="71640" cy="12888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358">
                        <a:moveTo>
                          <a:pt x="0" y="0"/>
                        </a:moveTo>
                        <a:lnTo>
                          <a:pt x="125" y="86"/>
                        </a:lnTo>
                        <a:lnTo>
                          <a:pt x="199" y="147"/>
                        </a:lnTo>
                        <a:lnTo>
                          <a:pt x="199" y="247"/>
                        </a:lnTo>
                        <a:lnTo>
                          <a:pt x="49" y="358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5" name=""/>
                <p:cNvSpPr/>
                <p:nvPr/>
              </p:nvSpPr>
              <p:spPr>
                <a:xfrm>
                  <a:off x="4089240" y="2363760"/>
                  <a:ext cx="346320" cy="136800"/>
                </a:xfrm>
                <a:custGeom>
                  <a:avLst/>
                  <a:gdLst/>
                  <a:ahLst/>
                  <a:rect l="0" t="0" r="r" b="b"/>
                  <a:pathLst>
                    <a:path fill="none" w="962" h="380">
                      <a:moveTo>
                        <a:pt x="0" y="0"/>
                      </a:moveTo>
                      <a:lnTo>
                        <a:pt x="37" y="85"/>
                      </a:lnTo>
                      <a:lnTo>
                        <a:pt x="88" y="171"/>
                      </a:lnTo>
                      <a:lnTo>
                        <a:pt x="139" y="233"/>
                      </a:lnTo>
                      <a:lnTo>
                        <a:pt x="202" y="257"/>
                      </a:lnTo>
                      <a:lnTo>
                        <a:pt x="290" y="282"/>
                      </a:lnTo>
                      <a:lnTo>
                        <a:pt x="354" y="294"/>
                      </a:lnTo>
                      <a:lnTo>
                        <a:pt x="430" y="306"/>
                      </a:lnTo>
                      <a:lnTo>
                        <a:pt x="544" y="319"/>
                      </a:lnTo>
                      <a:lnTo>
                        <a:pt x="658" y="343"/>
                      </a:lnTo>
                      <a:lnTo>
                        <a:pt x="734" y="368"/>
                      </a:lnTo>
                      <a:lnTo>
                        <a:pt x="797" y="380"/>
                      </a:lnTo>
                      <a:lnTo>
                        <a:pt x="873" y="368"/>
                      </a:lnTo>
                      <a:lnTo>
                        <a:pt x="962" y="319"/>
                      </a:lnTo>
                      <a:lnTo>
                        <a:pt x="962" y="319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4052880" y="2120760"/>
                  <a:ext cx="182880" cy="105120"/>
                </a:xfrm>
                <a:custGeom>
                  <a:avLst/>
                  <a:gdLst/>
                  <a:ahLst/>
                  <a:rect l="0" t="0" r="r" b="b"/>
                  <a:pathLst>
                    <a:path fill="none" w="508" h="292">
                      <a:moveTo>
                        <a:pt x="0" y="292"/>
                      </a:moveTo>
                      <a:lnTo>
                        <a:pt x="50" y="207"/>
                      </a:lnTo>
                      <a:lnTo>
                        <a:pt x="76" y="145"/>
                      </a:lnTo>
                      <a:lnTo>
                        <a:pt x="139" y="60"/>
                      </a:lnTo>
                      <a:lnTo>
                        <a:pt x="215" y="24"/>
                      </a:lnTo>
                      <a:lnTo>
                        <a:pt x="305" y="0"/>
                      </a:lnTo>
                      <a:lnTo>
                        <a:pt x="406" y="12"/>
                      </a:lnTo>
                      <a:lnTo>
                        <a:pt x="508" y="36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3948120" y="2098800"/>
                  <a:ext cx="86040" cy="270360"/>
                </a:xfrm>
                <a:custGeom>
                  <a:avLst/>
                  <a:gdLst/>
                  <a:ahLst/>
                  <a:rect l="0" t="0" r="r" b="b"/>
                  <a:pathLst>
                    <a:path fill="none" w="239" h="751">
                      <a:moveTo>
                        <a:pt x="0" y="0"/>
                      </a:moveTo>
                      <a:lnTo>
                        <a:pt x="62" y="49"/>
                      </a:lnTo>
                      <a:lnTo>
                        <a:pt x="100" y="98"/>
                      </a:lnTo>
                      <a:lnTo>
                        <a:pt x="151" y="159"/>
                      </a:lnTo>
                      <a:lnTo>
                        <a:pt x="201" y="246"/>
                      </a:lnTo>
                      <a:lnTo>
                        <a:pt x="214" y="357"/>
                      </a:lnTo>
                      <a:lnTo>
                        <a:pt x="239" y="455"/>
                      </a:lnTo>
                      <a:lnTo>
                        <a:pt x="239" y="529"/>
                      </a:lnTo>
                      <a:lnTo>
                        <a:pt x="239" y="604"/>
                      </a:lnTo>
                      <a:lnTo>
                        <a:pt x="214" y="690"/>
                      </a:lnTo>
                      <a:lnTo>
                        <a:pt x="201" y="751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019400" y="1949400"/>
                  <a:ext cx="108360" cy="171720"/>
                </a:xfrm>
                <a:custGeom>
                  <a:avLst/>
                  <a:gdLst/>
                  <a:ahLst/>
                  <a:rect l="0" t="0" r="r" b="b"/>
                  <a:pathLst>
                    <a:path fill="none" w="301" h="477">
                      <a:moveTo>
                        <a:pt x="0" y="477"/>
                      </a:moveTo>
                      <a:lnTo>
                        <a:pt x="65" y="355"/>
                      </a:lnTo>
                      <a:lnTo>
                        <a:pt x="131" y="257"/>
                      </a:lnTo>
                      <a:lnTo>
                        <a:pt x="196" y="146"/>
                      </a:lnTo>
                      <a:lnTo>
                        <a:pt x="301" y="0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4390920" y="1701720"/>
                  <a:ext cx="71640" cy="10980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305">
                      <a:moveTo>
                        <a:pt x="0" y="305"/>
                      </a:moveTo>
                      <a:lnTo>
                        <a:pt x="56" y="183"/>
                      </a:lnTo>
                      <a:lnTo>
                        <a:pt x="199" y="0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4221000" y="1682640"/>
                  <a:ext cx="524160" cy="344880"/>
                </a:xfrm>
                <a:custGeom>
                  <a:avLst/>
                  <a:gdLst/>
                  <a:ahLst/>
                  <a:rect l="0" t="0" r="r" b="b"/>
                  <a:pathLst>
                    <a:path fill="none" w="1456" h="958">
                      <a:moveTo>
                        <a:pt x="0" y="958"/>
                      </a:moveTo>
                      <a:lnTo>
                        <a:pt x="50" y="922"/>
                      </a:lnTo>
                      <a:lnTo>
                        <a:pt x="88" y="885"/>
                      </a:lnTo>
                      <a:lnTo>
                        <a:pt x="113" y="848"/>
                      </a:lnTo>
                      <a:lnTo>
                        <a:pt x="126" y="799"/>
                      </a:lnTo>
                      <a:lnTo>
                        <a:pt x="126" y="750"/>
                      </a:lnTo>
                      <a:lnTo>
                        <a:pt x="126" y="688"/>
                      </a:lnTo>
                      <a:lnTo>
                        <a:pt x="164" y="738"/>
                      </a:lnTo>
                      <a:lnTo>
                        <a:pt x="202" y="774"/>
                      </a:lnTo>
                      <a:lnTo>
                        <a:pt x="253" y="774"/>
                      </a:lnTo>
                      <a:lnTo>
                        <a:pt x="316" y="774"/>
                      </a:lnTo>
                      <a:lnTo>
                        <a:pt x="379" y="750"/>
                      </a:lnTo>
                      <a:lnTo>
                        <a:pt x="480" y="725"/>
                      </a:lnTo>
                      <a:lnTo>
                        <a:pt x="582" y="675"/>
                      </a:lnTo>
                      <a:lnTo>
                        <a:pt x="670" y="626"/>
                      </a:lnTo>
                      <a:lnTo>
                        <a:pt x="734" y="589"/>
                      </a:lnTo>
                      <a:lnTo>
                        <a:pt x="810" y="516"/>
                      </a:lnTo>
                      <a:lnTo>
                        <a:pt x="861" y="454"/>
                      </a:lnTo>
                      <a:lnTo>
                        <a:pt x="899" y="393"/>
                      </a:lnTo>
                      <a:lnTo>
                        <a:pt x="924" y="319"/>
                      </a:lnTo>
                      <a:lnTo>
                        <a:pt x="962" y="356"/>
                      </a:lnTo>
                      <a:lnTo>
                        <a:pt x="1000" y="381"/>
                      </a:lnTo>
                      <a:lnTo>
                        <a:pt x="1063" y="393"/>
                      </a:lnTo>
                      <a:lnTo>
                        <a:pt x="1139" y="405"/>
                      </a:lnTo>
                      <a:lnTo>
                        <a:pt x="1203" y="381"/>
                      </a:lnTo>
                      <a:lnTo>
                        <a:pt x="1266" y="356"/>
                      </a:lnTo>
                      <a:lnTo>
                        <a:pt x="1304" y="332"/>
                      </a:lnTo>
                      <a:lnTo>
                        <a:pt x="1380" y="283"/>
                      </a:lnTo>
                      <a:lnTo>
                        <a:pt x="1418" y="246"/>
                      </a:lnTo>
                      <a:lnTo>
                        <a:pt x="1443" y="208"/>
                      </a:lnTo>
                      <a:lnTo>
                        <a:pt x="1456" y="159"/>
                      </a:lnTo>
                      <a:lnTo>
                        <a:pt x="1456" y="85"/>
                      </a:lnTo>
                      <a:lnTo>
                        <a:pt x="1443" y="0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4227480" y="2004840"/>
                  <a:ext cx="659160" cy="208440"/>
                </a:xfrm>
                <a:custGeom>
                  <a:avLst/>
                  <a:gdLst/>
                  <a:ahLst/>
                  <a:rect l="0" t="0" r="r" b="b"/>
                  <a:pathLst>
                    <a:path fill="none" w="1831" h="579">
                      <a:moveTo>
                        <a:pt x="0" y="579"/>
                      </a:moveTo>
                      <a:lnTo>
                        <a:pt x="37" y="505"/>
                      </a:lnTo>
                      <a:lnTo>
                        <a:pt x="88" y="431"/>
                      </a:lnTo>
                      <a:lnTo>
                        <a:pt x="138" y="369"/>
                      </a:lnTo>
                      <a:lnTo>
                        <a:pt x="201" y="308"/>
                      </a:lnTo>
                      <a:lnTo>
                        <a:pt x="265" y="259"/>
                      </a:lnTo>
                      <a:lnTo>
                        <a:pt x="302" y="234"/>
                      </a:lnTo>
                      <a:lnTo>
                        <a:pt x="378" y="197"/>
                      </a:lnTo>
                      <a:lnTo>
                        <a:pt x="517" y="148"/>
                      </a:lnTo>
                      <a:lnTo>
                        <a:pt x="668" y="98"/>
                      </a:lnTo>
                      <a:lnTo>
                        <a:pt x="820" y="61"/>
                      </a:lnTo>
                      <a:lnTo>
                        <a:pt x="985" y="24"/>
                      </a:lnTo>
                      <a:lnTo>
                        <a:pt x="1099" y="12"/>
                      </a:lnTo>
                      <a:lnTo>
                        <a:pt x="1212" y="0"/>
                      </a:lnTo>
                      <a:lnTo>
                        <a:pt x="1326" y="0"/>
                      </a:lnTo>
                      <a:lnTo>
                        <a:pt x="1439" y="24"/>
                      </a:lnTo>
                      <a:lnTo>
                        <a:pt x="1565" y="36"/>
                      </a:lnTo>
                      <a:lnTo>
                        <a:pt x="1654" y="61"/>
                      </a:lnTo>
                      <a:lnTo>
                        <a:pt x="1755" y="86"/>
                      </a:lnTo>
                      <a:lnTo>
                        <a:pt x="1831" y="122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4662360" y="1863720"/>
                  <a:ext cx="105120" cy="119520"/>
                </a:xfrm>
                <a:custGeom>
                  <a:avLst/>
                  <a:gdLst/>
                  <a:ahLst/>
                  <a:rect l="0" t="0" r="r" b="b"/>
                  <a:pathLst>
                    <a:path fill="none" w="292" h="332">
                      <a:moveTo>
                        <a:pt x="0" y="320"/>
                      </a:moveTo>
                      <a:lnTo>
                        <a:pt x="88" y="332"/>
                      </a:lnTo>
                      <a:lnTo>
                        <a:pt x="165" y="332"/>
                      </a:lnTo>
                      <a:lnTo>
                        <a:pt x="228" y="295"/>
                      </a:lnTo>
                      <a:lnTo>
                        <a:pt x="266" y="245"/>
                      </a:lnTo>
                      <a:lnTo>
                        <a:pt x="292" y="160"/>
                      </a:lnTo>
                      <a:lnTo>
                        <a:pt x="292" y="86"/>
                      </a:lnTo>
                      <a:lnTo>
                        <a:pt x="292" y="0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822920" y="1670040"/>
                  <a:ext cx="194040" cy="287640"/>
                </a:xfrm>
                <a:custGeom>
                  <a:avLst/>
                  <a:gdLst/>
                  <a:ahLst/>
                  <a:rect l="0" t="0" r="r" b="b"/>
                  <a:pathLst>
                    <a:path fill="none" w="539" h="799">
                      <a:moveTo>
                        <a:pt x="213" y="0"/>
                      </a:moveTo>
                      <a:lnTo>
                        <a:pt x="213" y="85"/>
                      </a:lnTo>
                      <a:lnTo>
                        <a:pt x="201" y="171"/>
                      </a:lnTo>
                      <a:lnTo>
                        <a:pt x="176" y="221"/>
                      </a:lnTo>
                      <a:lnTo>
                        <a:pt x="138" y="245"/>
                      </a:lnTo>
                      <a:lnTo>
                        <a:pt x="100" y="257"/>
                      </a:lnTo>
                      <a:lnTo>
                        <a:pt x="50" y="282"/>
                      </a:lnTo>
                      <a:lnTo>
                        <a:pt x="0" y="257"/>
                      </a:lnTo>
                      <a:lnTo>
                        <a:pt x="75" y="294"/>
                      </a:lnTo>
                      <a:lnTo>
                        <a:pt x="138" y="319"/>
                      </a:lnTo>
                      <a:lnTo>
                        <a:pt x="163" y="343"/>
                      </a:lnTo>
                      <a:lnTo>
                        <a:pt x="188" y="368"/>
                      </a:lnTo>
                      <a:lnTo>
                        <a:pt x="188" y="406"/>
                      </a:lnTo>
                      <a:lnTo>
                        <a:pt x="201" y="455"/>
                      </a:lnTo>
                      <a:lnTo>
                        <a:pt x="226" y="541"/>
                      </a:lnTo>
                      <a:lnTo>
                        <a:pt x="251" y="602"/>
                      </a:lnTo>
                      <a:lnTo>
                        <a:pt x="301" y="664"/>
                      </a:lnTo>
                      <a:lnTo>
                        <a:pt x="338" y="700"/>
                      </a:lnTo>
                      <a:lnTo>
                        <a:pt x="388" y="737"/>
                      </a:lnTo>
                      <a:lnTo>
                        <a:pt x="452" y="762"/>
                      </a:lnTo>
                      <a:lnTo>
                        <a:pt x="539" y="799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94280" y="1709640"/>
                  <a:ext cx="421200" cy="221040"/>
                </a:xfrm>
                <a:custGeom>
                  <a:avLst/>
                  <a:gdLst/>
                  <a:ahLst/>
                  <a:rect l="0" t="0" r="r" b="b"/>
                  <a:pathLst>
                    <a:path fill="none" w="1170" h="614">
                      <a:moveTo>
                        <a:pt x="139" y="0"/>
                      </a:moveTo>
                      <a:lnTo>
                        <a:pt x="127" y="61"/>
                      </a:lnTo>
                      <a:lnTo>
                        <a:pt x="114" y="122"/>
                      </a:lnTo>
                      <a:lnTo>
                        <a:pt x="88" y="160"/>
                      </a:lnTo>
                      <a:lnTo>
                        <a:pt x="50" y="233"/>
                      </a:lnTo>
                      <a:lnTo>
                        <a:pt x="0" y="319"/>
                      </a:lnTo>
                      <a:lnTo>
                        <a:pt x="63" y="295"/>
                      </a:lnTo>
                      <a:lnTo>
                        <a:pt x="127" y="282"/>
                      </a:lnTo>
                      <a:lnTo>
                        <a:pt x="190" y="282"/>
                      </a:lnTo>
                      <a:lnTo>
                        <a:pt x="228" y="295"/>
                      </a:lnTo>
                      <a:lnTo>
                        <a:pt x="279" y="307"/>
                      </a:lnTo>
                      <a:lnTo>
                        <a:pt x="318" y="344"/>
                      </a:lnTo>
                      <a:lnTo>
                        <a:pt x="343" y="368"/>
                      </a:lnTo>
                      <a:lnTo>
                        <a:pt x="382" y="417"/>
                      </a:lnTo>
                      <a:lnTo>
                        <a:pt x="420" y="492"/>
                      </a:lnTo>
                      <a:lnTo>
                        <a:pt x="458" y="614"/>
                      </a:lnTo>
                      <a:lnTo>
                        <a:pt x="483" y="578"/>
                      </a:lnTo>
                      <a:lnTo>
                        <a:pt x="509" y="516"/>
                      </a:lnTo>
                      <a:lnTo>
                        <a:pt x="547" y="480"/>
                      </a:lnTo>
                      <a:lnTo>
                        <a:pt x="597" y="430"/>
                      </a:lnTo>
                      <a:lnTo>
                        <a:pt x="648" y="405"/>
                      </a:lnTo>
                      <a:lnTo>
                        <a:pt x="699" y="381"/>
                      </a:lnTo>
                      <a:lnTo>
                        <a:pt x="788" y="368"/>
                      </a:lnTo>
                      <a:lnTo>
                        <a:pt x="864" y="356"/>
                      </a:lnTo>
                      <a:lnTo>
                        <a:pt x="916" y="356"/>
                      </a:lnTo>
                      <a:lnTo>
                        <a:pt x="980" y="368"/>
                      </a:lnTo>
                      <a:lnTo>
                        <a:pt x="1030" y="393"/>
                      </a:lnTo>
                      <a:lnTo>
                        <a:pt x="1170" y="442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5032440" y="1920960"/>
                  <a:ext cx="186120" cy="163800"/>
                </a:xfrm>
                <a:custGeom>
                  <a:avLst/>
                  <a:gdLst/>
                  <a:ahLst/>
                  <a:rect l="0" t="0" r="r" b="b"/>
                  <a:pathLst>
                    <a:path fill="none" w="517" h="455">
                      <a:moveTo>
                        <a:pt x="12" y="0"/>
                      </a:moveTo>
                      <a:lnTo>
                        <a:pt x="0" y="73"/>
                      </a:lnTo>
                      <a:lnTo>
                        <a:pt x="0" y="135"/>
                      </a:lnTo>
                      <a:lnTo>
                        <a:pt x="12" y="196"/>
                      </a:lnTo>
                      <a:lnTo>
                        <a:pt x="37" y="258"/>
                      </a:lnTo>
                      <a:lnTo>
                        <a:pt x="100" y="332"/>
                      </a:lnTo>
                      <a:lnTo>
                        <a:pt x="177" y="418"/>
                      </a:lnTo>
                      <a:lnTo>
                        <a:pt x="214" y="442"/>
                      </a:lnTo>
                      <a:lnTo>
                        <a:pt x="240" y="455"/>
                      </a:lnTo>
                      <a:lnTo>
                        <a:pt x="277" y="455"/>
                      </a:lnTo>
                      <a:lnTo>
                        <a:pt x="378" y="430"/>
                      </a:lnTo>
                      <a:lnTo>
                        <a:pt x="517" y="369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5221440" y="1935000"/>
                  <a:ext cx="189360" cy="132120"/>
                </a:xfrm>
                <a:custGeom>
                  <a:avLst/>
                  <a:gdLst/>
                  <a:ahLst/>
                  <a:rect l="0" t="0" r="r" b="b"/>
                  <a:pathLst>
                    <a:path fill="none" w="526" h="367">
                      <a:moveTo>
                        <a:pt x="0" y="354"/>
                      </a:moveTo>
                      <a:lnTo>
                        <a:pt x="76" y="367"/>
                      </a:lnTo>
                      <a:lnTo>
                        <a:pt x="154" y="367"/>
                      </a:lnTo>
                      <a:lnTo>
                        <a:pt x="244" y="367"/>
                      </a:lnTo>
                      <a:lnTo>
                        <a:pt x="333" y="342"/>
                      </a:lnTo>
                      <a:lnTo>
                        <a:pt x="398" y="306"/>
                      </a:lnTo>
                      <a:lnTo>
                        <a:pt x="449" y="257"/>
                      </a:lnTo>
                      <a:lnTo>
                        <a:pt x="501" y="170"/>
                      </a:lnTo>
                      <a:lnTo>
                        <a:pt x="513" y="85"/>
                      </a:lnTo>
                      <a:lnTo>
                        <a:pt x="526" y="0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232240" y="2066760"/>
                  <a:ext cx="268560" cy="265320"/>
                </a:xfrm>
                <a:custGeom>
                  <a:avLst/>
                  <a:gdLst/>
                  <a:ahLst/>
                  <a:rect l="0" t="0" r="r" b="b"/>
                  <a:pathLst>
                    <a:path fill="none" w="746" h="737">
                      <a:moveTo>
                        <a:pt x="746" y="0"/>
                      </a:moveTo>
                      <a:lnTo>
                        <a:pt x="733" y="61"/>
                      </a:lnTo>
                      <a:lnTo>
                        <a:pt x="720" y="135"/>
                      </a:lnTo>
                      <a:lnTo>
                        <a:pt x="670" y="208"/>
                      </a:lnTo>
                      <a:lnTo>
                        <a:pt x="645" y="233"/>
                      </a:lnTo>
                      <a:lnTo>
                        <a:pt x="594" y="270"/>
                      </a:lnTo>
                      <a:lnTo>
                        <a:pt x="506" y="270"/>
                      </a:lnTo>
                      <a:lnTo>
                        <a:pt x="405" y="294"/>
                      </a:lnTo>
                      <a:lnTo>
                        <a:pt x="290" y="306"/>
                      </a:lnTo>
                      <a:lnTo>
                        <a:pt x="202" y="319"/>
                      </a:lnTo>
                      <a:lnTo>
                        <a:pt x="126" y="319"/>
                      </a:lnTo>
                      <a:lnTo>
                        <a:pt x="25" y="355"/>
                      </a:lnTo>
                      <a:lnTo>
                        <a:pt x="0" y="381"/>
                      </a:lnTo>
                      <a:lnTo>
                        <a:pt x="50" y="381"/>
                      </a:lnTo>
                      <a:lnTo>
                        <a:pt x="101" y="393"/>
                      </a:lnTo>
                      <a:lnTo>
                        <a:pt x="151" y="418"/>
                      </a:lnTo>
                      <a:lnTo>
                        <a:pt x="227" y="442"/>
                      </a:lnTo>
                      <a:lnTo>
                        <a:pt x="290" y="491"/>
                      </a:lnTo>
                      <a:lnTo>
                        <a:pt x="366" y="541"/>
                      </a:lnTo>
                      <a:lnTo>
                        <a:pt x="443" y="590"/>
                      </a:lnTo>
                      <a:lnTo>
                        <a:pt x="518" y="651"/>
                      </a:lnTo>
                      <a:lnTo>
                        <a:pt x="582" y="737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986360" y="2022480"/>
                  <a:ext cx="309960" cy="319320"/>
                </a:xfrm>
                <a:custGeom>
                  <a:avLst/>
                  <a:gdLst/>
                  <a:ahLst/>
                  <a:rect l="0" t="0" r="r" b="b"/>
                  <a:pathLst>
                    <a:path fill="none" w="861" h="887">
                      <a:moveTo>
                        <a:pt x="88" y="0"/>
                      </a:moveTo>
                      <a:lnTo>
                        <a:pt x="50" y="24"/>
                      </a:lnTo>
                      <a:lnTo>
                        <a:pt x="12" y="86"/>
                      </a:lnTo>
                      <a:lnTo>
                        <a:pt x="0" y="135"/>
                      </a:lnTo>
                      <a:lnTo>
                        <a:pt x="0" y="172"/>
                      </a:lnTo>
                      <a:lnTo>
                        <a:pt x="0" y="196"/>
                      </a:lnTo>
                      <a:lnTo>
                        <a:pt x="25" y="258"/>
                      </a:lnTo>
                      <a:lnTo>
                        <a:pt x="63" y="307"/>
                      </a:lnTo>
                      <a:lnTo>
                        <a:pt x="139" y="381"/>
                      </a:lnTo>
                      <a:lnTo>
                        <a:pt x="189" y="430"/>
                      </a:lnTo>
                      <a:lnTo>
                        <a:pt x="253" y="481"/>
                      </a:lnTo>
                      <a:lnTo>
                        <a:pt x="317" y="518"/>
                      </a:lnTo>
                      <a:lnTo>
                        <a:pt x="393" y="554"/>
                      </a:lnTo>
                      <a:lnTo>
                        <a:pt x="468" y="567"/>
                      </a:lnTo>
                      <a:lnTo>
                        <a:pt x="544" y="591"/>
                      </a:lnTo>
                      <a:lnTo>
                        <a:pt x="620" y="665"/>
                      </a:lnTo>
                      <a:lnTo>
                        <a:pt x="684" y="739"/>
                      </a:lnTo>
                      <a:lnTo>
                        <a:pt x="786" y="813"/>
                      </a:lnTo>
                      <a:lnTo>
                        <a:pt x="861" y="887"/>
                      </a:lnTo>
                    </a:path>
                  </a:pathLst>
                </a:custGeom>
                <a:ln w="12600">
                  <a:solidFill>
                    <a:srgbClr val="ff8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59" name=""/>
            <p:cNvSpPr/>
            <p:nvPr/>
          </p:nvSpPr>
          <p:spPr>
            <a:xfrm>
              <a:off x="4603680" y="2408400"/>
              <a:ext cx="659160" cy="206640"/>
            </a:xfrm>
            <a:custGeom>
              <a:avLst/>
              <a:gdLst/>
              <a:ahLst/>
              <a:rect l="0" t="0" r="r" b="b"/>
              <a:pathLst>
                <a:path fill="none" w="1831" h="574">
                  <a:moveTo>
                    <a:pt x="0" y="574"/>
                  </a:moveTo>
                  <a:lnTo>
                    <a:pt x="50" y="513"/>
                  </a:lnTo>
                  <a:lnTo>
                    <a:pt x="100" y="440"/>
                  </a:lnTo>
                  <a:lnTo>
                    <a:pt x="151" y="379"/>
                  </a:lnTo>
                  <a:lnTo>
                    <a:pt x="214" y="330"/>
                  </a:lnTo>
                  <a:lnTo>
                    <a:pt x="277" y="256"/>
                  </a:lnTo>
                  <a:lnTo>
                    <a:pt x="315" y="243"/>
                  </a:lnTo>
                  <a:lnTo>
                    <a:pt x="391" y="207"/>
                  </a:lnTo>
                  <a:lnTo>
                    <a:pt x="530" y="146"/>
                  </a:lnTo>
                  <a:lnTo>
                    <a:pt x="694" y="109"/>
                  </a:lnTo>
                  <a:lnTo>
                    <a:pt x="832" y="73"/>
                  </a:lnTo>
                  <a:lnTo>
                    <a:pt x="985" y="24"/>
                  </a:lnTo>
                  <a:lnTo>
                    <a:pt x="1111" y="12"/>
                  </a:lnTo>
                  <a:lnTo>
                    <a:pt x="1225" y="0"/>
                  </a:lnTo>
                  <a:lnTo>
                    <a:pt x="1326" y="12"/>
                  </a:lnTo>
                  <a:lnTo>
                    <a:pt x="1452" y="24"/>
                  </a:lnTo>
                  <a:lnTo>
                    <a:pt x="1565" y="36"/>
                  </a:lnTo>
                  <a:lnTo>
                    <a:pt x="1654" y="60"/>
                  </a:lnTo>
                  <a:lnTo>
                    <a:pt x="1755" y="85"/>
                  </a:lnTo>
                  <a:lnTo>
                    <a:pt x="1831" y="121"/>
                  </a:lnTo>
                </a:path>
              </a:pathLst>
            </a:custGeom>
            <a:ln w="12600">
              <a:solidFill>
                <a:srgbClr val="ff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540320" y="2084400"/>
              <a:ext cx="186120" cy="106560"/>
            </a:xfrm>
            <a:custGeom>
              <a:avLst/>
              <a:gdLst/>
              <a:ahLst/>
              <a:rect l="0" t="0" r="r" b="b"/>
              <a:pathLst>
                <a:path fill="none" w="517" h="296">
                  <a:moveTo>
                    <a:pt x="0" y="296"/>
                  </a:moveTo>
                  <a:lnTo>
                    <a:pt x="50" y="210"/>
                  </a:lnTo>
                  <a:lnTo>
                    <a:pt x="75" y="147"/>
                  </a:lnTo>
                  <a:lnTo>
                    <a:pt x="139" y="61"/>
                  </a:lnTo>
                  <a:lnTo>
                    <a:pt x="214" y="24"/>
                  </a:lnTo>
                  <a:lnTo>
                    <a:pt x="303" y="0"/>
                  </a:lnTo>
                  <a:lnTo>
                    <a:pt x="404" y="12"/>
                  </a:lnTo>
                  <a:lnTo>
                    <a:pt x="517" y="36"/>
                  </a:lnTo>
                </a:path>
              </a:pathLst>
            </a:custGeom>
            <a:ln w="12600">
              <a:solidFill>
                <a:srgbClr val="ff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313160" y="2230560"/>
              <a:ext cx="71640" cy="146520"/>
            </a:xfrm>
            <a:custGeom>
              <a:avLst/>
              <a:gdLst/>
              <a:ahLst/>
              <a:rect l="0" t="0" r="r" b="b"/>
              <a:pathLst>
                <a:path fill="none" w="199" h="407">
                  <a:moveTo>
                    <a:pt x="0" y="0"/>
                  </a:moveTo>
                  <a:lnTo>
                    <a:pt x="74" y="12"/>
                  </a:lnTo>
                  <a:lnTo>
                    <a:pt x="112" y="24"/>
                  </a:lnTo>
                  <a:lnTo>
                    <a:pt x="162" y="49"/>
                  </a:lnTo>
                  <a:lnTo>
                    <a:pt x="187" y="86"/>
                  </a:lnTo>
                  <a:lnTo>
                    <a:pt x="199" y="136"/>
                  </a:lnTo>
                  <a:lnTo>
                    <a:pt x="187" y="197"/>
                  </a:lnTo>
                  <a:lnTo>
                    <a:pt x="174" y="246"/>
                  </a:lnTo>
                  <a:lnTo>
                    <a:pt x="149" y="296"/>
                  </a:lnTo>
                  <a:lnTo>
                    <a:pt x="86" y="358"/>
                  </a:lnTo>
                  <a:lnTo>
                    <a:pt x="37" y="407"/>
                  </a:lnTo>
                </a:path>
              </a:pathLst>
            </a:custGeom>
            <a:ln w="12600">
              <a:solidFill>
                <a:srgbClr val="ff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448160" y="2239920"/>
              <a:ext cx="635400" cy="154440"/>
            </a:xfrm>
            <a:custGeom>
              <a:avLst/>
              <a:gdLst/>
              <a:ahLst/>
              <a:rect l="0" t="0" r="r" b="b"/>
              <a:pathLst>
                <a:path fill="none" w="1765" h="429">
                  <a:moveTo>
                    <a:pt x="0" y="294"/>
                  </a:moveTo>
                  <a:lnTo>
                    <a:pt x="76" y="282"/>
                  </a:lnTo>
                  <a:lnTo>
                    <a:pt x="126" y="294"/>
                  </a:lnTo>
                  <a:lnTo>
                    <a:pt x="177" y="306"/>
                  </a:lnTo>
                  <a:lnTo>
                    <a:pt x="215" y="331"/>
                  </a:lnTo>
                  <a:lnTo>
                    <a:pt x="253" y="380"/>
                  </a:lnTo>
                  <a:lnTo>
                    <a:pt x="279" y="429"/>
                  </a:lnTo>
                  <a:lnTo>
                    <a:pt x="279" y="356"/>
                  </a:lnTo>
                  <a:lnTo>
                    <a:pt x="291" y="318"/>
                  </a:lnTo>
                  <a:lnTo>
                    <a:pt x="329" y="282"/>
                  </a:lnTo>
                  <a:lnTo>
                    <a:pt x="380" y="245"/>
                  </a:lnTo>
                  <a:lnTo>
                    <a:pt x="431" y="220"/>
                  </a:lnTo>
                  <a:lnTo>
                    <a:pt x="546" y="184"/>
                  </a:lnTo>
                  <a:lnTo>
                    <a:pt x="648" y="172"/>
                  </a:lnTo>
                  <a:lnTo>
                    <a:pt x="749" y="159"/>
                  </a:lnTo>
                  <a:lnTo>
                    <a:pt x="825" y="147"/>
                  </a:lnTo>
                  <a:lnTo>
                    <a:pt x="927" y="159"/>
                  </a:lnTo>
                  <a:lnTo>
                    <a:pt x="1003" y="172"/>
                  </a:lnTo>
                  <a:lnTo>
                    <a:pt x="1079" y="196"/>
                  </a:lnTo>
                  <a:lnTo>
                    <a:pt x="1143" y="245"/>
                  </a:lnTo>
                  <a:lnTo>
                    <a:pt x="1155" y="196"/>
                  </a:lnTo>
                  <a:lnTo>
                    <a:pt x="1181" y="147"/>
                  </a:lnTo>
                  <a:lnTo>
                    <a:pt x="1193" y="97"/>
                  </a:lnTo>
                  <a:lnTo>
                    <a:pt x="1257" y="61"/>
                  </a:lnTo>
                  <a:lnTo>
                    <a:pt x="1334" y="24"/>
                  </a:lnTo>
                  <a:lnTo>
                    <a:pt x="1410" y="12"/>
                  </a:lnTo>
                  <a:lnTo>
                    <a:pt x="1448" y="12"/>
                  </a:lnTo>
                  <a:lnTo>
                    <a:pt x="1524" y="0"/>
                  </a:lnTo>
                  <a:lnTo>
                    <a:pt x="1588" y="12"/>
                  </a:lnTo>
                  <a:lnTo>
                    <a:pt x="1638" y="24"/>
                  </a:lnTo>
                  <a:lnTo>
                    <a:pt x="1677" y="61"/>
                  </a:lnTo>
                  <a:lnTo>
                    <a:pt x="1715" y="110"/>
                  </a:lnTo>
                  <a:lnTo>
                    <a:pt x="1765" y="172"/>
                  </a:lnTo>
                </a:path>
              </a:pathLst>
            </a:custGeom>
            <a:ln w="12600">
              <a:solidFill>
                <a:srgbClr val="ff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3948120" y="2433600"/>
            <a:ext cx="409680" cy="409680"/>
            <a:chOff x="3948120" y="2433600"/>
            <a:chExt cx="409680" cy="409680"/>
          </a:xfrm>
        </p:grpSpPr>
        <p:sp>
          <p:nvSpPr>
            <p:cNvPr id="1164" name=""/>
            <p:cNvSpPr/>
            <p:nvPr/>
          </p:nvSpPr>
          <p:spPr>
            <a:xfrm>
              <a:off x="3948120" y="2433600"/>
              <a:ext cx="409680" cy="409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081320" y="2604960"/>
              <a:ext cx="85680" cy="85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4976640" y="2357280"/>
            <a:ext cx="409680" cy="409680"/>
            <a:chOff x="4976640" y="2357280"/>
            <a:chExt cx="409680" cy="409680"/>
          </a:xfrm>
        </p:grpSpPr>
        <p:sp>
          <p:nvSpPr>
            <p:cNvPr id="1167" name=""/>
            <p:cNvSpPr/>
            <p:nvPr/>
          </p:nvSpPr>
          <p:spPr>
            <a:xfrm>
              <a:off x="4976640" y="2357280"/>
              <a:ext cx="409680" cy="409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167440" y="2529000"/>
              <a:ext cx="85680" cy="85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638520" y="4448160"/>
            <a:ext cx="1514880" cy="1867320"/>
            <a:chOff x="3638520" y="4448160"/>
            <a:chExt cx="1514880" cy="1867320"/>
          </a:xfrm>
        </p:grpSpPr>
        <p:sp>
          <p:nvSpPr>
            <p:cNvPr id="60" name=""/>
            <p:cNvSpPr/>
            <p:nvPr/>
          </p:nvSpPr>
          <p:spPr>
            <a:xfrm>
              <a:off x="4019400" y="4448160"/>
              <a:ext cx="657720" cy="1724400"/>
            </a:xfrm>
            <a:custGeom>
              <a:avLst/>
              <a:gdLst/>
              <a:ahLst/>
              <a:rect l="0" t="0" r="r" b="b"/>
              <a:pathLst>
                <a:path w="1827" h="4790">
                  <a:moveTo>
                    <a:pt x="0" y="0"/>
                  </a:moveTo>
                  <a:lnTo>
                    <a:pt x="317" y="4790"/>
                  </a:lnTo>
                  <a:lnTo>
                    <a:pt x="1032" y="4790"/>
                  </a:lnTo>
                  <a:lnTo>
                    <a:pt x="927" y="1297"/>
                  </a:lnTo>
                  <a:lnTo>
                    <a:pt x="1032" y="4790"/>
                  </a:lnTo>
                  <a:lnTo>
                    <a:pt x="1827" y="4790"/>
                  </a:lnTo>
                  <a:lnTo>
                    <a:pt x="174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63852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1376" y="185"/>
                  </a:moveTo>
                  <a:lnTo>
                    <a:pt x="978" y="52"/>
                  </a:lnTo>
                  <a:lnTo>
                    <a:pt x="714" y="0"/>
                  </a:lnTo>
                  <a:lnTo>
                    <a:pt x="423" y="105"/>
                  </a:lnTo>
                  <a:lnTo>
                    <a:pt x="132" y="264"/>
                  </a:lnTo>
                  <a:lnTo>
                    <a:pt x="0" y="477"/>
                  </a:lnTo>
                  <a:lnTo>
                    <a:pt x="185" y="583"/>
                  </a:lnTo>
                  <a:lnTo>
                    <a:pt x="2091" y="583"/>
                  </a:lnTo>
                  <a:lnTo>
                    <a:pt x="2091" y="185"/>
                  </a:lnTo>
                  <a:lnTo>
                    <a:pt x="1376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0064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714" y="185"/>
                  </a:moveTo>
                  <a:lnTo>
                    <a:pt x="1112" y="52"/>
                  </a:lnTo>
                  <a:lnTo>
                    <a:pt x="1376" y="0"/>
                  </a:lnTo>
                  <a:lnTo>
                    <a:pt x="1667" y="105"/>
                  </a:lnTo>
                  <a:lnTo>
                    <a:pt x="1958" y="264"/>
                  </a:lnTo>
                  <a:lnTo>
                    <a:pt x="2091" y="477"/>
                  </a:lnTo>
                  <a:lnTo>
                    <a:pt x="1906" y="583"/>
                  </a:lnTo>
                  <a:lnTo>
                    <a:pt x="0" y="583"/>
                  </a:lnTo>
                  <a:lnTo>
                    <a:pt x="0" y="185"/>
                  </a:lnTo>
                  <a:lnTo>
                    <a:pt x="714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681360" y="3200400"/>
            <a:ext cx="509760" cy="1443240"/>
            <a:chOff x="3681360" y="3200400"/>
            <a:chExt cx="509760" cy="1443240"/>
          </a:xfrm>
        </p:grpSpPr>
        <p:sp>
          <p:nvSpPr>
            <p:cNvPr id="64" name=""/>
            <p:cNvSpPr/>
            <p:nvPr/>
          </p:nvSpPr>
          <p:spPr>
            <a:xfrm>
              <a:off x="3705120" y="3200400"/>
              <a:ext cx="486000" cy="1190880"/>
            </a:xfrm>
            <a:custGeom>
              <a:avLst/>
              <a:gdLst/>
              <a:ahLst/>
              <a:rect l="0" t="0" r="r" b="b"/>
              <a:pathLst>
                <a:path w="1350" h="3308">
                  <a:moveTo>
                    <a:pt x="1112" y="0"/>
                  </a:moveTo>
                  <a:lnTo>
                    <a:pt x="1271" y="105"/>
                  </a:lnTo>
                  <a:lnTo>
                    <a:pt x="1350" y="423"/>
                  </a:lnTo>
                  <a:lnTo>
                    <a:pt x="1138" y="1322"/>
                  </a:lnTo>
                  <a:lnTo>
                    <a:pt x="821" y="3308"/>
                  </a:lnTo>
                  <a:lnTo>
                    <a:pt x="0" y="3149"/>
                  </a:lnTo>
                  <a:lnTo>
                    <a:pt x="370" y="1455"/>
                  </a:lnTo>
                  <a:lnTo>
                    <a:pt x="794" y="238"/>
                  </a:lnTo>
                  <a:lnTo>
                    <a:pt x="1112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81360" y="4357800"/>
              <a:ext cx="30492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 txBox="1"/>
          <p:nvPr/>
        </p:nvSpPr>
        <p:spPr>
          <a:xfrm>
            <a:off x="304920" y="457200"/>
            <a:ext cx="7391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’S EXPRESSION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254400" y="4435560"/>
            <a:ext cx="761040" cy="176400"/>
            <a:chOff x="3254400" y="4435560"/>
            <a:chExt cx="761040" cy="176400"/>
          </a:xfrm>
        </p:grpSpPr>
        <p:grpSp>
          <p:nvGrpSpPr>
            <p:cNvPr id="68" name=""/>
            <p:cNvGrpSpPr/>
            <p:nvPr/>
          </p:nvGrpSpPr>
          <p:grpSpPr>
            <a:xfrm>
              <a:off x="3397320" y="4451400"/>
              <a:ext cx="498600" cy="160560"/>
              <a:chOff x="3397320" y="4451400"/>
              <a:chExt cx="498600" cy="160560"/>
            </a:xfrm>
          </p:grpSpPr>
          <p:sp>
            <p:nvSpPr>
              <p:cNvPr id="69" name=""/>
              <p:cNvSpPr/>
              <p:nvPr/>
            </p:nvSpPr>
            <p:spPr>
              <a:xfrm>
                <a:off x="3414600" y="4511520"/>
                <a:ext cx="481320" cy="100440"/>
              </a:xfrm>
              <a:custGeom>
                <a:avLst/>
                <a:gdLst/>
                <a:ahLst/>
                <a:rect l="0" t="0" r="r" b="b"/>
                <a:pathLst>
                  <a:path w="1337" h="279">
                    <a:moveTo>
                      <a:pt x="1337" y="89"/>
                    </a:moveTo>
                    <a:lnTo>
                      <a:pt x="22" y="279"/>
                    </a:lnTo>
                    <a:lnTo>
                      <a:pt x="0" y="195"/>
                    </a:lnTo>
                    <a:lnTo>
                      <a:pt x="1310" y="0"/>
                    </a:lnTo>
                    <a:lnTo>
                      <a:pt x="1337" y="89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406680" y="4479840"/>
                <a:ext cx="481320" cy="100440"/>
              </a:xfrm>
              <a:custGeom>
                <a:avLst/>
                <a:gdLst/>
                <a:ahLst/>
                <a:rect l="0" t="0" r="r" b="b"/>
                <a:pathLst>
                  <a:path w="1337" h="279">
                    <a:moveTo>
                      <a:pt x="22" y="279"/>
                    </a:moveTo>
                    <a:lnTo>
                      <a:pt x="0" y="195"/>
                    </a:lnTo>
                    <a:lnTo>
                      <a:pt x="1310" y="0"/>
                    </a:lnTo>
                    <a:lnTo>
                      <a:pt x="1337" y="89"/>
                    </a:lnTo>
                    <a:lnTo>
                      <a:pt x="22" y="279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397320" y="4451400"/>
                <a:ext cx="481320" cy="98640"/>
              </a:xfrm>
              <a:custGeom>
                <a:avLst/>
                <a:gdLst/>
                <a:ahLst/>
                <a:rect l="0" t="0" r="r" b="b"/>
                <a:pathLst>
                  <a:path w="1337" h="274">
                    <a:moveTo>
                      <a:pt x="1337" y="83"/>
                    </a:moveTo>
                    <a:lnTo>
                      <a:pt x="26" y="274"/>
                    </a:lnTo>
                    <a:lnTo>
                      <a:pt x="0" y="190"/>
                    </a:lnTo>
                    <a:lnTo>
                      <a:pt x="1319" y="0"/>
                    </a:lnTo>
                    <a:lnTo>
                      <a:pt x="1337" y="83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3254400" y="4519440"/>
              <a:ext cx="186120" cy="92520"/>
              <a:chOff x="3254400" y="4519440"/>
              <a:chExt cx="186120" cy="92520"/>
            </a:xfrm>
          </p:grpSpPr>
          <p:sp>
            <p:nvSpPr>
              <p:cNvPr id="73" name=""/>
              <p:cNvSpPr/>
              <p:nvPr/>
            </p:nvSpPr>
            <p:spPr>
              <a:xfrm>
                <a:off x="3254400" y="4519440"/>
                <a:ext cx="186120" cy="92520"/>
              </a:xfrm>
              <a:custGeom>
                <a:avLst/>
                <a:gdLst/>
                <a:ahLst/>
                <a:rect l="0" t="0" r="r" b="b"/>
                <a:pathLst>
                  <a:path w="517" h="257">
                    <a:moveTo>
                      <a:pt x="473" y="257"/>
                    </a:moveTo>
                    <a:lnTo>
                      <a:pt x="491" y="248"/>
                    </a:lnTo>
                    <a:lnTo>
                      <a:pt x="509" y="226"/>
                    </a:lnTo>
                    <a:lnTo>
                      <a:pt x="517" y="204"/>
                    </a:lnTo>
                    <a:lnTo>
                      <a:pt x="500" y="196"/>
                    </a:lnTo>
                    <a:lnTo>
                      <a:pt x="478" y="190"/>
                    </a:lnTo>
                    <a:lnTo>
                      <a:pt x="451" y="186"/>
                    </a:lnTo>
                    <a:lnTo>
                      <a:pt x="469" y="177"/>
                    </a:lnTo>
                    <a:lnTo>
                      <a:pt x="451" y="164"/>
                    </a:lnTo>
                    <a:lnTo>
                      <a:pt x="473" y="150"/>
                    </a:lnTo>
                    <a:lnTo>
                      <a:pt x="487" y="133"/>
                    </a:lnTo>
                    <a:lnTo>
                      <a:pt x="491" y="115"/>
                    </a:lnTo>
                    <a:lnTo>
                      <a:pt x="478" y="102"/>
                    </a:lnTo>
                    <a:lnTo>
                      <a:pt x="447" y="98"/>
                    </a:lnTo>
                    <a:lnTo>
                      <a:pt x="429" y="98"/>
                    </a:lnTo>
                    <a:lnTo>
                      <a:pt x="460" y="84"/>
                    </a:lnTo>
                    <a:lnTo>
                      <a:pt x="420" y="80"/>
                    </a:lnTo>
                    <a:lnTo>
                      <a:pt x="442" y="67"/>
                    </a:lnTo>
                    <a:lnTo>
                      <a:pt x="420" y="67"/>
                    </a:lnTo>
                    <a:lnTo>
                      <a:pt x="451" y="44"/>
                    </a:lnTo>
                    <a:lnTo>
                      <a:pt x="460" y="22"/>
                    </a:lnTo>
                    <a:lnTo>
                      <a:pt x="447" y="13"/>
                    </a:lnTo>
                    <a:lnTo>
                      <a:pt x="398" y="0"/>
                    </a:lnTo>
                    <a:lnTo>
                      <a:pt x="0" y="209"/>
                    </a:lnTo>
                    <a:lnTo>
                      <a:pt x="473" y="257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254400" y="4549680"/>
                <a:ext cx="106560" cy="55800"/>
              </a:xfrm>
              <a:custGeom>
                <a:avLst/>
                <a:gdLst/>
                <a:ahLst/>
                <a:rect l="0" t="0" r="r" b="b"/>
                <a:pathLst>
                  <a:path w="296" h="155">
                    <a:moveTo>
                      <a:pt x="0" y="124"/>
                    </a:moveTo>
                    <a:lnTo>
                      <a:pt x="296" y="155"/>
                    </a:lnTo>
                    <a:lnTo>
                      <a:pt x="287" y="128"/>
                    </a:lnTo>
                    <a:lnTo>
                      <a:pt x="278" y="102"/>
                    </a:lnTo>
                    <a:lnTo>
                      <a:pt x="269" y="74"/>
                    </a:lnTo>
                    <a:lnTo>
                      <a:pt x="256" y="48"/>
                    </a:lnTo>
                    <a:lnTo>
                      <a:pt x="247" y="26"/>
                    </a:lnTo>
                    <a:lnTo>
                      <a:pt x="243" y="13"/>
                    </a:lnTo>
                    <a:lnTo>
                      <a:pt x="234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255840" y="4560840"/>
                <a:ext cx="90720" cy="33840"/>
              </a:xfrm>
              <a:custGeom>
                <a:avLst/>
                <a:gdLst/>
                <a:ahLst/>
                <a:rect l="0" t="0" r="r" b="b"/>
                <a:pathLst>
                  <a:path w="252" h="94">
                    <a:moveTo>
                      <a:pt x="0" y="94"/>
                    </a:moveTo>
                    <a:lnTo>
                      <a:pt x="252" y="17"/>
                    </a:lnTo>
                    <a:lnTo>
                      <a:pt x="243" y="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3868560" y="4435560"/>
              <a:ext cx="146880" cy="109800"/>
              <a:chOff x="3868560" y="4435560"/>
              <a:chExt cx="146880" cy="10980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3911760" y="4435560"/>
                <a:ext cx="103680" cy="101880"/>
                <a:chOff x="3911760" y="4435560"/>
                <a:chExt cx="103680" cy="1018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3911760" y="4435560"/>
                  <a:ext cx="103680" cy="101880"/>
                </a:xfrm>
                <a:custGeom>
                  <a:avLst/>
                  <a:gdLst/>
                  <a:ahLst/>
                  <a:rect l="0" t="0" r="r" b="b"/>
                  <a:pathLst>
                    <a:path w="288" h="283">
                      <a:moveTo>
                        <a:pt x="75" y="283"/>
                      </a:moveTo>
                      <a:lnTo>
                        <a:pt x="279" y="256"/>
                      </a:lnTo>
                      <a:lnTo>
                        <a:pt x="284" y="252"/>
                      </a:lnTo>
                      <a:lnTo>
                        <a:pt x="288" y="247"/>
                      </a:lnTo>
                      <a:lnTo>
                        <a:pt x="288" y="243"/>
                      </a:lnTo>
                      <a:lnTo>
                        <a:pt x="288" y="239"/>
                      </a:lnTo>
                      <a:lnTo>
                        <a:pt x="226" y="13"/>
                      </a:lnTo>
                      <a:lnTo>
                        <a:pt x="226" y="8"/>
                      </a:lnTo>
                      <a:lnTo>
                        <a:pt x="222" y="4"/>
                      </a:lnTo>
                      <a:lnTo>
                        <a:pt x="212" y="0"/>
                      </a:lnTo>
                      <a:lnTo>
                        <a:pt x="208" y="0"/>
                      </a:lnTo>
                      <a:lnTo>
                        <a:pt x="0" y="30"/>
                      </a:lnTo>
                      <a:lnTo>
                        <a:pt x="75" y="283"/>
                      </a:lnTo>
                      <a:close/>
                    </a:path>
                  </a:pathLst>
                </a:custGeom>
                <a:solidFill>
                  <a:srgbClr val="ff404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914640" y="4448160"/>
                  <a:ext cx="86040" cy="25920"/>
                </a:xfrm>
                <a:custGeom>
                  <a:avLst/>
                  <a:gdLst/>
                  <a:ahLst/>
                  <a:rect l="0" t="0" r="r" b="b"/>
                  <a:pathLst>
                    <a:path w="239" h="72">
                      <a:moveTo>
                        <a:pt x="239" y="66"/>
                      </a:moveTo>
                      <a:lnTo>
                        <a:pt x="230" y="17"/>
                      </a:lnTo>
                      <a:lnTo>
                        <a:pt x="221" y="17"/>
                      </a:lnTo>
                      <a:lnTo>
                        <a:pt x="208" y="11"/>
                      </a:lnTo>
                      <a:lnTo>
                        <a:pt x="199" y="5"/>
                      </a:lnTo>
                      <a:lnTo>
                        <a:pt x="186" y="5"/>
                      </a:lnTo>
                      <a:lnTo>
                        <a:pt x="177" y="0"/>
                      </a:lnTo>
                      <a:lnTo>
                        <a:pt x="146" y="5"/>
                      </a:lnTo>
                      <a:lnTo>
                        <a:pt x="0" y="30"/>
                      </a:lnTo>
                      <a:lnTo>
                        <a:pt x="8" y="72"/>
                      </a:lnTo>
                      <a:lnTo>
                        <a:pt x="159" y="42"/>
                      </a:lnTo>
                      <a:lnTo>
                        <a:pt x="172" y="42"/>
                      </a:lnTo>
                      <a:lnTo>
                        <a:pt x="190" y="48"/>
                      </a:lnTo>
                      <a:lnTo>
                        <a:pt x="208" y="53"/>
                      </a:lnTo>
                      <a:lnTo>
                        <a:pt x="217" y="53"/>
                      </a:lnTo>
                      <a:lnTo>
                        <a:pt x="230" y="60"/>
                      </a:lnTo>
                      <a:lnTo>
                        <a:pt x="239" y="66"/>
                      </a:lnTo>
                      <a:close/>
                    </a:path>
                  </a:pathLst>
                </a:custGeom>
                <a:solidFill>
                  <a:srgbClr val="ff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3868560" y="4444920"/>
                <a:ext cx="70200" cy="100440"/>
                <a:chOff x="3868560" y="4444920"/>
                <a:chExt cx="70200" cy="10044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868560" y="4444920"/>
                  <a:ext cx="70200" cy="100440"/>
                </a:xfrm>
                <a:custGeom>
                  <a:avLst/>
                  <a:gdLst/>
                  <a:ahLst/>
                  <a:rect l="0" t="0" r="r" b="b"/>
                  <a:pathLst>
                    <a:path w="195" h="279">
                      <a:moveTo>
                        <a:pt x="74" y="275"/>
                      </a:moveTo>
                      <a:lnTo>
                        <a:pt x="0" y="17"/>
                      </a:lnTo>
                      <a:lnTo>
                        <a:pt x="13" y="13"/>
                      </a:lnTo>
                      <a:lnTo>
                        <a:pt x="26" y="8"/>
                      </a:lnTo>
                      <a:lnTo>
                        <a:pt x="48" y="8"/>
                      </a:lnTo>
                      <a:lnTo>
                        <a:pt x="57" y="8"/>
                      </a:lnTo>
                      <a:lnTo>
                        <a:pt x="70" y="4"/>
                      </a:lnTo>
                      <a:lnTo>
                        <a:pt x="88" y="0"/>
                      </a:lnTo>
                      <a:lnTo>
                        <a:pt x="106" y="0"/>
                      </a:lnTo>
                      <a:lnTo>
                        <a:pt x="115" y="4"/>
                      </a:lnTo>
                      <a:lnTo>
                        <a:pt x="195" y="262"/>
                      </a:lnTo>
                      <a:lnTo>
                        <a:pt x="181" y="270"/>
                      </a:lnTo>
                      <a:lnTo>
                        <a:pt x="168" y="270"/>
                      </a:lnTo>
                      <a:lnTo>
                        <a:pt x="150" y="270"/>
                      </a:lnTo>
                      <a:lnTo>
                        <a:pt x="133" y="266"/>
                      </a:lnTo>
                      <a:lnTo>
                        <a:pt x="115" y="275"/>
                      </a:lnTo>
                      <a:lnTo>
                        <a:pt x="102" y="279"/>
                      </a:lnTo>
                      <a:lnTo>
                        <a:pt x="92" y="279"/>
                      </a:lnTo>
                      <a:lnTo>
                        <a:pt x="74" y="275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882960" y="4491000"/>
                  <a:ext cx="52920" cy="43200"/>
                </a:xfrm>
                <a:custGeom>
                  <a:avLst/>
                  <a:gdLst/>
                  <a:ahLst/>
                  <a:rect l="0" t="0" r="r" b="b"/>
                  <a:pathLst>
                    <a:path w="147" h="120">
                      <a:moveTo>
                        <a:pt x="147" y="102"/>
                      </a:moveTo>
                      <a:lnTo>
                        <a:pt x="121" y="4"/>
                      </a:lnTo>
                      <a:lnTo>
                        <a:pt x="102" y="0"/>
                      </a:lnTo>
                      <a:lnTo>
                        <a:pt x="75" y="8"/>
                      </a:lnTo>
                      <a:lnTo>
                        <a:pt x="62" y="13"/>
                      </a:lnTo>
                      <a:lnTo>
                        <a:pt x="45" y="13"/>
                      </a:lnTo>
                      <a:lnTo>
                        <a:pt x="17" y="17"/>
                      </a:lnTo>
                      <a:lnTo>
                        <a:pt x="0" y="22"/>
                      </a:lnTo>
                      <a:lnTo>
                        <a:pt x="26" y="120"/>
                      </a:lnTo>
                      <a:lnTo>
                        <a:pt x="45" y="120"/>
                      </a:lnTo>
                      <a:lnTo>
                        <a:pt x="67" y="115"/>
                      </a:lnTo>
                      <a:lnTo>
                        <a:pt x="84" y="111"/>
                      </a:lnTo>
                      <a:lnTo>
                        <a:pt x="102" y="111"/>
                      </a:lnTo>
                      <a:lnTo>
                        <a:pt x="129" y="106"/>
                      </a:lnTo>
                      <a:lnTo>
                        <a:pt x="147" y="102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886200" y="4503600"/>
                  <a:ext cx="43200" cy="25920"/>
                </a:xfrm>
                <a:custGeom>
                  <a:avLst/>
                  <a:gdLst/>
                  <a:ahLst/>
                  <a:rect l="0" t="0" r="r" b="b"/>
                  <a:pathLst>
                    <a:path w="120" h="72">
                      <a:moveTo>
                        <a:pt x="4" y="72"/>
                      </a:moveTo>
                      <a:lnTo>
                        <a:pt x="0" y="48"/>
                      </a:lnTo>
                      <a:lnTo>
                        <a:pt x="115" y="0"/>
                      </a:lnTo>
                      <a:lnTo>
                        <a:pt x="120" y="11"/>
                      </a:lnTo>
                      <a:lnTo>
                        <a:pt x="4" y="72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873600" y="4456080"/>
                  <a:ext cx="44640" cy="25920"/>
                </a:xfrm>
                <a:custGeom>
                  <a:avLst/>
                  <a:gdLst/>
                  <a:ahLst/>
                  <a:rect l="0" t="0" r="r" b="b"/>
                  <a:pathLst>
                    <a:path w="124" h="72">
                      <a:moveTo>
                        <a:pt x="124" y="52"/>
                      </a:moveTo>
                      <a:lnTo>
                        <a:pt x="120" y="6"/>
                      </a:lnTo>
                      <a:lnTo>
                        <a:pt x="102" y="0"/>
                      </a:lnTo>
                      <a:lnTo>
                        <a:pt x="75" y="0"/>
                      </a:lnTo>
                      <a:lnTo>
                        <a:pt x="57" y="12"/>
                      </a:lnTo>
                      <a:lnTo>
                        <a:pt x="44" y="12"/>
                      </a:lnTo>
                      <a:lnTo>
                        <a:pt x="13" y="12"/>
                      </a:lnTo>
                      <a:lnTo>
                        <a:pt x="0" y="26"/>
                      </a:lnTo>
                      <a:lnTo>
                        <a:pt x="8" y="72"/>
                      </a:lnTo>
                      <a:lnTo>
                        <a:pt x="22" y="66"/>
                      </a:lnTo>
                      <a:lnTo>
                        <a:pt x="52" y="59"/>
                      </a:lnTo>
                      <a:lnTo>
                        <a:pt x="67" y="59"/>
                      </a:lnTo>
                      <a:lnTo>
                        <a:pt x="84" y="52"/>
                      </a:lnTo>
                      <a:lnTo>
                        <a:pt x="106" y="45"/>
                      </a:lnTo>
                      <a:lnTo>
                        <a:pt x="124" y="52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H="1" flipV="1">
                  <a:off x="3890880" y="4449600"/>
                  <a:ext cx="25560" cy="90720"/>
                </a:xfrm>
                <a:prstGeom prst="line">
                  <a:avLst/>
                </a:prstGeom>
                <a:ln w="12600">
                  <a:solidFill>
                    <a:srgbClr val="a0a0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" name=""/>
          <p:cNvSpPr/>
          <p:nvPr/>
        </p:nvSpPr>
        <p:spPr>
          <a:xfrm>
            <a:off x="3895560" y="3048120"/>
            <a:ext cx="981360" cy="1600560"/>
          </a:xfrm>
          <a:custGeom>
            <a:avLst/>
            <a:gdLst/>
            <a:ahLst/>
            <a:rect l="0" t="0" r="r" b="b"/>
            <a:pathLst>
              <a:path w="2726" h="4446">
                <a:moveTo>
                  <a:pt x="953" y="374"/>
                </a:moveTo>
                <a:lnTo>
                  <a:pt x="865" y="392"/>
                </a:lnTo>
                <a:lnTo>
                  <a:pt x="799" y="436"/>
                </a:lnTo>
                <a:lnTo>
                  <a:pt x="672" y="582"/>
                </a:lnTo>
                <a:lnTo>
                  <a:pt x="540" y="723"/>
                </a:lnTo>
                <a:lnTo>
                  <a:pt x="391" y="851"/>
                </a:lnTo>
                <a:lnTo>
                  <a:pt x="369" y="890"/>
                </a:lnTo>
                <a:lnTo>
                  <a:pt x="347" y="930"/>
                </a:lnTo>
                <a:lnTo>
                  <a:pt x="347" y="930"/>
                </a:lnTo>
                <a:lnTo>
                  <a:pt x="369" y="930"/>
                </a:lnTo>
                <a:lnTo>
                  <a:pt x="153" y="1553"/>
                </a:lnTo>
                <a:lnTo>
                  <a:pt x="0" y="4345"/>
                </a:lnTo>
                <a:lnTo>
                  <a:pt x="2726" y="4446"/>
                </a:lnTo>
                <a:lnTo>
                  <a:pt x="2317" y="1844"/>
                </a:lnTo>
                <a:lnTo>
                  <a:pt x="2119" y="414"/>
                </a:lnTo>
                <a:lnTo>
                  <a:pt x="1385" y="0"/>
                </a:lnTo>
                <a:lnTo>
                  <a:pt x="953" y="374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572000" y="3219480"/>
            <a:ext cx="509760" cy="1443240"/>
            <a:chOff x="4572000" y="3219480"/>
            <a:chExt cx="509760" cy="1443240"/>
          </a:xfrm>
        </p:grpSpPr>
        <p:sp>
          <p:nvSpPr>
            <p:cNvPr id="88" name=""/>
            <p:cNvSpPr/>
            <p:nvPr/>
          </p:nvSpPr>
          <p:spPr>
            <a:xfrm>
              <a:off x="4572000" y="3219480"/>
              <a:ext cx="486000" cy="1190880"/>
            </a:xfrm>
            <a:custGeom>
              <a:avLst/>
              <a:gdLst/>
              <a:ahLst/>
              <a:rect l="0" t="0" r="r" b="b"/>
              <a:pathLst>
                <a:path w="1350" h="3308">
                  <a:moveTo>
                    <a:pt x="238" y="0"/>
                  </a:moveTo>
                  <a:lnTo>
                    <a:pt x="79" y="105"/>
                  </a:lnTo>
                  <a:lnTo>
                    <a:pt x="0" y="423"/>
                  </a:lnTo>
                  <a:lnTo>
                    <a:pt x="211" y="1322"/>
                  </a:lnTo>
                  <a:lnTo>
                    <a:pt x="529" y="3308"/>
                  </a:lnTo>
                  <a:lnTo>
                    <a:pt x="1350" y="3149"/>
                  </a:lnTo>
                  <a:lnTo>
                    <a:pt x="979" y="1455"/>
                  </a:lnTo>
                  <a:lnTo>
                    <a:pt x="555" y="238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76840" y="4376880"/>
              <a:ext cx="30492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795840" y="1373040"/>
            <a:ext cx="1005120" cy="1865880"/>
            <a:chOff x="3795840" y="1373040"/>
            <a:chExt cx="1005120" cy="1865880"/>
          </a:xfrm>
        </p:grpSpPr>
        <p:sp>
          <p:nvSpPr>
            <p:cNvPr id="91" name=""/>
            <p:cNvSpPr/>
            <p:nvPr/>
          </p:nvSpPr>
          <p:spPr>
            <a:xfrm>
              <a:off x="3905280" y="1609560"/>
              <a:ext cx="895680" cy="1581480"/>
            </a:xfrm>
            <a:custGeom>
              <a:avLst/>
              <a:gdLst/>
              <a:ahLst/>
              <a:rect l="0" t="0" r="r" b="b"/>
              <a:pathLst>
                <a:path w="2488" h="4393">
                  <a:moveTo>
                    <a:pt x="582" y="0"/>
                  </a:moveTo>
                  <a:lnTo>
                    <a:pt x="264" y="264"/>
                  </a:lnTo>
                  <a:lnTo>
                    <a:pt x="79" y="687"/>
                  </a:lnTo>
                  <a:lnTo>
                    <a:pt x="26" y="1217"/>
                  </a:lnTo>
                  <a:lnTo>
                    <a:pt x="0" y="2699"/>
                  </a:lnTo>
                  <a:lnTo>
                    <a:pt x="52" y="3546"/>
                  </a:lnTo>
                  <a:lnTo>
                    <a:pt x="820" y="3599"/>
                  </a:lnTo>
                  <a:lnTo>
                    <a:pt x="926" y="4075"/>
                  </a:lnTo>
                  <a:lnTo>
                    <a:pt x="1031" y="4393"/>
                  </a:lnTo>
                  <a:lnTo>
                    <a:pt x="1271" y="4393"/>
                  </a:lnTo>
                  <a:lnTo>
                    <a:pt x="1403" y="4102"/>
                  </a:lnTo>
                  <a:lnTo>
                    <a:pt x="1323" y="3599"/>
                  </a:lnTo>
                  <a:lnTo>
                    <a:pt x="2038" y="3519"/>
                  </a:lnTo>
                  <a:lnTo>
                    <a:pt x="2064" y="3017"/>
                  </a:lnTo>
                  <a:lnTo>
                    <a:pt x="2223" y="3096"/>
                  </a:lnTo>
                  <a:lnTo>
                    <a:pt x="2382" y="3043"/>
                  </a:lnTo>
                  <a:lnTo>
                    <a:pt x="2488" y="2620"/>
                  </a:lnTo>
                  <a:lnTo>
                    <a:pt x="2355" y="2408"/>
                  </a:lnTo>
                  <a:lnTo>
                    <a:pt x="2197" y="2435"/>
                  </a:lnTo>
                  <a:lnTo>
                    <a:pt x="2355" y="185"/>
                  </a:lnTo>
                  <a:lnTo>
                    <a:pt x="582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95840" y="2052720"/>
              <a:ext cx="409680" cy="409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48280" y="2014560"/>
              <a:ext cx="485640" cy="485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338720" y="2214720"/>
              <a:ext cx="85680" cy="85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29040" y="2224080"/>
              <a:ext cx="85680" cy="85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35320" y="1401840"/>
              <a:ext cx="7920" cy="217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249800" y="1382760"/>
              <a:ext cx="17280" cy="217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411800" y="1373040"/>
              <a:ext cx="36360" cy="2271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573440" y="1420920"/>
              <a:ext cx="55800" cy="198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716360" y="1449360"/>
              <a:ext cx="55800" cy="179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91120" y="3057480"/>
              <a:ext cx="305280" cy="181440"/>
            </a:xfrm>
            <a:custGeom>
              <a:avLst/>
              <a:gdLst/>
              <a:ahLst/>
              <a:rect l="0" t="0" r="r" b="b"/>
              <a:pathLst>
                <a:path w="848" h="504">
                  <a:moveTo>
                    <a:pt x="0" y="344"/>
                  </a:moveTo>
                  <a:lnTo>
                    <a:pt x="239" y="478"/>
                  </a:lnTo>
                  <a:lnTo>
                    <a:pt x="663" y="504"/>
                  </a:lnTo>
                  <a:lnTo>
                    <a:pt x="848" y="265"/>
                  </a:lnTo>
                  <a:lnTo>
                    <a:pt x="848" y="79"/>
                  </a:lnTo>
                  <a:lnTo>
                    <a:pt x="663" y="0"/>
                  </a:lnTo>
                  <a:lnTo>
                    <a:pt x="477" y="265"/>
                  </a:lnTo>
                  <a:lnTo>
                    <a:pt x="185" y="292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49560" y="2654280"/>
              <a:ext cx="482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3638520" y="4448160"/>
            <a:ext cx="1514880" cy="1867320"/>
            <a:chOff x="3638520" y="4448160"/>
            <a:chExt cx="1514880" cy="1867320"/>
          </a:xfrm>
        </p:grpSpPr>
        <p:sp>
          <p:nvSpPr>
            <p:cNvPr id="104" name=""/>
            <p:cNvSpPr/>
            <p:nvPr/>
          </p:nvSpPr>
          <p:spPr>
            <a:xfrm>
              <a:off x="4019400" y="4448160"/>
              <a:ext cx="657720" cy="1724400"/>
            </a:xfrm>
            <a:custGeom>
              <a:avLst/>
              <a:gdLst/>
              <a:ahLst/>
              <a:rect l="0" t="0" r="r" b="b"/>
              <a:pathLst>
                <a:path w="1827" h="4790">
                  <a:moveTo>
                    <a:pt x="0" y="0"/>
                  </a:moveTo>
                  <a:lnTo>
                    <a:pt x="317" y="4790"/>
                  </a:lnTo>
                  <a:lnTo>
                    <a:pt x="1032" y="4790"/>
                  </a:lnTo>
                  <a:lnTo>
                    <a:pt x="927" y="1297"/>
                  </a:lnTo>
                  <a:lnTo>
                    <a:pt x="1032" y="4790"/>
                  </a:lnTo>
                  <a:lnTo>
                    <a:pt x="1827" y="4790"/>
                  </a:lnTo>
                  <a:lnTo>
                    <a:pt x="174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3852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1376" y="185"/>
                  </a:moveTo>
                  <a:lnTo>
                    <a:pt x="978" y="52"/>
                  </a:lnTo>
                  <a:lnTo>
                    <a:pt x="714" y="0"/>
                  </a:lnTo>
                  <a:lnTo>
                    <a:pt x="423" y="105"/>
                  </a:lnTo>
                  <a:lnTo>
                    <a:pt x="132" y="264"/>
                  </a:lnTo>
                  <a:lnTo>
                    <a:pt x="0" y="477"/>
                  </a:lnTo>
                  <a:lnTo>
                    <a:pt x="185" y="583"/>
                  </a:lnTo>
                  <a:lnTo>
                    <a:pt x="2091" y="583"/>
                  </a:lnTo>
                  <a:lnTo>
                    <a:pt x="2091" y="185"/>
                  </a:lnTo>
                  <a:lnTo>
                    <a:pt x="1376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0064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714" y="185"/>
                  </a:moveTo>
                  <a:lnTo>
                    <a:pt x="1112" y="52"/>
                  </a:lnTo>
                  <a:lnTo>
                    <a:pt x="1376" y="0"/>
                  </a:lnTo>
                  <a:lnTo>
                    <a:pt x="1667" y="105"/>
                  </a:lnTo>
                  <a:lnTo>
                    <a:pt x="1958" y="264"/>
                  </a:lnTo>
                  <a:lnTo>
                    <a:pt x="2091" y="477"/>
                  </a:lnTo>
                  <a:lnTo>
                    <a:pt x="1906" y="583"/>
                  </a:lnTo>
                  <a:lnTo>
                    <a:pt x="0" y="583"/>
                  </a:lnTo>
                  <a:lnTo>
                    <a:pt x="0" y="185"/>
                  </a:lnTo>
                  <a:lnTo>
                    <a:pt x="714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895560" y="3048120"/>
            <a:ext cx="981360" cy="1600560"/>
          </a:xfrm>
          <a:custGeom>
            <a:avLst/>
            <a:gdLst/>
            <a:ahLst/>
            <a:rect l="0" t="0" r="r" b="b"/>
            <a:pathLst>
              <a:path w="2726" h="4446">
                <a:moveTo>
                  <a:pt x="953" y="374"/>
                </a:moveTo>
                <a:lnTo>
                  <a:pt x="865" y="392"/>
                </a:lnTo>
                <a:lnTo>
                  <a:pt x="799" y="436"/>
                </a:lnTo>
                <a:lnTo>
                  <a:pt x="672" y="582"/>
                </a:lnTo>
                <a:lnTo>
                  <a:pt x="540" y="723"/>
                </a:lnTo>
                <a:lnTo>
                  <a:pt x="391" y="851"/>
                </a:lnTo>
                <a:lnTo>
                  <a:pt x="369" y="890"/>
                </a:lnTo>
                <a:lnTo>
                  <a:pt x="347" y="930"/>
                </a:lnTo>
                <a:lnTo>
                  <a:pt x="347" y="930"/>
                </a:lnTo>
                <a:lnTo>
                  <a:pt x="369" y="930"/>
                </a:lnTo>
                <a:lnTo>
                  <a:pt x="153" y="1553"/>
                </a:lnTo>
                <a:lnTo>
                  <a:pt x="0" y="4345"/>
                </a:lnTo>
                <a:lnTo>
                  <a:pt x="2726" y="4446"/>
                </a:lnTo>
                <a:lnTo>
                  <a:pt x="2317" y="1844"/>
                </a:lnTo>
                <a:lnTo>
                  <a:pt x="2119" y="414"/>
                </a:lnTo>
                <a:lnTo>
                  <a:pt x="1385" y="0"/>
                </a:lnTo>
                <a:lnTo>
                  <a:pt x="953" y="374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72000" y="3219480"/>
            <a:ext cx="509760" cy="1443240"/>
            <a:chOff x="4572000" y="3219480"/>
            <a:chExt cx="509760" cy="1443240"/>
          </a:xfrm>
        </p:grpSpPr>
        <p:sp>
          <p:nvSpPr>
            <p:cNvPr id="109" name=""/>
            <p:cNvSpPr/>
            <p:nvPr/>
          </p:nvSpPr>
          <p:spPr>
            <a:xfrm>
              <a:off x="4572000" y="3219480"/>
              <a:ext cx="486000" cy="1190880"/>
            </a:xfrm>
            <a:custGeom>
              <a:avLst/>
              <a:gdLst/>
              <a:ahLst/>
              <a:rect l="0" t="0" r="r" b="b"/>
              <a:pathLst>
                <a:path w="1350" h="3308">
                  <a:moveTo>
                    <a:pt x="238" y="0"/>
                  </a:moveTo>
                  <a:lnTo>
                    <a:pt x="79" y="105"/>
                  </a:lnTo>
                  <a:lnTo>
                    <a:pt x="0" y="423"/>
                  </a:lnTo>
                  <a:lnTo>
                    <a:pt x="211" y="1322"/>
                  </a:lnTo>
                  <a:lnTo>
                    <a:pt x="529" y="3308"/>
                  </a:lnTo>
                  <a:lnTo>
                    <a:pt x="1350" y="3149"/>
                  </a:lnTo>
                  <a:lnTo>
                    <a:pt x="979" y="1455"/>
                  </a:lnTo>
                  <a:lnTo>
                    <a:pt x="555" y="238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76840" y="4376880"/>
              <a:ext cx="30492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317760" y="1982520"/>
            <a:ext cx="797400" cy="1355040"/>
            <a:chOff x="3317760" y="1982520"/>
            <a:chExt cx="797400" cy="1355040"/>
          </a:xfrm>
        </p:grpSpPr>
        <p:sp>
          <p:nvSpPr>
            <p:cNvPr id="112" name=""/>
            <p:cNvSpPr/>
            <p:nvPr/>
          </p:nvSpPr>
          <p:spPr>
            <a:xfrm>
              <a:off x="3416400" y="1982520"/>
              <a:ext cx="306720" cy="288360"/>
            </a:xfrm>
            <a:custGeom>
              <a:avLst/>
              <a:gdLst/>
              <a:ahLst/>
              <a:rect l="0" t="0" r="r" b="b"/>
              <a:pathLst>
                <a:path w="852" h="801">
                  <a:moveTo>
                    <a:pt x="850" y="356"/>
                  </a:moveTo>
                  <a:lnTo>
                    <a:pt x="850" y="356"/>
                  </a:lnTo>
                  <a:cubicBezTo>
                    <a:pt x="843" y="286"/>
                    <a:pt x="816" y="219"/>
                    <a:pt x="772" y="163"/>
                  </a:cubicBezTo>
                  <a:cubicBezTo>
                    <a:pt x="729" y="106"/>
                    <a:pt x="670" y="62"/>
                    <a:pt x="602" y="33"/>
                  </a:cubicBezTo>
                  <a:cubicBezTo>
                    <a:pt x="534" y="5"/>
                    <a:pt x="459" y="-5"/>
                    <a:pt x="384" y="2"/>
                  </a:cubicBezTo>
                  <a:cubicBezTo>
                    <a:pt x="310" y="10"/>
                    <a:pt x="239" y="36"/>
                    <a:pt x="178" y="78"/>
                  </a:cubicBezTo>
                  <a:cubicBezTo>
                    <a:pt x="117" y="120"/>
                    <a:pt x="69" y="176"/>
                    <a:pt x="38" y="240"/>
                  </a:cubicBezTo>
                  <a:cubicBezTo>
                    <a:pt x="7" y="304"/>
                    <a:pt x="-5" y="375"/>
                    <a:pt x="2" y="445"/>
                  </a:cubicBezTo>
                  <a:lnTo>
                    <a:pt x="2" y="445"/>
                  </a:lnTo>
                  <a:lnTo>
                    <a:pt x="2" y="445"/>
                  </a:lnTo>
                  <a:cubicBezTo>
                    <a:pt x="9" y="515"/>
                    <a:pt x="36" y="582"/>
                    <a:pt x="80" y="638"/>
                  </a:cubicBezTo>
                  <a:cubicBezTo>
                    <a:pt x="123" y="695"/>
                    <a:pt x="182" y="739"/>
                    <a:pt x="250" y="768"/>
                  </a:cubicBezTo>
                  <a:cubicBezTo>
                    <a:pt x="318" y="796"/>
                    <a:pt x="393" y="806"/>
                    <a:pt x="468" y="799"/>
                  </a:cubicBezTo>
                  <a:cubicBezTo>
                    <a:pt x="542" y="791"/>
                    <a:pt x="613" y="765"/>
                    <a:pt x="674" y="723"/>
                  </a:cubicBezTo>
                  <a:cubicBezTo>
                    <a:pt x="735" y="681"/>
                    <a:pt x="783" y="625"/>
                    <a:pt x="814" y="561"/>
                  </a:cubicBezTo>
                  <a:cubicBezTo>
                    <a:pt x="845" y="497"/>
                    <a:pt x="857" y="426"/>
                    <a:pt x="850" y="356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17760" y="2257560"/>
              <a:ext cx="797400" cy="1080000"/>
            </a:xfrm>
            <a:custGeom>
              <a:avLst/>
              <a:gdLst/>
              <a:ahLst/>
              <a:rect l="0" t="0" r="r" b="b"/>
              <a:pathLst>
                <a:path w="2215" h="3000">
                  <a:moveTo>
                    <a:pt x="2215" y="2661"/>
                  </a:moveTo>
                  <a:lnTo>
                    <a:pt x="2083" y="2396"/>
                  </a:lnTo>
                  <a:lnTo>
                    <a:pt x="1341" y="1932"/>
                  </a:lnTo>
                  <a:lnTo>
                    <a:pt x="803" y="1535"/>
                  </a:lnTo>
                  <a:lnTo>
                    <a:pt x="1059" y="57"/>
                  </a:lnTo>
                  <a:lnTo>
                    <a:pt x="185" y="0"/>
                  </a:lnTo>
                  <a:lnTo>
                    <a:pt x="0" y="1941"/>
                  </a:lnTo>
                  <a:lnTo>
                    <a:pt x="1482" y="2868"/>
                  </a:lnTo>
                  <a:lnTo>
                    <a:pt x="1884" y="3000"/>
                  </a:lnTo>
                  <a:lnTo>
                    <a:pt x="2153" y="2863"/>
                  </a:lnTo>
                  <a:lnTo>
                    <a:pt x="2215" y="2661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795840" y="1373040"/>
            <a:ext cx="1005120" cy="1865880"/>
            <a:chOff x="3795840" y="1373040"/>
            <a:chExt cx="1005120" cy="1865880"/>
          </a:xfrm>
        </p:grpSpPr>
        <p:sp>
          <p:nvSpPr>
            <p:cNvPr id="115" name=""/>
            <p:cNvSpPr/>
            <p:nvPr/>
          </p:nvSpPr>
          <p:spPr>
            <a:xfrm>
              <a:off x="3905280" y="1609560"/>
              <a:ext cx="895680" cy="1581480"/>
            </a:xfrm>
            <a:custGeom>
              <a:avLst/>
              <a:gdLst/>
              <a:ahLst/>
              <a:rect l="0" t="0" r="r" b="b"/>
              <a:pathLst>
                <a:path w="2488" h="4393">
                  <a:moveTo>
                    <a:pt x="582" y="0"/>
                  </a:moveTo>
                  <a:lnTo>
                    <a:pt x="264" y="264"/>
                  </a:lnTo>
                  <a:lnTo>
                    <a:pt x="79" y="687"/>
                  </a:lnTo>
                  <a:lnTo>
                    <a:pt x="26" y="1217"/>
                  </a:lnTo>
                  <a:lnTo>
                    <a:pt x="0" y="2699"/>
                  </a:lnTo>
                  <a:lnTo>
                    <a:pt x="52" y="3546"/>
                  </a:lnTo>
                  <a:lnTo>
                    <a:pt x="820" y="3599"/>
                  </a:lnTo>
                  <a:lnTo>
                    <a:pt x="926" y="4075"/>
                  </a:lnTo>
                  <a:lnTo>
                    <a:pt x="1031" y="4393"/>
                  </a:lnTo>
                  <a:lnTo>
                    <a:pt x="1271" y="4393"/>
                  </a:lnTo>
                  <a:lnTo>
                    <a:pt x="1403" y="4102"/>
                  </a:lnTo>
                  <a:lnTo>
                    <a:pt x="1323" y="3599"/>
                  </a:lnTo>
                  <a:lnTo>
                    <a:pt x="2038" y="3519"/>
                  </a:lnTo>
                  <a:lnTo>
                    <a:pt x="2064" y="3017"/>
                  </a:lnTo>
                  <a:lnTo>
                    <a:pt x="2223" y="3096"/>
                  </a:lnTo>
                  <a:lnTo>
                    <a:pt x="2382" y="3043"/>
                  </a:lnTo>
                  <a:lnTo>
                    <a:pt x="2488" y="2620"/>
                  </a:lnTo>
                  <a:lnTo>
                    <a:pt x="2355" y="2408"/>
                  </a:lnTo>
                  <a:lnTo>
                    <a:pt x="2197" y="2435"/>
                  </a:lnTo>
                  <a:lnTo>
                    <a:pt x="2355" y="185"/>
                  </a:lnTo>
                  <a:lnTo>
                    <a:pt x="582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95840" y="2052720"/>
              <a:ext cx="409680" cy="409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8280" y="2014560"/>
              <a:ext cx="485640" cy="485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38720" y="2214720"/>
              <a:ext cx="85680" cy="85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29040" y="2224080"/>
              <a:ext cx="85680" cy="85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35320" y="1401840"/>
              <a:ext cx="7920" cy="217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249800" y="1382760"/>
              <a:ext cx="17280" cy="217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411800" y="1373040"/>
              <a:ext cx="36360" cy="2271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573440" y="1420920"/>
              <a:ext cx="55800" cy="198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716360" y="1449360"/>
              <a:ext cx="55800" cy="179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1120" y="3057480"/>
              <a:ext cx="305280" cy="181440"/>
            </a:xfrm>
            <a:custGeom>
              <a:avLst/>
              <a:gdLst/>
              <a:ahLst/>
              <a:rect l="0" t="0" r="r" b="b"/>
              <a:pathLst>
                <a:path w="848" h="504">
                  <a:moveTo>
                    <a:pt x="0" y="344"/>
                  </a:moveTo>
                  <a:lnTo>
                    <a:pt x="239" y="478"/>
                  </a:lnTo>
                  <a:lnTo>
                    <a:pt x="663" y="504"/>
                  </a:lnTo>
                  <a:lnTo>
                    <a:pt x="848" y="265"/>
                  </a:lnTo>
                  <a:lnTo>
                    <a:pt x="848" y="79"/>
                  </a:lnTo>
                  <a:lnTo>
                    <a:pt x="663" y="0"/>
                  </a:lnTo>
                  <a:lnTo>
                    <a:pt x="477" y="265"/>
                  </a:lnTo>
                  <a:lnTo>
                    <a:pt x="185" y="292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49560" y="2654280"/>
              <a:ext cx="482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343320" y="1855800"/>
            <a:ext cx="749520" cy="197280"/>
            <a:chOff x="3343320" y="1855800"/>
            <a:chExt cx="749520" cy="197280"/>
          </a:xfrm>
        </p:grpSpPr>
        <p:grpSp>
          <p:nvGrpSpPr>
            <p:cNvPr id="128" name=""/>
            <p:cNvGrpSpPr/>
            <p:nvPr/>
          </p:nvGrpSpPr>
          <p:grpSpPr>
            <a:xfrm>
              <a:off x="3460680" y="1855800"/>
              <a:ext cx="478440" cy="176400"/>
              <a:chOff x="3460680" y="1855800"/>
              <a:chExt cx="478440" cy="176400"/>
            </a:xfrm>
          </p:grpSpPr>
          <p:sp>
            <p:nvSpPr>
              <p:cNvPr id="129" name=""/>
              <p:cNvSpPr/>
              <p:nvPr/>
            </p:nvSpPr>
            <p:spPr>
              <a:xfrm>
                <a:off x="3467160" y="1919160"/>
                <a:ext cx="471960" cy="113040"/>
              </a:xfrm>
              <a:custGeom>
                <a:avLst/>
                <a:gdLst/>
                <a:ahLst/>
                <a:rect l="0" t="0" r="r" b="b"/>
                <a:pathLst>
                  <a:path w="1311" h="314">
                    <a:moveTo>
                      <a:pt x="0" y="314"/>
                    </a:moveTo>
                    <a:lnTo>
                      <a:pt x="1311" y="88"/>
                    </a:lnTo>
                    <a:lnTo>
                      <a:pt x="1307" y="0"/>
                    </a:lnTo>
                    <a:lnTo>
                      <a:pt x="0" y="221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63920" y="1887480"/>
                <a:ext cx="471960" cy="111600"/>
              </a:xfrm>
              <a:custGeom>
                <a:avLst/>
                <a:gdLst/>
                <a:ahLst/>
                <a:rect l="0" t="0" r="r" b="b"/>
                <a:pathLst>
                  <a:path w="1311" h="310">
                    <a:moveTo>
                      <a:pt x="1311" y="84"/>
                    </a:moveTo>
                    <a:lnTo>
                      <a:pt x="1307" y="0"/>
                    </a:lnTo>
                    <a:lnTo>
                      <a:pt x="0" y="221"/>
                    </a:lnTo>
                    <a:lnTo>
                      <a:pt x="4" y="310"/>
                    </a:lnTo>
                    <a:lnTo>
                      <a:pt x="1311" y="84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460680" y="1855800"/>
                <a:ext cx="473400" cy="113040"/>
              </a:xfrm>
              <a:custGeom>
                <a:avLst/>
                <a:gdLst/>
                <a:ahLst/>
                <a:rect l="0" t="0" r="r" b="b"/>
                <a:pathLst>
                  <a:path w="1315" h="314">
                    <a:moveTo>
                      <a:pt x="8" y="314"/>
                    </a:moveTo>
                    <a:lnTo>
                      <a:pt x="1315" y="88"/>
                    </a:lnTo>
                    <a:lnTo>
                      <a:pt x="1315" y="0"/>
                    </a:lnTo>
                    <a:lnTo>
                      <a:pt x="0" y="225"/>
                    </a:lnTo>
                    <a:lnTo>
                      <a:pt x="8" y="314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3914640" y="1855800"/>
              <a:ext cx="178200" cy="95760"/>
              <a:chOff x="3914640" y="1855800"/>
              <a:chExt cx="178200" cy="95760"/>
            </a:xfrm>
          </p:grpSpPr>
          <p:sp>
            <p:nvSpPr>
              <p:cNvPr id="133" name=""/>
              <p:cNvSpPr/>
              <p:nvPr/>
            </p:nvSpPr>
            <p:spPr>
              <a:xfrm>
                <a:off x="3914640" y="1855800"/>
                <a:ext cx="178200" cy="95760"/>
              </a:xfrm>
              <a:custGeom>
                <a:avLst/>
                <a:gdLst/>
                <a:ahLst/>
                <a:rect l="0" t="0" r="r" b="b"/>
                <a:pathLst>
                  <a:path w="495" h="266">
                    <a:moveTo>
                      <a:pt x="61" y="266"/>
                    </a:moveTo>
                    <a:lnTo>
                      <a:pt x="39" y="262"/>
                    </a:lnTo>
                    <a:lnTo>
                      <a:pt x="17" y="248"/>
                    </a:lnTo>
                    <a:lnTo>
                      <a:pt x="4" y="231"/>
                    </a:lnTo>
                    <a:lnTo>
                      <a:pt x="17" y="218"/>
                    </a:lnTo>
                    <a:lnTo>
                      <a:pt x="35" y="204"/>
                    </a:lnTo>
                    <a:lnTo>
                      <a:pt x="61" y="190"/>
                    </a:lnTo>
                    <a:lnTo>
                      <a:pt x="39" y="190"/>
                    </a:lnTo>
                    <a:lnTo>
                      <a:pt x="52" y="172"/>
                    </a:lnTo>
                    <a:lnTo>
                      <a:pt x="26" y="164"/>
                    </a:lnTo>
                    <a:lnTo>
                      <a:pt x="8" y="150"/>
                    </a:lnTo>
                    <a:lnTo>
                      <a:pt x="0" y="137"/>
                    </a:lnTo>
                    <a:lnTo>
                      <a:pt x="8" y="120"/>
                    </a:lnTo>
                    <a:lnTo>
                      <a:pt x="35" y="106"/>
                    </a:lnTo>
                    <a:lnTo>
                      <a:pt x="52" y="102"/>
                    </a:lnTo>
                    <a:lnTo>
                      <a:pt x="22" y="98"/>
                    </a:lnTo>
                    <a:lnTo>
                      <a:pt x="57" y="80"/>
                    </a:lnTo>
                    <a:lnTo>
                      <a:pt x="30" y="75"/>
                    </a:lnTo>
                    <a:lnTo>
                      <a:pt x="52" y="71"/>
                    </a:lnTo>
                    <a:lnTo>
                      <a:pt x="17" y="57"/>
                    </a:lnTo>
                    <a:lnTo>
                      <a:pt x="0" y="39"/>
                    </a:lnTo>
                    <a:lnTo>
                      <a:pt x="13" y="26"/>
                    </a:lnTo>
                    <a:lnTo>
                      <a:pt x="52" y="0"/>
                    </a:lnTo>
                    <a:lnTo>
                      <a:pt x="495" y="75"/>
                    </a:lnTo>
                    <a:lnTo>
                      <a:pt x="61" y="266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95640" y="1865160"/>
                <a:ext cx="97200" cy="60840"/>
              </a:xfrm>
              <a:custGeom>
                <a:avLst/>
                <a:gdLst/>
                <a:ahLst/>
                <a:rect l="0" t="0" r="r" b="b"/>
                <a:pathLst>
                  <a:path w="270" h="169">
                    <a:moveTo>
                      <a:pt x="270" y="49"/>
                    </a:moveTo>
                    <a:lnTo>
                      <a:pt x="0" y="169"/>
                    </a:lnTo>
                    <a:lnTo>
                      <a:pt x="0" y="143"/>
                    </a:lnTo>
                    <a:lnTo>
                      <a:pt x="0" y="111"/>
                    </a:lnTo>
                    <a:lnTo>
                      <a:pt x="0" y="84"/>
                    </a:lnTo>
                    <a:lnTo>
                      <a:pt x="4" y="53"/>
                    </a:lnTo>
                    <a:lnTo>
                      <a:pt x="4" y="30"/>
                    </a:lnTo>
                    <a:lnTo>
                      <a:pt x="4" y="17"/>
                    </a:lnTo>
                    <a:lnTo>
                      <a:pt x="8" y="0"/>
                    </a:lnTo>
                    <a:lnTo>
                      <a:pt x="270" y="49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997440" y="1878120"/>
                <a:ext cx="93960" cy="25920"/>
              </a:xfrm>
              <a:custGeom>
                <a:avLst/>
                <a:gdLst/>
                <a:ahLst/>
                <a:rect l="0" t="0" r="r" b="b"/>
                <a:pathLst>
                  <a:path w="261" h="72">
                    <a:moveTo>
                      <a:pt x="261" y="53"/>
                    </a:moveTo>
                    <a:lnTo>
                      <a:pt x="0" y="72"/>
                    </a:lnTo>
                    <a:lnTo>
                      <a:pt x="0" y="0"/>
                    </a:lnTo>
                    <a:lnTo>
                      <a:pt x="261" y="53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3343320" y="1936800"/>
              <a:ext cx="127440" cy="116280"/>
              <a:chOff x="3343320" y="1936800"/>
              <a:chExt cx="127440" cy="11628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3343320" y="1944720"/>
                <a:ext cx="81360" cy="108360"/>
                <a:chOff x="3343320" y="1944720"/>
                <a:chExt cx="81360" cy="1083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3343320" y="1944720"/>
                  <a:ext cx="81360" cy="108360"/>
                </a:xfrm>
                <a:custGeom>
                  <a:avLst/>
                  <a:gdLst/>
                  <a:ahLst/>
                  <a:rect l="0" t="0" r="r" b="b"/>
                  <a:pathLst>
                    <a:path w="226" h="301">
                      <a:moveTo>
                        <a:pt x="226" y="266"/>
                      </a:moveTo>
                      <a:lnTo>
                        <a:pt x="26" y="301"/>
                      </a:lnTo>
                      <a:lnTo>
                        <a:pt x="17" y="297"/>
                      </a:lnTo>
                      <a:lnTo>
                        <a:pt x="13" y="297"/>
                      </a:lnTo>
                      <a:lnTo>
                        <a:pt x="13" y="293"/>
                      </a:lnTo>
                      <a:lnTo>
                        <a:pt x="8" y="288"/>
                      </a:lnTo>
                      <a:lnTo>
                        <a:pt x="0" y="52"/>
                      </a:lnTo>
                      <a:lnTo>
                        <a:pt x="0" y="48"/>
                      </a:lnTo>
                      <a:lnTo>
                        <a:pt x="0" y="44"/>
                      </a:lnTo>
                      <a:lnTo>
                        <a:pt x="8" y="35"/>
                      </a:lnTo>
                      <a:lnTo>
                        <a:pt x="13" y="35"/>
                      </a:lnTo>
                      <a:lnTo>
                        <a:pt x="222" y="0"/>
                      </a:lnTo>
                      <a:lnTo>
                        <a:pt x="226" y="266"/>
                      </a:lnTo>
                      <a:close/>
                    </a:path>
                  </a:pathLst>
                </a:custGeom>
                <a:solidFill>
                  <a:srgbClr val="ff404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343320" y="1957320"/>
                  <a:ext cx="81360" cy="39960"/>
                </a:xfrm>
                <a:custGeom>
                  <a:avLst/>
                  <a:gdLst/>
                  <a:ahLst/>
                  <a:rect l="0" t="0" r="r" b="b"/>
                  <a:pathLst>
                    <a:path w="226" h="111">
                      <a:moveTo>
                        <a:pt x="4" y="111"/>
                      </a:moveTo>
                      <a:lnTo>
                        <a:pt x="0" y="62"/>
                      </a:lnTo>
                      <a:lnTo>
                        <a:pt x="8" y="58"/>
                      </a:lnTo>
                      <a:lnTo>
                        <a:pt x="17" y="48"/>
                      </a:lnTo>
                      <a:lnTo>
                        <a:pt x="26" y="39"/>
                      </a:lnTo>
                      <a:lnTo>
                        <a:pt x="35" y="35"/>
                      </a:lnTo>
                      <a:lnTo>
                        <a:pt x="44" y="26"/>
                      </a:lnTo>
                      <a:lnTo>
                        <a:pt x="75" y="22"/>
                      </a:lnTo>
                      <a:lnTo>
                        <a:pt x="222" y="0"/>
                      </a:lnTo>
                      <a:lnTo>
                        <a:pt x="226" y="44"/>
                      </a:lnTo>
                      <a:lnTo>
                        <a:pt x="75" y="58"/>
                      </a:lnTo>
                      <a:lnTo>
                        <a:pt x="62" y="62"/>
                      </a:lnTo>
                      <a:lnTo>
                        <a:pt x="48" y="75"/>
                      </a:lnTo>
                      <a:lnTo>
                        <a:pt x="30" y="89"/>
                      </a:lnTo>
                      <a:lnTo>
                        <a:pt x="22" y="89"/>
                      </a:lnTo>
                      <a:lnTo>
                        <a:pt x="13" y="98"/>
                      </a:lnTo>
                      <a:lnTo>
                        <a:pt x="4" y="111"/>
                      </a:lnTo>
                      <a:close/>
                    </a:path>
                  </a:pathLst>
                </a:custGeom>
                <a:solidFill>
                  <a:srgbClr val="ffc0c0"/>
                </a:solidFill>
                <a:ln w="0">
                  <a:noFill/>
                </a:ln>
              </p:spPr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3421080" y="1936800"/>
                <a:ext cx="49680" cy="106560"/>
                <a:chOff x="3421080" y="1936800"/>
                <a:chExt cx="49680" cy="1065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3424320" y="1936800"/>
                  <a:ext cx="43200" cy="106560"/>
                </a:xfrm>
                <a:custGeom>
                  <a:avLst/>
                  <a:gdLst/>
                  <a:ahLst/>
                  <a:rect l="0" t="0" r="r" b="b"/>
                  <a:pathLst>
                    <a:path w="120" h="296">
                      <a:moveTo>
                        <a:pt x="120" y="265"/>
                      </a:moveTo>
                      <a:lnTo>
                        <a:pt x="111" y="0"/>
                      </a:lnTo>
                      <a:lnTo>
                        <a:pt x="98" y="0"/>
                      </a:lnTo>
                      <a:lnTo>
                        <a:pt x="84" y="0"/>
                      </a:lnTo>
                      <a:lnTo>
                        <a:pt x="62" y="4"/>
                      </a:lnTo>
                      <a:lnTo>
                        <a:pt x="52" y="8"/>
                      </a:lnTo>
                      <a:lnTo>
                        <a:pt x="39" y="8"/>
                      </a:lnTo>
                      <a:lnTo>
                        <a:pt x="22" y="8"/>
                      </a:lnTo>
                      <a:lnTo>
                        <a:pt x="4" y="13"/>
                      </a:lnTo>
                      <a:lnTo>
                        <a:pt x="0" y="22"/>
                      </a:lnTo>
                      <a:lnTo>
                        <a:pt x="0" y="292"/>
                      </a:lnTo>
                      <a:lnTo>
                        <a:pt x="17" y="296"/>
                      </a:lnTo>
                      <a:lnTo>
                        <a:pt x="30" y="292"/>
                      </a:lnTo>
                      <a:lnTo>
                        <a:pt x="48" y="283"/>
                      </a:lnTo>
                      <a:lnTo>
                        <a:pt x="62" y="274"/>
                      </a:lnTo>
                      <a:lnTo>
                        <a:pt x="80" y="278"/>
                      </a:lnTo>
                      <a:lnTo>
                        <a:pt x="98" y="278"/>
                      </a:lnTo>
                      <a:lnTo>
                        <a:pt x="106" y="274"/>
                      </a:lnTo>
                      <a:lnTo>
                        <a:pt x="120" y="265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422520" y="1986120"/>
                  <a:ext cx="44640" cy="43200"/>
                </a:xfrm>
                <a:custGeom>
                  <a:avLst/>
                  <a:gdLst/>
                  <a:ahLst/>
                  <a:rect l="0" t="0" r="r" b="b"/>
                  <a:pathLst>
                    <a:path w="124" h="120">
                      <a:moveTo>
                        <a:pt x="4" y="120"/>
                      </a:moveTo>
                      <a:lnTo>
                        <a:pt x="0" y="17"/>
                      </a:lnTo>
                      <a:lnTo>
                        <a:pt x="17" y="8"/>
                      </a:lnTo>
                      <a:lnTo>
                        <a:pt x="44" y="8"/>
                      </a:lnTo>
                      <a:lnTo>
                        <a:pt x="57" y="8"/>
                      </a:lnTo>
                      <a:lnTo>
                        <a:pt x="75" y="4"/>
                      </a:lnTo>
                      <a:lnTo>
                        <a:pt x="102" y="0"/>
                      </a:lnTo>
                      <a:lnTo>
                        <a:pt x="120" y="0"/>
                      </a:lnTo>
                      <a:lnTo>
                        <a:pt x="124" y="102"/>
                      </a:lnTo>
                      <a:lnTo>
                        <a:pt x="106" y="106"/>
                      </a:lnTo>
                      <a:lnTo>
                        <a:pt x="84" y="111"/>
                      </a:lnTo>
                      <a:lnTo>
                        <a:pt x="67" y="111"/>
                      </a:lnTo>
                      <a:lnTo>
                        <a:pt x="48" y="115"/>
                      </a:lnTo>
                      <a:lnTo>
                        <a:pt x="22" y="120"/>
                      </a:lnTo>
                      <a:lnTo>
                        <a:pt x="4" y="12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424320" y="2003400"/>
                  <a:ext cx="46440" cy="25920"/>
                </a:xfrm>
                <a:custGeom>
                  <a:avLst/>
                  <a:gdLst/>
                  <a:ahLst/>
                  <a:rect l="0" t="0" r="r" b="b"/>
                  <a:pathLst>
                    <a:path w="129" h="72">
                      <a:moveTo>
                        <a:pt x="129" y="72"/>
                      </a:moveTo>
                      <a:lnTo>
                        <a:pt x="125" y="27"/>
                      </a:ln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129" y="72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21080" y="1949400"/>
                  <a:ext cx="46440" cy="25920"/>
                </a:xfrm>
                <a:custGeom>
                  <a:avLst/>
                  <a:gdLst/>
                  <a:ahLst/>
                  <a:rect l="0" t="0" r="r" b="b"/>
                  <a:pathLst>
                    <a:path w="129" h="72">
                      <a:moveTo>
                        <a:pt x="8" y="72"/>
                      </a:moveTo>
                      <a:lnTo>
                        <a:pt x="0" y="29"/>
                      </a:lnTo>
                      <a:lnTo>
                        <a:pt x="17" y="14"/>
                      </a:lnTo>
                      <a:lnTo>
                        <a:pt x="45" y="9"/>
                      </a:lnTo>
                      <a:lnTo>
                        <a:pt x="62" y="14"/>
                      </a:lnTo>
                      <a:lnTo>
                        <a:pt x="75" y="9"/>
                      </a:lnTo>
                      <a:lnTo>
                        <a:pt x="107" y="0"/>
                      </a:lnTo>
                      <a:lnTo>
                        <a:pt x="125" y="9"/>
                      </a:lnTo>
                      <a:lnTo>
                        <a:pt x="129" y="58"/>
                      </a:lnTo>
                      <a:lnTo>
                        <a:pt x="112" y="52"/>
                      </a:lnTo>
                      <a:lnTo>
                        <a:pt x="80" y="58"/>
                      </a:lnTo>
                      <a:lnTo>
                        <a:pt x="67" y="63"/>
                      </a:lnTo>
                      <a:lnTo>
                        <a:pt x="49" y="63"/>
                      </a:lnTo>
                      <a:lnTo>
                        <a:pt x="26" y="63"/>
                      </a:lnTo>
                      <a:lnTo>
                        <a:pt x="8" y="72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flipV="1">
                  <a:off x="3443400" y="1941480"/>
                  <a:ext cx="3240" cy="93600"/>
                </a:xfrm>
                <a:prstGeom prst="line">
                  <a:avLst/>
                </a:prstGeom>
                <a:ln w="12600">
                  <a:solidFill>
                    <a:srgbClr val="a0a0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6" name=""/>
          <p:cNvSpPr/>
          <p:nvPr/>
        </p:nvSpPr>
        <p:spPr>
          <a:xfrm flipH="1" flipV="1">
            <a:off x="4051440" y="1892160"/>
            <a:ext cx="647640" cy="25560"/>
          </a:xfrm>
          <a:prstGeom prst="line">
            <a:avLst/>
          </a:prstGeom>
          <a:ln w="2556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457200"/>
            <a:ext cx="807732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Something is Very Funny, Astonishing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cking, Messed Up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or Whatsoev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638520" y="4448160"/>
            <a:ext cx="1514880" cy="1867320"/>
            <a:chOff x="3638520" y="4448160"/>
            <a:chExt cx="1514880" cy="1867320"/>
          </a:xfrm>
        </p:grpSpPr>
        <p:sp>
          <p:nvSpPr>
            <p:cNvPr id="149" name=""/>
            <p:cNvSpPr/>
            <p:nvPr/>
          </p:nvSpPr>
          <p:spPr>
            <a:xfrm>
              <a:off x="4019400" y="4448160"/>
              <a:ext cx="657720" cy="1724400"/>
            </a:xfrm>
            <a:custGeom>
              <a:avLst/>
              <a:gdLst/>
              <a:ahLst/>
              <a:rect l="0" t="0" r="r" b="b"/>
              <a:pathLst>
                <a:path w="1827" h="4790">
                  <a:moveTo>
                    <a:pt x="0" y="0"/>
                  </a:moveTo>
                  <a:lnTo>
                    <a:pt x="317" y="4790"/>
                  </a:lnTo>
                  <a:lnTo>
                    <a:pt x="1032" y="4790"/>
                  </a:lnTo>
                  <a:lnTo>
                    <a:pt x="927" y="1297"/>
                  </a:lnTo>
                  <a:lnTo>
                    <a:pt x="1032" y="4790"/>
                  </a:lnTo>
                  <a:lnTo>
                    <a:pt x="1827" y="4790"/>
                  </a:lnTo>
                  <a:lnTo>
                    <a:pt x="174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3852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1376" y="185"/>
                  </a:moveTo>
                  <a:lnTo>
                    <a:pt x="978" y="52"/>
                  </a:lnTo>
                  <a:lnTo>
                    <a:pt x="714" y="0"/>
                  </a:lnTo>
                  <a:lnTo>
                    <a:pt x="423" y="105"/>
                  </a:lnTo>
                  <a:lnTo>
                    <a:pt x="132" y="264"/>
                  </a:lnTo>
                  <a:lnTo>
                    <a:pt x="0" y="477"/>
                  </a:lnTo>
                  <a:lnTo>
                    <a:pt x="185" y="583"/>
                  </a:lnTo>
                  <a:lnTo>
                    <a:pt x="2091" y="583"/>
                  </a:lnTo>
                  <a:lnTo>
                    <a:pt x="2091" y="185"/>
                  </a:lnTo>
                  <a:lnTo>
                    <a:pt x="1376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0064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714" y="185"/>
                  </a:moveTo>
                  <a:lnTo>
                    <a:pt x="1112" y="52"/>
                  </a:lnTo>
                  <a:lnTo>
                    <a:pt x="1376" y="0"/>
                  </a:lnTo>
                  <a:lnTo>
                    <a:pt x="1667" y="105"/>
                  </a:lnTo>
                  <a:lnTo>
                    <a:pt x="1958" y="264"/>
                  </a:lnTo>
                  <a:lnTo>
                    <a:pt x="2091" y="477"/>
                  </a:lnTo>
                  <a:lnTo>
                    <a:pt x="1906" y="583"/>
                  </a:lnTo>
                  <a:lnTo>
                    <a:pt x="0" y="583"/>
                  </a:lnTo>
                  <a:lnTo>
                    <a:pt x="0" y="185"/>
                  </a:lnTo>
                  <a:lnTo>
                    <a:pt x="714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681360" y="3200400"/>
            <a:ext cx="509760" cy="1443240"/>
            <a:chOff x="3681360" y="3200400"/>
            <a:chExt cx="509760" cy="1443240"/>
          </a:xfrm>
        </p:grpSpPr>
        <p:sp>
          <p:nvSpPr>
            <p:cNvPr id="153" name=""/>
            <p:cNvSpPr/>
            <p:nvPr/>
          </p:nvSpPr>
          <p:spPr>
            <a:xfrm>
              <a:off x="3705120" y="3200400"/>
              <a:ext cx="486000" cy="1190880"/>
            </a:xfrm>
            <a:custGeom>
              <a:avLst/>
              <a:gdLst/>
              <a:ahLst/>
              <a:rect l="0" t="0" r="r" b="b"/>
              <a:pathLst>
                <a:path w="1350" h="3308">
                  <a:moveTo>
                    <a:pt x="1112" y="0"/>
                  </a:moveTo>
                  <a:lnTo>
                    <a:pt x="1271" y="105"/>
                  </a:lnTo>
                  <a:lnTo>
                    <a:pt x="1350" y="423"/>
                  </a:lnTo>
                  <a:lnTo>
                    <a:pt x="1138" y="1322"/>
                  </a:lnTo>
                  <a:lnTo>
                    <a:pt x="821" y="3308"/>
                  </a:lnTo>
                  <a:lnTo>
                    <a:pt x="0" y="3149"/>
                  </a:lnTo>
                  <a:lnTo>
                    <a:pt x="370" y="1455"/>
                  </a:lnTo>
                  <a:lnTo>
                    <a:pt x="794" y="238"/>
                  </a:lnTo>
                  <a:lnTo>
                    <a:pt x="1112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81360" y="4357800"/>
              <a:ext cx="30492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895560" y="3048120"/>
            <a:ext cx="981360" cy="1600560"/>
          </a:xfrm>
          <a:custGeom>
            <a:avLst/>
            <a:gdLst/>
            <a:ahLst/>
            <a:rect l="0" t="0" r="r" b="b"/>
            <a:pathLst>
              <a:path w="2726" h="4446">
                <a:moveTo>
                  <a:pt x="953" y="374"/>
                </a:moveTo>
                <a:lnTo>
                  <a:pt x="865" y="392"/>
                </a:lnTo>
                <a:lnTo>
                  <a:pt x="799" y="436"/>
                </a:lnTo>
                <a:lnTo>
                  <a:pt x="672" y="582"/>
                </a:lnTo>
                <a:lnTo>
                  <a:pt x="540" y="723"/>
                </a:lnTo>
                <a:lnTo>
                  <a:pt x="391" y="851"/>
                </a:lnTo>
                <a:lnTo>
                  <a:pt x="369" y="890"/>
                </a:lnTo>
                <a:lnTo>
                  <a:pt x="347" y="930"/>
                </a:lnTo>
                <a:lnTo>
                  <a:pt x="347" y="930"/>
                </a:lnTo>
                <a:lnTo>
                  <a:pt x="369" y="930"/>
                </a:lnTo>
                <a:lnTo>
                  <a:pt x="153" y="1553"/>
                </a:lnTo>
                <a:lnTo>
                  <a:pt x="0" y="4345"/>
                </a:lnTo>
                <a:lnTo>
                  <a:pt x="2726" y="4446"/>
                </a:lnTo>
                <a:lnTo>
                  <a:pt x="2317" y="1844"/>
                </a:lnTo>
                <a:lnTo>
                  <a:pt x="2119" y="414"/>
                </a:lnTo>
                <a:lnTo>
                  <a:pt x="1385" y="0"/>
                </a:lnTo>
                <a:lnTo>
                  <a:pt x="953" y="374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795840" y="1373040"/>
            <a:ext cx="1005120" cy="1865880"/>
            <a:chOff x="3795840" y="1373040"/>
            <a:chExt cx="1005120" cy="1865880"/>
          </a:xfrm>
        </p:grpSpPr>
        <p:sp>
          <p:nvSpPr>
            <p:cNvPr id="157" name=""/>
            <p:cNvSpPr/>
            <p:nvPr/>
          </p:nvSpPr>
          <p:spPr>
            <a:xfrm>
              <a:off x="3905280" y="1609560"/>
              <a:ext cx="895680" cy="1581480"/>
            </a:xfrm>
            <a:custGeom>
              <a:avLst/>
              <a:gdLst/>
              <a:ahLst/>
              <a:rect l="0" t="0" r="r" b="b"/>
              <a:pathLst>
                <a:path w="2488" h="4393">
                  <a:moveTo>
                    <a:pt x="582" y="0"/>
                  </a:moveTo>
                  <a:lnTo>
                    <a:pt x="264" y="264"/>
                  </a:lnTo>
                  <a:lnTo>
                    <a:pt x="79" y="687"/>
                  </a:lnTo>
                  <a:lnTo>
                    <a:pt x="26" y="1217"/>
                  </a:lnTo>
                  <a:lnTo>
                    <a:pt x="0" y="2699"/>
                  </a:lnTo>
                  <a:lnTo>
                    <a:pt x="52" y="3546"/>
                  </a:lnTo>
                  <a:lnTo>
                    <a:pt x="820" y="3599"/>
                  </a:lnTo>
                  <a:lnTo>
                    <a:pt x="926" y="4075"/>
                  </a:lnTo>
                  <a:lnTo>
                    <a:pt x="1031" y="4393"/>
                  </a:lnTo>
                  <a:lnTo>
                    <a:pt x="1271" y="4393"/>
                  </a:lnTo>
                  <a:lnTo>
                    <a:pt x="1403" y="4102"/>
                  </a:lnTo>
                  <a:lnTo>
                    <a:pt x="1323" y="3599"/>
                  </a:lnTo>
                  <a:lnTo>
                    <a:pt x="2038" y="3519"/>
                  </a:lnTo>
                  <a:lnTo>
                    <a:pt x="2064" y="3017"/>
                  </a:lnTo>
                  <a:lnTo>
                    <a:pt x="2223" y="3096"/>
                  </a:lnTo>
                  <a:lnTo>
                    <a:pt x="2382" y="3043"/>
                  </a:lnTo>
                  <a:lnTo>
                    <a:pt x="2488" y="2620"/>
                  </a:lnTo>
                  <a:lnTo>
                    <a:pt x="2355" y="2408"/>
                  </a:lnTo>
                  <a:lnTo>
                    <a:pt x="2197" y="2435"/>
                  </a:lnTo>
                  <a:lnTo>
                    <a:pt x="2355" y="185"/>
                  </a:lnTo>
                  <a:lnTo>
                    <a:pt x="582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3795840" y="2052720"/>
              <a:ext cx="409680" cy="409680"/>
              <a:chOff x="3795840" y="2052720"/>
              <a:chExt cx="409680" cy="409680"/>
            </a:xfrm>
          </p:grpSpPr>
          <p:sp>
            <p:nvSpPr>
              <p:cNvPr id="159" name=""/>
              <p:cNvSpPr/>
              <p:nvPr/>
            </p:nvSpPr>
            <p:spPr>
              <a:xfrm>
                <a:off x="3795840" y="2052720"/>
                <a:ext cx="409680" cy="409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929040" y="222408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4148280" y="2014560"/>
              <a:ext cx="485640" cy="485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38720" y="2214720"/>
              <a:ext cx="85680" cy="85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35320" y="1401840"/>
              <a:ext cx="7920" cy="217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249800" y="1382760"/>
              <a:ext cx="17280" cy="217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411800" y="1373040"/>
              <a:ext cx="36360" cy="2271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573440" y="1420920"/>
              <a:ext cx="55800" cy="198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716360" y="1449360"/>
              <a:ext cx="55800" cy="179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91120" y="3057480"/>
              <a:ext cx="305280" cy="181440"/>
            </a:xfrm>
            <a:custGeom>
              <a:avLst/>
              <a:gdLst/>
              <a:ahLst/>
              <a:rect l="0" t="0" r="r" b="b"/>
              <a:pathLst>
                <a:path w="848" h="504">
                  <a:moveTo>
                    <a:pt x="0" y="344"/>
                  </a:moveTo>
                  <a:lnTo>
                    <a:pt x="239" y="478"/>
                  </a:lnTo>
                  <a:lnTo>
                    <a:pt x="663" y="504"/>
                  </a:lnTo>
                  <a:lnTo>
                    <a:pt x="848" y="265"/>
                  </a:lnTo>
                  <a:lnTo>
                    <a:pt x="848" y="79"/>
                  </a:lnTo>
                  <a:lnTo>
                    <a:pt x="663" y="0"/>
                  </a:lnTo>
                  <a:lnTo>
                    <a:pt x="477" y="265"/>
                  </a:lnTo>
                  <a:lnTo>
                    <a:pt x="185" y="292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9560" y="2654280"/>
              <a:ext cx="482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91120" y="3057480"/>
              <a:ext cx="305280" cy="181440"/>
            </a:xfrm>
            <a:custGeom>
              <a:avLst/>
              <a:gdLst/>
              <a:ahLst/>
              <a:rect l="0" t="0" r="r" b="b"/>
              <a:pathLst>
                <a:path w="848" h="504">
                  <a:moveTo>
                    <a:pt x="0" y="344"/>
                  </a:moveTo>
                  <a:lnTo>
                    <a:pt x="239" y="478"/>
                  </a:lnTo>
                  <a:lnTo>
                    <a:pt x="663" y="504"/>
                  </a:lnTo>
                  <a:lnTo>
                    <a:pt x="848" y="265"/>
                  </a:lnTo>
                  <a:lnTo>
                    <a:pt x="848" y="79"/>
                  </a:lnTo>
                  <a:lnTo>
                    <a:pt x="663" y="0"/>
                  </a:lnTo>
                  <a:lnTo>
                    <a:pt x="477" y="265"/>
                  </a:lnTo>
                  <a:lnTo>
                    <a:pt x="185" y="292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3924360" y="1866960"/>
              <a:ext cx="799920" cy="3816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576520" y="4311720"/>
            <a:ext cx="1968840" cy="763920"/>
            <a:chOff x="2576520" y="4311720"/>
            <a:chExt cx="1968840" cy="763920"/>
          </a:xfrm>
        </p:grpSpPr>
        <p:sp>
          <p:nvSpPr>
            <p:cNvPr id="173" name=""/>
            <p:cNvSpPr/>
            <p:nvPr/>
          </p:nvSpPr>
          <p:spPr>
            <a:xfrm>
              <a:off x="3557520" y="4448160"/>
              <a:ext cx="792360" cy="437040"/>
            </a:xfrm>
            <a:custGeom>
              <a:avLst/>
              <a:gdLst/>
              <a:ahLst/>
              <a:rect l="0" t="0" r="r" b="b"/>
              <a:pathLst>
                <a:path w="2201" h="1214">
                  <a:moveTo>
                    <a:pt x="2170" y="503"/>
                  </a:moveTo>
                  <a:lnTo>
                    <a:pt x="2166" y="516"/>
                  </a:lnTo>
                  <a:lnTo>
                    <a:pt x="2170" y="525"/>
                  </a:lnTo>
                  <a:lnTo>
                    <a:pt x="2166" y="534"/>
                  </a:lnTo>
                  <a:lnTo>
                    <a:pt x="2161" y="552"/>
                  </a:lnTo>
                  <a:lnTo>
                    <a:pt x="2135" y="631"/>
                  </a:lnTo>
                  <a:lnTo>
                    <a:pt x="2086" y="715"/>
                  </a:lnTo>
                  <a:lnTo>
                    <a:pt x="2029" y="794"/>
                  </a:lnTo>
                  <a:lnTo>
                    <a:pt x="1972" y="865"/>
                  </a:lnTo>
                  <a:lnTo>
                    <a:pt x="1910" y="928"/>
                  </a:lnTo>
                  <a:lnTo>
                    <a:pt x="1844" y="980"/>
                  </a:lnTo>
                  <a:lnTo>
                    <a:pt x="1782" y="1016"/>
                  </a:lnTo>
                  <a:lnTo>
                    <a:pt x="1725" y="1033"/>
                  </a:lnTo>
                  <a:lnTo>
                    <a:pt x="1707" y="1038"/>
                  </a:lnTo>
                  <a:lnTo>
                    <a:pt x="1667" y="1051"/>
                  </a:lnTo>
                  <a:lnTo>
                    <a:pt x="1610" y="1073"/>
                  </a:lnTo>
                  <a:lnTo>
                    <a:pt x="1535" y="1091"/>
                  </a:lnTo>
                  <a:lnTo>
                    <a:pt x="1451" y="1122"/>
                  </a:lnTo>
                  <a:lnTo>
                    <a:pt x="1363" y="1152"/>
                  </a:lnTo>
                  <a:lnTo>
                    <a:pt x="1293" y="1170"/>
                  </a:lnTo>
                  <a:lnTo>
                    <a:pt x="1222" y="1183"/>
                  </a:lnTo>
                  <a:lnTo>
                    <a:pt x="1160" y="1197"/>
                  </a:lnTo>
                  <a:lnTo>
                    <a:pt x="1049" y="1210"/>
                  </a:lnTo>
                  <a:lnTo>
                    <a:pt x="943" y="1214"/>
                  </a:lnTo>
                  <a:lnTo>
                    <a:pt x="806" y="1210"/>
                  </a:lnTo>
                  <a:lnTo>
                    <a:pt x="661" y="1214"/>
                  </a:lnTo>
                  <a:lnTo>
                    <a:pt x="507" y="1201"/>
                  </a:lnTo>
                  <a:lnTo>
                    <a:pt x="361" y="1170"/>
                  </a:lnTo>
                  <a:lnTo>
                    <a:pt x="207" y="1144"/>
                  </a:lnTo>
                  <a:lnTo>
                    <a:pt x="97" y="1095"/>
                  </a:lnTo>
                  <a:lnTo>
                    <a:pt x="26" y="1011"/>
                  </a:lnTo>
                  <a:lnTo>
                    <a:pt x="0" y="904"/>
                  </a:lnTo>
                  <a:lnTo>
                    <a:pt x="13" y="781"/>
                  </a:lnTo>
                  <a:lnTo>
                    <a:pt x="57" y="662"/>
                  </a:lnTo>
                  <a:lnTo>
                    <a:pt x="119" y="547"/>
                  </a:lnTo>
                  <a:lnTo>
                    <a:pt x="180" y="455"/>
                  </a:lnTo>
                  <a:lnTo>
                    <a:pt x="251" y="371"/>
                  </a:lnTo>
                  <a:lnTo>
                    <a:pt x="313" y="309"/>
                  </a:lnTo>
                  <a:lnTo>
                    <a:pt x="379" y="260"/>
                  </a:lnTo>
                  <a:lnTo>
                    <a:pt x="471" y="211"/>
                  </a:lnTo>
                  <a:lnTo>
                    <a:pt x="577" y="163"/>
                  </a:lnTo>
                  <a:lnTo>
                    <a:pt x="679" y="127"/>
                  </a:lnTo>
                  <a:lnTo>
                    <a:pt x="776" y="101"/>
                  </a:lnTo>
                  <a:lnTo>
                    <a:pt x="886" y="70"/>
                  </a:lnTo>
                  <a:lnTo>
                    <a:pt x="974" y="57"/>
                  </a:lnTo>
                  <a:lnTo>
                    <a:pt x="1075" y="26"/>
                  </a:lnTo>
                  <a:lnTo>
                    <a:pt x="1200" y="8"/>
                  </a:lnTo>
                  <a:lnTo>
                    <a:pt x="1332" y="4"/>
                  </a:lnTo>
                  <a:lnTo>
                    <a:pt x="1478" y="0"/>
                  </a:lnTo>
                  <a:lnTo>
                    <a:pt x="1614" y="4"/>
                  </a:lnTo>
                  <a:lnTo>
                    <a:pt x="1747" y="13"/>
                  </a:lnTo>
                  <a:lnTo>
                    <a:pt x="1870" y="22"/>
                  </a:lnTo>
                  <a:lnTo>
                    <a:pt x="1980" y="39"/>
                  </a:lnTo>
                  <a:lnTo>
                    <a:pt x="2117" y="92"/>
                  </a:lnTo>
                  <a:lnTo>
                    <a:pt x="2183" y="198"/>
                  </a:lnTo>
                  <a:lnTo>
                    <a:pt x="2201" y="340"/>
                  </a:lnTo>
                  <a:lnTo>
                    <a:pt x="2170" y="503"/>
                  </a:lnTo>
                  <a:close/>
                </a:path>
              </a:pathLst>
            </a:custGeom>
            <a:solidFill>
              <a:srgbClr val="00338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30800" y="461628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85" y="80"/>
                  </a:moveTo>
                  <a:lnTo>
                    <a:pt x="68" y="26"/>
                  </a:lnTo>
                  <a:lnTo>
                    <a:pt x="40" y="0"/>
                  </a:lnTo>
                  <a:lnTo>
                    <a:pt x="4" y="26"/>
                  </a:lnTo>
                  <a:lnTo>
                    <a:pt x="0" y="62"/>
                  </a:lnTo>
                  <a:lnTo>
                    <a:pt x="8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322880" y="46292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61"/>
                  </a:moveTo>
                  <a:lnTo>
                    <a:pt x="81" y="61"/>
                  </a:lnTo>
                  <a:lnTo>
                    <a:pt x="81" y="33"/>
                  </a:lnTo>
                  <a:lnTo>
                    <a:pt x="81" y="16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13" y="0"/>
                  </a:lnTo>
                  <a:lnTo>
                    <a:pt x="8" y="28"/>
                  </a:lnTo>
                  <a:lnTo>
                    <a:pt x="17" y="44"/>
                  </a:lnTo>
                  <a:lnTo>
                    <a:pt x="0" y="56"/>
                  </a:lnTo>
                  <a:lnTo>
                    <a:pt x="0" y="72"/>
                  </a:lnTo>
                  <a:lnTo>
                    <a:pt x="8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64120" y="4643280"/>
              <a:ext cx="192600" cy="182880"/>
            </a:xfrm>
            <a:custGeom>
              <a:avLst/>
              <a:gdLst/>
              <a:ahLst/>
              <a:rect l="0" t="0" r="r" b="b"/>
              <a:pathLst>
                <a:path w="535" h="508">
                  <a:moveTo>
                    <a:pt x="48" y="499"/>
                  </a:moveTo>
                  <a:lnTo>
                    <a:pt x="30" y="508"/>
                  </a:lnTo>
                  <a:lnTo>
                    <a:pt x="105" y="490"/>
                  </a:lnTo>
                  <a:lnTo>
                    <a:pt x="186" y="446"/>
                  </a:lnTo>
                  <a:lnTo>
                    <a:pt x="243" y="393"/>
                  </a:lnTo>
                  <a:lnTo>
                    <a:pt x="318" y="331"/>
                  </a:lnTo>
                  <a:lnTo>
                    <a:pt x="384" y="251"/>
                  </a:lnTo>
                  <a:lnTo>
                    <a:pt x="438" y="167"/>
                  </a:lnTo>
                  <a:lnTo>
                    <a:pt x="487" y="92"/>
                  </a:lnTo>
                  <a:lnTo>
                    <a:pt x="535" y="0"/>
                  </a:lnTo>
                  <a:lnTo>
                    <a:pt x="447" y="17"/>
                  </a:lnTo>
                  <a:lnTo>
                    <a:pt x="416" y="83"/>
                  </a:lnTo>
                  <a:lnTo>
                    <a:pt x="367" y="154"/>
                  </a:lnTo>
                  <a:lnTo>
                    <a:pt x="314" y="242"/>
                  </a:lnTo>
                  <a:lnTo>
                    <a:pt x="265" y="300"/>
                  </a:lnTo>
                  <a:lnTo>
                    <a:pt x="199" y="362"/>
                  </a:lnTo>
                  <a:lnTo>
                    <a:pt x="142" y="406"/>
                  </a:lnTo>
                  <a:lnTo>
                    <a:pt x="88" y="446"/>
                  </a:lnTo>
                  <a:lnTo>
                    <a:pt x="44" y="446"/>
                  </a:lnTo>
                  <a:lnTo>
                    <a:pt x="26" y="455"/>
                  </a:lnTo>
                  <a:lnTo>
                    <a:pt x="44" y="446"/>
                  </a:lnTo>
                  <a:lnTo>
                    <a:pt x="17" y="459"/>
                  </a:lnTo>
                  <a:lnTo>
                    <a:pt x="0" y="486"/>
                  </a:lnTo>
                  <a:lnTo>
                    <a:pt x="13" y="503"/>
                  </a:lnTo>
                  <a:lnTo>
                    <a:pt x="30" y="508"/>
                  </a:lnTo>
                  <a:lnTo>
                    <a:pt x="48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95640" y="4807080"/>
              <a:ext cx="189360" cy="81360"/>
            </a:xfrm>
            <a:custGeom>
              <a:avLst/>
              <a:gdLst/>
              <a:ahLst/>
              <a:rect l="0" t="0" r="r" b="b"/>
              <a:pathLst>
                <a:path w="526" h="226">
                  <a:moveTo>
                    <a:pt x="8" y="226"/>
                  </a:moveTo>
                  <a:lnTo>
                    <a:pt x="8" y="226"/>
                  </a:lnTo>
                  <a:lnTo>
                    <a:pt x="74" y="204"/>
                  </a:lnTo>
                  <a:lnTo>
                    <a:pt x="146" y="178"/>
                  </a:lnTo>
                  <a:lnTo>
                    <a:pt x="230" y="150"/>
                  </a:lnTo>
                  <a:lnTo>
                    <a:pt x="327" y="115"/>
                  </a:lnTo>
                  <a:lnTo>
                    <a:pt x="407" y="89"/>
                  </a:lnTo>
                  <a:lnTo>
                    <a:pt x="473" y="67"/>
                  </a:lnTo>
                  <a:lnTo>
                    <a:pt x="513" y="48"/>
                  </a:lnTo>
                  <a:lnTo>
                    <a:pt x="526" y="39"/>
                  </a:lnTo>
                  <a:lnTo>
                    <a:pt x="504" y="0"/>
                  </a:lnTo>
                  <a:lnTo>
                    <a:pt x="491" y="4"/>
                  </a:lnTo>
                  <a:lnTo>
                    <a:pt x="447" y="22"/>
                  </a:lnTo>
                  <a:lnTo>
                    <a:pt x="384" y="48"/>
                  </a:lnTo>
                  <a:lnTo>
                    <a:pt x="322" y="71"/>
                  </a:lnTo>
                  <a:lnTo>
                    <a:pt x="230" y="93"/>
                  </a:lnTo>
                  <a:lnTo>
                    <a:pt x="142" y="128"/>
                  </a:lnTo>
                  <a:lnTo>
                    <a:pt x="66" y="150"/>
                  </a:lnTo>
                  <a:lnTo>
                    <a:pt x="0" y="168"/>
                  </a:lnTo>
                  <a:lnTo>
                    <a:pt x="8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29160" y="4848120"/>
              <a:ext cx="376560" cy="44640"/>
            </a:xfrm>
            <a:custGeom>
              <a:avLst/>
              <a:gdLst/>
              <a:ahLst/>
              <a:rect l="0" t="0" r="r" b="b"/>
              <a:pathLst>
                <a:path w="1046" h="124">
                  <a:moveTo>
                    <a:pt x="0" y="57"/>
                  </a:moveTo>
                  <a:lnTo>
                    <a:pt x="0" y="57"/>
                  </a:lnTo>
                  <a:lnTo>
                    <a:pt x="149" y="84"/>
                  </a:lnTo>
                  <a:lnTo>
                    <a:pt x="295" y="111"/>
                  </a:lnTo>
                  <a:lnTo>
                    <a:pt x="449" y="120"/>
                  </a:lnTo>
                  <a:lnTo>
                    <a:pt x="609" y="124"/>
                  </a:lnTo>
                  <a:lnTo>
                    <a:pt x="746" y="124"/>
                  </a:lnTo>
                  <a:lnTo>
                    <a:pt x="860" y="111"/>
                  </a:lnTo>
                  <a:lnTo>
                    <a:pt x="966" y="106"/>
                  </a:lnTo>
                  <a:lnTo>
                    <a:pt x="1046" y="93"/>
                  </a:lnTo>
                  <a:lnTo>
                    <a:pt x="1032" y="35"/>
                  </a:lnTo>
                  <a:lnTo>
                    <a:pt x="975" y="48"/>
                  </a:lnTo>
                  <a:lnTo>
                    <a:pt x="878" y="52"/>
                  </a:lnTo>
                  <a:lnTo>
                    <a:pt x="759" y="57"/>
                  </a:lnTo>
                  <a:lnTo>
                    <a:pt x="627" y="61"/>
                  </a:lnTo>
                  <a:lnTo>
                    <a:pt x="485" y="57"/>
                  </a:lnTo>
                  <a:lnTo>
                    <a:pt x="335" y="57"/>
                  </a:lnTo>
                  <a:lnTo>
                    <a:pt x="185" y="22"/>
                  </a:lnTo>
                  <a:lnTo>
                    <a:pt x="35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49600" y="4576680"/>
              <a:ext cx="106560" cy="295560"/>
            </a:xfrm>
            <a:custGeom>
              <a:avLst/>
              <a:gdLst/>
              <a:ahLst/>
              <a:rect l="0" t="0" r="r" b="b"/>
              <a:pathLst>
                <a:path w="296" h="821">
                  <a:moveTo>
                    <a:pt x="239" y="0"/>
                  </a:moveTo>
                  <a:lnTo>
                    <a:pt x="239" y="0"/>
                  </a:lnTo>
                  <a:lnTo>
                    <a:pt x="177" y="92"/>
                  </a:lnTo>
                  <a:lnTo>
                    <a:pt x="105" y="189"/>
                  </a:lnTo>
                  <a:lnTo>
                    <a:pt x="44" y="304"/>
                  </a:lnTo>
                  <a:lnTo>
                    <a:pt x="8" y="433"/>
                  </a:lnTo>
                  <a:lnTo>
                    <a:pt x="0" y="561"/>
                  </a:lnTo>
                  <a:lnTo>
                    <a:pt x="8" y="675"/>
                  </a:lnTo>
                  <a:lnTo>
                    <a:pt x="97" y="759"/>
                  </a:lnTo>
                  <a:lnTo>
                    <a:pt x="217" y="821"/>
                  </a:lnTo>
                  <a:lnTo>
                    <a:pt x="252" y="759"/>
                  </a:lnTo>
                  <a:lnTo>
                    <a:pt x="155" y="710"/>
                  </a:lnTo>
                  <a:lnTo>
                    <a:pt x="101" y="636"/>
                  </a:lnTo>
                  <a:lnTo>
                    <a:pt x="74" y="543"/>
                  </a:lnTo>
                  <a:lnTo>
                    <a:pt x="83" y="424"/>
                  </a:lnTo>
                  <a:lnTo>
                    <a:pt x="114" y="317"/>
                  </a:lnTo>
                  <a:lnTo>
                    <a:pt x="172" y="198"/>
                  </a:lnTo>
                  <a:lnTo>
                    <a:pt x="243" y="101"/>
                  </a:lnTo>
                  <a:lnTo>
                    <a:pt x="296" y="35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38520" y="4456080"/>
              <a:ext cx="286200" cy="132120"/>
            </a:xfrm>
            <a:custGeom>
              <a:avLst/>
              <a:gdLst/>
              <a:ahLst/>
              <a:rect l="0" t="0" r="r" b="b"/>
              <a:pathLst>
                <a:path w="795" h="367">
                  <a:moveTo>
                    <a:pt x="747" y="13"/>
                  </a:moveTo>
                  <a:lnTo>
                    <a:pt x="764" y="0"/>
                  </a:lnTo>
                  <a:lnTo>
                    <a:pt x="659" y="26"/>
                  </a:lnTo>
                  <a:lnTo>
                    <a:pt x="552" y="52"/>
                  </a:lnTo>
                  <a:lnTo>
                    <a:pt x="455" y="92"/>
                  </a:lnTo>
                  <a:lnTo>
                    <a:pt x="353" y="127"/>
                  </a:lnTo>
                  <a:lnTo>
                    <a:pt x="243" y="163"/>
                  </a:lnTo>
                  <a:lnTo>
                    <a:pt x="154" y="225"/>
                  </a:lnTo>
                  <a:lnTo>
                    <a:pt x="74" y="274"/>
                  </a:lnTo>
                  <a:lnTo>
                    <a:pt x="0" y="336"/>
                  </a:lnTo>
                  <a:lnTo>
                    <a:pt x="57" y="367"/>
                  </a:lnTo>
                  <a:lnTo>
                    <a:pt x="114" y="314"/>
                  </a:lnTo>
                  <a:lnTo>
                    <a:pt x="176" y="265"/>
                  </a:lnTo>
                  <a:lnTo>
                    <a:pt x="269" y="217"/>
                  </a:lnTo>
                  <a:lnTo>
                    <a:pt x="375" y="171"/>
                  </a:lnTo>
                  <a:lnTo>
                    <a:pt x="472" y="136"/>
                  </a:lnTo>
                  <a:lnTo>
                    <a:pt x="561" y="101"/>
                  </a:lnTo>
                  <a:lnTo>
                    <a:pt x="667" y="74"/>
                  </a:lnTo>
                  <a:lnTo>
                    <a:pt x="751" y="66"/>
                  </a:lnTo>
                  <a:lnTo>
                    <a:pt x="764" y="61"/>
                  </a:lnTo>
                  <a:lnTo>
                    <a:pt x="751" y="66"/>
                  </a:lnTo>
                  <a:lnTo>
                    <a:pt x="778" y="57"/>
                  </a:lnTo>
                  <a:lnTo>
                    <a:pt x="795" y="22"/>
                  </a:lnTo>
                  <a:lnTo>
                    <a:pt x="786" y="8"/>
                  </a:lnTo>
                  <a:lnTo>
                    <a:pt x="764" y="0"/>
                  </a:lnTo>
                  <a:lnTo>
                    <a:pt x="74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11760" y="4437000"/>
              <a:ext cx="367200" cy="43200"/>
            </a:xfrm>
            <a:custGeom>
              <a:avLst/>
              <a:gdLst/>
              <a:ahLst/>
              <a:rect l="0" t="0" r="r" b="b"/>
              <a:pathLst>
                <a:path w="1020" h="120">
                  <a:moveTo>
                    <a:pt x="1020" y="30"/>
                  </a:moveTo>
                  <a:lnTo>
                    <a:pt x="1020" y="30"/>
                  </a:lnTo>
                  <a:lnTo>
                    <a:pt x="923" y="17"/>
                  </a:lnTo>
                  <a:lnTo>
                    <a:pt x="791" y="13"/>
                  </a:lnTo>
                  <a:lnTo>
                    <a:pt x="662" y="8"/>
                  </a:lnTo>
                  <a:lnTo>
                    <a:pt x="512" y="0"/>
                  </a:lnTo>
                  <a:lnTo>
                    <a:pt x="375" y="8"/>
                  </a:lnTo>
                  <a:lnTo>
                    <a:pt x="238" y="22"/>
                  </a:lnTo>
                  <a:lnTo>
                    <a:pt x="110" y="39"/>
                  </a:lnTo>
                  <a:lnTo>
                    <a:pt x="0" y="67"/>
                  </a:lnTo>
                  <a:lnTo>
                    <a:pt x="22" y="120"/>
                  </a:lnTo>
                  <a:lnTo>
                    <a:pt x="114" y="89"/>
                  </a:lnTo>
                  <a:lnTo>
                    <a:pt x="229" y="80"/>
                  </a:lnTo>
                  <a:lnTo>
                    <a:pt x="358" y="71"/>
                  </a:lnTo>
                  <a:lnTo>
                    <a:pt x="508" y="57"/>
                  </a:lnTo>
                  <a:lnTo>
                    <a:pt x="627" y="67"/>
                  </a:lnTo>
                  <a:lnTo>
                    <a:pt x="759" y="67"/>
                  </a:lnTo>
                  <a:lnTo>
                    <a:pt x="892" y="75"/>
                  </a:lnTo>
                  <a:lnTo>
                    <a:pt x="985" y="93"/>
                  </a:lnTo>
                  <a:lnTo>
                    <a:pt x="102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65640" y="4451400"/>
              <a:ext cx="97200" cy="176400"/>
            </a:xfrm>
            <a:custGeom>
              <a:avLst/>
              <a:gdLst/>
              <a:ahLst/>
              <a:rect l="0" t="0" r="r" b="b"/>
              <a:pathLst>
                <a:path w="270" h="490">
                  <a:moveTo>
                    <a:pt x="248" y="477"/>
                  </a:moveTo>
                  <a:lnTo>
                    <a:pt x="270" y="322"/>
                  </a:lnTo>
                  <a:lnTo>
                    <a:pt x="253" y="171"/>
                  </a:lnTo>
                  <a:lnTo>
                    <a:pt x="186" y="57"/>
                  </a:lnTo>
                  <a:lnTo>
                    <a:pt x="30" y="0"/>
                  </a:lnTo>
                  <a:lnTo>
                    <a:pt x="0" y="57"/>
                  </a:lnTo>
                  <a:lnTo>
                    <a:pt x="128" y="101"/>
                  </a:lnTo>
                  <a:lnTo>
                    <a:pt x="186" y="207"/>
                  </a:lnTo>
                  <a:lnTo>
                    <a:pt x="199" y="340"/>
                  </a:lnTo>
                  <a:lnTo>
                    <a:pt x="172" y="490"/>
                  </a:lnTo>
                  <a:lnTo>
                    <a:pt x="248" y="4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29000" y="462924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0"/>
                  </a:moveTo>
                  <a:lnTo>
                    <a:pt x="13" y="53"/>
                  </a:lnTo>
                  <a:lnTo>
                    <a:pt x="45" y="80"/>
                  </a:lnTo>
                  <a:lnTo>
                    <a:pt x="76" y="53"/>
                  </a:lnTo>
                  <a:lnTo>
                    <a:pt x="8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89520" y="4324320"/>
              <a:ext cx="543240" cy="402120"/>
            </a:xfrm>
            <a:custGeom>
              <a:avLst/>
              <a:gdLst/>
              <a:ahLst/>
              <a:rect l="0" t="0" r="r" b="b"/>
              <a:pathLst>
                <a:path w="1509" h="1117">
                  <a:moveTo>
                    <a:pt x="0" y="353"/>
                  </a:moveTo>
                  <a:lnTo>
                    <a:pt x="74" y="349"/>
                  </a:lnTo>
                  <a:lnTo>
                    <a:pt x="154" y="344"/>
                  </a:lnTo>
                  <a:lnTo>
                    <a:pt x="229" y="344"/>
                  </a:lnTo>
                  <a:lnTo>
                    <a:pt x="299" y="349"/>
                  </a:lnTo>
                  <a:lnTo>
                    <a:pt x="343" y="283"/>
                  </a:lnTo>
                  <a:lnTo>
                    <a:pt x="410" y="238"/>
                  </a:lnTo>
                  <a:lnTo>
                    <a:pt x="476" y="211"/>
                  </a:lnTo>
                  <a:lnTo>
                    <a:pt x="537" y="194"/>
                  </a:lnTo>
                  <a:lnTo>
                    <a:pt x="608" y="189"/>
                  </a:lnTo>
                  <a:lnTo>
                    <a:pt x="670" y="180"/>
                  </a:lnTo>
                  <a:lnTo>
                    <a:pt x="723" y="194"/>
                  </a:lnTo>
                  <a:lnTo>
                    <a:pt x="772" y="185"/>
                  </a:lnTo>
                  <a:lnTo>
                    <a:pt x="830" y="185"/>
                  </a:lnTo>
                  <a:lnTo>
                    <a:pt x="900" y="211"/>
                  </a:lnTo>
                  <a:lnTo>
                    <a:pt x="971" y="242"/>
                  </a:lnTo>
                  <a:lnTo>
                    <a:pt x="1050" y="277"/>
                  </a:lnTo>
                  <a:lnTo>
                    <a:pt x="1121" y="331"/>
                  </a:lnTo>
                  <a:lnTo>
                    <a:pt x="1191" y="380"/>
                  </a:lnTo>
                  <a:lnTo>
                    <a:pt x="1240" y="419"/>
                  </a:lnTo>
                  <a:lnTo>
                    <a:pt x="1271" y="459"/>
                  </a:lnTo>
                  <a:lnTo>
                    <a:pt x="1293" y="525"/>
                  </a:lnTo>
                  <a:lnTo>
                    <a:pt x="1275" y="587"/>
                  </a:lnTo>
                  <a:lnTo>
                    <a:pt x="1262" y="649"/>
                  </a:lnTo>
                  <a:lnTo>
                    <a:pt x="1218" y="719"/>
                  </a:lnTo>
                  <a:lnTo>
                    <a:pt x="1160" y="790"/>
                  </a:lnTo>
                  <a:lnTo>
                    <a:pt x="1099" y="834"/>
                  </a:lnTo>
                  <a:lnTo>
                    <a:pt x="1037" y="879"/>
                  </a:lnTo>
                  <a:lnTo>
                    <a:pt x="971" y="892"/>
                  </a:lnTo>
                  <a:lnTo>
                    <a:pt x="949" y="950"/>
                  </a:lnTo>
                  <a:lnTo>
                    <a:pt x="935" y="1003"/>
                  </a:lnTo>
                  <a:lnTo>
                    <a:pt x="896" y="1060"/>
                  </a:lnTo>
                  <a:lnTo>
                    <a:pt x="856" y="1117"/>
                  </a:lnTo>
                  <a:lnTo>
                    <a:pt x="971" y="1077"/>
                  </a:lnTo>
                  <a:lnTo>
                    <a:pt x="1090" y="1020"/>
                  </a:lnTo>
                  <a:lnTo>
                    <a:pt x="1209" y="945"/>
                  </a:lnTo>
                  <a:lnTo>
                    <a:pt x="1315" y="853"/>
                  </a:lnTo>
                  <a:lnTo>
                    <a:pt x="1412" y="741"/>
                  </a:lnTo>
                  <a:lnTo>
                    <a:pt x="1487" y="631"/>
                  </a:lnTo>
                  <a:lnTo>
                    <a:pt x="1509" y="516"/>
                  </a:lnTo>
                  <a:lnTo>
                    <a:pt x="1509" y="397"/>
                  </a:lnTo>
                  <a:lnTo>
                    <a:pt x="1469" y="292"/>
                  </a:lnTo>
                  <a:lnTo>
                    <a:pt x="1398" y="202"/>
                  </a:lnTo>
                  <a:lnTo>
                    <a:pt x="1319" y="136"/>
                  </a:lnTo>
                  <a:lnTo>
                    <a:pt x="1222" y="79"/>
                  </a:lnTo>
                  <a:lnTo>
                    <a:pt x="1116" y="39"/>
                  </a:lnTo>
                  <a:lnTo>
                    <a:pt x="1010" y="4"/>
                  </a:lnTo>
                  <a:lnTo>
                    <a:pt x="904" y="0"/>
                  </a:lnTo>
                  <a:lnTo>
                    <a:pt x="812" y="0"/>
                  </a:lnTo>
                  <a:lnTo>
                    <a:pt x="714" y="8"/>
                  </a:lnTo>
                  <a:lnTo>
                    <a:pt x="617" y="17"/>
                  </a:lnTo>
                  <a:lnTo>
                    <a:pt x="507" y="39"/>
                  </a:lnTo>
                  <a:lnTo>
                    <a:pt x="401" y="61"/>
                  </a:lnTo>
                  <a:lnTo>
                    <a:pt x="295" y="105"/>
                  </a:lnTo>
                  <a:lnTo>
                    <a:pt x="194" y="163"/>
                  </a:lnTo>
                  <a:lnTo>
                    <a:pt x="97" y="246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00338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90960" y="4437000"/>
              <a:ext cx="120960" cy="25920"/>
            </a:xfrm>
            <a:custGeom>
              <a:avLst/>
              <a:gdLst/>
              <a:ahLst/>
              <a:rect l="0" t="0" r="r" b="b"/>
              <a:pathLst>
                <a:path w="336" h="72">
                  <a:moveTo>
                    <a:pt x="269" y="29"/>
                  </a:moveTo>
                  <a:lnTo>
                    <a:pt x="322" y="0"/>
                  </a:lnTo>
                  <a:lnTo>
                    <a:pt x="230" y="0"/>
                  </a:lnTo>
                  <a:lnTo>
                    <a:pt x="158" y="0"/>
                  </a:lnTo>
                  <a:lnTo>
                    <a:pt x="74" y="0"/>
                  </a:lnTo>
                  <a:lnTo>
                    <a:pt x="4" y="9"/>
                  </a:lnTo>
                  <a:lnTo>
                    <a:pt x="0" y="72"/>
                  </a:lnTo>
                  <a:lnTo>
                    <a:pt x="70" y="67"/>
                  </a:lnTo>
                  <a:lnTo>
                    <a:pt x="149" y="67"/>
                  </a:lnTo>
                  <a:lnTo>
                    <a:pt x="225" y="67"/>
                  </a:lnTo>
                  <a:lnTo>
                    <a:pt x="283" y="58"/>
                  </a:lnTo>
                  <a:lnTo>
                    <a:pt x="336" y="33"/>
                  </a:lnTo>
                  <a:lnTo>
                    <a:pt x="283" y="58"/>
                  </a:lnTo>
                  <a:lnTo>
                    <a:pt x="309" y="63"/>
                  </a:lnTo>
                  <a:lnTo>
                    <a:pt x="336" y="33"/>
                  </a:lnTo>
                  <a:lnTo>
                    <a:pt x="336" y="14"/>
                  </a:lnTo>
                  <a:lnTo>
                    <a:pt x="322" y="0"/>
                  </a:lnTo>
                  <a:lnTo>
                    <a:pt x="26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87800" y="4379760"/>
              <a:ext cx="184680" cy="71640"/>
            </a:xfrm>
            <a:custGeom>
              <a:avLst/>
              <a:gdLst/>
              <a:ahLst/>
              <a:rect l="0" t="0" r="r" b="b"/>
              <a:pathLst>
                <a:path w="513" h="199">
                  <a:moveTo>
                    <a:pt x="513" y="0"/>
                  </a:moveTo>
                  <a:lnTo>
                    <a:pt x="513" y="0"/>
                  </a:lnTo>
                  <a:lnTo>
                    <a:pt x="465" y="4"/>
                  </a:lnTo>
                  <a:lnTo>
                    <a:pt x="412" y="4"/>
                  </a:lnTo>
                  <a:lnTo>
                    <a:pt x="344" y="4"/>
                  </a:lnTo>
                  <a:lnTo>
                    <a:pt x="265" y="17"/>
                  </a:lnTo>
                  <a:lnTo>
                    <a:pt x="203" y="30"/>
                  </a:lnTo>
                  <a:lnTo>
                    <a:pt x="119" y="61"/>
                  </a:lnTo>
                  <a:lnTo>
                    <a:pt x="48" y="115"/>
                  </a:lnTo>
                  <a:lnTo>
                    <a:pt x="0" y="195"/>
                  </a:lnTo>
                  <a:lnTo>
                    <a:pt x="66" y="199"/>
                  </a:lnTo>
                  <a:lnTo>
                    <a:pt x="110" y="146"/>
                  </a:lnTo>
                  <a:lnTo>
                    <a:pt x="146" y="111"/>
                  </a:lnTo>
                  <a:lnTo>
                    <a:pt x="203" y="92"/>
                  </a:lnTo>
                  <a:lnTo>
                    <a:pt x="265" y="74"/>
                  </a:lnTo>
                  <a:lnTo>
                    <a:pt x="331" y="70"/>
                  </a:lnTo>
                  <a:lnTo>
                    <a:pt x="394" y="70"/>
                  </a:lnTo>
                  <a:lnTo>
                    <a:pt x="451" y="74"/>
                  </a:lnTo>
                  <a:lnTo>
                    <a:pt x="504" y="61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64200" y="4381560"/>
              <a:ext cx="195480" cy="119520"/>
            </a:xfrm>
            <a:custGeom>
              <a:avLst/>
              <a:gdLst/>
              <a:ahLst/>
              <a:rect l="0" t="0" r="r" b="b"/>
              <a:pathLst>
                <a:path w="543" h="332">
                  <a:moveTo>
                    <a:pt x="543" y="284"/>
                  </a:moveTo>
                  <a:lnTo>
                    <a:pt x="543" y="284"/>
                  </a:lnTo>
                  <a:lnTo>
                    <a:pt x="508" y="243"/>
                  </a:lnTo>
                  <a:lnTo>
                    <a:pt x="455" y="203"/>
                  </a:lnTo>
                  <a:lnTo>
                    <a:pt x="389" y="155"/>
                  </a:lnTo>
                  <a:lnTo>
                    <a:pt x="318" y="102"/>
                  </a:lnTo>
                  <a:lnTo>
                    <a:pt x="229" y="57"/>
                  </a:lnTo>
                  <a:lnTo>
                    <a:pt x="149" y="35"/>
                  </a:lnTo>
                  <a:lnTo>
                    <a:pt x="74" y="4"/>
                  </a:lnTo>
                  <a:lnTo>
                    <a:pt x="8" y="0"/>
                  </a:lnTo>
                  <a:lnTo>
                    <a:pt x="0" y="61"/>
                  </a:lnTo>
                  <a:lnTo>
                    <a:pt x="39" y="66"/>
                  </a:lnTo>
                  <a:lnTo>
                    <a:pt x="97" y="93"/>
                  </a:lnTo>
                  <a:lnTo>
                    <a:pt x="176" y="115"/>
                  </a:lnTo>
                  <a:lnTo>
                    <a:pt x="251" y="146"/>
                  </a:lnTo>
                  <a:lnTo>
                    <a:pt x="318" y="199"/>
                  </a:lnTo>
                  <a:lnTo>
                    <a:pt x="389" y="253"/>
                  </a:lnTo>
                  <a:lnTo>
                    <a:pt x="437" y="293"/>
                  </a:lnTo>
                  <a:lnTo>
                    <a:pt x="455" y="332"/>
                  </a:lnTo>
                  <a:lnTo>
                    <a:pt x="543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22880" y="4484520"/>
              <a:ext cx="143280" cy="173520"/>
            </a:xfrm>
            <a:custGeom>
              <a:avLst/>
              <a:gdLst/>
              <a:ahLst/>
              <a:rect l="0" t="0" r="r" b="b"/>
              <a:pathLst>
                <a:path w="398" h="482">
                  <a:moveTo>
                    <a:pt x="83" y="447"/>
                  </a:moveTo>
                  <a:lnTo>
                    <a:pt x="39" y="482"/>
                  </a:lnTo>
                  <a:lnTo>
                    <a:pt x="115" y="456"/>
                  </a:lnTo>
                  <a:lnTo>
                    <a:pt x="190" y="412"/>
                  </a:lnTo>
                  <a:lnTo>
                    <a:pt x="265" y="358"/>
                  </a:lnTo>
                  <a:lnTo>
                    <a:pt x="319" y="287"/>
                  </a:lnTo>
                  <a:lnTo>
                    <a:pt x="359" y="217"/>
                  </a:lnTo>
                  <a:lnTo>
                    <a:pt x="385" y="142"/>
                  </a:lnTo>
                  <a:lnTo>
                    <a:pt x="398" y="70"/>
                  </a:lnTo>
                  <a:lnTo>
                    <a:pt x="381" y="0"/>
                  </a:lnTo>
                  <a:lnTo>
                    <a:pt x="296" y="44"/>
                  </a:lnTo>
                  <a:lnTo>
                    <a:pt x="323" y="97"/>
                  </a:lnTo>
                  <a:lnTo>
                    <a:pt x="310" y="155"/>
                  </a:lnTo>
                  <a:lnTo>
                    <a:pt x="292" y="212"/>
                  </a:lnTo>
                  <a:lnTo>
                    <a:pt x="252" y="278"/>
                  </a:lnTo>
                  <a:lnTo>
                    <a:pt x="199" y="331"/>
                  </a:lnTo>
                  <a:lnTo>
                    <a:pt x="155" y="376"/>
                  </a:lnTo>
                  <a:lnTo>
                    <a:pt x="97" y="407"/>
                  </a:lnTo>
                  <a:lnTo>
                    <a:pt x="44" y="420"/>
                  </a:lnTo>
                  <a:lnTo>
                    <a:pt x="0" y="456"/>
                  </a:lnTo>
                  <a:lnTo>
                    <a:pt x="44" y="420"/>
                  </a:lnTo>
                  <a:lnTo>
                    <a:pt x="26" y="429"/>
                  </a:lnTo>
                  <a:lnTo>
                    <a:pt x="0" y="456"/>
                  </a:lnTo>
                  <a:lnTo>
                    <a:pt x="8" y="482"/>
                  </a:lnTo>
                  <a:lnTo>
                    <a:pt x="39" y="482"/>
                  </a:lnTo>
                  <a:lnTo>
                    <a:pt x="83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84720" y="4645080"/>
              <a:ext cx="70200" cy="87840"/>
            </a:xfrm>
            <a:custGeom>
              <a:avLst/>
              <a:gdLst/>
              <a:ahLst/>
              <a:rect l="0" t="0" r="r" b="b"/>
              <a:pathLst>
                <a:path w="195" h="244">
                  <a:moveTo>
                    <a:pt x="35" y="196"/>
                  </a:moveTo>
                  <a:lnTo>
                    <a:pt x="61" y="231"/>
                  </a:lnTo>
                  <a:lnTo>
                    <a:pt x="106" y="172"/>
                  </a:lnTo>
                  <a:lnTo>
                    <a:pt x="146" y="120"/>
                  </a:lnTo>
                  <a:lnTo>
                    <a:pt x="172" y="62"/>
                  </a:lnTo>
                  <a:lnTo>
                    <a:pt x="195" y="0"/>
                  </a:lnTo>
                  <a:lnTo>
                    <a:pt x="111" y="13"/>
                  </a:lnTo>
                  <a:lnTo>
                    <a:pt x="98" y="67"/>
                  </a:lnTo>
                  <a:lnTo>
                    <a:pt x="79" y="115"/>
                  </a:lnTo>
                  <a:lnTo>
                    <a:pt x="39" y="168"/>
                  </a:lnTo>
                  <a:lnTo>
                    <a:pt x="4" y="213"/>
                  </a:lnTo>
                  <a:lnTo>
                    <a:pt x="39" y="244"/>
                  </a:lnTo>
                  <a:lnTo>
                    <a:pt x="4" y="213"/>
                  </a:lnTo>
                  <a:lnTo>
                    <a:pt x="0" y="240"/>
                  </a:lnTo>
                  <a:lnTo>
                    <a:pt x="13" y="240"/>
                  </a:lnTo>
                  <a:lnTo>
                    <a:pt x="39" y="240"/>
                  </a:lnTo>
                  <a:lnTo>
                    <a:pt x="61" y="231"/>
                  </a:lnTo>
                  <a:lnTo>
                    <a:pt x="35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95880" y="4462560"/>
              <a:ext cx="249480" cy="270360"/>
            </a:xfrm>
            <a:custGeom>
              <a:avLst/>
              <a:gdLst/>
              <a:ahLst/>
              <a:rect l="0" t="0" r="r" b="b"/>
              <a:pathLst>
                <a:path w="693" h="751">
                  <a:moveTo>
                    <a:pt x="609" y="30"/>
                  </a:moveTo>
                  <a:lnTo>
                    <a:pt x="609" y="30"/>
                  </a:lnTo>
                  <a:lnTo>
                    <a:pt x="618" y="141"/>
                  </a:lnTo>
                  <a:lnTo>
                    <a:pt x="596" y="239"/>
                  </a:lnTo>
                  <a:lnTo>
                    <a:pt x="521" y="349"/>
                  </a:lnTo>
                  <a:lnTo>
                    <a:pt x="433" y="450"/>
                  </a:lnTo>
                  <a:lnTo>
                    <a:pt x="330" y="538"/>
                  </a:lnTo>
                  <a:lnTo>
                    <a:pt x="220" y="610"/>
                  </a:lnTo>
                  <a:lnTo>
                    <a:pt x="105" y="672"/>
                  </a:lnTo>
                  <a:lnTo>
                    <a:pt x="0" y="698"/>
                  </a:lnTo>
                  <a:lnTo>
                    <a:pt x="8" y="751"/>
                  </a:lnTo>
                  <a:lnTo>
                    <a:pt x="127" y="716"/>
                  </a:lnTo>
                  <a:lnTo>
                    <a:pt x="246" y="659"/>
                  </a:lnTo>
                  <a:lnTo>
                    <a:pt x="371" y="575"/>
                  </a:lnTo>
                  <a:lnTo>
                    <a:pt x="494" y="481"/>
                  </a:lnTo>
                  <a:lnTo>
                    <a:pt x="591" y="358"/>
                  </a:lnTo>
                  <a:lnTo>
                    <a:pt x="658" y="243"/>
                  </a:lnTo>
                  <a:lnTo>
                    <a:pt x="693" y="119"/>
                  </a:lnTo>
                  <a:lnTo>
                    <a:pt x="684" y="0"/>
                  </a:lnTo>
                  <a:lnTo>
                    <a:pt x="60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75000" y="4313160"/>
              <a:ext cx="268560" cy="160560"/>
            </a:xfrm>
            <a:custGeom>
              <a:avLst/>
              <a:gdLst/>
              <a:ahLst/>
              <a:rect l="0" t="0" r="r" b="b"/>
              <a:pathLst>
                <a:path w="746" h="446">
                  <a:moveTo>
                    <a:pt x="0" y="57"/>
                  </a:moveTo>
                  <a:lnTo>
                    <a:pt x="0" y="57"/>
                  </a:lnTo>
                  <a:lnTo>
                    <a:pt x="83" y="61"/>
                  </a:lnTo>
                  <a:lnTo>
                    <a:pt x="185" y="70"/>
                  </a:lnTo>
                  <a:lnTo>
                    <a:pt x="282" y="92"/>
                  </a:lnTo>
                  <a:lnTo>
                    <a:pt x="393" y="136"/>
                  </a:lnTo>
                  <a:lnTo>
                    <a:pt x="486" y="185"/>
                  </a:lnTo>
                  <a:lnTo>
                    <a:pt x="561" y="261"/>
                  </a:lnTo>
                  <a:lnTo>
                    <a:pt x="636" y="340"/>
                  </a:lnTo>
                  <a:lnTo>
                    <a:pt x="671" y="446"/>
                  </a:lnTo>
                  <a:lnTo>
                    <a:pt x="746" y="411"/>
                  </a:lnTo>
                  <a:lnTo>
                    <a:pt x="706" y="305"/>
                  </a:lnTo>
                  <a:lnTo>
                    <a:pt x="622" y="211"/>
                  </a:lnTo>
                  <a:lnTo>
                    <a:pt x="552" y="145"/>
                  </a:lnTo>
                  <a:lnTo>
                    <a:pt x="446" y="74"/>
                  </a:lnTo>
                  <a:lnTo>
                    <a:pt x="339" y="35"/>
                  </a:lnTo>
                  <a:lnTo>
                    <a:pt x="220" y="13"/>
                  </a:lnTo>
                  <a:lnTo>
                    <a:pt x="119" y="0"/>
                  </a:lnTo>
                  <a:lnTo>
                    <a:pt x="8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81600" y="4311720"/>
              <a:ext cx="303480" cy="152640"/>
            </a:xfrm>
            <a:custGeom>
              <a:avLst/>
              <a:gdLst/>
              <a:ahLst/>
              <a:rect l="0" t="0" r="r" b="b"/>
              <a:pathLst>
                <a:path w="843" h="424">
                  <a:moveTo>
                    <a:pt x="39" y="358"/>
                  </a:moveTo>
                  <a:lnTo>
                    <a:pt x="70" y="397"/>
                  </a:lnTo>
                  <a:lnTo>
                    <a:pt x="158" y="292"/>
                  </a:lnTo>
                  <a:lnTo>
                    <a:pt x="242" y="217"/>
                  </a:lnTo>
                  <a:lnTo>
                    <a:pt x="339" y="167"/>
                  </a:lnTo>
                  <a:lnTo>
                    <a:pt x="428" y="123"/>
                  </a:lnTo>
                  <a:lnTo>
                    <a:pt x="543" y="97"/>
                  </a:lnTo>
                  <a:lnTo>
                    <a:pt x="644" y="79"/>
                  </a:lnTo>
                  <a:lnTo>
                    <a:pt x="746" y="74"/>
                  </a:lnTo>
                  <a:lnTo>
                    <a:pt x="834" y="61"/>
                  </a:lnTo>
                  <a:lnTo>
                    <a:pt x="843" y="0"/>
                  </a:lnTo>
                  <a:lnTo>
                    <a:pt x="759" y="8"/>
                  </a:lnTo>
                  <a:lnTo>
                    <a:pt x="653" y="22"/>
                  </a:lnTo>
                  <a:lnTo>
                    <a:pt x="534" y="39"/>
                  </a:lnTo>
                  <a:lnTo>
                    <a:pt x="424" y="61"/>
                  </a:lnTo>
                  <a:lnTo>
                    <a:pt x="313" y="105"/>
                  </a:lnTo>
                  <a:lnTo>
                    <a:pt x="207" y="167"/>
                  </a:lnTo>
                  <a:lnTo>
                    <a:pt x="101" y="256"/>
                  </a:lnTo>
                  <a:lnTo>
                    <a:pt x="0" y="384"/>
                  </a:lnTo>
                  <a:lnTo>
                    <a:pt x="35" y="419"/>
                  </a:lnTo>
                  <a:lnTo>
                    <a:pt x="0" y="384"/>
                  </a:lnTo>
                  <a:lnTo>
                    <a:pt x="0" y="402"/>
                  </a:lnTo>
                  <a:lnTo>
                    <a:pt x="17" y="424"/>
                  </a:lnTo>
                  <a:lnTo>
                    <a:pt x="52" y="411"/>
                  </a:lnTo>
                  <a:lnTo>
                    <a:pt x="70" y="397"/>
                  </a:lnTo>
                  <a:lnTo>
                    <a:pt x="39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87680" y="4583160"/>
              <a:ext cx="1062360" cy="484560"/>
            </a:xfrm>
            <a:custGeom>
              <a:avLst/>
              <a:gdLst/>
              <a:ahLst/>
              <a:rect l="0" t="0" r="r" b="b"/>
              <a:pathLst>
                <a:path w="2951" h="1346">
                  <a:moveTo>
                    <a:pt x="2951" y="0"/>
                  </a:moveTo>
                  <a:lnTo>
                    <a:pt x="2924" y="22"/>
                  </a:lnTo>
                  <a:lnTo>
                    <a:pt x="2907" y="52"/>
                  </a:lnTo>
                  <a:lnTo>
                    <a:pt x="2884" y="74"/>
                  </a:lnTo>
                  <a:lnTo>
                    <a:pt x="2862" y="105"/>
                  </a:lnTo>
                  <a:lnTo>
                    <a:pt x="2792" y="110"/>
                  </a:lnTo>
                  <a:lnTo>
                    <a:pt x="2682" y="110"/>
                  </a:lnTo>
                  <a:lnTo>
                    <a:pt x="2554" y="127"/>
                  </a:lnTo>
                  <a:lnTo>
                    <a:pt x="2399" y="136"/>
                  </a:lnTo>
                  <a:lnTo>
                    <a:pt x="2245" y="154"/>
                  </a:lnTo>
                  <a:lnTo>
                    <a:pt x="2069" y="180"/>
                  </a:lnTo>
                  <a:lnTo>
                    <a:pt x="1883" y="202"/>
                  </a:lnTo>
                  <a:lnTo>
                    <a:pt x="1703" y="229"/>
                  </a:lnTo>
                  <a:lnTo>
                    <a:pt x="1513" y="260"/>
                  </a:lnTo>
                  <a:lnTo>
                    <a:pt x="1336" y="277"/>
                  </a:lnTo>
                  <a:lnTo>
                    <a:pt x="1159" y="304"/>
                  </a:lnTo>
                  <a:lnTo>
                    <a:pt x="1001" y="335"/>
                  </a:lnTo>
                  <a:lnTo>
                    <a:pt x="855" y="358"/>
                  </a:lnTo>
                  <a:lnTo>
                    <a:pt x="736" y="371"/>
                  </a:lnTo>
                  <a:lnTo>
                    <a:pt x="648" y="384"/>
                  </a:lnTo>
                  <a:lnTo>
                    <a:pt x="582" y="393"/>
                  </a:lnTo>
                  <a:lnTo>
                    <a:pt x="454" y="446"/>
                  </a:lnTo>
                  <a:lnTo>
                    <a:pt x="335" y="543"/>
                  </a:lnTo>
                  <a:lnTo>
                    <a:pt x="260" y="653"/>
                  </a:lnTo>
                  <a:lnTo>
                    <a:pt x="207" y="785"/>
                  </a:lnTo>
                  <a:lnTo>
                    <a:pt x="202" y="918"/>
                  </a:lnTo>
                  <a:lnTo>
                    <a:pt x="233" y="1042"/>
                  </a:lnTo>
                  <a:lnTo>
                    <a:pt x="339" y="1130"/>
                  </a:lnTo>
                  <a:lnTo>
                    <a:pt x="502" y="1183"/>
                  </a:lnTo>
                  <a:lnTo>
                    <a:pt x="608" y="1183"/>
                  </a:lnTo>
                  <a:lnTo>
                    <a:pt x="749" y="1179"/>
                  </a:lnTo>
                  <a:lnTo>
                    <a:pt x="886" y="1170"/>
                  </a:lnTo>
                  <a:lnTo>
                    <a:pt x="1058" y="1148"/>
                  </a:lnTo>
                  <a:lnTo>
                    <a:pt x="1217" y="1122"/>
                  </a:lnTo>
                  <a:lnTo>
                    <a:pt x="1397" y="1086"/>
                  </a:lnTo>
                  <a:lnTo>
                    <a:pt x="1575" y="1051"/>
                  </a:lnTo>
                  <a:lnTo>
                    <a:pt x="1760" y="1011"/>
                  </a:lnTo>
                  <a:lnTo>
                    <a:pt x="1928" y="971"/>
                  </a:lnTo>
                  <a:lnTo>
                    <a:pt x="2095" y="931"/>
                  </a:lnTo>
                  <a:lnTo>
                    <a:pt x="2258" y="887"/>
                  </a:lnTo>
                  <a:lnTo>
                    <a:pt x="2404" y="852"/>
                  </a:lnTo>
                  <a:lnTo>
                    <a:pt x="2532" y="812"/>
                  </a:lnTo>
                  <a:lnTo>
                    <a:pt x="2638" y="777"/>
                  </a:lnTo>
                  <a:lnTo>
                    <a:pt x="2730" y="759"/>
                  </a:lnTo>
                  <a:lnTo>
                    <a:pt x="2796" y="733"/>
                  </a:lnTo>
                  <a:lnTo>
                    <a:pt x="2823" y="741"/>
                  </a:lnTo>
                  <a:lnTo>
                    <a:pt x="2849" y="750"/>
                  </a:lnTo>
                  <a:lnTo>
                    <a:pt x="2871" y="763"/>
                  </a:lnTo>
                  <a:lnTo>
                    <a:pt x="2902" y="772"/>
                  </a:lnTo>
                  <a:lnTo>
                    <a:pt x="2792" y="803"/>
                  </a:lnTo>
                  <a:lnTo>
                    <a:pt x="2664" y="847"/>
                  </a:lnTo>
                  <a:lnTo>
                    <a:pt x="2496" y="900"/>
                  </a:lnTo>
                  <a:lnTo>
                    <a:pt x="2324" y="949"/>
                  </a:lnTo>
                  <a:lnTo>
                    <a:pt x="2130" y="1002"/>
                  </a:lnTo>
                  <a:lnTo>
                    <a:pt x="1936" y="1051"/>
                  </a:lnTo>
                  <a:lnTo>
                    <a:pt x="1720" y="1117"/>
                  </a:lnTo>
                  <a:lnTo>
                    <a:pt x="1517" y="1166"/>
                  </a:lnTo>
                  <a:lnTo>
                    <a:pt x="1314" y="1214"/>
                  </a:lnTo>
                  <a:lnTo>
                    <a:pt x="1111" y="1258"/>
                  </a:lnTo>
                  <a:lnTo>
                    <a:pt x="908" y="1294"/>
                  </a:lnTo>
                  <a:lnTo>
                    <a:pt x="740" y="1316"/>
                  </a:lnTo>
                  <a:lnTo>
                    <a:pt x="577" y="1338"/>
                  </a:lnTo>
                  <a:lnTo>
                    <a:pt x="445" y="1346"/>
                  </a:lnTo>
                  <a:lnTo>
                    <a:pt x="343" y="1329"/>
                  </a:lnTo>
                  <a:lnTo>
                    <a:pt x="264" y="1307"/>
                  </a:lnTo>
                  <a:lnTo>
                    <a:pt x="167" y="1227"/>
                  </a:lnTo>
                  <a:lnTo>
                    <a:pt x="83" y="1130"/>
                  </a:lnTo>
                  <a:lnTo>
                    <a:pt x="35" y="1029"/>
                  </a:lnTo>
                  <a:lnTo>
                    <a:pt x="0" y="909"/>
                  </a:lnTo>
                  <a:lnTo>
                    <a:pt x="13" y="785"/>
                  </a:lnTo>
                  <a:lnTo>
                    <a:pt x="79" y="658"/>
                  </a:lnTo>
                  <a:lnTo>
                    <a:pt x="171" y="530"/>
                  </a:lnTo>
                  <a:lnTo>
                    <a:pt x="330" y="402"/>
                  </a:lnTo>
                  <a:lnTo>
                    <a:pt x="414" y="349"/>
                  </a:lnTo>
                  <a:lnTo>
                    <a:pt x="524" y="313"/>
                  </a:lnTo>
                  <a:lnTo>
                    <a:pt x="652" y="273"/>
                  </a:lnTo>
                  <a:lnTo>
                    <a:pt x="798" y="242"/>
                  </a:lnTo>
                  <a:lnTo>
                    <a:pt x="970" y="207"/>
                  </a:lnTo>
                  <a:lnTo>
                    <a:pt x="1146" y="185"/>
                  </a:lnTo>
                  <a:lnTo>
                    <a:pt x="1340" y="154"/>
                  </a:lnTo>
                  <a:lnTo>
                    <a:pt x="1535" y="127"/>
                  </a:lnTo>
                  <a:lnTo>
                    <a:pt x="1738" y="110"/>
                  </a:lnTo>
                  <a:lnTo>
                    <a:pt x="1941" y="92"/>
                  </a:lnTo>
                  <a:lnTo>
                    <a:pt x="2122" y="70"/>
                  </a:lnTo>
                  <a:lnTo>
                    <a:pt x="2320" y="57"/>
                  </a:lnTo>
                  <a:lnTo>
                    <a:pt x="2496" y="39"/>
                  </a:lnTo>
                  <a:lnTo>
                    <a:pt x="2677" y="26"/>
                  </a:lnTo>
                  <a:lnTo>
                    <a:pt x="2818" y="13"/>
                  </a:lnTo>
                  <a:lnTo>
                    <a:pt x="2951" y="0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08280" y="4576680"/>
              <a:ext cx="47880" cy="54360"/>
            </a:xfrm>
            <a:custGeom>
              <a:avLst/>
              <a:gdLst/>
              <a:ahLst/>
              <a:rect l="0" t="0" r="r" b="b"/>
              <a:pathLst>
                <a:path w="133" h="151">
                  <a:moveTo>
                    <a:pt x="17" y="151"/>
                  </a:moveTo>
                  <a:lnTo>
                    <a:pt x="61" y="134"/>
                  </a:lnTo>
                  <a:lnTo>
                    <a:pt x="84" y="102"/>
                  </a:lnTo>
                  <a:lnTo>
                    <a:pt x="98" y="80"/>
                  </a:lnTo>
                  <a:lnTo>
                    <a:pt x="120" y="58"/>
                  </a:lnTo>
                  <a:lnTo>
                    <a:pt x="133" y="35"/>
                  </a:lnTo>
                  <a:lnTo>
                    <a:pt x="75" y="0"/>
                  </a:lnTo>
                  <a:lnTo>
                    <a:pt x="61" y="22"/>
                  </a:lnTo>
                  <a:lnTo>
                    <a:pt x="39" y="49"/>
                  </a:lnTo>
                  <a:lnTo>
                    <a:pt x="26" y="67"/>
                  </a:lnTo>
                  <a:lnTo>
                    <a:pt x="0" y="116"/>
                  </a:lnTo>
                  <a:lnTo>
                    <a:pt x="44" y="93"/>
                  </a:lnTo>
                  <a:lnTo>
                    <a:pt x="0" y="116"/>
                  </a:lnTo>
                  <a:lnTo>
                    <a:pt x="0" y="134"/>
                  </a:lnTo>
                  <a:lnTo>
                    <a:pt x="17" y="151"/>
                  </a:lnTo>
                  <a:lnTo>
                    <a:pt x="44" y="143"/>
                  </a:lnTo>
                  <a:lnTo>
                    <a:pt x="61" y="134"/>
                  </a:lnTo>
                  <a:lnTo>
                    <a:pt x="17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95760" y="4605480"/>
              <a:ext cx="830520" cy="132120"/>
            </a:xfrm>
            <a:custGeom>
              <a:avLst/>
              <a:gdLst/>
              <a:ahLst/>
              <a:rect l="0" t="0" r="r" b="b"/>
              <a:pathLst>
                <a:path w="2307" h="367">
                  <a:moveTo>
                    <a:pt x="8" y="358"/>
                  </a:moveTo>
                  <a:lnTo>
                    <a:pt x="0" y="367"/>
                  </a:lnTo>
                  <a:lnTo>
                    <a:pt x="79" y="349"/>
                  </a:lnTo>
                  <a:lnTo>
                    <a:pt x="154" y="340"/>
                  </a:lnTo>
                  <a:lnTo>
                    <a:pt x="277" y="322"/>
                  </a:lnTo>
                  <a:lnTo>
                    <a:pt x="423" y="300"/>
                  </a:lnTo>
                  <a:lnTo>
                    <a:pt x="582" y="269"/>
                  </a:lnTo>
                  <a:lnTo>
                    <a:pt x="749" y="247"/>
                  </a:lnTo>
                  <a:lnTo>
                    <a:pt x="934" y="217"/>
                  </a:lnTo>
                  <a:lnTo>
                    <a:pt x="1124" y="195"/>
                  </a:lnTo>
                  <a:lnTo>
                    <a:pt x="1310" y="163"/>
                  </a:lnTo>
                  <a:lnTo>
                    <a:pt x="1482" y="136"/>
                  </a:lnTo>
                  <a:lnTo>
                    <a:pt x="1663" y="119"/>
                  </a:lnTo>
                  <a:lnTo>
                    <a:pt x="1831" y="92"/>
                  </a:lnTo>
                  <a:lnTo>
                    <a:pt x="1976" y="79"/>
                  </a:lnTo>
                  <a:lnTo>
                    <a:pt x="2108" y="61"/>
                  </a:lnTo>
                  <a:lnTo>
                    <a:pt x="2210" y="61"/>
                  </a:lnTo>
                  <a:lnTo>
                    <a:pt x="2272" y="61"/>
                  </a:lnTo>
                  <a:lnTo>
                    <a:pt x="2307" y="0"/>
                  </a:lnTo>
                  <a:lnTo>
                    <a:pt x="2223" y="4"/>
                  </a:lnTo>
                  <a:lnTo>
                    <a:pt x="2117" y="4"/>
                  </a:lnTo>
                  <a:lnTo>
                    <a:pt x="1985" y="17"/>
                  </a:lnTo>
                  <a:lnTo>
                    <a:pt x="1835" y="35"/>
                  </a:lnTo>
                  <a:lnTo>
                    <a:pt x="1681" y="57"/>
                  </a:lnTo>
                  <a:lnTo>
                    <a:pt x="1500" y="79"/>
                  </a:lnTo>
                  <a:lnTo>
                    <a:pt x="1319" y="101"/>
                  </a:lnTo>
                  <a:lnTo>
                    <a:pt x="1137" y="127"/>
                  </a:lnTo>
                  <a:lnTo>
                    <a:pt x="948" y="158"/>
                  </a:lnTo>
                  <a:lnTo>
                    <a:pt x="767" y="180"/>
                  </a:lnTo>
                  <a:lnTo>
                    <a:pt x="590" y="212"/>
                  </a:lnTo>
                  <a:lnTo>
                    <a:pt x="432" y="234"/>
                  </a:lnTo>
                  <a:lnTo>
                    <a:pt x="286" y="256"/>
                  </a:lnTo>
                  <a:lnTo>
                    <a:pt x="167" y="274"/>
                  </a:lnTo>
                  <a:lnTo>
                    <a:pt x="66" y="292"/>
                  </a:lnTo>
                  <a:lnTo>
                    <a:pt x="8" y="300"/>
                  </a:lnTo>
                  <a:lnTo>
                    <a:pt x="0" y="305"/>
                  </a:lnTo>
                  <a:lnTo>
                    <a:pt x="8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46360" y="4713120"/>
              <a:ext cx="154440" cy="302040"/>
            </a:xfrm>
            <a:custGeom>
              <a:avLst/>
              <a:gdLst/>
              <a:ahLst/>
              <a:rect l="0" t="0" r="r" b="b"/>
              <a:pathLst>
                <a:path w="429" h="839">
                  <a:moveTo>
                    <a:pt x="363" y="782"/>
                  </a:moveTo>
                  <a:lnTo>
                    <a:pt x="363" y="782"/>
                  </a:lnTo>
                  <a:lnTo>
                    <a:pt x="212" y="738"/>
                  </a:lnTo>
                  <a:lnTo>
                    <a:pt x="111" y="659"/>
                  </a:lnTo>
                  <a:lnTo>
                    <a:pt x="70" y="543"/>
                  </a:lnTo>
                  <a:lnTo>
                    <a:pt x="83" y="419"/>
                  </a:lnTo>
                  <a:lnTo>
                    <a:pt x="133" y="296"/>
                  </a:lnTo>
                  <a:lnTo>
                    <a:pt x="208" y="185"/>
                  </a:lnTo>
                  <a:lnTo>
                    <a:pt x="305" y="101"/>
                  </a:lnTo>
                  <a:lnTo>
                    <a:pt x="429" y="57"/>
                  </a:lnTo>
                  <a:lnTo>
                    <a:pt x="420" y="0"/>
                  </a:lnTo>
                  <a:lnTo>
                    <a:pt x="283" y="52"/>
                  </a:lnTo>
                  <a:lnTo>
                    <a:pt x="146" y="158"/>
                  </a:lnTo>
                  <a:lnTo>
                    <a:pt x="61" y="287"/>
                  </a:lnTo>
                  <a:lnTo>
                    <a:pt x="4" y="428"/>
                  </a:lnTo>
                  <a:lnTo>
                    <a:pt x="0" y="565"/>
                  </a:lnTo>
                  <a:lnTo>
                    <a:pt x="39" y="689"/>
                  </a:lnTo>
                  <a:lnTo>
                    <a:pt x="159" y="791"/>
                  </a:lnTo>
                  <a:lnTo>
                    <a:pt x="328" y="839"/>
                  </a:lnTo>
                  <a:lnTo>
                    <a:pt x="363" y="7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60840" y="4834080"/>
              <a:ext cx="848160" cy="187560"/>
            </a:xfrm>
            <a:custGeom>
              <a:avLst/>
              <a:gdLst/>
              <a:ahLst/>
              <a:rect l="0" t="0" r="r" b="b"/>
              <a:pathLst>
                <a:path w="2356" h="521">
                  <a:moveTo>
                    <a:pt x="2352" y="8"/>
                  </a:moveTo>
                  <a:lnTo>
                    <a:pt x="2308" y="8"/>
                  </a:lnTo>
                  <a:lnTo>
                    <a:pt x="2259" y="26"/>
                  </a:lnTo>
                  <a:lnTo>
                    <a:pt x="2162" y="52"/>
                  </a:lnTo>
                  <a:lnTo>
                    <a:pt x="2052" y="88"/>
                  </a:lnTo>
                  <a:lnTo>
                    <a:pt x="1924" y="127"/>
                  </a:lnTo>
                  <a:lnTo>
                    <a:pt x="1779" y="163"/>
                  </a:lnTo>
                  <a:lnTo>
                    <a:pt x="1614" y="207"/>
                  </a:lnTo>
                  <a:lnTo>
                    <a:pt x="1442" y="246"/>
                  </a:lnTo>
                  <a:lnTo>
                    <a:pt x="1275" y="287"/>
                  </a:lnTo>
                  <a:lnTo>
                    <a:pt x="1090" y="322"/>
                  </a:lnTo>
                  <a:lnTo>
                    <a:pt x="909" y="362"/>
                  </a:lnTo>
                  <a:lnTo>
                    <a:pt x="733" y="397"/>
                  </a:lnTo>
                  <a:lnTo>
                    <a:pt x="577" y="419"/>
                  </a:lnTo>
                  <a:lnTo>
                    <a:pt x="405" y="441"/>
                  </a:lnTo>
                  <a:lnTo>
                    <a:pt x="268" y="459"/>
                  </a:lnTo>
                  <a:lnTo>
                    <a:pt x="127" y="455"/>
                  </a:lnTo>
                  <a:lnTo>
                    <a:pt x="39" y="455"/>
                  </a:lnTo>
                  <a:lnTo>
                    <a:pt x="0" y="512"/>
                  </a:lnTo>
                  <a:lnTo>
                    <a:pt x="123" y="521"/>
                  </a:lnTo>
                  <a:lnTo>
                    <a:pt x="260" y="516"/>
                  </a:lnTo>
                  <a:lnTo>
                    <a:pt x="401" y="503"/>
                  </a:lnTo>
                  <a:lnTo>
                    <a:pt x="564" y="481"/>
                  </a:lnTo>
                  <a:lnTo>
                    <a:pt x="746" y="450"/>
                  </a:lnTo>
                  <a:lnTo>
                    <a:pt x="918" y="424"/>
                  </a:lnTo>
                  <a:lnTo>
                    <a:pt x="1103" y="380"/>
                  </a:lnTo>
                  <a:lnTo>
                    <a:pt x="1275" y="344"/>
                  </a:lnTo>
                  <a:lnTo>
                    <a:pt x="1451" y="300"/>
                  </a:lnTo>
                  <a:lnTo>
                    <a:pt x="1623" y="255"/>
                  </a:lnTo>
                  <a:lnTo>
                    <a:pt x="1779" y="216"/>
                  </a:lnTo>
                  <a:lnTo>
                    <a:pt x="1933" y="180"/>
                  </a:lnTo>
                  <a:lnTo>
                    <a:pt x="2056" y="141"/>
                  </a:lnTo>
                  <a:lnTo>
                    <a:pt x="2175" y="105"/>
                  </a:lnTo>
                  <a:lnTo>
                    <a:pt x="2259" y="83"/>
                  </a:lnTo>
                  <a:lnTo>
                    <a:pt x="2330" y="52"/>
                  </a:lnTo>
                  <a:lnTo>
                    <a:pt x="2295" y="57"/>
                  </a:lnTo>
                  <a:lnTo>
                    <a:pt x="2330" y="52"/>
                  </a:lnTo>
                  <a:lnTo>
                    <a:pt x="2356" y="35"/>
                  </a:lnTo>
                  <a:lnTo>
                    <a:pt x="2356" y="17"/>
                  </a:lnTo>
                  <a:lnTo>
                    <a:pt x="2339" y="0"/>
                  </a:lnTo>
                  <a:lnTo>
                    <a:pt x="2308" y="8"/>
                  </a:lnTo>
                  <a:lnTo>
                    <a:pt x="235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81280" y="4835520"/>
              <a:ext cx="60840" cy="35280"/>
            </a:xfrm>
            <a:custGeom>
              <a:avLst/>
              <a:gdLst/>
              <a:ahLst/>
              <a:rect l="0" t="0" r="r" b="b"/>
              <a:pathLst>
                <a:path w="169" h="98">
                  <a:moveTo>
                    <a:pt x="138" y="98"/>
                  </a:moveTo>
                  <a:lnTo>
                    <a:pt x="160" y="44"/>
                  </a:lnTo>
                  <a:lnTo>
                    <a:pt x="143" y="30"/>
                  </a:lnTo>
                  <a:lnTo>
                    <a:pt x="120" y="13"/>
                  </a:lnTo>
                  <a:lnTo>
                    <a:pt x="84" y="4"/>
                  </a:lnTo>
                  <a:lnTo>
                    <a:pt x="62" y="0"/>
                  </a:lnTo>
                  <a:lnTo>
                    <a:pt x="0" y="58"/>
                  </a:lnTo>
                  <a:lnTo>
                    <a:pt x="26" y="71"/>
                  </a:lnTo>
                  <a:lnTo>
                    <a:pt x="53" y="75"/>
                  </a:lnTo>
                  <a:lnTo>
                    <a:pt x="84" y="93"/>
                  </a:lnTo>
                  <a:lnTo>
                    <a:pt x="120" y="98"/>
                  </a:lnTo>
                  <a:lnTo>
                    <a:pt x="138" y="39"/>
                  </a:lnTo>
                  <a:lnTo>
                    <a:pt x="120" y="98"/>
                  </a:lnTo>
                  <a:lnTo>
                    <a:pt x="138" y="98"/>
                  </a:lnTo>
                  <a:lnTo>
                    <a:pt x="169" y="80"/>
                  </a:lnTo>
                  <a:lnTo>
                    <a:pt x="169" y="67"/>
                  </a:lnTo>
                  <a:lnTo>
                    <a:pt x="160" y="44"/>
                  </a:lnTo>
                  <a:lnTo>
                    <a:pt x="138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74800" y="4849920"/>
              <a:ext cx="959040" cy="225720"/>
            </a:xfrm>
            <a:custGeom>
              <a:avLst/>
              <a:gdLst/>
              <a:ahLst/>
              <a:rect l="0" t="0" r="r" b="b"/>
              <a:pathLst>
                <a:path w="2664" h="627">
                  <a:moveTo>
                    <a:pt x="0" y="583"/>
                  </a:moveTo>
                  <a:lnTo>
                    <a:pt x="4" y="583"/>
                  </a:lnTo>
                  <a:lnTo>
                    <a:pt x="92" y="613"/>
                  </a:lnTo>
                  <a:lnTo>
                    <a:pt x="189" y="627"/>
                  </a:lnTo>
                  <a:lnTo>
                    <a:pt x="330" y="618"/>
                  </a:lnTo>
                  <a:lnTo>
                    <a:pt x="489" y="609"/>
                  </a:lnTo>
                  <a:lnTo>
                    <a:pt x="674" y="578"/>
                  </a:lnTo>
                  <a:lnTo>
                    <a:pt x="868" y="538"/>
                  </a:lnTo>
                  <a:lnTo>
                    <a:pt x="1071" y="490"/>
                  </a:lnTo>
                  <a:lnTo>
                    <a:pt x="1278" y="446"/>
                  </a:lnTo>
                  <a:lnTo>
                    <a:pt x="1482" y="393"/>
                  </a:lnTo>
                  <a:lnTo>
                    <a:pt x="1703" y="331"/>
                  </a:lnTo>
                  <a:lnTo>
                    <a:pt x="1897" y="282"/>
                  </a:lnTo>
                  <a:lnTo>
                    <a:pt x="2095" y="229"/>
                  </a:lnTo>
                  <a:lnTo>
                    <a:pt x="2267" y="180"/>
                  </a:lnTo>
                  <a:lnTo>
                    <a:pt x="2435" y="123"/>
                  </a:lnTo>
                  <a:lnTo>
                    <a:pt x="2558" y="88"/>
                  </a:lnTo>
                  <a:lnTo>
                    <a:pt x="2664" y="57"/>
                  </a:lnTo>
                  <a:lnTo>
                    <a:pt x="2664" y="0"/>
                  </a:lnTo>
                  <a:lnTo>
                    <a:pt x="2554" y="35"/>
                  </a:lnTo>
                  <a:lnTo>
                    <a:pt x="2426" y="70"/>
                  </a:lnTo>
                  <a:lnTo>
                    <a:pt x="2258" y="127"/>
                  </a:lnTo>
                  <a:lnTo>
                    <a:pt x="2082" y="176"/>
                  </a:lnTo>
                  <a:lnTo>
                    <a:pt x="1888" y="224"/>
                  </a:lnTo>
                  <a:lnTo>
                    <a:pt x="1694" y="277"/>
                  </a:lnTo>
                  <a:lnTo>
                    <a:pt x="1478" y="344"/>
                  </a:lnTo>
                  <a:lnTo>
                    <a:pt x="1274" y="389"/>
                  </a:lnTo>
                  <a:lnTo>
                    <a:pt x="1067" y="441"/>
                  </a:lnTo>
                  <a:lnTo>
                    <a:pt x="868" y="481"/>
                  </a:lnTo>
                  <a:lnTo>
                    <a:pt x="674" y="521"/>
                  </a:lnTo>
                  <a:lnTo>
                    <a:pt x="502" y="543"/>
                  </a:lnTo>
                  <a:lnTo>
                    <a:pt x="348" y="552"/>
                  </a:lnTo>
                  <a:lnTo>
                    <a:pt x="224" y="569"/>
                  </a:lnTo>
                  <a:lnTo>
                    <a:pt x="114" y="552"/>
                  </a:lnTo>
                  <a:lnTo>
                    <a:pt x="61" y="530"/>
                  </a:lnTo>
                  <a:lnTo>
                    <a:pt x="61" y="534"/>
                  </a:lnTo>
                  <a:lnTo>
                    <a:pt x="0" y="5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76520" y="4716360"/>
              <a:ext cx="138600" cy="343440"/>
            </a:xfrm>
            <a:custGeom>
              <a:avLst/>
              <a:gdLst/>
              <a:ahLst/>
              <a:rect l="0" t="0" r="r" b="b"/>
              <a:pathLst>
                <a:path w="385" h="954">
                  <a:moveTo>
                    <a:pt x="337" y="0"/>
                  </a:moveTo>
                  <a:lnTo>
                    <a:pt x="337" y="0"/>
                  </a:lnTo>
                  <a:lnTo>
                    <a:pt x="177" y="132"/>
                  </a:lnTo>
                  <a:lnTo>
                    <a:pt x="74" y="278"/>
                  </a:lnTo>
                  <a:lnTo>
                    <a:pt x="13" y="411"/>
                  </a:lnTo>
                  <a:lnTo>
                    <a:pt x="0" y="543"/>
                  </a:lnTo>
                  <a:lnTo>
                    <a:pt x="30" y="671"/>
                  </a:lnTo>
                  <a:lnTo>
                    <a:pt x="79" y="773"/>
                  </a:lnTo>
                  <a:lnTo>
                    <a:pt x="172" y="870"/>
                  </a:lnTo>
                  <a:lnTo>
                    <a:pt x="278" y="954"/>
                  </a:lnTo>
                  <a:lnTo>
                    <a:pt x="337" y="905"/>
                  </a:lnTo>
                  <a:lnTo>
                    <a:pt x="234" y="826"/>
                  </a:lnTo>
                  <a:lnTo>
                    <a:pt x="146" y="738"/>
                  </a:lnTo>
                  <a:lnTo>
                    <a:pt x="98" y="636"/>
                  </a:lnTo>
                  <a:lnTo>
                    <a:pt x="74" y="516"/>
                  </a:lnTo>
                  <a:lnTo>
                    <a:pt x="92" y="406"/>
                  </a:lnTo>
                  <a:lnTo>
                    <a:pt x="142" y="287"/>
                  </a:lnTo>
                  <a:lnTo>
                    <a:pt x="234" y="158"/>
                  </a:lnTo>
                  <a:lnTo>
                    <a:pt x="385" y="39"/>
                  </a:lnTo>
                  <a:lnTo>
                    <a:pt x="3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00360" y="4568760"/>
              <a:ext cx="962280" cy="159120"/>
            </a:xfrm>
            <a:custGeom>
              <a:avLst/>
              <a:gdLst/>
              <a:ahLst/>
              <a:rect l="0" t="0" r="r" b="b"/>
              <a:pathLst>
                <a:path w="2673" h="442">
                  <a:moveTo>
                    <a:pt x="2668" y="48"/>
                  </a:moveTo>
                  <a:lnTo>
                    <a:pt x="2646" y="0"/>
                  </a:lnTo>
                  <a:lnTo>
                    <a:pt x="2514" y="13"/>
                  </a:lnTo>
                  <a:lnTo>
                    <a:pt x="2373" y="26"/>
                  </a:lnTo>
                  <a:lnTo>
                    <a:pt x="2201" y="39"/>
                  </a:lnTo>
                  <a:lnTo>
                    <a:pt x="2025" y="52"/>
                  </a:lnTo>
                  <a:lnTo>
                    <a:pt x="1831" y="74"/>
                  </a:lnTo>
                  <a:lnTo>
                    <a:pt x="1641" y="92"/>
                  </a:lnTo>
                  <a:lnTo>
                    <a:pt x="1438" y="105"/>
                  </a:lnTo>
                  <a:lnTo>
                    <a:pt x="1234" y="128"/>
                  </a:lnTo>
                  <a:lnTo>
                    <a:pt x="1036" y="155"/>
                  </a:lnTo>
                  <a:lnTo>
                    <a:pt x="842" y="186"/>
                  </a:lnTo>
                  <a:lnTo>
                    <a:pt x="661" y="203"/>
                  </a:lnTo>
                  <a:lnTo>
                    <a:pt x="480" y="243"/>
                  </a:lnTo>
                  <a:lnTo>
                    <a:pt x="339" y="278"/>
                  </a:lnTo>
                  <a:lnTo>
                    <a:pt x="211" y="314"/>
                  </a:lnTo>
                  <a:lnTo>
                    <a:pt x="92" y="354"/>
                  </a:lnTo>
                  <a:lnTo>
                    <a:pt x="0" y="412"/>
                  </a:lnTo>
                  <a:lnTo>
                    <a:pt x="44" y="442"/>
                  </a:lnTo>
                  <a:lnTo>
                    <a:pt x="114" y="407"/>
                  </a:lnTo>
                  <a:lnTo>
                    <a:pt x="220" y="368"/>
                  </a:lnTo>
                  <a:lnTo>
                    <a:pt x="348" y="337"/>
                  </a:lnTo>
                  <a:lnTo>
                    <a:pt x="498" y="296"/>
                  </a:lnTo>
                  <a:lnTo>
                    <a:pt x="648" y="274"/>
                  </a:lnTo>
                  <a:lnTo>
                    <a:pt x="824" y="247"/>
                  </a:lnTo>
                  <a:lnTo>
                    <a:pt x="1023" y="212"/>
                  </a:lnTo>
                  <a:lnTo>
                    <a:pt x="1225" y="195"/>
                  </a:lnTo>
                  <a:lnTo>
                    <a:pt x="1425" y="177"/>
                  </a:lnTo>
                  <a:lnTo>
                    <a:pt x="1623" y="150"/>
                  </a:lnTo>
                  <a:lnTo>
                    <a:pt x="1817" y="133"/>
                  </a:lnTo>
                  <a:lnTo>
                    <a:pt x="2007" y="115"/>
                  </a:lnTo>
                  <a:lnTo>
                    <a:pt x="2192" y="101"/>
                  </a:lnTo>
                  <a:lnTo>
                    <a:pt x="2355" y="88"/>
                  </a:lnTo>
                  <a:lnTo>
                    <a:pt x="2501" y="83"/>
                  </a:lnTo>
                  <a:lnTo>
                    <a:pt x="2633" y="70"/>
                  </a:lnTo>
                  <a:lnTo>
                    <a:pt x="2607" y="17"/>
                  </a:lnTo>
                  <a:lnTo>
                    <a:pt x="2633" y="70"/>
                  </a:lnTo>
                  <a:lnTo>
                    <a:pt x="2660" y="52"/>
                  </a:lnTo>
                  <a:lnTo>
                    <a:pt x="2673" y="22"/>
                  </a:lnTo>
                  <a:lnTo>
                    <a:pt x="2668" y="8"/>
                  </a:lnTo>
                  <a:lnTo>
                    <a:pt x="2646" y="0"/>
                  </a:lnTo>
                  <a:lnTo>
                    <a:pt x="266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60760" y="4616280"/>
              <a:ext cx="960840" cy="390960"/>
            </a:xfrm>
            <a:custGeom>
              <a:avLst/>
              <a:gdLst/>
              <a:ahLst/>
              <a:rect l="0" t="0" r="r" b="b"/>
              <a:pathLst>
                <a:path w="2669" h="1086">
                  <a:moveTo>
                    <a:pt x="2599" y="631"/>
                  </a:moveTo>
                  <a:lnTo>
                    <a:pt x="2542" y="574"/>
                  </a:lnTo>
                  <a:lnTo>
                    <a:pt x="2506" y="503"/>
                  </a:lnTo>
                  <a:lnTo>
                    <a:pt x="2502" y="428"/>
                  </a:lnTo>
                  <a:lnTo>
                    <a:pt x="2506" y="340"/>
                  </a:lnTo>
                  <a:lnTo>
                    <a:pt x="2537" y="246"/>
                  </a:lnTo>
                  <a:lnTo>
                    <a:pt x="2572" y="167"/>
                  </a:lnTo>
                  <a:lnTo>
                    <a:pt x="2621" y="70"/>
                  </a:lnTo>
                  <a:lnTo>
                    <a:pt x="2669" y="0"/>
                  </a:lnTo>
                  <a:lnTo>
                    <a:pt x="2590" y="4"/>
                  </a:lnTo>
                  <a:lnTo>
                    <a:pt x="2489" y="8"/>
                  </a:lnTo>
                  <a:lnTo>
                    <a:pt x="2352" y="22"/>
                  </a:lnTo>
                  <a:lnTo>
                    <a:pt x="2202" y="35"/>
                  </a:lnTo>
                  <a:lnTo>
                    <a:pt x="2048" y="52"/>
                  </a:lnTo>
                  <a:lnTo>
                    <a:pt x="1870" y="79"/>
                  </a:lnTo>
                  <a:lnTo>
                    <a:pt x="1685" y="97"/>
                  </a:lnTo>
                  <a:lnTo>
                    <a:pt x="1500" y="127"/>
                  </a:lnTo>
                  <a:lnTo>
                    <a:pt x="1315" y="154"/>
                  </a:lnTo>
                  <a:lnTo>
                    <a:pt x="1138" y="171"/>
                  </a:lnTo>
                  <a:lnTo>
                    <a:pt x="957" y="202"/>
                  </a:lnTo>
                  <a:lnTo>
                    <a:pt x="799" y="229"/>
                  </a:lnTo>
                  <a:lnTo>
                    <a:pt x="652" y="255"/>
                  </a:lnTo>
                  <a:lnTo>
                    <a:pt x="533" y="268"/>
                  </a:lnTo>
                  <a:lnTo>
                    <a:pt x="454" y="287"/>
                  </a:lnTo>
                  <a:lnTo>
                    <a:pt x="379" y="292"/>
                  </a:lnTo>
                  <a:lnTo>
                    <a:pt x="251" y="340"/>
                  </a:lnTo>
                  <a:lnTo>
                    <a:pt x="136" y="441"/>
                  </a:lnTo>
                  <a:lnTo>
                    <a:pt x="57" y="552"/>
                  </a:lnTo>
                  <a:lnTo>
                    <a:pt x="4" y="680"/>
                  </a:lnTo>
                  <a:lnTo>
                    <a:pt x="0" y="817"/>
                  </a:lnTo>
                  <a:lnTo>
                    <a:pt x="30" y="941"/>
                  </a:lnTo>
                  <a:lnTo>
                    <a:pt x="136" y="1029"/>
                  </a:lnTo>
                  <a:lnTo>
                    <a:pt x="299" y="1077"/>
                  </a:lnTo>
                  <a:lnTo>
                    <a:pt x="410" y="1086"/>
                  </a:lnTo>
                  <a:lnTo>
                    <a:pt x="546" y="1077"/>
                  </a:lnTo>
                  <a:lnTo>
                    <a:pt x="684" y="1069"/>
                  </a:lnTo>
                  <a:lnTo>
                    <a:pt x="860" y="1047"/>
                  </a:lnTo>
                  <a:lnTo>
                    <a:pt x="1024" y="1020"/>
                  </a:lnTo>
                  <a:lnTo>
                    <a:pt x="1196" y="985"/>
                  </a:lnTo>
                  <a:lnTo>
                    <a:pt x="1381" y="945"/>
                  </a:lnTo>
                  <a:lnTo>
                    <a:pt x="1557" y="910"/>
                  </a:lnTo>
                  <a:lnTo>
                    <a:pt x="1725" y="870"/>
                  </a:lnTo>
                  <a:lnTo>
                    <a:pt x="1901" y="831"/>
                  </a:lnTo>
                  <a:lnTo>
                    <a:pt x="2061" y="785"/>
                  </a:lnTo>
                  <a:lnTo>
                    <a:pt x="2211" y="750"/>
                  </a:lnTo>
                  <a:lnTo>
                    <a:pt x="2334" y="710"/>
                  </a:lnTo>
                  <a:lnTo>
                    <a:pt x="2449" y="675"/>
                  </a:lnTo>
                  <a:lnTo>
                    <a:pt x="2533" y="658"/>
                  </a:lnTo>
                  <a:lnTo>
                    <a:pt x="2599" y="631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46360" y="4608360"/>
              <a:ext cx="82800" cy="243360"/>
            </a:xfrm>
            <a:custGeom>
              <a:avLst/>
              <a:gdLst/>
              <a:ahLst/>
              <a:rect l="0" t="0" r="r" b="b"/>
              <a:pathLst>
                <a:path w="230" h="676">
                  <a:moveTo>
                    <a:pt x="177" y="57"/>
                  </a:moveTo>
                  <a:lnTo>
                    <a:pt x="159" y="22"/>
                  </a:lnTo>
                  <a:lnTo>
                    <a:pt x="114" y="97"/>
                  </a:lnTo>
                  <a:lnTo>
                    <a:pt x="74" y="177"/>
                  </a:lnTo>
                  <a:lnTo>
                    <a:pt x="44" y="274"/>
                  </a:lnTo>
                  <a:lnTo>
                    <a:pt x="8" y="358"/>
                  </a:lnTo>
                  <a:lnTo>
                    <a:pt x="0" y="455"/>
                  </a:lnTo>
                  <a:lnTo>
                    <a:pt x="13" y="544"/>
                  </a:lnTo>
                  <a:lnTo>
                    <a:pt x="44" y="614"/>
                  </a:lnTo>
                  <a:lnTo>
                    <a:pt x="110" y="676"/>
                  </a:lnTo>
                  <a:lnTo>
                    <a:pt x="168" y="632"/>
                  </a:lnTo>
                  <a:lnTo>
                    <a:pt x="120" y="575"/>
                  </a:lnTo>
                  <a:lnTo>
                    <a:pt x="83" y="509"/>
                  </a:lnTo>
                  <a:lnTo>
                    <a:pt x="74" y="441"/>
                  </a:lnTo>
                  <a:lnTo>
                    <a:pt x="88" y="353"/>
                  </a:lnTo>
                  <a:lnTo>
                    <a:pt x="114" y="269"/>
                  </a:lnTo>
                  <a:lnTo>
                    <a:pt x="146" y="186"/>
                  </a:lnTo>
                  <a:lnTo>
                    <a:pt x="186" y="105"/>
                  </a:lnTo>
                  <a:lnTo>
                    <a:pt x="230" y="35"/>
                  </a:lnTo>
                  <a:lnTo>
                    <a:pt x="212" y="0"/>
                  </a:lnTo>
                  <a:lnTo>
                    <a:pt x="230" y="35"/>
                  </a:lnTo>
                  <a:lnTo>
                    <a:pt x="225" y="8"/>
                  </a:lnTo>
                  <a:lnTo>
                    <a:pt x="212" y="0"/>
                  </a:lnTo>
                  <a:lnTo>
                    <a:pt x="190" y="0"/>
                  </a:lnTo>
                  <a:lnTo>
                    <a:pt x="159" y="22"/>
                  </a:lnTo>
                  <a:lnTo>
                    <a:pt x="177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95760" y="4605480"/>
              <a:ext cx="830520" cy="132120"/>
            </a:xfrm>
            <a:custGeom>
              <a:avLst/>
              <a:gdLst/>
              <a:ahLst/>
              <a:rect l="0" t="0" r="r" b="b"/>
              <a:pathLst>
                <a:path w="2307" h="367">
                  <a:moveTo>
                    <a:pt x="8" y="358"/>
                  </a:moveTo>
                  <a:lnTo>
                    <a:pt x="0" y="367"/>
                  </a:lnTo>
                  <a:lnTo>
                    <a:pt x="79" y="349"/>
                  </a:lnTo>
                  <a:lnTo>
                    <a:pt x="154" y="340"/>
                  </a:lnTo>
                  <a:lnTo>
                    <a:pt x="277" y="322"/>
                  </a:lnTo>
                  <a:lnTo>
                    <a:pt x="423" y="300"/>
                  </a:lnTo>
                  <a:lnTo>
                    <a:pt x="582" y="269"/>
                  </a:lnTo>
                  <a:lnTo>
                    <a:pt x="749" y="247"/>
                  </a:lnTo>
                  <a:lnTo>
                    <a:pt x="934" y="217"/>
                  </a:lnTo>
                  <a:lnTo>
                    <a:pt x="1124" y="195"/>
                  </a:lnTo>
                  <a:lnTo>
                    <a:pt x="1310" y="163"/>
                  </a:lnTo>
                  <a:lnTo>
                    <a:pt x="1482" y="136"/>
                  </a:lnTo>
                  <a:lnTo>
                    <a:pt x="1663" y="119"/>
                  </a:lnTo>
                  <a:lnTo>
                    <a:pt x="1831" y="92"/>
                  </a:lnTo>
                  <a:lnTo>
                    <a:pt x="1976" y="79"/>
                  </a:lnTo>
                  <a:lnTo>
                    <a:pt x="2108" y="61"/>
                  </a:lnTo>
                  <a:lnTo>
                    <a:pt x="2210" y="61"/>
                  </a:lnTo>
                  <a:lnTo>
                    <a:pt x="2272" y="61"/>
                  </a:lnTo>
                  <a:lnTo>
                    <a:pt x="2307" y="0"/>
                  </a:lnTo>
                  <a:lnTo>
                    <a:pt x="2223" y="4"/>
                  </a:lnTo>
                  <a:lnTo>
                    <a:pt x="2117" y="4"/>
                  </a:lnTo>
                  <a:lnTo>
                    <a:pt x="1985" y="17"/>
                  </a:lnTo>
                  <a:lnTo>
                    <a:pt x="1835" y="35"/>
                  </a:lnTo>
                  <a:lnTo>
                    <a:pt x="1681" y="57"/>
                  </a:lnTo>
                  <a:lnTo>
                    <a:pt x="1500" y="79"/>
                  </a:lnTo>
                  <a:lnTo>
                    <a:pt x="1319" y="101"/>
                  </a:lnTo>
                  <a:lnTo>
                    <a:pt x="1137" y="127"/>
                  </a:lnTo>
                  <a:lnTo>
                    <a:pt x="948" y="158"/>
                  </a:lnTo>
                  <a:lnTo>
                    <a:pt x="767" y="180"/>
                  </a:lnTo>
                  <a:lnTo>
                    <a:pt x="590" y="212"/>
                  </a:lnTo>
                  <a:lnTo>
                    <a:pt x="432" y="234"/>
                  </a:lnTo>
                  <a:lnTo>
                    <a:pt x="286" y="256"/>
                  </a:lnTo>
                  <a:lnTo>
                    <a:pt x="167" y="274"/>
                  </a:lnTo>
                  <a:lnTo>
                    <a:pt x="66" y="292"/>
                  </a:lnTo>
                  <a:lnTo>
                    <a:pt x="8" y="300"/>
                  </a:lnTo>
                  <a:lnTo>
                    <a:pt x="0" y="305"/>
                  </a:lnTo>
                  <a:lnTo>
                    <a:pt x="8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46360" y="4713120"/>
              <a:ext cx="154440" cy="302040"/>
            </a:xfrm>
            <a:custGeom>
              <a:avLst/>
              <a:gdLst/>
              <a:ahLst/>
              <a:rect l="0" t="0" r="r" b="b"/>
              <a:pathLst>
                <a:path w="429" h="839">
                  <a:moveTo>
                    <a:pt x="363" y="782"/>
                  </a:moveTo>
                  <a:lnTo>
                    <a:pt x="363" y="782"/>
                  </a:lnTo>
                  <a:lnTo>
                    <a:pt x="212" y="738"/>
                  </a:lnTo>
                  <a:lnTo>
                    <a:pt x="111" y="659"/>
                  </a:lnTo>
                  <a:lnTo>
                    <a:pt x="70" y="543"/>
                  </a:lnTo>
                  <a:lnTo>
                    <a:pt x="83" y="419"/>
                  </a:lnTo>
                  <a:lnTo>
                    <a:pt x="133" y="296"/>
                  </a:lnTo>
                  <a:lnTo>
                    <a:pt x="208" y="185"/>
                  </a:lnTo>
                  <a:lnTo>
                    <a:pt x="305" y="101"/>
                  </a:lnTo>
                  <a:lnTo>
                    <a:pt x="429" y="57"/>
                  </a:lnTo>
                  <a:lnTo>
                    <a:pt x="420" y="0"/>
                  </a:lnTo>
                  <a:lnTo>
                    <a:pt x="283" y="52"/>
                  </a:lnTo>
                  <a:lnTo>
                    <a:pt x="146" y="158"/>
                  </a:lnTo>
                  <a:lnTo>
                    <a:pt x="61" y="287"/>
                  </a:lnTo>
                  <a:lnTo>
                    <a:pt x="4" y="428"/>
                  </a:lnTo>
                  <a:lnTo>
                    <a:pt x="0" y="565"/>
                  </a:lnTo>
                  <a:lnTo>
                    <a:pt x="39" y="689"/>
                  </a:lnTo>
                  <a:lnTo>
                    <a:pt x="159" y="791"/>
                  </a:lnTo>
                  <a:lnTo>
                    <a:pt x="328" y="839"/>
                  </a:lnTo>
                  <a:lnTo>
                    <a:pt x="363" y="7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60840" y="4834080"/>
              <a:ext cx="848160" cy="187560"/>
            </a:xfrm>
            <a:custGeom>
              <a:avLst/>
              <a:gdLst/>
              <a:ahLst/>
              <a:rect l="0" t="0" r="r" b="b"/>
              <a:pathLst>
                <a:path w="2356" h="521">
                  <a:moveTo>
                    <a:pt x="2290" y="52"/>
                  </a:moveTo>
                  <a:lnTo>
                    <a:pt x="2308" y="8"/>
                  </a:lnTo>
                  <a:lnTo>
                    <a:pt x="2259" y="26"/>
                  </a:lnTo>
                  <a:lnTo>
                    <a:pt x="2162" y="52"/>
                  </a:lnTo>
                  <a:lnTo>
                    <a:pt x="2052" y="88"/>
                  </a:lnTo>
                  <a:lnTo>
                    <a:pt x="1924" y="127"/>
                  </a:lnTo>
                  <a:lnTo>
                    <a:pt x="1779" y="163"/>
                  </a:lnTo>
                  <a:lnTo>
                    <a:pt x="1614" y="207"/>
                  </a:lnTo>
                  <a:lnTo>
                    <a:pt x="1442" y="246"/>
                  </a:lnTo>
                  <a:lnTo>
                    <a:pt x="1275" y="287"/>
                  </a:lnTo>
                  <a:lnTo>
                    <a:pt x="1090" y="322"/>
                  </a:lnTo>
                  <a:lnTo>
                    <a:pt x="909" y="362"/>
                  </a:lnTo>
                  <a:lnTo>
                    <a:pt x="733" y="397"/>
                  </a:lnTo>
                  <a:lnTo>
                    <a:pt x="577" y="419"/>
                  </a:lnTo>
                  <a:lnTo>
                    <a:pt x="405" y="441"/>
                  </a:lnTo>
                  <a:lnTo>
                    <a:pt x="268" y="459"/>
                  </a:lnTo>
                  <a:lnTo>
                    <a:pt x="127" y="455"/>
                  </a:lnTo>
                  <a:lnTo>
                    <a:pt x="39" y="455"/>
                  </a:lnTo>
                  <a:lnTo>
                    <a:pt x="0" y="512"/>
                  </a:lnTo>
                  <a:lnTo>
                    <a:pt x="123" y="521"/>
                  </a:lnTo>
                  <a:lnTo>
                    <a:pt x="260" y="516"/>
                  </a:lnTo>
                  <a:lnTo>
                    <a:pt x="401" y="503"/>
                  </a:lnTo>
                  <a:lnTo>
                    <a:pt x="564" y="481"/>
                  </a:lnTo>
                  <a:lnTo>
                    <a:pt x="746" y="450"/>
                  </a:lnTo>
                  <a:lnTo>
                    <a:pt x="918" y="424"/>
                  </a:lnTo>
                  <a:lnTo>
                    <a:pt x="1103" y="380"/>
                  </a:lnTo>
                  <a:lnTo>
                    <a:pt x="1275" y="344"/>
                  </a:lnTo>
                  <a:lnTo>
                    <a:pt x="1451" y="300"/>
                  </a:lnTo>
                  <a:lnTo>
                    <a:pt x="1623" y="255"/>
                  </a:lnTo>
                  <a:lnTo>
                    <a:pt x="1779" y="216"/>
                  </a:lnTo>
                  <a:lnTo>
                    <a:pt x="1933" y="180"/>
                  </a:lnTo>
                  <a:lnTo>
                    <a:pt x="2056" y="141"/>
                  </a:lnTo>
                  <a:lnTo>
                    <a:pt x="2175" y="105"/>
                  </a:lnTo>
                  <a:lnTo>
                    <a:pt x="2259" y="83"/>
                  </a:lnTo>
                  <a:lnTo>
                    <a:pt x="2330" y="52"/>
                  </a:lnTo>
                  <a:lnTo>
                    <a:pt x="2356" y="13"/>
                  </a:lnTo>
                  <a:lnTo>
                    <a:pt x="2330" y="52"/>
                  </a:lnTo>
                  <a:lnTo>
                    <a:pt x="2356" y="35"/>
                  </a:lnTo>
                  <a:lnTo>
                    <a:pt x="2356" y="17"/>
                  </a:lnTo>
                  <a:lnTo>
                    <a:pt x="2339" y="0"/>
                  </a:lnTo>
                  <a:lnTo>
                    <a:pt x="2308" y="8"/>
                  </a:lnTo>
                  <a:lnTo>
                    <a:pt x="229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21280" y="4341960"/>
              <a:ext cx="182880" cy="103680"/>
            </a:xfrm>
            <a:custGeom>
              <a:avLst/>
              <a:gdLst/>
              <a:ahLst/>
              <a:rect l="0" t="0" r="r" b="b"/>
              <a:pathLst>
                <a:path w="508" h="288">
                  <a:moveTo>
                    <a:pt x="437" y="39"/>
                  </a:moveTo>
                  <a:lnTo>
                    <a:pt x="494" y="13"/>
                  </a:lnTo>
                  <a:lnTo>
                    <a:pt x="424" y="0"/>
                  </a:lnTo>
                  <a:lnTo>
                    <a:pt x="367" y="13"/>
                  </a:lnTo>
                  <a:lnTo>
                    <a:pt x="305" y="35"/>
                  </a:lnTo>
                  <a:lnTo>
                    <a:pt x="242" y="66"/>
                  </a:lnTo>
                  <a:lnTo>
                    <a:pt x="180" y="102"/>
                  </a:lnTo>
                  <a:lnTo>
                    <a:pt x="119" y="150"/>
                  </a:lnTo>
                  <a:lnTo>
                    <a:pt x="61" y="203"/>
                  </a:lnTo>
                  <a:lnTo>
                    <a:pt x="0" y="275"/>
                  </a:lnTo>
                  <a:lnTo>
                    <a:pt x="74" y="288"/>
                  </a:lnTo>
                  <a:lnTo>
                    <a:pt x="119" y="244"/>
                  </a:lnTo>
                  <a:lnTo>
                    <a:pt x="158" y="190"/>
                  </a:lnTo>
                  <a:lnTo>
                    <a:pt x="202" y="155"/>
                  </a:lnTo>
                  <a:lnTo>
                    <a:pt x="265" y="120"/>
                  </a:lnTo>
                  <a:lnTo>
                    <a:pt x="331" y="89"/>
                  </a:lnTo>
                  <a:lnTo>
                    <a:pt x="375" y="70"/>
                  </a:lnTo>
                  <a:lnTo>
                    <a:pt x="424" y="61"/>
                  </a:lnTo>
                  <a:lnTo>
                    <a:pt x="437" y="66"/>
                  </a:lnTo>
                  <a:lnTo>
                    <a:pt x="499" y="39"/>
                  </a:lnTo>
                  <a:lnTo>
                    <a:pt x="437" y="66"/>
                  </a:lnTo>
                  <a:lnTo>
                    <a:pt x="464" y="75"/>
                  </a:lnTo>
                  <a:lnTo>
                    <a:pt x="503" y="57"/>
                  </a:lnTo>
                  <a:lnTo>
                    <a:pt x="508" y="26"/>
                  </a:lnTo>
                  <a:lnTo>
                    <a:pt x="494" y="13"/>
                  </a:lnTo>
                  <a:lnTo>
                    <a:pt x="43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95880" y="4405320"/>
              <a:ext cx="227520" cy="214560"/>
            </a:xfrm>
            <a:custGeom>
              <a:avLst/>
              <a:gdLst/>
              <a:ahLst/>
              <a:rect l="0" t="0" r="r" b="b"/>
              <a:pathLst>
                <a:path w="632" h="596">
                  <a:moveTo>
                    <a:pt x="0" y="596"/>
                  </a:moveTo>
                  <a:lnTo>
                    <a:pt x="0" y="596"/>
                  </a:lnTo>
                  <a:lnTo>
                    <a:pt x="123" y="569"/>
                  </a:lnTo>
                  <a:lnTo>
                    <a:pt x="247" y="516"/>
                  </a:lnTo>
                  <a:lnTo>
                    <a:pt x="375" y="433"/>
                  </a:lnTo>
                  <a:lnTo>
                    <a:pt x="491" y="336"/>
                  </a:lnTo>
                  <a:lnTo>
                    <a:pt x="575" y="229"/>
                  </a:lnTo>
                  <a:lnTo>
                    <a:pt x="619" y="132"/>
                  </a:lnTo>
                  <a:lnTo>
                    <a:pt x="632" y="52"/>
                  </a:lnTo>
                  <a:lnTo>
                    <a:pt x="562" y="0"/>
                  </a:lnTo>
                  <a:lnTo>
                    <a:pt x="509" y="61"/>
                  </a:lnTo>
                  <a:lnTo>
                    <a:pt x="544" y="92"/>
                  </a:lnTo>
                  <a:lnTo>
                    <a:pt x="544" y="145"/>
                  </a:lnTo>
                  <a:lnTo>
                    <a:pt x="504" y="216"/>
                  </a:lnTo>
                  <a:lnTo>
                    <a:pt x="428" y="309"/>
                  </a:lnTo>
                  <a:lnTo>
                    <a:pt x="336" y="393"/>
                  </a:lnTo>
                  <a:lnTo>
                    <a:pt x="230" y="468"/>
                  </a:lnTo>
                  <a:lnTo>
                    <a:pt x="114" y="516"/>
                  </a:lnTo>
                  <a:lnTo>
                    <a:pt x="8" y="530"/>
                  </a:lnTo>
                  <a:lnTo>
                    <a:pt x="0" y="5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21280" y="4540320"/>
              <a:ext cx="176400" cy="78120"/>
            </a:xfrm>
            <a:custGeom>
              <a:avLst/>
              <a:gdLst/>
              <a:ahLst/>
              <a:rect l="0" t="0" r="r" b="b"/>
              <a:pathLst>
                <a:path w="490" h="217">
                  <a:moveTo>
                    <a:pt x="0" y="44"/>
                  </a:moveTo>
                  <a:lnTo>
                    <a:pt x="0" y="44"/>
                  </a:lnTo>
                  <a:lnTo>
                    <a:pt x="92" y="101"/>
                  </a:lnTo>
                  <a:lnTo>
                    <a:pt x="149" y="159"/>
                  </a:lnTo>
                  <a:lnTo>
                    <a:pt x="220" y="181"/>
                  </a:lnTo>
                  <a:lnTo>
                    <a:pt x="283" y="203"/>
                  </a:lnTo>
                  <a:lnTo>
                    <a:pt x="331" y="208"/>
                  </a:lnTo>
                  <a:lnTo>
                    <a:pt x="375" y="217"/>
                  </a:lnTo>
                  <a:lnTo>
                    <a:pt x="428" y="217"/>
                  </a:lnTo>
                  <a:lnTo>
                    <a:pt x="481" y="217"/>
                  </a:lnTo>
                  <a:lnTo>
                    <a:pt x="490" y="150"/>
                  </a:lnTo>
                  <a:lnTo>
                    <a:pt x="441" y="150"/>
                  </a:lnTo>
                  <a:lnTo>
                    <a:pt x="411" y="155"/>
                  </a:lnTo>
                  <a:lnTo>
                    <a:pt x="367" y="146"/>
                  </a:lnTo>
                  <a:lnTo>
                    <a:pt x="322" y="142"/>
                  </a:lnTo>
                  <a:lnTo>
                    <a:pt x="278" y="128"/>
                  </a:lnTo>
                  <a:lnTo>
                    <a:pt x="216" y="97"/>
                  </a:lnTo>
                  <a:lnTo>
                    <a:pt x="154" y="57"/>
                  </a:lnTo>
                  <a:lnTo>
                    <a:pt x="57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91040" y="4429080"/>
              <a:ext cx="57600" cy="133560"/>
            </a:xfrm>
            <a:custGeom>
              <a:avLst/>
              <a:gdLst/>
              <a:ahLst/>
              <a:rect l="0" t="0" r="r" b="b"/>
              <a:pathLst>
                <a:path w="160" h="371">
                  <a:moveTo>
                    <a:pt x="80" y="17"/>
                  </a:moveTo>
                  <a:lnTo>
                    <a:pt x="102" y="8"/>
                  </a:lnTo>
                  <a:lnTo>
                    <a:pt x="26" y="105"/>
                  </a:lnTo>
                  <a:lnTo>
                    <a:pt x="0" y="203"/>
                  </a:lnTo>
                  <a:lnTo>
                    <a:pt x="13" y="296"/>
                  </a:lnTo>
                  <a:lnTo>
                    <a:pt x="80" y="371"/>
                  </a:lnTo>
                  <a:lnTo>
                    <a:pt x="147" y="322"/>
                  </a:lnTo>
                  <a:lnTo>
                    <a:pt x="102" y="256"/>
                  </a:lnTo>
                  <a:lnTo>
                    <a:pt x="75" y="186"/>
                  </a:lnTo>
                  <a:lnTo>
                    <a:pt x="102" y="119"/>
                  </a:lnTo>
                  <a:lnTo>
                    <a:pt x="151" y="39"/>
                  </a:lnTo>
                  <a:lnTo>
                    <a:pt x="156" y="30"/>
                  </a:lnTo>
                  <a:lnTo>
                    <a:pt x="151" y="39"/>
                  </a:lnTo>
                  <a:lnTo>
                    <a:pt x="160" y="22"/>
                  </a:lnTo>
                  <a:lnTo>
                    <a:pt x="151" y="0"/>
                  </a:lnTo>
                  <a:lnTo>
                    <a:pt x="121" y="0"/>
                  </a:lnTo>
                  <a:lnTo>
                    <a:pt x="102" y="8"/>
                  </a:lnTo>
                  <a:lnTo>
                    <a:pt x="8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15120" y="4812480"/>
              <a:ext cx="144000" cy="128880"/>
            </a:xfrm>
            <a:custGeom>
              <a:avLst/>
              <a:gdLst/>
              <a:ahLst/>
              <a:rect l="0" t="0" r="r" b="b"/>
              <a:pathLst>
                <a:path w="400" h="358">
                  <a:moveTo>
                    <a:pt x="14" y="269"/>
                  </a:moveTo>
                  <a:lnTo>
                    <a:pt x="14" y="269"/>
                  </a:lnTo>
                  <a:lnTo>
                    <a:pt x="14" y="269"/>
                  </a:lnTo>
                  <a:cubicBezTo>
                    <a:pt x="27" y="296"/>
                    <a:pt x="49" y="319"/>
                    <a:pt x="77" y="334"/>
                  </a:cubicBezTo>
                  <a:cubicBezTo>
                    <a:pt x="104" y="350"/>
                    <a:pt x="137" y="358"/>
                    <a:pt x="172" y="358"/>
                  </a:cubicBezTo>
                  <a:cubicBezTo>
                    <a:pt x="207" y="357"/>
                    <a:pt x="242" y="349"/>
                    <a:pt x="275" y="333"/>
                  </a:cubicBezTo>
                  <a:cubicBezTo>
                    <a:pt x="307" y="317"/>
                    <a:pt x="336" y="295"/>
                    <a:pt x="357" y="267"/>
                  </a:cubicBezTo>
                  <a:cubicBezTo>
                    <a:pt x="379" y="240"/>
                    <a:pt x="393" y="209"/>
                    <a:pt x="398" y="178"/>
                  </a:cubicBezTo>
                  <a:cubicBezTo>
                    <a:pt x="402" y="147"/>
                    <a:pt x="398" y="116"/>
                    <a:pt x="385" y="89"/>
                  </a:cubicBezTo>
                  <a:lnTo>
                    <a:pt x="385" y="89"/>
                  </a:lnTo>
                  <a:lnTo>
                    <a:pt x="385" y="89"/>
                  </a:lnTo>
                  <a:cubicBezTo>
                    <a:pt x="372" y="62"/>
                    <a:pt x="350" y="39"/>
                    <a:pt x="322" y="24"/>
                  </a:cubicBezTo>
                  <a:cubicBezTo>
                    <a:pt x="295" y="8"/>
                    <a:pt x="262" y="0"/>
                    <a:pt x="227" y="0"/>
                  </a:cubicBezTo>
                  <a:cubicBezTo>
                    <a:pt x="192" y="1"/>
                    <a:pt x="157" y="9"/>
                    <a:pt x="124" y="25"/>
                  </a:cubicBezTo>
                  <a:cubicBezTo>
                    <a:pt x="92" y="41"/>
                    <a:pt x="63" y="63"/>
                    <a:pt x="42" y="91"/>
                  </a:cubicBezTo>
                  <a:cubicBezTo>
                    <a:pt x="20" y="118"/>
                    <a:pt x="6" y="149"/>
                    <a:pt x="1" y="180"/>
                  </a:cubicBezTo>
                  <a:cubicBezTo>
                    <a:pt x="-3" y="211"/>
                    <a:pt x="1" y="242"/>
                    <a:pt x="14" y="269"/>
                  </a:cubicBez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2978280" y="4764240"/>
              <a:ext cx="482400" cy="88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335480" y="3168720"/>
            <a:ext cx="794160" cy="1409760"/>
            <a:chOff x="4335480" y="3168720"/>
            <a:chExt cx="794160" cy="1409760"/>
          </a:xfrm>
        </p:grpSpPr>
        <p:sp>
          <p:nvSpPr>
            <p:cNvPr id="214" name=""/>
            <p:cNvSpPr/>
            <p:nvPr/>
          </p:nvSpPr>
          <p:spPr>
            <a:xfrm>
              <a:off x="4335480" y="4289400"/>
              <a:ext cx="301680" cy="289080"/>
            </a:xfrm>
            <a:custGeom>
              <a:avLst/>
              <a:gdLst/>
              <a:ahLst/>
              <a:rect l="0" t="0" r="r" b="b"/>
              <a:pathLst>
                <a:path w="838" h="803">
                  <a:moveTo>
                    <a:pt x="35" y="222"/>
                  </a:moveTo>
                  <a:lnTo>
                    <a:pt x="35" y="222"/>
                  </a:lnTo>
                  <a:lnTo>
                    <a:pt x="35" y="222"/>
                  </a:lnTo>
                  <a:cubicBezTo>
                    <a:pt x="6" y="286"/>
                    <a:pt x="-6" y="356"/>
                    <a:pt x="3" y="426"/>
                  </a:cubicBezTo>
                  <a:cubicBezTo>
                    <a:pt x="11" y="497"/>
                    <a:pt x="38" y="565"/>
                    <a:pt x="82" y="623"/>
                  </a:cubicBezTo>
                  <a:cubicBezTo>
                    <a:pt x="125" y="682"/>
                    <a:pt x="184" y="730"/>
                    <a:pt x="251" y="761"/>
                  </a:cubicBezTo>
                  <a:cubicBezTo>
                    <a:pt x="319" y="792"/>
                    <a:pt x="393" y="807"/>
                    <a:pt x="466" y="802"/>
                  </a:cubicBezTo>
                  <a:cubicBezTo>
                    <a:pt x="539" y="798"/>
                    <a:pt x="609" y="775"/>
                    <a:pt x="668" y="736"/>
                  </a:cubicBezTo>
                  <a:cubicBezTo>
                    <a:pt x="727" y="697"/>
                    <a:pt x="774" y="644"/>
                    <a:pt x="803" y="581"/>
                  </a:cubicBezTo>
                  <a:lnTo>
                    <a:pt x="803" y="581"/>
                  </a:lnTo>
                  <a:lnTo>
                    <a:pt x="803" y="581"/>
                  </a:lnTo>
                  <a:cubicBezTo>
                    <a:pt x="832" y="517"/>
                    <a:pt x="844" y="447"/>
                    <a:pt x="835" y="377"/>
                  </a:cubicBezTo>
                  <a:cubicBezTo>
                    <a:pt x="827" y="306"/>
                    <a:pt x="800" y="238"/>
                    <a:pt x="756" y="180"/>
                  </a:cubicBezTo>
                  <a:cubicBezTo>
                    <a:pt x="713" y="121"/>
                    <a:pt x="654" y="73"/>
                    <a:pt x="587" y="42"/>
                  </a:cubicBezTo>
                  <a:cubicBezTo>
                    <a:pt x="519" y="11"/>
                    <a:pt x="445" y="-4"/>
                    <a:pt x="372" y="1"/>
                  </a:cubicBezTo>
                  <a:cubicBezTo>
                    <a:pt x="299" y="5"/>
                    <a:pt x="229" y="28"/>
                    <a:pt x="170" y="67"/>
                  </a:cubicBezTo>
                  <a:cubicBezTo>
                    <a:pt x="111" y="106"/>
                    <a:pt x="64" y="159"/>
                    <a:pt x="35" y="222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52840" y="3168720"/>
              <a:ext cx="676800" cy="1248120"/>
            </a:xfrm>
            <a:custGeom>
              <a:avLst/>
              <a:gdLst/>
              <a:ahLst/>
              <a:rect l="0" t="0" r="r" b="b"/>
              <a:pathLst>
                <a:path w="1880" h="3467">
                  <a:moveTo>
                    <a:pt x="352" y="141"/>
                  </a:moveTo>
                  <a:lnTo>
                    <a:pt x="330" y="436"/>
                  </a:lnTo>
                  <a:lnTo>
                    <a:pt x="724" y="1217"/>
                  </a:lnTo>
                  <a:lnTo>
                    <a:pt x="984" y="1835"/>
                  </a:lnTo>
                  <a:lnTo>
                    <a:pt x="0" y="2968"/>
                  </a:lnTo>
                  <a:lnTo>
                    <a:pt x="719" y="3467"/>
                  </a:lnTo>
                  <a:lnTo>
                    <a:pt x="1880" y="1901"/>
                  </a:lnTo>
                  <a:lnTo>
                    <a:pt x="1085" y="343"/>
                  </a:lnTo>
                  <a:lnTo>
                    <a:pt x="812" y="22"/>
                  </a:lnTo>
                  <a:lnTo>
                    <a:pt x="508" y="0"/>
                  </a:lnTo>
                  <a:lnTo>
                    <a:pt x="352" y="141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 txBox="1"/>
          <p:nvPr/>
        </p:nvSpPr>
        <p:spPr>
          <a:xfrm>
            <a:off x="1600200" y="41911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  <a:ea typeface="Footlight MT Light"/>
              </a:rPr>
              <a:t>VROOOMMM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022560" y="4978440"/>
            <a:ext cx="546120" cy="177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895480" y="4514760"/>
            <a:ext cx="622440" cy="57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82920" y="4718160"/>
            <a:ext cx="235440" cy="444960"/>
          </a:xfrm>
          <a:custGeom>
            <a:avLst/>
            <a:gdLst/>
            <a:ahLst/>
            <a:rect l="0" t="0" r="r" b="b"/>
            <a:pathLst>
              <a:path fill="none" w="654" h="1236">
                <a:moveTo>
                  <a:pt x="105" y="0"/>
                </a:moveTo>
                <a:lnTo>
                  <a:pt x="35" y="158"/>
                </a:lnTo>
                <a:lnTo>
                  <a:pt x="0" y="336"/>
                </a:lnTo>
                <a:lnTo>
                  <a:pt x="0" y="583"/>
                </a:lnTo>
                <a:lnTo>
                  <a:pt x="88" y="847"/>
                </a:lnTo>
                <a:lnTo>
                  <a:pt x="265" y="1077"/>
                </a:lnTo>
                <a:lnTo>
                  <a:pt x="531" y="1201"/>
                </a:lnTo>
                <a:lnTo>
                  <a:pt x="654" y="1236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457200"/>
            <a:ext cx="7391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Say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3087360" y="2433960"/>
            <a:ext cx="1129680" cy="1068480"/>
            <a:chOff x="3087360" y="2433960"/>
            <a:chExt cx="1129680" cy="1068480"/>
          </a:xfrm>
        </p:grpSpPr>
        <p:sp>
          <p:nvSpPr>
            <p:cNvPr id="222" name=""/>
            <p:cNvSpPr/>
            <p:nvPr/>
          </p:nvSpPr>
          <p:spPr>
            <a:xfrm>
              <a:off x="3087360" y="2433960"/>
              <a:ext cx="301320" cy="291960"/>
            </a:xfrm>
            <a:custGeom>
              <a:avLst/>
              <a:gdLst/>
              <a:ahLst/>
              <a:rect l="0" t="0" r="r" b="b"/>
              <a:pathLst>
                <a:path w="837" h="811">
                  <a:moveTo>
                    <a:pt x="780" y="180"/>
                  </a:moveTo>
                  <a:lnTo>
                    <a:pt x="780" y="180"/>
                  </a:lnTo>
                  <a:lnTo>
                    <a:pt x="780" y="180"/>
                  </a:lnTo>
                  <a:cubicBezTo>
                    <a:pt x="743" y="121"/>
                    <a:pt x="690" y="73"/>
                    <a:pt x="626" y="42"/>
                  </a:cubicBezTo>
                  <a:cubicBezTo>
                    <a:pt x="563" y="11"/>
                    <a:pt x="490" y="-3"/>
                    <a:pt x="417" y="1"/>
                  </a:cubicBezTo>
                  <a:cubicBezTo>
                    <a:pt x="344" y="6"/>
                    <a:pt x="272" y="30"/>
                    <a:pt x="208" y="69"/>
                  </a:cubicBezTo>
                  <a:cubicBezTo>
                    <a:pt x="145" y="109"/>
                    <a:pt x="92" y="163"/>
                    <a:pt x="56" y="227"/>
                  </a:cubicBezTo>
                  <a:cubicBezTo>
                    <a:pt x="19" y="291"/>
                    <a:pt x="0" y="362"/>
                    <a:pt x="0" y="433"/>
                  </a:cubicBezTo>
                  <a:cubicBezTo>
                    <a:pt x="1" y="504"/>
                    <a:pt x="20" y="573"/>
                    <a:pt x="57" y="632"/>
                  </a:cubicBezTo>
                  <a:lnTo>
                    <a:pt x="57" y="632"/>
                  </a:lnTo>
                  <a:lnTo>
                    <a:pt x="57" y="632"/>
                  </a:lnTo>
                  <a:cubicBezTo>
                    <a:pt x="94" y="691"/>
                    <a:pt x="147" y="739"/>
                    <a:pt x="211" y="770"/>
                  </a:cubicBezTo>
                  <a:cubicBezTo>
                    <a:pt x="274" y="801"/>
                    <a:pt x="347" y="815"/>
                    <a:pt x="420" y="811"/>
                  </a:cubicBezTo>
                  <a:cubicBezTo>
                    <a:pt x="493" y="806"/>
                    <a:pt x="565" y="782"/>
                    <a:pt x="629" y="743"/>
                  </a:cubicBezTo>
                  <a:cubicBezTo>
                    <a:pt x="692" y="703"/>
                    <a:pt x="745" y="649"/>
                    <a:pt x="781" y="585"/>
                  </a:cubicBezTo>
                  <a:cubicBezTo>
                    <a:pt x="818" y="521"/>
                    <a:pt x="837" y="450"/>
                    <a:pt x="837" y="379"/>
                  </a:cubicBezTo>
                  <a:cubicBezTo>
                    <a:pt x="836" y="308"/>
                    <a:pt x="817" y="239"/>
                    <a:pt x="780" y="18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29120" y="2658960"/>
              <a:ext cx="1087920" cy="843480"/>
            </a:xfrm>
            <a:custGeom>
              <a:avLst/>
              <a:gdLst/>
              <a:ahLst/>
              <a:rect l="0" t="0" r="r" b="b"/>
              <a:pathLst>
                <a:path w="3022" h="2343">
                  <a:moveTo>
                    <a:pt x="2987" y="1840"/>
                  </a:moveTo>
                  <a:lnTo>
                    <a:pt x="2753" y="1659"/>
                  </a:lnTo>
                  <a:lnTo>
                    <a:pt x="1883" y="1562"/>
                  </a:lnTo>
                  <a:lnTo>
                    <a:pt x="1222" y="1442"/>
                  </a:lnTo>
                  <a:lnTo>
                    <a:pt x="807" y="0"/>
                  </a:lnTo>
                  <a:lnTo>
                    <a:pt x="0" y="335"/>
                  </a:lnTo>
                  <a:lnTo>
                    <a:pt x="679" y="2158"/>
                  </a:lnTo>
                  <a:lnTo>
                    <a:pt x="2418" y="2343"/>
                  </a:lnTo>
                  <a:lnTo>
                    <a:pt x="2837" y="2290"/>
                  </a:lnTo>
                  <a:lnTo>
                    <a:pt x="3022" y="2043"/>
                  </a:lnTo>
                  <a:lnTo>
                    <a:pt x="2987" y="184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638520" y="4448160"/>
            <a:ext cx="1514880" cy="1867320"/>
            <a:chOff x="3638520" y="4448160"/>
            <a:chExt cx="1514880" cy="1867320"/>
          </a:xfrm>
        </p:grpSpPr>
        <p:sp>
          <p:nvSpPr>
            <p:cNvPr id="225" name=""/>
            <p:cNvSpPr/>
            <p:nvPr/>
          </p:nvSpPr>
          <p:spPr>
            <a:xfrm>
              <a:off x="4019400" y="4448160"/>
              <a:ext cx="657720" cy="1724400"/>
            </a:xfrm>
            <a:custGeom>
              <a:avLst/>
              <a:gdLst/>
              <a:ahLst/>
              <a:rect l="0" t="0" r="r" b="b"/>
              <a:pathLst>
                <a:path w="1827" h="4790">
                  <a:moveTo>
                    <a:pt x="0" y="0"/>
                  </a:moveTo>
                  <a:lnTo>
                    <a:pt x="317" y="4790"/>
                  </a:lnTo>
                  <a:lnTo>
                    <a:pt x="1032" y="4790"/>
                  </a:lnTo>
                  <a:lnTo>
                    <a:pt x="927" y="1297"/>
                  </a:lnTo>
                  <a:lnTo>
                    <a:pt x="1032" y="4790"/>
                  </a:lnTo>
                  <a:lnTo>
                    <a:pt x="1827" y="4790"/>
                  </a:lnTo>
                  <a:lnTo>
                    <a:pt x="174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3852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1376" y="185"/>
                  </a:moveTo>
                  <a:lnTo>
                    <a:pt x="978" y="52"/>
                  </a:lnTo>
                  <a:lnTo>
                    <a:pt x="714" y="0"/>
                  </a:lnTo>
                  <a:lnTo>
                    <a:pt x="423" y="105"/>
                  </a:lnTo>
                  <a:lnTo>
                    <a:pt x="132" y="264"/>
                  </a:lnTo>
                  <a:lnTo>
                    <a:pt x="0" y="477"/>
                  </a:lnTo>
                  <a:lnTo>
                    <a:pt x="185" y="583"/>
                  </a:lnTo>
                  <a:lnTo>
                    <a:pt x="2091" y="583"/>
                  </a:lnTo>
                  <a:lnTo>
                    <a:pt x="2091" y="185"/>
                  </a:lnTo>
                  <a:lnTo>
                    <a:pt x="1376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0064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714" y="185"/>
                  </a:moveTo>
                  <a:lnTo>
                    <a:pt x="1112" y="52"/>
                  </a:lnTo>
                  <a:lnTo>
                    <a:pt x="1376" y="0"/>
                  </a:lnTo>
                  <a:lnTo>
                    <a:pt x="1667" y="105"/>
                  </a:lnTo>
                  <a:lnTo>
                    <a:pt x="1958" y="264"/>
                  </a:lnTo>
                  <a:lnTo>
                    <a:pt x="2091" y="477"/>
                  </a:lnTo>
                  <a:lnTo>
                    <a:pt x="1906" y="583"/>
                  </a:lnTo>
                  <a:lnTo>
                    <a:pt x="0" y="583"/>
                  </a:lnTo>
                  <a:lnTo>
                    <a:pt x="0" y="185"/>
                  </a:lnTo>
                  <a:lnTo>
                    <a:pt x="714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895560" y="3048120"/>
            <a:ext cx="981360" cy="1600560"/>
          </a:xfrm>
          <a:custGeom>
            <a:avLst/>
            <a:gdLst/>
            <a:ahLst/>
            <a:rect l="0" t="0" r="r" b="b"/>
            <a:pathLst>
              <a:path w="2726" h="4446">
                <a:moveTo>
                  <a:pt x="953" y="374"/>
                </a:moveTo>
                <a:lnTo>
                  <a:pt x="865" y="392"/>
                </a:lnTo>
                <a:lnTo>
                  <a:pt x="799" y="436"/>
                </a:lnTo>
                <a:lnTo>
                  <a:pt x="672" y="582"/>
                </a:lnTo>
                <a:lnTo>
                  <a:pt x="540" y="723"/>
                </a:lnTo>
                <a:lnTo>
                  <a:pt x="391" y="851"/>
                </a:lnTo>
                <a:lnTo>
                  <a:pt x="369" y="890"/>
                </a:lnTo>
                <a:lnTo>
                  <a:pt x="347" y="930"/>
                </a:lnTo>
                <a:lnTo>
                  <a:pt x="347" y="930"/>
                </a:lnTo>
                <a:lnTo>
                  <a:pt x="369" y="930"/>
                </a:lnTo>
                <a:lnTo>
                  <a:pt x="153" y="1553"/>
                </a:lnTo>
                <a:lnTo>
                  <a:pt x="0" y="4345"/>
                </a:lnTo>
                <a:lnTo>
                  <a:pt x="2726" y="4446"/>
                </a:lnTo>
                <a:lnTo>
                  <a:pt x="2317" y="1844"/>
                </a:lnTo>
                <a:lnTo>
                  <a:pt x="2119" y="414"/>
                </a:lnTo>
                <a:lnTo>
                  <a:pt x="1385" y="0"/>
                </a:lnTo>
                <a:lnTo>
                  <a:pt x="953" y="374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3924360" y="1866960"/>
            <a:ext cx="799920" cy="38160"/>
          </a:xfrm>
          <a:prstGeom prst="line">
            <a:avLst/>
          </a:prstGeom>
          <a:ln w="2556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38080" y="312408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  <a:ea typeface="Footlight MT Light"/>
              </a:rPr>
              <a:t>VROOOMMM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795840" y="1335240"/>
            <a:ext cx="1005120" cy="1818000"/>
            <a:chOff x="3795840" y="1335240"/>
            <a:chExt cx="1005120" cy="1818000"/>
          </a:xfrm>
        </p:grpSpPr>
        <p:sp>
          <p:nvSpPr>
            <p:cNvPr id="232" name=""/>
            <p:cNvSpPr/>
            <p:nvPr/>
          </p:nvSpPr>
          <p:spPr>
            <a:xfrm>
              <a:off x="3905280" y="1571760"/>
              <a:ext cx="895680" cy="1581480"/>
            </a:xfrm>
            <a:custGeom>
              <a:avLst/>
              <a:gdLst/>
              <a:ahLst/>
              <a:rect l="0" t="0" r="r" b="b"/>
              <a:pathLst>
                <a:path w="2488" h="4393">
                  <a:moveTo>
                    <a:pt x="582" y="0"/>
                  </a:moveTo>
                  <a:lnTo>
                    <a:pt x="264" y="264"/>
                  </a:lnTo>
                  <a:lnTo>
                    <a:pt x="79" y="687"/>
                  </a:lnTo>
                  <a:lnTo>
                    <a:pt x="26" y="1217"/>
                  </a:lnTo>
                  <a:lnTo>
                    <a:pt x="0" y="2699"/>
                  </a:lnTo>
                  <a:lnTo>
                    <a:pt x="52" y="3546"/>
                  </a:lnTo>
                  <a:lnTo>
                    <a:pt x="820" y="3599"/>
                  </a:lnTo>
                  <a:lnTo>
                    <a:pt x="926" y="4075"/>
                  </a:lnTo>
                  <a:lnTo>
                    <a:pt x="1031" y="4393"/>
                  </a:lnTo>
                  <a:lnTo>
                    <a:pt x="1271" y="4393"/>
                  </a:lnTo>
                  <a:lnTo>
                    <a:pt x="1403" y="4102"/>
                  </a:lnTo>
                  <a:lnTo>
                    <a:pt x="1323" y="3599"/>
                  </a:lnTo>
                  <a:lnTo>
                    <a:pt x="2038" y="3519"/>
                  </a:lnTo>
                  <a:lnTo>
                    <a:pt x="2064" y="3017"/>
                  </a:lnTo>
                  <a:lnTo>
                    <a:pt x="2223" y="3096"/>
                  </a:lnTo>
                  <a:lnTo>
                    <a:pt x="2382" y="3043"/>
                  </a:lnTo>
                  <a:lnTo>
                    <a:pt x="2488" y="2620"/>
                  </a:lnTo>
                  <a:lnTo>
                    <a:pt x="2355" y="2408"/>
                  </a:lnTo>
                  <a:lnTo>
                    <a:pt x="2197" y="2435"/>
                  </a:lnTo>
                  <a:lnTo>
                    <a:pt x="2355" y="185"/>
                  </a:lnTo>
                  <a:lnTo>
                    <a:pt x="582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5840" y="2014560"/>
              <a:ext cx="409680" cy="409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48280" y="1976400"/>
              <a:ext cx="485640" cy="485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38720" y="2176560"/>
              <a:ext cx="85680" cy="85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29040" y="2185920"/>
              <a:ext cx="85680" cy="85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35320" y="1363680"/>
              <a:ext cx="7920" cy="217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249800" y="1344600"/>
              <a:ext cx="17280" cy="217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411800" y="1335240"/>
              <a:ext cx="36360" cy="226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573440" y="1382760"/>
              <a:ext cx="55800" cy="198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716360" y="1411200"/>
              <a:ext cx="55800" cy="179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95560" y="2523960"/>
              <a:ext cx="657720" cy="257400"/>
            </a:xfrm>
            <a:custGeom>
              <a:avLst/>
              <a:gdLst/>
              <a:ahLst/>
              <a:rect l="0" t="0" r="r" b="b"/>
              <a:pathLst>
                <a:path w="1827" h="715">
                  <a:moveTo>
                    <a:pt x="0" y="0"/>
                  </a:moveTo>
                  <a:lnTo>
                    <a:pt x="1827" y="163"/>
                  </a:lnTo>
                  <a:lnTo>
                    <a:pt x="746" y="7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 flipH="1" flipV="1">
            <a:off x="3924360" y="1803240"/>
            <a:ext cx="799920" cy="38160"/>
          </a:xfrm>
          <a:prstGeom prst="line">
            <a:avLst/>
          </a:prstGeom>
          <a:ln w="2556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697120" y="1652760"/>
            <a:ext cx="1807200" cy="1152720"/>
            <a:chOff x="2697120" y="1652760"/>
            <a:chExt cx="1807200" cy="1152720"/>
          </a:xfrm>
        </p:grpSpPr>
        <p:sp>
          <p:nvSpPr>
            <p:cNvPr id="245" name=""/>
            <p:cNvSpPr/>
            <p:nvPr/>
          </p:nvSpPr>
          <p:spPr>
            <a:xfrm>
              <a:off x="2865600" y="2093760"/>
              <a:ext cx="725760" cy="546480"/>
            </a:xfrm>
            <a:custGeom>
              <a:avLst/>
              <a:gdLst/>
              <a:ahLst/>
              <a:rect l="0" t="0" r="r" b="b"/>
              <a:pathLst>
                <a:path w="2016" h="1518">
                  <a:moveTo>
                    <a:pt x="4" y="1121"/>
                  </a:moveTo>
                  <a:lnTo>
                    <a:pt x="0" y="1107"/>
                  </a:lnTo>
                  <a:lnTo>
                    <a:pt x="0" y="1099"/>
                  </a:lnTo>
                  <a:lnTo>
                    <a:pt x="0" y="1085"/>
                  </a:lnTo>
                  <a:lnTo>
                    <a:pt x="0" y="1072"/>
                  </a:lnTo>
                  <a:lnTo>
                    <a:pt x="8" y="984"/>
                  </a:lnTo>
                  <a:lnTo>
                    <a:pt x="26" y="891"/>
                  </a:lnTo>
                  <a:lnTo>
                    <a:pt x="61" y="803"/>
                  </a:lnTo>
                  <a:lnTo>
                    <a:pt x="101" y="719"/>
                  </a:lnTo>
                  <a:lnTo>
                    <a:pt x="141" y="640"/>
                  </a:lnTo>
                  <a:lnTo>
                    <a:pt x="194" y="574"/>
                  </a:lnTo>
                  <a:lnTo>
                    <a:pt x="242" y="525"/>
                  </a:lnTo>
                  <a:lnTo>
                    <a:pt x="295" y="494"/>
                  </a:lnTo>
                  <a:lnTo>
                    <a:pt x="313" y="486"/>
                  </a:lnTo>
                  <a:lnTo>
                    <a:pt x="348" y="464"/>
                  </a:lnTo>
                  <a:lnTo>
                    <a:pt x="396" y="433"/>
                  </a:lnTo>
                  <a:lnTo>
                    <a:pt x="463" y="389"/>
                  </a:lnTo>
                  <a:lnTo>
                    <a:pt x="537" y="335"/>
                  </a:lnTo>
                  <a:lnTo>
                    <a:pt x="617" y="282"/>
                  </a:lnTo>
                  <a:lnTo>
                    <a:pt x="679" y="251"/>
                  </a:lnTo>
                  <a:lnTo>
                    <a:pt x="740" y="220"/>
                  </a:lnTo>
                  <a:lnTo>
                    <a:pt x="802" y="194"/>
                  </a:lnTo>
                  <a:lnTo>
                    <a:pt x="908" y="149"/>
                  </a:lnTo>
                  <a:lnTo>
                    <a:pt x="1005" y="119"/>
                  </a:lnTo>
                  <a:lnTo>
                    <a:pt x="1134" y="83"/>
                  </a:lnTo>
                  <a:lnTo>
                    <a:pt x="1275" y="48"/>
                  </a:lnTo>
                  <a:lnTo>
                    <a:pt x="1434" y="17"/>
                  </a:lnTo>
                  <a:lnTo>
                    <a:pt x="1584" y="13"/>
                  </a:lnTo>
                  <a:lnTo>
                    <a:pt x="1738" y="0"/>
                  </a:lnTo>
                  <a:lnTo>
                    <a:pt x="1857" y="13"/>
                  </a:lnTo>
                  <a:lnTo>
                    <a:pt x="1941" y="79"/>
                  </a:lnTo>
                  <a:lnTo>
                    <a:pt x="1998" y="176"/>
                  </a:lnTo>
                  <a:lnTo>
                    <a:pt x="2016" y="299"/>
                  </a:lnTo>
                  <a:lnTo>
                    <a:pt x="1998" y="424"/>
                  </a:lnTo>
                  <a:lnTo>
                    <a:pt x="1976" y="552"/>
                  </a:lnTo>
                  <a:lnTo>
                    <a:pt x="1941" y="662"/>
                  </a:lnTo>
                  <a:lnTo>
                    <a:pt x="1892" y="755"/>
                  </a:lnTo>
                  <a:lnTo>
                    <a:pt x="1848" y="834"/>
                  </a:lnTo>
                  <a:lnTo>
                    <a:pt x="1795" y="896"/>
                  </a:lnTo>
                  <a:lnTo>
                    <a:pt x="1716" y="966"/>
                  </a:lnTo>
                  <a:lnTo>
                    <a:pt x="1628" y="1041"/>
                  </a:lnTo>
                  <a:lnTo>
                    <a:pt x="1539" y="1099"/>
                  </a:lnTo>
                  <a:lnTo>
                    <a:pt x="1451" y="1148"/>
                  </a:lnTo>
                  <a:lnTo>
                    <a:pt x="1359" y="1205"/>
                  </a:lnTo>
                  <a:lnTo>
                    <a:pt x="1275" y="1245"/>
                  </a:lnTo>
                  <a:lnTo>
                    <a:pt x="1182" y="1298"/>
                  </a:lnTo>
                  <a:lnTo>
                    <a:pt x="1068" y="1351"/>
                  </a:lnTo>
                  <a:lnTo>
                    <a:pt x="943" y="1386"/>
                  </a:lnTo>
                  <a:lnTo>
                    <a:pt x="802" y="1426"/>
                  </a:lnTo>
                  <a:lnTo>
                    <a:pt x="670" y="1461"/>
                  </a:lnTo>
                  <a:lnTo>
                    <a:pt x="537" y="1488"/>
                  </a:lnTo>
                  <a:lnTo>
                    <a:pt x="414" y="1505"/>
                  </a:lnTo>
                  <a:lnTo>
                    <a:pt x="304" y="1518"/>
                  </a:lnTo>
                  <a:lnTo>
                    <a:pt x="158" y="1505"/>
                  </a:lnTo>
                  <a:lnTo>
                    <a:pt x="66" y="1421"/>
                  </a:lnTo>
                  <a:lnTo>
                    <a:pt x="17" y="1289"/>
                  </a:lnTo>
                  <a:lnTo>
                    <a:pt x="4" y="1121"/>
                  </a:lnTo>
                  <a:close/>
                </a:path>
              </a:pathLst>
            </a:custGeom>
            <a:solidFill>
              <a:srgbClr val="00338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41480" y="2484360"/>
              <a:ext cx="32040" cy="27360"/>
            </a:xfrm>
            <a:custGeom>
              <a:avLst/>
              <a:gdLst/>
              <a:ahLst/>
              <a:rect l="0" t="0" r="r" b="b"/>
              <a:pathLst>
                <a:path w="89" h="76">
                  <a:moveTo>
                    <a:pt x="0" y="4"/>
                  </a:moveTo>
                  <a:lnTo>
                    <a:pt x="30" y="59"/>
                  </a:lnTo>
                  <a:lnTo>
                    <a:pt x="62" y="76"/>
                  </a:lnTo>
                  <a:lnTo>
                    <a:pt x="89" y="40"/>
                  </a:lnTo>
                  <a:lnTo>
                    <a:pt x="8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49400" y="2470320"/>
              <a:ext cx="28800" cy="30600"/>
            </a:xfrm>
            <a:custGeom>
              <a:avLst/>
              <a:gdLst/>
              <a:ahLst/>
              <a:rect l="0" t="0" r="r" b="b"/>
              <a:pathLst>
                <a:path w="80" h="85">
                  <a:moveTo>
                    <a:pt x="0" y="27"/>
                  </a:moveTo>
                  <a:lnTo>
                    <a:pt x="0" y="27"/>
                  </a:lnTo>
                  <a:lnTo>
                    <a:pt x="4" y="49"/>
                  </a:lnTo>
                  <a:lnTo>
                    <a:pt x="8" y="68"/>
                  </a:lnTo>
                  <a:lnTo>
                    <a:pt x="17" y="81"/>
                  </a:lnTo>
                  <a:lnTo>
                    <a:pt x="8" y="85"/>
                  </a:lnTo>
                  <a:lnTo>
                    <a:pt x="80" y="68"/>
                  </a:lnTo>
                  <a:lnTo>
                    <a:pt x="75" y="36"/>
                  </a:lnTo>
                  <a:lnTo>
                    <a:pt x="62" y="23"/>
                  </a:lnTo>
                  <a:lnTo>
                    <a:pt x="75" y="8"/>
                  </a:lnTo>
                  <a:lnTo>
                    <a:pt x="71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6520" y="2263680"/>
              <a:ext cx="140040" cy="224280"/>
            </a:xfrm>
            <a:custGeom>
              <a:avLst/>
              <a:gdLst/>
              <a:ahLst/>
              <a:rect l="0" t="0" r="r" b="b"/>
              <a:pathLst>
                <a:path w="389" h="623">
                  <a:moveTo>
                    <a:pt x="340" y="17"/>
                  </a:moveTo>
                  <a:lnTo>
                    <a:pt x="358" y="4"/>
                  </a:lnTo>
                  <a:lnTo>
                    <a:pt x="287" y="39"/>
                  </a:lnTo>
                  <a:lnTo>
                    <a:pt x="225" y="101"/>
                  </a:lnTo>
                  <a:lnTo>
                    <a:pt x="180" y="168"/>
                  </a:lnTo>
                  <a:lnTo>
                    <a:pt x="123" y="247"/>
                  </a:lnTo>
                  <a:lnTo>
                    <a:pt x="79" y="340"/>
                  </a:lnTo>
                  <a:lnTo>
                    <a:pt x="48" y="433"/>
                  </a:lnTo>
                  <a:lnTo>
                    <a:pt x="22" y="522"/>
                  </a:lnTo>
                  <a:lnTo>
                    <a:pt x="0" y="623"/>
                  </a:lnTo>
                  <a:lnTo>
                    <a:pt x="83" y="584"/>
                  </a:lnTo>
                  <a:lnTo>
                    <a:pt x="92" y="513"/>
                  </a:lnTo>
                  <a:lnTo>
                    <a:pt x="119" y="433"/>
                  </a:lnTo>
                  <a:lnTo>
                    <a:pt x="149" y="331"/>
                  </a:lnTo>
                  <a:lnTo>
                    <a:pt x="180" y="261"/>
                  </a:lnTo>
                  <a:lnTo>
                    <a:pt x="230" y="190"/>
                  </a:lnTo>
                  <a:lnTo>
                    <a:pt x="274" y="132"/>
                  </a:lnTo>
                  <a:lnTo>
                    <a:pt x="314" y="74"/>
                  </a:lnTo>
                  <a:lnTo>
                    <a:pt x="362" y="70"/>
                  </a:lnTo>
                  <a:lnTo>
                    <a:pt x="375" y="52"/>
                  </a:lnTo>
                  <a:lnTo>
                    <a:pt x="362" y="70"/>
                  </a:lnTo>
                  <a:lnTo>
                    <a:pt x="380" y="44"/>
                  </a:lnTo>
                  <a:lnTo>
                    <a:pt x="389" y="17"/>
                  </a:lnTo>
                  <a:lnTo>
                    <a:pt x="371" y="0"/>
                  </a:lnTo>
                  <a:lnTo>
                    <a:pt x="358" y="4"/>
                  </a:lnTo>
                  <a:lnTo>
                    <a:pt x="34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67120" y="2158920"/>
              <a:ext cx="171720" cy="124200"/>
            </a:xfrm>
            <a:custGeom>
              <a:avLst/>
              <a:gdLst/>
              <a:ahLst/>
              <a:rect l="0" t="0" r="r" b="b"/>
              <a:pathLst>
                <a:path w="477" h="345">
                  <a:moveTo>
                    <a:pt x="450" y="0"/>
                  </a:moveTo>
                  <a:lnTo>
                    <a:pt x="450" y="0"/>
                  </a:lnTo>
                  <a:lnTo>
                    <a:pt x="389" y="39"/>
                  </a:lnTo>
                  <a:lnTo>
                    <a:pt x="336" y="83"/>
                  </a:lnTo>
                  <a:lnTo>
                    <a:pt x="252" y="128"/>
                  </a:lnTo>
                  <a:lnTo>
                    <a:pt x="171" y="190"/>
                  </a:lnTo>
                  <a:lnTo>
                    <a:pt x="97" y="234"/>
                  </a:lnTo>
                  <a:lnTo>
                    <a:pt x="39" y="275"/>
                  </a:lnTo>
                  <a:lnTo>
                    <a:pt x="13" y="306"/>
                  </a:lnTo>
                  <a:lnTo>
                    <a:pt x="0" y="319"/>
                  </a:lnTo>
                  <a:lnTo>
                    <a:pt x="26" y="345"/>
                  </a:lnTo>
                  <a:lnTo>
                    <a:pt x="44" y="341"/>
                  </a:lnTo>
                  <a:lnTo>
                    <a:pt x="74" y="310"/>
                  </a:lnTo>
                  <a:lnTo>
                    <a:pt x="127" y="270"/>
                  </a:lnTo>
                  <a:lnTo>
                    <a:pt x="185" y="230"/>
                  </a:lnTo>
                  <a:lnTo>
                    <a:pt x="269" y="181"/>
                  </a:lnTo>
                  <a:lnTo>
                    <a:pt x="344" y="128"/>
                  </a:lnTo>
                  <a:lnTo>
                    <a:pt x="415" y="93"/>
                  </a:lnTo>
                  <a:lnTo>
                    <a:pt x="477" y="52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24080" y="2082960"/>
              <a:ext cx="367200" cy="103680"/>
            </a:xfrm>
            <a:custGeom>
              <a:avLst/>
              <a:gdLst/>
              <a:ahLst/>
              <a:rect l="0" t="0" r="r" b="b"/>
              <a:pathLst>
                <a:path w="1020" h="288">
                  <a:moveTo>
                    <a:pt x="1020" y="0"/>
                  </a:moveTo>
                  <a:lnTo>
                    <a:pt x="1020" y="0"/>
                  </a:lnTo>
                  <a:lnTo>
                    <a:pt x="866" y="13"/>
                  </a:lnTo>
                  <a:lnTo>
                    <a:pt x="724" y="22"/>
                  </a:lnTo>
                  <a:lnTo>
                    <a:pt x="569" y="57"/>
                  </a:lnTo>
                  <a:lnTo>
                    <a:pt x="415" y="93"/>
                  </a:lnTo>
                  <a:lnTo>
                    <a:pt x="283" y="124"/>
                  </a:lnTo>
                  <a:lnTo>
                    <a:pt x="176" y="168"/>
                  </a:lnTo>
                  <a:lnTo>
                    <a:pt x="74" y="203"/>
                  </a:lnTo>
                  <a:lnTo>
                    <a:pt x="0" y="235"/>
                  </a:lnTo>
                  <a:lnTo>
                    <a:pt x="30" y="288"/>
                  </a:lnTo>
                  <a:lnTo>
                    <a:pt x="79" y="257"/>
                  </a:lnTo>
                  <a:lnTo>
                    <a:pt x="171" y="231"/>
                  </a:lnTo>
                  <a:lnTo>
                    <a:pt x="287" y="195"/>
                  </a:lnTo>
                  <a:lnTo>
                    <a:pt x="415" y="159"/>
                  </a:lnTo>
                  <a:lnTo>
                    <a:pt x="552" y="128"/>
                  </a:lnTo>
                  <a:lnTo>
                    <a:pt x="693" y="89"/>
                  </a:lnTo>
                  <a:lnTo>
                    <a:pt x="853" y="80"/>
                  </a:lnTo>
                  <a:lnTo>
                    <a:pt x="1003" y="61"/>
                  </a:lnTo>
                  <a:lnTo>
                    <a:pt x="10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84440" y="2081160"/>
              <a:ext cx="116280" cy="286200"/>
            </a:xfrm>
            <a:custGeom>
              <a:avLst/>
              <a:gdLst/>
              <a:ahLst/>
              <a:rect l="0" t="0" r="r" b="b"/>
              <a:pathLst>
                <a:path w="323" h="795">
                  <a:moveTo>
                    <a:pt x="203" y="795"/>
                  </a:moveTo>
                  <a:lnTo>
                    <a:pt x="203" y="795"/>
                  </a:lnTo>
                  <a:lnTo>
                    <a:pt x="244" y="685"/>
                  </a:lnTo>
                  <a:lnTo>
                    <a:pt x="288" y="578"/>
                  </a:lnTo>
                  <a:lnTo>
                    <a:pt x="323" y="446"/>
                  </a:lnTo>
                  <a:lnTo>
                    <a:pt x="323" y="322"/>
                  </a:lnTo>
                  <a:lnTo>
                    <a:pt x="297" y="194"/>
                  </a:lnTo>
                  <a:lnTo>
                    <a:pt x="257" y="83"/>
                  </a:lnTo>
                  <a:lnTo>
                    <a:pt x="146" y="22"/>
                  </a:lnTo>
                  <a:lnTo>
                    <a:pt x="17" y="0"/>
                  </a:lnTo>
                  <a:lnTo>
                    <a:pt x="0" y="61"/>
                  </a:lnTo>
                  <a:lnTo>
                    <a:pt x="106" y="83"/>
                  </a:lnTo>
                  <a:lnTo>
                    <a:pt x="172" y="145"/>
                  </a:lnTo>
                  <a:lnTo>
                    <a:pt x="225" y="230"/>
                  </a:lnTo>
                  <a:lnTo>
                    <a:pt x="248" y="340"/>
                  </a:lnTo>
                  <a:lnTo>
                    <a:pt x="248" y="459"/>
                  </a:lnTo>
                  <a:lnTo>
                    <a:pt x="217" y="587"/>
                  </a:lnTo>
                  <a:lnTo>
                    <a:pt x="177" y="698"/>
                  </a:lnTo>
                  <a:lnTo>
                    <a:pt x="146" y="778"/>
                  </a:lnTo>
                  <a:lnTo>
                    <a:pt x="203" y="7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08400" y="2363760"/>
              <a:ext cx="248040" cy="190800"/>
            </a:xfrm>
            <a:custGeom>
              <a:avLst/>
              <a:gdLst/>
              <a:ahLst/>
              <a:rect l="0" t="0" r="r" b="b"/>
              <a:pathLst>
                <a:path w="689" h="530">
                  <a:moveTo>
                    <a:pt x="48" y="516"/>
                  </a:moveTo>
                  <a:lnTo>
                    <a:pt x="39" y="530"/>
                  </a:lnTo>
                  <a:lnTo>
                    <a:pt x="132" y="481"/>
                  </a:lnTo>
                  <a:lnTo>
                    <a:pt x="230" y="424"/>
                  </a:lnTo>
                  <a:lnTo>
                    <a:pt x="314" y="362"/>
                  </a:lnTo>
                  <a:lnTo>
                    <a:pt x="402" y="300"/>
                  </a:lnTo>
                  <a:lnTo>
                    <a:pt x="503" y="233"/>
                  </a:lnTo>
                  <a:lnTo>
                    <a:pt x="570" y="158"/>
                  </a:lnTo>
                  <a:lnTo>
                    <a:pt x="632" y="88"/>
                  </a:lnTo>
                  <a:lnTo>
                    <a:pt x="689" y="8"/>
                  </a:lnTo>
                  <a:lnTo>
                    <a:pt x="628" y="0"/>
                  </a:lnTo>
                  <a:lnTo>
                    <a:pt x="584" y="66"/>
                  </a:lnTo>
                  <a:lnTo>
                    <a:pt x="539" y="123"/>
                  </a:lnTo>
                  <a:lnTo>
                    <a:pt x="464" y="198"/>
                  </a:lnTo>
                  <a:lnTo>
                    <a:pt x="371" y="269"/>
                  </a:lnTo>
                  <a:lnTo>
                    <a:pt x="283" y="322"/>
                  </a:lnTo>
                  <a:lnTo>
                    <a:pt x="208" y="380"/>
                  </a:lnTo>
                  <a:lnTo>
                    <a:pt x="110" y="433"/>
                  </a:lnTo>
                  <a:lnTo>
                    <a:pt x="35" y="464"/>
                  </a:lnTo>
                  <a:lnTo>
                    <a:pt x="22" y="472"/>
                  </a:lnTo>
                  <a:lnTo>
                    <a:pt x="35" y="464"/>
                  </a:lnTo>
                  <a:lnTo>
                    <a:pt x="13" y="481"/>
                  </a:lnTo>
                  <a:lnTo>
                    <a:pt x="0" y="521"/>
                  </a:lnTo>
                  <a:lnTo>
                    <a:pt x="13" y="525"/>
                  </a:lnTo>
                  <a:lnTo>
                    <a:pt x="39" y="530"/>
                  </a:lnTo>
                  <a:lnTo>
                    <a:pt x="48" y="5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971800" y="2532240"/>
              <a:ext cx="351360" cy="124200"/>
            </a:xfrm>
            <a:custGeom>
              <a:avLst/>
              <a:gdLst/>
              <a:ahLst/>
              <a:rect l="0" t="0" r="r" b="b"/>
              <a:pathLst>
                <a:path w="976" h="345">
                  <a:moveTo>
                    <a:pt x="0" y="345"/>
                  </a:moveTo>
                  <a:lnTo>
                    <a:pt x="0" y="345"/>
                  </a:lnTo>
                  <a:lnTo>
                    <a:pt x="97" y="332"/>
                  </a:lnTo>
                  <a:lnTo>
                    <a:pt x="224" y="306"/>
                  </a:lnTo>
                  <a:lnTo>
                    <a:pt x="349" y="275"/>
                  </a:lnTo>
                  <a:lnTo>
                    <a:pt x="494" y="243"/>
                  </a:lnTo>
                  <a:lnTo>
                    <a:pt x="627" y="203"/>
                  </a:lnTo>
                  <a:lnTo>
                    <a:pt x="756" y="155"/>
                  </a:lnTo>
                  <a:lnTo>
                    <a:pt x="870" y="106"/>
                  </a:lnTo>
                  <a:lnTo>
                    <a:pt x="976" y="44"/>
                  </a:lnTo>
                  <a:lnTo>
                    <a:pt x="941" y="0"/>
                  </a:lnTo>
                  <a:lnTo>
                    <a:pt x="861" y="57"/>
                  </a:lnTo>
                  <a:lnTo>
                    <a:pt x="751" y="98"/>
                  </a:lnTo>
                  <a:lnTo>
                    <a:pt x="631" y="137"/>
                  </a:lnTo>
                  <a:lnTo>
                    <a:pt x="486" y="190"/>
                  </a:lnTo>
                  <a:lnTo>
                    <a:pt x="371" y="208"/>
                  </a:lnTo>
                  <a:lnTo>
                    <a:pt x="242" y="247"/>
                  </a:lnTo>
                  <a:lnTo>
                    <a:pt x="114" y="270"/>
                  </a:lnTo>
                  <a:lnTo>
                    <a:pt x="17" y="279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54440" y="2495520"/>
              <a:ext cx="124200" cy="157680"/>
            </a:xfrm>
            <a:custGeom>
              <a:avLst/>
              <a:gdLst/>
              <a:ahLst/>
              <a:rect l="0" t="0" r="r" b="b"/>
              <a:pathLst>
                <a:path w="345" h="438">
                  <a:moveTo>
                    <a:pt x="0" y="26"/>
                  </a:moveTo>
                  <a:lnTo>
                    <a:pt x="17" y="190"/>
                  </a:lnTo>
                  <a:lnTo>
                    <a:pt x="70" y="327"/>
                  </a:lnTo>
                  <a:lnTo>
                    <a:pt x="164" y="420"/>
                  </a:lnTo>
                  <a:lnTo>
                    <a:pt x="328" y="438"/>
                  </a:lnTo>
                  <a:lnTo>
                    <a:pt x="345" y="376"/>
                  </a:lnTo>
                  <a:lnTo>
                    <a:pt x="208" y="363"/>
                  </a:lnTo>
                  <a:lnTo>
                    <a:pt x="133" y="274"/>
                  </a:lnTo>
                  <a:lnTo>
                    <a:pt x="74" y="155"/>
                  </a:lnTo>
                  <a:lnTo>
                    <a:pt x="61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43280" y="247176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94" y="72"/>
                  </a:moveTo>
                  <a:lnTo>
                    <a:pt x="67" y="19"/>
                  </a:lnTo>
                  <a:lnTo>
                    <a:pt x="31" y="0"/>
                  </a:lnTo>
                  <a:lnTo>
                    <a:pt x="8" y="33"/>
                  </a:lnTo>
                  <a:lnTo>
                    <a:pt x="0" y="72"/>
                  </a:lnTo>
                  <a:lnTo>
                    <a:pt x="9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06840" y="2392200"/>
              <a:ext cx="543240" cy="400320"/>
            </a:xfrm>
            <a:custGeom>
              <a:avLst/>
              <a:gdLst/>
              <a:ahLst/>
              <a:rect l="0" t="0" r="r" b="b"/>
              <a:pathLst>
                <a:path w="1509" h="1112">
                  <a:moveTo>
                    <a:pt x="1509" y="520"/>
                  </a:moveTo>
                  <a:lnTo>
                    <a:pt x="1438" y="542"/>
                  </a:lnTo>
                  <a:lnTo>
                    <a:pt x="1359" y="569"/>
                  </a:lnTo>
                  <a:lnTo>
                    <a:pt x="1288" y="587"/>
                  </a:lnTo>
                  <a:lnTo>
                    <a:pt x="1222" y="600"/>
                  </a:lnTo>
                  <a:lnTo>
                    <a:pt x="1191" y="680"/>
                  </a:lnTo>
                  <a:lnTo>
                    <a:pt x="1138" y="733"/>
                  </a:lnTo>
                  <a:lnTo>
                    <a:pt x="1085" y="777"/>
                  </a:lnTo>
                  <a:lnTo>
                    <a:pt x="1028" y="812"/>
                  </a:lnTo>
                  <a:lnTo>
                    <a:pt x="962" y="830"/>
                  </a:lnTo>
                  <a:lnTo>
                    <a:pt x="904" y="856"/>
                  </a:lnTo>
                  <a:lnTo>
                    <a:pt x="852" y="856"/>
                  </a:lnTo>
                  <a:lnTo>
                    <a:pt x="807" y="878"/>
                  </a:lnTo>
                  <a:lnTo>
                    <a:pt x="755" y="891"/>
                  </a:lnTo>
                  <a:lnTo>
                    <a:pt x="679" y="891"/>
                  </a:lnTo>
                  <a:lnTo>
                    <a:pt x="599" y="878"/>
                  </a:lnTo>
                  <a:lnTo>
                    <a:pt x="511" y="865"/>
                  </a:lnTo>
                  <a:lnTo>
                    <a:pt x="432" y="830"/>
                  </a:lnTo>
                  <a:lnTo>
                    <a:pt x="352" y="799"/>
                  </a:lnTo>
                  <a:lnTo>
                    <a:pt x="295" y="777"/>
                  </a:lnTo>
                  <a:lnTo>
                    <a:pt x="251" y="737"/>
                  </a:lnTo>
                  <a:lnTo>
                    <a:pt x="216" y="688"/>
                  </a:lnTo>
                  <a:lnTo>
                    <a:pt x="216" y="618"/>
                  </a:lnTo>
                  <a:lnTo>
                    <a:pt x="211" y="555"/>
                  </a:lnTo>
                  <a:lnTo>
                    <a:pt x="233" y="476"/>
                  </a:lnTo>
                  <a:lnTo>
                    <a:pt x="273" y="392"/>
                  </a:lnTo>
                  <a:lnTo>
                    <a:pt x="326" y="339"/>
                  </a:lnTo>
                  <a:lnTo>
                    <a:pt x="374" y="273"/>
                  </a:lnTo>
                  <a:lnTo>
                    <a:pt x="432" y="246"/>
                  </a:lnTo>
                  <a:lnTo>
                    <a:pt x="440" y="185"/>
                  </a:lnTo>
                  <a:lnTo>
                    <a:pt x="436" y="136"/>
                  </a:lnTo>
                  <a:lnTo>
                    <a:pt x="463" y="66"/>
                  </a:lnTo>
                  <a:lnTo>
                    <a:pt x="485" y="0"/>
                  </a:lnTo>
                  <a:lnTo>
                    <a:pt x="388" y="70"/>
                  </a:lnTo>
                  <a:lnTo>
                    <a:pt x="282" y="158"/>
                  </a:lnTo>
                  <a:lnTo>
                    <a:pt x="189" y="255"/>
                  </a:lnTo>
                  <a:lnTo>
                    <a:pt x="105" y="374"/>
                  </a:lnTo>
                  <a:lnTo>
                    <a:pt x="48" y="507"/>
                  </a:lnTo>
                  <a:lnTo>
                    <a:pt x="0" y="631"/>
                  </a:lnTo>
                  <a:lnTo>
                    <a:pt x="8" y="750"/>
                  </a:lnTo>
                  <a:lnTo>
                    <a:pt x="39" y="865"/>
                  </a:lnTo>
                  <a:lnTo>
                    <a:pt x="105" y="953"/>
                  </a:lnTo>
                  <a:lnTo>
                    <a:pt x="194" y="1019"/>
                  </a:lnTo>
                  <a:lnTo>
                    <a:pt x="291" y="1063"/>
                  </a:lnTo>
                  <a:lnTo>
                    <a:pt x="396" y="1094"/>
                  </a:lnTo>
                  <a:lnTo>
                    <a:pt x="515" y="1107"/>
                  </a:lnTo>
                  <a:lnTo>
                    <a:pt x="621" y="1112"/>
                  </a:lnTo>
                  <a:lnTo>
                    <a:pt x="723" y="1094"/>
                  </a:lnTo>
                  <a:lnTo>
                    <a:pt x="816" y="1072"/>
                  </a:lnTo>
                  <a:lnTo>
                    <a:pt x="904" y="1037"/>
                  </a:lnTo>
                  <a:lnTo>
                    <a:pt x="1002" y="1002"/>
                  </a:lnTo>
                  <a:lnTo>
                    <a:pt x="1103" y="949"/>
                  </a:lnTo>
                  <a:lnTo>
                    <a:pt x="1200" y="904"/>
                  </a:lnTo>
                  <a:lnTo>
                    <a:pt x="1284" y="834"/>
                  </a:lnTo>
                  <a:lnTo>
                    <a:pt x="1368" y="750"/>
                  </a:lnTo>
                  <a:lnTo>
                    <a:pt x="1442" y="649"/>
                  </a:lnTo>
                  <a:lnTo>
                    <a:pt x="1509" y="520"/>
                  </a:lnTo>
                  <a:close/>
                </a:path>
              </a:pathLst>
            </a:custGeom>
            <a:solidFill>
              <a:srgbClr val="00338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30560" y="2567160"/>
              <a:ext cx="117720" cy="55800"/>
            </a:xfrm>
            <a:custGeom>
              <a:avLst/>
              <a:gdLst/>
              <a:ahLst/>
              <a:rect l="0" t="0" r="r" b="b"/>
              <a:pathLst>
                <a:path w="327" h="155">
                  <a:moveTo>
                    <a:pt x="70" y="111"/>
                  </a:moveTo>
                  <a:lnTo>
                    <a:pt x="26" y="155"/>
                  </a:lnTo>
                  <a:lnTo>
                    <a:pt x="114" y="133"/>
                  </a:lnTo>
                  <a:lnTo>
                    <a:pt x="181" y="111"/>
                  </a:lnTo>
                  <a:lnTo>
                    <a:pt x="265" y="89"/>
                  </a:lnTo>
                  <a:lnTo>
                    <a:pt x="327" y="61"/>
                  </a:lnTo>
                  <a:lnTo>
                    <a:pt x="322" y="0"/>
                  </a:lnTo>
                  <a:lnTo>
                    <a:pt x="252" y="26"/>
                  </a:lnTo>
                  <a:lnTo>
                    <a:pt x="172" y="48"/>
                  </a:lnTo>
                  <a:lnTo>
                    <a:pt x="101" y="61"/>
                  </a:lnTo>
                  <a:lnTo>
                    <a:pt x="48" y="89"/>
                  </a:lnTo>
                  <a:lnTo>
                    <a:pt x="0" y="124"/>
                  </a:lnTo>
                  <a:lnTo>
                    <a:pt x="48" y="89"/>
                  </a:lnTo>
                  <a:lnTo>
                    <a:pt x="22" y="93"/>
                  </a:lnTo>
                  <a:lnTo>
                    <a:pt x="0" y="124"/>
                  </a:lnTo>
                  <a:lnTo>
                    <a:pt x="8" y="146"/>
                  </a:lnTo>
                  <a:lnTo>
                    <a:pt x="26" y="155"/>
                  </a:lnTo>
                  <a:lnTo>
                    <a:pt x="7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92320" y="2604960"/>
              <a:ext cx="162360" cy="114840"/>
            </a:xfrm>
            <a:custGeom>
              <a:avLst/>
              <a:gdLst/>
              <a:ahLst/>
              <a:rect l="0" t="0" r="r" b="b"/>
              <a:pathLst>
                <a:path w="451" h="319">
                  <a:moveTo>
                    <a:pt x="8" y="319"/>
                  </a:moveTo>
                  <a:lnTo>
                    <a:pt x="8" y="319"/>
                  </a:lnTo>
                  <a:lnTo>
                    <a:pt x="52" y="306"/>
                  </a:lnTo>
                  <a:lnTo>
                    <a:pt x="101" y="293"/>
                  </a:lnTo>
                  <a:lnTo>
                    <a:pt x="168" y="279"/>
                  </a:lnTo>
                  <a:lnTo>
                    <a:pt x="243" y="244"/>
                  </a:lnTo>
                  <a:lnTo>
                    <a:pt x="300" y="212"/>
                  </a:lnTo>
                  <a:lnTo>
                    <a:pt x="368" y="159"/>
                  </a:lnTo>
                  <a:lnTo>
                    <a:pt x="425" y="98"/>
                  </a:lnTo>
                  <a:lnTo>
                    <a:pt x="451" y="0"/>
                  </a:lnTo>
                  <a:lnTo>
                    <a:pt x="394" y="13"/>
                  </a:lnTo>
                  <a:lnTo>
                    <a:pt x="359" y="74"/>
                  </a:lnTo>
                  <a:lnTo>
                    <a:pt x="331" y="124"/>
                  </a:lnTo>
                  <a:lnTo>
                    <a:pt x="283" y="155"/>
                  </a:lnTo>
                  <a:lnTo>
                    <a:pt x="230" y="181"/>
                  </a:lnTo>
                  <a:lnTo>
                    <a:pt x="164" y="208"/>
                  </a:lnTo>
                  <a:lnTo>
                    <a:pt x="101" y="225"/>
                  </a:lnTo>
                  <a:lnTo>
                    <a:pt x="48" y="234"/>
                  </a:lnTo>
                  <a:lnTo>
                    <a:pt x="0" y="262"/>
                  </a:lnTo>
                  <a:lnTo>
                    <a:pt x="8" y="3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87480" y="2643120"/>
              <a:ext cx="213120" cy="79560"/>
            </a:xfrm>
            <a:custGeom>
              <a:avLst/>
              <a:gdLst/>
              <a:ahLst/>
              <a:rect l="0" t="0" r="r" b="b"/>
              <a:pathLst>
                <a:path w="592" h="221">
                  <a:moveTo>
                    <a:pt x="0" y="74"/>
                  </a:moveTo>
                  <a:lnTo>
                    <a:pt x="0" y="74"/>
                  </a:lnTo>
                  <a:lnTo>
                    <a:pt x="44" y="101"/>
                  </a:lnTo>
                  <a:lnTo>
                    <a:pt x="105" y="128"/>
                  </a:lnTo>
                  <a:lnTo>
                    <a:pt x="181" y="155"/>
                  </a:lnTo>
                  <a:lnTo>
                    <a:pt x="265" y="190"/>
                  </a:lnTo>
                  <a:lnTo>
                    <a:pt x="362" y="208"/>
                  </a:lnTo>
                  <a:lnTo>
                    <a:pt x="441" y="208"/>
                  </a:lnTo>
                  <a:lnTo>
                    <a:pt x="526" y="221"/>
                  </a:lnTo>
                  <a:lnTo>
                    <a:pt x="592" y="208"/>
                  </a:lnTo>
                  <a:lnTo>
                    <a:pt x="579" y="146"/>
                  </a:lnTo>
                  <a:lnTo>
                    <a:pt x="544" y="155"/>
                  </a:lnTo>
                  <a:lnTo>
                    <a:pt x="478" y="142"/>
                  </a:lnTo>
                  <a:lnTo>
                    <a:pt x="397" y="142"/>
                  </a:lnTo>
                  <a:lnTo>
                    <a:pt x="314" y="133"/>
                  </a:lnTo>
                  <a:lnTo>
                    <a:pt x="243" y="97"/>
                  </a:lnTo>
                  <a:lnTo>
                    <a:pt x="155" y="61"/>
                  </a:lnTo>
                  <a:lnTo>
                    <a:pt x="101" y="39"/>
                  </a:lnTo>
                  <a:lnTo>
                    <a:pt x="74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71640" y="2465280"/>
              <a:ext cx="106560" cy="201960"/>
            </a:xfrm>
            <a:custGeom>
              <a:avLst/>
              <a:gdLst/>
              <a:ahLst/>
              <a:rect l="0" t="0" r="r" b="b"/>
              <a:pathLst>
                <a:path w="296" h="561">
                  <a:moveTo>
                    <a:pt x="212" y="52"/>
                  </a:moveTo>
                  <a:lnTo>
                    <a:pt x="243" y="8"/>
                  </a:lnTo>
                  <a:lnTo>
                    <a:pt x="181" y="52"/>
                  </a:lnTo>
                  <a:lnTo>
                    <a:pt x="119" y="114"/>
                  </a:lnTo>
                  <a:lnTo>
                    <a:pt x="61" y="189"/>
                  </a:lnTo>
                  <a:lnTo>
                    <a:pt x="30" y="268"/>
                  </a:lnTo>
                  <a:lnTo>
                    <a:pt x="8" y="344"/>
                  </a:lnTo>
                  <a:lnTo>
                    <a:pt x="0" y="424"/>
                  </a:lnTo>
                  <a:lnTo>
                    <a:pt x="8" y="499"/>
                  </a:lnTo>
                  <a:lnTo>
                    <a:pt x="44" y="561"/>
                  </a:lnTo>
                  <a:lnTo>
                    <a:pt x="110" y="499"/>
                  </a:lnTo>
                  <a:lnTo>
                    <a:pt x="74" y="450"/>
                  </a:lnTo>
                  <a:lnTo>
                    <a:pt x="70" y="393"/>
                  </a:lnTo>
                  <a:lnTo>
                    <a:pt x="74" y="331"/>
                  </a:lnTo>
                  <a:lnTo>
                    <a:pt x="97" y="260"/>
                  </a:lnTo>
                  <a:lnTo>
                    <a:pt x="136" y="194"/>
                  </a:lnTo>
                  <a:lnTo>
                    <a:pt x="168" y="141"/>
                  </a:lnTo>
                  <a:lnTo>
                    <a:pt x="208" y="97"/>
                  </a:lnTo>
                  <a:lnTo>
                    <a:pt x="261" y="70"/>
                  </a:lnTo>
                  <a:lnTo>
                    <a:pt x="296" y="26"/>
                  </a:lnTo>
                  <a:lnTo>
                    <a:pt x="261" y="70"/>
                  </a:lnTo>
                  <a:lnTo>
                    <a:pt x="274" y="57"/>
                  </a:lnTo>
                  <a:lnTo>
                    <a:pt x="296" y="26"/>
                  </a:lnTo>
                  <a:lnTo>
                    <a:pt x="278" y="0"/>
                  </a:lnTo>
                  <a:lnTo>
                    <a:pt x="243" y="8"/>
                  </a:lnTo>
                  <a:lnTo>
                    <a:pt x="21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44720" y="2384280"/>
              <a:ext cx="49680" cy="101880"/>
            </a:xfrm>
            <a:custGeom>
              <a:avLst/>
              <a:gdLst/>
              <a:ahLst/>
              <a:rect l="0" t="0" r="r" b="b"/>
              <a:pathLst>
                <a:path w="138" h="283">
                  <a:moveTo>
                    <a:pt x="107" y="52"/>
                  </a:moveTo>
                  <a:lnTo>
                    <a:pt x="80" y="22"/>
                  </a:lnTo>
                  <a:lnTo>
                    <a:pt x="49" y="92"/>
                  </a:lnTo>
                  <a:lnTo>
                    <a:pt x="22" y="150"/>
                  </a:lnTo>
                  <a:lnTo>
                    <a:pt x="13" y="217"/>
                  </a:lnTo>
                  <a:lnTo>
                    <a:pt x="0" y="283"/>
                  </a:lnTo>
                  <a:lnTo>
                    <a:pt x="89" y="247"/>
                  </a:lnTo>
                  <a:lnTo>
                    <a:pt x="84" y="190"/>
                  </a:lnTo>
                  <a:lnTo>
                    <a:pt x="89" y="146"/>
                  </a:lnTo>
                  <a:lnTo>
                    <a:pt x="116" y="79"/>
                  </a:lnTo>
                  <a:lnTo>
                    <a:pt x="138" y="30"/>
                  </a:lnTo>
                  <a:lnTo>
                    <a:pt x="93" y="4"/>
                  </a:lnTo>
                  <a:lnTo>
                    <a:pt x="138" y="30"/>
                  </a:lnTo>
                  <a:lnTo>
                    <a:pt x="138" y="4"/>
                  </a:lnTo>
                  <a:lnTo>
                    <a:pt x="121" y="0"/>
                  </a:lnTo>
                  <a:lnTo>
                    <a:pt x="98" y="13"/>
                  </a:lnTo>
                  <a:lnTo>
                    <a:pt x="80" y="22"/>
                  </a:lnTo>
                  <a:lnTo>
                    <a:pt x="107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97120" y="2386080"/>
              <a:ext cx="190800" cy="325800"/>
            </a:xfrm>
            <a:custGeom>
              <a:avLst/>
              <a:gdLst/>
              <a:ahLst/>
              <a:rect l="0" t="0" r="r" b="b"/>
              <a:pathLst>
                <a:path w="530" h="905">
                  <a:moveTo>
                    <a:pt x="110" y="853"/>
                  </a:moveTo>
                  <a:lnTo>
                    <a:pt x="110" y="853"/>
                  </a:lnTo>
                  <a:lnTo>
                    <a:pt x="74" y="751"/>
                  </a:lnTo>
                  <a:lnTo>
                    <a:pt x="66" y="649"/>
                  </a:lnTo>
                  <a:lnTo>
                    <a:pt x="110" y="521"/>
                  </a:lnTo>
                  <a:lnTo>
                    <a:pt x="171" y="402"/>
                  </a:lnTo>
                  <a:lnTo>
                    <a:pt x="242" y="292"/>
                  </a:lnTo>
                  <a:lnTo>
                    <a:pt x="331" y="198"/>
                  </a:lnTo>
                  <a:lnTo>
                    <a:pt x="433" y="101"/>
                  </a:lnTo>
                  <a:lnTo>
                    <a:pt x="530" y="52"/>
                  </a:lnTo>
                  <a:lnTo>
                    <a:pt x="503" y="0"/>
                  </a:lnTo>
                  <a:lnTo>
                    <a:pt x="397" y="66"/>
                  </a:lnTo>
                  <a:lnTo>
                    <a:pt x="300" y="154"/>
                  </a:lnTo>
                  <a:lnTo>
                    <a:pt x="202" y="265"/>
                  </a:lnTo>
                  <a:lnTo>
                    <a:pt x="101" y="384"/>
                  </a:lnTo>
                  <a:lnTo>
                    <a:pt x="39" y="530"/>
                  </a:lnTo>
                  <a:lnTo>
                    <a:pt x="8" y="666"/>
                  </a:lnTo>
                  <a:lnTo>
                    <a:pt x="0" y="786"/>
                  </a:lnTo>
                  <a:lnTo>
                    <a:pt x="44" y="905"/>
                  </a:lnTo>
                  <a:lnTo>
                    <a:pt x="110" y="8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11520" y="2693880"/>
              <a:ext cx="294120" cy="111600"/>
            </a:xfrm>
            <a:custGeom>
              <a:avLst/>
              <a:gdLst/>
              <a:ahLst/>
              <a:rect l="0" t="0" r="r" b="b"/>
              <a:pathLst>
                <a:path w="817" h="310">
                  <a:moveTo>
                    <a:pt x="813" y="203"/>
                  </a:moveTo>
                  <a:lnTo>
                    <a:pt x="813" y="203"/>
                  </a:lnTo>
                  <a:lnTo>
                    <a:pt x="734" y="217"/>
                  </a:lnTo>
                  <a:lnTo>
                    <a:pt x="632" y="240"/>
                  </a:lnTo>
                  <a:lnTo>
                    <a:pt x="530" y="240"/>
                  </a:lnTo>
                  <a:lnTo>
                    <a:pt x="411" y="225"/>
                  </a:lnTo>
                  <a:lnTo>
                    <a:pt x="305" y="203"/>
                  </a:lnTo>
                  <a:lnTo>
                    <a:pt x="217" y="150"/>
                  </a:lnTo>
                  <a:lnTo>
                    <a:pt x="119" y="93"/>
                  </a:lnTo>
                  <a:lnTo>
                    <a:pt x="66" y="0"/>
                  </a:lnTo>
                  <a:lnTo>
                    <a:pt x="0" y="48"/>
                  </a:lnTo>
                  <a:lnTo>
                    <a:pt x="70" y="142"/>
                  </a:lnTo>
                  <a:lnTo>
                    <a:pt x="171" y="212"/>
                  </a:lnTo>
                  <a:lnTo>
                    <a:pt x="261" y="257"/>
                  </a:lnTo>
                  <a:lnTo>
                    <a:pt x="380" y="301"/>
                  </a:lnTo>
                  <a:lnTo>
                    <a:pt x="494" y="310"/>
                  </a:lnTo>
                  <a:lnTo>
                    <a:pt x="614" y="297"/>
                  </a:lnTo>
                  <a:lnTo>
                    <a:pt x="711" y="284"/>
                  </a:lnTo>
                  <a:lnTo>
                    <a:pt x="817" y="262"/>
                  </a:lnTo>
                  <a:lnTo>
                    <a:pt x="813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95560" y="2565360"/>
              <a:ext cx="263880" cy="225720"/>
            </a:xfrm>
            <a:custGeom>
              <a:avLst/>
              <a:gdLst/>
              <a:ahLst/>
              <a:rect l="0" t="0" r="r" b="b"/>
              <a:pathLst>
                <a:path w="733" h="627">
                  <a:moveTo>
                    <a:pt x="702" y="70"/>
                  </a:moveTo>
                  <a:lnTo>
                    <a:pt x="658" y="35"/>
                  </a:lnTo>
                  <a:lnTo>
                    <a:pt x="596" y="167"/>
                  </a:lnTo>
                  <a:lnTo>
                    <a:pt x="538" y="255"/>
                  </a:lnTo>
                  <a:lnTo>
                    <a:pt x="455" y="331"/>
                  </a:lnTo>
                  <a:lnTo>
                    <a:pt x="384" y="397"/>
                  </a:lnTo>
                  <a:lnTo>
                    <a:pt x="277" y="455"/>
                  </a:lnTo>
                  <a:lnTo>
                    <a:pt x="180" y="499"/>
                  </a:lnTo>
                  <a:lnTo>
                    <a:pt x="88" y="521"/>
                  </a:lnTo>
                  <a:lnTo>
                    <a:pt x="0" y="561"/>
                  </a:lnTo>
                  <a:lnTo>
                    <a:pt x="13" y="627"/>
                  </a:lnTo>
                  <a:lnTo>
                    <a:pt x="92" y="587"/>
                  </a:lnTo>
                  <a:lnTo>
                    <a:pt x="189" y="552"/>
                  </a:lnTo>
                  <a:lnTo>
                    <a:pt x="304" y="508"/>
                  </a:lnTo>
                  <a:lnTo>
                    <a:pt x="402" y="459"/>
                  </a:lnTo>
                  <a:lnTo>
                    <a:pt x="494" y="389"/>
                  </a:lnTo>
                  <a:lnTo>
                    <a:pt x="587" y="299"/>
                  </a:lnTo>
                  <a:lnTo>
                    <a:pt x="666" y="185"/>
                  </a:lnTo>
                  <a:lnTo>
                    <a:pt x="733" y="35"/>
                  </a:lnTo>
                  <a:lnTo>
                    <a:pt x="684" y="13"/>
                  </a:lnTo>
                  <a:lnTo>
                    <a:pt x="733" y="35"/>
                  </a:lnTo>
                  <a:lnTo>
                    <a:pt x="724" y="17"/>
                  </a:lnTo>
                  <a:lnTo>
                    <a:pt x="702" y="0"/>
                  </a:lnTo>
                  <a:lnTo>
                    <a:pt x="671" y="22"/>
                  </a:lnTo>
                  <a:lnTo>
                    <a:pt x="658" y="35"/>
                  </a:lnTo>
                  <a:lnTo>
                    <a:pt x="702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89480" y="1662120"/>
              <a:ext cx="1003680" cy="703800"/>
            </a:xfrm>
            <a:custGeom>
              <a:avLst/>
              <a:gdLst/>
              <a:ahLst/>
              <a:rect l="0" t="0" r="r" b="b"/>
              <a:pathLst>
                <a:path w="2788" h="1955">
                  <a:moveTo>
                    <a:pt x="149" y="1955"/>
                  </a:moveTo>
                  <a:lnTo>
                    <a:pt x="171" y="1924"/>
                  </a:lnTo>
                  <a:lnTo>
                    <a:pt x="180" y="1889"/>
                  </a:lnTo>
                  <a:lnTo>
                    <a:pt x="198" y="1862"/>
                  </a:lnTo>
                  <a:lnTo>
                    <a:pt x="207" y="1823"/>
                  </a:lnTo>
                  <a:lnTo>
                    <a:pt x="282" y="1809"/>
                  </a:lnTo>
                  <a:lnTo>
                    <a:pt x="383" y="1774"/>
                  </a:lnTo>
                  <a:lnTo>
                    <a:pt x="502" y="1726"/>
                  </a:lnTo>
                  <a:lnTo>
                    <a:pt x="648" y="1682"/>
                  </a:lnTo>
                  <a:lnTo>
                    <a:pt x="794" y="1624"/>
                  </a:lnTo>
                  <a:lnTo>
                    <a:pt x="953" y="1554"/>
                  </a:lnTo>
                  <a:lnTo>
                    <a:pt x="1134" y="1483"/>
                  </a:lnTo>
                  <a:lnTo>
                    <a:pt x="1301" y="1412"/>
                  </a:lnTo>
                  <a:lnTo>
                    <a:pt x="1473" y="1332"/>
                  </a:lnTo>
                  <a:lnTo>
                    <a:pt x="1641" y="1271"/>
                  </a:lnTo>
                  <a:lnTo>
                    <a:pt x="1800" y="1200"/>
                  </a:lnTo>
                  <a:lnTo>
                    <a:pt x="1950" y="1129"/>
                  </a:lnTo>
                  <a:lnTo>
                    <a:pt x="2092" y="1068"/>
                  </a:lnTo>
                  <a:lnTo>
                    <a:pt x="2202" y="1028"/>
                  </a:lnTo>
                  <a:lnTo>
                    <a:pt x="2281" y="993"/>
                  </a:lnTo>
                  <a:lnTo>
                    <a:pt x="2343" y="962"/>
                  </a:lnTo>
                  <a:lnTo>
                    <a:pt x="2449" y="882"/>
                  </a:lnTo>
                  <a:lnTo>
                    <a:pt x="2542" y="755"/>
                  </a:lnTo>
                  <a:lnTo>
                    <a:pt x="2590" y="631"/>
                  </a:lnTo>
                  <a:lnTo>
                    <a:pt x="2603" y="485"/>
                  </a:lnTo>
                  <a:lnTo>
                    <a:pt x="2572" y="357"/>
                  </a:lnTo>
                  <a:lnTo>
                    <a:pt x="2511" y="251"/>
                  </a:lnTo>
                  <a:lnTo>
                    <a:pt x="2383" y="185"/>
                  </a:lnTo>
                  <a:lnTo>
                    <a:pt x="2220" y="180"/>
                  </a:lnTo>
                  <a:lnTo>
                    <a:pt x="2114" y="211"/>
                  </a:lnTo>
                  <a:lnTo>
                    <a:pt x="1972" y="246"/>
                  </a:lnTo>
                  <a:lnTo>
                    <a:pt x="1848" y="291"/>
                  </a:lnTo>
                  <a:lnTo>
                    <a:pt x="1689" y="357"/>
                  </a:lnTo>
                  <a:lnTo>
                    <a:pt x="1539" y="423"/>
                  </a:lnTo>
                  <a:lnTo>
                    <a:pt x="1376" y="508"/>
                  </a:lnTo>
                  <a:lnTo>
                    <a:pt x="1218" y="583"/>
                  </a:lnTo>
                  <a:lnTo>
                    <a:pt x="1041" y="671"/>
                  </a:lnTo>
                  <a:lnTo>
                    <a:pt x="891" y="750"/>
                  </a:lnTo>
                  <a:lnTo>
                    <a:pt x="741" y="834"/>
                  </a:lnTo>
                  <a:lnTo>
                    <a:pt x="595" y="922"/>
                  </a:lnTo>
                  <a:lnTo>
                    <a:pt x="463" y="988"/>
                  </a:lnTo>
                  <a:lnTo>
                    <a:pt x="348" y="1063"/>
                  </a:lnTo>
                  <a:lnTo>
                    <a:pt x="255" y="1121"/>
                  </a:lnTo>
                  <a:lnTo>
                    <a:pt x="167" y="1160"/>
                  </a:lnTo>
                  <a:lnTo>
                    <a:pt x="110" y="1204"/>
                  </a:lnTo>
                  <a:lnTo>
                    <a:pt x="83" y="1204"/>
                  </a:lnTo>
                  <a:lnTo>
                    <a:pt x="57" y="1204"/>
                  </a:lnTo>
                  <a:lnTo>
                    <a:pt x="30" y="1196"/>
                  </a:lnTo>
                  <a:lnTo>
                    <a:pt x="0" y="1196"/>
                  </a:lnTo>
                  <a:lnTo>
                    <a:pt x="97" y="1129"/>
                  </a:lnTo>
                  <a:lnTo>
                    <a:pt x="216" y="1059"/>
                  </a:lnTo>
                  <a:lnTo>
                    <a:pt x="357" y="971"/>
                  </a:lnTo>
                  <a:lnTo>
                    <a:pt x="511" y="874"/>
                  </a:lnTo>
                  <a:lnTo>
                    <a:pt x="687" y="772"/>
                  </a:lnTo>
                  <a:lnTo>
                    <a:pt x="860" y="680"/>
                  </a:lnTo>
                  <a:lnTo>
                    <a:pt x="1059" y="561"/>
                  </a:lnTo>
                  <a:lnTo>
                    <a:pt x="1231" y="458"/>
                  </a:lnTo>
                  <a:lnTo>
                    <a:pt x="1416" y="357"/>
                  </a:lnTo>
                  <a:lnTo>
                    <a:pt x="1610" y="264"/>
                  </a:lnTo>
                  <a:lnTo>
                    <a:pt x="1795" y="176"/>
                  </a:lnTo>
                  <a:lnTo>
                    <a:pt x="1945" y="114"/>
                  </a:lnTo>
                  <a:lnTo>
                    <a:pt x="2105" y="52"/>
                  </a:lnTo>
                  <a:lnTo>
                    <a:pt x="2228" y="8"/>
                  </a:lnTo>
                  <a:lnTo>
                    <a:pt x="2334" y="0"/>
                  </a:lnTo>
                  <a:lnTo>
                    <a:pt x="2409" y="4"/>
                  </a:lnTo>
                  <a:lnTo>
                    <a:pt x="2528" y="52"/>
                  </a:lnTo>
                  <a:lnTo>
                    <a:pt x="2634" y="123"/>
                  </a:lnTo>
                  <a:lnTo>
                    <a:pt x="2709" y="211"/>
                  </a:lnTo>
                  <a:lnTo>
                    <a:pt x="2771" y="317"/>
                  </a:lnTo>
                  <a:lnTo>
                    <a:pt x="2788" y="440"/>
                  </a:lnTo>
                  <a:lnTo>
                    <a:pt x="2758" y="583"/>
                  </a:lnTo>
                  <a:lnTo>
                    <a:pt x="2700" y="728"/>
                  </a:lnTo>
                  <a:lnTo>
                    <a:pt x="2586" y="891"/>
                  </a:lnTo>
                  <a:lnTo>
                    <a:pt x="2515" y="966"/>
                  </a:lnTo>
                  <a:lnTo>
                    <a:pt x="2418" y="1028"/>
                  </a:lnTo>
                  <a:lnTo>
                    <a:pt x="2303" y="1099"/>
                  </a:lnTo>
                  <a:lnTo>
                    <a:pt x="2171" y="1169"/>
                  </a:lnTo>
                  <a:lnTo>
                    <a:pt x="2011" y="1240"/>
                  </a:lnTo>
                  <a:lnTo>
                    <a:pt x="1844" y="1310"/>
                  </a:lnTo>
                  <a:lnTo>
                    <a:pt x="1672" y="1385"/>
                  </a:lnTo>
                  <a:lnTo>
                    <a:pt x="1491" y="1470"/>
                  </a:lnTo>
                  <a:lnTo>
                    <a:pt x="1301" y="1536"/>
                  </a:lnTo>
                  <a:lnTo>
                    <a:pt x="1107" y="1607"/>
                  </a:lnTo>
                  <a:lnTo>
                    <a:pt x="935" y="1673"/>
                  </a:lnTo>
                  <a:lnTo>
                    <a:pt x="750" y="1739"/>
                  </a:lnTo>
                  <a:lnTo>
                    <a:pt x="577" y="1796"/>
                  </a:lnTo>
                  <a:lnTo>
                    <a:pt x="410" y="1854"/>
                  </a:lnTo>
                  <a:lnTo>
                    <a:pt x="277" y="1911"/>
                  </a:lnTo>
                  <a:lnTo>
                    <a:pt x="149" y="1955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37000" y="2309760"/>
              <a:ext cx="38520" cy="57600"/>
            </a:xfrm>
            <a:custGeom>
              <a:avLst/>
              <a:gdLst/>
              <a:ahLst/>
              <a:rect l="0" t="0" r="r" b="b"/>
              <a:pathLst>
                <a:path w="107" h="160">
                  <a:moveTo>
                    <a:pt x="81" y="0"/>
                  </a:moveTo>
                  <a:lnTo>
                    <a:pt x="40" y="26"/>
                  </a:lnTo>
                  <a:lnTo>
                    <a:pt x="26" y="62"/>
                  </a:lnTo>
                  <a:lnTo>
                    <a:pt x="22" y="89"/>
                  </a:lnTo>
                  <a:lnTo>
                    <a:pt x="8" y="115"/>
                  </a:lnTo>
                  <a:lnTo>
                    <a:pt x="0" y="143"/>
                  </a:lnTo>
                  <a:lnTo>
                    <a:pt x="58" y="160"/>
                  </a:lnTo>
                  <a:lnTo>
                    <a:pt x="67" y="129"/>
                  </a:lnTo>
                  <a:lnTo>
                    <a:pt x="85" y="106"/>
                  </a:lnTo>
                  <a:lnTo>
                    <a:pt x="90" y="80"/>
                  </a:lnTo>
                  <a:lnTo>
                    <a:pt x="107" y="30"/>
                  </a:lnTo>
                  <a:lnTo>
                    <a:pt x="71" y="58"/>
                  </a:lnTo>
                  <a:lnTo>
                    <a:pt x="107" y="30"/>
                  </a:lnTo>
                  <a:lnTo>
                    <a:pt x="99" y="13"/>
                  </a:lnTo>
                  <a:lnTo>
                    <a:pt x="81" y="0"/>
                  </a:lnTo>
                  <a:lnTo>
                    <a:pt x="58" y="13"/>
                  </a:lnTo>
                  <a:lnTo>
                    <a:pt x="40" y="2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60760" y="1996920"/>
              <a:ext cx="775080" cy="340200"/>
            </a:xfrm>
            <a:custGeom>
              <a:avLst/>
              <a:gdLst/>
              <a:ahLst/>
              <a:rect l="0" t="0" r="r" b="b"/>
              <a:pathLst>
                <a:path w="2153" h="945">
                  <a:moveTo>
                    <a:pt x="2131" y="13"/>
                  </a:moveTo>
                  <a:lnTo>
                    <a:pt x="2140" y="0"/>
                  </a:lnTo>
                  <a:lnTo>
                    <a:pt x="2065" y="35"/>
                  </a:lnTo>
                  <a:lnTo>
                    <a:pt x="1995" y="66"/>
                  </a:lnTo>
                  <a:lnTo>
                    <a:pt x="1880" y="110"/>
                  </a:lnTo>
                  <a:lnTo>
                    <a:pt x="1743" y="171"/>
                  </a:lnTo>
                  <a:lnTo>
                    <a:pt x="1597" y="239"/>
                  </a:lnTo>
                  <a:lnTo>
                    <a:pt x="1442" y="305"/>
                  </a:lnTo>
                  <a:lnTo>
                    <a:pt x="1271" y="384"/>
                  </a:lnTo>
                  <a:lnTo>
                    <a:pt x="1094" y="455"/>
                  </a:lnTo>
                  <a:lnTo>
                    <a:pt x="922" y="530"/>
                  </a:lnTo>
                  <a:lnTo>
                    <a:pt x="768" y="600"/>
                  </a:lnTo>
                  <a:lnTo>
                    <a:pt x="596" y="662"/>
                  </a:lnTo>
                  <a:lnTo>
                    <a:pt x="440" y="738"/>
                  </a:lnTo>
                  <a:lnTo>
                    <a:pt x="304" y="782"/>
                  </a:lnTo>
                  <a:lnTo>
                    <a:pt x="176" y="835"/>
                  </a:lnTo>
                  <a:lnTo>
                    <a:pt x="79" y="861"/>
                  </a:lnTo>
                  <a:lnTo>
                    <a:pt x="22" y="875"/>
                  </a:lnTo>
                  <a:lnTo>
                    <a:pt x="0" y="945"/>
                  </a:lnTo>
                  <a:lnTo>
                    <a:pt x="79" y="919"/>
                  </a:lnTo>
                  <a:lnTo>
                    <a:pt x="189" y="897"/>
                  </a:lnTo>
                  <a:lnTo>
                    <a:pt x="308" y="844"/>
                  </a:lnTo>
                  <a:lnTo>
                    <a:pt x="449" y="791"/>
                  </a:lnTo>
                  <a:lnTo>
                    <a:pt x="591" y="734"/>
                  </a:lnTo>
                  <a:lnTo>
                    <a:pt x="759" y="662"/>
                  </a:lnTo>
                  <a:lnTo>
                    <a:pt x="931" y="591"/>
                  </a:lnTo>
                  <a:lnTo>
                    <a:pt x="1094" y="521"/>
                  </a:lnTo>
                  <a:lnTo>
                    <a:pt x="1271" y="441"/>
                  </a:lnTo>
                  <a:lnTo>
                    <a:pt x="1442" y="375"/>
                  </a:lnTo>
                  <a:lnTo>
                    <a:pt x="1606" y="296"/>
                  </a:lnTo>
                  <a:lnTo>
                    <a:pt x="1752" y="233"/>
                  </a:lnTo>
                  <a:lnTo>
                    <a:pt x="1889" y="180"/>
                  </a:lnTo>
                  <a:lnTo>
                    <a:pt x="1995" y="132"/>
                  </a:lnTo>
                  <a:lnTo>
                    <a:pt x="2096" y="88"/>
                  </a:lnTo>
                  <a:lnTo>
                    <a:pt x="2145" y="66"/>
                  </a:lnTo>
                  <a:lnTo>
                    <a:pt x="2153" y="57"/>
                  </a:lnTo>
                  <a:lnTo>
                    <a:pt x="21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81480" y="1720800"/>
              <a:ext cx="157680" cy="300240"/>
            </a:xfrm>
            <a:custGeom>
              <a:avLst/>
              <a:gdLst/>
              <a:ahLst/>
              <a:rect l="0" t="0" r="r" b="b"/>
              <a:pathLst>
                <a:path w="438" h="834">
                  <a:moveTo>
                    <a:pt x="0" y="61"/>
                  </a:moveTo>
                  <a:lnTo>
                    <a:pt x="0" y="61"/>
                  </a:lnTo>
                  <a:lnTo>
                    <a:pt x="164" y="66"/>
                  </a:lnTo>
                  <a:lnTo>
                    <a:pt x="278" y="119"/>
                  </a:lnTo>
                  <a:lnTo>
                    <a:pt x="345" y="220"/>
                  </a:lnTo>
                  <a:lnTo>
                    <a:pt x="363" y="343"/>
                  </a:lnTo>
                  <a:lnTo>
                    <a:pt x="350" y="472"/>
                  </a:lnTo>
                  <a:lnTo>
                    <a:pt x="305" y="600"/>
                  </a:lnTo>
                  <a:lnTo>
                    <a:pt x="234" y="702"/>
                  </a:lnTo>
                  <a:lnTo>
                    <a:pt x="124" y="781"/>
                  </a:lnTo>
                  <a:lnTo>
                    <a:pt x="146" y="834"/>
                  </a:lnTo>
                  <a:lnTo>
                    <a:pt x="265" y="750"/>
                  </a:lnTo>
                  <a:lnTo>
                    <a:pt x="376" y="605"/>
                  </a:lnTo>
                  <a:lnTo>
                    <a:pt x="420" y="459"/>
                  </a:lnTo>
                  <a:lnTo>
                    <a:pt x="438" y="313"/>
                  </a:lnTo>
                  <a:lnTo>
                    <a:pt x="403" y="180"/>
                  </a:lnTo>
                  <a:lnTo>
                    <a:pt x="341" y="70"/>
                  </a:lnTo>
                  <a:lnTo>
                    <a:pt x="195" y="0"/>
                  </a:lnTo>
                  <a:lnTo>
                    <a:pt x="22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14680" y="1716120"/>
              <a:ext cx="776520" cy="394200"/>
            </a:xfrm>
            <a:custGeom>
              <a:avLst/>
              <a:gdLst/>
              <a:ahLst/>
              <a:rect l="0" t="0" r="r" b="b"/>
              <a:pathLst>
                <a:path w="2157" h="1095">
                  <a:moveTo>
                    <a:pt x="22" y="1091"/>
                  </a:moveTo>
                  <a:lnTo>
                    <a:pt x="61" y="1077"/>
                  </a:lnTo>
                  <a:lnTo>
                    <a:pt x="97" y="1047"/>
                  </a:lnTo>
                  <a:lnTo>
                    <a:pt x="180" y="998"/>
                  </a:lnTo>
                  <a:lnTo>
                    <a:pt x="282" y="936"/>
                  </a:lnTo>
                  <a:lnTo>
                    <a:pt x="396" y="866"/>
                  </a:lnTo>
                  <a:lnTo>
                    <a:pt x="529" y="794"/>
                  </a:lnTo>
                  <a:lnTo>
                    <a:pt x="674" y="710"/>
                  </a:lnTo>
                  <a:lnTo>
                    <a:pt x="829" y="627"/>
                  </a:lnTo>
                  <a:lnTo>
                    <a:pt x="987" y="547"/>
                  </a:lnTo>
                  <a:lnTo>
                    <a:pt x="1151" y="464"/>
                  </a:lnTo>
                  <a:lnTo>
                    <a:pt x="1315" y="375"/>
                  </a:lnTo>
                  <a:lnTo>
                    <a:pt x="1478" y="300"/>
                  </a:lnTo>
                  <a:lnTo>
                    <a:pt x="1619" y="238"/>
                  </a:lnTo>
                  <a:lnTo>
                    <a:pt x="1782" y="171"/>
                  </a:lnTo>
                  <a:lnTo>
                    <a:pt x="1914" y="123"/>
                  </a:lnTo>
                  <a:lnTo>
                    <a:pt x="2047" y="83"/>
                  </a:lnTo>
                  <a:lnTo>
                    <a:pt x="2139" y="66"/>
                  </a:lnTo>
                  <a:lnTo>
                    <a:pt x="2157" y="0"/>
                  </a:lnTo>
                  <a:lnTo>
                    <a:pt x="2038" y="22"/>
                  </a:lnTo>
                  <a:lnTo>
                    <a:pt x="1901" y="61"/>
                  </a:lnTo>
                  <a:lnTo>
                    <a:pt x="1773" y="114"/>
                  </a:lnTo>
                  <a:lnTo>
                    <a:pt x="1628" y="171"/>
                  </a:lnTo>
                  <a:lnTo>
                    <a:pt x="1456" y="251"/>
                  </a:lnTo>
                  <a:lnTo>
                    <a:pt x="1293" y="327"/>
                  </a:lnTo>
                  <a:lnTo>
                    <a:pt x="1129" y="406"/>
                  </a:lnTo>
                  <a:lnTo>
                    <a:pt x="974" y="490"/>
                  </a:lnTo>
                  <a:lnTo>
                    <a:pt x="811" y="578"/>
                  </a:lnTo>
                  <a:lnTo>
                    <a:pt x="657" y="662"/>
                  </a:lnTo>
                  <a:lnTo>
                    <a:pt x="520" y="741"/>
                  </a:lnTo>
                  <a:lnTo>
                    <a:pt x="374" y="816"/>
                  </a:lnTo>
                  <a:lnTo>
                    <a:pt x="268" y="883"/>
                  </a:lnTo>
                  <a:lnTo>
                    <a:pt x="158" y="950"/>
                  </a:lnTo>
                  <a:lnTo>
                    <a:pt x="83" y="994"/>
                  </a:lnTo>
                  <a:lnTo>
                    <a:pt x="22" y="1042"/>
                  </a:lnTo>
                  <a:lnTo>
                    <a:pt x="57" y="1029"/>
                  </a:lnTo>
                  <a:lnTo>
                    <a:pt x="22" y="1042"/>
                  </a:lnTo>
                  <a:lnTo>
                    <a:pt x="0" y="1064"/>
                  </a:lnTo>
                  <a:lnTo>
                    <a:pt x="8" y="1082"/>
                  </a:lnTo>
                  <a:lnTo>
                    <a:pt x="30" y="1095"/>
                  </a:lnTo>
                  <a:lnTo>
                    <a:pt x="61" y="1077"/>
                  </a:lnTo>
                  <a:lnTo>
                    <a:pt x="22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81560" y="2077920"/>
              <a:ext cx="59040" cy="32040"/>
            </a:xfrm>
            <a:custGeom>
              <a:avLst/>
              <a:gdLst/>
              <a:ahLst/>
              <a:rect l="0" t="0" r="r" b="b"/>
              <a:pathLst>
                <a:path w="164" h="89">
                  <a:moveTo>
                    <a:pt x="22" y="13"/>
                  </a:moveTo>
                  <a:lnTo>
                    <a:pt x="13" y="71"/>
                  </a:lnTo>
                  <a:lnTo>
                    <a:pt x="35" y="75"/>
                  </a:lnTo>
                  <a:lnTo>
                    <a:pt x="57" y="89"/>
                  </a:lnTo>
                  <a:lnTo>
                    <a:pt x="93" y="84"/>
                  </a:lnTo>
                  <a:lnTo>
                    <a:pt x="115" y="89"/>
                  </a:lnTo>
                  <a:lnTo>
                    <a:pt x="164" y="13"/>
                  </a:lnTo>
                  <a:lnTo>
                    <a:pt x="137" y="4"/>
                  </a:lnTo>
                  <a:lnTo>
                    <a:pt x="106" y="8"/>
                  </a:lnTo>
                  <a:lnTo>
                    <a:pt x="70" y="0"/>
                  </a:lnTo>
                  <a:lnTo>
                    <a:pt x="35" y="8"/>
                  </a:lnTo>
                  <a:lnTo>
                    <a:pt x="35" y="67"/>
                  </a:lnTo>
                  <a:lnTo>
                    <a:pt x="35" y="8"/>
                  </a:lnTo>
                  <a:lnTo>
                    <a:pt x="22" y="13"/>
                  </a:lnTo>
                  <a:lnTo>
                    <a:pt x="0" y="35"/>
                  </a:lnTo>
                  <a:lnTo>
                    <a:pt x="0" y="49"/>
                  </a:lnTo>
                  <a:lnTo>
                    <a:pt x="13" y="71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87680" y="1652760"/>
              <a:ext cx="875160" cy="449640"/>
            </a:xfrm>
            <a:custGeom>
              <a:avLst/>
              <a:gdLst/>
              <a:ahLst/>
              <a:rect l="0" t="0" r="r" b="b"/>
              <a:pathLst>
                <a:path w="2431" h="1249">
                  <a:moveTo>
                    <a:pt x="2431" y="4"/>
                  </a:moveTo>
                  <a:lnTo>
                    <a:pt x="2427" y="8"/>
                  </a:lnTo>
                  <a:lnTo>
                    <a:pt x="2339" y="0"/>
                  </a:lnTo>
                  <a:lnTo>
                    <a:pt x="2242" y="17"/>
                  </a:lnTo>
                  <a:lnTo>
                    <a:pt x="2101" y="57"/>
                  </a:lnTo>
                  <a:lnTo>
                    <a:pt x="1959" y="105"/>
                  </a:lnTo>
                  <a:lnTo>
                    <a:pt x="1782" y="185"/>
                  </a:lnTo>
                  <a:lnTo>
                    <a:pt x="1606" y="268"/>
                  </a:lnTo>
                  <a:lnTo>
                    <a:pt x="1420" y="371"/>
                  </a:lnTo>
                  <a:lnTo>
                    <a:pt x="1235" y="468"/>
                  </a:lnTo>
                  <a:lnTo>
                    <a:pt x="1054" y="569"/>
                  </a:lnTo>
                  <a:lnTo>
                    <a:pt x="852" y="680"/>
                  </a:lnTo>
                  <a:lnTo>
                    <a:pt x="675" y="781"/>
                  </a:lnTo>
                  <a:lnTo>
                    <a:pt x="498" y="878"/>
                  </a:lnTo>
                  <a:lnTo>
                    <a:pt x="343" y="976"/>
                  </a:lnTo>
                  <a:lnTo>
                    <a:pt x="202" y="1073"/>
                  </a:lnTo>
                  <a:lnTo>
                    <a:pt x="88" y="1144"/>
                  </a:lnTo>
                  <a:lnTo>
                    <a:pt x="0" y="1192"/>
                  </a:lnTo>
                  <a:lnTo>
                    <a:pt x="8" y="1249"/>
                  </a:lnTo>
                  <a:lnTo>
                    <a:pt x="110" y="1188"/>
                  </a:lnTo>
                  <a:lnTo>
                    <a:pt x="220" y="1126"/>
                  </a:lnTo>
                  <a:lnTo>
                    <a:pt x="366" y="1025"/>
                  </a:lnTo>
                  <a:lnTo>
                    <a:pt x="524" y="931"/>
                  </a:lnTo>
                  <a:lnTo>
                    <a:pt x="702" y="838"/>
                  </a:lnTo>
                  <a:lnTo>
                    <a:pt x="878" y="737"/>
                  </a:lnTo>
                  <a:lnTo>
                    <a:pt x="1068" y="618"/>
                  </a:lnTo>
                  <a:lnTo>
                    <a:pt x="1257" y="521"/>
                  </a:lnTo>
                  <a:lnTo>
                    <a:pt x="1438" y="415"/>
                  </a:lnTo>
                  <a:lnTo>
                    <a:pt x="1619" y="327"/>
                  </a:lnTo>
                  <a:lnTo>
                    <a:pt x="1800" y="242"/>
                  </a:lnTo>
                  <a:lnTo>
                    <a:pt x="1959" y="176"/>
                  </a:lnTo>
                  <a:lnTo>
                    <a:pt x="2101" y="123"/>
                  </a:lnTo>
                  <a:lnTo>
                    <a:pt x="2220" y="74"/>
                  </a:lnTo>
                  <a:lnTo>
                    <a:pt x="2330" y="66"/>
                  </a:lnTo>
                  <a:lnTo>
                    <a:pt x="2387" y="66"/>
                  </a:lnTo>
                  <a:lnTo>
                    <a:pt x="2387" y="66"/>
                  </a:lnTo>
                  <a:lnTo>
                    <a:pt x="243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46640" y="1655640"/>
              <a:ext cx="157680" cy="336960"/>
            </a:xfrm>
            <a:custGeom>
              <a:avLst/>
              <a:gdLst/>
              <a:ahLst/>
              <a:rect l="0" t="0" r="r" b="b"/>
              <a:pathLst>
                <a:path w="438" h="936">
                  <a:moveTo>
                    <a:pt x="234" y="936"/>
                  </a:moveTo>
                  <a:lnTo>
                    <a:pt x="234" y="936"/>
                  </a:lnTo>
                  <a:lnTo>
                    <a:pt x="354" y="769"/>
                  </a:lnTo>
                  <a:lnTo>
                    <a:pt x="412" y="596"/>
                  </a:lnTo>
                  <a:lnTo>
                    <a:pt x="438" y="455"/>
                  </a:lnTo>
                  <a:lnTo>
                    <a:pt x="420" y="322"/>
                  </a:lnTo>
                  <a:lnTo>
                    <a:pt x="354" y="202"/>
                  </a:lnTo>
                  <a:lnTo>
                    <a:pt x="283" y="123"/>
                  </a:lnTo>
                  <a:lnTo>
                    <a:pt x="168" y="52"/>
                  </a:lnTo>
                  <a:lnTo>
                    <a:pt x="39" y="0"/>
                  </a:lnTo>
                  <a:lnTo>
                    <a:pt x="0" y="57"/>
                  </a:lnTo>
                  <a:lnTo>
                    <a:pt x="120" y="110"/>
                  </a:lnTo>
                  <a:lnTo>
                    <a:pt x="230" y="171"/>
                  </a:lnTo>
                  <a:lnTo>
                    <a:pt x="300" y="261"/>
                  </a:lnTo>
                  <a:lnTo>
                    <a:pt x="350" y="367"/>
                  </a:lnTo>
                  <a:lnTo>
                    <a:pt x="368" y="481"/>
                  </a:lnTo>
                  <a:lnTo>
                    <a:pt x="350" y="605"/>
                  </a:lnTo>
                  <a:lnTo>
                    <a:pt x="287" y="756"/>
                  </a:lnTo>
                  <a:lnTo>
                    <a:pt x="177" y="905"/>
                  </a:lnTo>
                  <a:lnTo>
                    <a:pt x="234" y="9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32320" y="1987560"/>
              <a:ext cx="895680" cy="392400"/>
            </a:xfrm>
            <a:custGeom>
              <a:avLst/>
              <a:gdLst/>
              <a:ahLst/>
              <a:rect l="0" t="0" r="r" b="b"/>
              <a:pathLst>
                <a:path w="2488" h="1090">
                  <a:moveTo>
                    <a:pt x="0" y="1046"/>
                  </a:moveTo>
                  <a:lnTo>
                    <a:pt x="35" y="1090"/>
                  </a:lnTo>
                  <a:lnTo>
                    <a:pt x="158" y="1041"/>
                  </a:lnTo>
                  <a:lnTo>
                    <a:pt x="295" y="993"/>
                  </a:lnTo>
                  <a:lnTo>
                    <a:pt x="458" y="935"/>
                  </a:lnTo>
                  <a:lnTo>
                    <a:pt x="617" y="874"/>
                  </a:lnTo>
                  <a:lnTo>
                    <a:pt x="802" y="803"/>
                  </a:lnTo>
                  <a:lnTo>
                    <a:pt x="983" y="741"/>
                  </a:lnTo>
                  <a:lnTo>
                    <a:pt x="1172" y="675"/>
                  </a:lnTo>
                  <a:lnTo>
                    <a:pt x="1363" y="605"/>
                  </a:lnTo>
                  <a:lnTo>
                    <a:pt x="1548" y="529"/>
                  </a:lnTo>
                  <a:lnTo>
                    <a:pt x="1729" y="449"/>
                  </a:lnTo>
                  <a:lnTo>
                    <a:pt x="1897" y="383"/>
                  </a:lnTo>
                  <a:lnTo>
                    <a:pt x="2069" y="299"/>
                  </a:lnTo>
                  <a:lnTo>
                    <a:pt x="2197" y="229"/>
                  </a:lnTo>
                  <a:lnTo>
                    <a:pt x="2307" y="163"/>
                  </a:lnTo>
                  <a:lnTo>
                    <a:pt x="2417" y="92"/>
                  </a:lnTo>
                  <a:lnTo>
                    <a:pt x="2488" y="8"/>
                  </a:lnTo>
                  <a:lnTo>
                    <a:pt x="2435" y="0"/>
                  </a:lnTo>
                  <a:lnTo>
                    <a:pt x="2377" y="44"/>
                  </a:lnTo>
                  <a:lnTo>
                    <a:pt x="2289" y="114"/>
                  </a:lnTo>
                  <a:lnTo>
                    <a:pt x="2166" y="171"/>
                  </a:lnTo>
                  <a:lnTo>
                    <a:pt x="2033" y="251"/>
                  </a:lnTo>
                  <a:lnTo>
                    <a:pt x="1897" y="313"/>
                  </a:lnTo>
                  <a:lnTo>
                    <a:pt x="1729" y="379"/>
                  </a:lnTo>
                  <a:lnTo>
                    <a:pt x="1548" y="467"/>
                  </a:lnTo>
                  <a:lnTo>
                    <a:pt x="1354" y="537"/>
                  </a:lnTo>
                  <a:lnTo>
                    <a:pt x="1168" y="600"/>
                  </a:lnTo>
                  <a:lnTo>
                    <a:pt x="983" y="680"/>
                  </a:lnTo>
                  <a:lnTo>
                    <a:pt x="798" y="746"/>
                  </a:lnTo>
                  <a:lnTo>
                    <a:pt x="617" y="812"/>
                  </a:lnTo>
                  <a:lnTo>
                    <a:pt x="449" y="874"/>
                  </a:lnTo>
                  <a:lnTo>
                    <a:pt x="295" y="931"/>
                  </a:lnTo>
                  <a:lnTo>
                    <a:pt x="149" y="971"/>
                  </a:lnTo>
                  <a:lnTo>
                    <a:pt x="30" y="1015"/>
                  </a:lnTo>
                  <a:lnTo>
                    <a:pt x="70" y="1063"/>
                  </a:lnTo>
                  <a:lnTo>
                    <a:pt x="30" y="1015"/>
                  </a:lnTo>
                  <a:lnTo>
                    <a:pt x="13" y="1037"/>
                  </a:lnTo>
                  <a:lnTo>
                    <a:pt x="8" y="1076"/>
                  </a:lnTo>
                  <a:lnTo>
                    <a:pt x="8" y="1085"/>
                  </a:lnTo>
                  <a:lnTo>
                    <a:pt x="35" y="1090"/>
                  </a:lnTo>
                  <a:lnTo>
                    <a:pt x="0" y="10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30520" y="1731960"/>
              <a:ext cx="897120" cy="592560"/>
            </a:xfrm>
            <a:custGeom>
              <a:avLst/>
              <a:gdLst/>
              <a:ahLst/>
              <a:rect l="0" t="0" r="r" b="b"/>
              <a:pathLst>
                <a:path w="2492" h="1646">
                  <a:moveTo>
                    <a:pt x="0" y="1024"/>
                  </a:moveTo>
                  <a:lnTo>
                    <a:pt x="66" y="1063"/>
                  </a:lnTo>
                  <a:lnTo>
                    <a:pt x="119" y="1121"/>
                  </a:lnTo>
                  <a:lnTo>
                    <a:pt x="145" y="1196"/>
                  </a:lnTo>
                  <a:lnTo>
                    <a:pt x="163" y="1276"/>
                  </a:lnTo>
                  <a:lnTo>
                    <a:pt x="154" y="1373"/>
                  </a:lnTo>
                  <a:lnTo>
                    <a:pt x="141" y="1461"/>
                  </a:lnTo>
                  <a:lnTo>
                    <a:pt x="119" y="1571"/>
                  </a:lnTo>
                  <a:lnTo>
                    <a:pt x="88" y="1646"/>
                  </a:lnTo>
                  <a:lnTo>
                    <a:pt x="167" y="1629"/>
                  </a:lnTo>
                  <a:lnTo>
                    <a:pt x="264" y="1593"/>
                  </a:lnTo>
                  <a:lnTo>
                    <a:pt x="388" y="1549"/>
                  </a:lnTo>
                  <a:lnTo>
                    <a:pt x="533" y="1501"/>
                  </a:lnTo>
                  <a:lnTo>
                    <a:pt x="679" y="1443"/>
                  </a:lnTo>
                  <a:lnTo>
                    <a:pt x="842" y="1364"/>
                  </a:lnTo>
                  <a:lnTo>
                    <a:pt x="1014" y="1302"/>
                  </a:lnTo>
                  <a:lnTo>
                    <a:pt x="1186" y="1226"/>
                  </a:lnTo>
                  <a:lnTo>
                    <a:pt x="1363" y="1147"/>
                  </a:lnTo>
                  <a:lnTo>
                    <a:pt x="1526" y="1090"/>
                  </a:lnTo>
                  <a:lnTo>
                    <a:pt x="1694" y="1015"/>
                  </a:lnTo>
                  <a:lnTo>
                    <a:pt x="1839" y="944"/>
                  </a:lnTo>
                  <a:lnTo>
                    <a:pt x="1972" y="882"/>
                  </a:lnTo>
                  <a:lnTo>
                    <a:pt x="2086" y="838"/>
                  </a:lnTo>
                  <a:lnTo>
                    <a:pt x="2152" y="803"/>
                  </a:lnTo>
                  <a:lnTo>
                    <a:pt x="2232" y="781"/>
                  </a:lnTo>
                  <a:lnTo>
                    <a:pt x="2338" y="702"/>
                  </a:lnTo>
                  <a:lnTo>
                    <a:pt x="2421" y="569"/>
                  </a:lnTo>
                  <a:lnTo>
                    <a:pt x="2470" y="446"/>
                  </a:lnTo>
                  <a:lnTo>
                    <a:pt x="2492" y="308"/>
                  </a:lnTo>
                  <a:lnTo>
                    <a:pt x="2457" y="176"/>
                  </a:lnTo>
                  <a:lnTo>
                    <a:pt x="2395" y="66"/>
                  </a:lnTo>
                  <a:lnTo>
                    <a:pt x="2272" y="8"/>
                  </a:lnTo>
                  <a:lnTo>
                    <a:pt x="2108" y="0"/>
                  </a:lnTo>
                  <a:lnTo>
                    <a:pt x="1994" y="22"/>
                  </a:lnTo>
                  <a:lnTo>
                    <a:pt x="1866" y="61"/>
                  </a:lnTo>
                  <a:lnTo>
                    <a:pt x="1734" y="105"/>
                  </a:lnTo>
                  <a:lnTo>
                    <a:pt x="1570" y="171"/>
                  </a:lnTo>
                  <a:lnTo>
                    <a:pt x="1420" y="242"/>
                  </a:lnTo>
                  <a:lnTo>
                    <a:pt x="1262" y="321"/>
                  </a:lnTo>
                  <a:lnTo>
                    <a:pt x="1093" y="405"/>
                  </a:lnTo>
                  <a:lnTo>
                    <a:pt x="926" y="486"/>
                  </a:lnTo>
                  <a:lnTo>
                    <a:pt x="780" y="565"/>
                  </a:lnTo>
                  <a:lnTo>
                    <a:pt x="612" y="649"/>
                  </a:lnTo>
                  <a:lnTo>
                    <a:pt x="471" y="733"/>
                  </a:lnTo>
                  <a:lnTo>
                    <a:pt x="339" y="803"/>
                  </a:lnTo>
                  <a:lnTo>
                    <a:pt x="229" y="878"/>
                  </a:lnTo>
                  <a:lnTo>
                    <a:pt x="132" y="935"/>
                  </a:lnTo>
                  <a:lnTo>
                    <a:pt x="52" y="975"/>
                  </a:lnTo>
                  <a:lnTo>
                    <a:pt x="0" y="1024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21160" y="2089080"/>
              <a:ext cx="78120" cy="246600"/>
            </a:xfrm>
            <a:custGeom>
              <a:avLst/>
              <a:gdLst/>
              <a:ahLst/>
              <a:rect l="0" t="0" r="r" b="b"/>
              <a:pathLst>
                <a:path w="217" h="685">
                  <a:moveTo>
                    <a:pt x="137" y="614"/>
                  </a:moveTo>
                  <a:lnTo>
                    <a:pt x="164" y="645"/>
                  </a:lnTo>
                  <a:lnTo>
                    <a:pt x="186" y="557"/>
                  </a:lnTo>
                  <a:lnTo>
                    <a:pt x="208" y="477"/>
                  </a:lnTo>
                  <a:lnTo>
                    <a:pt x="212" y="371"/>
                  </a:lnTo>
                  <a:lnTo>
                    <a:pt x="217" y="278"/>
                  </a:lnTo>
                  <a:lnTo>
                    <a:pt x="208" y="181"/>
                  </a:lnTo>
                  <a:lnTo>
                    <a:pt x="172" y="105"/>
                  </a:lnTo>
                  <a:lnTo>
                    <a:pt x="124" y="39"/>
                  </a:lnTo>
                  <a:lnTo>
                    <a:pt x="44" y="0"/>
                  </a:lnTo>
                  <a:lnTo>
                    <a:pt x="0" y="57"/>
                  </a:lnTo>
                  <a:lnTo>
                    <a:pt x="61" y="101"/>
                  </a:lnTo>
                  <a:lnTo>
                    <a:pt x="111" y="154"/>
                  </a:lnTo>
                  <a:lnTo>
                    <a:pt x="133" y="212"/>
                  </a:lnTo>
                  <a:lnTo>
                    <a:pt x="146" y="305"/>
                  </a:lnTo>
                  <a:lnTo>
                    <a:pt x="142" y="393"/>
                  </a:lnTo>
                  <a:lnTo>
                    <a:pt x="133" y="477"/>
                  </a:lnTo>
                  <a:lnTo>
                    <a:pt x="120" y="566"/>
                  </a:lnTo>
                  <a:lnTo>
                    <a:pt x="92" y="650"/>
                  </a:lnTo>
                  <a:lnTo>
                    <a:pt x="120" y="685"/>
                  </a:lnTo>
                  <a:lnTo>
                    <a:pt x="92" y="650"/>
                  </a:lnTo>
                  <a:lnTo>
                    <a:pt x="101" y="676"/>
                  </a:lnTo>
                  <a:lnTo>
                    <a:pt x="120" y="685"/>
                  </a:lnTo>
                  <a:lnTo>
                    <a:pt x="137" y="672"/>
                  </a:lnTo>
                  <a:lnTo>
                    <a:pt x="164" y="645"/>
                  </a:lnTo>
                  <a:lnTo>
                    <a:pt x="137" y="6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60760" y="1996920"/>
              <a:ext cx="775080" cy="340200"/>
            </a:xfrm>
            <a:custGeom>
              <a:avLst/>
              <a:gdLst/>
              <a:ahLst/>
              <a:rect l="0" t="0" r="r" b="b"/>
              <a:pathLst>
                <a:path w="2153" h="945">
                  <a:moveTo>
                    <a:pt x="2131" y="13"/>
                  </a:moveTo>
                  <a:lnTo>
                    <a:pt x="2140" y="0"/>
                  </a:lnTo>
                  <a:lnTo>
                    <a:pt x="2065" y="35"/>
                  </a:lnTo>
                  <a:lnTo>
                    <a:pt x="1995" y="66"/>
                  </a:lnTo>
                  <a:lnTo>
                    <a:pt x="1880" y="110"/>
                  </a:lnTo>
                  <a:lnTo>
                    <a:pt x="1743" y="171"/>
                  </a:lnTo>
                  <a:lnTo>
                    <a:pt x="1597" y="239"/>
                  </a:lnTo>
                  <a:lnTo>
                    <a:pt x="1442" y="305"/>
                  </a:lnTo>
                  <a:lnTo>
                    <a:pt x="1271" y="384"/>
                  </a:lnTo>
                  <a:lnTo>
                    <a:pt x="1094" y="455"/>
                  </a:lnTo>
                  <a:lnTo>
                    <a:pt x="922" y="530"/>
                  </a:lnTo>
                  <a:lnTo>
                    <a:pt x="768" y="600"/>
                  </a:lnTo>
                  <a:lnTo>
                    <a:pt x="596" y="662"/>
                  </a:lnTo>
                  <a:lnTo>
                    <a:pt x="440" y="738"/>
                  </a:lnTo>
                  <a:lnTo>
                    <a:pt x="304" y="782"/>
                  </a:lnTo>
                  <a:lnTo>
                    <a:pt x="176" y="835"/>
                  </a:lnTo>
                  <a:lnTo>
                    <a:pt x="79" y="861"/>
                  </a:lnTo>
                  <a:lnTo>
                    <a:pt x="22" y="875"/>
                  </a:lnTo>
                  <a:lnTo>
                    <a:pt x="0" y="945"/>
                  </a:lnTo>
                  <a:lnTo>
                    <a:pt x="79" y="919"/>
                  </a:lnTo>
                  <a:lnTo>
                    <a:pt x="189" y="897"/>
                  </a:lnTo>
                  <a:lnTo>
                    <a:pt x="308" y="844"/>
                  </a:lnTo>
                  <a:lnTo>
                    <a:pt x="449" y="791"/>
                  </a:lnTo>
                  <a:lnTo>
                    <a:pt x="591" y="734"/>
                  </a:lnTo>
                  <a:lnTo>
                    <a:pt x="759" y="662"/>
                  </a:lnTo>
                  <a:lnTo>
                    <a:pt x="931" y="591"/>
                  </a:lnTo>
                  <a:lnTo>
                    <a:pt x="1094" y="521"/>
                  </a:lnTo>
                  <a:lnTo>
                    <a:pt x="1271" y="441"/>
                  </a:lnTo>
                  <a:lnTo>
                    <a:pt x="1442" y="375"/>
                  </a:lnTo>
                  <a:lnTo>
                    <a:pt x="1606" y="296"/>
                  </a:lnTo>
                  <a:lnTo>
                    <a:pt x="1752" y="233"/>
                  </a:lnTo>
                  <a:lnTo>
                    <a:pt x="1889" y="180"/>
                  </a:lnTo>
                  <a:lnTo>
                    <a:pt x="1995" y="132"/>
                  </a:lnTo>
                  <a:lnTo>
                    <a:pt x="2096" y="88"/>
                  </a:lnTo>
                  <a:lnTo>
                    <a:pt x="2145" y="66"/>
                  </a:lnTo>
                  <a:lnTo>
                    <a:pt x="2153" y="57"/>
                  </a:lnTo>
                  <a:lnTo>
                    <a:pt x="21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81480" y="1720800"/>
              <a:ext cx="157680" cy="300240"/>
            </a:xfrm>
            <a:custGeom>
              <a:avLst/>
              <a:gdLst/>
              <a:ahLst/>
              <a:rect l="0" t="0" r="r" b="b"/>
              <a:pathLst>
                <a:path w="438" h="834">
                  <a:moveTo>
                    <a:pt x="0" y="61"/>
                  </a:moveTo>
                  <a:lnTo>
                    <a:pt x="0" y="61"/>
                  </a:lnTo>
                  <a:lnTo>
                    <a:pt x="164" y="66"/>
                  </a:lnTo>
                  <a:lnTo>
                    <a:pt x="278" y="119"/>
                  </a:lnTo>
                  <a:lnTo>
                    <a:pt x="345" y="220"/>
                  </a:lnTo>
                  <a:lnTo>
                    <a:pt x="363" y="343"/>
                  </a:lnTo>
                  <a:lnTo>
                    <a:pt x="350" y="472"/>
                  </a:lnTo>
                  <a:lnTo>
                    <a:pt x="305" y="600"/>
                  </a:lnTo>
                  <a:lnTo>
                    <a:pt x="234" y="702"/>
                  </a:lnTo>
                  <a:lnTo>
                    <a:pt x="124" y="781"/>
                  </a:lnTo>
                  <a:lnTo>
                    <a:pt x="146" y="834"/>
                  </a:lnTo>
                  <a:lnTo>
                    <a:pt x="265" y="750"/>
                  </a:lnTo>
                  <a:lnTo>
                    <a:pt x="376" y="605"/>
                  </a:lnTo>
                  <a:lnTo>
                    <a:pt x="420" y="459"/>
                  </a:lnTo>
                  <a:lnTo>
                    <a:pt x="438" y="313"/>
                  </a:lnTo>
                  <a:lnTo>
                    <a:pt x="403" y="180"/>
                  </a:lnTo>
                  <a:lnTo>
                    <a:pt x="341" y="70"/>
                  </a:lnTo>
                  <a:lnTo>
                    <a:pt x="195" y="0"/>
                  </a:lnTo>
                  <a:lnTo>
                    <a:pt x="22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14680" y="1716120"/>
              <a:ext cx="776520" cy="394200"/>
            </a:xfrm>
            <a:custGeom>
              <a:avLst/>
              <a:gdLst/>
              <a:ahLst/>
              <a:rect l="0" t="0" r="r" b="b"/>
              <a:pathLst>
                <a:path w="2157" h="1095">
                  <a:moveTo>
                    <a:pt x="61" y="1033"/>
                  </a:moveTo>
                  <a:lnTo>
                    <a:pt x="61" y="1077"/>
                  </a:lnTo>
                  <a:lnTo>
                    <a:pt x="97" y="1047"/>
                  </a:lnTo>
                  <a:lnTo>
                    <a:pt x="180" y="998"/>
                  </a:lnTo>
                  <a:lnTo>
                    <a:pt x="282" y="936"/>
                  </a:lnTo>
                  <a:lnTo>
                    <a:pt x="396" y="866"/>
                  </a:lnTo>
                  <a:lnTo>
                    <a:pt x="529" y="794"/>
                  </a:lnTo>
                  <a:lnTo>
                    <a:pt x="674" y="710"/>
                  </a:lnTo>
                  <a:lnTo>
                    <a:pt x="829" y="627"/>
                  </a:lnTo>
                  <a:lnTo>
                    <a:pt x="987" y="547"/>
                  </a:lnTo>
                  <a:lnTo>
                    <a:pt x="1151" y="464"/>
                  </a:lnTo>
                  <a:lnTo>
                    <a:pt x="1315" y="375"/>
                  </a:lnTo>
                  <a:lnTo>
                    <a:pt x="1478" y="300"/>
                  </a:lnTo>
                  <a:lnTo>
                    <a:pt x="1619" y="238"/>
                  </a:lnTo>
                  <a:lnTo>
                    <a:pt x="1782" y="171"/>
                  </a:lnTo>
                  <a:lnTo>
                    <a:pt x="1914" y="123"/>
                  </a:lnTo>
                  <a:lnTo>
                    <a:pt x="2047" y="83"/>
                  </a:lnTo>
                  <a:lnTo>
                    <a:pt x="2139" y="66"/>
                  </a:lnTo>
                  <a:lnTo>
                    <a:pt x="2157" y="0"/>
                  </a:lnTo>
                  <a:lnTo>
                    <a:pt x="2038" y="22"/>
                  </a:lnTo>
                  <a:lnTo>
                    <a:pt x="1901" y="61"/>
                  </a:lnTo>
                  <a:lnTo>
                    <a:pt x="1773" y="114"/>
                  </a:lnTo>
                  <a:lnTo>
                    <a:pt x="1628" y="171"/>
                  </a:lnTo>
                  <a:lnTo>
                    <a:pt x="1456" y="251"/>
                  </a:lnTo>
                  <a:lnTo>
                    <a:pt x="1293" y="327"/>
                  </a:lnTo>
                  <a:lnTo>
                    <a:pt x="1129" y="406"/>
                  </a:lnTo>
                  <a:lnTo>
                    <a:pt x="974" y="490"/>
                  </a:lnTo>
                  <a:lnTo>
                    <a:pt x="811" y="578"/>
                  </a:lnTo>
                  <a:lnTo>
                    <a:pt x="657" y="662"/>
                  </a:lnTo>
                  <a:lnTo>
                    <a:pt x="520" y="741"/>
                  </a:lnTo>
                  <a:lnTo>
                    <a:pt x="374" y="816"/>
                  </a:lnTo>
                  <a:lnTo>
                    <a:pt x="268" y="883"/>
                  </a:lnTo>
                  <a:lnTo>
                    <a:pt x="158" y="950"/>
                  </a:lnTo>
                  <a:lnTo>
                    <a:pt x="83" y="994"/>
                  </a:lnTo>
                  <a:lnTo>
                    <a:pt x="22" y="1042"/>
                  </a:lnTo>
                  <a:lnTo>
                    <a:pt x="13" y="1091"/>
                  </a:lnTo>
                  <a:lnTo>
                    <a:pt x="22" y="1042"/>
                  </a:lnTo>
                  <a:lnTo>
                    <a:pt x="0" y="1064"/>
                  </a:lnTo>
                  <a:lnTo>
                    <a:pt x="8" y="1082"/>
                  </a:lnTo>
                  <a:lnTo>
                    <a:pt x="30" y="1095"/>
                  </a:lnTo>
                  <a:lnTo>
                    <a:pt x="61" y="1077"/>
                  </a:lnTo>
                  <a:lnTo>
                    <a:pt x="61" y="10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970360" y="2624040"/>
              <a:ext cx="154440" cy="136800"/>
            </a:xfrm>
            <a:custGeom>
              <a:avLst/>
              <a:gdLst/>
              <a:ahLst/>
              <a:rect l="0" t="0" r="r" b="b"/>
              <a:pathLst>
                <a:path w="429" h="380">
                  <a:moveTo>
                    <a:pt x="70" y="336"/>
                  </a:moveTo>
                  <a:lnTo>
                    <a:pt x="17" y="380"/>
                  </a:lnTo>
                  <a:lnTo>
                    <a:pt x="97" y="371"/>
                  </a:lnTo>
                  <a:lnTo>
                    <a:pt x="142" y="349"/>
                  </a:lnTo>
                  <a:lnTo>
                    <a:pt x="195" y="309"/>
                  </a:lnTo>
                  <a:lnTo>
                    <a:pt x="252" y="265"/>
                  </a:lnTo>
                  <a:lnTo>
                    <a:pt x="300" y="212"/>
                  </a:lnTo>
                  <a:lnTo>
                    <a:pt x="345" y="145"/>
                  </a:lnTo>
                  <a:lnTo>
                    <a:pt x="394" y="83"/>
                  </a:lnTo>
                  <a:lnTo>
                    <a:pt x="429" y="0"/>
                  </a:lnTo>
                  <a:lnTo>
                    <a:pt x="354" y="4"/>
                  </a:lnTo>
                  <a:lnTo>
                    <a:pt x="323" y="57"/>
                  </a:lnTo>
                  <a:lnTo>
                    <a:pt x="296" y="114"/>
                  </a:lnTo>
                  <a:lnTo>
                    <a:pt x="265" y="167"/>
                  </a:lnTo>
                  <a:lnTo>
                    <a:pt x="212" y="221"/>
                  </a:lnTo>
                  <a:lnTo>
                    <a:pt x="159" y="265"/>
                  </a:lnTo>
                  <a:lnTo>
                    <a:pt x="124" y="292"/>
                  </a:lnTo>
                  <a:lnTo>
                    <a:pt x="74" y="318"/>
                  </a:lnTo>
                  <a:lnTo>
                    <a:pt x="61" y="309"/>
                  </a:lnTo>
                  <a:lnTo>
                    <a:pt x="8" y="353"/>
                  </a:lnTo>
                  <a:lnTo>
                    <a:pt x="61" y="309"/>
                  </a:lnTo>
                  <a:lnTo>
                    <a:pt x="35" y="305"/>
                  </a:lnTo>
                  <a:lnTo>
                    <a:pt x="0" y="340"/>
                  </a:lnTo>
                  <a:lnTo>
                    <a:pt x="8" y="367"/>
                  </a:lnTo>
                  <a:lnTo>
                    <a:pt x="17" y="380"/>
                  </a:lnTo>
                  <a:lnTo>
                    <a:pt x="7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38520" y="2495520"/>
              <a:ext cx="174960" cy="259200"/>
            </a:xfrm>
            <a:custGeom>
              <a:avLst/>
              <a:gdLst/>
              <a:ahLst/>
              <a:rect l="0" t="0" r="r" b="b"/>
              <a:pathLst>
                <a:path w="486" h="720">
                  <a:moveTo>
                    <a:pt x="481" y="0"/>
                  </a:moveTo>
                  <a:lnTo>
                    <a:pt x="481" y="0"/>
                  </a:lnTo>
                  <a:lnTo>
                    <a:pt x="367" y="52"/>
                  </a:lnTo>
                  <a:lnTo>
                    <a:pt x="261" y="136"/>
                  </a:lnTo>
                  <a:lnTo>
                    <a:pt x="158" y="252"/>
                  </a:lnTo>
                  <a:lnTo>
                    <a:pt x="74" y="380"/>
                  </a:lnTo>
                  <a:lnTo>
                    <a:pt x="22" y="499"/>
                  </a:lnTo>
                  <a:lnTo>
                    <a:pt x="0" y="606"/>
                  </a:lnTo>
                  <a:lnTo>
                    <a:pt x="4" y="685"/>
                  </a:lnTo>
                  <a:lnTo>
                    <a:pt x="92" y="720"/>
                  </a:lnTo>
                  <a:lnTo>
                    <a:pt x="123" y="645"/>
                  </a:lnTo>
                  <a:lnTo>
                    <a:pt x="83" y="623"/>
                  </a:lnTo>
                  <a:lnTo>
                    <a:pt x="66" y="575"/>
                  </a:lnTo>
                  <a:lnTo>
                    <a:pt x="88" y="494"/>
                  </a:lnTo>
                  <a:lnTo>
                    <a:pt x="141" y="384"/>
                  </a:lnTo>
                  <a:lnTo>
                    <a:pt x="207" y="283"/>
                  </a:lnTo>
                  <a:lnTo>
                    <a:pt x="287" y="181"/>
                  </a:lnTo>
                  <a:lnTo>
                    <a:pt x="384" y="105"/>
                  </a:lnTo>
                  <a:lnTo>
                    <a:pt x="486" y="61"/>
                  </a:lnTo>
                  <a:lnTo>
                    <a:pt x="4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913120" y="2482920"/>
              <a:ext cx="182880" cy="51120"/>
            </a:xfrm>
            <a:custGeom>
              <a:avLst/>
              <a:gdLst/>
              <a:ahLst/>
              <a:rect l="0" t="0" r="r" b="b"/>
              <a:pathLst>
                <a:path w="508" h="142">
                  <a:moveTo>
                    <a:pt x="508" y="84"/>
                  </a:moveTo>
                  <a:lnTo>
                    <a:pt x="508" y="84"/>
                  </a:lnTo>
                  <a:lnTo>
                    <a:pt x="406" y="52"/>
                  </a:lnTo>
                  <a:lnTo>
                    <a:pt x="331" y="8"/>
                  </a:lnTo>
                  <a:lnTo>
                    <a:pt x="256" y="4"/>
                  </a:lnTo>
                  <a:lnTo>
                    <a:pt x="194" y="0"/>
                  </a:lnTo>
                  <a:lnTo>
                    <a:pt x="145" y="8"/>
                  </a:lnTo>
                  <a:lnTo>
                    <a:pt x="97" y="8"/>
                  </a:lnTo>
                  <a:lnTo>
                    <a:pt x="48" y="26"/>
                  </a:lnTo>
                  <a:lnTo>
                    <a:pt x="0" y="35"/>
                  </a:lnTo>
                  <a:lnTo>
                    <a:pt x="8" y="102"/>
                  </a:lnTo>
                  <a:lnTo>
                    <a:pt x="52" y="93"/>
                  </a:lnTo>
                  <a:lnTo>
                    <a:pt x="79" y="80"/>
                  </a:lnTo>
                  <a:lnTo>
                    <a:pt x="127" y="80"/>
                  </a:lnTo>
                  <a:lnTo>
                    <a:pt x="167" y="66"/>
                  </a:lnTo>
                  <a:lnTo>
                    <a:pt x="216" y="70"/>
                  </a:lnTo>
                  <a:lnTo>
                    <a:pt x="287" y="84"/>
                  </a:lnTo>
                  <a:lnTo>
                    <a:pt x="353" y="111"/>
                  </a:lnTo>
                  <a:lnTo>
                    <a:pt x="468" y="142"/>
                  </a:lnTo>
                  <a:lnTo>
                    <a:pt x="508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075120" y="2505240"/>
              <a:ext cx="63720" cy="136800"/>
            </a:xfrm>
            <a:custGeom>
              <a:avLst/>
              <a:gdLst/>
              <a:ahLst/>
              <a:rect l="0" t="0" r="r" b="b"/>
              <a:pathLst>
                <a:path w="177" h="380">
                  <a:moveTo>
                    <a:pt x="150" y="340"/>
                  </a:moveTo>
                  <a:lnTo>
                    <a:pt x="128" y="353"/>
                  </a:lnTo>
                  <a:lnTo>
                    <a:pt x="172" y="239"/>
                  </a:lnTo>
                  <a:lnTo>
                    <a:pt x="177" y="141"/>
                  </a:lnTo>
                  <a:lnTo>
                    <a:pt x="137" y="52"/>
                  </a:lnTo>
                  <a:lnTo>
                    <a:pt x="57" y="0"/>
                  </a:lnTo>
                  <a:lnTo>
                    <a:pt x="0" y="66"/>
                  </a:lnTo>
                  <a:lnTo>
                    <a:pt x="66" y="123"/>
                  </a:lnTo>
                  <a:lnTo>
                    <a:pt x="106" y="180"/>
                  </a:lnTo>
                  <a:lnTo>
                    <a:pt x="102" y="252"/>
                  </a:lnTo>
                  <a:lnTo>
                    <a:pt x="74" y="336"/>
                  </a:lnTo>
                  <a:lnTo>
                    <a:pt x="66" y="349"/>
                  </a:lnTo>
                  <a:lnTo>
                    <a:pt x="74" y="336"/>
                  </a:lnTo>
                  <a:lnTo>
                    <a:pt x="70" y="358"/>
                  </a:lnTo>
                  <a:lnTo>
                    <a:pt x="83" y="380"/>
                  </a:lnTo>
                  <a:lnTo>
                    <a:pt x="111" y="367"/>
                  </a:lnTo>
                  <a:lnTo>
                    <a:pt x="128" y="353"/>
                  </a:lnTo>
                  <a:lnTo>
                    <a:pt x="150" y="3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31440" y="1789560"/>
              <a:ext cx="140760" cy="136800"/>
            </a:xfrm>
            <a:custGeom>
              <a:avLst/>
              <a:gdLst/>
              <a:ahLst/>
              <a:rect l="0" t="0" r="r" b="b"/>
              <a:pathLst>
                <a:path w="391" h="380">
                  <a:moveTo>
                    <a:pt x="355" y="51"/>
                  </a:moveTo>
                  <a:lnTo>
                    <a:pt x="355" y="51"/>
                  </a:lnTo>
                  <a:lnTo>
                    <a:pt x="355" y="51"/>
                  </a:lnTo>
                  <a:cubicBezTo>
                    <a:pt x="335" y="28"/>
                    <a:pt x="308" y="12"/>
                    <a:pt x="277" y="5"/>
                  </a:cubicBezTo>
                  <a:cubicBezTo>
                    <a:pt x="246" y="-3"/>
                    <a:pt x="211" y="-2"/>
                    <a:pt x="177" y="8"/>
                  </a:cubicBezTo>
                  <a:cubicBezTo>
                    <a:pt x="143" y="17"/>
                    <a:pt x="110" y="35"/>
                    <a:pt x="82" y="59"/>
                  </a:cubicBezTo>
                  <a:cubicBezTo>
                    <a:pt x="54" y="84"/>
                    <a:pt x="32" y="113"/>
                    <a:pt x="18" y="146"/>
                  </a:cubicBezTo>
                  <a:cubicBezTo>
                    <a:pt x="4" y="178"/>
                    <a:pt x="-2" y="212"/>
                    <a:pt x="1" y="244"/>
                  </a:cubicBezTo>
                  <a:cubicBezTo>
                    <a:pt x="4" y="276"/>
                    <a:pt x="16" y="305"/>
                    <a:pt x="36" y="328"/>
                  </a:cubicBezTo>
                  <a:lnTo>
                    <a:pt x="36" y="328"/>
                  </a:lnTo>
                  <a:lnTo>
                    <a:pt x="36" y="328"/>
                  </a:lnTo>
                  <a:cubicBezTo>
                    <a:pt x="56" y="351"/>
                    <a:pt x="83" y="367"/>
                    <a:pt x="114" y="374"/>
                  </a:cubicBezTo>
                  <a:cubicBezTo>
                    <a:pt x="145" y="382"/>
                    <a:pt x="180" y="381"/>
                    <a:pt x="214" y="371"/>
                  </a:cubicBezTo>
                  <a:cubicBezTo>
                    <a:pt x="248" y="362"/>
                    <a:pt x="281" y="344"/>
                    <a:pt x="309" y="320"/>
                  </a:cubicBezTo>
                  <a:cubicBezTo>
                    <a:pt x="337" y="295"/>
                    <a:pt x="359" y="266"/>
                    <a:pt x="373" y="233"/>
                  </a:cubicBezTo>
                  <a:cubicBezTo>
                    <a:pt x="387" y="201"/>
                    <a:pt x="393" y="167"/>
                    <a:pt x="390" y="135"/>
                  </a:cubicBezTo>
                  <a:cubicBezTo>
                    <a:pt x="387" y="103"/>
                    <a:pt x="375" y="74"/>
                    <a:pt x="355" y="51"/>
                  </a:cubicBez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679920" y="1932120"/>
              <a:ext cx="442800" cy="210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 flipH="1">
            <a:off x="3714840" y="2173320"/>
            <a:ext cx="585720" cy="217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03640" y="1693800"/>
            <a:ext cx="95400" cy="13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70440" y="1971720"/>
            <a:ext cx="244800" cy="130680"/>
          </a:xfrm>
          <a:custGeom>
            <a:avLst/>
            <a:gdLst/>
            <a:ahLst/>
            <a:rect l="0" t="0" r="r" b="b"/>
            <a:pathLst>
              <a:path w="680" h="363">
                <a:moveTo>
                  <a:pt x="653" y="74"/>
                </a:moveTo>
                <a:lnTo>
                  <a:pt x="556" y="88"/>
                </a:lnTo>
                <a:lnTo>
                  <a:pt x="516" y="111"/>
                </a:lnTo>
                <a:lnTo>
                  <a:pt x="415" y="133"/>
                </a:lnTo>
                <a:lnTo>
                  <a:pt x="358" y="168"/>
                </a:lnTo>
                <a:lnTo>
                  <a:pt x="330" y="203"/>
                </a:lnTo>
                <a:lnTo>
                  <a:pt x="268" y="239"/>
                </a:lnTo>
                <a:lnTo>
                  <a:pt x="224" y="269"/>
                </a:lnTo>
                <a:lnTo>
                  <a:pt x="180" y="279"/>
                </a:lnTo>
                <a:lnTo>
                  <a:pt x="127" y="297"/>
                </a:lnTo>
                <a:lnTo>
                  <a:pt x="79" y="319"/>
                </a:lnTo>
                <a:lnTo>
                  <a:pt x="0" y="319"/>
                </a:lnTo>
                <a:lnTo>
                  <a:pt x="52" y="350"/>
                </a:lnTo>
                <a:lnTo>
                  <a:pt x="127" y="363"/>
                </a:lnTo>
                <a:lnTo>
                  <a:pt x="176" y="341"/>
                </a:lnTo>
                <a:lnTo>
                  <a:pt x="229" y="315"/>
                </a:lnTo>
                <a:lnTo>
                  <a:pt x="273" y="293"/>
                </a:lnTo>
                <a:lnTo>
                  <a:pt x="317" y="247"/>
                </a:lnTo>
                <a:lnTo>
                  <a:pt x="367" y="208"/>
                </a:lnTo>
                <a:lnTo>
                  <a:pt x="419" y="199"/>
                </a:lnTo>
                <a:lnTo>
                  <a:pt x="459" y="208"/>
                </a:lnTo>
                <a:lnTo>
                  <a:pt x="499" y="217"/>
                </a:lnTo>
                <a:lnTo>
                  <a:pt x="538" y="234"/>
                </a:lnTo>
                <a:lnTo>
                  <a:pt x="578" y="230"/>
                </a:lnTo>
                <a:lnTo>
                  <a:pt x="609" y="195"/>
                </a:lnTo>
                <a:lnTo>
                  <a:pt x="653" y="172"/>
                </a:lnTo>
                <a:lnTo>
                  <a:pt x="680" y="133"/>
                </a:lnTo>
                <a:lnTo>
                  <a:pt x="653" y="74"/>
                </a:lnTo>
                <a:lnTo>
                  <a:pt x="671" y="13"/>
                </a:lnTo>
                <a:lnTo>
                  <a:pt x="636" y="8"/>
                </a:lnTo>
                <a:lnTo>
                  <a:pt x="596" y="0"/>
                </a:lnTo>
                <a:lnTo>
                  <a:pt x="569" y="93"/>
                </a:lnTo>
                <a:lnTo>
                  <a:pt x="631" y="203"/>
                </a:lnTo>
                <a:lnTo>
                  <a:pt x="591" y="230"/>
                </a:lnTo>
                <a:lnTo>
                  <a:pt x="543" y="208"/>
                </a:lnTo>
                <a:lnTo>
                  <a:pt x="653" y="74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73520" y="2066760"/>
            <a:ext cx="475200" cy="208440"/>
          </a:xfrm>
          <a:custGeom>
            <a:avLst/>
            <a:gdLst/>
            <a:ahLst/>
            <a:rect l="0" t="0" r="r" b="b"/>
            <a:pathLst>
              <a:path w="1320" h="579">
                <a:moveTo>
                  <a:pt x="1320" y="0"/>
                </a:moveTo>
                <a:lnTo>
                  <a:pt x="1254" y="97"/>
                </a:lnTo>
                <a:lnTo>
                  <a:pt x="1205" y="132"/>
                </a:lnTo>
                <a:lnTo>
                  <a:pt x="1108" y="159"/>
                </a:lnTo>
                <a:lnTo>
                  <a:pt x="1069" y="177"/>
                </a:lnTo>
                <a:lnTo>
                  <a:pt x="1016" y="172"/>
                </a:lnTo>
                <a:lnTo>
                  <a:pt x="971" y="181"/>
                </a:lnTo>
                <a:lnTo>
                  <a:pt x="891" y="186"/>
                </a:lnTo>
                <a:lnTo>
                  <a:pt x="812" y="186"/>
                </a:lnTo>
                <a:lnTo>
                  <a:pt x="715" y="199"/>
                </a:lnTo>
                <a:lnTo>
                  <a:pt x="675" y="208"/>
                </a:lnTo>
                <a:lnTo>
                  <a:pt x="640" y="239"/>
                </a:lnTo>
                <a:lnTo>
                  <a:pt x="600" y="261"/>
                </a:lnTo>
                <a:lnTo>
                  <a:pt x="561" y="283"/>
                </a:lnTo>
                <a:lnTo>
                  <a:pt x="525" y="327"/>
                </a:lnTo>
                <a:lnTo>
                  <a:pt x="481" y="349"/>
                </a:lnTo>
                <a:lnTo>
                  <a:pt x="424" y="380"/>
                </a:lnTo>
                <a:lnTo>
                  <a:pt x="367" y="397"/>
                </a:lnTo>
                <a:lnTo>
                  <a:pt x="286" y="393"/>
                </a:lnTo>
                <a:lnTo>
                  <a:pt x="229" y="393"/>
                </a:lnTo>
                <a:lnTo>
                  <a:pt x="171" y="424"/>
                </a:lnTo>
                <a:lnTo>
                  <a:pt x="119" y="451"/>
                </a:lnTo>
                <a:lnTo>
                  <a:pt x="74" y="482"/>
                </a:lnTo>
                <a:lnTo>
                  <a:pt x="30" y="500"/>
                </a:lnTo>
                <a:lnTo>
                  <a:pt x="0" y="539"/>
                </a:lnTo>
                <a:lnTo>
                  <a:pt x="30" y="570"/>
                </a:lnTo>
                <a:lnTo>
                  <a:pt x="88" y="579"/>
                </a:lnTo>
                <a:lnTo>
                  <a:pt x="127" y="557"/>
                </a:lnTo>
                <a:lnTo>
                  <a:pt x="176" y="509"/>
                </a:lnTo>
                <a:lnTo>
                  <a:pt x="220" y="478"/>
                </a:lnTo>
                <a:lnTo>
                  <a:pt x="251" y="442"/>
                </a:lnTo>
                <a:lnTo>
                  <a:pt x="299" y="389"/>
                </a:lnTo>
                <a:lnTo>
                  <a:pt x="336" y="353"/>
                </a:lnTo>
                <a:lnTo>
                  <a:pt x="375" y="349"/>
                </a:lnTo>
                <a:lnTo>
                  <a:pt x="419" y="344"/>
                </a:lnTo>
                <a:lnTo>
                  <a:pt x="521" y="344"/>
                </a:lnTo>
                <a:lnTo>
                  <a:pt x="565" y="322"/>
                </a:lnTo>
                <a:lnTo>
                  <a:pt x="605" y="314"/>
                </a:lnTo>
                <a:lnTo>
                  <a:pt x="649" y="292"/>
                </a:lnTo>
                <a:lnTo>
                  <a:pt x="693" y="274"/>
                </a:lnTo>
                <a:lnTo>
                  <a:pt x="746" y="269"/>
                </a:lnTo>
                <a:lnTo>
                  <a:pt x="790" y="247"/>
                </a:lnTo>
                <a:lnTo>
                  <a:pt x="834" y="239"/>
                </a:lnTo>
                <a:lnTo>
                  <a:pt x="874" y="234"/>
                </a:lnTo>
                <a:lnTo>
                  <a:pt x="913" y="225"/>
                </a:lnTo>
                <a:lnTo>
                  <a:pt x="1007" y="239"/>
                </a:lnTo>
                <a:lnTo>
                  <a:pt x="1060" y="234"/>
                </a:lnTo>
                <a:lnTo>
                  <a:pt x="1100" y="239"/>
                </a:lnTo>
                <a:lnTo>
                  <a:pt x="1139" y="217"/>
                </a:lnTo>
                <a:lnTo>
                  <a:pt x="1174" y="181"/>
                </a:lnTo>
                <a:lnTo>
                  <a:pt x="1192" y="132"/>
                </a:lnTo>
                <a:lnTo>
                  <a:pt x="1241" y="97"/>
                </a:lnTo>
                <a:lnTo>
                  <a:pt x="1280" y="79"/>
                </a:lnTo>
                <a:lnTo>
                  <a:pt x="1320" y="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43440" y="1581120"/>
            <a:ext cx="605160" cy="228960"/>
          </a:xfrm>
          <a:custGeom>
            <a:avLst/>
            <a:gdLst/>
            <a:ahLst/>
            <a:rect l="0" t="0" r="r" b="b"/>
            <a:pathLst>
              <a:path w="1681" h="636">
                <a:moveTo>
                  <a:pt x="1550" y="636"/>
                </a:moveTo>
                <a:lnTo>
                  <a:pt x="112" y="636"/>
                </a:lnTo>
                <a:lnTo>
                  <a:pt x="0" y="622"/>
                </a:lnTo>
                <a:lnTo>
                  <a:pt x="168" y="358"/>
                </a:lnTo>
                <a:lnTo>
                  <a:pt x="392" y="185"/>
                </a:lnTo>
                <a:lnTo>
                  <a:pt x="634" y="66"/>
                </a:lnTo>
                <a:lnTo>
                  <a:pt x="953" y="0"/>
                </a:lnTo>
                <a:lnTo>
                  <a:pt x="1457" y="145"/>
                </a:lnTo>
                <a:lnTo>
                  <a:pt x="1681" y="543"/>
                </a:lnTo>
                <a:lnTo>
                  <a:pt x="1550" y="6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938760" y="1771560"/>
            <a:ext cx="633600" cy="57600"/>
          </a:xfrm>
          <a:custGeom>
            <a:avLst/>
            <a:gdLst/>
            <a:ahLst/>
            <a:rect l="0" t="0" r="r" b="b"/>
            <a:pathLst>
              <a:path w="1760" h="160">
                <a:moveTo>
                  <a:pt x="200" y="56"/>
                </a:moveTo>
                <a:lnTo>
                  <a:pt x="262" y="56"/>
                </a:lnTo>
                <a:lnTo>
                  <a:pt x="308" y="56"/>
                </a:lnTo>
                <a:lnTo>
                  <a:pt x="354" y="48"/>
                </a:lnTo>
                <a:lnTo>
                  <a:pt x="385" y="23"/>
                </a:lnTo>
                <a:lnTo>
                  <a:pt x="416" y="0"/>
                </a:lnTo>
                <a:lnTo>
                  <a:pt x="463" y="0"/>
                </a:lnTo>
                <a:lnTo>
                  <a:pt x="509" y="0"/>
                </a:lnTo>
                <a:lnTo>
                  <a:pt x="555" y="0"/>
                </a:lnTo>
                <a:lnTo>
                  <a:pt x="601" y="0"/>
                </a:lnTo>
                <a:lnTo>
                  <a:pt x="648" y="7"/>
                </a:lnTo>
                <a:lnTo>
                  <a:pt x="694" y="15"/>
                </a:lnTo>
                <a:lnTo>
                  <a:pt x="740" y="23"/>
                </a:lnTo>
                <a:lnTo>
                  <a:pt x="787" y="7"/>
                </a:lnTo>
                <a:lnTo>
                  <a:pt x="833" y="7"/>
                </a:lnTo>
                <a:lnTo>
                  <a:pt x="879" y="15"/>
                </a:lnTo>
                <a:lnTo>
                  <a:pt x="942" y="15"/>
                </a:lnTo>
                <a:lnTo>
                  <a:pt x="988" y="23"/>
                </a:lnTo>
                <a:lnTo>
                  <a:pt x="1035" y="15"/>
                </a:lnTo>
                <a:lnTo>
                  <a:pt x="1081" y="7"/>
                </a:lnTo>
                <a:lnTo>
                  <a:pt x="1127" y="7"/>
                </a:lnTo>
                <a:lnTo>
                  <a:pt x="1173" y="7"/>
                </a:lnTo>
                <a:lnTo>
                  <a:pt x="1220" y="23"/>
                </a:lnTo>
                <a:lnTo>
                  <a:pt x="1266" y="48"/>
                </a:lnTo>
                <a:lnTo>
                  <a:pt x="1312" y="48"/>
                </a:lnTo>
                <a:lnTo>
                  <a:pt x="1359" y="48"/>
                </a:lnTo>
                <a:lnTo>
                  <a:pt x="1405" y="48"/>
                </a:lnTo>
                <a:lnTo>
                  <a:pt x="1451" y="48"/>
                </a:lnTo>
                <a:lnTo>
                  <a:pt x="1498" y="48"/>
                </a:lnTo>
                <a:lnTo>
                  <a:pt x="1544" y="48"/>
                </a:lnTo>
                <a:lnTo>
                  <a:pt x="1667" y="64"/>
                </a:lnTo>
                <a:lnTo>
                  <a:pt x="1714" y="72"/>
                </a:lnTo>
                <a:lnTo>
                  <a:pt x="1745" y="96"/>
                </a:lnTo>
                <a:lnTo>
                  <a:pt x="1760" y="121"/>
                </a:lnTo>
                <a:lnTo>
                  <a:pt x="1760" y="152"/>
                </a:lnTo>
                <a:lnTo>
                  <a:pt x="1698" y="152"/>
                </a:lnTo>
                <a:lnTo>
                  <a:pt x="1652" y="136"/>
                </a:lnTo>
                <a:lnTo>
                  <a:pt x="1606" y="128"/>
                </a:lnTo>
                <a:lnTo>
                  <a:pt x="1559" y="121"/>
                </a:lnTo>
                <a:lnTo>
                  <a:pt x="1513" y="112"/>
                </a:lnTo>
                <a:lnTo>
                  <a:pt x="1451" y="121"/>
                </a:lnTo>
                <a:lnTo>
                  <a:pt x="1420" y="144"/>
                </a:lnTo>
                <a:lnTo>
                  <a:pt x="1374" y="152"/>
                </a:lnTo>
                <a:lnTo>
                  <a:pt x="1328" y="152"/>
                </a:lnTo>
                <a:lnTo>
                  <a:pt x="1282" y="144"/>
                </a:lnTo>
                <a:lnTo>
                  <a:pt x="1143" y="128"/>
                </a:lnTo>
                <a:lnTo>
                  <a:pt x="1081" y="112"/>
                </a:lnTo>
                <a:lnTo>
                  <a:pt x="1035" y="121"/>
                </a:lnTo>
                <a:lnTo>
                  <a:pt x="988" y="128"/>
                </a:lnTo>
                <a:lnTo>
                  <a:pt x="942" y="152"/>
                </a:lnTo>
                <a:lnTo>
                  <a:pt x="818" y="128"/>
                </a:lnTo>
                <a:lnTo>
                  <a:pt x="771" y="128"/>
                </a:lnTo>
                <a:lnTo>
                  <a:pt x="725" y="136"/>
                </a:lnTo>
                <a:lnTo>
                  <a:pt x="679" y="144"/>
                </a:lnTo>
                <a:lnTo>
                  <a:pt x="632" y="160"/>
                </a:lnTo>
                <a:lnTo>
                  <a:pt x="586" y="160"/>
                </a:lnTo>
                <a:lnTo>
                  <a:pt x="540" y="160"/>
                </a:lnTo>
                <a:lnTo>
                  <a:pt x="478" y="144"/>
                </a:lnTo>
                <a:lnTo>
                  <a:pt x="416" y="121"/>
                </a:lnTo>
                <a:lnTo>
                  <a:pt x="308" y="121"/>
                </a:lnTo>
                <a:lnTo>
                  <a:pt x="262" y="121"/>
                </a:lnTo>
                <a:lnTo>
                  <a:pt x="216" y="144"/>
                </a:lnTo>
                <a:lnTo>
                  <a:pt x="154" y="160"/>
                </a:lnTo>
                <a:lnTo>
                  <a:pt x="30" y="152"/>
                </a:lnTo>
                <a:lnTo>
                  <a:pt x="0" y="88"/>
                </a:lnTo>
                <a:lnTo>
                  <a:pt x="0" y="39"/>
                </a:lnTo>
                <a:lnTo>
                  <a:pt x="15" y="15"/>
                </a:lnTo>
                <a:lnTo>
                  <a:pt x="61" y="15"/>
                </a:lnTo>
                <a:lnTo>
                  <a:pt x="77" y="39"/>
                </a:lnTo>
                <a:lnTo>
                  <a:pt x="123" y="48"/>
                </a:lnTo>
                <a:lnTo>
                  <a:pt x="200" y="56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txBody>
          <a:bodyPr lIns="90000" rIns="90000" tIns="12600" bIns="12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917080" y="2691720"/>
            <a:ext cx="1664640" cy="626400"/>
            <a:chOff x="2917080" y="2691720"/>
            <a:chExt cx="1664640" cy="626400"/>
          </a:xfrm>
        </p:grpSpPr>
        <p:sp>
          <p:nvSpPr>
            <p:cNvPr id="292" name=""/>
            <p:cNvSpPr/>
            <p:nvPr/>
          </p:nvSpPr>
          <p:spPr>
            <a:xfrm>
              <a:off x="3170160" y="2774880"/>
              <a:ext cx="1411560" cy="543240"/>
            </a:xfrm>
            <a:custGeom>
              <a:avLst/>
              <a:gdLst/>
              <a:ahLst/>
              <a:rect l="0" t="0" r="r" b="b"/>
              <a:pathLst>
                <a:path w="3921" h="1509">
                  <a:moveTo>
                    <a:pt x="3921" y="1345"/>
                  </a:moveTo>
                  <a:lnTo>
                    <a:pt x="3905" y="1156"/>
                  </a:lnTo>
                  <a:lnTo>
                    <a:pt x="3621" y="935"/>
                  </a:lnTo>
                  <a:lnTo>
                    <a:pt x="2560" y="683"/>
                  </a:lnTo>
                  <a:lnTo>
                    <a:pt x="310" y="0"/>
                  </a:lnTo>
                  <a:lnTo>
                    <a:pt x="0" y="794"/>
                  </a:lnTo>
                  <a:lnTo>
                    <a:pt x="1976" y="1288"/>
                  </a:lnTo>
                  <a:lnTo>
                    <a:pt x="3490" y="1509"/>
                  </a:lnTo>
                  <a:lnTo>
                    <a:pt x="3921" y="134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17080" y="2691720"/>
              <a:ext cx="307440" cy="347040"/>
            </a:xfrm>
            <a:custGeom>
              <a:avLst/>
              <a:gdLst/>
              <a:ahLst/>
              <a:rect l="0" t="0" r="r" b="b"/>
              <a:pathLst>
                <a:path w="854" h="964">
                  <a:moveTo>
                    <a:pt x="671" y="41"/>
                  </a:moveTo>
                  <a:lnTo>
                    <a:pt x="671" y="41"/>
                  </a:lnTo>
                  <a:lnTo>
                    <a:pt x="671" y="41"/>
                  </a:lnTo>
                  <a:cubicBezTo>
                    <a:pt x="609" y="7"/>
                    <a:pt x="538" y="-6"/>
                    <a:pt x="463" y="3"/>
                  </a:cubicBezTo>
                  <a:cubicBezTo>
                    <a:pt x="388" y="12"/>
                    <a:pt x="313" y="43"/>
                    <a:pt x="245" y="93"/>
                  </a:cubicBezTo>
                  <a:cubicBezTo>
                    <a:pt x="177" y="143"/>
                    <a:pt x="119" y="210"/>
                    <a:pt x="76" y="288"/>
                  </a:cubicBezTo>
                  <a:cubicBezTo>
                    <a:pt x="33" y="365"/>
                    <a:pt x="8" y="450"/>
                    <a:pt x="1" y="534"/>
                  </a:cubicBezTo>
                  <a:cubicBezTo>
                    <a:pt x="-5" y="618"/>
                    <a:pt x="8" y="699"/>
                    <a:pt x="40" y="767"/>
                  </a:cubicBezTo>
                  <a:cubicBezTo>
                    <a:pt x="72" y="835"/>
                    <a:pt x="121" y="889"/>
                    <a:pt x="182" y="923"/>
                  </a:cubicBezTo>
                  <a:lnTo>
                    <a:pt x="182" y="923"/>
                  </a:lnTo>
                  <a:lnTo>
                    <a:pt x="182" y="923"/>
                  </a:lnTo>
                  <a:cubicBezTo>
                    <a:pt x="244" y="957"/>
                    <a:pt x="315" y="970"/>
                    <a:pt x="390" y="961"/>
                  </a:cubicBezTo>
                  <a:cubicBezTo>
                    <a:pt x="465" y="952"/>
                    <a:pt x="540" y="921"/>
                    <a:pt x="608" y="871"/>
                  </a:cubicBezTo>
                  <a:cubicBezTo>
                    <a:pt x="676" y="821"/>
                    <a:pt x="734" y="754"/>
                    <a:pt x="777" y="676"/>
                  </a:cubicBezTo>
                  <a:cubicBezTo>
                    <a:pt x="820" y="599"/>
                    <a:pt x="845" y="514"/>
                    <a:pt x="852" y="430"/>
                  </a:cubicBezTo>
                  <a:cubicBezTo>
                    <a:pt x="858" y="346"/>
                    <a:pt x="845" y="265"/>
                    <a:pt x="813" y="197"/>
                  </a:cubicBezTo>
                  <a:cubicBezTo>
                    <a:pt x="781" y="129"/>
                    <a:pt x="732" y="75"/>
                    <a:pt x="671" y="41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655640" y="995400"/>
            <a:ext cx="2762640" cy="1108440"/>
            <a:chOff x="1655640" y="995400"/>
            <a:chExt cx="2762640" cy="1108440"/>
          </a:xfrm>
        </p:grpSpPr>
        <p:sp>
          <p:nvSpPr>
            <p:cNvPr id="295" name=""/>
            <p:cNvSpPr/>
            <p:nvPr/>
          </p:nvSpPr>
          <p:spPr>
            <a:xfrm>
              <a:off x="1655640" y="995400"/>
              <a:ext cx="2762640" cy="1108440"/>
            </a:xfrm>
            <a:custGeom>
              <a:avLst/>
              <a:gdLst/>
              <a:ahLst/>
              <a:rect l="0" t="0" r="r" b="b"/>
              <a:pathLst>
                <a:path w="7674" h="3079">
                  <a:moveTo>
                    <a:pt x="7353" y="2122"/>
                  </a:moveTo>
                  <a:lnTo>
                    <a:pt x="7039" y="1826"/>
                  </a:lnTo>
                  <a:lnTo>
                    <a:pt x="6709" y="1526"/>
                  </a:lnTo>
                  <a:lnTo>
                    <a:pt x="6016" y="993"/>
                  </a:lnTo>
                  <a:lnTo>
                    <a:pt x="5385" y="767"/>
                  </a:lnTo>
                  <a:lnTo>
                    <a:pt x="4745" y="537"/>
                  </a:lnTo>
                  <a:lnTo>
                    <a:pt x="4282" y="458"/>
                  </a:lnTo>
                  <a:lnTo>
                    <a:pt x="3819" y="339"/>
                  </a:lnTo>
                  <a:lnTo>
                    <a:pt x="3683" y="357"/>
                  </a:lnTo>
                  <a:lnTo>
                    <a:pt x="3555" y="352"/>
                  </a:lnTo>
                  <a:lnTo>
                    <a:pt x="3224" y="273"/>
                  </a:lnTo>
                  <a:lnTo>
                    <a:pt x="2884" y="163"/>
                  </a:lnTo>
                  <a:lnTo>
                    <a:pt x="2964" y="88"/>
                  </a:lnTo>
                  <a:lnTo>
                    <a:pt x="3078" y="35"/>
                  </a:lnTo>
                  <a:lnTo>
                    <a:pt x="3295" y="0"/>
                  </a:lnTo>
                  <a:lnTo>
                    <a:pt x="3519" y="22"/>
                  </a:lnTo>
                  <a:lnTo>
                    <a:pt x="3749" y="83"/>
                  </a:lnTo>
                  <a:lnTo>
                    <a:pt x="3894" y="185"/>
                  </a:lnTo>
                  <a:lnTo>
                    <a:pt x="4053" y="260"/>
                  </a:lnTo>
                  <a:lnTo>
                    <a:pt x="4379" y="392"/>
                  </a:lnTo>
                  <a:lnTo>
                    <a:pt x="4719" y="445"/>
                  </a:lnTo>
                  <a:lnTo>
                    <a:pt x="5072" y="533"/>
                  </a:lnTo>
                  <a:lnTo>
                    <a:pt x="5195" y="590"/>
                  </a:lnTo>
                  <a:lnTo>
                    <a:pt x="5305" y="674"/>
                  </a:lnTo>
                  <a:lnTo>
                    <a:pt x="5482" y="794"/>
                  </a:lnTo>
                  <a:lnTo>
                    <a:pt x="5654" y="900"/>
                  </a:lnTo>
                  <a:lnTo>
                    <a:pt x="5853" y="1024"/>
                  </a:lnTo>
                  <a:lnTo>
                    <a:pt x="5937" y="1151"/>
                  </a:lnTo>
                  <a:lnTo>
                    <a:pt x="6047" y="1288"/>
                  </a:lnTo>
                  <a:lnTo>
                    <a:pt x="6285" y="1517"/>
                  </a:lnTo>
                  <a:lnTo>
                    <a:pt x="6316" y="1584"/>
                  </a:lnTo>
                  <a:lnTo>
                    <a:pt x="6338" y="1628"/>
                  </a:lnTo>
                  <a:lnTo>
                    <a:pt x="6396" y="1681"/>
                  </a:lnTo>
                  <a:lnTo>
                    <a:pt x="6453" y="1707"/>
                  </a:lnTo>
                  <a:lnTo>
                    <a:pt x="6457" y="1601"/>
                  </a:lnTo>
                  <a:lnTo>
                    <a:pt x="6435" y="1509"/>
                  </a:lnTo>
                  <a:lnTo>
                    <a:pt x="6343" y="1350"/>
                  </a:lnTo>
                  <a:lnTo>
                    <a:pt x="6206" y="1226"/>
                  </a:lnTo>
                  <a:lnTo>
                    <a:pt x="6052" y="1094"/>
                  </a:lnTo>
                  <a:lnTo>
                    <a:pt x="5880" y="1010"/>
                  </a:lnTo>
                  <a:lnTo>
                    <a:pt x="5729" y="966"/>
                  </a:lnTo>
                  <a:lnTo>
                    <a:pt x="5424" y="874"/>
                  </a:lnTo>
                  <a:lnTo>
                    <a:pt x="5155" y="799"/>
                  </a:lnTo>
                  <a:lnTo>
                    <a:pt x="4825" y="723"/>
                  </a:lnTo>
                  <a:lnTo>
                    <a:pt x="4225" y="705"/>
                  </a:lnTo>
                  <a:lnTo>
                    <a:pt x="3608" y="683"/>
                  </a:lnTo>
                  <a:lnTo>
                    <a:pt x="3356" y="670"/>
                  </a:lnTo>
                  <a:lnTo>
                    <a:pt x="3087" y="648"/>
                  </a:lnTo>
                  <a:lnTo>
                    <a:pt x="2818" y="661"/>
                  </a:lnTo>
                  <a:lnTo>
                    <a:pt x="2571" y="727"/>
                  </a:lnTo>
                  <a:lnTo>
                    <a:pt x="1292" y="1165"/>
                  </a:lnTo>
                  <a:lnTo>
                    <a:pt x="0" y="1592"/>
                  </a:lnTo>
                  <a:lnTo>
                    <a:pt x="74" y="1487"/>
                  </a:lnTo>
                  <a:lnTo>
                    <a:pt x="154" y="1363"/>
                  </a:lnTo>
                  <a:lnTo>
                    <a:pt x="273" y="1253"/>
                  </a:lnTo>
                  <a:lnTo>
                    <a:pt x="388" y="1196"/>
                  </a:lnTo>
                  <a:lnTo>
                    <a:pt x="493" y="1165"/>
                  </a:lnTo>
                  <a:lnTo>
                    <a:pt x="612" y="1138"/>
                  </a:lnTo>
                  <a:lnTo>
                    <a:pt x="674" y="1143"/>
                  </a:lnTo>
                  <a:lnTo>
                    <a:pt x="732" y="1116"/>
                  </a:lnTo>
                  <a:lnTo>
                    <a:pt x="864" y="1068"/>
                  </a:lnTo>
                  <a:lnTo>
                    <a:pt x="970" y="1032"/>
                  </a:lnTo>
                  <a:lnTo>
                    <a:pt x="1023" y="1006"/>
                  </a:lnTo>
                  <a:lnTo>
                    <a:pt x="1067" y="1002"/>
                  </a:lnTo>
                  <a:lnTo>
                    <a:pt x="1115" y="997"/>
                  </a:lnTo>
                  <a:lnTo>
                    <a:pt x="1172" y="966"/>
                  </a:lnTo>
                  <a:lnTo>
                    <a:pt x="1252" y="984"/>
                  </a:lnTo>
                  <a:lnTo>
                    <a:pt x="1375" y="957"/>
                  </a:lnTo>
                  <a:lnTo>
                    <a:pt x="1486" y="953"/>
                  </a:lnTo>
                  <a:lnTo>
                    <a:pt x="1583" y="975"/>
                  </a:lnTo>
                  <a:lnTo>
                    <a:pt x="1706" y="979"/>
                  </a:lnTo>
                  <a:lnTo>
                    <a:pt x="1799" y="971"/>
                  </a:lnTo>
                  <a:lnTo>
                    <a:pt x="1847" y="962"/>
                  </a:lnTo>
                  <a:lnTo>
                    <a:pt x="1882" y="979"/>
                  </a:lnTo>
                  <a:lnTo>
                    <a:pt x="1928" y="975"/>
                  </a:lnTo>
                  <a:lnTo>
                    <a:pt x="1945" y="984"/>
                  </a:lnTo>
                  <a:lnTo>
                    <a:pt x="3211" y="874"/>
                  </a:lnTo>
                  <a:lnTo>
                    <a:pt x="4344" y="957"/>
                  </a:lnTo>
                  <a:lnTo>
                    <a:pt x="4772" y="1054"/>
                  </a:lnTo>
                  <a:lnTo>
                    <a:pt x="5200" y="1156"/>
                  </a:lnTo>
                  <a:lnTo>
                    <a:pt x="5407" y="1226"/>
                  </a:lnTo>
                  <a:lnTo>
                    <a:pt x="5491" y="1266"/>
                  </a:lnTo>
                  <a:lnTo>
                    <a:pt x="5592" y="1288"/>
                  </a:lnTo>
                  <a:lnTo>
                    <a:pt x="5663" y="1319"/>
                  </a:lnTo>
                  <a:lnTo>
                    <a:pt x="5733" y="1301"/>
                  </a:lnTo>
                  <a:lnTo>
                    <a:pt x="5862" y="1310"/>
                  </a:lnTo>
                  <a:lnTo>
                    <a:pt x="5941" y="1319"/>
                  </a:lnTo>
                  <a:lnTo>
                    <a:pt x="6008" y="1323"/>
                  </a:lnTo>
                  <a:lnTo>
                    <a:pt x="6060" y="1350"/>
                  </a:lnTo>
                  <a:lnTo>
                    <a:pt x="6060" y="1350"/>
                  </a:lnTo>
                  <a:lnTo>
                    <a:pt x="6008" y="1323"/>
                  </a:lnTo>
                  <a:lnTo>
                    <a:pt x="5919" y="1279"/>
                  </a:lnTo>
                  <a:lnTo>
                    <a:pt x="5822" y="1262"/>
                  </a:lnTo>
                  <a:lnTo>
                    <a:pt x="5733" y="1218"/>
                  </a:lnTo>
                  <a:lnTo>
                    <a:pt x="5618" y="1191"/>
                  </a:lnTo>
                  <a:lnTo>
                    <a:pt x="5473" y="1121"/>
                  </a:lnTo>
                  <a:lnTo>
                    <a:pt x="5292" y="1054"/>
                  </a:lnTo>
                  <a:lnTo>
                    <a:pt x="5116" y="971"/>
                  </a:lnTo>
                  <a:lnTo>
                    <a:pt x="4812" y="1019"/>
                  </a:lnTo>
                  <a:lnTo>
                    <a:pt x="4657" y="1028"/>
                  </a:lnTo>
                  <a:lnTo>
                    <a:pt x="4503" y="1032"/>
                  </a:lnTo>
                  <a:lnTo>
                    <a:pt x="4278" y="1037"/>
                  </a:lnTo>
                  <a:lnTo>
                    <a:pt x="4093" y="1032"/>
                  </a:lnTo>
                  <a:lnTo>
                    <a:pt x="3908" y="1050"/>
                  </a:lnTo>
                  <a:lnTo>
                    <a:pt x="3815" y="1063"/>
                  </a:lnTo>
                  <a:lnTo>
                    <a:pt x="3687" y="1107"/>
                  </a:lnTo>
                  <a:lnTo>
                    <a:pt x="3524" y="1169"/>
                  </a:lnTo>
                  <a:lnTo>
                    <a:pt x="3370" y="1262"/>
                  </a:lnTo>
                  <a:lnTo>
                    <a:pt x="3228" y="1332"/>
                  </a:lnTo>
                  <a:lnTo>
                    <a:pt x="3065" y="1390"/>
                  </a:lnTo>
                  <a:lnTo>
                    <a:pt x="2981" y="1434"/>
                  </a:lnTo>
                  <a:lnTo>
                    <a:pt x="2924" y="1460"/>
                  </a:lnTo>
                  <a:lnTo>
                    <a:pt x="2871" y="1491"/>
                  </a:lnTo>
                  <a:lnTo>
                    <a:pt x="2884" y="1465"/>
                  </a:lnTo>
                  <a:lnTo>
                    <a:pt x="2907" y="1456"/>
                  </a:lnTo>
                  <a:lnTo>
                    <a:pt x="2933" y="1407"/>
                  </a:lnTo>
                  <a:lnTo>
                    <a:pt x="2902" y="1425"/>
                  </a:lnTo>
                  <a:lnTo>
                    <a:pt x="2809" y="1434"/>
                  </a:lnTo>
                  <a:lnTo>
                    <a:pt x="2726" y="1473"/>
                  </a:lnTo>
                  <a:lnTo>
                    <a:pt x="2611" y="1531"/>
                  </a:lnTo>
                  <a:lnTo>
                    <a:pt x="2174" y="1764"/>
                  </a:lnTo>
                  <a:lnTo>
                    <a:pt x="1728" y="1963"/>
                  </a:lnTo>
                  <a:lnTo>
                    <a:pt x="1402" y="2135"/>
                  </a:lnTo>
                  <a:lnTo>
                    <a:pt x="1120" y="2330"/>
                  </a:lnTo>
                  <a:lnTo>
                    <a:pt x="829" y="2519"/>
                  </a:lnTo>
                  <a:lnTo>
                    <a:pt x="515" y="2762"/>
                  </a:lnTo>
                  <a:lnTo>
                    <a:pt x="507" y="2780"/>
                  </a:lnTo>
                  <a:lnTo>
                    <a:pt x="476" y="2797"/>
                  </a:lnTo>
                  <a:lnTo>
                    <a:pt x="379" y="2859"/>
                  </a:lnTo>
                  <a:lnTo>
                    <a:pt x="255" y="2938"/>
                  </a:lnTo>
                  <a:lnTo>
                    <a:pt x="189" y="2987"/>
                  </a:lnTo>
                  <a:lnTo>
                    <a:pt x="141" y="2996"/>
                  </a:lnTo>
                  <a:lnTo>
                    <a:pt x="83" y="3022"/>
                  </a:lnTo>
                  <a:lnTo>
                    <a:pt x="57" y="3040"/>
                  </a:lnTo>
                  <a:lnTo>
                    <a:pt x="35" y="3027"/>
                  </a:lnTo>
                  <a:lnTo>
                    <a:pt x="66" y="3013"/>
                  </a:lnTo>
                  <a:lnTo>
                    <a:pt x="105" y="2978"/>
                  </a:lnTo>
                  <a:lnTo>
                    <a:pt x="207" y="2947"/>
                  </a:lnTo>
                  <a:lnTo>
                    <a:pt x="401" y="2815"/>
                  </a:lnTo>
                  <a:lnTo>
                    <a:pt x="608" y="2665"/>
                  </a:lnTo>
                  <a:lnTo>
                    <a:pt x="701" y="2603"/>
                  </a:lnTo>
                  <a:lnTo>
                    <a:pt x="802" y="2568"/>
                  </a:lnTo>
                  <a:lnTo>
                    <a:pt x="899" y="2502"/>
                  </a:lnTo>
                  <a:lnTo>
                    <a:pt x="930" y="2489"/>
                  </a:lnTo>
                  <a:lnTo>
                    <a:pt x="1693" y="2029"/>
                  </a:lnTo>
                  <a:lnTo>
                    <a:pt x="3268" y="1738"/>
                  </a:lnTo>
                  <a:lnTo>
                    <a:pt x="4825" y="1442"/>
                  </a:lnTo>
                  <a:lnTo>
                    <a:pt x="4886" y="1442"/>
                  </a:lnTo>
                  <a:lnTo>
                    <a:pt x="4957" y="1425"/>
                  </a:lnTo>
                  <a:lnTo>
                    <a:pt x="5125" y="1451"/>
                  </a:lnTo>
                  <a:lnTo>
                    <a:pt x="5186" y="1451"/>
                  </a:lnTo>
                  <a:lnTo>
                    <a:pt x="5235" y="1447"/>
                  </a:lnTo>
                  <a:lnTo>
                    <a:pt x="5244" y="1425"/>
                  </a:lnTo>
                  <a:lnTo>
                    <a:pt x="5235" y="1394"/>
                  </a:lnTo>
                  <a:lnTo>
                    <a:pt x="5116" y="1279"/>
                  </a:lnTo>
                  <a:lnTo>
                    <a:pt x="4957" y="1204"/>
                  </a:lnTo>
                  <a:lnTo>
                    <a:pt x="4785" y="1121"/>
                  </a:lnTo>
                  <a:lnTo>
                    <a:pt x="4617" y="1059"/>
                  </a:lnTo>
                  <a:lnTo>
                    <a:pt x="3982" y="979"/>
                  </a:lnTo>
                  <a:lnTo>
                    <a:pt x="3295" y="975"/>
                  </a:lnTo>
                  <a:lnTo>
                    <a:pt x="2646" y="1019"/>
                  </a:lnTo>
                  <a:lnTo>
                    <a:pt x="2311" y="1081"/>
                  </a:lnTo>
                  <a:lnTo>
                    <a:pt x="2016" y="1156"/>
                  </a:lnTo>
                  <a:lnTo>
                    <a:pt x="1852" y="1213"/>
                  </a:lnTo>
                  <a:lnTo>
                    <a:pt x="1649" y="1284"/>
                  </a:lnTo>
                  <a:lnTo>
                    <a:pt x="1433" y="1372"/>
                  </a:lnTo>
                  <a:lnTo>
                    <a:pt x="1243" y="1447"/>
                  </a:lnTo>
                  <a:lnTo>
                    <a:pt x="1172" y="1495"/>
                  </a:lnTo>
                  <a:lnTo>
                    <a:pt x="1106" y="1548"/>
                  </a:lnTo>
                  <a:lnTo>
                    <a:pt x="1036" y="1597"/>
                  </a:lnTo>
                  <a:lnTo>
                    <a:pt x="952" y="1641"/>
                  </a:lnTo>
                  <a:lnTo>
                    <a:pt x="895" y="1667"/>
                  </a:lnTo>
                  <a:lnTo>
                    <a:pt x="886" y="1689"/>
                  </a:lnTo>
                  <a:lnTo>
                    <a:pt x="895" y="1667"/>
                  </a:lnTo>
                  <a:lnTo>
                    <a:pt x="978" y="1623"/>
                  </a:lnTo>
                  <a:lnTo>
                    <a:pt x="1080" y="1562"/>
                  </a:lnTo>
                  <a:lnTo>
                    <a:pt x="1146" y="1513"/>
                  </a:lnTo>
                  <a:lnTo>
                    <a:pt x="1172" y="1495"/>
                  </a:lnTo>
                  <a:lnTo>
                    <a:pt x="4005" y="1597"/>
                  </a:lnTo>
                  <a:lnTo>
                    <a:pt x="6823" y="1694"/>
                  </a:lnTo>
                  <a:lnTo>
                    <a:pt x="6854" y="1711"/>
                  </a:lnTo>
                  <a:lnTo>
                    <a:pt x="6903" y="1707"/>
                  </a:lnTo>
                  <a:lnTo>
                    <a:pt x="6934" y="1689"/>
                  </a:lnTo>
                  <a:lnTo>
                    <a:pt x="6942" y="1672"/>
                  </a:lnTo>
                  <a:lnTo>
                    <a:pt x="6572" y="1681"/>
                  </a:lnTo>
                  <a:lnTo>
                    <a:pt x="6184" y="1716"/>
                  </a:lnTo>
                  <a:lnTo>
                    <a:pt x="5994" y="1707"/>
                  </a:lnTo>
                  <a:lnTo>
                    <a:pt x="5791" y="1716"/>
                  </a:lnTo>
                  <a:lnTo>
                    <a:pt x="5367" y="1707"/>
                  </a:lnTo>
                  <a:lnTo>
                    <a:pt x="4953" y="1756"/>
                  </a:lnTo>
                  <a:lnTo>
                    <a:pt x="4759" y="1795"/>
                  </a:lnTo>
                  <a:lnTo>
                    <a:pt x="4578" y="1853"/>
                  </a:lnTo>
                  <a:lnTo>
                    <a:pt x="4207" y="2029"/>
                  </a:lnTo>
                  <a:lnTo>
                    <a:pt x="3855" y="2219"/>
                  </a:lnTo>
                  <a:lnTo>
                    <a:pt x="3616" y="2356"/>
                  </a:lnTo>
                  <a:lnTo>
                    <a:pt x="3370" y="2515"/>
                  </a:lnTo>
                  <a:lnTo>
                    <a:pt x="3136" y="2674"/>
                  </a:lnTo>
                  <a:lnTo>
                    <a:pt x="2898" y="2810"/>
                  </a:lnTo>
                  <a:lnTo>
                    <a:pt x="2809" y="2850"/>
                  </a:lnTo>
                  <a:lnTo>
                    <a:pt x="2783" y="2868"/>
                  </a:lnTo>
                  <a:lnTo>
                    <a:pt x="2743" y="2899"/>
                  </a:lnTo>
                  <a:lnTo>
                    <a:pt x="2721" y="2943"/>
                  </a:lnTo>
                  <a:lnTo>
                    <a:pt x="2668" y="2978"/>
                  </a:lnTo>
                  <a:lnTo>
                    <a:pt x="2611" y="3005"/>
                  </a:lnTo>
                  <a:lnTo>
                    <a:pt x="2523" y="3044"/>
                  </a:lnTo>
                  <a:lnTo>
                    <a:pt x="2470" y="3071"/>
                  </a:lnTo>
                  <a:lnTo>
                    <a:pt x="2483" y="3079"/>
                  </a:lnTo>
                  <a:lnTo>
                    <a:pt x="2593" y="3079"/>
                  </a:lnTo>
                  <a:lnTo>
                    <a:pt x="2708" y="3022"/>
                  </a:lnTo>
                  <a:lnTo>
                    <a:pt x="2792" y="2978"/>
                  </a:lnTo>
                  <a:lnTo>
                    <a:pt x="2818" y="2969"/>
                  </a:lnTo>
                  <a:lnTo>
                    <a:pt x="3511" y="2665"/>
                  </a:lnTo>
                  <a:lnTo>
                    <a:pt x="3938" y="2541"/>
                  </a:lnTo>
                  <a:lnTo>
                    <a:pt x="4362" y="2387"/>
                  </a:lnTo>
                  <a:lnTo>
                    <a:pt x="4573" y="2267"/>
                  </a:lnTo>
                  <a:lnTo>
                    <a:pt x="4763" y="2135"/>
                  </a:lnTo>
                  <a:lnTo>
                    <a:pt x="5200" y="1906"/>
                  </a:lnTo>
                  <a:lnTo>
                    <a:pt x="5654" y="1734"/>
                  </a:lnTo>
                  <a:lnTo>
                    <a:pt x="5880" y="1676"/>
                  </a:lnTo>
                  <a:lnTo>
                    <a:pt x="6127" y="1659"/>
                  </a:lnTo>
                  <a:lnTo>
                    <a:pt x="6369" y="1641"/>
                  </a:lnTo>
                  <a:lnTo>
                    <a:pt x="6634" y="1685"/>
                  </a:lnTo>
                  <a:lnTo>
                    <a:pt x="6709" y="1747"/>
                  </a:lnTo>
                  <a:lnTo>
                    <a:pt x="6784" y="1782"/>
                  </a:lnTo>
                  <a:lnTo>
                    <a:pt x="6779" y="1866"/>
                  </a:lnTo>
                  <a:lnTo>
                    <a:pt x="6748" y="1932"/>
                  </a:lnTo>
                  <a:lnTo>
                    <a:pt x="6651" y="1998"/>
                  </a:lnTo>
                  <a:lnTo>
                    <a:pt x="6554" y="2064"/>
                  </a:lnTo>
                  <a:lnTo>
                    <a:pt x="6343" y="2152"/>
                  </a:lnTo>
                  <a:lnTo>
                    <a:pt x="6246" y="2166"/>
                  </a:lnTo>
                  <a:lnTo>
                    <a:pt x="6224" y="2179"/>
                  </a:lnTo>
                  <a:lnTo>
                    <a:pt x="6087" y="2223"/>
                  </a:lnTo>
                  <a:lnTo>
                    <a:pt x="5946" y="2210"/>
                  </a:lnTo>
                  <a:lnTo>
                    <a:pt x="5645" y="2148"/>
                  </a:lnTo>
                  <a:lnTo>
                    <a:pt x="5345" y="2060"/>
                  </a:lnTo>
                  <a:lnTo>
                    <a:pt x="5072" y="1950"/>
                  </a:lnTo>
                  <a:lnTo>
                    <a:pt x="4864" y="1932"/>
                  </a:lnTo>
                  <a:lnTo>
                    <a:pt x="4648" y="1888"/>
                  </a:lnTo>
                  <a:lnTo>
                    <a:pt x="4463" y="1906"/>
                  </a:lnTo>
                  <a:lnTo>
                    <a:pt x="4251" y="1941"/>
                  </a:lnTo>
                  <a:lnTo>
                    <a:pt x="3797" y="2025"/>
                  </a:lnTo>
                  <a:lnTo>
                    <a:pt x="3577" y="2086"/>
                  </a:lnTo>
                  <a:lnTo>
                    <a:pt x="3347" y="2113"/>
                  </a:lnTo>
                  <a:lnTo>
                    <a:pt x="3281" y="2161"/>
                  </a:lnTo>
                  <a:lnTo>
                    <a:pt x="3250" y="2174"/>
                  </a:lnTo>
                  <a:lnTo>
                    <a:pt x="3193" y="2201"/>
                  </a:lnTo>
                  <a:lnTo>
                    <a:pt x="3149" y="2210"/>
                  </a:lnTo>
                  <a:lnTo>
                    <a:pt x="3092" y="2236"/>
                  </a:lnTo>
                  <a:lnTo>
                    <a:pt x="3017" y="2258"/>
                  </a:lnTo>
                  <a:lnTo>
                    <a:pt x="2902" y="2312"/>
                  </a:lnTo>
                  <a:lnTo>
                    <a:pt x="2902" y="2312"/>
                  </a:lnTo>
                  <a:lnTo>
                    <a:pt x="2929" y="2298"/>
                  </a:lnTo>
                  <a:lnTo>
                    <a:pt x="3030" y="2236"/>
                  </a:lnTo>
                  <a:lnTo>
                    <a:pt x="3162" y="2188"/>
                  </a:lnTo>
                  <a:lnTo>
                    <a:pt x="3268" y="2130"/>
                  </a:lnTo>
                  <a:lnTo>
                    <a:pt x="3519" y="2025"/>
                  </a:lnTo>
                  <a:lnTo>
                    <a:pt x="3647" y="1980"/>
                  </a:lnTo>
                  <a:lnTo>
                    <a:pt x="3797" y="1941"/>
                  </a:lnTo>
                  <a:lnTo>
                    <a:pt x="3908" y="1941"/>
                  </a:lnTo>
                  <a:lnTo>
                    <a:pt x="4027" y="1919"/>
                  </a:lnTo>
                  <a:lnTo>
                    <a:pt x="4146" y="1892"/>
                  </a:lnTo>
                  <a:lnTo>
                    <a:pt x="4194" y="1883"/>
                  </a:lnTo>
                  <a:lnTo>
                    <a:pt x="4221" y="1870"/>
                  </a:lnTo>
                  <a:lnTo>
                    <a:pt x="4565" y="1786"/>
                  </a:lnTo>
                  <a:lnTo>
                    <a:pt x="4926" y="1711"/>
                  </a:lnTo>
                  <a:lnTo>
                    <a:pt x="5019" y="1703"/>
                  </a:lnTo>
                  <a:lnTo>
                    <a:pt x="5107" y="1747"/>
                  </a:lnTo>
                  <a:lnTo>
                    <a:pt x="5191" y="1756"/>
                  </a:lnTo>
                  <a:lnTo>
                    <a:pt x="5288" y="1782"/>
                  </a:lnTo>
                  <a:lnTo>
                    <a:pt x="5491" y="1764"/>
                  </a:lnTo>
                  <a:lnTo>
                    <a:pt x="5579" y="1756"/>
                  </a:lnTo>
                  <a:lnTo>
                    <a:pt x="5676" y="1773"/>
                  </a:lnTo>
                  <a:lnTo>
                    <a:pt x="6440" y="1950"/>
                  </a:lnTo>
                  <a:lnTo>
                    <a:pt x="6792" y="2069"/>
                  </a:lnTo>
                  <a:lnTo>
                    <a:pt x="7163" y="2197"/>
                  </a:lnTo>
                  <a:lnTo>
                    <a:pt x="7308" y="2210"/>
                  </a:lnTo>
                  <a:lnTo>
                    <a:pt x="7445" y="2249"/>
                  </a:lnTo>
                  <a:lnTo>
                    <a:pt x="7520" y="2258"/>
                  </a:lnTo>
                  <a:lnTo>
                    <a:pt x="7608" y="2298"/>
                  </a:lnTo>
                  <a:lnTo>
                    <a:pt x="7674" y="2302"/>
                  </a:lnTo>
                  <a:lnTo>
                    <a:pt x="7674" y="2302"/>
                  </a:lnTo>
                  <a:lnTo>
                    <a:pt x="7657" y="2294"/>
                  </a:lnTo>
                  <a:lnTo>
                    <a:pt x="7225" y="2113"/>
                  </a:lnTo>
                  <a:lnTo>
                    <a:pt x="6779" y="1923"/>
                  </a:lnTo>
                  <a:lnTo>
                    <a:pt x="6563" y="1870"/>
                  </a:lnTo>
                  <a:lnTo>
                    <a:pt x="6378" y="1813"/>
                  </a:lnTo>
                  <a:lnTo>
                    <a:pt x="6034" y="1751"/>
                  </a:lnTo>
                  <a:lnTo>
                    <a:pt x="5663" y="1711"/>
                  </a:lnTo>
                  <a:lnTo>
                    <a:pt x="5275" y="1716"/>
                  </a:lnTo>
                  <a:lnTo>
                    <a:pt x="5072" y="1729"/>
                  </a:lnTo>
                  <a:lnTo>
                    <a:pt x="4961" y="1729"/>
                  </a:lnTo>
                  <a:lnTo>
                    <a:pt x="4860" y="1764"/>
                  </a:lnTo>
                  <a:lnTo>
                    <a:pt x="4860" y="1764"/>
                  </a:lnTo>
                  <a:lnTo>
                    <a:pt x="4904" y="1760"/>
                  </a:lnTo>
                  <a:lnTo>
                    <a:pt x="4970" y="1764"/>
                  </a:lnTo>
                  <a:lnTo>
                    <a:pt x="5014" y="1756"/>
                  </a:lnTo>
                  <a:lnTo>
                    <a:pt x="5094" y="1769"/>
                  </a:lnTo>
                  <a:lnTo>
                    <a:pt x="5147" y="1795"/>
                  </a:lnTo>
                  <a:lnTo>
                    <a:pt x="5504" y="1773"/>
                  </a:lnTo>
                  <a:lnTo>
                    <a:pt x="5822" y="1791"/>
                  </a:lnTo>
                  <a:lnTo>
                    <a:pt x="6157" y="1813"/>
                  </a:lnTo>
                  <a:lnTo>
                    <a:pt x="6497" y="1870"/>
                  </a:lnTo>
                  <a:lnTo>
                    <a:pt x="6779" y="2007"/>
                  </a:lnTo>
                  <a:lnTo>
                    <a:pt x="7048" y="2161"/>
                  </a:lnTo>
                  <a:lnTo>
                    <a:pt x="7106" y="2223"/>
                  </a:lnTo>
                  <a:lnTo>
                    <a:pt x="7132" y="2263"/>
                  </a:lnTo>
                  <a:lnTo>
                    <a:pt x="7123" y="2285"/>
                  </a:lnTo>
                  <a:lnTo>
                    <a:pt x="7092" y="2298"/>
                  </a:lnTo>
                  <a:lnTo>
                    <a:pt x="7048" y="2307"/>
                  </a:lnTo>
                  <a:lnTo>
                    <a:pt x="6964" y="2289"/>
                  </a:lnTo>
                  <a:lnTo>
                    <a:pt x="6867" y="2272"/>
                  </a:lnTo>
                  <a:lnTo>
                    <a:pt x="6784" y="2258"/>
                  </a:lnTo>
                  <a:lnTo>
                    <a:pt x="6629" y="2267"/>
                  </a:lnTo>
                  <a:lnTo>
                    <a:pt x="6493" y="2285"/>
                  </a:lnTo>
                  <a:lnTo>
                    <a:pt x="6122" y="2294"/>
                  </a:lnTo>
                  <a:lnTo>
                    <a:pt x="5733" y="2334"/>
                  </a:lnTo>
                  <a:lnTo>
                    <a:pt x="4957" y="2453"/>
                  </a:lnTo>
                  <a:lnTo>
                    <a:pt x="4957" y="2453"/>
                  </a:lnTo>
                  <a:lnTo>
                    <a:pt x="5006" y="2449"/>
                  </a:lnTo>
                  <a:lnTo>
                    <a:pt x="5067" y="2449"/>
                  </a:lnTo>
                  <a:lnTo>
                    <a:pt x="5111" y="2449"/>
                  </a:lnTo>
                  <a:lnTo>
                    <a:pt x="5186" y="2427"/>
                  </a:lnTo>
                  <a:lnTo>
                    <a:pt x="5257" y="2374"/>
                  </a:lnTo>
                  <a:lnTo>
                    <a:pt x="5601" y="2374"/>
                  </a:lnTo>
                  <a:lnTo>
                    <a:pt x="5933" y="2370"/>
                  </a:lnTo>
                  <a:lnTo>
                    <a:pt x="6232" y="2325"/>
                  </a:lnTo>
                  <a:lnTo>
                    <a:pt x="6519" y="2321"/>
                  </a:lnTo>
                  <a:lnTo>
                    <a:pt x="7123" y="2370"/>
                  </a:lnTo>
                  <a:lnTo>
                    <a:pt x="6916" y="2210"/>
                  </a:lnTo>
                  <a:lnTo>
                    <a:pt x="6726" y="2117"/>
                  </a:lnTo>
                  <a:lnTo>
                    <a:pt x="6506" y="2042"/>
                  </a:lnTo>
                  <a:lnTo>
                    <a:pt x="6263" y="1950"/>
                  </a:lnTo>
                  <a:lnTo>
                    <a:pt x="5946" y="1936"/>
                  </a:lnTo>
                  <a:lnTo>
                    <a:pt x="5636" y="1950"/>
                  </a:lnTo>
                  <a:lnTo>
                    <a:pt x="5323" y="2020"/>
                  </a:lnTo>
                  <a:lnTo>
                    <a:pt x="5010" y="2033"/>
                  </a:lnTo>
                  <a:lnTo>
                    <a:pt x="5072" y="1950"/>
                  </a:lnTo>
                  <a:lnTo>
                    <a:pt x="5151" y="1879"/>
                  </a:lnTo>
                  <a:lnTo>
                    <a:pt x="5279" y="1831"/>
                  </a:lnTo>
                  <a:lnTo>
                    <a:pt x="5411" y="1782"/>
                  </a:lnTo>
                  <a:lnTo>
                    <a:pt x="5570" y="1773"/>
                  </a:lnTo>
                  <a:lnTo>
                    <a:pt x="5742" y="1778"/>
                  </a:lnTo>
                  <a:lnTo>
                    <a:pt x="6065" y="1826"/>
                  </a:lnTo>
                  <a:lnTo>
                    <a:pt x="6197" y="1861"/>
                  </a:lnTo>
                  <a:lnTo>
                    <a:pt x="6334" y="1897"/>
                  </a:lnTo>
                  <a:lnTo>
                    <a:pt x="6387" y="1923"/>
                  </a:lnTo>
                  <a:lnTo>
                    <a:pt x="6444" y="1980"/>
                  </a:lnTo>
                  <a:lnTo>
                    <a:pt x="6532" y="2025"/>
                  </a:lnTo>
                  <a:lnTo>
                    <a:pt x="6629" y="2100"/>
                  </a:lnTo>
                  <a:lnTo>
                    <a:pt x="6854" y="2210"/>
                  </a:lnTo>
                  <a:lnTo>
                    <a:pt x="6960" y="2263"/>
                  </a:lnTo>
                  <a:lnTo>
                    <a:pt x="7039" y="2272"/>
                  </a:lnTo>
                  <a:lnTo>
                    <a:pt x="7136" y="2347"/>
                  </a:lnTo>
                  <a:lnTo>
                    <a:pt x="7211" y="2409"/>
                  </a:lnTo>
                  <a:lnTo>
                    <a:pt x="7317" y="2462"/>
                  </a:lnTo>
                  <a:lnTo>
                    <a:pt x="7388" y="2497"/>
                  </a:lnTo>
                  <a:lnTo>
                    <a:pt x="7410" y="2484"/>
                  </a:lnTo>
                  <a:lnTo>
                    <a:pt x="7397" y="2475"/>
                  </a:lnTo>
                  <a:lnTo>
                    <a:pt x="7370" y="2436"/>
                  </a:lnTo>
                  <a:lnTo>
                    <a:pt x="7335" y="2418"/>
                  </a:lnTo>
                  <a:lnTo>
                    <a:pt x="7313" y="2378"/>
                  </a:lnTo>
                  <a:lnTo>
                    <a:pt x="7282" y="2361"/>
                  </a:lnTo>
                  <a:lnTo>
                    <a:pt x="7330" y="2302"/>
                  </a:lnTo>
                  <a:lnTo>
                    <a:pt x="7366" y="2263"/>
                  </a:lnTo>
                  <a:lnTo>
                    <a:pt x="7326" y="2214"/>
                  </a:lnTo>
                  <a:lnTo>
                    <a:pt x="7300" y="2179"/>
                  </a:lnTo>
                  <a:lnTo>
                    <a:pt x="7251" y="2152"/>
                  </a:lnTo>
                  <a:lnTo>
                    <a:pt x="7198" y="2126"/>
                  </a:lnTo>
                  <a:lnTo>
                    <a:pt x="7154" y="2130"/>
                  </a:lnTo>
                  <a:lnTo>
                    <a:pt x="7079" y="2152"/>
                  </a:lnTo>
                  <a:lnTo>
                    <a:pt x="7031" y="2157"/>
                  </a:lnTo>
                  <a:lnTo>
                    <a:pt x="6823" y="2139"/>
                  </a:lnTo>
                  <a:lnTo>
                    <a:pt x="6607" y="2091"/>
                  </a:lnTo>
                  <a:lnTo>
                    <a:pt x="6219" y="1954"/>
                  </a:lnTo>
                  <a:lnTo>
                    <a:pt x="7353" y="212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052720" y="1292400"/>
              <a:ext cx="2345040" cy="668520"/>
            </a:xfrm>
            <a:custGeom>
              <a:avLst/>
              <a:gdLst/>
              <a:ahLst/>
              <a:rect l="0" t="0" r="r" b="b"/>
              <a:pathLst>
                <a:path w="6514" h="1857">
                  <a:moveTo>
                    <a:pt x="5874" y="1434"/>
                  </a:moveTo>
                  <a:lnTo>
                    <a:pt x="5870" y="1354"/>
                  </a:lnTo>
                  <a:lnTo>
                    <a:pt x="5857" y="1323"/>
                  </a:lnTo>
                  <a:lnTo>
                    <a:pt x="5839" y="1315"/>
                  </a:lnTo>
                  <a:lnTo>
                    <a:pt x="5839" y="1315"/>
                  </a:lnTo>
                  <a:lnTo>
                    <a:pt x="5804" y="1297"/>
                  </a:lnTo>
                  <a:lnTo>
                    <a:pt x="5773" y="1257"/>
                  </a:lnTo>
                  <a:lnTo>
                    <a:pt x="5720" y="1182"/>
                  </a:lnTo>
                  <a:lnTo>
                    <a:pt x="5716" y="1099"/>
                  </a:lnTo>
                  <a:lnTo>
                    <a:pt x="5676" y="1032"/>
                  </a:lnTo>
                  <a:lnTo>
                    <a:pt x="5552" y="917"/>
                  </a:lnTo>
                  <a:lnTo>
                    <a:pt x="5420" y="802"/>
                  </a:lnTo>
                  <a:lnTo>
                    <a:pt x="5416" y="771"/>
                  </a:lnTo>
                  <a:lnTo>
                    <a:pt x="5376" y="754"/>
                  </a:lnTo>
                  <a:lnTo>
                    <a:pt x="5372" y="723"/>
                  </a:lnTo>
                  <a:lnTo>
                    <a:pt x="5349" y="714"/>
                  </a:lnTo>
                  <a:lnTo>
                    <a:pt x="5332" y="705"/>
                  </a:lnTo>
                  <a:lnTo>
                    <a:pt x="5275" y="679"/>
                  </a:lnTo>
                  <a:lnTo>
                    <a:pt x="5120" y="626"/>
                  </a:lnTo>
                  <a:lnTo>
                    <a:pt x="4935" y="568"/>
                  </a:lnTo>
                  <a:lnTo>
                    <a:pt x="4882" y="537"/>
                  </a:lnTo>
                  <a:lnTo>
                    <a:pt x="4816" y="533"/>
                  </a:lnTo>
                  <a:lnTo>
                    <a:pt x="4609" y="533"/>
                  </a:lnTo>
                  <a:lnTo>
                    <a:pt x="4410" y="564"/>
                  </a:lnTo>
                  <a:lnTo>
                    <a:pt x="4163" y="604"/>
                  </a:lnTo>
                  <a:lnTo>
                    <a:pt x="3934" y="648"/>
                  </a:lnTo>
                  <a:lnTo>
                    <a:pt x="3736" y="679"/>
                  </a:lnTo>
                  <a:lnTo>
                    <a:pt x="3497" y="740"/>
                  </a:lnTo>
                  <a:lnTo>
                    <a:pt x="3365" y="780"/>
                  </a:lnTo>
                  <a:lnTo>
                    <a:pt x="3303" y="806"/>
                  </a:lnTo>
                  <a:lnTo>
                    <a:pt x="3303" y="806"/>
                  </a:lnTo>
                  <a:lnTo>
                    <a:pt x="3303" y="806"/>
                  </a:lnTo>
                  <a:lnTo>
                    <a:pt x="3312" y="784"/>
                  </a:lnTo>
                  <a:lnTo>
                    <a:pt x="3312" y="784"/>
                  </a:lnTo>
                  <a:lnTo>
                    <a:pt x="3295" y="776"/>
                  </a:lnTo>
                  <a:lnTo>
                    <a:pt x="3192" y="802"/>
                  </a:lnTo>
                  <a:lnTo>
                    <a:pt x="3003" y="864"/>
                  </a:lnTo>
                  <a:lnTo>
                    <a:pt x="2826" y="935"/>
                  </a:lnTo>
                  <a:lnTo>
                    <a:pt x="2645" y="975"/>
                  </a:lnTo>
                  <a:lnTo>
                    <a:pt x="2456" y="1041"/>
                  </a:lnTo>
                  <a:lnTo>
                    <a:pt x="2323" y="1076"/>
                  </a:lnTo>
                  <a:lnTo>
                    <a:pt x="2187" y="1116"/>
                  </a:lnTo>
                  <a:lnTo>
                    <a:pt x="2085" y="1143"/>
                  </a:lnTo>
                  <a:lnTo>
                    <a:pt x="2037" y="1143"/>
                  </a:lnTo>
                  <a:lnTo>
                    <a:pt x="2103" y="1050"/>
                  </a:lnTo>
                  <a:lnTo>
                    <a:pt x="2134" y="988"/>
                  </a:lnTo>
                  <a:lnTo>
                    <a:pt x="2156" y="944"/>
                  </a:lnTo>
                  <a:lnTo>
                    <a:pt x="2196" y="912"/>
                  </a:lnTo>
                  <a:lnTo>
                    <a:pt x="2204" y="895"/>
                  </a:lnTo>
                  <a:lnTo>
                    <a:pt x="2204" y="895"/>
                  </a:lnTo>
                  <a:lnTo>
                    <a:pt x="2196" y="912"/>
                  </a:lnTo>
                  <a:lnTo>
                    <a:pt x="2213" y="921"/>
                  </a:lnTo>
                  <a:lnTo>
                    <a:pt x="2284" y="877"/>
                  </a:lnTo>
                  <a:lnTo>
                    <a:pt x="2319" y="842"/>
                  </a:lnTo>
                  <a:lnTo>
                    <a:pt x="2381" y="767"/>
                  </a:lnTo>
                  <a:lnTo>
                    <a:pt x="2451" y="674"/>
                  </a:lnTo>
                  <a:lnTo>
                    <a:pt x="2482" y="612"/>
                  </a:lnTo>
                  <a:lnTo>
                    <a:pt x="2517" y="577"/>
                  </a:lnTo>
                  <a:lnTo>
                    <a:pt x="2566" y="573"/>
                  </a:lnTo>
                  <a:lnTo>
                    <a:pt x="2654" y="590"/>
                  </a:lnTo>
                  <a:lnTo>
                    <a:pt x="2716" y="599"/>
                  </a:lnTo>
                  <a:lnTo>
                    <a:pt x="2786" y="604"/>
                  </a:lnTo>
                  <a:lnTo>
                    <a:pt x="3007" y="762"/>
                  </a:lnTo>
                  <a:lnTo>
                    <a:pt x="3205" y="917"/>
                  </a:lnTo>
                  <a:lnTo>
                    <a:pt x="3960" y="1253"/>
                  </a:lnTo>
                  <a:lnTo>
                    <a:pt x="4706" y="1566"/>
                  </a:lnTo>
                  <a:lnTo>
                    <a:pt x="4939" y="1606"/>
                  </a:lnTo>
                  <a:lnTo>
                    <a:pt x="5147" y="1601"/>
                  </a:lnTo>
                  <a:lnTo>
                    <a:pt x="5592" y="1584"/>
                  </a:lnTo>
                  <a:lnTo>
                    <a:pt x="5464" y="1473"/>
                  </a:lnTo>
                  <a:lnTo>
                    <a:pt x="5275" y="1381"/>
                  </a:lnTo>
                  <a:lnTo>
                    <a:pt x="4886" y="1191"/>
                  </a:lnTo>
                  <a:lnTo>
                    <a:pt x="4710" y="1129"/>
                  </a:lnTo>
                  <a:lnTo>
                    <a:pt x="4551" y="1076"/>
                  </a:lnTo>
                  <a:lnTo>
                    <a:pt x="4450" y="1050"/>
                  </a:lnTo>
                  <a:lnTo>
                    <a:pt x="4432" y="1041"/>
                  </a:lnTo>
                  <a:lnTo>
                    <a:pt x="4415" y="1032"/>
                  </a:lnTo>
                  <a:lnTo>
                    <a:pt x="3766" y="851"/>
                  </a:lnTo>
                  <a:lnTo>
                    <a:pt x="3113" y="635"/>
                  </a:lnTo>
                  <a:lnTo>
                    <a:pt x="2950" y="635"/>
                  </a:lnTo>
                  <a:lnTo>
                    <a:pt x="2822" y="617"/>
                  </a:lnTo>
                  <a:lnTo>
                    <a:pt x="2751" y="617"/>
                  </a:lnTo>
                  <a:lnTo>
                    <a:pt x="2707" y="617"/>
                  </a:lnTo>
                  <a:lnTo>
                    <a:pt x="2641" y="612"/>
                  </a:lnTo>
                  <a:lnTo>
                    <a:pt x="2584" y="582"/>
                  </a:lnTo>
                  <a:lnTo>
                    <a:pt x="2482" y="560"/>
                  </a:lnTo>
                  <a:lnTo>
                    <a:pt x="2112" y="612"/>
                  </a:lnTo>
                  <a:lnTo>
                    <a:pt x="1733" y="635"/>
                  </a:lnTo>
                  <a:lnTo>
                    <a:pt x="1521" y="687"/>
                  </a:lnTo>
                  <a:lnTo>
                    <a:pt x="1318" y="771"/>
                  </a:lnTo>
                  <a:lnTo>
                    <a:pt x="1128" y="833"/>
                  </a:lnTo>
                  <a:lnTo>
                    <a:pt x="930" y="864"/>
                  </a:lnTo>
                  <a:lnTo>
                    <a:pt x="886" y="815"/>
                  </a:lnTo>
                  <a:lnTo>
                    <a:pt x="877" y="784"/>
                  </a:lnTo>
                  <a:lnTo>
                    <a:pt x="868" y="758"/>
                  </a:lnTo>
                  <a:lnTo>
                    <a:pt x="890" y="665"/>
                  </a:lnTo>
                  <a:lnTo>
                    <a:pt x="952" y="590"/>
                  </a:lnTo>
                  <a:lnTo>
                    <a:pt x="1098" y="427"/>
                  </a:lnTo>
                  <a:lnTo>
                    <a:pt x="1270" y="304"/>
                  </a:lnTo>
                  <a:lnTo>
                    <a:pt x="1428" y="224"/>
                  </a:lnTo>
                  <a:lnTo>
                    <a:pt x="1803" y="74"/>
                  </a:lnTo>
                  <a:lnTo>
                    <a:pt x="1979" y="26"/>
                  </a:lnTo>
                  <a:lnTo>
                    <a:pt x="2182" y="0"/>
                  </a:lnTo>
                  <a:lnTo>
                    <a:pt x="2315" y="8"/>
                  </a:lnTo>
                  <a:lnTo>
                    <a:pt x="2473" y="13"/>
                  </a:lnTo>
                  <a:lnTo>
                    <a:pt x="2795" y="61"/>
                  </a:lnTo>
                  <a:lnTo>
                    <a:pt x="3122" y="145"/>
                  </a:lnTo>
                  <a:lnTo>
                    <a:pt x="3281" y="198"/>
                  </a:lnTo>
                  <a:lnTo>
                    <a:pt x="3405" y="229"/>
                  </a:lnTo>
                  <a:lnTo>
                    <a:pt x="3616" y="308"/>
                  </a:lnTo>
                  <a:lnTo>
                    <a:pt x="3833" y="388"/>
                  </a:lnTo>
                  <a:lnTo>
                    <a:pt x="4044" y="520"/>
                  </a:lnTo>
                  <a:lnTo>
                    <a:pt x="4247" y="665"/>
                  </a:lnTo>
                  <a:lnTo>
                    <a:pt x="4635" y="957"/>
                  </a:lnTo>
                  <a:lnTo>
                    <a:pt x="5032" y="1231"/>
                  </a:lnTo>
                  <a:lnTo>
                    <a:pt x="4931" y="1103"/>
                  </a:lnTo>
                  <a:lnTo>
                    <a:pt x="4829" y="1028"/>
                  </a:lnTo>
                  <a:lnTo>
                    <a:pt x="4617" y="899"/>
                  </a:lnTo>
                  <a:lnTo>
                    <a:pt x="4485" y="837"/>
                  </a:lnTo>
                  <a:lnTo>
                    <a:pt x="4344" y="793"/>
                  </a:lnTo>
                  <a:lnTo>
                    <a:pt x="4190" y="740"/>
                  </a:lnTo>
                  <a:lnTo>
                    <a:pt x="4005" y="652"/>
                  </a:lnTo>
                  <a:lnTo>
                    <a:pt x="3511" y="520"/>
                  </a:lnTo>
                  <a:lnTo>
                    <a:pt x="2998" y="396"/>
                  </a:lnTo>
                  <a:lnTo>
                    <a:pt x="2764" y="361"/>
                  </a:lnTo>
                  <a:lnTo>
                    <a:pt x="2526" y="326"/>
                  </a:lnTo>
                  <a:lnTo>
                    <a:pt x="2465" y="317"/>
                  </a:lnTo>
                  <a:lnTo>
                    <a:pt x="2442" y="308"/>
                  </a:lnTo>
                  <a:lnTo>
                    <a:pt x="2425" y="299"/>
                  </a:lnTo>
                  <a:lnTo>
                    <a:pt x="2182" y="414"/>
                  </a:lnTo>
                  <a:lnTo>
                    <a:pt x="1957" y="511"/>
                  </a:lnTo>
                  <a:lnTo>
                    <a:pt x="1821" y="599"/>
                  </a:lnTo>
                  <a:lnTo>
                    <a:pt x="1768" y="652"/>
                  </a:lnTo>
                  <a:lnTo>
                    <a:pt x="1684" y="687"/>
                  </a:lnTo>
                  <a:lnTo>
                    <a:pt x="1455" y="784"/>
                  </a:lnTo>
                  <a:lnTo>
                    <a:pt x="1221" y="877"/>
                  </a:lnTo>
                  <a:lnTo>
                    <a:pt x="992" y="975"/>
                  </a:lnTo>
                  <a:lnTo>
                    <a:pt x="740" y="1059"/>
                  </a:lnTo>
                  <a:lnTo>
                    <a:pt x="648" y="1116"/>
                  </a:lnTo>
                  <a:lnTo>
                    <a:pt x="551" y="1169"/>
                  </a:lnTo>
                  <a:lnTo>
                    <a:pt x="388" y="1328"/>
                  </a:lnTo>
                  <a:lnTo>
                    <a:pt x="220" y="1478"/>
                  </a:lnTo>
                  <a:lnTo>
                    <a:pt x="123" y="1535"/>
                  </a:lnTo>
                  <a:lnTo>
                    <a:pt x="0" y="1548"/>
                  </a:lnTo>
                  <a:lnTo>
                    <a:pt x="229" y="1407"/>
                  </a:lnTo>
                  <a:lnTo>
                    <a:pt x="480" y="1271"/>
                  </a:lnTo>
                  <a:lnTo>
                    <a:pt x="767" y="1147"/>
                  </a:lnTo>
                  <a:lnTo>
                    <a:pt x="1053" y="1081"/>
                  </a:lnTo>
                  <a:lnTo>
                    <a:pt x="1252" y="1046"/>
                  </a:lnTo>
                  <a:lnTo>
                    <a:pt x="1344" y="1015"/>
                  </a:lnTo>
                  <a:lnTo>
                    <a:pt x="1433" y="1010"/>
                  </a:lnTo>
                  <a:lnTo>
                    <a:pt x="1552" y="1010"/>
                  </a:lnTo>
                  <a:lnTo>
                    <a:pt x="1574" y="997"/>
                  </a:lnTo>
                  <a:lnTo>
                    <a:pt x="1596" y="1010"/>
                  </a:lnTo>
                  <a:lnTo>
                    <a:pt x="2985" y="754"/>
                  </a:lnTo>
                  <a:lnTo>
                    <a:pt x="3691" y="630"/>
                  </a:lnTo>
                  <a:lnTo>
                    <a:pt x="4384" y="529"/>
                  </a:lnTo>
                  <a:lnTo>
                    <a:pt x="4446" y="533"/>
                  </a:lnTo>
                  <a:lnTo>
                    <a:pt x="4565" y="537"/>
                  </a:lnTo>
                  <a:lnTo>
                    <a:pt x="4714" y="560"/>
                  </a:lnTo>
                  <a:lnTo>
                    <a:pt x="4873" y="608"/>
                  </a:lnTo>
                  <a:lnTo>
                    <a:pt x="5023" y="635"/>
                  </a:lnTo>
                  <a:lnTo>
                    <a:pt x="5173" y="652"/>
                  </a:lnTo>
                  <a:lnTo>
                    <a:pt x="5319" y="674"/>
                  </a:lnTo>
                  <a:lnTo>
                    <a:pt x="5407" y="687"/>
                  </a:lnTo>
                  <a:lnTo>
                    <a:pt x="5310" y="749"/>
                  </a:lnTo>
                  <a:lnTo>
                    <a:pt x="5235" y="762"/>
                  </a:lnTo>
                  <a:lnTo>
                    <a:pt x="5151" y="745"/>
                  </a:lnTo>
                  <a:lnTo>
                    <a:pt x="5045" y="723"/>
                  </a:lnTo>
                  <a:lnTo>
                    <a:pt x="4635" y="626"/>
                  </a:lnTo>
                  <a:lnTo>
                    <a:pt x="4221" y="524"/>
                  </a:lnTo>
                  <a:lnTo>
                    <a:pt x="3797" y="502"/>
                  </a:lnTo>
                  <a:lnTo>
                    <a:pt x="3347" y="489"/>
                  </a:lnTo>
                  <a:lnTo>
                    <a:pt x="3241" y="515"/>
                  </a:lnTo>
                  <a:lnTo>
                    <a:pt x="3135" y="542"/>
                  </a:lnTo>
                  <a:lnTo>
                    <a:pt x="2875" y="595"/>
                  </a:lnTo>
                  <a:lnTo>
                    <a:pt x="2628" y="683"/>
                  </a:lnTo>
                  <a:lnTo>
                    <a:pt x="2416" y="784"/>
                  </a:lnTo>
                  <a:lnTo>
                    <a:pt x="2204" y="895"/>
                  </a:lnTo>
                  <a:lnTo>
                    <a:pt x="1794" y="1129"/>
                  </a:lnTo>
                  <a:lnTo>
                    <a:pt x="1367" y="1390"/>
                  </a:lnTo>
                  <a:lnTo>
                    <a:pt x="1049" y="1570"/>
                  </a:lnTo>
                  <a:lnTo>
                    <a:pt x="727" y="1751"/>
                  </a:lnTo>
                  <a:lnTo>
                    <a:pt x="687" y="1782"/>
                  </a:lnTo>
                  <a:lnTo>
                    <a:pt x="639" y="1791"/>
                  </a:lnTo>
                  <a:lnTo>
                    <a:pt x="621" y="1831"/>
                  </a:lnTo>
                  <a:lnTo>
                    <a:pt x="612" y="1848"/>
                  </a:lnTo>
                  <a:lnTo>
                    <a:pt x="630" y="1857"/>
                  </a:lnTo>
                  <a:lnTo>
                    <a:pt x="657" y="1848"/>
                  </a:lnTo>
                  <a:lnTo>
                    <a:pt x="718" y="1826"/>
                  </a:lnTo>
                  <a:lnTo>
                    <a:pt x="745" y="1808"/>
                  </a:lnTo>
                  <a:lnTo>
                    <a:pt x="881" y="1773"/>
                  </a:lnTo>
                  <a:lnTo>
                    <a:pt x="1009" y="1734"/>
                  </a:lnTo>
                  <a:lnTo>
                    <a:pt x="1278" y="1659"/>
                  </a:lnTo>
                  <a:lnTo>
                    <a:pt x="1525" y="1575"/>
                  </a:lnTo>
                  <a:lnTo>
                    <a:pt x="1605" y="1557"/>
                  </a:lnTo>
                  <a:lnTo>
                    <a:pt x="1688" y="1522"/>
                  </a:lnTo>
                  <a:lnTo>
                    <a:pt x="1763" y="1509"/>
                  </a:lnTo>
                  <a:lnTo>
                    <a:pt x="1794" y="1495"/>
                  </a:lnTo>
                  <a:lnTo>
                    <a:pt x="3254" y="1429"/>
                  </a:lnTo>
                  <a:lnTo>
                    <a:pt x="4684" y="1376"/>
                  </a:lnTo>
                  <a:lnTo>
                    <a:pt x="4701" y="1385"/>
                  </a:lnTo>
                  <a:lnTo>
                    <a:pt x="4684" y="1376"/>
                  </a:lnTo>
                  <a:lnTo>
                    <a:pt x="4635" y="1376"/>
                  </a:lnTo>
                  <a:lnTo>
                    <a:pt x="4538" y="1385"/>
                  </a:lnTo>
                  <a:lnTo>
                    <a:pt x="4472" y="1376"/>
                  </a:lnTo>
                  <a:lnTo>
                    <a:pt x="4419" y="1398"/>
                  </a:lnTo>
                  <a:lnTo>
                    <a:pt x="4371" y="1407"/>
                  </a:lnTo>
                  <a:lnTo>
                    <a:pt x="4296" y="1416"/>
                  </a:lnTo>
                  <a:lnTo>
                    <a:pt x="4221" y="1434"/>
                  </a:lnTo>
                  <a:lnTo>
                    <a:pt x="4150" y="1425"/>
                  </a:lnTo>
                  <a:lnTo>
                    <a:pt x="4057" y="1434"/>
                  </a:lnTo>
                  <a:lnTo>
                    <a:pt x="3775" y="1398"/>
                  </a:lnTo>
                  <a:lnTo>
                    <a:pt x="3634" y="1407"/>
                  </a:lnTo>
                  <a:lnTo>
                    <a:pt x="3493" y="1416"/>
                  </a:lnTo>
                  <a:lnTo>
                    <a:pt x="3356" y="1456"/>
                  </a:lnTo>
                  <a:lnTo>
                    <a:pt x="3281" y="1469"/>
                  </a:lnTo>
                  <a:lnTo>
                    <a:pt x="3223" y="1495"/>
                  </a:lnTo>
                  <a:lnTo>
                    <a:pt x="3175" y="1495"/>
                  </a:lnTo>
                  <a:lnTo>
                    <a:pt x="3130" y="1495"/>
                  </a:lnTo>
                  <a:lnTo>
                    <a:pt x="3073" y="1469"/>
                  </a:lnTo>
                  <a:lnTo>
                    <a:pt x="2985" y="1456"/>
                  </a:lnTo>
                  <a:lnTo>
                    <a:pt x="2910" y="1469"/>
                  </a:lnTo>
                  <a:lnTo>
                    <a:pt x="2853" y="1495"/>
                  </a:lnTo>
                  <a:lnTo>
                    <a:pt x="2791" y="1487"/>
                  </a:lnTo>
                  <a:lnTo>
                    <a:pt x="2742" y="1487"/>
                  </a:lnTo>
                  <a:lnTo>
                    <a:pt x="2694" y="1495"/>
                  </a:lnTo>
                  <a:lnTo>
                    <a:pt x="2619" y="1509"/>
                  </a:lnTo>
                  <a:lnTo>
                    <a:pt x="2491" y="1526"/>
                  </a:lnTo>
                  <a:lnTo>
                    <a:pt x="2341" y="1553"/>
                  </a:lnTo>
                  <a:lnTo>
                    <a:pt x="2178" y="1601"/>
                  </a:lnTo>
                  <a:lnTo>
                    <a:pt x="2015" y="1654"/>
                  </a:lnTo>
                  <a:lnTo>
                    <a:pt x="1865" y="1685"/>
                  </a:lnTo>
                  <a:lnTo>
                    <a:pt x="1702" y="1685"/>
                  </a:lnTo>
                  <a:lnTo>
                    <a:pt x="1508" y="1667"/>
                  </a:lnTo>
                  <a:lnTo>
                    <a:pt x="1344" y="1667"/>
                  </a:lnTo>
                  <a:lnTo>
                    <a:pt x="1261" y="1650"/>
                  </a:lnTo>
                  <a:lnTo>
                    <a:pt x="1203" y="1672"/>
                  </a:lnTo>
                  <a:lnTo>
                    <a:pt x="1847" y="1390"/>
                  </a:lnTo>
                  <a:lnTo>
                    <a:pt x="2319" y="1363"/>
                  </a:lnTo>
                  <a:lnTo>
                    <a:pt x="2786" y="1359"/>
                  </a:lnTo>
                  <a:lnTo>
                    <a:pt x="3201" y="1350"/>
                  </a:lnTo>
                  <a:lnTo>
                    <a:pt x="3581" y="1328"/>
                  </a:lnTo>
                  <a:lnTo>
                    <a:pt x="3947" y="1328"/>
                  </a:lnTo>
                  <a:lnTo>
                    <a:pt x="4287" y="1337"/>
                  </a:lnTo>
                  <a:lnTo>
                    <a:pt x="4591" y="1332"/>
                  </a:lnTo>
                  <a:lnTo>
                    <a:pt x="4882" y="1341"/>
                  </a:lnTo>
                  <a:lnTo>
                    <a:pt x="5138" y="1337"/>
                  </a:lnTo>
                  <a:lnTo>
                    <a:pt x="5380" y="1354"/>
                  </a:lnTo>
                  <a:lnTo>
                    <a:pt x="5588" y="1350"/>
                  </a:lnTo>
                  <a:lnTo>
                    <a:pt x="5790" y="1372"/>
                  </a:lnTo>
                  <a:lnTo>
                    <a:pt x="6082" y="1381"/>
                  </a:lnTo>
                  <a:lnTo>
                    <a:pt x="6306" y="1390"/>
                  </a:lnTo>
                  <a:lnTo>
                    <a:pt x="6456" y="1412"/>
                  </a:lnTo>
                  <a:lnTo>
                    <a:pt x="6514" y="1385"/>
                  </a:lnTo>
                  <a:lnTo>
                    <a:pt x="6509" y="1359"/>
                  </a:lnTo>
                  <a:lnTo>
                    <a:pt x="6443" y="1301"/>
                  </a:lnTo>
                  <a:lnTo>
                    <a:pt x="6298" y="1231"/>
                  </a:lnTo>
                  <a:lnTo>
                    <a:pt x="6090" y="1129"/>
                  </a:lnTo>
                  <a:lnTo>
                    <a:pt x="5839" y="979"/>
                  </a:lnTo>
                  <a:lnTo>
                    <a:pt x="5535" y="806"/>
                  </a:lnTo>
                  <a:lnTo>
                    <a:pt x="5323" y="723"/>
                  </a:lnTo>
                  <a:lnTo>
                    <a:pt x="5098" y="617"/>
                  </a:lnTo>
                  <a:lnTo>
                    <a:pt x="4873" y="560"/>
                  </a:lnTo>
                  <a:lnTo>
                    <a:pt x="4631" y="489"/>
                  </a:lnTo>
                  <a:lnTo>
                    <a:pt x="4397" y="454"/>
                  </a:lnTo>
                  <a:lnTo>
                    <a:pt x="4300" y="463"/>
                  </a:lnTo>
                  <a:lnTo>
                    <a:pt x="4185" y="454"/>
                  </a:lnTo>
                  <a:lnTo>
                    <a:pt x="4128" y="480"/>
                  </a:lnTo>
                  <a:lnTo>
                    <a:pt x="4044" y="520"/>
                  </a:lnTo>
                  <a:lnTo>
                    <a:pt x="3969" y="529"/>
                  </a:lnTo>
                  <a:lnTo>
                    <a:pt x="3938" y="546"/>
                  </a:lnTo>
                  <a:lnTo>
                    <a:pt x="3921" y="537"/>
                  </a:lnTo>
                  <a:lnTo>
                    <a:pt x="3343" y="723"/>
                  </a:lnTo>
                  <a:lnTo>
                    <a:pt x="3069" y="820"/>
                  </a:lnTo>
                  <a:lnTo>
                    <a:pt x="5998" y="1085"/>
                  </a:lnTo>
                  <a:lnTo>
                    <a:pt x="5874" y="1434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064040" y="3467160"/>
            <a:ext cx="508320" cy="1740240"/>
            <a:chOff x="4064040" y="3467160"/>
            <a:chExt cx="508320" cy="1740240"/>
          </a:xfrm>
        </p:grpSpPr>
        <p:sp>
          <p:nvSpPr>
            <p:cNvPr id="298" name=""/>
            <p:cNvSpPr/>
            <p:nvPr/>
          </p:nvSpPr>
          <p:spPr>
            <a:xfrm>
              <a:off x="4149720" y="3814920"/>
              <a:ext cx="371880" cy="562320"/>
            </a:xfrm>
            <a:custGeom>
              <a:avLst/>
              <a:gdLst/>
              <a:ahLst/>
              <a:rect l="0" t="0" r="r" b="b"/>
              <a:pathLst>
                <a:path w="1033" h="1562">
                  <a:moveTo>
                    <a:pt x="264" y="62"/>
                  </a:moveTo>
                  <a:lnTo>
                    <a:pt x="317" y="22"/>
                  </a:lnTo>
                  <a:lnTo>
                    <a:pt x="370" y="0"/>
                  </a:lnTo>
                  <a:lnTo>
                    <a:pt x="423" y="22"/>
                  </a:lnTo>
                  <a:lnTo>
                    <a:pt x="505" y="40"/>
                  </a:lnTo>
                  <a:lnTo>
                    <a:pt x="634" y="0"/>
                  </a:lnTo>
                  <a:lnTo>
                    <a:pt x="686" y="0"/>
                  </a:lnTo>
                  <a:lnTo>
                    <a:pt x="769" y="0"/>
                  </a:lnTo>
                  <a:lnTo>
                    <a:pt x="769" y="62"/>
                  </a:lnTo>
                  <a:lnTo>
                    <a:pt x="769" y="80"/>
                  </a:lnTo>
                  <a:lnTo>
                    <a:pt x="686" y="142"/>
                  </a:lnTo>
                  <a:lnTo>
                    <a:pt x="716" y="227"/>
                  </a:lnTo>
                  <a:lnTo>
                    <a:pt x="716" y="289"/>
                  </a:lnTo>
                  <a:lnTo>
                    <a:pt x="769" y="330"/>
                  </a:lnTo>
                  <a:lnTo>
                    <a:pt x="822" y="392"/>
                  </a:lnTo>
                  <a:lnTo>
                    <a:pt x="793" y="535"/>
                  </a:lnTo>
                  <a:lnTo>
                    <a:pt x="739" y="637"/>
                  </a:lnTo>
                  <a:lnTo>
                    <a:pt x="793" y="700"/>
                  </a:lnTo>
                  <a:lnTo>
                    <a:pt x="875" y="780"/>
                  </a:lnTo>
                  <a:lnTo>
                    <a:pt x="951" y="861"/>
                  </a:lnTo>
                  <a:lnTo>
                    <a:pt x="981" y="924"/>
                  </a:lnTo>
                  <a:lnTo>
                    <a:pt x="1004" y="986"/>
                  </a:lnTo>
                  <a:lnTo>
                    <a:pt x="1033" y="1026"/>
                  </a:lnTo>
                  <a:lnTo>
                    <a:pt x="1033" y="1026"/>
                  </a:lnTo>
                  <a:lnTo>
                    <a:pt x="1004" y="1174"/>
                  </a:lnTo>
                  <a:lnTo>
                    <a:pt x="981" y="1294"/>
                  </a:lnTo>
                  <a:lnTo>
                    <a:pt x="951" y="1419"/>
                  </a:lnTo>
                  <a:lnTo>
                    <a:pt x="899" y="1562"/>
                  </a:lnTo>
                  <a:lnTo>
                    <a:pt x="899" y="1521"/>
                  </a:lnTo>
                  <a:lnTo>
                    <a:pt x="899" y="1481"/>
                  </a:lnTo>
                  <a:lnTo>
                    <a:pt x="928" y="1437"/>
                  </a:lnTo>
                  <a:lnTo>
                    <a:pt x="928" y="1419"/>
                  </a:lnTo>
                  <a:lnTo>
                    <a:pt x="899" y="1356"/>
                  </a:lnTo>
                  <a:lnTo>
                    <a:pt x="875" y="1276"/>
                  </a:lnTo>
                  <a:lnTo>
                    <a:pt x="899" y="1214"/>
                  </a:lnTo>
                  <a:lnTo>
                    <a:pt x="928" y="1191"/>
                  </a:lnTo>
                  <a:lnTo>
                    <a:pt x="928" y="1174"/>
                  </a:lnTo>
                  <a:lnTo>
                    <a:pt x="899" y="1049"/>
                  </a:lnTo>
                  <a:lnTo>
                    <a:pt x="846" y="986"/>
                  </a:lnTo>
                  <a:lnTo>
                    <a:pt x="793" y="946"/>
                  </a:lnTo>
                  <a:lnTo>
                    <a:pt x="739" y="884"/>
                  </a:lnTo>
                  <a:lnTo>
                    <a:pt x="686" y="821"/>
                  </a:lnTo>
                  <a:lnTo>
                    <a:pt x="634" y="861"/>
                  </a:lnTo>
                  <a:lnTo>
                    <a:pt x="581" y="884"/>
                  </a:lnTo>
                  <a:lnTo>
                    <a:pt x="528" y="906"/>
                  </a:lnTo>
                  <a:lnTo>
                    <a:pt x="505" y="924"/>
                  </a:lnTo>
                  <a:lnTo>
                    <a:pt x="475" y="924"/>
                  </a:lnTo>
                  <a:lnTo>
                    <a:pt x="475" y="843"/>
                  </a:lnTo>
                  <a:lnTo>
                    <a:pt x="475" y="821"/>
                  </a:lnTo>
                  <a:lnTo>
                    <a:pt x="475" y="803"/>
                  </a:lnTo>
                  <a:lnTo>
                    <a:pt x="505" y="758"/>
                  </a:lnTo>
                  <a:lnTo>
                    <a:pt x="528" y="718"/>
                  </a:lnTo>
                  <a:lnTo>
                    <a:pt x="528" y="718"/>
                  </a:lnTo>
                  <a:lnTo>
                    <a:pt x="528" y="740"/>
                  </a:lnTo>
                  <a:lnTo>
                    <a:pt x="528" y="758"/>
                  </a:lnTo>
                  <a:lnTo>
                    <a:pt x="505" y="780"/>
                  </a:lnTo>
                  <a:lnTo>
                    <a:pt x="452" y="758"/>
                  </a:lnTo>
                  <a:lnTo>
                    <a:pt x="423" y="740"/>
                  </a:lnTo>
                  <a:lnTo>
                    <a:pt x="399" y="740"/>
                  </a:lnTo>
                  <a:lnTo>
                    <a:pt x="370" y="758"/>
                  </a:lnTo>
                  <a:lnTo>
                    <a:pt x="346" y="780"/>
                  </a:lnTo>
                  <a:lnTo>
                    <a:pt x="264" y="718"/>
                  </a:lnTo>
                  <a:lnTo>
                    <a:pt x="240" y="780"/>
                  </a:lnTo>
                  <a:lnTo>
                    <a:pt x="211" y="803"/>
                  </a:lnTo>
                  <a:lnTo>
                    <a:pt x="158" y="780"/>
                  </a:lnTo>
                  <a:lnTo>
                    <a:pt x="52" y="758"/>
                  </a:lnTo>
                  <a:lnTo>
                    <a:pt x="23" y="740"/>
                  </a:lnTo>
                  <a:lnTo>
                    <a:pt x="0" y="700"/>
                  </a:lnTo>
                  <a:lnTo>
                    <a:pt x="23" y="677"/>
                  </a:lnTo>
                  <a:lnTo>
                    <a:pt x="52" y="677"/>
                  </a:lnTo>
                  <a:lnTo>
                    <a:pt x="158" y="700"/>
                  </a:lnTo>
                  <a:lnTo>
                    <a:pt x="264" y="718"/>
                  </a:lnTo>
                  <a:lnTo>
                    <a:pt x="264" y="718"/>
                  </a:lnTo>
                  <a:lnTo>
                    <a:pt x="240" y="700"/>
                  </a:lnTo>
                  <a:lnTo>
                    <a:pt x="211" y="677"/>
                  </a:lnTo>
                  <a:lnTo>
                    <a:pt x="187" y="655"/>
                  </a:lnTo>
                  <a:lnTo>
                    <a:pt x="187" y="637"/>
                  </a:lnTo>
                  <a:lnTo>
                    <a:pt x="187" y="597"/>
                  </a:lnTo>
                  <a:lnTo>
                    <a:pt x="211" y="553"/>
                  </a:lnTo>
                  <a:lnTo>
                    <a:pt x="240" y="535"/>
                  </a:lnTo>
                  <a:lnTo>
                    <a:pt x="240" y="472"/>
                  </a:lnTo>
                  <a:lnTo>
                    <a:pt x="240" y="410"/>
                  </a:lnTo>
                  <a:lnTo>
                    <a:pt x="240" y="267"/>
                  </a:lnTo>
                  <a:lnTo>
                    <a:pt x="187" y="227"/>
                  </a:lnTo>
                  <a:lnTo>
                    <a:pt x="158" y="205"/>
                  </a:lnTo>
                  <a:lnTo>
                    <a:pt x="158" y="182"/>
                  </a:lnTo>
                  <a:lnTo>
                    <a:pt x="187" y="165"/>
                  </a:lnTo>
                  <a:lnTo>
                    <a:pt x="211" y="142"/>
                  </a:lnTo>
                  <a:lnTo>
                    <a:pt x="211" y="124"/>
                  </a:lnTo>
                  <a:lnTo>
                    <a:pt x="264" y="6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32240" y="3998880"/>
              <a:ext cx="117720" cy="122760"/>
            </a:xfrm>
            <a:custGeom>
              <a:avLst/>
              <a:gdLst/>
              <a:ahLst/>
              <a:rect l="0" t="0" r="r" b="b"/>
              <a:pathLst>
                <a:path w="327" h="341">
                  <a:moveTo>
                    <a:pt x="67" y="200"/>
                  </a:moveTo>
                  <a:lnTo>
                    <a:pt x="67" y="140"/>
                  </a:lnTo>
                  <a:lnTo>
                    <a:pt x="101" y="76"/>
                  </a:lnTo>
                  <a:lnTo>
                    <a:pt x="173" y="38"/>
                  </a:lnTo>
                  <a:lnTo>
                    <a:pt x="241" y="0"/>
                  </a:lnTo>
                  <a:lnTo>
                    <a:pt x="278" y="25"/>
                  </a:lnTo>
                  <a:lnTo>
                    <a:pt x="327" y="63"/>
                  </a:lnTo>
                  <a:lnTo>
                    <a:pt x="327" y="89"/>
                  </a:lnTo>
                  <a:lnTo>
                    <a:pt x="327" y="89"/>
                  </a:lnTo>
                  <a:lnTo>
                    <a:pt x="293" y="89"/>
                  </a:lnTo>
                  <a:lnTo>
                    <a:pt x="226" y="127"/>
                  </a:lnTo>
                  <a:lnTo>
                    <a:pt x="153" y="178"/>
                  </a:lnTo>
                  <a:lnTo>
                    <a:pt x="138" y="239"/>
                  </a:lnTo>
                  <a:lnTo>
                    <a:pt x="138" y="265"/>
                  </a:lnTo>
                  <a:lnTo>
                    <a:pt x="120" y="290"/>
                  </a:lnTo>
                  <a:lnTo>
                    <a:pt x="101" y="316"/>
                  </a:lnTo>
                  <a:lnTo>
                    <a:pt x="67" y="328"/>
                  </a:lnTo>
                  <a:lnTo>
                    <a:pt x="48" y="341"/>
                  </a:lnTo>
                  <a:lnTo>
                    <a:pt x="33" y="341"/>
                  </a:lnTo>
                  <a:lnTo>
                    <a:pt x="0" y="316"/>
                  </a:lnTo>
                  <a:lnTo>
                    <a:pt x="0" y="290"/>
                  </a:lnTo>
                  <a:lnTo>
                    <a:pt x="15" y="278"/>
                  </a:lnTo>
                  <a:lnTo>
                    <a:pt x="33" y="226"/>
                  </a:lnTo>
                  <a:lnTo>
                    <a:pt x="48" y="213"/>
                  </a:lnTo>
                  <a:lnTo>
                    <a:pt x="67" y="213"/>
                  </a:lnTo>
                  <a:lnTo>
                    <a:pt x="67" y="20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064040" y="4125960"/>
              <a:ext cx="135360" cy="197280"/>
            </a:xfrm>
            <a:custGeom>
              <a:avLst/>
              <a:gdLst/>
              <a:ahLst/>
              <a:rect l="0" t="0" r="r" b="b"/>
              <a:pathLst>
                <a:path w="376" h="548">
                  <a:moveTo>
                    <a:pt x="285" y="429"/>
                  </a:moveTo>
                  <a:lnTo>
                    <a:pt x="211" y="326"/>
                  </a:lnTo>
                  <a:lnTo>
                    <a:pt x="137" y="207"/>
                  </a:lnTo>
                  <a:lnTo>
                    <a:pt x="137" y="148"/>
                  </a:lnTo>
                  <a:lnTo>
                    <a:pt x="137" y="87"/>
                  </a:lnTo>
                  <a:lnTo>
                    <a:pt x="165" y="42"/>
                  </a:lnTo>
                  <a:lnTo>
                    <a:pt x="211" y="0"/>
                  </a:lnTo>
                  <a:lnTo>
                    <a:pt x="225" y="28"/>
                  </a:lnTo>
                  <a:lnTo>
                    <a:pt x="256" y="42"/>
                  </a:lnTo>
                  <a:lnTo>
                    <a:pt x="270" y="73"/>
                  </a:lnTo>
                  <a:lnTo>
                    <a:pt x="270" y="87"/>
                  </a:lnTo>
                  <a:lnTo>
                    <a:pt x="197" y="119"/>
                  </a:lnTo>
                  <a:lnTo>
                    <a:pt x="120" y="148"/>
                  </a:lnTo>
                  <a:lnTo>
                    <a:pt x="151" y="162"/>
                  </a:lnTo>
                  <a:lnTo>
                    <a:pt x="165" y="162"/>
                  </a:lnTo>
                  <a:lnTo>
                    <a:pt x="197" y="162"/>
                  </a:lnTo>
                  <a:lnTo>
                    <a:pt x="211" y="162"/>
                  </a:lnTo>
                  <a:lnTo>
                    <a:pt x="239" y="179"/>
                  </a:lnTo>
                  <a:lnTo>
                    <a:pt x="299" y="193"/>
                  </a:lnTo>
                  <a:lnTo>
                    <a:pt x="317" y="207"/>
                  </a:lnTo>
                  <a:lnTo>
                    <a:pt x="331" y="207"/>
                  </a:lnTo>
                  <a:lnTo>
                    <a:pt x="359" y="267"/>
                  </a:lnTo>
                  <a:lnTo>
                    <a:pt x="376" y="326"/>
                  </a:lnTo>
                  <a:lnTo>
                    <a:pt x="359" y="372"/>
                  </a:lnTo>
                  <a:lnTo>
                    <a:pt x="331" y="400"/>
                  </a:lnTo>
                  <a:lnTo>
                    <a:pt x="239" y="447"/>
                  </a:lnTo>
                  <a:lnTo>
                    <a:pt x="137" y="475"/>
                  </a:lnTo>
                  <a:lnTo>
                    <a:pt x="106" y="506"/>
                  </a:lnTo>
                  <a:lnTo>
                    <a:pt x="59" y="534"/>
                  </a:lnTo>
                  <a:lnTo>
                    <a:pt x="31" y="548"/>
                  </a:lnTo>
                  <a:lnTo>
                    <a:pt x="17" y="534"/>
                  </a:lnTo>
                  <a:lnTo>
                    <a:pt x="0" y="506"/>
                  </a:lnTo>
                  <a:lnTo>
                    <a:pt x="59" y="475"/>
                  </a:lnTo>
                  <a:lnTo>
                    <a:pt x="106" y="475"/>
                  </a:lnTo>
                  <a:lnTo>
                    <a:pt x="151" y="461"/>
                  </a:lnTo>
                  <a:lnTo>
                    <a:pt x="211" y="429"/>
                  </a:lnTo>
                  <a:lnTo>
                    <a:pt x="239" y="400"/>
                  </a:lnTo>
                  <a:lnTo>
                    <a:pt x="239" y="386"/>
                  </a:lnTo>
                  <a:lnTo>
                    <a:pt x="256" y="400"/>
                  </a:lnTo>
                  <a:lnTo>
                    <a:pt x="285" y="429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14800" y="4492800"/>
              <a:ext cx="200520" cy="81360"/>
            </a:xfrm>
            <a:custGeom>
              <a:avLst/>
              <a:gdLst/>
              <a:ahLst/>
              <a:rect l="0" t="0" r="r" b="b"/>
              <a:pathLst>
                <a:path w="557" h="226">
                  <a:moveTo>
                    <a:pt x="422" y="49"/>
                  </a:moveTo>
                  <a:lnTo>
                    <a:pt x="377" y="99"/>
                  </a:lnTo>
                  <a:lnTo>
                    <a:pt x="346" y="127"/>
                  </a:lnTo>
                  <a:lnTo>
                    <a:pt x="316" y="77"/>
                  </a:lnTo>
                  <a:lnTo>
                    <a:pt x="272" y="27"/>
                  </a:lnTo>
                  <a:lnTo>
                    <a:pt x="135" y="77"/>
                  </a:lnTo>
                  <a:lnTo>
                    <a:pt x="0" y="154"/>
                  </a:lnTo>
                  <a:lnTo>
                    <a:pt x="13" y="226"/>
                  </a:lnTo>
                  <a:lnTo>
                    <a:pt x="60" y="226"/>
                  </a:lnTo>
                  <a:lnTo>
                    <a:pt x="167" y="226"/>
                  </a:lnTo>
                  <a:lnTo>
                    <a:pt x="180" y="204"/>
                  </a:lnTo>
                  <a:lnTo>
                    <a:pt x="224" y="177"/>
                  </a:lnTo>
                  <a:lnTo>
                    <a:pt x="255" y="154"/>
                  </a:lnTo>
                  <a:lnTo>
                    <a:pt x="272" y="154"/>
                  </a:lnTo>
                  <a:lnTo>
                    <a:pt x="302" y="177"/>
                  </a:lnTo>
                  <a:lnTo>
                    <a:pt x="346" y="204"/>
                  </a:lnTo>
                  <a:lnTo>
                    <a:pt x="377" y="226"/>
                  </a:lnTo>
                  <a:lnTo>
                    <a:pt x="390" y="226"/>
                  </a:lnTo>
                  <a:lnTo>
                    <a:pt x="435" y="226"/>
                  </a:lnTo>
                  <a:lnTo>
                    <a:pt x="483" y="204"/>
                  </a:lnTo>
                  <a:lnTo>
                    <a:pt x="496" y="154"/>
                  </a:lnTo>
                  <a:lnTo>
                    <a:pt x="540" y="49"/>
                  </a:lnTo>
                  <a:lnTo>
                    <a:pt x="557" y="27"/>
                  </a:lnTo>
                  <a:lnTo>
                    <a:pt x="557" y="0"/>
                  </a:lnTo>
                  <a:lnTo>
                    <a:pt x="540" y="27"/>
                  </a:lnTo>
                  <a:lnTo>
                    <a:pt x="513" y="49"/>
                  </a:lnTo>
                  <a:lnTo>
                    <a:pt x="483" y="127"/>
                  </a:lnTo>
                  <a:lnTo>
                    <a:pt x="452" y="177"/>
                  </a:lnTo>
                  <a:lnTo>
                    <a:pt x="435" y="177"/>
                  </a:lnTo>
                  <a:lnTo>
                    <a:pt x="422" y="177"/>
                  </a:lnTo>
                  <a:lnTo>
                    <a:pt x="422" y="127"/>
                  </a:lnTo>
                  <a:lnTo>
                    <a:pt x="422" y="49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08320" y="3924360"/>
              <a:ext cx="187560" cy="170280"/>
            </a:xfrm>
            <a:custGeom>
              <a:avLst/>
              <a:gdLst/>
              <a:ahLst/>
              <a:rect l="0" t="0" r="r" b="b"/>
              <a:pathLst>
                <a:path w="521" h="473">
                  <a:moveTo>
                    <a:pt x="435" y="447"/>
                  </a:moveTo>
                  <a:lnTo>
                    <a:pt x="422" y="315"/>
                  </a:lnTo>
                  <a:lnTo>
                    <a:pt x="422" y="198"/>
                  </a:lnTo>
                  <a:lnTo>
                    <a:pt x="422" y="144"/>
                  </a:lnTo>
                  <a:lnTo>
                    <a:pt x="393" y="90"/>
                  </a:lnTo>
                  <a:lnTo>
                    <a:pt x="364" y="40"/>
                  </a:lnTo>
                  <a:lnTo>
                    <a:pt x="310" y="0"/>
                  </a:lnTo>
                  <a:lnTo>
                    <a:pt x="323" y="90"/>
                  </a:lnTo>
                  <a:lnTo>
                    <a:pt x="352" y="131"/>
                  </a:lnTo>
                  <a:lnTo>
                    <a:pt x="380" y="185"/>
                  </a:lnTo>
                  <a:lnTo>
                    <a:pt x="265" y="248"/>
                  </a:lnTo>
                  <a:lnTo>
                    <a:pt x="153" y="288"/>
                  </a:lnTo>
                  <a:lnTo>
                    <a:pt x="124" y="275"/>
                  </a:lnTo>
                  <a:lnTo>
                    <a:pt x="98" y="262"/>
                  </a:lnTo>
                  <a:lnTo>
                    <a:pt x="70" y="238"/>
                  </a:lnTo>
                  <a:lnTo>
                    <a:pt x="28" y="198"/>
                  </a:lnTo>
                  <a:lnTo>
                    <a:pt x="12" y="158"/>
                  </a:lnTo>
                  <a:lnTo>
                    <a:pt x="0" y="144"/>
                  </a:lnTo>
                  <a:lnTo>
                    <a:pt x="0" y="198"/>
                  </a:lnTo>
                  <a:lnTo>
                    <a:pt x="12" y="225"/>
                  </a:lnTo>
                  <a:lnTo>
                    <a:pt x="54" y="275"/>
                  </a:lnTo>
                  <a:lnTo>
                    <a:pt x="124" y="288"/>
                  </a:lnTo>
                  <a:lnTo>
                    <a:pt x="210" y="302"/>
                  </a:lnTo>
                  <a:lnTo>
                    <a:pt x="239" y="315"/>
                  </a:lnTo>
                  <a:lnTo>
                    <a:pt x="252" y="328"/>
                  </a:lnTo>
                  <a:lnTo>
                    <a:pt x="281" y="356"/>
                  </a:lnTo>
                  <a:lnTo>
                    <a:pt x="294" y="383"/>
                  </a:lnTo>
                  <a:lnTo>
                    <a:pt x="310" y="406"/>
                  </a:lnTo>
                  <a:lnTo>
                    <a:pt x="336" y="420"/>
                  </a:lnTo>
                  <a:lnTo>
                    <a:pt x="380" y="383"/>
                  </a:lnTo>
                  <a:lnTo>
                    <a:pt x="393" y="356"/>
                  </a:lnTo>
                  <a:lnTo>
                    <a:pt x="406" y="315"/>
                  </a:lnTo>
                  <a:lnTo>
                    <a:pt x="422" y="262"/>
                  </a:lnTo>
                  <a:lnTo>
                    <a:pt x="406" y="238"/>
                  </a:lnTo>
                  <a:lnTo>
                    <a:pt x="406" y="238"/>
                  </a:lnTo>
                  <a:lnTo>
                    <a:pt x="393" y="248"/>
                  </a:lnTo>
                  <a:lnTo>
                    <a:pt x="364" y="275"/>
                  </a:lnTo>
                  <a:lnTo>
                    <a:pt x="352" y="315"/>
                  </a:lnTo>
                  <a:lnTo>
                    <a:pt x="406" y="383"/>
                  </a:lnTo>
                  <a:lnTo>
                    <a:pt x="435" y="396"/>
                  </a:lnTo>
                  <a:lnTo>
                    <a:pt x="463" y="406"/>
                  </a:lnTo>
                  <a:lnTo>
                    <a:pt x="476" y="420"/>
                  </a:lnTo>
                  <a:lnTo>
                    <a:pt x="505" y="433"/>
                  </a:lnTo>
                  <a:lnTo>
                    <a:pt x="521" y="433"/>
                  </a:lnTo>
                  <a:lnTo>
                    <a:pt x="521" y="447"/>
                  </a:lnTo>
                  <a:lnTo>
                    <a:pt x="492" y="460"/>
                  </a:lnTo>
                  <a:lnTo>
                    <a:pt x="463" y="460"/>
                  </a:lnTo>
                  <a:lnTo>
                    <a:pt x="393" y="460"/>
                  </a:lnTo>
                  <a:lnTo>
                    <a:pt x="393" y="473"/>
                  </a:lnTo>
                  <a:lnTo>
                    <a:pt x="380" y="473"/>
                  </a:lnTo>
                  <a:lnTo>
                    <a:pt x="364" y="473"/>
                  </a:lnTo>
                  <a:lnTo>
                    <a:pt x="364" y="473"/>
                  </a:lnTo>
                  <a:lnTo>
                    <a:pt x="406" y="460"/>
                  </a:lnTo>
                  <a:lnTo>
                    <a:pt x="435" y="44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06880" y="4767120"/>
              <a:ext cx="89280" cy="236880"/>
            </a:xfrm>
            <a:custGeom>
              <a:avLst/>
              <a:gdLst/>
              <a:ahLst/>
              <a:rect l="0" t="0" r="r" b="b"/>
              <a:pathLst>
                <a:path w="248" h="658">
                  <a:moveTo>
                    <a:pt x="124" y="16"/>
                  </a:moveTo>
                  <a:lnTo>
                    <a:pt x="111" y="83"/>
                  </a:lnTo>
                  <a:lnTo>
                    <a:pt x="82" y="137"/>
                  </a:lnTo>
                  <a:lnTo>
                    <a:pt x="42" y="291"/>
                  </a:lnTo>
                  <a:lnTo>
                    <a:pt x="0" y="450"/>
                  </a:lnTo>
                  <a:lnTo>
                    <a:pt x="12" y="500"/>
                  </a:lnTo>
                  <a:lnTo>
                    <a:pt x="42" y="537"/>
                  </a:lnTo>
                  <a:lnTo>
                    <a:pt x="69" y="570"/>
                  </a:lnTo>
                  <a:lnTo>
                    <a:pt x="111" y="604"/>
                  </a:lnTo>
                  <a:lnTo>
                    <a:pt x="153" y="624"/>
                  </a:lnTo>
                  <a:lnTo>
                    <a:pt x="179" y="624"/>
                  </a:lnTo>
                  <a:lnTo>
                    <a:pt x="179" y="641"/>
                  </a:lnTo>
                  <a:lnTo>
                    <a:pt x="179" y="658"/>
                  </a:lnTo>
                  <a:lnTo>
                    <a:pt x="153" y="658"/>
                  </a:lnTo>
                  <a:lnTo>
                    <a:pt x="111" y="641"/>
                  </a:lnTo>
                  <a:lnTo>
                    <a:pt x="111" y="483"/>
                  </a:lnTo>
                  <a:lnTo>
                    <a:pt x="98" y="466"/>
                  </a:lnTo>
                  <a:lnTo>
                    <a:pt x="98" y="450"/>
                  </a:lnTo>
                  <a:lnTo>
                    <a:pt x="124" y="433"/>
                  </a:lnTo>
                  <a:lnTo>
                    <a:pt x="166" y="396"/>
                  </a:lnTo>
                  <a:lnTo>
                    <a:pt x="209" y="379"/>
                  </a:lnTo>
                  <a:lnTo>
                    <a:pt x="235" y="379"/>
                  </a:lnTo>
                  <a:lnTo>
                    <a:pt x="248" y="346"/>
                  </a:lnTo>
                  <a:lnTo>
                    <a:pt x="248" y="311"/>
                  </a:lnTo>
                  <a:lnTo>
                    <a:pt x="235" y="291"/>
                  </a:lnTo>
                  <a:lnTo>
                    <a:pt x="193" y="274"/>
                  </a:lnTo>
                  <a:lnTo>
                    <a:pt x="166" y="291"/>
                  </a:lnTo>
                  <a:lnTo>
                    <a:pt x="153" y="328"/>
                  </a:lnTo>
                  <a:lnTo>
                    <a:pt x="124" y="379"/>
                  </a:lnTo>
                  <a:lnTo>
                    <a:pt x="82" y="328"/>
                  </a:lnTo>
                  <a:lnTo>
                    <a:pt x="69" y="311"/>
                  </a:lnTo>
                  <a:lnTo>
                    <a:pt x="98" y="274"/>
                  </a:lnTo>
                  <a:lnTo>
                    <a:pt x="137" y="241"/>
                  </a:lnTo>
                  <a:lnTo>
                    <a:pt x="153" y="224"/>
                  </a:lnTo>
                  <a:lnTo>
                    <a:pt x="166" y="207"/>
                  </a:lnTo>
                  <a:lnTo>
                    <a:pt x="222" y="0"/>
                  </a:lnTo>
                  <a:lnTo>
                    <a:pt x="209" y="33"/>
                  </a:lnTo>
                  <a:lnTo>
                    <a:pt x="166" y="67"/>
                  </a:lnTo>
                  <a:lnTo>
                    <a:pt x="137" y="67"/>
                  </a:lnTo>
                  <a:lnTo>
                    <a:pt x="124" y="50"/>
                  </a:lnTo>
                  <a:lnTo>
                    <a:pt x="124" y="16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54560" y="5033880"/>
              <a:ext cx="70200" cy="173520"/>
            </a:xfrm>
            <a:custGeom>
              <a:avLst/>
              <a:gdLst/>
              <a:ahLst/>
              <a:rect l="0" t="0" r="r" b="b"/>
              <a:pathLst>
                <a:path w="195" h="482">
                  <a:moveTo>
                    <a:pt x="98" y="71"/>
                  </a:moveTo>
                  <a:lnTo>
                    <a:pt x="69" y="125"/>
                  </a:lnTo>
                  <a:lnTo>
                    <a:pt x="54" y="161"/>
                  </a:lnTo>
                  <a:lnTo>
                    <a:pt x="42" y="197"/>
                  </a:lnTo>
                  <a:lnTo>
                    <a:pt x="27" y="249"/>
                  </a:lnTo>
                  <a:lnTo>
                    <a:pt x="15" y="285"/>
                  </a:lnTo>
                  <a:lnTo>
                    <a:pt x="0" y="321"/>
                  </a:lnTo>
                  <a:lnTo>
                    <a:pt x="0" y="321"/>
                  </a:lnTo>
                  <a:lnTo>
                    <a:pt x="27" y="374"/>
                  </a:lnTo>
                  <a:lnTo>
                    <a:pt x="54" y="430"/>
                  </a:lnTo>
                  <a:lnTo>
                    <a:pt x="140" y="482"/>
                  </a:lnTo>
                  <a:lnTo>
                    <a:pt x="113" y="446"/>
                  </a:lnTo>
                  <a:lnTo>
                    <a:pt x="98" y="410"/>
                  </a:lnTo>
                  <a:lnTo>
                    <a:pt x="98" y="394"/>
                  </a:lnTo>
                  <a:lnTo>
                    <a:pt x="125" y="337"/>
                  </a:lnTo>
                  <a:lnTo>
                    <a:pt x="98" y="321"/>
                  </a:lnTo>
                  <a:lnTo>
                    <a:pt x="98" y="285"/>
                  </a:lnTo>
                  <a:lnTo>
                    <a:pt x="113" y="269"/>
                  </a:lnTo>
                  <a:lnTo>
                    <a:pt x="140" y="249"/>
                  </a:lnTo>
                  <a:lnTo>
                    <a:pt x="167" y="213"/>
                  </a:lnTo>
                  <a:lnTo>
                    <a:pt x="195" y="177"/>
                  </a:lnTo>
                  <a:lnTo>
                    <a:pt x="195" y="161"/>
                  </a:lnTo>
                  <a:lnTo>
                    <a:pt x="195" y="125"/>
                  </a:lnTo>
                  <a:lnTo>
                    <a:pt x="182" y="71"/>
                  </a:lnTo>
                  <a:lnTo>
                    <a:pt x="140" y="19"/>
                  </a:lnTo>
                  <a:lnTo>
                    <a:pt x="113" y="0"/>
                  </a:lnTo>
                  <a:lnTo>
                    <a:pt x="113" y="19"/>
                  </a:lnTo>
                  <a:lnTo>
                    <a:pt x="98" y="35"/>
                  </a:lnTo>
                  <a:lnTo>
                    <a:pt x="98" y="71"/>
                  </a:lnTo>
                  <a:lnTo>
                    <a:pt x="98" y="88"/>
                  </a:lnTo>
                  <a:lnTo>
                    <a:pt x="98" y="88"/>
                  </a:lnTo>
                  <a:lnTo>
                    <a:pt x="98" y="7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21000" y="4422600"/>
              <a:ext cx="351360" cy="225720"/>
            </a:xfrm>
            <a:custGeom>
              <a:avLst/>
              <a:gdLst/>
              <a:ahLst/>
              <a:rect l="0" t="0" r="r" b="b"/>
              <a:pathLst>
                <a:path w="976" h="627">
                  <a:moveTo>
                    <a:pt x="561" y="145"/>
                  </a:moveTo>
                  <a:lnTo>
                    <a:pt x="534" y="286"/>
                  </a:lnTo>
                  <a:lnTo>
                    <a:pt x="503" y="359"/>
                  </a:lnTo>
                  <a:lnTo>
                    <a:pt x="457" y="413"/>
                  </a:lnTo>
                  <a:lnTo>
                    <a:pt x="399" y="394"/>
                  </a:lnTo>
                  <a:lnTo>
                    <a:pt x="371" y="375"/>
                  </a:lnTo>
                  <a:lnTo>
                    <a:pt x="325" y="375"/>
                  </a:lnTo>
                  <a:lnTo>
                    <a:pt x="267" y="394"/>
                  </a:lnTo>
                  <a:lnTo>
                    <a:pt x="208" y="447"/>
                  </a:lnTo>
                  <a:lnTo>
                    <a:pt x="134" y="466"/>
                  </a:lnTo>
                  <a:lnTo>
                    <a:pt x="0" y="539"/>
                  </a:lnTo>
                  <a:lnTo>
                    <a:pt x="0" y="573"/>
                  </a:lnTo>
                  <a:lnTo>
                    <a:pt x="15" y="608"/>
                  </a:lnTo>
                  <a:lnTo>
                    <a:pt x="73" y="627"/>
                  </a:lnTo>
                  <a:lnTo>
                    <a:pt x="147" y="608"/>
                  </a:lnTo>
                  <a:lnTo>
                    <a:pt x="208" y="592"/>
                  </a:lnTo>
                  <a:lnTo>
                    <a:pt x="356" y="539"/>
                  </a:lnTo>
                  <a:lnTo>
                    <a:pt x="488" y="466"/>
                  </a:lnTo>
                  <a:lnTo>
                    <a:pt x="534" y="466"/>
                  </a:lnTo>
                  <a:lnTo>
                    <a:pt x="577" y="485"/>
                  </a:lnTo>
                  <a:lnTo>
                    <a:pt x="620" y="501"/>
                  </a:lnTo>
                  <a:lnTo>
                    <a:pt x="650" y="539"/>
                  </a:lnTo>
                  <a:lnTo>
                    <a:pt x="708" y="573"/>
                  </a:lnTo>
                  <a:lnTo>
                    <a:pt x="724" y="539"/>
                  </a:lnTo>
                  <a:lnTo>
                    <a:pt x="740" y="520"/>
                  </a:lnTo>
                  <a:lnTo>
                    <a:pt x="771" y="520"/>
                  </a:lnTo>
                  <a:lnTo>
                    <a:pt x="814" y="520"/>
                  </a:lnTo>
                  <a:lnTo>
                    <a:pt x="844" y="520"/>
                  </a:lnTo>
                  <a:lnTo>
                    <a:pt x="872" y="485"/>
                  </a:lnTo>
                  <a:lnTo>
                    <a:pt x="902" y="413"/>
                  </a:lnTo>
                  <a:lnTo>
                    <a:pt x="933" y="321"/>
                  </a:lnTo>
                  <a:lnTo>
                    <a:pt x="961" y="232"/>
                  </a:lnTo>
                  <a:lnTo>
                    <a:pt x="976" y="198"/>
                  </a:lnTo>
                  <a:lnTo>
                    <a:pt x="976" y="179"/>
                  </a:lnTo>
                  <a:lnTo>
                    <a:pt x="933" y="160"/>
                  </a:lnTo>
                  <a:lnTo>
                    <a:pt x="872" y="145"/>
                  </a:lnTo>
                  <a:lnTo>
                    <a:pt x="814" y="126"/>
                  </a:lnTo>
                  <a:lnTo>
                    <a:pt x="783" y="126"/>
                  </a:lnTo>
                  <a:lnTo>
                    <a:pt x="755" y="106"/>
                  </a:lnTo>
                  <a:lnTo>
                    <a:pt x="708" y="91"/>
                  </a:lnTo>
                  <a:lnTo>
                    <a:pt x="708" y="53"/>
                  </a:lnTo>
                  <a:lnTo>
                    <a:pt x="696" y="19"/>
                  </a:lnTo>
                  <a:lnTo>
                    <a:pt x="635" y="0"/>
                  </a:lnTo>
                  <a:lnTo>
                    <a:pt x="561" y="0"/>
                  </a:lnTo>
                  <a:lnTo>
                    <a:pt x="503" y="0"/>
                  </a:lnTo>
                  <a:lnTo>
                    <a:pt x="518" y="38"/>
                  </a:lnTo>
                  <a:lnTo>
                    <a:pt x="518" y="53"/>
                  </a:lnTo>
                  <a:lnTo>
                    <a:pt x="561" y="145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205160" y="3508200"/>
              <a:ext cx="93960" cy="73440"/>
            </a:xfrm>
            <a:custGeom>
              <a:avLst/>
              <a:gdLst/>
              <a:ahLst/>
              <a:rect l="0" t="0" r="r" b="b"/>
              <a:pathLst>
                <a:path w="261" h="204">
                  <a:moveTo>
                    <a:pt x="208" y="121"/>
                  </a:moveTo>
                  <a:lnTo>
                    <a:pt x="208" y="85"/>
                  </a:lnTo>
                  <a:lnTo>
                    <a:pt x="177" y="46"/>
                  </a:lnTo>
                  <a:lnTo>
                    <a:pt x="123" y="23"/>
                  </a:lnTo>
                  <a:lnTo>
                    <a:pt x="70" y="0"/>
                  </a:lnTo>
                  <a:lnTo>
                    <a:pt x="39" y="15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6" y="54"/>
                  </a:lnTo>
                  <a:lnTo>
                    <a:pt x="79" y="78"/>
                  </a:lnTo>
                  <a:lnTo>
                    <a:pt x="137" y="106"/>
                  </a:lnTo>
                  <a:lnTo>
                    <a:pt x="150" y="144"/>
                  </a:lnTo>
                  <a:lnTo>
                    <a:pt x="150" y="158"/>
                  </a:lnTo>
                  <a:lnTo>
                    <a:pt x="164" y="174"/>
                  </a:lnTo>
                  <a:lnTo>
                    <a:pt x="177" y="189"/>
                  </a:lnTo>
                  <a:lnTo>
                    <a:pt x="208" y="197"/>
                  </a:lnTo>
                  <a:lnTo>
                    <a:pt x="221" y="204"/>
                  </a:lnTo>
                  <a:lnTo>
                    <a:pt x="234" y="204"/>
                  </a:lnTo>
                  <a:lnTo>
                    <a:pt x="261" y="189"/>
                  </a:lnTo>
                  <a:lnTo>
                    <a:pt x="261" y="174"/>
                  </a:lnTo>
                  <a:lnTo>
                    <a:pt x="247" y="166"/>
                  </a:lnTo>
                  <a:lnTo>
                    <a:pt x="234" y="137"/>
                  </a:lnTo>
                  <a:lnTo>
                    <a:pt x="221" y="129"/>
                  </a:lnTo>
                  <a:lnTo>
                    <a:pt x="208" y="129"/>
                  </a:lnTo>
                  <a:lnTo>
                    <a:pt x="208" y="12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59320" y="3584520"/>
              <a:ext cx="113040" cy="106560"/>
            </a:xfrm>
            <a:custGeom>
              <a:avLst/>
              <a:gdLst/>
              <a:ahLst/>
              <a:rect l="0" t="0" r="r" b="b"/>
              <a:pathLst>
                <a:path w="314" h="296">
                  <a:moveTo>
                    <a:pt x="74" y="232"/>
                  </a:moveTo>
                  <a:lnTo>
                    <a:pt x="136" y="178"/>
                  </a:lnTo>
                  <a:lnTo>
                    <a:pt x="199" y="113"/>
                  </a:lnTo>
                  <a:lnTo>
                    <a:pt x="199" y="79"/>
                  </a:lnTo>
                  <a:lnTo>
                    <a:pt x="199" y="46"/>
                  </a:lnTo>
                  <a:lnTo>
                    <a:pt x="177" y="23"/>
                  </a:lnTo>
                  <a:lnTo>
                    <a:pt x="136" y="0"/>
                  </a:lnTo>
                  <a:lnTo>
                    <a:pt x="123" y="15"/>
                  </a:lnTo>
                  <a:lnTo>
                    <a:pt x="97" y="23"/>
                  </a:lnTo>
                  <a:lnTo>
                    <a:pt x="88" y="41"/>
                  </a:lnTo>
                  <a:lnTo>
                    <a:pt x="88" y="46"/>
                  </a:lnTo>
                  <a:lnTo>
                    <a:pt x="149" y="64"/>
                  </a:lnTo>
                  <a:lnTo>
                    <a:pt x="212" y="79"/>
                  </a:lnTo>
                  <a:lnTo>
                    <a:pt x="186" y="87"/>
                  </a:lnTo>
                  <a:lnTo>
                    <a:pt x="177" y="87"/>
                  </a:lnTo>
                  <a:lnTo>
                    <a:pt x="149" y="87"/>
                  </a:lnTo>
                  <a:lnTo>
                    <a:pt x="136" y="87"/>
                  </a:lnTo>
                  <a:lnTo>
                    <a:pt x="114" y="97"/>
                  </a:lnTo>
                  <a:lnTo>
                    <a:pt x="61" y="105"/>
                  </a:lnTo>
                  <a:lnTo>
                    <a:pt x="48" y="113"/>
                  </a:lnTo>
                  <a:lnTo>
                    <a:pt x="35" y="113"/>
                  </a:lnTo>
                  <a:lnTo>
                    <a:pt x="13" y="143"/>
                  </a:lnTo>
                  <a:lnTo>
                    <a:pt x="0" y="178"/>
                  </a:lnTo>
                  <a:lnTo>
                    <a:pt x="13" y="201"/>
                  </a:lnTo>
                  <a:lnTo>
                    <a:pt x="35" y="216"/>
                  </a:lnTo>
                  <a:lnTo>
                    <a:pt x="114" y="242"/>
                  </a:lnTo>
                  <a:lnTo>
                    <a:pt x="199" y="257"/>
                  </a:lnTo>
                  <a:lnTo>
                    <a:pt x="225" y="273"/>
                  </a:lnTo>
                  <a:lnTo>
                    <a:pt x="265" y="288"/>
                  </a:lnTo>
                  <a:lnTo>
                    <a:pt x="287" y="296"/>
                  </a:lnTo>
                  <a:lnTo>
                    <a:pt x="300" y="288"/>
                  </a:lnTo>
                  <a:lnTo>
                    <a:pt x="314" y="273"/>
                  </a:lnTo>
                  <a:lnTo>
                    <a:pt x="265" y="257"/>
                  </a:lnTo>
                  <a:lnTo>
                    <a:pt x="225" y="257"/>
                  </a:lnTo>
                  <a:lnTo>
                    <a:pt x="186" y="250"/>
                  </a:lnTo>
                  <a:lnTo>
                    <a:pt x="136" y="232"/>
                  </a:lnTo>
                  <a:lnTo>
                    <a:pt x="114" y="216"/>
                  </a:lnTo>
                  <a:lnTo>
                    <a:pt x="114" y="209"/>
                  </a:lnTo>
                  <a:lnTo>
                    <a:pt x="97" y="216"/>
                  </a:lnTo>
                  <a:lnTo>
                    <a:pt x="74" y="23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43400" y="3808440"/>
              <a:ext cx="174960" cy="28800"/>
            </a:xfrm>
            <a:custGeom>
              <a:avLst/>
              <a:gdLst/>
              <a:ahLst/>
              <a:rect l="0" t="0" r="r" b="b"/>
              <a:pathLst>
                <a:path w="486" h="80">
                  <a:moveTo>
                    <a:pt x="119" y="18"/>
                  </a:moveTo>
                  <a:lnTo>
                    <a:pt x="158" y="34"/>
                  </a:lnTo>
                  <a:lnTo>
                    <a:pt x="185" y="45"/>
                  </a:lnTo>
                  <a:lnTo>
                    <a:pt x="211" y="26"/>
                  </a:lnTo>
                  <a:lnTo>
                    <a:pt x="247" y="10"/>
                  </a:lnTo>
                  <a:lnTo>
                    <a:pt x="367" y="26"/>
                  </a:lnTo>
                  <a:lnTo>
                    <a:pt x="486" y="56"/>
                  </a:lnTo>
                  <a:lnTo>
                    <a:pt x="477" y="80"/>
                  </a:lnTo>
                  <a:lnTo>
                    <a:pt x="433" y="80"/>
                  </a:lnTo>
                  <a:lnTo>
                    <a:pt x="340" y="80"/>
                  </a:lnTo>
                  <a:lnTo>
                    <a:pt x="331" y="72"/>
                  </a:lnTo>
                  <a:lnTo>
                    <a:pt x="292" y="61"/>
                  </a:lnTo>
                  <a:lnTo>
                    <a:pt x="265" y="56"/>
                  </a:lnTo>
                  <a:lnTo>
                    <a:pt x="247" y="56"/>
                  </a:lnTo>
                  <a:lnTo>
                    <a:pt x="220" y="61"/>
                  </a:lnTo>
                  <a:lnTo>
                    <a:pt x="185" y="72"/>
                  </a:lnTo>
                  <a:lnTo>
                    <a:pt x="158" y="80"/>
                  </a:lnTo>
                  <a:lnTo>
                    <a:pt x="145" y="80"/>
                  </a:lnTo>
                  <a:lnTo>
                    <a:pt x="105" y="80"/>
                  </a:lnTo>
                  <a:lnTo>
                    <a:pt x="66" y="72"/>
                  </a:lnTo>
                  <a:lnTo>
                    <a:pt x="52" y="56"/>
                  </a:lnTo>
                  <a:lnTo>
                    <a:pt x="13" y="18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39" y="18"/>
                  </a:lnTo>
                  <a:lnTo>
                    <a:pt x="66" y="45"/>
                  </a:lnTo>
                  <a:lnTo>
                    <a:pt x="92" y="61"/>
                  </a:lnTo>
                  <a:lnTo>
                    <a:pt x="105" y="61"/>
                  </a:lnTo>
                  <a:lnTo>
                    <a:pt x="119" y="61"/>
                  </a:lnTo>
                  <a:lnTo>
                    <a:pt x="119" y="45"/>
                  </a:lnTo>
                  <a:lnTo>
                    <a:pt x="119" y="18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43400" y="3467160"/>
              <a:ext cx="173520" cy="97200"/>
            </a:xfrm>
            <a:custGeom>
              <a:avLst/>
              <a:gdLst/>
              <a:ahLst/>
              <a:rect l="0" t="0" r="r" b="b"/>
              <a:pathLst>
                <a:path w="482" h="270">
                  <a:moveTo>
                    <a:pt x="79" y="255"/>
                  </a:moveTo>
                  <a:lnTo>
                    <a:pt x="92" y="179"/>
                  </a:lnTo>
                  <a:lnTo>
                    <a:pt x="92" y="112"/>
                  </a:lnTo>
                  <a:lnTo>
                    <a:pt x="92" y="81"/>
                  </a:lnTo>
                  <a:lnTo>
                    <a:pt x="119" y="51"/>
                  </a:lnTo>
                  <a:lnTo>
                    <a:pt x="146" y="20"/>
                  </a:lnTo>
                  <a:lnTo>
                    <a:pt x="195" y="0"/>
                  </a:lnTo>
                  <a:lnTo>
                    <a:pt x="186" y="51"/>
                  </a:lnTo>
                  <a:lnTo>
                    <a:pt x="159" y="73"/>
                  </a:lnTo>
                  <a:lnTo>
                    <a:pt x="133" y="104"/>
                  </a:lnTo>
                  <a:lnTo>
                    <a:pt x="239" y="140"/>
                  </a:lnTo>
                  <a:lnTo>
                    <a:pt x="340" y="163"/>
                  </a:lnTo>
                  <a:lnTo>
                    <a:pt x="368" y="156"/>
                  </a:lnTo>
                  <a:lnTo>
                    <a:pt x="394" y="148"/>
                  </a:lnTo>
                  <a:lnTo>
                    <a:pt x="420" y="135"/>
                  </a:lnTo>
                  <a:lnTo>
                    <a:pt x="456" y="112"/>
                  </a:lnTo>
                  <a:lnTo>
                    <a:pt x="473" y="88"/>
                  </a:lnTo>
                  <a:lnTo>
                    <a:pt x="482" y="81"/>
                  </a:lnTo>
                  <a:lnTo>
                    <a:pt x="482" y="112"/>
                  </a:lnTo>
                  <a:lnTo>
                    <a:pt x="473" y="127"/>
                  </a:lnTo>
                  <a:lnTo>
                    <a:pt x="434" y="156"/>
                  </a:lnTo>
                  <a:lnTo>
                    <a:pt x="368" y="163"/>
                  </a:lnTo>
                  <a:lnTo>
                    <a:pt x="287" y="171"/>
                  </a:lnTo>
                  <a:lnTo>
                    <a:pt x="261" y="179"/>
                  </a:lnTo>
                  <a:lnTo>
                    <a:pt x="247" y="187"/>
                  </a:lnTo>
                  <a:lnTo>
                    <a:pt x="221" y="202"/>
                  </a:lnTo>
                  <a:lnTo>
                    <a:pt x="212" y="219"/>
                  </a:lnTo>
                  <a:lnTo>
                    <a:pt x="195" y="232"/>
                  </a:lnTo>
                  <a:lnTo>
                    <a:pt x="172" y="239"/>
                  </a:lnTo>
                  <a:lnTo>
                    <a:pt x="133" y="219"/>
                  </a:lnTo>
                  <a:lnTo>
                    <a:pt x="119" y="202"/>
                  </a:lnTo>
                  <a:lnTo>
                    <a:pt x="105" y="179"/>
                  </a:lnTo>
                  <a:lnTo>
                    <a:pt x="92" y="148"/>
                  </a:lnTo>
                  <a:lnTo>
                    <a:pt x="105" y="135"/>
                  </a:lnTo>
                  <a:lnTo>
                    <a:pt x="105" y="135"/>
                  </a:lnTo>
                  <a:lnTo>
                    <a:pt x="119" y="140"/>
                  </a:lnTo>
                  <a:lnTo>
                    <a:pt x="146" y="156"/>
                  </a:lnTo>
                  <a:lnTo>
                    <a:pt x="159" y="179"/>
                  </a:lnTo>
                  <a:lnTo>
                    <a:pt x="105" y="219"/>
                  </a:lnTo>
                  <a:lnTo>
                    <a:pt x="79" y="227"/>
                  </a:lnTo>
                  <a:lnTo>
                    <a:pt x="52" y="232"/>
                  </a:lnTo>
                  <a:lnTo>
                    <a:pt x="39" y="239"/>
                  </a:lnTo>
                  <a:lnTo>
                    <a:pt x="13" y="247"/>
                  </a:lnTo>
                  <a:lnTo>
                    <a:pt x="0" y="247"/>
                  </a:lnTo>
                  <a:lnTo>
                    <a:pt x="0" y="255"/>
                  </a:lnTo>
                  <a:lnTo>
                    <a:pt x="26" y="263"/>
                  </a:lnTo>
                  <a:lnTo>
                    <a:pt x="52" y="263"/>
                  </a:lnTo>
                  <a:lnTo>
                    <a:pt x="119" y="263"/>
                  </a:lnTo>
                  <a:lnTo>
                    <a:pt x="119" y="270"/>
                  </a:lnTo>
                  <a:lnTo>
                    <a:pt x="133" y="270"/>
                  </a:lnTo>
                  <a:lnTo>
                    <a:pt x="146" y="270"/>
                  </a:lnTo>
                  <a:lnTo>
                    <a:pt x="146" y="270"/>
                  </a:lnTo>
                  <a:lnTo>
                    <a:pt x="105" y="263"/>
                  </a:lnTo>
                  <a:lnTo>
                    <a:pt x="79" y="255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48160" y="3960720"/>
              <a:ext cx="81360" cy="133560"/>
            </a:xfrm>
            <a:custGeom>
              <a:avLst/>
              <a:gdLst/>
              <a:ahLst/>
              <a:rect l="0" t="0" r="r" b="b"/>
              <a:pathLst>
                <a:path w="226" h="371">
                  <a:moveTo>
                    <a:pt x="115" y="10"/>
                  </a:moveTo>
                  <a:lnTo>
                    <a:pt x="124" y="46"/>
                  </a:lnTo>
                  <a:lnTo>
                    <a:pt x="150" y="77"/>
                  </a:lnTo>
                  <a:lnTo>
                    <a:pt x="187" y="164"/>
                  </a:lnTo>
                  <a:lnTo>
                    <a:pt x="226" y="253"/>
                  </a:lnTo>
                  <a:lnTo>
                    <a:pt x="213" y="281"/>
                  </a:lnTo>
                  <a:lnTo>
                    <a:pt x="187" y="304"/>
                  </a:lnTo>
                  <a:lnTo>
                    <a:pt x="164" y="322"/>
                  </a:lnTo>
                  <a:lnTo>
                    <a:pt x="124" y="340"/>
                  </a:lnTo>
                  <a:lnTo>
                    <a:pt x="89" y="353"/>
                  </a:lnTo>
                  <a:lnTo>
                    <a:pt x="62" y="353"/>
                  </a:lnTo>
                  <a:lnTo>
                    <a:pt x="62" y="361"/>
                  </a:lnTo>
                  <a:lnTo>
                    <a:pt x="62" y="371"/>
                  </a:lnTo>
                  <a:lnTo>
                    <a:pt x="89" y="371"/>
                  </a:lnTo>
                  <a:lnTo>
                    <a:pt x="124" y="361"/>
                  </a:lnTo>
                  <a:lnTo>
                    <a:pt x="124" y="273"/>
                  </a:lnTo>
                  <a:lnTo>
                    <a:pt x="137" y="263"/>
                  </a:lnTo>
                  <a:lnTo>
                    <a:pt x="137" y="253"/>
                  </a:lnTo>
                  <a:lnTo>
                    <a:pt x="115" y="245"/>
                  </a:lnTo>
                  <a:lnTo>
                    <a:pt x="75" y="224"/>
                  </a:lnTo>
                  <a:lnTo>
                    <a:pt x="35" y="214"/>
                  </a:lnTo>
                  <a:lnTo>
                    <a:pt x="13" y="214"/>
                  </a:lnTo>
                  <a:lnTo>
                    <a:pt x="0" y="196"/>
                  </a:lnTo>
                  <a:lnTo>
                    <a:pt x="0" y="174"/>
                  </a:lnTo>
                  <a:lnTo>
                    <a:pt x="13" y="164"/>
                  </a:lnTo>
                  <a:lnTo>
                    <a:pt x="52" y="154"/>
                  </a:lnTo>
                  <a:lnTo>
                    <a:pt x="75" y="164"/>
                  </a:lnTo>
                  <a:lnTo>
                    <a:pt x="89" y="186"/>
                  </a:lnTo>
                  <a:lnTo>
                    <a:pt x="115" y="214"/>
                  </a:lnTo>
                  <a:lnTo>
                    <a:pt x="150" y="186"/>
                  </a:lnTo>
                  <a:lnTo>
                    <a:pt x="164" y="174"/>
                  </a:lnTo>
                  <a:lnTo>
                    <a:pt x="137" y="154"/>
                  </a:lnTo>
                  <a:lnTo>
                    <a:pt x="102" y="136"/>
                  </a:lnTo>
                  <a:lnTo>
                    <a:pt x="89" y="126"/>
                  </a:lnTo>
                  <a:lnTo>
                    <a:pt x="75" y="118"/>
                  </a:lnTo>
                  <a:lnTo>
                    <a:pt x="26" y="0"/>
                  </a:lnTo>
                  <a:lnTo>
                    <a:pt x="35" y="18"/>
                  </a:lnTo>
                  <a:lnTo>
                    <a:pt x="75" y="38"/>
                  </a:lnTo>
                  <a:lnTo>
                    <a:pt x="102" y="38"/>
                  </a:lnTo>
                  <a:lnTo>
                    <a:pt x="115" y="28"/>
                  </a:lnTo>
                  <a:lnTo>
                    <a:pt x="115" y="1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16320" y="4116240"/>
              <a:ext cx="66960" cy="100440"/>
            </a:xfrm>
            <a:custGeom>
              <a:avLst/>
              <a:gdLst/>
              <a:ahLst/>
              <a:rect l="0" t="0" r="r" b="b"/>
              <a:pathLst>
                <a:path w="186" h="279">
                  <a:moveTo>
                    <a:pt x="92" y="41"/>
                  </a:moveTo>
                  <a:lnTo>
                    <a:pt x="120" y="73"/>
                  </a:lnTo>
                  <a:lnTo>
                    <a:pt x="133" y="93"/>
                  </a:lnTo>
                  <a:lnTo>
                    <a:pt x="146" y="114"/>
                  </a:lnTo>
                  <a:lnTo>
                    <a:pt x="159" y="145"/>
                  </a:lnTo>
                  <a:lnTo>
                    <a:pt x="172" y="165"/>
                  </a:lnTo>
                  <a:lnTo>
                    <a:pt x="186" y="186"/>
                  </a:lnTo>
                  <a:lnTo>
                    <a:pt x="186" y="186"/>
                  </a:lnTo>
                  <a:lnTo>
                    <a:pt x="159" y="218"/>
                  </a:lnTo>
                  <a:lnTo>
                    <a:pt x="133" y="248"/>
                  </a:lnTo>
                  <a:lnTo>
                    <a:pt x="52" y="279"/>
                  </a:lnTo>
                  <a:lnTo>
                    <a:pt x="79" y="259"/>
                  </a:lnTo>
                  <a:lnTo>
                    <a:pt x="92" y="238"/>
                  </a:lnTo>
                  <a:lnTo>
                    <a:pt x="92" y="228"/>
                  </a:lnTo>
                  <a:lnTo>
                    <a:pt x="66" y="196"/>
                  </a:lnTo>
                  <a:lnTo>
                    <a:pt x="92" y="186"/>
                  </a:lnTo>
                  <a:lnTo>
                    <a:pt x="92" y="165"/>
                  </a:lnTo>
                  <a:lnTo>
                    <a:pt x="79" y="155"/>
                  </a:lnTo>
                  <a:lnTo>
                    <a:pt x="52" y="145"/>
                  </a:lnTo>
                  <a:lnTo>
                    <a:pt x="26" y="124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73"/>
                  </a:lnTo>
                  <a:lnTo>
                    <a:pt x="8" y="41"/>
                  </a:lnTo>
                  <a:lnTo>
                    <a:pt x="52" y="10"/>
                  </a:lnTo>
                  <a:lnTo>
                    <a:pt x="79" y="0"/>
                  </a:lnTo>
                  <a:lnTo>
                    <a:pt x="79" y="10"/>
                  </a:lnTo>
                  <a:lnTo>
                    <a:pt x="92" y="20"/>
                  </a:lnTo>
                  <a:lnTo>
                    <a:pt x="92" y="41"/>
                  </a:lnTo>
                  <a:lnTo>
                    <a:pt x="92" y="51"/>
                  </a:lnTo>
                  <a:lnTo>
                    <a:pt x="92" y="51"/>
                  </a:lnTo>
                  <a:lnTo>
                    <a:pt x="92" y="4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64040" y="3768840"/>
              <a:ext cx="340200" cy="113040"/>
            </a:xfrm>
            <a:custGeom>
              <a:avLst/>
              <a:gdLst/>
              <a:ahLst/>
              <a:rect l="0" t="0" r="r" b="b"/>
              <a:pathLst>
                <a:path w="945" h="314">
                  <a:moveTo>
                    <a:pt x="402" y="72"/>
                  </a:moveTo>
                  <a:lnTo>
                    <a:pt x="428" y="142"/>
                  </a:lnTo>
                  <a:lnTo>
                    <a:pt x="459" y="179"/>
                  </a:lnTo>
                  <a:lnTo>
                    <a:pt x="503" y="208"/>
                  </a:lnTo>
                  <a:lnTo>
                    <a:pt x="556" y="197"/>
                  </a:lnTo>
                  <a:lnTo>
                    <a:pt x="587" y="187"/>
                  </a:lnTo>
                  <a:lnTo>
                    <a:pt x="631" y="187"/>
                  </a:lnTo>
                  <a:lnTo>
                    <a:pt x="684" y="197"/>
                  </a:lnTo>
                  <a:lnTo>
                    <a:pt x="742" y="223"/>
                  </a:lnTo>
                  <a:lnTo>
                    <a:pt x="813" y="233"/>
                  </a:lnTo>
                  <a:lnTo>
                    <a:pt x="945" y="270"/>
                  </a:lnTo>
                  <a:lnTo>
                    <a:pt x="945" y="288"/>
                  </a:lnTo>
                  <a:lnTo>
                    <a:pt x="932" y="303"/>
                  </a:lnTo>
                  <a:lnTo>
                    <a:pt x="875" y="314"/>
                  </a:lnTo>
                  <a:lnTo>
                    <a:pt x="804" y="303"/>
                  </a:lnTo>
                  <a:lnTo>
                    <a:pt x="742" y="295"/>
                  </a:lnTo>
                  <a:lnTo>
                    <a:pt x="600" y="270"/>
                  </a:lnTo>
                  <a:lnTo>
                    <a:pt x="472" y="233"/>
                  </a:lnTo>
                  <a:lnTo>
                    <a:pt x="428" y="233"/>
                  </a:lnTo>
                  <a:lnTo>
                    <a:pt x="384" y="244"/>
                  </a:lnTo>
                  <a:lnTo>
                    <a:pt x="344" y="251"/>
                  </a:lnTo>
                  <a:lnTo>
                    <a:pt x="314" y="270"/>
                  </a:lnTo>
                  <a:lnTo>
                    <a:pt x="256" y="288"/>
                  </a:lnTo>
                  <a:lnTo>
                    <a:pt x="243" y="270"/>
                  </a:lnTo>
                  <a:lnTo>
                    <a:pt x="229" y="259"/>
                  </a:lnTo>
                  <a:lnTo>
                    <a:pt x="198" y="259"/>
                  </a:lnTo>
                  <a:lnTo>
                    <a:pt x="158" y="259"/>
                  </a:lnTo>
                  <a:lnTo>
                    <a:pt x="127" y="259"/>
                  </a:lnTo>
                  <a:lnTo>
                    <a:pt x="101" y="244"/>
                  </a:lnTo>
                  <a:lnTo>
                    <a:pt x="70" y="208"/>
                  </a:lnTo>
                  <a:lnTo>
                    <a:pt x="39" y="161"/>
                  </a:lnTo>
                  <a:lnTo>
                    <a:pt x="13" y="116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39" y="80"/>
                  </a:lnTo>
                  <a:lnTo>
                    <a:pt x="101" y="72"/>
                  </a:lnTo>
                  <a:lnTo>
                    <a:pt x="158" y="62"/>
                  </a:lnTo>
                  <a:lnTo>
                    <a:pt x="185" y="62"/>
                  </a:lnTo>
                  <a:lnTo>
                    <a:pt x="211" y="54"/>
                  </a:lnTo>
                  <a:lnTo>
                    <a:pt x="256" y="46"/>
                  </a:lnTo>
                  <a:lnTo>
                    <a:pt x="256" y="25"/>
                  </a:lnTo>
                  <a:lnTo>
                    <a:pt x="269" y="10"/>
                  </a:lnTo>
                  <a:lnTo>
                    <a:pt x="331" y="0"/>
                  </a:lnTo>
                  <a:lnTo>
                    <a:pt x="402" y="0"/>
                  </a:lnTo>
                  <a:lnTo>
                    <a:pt x="459" y="0"/>
                  </a:lnTo>
                  <a:lnTo>
                    <a:pt x="441" y="18"/>
                  </a:lnTo>
                  <a:lnTo>
                    <a:pt x="441" y="25"/>
                  </a:lnTo>
                  <a:lnTo>
                    <a:pt x="402" y="7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 txBox="1"/>
          <p:nvPr/>
        </p:nvSpPr>
        <p:spPr>
          <a:xfrm>
            <a:off x="304920" y="457200"/>
            <a:ext cx="73915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L-GGAN-DAH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371600" y="5994360"/>
            <a:ext cx="5105880" cy="584640"/>
          </a:xfrm>
          <a:custGeom>
            <a:avLst/>
            <a:gdLst/>
            <a:ahLst/>
            <a:rect l="0" t="0" r="r" b="b"/>
            <a:pathLst>
              <a:path w="14183" h="1624">
                <a:moveTo>
                  <a:pt x="7532" y="176"/>
                </a:moveTo>
                <a:lnTo>
                  <a:pt x="7356" y="141"/>
                </a:lnTo>
                <a:lnTo>
                  <a:pt x="7223" y="141"/>
                </a:lnTo>
                <a:lnTo>
                  <a:pt x="7091" y="176"/>
                </a:lnTo>
                <a:lnTo>
                  <a:pt x="6959" y="211"/>
                </a:lnTo>
                <a:lnTo>
                  <a:pt x="6827" y="176"/>
                </a:lnTo>
                <a:lnTo>
                  <a:pt x="6695" y="176"/>
                </a:lnTo>
                <a:lnTo>
                  <a:pt x="6563" y="141"/>
                </a:lnTo>
                <a:lnTo>
                  <a:pt x="6431" y="141"/>
                </a:lnTo>
                <a:lnTo>
                  <a:pt x="6299" y="141"/>
                </a:lnTo>
                <a:lnTo>
                  <a:pt x="6166" y="141"/>
                </a:lnTo>
                <a:lnTo>
                  <a:pt x="6034" y="176"/>
                </a:lnTo>
                <a:lnTo>
                  <a:pt x="5902" y="176"/>
                </a:lnTo>
                <a:lnTo>
                  <a:pt x="5770" y="176"/>
                </a:lnTo>
                <a:lnTo>
                  <a:pt x="5638" y="176"/>
                </a:lnTo>
                <a:lnTo>
                  <a:pt x="5506" y="176"/>
                </a:lnTo>
                <a:lnTo>
                  <a:pt x="5374" y="176"/>
                </a:lnTo>
                <a:lnTo>
                  <a:pt x="5242" y="176"/>
                </a:lnTo>
                <a:lnTo>
                  <a:pt x="5109" y="176"/>
                </a:lnTo>
                <a:lnTo>
                  <a:pt x="4977" y="176"/>
                </a:lnTo>
                <a:lnTo>
                  <a:pt x="4845" y="141"/>
                </a:lnTo>
                <a:lnTo>
                  <a:pt x="4713" y="105"/>
                </a:lnTo>
                <a:lnTo>
                  <a:pt x="4581" y="105"/>
                </a:lnTo>
                <a:lnTo>
                  <a:pt x="4449" y="141"/>
                </a:lnTo>
                <a:lnTo>
                  <a:pt x="4273" y="176"/>
                </a:lnTo>
                <a:lnTo>
                  <a:pt x="4096" y="211"/>
                </a:lnTo>
                <a:lnTo>
                  <a:pt x="3920" y="176"/>
                </a:lnTo>
                <a:lnTo>
                  <a:pt x="3744" y="141"/>
                </a:lnTo>
                <a:lnTo>
                  <a:pt x="3612" y="105"/>
                </a:lnTo>
                <a:lnTo>
                  <a:pt x="3479" y="105"/>
                </a:lnTo>
                <a:lnTo>
                  <a:pt x="3347" y="105"/>
                </a:lnTo>
                <a:lnTo>
                  <a:pt x="3215" y="105"/>
                </a:lnTo>
                <a:lnTo>
                  <a:pt x="3082" y="105"/>
                </a:lnTo>
                <a:lnTo>
                  <a:pt x="2950" y="141"/>
                </a:lnTo>
                <a:lnTo>
                  <a:pt x="2818" y="141"/>
                </a:lnTo>
                <a:lnTo>
                  <a:pt x="2686" y="141"/>
                </a:lnTo>
                <a:lnTo>
                  <a:pt x="2554" y="105"/>
                </a:lnTo>
                <a:lnTo>
                  <a:pt x="2422" y="70"/>
                </a:lnTo>
                <a:lnTo>
                  <a:pt x="2290" y="35"/>
                </a:lnTo>
                <a:lnTo>
                  <a:pt x="2158" y="0"/>
                </a:lnTo>
                <a:lnTo>
                  <a:pt x="2025" y="35"/>
                </a:lnTo>
                <a:lnTo>
                  <a:pt x="1893" y="35"/>
                </a:lnTo>
                <a:lnTo>
                  <a:pt x="1761" y="35"/>
                </a:lnTo>
                <a:lnTo>
                  <a:pt x="1629" y="35"/>
                </a:lnTo>
                <a:lnTo>
                  <a:pt x="1497" y="35"/>
                </a:lnTo>
                <a:lnTo>
                  <a:pt x="1365" y="35"/>
                </a:lnTo>
                <a:lnTo>
                  <a:pt x="1233" y="70"/>
                </a:lnTo>
                <a:lnTo>
                  <a:pt x="1101" y="141"/>
                </a:lnTo>
                <a:lnTo>
                  <a:pt x="968" y="246"/>
                </a:lnTo>
                <a:lnTo>
                  <a:pt x="836" y="317"/>
                </a:lnTo>
                <a:lnTo>
                  <a:pt x="704" y="352"/>
                </a:lnTo>
                <a:lnTo>
                  <a:pt x="572" y="352"/>
                </a:lnTo>
                <a:lnTo>
                  <a:pt x="440" y="352"/>
                </a:lnTo>
                <a:lnTo>
                  <a:pt x="308" y="352"/>
                </a:lnTo>
                <a:lnTo>
                  <a:pt x="176" y="388"/>
                </a:lnTo>
                <a:lnTo>
                  <a:pt x="44" y="388"/>
                </a:lnTo>
                <a:lnTo>
                  <a:pt x="0" y="494"/>
                </a:lnTo>
                <a:lnTo>
                  <a:pt x="0" y="600"/>
                </a:lnTo>
                <a:lnTo>
                  <a:pt x="0" y="706"/>
                </a:lnTo>
                <a:lnTo>
                  <a:pt x="132" y="812"/>
                </a:lnTo>
                <a:lnTo>
                  <a:pt x="264" y="882"/>
                </a:lnTo>
                <a:lnTo>
                  <a:pt x="396" y="882"/>
                </a:lnTo>
                <a:lnTo>
                  <a:pt x="528" y="882"/>
                </a:lnTo>
                <a:lnTo>
                  <a:pt x="660" y="882"/>
                </a:lnTo>
                <a:lnTo>
                  <a:pt x="792" y="882"/>
                </a:lnTo>
                <a:lnTo>
                  <a:pt x="924" y="918"/>
                </a:lnTo>
                <a:lnTo>
                  <a:pt x="1012" y="1024"/>
                </a:lnTo>
                <a:lnTo>
                  <a:pt x="1101" y="1129"/>
                </a:lnTo>
                <a:lnTo>
                  <a:pt x="1233" y="1200"/>
                </a:lnTo>
                <a:lnTo>
                  <a:pt x="1365" y="1200"/>
                </a:lnTo>
                <a:lnTo>
                  <a:pt x="1497" y="1165"/>
                </a:lnTo>
                <a:lnTo>
                  <a:pt x="1629" y="1129"/>
                </a:lnTo>
                <a:lnTo>
                  <a:pt x="1761" y="1094"/>
                </a:lnTo>
                <a:lnTo>
                  <a:pt x="1893" y="1094"/>
                </a:lnTo>
                <a:lnTo>
                  <a:pt x="2025" y="1165"/>
                </a:lnTo>
                <a:lnTo>
                  <a:pt x="2158" y="1236"/>
                </a:lnTo>
                <a:lnTo>
                  <a:pt x="2290" y="1272"/>
                </a:lnTo>
                <a:lnTo>
                  <a:pt x="2422" y="1272"/>
                </a:lnTo>
                <a:lnTo>
                  <a:pt x="2510" y="1377"/>
                </a:lnTo>
                <a:lnTo>
                  <a:pt x="2598" y="1483"/>
                </a:lnTo>
                <a:lnTo>
                  <a:pt x="2686" y="1589"/>
                </a:lnTo>
                <a:lnTo>
                  <a:pt x="2818" y="1624"/>
                </a:lnTo>
                <a:lnTo>
                  <a:pt x="2862" y="1518"/>
                </a:lnTo>
                <a:lnTo>
                  <a:pt x="2862" y="1413"/>
                </a:lnTo>
                <a:lnTo>
                  <a:pt x="2994" y="1377"/>
                </a:lnTo>
                <a:lnTo>
                  <a:pt x="3127" y="1377"/>
                </a:lnTo>
                <a:lnTo>
                  <a:pt x="3259" y="1483"/>
                </a:lnTo>
                <a:lnTo>
                  <a:pt x="3391" y="1518"/>
                </a:lnTo>
                <a:lnTo>
                  <a:pt x="3523" y="1554"/>
                </a:lnTo>
                <a:lnTo>
                  <a:pt x="3656" y="1518"/>
                </a:lnTo>
                <a:lnTo>
                  <a:pt x="3788" y="1413"/>
                </a:lnTo>
                <a:lnTo>
                  <a:pt x="3920" y="1413"/>
                </a:lnTo>
                <a:lnTo>
                  <a:pt x="4052" y="1413"/>
                </a:lnTo>
                <a:lnTo>
                  <a:pt x="4185" y="1448"/>
                </a:lnTo>
                <a:lnTo>
                  <a:pt x="4361" y="1554"/>
                </a:lnTo>
                <a:lnTo>
                  <a:pt x="4493" y="1589"/>
                </a:lnTo>
                <a:lnTo>
                  <a:pt x="4625" y="1624"/>
                </a:lnTo>
                <a:lnTo>
                  <a:pt x="4757" y="1518"/>
                </a:lnTo>
                <a:lnTo>
                  <a:pt x="4889" y="1483"/>
                </a:lnTo>
                <a:lnTo>
                  <a:pt x="5021" y="1448"/>
                </a:lnTo>
                <a:lnTo>
                  <a:pt x="5153" y="1413"/>
                </a:lnTo>
                <a:lnTo>
                  <a:pt x="5286" y="1377"/>
                </a:lnTo>
                <a:lnTo>
                  <a:pt x="5418" y="1342"/>
                </a:lnTo>
                <a:lnTo>
                  <a:pt x="5550" y="1342"/>
                </a:lnTo>
                <a:lnTo>
                  <a:pt x="5682" y="1342"/>
                </a:lnTo>
                <a:lnTo>
                  <a:pt x="5814" y="1377"/>
                </a:lnTo>
                <a:lnTo>
                  <a:pt x="5946" y="1413"/>
                </a:lnTo>
                <a:lnTo>
                  <a:pt x="6078" y="1448"/>
                </a:lnTo>
                <a:lnTo>
                  <a:pt x="6210" y="1448"/>
                </a:lnTo>
                <a:lnTo>
                  <a:pt x="6343" y="1483"/>
                </a:lnTo>
                <a:lnTo>
                  <a:pt x="6475" y="1483"/>
                </a:lnTo>
                <a:lnTo>
                  <a:pt x="6651" y="1448"/>
                </a:lnTo>
                <a:lnTo>
                  <a:pt x="6783" y="1413"/>
                </a:lnTo>
                <a:lnTo>
                  <a:pt x="6915" y="1377"/>
                </a:lnTo>
                <a:lnTo>
                  <a:pt x="7047" y="1377"/>
                </a:lnTo>
                <a:lnTo>
                  <a:pt x="7179" y="1342"/>
                </a:lnTo>
                <a:lnTo>
                  <a:pt x="7312" y="1307"/>
                </a:lnTo>
                <a:lnTo>
                  <a:pt x="7444" y="1272"/>
                </a:lnTo>
                <a:lnTo>
                  <a:pt x="7576" y="1236"/>
                </a:lnTo>
                <a:lnTo>
                  <a:pt x="7708" y="1200"/>
                </a:lnTo>
                <a:lnTo>
                  <a:pt x="7840" y="1165"/>
                </a:lnTo>
                <a:lnTo>
                  <a:pt x="7972" y="1165"/>
                </a:lnTo>
                <a:lnTo>
                  <a:pt x="8104" y="1165"/>
                </a:lnTo>
                <a:lnTo>
                  <a:pt x="8236" y="1165"/>
                </a:lnTo>
                <a:lnTo>
                  <a:pt x="8369" y="1165"/>
                </a:lnTo>
                <a:lnTo>
                  <a:pt x="8501" y="1200"/>
                </a:lnTo>
                <a:lnTo>
                  <a:pt x="8633" y="1236"/>
                </a:lnTo>
                <a:lnTo>
                  <a:pt x="8765" y="1272"/>
                </a:lnTo>
                <a:lnTo>
                  <a:pt x="8897" y="1272"/>
                </a:lnTo>
                <a:lnTo>
                  <a:pt x="9029" y="1272"/>
                </a:lnTo>
                <a:lnTo>
                  <a:pt x="9205" y="1272"/>
                </a:lnTo>
                <a:lnTo>
                  <a:pt x="9382" y="1200"/>
                </a:lnTo>
                <a:lnTo>
                  <a:pt x="9514" y="1165"/>
                </a:lnTo>
                <a:lnTo>
                  <a:pt x="9646" y="1129"/>
                </a:lnTo>
                <a:lnTo>
                  <a:pt x="9822" y="1129"/>
                </a:lnTo>
                <a:lnTo>
                  <a:pt x="9998" y="1165"/>
                </a:lnTo>
                <a:lnTo>
                  <a:pt x="10174" y="1200"/>
                </a:lnTo>
                <a:lnTo>
                  <a:pt x="10306" y="1272"/>
                </a:lnTo>
                <a:lnTo>
                  <a:pt x="10439" y="1307"/>
                </a:lnTo>
                <a:lnTo>
                  <a:pt x="10571" y="1342"/>
                </a:lnTo>
                <a:lnTo>
                  <a:pt x="10704" y="1342"/>
                </a:lnTo>
                <a:lnTo>
                  <a:pt x="10880" y="1272"/>
                </a:lnTo>
                <a:lnTo>
                  <a:pt x="11012" y="1236"/>
                </a:lnTo>
                <a:lnTo>
                  <a:pt x="11144" y="1165"/>
                </a:lnTo>
                <a:lnTo>
                  <a:pt x="11276" y="1129"/>
                </a:lnTo>
                <a:lnTo>
                  <a:pt x="11408" y="1129"/>
                </a:lnTo>
                <a:lnTo>
                  <a:pt x="11585" y="1129"/>
                </a:lnTo>
                <a:lnTo>
                  <a:pt x="11761" y="1129"/>
                </a:lnTo>
                <a:lnTo>
                  <a:pt x="11937" y="1129"/>
                </a:lnTo>
                <a:lnTo>
                  <a:pt x="12069" y="1165"/>
                </a:lnTo>
                <a:lnTo>
                  <a:pt x="12201" y="1165"/>
                </a:lnTo>
                <a:lnTo>
                  <a:pt x="12333" y="1200"/>
                </a:lnTo>
                <a:lnTo>
                  <a:pt x="12466" y="1200"/>
                </a:lnTo>
                <a:lnTo>
                  <a:pt x="12642" y="1200"/>
                </a:lnTo>
                <a:lnTo>
                  <a:pt x="12818" y="1200"/>
                </a:lnTo>
                <a:lnTo>
                  <a:pt x="12950" y="1129"/>
                </a:lnTo>
                <a:lnTo>
                  <a:pt x="13082" y="1094"/>
                </a:lnTo>
                <a:lnTo>
                  <a:pt x="13214" y="1094"/>
                </a:lnTo>
                <a:lnTo>
                  <a:pt x="13346" y="1094"/>
                </a:lnTo>
                <a:lnTo>
                  <a:pt x="13478" y="1094"/>
                </a:lnTo>
                <a:lnTo>
                  <a:pt x="13611" y="1094"/>
                </a:lnTo>
                <a:lnTo>
                  <a:pt x="13743" y="1059"/>
                </a:lnTo>
                <a:lnTo>
                  <a:pt x="13875" y="1024"/>
                </a:lnTo>
                <a:lnTo>
                  <a:pt x="14007" y="988"/>
                </a:lnTo>
                <a:lnTo>
                  <a:pt x="14139" y="918"/>
                </a:lnTo>
                <a:lnTo>
                  <a:pt x="14183" y="812"/>
                </a:lnTo>
                <a:lnTo>
                  <a:pt x="14183" y="706"/>
                </a:lnTo>
                <a:lnTo>
                  <a:pt x="14139" y="600"/>
                </a:lnTo>
                <a:lnTo>
                  <a:pt x="14007" y="494"/>
                </a:lnTo>
                <a:lnTo>
                  <a:pt x="13875" y="494"/>
                </a:lnTo>
                <a:lnTo>
                  <a:pt x="13743" y="459"/>
                </a:lnTo>
                <a:lnTo>
                  <a:pt x="13611" y="459"/>
                </a:lnTo>
                <a:lnTo>
                  <a:pt x="13478" y="424"/>
                </a:lnTo>
                <a:lnTo>
                  <a:pt x="13302" y="352"/>
                </a:lnTo>
                <a:lnTo>
                  <a:pt x="13170" y="317"/>
                </a:lnTo>
                <a:lnTo>
                  <a:pt x="13038" y="246"/>
                </a:lnTo>
                <a:lnTo>
                  <a:pt x="12906" y="211"/>
                </a:lnTo>
                <a:lnTo>
                  <a:pt x="12774" y="176"/>
                </a:lnTo>
                <a:lnTo>
                  <a:pt x="12642" y="211"/>
                </a:lnTo>
                <a:lnTo>
                  <a:pt x="12510" y="211"/>
                </a:lnTo>
                <a:lnTo>
                  <a:pt x="12377" y="211"/>
                </a:lnTo>
                <a:lnTo>
                  <a:pt x="12245" y="211"/>
                </a:lnTo>
                <a:lnTo>
                  <a:pt x="12113" y="211"/>
                </a:lnTo>
                <a:lnTo>
                  <a:pt x="11981" y="211"/>
                </a:lnTo>
                <a:lnTo>
                  <a:pt x="11849" y="211"/>
                </a:lnTo>
                <a:lnTo>
                  <a:pt x="11717" y="246"/>
                </a:lnTo>
                <a:lnTo>
                  <a:pt x="11585" y="246"/>
                </a:lnTo>
                <a:lnTo>
                  <a:pt x="11453" y="211"/>
                </a:lnTo>
                <a:lnTo>
                  <a:pt x="11320" y="211"/>
                </a:lnTo>
                <a:lnTo>
                  <a:pt x="11188" y="176"/>
                </a:lnTo>
                <a:lnTo>
                  <a:pt x="11056" y="176"/>
                </a:lnTo>
                <a:lnTo>
                  <a:pt x="10880" y="211"/>
                </a:lnTo>
                <a:lnTo>
                  <a:pt x="10748" y="246"/>
                </a:lnTo>
                <a:lnTo>
                  <a:pt x="10615" y="246"/>
                </a:lnTo>
                <a:lnTo>
                  <a:pt x="10483" y="246"/>
                </a:lnTo>
                <a:lnTo>
                  <a:pt x="10350" y="282"/>
                </a:lnTo>
                <a:lnTo>
                  <a:pt x="10218" y="282"/>
                </a:lnTo>
                <a:lnTo>
                  <a:pt x="10042" y="282"/>
                </a:lnTo>
                <a:lnTo>
                  <a:pt x="9910" y="282"/>
                </a:lnTo>
                <a:lnTo>
                  <a:pt x="9734" y="282"/>
                </a:lnTo>
                <a:lnTo>
                  <a:pt x="9558" y="211"/>
                </a:lnTo>
                <a:lnTo>
                  <a:pt x="9426" y="211"/>
                </a:lnTo>
                <a:lnTo>
                  <a:pt x="9293" y="211"/>
                </a:lnTo>
                <a:lnTo>
                  <a:pt x="9117" y="211"/>
                </a:lnTo>
                <a:lnTo>
                  <a:pt x="8941" y="211"/>
                </a:lnTo>
                <a:lnTo>
                  <a:pt x="8809" y="246"/>
                </a:lnTo>
                <a:lnTo>
                  <a:pt x="8677" y="282"/>
                </a:lnTo>
                <a:lnTo>
                  <a:pt x="8545" y="246"/>
                </a:lnTo>
                <a:lnTo>
                  <a:pt x="8413" y="246"/>
                </a:lnTo>
                <a:lnTo>
                  <a:pt x="8280" y="211"/>
                </a:lnTo>
                <a:lnTo>
                  <a:pt x="8148" y="211"/>
                </a:lnTo>
                <a:lnTo>
                  <a:pt x="8016" y="211"/>
                </a:lnTo>
                <a:lnTo>
                  <a:pt x="7884" y="211"/>
                </a:lnTo>
                <a:lnTo>
                  <a:pt x="7752" y="211"/>
                </a:lnTo>
                <a:lnTo>
                  <a:pt x="7532" y="176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3638520" y="4448160"/>
            <a:ext cx="1514880" cy="1867320"/>
            <a:chOff x="3638520" y="4448160"/>
            <a:chExt cx="1514880" cy="1867320"/>
          </a:xfrm>
        </p:grpSpPr>
        <p:sp>
          <p:nvSpPr>
            <p:cNvPr id="316" name=""/>
            <p:cNvSpPr/>
            <p:nvPr/>
          </p:nvSpPr>
          <p:spPr>
            <a:xfrm>
              <a:off x="4019400" y="4448160"/>
              <a:ext cx="657720" cy="1724400"/>
            </a:xfrm>
            <a:custGeom>
              <a:avLst/>
              <a:gdLst/>
              <a:ahLst/>
              <a:rect l="0" t="0" r="r" b="b"/>
              <a:pathLst>
                <a:path w="1827" h="4790">
                  <a:moveTo>
                    <a:pt x="0" y="0"/>
                  </a:moveTo>
                  <a:lnTo>
                    <a:pt x="317" y="4790"/>
                  </a:lnTo>
                  <a:lnTo>
                    <a:pt x="1032" y="4790"/>
                  </a:lnTo>
                  <a:lnTo>
                    <a:pt x="927" y="1297"/>
                  </a:lnTo>
                  <a:lnTo>
                    <a:pt x="1032" y="4790"/>
                  </a:lnTo>
                  <a:lnTo>
                    <a:pt x="1827" y="4790"/>
                  </a:lnTo>
                  <a:lnTo>
                    <a:pt x="174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3852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1376" y="185"/>
                  </a:moveTo>
                  <a:lnTo>
                    <a:pt x="978" y="52"/>
                  </a:lnTo>
                  <a:lnTo>
                    <a:pt x="714" y="0"/>
                  </a:lnTo>
                  <a:lnTo>
                    <a:pt x="423" y="105"/>
                  </a:lnTo>
                  <a:lnTo>
                    <a:pt x="132" y="264"/>
                  </a:lnTo>
                  <a:lnTo>
                    <a:pt x="0" y="477"/>
                  </a:lnTo>
                  <a:lnTo>
                    <a:pt x="185" y="583"/>
                  </a:lnTo>
                  <a:lnTo>
                    <a:pt x="2091" y="583"/>
                  </a:lnTo>
                  <a:lnTo>
                    <a:pt x="2091" y="185"/>
                  </a:lnTo>
                  <a:lnTo>
                    <a:pt x="1376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0064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714" y="185"/>
                  </a:moveTo>
                  <a:lnTo>
                    <a:pt x="1112" y="52"/>
                  </a:lnTo>
                  <a:lnTo>
                    <a:pt x="1376" y="0"/>
                  </a:lnTo>
                  <a:lnTo>
                    <a:pt x="1667" y="105"/>
                  </a:lnTo>
                  <a:lnTo>
                    <a:pt x="1958" y="264"/>
                  </a:lnTo>
                  <a:lnTo>
                    <a:pt x="2091" y="477"/>
                  </a:lnTo>
                  <a:lnTo>
                    <a:pt x="1906" y="583"/>
                  </a:lnTo>
                  <a:lnTo>
                    <a:pt x="0" y="583"/>
                  </a:lnTo>
                  <a:lnTo>
                    <a:pt x="0" y="185"/>
                  </a:lnTo>
                  <a:lnTo>
                    <a:pt x="714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681360" y="3200400"/>
            <a:ext cx="509760" cy="1443240"/>
            <a:chOff x="3681360" y="3200400"/>
            <a:chExt cx="509760" cy="1443240"/>
          </a:xfrm>
        </p:grpSpPr>
        <p:sp>
          <p:nvSpPr>
            <p:cNvPr id="320" name=""/>
            <p:cNvSpPr/>
            <p:nvPr/>
          </p:nvSpPr>
          <p:spPr>
            <a:xfrm>
              <a:off x="3705120" y="3200400"/>
              <a:ext cx="486000" cy="1190880"/>
            </a:xfrm>
            <a:custGeom>
              <a:avLst/>
              <a:gdLst/>
              <a:ahLst/>
              <a:rect l="0" t="0" r="r" b="b"/>
              <a:pathLst>
                <a:path w="1350" h="3308">
                  <a:moveTo>
                    <a:pt x="1112" y="0"/>
                  </a:moveTo>
                  <a:lnTo>
                    <a:pt x="1271" y="105"/>
                  </a:lnTo>
                  <a:lnTo>
                    <a:pt x="1350" y="423"/>
                  </a:lnTo>
                  <a:lnTo>
                    <a:pt x="1138" y="1322"/>
                  </a:lnTo>
                  <a:lnTo>
                    <a:pt x="821" y="3308"/>
                  </a:lnTo>
                  <a:lnTo>
                    <a:pt x="0" y="3149"/>
                  </a:lnTo>
                  <a:lnTo>
                    <a:pt x="370" y="1455"/>
                  </a:lnTo>
                  <a:lnTo>
                    <a:pt x="794" y="238"/>
                  </a:lnTo>
                  <a:lnTo>
                    <a:pt x="1112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81360" y="4357800"/>
              <a:ext cx="30492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3895560" y="3048120"/>
            <a:ext cx="981360" cy="1600560"/>
          </a:xfrm>
          <a:custGeom>
            <a:avLst/>
            <a:gdLst/>
            <a:ahLst/>
            <a:rect l="0" t="0" r="r" b="b"/>
            <a:pathLst>
              <a:path w="2726" h="4446">
                <a:moveTo>
                  <a:pt x="953" y="374"/>
                </a:moveTo>
                <a:lnTo>
                  <a:pt x="865" y="392"/>
                </a:lnTo>
                <a:lnTo>
                  <a:pt x="799" y="436"/>
                </a:lnTo>
                <a:lnTo>
                  <a:pt x="672" y="582"/>
                </a:lnTo>
                <a:lnTo>
                  <a:pt x="540" y="723"/>
                </a:lnTo>
                <a:lnTo>
                  <a:pt x="391" y="851"/>
                </a:lnTo>
                <a:lnTo>
                  <a:pt x="369" y="890"/>
                </a:lnTo>
                <a:lnTo>
                  <a:pt x="347" y="930"/>
                </a:lnTo>
                <a:lnTo>
                  <a:pt x="347" y="930"/>
                </a:lnTo>
                <a:lnTo>
                  <a:pt x="369" y="930"/>
                </a:lnTo>
                <a:lnTo>
                  <a:pt x="153" y="1553"/>
                </a:lnTo>
                <a:lnTo>
                  <a:pt x="0" y="4345"/>
                </a:lnTo>
                <a:lnTo>
                  <a:pt x="2726" y="4446"/>
                </a:lnTo>
                <a:lnTo>
                  <a:pt x="2317" y="1844"/>
                </a:lnTo>
                <a:lnTo>
                  <a:pt x="2119" y="414"/>
                </a:lnTo>
                <a:lnTo>
                  <a:pt x="1385" y="0"/>
                </a:lnTo>
                <a:lnTo>
                  <a:pt x="953" y="374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191120" y="3057480"/>
            <a:ext cx="305280" cy="181440"/>
          </a:xfrm>
          <a:custGeom>
            <a:avLst/>
            <a:gdLst/>
            <a:ahLst/>
            <a:rect l="0" t="0" r="r" b="b"/>
            <a:pathLst>
              <a:path w="848" h="504">
                <a:moveTo>
                  <a:pt x="0" y="344"/>
                </a:moveTo>
                <a:lnTo>
                  <a:pt x="239" y="478"/>
                </a:lnTo>
                <a:lnTo>
                  <a:pt x="663" y="504"/>
                </a:lnTo>
                <a:lnTo>
                  <a:pt x="848" y="265"/>
                </a:lnTo>
                <a:lnTo>
                  <a:pt x="848" y="79"/>
                </a:lnTo>
                <a:lnTo>
                  <a:pt x="663" y="0"/>
                </a:lnTo>
                <a:lnTo>
                  <a:pt x="477" y="265"/>
                </a:lnTo>
                <a:lnTo>
                  <a:pt x="185" y="292"/>
                </a:lnTo>
                <a:lnTo>
                  <a:pt x="0" y="344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064040" y="3467160"/>
            <a:ext cx="508320" cy="1740240"/>
            <a:chOff x="4064040" y="3467160"/>
            <a:chExt cx="508320" cy="1740240"/>
          </a:xfrm>
        </p:grpSpPr>
        <p:sp>
          <p:nvSpPr>
            <p:cNvPr id="325" name=""/>
            <p:cNvSpPr/>
            <p:nvPr/>
          </p:nvSpPr>
          <p:spPr>
            <a:xfrm>
              <a:off x="4149720" y="3814920"/>
              <a:ext cx="371880" cy="562320"/>
            </a:xfrm>
            <a:custGeom>
              <a:avLst/>
              <a:gdLst/>
              <a:ahLst/>
              <a:rect l="0" t="0" r="r" b="b"/>
              <a:pathLst>
                <a:path w="1033" h="1562">
                  <a:moveTo>
                    <a:pt x="264" y="62"/>
                  </a:moveTo>
                  <a:lnTo>
                    <a:pt x="317" y="22"/>
                  </a:lnTo>
                  <a:lnTo>
                    <a:pt x="370" y="0"/>
                  </a:lnTo>
                  <a:lnTo>
                    <a:pt x="423" y="22"/>
                  </a:lnTo>
                  <a:lnTo>
                    <a:pt x="505" y="40"/>
                  </a:lnTo>
                  <a:lnTo>
                    <a:pt x="634" y="0"/>
                  </a:lnTo>
                  <a:lnTo>
                    <a:pt x="686" y="0"/>
                  </a:lnTo>
                  <a:lnTo>
                    <a:pt x="769" y="0"/>
                  </a:lnTo>
                  <a:lnTo>
                    <a:pt x="769" y="62"/>
                  </a:lnTo>
                  <a:lnTo>
                    <a:pt x="769" y="80"/>
                  </a:lnTo>
                  <a:lnTo>
                    <a:pt x="686" y="142"/>
                  </a:lnTo>
                  <a:lnTo>
                    <a:pt x="716" y="227"/>
                  </a:lnTo>
                  <a:lnTo>
                    <a:pt x="716" y="289"/>
                  </a:lnTo>
                  <a:lnTo>
                    <a:pt x="769" y="330"/>
                  </a:lnTo>
                  <a:lnTo>
                    <a:pt x="822" y="392"/>
                  </a:lnTo>
                  <a:lnTo>
                    <a:pt x="793" y="535"/>
                  </a:lnTo>
                  <a:lnTo>
                    <a:pt x="739" y="637"/>
                  </a:lnTo>
                  <a:lnTo>
                    <a:pt x="793" y="700"/>
                  </a:lnTo>
                  <a:lnTo>
                    <a:pt x="875" y="780"/>
                  </a:lnTo>
                  <a:lnTo>
                    <a:pt x="951" y="861"/>
                  </a:lnTo>
                  <a:lnTo>
                    <a:pt x="981" y="924"/>
                  </a:lnTo>
                  <a:lnTo>
                    <a:pt x="1004" y="986"/>
                  </a:lnTo>
                  <a:lnTo>
                    <a:pt x="1033" y="1026"/>
                  </a:lnTo>
                  <a:lnTo>
                    <a:pt x="1033" y="1026"/>
                  </a:lnTo>
                  <a:lnTo>
                    <a:pt x="1004" y="1174"/>
                  </a:lnTo>
                  <a:lnTo>
                    <a:pt x="981" y="1294"/>
                  </a:lnTo>
                  <a:lnTo>
                    <a:pt x="951" y="1419"/>
                  </a:lnTo>
                  <a:lnTo>
                    <a:pt x="899" y="1562"/>
                  </a:lnTo>
                  <a:lnTo>
                    <a:pt x="899" y="1521"/>
                  </a:lnTo>
                  <a:lnTo>
                    <a:pt x="899" y="1481"/>
                  </a:lnTo>
                  <a:lnTo>
                    <a:pt x="928" y="1437"/>
                  </a:lnTo>
                  <a:lnTo>
                    <a:pt x="928" y="1419"/>
                  </a:lnTo>
                  <a:lnTo>
                    <a:pt x="899" y="1356"/>
                  </a:lnTo>
                  <a:lnTo>
                    <a:pt x="875" y="1276"/>
                  </a:lnTo>
                  <a:lnTo>
                    <a:pt x="899" y="1214"/>
                  </a:lnTo>
                  <a:lnTo>
                    <a:pt x="928" y="1191"/>
                  </a:lnTo>
                  <a:lnTo>
                    <a:pt x="928" y="1174"/>
                  </a:lnTo>
                  <a:lnTo>
                    <a:pt x="899" y="1049"/>
                  </a:lnTo>
                  <a:lnTo>
                    <a:pt x="846" y="986"/>
                  </a:lnTo>
                  <a:lnTo>
                    <a:pt x="793" y="946"/>
                  </a:lnTo>
                  <a:lnTo>
                    <a:pt x="739" y="884"/>
                  </a:lnTo>
                  <a:lnTo>
                    <a:pt x="686" y="821"/>
                  </a:lnTo>
                  <a:lnTo>
                    <a:pt x="634" y="861"/>
                  </a:lnTo>
                  <a:lnTo>
                    <a:pt x="581" y="884"/>
                  </a:lnTo>
                  <a:lnTo>
                    <a:pt x="528" y="906"/>
                  </a:lnTo>
                  <a:lnTo>
                    <a:pt x="505" y="924"/>
                  </a:lnTo>
                  <a:lnTo>
                    <a:pt x="475" y="924"/>
                  </a:lnTo>
                  <a:lnTo>
                    <a:pt x="475" y="843"/>
                  </a:lnTo>
                  <a:lnTo>
                    <a:pt x="475" y="821"/>
                  </a:lnTo>
                  <a:lnTo>
                    <a:pt x="475" y="803"/>
                  </a:lnTo>
                  <a:lnTo>
                    <a:pt x="505" y="758"/>
                  </a:lnTo>
                  <a:lnTo>
                    <a:pt x="528" y="718"/>
                  </a:lnTo>
                  <a:lnTo>
                    <a:pt x="528" y="718"/>
                  </a:lnTo>
                  <a:lnTo>
                    <a:pt x="528" y="740"/>
                  </a:lnTo>
                  <a:lnTo>
                    <a:pt x="528" y="758"/>
                  </a:lnTo>
                  <a:lnTo>
                    <a:pt x="505" y="780"/>
                  </a:lnTo>
                  <a:lnTo>
                    <a:pt x="452" y="758"/>
                  </a:lnTo>
                  <a:lnTo>
                    <a:pt x="423" y="740"/>
                  </a:lnTo>
                  <a:lnTo>
                    <a:pt x="399" y="740"/>
                  </a:lnTo>
                  <a:lnTo>
                    <a:pt x="370" y="758"/>
                  </a:lnTo>
                  <a:lnTo>
                    <a:pt x="346" y="780"/>
                  </a:lnTo>
                  <a:lnTo>
                    <a:pt x="264" y="718"/>
                  </a:lnTo>
                  <a:lnTo>
                    <a:pt x="240" y="780"/>
                  </a:lnTo>
                  <a:lnTo>
                    <a:pt x="211" y="803"/>
                  </a:lnTo>
                  <a:lnTo>
                    <a:pt x="158" y="780"/>
                  </a:lnTo>
                  <a:lnTo>
                    <a:pt x="52" y="758"/>
                  </a:lnTo>
                  <a:lnTo>
                    <a:pt x="23" y="740"/>
                  </a:lnTo>
                  <a:lnTo>
                    <a:pt x="0" y="700"/>
                  </a:lnTo>
                  <a:lnTo>
                    <a:pt x="23" y="677"/>
                  </a:lnTo>
                  <a:lnTo>
                    <a:pt x="52" y="677"/>
                  </a:lnTo>
                  <a:lnTo>
                    <a:pt x="158" y="700"/>
                  </a:lnTo>
                  <a:lnTo>
                    <a:pt x="264" y="718"/>
                  </a:lnTo>
                  <a:lnTo>
                    <a:pt x="264" y="718"/>
                  </a:lnTo>
                  <a:lnTo>
                    <a:pt x="240" y="700"/>
                  </a:lnTo>
                  <a:lnTo>
                    <a:pt x="211" y="677"/>
                  </a:lnTo>
                  <a:lnTo>
                    <a:pt x="187" y="655"/>
                  </a:lnTo>
                  <a:lnTo>
                    <a:pt x="187" y="637"/>
                  </a:lnTo>
                  <a:lnTo>
                    <a:pt x="187" y="597"/>
                  </a:lnTo>
                  <a:lnTo>
                    <a:pt x="211" y="553"/>
                  </a:lnTo>
                  <a:lnTo>
                    <a:pt x="240" y="535"/>
                  </a:lnTo>
                  <a:lnTo>
                    <a:pt x="240" y="472"/>
                  </a:lnTo>
                  <a:lnTo>
                    <a:pt x="240" y="410"/>
                  </a:lnTo>
                  <a:lnTo>
                    <a:pt x="240" y="267"/>
                  </a:lnTo>
                  <a:lnTo>
                    <a:pt x="187" y="227"/>
                  </a:lnTo>
                  <a:lnTo>
                    <a:pt x="158" y="205"/>
                  </a:lnTo>
                  <a:lnTo>
                    <a:pt x="158" y="182"/>
                  </a:lnTo>
                  <a:lnTo>
                    <a:pt x="187" y="165"/>
                  </a:lnTo>
                  <a:lnTo>
                    <a:pt x="211" y="142"/>
                  </a:lnTo>
                  <a:lnTo>
                    <a:pt x="211" y="124"/>
                  </a:lnTo>
                  <a:lnTo>
                    <a:pt x="264" y="6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32240" y="3998880"/>
              <a:ext cx="117720" cy="122760"/>
            </a:xfrm>
            <a:custGeom>
              <a:avLst/>
              <a:gdLst/>
              <a:ahLst/>
              <a:rect l="0" t="0" r="r" b="b"/>
              <a:pathLst>
                <a:path w="327" h="341">
                  <a:moveTo>
                    <a:pt x="67" y="200"/>
                  </a:moveTo>
                  <a:lnTo>
                    <a:pt x="67" y="140"/>
                  </a:lnTo>
                  <a:lnTo>
                    <a:pt x="101" y="76"/>
                  </a:lnTo>
                  <a:lnTo>
                    <a:pt x="173" y="38"/>
                  </a:lnTo>
                  <a:lnTo>
                    <a:pt x="241" y="0"/>
                  </a:lnTo>
                  <a:lnTo>
                    <a:pt x="278" y="25"/>
                  </a:lnTo>
                  <a:lnTo>
                    <a:pt x="327" y="63"/>
                  </a:lnTo>
                  <a:lnTo>
                    <a:pt x="327" y="89"/>
                  </a:lnTo>
                  <a:lnTo>
                    <a:pt x="327" y="89"/>
                  </a:lnTo>
                  <a:lnTo>
                    <a:pt x="293" y="89"/>
                  </a:lnTo>
                  <a:lnTo>
                    <a:pt x="226" y="127"/>
                  </a:lnTo>
                  <a:lnTo>
                    <a:pt x="153" y="178"/>
                  </a:lnTo>
                  <a:lnTo>
                    <a:pt x="138" y="239"/>
                  </a:lnTo>
                  <a:lnTo>
                    <a:pt x="138" y="265"/>
                  </a:lnTo>
                  <a:lnTo>
                    <a:pt x="120" y="290"/>
                  </a:lnTo>
                  <a:lnTo>
                    <a:pt x="101" y="316"/>
                  </a:lnTo>
                  <a:lnTo>
                    <a:pt x="67" y="328"/>
                  </a:lnTo>
                  <a:lnTo>
                    <a:pt x="48" y="341"/>
                  </a:lnTo>
                  <a:lnTo>
                    <a:pt x="33" y="341"/>
                  </a:lnTo>
                  <a:lnTo>
                    <a:pt x="0" y="316"/>
                  </a:lnTo>
                  <a:lnTo>
                    <a:pt x="0" y="290"/>
                  </a:lnTo>
                  <a:lnTo>
                    <a:pt x="15" y="278"/>
                  </a:lnTo>
                  <a:lnTo>
                    <a:pt x="33" y="226"/>
                  </a:lnTo>
                  <a:lnTo>
                    <a:pt x="48" y="213"/>
                  </a:lnTo>
                  <a:lnTo>
                    <a:pt x="67" y="213"/>
                  </a:lnTo>
                  <a:lnTo>
                    <a:pt x="67" y="20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64040" y="4125960"/>
              <a:ext cx="135360" cy="197280"/>
            </a:xfrm>
            <a:custGeom>
              <a:avLst/>
              <a:gdLst/>
              <a:ahLst/>
              <a:rect l="0" t="0" r="r" b="b"/>
              <a:pathLst>
                <a:path w="376" h="548">
                  <a:moveTo>
                    <a:pt x="285" y="429"/>
                  </a:moveTo>
                  <a:lnTo>
                    <a:pt x="211" y="326"/>
                  </a:lnTo>
                  <a:lnTo>
                    <a:pt x="137" y="207"/>
                  </a:lnTo>
                  <a:lnTo>
                    <a:pt x="137" y="148"/>
                  </a:lnTo>
                  <a:lnTo>
                    <a:pt x="137" y="87"/>
                  </a:lnTo>
                  <a:lnTo>
                    <a:pt x="165" y="42"/>
                  </a:lnTo>
                  <a:lnTo>
                    <a:pt x="211" y="0"/>
                  </a:lnTo>
                  <a:lnTo>
                    <a:pt x="225" y="28"/>
                  </a:lnTo>
                  <a:lnTo>
                    <a:pt x="256" y="42"/>
                  </a:lnTo>
                  <a:lnTo>
                    <a:pt x="270" y="73"/>
                  </a:lnTo>
                  <a:lnTo>
                    <a:pt x="270" y="87"/>
                  </a:lnTo>
                  <a:lnTo>
                    <a:pt x="197" y="119"/>
                  </a:lnTo>
                  <a:lnTo>
                    <a:pt x="120" y="148"/>
                  </a:lnTo>
                  <a:lnTo>
                    <a:pt x="151" y="162"/>
                  </a:lnTo>
                  <a:lnTo>
                    <a:pt x="165" y="162"/>
                  </a:lnTo>
                  <a:lnTo>
                    <a:pt x="197" y="162"/>
                  </a:lnTo>
                  <a:lnTo>
                    <a:pt x="211" y="162"/>
                  </a:lnTo>
                  <a:lnTo>
                    <a:pt x="239" y="179"/>
                  </a:lnTo>
                  <a:lnTo>
                    <a:pt x="299" y="193"/>
                  </a:lnTo>
                  <a:lnTo>
                    <a:pt x="317" y="207"/>
                  </a:lnTo>
                  <a:lnTo>
                    <a:pt x="331" y="207"/>
                  </a:lnTo>
                  <a:lnTo>
                    <a:pt x="359" y="267"/>
                  </a:lnTo>
                  <a:lnTo>
                    <a:pt x="376" y="326"/>
                  </a:lnTo>
                  <a:lnTo>
                    <a:pt x="359" y="372"/>
                  </a:lnTo>
                  <a:lnTo>
                    <a:pt x="331" y="400"/>
                  </a:lnTo>
                  <a:lnTo>
                    <a:pt x="239" y="447"/>
                  </a:lnTo>
                  <a:lnTo>
                    <a:pt x="137" y="475"/>
                  </a:lnTo>
                  <a:lnTo>
                    <a:pt x="106" y="506"/>
                  </a:lnTo>
                  <a:lnTo>
                    <a:pt x="59" y="534"/>
                  </a:lnTo>
                  <a:lnTo>
                    <a:pt x="31" y="548"/>
                  </a:lnTo>
                  <a:lnTo>
                    <a:pt x="17" y="534"/>
                  </a:lnTo>
                  <a:lnTo>
                    <a:pt x="0" y="506"/>
                  </a:lnTo>
                  <a:lnTo>
                    <a:pt x="59" y="475"/>
                  </a:lnTo>
                  <a:lnTo>
                    <a:pt x="106" y="475"/>
                  </a:lnTo>
                  <a:lnTo>
                    <a:pt x="151" y="461"/>
                  </a:lnTo>
                  <a:lnTo>
                    <a:pt x="211" y="429"/>
                  </a:lnTo>
                  <a:lnTo>
                    <a:pt x="239" y="400"/>
                  </a:lnTo>
                  <a:lnTo>
                    <a:pt x="239" y="386"/>
                  </a:lnTo>
                  <a:lnTo>
                    <a:pt x="256" y="400"/>
                  </a:lnTo>
                  <a:lnTo>
                    <a:pt x="285" y="429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14800" y="4492800"/>
              <a:ext cx="200520" cy="81360"/>
            </a:xfrm>
            <a:custGeom>
              <a:avLst/>
              <a:gdLst/>
              <a:ahLst/>
              <a:rect l="0" t="0" r="r" b="b"/>
              <a:pathLst>
                <a:path w="557" h="226">
                  <a:moveTo>
                    <a:pt x="422" y="49"/>
                  </a:moveTo>
                  <a:lnTo>
                    <a:pt x="377" y="99"/>
                  </a:lnTo>
                  <a:lnTo>
                    <a:pt x="346" y="127"/>
                  </a:lnTo>
                  <a:lnTo>
                    <a:pt x="316" y="77"/>
                  </a:lnTo>
                  <a:lnTo>
                    <a:pt x="272" y="27"/>
                  </a:lnTo>
                  <a:lnTo>
                    <a:pt x="135" y="77"/>
                  </a:lnTo>
                  <a:lnTo>
                    <a:pt x="0" y="154"/>
                  </a:lnTo>
                  <a:lnTo>
                    <a:pt x="13" y="226"/>
                  </a:lnTo>
                  <a:lnTo>
                    <a:pt x="60" y="226"/>
                  </a:lnTo>
                  <a:lnTo>
                    <a:pt x="167" y="226"/>
                  </a:lnTo>
                  <a:lnTo>
                    <a:pt x="180" y="204"/>
                  </a:lnTo>
                  <a:lnTo>
                    <a:pt x="224" y="177"/>
                  </a:lnTo>
                  <a:lnTo>
                    <a:pt x="255" y="154"/>
                  </a:lnTo>
                  <a:lnTo>
                    <a:pt x="272" y="154"/>
                  </a:lnTo>
                  <a:lnTo>
                    <a:pt x="302" y="177"/>
                  </a:lnTo>
                  <a:lnTo>
                    <a:pt x="346" y="204"/>
                  </a:lnTo>
                  <a:lnTo>
                    <a:pt x="377" y="226"/>
                  </a:lnTo>
                  <a:lnTo>
                    <a:pt x="390" y="226"/>
                  </a:lnTo>
                  <a:lnTo>
                    <a:pt x="435" y="226"/>
                  </a:lnTo>
                  <a:lnTo>
                    <a:pt x="483" y="204"/>
                  </a:lnTo>
                  <a:lnTo>
                    <a:pt x="496" y="154"/>
                  </a:lnTo>
                  <a:lnTo>
                    <a:pt x="540" y="49"/>
                  </a:lnTo>
                  <a:lnTo>
                    <a:pt x="557" y="27"/>
                  </a:lnTo>
                  <a:lnTo>
                    <a:pt x="557" y="0"/>
                  </a:lnTo>
                  <a:lnTo>
                    <a:pt x="540" y="27"/>
                  </a:lnTo>
                  <a:lnTo>
                    <a:pt x="513" y="49"/>
                  </a:lnTo>
                  <a:lnTo>
                    <a:pt x="483" y="127"/>
                  </a:lnTo>
                  <a:lnTo>
                    <a:pt x="452" y="177"/>
                  </a:lnTo>
                  <a:lnTo>
                    <a:pt x="435" y="177"/>
                  </a:lnTo>
                  <a:lnTo>
                    <a:pt x="422" y="177"/>
                  </a:lnTo>
                  <a:lnTo>
                    <a:pt x="422" y="127"/>
                  </a:lnTo>
                  <a:lnTo>
                    <a:pt x="422" y="49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08320" y="3924360"/>
              <a:ext cx="187560" cy="170280"/>
            </a:xfrm>
            <a:custGeom>
              <a:avLst/>
              <a:gdLst/>
              <a:ahLst/>
              <a:rect l="0" t="0" r="r" b="b"/>
              <a:pathLst>
                <a:path w="521" h="473">
                  <a:moveTo>
                    <a:pt x="435" y="447"/>
                  </a:moveTo>
                  <a:lnTo>
                    <a:pt x="422" y="315"/>
                  </a:lnTo>
                  <a:lnTo>
                    <a:pt x="422" y="198"/>
                  </a:lnTo>
                  <a:lnTo>
                    <a:pt x="422" y="144"/>
                  </a:lnTo>
                  <a:lnTo>
                    <a:pt x="393" y="90"/>
                  </a:lnTo>
                  <a:lnTo>
                    <a:pt x="364" y="40"/>
                  </a:lnTo>
                  <a:lnTo>
                    <a:pt x="310" y="0"/>
                  </a:lnTo>
                  <a:lnTo>
                    <a:pt x="323" y="90"/>
                  </a:lnTo>
                  <a:lnTo>
                    <a:pt x="352" y="131"/>
                  </a:lnTo>
                  <a:lnTo>
                    <a:pt x="380" y="185"/>
                  </a:lnTo>
                  <a:lnTo>
                    <a:pt x="265" y="248"/>
                  </a:lnTo>
                  <a:lnTo>
                    <a:pt x="153" y="288"/>
                  </a:lnTo>
                  <a:lnTo>
                    <a:pt x="124" y="275"/>
                  </a:lnTo>
                  <a:lnTo>
                    <a:pt x="98" y="262"/>
                  </a:lnTo>
                  <a:lnTo>
                    <a:pt x="70" y="238"/>
                  </a:lnTo>
                  <a:lnTo>
                    <a:pt x="28" y="198"/>
                  </a:lnTo>
                  <a:lnTo>
                    <a:pt x="12" y="158"/>
                  </a:lnTo>
                  <a:lnTo>
                    <a:pt x="0" y="144"/>
                  </a:lnTo>
                  <a:lnTo>
                    <a:pt x="0" y="198"/>
                  </a:lnTo>
                  <a:lnTo>
                    <a:pt x="12" y="225"/>
                  </a:lnTo>
                  <a:lnTo>
                    <a:pt x="54" y="275"/>
                  </a:lnTo>
                  <a:lnTo>
                    <a:pt x="124" y="288"/>
                  </a:lnTo>
                  <a:lnTo>
                    <a:pt x="210" y="302"/>
                  </a:lnTo>
                  <a:lnTo>
                    <a:pt x="239" y="315"/>
                  </a:lnTo>
                  <a:lnTo>
                    <a:pt x="252" y="328"/>
                  </a:lnTo>
                  <a:lnTo>
                    <a:pt x="281" y="356"/>
                  </a:lnTo>
                  <a:lnTo>
                    <a:pt x="294" y="383"/>
                  </a:lnTo>
                  <a:lnTo>
                    <a:pt x="310" y="406"/>
                  </a:lnTo>
                  <a:lnTo>
                    <a:pt x="336" y="420"/>
                  </a:lnTo>
                  <a:lnTo>
                    <a:pt x="380" y="383"/>
                  </a:lnTo>
                  <a:lnTo>
                    <a:pt x="393" y="356"/>
                  </a:lnTo>
                  <a:lnTo>
                    <a:pt x="406" y="315"/>
                  </a:lnTo>
                  <a:lnTo>
                    <a:pt x="422" y="262"/>
                  </a:lnTo>
                  <a:lnTo>
                    <a:pt x="406" y="238"/>
                  </a:lnTo>
                  <a:lnTo>
                    <a:pt x="406" y="238"/>
                  </a:lnTo>
                  <a:lnTo>
                    <a:pt x="393" y="248"/>
                  </a:lnTo>
                  <a:lnTo>
                    <a:pt x="364" y="275"/>
                  </a:lnTo>
                  <a:lnTo>
                    <a:pt x="352" y="315"/>
                  </a:lnTo>
                  <a:lnTo>
                    <a:pt x="406" y="383"/>
                  </a:lnTo>
                  <a:lnTo>
                    <a:pt x="435" y="396"/>
                  </a:lnTo>
                  <a:lnTo>
                    <a:pt x="463" y="406"/>
                  </a:lnTo>
                  <a:lnTo>
                    <a:pt x="476" y="420"/>
                  </a:lnTo>
                  <a:lnTo>
                    <a:pt x="505" y="433"/>
                  </a:lnTo>
                  <a:lnTo>
                    <a:pt x="521" y="433"/>
                  </a:lnTo>
                  <a:lnTo>
                    <a:pt x="521" y="447"/>
                  </a:lnTo>
                  <a:lnTo>
                    <a:pt x="492" y="460"/>
                  </a:lnTo>
                  <a:lnTo>
                    <a:pt x="463" y="460"/>
                  </a:lnTo>
                  <a:lnTo>
                    <a:pt x="393" y="460"/>
                  </a:lnTo>
                  <a:lnTo>
                    <a:pt x="393" y="473"/>
                  </a:lnTo>
                  <a:lnTo>
                    <a:pt x="380" y="473"/>
                  </a:lnTo>
                  <a:lnTo>
                    <a:pt x="364" y="473"/>
                  </a:lnTo>
                  <a:lnTo>
                    <a:pt x="364" y="473"/>
                  </a:lnTo>
                  <a:lnTo>
                    <a:pt x="406" y="460"/>
                  </a:lnTo>
                  <a:lnTo>
                    <a:pt x="435" y="44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06880" y="4767120"/>
              <a:ext cx="89280" cy="236880"/>
            </a:xfrm>
            <a:custGeom>
              <a:avLst/>
              <a:gdLst/>
              <a:ahLst/>
              <a:rect l="0" t="0" r="r" b="b"/>
              <a:pathLst>
                <a:path w="248" h="658">
                  <a:moveTo>
                    <a:pt x="124" y="16"/>
                  </a:moveTo>
                  <a:lnTo>
                    <a:pt x="111" y="83"/>
                  </a:lnTo>
                  <a:lnTo>
                    <a:pt x="82" y="137"/>
                  </a:lnTo>
                  <a:lnTo>
                    <a:pt x="42" y="291"/>
                  </a:lnTo>
                  <a:lnTo>
                    <a:pt x="0" y="450"/>
                  </a:lnTo>
                  <a:lnTo>
                    <a:pt x="12" y="500"/>
                  </a:lnTo>
                  <a:lnTo>
                    <a:pt x="42" y="537"/>
                  </a:lnTo>
                  <a:lnTo>
                    <a:pt x="69" y="570"/>
                  </a:lnTo>
                  <a:lnTo>
                    <a:pt x="111" y="604"/>
                  </a:lnTo>
                  <a:lnTo>
                    <a:pt x="153" y="624"/>
                  </a:lnTo>
                  <a:lnTo>
                    <a:pt x="179" y="624"/>
                  </a:lnTo>
                  <a:lnTo>
                    <a:pt x="179" y="641"/>
                  </a:lnTo>
                  <a:lnTo>
                    <a:pt x="179" y="658"/>
                  </a:lnTo>
                  <a:lnTo>
                    <a:pt x="153" y="658"/>
                  </a:lnTo>
                  <a:lnTo>
                    <a:pt x="111" y="641"/>
                  </a:lnTo>
                  <a:lnTo>
                    <a:pt x="111" y="483"/>
                  </a:lnTo>
                  <a:lnTo>
                    <a:pt x="98" y="466"/>
                  </a:lnTo>
                  <a:lnTo>
                    <a:pt x="98" y="450"/>
                  </a:lnTo>
                  <a:lnTo>
                    <a:pt x="124" y="433"/>
                  </a:lnTo>
                  <a:lnTo>
                    <a:pt x="166" y="396"/>
                  </a:lnTo>
                  <a:lnTo>
                    <a:pt x="209" y="379"/>
                  </a:lnTo>
                  <a:lnTo>
                    <a:pt x="235" y="379"/>
                  </a:lnTo>
                  <a:lnTo>
                    <a:pt x="248" y="346"/>
                  </a:lnTo>
                  <a:lnTo>
                    <a:pt x="248" y="311"/>
                  </a:lnTo>
                  <a:lnTo>
                    <a:pt x="235" y="291"/>
                  </a:lnTo>
                  <a:lnTo>
                    <a:pt x="193" y="274"/>
                  </a:lnTo>
                  <a:lnTo>
                    <a:pt x="166" y="291"/>
                  </a:lnTo>
                  <a:lnTo>
                    <a:pt x="153" y="328"/>
                  </a:lnTo>
                  <a:lnTo>
                    <a:pt x="124" y="379"/>
                  </a:lnTo>
                  <a:lnTo>
                    <a:pt x="82" y="328"/>
                  </a:lnTo>
                  <a:lnTo>
                    <a:pt x="69" y="311"/>
                  </a:lnTo>
                  <a:lnTo>
                    <a:pt x="98" y="274"/>
                  </a:lnTo>
                  <a:lnTo>
                    <a:pt x="137" y="241"/>
                  </a:lnTo>
                  <a:lnTo>
                    <a:pt x="153" y="224"/>
                  </a:lnTo>
                  <a:lnTo>
                    <a:pt x="166" y="207"/>
                  </a:lnTo>
                  <a:lnTo>
                    <a:pt x="222" y="0"/>
                  </a:lnTo>
                  <a:lnTo>
                    <a:pt x="209" y="33"/>
                  </a:lnTo>
                  <a:lnTo>
                    <a:pt x="166" y="67"/>
                  </a:lnTo>
                  <a:lnTo>
                    <a:pt x="137" y="67"/>
                  </a:lnTo>
                  <a:lnTo>
                    <a:pt x="124" y="50"/>
                  </a:lnTo>
                  <a:lnTo>
                    <a:pt x="124" y="16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54560" y="5033880"/>
              <a:ext cx="70200" cy="173520"/>
            </a:xfrm>
            <a:custGeom>
              <a:avLst/>
              <a:gdLst/>
              <a:ahLst/>
              <a:rect l="0" t="0" r="r" b="b"/>
              <a:pathLst>
                <a:path w="195" h="482">
                  <a:moveTo>
                    <a:pt x="98" y="71"/>
                  </a:moveTo>
                  <a:lnTo>
                    <a:pt x="69" y="125"/>
                  </a:lnTo>
                  <a:lnTo>
                    <a:pt x="54" y="161"/>
                  </a:lnTo>
                  <a:lnTo>
                    <a:pt x="42" y="197"/>
                  </a:lnTo>
                  <a:lnTo>
                    <a:pt x="27" y="249"/>
                  </a:lnTo>
                  <a:lnTo>
                    <a:pt x="15" y="285"/>
                  </a:lnTo>
                  <a:lnTo>
                    <a:pt x="0" y="321"/>
                  </a:lnTo>
                  <a:lnTo>
                    <a:pt x="0" y="321"/>
                  </a:lnTo>
                  <a:lnTo>
                    <a:pt x="27" y="374"/>
                  </a:lnTo>
                  <a:lnTo>
                    <a:pt x="54" y="430"/>
                  </a:lnTo>
                  <a:lnTo>
                    <a:pt x="140" y="482"/>
                  </a:lnTo>
                  <a:lnTo>
                    <a:pt x="113" y="446"/>
                  </a:lnTo>
                  <a:lnTo>
                    <a:pt x="98" y="410"/>
                  </a:lnTo>
                  <a:lnTo>
                    <a:pt x="98" y="394"/>
                  </a:lnTo>
                  <a:lnTo>
                    <a:pt x="125" y="337"/>
                  </a:lnTo>
                  <a:lnTo>
                    <a:pt x="98" y="321"/>
                  </a:lnTo>
                  <a:lnTo>
                    <a:pt x="98" y="285"/>
                  </a:lnTo>
                  <a:lnTo>
                    <a:pt x="113" y="269"/>
                  </a:lnTo>
                  <a:lnTo>
                    <a:pt x="140" y="249"/>
                  </a:lnTo>
                  <a:lnTo>
                    <a:pt x="167" y="213"/>
                  </a:lnTo>
                  <a:lnTo>
                    <a:pt x="195" y="177"/>
                  </a:lnTo>
                  <a:lnTo>
                    <a:pt x="195" y="161"/>
                  </a:lnTo>
                  <a:lnTo>
                    <a:pt x="195" y="125"/>
                  </a:lnTo>
                  <a:lnTo>
                    <a:pt x="182" y="71"/>
                  </a:lnTo>
                  <a:lnTo>
                    <a:pt x="140" y="19"/>
                  </a:lnTo>
                  <a:lnTo>
                    <a:pt x="113" y="0"/>
                  </a:lnTo>
                  <a:lnTo>
                    <a:pt x="113" y="19"/>
                  </a:lnTo>
                  <a:lnTo>
                    <a:pt x="98" y="35"/>
                  </a:lnTo>
                  <a:lnTo>
                    <a:pt x="98" y="71"/>
                  </a:lnTo>
                  <a:lnTo>
                    <a:pt x="98" y="88"/>
                  </a:lnTo>
                  <a:lnTo>
                    <a:pt x="98" y="88"/>
                  </a:lnTo>
                  <a:lnTo>
                    <a:pt x="98" y="7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21000" y="4422600"/>
              <a:ext cx="351360" cy="225720"/>
            </a:xfrm>
            <a:custGeom>
              <a:avLst/>
              <a:gdLst/>
              <a:ahLst/>
              <a:rect l="0" t="0" r="r" b="b"/>
              <a:pathLst>
                <a:path w="976" h="627">
                  <a:moveTo>
                    <a:pt x="561" y="145"/>
                  </a:moveTo>
                  <a:lnTo>
                    <a:pt x="534" y="286"/>
                  </a:lnTo>
                  <a:lnTo>
                    <a:pt x="503" y="359"/>
                  </a:lnTo>
                  <a:lnTo>
                    <a:pt x="457" y="413"/>
                  </a:lnTo>
                  <a:lnTo>
                    <a:pt x="399" y="394"/>
                  </a:lnTo>
                  <a:lnTo>
                    <a:pt x="371" y="375"/>
                  </a:lnTo>
                  <a:lnTo>
                    <a:pt x="325" y="375"/>
                  </a:lnTo>
                  <a:lnTo>
                    <a:pt x="267" y="394"/>
                  </a:lnTo>
                  <a:lnTo>
                    <a:pt x="208" y="447"/>
                  </a:lnTo>
                  <a:lnTo>
                    <a:pt x="134" y="466"/>
                  </a:lnTo>
                  <a:lnTo>
                    <a:pt x="0" y="539"/>
                  </a:lnTo>
                  <a:lnTo>
                    <a:pt x="0" y="573"/>
                  </a:lnTo>
                  <a:lnTo>
                    <a:pt x="15" y="608"/>
                  </a:lnTo>
                  <a:lnTo>
                    <a:pt x="73" y="627"/>
                  </a:lnTo>
                  <a:lnTo>
                    <a:pt x="147" y="608"/>
                  </a:lnTo>
                  <a:lnTo>
                    <a:pt x="208" y="592"/>
                  </a:lnTo>
                  <a:lnTo>
                    <a:pt x="356" y="539"/>
                  </a:lnTo>
                  <a:lnTo>
                    <a:pt x="488" y="466"/>
                  </a:lnTo>
                  <a:lnTo>
                    <a:pt x="534" y="466"/>
                  </a:lnTo>
                  <a:lnTo>
                    <a:pt x="577" y="485"/>
                  </a:lnTo>
                  <a:lnTo>
                    <a:pt x="620" y="501"/>
                  </a:lnTo>
                  <a:lnTo>
                    <a:pt x="650" y="539"/>
                  </a:lnTo>
                  <a:lnTo>
                    <a:pt x="708" y="573"/>
                  </a:lnTo>
                  <a:lnTo>
                    <a:pt x="724" y="539"/>
                  </a:lnTo>
                  <a:lnTo>
                    <a:pt x="740" y="520"/>
                  </a:lnTo>
                  <a:lnTo>
                    <a:pt x="771" y="520"/>
                  </a:lnTo>
                  <a:lnTo>
                    <a:pt x="814" y="520"/>
                  </a:lnTo>
                  <a:lnTo>
                    <a:pt x="844" y="520"/>
                  </a:lnTo>
                  <a:lnTo>
                    <a:pt x="872" y="485"/>
                  </a:lnTo>
                  <a:lnTo>
                    <a:pt x="902" y="413"/>
                  </a:lnTo>
                  <a:lnTo>
                    <a:pt x="933" y="321"/>
                  </a:lnTo>
                  <a:lnTo>
                    <a:pt x="961" y="232"/>
                  </a:lnTo>
                  <a:lnTo>
                    <a:pt x="976" y="198"/>
                  </a:lnTo>
                  <a:lnTo>
                    <a:pt x="976" y="179"/>
                  </a:lnTo>
                  <a:lnTo>
                    <a:pt x="933" y="160"/>
                  </a:lnTo>
                  <a:lnTo>
                    <a:pt x="872" y="145"/>
                  </a:lnTo>
                  <a:lnTo>
                    <a:pt x="814" y="126"/>
                  </a:lnTo>
                  <a:lnTo>
                    <a:pt x="783" y="126"/>
                  </a:lnTo>
                  <a:lnTo>
                    <a:pt x="755" y="106"/>
                  </a:lnTo>
                  <a:lnTo>
                    <a:pt x="708" y="91"/>
                  </a:lnTo>
                  <a:lnTo>
                    <a:pt x="708" y="53"/>
                  </a:lnTo>
                  <a:lnTo>
                    <a:pt x="696" y="19"/>
                  </a:lnTo>
                  <a:lnTo>
                    <a:pt x="635" y="0"/>
                  </a:lnTo>
                  <a:lnTo>
                    <a:pt x="561" y="0"/>
                  </a:lnTo>
                  <a:lnTo>
                    <a:pt x="503" y="0"/>
                  </a:lnTo>
                  <a:lnTo>
                    <a:pt x="518" y="38"/>
                  </a:lnTo>
                  <a:lnTo>
                    <a:pt x="518" y="53"/>
                  </a:lnTo>
                  <a:lnTo>
                    <a:pt x="561" y="145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05160" y="3508200"/>
              <a:ext cx="93960" cy="73440"/>
            </a:xfrm>
            <a:custGeom>
              <a:avLst/>
              <a:gdLst/>
              <a:ahLst/>
              <a:rect l="0" t="0" r="r" b="b"/>
              <a:pathLst>
                <a:path w="261" h="204">
                  <a:moveTo>
                    <a:pt x="208" y="121"/>
                  </a:moveTo>
                  <a:lnTo>
                    <a:pt x="208" y="85"/>
                  </a:lnTo>
                  <a:lnTo>
                    <a:pt x="177" y="46"/>
                  </a:lnTo>
                  <a:lnTo>
                    <a:pt x="123" y="23"/>
                  </a:lnTo>
                  <a:lnTo>
                    <a:pt x="70" y="0"/>
                  </a:lnTo>
                  <a:lnTo>
                    <a:pt x="39" y="15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6" y="54"/>
                  </a:lnTo>
                  <a:lnTo>
                    <a:pt x="79" y="78"/>
                  </a:lnTo>
                  <a:lnTo>
                    <a:pt x="137" y="106"/>
                  </a:lnTo>
                  <a:lnTo>
                    <a:pt x="150" y="144"/>
                  </a:lnTo>
                  <a:lnTo>
                    <a:pt x="150" y="158"/>
                  </a:lnTo>
                  <a:lnTo>
                    <a:pt x="164" y="174"/>
                  </a:lnTo>
                  <a:lnTo>
                    <a:pt x="177" y="189"/>
                  </a:lnTo>
                  <a:lnTo>
                    <a:pt x="208" y="197"/>
                  </a:lnTo>
                  <a:lnTo>
                    <a:pt x="221" y="204"/>
                  </a:lnTo>
                  <a:lnTo>
                    <a:pt x="234" y="204"/>
                  </a:lnTo>
                  <a:lnTo>
                    <a:pt x="261" y="189"/>
                  </a:lnTo>
                  <a:lnTo>
                    <a:pt x="261" y="174"/>
                  </a:lnTo>
                  <a:lnTo>
                    <a:pt x="247" y="166"/>
                  </a:lnTo>
                  <a:lnTo>
                    <a:pt x="234" y="137"/>
                  </a:lnTo>
                  <a:lnTo>
                    <a:pt x="221" y="129"/>
                  </a:lnTo>
                  <a:lnTo>
                    <a:pt x="208" y="129"/>
                  </a:lnTo>
                  <a:lnTo>
                    <a:pt x="208" y="12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59320" y="3584520"/>
              <a:ext cx="113040" cy="106560"/>
            </a:xfrm>
            <a:custGeom>
              <a:avLst/>
              <a:gdLst/>
              <a:ahLst/>
              <a:rect l="0" t="0" r="r" b="b"/>
              <a:pathLst>
                <a:path w="314" h="296">
                  <a:moveTo>
                    <a:pt x="74" y="232"/>
                  </a:moveTo>
                  <a:lnTo>
                    <a:pt x="136" y="178"/>
                  </a:lnTo>
                  <a:lnTo>
                    <a:pt x="199" y="113"/>
                  </a:lnTo>
                  <a:lnTo>
                    <a:pt x="199" y="79"/>
                  </a:lnTo>
                  <a:lnTo>
                    <a:pt x="199" y="46"/>
                  </a:lnTo>
                  <a:lnTo>
                    <a:pt x="177" y="23"/>
                  </a:lnTo>
                  <a:lnTo>
                    <a:pt x="136" y="0"/>
                  </a:lnTo>
                  <a:lnTo>
                    <a:pt x="123" y="15"/>
                  </a:lnTo>
                  <a:lnTo>
                    <a:pt x="97" y="23"/>
                  </a:lnTo>
                  <a:lnTo>
                    <a:pt x="88" y="41"/>
                  </a:lnTo>
                  <a:lnTo>
                    <a:pt x="88" y="46"/>
                  </a:lnTo>
                  <a:lnTo>
                    <a:pt x="149" y="64"/>
                  </a:lnTo>
                  <a:lnTo>
                    <a:pt x="212" y="79"/>
                  </a:lnTo>
                  <a:lnTo>
                    <a:pt x="186" y="87"/>
                  </a:lnTo>
                  <a:lnTo>
                    <a:pt x="177" y="87"/>
                  </a:lnTo>
                  <a:lnTo>
                    <a:pt x="149" y="87"/>
                  </a:lnTo>
                  <a:lnTo>
                    <a:pt x="136" y="87"/>
                  </a:lnTo>
                  <a:lnTo>
                    <a:pt x="114" y="97"/>
                  </a:lnTo>
                  <a:lnTo>
                    <a:pt x="61" y="105"/>
                  </a:lnTo>
                  <a:lnTo>
                    <a:pt x="48" y="113"/>
                  </a:lnTo>
                  <a:lnTo>
                    <a:pt x="35" y="113"/>
                  </a:lnTo>
                  <a:lnTo>
                    <a:pt x="13" y="143"/>
                  </a:lnTo>
                  <a:lnTo>
                    <a:pt x="0" y="178"/>
                  </a:lnTo>
                  <a:lnTo>
                    <a:pt x="13" y="201"/>
                  </a:lnTo>
                  <a:lnTo>
                    <a:pt x="35" y="216"/>
                  </a:lnTo>
                  <a:lnTo>
                    <a:pt x="114" y="242"/>
                  </a:lnTo>
                  <a:lnTo>
                    <a:pt x="199" y="257"/>
                  </a:lnTo>
                  <a:lnTo>
                    <a:pt x="225" y="273"/>
                  </a:lnTo>
                  <a:lnTo>
                    <a:pt x="265" y="288"/>
                  </a:lnTo>
                  <a:lnTo>
                    <a:pt x="287" y="296"/>
                  </a:lnTo>
                  <a:lnTo>
                    <a:pt x="300" y="288"/>
                  </a:lnTo>
                  <a:lnTo>
                    <a:pt x="314" y="273"/>
                  </a:lnTo>
                  <a:lnTo>
                    <a:pt x="265" y="257"/>
                  </a:lnTo>
                  <a:lnTo>
                    <a:pt x="225" y="257"/>
                  </a:lnTo>
                  <a:lnTo>
                    <a:pt x="186" y="250"/>
                  </a:lnTo>
                  <a:lnTo>
                    <a:pt x="136" y="232"/>
                  </a:lnTo>
                  <a:lnTo>
                    <a:pt x="114" y="216"/>
                  </a:lnTo>
                  <a:lnTo>
                    <a:pt x="114" y="209"/>
                  </a:lnTo>
                  <a:lnTo>
                    <a:pt x="97" y="216"/>
                  </a:lnTo>
                  <a:lnTo>
                    <a:pt x="74" y="23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43400" y="3808440"/>
              <a:ext cx="174960" cy="28800"/>
            </a:xfrm>
            <a:custGeom>
              <a:avLst/>
              <a:gdLst/>
              <a:ahLst/>
              <a:rect l="0" t="0" r="r" b="b"/>
              <a:pathLst>
                <a:path w="486" h="80">
                  <a:moveTo>
                    <a:pt x="119" y="18"/>
                  </a:moveTo>
                  <a:lnTo>
                    <a:pt x="158" y="34"/>
                  </a:lnTo>
                  <a:lnTo>
                    <a:pt x="185" y="45"/>
                  </a:lnTo>
                  <a:lnTo>
                    <a:pt x="211" y="26"/>
                  </a:lnTo>
                  <a:lnTo>
                    <a:pt x="247" y="10"/>
                  </a:lnTo>
                  <a:lnTo>
                    <a:pt x="367" y="26"/>
                  </a:lnTo>
                  <a:lnTo>
                    <a:pt x="486" y="56"/>
                  </a:lnTo>
                  <a:lnTo>
                    <a:pt x="477" y="80"/>
                  </a:lnTo>
                  <a:lnTo>
                    <a:pt x="433" y="80"/>
                  </a:lnTo>
                  <a:lnTo>
                    <a:pt x="340" y="80"/>
                  </a:lnTo>
                  <a:lnTo>
                    <a:pt x="331" y="72"/>
                  </a:lnTo>
                  <a:lnTo>
                    <a:pt x="292" y="61"/>
                  </a:lnTo>
                  <a:lnTo>
                    <a:pt x="265" y="56"/>
                  </a:lnTo>
                  <a:lnTo>
                    <a:pt x="247" y="56"/>
                  </a:lnTo>
                  <a:lnTo>
                    <a:pt x="220" y="61"/>
                  </a:lnTo>
                  <a:lnTo>
                    <a:pt x="185" y="72"/>
                  </a:lnTo>
                  <a:lnTo>
                    <a:pt x="158" y="80"/>
                  </a:lnTo>
                  <a:lnTo>
                    <a:pt x="145" y="80"/>
                  </a:lnTo>
                  <a:lnTo>
                    <a:pt x="105" y="80"/>
                  </a:lnTo>
                  <a:lnTo>
                    <a:pt x="66" y="72"/>
                  </a:lnTo>
                  <a:lnTo>
                    <a:pt x="52" y="56"/>
                  </a:lnTo>
                  <a:lnTo>
                    <a:pt x="13" y="18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39" y="18"/>
                  </a:lnTo>
                  <a:lnTo>
                    <a:pt x="66" y="45"/>
                  </a:lnTo>
                  <a:lnTo>
                    <a:pt x="92" y="61"/>
                  </a:lnTo>
                  <a:lnTo>
                    <a:pt x="105" y="61"/>
                  </a:lnTo>
                  <a:lnTo>
                    <a:pt x="119" y="61"/>
                  </a:lnTo>
                  <a:lnTo>
                    <a:pt x="119" y="45"/>
                  </a:lnTo>
                  <a:lnTo>
                    <a:pt x="119" y="18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43400" y="3467160"/>
              <a:ext cx="173520" cy="97200"/>
            </a:xfrm>
            <a:custGeom>
              <a:avLst/>
              <a:gdLst/>
              <a:ahLst/>
              <a:rect l="0" t="0" r="r" b="b"/>
              <a:pathLst>
                <a:path w="482" h="270">
                  <a:moveTo>
                    <a:pt x="79" y="255"/>
                  </a:moveTo>
                  <a:lnTo>
                    <a:pt x="92" y="179"/>
                  </a:lnTo>
                  <a:lnTo>
                    <a:pt x="92" y="112"/>
                  </a:lnTo>
                  <a:lnTo>
                    <a:pt x="92" y="81"/>
                  </a:lnTo>
                  <a:lnTo>
                    <a:pt x="119" y="51"/>
                  </a:lnTo>
                  <a:lnTo>
                    <a:pt x="146" y="20"/>
                  </a:lnTo>
                  <a:lnTo>
                    <a:pt x="195" y="0"/>
                  </a:lnTo>
                  <a:lnTo>
                    <a:pt x="186" y="51"/>
                  </a:lnTo>
                  <a:lnTo>
                    <a:pt x="159" y="73"/>
                  </a:lnTo>
                  <a:lnTo>
                    <a:pt x="133" y="104"/>
                  </a:lnTo>
                  <a:lnTo>
                    <a:pt x="239" y="140"/>
                  </a:lnTo>
                  <a:lnTo>
                    <a:pt x="340" y="163"/>
                  </a:lnTo>
                  <a:lnTo>
                    <a:pt x="368" y="156"/>
                  </a:lnTo>
                  <a:lnTo>
                    <a:pt x="394" y="148"/>
                  </a:lnTo>
                  <a:lnTo>
                    <a:pt x="420" y="135"/>
                  </a:lnTo>
                  <a:lnTo>
                    <a:pt x="456" y="112"/>
                  </a:lnTo>
                  <a:lnTo>
                    <a:pt x="473" y="88"/>
                  </a:lnTo>
                  <a:lnTo>
                    <a:pt x="482" y="81"/>
                  </a:lnTo>
                  <a:lnTo>
                    <a:pt x="482" y="112"/>
                  </a:lnTo>
                  <a:lnTo>
                    <a:pt x="473" y="127"/>
                  </a:lnTo>
                  <a:lnTo>
                    <a:pt x="434" y="156"/>
                  </a:lnTo>
                  <a:lnTo>
                    <a:pt x="368" y="163"/>
                  </a:lnTo>
                  <a:lnTo>
                    <a:pt x="287" y="171"/>
                  </a:lnTo>
                  <a:lnTo>
                    <a:pt x="261" y="179"/>
                  </a:lnTo>
                  <a:lnTo>
                    <a:pt x="247" y="187"/>
                  </a:lnTo>
                  <a:lnTo>
                    <a:pt x="221" y="202"/>
                  </a:lnTo>
                  <a:lnTo>
                    <a:pt x="212" y="219"/>
                  </a:lnTo>
                  <a:lnTo>
                    <a:pt x="195" y="232"/>
                  </a:lnTo>
                  <a:lnTo>
                    <a:pt x="172" y="239"/>
                  </a:lnTo>
                  <a:lnTo>
                    <a:pt x="133" y="219"/>
                  </a:lnTo>
                  <a:lnTo>
                    <a:pt x="119" y="202"/>
                  </a:lnTo>
                  <a:lnTo>
                    <a:pt x="105" y="179"/>
                  </a:lnTo>
                  <a:lnTo>
                    <a:pt x="92" y="148"/>
                  </a:lnTo>
                  <a:lnTo>
                    <a:pt x="105" y="135"/>
                  </a:lnTo>
                  <a:lnTo>
                    <a:pt x="105" y="135"/>
                  </a:lnTo>
                  <a:lnTo>
                    <a:pt x="119" y="140"/>
                  </a:lnTo>
                  <a:lnTo>
                    <a:pt x="146" y="156"/>
                  </a:lnTo>
                  <a:lnTo>
                    <a:pt x="159" y="179"/>
                  </a:lnTo>
                  <a:lnTo>
                    <a:pt x="105" y="219"/>
                  </a:lnTo>
                  <a:lnTo>
                    <a:pt x="79" y="227"/>
                  </a:lnTo>
                  <a:lnTo>
                    <a:pt x="52" y="232"/>
                  </a:lnTo>
                  <a:lnTo>
                    <a:pt x="39" y="239"/>
                  </a:lnTo>
                  <a:lnTo>
                    <a:pt x="13" y="247"/>
                  </a:lnTo>
                  <a:lnTo>
                    <a:pt x="0" y="247"/>
                  </a:lnTo>
                  <a:lnTo>
                    <a:pt x="0" y="255"/>
                  </a:lnTo>
                  <a:lnTo>
                    <a:pt x="26" y="263"/>
                  </a:lnTo>
                  <a:lnTo>
                    <a:pt x="52" y="263"/>
                  </a:lnTo>
                  <a:lnTo>
                    <a:pt x="119" y="263"/>
                  </a:lnTo>
                  <a:lnTo>
                    <a:pt x="119" y="270"/>
                  </a:lnTo>
                  <a:lnTo>
                    <a:pt x="133" y="270"/>
                  </a:lnTo>
                  <a:lnTo>
                    <a:pt x="146" y="270"/>
                  </a:lnTo>
                  <a:lnTo>
                    <a:pt x="146" y="270"/>
                  </a:lnTo>
                  <a:lnTo>
                    <a:pt x="105" y="263"/>
                  </a:lnTo>
                  <a:lnTo>
                    <a:pt x="79" y="255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48160" y="3960720"/>
              <a:ext cx="81360" cy="133560"/>
            </a:xfrm>
            <a:custGeom>
              <a:avLst/>
              <a:gdLst/>
              <a:ahLst/>
              <a:rect l="0" t="0" r="r" b="b"/>
              <a:pathLst>
                <a:path w="226" h="371">
                  <a:moveTo>
                    <a:pt x="115" y="10"/>
                  </a:moveTo>
                  <a:lnTo>
                    <a:pt x="124" y="46"/>
                  </a:lnTo>
                  <a:lnTo>
                    <a:pt x="150" y="77"/>
                  </a:lnTo>
                  <a:lnTo>
                    <a:pt x="187" y="164"/>
                  </a:lnTo>
                  <a:lnTo>
                    <a:pt x="226" y="253"/>
                  </a:lnTo>
                  <a:lnTo>
                    <a:pt x="213" y="281"/>
                  </a:lnTo>
                  <a:lnTo>
                    <a:pt x="187" y="304"/>
                  </a:lnTo>
                  <a:lnTo>
                    <a:pt x="164" y="322"/>
                  </a:lnTo>
                  <a:lnTo>
                    <a:pt x="124" y="340"/>
                  </a:lnTo>
                  <a:lnTo>
                    <a:pt x="89" y="353"/>
                  </a:lnTo>
                  <a:lnTo>
                    <a:pt x="62" y="353"/>
                  </a:lnTo>
                  <a:lnTo>
                    <a:pt x="62" y="361"/>
                  </a:lnTo>
                  <a:lnTo>
                    <a:pt x="62" y="371"/>
                  </a:lnTo>
                  <a:lnTo>
                    <a:pt x="89" y="371"/>
                  </a:lnTo>
                  <a:lnTo>
                    <a:pt x="124" y="361"/>
                  </a:lnTo>
                  <a:lnTo>
                    <a:pt x="124" y="273"/>
                  </a:lnTo>
                  <a:lnTo>
                    <a:pt x="137" y="263"/>
                  </a:lnTo>
                  <a:lnTo>
                    <a:pt x="137" y="253"/>
                  </a:lnTo>
                  <a:lnTo>
                    <a:pt x="115" y="245"/>
                  </a:lnTo>
                  <a:lnTo>
                    <a:pt x="75" y="224"/>
                  </a:lnTo>
                  <a:lnTo>
                    <a:pt x="35" y="214"/>
                  </a:lnTo>
                  <a:lnTo>
                    <a:pt x="13" y="214"/>
                  </a:lnTo>
                  <a:lnTo>
                    <a:pt x="0" y="196"/>
                  </a:lnTo>
                  <a:lnTo>
                    <a:pt x="0" y="174"/>
                  </a:lnTo>
                  <a:lnTo>
                    <a:pt x="13" y="164"/>
                  </a:lnTo>
                  <a:lnTo>
                    <a:pt x="52" y="154"/>
                  </a:lnTo>
                  <a:lnTo>
                    <a:pt x="75" y="164"/>
                  </a:lnTo>
                  <a:lnTo>
                    <a:pt x="89" y="186"/>
                  </a:lnTo>
                  <a:lnTo>
                    <a:pt x="115" y="214"/>
                  </a:lnTo>
                  <a:lnTo>
                    <a:pt x="150" y="186"/>
                  </a:lnTo>
                  <a:lnTo>
                    <a:pt x="164" y="174"/>
                  </a:lnTo>
                  <a:lnTo>
                    <a:pt x="137" y="154"/>
                  </a:lnTo>
                  <a:lnTo>
                    <a:pt x="102" y="136"/>
                  </a:lnTo>
                  <a:lnTo>
                    <a:pt x="89" y="126"/>
                  </a:lnTo>
                  <a:lnTo>
                    <a:pt x="75" y="118"/>
                  </a:lnTo>
                  <a:lnTo>
                    <a:pt x="26" y="0"/>
                  </a:lnTo>
                  <a:lnTo>
                    <a:pt x="35" y="18"/>
                  </a:lnTo>
                  <a:lnTo>
                    <a:pt x="75" y="38"/>
                  </a:lnTo>
                  <a:lnTo>
                    <a:pt x="102" y="38"/>
                  </a:lnTo>
                  <a:lnTo>
                    <a:pt x="115" y="28"/>
                  </a:lnTo>
                  <a:lnTo>
                    <a:pt x="115" y="1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16320" y="4116240"/>
              <a:ext cx="66960" cy="100440"/>
            </a:xfrm>
            <a:custGeom>
              <a:avLst/>
              <a:gdLst/>
              <a:ahLst/>
              <a:rect l="0" t="0" r="r" b="b"/>
              <a:pathLst>
                <a:path w="186" h="279">
                  <a:moveTo>
                    <a:pt x="92" y="41"/>
                  </a:moveTo>
                  <a:lnTo>
                    <a:pt x="120" y="73"/>
                  </a:lnTo>
                  <a:lnTo>
                    <a:pt x="133" y="93"/>
                  </a:lnTo>
                  <a:lnTo>
                    <a:pt x="146" y="114"/>
                  </a:lnTo>
                  <a:lnTo>
                    <a:pt x="159" y="145"/>
                  </a:lnTo>
                  <a:lnTo>
                    <a:pt x="172" y="165"/>
                  </a:lnTo>
                  <a:lnTo>
                    <a:pt x="186" y="186"/>
                  </a:lnTo>
                  <a:lnTo>
                    <a:pt x="186" y="186"/>
                  </a:lnTo>
                  <a:lnTo>
                    <a:pt x="159" y="218"/>
                  </a:lnTo>
                  <a:lnTo>
                    <a:pt x="133" y="248"/>
                  </a:lnTo>
                  <a:lnTo>
                    <a:pt x="52" y="279"/>
                  </a:lnTo>
                  <a:lnTo>
                    <a:pt x="79" y="259"/>
                  </a:lnTo>
                  <a:lnTo>
                    <a:pt x="92" y="238"/>
                  </a:lnTo>
                  <a:lnTo>
                    <a:pt x="92" y="228"/>
                  </a:lnTo>
                  <a:lnTo>
                    <a:pt x="66" y="196"/>
                  </a:lnTo>
                  <a:lnTo>
                    <a:pt x="92" y="186"/>
                  </a:lnTo>
                  <a:lnTo>
                    <a:pt x="92" y="165"/>
                  </a:lnTo>
                  <a:lnTo>
                    <a:pt x="79" y="155"/>
                  </a:lnTo>
                  <a:lnTo>
                    <a:pt x="52" y="145"/>
                  </a:lnTo>
                  <a:lnTo>
                    <a:pt x="26" y="124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73"/>
                  </a:lnTo>
                  <a:lnTo>
                    <a:pt x="8" y="41"/>
                  </a:lnTo>
                  <a:lnTo>
                    <a:pt x="52" y="10"/>
                  </a:lnTo>
                  <a:lnTo>
                    <a:pt x="79" y="0"/>
                  </a:lnTo>
                  <a:lnTo>
                    <a:pt x="79" y="10"/>
                  </a:lnTo>
                  <a:lnTo>
                    <a:pt x="92" y="20"/>
                  </a:lnTo>
                  <a:lnTo>
                    <a:pt x="92" y="41"/>
                  </a:lnTo>
                  <a:lnTo>
                    <a:pt x="92" y="51"/>
                  </a:lnTo>
                  <a:lnTo>
                    <a:pt x="92" y="51"/>
                  </a:lnTo>
                  <a:lnTo>
                    <a:pt x="92" y="4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64040" y="3768840"/>
              <a:ext cx="340200" cy="113040"/>
            </a:xfrm>
            <a:custGeom>
              <a:avLst/>
              <a:gdLst/>
              <a:ahLst/>
              <a:rect l="0" t="0" r="r" b="b"/>
              <a:pathLst>
                <a:path w="945" h="314">
                  <a:moveTo>
                    <a:pt x="402" y="72"/>
                  </a:moveTo>
                  <a:lnTo>
                    <a:pt x="428" y="142"/>
                  </a:lnTo>
                  <a:lnTo>
                    <a:pt x="459" y="179"/>
                  </a:lnTo>
                  <a:lnTo>
                    <a:pt x="503" y="208"/>
                  </a:lnTo>
                  <a:lnTo>
                    <a:pt x="556" y="197"/>
                  </a:lnTo>
                  <a:lnTo>
                    <a:pt x="587" y="187"/>
                  </a:lnTo>
                  <a:lnTo>
                    <a:pt x="631" y="187"/>
                  </a:lnTo>
                  <a:lnTo>
                    <a:pt x="684" y="197"/>
                  </a:lnTo>
                  <a:lnTo>
                    <a:pt x="742" y="223"/>
                  </a:lnTo>
                  <a:lnTo>
                    <a:pt x="813" y="233"/>
                  </a:lnTo>
                  <a:lnTo>
                    <a:pt x="945" y="270"/>
                  </a:lnTo>
                  <a:lnTo>
                    <a:pt x="945" y="288"/>
                  </a:lnTo>
                  <a:lnTo>
                    <a:pt x="932" y="303"/>
                  </a:lnTo>
                  <a:lnTo>
                    <a:pt x="875" y="314"/>
                  </a:lnTo>
                  <a:lnTo>
                    <a:pt x="804" y="303"/>
                  </a:lnTo>
                  <a:lnTo>
                    <a:pt x="742" y="295"/>
                  </a:lnTo>
                  <a:lnTo>
                    <a:pt x="600" y="270"/>
                  </a:lnTo>
                  <a:lnTo>
                    <a:pt x="472" y="233"/>
                  </a:lnTo>
                  <a:lnTo>
                    <a:pt x="428" y="233"/>
                  </a:lnTo>
                  <a:lnTo>
                    <a:pt x="384" y="244"/>
                  </a:lnTo>
                  <a:lnTo>
                    <a:pt x="344" y="251"/>
                  </a:lnTo>
                  <a:lnTo>
                    <a:pt x="314" y="270"/>
                  </a:lnTo>
                  <a:lnTo>
                    <a:pt x="256" y="288"/>
                  </a:lnTo>
                  <a:lnTo>
                    <a:pt x="243" y="270"/>
                  </a:lnTo>
                  <a:lnTo>
                    <a:pt x="229" y="259"/>
                  </a:lnTo>
                  <a:lnTo>
                    <a:pt x="198" y="259"/>
                  </a:lnTo>
                  <a:lnTo>
                    <a:pt x="158" y="259"/>
                  </a:lnTo>
                  <a:lnTo>
                    <a:pt x="127" y="259"/>
                  </a:lnTo>
                  <a:lnTo>
                    <a:pt x="101" y="244"/>
                  </a:lnTo>
                  <a:lnTo>
                    <a:pt x="70" y="208"/>
                  </a:lnTo>
                  <a:lnTo>
                    <a:pt x="39" y="161"/>
                  </a:lnTo>
                  <a:lnTo>
                    <a:pt x="13" y="116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39" y="80"/>
                  </a:lnTo>
                  <a:lnTo>
                    <a:pt x="101" y="72"/>
                  </a:lnTo>
                  <a:lnTo>
                    <a:pt x="158" y="62"/>
                  </a:lnTo>
                  <a:lnTo>
                    <a:pt x="185" y="62"/>
                  </a:lnTo>
                  <a:lnTo>
                    <a:pt x="211" y="54"/>
                  </a:lnTo>
                  <a:lnTo>
                    <a:pt x="256" y="46"/>
                  </a:lnTo>
                  <a:lnTo>
                    <a:pt x="256" y="25"/>
                  </a:lnTo>
                  <a:lnTo>
                    <a:pt x="269" y="10"/>
                  </a:lnTo>
                  <a:lnTo>
                    <a:pt x="331" y="0"/>
                  </a:lnTo>
                  <a:lnTo>
                    <a:pt x="402" y="0"/>
                  </a:lnTo>
                  <a:lnTo>
                    <a:pt x="459" y="0"/>
                  </a:lnTo>
                  <a:lnTo>
                    <a:pt x="441" y="18"/>
                  </a:lnTo>
                  <a:lnTo>
                    <a:pt x="441" y="25"/>
                  </a:lnTo>
                  <a:lnTo>
                    <a:pt x="402" y="7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191120" y="3057480"/>
            <a:ext cx="305280" cy="181440"/>
          </a:xfrm>
          <a:custGeom>
            <a:avLst/>
            <a:gdLst/>
            <a:ahLst/>
            <a:rect l="0" t="0" r="r" b="b"/>
            <a:pathLst>
              <a:path w="848" h="504">
                <a:moveTo>
                  <a:pt x="0" y="344"/>
                </a:moveTo>
                <a:lnTo>
                  <a:pt x="239" y="478"/>
                </a:lnTo>
                <a:lnTo>
                  <a:pt x="663" y="504"/>
                </a:lnTo>
                <a:lnTo>
                  <a:pt x="848" y="265"/>
                </a:lnTo>
                <a:lnTo>
                  <a:pt x="848" y="79"/>
                </a:lnTo>
                <a:lnTo>
                  <a:pt x="663" y="0"/>
                </a:lnTo>
                <a:lnTo>
                  <a:pt x="477" y="265"/>
                </a:lnTo>
                <a:lnTo>
                  <a:pt x="185" y="292"/>
                </a:lnTo>
                <a:lnTo>
                  <a:pt x="0" y="344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576520" y="4311720"/>
            <a:ext cx="1968840" cy="763920"/>
            <a:chOff x="2576520" y="4311720"/>
            <a:chExt cx="1968840" cy="763920"/>
          </a:xfrm>
        </p:grpSpPr>
        <p:sp>
          <p:nvSpPr>
            <p:cNvPr id="342" name=""/>
            <p:cNvSpPr/>
            <p:nvPr/>
          </p:nvSpPr>
          <p:spPr>
            <a:xfrm>
              <a:off x="3557520" y="4448160"/>
              <a:ext cx="792360" cy="437040"/>
            </a:xfrm>
            <a:custGeom>
              <a:avLst/>
              <a:gdLst/>
              <a:ahLst/>
              <a:rect l="0" t="0" r="r" b="b"/>
              <a:pathLst>
                <a:path w="2201" h="1214">
                  <a:moveTo>
                    <a:pt x="2170" y="503"/>
                  </a:moveTo>
                  <a:lnTo>
                    <a:pt x="2166" y="516"/>
                  </a:lnTo>
                  <a:lnTo>
                    <a:pt x="2170" y="525"/>
                  </a:lnTo>
                  <a:lnTo>
                    <a:pt x="2166" y="534"/>
                  </a:lnTo>
                  <a:lnTo>
                    <a:pt x="2161" y="552"/>
                  </a:lnTo>
                  <a:lnTo>
                    <a:pt x="2135" y="631"/>
                  </a:lnTo>
                  <a:lnTo>
                    <a:pt x="2086" y="715"/>
                  </a:lnTo>
                  <a:lnTo>
                    <a:pt x="2029" y="794"/>
                  </a:lnTo>
                  <a:lnTo>
                    <a:pt x="1972" y="865"/>
                  </a:lnTo>
                  <a:lnTo>
                    <a:pt x="1910" y="928"/>
                  </a:lnTo>
                  <a:lnTo>
                    <a:pt x="1844" y="980"/>
                  </a:lnTo>
                  <a:lnTo>
                    <a:pt x="1782" y="1016"/>
                  </a:lnTo>
                  <a:lnTo>
                    <a:pt x="1725" y="1033"/>
                  </a:lnTo>
                  <a:lnTo>
                    <a:pt x="1707" y="1038"/>
                  </a:lnTo>
                  <a:lnTo>
                    <a:pt x="1667" y="1051"/>
                  </a:lnTo>
                  <a:lnTo>
                    <a:pt x="1610" y="1073"/>
                  </a:lnTo>
                  <a:lnTo>
                    <a:pt x="1535" y="1091"/>
                  </a:lnTo>
                  <a:lnTo>
                    <a:pt x="1451" y="1122"/>
                  </a:lnTo>
                  <a:lnTo>
                    <a:pt x="1363" y="1152"/>
                  </a:lnTo>
                  <a:lnTo>
                    <a:pt x="1293" y="1170"/>
                  </a:lnTo>
                  <a:lnTo>
                    <a:pt x="1222" y="1183"/>
                  </a:lnTo>
                  <a:lnTo>
                    <a:pt x="1160" y="1197"/>
                  </a:lnTo>
                  <a:lnTo>
                    <a:pt x="1049" y="1210"/>
                  </a:lnTo>
                  <a:lnTo>
                    <a:pt x="943" y="1214"/>
                  </a:lnTo>
                  <a:lnTo>
                    <a:pt x="806" y="1210"/>
                  </a:lnTo>
                  <a:lnTo>
                    <a:pt x="661" y="1214"/>
                  </a:lnTo>
                  <a:lnTo>
                    <a:pt x="507" y="1201"/>
                  </a:lnTo>
                  <a:lnTo>
                    <a:pt x="361" y="1170"/>
                  </a:lnTo>
                  <a:lnTo>
                    <a:pt x="207" y="1144"/>
                  </a:lnTo>
                  <a:lnTo>
                    <a:pt x="97" y="1095"/>
                  </a:lnTo>
                  <a:lnTo>
                    <a:pt x="26" y="1011"/>
                  </a:lnTo>
                  <a:lnTo>
                    <a:pt x="0" y="904"/>
                  </a:lnTo>
                  <a:lnTo>
                    <a:pt x="13" y="781"/>
                  </a:lnTo>
                  <a:lnTo>
                    <a:pt x="57" y="662"/>
                  </a:lnTo>
                  <a:lnTo>
                    <a:pt x="119" y="547"/>
                  </a:lnTo>
                  <a:lnTo>
                    <a:pt x="180" y="455"/>
                  </a:lnTo>
                  <a:lnTo>
                    <a:pt x="251" y="371"/>
                  </a:lnTo>
                  <a:lnTo>
                    <a:pt x="313" y="309"/>
                  </a:lnTo>
                  <a:lnTo>
                    <a:pt x="379" y="260"/>
                  </a:lnTo>
                  <a:lnTo>
                    <a:pt x="471" y="211"/>
                  </a:lnTo>
                  <a:lnTo>
                    <a:pt x="577" y="163"/>
                  </a:lnTo>
                  <a:lnTo>
                    <a:pt x="679" y="127"/>
                  </a:lnTo>
                  <a:lnTo>
                    <a:pt x="776" y="101"/>
                  </a:lnTo>
                  <a:lnTo>
                    <a:pt x="886" y="70"/>
                  </a:lnTo>
                  <a:lnTo>
                    <a:pt x="974" y="57"/>
                  </a:lnTo>
                  <a:lnTo>
                    <a:pt x="1075" y="26"/>
                  </a:lnTo>
                  <a:lnTo>
                    <a:pt x="1200" y="8"/>
                  </a:lnTo>
                  <a:lnTo>
                    <a:pt x="1332" y="4"/>
                  </a:lnTo>
                  <a:lnTo>
                    <a:pt x="1478" y="0"/>
                  </a:lnTo>
                  <a:lnTo>
                    <a:pt x="1614" y="4"/>
                  </a:lnTo>
                  <a:lnTo>
                    <a:pt x="1747" y="13"/>
                  </a:lnTo>
                  <a:lnTo>
                    <a:pt x="1870" y="22"/>
                  </a:lnTo>
                  <a:lnTo>
                    <a:pt x="1980" y="39"/>
                  </a:lnTo>
                  <a:lnTo>
                    <a:pt x="2117" y="92"/>
                  </a:lnTo>
                  <a:lnTo>
                    <a:pt x="2183" y="198"/>
                  </a:lnTo>
                  <a:lnTo>
                    <a:pt x="2201" y="340"/>
                  </a:lnTo>
                  <a:lnTo>
                    <a:pt x="2170" y="503"/>
                  </a:lnTo>
                  <a:close/>
                </a:path>
              </a:pathLst>
            </a:custGeom>
            <a:solidFill>
              <a:srgbClr val="00338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30800" y="461628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85" y="80"/>
                  </a:moveTo>
                  <a:lnTo>
                    <a:pt x="68" y="26"/>
                  </a:lnTo>
                  <a:lnTo>
                    <a:pt x="40" y="0"/>
                  </a:lnTo>
                  <a:lnTo>
                    <a:pt x="4" y="26"/>
                  </a:lnTo>
                  <a:lnTo>
                    <a:pt x="0" y="62"/>
                  </a:lnTo>
                  <a:lnTo>
                    <a:pt x="8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22880" y="46292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61"/>
                  </a:moveTo>
                  <a:lnTo>
                    <a:pt x="81" y="61"/>
                  </a:lnTo>
                  <a:lnTo>
                    <a:pt x="81" y="33"/>
                  </a:lnTo>
                  <a:lnTo>
                    <a:pt x="81" y="16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13" y="0"/>
                  </a:lnTo>
                  <a:lnTo>
                    <a:pt x="8" y="28"/>
                  </a:lnTo>
                  <a:lnTo>
                    <a:pt x="17" y="44"/>
                  </a:lnTo>
                  <a:lnTo>
                    <a:pt x="0" y="56"/>
                  </a:lnTo>
                  <a:lnTo>
                    <a:pt x="0" y="72"/>
                  </a:lnTo>
                  <a:lnTo>
                    <a:pt x="8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64120" y="4643280"/>
              <a:ext cx="192600" cy="182880"/>
            </a:xfrm>
            <a:custGeom>
              <a:avLst/>
              <a:gdLst/>
              <a:ahLst/>
              <a:rect l="0" t="0" r="r" b="b"/>
              <a:pathLst>
                <a:path w="535" h="508">
                  <a:moveTo>
                    <a:pt x="48" y="499"/>
                  </a:moveTo>
                  <a:lnTo>
                    <a:pt x="30" y="508"/>
                  </a:lnTo>
                  <a:lnTo>
                    <a:pt x="105" y="490"/>
                  </a:lnTo>
                  <a:lnTo>
                    <a:pt x="186" y="446"/>
                  </a:lnTo>
                  <a:lnTo>
                    <a:pt x="243" y="393"/>
                  </a:lnTo>
                  <a:lnTo>
                    <a:pt x="318" y="331"/>
                  </a:lnTo>
                  <a:lnTo>
                    <a:pt x="384" y="251"/>
                  </a:lnTo>
                  <a:lnTo>
                    <a:pt x="438" y="167"/>
                  </a:lnTo>
                  <a:lnTo>
                    <a:pt x="487" y="92"/>
                  </a:lnTo>
                  <a:lnTo>
                    <a:pt x="535" y="0"/>
                  </a:lnTo>
                  <a:lnTo>
                    <a:pt x="447" y="17"/>
                  </a:lnTo>
                  <a:lnTo>
                    <a:pt x="416" y="83"/>
                  </a:lnTo>
                  <a:lnTo>
                    <a:pt x="367" y="154"/>
                  </a:lnTo>
                  <a:lnTo>
                    <a:pt x="314" y="242"/>
                  </a:lnTo>
                  <a:lnTo>
                    <a:pt x="265" y="300"/>
                  </a:lnTo>
                  <a:lnTo>
                    <a:pt x="199" y="362"/>
                  </a:lnTo>
                  <a:lnTo>
                    <a:pt x="142" y="406"/>
                  </a:lnTo>
                  <a:lnTo>
                    <a:pt x="88" y="446"/>
                  </a:lnTo>
                  <a:lnTo>
                    <a:pt x="44" y="446"/>
                  </a:lnTo>
                  <a:lnTo>
                    <a:pt x="26" y="455"/>
                  </a:lnTo>
                  <a:lnTo>
                    <a:pt x="44" y="446"/>
                  </a:lnTo>
                  <a:lnTo>
                    <a:pt x="17" y="459"/>
                  </a:lnTo>
                  <a:lnTo>
                    <a:pt x="0" y="486"/>
                  </a:lnTo>
                  <a:lnTo>
                    <a:pt x="13" y="503"/>
                  </a:lnTo>
                  <a:lnTo>
                    <a:pt x="30" y="508"/>
                  </a:lnTo>
                  <a:lnTo>
                    <a:pt x="48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95640" y="4807080"/>
              <a:ext cx="189360" cy="81360"/>
            </a:xfrm>
            <a:custGeom>
              <a:avLst/>
              <a:gdLst/>
              <a:ahLst/>
              <a:rect l="0" t="0" r="r" b="b"/>
              <a:pathLst>
                <a:path w="526" h="226">
                  <a:moveTo>
                    <a:pt x="8" y="226"/>
                  </a:moveTo>
                  <a:lnTo>
                    <a:pt x="8" y="226"/>
                  </a:lnTo>
                  <a:lnTo>
                    <a:pt x="74" y="204"/>
                  </a:lnTo>
                  <a:lnTo>
                    <a:pt x="146" y="178"/>
                  </a:lnTo>
                  <a:lnTo>
                    <a:pt x="230" y="150"/>
                  </a:lnTo>
                  <a:lnTo>
                    <a:pt x="327" y="115"/>
                  </a:lnTo>
                  <a:lnTo>
                    <a:pt x="407" y="89"/>
                  </a:lnTo>
                  <a:lnTo>
                    <a:pt x="473" y="67"/>
                  </a:lnTo>
                  <a:lnTo>
                    <a:pt x="513" y="48"/>
                  </a:lnTo>
                  <a:lnTo>
                    <a:pt x="526" y="39"/>
                  </a:lnTo>
                  <a:lnTo>
                    <a:pt x="504" y="0"/>
                  </a:lnTo>
                  <a:lnTo>
                    <a:pt x="491" y="4"/>
                  </a:lnTo>
                  <a:lnTo>
                    <a:pt x="447" y="22"/>
                  </a:lnTo>
                  <a:lnTo>
                    <a:pt x="384" y="48"/>
                  </a:lnTo>
                  <a:lnTo>
                    <a:pt x="322" y="71"/>
                  </a:lnTo>
                  <a:lnTo>
                    <a:pt x="230" y="93"/>
                  </a:lnTo>
                  <a:lnTo>
                    <a:pt x="142" y="128"/>
                  </a:lnTo>
                  <a:lnTo>
                    <a:pt x="66" y="150"/>
                  </a:lnTo>
                  <a:lnTo>
                    <a:pt x="0" y="168"/>
                  </a:lnTo>
                  <a:lnTo>
                    <a:pt x="8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29160" y="4848120"/>
              <a:ext cx="376560" cy="44640"/>
            </a:xfrm>
            <a:custGeom>
              <a:avLst/>
              <a:gdLst/>
              <a:ahLst/>
              <a:rect l="0" t="0" r="r" b="b"/>
              <a:pathLst>
                <a:path w="1046" h="124">
                  <a:moveTo>
                    <a:pt x="0" y="57"/>
                  </a:moveTo>
                  <a:lnTo>
                    <a:pt x="0" y="57"/>
                  </a:lnTo>
                  <a:lnTo>
                    <a:pt x="149" y="84"/>
                  </a:lnTo>
                  <a:lnTo>
                    <a:pt x="295" y="111"/>
                  </a:lnTo>
                  <a:lnTo>
                    <a:pt x="449" y="120"/>
                  </a:lnTo>
                  <a:lnTo>
                    <a:pt x="609" y="124"/>
                  </a:lnTo>
                  <a:lnTo>
                    <a:pt x="746" y="124"/>
                  </a:lnTo>
                  <a:lnTo>
                    <a:pt x="860" y="111"/>
                  </a:lnTo>
                  <a:lnTo>
                    <a:pt x="966" y="106"/>
                  </a:lnTo>
                  <a:lnTo>
                    <a:pt x="1046" y="93"/>
                  </a:lnTo>
                  <a:lnTo>
                    <a:pt x="1032" y="35"/>
                  </a:lnTo>
                  <a:lnTo>
                    <a:pt x="975" y="48"/>
                  </a:lnTo>
                  <a:lnTo>
                    <a:pt x="878" y="52"/>
                  </a:lnTo>
                  <a:lnTo>
                    <a:pt x="759" y="57"/>
                  </a:lnTo>
                  <a:lnTo>
                    <a:pt x="627" y="61"/>
                  </a:lnTo>
                  <a:lnTo>
                    <a:pt x="485" y="57"/>
                  </a:lnTo>
                  <a:lnTo>
                    <a:pt x="335" y="57"/>
                  </a:lnTo>
                  <a:lnTo>
                    <a:pt x="185" y="22"/>
                  </a:lnTo>
                  <a:lnTo>
                    <a:pt x="35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49600" y="4576680"/>
              <a:ext cx="106560" cy="295560"/>
            </a:xfrm>
            <a:custGeom>
              <a:avLst/>
              <a:gdLst/>
              <a:ahLst/>
              <a:rect l="0" t="0" r="r" b="b"/>
              <a:pathLst>
                <a:path w="296" h="821">
                  <a:moveTo>
                    <a:pt x="239" y="0"/>
                  </a:moveTo>
                  <a:lnTo>
                    <a:pt x="239" y="0"/>
                  </a:lnTo>
                  <a:lnTo>
                    <a:pt x="177" y="92"/>
                  </a:lnTo>
                  <a:lnTo>
                    <a:pt x="105" y="189"/>
                  </a:lnTo>
                  <a:lnTo>
                    <a:pt x="44" y="304"/>
                  </a:lnTo>
                  <a:lnTo>
                    <a:pt x="8" y="433"/>
                  </a:lnTo>
                  <a:lnTo>
                    <a:pt x="0" y="561"/>
                  </a:lnTo>
                  <a:lnTo>
                    <a:pt x="8" y="675"/>
                  </a:lnTo>
                  <a:lnTo>
                    <a:pt x="97" y="759"/>
                  </a:lnTo>
                  <a:lnTo>
                    <a:pt x="217" y="821"/>
                  </a:lnTo>
                  <a:lnTo>
                    <a:pt x="252" y="759"/>
                  </a:lnTo>
                  <a:lnTo>
                    <a:pt x="155" y="710"/>
                  </a:lnTo>
                  <a:lnTo>
                    <a:pt x="101" y="636"/>
                  </a:lnTo>
                  <a:lnTo>
                    <a:pt x="74" y="543"/>
                  </a:lnTo>
                  <a:lnTo>
                    <a:pt x="83" y="424"/>
                  </a:lnTo>
                  <a:lnTo>
                    <a:pt x="114" y="317"/>
                  </a:lnTo>
                  <a:lnTo>
                    <a:pt x="172" y="198"/>
                  </a:lnTo>
                  <a:lnTo>
                    <a:pt x="243" y="101"/>
                  </a:lnTo>
                  <a:lnTo>
                    <a:pt x="296" y="35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38520" y="4456080"/>
              <a:ext cx="286200" cy="132120"/>
            </a:xfrm>
            <a:custGeom>
              <a:avLst/>
              <a:gdLst/>
              <a:ahLst/>
              <a:rect l="0" t="0" r="r" b="b"/>
              <a:pathLst>
                <a:path w="795" h="367">
                  <a:moveTo>
                    <a:pt x="747" y="13"/>
                  </a:moveTo>
                  <a:lnTo>
                    <a:pt x="764" y="0"/>
                  </a:lnTo>
                  <a:lnTo>
                    <a:pt x="659" y="26"/>
                  </a:lnTo>
                  <a:lnTo>
                    <a:pt x="552" y="52"/>
                  </a:lnTo>
                  <a:lnTo>
                    <a:pt x="455" y="92"/>
                  </a:lnTo>
                  <a:lnTo>
                    <a:pt x="353" y="127"/>
                  </a:lnTo>
                  <a:lnTo>
                    <a:pt x="243" y="163"/>
                  </a:lnTo>
                  <a:lnTo>
                    <a:pt x="154" y="225"/>
                  </a:lnTo>
                  <a:lnTo>
                    <a:pt x="74" y="274"/>
                  </a:lnTo>
                  <a:lnTo>
                    <a:pt x="0" y="336"/>
                  </a:lnTo>
                  <a:lnTo>
                    <a:pt x="57" y="367"/>
                  </a:lnTo>
                  <a:lnTo>
                    <a:pt x="114" y="314"/>
                  </a:lnTo>
                  <a:lnTo>
                    <a:pt x="176" y="265"/>
                  </a:lnTo>
                  <a:lnTo>
                    <a:pt x="269" y="217"/>
                  </a:lnTo>
                  <a:lnTo>
                    <a:pt x="375" y="171"/>
                  </a:lnTo>
                  <a:lnTo>
                    <a:pt x="472" y="136"/>
                  </a:lnTo>
                  <a:lnTo>
                    <a:pt x="561" y="101"/>
                  </a:lnTo>
                  <a:lnTo>
                    <a:pt x="667" y="74"/>
                  </a:lnTo>
                  <a:lnTo>
                    <a:pt x="751" y="66"/>
                  </a:lnTo>
                  <a:lnTo>
                    <a:pt x="764" y="61"/>
                  </a:lnTo>
                  <a:lnTo>
                    <a:pt x="751" y="66"/>
                  </a:lnTo>
                  <a:lnTo>
                    <a:pt x="778" y="57"/>
                  </a:lnTo>
                  <a:lnTo>
                    <a:pt x="795" y="22"/>
                  </a:lnTo>
                  <a:lnTo>
                    <a:pt x="786" y="8"/>
                  </a:lnTo>
                  <a:lnTo>
                    <a:pt x="764" y="0"/>
                  </a:lnTo>
                  <a:lnTo>
                    <a:pt x="74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11760" y="4437000"/>
              <a:ext cx="367200" cy="43200"/>
            </a:xfrm>
            <a:custGeom>
              <a:avLst/>
              <a:gdLst/>
              <a:ahLst/>
              <a:rect l="0" t="0" r="r" b="b"/>
              <a:pathLst>
                <a:path w="1020" h="120">
                  <a:moveTo>
                    <a:pt x="1020" y="30"/>
                  </a:moveTo>
                  <a:lnTo>
                    <a:pt x="1020" y="30"/>
                  </a:lnTo>
                  <a:lnTo>
                    <a:pt x="923" y="17"/>
                  </a:lnTo>
                  <a:lnTo>
                    <a:pt x="791" y="13"/>
                  </a:lnTo>
                  <a:lnTo>
                    <a:pt x="662" y="8"/>
                  </a:lnTo>
                  <a:lnTo>
                    <a:pt x="512" y="0"/>
                  </a:lnTo>
                  <a:lnTo>
                    <a:pt x="375" y="8"/>
                  </a:lnTo>
                  <a:lnTo>
                    <a:pt x="238" y="22"/>
                  </a:lnTo>
                  <a:lnTo>
                    <a:pt x="110" y="39"/>
                  </a:lnTo>
                  <a:lnTo>
                    <a:pt x="0" y="67"/>
                  </a:lnTo>
                  <a:lnTo>
                    <a:pt x="22" y="120"/>
                  </a:lnTo>
                  <a:lnTo>
                    <a:pt x="114" y="89"/>
                  </a:lnTo>
                  <a:lnTo>
                    <a:pt x="229" y="80"/>
                  </a:lnTo>
                  <a:lnTo>
                    <a:pt x="358" y="71"/>
                  </a:lnTo>
                  <a:lnTo>
                    <a:pt x="508" y="57"/>
                  </a:lnTo>
                  <a:lnTo>
                    <a:pt x="627" y="67"/>
                  </a:lnTo>
                  <a:lnTo>
                    <a:pt x="759" y="67"/>
                  </a:lnTo>
                  <a:lnTo>
                    <a:pt x="892" y="75"/>
                  </a:lnTo>
                  <a:lnTo>
                    <a:pt x="985" y="93"/>
                  </a:lnTo>
                  <a:lnTo>
                    <a:pt x="102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65640" y="4451400"/>
              <a:ext cx="97200" cy="176400"/>
            </a:xfrm>
            <a:custGeom>
              <a:avLst/>
              <a:gdLst/>
              <a:ahLst/>
              <a:rect l="0" t="0" r="r" b="b"/>
              <a:pathLst>
                <a:path w="270" h="490">
                  <a:moveTo>
                    <a:pt x="248" y="477"/>
                  </a:moveTo>
                  <a:lnTo>
                    <a:pt x="270" y="322"/>
                  </a:lnTo>
                  <a:lnTo>
                    <a:pt x="253" y="171"/>
                  </a:lnTo>
                  <a:lnTo>
                    <a:pt x="186" y="57"/>
                  </a:lnTo>
                  <a:lnTo>
                    <a:pt x="30" y="0"/>
                  </a:lnTo>
                  <a:lnTo>
                    <a:pt x="0" y="57"/>
                  </a:lnTo>
                  <a:lnTo>
                    <a:pt x="128" y="101"/>
                  </a:lnTo>
                  <a:lnTo>
                    <a:pt x="186" y="207"/>
                  </a:lnTo>
                  <a:lnTo>
                    <a:pt x="199" y="340"/>
                  </a:lnTo>
                  <a:lnTo>
                    <a:pt x="172" y="490"/>
                  </a:lnTo>
                  <a:lnTo>
                    <a:pt x="248" y="4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29000" y="462924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0"/>
                  </a:moveTo>
                  <a:lnTo>
                    <a:pt x="13" y="53"/>
                  </a:lnTo>
                  <a:lnTo>
                    <a:pt x="45" y="80"/>
                  </a:lnTo>
                  <a:lnTo>
                    <a:pt x="76" y="53"/>
                  </a:lnTo>
                  <a:lnTo>
                    <a:pt x="8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989520" y="4324320"/>
              <a:ext cx="543240" cy="402120"/>
            </a:xfrm>
            <a:custGeom>
              <a:avLst/>
              <a:gdLst/>
              <a:ahLst/>
              <a:rect l="0" t="0" r="r" b="b"/>
              <a:pathLst>
                <a:path w="1509" h="1117">
                  <a:moveTo>
                    <a:pt x="0" y="353"/>
                  </a:moveTo>
                  <a:lnTo>
                    <a:pt x="74" y="349"/>
                  </a:lnTo>
                  <a:lnTo>
                    <a:pt x="154" y="344"/>
                  </a:lnTo>
                  <a:lnTo>
                    <a:pt x="229" y="344"/>
                  </a:lnTo>
                  <a:lnTo>
                    <a:pt x="299" y="349"/>
                  </a:lnTo>
                  <a:lnTo>
                    <a:pt x="343" y="283"/>
                  </a:lnTo>
                  <a:lnTo>
                    <a:pt x="410" y="238"/>
                  </a:lnTo>
                  <a:lnTo>
                    <a:pt x="476" y="211"/>
                  </a:lnTo>
                  <a:lnTo>
                    <a:pt x="537" y="194"/>
                  </a:lnTo>
                  <a:lnTo>
                    <a:pt x="608" y="189"/>
                  </a:lnTo>
                  <a:lnTo>
                    <a:pt x="670" y="180"/>
                  </a:lnTo>
                  <a:lnTo>
                    <a:pt x="723" y="194"/>
                  </a:lnTo>
                  <a:lnTo>
                    <a:pt x="772" y="185"/>
                  </a:lnTo>
                  <a:lnTo>
                    <a:pt x="830" y="185"/>
                  </a:lnTo>
                  <a:lnTo>
                    <a:pt x="900" y="211"/>
                  </a:lnTo>
                  <a:lnTo>
                    <a:pt x="971" y="242"/>
                  </a:lnTo>
                  <a:lnTo>
                    <a:pt x="1050" y="277"/>
                  </a:lnTo>
                  <a:lnTo>
                    <a:pt x="1121" y="331"/>
                  </a:lnTo>
                  <a:lnTo>
                    <a:pt x="1191" y="380"/>
                  </a:lnTo>
                  <a:lnTo>
                    <a:pt x="1240" y="419"/>
                  </a:lnTo>
                  <a:lnTo>
                    <a:pt x="1271" y="459"/>
                  </a:lnTo>
                  <a:lnTo>
                    <a:pt x="1293" y="525"/>
                  </a:lnTo>
                  <a:lnTo>
                    <a:pt x="1275" y="587"/>
                  </a:lnTo>
                  <a:lnTo>
                    <a:pt x="1262" y="649"/>
                  </a:lnTo>
                  <a:lnTo>
                    <a:pt x="1218" y="719"/>
                  </a:lnTo>
                  <a:lnTo>
                    <a:pt x="1160" y="790"/>
                  </a:lnTo>
                  <a:lnTo>
                    <a:pt x="1099" y="834"/>
                  </a:lnTo>
                  <a:lnTo>
                    <a:pt x="1037" y="879"/>
                  </a:lnTo>
                  <a:lnTo>
                    <a:pt x="971" y="892"/>
                  </a:lnTo>
                  <a:lnTo>
                    <a:pt x="949" y="950"/>
                  </a:lnTo>
                  <a:lnTo>
                    <a:pt x="935" y="1003"/>
                  </a:lnTo>
                  <a:lnTo>
                    <a:pt x="896" y="1060"/>
                  </a:lnTo>
                  <a:lnTo>
                    <a:pt x="856" y="1117"/>
                  </a:lnTo>
                  <a:lnTo>
                    <a:pt x="971" y="1077"/>
                  </a:lnTo>
                  <a:lnTo>
                    <a:pt x="1090" y="1020"/>
                  </a:lnTo>
                  <a:lnTo>
                    <a:pt x="1209" y="945"/>
                  </a:lnTo>
                  <a:lnTo>
                    <a:pt x="1315" y="853"/>
                  </a:lnTo>
                  <a:lnTo>
                    <a:pt x="1412" y="741"/>
                  </a:lnTo>
                  <a:lnTo>
                    <a:pt x="1487" y="631"/>
                  </a:lnTo>
                  <a:lnTo>
                    <a:pt x="1509" y="516"/>
                  </a:lnTo>
                  <a:lnTo>
                    <a:pt x="1509" y="397"/>
                  </a:lnTo>
                  <a:lnTo>
                    <a:pt x="1469" y="292"/>
                  </a:lnTo>
                  <a:lnTo>
                    <a:pt x="1398" y="202"/>
                  </a:lnTo>
                  <a:lnTo>
                    <a:pt x="1319" y="136"/>
                  </a:lnTo>
                  <a:lnTo>
                    <a:pt x="1222" y="79"/>
                  </a:lnTo>
                  <a:lnTo>
                    <a:pt x="1116" y="39"/>
                  </a:lnTo>
                  <a:lnTo>
                    <a:pt x="1010" y="4"/>
                  </a:lnTo>
                  <a:lnTo>
                    <a:pt x="904" y="0"/>
                  </a:lnTo>
                  <a:lnTo>
                    <a:pt x="812" y="0"/>
                  </a:lnTo>
                  <a:lnTo>
                    <a:pt x="714" y="8"/>
                  </a:lnTo>
                  <a:lnTo>
                    <a:pt x="617" y="17"/>
                  </a:lnTo>
                  <a:lnTo>
                    <a:pt x="507" y="39"/>
                  </a:lnTo>
                  <a:lnTo>
                    <a:pt x="401" y="61"/>
                  </a:lnTo>
                  <a:lnTo>
                    <a:pt x="295" y="105"/>
                  </a:lnTo>
                  <a:lnTo>
                    <a:pt x="194" y="163"/>
                  </a:lnTo>
                  <a:lnTo>
                    <a:pt x="97" y="246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00338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990960" y="4437000"/>
              <a:ext cx="120960" cy="25920"/>
            </a:xfrm>
            <a:custGeom>
              <a:avLst/>
              <a:gdLst/>
              <a:ahLst/>
              <a:rect l="0" t="0" r="r" b="b"/>
              <a:pathLst>
                <a:path w="336" h="72">
                  <a:moveTo>
                    <a:pt x="269" y="29"/>
                  </a:moveTo>
                  <a:lnTo>
                    <a:pt x="322" y="0"/>
                  </a:lnTo>
                  <a:lnTo>
                    <a:pt x="230" y="0"/>
                  </a:lnTo>
                  <a:lnTo>
                    <a:pt x="158" y="0"/>
                  </a:lnTo>
                  <a:lnTo>
                    <a:pt x="74" y="0"/>
                  </a:lnTo>
                  <a:lnTo>
                    <a:pt x="4" y="9"/>
                  </a:lnTo>
                  <a:lnTo>
                    <a:pt x="0" y="72"/>
                  </a:lnTo>
                  <a:lnTo>
                    <a:pt x="70" y="67"/>
                  </a:lnTo>
                  <a:lnTo>
                    <a:pt x="149" y="67"/>
                  </a:lnTo>
                  <a:lnTo>
                    <a:pt x="225" y="67"/>
                  </a:lnTo>
                  <a:lnTo>
                    <a:pt x="283" y="58"/>
                  </a:lnTo>
                  <a:lnTo>
                    <a:pt x="336" y="33"/>
                  </a:lnTo>
                  <a:lnTo>
                    <a:pt x="283" y="58"/>
                  </a:lnTo>
                  <a:lnTo>
                    <a:pt x="309" y="63"/>
                  </a:lnTo>
                  <a:lnTo>
                    <a:pt x="336" y="33"/>
                  </a:lnTo>
                  <a:lnTo>
                    <a:pt x="336" y="14"/>
                  </a:lnTo>
                  <a:lnTo>
                    <a:pt x="322" y="0"/>
                  </a:lnTo>
                  <a:lnTo>
                    <a:pt x="26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87800" y="4379760"/>
              <a:ext cx="184680" cy="71640"/>
            </a:xfrm>
            <a:custGeom>
              <a:avLst/>
              <a:gdLst/>
              <a:ahLst/>
              <a:rect l="0" t="0" r="r" b="b"/>
              <a:pathLst>
                <a:path w="513" h="199">
                  <a:moveTo>
                    <a:pt x="513" y="0"/>
                  </a:moveTo>
                  <a:lnTo>
                    <a:pt x="513" y="0"/>
                  </a:lnTo>
                  <a:lnTo>
                    <a:pt x="465" y="4"/>
                  </a:lnTo>
                  <a:lnTo>
                    <a:pt x="412" y="4"/>
                  </a:lnTo>
                  <a:lnTo>
                    <a:pt x="344" y="4"/>
                  </a:lnTo>
                  <a:lnTo>
                    <a:pt x="265" y="17"/>
                  </a:lnTo>
                  <a:lnTo>
                    <a:pt x="203" y="30"/>
                  </a:lnTo>
                  <a:lnTo>
                    <a:pt x="119" y="61"/>
                  </a:lnTo>
                  <a:lnTo>
                    <a:pt x="48" y="115"/>
                  </a:lnTo>
                  <a:lnTo>
                    <a:pt x="0" y="195"/>
                  </a:lnTo>
                  <a:lnTo>
                    <a:pt x="66" y="199"/>
                  </a:lnTo>
                  <a:lnTo>
                    <a:pt x="110" y="146"/>
                  </a:lnTo>
                  <a:lnTo>
                    <a:pt x="146" y="111"/>
                  </a:lnTo>
                  <a:lnTo>
                    <a:pt x="203" y="92"/>
                  </a:lnTo>
                  <a:lnTo>
                    <a:pt x="265" y="74"/>
                  </a:lnTo>
                  <a:lnTo>
                    <a:pt x="331" y="70"/>
                  </a:lnTo>
                  <a:lnTo>
                    <a:pt x="394" y="70"/>
                  </a:lnTo>
                  <a:lnTo>
                    <a:pt x="451" y="74"/>
                  </a:lnTo>
                  <a:lnTo>
                    <a:pt x="504" y="61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64200" y="4381560"/>
              <a:ext cx="195480" cy="119520"/>
            </a:xfrm>
            <a:custGeom>
              <a:avLst/>
              <a:gdLst/>
              <a:ahLst/>
              <a:rect l="0" t="0" r="r" b="b"/>
              <a:pathLst>
                <a:path w="543" h="332">
                  <a:moveTo>
                    <a:pt x="543" y="284"/>
                  </a:moveTo>
                  <a:lnTo>
                    <a:pt x="543" y="284"/>
                  </a:lnTo>
                  <a:lnTo>
                    <a:pt x="508" y="243"/>
                  </a:lnTo>
                  <a:lnTo>
                    <a:pt x="455" y="203"/>
                  </a:lnTo>
                  <a:lnTo>
                    <a:pt x="389" y="155"/>
                  </a:lnTo>
                  <a:lnTo>
                    <a:pt x="318" y="102"/>
                  </a:lnTo>
                  <a:lnTo>
                    <a:pt x="229" y="57"/>
                  </a:lnTo>
                  <a:lnTo>
                    <a:pt x="149" y="35"/>
                  </a:lnTo>
                  <a:lnTo>
                    <a:pt x="74" y="4"/>
                  </a:lnTo>
                  <a:lnTo>
                    <a:pt x="8" y="0"/>
                  </a:lnTo>
                  <a:lnTo>
                    <a:pt x="0" y="61"/>
                  </a:lnTo>
                  <a:lnTo>
                    <a:pt x="39" y="66"/>
                  </a:lnTo>
                  <a:lnTo>
                    <a:pt x="97" y="93"/>
                  </a:lnTo>
                  <a:lnTo>
                    <a:pt x="176" y="115"/>
                  </a:lnTo>
                  <a:lnTo>
                    <a:pt x="251" y="146"/>
                  </a:lnTo>
                  <a:lnTo>
                    <a:pt x="318" y="199"/>
                  </a:lnTo>
                  <a:lnTo>
                    <a:pt x="389" y="253"/>
                  </a:lnTo>
                  <a:lnTo>
                    <a:pt x="437" y="293"/>
                  </a:lnTo>
                  <a:lnTo>
                    <a:pt x="455" y="332"/>
                  </a:lnTo>
                  <a:lnTo>
                    <a:pt x="543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22880" y="4484520"/>
              <a:ext cx="143280" cy="173520"/>
            </a:xfrm>
            <a:custGeom>
              <a:avLst/>
              <a:gdLst/>
              <a:ahLst/>
              <a:rect l="0" t="0" r="r" b="b"/>
              <a:pathLst>
                <a:path w="398" h="482">
                  <a:moveTo>
                    <a:pt x="83" y="447"/>
                  </a:moveTo>
                  <a:lnTo>
                    <a:pt x="39" y="482"/>
                  </a:lnTo>
                  <a:lnTo>
                    <a:pt x="115" y="456"/>
                  </a:lnTo>
                  <a:lnTo>
                    <a:pt x="190" y="412"/>
                  </a:lnTo>
                  <a:lnTo>
                    <a:pt x="265" y="358"/>
                  </a:lnTo>
                  <a:lnTo>
                    <a:pt x="319" y="287"/>
                  </a:lnTo>
                  <a:lnTo>
                    <a:pt x="359" y="217"/>
                  </a:lnTo>
                  <a:lnTo>
                    <a:pt x="385" y="142"/>
                  </a:lnTo>
                  <a:lnTo>
                    <a:pt x="398" y="70"/>
                  </a:lnTo>
                  <a:lnTo>
                    <a:pt x="381" y="0"/>
                  </a:lnTo>
                  <a:lnTo>
                    <a:pt x="296" y="44"/>
                  </a:lnTo>
                  <a:lnTo>
                    <a:pt x="323" y="97"/>
                  </a:lnTo>
                  <a:lnTo>
                    <a:pt x="310" y="155"/>
                  </a:lnTo>
                  <a:lnTo>
                    <a:pt x="292" y="212"/>
                  </a:lnTo>
                  <a:lnTo>
                    <a:pt x="252" y="278"/>
                  </a:lnTo>
                  <a:lnTo>
                    <a:pt x="199" y="331"/>
                  </a:lnTo>
                  <a:lnTo>
                    <a:pt x="155" y="376"/>
                  </a:lnTo>
                  <a:lnTo>
                    <a:pt x="97" y="407"/>
                  </a:lnTo>
                  <a:lnTo>
                    <a:pt x="44" y="420"/>
                  </a:lnTo>
                  <a:lnTo>
                    <a:pt x="0" y="456"/>
                  </a:lnTo>
                  <a:lnTo>
                    <a:pt x="44" y="420"/>
                  </a:lnTo>
                  <a:lnTo>
                    <a:pt x="26" y="429"/>
                  </a:lnTo>
                  <a:lnTo>
                    <a:pt x="0" y="456"/>
                  </a:lnTo>
                  <a:lnTo>
                    <a:pt x="8" y="482"/>
                  </a:lnTo>
                  <a:lnTo>
                    <a:pt x="39" y="482"/>
                  </a:lnTo>
                  <a:lnTo>
                    <a:pt x="83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284720" y="4645080"/>
              <a:ext cx="70200" cy="87840"/>
            </a:xfrm>
            <a:custGeom>
              <a:avLst/>
              <a:gdLst/>
              <a:ahLst/>
              <a:rect l="0" t="0" r="r" b="b"/>
              <a:pathLst>
                <a:path w="195" h="244">
                  <a:moveTo>
                    <a:pt x="35" y="196"/>
                  </a:moveTo>
                  <a:lnTo>
                    <a:pt x="61" y="231"/>
                  </a:lnTo>
                  <a:lnTo>
                    <a:pt x="106" y="172"/>
                  </a:lnTo>
                  <a:lnTo>
                    <a:pt x="146" y="120"/>
                  </a:lnTo>
                  <a:lnTo>
                    <a:pt x="172" y="62"/>
                  </a:lnTo>
                  <a:lnTo>
                    <a:pt x="195" y="0"/>
                  </a:lnTo>
                  <a:lnTo>
                    <a:pt x="111" y="13"/>
                  </a:lnTo>
                  <a:lnTo>
                    <a:pt x="98" y="67"/>
                  </a:lnTo>
                  <a:lnTo>
                    <a:pt x="79" y="115"/>
                  </a:lnTo>
                  <a:lnTo>
                    <a:pt x="39" y="168"/>
                  </a:lnTo>
                  <a:lnTo>
                    <a:pt x="4" y="213"/>
                  </a:lnTo>
                  <a:lnTo>
                    <a:pt x="39" y="244"/>
                  </a:lnTo>
                  <a:lnTo>
                    <a:pt x="4" y="213"/>
                  </a:lnTo>
                  <a:lnTo>
                    <a:pt x="0" y="240"/>
                  </a:lnTo>
                  <a:lnTo>
                    <a:pt x="13" y="240"/>
                  </a:lnTo>
                  <a:lnTo>
                    <a:pt x="39" y="240"/>
                  </a:lnTo>
                  <a:lnTo>
                    <a:pt x="61" y="231"/>
                  </a:lnTo>
                  <a:lnTo>
                    <a:pt x="35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95880" y="4462560"/>
              <a:ext cx="249480" cy="270360"/>
            </a:xfrm>
            <a:custGeom>
              <a:avLst/>
              <a:gdLst/>
              <a:ahLst/>
              <a:rect l="0" t="0" r="r" b="b"/>
              <a:pathLst>
                <a:path w="693" h="751">
                  <a:moveTo>
                    <a:pt x="609" y="30"/>
                  </a:moveTo>
                  <a:lnTo>
                    <a:pt x="609" y="30"/>
                  </a:lnTo>
                  <a:lnTo>
                    <a:pt x="618" y="141"/>
                  </a:lnTo>
                  <a:lnTo>
                    <a:pt x="596" y="239"/>
                  </a:lnTo>
                  <a:lnTo>
                    <a:pt x="521" y="349"/>
                  </a:lnTo>
                  <a:lnTo>
                    <a:pt x="433" y="450"/>
                  </a:lnTo>
                  <a:lnTo>
                    <a:pt x="330" y="538"/>
                  </a:lnTo>
                  <a:lnTo>
                    <a:pt x="220" y="610"/>
                  </a:lnTo>
                  <a:lnTo>
                    <a:pt x="105" y="672"/>
                  </a:lnTo>
                  <a:lnTo>
                    <a:pt x="0" y="698"/>
                  </a:lnTo>
                  <a:lnTo>
                    <a:pt x="8" y="751"/>
                  </a:lnTo>
                  <a:lnTo>
                    <a:pt x="127" y="716"/>
                  </a:lnTo>
                  <a:lnTo>
                    <a:pt x="246" y="659"/>
                  </a:lnTo>
                  <a:lnTo>
                    <a:pt x="371" y="575"/>
                  </a:lnTo>
                  <a:lnTo>
                    <a:pt x="494" y="481"/>
                  </a:lnTo>
                  <a:lnTo>
                    <a:pt x="591" y="358"/>
                  </a:lnTo>
                  <a:lnTo>
                    <a:pt x="658" y="243"/>
                  </a:lnTo>
                  <a:lnTo>
                    <a:pt x="693" y="119"/>
                  </a:lnTo>
                  <a:lnTo>
                    <a:pt x="684" y="0"/>
                  </a:lnTo>
                  <a:lnTo>
                    <a:pt x="60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75000" y="4313160"/>
              <a:ext cx="268560" cy="160560"/>
            </a:xfrm>
            <a:custGeom>
              <a:avLst/>
              <a:gdLst/>
              <a:ahLst/>
              <a:rect l="0" t="0" r="r" b="b"/>
              <a:pathLst>
                <a:path w="746" h="446">
                  <a:moveTo>
                    <a:pt x="0" y="57"/>
                  </a:moveTo>
                  <a:lnTo>
                    <a:pt x="0" y="57"/>
                  </a:lnTo>
                  <a:lnTo>
                    <a:pt x="83" y="61"/>
                  </a:lnTo>
                  <a:lnTo>
                    <a:pt x="185" y="70"/>
                  </a:lnTo>
                  <a:lnTo>
                    <a:pt x="282" y="92"/>
                  </a:lnTo>
                  <a:lnTo>
                    <a:pt x="393" y="136"/>
                  </a:lnTo>
                  <a:lnTo>
                    <a:pt x="486" y="185"/>
                  </a:lnTo>
                  <a:lnTo>
                    <a:pt x="561" y="261"/>
                  </a:lnTo>
                  <a:lnTo>
                    <a:pt x="636" y="340"/>
                  </a:lnTo>
                  <a:lnTo>
                    <a:pt x="671" y="446"/>
                  </a:lnTo>
                  <a:lnTo>
                    <a:pt x="746" y="411"/>
                  </a:lnTo>
                  <a:lnTo>
                    <a:pt x="706" y="305"/>
                  </a:lnTo>
                  <a:lnTo>
                    <a:pt x="622" y="211"/>
                  </a:lnTo>
                  <a:lnTo>
                    <a:pt x="552" y="145"/>
                  </a:lnTo>
                  <a:lnTo>
                    <a:pt x="446" y="74"/>
                  </a:lnTo>
                  <a:lnTo>
                    <a:pt x="339" y="35"/>
                  </a:lnTo>
                  <a:lnTo>
                    <a:pt x="220" y="13"/>
                  </a:lnTo>
                  <a:lnTo>
                    <a:pt x="119" y="0"/>
                  </a:lnTo>
                  <a:lnTo>
                    <a:pt x="8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981600" y="4311720"/>
              <a:ext cx="303480" cy="152640"/>
            </a:xfrm>
            <a:custGeom>
              <a:avLst/>
              <a:gdLst/>
              <a:ahLst/>
              <a:rect l="0" t="0" r="r" b="b"/>
              <a:pathLst>
                <a:path w="843" h="424">
                  <a:moveTo>
                    <a:pt x="39" y="358"/>
                  </a:moveTo>
                  <a:lnTo>
                    <a:pt x="70" y="397"/>
                  </a:lnTo>
                  <a:lnTo>
                    <a:pt x="158" y="292"/>
                  </a:lnTo>
                  <a:lnTo>
                    <a:pt x="242" y="217"/>
                  </a:lnTo>
                  <a:lnTo>
                    <a:pt x="339" y="167"/>
                  </a:lnTo>
                  <a:lnTo>
                    <a:pt x="428" y="123"/>
                  </a:lnTo>
                  <a:lnTo>
                    <a:pt x="543" y="97"/>
                  </a:lnTo>
                  <a:lnTo>
                    <a:pt x="644" y="79"/>
                  </a:lnTo>
                  <a:lnTo>
                    <a:pt x="746" y="74"/>
                  </a:lnTo>
                  <a:lnTo>
                    <a:pt x="834" y="61"/>
                  </a:lnTo>
                  <a:lnTo>
                    <a:pt x="843" y="0"/>
                  </a:lnTo>
                  <a:lnTo>
                    <a:pt x="759" y="8"/>
                  </a:lnTo>
                  <a:lnTo>
                    <a:pt x="653" y="22"/>
                  </a:lnTo>
                  <a:lnTo>
                    <a:pt x="534" y="39"/>
                  </a:lnTo>
                  <a:lnTo>
                    <a:pt x="424" y="61"/>
                  </a:lnTo>
                  <a:lnTo>
                    <a:pt x="313" y="105"/>
                  </a:lnTo>
                  <a:lnTo>
                    <a:pt x="207" y="167"/>
                  </a:lnTo>
                  <a:lnTo>
                    <a:pt x="101" y="256"/>
                  </a:lnTo>
                  <a:lnTo>
                    <a:pt x="0" y="384"/>
                  </a:lnTo>
                  <a:lnTo>
                    <a:pt x="35" y="419"/>
                  </a:lnTo>
                  <a:lnTo>
                    <a:pt x="0" y="384"/>
                  </a:lnTo>
                  <a:lnTo>
                    <a:pt x="0" y="402"/>
                  </a:lnTo>
                  <a:lnTo>
                    <a:pt x="17" y="424"/>
                  </a:lnTo>
                  <a:lnTo>
                    <a:pt x="52" y="411"/>
                  </a:lnTo>
                  <a:lnTo>
                    <a:pt x="70" y="397"/>
                  </a:lnTo>
                  <a:lnTo>
                    <a:pt x="39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87680" y="4583160"/>
              <a:ext cx="1062360" cy="484560"/>
            </a:xfrm>
            <a:custGeom>
              <a:avLst/>
              <a:gdLst/>
              <a:ahLst/>
              <a:rect l="0" t="0" r="r" b="b"/>
              <a:pathLst>
                <a:path w="2951" h="1346">
                  <a:moveTo>
                    <a:pt x="2951" y="0"/>
                  </a:moveTo>
                  <a:lnTo>
                    <a:pt x="2924" y="22"/>
                  </a:lnTo>
                  <a:lnTo>
                    <a:pt x="2907" y="52"/>
                  </a:lnTo>
                  <a:lnTo>
                    <a:pt x="2884" y="74"/>
                  </a:lnTo>
                  <a:lnTo>
                    <a:pt x="2862" y="105"/>
                  </a:lnTo>
                  <a:lnTo>
                    <a:pt x="2792" y="110"/>
                  </a:lnTo>
                  <a:lnTo>
                    <a:pt x="2682" y="110"/>
                  </a:lnTo>
                  <a:lnTo>
                    <a:pt x="2554" y="127"/>
                  </a:lnTo>
                  <a:lnTo>
                    <a:pt x="2399" y="136"/>
                  </a:lnTo>
                  <a:lnTo>
                    <a:pt x="2245" y="154"/>
                  </a:lnTo>
                  <a:lnTo>
                    <a:pt x="2069" y="180"/>
                  </a:lnTo>
                  <a:lnTo>
                    <a:pt x="1883" y="202"/>
                  </a:lnTo>
                  <a:lnTo>
                    <a:pt x="1703" y="229"/>
                  </a:lnTo>
                  <a:lnTo>
                    <a:pt x="1513" y="260"/>
                  </a:lnTo>
                  <a:lnTo>
                    <a:pt x="1336" y="277"/>
                  </a:lnTo>
                  <a:lnTo>
                    <a:pt x="1159" y="304"/>
                  </a:lnTo>
                  <a:lnTo>
                    <a:pt x="1001" y="335"/>
                  </a:lnTo>
                  <a:lnTo>
                    <a:pt x="855" y="358"/>
                  </a:lnTo>
                  <a:lnTo>
                    <a:pt x="736" y="371"/>
                  </a:lnTo>
                  <a:lnTo>
                    <a:pt x="648" y="384"/>
                  </a:lnTo>
                  <a:lnTo>
                    <a:pt x="582" y="393"/>
                  </a:lnTo>
                  <a:lnTo>
                    <a:pt x="454" y="446"/>
                  </a:lnTo>
                  <a:lnTo>
                    <a:pt x="335" y="543"/>
                  </a:lnTo>
                  <a:lnTo>
                    <a:pt x="260" y="653"/>
                  </a:lnTo>
                  <a:lnTo>
                    <a:pt x="207" y="785"/>
                  </a:lnTo>
                  <a:lnTo>
                    <a:pt x="202" y="918"/>
                  </a:lnTo>
                  <a:lnTo>
                    <a:pt x="233" y="1042"/>
                  </a:lnTo>
                  <a:lnTo>
                    <a:pt x="339" y="1130"/>
                  </a:lnTo>
                  <a:lnTo>
                    <a:pt x="502" y="1183"/>
                  </a:lnTo>
                  <a:lnTo>
                    <a:pt x="608" y="1183"/>
                  </a:lnTo>
                  <a:lnTo>
                    <a:pt x="749" y="1179"/>
                  </a:lnTo>
                  <a:lnTo>
                    <a:pt x="886" y="1170"/>
                  </a:lnTo>
                  <a:lnTo>
                    <a:pt x="1058" y="1148"/>
                  </a:lnTo>
                  <a:lnTo>
                    <a:pt x="1217" y="1122"/>
                  </a:lnTo>
                  <a:lnTo>
                    <a:pt x="1397" y="1086"/>
                  </a:lnTo>
                  <a:lnTo>
                    <a:pt x="1575" y="1051"/>
                  </a:lnTo>
                  <a:lnTo>
                    <a:pt x="1760" y="1011"/>
                  </a:lnTo>
                  <a:lnTo>
                    <a:pt x="1928" y="971"/>
                  </a:lnTo>
                  <a:lnTo>
                    <a:pt x="2095" y="931"/>
                  </a:lnTo>
                  <a:lnTo>
                    <a:pt x="2258" y="887"/>
                  </a:lnTo>
                  <a:lnTo>
                    <a:pt x="2404" y="852"/>
                  </a:lnTo>
                  <a:lnTo>
                    <a:pt x="2532" y="812"/>
                  </a:lnTo>
                  <a:lnTo>
                    <a:pt x="2638" y="777"/>
                  </a:lnTo>
                  <a:lnTo>
                    <a:pt x="2730" y="759"/>
                  </a:lnTo>
                  <a:lnTo>
                    <a:pt x="2796" y="733"/>
                  </a:lnTo>
                  <a:lnTo>
                    <a:pt x="2823" y="741"/>
                  </a:lnTo>
                  <a:lnTo>
                    <a:pt x="2849" y="750"/>
                  </a:lnTo>
                  <a:lnTo>
                    <a:pt x="2871" y="763"/>
                  </a:lnTo>
                  <a:lnTo>
                    <a:pt x="2902" y="772"/>
                  </a:lnTo>
                  <a:lnTo>
                    <a:pt x="2792" y="803"/>
                  </a:lnTo>
                  <a:lnTo>
                    <a:pt x="2664" y="847"/>
                  </a:lnTo>
                  <a:lnTo>
                    <a:pt x="2496" y="900"/>
                  </a:lnTo>
                  <a:lnTo>
                    <a:pt x="2324" y="949"/>
                  </a:lnTo>
                  <a:lnTo>
                    <a:pt x="2130" y="1002"/>
                  </a:lnTo>
                  <a:lnTo>
                    <a:pt x="1936" y="1051"/>
                  </a:lnTo>
                  <a:lnTo>
                    <a:pt x="1720" y="1117"/>
                  </a:lnTo>
                  <a:lnTo>
                    <a:pt x="1517" y="1166"/>
                  </a:lnTo>
                  <a:lnTo>
                    <a:pt x="1314" y="1214"/>
                  </a:lnTo>
                  <a:lnTo>
                    <a:pt x="1111" y="1258"/>
                  </a:lnTo>
                  <a:lnTo>
                    <a:pt x="908" y="1294"/>
                  </a:lnTo>
                  <a:lnTo>
                    <a:pt x="740" y="1316"/>
                  </a:lnTo>
                  <a:lnTo>
                    <a:pt x="577" y="1338"/>
                  </a:lnTo>
                  <a:lnTo>
                    <a:pt x="445" y="1346"/>
                  </a:lnTo>
                  <a:lnTo>
                    <a:pt x="343" y="1329"/>
                  </a:lnTo>
                  <a:lnTo>
                    <a:pt x="264" y="1307"/>
                  </a:lnTo>
                  <a:lnTo>
                    <a:pt x="167" y="1227"/>
                  </a:lnTo>
                  <a:lnTo>
                    <a:pt x="83" y="1130"/>
                  </a:lnTo>
                  <a:lnTo>
                    <a:pt x="35" y="1029"/>
                  </a:lnTo>
                  <a:lnTo>
                    <a:pt x="0" y="909"/>
                  </a:lnTo>
                  <a:lnTo>
                    <a:pt x="13" y="785"/>
                  </a:lnTo>
                  <a:lnTo>
                    <a:pt x="79" y="658"/>
                  </a:lnTo>
                  <a:lnTo>
                    <a:pt x="171" y="530"/>
                  </a:lnTo>
                  <a:lnTo>
                    <a:pt x="330" y="402"/>
                  </a:lnTo>
                  <a:lnTo>
                    <a:pt x="414" y="349"/>
                  </a:lnTo>
                  <a:lnTo>
                    <a:pt x="524" y="313"/>
                  </a:lnTo>
                  <a:lnTo>
                    <a:pt x="652" y="273"/>
                  </a:lnTo>
                  <a:lnTo>
                    <a:pt x="798" y="242"/>
                  </a:lnTo>
                  <a:lnTo>
                    <a:pt x="970" y="207"/>
                  </a:lnTo>
                  <a:lnTo>
                    <a:pt x="1146" y="185"/>
                  </a:lnTo>
                  <a:lnTo>
                    <a:pt x="1340" y="154"/>
                  </a:lnTo>
                  <a:lnTo>
                    <a:pt x="1535" y="127"/>
                  </a:lnTo>
                  <a:lnTo>
                    <a:pt x="1738" y="110"/>
                  </a:lnTo>
                  <a:lnTo>
                    <a:pt x="1941" y="92"/>
                  </a:lnTo>
                  <a:lnTo>
                    <a:pt x="2122" y="70"/>
                  </a:lnTo>
                  <a:lnTo>
                    <a:pt x="2320" y="57"/>
                  </a:lnTo>
                  <a:lnTo>
                    <a:pt x="2496" y="39"/>
                  </a:lnTo>
                  <a:lnTo>
                    <a:pt x="2677" y="26"/>
                  </a:lnTo>
                  <a:lnTo>
                    <a:pt x="2818" y="13"/>
                  </a:lnTo>
                  <a:lnTo>
                    <a:pt x="2951" y="0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08280" y="4576680"/>
              <a:ext cx="47880" cy="54360"/>
            </a:xfrm>
            <a:custGeom>
              <a:avLst/>
              <a:gdLst/>
              <a:ahLst/>
              <a:rect l="0" t="0" r="r" b="b"/>
              <a:pathLst>
                <a:path w="133" h="151">
                  <a:moveTo>
                    <a:pt x="17" y="151"/>
                  </a:moveTo>
                  <a:lnTo>
                    <a:pt x="61" y="134"/>
                  </a:lnTo>
                  <a:lnTo>
                    <a:pt x="84" y="102"/>
                  </a:lnTo>
                  <a:lnTo>
                    <a:pt x="98" y="80"/>
                  </a:lnTo>
                  <a:lnTo>
                    <a:pt x="120" y="58"/>
                  </a:lnTo>
                  <a:lnTo>
                    <a:pt x="133" y="35"/>
                  </a:lnTo>
                  <a:lnTo>
                    <a:pt x="75" y="0"/>
                  </a:lnTo>
                  <a:lnTo>
                    <a:pt x="61" y="22"/>
                  </a:lnTo>
                  <a:lnTo>
                    <a:pt x="39" y="49"/>
                  </a:lnTo>
                  <a:lnTo>
                    <a:pt x="26" y="67"/>
                  </a:lnTo>
                  <a:lnTo>
                    <a:pt x="0" y="116"/>
                  </a:lnTo>
                  <a:lnTo>
                    <a:pt x="44" y="93"/>
                  </a:lnTo>
                  <a:lnTo>
                    <a:pt x="0" y="116"/>
                  </a:lnTo>
                  <a:lnTo>
                    <a:pt x="0" y="134"/>
                  </a:lnTo>
                  <a:lnTo>
                    <a:pt x="17" y="151"/>
                  </a:lnTo>
                  <a:lnTo>
                    <a:pt x="44" y="143"/>
                  </a:lnTo>
                  <a:lnTo>
                    <a:pt x="61" y="134"/>
                  </a:lnTo>
                  <a:lnTo>
                    <a:pt x="17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95760" y="4605480"/>
              <a:ext cx="830520" cy="132120"/>
            </a:xfrm>
            <a:custGeom>
              <a:avLst/>
              <a:gdLst/>
              <a:ahLst/>
              <a:rect l="0" t="0" r="r" b="b"/>
              <a:pathLst>
                <a:path w="2307" h="367">
                  <a:moveTo>
                    <a:pt x="8" y="358"/>
                  </a:moveTo>
                  <a:lnTo>
                    <a:pt x="0" y="367"/>
                  </a:lnTo>
                  <a:lnTo>
                    <a:pt x="79" y="349"/>
                  </a:lnTo>
                  <a:lnTo>
                    <a:pt x="154" y="340"/>
                  </a:lnTo>
                  <a:lnTo>
                    <a:pt x="277" y="322"/>
                  </a:lnTo>
                  <a:lnTo>
                    <a:pt x="423" y="300"/>
                  </a:lnTo>
                  <a:lnTo>
                    <a:pt x="582" y="269"/>
                  </a:lnTo>
                  <a:lnTo>
                    <a:pt x="749" y="247"/>
                  </a:lnTo>
                  <a:lnTo>
                    <a:pt x="934" y="217"/>
                  </a:lnTo>
                  <a:lnTo>
                    <a:pt x="1124" y="195"/>
                  </a:lnTo>
                  <a:lnTo>
                    <a:pt x="1310" y="163"/>
                  </a:lnTo>
                  <a:lnTo>
                    <a:pt x="1482" y="136"/>
                  </a:lnTo>
                  <a:lnTo>
                    <a:pt x="1663" y="119"/>
                  </a:lnTo>
                  <a:lnTo>
                    <a:pt x="1831" y="92"/>
                  </a:lnTo>
                  <a:lnTo>
                    <a:pt x="1976" y="79"/>
                  </a:lnTo>
                  <a:lnTo>
                    <a:pt x="2108" y="61"/>
                  </a:lnTo>
                  <a:lnTo>
                    <a:pt x="2210" y="61"/>
                  </a:lnTo>
                  <a:lnTo>
                    <a:pt x="2272" y="61"/>
                  </a:lnTo>
                  <a:lnTo>
                    <a:pt x="2307" y="0"/>
                  </a:lnTo>
                  <a:lnTo>
                    <a:pt x="2223" y="4"/>
                  </a:lnTo>
                  <a:lnTo>
                    <a:pt x="2117" y="4"/>
                  </a:lnTo>
                  <a:lnTo>
                    <a:pt x="1985" y="17"/>
                  </a:lnTo>
                  <a:lnTo>
                    <a:pt x="1835" y="35"/>
                  </a:lnTo>
                  <a:lnTo>
                    <a:pt x="1681" y="57"/>
                  </a:lnTo>
                  <a:lnTo>
                    <a:pt x="1500" y="79"/>
                  </a:lnTo>
                  <a:lnTo>
                    <a:pt x="1319" y="101"/>
                  </a:lnTo>
                  <a:lnTo>
                    <a:pt x="1137" y="127"/>
                  </a:lnTo>
                  <a:lnTo>
                    <a:pt x="948" y="158"/>
                  </a:lnTo>
                  <a:lnTo>
                    <a:pt x="767" y="180"/>
                  </a:lnTo>
                  <a:lnTo>
                    <a:pt x="590" y="212"/>
                  </a:lnTo>
                  <a:lnTo>
                    <a:pt x="432" y="234"/>
                  </a:lnTo>
                  <a:lnTo>
                    <a:pt x="286" y="256"/>
                  </a:lnTo>
                  <a:lnTo>
                    <a:pt x="167" y="274"/>
                  </a:lnTo>
                  <a:lnTo>
                    <a:pt x="66" y="292"/>
                  </a:lnTo>
                  <a:lnTo>
                    <a:pt x="8" y="300"/>
                  </a:lnTo>
                  <a:lnTo>
                    <a:pt x="0" y="305"/>
                  </a:lnTo>
                  <a:lnTo>
                    <a:pt x="8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646360" y="4713120"/>
              <a:ext cx="154440" cy="302040"/>
            </a:xfrm>
            <a:custGeom>
              <a:avLst/>
              <a:gdLst/>
              <a:ahLst/>
              <a:rect l="0" t="0" r="r" b="b"/>
              <a:pathLst>
                <a:path w="429" h="839">
                  <a:moveTo>
                    <a:pt x="363" y="782"/>
                  </a:moveTo>
                  <a:lnTo>
                    <a:pt x="363" y="782"/>
                  </a:lnTo>
                  <a:lnTo>
                    <a:pt x="212" y="738"/>
                  </a:lnTo>
                  <a:lnTo>
                    <a:pt x="111" y="659"/>
                  </a:lnTo>
                  <a:lnTo>
                    <a:pt x="70" y="543"/>
                  </a:lnTo>
                  <a:lnTo>
                    <a:pt x="83" y="419"/>
                  </a:lnTo>
                  <a:lnTo>
                    <a:pt x="133" y="296"/>
                  </a:lnTo>
                  <a:lnTo>
                    <a:pt x="208" y="185"/>
                  </a:lnTo>
                  <a:lnTo>
                    <a:pt x="305" y="101"/>
                  </a:lnTo>
                  <a:lnTo>
                    <a:pt x="429" y="57"/>
                  </a:lnTo>
                  <a:lnTo>
                    <a:pt x="420" y="0"/>
                  </a:lnTo>
                  <a:lnTo>
                    <a:pt x="283" y="52"/>
                  </a:lnTo>
                  <a:lnTo>
                    <a:pt x="146" y="158"/>
                  </a:lnTo>
                  <a:lnTo>
                    <a:pt x="61" y="287"/>
                  </a:lnTo>
                  <a:lnTo>
                    <a:pt x="4" y="428"/>
                  </a:lnTo>
                  <a:lnTo>
                    <a:pt x="0" y="565"/>
                  </a:lnTo>
                  <a:lnTo>
                    <a:pt x="39" y="689"/>
                  </a:lnTo>
                  <a:lnTo>
                    <a:pt x="159" y="791"/>
                  </a:lnTo>
                  <a:lnTo>
                    <a:pt x="328" y="839"/>
                  </a:lnTo>
                  <a:lnTo>
                    <a:pt x="363" y="7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760840" y="4834080"/>
              <a:ext cx="848160" cy="187560"/>
            </a:xfrm>
            <a:custGeom>
              <a:avLst/>
              <a:gdLst/>
              <a:ahLst/>
              <a:rect l="0" t="0" r="r" b="b"/>
              <a:pathLst>
                <a:path w="2356" h="521">
                  <a:moveTo>
                    <a:pt x="2352" y="8"/>
                  </a:moveTo>
                  <a:lnTo>
                    <a:pt x="2308" y="8"/>
                  </a:lnTo>
                  <a:lnTo>
                    <a:pt x="2259" y="26"/>
                  </a:lnTo>
                  <a:lnTo>
                    <a:pt x="2162" y="52"/>
                  </a:lnTo>
                  <a:lnTo>
                    <a:pt x="2052" y="88"/>
                  </a:lnTo>
                  <a:lnTo>
                    <a:pt x="1924" y="127"/>
                  </a:lnTo>
                  <a:lnTo>
                    <a:pt x="1779" y="163"/>
                  </a:lnTo>
                  <a:lnTo>
                    <a:pt x="1614" y="207"/>
                  </a:lnTo>
                  <a:lnTo>
                    <a:pt x="1442" y="246"/>
                  </a:lnTo>
                  <a:lnTo>
                    <a:pt x="1275" y="287"/>
                  </a:lnTo>
                  <a:lnTo>
                    <a:pt x="1090" y="322"/>
                  </a:lnTo>
                  <a:lnTo>
                    <a:pt x="909" y="362"/>
                  </a:lnTo>
                  <a:lnTo>
                    <a:pt x="733" y="397"/>
                  </a:lnTo>
                  <a:lnTo>
                    <a:pt x="577" y="419"/>
                  </a:lnTo>
                  <a:lnTo>
                    <a:pt x="405" y="441"/>
                  </a:lnTo>
                  <a:lnTo>
                    <a:pt x="268" y="459"/>
                  </a:lnTo>
                  <a:lnTo>
                    <a:pt x="127" y="455"/>
                  </a:lnTo>
                  <a:lnTo>
                    <a:pt x="39" y="455"/>
                  </a:lnTo>
                  <a:lnTo>
                    <a:pt x="0" y="512"/>
                  </a:lnTo>
                  <a:lnTo>
                    <a:pt x="123" y="521"/>
                  </a:lnTo>
                  <a:lnTo>
                    <a:pt x="260" y="516"/>
                  </a:lnTo>
                  <a:lnTo>
                    <a:pt x="401" y="503"/>
                  </a:lnTo>
                  <a:lnTo>
                    <a:pt x="564" y="481"/>
                  </a:lnTo>
                  <a:lnTo>
                    <a:pt x="746" y="450"/>
                  </a:lnTo>
                  <a:lnTo>
                    <a:pt x="918" y="424"/>
                  </a:lnTo>
                  <a:lnTo>
                    <a:pt x="1103" y="380"/>
                  </a:lnTo>
                  <a:lnTo>
                    <a:pt x="1275" y="344"/>
                  </a:lnTo>
                  <a:lnTo>
                    <a:pt x="1451" y="300"/>
                  </a:lnTo>
                  <a:lnTo>
                    <a:pt x="1623" y="255"/>
                  </a:lnTo>
                  <a:lnTo>
                    <a:pt x="1779" y="216"/>
                  </a:lnTo>
                  <a:lnTo>
                    <a:pt x="1933" y="180"/>
                  </a:lnTo>
                  <a:lnTo>
                    <a:pt x="2056" y="141"/>
                  </a:lnTo>
                  <a:lnTo>
                    <a:pt x="2175" y="105"/>
                  </a:lnTo>
                  <a:lnTo>
                    <a:pt x="2259" y="83"/>
                  </a:lnTo>
                  <a:lnTo>
                    <a:pt x="2330" y="52"/>
                  </a:lnTo>
                  <a:lnTo>
                    <a:pt x="2295" y="57"/>
                  </a:lnTo>
                  <a:lnTo>
                    <a:pt x="2330" y="52"/>
                  </a:lnTo>
                  <a:lnTo>
                    <a:pt x="2356" y="35"/>
                  </a:lnTo>
                  <a:lnTo>
                    <a:pt x="2356" y="17"/>
                  </a:lnTo>
                  <a:lnTo>
                    <a:pt x="2339" y="0"/>
                  </a:lnTo>
                  <a:lnTo>
                    <a:pt x="2308" y="8"/>
                  </a:lnTo>
                  <a:lnTo>
                    <a:pt x="235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81280" y="4835520"/>
              <a:ext cx="60840" cy="35280"/>
            </a:xfrm>
            <a:custGeom>
              <a:avLst/>
              <a:gdLst/>
              <a:ahLst/>
              <a:rect l="0" t="0" r="r" b="b"/>
              <a:pathLst>
                <a:path w="169" h="98">
                  <a:moveTo>
                    <a:pt x="138" y="98"/>
                  </a:moveTo>
                  <a:lnTo>
                    <a:pt x="160" y="44"/>
                  </a:lnTo>
                  <a:lnTo>
                    <a:pt x="143" y="30"/>
                  </a:lnTo>
                  <a:lnTo>
                    <a:pt x="120" y="13"/>
                  </a:lnTo>
                  <a:lnTo>
                    <a:pt x="84" y="4"/>
                  </a:lnTo>
                  <a:lnTo>
                    <a:pt x="62" y="0"/>
                  </a:lnTo>
                  <a:lnTo>
                    <a:pt x="0" y="58"/>
                  </a:lnTo>
                  <a:lnTo>
                    <a:pt x="26" y="71"/>
                  </a:lnTo>
                  <a:lnTo>
                    <a:pt x="53" y="75"/>
                  </a:lnTo>
                  <a:lnTo>
                    <a:pt x="84" y="93"/>
                  </a:lnTo>
                  <a:lnTo>
                    <a:pt x="120" y="98"/>
                  </a:lnTo>
                  <a:lnTo>
                    <a:pt x="138" y="39"/>
                  </a:lnTo>
                  <a:lnTo>
                    <a:pt x="120" y="98"/>
                  </a:lnTo>
                  <a:lnTo>
                    <a:pt x="138" y="98"/>
                  </a:lnTo>
                  <a:lnTo>
                    <a:pt x="169" y="80"/>
                  </a:lnTo>
                  <a:lnTo>
                    <a:pt x="169" y="67"/>
                  </a:lnTo>
                  <a:lnTo>
                    <a:pt x="160" y="44"/>
                  </a:lnTo>
                  <a:lnTo>
                    <a:pt x="138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74800" y="4849920"/>
              <a:ext cx="959040" cy="225720"/>
            </a:xfrm>
            <a:custGeom>
              <a:avLst/>
              <a:gdLst/>
              <a:ahLst/>
              <a:rect l="0" t="0" r="r" b="b"/>
              <a:pathLst>
                <a:path w="2664" h="627">
                  <a:moveTo>
                    <a:pt x="0" y="583"/>
                  </a:moveTo>
                  <a:lnTo>
                    <a:pt x="4" y="583"/>
                  </a:lnTo>
                  <a:lnTo>
                    <a:pt x="92" y="613"/>
                  </a:lnTo>
                  <a:lnTo>
                    <a:pt x="189" y="627"/>
                  </a:lnTo>
                  <a:lnTo>
                    <a:pt x="330" y="618"/>
                  </a:lnTo>
                  <a:lnTo>
                    <a:pt x="489" y="609"/>
                  </a:lnTo>
                  <a:lnTo>
                    <a:pt x="674" y="578"/>
                  </a:lnTo>
                  <a:lnTo>
                    <a:pt x="868" y="538"/>
                  </a:lnTo>
                  <a:lnTo>
                    <a:pt x="1071" y="490"/>
                  </a:lnTo>
                  <a:lnTo>
                    <a:pt x="1278" y="446"/>
                  </a:lnTo>
                  <a:lnTo>
                    <a:pt x="1482" y="393"/>
                  </a:lnTo>
                  <a:lnTo>
                    <a:pt x="1703" y="331"/>
                  </a:lnTo>
                  <a:lnTo>
                    <a:pt x="1897" y="282"/>
                  </a:lnTo>
                  <a:lnTo>
                    <a:pt x="2095" y="229"/>
                  </a:lnTo>
                  <a:lnTo>
                    <a:pt x="2267" y="180"/>
                  </a:lnTo>
                  <a:lnTo>
                    <a:pt x="2435" y="123"/>
                  </a:lnTo>
                  <a:lnTo>
                    <a:pt x="2558" y="88"/>
                  </a:lnTo>
                  <a:lnTo>
                    <a:pt x="2664" y="57"/>
                  </a:lnTo>
                  <a:lnTo>
                    <a:pt x="2664" y="0"/>
                  </a:lnTo>
                  <a:lnTo>
                    <a:pt x="2554" y="35"/>
                  </a:lnTo>
                  <a:lnTo>
                    <a:pt x="2426" y="70"/>
                  </a:lnTo>
                  <a:lnTo>
                    <a:pt x="2258" y="127"/>
                  </a:lnTo>
                  <a:lnTo>
                    <a:pt x="2082" y="176"/>
                  </a:lnTo>
                  <a:lnTo>
                    <a:pt x="1888" y="224"/>
                  </a:lnTo>
                  <a:lnTo>
                    <a:pt x="1694" y="277"/>
                  </a:lnTo>
                  <a:lnTo>
                    <a:pt x="1478" y="344"/>
                  </a:lnTo>
                  <a:lnTo>
                    <a:pt x="1274" y="389"/>
                  </a:lnTo>
                  <a:lnTo>
                    <a:pt x="1067" y="441"/>
                  </a:lnTo>
                  <a:lnTo>
                    <a:pt x="868" y="481"/>
                  </a:lnTo>
                  <a:lnTo>
                    <a:pt x="674" y="521"/>
                  </a:lnTo>
                  <a:lnTo>
                    <a:pt x="502" y="543"/>
                  </a:lnTo>
                  <a:lnTo>
                    <a:pt x="348" y="552"/>
                  </a:lnTo>
                  <a:lnTo>
                    <a:pt x="224" y="569"/>
                  </a:lnTo>
                  <a:lnTo>
                    <a:pt x="114" y="552"/>
                  </a:lnTo>
                  <a:lnTo>
                    <a:pt x="61" y="530"/>
                  </a:lnTo>
                  <a:lnTo>
                    <a:pt x="61" y="534"/>
                  </a:lnTo>
                  <a:lnTo>
                    <a:pt x="0" y="5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576520" y="4716360"/>
              <a:ext cx="138600" cy="343440"/>
            </a:xfrm>
            <a:custGeom>
              <a:avLst/>
              <a:gdLst/>
              <a:ahLst/>
              <a:rect l="0" t="0" r="r" b="b"/>
              <a:pathLst>
                <a:path w="385" h="954">
                  <a:moveTo>
                    <a:pt x="337" y="0"/>
                  </a:moveTo>
                  <a:lnTo>
                    <a:pt x="337" y="0"/>
                  </a:lnTo>
                  <a:lnTo>
                    <a:pt x="177" y="132"/>
                  </a:lnTo>
                  <a:lnTo>
                    <a:pt x="74" y="278"/>
                  </a:lnTo>
                  <a:lnTo>
                    <a:pt x="13" y="411"/>
                  </a:lnTo>
                  <a:lnTo>
                    <a:pt x="0" y="543"/>
                  </a:lnTo>
                  <a:lnTo>
                    <a:pt x="30" y="671"/>
                  </a:lnTo>
                  <a:lnTo>
                    <a:pt x="79" y="773"/>
                  </a:lnTo>
                  <a:lnTo>
                    <a:pt x="172" y="870"/>
                  </a:lnTo>
                  <a:lnTo>
                    <a:pt x="278" y="954"/>
                  </a:lnTo>
                  <a:lnTo>
                    <a:pt x="337" y="905"/>
                  </a:lnTo>
                  <a:lnTo>
                    <a:pt x="234" y="826"/>
                  </a:lnTo>
                  <a:lnTo>
                    <a:pt x="146" y="738"/>
                  </a:lnTo>
                  <a:lnTo>
                    <a:pt x="98" y="636"/>
                  </a:lnTo>
                  <a:lnTo>
                    <a:pt x="74" y="516"/>
                  </a:lnTo>
                  <a:lnTo>
                    <a:pt x="92" y="406"/>
                  </a:lnTo>
                  <a:lnTo>
                    <a:pt x="142" y="287"/>
                  </a:lnTo>
                  <a:lnTo>
                    <a:pt x="234" y="158"/>
                  </a:lnTo>
                  <a:lnTo>
                    <a:pt x="385" y="39"/>
                  </a:lnTo>
                  <a:lnTo>
                    <a:pt x="3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00360" y="4568760"/>
              <a:ext cx="962280" cy="159120"/>
            </a:xfrm>
            <a:custGeom>
              <a:avLst/>
              <a:gdLst/>
              <a:ahLst/>
              <a:rect l="0" t="0" r="r" b="b"/>
              <a:pathLst>
                <a:path w="2673" h="442">
                  <a:moveTo>
                    <a:pt x="2668" y="48"/>
                  </a:moveTo>
                  <a:lnTo>
                    <a:pt x="2646" y="0"/>
                  </a:lnTo>
                  <a:lnTo>
                    <a:pt x="2514" y="13"/>
                  </a:lnTo>
                  <a:lnTo>
                    <a:pt x="2373" y="26"/>
                  </a:lnTo>
                  <a:lnTo>
                    <a:pt x="2201" y="39"/>
                  </a:lnTo>
                  <a:lnTo>
                    <a:pt x="2025" y="52"/>
                  </a:lnTo>
                  <a:lnTo>
                    <a:pt x="1831" y="74"/>
                  </a:lnTo>
                  <a:lnTo>
                    <a:pt x="1641" y="92"/>
                  </a:lnTo>
                  <a:lnTo>
                    <a:pt x="1438" y="105"/>
                  </a:lnTo>
                  <a:lnTo>
                    <a:pt x="1234" y="128"/>
                  </a:lnTo>
                  <a:lnTo>
                    <a:pt x="1036" y="155"/>
                  </a:lnTo>
                  <a:lnTo>
                    <a:pt x="842" y="186"/>
                  </a:lnTo>
                  <a:lnTo>
                    <a:pt x="661" y="203"/>
                  </a:lnTo>
                  <a:lnTo>
                    <a:pt x="480" y="243"/>
                  </a:lnTo>
                  <a:lnTo>
                    <a:pt x="339" y="278"/>
                  </a:lnTo>
                  <a:lnTo>
                    <a:pt x="211" y="314"/>
                  </a:lnTo>
                  <a:lnTo>
                    <a:pt x="92" y="354"/>
                  </a:lnTo>
                  <a:lnTo>
                    <a:pt x="0" y="412"/>
                  </a:lnTo>
                  <a:lnTo>
                    <a:pt x="44" y="442"/>
                  </a:lnTo>
                  <a:lnTo>
                    <a:pt x="114" y="407"/>
                  </a:lnTo>
                  <a:lnTo>
                    <a:pt x="220" y="368"/>
                  </a:lnTo>
                  <a:lnTo>
                    <a:pt x="348" y="337"/>
                  </a:lnTo>
                  <a:lnTo>
                    <a:pt x="498" y="296"/>
                  </a:lnTo>
                  <a:lnTo>
                    <a:pt x="648" y="274"/>
                  </a:lnTo>
                  <a:lnTo>
                    <a:pt x="824" y="247"/>
                  </a:lnTo>
                  <a:lnTo>
                    <a:pt x="1023" y="212"/>
                  </a:lnTo>
                  <a:lnTo>
                    <a:pt x="1225" y="195"/>
                  </a:lnTo>
                  <a:lnTo>
                    <a:pt x="1425" y="177"/>
                  </a:lnTo>
                  <a:lnTo>
                    <a:pt x="1623" y="150"/>
                  </a:lnTo>
                  <a:lnTo>
                    <a:pt x="1817" y="133"/>
                  </a:lnTo>
                  <a:lnTo>
                    <a:pt x="2007" y="115"/>
                  </a:lnTo>
                  <a:lnTo>
                    <a:pt x="2192" y="101"/>
                  </a:lnTo>
                  <a:lnTo>
                    <a:pt x="2355" y="88"/>
                  </a:lnTo>
                  <a:lnTo>
                    <a:pt x="2501" y="83"/>
                  </a:lnTo>
                  <a:lnTo>
                    <a:pt x="2633" y="70"/>
                  </a:lnTo>
                  <a:lnTo>
                    <a:pt x="2607" y="17"/>
                  </a:lnTo>
                  <a:lnTo>
                    <a:pt x="2633" y="70"/>
                  </a:lnTo>
                  <a:lnTo>
                    <a:pt x="2660" y="52"/>
                  </a:lnTo>
                  <a:lnTo>
                    <a:pt x="2673" y="22"/>
                  </a:lnTo>
                  <a:lnTo>
                    <a:pt x="2668" y="8"/>
                  </a:lnTo>
                  <a:lnTo>
                    <a:pt x="2646" y="0"/>
                  </a:lnTo>
                  <a:lnTo>
                    <a:pt x="266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660760" y="4616280"/>
              <a:ext cx="960840" cy="390960"/>
            </a:xfrm>
            <a:custGeom>
              <a:avLst/>
              <a:gdLst/>
              <a:ahLst/>
              <a:rect l="0" t="0" r="r" b="b"/>
              <a:pathLst>
                <a:path w="2669" h="1086">
                  <a:moveTo>
                    <a:pt x="2599" y="631"/>
                  </a:moveTo>
                  <a:lnTo>
                    <a:pt x="2542" y="574"/>
                  </a:lnTo>
                  <a:lnTo>
                    <a:pt x="2506" y="503"/>
                  </a:lnTo>
                  <a:lnTo>
                    <a:pt x="2502" y="428"/>
                  </a:lnTo>
                  <a:lnTo>
                    <a:pt x="2506" y="340"/>
                  </a:lnTo>
                  <a:lnTo>
                    <a:pt x="2537" y="246"/>
                  </a:lnTo>
                  <a:lnTo>
                    <a:pt x="2572" y="167"/>
                  </a:lnTo>
                  <a:lnTo>
                    <a:pt x="2621" y="70"/>
                  </a:lnTo>
                  <a:lnTo>
                    <a:pt x="2669" y="0"/>
                  </a:lnTo>
                  <a:lnTo>
                    <a:pt x="2590" y="4"/>
                  </a:lnTo>
                  <a:lnTo>
                    <a:pt x="2489" y="8"/>
                  </a:lnTo>
                  <a:lnTo>
                    <a:pt x="2352" y="22"/>
                  </a:lnTo>
                  <a:lnTo>
                    <a:pt x="2202" y="35"/>
                  </a:lnTo>
                  <a:lnTo>
                    <a:pt x="2048" y="52"/>
                  </a:lnTo>
                  <a:lnTo>
                    <a:pt x="1870" y="79"/>
                  </a:lnTo>
                  <a:lnTo>
                    <a:pt x="1685" y="97"/>
                  </a:lnTo>
                  <a:lnTo>
                    <a:pt x="1500" y="127"/>
                  </a:lnTo>
                  <a:lnTo>
                    <a:pt x="1315" y="154"/>
                  </a:lnTo>
                  <a:lnTo>
                    <a:pt x="1138" y="171"/>
                  </a:lnTo>
                  <a:lnTo>
                    <a:pt x="957" y="202"/>
                  </a:lnTo>
                  <a:lnTo>
                    <a:pt x="799" y="229"/>
                  </a:lnTo>
                  <a:lnTo>
                    <a:pt x="652" y="255"/>
                  </a:lnTo>
                  <a:lnTo>
                    <a:pt x="533" y="268"/>
                  </a:lnTo>
                  <a:lnTo>
                    <a:pt x="454" y="287"/>
                  </a:lnTo>
                  <a:lnTo>
                    <a:pt x="379" y="292"/>
                  </a:lnTo>
                  <a:lnTo>
                    <a:pt x="251" y="340"/>
                  </a:lnTo>
                  <a:lnTo>
                    <a:pt x="136" y="441"/>
                  </a:lnTo>
                  <a:lnTo>
                    <a:pt x="57" y="552"/>
                  </a:lnTo>
                  <a:lnTo>
                    <a:pt x="4" y="680"/>
                  </a:lnTo>
                  <a:lnTo>
                    <a:pt x="0" y="817"/>
                  </a:lnTo>
                  <a:lnTo>
                    <a:pt x="30" y="941"/>
                  </a:lnTo>
                  <a:lnTo>
                    <a:pt x="136" y="1029"/>
                  </a:lnTo>
                  <a:lnTo>
                    <a:pt x="299" y="1077"/>
                  </a:lnTo>
                  <a:lnTo>
                    <a:pt x="410" y="1086"/>
                  </a:lnTo>
                  <a:lnTo>
                    <a:pt x="546" y="1077"/>
                  </a:lnTo>
                  <a:lnTo>
                    <a:pt x="684" y="1069"/>
                  </a:lnTo>
                  <a:lnTo>
                    <a:pt x="860" y="1047"/>
                  </a:lnTo>
                  <a:lnTo>
                    <a:pt x="1024" y="1020"/>
                  </a:lnTo>
                  <a:lnTo>
                    <a:pt x="1196" y="985"/>
                  </a:lnTo>
                  <a:lnTo>
                    <a:pt x="1381" y="945"/>
                  </a:lnTo>
                  <a:lnTo>
                    <a:pt x="1557" y="910"/>
                  </a:lnTo>
                  <a:lnTo>
                    <a:pt x="1725" y="870"/>
                  </a:lnTo>
                  <a:lnTo>
                    <a:pt x="1901" y="831"/>
                  </a:lnTo>
                  <a:lnTo>
                    <a:pt x="2061" y="785"/>
                  </a:lnTo>
                  <a:lnTo>
                    <a:pt x="2211" y="750"/>
                  </a:lnTo>
                  <a:lnTo>
                    <a:pt x="2334" y="710"/>
                  </a:lnTo>
                  <a:lnTo>
                    <a:pt x="2449" y="675"/>
                  </a:lnTo>
                  <a:lnTo>
                    <a:pt x="2533" y="658"/>
                  </a:lnTo>
                  <a:lnTo>
                    <a:pt x="2599" y="631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46360" y="4608360"/>
              <a:ext cx="82800" cy="243360"/>
            </a:xfrm>
            <a:custGeom>
              <a:avLst/>
              <a:gdLst/>
              <a:ahLst/>
              <a:rect l="0" t="0" r="r" b="b"/>
              <a:pathLst>
                <a:path w="230" h="676">
                  <a:moveTo>
                    <a:pt x="177" y="57"/>
                  </a:moveTo>
                  <a:lnTo>
                    <a:pt x="159" y="22"/>
                  </a:lnTo>
                  <a:lnTo>
                    <a:pt x="114" y="97"/>
                  </a:lnTo>
                  <a:lnTo>
                    <a:pt x="74" y="177"/>
                  </a:lnTo>
                  <a:lnTo>
                    <a:pt x="44" y="274"/>
                  </a:lnTo>
                  <a:lnTo>
                    <a:pt x="8" y="358"/>
                  </a:lnTo>
                  <a:lnTo>
                    <a:pt x="0" y="455"/>
                  </a:lnTo>
                  <a:lnTo>
                    <a:pt x="13" y="544"/>
                  </a:lnTo>
                  <a:lnTo>
                    <a:pt x="44" y="614"/>
                  </a:lnTo>
                  <a:lnTo>
                    <a:pt x="110" y="676"/>
                  </a:lnTo>
                  <a:lnTo>
                    <a:pt x="168" y="632"/>
                  </a:lnTo>
                  <a:lnTo>
                    <a:pt x="120" y="575"/>
                  </a:lnTo>
                  <a:lnTo>
                    <a:pt x="83" y="509"/>
                  </a:lnTo>
                  <a:lnTo>
                    <a:pt x="74" y="441"/>
                  </a:lnTo>
                  <a:lnTo>
                    <a:pt x="88" y="353"/>
                  </a:lnTo>
                  <a:lnTo>
                    <a:pt x="114" y="269"/>
                  </a:lnTo>
                  <a:lnTo>
                    <a:pt x="146" y="186"/>
                  </a:lnTo>
                  <a:lnTo>
                    <a:pt x="186" y="105"/>
                  </a:lnTo>
                  <a:lnTo>
                    <a:pt x="230" y="35"/>
                  </a:lnTo>
                  <a:lnTo>
                    <a:pt x="212" y="0"/>
                  </a:lnTo>
                  <a:lnTo>
                    <a:pt x="230" y="35"/>
                  </a:lnTo>
                  <a:lnTo>
                    <a:pt x="225" y="8"/>
                  </a:lnTo>
                  <a:lnTo>
                    <a:pt x="212" y="0"/>
                  </a:lnTo>
                  <a:lnTo>
                    <a:pt x="190" y="0"/>
                  </a:lnTo>
                  <a:lnTo>
                    <a:pt x="159" y="22"/>
                  </a:lnTo>
                  <a:lnTo>
                    <a:pt x="177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795760" y="4605480"/>
              <a:ext cx="830520" cy="132120"/>
            </a:xfrm>
            <a:custGeom>
              <a:avLst/>
              <a:gdLst/>
              <a:ahLst/>
              <a:rect l="0" t="0" r="r" b="b"/>
              <a:pathLst>
                <a:path w="2307" h="367">
                  <a:moveTo>
                    <a:pt x="8" y="358"/>
                  </a:moveTo>
                  <a:lnTo>
                    <a:pt x="0" y="367"/>
                  </a:lnTo>
                  <a:lnTo>
                    <a:pt x="79" y="349"/>
                  </a:lnTo>
                  <a:lnTo>
                    <a:pt x="154" y="340"/>
                  </a:lnTo>
                  <a:lnTo>
                    <a:pt x="277" y="322"/>
                  </a:lnTo>
                  <a:lnTo>
                    <a:pt x="423" y="300"/>
                  </a:lnTo>
                  <a:lnTo>
                    <a:pt x="582" y="269"/>
                  </a:lnTo>
                  <a:lnTo>
                    <a:pt x="749" y="247"/>
                  </a:lnTo>
                  <a:lnTo>
                    <a:pt x="934" y="217"/>
                  </a:lnTo>
                  <a:lnTo>
                    <a:pt x="1124" y="195"/>
                  </a:lnTo>
                  <a:lnTo>
                    <a:pt x="1310" y="163"/>
                  </a:lnTo>
                  <a:lnTo>
                    <a:pt x="1482" y="136"/>
                  </a:lnTo>
                  <a:lnTo>
                    <a:pt x="1663" y="119"/>
                  </a:lnTo>
                  <a:lnTo>
                    <a:pt x="1831" y="92"/>
                  </a:lnTo>
                  <a:lnTo>
                    <a:pt x="1976" y="79"/>
                  </a:lnTo>
                  <a:lnTo>
                    <a:pt x="2108" y="61"/>
                  </a:lnTo>
                  <a:lnTo>
                    <a:pt x="2210" y="61"/>
                  </a:lnTo>
                  <a:lnTo>
                    <a:pt x="2272" y="61"/>
                  </a:lnTo>
                  <a:lnTo>
                    <a:pt x="2307" y="0"/>
                  </a:lnTo>
                  <a:lnTo>
                    <a:pt x="2223" y="4"/>
                  </a:lnTo>
                  <a:lnTo>
                    <a:pt x="2117" y="4"/>
                  </a:lnTo>
                  <a:lnTo>
                    <a:pt x="1985" y="17"/>
                  </a:lnTo>
                  <a:lnTo>
                    <a:pt x="1835" y="35"/>
                  </a:lnTo>
                  <a:lnTo>
                    <a:pt x="1681" y="57"/>
                  </a:lnTo>
                  <a:lnTo>
                    <a:pt x="1500" y="79"/>
                  </a:lnTo>
                  <a:lnTo>
                    <a:pt x="1319" y="101"/>
                  </a:lnTo>
                  <a:lnTo>
                    <a:pt x="1137" y="127"/>
                  </a:lnTo>
                  <a:lnTo>
                    <a:pt x="948" y="158"/>
                  </a:lnTo>
                  <a:lnTo>
                    <a:pt x="767" y="180"/>
                  </a:lnTo>
                  <a:lnTo>
                    <a:pt x="590" y="212"/>
                  </a:lnTo>
                  <a:lnTo>
                    <a:pt x="432" y="234"/>
                  </a:lnTo>
                  <a:lnTo>
                    <a:pt x="286" y="256"/>
                  </a:lnTo>
                  <a:lnTo>
                    <a:pt x="167" y="274"/>
                  </a:lnTo>
                  <a:lnTo>
                    <a:pt x="66" y="292"/>
                  </a:lnTo>
                  <a:lnTo>
                    <a:pt x="8" y="300"/>
                  </a:lnTo>
                  <a:lnTo>
                    <a:pt x="0" y="305"/>
                  </a:lnTo>
                  <a:lnTo>
                    <a:pt x="8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646360" y="4713120"/>
              <a:ext cx="154440" cy="302040"/>
            </a:xfrm>
            <a:custGeom>
              <a:avLst/>
              <a:gdLst/>
              <a:ahLst/>
              <a:rect l="0" t="0" r="r" b="b"/>
              <a:pathLst>
                <a:path w="429" h="839">
                  <a:moveTo>
                    <a:pt x="363" y="782"/>
                  </a:moveTo>
                  <a:lnTo>
                    <a:pt x="363" y="782"/>
                  </a:lnTo>
                  <a:lnTo>
                    <a:pt x="212" y="738"/>
                  </a:lnTo>
                  <a:lnTo>
                    <a:pt x="111" y="659"/>
                  </a:lnTo>
                  <a:lnTo>
                    <a:pt x="70" y="543"/>
                  </a:lnTo>
                  <a:lnTo>
                    <a:pt x="83" y="419"/>
                  </a:lnTo>
                  <a:lnTo>
                    <a:pt x="133" y="296"/>
                  </a:lnTo>
                  <a:lnTo>
                    <a:pt x="208" y="185"/>
                  </a:lnTo>
                  <a:lnTo>
                    <a:pt x="305" y="101"/>
                  </a:lnTo>
                  <a:lnTo>
                    <a:pt x="429" y="57"/>
                  </a:lnTo>
                  <a:lnTo>
                    <a:pt x="420" y="0"/>
                  </a:lnTo>
                  <a:lnTo>
                    <a:pt x="283" y="52"/>
                  </a:lnTo>
                  <a:lnTo>
                    <a:pt x="146" y="158"/>
                  </a:lnTo>
                  <a:lnTo>
                    <a:pt x="61" y="287"/>
                  </a:lnTo>
                  <a:lnTo>
                    <a:pt x="4" y="428"/>
                  </a:lnTo>
                  <a:lnTo>
                    <a:pt x="0" y="565"/>
                  </a:lnTo>
                  <a:lnTo>
                    <a:pt x="39" y="689"/>
                  </a:lnTo>
                  <a:lnTo>
                    <a:pt x="159" y="791"/>
                  </a:lnTo>
                  <a:lnTo>
                    <a:pt x="328" y="839"/>
                  </a:lnTo>
                  <a:lnTo>
                    <a:pt x="363" y="7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760840" y="4834080"/>
              <a:ext cx="848160" cy="187560"/>
            </a:xfrm>
            <a:custGeom>
              <a:avLst/>
              <a:gdLst/>
              <a:ahLst/>
              <a:rect l="0" t="0" r="r" b="b"/>
              <a:pathLst>
                <a:path w="2356" h="521">
                  <a:moveTo>
                    <a:pt x="2290" y="52"/>
                  </a:moveTo>
                  <a:lnTo>
                    <a:pt x="2308" y="8"/>
                  </a:lnTo>
                  <a:lnTo>
                    <a:pt x="2259" y="26"/>
                  </a:lnTo>
                  <a:lnTo>
                    <a:pt x="2162" y="52"/>
                  </a:lnTo>
                  <a:lnTo>
                    <a:pt x="2052" y="88"/>
                  </a:lnTo>
                  <a:lnTo>
                    <a:pt x="1924" y="127"/>
                  </a:lnTo>
                  <a:lnTo>
                    <a:pt x="1779" y="163"/>
                  </a:lnTo>
                  <a:lnTo>
                    <a:pt x="1614" y="207"/>
                  </a:lnTo>
                  <a:lnTo>
                    <a:pt x="1442" y="246"/>
                  </a:lnTo>
                  <a:lnTo>
                    <a:pt x="1275" y="287"/>
                  </a:lnTo>
                  <a:lnTo>
                    <a:pt x="1090" y="322"/>
                  </a:lnTo>
                  <a:lnTo>
                    <a:pt x="909" y="362"/>
                  </a:lnTo>
                  <a:lnTo>
                    <a:pt x="733" y="397"/>
                  </a:lnTo>
                  <a:lnTo>
                    <a:pt x="577" y="419"/>
                  </a:lnTo>
                  <a:lnTo>
                    <a:pt x="405" y="441"/>
                  </a:lnTo>
                  <a:lnTo>
                    <a:pt x="268" y="459"/>
                  </a:lnTo>
                  <a:lnTo>
                    <a:pt x="127" y="455"/>
                  </a:lnTo>
                  <a:lnTo>
                    <a:pt x="39" y="455"/>
                  </a:lnTo>
                  <a:lnTo>
                    <a:pt x="0" y="512"/>
                  </a:lnTo>
                  <a:lnTo>
                    <a:pt x="123" y="521"/>
                  </a:lnTo>
                  <a:lnTo>
                    <a:pt x="260" y="516"/>
                  </a:lnTo>
                  <a:lnTo>
                    <a:pt x="401" y="503"/>
                  </a:lnTo>
                  <a:lnTo>
                    <a:pt x="564" y="481"/>
                  </a:lnTo>
                  <a:lnTo>
                    <a:pt x="746" y="450"/>
                  </a:lnTo>
                  <a:lnTo>
                    <a:pt x="918" y="424"/>
                  </a:lnTo>
                  <a:lnTo>
                    <a:pt x="1103" y="380"/>
                  </a:lnTo>
                  <a:lnTo>
                    <a:pt x="1275" y="344"/>
                  </a:lnTo>
                  <a:lnTo>
                    <a:pt x="1451" y="300"/>
                  </a:lnTo>
                  <a:lnTo>
                    <a:pt x="1623" y="255"/>
                  </a:lnTo>
                  <a:lnTo>
                    <a:pt x="1779" y="216"/>
                  </a:lnTo>
                  <a:lnTo>
                    <a:pt x="1933" y="180"/>
                  </a:lnTo>
                  <a:lnTo>
                    <a:pt x="2056" y="141"/>
                  </a:lnTo>
                  <a:lnTo>
                    <a:pt x="2175" y="105"/>
                  </a:lnTo>
                  <a:lnTo>
                    <a:pt x="2259" y="83"/>
                  </a:lnTo>
                  <a:lnTo>
                    <a:pt x="2330" y="52"/>
                  </a:lnTo>
                  <a:lnTo>
                    <a:pt x="2356" y="13"/>
                  </a:lnTo>
                  <a:lnTo>
                    <a:pt x="2330" y="52"/>
                  </a:lnTo>
                  <a:lnTo>
                    <a:pt x="2356" y="35"/>
                  </a:lnTo>
                  <a:lnTo>
                    <a:pt x="2356" y="17"/>
                  </a:lnTo>
                  <a:lnTo>
                    <a:pt x="2339" y="0"/>
                  </a:lnTo>
                  <a:lnTo>
                    <a:pt x="2308" y="8"/>
                  </a:lnTo>
                  <a:lnTo>
                    <a:pt x="229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21280" y="4341960"/>
              <a:ext cx="182880" cy="103680"/>
            </a:xfrm>
            <a:custGeom>
              <a:avLst/>
              <a:gdLst/>
              <a:ahLst/>
              <a:rect l="0" t="0" r="r" b="b"/>
              <a:pathLst>
                <a:path w="508" h="288">
                  <a:moveTo>
                    <a:pt x="437" y="39"/>
                  </a:moveTo>
                  <a:lnTo>
                    <a:pt x="494" y="13"/>
                  </a:lnTo>
                  <a:lnTo>
                    <a:pt x="424" y="0"/>
                  </a:lnTo>
                  <a:lnTo>
                    <a:pt x="367" y="13"/>
                  </a:lnTo>
                  <a:lnTo>
                    <a:pt x="305" y="35"/>
                  </a:lnTo>
                  <a:lnTo>
                    <a:pt x="242" y="66"/>
                  </a:lnTo>
                  <a:lnTo>
                    <a:pt x="180" y="102"/>
                  </a:lnTo>
                  <a:lnTo>
                    <a:pt x="119" y="150"/>
                  </a:lnTo>
                  <a:lnTo>
                    <a:pt x="61" y="203"/>
                  </a:lnTo>
                  <a:lnTo>
                    <a:pt x="0" y="275"/>
                  </a:lnTo>
                  <a:lnTo>
                    <a:pt x="74" y="288"/>
                  </a:lnTo>
                  <a:lnTo>
                    <a:pt x="119" y="244"/>
                  </a:lnTo>
                  <a:lnTo>
                    <a:pt x="158" y="190"/>
                  </a:lnTo>
                  <a:lnTo>
                    <a:pt x="202" y="155"/>
                  </a:lnTo>
                  <a:lnTo>
                    <a:pt x="265" y="120"/>
                  </a:lnTo>
                  <a:lnTo>
                    <a:pt x="331" y="89"/>
                  </a:lnTo>
                  <a:lnTo>
                    <a:pt x="375" y="70"/>
                  </a:lnTo>
                  <a:lnTo>
                    <a:pt x="424" y="61"/>
                  </a:lnTo>
                  <a:lnTo>
                    <a:pt x="437" y="66"/>
                  </a:lnTo>
                  <a:lnTo>
                    <a:pt x="499" y="39"/>
                  </a:lnTo>
                  <a:lnTo>
                    <a:pt x="437" y="66"/>
                  </a:lnTo>
                  <a:lnTo>
                    <a:pt x="464" y="75"/>
                  </a:lnTo>
                  <a:lnTo>
                    <a:pt x="503" y="57"/>
                  </a:lnTo>
                  <a:lnTo>
                    <a:pt x="508" y="26"/>
                  </a:lnTo>
                  <a:lnTo>
                    <a:pt x="494" y="13"/>
                  </a:lnTo>
                  <a:lnTo>
                    <a:pt x="43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5880" y="4405320"/>
              <a:ext cx="227520" cy="214560"/>
            </a:xfrm>
            <a:custGeom>
              <a:avLst/>
              <a:gdLst/>
              <a:ahLst/>
              <a:rect l="0" t="0" r="r" b="b"/>
              <a:pathLst>
                <a:path w="632" h="596">
                  <a:moveTo>
                    <a:pt x="0" y="596"/>
                  </a:moveTo>
                  <a:lnTo>
                    <a:pt x="0" y="596"/>
                  </a:lnTo>
                  <a:lnTo>
                    <a:pt x="123" y="569"/>
                  </a:lnTo>
                  <a:lnTo>
                    <a:pt x="247" y="516"/>
                  </a:lnTo>
                  <a:lnTo>
                    <a:pt x="375" y="433"/>
                  </a:lnTo>
                  <a:lnTo>
                    <a:pt x="491" y="336"/>
                  </a:lnTo>
                  <a:lnTo>
                    <a:pt x="575" y="229"/>
                  </a:lnTo>
                  <a:lnTo>
                    <a:pt x="619" y="132"/>
                  </a:lnTo>
                  <a:lnTo>
                    <a:pt x="632" y="52"/>
                  </a:lnTo>
                  <a:lnTo>
                    <a:pt x="562" y="0"/>
                  </a:lnTo>
                  <a:lnTo>
                    <a:pt x="509" y="61"/>
                  </a:lnTo>
                  <a:lnTo>
                    <a:pt x="544" y="92"/>
                  </a:lnTo>
                  <a:lnTo>
                    <a:pt x="544" y="145"/>
                  </a:lnTo>
                  <a:lnTo>
                    <a:pt x="504" y="216"/>
                  </a:lnTo>
                  <a:lnTo>
                    <a:pt x="428" y="309"/>
                  </a:lnTo>
                  <a:lnTo>
                    <a:pt x="336" y="393"/>
                  </a:lnTo>
                  <a:lnTo>
                    <a:pt x="230" y="468"/>
                  </a:lnTo>
                  <a:lnTo>
                    <a:pt x="114" y="516"/>
                  </a:lnTo>
                  <a:lnTo>
                    <a:pt x="8" y="530"/>
                  </a:lnTo>
                  <a:lnTo>
                    <a:pt x="0" y="5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121280" y="4540320"/>
              <a:ext cx="176400" cy="78120"/>
            </a:xfrm>
            <a:custGeom>
              <a:avLst/>
              <a:gdLst/>
              <a:ahLst/>
              <a:rect l="0" t="0" r="r" b="b"/>
              <a:pathLst>
                <a:path w="490" h="217">
                  <a:moveTo>
                    <a:pt x="0" y="44"/>
                  </a:moveTo>
                  <a:lnTo>
                    <a:pt x="0" y="44"/>
                  </a:lnTo>
                  <a:lnTo>
                    <a:pt x="92" y="101"/>
                  </a:lnTo>
                  <a:lnTo>
                    <a:pt x="149" y="159"/>
                  </a:lnTo>
                  <a:lnTo>
                    <a:pt x="220" y="181"/>
                  </a:lnTo>
                  <a:lnTo>
                    <a:pt x="283" y="203"/>
                  </a:lnTo>
                  <a:lnTo>
                    <a:pt x="331" y="208"/>
                  </a:lnTo>
                  <a:lnTo>
                    <a:pt x="375" y="217"/>
                  </a:lnTo>
                  <a:lnTo>
                    <a:pt x="428" y="217"/>
                  </a:lnTo>
                  <a:lnTo>
                    <a:pt x="481" y="217"/>
                  </a:lnTo>
                  <a:lnTo>
                    <a:pt x="490" y="150"/>
                  </a:lnTo>
                  <a:lnTo>
                    <a:pt x="441" y="150"/>
                  </a:lnTo>
                  <a:lnTo>
                    <a:pt x="411" y="155"/>
                  </a:lnTo>
                  <a:lnTo>
                    <a:pt x="367" y="146"/>
                  </a:lnTo>
                  <a:lnTo>
                    <a:pt x="322" y="142"/>
                  </a:lnTo>
                  <a:lnTo>
                    <a:pt x="278" y="128"/>
                  </a:lnTo>
                  <a:lnTo>
                    <a:pt x="216" y="97"/>
                  </a:lnTo>
                  <a:lnTo>
                    <a:pt x="154" y="57"/>
                  </a:lnTo>
                  <a:lnTo>
                    <a:pt x="57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91040" y="4429080"/>
              <a:ext cx="57600" cy="133560"/>
            </a:xfrm>
            <a:custGeom>
              <a:avLst/>
              <a:gdLst/>
              <a:ahLst/>
              <a:rect l="0" t="0" r="r" b="b"/>
              <a:pathLst>
                <a:path w="160" h="371">
                  <a:moveTo>
                    <a:pt x="80" y="17"/>
                  </a:moveTo>
                  <a:lnTo>
                    <a:pt x="102" y="8"/>
                  </a:lnTo>
                  <a:lnTo>
                    <a:pt x="26" y="105"/>
                  </a:lnTo>
                  <a:lnTo>
                    <a:pt x="0" y="203"/>
                  </a:lnTo>
                  <a:lnTo>
                    <a:pt x="13" y="296"/>
                  </a:lnTo>
                  <a:lnTo>
                    <a:pt x="80" y="371"/>
                  </a:lnTo>
                  <a:lnTo>
                    <a:pt x="147" y="322"/>
                  </a:lnTo>
                  <a:lnTo>
                    <a:pt x="102" y="256"/>
                  </a:lnTo>
                  <a:lnTo>
                    <a:pt x="75" y="186"/>
                  </a:lnTo>
                  <a:lnTo>
                    <a:pt x="102" y="119"/>
                  </a:lnTo>
                  <a:lnTo>
                    <a:pt x="151" y="39"/>
                  </a:lnTo>
                  <a:lnTo>
                    <a:pt x="156" y="30"/>
                  </a:lnTo>
                  <a:lnTo>
                    <a:pt x="151" y="39"/>
                  </a:lnTo>
                  <a:lnTo>
                    <a:pt x="160" y="22"/>
                  </a:lnTo>
                  <a:lnTo>
                    <a:pt x="151" y="0"/>
                  </a:lnTo>
                  <a:lnTo>
                    <a:pt x="121" y="0"/>
                  </a:lnTo>
                  <a:lnTo>
                    <a:pt x="102" y="8"/>
                  </a:lnTo>
                  <a:lnTo>
                    <a:pt x="8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15120" y="4812480"/>
              <a:ext cx="144000" cy="128880"/>
            </a:xfrm>
            <a:custGeom>
              <a:avLst/>
              <a:gdLst/>
              <a:ahLst/>
              <a:rect l="0" t="0" r="r" b="b"/>
              <a:pathLst>
                <a:path w="400" h="358">
                  <a:moveTo>
                    <a:pt x="14" y="269"/>
                  </a:moveTo>
                  <a:lnTo>
                    <a:pt x="14" y="269"/>
                  </a:lnTo>
                  <a:lnTo>
                    <a:pt x="14" y="269"/>
                  </a:lnTo>
                  <a:cubicBezTo>
                    <a:pt x="27" y="296"/>
                    <a:pt x="49" y="319"/>
                    <a:pt x="77" y="334"/>
                  </a:cubicBezTo>
                  <a:cubicBezTo>
                    <a:pt x="104" y="350"/>
                    <a:pt x="137" y="358"/>
                    <a:pt x="172" y="358"/>
                  </a:cubicBezTo>
                  <a:cubicBezTo>
                    <a:pt x="207" y="357"/>
                    <a:pt x="242" y="349"/>
                    <a:pt x="275" y="333"/>
                  </a:cubicBezTo>
                  <a:cubicBezTo>
                    <a:pt x="307" y="317"/>
                    <a:pt x="336" y="295"/>
                    <a:pt x="357" y="267"/>
                  </a:cubicBezTo>
                  <a:cubicBezTo>
                    <a:pt x="379" y="240"/>
                    <a:pt x="393" y="209"/>
                    <a:pt x="398" y="178"/>
                  </a:cubicBezTo>
                  <a:cubicBezTo>
                    <a:pt x="402" y="147"/>
                    <a:pt x="398" y="116"/>
                    <a:pt x="385" y="89"/>
                  </a:cubicBezTo>
                  <a:lnTo>
                    <a:pt x="385" y="89"/>
                  </a:lnTo>
                  <a:lnTo>
                    <a:pt x="385" y="89"/>
                  </a:lnTo>
                  <a:cubicBezTo>
                    <a:pt x="372" y="62"/>
                    <a:pt x="350" y="39"/>
                    <a:pt x="322" y="24"/>
                  </a:cubicBezTo>
                  <a:cubicBezTo>
                    <a:pt x="295" y="8"/>
                    <a:pt x="262" y="0"/>
                    <a:pt x="227" y="0"/>
                  </a:cubicBezTo>
                  <a:cubicBezTo>
                    <a:pt x="192" y="1"/>
                    <a:pt x="157" y="9"/>
                    <a:pt x="124" y="25"/>
                  </a:cubicBezTo>
                  <a:cubicBezTo>
                    <a:pt x="92" y="41"/>
                    <a:pt x="63" y="63"/>
                    <a:pt x="42" y="91"/>
                  </a:cubicBezTo>
                  <a:cubicBezTo>
                    <a:pt x="20" y="118"/>
                    <a:pt x="6" y="149"/>
                    <a:pt x="1" y="180"/>
                  </a:cubicBezTo>
                  <a:cubicBezTo>
                    <a:pt x="-3" y="211"/>
                    <a:pt x="1" y="242"/>
                    <a:pt x="14" y="269"/>
                  </a:cubicBez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2978280" y="4764240"/>
              <a:ext cx="482400" cy="88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335480" y="3168720"/>
            <a:ext cx="794160" cy="1409760"/>
            <a:chOff x="4335480" y="3168720"/>
            <a:chExt cx="794160" cy="1409760"/>
          </a:xfrm>
        </p:grpSpPr>
        <p:sp>
          <p:nvSpPr>
            <p:cNvPr id="383" name=""/>
            <p:cNvSpPr/>
            <p:nvPr/>
          </p:nvSpPr>
          <p:spPr>
            <a:xfrm>
              <a:off x="4335480" y="4289400"/>
              <a:ext cx="301680" cy="289080"/>
            </a:xfrm>
            <a:custGeom>
              <a:avLst/>
              <a:gdLst/>
              <a:ahLst/>
              <a:rect l="0" t="0" r="r" b="b"/>
              <a:pathLst>
                <a:path w="838" h="803">
                  <a:moveTo>
                    <a:pt x="35" y="222"/>
                  </a:moveTo>
                  <a:lnTo>
                    <a:pt x="35" y="222"/>
                  </a:lnTo>
                  <a:lnTo>
                    <a:pt x="35" y="222"/>
                  </a:lnTo>
                  <a:cubicBezTo>
                    <a:pt x="6" y="286"/>
                    <a:pt x="-6" y="356"/>
                    <a:pt x="3" y="426"/>
                  </a:cubicBezTo>
                  <a:cubicBezTo>
                    <a:pt x="11" y="497"/>
                    <a:pt x="38" y="565"/>
                    <a:pt x="82" y="623"/>
                  </a:cubicBezTo>
                  <a:cubicBezTo>
                    <a:pt x="125" y="682"/>
                    <a:pt x="184" y="730"/>
                    <a:pt x="251" y="761"/>
                  </a:cubicBezTo>
                  <a:cubicBezTo>
                    <a:pt x="319" y="792"/>
                    <a:pt x="393" y="807"/>
                    <a:pt x="466" y="802"/>
                  </a:cubicBezTo>
                  <a:cubicBezTo>
                    <a:pt x="539" y="798"/>
                    <a:pt x="609" y="775"/>
                    <a:pt x="668" y="736"/>
                  </a:cubicBezTo>
                  <a:cubicBezTo>
                    <a:pt x="727" y="697"/>
                    <a:pt x="774" y="644"/>
                    <a:pt x="803" y="581"/>
                  </a:cubicBezTo>
                  <a:lnTo>
                    <a:pt x="803" y="581"/>
                  </a:lnTo>
                  <a:lnTo>
                    <a:pt x="803" y="581"/>
                  </a:lnTo>
                  <a:cubicBezTo>
                    <a:pt x="832" y="517"/>
                    <a:pt x="844" y="447"/>
                    <a:pt x="835" y="377"/>
                  </a:cubicBezTo>
                  <a:cubicBezTo>
                    <a:pt x="827" y="306"/>
                    <a:pt x="800" y="238"/>
                    <a:pt x="756" y="180"/>
                  </a:cubicBezTo>
                  <a:cubicBezTo>
                    <a:pt x="713" y="121"/>
                    <a:pt x="654" y="73"/>
                    <a:pt x="587" y="42"/>
                  </a:cubicBezTo>
                  <a:cubicBezTo>
                    <a:pt x="519" y="11"/>
                    <a:pt x="445" y="-4"/>
                    <a:pt x="372" y="1"/>
                  </a:cubicBezTo>
                  <a:cubicBezTo>
                    <a:pt x="299" y="5"/>
                    <a:pt x="229" y="28"/>
                    <a:pt x="170" y="67"/>
                  </a:cubicBezTo>
                  <a:cubicBezTo>
                    <a:pt x="111" y="106"/>
                    <a:pt x="64" y="159"/>
                    <a:pt x="35" y="222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52840" y="3168720"/>
              <a:ext cx="676800" cy="1248120"/>
            </a:xfrm>
            <a:custGeom>
              <a:avLst/>
              <a:gdLst/>
              <a:ahLst/>
              <a:rect l="0" t="0" r="r" b="b"/>
              <a:pathLst>
                <a:path w="1880" h="3467">
                  <a:moveTo>
                    <a:pt x="352" y="141"/>
                  </a:moveTo>
                  <a:lnTo>
                    <a:pt x="330" y="436"/>
                  </a:lnTo>
                  <a:lnTo>
                    <a:pt x="724" y="1217"/>
                  </a:lnTo>
                  <a:lnTo>
                    <a:pt x="984" y="1835"/>
                  </a:lnTo>
                  <a:lnTo>
                    <a:pt x="0" y="2968"/>
                  </a:lnTo>
                  <a:lnTo>
                    <a:pt x="719" y="3467"/>
                  </a:lnTo>
                  <a:lnTo>
                    <a:pt x="1880" y="1901"/>
                  </a:lnTo>
                  <a:lnTo>
                    <a:pt x="1085" y="343"/>
                  </a:lnTo>
                  <a:lnTo>
                    <a:pt x="812" y="22"/>
                  </a:lnTo>
                  <a:lnTo>
                    <a:pt x="508" y="0"/>
                  </a:lnTo>
                  <a:lnTo>
                    <a:pt x="352" y="141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3795840" y="1257480"/>
            <a:ext cx="1144800" cy="1933560"/>
            <a:chOff x="3795840" y="1257480"/>
            <a:chExt cx="1144800" cy="1933560"/>
          </a:xfrm>
        </p:grpSpPr>
        <p:sp>
          <p:nvSpPr>
            <p:cNvPr id="386" name=""/>
            <p:cNvSpPr/>
            <p:nvPr/>
          </p:nvSpPr>
          <p:spPr>
            <a:xfrm>
              <a:off x="3905280" y="1609560"/>
              <a:ext cx="895680" cy="1581480"/>
            </a:xfrm>
            <a:custGeom>
              <a:avLst/>
              <a:gdLst/>
              <a:ahLst/>
              <a:rect l="0" t="0" r="r" b="b"/>
              <a:pathLst>
                <a:path w="2488" h="4393">
                  <a:moveTo>
                    <a:pt x="582" y="0"/>
                  </a:moveTo>
                  <a:lnTo>
                    <a:pt x="264" y="264"/>
                  </a:lnTo>
                  <a:lnTo>
                    <a:pt x="79" y="687"/>
                  </a:lnTo>
                  <a:lnTo>
                    <a:pt x="26" y="1217"/>
                  </a:lnTo>
                  <a:lnTo>
                    <a:pt x="0" y="2699"/>
                  </a:lnTo>
                  <a:lnTo>
                    <a:pt x="52" y="3546"/>
                  </a:lnTo>
                  <a:lnTo>
                    <a:pt x="820" y="3599"/>
                  </a:lnTo>
                  <a:lnTo>
                    <a:pt x="926" y="4075"/>
                  </a:lnTo>
                  <a:lnTo>
                    <a:pt x="1031" y="4393"/>
                  </a:lnTo>
                  <a:lnTo>
                    <a:pt x="1271" y="4393"/>
                  </a:lnTo>
                  <a:lnTo>
                    <a:pt x="1403" y="4102"/>
                  </a:lnTo>
                  <a:lnTo>
                    <a:pt x="1323" y="3599"/>
                  </a:lnTo>
                  <a:lnTo>
                    <a:pt x="2038" y="3519"/>
                  </a:lnTo>
                  <a:lnTo>
                    <a:pt x="2064" y="3017"/>
                  </a:lnTo>
                  <a:lnTo>
                    <a:pt x="2223" y="3096"/>
                  </a:lnTo>
                  <a:lnTo>
                    <a:pt x="2382" y="3043"/>
                  </a:lnTo>
                  <a:lnTo>
                    <a:pt x="2488" y="2620"/>
                  </a:lnTo>
                  <a:lnTo>
                    <a:pt x="2355" y="2408"/>
                  </a:lnTo>
                  <a:lnTo>
                    <a:pt x="2197" y="2435"/>
                  </a:lnTo>
                  <a:lnTo>
                    <a:pt x="2355" y="185"/>
                  </a:lnTo>
                  <a:lnTo>
                    <a:pt x="582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95840" y="2052720"/>
              <a:ext cx="409680" cy="409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48280" y="2014560"/>
              <a:ext cx="485640" cy="485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38720" y="2214720"/>
              <a:ext cx="85680" cy="85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29040" y="2224080"/>
              <a:ext cx="85680" cy="85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35320" y="1401840"/>
              <a:ext cx="7920" cy="217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4249800" y="1382760"/>
              <a:ext cx="17280" cy="217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4411800" y="1373040"/>
              <a:ext cx="36360" cy="2271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4573440" y="1420920"/>
              <a:ext cx="55800" cy="198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716360" y="1449360"/>
              <a:ext cx="55800" cy="179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flipV="1">
              <a:off x="3924360" y="1866960"/>
              <a:ext cx="799920" cy="3816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70360" y="2562120"/>
              <a:ext cx="657720" cy="257400"/>
            </a:xfrm>
            <a:custGeom>
              <a:avLst/>
              <a:gdLst/>
              <a:ahLst/>
              <a:rect l="0" t="0" r="r" b="b"/>
              <a:pathLst>
                <a:path w="1827" h="715">
                  <a:moveTo>
                    <a:pt x="0" y="0"/>
                  </a:moveTo>
                  <a:lnTo>
                    <a:pt x="1827" y="163"/>
                  </a:lnTo>
                  <a:lnTo>
                    <a:pt x="746" y="7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09880" y="1257480"/>
              <a:ext cx="1130760" cy="648000"/>
            </a:xfrm>
            <a:custGeom>
              <a:avLst/>
              <a:gdLst/>
              <a:ahLst/>
              <a:rect l="0" t="0" r="r" b="b"/>
              <a:pathLst>
                <a:path w="3141" h="1800">
                  <a:moveTo>
                    <a:pt x="0" y="1588"/>
                  </a:moveTo>
                  <a:lnTo>
                    <a:pt x="3035" y="1800"/>
                  </a:lnTo>
                  <a:lnTo>
                    <a:pt x="3141" y="141"/>
                  </a:lnTo>
                  <a:lnTo>
                    <a:pt x="246" y="0"/>
                  </a:lnTo>
                  <a:lnTo>
                    <a:pt x="0" y="15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29040" y="1833480"/>
              <a:ext cx="829080" cy="190800"/>
            </a:xfrm>
            <a:custGeom>
              <a:avLst/>
              <a:gdLst/>
              <a:ahLst/>
              <a:rect l="0" t="0" r="r" b="b"/>
              <a:pathLst>
                <a:path w="2303" h="530">
                  <a:moveTo>
                    <a:pt x="13" y="0"/>
                  </a:moveTo>
                  <a:lnTo>
                    <a:pt x="145" y="0"/>
                  </a:lnTo>
                  <a:lnTo>
                    <a:pt x="304" y="0"/>
                  </a:lnTo>
                  <a:lnTo>
                    <a:pt x="383" y="0"/>
                  </a:lnTo>
                  <a:lnTo>
                    <a:pt x="489" y="0"/>
                  </a:lnTo>
                  <a:lnTo>
                    <a:pt x="529" y="0"/>
                  </a:lnTo>
                  <a:lnTo>
                    <a:pt x="568" y="0"/>
                  </a:lnTo>
                  <a:lnTo>
                    <a:pt x="609" y="13"/>
                  </a:lnTo>
                  <a:lnTo>
                    <a:pt x="649" y="26"/>
                  </a:lnTo>
                  <a:lnTo>
                    <a:pt x="755" y="52"/>
                  </a:lnTo>
                  <a:lnTo>
                    <a:pt x="794" y="66"/>
                  </a:lnTo>
                  <a:lnTo>
                    <a:pt x="834" y="66"/>
                  </a:lnTo>
                  <a:lnTo>
                    <a:pt x="874" y="52"/>
                  </a:lnTo>
                  <a:lnTo>
                    <a:pt x="913" y="26"/>
                  </a:lnTo>
                  <a:lnTo>
                    <a:pt x="953" y="0"/>
                  </a:lnTo>
                  <a:lnTo>
                    <a:pt x="993" y="0"/>
                  </a:lnTo>
                  <a:lnTo>
                    <a:pt x="1046" y="13"/>
                  </a:lnTo>
                  <a:lnTo>
                    <a:pt x="1099" y="26"/>
                  </a:lnTo>
                  <a:lnTo>
                    <a:pt x="1138" y="26"/>
                  </a:lnTo>
                  <a:lnTo>
                    <a:pt x="1178" y="26"/>
                  </a:lnTo>
                  <a:lnTo>
                    <a:pt x="1218" y="13"/>
                  </a:lnTo>
                  <a:lnTo>
                    <a:pt x="1271" y="0"/>
                  </a:lnTo>
                  <a:lnTo>
                    <a:pt x="1323" y="0"/>
                  </a:lnTo>
                  <a:lnTo>
                    <a:pt x="1363" y="0"/>
                  </a:lnTo>
                  <a:lnTo>
                    <a:pt x="1403" y="26"/>
                  </a:lnTo>
                  <a:lnTo>
                    <a:pt x="1442" y="39"/>
                  </a:lnTo>
                  <a:lnTo>
                    <a:pt x="1495" y="52"/>
                  </a:lnTo>
                  <a:lnTo>
                    <a:pt x="1548" y="39"/>
                  </a:lnTo>
                  <a:lnTo>
                    <a:pt x="1601" y="39"/>
                  </a:lnTo>
                  <a:lnTo>
                    <a:pt x="1641" y="39"/>
                  </a:lnTo>
                  <a:lnTo>
                    <a:pt x="1748" y="39"/>
                  </a:lnTo>
                  <a:lnTo>
                    <a:pt x="1787" y="52"/>
                  </a:lnTo>
                  <a:lnTo>
                    <a:pt x="1827" y="66"/>
                  </a:lnTo>
                  <a:lnTo>
                    <a:pt x="1867" y="66"/>
                  </a:lnTo>
                  <a:lnTo>
                    <a:pt x="1920" y="92"/>
                  </a:lnTo>
                  <a:lnTo>
                    <a:pt x="1999" y="92"/>
                  </a:lnTo>
                  <a:lnTo>
                    <a:pt x="2039" y="92"/>
                  </a:lnTo>
                  <a:lnTo>
                    <a:pt x="2078" y="92"/>
                  </a:lnTo>
                  <a:lnTo>
                    <a:pt x="2118" y="105"/>
                  </a:lnTo>
                  <a:lnTo>
                    <a:pt x="2171" y="119"/>
                  </a:lnTo>
                  <a:lnTo>
                    <a:pt x="2211" y="132"/>
                  </a:lnTo>
                  <a:lnTo>
                    <a:pt x="2264" y="145"/>
                  </a:lnTo>
                  <a:lnTo>
                    <a:pt x="2303" y="171"/>
                  </a:lnTo>
                  <a:lnTo>
                    <a:pt x="2264" y="198"/>
                  </a:lnTo>
                  <a:lnTo>
                    <a:pt x="2171" y="198"/>
                  </a:lnTo>
                  <a:lnTo>
                    <a:pt x="2131" y="198"/>
                  </a:lnTo>
                  <a:lnTo>
                    <a:pt x="2078" y="185"/>
                  </a:lnTo>
                  <a:lnTo>
                    <a:pt x="2026" y="171"/>
                  </a:lnTo>
                  <a:lnTo>
                    <a:pt x="1986" y="171"/>
                  </a:lnTo>
                  <a:lnTo>
                    <a:pt x="1880" y="158"/>
                  </a:lnTo>
                  <a:lnTo>
                    <a:pt x="1827" y="145"/>
                  </a:lnTo>
                  <a:lnTo>
                    <a:pt x="1787" y="145"/>
                  </a:lnTo>
                  <a:lnTo>
                    <a:pt x="1735" y="145"/>
                  </a:lnTo>
                  <a:lnTo>
                    <a:pt x="1694" y="145"/>
                  </a:lnTo>
                  <a:lnTo>
                    <a:pt x="1614" y="145"/>
                  </a:lnTo>
                  <a:lnTo>
                    <a:pt x="1535" y="145"/>
                  </a:lnTo>
                  <a:lnTo>
                    <a:pt x="1482" y="145"/>
                  </a:lnTo>
                  <a:lnTo>
                    <a:pt x="1442" y="158"/>
                  </a:lnTo>
                  <a:lnTo>
                    <a:pt x="1337" y="145"/>
                  </a:lnTo>
                  <a:lnTo>
                    <a:pt x="1284" y="145"/>
                  </a:lnTo>
                  <a:lnTo>
                    <a:pt x="1244" y="119"/>
                  </a:lnTo>
                  <a:lnTo>
                    <a:pt x="1204" y="105"/>
                  </a:lnTo>
                  <a:lnTo>
                    <a:pt x="1125" y="105"/>
                  </a:lnTo>
                  <a:lnTo>
                    <a:pt x="1019" y="105"/>
                  </a:lnTo>
                  <a:lnTo>
                    <a:pt x="979" y="119"/>
                  </a:lnTo>
                  <a:lnTo>
                    <a:pt x="874" y="145"/>
                  </a:lnTo>
                  <a:lnTo>
                    <a:pt x="794" y="158"/>
                  </a:lnTo>
                  <a:lnTo>
                    <a:pt x="755" y="158"/>
                  </a:lnTo>
                  <a:lnTo>
                    <a:pt x="675" y="145"/>
                  </a:lnTo>
                  <a:lnTo>
                    <a:pt x="515" y="132"/>
                  </a:lnTo>
                  <a:lnTo>
                    <a:pt x="476" y="119"/>
                  </a:lnTo>
                  <a:lnTo>
                    <a:pt x="436" y="119"/>
                  </a:lnTo>
                  <a:lnTo>
                    <a:pt x="396" y="145"/>
                  </a:lnTo>
                  <a:lnTo>
                    <a:pt x="370" y="198"/>
                  </a:lnTo>
                  <a:lnTo>
                    <a:pt x="330" y="211"/>
                  </a:lnTo>
                  <a:lnTo>
                    <a:pt x="291" y="238"/>
                  </a:lnTo>
                  <a:lnTo>
                    <a:pt x="211" y="238"/>
                  </a:lnTo>
                  <a:lnTo>
                    <a:pt x="158" y="238"/>
                  </a:lnTo>
                  <a:lnTo>
                    <a:pt x="132" y="198"/>
                  </a:lnTo>
                  <a:lnTo>
                    <a:pt x="132" y="158"/>
                  </a:lnTo>
                  <a:lnTo>
                    <a:pt x="105" y="119"/>
                  </a:lnTo>
                  <a:lnTo>
                    <a:pt x="13" y="119"/>
                  </a:lnTo>
                  <a:lnTo>
                    <a:pt x="0" y="79"/>
                  </a:lnTo>
                  <a:lnTo>
                    <a:pt x="0" y="119"/>
                  </a:lnTo>
                  <a:lnTo>
                    <a:pt x="0" y="158"/>
                  </a:lnTo>
                  <a:lnTo>
                    <a:pt x="39" y="185"/>
                  </a:lnTo>
                  <a:lnTo>
                    <a:pt x="92" y="185"/>
                  </a:lnTo>
                  <a:lnTo>
                    <a:pt x="119" y="238"/>
                  </a:lnTo>
                  <a:lnTo>
                    <a:pt x="119" y="278"/>
                  </a:lnTo>
                  <a:lnTo>
                    <a:pt x="119" y="371"/>
                  </a:lnTo>
                  <a:lnTo>
                    <a:pt x="119" y="411"/>
                  </a:lnTo>
                  <a:lnTo>
                    <a:pt x="132" y="450"/>
                  </a:lnTo>
                  <a:lnTo>
                    <a:pt x="132" y="490"/>
                  </a:lnTo>
                  <a:lnTo>
                    <a:pt x="158" y="530"/>
                  </a:lnTo>
                  <a:lnTo>
                    <a:pt x="198" y="530"/>
                  </a:lnTo>
                  <a:lnTo>
                    <a:pt x="224" y="490"/>
                  </a:lnTo>
                  <a:lnTo>
                    <a:pt x="238" y="450"/>
                  </a:lnTo>
                  <a:lnTo>
                    <a:pt x="198" y="424"/>
                  </a:lnTo>
                  <a:lnTo>
                    <a:pt x="171" y="384"/>
                  </a:lnTo>
                  <a:lnTo>
                    <a:pt x="158" y="344"/>
                  </a:lnTo>
                  <a:lnTo>
                    <a:pt x="158" y="305"/>
                  </a:lnTo>
                  <a:lnTo>
                    <a:pt x="198" y="278"/>
                  </a:lnTo>
                  <a:lnTo>
                    <a:pt x="238" y="331"/>
                  </a:lnTo>
                  <a:lnTo>
                    <a:pt x="264" y="371"/>
                  </a:lnTo>
                  <a:lnTo>
                    <a:pt x="304" y="371"/>
                  </a:lnTo>
                  <a:lnTo>
                    <a:pt x="330" y="331"/>
                  </a:lnTo>
                  <a:lnTo>
                    <a:pt x="357" y="292"/>
                  </a:lnTo>
                  <a:lnTo>
                    <a:pt x="396" y="292"/>
                  </a:lnTo>
                  <a:lnTo>
                    <a:pt x="410" y="251"/>
                  </a:lnTo>
                  <a:lnTo>
                    <a:pt x="410" y="211"/>
                  </a:lnTo>
                  <a:lnTo>
                    <a:pt x="304" y="19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c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616120" y="3363840"/>
            <a:ext cx="837000" cy="997200"/>
            <a:chOff x="2616120" y="3363840"/>
            <a:chExt cx="837000" cy="997200"/>
          </a:xfrm>
        </p:grpSpPr>
        <p:grpSp>
          <p:nvGrpSpPr>
            <p:cNvPr id="401" name=""/>
            <p:cNvGrpSpPr/>
            <p:nvPr/>
          </p:nvGrpSpPr>
          <p:grpSpPr>
            <a:xfrm>
              <a:off x="2616120" y="3363840"/>
              <a:ext cx="513000" cy="615960"/>
              <a:chOff x="2616120" y="3363840"/>
              <a:chExt cx="513000" cy="615960"/>
            </a:xfrm>
          </p:grpSpPr>
          <p:sp>
            <p:nvSpPr>
              <p:cNvPr id="402" name=""/>
              <p:cNvSpPr/>
              <p:nvPr/>
            </p:nvSpPr>
            <p:spPr>
              <a:xfrm>
                <a:off x="2616120" y="3863880"/>
                <a:ext cx="185760" cy="115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flipV="1">
                <a:off x="2674800" y="3745080"/>
                <a:ext cx="169920" cy="13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flipV="1">
                <a:off x="2766960" y="3589200"/>
                <a:ext cx="168480" cy="157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 flipV="1">
                <a:off x="2908440" y="3465360"/>
                <a:ext cx="133200" cy="157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 flipV="1">
                <a:off x="3011400" y="3363840"/>
                <a:ext cx="117720" cy="14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2776680" y="3502080"/>
              <a:ext cx="643320" cy="837000"/>
            </a:xfrm>
            <a:custGeom>
              <a:avLst/>
              <a:gdLst/>
              <a:ahLst/>
              <a:rect l="0" t="0" r="r" b="b"/>
              <a:pathLst>
                <a:path fill="none" w="1787" h="2325">
                  <a:moveTo>
                    <a:pt x="0" y="1376"/>
                  </a:moveTo>
                  <a:lnTo>
                    <a:pt x="44" y="1792"/>
                  </a:lnTo>
                  <a:lnTo>
                    <a:pt x="304" y="2140"/>
                  </a:lnTo>
                  <a:lnTo>
                    <a:pt x="432" y="2325"/>
                  </a:lnTo>
                  <a:lnTo>
                    <a:pt x="1787" y="507"/>
                  </a:lnTo>
                  <a:lnTo>
                    <a:pt x="1156" y="0"/>
                  </a:lnTo>
                  <a:lnTo>
                    <a:pt x="1191" y="136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25720" y="3665520"/>
              <a:ext cx="527400" cy="695520"/>
            </a:xfrm>
            <a:custGeom>
              <a:avLst/>
              <a:gdLst/>
              <a:ahLst/>
              <a:rect l="0" t="0" r="r" b="b"/>
              <a:pathLst>
                <a:path w="1465" h="1932">
                  <a:moveTo>
                    <a:pt x="26" y="1857"/>
                  </a:moveTo>
                  <a:lnTo>
                    <a:pt x="57" y="1813"/>
                  </a:lnTo>
                  <a:lnTo>
                    <a:pt x="57" y="1769"/>
                  </a:lnTo>
                  <a:lnTo>
                    <a:pt x="79" y="1734"/>
                  </a:lnTo>
                  <a:lnTo>
                    <a:pt x="101" y="1703"/>
                  </a:lnTo>
                  <a:lnTo>
                    <a:pt x="74" y="1667"/>
                  </a:lnTo>
                  <a:lnTo>
                    <a:pt x="97" y="1637"/>
                  </a:lnTo>
                  <a:lnTo>
                    <a:pt x="136" y="1597"/>
                  </a:lnTo>
                  <a:lnTo>
                    <a:pt x="171" y="1575"/>
                  </a:lnTo>
                  <a:lnTo>
                    <a:pt x="194" y="1539"/>
                  </a:lnTo>
                  <a:lnTo>
                    <a:pt x="202" y="1500"/>
                  </a:lnTo>
                  <a:lnTo>
                    <a:pt x="224" y="1465"/>
                  </a:lnTo>
                  <a:lnTo>
                    <a:pt x="246" y="1434"/>
                  </a:lnTo>
                  <a:lnTo>
                    <a:pt x="282" y="1407"/>
                  </a:lnTo>
                  <a:lnTo>
                    <a:pt x="304" y="1376"/>
                  </a:lnTo>
                  <a:lnTo>
                    <a:pt x="326" y="1341"/>
                  </a:lnTo>
                  <a:lnTo>
                    <a:pt x="348" y="1310"/>
                  </a:lnTo>
                  <a:lnTo>
                    <a:pt x="361" y="1271"/>
                  </a:lnTo>
                  <a:lnTo>
                    <a:pt x="383" y="1235"/>
                  </a:lnTo>
                  <a:lnTo>
                    <a:pt x="436" y="1226"/>
                  </a:lnTo>
                  <a:lnTo>
                    <a:pt x="471" y="1200"/>
                  </a:lnTo>
                  <a:lnTo>
                    <a:pt x="493" y="1169"/>
                  </a:lnTo>
                  <a:lnTo>
                    <a:pt x="498" y="1107"/>
                  </a:lnTo>
                  <a:lnTo>
                    <a:pt x="529" y="1063"/>
                  </a:lnTo>
                  <a:lnTo>
                    <a:pt x="546" y="1015"/>
                  </a:lnTo>
                  <a:lnTo>
                    <a:pt x="568" y="979"/>
                  </a:lnTo>
                  <a:lnTo>
                    <a:pt x="639" y="899"/>
                  </a:lnTo>
                  <a:lnTo>
                    <a:pt x="683" y="864"/>
                  </a:lnTo>
                  <a:lnTo>
                    <a:pt x="701" y="811"/>
                  </a:lnTo>
                  <a:lnTo>
                    <a:pt x="727" y="767"/>
                  </a:lnTo>
                  <a:lnTo>
                    <a:pt x="777" y="701"/>
                  </a:lnTo>
                  <a:lnTo>
                    <a:pt x="785" y="661"/>
                  </a:lnTo>
                  <a:lnTo>
                    <a:pt x="821" y="635"/>
                  </a:lnTo>
                  <a:lnTo>
                    <a:pt x="843" y="604"/>
                  </a:lnTo>
                  <a:lnTo>
                    <a:pt x="865" y="568"/>
                  </a:lnTo>
                  <a:lnTo>
                    <a:pt x="887" y="537"/>
                  </a:lnTo>
                  <a:lnTo>
                    <a:pt x="927" y="502"/>
                  </a:lnTo>
                  <a:lnTo>
                    <a:pt x="979" y="440"/>
                  </a:lnTo>
                  <a:lnTo>
                    <a:pt x="1024" y="379"/>
                  </a:lnTo>
                  <a:lnTo>
                    <a:pt x="1059" y="352"/>
                  </a:lnTo>
                  <a:lnTo>
                    <a:pt x="1094" y="326"/>
                  </a:lnTo>
                  <a:lnTo>
                    <a:pt x="1116" y="291"/>
                  </a:lnTo>
                  <a:lnTo>
                    <a:pt x="1138" y="260"/>
                  </a:lnTo>
                  <a:lnTo>
                    <a:pt x="1160" y="229"/>
                  </a:lnTo>
                  <a:lnTo>
                    <a:pt x="1187" y="185"/>
                  </a:lnTo>
                  <a:lnTo>
                    <a:pt x="1209" y="149"/>
                  </a:lnTo>
                  <a:lnTo>
                    <a:pt x="1244" y="123"/>
                  </a:lnTo>
                  <a:lnTo>
                    <a:pt x="1275" y="101"/>
                  </a:lnTo>
                  <a:lnTo>
                    <a:pt x="1306" y="57"/>
                  </a:lnTo>
                  <a:lnTo>
                    <a:pt x="1345" y="17"/>
                  </a:lnTo>
                  <a:lnTo>
                    <a:pt x="1390" y="0"/>
                  </a:lnTo>
                  <a:lnTo>
                    <a:pt x="1429" y="13"/>
                  </a:lnTo>
                  <a:lnTo>
                    <a:pt x="1465" y="35"/>
                  </a:lnTo>
                  <a:lnTo>
                    <a:pt x="1442" y="66"/>
                  </a:lnTo>
                  <a:lnTo>
                    <a:pt x="1420" y="101"/>
                  </a:lnTo>
                  <a:lnTo>
                    <a:pt x="1390" y="145"/>
                  </a:lnTo>
                  <a:lnTo>
                    <a:pt x="1368" y="176"/>
                  </a:lnTo>
                  <a:lnTo>
                    <a:pt x="1359" y="216"/>
                  </a:lnTo>
                  <a:lnTo>
                    <a:pt x="1337" y="251"/>
                  </a:lnTo>
                  <a:lnTo>
                    <a:pt x="1310" y="282"/>
                  </a:lnTo>
                  <a:lnTo>
                    <a:pt x="1248" y="352"/>
                  </a:lnTo>
                  <a:lnTo>
                    <a:pt x="1218" y="379"/>
                  </a:lnTo>
                  <a:lnTo>
                    <a:pt x="1196" y="410"/>
                  </a:lnTo>
                  <a:lnTo>
                    <a:pt x="1196" y="458"/>
                  </a:lnTo>
                  <a:lnTo>
                    <a:pt x="1182" y="498"/>
                  </a:lnTo>
                  <a:lnTo>
                    <a:pt x="1160" y="533"/>
                  </a:lnTo>
                  <a:lnTo>
                    <a:pt x="1138" y="564"/>
                  </a:lnTo>
                  <a:lnTo>
                    <a:pt x="1116" y="599"/>
                  </a:lnTo>
                  <a:lnTo>
                    <a:pt x="1072" y="661"/>
                  </a:lnTo>
                  <a:lnTo>
                    <a:pt x="1032" y="701"/>
                  </a:lnTo>
                  <a:lnTo>
                    <a:pt x="1010" y="732"/>
                  </a:lnTo>
                  <a:lnTo>
                    <a:pt x="940" y="811"/>
                  </a:lnTo>
                  <a:lnTo>
                    <a:pt x="918" y="846"/>
                  </a:lnTo>
                  <a:lnTo>
                    <a:pt x="882" y="873"/>
                  </a:lnTo>
                  <a:lnTo>
                    <a:pt x="821" y="939"/>
                  </a:lnTo>
                  <a:lnTo>
                    <a:pt x="763" y="1028"/>
                  </a:lnTo>
                  <a:lnTo>
                    <a:pt x="718" y="1046"/>
                  </a:lnTo>
                  <a:lnTo>
                    <a:pt x="687" y="1090"/>
                  </a:lnTo>
                  <a:lnTo>
                    <a:pt x="648" y="1173"/>
                  </a:lnTo>
                  <a:lnTo>
                    <a:pt x="626" y="1209"/>
                  </a:lnTo>
                  <a:lnTo>
                    <a:pt x="595" y="1253"/>
                  </a:lnTo>
                  <a:lnTo>
                    <a:pt x="551" y="1319"/>
                  </a:lnTo>
                  <a:lnTo>
                    <a:pt x="520" y="1363"/>
                  </a:lnTo>
                  <a:lnTo>
                    <a:pt x="489" y="1407"/>
                  </a:lnTo>
                  <a:lnTo>
                    <a:pt x="445" y="1473"/>
                  </a:lnTo>
                  <a:lnTo>
                    <a:pt x="423" y="1504"/>
                  </a:lnTo>
                  <a:lnTo>
                    <a:pt x="392" y="1531"/>
                  </a:lnTo>
                  <a:lnTo>
                    <a:pt x="330" y="1619"/>
                  </a:lnTo>
                  <a:lnTo>
                    <a:pt x="291" y="1654"/>
                  </a:lnTo>
                  <a:lnTo>
                    <a:pt x="268" y="1685"/>
                  </a:lnTo>
                  <a:lnTo>
                    <a:pt x="198" y="1769"/>
                  </a:lnTo>
                  <a:lnTo>
                    <a:pt x="158" y="1804"/>
                  </a:lnTo>
                  <a:lnTo>
                    <a:pt x="136" y="1835"/>
                  </a:lnTo>
                  <a:lnTo>
                    <a:pt x="39" y="1932"/>
                  </a:lnTo>
                  <a:lnTo>
                    <a:pt x="0" y="1919"/>
                  </a:lnTo>
                  <a:lnTo>
                    <a:pt x="26" y="185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67200" y="3643200"/>
              <a:ext cx="222480" cy="178200"/>
            </a:xfrm>
            <a:custGeom>
              <a:avLst/>
              <a:gdLst/>
              <a:ahLst/>
              <a:rect l="0" t="0" r="r" b="b"/>
              <a:pathLst>
                <a:path w="618" h="495">
                  <a:moveTo>
                    <a:pt x="406" y="110"/>
                  </a:moveTo>
                  <a:lnTo>
                    <a:pt x="358" y="190"/>
                  </a:lnTo>
                  <a:lnTo>
                    <a:pt x="344" y="230"/>
                  </a:lnTo>
                  <a:lnTo>
                    <a:pt x="286" y="318"/>
                  </a:lnTo>
                  <a:lnTo>
                    <a:pt x="314" y="367"/>
                  </a:lnTo>
                  <a:lnTo>
                    <a:pt x="340" y="403"/>
                  </a:lnTo>
                  <a:lnTo>
                    <a:pt x="358" y="447"/>
                  </a:lnTo>
                  <a:lnTo>
                    <a:pt x="358" y="495"/>
                  </a:lnTo>
                  <a:lnTo>
                    <a:pt x="415" y="434"/>
                  </a:lnTo>
                  <a:lnTo>
                    <a:pt x="468" y="376"/>
                  </a:lnTo>
                  <a:lnTo>
                    <a:pt x="490" y="344"/>
                  </a:lnTo>
                  <a:lnTo>
                    <a:pt x="433" y="287"/>
                  </a:lnTo>
                  <a:lnTo>
                    <a:pt x="384" y="287"/>
                  </a:lnTo>
                  <a:lnTo>
                    <a:pt x="419" y="212"/>
                  </a:lnTo>
                  <a:lnTo>
                    <a:pt x="468" y="186"/>
                  </a:lnTo>
                  <a:lnTo>
                    <a:pt x="512" y="168"/>
                  </a:lnTo>
                  <a:lnTo>
                    <a:pt x="574" y="177"/>
                  </a:lnTo>
                  <a:lnTo>
                    <a:pt x="618" y="155"/>
                  </a:lnTo>
                  <a:lnTo>
                    <a:pt x="600" y="110"/>
                  </a:lnTo>
                  <a:lnTo>
                    <a:pt x="534" y="66"/>
                  </a:lnTo>
                  <a:lnTo>
                    <a:pt x="490" y="39"/>
                  </a:lnTo>
                  <a:lnTo>
                    <a:pt x="446" y="8"/>
                  </a:lnTo>
                  <a:lnTo>
                    <a:pt x="384" y="0"/>
                  </a:lnTo>
                  <a:lnTo>
                    <a:pt x="340" y="17"/>
                  </a:lnTo>
                  <a:lnTo>
                    <a:pt x="318" y="52"/>
                  </a:lnTo>
                  <a:lnTo>
                    <a:pt x="268" y="79"/>
                  </a:lnTo>
                  <a:lnTo>
                    <a:pt x="220" y="79"/>
                  </a:lnTo>
                  <a:lnTo>
                    <a:pt x="185" y="105"/>
                  </a:lnTo>
                  <a:lnTo>
                    <a:pt x="114" y="168"/>
                  </a:lnTo>
                  <a:lnTo>
                    <a:pt x="57" y="225"/>
                  </a:lnTo>
                  <a:lnTo>
                    <a:pt x="35" y="261"/>
                  </a:lnTo>
                  <a:lnTo>
                    <a:pt x="13" y="292"/>
                  </a:lnTo>
                  <a:lnTo>
                    <a:pt x="0" y="331"/>
                  </a:lnTo>
                  <a:lnTo>
                    <a:pt x="70" y="398"/>
                  </a:lnTo>
                  <a:lnTo>
                    <a:pt x="123" y="416"/>
                  </a:lnTo>
                  <a:lnTo>
                    <a:pt x="176" y="385"/>
                  </a:lnTo>
                  <a:lnTo>
                    <a:pt x="198" y="353"/>
                  </a:lnTo>
                  <a:lnTo>
                    <a:pt x="216" y="300"/>
                  </a:lnTo>
                  <a:lnTo>
                    <a:pt x="238" y="269"/>
                  </a:lnTo>
                  <a:lnTo>
                    <a:pt x="246" y="230"/>
                  </a:lnTo>
                  <a:lnTo>
                    <a:pt x="331" y="155"/>
                  </a:lnTo>
                  <a:lnTo>
                    <a:pt x="406" y="11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924280" y="3930480"/>
              <a:ext cx="174960" cy="186120"/>
            </a:xfrm>
            <a:custGeom>
              <a:avLst/>
              <a:gdLst/>
              <a:ahLst/>
              <a:rect l="0" t="0" r="r" b="b"/>
              <a:pathLst>
                <a:path w="486" h="517">
                  <a:moveTo>
                    <a:pt x="340" y="22"/>
                  </a:moveTo>
                  <a:lnTo>
                    <a:pt x="309" y="97"/>
                  </a:lnTo>
                  <a:lnTo>
                    <a:pt x="242" y="243"/>
                  </a:lnTo>
                  <a:lnTo>
                    <a:pt x="207" y="314"/>
                  </a:lnTo>
                  <a:lnTo>
                    <a:pt x="198" y="358"/>
                  </a:lnTo>
                  <a:lnTo>
                    <a:pt x="176" y="390"/>
                  </a:lnTo>
                  <a:lnTo>
                    <a:pt x="163" y="429"/>
                  </a:lnTo>
                  <a:lnTo>
                    <a:pt x="132" y="473"/>
                  </a:lnTo>
                  <a:lnTo>
                    <a:pt x="110" y="509"/>
                  </a:lnTo>
                  <a:lnTo>
                    <a:pt x="57" y="517"/>
                  </a:lnTo>
                  <a:lnTo>
                    <a:pt x="4" y="500"/>
                  </a:lnTo>
                  <a:lnTo>
                    <a:pt x="0" y="434"/>
                  </a:lnTo>
                  <a:lnTo>
                    <a:pt x="22" y="398"/>
                  </a:lnTo>
                  <a:lnTo>
                    <a:pt x="57" y="375"/>
                  </a:lnTo>
                  <a:lnTo>
                    <a:pt x="114" y="380"/>
                  </a:lnTo>
                  <a:lnTo>
                    <a:pt x="136" y="349"/>
                  </a:lnTo>
                  <a:lnTo>
                    <a:pt x="136" y="300"/>
                  </a:lnTo>
                  <a:lnTo>
                    <a:pt x="136" y="252"/>
                  </a:lnTo>
                  <a:lnTo>
                    <a:pt x="136" y="203"/>
                  </a:lnTo>
                  <a:lnTo>
                    <a:pt x="185" y="203"/>
                  </a:lnTo>
                  <a:lnTo>
                    <a:pt x="238" y="177"/>
                  </a:lnTo>
                  <a:lnTo>
                    <a:pt x="247" y="137"/>
                  </a:lnTo>
                  <a:lnTo>
                    <a:pt x="261" y="97"/>
                  </a:lnTo>
                  <a:lnTo>
                    <a:pt x="274" y="52"/>
                  </a:lnTo>
                  <a:lnTo>
                    <a:pt x="340" y="22"/>
                  </a:lnTo>
                  <a:lnTo>
                    <a:pt x="406" y="0"/>
                  </a:lnTo>
                  <a:lnTo>
                    <a:pt x="450" y="0"/>
                  </a:lnTo>
                  <a:lnTo>
                    <a:pt x="486" y="22"/>
                  </a:lnTo>
                  <a:lnTo>
                    <a:pt x="486" y="70"/>
                  </a:lnTo>
                  <a:lnTo>
                    <a:pt x="477" y="127"/>
                  </a:lnTo>
                  <a:lnTo>
                    <a:pt x="455" y="164"/>
                  </a:lnTo>
                  <a:lnTo>
                    <a:pt x="433" y="195"/>
                  </a:lnTo>
                  <a:lnTo>
                    <a:pt x="380" y="177"/>
                  </a:lnTo>
                  <a:lnTo>
                    <a:pt x="389" y="119"/>
                  </a:lnTo>
                  <a:lnTo>
                    <a:pt x="380" y="61"/>
                  </a:lnTo>
                  <a:lnTo>
                    <a:pt x="336" y="79"/>
                  </a:lnTo>
                  <a:lnTo>
                    <a:pt x="340" y="2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2997360" y="4635360"/>
            <a:ext cx="533880" cy="140040"/>
          </a:xfrm>
          <a:custGeom>
            <a:avLst/>
            <a:gdLst/>
            <a:ahLst/>
            <a:rect l="0" t="0" r="r" b="b"/>
            <a:pathLst>
              <a:path w="1483" h="389">
                <a:moveTo>
                  <a:pt x="988" y="35"/>
                </a:moveTo>
                <a:lnTo>
                  <a:pt x="847" y="70"/>
                </a:lnTo>
                <a:lnTo>
                  <a:pt x="741" y="70"/>
                </a:lnTo>
                <a:lnTo>
                  <a:pt x="636" y="105"/>
                </a:lnTo>
                <a:lnTo>
                  <a:pt x="530" y="141"/>
                </a:lnTo>
                <a:lnTo>
                  <a:pt x="424" y="212"/>
                </a:lnTo>
                <a:lnTo>
                  <a:pt x="317" y="212"/>
                </a:lnTo>
                <a:lnTo>
                  <a:pt x="211" y="212"/>
                </a:lnTo>
                <a:lnTo>
                  <a:pt x="105" y="247"/>
                </a:lnTo>
                <a:lnTo>
                  <a:pt x="0" y="318"/>
                </a:lnTo>
                <a:lnTo>
                  <a:pt x="105" y="389"/>
                </a:lnTo>
                <a:lnTo>
                  <a:pt x="211" y="353"/>
                </a:lnTo>
                <a:lnTo>
                  <a:pt x="317" y="318"/>
                </a:lnTo>
                <a:lnTo>
                  <a:pt x="424" y="283"/>
                </a:lnTo>
                <a:lnTo>
                  <a:pt x="530" y="247"/>
                </a:lnTo>
                <a:lnTo>
                  <a:pt x="636" y="247"/>
                </a:lnTo>
                <a:lnTo>
                  <a:pt x="741" y="247"/>
                </a:lnTo>
                <a:lnTo>
                  <a:pt x="847" y="283"/>
                </a:lnTo>
                <a:lnTo>
                  <a:pt x="953" y="283"/>
                </a:lnTo>
                <a:lnTo>
                  <a:pt x="1059" y="247"/>
                </a:lnTo>
                <a:lnTo>
                  <a:pt x="1166" y="176"/>
                </a:lnTo>
                <a:lnTo>
                  <a:pt x="1272" y="141"/>
                </a:lnTo>
                <a:lnTo>
                  <a:pt x="1377" y="141"/>
                </a:lnTo>
                <a:lnTo>
                  <a:pt x="1483" y="141"/>
                </a:lnTo>
                <a:lnTo>
                  <a:pt x="1413" y="35"/>
                </a:lnTo>
                <a:lnTo>
                  <a:pt x="1307" y="35"/>
                </a:lnTo>
                <a:lnTo>
                  <a:pt x="1201" y="0"/>
                </a:lnTo>
                <a:lnTo>
                  <a:pt x="988" y="35"/>
                </a:lnTo>
                <a:lnTo>
                  <a:pt x="847" y="70"/>
                </a:lnTo>
                <a:lnTo>
                  <a:pt x="777" y="35"/>
                </a:lnTo>
                <a:lnTo>
                  <a:pt x="988" y="35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692440" y="4851360"/>
            <a:ext cx="432000" cy="178200"/>
          </a:xfrm>
          <a:custGeom>
            <a:avLst/>
            <a:gdLst/>
            <a:ahLst/>
            <a:rect l="0" t="0" r="r" b="b"/>
            <a:pathLst>
              <a:path w="1200" h="495">
                <a:moveTo>
                  <a:pt x="988" y="495"/>
                </a:moveTo>
                <a:lnTo>
                  <a:pt x="812" y="390"/>
                </a:lnTo>
                <a:lnTo>
                  <a:pt x="706" y="390"/>
                </a:lnTo>
                <a:lnTo>
                  <a:pt x="599" y="353"/>
                </a:lnTo>
                <a:lnTo>
                  <a:pt x="317" y="318"/>
                </a:lnTo>
                <a:lnTo>
                  <a:pt x="211" y="318"/>
                </a:lnTo>
                <a:lnTo>
                  <a:pt x="70" y="247"/>
                </a:lnTo>
                <a:lnTo>
                  <a:pt x="0" y="105"/>
                </a:lnTo>
                <a:lnTo>
                  <a:pt x="0" y="0"/>
                </a:lnTo>
                <a:lnTo>
                  <a:pt x="35" y="105"/>
                </a:lnTo>
                <a:lnTo>
                  <a:pt x="176" y="142"/>
                </a:lnTo>
                <a:lnTo>
                  <a:pt x="282" y="177"/>
                </a:lnTo>
                <a:lnTo>
                  <a:pt x="388" y="177"/>
                </a:lnTo>
                <a:lnTo>
                  <a:pt x="493" y="247"/>
                </a:lnTo>
                <a:lnTo>
                  <a:pt x="599" y="247"/>
                </a:lnTo>
                <a:lnTo>
                  <a:pt x="706" y="177"/>
                </a:lnTo>
                <a:lnTo>
                  <a:pt x="847" y="142"/>
                </a:lnTo>
                <a:lnTo>
                  <a:pt x="953" y="142"/>
                </a:lnTo>
                <a:lnTo>
                  <a:pt x="1059" y="142"/>
                </a:lnTo>
                <a:lnTo>
                  <a:pt x="1165" y="177"/>
                </a:lnTo>
                <a:lnTo>
                  <a:pt x="1200" y="283"/>
                </a:lnTo>
                <a:lnTo>
                  <a:pt x="1094" y="318"/>
                </a:lnTo>
                <a:lnTo>
                  <a:pt x="988" y="353"/>
                </a:lnTo>
                <a:lnTo>
                  <a:pt x="988" y="495"/>
                </a:lnTo>
                <a:lnTo>
                  <a:pt x="847" y="390"/>
                </a:lnTo>
                <a:lnTo>
                  <a:pt x="777" y="495"/>
                </a:lnTo>
                <a:lnTo>
                  <a:pt x="988" y="495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04920" y="457200"/>
            <a:ext cx="73915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erally : It’s Opening My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371600" y="5994360"/>
            <a:ext cx="5105880" cy="584640"/>
          </a:xfrm>
          <a:custGeom>
            <a:avLst/>
            <a:gdLst/>
            <a:ahLst/>
            <a:rect l="0" t="0" r="r" b="b"/>
            <a:pathLst>
              <a:path w="14183" h="1624">
                <a:moveTo>
                  <a:pt x="7532" y="176"/>
                </a:moveTo>
                <a:lnTo>
                  <a:pt x="7356" y="141"/>
                </a:lnTo>
                <a:lnTo>
                  <a:pt x="7223" y="141"/>
                </a:lnTo>
                <a:lnTo>
                  <a:pt x="7091" y="176"/>
                </a:lnTo>
                <a:lnTo>
                  <a:pt x="6959" y="211"/>
                </a:lnTo>
                <a:lnTo>
                  <a:pt x="6827" y="176"/>
                </a:lnTo>
                <a:lnTo>
                  <a:pt x="6695" y="176"/>
                </a:lnTo>
                <a:lnTo>
                  <a:pt x="6563" y="141"/>
                </a:lnTo>
                <a:lnTo>
                  <a:pt x="6431" y="141"/>
                </a:lnTo>
                <a:lnTo>
                  <a:pt x="6299" y="141"/>
                </a:lnTo>
                <a:lnTo>
                  <a:pt x="6166" y="141"/>
                </a:lnTo>
                <a:lnTo>
                  <a:pt x="6034" y="176"/>
                </a:lnTo>
                <a:lnTo>
                  <a:pt x="5902" y="176"/>
                </a:lnTo>
                <a:lnTo>
                  <a:pt x="5770" y="176"/>
                </a:lnTo>
                <a:lnTo>
                  <a:pt x="5638" y="176"/>
                </a:lnTo>
                <a:lnTo>
                  <a:pt x="5506" y="176"/>
                </a:lnTo>
                <a:lnTo>
                  <a:pt x="5374" y="176"/>
                </a:lnTo>
                <a:lnTo>
                  <a:pt x="5242" y="176"/>
                </a:lnTo>
                <a:lnTo>
                  <a:pt x="5109" y="176"/>
                </a:lnTo>
                <a:lnTo>
                  <a:pt x="4977" y="176"/>
                </a:lnTo>
                <a:lnTo>
                  <a:pt x="4845" y="141"/>
                </a:lnTo>
                <a:lnTo>
                  <a:pt x="4713" y="105"/>
                </a:lnTo>
                <a:lnTo>
                  <a:pt x="4581" y="105"/>
                </a:lnTo>
                <a:lnTo>
                  <a:pt x="4449" y="141"/>
                </a:lnTo>
                <a:lnTo>
                  <a:pt x="4273" y="176"/>
                </a:lnTo>
                <a:lnTo>
                  <a:pt x="4096" y="211"/>
                </a:lnTo>
                <a:lnTo>
                  <a:pt x="3920" y="176"/>
                </a:lnTo>
                <a:lnTo>
                  <a:pt x="3744" y="141"/>
                </a:lnTo>
                <a:lnTo>
                  <a:pt x="3612" y="105"/>
                </a:lnTo>
                <a:lnTo>
                  <a:pt x="3479" y="105"/>
                </a:lnTo>
                <a:lnTo>
                  <a:pt x="3347" y="105"/>
                </a:lnTo>
                <a:lnTo>
                  <a:pt x="3215" y="105"/>
                </a:lnTo>
                <a:lnTo>
                  <a:pt x="3082" y="105"/>
                </a:lnTo>
                <a:lnTo>
                  <a:pt x="2950" y="141"/>
                </a:lnTo>
                <a:lnTo>
                  <a:pt x="2818" y="141"/>
                </a:lnTo>
                <a:lnTo>
                  <a:pt x="2686" y="141"/>
                </a:lnTo>
                <a:lnTo>
                  <a:pt x="2554" y="105"/>
                </a:lnTo>
                <a:lnTo>
                  <a:pt x="2422" y="70"/>
                </a:lnTo>
                <a:lnTo>
                  <a:pt x="2290" y="35"/>
                </a:lnTo>
                <a:lnTo>
                  <a:pt x="2158" y="0"/>
                </a:lnTo>
                <a:lnTo>
                  <a:pt x="2025" y="35"/>
                </a:lnTo>
                <a:lnTo>
                  <a:pt x="1893" y="35"/>
                </a:lnTo>
                <a:lnTo>
                  <a:pt x="1761" y="35"/>
                </a:lnTo>
                <a:lnTo>
                  <a:pt x="1629" y="35"/>
                </a:lnTo>
                <a:lnTo>
                  <a:pt x="1497" y="35"/>
                </a:lnTo>
                <a:lnTo>
                  <a:pt x="1365" y="35"/>
                </a:lnTo>
                <a:lnTo>
                  <a:pt x="1233" y="70"/>
                </a:lnTo>
                <a:lnTo>
                  <a:pt x="1101" y="141"/>
                </a:lnTo>
                <a:lnTo>
                  <a:pt x="968" y="246"/>
                </a:lnTo>
                <a:lnTo>
                  <a:pt x="836" y="317"/>
                </a:lnTo>
                <a:lnTo>
                  <a:pt x="704" y="352"/>
                </a:lnTo>
                <a:lnTo>
                  <a:pt x="572" y="352"/>
                </a:lnTo>
                <a:lnTo>
                  <a:pt x="440" y="352"/>
                </a:lnTo>
                <a:lnTo>
                  <a:pt x="308" y="352"/>
                </a:lnTo>
                <a:lnTo>
                  <a:pt x="176" y="388"/>
                </a:lnTo>
                <a:lnTo>
                  <a:pt x="44" y="388"/>
                </a:lnTo>
                <a:lnTo>
                  <a:pt x="0" y="494"/>
                </a:lnTo>
                <a:lnTo>
                  <a:pt x="0" y="600"/>
                </a:lnTo>
                <a:lnTo>
                  <a:pt x="0" y="706"/>
                </a:lnTo>
                <a:lnTo>
                  <a:pt x="132" y="812"/>
                </a:lnTo>
                <a:lnTo>
                  <a:pt x="264" y="882"/>
                </a:lnTo>
                <a:lnTo>
                  <a:pt x="396" y="882"/>
                </a:lnTo>
                <a:lnTo>
                  <a:pt x="528" y="882"/>
                </a:lnTo>
                <a:lnTo>
                  <a:pt x="660" y="882"/>
                </a:lnTo>
                <a:lnTo>
                  <a:pt x="792" y="882"/>
                </a:lnTo>
                <a:lnTo>
                  <a:pt x="924" y="918"/>
                </a:lnTo>
                <a:lnTo>
                  <a:pt x="1012" y="1024"/>
                </a:lnTo>
                <a:lnTo>
                  <a:pt x="1101" y="1129"/>
                </a:lnTo>
                <a:lnTo>
                  <a:pt x="1233" y="1200"/>
                </a:lnTo>
                <a:lnTo>
                  <a:pt x="1365" y="1200"/>
                </a:lnTo>
                <a:lnTo>
                  <a:pt x="1497" y="1165"/>
                </a:lnTo>
                <a:lnTo>
                  <a:pt x="1629" y="1129"/>
                </a:lnTo>
                <a:lnTo>
                  <a:pt x="1761" y="1094"/>
                </a:lnTo>
                <a:lnTo>
                  <a:pt x="1893" y="1094"/>
                </a:lnTo>
                <a:lnTo>
                  <a:pt x="2025" y="1165"/>
                </a:lnTo>
                <a:lnTo>
                  <a:pt x="2158" y="1236"/>
                </a:lnTo>
                <a:lnTo>
                  <a:pt x="2290" y="1272"/>
                </a:lnTo>
                <a:lnTo>
                  <a:pt x="2422" y="1272"/>
                </a:lnTo>
                <a:lnTo>
                  <a:pt x="2510" y="1377"/>
                </a:lnTo>
                <a:lnTo>
                  <a:pt x="2598" y="1483"/>
                </a:lnTo>
                <a:lnTo>
                  <a:pt x="2686" y="1589"/>
                </a:lnTo>
                <a:lnTo>
                  <a:pt x="2818" y="1624"/>
                </a:lnTo>
                <a:lnTo>
                  <a:pt x="2862" y="1518"/>
                </a:lnTo>
                <a:lnTo>
                  <a:pt x="2862" y="1413"/>
                </a:lnTo>
                <a:lnTo>
                  <a:pt x="2994" y="1377"/>
                </a:lnTo>
                <a:lnTo>
                  <a:pt x="3127" y="1377"/>
                </a:lnTo>
                <a:lnTo>
                  <a:pt x="3259" y="1483"/>
                </a:lnTo>
                <a:lnTo>
                  <a:pt x="3391" y="1518"/>
                </a:lnTo>
                <a:lnTo>
                  <a:pt x="3523" y="1554"/>
                </a:lnTo>
                <a:lnTo>
                  <a:pt x="3656" y="1518"/>
                </a:lnTo>
                <a:lnTo>
                  <a:pt x="3788" y="1413"/>
                </a:lnTo>
                <a:lnTo>
                  <a:pt x="3920" y="1413"/>
                </a:lnTo>
                <a:lnTo>
                  <a:pt x="4052" y="1413"/>
                </a:lnTo>
                <a:lnTo>
                  <a:pt x="4185" y="1448"/>
                </a:lnTo>
                <a:lnTo>
                  <a:pt x="4361" y="1554"/>
                </a:lnTo>
                <a:lnTo>
                  <a:pt x="4493" y="1589"/>
                </a:lnTo>
                <a:lnTo>
                  <a:pt x="4625" y="1624"/>
                </a:lnTo>
                <a:lnTo>
                  <a:pt x="4757" y="1518"/>
                </a:lnTo>
                <a:lnTo>
                  <a:pt x="4889" y="1483"/>
                </a:lnTo>
                <a:lnTo>
                  <a:pt x="5021" y="1448"/>
                </a:lnTo>
                <a:lnTo>
                  <a:pt x="5153" y="1413"/>
                </a:lnTo>
                <a:lnTo>
                  <a:pt x="5286" y="1377"/>
                </a:lnTo>
                <a:lnTo>
                  <a:pt x="5418" y="1342"/>
                </a:lnTo>
                <a:lnTo>
                  <a:pt x="5550" y="1342"/>
                </a:lnTo>
                <a:lnTo>
                  <a:pt x="5682" y="1342"/>
                </a:lnTo>
                <a:lnTo>
                  <a:pt x="5814" y="1377"/>
                </a:lnTo>
                <a:lnTo>
                  <a:pt x="5946" y="1413"/>
                </a:lnTo>
                <a:lnTo>
                  <a:pt x="6078" y="1448"/>
                </a:lnTo>
                <a:lnTo>
                  <a:pt x="6210" y="1448"/>
                </a:lnTo>
                <a:lnTo>
                  <a:pt x="6343" y="1483"/>
                </a:lnTo>
                <a:lnTo>
                  <a:pt x="6475" y="1483"/>
                </a:lnTo>
                <a:lnTo>
                  <a:pt x="6651" y="1448"/>
                </a:lnTo>
                <a:lnTo>
                  <a:pt x="6783" y="1413"/>
                </a:lnTo>
                <a:lnTo>
                  <a:pt x="6915" y="1377"/>
                </a:lnTo>
                <a:lnTo>
                  <a:pt x="7047" y="1377"/>
                </a:lnTo>
                <a:lnTo>
                  <a:pt x="7179" y="1342"/>
                </a:lnTo>
                <a:lnTo>
                  <a:pt x="7312" y="1307"/>
                </a:lnTo>
                <a:lnTo>
                  <a:pt x="7444" y="1272"/>
                </a:lnTo>
                <a:lnTo>
                  <a:pt x="7576" y="1236"/>
                </a:lnTo>
                <a:lnTo>
                  <a:pt x="7708" y="1200"/>
                </a:lnTo>
                <a:lnTo>
                  <a:pt x="7840" y="1165"/>
                </a:lnTo>
                <a:lnTo>
                  <a:pt x="7972" y="1165"/>
                </a:lnTo>
                <a:lnTo>
                  <a:pt x="8104" y="1165"/>
                </a:lnTo>
                <a:lnTo>
                  <a:pt x="8236" y="1165"/>
                </a:lnTo>
                <a:lnTo>
                  <a:pt x="8369" y="1165"/>
                </a:lnTo>
                <a:lnTo>
                  <a:pt x="8501" y="1200"/>
                </a:lnTo>
                <a:lnTo>
                  <a:pt x="8633" y="1236"/>
                </a:lnTo>
                <a:lnTo>
                  <a:pt x="8765" y="1272"/>
                </a:lnTo>
                <a:lnTo>
                  <a:pt x="8897" y="1272"/>
                </a:lnTo>
                <a:lnTo>
                  <a:pt x="9029" y="1272"/>
                </a:lnTo>
                <a:lnTo>
                  <a:pt x="9205" y="1272"/>
                </a:lnTo>
                <a:lnTo>
                  <a:pt x="9382" y="1200"/>
                </a:lnTo>
                <a:lnTo>
                  <a:pt x="9514" y="1165"/>
                </a:lnTo>
                <a:lnTo>
                  <a:pt x="9646" y="1129"/>
                </a:lnTo>
                <a:lnTo>
                  <a:pt x="9822" y="1129"/>
                </a:lnTo>
                <a:lnTo>
                  <a:pt x="9998" y="1165"/>
                </a:lnTo>
                <a:lnTo>
                  <a:pt x="10174" y="1200"/>
                </a:lnTo>
                <a:lnTo>
                  <a:pt x="10306" y="1272"/>
                </a:lnTo>
                <a:lnTo>
                  <a:pt x="10439" y="1307"/>
                </a:lnTo>
                <a:lnTo>
                  <a:pt x="10571" y="1342"/>
                </a:lnTo>
                <a:lnTo>
                  <a:pt x="10704" y="1342"/>
                </a:lnTo>
                <a:lnTo>
                  <a:pt x="10880" y="1272"/>
                </a:lnTo>
                <a:lnTo>
                  <a:pt x="11012" y="1236"/>
                </a:lnTo>
                <a:lnTo>
                  <a:pt x="11144" y="1165"/>
                </a:lnTo>
                <a:lnTo>
                  <a:pt x="11276" y="1129"/>
                </a:lnTo>
                <a:lnTo>
                  <a:pt x="11408" y="1129"/>
                </a:lnTo>
                <a:lnTo>
                  <a:pt x="11585" y="1129"/>
                </a:lnTo>
                <a:lnTo>
                  <a:pt x="11761" y="1129"/>
                </a:lnTo>
                <a:lnTo>
                  <a:pt x="11937" y="1129"/>
                </a:lnTo>
                <a:lnTo>
                  <a:pt x="12069" y="1165"/>
                </a:lnTo>
                <a:lnTo>
                  <a:pt x="12201" y="1165"/>
                </a:lnTo>
                <a:lnTo>
                  <a:pt x="12333" y="1200"/>
                </a:lnTo>
                <a:lnTo>
                  <a:pt x="12466" y="1200"/>
                </a:lnTo>
                <a:lnTo>
                  <a:pt x="12642" y="1200"/>
                </a:lnTo>
                <a:lnTo>
                  <a:pt x="12818" y="1200"/>
                </a:lnTo>
                <a:lnTo>
                  <a:pt x="12950" y="1129"/>
                </a:lnTo>
                <a:lnTo>
                  <a:pt x="13082" y="1094"/>
                </a:lnTo>
                <a:lnTo>
                  <a:pt x="13214" y="1094"/>
                </a:lnTo>
                <a:lnTo>
                  <a:pt x="13346" y="1094"/>
                </a:lnTo>
                <a:lnTo>
                  <a:pt x="13478" y="1094"/>
                </a:lnTo>
                <a:lnTo>
                  <a:pt x="13611" y="1094"/>
                </a:lnTo>
                <a:lnTo>
                  <a:pt x="13743" y="1059"/>
                </a:lnTo>
                <a:lnTo>
                  <a:pt x="13875" y="1024"/>
                </a:lnTo>
                <a:lnTo>
                  <a:pt x="14007" y="988"/>
                </a:lnTo>
                <a:lnTo>
                  <a:pt x="14139" y="918"/>
                </a:lnTo>
                <a:lnTo>
                  <a:pt x="14183" y="812"/>
                </a:lnTo>
                <a:lnTo>
                  <a:pt x="14183" y="706"/>
                </a:lnTo>
                <a:lnTo>
                  <a:pt x="14139" y="600"/>
                </a:lnTo>
                <a:lnTo>
                  <a:pt x="14007" y="494"/>
                </a:lnTo>
                <a:lnTo>
                  <a:pt x="13875" y="494"/>
                </a:lnTo>
                <a:lnTo>
                  <a:pt x="13743" y="459"/>
                </a:lnTo>
                <a:lnTo>
                  <a:pt x="13611" y="459"/>
                </a:lnTo>
                <a:lnTo>
                  <a:pt x="13478" y="424"/>
                </a:lnTo>
                <a:lnTo>
                  <a:pt x="13302" y="352"/>
                </a:lnTo>
                <a:lnTo>
                  <a:pt x="13170" y="317"/>
                </a:lnTo>
                <a:lnTo>
                  <a:pt x="13038" y="246"/>
                </a:lnTo>
                <a:lnTo>
                  <a:pt x="12906" y="211"/>
                </a:lnTo>
                <a:lnTo>
                  <a:pt x="12774" y="176"/>
                </a:lnTo>
                <a:lnTo>
                  <a:pt x="12642" y="211"/>
                </a:lnTo>
                <a:lnTo>
                  <a:pt x="12510" y="211"/>
                </a:lnTo>
                <a:lnTo>
                  <a:pt x="12377" y="211"/>
                </a:lnTo>
                <a:lnTo>
                  <a:pt x="12245" y="211"/>
                </a:lnTo>
                <a:lnTo>
                  <a:pt x="12113" y="211"/>
                </a:lnTo>
                <a:lnTo>
                  <a:pt x="11981" y="211"/>
                </a:lnTo>
                <a:lnTo>
                  <a:pt x="11849" y="211"/>
                </a:lnTo>
                <a:lnTo>
                  <a:pt x="11717" y="246"/>
                </a:lnTo>
                <a:lnTo>
                  <a:pt x="11585" y="246"/>
                </a:lnTo>
                <a:lnTo>
                  <a:pt x="11453" y="211"/>
                </a:lnTo>
                <a:lnTo>
                  <a:pt x="11320" y="211"/>
                </a:lnTo>
                <a:lnTo>
                  <a:pt x="11188" y="176"/>
                </a:lnTo>
                <a:lnTo>
                  <a:pt x="11056" y="176"/>
                </a:lnTo>
                <a:lnTo>
                  <a:pt x="10880" y="211"/>
                </a:lnTo>
                <a:lnTo>
                  <a:pt x="10748" y="246"/>
                </a:lnTo>
                <a:lnTo>
                  <a:pt x="10615" y="246"/>
                </a:lnTo>
                <a:lnTo>
                  <a:pt x="10483" y="246"/>
                </a:lnTo>
                <a:lnTo>
                  <a:pt x="10350" y="282"/>
                </a:lnTo>
                <a:lnTo>
                  <a:pt x="10218" y="282"/>
                </a:lnTo>
                <a:lnTo>
                  <a:pt x="10042" y="282"/>
                </a:lnTo>
                <a:lnTo>
                  <a:pt x="9910" y="282"/>
                </a:lnTo>
                <a:lnTo>
                  <a:pt x="9734" y="282"/>
                </a:lnTo>
                <a:lnTo>
                  <a:pt x="9558" y="211"/>
                </a:lnTo>
                <a:lnTo>
                  <a:pt x="9426" y="211"/>
                </a:lnTo>
                <a:lnTo>
                  <a:pt x="9293" y="211"/>
                </a:lnTo>
                <a:lnTo>
                  <a:pt x="9117" y="211"/>
                </a:lnTo>
                <a:lnTo>
                  <a:pt x="8941" y="211"/>
                </a:lnTo>
                <a:lnTo>
                  <a:pt x="8809" y="246"/>
                </a:lnTo>
                <a:lnTo>
                  <a:pt x="8677" y="282"/>
                </a:lnTo>
                <a:lnTo>
                  <a:pt x="8545" y="246"/>
                </a:lnTo>
                <a:lnTo>
                  <a:pt x="8413" y="246"/>
                </a:lnTo>
                <a:lnTo>
                  <a:pt x="8280" y="211"/>
                </a:lnTo>
                <a:lnTo>
                  <a:pt x="8148" y="211"/>
                </a:lnTo>
                <a:lnTo>
                  <a:pt x="8016" y="211"/>
                </a:lnTo>
                <a:lnTo>
                  <a:pt x="7884" y="211"/>
                </a:lnTo>
                <a:lnTo>
                  <a:pt x="7752" y="211"/>
                </a:lnTo>
                <a:lnTo>
                  <a:pt x="7532" y="176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638520" y="4448160"/>
            <a:ext cx="1514880" cy="1867320"/>
            <a:chOff x="3638520" y="4448160"/>
            <a:chExt cx="1514880" cy="1867320"/>
          </a:xfrm>
        </p:grpSpPr>
        <p:sp>
          <p:nvSpPr>
            <p:cNvPr id="416" name=""/>
            <p:cNvSpPr/>
            <p:nvPr/>
          </p:nvSpPr>
          <p:spPr>
            <a:xfrm>
              <a:off x="4019400" y="4448160"/>
              <a:ext cx="657720" cy="1724400"/>
            </a:xfrm>
            <a:custGeom>
              <a:avLst/>
              <a:gdLst/>
              <a:ahLst/>
              <a:rect l="0" t="0" r="r" b="b"/>
              <a:pathLst>
                <a:path w="1827" h="4790">
                  <a:moveTo>
                    <a:pt x="0" y="0"/>
                  </a:moveTo>
                  <a:lnTo>
                    <a:pt x="317" y="4790"/>
                  </a:lnTo>
                  <a:lnTo>
                    <a:pt x="1032" y="4790"/>
                  </a:lnTo>
                  <a:lnTo>
                    <a:pt x="927" y="1297"/>
                  </a:lnTo>
                  <a:lnTo>
                    <a:pt x="1032" y="4790"/>
                  </a:lnTo>
                  <a:lnTo>
                    <a:pt x="1827" y="4790"/>
                  </a:lnTo>
                  <a:lnTo>
                    <a:pt x="174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3852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1376" y="185"/>
                  </a:moveTo>
                  <a:lnTo>
                    <a:pt x="978" y="52"/>
                  </a:lnTo>
                  <a:lnTo>
                    <a:pt x="714" y="0"/>
                  </a:lnTo>
                  <a:lnTo>
                    <a:pt x="423" y="105"/>
                  </a:lnTo>
                  <a:lnTo>
                    <a:pt x="132" y="264"/>
                  </a:lnTo>
                  <a:lnTo>
                    <a:pt x="0" y="477"/>
                  </a:lnTo>
                  <a:lnTo>
                    <a:pt x="185" y="583"/>
                  </a:lnTo>
                  <a:lnTo>
                    <a:pt x="2091" y="583"/>
                  </a:lnTo>
                  <a:lnTo>
                    <a:pt x="2091" y="185"/>
                  </a:lnTo>
                  <a:lnTo>
                    <a:pt x="1376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40064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714" y="185"/>
                  </a:moveTo>
                  <a:lnTo>
                    <a:pt x="1112" y="52"/>
                  </a:lnTo>
                  <a:lnTo>
                    <a:pt x="1376" y="0"/>
                  </a:lnTo>
                  <a:lnTo>
                    <a:pt x="1667" y="105"/>
                  </a:lnTo>
                  <a:lnTo>
                    <a:pt x="1958" y="264"/>
                  </a:lnTo>
                  <a:lnTo>
                    <a:pt x="2091" y="477"/>
                  </a:lnTo>
                  <a:lnTo>
                    <a:pt x="1906" y="583"/>
                  </a:lnTo>
                  <a:lnTo>
                    <a:pt x="0" y="583"/>
                  </a:lnTo>
                  <a:lnTo>
                    <a:pt x="0" y="185"/>
                  </a:lnTo>
                  <a:lnTo>
                    <a:pt x="714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3681360" y="3200400"/>
            <a:ext cx="509760" cy="1443240"/>
            <a:chOff x="3681360" y="3200400"/>
            <a:chExt cx="509760" cy="1443240"/>
          </a:xfrm>
        </p:grpSpPr>
        <p:sp>
          <p:nvSpPr>
            <p:cNvPr id="420" name=""/>
            <p:cNvSpPr/>
            <p:nvPr/>
          </p:nvSpPr>
          <p:spPr>
            <a:xfrm>
              <a:off x="3705120" y="3200400"/>
              <a:ext cx="486000" cy="1190880"/>
            </a:xfrm>
            <a:custGeom>
              <a:avLst/>
              <a:gdLst/>
              <a:ahLst/>
              <a:rect l="0" t="0" r="r" b="b"/>
              <a:pathLst>
                <a:path w="1350" h="3308">
                  <a:moveTo>
                    <a:pt x="1112" y="0"/>
                  </a:moveTo>
                  <a:lnTo>
                    <a:pt x="1271" y="105"/>
                  </a:lnTo>
                  <a:lnTo>
                    <a:pt x="1350" y="423"/>
                  </a:lnTo>
                  <a:lnTo>
                    <a:pt x="1138" y="1322"/>
                  </a:lnTo>
                  <a:lnTo>
                    <a:pt x="821" y="3308"/>
                  </a:lnTo>
                  <a:lnTo>
                    <a:pt x="0" y="3149"/>
                  </a:lnTo>
                  <a:lnTo>
                    <a:pt x="370" y="1455"/>
                  </a:lnTo>
                  <a:lnTo>
                    <a:pt x="794" y="238"/>
                  </a:lnTo>
                  <a:lnTo>
                    <a:pt x="1112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4357800"/>
              <a:ext cx="30492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3895560" y="3048120"/>
            <a:ext cx="981360" cy="1600560"/>
          </a:xfrm>
          <a:custGeom>
            <a:avLst/>
            <a:gdLst/>
            <a:ahLst/>
            <a:rect l="0" t="0" r="r" b="b"/>
            <a:pathLst>
              <a:path w="2726" h="4446">
                <a:moveTo>
                  <a:pt x="953" y="374"/>
                </a:moveTo>
                <a:lnTo>
                  <a:pt x="865" y="392"/>
                </a:lnTo>
                <a:lnTo>
                  <a:pt x="799" y="436"/>
                </a:lnTo>
                <a:lnTo>
                  <a:pt x="672" y="582"/>
                </a:lnTo>
                <a:lnTo>
                  <a:pt x="540" y="723"/>
                </a:lnTo>
                <a:lnTo>
                  <a:pt x="391" y="851"/>
                </a:lnTo>
                <a:lnTo>
                  <a:pt x="369" y="890"/>
                </a:lnTo>
                <a:lnTo>
                  <a:pt x="347" y="930"/>
                </a:lnTo>
                <a:lnTo>
                  <a:pt x="347" y="930"/>
                </a:lnTo>
                <a:lnTo>
                  <a:pt x="369" y="930"/>
                </a:lnTo>
                <a:lnTo>
                  <a:pt x="153" y="1553"/>
                </a:lnTo>
                <a:lnTo>
                  <a:pt x="0" y="4345"/>
                </a:lnTo>
                <a:lnTo>
                  <a:pt x="2726" y="4446"/>
                </a:lnTo>
                <a:lnTo>
                  <a:pt x="2317" y="1844"/>
                </a:lnTo>
                <a:lnTo>
                  <a:pt x="2119" y="414"/>
                </a:lnTo>
                <a:lnTo>
                  <a:pt x="1385" y="0"/>
                </a:lnTo>
                <a:lnTo>
                  <a:pt x="953" y="374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05280" y="1609560"/>
            <a:ext cx="895680" cy="1581480"/>
          </a:xfrm>
          <a:custGeom>
            <a:avLst/>
            <a:gdLst/>
            <a:ahLst/>
            <a:rect l="0" t="0" r="r" b="b"/>
            <a:pathLst>
              <a:path w="2488" h="4393">
                <a:moveTo>
                  <a:pt x="582" y="0"/>
                </a:moveTo>
                <a:lnTo>
                  <a:pt x="264" y="264"/>
                </a:lnTo>
                <a:lnTo>
                  <a:pt x="79" y="687"/>
                </a:lnTo>
                <a:lnTo>
                  <a:pt x="26" y="1217"/>
                </a:lnTo>
                <a:lnTo>
                  <a:pt x="0" y="2699"/>
                </a:lnTo>
                <a:lnTo>
                  <a:pt x="52" y="3546"/>
                </a:lnTo>
                <a:lnTo>
                  <a:pt x="820" y="3599"/>
                </a:lnTo>
                <a:lnTo>
                  <a:pt x="926" y="4075"/>
                </a:lnTo>
                <a:lnTo>
                  <a:pt x="1031" y="4393"/>
                </a:lnTo>
                <a:lnTo>
                  <a:pt x="1271" y="4393"/>
                </a:lnTo>
                <a:lnTo>
                  <a:pt x="1403" y="4102"/>
                </a:lnTo>
                <a:lnTo>
                  <a:pt x="1323" y="3599"/>
                </a:lnTo>
                <a:lnTo>
                  <a:pt x="2038" y="3519"/>
                </a:lnTo>
                <a:lnTo>
                  <a:pt x="2064" y="3017"/>
                </a:lnTo>
                <a:lnTo>
                  <a:pt x="2223" y="3096"/>
                </a:lnTo>
                <a:lnTo>
                  <a:pt x="2382" y="3043"/>
                </a:lnTo>
                <a:lnTo>
                  <a:pt x="2488" y="2620"/>
                </a:lnTo>
                <a:lnTo>
                  <a:pt x="2355" y="2408"/>
                </a:lnTo>
                <a:lnTo>
                  <a:pt x="2197" y="2435"/>
                </a:lnTo>
                <a:lnTo>
                  <a:pt x="2355" y="185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740040" y="1231920"/>
            <a:ext cx="1130760" cy="648000"/>
          </a:xfrm>
          <a:custGeom>
            <a:avLst/>
            <a:gdLst/>
            <a:ahLst/>
            <a:rect l="0" t="0" r="r" b="b"/>
            <a:pathLst>
              <a:path w="3141" h="1800">
                <a:moveTo>
                  <a:pt x="0" y="1588"/>
                </a:moveTo>
                <a:lnTo>
                  <a:pt x="3035" y="1800"/>
                </a:lnTo>
                <a:lnTo>
                  <a:pt x="3141" y="141"/>
                </a:lnTo>
                <a:lnTo>
                  <a:pt x="246" y="0"/>
                </a:lnTo>
                <a:lnTo>
                  <a:pt x="0" y="15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91120" y="3057480"/>
            <a:ext cx="305280" cy="181440"/>
          </a:xfrm>
          <a:custGeom>
            <a:avLst/>
            <a:gdLst/>
            <a:ahLst/>
            <a:rect l="0" t="0" r="r" b="b"/>
            <a:pathLst>
              <a:path w="848" h="504">
                <a:moveTo>
                  <a:pt x="0" y="344"/>
                </a:moveTo>
                <a:lnTo>
                  <a:pt x="239" y="478"/>
                </a:lnTo>
                <a:lnTo>
                  <a:pt x="663" y="504"/>
                </a:lnTo>
                <a:lnTo>
                  <a:pt x="848" y="265"/>
                </a:lnTo>
                <a:lnTo>
                  <a:pt x="848" y="79"/>
                </a:lnTo>
                <a:lnTo>
                  <a:pt x="663" y="0"/>
                </a:lnTo>
                <a:lnTo>
                  <a:pt x="477" y="265"/>
                </a:lnTo>
                <a:lnTo>
                  <a:pt x="185" y="292"/>
                </a:lnTo>
                <a:lnTo>
                  <a:pt x="0" y="344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795840" y="1714680"/>
            <a:ext cx="962280" cy="1104840"/>
            <a:chOff x="3795840" y="1714680"/>
            <a:chExt cx="962280" cy="1104840"/>
          </a:xfrm>
        </p:grpSpPr>
        <p:sp>
          <p:nvSpPr>
            <p:cNvPr id="427" name=""/>
            <p:cNvSpPr/>
            <p:nvPr/>
          </p:nvSpPr>
          <p:spPr>
            <a:xfrm>
              <a:off x="3795840" y="2052720"/>
              <a:ext cx="409680" cy="409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148280" y="2014560"/>
              <a:ext cx="485640" cy="485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338720" y="2214720"/>
              <a:ext cx="85680" cy="85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29040" y="2224080"/>
              <a:ext cx="85680" cy="85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3924360" y="1866960"/>
              <a:ext cx="799920" cy="3816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70360" y="2562120"/>
              <a:ext cx="657720" cy="257400"/>
            </a:xfrm>
            <a:custGeom>
              <a:avLst/>
              <a:gdLst/>
              <a:ahLst/>
              <a:rect l="0" t="0" r="r" b="b"/>
              <a:pathLst>
                <a:path w="1827" h="715">
                  <a:moveTo>
                    <a:pt x="0" y="0"/>
                  </a:moveTo>
                  <a:lnTo>
                    <a:pt x="1827" y="163"/>
                  </a:lnTo>
                  <a:lnTo>
                    <a:pt x="746" y="7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3975120" y="1714680"/>
              <a:ext cx="767160" cy="177840"/>
              <a:chOff x="3975120" y="1714680"/>
              <a:chExt cx="767160" cy="17784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3975120" y="1714680"/>
                <a:ext cx="697320" cy="152640"/>
                <a:chOff x="3975120" y="1714680"/>
                <a:chExt cx="697320" cy="15264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3975120" y="1714680"/>
                  <a:ext cx="697320" cy="152640"/>
                </a:xfrm>
                <a:custGeom>
                  <a:avLst/>
                  <a:gdLst/>
                  <a:ahLst/>
                  <a:rect l="0" t="0" r="r" b="b"/>
                  <a:pathLst>
                    <a:path w="1937" h="424">
                      <a:moveTo>
                        <a:pt x="615" y="21"/>
                      </a:moveTo>
                      <a:lnTo>
                        <a:pt x="674" y="13"/>
                      </a:lnTo>
                      <a:lnTo>
                        <a:pt x="732" y="9"/>
                      </a:lnTo>
                      <a:lnTo>
                        <a:pt x="806" y="5"/>
                      </a:lnTo>
                      <a:lnTo>
                        <a:pt x="886" y="1"/>
                      </a:lnTo>
                      <a:lnTo>
                        <a:pt x="953" y="0"/>
                      </a:lnTo>
                      <a:lnTo>
                        <a:pt x="1031" y="2"/>
                      </a:lnTo>
                      <a:lnTo>
                        <a:pt x="1135" y="8"/>
                      </a:lnTo>
                      <a:lnTo>
                        <a:pt x="1263" y="18"/>
                      </a:lnTo>
                      <a:lnTo>
                        <a:pt x="1364" y="29"/>
                      </a:lnTo>
                      <a:lnTo>
                        <a:pt x="1452" y="42"/>
                      </a:lnTo>
                      <a:lnTo>
                        <a:pt x="1497" y="51"/>
                      </a:lnTo>
                      <a:lnTo>
                        <a:pt x="1537" y="60"/>
                      </a:lnTo>
                      <a:lnTo>
                        <a:pt x="1588" y="77"/>
                      </a:lnTo>
                      <a:lnTo>
                        <a:pt x="1610" y="86"/>
                      </a:lnTo>
                      <a:lnTo>
                        <a:pt x="1636" y="93"/>
                      </a:lnTo>
                      <a:lnTo>
                        <a:pt x="1680" y="99"/>
                      </a:lnTo>
                      <a:lnTo>
                        <a:pt x="1724" y="105"/>
                      </a:lnTo>
                      <a:lnTo>
                        <a:pt x="1768" y="114"/>
                      </a:lnTo>
                      <a:lnTo>
                        <a:pt x="1804" y="125"/>
                      </a:lnTo>
                      <a:lnTo>
                        <a:pt x="1824" y="134"/>
                      </a:lnTo>
                      <a:lnTo>
                        <a:pt x="1850" y="152"/>
                      </a:lnTo>
                      <a:lnTo>
                        <a:pt x="1880" y="181"/>
                      </a:lnTo>
                      <a:lnTo>
                        <a:pt x="1903" y="214"/>
                      </a:lnTo>
                      <a:lnTo>
                        <a:pt x="1923" y="241"/>
                      </a:lnTo>
                      <a:lnTo>
                        <a:pt x="1935" y="257"/>
                      </a:lnTo>
                      <a:lnTo>
                        <a:pt x="1937" y="275"/>
                      </a:lnTo>
                      <a:lnTo>
                        <a:pt x="1927" y="294"/>
                      </a:lnTo>
                      <a:lnTo>
                        <a:pt x="1917" y="316"/>
                      </a:lnTo>
                      <a:lnTo>
                        <a:pt x="1905" y="338"/>
                      </a:lnTo>
                      <a:lnTo>
                        <a:pt x="1892" y="356"/>
                      </a:lnTo>
                      <a:lnTo>
                        <a:pt x="1872" y="369"/>
                      </a:lnTo>
                      <a:lnTo>
                        <a:pt x="1852" y="378"/>
                      </a:lnTo>
                      <a:lnTo>
                        <a:pt x="1824" y="385"/>
                      </a:lnTo>
                      <a:lnTo>
                        <a:pt x="1802" y="389"/>
                      </a:lnTo>
                      <a:lnTo>
                        <a:pt x="1766" y="391"/>
                      </a:lnTo>
                      <a:lnTo>
                        <a:pt x="1686" y="393"/>
                      </a:lnTo>
                      <a:lnTo>
                        <a:pt x="1600" y="397"/>
                      </a:lnTo>
                      <a:lnTo>
                        <a:pt x="1517" y="404"/>
                      </a:lnTo>
                      <a:lnTo>
                        <a:pt x="1328" y="415"/>
                      </a:lnTo>
                      <a:lnTo>
                        <a:pt x="1221" y="419"/>
                      </a:lnTo>
                      <a:lnTo>
                        <a:pt x="1051" y="424"/>
                      </a:lnTo>
                      <a:lnTo>
                        <a:pt x="924" y="419"/>
                      </a:lnTo>
                      <a:lnTo>
                        <a:pt x="778" y="413"/>
                      </a:lnTo>
                      <a:lnTo>
                        <a:pt x="676" y="399"/>
                      </a:lnTo>
                      <a:lnTo>
                        <a:pt x="636" y="389"/>
                      </a:lnTo>
                      <a:lnTo>
                        <a:pt x="605" y="380"/>
                      </a:lnTo>
                      <a:lnTo>
                        <a:pt x="567" y="374"/>
                      </a:lnTo>
                      <a:lnTo>
                        <a:pt x="533" y="371"/>
                      </a:lnTo>
                      <a:lnTo>
                        <a:pt x="503" y="371"/>
                      </a:lnTo>
                      <a:lnTo>
                        <a:pt x="470" y="369"/>
                      </a:lnTo>
                      <a:lnTo>
                        <a:pt x="420" y="362"/>
                      </a:lnTo>
                      <a:lnTo>
                        <a:pt x="388" y="353"/>
                      </a:lnTo>
                      <a:lnTo>
                        <a:pt x="368" y="344"/>
                      </a:lnTo>
                      <a:lnTo>
                        <a:pt x="356" y="334"/>
                      </a:lnTo>
                      <a:lnTo>
                        <a:pt x="348" y="323"/>
                      </a:lnTo>
                      <a:lnTo>
                        <a:pt x="336" y="315"/>
                      </a:lnTo>
                      <a:lnTo>
                        <a:pt x="307" y="305"/>
                      </a:lnTo>
                      <a:lnTo>
                        <a:pt x="259" y="296"/>
                      </a:lnTo>
                      <a:lnTo>
                        <a:pt x="207" y="292"/>
                      </a:lnTo>
                      <a:lnTo>
                        <a:pt x="163" y="289"/>
                      </a:lnTo>
                      <a:lnTo>
                        <a:pt x="115" y="283"/>
                      </a:lnTo>
                      <a:lnTo>
                        <a:pt x="75" y="276"/>
                      </a:lnTo>
                      <a:lnTo>
                        <a:pt x="43" y="268"/>
                      </a:lnTo>
                      <a:lnTo>
                        <a:pt x="25" y="259"/>
                      </a:lnTo>
                      <a:lnTo>
                        <a:pt x="13" y="244"/>
                      </a:lnTo>
                      <a:lnTo>
                        <a:pt x="3" y="226"/>
                      </a:lnTo>
                      <a:lnTo>
                        <a:pt x="0" y="208"/>
                      </a:lnTo>
                      <a:lnTo>
                        <a:pt x="3" y="190"/>
                      </a:lnTo>
                      <a:lnTo>
                        <a:pt x="19" y="168"/>
                      </a:lnTo>
                      <a:lnTo>
                        <a:pt x="47" y="147"/>
                      </a:lnTo>
                      <a:lnTo>
                        <a:pt x="87" y="126"/>
                      </a:lnTo>
                      <a:lnTo>
                        <a:pt x="139" y="107"/>
                      </a:lnTo>
                      <a:lnTo>
                        <a:pt x="193" y="95"/>
                      </a:lnTo>
                      <a:lnTo>
                        <a:pt x="235" y="86"/>
                      </a:lnTo>
                      <a:lnTo>
                        <a:pt x="295" y="80"/>
                      </a:lnTo>
                      <a:lnTo>
                        <a:pt x="336" y="78"/>
                      </a:lnTo>
                      <a:lnTo>
                        <a:pt x="378" y="72"/>
                      </a:lnTo>
                      <a:lnTo>
                        <a:pt x="442" y="57"/>
                      </a:lnTo>
                      <a:lnTo>
                        <a:pt x="493" y="44"/>
                      </a:lnTo>
                      <a:lnTo>
                        <a:pt x="557" y="30"/>
                      </a:lnTo>
                      <a:lnTo>
                        <a:pt x="615" y="21"/>
                      </a:lnTo>
                      <a:close/>
                    </a:path>
                  </a:pathLst>
                </a:custGeom>
                <a:solidFill>
                  <a:srgbClr val="ff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6" name=""/>
                <p:cNvGrpSpPr/>
                <p:nvPr/>
              </p:nvGrpSpPr>
              <p:grpSpPr>
                <a:xfrm>
                  <a:off x="3992400" y="1717560"/>
                  <a:ext cx="656280" cy="126000"/>
                  <a:chOff x="3992400" y="1717560"/>
                  <a:chExt cx="656280" cy="126000"/>
                </a:xfrm>
              </p:grpSpPr>
              <p:grpSp>
                <p:nvGrpSpPr>
                  <p:cNvPr id="437" name=""/>
                  <p:cNvGrpSpPr/>
                  <p:nvPr/>
                </p:nvGrpSpPr>
                <p:grpSpPr>
                  <a:xfrm>
                    <a:off x="3992400" y="1771560"/>
                    <a:ext cx="117720" cy="59040"/>
                    <a:chOff x="3992400" y="1771560"/>
                    <a:chExt cx="117720" cy="59040"/>
                  </a:xfrm>
                </p:grpSpPr>
                <p:sp>
                  <p:nvSpPr>
                    <p:cNvPr id="438" name=""/>
                    <p:cNvSpPr/>
                    <p:nvPr/>
                  </p:nvSpPr>
                  <p:spPr>
                    <a:xfrm>
                      <a:off x="3992400" y="1771560"/>
                      <a:ext cx="117720" cy="59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327" h="164">
                          <a:moveTo>
                            <a:pt x="3" y="0"/>
                          </a:moveTo>
                          <a:lnTo>
                            <a:pt x="1" y="6"/>
                          </a:lnTo>
                          <a:lnTo>
                            <a:pt x="0" y="14"/>
                          </a:lnTo>
                          <a:lnTo>
                            <a:pt x="1" y="21"/>
                          </a:lnTo>
                          <a:lnTo>
                            <a:pt x="7" y="30"/>
                          </a:lnTo>
                          <a:lnTo>
                            <a:pt x="13" y="37"/>
                          </a:lnTo>
                          <a:lnTo>
                            <a:pt x="27" y="44"/>
                          </a:lnTo>
                          <a:lnTo>
                            <a:pt x="43" y="52"/>
                          </a:lnTo>
                          <a:lnTo>
                            <a:pt x="69" y="57"/>
                          </a:lnTo>
                          <a:lnTo>
                            <a:pt x="92" y="61"/>
                          </a:lnTo>
                          <a:lnTo>
                            <a:pt x="118" y="66"/>
                          </a:lnTo>
                          <a:lnTo>
                            <a:pt x="124" y="72"/>
                          </a:lnTo>
                          <a:lnTo>
                            <a:pt x="132" y="83"/>
                          </a:lnTo>
                          <a:lnTo>
                            <a:pt x="148" y="91"/>
                          </a:lnTo>
                          <a:lnTo>
                            <a:pt x="167" y="101"/>
                          </a:lnTo>
                          <a:lnTo>
                            <a:pt x="198" y="111"/>
                          </a:lnTo>
                          <a:lnTo>
                            <a:pt x="222" y="118"/>
                          </a:lnTo>
                          <a:lnTo>
                            <a:pt x="240" y="122"/>
                          </a:lnTo>
                          <a:lnTo>
                            <a:pt x="269" y="127"/>
                          </a:lnTo>
                          <a:lnTo>
                            <a:pt x="301" y="130"/>
                          </a:lnTo>
                          <a:lnTo>
                            <a:pt x="315" y="132"/>
                          </a:lnTo>
                          <a:lnTo>
                            <a:pt x="323" y="135"/>
                          </a:lnTo>
                          <a:lnTo>
                            <a:pt x="327" y="139"/>
                          </a:lnTo>
                          <a:lnTo>
                            <a:pt x="321" y="153"/>
                          </a:lnTo>
                          <a:lnTo>
                            <a:pt x="313" y="164"/>
                          </a:lnTo>
                        </a:path>
                      </a:pathLst>
                    </a:custGeom>
                    <a:ln w="12600">
                      <a:solidFill>
                        <a:srgbClr val="ff8080"/>
                      </a:solidFill>
                      <a:round/>
                    </a:ln>
                  </p:spPr>
                  <p:txBody>
                    <a:bodyPr lIns="96120" rIns="9612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>
                      <a:off x="4037040" y="177948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72" h="72">
                          <a:moveTo>
                            <a:pt x="45" y="0"/>
                          </a:moveTo>
                          <a:lnTo>
                            <a:pt x="63" y="21"/>
                          </a:lnTo>
                          <a:lnTo>
                            <a:pt x="72" y="37"/>
                          </a:lnTo>
                          <a:lnTo>
                            <a:pt x="53" y="56"/>
                          </a:lnTo>
                          <a:lnTo>
                            <a:pt x="0" y="72"/>
                          </a:lnTo>
                        </a:path>
                      </a:pathLst>
                    </a:custGeom>
                    <a:ln w="12600">
                      <a:solidFill>
                        <a:srgbClr val="ff808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0" name=""/>
                  <p:cNvSpPr/>
                  <p:nvPr/>
                </p:nvSpPr>
                <p:spPr>
                  <a:xfrm>
                    <a:off x="4094280" y="1787400"/>
                    <a:ext cx="11304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14" h="89">
                        <a:moveTo>
                          <a:pt x="0" y="0"/>
                        </a:moveTo>
                        <a:lnTo>
                          <a:pt x="6" y="12"/>
                        </a:lnTo>
                        <a:lnTo>
                          <a:pt x="16" y="27"/>
                        </a:lnTo>
                        <a:lnTo>
                          <a:pt x="26" y="38"/>
                        </a:lnTo>
                        <a:lnTo>
                          <a:pt x="40" y="46"/>
                        </a:lnTo>
                        <a:lnTo>
                          <a:pt x="68" y="53"/>
                        </a:lnTo>
                        <a:lnTo>
                          <a:pt x="92" y="56"/>
                        </a:lnTo>
                        <a:lnTo>
                          <a:pt x="120" y="61"/>
                        </a:lnTo>
                        <a:lnTo>
                          <a:pt x="161" y="68"/>
                        </a:lnTo>
                        <a:lnTo>
                          <a:pt x="197" y="77"/>
                        </a:lnTo>
                        <a:lnTo>
                          <a:pt x="223" y="84"/>
                        </a:lnTo>
                        <a:lnTo>
                          <a:pt x="247" y="87"/>
                        </a:lnTo>
                        <a:lnTo>
                          <a:pt x="273" y="89"/>
                        </a:lnTo>
                        <a:lnTo>
                          <a:pt x="312" y="88"/>
                        </a:lnTo>
                        <a:lnTo>
                          <a:pt x="314" y="88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4105440" y="1762200"/>
                    <a:ext cx="766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13" h="72">
                        <a:moveTo>
                          <a:pt x="0" y="72"/>
                        </a:moveTo>
                        <a:lnTo>
                          <a:pt x="27" y="49"/>
                        </a:lnTo>
                        <a:lnTo>
                          <a:pt x="51" y="32"/>
                        </a:lnTo>
                        <a:lnTo>
                          <a:pt x="88" y="12"/>
                        </a:lnTo>
                        <a:lnTo>
                          <a:pt x="117" y="4"/>
                        </a:lnTo>
                        <a:lnTo>
                          <a:pt x="151" y="0"/>
                        </a:lnTo>
                        <a:lnTo>
                          <a:pt x="182" y="2"/>
                        </a:lnTo>
                        <a:lnTo>
                          <a:pt x="213" y="12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4071960" y="1746360"/>
                    <a:ext cx="25920" cy="385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2" h="107">
                        <a:moveTo>
                          <a:pt x="27" y="0"/>
                        </a:moveTo>
                        <a:lnTo>
                          <a:pt x="45" y="9"/>
                        </a:lnTo>
                        <a:lnTo>
                          <a:pt x="59" y="17"/>
                        </a:lnTo>
                        <a:lnTo>
                          <a:pt x="68" y="28"/>
                        </a:lnTo>
                        <a:lnTo>
                          <a:pt x="72" y="41"/>
                        </a:lnTo>
                        <a:lnTo>
                          <a:pt x="68" y="56"/>
                        </a:lnTo>
                        <a:lnTo>
                          <a:pt x="61" y="70"/>
                        </a:lnTo>
                        <a:lnTo>
                          <a:pt x="51" y="82"/>
                        </a:lnTo>
                        <a:lnTo>
                          <a:pt x="38" y="90"/>
                        </a:lnTo>
                        <a:lnTo>
                          <a:pt x="15" y="101"/>
                        </a:lnTo>
                        <a:lnTo>
                          <a:pt x="0" y="107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4105440" y="1733400"/>
                    <a:ext cx="590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64" h="72">
                        <a:moveTo>
                          <a:pt x="0" y="72"/>
                        </a:moveTo>
                        <a:lnTo>
                          <a:pt x="38" y="55"/>
                        </a:lnTo>
                        <a:lnTo>
                          <a:pt x="73" y="37"/>
                        </a:lnTo>
                        <a:lnTo>
                          <a:pt x="113" y="21"/>
                        </a:lnTo>
                        <a:lnTo>
                          <a:pt x="164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276800" y="1717560"/>
                    <a:ext cx="338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94" h="72">
                        <a:moveTo>
                          <a:pt x="0" y="72"/>
                        </a:moveTo>
                        <a:lnTo>
                          <a:pt x="34" y="40"/>
                        </a:lnTo>
                        <a:lnTo>
                          <a:pt x="94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191120" y="1725480"/>
                    <a:ext cx="2336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649" h="72">
                        <a:moveTo>
                          <a:pt x="0" y="72"/>
                        </a:moveTo>
                        <a:lnTo>
                          <a:pt x="24" y="70"/>
                        </a:lnTo>
                        <a:lnTo>
                          <a:pt x="42" y="66"/>
                        </a:lnTo>
                        <a:lnTo>
                          <a:pt x="58" y="62"/>
                        </a:lnTo>
                        <a:lnTo>
                          <a:pt x="70" y="55"/>
                        </a:lnTo>
                        <a:lnTo>
                          <a:pt x="76" y="46"/>
                        </a:lnTo>
                        <a:lnTo>
                          <a:pt x="80" y="37"/>
                        </a:lnTo>
                        <a:lnTo>
                          <a:pt x="88" y="47"/>
                        </a:lnTo>
                        <a:lnTo>
                          <a:pt x="98" y="53"/>
                        </a:lnTo>
                        <a:lnTo>
                          <a:pt x="116" y="58"/>
                        </a:lnTo>
                        <a:lnTo>
                          <a:pt x="138" y="60"/>
                        </a:lnTo>
                        <a:lnTo>
                          <a:pt x="164" y="61"/>
                        </a:lnTo>
                        <a:lnTo>
                          <a:pt x="206" y="60"/>
                        </a:lnTo>
                        <a:lnTo>
                          <a:pt x="248" y="58"/>
                        </a:lnTo>
                        <a:lnTo>
                          <a:pt x="286" y="55"/>
                        </a:lnTo>
                        <a:lnTo>
                          <a:pt x="316" y="52"/>
                        </a:lnTo>
                        <a:lnTo>
                          <a:pt x="351" y="45"/>
                        </a:lnTo>
                        <a:lnTo>
                          <a:pt x="377" y="39"/>
                        </a:lnTo>
                        <a:lnTo>
                          <a:pt x="401" y="32"/>
                        </a:lnTo>
                        <a:lnTo>
                          <a:pt x="417" y="21"/>
                        </a:lnTo>
                        <a:lnTo>
                          <a:pt x="427" y="29"/>
                        </a:lnTo>
                        <a:lnTo>
                          <a:pt x="441" y="35"/>
                        </a:lnTo>
                        <a:lnTo>
                          <a:pt x="457" y="41"/>
                        </a:lnTo>
                        <a:lnTo>
                          <a:pt x="483" y="44"/>
                        </a:lnTo>
                        <a:lnTo>
                          <a:pt x="515" y="45"/>
                        </a:lnTo>
                        <a:lnTo>
                          <a:pt x="541" y="44"/>
                        </a:lnTo>
                        <a:lnTo>
                          <a:pt x="559" y="42"/>
                        </a:lnTo>
                        <a:lnTo>
                          <a:pt x="587" y="39"/>
                        </a:lnTo>
                        <a:lnTo>
                          <a:pt x="605" y="35"/>
                        </a:lnTo>
                        <a:lnTo>
                          <a:pt x="621" y="31"/>
                        </a:lnTo>
                        <a:lnTo>
                          <a:pt x="631" y="23"/>
                        </a:lnTo>
                        <a:lnTo>
                          <a:pt x="639" y="13"/>
                        </a:lnTo>
                        <a:lnTo>
                          <a:pt x="649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4165560" y="1762200"/>
                    <a:ext cx="2624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29" h="72">
                        <a:moveTo>
                          <a:pt x="0" y="46"/>
                        </a:moveTo>
                        <a:lnTo>
                          <a:pt x="25" y="36"/>
                        </a:lnTo>
                        <a:lnTo>
                          <a:pt x="55" y="26"/>
                        </a:lnTo>
                        <a:lnTo>
                          <a:pt x="81" y="17"/>
                        </a:lnTo>
                        <a:lnTo>
                          <a:pt x="109" y="11"/>
                        </a:lnTo>
                        <a:lnTo>
                          <a:pt x="139" y="4"/>
                        </a:lnTo>
                        <a:lnTo>
                          <a:pt x="157" y="2"/>
                        </a:lnTo>
                        <a:lnTo>
                          <a:pt x="188" y="0"/>
                        </a:lnTo>
                        <a:lnTo>
                          <a:pt x="248" y="0"/>
                        </a:lnTo>
                        <a:lnTo>
                          <a:pt x="312" y="0"/>
                        </a:lnTo>
                        <a:lnTo>
                          <a:pt x="370" y="2"/>
                        </a:lnTo>
                        <a:lnTo>
                          <a:pt x="432" y="4"/>
                        </a:lnTo>
                        <a:lnTo>
                          <a:pt x="478" y="8"/>
                        </a:lnTo>
                        <a:lnTo>
                          <a:pt x="522" y="13"/>
                        </a:lnTo>
                        <a:lnTo>
                          <a:pt x="561" y="21"/>
                        </a:lnTo>
                        <a:lnTo>
                          <a:pt x="603" y="30"/>
                        </a:lnTo>
                        <a:lnTo>
                          <a:pt x="645" y="39"/>
                        </a:lnTo>
                        <a:lnTo>
                          <a:pt x="675" y="49"/>
                        </a:lnTo>
                        <a:lnTo>
                          <a:pt x="705" y="61"/>
                        </a:lnTo>
                        <a:lnTo>
                          <a:pt x="729" y="72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4356000" y="1752480"/>
                    <a:ext cx="558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55" h="72">
                        <a:moveTo>
                          <a:pt x="0" y="63"/>
                        </a:moveTo>
                        <a:lnTo>
                          <a:pt x="28" y="69"/>
                        </a:lnTo>
                        <a:lnTo>
                          <a:pt x="57" y="72"/>
                        </a:lnTo>
                        <a:lnTo>
                          <a:pt x="83" y="67"/>
                        </a:lnTo>
                        <a:lnTo>
                          <a:pt x="108" y="57"/>
                        </a:lnTo>
                        <a:lnTo>
                          <a:pt x="130" y="40"/>
                        </a:lnTo>
                        <a:lnTo>
                          <a:pt x="142" y="21"/>
                        </a:lnTo>
                        <a:lnTo>
                          <a:pt x="155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4440240" y="1731960"/>
                    <a:ext cx="46440" cy="417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29" h="116">
                        <a:moveTo>
                          <a:pt x="113" y="0"/>
                        </a:moveTo>
                        <a:lnTo>
                          <a:pt x="101" y="9"/>
                        </a:lnTo>
                        <a:lnTo>
                          <a:pt x="84" y="19"/>
                        </a:lnTo>
                        <a:lnTo>
                          <a:pt x="66" y="24"/>
                        </a:lnTo>
                        <a:lnTo>
                          <a:pt x="54" y="27"/>
                        </a:lnTo>
                        <a:lnTo>
                          <a:pt x="36" y="27"/>
                        </a:lnTo>
                        <a:lnTo>
                          <a:pt x="15" y="27"/>
                        </a:lnTo>
                        <a:lnTo>
                          <a:pt x="0" y="24"/>
                        </a:lnTo>
                        <a:lnTo>
                          <a:pt x="23" y="32"/>
                        </a:lnTo>
                        <a:lnTo>
                          <a:pt x="40" y="37"/>
                        </a:lnTo>
                        <a:lnTo>
                          <a:pt x="48" y="42"/>
                        </a:lnTo>
                        <a:lnTo>
                          <a:pt x="52" y="45"/>
                        </a:lnTo>
                        <a:lnTo>
                          <a:pt x="50" y="51"/>
                        </a:lnTo>
                        <a:lnTo>
                          <a:pt x="48" y="58"/>
                        </a:lnTo>
                        <a:lnTo>
                          <a:pt x="44" y="69"/>
                        </a:lnTo>
                        <a:lnTo>
                          <a:pt x="48" y="78"/>
                        </a:lnTo>
                        <a:lnTo>
                          <a:pt x="56" y="90"/>
                        </a:lnTo>
                        <a:lnTo>
                          <a:pt x="66" y="96"/>
                        </a:lnTo>
                        <a:lnTo>
                          <a:pt x="78" y="102"/>
                        </a:lnTo>
                        <a:lnTo>
                          <a:pt x="101" y="108"/>
                        </a:lnTo>
                        <a:lnTo>
                          <a:pt x="129" y="116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4494240" y="1741320"/>
                    <a:ext cx="147960" cy="385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411" h="107">
                        <a:moveTo>
                          <a:pt x="90" y="0"/>
                        </a:moveTo>
                        <a:lnTo>
                          <a:pt x="82" y="7"/>
                        </a:lnTo>
                        <a:lnTo>
                          <a:pt x="70" y="15"/>
                        </a:lnTo>
                        <a:lnTo>
                          <a:pt x="54" y="21"/>
                        </a:lnTo>
                        <a:lnTo>
                          <a:pt x="30" y="29"/>
                        </a:lnTo>
                        <a:lnTo>
                          <a:pt x="0" y="37"/>
                        </a:lnTo>
                        <a:lnTo>
                          <a:pt x="24" y="39"/>
                        </a:lnTo>
                        <a:lnTo>
                          <a:pt x="50" y="40"/>
                        </a:lnTo>
                        <a:lnTo>
                          <a:pt x="72" y="42"/>
                        </a:lnTo>
                        <a:lnTo>
                          <a:pt x="88" y="45"/>
                        </a:lnTo>
                        <a:lnTo>
                          <a:pt x="100" y="48"/>
                        </a:lnTo>
                        <a:lnTo>
                          <a:pt x="112" y="55"/>
                        </a:lnTo>
                        <a:lnTo>
                          <a:pt x="120" y="60"/>
                        </a:lnTo>
                        <a:lnTo>
                          <a:pt x="126" y="68"/>
                        </a:lnTo>
                        <a:lnTo>
                          <a:pt x="130" y="79"/>
                        </a:lnTo>
                        <a:lnTo>
                          <a:pt x="126" y="100"/>
                        </a:lnTo>
                        <a:lnTo>
                          <a:pt x="142" y="95"/>
                        </a:lnTo>
                        <a:lnTo>
                          <a:pt x="160" y="89"/>
                        </a:lnTo>
                        <a:lnTo>
                          <a:pt x="178" y="84"/>
                        </a:lnTo>
                        <a:lnTo>
                          <a:pt x="202" y="79"/>
                        </a:lnTo>
                        <a:lnTo>
                          <a:pt x="225" y="77"/>
                        </a:lnTo>
                        <a:lnTo>
                          <a:pt x="251" y="77"/>
                        </a:lnTo>
                        <a:lnTo>
                          <a:pt x="281" y="78"/>
                        </a:lnTo>
                        <a:lnTo>
                          <a:pt x="309" y="82"/>
                        </a:lnTo>
                        <a:lnTo>
                          <a:pt x="329" y="84"/>
                        </a:lnTo>
                        <a:lnTo>
                          <a:pt x="353" y="89"/>
                        </a:lnTo>
                        <a:lnTo>
                          <a:pt x="371" y="94"/>
                        </a:lnTo>
                        <a:lnTo>
                          <a:pt x="411" y="107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4489560" y="1770120"/>
                    <a:ext cx="55800" cy="273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55" h="76">
                        <a:moveTo>
                          <a:pt x="22" y="0"/>
                        </a:moveTo>
                        <a:lnTo>
                          <a:pt x="12" y="9"/>
                        </a:lnTo>
                        <a:lnTo>
                          <a:pt x="2" y="18"/>
                        </a:lnTo>
                        <a:lnTo>
                          <a:pt x="0" y="27"/>
                        </a:lnTo>
                        <a:lnTo>
                          <a:pt x="4" y="37"/>
                        </a:lnTo>
                        <a:lnTo>
                          <a:pt x="16" y="49"/>
                        </a:lnTo>
                        <a:lnTo>
                          <a:pt x="30" y="65"/>
                        </a:lnTo>
                        <a:lnTo>
                          <a:pt x="40" y="70"/>
                        </a:lnTo>
                        <a:lnTo>
                          <a:pt x="50" y="74"/>
                        </a:lnTo>
                        <a:lnTo>
                          <a:pt x="62" y="75"/>
                        </a:lnTo>
                        <a:lnTo>
                          <a:pt x="103" y="76"/>
                        </a:lnTo>
                        <a:lnTo>
                          <a:pt x="155" y="75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4551480" y="1790640"/>
                    <a:ext cx="828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30" h="72">
                        <a:moveTo>
                          <a:pt x="0" y="52"/>
                        </a:moveTo>
                        <a:lnTo>
                          <a:pt x="27" y="62"/>
                        </a:lnTo>
                        <a:lnTo>
                          <a:pt x="51" y="67"/>
                        </a:lnTo>
                        <a:lnTo>
                          <a:pt x="79" y="72"/>
                        </a:lnTo>
                        <a:lnTo>
                          <a:pt x="112" y="72"/>
                        </a:lnTo>
                        <a:lnTo>
                          <a:pt x="141" y="66"/>
                        </a:lnTo>
                        <a:lnTo>
                          <a:pt x="169" y="56"/>
                        </a:lnTo>
                        <a:lnTo>
                          <a:pt x="192" y="39"/>
                        </a:lnTo>
                        <a:lnTo>
                          <a:pt x="214" y="17"/>
                        </a:lnTo>
                        <a:lnTo>
                          <a:pt x="230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4532400" y="1809720"/>
                    <a:ext cx="116280" cy="338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23" h="94">
                        <a:moveTo>
                          <a:pt x="323" y="0"/>
                        </a:moveTo>
                        <a:lnTo>
                          <a:pt x="313" y="8"/>
                        </a:lnTo>
                        <a:lnTo>
                          <a:pt x="298" y="16"/>
                        </a:lnTo>
                        <a:lnTo>
                          <a:pt x="272" y="25"/>
                        </a:lnTo>
                        <a:lnTo>
                          <a:pt x="258" y="27"/>
                        </a:lnTo>
                        <a:lnTo>
                          <a:pt x="233" y="30"/>
                        </a:lnTo>
                        <a:lnTo>
                          <a:pt x="199" y="27"/>
                        </a:lnTo>
                        <a:lnTo>
                          <a:pt x="163" y="25"/>
                        </a:lnTo>
                        <a:lnTo>
                          <a:pt x="120" y="21"/>
                        </a:lnTo>
                        <a:lnTo>
                          <a:pt x="84" y="18"/>
                        </a:lnTo>
                        <a:lnTo>
                          <a:pt x="53" y="16"/>
                        </a:lnTo>
                        <a:lnTo>
                          <a:pt x="17" y="16"/>
                        </a:lnTo>
                        <a:lnTo>
                          <a:pt x="0" y="18"/>
                        </a:lnTo>
                        <a:lnTo>
                          <a:pt x="21" y="20"/>
                        </a:lnTo>
                        <a:lnTo>
                          <a:pt x="39" y="26"/>
                        </a:lnTo>
                        <a:lnTo>
                          <a:pt x="55" y="30"/>
                        </a:lnTo>
                        <a:lnTo>
                          <a:pt x="77" y="38"/>
                        </a:lnTo>
                        <a:lnTo>
                          <a:pt x="96" y="46"/>
                        </a:lnTo>
                        <a:lnTo>
                          <a:pt x="118" y="57"/>
                        </a:lnTo>
                        <a:lnTo>
                          <a:pt x="136" y="66"/>
                        </a:lnTo>
                        <a:lnTo>
                          <a:pt x="154" y="80"/>
                        </a:lnTo>
                        <a:lnTo>
                          <a:pt x="169" y="94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4457880" y="1784520"/>
                    <a:ext cx="81360" cy="52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26" h="147">
                        <a:moveTo>
                          <a:pt x="58" y="0"/>
                        </a:moveTo>
                        <a:lnTo>
                          <a:pt x="39" y="2"/>
                        </a:lnTo>
                        <a:lnTo>
                          <a:pt x="17" y="7"/>
                        </a:lnTo>
                        <a:lnTo>
                          <a:pt x="5" y="13"/>
                        </a:lnTo>
                        <a:lnTo>
                          <a:pt x="1" y="17"/>
                        </a:lnTo>
                        <a:lnTo>
                          <a:pt x="0" y="21"/>
                        </a:lnTo>
                        <a:lnTo>
                          <a:pt x="3" y="29"/>
                        </a:lnTo>
                        <a:lnTo>
                          <a:pt x="11" y="39"/>
                        </a:lnTo>
                        <a:lnTo>
                          <a:pt x="23" y="50"/>
                        </a:lnTo>
                        <a:lnTo>
                          <a:pt x="37" y="60"/>
                        </a:lnTo>
                        <a:lnTo>
                          <a:pt x="55" y="69"/>
                        </a:lnTo>
                        <a:lnTo>
                          <a:pt x="74" y="77"/>
                        </a:lnTo>
                        <a:lnTo>
                          <a:pt x="98" y="84"/>
                        </a:lnTo>
                        <a:lnTo>
                          <a:pt x="120" y="90"/>
                        </a:lnTo>
                        <a:lnTo>
                          <a:pt x="148" y="96"/>
                        </a:lnTo>
                        <a:lnTo>
                          <a:pt x="162" y="109"/>
                        </a:lnTo>
                        <a:lnTo>
                          <a:pt x="179" y="121"/>
                        </a:lnTo>
                        <a:lnTo>
                          <a:pt x="205" y="135"/>
                        </a:lnTo>
                        <a:lnTo>
                          <a:pt x="226" y="147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4" name=""/>
              <p:cNvGrpSpPr/>
              <p:nvPr/>
            </p:nvGrpSpPr>
            <p:grpSpPr>
              <a:xfrm>
                <a:off x="4044960" y="1739880"/>
                <a:ext cx="697320" cy="152640"/>
                <a:chOff x="4044960" y="1739880"/>
                <a:chExt cx="697320" cy="15264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4044960" y="1739880"/>
                  <a:ext cx="697320" cy="152640"/>
                </a:xfrm>
                <a:custGeom>
                  <a:avLst/>
                  <a:gdLst/>
                  <a:ahLst/>
                  <a:rect l="0" t="0" r="r" b="b"/>
                  <a:pathLst>
                    <a:path w="1937" h="424">
                      <a:moveTo>
                        <a:pt x="615" y="21"/>
                      </a:moveTo>
                      <a:lnTo>
                        <a:pt x="674" y="13"/>
                      </a:lnTo>
                      <a:lnTo>
                        <a:pt x="732" y="9"/>
                      </a:lnTo>
                      <a:lnTo>
                        <a:pt x="806" y="5"/>
                      </a:lnTo>
                      <a:lnTo>
                        <a:pt x="886" y="1"/>
                      </a:lnTo>
                      <a:lnTo>
                        <a:pt x="953" y="0"/>
                      </a:lnTo>
                      <a:lnTo>
                        <a:pt x="1031" y="2"/>
                      </a:lnTo>
                      <a:lnTo>
                        <a:pt x="1135" y="8"/>
                      </a:lnTo>
                      <a:lnTo>
                        <a:pt x="1263" y="18"/>
                      </a:lnTo>
                      <a:lnTo>
                        <a:pt x="1364" y="29"/>
                      </a:lnTo>
                      <a:lnTo>
                        <a:pt x="1452" y="42"/>
                      </a:lnTo>
                      <a:lnTo>
                        <a:pt x="1497" y="51"/>
                      </a:lnTo>
                      <a:lnTo>
                        <a:pt x="1537" y="60"/>
                      </a:lnTo>
                      <a:lnTo>
                        <a:pt x="1588" y="77"/>
                      </a:lnTo>
                      <a:lnTo>
                        <a:pt x="1610" y="86"/>
                      </a:lnTo>
                      <a:lnTo>
                        <a:pt x="1636" y="93"/>
                      </a:lnTo>
                      <a:lnTo>
                        <a:pt x="1680" y="99"/>
                      </a:lnTo>
                      <a:lnTo>
                        <a:pt x="1724" y="105"/>
                      </a:lnTo>
                      <a:lnTo>
                        <a:pt x="1768" y="114"/>
                      </a:lnTo>
                      <a:lnTo>
                        <a:pt x="1804" y="125"/>
                      </a:lnTo>
                      <a:lnTo>
                        <a:pt x="1824" y="134"/>
                      </a:lnTo>
                      <a:lnTo>
                        <a:pt x="1850" y="152"/>
                      </a:lnTo>
                      <a:lnTo>
                        <a:pt x="1880" y="181"/>
                      </a:lnTo>
                      <a:lnTo>
                        <a:pt x="1903" y="214"/>
                      </a:lnTo>
                      <a:lnTo>
                        <a:pt x="1923" y="241"/>
                      </a:lnTo>
                      <a:lnTo>
                        <a:pt x="1935" y="257"/>
                      </a:lnTo>
                      <a:lnTo>
                        <a:pt x="1937" y="275"/>
                      </a:lnTo>
                      <a:lnTo>
                        <a:pt x="1927" y="294"/>
                      </a:lnTo>
                      <a:lnTo>
                        <a:pt x="1917" y="316"/>
                      </a:lnTo>
                      <a:lnTo>
                        <a:pt x="1905" y="338"/>
                      </a:lnTo>
                      <a:lnTo>
                        <a:pt x="1892" y="356"/>
                      </a:lnTo>
                      <a:lnTo>
                        <a:pt x="1872" y="369"/>
                      </a:lnTo>
                      <a:lnTo>
                        <a:pt x="1852" y="378"/>
                      </a:lnTo>
                      <a:lnTo>
                        <a:pt x="1824" y="385"/>
                      </a:lnTo>
                      <a:lnTo>
                        <a:pt x="1802" y="389"/>
                      </a:lnTo>
                      <a:lnTo>
                        <a:pt x="1766" y="391"/>
                      </a:lnTo>
                      <a:lnTo>
                        <a:pt x="1686" y="393"/>
                      </a:lnTo>
                      <a:lnTo>
                        <a:pt x="1600" y="397"/>
                      </a:lnTo>
                      <a:lnTo>
                        <a:pt x="1517" y="404"/>
                      </a:lnTo>
                      <a:lnTo>
                        <a:pt x="1328" y="415"/>
                      </a:lnTo>
                      <a:lnTo>
                        <a:pt x="1221" y="419"/>
                      </a:lnTo>
                      <a:lnTo>
                        <a:pt x="1051" y="424"/>
                      </a:lnTo>
                      <a:lnTo>
                        <a:pt x="924" y="419"/>
                      </a:lnTo>
                      <a:lnTo>
                        <a:pt x="778" y="413"/>
                      </a:lnTo>
                      <a:lnTo>
                        <a:pt x="676" y="399"/>
                      </a:lnTo>
                      <a:lnTo>
                        <a:pt x="636" y="389"/>
                      </a:lnTo>
                      <a:lnTo>
                        <a:pt x="605" y="380"/>
                      </a:lnTo>
                      <a:lnTo>
                        <a:pt x="567" y="374"/>
                      </a:lnTo>
                      <a:lnTo>
                        <a:pt x="533" y="371"/>
                      </a:lnTo>
                      <a:lnTo>
                        <a:pt x="503" y="371"/>
                      </a:lnTo>
                      <a:lnTo>
                        <a:pt x="470" y="369"/>
                      </a:lnTo>
                      <a:lnTo>
                        <a:pt x="420" y="362"/>
                      </a:lnTo>
                      <a:lnTo>
                        <a:pt x="388" y="353"/>
                      </a:lnTo>
                      <a:lnTo>
                        <a:pt x="368" y="344"/>
                      </a:lnTo>
                      <a:lnTo>
                        <a:pt x="356" y="334"/>
                      </a:lnTo>
                      <a:lnTo>
                        <a:pt x="348" y="323"/>
                      </a:lnTo>
                      <a:lnTo>
                        <a:pt x="336" y="315"/>
                      </a:lnTo>
                      <a:lnTo>
                        <a:pt x="307" y="305"/>
                      </a:lnTo>
                      <a:lnTo>
                        <a:pt x="259" y="296"/>
                      </a:lnTo>
                      <a:lnTo>
                        <a:pt x="207" y="292"/>
                      </a:lnTo>
                      <a:lnTo>
                        <a:pt x="163" y="289"/>
                      </a:lnTo>
                      <a:lnTo>
                        <a:pt x="115" y="283"/>
                      </a:lnTo>
                      <a:lnTo>
                        <a:pt x="75" y="276"/>
                      </a:lnTo>
                      <a:lnTo>
                        <a:pt x="43" y="268"/>
                      </a:lnTo>
                      <a:lnTo>
                        <a:pt x="25" y="259"/>
                      </a:lnTo>
                      <a:lnTo>
                        <a:pt x="13" y="244"/>
                      </a:lnTo>
                      <a:lnTo>
                        <a:pt x="3" y="226"/>
                      </a:lnTo>
                      <a:lnTo>
                        <a:pt x="0" y="208"/>
                      </a:lnTo>
                      <a:lnTo>
                        <a:pt x="3" y="190"/>
                      </a:lnTo>
                      <a:lnTo>
                        <a:pt x="19" y="168"/>
                      </a:lnTo>
                      <a:lnTo>
                        <a:pt x="47" y="147"/>
                      </a:lnTo>
                      <a:lnTo>
                        <a:pt x="87" y="126"/>
                      </a:lnTo>
                      <a:lnTo>
                        <a:pt x="139" y="107"/>
                      </a:lnTo>
                      <a:lnTo>
                        <a:pt x="193" y="95"/>
                      </a:lnTo>
                      <a:lnTo>
                        <a:pt x="235" y="86"/>
                      </a:lnTo>
                      <a:lnTo>
                        <a:pt x="295" y="80"/>
                      </a:lnTo>
                      <a:lnTo>
                        <a:pt x="336" y="78"/>
                      </a:lnTo>
                      <a:lnTo>
                        <a:pt x="378" y="72"/>
                      </a:lnTo>
                      <a:lnTo>
                        <a:pt x="442" y="57"/>
                      </a:lnTo>
                      <a:lnTo>
                        <a:pt x="493" y="44"/>
                      </a:lnTo>
                      <a:lnTo>
                        <a:pt x="557" y="30"/>
                      </a:lnTo>
                      <a:lnTo>
                        <a:pt x="615" y="21"/>
                      </a:lnTo>
                      <a:close/>
                    </a:path>
                  </a:pathLst>
                </a:custGeom>
                <a:solidFill>
                  <a:srgbClr val="ff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6" name=""/>
                <p:cNvGrpSpPr/>
                <p:nvPr/>
              </p:nvGrpSpPr>
              <p:grpSpPr>
                <a:xfrm>
                  <a:off x="4060800" y="1746360"/>
                  <a:ext cx="657360" cy="120960"/>
                  <a:chOff x="4060800" y="1746360"/>
                  <a:chExt cx="657360" cy="1209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4060800" y="1798560"/>
                    <a:ext cx="119520" cy="59040"/>
                    <a:chOff x="4060800" y="1798560"/>
                    <a:chExt cx="119520" cy="5904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4060800" y="1798560"/>
                      <a:ext cx="119520" cy="59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332" h="164">
                          <a:moveTo>
                            <a:pt x="4" y="0"/>
                          </a:moveTo>
                          <a:lnTo>
                            <a:pt x="2" y="6"/>
                          </a:lnTo>
                          <a:lnTo>
                            <a:pt x="0" y="14"/>
                          </a:lnTo>
                          <a:lnTo>
                            <a:pt x="2" y="21"/>
                          </a:lnTo>
                          <a:lnTo>
                            <a:pt x="8" y="30"/>
                          </a:lnTo>
                          <a:lnTo>
                            <a:pt x="14" y="37"/>
                          </a:lnTo>
                          <a:lnTo>
                            <a:pt x="28" y="44"/>
                          </a:lnTo>
                          <a:lnTo>
                            <a:pt x="44" y="52"/>
                          </a:lnTo>
                          <a:lnTo>
                            <a:pt x="70" y="57"/>
                          </a:lnTo>
                          <a:lnTo>
                            <a:pt x="95" y="61"/>
                          </a:lnTo>
                          <a:lnTo>
                            <a:pt x="121" y="66"/>
                          </a:lnTo>
                          <a:lnTo>
                            <a:pt x="127" y="72"/>
                          </a:lnTo>
                          <a:lnTo>
                            <a:pt x="135" y="83"/>
                          </a:lnTo>
                          <a:lnTo>
                            <a:pt x="151" y="91"/>
                          </a:lnTo>
                          <a:lnTo>
                            <a:pt x="169" y="101"/>
                          </a:lnTo>
                          <a:lnTo>
                            <a:pt x="201" y="111"/>
                          </a:lnTo>
                          <a:lnTo>
                            <a:pt x="225" y="118"/>
                          </a:lnTo>
                          <a:lnTo>
                            <a:pt x="243" y="122"/>
                          </a:lnTo>
                          <a:lnTo>
                            <a:pt x="274" y="127"/>
                          </a:lnTo>
                          <a:lnTo>
                            <a:pt x="306" y="130"/>
                          </a:lnTo>
                          <a:lnTo>
                            <a:pt x="320" y="132"/>
                          </a:lnTo>
                          <a:lnTo>
                            <a:pt x="328" y="135"/>
                          </a:lnTo>
                          <a:lnTo>
                            <a:pt x="332" y="139"/>
                          </a:lnTo>
                          <a:lnTo>
                            <a:pt x="326" y="153"/>
                          </a:lnTo>
                          <a:lnTo>
                            <a:pt x="318" y="164"/>
                          </a:lnTo>
                        </a:path>
                      </a:pathLst>
                    </a:custGeom>
                    <a:ln w="12600">
                      <a:solidFill>
                        <a:srgbClr val="ff8080"/>
                      </a:solidFill>
                      <a:round/>
                    </a:ln>
                  </p:spPr>
                  <p:txBody>
                    <a:bodyPr lIns="96120" rIns="9612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4105440" y="180504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72" h="72">
                          <a:moveTo>
                            <a:pt x="45" y="0"/>
                          </a:moveTo>
                          <a:lnTo>
                            <a:pt x="63" y="21"/>
                          </a:lnTo>
                          <a:lnTo>
                            <a:pt x="72" y="37"/>
                          </a:lnTo>
                          <a:lnTo>
                            <a:pt x="53" y="56"/>
                          </a:lnTo>
                          <a:lnTo>
                            <a:pt x="0" y="72"/>
                          </a:lnTo>
                        </a:path>
                      </a:pathLst>
                    </a:custGeom>
                    <a:ln w="12600">
                      <a:solidFill>
                        <a:srgbClr val="ff808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0" name=""/>
                  <p:cNvSpPr/>
                  <p:nvPr/>
                </p:nvSpPr>
                <p:spPr>
                  <a:xfrm>
                    <a:off x="4164120" y="1814400"/>
                    <a:ext cx="113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14" h="85">
                        <a:moveTo>
                          <a:pt x="0" y="0"/>
                        </a:moveTo>
                        <a:lnTo>
                          <a:pt x="6" y="11"/>
                        </a:lnTo>
                        <a:lnTo>
                          <a:pt x="16" y="27"/>
                        </a:lnTo>
                        <a:lnTo>
                          <a:pt x="26" y="37"/>
                        </a:lnTo>
                        <a:lnTo>
                          <a:pt x="40" y="43"/>
                        </a:lnTo>
                        <a:lnTo>
                          <a:pt x="68" y="50"/>
                        </a:lnTo>
                        <a:lnTo>
                          <a:pt x="92" y="54"/>
                        </a:lnTo>
                        <a:lnTo>
                          <a:pt x="120" y="58"/>
                        </a:lnTo>
                        <a:lnTo>
                          <a:pt x="161" y="66"/>
                        </a:lnTo>
                        <a:lnTo>
                          <a:pt x="197" y="74"/>
                        </a:lnTo>
                        <a:lnTo>
                          <a:pt x="223" y="81"/>
                        </a:lnTo>
                        <a:lnTo>
                          <a:pt x="247" y="84"/>
                        </a:lnTo>
                        <a:lnTo>
                          <a:pt x="273" y="85"/>
                        </a:lnTo>
                        <a:lnTo>
                          <a:pt x="312" y="85"/>
                        </a:lnTo>
                        <a:lnTo>
                          <a:pt x="314" y="85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4173480" y="1787400"/>
                    <a:ext cx="766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13" h="72">
                        <a:moveTo>
                          <a:pt x="0" y="72"/>
                        </a:moveTo>
                        <a:lnTo>
                          <a:pt x="27" y="49"/>
                        </a:lnTo>
                        <a:lnTo>
                          <a:pt x="51" y="32"/>
                        </a:lnTo>
                        <a:lnTo>
                          <a:pt x="88" y="12"/>
                        </a:lnTo>
                        <a:lnTo>
                          <a:pt x="117" y="4"/>
                        </a:lnTo>
                        <a:lnTo>
                          <a:pt x="151" y="0"/>
                        </a:lnTo>
                        <a:lnTo>
                          <a:pt x="182" y="2"/>
                        </a:lnTo>
                        <a:lnTo>
                          <a:pt x="213" y="12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4141800" y="1771560"/>
                    <a:ext cx="25920" cy="385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2" h="107">
                        <a:moveTo>
                          <a:pt x="27" y="0"/>
                        </a:moveTo>
                        <a:lnTo>
                          <a:pt x="45" y="9"/>
                        </a:lnTo>
                        <a:lnTo>
                          <a:pt x="59" y="17"/>
                        </a:lnTo>
                        <a:lnTo>
                          <a:pt x="68" y="28"/>
                        </a:lnTo>
                        <a:lnTo>
                          <a:pt x="72" y="41"/>
                        </a:lnTo>
                        <a:lnTo>
                          <a:pt x="68" y="56"/>
                        </a:lnTo>
                        <a:lnTo>
                          <a:pt x="61" y="70"/>
                        </a:lnTo>
                        <a:lnTo>
                          <a:pt x="51" y="82"/>
                        </a:lnTo>
                        <a:lnTo>
                          <a:pt x="38" y="90"/>
                        </a:lnTo>
                        <a:lnTo>
                          <a:pt x="15" y="101"/>
                        </a:lnTo>
                        <a:lnTo>
                          <a:pt x="0" y="107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4173480" y="1758960"/>
                    <a:ext cx="590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64" h="72">
                        <a:moveTo>
                          <a:pt x="0" y="72"/>
                        </a:moveTo>
                        <a:lnTo>
                          <a:pt x="38" y="55"/>
                        </a:lnTo>
                        <a:lnTo>
                          <a:pt x="73" y="37"/>
                        </a:lnTo>
                        <a:lnTo>
                          <a:pt x="113" y="21"/>
                        </a:lnTo>
                        <a:lnTo>
                          <a:pt x="164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4346640" y="1746360"/>
                    <a:ext cx="320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89" h="72">
                        <a:moveTo>
                          <a:pt x="0" y="72"/>
                        </a:moveTo>
                        <a:lnTo>
                          <a:pt x="32" y="40"/>
                        </a:lnTo>
                        <a:lnTo>
                          <a:pt x="89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4259160" y="1751040"/>
                    <a:ext cx="2336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649" h="72">
                        <a:moveTo>
                          <a:pt x="0" y="72"/>
                        </a:moveTo>
                        <a:lnTo>
                          <a:pt x="24" y="70"/>
                        </a:lnTo>
                        <a:lnTo>
                          <a:pt x="42" y="66"/>
                        </a:lnTo>
                        <a:lnTo>
                          <a:pt x="58" y="62"/>
                        </a:lnTo>
                        <a:lnTo>
                          <a:pt x="70" y="55"/>
                        </a:lnTo>
                        <a:lnTo>
                          <a:pt x="76" y="46"/>
                        </a:lnTo>
                        <a:lnTo>
                          <a:pt x="80" y="37"/>
                        </a:lnTo>
                        <a:lnTo>
                          <a:pt x="88" y="47"/>
                        </a:lnTo>
                        <a:lnTo>
                          <a:pt x="98" y="53"/>
                        </a:lnTo>
                        <a:lnTo>
                          <a:pt x="116" y="58"/>
                        </a:lnTo>
                        <a:lnTo>
                          <a:pt x="138" y="60"/>
                        </a:lnTo>
                        <a:lnTo>
                          <a:pt x="164" y="61"/>
                        </a:lnTo>
                        <a:lnTo>
                          <a:pt x="206" y="60"/>
                        </a:lnTo>
                        <a:lnTo>
                          <a:pt x="248" y="58"/>
                        </a:lnTo>
                        <a:lnTo>
                          <a:pt x="286" y="55"/>
                        </a:lnTo>
                        <a:lnTo>
                          <a:pt x="316" y="52"/>
                        </a:lnTo>
                        <a:lnTo>
                          <a:pt x="351" y="45"/>
                        </a:lnTo>
                        <a:lnTo>
                          <a:pt x="377" y="39"/>
                        </a:lnTo>
                        <a:lnTo>
                          <a:pt x="401" y="32"/>
                        </a:lnTo>
                        <a:lnTo>
                          <a:pt x="417" y="21"/>
                        </a:lnTo>
                        <a:lnTo>
                          <a:pt x="427" y="29"/>
                        </a:lnTo>
                        <a:lnTo>
                          <a:pt x="441" y="35"/>
                        </a:lnTo>
                        <a:lnTo>
                          <a:pt x="457" y="41"/>
                        </a:lnTo>
                        <a:lnTo>
                          <a:pt x="483" y="44"/>
                        </a:lnTo>
                        <a:lnTo>
                          <a:pt x="515" y="45"/>
                        </a:lnTo>
                        <a:lnTo>
                          <a:pt x="541" y="44"/>
                        </a:lnTo>
                        <a:lnTo>
                          <a:pt x="559" y="42"/>
                        </a:lnTo>
                        <a:lnTo>
                          <a:pt x="587" y="39"/>
                        </a:lnTo>
                        <a:lnTo>
                          <a:pt x="605" y="35"/>
                        </a:lnTo>
                        <a:lnTo>
                          <a:pt x="621" y="31"/>
                        </a:lnTo>
                        <a:lnTo>
                          <a:pt x="631" y="23"/>
                        </a:lnTo>
                        <a:lnTo>
                          <a:pt x="639" y="13"/>
                        </a:lnTo>
                        <a:lnTo>
                          <a:pt x="649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4233960" y="1785960"/>
                    <a:ext cx="2624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29" h="72">
                        <a:moveTo>
                          <a:pt x="0" y="46"/>
                        </a:moveTo>
                        <a:lnTo>
                          <a:pt x="25" y="36"/>
                        </a:lnTo>
                        <a:lnTo>
                          <a:pt x="55" y="26"/>
                        </a:lnTo>
                        <a:lnTo>
                          <a:pt x="81" y="17"/>
                        </a:lnTo>
                        <a:lnTo>
                          <a:pt x="109" y="11"/>
                        </a:lnTo>
                        <a:lnTo>
                          <a:pt x="139" y="4"/>
                        </a:lnTo>
                        <a:lnTo>
                          <a:pt x="157" y="2"/>
                        </a:lnTo>
                        <a:lnTo>
                          <a:pt x="188" y="0"/>
                        </a:lnTo>
                        <a:lnTo>
                          <a:pt x="248" y="0"/>
                        </a:lnTo>
                        <a:lnTo>
                          <a:pt x="312" y="0"/>
                        </a:lnTo>
                        <a:lnTo>
                          <a:pt x="370" y="2"/>
                        </a:lnTo>
                        <a:lnTo>
                          <a:pt x="432" y="4"/>
                        </a:lnTo>
                        <a:lnTo>
                          <a:pt x="478" y="8"/>
                        </a:lnTo>
                        <a:lnTo>
                          <a:pt x="522" y="13"/>
                        </a:lnTo>
                        <a:lnTo>
                          <a:pt x="561" y="21"/>
                        </a:lnTo>
                        <a:lnTo>
                          <a:pt x="603" y="30"/>
                        </a:lnTo>
                        <a:lnTo>
                          <a:pt x="645" y="39"/>
                        </a:lnTo>
                        <a:lnTo>
                          <a:pt x="675" y="49"/>
                        </a:lnTo>
                        <a:lnTo>
                          <a:pt x="705" y="61"/>
                        </a:lnTo>
                        <a:lnTo>
                          <a:pt x="729" y="72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4425840" y="1778040"/>
                    <a:ext cx="543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51" h="72">
                        <a:moveTo>
                          <a:pt x="0" y="63"/>
                        </a:moveTo>
                        <a:lnTo>
                          <a:pt x="27" y="69"/>
                        </a:lnTo>
                        <a:lnTo>
                          <a:pt x="56" y="72"/>
                        </a:lnTo>
                        <a:lnTo>
                          <a:pt x="80" y="67"/>
                        </a:lnTo>
                        <a:lnTo>
                          <a:pt x="104" y="57"/>
                        </a:lnTo>
                        <a:lnTo>
                          <a:pt x="127" y="40"/>
                        </a:lnTo>
                        <a:lnTo>
                          <a:pt x="139" y="21"/>
                        </a:lnTo>
                        <a:lnTo>
                          <a:pt x="151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4508640" y="1757520"/>
                    <a:ext cx="4788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33" h="120">
                        <a:moveTo>
                          <a:pt x="116" y="0"/>
                        </a:moveTo>
                        <a:lnTo>
                          <a:pt x="104" y="9"/>
                        </a:lnTo>
                        <a:lnTo>
                          <a:pt x="87" y="20"/>
                        </a:lnTo>
                        <a:lnTo>
                          <a:pt x="69" y="25"/>
                        </a:lnTo>
                        <a:lnTo>
                          <a:pt x="55" y="28"/>
                        </a:lnTo>
                        <a:lnTo>
                          <a:pt x="37" y="29"/>
                        </a:lnTo>
                        <a:lnTo>
                          <a:pt x="16" y="28"/>
                        </a:lnTo>
                        <a:lnTo>
                          <a:pt x="0" y="25"/>
                        </a:lnTo>
                        <a:lnTo>
                          <a:pt x="24" y="32"/>
                        </a:lnTo>
                        <a:lnTo>
                          <a:pt x="41" y="37"/>
                        </a:lnTo>
                        <a:lnTo>
                          <a:pt x="49" y="42"/>
                        </a:lnTo>
                        <a:lnTo>
                          <a:pt x="53" y="46"/>
                        </a:lnTo>
                        <a:lnTo>
                          <a:pt x="51" y="52"/>
                        </a:lnTo>
                        <a:lnTo>
                          <a:pt x="49" y="59"/>
                        </a:lnTo>
                        <a:lnTo>
                          <a:pt x="45" y="71"/>
                        </a:lnTo>
                        <a:lnTo>
                          <a:pt x="49" y="81"/>
                        </a:lnTo>
                        <a:lnTo>
                          <a:pt x="57" y="92"/>
                        </a:lnTo>
                        <a:lnTo>
                          <a:pt x="69" y="99"/>
                        </a:lnTo>
                        <a:lnTo>
                          <a:pt x="81" y="105"/>
                        </a:lnTo>
                        <a:lnTo>
                          <a:pt x="104" y="111"/>
                        </a:lnTo>
                        <a:lnTo>
                          <a:pt x="133" y="12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4564080" y="1768320"/>
                    <a:ext cx="147960" cy="385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411" h="107">
                        <a:moveTo>
                          <a:pt x="90" y="0"/>
                        </a:moveTo>
                        <a:lnTo>
                          <a:pt x="82" y="7"/>
                        </a:lnTo>
                        <a:lnTo>
                          <a:pt x="70" y="15"/>
                        </a:lnTo>
                        <a:lnTo>
                          <a:pt x="54" y="21"/>
                        </a:lnTo>
                        <a:lnTo>
                          <a:pt x="30" y="29"/>
                        </a:lnTo>
                        <a:lnTo>
                          <a:pt x="0" y="37"/>
                        </a:lnTo>
                        <a:lnTo>
                          <a:pt x="24" y="39"/>
                        </a:lnTo>
                        <a:lnTo>
                          <a:pt x="50" y="40"/>
                        </a:lnTo>
                        <a:lnTo>
                          <a:pt x="72" y="42"/>
                        </a:lnTo>
                        <a:lnTo>
                          <a:pt x="88" y="45"/>
                        </a:lnTo>
                        <a:lnTo>
                          <a:pt x="100" y="48"/>
                        </a:lnTo>
                        <a:lnTo>
                          <a:pt x="112" y="55"/>
                        </a:lnTo>
                        <a:lnTo>
                          <a:pt x="120" y="60"/>
                        </a:lnTo>
                        <a:lnTo>
                          <a:pt x="126" y="68"/>
                        </a:lnTo>
                        <a:lnTo>
                          <a:pt x="130" y="79"/>
                        </a:lnTo>
                        <a:lnTo>
                          <a:pt x="126" y="100"/>
                        </a:lnTo>
                        <a:lnTo>
                          <a:pt x="142" y="95"/>
                        </a:lnTo>
                        <a:lnTo>
                          <a:pt x="160" y="89"/>
                        </a:lnTo>
                        <a:lnTo>
                          <a:pt x="178" y="84"/>
                        </a:lnTo>
                        <a:lnTo>
                          <a:pt x="202" y="79"/>
                        </a:lnTo>
                        <a:lnTo>
                          <a:pt x="225" y="77"/>
                        </a:lnTo>
                        <a:lnTo>
                          <a:pt x="251" y="77"/>
                        </a:lnTo>
                        <a:lnTo>
                          <a:pt x="281" y="78"/>
                        </a:lnTo>
                        <a:lnTo>
                          <a:pt x="309" y="82"/>
                        </a:lnTo>
                        <a:lnTo>
                          <a:pt x="329" y="84"/>
                        </a:lnTo>
                        <a:lnTo>
                          <a:pt x="353" y="89"/>
                        </a:lnTo>
                        <a:lnTo>
                          <a:pt x="371" y="94"/>
                        </a:lnTo>
                        <a:lnTo>
                          <a:pt x="411" y="107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4559400" y="1797120"/>
                    <a:ext cx="558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55" h="72">
                        <a:moveTo>
                          <a:pt x="22" y="0"/>
                        </a:moveTo>
                        <a:lnTo>
                          <a:pt x="12" y="9"/>
                        </a:lnTo>
                        <a:lnTo>
                          <a:pt x="2" y="17"/>
                        </a:lnTo>
                        <a:lnTo>
                          <a:pt x="0" y="26"/>
                        </a:lnTo>
                        <a:lnTo>
                          <a:pt x="4" y="35"/>
                        </a:lnTo>
                        <a:lnTo>
                          <a:pt x="16" y="46"/>
                        </a:lnTo>
                        <a:lnTo>
                          <a:pt x="30" y="61"/>
                        </a:lnTo>
                        <a:lnTo>
                          <a:pt x="40" y="66"/>
                        </a:lnTo>
                        <a:lnTo>
                          <a:pt x="50" y="70"/>
                        </a:lnTo>
                        <a:lnTo>
                          <a:pt x="62" y="71"/>
                        </a:lnTo>
                        <a:lnTo>
                          <a:pt x="103" y="72"/>
                        </a:lnTo>
                        <a:lnTo>
                          <a:pt x="155" y="71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4619520" y="1816200"/>
                    <a:ext cx="846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35" h="72">
                        <a:moveTo>
                          <a:pt x="0" y="52"/>
                        </a:moveTo>
                        <a:lnTo>
                          <a:pt x="28" y="62"/>
                        </a:lnTo>
                        <a:lnTo>
                          <a:pt x="52" y="67"/>
                        </a:lnTo>
                        <a:lnTo>
                          <a:pt x="81" y="72"/>
                        </a:lnTo>
                        <a:lnTo>
                          <a:pt x="115" y="72"/>
                        </a:lnTo>
                        <a:lnTo>
                          <a:pt x="144" y="66"/>
                        </a:lnTo>
                        <a:lnTo>
                          <a:pt x="172" y="56"/>
                        </a:lnTo>
                        <a:lnTo>
                          <a:pt x="197" y="39"/>
                        </a:lnTo>
                        <a:lnTo>
                          <a:pt x="219" y="17"/>
                        </a:lnTo>
                        <a:lnTo>
                          <a:pt x="235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4600440" y="1835280"/>
                    <a:ext cx="11772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27" h="89">
                        <a:moveTo>
                          <a:pt x="327" y="0"/>
                        </a:moveTo>
                        <a:lnTo>
                          <a:pt x="317" y="8"/>
                        </a:lnTo>
                        <a:lnTo>
                          <a:pt x="301" y="16"/>
                        </a:lnTo>
                        <a:lnTo>
                          <a:pt x="274" y="23"/>
                        </a:lnTo>
                        <a:lnTo>
                          <a:pt x="260" y="25"/>
                        </a:lnTo>
                        <a:lnTo>
                          <a:pt x="236" y="27"/>
                        </a:lnTo>
                        <a:lnTo>
                          <a:pt x="202" y="25"/>
                        </a:lnTo>
                        <a:lnTo>
                          <a:pt x="166" y="23"/>
                        </a:lnTo>
                        <a:lnTo>
                          <a:pt x="120" y="20"/>
                        </a:lnTo>
                        <a:lnTo>
                          <a:pt x="84" y="17"/>
                        </a:lnTo>
                        <a:lnTo>
                          <a:pt x="54" y="15"/>
                        </a:lnTo>
                        <a:lnTo>
                          <a:pt x="18" y="16"/>
                        </a:lnTo>
                        <a:lnTo>
                          <a:pt x="0" y="17"/>
                        </a:lnTo>
                        <a:lnTo>
                          <a:pt x="22" y="19"/>
                        </a:lnTo>
                        <a:lnTo>
                          <a:pt x="40" y="24"/>
                        </a:lnTo>
                        <a:lnTo>
                          <a:pt x="56" y="28"/>
                        </a:lnTo>
                        <a:lnTo>
                          <a:pt x="78" y="35"/>
                        </a:lnTo>
                        <a:lnTo>
                          <a:pt x="96" y="43"/>
                        </a:lnTo>
                        <a:lnTo>
                          <a:pt x="118" y="54"/>
                        </a:lnTo>
                        <a:lnTo>
                          <a:pt x="136" y="63"/>
                        </a:lnTo>
                        <a:lnTo>
                          <a:pt x="155" y="76"/>
                        </a:lnTo>
                        <a:lnTo>
                          <a:pt x="172" y="89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4525920" y="1808280"/>
                    <a:ext cx="82800" cy="558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30" h="155">
                        <a:moveTo>
                          <a:pt x="58" y="0"/>
                        </a:moveTo>
                        <a:lnTo>
                          <a:pt x="40" y="2"/>
                        </a:lnTo>
                        <a:lnTo>
                          <a:pt x="18" y="8"/>
                        </a:lnTo>
                        <a:lnTo>
                          <a:pt x="6" y="13"/>
                        </a:lnTo>
                        <a:lnTo>
                          <a:pt x="2" y="18"/>
                        </a:lnTo>
                        <a:lnTo>
                          <a:pt x="0" y="23"/>
                        </a:lnTo>
                        <a:lnTo>
                          <a:pt x="4" y="31"/>
                        </a:lnTo>
                        <a:lnTo>
                          <a:pt x="12" y="40"/>
                        </a:lnTo>
                        <a:lnTo>
                          <a:pt x="24" y="52"/>
                        </a:lnTo>
                        <a:lnTo>
                          <a:pt x="38" y="62"/>
                        </a:lnTo>
                        <a:lnTo>
                          <a:pt x="56" y="72"/>
                        </a:lnTo>
                        <a:lnTo>
                          <a:pt x="75" y="81"/>
                        </a:lnTo>
                        <a:lnTo>
                          <a:pt x="99" y="90"/>
                        </a:lnTo>
                        <a:lnTo>
                          <a:pt x="122" y="95"/>
                        </a:lnTo>
                        <a:lnTo>
                          <a:pt x="151" y="102"/>
                        </a:lnTo>
                        <a:lnTo>
                          <a:pt x="165" y="116"/>
                        </a:lnTo>
                        <a:lnTo>
                          <a:pt x="181" y="127"/>
                        </a:lnTo>
                        <a:lnTo>
                          <a:pt x="207" y="143"/>
                        </a:lnTo>
                        <a:lnTo>
                          <a:pt x="230" y="155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4" name=""/>
              <p:cNvSpPr/>
              <p:nvPr/>
            </p:nvSpPr>
            <p:spPr>
              <a:xfrm>
                <a:off x="4321080" y="1857240"/>
                <a:ext cx="260640" cy="25920"/>
              </a:xfrm>
              <a:custGeom>
                <a:avLst/>
                <a:gdLst/>
                <a:ahLst/>
                <a:rect l="0" t="0" r="r" b="b"/>
                <a:pathLst>
                  <a:path fill="none" w="724" h="72">
                    <a:moveTo>
                      <a:pt x="0" y="46"/>
                    </a:moveTo>
                    <a:lnTo>
                      <a:pt x="25" y="36"/>
                    </a:lnTo>
                    <a:lnTo>
                      <a:pt x="55" y="26"/>
                    </a:lnTo>
                    <a:lnTo>
                      <a:pt x="81" y="17"/>
                    </a:lnTo>
                    <a:lnTo>
                      <a:pt x="109" y="11"/>
                    </a:lnTo>
                    <a:lnTo>
                      <a:pt x="139" y="4"/>
                    </a:lnTo>
                    <a:lnTo>
                      <a:pt x="156" y="2"/>
                    </a:lnTo>
                    <a:lnTo>
                      <a:pt x="186" y="0"/>
                    </a:lnTo>
                    <a:lnTo>
                      <a:pt x="246" y="0"/>
                    </a:lnTo>
                    <a:lnTo>
                      <a:pt x="309" y="0"/>
                    </a:lnTo>
                    <a:lnTo>
                      <a:pt x="368" y="2"/>
                    </a:lnTo>
                    <a:lnTo>
                      <a:pt x="430" y="4"/>
                    </a:lnTo>
                    <a:lnTo>
                      <a:pt x="475" y="8"/>
                    </a:lnTo>
                    <a:lnTo>
                      <a:pt x="519" y="13"/>
                    </a:lnTo>
                    <a:lnTo>
                      <a:pt x="557" y="21"/>
                    </a:lnTo>
                    <a:lnTo>
                      <a:pt x="599" y="30"/>
                    </a:lnTo>
                    <a:lnTo>
                      <a:pt x="640" y="39"/>
                    </a:lnTo>
                    <a:lnTo>
                      <a:pt x="670" y="49"/>
                    </a:lnTo>
                    <a:lnTo>
                      <a:pt x="700" y="61"/>
                    </a:lnTo>
                    <a:lnTo>
                      <a:pt x="724" y="72"/>
                    </a:lnTo>
                  </a:path>
                </a:pathLst>
              </a:custGeom>
              <a:ln w="12600">
                <a:solidFill>
                  <a:srgbClr val="ff808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354560" y="1805040"/>
                <a:ext cx="78120" cy="25920"/>
              </a:xfrm>
              <a:custGeom>
                <a:avLst/>
                <a:gdLst/>
                <a:ahLst/>
                <a:rect l="0" t="0" r="r" b="b"/>
                <a:pathLst>
                  <a:path fill="none" w="217" h="72">
                    <a:moveTo>
                      <a:pt x="0" y="72"/>
                    </a:moveTo>
                    <a:lnTo>
                      <a:pt x="28" y="49"/>
                    </a:lnTo>
                    <a:lnTo>
                      <a:pt x="52" y="32"/>
                    </a:lnTo>
                    <a:lnTo>
                      <a:pt x="88" y="12"/>
                    </a:lnTo>
                    <a:lnTo>
                      <a:pt x="120" y="4"/>
                    </a:lnTo>
                    <a:lnTo>
                      <a:pt x="154" y="0"/>
                    </a:lnTo>
                    <a:lnTo>
                      <a:pt x="184" y="2"/>
                    </a:lnTo>
                    <a:lnTo>
                      <a:pt x="217" y="12"/>
                    </a:lnTo>
                  </a:path>
                </a:pathLst>
              </a:custGeom>
              <a:ln w="12600">
                <a:solidFill>
                  <a:srgbClr val="ff808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251240" y="180504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fill="none" w="94" h="72">
                    <a:moveTo>
                      <a:pt x="36" y="0"/>
                    </a:moveTo>
                    <a:lnTo>
                      <a:pt x="60" y="6"/>
                    </a:lnTo>
                    <a:lnTo>
                      <a:pt x="76" y="11"/>
                    </a:lnTo>
                    <a:lnTo>
                      <a:pt x="90" y="19"/>
                    </a:lnTo>
                    <a:lnTo>
                      <a:pt x="94" y="27"/>
                    </a:lnTo>
                    <a:lnTo>
                      <a:pt x="90" y="37"/>
                    </a:lnTo>
                    <a:lnTo>
                      <a:pt x="80" y="46"/>
                    </a:lnTo>
                    <a:lnTo>
                      <a:pt x="67" y="55"/>
                    </a:lnTo>
                    <a:lnTo>
                      <a:pt x="50" y="61"/>
                    </a:lnTo>
                    <a:lnTo>
                      <a:pt x="21" y="67"/>
                    </a:lnTo>
                    <a:lnTo>
                      <a:pt x="0" y="72"/>
                    </a:lnTo>
                  </a:path>
                </a:pathLst>
              </a:custGeom>
              <a:ln w="12600">
                <a:solidFill>
                  <a:srgbClr val="ff808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300560" y="1827360"/>
                <a:ext cx="233640" cy="25920"/>
              </a:xfrm>
              <a:custGeom>
                <a:avLst/>
                <a:gdLst/>
                <a:ahLst/>
                <a:rect l="0" t="0" r="r" b="b"/>
                <a:pathLst>
                  <a:path fill="none" w="649" h="72">
                    <a:moveTo>
                      <a:pt x="0" y="0"/>
                    </a:moveTo>
                    <a:lnTo>
                      <a:pt x="24" y="2"/>
                    </a:lnTo>
                    <a:lnTo>
                      <a:pt x="42" y="5"/>
                    </a:lnTo>
                    <a:lnTo>
                      <a:pt x="58" y="10"/>
                    </a:lnTo>
                    <a:lnTo>
                      <a:pt x="70" y="16"/>
                    </a:lnTo>
                    <a:lnTo>
                      <a:pt x="76" y="26"/>
                    </a:lnTo>
                    <a:lnTo>
                      <a:pt x="80" y="35"/>
                    </a:lnTo>
                    <a:lnTo>
                      <a:pt x="88" y="25"/>
                    </a:lnTo>
                    <a:lnTo>
                      <a:pt x="98" y="19"/>
                    </a:lnTo>
                    <a:lnTo>
                      <a:pt x="116" y="14"/>
                    </a:lnTo>
                    <a:lnTo>
                      <a:pt x="138" y="11"/>
                    </a:lnTo>
                    <a:lnTo>
                      <a:pt x="164" y="10"/>
                    </a:lnTo>
                    <a:lnTo>
                      <a:pt x="206" y="11"/>
                    </a:lnTo>
                    <a:lnTo>
                      <a:pt x="248" y="14"/>
                    </a:lnTo>
                    <a:lnTo>
                      <a:pt x="286" y="16"/>
                    </a:lnTo>
                    <a:lnTo>
                      <a:pt x="316" y="20"/>
                    </a:lnTo>
                    <a:lnTo>
                      <a:pt x="351" y="27"/>
                    </a:lnTo>
                    <a:lnTo>
                      <a:pt x="377" y="32"/>
                    </a:lnTo>
                    <a:lnTo>
                      <a:pt x="401" y="40"/>
                    </a:lnTo>
                    <a:lnTo>
                      <a:pt x="417" y="50"/>
                    </a:lnTo>
                    <a:lnTo>
                      <a:pt x="427" y="42"/>
                    </a:lnTo>
                    <a:lnTo>
                      <a:pt x="441" y="37"/>
                    </a:lnTo>
                    <a:lnTo>
                      <a:pt x="457" y="31"/>
                    </a:lnTo>
                    <a:lnTo>
                      <a:pt x="483" y="27"/>
                    </a:lnTo>
                    <a:lnTo>
                      <a:pt x="515" y="27"/>
                    </a:lnTo>
                    <a:lnTo>
                      <a:pt x="541" y="27"/>
                    </a:lnTo>
                    <a:lnTo>
                      <a:pt x="559" y="30"/>
                    </a:lnTo>
                    <a:lnTo>
                      <a:pt x="587" y="32"/>
                    </a:lnTo>
                    <a:lnTo>
                      <a:pt x="605" y="37"/>
                    </a:lnTo>
                    <a:lnTo>
                      <a:pt x="621" y="41"/>
                    </a:lnTo>
                    <a:lnTo>
                      <a:pt x="631" y="48"/>
                    </a:lnTo>
                    <a:lnTo>
                      <a:pt x="639" y="59"/>
                    </a:lnTo>
                    <a:lnTo>
                      <a:pt x="649" y="72"/>
                    </a:lnTo>
                  </a:path>
                </a:pathLst>
              </a:custGeom>
              <a:ln w="12600">
                <a:solidFill>
                  <a:srgbClr val="ff808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3929040" y="1833480"/>
              <a:ext cx="829080" cy="190800"/>
            </a:xfrm>
            <a:custGeom>
              <a:avLst/>
              <a:gdLst/>
              <a:ahLst/>
              <a:rect l="0" t="0" r="r" b="b"/>
              <a:pathLst>
                <a:path w="2303" h="530">
                  <a:moveTo>
                    <a:pt x="13" y="0"/>
                  </a:moveTo>
                  <a:lnTo>
                    <a:pt x="145" y="0"/>
                  </a:lnTo>
                  <a:lnTo>
                    <a:pt x="304" y="0"/>
                  </a:lnTo>
                  <a:lnTo>
                    <a:pt x="383" y="0"/>
                  </a:lnTo>
                  <a:lnTo>
                    <a:pt x="489" y="0"/>
                  </a:lnTo>
                  <a:lnTo>
                    <a:pt x="529" y="0"/>
                  </a:lnTo>
                  <a:lnTo>
                    <a:pt x="568" y="0"/>
                  </a:lnTo>
                  <a:lnTo>
                    <a:pt x="609" y="13"/>
                  </a:lnTo>
                  <a:lnTo>
                    <a:pt x="649" y="26"/>
                  </a:lnTo>
                  <a:lnTo>
                    <a:pt x="755" y="52"/>
                  </a:lnTo>
                  <a:lnTo>
                    <a:pt x="794" y="66"/>
                  </a:lnTo>
                  <a:lnTo>
                    <a:pt x="834" y="66"/>
                  </a:lnTo>
                  <a:lnTo>
                    <a:pt x="874" y="52"/>
                  </a:lnTo>
                  <a:lnTo>
                    <a:pt x="913" y="26"/>
                  </a:lnTo>
                  <a:lnTo>
                    <a:pt x="953" y="0"/>
                  </a:lnTo>
                  <a:lnTo>
                    <a:pt x="993" y="0"/>
                  </a:lnTo>
                  <a:lnTo>
                    <a:pt x="1046" y="13"/>
                  </a:lnTo>
                  <a:lnTo>
                    <a:pt x="1099" y="26"/>
                  </a:lnTo>
                  <a:lnTo>
                    <a:pt x="1138" y="26"/>
                  </a:lnTo>
                  <a:lnTo>
                    <a:pt x="1178" y="26"/>
                  </a:lnTo>
                  <a:lnTo>
                    <a:pt x="1218" y="13"/>
                  </a:lnTo>
                  <a:lnTo>
                    <a:pt x="1271" y="0"/>
                  </a:lnTo>
                  <a:lnTo>
                    <a:pt x="1323" y="0"/>
                  </a:lnTo>
                  <a:lnTo>
                    <a:pt x="1363" y="0"/>
                  </a:lnTo>
                  <a:lnTo>
                    <a:pt x="1403" y="26"/>
                  </a:lnTo>
                  <a:lnTo>
                    <a:pt x="1442" y="39"/>
                  </a:lnTo>
                  <a:lnTo>
                    <a:pt x="1495" y="52"/>
                  </a:lnTo>
                  <a:lnTo>
                    <a:pt x="1548" y="39"/>
                  </a:lnTo>
                  <a:lnTo>
                    <a:pt x="1601" y="39"/>
                  </a:lnTo>
                  <a:lnTo>
                    <a:pt x="1641" y="39"/>
                  </a:lnTo>
                  <a:lnTo>
                    <a:pt x="1748" y="39"/>
                  </a:lnTo>
                  <a:lnTo>
                    <a:pt x="1787" y="52"/>
                  </a:lnTo>
                  <a:lnTo>
                    <a:pt x="1827" y="66"/>
                  </a:lnTo>
                  <a:lnTo>
                    <a:pt x="1867" y="66"/>
                  </a:lnTo>
                  <a:lnTo>
                    <a:pt x="1920" y="92"/>
                  </a:lnTo>
                  <a:lnTo>
                    <a:pt x="1999" y="92"/>
                  </a:lnTo>
                  <a:lnTo>
                    <a:pt x="2039" y="92"/>
                  </a:lnTo>
                  <a:lnTo>
                    <a:pt x="2078" y="92"/>
                  </a:lnTo>
                  <a:lnTo>
                    <a:pt x="2118" y="105"/>
                  </a:lnTo>
                  <a:lnTo>
                    <a:pt x="2171" y="119"/>
                  </a:lnTo>
                  <a:lnTo>
                    <a:pt x="2211" y="132"/>
                  </a:lnTo>
                  <a:lnTo>
                    <a:pt x="2264" y="145"/>
                  </a:lnTo>
                  <a:lnTo>
                    <a:pt x="2303" y="171"/>
                  </a:lnTo>
                  <a:lnTo>
                    <a:pt x="2264" y="198"/>
                  </a:lnTo>
                  <a:lnTo>
                    <a:pt x="2171" y="198"/>
                  </a:lnTo>
                  <a:lnTo>
                    <a:pt x="2131" y="198"/>
                  </a:lnTo>
                  <a:lnTo>
                    <a:pt x="2078" y="185"/>
                  </a:lnTo>
                  <a:lnTo>
                    <a:pt x="2026" y="171"/>
                  </a:lnTo>
                  <a:lnTo>
                    <a:pt x="1986" y="171"/>
                  </a:lnTo>
                  <a:lnTo>
                    <a:pt x="1880" y="158"/>
                  </a:lnTo>
                  <a:lnTo>
                    <a:pt x="1827" y="145"/>
                  </a:lnTo>
                  <a:lnTo>
                    <a:pt x="1787" y="145"/>
                  </a:lnTo>
                  <a:lnTo>
                    <a:pt x="1735" y="145"/>
                  </a:lnTo>
                  <a:lnTo>
                    <a:pt x="1694" y="145"/>
                  </a:lnTo>
                  <a:lnTo>
                    <a:pt x="1614" y="145"/>
                  </a:lnTo>
                  <a:lnTo>
                    <a:pt x="1535" y="145"/>
                  </a:lnTo>
                  <a:lnTo>
                    <a:pt x="1482" y="145"/>
                  </a:lnTo>
                  <a:lnTo>
                    <a:pt x="1442" y="158"/>
                  </a:lnTo>
                  <a:lnTo>
                    <a:pt x="1337" y="145"/>
                  </a:lnTo>
                  <a:lnTo>
                    <a:pt x="1284" y="145"/>
                  </a:lnTo>
                  <a:lnTo>
                    <a:pt x="1244" y="119"/>
                  </a:lnTo>
                  <a:lnTo>
                    <a:pt x="1204" y="105"/>
                  </a:lnTo>
                  <a:lnTo>
                    <a:pt x="1125" y="105"/>
                  </a:lnTo>
                  <a:lnTo>
                    <a:pt x="1019" y="105"/>
                  </a:lnTo>
                  <a:lnTo>
                    <a:pt x="979" y="119"/>
                  </a:lnTo>
                  <a:lnTo>
                    <a:pt x="874" y="145"/>
                  </a:lnTo>
                  <a:lnTo>
                    <a:pt x="794" y="158"/>
                  </a:lnTo>
                  <a:lnTo>
                    <a:pt x="755" y="158"/>
                  </a:lnTo>
                  <a:lnTo>
                    <a:pt x="675" y="145"/>
                  </a:lnTo>
                  <a:lnTo>
                    <a:pt x="515" y="132"/>
                  </a:lnTo>
                  <a:lnTo>
                    <a:pt x="476" y="119"/>
                  </a:lnTo>
                  <a:lnTo>
                    <a:pt x="436" y="119"/>
                  </a:lnTo>
                  <a:lnTo>
                    <a:pt x="396" y="145"/>
                  </a:lnTo>
                  <a:lnTo>
                    <a:pt x="370" y="198"/>
                  </a:lnTo>
                  <a:lnTo>
                    <a:pt x="330" y="211"/>
                  </a:lnTo>
                  <a:lnTo>
                    <a:pt x="291" y="238"/>
                  </a:lnTo>
                  <a:lnTo>
                    <a:pt x="211" y="238"/>
                  </a:lnTo>
                  <a:lnTo>
                    <a:pt x="158" y="238"/>
                  </a:lnTo>
                  <a:lnTo>
                    <a:pt x="132" y="198"/>
                  </a:lnTo>
                  <a:lnTo>
                    <a:pt x="132" y="158"/>
                  </a:lnTo>
                  <a:lnTo>
                    <a:pt x="105" y="119"/>
                  </a:lnTo>
                  <a:lnTo>
                    <a:pt x="13" y="119"/>
                  </a:lnTo>
                  <a:lnTo>
                    <a:pt x="0" y="79"/>
                  </a:lnTo>
                  <a:lnTo>
                    <a:pt x="0" y="119"/>
                  </a:lnTo>
                  <a:lnTo>
                    <a:pt x="0" y="158"/>
                  </a:lnTo>
                  <a:lnTo>
                    <a:pt x="39" y="185"/>
                  </a:lnTo>
                  <a:lnTo>
                    <a:pt x="92" y="185"/>
                  </a:lnTo>
                  <a:lnTo>
                    <a:pt x="119" y="238"/>
                  </a:lnTo>
                  <a:lnTo>
                    <a:pt x="119" y="278"/>
                  </a:lnTo>
                  <a:lnTo>
                    <a:pt x="119" y="371"/>
                  </a:lnTo>
                  <a:lnTo>
                    <a:pt x="119" y="411"/>
                  </a:lnTo>
                  <a:lnTo>
                    <a:pt x="132" y="450"/>
                  </a:lnTo>
                  <a:lnTo>
                    <a:pt x="132" y="490"/>
                  </a:lnTo>
                  <a:lnTo>
                    <a:pt x="158" y="530"/>
                  </a:lnTo>
                  <a:lnTo>
                    <a:pt x="198" y="530"/>
                  </a:lnTo>
                  <a:lnTo>
                    <a:pt x="224" y="490"/>
                  </a:lnTo>
                  <a:lnTo>
                    <a:pt x="238" y="450"/>
                  </a:lnTo>
                  <a:lnTo>
                    <a:pt x="198" y="424"/>
                  </a:lnTo>
                  <a:lnTo>
                    <a:pt x="171" y="384"/>
                  </a:lnTo>
                  <a:lnTo>
                    <a:pt x="158" y="344"/>
                  </a:lnTo>
                  <a:lnTo>
                    <a:pt x="158" y="305"/>
                  </a:lnTo>
                  <a:lnTo>
                    <a:pt x="198" y="278"/>
                  </a:lnTo>
                  <a:lnTo>
                    <a:pt x="238" y="331"/>
                  </a:lnTo>
                  <a:lnTo>
                    <a:pt x="264" y="371"/>
                  </a:lnTo>
                  <a:lnTo>
                    <a:pt x="304" y="371"/>
                  </a:lnTo>
                  <a:lnTo>
                    <a:pt x="330" y="331"/>
                  </a:lnTo>
                  <a:lnTo>
                    <a:pt x="357" y="292"/>
                  </a:lnTo>
                  <a:lnTo>
                    <a:pt x="396" y="292"/>
                  </a:lnTo>
                  <a:lnTo>
                    <a:pt x="410" y="251"/>
                  </a:lnTo>
                  <a:lnTo>
                    <a:pt x="410" y="211"/>
                  </a:lnTo>
                  <a:lnTo>
                    <a:pt x="304" y="19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c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 txBox="1"/>
          <p:nvPr/>
        </p:nvSpPr>
        <p:spPr>
          <a:xfrm>
            <a:off x="4419720" y="1447920"/>
            <a:ext cx="762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OP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2523960" y="5708520"/>
            <a:ext cx="859320" cy="624240"/>
            <a:chOff x="2523960" y="5708520"/>
            <a:chExt cx="859320" cy="624240"/>
          </a:xfrm>
        </p:grpSpPr>
        <p:grpSp>
          <p:nvGrpSpPr>
            <p:cNvPr id="481" name=""/>
            <p:cNvGrpSpPr/>
            <p:nvPr/>
          </p:nvGrpSpPr>
          <p:grpSpPr>
            <a:xfrm>
              <a:off x="2523960" y="5708520"/>
              <a:ext cx="859320" cy="624240"/>
              <a:chOff x="2523960" y="5708520"/>
              <a:chExt cx="859320" cy="624240"/>
            </a:xfrm>
          </p:grpSpPr>
          <p:sp>
            <p:nvSpPr>
              <p:cNvPr id="482" name=""/>
              <p:cNvSpPr/>
              <p:nvPr/>
            </p:nvSpPr>
            <p:spPr>
              <a:xfrm>
                <a:off x="2540160" y="5934240"/>
                <a:ext cx="814680" cy="352800"/>
              </a:xfrm>
              <a:custGeom>
                <a:avLst/>
                <a:gdLst/>
                <a:ahLst/>
                <a:rect l="0" t="0" r="r" b="b"/>
                <a:pathLst>
                  <a:path w="2263" h="980">
                    <a:moveTo>
                      <a:pt x="79" y="980"/>
                    </a:moveTo>
                    <a:lnTo>
                      <a:pt x="238" y="371"/>
                    </a:lnTo>
                    <a:lnTo>
                      <a:pt x="542" y="66"/>
                    </a:lnTo>
                    <a:lnTo>
                      <a:pt x="648" y="105"/>
                    </a:lnTo>
                    <a:lnTo>
                      <a:pt x="859" y="39"/>
                    </a:lnTo>
                    <a:lnTo>
                      <a:pt x="1337" y="0"/>
                    </a:lnTo>
                    <a:lnTo>
                      <a:pt x="1786" y="26"/>
                    </a:lnTo>
                    <a:lnTo>
                      <a:pt x="2197" y="26"/>
                    </a:lnTo>
                    <a:lnTo>
                      <a:pt x="2263" y="145"/>
                    </a:lnTo>
                    <a:lnTo>
                      <a:pt x="2183" y="238"/>
                    </a:lnTo>
                    <a:lnTo>
                      <a:pt x="2223" y="265"/>
                    </a:lnTo>
                    <a:lnTo>
                      <a:pt x="2249" y="437"/>
                    </a:lnTo>
                    <a:lnTo>
                      <a:pt x="2236" y="861"/>
                    </a:lnTo>
                    <a:lnTo>
                      <a:pt x="2263" y="954"/>
                    </a:lnTo>
                    <a:lnTo>
                      <a:pt x="1681" y="901"/>
                    </a:lnTo>
                    <a:lnTo>
                      <a:pt x="846" y="914"/>
                    </a:lnTo>
                    <a:lnTo>
                      <a:pt x="330" y="941"/>
                    </a:lnTo>
                    <a:lnTo>
                      <a:pt x="92" y="928"/>
                    </a:lnTo>
                    <a:lnTo>
                      <a:pt x="0" y="875"/>
                    </a:lnTo>
                    <a:lnTo>
                      <a:pt x="79" y="9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3" name=""/>
              <p:cNvGrpSpPr/>
              <p:nvPr/>
            </p:nvGrpSpPr>
            <p:grpSpPr>
              <a:xfrm>
                <a:off x="2523960" y="5708520"/>
                <a:ext cx="859320" cy="624240"/>
                <a:chOff x="2523960" y="5708520"/>
                <a:chExt cx="859320" cy="624240"/>
              </a:xfrm>
            </p:grpSpPr>
            <p:grpSp>
              <p:nvGrpSpPr>
                <p:cNvPr id="484" name=""/>
                <p:cNvGrpSpPr/>
                <p:nvPr/>
              </p:nvGrpSpPr>
              <p:grpSpPr>
                <a:xfrm>
                  <a:off x="2730600" y="5708520"/>
                  <a:ext cx="636480" cy="263520"/>
                  <a:chOff x="2730600" y="5708520"/>
                  <a:chExt cx="636480" cy="26352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>
                    <a:off x="2730600" y="5754600"/>
                    <a:ext cx="19080" cy="217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V="1">
                    <a:off x="2854440" y="5729400"/>
                    <a:ext cx="6120" cy="217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V="1">
                    <a:off x="3016080" y="5708520"/>
                    <a:ext cx="24120" cy="2304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flipV="1">
                    <a:off x="3179880" y="5746680"/>
                    <a:ext cx="44280" cy="20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flipV="1">
                    <a:off x="3321000" y="5769000"/>
                    <a:ext cx="46080" cy="1810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0" name=""/>
                <p:cNvSpPr/>
                <p:nvPr/>
              </p:nvSpPr>
              <p:spPr>
                <a:xfrm>
                  <a:off x="2541600" y="5962680"/>
                  <a:ext cx="824400" cy="329040"/>
                </a:xfrm>
                <a:custGeom>
                  <a:avLst/>
                  <a:gdLst/>
                  <a:ahLst/>
                  <a:rect l="0" t="0" r="r" b="b"/>
                  <a:pathLst>
                    <a:path fill="none" w="2290" h="914">
                      <a:moveTo>
                        <a:pt x="498" y="0"/>
                      </a:moveTo>
                      <a:lnTo>
                        <a:pt x="194" y="283"/>
                      </a:lnTo>
                      <a:lnTo>
                        <a:pt x="70" y="703"/>
                      </a:lnTo>
                      <a:lnTo>
                        <a:pt x="0" y="914"/>
                      </a:lnTo>
                      <a:lnTo>
                        <a:pt x="2268" y="905"/>
                      </a:lnTo>
                      <a:lnTo>
                        <a:pt x="2290" y="92"/>
                      </a:lnTo>
                      <a:lnTo>
                        <a:pt x="2206" y="202"/>
                      </a:lnTo>
                    </a:path>
                  </a:pathLst>
                </a:custGeom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523960" y="6249960"/>
                  <a:ext cx="859320" cy="82800"/>
                </a:xfrm>
                <a:custGeom>
                  <a:avLst/>
                  <a:gdLst/>
                  <a:ahLst/>
                  <a:rect l="0" t="0" r="r" b="b"/>
                  <a:pathLst>
                    <a:path w="2387" h="230">
                      <a:moveTo>
                        <a:pt x="66" y="114"/>
                      </a:moveTo>
                      <a:lnTo>
                        <a:pt x="119" y="114"/>
                      </a:lnTo>
                      <a:lnTo>
                        <a:pt x="154" y="88"/>
                      </a:lnTo>
                      <a:lnTo>
                        <a:pt x="194" y="83"/>
                      </a:lnTo>
                      <a:lnTo>
                        <a:pt x="233" y="83"/>
                      </a:lnTo>
                      <a:lnTo>
                        <a:pt x="242" y="39"/>
                      </a:lnTo>
                      <a:lnTo>
                        <a:pt x="282" y="39"/>
                      </a:lnTo>
                      <a:lnTo>
                        <a:pt x="339" y="48"/>
                      </a:lnTo>
                      <a:lnTo>
                        <a:pt x="374" y="61"/>
                      </a:lnTo>
                      <a:lnTo>
                        <a:pt x="418" y="57"/>
                      </a:lnTo>
                      <a:lnTo>
                        <a:pt x="454" y="39"/>
                      </a:lnTo>
                      <a:lnTo>
                        <a:pt x="498" y="39"/>
                      </a:lnTo>
                      <a:lnTo>
                        <a:pt x="533" y="35"/>
                      </a:lnTo>
                      <a:lnTo>
                        <a:pt x="577" y="48"/>
                      </a:lnTo>
                      <a:lnTo>
                        <a:pt x="613" y="48"/>
                      </a:lnTo>
                      <a:lnTo>
                        <a:pt x="658" y="44"/>
                      </a:lnTo>
                      <a:lnTo>
                        <a:pt x="693" y="44"/>
                      </a:lnTo>
                      <a:lnTo>
                        <a:pt x="733" y="30"/>
                      </a:lnTo>
                      <a:lnTo>
                        <a:pt x="777" y="26"/>
                      </a:lnTo>
                      <a:lnTo>
                        <a:pt x="816" y="61"/>
                      </a:lnTo>
                      <a:lnTo>
                        <a:pt x="856" y="74"/>
                      </a:lnTo>
                      <a:lnTo>
                        <a:pt x="896" y="74"/>
                      </a:lnTo>
                      <a:lnTo>
                        <a:pt x="949" y="39"/>
                      </a:lnTo>
                      <a:lnTo>
                        <a:pt x="1002" y="39"/>
                      </a:lnTo>
                      <a:lnTo>
                        <a:pt x="1050" y="26"/>
                      </a:lnTo>
                      <a:lnTo>
                        <a:pt x="1090" y="22"/>
                      </a:lnTo>
                      <a:lnTo>
                        <a:pt x="1196" y="30"/>
                      </a:lnTo>
                      <a:lnTo>
                        <a:pt x="1253" y="44"/>
                      </a:lnTo>
                      <a:lnTo>
                        <a:pt x="1306" y="26"/>
                      </a:lnTo>
                      <a:lnTo>
                        <a:pt x="1354" y="22"/>
                      </a:lnTo>
                      <a:lnTo>
                        <a:pt x="1438" y="17"/>
                      </a:lnTo>
                      <a:lnTo>
                        <a:pt x="1473" y="0"/>
                      </a:lnTo>
                      <a:lnTo>
                        <a:pt x="1517" y="13"/>
                      </a:lnTo>
                      <a:lnTo>
                        <a:pt x="1557" y="13"/>
                      </a:lnTo>
                      <a:lnTo>
                        <a:pt x="1597" y="8"/>
                      </a:lnTo>
                      <a:lnTo>
                        <a:pt x="1637" y="8"/>
                      </a:lnTo>
                      <a:lnTo>
                        <a:pt x="1685" y="17"/>
                      </a:lnTo>
                      <a:lnTo>
                        <a:pt x="1769" y="26"/>
                      </a:lnTo>
                      <a:lnTo>
                        <a:pt x="1845" y="22"/>
                      </a:lnTo>
                      <a:lnTo>
                        <a:pt x="1889" y="35"/>
                      </a:lnTo>
                      <a:lnTo>
                        <a:pt x="1929" y="48"/>
                      </a:lnTo>
                      <a:lnTo>
                        <a:pt x="1973" y="44"/>
                      </a:lnTo>
                      <a:lnTo>
                        <a:pt x="2008" y="44"/>
                      </a:lnTo>
                      <a:lnTo>
                        <a:pt x="2048" y="39"/>
                      </a:lnTo>
                      <a:lnTo>
                        <a:pt x="2096" y="35"/>
                      </a:lnTo>
                      <a:lnTo>
                        <a:pt x="2140" y="30"/>
                      </a:lnTo>
                      <a:lnTo>
                        <a:pt x="2180" y="44"/>
                      </a:lnTo>
                      <a:lnTo>
                        <a:pt x="2220" y="57"/>
                      </a:lnTo>
                      <a:lnTo>
                        <a:pt x="2273" y="52"/>
                      </a:lnTo>
                      <a:lnTo>
                        <a:pt x="2325" y="61"/>
                      </a:lnTo>
                      <a:lnTo>
                        <a:pt x="2370" y="88"/>
                      </a:lnTo>
                      <a:lnTo>
                        <a:pt x="2383" y="128"/>
                      </a:lnTo>
                      <a:lnTo>
                        <a:pt x="2387" y="168"/>
                      </a:lnTo>
                      <a:lnTo>
                        <a:pt x="2347" y="168"/>
                      </a:lnTo>
                      <a:lnTo>
                        <a:pt x="2308" y="172"/>
                      </a:lnTo>
                      <a:lnTo>
                        <a:pt x="2250" y="172"/>
                      </a:lnTo>
                      <a:lnTo>
                        <a:pt x="2215" y="177"/>
                      </a:lnTo>
                      <a:lnTo>
                        <a:pt x="2175" y="195"/>
                      </a:lnTo>
                      <a:lnTo>
                        <a:pt x="2136" y="195"/>
                      </a:lnTo>
                      <a:lnTo>
                        <a:pt x="2096" y="195"/>
                      </a:lnTo>
                      <a:lnTo>
                        <a:pt x="2004" y="186"/>
                      </a:lnTo>
                      <a:lnTo>
                        <a:pt x="1964" y="177"/>
                      </a:lnTo>
                      <a:lnTo>
                        <a:pt x="1924" y="177"/>
                      </a:lnTo>
                      <a:lnTo>
                        <a:pt x="1884" y="208"/>
                      </a:lnTo>
                      <a:lnTo>
                        <a:pt x="1845" y="221"/>
                      </a:lnTo>
                      <a:lnTo>
                        <a:pt x="1805" y="225"/>
                      </a:lnTo>
                      <a:lnTo>
                        <a:pt x="1764" y="225"/>
                      </a:lnTo>
                      <a:lnTo>
                        <a:pt x="1725" y="230"/>
                      </a:lnTo>
                      <a:lnTo>
                        <a:pt x="1650" y="230"/>
                      </a:lnTo>
                      <a:lnTo>
                        <a:pt x="1592" y="225"/>
                      </a:lnTo>
                      <a:lnTo>
                        <a:pt x="1553" y="225"/>
                      </a:lnTo>
                      <a:lnTo>
                        <a:pt x="1447" y="217"/>
                      </a:lnTo>
                      <a:lnTo>
                        <a:pt x="1407" y="221"/>
                      </a:lnTo>
                      <a:lnTo>
                        <a:pt x="1363" y="208"/>
                      </a:lnTo>
                      <a:lnTo>
                        <a:pt x="1275" y="199"/>
                      </a:lnTo>
                      <a:lnTo>
                        <a:pt x="1169" y="203"/>
                      </a:lnTo>
                      <a:lnTo>
                        <a:pt x="1129" y="181"/>
                      </a:lnTo>
                      <a:lnTo>
                        <a:pt x="1076" y="181"/>
                      </a:lnTo>
                      <a:lnTo>
                        <a:pt x="984" y="203"/>
                      </a:lnTo>
                      <a:lnTo>
                        <a:pt x="944" y="203"/>
                      </a:lnTo>
                      <a:lnTo>
                        <a:pt x="891" y="208"/>
                      </a:lnTo>
                      <a:lnTo>
                        <a:pt x="812" y="212"/>
                      </a:lnTo>
                      <a:lnTo>
                        <a:pt x="755" y="212"/>
                      </a:lnTo>
                      <a:lnTo>
                        <a:pt x="702" y="217"/>
                      </a:lnTo>
                      <a:lnTo>
                        <a:pt x="622" y="221"/>
                      </a:lnTo>
                      <a:lnTo>
                        <a:pt x="586" y="221"/>
                      </a:lnTo>
                      <a:lnTo>
                        <a:pt x="546" y="212"/>
                      </a:lnTo>
                      <a:lnTo>
                        <a:pt x="436" y="217"/>
                      </a:lnTo>
                      <a:lnTo>
                        <a:pt x="383" y="203"/>
                      </a:lnTo>
                      <a:lnTo>
                        <a:pt x="348" y="208"/>
                      </a:lnTo>
                      <a:lnTo>
                        <a:pt x="238" y="199"/>
                      </a:lnTo>
                      <a:lnTo>
                        <a:pt x="185" y="190"/>
                      </a:lnTo>
                      <a:lnTo>
                        <a:pt x="149" y="190"/>
                      </a:lnTo>
                      <a:lnTo>
                        <a:pt x="13" y="172"/>
                      </a:lnTo>
                      <a:lnTo>
                        <a:pt x="0" y="133"/>
                      </a:lnTo>
                      <a:lnTo>
                        <a:pt x="66" y="114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0">
                  <a:noFill/>
                </a:ln>
              </p:spPr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079800" y="6046920"/>
                  <a:ext cx="197280" cy="151200"/>
                </a:xfrm>
                <a:custGeom>
                  <a:avLst/>
                  <a:gdLst/>
                  <a:ahLst/>
                  <a:rect l="0" t="0" r="r" b="b"/>
                  <a:pathLst>
                    <a:path w="548" h="420">
                      <a:moveTo>
                        <a:pt x="429" y="208"/>
                      </a:moveTo>
                      <a:lnTo>
                        <a:pt x="336" y="217"/>
                      </a:lnTo>
                      <a:lnTo>
                        <a:pt x="296" y="230"/>
                      </a:lnTo>
                      <a:lnTo>
                        <a:pt x="190" y="239"/>
                      </a:lnTo>
                      <a:lnTo>
                        <a:pt x="168" y="287"/>
                      </a:lnTo>
                      <a:lnTo>
                        <a:pt x="159" y="332"/>
                      </a:lnTo>
                      <a:lnTo>
                        <a:pt x="132" y="372"/>
                      </a:lnTo>
                      <a:lnTo>
                        <a:pt x="92" y="403"/>
                      </a:lnTo>
                      <a:lnTo>
                        <a:pt x="177" y="412"/>
                      </a:lnTo>
                      <a:lnTo>
                        <a:pt x="256" y="420"/>
                      </a:lnTo>
                      <a:lnTo>
                        <a:pt x="292" y="416"/>
                      </a:lnTo>
                      <a:lnTo>
                        <a:pt x="305" y="337"/>
                      </a:lnTo>
                      <a:lnTo>
                        <a:pt x="274" y="296"/>
                      </a:lnTo>
                      <a:lnTo>
                        <a:pt x="358" y="278"/>
                      </a:lnTo>
                      <a:lnTo>
                        <a:pt x="406" y="305"/>
                      </a:lnTo>
                      <a:lnTo>
                        <a:pt x="447" y="328"/>
                      </a:lnTo>
                      <a:lnTo>
                        <a:pt x="478" y="385"/>
                      </a:lnTo>
                      <a:lnTo>
                        <a:pt x="522" y="407"/>
                      </a:lnTo>
                      <a:lnTo>
                        <a:pt x="548" y="363"/>
                      </a:lnTo>
                      <a:lnTo>
                        <a:pt x="544" y="283"/>
                      </a:lnTo>
                      <a:lnTo>
                        <a:pt x="535" y="234"/>
                      </a:lnTo>
                      <a:lnTo>
                        <a:pt x="535" y="181"/>
                      </a:lnTo>
                      <a:lnTo>
                        <a:pt x="504" y="124"/>
                      </a:lnTo>
                      <a:lnTo>
                        <a:pt x="465" y="101"/>
                      </a:lnTo>
                      <a:lnTo>
                        <a:pt x="425" y="101"/>
                      </a:lnTo>
                      <a:lnTo>
                        <a:pt x="371" y="79"/>
                      </a:lnTo>
                      <a:lnTo>
                        <a:pt x="344" y="39"/>
                      </a:lnTo>
                      <a:lnTo>
                        <a:pt x="300" y="30"/>
                      </a:lnTo>
                      <a:lnTo>
                        <a:pt x="208" y="8"/>
                      </a:lnTo>
                      <a:lnTo>
                        <a:pt x="127" y="0"/>
                      </a:lnTo>
                      <a:lnTo>
                        <a:pt x="88" y="4"/>
                      </a:lnTo>
                      <a:lnTo>
                        <a:pt x="48" y="4"/>
                      </a:lnTo>
                      <a:lnTo>
                        <a:pt x="8" y="17"/>
                      </a:lnTo>
                      <a:lnTo>
                        <a:pt x="0" y="115"/>
                      </a:lnTo>
                      <a:lnTo>
                        <a:pt x="17" y="168"/>
                      </a:lnTo>
                      <a:lnTo>
                        <a:pt x="70" y="190"/>
                      </a:lnTo>
                      <a:lnTo>
                        <a:pt x="110" y="190"/>
                      </a:lnTo>
                      <a:lnTo>
                        <a:pt x="164" y="172"/>
                      </a:lnTo>
                      <a:lnTo>
                        <a:pt x="203" y="172"/>
                      </a:lnTo>
                      <a:lnTo>
                        <a:pt x="239" y="155"/>
                      </a:lnTo>
                      <a:lnTo>
                        <a:pt x="349" y="177"/>
                      </a:lnTo>
                      <a:lnTo>
                        <a:pt x="429" y="208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719440" y="6122880"/>
                  <a:ext cx="241560" cy="84600"/>
                </a:xfrm>
                <a:custGeom>
                  <a:avLst/>
                  <a:gdLst/>
                  <a:ahLst/>
                  <a:rect l="0" t="0" r="r" b="b"/>
                  <a:pathLst>
                    <a:path w="671" h="235">
                      <a:moveTo>
                        <a:pt x="583" y="52"/>
                      </a:moveTo>
                      <a:lnTo>
                        <a:pt x="508" y="75"/>
                      </a:lnTo>
                      <a:lnTo>
                        <a:pt x="349" y="111"/>
                      </a:lnTo>
                      <a:lnTo>
                        <a:pt x="273" y="124"/>
                      </a:lnTo>
                      <a:lnTo>
                        <a:pt x="233" y="142"/>
                      </a:lnTo>
                      <a:lnTo>
                        <a:pt x="194" y="146"/>
                      </a:lnTo>
                      <a:lnTo>
                        <a:pt x="154" y="159"/>
                      </a:lnTo>
                      <a:lnTo>
                        <a:pt x="101" y="159"/>
                      </a:lnTo>
                      <a:lnTo>
                        <a:pt x="57" y="164"/>
                      </a:lnTo>
                      <a:lnTo>
                        <a:pt x="22" y="128"/>
                      </a:lnTo>
                      <a:lnTo>
                        <a:pt x="0" y="75"/>
                      </a:lnTo>
                      <a:lnTo>
                        <a:pt x="52" y="30"/>
                      </a:lnTo>
                      <a:lnTo>
                        <a:pt x="92" y="26"/>
                      </a:lnTo>
                      <a:lnTo>
                        <a:pt x="132" y="39"/>
                      </a:lnTo>
                      <a:lnTo>
                        <a:pt x="163" y="89"/>
                      </a:lnTo>
                      <a:lnTo>
                        <a:pt x="202" y="89"/>
                      </a:lnTo>
                      <a:lnTo>
                        <a:pt x="238" y="57"/>
                      </a:lnTo>
                      <a:lnTo>
                        <a:pt x="277" y="30"/>
                      </a:lnTo>
                      <a:lnTo>
                        <a:pt x="317" y="0"/>
                      </a:lnTo>
                      <a:lnTo>
                        <a:pt x="349" y="39"/>
                      </a:lnTo>
                      <a:lnTo>
                        <a:pt x="402" y="67"/>
                      </a:lnTo>
                      <a:lnTo>
                        <a:pt x="437" y="48"/>
                      </a:lnTo>
                      <a:lnTo>
                        <a:pt x="477" y="35"/>
                      </a:lnTo>
                      <a:lnTo>
                        <a:pt x="521" y="22"/>
                      </a:lnTo>
                      <a:lnTo>
                        <a:pt x="583" y="52"/>
                      </a:lnTo>
                      <a:lnTo>
                        <a:pt x="644" y="93"/>
                      </a:lnTo>
                      <a:lnTo>
                        <a:pt x="671" y="128"/>
                      </a:lnTo>
                      <a:lnTo>
                        <a:pt x="671" y="172"/>
                      </a:lnTo>
                      <a:lnTo>
                        <a:pt x="636" y="200"/>
                      </a:lnTo>
                      <a:lnTo>
                        <a:pt x="583" y="226"/>
                      </a:lnTo>
                      <a:lnTo>
                        <a:pt x="543" y="231"/>
                      </a:lnTo>
                      <a:lnTo>
                        <a:pt x="503" y="235"/>
                      </a:lnTo>
                      <a:lnTo>
                        <a:pt x="486" y="182"/>
                      </a:lnTo>
                      <a:lnTo>
                        <a:pt x="538" y="150"/>
                      </a:lnTo>
                      <a:lnTo>
                        <a:pt x="578" y="111"/>
                      </a:lnTo>
                      <a:lnTo>
                        <a:pt x="534" y="84"/>
                      </a:lnTo>
                      <a:lnTo>
                        <a:pt x="583" y="52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0">
                  <a:noFill/>
                </a:ln>
              </p:spPr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>
              <a:off x="2549520" y="6267600"/>
              <a:ext cx="814680" cy="25920"/>
            </a:xfrm>
            <a:custGeom>
              <a:avLst/>
              <a:gdLst/>
              <a:ahLst/>
              <a:rect l="0" t="0" r="r" b="b"/>
              <a:pathLst>
                <a:path fill="none" w="2263" h="72">
                  <a:moveTo>
                    <a:pt x="0" y="72"/>
                  </a:moveTo>
                  <a:lnTo>
                    <a:pt x="343" y="72"/>
                  </a:lnTo>
                  <a:lnTo>
                    <a:pt x="1178" y="0"/>
                  </a:lnTo>
                  <a:lnTo>
                    <a:pt x="1707" y="36"/>
                  </a:lnTo>
                  <a:lnTo>
                    <a:pt x="2263" y="5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4064040" y="3467160"/>
            <a:ext cx="508320" cy="1740240"/>
            <a:chOff x="4064040" y="3467160"/>
            <a:chExt cx="508320" cy="1740240"/>
          </a:xfrm>
        </p:grpSpPr>
        <p:sp>
          <p:nvSpPr>
            <p:cNvPr id="496" name=""/>
            <p:cNvSpPr/>
            <p:nvPr/>
          </p:nvSpPr>
          <p:spPr>
            <a:xfrm>
              <a:off x="4149720" y="3814920"/>
              <a:ext cx="371880" cy="562320"/>
            </a:xfrm>
            <a:custGeom>
              <a:avLst/>
              <a:gdLst/>
              <a:ahLst/>
              <a:rect l="0" t="0" r="r" b="b"/>
              <a:pathLst>
                <a:path w="1033" h="1562">
                  <a:moveTo>
                    <a:pt x="264" y="62"/>
                  </a:moveTo>
                  <a:lnTo>
                    <a:pt x="317" y="22"/>
                  </a:lnTo>
                  <a:lnTo>
                    <a:pt x="370" y="0"/>
                  </a:lnTo>
                  <a:lnTo>
                    <a:pt x="423" y="22"/>
                  </a:lnTo>
                  <a:lnTo>
                    <a:pt x="505" y="40"/>
                  </a:lnTo>
                  <a:lnTo>
                    <a:pt x="634" y="0"/>
                  </a:lnTo>
                  <a:lnTo>
                    <a:pt x="686" y="0"/>
                  </a:lnTo>
                  <a:lnTo>
                    <a:pt x="769" y="0"/>
                  </a:lnTo>
                  <a:lnTo>
                    <a:pt x="769" y="62"/>
                  </a:lnTo>
                  <a:lnTo>
                    <a:pt x="769" y="80"/>
                  </a:lnTo>
                  <a:lnTo>
                    <a:pt x="686" y="142"/>
                  </a:lnTo>
                  <a:lnTo>
                    <a:pt x="716" y="227"/>
                  </a:lnTo>
                  <a:lnTo>
                    <a:pt x="716" y="289"/>
                  </a:lnTo>
                  <a:lnTo>
                    <a:pt x="769" y="330"/>
                  </a:lnTo>
                  <a:lnTo>
                    <a:pt x="822" y="392"/>
                  </a:lnTo>
                  <a:lnTo>
                    <a:pt x="793" y="535"/>
                  </a:lnTo>
                  <a:lnTo>
                    <a:pt x="739" y="637"/>
                  </a:lnTo>
                  <a:lnTo>
                    <a:pt x="793" y="700"/>
                  </a:lnTo>
                  <a:lnTo>
                    <a:pt x="875" y="780"/>
                  </a:lnTo>
                  <a:lnTo>
                    <a:pt x="951" y="861"/>
                  </a:lnTo>
                  <a:lnTo>
                    <a:pt x="981" y="924"/>
                  </a:lnTo>
                  <a:lnTo>
                    <a:pt x="1004" y="986"/>
                  </a:lnTo>
                  <a:lnTo>
                    <a:pt x="1033" y="1026"/>
                  </a:lnTo>
                  <a:lnTo>
                    <a:pt x="1033" y="1026"/>
                  </a:lnTo>
                  <a:lnTo>
                    <a:pt x="1004" y="1174"/>
                  </a:lnTo>
                  <a:lnTo>
                    <a:pt x="981" y="1294"/>
                  </a:lnTo>
                  <a:lnTo>
                    <a:pt x="951" y="1419"/>
                  </a:lnTo>
                  <a:lnTo>
                    <a:pt x="899" y="1562"/>
                  </a:lnTo>
                  <a:lnTo>
                    <a:pt x="899" y="1521"/>
                  </a:lnTo>
                  <a:lnTo>
                    <a:pt x="899" y="1481"/>
                  </a:lnTo>
                  <a:lnTo>
                    <a:pt x="928" y="1437"/>
                  </a:lnTo>
                  <a:lnTo>
                    <a:pt x="928" y="1419"/>
                  </a:lnTo>
                  <a:lnTo>
                    <a:pt x="899" y="1356"/>
                  </a:lnTo>
                  <a:lnTo>
                    <a:pt x="875" y="1276"/>
                  </a:lnTo>
                  <a:lnTo>
                    <a:pt x="899" y="1214"/>
                  </a:lnTo>
                  <a:lnTo>
                    <a:pt x="928" y="1191"/>
                  </a:lnTo>
                  <a:lnTo>
                    <a:pt x="928" y="1174"/>
                  </a:lnTo>
                  <a:lnTo>
                    <a:pt x="899" y="1049"/>
                  </a:lnTo>
                  <a:lnTo>
                    <a:pt x="846" y="986"/>
                  </a:lnTo>
                  <a:lnTo>
                    <a:pt x="793" y="946"/>
                  </a:lnTo>
                  <a:lnTo>
                    <a:pt x="739" y="884"/>
                  </a:lnTo>
                  <a:lnTo>
                    <a:pt x="686" y="821"/>
                  </a:lnTo>
                  <a:lnTo>
                    <a:pt x="634" y="861"/>
                  </a:lnTo>
                  <a:lnTo>
                    <a:pt x="581" y="884"/>
                  </a:lnTo>
                  <a:lnTo>
                    <a:pt x="528" y="906"/>
                  </a:lnTo>
                  <a:lnTo>
                    <a:pt x="505" y="924"/>
                  </a:lnTo>
                  <a:lnTo>
                    <a:pt x="475" y="924"/>
                  </a:lnTo>
                  <a:lnTo>
                    <a:pt x="475" y="843"/>
                  </a:lnTo>
                  <a:lnTo>
                    <a:pt x="475" y="821"/>
                  </a:lnTo>
                  <a:lnTo>
                    <a:pt x="475" y="803"/>
                  </a:lnTo>
                  <a:lnTo>
                    <a:pt x="505" y="758"/>
                  </a:lnTo>
                  <a:lnTo>
                    <a:pt x="528" y="718"/>
                  </a:lnTo>
                  <a:lnTo>
                    <a:pt x="528" y="718"/>
                  </a:lnTo>
                  <a:lnTo>
                    <a:pt x="528" y="740"/>
                  </a:lnTo>
                  <a:lnTo>
                    <a:pt x="528" y="758"/>
                  </a:lnTo>
                  <a:lnTo>
                    <a:pt x="505" y="780"/>
                  </a:lnTo>
                  <a:lnTo>
                    <a:pt x="452" y="758"/>
                  </a:lnTo>
                  <a:lnTo>
                    <a:pt x="423" y="740"/>
                  </a:lnTo>
                  <a:lnTo>
                    <a:pt x="399" y="740"/>
                  </a:lnTo>
                  <a:lnTo>
                    <a:pt x="370" y="758"/>
                  </a:lnTo>
                  <a:lnTo>
                    <a:pt x="346" y="780"/>
                  </a:lnTo>
                  <a:lnTo>
                    <a:pt x="264" y="718"/>
                  </a:lnTo>
                  <a:lnTo>
                    <a:pt x="240" y="780"/>
                  </a:lnTo>
                  <a:lnTo>
                    <a:pt x="211" y="803"/>
                  </a:lnTo>
                  <a:lnTo>
                    <a:pt x="158" y="780"/>
                  </a:lnTo>
                  <a:lnTo>
                    <a:pt x="52" y="758"/>
                  </a:lnTo>
                  <a:lnTo>
                    <a:pt x="23" y="740"/>
                  </a:lnTo>
                  <a:lnTo>
                    <a:pt x="0" y="700"/>
                  </a:lnTo>
                  <a:lnTo>
                    <a:pt x="23" y="677"/>
                  </a:lnTo>
                  <a:lnTo>
                    <a:pt x="52" y="677"/>
                  </a:lnTo>
                  <a:lnTo>
                    <a:pt x="158" y="700"/>
                  </a:lnTo>
                  <a:lnTo>
                    <a:pt x="264" y="718"/>
                  </a:lnTo>
                  <a:lnTo>
                    <a:pt x="264" y="718"/>
                  </a:lnTo>
                  <a:lnTo>
                    <a:pt x="240" y="700"/>
                  </a:lnTo>
                  <a:lnTo>
                    <a:pt x="211" y="677"/>
                  </a:lnTo>
                  <a:lnTo>
                    <a:pt x="187" y="655"/>
                  </a:lnTo>
                  <a:lnTo>
                    <a:pt x="187" y="637"/>
                  </a:lnTo>
                  <a:lnTo>
                    <a:pt x="187" y="597"/>
                  </a:lnTo>
                  <a:lnTo>
                    <a:pt x="211" y="553"/>
                  </a:lnTo>
                  <a:lnTo>
                    <a:pt x="240" y="535"/>
                  </a:lnTo>
                  <a:lnTo>
                    <a:pt x="240" y="472"/>
                  </a:lnTo>
                  <a:lnTo>
                    <a:pt x="240" y="410"/>
                  </a:lnTo>
                  <a:lnTo>
                    <a:pt x="240" y="267"/>
                  </a:lnTo>
                  <a:lnTo>
                    <a:pt x="187" y="227"/>
                  </a:lnTo>
                  <a:lnTo>
                    <a:pt x="158" y="205"/>
                  </a:lnTo>
                  <a:lnTo>
                    <a:pt x="158" y="182"/>
                  </a:lnTo>
                  <a:lnTo>
                    <a:pt x="187" y="165"/>
                  </a:lnTo>
                  <a:lnTo>
                    <a:pt x="211" y="142"/>
                  </a:lnTo>
                  <a:lnTo>
                    <a:pt x="211" y="124"/>
                  </a:lnTo>
                  <a:lnTo>
                    <a:pt x="264" y="6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332240" y="3998880"/>
              <a:ext cx="117720" cy="122760"/>
            </a:xfrm>
            <a:custGeom>
              <a:avLst/>
              <a:gdLst/>
              <a:ahLst/>
              <a:rect l="0" t="0" r="r" b="b"/>
              <a:pathLst>
                <a:path w="327" h="341">
                  <a:moveTo>
                    <a:pt x="67" y="200"/>
                  </a:moveTo>
                  <a:lnTo>
                    <a:pt x="67" y="140"/>
                  </a:lnTo>
                  <a:lnTo>
                    <a:pt x="101" y="76"/>
                  </a:lnTo>
                  <a:lnTo>
                    <a:pt x="173" y="38"/>
                  </a:lnTo>
                  <a:lnTo>
                    <a:pt x="241" y="0"/>
                  </a:lnTo>
                  <a:lnTo>
                    <a:pt x="278" y="25"/>
                  </a:lnTo>
                  <a:lnTo>
                    <a:pt x="327" y="63"/>
                  </a:lnTo>
                  <a:lnTo>
                    <a:pt x="327" y="89"/>
                  </a:lnTo>
                  <a:lnTo>
                    <a:pt x="327" y="89"/>
                  </a:lnTo>
                  <a:lnTo>
                    <a:pt x="293" y="89"/>
                  </a:lnTo>
                  <a:lnTo>
                    <a:pt x="226" y="127"/>
                  </a:lnTo>
                  <a:lnTo>
                    <a:pt x="153" y="178"/>
                  </a:lnTo>
                  <a:lnTo>
                    <a:pt x="138" y="239"/>
                  </a:lnTo>
                  <a:lnTo>
                    <a:pt x="138" y="265"/>
                  </a:lnTo>
                  <a:lnTo>
                    <a:pt x="120" y="290"/>
                  </a:lnTo>
                  <a:lnTo>
                    <a:pt x="101" y="316"/>
                  </a:lnTo>
                  <a:lnTo>
                    <a:pt x="67" y="328"/>
                  </a:lnTo>
                  <a:lnTo>
                    <a:pt x="48" y="341"/>
                  </a:lnTo>
                  <a:lnTo>
                    <a:pt x="33" y="341"/>
                  </a:lnTo>
                  <a:lnTo>
                    <a:pt x="0" y="316"/>
                  </a:lnTo>
                  <a:lnTo>
                    <a:pt x="0" y="290"/>
                  </a:lnTo>
                  <a:lnTo>
                    <a:pt x="15" y="278"/>
                  </a:lnTo>
                  <a:lnTo>
                    <a:pt x="33" y="226"/>
                  </a:lnTo>
                  <a:lnTo>
                    <a:pt x="48" y="213"/>
                  </a:lnTo>
                  <a:lnTo>
                    <a:pt x="67" y="213"/>
                  </a:lnTo>
                  <a:lnTo>
                    <a:pt x="67" y="20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064040" y="4125960"/>
              <a:ext cx="135360" cy="197280"/>
            </a:xfrm>
            <a:custGeom>
              <a:avLst/>
              <a:gdLst/>
              <a:ahLst/>
              <a:rect l="0" t="0" r="r" b="b"/>
              <a:pathLst>
                <a:path w="376" h="548">
                  <a:moveTo>
                    <a:pt x="285" y="429"/>
                  </a:moveTo>
                  <a:lnTo>
                    <a:pt x="211" y="326"/>
                  </a:lnTo>
                  <a:lnTo>
                    <a:pt x="137" y="207"/>
                  </a:lnTo>
                  <a:lnTo>
                    <a:pt x="137" y="148"/>
                  </a:lnTo>
                  <a:lnTo>
                    <a:pt x="137" y="87"/>
                  </a:lnTo>
                  <a:lnTo>
                    <a:pt x="165" y="42"/>
                  </a:lnTo>
                  <a:lnTo>
                    <a:pt x="211" y="0"/>
                  </a:lnTo>
                  <a:lnTo>
                    <a:pt x="225" y="28"/>
                  </a:lnTo>
                  <a:lnTo>
                    <a:pt x="256" y="42"/>
                  </a:lnTo>
                  <a:lnTo>
                    <a:pt x="270" y="73"/>
                  </a:lnTo>
                  <a:lnTo>
                    <a:pt x="270" y="87"/>
                  </a:lnTo>
                  <a:lnTo>
                    <a:pt x="197" y="119"/>
                  </a:lnTo>
                  <a:lnTo>
                    <a:pt x="120" y="148"/>
                  </a:lnTo>
                  <a:lnTo>
                    <a:pt x="151" y="162"/>
                  </a:lnTo>
                  <a:lnTo>
                    <a:pt x="165" y="162"/>
                  </a:lnTo>
                  <a:lnTo>
                    <a:pt x="197" y="162"/>
                  </a:lnTo>
                  <a:lnTo>
                    <a:pt x="211" y="162"/>
                  </a:lnTo>
                  <a:lnTo>
                    <a:pt x="239" y="179"/>
                  </a:lnTo>
                  <a:lnTo>
                    <a:pt x="299" y="193"/>
                  </a:lnTo>
                  <a:lnTo>
                    <a:pt x="317" y="207"/>
                  </a:lnTo>
                  <a:lnTo>
                    <a:pt x="331" y="207"/>
                  </a:lnTo>
                  <a:lnTo>
                    <a:pt x="359" y="267"/>
                  </a:lnTo>
                  <a:lnTo>
                    <a:pt x="376" y="326"/>
                  </a:lnTo>
                  <a:lnTo>
                    <a:pt x="359" y="372"/>
                  </a:lnTo>
                  <a:lnTo>
                    <a:pt x="331" y="400"/>
                  </a:lnTo>
                  <a:lnTo>
                    <a:pt x="239" y="447"/>
                  </a:lnTo>
                  <a:lnTo>
                    <a:pt x="137" y="475"/>
                  </a:lnTo>
                  <a:lnTo>
                    <a:pt x="106" y="506"/>
                  </a:lnTo>
                  <a:lnTo>
                    <a:pt x="59" y="534"/>
                  </a:lnTo>
                  <a:lnTo>
                    <a:pt x="31" y="548"/>
                  </a:lnTo>
                  <a:lnTo>
                    <a:pt x="17" y="534"/>
                  </a:lnTo>
                  <a:lnTo>
                    <a:pt x="0" y="506"/>
                  </a:lnTo>
                  <a:lnTo>
                    <a:pt x="59" y="475"/>
                  </a:lnTo>
                  <a:lnTo>
                    <a:pt x="106" y="475"/>
                  </a:lnTo>
                  <a:lnTo>
                    <a:pt x="151" y="461"/>
                  </a:lnTo>
                  <a:lnTo>
                    <a:pt x="211" y="429"/>
                  </a:lnTo>
                  <a:lnTo>
                    <a:pt x="239" y="400"/>
                  </a:lnTo>
                  <a:lnTo>
                    <a:pt x="239" y="386"/>
                  </a:lnTo>
                  <a:lnTo>
                    <a:pt x="256" y="400"/>
                  </a:lnTo>
                  <a:lnTo>
                    <a:pt x="285" y="429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114800" y="4492800"/>
              <a:ext cx="200520" cy="81360"/>
            </a:xfrm>
            <a:custGeom>
              <a:avLst/>
              <a:gdLst/>
              <a:ahLst/>
              <a:rect l="0" t="0" r="r" b="b"/>
              <a:pathLst>
                <a:path w="557" h="226">
                  <a:moveTo>
                    <a:pt x="422" y="49"/>
                  </a:moveTo>
                  <a:lnTo>
                    <a:pt x="377" y="99"/>
                  </a:lnTo>
                  <a:lnTo>
                    <a:pt x="346" y="127"/>
                  </a:lnTo>
                  <a:lnTo>
                    <a:pt x="316" y="77"/>
                  </a:lnTo>
                  <a:lnTo>
                    <a:pt x="272" y="27"/>
                  </a:lnTo>
                  <a:lnTo>
                    <a:pt x="135" y="77"/>
                  </a:lnTo>
                  <a:lnTo>
                    <a:pt x="0" y="154"/>
                  </a:lnTo>
                  <a:lnTo>
                    <a:pt x="13" y="226"/>
                  </a:lnTo>
                  <a:lnTo>
                    <a:pt x="60" y="226"/>
                  </a:lnTo>
                  <a:lnTo>
                    <a:pt x="167" y="226"/>
                  </a:lnTo>
                  <a:lnTo>
                    <a:pt x="180" y="204"/>
                  </a:lnTo>
                  <a:lnTo>
                    <a:pt x="224" y="177"/>
                  </a:lnTo>
                  <a:lnTo>
                    <a:pt x="255" y="154"/>
                  </a:lnTo>
                  <a:lnTo>
                    <a:pt x="272" y="154"/>
                  </a:lnTo>
                  <a:lnTo>
                    <a:pt x="302" y="177"/>
                  </a:lnTo>
                  <a:lnTo>
                    <a:pt x="346" y="204"/>
                  </a:lnTo>
                  <a:lnTo>
                    <a:pt x="377" y="226"/>
                  </a:lnTo>
                  <a:lnTo>
                    <a:pt x="390" y="226"/>
                  </a:lnTo>
                  <a:lnTo>
                    <a:pt x="435" y="226"/>
                  </a:lnTo>
                  <a:lnTo>
                    <a:pt x="483" y="204"/>
                  </a:lnTo>
                  <a:lnTo>
                    <a:pt x="496" y="154"/>
                  </a:lnTo>
                  <a:lnTo>
                    <a:pt x="540" y="49"/>
                  </a:lnTo>
                  <a:lnTo>
                    <a:pt x="557" y="27"/>
                  </a:lnTo>
                  <a:lnTo>
                    <a:pt x="557" y="0"/>
                  </a:lnTo>
                  <a:lnTo>
                    <a:pt x="540" y="27"/>
                  </a:lnTo>
                  <a:lnTo>
                    <a:pt x="513" y="49"/>
                  </a:lnTo>
                  <a:lnTo>
                    <a:pt x="483" y="127"/>
                  </a:lnTo>
                  <a:lnTo>
                    <a:pt x="452" y="177"/>
                  </a:lnTo>
                  <a:lnTo>
                    <a:pt x="435" y="177"/>
                  </a:lnTo>
                  <a:lnTo>
                    <a:pt x="422" y="177"/>
                  </a:lnTo>
                  <a:lnTo>
                    <a:pt x="422" y="127"/>
                  </a:lnTo>
                  <a:lnTo>
                    <a:pt x="422" y="49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108320" y="3924360"/>
              <a:ext cx="187560" cy="170280"/>
            </a:xfrm>
            <a:custGeom>
              <a:avLst/>
              <a:gdLst/>
              <a:ahLst/>
              <a:rect l="0" t="0" r="r" b="b"/>
              <a:pathLst>
                <a:path w="521" h="473">
                  <a:moveTo>
                    <a:pt x="435" y="447"/>
                  </a:moveTo>
                  <a:lnTo>
                    <a:pt x="422" y="315"/>
                  </a:lnTo>
                  <a:lnTo>
                    <a:pt x="422" y="198"/>
                  </a:lnTo>
                  <a:lnTo>
                    <a:pt x="422" y="144"/>
                  </a:lnTo>
                  <a:lnTo>
                    <a:pt x="393" y="90"/>
                  </a:lnTo>
                  <a:lnTo>
                    <a:pt x="364" y="40"/>
                  </a:lnTo>
                  <a:lnTo>
                    <a:pt x="310" y="0"/>
                  </a:lnTo>
                  <a:lnTo>
                    <a:pt x="323" y="90"/>
                  </a:lnTo>
                  <a:lnTo>
                    <a:pt x="352" y="131"/>
                  </a:lnTo>
                  <a:lnTo>
                    <a:pt x="380" y="185"/>
                  </a:lnTo>
                  <a:lnTo>
                    <a:pt x="265" y="248"/>
                  </a:lnTo>
                  <a:lnTo>
                    <a:pt x="153" y="288"/>
                  </a:lnTo>
                  <a:lnTo>
                    <a:pt x="124" y="275"/>
                  </a:lnTo>
                  <a:lnTo>
                    <a:pt x="98" y="262"/>
                  </a:lnTo>
                  <a:lnTo>
                    <a:pt x="70" y="238"/>
                  </a:lnTo>
                  <a:lnTo>
                    <a:pt x="28" y="198"/>
                  </a:lnTo>
                  <a:lnTo>
                    <a:pt x="12" y="158"/>
                  </a:lnTo>
                  <a:lnTo>
                    <a:pt x="0" y="144"/>
                  </a:lnTo>
                  <a:lnTo>
                    <a:pt x="0" y="198"/>
                  </a:lnTo>
                  <a:lnTo>
                    <a:pt x="12" y="225"/>
                  </a:lnTo>
                  <a:lnTo>
                    <a:pt x="54" y="275"/>
                  </a:lnTo>
                  <a:lnTo>
                    <a:pt x="124" y="288"/>
                  </a:lnTo>
                  <a:lnTo>
                    <a:pt x="210" y="302"/>
                  </a:lnTo>
                  <a:lnTo>
                    <a:pt x="239" y="315"/>
                  </a:lnTo>
                  <a:lnTo>
                    <a:pt x="252" y="328"/>
                  </a:lnTo>
                  <a:lnTo>
                    <a:pt x="281" y="356"/>
                  </a:lnTo>
                  <a:lnTo>
                    <a:pt x="294" y="383"/>
                  </a:lnTo>
                  <a:lnTo>
                    <a:pt x="310" y="406"/>
                  </a:lnTo>
                  <a:lnTo>
                    <a:pt x="336" y="420"/>
                  </a:lnTo>
                  <a:lnTo>
                    <a:pt x="380" y="383"/>
                  </a:lnTo>
                  <a:lnTo>
                    <a:pt x="393" y="356"/>
                  </a:lnTo>
                  <a:lnTo>
                    <a:pt x="406" y="315"/>
                  </a:lnTo>
                  <a:lnTo>
                    <a:pt x="422" y="262"/>
                  </a:lnTo>
                  <a:lnTo>
                    <a:pt x="406" y="238"/>
                  </a:lnTo>
                  <a:lnTo>
                    <a:pt x="406" y="238"/>
                  </a:lnTo>
                  <a:lnTo>
                    <a:pt x="393" y="248"/>
                  </a:lnTo>
                  <a:lnTo>
                    <a:pt x="364" y="275"/>
                  </a:lnTo>
                  <a:lnTo>
                    <a:pt x="352" y="315"/>
                  </a:lnTo>
                  <a:lnTo>
                    <a:pt x="406" y="383"/>
                  </a:lnTo>
                  <a:lnTo>
                    <a:pt x="435" y="396"/>
                  </a:lnTo>
                  <a:lnTo>
                    <a:pt x="463" y="406"/>
                  </a:lnTo>
                  <a:lnTo>
                    <a:pt x="476" y="420"/>
                  </a:lnTo>
                  <a:lnTo>
                    <a:pt x="505" y="433"/>
                  </a:lnTo>
                  <a:lnTo>
                    <a:pt x="521" y="433"/>
                  </a:lnTo>
                  <a:lnTo>
                    <a:pt x="521" y="447"/>
                  </a:lnTo>
                  <a:lnTo>
                    <a:pt x="492" y="460"/>
                  </a:lnTo>
                  <a:lnTo>
                    <a:pt x="463" y="460"/>
                  </a:lnTo>
                  <a:lnTo>
                    <a:pt x="393" y="460"/>
                  </a:lnTo>
                  <a:lnTo>
                    <a:pt x="393" y="473"/>
                  </a:lnTo>
                  <a:lnTo>
                    <a:pt x="380" y="473"/>
                  </a:lnTo>
                  <a:lnTo>
                    <a:pt x="364" y="473"/>
                  </a:lnTo>
                  <a:lnTo>
                    <a:pt x="364" y="473"/>
                  </a:lnTo>
                  <a:lnTo>
                    <a:pt x="406" y="460"/>
                  </a:lnTo>
                  <a:lnTo>
                    <a:pt x="435" y="44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106880" y="4767120"/>
              <a:ext cx="89280" cy="236880"/>
            </a:xfrm>
            <a:custGeom>
              <a:avLst/>
              <a:gdLst/>
              <a:ahLst/>
              <a:rect l="0" t="0" r="r" b="b"/>
              <a:pathLst>
                <a:path w="248" h="658">
                  <a:moveTo>
                    <a:pt x="124" y="16"/>
                  </a:moveTo>
                  <a:lnTo>
                    <a:pt x="111" y="83"/>
                  </a:lnTo>
                  <a:lnTo>
                    <a:pt x="82" y="137"/>
                  </a:lnTo>
                  <a:lnTo>
                    <a:pt x="42" y="291"/>
                  </a:lnTo>
                  <a:lnTo>
                    <a:pt x="0" y="450"/>
                  </a:lnTo>
                  <a:lnTo>
                    <a:pt x="12" y="500"/>
                  </a:lnTo>
                  <a:lnTo>
                    <a:pt x="42" y="537"/>
                  </a:lnTo>
                  <a:lnTo>
                    <a:pt x="69" y="570"/>
                  </a:lnTo>
                  <a:lnTo>
                    <a:pt x="111" y="604"/>
                  </a:lnTo>
                  <a:lnTo>
                    <a:pt x="153" y="624"/>
                  </a:lnTo>
                  <a:lnTo>
                    <a:pt x="179" y="624"/>
                  </a:lnTo>
                  <a:lnTo>
                    <a:pt x="179" y="641"/>
                  </a:lnTo>
                  <a:lnTo>
                    <a:pt x="179" y="658"/>
                  </a:lnTo>
                  <a:lnTo>
                    <a:pt x="153" y="658"/>
                  </a:lnTo>
                  <a:lnTo>
                    <a:pt x="111" y="641"/>
                  </a:lnTo>
                  <a:lnTo>
                    <a:pt x="111" y="483"/>
                  </a:lnTo>
                  <a:lnTo>
                    <a:pt x="98" y="466"/>
                  </a:lnTo>
                  <a:lnTo>
                    <a:pt x="98" y="450"/>
                  </a:lnTo>
                  <a:lnTo>
                    <a:pt x="124" y="433"/>
                  </a:lnTo>
                  <a:lnTo>
                    <a:pt x="166" y="396"/>
                  </a:lnTo>
                  <a:lnTo>
                    <a:pt x="209" y="379"/>
                  </a:lnTo>
                  <a:lnTo>
                    <a:pt x="235" y="379"/>
                  </a:lnTo>
                  <a:lnTo>
                    <a:pt x="248" y="346"/>
                  </a:lnTo>
                  <a:lnTo>
                    <a:pt x="248" y="311"/>
                  </a:lnTo>
                  <a:lnTo>
                    <a:pt x="235" y="291"/>
                  </a:lnTo>
                  <a:lnTo>
                    <a:pt x="193" y="274"/>
                  </a:lnTo>
                  <a:lnTo>
                    <a:pt x="166" y="291"/>
                  </a:lnTo>
                  <a:lnTo>
                    <a:pt x="153" y="328"/>
                  </a:lnTo>
                  <a:lnTo>
                    <a:pt x="124" y="379"/>
                  </a:lnTo>
                  <a:lnTo>
                    <a:pt x="82" y="328"/>
                  </a:lnTo>
                  <a:lnTo>
                    <a:pt x="69" y="311"/>
                  </a:lnTo>
                  <a:lnTo>
                    <a:pt x="98" y="274"/>
                  </a:lnTo>
                  <a:lnTo>
                    <a:pt x="137" y="241"/>
                  </a:lnTo>
                  <a:lnTo>
                    <a:pt x="153" y="224"/>
                  </a:lnTo>
                  <a:lnTo>
                    <a:pt x="166" y="207"/>
                  </a:lnTo>
                  <a:lnTo>
                    <a:pt x="222" y="0"/>
                  </a:lnTo>
                  <a:lnTo>
                    <a:pt x="209" y="33"/>
                  </a:lnTo>
                  <a:lnTo>
                    <a:pt x="166" y="67"/>
                  </a:lnTo>
                  <a:lnTo>
                    <a:pt x="137" y="67"/>
                  </a:lnTo>
                  <a:lnTo>
                    <a:pt x="124" y="50"/>
                  </a:lnTo>
                  <a:lnTo>
                    <a:pt x="124" y="16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354560" y="5033880"/>
              <a:ext cx="70200" cy="173520"/>
            </a:xfrm>
            <a:custGeom>
              <a:avLst/>
              <a:gdLst/>
              <a:ahLst/>
              <a:rect l="0" t="0" r="r" b="b"/>
              <a:pathLst>
                <a:path w="195" h="482">
                  <a:moveTo>
                    <a:pt x="98" y="71"/>
                  </a:moveTo>
                  <a:lnTo>
                    <a:pt x="69" y="125"/>
                  </a:lnTo>
                  <a:lnTo>
                    <a:pt x="54" y="161"/>
                  </a:lnTo>
                  <a:lnTo>
                    <a:pt x="42" y="197"/>
                  </a:lnTo>
                  <a:lnTo>
                    <a:pt x="27" y="249"/>
                  </a:lnTo>
                  <a:lnTo>
                    <a:pt x="15" y="285"/>
                  </a:lnTo>
                  <a:lnTo>
                    <a:pt x="0" y="321"/>
                  </a:lnTo>
                  <a:lnTo>
                    <a:pt x="0" y="321"/>
                  </a:lnTo>
                  <a:lnTo>
                    <a:pt x="27" y="374"/>
                  </a:lnTo>
                  <a:lnTo>
                    <a:pt x="54" y="430"/>
                  </a:lnTo>
                  <a:lnTo>
                    <a:pt x="140" y="482"/>
                  </a:lnTo>
                  <a:lnTo>
                    <a:pt x="113" y="446"/>
                  </a:lnTo>
                  <a:lnTo>
                    <a:pt x="98" y="410"/>
                  </a:lnTo>
                  <a:lnTo>
                    <a:pt x="98" y="394"/>
                  </a:lnTo>
                  <a:lnTo>
                    <a:pt x="125" y="337"/>
                  </a:lnTo>
                  <a:lnTo>
                    <a:pt x="98" y="321"/>
                  </a:lnTo>
                  <a:lnTo>
                    <a:pt x="98" y="285"/>
                  </a:lnTo>
                  <a:lnTo>
                    <a:pt x="113" y="269"/>
                  </a:lnTo>
                  <a:lnTo>
                    <a:pt x="140" y="249"/>
                  </a:lnTo>
                  <a:lnTo>
                    <a:pt x="167" y="213"/>
                  </a:lnTo>
                  <a:lnTo>
                    <a:pt x="195" y="177"/>
                  </a:lnTo>
                  <a:lnTo>
                    <a:pt x="195" y="161"/>
                  </a:lnTo>
                  <a:lnTo>
                    <a:pt x="195" y="125"/>
                  </a:lnTo>
                  <a:lnTo>
                    <a:pt x="182" y="71"/>
                  </a:lnTo>
                  <a:lnTo>
                    <a:pt x="140" y="19"/>
                  </a:lnTo>
                  <a:lnTo>
                    <a:pt x="113" y="0"/>
                  </a:lnTo>
                  <a:lnTo>
                    <a:pt x="113" y="19"/>
                  </a:lnTo>
                  <a:lnTo>
                    <a:pt x="98" y="35"/>
                  </a:lnTo>
                  <a:lnTo>
                    <a:pt x="98" y="71"/>
                  </a:lnTo>
                  <a:lnTo>
                    <a:pt x="98" y="88"/>
                  </a:lnTo>
                  <a:lnTo>
                    <a:pt x="98" y="88"/>
                  </a:lnTo>
                  <a:lnTo>
                    <a:pt x="98" y="7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221000" y="4422600"/>
              <a:ext cx="351360" cy="225720"/>
            </a:xfrm>
            <a:custGeom>
              <a:avLst/>
              <a:gdLst/>
              <a:ahLst/>
              <a:rect l="0" t="0" r="r" b="b"/>
              <a:pathLst>
                <a:path w="976" h="627">
                  <a:moveTo>
                    <a:pt x="561" y="145"/>
                  </a:moveTo>
                  <a:lnTo>
                    <a:pt x="534" y="286"/>
                  </a:lnTo>
                  <a:lnTo>
                    <a:pt x="503" y="359"/>
                  </a:lnTo>
                  <a:lnTo>
                    <a:pt x="457" y="413"/>
                  </a:lnTo>
                  <a:lnTo>
                    <a:pt x="399" y="394"/>
                  </a:lnTo>
                  <a:lnTo>
                    <a:pt x="371" y="375"/>
                  </a:lnTo>
                  <a:lnTo>
                    <a:pt x="325" y="375"/>
                  </a:lnTo>
                  <a:lnTo>
                    <a:pt x="267" y="394"/>
                  </a:lnTo>
                  <a:lnTo>
                    <a:pt x="208" y="447"/>
                  </a:lnTo>
                  <a:lnTo>
                    <a:pt x="134" y="466"/>
                  </a:lnTo>
                  <a:lnTo>
                    <a:pt x="0" y="539"/>
                  </a:lnTo>
                  <a:lnTo>
                    <a:pt x="0" y="573"/>
                  </a:lnTo>
                  <a:lnTo>
                    <a:pt x="15" y="608"/>
                  </a:lnTo>
                  <a:lnTo>
                    <a:pt x="73" y="627"/>
                  </a:lnTo>
                  <a:lnTo>
                    <a:pt x="147" y="608"/>
                  </a:lnTo>
                  <a:lnTo>
                    <a:pt x="208" y="592"/>
                  </a:lnTo>
                  <a:lnTo>
                    <a:pt x="356" y="539"/>
                  </a:lnTo>
                  <a:lnTo>
                    <a:pt x="488" y="466"/>
                  </a:lnTo>
                  <a:lnTo>
                    <a:pt x="534" y="466"/>
                  </a:lnTo>
                  <a:lnTo>
                    <a:pt x="577" y="485"/>
                  </a:lnTo>
                  <a:lnTo>
                    <a:pt x="620" y="501"/>
                  </a:lnTo>
                  <a:lnTo>
                    <a:pt x="650" y="539"/>
                  </a:lnTo>
                  <a:lnTo>
                    <a:pt x="708" y="573"/>
                  </a:lnTo>
                  <a:lnTo>
                    <a:pt x="724" y="539"/>
                  </a:lnTo>
                  <a:lnTo>
                    <a:pt x="740" y="520"/>
                  </a:lnTo>
                  <a:lnTo>
                    <a:pt x="771" y="520"/>
                  </a:lnTo>
                  <a:lnTo>
                    <a:pt x="814" y="520"/>
                  </a:lnTo>
                  <a:lnTo>
                    <a:pt x="844" y="520"/>
                  </a:lnTo>
                  <a:lnTo>
                    <a:pt x="872" y="485"/>
                  </a:lnTo>
                  <a:lnTo>
                    <a:pt x="902" y="413"/>
                  </a:lnTo>
                  <a:lnTo>
                    <a:pt x="933" y="321"/>
                  </a:lnTo>
                  <a:lnTo>
                    <a:pt x="961" y="232"/>
                  </a:lnTo>
                  <a:lnTo>
                    <a:pt x="976" y="198"/>
                  </a:lnTo>
                  <a:lnTo>
                    <a:pt x="976" y="179"/>
                  </a:lnTo>
                  <a:lnTo>
                    <a:pt x="933" y="160"/>
                  </a:lnTo>
                  <a:lnTo>
                    <a:pt x="872" y="145"/>
                  </a:lnTo>
                  <a:lnTo>
                    <a:pt x="814" y="126"/>
                  </a:lnTo>
                  <a:lnTo>
                    <a:pt x="783" y="126"/>
                  </a:lnTo>
                  <a:lnTo>
                    <a:pt x="755" y="106"/>
                  </a:lnTo>
                  <a:lnTo>
                    <a:pt x="708" y="91"/>
                  </a:lnTo>
                  <a:lnTo>
                    <a:pt x="708" y="53"/>
                  </a:lnTo>
                  <a:lnTo>
                    <a:pt x="696" y="19"/>
                  </a:lnTo>
                  <a:lnTo>
                    <a:pt x="635" y="0"/>
                  </a:lnTo>
                  <a:lnTo>
                    <a:pt x="561" y="0"/>
                  </a:lnTo>
                  <a:lnTo>
                    <a:pt x="503" y="0"/>
                  </a:lnTo>
                  <a:lnTo>
                    <a:pt x="518" y="38"/>
                  </a:lnTo>
                  <a:lnTo>
                    <a:pt x="518" y="53"/>
                  </a:lnTo>
                  <a:lnTo>
                    <a:pt x="561" y="145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205160" y="3508200"/>
              <a:ext cx="93960" cy="73440"/>
            </a:xfrm>
            <a:custGeom>
              <a:avLst/>
              <a:gdLst/>
              <a:ahLst/>
              <a:rect l="0" t="0" r="r" b="b"/>
              <a:pathLst>
                <a:path w="261" h="204">
                  <a:moveTo>
                    <a:pt x="208" y="121"/>
                  </a:moveTo>
                  <a:lnTo>
                    <a:pt x="208" y="85"/>
                  </a:lnTo>
                  <a:lnTo>
                    <a:pt x="177" y="46"/>
                  </a:lnTo>
                  <a:lnTo>
                    <a:pt x="123" y="23"/>
                  </a:lnTo>
                  <a:lnTo>
                    <a:pt x="70" y="0"/>
                  </a:lnTo>
                  <a:lnTo>
                    <a:pt x="39" y="15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6" y="54"/>
                  </a:lnTo>
                  <a:lnTo>
                    <a:pt x="79" y="78"/>
                  </a:lnTo>
                  <a:lnTo>
                    <a:pt x="137" y="106"/>
                  </a:lnTo>
                  <a:lnTo>
                    <a:pt x="150" y="144"/>
                  </a:lnTo>
                  <a:lnTo>
                    <a:pt x="150" y="158"/>
                  </a:lnTo>
                  <a:lnTo>
                    <a:pt x="164" y="174"/>
                  </a:lnTo>
                  <a:lnTo>
                    <a:pt x="177" y="189"/>
                  </a:lnTo>
                  <a:lnTo>
                    <a:pt x="208" y="197"/>
                  </a:lnTo>
                  <a:lnTo>
                    <a:pt x="221" y="204"/>
                  </a:lnTo>
                  <a:lnTo>
                    <a:pt x="234" y="204"/>
                  </a:lnTo>
                  <a:lnTo>
                    <a:pt x="261" y="189"/>
                  </a:lnTo>
                  <a:lnTo>
                    <a:pt x="261" y="174"/>
                  </a:lnTo>
                  <a:lnTo>
                    <a:pt x="247" y="166"/>
                  </a:lnTo>
                  <a:lnTo>
                    <a:pt x="234" y="137"/>
                  </a:lnTo>
                  <a:lnTo>
                    <a:pt x="221" y="129"/>
                  </a:lnTo>
                  <a:lnTo>
                    <a:pt x="208" y="129"/>
                  </a:lnTo>
                  <a:lnTo>
                    <a:pt x="208" y="12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459320" y="3584520"/>
              <a:ext cx="113040" cy="106560"/>
            </a:xfrm>
            <a:custGeom>
              <a:avLst/>
              <a:gdLst/>
              <a:ahLst/>
              <a:rect l="0" t="0" r="r" b="b"/>
              <a:pathLst>
                <a:path w="314" h="296">
                  <a:moveTo>
                    <a:pt x="74" y="232"/>
                  </a:moveTo>
                  <a:lnTo>
                    <a:pt x="136" y="178"/>
                  </a:lnTo>
                  <a:lnTo>
                    <a:pt x="199" y="113"/>
                  </a:lnTo>
                  <a:lnTo>
                    <a:pt x="199" y="79"/>
                  </a:lnTo>
                  <a:lnTo>
                    <a:pt x="199" y="46"/>
                  </a:lnTo>
                  <a:lnTo>
                    <a:pt x="177" y="23"/>
                  </a:lnTo>
                  <a:lnTo>
                    <a:pt x="136" y="0"/>
                  </a:lnTo>
                  <a:lnTo>
                    <a:pt x="123" y="15"/>
                  </a:lnTo>
                  <a:lnTo>
                    <a:pt x="97" y="23"/>
                  </a:lnTo>
                  <a:lnTo>
                    <a:pt x="88" y="41"/>
                  </a:lnTo>
                  <a:lnTo>
                    <a:pt x="88" y="46"/>
                  </a:lnTo>
                  <a:lnTo>
                    <a:pt x="149" y="64"/>
                  </a:lnTo>
                  <a:lnTo>
                    <a:pt x="212" y="79"/>
                  </a:lnTo>
                  <a:lnTo>
                    <a:pt x="186" y="87"/>
                  </a:lnTo>
                  <a:lnTo>
                    <a:pt x="177" y="87"/>
                  </a:lnTo>
                  <a:lnTo>
                    <a:pt x="149" y="87"/>
                  </a:lnTo>
                  <a:lnTo>
                    <a:pt x="136" y="87"/>
                  </a:lnTo>
                  <a:lnTo>
                    <a:pt x="114" y="97"/>
                  </a:lnTo>
                  <a:lnTo>
                    <a:pt x="61" y="105"/>
                  </a:lnTo>
                  <a:lnTo>
                    <a:pt x="48" y="113"/>
                  </a:lnTo>
                  <a:lnTo>
                    <a:pt x="35" y="113"/>
                  </a:lnTo>
                  <a:lnTo>
                    <a:pt x="13" y="143"/>
                  </a:lnTo>
                  <a:lnTo>
                    <a:pt x="0" y="178"/>
                  </a:lnTo>
                  <a:lnTo>
                    <a:pt x="13" y="201"/>
                  </a:lnTo>
                  <a:lnTo>
                    <a:pt x="35" y="216"/>
                  </a:lnTo>
                  <a:lnTo>
                    <a:pt x="114" y="242"/>
                  </a:lnTo>
                  <a:lnTo>
                    <a:pt x="199" y="257"/>
                  </a:lnTo>
                  <a:lnTo>
                    <a:pt x="225" y="273"/>
                  </a:lnTo>
                  <a:lnTo>
                    <a:pt x="265" y="288"/>
                  </a:lnTo>
                  <a:lnTo>
                    <a:pt x="287" y="296"/>
                  </a:lnTo>
                  <a:lnTo>
                    <a:pt x="300" y="288"/>
                  </a:lnTo>
                  <a:lnTo>
                    <a:pt x="314" y="273"/>
                  </a:lnTo>
                  <a:lnTo>
                    <a:pt x="265" y="257"/>
                  </a:lnTo>
                  <a:lnTo>
                    <a:pt x="225" y="257"/>
                  </a:lnTo>
                  <a:lnTo>
                    <a:pt x="186" y="250"/>
                  </a:lnTo>
                  <a:lnTo>
                    <a:pt x="136" y="232"/>
                  </a:lnTo>
                  <a:lnTo>
                    <a:pt x="114" y="216"/>
                  </a:lnTo>
                  <a:lnTo>
                    <a:pt x="114" y="209"/>
                  </a:lnTo>
                  <a:lnTo>
                    <a:pt x="97" y="216"/>
                  </a:lnTo>
                  <a:lnTo>
                    <a:pt x="74" y="23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343400" y="3808440"/>
              <a:ext cx="174960" cy="28800"/>
            </a:xfrm>
            <a:custGeom>
              <a:avLst/>
              <a:gdLst/>
              <a:ahLst/>
              <a:rect l="0" t="0" r="r" b="b"/>
              <a:pathLst>
                <a:path w="486" h="80">
                  <a:moveTo>
                    <a:pt x="119" y="18"/>
                  </a:moveTo>
                  <a:lnTo>
                    <a:pt x="158" y="34"/>
                  </a:lnTo>
                  <a:lnTo>
                    <a:pt x="185" y="45"/>
                  </a:lnTo>
                  <a:lnTo>
                    <a:pt x="211" y="26"/>
                  </a:lnTo>
                  <a:lnTo>
                    <a:pt x="247" y="10"/>
                  </a:lnTo>
                  <a:lnTo>
                    <a:pt x="367" y="26"/>
                  </a:lnTo>
                  <a:lnTo>
                    <a:pt x="486" y="56"/>
                  </a:lnTo>
                  <a:lnTo>
                    <a:pt x="477" y="80"/>
                  </a:lnTo>
                  <a:lnTo>
                    <a:pt x="433" y="80"/>
                  </a:lnTo>
                  <a:lnTo>
                    <a:pt x="340" y="80"/>
                  </a:lnTo>
                  <a:lnTo>
                    <a:pt x="331" y="72"/>
                  </a:lnTo>
                  <a:lnTo>
                    <a:pt x="292" y="61"/>
                  </a:lnTo>
                  <a:lnTo>
                    <a:pt x="265" y="56"/>
                  </a:lnTo>
                  <a:lnTo>
                    <a:pt x="247" y="56"/>
                  </a:lnTo>
                  <a:lnTo>
                    <a:pt x="220" y="61"/>
                  </a:lnTo>
                  <a:lnTo>
                    <a:pt x="185" y="72"/>
                  </a:lnTo>
                  <a:lnTo>
                    <a:pt x="158" y="80"/>
                  </a:lnTo>
                  <a:lnTo>
                    <a:pt x="145" y="80"/>
                  </a:lnTo>
                  <a:lnTo>
                    <a:pt x="105" y="80"/>
                  </a:lnTo>
                  <a:lnTo>
                    <a:pt x="66" y="72"/>
                  </a:lnTo>
                  <a:lnTo>
                    <a:pt x="52" y="56"/>
                  </a:lnTo>
                  <a:lnTo>
                    <a:pt x="13" y="18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39" y="18"/>
                  </a:lnTo>
                  <a:lnTo>
                    <a:pt x="66" y="45"/>
                  </a:lnTo>
                  <a:lnTo>
                    <a:pt x="92" y="61"/>
                  </a:lnTo>
                  <a:lnTo>
                    <a:pt x="105" y="61"/>
                  </a:lnTo>
                  <a:lnTo>
                    <a:pt x="119" y="61"/>
                  </a:lnTo>
                  <a:lnTo>
                    <a:pt x="119" y="45"/>
                  </a:lnTo>
                  <a:lnTo>
                    <a:pt x="119" y="18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343400" y="3467160"/>
              <a:ext cx="173520" cy="97200"/>
            </a:xfrm>
            <a:custGeom>
              <a:avLst/>
              <a:gdLst/>
              <a:ahLst/>
              <a:rect l="0" t="0" r="r" b="b"/>
              <a:pathLst>
                <a:path w="482" h="270">
                  <a:moveTo>
                    <a:pt x="79" y="255"/>
                  </a:moveTo>
                  <a:lnTo>
                    <a:pt x="92" y="179"/>
                  </a:lnTo>
                  <a:lnTo>
                    <a:pt x="92" y="112"/>
                  </a:lnTo>
                  <a:lnTo>
                    <a:pt x="92" y="81"/>
                  </a:lnTo>
                  <a:lnTo>
                    <a:pt x="119" y="51"/>
                  </a:lnTo>
                  <a:lnTo>
                    <a:pt x="146" y="20"/>
                  </a:lnTo>
                  <a:lnTo>
                    <a:pt x="195" y="0"/>
                  </a:lnTo>
                  <a:lnTo>
                    <a:pt x="186" y="51"/>
                  </a:lnTo>
                  <a:lnTo>
                    <a:pt x="159" y="73"/>
                  </a:lnTo>
                  <a:lnTo>
                    <a:pt x="133" y="104"/>
                  </a:lnTo>
                  <a:lnTo>
                    <a:pt x="239" y="140"/>
                  </a:lnTo>
                  <a:lnTo>
                    <a:pt x="340" y="163"/>
                  </a:lnTo>
                  <a:lnTo>
                    <a:pt x="368" y="156"/>
                  </a:lnTo>
                  <a:lnTo>
                    <a:pt x="394" y="148"/>
                  </a:lnTo>
                  <a:lnTo>
                    <a:pt x="420" y="135"/>
                  </a:lnTo>
                  <a:lnTo>
                    <a:pt x="456" y="112"/>
                  </a:lnTo>
                  <a:lnTo>
                    <a:pt x="473" y="88"/>
                  </a:lnTo>
                  <a:lnTo>
                    <a:pt x="482" y="81"/>
                  </a:lnTo>
                  <a:lnTo>
                    <a:pt x="482" y="112"/>
                  </a:lnTo>
                  <a:lnTo>
                    <a:pt x="473" y="127"/>
                  </a:lnTo>
                  <a:lnTo>
                    <a:pt x="434" y="156"/>
                  </a:lnTo>
                  <a:lnTo>
                    <a:pt x="368" y="163"/>
                  </a:lnTo>
                  <a:lnTo>
                    <a:pt x="287" y="171"/>
                  </a:lnTo>
                  <a:lnTo>
                    <a:pt x="261" y="179"/>
                  </a:lnTo>
                  <a:lnTo>
                    <a:pt x="247" y="187"/>
                  </a:lnTo>
                  <a:lnTo>
                    <a:pt x="221" y="202"/>
                  </a:lnTo>
                  <a:lnTo>
                    <a:pt x="212" y="219"/>
                  </a:lnTo>
                  <a:lnTo>
                    <a:pt x="195" y="232"/>
                  </a:lnTo>
                  <a:lnTo>
                    <a:pt x="172" y="239"/>
                  </a:lnTo>
                  <a:lnTo>
                    <a:pt x="133" y="219"/>
                  </a:lnTo>
                  <a:lnTo>
                    <a:pt x="119" y="202"/>
                  </a:lnTo>
                  <a:lnTo>
                    <a:pt x="105" y="179"/>
                  </a:lnTo>
                  <a:lnTo>
                    <a:pt x="92" y="148"/>
                  </a:lnTo>
                  <a:lnTo>
                    <a:pt x="105" y="135"/>
                  </a:lnTo>
                  <a:lnTo>
                    <a:pt x="105" y="135"/>
                  </a:lnTo>
                  <a:lnTo>
                    <a:pt x="119" y="140"/>
                  </a:lnTo>
                  <a:lnTo>
                    <a:pt x="146" y="156"/>
                  </a:lnTo>
                  <a:lnTo>
                    <a:pt x="159" y="179"/>
                  </a:lnTo>
                  <a:lnTo>
                    <a:pt x="105" y="219"/>
                  </a:lnTo>
                  <a:lnTo>
                    <a:pt x="79" y="227"/>
                  </a:lnTo>
                  <a:lnTo>
                    <a:pt x="52" y="232"/>
                  </a:lnTo>
                  <a:lnTo>
                    <a:pt x="39" y="239"/>
                  </a:lnTo>
                  <a:lnTo>
                    <a:pt x="13" y="247"/>
                  </a:lnTo>
                  <a:lnTo>
                    <a:pt x="0" y="247"/>
                  </a:lnTo>
                  <a:lnTo>
                    <a:pt x="0" y="255"/>
                  </a:lnTo>
                  <a:lnTo>
                    <a:pt x="26" y="263"/>
                  </a:lnTo>
                  <a:lnTo>
                    <a:pt x="52" y="263"/>
                  </a:lnTo>
                  <a:lnTo>
                    <a:pt x="119" y="263"/>
                  </a:lnTo>
                  <a:lnTo>
                    <a:pt x="119" y="270"/>
                  </a:lnTo>
                  <a:lnTo>
                    <a:pt x="133" y="270"/>
                  </a:lnTo>
                  <a:lnTo>
                    <a:pt x="146" y="270"/>
                  </a:lnTo>
                  <a:lnTo>
                    <a:pt x="146" y="270"/>
                  </a:lnTo>
                  <a:lnTo>
                    <a:pt x="105" y="263"/>
                  </a:lnTo>
                  <a:lnTo>
                    <a:pt x="79" y="255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48160" y="3960720"/>
              <a:ext cx="81360" cy="133560"/>
            </a:xfrm>
            <a:custGeom>
              <a:avLst/>
              <a:gdLst/>
              <a:ahLst/>
              <a:rect l="0" t="0" r="r" b="b"/>
              <a:pathLst>
                <a:path w="226" h="371">
                  <a:moveTo>
                    <a:pt x="115" y="10"/>
                  </a:moveTo>
                  <a:lnTo>
                    <a:pt x="124" y="46"/>
                  </a:lnTo>
                  <a:lnTo>
                    <a:pt x="150" y="77"/>
                  </a:lnTo>
                  <a:lnTo>
                    <a:pt x="187" y="164"/>
                  </a:lnTo>
                  <a:lnTo>
                    <a:pt x="226" y="253"/>
                  </a:lnTo>
                  <a:lnTo>
                    <a:pt x="213" y="281"/>
                  </a:lnTo>
                  <a:lnTo>
                    <a:pt x="187" y="304"/>
                  </a:lnTo>
                  <a:lnTo>
                    <a:pt x="164" y="322"/>
                  </a:lnTo>
                  <a:lnTo>
                    <a:pt x="124" y="340"/>
                  </a:lnTo>
                  <a:lnTo>
                    <a:pt x="89" y="353"/>
                  </a:lnTo>
                  <a:lnTo>
                    <a:pt x="62" y="353"/>
                  </a:lnTo>
                  <a:lnTo>
                    <a:pt x="62" y="361"/>
                  </a:lnTo>
                  <a:lnTo>
                    <a:pt x="62" y="371"/>
                  </a:lnTo>
                  <a:lnTo>
                    <a:pt x="89" y="371"/>
                  </a:lnTo>
                  <a:lnTo>
                    <a:pt x="124" y="361"/>
                  </a:lnTo>
                  <a:lnTo>
                    <a:pt x="124" y="273"/>
                  </a:lnTo>
                  <a:lnTo>
                    <a:pt x="137" y="263"/>
                  </a:lnTo>
                  <a:lnTo>
                    <a:pt x="137" y="253"/>
                  </a:lnTo>
                  <a:lnTo>
                    <a:pt x="115" y="245"/>
                  </a:lnTo>
                  <a:lnTo>
                    <a:pt x="75" y="224"/>
                  </a:lnTo>
                  <a:lnTo>
                    <a:pt x="35" y="214"/>
                  </a:lnTo>
                  <a:lnTo>
                    <a:pt x="13" y="214"/>
                  </a:lnTo>
                  <a:lnTo>
                    <a:pt x="0" y="196"/>
                  </a:lnTo>
                  <a:lnTo>
                    <a:pt x="0" y="174"/>
                  </a:lnTo>
                  <a:lnTo>
                    <a:pt x="13" y="164"/>
                  </a:lnTo>
                  <a:lnTo>
                    <a:pt x="52" y="154"/>
                  </a:lnTo>
                  <a:lnTo>
                    <a:pt x="75" y="164"/>
                  </a:lnTo>
                  <a:lnTo>
                    <a:pt x="89" y="186"/>
                  </a:lnTo>
                  <a:lnTo>
                    <a:pt x="115" y="214"/>
                  </a:lnTo>
                  <a:lnTo>
                    <a:pt x="150" y="186"/>
                  </a:lnTo>
                  <a:lnTo>
                    <a:pt x="164" y="174"/>
                  </a:lnTo>
                  <a:lnTo>
                    <a:pt x="137" y="154"/>
                  </a:lnTo>
                  <a:lnTo>
                    <a:pt x="102" y="136"/>
                  </a:lnTo>
                  <a:lnTo>
                    <a:pt x="89" y="126"/>
                  </a:lnTo>
                  <a:lnTo>
                    <a:pt x="75" y="118"/>
                  </a:lnTo>
                  <a:lnTo>
                    <a:pt x="26" y="0"/>
                  </a:lnTo>
                  <a:lnTo>
                    <a:pt x="35" y="18"/>
                  </a:lnTo>
                  <a:lnTo>
                    <a:pt x="75" y="38"/>
                  </a:lnTo>
                  <a:lnTo>
                    <a:pt x="102" y="38"/>
                  </a:lnTo>
                  <a:lnTo>
                    <a:pt x="115" y="28"/>
                  </a:lnTo>
                  <a:lnTo>
                    <a:pt x="115" y="1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216320" y="4116240"/>
              <a:ext cx="66960" cy="100440"/>
            </a:xfrm>
            <a:custGeom>
              <a:avLst/>
              <a:gdLst/>
              <a:ahLst/>
              <a:rect l="0" t="0" r="r" b="b"/>
              <a:pathLst>
                <a:path w="186" h="279">
                  <a:moveTo>
                    <a:pt x="92" y="41"/>
                  </a:moveTo>
                  <a:lnTo>
                    <a:pt x="120" y="73"/>
                  </a:lnTo>
                  <a:lnTo>
                    <a:pt x="133" y="93"/>
                  </a:lnTo>
                  <a:lnTo>
                    <a:pt x="146" y="114"/>
                  </a:lnTo>
                  <a:lnTo>
                    <a:pt x="159" y="145"/>
                  </a:lnTo>
                  <a:lnTo>
                    <a:pt x="172" y="165"/>
                  </a:lnTo>
                  <a:lnTo>
                    <a:pt x="186" y="186"/>
                  </a:lnTo>
                  <a:lnTo>
                    <a:pt x="186" y="186"/>
                  </a:lnTo>
                  <a:lnTo>
                    <a:pt x="159" y="218"/>
                  </a:lnTo>
                  <a:lnTo>
                    <a:pt x="133" y="248"/>
                  </a:lnTo>
                  <a:lnTo>
                    <a:pt x="52" y="279"/>
                  </a:lnTo>
                  <a:lnTo>
                    <a:pt x="79" y="259"/>
                  </a:lnTo>
                  <a:lnTo>
                    <a:pt x="92" y="238"/>
                  </a:lnTo>
                  <a:lnTo>
                    <a:pt x="92" y="228"/>
                  </a:lnTo>
                  <a:lnTo>
                    <a:pt x="66" y="196"/>
                  </a:lnTo>
                  <a:lnTo>
                    <a:pt x="92" y="186"/>
                  </a:lnTo>
                  <a:lnTo>
                    <a:pt x="92" y="165"/>
                  </a:lnTo>
                  <a:lnTo>
                    <a:pt x="79" y="155"/>
                  </a:lnTo>
                  <a:lnTo>
                    <a:pt x="52" y="145"/>
                  </a:lnTo>
                  <a:lnTo>
                    <a:pt x="26" y="124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73"/>
                  </a:lnTo>
                  <a:lnTo>
                    <a:pt x="8" y="41"/>
                  </a:lnTo>
                  <a:lnTo>
                    <a:pt x="52" y="10"/>
                  </a:lnTo>
                  <a:lnTo>
                    <a:pt x="79" y="0"/>
                  </a:lnTo>
                  <a:lnTo>
                    <a:pt x="79" y="10"/>
                  </a:lnTo>
                  <a:lnTo>
                    <a:pt x="92" y="20"/>
                  </a:lnTo>
                  <a:lnTo>
                    <a:pt x="92" y="41"/>
                  </a:lnTo>
                  <a:lnTo>
                    <a:pt x="92" y="51"/>
                  </a:lnTo>
                  <a:lnTo>
                    <a:pt x="92" y="51"/>
                  </a:lnTo>
                  <a:lnTo>
                    <a:pt x="92" y="4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64040" y="3768840"/>
              <a:ext cx="340200" cy="113040"/>
            </a:xfrm>
            <a:custGeom>
              <a:avLst/>
              <a:gdLst/>
              <a:ahLst/>
              <a:rect l="0" t="0" r="r" b="b"/>
              <a:pathLst>
                <a:path w="945" h="314">
                  <a:moveTo>
                    <a:pt x="402" y="72"/>
                  </a:moveTo>
                  <a:lnTo>
                    <a:pt x="428" y="142"/>
                  </a:lnTo>
                  <a:lnTo>
                    <a:pt x="459" y="179"/>
                  </a:lnTo>
                  <a:lnTo>
                    <a:pt x="503" y="208"/>
                  </a:lnTo>
                  <a:lnTo>
                    <a:pt x="556" y="197"/>
                  </a:lnTo>
                  <a:lnTo>
                    <a:pt x="587" y="187"/>
                  </a:lnTo>
                  <a:lnTo>
                    <a:pt x="631" y="187"/>
                  </a:lnTo>
                  <a:lnTo>
                    <a:pt x="684" y="197"/>
                  </a:lnTo>
                  <a:lnTo>
                    <a:pt x="742" y="223"/>
                  </a:lnTo>
                  <a:lnTo>
                    <a:pt x="813" y="233"/>
                  </a:lnTo>
                  <a:lnTo>
                    <a:pt x="945" y="270"/>
                  </a:lnTo>
                  <a:lnTo>
                    <a:pt x="945" y="288"/>
                  </a:lnTo>
                  <a:lnTo>
                    <a:pt x="932" y="303"/>
                  </a:lnTo>
                  <a:lnTo>
                    <a:pt x="875" y="314"/>
                  </a:lnTo>
                  <a:lnTo>
                    <a:pt x="804" y="303"/>
                  </a:lnTo>
                  <a:lnTo>
                    <a:pt x="742" y="295"/>
                  </a:lnTo>
                  <a:lnTo>
                    <a:pt x="600" y="270"/>
                  </a:lnTo>
                  <a:lnTo>
                    <a:pt x="472" y="233"/>
                  </a:lnTo>
                  <a:lnTo>
                    <a:pt x="428" y="233"/>
                  </a:lnTo>
                  <a:lnTo>
                    <a:pt x="384" y="244"/>
                  </a:lnTo>
                  <a:lnTo>
                    <a:pt x="344" y="251"/>
                  </a:lnTo>
                  <a:lnTo>
                    <a:pt x="314" y="270"/>
                  </a:lnTo>
                  <a:lnTo>
                    <a:pt x="256" y="288"/>
                  </a:lnTo>
                  <a:lnTo>
                    <a:pt x="243" y="270"/>
                  </a:lnTo>
                  <a:lnTo>
                    <a:pt x="229" y="259"/>
                  </a:lnTo>
                  <a:lnTo>
                    <a:pt x="198" y="259"/>
                  </a:lnTo>
                  <a:lnTo>
                    <a:pt x="158" y="259"/>
                  </a:lnTo>
                  <a:lnTo>
                    <a:pt x="127" y="259"/>
                  </a:lnTo>
                  <a:lnTo>
                    <a:pt x="101" y="244"/>
                  </a:lnTo>
                  <a:lnTo>
                    <a:pt x="70" y="208"/>
                  </a:lnTo>
                  <a:lnTo>
                    <a:pt x="39" y="161"/>
                  </a:lnTo>
                  <a:lnTo>
                    <a:pt x="13" y="116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39" y="80"/>
                  </a:lnTo>
                  <a:lnTo>
                    <a:pt x="101" y="72"/>
                  </a:lnTo>
                  <a:lnTo>
                    <a:pt x="158" y="62"/>
                  </a:lnTo>
                  <a:lnTo>
                    <a:pt x="185" y="62"/>
                  </a:lnTo>
                  <a:lnTo>
                    <a:pt x="211" y="54"/>
                  </a:lnTo>
                  <a:lnTo>
                    <a:pt x="256" y="46"/>
                  </a:lnTo>
                  <a:lnTo>
                    <a:pt x="256" y="25"/>
                  </a:lnTo>
                  <a:lnTo>
                    <a:pt x="269" y="10"/>
                  </a:lnTo>
                  <a:lnTo>
                    <a:pt x="331" y="0"/>
                  </a:lnTo>
                  <a:lnTo>
                    <a:pt x="402" y="0"/>
                  </a:lnTo>
                  <a:lnTo>
                    <a:pt x="459" y="0"/>
                  </a:lnTo>
                  <a:lnTo>
                    <a:pt x="441" y="18"/>
                  </a:lnTo>
                  <a:lnTo>
                    <a:pt x="441" y="25"/>
                  </a:lnTo>
                  <a:lnTo>
                    <a:pt x="402" y="7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"/>
          <p:cNvSpPr txBox="1"/>
          <p:nvPr/>
        </p:nvSpPr>
        <p:spPr>
          <a:xfrm>
            <a:off x="304920" y="457200"/>
            <a:ext cx="7391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ing : Damn Shocking 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4417920" y="4371840"/>
            <a:ext cx="937080" cy="506880"/>
            <a:chOff x="4417920" y="4371840"/>
            <a:chExt cx="937080" cy="506880"/>
          </a:xfrm>
        </p:grpSpPr>
        <p:grpSp>
          <p:nvGrpSpPr>
            <p:cNvPr id="513" name=""/>
            <p:cNvGrpSpPr/>
            <p:nvPr/>
          </p:nvGrpSpPr>
          <p:grpSpPr>
            <a:xfrm>
              <a:off x="4576680" y="4484520"/>
              <a:ext cx="778320" cy="195840"/>
              <a:chOff x="4576680" y="4484520"/>
              <a:chExt cx="778320" cy="195840"/>
            </a:xfrm>
          </p:grpSpPr>
          <p:sp>
            <p:nvSpPr>
              <p:cNvPr id="514" name=""/>
              <p:cNvSpPr/>
              <p:nvPr/>
            </p:nvSpPr>
            <p:spPr>
              <a:xfrm>
                <a:off x="4578480" y="4492800"/>
                <a:ext cx="775080" cy="187560"/>
              </a:xfrm>
              <a:custGeom>
                <a:avLst/>
                <a:gdLst/>
                <a:ahLst/>
                <a:rect l="0" t="0" r="r" b="b"/>
                <a:pathLst>
                  <a:path w="2153" h="521">
                    <a:moveTo>
                      <a:pt x="0" y="305"/>
                    </a:moveTo>
                    <a:lnTo>
                      <a:pt x="636" y="229"/>
                    </a:lnTo>
                    <a:lnTo>
                      <a:pt x="1112" y="180"/>
                    </a:lnTo>
                    <a:lnTo>
                      <a:pt x="1553" y="127"/>
                    </a:lnTo>
                    <a:lnTo>
                      <a:pt x="1730" y="97"/>
                    </a:lnTo>
                    <a:lnTo>
                      <a:pt x="1959" y="30"/>
                    </a:lnTo>
                    <a:lnTo>
                      <a:pt x="2061" y="0"/>
                    </a:lnTo>
                    <a:lnTo>
                      <a:pt x="2127" y="127"/>
                    </a:lnTo>
                    <a:lnTo>
                      <a:pt x="2153" y="269"/>
                    </a:lnTo>
                    <a:lnTo>
                      <a:pt x="2140" y="371"/>
                    </a:lnTo>
                    <a:lnTo>
                      <a:pt x="2131" y="424"/>
                    </a:lnTo>
                    <a:lnTo>
                      <a:pt x="1898" y="428"/>
                    </a:lnTo>
                    <a:lnTo>
                      <a:pt x="1592" y="446"/>
                    </a:lnTo>
                    <a:lnTo>
                      <a:pt x="1160" y="459"/>
                    </a:lnTo>
                    <a:lnTo>
                      <a:pt x="790" y="481"/>
                    </a:lnTo>
                    <a:lnTo>
                      <a:pt x="370" y="499"/>
                    </a:lnTo>
                    <a:lnTo>
                      <a:pt x="8" y="521"/>
                    </a:lnTo>
                    <a:lnTo>
                      <a:pt x="0" y="305"/>
                    </a:lnTo>
                    <a:close/>
                  </a:path>
                </a:pathLst>
              </a:custGeom>
              <a:solidFill>
                <a:srgbClr val="60606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76680" y="4484520"/>
                <a:ext cx="778320" cy="184680"/>
              </a:xfrm>
              <a:custGeom>
                <a:avLst/>
                <a:gdLst/>
                <a:ahLst/>
                <a:rect l="0" t="0" r="r" b="b"/>
                <a:pathLst>
                  <a:path w="2162" h="513">
                    <a:moveTo>
                      <a:pt x="0" y="300"/>
                    </a:moveTo>
                    <a:lnTo>
                      <a:pt x="640" y="225"/>
                    </a:lnTo>
                    <a:lnTo>
                      <a:pt x="1116" y="177"/>
                    </a:lnTo>
                    <a:lnTo>
                      <a:pt x="1553" y="119"/>
                    </a:lnTo>
                    <a:lnTo>
                      <a:pt x="1730" y="92"/>
                    </a:lnTo>
                    <a:lnTo>
                      <a:pt x="1955" y="26"/>
                    </a:lnTo>
                    <a:lnTo>
                      <a:pt x="2065" y="0"/>
                    </a:lnTo>
                    <a:lnTo>
                      <a:pt x="2096" y="52"/>
                    </a:lnTo>
                    <a:lnTo>
                      <a:pt x="2136" y="127"/>
                    </a:lnTo>
                    <a:lnTo>
                      <a:pt x="2149" y="195"/>
                    </a:lnTo>
                    <a:lnTo>
                      <a:pt x="2158" y="274"/>
                    </a:lnTo>
                    <a:lnTo>
                      <a:pt x="2162" y="309"/>
                    </a:lnTo>
                    <a:lnTo>
                      <a:pt x="2153" y="371"/>
                    </a:lnTo>
                    <a:lnTo>
                      <a:pt x="2136" y="420"/>
                    </a:lnTo>
                    <a:lnTo>
                      <a:pt x="1902" y="425"/>
                    </a:lnTo>
                    <a:lnTo>
                      <a:pt x="1597" y="442"/>
                    </a:lnTo>
                    <a:lnTo>
                      <a:pt x="1160" y="456"/>
                    </a:lnTo>
                    <a:lnTo>
                      <a:pt x="794" y="473"/>
                    </a:lnTo>
                    <a:lnTo>
                      <a:pt x="370" y="491"/>
                    </a:lnTo>
                    <a:lnTo>
                      <a:pt x="13" y="513"/>
                    </a:lnTo>
                    <a:lnTo>
                      <a:pt x="0" y="30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4417920" y="4371840"/>
              <a:ext cx="165600" cy="449640"/>
              <a:chOff x="4417920" y="4371840"/>
              <a:chExt cx="165600" cy="449640"/>
            </a:xfrm>
          </p:grpSpPr>
          <p:sp>
            <p:nvSpPr>
              <p:cNvPr id="517" name=""/>
              <p:cNvSpPr/>
              <p:nvPr/>
            </p:nvSpPr>
            <p:spPr>
              <a:xfrm>
                <a:off x="4427640" y="4371840"/>
                <a:ext cx="155880" cy="449640"/>
              </a:xfrm>
              <a:custGeom>
                <a:avLst/>
                <a:gdLst/>
                <a:ahLst/>
                <a:rect l="0" t="0" r="r" b="b"/>
                <a:pathLst>
                  <a:path w="433" h="1249">
                    <a:moveTo>
                      <a:pt x="83" y="1249"/>
                    </a:moveTo>
                    <a:lnTo>
                      <a:pt x="265" y="1201"/>
                    </a:lnTo>
                    <a:lnTo>
                      <a:pt x="247" y="954"/>
                    </a:lnTo>
                    <a:lnTo>
                      <a:pt x="261" y="913"/>
                    </a:lnTo>
                    <a:lnTo>
                      <a:pt x="283" y="882"/>
                    </a:lnTo>
                    <a:lnTo>
                      <a:pt x="318" y="860"/>
                    </a:lnTo>
                    <a:lnTo>
                      <a:pt x="433" y="852"/>
                    </a:lnTo>
                    <a:lnTo>
                      <a:pt x="415" y="609"/>
                    </a:lnTo>
                    <a:lnTo>
                      <a:pt x="283" y="613"/>
                    </a:lnTo>
                    <a:lnTo>
                      <a:pt x="234" y="600"/>
                    </a:lnTo>
                    <a:lnTo>
                      <a:pt x="202" y="574"/>
                    </a:lnTo>
                    <a:lnTo>
                      <a:pt x="185" y="538"/>
                    </a:lnTo>
                    <a:lnTo>
                      <a:pt x="176" y="508"/>
                    </a:lnTo>
                    <a:lnTo>
                      <a:pt x="176" y="472"/>
                    </a:lnTo>
                    <a:lnTo>
                      <a:pt x="185" y="393"/>
                    </a:lnTo>
                    <a:lnTo>
                      <a:pt x="202" y="295"/>
                    </a:lnTo>
                    <a:lnTo>
                      <a:pt x="247" y="180"/>
                    </a:lnTo>
                    <a:lnTo>
                      <a:pt x="300" y="79"/>
                    </a:lnTo>
                    <a:lnTo>
                      <a:pt x="340" y="0"/>
                    </a:lnTo>
                    <a:lnTo>
                      <a:pt x="221" y="141"/>
                    </a:lnTo>
                    <a:lnTo>
                      <a:pt x="127" y="277"/>
                    </a:lnTo>
                    <a:lnTo>
                      <a:pt x="79" y="367"/>
                    </a:lnTo>
                    <a:lnTo>
                      <a:pt x="52" y="424"/>
                    </a:lnTo>
                    <a:lnTo>
                      <a:pt x="13" y="547"/>
                    </a:lnTo>
                    <a:lnTo>
                      <a:pt x="4" y="631"/>
                    </a:lnTo>
                    <a:lnTo>
                      <a:pt x="0" y="715"/>
                    </a:lnTo>
                    <a:lnTo>
                      <a:pt x="0" y="799"/>
                    </a:lnTo>
                    <a:lnTo>
                      <a:pt x="8" y="882"/>
                    </a:lnTo>
                    <a:lnTo>
                      <a:pt x="30" y="985"/>
                    </a:lnTo>
                    <a:lnTo>
                      <a:pt x="52" y="1077"/>
                    </a:lnTo>
                    <a:lnTo>
                      <a:pt x="83" y="124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417920" y="4371840"/>
                <a:ext cx="155880" cy="449640"/>
              </a:xfrm>
              <a:custGeom>
                <a:avLst/>
                <a:gdLst/>
                <a:ahLst/>
                <a:rect l="0" t="0" r="r" b="b"/>
                <a:pathLst>
                  <a:path w="433" h="1249">
                    <a:moveTo>
                      <a:pt x="88" y="1249"/>
                    </a:moveTo>
                    <a:lnTo>
                      <a:pt x="265" y="1201"/>
                    </a:lnTo>
                    <a:lnTo>
                      <a:pt x="247" y="958"/>
                    </a:lnTo>
                    <a:lnTo>
                      <a:pt x="261" y="922"/>
                    </a:lnTo>
                    <a:lnTo>
                      <a:pt x="278" y="882"/>
                    </a:lnTo>
                    <a:lnTo>
                      <a:pt x="318" y="865"/>
                    </a:lnTo>
                    <a:lnTo>
                      <a:pt x="433" y="852"/>
                    </a:lnTo>
                    <a:lnTo>
                      <a:pt x="415" y="613"/>
                    </a:lnTo>
                    <a:lnTo>
                      <a:pt x="283" y="613"/>
                    </a:lnTo>
                    <a:lnTo>
                      <a:pt x="239" y="605"/>
                    </a:lnTo>
                    <a:lnTo>
                      <a:pt x="202" y="574"/>
                    </a:lnTo>
                    <a:lnTo>
                      <a:pt x="185" y="538"/>
                    </a:lnTo>
                    <a:lnTo>
                      <a:pt x="176" y="512"/>
                    </a:lnTo>
                    <a:lnTo>
                      <a:pt x="171" y="477"/>
                    </a:lnTo>
                    <a:lnTo>
                      <a:pt x="185" y="393"/>
                    </a:lnTo>
                    <a:lnTo>
                      <a:pt x="202" y="299"/>
                    </a:lnTo>
                    <a:lnTo>
                      <a:pt x="247" y="189"/>
                    </a:lnTo>
                    <a:lnTo>
                      <a:pt x="300" y="83"/>
                    </a:lnTo>
                    <a:lnTo>
                      <a:pt x="340" y="0"/>
                    </a:lnTo>
                    <a:lnTo>
                      <a:pt x="221" y="141"/>
                    </a:lnTo>
                    <a:lnTo>
                      <a:pt x="127" y="282"/>
                    </a:lnTo>
                    <a:lnTo>
                      <a:pt x="79" y="371"/>
                    </a:lnTo>
                    <a:lnTo>
                      <a:pt x="52" y="428"/>
                    </a:lnTo>
                    <a:lnTo>
                      <a:pt x="22" y="486"/>
                    </a:lnTo>
                    <a:lnTo>
                      <a:pt x="13" y="556"/>
                    </a:lnTo>
                    <a:lnTo>
                      <a:pt x="4" y="640"/>
                    </a:lnTo>
                    <a:lnTo>
                      <a:pt x="0" y="719"/>
                    </a:lnTo>
                    <a:lnTo>
                      <a:pt x="4" y="803"/>
                    </a:lnTo>
                    <a:lnTo>
                      <a:pt x="13" y="882"/>
                    </a:lnTo>
                    <a:lnTo>
                      <a:pt x="30" y="994"/>
                    </a:lnTo>
                    <a:lnTo>
                      <a:pt x="52" y="1082"/>
                    </a:lnTo>
                    <a:lnTo>
                      <a:pt x="88" y="124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4437000" y="4799160"/>
              <a:ext cx="113040" cy="79560"/>
              <a:chOff x="4437000" y="4799160"/>
              <a:chExt cx="113040" cy="79560"/>
            </a:xfrm>
          </p:grpSpPr>
          <p:sp>
            <p:nvSpPr>
              <p:cNvPr id="520" name=""/>
              <p:cNvSpPr/>
              <p:nvPr/>
            </p:nvSpPr>
            <p:spPr>
              <a:xfrm>
                <a:off x="4440240" y="4807080"/>
                <a:ext cx="109800" cy="71640"/>
              </a:xfrm>
              <a:custGeom>
                <a:avLst/>
                <a:gdLst/>
                <a:ahLst/>
                <a:rect l="0" t="0" r="r" b="b"/>
                <a:pathLst>
                  <a:path w="305" h="199">
                    <a:moveTo>
                      <a:pt x="0" y="44"/>
                    </a:moveTo>
                    <a:lnTo>
                      <a:pt x="141" y="22"/>
                    </a:lnTo>
                    <a:lnTo>
                      <a:pt x="269" y="0"/>
                    </a:lnTo>
                    <a:lnTo>
                      <a:pt x="305" y="142"/>
                    </a:lnTo>
                    <a:lnTo>
                      <a:pt x="274" y="159"/>
                    </a:lnTo>
                    <a:lnTo>
                      <a:pt x="243" y="181"/>
                    </a:lnTo>
                    <a:lnTo>
                      <a:pt x="208" y="190"/>
                    </a:lnTo>
                    <a:lnTo>
                      <a:pt x="145" y="199"/>
                    </a:lnTo>
                    <a:lnTo>
                      <a:pt x="97" y="195"/>
                    </a:lnTo>
                    <a:lnTo>
                      <a:pt x="57" y="190"/>
                    </a:lnTo>
                    <a:lnTo>
                      <a:pt x="22" y="172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437000" y="4799160"/>
                <a:ext cx="108360" cy="73440"/>
              </a:xfrm>
              <a:custGeom>
                <a:avLst/>
                <a:gdLst/>
                <a:ahLst/>
                <a:rect l="0" t="0" r="r" b="b"/>
                <a:pathLst>
                  <a:path w="301" h="204">
                    <a:moveTo>
                      <a:pt x="0" y="48"/>
                    </a:moveTo>
                    <a:lnTo>
                      <a:pt x="142" y="26"/>
                    </a:lnTo>
                    <a:lnTo>
                      <a:pt x="266" y="0"/>
                    </a:lnTo>
                    <a:lnTo>
                      <a:pt x="301" y="146"/>
                    </a:lnTo>
                    <a:lnTo>
                      <a:pt x="266" y="169"/>
                    </a:lnTo>
                    <a:lnTo>
                      <a:pt x="235" y="182"/>
                    </a:lnTo>
                    <a:lnTo>
                      <a:pt x="203" y="196"/>
                    </a:lnTo>
                    <a:lnTo>
                      <a:pt x="146" y="204"/>
                    </a:lnTo>
                    <a:lnTo>
                      <a:pt x="89" y="200"/>
                    </a:lnTo>
                    <a:lnTo>
                      <a:pt x="48" y="196"/>
                    </a:lnTo>
                    <a:lnTo>
                      <a:pt x="17" y="17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2" name=""/>
          <p:cNvGrpSpPr/>
          <p:nvPr/>
        </p:nvGrpSpPr>
        <p:grpSpPr>
          <a:xfrm>
            <a:off x="4572000" y="3219480"/>
            <a:ext cx="509760" cy="1443240"/>
            <a:chOff x="4572000" y="3219480"/>
            <a:chExt cx="509760" cy="1443240"/>
          </a:xfrm>
        </p:grpSpPr>
        <p:sp>
          <p:nvSpPr>
            <p:cNvPr id="523" name=""/>
            <p:cNvSpPr/>
            <p:nvPr/>
          </p:nvSpPr>
          <p:spPr>
            <a:xfrm>
              <a:off x="4572000" y="3219480"/>
              <a:ext cx="486000" cy="1190880"/>
            </a:xfrm>
            <a:custGeom>
              <a:avLst/>
              <a:gdLst/>
              <a:ahLst/>
              <a:rect l="0" t="0" r="r" b="b"/>
              <a:pathLst>
                <a:path w="1350" h="3308">
                  <a:moveTo>
                    <a:pt x="238" y="0"/>
                  </a:moveTo>
                  <a:lnTo>
                    <a:pt x="79" y="105"/>
                  </a:lnTo>
                  <a:lnTo>
                    <a:pt x="0" y="423"/>
                  </a:lnTo>
                  <a:lnTo>
                    <a:pt x="211" y="1322"/>
                  </a:lnTo>
                  <a:lnTo>
                    <a:pt x="529" y="3308"/>
                  </a:lnTo>
                  <a:lnTo>
                    <a:pt x="1350" y="3149"/>
                  </a:lnTo>
                  <a:lnTo>
                    <a:pt x="979" y="1455"/>
                  </a:lnTo>
                  <a:lnTo>
                    <a:pt x="555" y="238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76840" y="4376880"/>
              <a:ext cx="30492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371600" y="5994360"/>
            <a:ext cx="5105880" cy="584640"/>
          </a:xfrm>
          <a:custGeom>
            <a:avLst/>
            <a:gdLst/>
            <a:ahLst/>
            <a:rect l="0" t="0" r="r" b="b"/>
            <a:pathLst>
              <a:path w="14183" h="1624">
                <a:moveTo>
                  <a:pt x="7532" y="176"/>
                </a:moveTo>
                <a:lnTo>
                  <a:pt x="7356" y="141"/>
                </a:lnTo>
                <a:lnTo>
                  <a:pt x="7223" y="141"/>
                </a:lnTo>
                <a:lnTo>
                  <a:pt x="7091" y="176"/>
                </a:lnTo>
                <a:lnTo>
                  <a:pt x="6959" y="211"/>
                </a:lnTo>
                <a:lnTo>
                  <a:pt x="6827" y="176"/>
                </a:lnTo>
                <a:lnTo>
                  <a:pt x="6695" y="176"/>
                </a:lnTo>
                <a:lnTo>
                  <a:pt x="6563" y="141"/>
                </a:lnTo>
                <a:lnTo>
                  <a:pt x="6431" y="141"/>
                </a:lnTo>
                <a:lnTo>
                  <a:pt x="6299" y="141"/>
                </a:lnTo>
                <a:lnTo>
                  <a:pt x="6166" y="141"/>
                </a:lnTo>
                <a:lnTo>
                  <a:pt x="6034" y="176"/>
                </a:lnTo>
                <a:lnTo>
                  <a:pt x="5902" y="176"/>
                </a:lnTo>
                <a:lnTo>
                  <a:pt x="5770" y="176"/>
                </a:lnTo>
                <a:lnTo>
                  <a:pt x="5638" y="176"/>
                </a:lnTo>
                <a:lnTo>
                  <a:pt x="5506" y="176"/>
                </a:lnTo>
                <a:lnTo>
                  <a:pt x="5374" y="176"/>
                </a:lnTo>
                <a:lnTo>
                  <a:pt x="5242" y="176"/>
                </a:lnTo>
                <a:lnTo>
                  <a:pt x="5109" y="176"/>
                </a:lnTo>
                <a:lnTo>
                  <a:pt x="4977" y="176"/>
                </a:lnTo>
                <a:lnTo>
                  <a:pt x="4845" y="141"/>
                </a:lnTo>
                <a:lnTo>
                  <a:pt x="4713" y="105"/>
                </a:lnTo>
                <a:lnTo>
                  <a:pt x="4581" y="105"/>
                </a:lnTo>
                <a:lnTo>
                  <a:pt x="4449" y="141"/>
                </a:lnTo>
                <a:lnTo>
                  <a:pt x="4273" y="176"/>
                </a:lnTo>
                <a:lnTo>
                  <a:pt x="4096" y="211"/>
                </a:lnTo>
                <a:lnTo>
                  <a:pt x="3920" y="176"/>
                </a:lnTo>
                <a:lnTo>
                  <a:pt x="3744" y="141"/>
                </a:lnTo>
                <a:lnTo>
                  <a:pt x="3612" y="105"/>
                </a:lnTo>
                <a:lnTo>
                  <a:pt x="3479" y="105"/>
                </a:lnTo>
                <a:lnTo>
                  <a:pt x="3347" y="105"/>
                </a:lnTo>
                <a:lnTo>
                  <a:pt x="3215" y="105"/>
                </a:lnTo>
                <a:lnTo>
                  <a:pt x="3082" y="105"/>
                </a:lnTo>
                <a:lnTo>
                  <a:pt x="2950" y="141"/>
                </a:lnTo>
                <a:lnTo>
                  <a:pt x="2818" y="141"/>
                </a:lnTo>
                <a:lnTo>
                  <a:pt x="2686" y="141"/>
                </a:lnTo>
                <a:lnTo>
                  <a:pt x="2554" y="105"/>
                </a:lnTo>
                <a:lnTo>
                  <a:pt x="2422" y="70"/>
                </a:lnTo>
                <a:lnTo>
                  <a:pt x="2290" y="35"/>
                </a:lnTo>
                <a:lnTo>
                  <a:pt x="2158" y="0"/>
                </a:lnTo>
                <a:lnTo>
                  <a:pt x="2025" y="35"/>
                </a:lnTo>
                <a:lnTo>
                  <a:pt x="1893" y="35"/>
                </a:lnTo>
                <a:lnTo>
                  <a:pt x="1761" y="35"/>
                </a:lnTo>
                <a:lnTo>
                  <a:pt x="1629" y="35"/>
                </a:lnTo>
                <a:lnTo>
                  <a:pt x="1497" y="35"/>
                </a:lnTo>
                <a:lnTo>
                  <a:pt x="1365" y="35"/>
                </a:lnTo>
                <a:lnTo>
                  <a:pt x="1233" y="70"/>
                </a:lnTo>
                <a:lnTo>
                  <a:pt x="1101" y="141"/>
                </a:lnTo>
                <a:lnTo>
                  <a:pt x="968" y="246"/>
                </a:lnTo>
                <a:lnTo>
                  <a:pt x="836" y="317"/>
                </a:lnTo>
                <a:lnTo>
                  <a:pt x="704" y="352"/>
                </a:lnTo>
                <a:lnTo>
                  <a:pt x="572" y="352"/>
                </a:lnTo>
                <a:lnTo>
                  <a:pt x="440" y="352"/>
                </a:lnTo>
                <a:lnTo>
                  <a:pt x="308" y="352"/>
                </a:lnTo>
                <a:lnTo>
                  <a:pt x="176" y="388"/>
                </a:lnTo>
                <a:lnTo>
                  <a:pt x="44" y="388"/>
                </a:lnTo>
                <a:lnTo>
                  <a:pt x="0" y="494"/>
                </a:lnTo>
                <a:lnTo>
                  <a:pt x="0" y="600"/>
                </a:lnTo>
                <a:lnTo>
                  <a:pt x="0" y="706"/>
                </a:lnTo>
                <a:lnTo>
                  <a:pt x="132" y="812"/>
                </a:lnTo>
                <a:lnTo>
                  <a:pt x="264" y="882"/>
                </a:lnTo>
                <a:lnTo>
                  <a:pt x="396" y="882"/>
                </a:lnTo>
                <a:lnTo>
                  <a:pt x="528" y="882"/>
                </a:lnTo>
                <a:lnTo>
                  <a:pt x="660" y="882"/>
                </a:lnTo>
                <a:lnTo>
                  <a:pt x="792" y="882"/>
                </a:lnTo>
                <a:lnTo>
                  <a:pt x="924" y="918"/>
                </a:lnTo>
                <a:lnTo>
                  <a:pt x="1012" y="1024"/>
                </a:lnTo>
                <a:lnTo>
                  <a:pt x="1101" y="1129"/>
                </a:lnTo>
                <a:lnTo>
                  <a:pt x="1233" y="1200"/>
                </a:lnTo>
                <a:lnTo>
                  <a:pt x="1365" y="1200"/>
                </a:lnTo>
                <a:lnTo>
                  <a:pt x="1497" y="1165"/>
                </a:lnTo>
                <a:lnTo>
                  <a:pt x="1629" y="1129"/>
                </a:lnTo>
                <a:lnTo>
                  <a:pt x="1761" y="1094"/>
                </a:lnTo>
                <a:lnTo>
                  <a:pt x="1893" y="1094"/>
                </a:lnTo>
                <a:lnTo>
                  <a:pt x="2025" y="1165"/>
                </a:lnTo>
                <a:lnTo>
                  <a:pt x="2158" y="1236"/>
                </a:lnTo>
                <a:lnTo>
                  <a:pt x="2290" y="1272"/>
                </a:lnTo>
                <a:lnTo>
                  <a:pt x="2422" y="1272"/>
                </a:lnTo>
                <a:lnTo>
                  <a:pt x="2510" y="1377"/>
                </a:lnTo>
                <a:lnTo>
                  <a:pt x="2598" y="1483"/>
                </a:lnTo>
                <a:lnTo>
                  <a:pt x="2686" y="1589"/>
                </a:lnTo>
                <a:lnTo>
                  <a:pt x="2818" y="1624"/>
                </a:lnTo>
                <a:lnTo>
                  <a:pt x="2862" y="1518"/>
                </a:lnTo>
                <a:lnTo>
                  <a:pt x="2862" y="1413"/>
                </a:lnTo>
                <a:lnTo>
                  <a:pt x="2994" y="1377"/>
                </a:lnTo>
                <a:lnTo>
                  <a:pt x="3127" y="1377"/>
                </a:lnTo>
                <a:lnTo>
                  <a:pt x="3259" y="1483"/>
                </a:lnTo>
                <a:lnTo>
                  <a:pt x="3391" y="1518"/>
                </a:lnTo>
                <a:lnTo>
                  <a:pt x="3523" y="1554"/>
                </a:lnTo>
                <a:lnTo>
                  <a:pt x="3656" y="1518"/>
                </a:lnTo>
                <a:lnTo>
                  <a:pt x="3788" y="1413"/>
                </a:lnTo>
                <a:lnTo>
                  <a:pt x="3920" y="1413"/>
                </a:lnTo>
                <a:lnTo>
                  <a:pt x="4052" y="1413"/>
                </a:lnTo>
                <a:lnTo>
                  <a:pt x="4185" y="1448"/>
                </a:lnTo>
                <a:lnTo>
                  <a:pt x="4361" y="1554"/>
                </a:lnTo>
                <a:lnTo>
                  <a:pt x="4493" y="1589"/>
                </a:lnTo>
                <a:lnTo>
                  <a:pt x="4625" y="1624"/>
                </a:lnTo>
                <a:lnTo>
                  <a:pt x="4757" y="1518"/>
                </a:lnTo>
                <a:lnTo>
                  <a:pt x="4889" y="1483"/>
                </a:lnTo>
                <a:lnTo>
                  <a:pt x="5021" y="1448"/>
                </a:lnTo>
                <a:lnTo>
                  <a:pt x="5153" y="1413"/>
                </a:lnTo>
                <a:lnTo>
                  <a:pt x="5286" y="1377"/>
                </a:lnTo>
                <a:lnTo>
                  <a:pt x="5418" y="1342"/>
                </a:lnTo>
                <a:lnTo>
                  <a:pt x="5550" y="1342"/>
                </a:lnTo>
                <a:lnTo>
                  <a:pt x="5682" y="1342"/>
                </a:lnTo>
                <a:lnTo>
                  <a:pt x="5814" y="1377"/>
                </a:lnTo>
                <a:lnTo>
                  <a:pt x="5946" y="1413"/>
                </a:lnTo>
                <a:lnTo>
                  <a:pt x="6078" y="1448"/>
                </a:lnTo>
                <a:lnTo>
                  <a:pt x="6210" y="1448"/>
                </a:lnTo>
                <a:lnTo>
                  <a:pt x="6343" y="1483"/>
                </a:lnTo>
                <a:lnTo>
                  <a:pt x="6475" y="1483"/>
                </a:lnTo>
                <a:lnTo>
                  <a:pt x="6651" y="1448"/>
                </a:lnTo>
                <a:lnTo>
                  <a:pt x="6783" y="1413"/>
                </a:lnTo>
                <a:lnTo>
                  <a:pt x="6915" y="1377"/>
                </a:lnTo>
                <a:lnTo>
                  <a:pt x="7047" y="1377"/>
                </a:lnTo>
                <a:lnTo>
                  <a:pt x="7179" y="1342"/>
                </a:lnTo>
                <a:lnTo>
                  <a:pt x="7312" y="1307"/>
                </a:lnTo>
                <a:lnTo>
                  <a:pt x="7444" y="1272"/>
                </a:lnTo>
                <a:lnTo>
                  <a:pt x="7576" y="1236"/>
                </a:lnTo>
                <a:lnTo>
                  <a:pt x="7708" y="1200"/>
                </a:lnTo>
                <a:lnTo>
                  <a:pt x="7840" y="1165"/>
                </a:lnTo>
                <a:lnTo>
                  <a:pt x="7972" y="1165"/>
                </a:lnTo>
                <a:lnTo>
                  <a:pt x="8104" y="1165"/>
                </a:lnTo>
                <a:lnTo>
                  <a:pt x="8236" y="1165"/>
                </a:lnTo>
                <a:lnTo>
                  <a:pt x="8369" y="1165"/>
                </a:lnTo>
                <a:lnTo>
                  <a:pt x="8501" y="1200"/>
                </a:lnTo>
                <a:lnTo>
                  <a:pt x="8633" y="1236"/>
                </a:lnTo>
                <a:lnTo>
                  <a:pt x="8765" y="1272"/>
                </a:lnTo>
                <a:lnTo>
                  <a:pt x="8897" y="1272"/>
                </a:lnTo>
                <a:lnTo>
                  <a:pt x="9029" y="1272"/>
                </a:lnTo>
                <a:lnTo>
                  <a:pt x="9205" y="1272"/>
                </a:lnTo>
                <a:lnTo>
                  <a:pt x="9382" y="1200"/>
                </a:lnTo>
                <a:lnTo>
                  <a:pt x="9514" y="1165"/>
                </a:lnTo>
                <a:lnTo>
                  <a:pt x="9646" y="1129"/>
                </a:lnTo>
                <a:lnTo>
                  <a:pt x="9822" y="1129"/>
                </a:lnTo>
                <a:lnTo>
                  <a:pt x="9998" y="1165"/>
                </a:lnTo>
                <a:lnTo>
                  <a:pt x="10174" y="1200"/>
                </a:lnTo>
                <a:lnTo>
                  <a:pt x="10306" y="1272"/>
                </a:lnTo>
                <a:lnTo>
                  <a:pt x="10439" y="1307"/>
                </a:lnTo>
                <a:lnTo>
                  <a:pt x="10571" y="1342"/>
                </a:lnTo>
                <a:lnTo>
                  <a:pt x="10704" y="1342"/>
                </a:lnTo>
                <a:lnTo>
                  <a:pt x="10880" y="1272"/>
                </a:lnTo>
                <a:lnTo>
                  <a:pt x="11012" y="1236"/>
                </a:lnTo>
                <a:lnTo>
                  <a:pt x="11144" y="1165"/>
                </a:lnTo>
                <a:lnTo>
                  <a:pt x="11276" y="1129"/>
                </a:lnTo>
                <a:lnTo>
                  <a:pt x="11408" y="1129"/>
                </a:lnTo>
                <a:lnTo>
                  <a:pt x="11585" y="1129"/>
                </a:lnTo>
                <a:lnTo>
                  <a:pt x="11761" y="1129"/>
                </a:lnTo>
                <a:lnTo>
                  <a:pt x="11937" y="1129"/>
                </a:lnTo>
                <a:lnTo>
                  <a:pt x="12069" y="1165"/>
                </a:lnTo>
                <a:lnTo>
                  <a:pt x="12201" y="1165"/>
                </a:lnTo>
                <a:lnTo>
                  <a:pt x="12333" y="1200"/>
                </a:lnTo>
                <a:lnTo>
                  <a:pt x="12466" y="1200"/>
                </a:lnTo>
                <a:lnTo>
                  <a:pt x="12642" y="1200"/>
                </a:lnTo>
                <a:lnTo>
                  <a:pt x="12818" y="1200"/>
                </a:lnTo>
                <a:lnTo>
                  <a:pt x="12950" y="1129"/>
                </a:lnTo>
                <a:lnTo>
                  <a:pt x="13082" y="1094"/>
                </a:lnTo>
                <a:lnTo>
                  <a:pt x="13214" y="1094"/>
                </a:lnTo>
                <a:lnTo>
                  <a:pt x="13346" y="1094"/>
                </a:lnTo>
                <a:lnTo>
                  <a:pt x="13478" y="1094"/>
                </a:lnTo>
                <a:lnTo>
                  <a:pt x="13611" y="1094"/>
                </a:lnTo>
                <a:lnTo>
                  <a:pt x="13743" y="1059"/>
                </a:lnTo>
                <a:lnTo>
                  <a:pt x="13875" y="1024"/>
                </a:lnTo>
                <a:lnTo>
                  <a:pt x="14007" y="988"/>
                </a:lnTo>
                <a:lnTo>
                  <a:pt x="14139" y="918"/>
                </a:lnTo>
                <a:lnTo>
                  <a:pt x="14183" y="812"/>
                </a:lnTo>
                <a:lnTo>
                  <a:pt x="14183" y="706"/>
                </a:lnTo>
                <a:lnTo>
                  <a:pt x="14139" y="600"/>
                </a:lnTo>
                <a:lnTo>
                  <a:pt x="14007" y="494"/>
                </a:lnTo>
                <a:lnTo>
                  <a:pt x="13875" y="494"/>
                </a:lnTo>
                <a:lnTo>
                  <a:pt x="13743" y="459"/>
                </a:lnTo>
                <a:lnTo>
                  <a:pt x="13611" y="459"/>
                </a:lnTo>
                <a:lnTo>
                  <a:pt x="13478" y="424"/>
                </a:lnTo>
                <a:lnTo>
                  <a:pt x="13302" y="352"/>
                </a:lnTo>
                <a:lnTo>
                  <a:pt x="13170" y="317"/>
                </a:lnTo>
                <a:lnTo>
                  <a:pt x="13038" y="246"/>
                </a:lnTo>
                <a:lnTo>
                  <a:pt x="12906" y="211"/>
                </a:lnTo>
                <a:lnTo>
                  <a:pt x="12774" y="176"/>
                </a:lnTo>
                <a:lnTo>
                  <a:pt x="12642" y="211"/>
                </a:lnTo>
                <a:lnTo>
                  <a:pt x="12510" y="211"/>
                </a:lnTo>
                <a:lnTo>
                  <a:pt x="12377" y="211"/>
                </a:lnTo>
                <a:lnTo>
                  <a:pt x="12245" y="211"/>
                </a:lnTo>
                <a:lnTo>
                  <a:pt x="12113" y="211"/>
                </a:lnTo>
                <a:lnTo>
                  <a:pt x="11981" y="211"/>
                </a:lnTo>
                <a:lnTo>
                  <a:pt x="11849" y="211"/>
                </a:lnTo>
                <a:lnTo>
                  <a:pt x="11717" y="246"/>
                </a:lnTo>
                <a:lnTo>
                  <a:pt x="11585" y="246"/>
                </a:lnTo>
                <a:lnTo>
                  <a:pt x="11453" y="211"/>
                </a:lnTo>
                <a:lnTo>
                  <a:pt x="11320" y="211"/>
                </a:lnTo>
                <a:lnTo>
                  <a:pt x="11188" y="176"/>
                </a:lnTo>
                <a:lnTo>
                  <a:pt x="11056" y="176"/>
                </a:lnTo>
                <a:lnTo>
                  <a:pt x="10880" y="211"/>
                </a:lnTo>
                <a:lnTo>
                  <a:pt x="10748" y="246"/>
                </a:lnTo>
                <a:lnTo>
                  <a:pt x="10615" y="246"/>
                </a:lnTo>
                <a:lnTo>
                  <a:pt x="10483" y="246"/>
                </a:lnTo>
                <a:lnTo>
                  <a:pt x="10350" y="282"/>
                </a:lnTo>
                <a:lnTo>
                  <a:pt x="10218" y="282"/>
                </a:lnTo>
                <a:lnTo>
                  <a:pt x="10042" y="282"/>
                </a:lnTo>
                <a:lnTo>
                  <a:pt x="9910" y="282"/>
                </a:lnTo>
                <a:lnTo>
                  <a:pt x="9734" y="282"/>
                </a:lnTo>
                <a:lnTo>
                  <a:pt x="9558" y="211"/>
                </a:lnTo>
                <a:lnTo>
                  <a:pt x="9426" y="211"/>
                </a:lnTo>
                <a:lnTo>
                  <a:pt x="9293" y="211"/>
                </a:lnTo>
                <a:lnTo>
                  <a:pt x="9117" y="211"/>
                </a:lnTo>
                <a:lnTo>
                  <a:pt x="8941" y="211"/>
                </a:lnTo>
                <a:lnTo>
                  <a:pt x="8809" y="246"/>
                </a:lnTo>
                <a:lnTo>
                  <a:pt x="8677" y="282"/>
                </a:lnTo>
                <a:lnTo>
                  <a:pt x="8545" y="246"/>
                </a:lnTo>
                <a:lnTo>
                  <a:pt x="8413" y="246"/>
                </a:lnTo>
                <a:lnTo>
                  <a:pt x="8280" y="211"/>
                </a:lnTo>
                <a:lnTo>
                  <a:pt x="8148" y="211"/>
                </a:lnTo>
                <a:lnTo>
                  <a:pt x="8016" y="211"/>
                </a:lnTo>
                <a:lnTo>
                  <a:pt x="7884" y="211"/>
                </a:lnTo>
                <a:lnTo>
                  <a:pt x="7752" y="211"/>
                </a:lnTo>
                <a:lnTo>
                  <a:pt x="7532" y="176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3638520" y="4448160"/>
            <a:ext cx="1514880" cy="1867320"/>
            <a:chOff x="3638520" y="4448160"/>
            <a:chExt cx="1514880" cy="1867320"/>
          </a:xfrm>
        </p:grpSpPr>
        <p:sp>
          <p:nvSpPr>
            <p:cNvPr id="527" name=""/>
            <p:cNvSpPr/>
            <p:nvPr/>
          </p:nvSpPr>
          <p:spPr>
            <a:xfrm>
              <a:off x="4019400" y="4448160"/>
              <a:ext cx="657720" cy="1724400"/>
            </a:xfrm>
            <a:custGeom>
              <a:avLst/>
              <a:gdLst/>
              <a:ahLst/>
              <a:rect l="0" t="0" r="r" b="b"/>
              <a:pathLst>
                <a:path w="1827" h="4790">
                  <a:moveTo>
                    <a:pt x="0" y="0"/>
                  </a:moveTo>
                  <a:lnTo>
                    <a:pt x="317" y="4790"/>
                  </a:lnTo>
                  <a:lnTo>
                    <a:pt x="1032" y="4790"/>
                  </a:lnTo>
                  <a:lnTo>
                    <a:pt x="927" y="1297"/>
                  </a:lnTo>
                  <a:lnTo>
                    <a:pt x="1032" y="4790"/>
                  </a:lnTo>
                  <a:lnTo>
                    <a:pt x="1827" y="4790"/>
                  </a:lnTo>
                  <a:lnTo>
                    <a:pt x="174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852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1376" y="185"/>
                  </a:moveTo>
                  <a:lnTo>
                    <a:pt x="978" y="52"/>
                  </a:lnTo>
                  <a:lnTo>
                    <a:pt x="714" y="0"/>
                  </a:lnTo>
                  <a:lnTo>
                    <a:pt x="423" y="105"/>
                  </a:lnTo>
                  <a:lnTo>
                    <a:pt x="132" y="264"/>
                  </a:lnTo>
                  <a:lnTo>
                    <a:pt x="0" y="477"/>
                  </a:lnTo>
                  <a:lnTo>
                    <a:pt x="185" y="583"/>
                  </a:lnTo>
                  <a:lnTo>
                    <a:pt x="2091" y="583"/>
                  </a:lnTo>
                  <a:lnTo>
                    <a:pt x="2091" y="185"/>
                  </a:lnTo>
                  <a:lnTo>
                    <a:pt x="1376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40064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714" y="185"/>
                  </a:moveTo>
                  <a:lnTo>
                    <a:pt x="1112" y="52"/>
                  </a:lnTo>
                  <a:lnTo>
                    <a:pt x="1376" y="0"/>
                  </a:lnTo>
                  <a:lnTo>
                    <a:pt x="1667" y="105"/>
                  </a:lnTo>
                  <a:lnTo>
                    <a:pt x="1958" y="264"/>
                  </a:lnTo>
                  <a:lnTo>
                    <a:pt x="2091" y="477"/>
                  </a:lnTo>
                  <a:lnTo>
                    <a:pt x="1906" y="583"/>
                  </a:lnTo>
                  <a:lnTo>
                    <a:pt x="0" y="583"/>
                  </a:lnTo>
                  <a:lnTo>
                    <a:pt x="0" y="185"/>
                  </a:lnTo>
                  <a:lnTo>
                    <a:pt x="714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3681360" y="3200400"/>
            <a:ext cx="509760" cy="1443240"/>
            <a:chOff x="3681360" y="3200400"/>
            <a:chExt cx="509760" cy="1443240"/>
          </a:xfrm>
        </p:grpSpPr>
        <p:sp>
          <p:nvSpPr>
            <p:cNvPr id="531" name=""/>
            <p:cNvSpPr/>
            <p:nvPr/>
          </p:nvSpPr>
          <p:spPr>
            <a:xfrm>
              <a:off x="3705120" y="3200400"/>
              <a:ext cx="486000" cy="1190880"/>
            </a:xfrm>
            <a:custGeom>
              <a:avLst/>
              <a:gdLst/>
              <a:ahLst/>
              <a:rect l="0" t="0" r="r" b="b"/>
              <a:pathLst>
                <a:path w="1350" h="3308">
                  <a:moveTo>
                    <a:pt x="1112" y="0"/>
                  </a:moveTo>
                  <a:lnTo>
                    <a:pt x="1271" y="105"/>
                  </a:lnTo>
                  <a:lnTo>
                    <a:pt x="1350" y="423"/>
                  </a:lnTo>
                  <a:lnTo>
                    <a:pt x="1138" y="1322"/>
                  </a:lnTo>
                  <a:lnTo>
                    <a:pt x="821" y="3308"/>
                  </a:lnTo>
                  <a:lnTo>
                    <a:pt x="0" y="3149"/>
                  </a:lnTo>
                  <a:lnTo>
                    <a:pt x="370" y="1455"/>
                  </a:lnTo>
                  <a:lnTo>
                    <a:pt x="794" y="238"/>
                  </a:lnTo>
                  <a:lnTo>
                    <a:pt x="1112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681360" y="4357800"/>
              <a:ext cx="30492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3895560" y="3048120"/>
            <a:ext cx="981360" cy="1600560"/>
          </a:xfrm>
          <a:custGeom>
            <a:avLst/>
            <a:gdLst/>
            <a:ahLst/>
            <a:rect l="0" t="0" r="r" b="b"/>
            <a:pathLst>
              <a:path w="2726" h="4446">
                <a:moveTo>
                  <a:pt x="953" y="374"/>
                </a:moveTo>
                <a:lnTo>
                  <a:pt x="865" y="392"/>
                </a:lnTo>
                <a:lnTo>
                  <a:pt x="799" y="436"/>
                </a:lnTo>
                <a:lnTo>
                  <a:pt x="672" y="582"/>
                </a:lnTo>
                <a:lnTo>
                  <a:pt x="540" y="723"/>
                </a:lnTo>
                <a:lnTo>
                  <a:pt x="391" y="851"/>
                </a:lnTo>
                <a:lnTo>
                  <a:pt x="369" y="890"/>
                </a:lnTo>
                <a:lnTo>
                  <a:pt x="347" y="930"/>
                </a:lnTo>
                <a:lnTo>
                  <a:pt x="347" y="930"/>
                </a:lnTo>
                <a:lnTo>
                  <a:pt x="369" y="930"/>
                </a:lnTo>
                <a:lnTo>
                  <a:pt x="153" y="1553"/>
                </a:lnTo>
                <a:lnTo>
                  <a:pt x="0" y="4345"/>
                </a:lnTo>
                <a:lnTo>
                  <a:pt x="2726" y="4446"/>
                </a:lnTo>
                <a:lnTo>
                  <a:pt x="2317" y="1844"/>
                </a:lnTo>
                <a:lnTo>
                  <a:pt x="2119" y="414"/>
                </a:lnTo>
                <a:lnTo>
                  <a:pt x="1385" y="0"/>
                </a:lnTo>
                <a:lnTo>
                  <a:pt x="953" y="374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05280" y="1609560"/>
            <a:ext cx="895680" cy="1581480"/>
          </a:xfrm>
          <a:custGeom>
            <a:avLst/>
            <a:gdLst/>
            <a:ahLst/>
            <a:rect l="0" t="0" r="r" b="b"/>
            <a:pathLst>
              <a:path w="2488" h="4393">
                <a:moveTo>
                  <a:pt x="582" y="0"/>
                </a:moveTo>
                <a:lnTo>
                  <a:pt x="264" y="264"/>
                </a:lnTo>
                <a:lnTo>
                  <a:pt x="79" y="687"/>
                </a:lnTo>
                <a:lnTo>
                  <a:pt x="26" y="1217"/>
                </a:lnTo>
                <a:lnTo>
                  <a:pt x="0" y="2699"/>
                </a:lnTo>
                <a:lnTo>
                  <a:pt x="52" y="3546"/>
                </a:lnTo>
                <a:lnTo>
                  <a:pt x="820" y="3599"/>
                </a:lnTo>
                <a:lnTo>
                  <a:pt x="926" y="4075"/>
                </a:lnTo>
                <a:lnTo>
                  <a:pt x="1031" y="4393"/>
                </a:lnTo>
                <a:lnTo>
                  <a:pt x="1271" y="4393"/>
                </a:lnTo>
                <a:lnTo>
                  <a:pt x="1403" y="4102"/>
                </a:lnTo>
                <a:lnTo>
                  <a:pt x="1323" y="3599"/>
                </a:lnTo>
                <a:lnTo>
                  <a:pt x="2038" y="3519"/>
                </a:lnTo>
                <a:lnTo>
                  <a:pt x="2064" y="3017"/>
                </a:lnTo>
                <a:lnTo>
                  <a:pt x="2223" y="3096"/>
                </a:lnTo>
                <a:lnTo>
                  <a:pt x="2382" y="3043"/>
                </a:lnTo>
                <a:lnTo>
                  <a:pt x="2488" y="2620"/>
                </a:lnTo>
                <a:lnTo>
                  <a:pt x="2355" y="2408"/>
                </a:lnTo>
                <a:lnTo>
                  <a:pt x="2197" y="2435"/>
                </a:lnTo>
                <a:lnTo>
                  <a:pt x="2355" y="185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740040" y="1231920"/>
            <a:ext cx="1130760" cy="648000"/>
          </a:xfrm>
          <a:custGeom>
            <a:avLst/>
            <a:gdLst/>
            <a:ahLst/>
            <a:rect l="0" t="0" r="r" b="b"/>
            <a:pathLst>
              <a:path w="3141" h="1800">
                <a:moveTo>
                  <a:pt x="0" y="1588"/>
                </a:moveTo>
                <a:lnTo>
                  <a:pt x="3035" y="1800"/>
                </a:lnTo>
                <a:lnTo>
                  <a:pt x="3141" y="141"/>
                </a:lnTo>
                <a:lnTo>
                  <a:pt x="246" y="0"/>
                </a:lnTo>
                <a:lnTo>
                  <a:pt x="0" y="15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191120" y="3057480"/>
            <a:ext cx="305280" cy="181440"/>
          </a:xfrm>
          <a:custGeom>
            <a:avLst/>
            <a:gdLst/>
            <a:ahLst/>
            <a:rect l="0" t="0" r="r" b="b"/>
            <a:pathLst>
              <a:path w="848" h="504">
                <a:moveTo>
                  <a:pt x="0" y="344"/>
                </a:moveTo>
                <a:lnTo>
                  <a:pt x="239" y="478"/>
                </a:lnTo>
                <a:lnTo>
                  <a:pt x="663" y="504"/>
                </a:lnTo>
                <a:lnTo>
                  <a:pt x="848" y="265"/>
                </a:lnTo>
                <a:lnTo>
                  <a:pt x="848" y="79"/>
                </a:lnTo>
                <a:lnTo>
                  <a:pt x="663" y="0"/>
                </a:lnTo>
                <a:lnTo>
                  <a:pt x="477" y="265"/>
                </a:lnTo>
                <a:lnTo>
                  <a:pt x="185" y="292"/>
                </a:lnTo>
                <a:lnTo>
                  <a:pt x="0" y="344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3795840" y="1714680"/>
            <a:ext cx="962280" cy="1104840"/>
            <a:chOff x="3795840" y="1714680"/>
            <a:chExt cx="962280" cy="1104840"/>
          </a:xfrm>
        </p:grpSpPr>
        <p:sp>
          <p:nvSpPr>
            <p:cNvPr id="538" name=""/>
            <p:cNvSpPr/>
            <p:nvPr/>
          </p:nvSpPr>
          <p:spPr>
            <a:xfrm>
              <a:off x="3795840" y="2052720"/>
              <a:ext cx="409680" cy="409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48280" y="2014560"/>
              <a:ext cx="485640" cy="485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338720" y="2214720"/>
              <a:ext cx="85680" cy="85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929040" y="2224080"/>
              <a:ext cx="85680" cy="85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flipV="1">
              <a:off x="3924360" y="1866960"/>
              <a:ext cx="799920" cy="3816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70360" y="2562120"/>
              <a:ext cx="657720" cy="257400"/>
            </a:xfrm>
            <a:custGeom>
              <a:avLst/>
              <a:gdLst/>
              <a:ahLst/>
              <a:rect l="0" t="0" r="r" b="b"/>
              <a:pathLst>
                <a:path w="1827" h="715">
                  <a:moveTo>
                    <a:pt x="0" y="0"/>
                  </a:moveTo>
                  <a:lnTo>
                    <a:pt x="1827" y="163"/>
                  </a:lnTo>
                  <a:lnTo>
                    <a:pt x="746" y="7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3975120" y="1714680"/>
              <a:ext cx="767160" cy="177840"/>
              <a:chOff x="3975120" y="1714680"/>
              <a:chExt cx="767160" cy="17784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3975120" y="1714680"/>
                <a:ext cx="697320" cy="152640"/>
                <a:chOff x="3975120" y="1714680"/>
                <a:chExt cx="697320" cy="15264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3975120" y="1714680"/>
                  <a:ext cx="697320" cy="152640"/>
                </a:xfrm>
                <a:custGeom>
                  <a:avLst/>
                  <a:gdLst/>
                  <a:ahLst/>
                  <a:rect l="0" t="0" r="r" b="b"/>
                  <a:pathLst>
                    <a:path w="1937" h="424">
                      <a:moveTo>
                        <a:pt x="615" y="21"/>
                      </a:moveTo>
                      <a:lnTo>
                        <a:pt x="674" y="13"/>
                      </a:lnTo>
                      <a:lnTo>
                        <a:pt x="732" y="9"/>
                      </a:lnTo>
                      <a:lnTo>
                        <a:pt x="806" y="5"/>
                      </a:lnTo>
                      <a:lnTo>
                        <a:pt x="886" y="1"/>
                      </a:lnTo>
                      <a:lnTo>
                        <a:pt x="953" y="0"/>
                      </a:lnTo>
                      <a:lnTo>
                        <a:pt x="1031" y="2"/>
                      </a:lnTo>
                      <a:lnTo>
                        <a:pt x="1135" y="8"/>
                      </a:lnTo>
                      <a:lnTo>
                        <a:pt x="1263" y="18"/>
                      </a:lnTo>
                      <a:lnTo>
                        <a:pt x="1364" y="29"/>
                      </a:lnTo>
                      <a:lnTo>
                        <a:pt x="1452" y="42"/>
                      </a:lnTo>
                      <a:lnTo>
                        <a:pt x="1497" y="51"/>
                      </a:lnTo>
                      <a:lnTo>
                        <a:pt x="1537" y="60"/>
                      </a:lnTo>
                      <a:lnTo>
                        <a:pt x="1588" y="77"/>
                      </a:lnTo>
                      <a:lnTo>
                        <a:pt x="1610" y="86"/>
                      </a:lnTo>
                      <a:lnTo>
                        <a:pt x="1636" y="93"/>
                      </a:lnTo>
                      <a:lnTo>
                        <a:pt x="1680" y="99"/>
                      </a:lnTo>
                      <a:lnTo>
                        <a:pt x="1724" y="105"/>
                      </a:lnTo>
                      <a:lnTo>
                        <a:pt x="1768" y="114"/>
                      </a:lnTo>
                      <a:lnTo>
                        <a:pt x="1804" y="125"/>
                      </a:lnTo>
                      <a:lnTo>
                        <a:pt x="1824" y="134"/>
                      </a:lnTo>
                      <a:lnTo>
                        <a:pt x="1850" y="152"/>
                      </a:lnTo>
                      <a:lnTo>
                        <a:pt x="1880" y="181"/>
                      </a:lnTo>
                      <a:lnTo>
                        <a:pt x="1903" y="214"/>
                      </a:lnTo>
                      <a:lnTo>
                        <a:pt x="1923" y="241"/>
                      </a:lnTo>
                      <a:lnTo>
                        <a:pt x="1935" y="257"/>
                      </a:lnTo>
                      <a:lnTo>
                        <a:pt x="1937" y="275"/>
                      </a:lnTo>
                      <a:lnTo>
                        <a:pt x="1927" y="294"/>
                      </a:lnTo>
                      <a:lnTo>
                        <a:pt x="1917" y="316"/>
                      </a:lnTo>
                      <a:lnTo>
                        <a:pt x="1905" y="338"/>
                      </a:lnTo>
                      <a:lnTo>
                        <a:pt x="1892" y="356"/>
                      </a:lnTo>
                      <a:lnTo>
                        <a:pt x="1872" y="369"/>
                      </a:lnTo>
                      <a:lnTo>
                        <a:pt x="1852" y="378"/>
                      </a:lnTo>
                      <a:lnTo>
                        <a:pt x="1824" y="385"/>
                      </a:lnTo>
                      <a:lnTo>
                        <a:pt x="1802" y="389"/>
                      </a:lnTo>
                      <a:lnTo>
                        <a:pt x="1766" y="391"/>
                      </a:lnTo>
                      <a:lnTo>
                        <a:pt x="1686" y="393"/>
                      </a:lnTo>
                      <a:lnTo>
                        <a:pt x="1600" y="397"/>
                      </a:lnTo>
                      <a:lnTo>
                        <a:pt x="1517" y="404"/>
                      </a:lnTo>
                      <a:lnTo>
                        <a:pt x="1328" y="415"/>
                      </a:lnTo>
                      <a:lnTo>
                        <a:pt x="1221" y="419"/>
                      </a:lnTo>
                      <a:lnTo>
                        <a:pt x="1051" y="424"/>
                      </a:lnTo>
                      <a:lnTo>
                        <a:pt x="924" y="419"/>
                      </a:lnTo>
                      <a:lnTo>
                        <a:pt x="778" y="413"/>
                      </a:lnTo>
                      <a:lnTo>
                        <a:pt x="676" y="399"/>
                      </a:lnTo>
                      <a:lnTo>
                        <a:pt x="636" y="389"/>
                      </a:lnTo>
                      <a:lnTo>
                        <a:pt x="605" y="380"/>
                      </a:lnTo>
                      <a:lnTo>
                        <a:pt x="567" y="374"/>
                      </a:lnTo>
                      <a:lnTo>
                        <a:pt x="533" y="371"/>
                      </a:lnTo>
                      <a:lnTo>
                        <a:pt x="503" y="371"/>
                      </a:lnTo>
                      <a:lnTo>
                        <a:pt x="470" y="369"/>
                      </a:lnTo>
                      <a:lnTo>
                        <a:pt x="420" y="362"/>
                      </a:lnTo>
                      <a:lnTo>
                        <a:pt x="388" y="353"/>
                      </a:lnTo>
                      <a:lnTo>
                        <a:pt x="368" y="344"/>
                      </a:lnTo>
                      <a:lnTo>
                        <a:pt x="356" y="334"/>
                      </a:lnTo>
                      <a:lnTo>
                        <a:pt x="348" y="323"/>
                      </a:lnTo>
                      <a:lnTo>
                        <a:pt x="336" y="315"/>
                      </a:lnTo>
                      <a:lnTo>
                        <a:pt x="307" y="305"/>
                      </a:lnTo>
                      <a:lnTo>
                        <a:pt x="259" y="296"/>
                      </a:lnTo>
                      <a:lnTo>
                        <a:pt x="207" y="292"/>
                      </a:lnTo>
                      <a:lnTo>
                        <a:pt x="163" y="289"/>
                      </a:lnTo>
                      <a:lnTo>
                        <a:pt x="115" y="283"/>
                      </a:lnTo>
                      <a:lnTo>
                        <a:pt x="75" y="276"/>
                      </a:lnTo>
                      <a:lnTo>
                        <a:pt x="43" y="268"/>
                      </a:lnTo>
                      <a:lnTo>
                        <a:pt x="25" y="259"/>
                      </a:lnTo>
                      <a:lnTo>
                        <a:pt x="13" y="244"/>
                      </a:lnTo>
                      <a:lnTo>
                        <a:pt x="3" y="226"/>
                      </a:lnTo>
                      <a:lnTo>
                        <a:pt x="0" y="208"/>
                      </a:lnTo>
                      <a:lnTo>
                        <a:pt x="3" y="190"/>
                      </a:lnTo>
                      <a:lnTo>
                        <a:pt x="19" y="168"/>
                      </a:lnTo>
                      <a:lnTo>
                        <a:pt x="47" y="147"/>
                      </a:lnTo>
                      <a:lnTo>
                        <a:pt x="87" y="126"/>
                      </a:lnTo>
                      <a:lnTo>
                        <a:pt x="139" y="107"/>
                      </a:lnTo>
                      <a:lnTo>
                        <a:pt x="193" y="95"/>
                      </a:lnTo>
                      <a:lnTo>
                        <a:pt x="235" y="86"/>
                      </a:lnTo>
                      <a:lnTo>
                        <a:pt x="295" y="80"/>
                      </a:lnTo>
                      <a:lnTo>
                        <a:pt x="336" y="78"/>
                      </a:lnTo>
                      <a:lnTo>
                        <a:pt x="378" y="72"/>
                      </a:lnTo>
                      <a:lnTo>
                        <a:pt x="442" y="57"/>
                      </a:lnTo>
                      <a:lnTo>
                        <a:pt x="493" y="44"/>
                      </a:lnTo>
                      <a:lnTo>
                        <a:pt x="557" y="30"/>
                      </a:lnTo>
                      <a:lnTo>
                        <a:pt x="615" y="21"/>
                      </a:lnTo>
                      <a:close/>
                    </a:path>
                  </a:pathLst>
                </a:custGeom>
                <a:solidFill>
                  <a:srgbClr val="ff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7" name=""/>
                <p:cNvGrpSpPr/>
                <p:nvPr/>
              </p:nvGrpSpPr>
              <p:grpSpPr>
                <a:xfrm>
                  <a:off x="3992400" y="1717560"/>
                  <a:ext cx="656280" cy="126000"/>
                  <a:chOff x="3992400" y="1717560"/>
                  <a:chExt cx="656280" cy="126000"/>
                </a:xfrm>
              </p:grpSpPr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3992400" y="1771560"/>
                    <a:ext cx="117720" cy="59040"/>
                    <a:chOff x="3992400" y="1771560"/>
                    <a:chExt cx="117720" cy="5904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3992400" y="1771560"/>
                      <a:ext cx="117720" cy="59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327" h="164">
                          <a:moveTo>
                            <a:pt x="3" y="0"/>
                          </a:moveTo>
                          <a:lnTo>
                            <a:pt x="1" y="6"/>
                          </a:lnTo>
                          <a:lnTo>
                            <a:pt x="0" y="14"/>
                          </a:lnTo>
                          <a:lnTo>
                            <a:pt x="1" y="21"/>
                          </a:lnTo>
                          <a:lnTo>
                            <a:pt x="7" y="30"/>
                          </a:lnTo>
                          <a:lnTo>
                            <a:pt x="13" y="37"/>
                          </a:lnTo>
                          <a:lnTo>
                            <a:pt x="27" y="44"/>
                          </a:lnTo>
                          <a:lnTo>
                            <a:pt x="43" y="52"/>
                          </a:lnTo>
                          <a:lnTo>
                            <a:pt x="69" y="57"/>
                          </a:lnTo>
                          <a:lnTo>
                            <a:pt x="92" y="61"/>
                          </a:lnTo>
                          <a:lnTo>
                            <a:pt x="118" y="66"/>
                          </a:lnTo>
                          <a:lnTo>
                            <a:pt x="124" y="72"/>
                          </a:lnTo>
                          <a:lnTo>
                            <a:pt x="132" y="83"/>
                          </a:lnTo>
                          <a:lnTo>
                            <a:pt x="148" y="91"/>
                          </a:lnTo>
                          <a:lnTo>
                            <a:pt x="167" y="101"/>
                          </a:lnTo>
                          <a:lnTo>
                            <a:pt x="198" y="111"/>
                          </a:lnTo>
                          <a:lnTo>
                            <a:pt x="222" y="118"/>
                          </a:lnTo>
                          <a:lnTo>
                            <a:pt x="240" y="122"/>
                          </a:lnTo>
                          <a:lnTo>
                            <a:pt x="269" y="127"/>
                          </a:lnTo>
                          <a:lnTo>
                            <a:pt x="301" y="130"/>
                          </a:lnTo>
                          <a:lnTo>
                            <a:pt x="315" y="132"/>
                          </a:lnTo>
                          <a:lnTo>
                            <a:pt x="323" y="135"/>
                          </a:lnTo>
                          <a:lnTo>
                            <a:pt x="327" y="139"/>
                          </a:lnTo>
                          <a:lnTo>
                            <a:pt x="321" y="153"/>
                          </a:lnTo>
                          <a:lnTo>
                            <a:pt x="313" y="164"/>
                          </a:lnTo>
                        </a:path>
                      </a:pathLst>
                    </a:custGeom>
                    <a:ln w="12600">
                      <a:solidFill>
                        <a:srgbClr val="ff8080"/>
                      </a:solidFill>
                      <a:round/>
                    </a:ln>
                  </p:spPr>
                  <p:txBody>
                    <a:bodyPr lIns="96120" rIns="9612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4037040" y="177948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72" h="72">
                          <a:moveTo>
                            <a:pt x="45" y="0"/>
                          </a:moveTo>
                          <a:lnTo>
                            <a:pt x="63" y="21"/>
                          </a:lnTo>
                          <a:lnTo>
                            <a:pt x="72" y="37"/>
                          </a:lnTo>
                          <a:lnTo>
                            <a:pt x="53" y="56"/>
                          </a:lnTo>
                          <a:lnTo>
                            <a:pt x="0" y="72"/>
                          </a:lnTo>
                        </a:path>
                      </a:pathLst>
                    </a:custGeom>
                    <a:ln w="12600">
                      <a:solidFill>
                        <a:srgbClr val="ff808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1" name=""/>
                  <p:cNvSpPr/>
                  <p:nvPr/>
                </p:nvSpPr>
                <p:spPr>
                  <a:xfrm>
                    <a:off x="4094280" y="1787400"/>
                    <a:ext cx="11304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14" h="89">
                        <a:moveTo>
                          <a:pt x="0" y="0"/>
                        </a:moveTo>
                        <a:lnTo>
                          <a:pt x="6" y="12"/>
                        </a:lnTo>
                        <a:lnTo>
                          <a:pt x="16" y="27"/>
                        </a:lnTo>
                        <a:lnTo>
                          <a:pt x="26" y="38"/>
                        </a:lnTo>
                        <a:lnTo>
                          <a:pt x="40" y="46"/>
                        </a:lnTo>
                        <a:lnTo>
                          <a:pt x="68" y="53"/>
                        </a:lnTo>
                        <a:lnTo>
                          <a:pt x="92" y="56"/>
                        </a:lnTo>
                        <a:lnTo>
                          <a:pt x="120" y="61"/>
                        </a:lnTo>
                        <a:lnTo>
                          <a:pt x="161" y="68"/>
                        </a:lnTo>
                        <a:lnTo>
                          <a:pt x="197" y="77"/>
                        </a:lnTo>
                        <a:lnTo>
                          <a:pt x="223" y="84"/>
                        </a:lnTo>
                        <a:lnTo>
                          <a:pt x="247" y="87"/>
                        </a:lnTo>
                        <a:lnTo>
                          <a:pt x="273" y="89"/>
                        </a:lnTo>
                        <a:lnTo>
                          <a:pt x="312" y="88"/>
                        </a:lnTo>
                        <a:lnTo>
                          <a:pt x="314" y="88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4105440" y="1762200"/>
                    <a:ext cx="766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13" h="72">
                        <a:moveTo>
                          <a:pt x="0" y="72"/>
                        </a:moveTo>
                        <a:lnTo>
                          <a:pt x="27" y="49"/>
                        </a:lnTo>
                        <a:lnTo>
                          <a:pt x="51" y="32"/>
                        </a:lnTo>
                        <a:lnTo>
                          <a:pt x="88" y="12"/>
                        </a:lnTo>
                        <a:lnTo>
                          <a:pt x="117" y="4"/>
                        </a:lnTo>
                        <a:lnTo>
                          <a:pt x="151" y="0"/>
                        </a:lnTo>
                        <a:lnTo>
                          <a:pt x="182" y="2"/>
                        </a:lnTo>
                        <a:lnTo>
                          <a:pt x="213" y="12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4071960" y="1746360"/>
                    <a:ext cx="25920" cy="385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2" h="107">
                        <a:moveTo>
                          <a:pt x="27" y="0"/>
                        </a:moveTo>
                        <a:lnTo>
                          <a:pt x="45" y="9"/>
                        </a:lnTo>
                        <a:lnTo>
                          <a:pt x="59" y="17"/>
                        </a:lnTo>
                        <a:lnTo>
                          <a:pt x="68" y="28"/>
                        </a:lnTo>
                        <a:lnTo>
                          <a:pt x="72" y="41"/>
                        </a:lnTo>
                        <a:lnTo>
                          <a:pt x="68" y="56"/>
                        </a:lnTo>
                        <a:lnTo>
                          <a:pt x="61" y="70"/>
                        </a:lnTo>
                        <a:lnTo>
                          <a:pt x="51" y="82"/>
                        </a:lnTo>
                        <a:lnTo>
                          <a:pt x="38" y="90"/>
                        </a:lnTo>
                        <a:lnTo>
                          <a:pt x="15" y="101"/>
                        </a:lnTo>
                        <a:lnTo>
                          <a:pt x="0" y="107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4105440" y="1733400"/>
                    <a:ext cx="590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64" h="72">
                        <a:moveTo>
                          <a:pt x="0" y="72"/>
                        </a:moveTo>
                        <a:lnTo>
                          <a:pt x="38" y="55"/>
                        </a:lnTo>
                        <a:lnTo>
                          <a:pt x="73" y="37"/>
                        </a:lnTo>
                        <a:lnTo>
                          <a:pt x="113" y="21"/>
                        </a:lnTo>
                        <a:lnTo>
                          <a:pt x="164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4276800" y="1717560"/>
                    <a:ext cx="338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94" h="72">
                        <a:moveTo>
                          <a:pt x="0" y="72"/>
                        </a:moveTo>
                        <a:lnTo>
                          <a:pt x="34" y="40"/>
                        </a:lnTo>
                        <a:lnTo>
                          <a:pt x="94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4191120" y="1725480"/>
                    <a:ext cx="2336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649" h="72">
                        <a:moveTo>
                          <a:pt x="0" y="72"/>
                        </a:moveTo>
                        <a:lnTo>
                          <a:pt x="24" y="70"/>
                        </a:lnTo>
                        <a:lnTo>
                          <a:pt x="42" y="66"/>
                        </a:lnTo>
                        <a:lnTo>
                          <a:pt x="58" y="62"/>
                        </a:lnTo>
                        <a:lnTo>
                          <a:pt x="70" y="55"/>
                        </a:lnTo>
                        <a:lnTo>
                          <a:pt x="76" y="46"/>
                        </a:lnTo>
                        <a:lnTo>
                          <a:pt x="80" y="37"/>
                        </a:lnTo>
                        <a:lnTo>
                          <a:pt x="88" y="47"/>
                        </a:lnTo>
                        <a:lnTo>
                          <a:pt x="98" y="53"/>
                        </a:lnTo>
                        <a:lnTo>
                          <a:pt x="116" y="58"/>
                        </a:lnTo>
                        <a:lnTo>
                          <a:pt x="138" y="60"/>
                        </a:lnTo>
                        <a:lnTo>
                          <a:pt x="164" y="61"/>
                        </a:lnTo>
                        <a:lnTo>
                          <a:pt x="206" y="60"/>
                        </a:lnTo>
                        <a:lnTo>
                          <a:pt x="248" y="58"/>
                        </a:lnTo>
                        <a:lnTo>
                          <a:pt x="286" y="55"/>
                        </a:lnTo>
                        <a:lnTo>
                          <a:pt x="316" y="52"/>
                        </a:lnTo>
                        <a:lnTo>
                          <a:pt x="351" y="45"/>
                        </a:lnTo>
                        <a:lnTo>
                          <a:pt x="377" y="39"/>
                        </a:lnTo>
                        <a:lnTo>
                          <a:pt x="401" y="32"/>
                        </a:lnTo>
                        <a:lnTo>
                          <a:pt x="417" y="21"/>
                        </a:lnTo>
                        <a:lnTo>
                          <a:pt x="427" y="29"/>
                        </a:lnTo>
                        <a:lnTo>
                          <a:pt x="441" y="35"/>
                        </a:lnTo>
                        <a:lnTo>
                          <a:pt x="457" y="41"/>
                        </a:lnTo>
                        <a:lnTo>
                          <a:pt x="483" y="44"/>
                        </a:lnTo>
                        <a:lnTo>
                          <a:pt x="515" y="45"/>
                        </a:lnTo>
                        <a:lnTo>
                          <a:pt x="541" y="44"/>
                        </a:lnTo>
                        <a:lnTo>
                          <a:pt x="559" y="42"/>
                        </a:lnTo>
                        <a:lnTo>
                          <a:pt x="587" y="39"/>
                        </a:lnTo>
                        <a:lnTo>
                          <a:pt x="605" y="35"/>
                        </a:lnTo>
                        <a:lnTo>
                          <a:pt x="621" y="31"/>
                        </a:lnTo>
                        <a:lnTo>
                          <a:pt x="631" y="23"/>
                        </a:lnTo>
                        <a:lnTo>
                          <a:pt x="639" y="13"/>
                        </a:lnTo>
                        <a:lnTo>
                          <a:pt x="649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4165560" y="1762200"/>
                    <a:ext cx="2624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29" h="72">
                        <a:moveTo>
                          <a:pt x="0" y="46"/>
                        </a:moveTo>
                        <a:lnTo>
                          <a:pt x="25" y="36"/>
                        </a:lnTo>
                        <a:lnTo>
                          <a:pt x="55" y="26"/>
                        </a:lnTo>
                        <a:lnTo>
                          <a:pt x="81" y="17"/>
                        </a:lnTo>
                        <a:lnTo>
                          <a:pt x="109" y="11"/>
                        </a:lnTo>
                        <a:lnTo>
                          <a:pt x="139" y="4"/>
                        </a:lnTo>
                        <a:lnTo>
                          <a:pt x="157" y="2"/>
                        </a:lnTo>
                        <a:lnTo>
                          <a:pt x="188" y="0"/>
                        </a:lnTo>
                        <a:lnTo>
                          <a:pt x="248" y="0"/>
                        </a:lnTo>
                        <a:lnTo>
                          <a:pt x="312" y="0"/>
                        </a:lnTo>
                        <a:lnTo>
                          <a:pt x="370" y="2"/>
                        </a:lnTo>
                        <a:lnTo>
                          <a:pt x="432" y="4"/>
                        </a:lnTo>
                        <a:lnTo>
                          <a:pt x="478" y="8"/>
                        </a:lnTo>
                        <a:lnTo>
                          <a:pt x="522" y="13"/>
                        </a:lnTo>
                        <a:lnTo>
                          <a:pt x="561" y="21"/>
                        </a:lnTo>
                        <a:lnTo>
                          <a:pt x="603" y="30"/>
                        </a:lnTo>
                        <a:lnTo>
                          <a:pt x="645" y="39"/>
                        </a:lnTo>
                        <a:lnTo>
                          <a:pt x="675" y="49"/>
                        </a:lnTo>
                        <a:lnTo>
                          <a:pt x="705" y="61"/>
                        </a:lnTo>
                        <a:lnTo>
                          <a:pt x="729" y="72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4356000" y="1752480"/>
                    <a:ext cx="558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55" h="72">
                        <a:moveTo>
                          <a:pt x="0" y="63"/>
                        </a:moveTo>
                        <a:lnTo>
                          <a:pt x="28" y="69"/>
                        </a:lnTo>
                        <a:lnTo>
                          <a:pt x="57" y="72"/>
                        </a:lnTo>
                        <a:lnTo>
                          <a:pt x="83" y="67"/>
                        </a:lnTo>
                        <a:lnTo>
                          <a:pt x="108" y="57"/>
                        </a:lnTo>
                        <a:lnTo>
                          <a:pt x="130" y="40"/>
                        </a:lnTo>
                        <a:lnTo>
                          <a:pt x="142" y="21"/>
                        </a:lnTo>
                        <a:lnTo>
                          <a:pt x="155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4440240" y="1731960"/>
                    <a:ext cx="46440" cy="417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29" h="116">
                        <a:moveTo>
                          <a:pt x="113" y="0"/>
                        </a:moveTo>
                        <a:lnTo>
                          <a:pt x="101" y="9"/>
                        </a:lnTo>
                        <a:lnTo>
                          <a:pt x="84" y="19"/>
                        </a:lnTo>
                        <a:lnTo>
                          <a:pt x="66" y="24"/>
                        </a:lnTo>
                        <a:lnTo>
                          <a:pt x="54" y="27"/>
                        </a:lnTo>
                        <a:lnTo>
                          <a:pt x="36" y="27"/>
                        </a:lnTo>
                        <a:lnTo>
                          <a:pt x="15" y="27"/>
                        </a:lnTo>
                        <a:lnTo>
                          <a:pt x="0" y="24"/>
                        </a:lnTo>
                        <a:lnTo>
                          <a:pt x="23" y="32"/>
                        </a:lnTo>
                        <a:lnTo>
                          <a:pt x="40" y="37"/>
                        </a:lnTo>
                        <a:lnTo>
                          <a:pt x="48" y="42"/>
                        </a:lnTo>
                        <a:lnTo>
                          <a:pt x="52" y="45"/>
                        </a:lnTo>
                        <a:lnTo>
                          <a:pt x="50" y="51"/>
                        </a:lnTo>
                        <a:lnTo>
                          <a:pt x="48" y="58"/>
                        </a:lnTo>
                        <a:lnTo>
                          <a:pt x="44" y="69"/>
                        </a:lnTo>
                        <a:lnTo>
                          <a:pt x="48" y="78"/>
                        </a:lnTo>
                        <a:lnTo>
                          <a:pt x="56" y="90"/>
                        </a:lnTo>
                        <a:lnTo>
                          <a:pt x="66" y="96"/>
                        </a:lnTo>
                        <a:lnTo>
                          <a:pt x="78" y="102"/>
                        </a:lnTo>
                        <a:lnTo>
                          <a:pt x="101" y="108"/>
                        </a:lnTo>
                        <a:lnTo>
                          <a:pt x="129" y="116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4494240" y="1741320"/>
                    <a:ext cx="147960" cy="385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411" h="107">
                        <a:moveTo>
                          <a:pt x="90" y="0"/>
                        </a:moveTo>
                        <a:lnTo>
                          <a:pt x="82" y="7"/>
                        </a:lnTo>
                        <a:lnTo>
                          <a:pt x="70" y="15"/>
                        </a:lnTo>
                        <a:lnTo>
                          <a:pt x="54" y="21"/>
                        </a:lnTo>
                        <a:lnTo>
                          <a:pt x="30" y="29"/>
                        </a:lnTo>
                        <a:lnTo>
                          <a:pt x="0" y="37"/>
                        </a:lnTo>
                        <a:lnTo>
                          <a:pt x="24" y="39"/>
                        </a:lnTo>
                        <a:lnTo>
                          <a:pt x="50" y="40"/>
                        </a:lnTo>
                        <a:lnTo>
                          <a:pt x="72" y="42"/>
                        </a:lnTo>
                        <a:lnTo>
                          <a:pt x="88" y="45"/>
                        </a:lnTo>
                        <a:lnTo>
                          <a:pt x="100" y="48"/>
                        </a:lnTo>
                        <a:lnTo>
                          <a:pt x="112" y="55"/>
                        </a:lnTo>
                        <a:lnTo>
                          <a:pt x="120" y="60"/>
                        </a:lnTo>
                        <a:lnTo>
                          <a:pt x="126" y="68"/>
                        </a:lnTo>
                        <a:lnTo>
                          <a:pt x="130" y="79"/>
                        </a:lnTo>
                        <a:lnTo>
                          <a:pt x="126" y="100"/>
                        </a:lnTo>
                        <a:lnTo>
                          <a:pt x="142" y="95"/>
                        </a:lnTo>
                        <a:lnTo>
                          <a:pt x="160" y="89"/>
                        </a:lnTo>
                        <a:lnTo>
                          <a:pt x="178" y="84"/>
                        </a:lnTo>
                        <a:lnTo>
                          <a:pt x="202" y="79"/>
                        </a:lnTo>
                        <a:lnTo>
                          <a:pt x="225" y="77"/>
                        </a:lnTo>
                        <a:lnTo>
                          <a:pt x="251" y="77"/>
                        </a:lnTo>
                        <a:lnTo>
                          <a:pt x="281" y="78"/>
                        </a:lnTo>
                        <a:lnTo>
                          <a:pt x="309" y="82"/>
                        </a:lnTo>
                        <a:lnTo>
                          <a:pt x="329" y="84"/>
                        </a:lnTo>
                        <a:lnTo>
                          <a:pt x="353" y="89"/>
                        </a:lnTo>
                        <a:lnTo>
                          <a:pt x="371" y="94"/>
                        </a:lnTo>
                        <a:lnTo>
                          <a:pt x="411" y="107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4489560" y="1770120"/>
                    <a:ext cx="55800" cy="273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55" h="76">
                        <a:moveTo>
                          <a:pt x="22" y="0"/>
                        </a:moveTo>
                        <a:lnTo>
                          <a:pt x="12" y="9"/>
                        </a:lnTo>
                        <a:lnTo>
                          <a:pt x="2" y="18"/>
                        </a:lnTo>
                        <a:lnTo>
                          <a:pt x="0" y="27"/>
                        </a:lnTo>
                        <a:lnTo>
                          <a:pt x="4" y="37"/>
                        </a:lnTo>
                        <a:lnTo>
                          <a:pt x="16" y="49"/>
                        </a:lnTo>
                        <a:lnTo>
                          <a:pt x="30" y="65"/>
                        </a:lnTo>
                        <a:lnTo>
                          <a:pt x="40" y="70"/>
                        </a:lnTo>
                        <a:lnTo>
                          <a:pt x="50" y="74"/>
                        </a:lnTo>
                        <a:lnTo>
                          <a:pt x="62" y="75"/>
                        </a:lnTo>
                        <a:lnTo>
                          <a:pt x="103" y="76"/>
                        </a:lnTo>
                        <a:lnTo>
                          <a:pt x="155" y="75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4551480" y="1790640"/>
                    <a:ext cx="828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30" h="72">
                        <a:moveTo>
                          <a:pt x="0" y="52"/>
                        </a:moveTo>
                        <a:lnTo>
                          <a:pt x="27" y="62"/>
                        </a:lnTo>
                        <a:lnTo>
                          <a:pt x="51" y="67"/>
                        </a:lnTo>
                        <a:lnTo>
                          <a:pt x="79" y="72"/>
                        </a:lnTo>
                        <a:lnTo>
                          <a:pt x="112" y="72"/>
                        </a:lnTo>
                        <a:lnTo>
                          <a:pt x="141" y="66"/>
                        </a:lnTo>
                        <a:lnTo>
                          <a:pt x="169" y="56"/>
                        </a:lnTo>
                        <a:lnTo>
                          <a:pt x="192" y="39"/>
                        </a:lnTo>
                        <a:lnTo>
                          <a:pt x="214" y="17"/>
                        </a:lnTo>
                        <a:lnTo>
                          <a:pt x="230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4532400" y="1809720"/>
                    <a:ext cx="116280" cy="338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23" h="94">
                        <a:moveTo>
                          <a:pt x="323" y="0"/>
                        </a:moveTo>
                        <a:lnTo>
                          <a:pt x="313" y="8"/>
                        </a:lnTo>
                        <a:lnTo>
                          <a:pt x="298" y="16"/>
                        </a:lnTo>
                        <a:lnTo>
                          <a:pt x="272" y="25"/>
                        </a:lnTo>
                        <a:lnTo>
                          <a:pt x="258" y="27"/>
                        </a:lnTo>
                        <a:lnTo>
                          <a:pt x="233" y="30"/>
                        </a:lnTo>
                        <a:lnTo>
                          <a:pt x="199" y="27"/>
                        </a:lnTo>
                        <a:lnTo>
                          <a:pt x="163" y="25"/>
                        </a:lnTo>
                        <a:lnTo>
                          <a:pt x="120" y="21"/>
                        </a:lnTo>
                        <a:lnTo>
                          <a:pt x="84" y="18"/>
                        </a:lnTo>
                        <a:lnTo>
                          <a:pt x="53" y="16"/>
                        </a:lnTo>
                        <a:lnTo>
                          <a:pt x="17" y="16"/>
                        </a:lnTo>
                        <a:lnTo>
                          <a:pt x="0" y="18"/>
                        </a:lnTo>
                        <a:lnTo>
                          <a:pt x="21" y="20"/>
                        </a:lnTo>
                        <a:lnTo>
                          <a:pt x="39" y="26"/>
                        </a:lnTo>
                        <a:lnTo>
                          <a:pt x="55" y="30"/>
                        </a:lnTo>
                        <a:lnTo>
                          <a:pt x="77" y="38"/>
                        </a:lnTo>
                        <a:lnTo>
                          <a:pt x="96" y="46"/>
                        </a:lnTo>
                        <a:lnTo>
                          <a:pt x="118" y="57"/>
                        </a:lnTo>
                        <a:lnTo>
                          <a:pt x="136" y="66"/>
                        </a:lnTo>
                        <a:lnTo>
                          <a:pt x="154" y="80"/>
                        </a:lnTo>
                        <a:lnTo>
                          <a:pt x="169" y="94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4457880" y="1784520"/>
                    <a:ext cx="81360" cy="52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26" h="147">
                        <a:moveTo>
                          <a:pt x="58" y="0"/>
                        </a:moveTo>
                        <a:lnTo>
                          <a:pt x="39" y="2"/>
                        </a:lnTo>
                        <a:lnTo>
                          <a:pt x="17" y="7"/>
                        </a:lnTo>
                        <a:lnTo>
                          <a:pt x="5" y="13"/>
                        </a:lnTo>
                        <a:lnTo>
                          <a:pt x="1" y="17"/>
                        </a:lnTo>
                        <a:lnTo>
                          <a:pt x="0" y="21"/>
                        </a:lnTo>
                        <a:lnTo>
                          <a:pt x="3" y="29"/>
                        </a:lnTo>
                        <a:lnTo>
                          <a:pt x="11" y="39"/>
                        </a:lnTo>
                        <a:lnTo>
                          <a:pt x="23" y="50"/>
                        </a:lnTo>
                        <a:lnTo>
                          <a:pt x="37" y="60"/>
                        </a:lnTo>
                        <a:lnTo>
                          <a:pt x="55" y="69"/>
                        </a:lnTo>
                        <a:lnTo>
                          <a:pt x="74" y="77"/>
                        </a:lnTo>
                        <a:lnTo>
                          <a:pt x="98" y="84"/>
                        </a:lnTo>
                        <a:lnTo>
                          <a:pt x="120" y="90"/>
                        </a:lnTo>
                        <a:lnTo>
                          <a:pt x="148" y="96"/>
                        </a:lnTo>
                        <a:lnTo>
                          <a:pt x="162" y="109"/>
                        </a:lnTo>
                        <a:lnTo>
                          <a:pt x="179" y="121"/>
                        </a:lnTo>
                        <a:lnTo>
                          <a:pt x="205" y="135"/>
                        </a:lnTo>
                        <a:lnTo>
                          <a:pt x="226" y="147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5" name=""/>
              <p:cNvGrpSpPr/>
              <p:nvPr/>
            </p:nvGrpSpPr>
            <p:grpSpPr>
              <a:xfrm>
                <a:off x="4044960" y="1739880"/>
                <a:ext cx="697320" cy="152640"/>
                <a:chOff x="4044960" y="1739880"/>
                <a:chExt cx="697320" cy="15264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4044960" y="1739880"/>
                  <a:ext cx="697320" cy="152640"/>
                </a:xfrm>
                <a:custGeom>
                  <a:avLst/>
                  <a:gdLst/>
                  <a:ahLst/>
                  <a:rect l="0" t="0" r="r" b="b"/>
                  <a:pathLst>
                    <a:path w="1937" h="424">
                      <a:moveTo>
                        <a:pt x="615" y="21"/>
                      </a:moveTo>
                      <a:lnTo>
                        <a:pt x="674" y="13"/>
                      </a:lnTo>
                      <a:lnTo>
                        <a:pt x="732" y="9"/>
                      </a:lnTo>
                      <a:lnTo>
                        <a:pt x="806" y="5"/>
                      </a:lnTo>
                      <a:lnTo>
                        <a:pt x="886" y="1"/>
                      </a:lnTo>
                      <a:lnTo>
                        <a:pt x="953" y="0"/>
                      </a:lnTo>
                      <a:lnTo>
                        <a:pt x="1031" y="2"/>
                      </a:lnTo>
                      <a:lnTo>
                        <a:pt x="1135" y="8"/>
                      </a:lnTo>
                      <a:lnTo>
                        <a:pt x="1263" y="18"/>
                      </a:lnTo>
                      <a:lnTo>
                        <a:pt x="1364" y="29"/>
                      </a:lnTo>
                      <a:lnTo>
                        <a:pt x="1452" y="42"/>
                      </a:lnTo>
                      <a:lnTo>
                        <a:pt x="1497" y="51"/>
                      </a:lnTo>
                      <a:lnTo>
                        <a:pt x="1537" y="60"/>
                      </a:lnTo>
                      <a:lnTo>
                        <a:pt x="1588" y="77"/>
                      </a:lnTo>
                      <a:lnTo>
                        <a:pt x="1610" y="86"/>
                      </a:lnTo>
                      <a:lnTo>
                        <a:pt x="1636" y="93"/>
                      </a:lnTo>
                      <a:lnTo>
                        <a:pt x="1680" y="99"/>
                      </a:lnTo>
                      <a:lnTo>
                        <a:pt x="1724" y="105"/>
                      </a:lnTo>
                      <a:lnTo>
                        <a:pt x="1768" y="114"/>
                      </a:lnTo>
                      <a:lnTo>
                        <a:pt x="1804" y="125"/>
                      </a:lnTo>
                      <a:lnTo>
                        <a:pt x="1824" y="134"/>
                      </a:lnTo>
                      <a:lnTo>
                        <a:pt x="1850" y="152"/>
                      </a:lnTo>
                      <a:lnTo>
                        <a:pt x="1880" y="181"/>
                      </a:lnTo>
                      <a:lnTo>
                        <a:pt x="1903" y="214"/>
                      </a:lnTo>
                      <a:lnTo>
                        <a:pt x="1923" y="241"/>
                      </a:lnTo>
                      <a:lnTo>
                        <a:pt x="1935" y="257"/>
                      </a:lnTo>
                      <a:lnTo>
                        <a:pt x="1937" y="275"/>
                      </a:lnTo>
                      <a:lnTo>
                        <a:pt x="1927" y="294"/>
                      </a:lnTo>
                      <a:lnTo>
                        <a:pt x="1917" y="316"/>
                      </a:lnTo>
                      <a:lnTo>
                        <a:pt x="1905" y="338"/>
                      </a:lnTo>
                      <a:lnTo>
                        <a:pt x="1892" y="356"/>
                      </a:lnTo>
                      <a:lnTo>
                        <a:pt x="1872" y="369"/>
                      </a:lnTo>
                      <a:lnTo>
                        <a:pt x="1852" y="378"/>
                      </a:lnTo>
                      <a:lnTo>
                        <a:pt x="1824" y="385"/>
                      </a:lnTo>
                      <a:lnTo>
                        <a:pt x="1802" y="389"/>
                      </a:lnTo>
                      <a:lnTo>
                        <a:pt x="1766" y="391"/>
                      </a:lnTo>
                      <a:lnTo>
                        <a:pt x="1686" y="393"/>
                      </a:lnTo>
                      <a:lnTo>
                        <a:pt x="1600" y="397"/>
                      </a:lnTo>
                      <a:lnTo>
                        <a:pt x="1517" y="404"/>
                      </a:lnTo>
                      <a:lnTo>
                        <a:pt x="1328" y="415"/>
                      </a:lnTo>
                      <a:lnTo>
                        <a:pt x="1221" y="419"/>
                      </a:lnTo>
                      <a:lnTo>
                        <a:pt x="1051" y="424"/>
                      </a:lnTo>
                      <a:lnTo>
                        <a:pt x="924" y="419"/>
                      </a:lnTo>
                      <a:lnTo>
                        <a:pt x="778" y="413"/>
                      </a:lnTo>
                      <a:lnTo>
                        <a:pt x="676" y="399"/>
                      </a:lnTo>
                      <a:lnTo>
                        <a:pt x="636" y="389"/>
                      </a:lnTo>
                      <a:lnTo>
                        <a:pt x="605" y="380"/>
                      </a:lnTo>
                      <a:lnTo>
                        <a:pt x="567" y="374"/>
                      </a:lnTo>
                      <a:lnTo>
                        <a:pt x="533" y="371"/>
                      </a:lnTo>
                      <a:lnTo>
                        <a:pt x="503" y="371"/>
                      </a:lnTo>
                      <a:lnTo>
                        <a:pt x="470" y="369"/>
                      </a:lnTo>
                      <a:lnTo>
                        <a:pt x="420" y="362"/>
                      </a:lnTo>
                      <a:lnTo>
                        <a:pt x="388" y="353"/>
                      </a:lnTo>
                      <a:lnTo>
                        <a:pt x="368" y="344"/>
                      </a:lnTo>
                      <a:lnTo>
                        <a:pt x="356" y="334"/>
                      </a:lnTo>
                      <a:lnTo>
                        <a:pt x="348" y="323"/>
                      </a:lnTo>
                      <a:lnTo>
                        <a:pt x="336" y="315"/>
                      </a:lnTo>
                      <a:lnTo>
                        <a:pt x="307" y="305"/>
                      </a:lnTo>
                      <a:lnTo>
                        <a:pt x="259" y="296"/>
                      </a:lnTo>
                      <a:lnTo>
                        <a:pt x="207" y="292"/>
                      </a:lnTo>
                      <a:lnTo>
                        <a:pt x="163" y="289"/>
                      </a:lnTo>
                      <a:lnTo>
                        <a:pt x="115" y="283"/>
                      </a:lnTo>
                      <a:lnTo>
                        <a:pt x="75" y="276"/>
                      </a:lnTo>
                      <a:lnTo>
                        <a:pt x="43" y="268"/>
                      </a:lnTo>
                      <a:lnTo>
                        <a:pt x="25" y="259"/>
                      </a:lnTo>
                      <a:lnTo>
                        <a:pt x="13" y="244"/>
                      </a:lnTo>
                      <a:lnTo>
                        <a:pt x="3" y="226"/>
                      </a:lnTo>
                      <a:lnTo>
                        <a:pt x="0" y="208"/>
                      </a:lnTo>
                      <a:lnTo>
                        <a:pt x="3" y="190"/>
                      </a:lnTo>
                      <a:lnTo>
                        <a:pt x="19" y="168"/>
                      </a:lnTo>
                      <a:lnTo>
                        <a:pt x="47" y="147"/>
                      </a:lnTo>
                      <a:lnTo>
                        <a:pt x="87" y="126"/>
                      </a:lnTo>
                      <a:lnTo>
                        <a:pt x="139" y="107"/>
                      </a:lnTo>
                      <a:lnTo>
                        <a:pt x="193" y="95"/>
                      </a:lnTo>
                      <a:lnTo>
                        <a:pt x="235" y="86"/>
                      </a:lnTo>
                      <a:lnTo>
                        <a:pt x="295" y="80"/>
                      </a:lnTo>
                      <a:lnTo>
                        <a:pt x="336" y="78"/>
                      </a:lnTo>
                      <a:lnTo>
                        <a:pt x="378" y="72"/>
                      </a:lnTo>
                      <a:lnTo>
                        <a:pt x="442" y="57"/>
                      </a:lnTo>
                      <a:lnTo>
                        <a:pt x="493" y="44"/>
                      </a:lnTo>
                      <a:lnTo>
                        <a:pt x="557" y="30"/>
                      </a:lnTo>
                      <a:lnTo>
                        <a:pt x="615" y="21"/>
                      </a:lnTo>
                      <a:close/>
                    </a:path>
                  </a:pathLst>
                </a:custGeom>
                <a:solidFill>
                  <a:srgbClr val="ff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7" name=""/>
                <p:cNvGrpSpPr/>
                <p:nvPr/>
              </p:nvGrpSpPr>
              <p:grpSpPr>
                <a:xfrm>
                  <a:off x="4060800" y="1746360"/>
                  <a:ext cx="657360" cy="120960"/>
                  <a:chOff x="4060800" y="1746360"/>
                  <a:chExt cx="657360" cy="120960"/>
                </a:xfrm>
              </p:grpSpPr>
              <p:grpSp>
                <p:nvGrpSpPr>
                  <p:cNvPr id="568" name=""/>
                  <p:cNvGrpSpPr/>
                  <p:nvPr/>
                </p:nvGrpSpPr>
                <p:grpSpPr>
                  <a:xfrm>
                    <a:off x="4060800" y="1798560"/>
                    <a:ext cx="119520" cy="59040"/>
                    <a:chOff x="4060800" y="1798560"/>
                    <a:chExt cx="119520" cy="59040"/>
                  </a:xfrm>
                </p:grpSpPr>
                <p:sp>
                  <p:nvSpPr>
                    <p:cNvPr id="569" name=""/>
                    <p:cNvSpPr/>
                    <p:nvPr/>
                  </p:nvSpPr>
                  <p:spPr>
                    <a:xfrm>
                      <a:off x="4060800" y="1798560"/>
                      <a:ext cx="119520" cy="59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332" h="164">
                          <a:moveTo>
                            <a:pt x="4" y="0"/>
                          </a:moveTo>
                          <a:lnTo>
                            <a:pt x="2" y="6"/>
                          </a:lnTo>
                          <a:lnTo>
                            <a:pt x="0" y="14"/>
                          </a:lnTo>
                          <a:lnTo>
                            <a:pt x="2" y="21"/>
                          </a:lnTo>
                          <a:lnTo>
                            <a:pt x="8" y="30"/>
                          </a:lnTo>
                          <a:lnTo>
                            <a:pt x="14" y="37"/>
                          </a:lnTo>
                          <a:lnTo>
                            <a:pt x="28" y="44"/>
                          </a:lnTo>
                          <a:lnTo>
                            <a:pt x="44" y="52"/>
                          </a:lnTo>
                          <a:lnTo>
                            <a:pt x="70" y="57"/>
                          </a:lnTo>
                          <a:lnTo>
                            <a:pt x="95" y="61"/>
                          </a:lnTo>
                          <a:lnTo>
                            <a:pt x="121" y="66"/>
                          </a:lnTo>
                          <a:lnTo>
                            <a:pt x="127" y="72"/>
                          </a:lnTo>
                          <a:lnTo>
                            <a:pt x="135" y="83"/>
                          </a:lnTo>
                          <a:lnTo>
                            <a:pt x="151" y="91"/>
                          </a:lnTo>
                          <a:lnTo>
                            <a:pt x="169" y="101"/>
                          </a:lnTo>
                          <a:lnTo>
                            <a:pt x="201" y="111"/>
                          </a:lnTo>
                          <a:lnTo>
                            <a:pt x="225" y="118"/>
                          </a:lnTo>
                          <a:lnTo>
                            <a:pt x="243" y="122"/>
                          </a:lnTo>
                          <a:lnTo>
                            <a:pt x="274" y="127"/>
                          </a:lnTo>
                          <a:lnTo>
                            <a:pt x="306" y="130"/>
                          </a:lnTo>
                          <a:lnTo>
                            <a:pt x="320" y="132"/>
                          </a:lnTo>
                          <a:lnTo>
                            <a:pt x="328" y="135"/>
                          </a:lnTo>
                          <a:lnTo>
                            <a:pt x="332" y="139"/>
                          </a:lnTo>
                          <a:lnTo>
                            <a:pt x="326" y="153"/>
                          </a:lnTo>
                          <a:lnTo>
                            <a:pt x="318" y="164"/>
                          </a:lnTo>
                        </a:path>
                      </a:pathLst>
                    </a:custGeom>
                    <a:ln w="12600">
                      <a:solidFill>
                        <a:srgbClr val="ff8080"/>
                      </a:solidFill>
                      <a:round/>
                    </a:ln>
                  </p:spPr>
                  <p:txBody>
                    <a:bodyPr lIns="96120" rIns="9612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>
                      <a:off x="4105440" y="180504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72" h="72">
                          <a:moveTo>
                            <a:pt x="45" y="0"/>
                          </a:moveTo>
                          <a:lnTo>
                            <a:pt x="63" y="21"/>
                          </a:lnTo>
                          <a:lnTo>
                            <a:pt x="72" y="37"/>
                          </a:lnTo>
                          <a:lnTo>
                            <a:pt x="53" y="56"/>
                          </a:lnTo>
                          <a:lnTo>
                            <a:pt x="0" y="72"/>
                          </a:lnTo>
                        </a:path>
                      </a:pathLst>
                    </a:custGeom>
                    <a:ln w="12600">
                      <a:solidFill>
                        <a:srgbClr val="ff808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1" name=""/>
                  <p:cNvSpPr/>
                  <p:nvPr/>
                </p:nvSpPr>
                <p:spPr>
                  <a:xfrm>
                    <a:off x="4164120" y="1814400"/>
                    <a:ext cx="113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14" h="85">
                        <a:moveTo>
                          <a:pt x="0" y="0"/>
                        </a:moveTo>
                        <a:lnTo>
                          <a:pt x="6" y="11"/>
                        </a:lnTo>
                        <a:lnTo>
                          <a:pt x="16" y="27"/>
                        </a:lnTo>
                        <a:lnTo>
                          <a:pt x="26" y="37"/>
                        </a:lnTo>
                        <a:lnTo>
                          <a:pt x="40" y="43"/>
                        </a:lnTo>
                        <a:lnTo>
                          <a:pt x="68" y="50"/>
                        </a:lnTo>
                        <a:lnTo>
                          <a:pt x="92" y="54"/>
                        </a:lnTo>
                        <a:lnTo>
                          <a:pt x="120" y="58"/>
                        </a:lnTo>
                        <a:lnTo>
                          <a:pt x="161" y="66"/>
                        </a:lnTo>
                        <a:lnTo>
                          <a:pt x="197" y="74"/>
                        </a:lnTo>
                        <a:lnTo>
                          <a:pt x="223" y="81"/>
                        </a:lnTo>
                        <a:lnTo>
                          <a:pt x="247" y="84"/>
                        </a:lnTo>
                        <a:lnTo>
                          <a:pt x="273" y="85"/>
                        </a:lnTo>
                        <a:lnTo>
                          <a:pt x="312" y="85"/>
                        </a:lnTo>
                        <a:lnTo>
                          <a:pt x="314" y="85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4173480" y="1787400"/>
                    <a:ext cx="766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13" h="72">
                        <a:moveTo>
                          <a:pt x="0" y="72"/>
                        </a:moveTo>
                        <a:lnTo>
                          <a:pt x="27" y="49"/>
                        </a:lnTo>
                        <a:lnTo>
                          <a:pt x="51" y="32"/>
                        </a:lnTo>
                        <a:lnTo>
                          <a:pt x="88" y="12"/>
                        </a:lnTo>
                        <a:lnTo>
                          <a:pt x="117" y="4"/>
                        </a:lnTo>
                        <a:lnTo>
                          <a:pt x="151" y="0"/>
                        </a:lnTo>
                        <a:lnTo>
                          <a:pt x="182" y="2"/>
                        </a:lnTo>
                        <a:lnTo>
                          <a:pt x="213" y="12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4141800" y="1771560"/>
                    <a:ext cx="25920" cy="385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2" h="107">
                        <a:moveTo>
                          <a:pt x="27" y="0"/>
                        </a:moveTo>
                        <a:lnTo>
                          <a:pt x="45" y="9"/>
                        </a:lnTo>
                        <a:lnTo>
                          <a:pt x="59" y="17"/>
                        </a:lnTo>
                        <a:lnTo>
                          <a:pt x="68" y="28"/>
                        </a:lnTo>
                        <a:lnTo>
                          <a:pt x="72" y="41"/>
                        </a:lnTo>
                        <a:lnTo>
                          <a:pt x="68" y="56"/>
                        </a:lnTo>
                        <a:lnTo>
                          <a:pt x="61" y="70"/>
                        </a:lnTo>
                        <a:lnTo>
                          <a:pt x="51" y="82"/>
                        </a:lnTo>
                        <a:lnTo>
                          <a:pt x="38" y="90"/>
                        </a:lnTo>
                        <a:lnTo>
                          <a:pt x="15" y="101"/>
                        </a:lnTo>
                        <a:lnTo>
                          <a:pt x="0" y="107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4173480" y="1758960"/>
                    <a:ext cx="590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64" h="72">
                        <a:moveTo>
                          <a:pt x="0" y="72"/>
                        </a:moveTo>
                        <a:lnTo>
                          <a:pt x="38" y="55"/>
                        </a:lnTo>
                        <a:lnTo>
                          <a:pt x="73" y="37"/>
                        </a:lnTo>
                        <a:lnTo>
                          <a:pt x="113" y="21"/>
                        </a:lnTo>
                        <a:lnTo>
                          <a:pt x="164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4346640" y="1746360"/>
                    <a:ext cx="320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89" h="72">
                        <a:moveTo>
                          <a:pt x="0" y="72"/>
                        </a:moveTo>
                        <a:lnTo>
                          <a:pt x="32" y="40"/>
                        </a:lnTo>
                        <a:lnTo>
                          <a:pt x="89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4259160" y="1751040"/>
                    <a:ext cx="2336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649" h="72">
                        <a:moveTo>
                          <a:pt x="0" y="72"/>
                        </a:moveTo>
                        <a:lnTo>
                          <a:pt x="24" y="70"/>
                        </a:lnTo>
                        <a:lnTo>
                          <a:pt x="42" y="66"/>
                        </a:lnTo>
                        <a:lnTo>
                          <a:pt x="58" y="62"/>
                        </a:lnTo>
                        <a:lnTo>
                          <a:pt x="70" y="55"/>
                        </a:lnTo>
                        <a:lnTo>
                          <a:pt x="76" y="46"/>
                        </a:lnTo>
                        <a:lnTo>
                          <a:pt x="80" y="37"/>
                        </a:lnTo>
                        <a:lnTo>
                          <a:pt x="88" y="47"/>
                        </a:lnTo>
                        <a:lnTo>
                          <a:pt x="98" y="53"/>
                        </a:lnTo>
                        <a:lnTo>
                          <a:pt x="116" y="58"/>
                        </a:lnTo>
                        <a:lnTo>
                          <a:pt x="138" y="60"/>
                        </a:lnTo>
                        <a:lnTo>
                          <a:pt x="164" y="61"/>
                        </a:lnTo>
                        <a:lnTo>
                          <a:pt x="206" y="60"/>
                        </a:lnTo>
                        <a:lnTo>
                          <a:pt x="248" y="58"/>
                        </a:lnTo>
                        <a:lnTo>
                          <a:pt x="286" y="55"/>
                        </a:lnTo>
                        <a:lnTo>
                          <a:pt x="316" y="52"/>
                        </a:lnTo>
                        <a:lnTo>
                          <a:pt x="351" y="45"/>
                        </a:lnTo>
                        <a:lnTo>
                          <a:pt x="377" y="39"/>
                        </a:lnTo>
                        <a:lnTo>
                          <a:pt x="401" y="32"/>
                        </a:lnTo>
                        <a:lnTo>
                          <a:pt x="417" y="21"/>
                        </a:lnTo>
                        <a:lnTo>
                          <a:pt x="427" y="29"/>
                        </a:lnTo>
                        <a:lnTo>
                          <a:pt x="441" y="35"/>
                        </a:lnTo>
                        <a:lnTo>
                          <a:pt x="457" y="41"/>
                        </a:lnTo>
                        <a:lnTo>
                          <a:pt x="483" y="44"/>
                        </a:lnTo>
                        <a:lnTo>
                          <a:pt x="515" y="45"/>
                        </a:lnTo>
                        <a:lnTo>
                          <a:pt x="541" y="44"/>
                        </a:lnTo>
                        <a:lnTo>
                          <a:pt x="559" y="42"/>
                        </a:lnTo>
                        <a:lnTo>
                          <a:pt x="587" y="39"/>
                        </a:lnTo>
                        <a:lnTo>
                          <a:pt x="605" y="35"/>
                        </a:lnTo>
                        <a:lnTo>
                          <a:pt x="621" y="31"/>
                        </a:lnTo>
                        <a:lnTo>
                          <a:pt x="631" y="23"/>
                        </a:lnTo>
                        <a:lnTo>
                          <a:pt x="639" y="13"/>
                        </a:lnTo>
                        <a:lnTo>
                          <a:pt x="649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4233960" y="1785960"/>
                    <a:ext cx="2624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29" h="72">
                        <a:moveTo>
                          <a:pt x="0" y="46"/>
                        </a:moveTo>
                        <a:lnTo>
                          <a:pt x="25" y="36"/>
                        </a:lnTo>
                        <a:lnTo>
                          <a:pt x="55" y="26"/>
                        </a:lnTo>
                        <a:lnTo>
                          <a:pt x="81" y="17"/>
                        </a:lnTo>
                        <a:lnTo>
                          <a:pt x="109" y="11"/>
                        </a:lnTo>
                        <a:lnTo>
                          <a:pt x="139" y="4"/>
                        </a:lnTo>
                        <a:lnTo>
                          <a:pt x="157" y="2"/>
                        </a:lnTo>
                        <a:lnTo>
                          <a:pt x="188" y="0"/>
                        </a:lnTo>
                        <a:lnTo>
                          <a:pt x="248" y="0"/>
                        </a:lnTo>
                        <a:lnTo>
                          <a:pt x="312" y="0"/>
                        </a:lnTo>
                        <a:lnTo>
                          <a:pt x="370" y="2"/>
                        </a:lnTo>
                        <a:lnTo>
                          <a:pt x="432" y="4"/>
                        </a:lnTo>
                        <a:lnTo>
                          <a:pt x="478" y="8"/>
                        </a:lnTo>
                        <a:lnTo>
                          <a:pt x="522" y="13"/>
                        </a:lnTo>
                        <a:lnTo>
                          <a:pt x="561" y="21"/>
                        </a:lnTo>
                        <a:lnTo>
                          <a:pt x="603" y="30"/>
                        </a:lnTo>
                        <a:lnTo>
                          <a:pt x="645" y="39"/>
                        </a:lnTo>
                        <a:lnTo>
                          <a:pt x="675" y="49"/>
                        </a:lnTo>
                        <a:lnTo>
                          <a:pt x="705" y="61"/>
                        </a:lnTo>
                        <a:lnTo>
                          <a:pt x="729" y="72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4425840" y="1778040"/>
                    <a:ext cx="543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51" h="72">
                        <a:moveTo>
                          <a:pt x="0" y="63"/>
                        </a:moveTo>
                        <a:lnTo>
                          <a:pt x="27" y="69"/>
                        </a:lnTo>
                        <a:lnTo>
                          <a:pt x="56" y="72"/>
                        </a:lnTo>
                        <a:lnTo>
                          <a:pt x="80" y="67"/>
                        </a:lnTo>
                        <a:lnTo>
                          <a:pt x="104" y="57"/>
                        </a:lnTo>
                        <a:lnTo>
                          <a:pt x="127" y="40"/>
                        </a:lnTo>
                        <a:lnTo>
                          <a:pt x="139" y="21"/>
                        </a:lnTo>
                        <a:lnTo>
                          <a:pt x="151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4508640" y="1757520"/>
                    <a:ext cx="4788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33" h="120">
                        <a:moveTo>
                          <a:pt x="116" y="0"/>
                        </a:moveTo>
                        <a:lnTo>
                          <a:pt x="104" y="9"/>
                        </a:lnTo>
                        <a:lnTo>
                          <a:pt x="87" y="20"/>
                        </a:lnTo>
                        <a:lnTo>
                          <a:pt x="69" y="25"/>
                        </a:lnTo>
                        <a:lnTo>
                          <a:pt x="55" y="28"/>
                        </a:lnTo>
                        <a:lnTo>
                          <a:pt x="37" y="29"/>
                        </a:lnTo>
                        <a:lnTo>
                          <a:pt x="16" y="28"/>
                        </a:lnTo>
                        <a:lnTo>
                          <a:pt x="0" y="25"/>
                        </a:lnTo>
                        <a:lnTo>
                          <a:pt x="24" y="32"/>
                        </a:lnTo>
                        <a:lnTo>
                          <a:pt x="41" y="37"/>
                        </a:lnTo>
                        <a:lnTo>
                          <a:pt x="49" y="42"/>
                        </a:lnTo>
                        <a:lnTo>
                          <a:pt x="53" y="46"/>
                        </a:lnTo>
                        <a:lnTo>
                          <a:pt x="51" y="52"/>
                        </a:lnTo>
                        <a:lnTo>
                          <a:pt x="49" y="59"/>
                        </a:lnTo>
                        <a:lnTo>
                          <a:pt x="45" y="71"/>
                        </a:lnTo>
                        <a:lnTo>
                          <a:pt x="49" y="81"/>
                        </a:lnTo>
                        <a:lnTo>
                          <a:pt x="57" y="92"/>
                        </a:lnTo>
                        <a:lnTo>
                          <a:pt x="69" y="99"/>
                        </a:lnTo>
                        <a:lnTo>
                          <a:pt x="81" y="105"/>
                        </a:lnTo>
                        <a:lnTo>
                          <a:pt x="104" y="111"/>
                        </a:lnTo>
                        <a:lnTo>
                          <a:pt x="133" y="12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4564080" y="1768320"/>
                    <a:ext cx="147960" cy="385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411" h="107">
                        <a:moveTo>
                          <a:pt x="90" y="0"/>
                        </a:moveTo>
                        <a:lnTo>
                          <a:pt x="82" y="7"/>
                        </a:lnTo>
                        <a:lnTo>
                          <a:pt x="70" y="15"/>
                        </a:lnTo>
                        <a:lnTo>
                          <a:pt x="54" y="21"/>
                        </a:lnTo>
                        <a:lnTo>
                          <a:pt x="30" y="29"/>
                        </a:lnTo>
                        <a:lnTo>
                          <a:pt x="0" y="37"/>
                        </a:lnTo>
                        <a:lnTo>
                          <a:pt x="24" y="39"/>
                        </a:lnTo>
                        <a:lnTo>
                          <a:pt x="50" y="40"/>
                        </a:lnTo>
                        <a:lnTo>
                          <a:pt x="72" y="42"/>
                        </a:lnTo>
                        <a:lnTo>
                          <a:pt x="88" y="45"/>
                        </a:lnTo>
                        <a:lnTo>
                          <a:pt x="100" y="48"/>
                        </a:lnTo>
                        <a:lnTo>
                          <a:pt x="112" y="55"/>
                        </a:lnTo>
                        <a:lnTo>
                          <a:pt x="120" y="60"/>
                        </a:lnTo>
                        <a:lnTo>
                          <a:pt x="126" y="68"/>
                        </a:lnTo>
                        <a:lnTo>
                          <a:pt x="130" y="79"/>
                        </a:lnTo>
                        <a:lnTo>
                          <a:pt x="126" y="100"/>
                        </a:lnTo>
                        <a:lnTo>
                          <a:pt x="142" y="95"/>
                        </a:lnTo>
                        <a:lnTo>
                          <a:pt x="160" y="89"/>
                        </a:lnTo>
                        <a:lnTo>
                          <a:pt x="178" y="84"/>
                        </a:lnTo>
                        <a:lnTo>
                          <a:pt x="202" y="79"/>
                        </a:lnTo>
                        <a:lnTo>
                          <a:pt x="225" y="77"/>
                        </a:lnTo>
                        <a:lnTo>
                          <a:pt x="251" y="77"/>
                        </a:lnTo>
                        <a:lnTo>
                          <a:pt x="281" y="78"/>
                        </a:lnTo>
                        <a:lnTo>
                          <a:pt x="309" y="82"/>
                        </a:lnTo>
                        <a:lnTo>
                          <a:pt x="329" y="84"/>
                        </a:lnTo>
                        <a:lnTo>
                          <a:pt x="353" y="89"/>
                        </a:lnTo>
                        <a:lnTo>
                          <a:pt x="371" y="94"/>
                        </a:lnTo>
                        <a:lnTo>
                          <a:pt x="411" y="107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4559400" y="1797120"/>
                    <a:ext cx="558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55" h="72">
                        <a:moveTo>
                          <a:pt x="22" y="0"/>
                        </a:moveTo>
                        <a:lnTo>
                          <a:pt x="12" y="9"/>
                        </a:lnTo>
                        <a:lnTo>
                          <a:pt x="2" y="17"/>
                        </a:lnTo>
                        <a:lnTo>
                          <a:pt x="0" y="26"/>
                        </a:lnTo>
                        <a:lnTo>
                          <a:pt x="4" y="35"/>
                        </a:lnTo>
                        <a:lnTo>
                          <a:pt x="16" y="46"/>
                        </a:lnTo>
                        <a:lnTo>
                          <a:pt x="30" y="61"/>
                        </a:lnTo>
                        <a:lnTo>
                          <a:pt x="40" y="66"/>
                        </a:lnTo>
                        <a:lnTo>
                          <a:pt x="50" y="70"/>
                        </a:lnTo>
                        <a:lnTo>
                          <a:pt x="62" y="71"/>
                        </a:lnTo>
                        <a:lnTo>
                          <a:pt x="103" y="72"/>
                        </a:lnTo>
                        <a:lnTo>
                          <a:pt x="155" y="71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4619520" y="1816200"/>
                    <a:ext cx="846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35" h="72">
                        <a:moveTo>
                          <a:pt x="0" y="52"/>
                        </a:moveTo>
                        <a:lnTo>
                          <a:pt x="28" y="62"/>
                        </a:lnTo>
                        <a:lnTo>
                          <a:pt x="52" y="67"/>
                        </a:lnTo>
                        <a:lnTo>
                          <a:pt x="81" y="72"/>
                        </a:lnTo>
                        <a:lnTo>
                          <a:pt x="115" y="72"/>
                        </a:lnTo>
                        <a:lnTo>
                          <a:pt x="144" y="66"/>
                        </a:lnTo>
                        <a:lnTo>
                          <a:pt x="172" y="56"/>
                        </a:lnTo>
                        <a:lnTo>
                          <a:pt x="197" y="39"/>
                        </a:lnTo>
                        <a:lnTo>
                          <a:pt x="219" y="17"/>
                        </a:lnTo>
                        <a:lnTo>
                          <a:pt x="235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4600440" y="1835280"/>
                    <a:ext cx="11772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27" h="89">
                        <a:moveTo>
                          <a:pt x="327" y="0"/>
                        </a:moveTo>
                        <a:lnTo>
                          <a:pt x="317" y="8"/>
                        </a:lnTo>
                        <a:lnTo>
                          <a:pt x="301" y="16"/>
                        </a:lnTo>
                        <a:lnTo>
                          <a:pt x="274" y="23"/>
                        </a:lnTo>
                        <a:lnTo>
                          <a:pt x="260" y="25"/>
                        </a:lnTo>
                        <a:lnTo>
                          <a:pt x="236" y="27"/>
                        </a:lnTo>
                        <a:lnTo>
                          <a:pt x="202" y="25"/>
                        </a:lnTo>
                        <a:lnTo>
                          <a:pt x="166" y="23"/>
                        </a:lnTo>
                        <a:lnTo>
                          <a:pt x="120" y="20"/>
                        </a:lnTo>
                        <a:lnTo>
                          <a:pt x="84" y="17"/>
                        </a:lnTo>
                        <a:lnTo>
                          <a:pt x="54" y="15"/>
                        </a:lnTo>
                        <a:lnTo>
                          <a:pt x="18" y="16"/>
                        </a:lnTo>
                        <a:lnTo>
                          <a:pt x="0" y="17"/>
                        </a:lnTo>
                        <a:lnTo>
                          <a:pt x="22" y="19"/>
                        </a:lnTo>
                        <a:lnTo>
                          <a:pt x="40" y="24"/>
                        </a:lnTo>
                        <a:lnTo>
                          <a:pt x="56" y="28"/>
                        </a:lnTo>
                        <a:lnTo>
                          <a:pt x="78" y="35"/>
                        </a:lnTo>
                        <a:lnTo>
                          <a:pt x="96" y="43"/>
                        </a:lnTo>
                        <a:lnTo>
                          <a:pt x="118" y="54"/>
                        </a:lnTo>
                        <a:lnTo>
                          <a:pt x="136" y="63"/>
                        </a:lnTo>
                        <a:lnTo>
                          <a:pt x="155" y="76"/>
                        </a:lnTo>
                        <a:lnTo>
                          <a:pt x="172" y="89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4525920" y="1808280"/>
                    <a:ext cx="82800" cy="558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30" h="155">
                        <a:moveTo>
                          <a:pt x="58" y="0"/>
                        </a:moveTo>
                        <a:lnTo>
                          <a:pt x="40" y="2"/>
                        </a:lnTo>
                        <a:lnTo>
                          <a:pt x="18" y="8"/>
                        </a:lnTo>
                        <a:lnTo>
                          <a:pt x="6" y="13"/>
                        </a:lnTo>
                        <a:lnTo>
                          <a:pt x="2" y="18"/>
                        </a:lnTo>
                        <a:lnTo>
                          <a:pt x="0" y="23"/>
                        </a:lnTo>
                        <a:lnTo>
                          <a:pt x="4" y="31"/>
                        </a:lnTo>
                        <a:lnTo>
                          <a:pt x="12" y="40"/>
                        </a:lnTo>
                        <a:lnTo>
                          <a:pt x="24" y="52"/>
                        </a:lnTo>
                        <a:lnTo>
                          <a:pt x="38" y="62"/>
                        </a:lnTo>
                        <a:lnTo>
                          <a:pt x="56" y="72"/>
                        </a:lnTo>
                        <a:lnTo>
                          <a:pt x="75" y="81"/>
                        </a:lnTo>
                        <a:lnTo>
                          <a:pt x="99" y="90"/>
                        </a:lnTo>
                        <a:lnTo>
                          <a:pt x="122" y="95"/>
                        </a:lnTo>
                        <a:lnTo>
                          <a:pt x="151" y="102"/>
                        </a:lnTo>
                        <a:lnTo>
                          <a:pt x="165" y="116"/>
                        </a:lnTo>
                        <a:lnTo>
                          <a:pt x="181" y="127"/>
                        </a:lnTo>
                        <a:lnTo>
                          <a:pt x="207" y="143"/>
                        </a:lnTo>
                        <a:lnTo>
                          <a:pt x="230" y="155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5" name=""/>
              <p:cNvSpPr/>
              <p:nvPr/>
            </p:nvSpPr>
            <p:spPr>
              <a:xfrm>
                <a:off x="4321080" y="1857240"/>
                <a:ext cx="260640" cy="25920"/>
              </a:xfrm>
              <a:custGeom>
                <a:avLst/>
                <a:gdLst/>
                <a:ahLst/>
                <a:rect l="0" t="0" r="r" b="b"/>
                <a:pathLst>
                  <a:path fill="none" w="724" h="72">
                    <a:moveTo>
                      <a:pt x="0" y="46"/>
                    </a:moveTo>
                    <a:lnTo>
                      <a:pt x="25" y="36"/>
                    </a:lnTo>
                    <a:lnTo>
                      <a:pt x="55" y="26"/>
                    </a:lnTo>
                    <a:lnTo>
                      <a:pt x="81" y="17"/>
                    </a:lnTo>
                    <a:lnTo>
                      <a:pt x="109" y="11"/>
                    </a:lnTo>
                    <a:lnTo>
                      <a:pt x="139" y="4"/>
                    </a:lnTo>
                    <a:lnTo>
                      <a:pt x="156" y="2"/>
                    </a:lnTo>
                    <a:lnTo>
                      <a:pt x="186" y="0"/>
                    </a:lnTo>
                    <a:lnTo>
                      <a:pt x="246" y="0"/>
                    </a:lnTo>
                    <a:lnTo>
                      <a:pt x="309" y="0"/>
                    </a:lnTo>
                    <a:lnTo>
                      <a:pt x="368" y="2"/>
                    </a:lnTo>
                    <a:lnTo>
                      <a:pt x="430" y="4"/>
                    </a:lnTo>
                    <a:lnTo>
                      <a:pt x="475" y="8"/>
                    </a:lnTo>
                    <a:lnTo>
                      <a:pt x="519" y="13"/>
                    </a:lnTo>
                    <a:lnTo>
                      <a:pt x="557" y="21"/>
                    </a:lnTo>
                    <a:lnTo>
                      <a:pt x="599" y="30"/>
                    </a:lnTo>
                    <a:lnTo>
                      <a:pt x="640" y="39"/>
                    </a:lnTo>
                    <a:lnTo>
                      <a:pt x="670" y="49"/>
                    </a:lnTo>
                    <a:lnTo>
                      <a:pt x="700" y="61"/>
                    </a:lnTo>
                    <a:lnTo>
                      <a:pt x="724" y="72"/>
                    </a:lnTo>
                  </a:path>
                </a:pathLst>
              </a:custGeom>
              <a:ln w="12600">
                <a:solidFill>
                  <a:srgbClr val="ff808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354560" y="1805040"/>
                <a:ext cx="78120" cy="25920"/>
              </a:xfrm>
              <a:custGeom>
                <a:avLst/>
                <a:gdLst/>
                <a:ahLst/>
                <a:rect l="0" t="0" r="r" b="b"/>
                <a:pathLst>
                  <a:path fill="none" w="217" h="72">
                    <a:moveTo>
                      <a:pt x="0" y="72"/>
                    </a:moveTo>
                    <a:lnTo>
                      <a:pt x="28" y="49"/>
                    </a:lnTo>
                    <a:lnTo>
                      <a:pt x="52" y="32"/>
                    </a:lnTo>
                    <a:lnTo>
                      <a:pt x="88" y="12"/>
                    </a:lnTo>
                    <a:lnTo>
                      <a:pt x="120" y="4"/>
                    </a:lnTo>
                    <a:lnTo>
                      <a:pt x="154" y="0"/>
                    </a:lnTo>
                    <a:lnTo>
                      <a:pt x="184" y="2"/>
                    </a:lnTo>
                    <a:lnTo>
                      <a:pt x="217" y="12"/>
                    </a:lnTo>
                  </a:path>
                </a:pathLst>
              </a:custGeom>
              <a:ln w="12600">
                <a:solidFill>
                  <a:srgbClr val="ff808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251240" y="180504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fill="none" w="94" h="72">
                    <a:moveTo>
                      <a:pt x="36" y="0"/>
                    </a:moveTo>
                    <a:lnTo>
                      <a:pt x="60" y="6"/>
                    </a:lnTo>
                    <a:lnTo>
                      <a:pt x="76" y="11"/>
                    </a:lnTo>
                    <a:lnTo>
                      <a:pt x="90" y="19"/>
                    </a:lnTo>
                    <a:lnTo>
                      <a:pt x="94" y="27"/>
                    </a:lnTo>
                    <a:lnTo>
                      <a:pt x="90" y="37"/>
                    </a:lnTo>
                    <a:lnTo>
                      <a:pt x="80" y="46"/>
                    </a:lnTo>
                    <a:lnTo>
                      <a:pt x="67" y="55"/>
                    </a:lnTo>
                    <a:lnTo>
                      <a:pt x="50" y="61"/>
                    </a:lnTo>
                    <a:lnTo>
                      <a:pt x="21" y="67"/>
                    </a:lnTo>
                    <a:lnTo>
                      <a:pt x="0" y="72"/>
                    </a:lnTo>
                  </a:path>
                </a:pathLst>
              </a:custGeom>
              <a:ln w="12600">
                <a:solidFill>
                  <a:srgbClr val="ff808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300560" y="1827360"/>
                <a:ext cx="233640" cy="25920"/>
              </a:xfrm>
              <a:custGeom>
                <a:avLst/>
                <a:gdLst/>
                <a:ahLst/>
                <a:rect l="0" t="0" r="r" b="b"/>
                <a:pathLst>
                  <a:path fill="none" w="649" h="72">
                    <a:moveTo>
                      <a:pt x="0" y="0"/>
                    </a:moveTo>
                    <a:lnTo>
                      <a:pt x="24" y="2"/>
                    </a:lnTo>
                    <a:lnTo>
                      <a:pt x="42" y="5"/>
                    </a:lnTo>
                    <a:lnTo>
                      <a:pt x="58" y="10"/>
                    </a:lnTo>
                    <a:lnTo>
                      <a:pt x="70" y="16"/>
                    </a:lnTo>
                    <a:lnTo>
                      <a:pt x="76" y="26"/>
                    </a:lnTo>
                    <a:lnTo>
                      <a:pt x="80" y="35"/>
                    </a:lnTo>
                    <a:lnTo>
                      <a:pt x="88" y="25"/>
                    </a:lnTo>
                    <a:lnTo>
                      <a:pt x="98" y="19"/>
                    </a:lnTo>
                    <a:lnTo>
                      <a:pt x="116" y="14"/>
                    </a:lnTo>
                    <a:lnTo>
                      <a:pt x="138" y="11"/>
                    </a:lnTo>
                    <a:lnTo>
                      <a:pt x="164" y="10"/>
                    </a:lnTo>
                    <a:lnTo>
                      <a:pt x="206" y="11"/>
                    </a:lnTo>
                    <a:lnTo>
                      <a:pt x="248" y="14"/>
                    </a:lnTo>
                    <a:lnTo>
                      <a:pt x="286" y="16"/>
                    </a:lnTo>
                    <a:lnTo>
                      <a:pt x="316" y="20"/>
                    </a:lnTo>
                    <a:lnTo>
                      <a:pt x="351" y="27"/>
                    </a:lnTo>
                    <a:lnTo>
                      <a:pt x="377" y="32"/>
                    </a:lnTo>
                    <a:lnTo>
                      <a:pt x="401" y="40"/>
                    </a:lnTo>
                    <a:lnTo>
                      <a:pt x="417" y="50"/>
                    </a:lnTo>
                    <a:lnTo>
                      <a:pt x="427" y="42"/>
                    </a:lnTo>
                    <a:lnTo>
                      <a:pt x="441" y="37"/>
                    </a:lnTo>
                    <a:lnTo>
                      <a:pt x="457" y="31"/>
                    </a:lnTo>
                    <a:lnTo>
                      <a:pt x="483" y="27"/>
                    </a:lnTo>
                    <a:lnTo>
                      <a:pt x="515" y="27"/>
                    </a:lnTo>
                    <a:lnTo>
                      <a:pt x="541" y="27"/>
                    </a:lnTo>
                    <a:lnTo>
                      <a:pt x="559" y="30"/>
                    </a:lnTo>
                    <a:lnTo>
                      <a:pt x="587" y="32"/>
                    </a:lnTo>
                    <a:lnTo>
                      <a:pt x="605" y="37"/>
                    </a:lnTo>
                    <a:lnTo>
                      <a:pt x="621" y="41"/>
                    </a:lnTo>
                    <a:lnTo>
                      <a:pt x="631" y="48"/>
                    </a:lnTo>
                    <a:lnTo>
                      <a:pt x="639" y="59"/>
                    </a:lnTo>
                    <a:lnTo>
                      <a:pt x="649" y="72"/>
                    </a:lnTo>
                  </a:path>
                </a:pathLst>
              </a:custGeom>
              <a:ln w="12600">
                <a:solidFill>
                  <a:srgbClr val="ff808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3929040" y="1833480"/>
              <a:ext cx="829080" cy="190800"/>
            </a:xfrm>
            <a:custGeom>
              <a:avLst/>
              <a:gdLst/>
              <a:ahLst/>
              <a:rect l="0" t="0" r="r" b="b"/>
              <a:pathLst>
                <a:path w="2303" h="530">
                  <a:moveTo>
                    <a:pt x="13" y="0"/>
                  </a:moveTo>
                  <a:lnTo>
                    <a:pt x="145" y="0"/>
                  </a:lnTo>
                  <a:lnTo>
                    <a:pt x="304" y="0"/>
                  </a:lnTo>
                  <a:lnTo>
                    <a:pt x="383" y="0"/>
                  </a:lnTo>
                  <a:lnTo>
                    <a:pt x="489" y="0"/>
                  </a:lnTo>
                  <a:lnTo>
                    <a:pt x="529" y="0"/>
                  </a:lnTo>
                  <a:lnTo>
                    <a:pt x="568" y="0"/>
                  </a:lnTo>
                  <a:lnTo>
                    <a:pt x="609" y="13"/>
                  </a:lnTo>
                  <a:lnTo>
                    <a:pt x="649" y="26"/>
                  </a:lnTo>
                  <a:lnTo>
                    <a:pt x="755" y="52"/>
                  </a:lnTo>
                  <a:lnTo>
                    <a:pt x="794" y="66"/>
                  </a:lnTo>
                  <a:lnTo>
                    <a:pt x="834" y="66"/>
                  </a:lnTo>
                  <a:lnTo>
                    <a:pt x="874" y="52"/>
                  </a:lnTo>
                  <a:lnTo>
                    <a:pt x="913" y="26"/>
                  </a:lnTo>
                  <a:lnTo>
                    <a:pt x="953" y="0"/>
                  </a:lnTo>
                  <a:lnTo>
                    <a:pt x="993" y="0"/>
                  </a:lnTo>
                  <a:lnTo>
                    <a:pt x="1046" y="13"/>
                  </a:lnTo>
                  <a:lnTo>
                    <a:pt x="1099" y="26"/>
                  </a:lnTo>
                  <a:lnTo>
                    <a:pt x="1138" y="26"/>
                  </a:lnTo>
                  <a:lnTo>
                    <a:pt x="1178" y="26"/>
                  </a:lnTo>
                  <a:lnTo>
                    <a:pt x="1218" y="13"/>
                  </a:lnTo>
                  <a:lnTo>
                    <a:pt x="1271" y="0"/>
                  </a:lnTo>
                  <a:lnTo>
                    <a:pt x="1323" y="0"/>
                  </a:lnTo>
                  <a:lnTo>
                    <a:pt x="1363" y="0"/>
                  </a:lnTo>
                  <a:lnTo>
                    <a:pt x="1403" y="26"/>
                  </a:lnTo>
                  <a:lnTo>
                    <a:pt x="1442" y="39"/>
                  </a:lnTo>
                  <a:lnTo>
                    <a:pt x="1495" y="52"/>
                  </a:lnTo>
                  <a:lnTo>
                    <a:pt x="1548" y="39"/>
                  </a:lnTo>
                  <a:lnTo>
                    <a:pt x="1601" y="39"/>
                  </a:lnTo>
                  <a:lnTo>
                    <a:pt x="1641" y="39"/>
                  </a:lnTo>
                  <a:lnTo>
                    <a:pt x="1748" y="39"/>
                  </a:lnTo>
                  <a:lnTo>
                    <a:pt x="1787" y="52"/>
                  </a:lnTo>
                  <a:lnTo>
                    <a:pt x="1827" y="66"/>
                  </a:lnTo>
                  <a:lnTo>
                    <a:pt x="1867" y="66"/>
                  </a:lnTo>
                  <a:lnTo>
                    <a:pt x="1920" y="92"/>
                  </a:lnTo>
                  <a:lnTo>
                    <a:pt x="1999" y="92"/>
                  </a:lnTo>
                  <a:lnTo>
                    <a:pt x="2039" y="92"/>
                  </a:lnTo>
                  <a:lnTo>
                    <a:pt x="2078" y="92"/>
                  </a:lnTo>
                  <a:lnTo>
                    <a:pt x="2118" y="105"/>
                  </a:lnTo>
                  <a:lnTo>
                    <a:pt x="2171" y="119"/>
                  </a:lnTo>
                  <a:lnTo>
                    <a:pt x="2211" y="132"/>
                  </a:lnTo>
                  <a:lnTo>
                    <a:pt x="2264" y="145"/>
                  </a:lnTo>
                  <a:lnTo>
                    <a:pt x="2303" y="171"/>
                  </a:lnTo>
                  <a:lnTo>
                    <a:pt x="2264" y="198"/>
                  </a:lnTo>
                  <a:lnTo>
                    <a:pt x="2171" y="198"/>
                  </a:lnTo>
                  <a:lnTo>
                    <a:pt x="2131" y="198"/>
                  </a:lnTo>
                  <a:lnTo>
                    <a:pt x="2078" y="185"/>
                  </a:lnTo>
                  <a:lnTo>
                    <a:pt x="2026" y="171"/>
                  </a:lnTo>
                  <a:lnTo>
                    <a:pt x="1986" y="171"/>
                  </a:lnTo>
                  <a:lnTo>
                    <a:pt x="1880" y="158"/>
                  </a:lnTo>
                  <a:lnTo>
                    <a:pt x="1827" y="145"/>
                  </a:lnTo>
                  <a:lnTo>
                    <a:pt x="1787" y="145"/>
                  </a:lnTo>
                  <a:lnTo>
                    <a:pt x="1735" y="145"/>
                  </a:lnTo>
                  <a:lnTo>
                    <a:pt x="1694" y="145"/>
                  </a:lnTo>
                  <a:lnTo>
                    <a:pt x="1614" y="145"/>
                  </a:lnTo>
                  <a:lnTo>
                    <a:pt x="1535" y="145"/>
                  </a:lnTo>
                  <a:lnTo>
                    <a:pt x="1482" y="145"/>
                  </a:lnTo>
                  <a:lnTo>
                    <a:pt x="1442" y="158"/>
                  </a:lnTo>
                  <a:lnTo>
                    <a:pt x="1337" y="145"/>
                  </a:lnTo>
                  <a:lnTo>
                    <a:pt x="1284" y="145"/>
                  </a:lnTo>
                  <a:lnTo>
                    <a:pt x="1244" y="119"/>
                  </a:lnTo>
                  <a:lnTo>
                    <a:pt x="1204" y="105"/>
                  </a:lnTo>
                  <a:lnTo>
                    <a:pt x="1125" y="105"/>
                  </a:lnTo>
                  <a:lnTo>
                    <a:pt x="1019" y="105"/>
                  </a:lnTo>
                  <a:lnTo>
                    <a:pt x="979" y="119"/>
                  </a:lnTo>
                  <a:lnTo>
                    <a:pt x="874" y="145"/>
                  </a:lnTo>
                  <a:lnTo>
                    <a:pt x="794" y="158"/>
                  </a:lnTo>
                  <a:lnTo>
                    <a:pt x="755" y="158"/>
                  </a:lnTo>
                  <a:lnTo>
                    <a:pt x="675" y="145"/>
                  </a:lnTo>
                  <a:lnTo>
                    <a:pt x="515" y="132"/>
                  </a:lnTo>
                  <a:lnTo>
                    <a:pt x="476" y="119"/>
                  </a:lnTo>
                  <a:lnTo>
                    <a:pt x="436" y="119"/>
                  </a:lnTo>
                  <a:lnTo>
                    <a:pt x="396" y="145"/>
                  </a:lnTo>
                  <a:lnTo>
                    <a:pt x="370" y="198"/>
                  </a:lnTo>
                  <a:lnTo>
                    <a:pt x="330" y="211"/>
                  </a:lnTo>
                  <a:lnTo>
                    <a:pt x="291" y="238"/>
                  </a:lnTo>
                  <a:lnTo>
                    <a:pt x="211" y="238"/>
                  </a:lnTo>
                  <a:lnTo>
                    <a:pt x="158" y="238"/>
                  </a:lnTo>
                  <a:lnTo>
                    <a:pt x="132" y="198"/>
                  </a:lnTo>
                  <a:lnTo>
                    <a:pt x="132" y="158"/>
                  </a:lnTo>
                  <a:lnTo>
                    <a:pt x="105" y="119"/>
                  </a:lnTo>
                  <a:lnTo>
                    <a:pt x="13" y="119"/>
                  </a:lnTo>
                  <a:lnTo>
                    <a:pt x="0" y="79"/>
                  </a:lnTo>
                  <a:lnTo>
                    <a:pt x="0" y="119"/>
                  </a:lnTo>
                  <a:lnTo>
                    <a:pt x="0" y="158"/>
                  </a:lnTo>
                  <a:lnTo>
                    <a:pt x="39" y="185"/>
                  </a:lnTo>
                  <a:lnTo>
                    <a:pt x="92" y="185"/>
                  </a:lnTo>
                  <a:lnTo>
                    <a:pt x="119" y="238"/>
                  </a:lnTo>
                  <a:lnTo>
                    <a:pt x="119" y="278"/>
                  </a:lnTo>
                  <a:lnTo>
                    <a:pt x="119" y="371"/>
                  </a:lnTo>
                  <a:lnTo>
                    <a:pt x="119" y="411"/>
                  </a:lnTo>
                  <a:lnTo>
                    <a:pt x="132" y="450"/>
                  </a:lnTo>
                  <a:lnTo>
                    <a:pt x="132" y="490"/>
                  </a:lnTo>
                  <a:lnTo>
                    <a:pt x="158" y="530"/>
                  </a:lnTo>
                  <a:lnTo>
                    <a:pt x="198" y="530"/>
                  </a:lnTo>
                  <a:lnTo>
                    <a:pt x="224" y="490"/>
                  </a:lnTo>
                  <a:lnTo>
                    <a:pt x="238" y="450"/>
                  </a:lnTo>
                  <a:lnTo>
                    <a:pt x="198" y="424"/>
                  </a:lnTo>
                  <a:lnTo>
                    <a:pt x="171" y="384"/>
                  </a:lnTo>
                  <a:lnTo>
                    <a:pt x="158" y="344"/>
                  </a:lnTo>
                  <a:lnTo>
                    <a:pt x="158" y="305"/>
                  </a:lnTo>
                  <a:lnTo>
                    <a:pt x="198" y="278"/>
                  </a:lnTo>
                  <a:lnTo>
                    <a:pt x="238" y="331"/>
                  </a:lnTo>
                  <a:lnTo>
                    <a:pt x="264" y="371"/>
                  </a:lnTo>
                  <a:lnTo>
                    <a:pt x="304" y="371"/>
                  </a:lnTo>
                  <a:lnTo>
                    <a:pt x="330" y="331"/>
                  </a:lnTo>
                  <a:lnTo>
                    <a:pt x="357" y="292"/>
                  </a:lnTo>
                  <a:lnTo>
                    <a:pt x="396" y="292"/>
                  </a:lnTo>
                  <a:lnTo>
                    <a:pt x="410" y="251"/>
                  </a:lnTo>
                  <a:lnTo>
                    <a:pt x="410" y="211"/>
                  </a:lnTo>
                  <a:lnTo>
                    <a:pt x="304" y="19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c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4572000" y="1999440"/>
            <a:ext cx="797040" cy="1331640"/>
            <a:chOff x="4572000" y="1999440"/>
            <a:chExt cx="797040" cy="1331640"/>
          </a:xfrm>
        </p:grpSpPr>
        <p:sp>
          <p:nvSpPr>
            <p:cNvPr id="591" name=""/>
            <p:cNvSpPr/>
            <p:nvPr/>
          </p:nvSpPr>
          <p:spPr>
            <a:xfrm>
              <a:off x="4572000" y="2206800"/>
              <a:ext cx="725760" cy="1124280"/>
            </a:xfrm>
            <a:custGeom>
              <a:avLst/>
              <a:gdLst/>
              <a:ahLst/>
              <a:rect l="0" t="0" r="r" b="b"/>
              <a:pathLst>
                <a:path w="2016" h="3123">
                  <a:moveTo>
                    <a:pt x="132" y="3123"/>
                  </a:moveTo>
                  <a:lnTo>
                    <a:pt x="0" y="2981"/>
                  </a:lnTo>
                  <a:lnTo>
                    <a:pt x="8" y="2646"/>
                  </a:lnTo>
                  <a:lnTo>
                    <a:pt x="445" y="1839"/>
                  </a:lnTo>
                  <a:lnTo>
                    <a:pt x="1271" y="0"/>
                  </a:lnTo>
                  <a:lnTo>
                    <a:pt x="2016" y="366"/>
                  </a:lnTo>
                  <a:lnTo>
                    <a:pt x="1222" y="1906"/>
                  </a:lnTo>
                  <a:lnTo>
                    <a:pt x="498" y="2977"/>
                  </a:lnTo>
                  <a:lnTo>
                    <a:pt x="132" y="3123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63040" y="1999440"/>
              <a:ext cx="306000" cy="289080"/>
            </a:xfrm>
            <a:custGeom>
              <a:avLst/>
              <a:gdLst/>
              <a:ahLst/>
              <a:rect l="0" t="0" r="r" b="b"/>
              <a:pathLst>
                <a:path w="850" h="803">
                  <a:moveTo>
                    <a:pt x="13" y="291"/>
                  </a:moveTo>
                  <a:lnTo>
                    <a:pt x="13" y="291"/>
                  </a:lnTo>
                  <a:cubicBezTo>
                    <a:pt x="-5" y="359"/>
                    <a:pt x="-4" y="431"/>
                    <a:pt x="16" y="499"/>
                  </a:cubicBezTo>
                  <a:cubicBezTo>
                    <a:pt x="37" y="568"/>
                    <a:pt x="76" y="630"/>
                    <a:pt x="129" y="681"/>
                  </a:cubicBezTo>
                  <a:cubicBezTo>
                    <a:pt x="183" y="732"/>
                    <a:pt x="249" y="768"/>
                    <a:pt x="321" y="788"/>
                  </a:cubicBezTo>
                  <a:cubicBezTo>
                    <a:pt x="394" y="807"/>
                    <a:pt x="470" y="808"/>
                    <a:pt x="541" y="791"/>
                  </a:cubicBezTo>
                  <a:cubicBezTo>
                    <a:pt x="613" y="774"/>
                    <a:pt x="678" y="739"/>
                    <a:pt x="730" y="690"/>
                  </a:cubicBezTo>
                  <a:cubicBezTo>
                    <a:pt x="782" y="641"/>
                    <a:pt x="819" y="580"/>
                    <a:pt x="837" y="512"/>
                  </a:cubicBezTo>
                  <a:lnTo>
                    <a:pt x="837" y="512"/>
                  </a:lnTo>
                  <a:lnTo>
                    <a:pt x="837" y="512"/>
                  </a:lnTo>
                  <a:cubicBezTo>
                    <a:pt x="855" y="444"/>
                    <a:pt x="854" y="372"/>
                    <a:pt x="834" y="304"/>
                  </a:cubicBezTo>
                  <a:cubicBezTo>
                    <a:pt x="813" y="235"/>
                    <a:pt x="774" y="173"/>
                    <a:pt x="721" y="122"/>
                  </a:cubicBezTo>
                  <a:cubicBezTo>
                    <a:pt x="667" y="71"/>
                    <a:pt x="601" y="35"/>
                    <a:pt x="529" y="15"/>
                  </a:cubicBezTo>
                  <a:cubicBezTo>
                    <a:pt x="456" y="-4"/>
                    <a:pt x="380" y="-5"/>
                    <a:pt x="309" y="12"/>
                  </a:cubicBezTo>
                  <a:cubicBezTo>
                    <a:pt x="237" y="29"/>
                    <a:pt x="172" y="64"/>
                    <a:pt x="120" y="113"/>
                  </a:cubicBezTo>
                  <a:cubicBezTo>
                    <a:pt x="68" y="162"/>
                    <a:pt x="31" y="223"/>
                    <a:pt x="13" y="291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5062680" y="1406520"/>
            <a:ext cx="549720" cy="962640"/>
            <a:chOff x="5062680" y="1406520"/>
            <a:chExt cx="549720" cy="962640"/>
          </a:xfrm>
        </p:grpSpPr>
        <p:grpSp>
          <p:nvGrpSpPr>
            <p:cNvPr id="594" name=""/>
            <p:cNvGrpSpPr/>
            <p:nvPr/>
          </p:nvGrpSpPr>
          <p:grpSpPr>
            <a:xfrm>
              <a:off x="5062680" y="1603440"/>
              <a:ext cx="329040" cy="765720"/>
              <a:chOff x="5062680" y="1603440"/>
              <a:chExt cx="329040" cy="765720"/>
            </a:xfrm>
          </p:grpSpPr>
          <p:sp>
            <p:nvSpPr>
              <p:cNvPr id="595" name=""/>
              <p:cNvSpPr/>
              <p:nvPr/>
            </p:nvSpPr>
            <p:spPr>
              <a:xfrm>
                <a:off x="5062680" y="1603440"/>
                <a:ext cx="321120" cy="760680"/>
              </a:xfrm>
              <a:custGeom>
                <a:avLst/>
                <a:gdLst/>
                <a:ahLst/>
                <a:rect l="0" t="0" r="r" b="b"/>
                <a:pathLst>
                  <a:path w="892" h="2113">
                    <a:moveTo>
                      <a:pt x="892" y="70"/>
                    </a:moveTo>
                    <a:lnTo>
                      <a:pt x="734" y="687"/>
                    </a:lnTo>
                    <a:lnTo>
                      <a:pt x="600" y="1143"/>
                    </a:lnTo>
                    <a:lnTo>
                      <a:pt x="486" y="1579"/>
                    </a:lnTo>
                    <a:lnTo>
                      <a:pt x="446" y="1751"/>
                    </a:lnTo>
                    <a:lnTo>
                      <a:pt x="424" y="1989"/>
                    </a:lnTo>
                    <a:lnTo>
                      <a:pt x="415" y="2095"/>
                    </a:lnTo>
                    <a:lnTo>
                      <a:pt x="274" y="2113"/>
                    </a:lnTo>
                    <a:lnTo>
                      <a:pt x="136" y="2077"/>
                    </a:lnTo>
                    <a:lnTo>
                      <a:pt x="48" y="2029"/>
                    </a:lnTo>
                    <a:lnTo>
                      <a:pt x="0" y="2007"/>
                    </a:lnTo>
                    <a:lnTo>
                      <a:pt x="83" y="1786"/>
                    </a:lnTo>
                    <a:lnTo>
                      <a:pt x="176" y="1500"/>
                    </a:lnTo>
                    <a:lnTo>
                      <a:pt x="318" y="1090"/>
                    </a:lnTo>
                    <a:lnTo>
                      <a:pt x="433" y="736"/>
                    </a:lnTo>
                    <a:lnTo>
                      <a:pt x="569" y="339"/>
                    </a:lnTo>
                    <a:lnTo>
                      <a:pt x="685" y="0"/>
                    </a:lnTo>
                    <a:lnTo>
                      <a:pt x="892" y="70"/>
                    </a:lnTo>
                    <a:close/>
                  </a:path>
                </a:pathLst>
              </a:custGeom>
              <a:solidFill>
                <a:srgbClr val="60606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070600" y="1606680"/>
                <a:ext cx="321120" cy="762480"/>
              </a:xfrm>
              <a:custGeom>
                <a:avLst/>
                <a:gdLst/>
                <a:ahLst/>
                <a:rect l="0" t="0" r="r" b="b"/>
                <a:pathLst>
                  <a:path w="892" h="2118">
                    <a:moveTo>
                      <a:pt x="892" y="66"/>
                    </a:moveTo>
                    <a:lnTo>
                      <a:pt x="729" y="684"/>
                    </a:lnTo>
                    <a:lnTo>
                      <a:pt x="600" y="1143"/>
                    </a:lnTo>
                    <a:lnTo>
                      <a:pt x="490" y="1575"/>
                    </a:lnTo>
                    <a:lnTo>
                      <a:pt x="459" y="1748"/>
                    </a:lnTo>
                    <a:lnTo>
                      <a:pt x="433" y="1986"/>
                    </a:lnTo>
                    <a:lnTo>
                      <a:pt x="415" y="2092"/>
                    </a:lnTo>
                    <a:lnTo>
                      <a:pt x="362" y="2101"/>
                    </a:lnTo>
                    <a:lnTo>
                      <a:pt x="278" y="2118"/>
                    </a:lnTo>
                    <a:lnTo>
                      <a:pt x="202" y="2101"/>
                    </a:lnTo>
                    <a:lnTo>
                      <a:pt x="127" y="2083"/>
                    </a:lnTo>
                    <a:lnTo>
                      <a:pt x="92" y="2078"/>
                    </a:lnTo>
                    <a:lnTo>
                      <a:pt x="44" y="2043"/>
                    </a:lnTo>
                    <a:lnTo>
                      <a:pt x="0" y="2004"/>
                    </a:lnTo>
                    <a:lnTo>
                      <a:pt x="83" y="1787"/>
                    </a:lnTo>
                    <a:lnTo>
                      <a:pt x="180" y="1491"/>
                    </a:lnTo>
                    <a:lnTo>
                      <a:pt x="327" y="1085"/>
                    </a:lnTo>
                    <a:lnTo>
                      <a:pt x="446" y="737"/>
                    </a:lnTo>
                    <a:lnTo>
                      <a:pt x="583" y="335"/>
                    </a:lnTo>
                    <a:lnTo>
                      <a:pt x="703" y="0"/>
                    </a:lnTo>
                    <a:lnTo>
                      <a:pt x="892" y="66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5213520" y="1427040"/>
              <a:ext cx="398880" cy="259200"/>
              <a:chOff x="5213520" y="1427040"/>
              <a:chExt cx="398880" cy="259200"/>
            </a:xfrm>
          </p:grpSpPr>
          <p:sp>
            <p:nvSpPr>
              <p:cNvPr id="598" name=""/>
              <p:cNvSpPr/>
              <p:nvPr/>
            </p:nvSpPr>
            <p:spPr>
              <a:xfrm>
                <a:off x="5213520" y="1436760"/>
                <a:ext cx="397080" cy="249480"/>
              </a:xfrm>
              <a:custGeom>
                <a:avLst/>
                <a:gdLst/>
                <a:ahLst/>
                <a:rect l="0" t="0" r="r" b="b"/>
                <a:pathLst>
                  <a:path w="1103" h="693">
                    <a:moveTo>
                      <a:pt x="35" y="0"/>
                    </a:moveTo>
                    <a:lnTo>
                      <a:pt x="0" y="185"/>
                    </a:lnTo>
                    <a:lnTo>
                      <a:pt x="242" y="255"/>
                    </a:lnTo>
                    <a:lnTo>
                      <a:pt x="277" y="286"/>
                    </a:lnTo>
                    <a:lnTo>
                      <a:pt x="295" y="317"/>
                    </a:lnTo>
                    <a:lnTo>
                      <a:pt x="299" y="353"/>
                    </a:lnTo>
                    <a:lnTo>
                      <a:pt x="268" y="468"/>
                    </a:lnTo>
                    <a:lnTo>
                      <a:pt x="493" y="538"/>
                    </a:lnTo>
                    <a:lnTo>
                      <a:pt x="546" y="419"/>
                    </a:lnTo>
                    <a:lnTo>
                      <a:pt x="565" y="375"/>
                    </a:lnTo>
                    <a:lnTo>
                      <a:pt x="613" y="353"/>
                    </a:lnTo>
                    <a:lnTo>
                      <a:pt x="653" y="353"/>
                    </a:lnTo>
                    <a:lnTo>
                      <a:pt x="684" y="358"/>
                    </a:lnTo>
                    <a:lnTo>
                      <a:pt x="719" y="362"/>
                    </a:lnTo>
                    <a:lnTo>
                      <a:pt x="785" y="402"/>
                    </a:lnTo>
                    <a:lnTo>
                      <a:pt x="878" y="450"/>
                    </a:lnTo>
                    <a:lnTo>
                      <a:pt x="962" y="543"/>
                    </a:lnTo>
                    <a:lnTo>
                      <a:pt x="1041" y="627"/>
                    </a:lnTo>
                    <a:lnTo>
                      <a:pt x="1103" y="693"/>
                    </a:lnTo>
                    <a:lnTo>
                      <a:pt x="1010" y="538"/>
                    </a:lnTo>
                    <a:lnTo>
                      <a:pt x="913" y="384"/>
                    </a:lnTo>
                    <a:lnTo>
                      <a:pt x="856" y="317"/>
                    </a:lnTo>
                    <a:lnTo>
                      <a:pt x="812" y="268"/>
                    </a:lnTo>
                    <a:lnTo>
                      <a:pt x="706" y="185"/>
                    </a:lnTo>
                    <a:lnTo>
                      <a:pt x="627" y="145"/>
                    </a:lnTo>
                    <a:lnTo>
                      <a:pt x="556" y="119"/>
                    </a:lnTo>
                    <a:lnTo>
                      <a:pt x="476" y="88"/>
                    </a:lnTo>
                    <a:lnTo>
                      <a:pt x="401" y="66"/>
                    </a:lnTo>
                    <a:lnTo>
                      <a:pt x="299" y="44"/>
                    </a:lnTo>
                    <a:lnTo>
                      <a:pt x="198" y="3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218200" y="1427040"/>
                <a:ext cx="394200" cy="248040"/>
              </a:xfrm>
              <a:custGeom>
                <a:avLst/>
                <a:gdLst/>
                <a:ahLst/>
                <a:rect l="0" t="0" r="r" b="b"/>
                <a:pathLst>
                  <a:path w="1095" h="689">
                    <a:moveTo>
                      <a:pt x="13" y="0"/>
                    </a:moveTo>
                    <a:lnTo>
                      <a:pt x="0" y="186"/>
                    </a:lnTo>
                    <a:lnTo>
                      <a:pt x="229" y="256"/>
                    </a:lnTo>
                    <a:lnTo>
                      <a:pt x="264" y="283"/>
                    </a:lnTo>
                    <a:lnTo>
                      <a:pt x="287" y="314"/>
                    </a:lnTo>
                    <a:lnTo>
                      <a:pt x="292" y="362"/>
                    </a:lnTo>
                    <a:lnTo>
                      <a:pt x="260" y="472"/>
                    </a:lnTo>
                    <a:lnTo>
                      <a:pt x="490" y="539"/>
                    </a:lnTo>
                    <a:lnTo>
                      <a:pt x="543" y="406"/>
                    </a:lnTo>
                    <a:lnTo>
                      <a:pt x="569" y="380"/>
                    </a:lnTo>
                    <a:lnTo>
                      <a:pt x="605" y="362"/>
                    </a:lnTo>
                    <a:lnTo>
                      <a:pt x="644" y="358"/>
                    </a:lnTo>
                    <a:lnTo>
                      <a:pt x="680" y="353"/>
                    </a:lnTo>
                    <a:lnTo>
                      <a:pt x="706" y="362"/>
                    </a:lnTo>
                    <a:lnTo>
                      <a:pt x="781" y="406"/>
                    </a:lnTo>
                    <a:lnTo>
                      <a:pt x="861" y="459"/>
                    </a:lnTo>
                    <a:lnTo>
                      <a:pt x="945" y="535"/>
                    </a:lnTo>
                    <a:lnTo>
                      <a:pt x="1029" y="632"/>
                    </a:lnTo>
                    <a:lnTo>
                      <a:pt x="1095" y="689"/>
                    </a:lnTo>
                    <a:lnTo>
                      <a:pt x="1007" y="531"/>
                    </a:lnTo>
                    <a:lnTo>
                      <a:pt x="905" y="402"/>
                    </a:lnTo>
                    <a:lnTo>
                      <a:pt x="844" y="314"/>
                    </a:lnTo>
                    <a:lnTo>
                      <a:pt x="794" y="274"/>
                    </a:lnTo>
                    <a:lnTo>
                      <a:pt x="755" y="225"/>
                    </a:lnTo>
                    <a:lnTo>
                      <a:pt x="697" y="186"/>
                    </a:lnTo>
                    <a:lnTo>
                      <a:pt x="622" y="141"/>
                    </a:lnTo>
                    <a:lnTo>
                      <a:pt x="547" y="114"/>
                    </a:lnTo>
                    <a:lnTo>
                      <a:pt x="468" y="83"/>
                    </a:lnTo>
                    <a:lnTo>
                      <a:pt x="384" y="61"/>
                    </a:lnTo>
                    <a:lnTo>
                      <a:pt x="283" y="44"/>
                    </a:lnTo>
                    <a:lnTo>
                      <a:pt x="189" y="2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5151600" y="1406520"/>
              <a:ext cx="84600" cy="108360"/>
              <a:chOff x="5151600" y="1406520"/>
              <a:chExt cx="84600" cy="108360"/>
            </a:xfrm>
          </p:grpSpPr>
          <p:sp>
            <p:nvSpPr>
              <p:cNvPr id="601" name=""/>
              <p:cNvSpPr/>
              <p:nvPr/>
            </p:nvSpPr>
            <p:spPr>
              <a:xfrm>
                <a:off x="5151600" y="1409760"/>
                <a:ext cx="76680" cy="105120"/>
              </a:xfrm>
              <a:custGeom>
                <a:avLst/>
                <a:gdLst/>
                <a:ahLst/>
                <a:rect l="0" t="0" r="r" b="b"/>
                <a:pathLst>
                  <a:path w="213" h="292">
                    <a:moveTo>
                      <a:pt x="213" y="26"/>
                    </a:moveTo>
                    <a:lnTo>
                      <a:pt x="178" y="168"/>
                    </a:lnTo>
                    <a:lnTo>
                      <a:pt x="155" y="292"/>
                    </a:lnTo>
                    <a:lnTo>
                      <a:pt x="13" y="274"/>
                    </a:lnTo>
                    <a:lnTo>
                      <a:pt x="8" y="239"/>
                    </a:lnTo>
                    <a:lnTo>
                      <a:pt x="0" y="199"/>
                    </a:lnTo>
                    <a:lnTo>
                      <a:pt x="0" y="164"/>
                    </a:lnTo>
                    <a:lnTo>
                      <a:pt x="13" y="101"/>
                    </a:lnTo>
                    <a:lnTo>
                      <a:pt x="35" y="57"/>
                    </a:lnTo>
                    <a:lnTo>
                      <a:pt x="67" y="30"/>
                    </a:lnTo>
                    <a:lnTo>
                      <a:pt x="84" y="0"/>
                    </a:lnTo>
                    <a:lnTo>
                      <a:pt x="213" y="26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159520" y="1406520"/>
                <a:ext cx="76680" cy="108360"/>
              </a:xfrm>
              <a:custGeom>
                <a:avLst/>
                <a:gdLst/>
                <a:ahLst/>
                <a:rect l="0" t="0" r="r" b="b"/>
                <a:pathLst>
                  <a:path w="213" h="301">
                    <a:moveTo>
                      <a:pt x="213" y="30"/>
                    </a:moveTo>
                    <a:lnTo>
                      <a:pt x="187" y="172"/>
                    </a:lnTo>
                    <a:lnTo>
                      <a:pt x="165" y="301"/>
                    </a:lnTo>
                    <a:lnTo>
                      <a:pt x="17" y="270"/>
                    </a:lnTo>
                    <a:lnTo>
                      <a:pt x="4" y="235"/>
                    </a:lnTo>
                    <a:lnTo>
                      <a:pt x="0" y="203"/>
                    </a:lnTo>
                    <a:lnTo>
                      <a:pt x="0" y="168"/>
                    </a:lnTo>
                    <a:lnTo>
                      <a:pt x="13" y="115"/>
                    </a:lnTo>
                    <a:lnTo>
                      <a:pt x="39" y="57"/>
                    </a:lnTo>
                    <a:lnTo>
                      <a:pt x="58" y="30"/>
                    </a:lnTo>
                    <a:lnTo>
                      <a:pt x="89" y="0"/>
                    </a:lnTo>
                    <a:lnTo>
                      <a:pt x="213" y="3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3" name=""/>
          <p:cNvGrpSpPr/>
          <p:nvPr/>
        </p:nvGrpSpPr>
        <p:grpSpPr>
          <a:xfrm>
            <a:off x="2523960" y="5708520"/>
            <a:ext cx="859320" cy="624240"/>
            <a:chOff x="2523960" y="5708520"/>
            <a:chExt cx="859320" cy="624240"/>
          </a:xfrm>
        </p:grpSpPr>
        <p:grpSp>
          <p:nvGrpSpPr>
            <p:cNvPr id="604" name=""/>
            <p:cNvGrpSpPr/>
            <p:nvPr/>
          </p:nvGrpSpPr>
          <p:grpSpPr>
            <a:xfrm>
              <a:off x="2523960" y="5708520"/>
              <a:ext cx="859320" cy="624240"/>
              <a:chOff x="2523960" y="5708520"/>
              <a:chExt cx="859320" cy="624240"/>
            </a:xfrm>
          </p:grpSpPr>
          <p:sp>
            <p:nvSpPr>
              <p:cNvPr id="605" name=""/>
              <p:cNvSpPr/>
              <p:nvPr/>
            </p:nvSpPr>
            <p:spPr>
              <a:xfrm>
                <a:off x="2540160" y="5934240"/>
                <a:ext cx="814680" cy="352800"/>
              </a:xfrm>
              <a:custGeom>
                <a:avLst/>
                <a:gdLst/>
                <a:ahLst/>
                <a:rect l="0" t="0" r="r" b="b"/>
                <a:pathLst>
                  <a:path w="2263" h="980">
                    <a:moveTo>
                      <a:pt x="79" y="980"/>
                    </a:moveTo>
                    <a:lnTo>
                      <a:pt x="238" y="371"/>
                    </a:lnTo>
                    <a:lnTo>
                      <a:pt x="542" y="66"/>
                    </a:lnTo>
                    <a:lnTo>
                      <a:pt x="648" y="105"/>
                    </a:lnTo>
                    <a:lnTo>
                      <a:pt x="859" y="39"/>
                    </a:lnTo>
                    <a:lnTo>
                      <a:pt x="1337" y="0"/>
                    </a:lnTo>
                    <a:lnTo>
                      <a:pt x="1786" y="26"/>
                    </a:lnTo>
                    <a:lnTo>
                      <a:pt x="2197" y="26"/>
                    </a:lnTo>
                    <a:lnTo>
                      <a:pt x="2263" y="145"/>
                    </a:lnTo>
                    <a:lnTo>
                      <a:pt x="2183" y="238"/>
                    </a:lnTo>
                    <a:lnTo>
                      <a:pt x="2223" y="265"/>
                    </a:lnTo>
                    <a:lnTo>
                      <a:pt x="2249" y="437"/>
                    </a:lnTo>
                    <a:lnTo>
                      <a:pt x="2236" y="861"/>
                    </a:lnTo>
                    <a:lnTo>
                      <a:pt x="2263" y="954"/>
                    </a:lnTo>
                    <a:lnTo>
                      <a:pt x="1681" y="901"/>
                    </a:lnTo>
                    <a:lnTo>
                      <a:pt x="846" y="914"/>
                    </a:lnTo>
                    <a:lnTo>
                      <a:pt x="330" y="941"/>
                    </a:lnTo>
                    <a:lnTo>
                      <a:pt x="92" y="928"/>
                    </a:lnTo>
                    <a:lnTo>
                      <a:pt x="0" y="875"/>
                    </a:lnTo>
                    <a:lnTo>
                      <a:pt x="79" y="9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" name=""/>
              <p:cNvGrpSpPr/>
              <p:nvPr/>
            </p:nvGrpSpPr>
            <p:grpSpPr>
              <a:xfrm>
                <a:off x="2523960" y="5708520"/>
                <a:ext cx="859320" cy="624240"/>
                <a:chOff x="2523960" y="5708520"/>
                <a:chExt cx="859320" cy="624240"/>
              </a:xfrm>
            </p:grpSpPr>
            <p:grpSp>
              <p:nvGrpSpPr>
                <p:cNvPr id="607" name=""/>
                <p:cNvGrpSpPr/>
                <p:nvPr/>
              </p:nvGrpSpPr>
              <p:grpSpPr>
                <a:xfrm>
                  <a:off x="2730600" y="5708520"/>
                  <a:ext cx="636480" cy="263520"/>
                  <a:chOff x="2730600" y="5708520"/>
                  <a:chExt cx="636480" cy="26352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>
                    <a:off x="2730600" y="5754600"/>
                    <a:ext cx="19080" cy="217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V="1">
                    <a:off x="2854440" y="5729400"/>
                    <a:ext cx="6120" cy="217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flipV="1">
                    <a:off x="3016080" y="5708520"/>
                    <a:ext cx="24120" cy="2304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V="1">
                    <a:off x="3179880" y="5746680"/>
                    <a:ext cx="44280" cy="20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V="1">
                    <a:off x="3321000" y="5769000"/>
                    <a:ext cx="46080" cy="1810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3" name=""/>
                <p:cNvSpPr/>
                <p:nvPr/>
              </p:nvSpPr>
              <p:spPr>
                <a:xfrm>
                  <a:off x="2541600" y="5962680"/>
                  <a:ext cx="824400" cy="329040"/>
                </a:xfrm>
                <a:custGeom>
                  <a:avLst/>
                  <a:gdLst/>
                  <a:ahLst/>
                  <a:rect l="0" t="0" r="r" b="b"/>
                  <a:pathLst>
                    <a:path fill="none" w="2290" h="914">
                      <a:moveTo>
                        <a:pt x="498" y="0"/>
                      </a:moveTo>
                      <a:lnTo>
                        <a:pt x="194" y="283"/>
                      </a:lnTo>
                      <a:lnTo>
                        <a:pt x="70" y="703"/>
                      </a:lnTo>
                      <a:lnTo>
                        <a:pt x="0" y="914"/>
                      </a:lnTo>
                      <a:lnTo>
                        <a:pt x="2268" y="905"/>
                      </a:lnTo>
                      <a:lnTo>
                        <a:pt x="2290" y="92"/>
                      </a:lnTo>
                      <a:lnTo>
                        <a:pt x="2206" y="202"/>
                      </a:lnTo>
                    </a:path>
                  </a:pathLst>
                </a:custGeom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2523960" y="6249960"/>
                  <a:ext cx="859320" cy="82800"/>
                </a:xfrm>
                <a:custGeom>
                  <a:avLst/>
                  <a:gdLst/>
                  <a:ahLst/>
                  <a:rect l="0" t="0" r="r" b="b"/>
                  <a:pathLst>
                    <a:path w="2387" h="230">
                      <a:moveTo>
                        <a:pt x="66" y="114"/>
                      </a:moveTo>
                      <a:lnTo>
                        <a:pt x="119" y="114"/>
                      </a:lnTo>
                      <a:lnTo>
                        <a:pt x="154" y="88"/>
                      </a:lnTo>
                      <a:lnTo>
                        <a:pt x="194" y="83"/>
                      </a:lnTo>
                      <a:lnTo>
                        <a:pt x="233" y="83"/>
                      </a:lnTo>
                      <a:lnTo>
                        <a:pt x="242" y="39"/>
                      </a:lnTo>
                      <a:lnTo>
                        <a:pt x="282" y="39"/>
                      </a:lnTo>
                      <a:lnTo>
                        <a:pt x="339" y="48"/>
                      </a:lnTo>
                      <a:lnTo>
                        <a:pt x="374" y="61"/>
                      </a:lnTo>
                      <a:lnTo>
                        <a:pt x="418" y="57"/>
                      </a:lnTo>
                      <a:lnTo>
                        <a:pt x="454" y="39"/>
                      </a:lnTo>
                      <a:lnTo>
                        <a:pt x="498" y="39"/>
                      </a:lnTo>
                      <a:lnTo>
                        <a:pt x="533" y="35"/>
                      </a:lnTo>
                      <a:lnTo>
                        <a:pt x="577" y="48"/>
                      </a:lnTo>
                      <a:lnTo>
                        <a:pt x="613" y="48"/>
                      </a:lnTo>
                      <a:lnTo>
                        <a:pt x="658" y="44"/>
                      </a:lnTo>
                      <a:lnTo>
                        <a:pt x="693" y="44"/>
                      </a:lnTo>
                      <a:lnTo>
                        <a:pt x="733" y="30"/>
                      </a:lnTo>
                      <a:lnTo>
                        <a:pt x="777" y="26"/>
                      </a:lnTo>
                      <a:lnTo>
                        <a:pt x="816" y="61"/>
                      </a:lnTo>
                      <a:lnTo>
                        <a:pt x="856" y="74"/>
                      </a:lnTo>
                      <a:lnTo>
                        <a:pt x="896" y="74"/>
                      </a:lnTo>
                      <a:lnTo>
                        <a:pt x="949" y="39"/>
                      </a:lnTo>
                      <a:lnTo>
                        <a:pt x="1002" y="39"/>
                      </a:lnTo>
                      <a:lnTo>
                        <a:pt x="1050" y="26"/>
                      </a:lnTo>
                      <a:lnTo>
                        <a:pt x="1090" y="22"/>
                      </a:lnTo>
                      <a:lnTo>
                        <a:pt x="1196" y="30"/>
                      </a:lnTo>
                      <a:lnTo>
                        <a:pt x="1253" y="44"/>
                      </a:lnTo>
                      <a:lnTo>
                        <a:pt x="1306" y="26"/>
                      </a:lnTo>
                      <a:lnTo>
                        <a:pt x="1354" y="22"/>
                      </a:lnTo>
                      <a:lnTo>
                        <a:pt x="1438" y="17"/>
                      </a:lnTo>
                      <a:lnTo>
                        <a:pt x="1473" y="0"/>
                      </a:lnTo>
                      <a:lnTo>
                        <a:pt x="1517" y="13"/>
                      </a:lnTo>
                      <a:lnTo>
                        <a:pt x="1557" y="13"/>
                      </a:lnTo>
                      <a:lnTo>
                        <a:pt x="1597" y="8"/>
                      </a:lnTo>
                      <a:lnTo>
                        <a:pt x="1637" y="8"/>
                      </a:lnTo>
                      <a:lnTo>
                        <a:pt x="1685" y="17"/>
                      </a:lnTo>
                      <a:lnTo>
                        <a:pt x="1769" y="26"/>
                      </a:lnTo>
                      <a:lnTo>
                        <a:pt x="1845" y="22"/>
                      </a:lnTo>
                      <a:lnTo>
                        <a:pt x="1889" y="35"/>
                      </a:lnTo>
                      <a:lnTo>
                        <a:pt x="1929" y="48"/>
                      </a:lnTo>
                      <a:lnTo>
                        <a:pt x="1973" y="44"/>
                      </a:lnTo>
                      <a:lnTo>
                        <a:pt x="2008" y="44"/>
                      </a:lnTo>
                      <a:lnTo>
                        <a:pt x="2048" y="39"/>
                      </a:lnTo>
                      <a:lnTo>
                        <a:pt x="2096" y="35"/>
                      </a:lnTo>
                      <a:lnTo>
                        <a:pt x="2140" y="30"/>
                      </a:lnTo>
                      <a:lnTo>
                        <a:pt x="2180" y="44"/>
                      </a:lnTo>
                      <a:lnTo>
                        <a:pt x="2220" y="57"/>
                      </a:lnTo>
                      <a:lnTo>
                        <a:pt x="2273" y="52"/>
                      </a:lnTo>
                      <a:lnTo>
                        <a:pt x="2325" y="61"/>
                      </a:lnTo>
                      <a:lnTo>
                        <a:pt x="2370" y="88"/>
                      </a:lnTo>
                      <a:lnTo>
                        <a:pt x="2383" y="128"/>
                      </a:lnTo>
                      <a:lnTo>
                        <a:pt x="2387" y="168"/>
                      </a:lnTo>
                      <a:lnTo>
                        <a:pt x="2347" y="168"/>
                      </a:lnTo>
                      <a:lnTo>
                        <a:pt x="2308" y="172"/>
                      </a:lnTo>
                      <a:lnTo>
                        <a:pt x="2250" y="172"/>
                      </a:lnTo>
                      <a:lnTo>
                        <a:pt x="2215" y="177"/>
                      </a:lnTo>
                      <a:lnTo>
                        <a:pt x="2175" y="195"/>
                      </a:lnTo>
                      <a:lnTo>
                        <a:pt x="2136" y="195"/>
                      </a:lnTo>
                      <a:lnTo>
                        <a:pt x="2096" y="195"/>
                      </a:lnTo>
                      <a:lnTo>
                        <a:pt x="2004" y="186"/>
                      </a:lnTo>
                      <a:lnTo>
                        <a:pt x="1964" y="177"/>
                      </a:lnTo>
                      <a:lnTo>
                        <a:pt x="1924" y="177"/>
                      </a:lnTo>
                      <a:lnTo>
                        <a:pt x="1884" y="208"/>
                      </a:lnTo>
                      <a:lnTo>
                        <a:pt x="1845" y="221"/>
                      </a:lnTo>
                      <a:lnTo>
                        <a:pt x="1805" y="225"/>
                      </a:lnTo>
                      <a:lnTo>
                        <a:pt x="1764" y="225"/>
                      </a:lnTo>
                      <a:lnTo>
                        <a:pt x="1725" y="230"/>
                      </a:lnTo>
                      <a:lnTo>
                        <a:pt x="1650" y="230"/>
                      </a:lnTo>
                      <a:lnTo>
                        <a:pt x="1592" y="225"/>
                      </a:lnTo>
                      <a:lnTo>
                        <a:pt x="1553" y="225"/>
                      </a:lnTo>
                      <a:lnTo>
                        <a:pt x="1447" y="217"/>
                      </a:lnTo>
                      <a:lnTo>
                        <a:pt x="1407" y="221"/>
                      </a:lnTo>
                      <a:lnTo>
                        <a:pt x="1363" y="208"/>
                      </a:lnTo>
                      <a:lnTo>
                        <a:pt x="1275" y="199"/>
                      </a:lnTo>
                      <a:lnTo>
                        <a:pt x="1169" y="203"/>
                      </a:lnTo>
                      <a:lnTo>
                        <a:pt x="1129" y="181"/>
                      </a:lnTo>
                      <a:lnTo>
                        <a:pt x="1076" y="181"/>
                      </a:lnTo>
                      <a:lnTo>
                        <a:pt x="984" y="203"/>
                      </a:lnTo>
                      <a:lnTo>
                        <a:pt x="944" y="203"/>
                      </a:lnTo>
                      <a:lnTo>
                        <a:pt x="891" y="208"/>
                      </a:lnTo>
                      <a:lnTo>
                        <a:pt x="812" y="212"/>
                      </a:lnTo>
                      <a:lnTo>
                        <a:pt x="755" y="212"/>
                      </a:lnTo>
                      <a:lnTo>
                        <a:pt x="702" y="217"/>
                      </a:lnTo>
                      <a:lnTo>
                        <a:pt x="622" y="221"/>
                      </a:lnTo>
                      <a:lnTo>
                        <a:pt x="586" y="221"/>
                      </a:lnTo>
                      <a:lnTo>
                        <a:pt x="546" y="212"/>
                      </a:lnTo>
                      <a:lnTo>
                        <a:pt x="436" y="217"/>
                      </a:lnTo>
                      <a:lnTo>
                        <a:pt x="383" y="203"/>
                      </a:lnTo>
                      <a:lnTo>
                        <a:pt x="348" y="208"/>
                      </a:lnTo>
                      <a:lnTo>
                        <a:pt x="238" y="199"/>
                      </a:lnTo>
                      <a:lnTo>
                        <a:pt x="185" y="190"/>
                      </a:lnTo>
                      <a:lnTo>
                        <a:pt x="149" y="190"/>
                      </a:lnTo>
                      <a:lnTo>
                        <a:pt x="13" y="172"/>
                      </a:lnTo>
                      <a:lnTo>
                        <a:pt x="0" y="133"/>
                      </a:lnTo>
                      <a:lnTo>
                        <a:pt x="66" y="114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0">
                  <a:noFill/>
                </a:ln>
              </p:spPr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3079800" y="6046920"/>
                  <a:ext cx="197280" cy="151200"/>
                </a:xfrm>
                <a:custGeom>
                  <a:avLst/>
                  <a:gdLst/>
                  <a:ahLst/>
                  <a:rect l="0" t="0" r="r" b="b"/>
                  <a:pathLst>
                    <a:path w="548" h="420">
                      <a:moveTo>
                        <a:pt x="429" y="208"/>
                      </a:moveTo>
                      <a:lnTo>
                        <a:pt x="336" y="217"/>
                      </a:lnTo>
                      <a:lnTo>
                        <a:pt x="296" y="230"/>
                      </a:lnTo>
                      <a:lnTo>
                        <a:pt x="190" y="239"/>
                      </a:lnTo>
                      <a:lnTo>
                        <a:pt x="168" y="287"/>
                      </a:lnTo>
                      <a:lnTo>
                        <a:pt x="159" y="332"/>
                      </a:lnTo>
                      <a:lnTo>
                        <a:pt x="132" y="372"/>
                      </a:lnTo>
                      <a:lnTo>
                        <a:pt x="92" y="403"/>
                      </a:lnTo>
                      <a:lnTo>
                        <a:pt x="177" y="412"/>
                      </a:lnTo>
                      <a:lnTo>
                        <a:pt x="256" y="420"/>
                      </a:lnTo>
                      <a:lnTo>
                        <a:pt x="292" y="416"/>
                      </a:lnTo>
                      <a:lnTo>
                        <a:pt x="305" y="337"/>
                      </a:lnTo>
                      <a:lnTo>
                        <a:pt x="274" y="296"/>
                      </a:lnTo>
                      <a:lnTo>
                        <a:pt x="358" y="278"/>
                      </a:lnTo>
                      <a:lnTo>
                        <a:pt x="406" y="305"/>
                      </a:lnTo>
                      <a:lnTo>
                        <a:pt x="447" y="328"/>
                      </a:lnTo>
                      <a:lnTo>
                        <a:pt x="478" y="385"/>
                      </a:lnTo>
                      <a:lnTo>
                        <a:pt x="522" y="407"/>
                      </a:lnTo>
                      <a:lnTo>
                        <a:pt x="548" y="363"/>
                      </a:lnTo>
                      <a:lnTo>
                        <a:pt x="544" y="283"/>
                      </a:lnTo>
                      <a:lnTo>
                        <a:pt x="535" y="234"/>
                      </a:lnTo>
                      <a:lnTo>
                        <a:pt x="535" y="181"/>
                      </a:lnTo>
                      <a:lnTo>
                        <a:pt x="504" y="124"/>
                      </a:lnTo>
                      <a:lnTo>
                        <a:pt x="465" y="101"/>
                      </a:lnTo>
                      <a:lnTo>
                        <a:pt x="425" y="101"/>
                      </a:lnTo>
                      <a:lnTo>
                        <a:pt x="371" y="79"/>
                      </a:lnTo>
                      <a:lnTo>
                        <a:pt x="344" y="39"/>
                      </a:lnTo>
                      <a:lnTo>
                        <a:pt x="300" y="30"/>
                      </a:lnTo>
                      <a:lnTo>
                        <a:pt x="208" y="8"/>
                      </a:lnTo>
                      <a:lnTo>
                        <a:pt x="127" y="0"/>
                      </a:lnTo>
                      <a:lnTo>
                        <a:pt x="88" y="4"/>
                      </a:lnTo>
                      <a:lnTo>
                        <a:pt x="48" y="4"/>
                      </a:lnTo>
                      <a:lnTo>
                        <a:pt x="8" y="17"/>
                      </a:lnTo>
                      <a:lnTo>
                        <a:pt x="0" y="115"/>
                      </a:lnTo>
                      <a:lnTo>
                        <a:pt x="17" y="168"/>
                      </a:lnTo>
                      <a:lnTo>
                        <a:pt x="70" y="190"/>
                      </a:lnTo>
                      <a:lnTo>
                        <a:pt x="110" y="190"/>
                      </a:lnTo>
                      <a:lnTo>
                        <a:pt x="164" y="172"/>
                      </a:lnTo>
                      <a:lnTo>
                        <a:pt x="203" y="172"/>
                      </a:lnTo>
                      <a:lnTo>
                        <a:pt x="239" y="155"/>
                      </a:lnTo>
                      <a:lnTo>
                        <a:pt x="349" y="177"/>
                      </a:lnTo>
                      <a:lnTo>
                        <a:pt x="429" y="208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2719440" y="6122880"/>
                  <a:ext cx="241560" cy="84600"/>
                </a:xfrm>
                <a:custGeom>
                  <a:avLst/>
                  <a:gdLst/>
                  <a:ahLst/>
                  <a:rect l="0" t="0" r="r" b="b"/>
                  <a:pathLst>
                    <a:path w="671" h="235">
                      <a:moveTo>
                        <a:pt x="583" y="52"/>
                      </a:moveTo>
                      <a:lnTo>
                        <a:pt x="508" y="75"/>
                      </a:lnTo>
                      <a:lnTo>
                        <a:pt x="349" y="111"/>
                      </a:lnTo>
                      <a:lnTo>
                        <a:pt x="273" y="124"/>
                      </a:lnTo>
                      <a:lnTo>
                        <a:pt x="233" y="142"/>
                      </a:lnTo>
                      <a:lnTo>
                        <a:pt x="194" y="146"/>
                      </a:lnTo>
                      <a:lnTo>
                        <a:pt x="154" y="159"/>
                      </a:lnTo>
                      <a:lnTo>
                        <a:pt x="101" y="159"/>
                      </a:lnTo>
                      <a:lnTo>
                        <a:pt x="57" y="164"/>
                      </a:lnTo>
                      <a:lnTo>
                        <a:pt x="22" y="128"/>
                      </a:lnTo>
                      <a:lnTo>
                        <a:pt x="0" y="75"/>
                      </a:lnTo>
                      <a:lnTo>
                        <a:pt x="52" y="30"/>
                      </a:lnTo>
                      <a:lnTo>
                        <a:pt x="92" y="26"/>
                      </a:lnTo>
                      <a:lnTo>
                        <a:pt x="132" y="39"/>
                      </a:lnTo>
                      <a:lnTo>
                        <a:pt x="163" y="89"/>
                      </a:lnTo>
                      <a:lnTo>
                        <a:pt x="202" y="89"/>
                      </a:lnTo>
                      <a:lnTo>
                        <a:pt x="238" y="57"/>
                      </a:lnTo>
                      <a:lnTo>
                        <a:pt x="277" y="30"/>
                      </a:lnTo>
                      <a:lnTo>
                        <a:pt x="317" y="0"/>
                      </a:lnTo>
                      <a:lnTo>
                        <a:pt x="349" y="39"/>
                      </a:lnTo>
                      <a:lnTo>
                        <a:pt x="402" y="67"/>
                      </a:lnTo>
                      <a:lnTo>
                        <a:pt x="437" y="48"/>
                      </a:lnTo>
                      <a:lnTo>
                        <a:pt x="477" y="35"/>
                      </a:lnTo>
                      <a:lnTo>
                        <a:pt x="521" y="22"/>
                      </a:lnTo>
                      <a:lnTo>
                        <a:pt x="583" y="52"/>
                      </a:lnTo>
                      <a:lnTo>
                        <a:pt x="644" y="93"/>
                      </a:lnTo>
                      <a:lnTo>
                        <a:pt x="671" y="128"/>
                      </a:lnTo>
                      <a:lnTo>
                        <a:pt x="671" y="172"/>
                      </a:lnTo>
                      <a:lnTo>
                        <a:pt x="636" y="200"/>
                      </a:lnTo>
                      <a:lnTo>
                        <a:pt x="583" y="226"/>
                      </a:lnTo>
                      <a:lnTo>
                        <a:pt x="543" y="231"/>
                      </a:lnTo>
                      <a:lnTo>
                        <a:pt x="503" y="235"/>
                      </a:lnTo>
                      <a:lnTo>
                        <a:pt x="486" y="182"/>
                      </a:lnTo>
                      <a:lnTo>
                        <a:pt x="538" y="150"/>
                      </a:lnTo>
                      <a:lnTo>
                        <a:pt x="578" y="111"/>
                      </a:lnTo>
                      <a:lnTo>
                        <a:pt x="534" y="84"/>
                      </a:lnTo>
                      <a:lnTo>
                        <a:pt x="583" y="52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0">
                  <a:noFill/>
                </a:ln>
              </p:spPr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7" name=""/>
            <p:cNvSpPr/>
            <p:nvPr/>
          </p:nvSpPr>
          <p:spPr>
            <a:xfrm>
              <a:off x="2549520" y="6267600"/>
              <a:ext cx="814680" cy="25920"/>
            </a:xfrm>
            <a:custGeom>
              <a:avLst/>
              <a:gdLst/>
              <a:ahLst/>
              <a:rect l="0" t="0" r="r" b="b"/>
              <a:pathLst>
                <a:path fill="none" w="2263" h="72">
                  <a:moveTo>
                    <a:pt x="0" y="72"/>
                  </a:moveTo>
                  <a:lnTo>
                    <a:pt x="343" y="72"/>
                  </a:lnTo>
                  <a:lnTo>
                    <a:pt x="1178" y="0"/>
                  </a:lnTo>
                  <a:lnTo>
                    <a:pt x="1707" y="36"/>
                  </a:lnTo>
                  <a:lnTo>
                    <a:pt x="2263" y="5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064040" y="3467160"/>
            <a:ext cx="508320" cy="1740240"/>
            <a:chOff x="4064040" y="3467160"/>
            <a:chExt cx="508320" cy="1740240"/>
          </a:xfrm>
        </p:grpSpPr>
        <p:sp>
          <p:nvSpPr>
            <p:cNvPr id="619" name=""/>
            <p:cNvSpPr/>
            <p:nvPr/>
          </p:nvSpPr>
          <p:spPr>
            <a:xfrm>
              <a:off x="4149720" y="3814920"/>
              <a:ext cx="371880" cy="562320"/>
            </a:xfrm>
            <a:custGeom>
              <a:avLst/>
              <a:gdLst/>
              <a:ahLst/>
              <a:rect l="0" t="0" r="r" b="b"/>
              <a:pathLst>
                <a:path w="1033" h="1562">
                  <a:moveTo>
                    <a:pt x="264" y="62"/>
                  </a:moveTo>
                  <a:lnTo>
                    <a:pt x="317" y="22"/>
                  </a:lnTo>
                  <a:lnTo>
                    <a:pt x="370" y="0"/>
                  </a:lnTo>
                  <a:lnTo>
                    <a:pt x="423" y="22"/>
                  </a:lnTo>
                  <a:lnTo>
                    <a:pt x="505" y="40"/>
                  </a:lnTo>
                  <a:lnTo>
                    <a:pt x="634" y="0"/>
                  </a:lnTo>
                  <a:lnTo>
                    <a:pt x="686" y="0"/>
                  </a:lnTo>
                  <a:lnTo>
                    <a:pt x="769" y="0"/>
                  </a:lnTo>
                  <a:lnTo>
                    <a:pt x="769" y="62"/>
                  </a:lnTo>
                  <a:lnTo>
                    <a:pt x="769" y="80"/>
                  </a:lnTo>
                  <a:lnTo>
                    <a:pt x="686" y="142"/>
                  </a:lnTo>
                  <a:lnTo>
                    <a:pt x="716" y="227"/>
                  </a:lnTo>
                  <a:lnTo>
                    <a:pt x="716" y="289"/>
                  </a:lnTo>
                  <a:lnTo>
                    <a:pt x="769" y="330"/>
                  </a:lnTo>
                  <a:lnTo>
                    <a:pt x="822" y="392"/>
                  </a:lnTo>
                  <a:lnTo>
                    <a:pt x="793" y="535"/>
                  </a:lnTo>
                  <a:lnTo>
                    <a:pt x="739" y="637"/>
                  </a:lnTo>
                  <a:lnTo>
                    <a:pt x="793" y="700"/>
                  </a:lnTo>
                  <a:lnTo>
                    <a:pt x="875" y="780"/>
                  </a:lnTo>
                  <a:lnTo>
                    <a:pt x="951" y="861"/>
                  </a:lnTo>
                  <a:lnTo>
                    <a:pt x="981" y="924"/>
                  </a:lnTo>
                  <a:lnTo>
                    <a:pt x="1004" y="986"/>
                  </a:lnTo>
                  <a:lnTo>
                    <a:pt x="1033" y="1026"/>
                  </a:lnTo>
                  <a:lnTo>
                    <a:pt x="1033" y="1026"/>
                  </a:lnTo>
                  <a:lnTo>
                    <a:pt x="1004" y="1174"/>
                  </a:lnTo>
                  <a:lnTo>
                    <a:pt x="981" y="1294"/>
                  </a:lnTo>
                  <a:lnTo>
                    <a:pt x="951" y="1419"/>
                  </a:lnTo>
                  <a:lnTo>
                    <a:pt x="899" y="1562"/>
                  </a:lnTo>
                  <a:lnTo>
                    <a:pt x="899" y="1521"/>
                  </a:lnTo>
                  <a:lnTo>
                    <a:pt x="899" y="1481"/>
                  </a:lnTo>
                  <a:lnTo>
                    <a:pt x="928" y="1437"/>
                  </a:lnTo>
                  <a:lnTo>
                    <a:pt x="928" y="1419"/>
                  </a:lnTo>
                  <a:lnTo>
                    <a:pt x="899" y="1356"/>
                  </a:lnTo>
                  <a:lnTo>
                    <a:pt x="875" y="1276"/>
                  </a:lnTo>
                  <a:lnTo>
                    <a:pt x="899" y="1214"/>
                  </a:lnTo>
                  <a:lnTo>
                    <a:pt x="928" y="1191"/>
                  </a:lnTo>
                  <a:lnTo>
                    <a:pt x="928" y="1174"/>
                  </a:lnTo>
                  <a:lnTo>
                    <a:pt x="899" y="1049"/>
                  </a:lnTo>
                  <a:lnTo>
                    <a:pt x="846" y="986"/>
                  </a:lnTo>
                  <a:lnTo>
                    <a:pt x="793" y="946"/>
                  </a:lnTo>
                  <a:lnTo>
                    <a:pt x="739" y="884"/>
                  </a:lnTo>
                  <a:lnTo>
                    <a:pt x="686" y="821"/>
                  </a:lnTo>
                  <a:lnTo>
                    <a:pt x="634" y="861"/>
                  </a:lnTo>
                  <a:lnTo>
                    <a:pt x="581" y="884"/>
                  </a:lnTo>
                  <a:lnTo>
                    <a:pt x="528" y="906"/>
                  </a:lnTo>
                  <a:lnTo>
                    <a:pt x="505" y="924"/>
                  </a:lnTo>
                  <a:lnTo>
                    <a:pt x="475" y="924"/>
                  </a:lnTo>
                  <a:lnTo>
                    <a:pt x="475" y="843"/>
                  </a:lnTo>
                  <a:lnTo>
                    <a:pt x="475" y="821"/>
                  </a:lnTo>
                  <a:lnTo>
                    <a:pt x="475" y="803"/>
                  </a:lnTo>
                  <a:lnTo>
                    <a:pt x="505" y="758"/>
                  </a:lnTo>
                  <a:lnTo>
                    <a:pt x="528" y="718"/>
                  </a:lnTo>
                  <a:lnTo>
                    <a:pt x="528" y="718"/>
                  </a:lnTo>
                  <a:lnTo>
                    <a:pt x="528" y="740"/>
                  </a:lnTo>
                  <a:lnTo>
                    <a:pt x="528" y="758"/>
                  </a:lnTo>
                  <a:lnTo>
                    <a:pt x="505" y="780"/>
                  </a:lnTo>
                  <a:lnTo>
                    <a:pt x="452" y="758"/>
                  </a:lnTo>
                  <a:lnTo>
                    <a:pt x="423" y="740"/>
                  </a:lnTo>
                  <a:lnTo>
                    <a:pt x="399" y="740"/>
                  </a:lnTo>
                  <a:lnTo>
                    <a:pt x="370" y="758"/>
                  </a:lnTo>
                  <a:lnTo>
                    <a:pt x="346" y="780"/>
                  </a:lnTo>
                  <a:lnTo>
                    <a:pt x="264" y="718"/>
                  </a:lnTo>
                  <a:lnTo>
                    <a:pt x="240" y="780"/>
                  </a:lnTo>
                  <a:lnTo>
                    <a:pt x="211" y="803"/>
                  </a:lnTo>
                  <a:lnTo>
                    <a:pt x="158" y="780"/>
                  </a:lnTo>
                  <a:lnTo>
                    <a:pt x="52" y="758"/>
                  </a:lnTo>
                  <a:lnTo>
                    <a:pt x="23" y="740"/>
                  </a:lnTo>
                  <a:lnTo>
                    <a:pt x="0" y="700"/>
                  </a:lnTo>
                  <a:lnTo>
                    <a:pt x="23" y="677"/>
                  </a:lnTo>
                  <a:lnTo>
                    <a:pt x="52" y="677"/>
                  </a:lnTo>
                  <a:lnTo>
                    <a:pt x="158" y="700"/>
                  </a:lnTo>
                  <a:lnTo>
                    <a:pt x="264" y="718"/>
                  </a:lnTo>
                  <a:lnTo>
                    <a:pt x="264" y="718"/>
                  </a:lnTo>
                  <a:lnTo>
                    <a:pt x="240" y="700"/>
                  </a:lnTo>
                  <a:lnTo>
                    <a:pt x="211" y="677"/>
                  </a:lnTo>
                  <a:lnTo>
                    <a:pt x="187" y="655"/>
                  </a:lnTo>
                  <a:lnTo>
                    <a:pt x="187" y="637"/>
                  </a:lnTo>
                  <a:lnTo>
                    <a:pt x="187" y="597"/>
                  </a:lnTo>
                  <a:lnTo>
                    <a:pt x="211" y="553"/>
                  </a:lnTo>
                  <a:lnTo>
                    <a:pt x="240" y="535"/>
                  </a:lnTo>
                  <a:lnTo>
                    <a:pt x="240" y="472"/>
                  </a:lnTo>
                  <a:lnTo>
                    <a:pt x="240" y="410"/>
                  </a:lnTo>
                  <a:lnTo>
                    <a:pt x="240" y="267"/>
                  </a:lnTo>
                  <a:lnTo>
                    <a:pt x="187" y="227"/>
                  </a:lnTo>
                  <a:lnTo>
                    <a:pt x="158" y="205"/>
                  </a:lnTo>
                  <a:lnTo>
                    <a:pt x="158" y="182"/>
                  </a:lnTo>
                  <a:lnTo>
                    <a:pt x="187" y="165"/>
                  </a:lnTo>
                  <a:lnTo>
                    <a:pt x="211" y="142"/>
                  </a:lnTo>
                  <a:lnTo>
                    <a:pt x="211" y="124"/>
                  </a:lnTo>
                  <a:lnTo>
                    <a:pt x="264" y="6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332240" y="3998880"/>
              <a:ext cx="117720" cy="122760"/>
            </a:xfrm>
            <a:custGeom>
              <a:avLst/>
              <a:gdLst/>
              <a:ahLst/>
              <a:rect l="0" t="0" r="r" b="b"/>
              <a:pathLst>
                <a:path w="327" h="341">
                  <a:moveTo>
                    <a:pt x="67" y="200"/>
                  </a:moveTo>
                  <a:lnTo>
                    <a:pt x="67" y="140"/>
                  </a:lnTo>
                  <a:lnTo>
                    <a:pt x="101" y="76"/>
                  </a:lnTo>
                  <a:lnTo>
                    <a:pt x="173" y="38"/>
                  </a:lnTo>
                  <a:lnTo>
                    <a:pt x="241" y="0"/>
                  </a:lnTo>
                  <a:lnTo>
                    <a:pt x="278" y="25"/>
                  </a:lnTo>
                  <a:lnTo>
                    <a:pt x="327" y="63"/>
                  </a:lnTo>
                  <a:lnTo>
                    <a:pt x="327" y="89"/>
                  </a:lnTo>
                  <a:lnTo>
                    <a:pt x="327" y="89"/>
                  </a:lnTo>
                  <a:lnTo>
                    <a:pt x="293" y="89"/>
                  </a:lnTo>
                  <a:lnTo>
                    <a:pt x="226" y="127"/>
                  </a:lnTo>
                  <a:lnTo>
                    <a:pt x="153" y="178"/>
                  </a:lnTo>
                  <a:lnTo>
                    <a:pt x="138" y="239"/>
                  </a:lnTo>
                  <a:lnTo>
                    <a:pt x="138" y="265"/>
                  </a:lnTo>
                  <a:lnTo>
                    <a:pt x="120" y="290"/>
                  </a:lnTo>
                  <a:lnTo>
                    <a:pt x="101" y="316"/>
                  </a:lnTo>
                  <a:lnTo>
                    <a:pt x="67" y="328"/>
                  </a:lnTo>
                  <a:lnTo>
                    <a:pt x="48" y="341"/>
                  </a:lnTo>
                  <a:lnTo>
                    <a:pt x="33" y="341"/>
                  </a:lnTo>
                  <a:lnTo>
                    <a:pt x="0" y="316"/>
                  </a:lnTo>
                  <a:lnTo>
                    <a:pt x="0" y="290"/>
                  </a:lnTo>
                  <a:lnTo>
                    <a:pt x="15" y="278"/>
                  </a:lnTo>
                  <a:lnTo>
                    <a:pt x="33" y="226"/>
                  </a:lnTo>
                  <a:lnTo>
                    <a:pt x="48" y="213"/>
                  </a:lnTo>
                  <a:lnTo>
                    <a:pt x="67" y="213"/>
                  </a:lnTo>
                  <a:lnTo>
                    <a:pt x="67" y="20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064040" y="4125960"/>
              <a:ext cx="135360" cy="197280"/>
            </a:xfrm>
            <a:custGeom>
              <a:avLst/>
              <a:gdLst/>
              <a:ahLst/>
              <a:rect l="0" t="0" r="r" b="b"/>
              <a:pathLst>
                <a:path w="376" h="548">
                  <a:moveTo>
                    <a:pt x="285" y="429"/>
                  </a:moveTo>
                  <a:lnTo>
                    <a:pt x="211" y="326"/>
                  </a:lnTo>
                  <a:lnTo>
                    <a:pt x="137" y="207"/>
                  </a:lnTo>
                  <a:lnTo>
                    <a:pt x="137" y="148"/>
                  </a:lnTo>
                  <a:lnTo>
                    <a:pt x="137" y="87"/>
                  </a:lnTo>
                  <a:lnTo>
                    <a:pt x="165" y="42"/>
                  </a:lnTo>
                  <a:lnTo>
                    <a:pt x="211" y="0"/>
                  </a:lnTo>
                  <a:lnTo>
                    <a:pt x="225" y="28"/>
                  </a:lnTo>
                  <a:lnTo>
                    <a:pt x="256" y="42"/>
                  </a:lnTo>
                  <a:lnTo>
                    <a:pt x="270" y="73"/>
                  </a:lnTo>
                  <a:lnTo>
                    <a:pt x="270" y="87"/>
                  </a:lnTo>
                  <a:lnTo>
                    <a:pt x="197" y="119"/>
                  </a:lnTo>
                  <a:lnTo>
                    <a:pt x="120" y="148"/>
                  </a:lnTo>
                  <a:lnTo>
                    <a:pt x="151" y="162"/>
                  </a:lnTo>
                  <a:lnTo>
                    <a:pt x="165" y="162"/>
                  </a:lnTo>
                  <a:lnTo>
                    <a:pt x="197" y="162"/>
                  </a:lnTo>
                  <a:lnTo>
                    <a:pt x="211" y="162"/>
                  </a:lnTo>
                  <a:lnTo>
                    <a:pt x="239" y="179"/>
                  </a:lnTo>
                  <a:lnTo>
                    <a:pt x="299" y="193"/>
                  </a:lnTo>
                  <a:lnTo>
                    <a:pt x="317" y="207"/>
                  </a:lnTo>
                  <a:lnTo>
                    <a:pt x="331" y="207"/>
                  </a:lnTo>
                  <a:lnTo>
                    <a:pt x="359" y="267"/>
                  </a:lnTo>
                  <a:lnTo>
                    <a:pt x="376" y="326"/>
                  </a:lnTo>
                  <a:lnTo>
                    <a:pt x="359" y="372"/>
                  </a:lnTo>
                  <a:lnTo>
                    <a:pt x="331" y="400"/>
                  </a:lnTo>
                  <a:lnTo>
                    <a:pt x="239" y="447"/>
                  </a:lnTo>
                  <a:lnTo>
                    <a:pt x="137" y="475"/>
                  </a:lnTo>
                  <a:lnTo>
                    <a:pt x="106" y="506"/>
                  </a:lnTo>
                  <a:lnTo>
                    <a:pt x="59" y="534"/>
                  </a:lnTo>
                  <a:lnTo>
                    <a:pt x="31" y="548"/>
                  </a:lnTo>
                  <a:lnTo>
                    <a:pt x="17" y="534"/>
                  </a:lnTo>
                  <a:lnTo>
                    <a:pt x="0" y="506"/>
                  </a:lnTo>
                  <a:lnTo>
                    <a:pt x="59" y="475"/>
                  </a:lnTo>
                  <a:lnTo>
                    <a:pt x="106" y="475"/>
                  </a:lnTo>
                  <a:lnTo>
                    <a:pt x="151" y="461"/>
                  </a:lnTo>
                  <a:lnTo>
                    <a:pt x="211" y="429"/>
                  </a:lnTo>
                  <a:lnTo>
                    <a:pt x="239" y="400"/>
                  </a:lnTo>
                  <a:lnTo>
                    <a:pt x="239" y="386"/>
                  </a:lnTo>
                  <a:lnTo>
                    <a:pt x="256" y="400"/>
                  </a:lnTo>
                  <a:lnTo>
                    <a:pt x="285" y="429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114800" y="4492800"/>
              <a:ext cx="200520" cy="81360"/>
            </a:xfrm>
            <a:custGeom>
              <a:avLst/>
              <a:gdLst/>
              <a:ahLst/>
              <a:rect l="0" t="0" r="r" b="b"/>
              <a:pathLst>
                <a:path w="557" h="226">
                  <a:moveTo>
                    <a:pt x="422" y="49"/>
                  </a:moveTo>
                  <a:lnTo>
                    <a:pt x="377" y="99"/>
                  </a:lnTo>
                  <a:lnTo>
                    <a:pt x="346" y="127"/>
                  </a:lnTo>
                  <a:lnTo>
                    <a:pt x="316" y="77"/>
                  </a:lnTo>
                  <a:lnTo>
                    <a:pt x="272" y="27"/>
                  </a:lnTo>
                  <a:lnTo>
                    <a:pt x="135" y="77"/>
                  </a:lnTo>
                  <a:lnTo>
                    <a:pt x="0" y="154"/>
                  </a:lnTo>
                  <a:lnTo>
                    <a:pt x="13" y="226"/>
                  </a:lnTo>
                  <a:lnTo>
                    <a:pt x="60" y="226"/>
                  </a:lnTo>
                  <a:lnTo>
                    <a:pt x="167" y="226"/>
                  </a:lnTo>
                  <a:lnTo>
                    <a:pt x="180" y="204"/>
                  </a:lnTo>
                  <a:lnTo>
                    <a:pt x="224" y="177"/>
                  </a:lnTo>
                  <a:lnTo>
                    <a:pt x="255" y="154"/>
                  </a:lnTo>
                  <a:lnTo>
                    <a:pt x="272" y="154"/>
                  </a:lnTo>
                  <a:lnTo>
                    <a:pt x="302" y="177"/>
                  </a:lnTo>
                  <a:lnTo>
                    <a:pt x="346" y="204"/>
                  </a:lnTo>
                  <a:lnTo>
                    <a:pt x="377" y="226"/>
                  </a:lnTo>
                  <a:lnTo>
                    <a:pt x="390" y="226"/>
                  </a:lnTo>
                  <a:lnTo>
                    <a:pt x="435" y="226"/>
                  </a:lnTo>
                  <a:lnTo>
                    <a:pt x="483" y="204"/>
                  </a:lnTo>
                  <a:lnTo>
                    <a:pt x="496" y="154"/>
                  </a:lnTo>
                  <a:lnTo>
                    <a:pt x="540" y="49"/>
                  </a:lnTo>
                  <a:lnTo>
                    <a:pt x="557" y="27"/>
                  </a:lnTo>
                  <a:lnTo>
                    <a:pt x="557" y="0"/>
                  </a:lnTo>
                  <a:lnTo>
                    <a:pt x="540" y="27"/>
                  </a:lnTo>
                  <a:lnTo>
                    <a:pt x="513" y="49"/>
                  </a:lnTo>
                  <a:lnTo>
                    <a:pt x="483" y="127"/>
                  </a:lnTo>
                  <a:lnTo>
                    <a:pt x="452" y="177"/>
                  </a:lnTo>
                  <a:lnTo>
                    <a:pt x="435" y="177"/>
                  </a:lnTo>
                  <a:lnTo>
                    <a:pt x="422" y="177"/>
                  </a:lnTo>
                  <a:lnTo>
                    <a:pt x="422" y="127"/>
                  </a:lnTo>
                  <a:lnTo>
                    <a:pt x="422" y="49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08320" y="3924360"/>
              <a:ext cx="187560" cy="170280"/>
            </a:xfrm>
            <a:custGeom>
              <a:avLst/>
              <a:gdLst/>
              <a:ahLst/>
              <a:rect l="0" t="0" r="r" b="b"/>
              <a:pathLst>
                <a:path w="521" h="473">
                  <a:moveTo>
                    <a:pt x="435" y="447"/>
                  </a:moveTo>
                  <a:lnTo>
                    <a:pt x="422" y="315"/>
                  </a:lnTo>
                  <a:lnTo>
                    <a:pt x="422" y="198"/>
                  </a:lnTo>
                  <a:lnTo>
                    <a:pt x="422" y="144"/>
                  </a:lnTo>
                  <a:lnTo>
                    <a:pt x="393" y="90"/>
                  </a:lnTo>
                  <a:lnTo>
                    <a:pt x="364" y="40"/>
                  </a:lnTo>
                  <a:lnTo>
                    <a:pt x="310" y="0"/>
                  </a:lnTo>
                  <a:lnTo>
                    <a:pt x="323" y="90"/>
                  </a:lnTo>
                  <a:lnTo>
                    <a:pt x="352" y="131"/>
                  </a:lnTo>
                  <a:lnTo>
                    <a:pt x="380" y="185"/>
                  </a:lnTo>
                  <a:lnTo>
                    <a:pt x="265" y="248"/>
                  </a:lnTo>
                  <a:lnTo>
                    <a:pt x="153" y="288"/>
                  </a:lnTo>
                  <a:lnTo>
                    <a:pt x="124" y="275"/>
                  </a:lnTo>
                  <a:lnTo>
                    <a:pt x="98" y="262"/>
                  </a:lnTo>
                  <a:lnTo>
                    <a:pt x="70" y="238"/>
                  </a:lnTo>
                  <a:lnTo>
                    <a:pt x="28" y="198"/>
                  </a:lnTo>
                  <a:lnTo>
                    <a:pt x="12" y="158"/>
                  </a:lnTo>
                  <a:lnTo>
                    <a:pt x="0" y="144"/>
                  </a:lnTo>
                  <a:lnTo>
                    <a:pt x="0" y="198"/>
                  </a:lnTo>
                  <a:lnTo>
                    <a:pt x="12" y="225"/>
                  </a:lnTo>
                  <a:lnTo>
                    <a:pt x="54" y="275"/>
                  </a:lnTo>
                  <a:lnTo>
                    <a:pt x="124" y="288"/>
                  </a:lnTo>
                  <a:lnTo>
                    <a:pt x="210" y="302"/>
                  </a:lnTo>
                  <a:lnTo>
                    <a:pt x="239" y="315"/>
                  </a:lnTo>
                  <a:lnTo>
                    <a:pt x="252" y="328"/>
                  </a:lnTo>
                  <a:lnTo>
                    <a:pt x="281" y="356"/>
                  </a:lnTo>
                  <a:lnTo>
                    <a:pt x="294" y="383"/>
                  </a:lnTo>
                  <a:lnTo>
                    <a:pt x="310" y="406"/>
                  </a:lnTo>
                  <a:lnTo>
                    <a:pt x="336" y="420"/>
                  </a:lnTo>
                  <a:lnTo>
                    <a:pt x="380" y="383"/>
                  </a:lnTo>
                  <a:lnTo>
                    <a:pt x="393" y="356"/>
                  </a:lnTo>
                  <a:lnTo>
                    <a:pt x="406" y="315"/>
                  </a:lnTo>
                  <a:lnTo>
                    <a:pt x="422" y="262"/>
                  </a:lnTo>
                  <a:lnTo>
                    <a:pt x="406" y="238"/>
                  </a:lnTo>
                  <a:lnTo>
                    <a:pt x="406" y="238"/>
                  </a:lnTo>
                  <a:lnTo>
                    <a:pt x="393" y="248"/>
                  </a:lnTo>
                  <a:lnTo>
                    <a:pt x="364" y="275"/>
                  </a:lnTo>
                  <a:lnTo>
                    <a:pt x="352" y="315"/>
                  </a:lnTo>
                  <a:lnTo>
                    <a:pt x="406" y="383"/>
                  </a:lnTo>
                  <a:lnTo>
                    <a:pt x="435" y="396"/>
                  </a:lnTo>
                  <a:lnTo>
                    <a:pt x="463" y="406"/>
                  </a:lnTo>
                  <a:lnTo>
                    <a:pt x="476" y="420"/>
                  </a:lnTo>
                  <a:lnTo>
                    <a:pt x="505" y="433"/>
                  </a:lnTo>
                  <a:lnTo>
                    <a:pt x="521" y="433"/>
                  </a:lnTo>
                  <a:lnTo>
                    <a:pt x="521" y="447"/>
                  </a:lnTo>
                  <a:lnTo>
                    <a:pt x="492" y="460"/>
                  </a:lnTo>
                  <a:lnTo>
                    <a:pt x="463" y="460"/>
                  </a:lnTo>
                  <a:lnTo>
                    <a:pt x="393" y="460"/>
                  </a:lnTo>
                  <a:lnTo>
                    <a:pt x="393" y="473"/>
                  </a:lnTo>
                  <a:lnTo>
                    <a:pt x="380" y="473"/>
                  </a:lnTo>
                  <a:lnTo>
                    <a:pt x="364" y="473"/>
                  </a:lnTo>
                  <a:lnTo>
                    <a:pt x="364" y="473"/>
                  </a:lnTo>
                  <a:lnTo>
                    <a:pt x="406" y="460"/>
                  </a:lnTo>
                  <a:lnTo>
                    <a:pt x="435" y="44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06880" y="4767120"/>
              <a:ext cx="89280" cy="236880"/>
            </a:xfrm>
            <a:custGeom>
              <a:avLst/>
              <a:gdLst/>
              <a:ahLst/>
              <a:rect l="0" t="0" r="r" b="b"/>
              <a:pathLst>
                <a:path w="248" h="658">
                  <a:moveTo>
                    <a:pt x="124" y="16"/>
                  </a:moveTo>
                  <a:lnTo>
                    <a:pt x="111" y="83"/>
                  </a:lnTo>
                  <a:lnTo>
                    <a:pt x="82" y="137"/>
                  </a:lnTo>
                  <a:lnTo>
                    <a:pt x="42" y="291"/>
                  </a:lnTo>
                  <a:lnTo>
                    <a:pt x="0" y="450"/>
                  </a:lnTo>
                  <a:lnTo>
                    <a:pt x="12" y="500"/>
                  </a:lnTo>
                  <a:lnTo>
                    <a:pt x="42" y="537"/>
                  </a:lnTo>
                  <a:lnTo>
                    <a:pt x="69" y="570"/>
                  </a:lnTo>
                  <a:lnTo>
                    <a:pt x="111" y="604"/>
                  </a:lnTo>
                  <a:lnTo>
                    <a:pt x="153" y="624"/>
                  </a:lnTo>
                  <a:lnTo>
                    <a:pt x="179" y="624"/>
                  </a:lnTo>
                  <a:lnTo>
                    <a:pt x="179" y="641"/>
                  </a:lnTo>
                  <a:lnTo>
                    <a:pt x="179" y="658"/>
                  </a:lnTo>
                  <a:lnTo>
                    <a:pt x="153" y="658"/>
                  </a:lnTo>
                  <a:lnTo>
                    <a:pt x="111" y="641"/>
                  </a:lnTo>
                  <a:lnTo>
                    <a:pt x="111" y="483"/>
                  </a:lnTo>
                  <a:lnTo>
                    <a:pt x="98" y="466"/>
                  </a:lnTo>
                  <a:lnTo>
                    <a:pt x="98" y="450"/>
                  </a:lnTo>
                  <a:lnTo>
                    <a:pt x="124" y="433"/>
                  </a:lnTo>
                  <a:lnTo>
                    <a:pt x="166" y="396"/>
                  </a:lnTo>
                  <a:lnTo>
                    <a:pt x="209" y="379"/>
                  </a:lnTo>
                  <a:lnTo>
                    <a:pt x="235" y="379"/>
                  </a:lnTo>
                  <a:lnTo>
                    <a:pt x="248" y="346"/>
                  </a:lnTo>
                  <a:lnTo>
                    <a:pt x="248" y="311"/>
                  </a:lnTo>
                  <a:lnTo>
                    <a:pt x="235" y="291"/>
                  </a:lnTo>
                  <a:lnTo>
                    <a:pt x="193" y="274"/>
                  </a:lnTo>
                  <a:lnTo>
                    <a:pt x="166" y="291"/>
                  </a:lnTo>
                  <a:lnTo>
                    <a:pt x="153" y="328"/>
                  </a:lnTo>
                  <a:lnTo>
                    <a:pt x="124" y="379"/>
                  </a:lnTo>
                  <a:lnTo>
                    <a:pt x="82" y="328"/>
                  </a:lnTo>
                  <a:lnTo>
                    <a:pt x="69" y="311"/>
                  </a:lnTo>
                  <a:lnTo>
                    <a:pt x="98" y="274"/>
                  </a:lnTo>
                  <a:lnTo>
                    <a:pt x="137" y="241"/>
                  </a:lnTo>
                  <a:lnTo>
                    <a:pt x="153" y="224"/>
                  </a:lnTo>
                  <a:lnTo>
                    <a:pt x="166" y="207"/>
                  </a:lnTo>
                  <a:lnTo>
                    <a:pt x="222" y="0"/>
                  </a:lnTo>
                  <a:lnTo>
                    <a:pt x="209" y="33"/>
                  </a:lnTo>
                  <a:lnTo>
                    <a:pt x="166" y="67"/>
                  </a:lnTo>
                  <a:lnTo>
                    <a:pt x="137" y="67"/>
                  </a:lnTo>
                  <a:lnTo>
                    <a:pt x="124" y="50"/>
                  </a:lnTo>
                  <a:lnTo>
                    <a:pt x="124" y="16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354560" y="5033880"/>
              <a:ext cx="70200" cy="173520"/>
            </a:xfrm>
            <a:custGeom>
              <a:avLst/>
              <a:gdLst/>
              <a:ahLst/>
              <a:rect l="0" t="0" r="r" b="b"/>
              <a:pathLst>
                <a:path w="195" h="482">
                  <a:moveTo>
                    <a:pt x="98" y="71"/>
                  </a:moveTo>
                  <a:lnTo>
                    <a:pt x="69" y="125"/>
                  </a:lnTo>
                  <a:lnTo>
                    <a:pt x="54" y="161"/>
                  </a:lnTo>
                  <a:lnTo>
                    <a:pt x="42" y="197"/>
                  </a:lnTo>
                  <a:lnTo>
                    <a:pt x="27" y="249"/>
                  </a:lnTo>
                  <a:lnTo>
                    <a:pt x="15" y="285"/>
                  </a:lnTo>
                  <a:lnTo>
                    <a:pt x="0" y="321"/>
                  </a:lnTo>
                  <a:lnTo>
                    <a:pt x="0" y="321"/>
                  </a:lnTo>
                  <a:lnTo>
                    <a:pt x="27" y="374"/>
                  </a:lnTo>
                  <a:lnTo>
                    <a:pt x="54" y="430"/>
                  </a:lnTo>
                  <a:lnTo>
                    <a:pt x="140" y="482"/>
                  </a:lnTo>
                  <a:lnTo>
                    <a:pt x="113" y="446"/>
                  </a:lnTo>
                  <a:lnTo>
                    <a:pt x="98" y="410"/>
                  </a:lnTo>
                  <a:lnTo>
                    <a:pt x="98" y="394"/>
                  </a:lnTo>
                  <a:lnTo>
                    <a:pt x="125" y="337"/>
                  </a:lnTo>
                  <a:lnTo>
                    <a:pt x="98" y="321"/>
                  </a:lnTo>
                  <a:lnTo>
                    <a:pt x="98" y="285"/>
                  </a:lnTo>
                  <a:lnTo>
                    <a:pt x="113" y="269"/>
                  </a:lnTo>
                  <a:lnTo>
                    <a:pt x="140" y="249"/>
                  </a:lnTo>
                  <a:lnTo>
                    <a:pt x="167" y="213"/>
                  </a:lnTo>
                  <a:lnTo>
                    <a:pt x="195" y="177"/>
                  </a:lnTo>
                  <a:lnTo>
                    <a:pt x="195" y="161"/>
                  </a:lnTo>
                  <a:lnTo>
                    <a:pt x="195" y="125"/>
                  </a:lnTo>
                  <a:lnTo>
                    <a:pt x="182" y="71"/>
                  </a:lnTo>
                  <a:lnTo>
                    <a:pt x="140" y="19"/>
                  </a:lnTo>
                  <a:lnTo>
                    <a:pt x="113" y="0"/>
                  </a:lnTo>
                  <a:lnTo>
                    <a:pt x="113" y="19"/>
                  </a:lnTo>
                  <a:lnTo>
                    <a:pt x="98" y="35"/>
                  </a:lnTo>
                  <a:lnTo>
                    <a:pt x="98" y="71"/>
                  </a:lnTo>
                  <a:lnTo>
                    <a:pt x="98" y="88"/>
                  </a:lnTo>
                  <a:lnTo>
                    <a:pt x="98" y="88"/>
                  </a:lnTo>
                  <a:lnTo>
                    <a:pt x="98" y="7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21000" y="4422600"/>
              <a:ext cx="351360" cy="225720"/>
            </a:xfrm>
            <a:custGeom>
              <a:avLst/>
              <a:gdLst/>
              <a:ahLst/>
              <a:rect l="0" t="0" r="r" b="b"/>
              <a:pathLst>
                <a:path w="976" h="627">
                  <a:moveTo>
                    <a:pt x="561" y="145"/>
                  </a:moveTo>
                  <a:lnTo>
                    <a:pt x="534" y="286"/>
                  </a:lnTo>
                  <a:lnTo>
                    <a:pt x="503" y="359"/>
                  </a:lnTo>
                  <a:lnTo>
                    <a:pt x="457" y="413"/>
                  </a:lnTo>
                  <a:lnTo>
                    <a:pt x="399" y="394"/>
                  </a:lnTo>
                  <a:lnTo>
                    <a:pt x="371" y="375"/>
                  </a:lnTo>
                  <a:lnTo>
                    <a:pt x="325" y="375"/>
                  </a:lnTo>
                  <a:lnTo>
                    <a:pt x="267" y="394"/>
                  </a:lnTo>
                  <a:lnTo>
                    <a:pt x="208" y="447"/>
                  </a:lnTo>
                  <a:lnTo>
                    <a:pt x="134" y="466"/>
                  </a:lnTo>
                  <a:lnTo>
                    <a:pt x="0" y="539"/>
                  </a:lnTo>
                  <a:lnTo>
                    <a:pt x="0" y="573"/>
                  </a:lnTo>
                  <a:lnTo>
                    <a:pt x="15" y="608"/>
                  </a:lnTo>
                  <a:lnTo>
                    <a:pt x="73" y="627"/>
                  </a:lnTo>
                  <a:lnTo>
                    <a:pt x="147" y="608"/>
                  </a:lnTo>
                  <a:lnTo>
                    <a:pt x="208" y="592"/>
                  </a:lnTo>
                  <a:lnTo>
                    <a:pt x="356" y="539"/>
                  </a:lnTo>
                  <a:lnTo>
                    <a:pt x="488" y="466"/>
                  </a:lnTo>
                  <a:lnTo>
                    <a:pt x="534" y="466"/>
                  </a:lnTo>
                  <a:lnTo>
                    <a:pt x="577" y="485"/>
                  </a:lnTo>
                  <a:lnTo>
                    <a:pt x="620" y="501"/>
                  </a:lnTo>
                  <a:lnTo>
                    <a:pt x="650" y="539"/>
                  </a:lnTo>
                  <a:lnTo>
                    <a:pt x="708" y="573"/>
                  </a:lnTo>
                  <a:lnTo>
                    <a:pt x="724" y="539"/>
                  </a:lnTo>
                  <a:lnTo>
                    <a:pt x="740" y="520"/>
                  </a:lnTo>
                  <a:lnTo>
                    <a:pt x="771" y="520"/>
                  </a:lnTo>
                  <a:lnTo>
                    <a:pt x="814" y="520"/>
                  </a:lnTo>
                  <a:lnTo>
                    <a:pt x="844" y="520"/>
                  </a:lnTo>
                  <a:lnTo>
                    <a:pt x="872" y="485"/>
                  </a:lnTo>
                  <a:lnTo>
                    <a:pt x="902" y="413"/>
                  </a:lnTo>
                  <a:lnTo>
                    <a:pt x="933" y="321"/>
                  </a:lnTo>
                  <a:lnTo>
                    <a:pt x="961" y="232"/>
                  </a:lnTo>
                  <a:lnTo>
                    <a:pt x="976" y="198"/>
                  </a:lnTo>
                  <a:lnTo>
                    <a:pt x="976" y="179"/>
                  </a:lnTo>
                  <a:lnTo>
                    <a:pt x="933" y="160"/>
                  </a:lnTo>
                  <a:lnTo>
                    <a:pt x="872" y="145"/>
                  </a:lnTo>
                  <a:lnTo>
                    <a:pt x="814" y="126"/>
                  </a:lnTo>
                  <a:lnTo>
                    <a:pt x="783" y="126"/>
                  </a:lnTo>
                  <a:lnTo>
                    <a:pt x="755" y="106"/>
                  </a:lnTo>
                  <a:lnTo>
                    <a:pt x="708" y="91"/>
                  </a:lnTo>
                  <a:lnTo>
                    <a:pt x="708" y="53"/>
                  </a:lnTo>
                  <a:lnTo>
                    <a:pt x="696" y="19"/>
                  </a:lnTo>
                  <a:lnTo>
                    <a:pt x="635" y="0"/>
                  </a:lnTo>
                  <a:lnTo>
                    <a:pt x="561" y="0"/>
                  </a:lnTo>
                  <a:lnTo>
                    <a:pt x="503" y="0"/>
                  </a:lnTo>
                  <a:lnTo>
                    <a:pt x="518" y="38"/>
                  </a:lnTo>
                  <a:lnTo>
                    <a:pt x="518" y="53"/>
                  </a:lnTo>
                  <a:lnTo>
                    <a:pt x="561" y="145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205160" y="3508200"/>
              <a:ext cx="93960" cy="73440"/>
            </a:xfrm>
            <a:custGeom>
              <a:avLst/>
              <a:gdLst/>
              <a:ahLst/>
              <a:rect l="0" t="0" r="r" b="b"/>
              <a:pathLst>
                <a:path w="261" h="204">
                  <a:moveTo>
                    <a:pt x="208" y="121"/>
                  </a:moveTo>
                  <a:lnTo>
                    <a:pt x="208" y="85"/>
                  </a:lnTo>
                  <a:lnTo>
                    <a:pt x="177" y="46"/>
                  </a:lnTo>
                  <a:lnTo>
                    <a:pt x="123" y="23"/>
                  </a:lnTo>
                  <a:lnTo>
                    <a:pt x="70" y="0"/>
                  </a:lnTo>
                  <a:lnTo>
                    <a:pt x="39" y="15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6" y="54"/>
                  </a:lnTo>
                  <a:lnTo>
                    <a:pt x="79" y="78"/>
                  </a:lnTo>
                  <a:lnTo>
                    <a:pt x="137" y="106"/>
                  </a:lnTo>
                  <a:lnTo>
                    <a:pt x="150" y="144"/>
                  </a:lnTo>
                  <a:lnTo>
                    <a:pt x="150" y="158"/>
                  </a:lnTo>
                  <a:lnTo>
                    <a:pt x="164" y="174"/>
                  </a:lnTo>
                  <a:lnTo>
                    <a:pt x="177" y="189"/>
                  </a:lnTo>
                  <a:lnTo>
                    <a:pt x="208" y="197"/>
                  </a:lnTo>
                  <a:lnTo>
                    <a:pt x="221" y="204"/>
                  </a:lnTo>
                  <a:lnTo>
                    <a:pt x="234" y="204"/>
                  </a:lnTo>
                  <a:lnTo>
                    <a:pt x="261" y="189"/>
                  </a:lnTo>
                  <a:lnTo>
                    <a:pt x="261" y="174"/>
                  </a:lnTo>
                  <a:lnTo>
                    <a:pt x="247" y="166"/>
                  </a:lnTo>
                  <a:lnTo>
                    <a:pt x="234" y="137"/>
                  </a:lnTo>
                  <a:lnTo>
                    <a:pt x="221" y="129"/>
                  </a:lnTo>
                  <a:lnTo>
                    <a:pt x="208" y="129"/>
                  </a:lnTo>
                  <a:lnTo>
                    <a:pt x="208" y="12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459320" y="3584520"/>
              <a:ext cx="113040" cy="106560"/>
            </a:xfrm>
            <a:custGeom>
              <a:avLst/>
              <a:gdLst/>
              <a:ahLst/>
              <a:rect l="0" t="0" r="r" b="b"/>
              <a:pathLst>
                <a:path w="314" h="296">
                  <a:moveTo>
                    <a:pt x="74" y="232"/>
                  </a:moveTo>
                  <a:lnTo>
                    <a:pt x="136" y="178"/>
                  </a:lnTo>
                  <a:lnTo>
                    <a:pt x="199" y="113"/>
                  </a:lnTo>
                  <a:lnTo>
                    <a:pt x="199" y="79"/>
                  </a:lnTo>
                  <a:lnTo>
                    <a:pt x="199" y="46"/>
                  </a:lnTo>
                  <a:lnTo>
                    <a:pt x="177" y="23"/>
                  </a:lnTo>
                  <a:lnTo>
                    <a:pt x="136" y="0"/>
                  </a:lnTo>
                  <a:lnTo>
                    <a:pt x="123" y="15"/>
                  </a:lnTo>
                  <a:lnTo>
                    <a:pt x="97" y="23"/>
                  </a:lnTo>
                  <a:lnTo>
                    <a:pt x="88" y="41"/>
                  </a:lnTo>
                  <a:lnTo>
                    <a:pt x="88" y="46"/>
                  </a:lnTo>
                  <a:lnTo>
                    <a:pt x="149" y="64"/>
                  </a:lnTo>
                  <a:lnTo>
                    <a:pt x="212" y="79"/>
                  </a:lnTo>
                  <a:lnTo>
                    <a:pt x="186" y="87"/>
                  </a:lnTo>
                  <a:lnTo>
                    <a:pt x="177" y="87"/>
                  </a:lnTo>
                  <a:lnTo>
                    <a:pt x="149" y="87"/>
                  </a:lnTo>
                  <a:lnTo>
                    <a:pt x="136" y="87"/>
                  </a:lnTo>
                  <a:lnTo>
                    <a:pt x="114" y="97"/>
                  </a:lnTo>
                  <a:lnTo>
                    <a:pt x="61" y="105"/>
                  </a:lnTo>
                  <a:lnTo>
                    <a:pt x="48" y="113"/>
                  </a:lnTo>
                  <a:lnTo>
                    <a:pt x="35" y="113"/>
                  </a:lnTo>
                  <a:lnTo>
                    <a:pt x="13" y="143"/>
                  </a:lnTo>
                  <a:lnTo>
                    <a:pt x="0" y="178"/>
                  </a:lnTo>
                  <a:lnTo>
                    <a:pt x="13" y="201"/>
                  </a:lnTo>
                  <a:lnTo>
                    <a:pt x="35" y="216"/>
                  </a:lnTo>
                  <a:lnTo>
                    <a:pt x="114" y="242"/>
                  </a:lnTo>
                  <a:lnTo>
                    <a:pt x="199" y="257"/>
                  </a:lnTo>
                  <a:lnTo>
                    <a:pt x="225" y="273"/>
                  </a:lnTo>
                  <a:lnTo>
                    <a:pt x="265" y="288"/>
                  </a:lnTo>
                  <a:lnTo>
                    <a:pt x="287" y="296"/>
                  </a:lnTo>
                  <a:lnTo>
                    <a:pt x="300" y="288"/>
                  </a:lnTo>
                  <a:lnTo>
                    <a:pt x="314" y="273"/>
                  </a:lnTo>
                  <a:lnTo>
                    <a:pt x="265" y="257"/>
                  </a:lnTo>
                  <a:lnTo>
                    <a:pt x="225" y="257"/>
                  </a:lnTo>
                  <a:lnTo>
                    <a:pt x="186" y="250"/>
                  </a:lnTo>
                  <a:lnTo>
                    <a:pt x="136" y="232"/>
                  </a:lnTo>
                  <a:lnTo>
                    <a:pt x="114" y="216"/>
                  </a:lnTo>
                  <a:lnTo>
                    <a:pt x="114" y="209"/>
                  </a:lnTo>
                  <a:lnTo>
                    <a:pt x="97" y="216"/>
                  </a:lnTo>
                  <a:lnTo>
                    <a:pt x="74" y="23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343400" y="3808440"/>
              <a:ext cx="174960" cy="28800"/>
            </a:xfrm>
            <a:custGeom>
              <a:avLst/>
              <a:gdLst/>
              <a:ahLst/>
              <a:rect l="0" t="0" r="r" b="b"/>
              <a:pathLst>
                <a:path w="486" h="80">
                  <a:moveTo>
                    <a:pt x="119" y="18"/>
                  </a:moveTo>
                  <a:lnTo>
                    <a:pt x="158" y="34"/>
                  </a:lnTo>
                  <a:lnTo>
                    <a:pt x="185" y="45"/>
                  </a:lnTo>
                  <a:lnTo>
                    <a:pt x="211" y="26"/>
                  </a:lnTo>
                  <a:lnTo>
                    <a:pt x="247" y="10"/>
                  </a:lnTo>
                  <a:lnTo>
                    <a:pt x="367" y="26"/>
                  </a:lnTo>
                  <a:lnTo>
                    <a:pt x="486" y="56"/>
                  </a:lnTo>
                  <a:lnTo>
                    <a:pt x="477" y="80"/>
                  </a:lnTo>
                  <a:lnTo>
                    <a:pt x="433" y="80"/>
                  </a:lnTo>
                  <a:lnTo>
                    <a:pt x="340" y="80"/>
                  </a:lnTo>
                  <a:lnTo>
                    <a:pt x="331" y="72"/>
                  </a:lnTo>
                  <a:lnTo>
                    <a:pt x="292" y="61"/>
                  </a:lnTo>
                  <a:lnTo>
                    <a:pt x="265" y="56"/>
                  </a:lnTo>
                  <a:lnTo>
                    <a:pt x="247" y="56"/>
                  </a:lnTo>
                  <a:lnTo>
                    <a:pt x="220" y="61"/>
                  </a:lnTo>
                  <a:lnTo>
                    <a:pt x="185" y="72"/>
                  </a:lnTo>
                  <a:lnTo>
                    <a:pt x="158" y="80"/>
                  </a:lnTo>
                  <a:lnTo>
                    <a:pt x="145" y="80"/>
                  </a:lnTo>
                  <a:lnTo>
                    <a:pt x="105" y="80"/>
                  </a:lnTo>
                  <a:lnTo>
                    <a:pt x="66" y="72"/>
                  </a:lnTo>
                  <a:lnTo>
                    <a:pt x="52" y="56"/>
                  </a:lnTo>
                  <a:lnTo>
                    <a:pt x="13" y="18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39" y="18"/>
                  </a:lnTo>
                  <a:lnTo>
                    <a:pt x="66" y="45"/>
                  </a:lnTo>
                  <a:lnTo>
                    <a:pt x="92" y="61"/>
                  </a:lnTo>
                  <a:lnTo>
                    <a:pt x="105" y="61"/>
                  </a:lnTo>
                  <a:lnTo>
                    <a:pt x="119" y="61"/>
                  </a:lnTo>
                  <a:lnTo>
                    <a:pt x="119" y="45"/>
                  </a:lnTo>
                  <a:lnTo>
                    <a:pt x="119" y="18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343400" y="3467160"/>
              <a:ext cx="173520" cy="97200"/>
            </a:xfrm>
            <a:custGeom>
              <a:avLst/>
              <a:gdLst/>
              <a:ahLst/>
              <a:rect l="0" t="0" r="r" b="b"/>
              <a:pathLst>
                <a:path w="482" h="270">
                  <a:moveTo>
                    <a:pt x="79" y="255"/>
                  </a:moveTo>
                  <a:lnTo>
                    <a:pt x="92" y="179"/>
                  </a:lnTo>
                  <a:lnTo>
                    <a:pt x="92" y="112"/>
                  </a:lnTo>
                  <a:lnTo>
                    <a:pt x="92" y="81"/>
                  </a:lnTo>
                  <a:lnTo>
                    <a:pt x="119" y="51"/>
                  </a:lnTo>
                  <a:lnTo>
                    <a:pt x="146" y="20"/>
                  </a:lnTo>
                  <a:lnTo>
                    <a:pt x="195" y="0"/>
                  </a:lnTo>
                  <a:lnTo>
                    <a:pt x="186" y="51"/>
                  </a:lnTo>
                  <a:lnTo>
                    <a:pt x="159" y="73"/>
                  </a:lnTo>
                  <a:lnTo>
                    <a:pt x="133" y="104"/>
                  </a:lnTo>
                  <a:lnTo>
                    <a:pt x="239" y="140"/>
                  </a:lnTo>
                  <a:lnTo>
                    <a:pt x="340" y="163"/>
                  </a:lnTo>
                  <a:lnTo>
                    <a:pt x="368" y="156"/>
                  </a:lnTo>
                  <a:lnTo>
                    <a:pt x="394" y="148"/>
                  </a:lnTo>
                  <a:lnTo>
                    <a:pt x="420" y="135"/>
                  </a:lnTo>
                  <a:lnTo>
                    <a:pt x="456" y="112"/>
                  </a:lnTo>
                  <a:lnTo>
                    <a:pt x="473" y="88"/>
                  </a:lnTo>
                  <a:lnTo>
                    <a:pt x="482" y="81"/>
                  </a:lnTo>
                  <a:lnTo>
                    <a:pt x="482" y="112"/>
                  </a:lnTo>
                  <a:lnTo>
                    <a:pt x="473" y="127"/>
                  </a:lnTo>
                  <a:lnTo>
                    <a:pt x="434" y="156"/>
                  </a:lnTo>
                  <a:lnTo>
                    <a:pt x="368" y="163"/>
                  </a:lnTo>
                  <a:lnTo>
                    <a:pt x="287" y="171"/>
                  </a:lnTo>
                  <a:lnTo>
                    <a:pt x="261" y="179"/>
                  </a:lnTo>
                  <a:lnTo>
                    <a:pt x="247" y="187"/>
                  </a:lnTo>
                  <a:lnTo>
                    <a:pt x="221" y="202"/>
                  </a:lnTo>
                  <a:lnTo>
                    <a:pt x="212" y="219"/>
                  </a:lnTo>
                  <a:lnTo>
                    <a:pt x="195" y="232"/>
                  </a:lnTo>
                  <a:lnTo>
                    <a:pt x="172" y="239"/>
                  </a:lnTo>
                  <a:lnTo>
                    <a:pt x="133" y="219"/>
                  </a:lnTo>
                  <a:lnTo>
                    <a:pt x="119" y="202"/>
                  </a:lnTo>
                  <a:lnTo>
                    <a:pt x="105" y="179"/>
                  </a:lnTo>
                  <a:lnTo>
                    <a:pt x="92" y="148"/>
                  </a:lnTo>
                  <a:lnTo>
                    <a:pt x="105" y="135"/>
                  </a:lnTo>
                  <a:lnTo>
                    <a:pt x="105" y="135"/>
                  </a:lnTo>
                  <a:lnTo>
                    <a:pt x="119" y="140"/>
                  </a:lnTo>
                  <a:lnTo>
                    <a:pt x="146" y="156"/>
                  </a:lnTo>
                  <a:lnTo>
                    <a:pt x="159" y="179"/>
                  </a:lnTo>
                  <a:lnTo>
                    <a:pt x="105" y="219"/>
                  </a:lnTo>
                  <a:lnTo>
                    <a:pt x="79" y="227"/>
                  </a:lnTo>
                  <a:lnTo>
                    <a:pt x="52" y="232"/>
                  </a:lnTo>
                  <a:lnTo>
                    <a:pt x="39" y="239"/>
                  </a:lnTo>
                  <a:lnTo>
                    <a:pt x="13" y="247"/>
                  </a:lnTo>
                  <a:lnTo>
                    <a:pt x="0" y="247"/>
                  </a:lnTo>
                  <a:lnTo>
                    <a:pt x="0" y="255"/>
                  </a:lnTo>
                  <a:lnTo>
                    <a:pt x="26" y="263"/>
                  </a:lnTo>
                  <a:lnTo>
                    <a:pt x="52" y="263"/>
                  </a:lnTo>
                  <a:lnTo>
                    <a:pt x="119" y="263"/>
                  </a:lnTo>
                  <a:lnTo>
                    <a:pt x="119" y="270"/>
                  </a:lnTo>
                  <a:lnTo>
                    <a:pt x="133" y="270"/>
                  </a:lnTo>
                  <a:lnTo>
                    <a:pt x="146" y="270"/>
                  </a:lnTo>
                  <a:lnTo>
                    <a:pt x="146" y="270"/>
                  </a:lnTo>
                  <a:lnTo>
                    <a:pt x="105" y="263"/>
                  </a:lnTo>
                  <a:lnTo>
                    <a:pt x="79" y="255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448160" y="3960720"/>
              <a:ext cx="81360" cy="133560"/>
            </a:xfrm>
            <a:custGeom>
              <a:avLst/>
              <a:gdLst/>
              <a:ahLst/>
              <a:rect l="0" t="0" r="r" b="b"/>
              <a:pathLst>
                <a:path w="226" h="371">
                  <a:moveTo>
                    <a:pt x="115" y="10"/>
                  </a:moveTo>
                  <a:lnTo>
                    <a:pt x="124" y="46"/>
                  </a:lnTo>
                  <a:lnTo>
                    <a:pt x="150" y="77"/>
                  </a:lnTo>
                  <a:lnTo>
                    <a:pt x="187" y="164"/>
                  </a:lnTo>
                  <a:lnTo>
                    <a:pt x="226" y="253"/>
                  </a:lnTo>
                  <a:lnTo>
                    <a:pt x="213" y="281"/>
                  </a:lnTo>
                  <a:lnTo>
                    <a:pt x="187" y="304"/>
                  </a:lnTo>
                  <a:lnTo>
                    <a:pt x="164" y="322"/>
                  </a:lnTo>
                  <a:lnTo>
                    <a:pt x="124" y="340"/>
                  </a:lnTo>
                  <a:lnTo>
                    <a:pt x="89" y="353"/>
                  </a:lnTo>
                  <a:lnTo>
                    <a:pt x="62" y="353"/>
                  </a:lnTo>
                  <a:lnTo>
                    <a:pt x="62" y="361"/>
                  </a:lnTo>
                  <a:lnTo>
                    <a:pt x="62" y="371"/>
                  </a:lnTo>
                  <a:lnTo>
                    <a:pt x="89" y="371"/>
                  </a:lnTo>
                  <a:lnTo>
                    <a:pt x="124" y="361"/>
                  </a:lnTo>
                  <a:lnTo>
                    <a:pt x="124" y="273"/>
                  </a:lnTo>
                  <a:lnTo>
                    <a:pt x="137" y="263"/>
                  </a:lnTo>
                  <a:lnTo>
                    <a:pt x="137" y="253"/>
                  </a:lnTo>
                  <a:lnTo>
                    <a:pt x="115" y="245"/>
                  </a:lnTo>
                  <a:lnTo>
                    <a:pt x="75" y="224"/>
                  </a:lnTo>
                  <a:lnTo>
                    <a:pt x="35" y="214"/>
                  </a:lnTo>
                  <a:lnTo>
                    <a:pt x="13" y="214"/>
                  </a:lnTo>
                  <a:lnTo>
                    <a:pt x="0" y="196"/>
                  </a:lnTo>
                  <a:lnTo>
                    <a:pt x="0" y="174"/>
                  </a:lnTo>
                  <a:lnTo>
                    <a:pt x="13" y="164"/>
                  </a:lnTo>
                  <a:lnTo>
                    <a:pt x="52" y="154"/>
                  </a:lnTo>
                  <a:lnTo>
                    <a:pt x="75" y="164"/>
                  </a:lnTo>
                  <a:lnTo>
                    <a:pt x="89" y="186"/>
                  </a:lnTo>
                  <a:lnTo>
                    <a:pt x="115" y="214"/>
                  </a:lnTo>
                  <a:lnTo>
                    <a:pt x="150" y="186"/>
                  </a:lnTo>
                  <a:lnTo>
                    <a:pt x="164" y="174"/>
                  </a:lnTo>
                  <a:lnTo>
                    <a:pt x="137" y="154"/>
                  </a:lnTo>
                  <a:lnTo>
                    <a:pt x="102" y="136"/>
                  </a:lnTo>
                  <a:lnTo>
                    <a:pt x="89" y="126"/>
                  </a:lnTo>
                  <a:lnTo>
                    <a:pt x="75" y="118"/>
                  </a:lnTo>
                  <a:lnTo>
                    <a:pt x="26" y="0"/>
                  </a:lnTo>
                  <a:lnTo>
                    <a:pt x="35" y="18"/>
                  </a:lnTo>
                  <a:lnTo>
                    <a:pt x="75" y="38"/>
                  </a:lnTo>
                  <a:lnTo>
                    <a:pt x="102" y="38"/>
                  </a:lnTo>
                  <a:lnTo>
                    <a:pt x="115" y="28"/>
                  </a:lnTo>
                  <a:lnTo>
                    <a:pt x="115" y="1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216320" y="4116240"/>
              <a:ext cx="66960" cy="100440"/>
            </a:xfrm>
            <a:custGeom>
              <a:avLst/>
              <a:gdLst/>
              <a:ahLst/>
              <a:rect l="0" t="0" r="r" b="b"/>
              <a:pathLst>
                <a:path w="186" h="279">
                  <a:moveTo>
                    <a:pt x="92" y="41"/>
                  </a:moveTo>
                  <a:lnTo>
                    <a:pt x="120" y="73"/>
                  </a:lnTo>
                  <a:lnTo>
                    <a:pt x="133" y="93"/>
                  </a:lnTo>
                  <a:lnTo>
                    <a:pt x="146" y="114"/>
                  </a:lnTo>
                  <a:lnTo>
                    <a:pt x="159" y="145"/>
                  </a:lnTo>
                  <a:lnTo>
                    <a:pt x="172" y="165"/>
                  </a:lnTo>
                  <a:lnTo>
                    <a:pt x="186" y="186"/>
                  </a:lnTo>
                  <a:lnTo>
                    <a:pt x="186" y="186"/>
                  </a:lnTo>
                  <a:lnTo>
                    <a:pt x="159" y="218"/>
                  </a:lnTo>
                  <a:lnTo>
                    <a:pt x="133" y="248"/>
                  </a:lnTo>
                  <a:lnTo>
                    <a:pt x="52" y="279"/>
                  </a:lnTo>
                  <a:lnTo>
                    <a:pt x="79" y="259"/>
                  </a:lnTo>
                  <a:lnTo>
                    <a:pt x="92" y="238"/>
                  </a:lnTo>
                  <a:lnTo>
                    <a:pt x="92" y="228"/>
                  </a:lnTo>
                  <a:lnTo>
                    <a:pt x="66" y="196"/>
                  </a:lnTo>
                  <a:lnTo>
                    <a:pt x="92" y="186"/>
                  </a:lnTo>
                  <a:lnTo>
                    <a:pt x="92" y="165"/>
                  </a:lnTo>
                  <a:lnTo>
                    <a:pt x="79" y="155"/>
                  </a:lnTo>
                  <a:lnTo>
                    <a:pt x="52" y="145"/>
                  </a:lnTo>
                  <a:lnTo>
                    <a:pt x="26" y="124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73"/>
                  </a:lnTo>
                  <a:lnTo>
                    <a:pt x="8" y="41"/>
                  </a:lnTo>
                  <a:lnTo>
                    <a:pt x="52" y="10"/>
                  </a:lnTo>
                  <a:lnTo>
                    <a:pt x="79" y="0"/>
                  </a:lnTo>
                  <a:lnTo>
                    <a:pt x="79" y="10"/>
                  </a:lnTo>
                  <a:lnTo>
                    <a:pt x="92" y="20"/>
                  </a:lnTo>
                  <a:lnTo>
                    <a:pt x="92" y="41"/>
                  </a:lnTo>
                  <a:lnTo>
                    <a:pt x="92" y="51"/>
                  </a:lnTo>
                  <a:lnTo>
                    <a:pt x="92" y="51"/>
                  </a:lnTo>
                  <a:lnTo>
                    <a:pt x="92" y="4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64040" y="3768840"/>
              <a:ext cx="340200" cy="113040"/>
            </a:xfrm>
            <a:custGeom>
              <a:avLst/>
              <a:gdLst/>
              <a:ahLst/>
              <a:rect l="0" t="0" r="r" b="b"/>
              <a:pathLst>
                <a:path w="945" h="314">
                  <a:moveTo>
                    <a:pt x="402" y="72"/>
                  </a:moveTo>
                  <a:lnTo>
                    <a:pt x="428" y="142"/>
                  </a:lnTo>
                  <a:lnTo>
                    <a:pt x="459" y="179"/>
                  </a:lnTo>
                  <a:lnTo>
                    <a:pt x="503" y="208"/>
                  </a:lnTo>
                  <a:lnTo>
                    <a:pt x="556" y="197"/>
                  </a:lnTo>
                  <a:lnTo>
                    <a:pt x="587" y="187"/>
                  </a:lnTo>
                  <a:lnTo>
                    <a:pt x="631" y="187"/>
                  </a:lnTo>
                  <a:lnTo>
                    <a:pt x="684" y="197"/>
                  </a:lnTo>
                  <a:lnTo>
                    <a:pt x="742" y="223"/>
                  </a:lnTo>
                  <a:lnTo>
                    <a:pt x="813" y="233"/>
                  </a:lnTo>
                  <a:lnTo>
                    <a:pt x="945" y="270"/>
                  </a:lnTo>
                  <a:lnTo>
                    <a:pt x="945" y="288"/>
                  </a:lnTo>
                  <a:lnTo>
                    <a:pt x="932" y="303"/>
                  </a:lnTo>
                  <a:lnTo>
                    <a:pt x="875" y="314"/>
                  </a:lnTo>
                  <a:lnTo>
                    <a:pt x="804" y="303"/>
                  </a:lnTo>
                  <a:lnTo>
                    <a:pt x="742" y="295"/>
                  </a:lnTo>
                  <a:lnTo>
                    <a:pt x="600" y="270"/>
                  </a:lnTo>
                  <a:lnTo>
                    <a:pt x="472" y="233"/>
                  </a:lnTo>
                  <a:lnTo>
                    <a:pt x="428" y="233"/>
                  </a:lnTo>
                  <a:lnTo>
                    <a:pt x="384" y="244"/>
                  </a:lnTo>
                  <a:lnTo>
                    <a:pt x="344" y="251"/>
                  </a:lnTo>
                  <a:lnTo>
                    <a:pt x="314" y="270"/>
                  </a:lnTo>
                  <a:lnTo>
                    <a:pt x="256" y="288"/>
                  </a:lnTo>
                  <a:lnTo>
                    <a:pt x="243" y="270"/>
                  </a:lnTo>
                  <a:lnTo>
                    <a:pt x="229" y="259"/>
                  </a:lnTo>
                  <a:lnTo>
                    <a:pt x="198" y="259"/>
                  </a:lnTo>
                  <a:lnTo>
                    <a:pt x="158" y="259"/>
                  </a:lnTo>
                  <a:lnTo>
                    <a:pt x="127" y="259"/>
                  </a:lnTo>
                  <a:lnTo>
                    <a:pt x="101" y="244"/>
                  </a:lnTo>
                  <a:lnTo>
                    <a:pt x="70" y="208"/>
                  </a:lnTo>
                  <a:lnTo>
                    <a:pt x="39" y="161"/>
                  </a:lnTo>
                  <a:lnTo>
                    <a:pt x="13" y="116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39" y="80"/>
                  </a:lnTo>
                  <a:lnTo>
                    <a:pt x="101" y="72"/>
                  </a:lnTo>
                  <a:lnTo>
                    <a:pt x="158" y="62"/>
                  </a:lnTo>
                  <a:lnTo>
                    <a:pt x="185" y="62"/>
                  </a:lnTo>
                  <a:lnTo>
                    <a:pt x="211" y="54"/>
                  </a:lnTo>
                  <a:lnTo>
                    <a:pt x="256" y="46"/>
                  </a:lnTo>
                  <a:lnTo>
                    <a:pt x="256" y="25"/>
                  </a:lnTo>
                  <a:lnTo>
                    <a:pt x="269" y="10"/>
                  </a:lnTo>
                  <a:lnTo>
                    <a:pt x="331" y="0"/>
                  </a:lnTo>
                  <a:lnTo>
                    <a:pt x="402" y="0"/>
                  </a:lnTo>
                  <a:lnTo>
                    <a:pt x="459" y="0"/>
                  </a:lnTo>
                  <a:lnTo>
                    <a:pt x="441" y="18"/>
                  </a:lnTo>
                  <a:lnTo>
                    <a:pt x="441" y="25"/>
                  </a:lnTo>
                  <a:lnTo>
                    <a:pt x="402" y="7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"/>
          <p:cNvSpPr txBox="1"/>
          <p:nvPr/>
        </p:nvSpPr>
        <p:spPr>
          <a:xfrm>
            <a:off x="76320" y="152280"/>
            <a:ext cx="76960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Also Say 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L-DDAE-RIN-DAH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71600" y="5994360"/>
            <a:ext cx="5105880" cy="584640"/>
          </a:xfrm>
          <a:custGeom>
            <a:avLst/>
            <a:gdLst/>
            <a:ahLst/>
            <a:rect l="0" t="0" r="r" b="b"/>
            <a:pathLst>
              <a:path w="14183" h="1624">
                <a:moveTo>
                  <a:pt x="7532" y="176"/>
                </a:moveTo>
                <a:lnTo>
                  <a:pt x="7356" y="141"/>
                </a:lnTo>
                <a:lnTo>
                  <a:pt x="7223" y="141"/>
                </a:lnTo>
                <a:lnTo>
                  <a:pt x="7091" y="176"/>
                </a:lnTo>
                <a:lnTo>
                  <a:pt x="6959" y="211"/>
                </a:lnTo>
                <a:lnTo>
                  <a:pt x="6827" y="176"/>
                </a:lnTo>
                <a:lnTo>
                  <a:pt x="6695" y="176"/>
                </a:lnTo>
                <a:lnTo>
                  <a:pt x="6563" y="141"/>
                </a:lnTo>
                <a:lnTo>
                  <a:pt x="6431" y="141"/>
                </a:lnTo>
                <a:lnTo>
                  <a:pt x="6299" y="141"/>
                </a:lnTo>
                <a:lnTo>
                  <a:pt x="6166" y="141"/>
                </a:lnTo>
                <a:lnTo>
                  <a:pt x="6034" y="176"/>
                </a:lnTo>
                <a:lnTo>
                  <a:pt x="5902" y="176"/>
                </a:lnTo>
                <a:lnTo>
                  <a:pt x="5770" y="176"/>
                </a:lnTo>
                <a:lnTo>
                  <a:pt x="5638" y="176"/>
                </a:lnTo>
                <a:lnTo>
                  <a:pt x="5506" y="176"/>
                </a:lnTo>
                <a:lnTo>
                  <a:pt x="5374" y="176"/>
                </a:lnTo>
                <a:lnTo>
                  <a:pt x="5242" y="176"/>
                </a:lnTo>
                <a:lnTo>
                  <a:pt x="5109" y="176"/>
                </a:lnTo>
                <a:lnTo>
                  <a:pt x="4977" y="176"/>
                </a:lnTo>
                <a:lnTo>
                  <a:pt x="4845" y="141"/>
                </a:lnTo>
                <a:lnTo>
                  <a:pt x="4713" y="105"/>
                </a:lnTo>
                <a:lnTo>
                  <a:pt x="4581" y="105"/>
                </a:lnTo>
                <a:lnTo>
                  <a:pt x="4449" y="141"/>
                </a:lnTo>
                <a:lnTo>
                  <a:pt x="4273" y="176"/>
                </a:lnTo>
                <a:lnTo>
                  <a:pt x="4096" y="211"/>
                </a:lnTo>
                <a:lnTo>
                  <a:pt x="3920" y="176"/>
                </a:lnTo>
                <a:lnTo>
                  <a:pt x="3744" y="141"/>
                </a:lnTo>
                <a:lnTo>
                  <a:pt x="3612" y="105"/>
                </a:lnTo>
                <a:lnTo>
                  <a:pt x="3479" y="105"/>
                </a:lnTo>
                <a:lnTo>
                  <a:pt x="3347" y="105"/>
                </a:lnTo>
                <a:lnTo>
                  <a:pt x="3215" y="105"/>
                </a:lnTo>
                <a:lnTo>
                  <a:pt x="3082" y="105"/>
                </a:lnTo>
                <a:lnTo>
                  <a:pt x="2950" y="141"/>
                </a:lnTo>
                <a:lnTo>
                  <a:pt x="2818" y="141"/>
                </a:lnTo>
                <a:lnTo>
                  <a:pt x="2686" y="141"/>
                </a:lnTo>
                <a:lnTo>
                  <a:pt x="2554" y="105"/>
                </a:lnTo>
                <a:lnTo>
                  <a:pt x="2422" y="70"/>
                </a:lnTo>
                <a:lnTo>
                  <a:pt x="2290" y="35"/>
                </a:lnTo>
                <a:lnTo>
                  <a:pt x="2158" y="0"/>
                </a:lnTo>
                <a:lnTo>
                  <a:pt x="2025" y="35"/>
                </a:lnTo>
                <a:lnTo>
                  <a:pt x="1893" y="35"/>
                </a:lnTo>
                <a:lnTo>
                  <a:pt x="1761" y="35"/>
                </a:lnTo>
                <a:lnTo>
                  <a:pt x="1629" y="35"/>
                </a:lnTo>
                <a:lnTo>
                  <a:pt x="1497" y="35"/>
                </a:lnTo>
                <a:lnTo>
                  <a:pt x="1365" y="35"/>
                </a:lnTo>
                <a:lnTo>
                  <a:pt x="1233" y="70"/>
                </a:lnTo>
                <a:lnTo>
                  <a:pt x="1101" y="141"/>
                </a:lnTo>
                <a:lnTo>
                  <a:pt x="968" y="246"/>
                </a:lnTo>
                <a:lnTo>
                  <a:pt x="836" y="317"/>
                </a:lnTo>
                <a:lnTo>
                  <a:pt x="704" y="352"/>
                </a:lnTo>
                <a:lnTo>
                  <a:pt x="572" y="352"/>
                </a:lnTo>
                <a:lnTo>
                  <a:pt x="440" y="352"/>
                </a:lnTo>
                <a:lnTo>
                  <a:pt x="308" y="352"/>
                </a:lnTo>
                <a:lnTo>
                  <a:pt x="176" y="388"/>
                </a:lnTo>
                <a:lnTo>
                  <a:pt x="44" y="388"/>
                </a:lnTo>
                <a:lnTo>
                  <a:pt x="0" y="494"/>
                </a:lnTo>
                <a:lnTo>
                  <a:pt x="0" y="600"/>
                </a:lnTo>
                <a:lnTo>
                  <a:pt x="0" y="706"/>
                </a:lnTo>
                <a:lnTo>
                  <a:pt x="132" y="812"/>
                </a:lnTo>
                <a:lnTo>
                  <a:pt x="264" y="882"/>
                </a:lnTo>
                <a:lnTo>
                  <a:pt x="396" y="882"/>
                </a:lnTo>
                <a:lnTo>
                  <a:pt x="528" y="882"/>
                </a:lnTo>
                <a:lnTo>
                  <a:pt x="660" y="882"/>
                </a:lnTo>
                <a:lnTo>
                  <a:pt x="792" y="882"/>
                </a:lnTo>
                <a:lnTo>
                  <a:pt x="924" y="918"/>
                </a:lnTo>
                <a:lnTo>
                  <a:pt x="1012" y="1024"/>
                </a:lnTo>
                <a:lnTo>
                  <a:pt x="1101" y="1129"/>
                </a:lnTo>
                <a:lnTo>
                  <a:pt x="1233" y="1200"/>
                </a:lnTo>
                <a:lnTo>
                  <a:pt x="1365" y="1200"/>
                </a:lnTo>
                <a:lnTo>
                  <a:pt x="1497" y="1165"/>
                </a:lnTo>
                <a:lnTo>
                  <a:pt x="1629" y="1129"/>
                </a:lnTo>
                <a:lnTo>
                  <a:pt x="1761" y="1094"/>
                </a:lnTo>
                <a:lnTo>
                  <a:pt x="1893" y="1094"/>
                </a:lnTo>
                <a:lnTo>
                  <a:pt x="2025" y="1165"/>
                </a:lnTo>
                <a:lnTo>
                  <a:pt x="2158" y="1236"/>
                </a:lnTo>
                <a:lnTo>
                  <a:pt x="2290" y="1272"/>
                </a:lnTo>
                <a:lnTo>
                  <a:pt x="2422" y="1272"/>
                </a:lnTo>
                <a:lnTo>
                  <a:pt x="2510" y="1377"/>
                </a:lnTo>
                <a:lnTo>
                  <a:pt x="2598" y="1483"/>
                </a:lnTo>
                <a:lnTo>
                  <a:pt x="2686" y="1589"/>
                </a:lnTo>
                <a:lnTo>
                  <a:pt x="2818" y="1624"/>
                </a:lnTo>
                <a:lnTo>
                  <a:pt x="2862" y="1518"/>
                </a:lnTo>
                <a:lnTo>
                  <a:pt x="2862" y="1413"/>
                </a:lnTo>
                <a:lnTo>
                  <a:pt x="2994" y="1377"/>
                </a:lnTo>
                <a:lnTo>
                  <a:pt x="3127" y="1377"/>
                </a:lnTo>
                <a:lnTo>
                  <a:pt x="3259" y="1483"/>
                </a:lnTo>
                <a:lnTo>
                  <a:pt x="3391" y="1518"/>
                </a:lnTo>
                <a:lnTo>
                  <a:pt x="3523" y="1554"/>
                </a:lnTo>
                <a:lnTo>
                  <a:pt x="3656" y="1518"/>
                </a:lnTo>
                <a:lnTo>
                  <a:pt x="3788" y="1413"/>
                </a:lnTo>
                <a:lnTo>
                  <a:pt x="3920" y="1413"/>
                </a:lnTo>
                <a:lnTo>
                  <a:pt x="4052" y="1413"/>
                </a:lnTo>
                <a:lnTo>
                  <a:pt x="4185" y="1448"/>
                </a:lnTo>
                <a:lnTo>
                  <a:pt x="4361" y="1554"/>
                </a:lnTo>
                <a:lnTo>
                  <a:pt x="4493" y="1589"/>
                </a:lnTo>
                <a:lnTo>
                  <a:pt x="4625" y="1624"/>
                </a:lnTo>
                <a:lnTo>
                  <a:pt x="4757" y="1518"/>
                </a:lnTo>
                <a:lnTo>
                  <a:pt x="4889" y="1483"/>
                </a:lnTo>
                <a:lnTo>
                  <a:pt x="5021" y="1448"/>
                </a:lnTo>
                <a:lnTo>
                  <a:pt x="5153" y="1413"/>
                </a:lnTo>
                <a:lnTo>
                  <a:pt x="5286" y="1377"/>
                </a:lnTo>
                <a:lnTo>
                  <a:pt x="5418" y="1342"/>
                </a:lnTo>
                <a:lnTo>
                  <a:pt x="5550" y="1342"/>
                </a:lnTo>
                <a:lnTo>
                  <a:pt x="5682" y="1342"/>
                </a:lnTo>
                <a:lnTo>
                  <a:pt x="5814" y="1377"/>
                </a:lnTo>
                <a:lnTo>
                  <a:pt x="5946" y="1413"/>
                </a:lnTo>
                <a:lnTo>
                  <a:pt x="6078" y="1448"/>
                </a:lnTo>
                <a:lnTo>
                  <a:pt x="6210" y="1448"/>
                </a:lnTo>
                <a:lnTo>
                  <a:pt x="6343" y="1483"/>
                </a:lnTo>
                <a:lnTo>
                  <a:pt x="6475" y="1483"/>
                </a:lnTo>
                <a:lnTo>
                  <a:pt x="6651" y="1448"/>
                </a:lnTo>
                <a:lnTo>
                  <a:pt x="6783" y="1413"/>
                </a:lnTo>
                <a:lnTo>
                  <a:pt x="6915" y="1377"/>
                </a:lnTo>
                <a:lnTo>
                  <a:pt x="7047" y="1377"/>
                </a:lnTo>
                <a:lnTo>
                  <a:pt x="7179" y="1342"/>
                </a:lnTo>
                <a:lnTo>
                  <a:pt x="7312" y="1307"/>
                </a:lnTo>
                <a:lnTo>
                  <a:pt x="7444" y="1272"/>
                </a:lnTo>
                <a:lnTo>
                  <a:pt x="7576" y="1236"/>
                </a:lnTo>
                <a:lnTo>
                  <a:pt x="7708" y="1200"/>
                </a:lnTo>
                <a:lnTo>
                  <a:pt x="7840" y="1165"/>
                </a:lnTo>
                <a:lnTo>
                  <a:pt x="7972" y="1165"/>
                </a:lnTo>
                <a:lnTo>
                  <a:pt x="8104" y="1165"/>
                </a:lnTo>
                <a:lnTo>
                  <a:pt x="8236" y="1165"/>
                </a:lnTo>
                <a:lnTo>
                  <a:pt x="8369" y="1165"/>
                </a:lnTo>
                <a:lnTo>
                  <a:pt x="8501" y="1200"/>
                </a:lnTo>
                <a:lnTo>
                  <a:pt x="8633" y="1236"/>
                </a:lnTo>
                <a:lnTo>
                  <a:pt x="8765" y="1272"/>
                </a:lnTo>
                <a:lnTo>
                  <a:pt x="8897" y="1272"/>
                </a:lnTo>
                <a:lnTo>
                  <a:pt x="9029" y="1272"/>
                </a:lnTo>
                <a:lnTo>
                  <a:pt x="9205" y="1272"/>
                </a:lnTo>
                <a:lnTo>
                  <a:pt x="9382" y="1200"/>
                </a:lnTo>
                <a:lnTo>
                  <a:pt x="9514" y="1165"/>
                </a:lnTo>
                <a:lnTo>
                  <a:pt x="9646" y="1129"/>
                </a:lnTo>
                <a:lnTo>
                  <a:pt x="9822" y="1129"/>
                </a:lnTo>
                <a:lnTo>
                  <a:pt x="9998" y="1165"/>
                </a:lnTo>
                <a:lnTo>
                  <a:pt x="10174" y="1200"/>
                </a:lnTo>
                <a:lnTo>
                  <a:pt x="10306" y="1272"/>
                </a:lnTo>
                <a:lnTo>
                  <a:pt x="10439" y="1307"/>
                </a:lnTo>
                <a:lnTo>
                  <a:pt x="10571" y="1342"/>
                </a:lnTo>
                <a:lnTo>
                  <a:pt x="10704" y="1342"/>
                </a:lnTo>
                <a:lnTo>
                  <a:pt x="10880" y="1272"/>
                </a:lnTo>
                <a:lnTo>
                  <a:pt x="11012" y="1236"/>
                </a:lnTo>
                <a:lnTo>
                  <a:pt x="11144" y="1165"/>
                </a:lnTo>
                <a:lnTo>
                  <a:pt x="11276" y="1129"/>
                </a:lnTo>
                <a:lnTo>
                  <a:pt x="11408" y="1129"/>
                </a:lnTo>
                <a:lnTo>
                  <a:pt x="11585" y="1129"/>
                </a:lnTo>
                <a:lnTo>
                  <a:pt x="11761" y="1129"/>
                </a:lnTo>
                <a:lnTo>
                  <a:pt x="11937" y="1129"/>
                </a:lnTo>
                <a:lnTo>
                  <a:pt x="12069" y="1165"/>
                </a:lnTo>
                <a:lnTo>
                  <a:pt x="12201" y="1165"/>
                </a:lnTo>
                <a:lnTo>
                  <a:pt x="12333" y="1200"/>
                </a:lnTo>
                <a:lnTo>
                  <a:pt x="12466" y="1200"/>
                </a:lnTo>
                <a:lnTo>
                  <a:pt x="12642" y="1200"/>
                </a:lnTo>
                <a:lnTo>
                  <a:pt x="12818" y="1200"/>
                </a:lnTo>
                <a:lnTo>
                  <a:pt x="12950" y="1129"/>
                </a:lnTo>
                <a:lnTo>
                  <a:pt x="13082" y="1094"/>
                </a:lnTo>
                <a:lnTo>
                  <a:pt x="13214" y="1094"/>
                </a:lnTo>
                <a:lnTo>
                  <a:pt x="13346" y="1094"/>
                </a:lnTo>
                <a:lnTo>
                  <a:pt x="13478" y="1094"/>
                </a:lnTo>
                <a:lnTo>
                  <a:pt x="13611" y="1094"/>
                </a:lnTo>
                <a:lnTo>
                  <a:pt x="13743" y="1059"/>
                </a:lnTo>
                <a:lnTo>
                  <a:pt x="13875" y="1024"/>
                </a:lnTo>
                <a:lnTo>
                  <a:pt x="14007" y="988"/>
                </a:lnTo>
                <a:lnTo>
                  <a:pt x="14139" y="918"/>
                </a:lnTo>
                <a:lnTo>
                  <a:pt x="14183" y="812"/>
                </a:lnTo>
                <a:lnTo>
                  <a:pt x="14183" y="706"/>
                </a:lnTo>
                <a:lnTo>
                  <a:pt x="14139" y="600"/>
                </a:lnTo>
                <a:lnTo>
                  <a:pt x="14007" y="494"/>
                </a:lnTo>
                <a:lnTo>
                  <a:pt x="13875" y="494"/>
                </a:lnTo>
                <a:lnTo>
                  <a:pt x="13743" y="459"/>
                </a:lnTo>
                <a:lnTo>
                  <a:pt x="13611" y="459"/>
                </a:lnTo>
                <a:lnTo>
                  <a:pt x="13478" y="424"/>
                </a:lnTo>
                <a:lnTo>
                  <a:pt x="13302" y="352"/>
                </a:lnTo>
                <a:lnTo>
                  <a:pt x="13170" y="317"/>
                </a:lnTo>
                <a:lnTo>
                  <a:pt x="13038" y="246"/>
                </a:lnTo>
                <a:lnTo>
                  <a:pt x="12906" y="211"/>
                </a:lnTo>
                <a:lnTo>
                  <a:pt x="12774" y="176"/>
                </a:lnTo>
                <a:lnTo>
                  <a:pt x="12642" y="211"/>
                </a:lnTo>
                <a:lnTo>
                  <a:pt x="12510" y="211"/>
                </a:lnTo>
                <a:lnTo>
                  <a:pt x="12377" y="211"/>
                </a:lnTo>
                <a:lnTo>
                  <a:pt x="12245" y="211"/>
                </a:lnTo>
                <a:lnTo>
                  <a:pt x="12113" y="211"/>
                </a:lnTo>
                <a:lnTo>
                  <a:pt x="11981" y="211"/>
                </a:lnTo>
                <a:lnTo>
                  <a:pt x="11849" y="211"/>
                </a:lnTo>
                <a:lnTo>
                  <a:pt x="11717" y="246"/>
                </a:lnTo>
                <a:lnTo>
                  <a:pt x="11585" y="246"/>
                </a:lnTo>
                <a:lnTo>
                  <a:pt x="11453" y="211"/>
                </a:lnTo>
                <a:lnTo>
                  <a:pt x="11320" y="211"/>
                </a:lnTo>
                <a:lnTo>
                  <a:pt x="11188" y="176"/>
                </a:lnTo>
                <a:lnTo>
                  <a:pt x="11056" y="176"/>
                </a:lnTo>
                <a:lnTo>
                  <a:pt x="10880" y="211"/>
                </a:lnTo>
                <a:lnTo>
                  <a:pt x="10748" y="246"/>
                </a:lnTo>
                <a:lnTo>
                  <a:pt x="10615" y="246"/>
                </a:lnTo>
                <a:lnTo>
                  <a:pt x="10483" y="246"/>
                </a:lnTo>
                <a:lnTo>
                  <a:pt x="10350" y="282"/>
                </a:lnTo>
                <a:lnTo>
                  <a:pt x="10218" y="282"/>
                </a:lnTo>
                <a:lnTo>
                  <a:pt x="10042" y="282"/>
                </a:lnTo>
                <a:lnTo>
                  <a:pt x="9910" y="282"/>
                </a:lnTo>
                <a:lnTo>
                  <a:pt x="9734" y="282"/>
                </a:lnTo>
                <a:lnTo>
                  <a:pt x="9558" y="211"/>
                </a:lnTo>
                <a:lnTo>
                  <a:pt x="9426" y="211"/>
                </a:lnTo>
                <a:lnTo>
                  <a:pt x="9293" y="211"/>
                </a:lnTo>
                <a:lnTo>
                  <a:pt x="9117" y="211"/>
                </a:lnTo>
                <a:lnTo>
                  <a:pt x="8941" y="211"/>
                </a:lnTo>
                <a:lnTo>
                  <a:pt x="8809" y="246"/>
                </a:lnTo>
                <a:lnTo>
                  <a:pt x="8677" y="282"/>
                </a:lnTo>
                <a:lnTo>
                  <a:pt x="8545" y="246"/>
                </a:lnTo>
                <a:lnTo>
                  <a:pt x="8413" y="246"/>
                </a:lnTo>
                <a:lnTo>
                  <a:pt x="8280" y="211"/>
                </a:lnTo>
                <a:lnTo>
                  <a:pt x="8148" y="211"/>
                </a:lnTo>
                <a:lnTo>
                  <a:pt x="8016" y="211"/>
                </a:lnTo>
                <a:lnTo>
                  <a:pt x="7884" y="211"/>
                </a:lnTo>
                <a:lnTo>
                  <a:pt x="7752" y="211"/>
                </a:lnTo>
                <a:lnTo>
                  <a:pt x="7532" y="176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3638520" y="4448160"/>
            <a:ext cx="1514880" cy="1867320"/>
            <a:chOff x="3638520" y="4448160"/>
            <a:chExt cx="1514880" cy="1867320"/>
          </a:xfrm>
        </p:grpSpPr>
        <p:sp>
          <p:nvSpPr>
            <p:cNvPr id="637" name=""/>
            <p:cNvSpPr/>
            <p:nvPr/>
          </p:nvSpPr>
          <p:spPr>
            <a:xfrm>
              <a:off x="4019400" y="4448160"/>
              <a:ext cx="657720" cy="1724400"/>
            </a:xfrm>
            <a:custGeom>
              <a:avLst/>
              <a:gdLst/>
              <a:ahLst/>
              <a:rect l="0" t="0" r="r" b="b"/>
              <a:pathLst>
                <a:path w="1827" h="4790">
                  <a:moveTo>
                    <a:pt x="0" y="0"/>
                  </a:moveTo>
                  <a:lnTo>
                    <a:pt x="317" y="4790"/>
                  </a:lnTo>
                  <a:lnTo>
                    <a:pt x="1032" y="4790"/>
                  </a:lnTo>
                  <a:lnTo>
                    <a:pt x="927" y="1297"/>
                  </a:lnTo>
                  <a:lnTo>
                    <a:pt x="1032" y="4790"/>
                  </a:lnTo>
                  <a:lnTo>
                    <a:pt x="1827" y="4790"/>
                  </a:lnTo>
                  <a:lnTo>
                    <a:pt x="174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63852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1376" y="185"/>
                  </a:moveTo>
                  <a:lnTo>
                    <a:pt x="978" y="52"/>
                  </a:lnTo>
                  <a:lnTo>
                    <a:pt x="714" y="0"/>
                  </a:lnTo>
                  <a:lnTo>
                    <a:pt x="423" y="105"/>
                  </a:lnTo>
                  <a:lnTo>
                    <a:pt x="132" y="264"/>
                  </a:lnTo>
                  <a:lnTo>
                    <a:pt x="0" y="477"/>
                  </a:lnTo>
                  <a:lnTo>
                    <a:pt x="185" y="583"/>
                  </a:lnTo>
                  <a:lnTo>
                    <a:pt x="2091" y="583"/>
                  </a:lnTo>
                  <a:lnTo>
                    <a:pt x="2091" y="185"/>
                  </a:lnTo>
                  <a:lnTo>
                    <a:pt x="1376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0064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714" y="185"/>
                  </a:moveTo>
                  <a:lnTo>
                    <a:pt x="1112" y="52"/>
                  </a:lnTo>
                  <a:lnTo>
                    <a:pt x="1376" y="0"/>
                  </a:lnTo>
                  <a:lnTo>
                    <a:pt x="1667" y="105"/>
                  </a:lnTo>
                  <a:lnTo>
                    <a:pt x="1958" y="264"/>
                  </a:lnTo>
                  <a:lnTo>
                    <a:pt x="2091" y="477"/>
                  </a:lnTo>
                  <a:lnTo>
                    <a:pt x="1906" y="583"/>
                  </a:lnTo>
                  <a:lnTo>
                    <a:pt x="0" y="583"/>
                  </a:lnTo>
                  <a:lnTo>
                    <a:pt x="0" y="185"/>
                  </a:lnTo>
                  <a:lnTo>
                    <a:pt x="714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3681360" y="3200400"/>
            <a:ext cx="509760" cy="1443240"/>
            <a:chOff x="3681360" y="3200400"/>
            <a:chExt cx="509760" cy="1443240"/>
          </a:xfrm>
        </p:grpSpPr>
        <p:sp>
          <p:nvSpPr>
            <p:cNvPr id="641" name=""/>
            <p:cNvSpPr/>
            <p:nvPr/>
          </p:nvSpPr>
          <p:spPr>
            <a:xfrm>
              <a:off x="3705120" y="3200400"/>
              <a:ext cx="486000" cy="1190880"/>
            </a:xfrm>
            <a:custGeom>
              <a:avLst/>
              <a:gdLst/>
              <a:ahLst/>
              <a:rect l="0" t="0" r="r" b="b"/>
              <a:pathLst>
                <a:path w="1350" h="3308">
                  <a:moveTo>
                    <a:pt x="1112" y="0"/>
                  </a:moveTo>
                  <a:lnTo>
                    <a:pt x="1271" y="105"/>
                  </a:lnTo>
                  <a:lnTo>
                    <a:pt x="1350" y="423"/>
                  </a:lnTo>
                  <a:lnTo>
                    <a:pt x="1138" y="1322"/>
                  </a:lnTo>
                  <a:lnTo>
                    <a:pt x="821" y="3308"/>
                  </a:lnTo>
                  <a:lnTo>
                    <a:pt x="0" y="3149"/>
                  </a:lnTo>
                  <a:lnTo>
                    <a:pt x="370" y="1455"/>
                  </a:lnTo>
                  <a:lnTo>
                    <a:pt x="794" y="238"/>
                  </a:lnTo>
                  <a:lnTo>
                    <a:pt x="1112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681360" y="4357800"/>
              <a:ext cx="30492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3895560" y="3048120"/>
            <a:ext cx="981360" cy="1600560"/>
          </a:xfrm>
          <a:custGeom>
            <a:avLst/>
            <a:gdLst/>
            <a:ahLst/>
            <a:rect l="0" t="0" r="r" b="b"/>
            <a:pathLst>
              <a:path w="2726" h="4446">
                <a:moveTo>
                  <a:pt x="953" y="374"/>
                </a:moveTo>
                <a:lnTo>
                  <a:pt x="865" y="392"/>
                </a:lnTo>
                <a:lnTo>
                  <a:pt x="799" y="436"/>
                </a:lnTo>
                <a:lnTo>
                  <a:pt x="672" y="582"/>
                </a:lnTo>
                <a:lnTo>
                  <a:pt x="540" y="723"/>
                </a:lnTo>
                <a:lnTo>
                  <a:pt x="391" y="851"/>
                </a:lnTo>
                <a:lnTo>
                  <a:pt x="369" y="890"/>
                </a:lnTo>
                <a:lnTo>
                  <a:pt x="347" y="930"/>
                </a:lnTo>
                <a:lnTo>
                  <a:pt x="347" y="930"/>
                </a:lnTo>
                <a:lnTo>
                  <a:pt x="369" y="930"/>
                </a:lnTo>
                <a:lnTo>
                  <a:pt x="153" y="1553"/>
                </a:lnTo>
                <a:lnTo>
                  <a:pt x="0" y="4345"/>
                </a:lnTo>
                <a:lnTo>
                  <a:pt x="2726" y="4446"/>
                </a:lnTo>
                <a:lnTo>
                  <a:pt x="2317" y="1844"/>
                </a:lnTo>
                <a:lnTo>
                  <a:pt x="2119" y="414"/>
                </a:lnTo>
                <a:lnTo>
                  <a:pt x="1385" y="0"/>
                </a:lnTo>
                <a:lnTo>
                  <a:pt x="953" y="374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905280" y="1609560"/>
            <a:ext cx="895680" cy="1581480"/>
          </a:xfrm>
          <a:custGeom>
            <a:avLst/>
            <a:gdLst/>
            <a:ahLst/>
            <a:rect l="0" t="0" r="r" b="b"/>
            <a:pathLst>
              <a:path w="2488" h="4393">
                <a:moveTo>
                  <a:pt x="582" y="0"/>
                </a:moveTo>
                <a:lnTo>
                  <a:pt x="264" y="264"/>
                </a:lnTo>
                <a:lnTo>
                  <a:pt x="79" y="687"/>
                </a:lnTo>
                <a:lnTo>
                  <a:pt x="26" y="1217"/>
                </a:lnTo>
                <a:lnTo>
                  <a:pt x="0" y="2699"/>
                </a:lnTo>
                <a:lnTo>
                  <a:pt x="52" y="3546"/>
                </a:lnTo>
                <a:lnTo>
                  <a:pt x="820" y="3599"/>
                </a:lnTo>
                <a:lnTo>
                  <a:pt x="926" y="4075"/>
                </a:lnTo>
                <a:lnTo>
                  <a:pt x="1031" y="4393"/>
                </a:lnTo>
                <a:lnTo>
                  <a:pt x="1271" y="4393"/>
                </a:lnTo>
                <a:lnTo>
                  <a:pt x="1403" y="4102"/>
                </a:lnTo>
                <a:lnTo>
                  <a:pt x="1323" y="3599"/>
                </a:lnTo>
                <a:lnTo>
                  <a:pt x="2038" y="3519"/>
                </a:lnTo>
                <a:lnTo>
                  <a:pt x="2064" y="3017"/>
                </a:lnTo>
                <a:lnTo>
                  <a:pt x="2223" y="3096"/>
                </a:lnTo>
                <a:lnTo>
                  <a:pt x="2382" y="3043"/>
                </a:lnTo>
                <a:lnTo>
                  <a:pt x="2488" y="2620"/>
                </a:lnTo>
                <a:lnTo>
                  <a:pt x="2355" y="2408"/>
                </a:lnTo>
                <a:lnTo>
                  <a:pt x="2197" y="2435"/>
                </a:lnTo>
                <a:lnTo>
                  <a:pt x="2355" y="185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740040" y="1231920"/>
            <a:ext cx="1130760" cy="648000"/>
          </a:xfrm>
          <a:custGeom>
            <a:avLst/>
            <a:gdLst/>
            <a:ahLst/>
            <a:rect l="0" t="0" r="r" b="b"/>
            <a:pathLst>
              <a:path w="3141" h="1800">
                <a:moveTo>
                  <a:pt x="0" y="1588"/>
                </a:moveTo>
                <a:lnTo>
                  <a:pt x="3035" y="1800"/>
                </a:lnTo>
                <a:lnTo>
                  <a:pt x="3141" y="141"/>
                </a:lnTo>
                <a:lnTo>
                  <a:pt x="246" y="0"/>
                </a:lnTo>
                <a:lnTo>
                  <a:pt x="0" y="15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91120" y="3057480"/>
            <a:ext cx="305280" cy="181440"/>
          </a:xfrm>
          <a:custGeom>
            <a:avLst/>
            <a:gdLst/>
            <a:ahLst/>
            <a:rect l="0" t="0" r="r" b="b"/>
            <a:pathLst>
              <a:path w="848" h="504">
                <a:moveTo>
                  <a:pt x="0" y="344"/>
                </a:moveTo>
                <a:lnTo>
                  <a:pt x="239" y="478"/>
                </a:lnTo>
                <a:lnTo>
                  <a:pt x="663" y="504"/>
                </a:lnTo>
                <a:lnTo>
                  <a:pt x="848" y="265"/>
                </a:lnTo>
                <a:lnTo>
                  <a:pt x="848" y="79"/>
                </a:lnTo>
                <a:lnTo>
                  <a:pt x="663" y="0"/>
                </a:lnTo>
                <a:lnTo>
                  <a:pt x="477" y="265"/>
                </a:lnTo>
                <a:lnTo>
                  <a:pt x="185" y="292"/>
                </a:lnTo>
                <a:lnTo>
                  <a:pt x="0" y="344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795840" y="1714680"/>
            <a:ext cx="962280" cy="1104840"/>
            <a:chOff x="3795840" y="1714680"/>
            <a:chExt cx="962280" cy="1104840"/>
          </a:xfrm>
        </p:grpSpPr>
        <p:sp>
          <p:nvSpPr>
            <p:cNvPr id="648" name=""/>
            <p:cNvSpPr/>
            <p:nvPr/>
          </p:nvSpPr>
          <p:spPr>
            <a:xfrm>
              <a:off x="3795840" y="2052720"/>
              <a:ext cx="409680" cy="409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148280" y="2014560"/>
              <a:ext cx="485640" cy="485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338720" y="2214720"/>
              <a:ext cx="85680" cy="85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929040" y="2224080"/>
              <a:ext cx="85680" cy="85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 flipV="1">
              <a:off x="3924360" y="1866960"/>
              <a:ext cx="799920" cy="3816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870360" y="2562120"/>
              <a:ext cx="657720" cy="257400"/>
            </a:xfrm>
            <a:custGeom>
              <a:avLst/>
              <a:gdLst/>
              <a:ahLst/>
              <a:rect l="0" t="0" r="r" b="b"/>
              <a:pathLst>
                <a:path w="1827" h="715">
                  <a:moveTo>
                    <a:pt x="0" y="0"/>
                  </a:moveTo>
                  <a:lnTo>
                    <a:pt x="1827" y="163"/>
                  </a:lnTo>
                  <a:lnTo>
                    <a:pt x="746" y="7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4" name=""/>
            <p:cNvGrpSpPr/>
            <p:nvPr/>
          </p:nvGrpSpPr>
          <p:grpSpPr>
            <a:xfrm>
              <a:off x="3975120" y="1714680"/>
              <a:ext cx="767160" cy="177840"/>
              <a:chOff x="3975120" y="1714680"/>
              <a:chExt cx="767160" cy="177840"/>
            </a:xfrm>
          </p:grpSpPr>
          <p:grpSp>
            <p:nvGrpSpPr>
              <p:cNvPr id="655" name=""/>
              <p:cNvGrpSpPr/>
              <p:nvPr/>
            </p:nvGrpSpPr>
            <p:grpSpPr>
              <a:xfrm>
                <a:off x="3975120" y="1714680"/>
                <a:ext cx="697320" cy="152640"/>
                <a:chOff x="3975120" y="1714680"/>
                <a:chExt cx="697320" cy="15264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3975120" y="1714680"/>
                  <a:ext cx="697320" cy="152640"/>
                </a:xfrm>
                <a:custGeom>
                  <a:avLst/>
                  <a:gdLst/>
                  <a:ahLst/>
                  <a:rect l="0" t="0" r="r" b="b"/>
                  <a:pathLst>
                    <a:path w="1937" h="424">
                      <a:moveTo>
                        <a:pt x="615" y="21"/>
                      </a:moveTo>
                      <a:lnTo>
                        <a:pt x="674" y="13"/>
                      </a:lnTo>
                      <a:lnTo>
                        <a:pt x="732" y="9"/>
                      </a:lnTo>
                      <a:lnTo>
                        <a:pt x="806" y="5"/>
                      </a:lnTo>
                      <a:lnTo>
                        <a:pt x="886" y="1"/>
                      </a:lnTo>
                      <a:lnTo>
                        <a:pt x="953" y="0"/>
                      </a:lnTo>
                      <a:lnTo>
                        <a:pt x="1031" y="2"/>
                      </a:lnTo>
                      <a:lnTo>
                        <a:pt x="1135" y="8"/>
                      </a:lnTo>
                      <a:lnTo>
                        <a:pt x="1263" y="18"/>
                      </a:lnTo>
                      <a:lnTo>
                        <a:pt x="1364" y="29"/>
                      </a:lnTo>
                      <a:lnTo>
                        <a:pt x="1452" y="42"/>
                      </a:lnTo>
                      <a:lnTo>
                        <a:pt x="1497" y="51"/>
                      </a:lnTo>
                      <a:lnTo>
                        <a:pt x="1537" y="60"/>
                      </a:lnTo>
                      <a:lnTo>
                        <a:pt x="1588" y="77"/>
                      </a:lnTo>
                      <a:lnTo>
                        <a:pt x="1610" y="86"/>
                      </a:lnTo>
                      <a:lnTo>
                        <a:pt x="1636" y="93"/>
                      </a:lnTo>
                      <a:lnTo>
                        <a:pt x="1680" y="99"/>
                      </a:lnTo>
                      <a:lnTo>
                        <a:pt x="1724" y="105"/>
                      </a:lnTo>
                      <a:lnTo>
                        <a:pt x="1768" y="114"/>
                      </a:lnTo>
                      <a:lnTo>
                        <a:pt x="1804" y="125"/>
                      </a:lnTo>
                      <a:lnTo>
                        <a:pt x="1824" y="134"/>
                      </a:lnTo>
                      <a:lnTo>
                        <a:pt x="1850" y="152"/>
                      </a:lnTo>
                      <a:lnTo>
                        <a:pt x="1880" y="181"/>
                      </a:lnTo>
                      <a:lnTo>
                        <a:pt x="1903" y="214"/>
                      </a:lnTo>
                      <a:lnTo>
                        <a:pt x="1923" y="241"/>
                      </a:lnTo>
                      <a:lnTo>
                        <a:pt x="1935" y="257"/>
                      </a:lnTo>
                      <a:lnTo>
                        <a:pt x="1937" y="275"/>
                      </a:lnTo>
                      <a:lnTo>
                        <a:pt x="1927" y="294"/>
                      </a:lnTo>
                      <a:lnTo>
                        <a:pt x="1917" y="316"/>
                      </a:lnTo>
                      <a:lnTo>
                        <a:pt x="1905" y="338"/>
                      </a:lnTo>
                      <a:lnTo>
                        <a:pt x="1892" y="356"/>
                      </a:lnTo>
                      <a:lnTo>
                        <a:pt x="1872" y="369"/>
                      </a:lnTo>
                      <a:lnTo>
                        <a:pt x="1852" y="378"/>
                      </a:lnTo>
                      <a:lnTo>
                        <a:pt x="1824" y="385"/>
                      </a:lnTo>
                      <a:lnTo>
                        <a:pt x="1802" y="389"/>
                      </a:lnTo>
                      <a:lnTo>
                        <a:pt x="1766" y="391"/>
                      </a:lnTo>
                      <a:lnTo>
                        <a:pt x="1686" y="393"/>
                      </a:lnTo>
                      <a:lnTo>
                        <a:pt x="1600" y="397"/>
                      </a:lnTo>
                      <a:lnTo>
                        <a:pt x="1517" y="404"/>
                      </a:lnTo>
                      <a:lnTo>
                        <a:pt x="1328" y="415"/>
                      </a:lnTo>
                      <a:lnTo>
                        <a:pt x="1221" y="419"/>
                      </a:lnTo>
                      <a:lnTo>
                        <a:pt x="1051" y="424"/>
                      </a:lnTo>
                      <a:lnTo>
                        <a:pt x="924" y="419"/>
                      </a:lnTo>
                      <a:lnTo>
                        <a:pt x="778" y="413"/>
                      </a:lnTo>
                      <a:lnTo>
                        <a:pt x="676" y="399"/>
                      </a:lnTo>
                      <a:lnTo>
                        <a:pt x="636" y="389"/>
                      </a:lnTo>
                      <a:lnTo>
                        <a:pt x="605" y="380"/>
                      </a:lnTo>
                      <a:lnTo>
                        <a:pt x="567" y="374"/>
                      </a:lnTo>
                      <a:lnTo>
                        <a:pt x="533" y="371"/>
                      </a:lnTo>
                      <a:lnTo>
                        <a:pt x="503" y="371"/>
                      </a:lnTo>
                      <a:lnTo>
                        <a:pt x="470" y="369"/>
                      </a:lnTo>
                      <a:lnTo>
                        <a:pt x="420" y="362"/>
                      </a:lnTo>
                      <a:lnTo>
                        <a:pt x="388" y="353"/>
                      </a:lnTo>
                      <a:lnTo>
                        <a:pt x="368" y="344"/>
                      </a:lnTo>
                      <a:lnTo>
                        <a:pt x="356" y="334"/>
                      </a:lnTo>
                      <a:lnTo>
                        <a:pt x="348" y="323"/>
                      </a:lnTo>
                      <a:lnTo>
                        <a:pt x="336" y="315"/>
                      </a:lnTo>
                      <a:lnTo>
                        <a:pt x="307" y="305"/>
                      </a:lnTo>
                      <a:lnTo>
                        <a:pt x="259" y="296"/>
                      </a:lnTo>
                      <a:lnTo>
                        <a:pt x="207" y="292"/>
                      </a:lnTo>
                      <a:lnTo>
                        <a:pt x="163" y="289"/>
                      </a:lnTo>
                      <a:lnTo>
                        <a:pt x="115" y="283"/>
                      </a:lnTo>
                      <a:lnTo>
                        <a:pt x="75" y="276"/>
                      </a:lnTo>
                      <a:lnTo>
                        <a:pt x="43" y="268"/>
                      </a:lnTo>
                      <a:lnTo>
                        <a:pt x="25" y="259"/>
                      </a:lnTo>
                      <a:lnTo>
                        <a:pt x="13" y="244"/>
                      </a:lnTo>
                      <a:lnTo>
                        <a:pt x="3" y="226"/>
                      </a:lnTo>
                      <a:lnTo>
                        <a:pt x="0" y="208"/>
                      </a:lnTo>
                      <a:lnTo>
                        <a:pt x="3" y="190"/>
                      </a:lnTo>
                      <a:lnTo>
                        <a:pt x="19" y="168"/>
                      </a:lnTo>
                      <a:lnTo>
                        <a:pt x="47" y="147"/>
                      </a:lnTo>
                      <a:lnTo>
                        <a:pt x="87" y="126"/>
                      </a:lnTo>
                      <a:lnTo>
                        <a:pt x="139" y="107"/>
                      </a:lnTo>
                      <a:lnTo>
                        <a:pt x="193" y="95"/>
                      </a:lnTo>
                      <a:lnTo>
                        <a:pt x="235" y="86"/>
                      </a:lnTo>
                      <a:lnTo>
                        <a:pt x="295" y="80"/>
                      </a:lnTo>
                      <a:lnTo>
                        <a:pt x="336" y="78"/>
                      </a:lnTo>
                      <a:lnTo>
                        <a:pt x="378" y="72"/>
                      </a:lnTo>
                      <a:lnTo>
                        <a:pt x="442" y="57"/>
                      </a:lnTo>
                      <a:lnTo>
                        <a:pt x="493" y="44"/>
                      </a:lnTo>
                      <a:lnTo>
                        <a:pt x="557" y="30"/>
                      </a:lnTo>
                      <a:lnTo>
                        <a:pt x="615" y="21"/>
                      </a:lnTo>
                      <a:close/>
                    </a:path>
                  </a:pathLst>
                </a:custGeom>
                <a:solidFill>
                  <a:srgbClr val="ff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7" name=""/>
                <p:cNvGrpSpPr/>
                <p:nvPr/>
              </p:nvGrpSpPr>
              <p:grpSpPr>
                <a:xfrm>
                  <a:off x="3992400" y="1717560"/>
                  <a:ext cx="656280" cy="126000"/>
                  <a:chOff x="3992400" y="1717560"/>
                  <a:chExt cx="656280" cy="126000"/>
                </a:xfrm>
              </p:grpSpPr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3992400" y="1771560"/>
                    <a:ext cx="117720" cy="59040"/>
                    <a:chOff x="3992400" y="1771560"/>
                    <a:chExt cx="117720" cy="5904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3992400" y="1771560"/>
                      <a:ext cx="117720" cy="59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327" h="164">
                          <a:moveTo>
                            <a:pt x="3" y="0"/>
                          </a:moveTo>
                          <a:lnTo>
                            <a:pt x="1" y="6"/>
                          </a:lnTo>
                          <a:lnTo>
                            <a:pt x="0" y="14"/>
                          </a:lnTo>
                          <a:lnTo>
                            <a:pt x="1" y="21"/>
                          </a:lnTo>
                          <a:lnTo>
                            <a:pt x="7" y="30"/>
                          </a:lnTo>
                          <a:lnTo>
                            <a:pt x="13" y="37"/>
                          </a:lnTo>
                          <a:lnTo>
                            <a:pt x="27" y="44"/>
                          </a:lnTo>
                          <a:lnTo>
                            <a:pt x="43" y="52"/>
                          </a:lnTo>
                          <a:lnTo>
                            <a:pt x="69" y="57"/>
                          </a:lnTo>
                          <a:lnTo>
                            <a:pt x="92" y="61"/>
                          </a:lnTo>
                          <a:lnTo>
                            <a:pt x="118" y="66"/>
                          </a:lnTo>
                          <a:lnTo>
                            <a:pt x="124" y="72"/>
                          </a:lnTo>
                          <a:lnTo>
                            <a:pt x="132" y="83"/>
                          </a:lnTo>
                          <a:lnTo>
                            <a:pt x="148" y="91"/>
                          </a:lnTo>
                          <a:lnTo>
                            <a:pt x="167" y="101"/>
                          </a:lnTo>
                          <a:lnTo>
                            <a:pt x="198" y="111"/>
                          </a:lnTo>
                          <a:lnTo>
                            <a:pt x="222" y="118"/>
                          </a:lnTo>
                          <a:lnTo>
                            <a:pt x="240" y="122"/>
                          </a:lnTo>
                          <a:lnTo>
                            <a:pt x="269" y="127"/>
                          </a:lnTo>
                          <a:lnTo>
                            <a:pt x="301" y="130"/>
                          </a:lnTo>
                          <a:lnTo>
                            <a:pt x="315" y="132"/>
                          </a:lnTo>
                          <a:lnTo>
                            <a:pt x="323" y="135"/>
                          </a:lnTo>
                          <a:lnTo>
                            <a:pt x="327" y="139"/>
                          </a:lnTo>
                          <a:lnTo>
                            <a:pt x="321" y="153"/>
                          </a:lnTo>
                          <a:lnTo>
                            <a:pt x="313" y="164"/>
                          </a:lnTo>
                        </a:path>
                      </a:pathLst>
                    </a:custGeom>
                    <a:ln w="12600">
                      <a:solidFill>
                        <a:srgbClr val="ff8080"/>
                      </a:solidFill>
                      <a:round/>
                    </a:ln>
                  </p:spPr>
                  <p:txBody>
                    <a:bodyPr lIns="96120" rIns="9612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>
                      <a:off x="4037040" y="177948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72" h="72">
                          <a:moveTo>
                            <a:pt x="45" y="0"/>
                          </a:moveTo>
                          <a:lnTo>
                            <a:pt x="63" y="21"/>
                          </a:lnTo>
                          <a:lnTo>
                            <a:pt x="72" y="37"/>
                          </a:lnTo>
                          <a:lnTo>
                            <a:pt x="53" y="56"/>
                          </a:lnTo>
                          <a:lnTo>
                            <a:pt x="0" y="72"/>
                          </a:lnTo>
                        </a:path>
                      </a:pathLst>
                    </a:custGeom>
                    <a:ln w="12600">
                      <a:solidFill>
                        <a:srgbClr val="ff808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61" name=""/>
                  <p:cNvSpPr/>
                  <p:nvPr/>
                </p:nvSpPr>
                <p:spPr>
                  <a:xfrm>
                    <a:off x="4094280" y="1787400"/>
                    <a:ext cx="11304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14" h="89">
                        <a:moveTo>
                          <a:pt x="0" y="0"/>
                        </a:moveTo>
                        <a:lnTo>
                          <a:pt x="6" y="12"/>
                        </a:lnTo>
                        <a:lnTo>
                          <a:pt x="16" y="27"/>
                        </a:lnTo>
                        <a:lnTo>
                          <a:pt x="26" y="38"/>
                        </a:lnTo>
                        <a:lnTo>
                          <a:pt x="40" y="46"/>
                        </a:lnTo>
                        <a:lnTo>
                          <a:pt x="68" y="53"/>
                        </a:lnTo>
                        <a:lnTo>
                          <a:pt x="92" y="56"/>
                        </a:lnTo>
                        <a:lnTo>
                          <a:pt x="120" y="61"/>
                        </a:lnTo>
                        <a:lnTo>
                          <a:pt x="161" y="68"/>
                        </a:lnTo>
                        <a:lnTo>
                          <a:pt x="197" y="77"/>
                        </a:lnTo>
                        <a:lnTo>
                          <a:pt x="223" y="84"/>
                        </a:lnTo>
                        <a:lnTo>
                          <a:pt x="247" y="87"/>
                        </a:lnTo>
                        <a:lnTo>
                          <a:pt x="273" y="89"/>
                        </a:lnTo>
                        <a:lnTo>
                          <a:pt x="312" y="88"/>
                        </a:lnTo>
                        <a:lnTo>
                          <a:pt x="314" y="88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4105440" y="1762200"/>
                    <a:ext cx="766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13" h="72">
                        <a:moveTo>
                          <a:pt x="0" y="72"/>
                        </a:moveTo>
                        <a:lnTo>
                          <a:pt x="27" y="49"/>
                        </a:lnTo>
                        <a:lnTo>
                          <a:pt x="51" y="32"/>
                        </a:lnTo>
                        <a:lnTo>
                          <a:pt x="88" y="12"/>
                        </a:lnTo>
                        <a:lnTo>
                          <a:pt x="117" y="4"/>
                        </a:lnTo>
                        <a:lnTo>
                          <a:pt x="151" y="0"/>
                        </a:lnTo>
                        <a:lnTo>
                          <a:pt x="182" y="2"/>
                        </a:lnTo>
                        <a:lnTo>
                          <a:pt x="213" y="12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4071960" y="1746360"/>
                    <a:ext cx="25920" cy="385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2" h="107">
                        <a:moveTo>
                          <a:pt x="27" y="0"/>
                        </a:moveTo>
                        <a:lnTo>
                          <a:pt x="45" y="9"/>
                        </a:lnTo>
                        <a:lnTo>
                          <a:pt x="59" y="17"/>
                        </a:lnTo>
                        <a:lnTo>
                          <a:pt x="68" y="28"/>
                        </a:lnTo>
                        <a:lnTo>
                          <a:pt x="72" y="41"/>
                        </a:lnTo>
                        <a:lnTo>
                          <a:pt x="68" y="56"/>
                        </a:lnTo>
                        <a:lnTo>
                          <a:pt x="61" y="70"/>
                        </a:lnTo>
                        <a:lnTo>
                          <a:pt x="51" y="82"/>
                        </a:lnTo>
                        <a:lnTo>
                          <a:pt x="38" y="90"/>
                        </a:lnTo>
                        <a:lnTo>
                          <a:pt x="15" y="101"/>
                        </a:lnTo>
                        <a:lnTo>
                          <a:pt x="0" y="107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105440" y="1733400"/>
                    <a:ext cx="590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64" h="72">
                        <a:moveTo>
                          <a:pt x="0" y="72"/>
                        </a:moveTo>
                        <a:lnTo>
                          <a:pt x="38" y="55"/>
                        </a:lnTo>
                        <a:lnTo>
                          <a:pt x="73" y="37"/>
                        </a:lnTo>
                        <a:lnTo>
                          <a:pt x="113" y="21"/>
                        </a:lnTo>
                        <a:lnTo>
                          <a:pt x="164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4276800" y="1717560"/>
                    <a:ext cx="338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94" h="72">
                        <a:moveTo>
                          <a:pt x="0" y="72"/>
                        </a:moveTo>
                        <a:lnTo>
                          <a:pt x="34" y="40"/>
                        </a:lnTo>
                        <a:lnTo>
                          <a:pt x="94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4191120" y="1725480"/>
                    <a:ext cx="2336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649" h="72">
                        <a:moveTo>
                          <a:pt x="0" y="72"/>
                        </a:moveTo>
                        <a:lnTo>
                          <a:pt x="24" y="70"/>
                        </a:lnTo>
                        <a:lnTo>
                          <a:pt x="42" y="66"/>
                        </a:lnTo>
                        <a:lnTo>
                          <a:pt x="58" y="62"/>
                        </a:lnTo>
                        <a:lnTo>
                          <a:pt x="70" y="55"/>
                        </a:lnTo>
                        <a:lnTo>
                          <a:pt x="76" y="46"/>
                        </a:lnTo>
                        <a:lnTo>
                          <a:pt x="80" y="37"/>
                        </a:lnTo>
                        <a:lnTo>
                          <a:pt x="88" y="47"/>
                        </a:lnTo>
                        <a:lnTo>
                          <a:pt x="98" y="53"/>
                        </a:lnTo>
                        <a:lnTo>
                          <a:pt x="116" y="58"/>
                        </a:lnTo>
                        <a:lnTo>
                          <a:pt x="138" y="60"/>
                        </a:lnTo>
                        <a:lnTo>
                          <a:pt x="164" y="61"/>
                        </a:lnTo>
                        <a:lnTo>
                          <a:pt x="206" y="60"/>
                        </a:lnTo>
                        <a:lnTo>
                          <a:pt x="248" y="58"/>
                        </a:lnTo>
                        <a:lnTo>
                          <a:pt x="286" y="55"/>
                        </a:lnTo>
                        <a:lnTo>
                          <a:pt x="316" y="52"/>
                        </a:lnTo>
                        <a:lnTo>
                          <a:pt x="351" y="45"/>
                        </a:lnTo>
                        <a:lnTo>
                          <a:pt x="377" y="39"/>
                        </a:lnTo>
                        <a:lnTo>
                          <a:pt x="401" y="32"/>
                        </a:lnTo>
                        <a:lnTo>
                          <a:pt x="417" y="21"/>
                        </a:lnTo>
                        <a:lnTo>
                          <a:pt x="427" y="29"/>
                        </a:lnTo>
                        <a:lnTo>
                          <a:pt x="441" y="35"/>
                        </a:lnTo>
                        <a:lnTo>
                          <a:pt x="457" y="41"/>
                        </a:lnTo>
                        <a:lnTo>
                          <a:pt x="483" y="44"/>
                        </a:lnTo>
                        <a:lnTo>
                          <a:pt x="515" y="45"/>
                        </a:lnTo>
                        <a:lnTo>
                          <a:pt x="541" y="44"/>
                        </a:lnTo>
                        <a:lnTo>
                          <a:pt x="559" y="42"/>
                        </a:lnTo>
                        <a:lnTo>
                          <a:pt x="587" y="39"/>
                        </a:lnTo>
                        <a:lnTo>
                          <a:pt x="605" y="35"/>
                        </a:lnTo>
                        <a:lnTo>
                          <a:pt x="621" y="31"/>
                        </a:lnTo>
                        <a:lnTo>
                          <a:pt x="631" y="23"/>
                        </a:lnTo>
                        <a:lnTo>
                          <a:pt x="639" y="13"/>
                        </a:lnTo>
                        <a:lnTo>
                          <a:pt x="649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4165560" y="1762200"/>
                    <a:ext cx="2624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29" h="72">
                        <a:moveTo>
                          <a:pt x="0" y="46"/>
                        </a:moveTo>
                        <a:lnTo>
                          <a:pt x="25" y="36"/>
                        </a:lnTo>
                        <a:lnTo>
                          <a:pt x="55" y="26"/>
                        </a:lnTo>
                        <a:lnTo>
                          <a:pt x="81" y="17"/>
                        </a:lnTo>
                        <a:lnTo>
                          <a:pt x="109" y="11"/>
                        </a:lnTo>
                        <a:lnTo>
                          <a:pt x="139" y="4"/>
                        </a:lnTo>
                        <a:lnTo>
                          <a:pt x="157" y="2"/>
                        </a:lnTo>
                        <a:lnTo>
                          <a:pt x="188" y="0"/>
                        </a:lnTo>
                        <a:lnTo>
                          <a:pt x="248" y="0"/>
                        </a:lnTo>
                        <a:lnTo>
                          <a:pt x="312" y="0"/>
                        </a:lnTo>
                        <a:lnTo>
                          <a:pt x="370" y="2"/>
                        </a:lnTo>
                        <a:lnTo>
                          <a:pt x="432" y="4"/>
                        </a:lnTo>
                        <a:lnTo>
                          <a:pt x="478" y="8"/>
                        </a:lnTo>
                        <a:lnTo>
                          <a:pt x="522" y="13"/>
                        </a:lnTo>
                        <a:lnTo>
                          <a:pt x="561" y="21"/>
                        </a:lnTo>
                        <a:lnTo>
                          <a:pt x="603" y="30"/>
                        </a:lnTo>
                        <a:lnTo>
                          <a:pt x="645" y="39"/>
                        </a:lnTo>
                        <a:lnTo>
                          <a:pt x="675" y="49"/>
                        </a:lnTo>
                        <a:lnTo>
                          <a:pt x="705" y="61"/>
                        </a:lnTo>
                        <a:lnTo>
                          <a:pt x="729" y="72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4356000" y="1752480"/>
                    <a:ext cx="558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55" h="72">
                        <a:moveTo>
                          <a:pt x="0" y="63"/>
                        </a:moveTo>
                        <a:lnTo>
                          <a:pt x="28" y="69"/>
                        </a:lnTo>
                        <a:lnTo>
                          <a:pt x="57" y="72"/>
                        </a:lnTo>
                        <a:lnTo>
                          <a:pt x="83" y="67"/>
                        </a:lnTo>
                        <a:lnTo>
                          <a:pt x="108" y="57"/>
                        </a:lnTo>
                        <a:lnTo>
                          <a:pt x="130" y="40"/>
                        </a:lnTo>
                        <a:lnTo>
                          <a:pt x="142" y="21"/>
                        </a:lnTo>
                        <a:lnTo>
                          <a:pt x="155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4440240" y="1731960"/>
                    <a:ext cx="46440" cy="417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29" h="116">
                        <a:moveTo>
                          <a:pt x="113" y="0"/>
                        </a:moveTo>
                        <a:lnTo>
                          <a:pt x="101" y="9"/>
                        </a:lnTo>
                        <a:lnTo>
                          <a:pt x="84" y="19"/>
                        </a:lnTo>
                        <a:lnTo>
                          <a:pt x="66" y="24"/>
                        </a:lnTo>
                        <a:lnTo>
                          <a:pt x="54" y="27"/>
                        </a:lnTo>
                        <a:lnTo>
                          <a:pt x="36" y="27"/>
                        </a:lnTo>
                        <a:lnTo>
                          <a:pt x="15" y="27"/>
                        </a:lnTo>
                        <a:lnTo>
                          <a:pt x="0" y="24"/>
                        </a:lnTo>
                        <a:lnTo>
                          <a:pt x="23" y="32"/>
                        </a:lnTo>
                        <a:lnTo>
                          <a:pt x="40" y="37"/>
                        </a:lnTo>
                        <a:lnTo>
                          <a:pt x="48" y="42"/>
                        </a:lnTo>
                        <a:lnTo>
                          <a:pt x="52" y="45"/>
                        </a:lnTo>
                        <a:lnTo>
                          <a:pt x="50" y="51"/>
                        </a:lnTo>
                        <a:lnTo>
                          <a:pt x="48" y="58"/>
                        </a:lnTo>
                        <a:lnTo>
                          <a:pt x="44" y="69"/>
                        </a:lnTo>
                        <a:lnTo>
                          <a:pt x="48" y="78"/>
                        </a:lnTo>
                        <a:lnTo>
                          <a:pt x="56" y="90"/>
                        </a:lnTo>
                        <a:lnTo>
                          <a:pt x="66" y="96"/>
                        </a:lnTo>
                        <a:lnTo>
                          <a:pt x="78" y="102"/>
                        </a:lnTo>
                        <a:lnTo>
                          <a:pt x="101" y="108"/>
                        </a:lnTo>
                        <a:lnTo>
                          <a:pt x="129" y="116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4494240" y="1741320"/>
                    <a:ext cx="147960" cy="385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411" h="107">
                        <a:moveTo>
                          <a:pt x="90" y="0"/>
                        </a:moveTo>
                        <a:lnTo>
                          <a:pt x="82" y="7"/>
                        </a:lnTo>
                        <a:lnTo>
                          <a:pt x="70" y="15"/>
                        </a:lnTo>
                        <a:lnTo>
                          <a:pt x="54" y="21"/>
                        </a:lnTo>
                        <a:lnTo>
                          <a:pt x="30" y="29"/>
                        </a:lnTo>
                        <a:lnTo>
                          <a:pt x="0" y="37"/>
                        </a:lnTo>
                        <a:lnTo>
                          <a:pt x="24" y="39"/>
                        </a:lnTo>
                        <a:lnTo>
                          <a:pt x="50" y="40"/>
                        </a:lnTo>
                        <a:lnTo>
                          <a:pt x="72" y="42"/>
                        </a:lnTo>
                        <a:lnTo>
                          <a:pt x="88" y="45"/>
                        </a:lnTo>
                        <a:lnTo>
                          <a:pt x="100" y="48"/>
                        </a:lnTo>
                        <a:lnTo>
                          <a:pt x="112" y="55"/>
                        </a:lnTo>
                        <a:lnTo>
                          <a:pt x="120" y="60"/>
                        </a:lnTo>
                        <a:lnTo>
                          <a:pt x="126" y="68"/>
                        </a:lnTo>
                        <a:lnTo>
                          <a:pt x="130" y="79"/>
                        </a:lnTo>
                        <a:lnTo>
                          <a:pt x="126" y="100"/>
                        </a:lnTo>
                        <a:lnTo>
                          <a:pt x="142" y="95"/>
                        </a:lnTo>
                        <a:lnTo>
                          <a:pt x="160" y="89"/>
                        </a:lnTo>
                        <a:lnTo>
                          <a:pt x="178" y="84"/>
                        </a:lnTo>
                        <a:lnTo>
                          <a:pt x="202" y="79"/>
                        </a:lnTo>
                        <a:lnTo>
                          <a:pt x="225" y="77"/>
                        </a:lnTo>
                        <a:lnTo>
                          <a:pt x="251" y="77"/>
                        </a:lnTo>
                        <a:lnTo>
                          <a:pt x="281" y="78"/>
                        </a:lnTo>
                        <a:lnTo>
                          <a:pt x="309" y="82"/>
                        </a:lnTo>
                        <a:lnTo>
                          <a:pt x="329" y="84"/>
                        </a:lnTo>
                        <a:lnTo>
                          <a:pt x="353" y="89"/>
                        </a:lnTo>
                        <a:lnTo>
                          <a:pt x="371" y="94"/>
                        </a:lnTo>
                        <a:lnTo>
                          <a:pt x="411" y="107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4489560" y="1770120"/>
                    <a:ext cx="55800" cy="273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55" h="76">
                        <a:moveTo>
                          <a:pt x="22" y="0"/>
                        </a:moveTo>
                        <a:lnTo>
                          <a:pt x="12" y="9"/>
                        </a:lnTo>
                        <a:lnTo>
                          <a:pt x="2" y="18"/>
                        </a:lnTo>
                        <a:lnTo>
                          <a:pt x="0" y="27"/>
                        </a:lnTo>
                        <a:lnTo>
                          <a:pt x="4" y="37"/>
                        </a:lnTo>
                        <a:lnTo>
                          <a:pt x="16" y="49"/>
                        </a:lnTo>
                        <a:lnTo>
                          <a:pt x="30" y="65"/>
                        </a:lnTo>
                        <a:lnTo>
                          <a:pt x="40" y="70"/>
                        </a:lnTo>
                        <a:lnTo>
                          <a:pt x="50" y="74"/>
                        </a:lnTo>
                        <a:lnTo>
                          <a:pt x="62" y="75"/>
                        </a:lnTo>
                        <a:lnTo>
                          <a:pt x="103" y="76"/>
                        </a:lnTo>
                        <a:lnTo>
                          <a:pt x="155" y="75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4551480" y="1790640"/>
                    <a:ext cx="828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30" h="72">
                        <a:moveTo>
                          <a:pt x="0" y="52"/>
                        </a:moveTo>
                        <a:lnTo>
                          <a:pt x="27" y="62"/>
                        </a:lnTo>
                        <a:lnTo>
                          <a:pt x="51" y="67"/>
                        </a:lnTo>
                        <a:lnTo>
                          <a:pt x="79" y="72"/>
                        </a:lnTo>
                        <a:lnTo>
                          <a:pt x="112" y="72"/>
                        </a:lnTo>
                        <a:lnTo>
                          <a:pt x="141" y="66"/>
                        </a:lnTo>
                        <a:lnTo>
                          <a:pt x="169" y="56"/>
                        </a:lnTo>
                        <a:lnTo>
                          <a:pt x="192" y="39"/>
                        </a:lnTo>
                        <a:lnTo>
                          <a:pt x="214" y="17"/>
                        </a:lnTo>
                        <a:lnTo>
                          <a:pt x="230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4532400" y="1809720"/>
                    <a:ext cx="116280" cy="338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23" h="94">
                        <a:moveTo>
                          <a:pt x="323" y="0"/>
                        </a:moveTo>
                        <a:lnTo>
                          <a:pt x="313" y="8"/>
                        </a:lnTo>
                        <a:lnTo>
                          <a:pt x="298" y="16"/>
                        </a:lnTo>
                        <a:lnTo>
                          <a:pt x="272" y="25"/>
                        </a:lnTo>
                        <a:lnTo>
                          <a:pt x="258" y="27"/>
                        </a:lnTo>
                        <a:lnTo>
                          <a:pt x="233" y="30"/>
                        </a:lnTo>
                        <a:lnTo>
                          <a:pt x="199" y="27"/>
                        </a:lnTo>
                        <a:lnTo>
                          <a:pt x="163" y="25"/>
                        </a:lnTo>
                        <a:lnTo>
                          <a:pt x="120" y="21"/>
                        </a:lnTo>
                        <a:lnTo>
                          <a:pt x="84" y="18"/>
                        </a:lnTo>
                        <a:lnTo>
                          <a:pt x="53" y="16"/>
                        </a:lnTo>
                        <a:lnTo>
                          <a:pt x="17" y="16"/>
                        </a:lnTo>
                        <a:lnTo>
                          <a:pt x="0" y="18"/>
                        </a:lnTo>
                        <a:lnTo>
                          <a:pt x="21" y="20"/>
                        </a:lnTo>
                        <a:lnTo>
                          <a:pt x="39" y="26"/>
                        </a:lnTo>
                        <a:lnTo>
                          <a:pt x="55" y="30"/>
                        </a:lnTo>
                        <a:lnTo>
                          <a:pt x="77" y="38"/>
                        </a:lnTo>
                        <a:lnTo>
                          <a:pt x="96" y="46"/>
                        </a:lnTo>
                        <a:lnTo>
                          <a:pt x="118" y="57"/>
                        </a:lnTo>
                        <a:lnTo>
                          <a:pt x="136" y="66"/>
                        </a:lnTo>
                        <a:lnTo>
                          <a:pt x="154" y="80"/>
                        </a:lnTo>
                        <a:lnTo>
                          <a:pt x="169" y="94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4457880" y="1784520"/>
                    <a:ext cx="81360" cy="52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26" h="147">
                        <a:moveTo>
                          <a:pt x="58" y="0"/>
                        </a:moveTo>
                        <a:lnTo>
                          <a:pt x="39" y="2"/>
                        </a:lnTo>
                        <a:lnTo>
                          <a:pt x="17" y="7"/>
                        </a:lnTo>
                        <a:lnTo>
                          <a:pt x="5" y="13"/>
                        </a:lnTo>
                        <a:lnTo>
                          <a:pt x="1" y="17"/>
                        </a:lnTo>
                        <a:lnTo>
                          <a:pt x="0" y="21"/>
                        </a:lnTo>
                        <a:lnTo>
                          <a:pt x="3" y="29"/>
                        </a:lnTo>
                        <a:lnTo>
                          <a:pt x="11" y="39"/>
                        </a:lnTo>
                        <a:lnTo>
                          <a:pt x="23" y="50"/>
                        </a:lnTo>
                        <a:lnTo>
                          <a:pt x="37" y="60"/>
                        </a:lnTo>
                        <a:lnTo>
                          <a:pt x="55" y="69"/>
                        </a:lnTo>
                        <a:lnTo>
                          <a:pt x="74" y="77"/>
                        </a:lnTo>
                        <a:lnTo>
                          <a:pt x="98" y="84"/>
                        </a:lnTo>
                        <a:lnTo>
                          <a:pt x="120" y="90"/>
                        </a:lnTo>
                        <a:lnTo>
                          <a:pt x="148" y="96"/>
                        </a:lnTo>
                        <a:lnTo>
                          <a:pt x="162" y="109"/>
                        </a:lnTo>
                        <a:lnTo>
                          <a:pt x="179" y="121"/>
                        </a:lnTo>
                        <a:lnTo>
                          <a:pt x="205" y="135"/>
                        </a:lnTo>
                        <a:lnTo>
                          <a:pt x="226" y="147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5" name=""/>
              <p:cNvGrpSpPr/>
              <p:nvPr/>
            </p:nvGrpSpPr>
            <p:grpSpPr>
              <a:xfrm>
                <a:off x="4044960" y="1739880"/>
                <a:ext cx="697320" cy="152640"/>
                <a:chOff x="4044960" y="1739880"/>
                <a:chExt cx="697320" cy="15264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4044960" y="1739880"/>
                  <a:ext cx="697320" cy="152640"/>
                </a:xfrm>
                <a:custGeom>
                  <a:avLst/>
                  <a:gdLst/>
                  <a:ahLst/>
                  <a:rect l="0" t="0" r="r" b="b"/>
                  <a:pathLst>
                    <a:path w="1937" h="424">
                      <a:moveTo>
                        <a:pt x="615" y="21"/>
                      </a:moveTo>
                      <a:lnTo>
                        <a:pt x="674" y="13"/>
                      </a:lnTo>
                      <a:lnTo>
                        <a:pt x="732" y="9"/>
                      </a:lnTo>
                      <a:lnTo>
                        <a:pt x="806" y="5"/>
                      </a:lnTo>
                      <a:lnTo>
                        <a:pt x="886" y="1"/>
                      </a:lnTo>
                      <a:lnTo>
                        <a:pt x="953" y="0"/>
                      </a:lnTo>
                      <a:lnTo>
                        <a:pt x="1031" y="2"/>
                      </a:lnTo>
                      <a:lnTo>
                        <a:pt x="1135" y="8"/>
                      </a:lnTo>
                      <a:lnTo>
                        <a:pt x="1263" y="18"/>
                      </a:lnTo>
                      <a:lnTo>
                        <a:pt x="1364" y="29"/>
                      </a:lnTo>
                      <a:lnTo>
                        <a:pt x="1452" y="42"/>
                      </a:lnTo>
                      <a:lnTo>
                        <a:pt x="1497" y="51"/>
                      </a:lnTo>
                      <a:lnTo>
                        <a:pt x="1537" y="60"/>
                      </a:lnTo>
                      <a:lnTo>
                        <a:pt x="1588" y="77"/>
                      </a:lnTo>
                      <a:lnTo>
                        <a:pt x="1610" y="86"/>
                      </a:lnTo>
                      <a:lnTo>
                        <a:pt x="1636" y="93"/>
                      </a:lnTo>
                      <a:lnTo>
                        <a:pt x="1680" y="99"/>
                      </a:lnTo>
                      <a:lnTo>
                        <a:pt x="1724" y="105"/>
                      </a:lnTo>
                      <a:lnTo>
                        <a:pt x="1768" y="114"/>
                      </a:lnTo>
                      <a:lnTo>
                        <a:pt x="1804" y="125"/>
                      </a:lnTo>
                      <a:lnTo>
                        <a:pt x="1824" y="134"/>
                      </a:lnTo>
                      <a:lnTo>
                        <a:pt x="1850" y="152"/>
                      </a:lnTo>
                      <a:lnTo>
                        <a:pt x="1880" y="181"/>
                      </a:lnTo>
                      <a:lnTo>
                        <a:pt x="1903" y="214"/>
                      </a:lnTo>
                      <a:lnTo>
                        <a:pt x="1923" y="241"/>
                      </a:lnTo>
                      <a:lnTo>
                        <a:pt x="1935" y="257"/>
                      </a:lnTo>
                      <a:lnTo>
                        <a:pt x="1937" y="275"/>
                      </a:lnTo>
                      <a:lnTo>
                        <a:pt x="1927" y="294"/>
                      </a:lnTo>
                      <a:lnTo>
                        <a:pt x="1917" y="316"/>
                      </a:lnTo>
                      <a:lnTo>
                        <a:pt x="1905" y="338"/>
                      </a:lnTo>
                      <a:lnTo>
                        <a:pt x="1892" y="356"/>
                      </a:lnTo>
                      <a:lnTo>
                        <a:pt x="1872" y="369"/>
                      </a:lnTo>
                      <a:lnTo>
                        <a:pt x="1852" y="378"/>
                      </a:lnTo>
                      <a:lnTo>
                        <a:pt x="1824" y="385"/>
                      </a:lnTo>
                      <a:lnTo>
                        <a:pt x="1802" y="389"/>
                      </a:lnTo>
                      <a:lnTo>
                        <a:pt x="1766" y="391"/>
                      </a:lnTo>
                      <a:lnTo>
                        <a:pt x="1686" y="393"/>
                      </a:lnTo>
                      <a:lnTo>
                        <a:pt x="1600" y="397"/>
                      </a:lnTo>
                      <a:lnTo>
                        <a:pt x="1517" y="404"/>
                      </a:lnTo>
                      <a:lnTo>
                        <a:pt x="1328" y="415"/>
                      </a:lnTo>
                      <a:lnTo>
                        <a:pt x="1221" y="419"/>
                      </a:lnTo>
                      <a:lnTo>
                        <a:pt x="1051" y="424"/>
                      </a:lnTo>
                      <a:lnTo>
                        <a:pt x="924" y="419"/>
                      </a:lnTo>
                      <a:lnTo>
                        <a:pt x="778" y="413"/>
                      </a:lnTo>
                      <a:lnTo>
                        <a:pt x="676" y="399"/>
                      </a:lnTo>
                      <a:lnTo>
                        <a:pt x="636" y="389"/>
                      </a:lnTo>
                      <a:lnTo>
                        <a:pt x="605" y="380"/>
                      </a:lnTo>
                      <a:lnTo>
                        <a:pt x="567" y="374"/>
                      </a:lnTo>
                      <a:lnTo>
                        <a:pt x="533" y="371"/>
                      </a:lnTo>
                      <a:lnTo>
                        <a:pt x="503" y="371"/>
                      </a:lnTo>
                      <a:lnTo>
                        <a:pt x="470" y="369"/>
                      </a:lnTo>
                      <a:lnTo>
                        <a:pt x="420" y="362"/>
                      </a:lnTo>
                      <a:lnTo>
                        <a:pt x="388" y="353"/>
                      </a:lnTo>
                      <a:lnTo>
                        <a:pt x="368" y="344"/>
                      </a:lnTo>
                      <a:lnTo>
                        <a:pt x="356" y="334"/>
                      </a:lnTo>
                      <a:lnTo>
                        <a:pt x="348" y="323"/>
                      </a:lnTo>
                      <a:lnTo>
                        <a:pt x="336" y="315"/>
                      </a:lnTo>
                      <a:lnTo>
                        <a:pt x="307" y="305"/>
                      </a:lnTo>
                      <a:lnTo>
                        <a:pt x="259" y="296"/>
                      </a:lnTo>
                      <a:lnTo>
                        <a:pt x="207" y="292"/>
                      </a:lnTo>
                      <a:lnTo>
                        <a:pt x="163" y="289"/>
                      </a:lnTo>
                      <a:lnTo>
                        <a:pt x="115" y="283"/>
                      </a:lnTo>
                      <a:lnTo>
                        <a:pt x="75" y="276"/>
                      </a:lnTo>
                      <a:lnTo>
                        <a:pt x="43" y="268"/>
                      </a:lnTo>
                      <a:lnTo>
                        <a:pt x="25" y="259"/>
                      </a:lnTo>
                      <a:lnTo>
                        <a:pt x="13" y="244"/>
                      </a:lnTo>
                      <a:lnTo>
                        <a:pt x="3" y="226"/>
                      </a:lnTo>
                      <a:lnTo>
                        <a:pt x="0" y="208"/>
                      </a:lnTo>
                      <a:lnTo>
                        <a:pt x="3" y="190"/>
                      </a:lnTo>
                      <a:lnTo>
                        <a:pt x="19" y="168"/>
                      </a:lnTo>
                      <a:lnTo>
                        <a:pt x="47" y="147"/>
                      </a:lnTo>
                      <a:lnTo>
                        <a:pt x="87" y="126"/>
                      </a:lnTo>
                      <a:lnTo>
                        <a:pt x="139" y="107"/>
                      </a:lnTo>
                      <a:lnTo>
                        <a:pt x="193" y="95"/>
                      </a:lnTo>
                      <a:lnTo>
                        <a:pt x="235" y="86"/>
                      </a:lnTo>
                      <a:lnTo>
                        <a:pt x="295" y="80"/>
                      </a:lnTo>
                      <a:lnTo>
                        <a:pt x="336" y="78"/>
                      </a:lnTo>
                      <a:lnTo>
                        <a:pt x="378" y="72"/>
                      </a:lnTo>
                      <a:lnTo>
                        <a:pt x="442" y="57"/>
                      </a:lnTo>
                      <a:lnTo>
                        <a:pt x="493" y="44"/>
                      </a:lnTo>
                      <a:lnTo>
                        <a:pt x="557" y="30"/>
                      </a:lnTo>
                      <a:lnTo>
                        <a:pt x="615" y="21"/>
                      </a:lnTo>
                      <a:close/>
                    </a:path>
                  </a:pathLst>
                </a:custGeom>
                <a:solidFill>
                  <a:srgbClr val="ff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" name=""/>
                <p:cNvGrpSpPr/>
                <p:nvPr/>
              </p:nvGrpSpPr>
              <p:grpSpPr>
                <a:xfrm>
                  <a:off x="4060800" y="1746360"/>
                  <a:ext cx="657360" cy="120960"/>
                  <a:chOff x="4060800" y="1746360"/>
                  <a:chExt cx="657360" cy="120960"/>
                </a:xfrm>
              </p:grpSpPr>
              <p:grpSp>
                <p:nvGrpSpPr>
                  <p:cNvPr id="678" name=""/>
                  <p:cNvGrpSpPr/>
                  <p:nvPr/>
                </p:nvGrpSpPr>
                <p:grpSpPr>
                  <a:xfrm>
                    <a:off x="4060800" y="1798560"/>
                    <a:ext cx="119520" cy="59040"/>
                    <a:chOff x="4060800" y="1798560"/>
                    <a:chExt cx="119520" cy="59040"/>
                  </a:xfrm>
                </p:grpSpPr>
                <p:sp>
                  <p:nvSpPr>
                    <p:cNvPr id="679" name=""/>
                    <p:cNvSpPr/>
                    <p:nvPr/>
                  </p:nvSpPr>
                  <p:spPr>
                    <a:xfrm>
                      <a:off x="4060800" y="1798560"/>
                      <a:ext cx="119520" cy="59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332" h="164">
                          <a:moveTo>
                            <a:pt x="4" y="0"/>
                          </a:moveTo>
                          <a:lnTo>
                            <a:pt x="2" y="6"/>
                          </a:lnTo>
                          <a:lnTo>
                            <a:pt x="0" y="14"/>
                          </a:lnTo>
                          <a:lnTo>
                            <a:pt x="2" y="21"/>
                          </a:lnTo>
                          <a:lnTo>
                            <a:pt x="8" y="30"/>
                          </a:lnTo>
                          <a:lnTo>
                            <a:pt x="14" y="37"/>
                          </a:lnTo>
                          <a:lnTo>
                            <a:pt x="28" y="44"/>
                          </a:lnTo>
                          <a:lnTo>
                            <a:pt x="44" y="52"/>
                          </a:lnTo>
                          <a:lnTo>
                            <a:pt x="70" y="57"/>
                          </a:lnTo>
                          <a:lnTo>
                            <a:pt x="95" y="61"/>
                          </a:lnTo>
                          <a:lnTo>
                            <a:pt x="121" y="66"/>
                          </a:lnTo>
                          <a:lnTo>
                            <a:pt x="127" y="72"/>
                          </a:lnTo>
                          <a:lnTo>
                            <a:pt x="135" y="83"/>
                          </a:lnTo>
                          <a:lnTo>
                            <a:pt x="151" y="91"/>
                          </a:lnTo>
                          <a:lnTo>
                            <a:pt x="169" y="101"/>
                          </a:lnTo>
                          <a:lnTo>
                            <a:pt x="201" y="111"/>
                          </a:lnTo>
                          <a:lnTo>
                            <a:pt x="225" y="118"/>
                          </a:lnTo>
                          <a:lnTo>
                            <a:pt x="243" y="122"/>
                          </a:lnTo>
                          <a:lnTo>
                            <a:pt x="274" y="127"/>
                          </a:lnTo>
                          <a:lnTo>
                            <a:pt x="306" y="130"/>
                          </a:lnTo>
                          <a:lnTo>
                            <a:pt x="320" y="132"/>
                          </a:lnTo>
                          <a:lnTo>
                            <a:pt x="328" y="135"/>
                          </a:lnTo>
                          <a:lnTo>
                            <a:pt x="332" y="139"/>
                          </a:lnTo>
                          <a:lnTo>
                            <a:pt x="326" y="153"/>
                          </a:lnTo>
                          <a:lnTo>
                            <a:pt x="318" y="164"/>
                          </a:lnTo>
                        </a:path>
                      </a:pathLst>
                    </a:custGeom>
                    <a:ln w="12600">
                      <a:solidFill>
                        <a:srgbClr val="ff8080"/>
                      </a:solidFill>
                      <a:round/>
                    </a:ln>
                  </p:spPr>
                  <p:txBody>
                    <a:bodyPr lIns="96120" rIns="9612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>
                      <a:off x="4105440" y="180504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72" h="72">
                          <a:moveTo>
                            <a:pt x="45" y="0"/>
                          </a:moveTo>
                          <a:lnTo>
                            <a:pt x="63" y="21"/>
                          </a:lnTo>
                          <a:lnTo>
                            <a:pt x="72" y="37"/>
                          </a:lnTo>
                          <a:lnTo>
                            <a:pt x="53" y="56"/>
                          </a:lnTo>
                          <a:lnTo>
                            <a:pt x="0" y="72"/>
                          </a:lnTo>
                        </a:path>
                      </a:pathLst>
                    </a:custGeom>
                    <a:ln w="12600">
                      <a:solidFill>
                        <a:srgbClr val="ff808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1" name=""/>
                  <p:cNvSpPr/>
                  <p:nvPr/>
                </p:nvSpPr>
                <p:spPr>
                  <a:xfrm>
                    <a:off x="4164120" y="1814400"/>
                    <a:ext cx="113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14" h="85">
                        <a:moveTo>
                          <a:pt x="0" y="0"/>
                        </a:moveTo>
                        <a:lnTo>
                          <a:pt x="6" y="11"/>
                        </a:lnTo>
                        <a:lnTo>
                          <a:pt x="16" y="27"/>
                        </a:lnTo>
                        <a:lnTo>
                          <a:pt x="26" y="37"/>
                        </a:lnTo>
                        <a:lnTo>
                          <a:pt x="40" y="43"/>
                        </a:lnTo>
                        <a:lnTo>
                          <a:pt x="68" y="50"/>
                        </a:lnTo>
                        <a:lnTo>
                          <a:pt x="92" y="54"/>
                        </a:lnTo>
                        <a:lnTo>
                          <a:pt x="120" y="58"/>
                        </a:lnTo>
                        <a:lnTo>
                          <a:pt x="161" y="66"/>
                        </a:lnTo>
                        <a:lnTo>
                          <a:pt x="197" y="74"/>
                        </a:lnTo>
                        <a:lnTo>
                          <a:pt x="223" y="81"/>
                        </a:lnTo>
                        <a:lnTo>
                          <a:pt x="247" y="84"/>
                        </a:lnTo>
                        <a:lnTo>
                          <a:pt x="273" y="85"/>
                        </a:lnTo>
                        <a:lnTo>
                          <a:pt x="312" y="85"/>
                        </a:lnTo>
                        <a:lnTo>
                          <a:pt x="314" y="85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4173480" y="1787400"/>
                    <a:ext cx="766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13" h="72">
                        <a:moveTo>
                          <a:pt x="0" y="72"/>
                        </a:moveTo>
                        <a:lnTo>
                          <a:pt x="27" y="49"/>
                        </a:lnTo>
                        <a:lnTo>
                          <a:pt x="51" y="32"/>
                        </a:lnTo>
                        <a:lnTo>
                          <a:pt x="88" y="12"/>
                        </a:lnTo>
                        <a:lnTo>
                          <a:pt x="117" y="4"/>
                        </a:lnTo>
                        <a:lnTo>
                          <a:pt x="151" y="0"/>
                        </a:lnTo>
                        <a:lnTo>
                          <a:pt x="182" y="2"/>
                        </a:lnTo>
                        <a:lnTo>
                          <a:pt x="213" y="12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4141800" y="1771560"/>
                    <a:ext cx="25920" cy="385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2" h="107">
                        <a:moveTo>
                          <a:pt x="27" y="0"/>
                        </a:moveTo>
                        <a:lnTo>
                          <a:pt x="45" y="9"/>
                        </a:lnTo>
                        <a:lnTo>
                          <a:pt x="59" y="17"/>
                        </a:lnTo>
                        <a:lnTo>
                          <a:pt x="68" y="28"/>
                        </a:lnTo>
                        <a:lnTo>
                          <a:pt x="72" y="41"/>
                        </a:lnTo>
                        <a:lnTo>
                          <a:pt x="68" y="56"/>
                        </a:lnTo>
                        <a:lnTo>
                          <a:pt x="61" y="70"/>
                        </a:lnTo>
                        <a:lnTo>
                          <a:pt x="51" y="82"/>
                        </a:lnTo>
                        <a:lnTo>
                          <a:pt x="38" y="90"/>
                        </a:lnTo>
                        <a:lnTo>
                          <a:pt x="15" y="101"/>
                        </a:lnTo>
                        <a:lnTo>
                          <a:pt x="0" y="107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4173480" y="1758960"/>
                    <a:ext cx="590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64" h="72">
                        <a:moveTo>
                          <a:pt x="0" y="72"/>
                        </a:moveTo>
                        <a:lnTo>
                          <a:pt x="38" y="55"/>
                        </a:lnTo>
                        <a:lnTo>
                          <a:pt x="73" y="37"/>
                        </a:lnTo>
                        <a:lnTo>
                          <a:pt x="113" y="21"/>
                        </a:lnTo>
                        <a:lnTo>
                          <a:pt x="164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4346640" y="1746360"/>
                    <a:ext cx="320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89" h="72">
                        <a:moveTo>
                          <a:pt x="0" y="72"/>
                        </a:moveTo>
                        <a:lnTo>
                          <a:pt x="32" y="40"/>
                        </a:lnTo>
                        <a:lnTo>
                          <a:pt x="89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4259160" y="1751040"/>
                    <a:ext cx="2336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649" h="72">
                        <a:moveTo>
                          <a:pt x="0" y="72"/>
                        </a:moveTo>
                        <a:lnTo>
                          <a:pt x="24" y="70"/>
                        </a:lnTo>
                        <a:lnTo>
                          <a:pt x="42" y="66"/>
                        </a:lnTo>
                        <a:lnTo>
                          <a:pt x="58" y="62"/>
                        </a:lnTo>
                        <a:lnTo>
                          <a:pt x="70" y="55"/>
                        </a:lnTo>
                        <a:lnTo>
                          <a:pt x="76" y="46"/>
                        </a:lnTo>
                        <a:lnTo>
                          <a:pt x="80" y="37"/>
                        </a:lnTo>
                        <a:lnTo>
                          <a:pt x="88" y="47"/>
                        </a:lnTo>
                        <a:lnTo>
                          <a:pt x="98" y="53"/>
                        </a:lnTo>
                        <a:lnTo>
                          <a:pt x="116" y="58"/>
                        </a:lnTo>
                        <a:lnTo>
                          <a:pt x="138" y="60"/>
                        </a:lnTo>
                        <a:lnTo>
                          <a:pt x="164" y="61"/>
                        </a:lnTo>
                        <a:lnTo>
                          <a:pt x="206" y="60"/>
                        </a:lnTo>
                        <a:lnTo>
                          <a:pt x="248" y="58"/>
                        </a:lnTo>
                        <a:lnTo>
                          <a:pt x="286" y="55"/>
                        </a:lnTo>
                        <a:lnTo>
                          <a:pt x="316" y="52"/>
                        </a:lnTo>
                        <a:lnTo>
                          <a:pt x="351" y="45"/>
                        </a:lnTo>
                        <a:lnTo>
                          <a:pt x="377" y="39"/>
                        </a:lnTo>
                        <a:lnTo>
                          <a:pt x="401" y="32"/>
                        </a:lnTo>
                        <a:lnTo>
                          <a:pt x="417" y="21"/>
                        </a:lnTo>
                        <a:lnTo>
                          <a:pt x="427" y="29"/>
                        </a:lnTo>
                        <a:lnTo>
                          <a:pt x="441" y="35"/>
                        </a:lnTo>
                        <a:lnTo>
                          <a:pt x="457" y="41"/>
                        </a:lnTo>
                        <a:lnTo>
                          <a:pt x="483" y="44"/>
                        </a:lnTo>
                        <a:lnTo>
                          <a:pt x="515" y="45"/>
                        </a:lnTo>
                        <a:lnTo>
                          <a:pt x="541" y="44"/>
                        </a:lnTo>
                        <a:lnTo>
                          <a:pt x="559" y="42"/>
                        </a:lnTo>
                        <a:lnTo>
                          <a:pt x="587" y="39"/>
                        </a:lnTo>
                        <a:lnTo>
                          <a:pt x="605" y="35"/>
                        </a:lnTo>
                        <a:lnTo>
                          <a:pt x="621" y="31"/>
                        </a:lnTo>
                        <a:lnTo>
                          <a:pt x="631" y="23"/>
                        </a:lnTo>
                        <a:lnTo>
                          <a:pt x="639" y="13"/>
                        </a:lnTo>
                        <a:lnTo>
                          <a:pt x="649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4233960" y="1785960"/>
                    <a:ext cx="2624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29" h="72">
                        <a:moveTo>
                          <a:pt x="0" y="46"/>
                        </a:moveTo>
                        <a:lnTo>
                          <a:pt x="25" y="36"/>
                        </a:lnTo>
                        <a:lnTo>
                          <a:pt x="55" y="26"/>
                        </a:lnTo>
                        <a:lnTo>
                          <a:pt x="81" y="17"/>
                        </a:lnTo>
                        <a:lnTo>
                          <a:pt x="109" y="11"/>
                        </a:lnTo>
                        <a:lnTo>
                          <a:pt x="139" y="4"/>
                        </a:lnTo>
                        <a:lnTo>
                          <a:pt x="157" y="2"/>
                        </a:lnTo>
                        <a:lnTo>
                          <a:pt x="188" y="0"/>
                        </a:lnTo>
                        <a:lnTo>
                          <a:pt x="248" y="0"/>
                        </a:lnTo>
                        <a:lnTo>
                          <a:pt x="312" y="0"/>
                        </a:lnTo>
                        <a:lnTo>
                          <a:pt x="370" y="2"/>
                        </a:lnTo>
                        <a:lnTo>
                          <a:pt x="432" y="4"/>
                        </a:lnTo>
                        <a:lnTo>
                          <a:pt x="478" y="8"/>
                        </a:lnTo>
                        <a:lnTo>
                          <a:pt x="522" y="13"/>
                        </a:lnTo>
                        <a:lnTo>
                          <a:pt x="561" y="21"/>
                        </a:lnTo>
                        <a:lnTo>
                          <a:pt x="603" y="30"/>
                        </a:lnTo>
                        <a:lnTo>
                          <a:pt x="645" y="39"/>
                        </a:lnTo>
                        <a:lnTo>
                          <a:pt x="675" y="49"/>
                        </a:lnTo>
                        <a:lnTo>
                          <a:pt x="705" y="61"/>
                        </a:lnTo>
                        <a:lnTo>
                          <a:pt x="729" y="72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4425840" y="1778040"/>
                    <a:ext cx="543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51" h="72">
                        <a:moveTo>
                          <a:pt x="0" y="63"/>
                        </a:moveTo>
                        <a:lnTo>
                          <a:pt x="27" y="69"/>
                        </a:lnTo>
                        <a:lnTo>
                          <a:pt x="56" y="72"/>
                        </a:lnTo>
                        <a:lnTo>
                          <a:pt x="80" y="67"/>
                        </a:lnTo>
                        <a:lnTo>
                          <a:pt x="104" y="57"/>
                        </a:lnTo>
                        <a:lnTo>
                          <a:pt x="127" y="40"/>
                        </a:lnTo>
                        <a:lnTo>
                          <a:pt x="139" y="21"/>
                        </a:lnTo>
                        <a:lnTo>
                          <a:pt x="151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4508640" y="1757520"/>
                    <a:ext cx="4788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33" h="120">
                        <a:moveTo>
                          <a:pt x="116" y="0"/>
                        </a:moveTo>
                        <a:lnTo>
                          <a:pt x="104" y="9"/>
                        </a:lnTo>
                        <a:lnTo>
                          <a:pt x="87" y="20"/>
                        </a:lnTo>
                        <a:lnTo>
                          <a:pt x="69" y="25"/>
                        </a:lnTo>
                        <a:lnTo>
                          <a:pt x="55" y="28"/>
                        </a:lnTo>
                        <a:lnTo>
                          <a:pt x="37" y="29"/>
                        </a:lnTo>
                        <a:lnTo>
                          <a:pt x="16" y="28"/>
                        </a:lnTo>
                        <a:lnTo>
                          <a:pt x="0" y="25"/>
                        </a:lnTo>
                        <a:lnTo>
                          <a:pt x="24" y="32"/>
                        </a:lnTo>
                        <a:lnTo>
                          <a:pt x="41" y="37"/>
                        </a:lnTo>
                        <a:lnTo>
                          <a:pt x="49" y="42"/>
                        </a:lnTo>
                        <a:lnTo>
                          <a:pt x="53" y="46"/>
                        </a:lnTo>
                        <a:lnTo>
                          <a:pt x="51" y="52"/>
                        </a:lnTo>
                        <a:lnTo>
                          <a:pt x="49" y="59"/>
                        </a:lnTo>
                        <a:lnTo>
                          <a:pt x="45" y="71"/>
                        </a:lnTo>
                        <a:lnTo>
                          <a:pt x="49" y="81"/>
                        </a:lnTo>
                        <a:lnTo>
                          <a:pt x="57" y="92"/>
                        </a:lnTo>
                        <a:lnTo>
                          <a:pt x="69" y="99"/>
                        </a:lnTo>
                        <a:lnTo>
                          <a:pt x="81" y="105"/>
                        </a:lnTo>
                        <a:lnTo>
                          <a:pt x="104" y="111"/>
                        </a:lnTo>
                        <a:lnTo>
                          <a:pt x="133" y="12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4564080" y="1768320"/>
                    <a:ext cx="147960" cy="385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411" h="107">
                        <a:moveTo>
                          <a:pt x="90" y="0"/>
                        </a:moveTo>
                        <a:lnTo>
                          <a:pt x="82" y="7"/>
                        </a:lnTo>
                        <a:lnTo>
                          <a:pt x="70" y="15"/>
                        </a:lnTo>
                        <a:lnTo>
                          <a:pt x="54" y="21"/>
                        </a:lnTo>
                        <a:lnTo>
                          <a:pt x="30" y="29"/>
                        </a:lnTo>
                        <a:lnTo>
                          <a:pt x="0" y="37"/>
                        </a:lnTo>
                        <a:lnTo>
                          <a:pt x="24" y="39"/>
                        </a:lnTo>
                        <a:lnTo>
                          <a:pt x="50" y="40"/>
                        </a:lnTo>
                        <a:lnTo>
                          <a:pt x="72" y="42"/>
                        </a:lnTo>
                        <a:lnTo>
                          <a:pt x="88" y="45"/>
                        </a:lnTo>
                        <a:lnTo>
                          <a:pt x="100" y="48"/>
                        </a:lnTo>
                        <a:lnTo>
                          <a:pt x="112" y="55"/>
                        </a:lnTo>
                        <a:lnTo>
                          <a:pt x="120" y="60"/>
                        </a:lnTo>
                        <a:lnTo>
                          <a:pt x="126" y="68"/>
                        </a:lnTo>
                        <a:lnTo>
                          <a:pt x="130" y="79"/>
                        </a:lnTo>
                        <a:lnTo>
                          <a:pt x="126" y="100"/>
                        </a:lnTo>
                        <a:lnTo>
                          <a:pt x="142" y="95"/>
                        </a:lnTo>
                        <a:lnTo>
                          <a:pt x="160" y="89"/>
                        </a:lnTo>
                        <a:lnTo>
                          <a:pt x="178" y="84"/>
                        </a:lnTo>
                        <a:lnTo>
                          <a:pt x="202" y="79"/>
                        </a:lnTo>
                        <a:lnTo>
                          <a:pt x="225" y="77"/>
                        </a:lnTo>
                        <a:lnTo>
                          <a:pt x="251" y="77"/>
                        </a:lnTo>
                        <a:lnTo>
                          <a:pt x="281" y="78"/>
                        </a:lnTo>
                        <a:lnTo>
                          <a:pt x="309" y="82"/>
                        </a:lnTo>
                        <a:lnTo>
                          <a:pt x="329" y="84"/>
                        </a:lnTo>
                        <a:lnTo>
                          <a:pt x="353" y="89"/>
                        </a:lnTo>
                        <a:lnTo>
                          <a:pt x="371" y="94"/>
                        </a:lnTo>
                        <a:lnTo>
                          <a:pt x="411" y="107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4559400" y="1797120"/>
                    <a:ext cx="558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55" h="72">
                        <a:moveTo>
                          <a:pt x="22" y="0"/>
                        </a:moveTo>
                        <a:lnTo>
                          <a:pt x="12" y="9"/>
                        </a:lnTo>
                        <a:lnTo>
                          <a:pt x="2" y="17"/>
                        </a:lnTo>
                        <a:lnTo>
                          <a:pt x="0" y="26"/>
                        </a:lnTo>
                        <a:lnTo>
                          <a:pt x="4" y="35"/>
                        </a:lnTo>
                        <a:lnTo>
                          <a:pt x="16" y="46"/>
                        </a:lnTo>
                        <a:lnTo>
                          <a:pt x="30" y="61"/>
                        </a:lnTo>
                        <a:lnTo>
                          <a:pt x="40" y="66"/>
                        </a:lnTo>
                        <a:lnTo>
                          <a:pt x="50" y="70"/>
                        </a:lnTo>
                        <a:lnTo>
                          <a:pt x="62" y="71"/>
                        </a:lnTo>
                        <a:lnTo>
                          <a:pt x="103" y="72"/>
                        </a:lnTo>
                        <a:lnTo>
                          <a:pt x="155" y="71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4619520" y="1816200"/>
                    <a:ext cx="846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35" h="72">
                        <a:moveTo>
                          <a:pt x="0" y="52"/>
                        </a:moveTo>
                        <a:lnTo>
                          <a:pt x="28" y="62"/>
                        </a:lnTo>
                        <a:lnTo>
                          <a:pt x="52" y="67"/>
                        </a:lnTo>
                        <a:lnTo>
                          <a:pt x="81" y="72"/>
                        </a:lnTo>
                        <a:lnTo>
                          <a:pt x="115" y="72"/>
                        </a:lnTo>
                        <a:lnTo>
                          <a:pt x="144" y="66"/>
                        </a:lnTo>
                        <a:lnTo>
                          <a:pt x="172" y="56"/>
                        </a:lnTo>
                        <a:lnTo>
                          <a:pt x="197" y="39"/>
                        </a:lnTo>
                        <a:lnTo>
                          <a:pt x="219" y="17"/>
                        </a:lnTo>
                        <a:lnTo>
                          <a:pt x="235" y="0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4600440" y="1835280"/>
                    <a:ext cx="11772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27" h="89">
                        <a:moveTo>
                          <a:pt x="327" y="0"/>
                        </a:moveTo>
                        <a:lnTo>
                          <a:pt x="317" y="8"/>
                        </a:lnTo>
                        <a:lnTo>
                          <a:pt x="301" y="16"/>
                        </a:lnTo>
                        <a:lnTo>
                          <a:pt x="274" y="23"/>
                        </a:lnTo>
                        <a:lnTo>
                          <a:pt x="260" y="25"/>
                        </a:lnTo>
                        <a:lnTo>
                          <a:pt x="236" y="27"/>
                        </a:lnTo>
                        <a:lnTo>
                          <a:pt x="202" y="25"/>
                        </a:lnTo>
                        <a:lnTo>
                          <a:pt x="166" y="23"/>
                        </a:lnTo>
                        <a:lnTo>
                          <a:pt x="120" y="20"/>
                        </a:lnTo>
                        <a:lnTo>
                          <a:pt x="84" y="17"/>
                        </a:lnTo>
                        <a:lnTo>
                          <a:pt x="54" y="15"/>
                        </a:lnTo>
                        <a:lnTo>
                          <a:pt x="18" y="16"/>
                        </a:lnTo>
                        <a:lnTo>
                          <a:pt x="0" y="17"/>
                        </a:lnTo>
                        <a:lnTo>
                          <a:pt x="22" y="19"/>
                        </a:lnTo>
                        <a:lnTo>
                          <a:pt x="40" y="24"/>
                        </a:lnTo>
                        <a:lnTo>
                          <a:pt x="56" y="28"/>
                        </a:lnTo>
                        <a:lnTo>
                          <a:pt x="78" y="35"/>
                        </a:lnTo>
                        <a:lnTo>
                          <a:pt x="96" y="43"/>
                        </a:lnTo>
                        <a:lnTo>
                          <a:pt x="118" y="54"/>
                        </a:lnTo>
                        <a:lnTo>
                          <a:pt x="136" y="63"/>
                        </a:lnTo>
                        <a:lnTo>
                          <a:pt x="155" y="76"/>
                        </a:lnTo>
                        <a:lnTo>
                          <a:pt x="172" y="89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4525920" y="1808280"/>
                    <a:ext cx="82800" cy="558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30" h="155">
                        <a:moveTo>
                          <a:pt x="58" y="0"/>
                        </a:moveTo>
                        <a:lnTo>
                          <a:pt x="40" y="2"/>
                        </a:lnTo>
                        <a:lnTo>
                          <a:pt x="18" y="8"/>
                        </a:lnTo>
                        <a:lnTo>
                          <a:pt x="6" y="13"/>
                        </a:lnTo>
                        <a:lnTo>
                          <a:pt x="2" y="18"/>
                        </a:lnTo>
                        <a:lnTo>
                          <a:pt x="0" y="23"/>
                        </a:lnTo>
                        <a:lnTo>
                          <a:pt x="4" y="31"/>
                        </a:lnTo>
                        <a:lnTo>
                          <a:pt x="12" y="40"/>
                        </a:lnTo>
                        <a:lnTo>
                          <a:pt x="24" y="52"/>
                        </a:lnTo>
                        <a:lnTo>
                          <a:pt x="38" y="62"/>
                        </a:lnTo>
                        <a:lnTo>
                          <a:pt x="56" y="72"/>
                        </a:lnTo>
                        <a:lnTo>
                          <a:pt x="75" y="81"/>
                        </a:lnTo>
                        <a:lnTo>
                          <a:pt x="99" y="90"/>
                        </a:lnTo>
                        <a:lnTo>
                          <a:pt x="122" y="95"/>
                        </a:lnTo>
                        <a:lnTo>
                          <a:pt x="151" y="102"/>
                        </a:lnTo>
                        <a:lnTo>
                          <a:pt x="165" y="116"/>
                        </a:lnTo>
                        <a:lnTo>
                          <a:pt x="181" y="127"/>
                        </a:lnTo>
                        <a:lnTo>
                          <a:pt x="207" y="143"/>
                        </a:lnTo>
                        <a:lnTo>
                          <a:pt x="230" y="155"/>
                        </a:lnTo>
                      </a:path>
                    </a:pathLst>
                  </a:custGeom>
                  <a:ln w="12600">
                    <a:solidFill>
                      <a:srgbClr val="ff8080"/>
                    </a:solidFill>
                    <a:round/>
                  </a:ln>
                </p:spPr>
                <p:txBody>
                  <a:bodyPr lIns="96120" rIns="9612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95" name=""/>
              <p:cNvSpPr/>
              <p:nvPr/>
            </p:nvSpPr>
            <p:spPr>
              <a:xfrm>
                <a:off x="4321080" y="1857240"/>
                <a:ext cx="260640" cy="25920"/>
              </a:xfrm>
              <a:custGeom>
                <a:avLst/>
                <a:gdLst/>
                <a:ahLst/>
                <a:rect l="0" t="0" r="r" b="b"/>
                <a:pathLst>
                  <a:path fill="none" w="724" h="72">
                    <a:moveTo>
                      <a:pt x="0" y="46"/>
                    </a:moveTo>
                    <a:lnTo>
                      <a:pt x="25" y="36"/>
                    </a:lnTo>
                    <a:lnTo>
                      <a:pt x="55" y="26"/>
                    </a:lnTo>
                    <a:lnTo>
                      <a:pt x="81" y="17"/>
                    </a:lnTo>
                    <a:lnTo>
                      <a:pt x="109" y="11"/>
                    </a:lnTo>
                    <a:lnTo>
                      <a:pt x="139" y="4"/>
                    </a:lnTo>
                    <a:lnTo>
                      <a:pt x="156" y="2"/>
                    </a:lnTo>
                    <a:lnTo>
                      <a:pt x="186" y="0"/>
                    </a:lnTo>
                    <a:lnTo>
                      <a:pt x="246" y="0"/>
                    </a:lnTo>
                    <a:lnTo>
                      <a:pt x="309" y="0"/>
                    </a:lnTo>
                    <a:lnTo>
                      <a:pt x="368" y="2"/>
                    </a:lnTo>
                    <a:lnTo>
                      <a:pt x="430" y="4"/>
                    </a:lnTo>
                    <a:lnTo>
                      <a:pt x="475" y="8"/>
                    </a:lnTo>
                    <a:lnTo>
                      <a:pt x="519" y="13"/>
                    </a:lnTo>
                    <a:lnTo>
                      <a:pt x="557" y="21"/>
                    </a:lnTo>
                    <a:lnTo>
                      <a:pt x="599" y="30"/>
                    </a:lnTo>
                    <a:lnTo>
                      <a:pt x="640" y="39"/>
                    </a:lnTo>
                    <a:lnTo>
                      <a:pt x="670" y="49"/>
                    </a:lnTo>
                    <a:lnTo>
                      <a:pt x="700" y="61"/>
                    </a:lnTo>
                    <a:lnTo>
                      <a:pt x="724" y="72"/>
                    </a:lnTo>
                  </a:path>
                </a:pathLst>
              </a:custGeom>
              <a:ln w="12600">
                <a:solidFill>
                  <a:srgbClr val="ff808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354560" y="1805040"/>
                <a:ext cx="78120" cy="25920"/>
              </a:xfrm>
              <a:custGeom>
                <a:avLst/>
                <a:gdLst/>
                <a:ahLst/>
                <a:rect l="0" t="0" r="r" b="b"/>
                <a:pathLst>
                  <a:path fill="none" w="217" h="72">
                    <a:moveTo>
                      <a:pt x="0" y="72"/>
                    </a:moveTo>
                    <a:lnTo>
                      <a:pt x="28" y="49"/>
                    </a:lnTo>
                    <a:lnTo>
                      <a:pt x="52" y="32"/>
                    </a:lnTo>
                    <a:lnTo>
                      <a:pt x="88" y="12"/>
                    </a:lnTo>
                    <a:lnTo>
                      <a:pt x="120" y="4"/>
                    </a:lnTo>
                    <a:lnTo>
                      <a:pt x="154" y="0"/>
                    </a:lnTo>
                    <a:lnTo>
                      <a:pt x="184" y="2"/>
                    </a:lnTo>
                    <a:lnTo>
                      <a:pt x="217" y="12"/>
                    </a:lnTo>
                  </a:path>
                </a:pathLst>
              </a:custGeom>
              <a:ln w="12600">
                <a:solidFill>
                  <a:srgbClr val="ff808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251240" y="180504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fill="none" w="94" h="72">
                    <a:moveTo>
                      <a:pt x="36" y="0"/>
                    </a:moveTo>
                    <a:lnTo>
                      <a:pt x="60" y="6"/>
                    </a:lnTo>
                    <a:lnTo>
                      <a:pt x="76" y="11"/>
                    </a:lnTo>
                    <a:lnTo>
                      <a:pt x="90" y="19"/>
                    </a:lnTo>
                    <a:lnTo>
                      <a:pt x="94" y="27"/>
                    </a:lnTo>
                    <a:lnTo>
                      <a:pt x="90" y="37"/>
                    </a:lnTo>
                    <a:lnTo>
                      <a:pt x="80" y="46"/>
                    </a:lnTo>
                    <a:lnTo>
                      <a:pt x="67" y="55"/>
                    </a:lnTo>
                    <a:lnTo>
                      <a:pt x="50" y="61"/>
                    </a:lnTo>
                    <a:lnTo>
                      <a:pt x="21" y="67"/>
                    </a:lnTo>
                    <a:lnTo>
                      <a:pt x="0" y="72"/>
                    </a:lnTo>
                  </a:path>
                </a:pathLst>
              </a:custGeom>
              <a:ln w="12600">
                <a:solidFill>
                  <a:srgbClr val="ff808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300560" y="1827360"/>
                <a:ext cx="233640" cy="25920"/>
              </a:xfrm>
              <a:custGeom>
                <a:avLst/>
                <a:gdLst/>
                <a:ahLst/>
                <a:rect l="0" t="0" r="r" b="b"/>
                <a:pathLst>
                  <a:path fill="none" w="649" h="72">
                    <a:moveTo>
                      <a:pt x="0" y="0"/>
                    </a:moveTo>
                    <a:lnTo>
                      <a:pt x="24" y="2"/>
                    </a:lnTo>
                    <a:lnTo>
                      <a:pt x="42" y="5"/>
                    </a:lnTo>
                    <a:lnTo>
                      <a:pt x="58" y="10"/>
                    </a:lnTo>
                    <a:lnTo>
                      <a:pt x="70" y="16"/>
                    </a:lnTo>
                    <a:lnTo>
                      <a:pt x="76" y="26"/>
                    </a:lnTo>
                    <a:lnTo>
                      <a:pt x="80" y="35"/>
                    </a:lnTo>
                    <a:lnTo>
                      <a:pt x="88" y="25"/>
                    </a:lnTo>
                    <a:lnTo>
                      <a:pt x="98" y="19"/>
                    </a:lnTo>
                    <a:lnTo>
                      <a:pt x="116" y="14"/>
                    </a:lnTo>
                    <a:lnTo>
                      <a:pt x="138" y="11"/>
                    </a:lnTo>
                    <a:lnTo>
                      <a:pt x="164" y="10"/>
                    </a:lnTo>
                    <a:lnTo>
                      <a:pt x="206" y="11"/>
                    </a:lnTo>
                    <a:lnTo>
                      <a:pt x="248" y="14"/>
                    </a:lnTo>
                    <a:lnTo>
                      <a:pt x="286" y="16"/>
                    </a:lnTo>
                    <a:lnTo>
                      <a:pt x="316" y="20"/>
                    </a:lnTo>
                    <a:lnTo>
                      <a:pt x="351" y="27"/>
                    </a:lnTo>
                    <a:lnTo>
                      <a:pt x="377" y="32"/>
                    </a:lnTo>
                    <a:lnTo>
                      <a:pt x="401" y="40"/>
                    </a:lnTo>
                    <a:lnTo>
                      <a:pt x="417" y="50"/>
                    </a:lnTo>
                    <a:lnTo>
                      <a:pt x="427" y="42"/>
                    </a:lnTo>
                    <a:lnTo>
                      <a:pt x="441" y="37"/>
                    </a:lnTo>
                    <a:lnTo>
                      <a:pt x="457" y="31"/>
                    </a:lnTo>
                    <a:lnTo>
                      <a:pt x="483" y="27"/>
                    </a:lnTo>
                    <a:lnTo>
                      <a:pt x="515" y="27"/>
                    </a:lnTo>
                    <a:lnTo>
                      <a:pt x="541" y="27"/>
                    </a:lnTo>
                    <a:lnTo>
                      <a:pt x="559" y="30"/>
                    </a:lnTo>
                    <a:lnTo>
                      <a:pt x="587" y="32"/>
                    </a:lnTo>
                    <a:lnTo>
                      <a:pt x="605" y="37"/>
                    </a:lnTo>
                    <a:lnTo>
                      <a:pt x="621" y="41"/>
                    </a:lnTo>
                    <a:lnTo>
                      <a:pt x="631" y="48"/>
                    </a:lnTo>
                    <a:lnTo>
                      <a:pt x="639" y="59"/>
                    </a:lnTo>
                    <a:lnTo>
                      <a:pt x="649" y="72"/>
                    </a:lnTo>
                  </a:path>
                </a:pathLst>
              </a:custGeom>
              <a:ln w="12600">
                <a:solidFill>
                  <a:srgbClr val="ff808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3929040" y="1833480"/>
              <a:ext cx="829080" cy="190800"/>
            </a:xfrm>
            <a:custGeom>
              <a:avLst/>
              <a:gdLst/>
              <a:ahLst/>
              <a:rect l="0" t="0" r="r" b="b"/>
              <a:pathLst>
                <a:path w="2303" h="530">
                  <a:moveTo>
                    <a:pt x="13" y="0"/>
                  </a:moveTo>
                  <a:lnTo>
                    <a:pt x="145" y="0"/>
                  </a:lnTo>
                  <a:lnTo>
                    <a:pt x="304" y="0"/>
                  </a:lnTo>
                  <a:lnTo>
                    <a:pt x="383" y="0"/>
                  </a:lnTo>
                  <a:lnTo>
                    <a:pt x="489" y="0"/>
                  </a:lnTo>
                  <a:lnTo>
                    <a:pt x="529" y="0"/>
                  </a:lnTo>
                  <a:lnTo>
                    <a:pt x="568" y="0"/>
                  </a:lnTo>
                  <a:lnTo>
                    <a:pt x="609" y="13"/>
                  </a:lnTo>
                  <a:lnTo>
                    <a:pt x="649" y="26"/>
                  </a:lnTo>
                  <a:lnTo>
                    <a:pt x="755" y="52"/>
                  </a:lnTo>
                  <a:lnTo>
                    <a:pt x="794" y="66"/>
                  </a:lnTo>
                  <a:lnTo>
                    <a:pt x="834" y="66"/>
                  </a:lnTo>
                  <a:lnTo>
                    <a:pt x="874" y="52"/>
                  </a:lnTo>
                  <a:lnTo>
                    <a:pt x="913" y="26"/>
                  </a:lnTo>
                  <a:lnTo>
                    <a:pt x="953" y="0"/>
                  </a:lnTo>
                  <a:lnTo>
                    <a:pt x="993" y="0"/>
                  </a:lnTo>
                  <a:lnTo>
                    <a:pt x="1046" y="13"/>
                  </a:lnTo>
                  <a:lnTo>
                    <a:pt x="1099" y="26"/>
                  </a:lnTo>
                  <a:lnTo>
                    <a:pt x="1138" y="26"/>
                  </a:lnTo>
                  <a:lnTo>
                    <a:pt x="1178" y="26"/>
                  </a:lnTo>
                  <a:lnTo>
                    <a:pt x="1218" y="13"/>
                  </a:lnTo>
                  <a:lnTo>
                    <a:pt x="1271" y="0"/>
                  </a:lnTo>
                  <a:lnTo>
                    <a:pt x="1323" y="0"/>
                  </a:lnTo>
                  <a:lnTo>
                    <a:pt x="1363" y="0"/>
                  </a:lnTo>
                  <a:lnTo>
                    <a:pt x="1403" y="26"/>
                  </a:lnTo>
                  <a:lnTo>
                    <a:pt x="1442" y="39"/>
                  </a:lnTo>
                  <a:lnTo>
                    <a:pt x="1495" y="52"/>
                  </a:lnTo>
                  <a:lnTo>
                    <a:pt x="1548" y="39"/>
                  </a:lnTo>
                  <a:lnTo>
                    <a:pt x="1601" y="39"/>
                  </a:lnTo>
                  <a:lnTo>
                    <a:pt x="1641" y="39"/>
                  </a:lnTo>
                  <a:lnTo>
                    <a:pt x="1748" y="39"/>
                  </a:lnTo>
                  <a:lnTo>
                    <a:pt x="1787" y="52"/>
                  </a:lnTo>
                  <a:lnTo>
                    <a:pt x="1827" y="66"/>
                  </a:lnTo>
                  <a:lnTo>
                    <a:pt x="1867" y="66"/>
                  </a:lnTo>
                  <a:lnTo>
                    <a:pt x="1920" y="92"/>
                  </a:lnTo>
                  <a:lnTo>
                    <a:pt x="1999" y="92"/>
                  </a:lnTo>
                  <a:lnTo>
                    <a:pt x="2039" y="92"/>
                  </a:lnTo>
                  <a:lnTo>
                    <a:pt x="2078" y="92"/>
                  </a:lnTo>
                  <a:lnTo>
                    <a:pt x="2118" y="105"/>
                  </a:lnTo>
                  <a:lnTo>
                    <a:pt x="2171" y="119"/>
                  </a:lnTo>
                  <a:lnTo>
                    <a:pt x="2211" y="132"/>
                  </a:lnTo>
                  <a:lnTo>
                    <a:pt x="2264" y="145"/>
                  </a:lnTo>
                  <a:lnTo>
                    <a:pt x="2303" y="171"/>
                  </a:lnTo>
                  <a:lnTo>
                    <a:pt x="2264" y="198"/>
                  </a:lnTo>
                  <a:lnTo>
                    <a:pt x="2171" y="198"/>
                  </a:lnTo>
                  <a:lnTo>
                    <a:pt x="2131" y="198"/>
                  </a:lnTo>
                  <a:lnTo>
                    <a:pt x="2078" y="185"/>
                  </a:lnTo>
                  <a:lnTo>
                    <a:pt x="2026" y="171"/>
                  </a:lnTo>
                  <a:lnTo>
                    <a:pt x="1986" y="171"/>
                  </a:lnTo>
                  <a:lnTo>
                    <a:pt x="1880" y="158"/>
                  </a:lnTo>
                  <a:lnTo>
                    <a:pt x="1827" y="145"/>
                  </a:lnTo>
                  <a:lnTo>
                    <a:pt x="1787" y="145"/>
                  </a:lnTo>
                  <a:lnTo>
                    <a:pt x="1735" y="145"/>
                  </a:lnTo>
                  <a:lnTo>
                    <a:pt x="1694" y="145"/>
                  </a:lnTo>
                  <a:lnTo>
                    <a:pt x="1614" y="145"/>
                  </a:lnTo>
                  <a:lnTo>
                    <a:pt x="1535" y="145"/>
                  </a:lnTo>
                  <a:lnTo>
                    <a:pt x="1482" y="145"/>
                  </a:lnTo>
                  <a:lnTo>
                    <a:pt x="1442" y="158"/>
                  </a:lnTo>
                  <a:lnTo>
                    <a:pt x="1337" y="145"/>
                  </a:lnTo>
                  <a:lnTo>
                    <a:pt x="1284" y="145"/>
                  </a:lnTo>
                  <a:lnTo>
                    <a:pt x="1244" y="119"/>
                  </a:lnTo>
                  <a:lnTo>
                    <a:pt x="1204" y="105"/>
                  </a:lnTo>
                  <a:lnTo>
                    <a:pt x="1125" y="105"/>
                  </a:lnTo>
                  <a:lnTo>
                    <a:pt x="1019" y="105"/>
                  </a:lnTo>
                  <a:lnTo>
                    <a:pt x="979" y="119"/>
                  </a:lnTo>
                  <a:lnTo>
                    <a:pt x="874" y="145"/>
                  </a:lnTo>
                  <a:lnTo>
                    <a:pt x="794" y="158"/>
                  </a:lnTo>
                  <a:lnTo>
                    <a:pt x="755" y="158"/>
                  </a:lnTo>
                  <a:lnTo>
                    <a:pt x="675" y="145"/>
                  </a:lnTo>
                  <a:lnTo>
                    <a:pt x="515" y="132"/>
                  </a:lnTo>
                  <a:lnTo>
                    <a:pt x="476" y="119"/>
                  </a:lnTo>
                  <a:lnTo>
                    <a:pt x="436" y="119"/>
                  </a:lnTo>
                  <a:lnTo>
                    <a:pt x="396" y="145"/>
                  </a:lnTo>
                  <a:lnTo>
                    <a:pt x="370" y="198"/>
                  </a:lnTo>
                  <a:lnTo>
                    <a:pt x="330" y="211"/>
                  </a:lnTo>
                  <a:lnTo>
                    <a:pt x="291" y="238"/>
                  </a:lnTo>
                  <a:lnTo>
                    <a:pt x="211" y="238"/>
                  </a:lnTo>
                  <a:lnTo>
                    <a:pt x="158" y="238"/>
                  </a:lnTo>
                  <a:lnTo>
                    <a:pt x="132" y="198"/>
                  </a:lnTo>
                  <a:lnTo>
                    <a:pt x="132" y="158"/>
                  </a:lnTo>
                  <a:lnTo>
                    <a:pt x="105" y="119"/>
                  </a:lnTo>
                  <a:lnTo>
                    <a:pt x="13" y="119"/>
                  </a:lnTo>
                  <a:lnTo>
                    <a:pt x="0" y="79"/>
                  </a:lnTo>
                  <a:lnTo>
                    <a:pt x="0" y="119"/>
                  </a:lnTo>
                  <a:lnTo>
                    <a:pt x="0" y="158"/>
                  </a:lnTo>
                  <a:lnTo>
                    <a:pt x="39" y="185"/>
                  </a:lnTo>
                  <a:lnTo>
                    <a:pt x="92" y="185"/>
                  </a:lnTo>
                  <a:lnTo>
                    <a:pt x="119" y="238"/>
                  </a:lnTo>
                  <a:lnTo>
                    <a:pt x="119" y="278"/>
                  </a:lnTo>
                  <a:lnTo>
                    <a:pt x="119" y="371"/>
                  </a:lnTo>
                  <a:lnTo>
                    <a:pt x="119" y="411"/>
                  </a:lnTo>
                  <a:lnTo>
                    <a:pt x="132" y="450"/>
                  </a:lnTo>
                  <a:lnTo>
                    <a:pt x="132" y="490"/>
                  </a:lnTo>
                  <a:lnTo>
                    <a:pt x="158" y="530"/>
                  </a:lnTo>
                  <a:lnTo>
                    <a:pt x="198" y="530"/>
                  </a:lnTo>
                  <a:lnTo>
                    <a:pt x="224" y="490"/>
                  </a:lnTo>
                  <a:lnTo>
                    <a:pt x="238" y="450"/>
                  </a:lnTo>
                  <a:lnTo>
                    <a:pt x="198" y="424"/>
                  </a:lnTo>
                  <a:lnTo>
                    <a:pt x="171" y="384"/>
                  </a:lnTo>
                  <a:lnTo>
                    <a:pt x="158" y="344"/>
                  </a:lnTo>
                  <a:lnTo>
                    <a:pt x="158" y="305"/>
                  </a:lnTo>
                  <a:lnTo>
                    <a:pt x="198" y="278"/>
                  </a:lnTo>
                  <a:lnTo>
                    <a:pt x="238" y="331"/>
                  </a:lnTo>
                  <a:lnTo>
                    <a:pt x="264" y="371"/>
                  </a:lnTo>
                  <a:lnTo>
                    <a:pt x="304" y="371"/>
                  </a:lnTo>
                  <a:lnTo>
                    <a:pt x="330" y="331"/>
                  </a:lnTo>
                  <a:lnTo>
                    <a:pt x="357" y="292"/>
                  </a:lnTo>
                  <a:lnTo>
                    <a:pt x="396" y="292"/>
                  </a:lnTo>
                  <a:lnTo>
                    <a:pt x="410" y="251"/>
                  </a:lnTo>
                  <a:lnTo>
                    <a:pt x="410" y="211"/>
                  </a:lnTo>
                  <a:lnTo>
                    <a:pt x="304" y="19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c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4572000" y="1999440"/>
            <a:ext cx="797040" cy="1331640"/>
            <a:chOff x="4572000" y="1999440"/>
            <a:chExt cx="797040" cy="1331640"/>
          </a:xfrm>
        </p:grpSpPr>
        <p:sp>
          <p:nvSpPr>
            <p:cNvPr id="701" name=""/>
            <p:cNvSpPr/>
            <p:nvPr/>
          </p:nvSpPr>
          <p:spPr>
            <a:xfrm>
              <a:off x="4572000" y="2206800"/>
              <a:ext cx="725760" cy="1124280"/>
            </a:xfrm>
            <a:custGeom>
              <a:avLst/>
              <a:gdLst/>
              <a:ahLst/>
              <a:rect l="0" t="0" r="r" b="b"/>
              <a:pathLst>
                <a:path w="2016" h="3123">
                  <a:moveTo>
                    <a:pt x="132" y="3123"/>
                  </a:moveTo>
                  <a:lnTo>
                    <a:pt x="0" y="2981"/>
                  </a:lnTo>
                  <a:lnTo>
                    <a:pt x="8" y="2646"/>
                  </a:lnTo>
                  <a:lnTo>
                    <a:pt x="445" y="1839"/>
                  </a:lnTo>
                  <a:lnTo>
                    <a:pt x="1271" y="0"/>
                  </a:lnTo>
                  <a:lnTo>
                    <a:pt x="2016" y="366"/>
                  </a:lnTo>
                  <a:lnTo>
                    <a:pt x="1222" y="1906"/>
                  </a:lnTo>
                  <a:lnTo>
                    <a:pt x="498" y="2977"/>
                  </a:lnTo>
                  <a:lnTo>
                    <a:pt x="132" y="3123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63040" y="1999440"/>
              <a:ext cx="306000" cy="289080"/>
            </a:xfrm>
            <a:custGeom>
              <a:avLst/>
              <a:gdLst/>
              <a:ahLst/>
              <a:rect l="0" t="0" r="r" b="b"/>
              <a:pathLst>
                <a:path w="850" h="803">
                  <a:moveTo>
                    <a:pt x="13" y="291"/>
                  </a:moveTo>
                  <a:lnTo>
                    <a:pt x="13" y="291"/>
                  </a:lnTo>
                  <a:cubicBezTo>
                    <a:pt x="-5" y="359"/>
                    <a:pt x="-4" y="431"/>
                    <a:pt x="16" y="499"/>
                  </a:cubicBezTo>
                  <a:cubicBezTo>
                    <a:pt x="37" y="568"/>
                    <a:pt x="76" y="630"/>
                    <a:pt x="129" y="681"/>
                  </a:cubicBezTo>
                  <a:cubicBezTo>
                    <a:pt x="183" y="732"/>
                    <a:pt x="249" y="768"/>
                    <a:pt x="321" y="788"/>
                  </a:cubicBezTo>
                  <a:cubicBezTo>
                    <a:pt x="394" y="807"/>
                    <a:pt x="470" y="808"/>
                    <a:pt x="541" y="791"/>
                  </a:cubicBezTo>
                  <a:cubicBezTo>
                    <a:pt x="613" y="774"/>
                    <a:pt x="678" y="739"/>
                    <a:pt x="730" y="690"/>
                  </a:cubicBezTo>
                  <a:cubicBezTo>
                    <a:pt x="782" y="641"/>
                    <a:pt x="819" y="580"/>
                    <a:pt x="837" y="512"/>
                  </a:cubicBezTo>
                  <a:lnTo>
                    <a:pt x="837" y="512"/>
                  </a:lnTo>
                  <a:lnTo>
                    <a:pt x="837" y="512"/>
                  </a:lnTo>
                  <a:cubicBezTo>
                    <a:pt x="855" y="444"/>
                    <a:pt x="854" y="372"/>
                    <a:pt x="834" y="304"/>
                  </a:cubicBezTo>
                  <a:cubicBezTo>
                    <a:pt x="813" y="235"/>
                    <a:pt x="774" y="173"/>
                    <a:pt x="721" y="122"/>
                  </a:cubicBezTo>
                  <a:cubicBezTo>
                    <a:pt x="667" y="71"/>
                    <a:pt x="601" y="35"/>
                    <a:pt x="529" y="15"/>
                  </a:cubicBezTo>
                  <a:cubicBezTo>
                    <a:pt x="456" y="-4"/>
                    <a:pt x="380" y="-5"/>
                    <a:pt x="309" y="12"/>
                  </a:cubicBezTo>
                  <a:cubicBezTo>
                    <a:pt x="237" y="29"/>
                    <a:pt x="172" y="64"/>
                    <a:pt x="120" y="113"/>
                  </a:cubicBezTo>
                  <a:cubicBezTo>
                    <a:pt x="68" y="162"/>
                    <a:pt x="31" y="223"/>
                    <a:pt x="13" y="291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4584600" y="1541520"/>
            <a:ext cx="854640" cy="792720"/>
            <a:chOff x="4584600" y="1541520"/>
            <a:chExt cx="854640" cy="792720"/>
          </a:xfrm>
        </p:grpSpPr>
        <p:grpSp>
          <p:nvGrpSpPr>
            <p:cNvPr id="704" name=""/>
            <p:cNvGrpSpPr/>
            <p:nvPr/>
          </p:nvGrpSpPr>
          <p:grpSpPr>
            <a:xfrm>
              <a:off x="4816440" y="1712880"/>
              <a:ext cx="622800" cy="621360"/>
              <a:chOff x="4816440" y="1712880"/>
              <a:chExt cx="622800" cy="621360"/>
            </a:xfrm>
          </p:grpSpPr>
          <p:sp>
            <p:nvSpPr>
              <p:cNvPr id="705" name=""/>
              <p:cNvSpPr/>
              <p:nvPr/>
            </p:nvSpPr>
            <p:spPr>
              <a:xfrm>
                <a:off x="4816440" y="1719360"/>
                <a:ext cx="617760" cy="614880"/>
              </a:xfrm>
              <a:custGeom>
                <a:avLst/>
                <a:gdLst/>
                <a:ahLst/>
                <a:rect l="0" t="0" r="r" b="b"/>
                <a:pathLst>
                  <a:path w="1716" h="1708">
                    <a:moveTo>
                      <a:pt x="158" y="0"/>
                    </a:moveTo>
                    <a:lnTo>
                      <a:pt x="626" y="437"/>
                    </a:lnTo>
                    <a:lnTo>
                      <a:pt x="966" y="768"/>
                    </a:lnTo>
                    <a:lnTo>
                      <a:pt x="1293" y="1076"/>
                    </a:lnTo>
                    <a:lnTo>
                      <a:pt x="1425" y="1196"/>
                    </a:lnTo>
                    <a:lnTo>
                      <a:pt x="1623" y="1329"/>
                    </a:lnTo>
                    <a:lnTo>
                      <a:pt x="1716" y="1386"/>
                    </a:lnTo>
                    <a:lnTo>
                      <a:pt x="1659" y="1518"/>
                    </a:lnTo>
                    <a:lnTo>
                      <a:pt x="1566" y="1624"/>
                    </a:lnTo>
                    <a:lnTo>
                      <a:pt x="1482" y="1682"/>
                    </a:lnTo>
                    <a:lnTo>
                      <a:pt x="1438" y="1708"/>
                    </a:lnTo>
                    <a:lnTo>
                      <a:pt x="1284" y="1532"/>
                    </a:lnTo>
                    <a:lnTo>
                      <a:pt x="1076" y="1311"/>
                    </a:lnTo>
                    <a:lnTo>
                      <a:pt x="780" y="993"/>
                    </a:lnTo>
                    <a:lnTo>
                      <a:pt x="529" y="724"/>
                    </a:lnTo>
                    <a:lnTo>
                      <a:pt x="246" y="410"/>
                    </a:lnTo>
                    <a:lnTo>
                      <a:pt x="0" y="149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60606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826160" y="1712880"/>
                <a:ext cx="613080" cy="616320"/>
              </a:xfrm>
              <a:custGeom>
                <a:avLst/>
                <a:gdLst/>
                <a:ahLst/>
                <a:rect l="0" t="0" r="r" b="b"/>
                <a:pathLst>
                  <a:path w="1703" h="1712">
                    <a:moveTo>
                      <a:pt x="149" y="0"/>
                    </a:moveTo>
                    <a:lnTo>
                      <a:pt x="617" y="441"/>
                    </a:lnTo>
                    <a:lnTo>
                      <a:pt x="957" y="772"/>
                    </a:lnTo>
                    <a:lnTo>
                      <a:pt x="1279" y="1072"/>
                    </a:lnTo>
                    <a:lnTo>
                      <a:pt x="1420" y="1187"/>
                    </a:lnTo>
                    <a:lnTo>
                      <a:pt x="1614" y="1324"/>
                    </a:lnTo>
                    <a:lnTo>
                      <a:pt x="1703" y="1386"/>
                    </a:lnTo>
                    <a:lnTo>
                      <a:pt x="1685" y="1439"/>
                    </a:lnTo>
                    <a:lnTo>
                      <a:pt x="1659" y="1518"/>
                    </a:lnTo>
                    <a:lnTo>
                      <a:pt x="1610" y="1576"/>
                    </a:lnTo>
                    <a:lnTo>
                      <a:pt x="1557" y="1638"/>
                    </a:lnTo>
                    <a:lnTo>
                      <a:pt x="1531" y="1664"/>
                    </a:lnTo>
                    <a:lnTo>
                      <a:pt x="1482" y="1690"/>
                    </a:lnTo>
                    <a:lnTo>
                      <a:pt x="1429" y="1712"/>
                    </a:lnTo>
                    <a:lnTo>
                      <a:pt x="1275" y="1536"/>
                    </a:lnTo>
                    <a:lnTo>
                      <a:pt x="1063" y="1311"/>
                    </a:lnTo>
                    <a:lnTo>
                      <a:pt x="776" y="984"/>
                    </a:lnTo>
                    <a:lnTo>
                      <a:pt x="524" y="715"/>
                    </a:lnTo>
                    <a:lnTo>
                      <a:pt x="238" y="401"/>
                    </a:lnTo>
                    <a:lnTo>
                      <a:pt x="0" y="141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621320" y="1541520"/>
              <a:ext cx="411480" cy="266760"/>
              <a:chOff x="4621320" y="1541520"/>
              <a:chExt cx="411480" cy="266760"/>
            </a:xfrm>
          </p:grpSpPr>
          <p:sp>
            <p:nvSpPr>
              <p:cNvPr id="708" name=""/>
              <p:cNvSpPr/>
              <p:nvPr/>
            </p:nvSpPr>
            <p:spPr>
              <a:xfrm>
                <a:off x="4630680" y="1547640"/>
                <a:ext cx="402120" cy="260640"/>
              </a:xfrm>
              <a:custGeom>
                <a:avLst/>
                <a:gdLst/>
                <a:ahLst/>
                <a:rect l="0" t="0" r="r" b="b"/>
                <a:pathLst>
                  <a:path w="1117" h="724">
                    <a:moveTo>
                      <a:pt x="0" y="609"/>
                    </a:moveTo>
                    <a:lnTo>
                      <a:pt x="145" y="724"/>
                    </a:lnTo>
                    <a:lnTo>
                      <a:pt x="322" y="547"/>
                    </a:lnTo>
                    <a:lnTo>
                      <a:pt x="367" y="530"/>
                    </a:lnTo>
                    <a:lnTo>
                      <a:pt x="402" y="530"/>
                    </a:lnTo>
                    <a:lnTo>
                      <a:pt x="437" y="543"/>
                    </a:lnTo>
                    <a:lnTo>
                      <a:pt x="521" y="627"/>
                    </a:lnTo>
                    <a:lnTo>
                      <a:pt x="693" y="459"/>
                    </a:lnTo>
                    <a:lnTo>
                      <a:pt x="613" y="357"/>
                    </a:lnTo>
                    <a:lnTo>
                      <a:pt x="583" y="317"/>
                    </a:lnTo>
                    <a:lnTo>
                      <a:pt x="587" y="268"/>
                    </a:lnTo>
                    <a:lnTo>
                      <a:pt x="600" y="233"/>
                    </a:lnTo>
                    <a:lnTo>
                      <a:pt x="622" y="207"/>
                    </a:lnTo>
                    <a:lnTo>
                      <a:pt x="644" y="180"/>
                    </a:lnTo>
                    <a:lnTo>
                      <a:pt x="710" y="141"/>
                    </a:lnTo>
                    <a:lnTo>
                      <a:pt x="799" y="83"/>
                    </a:lnTo>
                    <a:lnTo>
                      <a:pt x="919" y="52"/>
                    </a:lnTo>
                    <a:lnTo>
                      <a:pt x="1029" y="22"/>
                    </a:lnTo>
                    <a:lnTo>
                      <a:pt x="1117" y="0"/>
                    </a:lnTo>
                    <a:lnTo>
                      <a:pt x="936" y="8"/>
                    </a:lnTo>
                    <a:lnTo>
                      <a:pt x="759" y="17"/>
                    </a:lnTo>
                    <a:lnTo>
                      <a:pt x="671" y="39"/>
                    </a:lnTo>
                    <a:lnTo>
                      <a:pt x="605" y="52"/>
                    </a:lnTo>
                    <a:lnTo>
                      <a:pt x="481" y="105"/>
                    </a:lnTo>
                    <a:lnTo>
                      <a:pt x="411" y="154"/>
                    </a:lnTo>
                    <a:lnTo>
                      <a:pt x="349" y="207"/>
                    </a:lnTo>
                    <a:lnTo>
                      <a:pt x="287" y="260"/>
                    </a:lnTo>
                    <a:lnTo>
                      <a:pt x="229" y="317"/>
                    </a:lnTo>
                    <a:lnTo>
                      <a:pt x="163" y="397"/>
                    </a:lnTo>
                    <a:lnTo>
                      <a:pt x="105" y="481"/>
                    </a:lnTo>
                    <a:lnTo>
                      <a:pt x="0" y="60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621320" y="1541520"/>
                <a:ext cx="403560" cy="259200"/>
              </a:xfrm>
              <a:custGeom>
                <a:avLst/>
                <a:gdLst/>
                <a:ahLst/>
                <a:rect l="0" t="0" r="r" b="b"/>
                <a:pathLst>
                  <a:path w="1121" h="720">
                    <a:moveTo>
                      <a:pt x="0" y="623"/>
                    </a:moveTo>
                    <a:lnTo>
                      <a:pt x="154" y="720"/>
                    </a:lnTo>
                    <a:lnTo>
                      <a:pt x="326" y="553"/>
                    </a:lnTo>
                    <a:lnTo>
                      <a:pt x="366" y="534"/>
                    </a:lnTo>
                    <a:lnTo>
                      <a:pt x="405" y="530"/>
                    </a:lnTo>
                    <a:lnTo>
                      <a:pt x="449" y="548"/>
                    </a:lnTo>
                    <a:lnTo>
                      <a:pt x="533" y="628"/>
                    </a:lnTo>
                    <a:lnTo>
                      <a:pt x="702" y="459"/>
                    </a:lnTo>
                    <a:lnTo>
                      <a:pt x="609" y="353"/>
                    </a:lnTo>
                    <a:lnTo>
                      <a:pt x="596" y="314"/>
                    </a:lnTo>
                    <a:lnTo>
                      <a:pt x="600" y="274"/>
                    </a:lnTo>
                    <a:lnTo>
                      <a:pt x="613" y="234"/>
                    </a:lnTo>
                    <a:lnTo>
                      <a:pt x="627" y="208"/>
                    </a:lnTo>
                    <a:lnTo>
                      <a:pt x="649" y="181"/>
                    </a:lnTo>
                    <a:lnTo>
                      <a:pt x="724" y="136"/>
                    </a:lnTo>
                    <a:lnTo>
                      <a:pt x="803" y="97"/>
                    </a:lnTo>
                    <a:lnTo>
                      <a:pt x="913" y="57"/>
                    </a:lnTo>
                    <a:lnTo>
                      <a:pt x="1037" y="26"/>
                    </a:lnTo>
                    <a:lnTo>
                      <a:pt x="1121" y="0"/>
                    </a:lnTo>
                    <a:lnTo>
                      <a:pt x="940" y="0"/>
                    </a:lnTo>
                    <a:lnTo>
                      <a:pt x="777" y="26"/>
                    </a:lnTo>
                    <a:lnTo>
                      <a:pt x="671" y="39"/>
                    </a:lnTo>
                    <a:lnTo>
                      <a:pt x="613" y="61"/>
                    </a:lnTo>
                    <a:lnTo>
                      <a:pt x="551" y="74"/>
                    </a:lnTo>
                    <a:lnTo>
                      <a:pt x="489" y="105"/>
                    </a:lnTo>
                    <a:lnTo>
                      <a:pt x="414" y="154"/>
                    </a:lnTo>
                    <a:lnTo>
                      <a:pt x="352" y="208"/>
                    </a:lnTo>
                    <a:lnTo>
                      <a:pt x="286" y="261"/>
                    </a:lnTo>
                    <a:lnTo>
                      <a:pt x="229" y="322"/>
                    </a:lnTo>
                    <a:lnTo>
                      <a:pt x="163" y="406"/>
                    </a:lnTo>
                    <a:lnTo>
                      <a:pt x="105" y="477"/>
                    </a:lnTo>
                    <a:lnTo>
                      <a:pt x="0" y="6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4584600" y="1749600"/>
              <a:ext cx="109800" cy="112680"/>
              <a:chOff x="4584600" y="1749600"/>
              <a:chExt cx="109800" cy="1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4584600" y="1755720"/>
                <a:ext cx="105120" cy="106560"/>
              </a:xfrm>
              <a:custGeom>
                <a:avLst/>
                <a:gdLst/>
                <a:ahLst/>
                <a:rect l="0" t="0" r="r" b="b"/>
                <a:pathLst>
                  <a:path w="292" h="296">
                    <a:moveTo>
                      <a:pt x="88" y="0"/>
                    </a:moveTo>
                    <a:lnTo>
                      <a:pt x="195" y="97"/>
                    </a:lnTo>
                    <a:lnTo>
                      <a:pt x="292" y="181"/>
                    </a:lnTo>
                    <a:lnTo>
                      <a:pt x="208" y="296"/>
                    </a:lnTo>
                    <a:lnTo>
                      <a:pt x="177" y="283"/>
                    </a:lnTo>
                    <a:lnTo>
                      <a:pt x="136" y="269"/>
                    </a:lnTo>
                    <a:lnTo>
                      <a:pt x="105" y="252"/>
                    </a:lnTo>
                    <a:lnTo>
                      <a:pt x="61" y="212"/>
                    </a:lnTo>
                    <a:lnTo>
                      <a:pt x="30" y="172"/>
                    </a:lnTo>
                    <a:lnTo>
                      <a:pt x="17" y="132"/>
                    </a:lnTo>
                    <a:lnTo>
                      <a:pt x="0" y="101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587840" y="1749600"/>
                <a:ext cx="106560" cy="103680"/>
              </a:xfrm>
              <a:custGeom>
                <a:avLst/>
                <a:gdLst/>
                <a:ahLst/>
                <a:rect l="0" t="0" r="r" b="b"/>
                <a:pathLst>
                  <a:path w="296" h="288">
                    <a:moveTo>
                      <a:pt x="83" y="0"/>
                    </a:moveTo>
                    <a:lnTo>
                      <a:pt x="195" y="89"/>
                    </a:lnTo>
                    <a:lnTo>
                      <a:pt x="296" y="168"/>
                    </a:lnTo>
                    <a:lnTo>
                      <a:pt x="203" y="288"/>
                    </a:lnTo>
                    <a:lnTo>
                      <a:pt x="168" y="279"/>
                    </a:lnTo>
                    <a:lnTo>
                      <a:pt x="132" y="266"/>
                    </a:lnTo>
                    <a:lnTo>
                      <a:pt x="105" y="248"/>
                    </a:lnTo>
                    <a:lnTo>
                      <a:pt x="61" y="212"/>
                    </a:lnTo>
                    <a:lnTo>
                      <a:pt x="26" y="164"/>
                    </a:lnTo>
                    <a:lnTo>
                      <a:pt x="8" y="133"/>
                    </a:lnTo>
                    <a:lnTo>
                      <a:pt x="0" y="98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"/>
          <p:cNvSpPr/>
          <p:nvPr/>
        </p:nvSpPr>
        <p:spPr>
          <a:xfrm>
            <a:off x="5157000" y="1460520"/>
            <a:ext cx="460440" cy="178920"/>
          </a:xfrm>
          <a:custGeom>
            <a:avLst/>
            <a:gdLst/>
            <a:ahLst/>
            <a:rect l="0" t="0" r="r" b="b"/>
            <a:pathLst>
              <a:path fill="none" w="1279" h="497">
                <a:moveTo>
                  <a:pt x="1279" y="497"/>
                </a:moveTo>
                <a:lnTo>
                  <a:pt x="1279" y="497"/>
                </a:lnTo>
                <a:cubicBezTo>
                  <a:pt x="1265" y="472"/>
                  <a:pt x="1249" y="447"/>
                  <a:pt x="1232" y="424"/>
                </a:cubicBezTo>
                <a:cubicBezTo>
                  <a:pt x="1139" y="295"/>
                  <a:pt x="1005" y="188"/>
                  <a:pt x="844" y="113"/>
                </a:cubicBezTo>
                <a:cubicBezTo>
                  <a:pt x="683" y="39"/>
                  <a:pt x="501" y="0"/>
                  <a:pt x="315" y="0"/>
                </a:cubicBezTo>
                <a:cubicBezTo>
                  <a:pt x="208" y="0"/>
                  <a:pt x="102" y="13"/>
                  <a:pt x="0" y="38"/>
                </a:cubicBez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481640" y="1346040"/>
            <a:ext cx="362160" cy="501840"/>
          </a:xfrm>
          <a:custGeom>
            <a:avLst/>
            <a:gdLst/>
            <a:ahLst/>
            <a:rect l="0" t="0" r="r" b="b"/>
            <a:pathLst>
              <a:path w="1006" h="1394">
                <a:moveTo>
                  <a:pt x="119" y="1312"/>
                </a:moveTo>
                <a:lnTo>
                  <a:pt x="119" y="1189"/>
                </a:lnTo>
                <a:lnTo>
                  <a:pt x="119" y="1066"/>
                </a:lnTo>
                <a:lnTo>
                  <a:pt x="119" y="1005"/>
                </a:lnTo>
                <a:lnTo>
                  <a:pt x="105" y="923"/>
                </a:lnTo>
                <a:lnTo>
                  <a:pt x="92" y="861"/>
                </a:lnTo>
                <a:lnTo>
                  <a:pt x="79" y="800"/>
                </a:lnTo>
                <a:lnTo>
                  <a:pt x="52" y="738"/>
                </a:lnTo>
                <a:lnTo>
                  <a:pt x="52" y="655"/>
                </a:lnTo>
                <a:lnTo>
                  <a:pt x="39" y="594"/>
                </a:lnTo>
                <a:lnTo>
                  <a:pt x="26" y="532"/>
                </a:lnTo>
                <a:lnTo>
                  <a:pt x="13" y="409"/>
                </a:lnTo>
                <a:lnTo>
                  <a:pt x="13" y="348"/>
                </a:lnTo>
                <a:lnTo>
                  <a:pt x="0" y="266"/>
                </a:lnTo>
                <a:lnTo>
                  <a:pt x="0" y="143"/>
                </a:lnTo>
                <a:lnTo>
                  <a:pt x="0" y="61"/>
                </a:lnTo>
                <a:lnTo>
                  <a:pt x="13" y="0"/>
                </a:lnTo>
                <a:lnTo>
                  <a:pt x="145" y="102"/>
                </a:lnTo>
                <a:lnTo>
                  <a:pt x="132" y="184"/>
                </a:lnTo>
                <a:lnTo>
                  <a:pt x="105" y="245"/>
                </a:lnTo>
                <a:lnTo>
                  <a:pt x="66" y="307"/>
                </a:lnTo>
                <a:lnTo>
                  <a:pt x="92" y="512"/>
                </a:lnTo>
                <a:lnTo>
                  <a:pt x="119" y="635"/>
                </a:lnTo>
                <a:lnTo>
                  <a:pt x="158" y="696"/>
                </a:lnTo>
                <a:lnTo>
                  <a:pt x="158" y="820"/>
                </a:lnTo>
                <a:lnTo>
                  <a:pt x="171" y="964"/>
                </a:lnTo>
                <a:lnTo>
                  <a:pt x="211" y="1025"/>
                </a:lnTo>
                <a:lnTo>
                  <a:pt x="264" y="984"/>
                </a:lnTo>
                <a:lnTo>
                  <a:pt x="277" y="923"/>
                </a:lnTo>
                <a:lnTo>
                  <a:pt x="277" y="841"/>
                </a:lnTo>
                <a:lnTo>
                  <a:pt x="291" y="779"/>
                </a:lnTo>
                <a:lnTo>
                  <a:pt x="304" y="718"/>
                </a:lnTo>
                <a:lnTo>
                  <a:pt x="357" y="655"/>
                </a:lnTo>
                <a:lnTo>
                  <a:pt x="396" y="614"/>
                </a:lnTo>
                <a:lnTo>
                  <a:pt x="423" y="676"/>
                </a:lnTo>
                <a:lnTo>
                  <a:pt x="423" y="759"/>
                </a:lnTo>
                <a:lnTo>
                  <a:pt x="383" y="800"/>
                </a:lnTo>
                <a:lnTo>
                  <a:pt x="370" y="861"/>
                </a:lnTo>
                <a:lnTo>
                  <a:pt x="370" y="923"/>
                </a:lnTo>
                <a:lnTo>
                  <a:pt x="370" y="984"/>
                </a:lnTo>
                <a:lnTo>
                  <a:pt x="410" y="984"/>
                </a:lnTo>
                <a:lnTo>
                  <a:pt x="449" y="923"/>
                </a:lnTo>
                <a:lnTo>
                  <a:pt x="489" y="882"/>
                </a:lnTo>
                <a:lnTo>
                  <a:pt x="502" y="800"/>
                </a:lnTo>
                <a:lnTo>
                  <a:pt x="516" y="738"/>
                </a:lnTo>
                <a:lnTo>
                  <a:pt x="530" y="676"/>
                </a:lnTo>
                <a:lnTo>
                  <a:pt x="556" y="594"/>
                </a:lnTo>
                <a:lnTo>
                  <a:pt x="596" y="532"/>
                </a:lnTo>
                <a:lnTo>
                  <a:pt x="636" y="512"/>
                </a:lnTo>
                <a:lnTo>
                  <a:pt x="675" y="512"/>
                </a:lnTo>
                <a:lnTo>
                  <a:pt x="662" y="594"/>
                </a:lnTo>
                <a:lnTo>
                  <a:pt x="636" y="759"/>
                </a:lnTo>
                <a:lnTo>
                  <a:pt x="596" y="820"/>
                </a:lnTo>
                <a:lnTo>
                  <a:pt x="583" y="882"/>
                </a:lnTo>
                <a:lnTo>
                  <a:pt x="583" y="943"/>
                </a:lnTo>
                <a:lnTo>
                  <a:pt x="622" y="984"/>
                </a:lnTo>
                <a:lnTo>
                  <a:pt x="662" y="984"/>
                </a:lnTo>
                <a:lnTo>
                  <a:pt x="702" y="964"/>
                </a:lnTo>
                <a:lnTo>
                  <a:pt x="741" y="923"/>
                </a:lnTo>
                <a:lnTo>
                  <a:pt x="781" y="861"/>
                </a:lnTo>
                <a:lnTo>
                  <a:pt x="821" y="820"/>
                </a:lnTo>
                <a:lnTo>
                  <a:pt x="860" y="800"/>
                </a:lnTo>
                <a:lnTo>
                  <a:pt x="913" y="800"/>
                </a:lnTo>
                <a:lnTo>
                  <a:pt x="953" y="800"/>
                </a:lnTo>
                <a:lnTo>
                  <a:pt x="993" y="820"/>
                </a:lnTo>
                <a:lnTo>
                  <a:pt x="1006" y="902"/>
                </a:lnTo>
                <a:lnTo>
                  <a:pt x="1006" y="964"/>
                </a:lnTo>
                <a:lnTo>
                  <a:pt x="966" y="1005"/>
                </a:lnTo>
                <a:lnTo>
                  <a:pt x="927" y="1025"/>
                </a:lnTo>
                <a:lnTo>
                  <a:pt x="874" y="1025"/>
                </a:lnTo>
                <a:lnTo>
                  <a:pt x="834" y="1046"/>
                </a:lnTo>
                <a:lnTo>
                  <a:pt x="794" y="1066"/>
                </a:lnTo>
                <a:lnTo>
                  <a:pt x="781" y="1128"/>
                </a:lnTo>
                <a:lnTo>
                  <a:pt x="781" y="1210"/>
                </a:lnTo>
                <a:lnTo>
                  <a:pt x="807" y="1271"/>
                </a:lnTo>
                <a:lnTo>
                  <a:pt x="834" y="1332"/>
                </a:lnTo>
                <a:lnTo>
                  <a:pt x="807" y="1394"/>
                </a:lnTo>
                <a:lnTo>
                  <a:pt x="768" y="1394"/>
                </a:lnTo>
                <a:lnTo>
                  <a:pt x="675" y="1332"/>
                </a:lnTo>
                <a:lnTo>
                  <a:pt x="569" y="1210"/>
                </a:lnTo>
                <a:lnTo>
                  <a:pt x="530" y="1169"/>
                </a:lnTo>
                <a:lnTo>
                  <a:pt x="489" y="1251"/>
                </a:lnTo>
                <a:lnTo>
                  <a:pt x="449" y="1312"/>
                </a:lnTo>
                <a:lnTo>
                  <a:pt x="410" y="1353"/>
                </a:lnTo>
                <a:lnTo>
                  <a:pt x="277" y="1332"/>
                </a:lnTo>
                <a:lnTo>
                  <a:pt x="198" y="1312"/>
                </a:lnTo>
                <a:lnTo>
                  <a:pt x="119" y="1312"/>
                </a:lnTo>
                <a:close/>
              </a:path>
            </a:pathLst>
          </a:custGeom>
          <a:solidFill>
            <a:srgbClr val="ff99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195880" y="1549440"/>
            <a:ext cx="316800" cy="134640"/>
          </a:xfrm>
          <a:custGeom>
            <a:avLst/>
            <a:gdLst/>
            <a:ahLst/>
            <a:rect l="0" t="0" r="r" b="b"/>
            <a:pathLst>
              <a:path fill="none" w="880" h="374">
                <a:moveTo>
                  <a:pt x="880" y="374"/>
                </a:moveTo>
                <a:lnTo>
                  <a:pt x="880" y="374"/>
                </a:lnTo>
                <a:cubicBezTo>
                  <a:pt x="870" y="355"/>
                  <a:pt x="859" y="337"/>
                  <a:pt x="847" y="319"/>
                </a:cubicBezTo>
                <a:cubicBezTo>
                  <a:pt x="784" y="222"/>
                  <a:pt x="692" y="142"/>
                  <a:pt x="581" y="86"/>
                </a:cubicBezTo>
                <a:cubicBezTo>
                  <a:pt x="470" y="30"/>
                  <a:pt x="344" y="0"/>
                  <a:pt x="216" y="0"/>
                </a:cubicBezTo>
                <a:cubicBezTo>
                  <a:pt x="143" y="0"/>
                  <a:pt x="70" y="10"/>
                  <a:pt x="0" y="29"/>
                </a:cubicBez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424480" y="1695600"/>
            <a:ext cx="410040" cy="252720"/>
          </a:xfrm>
          <a:custGeom>
            <a:avLst/>
            <a:gdLst/>
            <a:ahLst/>
            <a:rect l="0" t="0" r="r" b="b"/>
            <a:pathLst>
              <a:path fill="none" w="1139" h="702">
                <a:moveTo>
                  <a:pt x="132" y="198"/>
                </a:moveTo>
                <a:lnTo>
                  <a:pt x="52" y="304"/>
                </a:lnTo>
                <a:lnTo>
                  <a:pt x="0" y="437"/>
                </a:lnTo>
                <a:lnTo>
                  <a:pt x="13" y="556"/>
                </a:lnTo>
                <a:lnTo>
                  <a:pt x="52" y="649"/>
                </a:lnTo>
                <a:lnTo>
                  <a:pt x="158" y="702"/>
                </a:lnTo>
                <a:lnTo>
                  <a:pt x="264" y="702"/>
                </a:lnTo>
                <a:lnTo>
                  <a:pt x="292" y="596"/>
                </a:lnTo>
                <a:lnTo>
                  <a:pt x="331" y="503"/>
                </a:lnTo>
                <a:lnTo>
                  <a:pt x="503" y="662"/>
                </a:lnTo>
                <a:lnTo>
                  <a:pt x="636" y="675"/>
                </a:lnTo>
                <a:lnTo>
                  <a:pt x="728" y="609"/>
                </a:lnTo>
                <a:lnTo>
                  <a:pt x="781" y="530"/>
                </a:lnTo>
                <a:lnTo>
                  <a:pt x="794" y="424"/>
                </a:lnTo>
                <a:lnTo>
                  <a:pt x="781" y="384"/>
                </a:lnTo>
                <a:lnTo>
                  <a:pt x="888" y="464"/>
                </a:lnTo>
                <a:lnTo>
                  <a:pt x="1007" y="464"/>
                </a:lnTo>
                <a:lnTo>
                  <a:pt x="1113" y="371"/>
                </a:lnTo>
                <a:lnTo>
                  <a:pt x="1139" y="264"/>
                </a:lnTo>
                <a:lnTo>
                  <a:pt x="1100" y="145"/>
                </a:lnTo>
                <a:lnTo>
                  <a:pt x="994" y="26"/>
                </a:lnTo>
                <a:lnTo>
                  <a:pt x="861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886200" y="137160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Haettenschweiler"/>
                <a:ea typeface="Haettenschweiler"/>
              </a:rPr>
              <a:t>SPLAT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2523960" y="5708520"/>
            <a:ext cx="859320" cy="624240"/>
            <a:chOff x="2523960" y="5708520"/>
            <a:chExt cx="859320" cy="624240"/>
          </a:xfrm>
        </p:grpSpPr>
        <p:grpSp>
          <p:nvGrpSpPr>
            <p:cNvPr id="719" name=""/>
            <p:cNvGrpSpPr/>
            <p:nvPr/>
          </p:nvGrpSpPr>
          <p:grpSpPr>
            <a:xfrm>
              <a:off x="2523960" y="5708520"/>
              <a:ext cx="859320" cy="624240"/>
              <a:chOff x="2523960" y="5708520"/>
              <a:chExt cx="859320" cy="624240"/>
            </a:xfrm>
          </p:grpSpPr>
          <p:sp>
            <p:nvSpPr>
              <p:cNvPr id="720" name=""/>
              <p:cNvSpPr/>
              <p:nvPr/>
            </p:nvSpPr>
            <p:spPr>
              <a:xfrm>
                <a:off x="2540160" y="5934240"/>
                <a:ext cx="814680" cy="352800"/>
              </a:xfrm>
              <a:custGeom>
                <a:avLst/>
                <a:gdLst/>
                <a:ahLst/>
                <a:rect l="0" t="0" r="r" b="b"/>
                <a:pathLst>
                  <a:path w="2263" h="980">
                    <a:moveTo>
                      <a:pt x="79" y="980"/>
                    </a:moveTo>
                    <a:lnTo>
                      <a:pt x="238" y="371"/>
                    </a:lnTo>
                    <a:lnTo>
                      <a:pt x="542" y="66"/>
                    </a:lnTo>
                    <a:lnTo>
                      <a:pt x="648" y="105"/>
                    </a:lnTo>
                    <a:lnTo>
                      <a:pt x="859" y="39"/>
                    </a:lnTo>
                    <a:lnTo>
                      <a:pt x="1337" y="0"/>
                    </a:lnTo>
                    <a:lnTo>
                      <a:pt x="1786" y="26"/>
                    </a:lnTo>
                    <a:lnTo>
                      <a:pt x="2197" y="26"/>
                    </a:lnTo>
                    <a:lnTo>
                      <a:pt x="2263" y="145"/>
                    </a:lnTo>
                    <a:lnTo>
                      <a:pt x="2183" y="238"/>
                    </a:lnTo>
                    <a:lnTo>
                      <a:pt x="2223" y="265"/>
                    </a:lnTo>
                    <a:lnTo>
                      <a:pt x="2249" y="437"/>
                    </a:lnTo>
                    <a:lnTo>
                      <a:pt x="2236" y="861"/>
                    </a:lnTo>
                    <a:lnTo>
                      <a:pt x="2263" y="954"/>
                    </a:lnTo>
                    <a:lnTo>
                      <a:pt x="1681" y="901"/>
                    </a:lnTo>
                    <a:lnTo>
                      <a:pt x="846" y="914"/>
                    </a:lnTo>
                    <a:lnTo>
                      <a:pt x="330" y="941"/>
                    </a:lnTo>
                    <a:lnTo>
                      <a:pt x="92" y="928"/>
                    </a:lnTo>
                    <a:lnTo>
                      <a:pt x="0" y="875"/>
                    </a:lnTo>
                    <a:lnTo>
                      <a:pt x="79" y="9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1" name=""/>
              <p:cNvGrpSpPr/>
              <p:nvPr/>
            </p:nvGrpSpPr>
            <p:grpSpPr>
              <a:xfrm>
                <a:off x="2523960" y="5708520"/>
                <a:ext cx="859320" cy="624240"/>
                <a:chOff x="2523960" y="5708520"/>
                <a:chExt cx="859320" cy="624240"/>
              </a:xfrm>
            </p:grpSpPr>
            <p:grpSp>
              <p:nvGrpSpPr>
                <p:cNvPr id="722" name=""/>
                <p:cNvGrpSpPr/>
                <p:nvPr/>
              </p:nvGrpSpPr>
              <p:grpSpPr>
                <a:xfrm>
                  <a:off x="2730600" y="5708520"/>
                  <a:ext cx="636480" cy="263520"/>
                  <a:chOff x="2730600" y="5708520"/>
                  <a:chExt cx="636480" cy="263520"/>
                </a:xfrm>
              </p:grpSpPr>
              <p:sp>
                <p:nvSpPr>
                  <p:cNvPr id="723" name=""/>
                  <p:cNvSpPr/>
                  <p:nvPr/>
                </p:nvSpPr>
                <p:spPr>
                  <a:xfrm>
                    <a:off x="2730600" y="5754600"/>
                    <a:ext cx="19080" cy="217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 flipV="1">
                    <a:off x="2854440" y="5729400"/>
                    <a:ext cx="6120" cy="217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V="1">
                    <a:off x="3016080" y="5708520"/>
                    <a:ext cx="24120" cy="2304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flipV="1">
                    <a:off x="3179880" y="5746680"/>
                    <a:ext cx="44280" cy="20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 flipV="1">
                    <a:off x="3321000" y="5769000"/>
                    <a:ext cx="46080" cy="1810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8" name=""/>
                <p:cNvSpPr/>
                <p:nvPr/>
              </p:nvSpPr>
              <p:spPr>
                <a:xfrm>
                  <a:off x="2541600" y="5962680"/>
                  <a:ext cx="824400" cy="329040"/>
                </a:xfrm>
                <a:custGeom>
                  <a:avLst/>
                  <a:gdLst/>
                  <a:ahLst/>
                  <a:rect l="0" t="0" r="r" b="b"/>
                  <a:pathLst>
                    <a:path fill="none" w="2290" h="914">
                      <a:moveTo>
                        <a:pt x="498" y="0"/>
                      </a:moveTo>
                      <a:lnTo>
                        <a:pt x="194" y="283"/>
                      </a:lnTo>
                      <a:lnTo>
                        <a:pt x="70" y="703"/>
                      </a:lnTo>
                      <a:lnTo>
                        <a:pt x="0" y="914"/>
                      </a:lnTo>
                      <a:lnTo>
                        <a:pt x="2268" y="905"/>
                      </a:lnTo>
                      <a:lnTo>
                        <a:pt x="2290" y="92"/>
                      </a:lnTo>
                      <a:lnTo>
                        <a:pt x="2206" y="202"/>
                      </a:lnTo>
                    </a:path>
                  </a:pathLst>
                </a:custGeom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2523960" y="6249960"/>
                  <a:ext cx="859320" cy="82800"/>
                </a:xfrm>
                <a:custGeom>
                  <a:avLst/>
                  <a:gdLst/>
                  <a:ahLst/>
                  <a:rect l="0" t="0" r="r" b="b"/>
                  <a:pathLst>
                    <a:path w="2387" h="230">
                      <a:moveTo>
                        <a:pt x="66" y="114"/>
                      </a:moveTo>
                      <a:lnTo>
                        <a:pt x="119" y="114"/>
                      </a:lnTo>
                      <a:lnTo>
                        <a:pt x="154" y="88"/>
                      </a:lnTo>
                      <a:lnTo>
                        <a:pt x="194" y="83"/>
                      </a:lnTo>
                      <a:lnTo>
                        <a:pt x="233" y="83"/>
                      </a:lnTo>
                      <a:lnTo>
                        <a:pt x="242" y="39"/>
                      </a:lnTo>
                      <a:lnTo>
                        <a:pt x="282" y="39"/>
                      </a:lnTo>
                      <a:lnTo>
                        <a:pt x="339" y="48"/>
                      </a:lnTo>
                      <a:lnTo>
                        <a:pt x="374" y="61"/>
                      </a:lnTo>
                      <a:lnTo>
                        <a:pt x="418" y="57"/>
                      </a:lnTo>
                      <a:lnTo>
                        <a:pt x="454" y="39"/>
                      </a:lnTo>
                      <a:lnTo>
                        <a:pt x="498" y="39"/>
                      </a:lnTo>
                      <a:lnTo>
                        <a:pt x="533" y="35"/>
                      </a:lnTo>
                      <a:lnTo>
                        <a:pt x="577" y="48"/>
                      </a:lnTo>
                      <a:lnTo>
                        <a:pt x="613" y="48"/>
                      </a:lnTo>
                      <a:lnTo>
                        <a:pt x="658" y="44"/>
                      </a:lnTo>
                      <a:lnTo>
                        <a:pt x="693" y="44"/>
                      </a:lnTo>
                      <a:lnTo>
                        <a:pt x="733" y="30"/>
                      </a:lnTo>
                      <a:lnTo>
                        <a:pt x="777" y="26"/>
                      </a:lnTo>
                      <a:lnTo>
                        <a:pt x="816" y="61"/>
                      </a:lnTo>
                      <a:lnTo>
                        <a:pt x="856" y="74"/>
                      </a:lnTo>
                      <a:lnTo>
                        <a:pt x="896" y="74"/>
                      </a:lnTo>
                      <a:lnTo>
                        <a:pt x="949" y="39"/>
                      </a:lnTo>
                      <a:lnTo>
                        <a:pt x="1002" y="39"/>
                      </a:lnTo>
                      <a:lnTo>
                        <a:pt x="1050" y="26"/>
                      </a:lnTo>
                      <a:lnTo>
                        <a:pt x="1090" y="22"/>
                      </a:lnTo>
                      <a:lnTo>
                        <a:pt x="1196" y="30"/>
                      </a:lnTo>
                      <a:lnTo>
                        <a:pt x="1253" y="44"/>
                      </a:lnTo>
                      <a:lnTo>
                        <a:pt x="1306" y="26"/>
                      </a:lnTo>
                      <a:lnTo>
                        <a:pt x="1354" y="22"/>
                      </a:lnTo>
                      <a:lnTo>
                        <a:pt x="1438" y="17"/>
                      </a:lnTo>
                      <a:lnTo>
                        <a:pt x="1473" y="0"/>
                      </a:lnTo>
                      <a:lnTo>
                        <a:pt x="1517" y="13"/>
                      </a:lnTo>
                      <a:lnTo>
                        <a:pt x="1557" y="13"/>
                      </a:lnTo>
                      <a:lnTo>
                        <a:pt x="1597" y="8"/>
                      </a:lnTo>
                      <a:lnTo>
                        <a:pt x="1637" y="8"/>
                      </a:lnTo>
                      <a:lnTo>
                        <a:pt x="1685" y="17"/>
                      </a:lnTo>
                      <a:lnTo>
                        <a:pt x="1769" y="26"/>
                      </a:lnTo>
                      <a:lnTo>
                        <a:pt x="1845" y="22"/>
                      </a:lnTo>
                      <a:lnTo>
                        <a:pt x="1889" y="35"/>
                      </a:lnTo>
                      <a:lnTo>
                        <a:pt x="1929" y="48"/>
                      </a:lnTo>
                      <a:lnTo>
                        <a:pt x="1973" y="44"/>
                      </a:lnTo>
                      <a:lnTo>
                        <a:pt x="2008" y="44"/>
                      </a:lnTo>
                      <a:lnTo>
                        <a:pt x="2048" y="39"/>
                      </a:lnTo>
                      <a:lnTo>
                        <a:pt x="2096" y="35"/>
                      </a:lnTo>
                      <a:lnTo>
                        <a:pt x="2140" y="30"/>
                      </a:lnTo>
                      <a:lnTo>
                        <a:pt x="2180" y="44"/>
                      </a:lnTo>
                      <a:lnTo>
                        <a:pt x="2220" y="57"/>
                      </a:lnTo>
                      <a:lnTo>
                        <a:pt x="2273" y="52"/>
                      </a:lnTo>
                      <a:lnTo>
                        <a:pt x="2325" y="61"/>
                      </a:lnTo>
                      <a:lnTo>
                        <a:pt x="2370" y="88"/>
                      </a:lnTo>
                      <a:lnTo>
                        <a:pt x="2383" y="128"/>
                      </a:lnTo>
                      <a:lnTo>
                        <a:pt x="2387" y="168"/>
                      </a:lnTo>
                      <a:lnTo>
                        <a:pt x="2347" y="168"/>
                      </a:lnTo>
                      <a:lnTo>
                        <a:pt x="2308" y="172"/>
                      </a:lnTo>
                      <a:lnTo>
                        <a:pt x="2250" y="172"/>
                      </a:lnTo>
                      <a:lnTo>
                        <a:pt x="2215" y="177"/>
                      </a:lnTo>
                      <a:lnTo>
                        <a:pt x="2175" y="195"/>
                      </a:lnTo>
                      <a:lnTo>
                        <a:pt x="2136" y="195"/>
                      </a:lnTo>
                      <a:lnTo>
                        <a:pt x="2096" y="195"/>
                      </a:lnTo>
                      <a:lnTo>
                        <a:pt x="2004" y="186"/>
                      </a:lnTo>
                      <a:lnTo>
                        <a:pt x="1964" y="177"/>
                      </a:lnTo>
                      <a:lnTo>
                        <a:pt x="1924" y="177"/>
                      </a:lnTo>
                      <a:lnTo>
                        <a:pt x="1884" y="208"/>
                      </a:lnTo>
                      <a:lnTo>
                        <a:pt x="1845" y="221"/>
                      </a:lnTo>
                      <a:lnTo>
                        <a:pt x="1805" y="225"/>
                      </a:lnTo>
                      <a:lnTo>
                        <a:pt x="1764" y="225"/>
                      </a:lnTo>
                      <a:lnTo>
                        <a:pt x="1725" y="230"/>
                      </a:lnTo>
                      <a:lnTo>
                        <a:pt x="1650" y="230"/>
                      </a:lnTo>
                      <a:lnTo>
                        <a:pt x="1592" y="225"/>
                      </a:lnTo>
                      <a:lnTo>
                        <a:pt x="1553" y="225"/>
                      </a:lnTo>
                      <a:lnTo>
                        <a:pt x="1447" y="217"/>
                      </a:lnTo>
                      <a:lnTo>
                        <a:pt x="1407" y="221"/>
                      </a:lnTo>
                      <a:lnTo>
                        <a:pt x="1363" y="208"/>
                      </a:lnTo>
                      <a:lnTo>
                        <a:pt x="1275" y="199"/>
                      </a:lnTo>
                      <a:lnTo>
                        <a:pt x="1169" y="203"/>
                      </a:lnTo>
                      <a:lnTo>
                        <a:pt x="1129" y="181"/>
                      </a:lnTo>
                      <a:lnTo>
                        <a:pt x="1076" y="181"/>
                      </a:lnTo>
                      <a:lnTo>
                        <a:pt x="984" y="203"/>
                      </a:lnTo>
                      <a:lnTo>
                        <a:pt x="944" y="203"/>
                      </a:lnTo>
                      <a:lnTo>
                        <a:pt x="891" y="208"/>
                      </a:lnTo>
                      <a:lnTo>
                        <a:pt x="812" y="212"/>
                      </a:lnTo>
                      <a:lnTo>
                        <a:pt x="755" y="212"/>
                      </a:lnTo>
                      <a:lnTo>
                        <a:pt x="702" y="217"/>
                      </a:lnTo>
                      <a:lnTo>
                        <a:pt x="622" y="221"/>
                      </a:lnTo>
                      <a:lnTo>
                        <a:pt x="586" y="221"/>
                      </a:lnTo>
                      <a:lnTo>
                        <a:pt x="546" y="212"/>
                      </a:lnTo>
                      <a:lnTo>
                        <a:pt x="436" y="217"/>
                      </a:lnTo>
                      <a:lnTo>
                        <a:pt x="383" y="203"/>
                      </a:lnTo>
                      <a:lnTo>
                        <a:pt x="348" y="208"/>
                      </a:lnTo>
                      <a:lnTo>
                        <a:pt x="238" y="199"/>
                      </a:lnTo>
                      <a:lnTo>
                        <a:pt x="185" y="190"/>
                      </a:lnTo>
                      <a:lnTo>
                        <a:pt x="149" y="190"/>
                      </a:lnTo>
                      <a:lnTo>
                        <a:pt x="13" y="172"/>
                      </a:lnTo>
                      <a:lnTo>
                        <a:pt x="0" y="133"/>
                      </a:lnTo>
                      <a:lnTo>
                        <a:pt x="66" y="114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0">
                  <a:noFill/>
                </a:ln>
              </p:spPr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3079800" y="6046920"/>
                  <a:ext cx="197280" cy="151200"/>
                </a:xfrm>
                <a:custGeom>
                  <a:avLst/>
                  <a:gdLst/>
                  <a:ahLst/>
                  <a:rect l="0" t="0" r="r" b="b"/>
                  <a:pathLst>
                    <a:path w="548" h="420">
                      <a:moveTo>
                        <a:pt x="429" y="208"/>
                      </a:moveTo>
                      <a:lnTo>
                        <a:pt x="336" y="217"/>
                      </a:lnTo>
                      <a:lnTo>
                        <a:pt x="296" y="230"/>
                      </a:lnTo>
                      <a:lnTo>
                        <a:pt x="190" y="239"/>
                      </a:lnTo>
                      <a:lnTo>
                        <a:pt x="168" y="287"/>
                      </a:lnTo>
                      <a:lnTo>
                        <a:pt x="159" y="332"/>
                      </a:lnTo>
                      <a:lnTo>
                        <a:pt x="132" y="372"/>
                      </a:lnTo>
                      <a:lnTo>
                        <a:pt x="92" y="403"/>
                      </a:lnTo>
                      <a:lnTo>
                        <a:pt x="177" y="412"/>
                      </a:lnTo>
                      <a:lnTo>
                        <a:pt x="256" y="420"/>
                      </a:lnTo>
                      <a:lnTo>
                        <a:pt x="292" y="416"/>
                      </a:lnTo>
                      <a:lnTo>
                        <a:pt x="305" y="337"/>
                      </a:lnTo>
                      <a:lnTo>
                        <a:pt x="274" y="296"/>
                      </a:lnTo>
                      <a:lnTo>
                        <a:pt x="358" y="278"/>
                      </a:lnTo>
                      <a:lnTo>
                        <a:pt x="406" y="305"/>
                      </a:lnTo>
                      <a:lnTo>
                        <a:pt x="447" y="328"/>
                      </a:lnTo>
                      <a:lnTo>
                        <a:pt x="478" y="385"/>
                      </a:lnTo>
                      <a:lnTo>
                        <a:pt x="522" y="407"/>
                      </a:lnTo>
                      <a:lnTo>
                        <a:pt x="548" y="363"/>
                      </a:lnTo>
                      <a:lnTo>
                        <a:pt x="544" y="283"/>
                      </a:lnTo>
                      <a:lnTo>
                        <a:pt x="535" y="234"/>
                      </a:lnTo>
                      <a:lnTo>
                        <a:pt x="535" y="181"/>
                      </a:lnTo>
                      <a:lnTo>
                        <a:pt x="504" y="124"/>
                      </a:lnTo>
                      <a:lnTo>
                        <a:pt x="465" y="101"/>
                      </a:lnTo>
                      <a:lnTo>
                        <a:pt x="425" y="101"/>
                      </a:lnTo>
                      <a:lnTo>
                        <a:pt x="371" y="79"/>
                      </a:lnTo>
                      <a:lnTo>
                        <a:pt x="344" y="39"/>
                      </a:lnTo>
                      <a:lnTo>
                        <a:pt x="300" y="30"/>
                      </a:lnTo>
                      <a:lnTo>
                        <a:pt x="208" y="8"/>
                      </a:lnTo>
                      <a:lnTo>
                        <a:pt x="127" y="0"/>
                      </a:lnTo>
                      <a:lnTo>
                        <a:pt x="88" y="4"/>
                      </a:lnTo>
                      <a:lnTo>
                        <a:pt x="48" y="4"/>
                      </a:lnTo>
                      <a:lnTo>
                        <a:pt x="8" y="17"/>
                      </a:lnTo>
                      <a:lnTo>
                        <a:pt x="0" y="115"/>
                      </a:lnTo>
                      <a:lnTo>
                        <a:pt x="17" y="168"/>
                      </a:lnTo>
                      <a:lnTo>
                        <a:pt x="70" y="190"/>
                      </a:lnTo>
                      <a:lnTo>
                        <a:pt x="110" y="190"/>
                      </a:lnTo>
                      <a:lnTo>
                        <a:pt x="164" y="172"/>
                      </a:lnTo>
                      <a:lnTo>
                        <a:pt x="203" y="172"/>
                      </a:lnTo>
                      <a:lnTo>
                        <a:pt x="239" y="155"/>
                      </a:lnTo>
                      <a:lnTo>
                        <a:pt x="349" y="177"/>
                      </a:lnTo>
                      <a:lnTo>
                        <a:pt x="429" y="208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2719440" y="6122880"/>
                  <a:ext cx="241560" cy="84600"/>
                </a:xfrm>
                <a:custGeom>
                  <a:avLst/>
                  <a:gdLst/>
                  <a:ahLst/>
                  <a:rect l="0" t="0" r="r" b="b"/>
                  <a:pathLst>
                    <a:path w="671" h="235">
                      <a:moveTo>
                        <a:pt x="583" y="52"/>
                      </a:moveTo>
                      <a:lnTo>
                        <a:pt x="508" y="75"/>
                      </a:lnTo>
                      <a:lnTo>
                        <a:pt x="349" y="111"/>
                      </a:lnTo>
                      <a:lnTo>
                        <a:pt x="273" y="124"/>
                      </a:lnTo>
                      <a:lnTo>
                        <a:pt x="233" y="142"/>
                      </a:lnTo>
                      <a:lnTo>
                        <a:pt x="194" y="146"/>
                      </a:lnTo>
                      <a:lnTo>
                        <a:pt x="154" y="159"/>
                      </a:lnTo>
                      <a:lnTo>
                        <a:pt x="101" y="159"/>
                      </a:lnTo>
                      <a:lnTo>
                        <a:pt x="57" y="164"/>
                      </a:lnTo>
                      <a:lnTo>
                        <a:pt x="22" y="128"/>
                      </a:lnTo>
                      <a:lnTo>
                        <a:pt x="0" y="75"/>
                      </a:lnTo>
                      <a:lnTo>
                        <a:pt x="52" y="30"/>
                      </a:lnTo>
                      <a:lnTo>
                        <a:pt x="92" y="26"/>
                      </a:lnTo>
                      <a:lnTo>
                        <a:pt x="132" y="39"/>
                      </a:lnTo>
                      <a:lnTo>
                        <a:pt x="163" y="89"/>
                      </a:lnTo>
                      <a:lnTo>
                        <a:pt x="202" y="89"/>
                      </a:lnTo>
                      <a:lnTo>
                        <a:pt x="238" y="57"/>
                      </a:lnTo>
                      <a:lnTo>
                        <a:pt x="277" y="30"/>
                      </a:lnTo>
                      <a:lnTo>
                        <a:pt x="317" y="0"/>
                      </a:lnTo>
                      <a:lnTo>
                        <a:pt x="349" y="39"/>
                      </a:lnTo>
                      <a:lnTo>
                        <a:pt x="402" y="67"/>
                      </a:lnTo>
                      <a:lnTo>
                        <a:pt x="437" y="48"/>
                      </a:lnTo>
                      <a:lnTo>
                        <a:pt x="477" y="35"/>
                      </a:lnTo>
                      <a:lnTo>
                        <a:pt x="521" y="22"/>
                      </a:lnTo>
                      <a:lnTo>
                        <a:pt x="583" y="52"/>
                      </a:lnTo>
                      <a:lnTo>
                        <a:pt x="644" y="93"/>
                      </a:lnTo>
                      <a:lnTo>
                        <a:pt x="671" y="128"/>
                      </a:lnTo>
                      <a:lnTo>
                        <a:pt x="671" y="172"/>
                      </a:lnTo>
                      <a:lnTo>
                        <a:pt x="636" y="200"/>
                      </a:lnTo>
                      <a:lnTo>
                        <a:pt x="583" y="226"/>
                      </a:lnTo>
                      <a:lnTo>
                        <a:pt x="543" y="231"/>
                      </a:lnTo>
                      <a:lnTo>
                        <a:pt x="503" y="235"/>
                      </a:lnTo>
                      <a:lnTo>
                        <a:pt x="486" y="182"/>
                      </a:lnTo>
                      <a:lnTo>
                        <a:pt x="538" y="150"/>
                      </a:lnTo>
                      <a:lnTo>
                        <a:pt x="578" y="111"/>
                      </a:lnTo>
                      <a:lnTo>
                        <a:pt x="534" y="84"/>
                      </a:lnTo>
                      <a:lnTo>
                        <a:pt x="583" y="52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0">
                  <a:noFill/>
                </a:ln>
              </p:spPr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2" name=""/>
            <p:cNvSpPr/>
            <p:nvPr/>
          </p:nvSpPr>
          <p:spPr>
            <a:xfrm>
              <a:off x="2549520" y="6267600"/>
              <a:ext cx="814680" cy="25920"/>
            </a:xfrm>
            <a:custGeom>
              <a:avLst/>
              <a:gdLst/>
              <a:ahLst/>
              <a:rect l="0" t="0" r="r" b="b"/>
              <a:pathLst>
                <a:path fill="none" w="2263" h="72">
                  <a:moveTo>
                    <a:pt x="0" y="72"/>
                  </a:moveTo>
                  <a:lnTo>
                    <a:pt x="343" y="72"/>
                  </a:lnTo>
                  <a:lnTo>
                    <a:pt x="1178" y="0"/>
                  </a:lnTo>
                  <a:lnTo>
                    <a:pt x="1707" y="36"/>
                  </a:lnTo>
                  <a:lnTo>
                    <a:pt x="2263" y="5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4064040" y="3467160"/>
            <a:ext cx="508320" cy="1740240"/>
            <a:chOff x="4064040" y="3467160"/>
            <a:chExt cx="508320" cy="1740240"/>
          </a:xfrm>
        </p:grpSpPr>
        <p:sp>
          <p:nvSpPr>
            <p:cNvPr id="734" name=""/>
            <p:cNvSpPr/>
            <p:nvPr/>
          </p:nvSpPr>
          <p:spPr>
            <a:xfrm>
              <a:off x="4149720" y="3814920"/>
              <a:ext cx="371880" cy="562320"/>
            </a:xfrm>
            <a:custGeom>
              <a:avLst/>
              <a:gdLst/>
              <a:ahLst/>
              <a:rect l="0" t="0" r="r" b="b"/>
              <a:pathLst>
                <a:path w="1033" h="1562">
                  <a:moveTo>
                    <a:pt x="264" y="62"/>
                  </a:moveTo>
                  <a:lnTo>
                    <a:pt x="317" y="22"/>
                  </a:lnTo>
                  <a:lnTo>
                    <a:pt x="370" y="0"/>
                  </a:lnTo>
                  <a:lnTo>
                    <a:pt x="423" y="22"/>
                  </a:lnTo>
                  <a:lnTo>
                    <a:pt x="505" y="40"/>
                  </a:lnTo>
                  <a:lnTo>
                    <a:pt x="634" y="0"/>
                  </a:lnTo>
                  <a:lnTo>
                    <a:pt x="686" y="0"/>
                  </a:lnTo>
                  <a:lnTo>
                    <a:pt x="769" y="0"/>
                  </a:lnTo>
                  <a:lnTo>
                    <a:pt x="769" y="62"/>
                  </a:lnTo>
                  <a:lnTo>
                    <a:pt x="769" y="80"/>
                  </a:lnTo>
                  <a:lnTo>
                    <a:pt x="686" y="142"/>
                  </a:lnTo>
                  <a:lnTo>
                    <a:pt x="716" y="227"/>
                  </a:lnTo>
                  <a:lnTo>
                    <a:pt x="716" y="289"/>
                  </a:lnTo>
                  <a:lnTo>
                    <a:pt x="769" y="330"/>
                  </a:lnTo>
                  <a:lnTo>
                    <a:pt x="822" y="392"/>
                  </a:lnTo>
                  <a:lnTo>
                    <a:pt x="793" y="535"/>
                  </a:lnTo>
                  <a:lnTo>
                    <a:pt x="739" y="637"/>
                  </a:lnTo>
                  <a:lnTo>
                    <a:pt x="793" y="700"/>
                  </a:lnTo>
                  <a:lnTo>
                    <a:pt x="875" y="780"/>
                  </a:lnTo>
                  <a:lnTo>
                    <a:pt x="951" y="861"/>
                  </a:lnTo>
                  <a:lnTo>
                    <a:pt x="981" y="924"/>
                  </a:lnTo>
                  <a:lnTo>
                    <a:pt x="1004" y="986"/>
                  </a:lnTo>
                  <a:lnTo>
                    <a:pt x="1033" y="1026"/>
                  </a:lnTo>
                  <a:lnTo>
                    <a:pt x="1033" y="1026"/>
                  </a:lnTo>
                  <a:lnTo>
                    <a:pt x="1004" y="1174"/>
                  </a:lnTo>
                  <a:lnTo>
                    <a:pt x="981" y="1294"/>
                  </a:lnTo>
                  <a:lnTo>
                    <a:pt x="951" y="1419"/>
                  </a:lnTo>
                  <a:lnTo>
                    <a:pt x="899" y="1562"/>
                  </a:lnTo>
                  <a:lnTo>
                    <a:pt x="899" y="1521"/>
                  </a:lnTo>
                  <a:lnTo>
                    <a:pt x="899" y="1481"/>
                  </a:lnTo>
                  <a:lnTo>
                    <a:pt x="928" y="1437"/>
                  </a:lnTo>
                  <a:lnTo>
                    <a:pt x="928" y="1419"/>
                  </a:lnTo>
                  <a:lnTo>
                    <a:pt x="899" y="1356"/>
                  </a:lnTo>
                  <a:lnTo>
                    <a:pt x="875" y="1276"/>
                  </a:lnTo>
                  <a:lnTo>
                    <a:pt x="899" y="1214"/>
                  </a:lnTo>
                  <a:lnTo>
                    <a:pt x="928" y="1191"/>
                  </a:lnTo>
                  <a:lnTo>
                    <a:pt x="928" y="1174"/>
                  </a:lnTo>
                  <a:lnTo>
                    <a:pt x="899" y="1049"/>
                  </a:lnTo>
                  <a:lnTo>
                    <a:pt x="846" y="986"/>
                  </a:lnTo>
                  <a:lnTo>
                    <a:pt x="793" y="946"/>
                  </a:lnTo>
                  <a:lnTo>
                    <a:pt x="739" y="884"/>
                  </a:lnTo>
                  <a:lnTo>
                    <a:pt x="686" y="821"/>
                  </a:lnTo>
                  <a:lnTo>
                    <a:pt x="634" y="861"/>
                  </a:lnTo>
                  <a:lnTo>
                    <a:pt x="581" y="884"/>
                  </a:lnTo>
                  <a:lnTo>
                    <a:pt x="528" y="906"/>
                  </a:lnTo>
                  <a:lnTo>
                    <a:pt x="505" y="924"/>
                  </a:lnTo>
                  <a:lnTo>
                    <a:pt x="475" y="924"/>
                  </a:lnTo>
                  <a:lnTo>
                    <a:pt x="475" y="843"/>
                  </a:lnTo>
                  <a:lnTo>
                    <a:pt x="475" y="821"/>
                  </a:lnTo>
                  <a:lnTo>
                    <a:pt x="475" y="803"/>
                  </a:lnTo>
                  <a:lnTo>
                    <a:pt x="505" y="758"/>
                  </a:lnTo>
                  <a:lnTo>
                    <a:pt x="528" y="718"/>
                  </a:lnTo>
                  <a:lnTo>
                    <a:pt x="528" y="718"/>
                  </a:lnTo>
                  <a:lnTo>
                    <a:pt x="528" y="740"/>
                  </a:lnTo>
                  <a:lnTo>
                    <a:pt x="528" y="758"/>
                  </a:lnTo>
                  <a:lnTo>
                    <a:pt x="505" y="780"/>
                  </a:lnTo>
                  <a:lnTo>
                    <a:pt x="452" y="758"/>
                  </a:lnTo>
                  <a:lnTo>
                    <a:pt x="423" y="740"/>
                  </a:lnTo>
                  <a:lnTo>
                    <a:pt x="399" y="740"/>
                  </a:lnTo>
                  <a:lnTo>
                    <a:pt x="370" y="758"/>
                  </a:lnTo>
                  <a:lnTo>
                    <a:pt x="346" y="780"/>
                  </a:lnTo>
                  <a:lnTo>
                    <a:pt x="264" y="718"/>
                  </a:lnTo>
                  <a:lnTo>
                    <a:pt x="240" y="780"/>
                  </a:lnTo>
                  <a:lnTo>
                    <a:pt x="211" y="803"/>
                  </a:lnTo>
                  <a:lnTo>
                    <a:pt x="158" y="780"/>
                  </a:lnTo>
                  <a:lnTo>
                    <a:pt x="52" y="758"/>
                  </a:lnTo>
                  <a:lnTo>
                    <a:pt x="23" y="740"/>
                  </a:lnTo>
                  <a:lnTo>
                    <a:pt x="0" y="700"/>
                  </a:lnTo>
                  <a:lnTo>
                    <a:pt x="23" y="677"/>
                  </a:lnTo>
                  <a:lnTo>
                    <a:pt x="52" y="677"/>
                  </a:lnTo>
                  <a:lnTo>
                    <a:pt x="158" y="700"/>
                  </a:lnTo>
                  <a:lnTo>
                    <a:pt x="264" y="718"/>
                  </a:lnTo>
                  <a:lnTo>
                    <a:pt x="264" y="718"/>
                  </a:lnTo>
                  <a:lnTo>
                    <a:pt x="240" y="700"/>
                  </a:lnTo>
                  <a:lnTo>
                    <a:pt x="211" y="677"/>
                  </a:lnTo>
                  <a:lnTo>
                    <a:pt x="187" y="655"/>
                  </a:lnTo>
                  <a:lnTo>
                    <a:pt x="187" y="637"/>
                  </a:lnTo>
                  <a:lnTo>
                    <a:pt x="187" y="597"/>
                  </a:lnTo>
                  <a:lnTo>
                    <a:pt x="211" y="553"/>
                  </a:lnTo>
                  <a:lnTo>
                    <a:pt x="240" y="535"/>
                  </a:lnTo>
                  <a:lnTo>
                    <a:pt x="240" y="472"/>
                  </a:lnTo>
                  <a:lnTo>
                    <a:pt x="240" y="410"/>
                  </a:lnTo>
                  <a:lnTo>
                    <a:pt x="240" y="267"/>
                  </a:lnTo>
                  <a:lnTo>
                    <a:pt x="187" y="227"/>
                  </a:lnTo>
                  <a:lnTo>
                    <a:pt x="158" y="205"/>
                  </a:lnTo>
                  <a:lnTo>
                    <a:pt x="158" y="182"/>
                  </a:lnTo>
                  <a:lnTo>
                    <a:pt x="187" y="165"/>
                  </a:lnTo>
                  <a:lnTo>
                    <a:pt x="211" y="142"/>
                  </a:lnTo>
                  <a:lnTo>
                    <a:pt x="211" y="124"/>
                  </a:lnTo>
                  <a:lnTo>
                    <a:pt x="264" y="6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332240" y="3998880"/>
              <a:ext cx="117720" cy="122760"/>
            </a:xfrm>
            <a:custGeom>
              <a:avLst/>
              <a:gdLst/>
              <a:ahLst/>
              <a:rect l="0" t="0" r="r" b="b"/>
              <a:pathLst>
                <a:path w="327" h="341">
                  <a:moveTo>
                    <a:pt x="67" y="200"/>
                  </a:moveTo>
                  <a:lnTo>
                    <a:pt x="67" y="140"/>
                  </a:lnTo>
                  <a:lnTo>
                    <a:pt x="101" y="76"/>
                  </a:lnTo>
                  <a:lnTo>
                    <a:pt x="173" y="38"/>
                  </a:lnTo>
                  <a:lnTo>
                    <a:pt x="241" y="0"/>
                  </a:lnTo>
                  <a:lnTo>
                    <a:pt x="278" y="25"/>
                  </a:lnTo>
                  <a:lnTo>
                    <a:pt x="327" y="63"/>
                  </a:lnTo>
                  <a:lnTo>
                    <a:pt x="327" y="89"/>
                  </a:lnTo>
                  <a:lnTo>
                    <a:pt x="327" y="89"/>
                  </a:lnTo>
                  <a:lnTo>
                    <a:pt x="293" y="89"/>
                  </a:lnTo>
                  <a:lnTo>
                    <a:pt x="226" y="127"/>
                  </a:lnTo>
                  <a:lnTo>
                    <a:pt x="153" y="178"/>
                  </a:lnTo>
                  <a:lnTo>
                    <a:pt x="138" y="239"/>
                  </a:lnTo>
                  <a:lnTo>
                    <a:pt x="138" y="265"/>
                  </a:lnTo>
                  <a:lnTo>
                    <a:pt x="120" y="290"/>
                  </a:lnTo>
                  <a:lnTo>
                    <a:pt x="101" y="316"/>
                  </a:lnTo>
                  <a:lnTo>
                    <a:pt x="67" y="328"/>
                  </a:lnTo>
                  <a:lnTo>
                    <a:pt x="48" y="341"/>
                  </a:lnTo>
                  <a:lnTo>
                    <a:pt x="33" y="341"/>
                  </a:lnTo>
                  <a:lnTo>
                    <a:pt x="0" y="316"/>
                  </a:lnTo>
                  <a:lnTo>
                    <a:pt x="0" y="290"/>
                  </a:lnTo>
                  <a:lnTo>
                    <a:pt x="15" y="278"/>
                  </a:lnTo>
                  <a:lnTo>
                    <a:pt x="33" y="226"/>
                  </a:lnTo>
                  <a:lnTo>
                    <a:pt x="48" y="213"/>
                  </a:lnTo>
                  <a:lnTo>
                    <a:pt x="67" y="213"/>
                  </a:lnTo>
                  <a:lnTo>
                    <a:pt x="67" y="20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064040" y="4125960"/>
              <a:ext cx="135360" cy="197280"/>
            </a:xfrm>
            <a:custGeom>
              <a:avLst/>
              <a:gdLst/>
              <a:ahLst/>
              <a:rect l="0" t="0" r="r" b="b"/>
              <a:pathLst>
                <a:path w="376" h="548">
                  <a:moveTo>
                    <a:pt x="285" y="429"/>
                  </a:moveTo>
                  <a:lnTo>
                    <a:pt x="211" y="326"/>
                  </a:lnTo>
                  <a:lnTo>
                    <a:pt x="137" y="207"/>
                  </a:lnTo>
                  <a:lnTo>
                    <a:pt x="137" y="148"/>
                  </a:lnTo>
                  <a:lnTo>
                    <a:pt x="137" y="87"/>
                  </a:lnTo>
                  <a:lnTo>
                    <a:pt x="165" y="42"/>
                  </a:lnTo>
                  <a:lnTo>
                    <a:pt x="211" y="0"/>
                  </a:lnTo>
                  <a:lnTo>
                    <a:pt x="225" y="28"/>
                  </a:lnTo>
                  <a:lnTo>
                    <a:pt x="256" y="42"/>
                  </a:lnTo>
                  <a:lnTo>
                    <a:pt x="270" y="73"/>
                  </a:lnTo>
                  <a:lnTo>
                    <a:pt x="270" y="87"/>
                  </a:lnTo>
                  <a:lnTo>
                    <a:pt x="197" y="119"/>
                  </a:lnTo>
                  <a:lnTo>
                    <a:pt x="120" y="148"/>
                  </a:lnTo>
                  <a:lnTo>
                    <a:pt x="151" y="162"/>
                  </a:lnTo>
                  <a:lnTo>
                    <a:pt x="165" y="162"/>
                  </a:lnTo>
                  <a:lnTo>
                    <a:pt x="197" y="162"/>
                  </a:lnTo>
                  <a:lnTo>
                    <a:pt x="211" y="162"/>
                  </a:lnTo>
                  <a:lnTo>
                    <a:pt x="239" y="179"/>
                  </a:lnTo>
                  <a:lnTo>
                    <a:pt x="299" y="193"/>
                  </a:lnTo>
                  <a:lnTo>
                    <a:pt x="317" y="207"/>
                  </a:lnTo>
                  <a:lnTo>
                    <a:pt x="331" y="207"/>
                  </a:lnTo>
                  <a:lnTo>
                    <a:pt x="359" y="267"/>
                  </a:lnTo>
                  <a:lnTo>
                    <a:pt x="376" y="326"/>
                  </a:lnTo>
                  <a:lnTo>
                    <a:pt x="359" y="372"/>
                  </a:lnTo>
                  <a:lnTo>
                    <a:pt x="331" y="400"/>
                  </a:lnTo>
                  <a:lnTo>
                    <a:pt x="239" y="447"/>
                  </a:lnTo>
                  <a:lnTo>
                    <a:pt x="137" y="475"/>
                  </a:lnTo>
                  <a:lnTo>
                    <a:pt x="106" y="506"/>
                  </a:lnTo>
                  <a:lnTo>
                    <a:pt x="59" y="534"/>
                  </a:lnTo>
                  <a:lnTo>
                    <a:pt x="31" y="548"/>
                  </a:lnTo>
                  <a:lnTo>
                    <a:pt x="17" y="534"/>
                  </a:lnTo>
                  <a:lnTo>
                    <a:pt x="0" y="506"/>
                  </a:lnTo>
                  <a:lnTo>
                    <a:pt x="59" y="475"/>
                  </a:lnTo>
                  <a:lnTo>
                    <a:pt x="106" y="475"/>
                  </a:lnTo>
                  <a:lnTo>
                    <a:pt x="151" y="461"/>
                  </a:lnTo>
                  <a:lnTo>
                    <a:pt x="211" y="429"/>
                  </a:lnTo>
                  <a:lnTo>
                    <a:pt x="239" y="400"/>
                  </a:lnTo>
                  <a:lnTo>
                    <a:pt x="239" y="386"/>
                  </a:lnTo>
                  <a:lnTo>
                    <a:pt x="256" y="400"/>
                  </a:lnTo>
                  <a:lnTo>
                    <a:pt x="285" y="429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114800" y="4492800"/>
              <a:ext cx="200520" cy="81360"/>
            </a:xfrm>
            <a:custGeom>
              <a:avLst/>
              <a:gdLst/>
              <a:ahLst/>
              <a:rect l="0" t="0" r="r" b="b"/>
              <a:pathLst>
                <a:path w="557" h="226">
                  <a:moveTo>
                    <a:pt x="422" y="49"/>
                  </a:moveTo>
                  <a:lnTo>
                    <a:pt x="377" y="99"/>
                  </a:lnTo>
                  <a:lnTo>
                    <a:pt x="346" y="127"/>
                  </a:lnTo>
                  <a:lnTo>
                    <a:pt x="316" y="77"/>
                  </a:lnTo>
                  <a:lnTo>
                    <a:pt x="272" y="27"/>
                  </a:lnTo>
                  <a:lnTo>
                    <a:pt x="135" y="77"/>
                  </a:lnTo>
                  <a:lnTo>
                    <a:pt x="0" y="154"/>
                  </a:lnTo>
                  <a:lnTo>
                    <a:pt x="13" y="226"/>
                  </a:lnTo>
                  <a:lnTo>
                    <a:pt x="60" y="226"/>
                  </a:lnTo>
                  <a:lnTo>
                    <a:pt x="167" y="226"/>
                  </a:lnTo>
                  <a:lnTo>
                    <a:pt x="180" y="204"/>
                  </a:lnTo>
                  <a:lnTo>
                    <a:pt x="224" y="177"/>
                  </a:lnTo>
                  <a:lnTo>
                    <a:pt x="255" y="154"/>
                  </a:lnTo>
                  <a:lnTo>
                    <a:pt x="272" y="154"/>
                  </a:lnTo>
                  <a:lnTo>
                    <a:pt x="302" y="177"/>
                  </a:lnTo>
                  <a:lnTo>
                    <a:pt x="346" y="204"/>
                  </a:lnTo>
                  <a:lnTo>
                    <a:pt x="377" y="226"/>
                  </a:lnTo>
                  <a:lnTo>
                    <a:pt x="390" y="226"/>
                  </a:lnTo>
                  <a:lnTo>
                    <a:pt x="435" y="226"/>
                  </a:lnTo>
                  <a:lnTo>
                    <a:pt x="483" y="204"/>
                  </a:lnTo>
                  <a:lnTo>
                    <a:pt x="496" y="154"/>
                  </a:lnTo>
                  <a:lnTo>
                    <a:pt x="540" y="49"/>
                  </a:lnTo>
                  <a:lnTo>
                    <a:pt x="557" y="27"/>
                  </a:lnTo>
                  <a:lnTo>
                    <a:pt x="557" y="0"/>
                  </a:lnTo>
                  <a:lnTo>
                    <a:pt x="540" y="27"/>
                  </a:lnTo>
                  <a:lnTo>
                    <a:pt x="513" y="49"/>
                  </a:lnTo>
                  <a:lnTo>
                    <a:pt x="483" y="127"/>
                  </a:lnTo>
                  <a:lnTo>
                    <a:pt x="452" y="177"/>
                  </a:lnTo>
                  <a:lnTo>
                    <a:pt x="435" y="177"/>
                  </a:lnTo>
                  <a:lnTo>
                    <a:pt x="422" y="177"/>
                  </a:lnTo>
                  <a:lnTo>
                    <a:pt x="422" y="127"/>
                  </a:lnTo>
                  <a:lnTo>
                    <a:pt x="422" y="49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108320" y="3924360"/>
              <a:ext cx="187560" cy="170280"/>
            </a:xfrm>
            <a:custGeom>
              <a:avLst/>
              <a:gdLst/>
              <a:ahLst/>
              <a:rect l="0" t="0" r="r" b="b"/>
              <a:pathLst>
                <a:path w="521" h="473">
                  <a:moveTo>
                    <a:pt x="435" y="447"/>
                  </a:moveTo>
                  <a:lnTo>
                    <a:pt x="422" y="315"/>
                  </a:lnTo>
                  <a:lnTo>
                    <a:pt x="422" y="198"/>
                  </a:lnTo>
                  <a:lnTo>
                    <a:pt x="422" y="144"/>
                  </a:lnTo>
                  <a:lnTo>
                    <a:pt x="393" y="90"/>
                  </a:lnTo>
                  <a:lnTo>
                    <a:pt x="364" y="40"/>
                  </a:lnTo>
                  <a:lnTo>
                    <a:pt x="310" y="0"/>
                  </a:lnTo>
                  <a:lnTo>
                    <a:pt x="323" y="90"/>
                  </a:lnTo>
                  <a:lnTo>
                    <a:pt x="352" y="131"/>
                  </a:lnTo>
                  <a:lnTo>
                    <a:pt x="380" y="185"/>
                  </a:lnTo>
                  <a:lnTo>
                    <a:pt x="265" y="248"/>
                  </a:lnTo>
                  <a:lnTo>
                    <a:pt x="153" y="288"/>
                  </a:lnTo>
                  <a:lnTo>
                    <a:pt x="124" y="275"/>
                  </a:lnTo>
                  <a:lnTo>
                    <a:pt x="98" y="262"/>
                  </a:lnTo>
                  <a:lnTo>
                    <a:pt x="70" y="238"/>
                  </a:lnTo>
                  <a:lnTo>
                    <a:pt x="28" y="198"/>
                  </a:lnTo>
                  <a:lnTo>
                    <a:pt x="12" y="158"/>
                  </a:lnTo>
                  <a:lnTo>
                    <a:pt x="0" y="144"/>
                  </a:lnTo>
                  <a:lnTo>
                    <a:pt x="0" y="198"/>
                  </a:lnTo>
                  <a:lnTo>
                    <a:pt x="12" y="225"/>
                  </a:lnTo>
                  <a:lnTo>
                    <a:pt x="54" y="275"/>
                  </a:lnTo>
                  <a:lnTo>
                    <a:pt x="124" y="288"/>
                  </a:lnTo>
                  <a:lnTo>
                    <a:pt x="210" y="302"/>
                  </a:lnTo>
                  <a:lnTo>
                    <a:pt x="239" y="315"/>
                  </a:lnTo>
                  <a:lnTo>
                    <a:pt x="252" y="328"/>
                  </a:lnTo>
                  <a:lnTo>
                    <a:pt x="281" y="356"/>
                  </a:lnTo>
                  <a:lnTo>
                    <a:pt x="294" y="383"/>
                  </a:lnTo>
                  <a:lnTo>
                    <a:pt x="310" y="406"/>
                  </a:lnTo>
                  <a:lnTo>
                    <a:pt x="336" y="420"/>
                  </a:lnTo>
                  <a:lnTo>
                    <a:pt x="380" y="383"/>
                  </a:lnTo>
                  <a:lnTo>
                    <a:pt x="393" y="356"/>
                  </a:lnTo>
                  <a:lnTo>
                    <a:pt x="406" y="315"/>
                  </a:lnTo>
                  <a:lnTo>
                    <a:pt x="422" y="262"/>
                  </a:lnTo>
                  <a:lnTo>
                    <a:pt x="406" y="238"/>
                  </a:lnTo>
                  <a:lnTo>
                    <a:pt x="406" y="238"/>
                  </a:lnTo>
                  <a:lnTo>
                    <a:pt x="393" y="248"/>
                  </a:lnTo>
                  <a:lnTo>
                    <a:pt x="364" y="275"/>
                  </a:lnTo>
                  <a:lnTo>
                    <a:pt x="352" y="315"/>
                  </a:lnTo>
                  <a:lnTo>
                    <a:pt x="406" y="383"/>
                  </a:lnTo>
                  <a:lnTo>
                    <a:pt x="435" y="396"/>
                  </a:lnTo>
                  <a:lnTo>
                    <a:pt x="463" y="406"/>
                  </a:lnTo>
                  <a:lnTo>
                    <a:pt x="476" y="420"/>
                  </a:lnTo>
                  <a:lnTo>
                    <a:pt x="505" y="433"/>
                  </a:lnTo>
                  <a:lnTo>
                    <a:pt x="521" y="433"/>
                  </a:lnTo>
                  <a:lnTo>
                    <a:pt x="521" y="447"/>
                  </a:lnTo>
                  <a:lnTo>
                    <a:pt x="492" y="460"/>
                  </a:lnTo>
                  <a:lnTo>
                    <a:pt x="463" y="460"/>
                  </a:lnTo>
                  <a:lnTo>
                    <a:pt x="393" y="460"/>
                  </a:lnTo>
                  <a:lnTo>
                    <a:pt x="393" y="473"/>
                  </a:lnTo>
                  <a:lnTo>
                    <a:pt x="380" y="473"/>
                  </a:lnTo>
                  <a:lnTo>
                    <a:pt x="364" y="473"/>
                  </a:lnTo>
                  <a:lnTo>
                    <a:pt x="364" y="473"/>
                  </a:lnTo>
                  <a:lnTo>
                    <a:pt x="406" y="460"/>
                  </a:lnTo>
                  <a:lnTo>
                    <a:pt x="435" y="44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106880" y="4767120"/>
              <a:ext cx="89280" cy="236880"/>
            </a:xfrm>
            <a:custGeom>
              <a:avLst/>
              <a:gdLst/>
              <a:ahLst/>
              <a:rect l="0" t="0" r="r" b="b"/>
              <a:pathLst>
                <a:path w="248" h="658">
                  <a:moveTo>
                    <a:pt x="124" y="16"/>
                  </a:moveTo>
                  <a:lnTo>
                    <a:pt x="111" y="83"/>
                  </a:lnTo>
                  <a:lnTo>
                    <a:pt x="82" y="137"/>
                  </a:lnTo>
                  <a:lnTo>
                    <a:pt x="42" y="291"/>
                  </a:lnTo>
                  <a:lnTo>
                    <a:pt x="0" y="450"/>
                  </a:lnTo>
                  <a:lnTo>
                    <a:pt x="12" y="500"/>
                  </a:lnTo>
                  <a:lnTo>
                    <a:pt x="42" y="537"/>
                  </a:lnTo>
                  <a:lnTo>
                    <a:pt x="69" y="570"/>
                  </a:lnTo>
                  <a:lnTo>
                    <a:pt x="111" y="604"/>
                  </a:lnTo>
                  <a:lnTo>
                    <a:pt x="153" y="624"/>
                  </a:lnTo>
                  <a:lnTo>
                    <a:pt x="179" y="624"/>
                  </a:lnTo>
                  <a:lnTo>
                    <a:pt x="179" y="641"/>
                  </a:lnTo>
                  <a:lnTo>
                    <a:pt x="179" y="658"/>
                  </a:lnTo>
                  <a:lnTo>
                    <a:pt x="153" y="658"/>
                  </a:lnTo>
                  <a:lnTo>
                    <a:pt x="111" y="641"/>
                  </a:lnTo>
                  <a:lnTo>
                    <a:pt x="111" y="483"/>
                  </a:lnTo>
                  <a:lnTo>
                    <a:pt x="98" y="466"/>
                  </a:lnTo>
                  <a:lnTo>
                    <a:pt x="98" y="450"/>
                  </a:lnTo>
                  <a:lnTo>
                    <a:pt x="124" y="433"/>
                  </a:lnTo>
                  <a:lnTo>
                    <a:pt x="166" y="396"/>
                  </a:lnTo>
                  <a:lnTo>
                    <a:pt x="209" y="379"/>
                  </a:lnTo>
                  <a:lnTo>
                    <a:pt x="235" y="379"/>
                  </a:lnTo>
                  <a:lnTo>
                    <a:pt x="248" y="346"/>
                  </a:lnTo>
                  <a:lnTo>
                    <a:pt x="248" y="311"/>
                  </a:lnTo>
                  <a:lnTo>
                    <a:pt x="235" y="291"/>
                  </a:lnTo>
                  <a:lnTo>
                    <a:pt x="193" y="274"/>
                  </a:lnTo>
                  <a:lnTo>
                    <a:pt x="166" y="291"/>
                  </a:lnTo>
                  <a:lnTo>
                    <a:pt x="153" y="328"/>
                  </a:lnTo>
                  <a:lnTo>
                    <a:pt x="124" y="379"/>
                  </a:lnTo>
                  <a:lnTo>
                    <a:pt x="82" y="328"/>
                  </a:lnTo>
                  <a:lnTo>
                    <a:pt x="69" y="311"/>
                  </a:lnTo>
                  <a:lnTo>
                    <a:pt x="98" y="274"/>
                  </a:lnTo>
                  <a:lnTo>
                    <a:pt x="137" y="241"/>
                  </a:lnTo>
                  <a:lnTo>
                    <a:pt x="153" y="224"/>
                  </a:lnTo>
                  <a:lnTo>
                    <a:pt x="166" y="207"/>
                  </a:lnTo>
                  <a:lnTo>
                    <a:pt x="222" y="0"/>
                  </a:lnTo>
                  <a:lnTo>
                    <a:pt x="209" y="33"/>
                  </a:lnTo>
                  <a:lnTo>
                    <a:pt x="166" y="67"/>
                  </a:lnTo>
                  <a:lnTo>
                    <a:pt x="137" y="67"/>
                  </a:lnTo>
                  <a:lnTo>
                    <a:pt x="124" y="50"/>
                  </a:lnTo>
                  <a:lnTo>
                    <a:pt x="124" y="16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354560" y="5033880"/>
              <a:ext cx="70200" cy="173520"/>
            </a:xfrm>
            <a:custGeom>
              <a:avLst/>
              <a:gdLst/>
              <a:ahLst/>
              <a:rect l="0" t="0" r="r" b="b"/>
              <a:pathLst>
                <a:path w="195" h="482">
                  <a:moveTo>
                    <a:pt x="98" y="71"/>
                  </a:moveTo>
                  <a:lnTo>
                    <a:pt x="69" y="125"/>
                  </a:lnTo>
                  <a:lnTo>
                    <a:pt x="54" y="161"/>
                  </a:lnTo>
                  <a:lnTo>
                    <a:pt x="42" y="197"/>
                  </a:lnTo>
                  <a:lnTo>
                    <a:pt x="27" y="249"/>
                  </a:lnTo>
                  <a:lnTo>
                    <a:pt x="15" y="285"/>
                  </a:lnTo>
                  <a:lnTo>
                    <a:pt x="0" y="321"/>
                  </a:lnTo>
                  <a:lnTo>
                    <a:pt x="0" y="321"/>
                  </a:lnTo>
                  <a:lnTo>
                    <a:pt x="27" y="374"/>
                  </a:lnTo>
                  <a:lnTo>
                    <a:pt x="54" y="430"/>
                  </a:lnTo>
                  <a:lnTo>
                    <a:pt x="140" y="482"/>
                  </a:lnTo>
                  <a:lnTo>
                    <a:pt x="113" y="446"/>
                  </a:lnTo>
                  <a:lnTo>
                    <a:pt x="98" y="410"/>
                  </a:lnTo>
                  <a:lnTo>
                    <a:pt x="98" y="394"/>
                  </a:lnTo>
                  <a:lnTo>
                    <a:pt x="125" y="337"/>
                  </a:lnTo>
                  <a:lnTo>
                    <a:pt x="98" y="321"/>
                  </a:lnTo>
                  <a:lnTo>
                    <a:pt x="98" y="285"/>
                  </a:lnTo>
                  <a:lnTo>
                    <a:pt x="113" y="269"/>
                  </a:lnTo>
                  <a:lnTo>
                    <a:pt x="140" y="249"/>
                  </a:lnTo>
                  <a:lnTo>
                    <a:pt x="167" y="213"/>
                  </a:lnTo>
                  <a:lnTo>
                    <a:pt x="195" y="177"/>
                  </a:lnTo>
                  <a:lnTo>
                    <a:pt x="195" y="161"/>
                  </a:lnTo>
                  <a:lnTo>
                    <a:pt x="195" y="125"/>
                  </a:lnTo>
                  <a:lnTo>
                    <a:pt x="182" y="71"/>
                  </a:lnTo>
                  <a:lnTo>
                    <a:pt x="140" y="19"/>
                  </a:lnTo>
                  <a:lnTo>
                    <a:pt x="113" y="0"/>
                  </a:lnTo>
                  <a:lnTo>
                    <a:pt x="113" y="19"/>
                  </a:lnTo>
                  <a:lnTo>
                    <a:pt x="98" y="35"/>
                  </a:lnTo>
                  <a:lnTo>
                    <a:pt x="98" y="71"/>
                  </a:lnTo>
                  <a:lnTo>
                    <a:pt x="98" y="88"/>
                  </a:lnTo>
                  <a:lnTo>
                    <a:pt x="98" y="88"/>
                  </a:lnTo>
                  <a:lnTo>
                    <a:pt x="98" y="7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221000" y="4422600"/>
              <a:ext cx="351360" cy="225720"/>
            </a:xfrm>
            <a:custGeom>
              <a:avLst/>
              <a:gdLst/>
              <a:ahLst/>
              <a:rect l="0" t="0" r="r" b="b"/>
              <a:pathLst>
                <a:path w="976" h="627">
                  <a:moveTo>
                    <a:pt x="561" y="145"/>
                  </a:moveTo>
                  <a:lnTo>
                    <a:pt x="534" y="286"/>
                  </a:lnTo>
                  <a:lnTo>
                    <a:pt x="503" y="359"/>
                  </a:lnTo>
                  <a:lnTo>
                    <a:pt x="457" y="413"/>
                  </a:lnTo>
                  <a:lnTo>
                    <a:pt x="399" y="394"/>
                  </a:lnTo>
                  <a:lnTo>
                    <a:pt x="371" y="375"/>
                  </a:lnTo>
                  <a:lnTo>
                    <a:pt x="325" y="375"/>
                  </a:lnTo>
                  <a:lnTo>
                    <a:pt x="267" y="394"/>
                  </a:lnTo>
                  <a:lnTo>
                    <a:pt x="208" y="447"/>
                  </a:lnTo>
                  <a:lnTo>
                    <a:pt x="134" y="466"/>
                  </a:lnTo>
                  <a:lnTo>
                    <a:pt x="0" y="539"/>
                  </a:lnTo>
                  <a:lnTo>
                    <a:pt x="0" y="573"/>
                  </a:lnTo>
                  <a:lnTo>
                    <a:pt x="15" y="608"/>
                  </a:lnTo>
                  <a:lnTo>
                    <a:pt x="73" y="627"/>
                  </a:lnTo>
                  <a:lnTo>
                    <a:pt x="147" y="608"/>
                  </a:lnTo>
                  <a:lnTo>
                    <a:pt x="208" y="592"/>
                  </a:lnTo>
                  <a:lnTo>
                    <a:pt x="356" y="539"/>
                  </a:lnTo>
                  <a:lnTo>
                    <a:pt x="488" y="466"/>
                  </a:lnTo>
                  <a:lnTo>
                    <a:pt x="534" y="466"/>
                  </a:lnTo>
                  <a:lnTo>
                    <a:pt x="577" y="485"/>
                  </a:lnTo>
                  <a:lnTo>
                    <a:pt x="620" y="501"/>
                  </a:lnTo>
                  <a:lnTo>
                    <a:pt x="650" y="539"/>
                  </a:lnTo>
                  <a:lnTo>
                    <a:pt x="708" y="573"/>
                  </a:lnTo>
                  <a:lnTo>
                    <a:pt x="724" y="539"/>
                  </a:lnTo>
                  <a:lnTo>
                    <a:pt x="740" y="520"/>
                  </a:lnTo>
                  <a:lnTo>
                    <a:pt x="771" y="520"/>
                  </a:lnTo>
                  <a:lnTo>
                    <a:pt x="814" y="520"/>
                  </a:lnTo>
                  <a:lnTo>
                    <a:pt x="844" y="520"/>
                  </a:lnTo>
                  <a:lnTo>
                    <a:pt x="872" y="485"/>
                  </a:lnTo>
                  <a:lnTo>
                    <a:pt x="902" y="413"/>
                  </a:lnTo>
                  <a:lnTo>
                    <a:pt x="933" y="321"/>
                  </a:lnTo>
                  <a:lnTo>
                    <a:pt x="961" y="232"/>
                  </a:lnTo>
                  <a:lnTo>
                    <a:pt x="976" y="198"/>
                  </a:lnTo>
                  <a:lnTo>
                    <a:pt x="976" y="179"/>
                  </a:lnTo>
                  <a:lnTo>
                    <a:pt x="933" y="160"/>
                  </a:lnTo>
                  <a:lnTo>
                    <a:pt x="872" y="145"/>
                  </a:lnTo>
                  <a:lnTo>
                    <a:pt x="814" y="126"/>
                  </a:lnTo>
                  <a:lnTo>
                    <a:pt x="783" y="126"/>
                  </a:lnTo>
                  <a:lnTo>
                    <a:pt x="755" y="106"/>
                  </a:lnTo>
                  <a:lnTo>
                    <a:pt x="708" y="91"/>
                  </a:lnTo>
                  <a:lnTo>
                    <a:pt x="708" y="53"/>
                  </a:lnTo>
                  <a:lnTo>
                    <a:pt x="696" y="19"/>
                  </a:lnTo>
                  <a:lnTo>
                    <a:pt x="635" y="0"/>
                  </a:lnTo>
                  <a:lnTo>
                    <a:pt x="561" y="0"/>
                  </a:lnTo>
                  <a:lnTo>
                    <a:pt x="503" y="0"/>
                  </a:lnTo>
                  <a:lnTo>
                    <a:pt x="518" y="38"/>
                  </a:lnTo>
                  <a:lnTo>
                    <a:pt x="518" y="53"/>
                  </a:lnTo>
                  <a:lnTo>
                    <a:pt x="561" y="145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05160" y="3508200"/>
              <a:ext cx="93960" cy="73440"/>
            </a:xfrm>
            <a:custGeom>
              <a:avLst/>
              <a:gdLst/>
              <a:ahLst/>
              <a:rect l="0" t="0" r="r" b="b"/>
              <a:pathLst>
                <a:path w="261" h="204">
                  <a:moveTo>
                    <a:pt x="208" y="121"/>
                  </a:moveTo>
                  <a:lnTo>
                    <a:pt x="208" y="85"/>
                  </a:lnTo>
                  <a:lnTo>
                    <a:pt x="177" y="46"/>
                  </a:lnTo>
                  <a:lnTo>
                    <a:pt x="123" y="23"/>
                  </a:lnTo>
                  <a:lnTo>
                    <a:pt x="70" y="0"/>
                  </a:lnTo>
                  <a:lnTo>
                    <a:pt x="39" y="15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6" y="54"/>
                  </a:lnTo>
                  <a:lnTo>
                    <a:pt x="79" y="78"/>
                  </a:lnTo>
                  <a:lnTo>
                    <a:pt x="137" y="106"/>
                  </a:lnTo>
                  <a:lnTo>
                    <a:pt x="150" y="144"/>
                  </a:lnTo>
                  <a:lnTo>
                    <a:pt x="150" y="158"/>
                  </a:lnTo>
                  <a:lnTo>
                    <a:pt x="164" y="174"/>
                  </a:lnTo>
                  <a:lnTo>
                    <a:pt x="177" y="189"/>
                  </a:lnTo>
                  <a:lnTo>
                    <a:pt x="208" y="197"/>
                  </a:lnTo>
                  <a:lnTo>
                    <a:pt x="221" y="204"/>
                  </a:lnTo>
                  <a:lnTo>
                    <a:pt x="234" y="204"/>
                  </a:lnTo>
                  <a:lnTo>
                    <a:pt x="261" y="189"/>
                  </a:lnTo>
                  <a:lnTo>
                    <a:pt x="261" y="174"/>
                  </a:lnTo>
                  <a:lnTo>
                    <a:pt x="247" y="166"/>
                  </a:lnTo>
                  <a:lnTo>
                    <a:pt x="234" y="137"/>
                  </a:lnTo>
                  <a:lnTo>
                    <a:pt x="221" y="129"/>
                  </a:lnTo>
                  <a:lnTo>
                    <a:pt x="208" y="129"/>
                  </a:lnTo>
                  <a:lnTo>
                    <a:pt x="208" y="12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59320" y="3584520"/>
              <a:ext cx="113040" cy="106560"/>
            </a:xfrm>
            <a:custGeom>
              <a:avLst/>
              <a:gdLst/>
              <a:ahLst/>
              <a:rect l="0" t="0" r="r" b="b"/>
              <a:pathLst>
                <a:path w="314" h="296">
                  <a:moveTo>
                    <a:pt x="74" y="232"/>
                  </a:moveTo>
                  <a:lnTo>
                    <a:pt x="136" y="178"/>
                  </a:lnTo>
                  <a:lnTo>
                    <a:pt x="199" y="113"/>
                  </a:lnTo>
                  <a:lnTo>
                    <a:pt x="199" y="79"/>
                  </a:lnTo>
                  <a:lnTo>
                    <a:pt x="199" y="46"/>
                  </a:lnTo>
                  <a:lnTo>
                    <a:pt x="177" y="23"/>
                  </a:lnTo>
                  <a:lnTo>
                    <a:pt x="136" y="0"/>
                  </a:lnTo>
                  <a:lnTo>
                    <a:pt x="123" y="15"/>
                  </a:lnTo>
                  <a:lnTo>
                    <a:pt x="97" y="23"/>
                  </a:lnTo>
                  <a:lnTo>
                    <a:pt x="88" y="41"/>
                  </a:lnTo>
                  <a:lnTo>
                    <a:pt x="88" y="46"/>
                  </a:lnTo>
                  <a:lnTo>
                    <a:pt x="149" y="64"/>
                  </a:lnTo>
                  <a:lnTo>
                    <a:pt x="212" y="79"/>
                  </a:lnTo>
                  <a:lnTo>
                    <a:pt x="186" y="87"/>
                  </a:lnTo>
                  <a:lnTo>
                    <a:pt x="177" y="87"/>
                  </a:lnTo>
                  <a:lnTo>
                    <a:pt x="149" y="87"/>
                  </a:lnTo>
                  <a:lnTo>
                    <a:pt x="136" y="87"/>
                  </a:lnTo>
                  <a:lnTo>
                    <a:pt x="114" y="97"/>
                  </a:lnTo>
                  <a:lnTo>
                    <a:pt x="61" y="105"/>
                  </a:lnTo>
                  <a:lnTo>
                    <a:pt x="48" y="113"/>
                  </a:lnTo>
                  <a:lnTo>
                    <a:pt x="35" y="113"/>
                  </a:lnTo>
                  <a:lnTo>
                    <a:pt x="13" y="143"/>
                  </a:lnTo>
                  <a:lnTo>
                    <a:pt x="0" y="178"/>
                  </a:lnTo>
                  <a:lnTo>
                    <a:pt x="13" y="201"/>
                  </a:lnTo>
                  <a:lnTo>
                    <a:pt x="35" y="216"/>
                  </a:lnTo>
                  <a:lnTo>
                    <a:pt x="114" y="242"/>
                  </a:lnTo>
                  <a:lnTo>
                    <a:pt x="199" y="257"/>
                  </a:lnTo>
                  <a:lnTo>
                    <a:pt x="225" y="273"/>
                  </a:lnTo>
                  <a:lnTo>
                    <a:pt x="265" y="288"/>
                  </a:lnTo>
                  <a:lnTo>
                    <a:pt x="287" y="296"/>
                  </a:lnTo>
                  <a:lnTo>
                    <a:pt x="300" y="288"/>
                  </a:lnTo>
                  <a:lnTo>
                    <a:pt x="314" y="273"/>
                  </a:lnTo>
                  <a:lnTo>
                    <a:pt x="265" y="257"/>
                  </a:lnTo>
                  <a:lnTo>
                    <a:pt x="225" y="257"/>
                  </a:lnTo>
                  <a:lnTo>
                    <a:pt x="186" y="250"/>
                  </a:lnTo>
                  <a:lnTo>
                    <a:pt x="136" y="232"/>
                  </a:lnTo>
                  <a:lnTo>
                    <a:pt x="114" y="216"/>
                  </a:lnTo>
                  <a:lnTo>
                    <a:pt x="114" y="209"/>
                  </a:lnTo>
                  <a:lnTo>
                    <a:pt x="97" y="216"/>
                  </a:lnTo>
                  <a:lnTo>
                    <a:pt x="74" y="23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343400" y="3808440"/>
              <a:ext cx="174960" cy="28800"/>
            </a:xfrm>
            <a:custGeom>
              <a:avLst/>
              <a:gdLst/>
              <a:ahLst/>
              <a:rect l="0" t="0" r="r" b="b"/>
              <a:pathLst>
                <a:path w="486" h="80">
                  <a:moveTo>
                    <a:pt x="119" y="18"/>
                  </a:moveTo>
                  <a:lnTo>
                    <a:pt x="158" y="34"/>
                  </a:lnTo>
                  <a:lnTo>
                    <a:pt x="185" y="45"/>
                  </a:lnTo>
                  <a:lnTo>
                    <a:pt x="211" y="26"/>
                  </a:lnTo>
                  <a:lnTo>
                    <a:pt x="247" y="10"/>
                  </a:lnTo>
                  <a:lnTo>
                    <a:pt x="367" y="26"/>
                  </a:lnTo>
                  <a:lnTo>
                    <a:pt x="486" y="56"/>
                  </a:lnTo>
                  <a:lnTo>
                    <a:pt x="477" y="80"/>
                  </a:lnTo>
                  <a:lnTo>
                    <a:pt x="433" y="80"/>
                  </a:lnTo>
                  <a:lnTo>
                    <a:pt x="340" y="80"/>
                  </a:lnTo>
                  <a:lnTo>
                    <a:pt x="331" y="72"/>
                  </a:lnTo>
                  <a:lnTo>
                    <a:pt x="292" y="61"/>
                  </a:lnTo>
                  <a:lnTo>
                    <a:pt x="265" y="56"/>
                  </a:lnTo>
                  <a:lnTo>
                    <a:pt x="247" y="56"/>
                  </a:lnTo>
                  <a:lnTo>
                    <a:pt x="220" y="61"/>
                  </a:lnTo>
                  <a:lnTo>
                    <a:pt x="185" y="72"/>
                  </a:lnTo>
                  <a:lnTo>
                    <a:pt x="158" y="80"/>
                  </a:lnTo>
                  <a:lnTo>
                    <a:pt x="145" y="80"/>
                  </a:lnTo>
                  <a:lnTo>
                    <a:pt x="105" y="80"/>
                  </a:lnTo>
                  <a:lnTo>
                    <a:pt x="66" y="72"/>
                  </a:lnTo>
                  <a:lnTo>
                    <a:pt x="52" y="56"/>
                  </a:lnTo>
                  <a:lnTo>
                    <a:pt x="13" y="18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39" y="18"/>
                  </a:lnTo>
                  <a:lnTo>
                    <a:pt x="66" y="45"/>
                  </a:lnTo>
                  <a:lnTo>
                    <a:pt x="92" y="61"/>
                  </a:lnTo>
                  <a:lnTo>
                    <a:pt x="105" y="61"/>
                  </a:lnTo>
                  <a:lnTo>
                    <a:pt x="119" y="61"/>
                  </a:lnTo>
                  <a:lnTo>
                    <a:pt x="119" y="45"/>
                  </a:lnTo>
                  <a:lnTo>
                    <a:pt x="119" y="18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343400" y="3467160"/>
              <a:ext cx="173520" cy="97200"/>
            </a:xfrm>
            <a:custGeom>
              <a:avLst/>
              <a:gdLst/>
              <a:ahLst/>
              <a:rect l="0" t="0" r="r" b="b"/>
              <a:pathLst>
                <a:path w="482" h="270">
                  <a:moveTo>
                    <a:pt x="79" y="255"/>
                  </a:moveTo>
                  <a:lnTo>
                    <a:pt x="92" y="179"/>
                  </a:lnTo>
                  <a:lnTo>
                    <a:pt x="92" y="112"/>
                  </a:lnTo>
                  <a:lnTo>
                    <a:pt x="92" y="81"/>
                  </a:lnTo>
                  <a:lnTo>
                    <a:pt x="119" y="51"/>
                  </a:lnTo>
                  <a:lnTo>
                    <a:pt x="146" y="20"/>
                  </a:lnTo>
                  <a:lnTo>
                    <a:pt x="195" y="0"/>
                  </a:lnTo>
                  <a:lnTo>
                    <a:pt x="186" y="51"/>
                  </a:lnTo>
                  <a:lnTo>
                    <a:pt x="159" y="73"/>
                  </a:lnTo>
                  <a:lnTo>
                    <a:pt x="133" y="104"/>
                  </a:lnTo>
                  <a:lnTo>
                    <a:pt x="239" y="140"/>
                  </a:lnTo>
                  <a:lnTo>
                    <a:pt x="340" y="163"/>
                  </a:lnTo>
                  <a:lnTo>
                    <a:pt x="368" y="156"/>
                  </a:lnTo>
                  <a:lnTo>
                    <a:pt x="394" y="148"/>
                  </a:lnTo>
                  <a:lnTo>
                    <a:pt x="420" y="135"/>
                  </a:lnTo>
                  <a:lnTo>
                    <a:pt x="456" y="112"/>
                  </a:lnTo>
                  <a:lnTo>
                    <a:pt x="473" y="88"/>
                  </a:lnTo>
                  <a:lnTo>
                    <a:pt x="482" y="81"/>
                  </a:lnTo>
                  <a:lnTo>
                    <a:pt x="482" y="112"/>
                  </a:lnTo>
                  <a:lnTo>
                    <a:pt x="473" y="127"/>
                  </a:lnTo>
                  <a:lnTo>
                    <a:pt x="434" y="156"/>
                  </a:lnTo>
                  <a:lnTo>
                    <a:pt x="368" y="163"/>
                  </a:lnTo>
                  <a:lnTo>
                    <a:pt x="287" y="171"/>
                  </a:lnTo>
                  <a:lnTo>
                    <a:pt x="261" y="179"/>
                  </a:lnTo>
                  <a:lnTo>
                    <a:pt x="247" y="187"/>
                  </a:lnTo>
                  <a:lnTo>
                    <a:pt x="221" y="202"/>
                  </a:lnTo>
                  <a:lnTo>
                    <a:pt x="212" y="219"/>
                  </a:lnTo>
                  <a:lnTo>
                    <a:pt x="195" y="232"/>
                  </a:lnTo>
                  <a:lnTo>
                    <a:pt x="172" y="239"/>
                  </a:lnTo>
                  <a:lnTo>
                    <a:pt x="133" y="219"/>
                  </a:lnTo>
                  <a:lnTo>
                    <a:pt x="119" y="202"/>
                  </a:lnTo>
                  <a:lnTo>
                    <a:pt x="105" y="179"/>
                  </a:lnTo>
                  <a:lnTo>
                    <a:pt x="92" y="148"/>
                  </a:lnTo>
                  <a:lnTo>
                    <a:pt x="105" y="135"/>
                  </a:lnTo>
                  <a:lnTo>
                    <a:pt x="105" y="135"/>
                  </a:lnTo>
                  <a:lnTo>
                    <a:pt x="119" y="140"/>
                  </a:lnTo>
                  <a:lnTo>
                    <a:pt x="146" y="156"/>
                  </a:lnTo>
                  <a:lnTo>
                    <a:pt x="159" y="179"/>
                  </a:lnTo>
                  <a:lnTo>
                    <a:pt x="105" y="219"/>
                  </a:lnTo>
                  <a:lnTo>
                    <a:pt x="79" y="227"/>
                  </a:lnTo>
                  <a:lnTo>
                    <a:pt x="52" y="232"/>
                  </a:lnTo>
                  <a:lnTo>
                    <a:pt x="39" y="239"/>
                  </a:lnTo>
                  <a:lnTo>
                    <a:pt x="13" y="247"/>
                  </a:lnTo>
                  <a:lnTo>
                    <a:pt x="0" y="247"/>
                  </a:lnTo>
                  <a:lnTo>
                    <a:pt x="0" y="255"/>
                  </a:lnTo>
                  <a:lnTo>
                    <a:pt x="26" y="263"/>
                  </a:lnTo>
                  <a:lnTo>
                    <a:pt x="52" y="263"/>
                  </a:lnTo>
                  <a:lnTo>
                    <a:pt x="119" y="263"/>
                  </a:lnTo>
                  <a:lnTo>
                    <a:pt x="119" y="270"/>
                  </a:lnTo>
                  <a:lnTo>
                    <a:pt x="133" y="270"/>
                  </a:lnTo>
                  <a:lnTo>
                    <a:pt x="146" y="270"/>
                  </a:lnTo>
                  <a:lnTo>
                    <a:pt x="146" y="270"/>
                  </a:lnTo>
                  <a:lnTo>
                    <a:pt x="105" y="263"/>
                  </a:lnTo>
                  <a:lnTo>
                    <a:pt x="79" y="255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448160" y="3960720"/>
              <a:ext cx="81360" cy="133560"/>
            </a:xfrm>
            <a:custGeom>
              <a:avLst/>
              <a:gdLst/>
              <a:ahLst/>
              <a:rect l="0" t="0" r="r" b="b"/>
              <a:pathLst>
                <a:path w="226" h="371">
                  <a:moveTo>
                    <a:pt x="115" y="10"/>
                  </a:moveTo>
                  <a:lnTo>
                    <a:pt x="124" y="46"/>
                  </a:lnTo>
                  <a:lnTo>
                    <a:pt x="150" y="77"/>
                  </a:lnTo>
                  <a:lnTo>
                    <a:pt x="187" y="164"/>
                  </a:lnTo>
                  <a:lnTo>
                    <a:pt x="226" y="253"/>
                  </a:lnTo>
                  <a:lnTo>
                    <a:pt x="213" y="281"/>
                  </a:lnTo>
                  <a:lnTo>
                    <a:pt x="187" y="304"/>
                  </a:lnTo>
                  <a:lnTo>
                    <a:pt x="164" y="322"/>
                  </a:lnTo>
                  <a:lnTo>
                    <a:pt x="124" y="340"/>
                  </a:lnTo>
                  <a:lnTo>
                    <a:pt x="89" y="353"/>
                  </a:lnTo>
                  <a:lnTo>
                    <a:pt x="62" y="353"/>
                  </a:lnTo>
                  <a:lnTo>
                    <a:pt x="62" y="361"/>
                  </a:lnTo>
                  <a:lnTo>
                    <a:pt x="62" y="371"/>
                  </a:lnTo>
                  <a:lnTo>
                    <a:pt x="89" y="371"/>
                  </a:lnTo>
                  <a:lnTo>
                    <a:pt x="124" y="361"/>
                  </a:lnTo>
                  <a:lnTo>
                    <a:pt x="124" y="273"/>
                  </a:lnTo>
                  <a:lnTo>
                    <a:pt x="137" y="263"/>
                  </a:lnTo>
                  <a:lnTo>
                    <a:pt x="137" y="253"/>
                  </a:lnTo>
                  <a:lnTo>
                    <a:pt x="115" y="245"/>
                  </a:lnTo>
                  <a:lnTo>
                    <a:pt x="75" y="224"/>
                  </a:lnTo>
                  <a:lnTo>
                    <a:pt x="35" y="214"/>
                  </a:lnTo>
                  <a:lnTo>
                    <a:pt x="13" y="214"/>
                  </a:lnTo>
                  <a:lnTo>
                    <a:pt x="0" y="196"/>
                  </a:lnTo>
                  <a:lnTo>
                    <a:pt x="0" y="174"/>
                  </a:lnTo>
                  <a:lnTo>
                    <a:pt x="13" y="164"/>
                  </a:lnTo>
                  <a:lnTo>
                    <a:pt x="52" y="154"/>
                  </a:lnTo>
                  <a:lnTo>
                    <a:pt x="75" y="164"/>
                  </a:lnTo>
                  <a:lnTo>
                    <a:pt x="89" y="186"/>
                  </a:lnTo>
                  <a:lnTo>
                    <a:pt x="115" y="214"/>
                  </a:lnTo>
                  <a:lnTo>
                    <a:pt x="150" y="186"/>
                  </a:lnTo>
                  <a:lnTo>
                    <a:pt x="164" y="174"/>
                  </a:lnTo>
                  <a:lnTo>
                    <a:pt x="137" y="154"/>
                  </a:lnTo>
                  <a:lnTo>
                    <a:pt x="102" y="136"/>
                  </a:lnTo>
                  <a:lnTo>
                    <a:pt x="89" y="126"/>
                  </a:lnTo>
                  <a:lnTo>
                    <a:pt x="75" y="118"/>
                  </a:lnTo>
                  <a:lnTo>
                    <a:pt x="26" y="0"/>
                  </a:lnTo>
                  <a:lnTo>
                    <a:pt x="35" y="18"/>
                  </a:lnTo>
                  <a:lnTo>
                    <a:pt x="75" y="38"/>
                  </a:lnTo>
                  <a:lnTo>
                    <a:pt x="102" y="38"/>
                  </a:lnTo>
                  <a:lnTo>
                    <a:pt x="115" y="28"/>
                  </a:lnTo>
                  <a:lnTo>
                    <a:pt x="115" y="1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216320" y="4116240"/>
              <a:ext cx="66960" cy="100440"/>
            </a:xfrm>
            <a:custGeom>
              <a:avLst/>
              <a:gdLst/>
              <a:ahLst/>
              <a:rect l="0" t="0" r="r" b="b"/>
              <a:pathLst>
                <a:path w="186" h="279">
                  <a:moveTo>
                    <a:pt x="92" y="41"/>
                  </a:moveTo>
                  <a:lnTo>
                    <a:pt x="120" y="73"/>
                  </a:lnTo>
                  <a:lnTo>
                    <a:pt x="133" y="93"/>
                  </a:lnTo>
                  <a:lnTo>
                    <a:pt x="146" y="114"/>
                  </a:lnTo>
                  <a:lnTo>
                    <a:pt x="159" y="145"/>
                  </a:lnTo>
                  <a:lnTo>
                    <a:pt x="172" y="165"/>
                  </a:lnTo>
                  <a:lnTo>
                    <a:pt x="186" y="186"/>
                  </a:lnTo>
                  <a:lnTo>
                    <a:pt x="186" y="186"/>
                  </a:lnTo>
                  <a:lnTo>
                    <a:pt x="159" y="218"/>
                  </a:lnTo>
                  <a:lnTo>
                    <a:pt x="133" y="248"/>
                  </a:lnTo>
                  <a:lnTo>
                    <a:pt x="52" y="279"/>
                  </a:lnTo>
                  <a:lnTo>
                    <a:pt x="79" y="259"/>
                  </a:lnTo>
                  <a:lnTo>
                    <a:pt x="92" y="238"/>
                  </a:lnTo>
                  <a:lnTo>
                    <a:pt x="92" y="228"/>
                  </a:lnTo>
                  <a:lnTo>
                    <a:pt x="66" y="196"/>
                  </a:lnTo>
                  <a:lnTo>
                    <a:pt x="92" y="186"/>
                  </a:lnTo>
                  <a:lnTo>
                    <a:pt x="92" y="165"/>
                  </a:lnTo>
                  <a:lnTo>
                    <a:pt x="79" y="155"/>
                  </a:lnTo>
                  <a:lnTo>
                    <a:pt x="52" y="145"/>
                  </a:lnTo>
                  <a:lnTo>
                    <a:pt x="26" y="124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73"/>
                  </a:lnTo>
                  <a:lnTo>
                    <a:pt x="8" y="41"/>
                  </a:lnTo>
                  <a:lnTo>
                    <a:pt x="52" y="10"/>
                  </a:lnTo>
                  <a:lnTo>
                    <a:pt x="79" y="0"/>
                  </a:lnTo>
                  <a:lnTo>
                    <a:pt x="79" y="10"/>
                  </a:lnTo>
                  <a:lnTo>
                    <a:pt x="92" y="20"/>
                  </a:lnTo>
                  <a:lnTo>
                    <a:pt x="92" y="41"/>
                  </a:lnTo>
                  <a:lnTo>
                    <a:pt x="92" y="51"/>
                  </a:lnTo>
                  <a:lnTo>
                    <a:pt x="92" y="51"/>
                  </a:lnTo>
                  <a:lnTo>
                    <a:pt x="92" y="4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064040" y="3768840"/>
              <a:ext cx="340200" cy="113040"/>
            </a:xfrm>
            <a:custGeom>
              <a:avLst/>
              <a:gdLst/>
              <a:ahLst/>
              <a:rect l="0" t="0" r="r" b="b"/>
              <a:pathLst>
                <a:path w="945" h="314">
                  <a:moveTo>
                    <a:pt x="402" y="72"/>
                  </a:moveTo>
                  <a:lnTo>
                    <a:pt x="428" y="142"/>
                  </a:lnTo>
                  <a:lnTo>
                    <a:pt x="459" y="179"/>
                  </a:lnTo>
                  <a:lnTo>
                    <a:pt x="503" y="208"/>
                  </a:lnTo>
                  <a:lnTo>
                    <a:pt x="556" y="197"/>
                  </a:lnTo>
                  <a:lnTo>
                    <a:pt x="587" y="187"/>
                  </a:lnTo>
                  <a:lnTo>
                    <a:pt x="631" y="187"/>
                  </a:lnTo>
                  <a:lnTo>
                    <a:pt x="684" y="197"/>
                  </a:lnTo>
                  <a:lnTo>
                    <a:pt x="742" y="223"/>
                  </a:lnTo>
                  <a:lnTo>
                    <a:pt x="813" y="233"/>
                  </a:lnTo>
                  <a:lnTo>
                    <a:pt x="945" y="270"/>
                  </a:lnTo>
                  <a:lnTo>
                    <a:pt x="945" y="288"/>
                  </a:lnTo>
                  <a:lnTo>
                    <a:pt x="932" y="303"/>
                  </a:lnTo>
                  <a:lnTo>
                    <a:pt x="875" y="314"/>
                  </a:lnTo>
                  <a:lnTo>
                    <a:pt x="804" y="303"/>
                  </a:lnTo>
                  <a:lnTo>
                    <a:pt x="742" y="295"/>
                  </a:lnTo>
                  <a:lnTo>
                    <a:pt x="600" y="270"/>
                  </a:lnTo>
                  <a:lnTo>
                    <a:pt x="472" y="233"/>
                  </a:lnTo>
                  <a:lnTo>
                    <a:pt x="428" y="233"/>
                  </a:lnTo>
                  <a:lnTo>
                    <a:pt x="384" y="244"/>
                  </a:lnTo>
                  <a:lnTo>
                    <a:pt x="344" y="251"/>
                  </a:lnTo>
                  <a:lnTo>
                    <a:pt x="314" y="270"/>
                  </a:lnTo>
                  <a:lnTo>
                    <a:pt x="256" y="288"/>
                  </a:lnTo>
                  <a:lnTo>
                    <a:pt x="243" y="270"/>
                  </a:lnTo>
                  <a:lnTo>
                    <a:pt x="229" y="259"/>
                  </a:lnTo>
                  <a:lnTo>
                    <a:pt x="198" y="259"/>
                  </a:lnTo>
                  <a:lnTo>
                    <a:pt x="158" y="259"/>
                  </a:lnTo>
                  <a:lnTo>
                    <a:pt x="127" y="259"/>
                  </a:lnTo>
                  <a:lnTo>
                    <a:pt x="101" y="244"/>
                  </a:lnTo>
                  <a:lnTo>
                    <a:pt x="70" y="208"/>
                  </a:lnTo>
                  <a:lnTo>
                    <a:pt x="39" y="161"/>
                  </a:lnTo>
                  <a:lnTo>
                    <a:pt x="13" y="116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39" y="80"/>
                  </a:lnTo>
                  <a:lnTo>
                    <a:pt x="101" y="72"/>
                  </a:lnTo>
                  <a:lnTo>
                    <a:pt x="158" y="62"/>
                  </a:lnTo>
                  <a:lnTo>
                    <a:pt x="185" y="62"/>
                  </a:lnTo>
                  <a:lnTo>
                    <a:pt x="211" y="54"/>
                  </a:lnTo>
                  <a:lnTo>
                    <a:pt x="256" y="46"/>
                  </a:lnTo>
                  <a:lnTo>
                    <a:pt x="256" y="25"/>
                  </a:lnTo>
                  <a:lnTo>
                    <a:pt x="269" y="10"/>
                  </a:lnTo>
                  <a:lnTo>
                    <a:pt x="331" y="0"/>
                  </a:lnTo>
                  <a:lnTo>
                    <a:pt x="402" y="0"/>
                  </a:lnTo>
                  <a:lnTo>
                    <a:pt x="459" y="0"/>
                  </a:lnTo>
                  <a:lnTo>
                    <a:pt x="441" y="18"/>
                  </a:lnTo>
                  <a:lnTo>
                    <a:pt x="441" y="25"/>
                  </a:lnTo>
                  <a:lnTo>
                    <a:pt x="402" y="7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"/>
          <p:cNvSpPr txBox="1"/>
          <p:nvPr/>
        </p:nvSpPr>
        <p:spPr>
          <a:xfrm>
            <a:off x="304920" y="457200"/>
            <a:ext cx="7391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ing : It’s Striking My He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T #3  OPS</dc:creator>
  <dc:description/>
  <dc:language>en-US</dc:language>
  <cp:lastModifiedBy>CSCT #3  OPS</cp:lastModifiedBy>
  <cp:revision>0</cp:revision>
  <dc:subject/>
  <dc:title>No Slide Title</dc:title>
</cp:coreProperties>
</file>