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76320"/>
            <a:ext cx="9142920" cy="6642000"/>
            <a:chOff x="0" y="76320"/>
            <a:chExt cx="9142920" cy="6642000"/>
          </a:xfrm>
        </p:grpSpPr>
        <p:sp>
          <p:nvSpPr>
            <p:cNvPr id="40" name=""/>
            <p:cNvSpPr/>
            <p:nvPr/>
          </p:nvSpPr>
          <p:spPr>
            <a:xfrm>
              <a:off x="19080" y="749160"/>
              <a:ext cx="9110880" cy="381240"/>
            </a:xfrm>
            <a:custGeom>
              <a:avLst/>
              <a:gdLst/>
              <a:ahLst/>
              <a:rect l="0" t="0" r="r" b="b"/>
              <a:pathLst>
                <a:path fill="none" w="25308" h="1059">
                  <a:moveTo>
                    <a:pt x="0" y="141"/>
                  </a:moveTo>
                  <a:lnTo>
                    <a:pt x="367" y="565"/>
                  </a:lnTo>
                  <a:lnTo>
                    <a:pt x="881" y="847"/>
                  </a:lnTo>
                  <a:lnTo>
                    <a:pt x="1616" y="953"/>
                  </a:lnTo>
                  <a:lnTo>
                    <a:pt x="2975" y="1059"/>
                  </a:lnTo>
                  <a:lnTo>
                    <a:pt x="22590" y="1059"/>
                  </a:lnTo>
                  <a:lnTo>
                    <a:pt x="24206" y="847"/>
                  </a:lnTo>
                  <a:lnTo>
                    <a:pt x="25014" y="458"/>
                  </a:lnTo>
                  <a:lnTo>
                    <a:pt x="253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76320"/>
              <a:ext cx="9142920" cy="6642000"/>
              <a:chOff x="0" y="76320"/>
              <a:chExt cx="9142920" cy="6642000"/>
            </a:xfrm>
          </p:grpSpPr>
          <p:sp>
            <p:nvSpPr>
              <p:cNvPr id="42" name=""/>
              <p:cNvSpPr/>
              <p:nvPr/>
            </p:nvSpPr>
            <p:spPr>
              <a:xfrm>
                <a:off x="19080" y="76320"/>
                <a:ext cx="9123840" cy="775080"/>
              </a:xfrm>
              <a:custGeom>
                <a:avLst/>
                <a:gdLst/>
                <a:ahLst/>
                <a:rect l="0" t="0" r="r" b="b"/>
                <a:pathLst>
                  <a:path fill="none" w="25344" h="2153">
                    <a:moveTo>
                      <a:pt x="0" y="1871"/>
                    </a:moveTo>
                    <a:lnTo>
                      <a:pt x="514" y="2083"/>
                    </a:lnTo>
                    <a:lnTo>
                      <a:pt x="1028" y="2153"/>
                    </a:lnTo>
                    <a:lnTo>
                      <a:pt x="1469" y="2048"/>
                    </a:lnTo>
                    <a:lnTo>
                      <a:pt x="1946" y="1341"/>
                    </a:lnTo>
                    <a:lnTo>
                      <a:pt x="2203" y="458"/>
                    </a:lnTo>
                    <a:lnTo>
                      <a:pt x="2056" y="0"/>
                    </a:lnTo>
                    <a:lnTo>
                      <a:pt x="22479" y="0"/>
                    </a:lnTo>
                    <a:lnTo>
                      <a:pt x="22443" y="529"/>
                    </a:lnTo>
                    <a:lnTo>
                      <a:pt x="22736" y="1306"/>
                    </a:lnTo>
                    <a:lnTo>
                      <a:pt x="23544" y="1977"/>
                    </a:lnTo>
                    <a:lnTo>
                      <a:pt x="24536" y="2048"/>
                    </a:lnTo>
                    <a:lnTo>
                      <a:pt x="25344" y="180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46280" y="1079640"/>
                <a:ext cx="23796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807320" y="1079640"/>
                <a:ext cx="23652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71440" y="6032520"/>
                <a:ext cx="8407440" cy="685800"/>
                <a:chOff x="271440" y="6032520"/>
                <a:chExt cx="8407440" cy="6858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88960" y="6032520"/>
                  <a:ext cx="76932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28760" y="6261120"/>
                  <a:ext cx="80136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1440" y="6489720"/>
                  <a:ext cx="840744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0" y="88920"/>
                <a:ext cx="9136440" cy="1035360"/>
              </a:xfrm>
              <a:custGeom>
                <a:avLst/>
                <a:gdLst/>
                <a:ahLst/>
                <a:rect l="0" t="0" r="r" b="b"/>
                <a:pathLst>
                  <a:path w="25379" h="2876">
                    <a:moveTo>
                      <a:pt x="0" y="1853"/>
                    </a:moveTo>
                    <a:lnTo>
                      <a:pt x="201" y="2117"/>
                    </a:lnTo>
                    <a:lnTo>
                      <a:pt x="422" y="2382"/>
                    </a:lnTo>
                    <a:lnTo>
                      <a:pt x="936" y="2646"/>
                    </a:lnTo>
                    <a:lnTo>
                      <a:pt x="1744" y="2770"/>
                    </a:lnTo>
                    <a:lnTo>
                      <a:pt x="2056" y="2787"/>
                    </a:lnTo>
                    <a:lnTo>
                      <a:pt x="3360" y="2876"/>
                    </a:lnTo>
                    <a:lnTo>
                      <a:pt x="22588" y="2876"/>
                    </a:lnTo>
                    <a:lnTo>
                      <a:pt x="24241" y="2664"/>
                    </a:lnTo>
                    <a:lnTo>
                      <a:pt x="25031" y="2276"/>
                    </a:lnTo>
                    <a:lnTo>
                      <a:pt x="25379" y="1764"/>
                    </a:lnTo>
                    <a:lnTo>
                      <a:pt x="24608" y="2029"/>
                    </a:lnTo>
                    <a:lnTo>
                      <a:pt x="23543" y="1958"/>
                    </a:lnTo>
                    <a:lnTo>
                      <a:pt x="22772" y="1287"/>
                    </a:lnTo>
                    <a:lnTo>
                      <a:pt x="22441" y="458"/>
                    </a:lnTo>
                    <a:lnTo>
                      <a:pt x="22515" y="0"/>
                    </a:lnTo>
                    <a:lnTo>
                      <a:pt x="2130" y="0"/>
                    </a:lnTo>
                    <a:lnTo>
                      <a:pt x="2295" y="458"/>
                    </a:lnTo>
                    <a:lnTo>
                      <a:pt x="2038" y="1287"/>
                    </a:lnTo>
                    <a:lnTo>
                      <a:pt x="1542" y="2064"/>
                    </a:lnTo>
                    <a:lnTo>
                      <a:pt x="1101" y="2135"/>
                    </a:lnTo>
                    <a:lnTo>
                      <a:pt x="569" y="2064"/>
                    </a:lnTo>
                    <a:lnTo>
                      <a:pt x="0" y="1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3048120" y="2057400"/>
            <a:ext cx="3124440" cy="2895840"/>
            <a:chOff x="3048120" y="2057400"/>
            <a:chExt cx="3124440" cy="2895840"/>
          </a:xfrm>
        </p:grpSpPr>
        <p:sp>
          <p:nvSpPr>
            <p:cNvPr id="51" name=""/>
            <p:cNvSpPr/>
            <p:nvPr/>
          </p:nvSpPr>
          <p:spPr>
            <a:xfrm>
              <a:off x="3165480" y="2568600"/>
              <a:ext cx="2876760" cy="2384640"/>
            </a:xfrm>
            <a:custGeom>
              <a:avLst/>
              <a:gdLst/>
              <a:ahLst/>
              <a:rect l="0" t="0" r="r" b="b"/>
              <a:pathLst>
                <a:path w="7991" h="6624">
                  <a:moveTo>
                    <a:pt x="4000" y="2609"/>
                  </a:moveTo>
                  <a:lnTo>
                    <a:pt x="3686" y="2587"/>
                  </a:lnTo>
                  <a:lnTo>
                    <a:pt x="3446" y="2341"/>
                  </a:lnTo>
                  <a:lnTo>
                    <a:pt x="3354" y="1980"/>
                  </a:lnTo>
                  <a:lnTo>
                    <a:pt x="3270" y="1626"/>
                  </a:lnTo>
                  <a:lnTo>
                    <a:pt x="3298" y="1284"/>
                  </a:lnTo>
                  <a:lnTo>
                    <a:pt x="3394" y="982"/>
                  </a:lnTo>
                  <a:lnTo>
                    <a:pt x="3550" y="714"/>
                  </a:lnTo>
                  <a:lnTo>
                    <a:pt x="3787" y="491"/>
                  </a:lnTo>
                  <a:lnTo>
                    <a:pt x="4060" y="338"/>
                  </a:lnTo>
                  <a:lnTo>
                    <a:pt x="4508" y="156"/>
                  </a:lnTo>
                  <a:lnTo>
                    <a:pt x="5049" y="18"/>
                  </a:lnTo>
                  <a:lnTo>
                    <a:pt x="5273" y="0"/>
                  </a:lnTo>
                  <a:lnTo>
                    <a:pt x="5497" y="29"/>
                  </a:lnTo>
                  <a:lnTo>
                    <a:pt x="6029" y="219"/>
                  </a:lnTo>
                  <a:lnTo>
                    <a:pt x="6350" y="364"/>
                  </a:lnTo>
                  <a:lnTo>
                    <a:pt x="6882" y="673"/>
                  </a:lnTo>
                  <a:lnTo>
                    <a:pt x="7206" y="1042"/>
                  </a:lnTo>
                  <a:lnTo>
                    <a:pt x="7723" y="1738"/>
                  </a:lnTo>
                  <a:lnTo>
                    <a:pt x="7919" y="2256"/>
                  </a:lnTo>
                  <a:lnTo>
                    <a:pt x="7991" y="2985"/>
                  </a:lnTo>
                  <a:lnTo>
                    <a:pt x="7983" y="3686"/>
                  </a:lnTo>
                  <a:lnTo>
                    <a:pt x="7843" y="4167"/>
                  </a:lnTo>
                  <a:lnTo>
                    <a:pt x="7639" y="4822"/>
                  </a:lnTo>
                  <a:lnTo>
                    <a:pt x="7402" y="5153"/>
                  </a:lnTo>
                  <a:lnTo>
                    <a:pt x="6894" y="5619"/>
                  </a:lnTo>
                  <a:lnTo>
                    <a:pt x="6418" y="5995"/>
                  </a:lnTo>
                  <a:lnTo>
                    <a:pt x="5765" y="6281"/>
                  </a:lnTo>
                  <a:lnTo>
                    <a:pt x="5237" y="6479"/>
                  </a:lnTo>
                  <a:lnTo>
                    <a:pt x="4376" y="6620"/>
                  </a:lnTo>
                  <a:lnTo>
                    <a:pt x="3767" y="6624"/>
                  </a:lnTo>
                  <a:lnTo>
                    <a:pt x="3110" y="6542"/>
                  </a:lnTo>
                  <a:lnTo>
                    <a:pt x="2401" y="6322"/>
                  </a:lnTo>
                  <a:lnTo>
                    <a:pt x="1677" y="5972"/>
                  </a:lnTo>
                  <a:lnTo>
                    <a:pt x="1192" y="5619"/>
                  </a:lnTo>
                  <a:lnTo>
                    <a:pt x="776" y="5235"/>
                  </a:lnTo>
                  <a:lnTo>
                    <a:pt x="420" y="4822"/>
                  </a:lnTo>
                  <a:lnTo>
                    <a:pt x="168" y="4409"/>
                  </a:lnTo>
                  <a:lnTo>
                    <a:pt x="0" y="4096"/>
                  </a:lnTo>
                  <a:lnTo>
                    <a:pt x="400" y="4479"/>
                  </a:lnTo>
                  <a:lnTo>
                    <a:pt x="788" y="4908"/>
                  </a:lnTo>
                  <a:lnTo>
                    <a:pt x="1417" y="5280"/>
                  </a:lnTo>
                  <a:lnTo>
                    <a:pt x="1965" y="5548"/>
                  </a:lnTo>
                  <a:lnTo>
                    <a:pt x="2465" y="5782"/>
                  </a:lnTo>
                  <a:lnTo>
                    <a:pt x="3182" y="5917"/>
                  </a:lnTo>
                  <a:lnTo>
                    <a:pt x="3795" y="5939"/>
                  </a:lnTo>
                  <a:lnTo>
                    <a:pt x="4160" y="5835"/>
                  </a:lnTo>
                  <a:lnTo>
                    <a:pt x="4780" y="5548"/>
                  </a:lnTo>
                  <a:lnTo>
                    <a:pt x="5341" y="5258"/>
                  </a:lnTo>
                  <a:lnTo>
                    <a:pt x="5653" y="4807"/>
                  </a:lnTo>
                  <a:lnTo>
                    <a:pt x="5953" y="4062"/>
                  </a:lnTo>
                  <a:lnTo>
                    <a:pt x="6013" y="3616"/>
                  </a:lnTo>
                  <a:lnTo>
                    <a:pt x="5909" y="3108"/>
                  </a:lnTo>
                  <a:lnTo>
                    <a:pt x="5561" y="2721"/>
                  </a:lnTo>
                  <a:lnTo>
                    <a:pt x="5201" y="2475"/>
                  </a:lnTo>
                  <a:lnTo>
                    <a:pt x="4760" y="2364"/>
                  </a:lnTo>
                  <a:lnTo>
                    <a:pt x="4412" y="2375"/>
                  </a:lnTo>
                  <a:lnTo>
                    <a:pt x="4256" y="2509"/>
                  </a:lnTo>
                  <a:lnTo>
                    <a:pt x="4000" y="260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2057400"/>
              <a:ext cx="2298960" cy="2659320"/>
            </a:xfrm>
            <a:custGeom>
              <a:avLst/>
              <a:gdLst/>
              <a:ahLst/>
              <a:rect l="0" t="0" r="r" b="b"/>
              <a:pathLst>
                <a:path w="6386" h="7387">
                  <a:moveTo>
                    <a:pt x="4332" y="4026"/>
                  </a:moveTo>
                  <a:lnTo>
                    <a:pt x="4612" y="3818"/>
                  </a:lnTo>
                  <a:lnTo>
                    <a:pt x="4917" y="3751"/>
                  </a:lnTo>
                  <a:lnTo>
                    <a:pt x="5325" y="3796"/>
                  </a:lnTo>
                  <a:lnTo>
                    <a:pt x="5685" y="3941"/>
                  </a:lnTo>
                  <a:lnTo>
                    <a:pt x="5985" y="4142"/>
                  </a:lnTo>
                  <a:lnTo>
                    <a:pt x="6154" y="4376"/>
                  </a:lnTo>
                  <a:lnTo>
                    <a:pt x="6314" y="4684"/>
                  </a:lnTo>
                  <a:lnTo>
                    <a:pt x="6386" y="4997"/>
                  </a:lnTo>
                  <a:lnTo>
                    <a:pt x="6374" y="5290"/>
                  </a:lnTo>
                  <a:lnTo>
                    <a:pt x="6290" y="5736"/>
                  </a:lnTo>
                  <a:lnTo>
                    <a:pt x="6114" y="6231"/>
                  </a:lnTo>
                  <a:lnTo>
                    <a:pt x="6001" y="6413"/>
                  </a:lnTo>
                  <a:lnTo>
                    <a:pt x="5857" y="6569"/>
                  </a:lnTo>
                  <a:lnTo>
                    <a:pt x="5393" y="6881"/>
                  </a:lnTo>
                  <a:lnTo>
                    <a:pt x="5081" y="7049"/>
                  </a:lnTo>
                  <a:lnTo>
                    <a:pt x="4512" y="7290"/>
                  </a:lnTo>
                  <a:lnTo>
                    <a:pt x="4064" y="7387"/>
                  </a:lnTo>
                  <a:lnTo>
                    <a:pt x="3094" y="7350"/>
                  </a:lnTo>
                  <a:lnTo>
                    <a:pt x="2369" y="7190"/>
                  </a:lnTo>
                  <a:lnTo>
                    <a:pt x="1825" y="6878"/>
                  </a:lnTo>
                  <a:lnTo>
                    <a:pt x="1200" y="6480"/>
                  </a:lnTo>
                  <a:lnTo>
                    <a:pt x="852" y="6108"/>
                  </a:lnTo>
                  <a:lnTo>
                    <a:pt x="372" y="5591"/>
                  </a:lnTo>
                  <a:lnTo>
                    <a:pt x="208" y="5223"/>
                  </a:lnTo>
                  <a:lnTo>
                    <a:pt x="72" y="4577"/>
                  </a:lnTo>
                  <a:lnTo>
                    <a:pt x="0" y="4000"/>
                  </a:lnTo>
                  <a:lnTo>
                    <a:pt x="100" y="3334"/>
                  </a:lnTo>
                  <a:lnTo>
                    <a:pt x="216" y="2817"/>
                  </a:lnTo>
                  <a:lnTo>
                    <a:pt x="564" y="2070"/>
                  </a:lnTo>
                  <a:lnTo>
                    <a:pt x="896" y="1594"/>
                  </a:lnTo>
                  <a:lnTo>
                    <a:pt x="1333" y="1133"/>
                  </a:lnTo>
                  <a:lnTo>
                    <a:pt x="1917" y="706"/>
                  </a:lnTo>
                  <a:lnTo>
                    <a:pt x="2634" y="341"/>
                  </a:lnTo>
                  <a:lnTo>
                    <a:pt x="3219" y="163"/>
                  </a:lnTo>
                  <a:lnTo>
                    <a:pt x="3796" y="44"/>
                  </a:lnTo>
                  <a:lnTo>
                    <a:pt x="4360" y="0"/>
                  </a:lnTo>
                  <a:lnTo>
                    <a:pt x="4873" y="63"/>
                  </a:lnTo>
                  <a:lnTo>
                    <a:pt x="5265" y="122"/>
                  </a:lnTo>
                  <a:lnTo>
                    <a:pt x="4680" y="174"/>
                  </a:lnTo>
                  <a:lnTo>
                    <a:pt x="4080" y="237"/>
                  </a:lnTo>
                  <a:lnTo>
                    <a:pt x="3363" y="464"/>
                  </a:lnTo>
                  <a:lnTo>
                    <a:pt x="2674" y="739"/>
                  </a:lnTo>
                  <a:lnTo>
                    <a:pt x="2317" y="1003"/>
                  </a:lnTo>
                  <a:lnTo>
                    <a:pt x="1853" y="1538"/>
                  </a:lnTo>
                  <a:lnTo>
                    <a:pt x="1433" y="2137"/>
                  </a:lnTo>
                  <a:lnTo>
                    <a:pt x="1385" y="2338"/>
                  </a:lnTo>
                  <a:lnTo>
                    <a:pt x="1237" y="2936"/>
                  </a:lnTo>
                  <a:lnTo>
                    <a:pt x="1253" y="3568"/>
                  </a:lnTo>
                  <a:lnTo>
                    <a:pt x="1481" y="4064"/>
                  </a:lnTo>
                  <a:lnTo>
                    <a:pt x="1989" y="4707"/>
                  </a:lnTo>
                  <a:lnTo>
                    <a:pt x="2357" y="4997"/>
                  </a:lnTo>
                  <a:lnTo>
                    <a:pt x="2862" y="5201"/>
                  </a:lnTo>
                  <a:lnTo>
                    <a:pt x="3443" y="5138"/>
                  </a:lnTo>
                  <a:lnTo>
                    <a:pt x="3844" y="4971"/>
                  </a:lnTo>
                  <a:lnTo>
                    <a:pt x="4204" y="4733"/>
                  </a:lnTo>
                  <a:lnTo>
                    <a:pt x="4408" y="4406"/>
                  </a:lnTo>
                  <a:lnTo>
                    <a:pt x="4396" y="4182"/>
                  </a:lnTo>
                  <a:lnTo>
                    <a:pt x="4332" y="402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40160" y="2073240"/>
              <a:ext cx="2732400" cy="2304000"/>
            </a:xfrm>
            <a:custGeom>
              <a:avLst/>
              <a:gdLst/>
              <a:ahLst/>
              <a:rect l="0" t="0" r="r" b="b"/>
              <a:pathLst>
                <a:path w="7590" h="6400">
                  <a:moveTo>
                    <a:pt x="3279" y="3994"/>
                  </a:moveTo>
                  <a:lnTo>
                    <a:pt x="3364" y="4313"/>
                  </a:lnTo>
                  <a:lnTo>
                    <a:pt x="3295" y="4607"/>
                  </a:lnTo>
                  <a:lnTo>
                    <a:pt x="3063" y="4879"/>
                  </a:lnTo>
                  <a:lnTo>
                    <a:pt x="2787" y="5132"/>
                  </a:lnTo>
                  <a:lnTo>
                    <a:pt x="2458" y="5292"/>
                  </a:lnTo>
                  <a:lnTo>
                    <a:pt x="2138" y="5374"/>
                  </a:lnTo>
                  <a:lnTo>
                    <a:pt x="1810" y="5392"/>
                  </a:lnTo>
                  <a:lnTo>
                    <a:pt x="1477" y="5326"/>
                  </a:lnTo>
                  <a:lnTo>
                    <a:pt x="1193" y="5188"/>
                  </a:lnTo>
                  <a:lnTo>
                    <a:pt x="792" y="4939"/>
                  </a:lnTo>
                  <a:lnTo>
                    <a:pt x="372" y="4585"/>
                  </a:lnTo>
                  <a:lnTo>
                    <a:pt x="240" y="4410"/>
                  </a:lnTo>
                  <a:lnTo>
                    <a:pt x="148" y="4217"/>
                  </a:lnTo>
                  <a:lnTo>
                    <a:pt x="36" y="3704"/>
                  </a:lnTo>
                  <a:lnTo>
                    <a:pt x="0" y="3376"/>
                  </a:lnTo>
                  <a:lnTo>
                    <a:pt x="4" y="2793"/>
                  </a:lnTo>
                  <a:lnTo>
                    <a:pt x="172" y="2339"/>
                  </a:lnTo>
                  <a:lnTo>
                    <a:pt x="528" y="1565"/>
                  </a:lnTo>
                  <a:lnTo>
                    <a:pt x="897" y="1130"/>
                  </a:lnTo>
                  <a:lnTo>
                    <a:pt x="1525" y="691"/>
                  </a:lnTo>
                  <a:lnTo>
                    <a:pt x="2166" y="330"/>
                  </a:lnTo>
                  <a:lnTo>
                    <a:pt x="2683" y="189"/>
                  </a:lnTo>
                  <a:lnTo>
                    <a:pt x="3380" y="0"/>
                  </a:lnTo>
                  <a:lnTo>
                    <a:pt x="3809" y="7"/>
                  </a:lnTo>
                  <a:lnTo>
                    <a:pt x="4506" y="167"/>
                  </a:lnTo>
                  <a:lnTo>
                    <a:pt x="5103" y="342"/>
                  </a:lnTo>
                  <a:lnTo>
                    <a:pt x="5715" y="702"/>
                  </a:lnTo>
                  <a:lnTo>
                    <a:pt x="6164" y="1011"/>
                  </a:lnTo>
                  <a:lnTo>
                    <a:pt x="6757" y="1618"/>
                  </a:lnTo>
                  <a:lnTo>
                    <a:pt x="7085" y="2094"/>
                  </a:lnTo>
                  <a:lnTo>
                    <a:pt x="7357" y="2663"/>
                  </a:lnTo>
                  <a:lnTo>
                    <a:pt x="7538" y="3324"/>
                  </a:lnTo>
                  <a:lnTo>
                    <a:pt x="7590" y="4083"/>
                  </a:lnTo>
                  <a:lnTo>
                    <a:pt x="7526" y="4655"/>
                  </a:lnTo>
                  <a:lnTo>
                    <a:pt x="7401" y="5188"/>
                  </a:lnTo>
                  <a:lnTo>
                    <a:pt x="7213" y="5682"/>
                  </a:lnTo>
                  <a:lnTo>
                    <a:pt x="6949" y="6110"/>
                  </a:lnTo>
                  <a:lnTo>
                    <a:pt x="6733" y="6400"/>
                  </a:lnTo>
                  <a:lnTo>
                    <a:pt x="6909" y="5880"/>
                  </a:lnTo>
                  <a:lnTo>
                    <a:pt x="7097" y="5355"/>
                  </a:lnTo>
                  <a:lnTo>
                    <a:pt x="7169" y="4655"/>
                  </a:lnTo>
                  <a:lnTo>
                    <a:pt x="7165" y="3967"/>
                  </a:lnTo>
                  <a:lnTo>
                    <a:pt x="7077" y="3547"/>
                  </a:lnTo>
                  <a:lnTo>
                    <a:pt x="6745" y="2934"/>
                  </a:lnTo>
                  <a:lnTo>
                    <a:pt x="6332" y="2332"/>
                  </a:lnTo>
                  <a:lnTo>
                    <a:pt x="6152" y="2201"/>
                  </a:lnTo>
                  <a:lnTo>
                    <a:pt x="5631" y="1830"/>
                  </a:lnTo>
                  <a:lnTo>
                    <a:pt x="5003" y="1580"/>
                  </a:lnTo>
                  <a:lnTo>
                    <a:pt x="4422" y="1576"/>
                  </a:lnTo>
                  <a:lnTo>
                    <a:pt x="3588" y="1729"/>
                  </a:lnTo>
                  <a:lnTo>
                    <a:pt x="3147" y="1919"/>
                  </a:lnTo>
                  <a:lnTo>
                    <a:pt x="2743" y="2268"/>
                  </a:lnTo>
                  <a:lnTo>
                    <a:pt x="2559" y="2781"/>
                  </a:lnTo>
                  <a:lnTo>
                    <a:pt x="2551" y="3187"/>
                  </a:lnTo>
                  <a:lnTo>
                    <a:pt x="2659" y="3633"/>
                  </a:lnTo>
                  <a:lnTo>
                    <a:pt x="2875" y="3901"/>
                  </a:lnTo>
                  <a:lnTo>
                    <a:pt x="3091" y="3979"/>
                  </a:lnTo>
                  <a:lnTo>
                    <a:pt x="3279" y="39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609480" y="0"/>
            <a:ext cx="8077320" cy="2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000000"/>
                </a:solidFill>
                <a:latin typeface="Marigold"/>
                <a:ea typeface="Marigold"/>
              </a:rPr>
              <a:t>TALK TIP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4940280"/>
            <a:ext cx="807732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6000" spc="-1" strike="noStrike">
                <a:solidFill>
                  <a:srgbClr val="000000"/>
                </a:solidFill>
                <a:latin typeface="Marigold"/>
                <a:ea typeface="Marigold"/>
              </a:rPr>
              <a:t>The Daily Language Pro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53080" y="2438280"/>
            <a:ext cx="2209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00800" y="3441600"/>
            <a:ext cx="274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A Cheap Sequ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0000"/>
                </a:solidFill>
                <a:latin typeface="Times New Roman"/>
                <a:ea typeface="Times New Roman"/>
              </a:rPr>
              <a:t>NC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57200" y="6006960"/>
            <a:ext cx="8229960" cy="584640"/>
          </a:xfrm>
          <a:custGeom>
            <a:avLst/>
            <a:gdLst/>
            <a:ahLst/>
            <a:rect l="0" t="0" r="r" b="b"/>
            <a:pathLst>
              <a:path w="22861" h="1624">
                <a:moveTo>
                  <a:pt x="12140" y="176"/>
                </a:moveTo>
                <a:lnTo>
                  <a:pt x="11856" y="141"/>
                </a:lnTo>
                <a:lnTo>
                  <a:pt x="11643" y="141"/>
                </a:lnTo>
                <a:lnTo>
                  <a:pt x="11431" y="176"/>
                </a:lnTo>
                <a:lnTo>
                  <a:pt x="11217" y="211"/>
                </a:lnTo>
                <a:lnTo>
                  <a:pt x="11004" y="176"/>
                </a:lnTo>
                <a:lnTo>
                  <a:pt x="10791" y="176"/>
                </a:lnTo>
                <a:lnTo>
                  <a:pt x="10578" y="141"/>
                </a:lnTo>
                <a:lnTo>
                  <a:pt x="10365" y="141"/>
                </a:lnTo>
                <a:lnTo>
                  <a:pt x="10152" y="141"/>
                </a:lnTo>
                <a:lnTo>
                  <a:pt x="9939" y="141"/>
                </a:lnTo>
                <a:lnTo>
                  <a:pt x="9726" y="176"/>
                </a:lnTo>
                <a:lnTo>
                  <a:pt x="9513" y="176"/>
                </a:lnTo>
                <a:lnTo>
                  <a:pt x="9300" y="176"/>
                </a:lnTo>
                <a:lnTo>
                  <a:pt x="9087" y="176"/>
                </a:lnTo>
                <a:lnTo>
                  <a:pt x="8874" y="176"/>
                </a:lnTo>
                <a:lnTo>
                  <a:pt x="8661" y="176"/>
                </a:lnTo>
                <a:lnTo>
                  <a:pt x="8448" y="176"/>
                </a:lnTo>
                <a:lnTo>
                  <a:pt x="8235" y="176"/>
                </a:lnTo>
                <a:lnTo>
                  <a:pt x="8022" y="176"/>
                </a:lnTo>
                <a:lnTo>
                  <a:pt x="7809" y="141"/>
                </a:lnTo>
                <a:lnTo>
                  <a:pt x="7596" y="105"/>
                </a:lnTo>
                <a:lnTo>
                  <a:pt x="7383" y="105"/>
                </a:lnTo>
                <a:lnTo>
                  <a:pt x="7170" y="141"/>
                </a:lnTo>
                <a:lnTo>
                  <a:pt x="6886" y="176"/>
                </a:lnTo>
                <a:lnTo>
                  <a:pt x="6602" y="211"/>
                </a:lnTo>
                <a:lnTo>
                  <a:pt x="6318" y="176"/>
                </a:lnTo>
                <a:lnTo>
                  <a:pt x="6034" y="141"/>
                </a:lnTo>
                <a:lnTo>
                  <a:pt x="5821" y="105"/>
                </a:lnTo>
                <a:lnTo>
                  <a:pt x="5608" y="105"/>
                </a:lnTo>
                <a:lnTo>
                  <a:pt x="5395" y="105"/>
                </a:lnTo>
                <a:lnTo>
                  <a:pt x="5182" y="105"/>
                </a:lnTo>
                <a:lnTo>
                  <a:pt x="4969" y="105"/>
                </a:lnTo>
                <a:lnTo>
                  <a:pt x="4756" y="141"/>
                </a:lnTo>
                <a:lnTo>
                  <a:pt x="4543" y="141"/>
                </a:lnTo>
                <a:lnTo>
                  <a:pt x="4330" y="141"/>
                </a:lnTo>
                <a:lnTo>
                  <a:pt x="4117" y="105"/>
                </a:lnTo>
                <a:lnTo>
                  <a:pt x="3904" y="70"/>
                </a:lnTo>
                <a:lnTo>
                  <a:pt x="3691" y="35"/>
                </a:lnTo>
                <a:lnTo>
                  <a:pt x="3478" y="0"/>
                </a:lnTo>
                <a:lnTo>
                  <a:pt x="3265" y="35"/>
                </a:lnTo>
                <a:lnTo>
                  <a:pt x="3052" y="35"/>
                </a:lnTo>
                <a:lnTo>
                  <a:pt x="2839" y="35"/>
                </a:lnTo>
                <a:lnTo>
                  <a:pt x="2626" y="35"/>
                </a:lnTo>
                <a:lnTo>
                  <a:pt x="2413" y="35"/>
                </a:lnTo>
                <a:lnTo>
                  <a:pt x="2200" y="35"/>
                </a:lnTo>
                <a:lnTo>
                  <a:pt x="1987" y="70"/>
                </a:lnTo>
                <a:lnTo>
                  <a:pt x="1774" y="141"/>
                </a:lnTo>
                <a:lnTo>
                  <a:pt x="1561" y="246"/>
                </a:lnTo>
                <a:lnTo>
                  <a:pt x="1348" y="317"/>
                </a:lnTo>
                <a:lnTo>
                  <a:pt x="1135" y="352"/>
                </a:lnTo>
                <a:lnTo>
                  <a:pt x="922" y="352"/>
                </a:lnTo>
                <a:lnTo>
                  <a:pt x="709" y="352"/>
                </a:lnTo>
                <a:lnTo>
                  <a:pt x="496" y="352"/>
                </a:lnTo>
                <a:lnTo>
                  <a:pt x="283" y="388"/>
                </a:lnTo>
                <a:lnTo>
                  <a:pt x="70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212" y="812"/>
                </a:lnTo>
                <a:lnTo>
                  <a:pt x="425" y="882"/>
                </a:lnTo>
                <a:lnTo>
                  <a:pt x="638" y="882"/>
                </a:lnTo>
                <a:lnTo>
                  <a:pt x="851" y="882"/>
                </a:lnTo>
                <a:lnTo>
                  <a:pt x="1064" y="882"/>
                </a:lnTo>
                <a:lnTo>
                  <a:pt x="1277" y="882"/>
                </a:lnTo>
                <a:lnTo>
                  <a:pt x="1490" y="918"/>
                </a:lnTo>
                <a:lnTo>
                  <a:pt x="1632" y="1024"/>
                </a:lnTo>
                <a:lnTo>
                  <a:pt x="1774" y="1129"/>
                </a:lnTo>
                <a:lnTo>
                  <a:pt x="1987" y="1200"/>
                </a:lnTo>
                <a:lnTo>
                  <a:pt x="2200" y="1200"/>
                </a:lnTo>
                <a:lnTo>
                  <a:pt x="2413" y="1165"/>
                </a:lnTo>
                <a:lnTo>
                  <a:pt x="2626" y="1129"/>
                </a:lnTo>
                <a:lnTo>
                  <a:pt x="2839" y="1094"/>
                </a:lnTo>
                <a:lnTo>
                  <a:pt x="3052" y="1094"/>
                </a:lnTo>
                <a:lnTo>
                  <a:pt x="3265" y="1165"/>
                </a:lnTo>
                <a:lnTo>
                  <a:pt x="3478" y="1236"/>
                </a:lnTo>
                <a:lnTo>
                  <a:pt x="3691" y="1272"/>
                </a:lnTo>
                <a:lnTo>
                  <a:pt x="3904" y="1272"/>
                </a:lnTo>
                <a:lnTo>
                  <a:pt x="4046" y="1377"/>
                </a:lnTo>
                <a:lnTo>
                  <a:pt x="4188" y="1483"/>
                </a:lnTo>
                <a:lnTo>
                  <a:pt x="4330" y="1589"/>
                </a:lnTo>
                <a:lnTo>
                  <a:pt x="4543" y="1624"/>
                </a:lnTo>
                <a:lnTo>
                  <a:pt x="4614" y="1518"/>
                </a:lnTo>
                <a:lnTo>
                  <a:pt x="4614" y="1413"/>
                </a:lnTo>
                <a:lnTo>
                  <a:pt x="4827" y="1377"/>
                </a:lnTo>
                <a:lnTo>
                  <a:pt x="5040" y="1377"/>
                </a:lnTo>
                <a:lnTo>
                  <a:pt x="5253" y="1483"/>
                </a:lnTo>
                <a:lnTo>
                  <a:pt x="5466" y="1518"/>
                </a:lnTo>
                <a:lnTo>
                  <a:pt x="5679" y="1554"/>
                </a:lnTo>
                <a:lnTo>
                  <a:pt x="5892" y="1518"/>
                </a:lnTo>
                <a:lnTo>
                  <a:pt x="6105" y="1413"/>
                </a:lnTo>
                <a:lnTo>
                  <a:pt x="6318" y="1413"/>
                </a:lnTo>
                <a:lnTo>
                  <a:pt x="6531" y="1413"/>
                </a:lnTo>
                <a:lnTo>
                  <a:pt x="6744" y="1448"/>
                </a:lnTo>
                <a:lnTo>
                  <a:pt x="7028" y="1554"/>
                </a:lnTo>
                <a:lnTo>
                  <a:pt x="7241" y="1589"/>
                </a:lnTo>
                <a:lnTo>
                  <a:pt x="7454" y="1624"/>
                </a:lnTo>
                <a:lnTo>
                  <a:pt x="7667" y="1518"/>
                </a:lnTo>
                <a:lnTo>
                  <a:pt x="7880" y="1483"/>
                </a:lnTo>
                <a:lnTo>
                  <a:pt x="8093" y="1448"/>
                </a:lnTo>
                <a:lnTo>
                  <a:pt x="8306" y="1413"/>
                </a:lnTo>
                <a:lnTo>
                  <a:pt x="8519" y="1377"/>
                </a:lnTo>
                <a:lnTo>
                  <a:pt x="8732" y="1342"/>
                </a:lnTo>
                <a:lnTo>
                  <a:pt x="8945" y="1342"/>
                </a:lnTo>
                <a:lnTo>
                  <a:pt x="9158" y="1342"/>
                </a:lnTo>
                <a:lnTo>
                  <a:pt x="9371" y="1377"/>
                </a:lnTo>
                <a:lnTo>
                  <a:pt x="9584" y="1413"/>
                </a:lnTo>
                <a:lnTo>
                  <a:pt x="9797" y="1448"/>
                </a:lnTo>
                <a:lnTo>
                  <a:pt x="10010" y="1448"/>
                </a:lnTo>
                <a:lnTo>
                  <a:pt x="10223" y="1483"/>
                </a:lnTo>
                <a:lnTo>
                  <a:pt x="10436" y="1483"/>
                </a:lnTo>
                <a:lnTo>
                  <a:pt x="10720" y="1448"/>
                </a:lnTo>
                <a:lnTo>
                  <a:pt x="10933" y="1413"/>
                </a:lnTo>
                <a:lnTo>
                  <a:pt x="11146" y="1377"/>
                </a:lnTo>
                <a:lnTo>
                  <a:pt x="11359" y="1377"/>
                </a:lnTo>
                <a:lnTo>
                  <a:pt x="11572" y="1342"/>
                </a:lnTo>
                <a:lnTo>
                  <a:pt x="11785" y="1307"/>
                </a:lnTo>
                <a:lnTo>
                  <a:pt x="11998" y="1272"/>
                </a:lnTo>
                <a:lnTo>
                  <a:pt x="12211" y="1236"/>
                </a:lnTo>
                <a:lnTo>
                  <a:pt x="12424" y="1200"/>
                </a:lnTo>
                <a:lnTo>
                  <a:pt x="12637" y="1165"/>
                </a:lnTo>
                <a:lnTo>
                  <a:pt x="12850" y="1165"/>
                </a:lnTo>
                <a:lnTo>
                  <a:pt x="13063" y="1165"/>
                </a:lnTo>
                <a:lnTo>
                  <a:pt x="13276" y="1165"/>
                </a:lnTo>
                <a:lnTo>
                  <a:pt x="13489" y="1165"/>
                </a:lnTo>
                <a:lnTo>
                  <a:pt x="13702" y="1200"/>
                </a:lnTo>
                <a:lnTo>
                  <a:pt x="13915" y="1236"/>
                </a:lnTo>
                <a:lnTo>
                  <a:pt x="14128" y="1272"/>
                </a:lnTo>
                <a:lnTo>
                  <a:pt x="14341" y="1272"/>
                </a:lnTo>
                <a:lnTo>
                  <a:pt x="14554" y="1272"/>
                </a:lnTo>
                <a:lnTo>
                  <a:pt x="14838" y="1272"/>
                </a:lnTo>
                <a:lnTo>
                  <a:pt x="15122" y="1200"/>
                </a:lnTo>
                <a:lnTo>
                  <a:pt x="15335" y="1165"/>
                </a:lnTo>
                <a:lnTo>
                  <a:pt x="15548" y="1129"/>
                </a:lnTo>
                <a:lnTo>
                  <a:pt x="15832" y="1129"/>
                </a:lnTo>
                <a:lnTo>
                  <a:pt x="16116" y="1165"/>
                </a:lnTo>
                <a:lnTo>
                  <a:pt x="16400" y="1200"/>
                </a:lnTo>
                <a:lnTo>
                  <a:pt x="16613" y="1272"/>
                </a:lnTo>
                <a:lnTo>
                  <a:pt x="16826" y="1307"/>
                </a:lnTo>
                <a:lnTo>
                  <a:pt x="17039" y="1342"/>
                </a:lnTo>
                <a:lnTo>
                  <a:pt x="17252" y="1342"/>
                </a:lnTo>
                <a:lnTo>
                  <a:pt x="17536" y="1272"/>
                </a:lnTo>
                <a:lnTo>
                  <a:pt x="17749" y="1236"/>
                </a:lnTo>
                <a:lnTo>
                  <a:pt x="17962" y="1165"/>
                </a:lnTo>
                <a:lnTo>
                  <a:pt x="18175" y="1129"/>
                </a:lnTo>
                <a:lnTo>
                  <a:pt x="18388" y="1129"/>
                </a:lnTo>
                <a:lnTo>
                  <a:pt x="18672" y="1129"/>
                </a:lnTo>
                <a:lnTo>
                  <a:pt x="18956" y="1129"/>
                </a:lnTo>
                <a:lnTo>
                  <a:pt x="19240" y="1129"/>
                </a:lnTo>
                <a:lnTo>
                  <a:pt x="19453" y="1165"/>
                </a:lnTo>
                <a:lnTo>
                  <a:pt x="19666" y="1165"/>
                </a:lnTo>
                <a:lnTo>
                  <a:pt x="19879" y="1200"/>
                </a:lnTo>
                <a:lnTo>
                  <a:pt x="20092" y="1200"/>
                </a:lnTo>
                <a:lnTo>
                  <a:pt x="20376" y="1200"/>
                </a:lnTo>
                <a:lnTo>
                  <a:pt x="20660" y="1200"/>
                </a:lnTo>
                <a:lnTo>
                  <a:pt x="20873" y="1129"/>
                </a:lnTo>
                <a:lnTo>
                  <a:pt x="21086" y="1094"/>
                </a:lnTo>
                <a:lnTo>
                  <a:pt x="21299" y="1094"/>
                </a:lnTo>
                <a:lnTo>
                  <a:pt x="21512" y="1094"/>
                </a:lnTo>
                <a:lnTo>
                  <a:pt x="21725" y="1094"/>
                </a:lnTo>
                <a:lnTo>
                  <a:pt x="21938" y="1094"/>
                </a:lnTo>
                <a:lnTo>
                  <a:pt x="22151" y="1059"/>
                </a:lnTo>
                <a:lnTo>
                  <a:pt x="22364" y="1024"/>
                </a:lnTo>
                <a:lnTo>
                  <a:pt x="22577" y="988"/>
                </a:lnTo>
                <a:lnTo>
                  <a:pt x="22790" y="918"/>
                </a:lnTo>
                <a:lnTo>
                  <a:pt x="22861" y="812"/>
                </a:lnTo>
                <a:lnTo>
                  <a:pt x="22861" y="706"/>
                </a:lnTo>
                <a:lnTo>
                  <a:pt x="22790" y="600"/>
                </a:lnTo>
                <a:lnTo>
                  <a:pt x="22577" y="494"/>
                </a:lnTo>
                <a:lnTo>
                  <a:pt x="22364" y="494"/>
                </a:lnTo>
                <a:lnTo>
                  <a:pt x="22151" y="459"/>
                </a:lnTo>
                <a:lnTo>
                  <a:pt x="21938" y="459"/>
                </a:lnTo>
                <a:lnTo>
                  <a:pt x="21725" y="424"/>
                </a:lnTo>
                <a:lnTo>
                  <a:pt x="21441" y="352"/>
                </a:lnTo>
                <a:lnTo>
                  <a:pt x="21228" y="317"/>
                </a:lnTo>
                <a:lnTo>
                  <a:pt x="21015" y="246"/>
                </a:lnTo>
                <a:lnTo>
                  <a:pt x="20802" y="211"/>
                </a:lnTo>
                <a:lnTo>
                  <a:pt x="20589" y="176"/>
                </a:lnTo>
                <a:lnTo>
                  <a:pt x="20376" y="211"/>
                </a:lnTo>
                <a:lnTo>
                  <a:pt x="20163" y="211"/>
                </a:lnTo>
                <a:lnTo>
                  <a:pt x="19950" y="211"/>
                </a:lnTo>
                <a:lnTo>
                  <a:pt x="19737" y="211"/>
                </a:lnTo>
                <a:lnTo>
                  <a:pt x="19524" y="211"/>
                </a:lnTo>
                <a:lnTo>
                  <a:pt x="19311" y="211"/>
                </a:lnTo>
                <a:lnTo>
                  <a:pt x="19098" y="211"/>
                </a:lnTo>
                <a:lnTo>
                  <a:pt x="18885" y="246"/>
                </a:lnTo>
                <a:lnTo>
                  <a:pt x="18672" y="246"/>
                </a:lnTo>
                <a:lnTo>
                  <a:pt x="18459" y="211"/>
                </a:lnTo>
                <a:lnTo>
                  <a:pt x="18246" y="211"/>
                </a:lnTo>
                <a:lnTo>
                  <a:pt x="18033" y="176"/>
                </a:lnTo>
                <a:lnTo>
                  <a:pt x="17820" y="176"/>
                </a:lnTo>
                <a:lnTo>
                  <a:pt x="17536" y="211"/>
                </a:lnTo>
                <a:lnTo>
                  <a:pt x="17323" y="246"/>
                </a:lnTo>
                <a:lnTo>
                  <a:pt x="17110" y="246"/>
                </a:lnTo>
                <a:lnTo>
                  <a:pt x="16897" y="246"/>
                </a:lnTo>
                <a:lnTo>
                  <a:pt x="16684" y="282"/>
                </a:lnTo>
                <a:lnTo>
                  <a:pt x="16471" y="282"/>
                </a:lnTo>
                <a:lnTo>
                  <a:pt x="16187" y="282"/>
                </a:lnTo>
                <a:lnTo>
                  <a:pt x="15974" y="282"/>
                </a:lnTo>
                <a:lnTo>
                  <a:pt x="15690" y="282"/>
                </a:lnTo>
                <a:lnTo>
                  <a:pt x="15406" y="211"/>
                </a:lnTo>
                <a:lnTo>
                  <a:pt x="15193" y="211"/>
                </a:lnTo>
                <a:lnTo>
                  <a:pt x="14980" y="211"/>
                </a:lnTo>
                <a:lnTo>
                  <a:pt x="14696" y="211"/>
                </a:lnTo>
                <a:lnTo>
                  <a:pt x="14412" y="211"/>
                </a:lnTo>
                <a:lnTo>
                  <a:pt x="14199" y="246"/>
                </a:lnTo>
                <a:lnTo>
                  <a:pt x="13986" y="282"/>
                </a:lnTo>
                <a:lnTo>
                  <a:pt x="13773" y="246"/>
                </a:lnTo>
                <a:lnTo>
                  <a:pt x="13560" y="246"/>
                </a:lnTo>
                <a:lnTo>
                  <a:pt x="13347" y="211"/>
                </a:lnTo>
                <a:lnTo>
                  <a:pt x="13134" y="211"/>
                </a:lnTo>
                <a:lnTo>
                  <a:pt x="12921" y="211"/>
                </a:lnTo>
                <a:lnTo>
                  <a:pt x="12708" y="211"/>
                </a:lnTo>
                <a:lnTo>
                  <a:pt x="12495" y="211"/>
                </a:lnTo>
                <a:lnTo>
                  <a:pt x="12140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657600" y="1066680"/>
            <a:ext cx="1600200" cy="919440"/>
            <a:chOff x="3657600" y="1066680"/>
            <a:chExt cx="1600200" cy="919440"/>
          </a:xfrm>
        </p:grpSpPr>
        <p:sp>
          <p:nvSpPr>
            <p:cNvPr id="712" name=""/>
            <p:cNvSpPr/>
            <p:nvPr/>
          </p:nvSpPr>
          <p:spPr>
            <a:xfrm>
              <a:off x="37468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794" y="217"/>
                  </a:moveTo>
                  <a:lnTo>
                    <a:pt x="612" y="0"/>
                  </a:lnTo>
                  <a:lnTo>
                    <a:pt x="0" y="699"/>
                  </a:lnTo>
                  <a:lnTo>
                    <a:pt x="794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574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0" y="217"/>
                  </a:moveTo>
                  <a:lnTo>
                    <a:pt x="181" y="0"/>
                  </a:lnTo>
                  <a:lnTo>
                    <a:pt x="794" y="699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7600" y="1066680"/>
              <a:ext cx="1600200" cy="83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29040" y="169560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93" y="159"/>
                  </a:moveTo>
                  <a:lnTo>
                    <a:pt x="0" y="133"/>
                  </a:lnTo>
                  <a:lnTo>
                    <a:pt x="0" y="172"/>
                  </a:lnTo>
                  <a:lnTo>
                    <a:pt x="0" y="212"/>
                  </a:lnTo>
                  <a:lnTo>
                    <a:pt x="0" y="253"/>
                  </a:lnTo>
                  <a:lnTo>
                    <a:pt x="0" y="293"/>
                  </a:lnTo>
                  <a:lnTo>
                    <a:pt x="13" y="332"/>
                  </a:lnTo>
                  <a:lnTo>
                    <a:pt x="52" y="332"/>
                  </a:lnTo>
                  <a:lnTo>
                    <a:pt x="93" y="332"/>
                  </a:lnTo>
                  <a:lnTo>
                    <a:pt x="133" y="332"/>
                  </a:lnTo>
                  <a:lnTo>
                    <a:pt x="172" y="332"/>
                  </a:lnTo>
                  <a:lnTo>
                    <a:pt x="212" y="332"/>
                  </a:lnTo>
                  <a:lnTo>
                    <a:pt x="252" y="332"/>
                  </a:lnTo>
                  <a:lnTo>
                    <a:pt x="293" y="319"/>
                  </a:lnTo>
                  <a:lnTo>
                    <a:pt x="332" y="293"/>
                  </a:lnTo>
                  <a:lnTo>
                    <a:pt x="345" y="253"/>
                  </a:lnTo>
                  <a:lnTo>
                    <a:pt x="345" y="212"/>
                  </a:lnTo>
                  <a:lnTo>
                    <a:pt x="345" y="172"/>
                  </a:lnTo>
                  <a:lnTo>
                    <a:pt x="332" y="133"/>
                  </a:lnTo>
                  <a:lnTo>
                    <a:pt x="319" y="79"/>
                  </a:lnTo>
                  <a:lnTo>
                    <a:pt x="279" y="39"/>
                  </a:lnTo>
                  <a:lnTo>
                    <a:pt x="239" y="13"/>
                  </a:lnTo>
                  <a:lnTo>
                    <a:pt x="199" y="0"/>
                  </a:lnTo>
                  <a:lnTo>
                    <a:pt x="159" y="0"/>
                  </a:lnTo>
                  <a:lnTo>
                    <a:pt x="120" y="13"/>
                  </a:lnTo>
                  <a:lnTo>
                    <a:pt x="79" y="26"/>
                  </a:lnTo>
                  <a:lnTo>
                    <a:pt x="52" y="66"/>
                  </a:lnTo>
                  <a:lnTo>
                    <a:pt x="39" y="106"/>
                  </a:lnTo>
                  <a:lnTo>
                    <a:pt x="93" y="159"/>
                  </a:lnTo>
                  <a:lnTo>
                    <a:pt x="26" y="120"/>
                  </a:lnTo>
                  <a:lnTo>
                    <a:pt x="93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56040" y="171288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252" y="159"/>
                  </a:moveTo>
                  <a:lnTo>
                    <a:pt x="345" y="133"/>
                  </a:lnTo>
                  <a:lnTo>
                    <a:pt x="345" y="172"/>
                  </a:lnTo>
                  <a:lnTo>
                    <a:pt x="345" y="212"/>
                  </a:lnTo>
                  <a:lnTo>
                    <a:pt x="345" y="253"/>
                  </a:lnTo>
                  <a:lnTo>
                    <a:pt x="345" y="293"/>
                  </a:lnTo>
                  <a:lnTo>
                    <a:pt x="332" y="332"/>
                  </a:lnTo>
                  <a:lnTo>
                    <a:pt x="293" y="332"/>
                  </a:lnTo>
                  <a:lnTo>
                    <a:pt x="252" y="332"/>
                  </a:lnTo>
                  <a:lnTo>
                    <a:pt x="212" y="332"/>
                  </a:lnTo>
                  <a:lnTo>
                    <a:pt x="172" y="332"/>
                  </a:lnTo>
                  <a:lnTo>
                    <a:pt x="133" y="332"/>
                  </a:lnTo>
                  <a:lnTo>
                    <a:pt x="93" y="332"/>
                  </a:lnTo>
                  <a:lnTo>
                    <a:pt x="52" y="319"/>
                  </a:lnTo>
                  <a:lnTo>
                    <a:pt x="13" y="293"/>
                  </a:lnTo>
                  <a:lnTo>
                    <a:pt x="0" y="253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13" y="133"/>
                  </a:lnTo>
                  <a:lnTo>
                    <a:pt x="26" y="79"/>
                  </a:lnTo>
                  <a:lnTo>
                    <a:pt x="66" y="39"/>
                  </a:lnTo>
                  <a:lnTo>
                    <a:pt x="106" y="13"/>
                  </a:lnTo>
                  <a:lnTo>
                    <a:pt x="146" y="0"/>
                  </a:lnTo>
                  <a:lnTo>
                    <a:pt x="186" y="0"/>
                  </a:lnTo>
                  <a:lnTo>
                    <a:pt x="225" y="13"/>
                  </a:lnTo>
                  <a:lnTo>
                    <a:pt x="266" y="26"/>
                  </a:lnTo>
                  <a:lnTo>
                    <a:pt x="293" y="66"/>
                  </a:lnTo>
                  <a:lnTo>
                    <a:pt x="306" y="106"/>
                  </a:lnTo>
                  <a:lnTo>
                    <a:pt x="252" y="159"/>
                  </a:lnTo>
                  <a:lnTo>
                    <a:pt x="319" y="120"/>
                  </a:lnTo>
                  <a:lnTo>
                    <a:pt x="25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4000680" y="1143000"/>
            <a:ext cx="1143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90920" y="1901880"/>
            <a:ext cx="3781440" cy="4270680"/>
            <a:chOff x="2590920" y="1901880"/>
            <a:chExt cx="3781440" cy="4270680"/>
          </a:xfrm>
        </p:grpSpPr>
        <p:grpSp>
          <p:nvGrpSpPr>
            <p:cNvPr id="719" name=""/>
            <p:cNvGrpSpPr/>
            <p:nvPr/>
          </p:nvGrpSpPr>
          <p:grpSpPr>
            <a:xfrm>
              <a:off x="2590920" y="4554360"/>
              <a:ext cx="1335240" cy="1608840"/>
              <a:chOff x="2590920" y="4554360"/>
              <a:chExt cx="1335240" cy="1608840"/>
            </a:xfrm>
          </p:grpSpPr>
          <p:sp>
            <p:nvSpPr>
              <p:cNvPr id="720" name=""/>
              <p:cNvSpPr/>
              <p:nvPr/>
            </p:nvSpPr>
            <p:spPr>
              <a:xfrm>
                <a:off x="301140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623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5909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456000" y="3516480"/>
              <a:ext cx="564120" cy="1181880"/>
              <a:chOff x="3456000" y="3516480"/>
              <a:chExt cx="564120" cy="1181880"/>
            </a:xfrm>
          </p:grpSpPr>
          <p:sp>
            <p:nvSpPr>
              <p:cNvPr id="724" name=""/>
              <p:cNvSpPr/>
              <p:nvPr/>
            </p:nvSpPr>
            <p:spPr>
              <a:xfrm>
                <a:off x="3456000" y="3516480"/>
                <a:ext cx="532080" cy="1008360"/>
              </a:xfrm>
              <a:custGeom>
                <a:avLst/>
                <a:gdLst/>
                <a:ahLst/>
                <a:rect l="0" t="0" r="r" b="b"/>
                <a:pathLst>
                  <a:path w="1478" h="2801">
                    <a:moveTo>
                      <a:pt x="163" y="0"/>
                    </a:moveTo>
                    <a:lnTo>
                      <a:pt x="35" y="114"/>
                    </a:lnTo>
                    <a:lnTo>
                      <a:pt x="0" y="392"/>
                    </a:lnTo>
                    <a:lnTo>
                      <a:pt x="282" y="1133"/>
                    </a:lnTo>
                    <a:lnTo>
                      <a:pt x="772" y="2801"/>
                    </a:lnTo>
                    <a:lnTo>
                      <a:pt x="1478" y="2571"/>
                    </a:lnTo>
                    <a:lnTo>
                      <a:pt x="971" y="1164"/>
                    </a:lnTo>
                    <a:lnTo>
                      <a:pt x="467" y="17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62360" y="4435200"/>
                <a:ext cx="257760" cy="263160"/>
              </a:xfrm>
              <a:custGeom>
                <a:avLst/>
                <a:gdLst/>
                <a:ahLst/>
                <a:rect l="0" t="0" r="r" b="b"/>
                <a:pathLst>
                  <a:path w="716" h="731">
                    <a:moveTo>
                      <a:pt x="586" y="665"/>
                    </a:moveTo>
                    <a:lnTo>
                      <a:pt x="586" y="665"/>
                    </a:lnTo>
                    <a:cubicBezTo>
                      <a:pt x="634" y="628"/>
                      <a:pt x="671" y="579"/>
                      <a:pt x="693" y="521"/>
                    </a:cubicBezTo>
                    <a:cubicBezTo>
                      <a:pt x="716" y="463"/>
                      <a:pt x="722" y="398"/>
                      <a:pt x="712" y="334"/>
                    </a:cubicBezTo>
                    <a:cubicBezTo>
                      <a:pt x="702" y="270"/>
                      <a:pt x="676" y="209"/>
                      <a:pt x="636" y="156"/>
                    </a:cubicBezTo>
                    <a:cubicBezTo>
                      <a:pt x="596" y="104"/>
                      <a:pt x="545" y="62"/>
                      <a:pt x="486" y="34"/>
                    </a:cubicBezTo>
                    <a:cubicBezTo>
                      <a:pt x="427" y="7"/>
                      <a:pt x="364" y="-4"/>
                      <a:pt x="301" y="1"/>
                    </a:cubicBezTo>
                    <a:cubicBezTo>
                      <a:pt x="239" y="6"/>
                      <a:pt x="181" y="29"/>
                      <a:pt x="132" y="65"/>
                    </a:cubicBezTo>
                    <a:cubicBezTo>
                      <a:pt x="132" y="66"/>
                      <a:pt x="132" y="66"/>
                      <a:pt x="131" y="66"/>
                    </a:cubicBezTo>
                    <a:lnTo>
                      <a:pt x="131" y="66"/>
                    </a:lnTo>
                    <a:cubicBezTo>
                      <a:pt x="83" y="103"/>
                      <a:pt x="46" y="152"/>
                      <a:pt x="24" y="210"/>
                    </a:cubicBezTo>
                    <a:cubicBezTo>
                      <a:pt x="1" y="268"/>
                      <a:pt x="-5" y="333"/>
                      <a:pt x="5" y="397"/>
                    </a:cubicBezTo>
                    <a:cubicBezTo>
                      <a:pt x="15" y="461"/>
                      <a:pt x="41" y="522"/>
                      <a:pt x="81" y="575"/>
                    </a:cubicBezTo>
                    <a:cubicBezTo>
                      <a:pt x="121" y="627"/>
                      <a:pt x="172" y="669"/>
                      <a:pt x="231" y="697"/>
                    </a:cubicBezTo>
                    <a:cubicBezTo>
                      <a:pt x="290" y="724"/>
                      <a:pt x="353" y="735"/>
                      <a:pt x="416" y="730"/>
                    </a:cubicBezTo>
                    <a:cubicBezTo>
                      <a:pt x="478" y="725"/>
                      <a:pt x="536" y="702"/>
                      <a:pt x="585" y="666"/>
                    </a:cubicBezTo>
                    <a:cubicBezTo>
                      <a:pt x="585" y="665"/>
                      <a:pt x="585" y="665"/>
                      <a:pt x="586" y="6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2833560" y="334980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9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5020560" y="3524400"/>
              <a:ext cx="453240" cy="1220760"/>
              <a:chOff x="5020560" y="3524400"/>
              <a:chExt cx="453240" cy="1220760"/>
            </a:xfrm>
          </p:grpSpPr>
          <p:sp>
            <p:nvSpPr>
              <p:cNvPr id="728" name=""/>
              <p:cNvSpPr/>
              <p:nvPr/>
            </p:nvSpPr>
            <p:spPr>
              <a:xfrm>
                <a:off x="5038560" y="3524400"/>
                <a:ext cx="435240" cy="1027440"/>
              </a:xfrm>
              <a:custGeom>
                <a:avLst/>
                <a:gdLst/>
                <a:ahLst/>
                <a:rect l="0" t="0" r="r" b="b"/>
                <a:pathLst>
                  <a:path w="1209" h="2854">
                    <a:moveTo>
                      <a:pt x="1002" y="0"/>
                    </a:moveTo>
                    <a:lnTo>
                      <a:pt x="1147" y="101"/>
                    </a:lnTo>
                    <a:lnTo>
                      <a:pt x="1209" y="370"/>
                    </a:lnTo>
                    <a:lnTo>
                      <a:pt x="1015" y="1142"/>
                    </a:lnTo>
                    <a:lnTo>
                      <a:pt x="728" y="2854"/>
                    </a:lnTo>
                    <a:lnTo>
                      <a:pt x="0" y="2712"/>
                    </a:lnTo>
                    <a:lnTo>
                      <a:pt x="339" y="1252"/>
                    </a:lnTo>
                    <a:lnTo>
                      <a:pt x="724" y="207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020560" y="4478760"/>
                <a:ext cx="254160" cy="266400"/>
              </a:xfrm>
              <a:custGeom>
                <a:avLst/>
                <a:gdLst/>
                <a:ahLst/>
                <a:rect l="0" t="0" r="r" b="b"/>
                <a:pathLst>
                  <a:path w="706" h="740">
                    <a:moveTo>
                      <a:pt x="545" y="44"/>
                    </a:moveTo>
                    <a:lnTo>
                      <a:pt x="545" y="44"/>
                    </a:lnTo>
                    <a:cubicBezTo>
                      <a:pt x="544" y="44"/>
                      <a:pt x="543" y="43"/>
                      <a:pt x="542" y="42"/>
                    </a:cubicBezTo>
                    <a:cubicBezTo>
                      <a:pt x="489" y="12"/>
                      <a:pt x="429" y="-2"/>
                      <a:pt x="367" y="0"/>
                    </a:cubicBezTo>
                    <a:cubicBezTo>
                      <a:pt x="305" y="3"/>
                      <a:pt x="244" y="23"/>
                      <a:pt x="189" y="57"/>
                    </a:cubicBezTo>
                    <a:cubicBezTo>
                      <a:pt x="134" y="92"/>
                      <a:pt x="88" y="140"/>
                      <a:pt x="54" y="198"/>
                    </a:cubicBezTo>
                    <a:cubicBezTo>
                      <a:pt x="21" y="255"/>
                      <a:pt x="2" y="320"/>
                      <a:pt x="0" y="385"/>
                    </a:cubicBezTo>
                    <a:cubicBezTo>
                      <a:pt x="-3" y="450"/>
                      <a:pt x="11" y="513"/>
                      <a:pt x="40" y="568"/>
                    </a:cubicBezTo>
                    <a:cubicBezTo>
                      <a:pt x="68" y="622"/>
                      <a:pt x="109" y="666"/>
                      <a:pt x="160" y="696"/>
                    </a:cubicBezTo>
                    <a:lnTo>
                      <a:pt x="160" y="696"/>
                    </a:lnTo>
                    <a:cubicBezTo>
                      <a:pt x="161" y="696"/>
                      <a:pt x="162" y="697"/>
                      <a:pt x="163" y="698"/>
                    </a:cubicBezTo>
                    <a:cubicBezTo>
                      <a:pt x="216" y="728"/>
                      <a:pt x="276" y="742"/>
                      <a:pt x="338" y="740"/>
                    </a:cubicBezTo>
                    <a:cubicBezTo>
                      <a:pt x="400" y="737"/>
                      <a:pt x="461" y="717"/>
                      <a:pt x="516" y="683"/>
                    </a:cubicBezTo>
                    <a:cubicBezTo>
                      <a:pt x="571" y="648"/>
                      <a:pt x="617" y="600"/>
                      <a:pt x="651" y="542"/>
                    </a:cubicBezTo>
                    <a:cubicBezTo>
                      <a:pt x="684" y="485"/>
                      <a:pt x="703" y="420"/>
                      <a:pt x="705" y="355"/>
                    </a:cubicBezTo>
                    <a:cubicBezTo>
                      <a:pt x="708" y="290"/>
                      <a:pt x="694" y="227"/>
                      <a:pt x="665" y="172"/>
                    </a:cubicBezTo>
                    <a:cubicBezTo>
                      <a:pt x="637" y="118"/>
                      <a:pt x="596" y="74"/>
                      <a:pt x="54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54280" y="3495600"/>
              <a:ext cx="449640" cy="1243440"/>
              <a:chOff x="2654280" y="3495600"/>
              <a:chExt cx="449640" cy="1243440"/>
            </a:xfrm>
          </p:grpSpPr>
          <p:sp>
            <p:nvSpPr>
              <p:cNvPr id="731" name=""/>
              <p:cNvSpPr/>
              <p:nvPr/>
            </p:nvSpPr>
            <p:spPr>
              <a:xfrm>
                <a:off x="267480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5428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037120" y="4564080"/>
              <a:ext cx="1335240" cy="1608480"/>
              <a:chOff x="5037120" y="4564080"/>
              <a:chExt cx="1335240" cy="1608480"/>
            </a:xfrm>
          </p:grpSpPr>
          <p:sp>
            <p:nvSpPr>
              <p:cNvPr id="734" name=""/>
              <p:cNvSpPr/>
              <p:nvPr/>
            </p:nvSpPr>
            <p:spPr>
              <a:xfrm>
                <a:off x="5373720" y="456408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0" y="0"/>
                    </a:moveTo>
                    <a:lnTo>
                      <a:pt x="279" y="4124"/>
                    </a:lnTo>
                    <a:lnTo>
                      <a:pt x="910" y="4124"/>
                    </a:lnTo>
                    <a:lnTo>
                      <a:pt x="817" y="1116"/>
                    </a:lnTo>
                    <a:lnTo>
                      <a:pt x="910" y="4124"/>
                    </a:lnTo>
                    <a:lnTo>
                      <a:pt x="1611" y="4124"/>
                    </a:lnTo>
                    <a:lnTo>
                      <a:pt x="15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0371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4" y="160"/>
                    </a:moveTo>
                    <a:lnTo>
                      <a:pt x="863" y="45"/>
                    </a:lnTo>
                    <a:lnTo>
                      <a:pt x="629" y="0"/>
                    </a:lnTo>
                    <a:lnTo>
                      <a:pt x="373" y="91"/>
                    </a:lnTo>
                    <a:lnTo>
                      <a:pt x="116" y="229"/>
                    </a:lnTo>
                    <a:lnTo>
                      <a:pt x="0" y="413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60"/>
                    </a:lnTo>
                    <a:lnTo>
                      <a:pt x="121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7085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29" y="160"/>
                    </a:moveTo>
                    <a:lnTo>
                      <a:pt x="980" y="45"/>
                    </a:lnTo>
                    <a:lnTo>
                      <a:pt x="1214" y="0"/>
                    </a:lnTo>
                    <a:lnTo>
                      <a:pt x="1470" y="91"/>
                    </a:lnTo>
                    <a:lnTo>
                      <a:pt x="1727" y="229"/>
                    </a:lnTo>
                    <a:lnTo>
                      <a:pt x="1844" y="413"/>
                    </a:lnTo>
                    <a:lnTo>
                      <a:pt x="1680" y="504"/>
                    </a:lnTo>
                    <a:lnTo>
                      <a:pt x="0" y="504"/>
                    </a:lnTo>
                    <a:lnTo>
                      <a:pt x="0" y="160"/>
                    </a:lnTo>
                    <a:lnTo>
                      <a:pt x="62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52642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952720" y="1901880"/>
              <a:ext cx="885600" cy="1565640"/>
              <a:chOff x="2952720" y="1901880"/>
              <a:chExt cx="885600" cy="1565640"/>
            </a:xfrm>
          </p:grpSpPr>
          <p:sp>
            <p:nvSpPr>
              <p:cNvPr id="739" name=""/>
              <p:cNvSpPr/>
              <p:nvPr/>
            </p:nvSpPr>
            <p:spPr>
              <a:xfrm>
                <a:off x="2952720" y="2104920"/>
                <a:ext cx="789480" cy="1362600"/>
              </a:xfrm>
              <a:custGeom>
                <a:avLst/>
                <a:gdLst/>
                <a:ahLst/>
                <a:rect l="0" t="0" r="r" b="b"/>
                <a:pathLst>
                  <a:path w="2193" h="3785">
                    <a:moveTo>
                      <a:pt x="1682" y="0"/>
                    </a:moveTo>
                    <a:lnTo>
                      <a:pt x="1964" y="229"/>
                    </a:lnTo>
                    <a:lnTo>
                      <a:pt x="2127" y="590"/>
                    </a:lnTo>
                    <a:lnTo>
                      <a:pt x="2171" y="1050"/>
                    </a:lnTo>
                    <a:lnTo>
                      <a:pt x="2193" y="2324"/>
                    </a:lnTo>
                    <a:lnTo>
                      <a:pt x="2149" y="3057"/>
                    </a:lnTo>
                    <a:lnTo>
                      <a:pt x="1473" y="3102"/>
                    </a:lnTo>
                    <a:lnTo>
                      <a:pt x="1376" y="3512"/>
                    </a:lnTo>
                    <a:lnTo>
                      <a:pt x="1284" y="3785"/>
                    </a:lnTo>
                    <a:lnTo>
                      <a:pt x="1076" y="3785"/>
                    </a:lnTo>
                    <a:lnTo>
                      <a:pt x="957" y="3534"/>
                    </a:lnTo>
                    <a:lnTo>
                      <a:pt x="1028" y="3102"/>
                    </a:lnTo>
                    <a:lnTo>
                      <a:pt x="396" y="3031"/>
                    </a:lnTo>
                    <a:lnTo>
                      <a:pt x="374" y="2598"/>
                    </a:lnTo>
                    <a:lnTo>
                      <a:pt x="233" y="2668"/>
                    </a:lnTo>
                    <a:lnTo>
                      <a:pt x="97" y="2620"/>
                    </a:lnTo>
                    <a:lnTo>
                      <a:pt x="0" y="2258"/>
                    </a:lnTo>
                    <a:lnTo>
                      <a:pt x="119" y="2073"/>
                    </a:lnTo>
                    <a:lnTo>
                      <a:pt x="260" y="2100"/>
                    </a:lnTo>
                    <a:lnTo>
                      <a:pt x="119" y="158"/>
                    </a:lnTo>
                    <a:lnTo>
                      <a:pt x="16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476520" y="2487600"/>
                <a:ext cx="361800" cy="352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98880" y="2454120"/>
                <a:ext cx="428760" cy="419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284640" y="2627280"/>
                <a:ext cx="745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645000" y="2635200"/>
                <a:ext cx="763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532320" y="1927080"/>
                <a:ext cx="6120" cy="18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3422520" y="1909800"/>
                <a:ext cx="1584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3262320" y="1901880"/>
                <a:ext cx="3348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3103560" y="1943280"/>
                <a:ext cx="4932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>
                <a:off x="2978280" y="1967040"/>
                <a:ext cx="47520" cy="1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70160" y="2925720"/>
                <a:ext cx="581400" cy="222480"/>
              </a:xfrm>
              <a:custGeom>
                <a:avLst/>
                <a:gdLst/>
                <a:ahLst/>
                <a:rect l="0" t="0" r="r" b="b"/>
                <a:pathLst>
                  <a:path w="1615" h="618">
                    <a:moveTo>
                      <a:pt x="1615" y="0"/>
                    </a:moveTo>
                    <a:lnTo>
                      <a:pt x="0" y="141"/>
                    </a:lnTo>
                    <a:lnTo>
                      <a:pt x="957" y="618"/>
                    </a:lnTo>
                    <a:lnTo>
                      <a:pt x="16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3222720" y="335268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4" y="411"/>
                  </a:lnTo>
                  <a:lnTo>
                    <a:pt x="158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58" y="0"/>
                  </a:lnTo>
                  <a:lnTo>
                    <a:pt x="321" y="230"/>
                  </a:lnTo>
                  <a:lnTo>
                    <a:pt x="583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111640" y="1905120"/>
              <a:ext cx="886320" cy="1606680"/>
              <a:chOff x="5111640" y="1905120"/>
              <a:chExt cx="886320" cy="1606680"/>
            </a:xfrm>
          </p:grpSpPr>
          <p:sp>
            <p:nvSpPr>
              <p:cNvPr id="752" name=""/>
              <p:cNvSpPr/>
              <p:nvPr/>
            </p:nvSpPr>
            <p:spPr>
              <a:xfrm>
                <a:off x="5208480" y="2108160"/>
                <a:ext cx="789480" cy="1362600"/>
              </a:xfrm>
              <a:custGeom>
                <a:avLst/>
                <a:gdLst/>
                <a:ahLst/>
                <a:rect l="0" t="0" r="r" b="b"/>
                <a:pathLst>
                  <a:path w="2193" h="3785">
                    <a:moveTo>
                      <a:pt x="511" y="0"/>
                    </a:moveTo>
                    <a:lnTo>
                      <a:pt x="229" y="229"/>
                    </a:lnTo>
                    <a:lnTo>
                      <a:pt x="66" y="590"/>
                    </a:lnTo>
                    <a:lnTo>
                      <a:pt x="22" y="1050"/>
                    </a:lnTo>
                    <a:lnTo>
                      <a:pt x="0" y="2324"/>
                    </a:lnTo>
                    <a:lnTo>
                      <a:pt x="44" y="3057"/>
                    </a:lnTo>
                    <a:lnTo>
                      <a:pt x="719" y="3102"/>
                    </a:lnTo>
                    <a:lnTo>
                      <a:pt x="816" y="3512"/>
                    </a:lnTo>
                    <a:lnTo>
                      <a:pt x="909" y="3785"/>
                    </a:lnTo>
                    <a:lnTo>
                      <a:pt x="1116" y="3785"/>
                    </a:lnTo>
                    <a:lnTo>
                      <a:pt x="1235" y="3534"/>
                    </a:lnTo>
                    <a:lnTo>
                      <a:pt x="1165" y="3102"/>
                    </a:lnTo>
                    <a:lnTo>
                      <a:pt x="1796" y="3031"/>
                    </a:lnTo>
                    <a:lnTo>
                      <a:pt x="1818" y="2598"/>
                    </a:lnTo>
                    <a:lnTo>
                      <a:pt x="1959" y="2668"/>
                    </a:lnTo>
                    <a:lnTo>
                      <a:pt x="2096" y="2620"/>
                    </a:lnTo>
                    <a:lnTo>
                      <a:pt x="2193" y="2258"/>
                    </a:lnTo>
                    <a:lnTo>
                      <a:pt x="2074" y="2073"/>
                    </a:lnTo>
                    <a:lnTo>
                      <a:pt x="1933" y="2100"/>
                    </a:lnTo>
                    <a:lnTo>
                      <a:pt x="2074" y="158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11640" y="2490840"/>
                <a:ext cx="361800" cy="352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23040" y="2457360"/>
                <a:ext cx="428760" cy="419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591160" y="2630520"/>
                <a:ext cx="745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229360" y="2638440"/>
                <a:ext cx="763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411880" y="1930320"/>
                <a:ext cx="6120" cy="18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5511960" y="1913040"/>
                <a:ext cx="1584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5654520" y="1905120"/>
                <a:ext cx="3348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5797440" y="1946160"/>
                <a:ext cx="49320" cy="17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5924520" y="1969920"/>
                <a:ext cx="47520" cy="15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00560" y="2928960"/>
                <a:ext cx="579960" cy="222480"/>
              </a:xfrm>
              <a:custGeom>
                <a:avLst/>
                <a:gdLst/>
                <a:ahLst/>
                <a:rect l="0" t="0" r="r" b="b"/>
                <a:pathLst>
                  <a:path w="1611" h="618">
                    <a:moveTo>
                      <a:pt x="0" y="618"/>
                    </a:moveTo>
                    <a:lnTo>
                      <a:pt x="1611" y="477"/>
                    </a:lnTo>
                    <a:lnTo>
                      <a:pt x="653" y="0"/>
                    </a:lnTo>
                    <a:lnTo>
                      <a:pt x="0" y="6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60840" y="3355920"/>
                <a:ext cx="268560" cy="155880"/>
              </a:xfrm>
              <a:custGeom>
                <a:avLst/>
                <a:gdLst/>
                <a:ahLst/>
                <a:rect l="0" t="0" r="r" b="b"/>
                <a:pathLst>
                  <a:path w="746" h="433">
                    <a:moveTo>
                      <a:pt x="0" y="296"/>
                    </a:moveTo>
                    <a:lnTo>
                      <a:pt x="207" y="411"/>
                    </a:lnTo>
                    <a:lnTo>
                      <a:pt x="583" y="433"/>
                    </a:lnTo>
                    <a:lnTo>
                      <a:pt x="746" y="230"/>
                    </a:lnTo>
                    <a:lnTo>
                      <a:pt x="746" y="66"/>
                    </a:lnTo>
                    <a:lnTo>
                      <a:pt x="583" y="0"/>
                    </a:lnTo>
                    <a:lnTo>
                      <a:pt x="419" y="230"/>
                    </a:lnTo>
                    <a:lnTo>
                      <a:pt x="158" y="252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165640" y="25909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859360" y="3505320"/>
              <a:ext cx="449280" cy="1243080"/>
              <a:chOff x="5859360" y="3505320"/>
              <a:chExt cx="449280" cy="1243080"/>
            </a:xfrm>
          </p:grpSpPr>
          <p:sp>
            <p:nvSpPr>
              <p:cNvPr id="766" name=""/>
              <p:cNvSpPr/>
              <p:nvPr/>
            </p:nvSpPr>
            <p:spPr>
              <a:xfrm>
                <a:off x="5859360" y="350532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210" y="0"/>
                    </a:moveTo>
                    <a:lnTo>
                      <a:pt x="70" y="91"/>
                    </a:lnTo>
                    <a:lnTo>
                      <a:pt x="0" y="364"/>
                    </a:lnTo>
                    <a:lnTo>
                      <a:pt x="186" y="1140"/>
                    </a:lnTo>
                    <a:lnTo>
                      <a:pt x="467" y="2850"/>
                    </a:lnTo>
                    <a:lnTo>
                      <a:pt x="1192" y="2713"/>
                    </a:lnTo>
                    <a:lnTo>
                      <a:pt x="864" y="1254"/>
                    </a:lnTo>
                    <a:lnTo>
                      <a:pt x="491" y="205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040440" y="450216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54957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0680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01920" y="436896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0" y="26"/>
                  </a:moveTo>
                  <a:lnTo>
                    <a:pt x="110" y="26"/>
                  </a:lnTo>
                  <a:lnTo>
                    <a:pt x="194" y="0"/>
                  </a:lnTo>
                  <a:lnTo>
                    <a:pt x="277" y="0"/>
                  </a:lnTo>
                  <a:lnTo>
                    <a:pt x="361" y="26"/>
                  </a:lnTo>
                  <a:lnTo>
                    <a:pt x="450" y="52"/>
                  </a:lnTo>
                  <a:lnTo>
                    <a:pt x="534" y="127"/>
                  </a:lnTo>
                  <a:lnTo>
                    <a:pt x="618" y="176"/>
                  </a:lnTo>
                  <a:lnTo>
                    <a:pt x="702" y="229"/>
                  </a:lnTo>
                  <a:lnTo>
                    <a:pt x="728" y="304"/>
                  </a:lnTo>
                  <a:lnTo>
                    <a:pt x="728" y="380"/>
                  </a:lnTo>
                  <a:lnTo>
                    <a:pt x="728" y="459"/>
                  </a:lnTo>
                  <a:lnTo>
                    <a:pt x="785" y="534"/>
                  </a:lnTo>
                  <a:lnTo>
                    <a:pt x="812" y="609"/>
                  </a:lnTo>
                  <a:lnTo>
                    <a:pt x="728" y="636"/>
                  </a:lnTo>
                  <a:lnTo>
                    <a:pt x="702" y="561"/>
                  </a:lnTo>
                  <a:lnTo>
                    <a:pt x="618" y="508"/>
                  </a:lnTo>
                  <a:lnTo>
                    <a:pt x="503" y="508"/>
                  </a:lnTo>
                  <a:lnTo>
                    <a:pt x="450" y="433"/>
                  </a:lnTo>
                  <a:lnTo>
                    <a:pt x="392" y="358"/>
                  </a:lnTo>
                  <a:lnTo>
                    <a:pt x="308" y="304"/>
                  </a:lnTo>
                  <a:lnTo>
                    <a:pt x="224" y="277"/>
                  </a:lnTo>
                  <a:lnTo>
                    <a:pt x="141" y="304"/>
                  </a:lnTo>
                  <a:lnTo>
                    <a:pt x="110" y="229"/>
                  </a:lnTo>
                  <a:lnTo>
                    <a:pt x="141" y="154"/>
                  </a:lnTo>
                  <a:lnTo>
                    <a:pt x="110" y="74"/>
                  </a:lnTo>
                  <a:lnTo>
                    <a:pt x="167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4120" y="434340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812" y="26"/>
                  </a:moveTo>
                  <a:lnTo>
                    <a:pt x="702" y="26"/>
                  </a:lnTo>
                  <a:lnTo>
                    <a:pt x="618" y="0"/>
                  </a:lnTo>
                  <a:lnTo>
                    <a:pt x="534" y="0"/>
                  </a:lnTo>
                  <a:lnTo>
                    <a:pt x="450" y="26"/>
                  </a:lnTo>
                  <a:lnTo>
                    <a:pt x="361" y="52"/>
                  </a:lnTo>
                  <a:lnTo>
                    <a:pt x="277" y="127"/>
                  </a:lnTo>
                  <a:lnTo>
                    <a:pt x="194" y="176"/>
                  </a:lnTo>
                  <a:lnTo>
                    <a:pt x="110" y="229"/>
                  </a:lnTo>
                  <a:lnTo>
                    <a:pt x="83" y="304"/>
                  </a:lnTo>
                  <a:lnTo>
                    <a:pt x="83" y="380"/>
                  </a:lnTo>
                  <a:lnTo>
                    <a:pt x="83" y="459"/>
                  </a:lnTo>
                  <a:lnTo>
                    <a:pt x="26" y="534"/>
                  </a:lnTo>
                  <a:lnTo>
                    <a:pt x="0" y="609"/>
                  </a:lnTo>
                  <a:lnTo>
                    <a:pt x="83" y="636"/>
                  </a:lnTo>
                  <a:lnTo>
                    <a:pt x="110" y="561"/>
                  </a:lnTo>
                  <a:lnTo>
                    <a:pt x="194" y="508"/>
                  </a:lnTo>
                  <a:lnTo>
                    <a:pt x="308" y="508"/>
                  </a:lnTo>
                  <a:lnTo>
                    <a:pt x="361" y="433"/>
                  </a:lnTo>
                  <a:lnTo>
                    <a:pt x="419" y="358"/>
                  </a:lnTo>
                  <a:lnTo>
                    <a:pt x="503" y="304"/>
                  </a:lnTo>
                  <a:lnTo>
                    <a:pt x="587" y="277"/>
                  </a:lnTo>
                  <a:lnTo>
                    <a:pt x="671" y="304"/>
                  </a:lnTo>
                  <a:lnTo>
                    <a:pt x="702" y="229"/>
                  </a:lnTo>
                  <a:lnTo>
                    <a:pt x="671" y="154"/>
                  </a:lnTo>
                  <a:lnTo>
                    <a:pt x="702" y="74"/>
                  </a:lnTo>
                  <a:lnTo>
                    <a:pt x="644" y="26"/>
                  </a:lnTo>
                  <a:lnTo>
                    <a:pt x="812" y="26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5410080" y="4419720"/>
              <a:ext cx="508680" cy="1283040"/>
              <a:chOff x="5410080" y="4419720"/>
              <a:chExt cx="508680" cy="1283040"/>
            </a:xfrm>
          </p:grpSpPr>
          <p:sp>
            <p:nvSpPr>
              <p:cNvPr id="773" name=""/>
              <p:cNvSpPr/>
              <p:nvPr/>
            </p:nvSpPr>
            <p:spPr>
              <a:xfrm>
                <a:off x="5678640" y="449424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10080" y="462132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460840" y="498780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441972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452920" y="526248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700600" y="552924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67400" y="491796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048120" y="4497480"/>
              <a:ext cx="508320" cy="1281240"/>
              <a:chOff x="3048120" y="4497480"/>
              <a:chExt cx="508320" cy="1281240"/>
            </a:xfrm>
          </p:grpSpPr>
          <p:sp>
            <p:nvSpPr>
              <p:cNvPr id="781" name=""/>
              <p:cNvSpPr/>
              <p:nvPr/>
            </p:nvSpPr>
            <p:spPr>
              <a:xfrm>
                <a:off x="3189240" y="45673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43400" y="46972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70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27480" y="50817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27480" y="44974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32240" y="53420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00400" y="56070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48120" y="50133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789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797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805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809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 txBox="1"/>
          <p:nvPr/>
        </p:nvSpPr>
        <p:spPr>
          <a:xfrm>
            <a:off x="152280" y="304920"/>
            <a:ext cx="86868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arlier, people thought that Personality lies in the Intestines; If You                        Exchange That, Your Personality                                         Changes / You are going                                    Craz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76320" y="6006960"/>
            <a:ext cx="8915760" cy="584640"/>
          </a:xfrm>
          <a:custGeom>
            <a:avLst/>
            <a:gdLst/>
            <a:ahLst/>
            <a:rect l="0" t="0" r="r" b="b"/>
            <a:pathLst>
              <a:path w="24766" h="1624">
                <a:moveTo>
                  <a:pt x="13152" y="176"/>
                </a:moveTo>
                <a:lnTo>
                  <a:pt x="12844" y="141"/>
                </a:lnTo>
                <a:lnTo>
                  <a:pt x="12614" y="141"/>
                </a:lnTo>
                <a:lnTo>
                  <a:pt x="12382" y="176"/>
                </a:lnTo>
                <a:lnTo>
                  <a:pt x="12151" y="211"/>
                </a:lnTo>
                <a:lnTo>
                  <a:pt x="11921" y="176"/>
                </a:lnTo>
                <a:lnTo>
                  <a:pt x="11690" y="176"/>
                </a:lnTo>
                <a:lnTo>
                  <a:pt x="11459" y="141"/>
                </a:lnTo>
                <a:lnTo>
                  <a:pt x="11228" y="141"/>
                </a:lnTo>
                <a:lnTo>
                  <a:pt x="10998" y="141"/>
                </a:lnTo>
                <a:lnTo>
                  <a:pt x="10767" y="141"/>
                </a:lnTo>
                <a:lnTo>
                  <a:pt x="10536" y="176"/>
                </a:lnTo>
                <a:lnTo>
                  <a:pt x="10305" y="176"/>
                </a:lnTo>
                <a:lnTo>
                  <a:pt x="10075" y="176"/>
                </a:lnTo>
                <a:lnTo>
                  <a:pt x="9844" y="176"/>
                </a:lnTo>
                <a:lnTo>
                  <a:pt x="9613" y="176"/>
                </a:lnTo>
                <a:lnTo>
                  <a:pt x="9383" y="176"/>
                </a:lnTo>
                <a:lnTo>
                  <a:pt x="9152" y="176"/>
                </a:lnTo>
                <a:lnTo>
                  <a:pt x="8921" y="176"/>
                </a:lnTo>
                <a:lnTo>
                  <a:pt x="8690" y="176"/>
                </a:lnTo>
                <a:lnTo>
                  <a:pt x="8460" y="141"/>
                </a:lnTo>
                <a:lnTo>
                  <a:pt x="8229" y="105"/>
                </a:lnTo>
                <a:lnTo>
                  <a:pt x="7998" y="105"/>
                </a:lnTo>
                <a:lnTo>
                  <a:pt x="7767" y="141"/>
                </a:lnTo>
                <a:lnTo>
                  <a:pt x="7460" y="176"/>
                </a:lnTo>
                <a:lnTo>
                  <a:pt x="7152" y="211"/>
                </a:lnTo>
                <a:lnTo>
                  <a:pt x="6844" y="176"/>
                </a:lnTo>
                <a:lnTo>
                  <a:pt x="6537" y="141"/>
                </a:lnTo>
                <a:lnTo>
                  <a:pt x="6306" y="105"/>
                </a:lnTo>
                <a:lnTo>
                  <a:pt x="6075" y="105"/>
                </a:lnTo>
                <a:lnTo>
                  <a:pt x="5845" y="105"/>
                </a:lnTo>
                <a:lnTo>
                  <a:pt x="5614" y="105"/>
                </a:lnTo>
                <a:lnTo>
                  <a:pt x="5383" y="105"/>
                </a:lnTo>
                <a:lnTo>
                  <a:pt x="5152" y="141"/>
                </a:lnTo>
                <a:lnTo>
                  <a:pt x="4922" y="141"/>
                </a:lnTo>
                <a:lnTo>
                  <a:pt x="4691" y="141"/>
                </a:lnTo>
                <a:lnTo>
                  <a:pt x="4460" y="105"/>
                </a:lnTo>
                <a:lnTo>
                  <a:pt x="4230" y="70"/>
                </a:lnTo>
                <a:lnTo>
                  <a:pt x="3999" y="35"/>
                </a:lnTo>
                <a:lnTo>
                  <a:pt x="3768" y="0"/>
                </a:lnTo>
                <a:lnTo>
                  <a:pt x="3537" y="35"/>
                </a:lnTo>
                <a:lnTo>
                  <a:pt x="3307" y="35"/>
                </a:lnTo>
                <a:lnTo>
                  <a:pt x="3076" y="35"/>
                </a:lnTo>
                <a:lnTo>
                  <a:pt x="2845" y="35"/>
                </a:lnTo>
                <a:lnTo>
                  <a:pt x="2614" y="35"/>
                </a:lnTo>
                <a:lnTo>
                  <a:pt x="2384" y="35"/>
                </a:lnTo>
                <a:lnTo>
                  <a:pt x="2153" y="70"/>
                </a:lnTo>
                <a:lnTo>
                  <a:pt x="1922" y="141"/>
                </a:lnTo>
                <a:lnTo>
                  <a:pt x="1692" y="246"/>
                </a:lnTo>
                <a:lnTo>
                  <a:pt x="1461" y="317"/>
                </a:lnTo>
                <a:lnTo>
                  <a:pt x="1230" y="352"/>
                </a:lnTo>
                <a:lnTo>
                  <a:pt x="999" y="352"/>
                </a:lnTo>
                <a:lnTo>
                  <a:pt x="769" y="352"/>
                </a:lnTo>
                <a:lnTo>
                  <a:pt x="538" y="352"/>
                </a:lnTo>
                <a:lnTo>
                  <a:pt x="307" y="388"/>
                </a:lnTo>
                <a:lnTo>
                  <a:pt x="76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230" y="812"/>
                </a:lnTo>
                <a:lnTo>
                  <a:pt x="461" y="882"/>
                </a:lnTo>
                <a:lnTo>
                  <a:pt x="692" y="882"/>
                </a:lnTo>
                <a:lnTo>
                  <a:pt x="922" y="882"/>
                </a:lnTo>
                <a:lnTo>
                  <a:pt x="1153" y="882"/>
                </a:lnTo>
                <a:lnTo>
                  <a:pt x="1384" y="882"/>
                </a:lnTo>
                <a:lnTo>
                  <a:pt x="1615" y="918"/>
                </a:lnTo>
                <a:lnTo>
                  <a:pt x="1768" y="1024"/>
                </a:lnTo>
                <a:lnTo>
                  <a:pt x="1922" y="1129"/>
                </a:lnTo>
                <a:lnTo>
                  <a:pt x="2153" y="1200"/>
                </a:lnTo>
                <a:lnTo>
                  <a:pt x="2384" y="1200"/>
                </a:lnTo>
                <a:lnTo>
                  <a:pt x="2614" y="1165"/>
                </a:lnTo>
                <a:lnTo>
                  <a:pt x="2845" y="1129"/>
                </a:lnTo>
                <a:lnTo>
                  <a:pt x="3076" y="1094"/>
                </a:lnTo>
                <a:lnTo>
                  <a:pt x="3307" y="1094"/>
                </a:lnTo>
                <a:lnTo>
                  <a:pt x="3537" y="1165"/>
                </a:lnTo>
                <a:lnTo>
                  <a:pt x="3768" y="1236"/>
                </a:lnTo>
                <a:lnTo>
                  <a:pt x="3999" y="1272"/>
                </a:lnTo>
                <a:lnTo>
                  <a:pt x="4230" y="1272"/>
                </a:lnTo>
                <a:lnTo>
                  <a:pt x="4383" y="1377"/>
                </a:lnTo>
                <a:lnTo>
                  <a:pt x="4537" y="1483"/>
                </a:lnTo>
                <a:lnTo>
                  <a:pt x="4691" y="1589"/>
                </a:lnTo>
                <a:lnTo>
                  <a:pt x="4922" y="1624"/>
                </a:lnTo>
                <a:lnTo>
                  <a:pt x="4999" y="1518"/>
                </a:lnTo>
                <a:lnTo>
                  <a:pt x="4999" y="1413"/>
                </a:lnTo>
                <a:lnTo>
                  <a:pt x="5229" y="1377"/>
                </a:lnTo>
                <a:lnTo>
                  <a:pt x="5460" y="1377"/>
                </a:lnTo>
                <a:lnTo>
                  <a:pt x="5691" y="1483"/>
                </a:lnTo>
                <a:lnTo>
                  <a:pt x="5922" y="1518"/>
                </a:lnTo>
                <a:lnTo>
                  <a:pt x="6152" y="1554"/>
                </a:lnTo>
                <a:lnTo>
                  <a:pt x="6383" y="1518"/>
                </a:lnTo>
                <a:lnTo>
                  <a:pt x="6614" y="1413"/>
                </a:lnTo>
                <a:lnTo>
                  <a:pt x="6844" y="1413"/>
                </a:lnTo>
                <a:lnTo>
                  <a:pt x="7075" y="1413"/>
                </a:lnTo>
                <a:lnTo>
                  <a:pt x="7306" y="1448"/>
                </a:lnTo>
                <a:lnTo>
                  <a:pt x="7614" y="1554"/>
                </a:lnTo>
                <a:lnTo>
                  <a:pt x="7844" y="1589"/>
                </a:lnTo>
                <a:lnTo>
                  <a:pt x="8075" y="1624"/>
                </a:lnTo>
                <a:lnTo>
                  <a:pt x="8306" y="1518"/>
                </a:lnTo>
                <a:lnTo>
                  <a:pt x="8537" y="1483"/>
                </a:lnTo>
                <a:lnTo>
                  <a:pt x="8767" y="1448"/>
                </a:lnTo>
                <a:lnTo>
                  <a:pt x="8998" y="1413"/>
                </a:lnTo>
                <a:lnTo>
                  <a:pt x="9229" y="1377"/>
                </a:lnTo>
                <a:lnTo>
                  <a:pt x="9459" y="1342"/>
                </a:lnTo>
                <a:lnTo>
                  <a:pt x="9690" y="1342"/>
                </a:lnTo>
                <a:lnTo>
                  <a:pt x="9921" y="1342"/>
                </a:lnTo>
                <a:lnTo>
                  <a:pt x="10152" y="1377"/>
                </a:lnTo>
                <a:lnTo>
                  <a:pt x="10382" y="1413"/>
                </a:lnTo>
                <a:lnTo>
                  <a:pt x="10613" y="1448"/>
                </a:lnTo>
                <a:lnTo>
                  <a:pt x="10844" y="1448"/>
                </a:lnTo>
                <a:lnTo>
                  <a:pt x="11075" y="1483"/>
                </a:lnTo>
                <a:lnTo>
                  <a:pt x="11305" y="1483"/>
                </a:lnTo>
                <a:lnTo>
                  <a:pt x="11613" y="1448"/>
                </a:lnTo>
                <a:lnTo>
                  <a:pt x="11844" y="1413"/>
                </a:lnTo>
                <a:lnTo>
                  <a:pt x="12074" y="1377"/>
                </a:lnTo>
                <a:lnTo>
                  <a:pt x="12305" y="1377"/>
                </a:lnTo>
                <a:lnTo>
                  <a:pt x="12537" y="1342"/>
                </a:lnTo>
                <a:lnTo>
                  <a:pt x="12768" y="1307"/>
                </a:lnTo>
                <a:lnTo>
                  <a:pt x="12998" y="1272"/>
                </a:lnTo>
                <a:lnTo>
                  <a:pt x="13229" y="1236"/>
                </a:lnTo>
                <a:lnTo>
                  <a:pt x="13460" y="1200"/>
                </a:lnTo>
                <a:lnTo>
                  <a:pt x="13690" y="1165"/>
                </a:lnTo>
                <a:lnTo>
                  <a:pt x="13921" y="1165"/>
                </a:lnTo>
                <a:lnTo>
                  <a:pt x="14152" y="1165"/>
                </a:lnTo>
                <a:lnTo>
                  <a:pt x="14383" y="1165"/>
                </a:lnTo>
                <a:lnTo>
                  <a:pt x="14613" y="1165"/>
                </a:lnTo>
                <a:lnTo>
                  <a:pt x="14844" y="1200"/>
                </a:lnTo>
                <a:lnTo>
                  <a:pt x="15075" y="1236"/>
                </a:lnTo>
                <a:lnTo>
                  <a:pt x="15306" y="1272"/>
                </a:lnTo>
                <a:lnTo>
                  <a:pt x="15536" y="1272"/>
                </a:lnTo>
                <a:lnTo>
                  <a:pt x="15767" y="1272"/>
                </a:lnTo>
                <a:lnTo>
                  <a:pt x="16075" y="1272"/>
                </a:lnTo>
                <a:lnTo>
                  <a:pt x="16382" y="1200"/>
                </a:lnTo>
                <a:lnTo>
                  <a:pt x="16613" y="1165"/>
                </a:lnTo>
                <a:lnTo>
                  <a:pt x="16844" y="1129"/>
                </a:lnTo>
                <a:lnTo>
                  <a:pt x="17151" y="1129"/>
                </a:lnTo>
                <a:lnTo>
                  <a:pt x="17459" y="1165"/>
                </a:lnTo>
                <a:lnTo>
                  <a:pt x="17767" y="1200"/>
                </a:lnTo>
                <a:lnTo>
                  <a:pt x="17997" y="1272"/>
                </a:lnTo>
                <a:lnTo>
                  <a:pt x="18228" y="1307"/>
                </a:lnTo>
                <a:lnTo>
                  <a:pt x="18459" y="1342"/>
                </a:lnTo>
                <a:lnTo>
                  <a:pt x="18690" y="1342"/>
                </a:lnTo>
                <a:lnTo>
                  <a:pt x="18997" y="1272"/>
                </a:lnTo>
                <a:lnTo>
                  <a:pt x="19228" y="1236"/>
                </a:lnTo>
                <a:lnTo>
                  <a:pt x="19459" y="1165"/>
                </a:lnTo>
                <a:lnTo>
                  <a:pt x="19689" y="1129"/>
                </a:lnTo>
                <a:lnTo>
                  <a:pt x="19920" y="1129"/>
                </a:lnTo>
                <a:lnTo>
                  <a:pt x="20228" y="1129"/>
                </a:lnTo>
                <a:lnTo>
                  <a:pt x="20535" y="1129"/>
                </a:lnTo>
                <a:lnTo>
                  <a:pt x="20843" y="1129"/>
                </a:lnTo>
                <a:lnTo>
                  <a:pt x="21074" y="1165"/>
                </a:lnTo>
                <a:lnTo>
                  <a:pt x="21305" y="1165"/>
                </a:lnTo>
                <a:lnTo>
                  <a:pt x="21535" y="1200"/>
                </a:lnTo>
                <a:lnTo>
                  <a:pt x="21766" y="1200"/>
                </a:lnTo>
                <a:lnTo>
                  <a:pt x="22074" y="1200"/>
                </a:lnTo>
                <a:lnTo>
                  <a:pt x="22381" y="1200"/>
                </a:lnTo>
                <a:lnTo>
                  <a:pt x="22612" y="1129"/>
                </a:lnTo>
                <a:lnTo>
                  <a:pt x="22843" y="1094"/>
                </a:lnTo>
                <a:lnTo>
                  <a:pt x="23073" y="1094"/>
                </a:lnTo>
                <a:lnTo>
                  <a:pt x="23304" y="1094"/>
                </a:lnTo>
                <a:lnTo>
                  <a:pt x="23535" y="1094"/>
                </a:lnTo>
                <a:lnTo>
                  <a:pt x="23766" y="1094"/>
                </a:lnTo>
                <a:lnTo>
                  <a:pt x="23996" y="1059"/>
                </a:lnTo>
                <a:lnTo>
                  <a:pt x="24227" y="1024"/>
                </a:lnTo>
                <a:lnTo>
                  <a:pt x="24458" y="988"/>
                </a:lnTo>
                <a:lnTo>
                  <a:pt x="24689" y="918"/>
                </a:lnTo>
                <a:lnTo>
                  <a:pt x="24766" y="812"/>
                </a:lnTo>
                <a:lnTo>
                  <a:pt x="24766" y="706"/>
                </a:lnTo>
                <a:lnTo>
                  <a:pt x="24689" y="600"/>
                </a:lnTo>
                <a:lnTo>
                  <a:pt x="24458" y="494"/>
                </a:lnTo>
                <a:lnTo>
                  <a:pt x="24227" y="494"/>
                </a:lnTo>
                <a:lnTo>
                  <a:pt x="23996" y="459"/>
                </a:lnTo>
                <a:lnTo>
                  <a:pt x="23766" y="459"/>
                </a:lnTo>
                <a:lnTo>
                  <a:pt x="23535" y="424"/>
                </a:lnTo>
                <a:lnTo>
                  <a:pt x="23227" y="352"/>
                </a:lnTo>
                <a:lnTo>
                  <a:pt x="22997" y="317"/>
                </a:lnTo>
                <a:lnTo>
                  <a:pt x="22766" y="246"/>
                </a:lnTo>
                <a:lnTo>
                  <a:pt x="22535" y="211"/>
                </a:lnTo>
                <a:lnTo>
                  <a:pt x="22304" y="176"/>
                </a:lnTo>
                <a:lnTo>
                  <a:pt x="22074" y="211"/>
                </a:lnTo>
                <a:lnTo>
                  <a:pt x="21843" y="211"/>
                </a:lnTo>
                <a:lnTo>
                  <a:pt x="21612" y="211"/>
                </a:lnTo>
                <a:lnTo>
                  <a:pt x="21381" y="211"/>
                </a:lnTo>
                <a:lnTo>
                  <a:pt x="21151" y="211"/>
                </a:lnTo>
                <a:lnTo>
                  <a:pt x="20920" y="211"/>
                </a:lnTo>
                <a:lnTo>
                  <a:pt x="20689" y="211"/>
                </a:lnTo>
                <a:lnTo>
                  <a:pt x="20459" y="246"/>
                </a:lnTo>
                <a:lnTo>
                  <a:pt x="20228" y="246"/>
                </a:lnTo>
                <a:lnTo>
                  <a:pt x="19997" y="211"/>
                </a:lnTo>
                <a:lnTo>
                  <a:pt x="19766" y="211"/>
                </a:lnTo>
                <a:lnTo>
                  <a:pt x="19536" y="176"/>
                </a:lnTo>
                <a:lnTo>
                  <a:pt x="19305" y="176"/>
                </a:lnTo>
                <a:lnTo>
                  <a:pt x="18997" y="211"/>
                </a:lnTo>
                <a:lnTo>
                  <a:pt x="18767" y="246"/>
                </a:lnTo>
                <a:lnTo>
                  <a:pt x="18536" y="246"/>
                </a:lnTo>
                <a:lnTo>
                  <a:pt x="18305" y="246"/>
                </a:lnTo>
                <a:lnTo>
                  <a:pt x="18074" y="282"/>
                </a:lnTo>
                <a:lnTo>
                  <a:pt x="17844" y="282"/>
                </a:lnTo>
                <a:lnTo>
                  <a:pt x="17536" y="282"/>
                </a:lnTo>
                <a:lnTo>
                  <a:pt x="17305" y="282"/>
                </a:lnTo>
                <a:lnTo>
                  <a:pt x="16998" y="282"/>
                </a:lnTo>
                <a:lnTo>
                  <a:pt x="16690" y="211"/>
                </a:lnTo>
                <a:lnTo>
                  <a:pt x="16459" y="211"/>
                </a:lnTo>
                <a:lnTo>
                  <a:pt x="16228" y="211"/>
                </a:lnTo>
                <a:lnTo>
                  <a:pt x="15921" y="211"/>
                </a:lnTo>
                <a:lnTo>
                  <a:pt x="15613" y="211"/>
                </a:lnTo>
                <a:lnTo>
                  <a:pt x="15382" y="246"/>
                </a:lnTo>
                <a:lnTo>
                  <a:pt x="15152" y="282"/>
                </a:lnTo>
                <a:lnTo>
                  <a:pt x="14921" y="246"/>
                </a:lnTo>
                <a:lnTo>
                  <a:pt x="14690" y="246"/>
                </a:lnTo>
                <a:lnTo>
                  <a:pt x="14460" y="211"/>
                </a:lnTo>
                <a:lnTo>
                  <a:pt x="14229" y="211"/>
                </a:lnTo>
                <a:lnTo>
                  <a:pt x="13998" y="211"/>
                </a:lnTo>
                <a:lnTo>
                  <a:pt x="13767" y="211"/>
                </a:lnTo>
                <a:lnTo>
                  <a:pt x="13537" y="211"/>
                </a:lnTo>
                <a:lnTo>
                  <a:pt x="1315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52280" y="3049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More Tim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816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820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971800" y="1905120"/>
            <a:ext cx="2943360" cy="4267440"/>
            <a:chOff x="2971800" y="1905120"/>
            <a:chExt cx="2943360" cy="4267440"/>
          </a:xfrm>
        </p:grpSpPr>
        <p:grpSp>
          <p:nvGrpSpPr>
            <p:cNvPr id="824" name=""/>
            <p:cNvGrpSpPr/>
            <p:nvPr/>
          </p:nvGrpSpPr>
          <p:grpSpPr>
            <a:xfrm>
              <a:off x="2971800" y="4554360"/>
              <a:ext cx="1335240" cy="1608840"/>
              <a:chOff x="2971800" y="4554360"/>
              <a:chExt cx="1335240" cy="1608840"/>
            </a:xfrm>
          </p:grpSpPr>
          <p:sp>
            <p:nvSpPr>
              <p:cNvPr id="825" name=""/>
              <p:cNvSpPr/>
              <p:nvPr/>
            </p:nvSpPr>
            <p:spPr>
              <a:xfrm>
                <a:off x="339264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432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9718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3863880" y="35686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0" y="79"/>
                  </a:moveTo>
                  <a:lnTo>
                    <a:pt x="154" y="0"/>
                  </a:lnTo>
                  <a:lnTo>
                    <a:pt x="423" y="79"/>
                  </a:lnTo>
                  <a:lnTo>
                    <a:pt x="1002" y="626"/>
                  </a:lnTo>
                  <a:lnTo>
                    <a:pt x="2343" y="1725"/>
                  </a:lnTo>
                  <a:lnTo>
                    <a:pt x="1862" y="2285"/>
                  </a:lnTo>
                  <a:lnTo>
                    <a:pt x="759" y="1271"/>
                  </a:lnTo>
                  <a:lnTo>
                    <a:pt x="39" y="42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14800" y="334980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9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2840" y="210816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1682" y="0"/>
                  </a:moveTo>
                  <a:lnTo>
                    <a:pt x="1964" y="229"/>
                  </a:lnTo>
                  <a:lnTo>
                    <a:pt x="2127" y="590"/>
                  </a:lnTo>
                  <a:lnTo>
                    <a:pt x="2171" y="1050"/>
                  </a:lnTo>
                  <a:lnTo>
                    <a:pt x="2193" y="2324"/>
                  </a:lnTo>
                  <a:lnTo>
                    <a:pt x="2149" y="3057"/>
                  </a:lnTo>
                  <a:lnTo>
                    <a:pt x="1473" y="3102"/>
                  </a:lnTo>
                  <a:lnTo>
                    <a:pt x="1376" y="3512"/>
                  </a:lnTo>
                  <a:lnTo>
                    <a:pt x="1284" y="3785"/>
                  </a:lnTo>
                  <a:lnTo>
                    <a:pt x="1076" y="3785"/>
                  </a:lnTo>
                  <a:lnTo>
                    <a:pt x="957" y="3534"/>
                  </a:lnTo>
                  <a:lnTo>
                    <a:pt x="1028" y="3102"/>
                  </a:lnTo>
                  <a:lnTo>
                    <a:pt x="396" y="3031"/>
                  </a:lnTo>
                  <a:lnTo>
                    <a:pt x="374" y="2598"/>
                  </a:lnTo>
                  <a:lnTo>
                    <a:pt x="233" y="2668"/>
                  </a:lnTo>
                  <a:lnTo>
                    <a:pt x="97" y="2620"/>
                  </a:lnTo>
                  <a:lnTo>
                    <a:pt x="0" y="2258"/>
                  </a:lnTo>
                  <a:lnTo>
                    <a:pt x="119" y="2073"/>
                  </a:lnTo>
                  <a:lnTo>
                    <a:pt x="260" y="2100"/>
                  </a:lnTo>
                  <a:lnTo>
                    <a:pt x="119" y="158"/>
                  </a:lnTo>
                  <a:lnTo>
                    <a:pt x="16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07000" y="249084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29000" y="245736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14760" y="263052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75120" y="263844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862440" y="1930320"/>
              <a:ext cx="612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3753000" y="1913040"/>
              <a:ext cx="1584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3592440" y="1905120"/>
              <a:ext cx="3348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3433680" y="1946160"/>
              <a:ext cx="4932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3308400" y="1969920"/>
              <a:ext cx="47520" cy="155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00280" y="292896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1611" y="0"/>
                  </a:moveTo>
                  <a:lnTo>
                    <a:pt x="0" y="141"/>
                  </a:lnTo>
                  <a:lnTo>
                    <a:pt x="957" y="618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551400" y="335592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8" y="411"/>
                  </a:lnTo>
                  <a:lnTo>
                    <a:pt x="163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63" y="0"/>
                  </a:lnTo>
                  <a:lnTo>
                    <a:pt x="326" y="230"/>
                  </a:lnTo>
                  <a:lnTo>
                    <a:pt x="587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2720" y="42199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42"/>
                  </a:moveTo>
                  <a:lnTo>
                    <a:pt x="162" y="42"/>
                  </a:lnTo>
                  <a:cubicBezTo>
                    <a:pt x="110" y="72"/>
                    <a:pt x="68" y="117"/>
                    <a:pt x="39" y="171"/>
                  </a:cubicBezTo>
                  <a:cubicBezTo>
                    <a:pt x="11" y="226"/>
                    <a:pt x="-3" y="288"/>
                    <a:pt x="0" y="353"/>
                  </a:cubicBezTo>
                  <a:cubicBezTo>
                    <a:pt x="2" y="417"/>
                    <a:pt x="21" y="481"/>
                    <a:pt x="54" y="538"/>
                  </a:cubicBezTo>
                  <a:cubicBezTo>
                    <a:pt x="87" y="595"/>
                    <a:pt x="133" y="643"/>
                    <a:pt x="187" y="678"/>
                  </a:cubicBezTo>
                  <a:cubicBezTo>
                    <a:pt x="242" y="712"/>
                    <a:pt x="303" y="731"/>
                    <a:pt x="365" y="734"/>
                  </a:cubicBezTo>
                  <a:cubicBezTo>
                    <a:pt x="426" y="737"/>
                    <a:pt x="486" y="722"/>
                    <a:pt x="538" y="692"/>
                  </a:cubicBezTo>
                  <a:lnTo>
                    <a:pt x="539" y="692"/>
                  </a:lnTo>
                  <a:lnTo>
                    <a:pt x="539" y="692"/>
                  </a:lnTo>
                  <a:cubicBezTo>
                    <a:pt x="591" y="662"/>
                    <a:pt x="633" y="617"/>
                    <a:pt x="662" y="563"/>
                  </a:cubicBezTo>
                  <a:cubicBezTo>
                    <a:pt x="690" y="508"/>
                    <a:pt x="704" y="446"/>
                    <a:pt x="701" y="381"/>
                  </a:cubicBezTo>
                  <a:cubicBezTo>
                    <a:pt x="699" y="317"/>
                    <a:pt x="680" y="253"/>
                    <a:pt x="647" y="196"/>
                  </a:cubicBezTo>
                  <a:cubicBezTo>
                    <a:pt x="614" y="139"/>
                    <a:pt x="568" y="91"/>
                    <a:pt x="514" y="56"/>
                  </a:cubicBezTo>
                  <a:cubicBezTo>
                    <a:pt x="459" y="22"/>
                    <a:pt x="398" y="3"/>
                    <a:pt x="336" y="0"/>
                  </a:cubicBezTo>
                  <a:cubicBezTo>
                    <a:pt x="275" y="-3"/>
                    <a:pt x="215" y="12"/>
                    <a:pt x="163" y="42"/>
                  </a:cubicBezTo>
                  <a:lnTo>
                    <a:pt x="162" y="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035160" y="3495600"/>
              <a:ext cx="450000" cy="1243440"/>
              <a:chOff x="3035160" y="3495600"/>
              <a:chExt cx="450000" cy="1243440"/>
            </a:xfrm>
          </p:grpSpPr>
          <p:sp>
            <p:nvSpPr>
              <p:cNvPr id="844" name=""/>
              <p:cNvSpPr/>
              <p:nvPr/>
            </p:nvSpPr>
            <p:spPr>
              <a:xfrm>
                <a:off x="305604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03516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4173480" y="35560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2343" y="79"/>
                  </a:moveTo>
                  <a:lnTo>
                    <a:pt x="2189" y="0"/>
                  </a:lnTo>
                  <a:lnTo>
                    <a:pt x="1920" y="79"/>
                  </a:lnTo>
                  <a:lnTo>
                    <a:pt x="1341" y="626"/>
                  </a:lnTo>
                  <a:lnTo>
                    <a:pt x="0" y="1725"/>
                  </a:lnTo>
                  <a:lnTo>
                    <a:pt x="480" y="2285"/>
                  </a:lnTo>
                  <a:lnTo>
                    <a:pt x="1584" y="1271"/>
                  </a:lnTo>
                  <a:lnTo>
                    <a:pt x="2303" y="423"/>
                  </a:lnTo>
                  <a:lnTo>
                    <a:pt x="2343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916520" y="4564080"/>
              <a:ext cx="579960" cy="1484640"/>
            </a:xfrm>
            <a:custGeom>
              <a:avLst/>
              <a:gdLst/>
              <a:ahLst/>
              <a:rect l="0" t="0" r="r" b="b"/>
              <a:pathLst>
                <a:path w="1611" h="4124">
                  <a:moveTo>
                    <a:pt x="0" y="0"/>
                  </a:moveTo>
                  <a:lnTo>
                    <a:pt x="279" y="4124"/>
                  </a:lnTo>
                  <a:lnTo>
                    <a:pt x="910" y="4124"/>
                  </a:lnTo>
                  <a:lnTo>
                    <a:pt x="817" y="1116"/>
                  </a:lnTo>
                  <a:lnTo>
                    <a:pt x="910" y="4124"/>
                  </a:lnTo>
                  <a:lnTo>
                    <a:pt x="1611" y="4124"/>
                  </a:lnTo>
                  <a:lnTo>
                    <a:pt x="154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9920" y="599112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1214" y="160"/>
                  </a:moveTo>
                  <a:lnTo>
                    <a:pt x="863" y="45"/>
                  </a:lnTo>
                  <a:lnTo>
                    <a:pt x="629" y="0"/>
                  </a:lnTo>
                  <a:lnTo>
                    <a:pt x="373" y="91"/>
                  </a:lnTo>
                  <a:lnTo>
                    <a:pt x="116" y="229"/>
                  </a:lnTo>
                  <a:lnTo>
                    <a:pt x="0" y="413"/>
                  </a:lnTo>
                  <a:lnTo>
                    <a:pt x="163" y="504"/>
                  </a:lnTo>
                  <a:lnTo>
                    <a:pt x="1844" y="504"/>
                  </a:lnTo>
                  <a:lnTo>
                    <a:pt x="1844" y="160"/>
                  </a:lnTo>
                  <a:lnTo>
                    <a:pt x="1214" y="16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51320" y="599112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629" y="160"/>
                  </a:moveTo>
                  <a:lnTo>
                    <a:pt x="980" y="45"/>
                  </a:lnTo>
                  <a:lnTo>
                    <a:pt x="1214" y="0"/>
                  </a:lnTo>
                  <a:lnTo>
                    <a:pt x="1470" y="91"/>
                  </a:lnTo>
                  <a:lnTo>
                    <a:pt x="1727" y="229"/>
                  </a:lnTo>
                  <a:lnTo>
                    <a:pt x="1844" y="413"/>
                  </a:lnTo>
                  <a:lnTo>
                    <a:pt x="1680" y="504"/>
                  </a:lnTo>
                  <a:lnTo>
                    <a:pt x="0" y="504"/>
                  </a:lnTo>
                  <a:lnTo>
                    <a:pt x="0" y="160"/>
                  </a:lnTo>
                  <a:lnTo>
                    <a:pt x="629" y="16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070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15000" y="211788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512" y="0"/>
                  </a:moveTo>
                  <a:lnTo>
                    <a:pt x="233" y="227"/>
                  </a:lnTo>
                  <a:lnTo>
                    <a:pt x="69" y="592"/>
                  </a:lnTo>
                  <a:lnTo>
                    <a:pt x="23" y="1049"/>
                  </a:lnTo>
                  <a:lnTo>
                    <a:pt x="0" y="2325"/>
                  </a:lnTo>
                  <a:lnTo>
                    <a:pt x="46" y="3056"/>
                  </a:lnTo>
                  <a:lnTo>
                    <a:pt x="723" y="3101"/>
                  </a:lnTo>
                  <a:lnTo>
                    <a:pt x="817" y="3512"/>
                  </a:lnTo>
                  <a:lnTo>
                    <a:pt x="910" y="3785"/>
                  </a:lnTo>
                  <a:lnTo>
                    <a:pt x="1120" y="3785"/>
                  </a:lnTo>
                  <a:lnTo>
                    <a:pt x="1236" y="3534"/>
                  </a:lnTo>
                  <a:lnTo>
                    <a:pt x="1166" y="3101"/>
                  </a:lnTo>
                  <a:lnTo>
                    <a:pt x="1797" y="3033"/>
                  </a:lnTo>
                  <a:lnTo>
                    <a:pt x="1820" y="2599"/>
                  </a:lnTo>
                  <a:lnTo>
                    <a:pt x="1960" y="2667"/>
                  </a:lnTo>
                  <a:lnTo>
                    <a:pt x="2100" y="2622"/>
                  </a:lnTo>
                  <a:lnTo>
                    <a:pt x="2193" y="2257"/>
                  </a:lnTo>
                  <a:lnTo>
                    <a:pt x="2077" y="2075"/>
                  </a:lnTo>
                  <a:lnTo>
                    <a:pt x="1937" y="2097"/>
                  </a:lnTo>
                  <a:lnTo>
                    <a:pt x="2077" y="159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18160" y="250020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29200" y="246708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97320" y="26398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5520" y="264780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18040" y="194004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118120" y="1922400"/>
              <a:ext cx="1584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5261040" y="1914480"/>
              <a:ext cx="3312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5403960" y="1955880"/>
              <a:ext cx="4896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530680" y="1979640"/>
              <a:ext cx="4788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07080" y="293832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0" y="618"/>
                  </a:moveTo>
                  <a:lnTo>
                    <a:pt x="1611" y="477"/>
                  </a:lnTo>
                  <a:lnTo>
                    <a:pt x="653" y="0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67360" y="336564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0" y="296"/>
                  </a:moveTo>
                  <a:lnTo>
                    <a:pt x="209" y="410"/>
                  </a:lnTo>
                  <a:lnTo>
                    <a:pt x="583" y="433"/>
                  </a:lnTo>
                  <a:lnTo>
                    <a:pt x="746" y="228"/>
                  </a:lnTo>
                  <a:lnTo>
                    <a:pt x="746" y="68"/>
                  </a:lnTo>
                  <a:lnTo>
                    <a:pt x="583" y="0"/>
                  </a:lnTo>
                  <a:lnTo>
                    <a:pt x="420" y="228"/>
                  </a:lnTo>
                  <a:lnTo>
                    <a:pt x="163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02160" y="3505320"/>
              <a:ext cx="429120" cy="1026000"/>
            </a:xfrm>
            <a:custGeom>
              <a:avLst/>
              <a:gdLst/>
              <a:ahLst/>
              <a:rect l="0" t="0" r="r" b="b"/>
              <a:pathLst>
                <a:path w="1192" h="2850">
                  <a:moveTo>
                    <a:pt x="210" y="0"/>
                  </a:moveTo>
                  <a:lnTo>
                    <a:pt x="70" y="91"/>
                  </a:lnTo>
                  <a:lnTo>
                    <a:pt x="0" y="364"/>
                  </a:lnTo>
                  <a:lnTo>
                    <a:pt x="186" y="1140"/>
                  </a:lnTo>
                  <a:lnTo>
                    <a:pt x="467" y="2850"/>
                  </a:lnTo>
                  <a:lnTo>
                    <a:pt x="1192" y="2713"/>
                  </a:lnTo>
                  <a:lnTo>
                    <a:pt x="864" y="1254"/>
                  </a:lnTo>
                  <a:lnTo>
                    <a:pt x="491" y="205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83240" y="4502160"/>
              <a:ext cx="26820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55040" y="42325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692"/>
                  </a:moveTo>
                  <a:lnTo>
                    <a:pt x="162" y="692"/>
                  </a:lnTo>
                  <a:cubicBezTo>
                    <a:pt x="163" y="692"/>
                    <a:pt x="163" y="692"/>
                    <a:pt x="163" y="692"/>
                  </a:cubicBezTo>
                  <a:cubicBezTo>
                    <a:pt x="215" y="722"/>
                    <a:pt x="275" y="737"/>
                    <a:pt x="336" y="734"/>
                  </a:cubicBezTo>
                  <a:cubicBezTo>
                    <a:pt x="398" y="731"/>
                    <a:pt x="459" y="712"/>
                    <a:pt x="514" y="678"/>
                  </a:cubicBezTo>
                  <a:cubicBezTo>
                    <a:pt x="568" y="643"/>
                    <a:pt x="614" y="595"/>
                    <a:pt x="647" y="538"/>
                  </a:cubicBezTo>
                  <a:cubicBezTo>
                    <a:pt x="680" y="481"/>
                    <a:pt x="699" y="417"/>
                    <a:pt x="701" y="353"/>
                  </a:cubicBezTo>
                  <a:cubicBezTo>
                    <a:pt x="704" y="288"/>
                    <a:pt x="690" y="226"/>
                    <a:pt x="662" y="171"/>
                  </a:cubicBezTo>
                  <a:cubicBezTo>
                    <a:pt x="633" y="117"/>
                    <a:pt x="591" y="72"/>
                    <a:pt x="539" y="42"/>
                  </a:cubicBezTo>
                  <a:lnTo>
                    <a:pt x="539" y="42"/>
                  </a:lnTo>
                  <a:cubicBezTo>
                    <a:pt x="538" y="42"/>
                    <a:pt x="538" y="42"/>
                    <a:pt x="538" y="42"/>
                  </a:cubicBezTo>
                  <a:cubicBezTo>
                    <a:pt x="486" y="12"/>
                    <a:pt x="426" y="-3"/>
                    <a:pt x="365" y="0"/>
                  </a:cubicBezTo>
                  <a:cubicBezTo>
                    <a:pt x="303" y="3"/>
                    <a:pt x="242" y="22"/>
                    <a:pt x="187" y="56"/>
                  </a:cubicBezTo>
                  <a:cubicBezTo>
                    <a:pt x="133" y="91"/>
                    <a:pt x="87" y="139"/>
                    <a:pt x="54" y="196"/>
                  </a:cubicBezTo>
                  <a:cubicBezTo>
                    <a:pt x="21" y="253"/>
                    <a:pt x="2" y="317"/>
                    <a:pt x="0" y="381"/>
                  </a:cubicBezTo>
                  <a:cubicBezTo>
                    <a:pt x="-3" y="446"/>
                    <a:pt x="11" y="508"/>
                    <a:pt x="39" y="563"/>
                  </a:cubicBezTo>
                  <a:cubicBezTo>
                    <a:pt x="68" y="617"/>
                    <a:pt x="110" y="662"/>
                    <a:pt x="162" y="69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385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8768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57600" y="4254480"/>
              <a:ext cx="622800" cy="483120"/>
            </a:xfrm>
            <a:custGeom>
              <a:avLst/>
              <a:gdLst/>
              <a:ahLst/>
              <a:rect l="0" t="0" r="r" b="b"/>
              <a:pathLst>
                <a:path w="1730" h="1342">
                  <a:moveTo>
                    <a:pt x="136" y="375"/>
                  </a:moveTo>
                  <a:lnTo>
                    <a:pt x="388" y="211"/>
                  </a:lnTo>
                  <a:lnTo>
                    <a:pt x="591" y="119"/>
                  </a:lnTo>
                  <a:lnTo>
                    <a:pt x="1002" y="0"/>
                  </a:lnTo>
                  <a:lnTo>
                    <a:pt x="1275" y="141"/>
                  </a:lnTo>
                  <a:lnTo>
                    <a:pt x="1527" y="260"/>
                  </a:lnTo>
                  <a:lnTo>
                    <a:pt x="1615" y="565"/>
                  </a:lnTo>
                  <a:lnTo>
                    <a:pt x="1730" y="940"/>
                  </a:lnTo>
                  <a:lnTo>
                    <a:pt x="1615" y="1179"/>
                  </a:lnTo>
                  <a:lnTo>
                    <a:pt x="1686" y="1342"/>
                  </a:lnTo>
                  <a:lnTo>
                    <a:pt x="1549" y="1272"/>
                  </a:lnTo>
                  <a:lnTo>
                    <a:pt x="1435" y="1082"/>
                  </a:lnTo>
                  <a:lnTo>
                    <a:pt x="1364" y="728"/>
                  </a:lnTo>
                  <a:lnTo>
                    <a:pt x="1231" y="472"/>
                  </a:lnTo>
                  <a:lnTo>
                    <a:pt x="931" y="330"/>
                  </a:lnTo>
                  <a:lnTo>
                    <a:pt x="591" y="402"/>
                  </a:lnTo>
                  <a:lnTo>
                    <a:pt x="339" y="565"/>
                  </a:lnTo>
                  <a:lnTo>
                    <a:pt x="180" y="636"/>
                  </a:lnTo>
                  <a:lnTo>
                    <a:pt x="44" y="636"/>
                  </a:lnTo>
                  <a:lnTo>
                    <a:pt x="0" y="472"/>
                  </a:lnTo>
                  <a:lnTo>
                    <a:pt x="136" y="375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2428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4952880" y="4038480"/>
              <a:ext cx="508680" cy="1283400"/>
              <a:chOff x="4952880" y="4038480"/>
              <a:chExt cx="508680" cy="1283400"/>
            </a:xfrm>
          </p:grpSpPr>
          <p:sp>
            <p:nvSpPr>
              <p:cNvPr id="871" name=""/>
              <p:cNvSpPr/>
              <p:nvPr/>
            </p:nvSpPr>
            <p:spPr>
              <a:xfrm>
                <a:off x="5221440" y="41133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52880" y="42400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003640" y="46069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97520" y="40384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95720" y="48816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243400" y="51483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110200" y="45370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4610160" y="4191120"/>
              <a:ext cx="622800" cy="483120"/>
            </a:xfrm>
            <a:custGeom>
              <a:avLst/>
              <a:gdLst/>
              <a:ahLst/>
              <a:rect l="0" t="0" r="r" b="b"/>
              <a:pathLst>
                <a:path w="1730" h="1342">
                  <a:moveTo>
                    <a:pt x="1594" y="377"/>
                  </a:moveTo>
                  <a:lnTo>
                    <a:pt x="1343" y="211"/>
                  </a:lnTo>
                  <a:lnTo>
                    <a:pt x="1138" y="117"/>
                  </a:lnTo>
                  <a:lnTo>
                    <a:pt x="728" y="0"/>
                  </a:lnTo>
                  <a:lnTo>
                    <a:pt x="455" y="141"/>
                  </a:lnTo>
                  <a:lnTo>
                    <a:pt x="204" y="258"/>
                  </a:lnTo>
                  <a:lnTo>
                    <a:pt x="113" y="565"/>
                  </a:lnTo>
                  <a:lnTo>
                    <a:pt x="0" y="941"/>
                  </a:lnTo>
                  <a:lnTo>
                    <a:pt x="113" y="1177"/>
                  </a:lnTo>
                  <a:lnTo>
                    <a:pt x="45" y="1342"/>
                  </a:lnTo>
                  <a:lnTo>
                    <a:pt x="181" y="1272"/>
                  </a:lnTo>
                  <a:lnTo>
                    <a:pt x="295" y="1083"/>
                  </a:lnTo>
                  <a:lnTo>
                    <a:pt x="363" y="730"/>
                  </a:lnTo>
                  <a:lnTo>
                    <a:pt x="501" y="471"/>
                  </a:lnTo>
                  <a:lnTo>
                    <a:pt x="797" y="329"/>
                  </a:lnTo>
                  <a:lnTo>
                    <a:pt x="1138" y="400"/>
                  </a:lnTo>
                  <a:lnTo>
                    <a:pt x="1389" y="565"/>
                  </a:lnTo>
                  <a:lnTo>
                    <a:pt x="1548" y="636"/>
                  </a:lnTo>
                  <a:lnTo>
                    <a:pt x="1685" y="636"/>
                  </a:lnTo>
                  <a:lnTo>
                    <a:pt x="1730" y="471"/>
                  </a:lnTo>
                  <a:lnTo>
                    <a:pt x="1594" y="377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429000" y="4268880"/>
              <a:ext cx="508320" cy="1281240"/>
              <a:chOff x="3429000" y="4268880"/>
              <a:chExt cx="508320" cy="1281240"/>
            </a:xfrm>
          </p:grpSpPr>
          <p:sp>
            <p:nvSpPr>
              <p:cNvPr id="880" name=""/>
              <p:cNvSpPr/>
              <p:nvPr/>
            </p:nvSpPr>
            <p:spPr>
              <a:xfrm>
                <a:off x="3570120" y="43387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824280" y="44686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70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08360" y="48531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08360" y="42688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13120" y="51134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81280" y="53784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29000" y="47847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3351240" y="3811680"/>
              <a:ext cx="535320" cy="1511640"/>
              <a:chOff x="3351240" y="3811680"/>
              <a:chExt cx="535320" cy="1511640"/>
            </a:xfrm>
          </p:grpSpPr>
          <p:sp>
            <p:nvSpPr>
              <p:cNvPr id="888" name=""/>
              <p:cNvSpPr/>
              <p:nvPr/>
            </p:nvSpPr>
            <p:spPr>
              <a:xfrm>
                <a:off x="3500280" y="389556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218" y="243"/>
                    </a:moveTo>
                    <a:lnTo>
                      <a:pt x="218" y="167"/>
                    </a:lnTo>
                    <a:lnTo>
                      <a:pt x="186" y="92"/>
                    </a:lnTo>
                    <a:lnTo>
                      <a:pt x="128" y="48"/>
                    </a:lnTo>
                    <a:lnTo>
                      <a:pt x="71" y="0"/>
                    </a:lnTo>
                    <a:lnTo>
                      <a:pt x="39" y="30"/>
                    </a:lnTo>
                    <a:lnTo>
                      <a:pt x="0" y="7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6" y="110"/>
                    </a:lnTo>
                    <a:lnTo>
                      <a:pt x="84" y="154"/>
                    </a:lnTo>
                    <a:lnTo>
                      <a:pt x="142" y="217"/>
                    </a:lnTo>
                    <a:lnTo>
                      <a:pt x="155" y="287"/>
                    </a:lnTo>
                    <a:lnTo>
                      <a:pt x="155" y="318"/>
                    </a:lnTo>
                    <a:lnTo>
                      <a:pt x="172" y="349"/>
                    </a:lnTo>
                    <a:lnTo>
                      <a:pt x="186" y="380"/>
                    </a:lnTo>
                    <a:lnTo>
                      <a:pt x="218" y="393"/>
                    </a:lnTo>
                    <a:lnTo>
                      <a:pt x="231" y="411"/>
                    </a:lnTo>
                    <a:lnTo>
                      <a:pt x="244" y="411"/>
                    </a:lnTo>
                    <a:lnTo>
                      <a:pt x="270" y="380"/>
                    </a:lnTo>
                    <a:lnTo>
                      <a:pt x="270" y="349"/>
                    </a:lnTo>
                    <a:lnTo>
                      <a:pt x="262" y="336"/>
                    </a:lnTo>
                    <a:lnTo>
                      <a:pt x="244" y="274"/>
                    </a:lnTo>
                    <a:lnTo>
                      <a:pt x="231" y="256"/>
                    </a:lnTo>
                    <a:lnTo>
                      <a:pt x="218" y="256"/>
                    </a:lnTo>
                    <a:lnTo>
                      <a:pt x="218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767040" y="404820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79" y="469"/>
                    </a:moveTo>
                    <a:lnTo>
                      <a:pt x="146" y="358"/>
                    </a:lnTo>
                    <a:lnTo>
                      <a:pt x="212" y="225"/>
                    </a:lnTo>
                    <a:lnTo>
                      <a:pt x="212" y="164"/>
                    </a:lnTo>
                    <a:lnTo>
                      <a:pt x="212" y="97"/>
                    </a:lnTo>
                    <a:lnTo>
                      <a:pt x="186" y="44"/>
                    </a:lnTo>
                    <a:lnTo>
                      <a:pt x="146" y="0"/>
                    </a:lnTo>
                    <a:lnTo>
                      <a:pt x="133" y="30"/>
                    </a:lnTo>
                    <a:lnTo>
                      <a:pt x="106" y="44"/>
                    </a:lnTo>
                    <a:lnTo>
                      <a:pt x="93" y="79"/>
                    </a:lnTo>
                    <a:lnTo>
                      <a:pt x="93" y="97"/>
                    </a:lnTo>
                    <a:lnTo>
                      <a:pt x="159" y="132"/>
                    </a:lnTo>
                    <a:lnTo>
                      <a:pt x="225" y="164"/>
                    </a:lnTo>
                    <a:lnTo>
                      <a:pt x="199" y="177"/>
                    </a:lnTo>
                    <a:lnTo>
                      <a:pt x="186" y="177"/>
                    </a:lnTo>
                    <a:lnTo>
                      <a:pt x="159" y="177"/>
                    </a:lnTo>
                    <a:lnTo>
                      <a:pt x="146" y="177"/>
                    </a:lnTo>
                    <a:lnTo>
                      <a:pt x="120" y="195"/>
                    </a:lnTo>
                    <a:lnTo>
                      <a:pt x="70" y="212"/>
                    </a:lnTo>
                    <a:lnTo>
                      <a:pt x="52" y="225"/>
                    </a:lnTo>
                    <a:lnTo>
                      <a:pt x="39" y="225"/>
                    </a:lnTo>
                    <a:lnTo>
                      <a:pt x="17" y="292"/>
                    </a:lnTo>
                    <a:lnTo>
                      <a:pt x="0" y="358"/>
                    </a:lnTo>
                    <a:lnTo>
                      <a:pt x="17" y="406"/>
                    </a:lnTo>
                    <a:lnTo>
                      <a:pt x="39" y="437"/>
                    </a:lnTo>
                    <a:lnTo>
                      <a:pt x="120" y="487"/>
                    </a:lnTo>
                    <a:lnTo>
                      <a:pt x="212" y="517"/>
                    </a:lnTo>
                    <a:lnTo>
                      <a:pt x="239" y="553"/>
                    </a:lnTo>
                    <a:lnTo>
                      <a:pt x="279" y="584"/>
                    </a:lnTo>
                    <a:lnTo>
                      <a:pt x="306" y="601"/>
                    </a:lnTo>
                    <a:lnTo>
                      <a:pt x="319" y="584"/>
                    </a:lnTo>
                    <a:lnTo>
                      <a:pt x="332" y="553"/>
                    </a:lnTo>
                    <a:lnTo>
                      <a:pt x="279" y="517"/>
                    </a:lnTo>
                    <a:lnTo>
                      <a:pt x="239" y="517"/>
                    </a:lnTo>
                    <a:lnTo>
                      <a:pt x="199" y="504"/>
                    </a:lnTo>
                    <a:lnTo>
                      <a:pt x="146" y="469"/>
                    </a:lnTo>
                    <a:lnTo>
                      <a:pt x="120" y="437"/>
                    </a:lnTo>
                    <a:lnTo>
                      <a:pt x="120" y="424"/>
                    </a:lnTo>
                    <a:lnTo>
                      <a:pt x="106" y="437"/>
                    </a:lnTo>
                    <a:lnTo>
                      <a:pt x="79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46440" y="450216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127" y="30"/>
                    </a:moveTo>
                    <a:lnTo>
                      <a:pt x="168" y="66"/>
                    </a:lnTo>
                    <a:lnTo>
                      <a:pt x="195" y="84"/>
                    </a:lnTo>
                    <a:lnTo>
                      <a:pt x="225" y="52"/>
                    </a:lnTo>
                    <a:lnTo>
                      <a:pt x="265" y="17"/>
                    </a:lnTo>
                    <a:lnTo>
                      <a:pt x="390" y="52"/>
                    </a:lnTo>
                    <a:lnTo>
                      <a:pt x="517" y="106"/>
                    </a:lnTo>
                    <a:lnTo>
                      <a:pt x="504" y="155"/>
                    </a:lnTo>
                    <a:lnTo>
                      <a:pt x="460" y="155"/>
                    </a:lnTo>
                    <a:lnTo>
                      <a:pt x="362" y="155"/>
                    </a:lnTo>
                    <a:lnTo>
                      <a:pt x="349" y="137"/>
                    </a:lnTo>
                    <a:lnTo>
                      <a:pt x="309" y="120"/>
                    </a:lnTo>
                    <a:lnTo>
                      <a:pt x="278" y="106"/>
                    </a:lnTo>
                    <a:lnTo>
                      <a:pt x="265" y="106"/>
                    </a:lnTo>
                    <a:lnTo>
                      <a:pt x="234" y="120"/>
                    </a:lnTo>
                    <a:lnTo>
                      <a:pt x="195" y="137"/>
                    </a:lnTo>
                    <a:lnTo>
                      <a:pt x="168" y="155"/>
                    </a:lnTo>
                    <a:lnTo>
                      <a:pt x="155" y="155"/>
                    </a:lnTo>
                    <a:lnTo>
                      <a:pt x="114" y="155"/>
                    </a:lnTo>
                    <a:lnTo>
                      <a:pt x="70" y="137"/>
                    </a:lnTo>
                    <a:lnTo>
                      <a:pt x="57" y="106"/>
                    </a:lnTo>
                    <a:lnTo>
                      <a:pt x="17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17"/>
                    </a:lnTo>
                    <a:lnTo>
                      <a:pt x="39" y="30"/>
                    </a:lnTo>
                    <a:lnTo>
                      <a:pt x="70" y="84"/>
                    </a:lnTo>
                    <a:lnTo>
                      <a:pt x="97" y="120"/>
                    </a:lnTo>
                    <a:lnTo>
                      <a:pt x="114" y="120"/>
                    </a:lnTo>
                    <a:lnTo>
                      <a:pt x="127" y="120"/>
                    </a:lnTo>
                    <a:lnTo>
                      <a:pt x="127" y="84"/>
                    </a:lnTo>
                    <a:lnTo>
                      <a:pt x="127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48240" y="381168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79" y="512"/>
                    </a:moveTo>
                    <a:lnTo>
                      <a:pt x="92" y="362"/>
                    </a:lnTo>
                    <a:lnTo>
                      <a:pt x="92" y="229"/>
                    </a:lnTo>
                    <a:lnTo>
                      <a:pt x="92" y="167"/>
                    </a:lnTo>
                    <a:lnTo>
                      <a:pt x="123" y="105"/>
                    </a:lnTo>
                    <a:lnTo>
                      <a:pt x="150" y="48"/>
                    </a:lnTo>
                    <a:lnTo>
                      <a:pt x="203" y="0"/>
                    </a:lnTo>
                    <a:lnTo>
                      <a:pt x="190" y="105"/>
                    </a:lnTo>
                    <a:lnTo>
                      <a:pt x="164" y="149"/>
                    </a:lnTo>
                    <a:lnTo>
                      <a:pt x="133" y="211"/>
                    </a:lnTo>
                    <a:lnTo>
                      <a:pt x="247" y="287"/>
                    </a:lnTo>
                    <a:lnTo>
                      <a:pt x="353" y="331"/>
                    </a:lnTo>
                    <a:lnTo>
                      <a:pt x="381" y="318"/>
                    </a:lnTo>
                    <a:lnTo>
                      <a:pt x="407" y="300"/>
                    </a:lnTo>
                    <a:lnTo>
                      <a:pt x="434" y="274"/>
                    </a:lnTo>
                    <a:lnTo>
                      <a:pt x="473" y="229"/>
                    </a:lnTo>
                    <a:lnTo>
                      <a:pt x="491" y="180"/>
                    </a:lnTo>
                    <a:lnTo>
                      <a:pt x="504" y="167"/>
                    </a:lnTo>
                    <a:lnTo>
                      <a:pt x="504" y="229"/>
                    </a:lnTo>
                    <a:lnTo>
                      <a:pt x="491" y="260"/>
                    </a:lnTo>
                    <a:lnTo>
                      <a:pt x="451" y="318"/>
                    </a:lnTo>
                    <a:lnTo>
                      <a:pt x="381" y="331"/>
                    </a:lnTo>
                    <a:lnTo>
                      <a:pt x="296" y="349"/>
                    </a:lnTo>
                    <a:lnTo>
                      <a:pt x="269" y="362"/>
                    </a:lnTo>
                    <a:lnTo>
                      <a:pt x="256" y="375"/>
                    </a:lnTo>
                    <a:lnTo>
                      <a:pt x="230" y="406"/>
                    </a:lnTo>
                    <a:lnTo>
                      <a:pt x="217" y="437"/>
                    </a:lnTo>
                    <a:lnTo>
                      <a:pt x="203" y="464"/>
                    </a:lnTo>
                    <a:lnTo>
                      <a:pt x="177" y="481"/>
                    </a:lnTo>
                    <a:lnTo>
                      <a:pt x="133" y="437"/>
                    </a:lnTo>
                    <a:lnTo>
                      <a:pt x="123" y="406"/>
                    </a:lnTo>
                    <a:lnTo>
                      <a:pt x="110" y="362"/>
                    </a:lnTo>
                    <a:lnTo>
                      <a:pt x="92" y="300"/>
                    </a:lnTo>
                    <a:lnTo>
                      <a:pt x="110" y="274"/>
                    </a:lnTo>
                    <a:lnTo>
                      <a:pt x="110" y="274"/>
                    </a:lnTo>
                    <a:lnTo>
                      <a:pt x="123" y="287"/>
                    </a:lnTo>
                    <a:lnTo>
                      <a:pt x="150" y="318"/>
                    </a:lnTo>
                    <a:lnTo>
                      <a:pt x="164" y="362"/>
                    </a:lnTo>
                    <a:lnTo>
                      <a:pt x="110" y="437"/>
                    </a:lnTo>
                    <a:lnTo>
                      <a:pt x="79" y="455"/>
                    </a:lnTo>
                    <a:lnTo>
                      <a:pt x="52" y="464"/>
                    </a:lnTo>
                    <a:lnTo>
                      <a:pt x="39" y="481"/>
                    </a:lnTo>
                    <a:lnTo>
                      <a:pt x="13" y="494"/>
                    </a:lnTo>
                    <a:lnTo>
                      <a:pt x="0" y="494"/>
                    </a:lnTo>
                    <a:lnTo>
                      <a:pt x="0" y="512"/>
                    </a:lnTo>
                    <a:lnTo>
                      <a:pt x="26" y="525"/>
                    </a:lnTo>
                    <a:lnTo>
                      <a:pt x="52" y="525"/>
                    </a:lnTo>
                    <a:lnTo>
                      <a:pt x="123" y="525"/>
                    </a:lnTo>
                    <a:lnTo>
                      <a:pt x="123" y="543"/>
                    </a:lnTo>
                    <a:lnTo>
                      <a:pt x="133" y="543"/>
                    </a:lnTo>
                    <a:lnTo>
                      <a:pt x="150" y="543"/>
                    </a:lnTo>
                    <a:lnTo>
                      <a:pt x="150" y="543"/>
                    </a:lnTo>
                    <a:lnTo>
                      <a:pt x="110" y="525"/>
                    </a:lnTo>
                    <a:lnTo>
                      <a:pt x="79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755880" y="480852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33" y="92"/>
                    </a:lnTo>
                    <a:lnTo>
                      <a:pt x="159" y="154"/>
                    </a:lnTo>
                    <a:lnTo>
                      <a:pt x="199" y="331"/>
                    </a:lnTo>
                    <a:lnTo>
                      <a:pt x="239" y="508"/>
                    </a:lnTo>
                    <a:lnTo>
                      <a:pt x="225" y="566"/>
                    </a:lnTo>
                    <a:lnTo>
                      <a:pt x="199" y="606"/>
                    </a:lnTo>
                    <a:lnTo>
                      <a:pt x="172" y="645"/>
                    </a:lnTo>
                    <a:lnTo>
                      <a:pt x="133" y="685"/>
                    </a:lnTo>
                    <a:lnTo>
                      <a:pt x="88" y="707"/>
                    </a:lnTo>
                    <a:lnTo>
                      <a:pt x="66" y="707"/>
                    </a:lnTo>
                    <a:lnTo>
                      <a:pt x="66" y="725"/>
                    </a:lnTo>
                    <a:lnTo>
                      <a:pt x="66" y="742"/>
                    </a:lnTo>
                    <a:lnTo>
                      <a:pt x="88" y="742"/>
                    </a:lnTo>
                    <a:lnTo>
                      <a:pt x="133" y="725"/>
                    </a:lnTo>
                    <a:lnTo>
                      <a:pt x="133" y="547"/>
                    </a:lnTo>
                    <a:lnTo>
                      <a:pt x="146" y="525"/>
                    </a:lnTo>
                    <a:lnTo>
                      <a:pt x="146" y="508"/>
                    </a:lnTo>
                    <a:lnTo>
                      <a:pt x="120" y="490"/>
                    </a:lnTo>
                    <a:lnTo>
                      <a:pt x="79" y="446"/>
                    </a:lnTo>
                    <a:lnTo>
                      <a:pt x="35" y="428"/>
                    </a:lnTo>
                    <a:lnTo>
                      <a:pt x="13" y="428"/>
                    </a:lnTo>
                    <a:lnTo>
                      <a:pt x="0" y="389"/>
                    </a:lnTo>
                    <a:lnTo>
                      <a:pt x="0" y="353"/>
                    </a:lnTo>
                    <a:lnTo>
                      <a:pt x="13" y="331"/>
                    </a:lnTo>
                    <a:lnTo>
                      <a:pt x="52" y="309"/>
                    </a:lnTo>
                    <a:lnTo>
                      <a:pt x="79" y="331"/>
                    </a:lnTo>
                    <a:lnTo>
                      <a:pt x="88" y="371"/>
                    </a:lnTo>
                    <a:lnTo>
                      <a:pt x="120" y="428"/>
                    </a:lnTo>
                    <a:lnTo>
                      <a:pt x="159" y="371"/>
                    </a:lnTo>
                    <a:lnTo>
                      <a:pt x="172" y="353"/>
                    </a:lnTo>
                    <a:lnTo>
                      <a:pt x="146" y="309"/>
                    </a:lnTo>
                    <a:lnTo>
                      <a:pt x="105" y="274"/>
                    </a:lnTo>
                    <a:lnTo>
                      <a:pt x="88" y="252"/>
                    </a:lnTo>
                    <a:lnTo>
                      <a:pt x="79" y="234"/>
                    </a:lnTo>
                    <a:lnTo>
                      <a:pt x="22" y="0"/>
                    </a:lnTo>
                    <a:lnTo>
                      <a:pt x="35" y="35"/>
                    </a:lnTo>
                    <a:lnTo>
                      <a:pt x="79" y="74"/>
                    </a:lnTo>
                    <a:lnTo>
                      <a:pt x="105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513240" y="512136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124" y="145"/>
                    </a:lnTo>
                    <a:lnTo>
                      <a:pt x="142" y="185"/>
                    </a:lnTo>
                    <a:lnTo>
                      <a:pt x="150" y="229"/>
                    </a:lnTo>
                    <a:lnTo>
                      <a:pt x="168" y="287"/>
                    </a:lnTo>
                    <a:lnTo>
                      <a:pt x="177" y="331"/>
                    </a:lnTo>
                    <a:lnTo>
                      <a:pt x="195" y="371"/>
                    </a:lnTo>
                    <a:lnTo>
                      <a:pt x="195" y="371"/>
                    </a:lnTo>
                    <a:lnTo>
                      <a:pt x="168" y="433"/>
                    </a:lnTo>
                    <a:lnTo>
                      <a:pt x="142" y="499"/>
                    </a:lnTo>
                    <a:lnTo>
                      <a:pt x="52" y="561"/>
                    </a:lnTo>
                    <a:lnTo>
                      <a:pt x="83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70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83" y="314"/>
                    </a:lnTo>
                    <a:lnTo>
                      <a:pt x="52" y="287"/>
                    </a:lnTo>
                    <a:lnTo>
                      <a:pt x="26" y="246"/>
                    </a:lnTo>
                    <a:lnTo>
                      <a:pt x="0" y="202"/>
                    </a:lnTo>
                    <a:lnTo>
                      <a:pt x="0" y="185"/>
                    </a:lnTo>
                    <a:lnTo>
                      <a:pt x="0" y="145"/>
                    </a:lnTo>
                    <a:lnTo>
                      <a:pt x="13" y="83"/>
                    </a:lnTo>
                    <a:lnTo>
                      <a:pt x="52" y="22"/>
                    </a:lnTo>
                    <a:lnTo>
                      <a:pt x="83" y="0"/>
                    </a:lnTo>
                    <a:lnTo>
                      <a:pt x="83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51240" y="441972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423" y="145"/>
                    </a:moveTo>
                    <a:lnTo>
                      <a:pt x="449" y="286"/>
                    </a:lnTo>
                    <a:lnTo>
                      <a:pt x="480" y="358"/>
                    </a:lnTo>
                    <a:lnTo>
                      <a:pt x="530" y="411"/>
                    </a:lnTo>
                    <a:lnTo>
                      <a:pt x="587" y="393"/>
                    </a:lnTo>
                    <a:lnTo>
                      <a:pt x="618" y="375"/>
                    </a:lnTo>
                    <a:lnTo>
                      <a:pt x="662" y="375"/>
                    </a:lnTo>
                    <a:lnTo>
                      <a:pt x="724" y="393"/>
                    </a:lnTo>
                    <a:lnTo>
                      <a:pt x="781" y="446"/>
                    </a:lnTo>
                    <a:lnTo>
                      <a:pt x="856" y="464"/>
                    </a:lnTo>
                    <a:lnTo>
                      <a:pt x="993" y="538"/>
                    </a:lnTo>
                    <a:lnTo>
                      <a:pt x="993" y="574"/>
                    </a:lnTo>
                    <a:lnTo>
                      <a:pt x="979" y="605"/>
                    </a:lnTo>
                    <a:lnTo>
                      <a:pt x="918" y="627"/>
                    </a:lnTo>
                    <a:lnTo>
                      <a:pt x="843" y="605"/>
                    </a:lnTo>
                    <a:lnTo>
                      <a:pt x="781" y="591"/>
                    </a:lnTo>
                    <a:lnTo>
                      <a:pt x="631" y="538"/>
                    </a:lnTo>
                    <a:lnTo>
                      <a:pt x="499" y="464"/>
                    </a:lnTo>
                    <a:lnTo>
                      <a:pt x="449" y="464"/>
                    </a:lnTo>
                    <a:lnTo>
                      <a:pt x="405" y="486"/>
                    </a:lnTo>
                    <a:lnTo>
                      <a:pt x="361" y="499"/>
                    </a:lnTo>
                    <a:lnTo>
                      <a:pt x="330" y="538"/>
                    </a:lnTo>
                    <a:lnTo>
                      <a:pt x="273" y="574"/>
                    </a:lnTo>
                    <a:lnTo>
                      <a:pt x="255" y="538"/>
                    </a:lnTo>
                    <a:lnTo>
                      <a:pt x="242" y="516"/>
                    </a:lnTo>
                    <a:lnTo>
                      <a:pt x="211" y="516"/>
                    </a:lnTo>
                    <a:lnTo>
                      <a:pt x="167" y="516"/>
                    </a:lnTo>
                    <a:lnTo>
                      <a:pt x="136" y="516"/>
                    </a:lnTo>
                    <a:lnTo>
                      <a:pt x="105" y="486"/>
                    </a:lnTo>
                    <a:lnTo>
                      <a:pt x="74" y="411"/>
                    </a:lnTo>
                    <a:lnTo>
                      <a:pt x="44" y="318"/>
                    </a:lnTo>
                    <a:lnTo>
                      <a:pt x="17" y="233"/>
                    </a:lnTo>
                    <a:lnTo>
                      <a:pt x="0" y="198"/>
                    </a:lnTo>
                    <a:lnTo>
                      <a:pt x="0" y="176"/>
                    </a:lnTo>
                    <a:lnTo>
                      <a:pt x="44" y="158"/>
                    </a:lnTo>
                    <a:lnTo>
                      <a:pt x="105" y="145"/>
                    </a:lnTo>
                    <a:lnTo>
                      <a:pt x="167" y="123"/>
                    </a:lnTo>
                    <a:lnTo>
                      <a:pt x="198" y="123"/>
                    </a:lnTo>
                    <a:lnTo>
                      <a:pt x="224" y="105"/>
                    </a:lnTo>
                    <a:lnTo>
                      <a:pt x="273" y="92"/>
                    </a:lnTo>
                    <a:lnTo>
                      <a:pt x="273" y="52"/>
                    </a:lnTo>
                    <a:lnTo>
                      <a:pt x="286" y="17"/>
                    </a:lnTo>
                    <a:lnTo>
                      <a:pt x="348" y="0"/>
                    </a:lnTo>
                    <a:lnTo>
                      <a:pt x="423" y="0"/>
                    </a:lnTo>
                    <a:lnTo>
                      <a:pt x="480" y="0"/>
                    </a:lnTo>
                    <a:lnTo>
                      <a:pt x="467" y="35"/>
                    </a:lnTo>
                    <a:lnTo>
                      <a:pt x="467" y="52"/>
                    </a:lnTo>
                    <a:lnTo>
                      <a:pt x="423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5013360" y="3735360"/>
              <a:ext cx="535320" cy="1511640"/>
              <a:chOff x="5013360" y="3735360"/>
              <a:chExt cx="535320" cy="1511640"/>
            </a:xfrm>
          </p:grpSpPr>
          <p:sp>
            <p:nvSpPr>
              <p:cNvPr id="896" name=""/>
              <p:cNvSpPr/>
              <p:nvPr/>
            </p:nvSpPr>
            <p:spPr>
              <a:xfrm>
                <a:off x="5302080" y="381960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52" y="243"/>
                    </a:moveTo>
                    <a:lnTo>
                      <a:pt x="52" y="167"/>
                    </a:lnTo>
                    <a:lnTo>
                      <a:pt x="84" y="92"/>
                    </a:lnTo>
                    <a:lnTo>
                      <a:pt x="142" y="48"/>
                    </a:lnTo>
                    <a:lnTo>
                      <a:pt x="199" y="0"/>
                    </a:lnTo>
                    <a:lnTo>
                      <a:pt x="231" y="30"/>
                    </a:lnTo>
                    <a:lnTo>
                      <a:pt x="270" y="79"/>
                    </a:lnTo>
                    <a:lnTo>
                      <a:pt x="270" y="110"/>
                    </a:lnTo>
                    <a:lnTo>
                      <a:pt x="270" y="110"/>
                    </a:lnTo>
                    <a:lnTo>
                      <a:pt x="244" y="110"/>
                    </a:lnTo>
                    <a:lnTo>
                      <a:pt x="186" y="154"/>
                    </a:lnTo>
                    <a:lnTo>
                      <a:pt x="128" y="217"/>
                    </a:lnTo>
                    <a:lnTo>
                      <a:pt x="115" y="287"/>
                    </a:lnTo>
                    <a:lnTo>
                      <a:pt x="115" y="318"/>
                    </a:lnTo>
                    <a:lnTo>
                      <a:pt x="98" y="349"/>
                    </a:lnTo>
                    <a:lnTo>
                      <a:pt x="84" y="380"/>
                    </a:lnTo>
                    <a:lnTo>
                      <a:pt x="52" y="393"/>
                    </a:lnTo>
                    <a:lnTo>
                      <a:pt x="39" y="411"/>
                    </a:lnTo>
                    <a:lnTo>
                      <a:pt x="26" y="411"/>
                    </a:lnTo>
                    <a:lnTo>
                      <a:pt x="0" y="380"/>
                    </a:lnTo>
                    <a:lnTo>
                      <a:pt x="0" y="349"/>
                    </a:lnTo>
                    <a:lnTo>
                      <a:pt x="8" y="336"/>
                    </a:lnTo>
                    <a:lnTo>
                      <a:pt x="26" y="274"/>
                    </a:lnTo>
                    <a:lnTo>
                      <a:pt x="39" y="256"/>
                    </a:lnTo>
                    <a:lnTo>
                      <a:pt x="52" y="256"/>
                    </a:lnTo>
                    <a:lnTo>
                      <a:pt x="52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13360" y="397188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253" y="469"/>
                    </a:moveTo>
                    <a:lnTo>
                      <a:pt x="186" y="358"/>
                    </a:lnTo>
                    <a:lnTo>
                      <a:pt x="120" y="225"/>
                    </a:lnTo>
                    <a:lnTo>
                      <a:pt x="120" y="164"/>
                    </a:lnTo>
                    <a:lnTo>
                      <a:pt x="120" y="97"/>
                    </a:lnTo>
                    <a:lnTo>
                      <a:pt x="146" y="44"/>
                    </a:lnTo>
                    <a:lnTo>
                      <a:pt x="186" y="0"/>
                    </a:lnTo>
                    <a:lnTo>
                      <a:pt x="199" y="30"/>
                    </a:lnTo>
                    <a:lnTo>
                      <a:pt x="225" y="44"/>
                    </a:lnTo>
                    <a:lnTo>
                      <a:pt x="239" y="79"/>
                    </a:lnTo>
                    <a:lnTo>
                      <a:pt x="239" y="97"/>
                    </a:lnTo>
                    <a:lnTo>
                      <a:pt x="172" y="132"/>
                    </a:lnTo>
                    <a:lnTo>
                      <a:pt x="106" y="164"/>
                    </a:lnTo>
                    <a:lnTo>
                      <a:pt x="133" y="177"/>
                    </a:lnTo>
                    <a:lnTo>
                      <a:pt x="146" y="177"/>
                    </a:lnTo>
                    <a:lnTo>
                      <a:pt x="172" y="177"/>
                    </a:lnTo>
                    <a:lnTo>
                      <a:pt x="186" y="177"/>
                    </a:lnTo>
                    <a:lnTo>
                      <a:pt x="212" y="195"/>
                    </a:lnTo>
                    <a:lnTo>
                      <a:pt x="262" y="212"/>
                    </a:lnTo>
                    <a:lnTo>
                      <a:pt x="279" y="225"/>
                    </a:lnTo>
                    <a:lnTo>
                      <a:pt x="293" y="225"/>
                    </a:lnTo>
                    <a:lnTo>
                      <a:pt x="315" y="292"/>
                    </a:lnTo>
                    <a:lnTo>
                      <a:pt x="332" y="358"/>
                    </a:lnTo>
                    <a:lnTo>
                      <a:pt x="315" y="406"/>
                    </a:lnTo>
                    <a:lnTo>
                      <a:pt x="293" y="437"/>
                    </a:lnTo>
                    <a:lnTo>
                      <a:pt x="212" y="487"/>
                    </a:lnTo>
                    <a:lnTo>
                      <a:pt x="120" y="517"/>
                    </a:lnTo>
                    <a:lnTo>
                      <a:pt x="93" y="553"/>
                    </a:lnTo>
                    <a:lnTo>
                      <a:pt x="52" y="584"/>
                    </a:lnTo>
                    <a:lnTo>
                      <a:pt x="26" y="601"/>
                    </a:lnTo>
                    <a:lnTo>
                      <a:pt x="13" y="584"/>
                    </a:lnTo>
                    <a:lnTo>
                      <a:pt x="0" y="553"/>
                    </a:lnTo>
                    <a:lnTo>
                      <a:pt x="52" y="517"/>
                    </a:lnTo>
                    <a:lnTo>
                      <a:pt x="93" y="517"/>
                    </a:lnTo>
                    <a:lnTo>
                      <a:pt x="133" y="504"/>
                    </a:lnTo>
                    <a:lnTo>
                      <a:pt x="186" y="469"/>
                    </a:lnTo>
                    <a:lnTo>
                      <a:pt x="212" y="437"/>
                    </a:lnTo>
                    <a:lnTo>
                      <a:pt x="212" y="424"/>
                    </a:lnTo>
                    <a:lnTo>
                      <a:pt x="225" y="437"/>
                    </a:lnTo>
                    <a:lnTo>
                      <a:pt x="253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67360" y="442584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390" y="30"/>
                    </a:moveTo>
                    <a:lnTo>
                      <a:pt x="349" y="66"/>
                    </a:lnTo>
                    <a:lnTo>
                      <a:pt x="322" y="84"/>
                    </a:lnTo>
                    <a:lnTo>
                      <a:pt x="292" y="52"/>
                    </a:lnTo>
                    <a:lnTo>
                      <a:pt x="252" y="17"/>
                    </a:lnTo>
                    <a:lnTo>
                      <a:pt x="127" y="52"/>
                    </a:lnTo>
                    <a:lnTo>
                      <a:pt x="0" y="106"/>
                    </a:lnTo>
                    <a:lnTo>
                      <a:pt x="13" y="155"/>
                    </a:lnTo>
                    <a:lnTo>
                      <a:pt x="57" y="155"/>
                    </a:lnTo>
                    <a:lnTo>
                      <a:pt x="155" y="155"/>
                    </a:lnTo>
                    <a:lnTo>
                      <a:pt x="168" y="137"/>
                    </a:lnTo>
                    <a:lnTo>
                      <a:pt x="208" y="120"/>
                    </a:lnTo>
                    <a:lnTo>
                      <a:pt x="239" y="106"/>
                    </a:lnTo>
                    <a:lnTo>
                      <a:pt x="252" y="106"/>
                    </a:lnTo>
                    <a:lnTo>
                      <a:pt x="283" y="120"/>
                    </a:lnTo>
                    <a:lnTo>
                      <a:pt x="322" y="137"/>
                    </a:lnTo>
                    <a:lnTo>
                      <a:pt x="349" y="155"/>
                    </a:lnTo>
                    <a:lnTo>
                      <a:pt x="362" y="155"/>
                    </a:lnTo>
                    <a:lnTo>
                      <a:pt x="403" y="155"/>
                    </a:lnTo>
                    <a:lnTo>
                      <a:pt x="447" y="137"/>
                    </a:lnTo>
                    <a:lnTo>
                      <a:pt x="460" y="106"/>
                    </a:lnTo>
                    <a:lnTo>
                      <a:pt x="500" y="30"/>
                    </a:lnTo>
                    <a:lnTo>
                      <a:pt x="517" y="17"/>
                    </a:lnTo>
                    <a:lnTo>
                      <a:pt x="517" y="0"/>
                    </a:lnTo>
                    <a:lnTo>
                      <a:pt x="500" y="17"/>
                    </a:lnTo>
                    <a:lnTo>
                      <a:pt x="478" y="30"/>
                    </a:lnTo>
                    <a:lnTo>
                      <a:pt x="447" y="84"/>
                    </a:lnTo>
                    <a:lnTo>
                      <a:pt x="420" y="120"/>
                    </a:lnTo>
                    <a:lnTo>
                      <a:pt x="403" y="120"/>
                    </a:lnTo>
                    <a:lnTo>
                      <a:pt x="390" y="120"/>
                    </a:lnTo>
                    <a:lnTo>
                      <a:pt x="390" y="84"/>
                    </a:lnTo>
                    <a:lnTo>
                      <a:pt x="390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070600" y="373536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425" y="512"/>
                    </a:moveTo>
                    <a:lnTo>
                      <a:pt x="412" y="362"/>
                    </a:lnTo>
                    <a:lnTo>
                      <a:pt x="412" y="229"/>
                    </a:lnTo>
                    <a:lnTo>
                      <a:pt x="412" y="167"/>
                    </a:lnTo>
                    <a:lnTo>
                      <a:pt x="381" y="105"/>
                    </a:lnTo>
                    <a:lnTo>
                      <a:pt x="353" y="48"/>
                    </a:lnTo>
                    <a:lnTo>
                      <a:pt x="300" y="0"/>
                    </a:lnTo>
                    <a:lnTo>
                      <a:pt x="314" y="105"/>
                    </a:lnTo>
                    <a:lnTo>
                      <a:pt x="340" y="149"/>
                    </a:lnTo>
                    <a:lnTo>
                      <a:pt x="371" y="211"/>
                    </a:lnTo>
                    <a:lnTo>
                      <a:pt x="256" y="287"/>
                    </a:lnTo>
                    <a:lnTo>
                      <a:pt x="150" y="331"/>
                    </a:lnTo>
                    <a:lnTo>
                      <a:pt x="123" y="318"/>
                    </a:lnTo>
                    <a:lnTo>
                      <a:pt x="97" y="300"/>
                    </a:lnTo>
                    <a:lnTo>
                      <a:pt x="70" y="274"/>
                    </a:lnTo>
                    <a:lnTo>
                      <a:pt x="30" y="229"/>
                    </a:lnTo>
                    <a:lnTo>
                      <a:pt x="13" y="180"/>
                    </a:lnTo>
                    <a:lnTo>
                      <a:pt x="0" y="167"/>
                    </a:lnTo>
                    <a:lnTo>
                      <a:pt x="0" y="229"/>
                    </a:lnTo>
                    <a:lnTo>
                      <a:pt x="13" y="260"/>
                    </a:lnTo>
                    <a:lnTo>
                      <a:pt x="52" y="318"/>
                    </a:lnTo>
                    <a:lnTo>
                      <a:pt x="123" y="331"/>
                    </a:lnTo>
                    <a:lnTo>
                      <a:pt x="208" y="349"/>
                    </a:lnTo>
                    <a:lnTo>
                      <a:pt x="234" y="362"/>
                    </a:lnTo>
                    <a:lnTo>
                      <a:pt x="247" y="375"/>
                    </a:lnTo>
                    <a:lnTo>
                      <a:pt x="274" y="406"/>
                    </a:lnTo>
                    <a:lnTo>
                      <a:pt x="287" y="437"/>
                    </a:lnTo>
                    <a:lnTo>
                      <a:pt x="300" y="464"/>
                    </a:lnTo>
                    <a:lnTo>
                      <a:pt x="327" y="481"/>
                    </a:lnTo>
                    <a:lnTo>
                      <a:pt x="371" y="437"/>
                    </a:lnTo>
                    <a:lnTo>
                      <a:pt x="381" y="406"/>
                    </a:lnTo>
                    <a:lnTo>
                      <a:pt x="394" y="362"/>
                    </a:lnTo>
                    <a:lnTo>
                      <a:pt x="412" y="300"/>
                    </a:lnTo>
                    <a:lnTo>
                      <a:pt x="394" y="274"/>
                    </a:lnTo>
                    <a:lnTo>
                      <a:pt x="394" y="274"/>
                    </a:lnTo>
                    <a:lnTo>
                      <a:pt x="381" y="287"/>
                    </a:lnTo>
                    <a:lnTo>
                      <a:pt x="353" y="318"/>
                    </a:lnTo>
                    <a:lnTo>
                      <a:pt x="340" y="362"/>
                    </a:lnTo>
                    <a:lnTo>
                      <a:pt x="394" y="437"/>
                    </a:lnTo>
                    <a:lnTo>
                      <a:pt x="425" y="455"/>
                    </a:lnTo>
                    <a:lnTo>
                      <a:pt x="451" y="464"/>
                    </a:lnTo>
                    <a:lnTo>
                      <a:pt x="465" y="481"/>
                    </a:lnTo>
                    <a:lnTo>
                      <a:pt x="491" y="494"/>
                    </a:lnTo>
                    <a:lnTo>
                      <a:pt x="504" y="494"/>
                    </a:lnTo>
                    <a:lnTo>
                      <a:pt x="504" y="512"/>
                    </a:lnTo>
                    <a:lnTo>
                      <a:pt x="478" y="525"/>
                    </a:lnTo>
                    <a:lnTo>
                      <a:pt x="451" y="525"/>
                    </a:lnTo>
                    <a:lnTo>
                      <a:pt x="381" y="525"/>
                    </a:lnTo>
                    <a:lnTo>
                      <a:pt x="381" y="543"/>
                    </a:lnTo>
                    <a:lnTo>
                      <a:pt x="371" y="543"/>
                    </a:lnTo>
                    <a:lnTo>
                      <a:pt x="353" y="543"/>
                    </a:lnTo>
                    <a:lnTo>
                      <a:pt x="353" y="543"/>
                    </a:lnTo>
                    <a:lnTo>
                      <a:pt x="394" y="525"/>
                    </a:lnTo>
                    <a:lnTo>
                      <a:pt x="425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057640" y="473220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05" y="92"/>
                    </a:lnTo>
                    <a:lnTo>
                      <a:pt x="79" y="154"/>
                    </a:lnTo>
                    <a:lnTo>
                      <a:pt x="39" y="331"/>
                    </a:lnTo>
                    <a:lnTo>
                      <a:pt x="0" y="508"/>
                    </a:lnTo>
                    <a:lnTo>
                      <a:pt x="13" y="566"/>
                    </a:lnTo>
                    <a:lnTo>
                      <a:pt x="39" y="606"/>
                    </a:lnTo>
                    <a:lnTo>
                      <a:pt x="66" y="645"/>
                    </a:lnTo>
                    <a:lnTo>
                      <a:pt x="105" y="685"/>
                    </a:lnTo>
                    <a:lnTo>
                      <a:pt x="150" y="707"/>
                    </a:lnTo>
                    <a:lnTo>
                      <a:pt x="172" y="707"/>
                    </a:lnTo>
                    <a:lnTo>
                      <a:pt x="172" y="725"/>
                    </a:lnTo>
                    <a:lnTo>
                      <a:pt x="172" y="742"/>
                    </a:lnTo>
                    <a:lnTo>
                      <a:pt x="150" y="742"/>
                    </a:lnTo>
                    <a:lnTo>
                      <a:pt x="105" y="725"/>
                    </a:lnTo>
                    <a:lnTo>
                      <a:pt x="105" y="547"/>
                    </a:lnTo>
                    <a:lnTo>
                      <a:pt x="92" y="525"/>
                    </a:lnTo>
                    <a:lnTo>
                      <a:pt x="92" y="508"/>
                    </a:lnTo>
                    <a:lnTo>
                      <a:pt x="120" y="490"/>
                    </a:lnTo>
                    <a:lnTo>
                      <a:pt x="159" y="446"/>
                    </a:lnTo>
                    <a:lnTo>
                      <a:pt x="203" y="428"/>
                    </a:lnTo>
                    <a:lnTo>
                      <a:pt x="225" y="428"/>
                    </a:lnTo>
                    <a:lnTo>
                      <a:pt x="239" y="389"/>
                    </a:lnTo>
                    <a:lnTo>
                      <a:pt x="239" y="353"/>
                    </a:lnTo>
                    <a:lnTo>
                      <a:pt x="225" y="331"/>
                    </a:lnTo>
                    <a:lnTo>
                      <a:pt x="186" y="309"/>
                    </a:lnTo>
                    <a:lnTo>
                      <a:pt x="159" y="331"/>
                    </a:lnTo>
                    <a:lnTo>
                      <a:pt x="150" y="371"/>
                    </a:lnTo>
                    <a:lnTo>
                      <a:pt x="120" y="428"/>
                    </a:lnTo>
                    <a:lnTo>
                      <a:pt x="79" y="371"/>
                    </a:lnTo>
                    <a:lnTo>
                      <a:pt x="66" y="353"/>
                    </a:lnTo>
                    <a:lnTo>
                      <a:pt x="92" y="309"/>
                    </a:lnTo>
                    <a:lnTo>
                      <a:pt x="133" y="274"/>
                    </a:lnTo>
                    <a:lnTo>
                      <a:pt x="150" y="252"/>
                    </a:lnTo>
                    <a:lnTo>
                      <a:pt x="159" y="234"/>
                    </a:lnTo>
                    <a:lnTo>
                      <a:pt x="217" y="0"/>
                    </a:lnTo>
                    <a:lnTo>
                      <a:pt x="203" y="35"/>
                    </a:lnTo>
                    <a:lnTo>
                      <a:pt x="159" y="74"/>
                    </a:lnTo>
                    <a:lnTo>
                      <a:pt x="133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16480" y="504504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70" y="145"/>
                    </a:lnTo>
                    <a:lnTo>
                      <a:pt x="52" y="185"/>
                    </a:lnTo>
                    <a:lnTo>
                      <a:pt x="44" y="229"/>
                    </a:lnTo>
                    <a:lnTo>
                      <a:pt x="26" y="287"/>
                    </a:lnTo>
                    <a:lnTo>
                      <a:pt x="17" y="33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26" y="433"/>
                    </a:lnTo>
                    <a:lnTo>
                      <a:pt x="52" y="499"/>
                    </a:lnTo>
                    <a:lnTo>
                      <a:pt x="142" y="561"/>
                    </a:lnTo>
                    <a:lnTo>
                      <a:pt x="111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124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111" y="314"/>
                    </a:lnTo>
                    <a:lnTo>
                      <a:pt x="142" y="287"/>
                    </a:lnTo>
                    <a:lnTo>
                      <a:pt x="168" y="246"/>
                    </a:lnTo>
                    <a:lnTo>
                      <a:pt x="195" y="202"/>
                    </a:lnTo>
                    <a:lnTo>
                      <a:pt x="195" y="185"/>
                    </a:lnTo>
                    <a:lnTo>
                      <a:pt x="195" y="145"/>
                    </a:lnTo>
                    <a:lnTo>
                      <a:pt x="181" y="83"/>
                    </a:lnTo>
                    <a:lnTo>
                      <a:pt x="142" y="22"/>
                    </a:lnTo>
                    <a:lnTo>
                      <a:pt x="111" y="0"/>
                    </a:lnTo>
                    <a:lnTo>
                      <a:pt x="111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91200" y="434340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569" y="145"/>
                    </a:moveTo>
                    <a:lnTo>
                      <a:pt x="543" y="286"/>
                    </a:lnTo>
                    <a:lnTo>
                      <a:pt x="512" y="358"/>
                    </a:lnTo>
                    <a:lnTo>
                      <a:pt x="463" y="411"/>
                    </a:lnTo>
                    <a:lnTo>
                      <a:pt x="405" y="393"/>
                    </a:lnTo>
                    <a:lnTo>
                      <a:pt x="374" y="375"/>
                    </a:lnTo>
                    <a:lnTo>
                      <a:pt x="330" y="375"/>
                    </a:lnTo>
                    <a:lnTo>
                      <a:pt x="268" y="393"/>
                    </a:lnTo>
                    <a:lnTo>
                      <a:pt x="211" y="446"/>
                    </a:lnTo>
                    <a:lnTo>
                      <a:pt x="136" y="464"/>
                    </a:lnTo>
                    <a:lnTo>
                      <a:pt x="0" y="538"/>
                    </a:lnTo>
                    <a:lnTo>
                      <a:pt x="0" y="574"/>
                    </a:lnTo>
                    <a:lnTo>
                      <a:pt x="13" y="605"/>
                    </a:lnTo>
                    <a:lnTo>
                      <a:pt x="74" y="627"/>
                    </a:lnTo>
                    <a:lnTo>
                      <a:pt x="149" y="605"/>
                    </a:lnTo>
                    <a:lnTo>
                      <a:pt x="211" y="591"/>
                    </a:lnTo>
                    <a:lnTo>
                      <a:pt x="361" y="538"/>
                    </a:lnTo>
                    <a:lnTo>
                      <a:pt x="493" y="464"/>
                    </a:lnTo>
                    <a:lnTo>
                      <a:pt x="543" y="464"/>
                    </a:lnTo>
                    <a:lnTo>
                      <a:pt x="587" y="486"/>
                    </a:lnTo>
                    <a:lnTo>
                      <a:pt x="631" y="499"/>
                    </a:lnTo>
                    <a:lnTo>
                      <a:pt x="662" y="538"/>
                    </a:lnTo>
                    <a:lnTo>
                      <a:pt x="719" y="574"/>
                    </a:lnTo>
                    <a:lnTo>
                      <a:pt x="737" y="538"/>
                    </a:lnTo>
                    <a:lnTo>
                      <a:pt x="750" y="516"/>
                    </a:lnTo>
                    <a:lnTo>
                      <a:pt x="781" y="516"/>
                    </a:lnTo>
                    <a:lnTo>
                      <a:pt x="825" y="516"/>
                    </a:lnTo>
                    <a:lnTo>
                      <a:pt x="856" y="516"/>
                    </a:lnTo>
                    <a:lnTo>
                      <a:pt x="887" y="486"/>
                    </a:lnTo>
                    <a:lnTo>
                      <a:pt x="918" y="411"/>
                    </a:lnTo>
                    <a:lnTo>
                      <a:pt x="949" y="318"/>
                    </a:lnTo>
                    <a:lnTo>
                      <a:pt x="975" y="233"/>
                    </a:lnTo>
                    <a:lnTo>
                      <a:pt x="993" y="198"/>
                    </a:lnTo>
                    <a:lnTo>
                      <a:pt x="993" y="176"/>
                    </a:lnTo>
                    <a:lnTo>
                      <a:pt x="949" y="158"/>
                    </a:lnTo>
                    <a:lnTo>
                      <a:pt x="887" y="145"/>
                    </a:lnTo>
                    <a:lnTo>
                      <a:pt x="825" y="123"/>
                    </a:lnTo>
                    <a:lnTo>
                      <a:pt x="794" y="123"/>
                    </a:lnTo>
                    <a:lnTo>
                      <a:pt x="768" y="105"/>
                    </a:lnTo>
                    <a:lnTo>
                      <a:pt x="719" y="92"/>
                    </a:lnTo>
                    <a:lnTo>
                      <a:pt x="719" y="52"/>
                    </a:lnTo>
                    <a:lnTo>
                      <a:pt x="706" y="17"/>
                    </a:lnTo>
                    <a:lnTo>
                      <a:pt x="644" y="0"/>
                    </a:lnTo>
                    <a:lnTo>
                      <a:pt x="569" y="0"/>
                    </a:lnTo>
                    <a:lnTo>
                      <a:pt x="512" y="0"/>
                    </a:lnTo>
                    <a:lnTo>
                      <a:pt x="525" y="35"/>
                    </a:lnTo>
                    <a:lnTo>
                      <a:pt x="525" y="52"/>
                    </a:lnTo>
                    <a:lnTo>
                      <a:pt x="569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5867280"/>
            <a:ext cx="9142920" cy="762480"/>
          </a:xfrm>
          <a:custGeom>
            <a:avLst/>
            <a:gdLst/>
            <a:ahLst/>
            <a:rect l="0" t="0" r="r" b="b"/>
            <a:pathLst>
              <a:path w="25397" h="2118">
                <a:moveTo>
                  <a:pt x="13487" y="230"/>
                </a:moveTo>
                <a:lnTo>
                  <a:pt x="13172" y="184"/>
                </a:lnTo>
                <a:lnTo>
                  <a:pt x="12935" y="184"/>
                </a:lnTo>
                <a:lnTo>
                  <a:pt x="12698" y="230"/>
                </a:lnTo>
                <a:lnTo>
                  <a:pt x="12462" y="276"/>
                </a:lnTo>
                <a:lnTo>
                  <a:pt x="12225" y="230"/>
                </a:lnTo>
                <a:lnTo>
                  <a:pt x="11988" y="230"/>
                </a:lnTo>
                <a:lnTo>
                  <a:pt x="11752" y="184"/>
                </a:lnTo>
                <a:lnTo>
                  <a:pt x="11515" y="184"/>
                </a:lnTo>
                <a:lnTo>
                  <a:pt x="11279" y="184"/>
                </a:lnTo>
                <a:lnTo>
                  <a:pt x="11042" y="184"/>
                </a:lnTo>
                <a:lnTo>
                  <a:pt x="10805" y="230"/>
                </a:lnTo>
                <a:lnTo>
                  <a:pt x="10569" y="230"/>
                </a:lnTo>
                <a:lnTo>
                  <a:pt x="10332" y="230"/>
                </a:lnTo>
                <a:lnTo>
                  <a:pt x="10096" y="230"/>
                </a:lnTo>
                <a:lnTo>
                  <a:pt x="9859" y="230"/>
                </a:lnTo>
                <a:lnTo>
                  <a:pt x="9622" y="230"/>
                </a:lnTo>
                <a:lnTo>
                  <a:pt x="9386" y="230"/>
                </a:lnTo>
                <a:lnTo>
                  <a:pt x="9149" y="230"/>
                </a:lnTo>
                <a:lnTo>
                  <a:pt x="8913" y="230"/>
                </a:lnTo>
                <a:lnTo>
                  <a:pt x="8676" y="184"/>
                </a:lnTo>
                <a:lnTo>
                  <a:pt x="8439" y="138"/>
                </a:lnTo>
                <a:lnTo>
                  <a:pt x="8203" y="138"/>
                </a:lnTo>
                <a:lnTo>
                  <a:pt x="7966" y="184"/>
                </a:lnTo>
                <a:lnTo>
                  <a:pt x="7651" y="230"/>
                </a:lnTo>
                <a:lnTo>
                  <a:pt x="7335" y="276"/>
                </a:lnTo>
                <a:lnTo>
                  <a:pt x="7020" y="230"/>
                </a:lnTo>
                <a:lnTo>
                  <a:pt x="6704" y="184"/>
                </a:lnTo>
                <a:lnTo>
                  <a:pt x="6468" y="138"/>
                </a:lnTo>
                <a:lnTo>
                  <a:pt x="6230" y="138"/>
                </a:lnTo>
                <a:lnTo>
                  <a:pt x="5993" y="138"/>
                </a:lnTo>
                <a:lnTo>
                  <a:pt x="5757" y="138"/>
                </a:lnTo>
                <a:lnTo>
                  <a:pt x="5520" y="138"/>
                </a:lnTo>
                <a:lnTo>
                  <a:pt x="5284" y="184"/>
                </a:lnTo>
                <a:lnTo>
                  <a:pt x="5047" y="184"/>
                </a:lnTo>
                <a:lnTo>
                  <a:pt x="4810" y="184"/>
                </a:lnTo>
                <a:lnTo>
                  <a:pt x="4574" y="138"/>
                </a:lnTo>
                <a:lnTo>
                  <a:pt x="4337" y="92"/>
                </a:lnTo>
                <a:lnTo>
                  <a:pt x="4101" y="46"/>
                </a:lnTo>
                <a:lnTo>
                  <a:pt x="3864" y="0"/>
                </a:lnTo>
                <a:lnTo>
                  <a:pt x="3627" y="46"/>
                </a:lnTo>
                <a:lnTo>
                  <a:pt x="3391" y="46"/>
                </a:lnTo>
                <a:lnTo>
                  <a:pt x="3154" y="46"/>
                </a:lnTo>
                <a:lnTo>
                  <a:pt x="2918" y="46"/>
                </a:lnTo>
                <a:lnTo>
                  <a:pt x="2681" y="46"/>
                </a:lnTo>
                <a:lnTo>
                  <a:pt x="2444" y="46"/>
                </a:lnTo>
                <a:lnTo>
                  <a:pt x="2208" y="92"/>
                </a:lnTo>
                <a:lnTo>
                  <a:pt x="1971" y="184"/>
                </a:lnTo>
                <a:lnTo>
                  <a:pt x="1735" y="322"/>
                </a:lnTo>
                <a:lnTo>
                  <a:pt x="1498" y="414"/>
                </a:lnTo>
                <a:lnTo>
                  <a:pt x="1261" y="460"/>
                </a:lnTo>
                <a:lnTo>
                  <a:pt x="1025" y="460"/>
                </a:lnTo>
                <a:lnTo>
                  <a:pt x="788" y="460"/>
                </a:lnTo>
                <a:lnTo>
                  <a:pt x="552" y="460"/>
                </a:lnTo>
                <a:lnTo>
                  <a:pt x="315" y="506"/>
                </a:lnTo>
                <a:lnTo>
                  <a:pt x="78" y="506"/>
                </a:lnTo>
                <a:lnTo>
                  <a:pt x="0" y="645"/>
                </a:lnTo>
                <a:lnTo>
                  <a:pt x="0" y="783"/>
                </a:lnTo>
                <a:lnTo>
                  <a:pt x="0" y="921"/>
                </a:lnTo>
                <a:lnTo>
                  <a:pt x="236" y="1059"/>
                </a:lnTo>
                <a:lnTo>
                  <a:pt x="473" y="1151"/>
                </a:lnTo>
                <a:lnTo>
                  <a:pt x="709" y="1151"/>
                </a:lnTo>
                <a:lnTo>
                  <a:pt x="946" y="1151"/>
                </a:lnTo>
                <a:lnTo>
                  <a:pt x="1183" y="1151"/>
                </a:lnTo>
                <a:lnTo>
                  <a:pt x="1419" y="1151"/>
                </a:lnTo>
                <a:lnTo>
                  <a:pt x="1656" y="1197"/>
                </a:lnTo>
                <a:lnTo>
                  <a:pt x="1813" y="1335"/>
                </a:lnTo>
                <a:lnTo>
                  <a:pt x="1971" y="1473"/>
                </a:lnTo>
                <a:lnTo>
                  <a:pt x="2208" y="1565"/>
                </a:lnTo>
                <a:lnTo>
                  <a:pt x="2444" y="1565"/>
                </a:lnTo>
                <a:lnTo>
                  <a:pt x="2681" y="1519"/>
                </a:lnTo>
                <a:lnTo>
                  <a:pt x="2918" y="1473"/>
                </a:lnTo>
                <a:lnTo>
                  <a:pt x="3154" y="1427"/>
                </a:lnTo>
                <a:lnTo>
                  <a:pt x="3391" y="1427"/>
                </a:lnTo>
                <a:lnTo>
                  <a:pt x="3627" y="1519"/>
                </a:lnTo>
                <a:lnTo>
                  <a:pt x="3864" y="1612"/>
                </a:lnTo>
                <a:lnTo>
                  <a:pt x="4101" y="1658"/>
                </a:lnTo>
                <a:lnTo>
                  <a:pt x="4337" y="1658"/>
                </a:lnTo>
                <a:lnTo>
                  <a:pt x="4495" y="1796"/>
                </a:lnTo>
                <a:lnTo>
                  <a:pt x="4653" y="1934"/>
                </a:lnTo>
                <a:lnTo>
                  <a:pt x="4810" y="2072"/>
                </a:lnTo>
                <a:lnTo>
                  <a:pt x="5047" y="2118"/>
                </a:lnTo>
                <a:lnTo>
                  <a:pt x="5126" y="1980"/>
                </a:lnTo>
                <a:lnTo>
                  <a:pt x="5126" y="1842"/>
                </a:lnTo>
                <a:lnTo>
                  <a:pt x="5363" y="1796"/>
                </a:lnTo>
                <a:lnTo>
                  <a:pt x="5599" y="1796"/>
                </a:lnTo>
                <a:lnTo>
                  <a:pt x="5836" y="1934"/>
                </a:lnTo>
                <a:lnTo>
                  <a:pt x="6072" y="1980"/>
                </a:lnTo>
                <a:lnTo>
                  <a:pt x="6309" y="2026"/>
                </a:lnTo>
                <a:lnTo>
                  <a:pt x="6547" y="1980"/>
                </a:lnTo>
                <a:lnTo>
                  <a:pt x="6783" y="1842"/>
                </a:lnTo>
                <a:lnTo>
                  <a:pt x="7020" y="1842"/>
                </a:lnTo>
                <a:lnTo>
                  <a:pt x="7256" y="1842"/>
                </a:lnTo>
                <a:lnTo>
                  <a:pt x="7493" y="1888"/>
                </a:lnTo>
                <a:lnTo>
                  <a:pt x="7808" y="2026"/>
                </a:lnTo>
                <a:lnTo>
                  <a:pt x="8045" y="2072"/>
                </a:lnTo>
                <a:lnTo>
                  <a:pt x="8282" y="2118"/>
                </a:lnTo>
                <a:lnTo>
                  <a:pt x="8518" y="1980"/>
                </a:lnTo>
                <a:lnTo>
                  <a:pt x="8755" y="1934"/>
                </a:lnTo>
                <a:lnTo>
                  <a:pt x="8991" y="1888"/>
                </a:lnTo>
                <a:lnTo>
                  <a:pt x="9228" y="1842"/>
                </a:lnTo>
                <a:lnTo>
                  <a:pt x="9465" y="1796"/>
                </a:lnTo>
                <a:lnTo>
                  <a:pt x="9701" y="1750"/>
                </a:lnTo>
                <a:lnTo>
                  <a:pt x="9938" y="1750"/>
                </a:lnTo>
                <a:lnTo>
                  <a:pt x="10175" y="1750"/>
                </a:lnTo>
                <a:lnTo>
                  <a:pt x="10411" y="1796"/>
                </a:lnTo>
                <a:lnTo>
                  <a:pt x="10648" y="1842"/>
                </a:lnTo>
                <a:lnTo>
                  <a:pt x="10884" y="1888"/>
                </a:lnTo>
                <a:lnTo>
                  <a:pt x="11121" y="1888"/>
                </a:lnTo>
                <a:lnTo>
                  <a:pt x="11358" y="1934"/>
                </a:lnTo>
                <a:lnTo>
                  <a:pt x="11594" y="1934"/>
                </a:lnTo>
                <a:lnTo>
                  <a:pt x="11910" y="1888"/>
                </a:lnTo>
                <a:lnTo>
                  <a:pt x="12146" y="1842"/>
                </a:lnTo>
                <a:lnTo>
                  <a:pt x="12383" y="1796"/>
                </a:lnTo>
                <a:lnTo>
                  <a:pt x="12619" y="1796"/>
                </a:lnTo>
                <a:lnTo>
                  <a:pt x="12856" y="1750"/>
                </a:lnTo>
                <a:lnTo>
                  <a:pt x="13093" y="1704"/>
                </a:lnTo>
                <a:lnTo>
                  <a:pt x="13329" y="1658"/>
                </a:lnTo>
                <a:lnTo>
                  <a:pt x="13566" y="1612"/>
                </a:lnTo>
                <a:lnTo>
                  <a:pt x="13802" y="1565"/>
                </a:lnTo>
                <a:lnTo>
                  <a:pt x="14039" y="1519"/>
                </a:lnTo>
                <a:lnTo>
                  <a:pt x="14276" y="1519"/>
                </a:lnTo>
                <a:lnTo>
                  <a:pt x="14512" y="1519"/>
                </a:lnTo>
                <a:lnTo>
                  <a:pt x="14749" y="1519"/>
                </a:lnTo>
                <a:lnTo>
                  <a:pt x="14985" y="1519"/>
                </a:lnTo>
                <a:lnTo>
                  <a:pt x="15222" y="1565"/>
                </a:lnTo>
                <a:lnTo>
                  <a:pt x="15459" y="1612"/>
                </a:lnTo>
                <a:lnTo>
                  <a:pt x="15695" y="1658"/>
                </a:lnTo>
                <a:lnTo>
                  <a:pt x="15932" y="1658"/>
                </a:lnTo>
                <a:lnTo>
                  <a:pt x="16169" y="1658"/>
                </a:lnTo>
                <a:lnTo>
                  <a:pt x="16484" y="1658"/>
                </a:lnTo>
                <a:lnTo>
                  <a:pt x="16799" y="1565"/>
                </a:lnTo>
                <a:lnTo>
                  <a:pt x="17036" y="1519"/>
                </a:lnTo>
                <a:lnTo>
                  <a:pt x="17273" y="1473"/>
                </a:lnTo>
                <a:lnTo>
                  <a:pt x="17588" y="1473"/>
                </a:lnTo>
                <a:lnTo>
                  <a:pt x="17904" y="1519"/>
                </a:lnTo>
                <a:lnTo>
                  <a:pt x="18219" y="1565"/>
                </a:lnTo>
                <a:lnTo>
                  <a:pt x="18456" y="1658"/>
                </a:lnTo>
                <a:lnTo>
                  <a:pt x="18692" y="1704"/>
                </a:lnTo>
                <a:lnTo>
                  <a:pt x="18929" y="1750"/>
                </a:lnTo>
                <a:lnTo>
                  <a:pt x="19166" y="1750"/>
                </a:lnTo>
                <a:lnTo>
                  <a:pt x="19482" y="1658"/>
                </a:lnTo>
                <a:lnTo>
                  <a:pt x="19719" y="1612"/>
                </a:lnTo>
                <a:lnTo>
                  <a:pt x="19955" y="1519"/>
                </a:lnTo>
                <a:lnTo>
                  <a:pt x="20192" y="1473"/>
                </a:lnTo>
                <a:lnTo>
                  <a:pt x="20428" y="1473"/>
                </a:lnTo>
                <a:lnTo>
                  <a:pt x="20744" y="1473"/>
                </a:lnTo>
                <a:lnTo>
                  <a:pt x="21059" y="1473"/>
                </a:lnTo>
                <a:lnTo>
                  <a:pt x="21375" y="1473"/>
                </a:lnTo>
                <a:lnTo>
                  <a:pt x="21611" y="1519"/>
                </a:lnTo>
                <a:lnTo>
                  <a:pt x="21848" y="1519"/>
                </a:lnTo>
                <a:lnTo>
                  <a:pt x="22085" y="1565"/>
                </a:lnTo>
                <a:lnTo>
                  <a:pt x="22321" y="1565"/>
                </a:lnTo>
                <a:lnTo>
                  <a:pt x="22637" y="1565"/>
                </a:lnTo>
                <a:lnTo>
                  <a:pt x="22952" y="1565"/>
                </a:lnTo>
                <a:lnTo>
                  <a:pt x="23189" y="1473"/>
                </a:lnTo>
                <a:lnTo>
                  <a:pt x="23425" y="1427"/>
                </a:lnTo>
                <a:lnTo>
                  <a:pt x="23662" y="1427"/>
                </a:lnTo>
                <a:lnTo>
                  <a:pt x="23899" y="1427"/>
                </a:lnTo>
                <a:lnTo>
                  <a:pt x="24135" y="1427"/>
                </a:lnTo>
                <a:lnTo>
                  <a:pt x="24372" y="1427"/>
                </a:lnTo>
                <a:lnTo>
                  <a:pt x="24608" y="1381"/>
                </a:lnTo>
                <a:lnTo>
                  <a:pt x="24845" y="1335"/>
                </a:lnTo>
                <a:lnTo>
                  <a:pt x="25082" y="1289"/>
                </a:lnTo>
                <a:lnTo>
                  <a:pt x="25318" y="1197"/>
                </a:lnTo>
                <a:lnTo>
                  <a:pt x="25397" y="1059"/>
                </a:lnTo>
                <a:lnTo>
                  <a:pt x="25397" y="921"/>
                </a:lnTo>
                <a:lnTo>
                  <a:pt x="25318" y="783"/>
                </a:lnTo>
                <a:lnTo>
                  <a:pt x="25082" y="645"/>
                </a:lnTo>
                <a:lnTo>
                  <a:pt x="24845" y="645"/>
                </a:lnTo>
                <a:lnTo>
                  <a:pt x="24608" y="599"/>
                </a:lnTo>
                <a:lnTo>
                  <a:pt x="24372" y="599"/>
                </a:lnTo>
                <a:lnTo>
                  <a:pt x="24135" y="553"/>
                </a:lnTo>
                <a:lnTo>
                  <a:pt x="23820" y="460"/>
                </a:lnTo>
                <a:lnTo>
                  <a:pt x="23583" y="414"/>
                </a:lnTo>
                <a:lnTo>
                  <a:pt x="23347" y="322"/>
                </a:lnTo>
                <a:lnTo>
                  <a:pt x="23110" y="276"/>
                </a:lnTo>
                <a:lnTo>
                  <a:pt x="22873" y="230"/>
                </a:lnTo>
                <a:lnTo>
                  <a:pt x="22637" y="276"/>
                </a:lnTo>
                <a:lnTo>
                  <a:pt x="22400" y="276"/>
                </a:lnTo>
                <a:lnTo>
                  <a:pt x="22163" y="276"/>
                </a:lnTo>
                <a:lnTo>
                  <a:pt x="21927" y="276"/>
                </a:lnTo>
                <a:lnTo>
                  <a:pt x="21690" y="276"/>
                </a:lnTo>
                <a:lnTo>
                  <a:pt x="21454" y="276"/>
                </a:lnTo>
                <a:lnTo>
                  <a:pt x="21217" y="276"/>
                </a:lnTo>
                <a:lnTo>
                  <a:pt x="20980" y="322"/>
                </a:lnTo>
                <a:lnTo>
                  <a:pt x="20744" y="322"/>
                </a:lnTo>
                <a:lnTo>
                  <a:pt x="20507" y="276"/>
                </a:lnTo>
                <a:lnTo>
                  <a:pt x="20271" y="276"/>
                </a:lnTo>
                <a:lnTo>
                  <a:pt x="20034" y="230"/>
                </a:lnTo>
                <a:lnTo>
                  <a:pt x="19797" y="230"/>
                </a:lnTo>
                <a:lnTo>
                  <a:pt x="19482" y="276"/>
                </a:lnTo>
                <a:lnTo>
                  <a:pt x="19245" y="322"/>
                </a:lnTo>
                <a:lnTo>
                  <a:pt x="19008" y="322"/>
                </a:lnTo>
                <a:lnTo>
                  <a:pt x="18771" y="322"/>
                </a:lnTo>
                <a:lnTo>
                  <a:pt x="18535" y="368"/>
                </a:lnTo>
                <a:lnTo>
                  <a:pt x="18298" y="368"/>
                </a:lnTo>
                <a:lnTo>
                  <a:pt x="17982" y="368"/>
                </a:lnTo>
                <a:lnTo>
                  <a:pt x="17746" y="368"/>
                </a:lnTo>
                <a:lnTo>
                  <a:pt x="17430" y="368"/>
                </a:lnTo>
                <a:lnTo>
                  <a:pt x="17115" y="276"/>
                </a:lnTo>
                <a:lnTo>
                  <a:pt x="16878" y="276"/>
                </a:lnTo>
                <a:lnTo>
                  <a:pt x="16642" y="276"/>
                </a:lnTo>
                <a:lnTo>
                  <a:pt x="16326" y="276"/>
                </a:lnTo>
                <a:lnTo>
                  <a:pt x="16011" y="276"/>
                </a:lnTo>
                <a:lnTo>
                  <a:pt x="15774" y="322"/>
                </a:lnTo>
                <a:lnTo>
                  <a:pt x="15538" y="368"/>
                </a:lnTo>
                <a:lnTo>
                  <a:pt x="15301" y="322"/>
                </a:lnTo>
                <a:lnTo>
                  <a:pt x="15064" y="322"/>
                </a:lnTo>
                <a:lnTo>
                  <a:pt x="14828" y="276"/>
                </a:lnTo>
                <a:lnTo>
                  <a:pt x="14591" y="276"/>
                </a:lnTo>
                <a:lnTo>
                  <a:pt x="14355" y="276"/>
                </a:lnTo>
                <a:lnTo>
                  <a:pt x="14118" y="276"/>
                </a:lnTo>
                <a:lnTo>
                  <a:pt x="13881" y="276"/>
                </a:lnTo>
                <a:lnTo>
                  <a:pt x="13487" y="23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905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909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 txBox="1"/>
          <p:nvPr/>
        </p:nvSpPr>
        <p:spPr>
          <a:xfrm>
            <a:off x="152280" y="30492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AN-JANG-HAH-GET-DAH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2971800" y="1905120"/>
            <a:ext cx="2943360" cy="4267440"/>
            <a:chOff x="2971800" y="1905120"/>
            <a:chExt cx="2943360" cy="4267440"/>
          </a:xfrm>
        </p:grpSpPr>
        <p:grpSp>
          <p:nvGrpSpPr>
            <p:cNvPr id="914" name=""/>
            <p:cNvGrpSpPr/>
            <p:nvPr/>
          </p:nvGrpSpPr>
          <p:grpSpPr>
            <a:xfrm>
              <a:off x="2971800" y="4554360"/>
              <a:ext cx="1335240" cy="1608840"/>
              <a:chOff x="2971800" y="4554360"/>
              <a:chExt cx="1335240" cy="1608840"/>
            </a:xfrm>
          </p:grpSpPr>
          <p:sp>
            <p:nvSpPr>
              <p:cNvPr id="915" name=""/>
              <p:cNvSpPr/>
              <p:nvPr/>
            </p:nvSpPr>
            <p:spPr>
              <a:xfrm>
                <a:off x="339264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432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718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3863880" y="35686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0" y="79"/>
                  </a:moveTo>
                  <a:lnTo>
                    <a:pt x="154" y="0"/>
                  </a:lnTo>
                  <a:lnTo>
                    <a:pt x="423" y="79"/>
                  </a:lnTo>
                  <a:lnTo>
                    <a:pt x="1002" y="626"/>
                  </a:lnTo>
                  <a:lnTo>
                    <a:pt x="2343" y="1725"/>
                  </a:lnTo>
                  <a:lnTo>
                    <a:pt x="1862" y="2285"/>
                  </a:lnTo>
                  <a:lnTo>
                    <a:pt x="759" y="1271"/>
                  </a:lnTo>
                  <a:lnTo>
                    <a:pt x="39" y="42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4800" y="334980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9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82840" y="210816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1682" y="0"/>
                  </a:moveTo>
                  <a:lnTo>
                    <a:pt x="1964" y="229"/>
                  </a:lnTo>
                  <a:lnTo>
                    <a:pt x="2127" y="590"/>
                  </a:lnTo>
                  <a:lnTo>
                    <a:pt x="2171" y="1050"/>
                  </a:lnTo>
                  <a:lnTo>
                    <a:pt x="2193" y="2324"/>
                  </a:lnTo>
                  <a:lnTo>
                    <a:pt x="2149" y="3057"/>
                  </a:lnTo>
                  <a:lnTo>
                    <a:pt x="1473" y="3102"/>
                  </a:lnTo>
                  <a:lnTo>
                    <a:pt x="1376" y="3512"/>
                  </a:lnTo>
                  <a:lnTo>
                    <a:pt x="1284" y="3785"/>
                  </a:lnTo>
                  <a:lnTo>
                    <a:pt x="1076" y="3785"/>
                  </a:lnTo>
                  <a:lnTo>
                    <a:pt x="957" y="3534"/>
                  </a:lnTo>
                  <a:lnTo>
                    <a:pt x="1028" y="3102"/>
                  </a:lnTo>
                  <a:lnTo>
                    <a:pt x="396" y="3031"/>
                  </a:lnTo>
                  <a:lnTo>
                    <a:pt x="374" y="2598"/>
                  </a:lnTo>
                  <a:lnTo>
                    <a:pt x="233" y="2668"/>
                  </a:lnTo>
                  <a:lnTo>
                    <a:pt x="97" y="2620"/>
                  </a:lnTo>
                  <a:lnTo>
                    <a:pt x="0" y="2258"/>
                  </a:lnTo>
                  <a:lnTo>
                    <a:pt x="119" y="2073"/>
                  </a:lnTo>
                  <a:lnTo>
                    <a:pt x="260" y="2100"/>
                  </a:lnTo>
                  <a:lnTo>
                    <a:pt x="119" y="158"/>
                  </a:lnTo>
                  <a:lnTo>
                    <a:pt x="16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7000" y="249084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29000" y="245736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4760" y="263052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75120" y="263844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862440" y="1930320"/>
              <a:ext cx="612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753000" y="1913040"/>
              <a:ext cx="1584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3592440" y="1905120"/>
              <a:ext cx="3348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433680" y="1946160"/>
              <a:ext cx="4932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308400" y="1969920"/>
              <a:ext cx="47520" cy="155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0280" y="292896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1611" y="0"/>
                  </a:moveTo>
                  <a:lnTo>
                    <a:pt x="0" y="141"/>
                  </a:lnTo>
                  <a:lnTo>
                    <a:pt x="957" y="618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51400" y="335592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8" y="411"/>
                  </a:lnTo>
                  <a:lnTo>
                    <a:pt x="163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63" y="0"/>
                  </a:lnTo>
                  <a:lnTo>
                    <a:pt x="326" y="230"/>
                  </a:lnTo>
                  <a:lnTo>
                    <a:pt x="587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72720" y="42199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42"/>
                  </a:moveTo>
                  <a:lnTo>
                    <a:pt x="162" y="42"/>
                  </a:lnTo>
                  <a:cubicBezTo>
                    <a:pt x="110" y="72"/>
                    <a:pt x="68" y="117"/>
                    <a:pt x="39" y="171"/>
                  </a:cubicBezTo>
                  <a:cubicBezTo>
                    <a:pt x="11" y="226"/>
                    <a:pt x="-3" y="288"/>
                    <a:pt x="0" y="353"/>
                  </a:cubicBezTo>
                  <a:cubicBezTo>
                    <a:pt x="2" y="417"/>
                    <a:pt x="21" y="481"/>
                    <a:pt x="54" y="538"/>
                  </a:cubicBezTo>
                  <a:cubicBezTo>
                    <a:pt x="87" y="595"/>
                    <a:pt x="133" y="643"/>
                    <a:pt x="187" y="678"/>
                  </a:cubicBezTo>
                  <a:cubicBezTo>
                    <a:pt x="242" y="712"/>
                    <a:pt x="303" y="731"/>
                    <a:pt x="365" y="734"/>
                  </a:cubicBezTo>
                  <a:cubicBezTo>
                    <a:pt x="426" y="737"/>
                    <a:pt x="486" y="722"/>
                    <a:pt x="538" y="692"/>
                  </a:cubicBezTo>
                  <a:lnTo>
                    <a:pt x="539" y="692"/>
                  </a:lnTo>
                  <a:lnTo>
                    <a:pt x="539" y="692"/>
                  </a:lnTo>
                  <a:cubicBezTo>
                    <a:pt x="591" y="662"/>
                    <a:pt x="633" y="617"/>
                    <a:pt x="662" y="563"/>
                  </a:cubicBezTo>
                  <a:cubicBezTo>
                    <a:pt x="690" y="508"/>
                    <a:pt x="704" y="446"/>
                    <a:pt x="701" y="381"/>
                  </a:cubicBezTo>
                  <a:cubicBezTo>
                    <a:pt x="699" y="317"/>
                    <a:pt x="680" y="253"/>
                    <a:pt x="647" y="196"/>
                  </a:cubicBezTo>
                  <a:cubicBezTo>
                    <a:pt x="614" y="139"/>
                    <a:pt x="568" y="91"/>
                    <a:pt x="514" y="56"/>
                  </a:cubicBezTo>
                  <a:cubicBezTo>
                    <a:pt x="459" y="22"/>
                    <a:pt x="398" y="3"/>
                    <a:pt x="336" y="0"/>
                  </a:cubicBezTo>
                  <a:cubicBezTo>
                    <a:pt x="275" y="-3"/>
                    <a:pt x="215" y="12"/>
                    <a:pt x="163" y="42"/>
                  </a:cubicBezTo>
                  <a:lnTo>
                    <a:pt x="162" y="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3035160" y="3495600"/>
              <a:ext cx="450000" cy="1243440"/>
              <a:chOff x="3035160" y="3495600"/>
              <a:chExt cx="450000" cy="1243440"/>
            </a:xfrm>
          </p:grpSpPr>
          <p:sp>
            <p:nvSpPr>
              <p:cNvPr id="934" name=""/>
              <p:cNvSpPr/>
              <p:nvPr/>
            </p:nvSpPr>
            <p:spPr>
              <a:xfrm>
                <a:off x="305604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03516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4173480" y="35560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2343" y="79"/>
                  </a:moveTo>
                  <a:lnTo>
                    <a:pt x="2189" y="0"/>
                  </a:lnTo>
                  <a:lnTo>
                    <a:pt x="1920" y="79"/>
                  </a:lnTo>
                  <a:lnTo>
                    <a:pt x="1341" y="626"/>
                  </a:lnTo>
                  <a:lnTo>
                    <a:pt x="0" y="1725"/>
                  </a:lnTo>
                  <a:lnTo>
                    <a:pt x="480" y="2285"/>
                  </a:lnTo>
                  <a:lnTo>
                    <a:pt x="1584" y="1271"/>
                  </a:lnTo>
                  <a:lnTo>
                    <a:pt x="2303" y="423"/>
                  </a:lnTo>
                  <a:lnTo>
                    <a:pt x="2343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579920" y="4564080"/>
              <a:ext cx="1335240" cy="1608480"/>
              <a:chOff x="4579920" y="4564080"/>
              <a:chExt cx="1335240" cy="1608480"/>
            </a:xfrm>
          </p:grpSpPr>
          <p:sp>
            <p:nvSpPr>
              <p:cNvPr id="938" name=""/>
              <p:cNvSpPr/>
              <p:nvPr/>
            </p:nvSpPr>
            <p:spPr>
              <a:xfrm>
                <a:off x="4916520" y="456408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0" y="0"/>
                    </a:moveTo>
                    <a:lnTo>
                      <a:pt x="279" y="4124"/>
                    </a:lnTo>
                    <a:lnTo>
                      <a:pt x="910" y="4124"/>
                    </a:lnTo>
                    <a:lnTo>
                      <a:pt x="817" y="1116"/>
                    </a:lnTo>
                    <a:lnTo>
                      <a:pt x="910" y="4124"/>
                    </a:lnTo>
                    <a:lnTo>
                      <a:pt x="1611" y="4124"/>
                    </a:lnTo>
                    <a:lnTo>
                      <a:pt x="15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5799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4" y="160"/>
                    </a:moveTo>
                    <a:lnTo>
                      <a:pt x="863" y="45"/>
                    </a:lnTo>
                    <a:lnTo>
                      <a:pt x="629" y="0"/>
                    </a:lnTo>
                    <a:lnTo>
                      <a:pt x="373" y="91"/>
                    </a:lnTo>
                    <a:lnTo>
                      <a:pt x="116" y="229"/>
                    </a:lnTo>
                    <a:lnTo>
                      <a:pt x="0" y="413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60"/>
                    </a:lnTo>
                    <a:lnTo>
                      <a:pt x="121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513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29" y="160"/>
                    </a:moveTo>
                    <a:lnTo>
                      <a:pt x="980" y="45"/>
                    </a:lnTo>
                    <a:lnTo>
                      <a:pt x="1214" y="0"/>
                    </a:lnTo>
                    <a:lnTo>
                      <a:pt x="1470" y="91"/>
                    </a:lnTo>
                    <a:lnTo>
                      <a:pt x="1727" y="229"/>
                    </a:lnTo>
                    <a:lnTo>
                      <a:pt x="1844" y="413"/>
                    </a:lnTo>
                    <a:lnTo>
                      <a:pt x="1680" y="504"/>
                    </a:lnTo>
                    <a:lnTo>
                      <a:pt x="0" y="504"/>
                    </a:lnTo>
                    <a:lnTo>
                      <a:pt x="0" y="160"/>
                    </a:lnTo>
                    <a:lnTo>
                      <a:pt x="62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48070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15000" y="211788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512" y="0"/>
                  </a:moveTo>
                  <a:lnTo>
                    <a:pt x="233" y="227"/>
                  </a:lnTo>
                  <a:lnTo>
                    <a:pt x="69" y="592"/>
                  </a:lnTo>
                  <a:lnTo>
                    <a:pt x="23" y="1049"/>
                  </a:lnTo>
                  <a:lnTo>
                    <a:pt x="0" y="2325"/>
                  </a:lnTo>
                  <a:lnTo>
                    <a:pt x="46" y="3056"/>
                  </a:lnTo>
                  <a:lnTo>
                    <a:pt x="723" y="3101"/>
                  </a:lnTo>
                  <a:lnTo>
                    <a:pt x="817" y="3512"/>
                  </a:lnTo>
                  <a:lnTo>
                    <a:pt x="910" y="3785"/>
                  </a:lnTo>
                  <a:lnTo>
                    <a:pt x="1120" y="3785"/>
                  </a:lnTo>
                  <a:lnTo>
                    <a:pt x="1236" y="3534"/>
                  </a:lnTo>
                  <a:lnTo>
                    <a:pt x="1166" y="3101"/>
                  </a:lnTo>
                  <a:lnTo>
                    <a:pt x="1797" y="3033"/>
                  </a:lnTo>
                  <a:lnTo>
                    <a:pt x="1820" y="2599"/>
                  </a:lnTo>
                  <a:lnTo>
                    <a:pt x="1960" y="2667"/>
                  </a:lnTo>
                  <a:lnTo>
                    <a:pt x="2100" y="2622"/>
                  </a:lnTo>
                  <a:lnTo>
                    <a:pt x="2193" y="2257"/>
                  </a:lnTo>
                  <a:lnTo>
                    <a:pt x="2077" y="2075"/>
                  </a:lnTo>
                  <a:lnTo>
                    <a:pt x="1937" y="2097"/>
                  </a:lnTo>
                  <a:lnTo>
                    <a:pt x="2077" y="159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18160" y="250020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29200" y="246708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197320" y="26398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74984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35520" y="264780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018040" y="194004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5118120" y="1922400"/>
              <a:ext cx="1584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261040" y="1914480"/>
              <a:ext cx="3312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403960" y="1955880"/>
              <a:ext cx="4896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530680" y="1979640"/>
              <a:ext cx="4788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07080" y="293832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0" y="618"/>
                  </a:moveTo>
                  <a:lnTo>
                    <a:pt x="1611" y="477"/>
                  </a:lnTo>
                  <a:lnTo>
                    <a:pt x="653" y="0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67360" y="336564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0" y="296"/>
                  </a:moveTo>
                  <a:lnTo>
                    <a:pt x="209" y="410"/>
                  </a:lnTo>
                  <a:lnTo>
                    <a:pt x="583" y="433"/>
                  </a:lnTo>
                  <a:lnTo>
                    <a:pt x="746" y="228"/>
                  </a:lnTo>
                  <a:lnTo>
                    <a:pt x="746" y="68"/>
                  </a:lnTo>
                  <a:lnTo>
                    <a:pt x="583" y="0"/>
                  </a:lnTo>
                  <a:lnTo>
                    <a:pt x="420" y="228"/>
                  </a:lnTo>
                  <a:lnTo>
                    <a:pt x="163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5402160" y="3505320"/>
              <a:ext cx="449280" cy="1243080"/>
              <a:chOff x="5402160" y="3505320"/>
              <a:chExt cx="449280" cy="1243080"/>
            </a:xfrm>
          </p:grpSpPr>
          <p:sp>
            <p:nvSpPr>
              <p:cNvPr id="956" name=""/>
              <p:cNvSpPr/>
              <p:nvPr/>
            </p:nvSpPr>
            <p:spPr>
              <a:xfrm>
                <a:off x="5402160" y="350532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210" y="0"/>
                    </a:moveTo>
                    <a:lnTo>
                      <a:pt x="70" y="91"/>
                    </a:lnTo>
                    <a:lnTo>
                      <a:pt x="0" y="364"/>
                    </a:lnTo>
                    <a:lnTo>
                      <a:pt x="186" y="1140"/>
                    </a:lnTo>
                    <a:lnTo>
                      <a:pt x="467" y="2850"/>
                    </a:lnTo>
                    <a:lnTo>
                      <a:pt x="1192" y="2713"/>
                    </a:lnTo>
                    <a:lnTo>
                      <a:pt x="864" y="1254"/>
                    </a:lnTo>
                    <a:lnTo>
                      <a:pt x="491" y="205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83240" y="450216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4055040" y="42325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692"/>
                  </a:moveTo>
                  <a:lnTo>
                    <a:pt x="162" y="692"/>
                  </a:lnTo>
                  <a:cubicBezTo>
                    <a:pt x="163" y="692"/>
                    <a:pt x="163" y="692"/>
                    <a:pt x="163" y="692"/>
                  </a:cubicBezTo>
                  <a:cubicBezTo>
                    <a:pt x="215" y="722"/>
                    <a:pt x="275" y="737"/>
                    <a:pt x="336" y="734"/>
                  </a:cubicBezTo>
                  <a:cubicBezTo>
                    <a:pt x="398" y="731"/>
                    <a:pt x="459" y="712"/>
                    <a:pt x="514" y="678"/>
                  </a:cubicBezTo>
                  <a:cubicBezTo>
                    <a:pt x="568" y="643"/>
                    <a:pt x="614" y="595"/>
                    <a:pt x="647" y="538"/>
                  </a:cubicBezTo>
                  <a:cubicBezTo>
                    <a:pt x="680" y="481"/>
                    <a:pt x="699" y="417"/>
                    <a:pt x="701" y="353"/>
                  </a:cubicBezTo>
                  <a:cubicBezTo>
                    <a:pt x="704" y="288"/>
                    <a:pt x="690" y="226"/>
                    <a:pt x="662" y="171"/>
                  </a:cubicBezTo>
                  <a:cubicBezTo>
                    <a:pt x="633" y="117"/>
                    <a:pt x="591" y="72"/>
                    <a:pt x="539" y="42"/>
                  </a:cubicBezTo>
                  <a:lnTo>
                    <a:pt x="539" y="42"/>
                  </a:lnTo>
                  <a:cubicBezTo>
                    <a:pt x="538" y="42"/>
                    <a:pt x="538" y="42"/>
                    <a:pt x="538" y="42"/>
                  </a:cubicBezTo>
                  <a:cubicBezTo>
                    <a:pt x="486" y="12"/>
                    <a:pt x="426" y="-3"/>
                    <a:pt x="365" y="0"/>
                  </a:cubicBezTo>
                  <a:cubicBezTo>
                    <a:pt x="303" y="3"/>
                    <a:pt x="242" y="22"/>
                    <a:pt x="187" y="56"/>
                  </a:cubicBezTo>
                  <a:cubicBezTo>
                    <a:pt x="133" y="91"/>
                    <a:pt x="87" y="139"/>
                    <a:pt x="54" y="196"/>
                  </a:cubicBezTo>
                  <a:cubicBezTo>
                    <a:pt x="21" y="253"/>
                    <a:pt x="2" y="317"/>
                    <a:pt x="0" y="381"/>
                  </a:cubicBezTo>
                  <a:cubicBezTo>
                    <a:pt x="-3" y="446"/>
                    <a:pt x="11" y="508"/>
                    <a:pt x="39" y="563"/>
                  </a:cubicBezTo>
                  <a:cubicBezTo>
                    <a:pt x="68" y="617"/>
                    <a:pt x="110" y="662"/>
                    <a:pt x="162" y="69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385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48768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683160" y="4254480"/>
              <a:ext cx="914760" cy="1918080"/>
              <a:chOff x="3683160" y="4254480"/>
              <a:chExt cx="914760" cy="1918080"/>
            </a:xfrm>
          </p:grpSpPr>
          <p:sp>
            <p:nvSpPr>
              <p:cNvPr id="962" name=""/>
              <p:cNvSpPr/>
              <p:nvPr/>
            </p:nvSpPr>
            <p:spPr>
              <a:xfrm>
                <a:off x="3884760" y="60134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1959" y="137"/>
                    </a:moveTo>
                    <a:lnTo>
                      <a:pt x="1867" y="221"/>
                    </a:lnTo>
                    <a:lnTo>
                      <a:pt x="1796" y="247"/>
                    </a:lnTo>
                    <a:lnTo>
                      <a:pt x="1748" y="332"/>
                    </a:lnTo>
                    <a:lnTo>
                      <a:pt x="1682" y="390"/>
                    </a:lnTo>
                    <a:lnTo>
                      <a:pt x="1611" y="390"/>
                    </a:lnTo>
                    <a:lnTo>
                      <a:pt x="1540" y="390"/>
                    </a:lnTo>
                    <a:lnTo>
                      <a:pt x="1470" y="390"/>
                    </a:lnTo>
                    <a:lnTo>
                      <a:pt x="1398" y="390"/>
                    </a:lnTo>
                    <a:lnTo>
                      <a:pt x="1328" y="390"/>
                    </a:lnTo>
                    <a:lnTo>
                      <a:pt x="1257" y="416"/>
                    </a:lnTo>
                    <a:lnTo>
                      <a:pt x="1165" y="442"/>
                    </a:lnTo>
                    <a:lnTo>
                      <a:pt x="1094" y="442"/>
                    </a:lnTo>
                    <a:lnTo>
                      <a:pt x="1028" y="442"/>
                    </a:lnTo>
                    <a:lnTo>
                      <a:pt x="957" y="442"/>
                    </a:lnTo>
                    <a:lnTo>
                      <a:pt x="887" y="442"/>
                    </a:lnTo>
                    <a:lnTo>
                      <a:pt x="816" y="416"/>
                    </a:lnTo>
                    <a:lnTo>
                      <a:pt x="746" y="416"/>
                    </a:lnTo>
                    <a:lnTo>
                      <a:pt x="675" y="390"/>
                    </a:lnTo>
                    <a:lnTo>
                      <a:pt x="605" y="359"/>
                    </a:lnTo>
                    <a:lnTo>
                      <a:pt x="538" y="359"/>
                    </a:lnTo>
                    <a:lnTo>
                      <a:pt x="467" y="359"/>
                    </a:lnTo>
                    <a:lnTo>
                      <a:pt x="396" y="416"/>
                    </a:lnTo>
                    <a:lnTo>
                      <a:pt x="326" y="442"/>
                    </a:lnTo>
                    <a:lnTo>
                      <a:pt x="255" y="442"/>
                    </a:lnTo>
                    <a:lnTo>
                      <a:pt x="211" y="359"/>
                    </a:lnTo>
                    <a:lnTo>
                      <a:pt x="141" y="359"/>
                    </a:lnTo>
                    <a:lnTo>
                      <a:pt x="70" y="359"/>
                    </a:lnTo>
                    <a:lnTo>
                      <a:pt x="0" y="305"/>
                    </a:lnTo>
                    <a:lnTo>
                      <a:pt x="92" y="247"/>
                    </a:lnTo>
                    <a:lnTo>
                      <a:pt x="163" y="247"/>
                    </a:lnTo>
                    <a:lnTo>
                      <a:pt x="233" y="195"/>
                    </a:lnTo>
                    <a:lnTo>
                      <a:pt x="185" y="111"/>
                    </a:lnTo>
                    <a:lnTo>
                      <a:pt x="396" y="111"/>
                    </a:lnTo>
                    <a:lnTo>
                      <a:pt x="467" y="83"/>
                    </a:lnTo>
                    <a:lnTo>
                      <a:pt x="538" y="83"/>
                    </a:lnTo>
                    <a:lnTo>
                      <a:pt x="605" y="111"/>
                    </a:lnTo>
                    <a:lnTo>
                      <a:pt x="675" y="168"/>
                    </a:lnTo>
                    <a:lnTo>
                      <a:pt x="746" y="168"/>
                    </a:lnTo>
                    <a:lnTo>
                      <a:pt x="816" y="168"/>
                    </a:lnTo>
                    <a:lnTo>
                      <a:pt x="909" y="168"/>
                    </a:lnTo>
                    <a:lnTo>
                      <a:pt x="1094" y="168"/>
                    </a:lnTo>
                    <a:lnTo>
                      <a:pt x="1235" y="168"/>
                    </a:lnTo>
                    <a:lnTo>
                      <a:pt x="1420" y="137"/>
                    </a:lnTo>
                    <a:lnTo>
                      <a:pt x="1518" y="137"/>
                    </a:lnTo>
                    <a:lnTo>
                      <a:pt x="1726" y="57"/>
                    </a:lnTo>
                    <a:lnTo>
                      <a:pt x="1911" y="0"/>
                    </a:lnTo>
                    <a:lnTo>
                      <a:pt x="1845" y="57"/>
                    </a:lnTo>
                    <a:lnTo>
                      <a:pt x="1818" y="168"/>
                    </a:lnTo>
                    <a:lnTo>
                      <a:pt x="1818" y="247"/>
                    </a:lnTo>
                    <a:lnTo>
                      <a:pt x="1818" y="305"/>
                    </a:lnTo>
                    <a:lnTo>
                      <a:pt x="1959" y="137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83160" y="42544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0" y="361"/>
                    </a:moveTo>
                    <a:lnTo>
                      <a:pt x="92" y="251"/>
                    </a:lnTo>
                    <a:lnTo>
                      <a:pt x="141" y="83"/>
                    </a:lnTo>
                    <a:lnTo>
                      <a:pt x="211" y="26"/>
                    </a:lnTo>
                    <a:lnTo>
                      <a:pt x="277" y="26"/>
                    </a:lnTo>
                    <a:lnTo>
                      <a:pt x="440" y="0"/>
                    </a:lnTo>
                    <a:lnTo>
                      <a:pt x="511" y="0"/>
                    </a:lnTo>
                    <a:lnTo>
                      <a:pt x="582" y="0"/>
                    </a:lnTo>
                    <a:lnTo>
                      <a:pt x="652" y="26"/>
                    </a:lnTo>
                    <a:lnTo>
                      <a:pt x="723" y="57"/>
                    </a:lnTo>
                    <a:lnTo>
                      <a:pt x="793" y="136"/>
                    </a:lnTo>
                    <a:lnTo>
                      <a:pt x="864" y="167"/>
                    </a:lnTo>
                    <a:lnTo>
                      <a:pt x="956" y="220"/>
                    </a:lnTo>
                    <a:lnTo>
                      <a:pt x="1027" y="251"/>
                    </a:lnTo>
                    <a:lnTo>
                      <a:pt x="1093" y="277"/>
                    </a:lnTo>
                    <a:lnTo>
                      <a:pt x="1164" y="304"/>
                    </a:lnTo>
                    <a:lnTo>
                      <a:pt x="1234" y="335"/>
                    </a:lnTo>
                    <a:lnTo>
                      <a:pt x="1306" y="361"/>
                    </a:lnTo>
                    <a:lnTo>
                      <a:pt x="1398" y="388"/>
                    </a:lnTo>
                    <a:lnTo>
                      <a:pt x="1469" y="445"/>
                    </a:lnTo>
                    <a:lnTo>
                      <a:pt x="1513" y="529"/>
                    </a:lnTo>
                    <a:lnTo>
                      <a:pt x="1562" y="608"/>
                    </a:lnTo>
                    <a:lnTo>
                      <a:pt x="1584" y="692"/>
                    </a:lnTo>
                    <a:lnTo>
                      <a:pt x="1610" y="776"/>
                    </a:lnTo>
                    <a:lnTo>
                      <a:pt x="1654" y="859"/>
                    </a:lnTo>
                    <a:lnTo>
                      <a:pt x="1676" y="943"/>
                    </a:lnTo>
                    <a:lnTo>
                      <a:pt x="1725" y="1027"/>
                    </a:lnTo>
                    <a:lnTo>
                      <a:pt x="1795" y="1053"/>
                    </a:lnTo>
                    <a:lnTo>
                      <a:pt x="1866" y="1111"/>
                    </a:lnTo>
                    <a:lnTo>
                      <a:pt x="1936" y="1164"/>
                    </a:lnTo>
                    <a:lnTo>
                      <a:pt x="2029" y="1221"/>
                    </a:lnTo>
                    <a:lnTo>
                      <a:pt x="2100" y="1305"/>
                    </a:lnTo>
                    <a:lnTo>
                      <a:pt x="2144" y="1389"/>
                    </a:lnTo>
                    <a:lnTo>
                      <a:pt x="2166" y="1472"/>
                    </a:lnTo>
                    <a:lnTo>
                      <a:pt x="2166" y="1556"/>
                    </a:lnTo>
                    <a:lnTo>
                      <a:pt x="2166" y="1636"/>
                    </a:lnTo>
                    <a:lnTo>
                      <a:pt x="2166" y="1719"/>
                    </a:lnTo>
                    <a:lnTo>
                      <a:pt x="2166" y="1803"/>
                    </a:lnTo>
                    <a:lnTo>
                      <a:pt x="2166" y="1887"/>
                    </a:lnTo>
                    <a:lnTo>
                      <a:pt x="2166" y="1971"/>
                    </a:lnTo>
                    <a:lnTo>
                      <a:pt x="2144" y="2054"/>
                    </a:lnTo>
                    <a:lnTo>
                      <a:pt x="2073" y="2301"/>
                    </a:lnTo>
                    <a:lnTo>
                      <a:pt x="2051" y="2385"/>
                    </a:lnTo>
                    <a:lnTo>
                      <a:pt x="2029" y="2469"/>
                    </a:lnTo>
                    <a:lnTo>
                      <a:pt x="2029" y="2554"/>
                    </a:lnTo>
                    <a:lnTo>
                      <a:pt x="2029" y="2638"/>
                    </a:lnTo>
                    <a:lnTo>
                      <a:pt x="2029" y="2721"/>
                    </a:lnTo>
                    <a:lnTo>
                      <a:pt x="2029" y="2805"/>
                    </a:lnTo>
                    <a:lnTo>
                      <a:pt x="2051" y="2889"/>
                    </a:lnTo>
                    <a:lnTo>
                      <a:pt x="2073" y="2973"/>
                    </a:lnTo>
                    <a:lnTo>
                      <a:pt x="2100" y="3052"/>
                    </a:lnTo>
                    <a:lnTo>
                      <a:pt x="2122" y="3136"/>
                    </a:lnTo>
                    <a:lnTo>
                      <a:pt x="2122" y="3220"/>
                    </a:lnTo>
                    <a:lnTo>
                      <a:pt x="2122" y="3303"/>
                    </a:lnTo>
                    <a:lnTo>
                      <a:pt x="2122" y="3387"/>
                    </a:lnTo>
                    <a:lnTo>
                      <a:pt x="2122" y="3471"/>
                    </a:lnTo>
                    <a:lnTo>
                      <a:pt x="2122" y="3555"/>
                    </a:lnTo>
                    <a:lnTo>
                      <a:pt x="2122" y="3639"/>
                    </a:lnTo>
                    <a:lnTo>
                      <a:pt x="2144" y="3722"/>
                    </a:lnTo>
                    <a:lnTo>
                      <a:pt x="2166" y="3802"/>
                    </a:lnTo>
                    <a:lnTo>
                      <a:pt x="2236" y="3859"/>
                    </a:lnTo>
                    <a:lnTo>
                      <a:pt x="2263" y="3943"/>
                    </a:lnTo>
                    <a:lnTo>
                      <a:pt x="2307" y="4027"/>
                    </a:lnTo>
                    <a:lnTo>
                      <a:pt x="2355" y="4110"/>
                    </a:lnTo>
                    <a:lnTo>
                      <a:pt x="2426" y="4163"/>
                    </a:lnTo>
                    <a:lnTo>
                      <a:pt x="2448" y="4247"/>
                    </a:lnTo>
                    <a:lnTo>
                      <a:pt x="2492" y="4331"/>
                    </a:lnTo>
                    <a:lnTo>
                      <a:pt x="2492" y="4415"/>
                    </a:lnTo>
                    <a:lnTo>
                      <a:pt x="2518" y="4498"/>
                    </a:lnTo>
                    <a:lnTo>
                      <a:pt x="2541" y="4582"/>
                    </a:lnTo>
                    <a:lnTo>
                      <a:pt x="2541" y="4666"/>
                    </a:lnTo>
                    <a:lnTo>
                      <a:pt x="2541" y="4745"/>
                    </a:lnTo>
                    <a:lnTo>
                      <a:pt x="2518" y="4829"/>
                    </a:lnTo>
                    <a:lnTo>
                      <a:pt x="2492" y="4913"/>
                    </a:lnTo>
                    <a:lnTo>
                      <a:pt x="2448" y="4997"/>
                    </a:lnTo>
                    <a:lnTo>
                      <a:pt x="2263" y="5023"/>
                    </a:lnTo>
                    <a:lnTo>
                      <a:pt x="2100" y="5054"/>
                    </a:lnTo>
                    <a:lnTo>
                      <a:pt x="2029" y="5081"/>
                    </a:lnTo>
                    <a:lnTo>
                      <a:pt x="1958" y="5081"/>
                    </a:lnTo>
                    <a:lnTo>
                      <a:pt x="1676" y="5081"/>
                    </a:lnTo>
                    <a:lnTo>
                      <a:pt x="1610" y="5081"/>
                    </a:lnTo>
                    <a:lnTo>
                      <a:pt x="1513" y="5081"/>
                    </a:lnTo>
                    <a:lnTo>
                      <a:pt x="1420" y="5054"/>
                    </a:lnTo>
                    <a:lnTo>
                      <a:pt x="1350" y="5023"/>
                    </a:lnTo>
                    <a:lnTo>
                      <a:pt x="1306" y="4944"/>
                    </a:lnTo>
                    <a:lnTo>
                      <a:pt x="1284" y="4860"/>
                    </a:lnTo>
                    <a:lnTo>
                      <a:pt x="1212" y="4776"/>
                    </a:lnTo>
                    <a:lnTo>
                      <a:pt x="1164" y="4692"/>
                    </a:lnTo>
                    <a:lnTo>
                      <a:pt x="1120" y="4609"/>
                    </a:lnTo>
                    <a:lnTo>
                      <a:pt x="1120" y="4525"/>
                    </a:lnTo>
                    <a:lnTo>
                      <a:pt x="1120" y="4388"/>
                    </a:lnTo>
                    <a:lnTo>
                      <a:pt x="1256" y="4331"/>
                    </a:lnTo>
                    <a:lnTo>
                      <a:pt x="1447" y="4274"/>
                    </a:lnTo>
                    <a:lnTo>
                      <a:pt x="1513" y="4304"/>
                    </a:lnTo>
                    <a:lnTo>
                      <a:pt x="1584" y="4331"/>
                    </a:lnTo>
                    <a:lnTo>
                      <a:pt x="1654" y="4388"/>
                    </a:lnTo>
                    <a:lnTo>
                      <a:pt x="1817" y="4388"/>
                    </a:lnTo>
                    <a:lnTo>
                      <a:pt x="2003" y="4388"/>
                    </a:lnTo>
                    <a:lnTo>
                      <a:pt x="2073" y="4415"/>
                    </a:lnTo>
                    <a:lnTo>
                      <a:pt x="2166" y="4441"/>
                    </a:lnTo>
                    <a:lnTo>
                      <a:pt x="2214" y="4719"/>
                    </a:lnTo>
                    <a:lnTo>
                      <a:pt x="2144" y="4692"/>
                    </a:lnTo>
                    <a:lnTo>
                      <a:pt x="2073" y="4666"/>
                    </a:lnTo>
                    <a:lnTo>
                      <a:pt x="2003" y="4635"/>
                    </a:lnTo>
                    <a:lnTo>
                      <a:pt x="1936" y="4609"/>
                    </a:lnTo>
                    <a:lnTo>
                      <a:pt x="1839" y="4582"/>
                    </a:lnTo>
                    <a:lnTo>
                      <a:pt x="1773" y="4582"/>
                    </a:lnTo>
                    <a:lnTo>
                      <a:pt x="1703" y="4582"/>
                    </a:lnTo>
                    <a:lnTo>
                      <a:pt x="1632" y="4582"/>
                    </a:lnTo>
                    <a:lnTo>
                      <a:pt x="1562" y="4635"/>
                    </a:lnTo>
                    <a:lnTo>
                      <a:pt x="1539" y="4719"/>
                    </a:lnTo>
                    <a:lnTo>
                      <a:pt x="1610" y="4776"/>
                    </a:lnTo>
                    <a:lnTo>
                      <a:pt x="1676" y="4803"/>
                    </a:lnTo>
                    <a:lnTo>
                      <a:pt x="1747" y="4803"/>
                    </a:lnTo>
                    <a:lnTo>
                      <a:pt x="1817" y="4803"/>
                    </a:lnTo>
                    <a:lnTo>
                      <a:pt x="1888" y="4776"/>
                    </a:lnTo>
                    <a:lnTo>
                      <a:pt x="1980" y="4719"/>
                    </a:lnTo>
                    <a:lnTo>
                      <a:pt x="2073" y="4745"/>
                    </a:lnTo>
                    <a:lnTo>
                      <a:pt x="2214" y="4745"/>
                    </a:lnTo>
                    <a:lnTo>
                      <a:pt x="2214" y="4498"/>
                    </a:lnTo>
                    <a:lnTo>
                      <a:pt x="2073" y="4388"/>
                    </a:lnTo>
                    <a:lnTo>
                      <a:pt x="2051" y="4304"/>
                    </a:lnTo>
                    <a:lnTo>
                      <a:pt x="2003" y="4221"/>
                    </a:lnTo>
                    <a:lnTo>
                      <a:pt x="2003" y="4137"/>
                    </a:lnTo>
                    <a:lnTo>
                      <a:pt x="1980" y="4053"/>
                    </a:lnTo>
                    <a:lnTo>
                      <a:pt x="1936" y="3969"/>
                    </a:lnTo>
                    <a:lnTo>
                      <a:pt x="1888" y="3885"/>
                    </a:lnTo>
                    <a:lnTo>
                      <a:pt x="1866" y="3802"/>
                    </a:lnTo>
                    <a:lnTo>
                      <a:pt x="1866" y="3722"/>
                    </a:lnTo>
                    <a:lnTo>
                      <a:pt x="1866" y="3639"/>
                    </a:lnTo>
                    <a:lnTo>
                      <a:pt x="1839" y="3555"/>
                    </a:lnTo>
                    <a:lnTo>
                      <a:pt x="1839" y="3471"/>
                    </a:lnTo>
                    <a:lnTo>
                      <a:pt x="1817" y="3387"/>
                    </a:lnTo>
                    <a:lnTo>
                      <a:pt x="1795" y="3303"/>
                    </a:lnTo>
                    <a:lnTo>
                      <a:pt x="1773" y="3220"/>
                    </a:lnTo>
                    <a:lnTo>
                      <a:pt x="1747" y="3136"/>
                    </a:lnTo>
                    <a:lnTo>
                      <a:pt x="1725" y="3052"/>
                    </a:lnTo>
                    <a:lnTo>
                      <a:pt x="1725" y="2973"/>
                    </a:lnTo>
                    <a:lnTo>
                      <a:pt x="1703" y="2889"/>
                    </a:lnTo>
                    <a:lnTo>
                      <a:pt x="1703" y="2805"/>
                    </a:lnTo>
                    <a:lnTo>
                      <a:pt x="1725" y="2721"/>
                    </a:lnTo>
                    <a:lnTo>
                      <a:pt x="1725" y="2638"/>
                    </a:lnTo>
                    <a:lnTo>
                      <a:pt x="1725" y="2554"/>
                    </a:lnTo>
                    <a:lnTo>
                      <a:pt x="1725" y="2469"/>
                    </a:lnTo>
                    <a:lnTo>
                      <a:pt x="1725" y="2385"/>
                    </a:lnTo>
                    <a:lnTo>
                      <a:pt x="1747" y="2301"/>
                    </a:lnTo>
                    <a:lnTo>
                      <a:pt x="1773" y="2222"/>
                    </a:lnTo>
                    <a:lnTo>
                      <a:pt x="1773" y="1997"/>
                    </a:lnTo>
                    <a:lnTo>
                      <a:pt x="1795" y="1887"/>
                    </a:lnTo>
                    <a:lnTo>
                      <a:pt x="1795" y="1803"/>
                    </a:lnTo>
                    <a:lnTo>
                      <a:pt x="1773" y="1719"/>
                    </a:lnTo>
                    <a:lnTo>
                      <a:pt x="1725" y="1609"/>
                    </a:lnTo>
                    <a:lnTo>
                      <a:pt x="1703" y="1525"/>
                    </a:lnTo>
                    <a:lnTo>
                      <a:pt x="1632" y="1441"/>
                    </a:lnTo>
                    <a:lnTo>
                      <a:pt x="1562" y="1358"/>
                    </a:lnTo>
                    <a:lnTo>
                      <a:pt x="1491" y="1278"/>
                    </a:lnTo>
                    <a:lnTo>
                      <a:pt x="1420" y="1195"/>
                    </a:lnTo>
                    <a:lnTo>
                      <a:pt x="1398" y="1111"/>
                    </a:lnTo>
                    <a:lnTo>
                      <a:pt x="1376" y="1027"/>
                    </a:lnTo>
                    <a:lnTo>
                      <a:pt x="1350" y="943"/>
                    </a:lnTo>
                    <a:lnTo>
                      <a:pt x="1306" y="859"/>
                    </a:lnTo>
                    <a:lnTo>
                      <a:pt x="1256" y="776"/>
                    </a:lnTo>
                    <a:lnTo>
                      <a:pt x="1190" y="692"/>
                    </a:lnTo>
                    <a:lnTo>
                      <a:pt x="1120" y="608"/>
                    </a:lnTo>
                    <a:lnTo>
                      <a:pt x="1049" y="555"/>
                    </a:lnTo>
                    <a:lnTo>
                      <a:pt x="978" y="529"/>
                    </a:lnTo>
                    <a:lnTo>
                      <a:pt x="908" y="471"/>
                    </a:lnTo>
                    <a:lnTo>
                      <a:pt x="837" y="471"/>
                    </a:lnTo>
                    <a:lnTo>
                      <a:pt x="701" y="471"/>
                    </a:lnTo>
                    <a:lnTo>
                      <a:pt x="630" y="471"/>
                    </a:lnTo>
                    <a:lnTo>
                      <a:pt x="560" y="471"/>
                    </a:lnTo>
                    <a:lnTo>
                      <a:pt x="374" y="445"/>
                    </a:lnTo>
                    <a:lnTo>
                      <a:pt x="277" y="445"/>
                    </a:lnTo>
                    <a:lnTo>
                      <a:pt x="233" y="529"/>
                    </a:lnTo>
                    <a:lnTo>
                      <a:pt x="163" y="582"/>
                    </a:lnTo>
                    <a:lnTo>
                      <a:pt x="92" y="555"/>
                    </a:lnTo>
                    <a:lnTo>
                      <a:pt x="70" y="47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4292640" y="4241880"/>
              <a:ext cx="914760" cy="1918080"/>
              <a:chOff x="4292640" y="4241880"/>
              <a:chExt cx="914760" cy="1918080"/>
            </a:xfrm>
          </p:grpSpPr>
          <p:sp>
            <p:nvSpPr>
              <p:cNvPr id="965" name=""/>
              <p:cNvSpPr/>
              <p:nvPr/>
            </p:nvSpPr>
            <p:spPr>
              <a:xfrm>
                <a:off x="4300560" y="60008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0" y="138"/>
                    </a:moveTo>
                    <a:lnTo>
                      <a:pt x="93" y="221"/>
                    </a:lnTo>
                    <a:lnTo>
                      <a:pt x="163" y="249"/>
                    </a:lnTo>
                    <a:lnTo>
                      <a:pt x="209" y="332"/>
                    </a:lnTo>
                    <a:lnTo>
                      <a:pt x="279" y="387"/>
                    </a:lnTo>
                    <a:lnTo>
                      <a:pt x="349" y="387"/>
                    </a:lnTo>
                    <a:lnTo>
                      <a:pt x="419" y="387"/>
                    </a:lnTo>
                    <a:lnTo>
                      <a:pt x="489" y="387"/>
                    </a:lnTo>
                    <a:lnTo>
                      <a:pt x="560" y="387"/>
                    </a:lnTo>
                    <a:lnTo>
                      <a:pt x="630" y="387"/>
                    </a:lnTo>
                    <a:lnTo>
                      <a:pt x="700" y="415"/>
                    </a:lnTo>
                    <a:lnTo>
                      <a:pt x="793" y="442"/>
                    </a:lnTo>
                    <a:lnTo>
                      <a:pt x="863" y="442"/>
                    </a:lnTo>
                    <a:lnTo>
                      <a:pt x="933" y="442"/>
                    </a:lnTo>
                    <a:lnTo>
                      <a:pt x="1003" y="442"/>
                    </a:lnTo>
                    <a:lnTo>
                      <a:pt x="1073" y="442"/>
                    </a:lnTo>
                    <a:lnTo>
                      <a:pt x="1143" y="415"/>
                    </a:lnTo>
                    <a:lnTo>
                      <a:pt x="1213" y="415"/>
                    </a:lnTo>
                    <a:lnTo>
                      <a:pt x="1282" y="387"/>
                    </a:lnTo>
                    <a:lnTo>
                      <a:pt x="1352" y="360"/>
                    </a:lnTo>
                    <a:lnTo>
                      <a:pt x="1422" y="360"/>
                    </a:lnTo>
                    <a:lnTo>
                      <a:pt x="1493" y="360"/>
                    </a:lnTo>
                    <a:lnTo>
                      <a:pt x="1563" y="415"/>
                    </a:lnTo>
                    <a:lnTo>
                      <a:pt x="1633" y="442"/>
                    </a:lnTo>
                    <a:lnTo>
                      <a:pt x="1703" y="442"/>
                    </a:lnTo>
                    <a:lnTo>
                      <a:pt x="1750" y="360"/>
                    </a:lnTo>
                    <a:lnTo>
                      <a:pt x="1820" y="360"/>
                    </a:lnTo>
                    <a:lnTo>
                      <a:pt x="1889" y="360"/>
                    </a:lnTo>
                    <a:lnTo>
                      <a:pt x="1959" y="304"/>
                    </a:lnTo>
                    <a:lnTo>
                      <a:pt x="1866" y="249"/>
                    </a:lnTo>
                    <a:lnTo>
                      <a:pt x="1796" y="249"/>
                    </a:lnTo>
                    <a:lnTo>
                      <a:pt x="1726" y="193"/>
                    </a:lnTo>
                    <a:lnTo>
                      <a:pt x="1773" y="111"/>
                    </a:lnTo>
                    <a:lnTo>
                      <a:pt x="1563" y="111"/>
                    </a:lnTo>
                    <a:lnTo>
                      <a:pt x="1493" y="82"/>
                    </a:lnTo>
                    <a:lnTo>
                      <a:pt x="1422" y="82"/>
                    </a:lnTo>
                    <a:lnTo>
                      <a:pt x="1352" y="111"/>
                    </a:lnTo>
                    <a:lnTo>
                      <a:pt x="1282" y="166"/>
                    </a:lnTo>
                    <a:lnTo>
                      <a:pt x="1213" y="166"/>
                    </a:lnTo>
                    <a:lnTo>
                      <a:pt x="1143" y="166"/>
                    </a:lnTo>
                    <a:lnTo>
                      <a:pt x="1049" y="166"/>
                    </a:lnTo>
                    <a:lnTo>
                      <a:pt x="863" y="166"/>
                    </a:lnTo>
                    <a:lnTo>
                      <a:pt x="723" y="166"/>
                    </a:lnTo>
                    <a:lnTo>
                      <a:pt x="537" y="138"/>
                    </a:lnTo>
                    <a:lnTo>
                      <a:pt x="442" y="138"/>
                    </a:lnTo>
                    <a:lnTo>
                      <a:pt x="233" y="55"/>
                    </a:lnTo>
                    <a:lnTo>
                      <a:pt x="46" y="0"/>
                    </a:lnTo>
                    <a:lnTo>
                      <a:pt x="116" y="55"/>
                    </a:lnTo>
                    <a:lnTo>
                      <a:pt x="139" y="166"/>
                    </a:lnTo>
                    <a:lnTo>
                      <a:pt x="139" y="249"/>
                    </a:lnTo>
                    <a:lnTo>
                      <a:pt x="139" y="30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292640" y="42418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2541" y="360"/>
                    </a:moveTo>
                    <a:lnTo>
                      <a:pt x="2447" y="249"/>
                    </a:lnTo>
                    <a:lnTo>
                      <a:pt x="2401" y="83"/>
                    </a:lnTo>
                    <a:lnTo>
                      <a:pt x="2331" y="27"/>
                    </a:lnTo>
                    <a:lnTo>
                      <a:pt x="2261" y="27"/>
                    </a:lnTo>
                    <a:lnTo>
                      <a:pt x="2098" y="0"/>
                    </a:lnTo>
                    <a:lnTo>
                      <a:pt x="2028" y="0"/>
                    </a:lnTo>
                    <a:lnTo>
                      <a:pt x="1958" y="0"/>
                    </a:lnTo>
                    <a:lnTo>
                      <a:pt x="1888" y="27"/>
                    </a:lnTo>
                    <a:lnTo>
                      <a:pt x="1818" y="55"/>
                    </a:lnTo>
                    <a:lnTo>
                      <a:pt x="1748" y="138"/>
                    </a:lnTo>
                    <a:lnTo>
                      <a:pt x="1678" y="166"/>
                    </a:lnTo>
                    <a:lnTo>
                      <a:pt x="1585" y="222"/>
                    </a:lnTo>
                    <a:lnTo>
                      <a:pt x="1515" y="249"/>
                    </a:lnTo>
                    <a:lnTo>
                      <a:pt x="1445" y="277"/>
                    </a:lnTo>
                    <a:lnTo>
                      <a:pt x="1375" y="305"/>
                    </a:lnTo>
                    <a:lnTo>
                      <a:pt x="1305" y="333"/>
                    </a:lnTo>
                    <a:lnTo>
                      <a:pt x="1235" y="360"/>
                    </a:lnTo>
                    <a:lnTo>
                      <a:pt x="1141" y="388"/>
                    </a:lnTo>
                    <a:lnTo>
                      <a:pt x="1071" y="444"/>
                    </a:lnTo>
                    <a:lnTo>
                      <a:pt x="1025" y="527"/>
                    </a:lnTo>
                    <a:lnTo>
                      <a:pt x="978" y="610"/>
                    </a:lnTo>
                    <a:lnTo>
                      <a:pt x="955" y="693"/>
                    </a:lnTo>
                    <a:lnTo>
                      <a:pt x="932" y="777"/>
                    </a:lnTo>
                    <a:lnTo>
                      <a:pt x="885" y="860"/>
                    </a:lnTo>
                    <a:lnTo>
                      <a:pt x="862" y="943"/>
                    </a:lnTo>
                    <a:lnTo>
                      <a:pt x="815" y="1027"/>
                    </a:lnTo>
                    <a:lnTo>
                      <a:pt x="745" y="1054"/>
                    </a:lnTo>
                    <a:lnTo>
                      <a:pt x="675" y="1110"/>
                    </a:lnTo>
                    <a:lnTo>
                      <a:pt x="605" y="1165"/>
                    </a:lnTo>
                    <a:lnTo>
                      <a:pt x="512" y="1221"/>
                    </a:lnTo>
                    <a:lnTo>
                      <a:pt x="442" y="1304"/>
                    </a:lnTo>
                    <a:lnTo>
                      <a:pt x="396" y="1387"/>
                    </a:lnTo>
                    <a:lnTo>
                      <a:pt x="372" y="1471"/>
                    </a:lnTo>
                    <a:lnTo>
                      <a:pt x="372" y="1554"/>
                    </a:lnTo>
                    <a:lnTo>
                      <a:pt x="372" y="1637"/>
                    </a:lnTo>
                    <a:lnTo>
                      <a:pt x="372" y="1721"/>
                    </a:lnTo>
                    <a:lnTo>
                      <a:pt x="372" y="1804"/>
                    </a:lnTo>
                    <a:lnTo>
                      <a:pt x="372" y="1887"/>
                    </a:lnTo>
                    <a:lnTo>
                      <a:pt x="372" y="1970"/>
                    </a:lnTo>
                    <a:lnTo>
                      <a:pt x="396" y="2054"/>
                    </a:lnTo>
                    <a:lnTo>
                      <a:pt x="466" y="2304"/>
                    </a:lnTo>
                    <a:lnTo>
                      <a:pt x="489" y="2387"/>
                    </a:lnTo>
                    <a:lnTo>
                      <a:pt x="512" y="2470"/>
                    </a:lnTo>
                    <a:lnTo>
                      <a:pt x="512" y="2554"/>
                    </a:lnTo>
                    <a:lnTo>
                      <a:pt x="512" y="2638"/>
                    </a:lnTo>
                    <a:lnTo>
                      <a:pt x="512" y="2721"/>
                    </a:lnTo>
                    <a:lnTo>
                      <a:pt x="512" y="2804"/>
                    </a:lnTo>
                    <a:lnTo>
                      <a:pt x="489" y="2887"/>
                    </a:lnTo>
                    <a:lnTo>
                      <a:pt x="466" y="2971"/>
                    </a:lnTo>
                    <a:lnTo>
                      <a:pt x="442" y="3054"/>
                    </a:lnTo>
                    <a:lnTo>
                      <a:pt x="419" y="3137"/>
                    </a:lnTo>
                    <a:lnTo>
                      <a:pt x="419" y="3221"/>
                    </a:lnTo>
                    <a:lnTo>
                      <a:pt x="419" y="3304"/>
                    </a:lnTo>
                    <a:lnTo>
                      <a:pt x="419" y="3387"/>
                    </a:lnTo>
                    <a:lnTo>
                      <a:pt x="419" y="3470"/>
                    </a:lnTo>
                    <a:lnTo>
                      <a:pt x="419" y="3554"/>
                    </a:lnTo>
                    <a:lnTo>
                      <a:pt x="419" y="3637"/>
                    </a:lnTo>
                    <a:lnTo>
                      <a:pt x="396" y="3720"/>
                    </a:lnTo>
                    <a:lnTo>
                      <a:pt x="372" y="3804"/>
                    </a:lnTo>
                    <a:lnTo>
                      <a:pt x="302" y="3859"/>
                    </a:lnTo>
                    <a:lnTo>
                      <a:pt x="279" y="3942"/>
                    </a:lnTo>
                    <a:lnTo>
                      <a:pt x="233" y="4026"/>
                    </a:lnTo>
                    <a:lnTo>
                      <a:pt x="186" y="4109"/>
                    </a:lnTo>
                    <a:lnTo>
                      <a:pt x="116" y="4164"/>
                    </a:lnTo>
                    <a:lnTo>
                      <a:pt x="93" y="4248"/>
                    </a:lnTo>
                    <a:lnTo>
                      <a:pt x="46" y="4331"/>
                    </a:lnTo>
                    <a:lnTo>
                      <a:pt x="46" y="4414"/>
                    </a:lnTo>
                    <a:lnTo>
                      <a:pt x="23" y="4498"/>
                    </a:lnTo>
                    <a:lnTo>
                      <a:pt x="0" y="4581"/>
                    </a:lnTo>
                    <a:lnTo>
                      <a:pt x="0" y="4664"/>
                    </a:lnTo>
                    <a:lnTo>
                      <a:pt x="0" y="4747"/>
                    </a:lnTo>
                    <a:lnTo>
                      <a:pt x="23" y="4831"/>
                    </a:lnTo>
                    <a:lnTo>
                      <a:pt x="46" y="4914"/>
                    </a:lnTo>
                    <a:lnTo>
                      <a:pt x="93" y="4997"/>
                    </a:lnTo>
                    <a:lnTo>
                      <a:pt x="279" y="5025"/>
                    </a:lnTo>
                    <a:lnTo>
                      <a:pt x="442" y="5053"/>
                    </a:lnTo>
                    <a:lnTo>
                      <a:pt x="512" y="5081"/>
                    </a:lnTo>
                    <a:lnTo>
                      <a:pt x="582" y="5081"/>
                    </a:lnTo>
                    <a:lnTo>
                      <a:pt x="862" y="5081"/>
                    </a:lnTo>
                    <a:lnTo>
                      <a:pt x="932" y="5081"/>
                    </a:lnTo>
                    <a:lnTo>
                      <a:pt x="1025" y="5081"/>
                    </a:lnTo>
                    <a:lnTo>
                      <a:pt x="1118" y="5053"/>
                    </a:lnTo>
                    <a:lnTo>
                      <a:pt x="1188" y="5025"/>
                    </a:lnTo>
                    <a:lnTo>
                      <a:pt x="1235" y="4942"/>
                    </a:lnTo>
                    <a:lnTo>
                      <a:pt x="1258" y="4858"/>
                    </a:lnTo>
                    <a:lnTo>
                      <a:pt x="1329" y="4775"/>
                    </a:lnTo>
                    <a:lnTo>
                      <a:pt x="1375" y="4692"/>
                    </a:lnTo>
                    <a:lnTo>
                      <a:pt x="1422" y="4609"/>
                    </a:lnTo>
                    <a:lnTo>
                      <a:pt x="1422" y="4525"/>
                    </a:lnTo>
                    <a:lnTo>
                      <a:pt x="1422" y="4387"/>
                    </a:lnTo>
                    <a:lnTo>
                      <a:pt x="1282" y="4331"/>
                    </a:lnTo>
                    <a:lnTo>
                      <a:pt x="1095" y="4275"/>
                    </a:lnTo>
                    <a:lnTo>
                      <a:pt x="1025" y="4303"/>
                    </a:lnTo>
                    <a:lnTo>
                      <a:pt x="955" y="4331"/>
                    </a:lnTo>
                    <a:lnTo>
                      <a:pt x="885" y="4387"/>
                    </a:lnTo>
                    <a:lnTo>
                      <a:pt x="722" y="4387"/>
                    </a:lnTo>
                    <a:lnTo>
                      <a:pt x="535" y="4387"/>
                    </a:lnTo>
                    <a:lnTo>
                      <a:pt x="466" y="4414"/>
                    </a:lnTo>
                    <a:lnTo>
                      <a:pt x="372" y="4442"/>
                    </a:lnTo>
                    <a:lnTo>
                      <a:pt x="326" y="4720"/>
                    </a:lnTo>
                    <a:lnTo>
                      <a:pt x="396" y="4692"/>
                    </a:lnTo>
                    <a:lnTo>
                      <a:pt x="466" y="4664"/>
                    </a:lnTo>
                    <a:lnTo>
                      <a:pt x="535" y="4636"/>
                    </a:lnTo>
                    <a:lnTo>
                      <a:pt x="605" y="4609"/>
                    </a:lnTo>
                    <a:lnTo>
                      <a:pt x="699" y="4581"/>
                    </a:lnTo>
                    <a:lnTo>
                      <a:pt x="768" y="4581"/>
                    </a:lnTo>
                    <a:lnTo>
                      <a:pt x="838" y="4581"/>
                    </a:lnTo>
                    <a:lnTo>
                      <a:pt x="908" y="4581"/>
                    </a:lnTo>
                    <a:lnTo>
                      <a:pt x="978" y="4636"/>
                    </a:lnTo>
                    <a:lnTo>
                      <a:pt x="1002" y="4720"/>
                    </a:lnTo>
                    <a:lnTo>
                      <a:pt x="932" y="4775"/>
                    </a:lnTo>
                    <a:lnTo>
                      <a:pt x="862" y="4803"/>
                    </a:lnTo>
                    <a:lnTo>
                      <a:pt x="792" y="4803"/>
                    </a:lnTo>
                    <a:lnTo>
                      <a:pt x="722" y="4803"/>
                    </a:lnTo>
                    <a:lnTo>
                      <a:pt x="652" y="4775"/>
                    </a:lnTo>
                    <a:lnTo>
                      <a:pt x="559" y="4720"/>
                    </a:lnTo>
                    <a:lnTo>
                      <a:pt x="466" y="4747"/>
                    </a:lnTo>
                    <a:lnTo>
                      <a:pt x="326" y="4747"/>
                    </a:lnTo>
                    <a:lnTo>
                      <a:pt x="326" y="4498"/>
                    </a:lnTo>
                    <a:lnTo>
                      <a:pt x="466" y="4387"/>
                    </a:lnTo>
                    <a:lnTo>
                      <a:pt x="489" y="4303"/>
                    </a:lnTo>
                    <a:lnTo>
                      <a:pt x="535" y="4220"/>
                    </a:lnTo>
                    <a:lnTo>
                      <a:pt x="535" y="4137"/>
                    </a:lnTo>
                    <a:lnTo>
                      <a:pt x="559" y="4053"/>
                    </a:lnTo>
                    <a:lnTo>
                      <a:pt x="605" y="3970"/>
                    </a:lnTo>
                    <a:lnTo>
                      <a:pt x="652" y="3887"/>
                    </a:lnTo>
                    <a:lnTo>
                      <a:pt x="675" y="3804"/>
                    </a:lnTo>
                    <a:lnTo>
                      <a:pt x="675" y="3720"/>
                    </a:lnTo>
                    <a:lnTo>
                      <a:pt x="675" y="3637"/>
                    </a:lnTo>
                    <a:lnTo>
                      <a:pt x="699" y="3554"/>
                    </a:lnTo>
                    <a:lnTo>
                      <a:pt x="699" y="3470"/>
                    </a:lnTo>
                    <a:lnTo>
                      <a:pt x="722" y="3387"/>
                    </a:lnTo>
                    <a:lnTo>
                      <a:pt x="745" y="3304"/>
                    </a:lnTo>
                    <a:lnTo>
                      <a:pt x="768" y="3221"/>
                    </a:lnTo>
                    <a:lnTo>
                      <a:pt x="792" y="3137"/>
                    </a:lnTo>
                    <a:lnTo>
                      <a:pt x="815" y="3054"/>
                    </a:lnTo>
                    <a:lnTo>
                      <a:pt x="815" y="2971"/>
                    </a:lnTo>
                    <a:lnTo>
                      <a:pt x="838" y="2887"/>
                    </a:lnTo>
                    <a:lnTo>
                      <a:pt x="838" y="2804"/>
                    </a:lnTo>
                    <a:lnTo>
                      <a:pt x="815" y="2721"/>
                    </a:lnTo>
                    <a:lnTo>
                      <a:pt x="815" y="2638"/>
                    </a:lnTo>
                    <a:lnTo>
                      <a:pt x="815" y="2554"/>
                    </a:lnTo>
                    <a:lnTo>
                      <a:pt x="815" y="2470"/>
                    </a:lnTo>
                    <a:lnTo>
                      <a:pt x="815" y="2387"/>
                    </a:lnTo>
                    <a:lnTo>
                      <a:pt x="792" y="2304"/>
                    </a:lnTo>
                    <a:lnTo>
                      <a:pt x="768" y="2220"/>
                    </a:lnTo>
                    <a:lnTo>
                      <a:pt x="768" y="1998"/>
                    </a:lnTo>
                    <a:lnTo>
                      <a:pt x="745" y="1887"/>
                    </a:lnTo>
                    <a:lnTo>
                      <a:pt x="745" y="1804"/>
                    </a:lnTo>
                    <a:lnTo>
                      <a:pt x="768" y="1721"/>
                    </a:lnTo>
                    <a:lnTo>
                      <a:pt x="815" y="1610"/>
                    </a:lnTo>
                    <a:lnTo>
                      <a:pt x="838" y="1526"/>
                    </a:lnTo>
                    <a:lnTo>
                      <a:pt x="908" y="1443"/>
                    </a:lnTo>
                    <a:lnTo>
                      <a:pt x="978" y="1360"/>
                    </a:lnTo>
                    <a:lnTo>
                      <a:pt x="1048" y="1276"/>
                    </a:lnTo>
                    <a:lnTo>
                      <a:pt x="1118" y="1193"/>
                    </a:lnTo>
                    <a:lnTo>
                      <a:pt x="1141" y="1110"/>
                    </a:lnTo>
                    <a:lnTo>
                      <a:pt x="1165" y="1027"/>
                    </a:lnTo>
                    <a:lnTo>
                      <a:pt x="1188" y="943"/>
                    </a:lnTo>
                    <a:lnTo>
                      <a:pt x="1235" y="860"/>
                    </a:lnTo>
                    <a:lnTo>
                      <a:pt x="1282" y="777"/>
                    </a:lnTo>
                    <a:lnTo>
                      <a:pt x="1352" y="693"/>
                    </a:lnTo>
                    <a:lnTo>
                      <a:pt x="1422" y="610"/>
                    </a:lnTo>
                    <a:lnTo>
                      <a:pt x="1492" y="555"/>
                    </a:lnTo>
                    <a:lnTo>
                      <a:pt x="1562" y="527"/>
                    </a:lnTo>
                    <a:lnTo>
                      <a:pt x="1632" y="471"/>
                    </a:lnTo>
                    <a:lnTo>
                      <a:pt x="1702" y="471"/>
                    </a:lnTo>
                    <a:lnTo>
                      <a:pt x="1841" y="471"/>
                    </a:lnTo>
                    <a:lnTo>
                      <a:pt x="1911" y="471"/>
                    </a:lnTo>
                    <a:lnTo>
                      <a:pt x="1981" y="471"/>
                    </a:lnTo>
                    <a:lnTo>
                      <a:pt x="2168" y="444"/>
                    </a:lnTo>
                    <a:lnTo>
                      <a:pt x="2261" y="444"/>
                    </a:lnTo>
                    <a:lnTo>
                      <a:pt x="2307" y="527"/>
                    </a:lnTo>
                    <a:lnTo>
                      <a:pt x="2377" y="582"/>
                    </a:lnTo>
                    <a:lnTo>
                      <a:pt x="2447" y="555"/>
                    </a:lnTo>
                    <a:lnTo>
                      <a:pt x="2471" y="471"/>
                    </a:lnTo>
                    <a:lnTo>
                      <a:pt x="2541" y="360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427560" y="4268880"/>
              <a:ext cx="535320" cy="1511640"/>
              <a:chOff x="3427560" y="4268880"/>
              <a:chExt cx="535320" cy="1511640"/>
            </a:xfrm>
          </p:grpSpPr>
          <p:sp>
            <p:nvSpPr>
              <p:cNvPr id="968" name=""/>
              <p:cNvSpPr/>
              <p:nvPr/>
            </p:nvSpPr>
            <p:spPr>
              <a:xfrm>
                <a:off x="3576600" y="435276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218" y="243"/>
                    </a:moveTo>
                    <a:lnTo>
                      <a:pt x="218" y="167"/>
                    </a:lnTo>
                    <a:lnTo>
                      <a:pt x="186" y="92"/>
                    </a:lnTo>
                    <a:lnTo>
                      <a:pt x="128" y="48"/>
                    </a:lnTo>
                    <a:lnTo>
                      <a:pt x="71" y="0"/>
                    </a:lnTo>
                    <a:lnTo>
                      <a:pt x="39" y="30"/>
                    </a:lnTo>
                    <a:lnTo>
                      <a:pt x="0" y="7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6" y="110"/>
                    </a:lnTo>
                    <a:lnTo>
                      <a:pt x="84" y="154"/>
                    </a:lnTo>
                    <a:lnTo>
                      <a:pt x="142" y="217"/>
                    </a:lnTo>
                    <a:lnTo>
                      <a:pt x="155" y="287"/>
                    </a:lnTo>
                    <a:lnTo>
                      <a:pt x="155" y="318"/>
                    </a:lnTo>
                    <a:lnTo>
                      <a:pt x="172" y="349"/>
                    </a:lnTo>
                    <a:lnTo>
                      <a:pt x="186" y="380"/>
                    </a:lnTo>
                    <a:lnTo>
                      <a:pt x="218" y="393"/>
                    </a:lnTo>
                    <a:lnTo>
                      <a:pt x="231" y="411"/>
                    </a:lnTo>
                    <a:lnTo>
                      <a:pt x="244" y="411"/>
                    </a:lnTo>
                    <a:lnTo>
                      <a:pt x="270" y="380"/>
                    </a:lnTo>
                    <a:lnTo>
                      <a:pt x="270" y="349"/>
                    </a:lnTo>
                    <a:lnTo>
                      <a:pt x="262" y="336"/>
                    </a:lnTo>
                    <a:lnTo>
                      <a:pt x="244" y="274"/>
                    </a:lnTo>
                    <a:lnTo>
                      <a:pt x="231" y="256"/>
                    </a:lnTo>
                    <a:lnTo>
                      <a:pt x="218" y="256"/>
                    </a:lnTo>
                    <a:lnTo>
                      <a:pt x="218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843360" y="450540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79" y="469"/>
                    </a:moveTo>
                    <a:lnTo>
                      <a:pt x="146" y="358"/>
                    </a:lnTo>
                    <a:lnTo>
                      <a:pt x="212" y="225"/>
                    </a:lnTo>
                    <a:lnTo>
                      <a:pt x="212" y="164"/>
                    </a:lnTo>
                    <a:lnTo>
                      <a:pt x="212" y="97"/>
                    </a:lnTo>
                    <a:lnTo>
                      <a:pt x="186" y="44"/>
                    </a:lnTo>
                    <a:lnTo>
                      <a:pt x="146" y="0"/>
                    </a:lnTo>
                    <a:lnTo>
                      <a:pt x="133" y="30"/>
                    </a:lnTo>
                    <a:lnTo>
                      <a:pt x="106" y="44"/>
                    </a:lnTo>
                    <a:lnTo>
                      <a:pt x="93" y="79"/>
                    </a:lnTo>
                    <a:lnTo>
                      <a:pt x="93" y="97"/>
                    </a:lnTo>
                    <a:lnTo>
                      <a:pt x="159" y="132"/>
                    </a:lnTo>
                    <a:lnTo>
                      <a:pt x="225" y="164"/>
                    </a:lnTo>
                    <a:lnTo>
                      <a:pt x="199" y="177"/>
                    </a:lnTo>
                    <a:lnTo>
                      <a:pt x="186" y="177"/>
                    </a:lnTo>
                    <a:lnTo>
                      <a:pt x="159" y="177"/>
                    </a:lnTo>
                    <a:lnTo>
                      <a:pt x="146" y="177"/>
                    </a:lnTo>
                    <a:lnTo>
                      <a:pt x="120" y="195"/>
                    </a:lnTo>
                    <a:lnTo>
                      <a:pt x="70" y="212"/>
                    </a:lnTo>
                    <a:lnTo>
                      <a:pt x="52" y="225"/>
                    </a:lnTo>
                    <a:lnTo>
                      <a:pt x="39" y="225"/>
                    </a:lnTo>
                    <a:lnTo>
                      <a:pt x="17" y="292"/>
                    </a:lnTo>
                    <a:lnTo>
                      <a:pt x="0" y="358"/>
                    </a:lnTo>
                    <a:lnTo>
                      <a:pt x="17" y="406"/>
                    </a:lnTo>
                    <a:lnTo>
                      <a:pt x="39" y="437"/>
                    </a:lnTo>
                    <a:lnTo>
                      <a:pt x="120" y="487"/>
                    </a:lnTo>
                    <a:lnTo>
                      <a:pt x="212" y="517"/>
                    </a:lnTo>
                    <a:lnTo>
                      <a:pt x="239" y="553"/>
                    </a:lnTo>
                    <a:lnTo>
                      <a:pt x="279" y="584"/>
                    </a:lnTo>
                    <a:lnTo>
                      <a:pt x="306" y="601"/>
                    </a:lnTo>
                    <a:lnTo>
                      <a:pt x="319" y="584"/>
                    </a:lnTo>
                    <a:lnTo>
                      <a:pt x="332" y="553"/>
                    </a:lnTo>
                    <a:lnTo>
                      <a:pt x="279" y="517"/>
                    </a:lnTo>
                    <a:lnTo>
                      <a:pt x="239" y="517"/>
                    </a:lnTo>
                    <a:lnTo>
                      <a:pt x="199" y="504"/>
                    </a:lnTo>
                    <a:lnTo>
                      <a:pt x="146" y="469"/>
                    </a:lnTo>
                    <a:lnTo>
                      <a:pt x="120" y="437"/>
                    </a:lnTo>
                    <a:lnTo>
                      <a:pt x="120" y="424"/>
                    </a:lnTo>
                    <a:lnTo>
                      <a:pt x="106" y="437"/>
                    </a:lnTo>
                    <a:lnTo>
                      <a:pt x="79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22760" y="495936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127" y="30"/>
                    </a:moveTo>
                    <a:lnTo>
                      <a:pt x="168" y="66"/>
                    </a:lnTo>
                    <a:lnTo>
                      <a:pt x="195" y="84"/>
                    </a:lnTo>
                    <a:lnTo>
                      <a:pt x="225" y="52"/>
                    </a:lnTo>
                    <a:lnTo>
                      <a:pt x="265" y="17"/>
                    </a:lnTo>
                    <a:lnTo>
                      <a:pt x="390" y="52"/>
                    </a:lnTo>
                    <a:lnTo>
                      <a:pt x="517" y="106"/>
                    </a:lnTo>
                    <a:lnTo>
                      <a:pt x="504" y="155"/>
                    </a:lnTo>
                    <a:lnTo>
                      <a:pt x="460" y="155"/>
                    </a:lnTo>
                    <a:lnTo>
                      <a:pt x="362" y="155"/>
                    </a:lnTo>
                    <a:lnTo>
                      <a:pt x="349" y="137"/>
                    </a:lnTo>
                    <a:lnTo>
                      <a:pt x="309" y="120"/>
                    </a:lnTo>
                    <a:lnTo>
                      <a:pt x="278" y="106"/>
                    </a:lnTo>
                    <a:lnTo>
                      <a:pt x="265" y="106"/>
                    </a:lnTo>
                    <a:lnTo>
                      <a:pt x="234" y="120"/>
                    </a:lnTo>
                    <a:lnTo>
                      <a:pt x="195" y="137"/>
                    </a:lnTo>
                    <a:lnTo>
                      <a:pt x="168" y="155"/>
                    </a:lnTo>
                    <a:lnTo>
                      <a:pt x="155" y="155"/>
                    </a:lnTo>
                    <a:lnTo>
                      <a:pt x="114" y="155"/>
                    </a:lnTo>
                    <a:lnTo>
                      <a:pt x="70" y="137"/>
                    </a:lnTo>
                    <a:lnTo>
                      <a:pt x="57" y="106"/>
                    </a:lnTo>
                    <a:lnTo>
                      <a:pt x="17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17"/>
                    </a:lnTo>
                    <a:lnTo>
                      <a:pt x="39" y="30"/>
                    </a:lnTo>
                    <a:lnTo>
                      <a:pt x="70" y="84"/>
                    </a:lnTo>
                    <a:lnTo>
                      <a:pt x="97" y="120"/>
                    </a:lnTo>
                    <a:lnTo>
                      <a:pt x="114" y="120"/>
                    </a:lnTo>
                    <a:lnTo>
                      <a:pt x="127" y="120"/>
                    </a:lnTo>
                    <a:lnTo>
                      <a:pt x="127" y="84"/>
                    </a:lnTo>
                    <a:lnTo>
                      <a:pt x="127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24200" y="426888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79" y="512"/>
                    </a:moveTo>
                    <a:lnTo>
                      <a:pt x="92" y="362"/>
                    </a:lnTo>
                    <a:lnTo>
                      <a:pt x="92" y="229"/>
                    </a:lnTo>
                    <a:lnTo>
                      <a:pt x="92" y="167"/>
                    </a:lnTo>
                    <a:lnTo>
                      <a:pt x="123" y="105"/>
                    </a:lnTo>
                    <a:lnTo>
                      <a:pt x="150" y="48"/>
                    </a:lnTo>
                    <a:lnTo>
                      <a:pt x="203" y="0"/>
                    </a:lnTo>
                    <a:lnTo>
                      <a:pt x="190" y="105"/>
                    </a:lnTo>
                    <a:lnTo>
                      <a:pt x="164" y="149"/>
                    </a:lnTo>
                    <a:lnTo>
                      <a:pt x="133" y="211"/>
                    </a:lnTo>
                    <a:lnTo>
                      <a:pt x="247" y="287"/>
                    </a:lnTo>
                    <a:lnTo>
                      <a:pt x="353" y="331"/>
                    </a:lnTo>
                    <a:lnTo>
                      <a:pt x="381" y="318"/>
                    </a:lnTo>
                    <a:lnTo>
                      <a:pt x="407" y="300"/>
                    </a:lnTo>
                    <a:lnTo>
                      <a:pt x="434" y="274"/>
                    </a:lnTo>
                    <a:lnTo>
                      <a:pt x="473" y="229"/>
                    </a:lnTo>
                    <a:lnTo>
                      <a:pt x="491" y="180"/>
                    </a:lnTo>
                    <a:lnTo>
                      <a:pt x="504" y="167"/>
                    </a:lnTo>
                    <a:lnTo>
                      <a:pt x="504" y="229"/>
                    </a:lnTo>
                    <a:lnTo>
                      <a:pt x="491" y="260"/>
                    </a:lnTo>
                    <a:lnTo>
                      <a:pt x="451" y="318"/>
                    </a:lnTo>
                    <a:lnTo>
                      <a:pt x="381" y="331"/>
                    </a:lnTo>
                    <a:lnTo>
                      <a:pt x="296" y="349"/>
                    </a:lnTo>
                    <a:lnTo>
                      <a:pt x="269" y="362"/>
                    </a:lnTo>
                    <a:lnTo>
                      <a:pt x="256" y="375"/>
                    </a:lnTo>
                    <a:lnTo>
                      <a:pt x="230" y="406"/>
                    </a:lnTo>
                    <a:lnTo>
                      <a:pt x="217" y="437"/>
                    </a:lnTo>
                    <a:lnTo>
                      <a:pt x="203" y="464"/>
                    </a:lnTo>
                    <a:lnTo>
                      <a:pt x="177" y="481"/>
                    </a:lnTo>
                    <a:lnTo>
                      <a:pt x="133" y="437"/>
                    </a:lnTo>
                    <a:lnTo>
                      <a:pt x="123" y="406"/>
                    </a:lnTo>
                    <a:lnTo>
                      <a:pt x="110" y="362"/>
                    </a:lnTo>
                    <a:lnTo>
                      <a:pt x="92" y="300"/>
                    </a:lnTo>
                    <a:lnTo>
                      <a:pt x="110" y="274"/>
                    </a:lnTo>
                    <a:lnTo>
                      <a:pt x="110" y="274"/>
                    </a:lnTo>
                    <a:lnTo>
                      <a:pt x="123" y="287"/>
                    </a:lnTo>
                    <a:lnTo>
                      <a:pt x="150" y="318"/>
                    </a:lnTo>
                    <a:lnTo>
                      <a:pt x="164" y="362"/>
                    </a:lnTo>
                    <a:lnTo>
                      <a:pt x="110" y="437"/>
                    </a:lnTo>
                    <a:lnTo>
                      <a:pt x="79" y="455"/>
                    </a:lnTo>
                    <a:lnTo>
                      <a:pt x="52" y="464"/>
                    </a:lnTo>
                    <a:lnTo>
                      <a:pt x="39" y="481"/>
                    </a:lnTo>
                    <a:lnTo>
                      <a:pt x="13" y="494"/>
                    </a:lnTo>
                    <a:lnTo>
                      <a:pt x="0" y="494"/>
                    </a:lnTo>
                    <a:lnTo>
                      <a:pt x="0" y="512"/>
                    </a:lnTo>
                    <a:lnTo>
                      <a:pt x="26" y="525"/>
                    </a:lnTo>
                    <a:lnTo>
                      <a:pt x="52" y="525"/>
                    </a:lnTo>
                    <a:lnTo>
                      <a:pt x="123" y="525"/>
                    </a:lnTo>
                    <a:lnTo>
                      <a:pt x="123" y="543"/>
                    </a:lnTo>
                    <a:lnTo>
                      <a:pt x="133" y="543"/>
                    </a:lnTo>
                    <a:lnTo>
                      <a:pt x="150" y="543"/>
                    </a:lnTo>
                    <a:lnTo>
                      <a:pt x="150" y="543"/>
                    </a:lnTo>
                    <a:lnTo>
                      <a:pt x="110" y="525"/>
                    </a:lnTo>
                    <a:lnTo>
                      <a:pt x="79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832200" y="526572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33" y="92"/>
                    </a:lnTo>
                    <a:lnTo>
                      <a:pt x="159" y="154"/>
                    </a:lnTo>
                    <a:lnTo>
                      <a:pt x="199" y="331"/>
                    </a:lnTo>
                    <a:lnTo>
                      <a:pt x="239" y="508"/>
                    </a:lnTo>
                    <a:lnTo>
                      <a:pt x="225" y="566"/>
                    </a:lnTo>
                    <a:lnTo>
                      <a:pt x="199" y="606"/>
                    </a:lnTo>
                    <a:lnTo>
                      <a:pt x="172" y="645"/>
                    </a:lnTo>
                    <a:lnTo>
                      <a:pt x="133" y="685"/>
                    </a:lnTo>
                    <a:lnTo>
                      <a:pt x="88" y="707"/>
                    </a:lnTo>
                    <a:lnTo>
                      <a:pt x="66" y="707"/>
                    </a:lnTo>
                    <a:lnTo>
                      <a:pt x="66" y="725"/>
                    </a:lnTo>
                    <a:lnTo>
                      <a:pt x="66" y="742"/>
                    </a:lnTo>
                    <a:lnTo>
                      <a:pt x="88" y="742"/>
                    </a:lnTo>
                    <a:lnTo>
                      <a:pt x="133" y="725"/>
                    </a:lnTo>
                    <a:lnTo>
                      <a:pt x="133" y="547"/>
                    </a:lnTo>
                    <a:lnTo>
                      <a:pt x="146" y="525"/>
                    </a:lnTo>
                    <a:lnTo>
                      <a:pt x="146" y="508"/>
                    </a:lnTo>
                    <a:lnTo>
                      <a:pt x="120" y="490"/>
                    </a:lnTo>
                    <a:lnTo>
                      <a:pt x="79" y="446"/>
                    </a:lnTo>
                    <a:lnTo>
                      <a:pt x="35" y="428"/>
                    </a:lnTo>
                    <a:lnTo>
                      <a:pt x="13" y="428"/>
                    </a:lnTo>
                    <a:lnTo>
                      <a:pt x="0" y="389"/>
                    </a:lnTo>
                    <a:lnTo>
                      <a:pt x="0" y="353"/>
                    </a:lnTo>
                    <a:lnTo>
                      <a:pt x="13" y="331"/>
                    </a:lnTo>
                    <a:lnTo>
                      <a:pt x="52" y="309"/>
                    </a:lnTo>
                    <a:lnTo>
                      <a:pt x="79" y="331"/>
                    </a:lnTo>
                    <a:lnTo>
                      <a:pt x="88" y="371"/>
                    </a:lnTo>
                    <a:lnTo>
                      <a:pt x="120" y="428"/>
                    </a:lnTo>
                    <a:lnTo>
                      <a:pt x="159" y="371"/>
                    </a:lnTo>
                    <a:lnTo>
                      <a:pt x="172" y="353"/>
                    </a:lnTo>
                    <a:lnTo>
                      <a:pt x="146" y="309"/>
                    </a:lnTo>
                    <a:lnTo>
                      <a:pt x="105" y="274"/>
                    </a:lnTo>
                    <a:lnTo>
                      <a:pt x="88" y="252"/>
                    </a:lnTo>
                    <a:lnTo>
                      <a:pt x="79" y="234"/>
                    </a:lnTo>
                    <a:lnTo>
                      <a:pt x="22" y="0"/>
                    </a:lnTo>
                    <a:lnTo>
                      <a:pt x="35" y="35"/>
                    </a:lnTo>
                    <a:lnTo>
                      <a:pt x="79" y="74"/>
                    </a:lnTo>
                    <a:lnTo>
                      <a:pt x="105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89200" y="557856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124" y="145"/>
                    </a:lnTo>
                    <a:lnTo>
                      <a:pt x="142" y="185"/>
                    </a:lnTo>
                    <a:lnTo>
                      <a:pt x="150" y="229"/>
                    </a:lnTo>
                    <a:lnTo>
                      <a:pt x="168" y="287"/>
                    </a:lnTo>
                    <a:lnTo>
                      <a:pt x="177" y="331"/>
                    </a:lnTo>
                    <a:lnTo>
                      <a:pt x="195" y="371"/>
                    </a:lnTo>
                    <a:lnTo>
                      <a:pt x="195" y="371"/>
                    </a:lnTo>
                    <a:lnTo>
                      <a:pt x="168" y="433"/>
                    </a:lnTo>
                    <a:lnTo>
                      <a:pt x="142" y="499"/>
                    </a:lnTo>
                    <a:lnTo>
                      <a:pt x="52" y="561"/>
                    </a:lnTo>
                    <a:lnTo>
                      <a:pt x="83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70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83" y="314"/>
                    </a:lnTo>
                    <a:lnTo>
                      <a:pt x="52" y="287"/>
                    </a:lnTo>
                    <a:lnTo>
                      <a:pt x="26" y="246"/>
                    </a:lnTo>
                    <a:lnTo>
                      <a:pt x="0" y="202"/>
                    </a:lnTo>
                    <a:lnTo>
                      <a:pt x="0" y="185"/>
                    </a:lnTo>
                    <a:lnTo>
                      <a:pt x="0" y="145"/>
                    </a:lnTo>
                    <a:lnTo>
                      <a:pt x="13" y="83"/>
                    </a:lnTo>
                    <a:lnTo>
                      <a:pt x="52" y="22"/>
                    </a:lnTo>
                    <a:lnTo>
                      <a:pt x="83" y="0"/>
                    </a:lnTo>
                    <a:lnTo>
                      <a:pt x="83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27560" y="487692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423" y="145"/>
                    </a:moveTo>
                    <a:lnTo>
                      <a:pt x="449" y="286"/>
                    </a:lnTo>
                    <a:lnTo>
                      <a:pt x="480" y="358"/>
                    </a:lnTo>
                    <a:lnTo>
                      <a:pt x="530" y="411"/>
                    </a:lnTo>
                    <a:lnTo>
                      <a:pt x="587" y="393"/>
                    </a:lnTo>
                    <a:lnTo>
                      <a:pt x="618" y="375"/>
                    </a:lnTo>
                    <a:lnTo>
                      <a:pt x="662" y="375"/>
                    </a:lnTo>
                    <a:lnTo>
                      <a:pt x="724" y="393"/>
                    </a:lnTo>
                    <a:lnTo>
                      <a:pt x="781" y="446"/>
                    </a:lnTo>
                    <a:lnTo>
                      <a:pt x="856" y="464"/>
                    </a:lnTo>
                    <a:lnTo>
                      <a:pt x="993" y="538"/>
                    </a:lnTo>
                    <a:lnTo>
                      <a:pt x="993" y="574"/>
                    </a:lnTo>
                    <a:lnTo>
                      <a:pt x="979" y="605"/>
                    </a:lnTo>
                    <a:lnTo>
                      <a:pt x="918" y="627"/>
                    </a:lnTo>
                    <a:lnTo>
                      <a:pt x="843" y="605"/>
                    </a:lnTo>
                    <a:lnTo>
                      <a:pt x="781" y="591"/>
                    </a:lnTo>
                    <a:lnTo>
                      <a:pt x="631" y="538"/>
                    </a:lnTo>
                    <a:lnTo>
                      <a:pt x="499" y="464"/>
                    </a:lnTo>
                    <a:lnTo>
                      <a:pt x="449" y="464"/>
                    </a:lnTo>
                    <a:lnTo>
                      <a:pt x="405" y="486"/>
                    </a:lnTo>
                    <a:lnTo>
                      <a:pt x="361" y="499"/>
                    </a:lnTo>
                    <a:lnTo>
                      <a:pt x="330" y="538"/>
                    </a:lnTo>
                    <a:lnTo>
                      <a:pt x="273" y="574"/>
                    </a:lnTo>
                    <a:lnTo>
                      <a:pt x="255" y="538"/>
                    </a:lnTo>
                    <a:lnTo>
                      <a:pt x="242" y="516"/>
                    </a:lnTo>
                    <a:lnTo>
                      <a:pt x="211" y="516"/>
                    </a:lnTo>
                    <a:lnTo>
                      <a:pt x="167" y="516"/>
                    </a:lnTo>
                    <a:lnTo>
                      <a:pt x="136" y="516"/>
                    </a:lnTo>
                    <a:lnTo>
                      <a:pt x="105" y="486"/>
                    </a:lnTo>
                    <a:lnTo>
                      <a:pt x="74" y="411"/>
                    </a:lnTo>
                    <a:lnTo>
                      <a:pt x="44" y="318"/>
                    </a:lnTo>
                    <a:lnTo>
                      <a:pt x="17" y="233"/>
                    </a:lnTo>
                    <a:lnTo>
                      <a:pt x="0" y="198"/>
                    </a:lnTo>
                    <a:lnTo>
                      <a:pt x="0" y="176"/>
                    </a:lnTo>
                    <a:lnTo>
                      <a:pt x="44" y="158"/>
                    </a:lnTo>
                    <a:lnTo>
                      <a:pt x="105" y="145"/>
                    </a:lnTo>
                    <a:lnTo>
                      <a:pt x="167" y="123"/>
                    </a:lnTo>
                    <a:lnTo>
                      <a:pt x="198" y="123"/>
                    </a:lnTo>
                    <a:lnTo>
                      <a:pt x="224" y="105"/>
                    </a:lnTo>
                    <a:lnTo>
                      <a:pt x="273" y="92"/>
                    </a:lnTo>
                    <a:lnTo>
                      <a:pt x="273" y="52"/>
                    </a:lnTo>
                    <a:lnTo>
                      <a:pt x="286" y="17"/>
                    </a:lnTo>
                    <a:lnTo>
                      <a:pt x="348" y="0"/>
                    </a:lnTo>
                    <a:lnTo>
                      <a:pt x="423" y="0"/>
                    </a:lnTo>
                    <a:lnTo>
                      <a:pt x="480" y="0"/>
                    </a:lnTo>
                    <a:lnTo>
                      <a:pt x="467" y="35"/>
                    </a:lnTo>
                    <a:lnTo>
                      <a:pt x="467" y="52"/>
                    </a:lnTo>
                    <a:lnTo>
                      <a:pt x="423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952880" y="4038480"/>
              <a:ext cx="508680" cy="1283400"/>
              <a:chOff x="4952880" y="4038480"/>
              <a:chExt cx="508680" cy="1283400"/>
            </a:xfrm>
          </p:grpSpPr>
          <p:sp>
            <p:nvSpPr>
              <p:cNvPr id="976" name=""/>
              <p:cNvSpPr/>
              <p:nvPr/>
            </p:nvSpPr>
            <p:spPr>
              <a:xfrm>
                <a:off x="5221440" y="41133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52880" y="42400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03640" y="46069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97520" y="40384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95720" y="48816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243400" y="51483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110200" y="45370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3351240" y="3811680"/>
              <a:ext cx="535320" cy="1511640"/>
              <a:chOff x="3351240" y="3811680"/>
              <a:chExt cx="535320" cy="1511640"/>
            </a:xfrm>
          </p:grpSpPr>
          <p:sp>
            <p:nvSpPr>
              <p:cNvPr id="984" name=""/>
              <p:cNvSpPr/>
              <p:nvPr/>
            </p:nvSpPr>
            <p:spPr>
              <a:xfrm>
                <a:off x="3500280" y="389556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218" y="243"/>
                    </a:moveTo>
                    <a:lnTo>
                      <a:pt x="218" y="167"/>
                    </a:lnTo>
                    <a:lnTo>
                      <a:pt x="186" y="92"/>
                    </a:lnTo>
                    <a:lnTo>
                      <a:pt x="128" y="48"/>
                    </a:lnTo>
                    <a:lnTo>
                      <a:pt x="71" y="0"/>
                    </a:lnTo>
                    <a:lnTo>
                      <a:pt x="39" y="30"/>
                    </a:lnTo>
                    <a:lnTo>
                      <a:pt x="0" y="7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6" y="110"/>
                    </a:lnTo>
                    <a:lnTo>
                      <a:pt x="84" y="154"/>
                    </a:lnTo>
                    <a:lnTo>
                      <a:pt x="142" y="217"/>
                    </a:lnTo>
                    <a:lnTo>
                      <a:pt x="155" y="287"/>
                    </a:lnTo>
                    <a:lnTo>
                      <a:pt x="155" y="318"/>
                    </a:lnTo>
                    <a:lnTo>
                      <a:pt x="172" y="349"/>
                    </a:lnTo>
                    <a:lnTo>
                      <a:pt x="186" y="380"/>
                    </a:lnTo>
                    <a:lnTo>
                      <a:pt x="218" y="393"/>
                    </a:lnTo>
                    <a:lnTo>
                      <a:pt x="231" y="411"/>
                    </a:lnTo>
                    <a:lnTo>
                      <a:pt x="244" y="411"/>
                    </a:lnTo>
                    <a:lnTo>
                      <a:pt x="270" y="380"/>
                    </a:lnTo>
                    <a:lnTo>
                      <a:pt x="270" y="349"/>
                    </a:lnTo>
                    <a:lnTo>
                      <a:pt x="262" y="336"/>
                    </a:lnTo>
                    <a:lnTo>
                      <a:pt x="244" y="274"/>
                    </a:lnTo>
                    <a:lnTo>
                      <a:pt x="231" y="256"/>
                    </a:lnTo>
                    <a:lnTo>
                      <a:pt x="218" y="256"/>
                    </a:lnTo>
                    <a:lnTo>
                      <a:pt x="218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67040" y="404820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79" y="469"/>
                    </a:moveTo>
                    <a:lnTo>
                      <a:pt x="146" y="358"/>
                    </a:lnTo>
                    <a:lnTo>
                      <a:pt x="212" y="225"/>
                    </a:lnTo>
                    <a:lnTo>
                      <a:pt x="212" y="164"/>
                    </a:lnTo>
                    <a:lnTo>
                      <a:pt x="212" y="97"/>
                    </a:lnTo>
                    <a:lnTo>
                      <a:pt x="186" y="44"/>
                    </a:lnTo>
                    <a:lnTo>
                      <a:pt x="146" y="0"/>
                    </a:lnTo>
                    <a:lnTo>
                      <a:pt x="133" y="30"/>
                    </a:lnTo>
                    <a:lnTo>
                      <a:pt x="106" y="44"/>
                    </a:lnTo>
                    <a:lnTo>
                      <a:pt x="93" y="79"/>
                    </a:lnTo>
                    <a:lnTo>
                      <a:pt x="93" y="97"/>
                    </a:lnTo>
                    <a:lnTo>
                      <a:pt x="159" y="132"/>
                    </a:lnTo>
                    <a:lnTo>
                      <a:pt x="225" y="164"/>
                    </a:lnTo>
                    <a:lnTo>
                      <a:pt x="199" y="177"/>
                    </a:lnTo>
                    <a:lnTo>
                      <a:pt x="186" y="177"/>
                    </a:lnTo>
                    <a:lnTo>
                      <a:pt x="159" y="177"/>
                    </a:lnTo>
                    <a:lnTo>
                      <a:pt x="146" y="177"/>
                    </a:lnTo>
                    <a:lnTo>
                      <a:pt x="120" y="195"/>
                    </a:lnTo>
                    <a:lnTo>
                      <a:pt x="70" y="212"/>
                    </a:lnTo>
                    <a:lnTo>
                      <a:pt x="52" y="225"/>
                    </a:lnTo>
                    <a:lnTo>
                      <a:pt x="39" y="225"/>
                    </a:lnTo>
                    <a:lnTo>
                      <a:pt x="17" y="292"/>
                    </a:lnTo>
                    <a:lnTo>
                      <a:pt x="0" y="358"/>
                    </a:lnTo>
                    <a:lnTo>
                      <a:pt x="17" y="406"/>
                    </a:lnTo>
                    <a:lnTo>
                      <a:pt x="39" y="437"/>
                    </a:lnTo>
                    <a:lnTo>
                      <a:pt x="120" y="487"/>
                    </a:lnTo>
                    <a:lnTo>
                      <a:pt x="212" y="517"/>
                    </a:lnTo>
                    <a:lnTo>
                      <a:pt x="239" y="553"/>
                    </a:lnTo>
                    <a:lnTo>
                      <a:pt x="279" y="584"/>
                    </a:lnTo>
                    <a:lnTo>
                      <a:pt x="306" y="601"/>
                    </a:lnTo>
                    <a:lnTo>
                      <a:pt x="319" y="584"/>
                    </a:lnTo>
                    <a:lnTo>
                      <a:pt x="332" y="553"/>
                    </a:lnTo>
                    <a:lnTo>
                      <a:pt x="279" y="517"/>
                    </a:lnTo>
                    <a:lnTo>
                      <a:pt x="239" y="517"/>
                    </a:lnTo>
                    <a:lnTo>
                      <a:pt x="199" y="504"/>
                    </a:lnTo>
                    <a:lnTo>
                      <a:pt x="146" y="469"/>
                    </a:lnTo>
                    <a:lnTo>
                      <a:pt x="120" y="437"/>
                    </a:lnTo>
                    <a:lnTo>
                      <a:pt x="120" y="424"/>
                    </a:lnTo>
                    <a:lnTo>
                      <a:pt x="106" y="437"/>
                    </a:lnTo>
                    <a:lnTo>
                      <a:pt x="79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46440" y="450216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127" y="30"/>
                    </a:moveTo>
                    <a:lnTo>
                      <a:pt x="168" y="66"/>
                    </a:lnTo>
                    <a:lnTo>
                      <a:pt x="195" y="84"/>
                    </a:lnTo>
                    <a:lnTo>
                      <a:pt x="225" y="52"/>
                    </a:lnTo>
                    <a:lnTo>
                      <a:pt x="265" y="17"/>
                    </a:lnTo>
                    <a:lnTo>
                      <a:pt x="390" y="52"/>
                    </a:lnTo>
                    <a:lnTo>
                      <a:pt x="517" y="106"/>
                    </a:lnTo>
                    <a:lnTo>
                      <a:pt x="504" y="155"/>
                    </a:lnTo>
                    <a:lnTo>
                      <a:pt x="460" y="155"/>
                    </a:lnTo>
                    <a:lnTo>
                      <a:pt x="362" y="155"/>
                    </a:lnTo>
                    <a:lnTo>
                      <a:pt x="349" y="137"/>
                    </a:lnTo>
                    <a:lnTo>
                      <a:pt x="309" y="120"/>
                    </a:lnTo>
                    <a:lnTo>
                      <a:pt x="278" y="106"/>
                    </a:lnTo>
                    <a:lnTo>
                      <a:pt x="265" y="106"/>
                    </a:lnTo>
                    <a:lnTo>
                      <a:pt x="234" y="120"/>
                    </a:lnTo>
                    <a:lnTo>
                      <a:pt x="195" y="137"/>
                    </a:lnTo>
                    <a:lnTo>
                      <a:pt x="168" y="155"/>
                    </a:lnTo>
                    <a:lnTo>
                      <a:pt x="155" y="155"/>
                    </a:lnTo>
                    <a:lnTo>
                      <a:pt x="114" y="155"/>
                    </a:lnTo>
                    <a:lnTo>
                      <a:pt x="70" y="137"/>
                    </a:lnTo>
                    <a:lnTo>
                      <a:pt x="57" y="106"/>
                    </a:lnTo>
                    <a:lnTo>
                      <a:pt x="17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17"/>
                    </a:lnTo>
                    <a:lnTo>
                      <a:pt x="39" y="30"/>
                    </a:lnTo>
                    <a:lnTo>
                      <a:pt x="70" y="84"/>
                    </a:lnTo>
                    <a:lnTo>
                      <a:pt x="97" y="120"/>
                    </a:lnTo>
                    <a:lnTo>
                      <a:pt x="114" y="120"/>
                    </a:lnTo>
                    <a:lnTo>
                      <a:pt x="127" y="120"/>
                    </a:lnTo>
                    <a:lnTo>
                      <a:pt x="127" y="84"/>
                    </a:lnTo>
                    <a:lnTo>
                      <a:pt x="127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648240" y="381168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79" y="512"/>
                    </a:moveTo>
                    <a:lnTo>
                      <a:pt x="92" y="362"/>
                    </a:lnTo>
                    <a:lnTo>
                      <a:pt x="92" y="229"/>
                    </a:lnTo>
                    <a:lnTo>
                      <a:pt x="92" y="167"/>
                    </a:lnTo>
                    <a:lnTo>
                      <a:pt x="123" y="105"/>
                    </a:lnTo>
                    <a:lnTo>
                      <a:pt x="150" y="48"/>
                    </a:lnTo>
                    <a:lnTo>
                      <a:pt x="203" y="0"/>
                    </a:lnTo>
                    <a:lnTo>
                      <a:pt x="190" y="105"/>
                    </a:lnTo>
                    <a:lnTo>
                      <a:pt x="164" y="149"/>
                    </a:lnTo>
                    <a:lnTo>
                      <a:pt x="133" y="211"/>
                    </a:lnTo>
                    <a:lnTo>
                      <a:pt x="247" y="287"/>
                    </a:lnTo>
                    <a:lnTo>
                      <a:pt x="353" y="331"/>
                    </a:lnTo>
                    <a:lnTo>
                      <a:pt x="381" y="318"/>
                    </a:lnTo>
                    <a:lnTo>
                      <a:pt x="407" y="300"/>
                    </a:lnTo>
                    <a:lnTo>
                      <a:pt x="434" y="274"/>
                    </a:lnTo>
                    <a:lnTo>
                      <a:pt x="473" y="229"/>
                    </a:lnTo>
                    <a:lnTo>
                      <a:pt x="491" y="180"/>
                    </a:lnTo>
                    <a:lnTo>
                      <a:pt x="504" y="167"/>
                    </a:lnTo>
                    <a:lnTo>
                      <a:pt x="504" y="229"/>
                    </a:lnTo>
                    <a:lnTo>
                      <a:pt x="491" y="260"/>
                    </a:lnTo>
                    <a:lnTo>
                      <a:pt x="451" y="318"/>
                    </a:lnTo>
                    <a:lnTo>
                      <a:pt x="381" y="331"/>
                    </a:lnTo>
                    <a:lnTo>
                      <a:pt x="296" y="349"/>
                    </a:lnTo>
                    <a:lnTo>
                      <a:pt x="269" y="362"/>
                    </a:lnTo>
                    <a:lnTo>
                      <a:pt x="256" y="375"/>
                    </a:lnTo>
                    <a:lnTo>
                      <a:pt x="230" y="406"/>
                    </a:lnTo>
                    <a:lnTo>
                      <a:pt x="217" y="437"/>
                    </a:lnTo>
                    <a:lnTo>
                      <a:pt x="203" y="464"/>
                    </a:lnTo>
                    <a:lnTo>
                      <a:pt x="177" y="481"/>
                    </a:lnTo>
                    <a:lnTo>
                      <a:pt x="133" y="437"/>
                    </a:lnTo>
                    <a:lnTo>
                      <a:pt x="123" y="406"/>
                    </a:lnTo>
                    <a:lnTo>
                      <a:pt x="110" y="362"/>
                    </a:lnTo>
                    <a:lnTo>
                      <a:pt x="92" y="300"/>
                    </a:lnTo>
                    <a:lnTo>
                      <a:pt x="110" y="274"/>
                    </a:lnTo>
                    <a:lnTo>
                      <a:pt x="110" y="274"/>
                    </a:lnTo>
                    <a:lnTo>
                      <a:pt x="123" y="287"/>
                    </a:lnTo>
                    <a:lnTo>
                      <a:pt x="150" y="318"/>
                    </a:lnTo>
                    <a:lnTo>
                      <a:pt x="164" y="362"/>
                    </a:lnTo>
                    <a:lnTo>
                      <a:pt x="110" y="437"/>
                    </a:lnTo>
                    <a:lnTo>
                      <a:pt x="79" y="455"/>
                    </a:lnTo>
                    <a:lnTo>
                      <a:pt x="52" y="464"/>
                    </a:lnTo>
                    <a:lnTo>
                      <a:pt x="39" y="481"/>
                    </a:lnTo>
                    <a:lnTo>
                      <a:pt x="13" y="494"/>
                    </a:lnTo>
                    <a:lnTo>
                      <a:pt x="0" y="494"/>
                    </a:lnTo>
                    <a:lnTo>
                      <a:pt x="0" y="512"/>
                    </a:lnTo>
                    <a:lnTo>
                      <a:pt x="26" y="525"/>
                    </a:lnTo>
                    <a:lnTo>
                      <a:pt x="52" y="525"/>
                    </a:lnTo>
                    <a:lnTo>
                      <a:pt x="123" y="525"/>
                    </a:lnTo>
                    <a:lnTo>
                      <a:pt x="123" y="543"/>
                    </a:lnTo>
                    <a:lnTo>
                      <a:pt x="133" y="543"/>
                    </a:lnTo>
                    <a:lnTo>
                      <a:pt x="150" y="543"/>
                    </a:lnTo>
                    <a:lnTo>
                      <a:pt x="150" y="543"/>
                    </a:lnTo>
                    <a:lnTo>
                      <a:pt x="110" y="525"/>
                    </a:lnTo>
                    <a:lnTo>
                      <a:pt x="79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755880" y="480852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33" y="92"/>
                    </a:lnTo>
                    <a:lnTo>
                      <a:pt x="159" y="154"/>
                    </a:lnTo>
                    <a:lnTo>
                      <a:pt x="199" y="331"/>
                    </a:lnTo>
                    <a:lnTo>
                      <a:pt x="239" y="508"/>
                    </a:lnTo>
                    <a:lnTo>
                      <a:pt x="225" y="566"/>
                    </a:lnTo>
                    <a:lnTo>
                      <a:pt x="199" y="606"/>
                    </a:lnTo>
                    <a:lnTo>
                      <a:pt x="172" y="645"/>
                    </a:lnTo>
                    <a:lnTo>
                      <a:pt x="133" y="685"/>
                    </a:lnTo>
                    <a:lnTo>
                      <a:pt x="88" y="707"/>
                    </a:lnTo>
                    <a:lnTo>
                      <a:pt x="66" y="707"/>
                    </a:lnTo>
                    <a:lnTo>
                      <a:pt x="66" y="725"/>
                    </a:lnTo>
                    <a:lnTo>
                      <a:pt x="66" y="742"/>
                    </a:lnTo>
                    <a:lnTo>
                      <a:pt x="88" y="742"/>
                    </a:lnTo>
                    <a:lnTo>
                      <a:pt x="133" y="725"/>
                    </a:lnTo>
                    <a:lnTo>
                      <a:pt x="133" y="547"/>
                    </a:lnTo>
                    <a:lnTo>
                      <a:pt x="146" y="525"/>
                    </a:lnTo>
                    <a:lnTo>
                      <a:pt x="146" y="508"/>
                    </a:lnTo>
                    <a:lnTo>
                      <a:pt x="120" y="490"/>
                    </a:lnTo>
                    <a:lnTo>
                      <a:pt x="79" y="446"/>
                    </a:lnTo>
                    <a:lnTo>
                      <a:pt x="35" y="428"/>
                    </a:lnTo>
                    <a:lnTo>
                      <a:pt x="13" y="428"/>
                    </a:lnTo>
                    <a:lnTo>
                      <a:pt x="0" y="389"/>
                    </a:lnTo>
                    <a:lnTo>
                      <a:pt x="0" y="353"/>
                    </a:lnTo>
                    <a:lnTo>
                      <a:pt x="13" y="331"/>
                    </a:lnTo>
                    <a:lnTo>
                      <a:pt x="52" y="309"/>
                    </a:lnTo>
                    <a:lnTo>
                      <a:pt x="79" y="331"/>
                    </a:lnTo>
                    <a:lnTo>
                      <a:pt x="88" y="371"/>
                    </a:lnTo>
                    <a:lnTo>
                      <a:pt x="120" y="428"/>
                    </a:lnTo>
                    <a:lnTo>
                      <a:pt x="159" y="371"/>
                    </a:lnTo>
                    <a:lnTo>
                      <a:pt x="172" y="353"/>
                    </a:lnTo>
                    <a:lnTo>
                      <a:pt x="146" y="309"/>
                    </a:lnTo>
                    <a:lnTo>
                      <a:pt x="105" y="274"/>
                    </a:lnTo>
                    <a:lnTo>
                      <a:pt x="88" y="252"/>
                    </a:lnTo>
                    <a:lnTo>
                      <a:pt x="79" y="234"/>
                    </a:lnTo>
                    <a:lnTo>
                      <a:pt x="22" y="0"/>
                    </a:lnTo>
                    <a:lnTo>
                      <a:pt x="35" y="35"/>
                    </a:lnTo>
                    <a:lnTo>
                      <a:pt x="79" y="74"/>
                    </a:lnTo>
                    <a:lnTo>
                      <a:pt x="105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13240" y="512136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124" y="145"/>
                    </a:lnTo>
                    <a:lnTo>
                      <a:pt x="142" y="185"/>
                    </a:lnTo>
                    <a:lnTo>
                      <a:pt x="150" y="229"/>
                    </a:lnTo>
                    <a:lnTo>
                      <a:pt x="168" y="287"/>
                    </a:lnTo>
                    <a:lnTo>
                      <a:pt x="177" y="331"/>
                    </a:lnTo>
                    <a:lnTo>
                      <a:pt x="195" y="371"/>
                    </a:lnTo>
                    <a:lnTo>
                      <a:pt x="195" y="371"/>
                    </a:lnTo>
                    <a:lnTo>
                      <a:pt x="168" y="433"/>
                    </a:lnTo>
                    <a:lnTo>
                      <a:pt x="142" y="499"/>
                    </a:lnTo>
                    <a:lnTo>
                      <a:pt x="52" y="561"/>
                    </a:lnTo>
                    <a:lnTo>
                      <a:pt x="83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70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83" y="314"/>
                    </a:lnTo>
                    <a:lnTo>
                      <a:pt x="52" y="287"/>
                    </a:lnTo>
                    <a:lnTo>
                      <a:pt x="26" y="246"/>
                    </a:lnTo>
                    <a:lnTo>
                      <a:pt x="0" y="202"/>
                    </a:lnTo>
                    <a:lnTo>
                      <a:pt x="0" y="185"/>
                    </a:lnTo>
                    <a:lnTo>
                      <a:pt x="0" y="145"/>
                    </a:lnTo>
                    <a:lnTo>
                      <a:pt x="13" y="83"/>
                    </a:lnTo>
                    <a:lnTo>
                      <a:pt x="52" y="22"/>
                    </a:lnTo>
                    <a:lnTo>
                      <a:pt x="83" y="0"/>
                    </a:lnTo>
                    <a:lnTo>
                      <a:pt x="83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51240" y="441972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423" y="145"/>
                    </a:moveTo>
                    <a:lnTo>
                      <a:pt x="449" y="286"/>
                    </a:lnTo>
                    <a:lnTo>
                      <a:pt x="480" y="358"/>
                    </a:lnTo>
                    <a:lnTo>
                      <a:pt x="530" y="411"/>
                    </a:lnTo>
                    <a:lnTo>
                      <a:pt x="587" y="393"/>
                    </a:lnTo>
                    <a:lnTo>
                      <a:pt x="618" y="375"/>
                    </a:lnTo>
                    <a:lnTo>
                      <a:pt x="662" y="375"/>
                    </a:lnTo>
                    <a:lnTo>
                      <a:pt x="724" y="393"/>
                    </a:lnTo>
                    <a:lnTo>
                      <a:pt x="781" y="446"/>
                    </a:lnTo>
                    <a:lnTo>
                      <a:pt x="856" y="464"/>
                    </a:lnTo>
                    <a:lnTo>
                      <a:pt x="993" y="538"/>
                    </a:lnTo>
                    <a:lnTo>
                      <a:pt x="993" y="574"/>
                    </a:lnTo>
                    <a:lnTo>
                      <a:pt x="979" y="605"/>
                    </a:lnTo>
                    <a:lnTo>
                      <a:pt x="918" y="627"/>
                    </a:lnTo>
                    <a:lnTo>
                      <a:pt x="843" y="605"/>
                    </a:lnTo>
                    <a:lnTo>
                      <a:pt x="781" y="591"/>
                    </a:lnTo>
                    <a:lnTo>
                      <a:pt x="631" y="538"/>
                    </a:lnTo>
                    <a:lnTo>
                      <a:pt x="499" y="464"/>
                    </a:lnTo>
                    <a:lnTo>
                      <a:pt x="449" y="464"/>
                    </a:lnTo>
                    <a:lnTo>
                      <a:pt x="405" y="486"/>
                    </a:lnTo>
                    <a:lnTo>
                      <a:pt x="361" y="499"/>
                    </a:lnTo>
                    <a:lnTo>
                      <a:pt x="330" y="538"/>
                    </a:lnTo>
                    <a:lnTo>
                      <a:pt x="273" y="574"/>
                    </a:lnTo>
                    <a:lnTo>
                      <a:pt x="255" y="538"/>
                    </a:lnTo>
                    <a:lnTo>
                      <a:pt x="242" y="516"/>
                    </a:lnTo>
                    <a:lnTo>
                      <a:pt x="211" y="516"/>
                    </a:lnTo>
                    <a:lnTo>
                      <a:pt x="167" y="516"/>
                    </a:lnTo>
                    <a:lnTo>
                      <a:pt x="136" y="516"/>
                    </a:lnTo>
                    <a:lnTo>
                      <a:pt x="105" y="486"/>
                    </a:lnTo>
                    <a:lnTo>
                      <a:pt x="74" y="411"/>
                    </a:lnTo>
                    <a:lnTo>
                      <a:pt x="44" y="318"/>
                    </a:lnTo>
                    <a:lnTo>
                      <a:pt x="17" y="233"/>
                    </a:lnTo>
                    <a:lnTo>
                      <a:pt x="0" y="198"/>
                    </a:lnTo>
                    <a:lnTo>
                      <a:pt x="0" y="176"/>
                    </a:lnTo>
                    <a:lnTo>
                      <a:pt x="44" y="158"/>
                    </a:lnTo>
                    <a:lnTo>
                      <a:pt x="105" y="145"/>
                    </a:lnTo>
                    <a:lnTo>
                      <a:pt x="167" y="123"/>
                    </a:lnTo>
                    <a:lnTo>
                      <a:pt x="198" y="123"/>
                    </a:lnTo>
                    <a:lnTo>
                      <a:pt x="224" y="105"/>
                    </a:lnTo>
                    <a:lnTo>
                      <a:pt x="273" y="92"/>
                    </a:lnTo>
                    <a:lnTo>
                      <a:pt x="273" y="52"/>
                    </a:lnTo>
                    <a:lnTo>
                      <a:pt x="286" y="17"/>
                    </a:lnTo>
                    <a:lnTo>
                      <a:pt x="348" y="0"/>
                    </a:lnTo>
                    <a:lnTo>
                      <a:pt x="423" y="0"/>
                    </a:lnTo>
                    <a:lnTo>
                      <a:pt x="480" y="0"/>
                    </a:lnTo>
                    <a:lnTo>
                      <a:pt x="467" y="35"/>
                    </a:lnTo>
                    <a:lnTo>
                      <a:pt x="467" y="52"/>
                    </a:lnTo>
                    <a:lnTo>
                      <a:pt x="423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013360" y="3735360"/>
              <a:ext cx="535320" cy="1511640"/>
              <a:chOff x="5013360" y="3735360"/>
              <a:chExt cx="535320" cy="1511640"/>
            </a:xfrm>
          </p:grpSpPr>
          <p:sp>
            <p:nvSpPr>
              <p:cNvPr id="992" name=""/>
              <p:cNvSpPr/>
              <p:nvPr/>
            </p:nvSpPr>
            <p:spPr>
              <a:xfrm>
                <a:off x="5302080" y="381960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52" y="243"/>
                    </a:moveTo>
                    <a:lnTo>
                      <a:pt x="52" y="167"/>
                    </a:lnTo>
                    <a:lnTo>
                      <a:pt x="84" y="92"/>
                    </a:lnTo>
                    <a:lnTo>
                      <a:pt x="142" y="48"/>
                    </a:lnTo>
                    <a:lnTo>
                      <a:pt x="199" y="0"/>
                    </a:lnTo>
                    <a:lnTo>
                      <a:pt x="231" y="30"/>
                    </a:lnTo>
                    <a:lnTo>
                      <a:pt x="270" y="79"/>
                    </a:lnTo>
                    <a:lnTo>
                      <a:pt x="270" y="110"/>
                    </a:lnTo>
                    <a:lnTo>
                      <a:pt x="270" y="110"/>
                    </a:lnTo>
                    <a:lnTo>
                      <a:pt x="244" y="110"/>
                    </a:lnTo>
                    <a:lnTo>
                      <a:pt x="186" y="154"/>
                    </a:lnTo>
                    <a:lnTo>
                      <a:pt x="128" y="217"/>
                    </a:lnTo>
                    <a:lnTo>
                      <a:pt x="115" y="287"/>
                    </a:lnTo>
                    <a:lnTo>
                      <a:pt x="115" y="318"/>
                    </a:lnTo>
                    <a:lnTo>
                      <a:pt x="98" y="349"/>
                    </a:lnTo>
                    <a:lnTo>
                      <a:pt x="84" y="380"/>
                    </a:lnTo>
                    <a:lnTo>
                      <a:pt x="52" y="393"/>
                    </a:lnTo>
                    <a:lnTo>
                      <a:pt x="39" y="411"/>
                    </a:lnTo>
                    <a:lnTo>
                      <a:pt x="26" y="411"/>
                    </a:lnTo>
                    <a:lnTo>
                      <a:pt x="0" y="380"/>
                    </a:lnTo>
                    <a:lnTo>
                      <a:pt x="0" y="349"/>
                    </a:lnTo>
                    <a:lnTo>
                      <a:pt x="8" y="336"/>
                    </a:lnTo>
                    <a:lnTo>
                      <a:pt x="26" y="274"/>
                    </a:lnTo>
                    <a:lnTo>
                      <a:pt x="39" y="256"/>
                    </a:lnTo>
                    <a:lnTo>
                      <a:pt x="52" y="256"/>
                    </a:lnTo>
                    <a:lnTo>
                      <a:pt x="52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013360" y="397188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253" y="469"/>
                    </a:moveTo>
                    <a:lnTo>
                      <a:pt x="186" y="358"/>
                    </a:lnTo>
                    <a:lnTo>
                      <a:pt x="120" y="225"/>
                    </a:lnTo>
                    <a:lnTo>
                      <a:pt x="120" y="164"/>
                    </a:lnTo>
                    <a:lnTo>
                      <a:pt x="120" y="97"/>
                    </a:lnTo>
                    <a:lnTo>
                      <a:pt x="146" y="44"/>
                    </a:lnTo>
                    <a:lnTo>
                      <a:pt x="186" y="0"/>
                    </a:lnTo>
                    <a:lnTo>
                      <a:pt x="199" y="30"/>
                    </a:lnTo>
                    <a:lnTo>
                      <a:pt x="225" y="44"/>
                    </a:lnTo>
                    <a:lnTo>
                      <a:pt x="239" y="79"/>
                    </a:lnTo>
                    <a:lnTo>
                      <a:pt x="239" y="97"/>
                    </a:lnTo>
                    <a:lnTo>
                      <a:pt x="172" y="132"/>
                    </a:lnTo>
                    <a:lnTo>
                      <a:pt x="106" y="164"/>
                    </a:lnTo>
                    <a:lnTo>
                      <a:pt x="133" y="177"/>
                    </a:lnTo>
                    <a:lnTo>
                      <a:pt x="146" y="177"/>
                    </a:lnTo>
                    <a:lnTo>
                      <a:pt x="172" y="177"/>
                    </a:lnTo>
                    <a:lnTo>
                      <a:pt x="186" y="177"/>
                    </a:lnTo>
                    <a:lnTo>
                      <a:pt x="212" y="195"/>
                    </a:lnTo>
                    <a:lnTo>
                      <a:pt x="262" y="212"/>
                    </a:lnTo>
                    <a:lnTo>
                      <a:pt x="279" y="225"/>
                    </a:lnTo>
                    <a:lnTo>
                      <a:pt x="293" y="225"/>
                    </a:lnTo>
                    <a:lnTo>
                      <a:pt x="315" y="292"/>
                    </a:lnTo>
                    <a:lnTo>
                      <a:pt x="332" y="358"/>
                    </a:lnTo>
                    <a:lnTo>
                      <a:pt x="315" y="406"/>
                    </a:lnTo>
                    <a:lnTo>
                      <a:pt x="293" y="437"/>
                    </a:lnTo>
                    <a:lnTo>
                      <a:pt x="212" y="487"/>
                    </a:lnTo>
                    <a:lnTo>
                      <a:pt x="120" y="517"/>
                    </a:lnTo>
                    <a:lnTo>
                      <a:pt x="93" y="553"/>
                    </a:lnTo>
                    <a:lnTo>
                      <a:pt x="52" y="584"/>
                    </a:lnTo>
                    <a:lnTo>
                      <a:pt x="26" y="601"/>
                    </a:lnTo>
                    <a:lnTo>
                      <a:pt x="13" y="584"/>
                    </a:lnTo>
                    <a:lnTo>
                      <a:pt x="0" y="553"/>
                    </a:lnTo>
                    <a:lnTo>
                      <a:pt x="52" y="517"/>
                    </a:lnTo>
                    <a:lnTo>
                      <a:pt x="93" y="517"/>
                    </a:lnTo>
                    <a:lnTo>
                      <a:pt x="133" y="504"/>
                    </a:lnTo>
                    <a:lnTo>
                      <a:pt x="186" y="469"/>
                    </a:lnTo>
                    <a:lnTo>
                      <a:pt x="212" y="437"/>
                    </a:lnTo>
                    <a:lnTo>
                      <a:pt x="212" y="424"/>
                    </a:lnTo>
                    <a:lnTo>
                      <a:pt x="225" y="437"/>
                    </a:lnTo>
                    <a:lnTo>
                      <a:pt x="253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067360" y="442584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390" y="30"/>
                    </a:moveTo>
                    <a:lnTo>
                      <a:pt x="349" y="66"/>
                    </a:lnTo>
                    <a:lnTo>
                      <a:pt x="322" y="84"/>
                    </a:lnTo>
                    <a:lnTo>
                      <a:pt x="292" y="52"/>
                    </a:lnTo>
                    <a:lnTo>
                      <a:pt x="252" y="17"/>
                    </a:lnTo>
                    <a:lnTo>
                      <a:pt x="127" y="52"/>
                    </a:lnTo>
                    <a:lnTo>
                      <a:pt x="0" y="106"/>
                    </a:lnTo>
                    <a:lnTo>
                      <a:pt x="13" y="155"/>
                    </a:lnTo>
                    <a:lnTo>
                      <a:pt x="57" y="155"/>
                    </a:lnTo>
                    <a:lnTo>
                      <a:pt x="155" y="155"/>
                    </a:lnTo>
                    <a:lnTo>
                      <a:pt x="168" y="137"/>
                    </a:lnTo>
                    <a:lnTo>
                      <a:pt x="208" y="120"/>
                    </a:lnTo>
                    <a:lnTo>
                      <a:pt x="239" y="106"/>
                    </a:lnTo>
                    <a:lnTo>
                      <a:pt x="252" y="106"/>
                    </a:lnTo>
                    <a:lnTo>
                      <a:pt x="283" y="120"/>
                    </a:lnTo>
                    <a:lnTo>
                      <a:pt x="322" y="137"/>
                    </a:lnTo>
                    <a:lnTo>
                      <a:pt x="349" y="155"/>
                    </a:lnTo>
                    <a:lnTo>
                      <a:pt x="362" y="155"/>
                    </a:lnTo>
                    <a:lnTo>
                      <a:pt x="403" y="155"/>
                    </a:lnTo>
                    <a:lnTo>
                      <a:pt x="447" y="137"/>
                    </a:lnTo>
                    <a:lnTo>
                      <a:pt x="460" y="106"/>
                    </a:lnTo>
                    <a:lnTo>
                      <a:pt x="500" y="30"/>
                    </a:lnTo>
                    <a:lnTo>
                      <a:pt x="517" y="17"/>
                    </a:lnTo>
                    <a:lnTo>
                      <a:pt x="517" y="0"/>
                    </a:lnTo>
                    <a:lnTo>
                      <a:pt x="500" y="17"/>
                    </a:lnTo>
                    <a:lnTo>
                      <a:pt x="478" y="30"/>
                    </a:lnTo>
                    <a:lnTo>
                      <a:pt x="447" y="84"/>
                    </a:lnTo>
                    <a:lnTo>
                      <a:pt x="420" y="120"/>
                    </a:lnTo>
                    <a:lnTo>
                      <a:pt x="403" y="120"/>
                    </a:lnTo>
                    <a:lnTo>
                      <a:pt x="390" y="120"/>
                    </a:lnTo>
                    <a:lnTo>
                      <a:pt x="390" y="84"/>
                    </a:lnTo>
                    <a:lnTo>
                      <a:pt x="390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070600" y="373536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425" y="512"/>
                    </a:moveTo>
                    <a:lnTo>
                      <a:pt x="412" y="362"/>
                    </a:lnTo>
                    <a:lnTo>
                      <a:pt x="412" y="229"/>
                    </a:lnTo>
                    <a:lnTo>
                      <a:pt x="412" y="167"/>
                    </a:lnTo>
                    <a:lnTo>
                      <a:pt x="381" y="105"/>
                    </a:lnTo>
                    <a:lnTo>
                      <a:pt x="353" y="48"/>
                    </a:lnTo>
                    <a:lnTo>
                      <a:pt x="300" y="0"/>
                    </a:lnTo>
                    <a:lnTo>
                      <a:pt x="314" y="105"/>
                    </a:lnTo>
                    <a:lnTo>
                      <a:pt x="340" y="149"/>
                    </a:lnTo>
                    <a:lnTo>
                      <a:pt x="371" y="211"/>
                    </a:lnTo>
                    <a:lnTo>
                      <a:pt x="256" y="287"/>
                    </a:lnTo>
                    <a:lnTo>
                      <a:pt x="150" y="331"/>
                    </a:lnTo>
                    <a:lnTo>
                      <a:pt x="123" y="318"/>
                    </a:lnTo>
                    <a:lnTo>
                      <a:pt x="97" y="300"/>
                    </a:lnTo>
                    <a:lnTo>
                      <a:pt x="70" y="274"/>
                    </a:lnTo>
                    <a:lnTo>
                      <a:pt x="30" y="229"/>
                    </a:lnTo>
                    <a:lnTo>
                      <a:pt x="13" y="180"/>
                    </a:lnTo>
                    <a:lnTo>
                      <a:pt x="0" y="167"/>
                    </a:lnTo>
                    <a:lnTo>
                      <a:pt x="0" y="229"/>
                    </a:lnTo>
                    <a:lnTo>
                      <a:pt x="13" y="260"/>
                    </a:lnTo>
                    <a:lnTo>
                      <a:pt x="52" y="318"/>
                    </a:lnTo>
                    <a:lnTo>
                      <a:pt x="123" y="331"/>
                    </a:lnTo>
                    <a:lnTo>
                      <a:pt x="208" y="349"/>
                    </a:lnTo>
                    <a:lnTo>
                      <a:pt x="234" y="362"/>
                    </a:lnTo>
                    <a:lnTo>
                      <a:pt x="247" y="375"/>
                    </a:lnTo>
                    <a:lnTo>
                      <a:pt x="274" y="406"/>
                    </a:lnTo>
                    <a:lnTo>
                      <a:pt x="287" y="437"/>
                    </a:lnTo>
                    <a:lnTo>
                      <a:pt x="300" y="464"/>
                    </a:lnTo>
                    <a:lnTo>
                      <a:pt x="327" y="481"/>
                    </a:lnTo>
                    <a:lnTo>
                      <a:pt x="371" y="437"/>
                    </a:lnTo>
                    <a:lnTo>
                      <a:pt x="381" y="406"/>
                    </a:lnTo>
                    <a:lnTo>
                      <a:pt x="394" y="362"/>
                    </a:lnTo>
                    <a:lnTo>
                      <a:pt x="412" y="300"/>
                    </a:lnTo>
                    <a:lnTo>
                      <a:pt x="394" y="274"/>
                    </a:lnTo>
                    <a:lnTo>
                      <a:pt x="394" y="274"/>
                    </a:lnTo>
                    <a:lnTo>
                      <a:pt x="381" y="287"/>
                    </a:lnTo>
                    <a:lnTo>
                      <a:pt x="353" y="318"/>
                    </a:lnTo>
                    <a:lnTo>
                      <a:pt x="340" y="362"/>
                    </a:lnTo>
                    <a:lnTo>
                      <a:pt x="394" y="437"/>
                    </a:lnTo>
                    <a:lnTo>
                      <a:pt x="425" y="455"/>
                    </a:lnTo>
                    <a:lnTo>
                      <a:pt x="451" y="464"/>
                    </a:lnTo>
                    <a:lnTo>
                      <a:pt x="465" y="481"/>
                    </a:lnTo>
                    <a:lnTo>
                      <a:pt x="491" y="494"/>
                    </a:lnTo>
                    <a:lnTo>
                      <a:pt x="504" y="494"/>
                    </a:lnTo>
                    <a:lnTo>
                      <a:pt x="504" y="512"/>
                    </a:lnTo>
                    <a:lnTo>
                      <a:pt x="478" y="525"/>
                    </a:lnTo>
                    <a:lnTo>
                      <a:pt x="451" y="525"/>
                    </a:lnTo>
                    <a:lnTo>
                      <a:pt x="381" y="525"/>
                    </a:lnTo>
                    <a:lnTo>
                      <a:pt x="381" y="543"/>
                    </a:lnTo>
                    <a:lnTo>
                      <a:pt x="371" y="543"/>
                    </a:lnTo>
                    <a:lnTo>
                      <a:pt x="353" y="543"/>
                    </a:lnTo>
                    <a:lnTo>
                      <a:pt x="353" y="543"/>
                    </a:lnTo>
                    <a:lnTo>
                      <a:pt x="394" y="525"/>
                    </a:lnTo>
                    <a:lnTo>
                      <a:pt x="425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057640" y="473220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05" y="92"/>
                    </a:lnTo>
                    <a:lnTo>
                      <a:pt x="79" y="154"/>
                    </a:lnTo>
                    <a:lnTo>
                      <a:pt x="39" y="331"/>
                    </a:lnTo>
                    <a:lnTo>
                      <a:pt x="0" y="508"/>
                    </a:lnTo>
                    <a:lnTo>
                      <a:pt x="13" y="566"/>
                    </a:lnTo>
                    <a:lnTo>
                      <a:pt x="39" y="606"/>
                    </a:lnTo>
                    <a:lnTo>
                      <a:pt x="66" y="645"/>
                    </a:lnTo>
                    <a:lnTo>
                      <a:pt x="105" y="685"/>
                    </a:lnTo>
                    <a:lnTo>
                      <a:pt x="150" y="707"/>
                    </a:lnTo>
                    <a:lnTo>
                      <a:pt x="172" y="707"/>
                    </a:lnTo>
                    <a:lnTo>
                      <a:pt x="172" y="725"/>
                    </a:lnTo>
                    <a:lnTo>
                      <a:pt x="172" y="742"/>
                    </a:lnTo>
                    <a:lnTo>
                      <a:pt x="150" y="742"/>
                    </a:lnTo>
                    <a:lnTo>
                      <a:pt x="105" y="725"/>
                    </a:lnTo>
                    <a:lnTo>
                      <a:pt x="105" y="547"/>
                    </a:lnTo>
                    <a:lnTo>
                      <a:pt x="92" y="525"/>
                    </a:lnTo>
                    <a:lnTo>
                      <a:pt x="92" y="508"/>
                    </a:lnTo>
                    <a:lnTo>
                      <a:pt x="120" y="490"/>
                    </a:lnTo>
                    <a:lnTo>
                      <a:pt x="159" y="446"/>
                    </a:lnTo>
                    <a:lnTo>
                      <a:pt x="203" y="428"/>
                    </a:lnTo>
                    <a:lnTo>
                      <a:pt x="225" y="428"/>
                    </a:lnTo>
                    <a:lnTo>
                      <a:pt x="239" y="389"/>
                    </a:lnTo>
                    <a:lnTo>
                      <a:pt x="239" y="353"/>
                    </a:lnTo>
                    <a:lnTo>
                      <a:pt x="225" y="331"/>
                    </a:lnTo>
                    <a:lnTo>
                      <a:pt x="186" y="309"/>
                    </a:lnTo>
                    <a:lnTo>
                      <a:pt x="159" y="331"/>
                    </a:lnTo>
                    <a:lnTo>
                      <a:pt x="150" y="371"/>
                    </a:lnTo>
                    <a:lnTo>
                      <a:pt x="120" y="428"/>
                    </a:lnTo>
                    <a:lnTo>
                      <a:pt x="79" y="371"/>
                    </a:lnTo>
                    <a:lnTo>
                      <a:pt x="66" y="353"/>
                    </a:lnTo>
                    <a:lnTo>
                      <a:pt x="92" y="309"/>
                    </a:lnTo>
                    <a:lnTo>
                      <a:pt x="133" y="274"/>
                    </a:lnTo>
                    <a:lnTo>
                      <a:pt x="150" y="252"/>
                    </a:lnTo>
                    <a:lnTo>
                      <a:pt x="159" y="234"/>
                    </a:lnTo>
                    <a:lnTo>
                      <a:pt x="217" y="0"/>
                    </a:lnTo>
                    <a:lnTo>
                      <a:pt x="203" y="35"/>
                    </a:lnTo>
                    <a:lnTo>
                      <a:pt x="159" y="74"/>
                    </a:lnTo>
                    <a:lnTo>
                      <a:pt x="133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16480" y="504504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70" y="145"/>
                    </a:lnTo>
                    <a:lnTo>
                      <a:pt x="52" y="185"/>
                    </a:lnTo>
                    <a:lnTo>
                      <a:pt x="44" y="229"/>
                    </a:lnTo>
                    <a:lnTo>
                      <a:pt x="26" y="287"/>
                    </a:lnTo>
                    <a:lnTo>
                      <a:pt x="17" y="33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26" y="433"/>
                    </a:lnTo>
                    <a:lnTo>
                      <a:pt x="52" y="499"/>
                    </a:lnTo>
                    <a:lnTo>
                      <a:pt x="142" y="561"/>
                    </a:lnTo>
                    <a:lnTo>
                      <a:pt x="111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124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111" y="314"/>
                    </a:lnTo>
                    <a:lnTo>
                      <a:pt x="142" y="287"/>
                    </a:lnTo>
                    <a:lnTo>
                      <a:pt x="168" y="246"/>
                    </a:lnTo>
                    <a:lnTo>
                      <a:pt x="195" y="202"/>
                    </a:lnTo>
                    <a:lnTo>
                      <a:pt x="195" y="185"/>
                    </a:lnTo>
                    <a:lnTo>
                      <a:pt x="195" y="145"/>
                    </a:lnTo>
                    <a:lnTo>
                      <a:pt x="181" y="83"/>
                    </a:lnTo>
                    <a:lnTo>
                      <a:pt x="142" y="22"/>
                    </a:lnTo>
                    <a:lnTo>
                      <a:pt x="111" y="0"/>
                    </a:lnTo>
                    <a:lnTo>
                      <a:pt x="111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191200" y="434340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569" y="145"/>
                    </a:moveTo>
                    <a:lnTo>
                      <a:pt x="543" y="286"/>
                    </a:lnTo>
                    <a:lnTo>
                      <a:pt x="512" y="358"/>
                    </a:lnTo>
                    <a:lnTo>
                      <a:pt x="463" y="411"/>
                    </a:lnTo>
                    <a:lnTo>
                      <a:pt x="405" y="393"/>
                    </a:lnTo>
                    <a:lnTo>
                      <a:pt x="374" y="375"/>
                    </a:lnTo>
                    <a:lnTo>
                      <a:pt x="330" y="375"/>
                    </a:lnTo>
                    <a:lnTo>
                      <a:pt x="268" y="393"/>
                    </a:lnTo>
                    <a:lnTo>
                      <a:pt x="211" y="446"/>
                    </a:lnTo>
                    <a:lnTo>
                      <a:pt x="136" y="464"/>
                    </a:lnTo>
                    <a:lnTo>
                      <a:pt x="0" y="538"/>
                    </a:lnTo>
                    <a:lnTo>
                      <a:pt x="0" y="574"/>
                    </a:lnTo>
                    <a:lnTo>
                      <a:pt x="13" y="605"/>
                    </a:lnTo>
                    <a:lnTo>
                      <a:pt x="74" y="627"/>
                    </a:lnTo>
                    <a:lnTo>
                      <a:pt x="149" y="605"/>
                    </a:lnTo>
                    <a:lnTo>
                      <a:pt x="211" y="591"/>
                    </a:lnTo>
                    <a:lnTo>
                      <a:pt x="361" y="538"/>
                    </a:lnTo>
                    <a:lnTo>
                      <a:pt x="493" y="464"/>
                    </a:lnTo>
                    <a:lnTo>
                      <a:pt x="543" y="464"/>
                    </a:lnTo>
                    <a:lnTo>
                      <a:pt x="587" y="486"/>
                    </a:lnTo>
                    <a:lnTo>
                      <a:pt x="631" y="499"/>
                    </a:lnTo>
                    <a:lnTo>
                      <a:pt x="662" y="538"/>
                    </a:lnTo>
                    <a:lnTo>
                      <a:pt x="719" y="574"/>
                    </a:lnTo>
                    <a:lnTo>
                      <a:pt x="737" y="538"/>
                    </a:lnTo>
                    <a:lnTo>
                      <a:pt x="750" y="516"/>
                    </a:lnTo>
                    <a:lnTo>
                      <a:pt x="781" y="516"/>
                    </a:lnTo>
                    <a:lnTo>
                      <a:pt x="825" y="516"/>
                    </a:lnTo>
                    <a:lnTo>
                      <a:pt x="856" y="516"/>
                    </a:lnTo>
                    <a:lnTo>
                      <a:pt x="887" y="486"/>
                    </a:lnTo>
                    <a:lnTo>
                      <a:pt x="918" y="411"/>
                    </a:lnTo>
                    <a:lnTo>
                      <a:pt x="949" y="318"/>
                    </a:lnTo>
                    <a:lnTo>
                      <a:pt x="975" y="233"/>
                    </a:lnTo>
                    <a:lnTo>
                      <a:pt x="993" y="198"/>
                    </a:lnTo>
                    <a:lnTo>
                      <a:pt x="993" y="176"/>
                    </a:lnTo>
                    <a:lnTo>
                      <a:pt x="949" y="158"/>
                    </a:lnTo>
                    <a:lnTo>
                      <a:pt x="887" y="145"/>
                    </a:lnTo>
                    <a:lnTo>
                      <a:pt x="825" y="123"/>
                    </a:lnTo>
                    <a:lnTo>
                      <a:pt x="794" y="123"/>
                    </a:lnTo>
                    <a:lnTo>
                      <a:pt x="768" y="105"/>
                    </a:lnTo>
                    <a:lnTo>
                      <a:pt x="719" y="92"/>
                    </a:lnTo>
                    <a:lnTo>
                      <a:pt x="719" y="52"/>
                    </a:lnTo>
                    <a:lnTo>
                      <a:pt x="706" y="17"/>
                    </a:lnTo>
                    <a:lnTo>
                      <a:pt x="644" y="0"/>
                    </a:lnTo>
                    <a:lnTo>
                      <a:pt x="569" y="0"/>
                    </a:lnTo>
                    <a:lnTo>
                      <a:pt x="512" y="0"/>
                    </a:lnTo>
                    <a:lnTo>
                      <a:pt x="525" y="35"/>
                    </a:lnTo>
                    <a:lnTo>
                      <a:pt x="525" y="52"/>
                    </a:lnTo>
                    <a:lnTo>
                      <a:pt x="569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0" y="5867280"/>
            <a:ext cx="9142920" cy="838440"/>
          </a:xfrm>
          <a:custGeom>
            <a:avLst/>
            <a:gdLst/>
            <a:ahLst/>
            <a:rect l="0" t="0" r="r" b="b"/>
            <a:pathLst>
              <a:path w="25397" h="2329">
                <a:moveTo>
                  <a:pt x="13487" y="253"/>
                </a:moveTo>
                <a:lnTo>
                  <a:pt x="13172" y="202"/>
                </a:lnTo>
                <a:lnTo>
                  <a:pt x="12935" y="202"/>
                </a:lnTo>
                <a:lnTo>
                  <a:pt x="12698" y="253"/>
                </a:lnTo>
                <a:lnTo>
                  <a:pt x="12462" y="303"/>
                </a:lnTo>
                <a:lnTo>
                  <a:pt x="12225" y="253"/>
                </a:lnTo>
                <a:lnTo>
                  <a:pt x="11988" y="253"/>
                </a:lnTo>
                <a:lnTo>
                  <a:pt x="11752" y="202"/>
                </a:lnTo>
                <a:lnTo>
                  <a:pt x="11515" y="202"/>
                </a:lnTo>
                <a:lnTo>
                  <a:pt x="11279" y="202"/>
                </a:lnTo>
                <a:lnTo>
                  <a:pt x="11042" y="202"/>
                </a:lnTo>
                <a:lnTo>
                  <a:pt x="10805" y="253"/>
                </a:lnTo>
                <a:lnTo>
                  <a:pt x="10569" y="253"/>
                </a:lnTo>
                <a:lnTo>
                  <a:pt x="10332" y="253"/>
                </a:lnTo>
                <a:lnTo>
                  <a:pt x="10096" y="253"/>
                </a:lnTo>
                <a:lnTo>
                  <a:pt x="9859" y="253"/>
                </a:lnTo>
                <a:lnTo>
                  <a:pt x="9622" y="253"/>
                </a:lnTo>
                <a:lnTo>
                  <a:pt x="9386" y="253"/>
                </a:lnTo>
                <a:lnTo>
                  <a:pt x="9149" y="253"/>
                </a:lnTo>
                <a:lnTo>
                  <a:pt x="8913" y="253"/>
                </a:lnTo>
                <a:lnTo>
                  <a:pt x="8676" y="202"/>
                </a:lnTo>
                <a:lnTo>
                  <a:pt x="8439" y="151"/>
                </a:lnTo>
                <a:lnTo>
                  <a:pt x="8203" y="151"/>
                </a:lnTo>
                <a:lnTo>
                  <a:pt x="7966" y="202"/>
                </a:lnTo>
                <a:lnTo>
                  <a:pt x="7651" y="253"/>
                </a:lnTo>
                <a:lnTo>
                  <a:pt x="7335" y="303"/>
                </a:lnTo>
                <a:lnTo>
                  <a:pt x="7020" y="253"/>
                </a:lnTo>
                <a:lnTo>
                  <a:pt x="6704" y="202"/>
                </a:lnTo>
                <a:lnTo>
                  <a:pt x="6468" y="151"/>
                </a:lnTo>
                <a:lnTo>
                  <a:pt x="6230" y="151"/>
                </a:lnTo>
                <a:lnTo>
                  <a:pt x="5993" y="151"/>
                </a:lnTo>
                <a:lnTo>
                  <a:pt x="5757" y="151"/>
                </a:lnTo>
                <a:lnTo>
                  <a:pt x="5520" y="151"/>
                </a:lnTo>
                <a:lnTo>
                  <a:pt x="5284" y="202"/>
                </a:lnTo>
                <a:lnTo>
                  <a:pt x="5047" y="202"/>
                </a:lnTo>
                <a:lnTo>
                  <a:pt x="4810" y="202"/>
                </a:lnTo>
                <a:lnTo>
                  <a:pt x="4574" y="151"/>
                </a:lnTo>
                <a:lnTo>
                  <a:pt x="4337" y="101"/>
                </a:lnTo>
                <a:lnTo>
                  <a:pt x="4101" y="50"/>
                </a:lnTo>
                <a:lnTo>
                  <a:pt x="3864" y="0"/>
                </a:lnTo>
                <a:lnTo>
                  <a:pt x="3627" y="50"/>
                </a:lnTo>
                <a:lnTo>
                  <a:pt x="3391" y="50"/>
                </a:lnTo>
                <a:lnTo>
                  <a:pt x="3154" y="50"/>
                </a:lnTo>
                <a:lnTo>
                  <a:pt x="2918" y="50"/>
                </a:lnTo>
                <a:lnTo>
                  <a:pt x="2681" y="50"/>
                </a:lnTo>
                <a:lnTo>
                  <a:pt x="2444" y="50"/>
                </a:lnTo>
                <a:lnTo>
                  <a:pt x="2208" y="101"/>
                </a:lnTo>
                <a:lnTo>
                  <a:pt x="1971" y="202"/>
                </a:lnTo>
                <a:lnTo>
                  <a:pt x="1735" y="354"/>
                </a:lnTo>
                <a:lnTo>
                  <a:pt x="1498" y="455"/>
                </a:lnTo>
                <a:lnTo>
                  <a:pt x="1261" y="506"/>
                </a:lnTo>
                <a:lnTo>
                  <a:pt x="1025" y="506"/>
                </a:lnTo>
                <a:lnTo>
                  <a:pt x="788" y="506"/>
                </a:lnTo>
                <a:lnTo>
                  <a:pt x="552" y="506"/>
                </a:lnTo>
                <a:lnTo>
                  <a:pt x="315" y="556"/>
                </a:lnTo>
                <a:lnTo>
                  <a:pt x="78" y="556"/>
                </a:lnTo>
                <a:lnTo>
                  <a:pt x="0" y="708"/>
                </a:lnTo>
                <a:lnTo>
                  <a:pt x="0" y="860"/>
                </a:lnTo>
                <a:lnTo>
                  <a:pt x="0" y="1012"/>
                </a:lnTo>
                <a:lnTo>
                  <a:pt x="236" y="1165"/>
                </a:lnTo>
                <a:lnTo>
                  <a:pt x="473" y="1266"/>
                </a:lnTo>
                <a:lnTo>
                  <a:pt x="709" y="1266"/>
                </a:lnTo>
                <a:lnTo>
                  <a:pt x="946" y="1266"/>
                </a:lnTo>
                <a:lnTo>
                  <a:pt x="1183" y="1266"/>
                </a:lnTo>
                <a:lnTo>
                  <a:pt x="1419" y="1266"/>
                </a:lnTo>
                <a:lnTo>
                  <a:pt x="1656" y="1317"/>
                </a:lnTo>
                <a:lnTo>
                  <a:pt x="1813" y="1468"/>
                </a:lnTo>
                <a:lnTo>
                  <a:pt x="1971" y="1620"/>
                </a:lnTo>
                <a:lnTo>
                  <a:pt x="2208" y="1721"/>
                </a:lnTo>
                <a:lnTo>
                  <a:pt x="2444" y="1721"/>
                </a:lnTo>
                <a:lnTo>
                  <a:pt x="2681" y="1671"/>
                </a:lnTo>
                <a:lnTo>
                  <a:pt x="2918" y="1620"/>
                </a:lnTo>
                <a:lnTo>
                  <a:pt x="3154" y="1570"/>
                </a:lnTo>
                <a:lnTo>
                  <a:pt x="3391" y="1570"/>
                </a:lnTo>
                <a:lnTo>
                  <a:pt x="3627" y="1671"/>
                </a:lnTo>
                <a:lnTo>
                  <a:pt x="3864" y="1772"/>
                </a:lnTo>
                <a:lnTo>
                  <a:pt x="4101" y="1823"/>
                </a:lnTo>
                <a:lnTo>
                  <a:pt x="4337" y="1823"/>
                </a:lnTo>
                <a:lnTo>
                  <a:pt x="4495" y="1975"/>
                </a:lnTo>
                <a:lnTo>
                  <a:pt x="4653" y="2126"/>
                </a:lnTo>
                <a:lnTo>
                  <a:pt x="4810" y="2278"/>
                </a:lnTo>
                <a:lnTo>
                  <a:pt x="5047" y="2329"/>
                </a:lnTo>
                <a:lnTo>
                  <a:pt x="5126" y="2177"/>
                </a:lnTo>
                <a:lnTo>
                  <a:pt x="5126" y="2025"/>
                </a:lnTo>
                <a:lnTo>
                  <a:pt x="5363" y="1975"/>
                </a:lnTo>
                <a:lnTo>
                  <a:pt x="5599" y="1975"/>
                </a:lnTo>
                <a:lnTo>
                  <a:pt x="5836" y="2126"/>
                </a:lnTo>
                <a:lnTo>
                  <a:pt x="6072" y="2177"/>
                </a:lnTo>
                <a:lnTo>
                  <a:pt x="6309" y="2228"/>
                </a:lnTo>
                <a:lnTo>
                  <a:pt x="6547" y="2177"/>
                </a:lnTo>
                <a:lnTo>
                  <a:pt x="6783" y="2025"/>
                </a:lnTo>
                <a:lnTo>
                  <a:pt x="7020" y="2025"/>
                </a:lnTo>
                <a:lnTo>
                  <a:pt x="7256" y="2025"/>
                </a:lnTo>
                <a:lnTo>
                  <a:pt x="7493" y="2076"/>
                </a:lnTo>
                <a:lnTo>
                  <a:pt x="7808" y="2228"/>
                </a:lnTo>
                <a:lnTo>
                  <a:pt x="8045" y="2278"/>
                </a:lnTo>
                <a:lnTo>
                  <a:pt x="8282" y="2329"/>
                </a:lnTo>
                <a:lnTo>
                  <a:pt x="8518" y="2177"/>
                </a:lnTo>
                <a:lnTo>
                  <a:pt x="8755" y="2126"/>
                </a:lnTo>
                <a:lnTo>
                  <a:pt x="8991" y="2076"/>
                </a:lnTo>
                <a:lnTo>
                  <a:pt x="9228" y="2025"/>
                </a:lnTo>
                <a:lnTo>
                  <a:pt x="9465" y="1975"/>
                </a:lnTo>
                <a:lnTo>
                  <a:pt x="9701" y="1924"/>
                </a:lnTo>
                <a:lnTo>
                  <a:pt x="9938" y="1924"/>
                </a:lnTo>
                <a:lnTo>
                  <a:pt x="10175" y="1924"/>
                </a:lnTo>
                <a:lnTo>
                  <a:pt x="10411" y="1975"/>
                </a:lnTo>
                <a:lnTo>
                  <a:pt x="10648" y="2025"/>
                </a:lnTo>
                <a:lnTo>
                  <a:pt x="10884" y="2076"/>
                </a:lnTo>
                <a:lnTo>
                  <a:pt x="11121" y="2076"/>
                </a:lnTo>
                <a:lnTo>
                  <a:pt x="11358" y="2126"/>
                </a:lnTo>
                <a:lnTo>
                  <a:pt x="11594" y="2126"/>
                </a:lnTo>
                <a:lnTo>
                  <a:pt x="11910" y="2076"/>
                </a:lnTo>
                <a:lnTo>
                  <a:pt x="12146" y="2025"/>
                </a:lnTo>
                <a:lnTo>
                  <a:pt x="12383" y="1975"/>
                </a:lnTo>
                <a:lnTo>
                  <a:pt x="12619" y="1975"/>
                </a:lnTo>
                <a:lnTo>
                  <a:pt x="12856" y="1924"/>
                </a:lnTo>
                <a:lnTo>
                  <a:pt x="13093" y="1873"/>
                </a:lnTo>
                <a:lnTo>
                  <a:pt x="13329" y="1823"/>
                </a:lnTo>
                <a:lnTo>
                  <a:pt x="13566" y="1772"/>
                </a:lnTo>
                <a:lnTo>
                  <a:pt x="13802" y="1721"/>
                </a:lnTo>
                <a:lnTo>
                  <a:pt x="14039" y="1671"/>
                </a:lnTo>
                <a:lnTo>
                  <a:pt x="14276" y="1671"/>
                </a:lnTo>
                <a:lnTo>
                  <a:pt x="14512" y="1671"/>
                </a:lnTo>
                <a:lnTo>
                  <a:pt x="14749" y="1671"/>
                </a:lnTo>
                <a:lnTo>
                  <a:pt x="14985" y="1671"/>
                </a:lnTo>
                <a:lnTo>
                  <a:pt x="15222" y="1721"/>
                </a:lnTo>
                <a:lnTo>
                  <a:pt x="15459" y="1772"/>
                </a:lnTo>
                <a:lnTo>
                  <a:pt x="15695" y="1823"/>
                </a:lnTo>
                <a:lnTo>
                  <a:pt x="15932" y="1823"/>
                </a:lnTo>
                <a:lnTo>
                  <a:pt x="16169" y="1823"/>
                </a:lnTo>
                <a:lnTo>
                  <a:pt x="16484" y="1823"/>
                </a:lnTo>
                <a:lnTo>
                  <a:pt x="16799" y="1721"/>
                </a:lnTo>
                <a:lnTo>
                  <a:pt x="17036" y="1671"/>
                </a:lnTo>
                <a:lnTo>
                  <a:pt x="17273" y="1620"/>
                </a:lnTo>
                <a:lnTo>
                  <a:pt x="17588" y="1620"/>
                </a:lnTo>
                <a:lnTo>
                  <a:pt x="17904" y="1671"/>
                </a:lnTo>
                <a:lnTo>
                  <a:pt x="18219" y="1721"/>
                </a:lnTo>
                <a:lnTo>
                  <a:pt x="18456" y="1823"/>
                </a:lnTo>
                <a:lnTo>
                  <a:pt x="18692" y="1873"/>
                </a:lnTo>
                <a:lnTo>
                  <a:pt x="18929" y="1924"/>
                </a:lnTo>
                <a:lnTo>
                  <a:pt x="19166" y="1924"/>
                </a:lnTo>
                <a:lnTo>
                  <a:pt x="19482" y="1823"/>
                </a:lnTo>
                <a:lnTo>
                  <a:pt x="19719" y="1772"/>
                </a:lnTo>
                <a:lnTo>
                  <a:pt x="19955" y="1671"/>
                </a:lnTo>
                <a:lnTo>
                  <a:pt x="20192" y="1620"/>
                </a:lnTo>
                <a:lnTo>
                  <a:pt x="20428" y="1620"/>
                </a:lnTo>
                <a:lnTo>
                  <a:pt x="20744" y="1620"/>
                </a:lnTo>
                <a:lnTo>
                  <a:pt x="21059" y="1620"/>
                </a:lnTo>
                <a:lnTo>
                  <a:pt x="21375" y="1620"/>
                </a:lnTo>
                <a:lnTo>
                  <a:pt x="21611" y="1671"/>
                </a:lnTo>
                <a:lnTo>
                  <a:pt x="21848" y="1671"/>
                </a:lnTo>
                <a:lnTo>
                  <a:pt x="22085" y="1721"/>
                </a:lnTo>
                <a:lnTo>
                  <a:pt x="22321" y="1721"/>
                </a:lnTo>
                <a:lnTo>
                  <a:pt x="22637" y="1721"/>
                </a:lnTo>
                <a:lnTo>
                  <a:pt x="22952" y="1721"/>
                </a:lnTo>
                <a:lnTo>
                  <a:pt x="23189" y="1620"/>
                </a:lnTo>
                <a:lnTo>
                  <a:pt x="23425" y="1570"/>
                </a:lnTo>
                <a:lnTo>
                  <a:pt x="23662" y="1570"/>
                </a:lnTo>
                <a:lnTo>
                  <a:pt x="23899" y="1570"/>
                </a:lnTo>
                <a:lnTo>
                  <a:pt x="24135" y="1570"/>
                </a:lnTo>
                <a:lnTo>
                  <a:pt x="24372" y="1570"/>
                </a:lnTo>
                <a:lnTo>
                  <a:pt x="24608" y="1519"/>
                </a:lnTo>
                <a:lnTo>
                  <a:pt x="24845" y="1468"/>
                </a:lnTo>
                <a:lnTo>
                  <a:pt x="25082" y="1418"/>
                </a:lnTo>
                <a:lnTo>
                  <a:pt x="25318" y="1317"/>
                </a:lnTo>
                <a:lnTo>
                  <a:pt x="25397" y="1165"/>
                </a:lnTo>
                <a:lnTo>
                  <a:pt x="25397" y="1012"/>
                </a:lnTo>
                <a:lnTo>
                  <a:pt x="25318" y="860"/>
                </a:lnTo>
                <a:lnTo>
                  <a:pt x="25082" y="708"/>
                </a:lnTo>
                <a:lnTo>
                  <a:pt x="24845" y="708"/>
                </a:lnTo>
                <a:lnTo>
                  <a:pt x="24608" y="658"/>
                </a:lnTo>
                <a:lnTo>
                  <a:pt x="24372" y="658"/>
                </a:lnTo>
                <a:lnTo>
                  <a:pt x="24135" y="607"/>
                </a:lnTo>
                <a:lnTo>
                  <a:pt x="23820" y="506"/>
                </a:lnTo>
                <a:lnTo>
                  <a:pt x="23583" y="455"/>
                </a:lnTo>
                <a:lnTo>
                  <a:pt x="23347" y="354"/>
                </a:lnTo>
                <a:lnTo>
                  <a:pt x="23110" y="303"/>
                </a:lnTo>
                <a:lnTo>
                  <a:pt x="22873" y="253"/>
                </a:lnTo>
                <a:lnTo>
                  <a:pt x="22637" y="303"/>
                </a:lnTo>
                <a:lnTo>
                  <a:pt x="22400" y="303"/>
                </a:lnTo>
                <a:lnTo>
                  <a:pt x="22163" y="303"/>
                </a:lnTo>
                <a:lnTo>
                  <a:pt x="21927" y="303"/>
                </a:lnTo>
                <a:lnTo>
                  <a:pt x="21690" y="303"/>
                </a:lnTo>
                <a:lnTo>
                  <a:pt x="21454" y="303"/>
                </a:lnTo>
                <a:lnTo>
                  <a:pt x="21217" y="303"/>
                </a:lnTo>
                <a:lnTo>
                  <a:pt x="20980" y="354"/>
                </a:lnTo>
                <a:lnTo>
                  <a:pt x="20744" y="354"/>
                </a:lnTo>
                <a:lnTo>
                  <a:pt x="20507" y="303"/>
                </a:lnTo>
                <a:lnTo>
                  <a:pt x="20271" y="303"/>
                </a:lnTo>
                <a:lnTo>
                  <a:pt x="20034" y="253"/>
                </a:lnTo>
                <a:lnTo>
                  <a:pt x="19797" y="253"/>
                </a:lnTo>
                <a:lnTo>
                  <a:pt x="19482" y="303"/>
                </a:lnTo>
                <a:lnTo>
                  <a:pt x="19245" y="354"/>
                </a:lnTo>
                <a:lnTo>
                  <a:pt x="19008" y="354"/>
                </a:lnTo>
                <a:lnTo>
                  <a:pt x="18771" y="354"/>
                </a:lnTo>
                <a:lnTo>
                  <a:pt x="18535" y="404"/>
                </a:lnTo>
                <a:lnTo>
                  <a:pt x="18298" y="404"/>
                </a:lnTo>
                <a:lnTo>
                  <a:pt x="17982" y="404"/>
                </a:lnTo>
                <a:lnTo>
                  <a:pt x="17746" y="404"/>
                </a:lnTo>
                <a:lnTo>
                  <a:pt x="17430" y="404"/>
                </a:lnTo>
                <a:lnTo>
                  <a:pt x="17115" y="303"/>
                </a:lnTo>
                <a:lnTo>
                  <a:pt x="16878" y="303"/>
                </a:lnTo>
                <a:lnTo>
                  <a:pt x="16642" y="303"/>
                </a:lnTo>
                <a:lnTo>
                  <a:pt x="16326" y="303"/>
                </a:lnTo>
                <a:lnTo>
                  <a:pt x="16011" y="303"/>
                </a:lnTo>
                <a:lnTo>
                  <a:pt x="15774" y="354"/>
                </a:lnTo>
                <a:lnTo>
                  <a:pt x="15538" y="404"/>
                </a:lnTo>
                <a:lnTo>
                  <a:pt x="15301" y="354"/>
                </a:lnTo>
                <a:lnTo>
                  <a:pt x="15064" y="354"/>
                </a:lnTo>
                <a:lnTo>
                  <a:pt x="14828" y="303"/>
                </a:lnTo>
                <a:lnTo>
                  <a:pt x="14591" y="303"/>
                </a:lnTo>
                <a:lnTo>
                  <a:pt x="14355" y="303"/>
                </a:lnTo>
                <a:lnTo>
                  <a:pt x="14118" y="303"/>
                </a:lnTo>
                <a:lnTo>
                  <a:pt x="13881" y="303"/>
                </a:lnTo>
                <a:lnTo>
                  <a:pt x="13487" y="253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1001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1005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 txBox="1"/>
          <p:nvPr/>
        </p:nvSpPr>
        <p:spPr>
          <a:xfrm>
            <a:off x="152280" y="30492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Feel Like Exchanging my Intestin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2019240" y="1905120"/>
            <a:ext cx="4934520" cy="4388040"/>
            <a:chOff x="2019240" y="1905120"/>
            <a:chExt cx="4934520" cy="4388040"/>
          </a:xfrm>
        </p:grpSpPr>
        <p:sp>
          <p:nvSpPr>
            <p:cNvPr id="1010" name=""/>
            <p:cNvSpPr/>
            <p:nvPr/>
          </p:nvSpPr>
          <p:spPr>
            <a:xfrm>
              <a:off x="6248520" y="449568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0" y="25"/>
                  </a:moveTo>
                  <a:lnTo>
                    <a:pt x="111" y="25"/>
                  </a:lnTo>
                  <a:lnTo>
                    <a:pt x="195" y="0"/>
                  </a:lnTo>
                  <a:lnTo>
                    <a:pt x="279" y="0"/>
                  </a:lnTo>
                  <a:lnTo>
                    <a:pt x="363" y="25"/>
                  </a:lnTo>
                  <a:lnTo>
                    <a:pt x="448" y="50"/>
                  </a:lnTo>
                  <a:lnTo>
                    <a:pt x="532" y="127"/>
                  </a:lnTo>
                  <a:lnTo>
                    <a:pt x="616" y="177"/>
                  </a:lnTo>
                  <a:lnTo>
                    <a:pt x="700" y="228"/>
                  </a:lnTo>
                  <a:lnTo>
                    <a:pt x="728" y="304"/>
                  </a:lnTo>
                  <a:lnTo>
                    <a:pt x="728" y="381"/>
                  </a:lnTo>
                  <a:lnTo>
                    <a:pt x="728" y="458"/>
                  </a:lnTo>
                  <a:lnTo>
                    <a:pt x="784" y="534"/>
                  </a:lnTo>
                  <a:lnTo>
                    <a:pt x="812" y="610"/>
                  </a:lnTo>
                  <a:lnTo>
                    <a:pt x="728" y="636"/>
                  </a:lnTo>
                  <a:lnTo>
                    <a:pt x="700" y="559"/>
                  </a:lnTo>
                  <a:lnTo>
                    <a:pt x="616" y="508"/>
                  </a:lnTo>
                  <a:lnTo>
                    <a:pt x="504" y="508"/>
                  </a:lnTo>
                  <a:lnTo>
                    <a:pt x="448" y="432"/>
                  </a:lnTo>
                  <a:lnTo>
                    <a:pt x="391" y="356"/>
                  </a:lnTo>
                  <a:lnTo>
                    <a:pt x="307" y="304"/>
                  </a:lnTo>
                  <a:lnTo>
                    <a:pt x="223" y="279"/>
                  </a:lnTo>
                  <a:lnTo>
                    <a:pt x="139" y="304"/>
                  </a:lnTo>
                  <a:lnTo>
                    <a:pt x="111" y="228"/>
                  </a:lnTo>
                  <a:lnTo>
                    <a:pt x="139" y="152"/>
                  </a:lnTo>
                  <a:lnTo>
                    <a:pt x="111" y="76"/>
                  </a:lnTo>
                  <a:lnTo>
                    <a:pt x="167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2590920" y="4554360"/>
              <a:ext cx="1335240" cy="1608840"/>
              <a:chOff x="2590920" y="4554360"/>
              <a:chExt cx="1335240" cy="160884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1140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2623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5909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3481560" y="3556080"/>
              <a:ext cx="743400" cy="910080"/>
            </a:xfrm>
            <a:custGeom>
              <a:avLst/>
              <a:gdLst/>
              <a:ahLst/>
              <a:rect l="0" t="0" r="r" b="b"/>
              <a:pathLst>
                <a:path w="2065" h="2528">
                  <a:moveTo>
                    <a:pt x="13" y="48"/>
                  </a:moveTo>
                  <a:lnTo>
                    <a:pt x="180" y="0"/>
                  </a:lnTo>
                  <a:lnTo>
                    <a:pt x="432" y="119"/>
                  </a:lnTo>
                  <a:lnTo>
                    <a:pt x="913" y="755"/>
                  </a:lnTo>
                  <a:lnTo>
                    <a:pt x="2065" y="2052"/>
                  </a:lnTo>
                  <a:lnTo>
                    <a:pt x="1500" y="2528"/>
                  </a:lnTo>
                  <a:lnTo>
                    <a:pt x="574" y="1350"/>
                  </a:lnTo>
                  <a:lnTo>
                    <a:pt x="0" y="396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8040" y="3556080"/>
              <a:ext cx="743400" cy="910080"/>
            </a:xfrm>
            <a:custGeom>
              <a:avLst/>
              <a:gdLst/>
              <a:ahLst/>
              <a:rect l="0" t="0" r="r" b="b"/>
              <a:pathLst>
                <a:path w="2065" h="2528">
                  <a:moveTo>
                    <a:pt x="2052" y="48"/>
                  </a:moveTo>
                  <a:lnTo>
                    <a:pt x="1884" y="0"/>
                  </a:lnTo>
                  <a:lnTo>
                    <a:pt x="1633" y="119"/>
                  </a:lnTo>
                  <a:lnTo>
                    <a:pt x="1151" y="755"/>
                  </a:lnTo>
                  <a:lnTo>
                    <a:pt x="0" y="2052"/>
                  </a:lnTo>
                  <a:lnTo>
                    <a:pt x="565" y="2528"/>
                  </a:lnTo>
                  <a:lnTo>
                    <a:pt x="1491" y="1350"/>
                  </a:lnTo>
                  <a:lnTo>
                    <a:pt x="2065" y="396"/>
                  </a:lnTo>
                  <a:lnTo>
                    <a:pt x="2052" y="4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33560" y="334980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9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01960" y="210816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1682" y="0"/>
                  </a:moveTo>
                  <a:lnTo>
                    <a:pt x="1964" y="229"/>
                  </a:lnTo>
                  <a:lnTo>
                    <a:pt x="2127" y="590"/>
                  </a:lnTo>
                  <a:lnTo>
                    <a:pt x="2171" y="1050"/>
                  </a:lnTo>
                  <a:lnTo>
                    <a:pt x="2193" y="2324"/>
                  </a:lnTo>
                  <a:lnTo>
                    <a:pt x="2149" y="3057"/>
                  </a:lnTo>
                  <a:lnTo>
                    <a:pt x="1473" y="3102"/>
                  </a:lnTo>
                  <a:lnTo>
                    <a:pt x="1376" y="3512"/>
                  </a:lnTo>
                  <a:lnTo>
                    <a:pt x="1284" y="3785"/>
                  </a:lnTo>
                  <a:lnTo>
                    <a:pt x="1076" y="3785"/>
                  </a:lnTo>
                  <a:lnTo>
                    <a:pt x="957" y="3534"/>
                  </a:lnTo>
                  <a:lnTo>
                    <a:pt x="1028" y="3102"/>
                  </a:lnTo>
                  <a:lnTo>
                    <a:pt x="396" y="3031"/>
                  </a:lnTo>
                  <a:lnTo>
                    <a:pt x="374" y="2598"/>
                  </a:lnTo>
                  <a:lnTo>
                    <a:pt x="233" y="2668"/>
                  </a:lnTo>
                  <a:lnTo>
                    <a:pt x="97" y="2620"/>
                  </a:lnTo>
                  <a:lnTo>
                    <a:pt x="0" y="2258"/>
                  </a:lnTo>
                  <a:lnTo>
                    <a:pt x="119" y="2073"/>
                  </a:lnTo>
                  <a:lnTo>
                    <a:pt x="260" y="2100"/>
                  </a:lnTo>
                  <a:lnTo>
                    <a:pt x="119" y="158"/>
                  </a:lnTo>
                  <a:lnTo>
                    <a:pt x="16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25760" y="249084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48120" y="245736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3880" y="263052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94240" y="263844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3481560" y="1930320"/>
              <a:ext cx="612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flipV="1">
              <a:off x="3371760" y="1913040"/>
              <a:ext cx="1584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3211560" y="1905120"/>
              <a:ext cx="3312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3052800" y="1946160"/>
              <a:ext cx="4932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927520" y="1969920"/>
              <a:ext cx="47520" cy="155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19400" y="292896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1611" y="0"/>
                  </a:moveTo>
                  <a:lnTo>
                    <a:pt x="0" y="141"/>
                  </a:lnTo>
                  <a:lnTo>
                    <a:pt x="957" y="618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70160" y="335592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8" y="411"/>
                  </a:lnTo>
                  <a:lnTo>
                    <a:pt x="163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63" y="0"/>
                  </a:lnTo>
                  <a:lnTo>
                    <a:pt x="326" y="230"/>
                  </a:lnTo>
                  <a:lnTo>
                    <a:pt x="587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2654280" y="3495600"/>
              <a:ext cx="449640" cy="1243440"/>
              <a:chOff x="2654280" y="3495600"/>
              <a:chExt cx="449640" cy="1243440"/>
            </a:xfrm>
          </p:grpSpPr>
          <p:sp>
            <p:nvSpPr>
              <p:cNvPr id="1031" name=""/>
              <p:cNvSpPr/>
              <p:nvPr/>
            </p:nvSpPr>
            <p:spPr>
              <a:xfrm>
                <a:off x="267480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5428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5037120" y="4564080"/>
              <a:ext cx="1335240" cy="1608480"/>
              <a:chOff x="5037120" y="4564080"/>
              <a:chExt cx="1335240" cy="1608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5373720" y="456408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0" y="0"/>
                    </a:moveTo>
                    <a:lnTo>
                      <a:pt x="279" y="4124"/>
                    </a:lnTo>
                    <a:lnTo>
                      <a:pt x="910" y="4124"/>
                    </a:lnTo>
                    <a:lnTo>
                      <a:pt x="817" y="1116"/>
                    </a:lnTo>
                    <a:lnTo>
                      <a:pt x="910" y="4124"/>
                    </a:lnTo>
                    <a:lnTo>
                      <a:pt x="1611" y="4124"/>
                    </a:lnTo>
                    <a:lnTo>
                      <a:pt x="15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371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4" y="160"/>
                    </a:moveTo>
                    <a:lnTo>
                      <a:pt x="863" y="45"/>
                    </a:lnTo>
                    <a:lnTo>
                      <a:pt x="629" y="0"/>
                    </a:lnTo>
                    <a:lnTo>
                      <a:pt x="373" y="91"/>
                    </a:lnTo>
                    <a:lnTo>
                      <a:pt x="116" y="229"/>
                    </a:lnTo>
                    <a:lnTo>
                      <a:pt x="0" y="413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60"/>
                    </a:lnTo>
                    <a:lnTo>
                      <a:pt x="121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085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29" y="160"/>
                    </a:moveTo>
                    <a:lnTo>
                      <a:pt x="980" y="45"/>
                    </a:lnTo>
                    <a:lnTo>
                      <a:pt x="1214" y="0"/>
                    </a:lnTo>
                    <a:lnTo>
                      <a:pt x="1470" y="91"/>
                    </a:lnTo>
                    <a:lnTo>
                      <a:pt x="1727" y="229"/>
                    </a:lnTo>
                    <a:lnTo>
                      <a:pt x="1844" y="413"/>
                    </a:lnTo>
                    <a:lnTo>
                      <a:pt x="1680" y="504"/>
                    </a:lnTo>
                    <a:lnTo>
                      <a:pt x="0" y="504"/>
                    </a:lnTo>
                    <a:lnTo>
                      <a:pt x="0" y="160"/>
                    </a:lnTo>
                    <a:lnTo>
                      <a:pt x="62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52642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72200" y="211788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512" y="0"/>
                  </a:moveTo>
                  <a:lnTo>
                    <a:pt x="233" y="227"/>
                  </a:lnTo>
                  <a:lnTo>
                    <a:pt x="69" y="592"/>
                  </a:lnTo>
                  <a:lnTo>
                    <a:pt x="23" y="1049"/>
                  </a:lnTo>
                  <a:lnTo>
                    <a:pt x="0" y="2325"/>
                  </a:lnTo>
                  <a:lnTo>
                    <a:pt x="46" y="3056"/>
                  </a:lnTo>
                  <a:lnTo>
                    <a:pt x="723" y="3101"/>
                  </a:lnTo>
                  <a:lnTo>
                    <a:pt x="817" y="3512"/>
                  </a:lnTo>
                  <a:lnTo>
                    <a:pt x="910" y="3785"/>
                  </a:lnTo>
                  <a:lnTo>
                    <a:pt x="1120" y="3785"/>
                  </a:lnTo>
                  <a:lnTo>
                    <a:pt x="1236" y="3534"/>
                  </a:lnTo>
                  <a:lnTo>
                    <a:pt x="1166" y="3101"/>
                  </a:lnTo>
                  <a:lnTo>
                    <a:pt x="1797" y="3033"/>
                  </a:lnTo>
                  <a:lnTo>
                    <a:pt x="1820" y="2599"/>
                  </a:lnTo>
                  <a:lnTo>
                    <a:pt x="1960" y="2667"/>
                  </a:lnTo>
                  <a:lnTo>
                    <a:pt x="2100" y="2622"/>
                  </a:lnTo>
                  <a:lnTo>
                    <a:pt x="2193" y="2257"/>
                  </a:lnTo>
                  <a:lnTo>
                    <a:pt x="2077" y="2075"/>
                  </a:lnTo>
                  <a:lnTo>
                    <a:pt x="1937" y="2097"/>
                  </a:lnTo>
                  <a:lnTo>
                    <a:pt x="2077" y="159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75360" y="250020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86400" y="246708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8148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54520" y="26398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92720" y="264780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75240" y="194004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5575320" y="1922400"/>
              <a:ext cx="1584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718240" y="1914480"/>
              <a:ext cx="3312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861160" y="1955880"/>
              <a:ext cx="4896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987880" y="1979640"/>
              <a:ext cx="4788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64280" y="293832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0" y="618"/>
                  </a:moveTo>
                  <a:lnTo>
                    <a:pt x="1611" y="477"/>
                  </a:lnTo>
                  <a:lnTo>
                    <a:pt x="653" y="0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24560" y="336564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0" y="296"/>
                  </a:moveTo>
                  <a:lnTo>
                    <a:pt x="209" y="410"/>
                  </a:lnTo>
                  <a:lnTo>
                    <a:pt x="583" y="433"/>
                  </a:lnTo>
                  <a:lnTo>
                    <a:pt x="746" y="228"/>
                  </a:lnTo>
                  <a:lnTo>
                    <a:pt x="746" y="68"/>
                  </a:lnTo>
                  <a:lnTo>
                    <a:pt x="583" y="0"/>
                  </a:lnTo>
                  <a:lnTo>
                    <a:pt x="420" y="228"/>
                  </a:lnTo>
                  <a:lnTo>
                    <a:pt x="163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859360" y="3505320"/>
              <a:ext cx="449280" cy="1243080"/>
              <a:chOff x="5859360" y="3505320"/>
              <a:chExt cx="449280" cy="12430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859360" y="350532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210" y="0"/>
                    </a:moveTo>
                    <a:lnTo>
                      <a:pt x="70" y="91"/>
                    </a:lnTo>
                    <a:lnTo>
                      <a:pt x="0" y="364"/>
                    </a:lnTo>
                    <a:lnTo>
                      <a:pt x="186" y="1140"/>
                    </a:lnTo>
                    <a:lnTo>
                      <a:pt x="467" y="2850"/>
                    </a:lnTo>
                    <a:lnTo>
                      <a:pt x="1192" y="2713"/>
                    </a:lnTo>
                    <a:lnTo>
                      <a:pt x="864" y="1254"/>
                    </a:lnTo>
                    <a:lnTo>
                      <a:pt x="491" y="205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40440" y="450216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54957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0680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19240" y="4495680"/>
              <a:ext cx="2445120" cy="1797480"/>
            </a:xfrm>
            <a:custGeom>
              <a:avLst/>
              <a:gdLst/>
              <a:ahLst/>
              <a:rect l="0" t="0" r="r" b="b"/>
              <a:pathLst>
                <a:path w="6792" h="4993">
                  <a:moveTo>
                    <a:pt x="1830" y="492"/>
                  </a:moveTo>
                  <a:lnTo>
                    <a:pt x="1830" y="572"/>
                  </a:lnTo>
                  <a:lnTo>
                    <a:pt x="1847" y="620"/>
                  </a:lnTo>
                  <a:lnTo>
                    <a:pt x="1896" y="635"/>
                  </a:lnTo>
                  <a:lnTo>
                    <a:pt x="1945" y="651"/>
                  </a:lnTo>
                  <a:lnTo>
                    <a:pt x="2011" y="667"/>
                  </a:lnTo>
                  <a:lnTo>
                    <a:pt x="2061" y="683"/>
                  </a:lnTo>
                  <a:lnTo>
                    <a:pt x="2110" y="699"/>
                  </a:lnTo>
                  <a:lnTo>
                    <a:pt x="2160" y="699"/>
                  </a:lnTo>
                  <a:lnTo>
                    <a:pt x="2193" y="747"/>
                  </a:lnTo>
                  <a:lnTo>
                    <a:pt x="2193" y="794"/>
                  </a:lnTo>
                  <a:lnTo>
                    <a:pt x="2193" y="858"/>
                  </a:lnTo>
                  <a:lnTo>
                    <a:pt x="2176" y="906"/>
                  </a:lnTo>
                  <a:lnTo>
                    <a:pt x="2127" y="937"/>
                  </a:lnTo>
                  <a:lnTo>
                    <a:pt x="2061" y="985"/>
                  </a:lnTo>
                  <a:lnTo>
                    <a:pt x="2011" y="1001"/>
                  </a:lnTo>
                  <a:lnTo>
                    <a:pt x="1962" y="1033"/>
                  </a:lnTo>
                  <a:lnTo>
                    <a:pt x="1913" y="1049"/>
                  </a:lnTo>
                  <a:lnTo>
                    <a:pt x="1896" y="1096"/>
                  </a:lnTo>
                  <a:lnTo>
                    <a:pt x="1847" y="1160"/>
                  </a:lnTo>
                  <a:lnTo>
                    <a:pt x="1830" y="1208"/>
                  </a:lnTo>
                  <a:lnTo>
                    <a:pt x="1797" y="1256"/>
                  </a:lnTo>
                  <a:lnTo>
                    <a:pt x="1781" y="1304"/>
                  </a:lnTo>
                  <a:lnTo>
                    <a:pt x="1764" y="1352"/>
                  </a:lnTo>
                  <a:lnTo>
                    <a:pt x="1715" y="1384"/>
                  </a:lnTo>
                  <a:lnTo>
                    <a:pt x="1664" y="1384"/>
                  </a:lnTo>
                  <a:lnTo>
                    <a:pt x="1615" y="1415"/>
                  </a:lnTo>
                  <a:lnTo>
                    <a:pt x="1565" y="1463"/>
                  </a:lnTo>
                  <a:lnTo>
                    <a:pt x="1466" y="1495"/>
                  </a:lnTo>
                  <a:lnTo>
                    <a:pt x="1368" y="1511"/>
                  </a:lnTo>
                  <a:lnTo>
                    <a:pt x="1335" y="1558"/>
                  </a:lnTo>
                  <a:lnTo>
                    <a:pt x="1318" y="1606"/>
                  </a:lnTo>
                  <a:lnTo>
                    <a:pt x="1318" y="1733"/>
                  </a:lnTo>
                  <a:lnTo>
                    <a:pt x="1318" y="1892"/>
                  </a:lnTo>
                  <a:lnTo>
                    <a:pt x="1318" y="1988"/>
                  </a:lnTo>
                  <a:lnTo>
                    <a:pt x="1285" y="2051"/>
                  </a:lnTo>
                  <a:lnTo>
                    <a:pt x="1269" y="2099"/>
                  </a:lnTo>
                  <a:lnTo>
                    <a:pt x="1203" y="2131"/>
                  </a:lnTo>
                  <a:lnTo>
                    <a:pt x="1153" y="2163"/>
                  </a:lnTo>
                  <a:lnTo>
                    <a:pt x="1104" y="2210"/>
                  </a:lnTo>
                  <a:lnTo>
                    <a:pt x="1087" y="2274"/>
                  </a:lnTo>
                  <a:lnTo>
                    <a:pt x="1087" y="2337"/>
                  </a:lnTo>
                  <a:lnTo>
                    <a:pt x="1054" y="2401"/>
                  </a:lnTo>
                  <a:lnTo>
                    <a:pt x="1021" y="2465"/>
                  </a:lnTo>
                  <a:lnTo>
                    <a:pt x="972" y="2512"/>
                  </a:lnTo>
                  <a:lnTo>
                    <a:pt x="939" y="2560"/>
                  </a:lnTo>
                  <a:lnTo>
                    <a:pt x="840" y="2592"/>
                  </a:lnTo>
                  <a:lnTo>
                    <a:pt x="791" y="2639"/>
                  </a:lnTo>
                  <a:lnTo>
                    <a:pt x="758" y="2687"/>
                  </a:lnTo>
                  <a:lnTo>
                    <a:pt x="741" y="2735"/>
                  </a:lnTo>
                  <a:lnTo>
                    <a:pt x="725" y="2783"/>
                  </a:lnTo>
                  <a:lnTo>
                    <a:pt x="725" y="2830"/>
                  </a:lnTo>
                  <a:lnTo>
                    <a:pt x="725" y="2878"/>
                  </a:lnTo>
                  <a:lnTo>
                    <a:pt x="708" y="2926"/>
                  </a:lnTo>
                  <a:lnTo>
                    <a:pt x="708" y="2973"/>
                  </a:lnTo>
                  <a:lnTo>
                    <a:pt x="692" y="3021"/>
                  </a:lnTo>
                  <a:lnTo>
                    <a:pt x="659" y="3069"/>
                  </a:lnTo>
                  <a:lnTo>
                    <a:pt x="626" y="3116"/>
                  </a:lnTo>
                  <a:lnTo>
                    <a:pt x="626" y="3164"/>
                  </a:lnTo>
                  <a:lnTo>
                    <a:pt x="626" y="3212"/>
                  </a:lnTo>
                  <a:lnTo>
                    <a:pt x="609" y="3259"/>
                  </a:lnTo>
                  <a:lnTo>
                    <a:pt x="576" y="3307"/>
                  </a:lnTo>
                  <a:lnTo>
                    <a:pt x="527" y="3355"/>
                  </a:lnTo>
                  <a:lnTo>
                    <a:pt x="478" y="3403"/>
                  </a:lnTo>
                  <a:lnTo>
                    <a:pt x="445" y="3450"/>
                  </a:lnTo>
                  <a:lnTo>
                    <a:pt x="428" y="3498"/>
                  </a:lnTo>
                  <a:lnTo>
                    <a:pt x="412" y="3546"/>
                  </a:lnTo>
                  <a:lnTo>
                    <a:pt x="412" y="3593"/>
                  </a:lnTo>
                  <a:lnTo>
                    <a:pt x="412" y="3641"/>
                  </a:lnTo>
                  <a:lnTo>
                    <a:pt x="428" y="3689"/>
                  </a:lnTo>
                  <a:lnTo>
                    <a:pt x="445" y="3736"/>
                  </a:lnTo>
                  <a:lnTo>
                    <a:pt x="445" y="3785"/>
                  </a:lnTo>
                  <a:lnTo>
                    <a:pt x="445" y="3833"/>
                  </a:lnTo>
                  <a:lnTo>
                    <a:pt x="494" y="3880"/>
                  </a:lnTo>
                  <a:lnTo>
                    <a:pt x="543" y="3912"/>
                  </a:lnTo>
                  <a:lnTo>
                    <a:pt x="593" y="3944"/>
                  </a:lnTo>
                  <a:lnTo>
                    <a:pt x="642" y="3976"/>
                  </a:lnTo>
                  <a:lnTo>
                    <a:pt x="659" y="4024"/>
                  </a:lnTo>
                  <a:lnTo>
                    <a:pt x="708" y="4055"/>
                  </a:lnTo>
                  <a:lnTo>
                    <a:pt x="758" y="4087"/>
                  </a:lnTo>
                  <a:lnTo>
                    <a:pt x="807" y="4087"/>
                  </a:lnTo>
                  <a:lnTo>
                    <a:pt x="857" y="4087"/>
                  </a:lnTo>
                  <a:lnTo>
                    <a:pt x="906" y="4087"/>
                  </a:lnTo>
                  <a:lnTo>
                    <a:pt x="972" y="4103"/>
                  </a:lnTo>
                  <a:lnTo>
                    <a:pt x="1021" y="4135"/>
                  </a:lnTo>
                  <a:lnTo>
                    <a:pt x="1087" y="4167"/>
                  </a:lnTo>
                  <a:lnTo>
                    <a:pt x="1137" y="4198"/>
                  </a:lnTo>
                  <a:lnTo>
                    <a:pt x="1186" y="4214"/>
                  </a:lnTo>
                  <a:lnTo>
                    <a:pt x="1219" y="4262"/>
                  </a:lnTo>
                  <a:lnTo>
                    <a:pt x="1285" y="4326"/>
                  </a:lnTo>
                  <a:lnTo>
                    <a:pt x="1335" y="4373"/>
                  </a:lnTo>
                  <a:lnTo>
                    <a:pt x="1384" y="4389"/>
                  </a:lnTo>
                  <a:lnTo>
                    <a:pt x="1434" y="4405"/>
                  </a:lnTo>
                  <a:lnTo>
                    <a:pt x="1549" y="4421"/>
                  </a:lnTo>
                  <a:lnTo>
                    <a:pt x="1598" y="4437"/>
                  </a:lnTo>
                  <a:lnTo>
                    <a:pt x="1664" y="4469"/>
                  </a:lnTo>
                  <a:lnTo>
                    <a:pt x="1731" y="4485"/>
                  </a:lnTo>
                  <a:lnTo>
                    <a:pt x="1847" y="4485"/>
                  </a:lnTo>
                  <a:lnTo>
                    <a:pt x="1896" y="4485"/>
                  </a:lnTo>
                  <a:lnTo>
                    <a:pt x="1945" y="4469"/>
                  </a:lnTo>
                  <a:lnTo>
                    <a:pt x="1995" y="4453"/>
                  </a:lnTo>
                  <a:lnTo>
                    <a:pt x="2061" y="4453"/>
                  </a:lnTo>
                  <a:lnTo>
                    <a:pt x="2110" y="4469"/>
                  </a:lnTo>
                  <a:lnTo>
                    <a:pt x="2160" y="4485"/>
                  </a:lnTo>
                  <a:lnTo>
                    <a:pt x="2209" y="4516"/>
                  </a:lnTo>
                  <a:lnTo>
                    <a:pt x="2259" y="4532"/>
                  </a:lnTo>
                  <a:lnTo>
                    <a:pt x="2308" y="4548"/>
                  </a:lnTo>
                  <a:lnTo>
                    <a:pt x="2374" y="4564"/>
                  </a:lnTo>
                  <a:lnTo>
                    <a:pt x="2423" y="4548"/>
                  </a:lnTo>
                  <a:lnTo>
                    <a:pt x="2555" y="4532"/>
                  </a:lnTo>
                  <a:lnTo>
                    <a:pt x="2605" y="4516"/>
                  </a:lnTo>
                  <a:lnTo>
                    <a:pt x="2654" y="4516"/>
                  </a:lnTo>
                  <a:lnTo>
                    <a:pt x="2704" y="4500"/>
                  </a:lnTo>
                  <a:lnTo>
                    <a:pt x="2753" y="4516"/>
                  </a:lnTo>
                  <a:lnTo>
                    <a:pt x="2819" y="4516"/>
                  </a:lnTo>
                  <a:lnTo>
                    <a:pt x="2918" y="4500"/>
                  </a:lnTo>
                  <a:lnTo>
                    <a:pt x="3017" y="4485"/>
                  </a:lnTo>
                  <a:lnTo>
                    <a:pt x="3083" y="4485"/>
                  </a:lnTo>
                  <a:lnTo>
                    <a:pt x="3132" y="4485"/>
                  </a:lnTo>
                  <a:lnTo>
                    <a:pt x="3182" y="4485"/>
                  </a:lnTo>
                  <a:lnTo>
                    <a:pt x="3281" y="4485"/>
                  </a:lnTo>
                  <a:lnTo>
                    <a:pt x="3380" y="4485"/>
                  </a:lnTo>
                  <a:lnTo>
                    <a:pt x="3478" y="4485"/>
                  </a:lnTo>
                  <a:lnTo>
                    <a:pt x="3528" y="4469"/>
                  </a:lnTo>
                  <a:lnTo>
                    <a:pt x="3660" y="4453"/>
                  </a:lnTo>
                  <a:lnTo>
                    <a:pt x="3709" y="4453"/>
                  </a:lnTo>
                  <a:lnTo>
                    <a:pt x="3858" y="4485"/>
                  </a:lnTo>
                  <a:lnTo>
                    <a:pt x="3956" y="4485"/>
                  </a:lnTo>
                  <a:lnTo>
                    <a:pt x="4022" y="4500"/>
                  </a:lnTo>
                  <a:lnTo>
                    <a:pt x="4072" y="4500"/>
                  </a:lnTo>
                  <a:lnTo>
                    <a:pt x="4171" y="4500"/>
                  </a:lnTo>
                  <a:lnTo>
                    <a:pt x="4270" y="4500"/>
                  </a:lnTo>
                  <a:lnTo>
                    <a:pt x="4401" y="4500"/>
                  </a:lnTo>
                  <a:lnTo>
                    <a:pt x="4451" y="4485"/>
                  </a:lnTo>
                  <a:lnTo>
                    <a:pt x="4500" y="4485"/>
                  </a:lnTo>
                  <a:lnTo>
                    <a:pt x="4550" y="4469"/>
                  </a:lnTo>
                  <a:lnTo>
                    <a:pt x="4599" y="4453"/>
                  </a:lnTo>
                  <a:lnTo>
                    <a:pt x="4649" y="4453"/>
                  </a:lnTo>
                  <a:lnTo>
                    <a:pt x="4698" y="4453"/>
                  </a:lnTo>
                  <a:lnTo>
                    <a:pt x="4830" y="4453"/>
                  </a:lnTo>
                  <a:lnTo>
                    <a:pt x="4929" y="4453"/>
                  </a:lnTo>
                  <a:lnTo>
                    <a:pt x="4978" y="4453"/>
                  </a:lnTo>
                  <a:lnTo>
                    <a:pt x="5028" y="4453"/>
                  </a:lnTo>
                  <a:lnTo>
                    <a:pt x="5077" y="4453"/>
                  </a:lnTo>
                  <a:lnTo>
                    <a:pt x="5128" y="4453"/>
                  </a:lnTo>
                  <a:lnTo>
                    <a:pt x="5177" y="4437"/>
                  </a:lnTo>
                  <a:lnTo>
                    <a:pt x="5227" y="4421"/>
                  </a:lnTo>
                  <a:lnTo>
                    <a:pt x="5276" y="4405"/>
                  </a:lnTo>
                  <a:lnTo>
                    <a:pt x="5408" y="4389"/>
                  </a:lnTo>
                  <a:lnTo>
                    <a:pt x="5457" y="4373"/>
                  </a:lnTo>
                  <a:lnTo>
                    <a:pt x="5507" y="4357"/>
                  </a:lnTo>
                  <a:lnTo>
                    <a:pt x="5556" y="4326"/>
                  </a:lnTo>
                  <a:lnTo>
                    <a:pt x="5606" y="4294"/>
                  </a:lnTo>
                  <a:lnTo>
                    <a:pt x="5655" y="4262"/>
                  </a:lnTo>
                  <a:lnTo>
                    <a:pt x="5705" y="4230"/>
                  </a:lnTo>
                  <a:lnTo>
                    <a:pt x="5771" y="4230"/>
                  </a:lnTo>
                  <a:lnTo>
                    <a:pt x="5820" y="4246"/>
                  </a:lnTo>
                  <a:lnTo>
                    <a:pt x="5869" y="4278"/>
                  </a:lnTo>
                  <a:lnTo>
                    <a:pt x="5919" y="4294"/>
                  </a:lnTo>
                  <a:lnTo>
                    <a:pt x="5968" y="4326"/>
                  </a:lnTo>
                  <a:lnTo>
                    <a:pt x="6034" y="4342"/>
                  </a:lnTo>
                  <a:lnTo>
                    <a:pt x="6100" y="4357"/>
                  </a:lnTo>
                  <a:lnTo>
                    <a:pt x="6150" y="4357"/>
                  </a:lnTo>
                  <a:lnTo>
                    <a:pt x="6199" y="4342"/>
                  </a:lnTo>
                  <a:lnTo>
                    <a:pt x="6249" y="4326"/>
                  </a:lnTo>
                  <a:lnTo>
                    <a:pt x="6298" y="4294"/>
                  </a:lnTo>
                  <a:lnTo>
                    <a:pt x="6347" y="4230"/>
                  </a:lnTo>
                  <a:lnTo>
                    <a:pt x="6364" y="4183"/>
                  </a:lnTo>
                  <a:lnTo>
                    <a:pt x="6364" y="4119"/>
                  </a:lnTo>
                  <a:lnTo>
                    <a:pt x="6364" y="4071"/>
                  </a:lnTo>
                  <a:lnTo>
                    <a:pt x="6364" y="4024"/>
                  </a:lnTo>
                  <a:lnTo>
                    <a:pt x="6364" y="3976"/>
                  </a:lnTo>
                  <a:lnTo>
                    <a:pt x="6347" y="3928"/>
                  </a:lnTo>
                  <a:lnTo>
                    <a:pt x="6331" y="3880"/>
                  </a:lnTo>
                  <a:lnTo>
                    <a:pt x="6298" y="3833"/>
                  </a:lnTo>
                  <a:lnTo>
                    <a:pt x="6265" y="3769"/>
                  </a:lnTo>
                  <a:lnTo>
                    <a:pt x="6199" y="3641"/>
                  </a:lnTo>
                  <a:lnTo>
                    <a:pt x="6183" y="3546"/>
                  </a:lnTo>
                  <a:lnTo>
                    <a:pt x="6166" y="3498"/>
                  </a:lnTo>
                  <a:lnTo>
                    <a:pt x="6117" y="3434"/>
                  </a:lnTo>
                  <a:lnTo>
                    <a:pt x="6067" y="3371"/>
                  </a:lnTo>
                  <a:lnTo>
                    <a:pt x="6051" y="3307"/>
                  </a:lnTo>
                  <a:lnTo>
                    <a:pt x="6051" y="3259"/>
                  </a:lnTo>
                  <a:lnTo>
                    <a:pt x="6051" y="3164"/>
                  </a:lnTo>
                  <a:lnTo>
                    <a:pt x="6051" y="3069"/>
                  </a:lnTo>
                  <a:lnTo>
                    <a:pt x="6051" y="3021"/>
                  </a:lnTo>
                  <a:lnTo>
                    <a:pt x="6051" y="2973"/>
                  </a:lnTo>
                  <a:lnTo>
                    <a:pt x="6067" y="2926"/>
                  </a:lnTo>
                  <a:lnTo>
                    <a:pt x="6117" y="2862"/>
                  </a:lnTo>
                  <a:lnTo>
                    <a:pt x="6133" y="2814"/>
                  </a:lnTo>
                  <a:lnTo>
                    <a:pt x="6133" y="2767"/>
                  </a:lnTo>
                  <a:lnTo>
                    <a:pt x="6133" y="2639"/>
                  </a:lnTo>
                  <a:lnTo>
                    <a:pt x="6133" y="2592"/>
                  </a:lnTo>
                  <a:lnTo>
                    <a:pt x="6133" y="2544"/>
                  </a:lnTo>
                  <a:lnTo>
                    <a:pt x="6133" y="2449"/>
                  </a:lnTo>
                  <a:lnTo>
                    <a:pt x="6117" y="2322"/>
                  </a:lnTo>
                  <a:lnTo>
                    <a:pt x="6100" y="2274"/>
                  </a:lnTo>
                  <a:lnTo>
                    <a:pt x="6084" y="2226"/>
                  </a:lnTo>
                  <a:lnTo>
                    <a:pt x="6084" y="2178"/>
                  </a:lnTo>
                  <a:lnTo>
                    <a:pt x="6084" y="2131"/>
                  </a:lnTo>
                  <a:lnTo>
                    <a:pt x="6100" y="2083"/>
                  </a:lnTo>
                  <a:lnTo>
                    <a:pt x="6117" y="2019"/>
                  </a:lnTo>
                  <a:lnTo>
                    <a:pt x="6150" y="1972"/>
                  </a:lnTo>
                  <a:lnTo>
                    <a:pt x="6166" y="1908"/>
                  </a:lnTo>
                  <a:lnTo>
                    <a:pt x="6183" y="1813"/>
                  </a:lnTo>
                  <a:lnTo>
                    <a:pt x="6183" y="1749"/>
                  </a:lnTo>
                  <a:lnTo>
                    <a:pt x="6183" y="1686"/>
                  </a:lnTo>
                  <a:lnTo>
                    <a:pt x="6183" y="1638"/>
                  </a:lnTo>
                  <a:lnTo>
                    <a:pt x="6166" y="1590"/>
                  </a:lnTo>
                  <a:lnTo>
                    <a:pt x="6166" y="1543"/>
                  </a:lnTo>
                  <a:lnTo>
                    <a:pt x="6166" y="1415"/>
                  </a:lnTo>
                  <a:lnTo>
                    <a:pt x="6133" y="1320"/>
                  </a:lnTo>
                  <a:lnTo>
                    <a:pt x="6117" y="1224"/>
                  </a:lnTo>
                  <a:lnTo>
                    <a:pt x="6100" y="1160"/>
                  </a:lnTo>
                  <a:lnTo>
                    <a:pt x="6084" y="1112"/>
                  </a:lnTo>
                  <a:lnTo>
                    <a:pt x="6067" y="1017"/>
                  </a:lnTo>
                  <a:lnTo>
                    <a:pt x="6034" y="969"/>
                  </a:lnTo>
                  <a:lnTo>
                    <a:pt x="5985" y="922"/>
                  </a:lnTo>
                  <a:lnTo>
                    <a:pt x="5952" y="874"/>
                  </a:lnTo>
                  <a:lnTo>
                    <a:pt x="5919" y="826"/>
                  </a:lnTo>
                  <a:lnTo>
                    <a:pt x="5902" y="778"/>
                  </a:lnTo>
                  <a:lnTo>
                    <a:pt x="5902" y="731"/>
                  </a:lnTo>
                  <a:lnTo>
                    <a:pt x="5919" y="683"/>
                  </a:lnTo>
                  <a:lnTo>
                    <a:pt x="5919" y="635"/>
                  </a:lnTo>
                  <a:lnTo>
                    <a:pt x="5919" y="588"/>
                  </a:lnTo>
                  <a:lnTo>
                    <a:pt x="5919" y="540"/>
                  </a:lnTo>
                  <a:lnTo>
                    <a:pt x="5919" y="476"/>
                  </a:lnTo>
                  <a:lnTo>
                    <a:pt x="5919" y="429"/>
                  </a:lnTo>
                  <a:lnTo>
                    <a:pt x="5919" y="381"/>
                  </a:lnTo>
                  <a:lnTo>
                    <a:pt x="5919" y="333"/>
                  </a:lnTo>
                  <a:lnTo>
                    <a:pt x="5935" y="286"/>
                  </a:lnTo>
                  <a:lnTo>
                    <a:pt x="5968" y="238"/>
                  </a:lnTo>
                  <a:lnTo>
                    <a:pt x="5968" y="190"/>
                  </a:lnTo>
                  <a:lnTo>
                    <a:pt x="5952" y="143"/>
                  </a:lnTo>
                  <a:lnTo>
                    <a:pt x="5952" y="95"/>
                  </a:lnTo>
                  <a:lnTo>
                    <a:pt x="5952" y="31"/>
                  </a:lnTo>
                  <a:lnTo>
                    <a:pt x="6001" y="63"/>
                  </a:lnTo>
                  <a:lnTo>
                    <a:pt x="6051" y="79"/>
                  </a:lnTo>
                  <a:lnTo>
                    <a:pt x="6100" y="79"/>
                  </a:lnTo>
                  <a:lnTo>
                    <a:pt x="6150" y="63"/>
                  </a:lnTo>
                  <a:lnTo>
                    <a:pt x="6199" y="31"/>
                  </a:lnTo>
                  <a:lnTo>
                    <a:pt x="6249" y="15"/>
                  </a:lnTo>
                  <a:lnTo>
                    <a:pt x="6298" y="0"/>
                  </a:lnTo>
                  <a:lnTo>
                    <a:pt x="6347" y="0"/>
                  </a:lnTo>
                  <a:lnTo>
                    <a:pt x="6364" y="47"/>
                  </a:lnTo>
                  <a:lnTo>
                    <a:pt x="6364" y="95"/>
                  </a:lnTo>
                  <a:lnTo>
                    <a:pt x="6364" y="143"/>
                  </a:lnTo>
                  <a:lnTo>
                    <a:pt x="6364" y="190"/>
                  </a:lnTo>
                  <a:lnTo>
                    <a:pt x="6364" y="238"/>
                  </a:lnTo>
                  <a:lnTo>
                    <a:pt x="6364" y="302"/>
                  </a:lnTo>
                  <a:lnTo>
                    <a:pt x="6364" y="349"/>
                  </a:lnTo>
                  <a:lnTo>
                    <a:pt x="6364" y="397"/>
                  </a:lnTo>
                  <a:lnTo>
                    <a:pt x="6364" y="445"/>
                  </a:lnTo>
                  <a:lnTo>
                    <a:pt x="6347" y="492"/>
                  </a:lnTo>
                  <a:lnTo>
                    <a:pt x="6347" y="540"/>
                  </a:lnTo>
                  <a:lnTo>
                    <a:pt x="6364" y="588"/>
                  </a:lnTo>
                  <a:lnTo>
                    <a:pt x="6380" y="651"/>
                  </a:lnTo>
                  <a:lnTo>
                    <a:pt x="6413" y="699"/>
                  </a:lnTo>
                  <a:lnTo>
                    <a:pt x="6446" y="747"/>
                  </a:lnTo>
                  <a:lnTo>
                    <a:pt x="6496" y="810"/>
                  </a:lnTo>
                  <a:lnTo>
                    <a:pt x="6529" y="858"/>
                  </a:lnTo>
                  <a:lnTo>
                    <a:pt x="6529" y="906"/>
                  </a:lnTo>
                  <a:lnTo>
                    <a:pt x="6529" y="953"/>
                  </a:lnTo>
                  <a:lnTo>
                    <a:pt x="6512" y="1001"/>
                  </a:lnTo>
                  <a:lnTo>
                    <a:pt x="6512" y="1049"/>
                  </a:lnTo>
                  <a:lnTo>
                    <a:pt x="6512" y="1096"/>
                  </a:lnTo>
                  <a:lnTo>
                    <a:pt x="6512" y="1144"/>
                  </a:lnTo>
                  <a:lnTo>
                    <a:pt x="6529" y="1192"/>
                  </a:lnTo>
                  <a:lnTo>
                    <a:pt x="6529" y="1240"/>
                  </a:lnTo>
                  <a:lnTo>
                    <a:pt x="6562" y="1304"/>
                  </a:lnTo>
                  <a:lnTo>
                    <a:pt x="6562" y="1399"/>
                  </a:lnTo>
                  <a:lnTo>
                    <a:pt x="6595" y="1463"/>
                  </a:lnTo>
                  <a:lnTo>
                    <a:pt x="6611" y="1511"/>
                  </a:lnTo>
                  <a:lnTo>
                    <a:pt x="6628" y="1558"/>
                  </a:lnTo>
                  <a:lnTo>
                    <a:pt x="6628" y="1606"/>
                  </a:lnTo>
                  <a:lnTo>
                    <a:pt x="6628" y="1654"/>
                  </a:lnTo>
                  <a:lnTo>
                    <a:pt x="6628" y="1702"/>
                  </a:lnTo>
                  <a:lnTo>
                    <a:pt x="6628" y="1749"/>
                  </a:lnTo>
                  <a:lnTo>
                    <a:pt x="6611" y="1797"/>
                  </a:lnTo>
                  <a:lnTo>
                    <a:pt x="6595" y="1845"/>
                  </a:lnTo>
                  <a:lnTo>
                    <a:pt x="6578" y="1892"/>
                  </a:lnTo>
                  <a:lnTo>
                    <a:pt x="6562" y="1940"/>
                  </a:lnTo>
                  <a:lnTo>
                    <a:pt x="6562" y="2004"/>
                  </a:lnTo>
                  <a:lnTo>
                    <a:pt x="6562" y="2067"/>
                  </a:lnTo>
                  <a:lnTo>
                    <a:pt x="6562" y="2115"/>
                  </a:lnTo>
                  <a:lnTo>
                    <a:pt x="6562" y="2163"/>
                  </a:lnTo>
                  <a:lnTo>
                    <a:pt x="6562" y="2210"/>
                  </a:lnTo>
                  <a:lnTo>
                    <a:pt x="6562" y="2274"/>
                  </a:lnTo>
                  <a:lnTo>
                    <a:pt x="6562" y="2322"/>
                  </a:lnTo>
                  <a:lnTo>
                    <a:pt x="6562" y="2369"/>
                  </a:lnTo>
                  <a:lnTo>
                    <a:pt x="6529" y="2417"/>
                  </a:lnTo>
                  <a:lnTo>
                    <a:pt x="6529" y="2481"/>
                  </a:lnTo>
                  <a:lnTo>
                    <a:pt x="6529" y="2576"/>
                  </a:lnTo>
                  <a:lnTo>
                    <a:pt x="6529" y="2639"/>
                  </a:lnTo>
                  <a:lnTo>
                    <a:pt x="6529" y="2687"/>
                  </a:lnTo>
                  <a:lnTo>
                    <a:pt x="6545" y="2735"/>
                  </a:lnTo>
                  <a:lnTo>
                    <a:pt x="6545" y="2783"/>
                  </a:lnTo>
                  <a:lnTo>
                    <a:pt x="6529" y="2830"/>
                  </a:lnTo>
                  <a:lnTo>
                    <a:pt x="6512" y="2878"/>
                  </a:lnTo>
                  <a:lnTo>
                    <a:pt x="6512" y="2926"/>
                  </a:lnTo>
                  <a:lnTo>
                    <a:pt x="6512" y="2973"/>
                  </a:lnTo>
                  <a:lnTo>
                    <a:pt x="6512" y="3037"/>
                  </a:lnTo>
                  <a:lnTo>
                    <a:pt x="6545" y="3085"/>
                  </a:lnTo>
                  <a:lnTo>
                    <a:pt x="6578" y="3148"/>
                  </a:lnTo>
                  <a:lnTo>
                    <a:pt x="6628" y="3196"/>
                  </a:lnTo>
                  <a:lnTo>
                    <a:pt x="6644" y="3244"/>
                  </a:lnTo>
                  <a:lnTo>
                    <a:pt x="6644" y="3291"/>
                  </a:lnTo>
                  <a:lnTo>
                    <a:pt x="6644" y="3339"/>
                  </a:lnTo>
                  <a:lnTo>
                    <a:pt x="6644" y="3387"/>
                  </a:lnTo>
                  <a:lnTo>
                    <a:pt x="6644" y="3450"/>
                  </a:lnTo>
                  <a:lnTo>
                    <a:pt x="6677" y="3514"/>
                  </a:lnTo>
                  <a:lnTo>
                    <a:pt x="6694" y="3562"/>
                  </a:lnTo>
                  <a:lnTo>
                    <a:pt x="6710" y="3609"/>
                  </a:lnTo>
                  <a:lnTo>
                    <a:pt x="6710" y="3657"/>
                  </a:lnTo>
                  <a:lnTo>
                    <a:pt x="6727" y="3705"/>
                  </a:lnTo>
                  <a:lnTo>
                    <a:pt x="6760" y="3769"/>
                  </a:lnTo>
                  <a:lnTo>
                    <a:pt x="6760" y="3817"/>
                  </a:lnTo>
                  <a:lnTo>
                    <a:pt x="6776" y="3865"/>
                  </a:lnTo>
                  <a:lnTo>
                    <a:pt x="6792" y="3912"/>
                  </a:lnTo>
                  <a:lnTo>
                    <a:pt x="6792" y="3976"/>
                  </a:lnTo>
                  <a:lnTo>
                    <a:pt x="6792" y="4024"/>
                  </a:lnTo>
                  <a:lnTo>
                    <a:pt x="6792" y="4087"/>
                  </a:lnTo>
                  <a:lnTo>
                    <a:pt x="6792" y="4135"/>
                  </a:lnTo>
                  <a:lnTo>
                    <a:pt x="6776" y="4183"/>
                  </a:lnTo>
                  <a:lnTo>
                    <a:pt x="6776" y="4230"/>
                  </a:lnTo>
                  <a:lnTo>
                    <a:pt x="6776" y="4278"/>
                  </a:lnTo>
                  <a:lnTo>
                    <a:pt x="6776" y="4342"/>
                  </a:lnTo>
                  <a:lnTo>
                    <a:pt x="6760" y="4405"/>
                  </a:lnTo>
                  <a:lnTo>
                    <a:pt x="6760" y="4453"/>
                  </a:lnTo>
                  <a:lnTo>
                    <a:pt x="6727" y="4500"/>
                  </a:lnTo>
                  <a:lnTo>
                    <a:pt x="6710" y="4548"/>
                  </a:lnTo>
                  <a:lnTo>
                    <a:pt x="6661" y="4612"/>
                  </a:lnTo>
                  <a:lnTo>
                    <a:pt x="6611" y="4644"/>
                  </a:lnTo>
                  <a:lnTo>
                    <a:pt x="6562" y="4659"/>
                  </a:lnTo>
                  <a:lnTo>
                    <a:pt x="6512" y="4675"/>
                  </a:lnTo>
                  <a:lnTo>
                    <a:pt x="6463" y="4691"/>
                  </a:lnTo>
                  <a:lnTo>
                    <a:pt x="6413" y="4691"/>
                  </a:lnTo>
                  <a:lnTo>
                    <a:pt x="6364" y="4691"/>
                  </a:lnTo>
                  <a:lnTo>
                    <a:pt x="6298" y="4691"/>
                  </a:lnTo>
                  <a:lnTo>
                    <a:pt x="6249" y="4659"/>
                  </a:lnTo>
                  <a:lnTo>
                    <a:pt x="6199" y="4628"/>
                  </a:lnTo>
                  <a:lnTo>
                    <a:pt x="6150" y="4612"/>
                  </a:lnTo>
                  <a:lnTo>
                    <a:pt x="6100" y="4612"/>
                  </a:lnTo>
                  <a:lnTo>
                    <a:pt x="6051" y="4628"/>
                  </a:lnTo>
                  <a:lnTo>
                    <a:pt x="6001" y="4628"/>
                  </a:lnTo>
                  <a:lnTo>
                    <a:pt x="5952" y="4644"/>
                  </a:lnTo>
                  <a:lnTo>
                    <a:pt x="5886" y="4644"/>
                  </a:lnTo>
                  <a:lnTo>
                    <a:pt x="5836" y="4659"/>
                  </a:lnTo>
                  <a:lnTo>
                    <a:pt x="5787" y="4675"/>
                  </a:lnTo>
                  <a:lnTo>
                    <a:pt x="5738" y="4707"/>
                  </a:lnTo>
                  <a:lnTo>
                    <a:pt x="5688" y="4723"/>
                  </a:lnTo>
                  <a:lnTo>
                    <a:pt x="5639" y="4755"/>
                  </a:lnTo>
                  <a:lnTo>
                    <a:pt x="5589" y="4771"/>
                  </a:lnTo>
                  <a:lnTo>
                    <a:pt x="5540" y="4803"/>
                  </a:lnTo>
                  <a:lnTo>
                    <a:pt x="5474" y="4834"/>
                  </a:lnTo>
                  <a:lnTo>
                    <a:pt x="5408" y="4850"/>
                  </a:lnTo>
                  <a:lnTo>
                    <a:pt x="5293" y="4866"/>
                  </a:lnTo>
                  <a:lnTo>
                    <a:pt x="5243" y="4882"/>
                  </a:lnTo>
                  <a:lnTo>
                    <a:pt x="5144" y="4898"/>
                  </a:lnTo>
                  <a:lnTo>
                    <a:pt x="5095" y="4914"/>
                  </a:lnTo>
                  <a:lnTo>
                    <a:pt x="5028" y="4914"/>
                  </a:lnTo>
                  <a:lnTo>
                    <a:pt x="4978" y="4946"/>
                  </a:lnTo>
                  <a:lnTo>
                    <a:pt x="4929" y="4962"/>
                  </a:lnTo>
                  <a:lnTo>
                    <a:pt x="4879" y="4977"/>
                  </a:lnTo>
                  <a:lnTo>
                    <a:pt x="4814" y="4977"/>
                  </a:lnTo>
                  <a:lnTo>
                    <a:pt x="4748" y="4977"/>
                  </a:lnTo>
                  <a:lnTo>
                    <a:pt x="4698" y="4977"/>
                  </a:lnTo>
                  <a:lnTo>
                    <a:pt x="4649" y="4977"/>
                  </a:lnTo>
                  <a:lnTo>
                    <a:pt x="4599" y="4977"/>
                  </a:lnTo>
                  <a:lnTo>
                    <a:pt x="4550" y="4977"/>
                  </a:lnTo>
                  <a:lnTo>
                    <a:pt x="4451" y="4977"/>
                  </a:lnTo>
                  <a:lnTo>
                    <a:pt x="4352" y="4962"/>
                  </a:lnTo>
                  <a:lnTo>
                    <a:pt x="4303" y="4946"/>
                  </a:lnTo>
                  <a:lnTo>
                    <a:pt x="4253" y="4930"/>
                  </a:lnTo>
                  <a:lnTo>
                    <a:pt x="4204" y="4930"/>
                  </a:lnTo>
                  <a:lnTo>
                    <a:pt x="4105" y="4914"/>
                  </a:lnTo>
                  <a:lnTo>
                    <a:pt x="4055" y="4914"/>
                  </a:lnTo>
                  <a:lnTo>
                    <a:pt x="3989" y="4930"/>
                  </a:lnTo>
                  <a:lnTo>
                    <a:pt x="3923" y="4930"/>
                  </a:lnTo>
                  <a:lnTo>
                    <a:pt x="3792" y="4930"/>
                  </a:lnTo>
                  <a:lnTo>
                    <a:pt x="3726" y="4946"/>
                  </a:lnTo>
                  <a:lnTo>
                    <a:pt x="3676" y="4946"/>
                  </a:lnTo>
                  <a:lnTo>
                    <a:pt x="3627" y="4946"/>
                  </a:lnTo>
                  <a:lnTo>
                    <a:pt x="3561" y="4946"/>
                  </a:lnTo>
                  <a:lnTo>
                    <a:pt x="3429" y="4946"/>
                  </a:lnTo>
                  <a:lnTo>
                    <a:pt x="3380" y="4946"/>
                  </a:lnTo>
                  <a:lnTo>
                    <a:pt x="3330" y="4946"/>
                  </a:lnTo>
                  <a:lnTo>
                    <a:pt x="3281" y="4946"/>
                  </a:lnTo>
                  <a:lnTo>
                    <a:pt x="3231" y="4946"/>
                  </a:lnTo>
                  <a:lnTo>
                    <a:pt x="3182" y="4946"/>
                  </a:lnTo>
                  <a:lnTo>
                    <a:pt x="3083" y="4946"/>
                  </a:lnTo>
                  <a:lnTo>
                    <a:pt x="3033" y="4946"/>
                  </a:lnTo>
                  <a:lnTo>
                    <a:pt x="2967" y="4962"/>
                  </a:lnTo>
                  <a:lnTo>
                    <a:pt x="2901" y="4962"/>
                  </a:lnTo>
                  <a:lnTo>
                    <a:pt x="2770" y="4946"/>
                  </a:lnTo>
                  <a:lnTo>
                    <a:pt x="2654" y="4962"/>
                  </a:lnTo>
                  <a:lnTo>
                    <a:pt x="2605" y="4962"/>
                  </a:lnTo>
                  <a:lnTo>
                    <a:pt x="2539" y="4962"/>
                  </a:lnTo>
                  <a:lnTo>
                    <a:pt x="2489" y="4962"/>
                  </a:lnTo>
                  <a:lnTo>
                    <a:pt x="2440" y="4962"/>
                  </a:lnTo>
                  <a:lnTo>
                    <a:pt x="2391" y="4962"/>
                  </a:lnTo>
                  <a:lnTo>
                    <a:pt x="2341" y="4962"/>
                  </a:lnTo>
                  <a:lnTo>
                    <a:pt x="2275" y="4977"/>
                  </a:lnTo>
                  <a:lnTo>
                    <a:pt x="2209" y="4977"/>
                  </a:lnTo>
                  <a:lnTo>
                    <a:pt x="2077" y="4977"/>
                  </a:lnTo>
                  <a:lnTo>
                    <a:pt x="2011" y="4993"/>
                  </a:lnTo>
                  <a:lnTo>
                    <a:pt x="1945" y="4993"/>
                  </a:lnTo>
                  <a:lnTo>
                    <a:pt x="1896" y="4993"/>
                  </a:lnTo>
                  <a:lnTo>
                    <a:pt x="1847" y="4993"/>
                  </a:lnTo>
                  <a:lnTo>
                    <a:pt x="1797" y="4993"/>
                  </a:lnTo>
                  <a:lnTo>
                    <a:pt x="1748" y="4993"/>
                  </a:lnTo>
                  <a:lnTo>
                    <a:pt x="1648" y="4977"/>
                  </a:lnTo>
                  <a:lnTo>
                    <a:pt x="1516" y="4962"/>
                  </a:lnTo>
                  <a:lnTo>
                    <a:pt x="1450" y="4946"/>
                  </a:lnTo>
                  <a:lnTo>
                    <a:pt x="1384" y="4930"/>
                  </a:lnTo>
                  <a:lnTo>
                    <a:pt x="1335" y="4930"/>
                  </a:lnTo>
                  <a:lnTo>
                    <a:pt x="1269" y="4898"/>
                  </a:lnTo>
                  <a:lnTo>
                    <a:pt x="1219" y="4882"/>
                  </a:lnTo>
                  <a:lnTo>
                    <a:pt x="1170" y="4866"/>
                  </a:lnTo>
                  <a:lnTo>
                    <a:pt x="1120" y="4834"/>
                  </a:lnTo>
                  <a:lnTo>
                    <a:pt x="1054" y="4818"/>
                  </a:lnTo>
                  <a:lnTo>
                    <a:pt x="923" y="4803"/>
                  </a:lnTo>
                  <a:lnTo>
                    <a:pt x="873" y="4787"/>
                  </a:lnTo>
                  <a:lnTo>
                    <a:pt x="824" y="4755"/>
                  </a:lnTo>
                  <a:lnTo>
                    <a:pt x="758" y="4723"/>
                  </a:lnTo>
                  <a:lnTo>
                    <a:pt x="692" y="4659"/>
                  </a:lnTo>
                  <a:lnTo>
                    <a:pt x="642" y="4612"/>
                  </a:lnTo>
                  <a:lnTo>
                    <a:pt x="609" y="4564"/>
                  </a:lnTo>
                  <a:lnTo>
                    <a:pt x="576" y="4500"/>
                  </a:lnTo>
                  <a:lnTo>
                    <a:pt x="543" y="4453"/>
                  </a:lnTo>
                  <a:lnTo>
                    <a:pt x="527" y="4357"/>
                  </a:lnTo>
                  <a:lnTo>
                    <a:pt x="461" y="4294"/>
                  </a:lnTo>
                  <a:lnTo>
                    <a:pt x="329" y="4262"/>
                  </a:lnTo>
                  <a:lnTo>
                    <a:pt x="230" y="4230"/>
                  </a:lnTo>
                  <a:lnTo>
                    <a:pt x="164" y="4214"/>
                  </a:lnTo>
                  <a:lnTo>
                    <a:pt x="131" y="4167"/>
                  </a:lnTo>
                  <a:lnTo>
                    <a:pt x="115" y="4119"/>
                  </a:lnTo>
                  <a:lnTo>
                    <a:pt x="98" y="4071"/>
                  </a:lnTo>
                  <a:lnTo>
                    <a:pt x="82" y="4024"/>
                  </a:lnTo>
                  <a:lnTo>
                    <a:pt x="65" y="3976"/>
                  </a:lnTo>
                  <a:lnTo>
                    <a:pt x="49" y="3928"/>
                  </a:lnTo>
                  <a:lnTo>
                    <a:pt x="49" y="3880"/>
                  </a:lnTo>
                  <a:lnTo>
                    <a:pt x="32" y="3817"/>
                  </a:lnTo>
                  <a:lnTo>
                    <a:pt x="16" y="3769"/>
                  </a:lnTo>
                  <a:lnTo>
                    <a:pt x="0" y="3705"/>
                  </a:lnTo>
                  <a:lnTo>
                    <a:pt x="0" y="3641"/>
                  </a:lnTo>
                  <a:lnTo>
                    <a:pt x="0" y="3577"/>
                  </a:lnTo>
                  <a:lnTo>
                    <a:pt x="0" y="3514"/>
                  </a:lnTo>
                  <a:lnTo>
                    <a:pt x="0" y="3466"/>
                  </a:lnTo>
                  <a:lnTo>
                    <a:pt x="32" y="3418"/>
                  </a:lnTo>
                  <a:lnTo>
                    <a:pt x="49" y="3371"/>
                  </a:lnTo>
                  <a:lnTo>
                    <a:pt x="65" y="3323"/>
                  </a:lnTo>
                  <a:lnTo>
                    <a:pt x="82" y="3275"/>
                  </a:lnTo>
                  <a:lnTo>
                    <a:pt x="115" y="3228"/>
                  </a:lnTo>
                  <a:lnTo>
                    <a:pt x="115" y="3180"/>
                  </a:lnTo>
                  <a:lnTo>
                    <a:pt x="131" y="3116"/>
                  </a:lnTo>
                  <a:lnTo>
                    <a:pt x="148" y="3069"/>
                  </a:lnTo>
                  <a:lnTo>
                    <a:pt x="164" y="3021"/>
                  </a:lnTo>
                  <a:lnTo>
                    <a:pt x="181" y="2973"/>
                  </a:lnTo>
                  <a:lnTo>
                    <a:pt x="230" y="2910"/>
                  </a:lnTo>
                  <a:lnTo>
                    <a:pt x="346" y="2846"/>
                  </a:lnTo>
                  <a:lnTo>
                    <a:pt x="379" y="2798"/>
                  </a:lnTo>
                  <a:lnTo>
                    <a:pt x="428" y="2751"/>
                  </a:lnTo>
                  <a:lnTo>
                    <a:pt x="461" y="2703"/>
                  </a:lnTo>
                  <a:lnTo>
                    <a:pt x="494" y="2655"/>
                  </a:lnTo>
                  <a:lnTo>
                    <a:pt x="510" y="2608"/>
                  </a:lnTo>
                  <a:lnTo>
                    <a:pt x="543" y="2560"/>
                  </a:lnTo>
                  <a:lnTo>
                    <a:pt x="560" y="2512"/>
                  </a:lnTo>
                  <a:lnTo>
                    <a:pt x="576" y="2465"/>
                  </a:lnTo>
                  <a:lnTo>
                    <a:pt x="593" y="2401"/>
                  </a:lnTo>
                  <a:lnTo>
                    <a:pt x="626" y="2274"/>
                  </a:lnTo>
                  <a:lnTo>
                    <a:pt x="642" y="2226"/>
                  </a:lnTo>
                  <a:lnTo>
                    <a:pt x="642" y="2178"/>
                  </a:lnTo>
                  <a:lnTo>
                    <a:pt x="675" y="2115"/>
                  </a:lnTo>
                  <a:lnTo>
                    <a:pt x="708" y="2051"/>
                  </a:lnTo>
                  <a:lnTo>
                    <a:pt x="741" y="2004"/>
                  </a:lnTo>
                  <a:lnTo>
                    <a:pt x="758" y="1956"/>
                  </a:lnTo>
                  <a:lnTo>
                    <a:pt x="791" y="1908"/>
                  </a:lnTo>
                  <a:lnTo>
                    <a:pt x="824" y="1861"/>
                  </a:lnTo>
                  <a:lnTo>
                    <a:pt x="840" y="1813"/>
                  </a:lnTo>
                  <a:lnTo>
                    <a:pt x="857" y="1765"/>
                  </a:lnTo>
                  <a:lnTo>
                    <a:pt x="873" y="1717"/>
                  </a:lnTo>
                  <a:lnTo>
                    <a:pt x="890" y="1670"/>
                  </a:lnTo>
                  <a:lnTo>
                    <a:pt x="906" y="1606"/>
                  </a:lnTo>
                  <a:lnTo>
                    <a:pt x="939" y="1558"/>
                  </a:lnTo>
                  <a:lnTo>
                    <a:pt x="956" y="1511"/>
                  </a:lnTo>
                  <a:lnTo>
                    <a:pt x="988" y="1463"/>
                  </a:lnTo>
                  <a:lnTo>
                    <a:pt x="1005" y="1415"/>
                  </a:lnTo>
                  <a:lnTo>
                    <a:pt x="1038" y="1368"/>
                  </a:lnTo>
                  <a:lnTo>
                    <a:pt x="1071" y="1320"/>
                  </a:lnTo>
                  <a:lnTo>
                    <a:pt x="1087" y="1272"/>
                  </a:lnTo>
                  <a:lnTo>
                    <a:pt x="1104" y="1224"/>
                  </a:lnTo>
                  <a:lnTo>
                    <a:pt x="1153" y="1176"/>
                  </a:lnTo>
                  <a:lnTo>
                    <a:pt x="1186" y="1128"/>
                  </a:lnTo>
                  <a:lnTo>
                    <a:pt x="1219" y="1081"/>
                  </a:lnTo>
                  <a:lnTo>
                    <a:pt x="1269" y="1065"/>
                  </a:lnTo>
                  <a:lnTo>
                    <a:pt x="1318" y="1033"/>
                  </a:lnTo>
                  <a:lnTo>
                    <a:pt x="1368" y="1001"/>
                  </a:lnTo>
                  <a:lnTo>
                    <a:pt x="1417" y="953"/>
                  </a:lnTo>
                  <a:lnTo>
                    <a:pt x="1466" y="937"/>
                  </a:lnTo>
                  <a:lnTo>
                    <a:pt x="1532" y="890"/>
                  </a:lnTo>
                  <a:lnTo>
                    <a:pt x="1582" y="874"/>
                  </a:lnTo>
                  <a:lnTo>
                    <a:pt x="1631" y="826"/>
                  </a:lnTo>
                  <a:lnTo>
                    <a:pt x="1681" y="778"/>
                  </a:lnTo>
                  <a:lnTo>
                    <a:pt x="1731" y="747"/>
                  </a:lnTo>
                  <a:lnTo>
                    <a:pt x="1748" y="699"/>
                  </a:lnTo>
                  <a:lnTo>
                    <a:pt x="1764" y="651"/>
                  </a:lnTo>
                  <a:lnTo>
                    <a:pt x="1764" y="604"/>
                  </a:lnTo>
                  <a:lnTo>
                    <a:pt x="1830" y="492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52160" y="4317120"/>
              <a:ext cx="250200" cy="267840"/>
            </a:xfrm>
            <a:custGeom>
              <a:avLst/>
              <a:gdLst/>
              <a:ahLst/>
              <a:rect l="0" t="0" r="r" b="b"/>
              <a:pathLst>
                <a:path w="695" h="744">
                  <a:moveTo>
                    <a:pt x="214" y="20"/>
                  </a:moveTo>
                  <a:lnTo>
                    <a:pt x="214" y="20"/>
                  </a:lnTo>
                  <a:cubicBezTo>
                    <a:pt x="213" y="20"/>
                    <a:pt x="213" y="20"/>
                    <a:pt x="212" y="21"/>
                  </a:cubicBezTo>
                  <a:cubicBezTo>
                    <a:pt x="156" y="42"/>
                    <a:pt x="107" y="80"/>
                    <a:pt x="70" y="129"/>
                  </a:cubicBezTo>
                  <a:cubicBezTo>
                    <a:pt x="33" y="178"/>
                    <a:pt x="10" y="238"/>
                    <a:pt x="2" y="302"/>
                  </a:cubicBezTo>
                  <a:cubicBezTo>
                    <a:pt x="-5" y="367"/>
                    <a:pt x="3" y="433"/>
                    <a:pt x="27" y="494"/>
                  </a:cubicBezTo>
                  <a:cubicBezTo>
                    <a:pt x="51" y="556"/>
                    <a:pt x="89" y="611"/>
                    <a:pt x="137" y="653"/>
                  </a:cubicBezTo>
                  <a:cubicBezTo>
                    <a:pt x="186" y="696"/>
                    <a:pt x="243" y="725"/>
                    <a:pt x="304" y="737"/>
                  </a:cubicBezTo>
                  <a:cubicBezTo>
                    <a:pt x="364" y="749"/>
                    <a:pt x="425" y="744"/>
                    <a:pt x="480" y="723"/>
                  </a:cubicBezTo>
                  <a:lnTo>
                    <a:pt x="480" y="723"/>
                  </a:lnTo>
                  <a:cubicBezTo>
                    <a:pt x="481" y="723"/>
                    <a:pt x="481" y="723"/>
                    <a:pt x="482" y="722"/>
                  </a:cubicBezTo>
                  <a:cubicBezTo>
                    <a:pt x="538" y="701"/>
                    <a:pt x="587" y="663"/>
                    <a:pt x="624" y="614"/>
                  </a:cubicBezTo>
                  <a:cubicBezTo>
                    <a:pt x="661" y="565"/>
                    <a:pt x="684" y="505"/>
                    <a:pt x="692" y="441"/>
                  </a:cubicBezTo>
                  <a:cubicBezTo>
                    <a:pt x="699" y="376"/>
                    <a:pt x="691" y="310"/>
                    <a:pt x="667" y="249"/>
                  </a:cubicBezTo>
                  <a:cubicBezTo>
                    <a:pt x="643" y="187"/>
                    <a:pt x="605" y="132"/>
                    <a:pt x="557" y="90"/>
                  </a:cubicBezTo>
                  <a:cubicBezTo>
                    <a:pt x="508" y="47"/>
                    <a:pt x="451" y="18"/>
                    <a:pt x="390" y="6"/>
                  </a:cubicBezTo>
                  <a:cubicBezTo>
                    <a:pt x="330" y="-6"/>
                    <a:pt x="269" y="-1"/>
                    <a:pt x="214" y="2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08640" y="4495680"/>
              <a:ext cx="2445120" cy="1797480"/>
            </a:xfrm>
            <a:custGeom>
              <a:avLst/>
              <a:gdLst/>
              <a:ahLst/>
              <a:rect l="0" t="0" r="r" b="b"/>
              <a:pathLst>
                <a:path w="6792" h="4993">
                  <a:moveTo>
                    <a:pt x="4961" y="493"/>
                  </a:moveTo>
                  <a:lnTo>
                    <a:pt x="4961" y="573"/>
                  </a:lnTo>
                  <a:lnTo>
                    <a:pt x="4944" y="621"/>
                  </a:lnTo>
                  <a:lnTo>
                    <a:pt x="4895" y="635"/>
                  </a:lnTo>
                  <a:lnTo>
                    <a:pt x="4847" y="652"/>
                  </a:lnTo>
                  <a:lnTo>
                    <a:pt x="4781" y="665"/>
                  </a:lnTo>
                  <a:lnTo>
                    <a:pt x="4732" y="683"/>
                  </a:lnTo>
                  <a:lnTo>
                    <a:pt x="4684" y="701"/>
                  </a:lnTo>
                  <a:lnTo>
                    <a:pt x="4631" y="701"/>
                  </a:lnTo>
                  <a:lnTo>
                    <a:pt x="4600" y="745"/>
                  </a:lnTo>
                  <a:lnTo>
                    <a:pt x="4600" y="793"/>
                  </a:lnTo>
                  <a:lnTo>
                    <a:pt x="4600" y="859"/>
                  </a:lnTo>
                  <a:lnTo>
                    <a:pt x="4617" y="903"/>
                  </a:lnTo>
                  <a:lnTo>
                    <a:pt x="4666" y="939"/>
                  </a:lnTo>
                  <a:lnTo>
                    <a:pt x="4732" y="987"/>
                  </a:lnTo>
                  <a:lnTo>
                    <a:pt x="4781" y="1001"/>
                  </a:lnTo>
                  <a:lnTo>
                    <a:pt x="4829" y="1031"/>
                  </a:lnTo>
                  <a:lnTo>
                    <a:pt x="4878" y="1049"/>
                  </a:lnTo>
                  <a:lnTo>
                    <a:pt x="4895" y="1098"/>
                  </a:lnTo>
                  <a:lnTo>
                    <a:pt x="4944" y="1159"/>
                  </a:lnTo>
                  <a:lnTo>
                    <a:pt x="4961" y="1208"/>
                  </a:lnTo>
                  <a:lnTo>
                    <a:pt x="4997" y="1257"/>
                  </a:lnTo>
                  <a:lnTo>
                    <a:pt x="5010" y="1306"/>
                  </a:lnTo>
                  <a:lnTo>
                    <a:pt x="5028" y="1350"/>
                  </a:lnTo>
                  <a:lnTo>
                    <a:pt x="5076" y="1385"/>
                  </a:lnTo>
                  <a:lnTo>
                    <a:pt x="5126" y="1385"/>
                  </a:lnTo>
                  <a:lnTo>
                    <a:pt x="5179" y="1416"/>
                  </a:lnTo>
                  <a:lnTo>
                    <a:pt x="5227" y="1465"/>
                  </a:lnTo>
                  <a:lnTo>
                    <a:pt x="5324" y="1495"/>
                  </a:lnTo>
                  <a:lnTo>
                    <a:pt x="5425" y="1509"/>
                  </a:lnTo>
                  <a:lnTo>
                    <a:pt x="5456" y="1557"/>
                  </a:lnTo>
                  <a:lnTo>
                    <a:pt x="5474" y="1606"/>
                  </a:lnTo>
                  <a:lnTo>
                    <a:pt x="5474" y="1734"/>
                  </a:lnTo>
                  <a:lnTo>
                    <a:pt x="5474" y="1892"/>
                  </a:lnTo>
                  <a:lnTo>
                    <a:pt x="5474" y="1989"/>
                  </a:lnTo>
                  <a:lnTo>
                    <a:pt x="5505" y="2051"/>
                  </a:lnTo>
                  <a:lnTo>
                    <a:pt x="5522" y="2100"/>
                  </a:lnTo>
                  <a:lnTo>
                    <a:pt x="5589" y="2130"/>
                  </a:lnTo>
                  <a:lnTo>
                    <a:pt x="5637" y="2161"/>
                  </a:lnTo>
                  <a:lnTo>
                    <a:pt x="5690" y="2210"/>
                  </a:lnTo>
                  <a:lnTo>
                    <a:pt x="5703" y="2276"/>
                  </a:lnTo>
                  <a:lnTo>
                    <a:pt x="5703" y="2338"/>
                  </a:lnTo>
                  <a:lnTo>
                    <a:pt x="5739" y="2399"/>
                  </a:lnTo>
                  <a:lnTo>
                    <a:pt x="5769" y="2466"/>
                  </a:lnTo>
                  <a:lnTo>
                    <a:pt x="5818" y="2514"/>
                  </a:lnTo>
                  <a:lnTo>
                    <a:pt x="5853" y="2558"/>
                  </a:lnTo>
                  <a:lnTo>
                    <a:pt x="5950" y="2593"/>
                  </a:lnTo>
                  <a:lnTo>
                    <a:pt x="6003" y="2638"/>
                  </a:lnTo>
                  <a:lnTo>
                    <a:pt x="6034" y="2686"/>
                  </a:lnTo>
                  <a:lnTo>
                    <a:pt x="6052" y="2735"/>
                  </a:lnTo>
                  <a:lnTo>
                    <a:pt x="6069" y="2783"/>
                  </a:lnTo>
                  <a:lnTo>
                    <a:pt x="6069" y="2832"/>
                  </a:lnTo>
                  <a:lnTo>
                    <a:pt x="6069" y="2880"/>
                  </a:lnTo>
                  <a:lnTo>
                    <a:pt x="6083" y="2924"/>
                  </a:lnTo>
                  <a:lnTo>
                    <a:pt x="6083" y="2973"/>
                  </a:lnTo>
                  <a:lnTo>
                    <a:pt x="6100" y="3021"/>
                  </a:lnTo>
                  <a:lnTo>
                    <a:pt x="6131" y="3070"/>
                  </a:lnTo>
                  <a:lnTo>
                    <a:pt x="6166" y="3118"/>
                  </a:lnTo>
                  <a:lnTo>
                    <a:pt x="6166" y="3162"/>
                  </a:lnTo>
                  <a:lnTo>
                    <a:pt x="6166" y="3211"/>
                  </a:lnTo>
                  <a:lnTo>
                    <a:pt x="6184" y="3259"/>
                  </a:lnTo>
                  <a:lnTo>
                    <a:pt x="6215" y="3308"/>
                  </a:lnTo>
                  <a:lnTo>
                    <a:pt x="6263" y="3356"/>
                  </a:lnTo>
                  <a:lnTo>
                    <a:pt x="6316" y="3400"/>
                  </a:lnTo>
                  <a:lnTo>
                    <a:pt x="6347" y="3449"/>
                  </a:lnTo>
                  <a:lnTo>
                    <a:pt x="6365" y="3497"/>
                  </a:lnTo>
                  <a:lnTo>
                    <a:pt x="6382" y="3546"/>
                  </a:lnTo>
                  <a:lnTo>
                    <a:pt x="6382" y="3594"/>
                  </a:lnTo>
                  <a:lnTo>
                    <a:pt x="6382" y="3643"/>
                  </a:lnTo>
                  <a:lnTo>
                    <a:pt x="6365" y="3687"/>
                  </a:lnTo>
                  <a:lnTo>
                    <a:pt x="6347" y="3736"/>
                  </a:lnTo>
                  <a:lnTo>
                    <a:pt x="6347" y="3785"/>
                  </a:lnTo>
                  <a:lnTo>
                    <a:pt x="6347" y="3834"/>
                  </a:lnTo>
                  <a:lnTo>
                    <a:pt x="6299" y="3882"/>
                  </a:lnTo>
                  <a:lnTo>
                    <a:pt x="6250" y="3913"/>
                  </a:lnTo>
                  <a:lnTo>
                    <a:pt x="6197" y="3944"/>
                  </a:lnTo>
                  <a:lnTo>
                    <a:pt x="6149" y="3975"/>
                  </a:lnTo>
                  <a:lnTo>
                    <a:pt x="6131" y="4023"/>
                  </a:lnTo>
                  <a:lnTo>
                    <a:pt x="6083" y="4054"/>
                  </a:lnTo>
                  <a:lnTo>
                    <a:pt x="6034" y="4089"/>
                  </a:lnTo>
                  <a:lnTo>
                    <a:pt x="5985" y="4089"/>
                  </a:lnTo>
                  <a:lnTo>
                    <a:pt x="5937" y="4089"/>
                  </a:lnTo>
                  <a:lnTo>
                    <a:pt x="5884" y="4089"/>
                  </a:lnTo>
                  <a:lnTo>
                    <a:pt x="5818" y="4103"/>
                  </a:lnTo>
                  <a:lnTo>
                    <a:pt x="5769" y="4133"/>
                  </a:lnTo>
                  <a:lnTo>
                    <a:pt x="5703" y="4169"/>
                  </a:lnTo>
                  <a:lnTo>
                    <a:pt x="5655" y="4200"/>
                  </a:lnTo>
                  <a:lnTo>
                    <a:pt x="5606" y="4213"/>
                  </a:lnTo>
                  <a:lnTo>
                    <a:pt x="5571" y="4261"/>
                  </a:lnTo>
                  <a:lnTo>
                    <a:pt x="5505" y="4327"/>
                  </a:lnTo>
                  <a:lnTo>
                    <a:pt x="5456" y="4372"/>
                  </a:lnTo>
                  <a:lnTo>
                    <a:pt x="5408" y="4389"/>
                  </a:lnTo>
                  <a:lnTo>
                    <a:pt x="5359" y="4407"/>
                  </a:lnTo>
                  <a:lnTo>
                    <a:pt x="5245" y="4420"/>
                  </a:lnTo>
                  <a:lnTo>
                    <a:pt x="5192" y="4438"/>
                  </a:lnTo>
                  <a:lnTo>
                    <a:pt x="5126" y="4469"/>
                  </a:lnTo>
                  <a:lnTo>
                    <a:pt x="5063" y="4486"/>
                  </a:lnTo>
                  <a:lnTo>
                    <a:pt x="4944" y="4486"/>
                  </a:lnTo>
                  <a:lnTo>
                    <a:pt x="4895" y="4486"/>
                  </a:lnTo>
                  <a:lnTo>
                    <a:pt x="4847" y="4469"/>
                  </a:lnTo>
                  <a:lnTo>
                    <a:pt x="4798" y="4451"/>
                  </a:lnTo>
                  <a:lnTo>
                    <a:pt x="4732" y="4451"/>
                  </a:lnTo>
                  <a:lnTo>
                    <a:pt x="4684" y="4469"/>
                  </a:lnTo>
                  <a:lnTo>
                    <a:pt x="4631" y="4486"/>
                  </a:lnTo>
                  <a:lnTo>
                    <a:pt x="4582" y="4517"/>
                  </a:lnTo>
                  <a:lnTo>
                    <a:pt x="4534" y="4530"/>
                  </a:lnTo>
                  <a:lnTo>
                    <a:pt x="4485" y="4548"/>
                  </a:lnTo>
                  <a:lnTo>
                    <a:pt x="4419" y="4566"/>
                  </a:lnTo>
                  <a:lnTo>
                    <a:pt x="4371" y="4548"/>
                  </a:lnTo>
                  <a:lnTo>
                    <a:pt x="4238" y="4530"/>
                  </a:lnTo>
                  <a:lnTo>
                    <a:pt x="4185" y="4517"/>
                  </a:lnTo>
                  <a:lnTo>
                    <a:pt x="4137" y="4517"/>
                  </a:lnTo>
                  <a:lnTo>
                    <a:pt x="4088" y="4499"/>
                  </a:lnTo>
                  <a:lnTo>
                    <a:pt x="4040" y="4517"/>
                  </a:lnTo>
                  <a:lnTo>
                    <a:pt x="3974" y="4517"/>
                  </a:lnTo>
                  <a:lnTo>
                    <a:pt x="3872" y="4499"/>
                  </a:lnTo>
                  <a:lnTo>
                    <a:pt x="3775" y="4486"/>
                  </a:lnTo>
                  <a:lnTo>
                    <a:pt x="3709" y="4486"/>
                  </a:lnTo>
                  <a:lnTo>
                    <a:pt x="3661" y="4486"/>
                  </a:lnTo>
                  <a:lnTo>
                    <a:pt x="3612" y="4486"/>
                  </a:lnTo>
                  <a:lnTo>
                    <a:pt x="3511" y="4486"/>
                  </a:lnTo>
                  <a:lnTo>
                    <a:pt x="3414" y="4486"/>
                  </a:lnTo>
                  <a:lnTo>
                    <a:pt x="3312" y="4486"/>
                  </a:lnTo>
                  <a:lnTo>
                    <a:pt x="3264" y="4469"/>
                  </a:lnTo>
                  <a:lnTo>
                    <a:pt x="3131" y="4451"/>
                  </a:lnTo>
                  <a:lnTo>
                    <a:pt x="3083" y="4451"/>
                  </a:lnTo>
                  <a:lnTo>
                    <a:pt x="2933" y="4486"/>
                  </a:lnTo>
                  <a:lnTo>
                    <a:pt x="2836" y="4486"/>
                  </a:lnTo>
                  <a:lnTo>
                    <a:pt x="2770" y="4499"/>
                  </a:lnTo>
                  <a:lnTo>
                    <a:pt x="2721" y="4499"/>
                  </a:lnTo>
                  <a:lnTo>
                    <a:pt x="2620" y="4499"/>
                  </a:lnTo>
                  <a:lnTo>
                    <a:pt x="2523" y="4499"/>
                  </a:lnTo>
                  <a:lnTo>
                    <a:pt x="2391" y="4499"/>
                  </a:lnTo>
                  <a:lnTo>
                    <a:pt x="2342" y="4486"/>
                  </a:lnTo>
                  <a:lnTo>
                    <a:pt x="2294" y="4486"/>
                  </a:lnTo>
                  <a:lnTo>
                    <a:pt x="2241" y="4469"/>
                  </a:lnTo>
                  <a:lnTo>
                    <a:pt x="2192" y="4451"/>
                  </a:lnTo>
                  <a:lnTo>
                    <a:pt x="2144" y="4451"/>
                  </a:lnTo>
                  <a:lnTo>
                    <a:pt x="2095" y="4451"/>
                  </a:lnTo>
                  <a:lnTo>
                    <a:pt x="1963" y="4451"/>
                  </a:lnTo>
                  <a:lnTo>
                    <a:pt x="1861" y="4451"/>
                  </a:lnTo>
                  <a:lnTo>
                    <a:pt x="1813" y="4451"/>
                  </a:lnTo>
                  <a:lnTo>
                    <a:pt x="1764" y="4451"/>
                  </a:lnTo>
                  <a:lnTo>
                    <a:pt x="1716" y="4451"/>
                  </a:lnTo>
                  <a:lnTo>
                    <a:pt x="1666" y="4451"/>
                  </a:lnTo>
                  <a:lnTo>
                    <a:pt x="1613" y="4438"/>
                  </a:lnTo>
                  <a:lnTo>
                    <a:pt x="1565" y="4420"/>
                  </a:lnTo>
                  <a:lnTo>
                    <a:pt x="1516" y="4407"/>
                  </a:lnTo>
                  <a:lnTo>
                    <a:pt x="1384" y="4389"/>
                  </a:lnTo>
                  <a:lnTo>
                    <a:pt x="1336" y="4372"/>
                  </a:lnTo>
                  <a:lnTo>
                    <a:pt x="1287" y="4358"/>
                  </a:lnTo>
                  <a:lnTo>
                    <a:pt x="1234" y="4327"/>
                  </a:lnTo>
                  <a:lnTo>
                    <a:pt x="1186" y="4292"/>
                  </a:lnTo>
                  <a:lnTo>
                    <a:pt x="1137" y="4261"/>
                  </a:lnTo>
                  <a:lnTo>
                    <a:pt x="1089" y="4230"/>
                  </a:lnTo>
                  <a:lnTo>
                    <a:pt x="1023" y="4230"/>
                  </a:lnTo>
                  <a:lnTo>
                    <a:pt x="974" y="4248"/>
                  </a:lnTo>
                  <a:lnTo>
                    <a:pt x="921" y="4279"/>
                  </a:lnTo>
                  <a:lnTo>
                    <a:pt x="873" y="4292"/>
                  </a:lnTo>
                  <a:lnTo>
                    <a:pt x="824" y="4327"/>
                  </a:lnTo>
                  <a:lnTo>
                    <a:pt x="758" y="4341"/>
                  </a:lnTo>
                  <a:lnTo>
                    <a:pt x="692" y="4358"/>
                  </a:lnTo>
                  <a:lnTo>
                    <a:pt x="643" y="4358"/>
                  </a:lnTo>
                  <a:lnTo>
                    <a:pt x="595" y="4341"/>
                  </a:lnTo>
                  <a:lnTo>
                    <a:pt x="542" y="4327"/>
                  </a:lnTo>
                  <a:lnTo>
                    <a:pt x="493" y="4292"/>
                  </a:lnTo>
                  <a:lnTo>
                    <a:pt x="445" y="4230"/>
                  </a:lnTo>
                  <a:lnTo>
                    <a:pt x="427" y="4182"/>
                  </a:lnTo>
                  <a:lnTo>
                    <a:pt x="427" y="4120"/>
                  </a:lnTo>
                  <a:lnTo>
                    <a:pt x="427" y="4072"/>
                  </a:lnTo>
                  <a:lnTo>
                    <a:pt x="427" y="4023"/>
                  </a:lnTo>
                  <a:lnTo>
                    <a:pt x="427" y="3975"/>
                  </a:lnTo>
                  <a:lnTo>
                    <a:pt x="445" y="3926"/>
                  </a:lnTo>
                  <a:lnTo>
                    <a:pt x="463" y="3882"/>
                  </a:lnTo>
                  <a:lnTo>
                    <a:pt x="493" y="3834"/>
                  </a:lnTo>
                  <a:lnTo>
                    <a:pt x="529" y="3767"/>
                  </a:lnTo>
                  <a:lnTo>
                    <a:pt x="595" y="3643"/>
                  </a:lnTo>
                  <a:lnTo>
                    <a:pt x="608" y="3546"/>
                  </a:lnTo>
                  <a:lnTo>
                    <a:pt x="626" y="3497"/>
                  </a:lnTo>
                  <a:lnTo>
                    <a:pt x="674" y="3436"/>
                  </a:lnTo>
                  <a:lnTo>
                    <a:pt x="723" y="3370"/>
                  </a:lnTo>
                  <a:lnTo>
                    <a:pt x="740" y="3308"/>
                  </a:lnTo>
                  <a:lnTo>
                    <a:pt x="740" y="3259"/>
                  </a:lnTo>
                  <a:lnTo>
                    <a:pt x="740" y="3162"/>
                  </a:lnTo>
                  <a:lnTo>
                    <a:pt x="740" y="3070"/>
                  </a:lnTo>
                  <a:lnTo>
                    <a:pt x="740" y="3021"/>
                  </a:lnTo>
                  <a:lnTo>
                    <a:pt x="740" y="2973"/>
                  </a:lnTo>
                  <a:lnTo>
                    <a:pt x="723" y="2924"/>
                  </a:lnTo>
                  <a:lnTo>
                    <a:pt x="674" y="2862"/>
                  </a:lnTo>
                  <a:lnTo>
                    <a:pt x="661" y="2814"/>
                  </a:lnTo>
                  <a:lnTo>
                    <a:pt x="661" y="2765"/>
                  </a:lnTo>
                  <a:lnTo>
                    <a:pt x="661" y="2638"/>
                  </a:lnTo>
                  <a:lnTo>
                    <a:pt x="661" y="2593"/>
                  </a:lnTo>
                  <a:lnTo>
                    <a:pt x="661" y="2545"/>
                  </a:lnTo>
                  <a:lnTo>
                    <a:pt x="661" y="2448"/>
                  </a:lnTo>
                  <a:lnTo>
                    <a:pt x="674" y="2320"/>
                  </a:lnTo>
                  <a:lnTo>
                    <a:pt x="692" y="2276"/>
                  </a:lnTo>
                  <a:lnTo>
                    <a:pt x="709" y="2227"/>
                  </a:lnTo>
                  <a:lnTo>
                    <a:pt x="709" y="2179"/>
                  </a:lnTo>
                  <a:lnTo>
                    <a:pt x="709" y="2130"/>
                  </a:lnTo>
                  <a:lnTo>
                    <a:pt x="692" y="2082"/>
                  </a:lnTo>
                  <a:lnTo>
                    <a:pt x="674" y="2020"/>
                  </a:lnTo>
                  <a:lnTo>
                    <a:pt x="643" y="1972"/>
                  </a:lnTo>
                  <a:lnTo>
                    <a:pt x="626" y="1910"/>
                  </a:lnTo>
                  <a:lnTo>
                    <a:pt x="608" y="1813"/>
                  </a:lnTo>
                  <a:lnTo>
                    <a:pt x="608" y="1751"/>
                  </a:lnTo>
                  <a:lnTo>
                    <a:pt x="608" y="1685"/>
                  </a:lnTo>
                  <a:lnTo>
                    <a:pt x="608" y="1637"/>
                  </a:lnTo>
                  <a:lnTo>
                    <a:pt x="626" y="1592"/>
                  </a:lnTo>
                  <a:lnTo>
                    <a:pt x="626" y="1544"/>
                  </a:lnTo>
                  <a:lnTo>
                    <a:pt x="626" y="1416"/>
                  </a:lnTo>
                  <a:lnTo>
                    <a:pt x="661" y="1319"/>
                  </a:lnTo>
                  <a:lnTo>
                    <a:pt x="674" y="1225"/>
                  </a:lnTo>
                  <a:lnTo>
                    <a:pt x="692" y="1159"/>
                  </a:lnTo>
                  <a:lnTo>
                    <a:pt x="709" y="1111"/>
                  </a:lnTo>
                  <a:lnTo>
                    <a:pt x="723" y="1018"/>
                  </a:lnTo>
                  <a:lnTo>
                    <a:pt x="758" y="970"/>
                  </a:lnTo>
                  <a:lnTo>
                    <a:pt x="806" y="921"/>
                  </a:lnTo>
                  <a:lnTo>
                    <a:pt x="842" y="873"/>
                  </a:lnTo>
                  <a:lnTo>
                    <a:pt x="873" y="824"/>
                  </a:lnTo>
                  <a:lnTo>
                    <a:pt x="890" y="780"/>
                  </a:lnTo>
                  <a:lnTo>
                    <a:pt x="890" y="732"/>
                  </a:lnTo>
                  <a:lnTo>
                    <a:pt x="873" y="683"/>
                  </a:lnTo>
                  <a:lnTo>
                    <a:pt x="873" y="635"/>
                  </a:lnTo>
                  <a:lnTo>
                    <a:pt x="873" y="586"/>
                  </a:lnTo>
                  <a:lnTo>
                    <a:pt x="873" y="542"/>
                  </a:lnTo>
                  <a:lnTo>
                    <a:pt x="873" y="476"/>
                  </a:lnTo>
                  <a:lnTo>
                    <a:pt x="873" y="427"/>
                  </a:lnTo>
                  <a:lnTo>
                    <a:pt x="873" y="383"/>
                  </a:lnTo>
                  <a:lnTo>
                    <a:pt x="873" y="335"/>
                  </a:lnTo>
                  <a:lnTo>
                    <a:pt x="855" y="286"/>
                  </a:lnTo>
                  <a:lnTo>
                    <a:pt x="824" y="238"/>
                  </a:lnTo>
                  <a:lnTo>
                    <a:pt x="824" y="189"/>
                  </a:lnTo>
                  <a:lnTo>
                    <a:pt x="842" y="141"/>
                  </a:lnTo>
                  <a:lnTo>
                    <a:pt x="842" y="97"/>
                  </a:lnTo>
                  <a:lnTo>
                    <a:pt x="842" y="30"/>
                  </a:lnTo>
                  <a:lnTo>
                    <a:pt x="789" y="61"/>
                  </a:lnTo>
                  <a:lnTo>
                    <a:pt x="740" y="79"/>
                  </a:lnTo>
                  <a:lnTo>
                    <a:pt x="692" y="79"/>
                  </a:lnTo>
                  <a:lnTo>
                    <a:pt x="643" y="61"/>
                  </a:lnTo>
                  <a:lnTo>
                    <a:pt x="595" y="30"/>
                  </a:lnTo>
                  <a:lnTo>
                    <a:pt x="542" y="17"/>
                  </a:lnTo>
                  <a:lnTo>
                    <a:pt x="493" y="0"/>
                  </a:lnTo>
                  <a:lnTo>
                    <a:pt x="445" y="0"/>
                  </a:lnTo>
                  <a:lnTo>
                    <a:pt x="427" y="48"/>
                  </a:lnTo>
                  <a:lnTo>
                    <a:pt x="427" y="97"/>
                  </a:lnTo>
                  <a:lnTo>
                    <a:pt x="427" y="141"/>
                  </a:lnTo>
                  <a:lnTo>
                    <a:pt x="427" y="189"/>
                  </a:lnTo>
                  <a:lnTo>
                    <a:pt x="427" y="238"/>
                  </a:lnTo>
                  <a:lnTo>
                    <a:pt x="427" y="299"/>
                  </a:lnTo>
                  <a:lnTo>
                    <a:pt x="427" y="348"/>
                  </a:lnTo>
                  <a:lnTo>
                    <a:pt x="427" y="396"/>
                  </a:lnTo>
                  <a:lnTo>
                    <a:pt x="427" y="445"/>
                  </a:lnTo>
                  <a:lnTo>
                    <a:pt x="445" y="493"/>
                  </a:lnTo>
                  <a:lnTo>
                    <a:pt x="445" y="542"/>
                  </a:lnTo>
                  <a:lnTo>
                    <a:pt x="427" y="586"/>
                  </a:lnTo>
                  <a:lnTo>
                    <a:pt x="410" y="652"/>
                  </a:lnTo>
                  <a:lnTo>
                    <a:pt x="379" y="701"/>
                  </a:lnTo>
                  <a:lnTo>
                    <a:pt x="343" y="745"/>
                  </a:lnTo>
                  <a:lnTo>
                    <a:pt x="295" y="811"/>
                  </a:lnTo>
                  <a:lnTo>
                    <a:pt x="264" y="859"/>
                  </a:lnTo>
                  <a:lnTo>
                    <a:pt x="264" y="903"/>
                  </a:lnTo>
                  <a:lnTo>
                    <a:pt x="264" y="952"/>
                  </a:lnTo>
                  <a:lnTo>
                    <a:pt x="282" y="1001"/>
                  </a:lnTo>
                  <a:lnTo>
                    <a:pt x="282" y="1049"/>
                  </a:lnTo>
                  <a:lnTo>
                    <a:pt x="282" y="1098"/>
                  </a:lnTo>
                  <a:lnTo>
                    <a:pt x="282" y="1146"/>
                  </a:lnTo>
                  <a:lnTo>
                    <a:pt x="264" y="1190"/>
                  </a:lnTo>
                  <a:lnTo>
                    <a:pt x="264" y="1239"/>
                  </a:lnTo>
                  <a:lnTo>
                    <a:pt x="229" y="1306"/>
                  </a:lnTo>
                  <a:lnTo>
                    <a:pt x="229" y="1398"/>
                  </a:lnTo>
                  <a:lnTo>
                    <a:pt x="198" y="1465"/>
                  </a:lnTo>
                  <a:lnTo>
                    <a:pt x="180" y="1509"/>
                  </a:lnTo>
                  <a:lnTo>
                    <a:pt x="163" y="1557"/>
                  </a:lnTo>
                  <a:lnTo>
                    <a:pt x="163" y="1606"/>
                  </a:lnTo>
                  <a:lnTo>
                    <a:pt x="163" y="1654"/>
                  </a:lnTo>
                  <a:lnTo>
                    <a:pt x="163" y="1703"/>
                  </a:lnTo>
                  <a:lnTo>
                    <a:pt x="163" y="1751"/>
                  </a:lnTo>
                  <a:lnTo>
                    <a:pt x="180" y="1795"/>
                  </a:lnTo>
                  <a:lnTo>
                    <a:pt x="198" y="1844"/>
                  </a:lnTo>
                  <a:lnTo>
                    <a:pt x="216" y="1892"/>
                  </a:lnTo>
                  <a:lnTo>
                    <a:pt x="229" y="1941"/>
                  </a:lnTo>
                  <a:lnTo>
                    <a:pt x="229" y="2003"/>
                  </a:lnTo>
                  <a:lnTo>
                    <a:pt x="229" y="2069"/>
                  </a:lnTo>
                  <a:lnTo>
                    <a:pt x="229" y="2113"/>
                  </a:lnTo>
                  <a:lnTo>
                    <a:pt x="229" y="2161"/>
                  </a:lnTo>
                  <a:lnTo>
                    <a:pt x="229" y="2210"/>
                  </a:lnTo>
                  <a:lnTo>
                    <a:pt x="229" y="2276"/>
                  </a:lnTo>
                  <a:lnTo>
                    <a:pt x="229" y="2320"/>
                  </a:lnTo>
                  <a:lnTo>
                    <a:pt x="229" y="2369"/>
                  </a:lnTo>
                  <a:lnTo>
                    <a:pt x="264" y="2417"/>
                  </a:lnTo>
                  <a:lnTo>
                    <a:pt x="264" y="2479"/>
                  </a:lnTo>
                  <a:lnTo>
                    <a:pt x="264" y="2576"/>
                  </a:lnTo>
                  <a:lnTo>
                    <a:pt x="264" y="2638"/>
                  </a:lnTo>
                  <a:lnTo>
                    <a:pt x="264" y="2686"/>
                  </a:lnTo>
                  <a:lnTo>
                    <a:pt x="246" y="2735"/>
                  </a:lnTo>
                  <a:lnTo>
                    <a:pt x="246" y="2783"/>
                  </a:lnTo>
                  <a:lnTo>
                    <a:pt x="264" y="2832"/>
                  </a:lnTo>
                  <a:lnTo>
                    <a:pt x="282" y="2880"/>
                  </a:lnTo>
                  <a:lnTo>
                    <a:pt x="282" y="2924"/>
                  </a:lnTo>
                  <a:lnTo>
                    <a:pt x="282" y="2973"/>
                  </a:lnTo>
                  <a:lnTo>
                    <a:pt x="282" y="3039"/>
                  </a:lnTo>
                  <a:lnTo>
                    <a:pt x="246" y="3083"/>
                  </a:lnTo>
                  <a:lnTo>
                    <a:pt x="216" y="3149"/>
                  </a:lnTo>
                  <a:lnTo>
                    <a:pt x="163" y="3198"/>
                  </a:lnTo>
                  <a:lnTo>
                    <a:pt x="149" y="3242"/>
                  </a:lnTo>
                  <a:lnTo>
                    <a:pt x="149" y="3290"/>
                  </a:lnTo>
                  <a:lnTo>
                    <a:pt x="149" y="3339"/>
                  </a:lnTo>
                  <a:lnTo>
                    <a:pt x="149" y="3387"/>
                  </a:lnTo>
                  <a:lnTo>
                    <a:pt x="149" y="3449"/>
                  </a:lnTo>
                  <a:lnTo>
                    <a:pt x="114" y="3515"/>
                  </a:lnTo>
                  <a:lnTo>
                    <a:pt x="97" y="3564"/>
                  </a:lnTo>
                  <a:lnTo>
                    <a:pt x="83" y="3608"/>
                  </a:lnTo>
                  <a:lnTo>
                    <a:pt x="83" y="3656"/>
                  </a:lnTo>
                  <a:lnTo>
                    <a:pt x="66" y="3705"/>
                  </a:lnTo>
                  <a:lnTo>
                    <a:pt x="30" y="3767"/>
                  </a:lnTo>
                  <a:lnTo>
                    <a:pt x="30" y="3816"/>
                  </a:lnTo>
                  <a:lnTo>
                    <a:pt x="17" y="3864"/>
                  </a:lnTo>
                  <a:lnTo>
                    <a:pt x="0" y="3913"/>
                  </a:lnTo>
                  <a:lnTo>
                    <a:pt x="0" y="3975"/>
                  </a:lnTo>
                  <a:lnTo>
                    <a:pt x="0" y="4023"/>
                  </a:lnTo>
                  <a:lnTo>
                    <a:pt x="0" y="4089"/>
                  </a:lnTo>
                  <a:lnTo>
                    <a:pt x="0" y="4133"/>
                  </a:lnTo>
                  <a:lnTo>
                    <a:pt x="17" y="4182"/>
                  </a:lnTo>
                  <a:lnTo>
                    <a:pt x="17" y="4230"/>
                  </a:lnTo>
                  <a:lnTo>
                    <a:pt x="17" y="4279"/>
                  </a:lnTo>
                  <a:lnTo>
                    <a:pt x="17" y="4341"/>
                  </a:lnTo>
                  <a:lnTo>
                    <a:pt x="30" y="4407"/>
                  </a:lnTo>
                  <a:lnTo>
                    <a:pt x="30" y="4451"/>
                  </a:lnTo>
                  <a:lnTo>
                    <a:pt x="66" y="4499"/>
                  </a:lnTo>
                  <a:lnTo>
                    <a:pt x="83" y="4548"/>
                  </a:lnTo>
                  <a:lnTo>
                    <a:pt x="132" y="4610"/>
                  </a:lnTo>
                  <a:lnTo>
                    <a:pt x="180" y="4645"/>
                  </a:lnTo>
                  <a:lnTo>
                    <a:pt x="229" y="4658"/>
                  </a:lnTo>
                  <a:lnTo>
                    <a:pt x="282" y="4676"/>
                  </a:lnTo>
                  <a:lnTo>
                    <a:pt x="330" y="4693"/>
                  </a:lnTo>
                  <a:lnTo>
                    <a:pt x="379" y="4693"/>
                  </a:lnTo>
                  <a:lnTo>
                    <a:pt x="427" y="4693"/>
                  </a:lnTo>
                  <a:lnTo>
                    <a:pt x="493" y="4693"/>
                  </a:lnTo>
                  <a:lnTo>
                    <a:pt x="542" y="4658"/>
                  </a:lnTo>
                  <a:lnTo>
                    <a:pt x="595" y="4627"/>
                  </a:lnTo>
                  <a:lnTo>
                    <a:pt x="643" y="4610"/>
                  </a:lnTo>
                  <a:lnTo>
                    <a:pt x="692" y="4610"/>
                  </a:lnTo>
                  <a:lnTo>
                    <a:pt x="740" y="4627"/>
                  </a:lnTo>
                  <a:lnTo>
                    <a:pt x="789" y="4627"/>
                  </a:lnTo>
                  <a:lnTo>
                    <a:pt x="842" y="4645"/>
                  </a:lnTo>
                  <a:lnTo>
                    <a:pt x="908" y="4645"/>
                  </a:lnTo>
                  <a:lnTo>
                    <a:pt x="956" y="4658"/>
                  </a:lnTo>
                  <a:lnTo>
                    <a:pt x="1005" y="4676"/>
                  </a:lnTo>
                  <a:lnTo>
                    <a:pt x="1053" y="4707"/>
                  </a:lnTo>
                  <a:lnTo>
                    <a:pt x="1102" y="4724"/>
                  </a:lnTo>
                  <a:lnTo>
                    <a:pt x="1155" y="4755"/>
                  </a:lnTo>
                  <a:lnTo>
                    <a:pt x="1203" y="4773"/>
                  </a:lnTo>
                  <a:lnTo>
                    <a:pt x="1252" y="4804"/>
                  </a:lnTo>
                  <a:lnTo>
                    <a:pt x="1318" y="4835"/>
                  </a:lnTo>
                  <a:lnTo>
                    <a:pt x="1384" y="4852"/>
                  </a:lnTo>
                  <a:lnTo>
                    <a:pt x="1499" y="4865"/>
                  </a:lnTo>
                  <a:lnTo>
                    <a:pt x="1547" y="4883"/>
                  </a:lnTo>
                  <a:lnTo>
                    <a:pt x="1649" y="4896"/>
                  </a:lnTo>
                  <a:lnTo>
                    <a:pt x="1697" y="4914"/>
                  </a:lnTo>
                  <a:lnTo>
                    <a:pt x="1764" y="4914"/>
                  </a:lnTo>
                  <a:lnTo>
                    <a:pt x="1813" y="4945"/>
                  </a:lnTo>
                  <a:lnTo>
                    <a:pt x="1861" y="4962"/>
                  </a:lnTo>
                  <a:lnTo>
                    <a:pt x="1914" y="4976"/>
                  </a:lnTo>
                  <a:lnTo>
                    <a:pt x="1980" y="4976"/>
                  </a:lnTo>
                  <a:lnTo>
                    <a:pt x="2042" y="4976"/>
                  </a:lnTo>
                  <a:lnTo>
                    <a:pt x="2095" y="4976"/>
                  </a:lnTo>
                  <a:lnTo>
                    <a:pt x="2144" y="4976"/>
                  </a:lnTo>
                  <a:lnTo>
                    <a:pt x="2192" y="4976"/>
                  </a:lnTo>
                  <a:lnTo>
                    <a:pt x="2241" y="4976"/>
                  </a:lnTo>
                  <a:lnTo>
                    <a:pt x="2342" y="4976"/>
                  </a:lnTo>
                  <a:lnTo>
                    <a:pt x="2439" y="4962"/>
                  </a:lnTo>
                  <a:lnTo>
                    <a:pt x="2488" y="4945"/>
                  </a:lnTo>
                  <a:lnTo>
                    <a:pt x="2541" y="4932"/>
                  </a:lnTo>
                  <a:lnTo>
                    <a:pt x="2589" y="4932"/>
                  </a:lnTo>
                  <a:lnTo>
                    <a:pt x="2686" y="4914"/>
                  </a:lnTo>
                  <a:lnTo>
                    <a:pt x="2735" y="4914"/>
                  </a:lnTo>
                  <a:lnTo>
                    <a:pt x="2801" y="4932"/>
                  </a:lnTo>
                  <a:lnTo>
                    <a:pt x="2867" y="4932"/>
                  </a:lnTo>
                  <a:lnTo>
                    <a:pt x="2999" y="4932"/>
                  </a:lnTo>
                  <a:lnTo>
                    <a:pt x="3065" y="4945"/>
                  </a:lnTo>
                  <a:lnTo>
                    <a:pt x="3114" y="4945"/>
                  </a:lnTo>
                  <a:lnTo>
                    <a:pt x="3167" y="4945"/>
                  </a:lnTo>
                  <a:lnTo>
                    <a:pt x="3233" y="4945"/>
                  </a:lnTo>
                  <a:lnTo>
                    <a:pt x="3365" y="4945"/>
                  </a:lnTo>
                  <a:lnTo>
                    <a:pt x="3414" y="4945"/>
                  </a:lnTo>
                  <a:lnTo>
                    <a:pt x="3462" y="4945"/>
                  </a:lnTo>
                  <a:lnTo>
                    <a:pt x="3511" y="4945"/>
                  </a:lnTo>
                  <a:lnTo>
                    <a:pt x="3559" y="4945"/>
                  </a:lnTo>
                  <a:lnTo>
                    <a:pt x="3612" y="4945"/>
                  </a:lnTo>
                  <a:lnTo>
                    <a:pt x="3709" y="4945"/>
                  </a:lnTo>
                  <a:lnTo>
                    <a:pt x="3758" y="4945"/>
                  </a:lnTo>
                  <a:lnTo>
                    <a:pt x="3824" y="4962"/>
                  </a:lnTo>
                  <a:lnTo>
                    <a:pt x="3890" y="4962"/>
                  </a:lnTo>
                  <a:lnTo>
                    <a:pt x="4022" y="4945"/>
                  </a:lnTo>
                  <a:lnTo>
                    <a:pt x="4137" y="4962"/>
                  </a:lnTo>
                  <a:lnTo>
                    <a:pt x="4185" y="4962"/>
                  </a:lnTo>
                  <a:lnTo>
                    <a:pt x="4251" y="4962"/>
                  </a:lnTo>
                  <a:lnTo>
                    <a:pt x="4304" y="4962"/>
                  </a:lnTo>
                  <a:lnTo>
                    <a:pt x="4353" y="4962"/>
                  </a:lnTo>
                  <a:lnTo>
                    <a:pt x="4401" y="4962"/>
                  </a:lnTo>
                  <a:lnTo>
                    <a:pt x="4450" y="4962"/>
                  </a:lnTo>
                  <a:lnTo>
                    <a:pt x="4516" y="4976"/>
                  </a:lnTo>
                  <a:lnTo>
                    <a:pt x="4582" y="4976"/>
                  </a:lnTo>
                  <a:lnTo>
                    <a:pt x="4714" y="4976"/>
                  </a:lnTo>
                  <a:lnTo>
                    <a:pt x="4781" y="4993"/>
                  </a:lnTo>
                  <a:lnTo>
                    <a:pt x="4847" y="4993"/>
                  </a:lnTo>
                  <a:lnTo>
                    <a:pt x="4895" y="4993"/>
                  </a:lnTo>
                  <a:lnTo>
                    <a:pt x="4944" y="4993"/>
                  </a:lnTo>
                  <a:lnTo>
                    <a:pt x="4997" y="4993"/>
                  </a:lnTo>
                  <a:lnTo>
                    <a:pt x="5045" y="4993"/>
                  </a:lnTo>
                  <a:lnTo>
                    <a:pt x="5143" y="4976"/>
                  </a:lnTo>
                  <a:lnTo>
                    <a:pt x="5276" y="4962"/>
                  </a:lnTo>
                  <a:lnTo>
                    <a:pt x="5342" y="4945"/>
                  </a:lnTo>
                  <a:lnTo>
                    <a:pt x="5408" y="4932"/>
                  </a:lnTo>
                  <a:lnTo>
                    <a:pt x="5456" y="4932"/>
                  </a:lnTo>
                  <a:lnTo>
                    <a:pt x="5522" y="4896"/>
                  </a:lnTo>
                  <a:lnTo>
                    <a:pt x="5571" y="4883"/>
                  </a:lnTo>
                  <a:lnTo>
                    <a:pt x="5624" y="4865"/>
                  </a:lnTo>
                  <a:lnTo>
                    <a:pt x="5672" y="4835"/>
                  </a:lnTo>
                  <a:lnTo>
                    <a:pt x="5739" y="4817"/>
                  </a:lnTo>
                  <a:lnTo>
                    <a:pt x="5871" y="4804"/>
                  </a:lnTo>
                  <a:lnTo>
                    <a:pt x="5919" y="4786"/>
                  </a:lnTo>
                  <a:lnTo>
                    <a:pt x="5968" y="4755"/>
                  </a:lnTo>
                  <a:lnTo>
                    <a:pt x="6034" y="4724"/>
                  </a:lnTo>
                  <a:lnTo>
                    <a:pt x="6100" y="4658"/>
                  </a:lnTo>
                  <a:lnTo>
                    <a:pt x="6149" y="4610"/>
                  </a:lnTo>
                  <a:lnTo>
                    <a:pt x="6184" y="4566"/>
                  </a:lnTo>
                  <a:lnTo>
                    <a:pt x="6215" y="4499"/>
                  </a:lnTo>
                  <a:lnTo>
                    <a:pt x="6250" y="4451"/>
                  </a:lnTo>
                  <a:lnTo>
                    <a:pt x="6263" y="4358"/>
                  </a:lnTo>
                  <a:lnTo>
                    <a:pt x="6329" y="4292"/>
                  </a:lnTo>
                  <a:lnTo>
                    <a:pt x="6462" y="4261"/>
                  </a:lnTo>
                  <a:lnTo>
                    <a:pt x="6563" y="4230"/>
                  </a:lnTo>
                  <a:lnTo>
                    <a:pt x="6629" y="4213"/>
                  </a:lnTo>
                  <a:lnTo>
                    <a:pt x="6660" y="4169"/>
                  </a:lnTo>
                  <a:lnTo>
                    <a:pt x="6678" y="4120"/>
                  </a:lnTo>
                  <a:lnTo>
                    <a:pt x="6695" y="4072"/>
                  </a:lnTo>
                  <a:lnTo>
                    <a:pt x="6709" y="4023"/>
                  </a:lnTo>
                  <a:lnTo>
                    <a:pt x="6726" y="3975"/>
                  </a:lnTo>
                  <a:lnTo>
                    <a:pt x="6744" y="3926"/>
                  </a:lnTo>
                  <a:lnTo>
                    <a:pt x="6744" y="3882"/>
                  </a:lnTo>
                  <a:lnTo>
                    <a:pt x="6762" y="3816"/>
                  </a:lnTo>
                  <a:lnTo>
                    <a:pt x="6775" y="3767"/>
                  </a:lnTo>
                  <a:lnTo>
                    <a:pt x="6792" y="3705"/>
                  </a:lnTo>
                  <a:lnTo>
                    <a:pt x="6792" y="3643"/>
                  </a:lnTo>
                  <a:lnTo>
                    <a:pt x="6792" y="3577"/>
                  </a:lnTo>
                  <a:lnTo>
                    <a:pt x="6792" y="3515"/>
                  </a:lnTo>
                  <a:lnTo>
                    <a:pt x="6792" y="3467"/>
                  </a:lnTo>
                  <a:lnTo>
                    <a:pt x="6762" y="3418"/>
                  </a:lnTo>
                  <a:lnTo>
                    <a:pt x="6744" y="3370"/>
                  </a:lnTo>
                  <a:lnTo>
                    <a:pt x="6726" y="3321"/>
                  </a:lnTo>
                  <a:lnTo>
                    <a:pt x="6709" y="3277"/>
                  </a:lnTo>
                  <a:lnTo>
                    <a:pt x="6678" y="3228"/>
                  </a:lnTo>
                  <a:lnTo>
                    <a:pt x="6678" y="3180"/>
                  </a:lnTo>
                  <a:lnTo>
                    <a:pt x="6660" y="3118"/>
                  </a:lnTo>
                  <a:lnTo>
                    <a:pt x="6643" y="3070"/>
                  </a:lnTo>
                  <a:lnTo>
                    <a:pt x="6629" y="3021"/>
                  </a:lnTo>
                  <a:lnTo>
                    <a:pt x="6612" y="2973"/>
                  </a:lnTo>
                  <a:lnTo>
                    <a:pt x="6563" y="2911"/>
                  </a:lnTo>
                  <a:lnTo>
                    <a:pt x="6449" y="2845"/>
                  </a:lnTo>
                  <a:lnTo>
                    <a:pt x="6413" y="2796"/>
                  </a:lnTo>
                  <a:lnTo>
                    <a:pt x="6365" y="2752"/>
                  </a:lnTo>
                  <a:lnTo>
                    <a:pt x="6329" y="2704"/>
                  </a:lnTo>
                  <a:lnTo>
                    <a:pt x="6299" y="2655"/>
                  </a:lnTo>
                  <a:lnTo>
                    <a:pt x="6281" y="2607"/>
                  </a:lnTo>
                  <a:lnTo>
                    <a:pt x="6250" y="2558"/>
                  </a:lnTo>
                  <a:lnTo>
                    <a:pt x="6232" y="2514"/>
                  </a:lnTo>
                  <a:lnTo>
                    <a:pt x="6215" y="2466"/>
                  </a:lnTo>
                  <a:lnTo>
                    <a:pt x="6197" y="2399"/>
                  </a:lnTo>
                  <a:lnTo>
                    <a:pt x="6166" y="2276"/>
                  </a:lnTo>
                  <a:lnTo>
                    <a:pt x="6149" y="2227"/>
                  </a:lnTo>
                  <a:lnTo>
                    <a:pt x="6149" y="2179"/>
                  </a:lnTo>
                  <a:lnTo>
                    <a:pt x="6118" y="2113"/>
                  </a:lnTo>
                  <a:lnTo>
                    <a:pt x="6083" y="2051"/>
                  </a:lnTo>
                  <a:lnTo>
                    <a:pt x="6052" y="2003"/>
                  </a:lnTo>
                  <a:lnTo>
                    <a:pt x="6034" y="1954"/>
                  </a:lnTo>
                  <a:lnTo>
                    <a:pt x="6003" y="1910"/>
                  </a:lnTo>
                  <a:lnTo>
                    <a:pt x="5968" y="1861"/>
                  </a:lnTo>
                  <a:lnTo>
                    <a:pt x="5950" y="1813"/>
                  </a:lnTo>
                  <a:lnTo>
                    <a:pt x="5937" y="1764"/>
                  </a:lnTo>
                  <a:lnTo>
                    <a:pt x="5919" y="1716"/>
                  </a:lnTo>
                  <a:lnTo>
                    <a:pt x="5902" y="1672"/>
                  </a:lnTo>
                  <a:lnTo>
                    <a:pt x="5884" y="1606"/>
                  </a:lnTo>
                  <a:lnTo>
                    <a:pt x="5853" y="1557"/>
                  </a:lnTo>
                  <a:lnTo>
                    <a:pt x="5836" y="1509"/>
                  </a:lnTo>
                  <a:lnTo>
                    <a:pt x="5805" y="1465"/>
                  </a:lnTo>
                  <a:lnTo>
                    <a:pt x="5787" y="1416"/>
                  </a:lnTo>
                  <a:lnTo>
                    <a:pt x="5756" y="1368"/>
                  </a:lnTo>
                  <a:lnTo>
                    <a:pt x="5721" y="1319"/>
                  </a:lnTo>
                  <a:lnTo>
                    <a:pt x="5703" y="1271"/>
                  </a:lnTo>
                  <a:lnTo>
                    <a:pt x="5690" y="1225"/>
                  </a:lnTo>
                  <a:lnTo>
                    <a:pt x="5637" y="1177"/>
                  </a:lnTo>
                  <a:lnTo>
                    <a:pt x="5606" y="1128"/>
                  </a:lnTo>
                  <a:lnTo>
                    <a:pt x="5571" y="1080"/>
                  </a:lnTo>
                  <a:lnTo>
                    <a:pt x="5522" y="1067"/>
                  </a:lnTo>
                  <a:lnTo>
                    <a:pt x="5474" y="1031"/>
                  </a:lnTo>
                  <a:lnTo>
                    <a:pt x="5425" y="1001"/>
                  </a:lnTo>
                  <a:lnTo>
                    <a:pt x="5377" y="952"/>
                  </a:lnTo>
                  <a:lnTo>
                    <a:pt x="5324" y="939"/>
                  </a:lnTo>
                  <a:lnTo>
                    <a:pt x="5258" y="890"/>
                  </a:lnTo>
                  <a:lnTo>
                    <a:pt x="5209" y="873"/>
                  </a:lnTo>
                  <a:lnTo>
                    <a:pt x="5161" y="824"/>
                  </a:lnTo>
                  <a:lnTo>
                    <a:pt x="5112" y="780"/>
                  </a:lnTo>
                  <a:lnTo>
                    <a:pt x="5063" y="745"/>
                  </a:lnTo>
                  <a:lnTo>
                    <a:pt x="5045" y="701"/>
                  </a:lnTo>
                  <a:lnTo>
                    <a:pt x="5028" y="652"/>
                  </a:lnTo>
                  <a:lnTo>
                    <a:pt x="5028" y="604"/>
                  </a:lnTo>
                  <a:lnTo>
                    <a:pt x="4961" y="493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71000" y="4317120"/>
              <a:ext cx="250200" cy="267840"/>
            </a:xfrm>
            <a:custGeom>
              <a:avLst/>
              <a:gdLst/>
              <a:ahLst/>
              <a:rect l="0" t="0" r="r" b="b"/>
              <a:pathLst>
                <a:path w="695" h="744">
                  <a:moveTo>
                    <a:pt x="214" y="723"/>
                  </a:moveTo>
                  <a:lnTo>
                    <a:pt x="214" y="723"/>
                  </a:lnTo>
                  <a:cubicBezTo>
                    <a:pt x="269" y="744"/>
                    <a:pt x="330" y="749"/>
                    <a:pt x="390" y="737"/>
                  </a:cubicBezTo>
                  <a:cubicBezTo>
                    <a:pt x="451" y="725"/>
                    <a:pt x="508" y="696"/>
                    <a:pt x="557" y="653"/>
                  </a:cubicBezTo>
                  <a:cubicBezTo>
                    <a:pt x="605" y="611"/>
                    <a:pt x="643" y="556"/>
                    <a:pt x="667" y="494"/>
                  </a:cubicBezTo>
                  <a:cubicBezTo>
                    <a:pt x="691" y="433"/>
                    <a:pt x="699" y="367"/>
                    <a:pt x="692" y="302"/>
                  </a:cubicBezTo>
                  <a:cubicBezTo>
                    <a:pt x="684" y="238"/>
                    <a:pt x="661" y="178"/>
                    <a:pt x="624" y="129"/>
                  </a:cubicBezTo>
                  <a:cubicBezTo>
                    <a:pt x="587" y="80"/>
                    <a:pt x="538" y="42"/>
                    <a:pt x="482" y="21"/>
                  </a:cubicBezTo>
                  <a:cubicBezTo>
                    <a:pt x="481" y="20"/>
                    <a:pt x="481" y="20"/>
                    <a:pt x="480" y="20"/>
                  </a:cubicBezTo>
                  <a:lnTo>
                    <a:pt x="480" y="20"/>
                  </a:lnTo>
                  <a:cubicBezTo>
                    <a:pt x="425" y="-1"/>
                    <a:pt x="364" y="-6"/>
                    <a:pt x="304" y="6"/>
                  </a:cubicBezTo>
                  <a:cubicBezTo>
                    <a:pt x="243" y="18"/>
                    <a:pt x="186" y="47"/>
                    <a:pt x="137" y="90"/>
                  </a:cubicBezTo>
                  <a:cubicBezTo>
                    <a:pt x="89" y="132"/>
                    <a:pt x="51" y="187"/>
                    <a:pt x="27" y="249"/>
                  </a:cubicBezTo>
                  <a:cubicBezTo>
                    <a:pt x="3" y="310"/>
                    <a:pt x="-5" y="376"/>
                    <a:pt x="2" y="441"/>
                  </a:cubicBezTo>
                  <a:cubicBezTo>
                    <a:pt x="10" y="505"/>
                    <a:pt x="33" y="565"/>
                    <a:pt x="70" y="614"/>
                  </a:cubicBezTo>
                  <a:cubicBezTo>
                    <a:pt x="107" y="663"/>
                    <a:pt x="156" y="701"/>
                    <a:pt x="212" y="722"/>
                  </a:cubicBezTo>
                  <a:cubicBezTo>
                    <a:pt x="213" y="723"/>
                    <a:pt x="213" y="723"/>
                    <a:pt x="214" y="7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425680" y="449568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812" y="26"/>
                  </a:moveTo>
                  <a:lnTo>
                    <a:pt x="702" y="26"/>
                  </a:lnTo>
                  <a:lnTo>
                    <a:pt x="618" y="0"/>
                  </a:lnTo>
                  <a:lnTo>
                    <a:pt x="534" y="0"/>
                  </a:lnTo>
                  <a:lnTo>
                    <a:pt x="450" y="26"/>
                  </a:lnTo>
                  <a:lnTo>
                    <a:pt x="361" y="52"/>
                  </a:lnTo>
                  <a:lnTo>
                    <a:pt x="277" y="127"/>
                  </a:lnTo>
                  <a:lnTo>
                    <a:pt x="194" y="176"/>
                  </a:lnTo>
                  <a:lnTo>
                    <a:pt x="110" y="229"/>
                  </a:lnTo>
                  <a:lnTo>
                    <a:pt x="83" y="304"/>
                  </a:lnTo>
                  <a:lnTo>
                    <a:pt x="83" y="380"/>
                  </a:lnTo>
                  <a:lnTo>
                    <a:pt x="83" y="459"/>
                  </a:lnTo>
                  <a:lnTo>
                    <a:pt x="26" y="534"/>
                  </a:lnTo>
                  <a:lnTo>
                    <a:pt x="0" y="609"/>
                  </a:lnTo>
                  <a:lnTo>
                    <a:pt x="83" y="636"/>
                  </a:lnTo>
                  <a:lnTo>
                    <a:pt x="110" y="561"/>
                  </a:lnTo>
                  <a:lnTo>
                    <a:pt x="194" y="508"/>
                  </a:lnTo>
                  <a:lnTo>
                    <a:pt x="308" y="508"/>
                  </a:lnTo>
                  <a:lnTo>
                    <a:pt x="361" y="433"/>
                  </a:lnTo>
                  <a:lnTo>
                    <a:pt x="419" y="358"/>
                  </a:lnTo>
                  <a:lnTo>
                    <a:pt x="503" y="304"/>
                  </a:lnTo>
                  <a:lnTo>
                    <a:pt x="587" y="277"/>
                  </a:lnTo>
                  <a:lnTo>
                    <a:pt x="671" y="304"/>
                  </a:lnTo>
                  <a:lnTo>
                    <a:pt x="702" y="229"/>
                  </a:lnTo>
                  <a:lnTo>
                    <a:pt x="671" y="154"/>
                  </a:lnTo>
                  <a:lnTo>
                    <a:pt x="702" y="74"/>
                  </a:lnTo>
                  <a:lnTo>
                    <a:pt x="644" y="26"/>
                  </a:lnTo>
                  <a:lnTo>
                    <a:pt x="812" y="26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5410080" y="4495680"/>
              <a:ext cx="508680" cy="1283400"/>
              <a:chOff x="5410080" y="4495680"/>
              <a:chExt cx="508680" cy="1283400"/>
            </a:xfrm>
          </p:grpSpPr>
          <p:sp>
            <p:nvSpPr>
              <p:cNvPr id="1062" name=""/>
              <p:cNvSpPr/>
              <p:nvPr/>
            </p:nvSpPr>
            <p:spPr>
              <a:xfrm>
                <a:off x="5678640" y="45705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0080" y="46972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60840" y="50641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54720" y="44956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52920" y="53388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700600" y="56055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567400" y="49942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3048120" y="4497480"/>
              <a:ext cx="508320" cy="1281240"/>
              <a:chOff x="3048120" y="4497480"/>
              <a:chExt cx="508320" cy="1281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3189240" y="45673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43400" y="46972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66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27480" y="50817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27480" y="44974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432240" y="53420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200400" y="56070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048120" y="50133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1078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1086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3046320" y="3735360"/>
              <a:ext cx="535680" cy="1511640"/>
              <a:chOff x="3046320" y="3735360"/>
              <a:chExt cx="535680" cy="1511640"/>
            </a:xfrm>
          </p:grpSpPr>
          <p:sp>
            <p:nvSpPr>
              <p:cNvPr id="1094" name=""/>
              <p:cNvSpPr/>
              <p:nvPr/>
            </p:nvSpPr>
            <p:spPr>
              <a:xfrm>
                <a:off x="3195720" y="381960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218" y="243"/>
                    </a:moveTo>
                    <a:lnTo>
                      <a:pt x="218" y="167"/>
                    </a:lnTo>
                    <a:lnTo>
                      <a:pt x="186" y="92"/>
                    </a:lnTo>
                    <a:lnTo>
                      <a:pt x="128" y="48"/>
                    </a:lnTo>
                    <a:lnTo>
                      <a:pt x="71" y="0"/>
                    </a:lnTo>
                    <a:lnTo>
                      <a:pt x="39" y="30"/>
                    </a:lnTo>
                    <a:lnTo>
                      <a:pt x="0" y="7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6" y="110"/>
                    </a:lnTo>
                    <a:lnTo>
                      <a:pt x="84" y="154"/>
                    </a:lnTo>
                    <a:lnTo>
                      <a:pt x="142" y="217"/>
                    </a:lnTo>
                    <a:lnTo>
                      <a:pt x="155" y="287"/>
                    </a:lnTo>
                    <a:lnTo>
                      <a:pt x="155" y="318"/>
                    </a:lnTo>
                    <a:lnTo>
                      <a:pt x="172" y="349"/>
                    </a:lnTo>
                    <a:lnTo>
                      <a:pt x="186" y="380"/>
                    </a:lnTo>
                    <a:lnTo>
                      <a:pt x="218" y="393"/>
                    </a:lnTo>
                    <a:lnTo>
                      <a:pt x="231" y="411"/>
                    </a:lnTo>
                    <a:lnTo>
                      <a:pt x="244" y="411"/>
                    </a:lnTo>
                    <a:lnTo>
                      <a:pt x="270" y="380"/>
                    </a:lnTo>
                    <a:lnTo>
                      <a:pt x="270" y="349"/>
                    </a:lnTo>
                    <a:lnTo>
                      <a:pt x="262" y="336"/>
                    </a:lnTo>
                    <a:lnTo>
                      <a:pt x="244" y="274"/>
                    </a:lnTo>
                    <a:lnTo>
                      <a:pt x="231" y="256"/>
                    </a:lnTo>
                    <a:lnTo>
                      <a:pt x="218" y="256"/>
                    </a:lnTo>
                    <a:lnTo>
                      <a:pt x="218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462480" y="397188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79" y="469"/>
                    </a:moveTo>
                    <a:lnTo>
                      <a:pt x="146" y="358"/>
                    </a:lnTo>
                    <a:lnTo>
                      <a:pt x="212" y="225"/>
                    </a:lnTo>
                    <a:lnTo>
                      <a:pt x="212" y="164"/>
                    </a:lnTo>
                    <a:lnTo>
                      <a:pt x="212" y="97"/>
                    </a:lnTo>
                    <a:lnTo>
                      <a:pt x="186" y="44"/>
                    </a:lnTo>
                    <a:lnTo>
                      <a:pt x="146" y="0"/>
                    </a:lnTo>
                    <a:lnTo>
                      <a:pt x="133" y="30"/>
                    </a:lnTo>
                    <a:lnTo>
                      <a:pt x="106" y="44"/>
                    </a:lnTo>
                    <a:lnTo>
                      <a:pt x="93" y="79"/>
                    </a:lnTo>
                    <a:lnTo>
                      <a:pt x="93" y="97"/>
                    </a:lnTo>
                    <a:lnTo>
                      <a:pt x="159" y="132"/>
                    </a:lnTo>
                    <a:lnTo>
                      <a:pt x="225" y="164"/>
                    </a:lnTo>
                    <a:lnTo>
                      <a:pt x="199" y="177"/>
                    </a:lnTo>
                    <a:lnTo>
                      <a:pt x="186" y="177"/>
                    </a:lnTo>
                    <a:lnTo>
                      <a:pt x="159" y="177"/>
                    </a:lnTo>
                    <a:lnTo>
                      <a:pt x="146" y="177"/>
                    </a:lnTo>
                    <a:lnTo>
                      <a:pt x="120" y="195"/>
                    </a:lnTo>
                    <a:lnTo>
                      <a:pt x="70" y="212"/>
                    </a:lnTo>
                    <a:lnTo>
                      <a:pt x="52" y="225"/>
                    </a:lnTo>
                    <a:lnTo>
                      <a:pt x="39" y="225"/>
                    </a:lnTo>
                    <a:lnTo>
                      <a:pt x="17" y="292"/>
                    </a:lnTo>
                    <a:lnTo>
                      <a:pt x="0" y="358"/>
                    </a:lnTo>
                    <a:lnTo>
                      <a:pt x="17" y="406"/>
                    </a:lnTo>
                    <a:lnTo>
                      <a:pt x="39" y="437"/>
                    </a:lnTo>
                    <a:lnTo>
                      <a:pt x="120" y="487"/>
                    </a:lnTo>
                    <a:lnTo>
                      <a:pt x="212" y="517"/>
                    </a:lnTo>
                    <a:lnTo>
                      <a:pt x="239" y="553"/>
                    </a:lnTo>
                    <a:lnTo>
                      <a:pt x="279" y="584"/>
                    </a:lnTo>
                    <a:lnTo>
                      <a:pt x="306" y="601"/>
                    </a:lnTo>
                    <a:lnTo>
                      <a:pt x="319" y="584"/>
                    </a:lnTo>
                    <a:lnTo>
                      <a:pt x="332" y="553"/>
                    </a:lnTo>
                    <a:lnTo>
                      <a:pt x="279" y="517"/>
                    </a:lnTo>
                    <a:lnTo>
                      <a:pt x="239" y="517"/>
                    </a:lnTo>
                    <a:lnTo>
                      <a:pt x="199" y="504"/>
                    </a:lnTo>
                    <a:lnTo>
                      <a:pt x="146" y="469"/>
                    </a:lnTo>
                    <a:lnTo>
                      <a:pt x="120" y="437"/>
                    </a:lnTo>
                    <a:lnTo>
                      <a:pt x="120" y="424"/>
                    </a:lnTo>
                    <a:lnTo>
                      <a:pt x="106" y="437"/>
                    </a:lnTo>
                    <a:lnTo>
                      <a:pt x="79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341520" y="442584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127" y="30"/>
                    </a:moveTo>
                    <a:lnTo>
                      <a:pt x="168" y="66"/>
                    </a:lnTo>
                    <a:lnTo>
                      <a:pt x="195" y="84"/>
                    </a:lnTo>
                    <a:lnTo>
                      <a:pt x="225" y="52"/>
                    </a:lnTo>
                    <a:lnTo>
                      <a:pt x="265" y="17"/>
                    </a:lnTo>
                    <a:lnTo>
                      <a:pt x="390" y="52"/>
                    </a:lnTo>
                    <a:lnTo>
                      <a:pt x="517" y="106"/>
                    </a:lnTo>
                    <a:lnTo>
                      <a:pt x="504" y="155"/>
                    </a:lnTo>
                    <a:lnTo>
                      <a:pt x="460" y="155"/>
                    </a:lnTo>
                    <a:lnTo>
                      <a:pt x="362" y="155"/>
                    </a:lnTo>
                    <a:lnTo>
                      <a:pt x="349" y="137"/>
                    </a:lnTo>
                    <a:lnTo>
                      <a:pt x="309" y="120"/>
                    </a:lnTo>
                    <a:lnTo>
                      <a:pt x="278" y="106"/>
                    </a:lnTo>
                    <a:lnTo>
                      <a:pt x="265" y="106"/>
                    </a:lnTo>
                    <a:lnTo>
                      <a:pt x="234" y="120"/>
                    </a:lnTo>
                    <a:lnTo>
                      <a:pt x="195" y="137"/>
                    </a:lnTo>
                    <a:lnTo>
                      <a:pt x="168" y="155"/>
                    </a:lnTo>
                    <a:lnTo>
                      <a:pt x="155" y="155"/>
                    </a:lnTo>
                    <a:lnTo>
                      <a:pt x="114" y="155"/>
                    </a:lnTo>
                    <a:lnTo>
                      <a:pt x="70" y="137"/>
                    </a:lnTo>
                    <a:lnTo>
                      <a:pt x="57" y="106"/>
                    </a:lnTo>
                    <a:lnTo>
                      <a:pt x="17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17"/>
                    </a:lnTo>
                    <a:lnTo>
                      <a:pt x="39" y="30"/>
                    </a:lnTo>
                    <a:lnTo>
                      <a:pt x="70" y="84"/>
                    </a:lnTo>
                    <a:lnTo>
                      <a:pt x="97" y="120"/>
                    </a:lnTo>
                    <a:lnTo>
                      <a:pt x="114" y="120"/>
                    </a:lnTo>
                    <a:lnTo>
                      <a:pt x="127" y="120"/>
                    </a:lnTo>
                    <a:lnTo>
                      <a:pt x="127" y="84"/>
                    </a:lnTo>
                    <a:lnTo>
                      <a:pt x="127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43320" y="373536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79" y="512"/>
                    </a:moveTo>
                    <a:lnTo>
                      <a:pt x="92" y="362"/>
                    </a:lnTo>
                    <a:lnTo>
                      <a:pt x="92" y="229"/>
                    </a:lnTo>
                    <a:lnTo>
                      <a:pt x="92" y="167"/>
                    </a:lnTo>
                    <a:lnTo>
                      <a:pt x="123" y="105"/>
                    </a:lnTo>
                    <a:lnTo>
                      <a:pt x="150" y="48"/>
                    </a:lnTo>
                    <a:lnTo>
                      <a:pt x="203" y="0"/>
                    </a:lnTo>
                    <a:lnTo>
                      <a:pt x="190" y="105"/>
                    </a:lnTo>
                    <a:lnTo>
                      <a:pt x="164" y="149"/>
                    </a:lnTo>
                    <a:lnTo>
                      <a:pt x="133" y="211"/>
                    </a:lnTo>
                    <a:lnTo>
                      <a:pt x="247" y="287"/>
                    </a:lnTo>
                    <a:lnTo>
                      <a:pt x="353" y="331"/>
                    </a:lnTo>
                    <a:lnTo>
                      <a:pt x="381" y="318"/>
                    </a:lnTo>
                    <a:lnTo>
                      <a:pt x="407" y="300"/>
                    </a:lnTo>
                    <a:lnTo>
                      <a:pt x="434" y="274"/>
                    </a:lnTo>
                    <a:lnTo>
                      <a:pt x="473" y="229"/>
                    </a:lnTo>
                    <a:lnTo>
                      <a:pt x="491" y="180"/>
                    </a:lnTo>
                    <a:lnTo>
                      <a:pt x="504" y="167"/>
                    </a:lnTo>
                    <a:lnTo>
                      <a:pt x="504" y="229"/>
                    </a:lnTo>
                    <a:lnTo>
                      <a:pt x="491" y="260"/>
                    </a:lnTo>
                    <a:lnTo>
                      <a:pt x="451" y="318"/>
                    </a:lnTo>
                    <a:lnTo>
                      <a:pt x="381" y="331"/>
                    </a:lnTo>
                    <a:lnTo>
                      <a:pt x="296" y="349"/>
                    </a:lnTo>
                    <a:lnTo>
                      <a:pt x="269" y="362"/>
                    </a:lnTo>
                    <a:lnTo>
                      <a:pt x="256" y="375"/>
                    </a:lnTo>
                    <a:lnTo>
                      <a:pt x="230" y="406"/>
                    </a:lnTo>
                    <a:lnTo>
                      <a:pt x="217" y="437"/>
                    </a:lnTo>
                    <a:lnTo>
                      <a:pt x="203" y="464"/>
                    </a:lnTo>
                    <a:lnTo>
                      <a:pt x="177" y="481"/>
                    </a:lnTo>
                    <a:lnTo>
                      <a:pt x="133" y="437"/>
                    </a:lnTo>
                    <a:lnTo>
                      <a:pt x="123" y="406"/>
                    </a:lnTo>
                    <a:lnTo>
                      <a:pt x="110" y="362"/>
                    </a:lnTo>
                    <a:lnTo>
                      <a:pt x="92" y="300"/>
                    </a:lnTo>
                    <a:lnTo>
                      <a:pt x="110" y="274"/>
                    </a:lnTo>
                    <a:lnTo>
                      <a:pt x="110" y="274"/>
                    </a:lnTo>
                    <a:lnTo>
                      <a:pt x="123" y="287"/>
                    </a:lnTo>
                    <a:lnTo>
                      <a:pt x="150" y="318"/>
                    </a:lnTo>
                    <a:lnTo>
                      <a:pt x="164" y="362"/>
                    </a:lnTo>
                    <a:lnTo>
                      <a:pt x="110" y="437"/>
                    </a:lnTo>
                    <a:lnTo>
                      <a:pt x="79" y="455"/>
                    </a:lnTo>
                    <a:lnTo>
                      <a:pt x="52" y="464"/>
                    </a:lnTo>
                    <a:lnTo>
                      <a:pt x="39" y="481"/>
                    </a:lnTo>
                    <a:lnTo>
                      <a:pt x="13" y="494"/>
                    </a:lnTo>
                    <a:lnTo>
                      <a:pt x="0" y="494"/>
                    </a:lnTo>
                    <a:lnTo>
                      <a:pt x="0" y="512"/>
                    </a:lnTo>
                    <a:lnTo>
                      <a:pt x="26" y="525"/>
                    </a:lnTo>
                    <a:lnTo>
                      <a:pt x="52" y="525"/>
                    </a:lnTo>
                    <a:lnTo>
                      <a:pt x="123" y="525"/>
                    </a:lnTo>
                    <a:lnTo>
                      <a:pt x="123" y="543"/>
                    </a:lnTo>
                    <a:lnTo>
                      <a:pt x="133" y="543"/>
                    </a:lnTo>
                    <a:lnTo>
                      <a:pt x="150" y="543"/>
                    </a:lnTo>
                    <a:lnTo>
                      <a:pt x="150" y="543"/>
                    </a:lnTo>
                    <a:lnTo>
                      <a:pt x="110" y="525"/>
                    </a:lnTo>
                    <a:lnTo>
                      <a:pt x="79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451320" y="473220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33" y="92"/>
                    </a:lnTo>
                    <a:lnTo>
                      <a:pt x="159" y="154"/>
                    </a:lnTo>
                    <a:lnTo>
                      <a:pt x="199" y="331"/>
                    </a:lnTo>
                    <a:lnTo>
                      <a:pt x="239" y="508"/>
                    </a:lnTo>
                    <a:lnTo>
                      <a:pt x="225" y="566"/>
                    </a:lnTo>
                    <a:lnTo>
                      <a:pt x="199" y="606"/>
                    </a:lnTo>
                    <a:lnTo>
                      <a:pt x="172" y="645"/>
                    </a:lnTo>
                    <a:lnTo>
                      <a:pt x="133" y="685"/>
                    </a:lnTo>
                    <a:lnTo>
                      <a:pt x="88" y="707"/>
                    </a:lnTo>
                    <a:lnTo>
                      <a:pt x="66" y="707"/>
                    </a:lnTo>
                    <a:lnTo>
                      <a:pt x="66" y="725"/>
                    </a:lnTo>
                    <a:lnTo>
                      <a:pt x="66" y="742"/>
                    </a:lnTo>
                    <a:lnTo>
                      <a:pt x="88" y="742"/>
                    </a:lnTo>
                    <a:lnTo>
                      <a:pt x="133" y="725"/>
                    </a:lnTo>
                    <a:lnTo>
                      <a:pt x="133" y="547"/>
                    </a:lnTo>
                    <a:lnTo>
                      <a:pt x="146" y="525"/>
                    </a:lnTo>
                    <a:lnTo>
                      <a:pt x="146" y="508"/>
                    </a:lnTo>
                    <a:lnTo>
                      <a:pt x="120" y="490"/>
                    </a:lnTo>
                    <a:lnTo>
                      <a:pt x="79" y="446"/>
                    </a:lnTo>
                    <a:lnTo>
                      <a:pt x="35" y="428"/>
                    </a:lnTo>
                    <a:lnTo>
                      <a:pt x="13" y="428"/>
                    </a:lnTo>
                    <a:lnTo>
                      <a:pt x="0" y="389"/>
                    </a:lnTo>
                    <a:lnTo>
                      <a:pt x="0" y="353"/>
                    </a:lnTo>
                    <a:lnTo>
                      <a:pt x="13" y="331"/>
                    </a:lnTo>
                    <a:lnTo>
                      <a:pt x="52" y="309"/>
                    </a:lnTo>
                    <a:lnTo>
                      <a:pt x="79" y="331"/>
                    </a:lnTo>
                    <a:lnTo>
                      <a:pt x="88" y="371"/>
                    </a:lnTo>
                    <a:lnTo>
                      <a:pt x="120" y="428"/>
                    </a:lnTo>
                    <a:lnTo>
                      <a:pt x="159" y="371"/>
                    </a:lnTo>
                    <a:lnTo>
                      <a:pt x="172" y="353"/>
                    </a:lnTo>
                    <a:lnTo>
                      <a:pt x="146" y="309"/>
                    </a:lnTo>
                    <a:lnTo>
                      <a:pt x="105" y="274"/>
                    </a:lnTo>
                    <a:lnTo>
                      <a:pt x="88" y="252"/>
                    </a:lnTo>
                    <a:lnTo>
                      <a:pt x="79" y="234"/>
                    </a:lnTo>
                    <a:lnTo>
                      <a:pt x="22" y="0"/>
                    </a:lnTo>
                    <a:lnTo>
                      <a:pt x="35" y="35"/>
                    </a:lnTo>
                    <a:lnTo>
                      <a:pt x="79" y="74"/>
                    </a:lnTo>
                    <a:lnTo>
                      <a:pt x="105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208320" y="504504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124" y="145"/>
                    </a:lnTo>
                    <a:lnTo>
                      <a:pt x="142" y="185"/>
                    </a:lnTo>
                    <a:lnTo>
                      <a:pt x="150" y="229"/>
                    </a:lnTo>
                    <a:lnTo>
                      <a:pt x="168" y="287"/>
                    </a:lnTo>
                    <a:lnTo>
                      <a:pt x="177" y="331"/>
                    </a:lnTo>
                    <a:lnTo>
                      <a:pt x="195" y="371"/>
                    </a:lnTo>
                    <a:lnTo>
                      <a:pt x="195" y="371"/>
                    </a:lnTo>
                    <a:lnTo>
                      <a:pt x="168" y="433"/>
                    </a:lnTo>
                    <a:lnTo>
                      <a:pt x="142" y="499"/>
                    </a:lnTo>
                    <a:lnTo>
                      <a:pt x="52" y="561"/>
                    </a:lnTo>
                    <a:lnTo>
                      <a:pt x="83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70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83" y="314"/>
                    </a:lnTo>
                    <a:lnTo>
                      <a:pt x="52" y="287"/>
                    </a:lnTo>
                    <a:lnTo>
                      <a:pt x="26" y="246"/>
                    </a:lnTo>
                    <a:lnTo>
                      <a:pt x="0" y="202"/>
                    </a:lnTo>
                    <a:lnTo>
                      <a:pt x="0" y="185"/>
                    </a:lnTo>
                    <a:lnTo>
                      <a:pt x="0" y="145"/>
                    </a:lnTo>
                    <a:lnTo>
                      <a:pt x="13" y="83"/>
                    </a:lnTo>
                    <a:lnTo>
                      <a:pt x="52" y="22"/>
                    </a:lnTo>
                    <a:lnTo>
                      <a:pt x="83" y="0"/>
                    </a:lnTo>
                    <a:lnTo>
                      <a:pt x="83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046320" y="434340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423" y="145"/>
                    </a:moveTo>
                    <a:lnTo>
                      <a:pt x="449" y="286"/>
                    </a:lnTo>
                    <a:lnTo>
                      <a:pt x="480" y="358"/>
                    </a:lnTo>
                    <a:lnTo>
                      <a:pt x="530" y="411"/>
                    </a:lnTo>
                    <a:lnTo>
                      <a:pt x="587" y="393"/>
                    </a:lnTo>
                    <a:lnTo>
                      <a:pt x="618" y="375"/>
                    </a:lnTo>
                    <a:lnTo>
                      <a:pt x="662" y="375"/>
                    </a:lnTo>
                    <a:lnTo>
                      <a:pt x="724" y="393"/>
                    </a:lnTo>
                    <a:lnTo>
                      <a:pt x="781" y="446"/>
                    </a:lnTo>
                    <a:lnTo>
                      <a:pt x="856" y="464"/>
                    </a:lnTo>
                    <a:lnTo>
                      <a:pt x="993" y="538"/>
                    </a:lnTo>
                    <a:lnTo>
                      <a:pt x="993" y="574"/>
                    </a:lnTo>
                    <a:lnTo>
                      <a:pt x="979" y="605"/>
                    </a:lnTo>
                    <a:lnTo>
                      <a:pt x="918" y="627"/>
                    </a:lnTo>
                    <a:lnTo>
                      <a:pt x="843" y="605"/>
                    </a:lnTo>
                    <a:lnTo>
                      <a:pt x="781" y="591"/>
                    </a:lnTo>
                    <a:lnTo>
                      <a:pt x="631" y="538"/>
                    </a:lnTo>
                    <a:lnTo>
                      <a:pt x="499" y="464"/>
                    </a:lnTo>
                    <a:lnTo>
                      <a:pt x="449" y="464"/>
                    </a:lnTo>
                    <a:lnTo>
                      <a:pt x="405" y="486"/>
                    </a:lnTo>
                    <a:lnTo>
                      <a:pt x="361" y="499"/>
                    </a:lnTo>
                    <a:lnTo>
                      <a:pt x="330" y="538"/>
                    </a:lnTo>
                    <a:lnTo>
                      <a:pt x="273" y="574"/>
                    </a:lnTo>
                    <a:lnTo>
                      <a:pt x="255" y="538"/>
                    </a:lnTo>
                    <a:lnTo>
                      <a:pt x="242" y="516"/>
                    </a:lnTo>
                    <a:lnTo>
                      <a:pt x="211" y="516"/>
                    </a:lnTo>
                    <a:lnTo>
                      <a:pt x="167" y="516"/>
                    </a:lnTo>
                    <a:lnTo>
                      <a:pt x="136" y="516"/>
                    </a:lnTo>
                    <a:lnTo>
                      <a:pt x="105" y="486"/>
                    </a:lnTo>
                    <a:lnTo>
                      <a:pt x="74" y="411"/>
                    </a:lnTo>
                    <a:lnTo>
                      <a:pt x="44" y="318"/>
                    </a:lnTo>
                    <a:lnTo>
                      <a:pt x="17" y="233"/>
                    </a:lnTo>
                    <a:lnTo>
                      <a:pt x="0" y="198"/>
                    </a:lnTo>
                    <a:lnTo>
                      <a:pt x="0" y="176"/>
                    </a:lnTo>
                    <a:lnTo>
                      <a:pt x="44" y="158"/>
                    </a:lnTo>
                    <a:lnTo>
                      <a:pt x="105" y="145"/>
                    </a:lnTo>
                    <a:lnTo>
                      <a:pt x="167" y="123"/>
                    </a:lnTo>
                    <a:lnTo>
                      <a:pt x="198" y="123"/>
                    </a:lnTo>
                    <a:lnTo>
                      <a:pt x="224" y="105"/>
                    </a:lnTo>
                    <a:lnTo>
                      <a:pt x="273" y="92"/>
                    </a:lnTo>
                    <a:lnTo>
                      <a:pt x="273" y="52"/>
                    </a:lnTo>
                    <a:lnTo>
                      <a:pt x="286" y="17"/>
                    </a:lnTo>
                    <a:lnTo>
                      <a:pt x="348" y="0"/>
                    </a:lnTo>
                    <a:lnTo>
                      <a:pt x="423" y="0"/>
                    </a:lnTo>
                    <a:lnTo>
                      <a:pt x="480" y="0"/>
                    </a:lnTo>
                    <a:lnTo>
                      <a:pt x="467" y="35"/>
                    </a:lnTo>
                    <a:lnTo>
                      <a:pt x="467" y="52"/>
                    </a:lnTo>
                    <a:lnTo>
                      <a:pt x="423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470560" y="3659040"/>
              <a:ext cx="535320" cy="1511640"/>
              <a:chOff x="5470560" y="3659040"/>
              <a:chExt cx="535320" cy="1511640"/>
            </a:xfrm>
          </p:grpSpPr>
          <p:sp>
            <p:nvSpPr>
              <p:cNvPr id="1102" name=""/>
              <p:cNvSpPr/>
              <p:nvPr/>
            </p:nvSpPr>
            <p:spPr>
              <a:xfrm>
                <a:off x="5759280" y="374328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52" y="243"/>
                    </a:moveTo>
                    <a:lnTo>
                      <a:pt x="52" y="167"/>
                    </a:lnTo>
                    <a:lnTo>
                      <a:pt x="84" y="92"/>
                    </a:lnTo>
                    <a:lnTo>
                      <a:pt x="142" y="48"/>
                    </a:lnTo>
                    <a:lnTo>
                      <a:pt x="199" y="0"/>
                    </a:lnTo>
                    <a:lnTo>
                      <a:pt x="231" y="30"/>
                    </a:lnTo>
                    <a:lnTo>
                      <a:pt x="270" y="79"/>
                    </a:lnTo>
                    <a:lnTo>
                      <a:pt x="270" y="110"/>
                    </a:lnTo>
                    <a:lnTo>
                      <a:pt x="270" y="110"/>
                    </a:lnTo>
                    <a:lnTo>
                      <a:pt x="244" y="110"/>
                    </a:lnTo>
                    <a:lnTo>
                      <a:pt x="186" y="154"/>
                    </a:lnTo>
                    <a:lnTo>
                      <a:pt x="128" y="217"/>
                    </a:lnTo>
                    <a:lnTo>
                      <a:pt x="115" y="287"/>
                    </a:lnTo>
                    <a:lnTo>
                      <a:pt x="115" y="318"/>
                    </a:lnTo>
                    <a:lnTo>
                      <a:pt x="98" y="349"/>
                    </a:lnTo>
                    <a:lnTo>
                      <a:pt x="84" y="380"/>
                    </a:lnTo>
                    <a:lnTo>
                      <a:pt x="52" y="393"/>
                    </a:lnTo>
                    <a:lnTo>
                      <a:pt x="39" y="411"/>
                    </a:lnTo>
                    <a:lnTo>
                      <a:pt x="26" y="411"/>
                    </a:lnTo>
                    <a:lnTo>
                      <a:pt x="0" y="380"/>
                    </a:lnTo>
                    <a:lnTo>
                      <a:pt x="0" y="349"/>
                    </a:lnTo>
                    <a:lnTo>
                      <a:pt x="8" y="336"/>
                    </a:lnTo>
                    <a:lnTo>
                      <a:pt x="26" y="274"/>
                    </a:lnTo>
                    <a:lnTo>
                      <a:pt x="39" y="256"/>
                    </a:lnTo>
                    <a:lnTo>
                      <a:pt x="52" y="256"/>
                    </a:lnTo>
                    <a:lnTo>
                      <a:pt x="52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470560" y="389556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253" y="469"/>
                    </a:moveTo>
                    <a:lnTo>
                      <a:pt x="186" y="358"/>
                    </a:lnTo>
                    <a:lnTo>
                      <a:pt x="120" y="225"/>
                    </a:lnTo>
                    <a:lnTo>
                      <a:pt x="120" y="164"/>
                    </a:lnTo>
                    <a:lnTo>
                      <a:pt x="120" y="97"/>
                    </a:lnTo>
                    <a:lnTo>
                      <a:pt x="146" y="44"/>
                    </a:lnTo>
                    <a:lnTo>
                      <a:pt x="186" y="0"/>
                    </a:lnTo>
                    <a:lnTo>
                      <a:pt x="199" y="30"/>
                    </a:lnTo>
                    <a:lnTo>
                      <a:pt x="225" y="44"/>
                    </a:lnTo>
                    <a:lnTo>
                      <a:pt x="239" y="79"/>
                    </a:lnTo>
                    <a:lnTo>
                      <a:pt x="239" y="97"/>
                    </a:lnTo>
                    <a:lnTo>
                      <a:pt x="172" y="132"/>
                    </a:lnTo>
                    <a:lnTo>
                      <a:pt x="106" y="164"/>
                    </a:lnTo>
                    <a:lnTo>
                      <a:pt x="133" y="177"/>
                    </a:lnTo>
                    <a:lnTo>
                      <a:pt x="146" y="177"/>
                    </a:lnTo>
                    <a:lnTo>
                      <a:pt x="172" y="177"/>
                    </a:lnTo>
                    <a:lnTo>
                      <a:pt x="186" y="177"/>
                    </a:lnTo>
                    <a:lnTo>
                      <a:pt x="212" y="195"/>
                    </a:lnTo>
                    <a:lnTo>
                      <a:pt x="262" y="212"/>
                    </a:lnTo>
                    <a:lnTo>
                      <a:pt x="279" y="225"/>
                    </a:lnTo>
                    <a:lnTo>
                      <a:pt x="293" y="225"/>
                    </a:lnTo>
                    <a:lnTo>
                      <a:pt x="315" y="292"/>
                    </a:lnTo>
                    <a:lnTo>
                      <a:pt x="332" y="358"/>
                    </a:lnTo>
                    <a:lnTo>
                      <a:pt x="315" y="406"/>
                    </a:lnTo>
                    <a:lnTo>
                      <a:pt x="293" y="437"/>
                    </a:lnTo>
                    <a:lnTo>
                      <a:pt x="212" y="487"/>
                    </a:lnTo>
                    <a:lnTo>
                      <a:pt x="120" y="517"/>
                    </a:lnTo>
                    <a:lnTo>
                      <a:pt x="93" y="553"/>
                    </a:lnTo>
                    <a:lnTo>
                      <a:pt x="52" y="584"/>
                    </a:lnTo>
                    <a:lnTo>
                      <a:pt x="26" y="601"/>
                    </a:lnTo>
                    <a:lnTo>
                      <a:pt x="13" y="584"/>
                    </a:lnTo>
                    <a:lnTo>
                      <a:pt x="0" y="553"/>
                    </a:lnTo>
                    <a:lnTo>
                      <a:pt x="52" y="517"/>
                    </a:lnTo>
                    <a:lnTo>
                      <a:pt x="93" y="517"/>
                    </a:lnTo>
                    <a:lnTo>
                      <a:pt x="133" y="504"/>
                    </a:lnTo>
                    <a:lnTo>
                      <a:pt x="186" y="469"/>
                    </a:lnTo>
                    <a:lnTo>
                      <a:pt x="212" y="437"/>
                    </a:lnTo>
                    <a:lnTo>
                      <a:pt x="212" y="424"/>
                    </a:lnTo>
                    <a:lnTo>
                      <a:pt x="225" y="437"/>
                    </a:lnTo>
                    <a:lnTo>
                      <a:pt x="253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524560" y="434988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390" y="30"/>
                    </a:moveTo>
                    <a:lnTo>
                      <a:pt x="349" y="66"/>
                    </a:lnTo>
                    <a:lnTo>
                      <a:pt x="322" y="84"/>
                    </a:lnTo>
                    <a:lnTo>
                      <a:pt x="292" y="52"/>
                    </a:lnTo>
                    <a:lnTo>
                      <a:pt x="252" y="17"/>
                    </a:lnTo>
                    <a:lnTo>
                      <a:pt x="127" y="52"/>
                    </a:lnTo>
                    <a:lnTo>
                      <a:pt x="0" y="106"/>
                    </a:lnTo>
                    <a:lnTo>
                      <a:pt x="13" y="155"/>
                    </a:lnTo>
                    <a:lnTo>
                      <a:pt x="57" y="155"/>
                    </a:lnTo>
                    <a:lnTo>
                      <a:pt x="155" y="155"/>
                    </a:lnTo>
                    <a:lnTo>
                      <a:pt x="168" y="137"/>
                    </a:lnTo>
                    <a:lnTo>
                      <a:pt x="208" y="120"/>
                    </a:lnTo>
                    <a:lnTo>
                      <a:pt x="239" y="106"/>
                    </a:lnTo>
                    <a:lnTo>
                      <a:pt x="252" y="106"/>
                    </a:lnTo>
                    <a:lnTo>
                      <a:pt x="283" y="120"/>
                    </a:lnTo>
                    <a:lnTo>
                      <a:pt x="322" y="137"/>
                    </a:lnTo>
                    <a:lnTo>
                      <a:pt x="349" y="155"/>
                    </a:lnTo>
                    <a:lnTo>
                      <a:pt x="362" y="155"/>
                    </a:lnTo>
                    <a:lnTo>
                      <a:pt x="403" y="155"/>
                    </a:lnTo>
                    <a:lnTo>
                      <a:pt x="447" y="137"/>
                    </a:lnTo>
                    <a:lnTo>
                      <a:pt x="460" y="106"/>
                    </a:lnTo>
                    <a:lnTo>
                      <a:pt x="500" y="30"/>
                    </a:lnTo>
                    <a:lnTo>
                      <a:pt x="517" y="17"/>
                    </a:lnTo>
                    <a:lnTo>
                      <a:pt x="517" y="0"/>
                    </a:lnTo>
                    <a:lnTo>
                      <a:pt x="500" y="17"/>
                    </a:lnTo>
                    <a:lnTo>
                      <a:pt x="478" y="30"/>
                    </a:lnTo>
                    <a:lnTo>
                      <a:pt x="447" y="84"/>
                    </a:lnTo>
                    <a:lnTo>
                      <a:pt x="420" y="120"/>
                    </a:lnTo>
                    <a:lnTo>
                      <a:pt x="403" y="120"/>
                    </a:lnTo>
                    <a:lnTo>
                      <a:pt x="390" y="120"/>
                    </a:lnTo>
                    <a:lnTo>
                      <a:pt x="390" y="84"/>
                    </a:lnTo>
                    <a:lnTo>
                      <a:pt x="390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27800" y="365904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425" y="512"/>
                    </a:moveTo>
                    <a:lnTo>
                      <a:pt x="412" y="362"/>
                    </a:lnTo>
                    <a:lnTo>
                      <a:pt x="412" y="229"/>
                    </a:lnTo>
                    <a:lnTo>
                      <a:pt x="412" y="167"/>
                    </a:lnTo>
                    <a:lnTo>
                      <a:pt x="381" y="105"/>
                    </a:lnTo>
                    <a:lnTo>
                      <a:pt x="353" y="48"/>
                    </a:lnTo>
                    <a:lnTo>
                      <a:pt x="300" y="0"/>
                    </a:lnTo>
                    <a:lnTo>
                      <a:pt x="314" y="105"/>
                    </a:lnTo>
                    <a:lnTo>
                      <a:pt x="340" y="149"/>
                    </a:lnTo>
                    <a:lnTo>
                      <a:pt x="371" y="211"/>
                    </a:lnTo>
                    <a:lnTo>
                      <a:pt x="256" y="287"/>
                    </a:lnTo>
                    <a:lnTo>
                      <a:pt x="150" y="331"/>
                    </a:lnTo>
                    <a:lnTo>
                      <a:pt x="123" y="318"/>
                    </a:lnTo>
                    <a:lnTo>
                      <a:pt x="97" y="300"/>
                    </a:lnTo>
                    <a:lnTo>
                      <a:pt x="70" y="274"/>
                    </a:lnTo>
                    <a:lnTo>
                      <a:pt x="30" y="229"/>
                    </a:lnTo>
                    <a:lnTo>
                      <a:pt x="13" y="180"/>
                    </a:lnTo>
                    <a:lnTo>
                      <a:pt x="0" y="167"/>
                    </a:lnTo>
                    <a:lnTo>
                      <a:pt x="0" y="229"/>
                    </a:lnTo>
                    <a:lnTo>
                      <a:pt x="13" y="260"/>
                    </a:lnTo>
                    <a:lnTo>
                      <a:pt x="52" y="318"/>
                    </a:lnTo>
                    <a:lnTo>
                      <a:pt x="123" y="331"/>
                    </a:lnTo>
                    <a:lnTo>
                      <a:pt x="208" y="349"/>
                    </a:lnTo>
                    <a:lnTo>
                      <a:pt x="234" y="362"/>
                    </a:lnTo>
                    <a:lnTo>
                      <a:pt x="247" y="375"/>
                    </a:lnTo>
                    <a:lnTo>
                      <a:pt x="274" y="406"/>
                    </a:lnTo>
                    <a:lnTo>
                      <a:pt x="287" y="437"/>
                    </a:lnTo>
                    <a:lnTo>
                      <a:pt x="300" y="464"/>
                    </a:lnTo>
                    <a:lnTo>
                      <a:pt x="327" y="481"/>
                    </a:lnTo>
                    <a:lnTo>
                      <a:pt x="371" y="437"/>
                    </a:lnTo>
                    <a:lnTo>
                      <a:pt x="381" y="406"/>
                    </a:lnTo>
                    <a:lnTo>
                      <a:pt x="394" y="362"/>
                    </a:lnTo>
                    <a:lnTo>
                      <a:pt x="412" y="300"/>
                    </a:lnTo>
                    <a:lnTo>
                      <a:pt x="394" y="274"/>
                    </a:lnTo>
                    <a:lnTo>
                      <a:pt x="394" y="274"/>
                    </a:lnTo>
                    <a:lnTo>
                      <a:pt x="381" y="287"/>
                    </a:lnTo>
                    <a:lnTo>
                      <a:pt x="353" y="318"/>
                    </a:lnTo>
                    <a:lnTo>
                      <a:pt x="340" y="362"/>
                    </a:lnTo>
                    <a:lnTo>
                      <a:pt x="394" y="437"/>
                    </a:lnTo>
                    <a:lnTo>
                      <a:pt x="425" y="455"/>
                    </a:lnTo>
                    <a:lnTo>
                      <a:pt x="451" y="464"/>
                    </a:lnTo>
                    <a:lnTo>
                      <a:pt x="465" y="481"/>
                    </a:lnTo>
                    <a:lnTo>
                      <a:pt x="491" y="494"/>
                    </a:lnTo>
                    <a:lnTo>
                      <a:pt x="504" y="494"/>
                    </a:lnTo>
                    <a:lnTo>
                      <a:pt x="504" y="512"/>
                    </a:lnTo>
                    <a:lnTo>
                      <a:pt x="478" y="525"/>
                    </a:lnTo>
                    <a:lnTo>
                      <a:pt x="451" y="525"/>
                    </a:lnTo>
                    <a:lnTo>
                      <a:pt x="381" y="525"/>
                    </a:lnTo>
                    <a:lnTo>
                      <a:pt x="381" y="543"/>
                    </a:lnTo>
                    <a:lnTo>
                      <a:pt x="371" y="543"/>
                    </a:lnTo>
                    <a:lnTo>
                      <a:pt x="353" y="543"/>
                    </a:lnTo>
                    <a:lnTo>
                      <a:pt x="353" y="543"/>
                    </a:lnTo>
                    <a:lnTo>
                      <a:pt x="394" y="525"/>
                    </a:lnTo>
                    <a:lnTo>
                      <a:pt x="425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514840" y="465624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05" y="92"/>
                    </a:lnTo>
                    <a:lnTo>
                      <a:pt x="79" y="154"/>
                    </a:lnTo>
                    <a:lnTo>
                      <a:pt x="39" y="331"/>
                    </a:lnTo>
                    <a:lnTo>
                      <a:pt x="0" y="508"/>
                    </a:lnTo>
                    <a:lnTo>
                      <a:pt x="13" y="566"/>
                    </a:lnTo>
                    <a:lnTo>
                      <a:pt x="39" y="606"/>
                    </a:lnTo>
                    <a:lnTo>
                      <a:pt x="66" y="645"/>
                    </a:lnTo>
                    <a:lnTo>
                      <a:pt x="105" y="685"/>
                    </a:lnTo>
                    <a:lnTo>
                      <a:pt x="150" y="707"/>
                    </a:lnTo>
                    <a:lnTo>
                      <a:pt x="172" y="707"/>
                    </a:lnTo>
                    <a:lnTo>
                      <a:pt x="172" y="725"/>
                    </a:lnTo>
                    <a:lnTo>
                      <a:pt x="172" y="742"/>
                    </a:lnTo>
                    <a:lnTo>
                      <a:pt x="150" y="742"/>
                    </a:lnTo>
                    <a:lnTo>
                      <a:pt x="105" y="725"/>
                    </a:lnTo>
                    <a:lnTo>
                      <a:pt x="105" y="547"/>
                    </a:lnTo>
                    <a:lnTo>
                      <a:pt x="92" y="525"/>
                    </a:lnTo>
                    <a:lnTo>
                      <a:pt x="92" y="508"/>
                    </a:lnTo>
                    <a:lnTo>
                      <a:pt x="120" y="490"/>
                    </a:lnTo>
                    <a:lnTo>
                      <a:pt x="159" y="446"/>
                    </a:lnTo>
                    <a:lnTo>
                      <a:pt x="203" y="428"/>
                    </a:lnTo>
                    <a:lnTo>
                      <a:pt x="225" y="428"/>
                    </a:lnTo>
                    <a:lnTo>
                      <a:pt x="239" y="389"/>
                    </a:lnTo>
                    <a:lnTo>
                      <a:pt x="239" y="353"/>
                    </a:lnTo>
                    <a:lnTo>
                      <a:pt x="225" y="331"/>
                    </a:lnTo>
                    <a:lnTo>
                      <a:pt x="186" y="309"/>
                    </a:lnTo>
                    <a:lnTo>
                      <a:pt x="159" y="331"/>
                    </a:lnTo>
                    <a:lnTo>
                      <a:pt x="150" y="371"/>
                    </a:lnTo>
                    <a:lnTo>
                      <a:pt x="120" y="428"/>
                    </a:lnTo>
                    <a:lnTo>
                      <a:pt x="79" y="371"/>
                    </a:lnTo>
                    <a:lnTo>
                      <a:pt x="66" y="353"/>
                    </a:lnTo>
                    <a:lnTo>
                      <a:pt x="92" y="309"/>
                    </a:lnTo>
                    <a:lnTo>
                      <a:pt x="133" y="274"/>
                    </a:lnTo>
                    <a:lnTo>
                      <a:pt x="150" y="252"/>
                    </a:lnTo>
                    <a:lnTo>
                      <a:pt x="159" y="234"/>
                    </a:lnTo>
                    <a:lnTo>
                      <a:pt x="217" y="0"/>
                    </a:lnTo>
                    <a:lnTo>
                      <a:pt x="203" y="35"/>
                    </a:lnTo>
                    <a:lnTo>
                      <a:pt x="159" y="74"/>
                    </a:lnTo>
                    <a:lnTo>
                      <a:pt x="133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773680" y="496872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70" y="145"/>
                    </a:lnTo>
                    <a:lnTo>
                      <a:pt x="52" y="185"/>
                    </a:lnTo>
                    <a:lnTo>
                      <a:pt x="44" y="229"/>
                    </a:lnTo>
                    <a:lnTo>
                      <a:pt x="26" y="287"/>
                    </a:lnTo>
                    <a:lnTo>
                      <a:pt x="17" y="33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26" y="433"/>
                    </a:lnTo>
                    <a:lnTo>
                      <a:pt x="52" y="499"/>
                    </a:lnTo>
                    <a:lnTo>
                      <a:pt x="142" y="561"/>
                    </a:lnTo>
                    <a:lnTo>
                      <a:pt x="111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124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111" y="314"/>
                    </a:lnTo>
                    <a:lnTo>
                      <a:pt x="142" y="287"/>
                    </a:lnTo>
                    <a:lnTo>
                      <a:pt x="168" y="246"/>
                    </a:lnTo>
                    <a:lnTo>
                      <a:pt x="195" y="202"/>
                    </a:lnTo>
                    <a:lnTo>
                      <a:pt x="195" y="185"/>
                    </a:lnTo>
                    <a:lnTo>
                      <a:pt x="195" y="145"/>
                    </a:lnTo>
                    <a:lnTo>
                      <a:pt x="181" y="83"/>
                    </a:lnTo>
                    <a:lnTo>
                      <a:pt x="142" y="22"/>
                    </a:lnTo>
                    <a:lnTo>
                      <a:pt x="111" y="0"/>
                    </a:lnTo>
                    <a:lnTo>
                      <a:pt x="111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648400" y="426708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569" y="145"/>
                    </a:moveTo>
                    <a:lnTo>
                      <a:pt x="543" y="286"/>
                    </a:lnTo>
                    <a:lnTo>
                      <a:pt x="512" y="358"/>
                    </a:lnTo>
                    <a:lnTo>
                      <a:pt x="463" y="411"/>
                    </a:lnTo>
                    <a:lnTo>
                      <a:pt x="405" y="393"/>
                    </a:lnTo>
                    <a:lnTo>
                      <a:pt x="374" y="375"/>
                    </a:lnTo>
                    <a:lnTo>
                      <a:pt x="330" y="375"/>
                    </a:lnTo>
                    <a:lnTo>
                      <a:pt x="268" y="393"/>
                    </a:lnTo>
                    <a:lnTo>
                      <a:pt x="211" y="446"/>
                    </a:lnTo>
                    <a:lnTo>
                      <a:pt x="136" y="464"/>
                    </a:lnTo>
                    <a:lnTo>
                      <a:pt x="0" y="538"/>
                    </a:lnTo>
                    <a:lnTo>
                      <a:pt x="0" y="574"/>
                    </a:lnTo>
                    <a:lnTo>
                      <a:pt x="13" y="605"/>
                    </a:lnTo>
                    <a:lnTo>
                      <a:pt x="74" y="627"/>
                    </a:lnTo>
                    <a:lnTo>
                      <a:pt x="149" y="605"/>
                    </a:lnTo>
                    <a:lnTo>
                      <a:pt x="211" y="591"/>
                    </a:lnTo>
                    <a:lnTo>
                      <a:pt x="361" y="538"/>
                    </a:lnTo>
                    <a:lnTo>
                      <a:pt x="493" y="464"/>
                    </a:lnTo>
                    <a:lnTo>
                      <a:pt x="543" y="464"/>
                    </a:lnTo>
                    <a:lnTo>
                      <a:pt x="587" y="486"/>
                    </a:lnTo>
                    <a:lnTo>
                      <a:pt x="631" y="499"/>
                    </a:lnTo>
                    <a:lnTo>
                      <a:pt x="662" y="538"/>
                    </a:lnTo>
                    <a:lnTo>
                      <a:pt x="719" y="574"/>
                    </a:lnTo>
                    <a:lnTo>
                      <a:pt x="737" y="538"/>
                    </a:lnTo>
                    <a:lnTo>
                      <a:pt x="750" y="516"/>
                    </a:lnTo>
                    <a:lnTo>
                      <a:pt x="781" y="516"/>
                    </a:lnTo>
                    <a:lnTo>
                      <a:pt x="825" y="516"/>
                    </a:lnTo>
                    <a:lnTo>
                      <a:pt x="856" y="516"/>
                    </a:lnTo>
                    <a:lnTo>
                      <a:pt x="887" y="486"/>
                    </a:lnTo>
                    <a:lnTo>
                      <a:pt x="918" y="411"/>
                    </a:lnTo>
                    <a:lnTo>
                      <a:pt x="949" y="318"/>
                    </a:lnTo>
                    <a:lnTo>
                      <a:pt x="975" y="233"/>
                    </a:lnTo>
                    <a:lnTo>
                      <a:pt x="993" y="198"/>
                    </a:lnTo>
                    <a:lnTo>
                      <a:pt x="993" y="176"/>
                    </a:lnTo>
                    <a:lnTo>
                      <a:pt x="949" y="158"/>
                    </a:lnTo>
                    <a:lnTo>
                      <a:pt x="887" y="145"/>
                    </a:lnTo>
                    <a:lnTo>
                      <a:pt x="825" y="123"/>
                    </a:lnTo>
                    <a:lnTo>
                      <a:pt x="794" y="123"/>
                    </a:lnTo>
                    <a:lnTo>
                      <a:pt x="768" y="105"/>
                    </a:lnTo>
                    <a:lnTo>
                      <a:pt x="719" y="92"/>
                    </a:lnTo>
                    <a:lnTo>
                      <a:pt x="719" y="52"/>
                    </a:lnTo>
                    <a:lnTo>
                      <a:pt x="706" y="17"/>
                    </a:lnTo>
                    <a:lnTo>
                      <a:pt x="644" y="0"/>
                    </a:lnTo>
                    <a:lnTo>
                      <a:pt x="569" y="0"/>
                    </a:lnTo>
                    <a:lnTo>
                      <a:pt x="512" y="0"/>
                    </a:lnTo>
                    <a:lnTo>
                      <a:pt x="525" y="35"/>
                    </a:lnTo>
                    <a:lnTo>
                      <a:pt x="525" y="52"/>
                    </a:lnTo>
                    <a:lnTo>
                      <a:pt x="569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0" y="5867280"/>
            <a:ext cx="9142920" cy="989280"/>
          </a:xfrm>
          <a:custGeom>
            <a:avLst/>
            <a:gdLst/>
            <a:ahLst/>
            <a:rect l="0" t="0" r="r" b="b"/>
            <a:pathLst>
              <a:path w="25397" h="2748">
                <a:moveTo>
                  <a:pt x="13487" y="298"/>
                </a:moveTo>
                <a:lnTo>
                  <a:pt x="13172" y="238"/>
                </a:lnTo>
                <a:lnTo>
                  <a:pt x="12935" y="238"/>
                </a:lnTo>
                <a:lnTo>
                  <a:pt x="12698" y="298"/>
                </a:lnTo>
                <a:lnTo>
                  <a:pt x="12462" y="358"/>
                </a:lnTo>
                <a:lnTo>
                  <a:pt x="12225" y="298"/>
                </a:lnTo>
                <a:lnTo>
                  <a:pt x="11988" y="298"/>
                </a:lnTo>
                <a:lnTo>
                  <a:pt x="11752" y="238"/>
                </a:lnTo>
                <a:lnTo>
                  <a:pt x="11515" y="238"/>
                </a:lnTo>
                <a:lnTo>
                  <a:pt x="11279" y="238"/>
                </a:lnTo>
                <a:lnTo>
                  <a:pt x="11042" y="238"/>
                </a:lnTo>
                <a:lnTo>
                  <a:pt x="10805" y="298"/>
                </a:lnTo>
                <a:lnTo>
                  <a:pt x="10569" y="298"/>
                </a:lnTo>
                <a:lnTo>
                  <a:pt x="10332" y="298"/>
                </a:lnTo>
                <a:lnTo>
                  <a:pt x="10096" y="298"/>
                </a:lnTo>
                <a:lnTo>
                  <a:pt x="9859" y="298"/>
                </a:lnTo>
                <a:lnTo>
                  <a:pt x="9622" y="298"/>
                </a:lnTo>
                <a:lnTo>
                  <a:pt x="9386" y="298"/>
                </a:lnTo>
                <a:lnTo>
                  <a:pt x="9149" y="298"/>
                </a:lnTo>
                <a:lnTo>
                  <a:pt x="8913" y="298"/>
                </a:lnTo>
                <a:lnTo>
                  <a:pt x="8676" y="238"/>
                </a:lnTo>
                <a:lnTo>
                  <a:pt x="8439" y="179"/>
                </a:lnTo>
                <a:lnTo>
                  <a:pt x="8203" y="179"/>
                </a:lnTo>
                <a:lnTo>
                  <a:pt x="7966" y="238"/>
                </a:lnTo>
                <a:lnTo>
                  <a:pt x="7651" y="298"/>
                </a:lnTo>
                <a:lnTo>
                  <a:pt x="7335" y="358"/>
                </a:lnTo>
                <a:lnTo>
                  <a:pt x="7020" y="298"/>
                </a:lnTo>
                <a:lnTo>
                  <a:pt x="6704" y="238"/>
                </a:lnTo>
                <a:lnTo>
                  <a:pt x="6468" y="179"/>
                </a:lnTo>
                <a:lnTo>
                  <a:pt x="6230" y="179"/>
                </a:lnTo>
                <a:lnTo>
                  <a:pt x="5993" y="179"/>
                </a:lnTo>
                <a:lnTo>
                  <a:pt x="5757" y="179"/>
                </a:lnTo>
                <a:lnTo>
                  <a:pt x="5520" y="179"/>
                </a:lnTo>
                <a:lnTo>
                  <a:pt x="5284" y="238"/>
                </a:lnTo>
                <a:lnTo>
                  <a:pt x="5047" y="238"/>
                </a:lnTo>
                <a:lnTo>
                  <a:pt x="4810" y="238"/>
                </a:lnTo>
                <a:lnTo>
                  <a:pt x="4574" y="179"/>
                </a:lnTo>
                <a:lnTo>
                  <a:pt x="4337" y="119"/>
                </a:lnTo>
                <a:lnTo>
                  <a:pt x="4101" y="59"/>
                </a:lnTo>
                <a:lnTo>
                  <a:pt x="3864" y="0"/>
                </a:lnTo>
                <a:lnTo>
                  <a:pt x="3627" y="59"/>
                </a:lnTo>
                <a:lnTo>
                  <a:pt x="3391" y="59"/>
                </a:lnTo>
                <a:lnTo>
                  <a:pt x="3154" y="59"/>
                </a:lnTo>
                <a:lnTo>
                  <a:pt x="2918" y="59"/>
                </a:lnTo>
                <a:lnTo>
                  <a:pt x="2681" y="59"/>
                </a:lnTo>
                <a:lnTo>
                  <a:pt x="2444" y="59"/>
                </a:lnTo>
                <a:lnTo>
                  <a:pt x="2208" y="119"/>
                </a:lnTo>
                <a:lnTo>
                  <a:pt x="1971" y="238"/>
                </a:lnTo>
                <a:lnTo>
                  <a:pt x="1735" y="418"/>
                </a:lnTo>
                <a:lnTo>
                  <a:pt x="1498" y="537"/>
                </a:lnTo>
                <a:lnTo>
                  <a:pt x="1261" y="597"/>
                </a:lnTo>
                <a:lnTo>
                  <a:pt x="1025" y="597"/>
                </a:lnTo>
                <a:lnTo>
                  <a:pt x="788" y="597"/>
                </a:lnTo>
                <a:lnTo>
                  <a:pt x="552" y="597"/>
                </a:lnTo>
                <a:lnTo>
                  <a:pt x="315" y="656"/>
                </a:lnTo>
                <a:lnTo>
                  <a:pt x="78" y="656"/>
                </a:lnTo>
                <a:lnTo>
                  <a:pt x="0" y="836"/>
                </a:lnTo>
                <a:lnTo>
                  <a:pt x="0" y="1015"/>
                </a:lnTo>
                <a:lnTo>
                  <a:pt x="0" y="1194"/>
                </a:lnTo>
                <a:lnTo>
                  <a:pt x="236" y="1373"/>
                </a:lnTo>
                <a:lnTo>
                  <a:pt x="473" y="1494"/>
                </a:lnTo>
                <a:lnTo>
                  <a:pt x="709" y="1494"/>
                </a:lnTo>
                <a:lnTo>
                  <a:pt x="946" y="1494"/>
                </a:lnTo>
                <a:lnTo>
                  <a:pt x="1183" y="1494"/>
                </a:lnTo>
                <a:lnTo>
                  <a:pt x="1419" y="1494"/>
                </a:lnTo>
                <a:lnTo>
                  <a:pt x="1656" y="1553"/>
                </a:lnTo>
                <a:lnTo>
                  <a:pt x="1813" y="1732"/>
                </a:lnTo>
                <a:lnTo>
                  <a:pt x="1971" y="1912"/>
                </a:lnTo>
                <a:lnTo>
                  <a:pt x="2208" y="2031"/>
                </a:lnTo>
                <a:lnTo>
                  <a:pt x="2444" y="2031"/>
                </a:lnTo>
                <a:lnTo>
                  <a:pt x="2681" y="1971"/>
                </a:lnTo>
                <a:lnTo>
                  <a:pt x="2918" y="1912"/>
                </a:lnTo>
                <a:lnTo>
                  <a:pt x="3154" y="1852"/>
                </a:lnTo>
                <a:lnTo>
                  <a:pt x="3391" y="1852"/>
                </a:lnTo>
                <a:lnTo>
                  <a:pt x="3627" y="1971"/>
                </a:lnTo>
                <a:lnTo>
                  <a:pt x="3864" y="2091"/>
                </a:lnTo>
                <a:lnTo>
                  <a:pt x="4101" y="2151"/>
                </a:lnTo>
                <a:lnTo>
                  <a:pt x="4337" y="2151"/>
                </a:lnTo>
                <a:lnTo>
                  <a:pt x="4495" y="2330"/>
                </a:lnTo>
                <a:lnTo>
                  <a:pt x="4653" y="2509"/>
                </a:lnTo>
                <a:lnTo>
                  <a:pt x="4810" y="2688"/>
                </a:lnTo>
                <a:lnTo>
                  <a:pt x="5047" y="2748"/>
                </a:lnTo>
                <a:lnTo>
                  <a:pt x="5126" y="2569"/>
                </a:lnTo>
                <a:lnTo>
                  <a:pt x="5126" y="2389"/>
                </a:lnTo>
                <a:lnTo>
                  <a:pt x="5363" y="2330"/>
                </a:lnTo>
                <a:lnTo>
                  <a:pt x="5599" y="2330"/>
                </a:lnTo>
                <a:lnTo>
                  <a:pt x="5836" y="2509"/>
                </a:lnTo>
                <a:lnTo>
                  <a:pt x="6072" y="2569"/>
                </a:lnTo>
                <a:lnTo>
                  <a:pt x="6309" y="2628"/>
                </a:lnTo>
                <a:lnTo>
                  <a:pt x="6547" y="2569"/>
                </a:lnTo>
                <a:lnTo>
                  <a:pt x="6783" y="2389"/>
                </a:lnTo>
                <a:lnTo>
                  <a:pt x="7020" y="2389"/>
                </a:lnTo>
                <a:lnTo>
                  <a:pt x="7256" y="2389"/>
                </a:lnTo>
                <a:lnTo>
                  <a:pt x="7493" y="2449"/>
                </a:lnTo>
                <a:lnTo>
                  <a:pt x="7808" y="2628"/>
                </a:lnTo>
                <a:lnTo>
                  <a:pt x="8045" y="2688"/>
                </a:lnTo>
                <a:lnTo>
                  <a:pt x="8282" y="2748"/>
                </a:lnTo>
                <a:lnTo>
                  <a:pt x="8518" y="2569"/>
                </a:lnTo>
                <a:lnTo>
                  <a:pt x="8755" y="2509"/>
                </a:lnTo>
                <a:lnTo>
                  <a:pt x="8991" y="2449"/>
                </a:lnTo>
                <a:lnTo>
                  <a:pt x="9228" y="2389"/>
                </a:lnTo>
                <a:lnTo>
                  <a:pt x="9465" y="2330"/>
                </a:lnTo>
                <a:lnTo>
                  <a:pt x="9701" y="2270"/>
                </a:lnTo>
                <a:lnTo>
                  <a:pt x="9938" y="2270"/>
                </a:lnTo>
                <a:lnTo>
                  <a:pt x="10175" y="2270"/>
                </a:lnTo>
                <a:lnTo>
                  <a:pt x="10411" y="2330"/>
                </a:lnTo>
                <a:lnTo>
                  <a:pt x="10648" y="2389"/>
                </a:lnTo>
                <a:lnTo>
                  <a:pt x="10884" y="2449"/>
                </a:lnTo>
                <a:lnTo>
                  <a:pt x="11121" y="2449"/>
                </a:lnTo>
                <a:lnTo>
                  <a:pt x="11358" y="2509"/>
                </a:lnTo>
                <a:lnTo>
                  <a:pt x="11594" y="2509"/>
                </a:lnTo>
                <a:lnTo>
                  <a:pt x="11910" y="2449"/>
                </a:lnTo>
                <a:lnTo>
                  <a:pt x="12146" y="2389"/>
                </a:lnTo>
                <a:lnTo>
                  <a:pt x="12383" y="2330"/>
                </a:lnTo>
                <a:lnTo>
                  <a:pt x="12619" y="2330"/>
                </a:lnTo>
                <a:lnTo>
                  <a:pt x="12856" y="2270"/>
                </a:lnTo>
                <a:lnTo>
                  <a:pt x="13093" y="2210"/>
                </a:lnTo>
                <a:lnTo>
                  <a:pt x="13329" y="2151"/>
                </a:lnTo>
                <a:lnTo>
                  <a:pt x="13566" y="2091"/>
                </a:lnTo>
                <a:lnTo>
                  <a:pt x="13802" y="2031"/>
                </a:lnTo>
                <a:lnTo>
                  <a:pt x="14039" y="1971"/>
                </a:lnTo>
                <a:lnTo>
                  <a:pt x="14276" y="1971"/>
                </a:lnTo>
                <a:lnTo>
                  <a:pt x="14512" y="1971"/>
                </a:lnTo>
                <a:lnTo>
                  <a:pt x="14749" y="1971"/>
                </a:lnTo>
                <a:lnTo>
                  <a:pt x="14985" y="1971"/>
                </a:lnTo>
                <a:lnTo>
                  <a:pt x="15222" y="2031"/>
                </a:lnTo>
                <a:lnTo>
                  <a:pt x="15459" y="2091"/>
                </a:lnTo>
                <a:lnTo>
                  <a:pt x="15695" y="2151"/>
                </a:lnTo>
                <a:lnTo>
                  <a:pt x="15932" y="2151"/>
                </a:lnTo>
                <a:lnTo>
                  <a:pt x="16169" y="2151"/>
                </a:lnTo>
                <a:lnTo>
                  <a:pt x="16484" y="2151"/>
                </a:lnTo>
                <a:lnTo>
                  <a:pt x="16799" y="2031"/>
                </a:lnTo>
                <a:lnTo>
                  <a:pt x="17036" y="1971"/>
                </a:lnTo>
                <a:lnTo>
                  <a:pt x="17273" y="1912"/>
                </a:lnTo>
                <a:lnTo>
                  <a:pt x="17588" y="1912"/>
                </a:lnTo>
                <a:lnTo>
                  <a:pt x="17904" y="1971"/>
                </a:lnTo>
                <a:lnTo>
                  <a:pt x="18219" y="2031"/>
                </a:lnTo>
                <a:lnTo>
                  <a:pt x="18456" y="2151"/>
                </a:lnTo>
                <a:lnTo>
                  <a:pt x="18692" y="2210"/>
                </a:lnTo>
                <a:lnTo>
                  <a:pt x="18929" y="2270"/>
                </a:lnTo>
                <a:lnTo>
                  <a:pt x="19166" y="2270"/>
                </a:lnTo>
                <a:lnTo>
                  <a:pt x="19482" y="2151"/>
                </a:lnTo>
                <a:lnTo>
                  <a:pt x="19719" y="2091"/>
                </a:lnTo>
                <a:lnTo>
                  <a:pt x="19955" y="1971"/>
                </a:lnTo>
                <a:lnTo>
                  <a:pt x="20192" y="1912"/>
                </a:lnTo>
                <a:lnTo>
                  <a:pt x="20428" y="1912"/>
                </a:lnTo>
                <a:lnTo>
                  <a:pt x="20744" y="1912"/>
                </a:lnTo>
                <a:lnTo>
                  <a:pt x="21059" y="1912"/>
                </a:lnTo>
                <a:lnTo>
                  <a:pt x="21375" y="1912"/>
                </a:lnTo>
                <a:lnTo>
                  <a:pt x="21611" y="1971"/>
                </a:lnTo>
                <a:lnTo>
                  <a:pt x="21848" y="1971"/>
                </a:lnTo>
                <a:lnTo>
                  <a:pt x="22085" y="2031"/>
                </a:lnTo>
                <a:lnTo>
                  <a:pt x="22321" y="2031"/>
                </a:lnTo>
                <a:lnTo>
                  <a:pt x="22637" y="2031"/>
                </a:lnTo>
                <a:lnTo>
                  <a:pt x="22952" y="2031"/>
                </a:lnTo>
                <a:lnTo>
                  <a:pt x="23189" y="1912"/>
                </a:lnTo>
                <a:lnTo>
                  <a:pt x="23425" y="1852"/>
                </a:lnTo>
                <a:lnTo>
                  <a:pt x="23662" y="1852"/>
                </a:lnTo>
                <a:lnTo>
                  <a:pt x="23899" y="1852"/>
                </a:lnTo>
                <a:lnTo>
                  <a:pt x="24135" y="1852"/>
                </a:lnTo>
                <a:lnTo>
                  <a:pt x="24372" y="1852"/>
                </a:lnTo>
                <a:lnTo>
                  <a:pt x="24608" y="1792"/>
                </a:lnTo>
                <a:lnTo>
                  <a:pt x="24845" y="1732"/>
                </a:lnTo>
                <a:lnTo>
                  <a:pt x="25082" y="1673"/>
                </a:lnTo>
                <a:lnTo>
                  <a:pt x="25318" y="1553"/>
                </a:lnTo>
                <a:lnTo>
                  <a:pt x="25397" y="1373"/>
                </a:lnTo>
                <a:lnTo>
                  <a:pt x="25397" y="1194"/>
                </a:lnTo>
                <a:lnTo>
                  <a:pt x="25318" y="1015"/>
                </a:lnTo>
                <a:lnTo>
                  <a:pt x="25082" y="836"/>
                </a:lnTo>
                <a:lnTo>
                  <a:pt x="24845" y="836"/>
                </a:lnTo>
                <a:lnTo>
                  <a:pt x="24608" y="776"/>
                </a:lnTo>
                <a:lnTo>
                  <a:pt x="24372" y="776"/>
                </a:lnTo>
                <a:lnTo>
                  <a:pt x="24135" y="716"/>
                </a:lnTo>
                <a:lnTo>
                  <a:pt x="23820" y="597"/>
                </a:lnTo>
                <a:lnTo>
                  <a:pt x="23583" y="537"/>
                </a:lnTo>
                <a:lnTo>
                  <a:pt x="23347" y="418"/>
                </a:lnTo>
                <a:lnTo>
                  <a:pt x="23110" y="358"/>
                </a:lnTo>
                <a:lnTo>
                  <a:pt x="22873" y="298"/>
                </a:lnTo>
                <a:lnTo>
                  <a:pt x="22637" y="358"/>
                </a:lnTo>
                <a:lnTo>
                  <a:pt x="22400" y="358"/>
                </a:lnTo>
                <a:lnTo>
                  <a:pt x="22163" y="358"/>
                </a:lnTo>
                <a:lnTo>
                  <a:pt x="21927" y="358"/>
                </a:lnTo>
                <a:lnTo>
                  <a:pt x="21690" y="358"/>
                </a:lnTo>
                <a:lnTo>
                  <a:pt x="21454" y="358"/>
                </a:lnTo>
                <a:lnTo>
                  <a:pt x="21217" y="358"/>
                </a:lnTo>
                <a:lnTo>
                  <a:pt x="20980" y="418"/>
                </a:lnTo>
                <a:lnTo>
                  <a:pt x="20744" y="418"/>
                </a:lnTo>
                <a:lnTo>
                  <a:pt x="20507" y="358"/>
                </a:lnTo>
                <a:lnTo>
                  <a:pt x="20271" y="358"/>
                </a:lnTo>
                <a:lnTo>
                  <a:pt x="20034" y="298"/>
                </a:lnTo>
                <a:lnTo>
                  <a:pt x="19797" y="298"/>
                </a:lnTo>
                <a:lnTo>
                  <a:pt x="19482" y="358"/>
                </a:lnTo>
                <a:lnTo>
                  <a:pt x="19245" y="418"/>
                </a:lnTo>
                <a:lnTo>
                  <a:pt x="19008" y="418"/>
                </a:lnTo>
                <a:lnTo>
                  <a:pt x="18771" y="418"/>
                </a:lnTo>
                <a:lnTo>
                  <a:pt x="18535" y="477"/>
                </a:lnTo>
                <a:lnTo>
                  <a:pt x="18298" y="477"/>
                </a:lnTo>
                <a:lnTo>
                  <a:pt x="17982" y="477"/>
                </a:lnTo>
                <a:lnTo>
                  <a:pt x="17746" y="477"/>
                </a:lnTo>
                <a:lnTo>
                  <a:pt x="17430" y="477"/>
                </a:lnTo>
                <a:lnTo>
                  <a:pt x="17115" y="358"/>
                </a:lnTo>
                <a:lnTo>
                  <a:pt x="16878" y="358"/>
                </a:lnTo>
                <a:lnTo>
                  <a:pt x="16642" y="358"/>
                </a:lnTo>
                <a:lnTo>
                  <a:pt x="16326" y="358"/>
                </a:lnTo>
                <a:lnTo>
                  <a:pt x="16011" y="358"/>
                </a:lnTo>
                <a:lnTo>
                  <a:pt x="15774" y="418"/>
                </a:lnTo>
                <a:lnTo>
                  <a:pt x="15538" y="477"/>
                </a:lnTo>
                <a:lnTo>
                  <a:pt x="15301" y="418"/>
                </a:lnTo>
                <a:lnTo>
                  <a:pt x="15064" y="418"/>
                </a:lnTo>
                <a:lnTo>
                  <a:pt x="14828" y="358"/>
                </a:lnTo>
                <a:lnTo>
                  <a:pt x="14591" y="358"/>
                </a:lnTo>
                <a:lnTo>
                  <a:pt x="14355" y="358"/>
                </a:lnTo>
                <a:lnTo>
                  <a:pt x="14118" y="358"/>
                </a:lnTo>
                <a:lnTo>
                  <a:pt x="13881" y="358"/>
                </a:lnTo>
                <a:lnTo>
                  <a:pt x="13487" y="298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692440" y="1914480"/>
            <a:ext cx="3679920" cy="4258080"/>
            <a:chOff x="2692440" y="1914480"/>
            <a:chExt cx="3679920" cy="4258080"/>
          </a:xfrm>
        </p:grpSpPr>
        <p:sp>
          <p:nvSpPr>
            <p:cNvPr id="1111" name=""/>
            <p:cNvSpPr/>
            <p:nvPr/>
          </p:nvSpPr>
          <p:spPr>
            <a:xfrm>
              <a:off x="4957920" y="3568680"/>
              <a:ext cx="574920" cy="844920"/>
            </a:xfrm>
            <a:custGeom>
              <a:avLst/>
              <a:gdLst/>
              <a:ahLst/>
              <a:rect l="0" t="0" r="r" b="b"/>
              <a:pathLst>
                <a:path w="1597" h="2347">
                  <a:moveTo>
                    <a:pt x="1597" y="251"/>
                  </a:moveTo>
                  <a:lnTo>
                    <a:pt x="1504" y="458"/>
                  </a:lnTo>
                  <a:lnTo>
                    <a:pt x="984" y="834"/>
                  </a:lnTo>
                  <a:lnTo>
                    <a:pt x="608" y="1143"/>
                  </a:lnTo>
                  <a:lnTo>
                    <a:pt x="878" y="2286"/>
                  </a:lnTo>
                  <a:lnTo>
                    <a:pt x="233" y="2347"/>
                  </a:lnTo>
                  <a:lnTo>
                    <a:pt x="0" y="847"/>
                  </a:lnTo>
                  <a:lnTo>
                    <a:pt x="1041" y="110"/>
                  </a:lnTo>
                  <a:lnTo>
                    <a:pt x="1328" y="0"/>
                  </a:lnTo>
                  <a:lnTo>
                    <a:pt x="1535" y="97"/>
                  </a:lnTo>
                  <a:lnTo>
                    <a:pt x="1597" y="25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5037120" y="4564080"/>
              <a:ext cx="1335240" cy="1608480"/>
              <a:chOff x="5037120" y="4564080"/>
              <a:chExt cx="1335240" cy="1608480"/>
            </a:xfrm>
          </p:grpSpPr>
          <p:sp>
            <p:nvSpPr>
              <p:cNvPr id="1113" name=""/>
              <p:cNvSpPr/>
              <p:nvPr/>
            </p:nvSpPr>
            <p:spPr>
              <a:xfrm>
                <a:off x="5373720" y="456408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0" y="0"/>
                    </a:moveTo>
                    <a:lnTo>
                      <a:pt x="279" y="4124"/>
                    </a:lnTo>
                    <a:lnTo>
                      <a:pt x="910" y="4124"/>
                    </a:lnTo>
                    <a:lnTo>
                      <a:pt x="817" y="1116"/>
                    </a:lnTo>
                    <a:lnTo>
                      <a:pt x="910" y="4124"/>
                    </a:lnTo>
                    <a:lnTo>
                      <a:pt x="1611" y="4124"/>
                    </a:lnTo>
                    <a:lnTo>
                      <a:pt x="15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371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4" y="160"/>
                    </a:moveTo>
                    <a:lnTo>
                      <a:pt x="863" y="45"/>
                    </a:lnTo>
                    <a:lnTo>
                      <a:pt x="629" y="0"/>
                    </a:lnTo>
                    <a:lnTo>
                      <a:pt x="373" y="91"/>
                    </a:lnTo>
                    <a:lnTo>
                      <a:pt x="116" y="229"/>
                    </a:lnTo>
                    <a:lnTo>
                      <a:pt x="0" y="413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60"/>
                    </a:lnTo>
                    <a:lnTo>
                      <a:pt x="121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0852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29" y="160"/>
                    </a:moveTo>
                    <a:lnTo>
                      <a:pt x="980" y="45"/>
                    </a:lnTo>
                    <a:lnTo>
                      <a:pt x="1214" y="0"/>
                    </a:lnTo>
                    <a:lnTo>
                      <a:pt x="1470" y="91"/>
                    </a:lnTo>
                    <a:lnTo>
                      <a:pt x="1727" y="229"/>
                    </a:lnTo>
                    <a:lnTo>
                      <a:pt x="1844" y="413"/>
                    </a:lnTo>
                    <a:lnTo>
                      <a:pt x="1680" y="504"/>
                    </a:lnTo>
                    <a:lnTo>
                      <a:pt x="0" y="504"/>
                    </a:lnTo>
                    <a:lnTo>
                      <a:pt x="0" y="160"/>
                    </a:lnTo>
                    <a:lnTo>
                      <a:pt x="62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52642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72200" y="211788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512" y="0"/>
                  </a:moveTo>
                  <a:lnTo>
                    <a:pt x="233" y="227"/>
                  </a:lnTo>
                  <a:lnTo>
                    <a:pt x="69" y="592"/>
                  </a:lnTo>
                  <a:lnTo>
                    <a:pt x="23" y="1049"/>
                  </a:lnTo>
                  <a:lnTo>
                    <a:pt x="0" y="2325"/>
                  </a:lnTo>
                  <a:lnTo>
                    <a:pt x="46" y="3056"/>
                  </a:lnTo>
                  <a:lnTo>
                    <a:pt x="723" y="3101"/>
                  </a:lnTo>
                  <a:lnTo>
                    <a:pt x="817" y="3512"/>
                  </a:lnTo>
                  <a:lnTo>
                    <a:pt x="910" y="3785"/>
                  </a:lnTo>
                  <a:lnTo>
                    <a:pt x="1120" y="3785"/>
                  </a:lnTo>
                  <a:lnTo>
                    <a:pt x="1236" y="3534"/>
                  </a:lnTo>
                  <a:lnTo>
                    <a:pt x="1166" y="3101"/>
                  </a:lnTo>
                  <a:lnTo>
                    <a:pt x="1797" y="3033"/>
                  </a:lnTo>
                  <a:lnTo>
                    <a:pt x="1820" y="2599"/>
                  </a:lnTo>
                  <a:lnTo>
                    <a:pt x="1960" y="2667"/>
                  </a:lnTo>
                  <a:lnTo>
                    <a:pt x="2100" y="2622"/>
                  </a:lnTo>
                  <a:lnTo>
                    <a:pt x="2193" y="2257"/>
                  </a:lnTo>
                  <a:lnTo>
                    <a:pt x="2077" y="2075"/>
                  </a:lnTo>
                  <a:lnTo>
                    <a:pt x="1937" y="2097"/>
                  </a:lnTo>
                  <a:lnTo>
                    <a:pt x="2077" y="159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75360" y="250020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46708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54520" y="26398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92720" y="264780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475240" y="194004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5575320" y="1922400"/>
              <a:ext cx="1584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5718240" y="1914480"/>
              <a:ext cx="3312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861160" y="1955880"/>
              <a:ext cx="4896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5987880" y="1979640"/>
              <a:ext cx="4788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64280" y="293832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0" y="618"/>
                  </a:moveTo>
                  <a:lnTo>
                    <a:pt x="1611" y="477"/>
                  </a:lnTo>
                  <a:lnTo>
                    <a:pt x="653" y="0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24560" y="336564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0" y="296"/>
                  </a:moveTo>
                  <a:lnTo>
                    <a:pt x="209" y="410"/>
                  </a:lnTo>
                  <a:lnTo>
                    <a:pt x="583" y="433"/>
                  </a:lnTo>
                  <a:lnTo>
                    <a:pt x="746" y="228"/>
                  </a:lnTo>
                  <a:lnTo>
                    <a:pt x="746" y="68"/>
                  </a:lnTo>
                  <a:lnTo>
                    <a:pt x="583" y="0"/>
                  </a:lnTo>
                  <a:lnTo>
                    <a:pt x="420" y="228"/>
                  </a:lnTo>
                  <a:lnTo>
                    <a:pt x="163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957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4749840" y="4254480"/>
              <a:ext cx="914760" cy="1918080"/>
              <a:chOff x="4749840" y="4254480"/>
              <a:chExt cx="914760" cy="1918080"/>
            </a:xfrm>
          </p:grpSpPr>
          <p:sp>
            <p:nvSpPr>
              <p:cNvPr id="1131" name=""/>
              <p:cNvSpPr/>
              <p:nvPr/>
            </p:nvSpPr>
            <p:spPr>
              <a:xfrm>
                <a:off x="4757760" y="60134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0" y="137"/>
                    </a:moveTo>
                    <a:lnTo>
                      <a:pt x="92" y="221"/>
                    </a:lnTo>
                    <a:lnTo>
                      <a:pt x="163" y="247"/>
                    </a:lnTo>
                    <a:lnTo>
                      <a:pt x="211" y="332"/>
                    </a:lnTo>
                    <a:lnTo>
                      <a:pt x="277" y="390"/>
                    </a:lnTo>
                    <a:lnTo>
                      <a:pt x="348" y="390"/>
                    </a:lnTo>
                    <a:lnTo>
                      <a:pt x="418" y="390"/>
                    </a:lnTo>
                    <a:lnTo>
                      <a:pt x="489" y="390"/>
                    </a:lnTo>
                    <a:lnTo>
                      <a:pt x="561" y="390"/>
                    </a:lnTo>
                    <a:lnTo>
                      <a:pt x="631" y="390"/>
                    </a:lnTo>
                    <a:lnTo>
                      <a:pt x="702" y="416"/>
                    </a:lnTo>
                    <a:lnTo>
                      <a:pt x="794" y="442"/>
                    </a:lnTo>
                    <a:lnTo>
                      <a:pt x="865" y="442"/>
                    </a:lnTo>
                    <a:lnTo>
                      <a:pt x="931" y="442"/>
                    </a:lnTo>
                    <a:lnTo>
                      <a:pt x="1002" y="442"/>
                    </a:lnTo>
                    <a:lnTo>
                      <a:pt x="1072" y="442"/>
                    </a:lnTo>
                    <a:lnTo>
                      <a:pt x="1143" y="416"/>
                    </a:lnTo>
                    <a:lnTo>
                      <a:pt x="1213" y="416"/>
                    </a:lnTo>
                    <a:lnTo>
                      <a:pt x="1284" y="390"/>
                    </a:lnTo>
                    <a:lnTo>
                      <a:pt x="1354" y="359"/>
                    </a:lnTo>
                    <a:lnTo>
                      <a:pt x="1420" y="359"/>
                    </a:lnTo>
                    <a:lnTo>
                      <a:pt x="1492" y="359"/>
                    </a:lnTo>
                    <a:lnTo>
                      <a:pt x="1563" y="416"/>
                    </a:lnTo>
                    <a:lnTo>
                      <a:pt x="1633" y="442"/>
                    </a:lnTo>
                    <a:lnTo>
                      <a:pt x="1704" y="442"/>
                    </a:lnTo>
                    <a:lnTo>
                      <a:pt x="1748" y="359"/>
                    </a:lnTo>
                    <a:lnTo>
                      <a:pt x="1818" y="359"/>
                    </a:lnTo>
                    <a:lnTo>
                      <a:pt x="1889" y="359"/>
                    </a:lnTo>
                    <a:lnTo>
                      <a:pt x="1959" y="305"/>
                    </a:lnTo>
                    <a:lnTo>
                      <a:pt x="1867" y="247"/>
                    </a:lnTo>
                    <a:lnTo>
                      <a:pt x="1796" y="247"/>
                    </a:lnTo>
                    <a:lnTo>
                      <a:pt x="1726" y="195"/>
                    </a:lnTo>
                    <a:lnTo>
                      <a:pt x="1774" y="111"/>
                    </a:lnTo>
                    <a:lnTo>
                      <a:pt x="1563" y="111"/>
                    </a:lnTo>
                    <a:lnTo>
                      <a:pt x="1492" y="83"/>
                    </a:lnTo>
                    <a:lnTo>
                      <a:pt x="1420" y="83"/>
                    </a:lnTo>
                    <a:lnTo>
                      <a:pt x="1354" y="111"/>
                    </a:lnTo>
                    <a:lnTo>
                      <a:pt x="1284" y="168"/>
                    </a:lnTo>
                    <a:lnTo>
                      <a:pt x="1213" y="168"/>
                    </a:lnTo>
                    <a:lnTo>
                      <a:pt x="1143" y="168"/>
                    </a:lnTo>
                    <a:lnTo>
                      <a:pt x="1050" y="168"/>
                    </a:lnTo>
                    <a:lnTo>
                      <a:pt x="865" y="168"/>
                    </a:lnTo>
                    <a:lnTo>
                      <a:pt x="724" y="168"/>
                    </a:lnTo>
                    <a:lnTo>
                      <a:pt x="538" y="137"/>
                    </a:lnTo>
                    <a:lnTo>
                      <a:pt x="440" y="137"/>
                    </a:lnTo>
                    <a:lnTo>
                      <a:pt x="233" y="57"/>
                    </a:lnTo>
                    <a:lnTo>
                      <a:pt x="48" y="0"/>
                    </a:lnTo>
                    <a:lnTo>
                      <a:pt x="114" y="57"/>
                    </a:lnTo>
                    <a:lnTo>
                      <a:pt x="141" y="168"/>
                    </a:lnTo>
                    <a:lnTo>
                      <a:pt x="141" y="247"/>
                    </a:lnTo>
                    <a:lnTo>
                      <a:pt x="141" y="305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749840" y="42544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2541" y="361"/>
                    </a:moveTo>
                    <a:lnTo>
                      <a:pt x="2448" y="251"/>
                    </a:lnTo>
                    <a:lnTo>
                      <a:pt x="2399" y="83"/>
                    </a:lnTo>
                    <a:lnTo>
                      <a:pt x="2329" y="26"/>
                    </a:lnTo>
                    <a:lnTo>
                      <a:pt x="2263" y="26"/>
                    </a:lnTo>
                    <a:lnTo>
                      <a:pt x="2100" y="0"/>
                    </a:lnTo>
                    <a:lnTo>
                      <a:pt x="2029" y="0"/>
                    </a:lnTo>
                    <a:lnTo>
                      <a:pt x="1958" y="0"/>
                    </a:lnTo>
                    <a:lnTo>
                      <a:pt x="1888" y="26"/>
                    </a:lnTo>
                    <a:lnTo>
                      <a:pt x="1817" y="57"/>
                    </a:lnTo>
                    <a:lnTo>
                      <a:pt x="1747" y="136"/>
                    </a:lnTo>
                    <a:lnTo>
                      <a:pt x="1676" y="167"/>
                    </a:lnTo>
                    <a:lnTo>
                      <a:pt x="1584" y="220"/>
                    </a:lnTo>
                    <a:lnTo>
                      <a:pt x="1513" y="251"/>
                    </a:lnTo>
                    <a:lnTo>
                      <a:pt x="1447" y="277"/>
                    </a:lnTo>
                    <a:lnTo>
                      <a:pt x="1376" y="304"/>
                    </a:lnTo>
                    <a:lnTo>
                      <a:pt x="1306" y="335"/>
                    </a:lnTo>
                    <a:lnTo>
                      <a:pt x="1234" y="361"/>
                    </a:lnTo>
                    <a:lnTo>
                      <a:pt x="1142" y="388"/>
                    </a:lnTo>
                    <a:lnTo>
                      <a:pt x="1071" y="445"/>
                    </a:lnTo>
                    <a:lnTo>
                      <a:pt x="1027" y="529"/>
                    </a:lnTo>
                    <a:lnTo>
                      <a:pt x="978" y="608"/>
                    </a:lnTo>
                    <a:lnTo>
                      <a:pt x="956" y="692"/>
                    </a:lnTo>
                    <a:lnTo>
                      <a:pt x="930" y="776"/>
                    </a:lnTo>
                    <a:lnTo>
                      <a:pt x="886" y="859"/>
                    </a:lnTo>
                    <a:lnTo>
                      <a:pt x="864" y="943"/>
                    </a:lnTo>
                    <a:lnTo>
                      <a:pt x="815" y="1027"/>
                    </a:lnTo>
                    <a:lnTo>
                      <a:pt x="745" y="1053"/>
                    </a:lnTo>
                    <a:lnTo>
                      <a:pt x="674" y="1111"/>
                    </a:lnTo>
                    <a:lnTo>
                      <a:pt x="604" y="1164"/>
                    </a:lnTo>
                    <a:lnTo>
                      <a:pt x="511" y="1221"/>
                    </a:lnTo>
                    <a:lnTo>
                      <a:pt x="440" y="1305"/>
                    </a:lnTo>
                    <a:lnTo>
                      <a:pt x="396" y="1389"/>
                    </a:lnTo>
                    <a:lnTo>
                      <a:pt x="374" y="1472"/>
                    </a:lnTo>
                    <a:lnTo>
                      <a:pt x="374" y="1556"/>
                    </a:lnTo>
                    <a:lnTo>
                      <a:pt x="374" y="1636"/>
                    </a:lnTo>
                    <a:lnTo>
                      <a:pt x="374" y="1719"/>
                    </a:lnTo>
                    <a:lnTo>
                      <a:pt x="374" y="1803"/>
                    </a:lnTo>
                    <a:lnTo>
                      <a:pt x="374" y="1887"/>
                    </a:lnTo>
                    <a:lnTo>
                      <a:pt x="374" y="1971"/>
                    </a:lnTo>
                    <a:lnTo>
                      <a:pt x="396" y="2054"/>
                    </a:lnTo>
                    <a:lnTo>
                      <a:pt x="467" y="2301"/>
                    </a:lnTo>
                    <a:lnTo>
                      <a:pt x="489" y="2385"/>
                    </a:lnTo>
                    <a:lnTo>
                      <a:pt x="511" y="2469"/>
                    </a:lnTo>
                    <a:lnTo>
                      <a:pt x="511" y="2554"/>
                    </a:lnTo>
                    <a:lnTo>
                      <a:pt x="511" y="2638"/>
                    </a:lnTo>
                    <a:lnTo>
                      <a:pt x="511" y="2721"/>
                    </a:lnTo>
                    <a:lnTo>
                      <a:pt x="511" y="2805"/>
                    </a:lnTo>
                    <a:lnTo>
                      <a:pt x="489" y="2889"/>
                    </a:lnTo>
                    <a:lnTo>
                      <a:pt x="467" y="2973"/>
                    </a:lnTo>
                    <a:lnTo>
                      <a:pt x="440" y="3052"/>
                    </a:lnTo>
                    <a:lnTo>
                      <a:pt x="418" y="3136"/>
                    </a:lnTo>
                    <a:lnTo>
                      <a:pt x="418" y="3220"/>
                    </a:lnTo>
                    <a:lnTo>
                      <a:pt x="418" y="3303"/>
                    </a:lnTo>
                    <a:lnTo>
                      <a:pt x="418" y="3387"/>
                    </a:lnTo>
                    <a:lnTo>
                      <a:pt x="418" y="3471"/>
                    </a:lnTo>
                    <a:lnTo>
                      <a:pt x="418" y="3555"/>
                    </a:lnTo>
                    <a:lnTo>
                      <a:pt x="418" y="3639"/>
                    </a:lnTo>
                    <a:lnTo>
                      <a:pt x="396" y="3722"/>
                    </a:lnTo>
                    <a:lnTo>
                      <a:pt x="374" y="3802"/>
                    </a:lnTo>
                    <a:lnTo>
                      <a:pt x="304" y="3859"/>
                    </a:lnTo>
                    <a:lnTo>
                      <a:pt x="277" y="3943"/>
                    </a:lnTo>
                    <a:lnTo>
                      <a:pt x="233" y="4027"/>
                    </a:lnTo>
                    <a:lnTo>
                      <a:pt x="185" y="4110"/>
                    </a:lnTo>
                    <a:lnTo>
                      <a:pt x="114" y="4163"/>
                    </a:lnTo>
                    <a:lnTo>
                      <a:pt x="92" y="4247"/>
                    </a:lnTo>
                    <a:lnTo>
                      <a:pt x="48" y="4331"/>
                    </a:lnTo>
                    <a:lnTo>
                      <a:pt x="48" y="4415"/>
                    </a:lnTo>
                    <a:lnTo>
                      <a:pt x="22" y="4498"/>
                    </a:lnTo>
                    <a:lnTo>
                      <a:pt x="0" y="4582"/>
                    </a:lnTo>
                    <a:lnTo>
                      <a:pt x="0" y="4666"/>
                    </a:lnTo>
                    <a:lnTo>
                      <a:pt x="0" y="4745"/>
                    </a:lnTo>
                    <a:lnTo>
                      <a:pt x="22" y="4829"/>
                    </a:lnTo>
                    <a:lnTo>
                      <a:pt x="48" y="4913"/>
                    </a:lnTo>
                    <a:lnTo>
                      <a:pt x="92" y="4997"/>
                    </a:lnTo>
                    <a:lnTo>
                      <a:pt x="277" y="5023"/>
                    </a:lnTo>
                    <a:lnTo>
                      <a:pt x="440" y="5054"/>
                    </a:lnTo>
                    <a:lnTo>
                      <a:pt x="511" y="5081"/>
                    </a:lnTo>
                    <a:lnTo>
                      <a:pt x="582" y="5081"/>
                    </a:lnTo>
                    <a:lnTo>
                      <a:pt x="864" y="5081"/>
                    </a:lnTo>
                    <a:lnTo>
                      <a:pt x="930" y="5081"/>
                    </a:lnTo>
                    <a:lnTo>
                      <a:pt x="1027" y="5081"/>
                    </a:lnTo>
                    <a:lnTo>
                      <a:pt x="1120" y="5054"/>
                    </a:lnTo>
                    <a:lnTo>
                      <a:pt x="1190" y="5023"/>
                    </a:lnTo>
                    <a:lnTo>
                      <a:pt x="1234" y="4944"/>
                    </a:lnTo>
                    <a:lnTo>
                      <a:pt x="1256" y="4860"/>
                    </a:lnTo>
                    <a:lnTo>
                      <a:pt x="1328" y="4776"/>
                    </a:lnTo>
                    <a:lnTo>
                      <a:pt x="1376" y="4692"/>
                    </a:lnTo>
                    <a:lnTo>
                      <a:pt x="1420" y="4609"/>
                    </a:lnTo>
                    <a:lnTo>
                      <a:pt x="1420" y="4525"/>
                    </a:lnTo>
                    <a:lnTo>
                      <a:pt x="1420" y="4388"/>
                    </a:lnTo>
                    <a:lnTo>
                      <a:pt x="1284" y="4331"/>
                    </a:lnTo>
                    <a:lnTo>
                      <a:pt x="1093" y="4274"/>
                    </a:lnTo>
                    <a:lnTo>
                      <a:pt x="1027" y="4304"/>
                    </a:lnTo>
                    <a:lnTo>
                      <a:pt x="956" y="4331"/>
                    </a:lnTo>
                    <a:lnTo>
                      <a:pt x="886" y="4388"/>
                    </a:lnTo>
                    <a:lnTo>
                      <a:pt x="723" y="4388"/>
                    </a:lnTo>
                    <a:lnTo>
                      <a:pt x="537" y="4388"/>
                    </a:lnTo>
                    <a:lnTo>
                      <a:pt x="467" y="4415"/>
                    </a:lnTo>
                    <a:lnTo>
                      <a:pt x="374" y="4441"/>
                    </a:lnTo>
                    <a:lnTo>
                      <a:pt x="326" y="4719"/>
                    </a:lnTo>
                    <a:lnTo>
                      <a:pt x="396" y="4692"/>
                    </a:lnTo>
                    <a:lnTo>
                      <a:pt x="467" y="4666"/>
                    </a:lnTo>
                    <a:lnTo>
                      <a:pt x="537" y="4635"/>
                    </a:lnTo>
                    <a:lnTo>
                      <a:pt x="604" y="4609"/>
                    </a:lnTo>
                    <a:lnTo>
                      <a:pt x="701" y="4582"/>
                    </a:lnTo>
                    <a:lnTo>
                      <a:pt x="767" y="4582"/>
                    </a:lnTo>
                    <a:lnTo>
                      <a:pt x="837" y="4582"/>
                    </a:lnTo>
                    <a:lnTo>
                      <a:pt x="908" y="4582"/>
                    </a:lnTo>
                    <a:lnTo>
                      <a:pt x="978" y="4635"/>
                    </a:lnTo>
                    <a:lnTo>
                      <a:pt x="1001" y="4719"/>
                    </a:lnTo>
                    <a:lnTo>
                      <a:pt x="930" y="4776"/>
                    </a:lnTo>
                    <a:lnTo>
                      <a:pt x="864" y="4803"/>
                    </a:lnTo>
                    <a:lnTo>
                      <a:pt x="793" y="4803"/>
                    </a:lnTo>
                    <a:lnTo>
                      <a:pt x="723" y="4803"/>
                    </a:lnTo>
                    <a:lnTo>
                      <a:pt x="652" y="4776"/>
                    </a:lnTo>
                    <a:lnTo>
                      <a:pt x="560" y="4719"/>
                    </a:lnTo>
                    <a:lnTo>
                      <a:pt x="467" y="4745"/>
                    </a:lnTo>
                    <a:lnTo>
                      <a:pt x="326" y="4745"/>
                    </a:lnTo>
                    <a:lnTo>
                      <a:pt x="326" y="4498"/>
                    </a:lnTo>
                    <a:lnTo>
                      <a:pt x="467" y="4388"/>
                    </a:lnTo>
                    <a:lnTo>
                      <a:pt x="489" y="4304"/>
                    </a:lnTo>
                    <a:lnTo>
                      <a:pt x="537" y="4221"/>
                    </a:lnTo>
                    <a:lnTo>
                      <a:pt x="537" y="4137"/>
                    </a:lnTo>
                    <a:lnTo>
                      <a:pt x="560" y="4053"/>
                    </a:lnTo>
                    <a:lnTo>
                      <a:pt x="604" y="3969"/>
                    </a:lnTo>
                    <a:lnTo>
                      <a:pt x="652" y="3885"/>
                    </a:lnTo>
                    <a:lnTo>
                      <a:pt x="674" y="3802"/>
                    </a:lnTo>
                    <a:lnTo>
                      <a:pt x="674" y="3722"/>
                    </a:lnTo>
                    <a:lnTo>
                      <a:pt x="674" y="3639"/>
                    </a:lnTo>
                    <a:lnTo>
                      <a:pt x="701" y="3555"/>
                    </a:lnTo>
                    <a:lnTo>
                      <a:pt x="701" y="3471"/>
                    </a:lnTo>
                    <a:lnTo>
                      <a:pt x="723" y="3387"/>
                    </a:lnTo>
                    <a:lnTo>
                      <a:pt x="745" y="3303"/>
                    </a:lnTo>
                    <a:lnTo>
                      <a:pt x="767" y="3220"/>
                    </a:lnTo>
                    <a:lnTo>
                      <a:pt x="793" y="3136"/>
                    </a:lnTo>
                    <a:lnTo>
                      <a:pt x="815" y="3052"/>
                    </a:lnTo>
                    <a:lnTo>
                      <a:pt x="815" y="2973"/>
                    </a:lnTo>
                    <a:lnTo>
                      <a:pt x="837" y="2889"/>
                    </a:lnTo>
                    <a:lnTo>
                      <a:pt x="837" y="2805"/>
                    </a:lnTo>
                    <a:lnTo>
                      <a:pt x="815" y="2721"/>
                    </a:lnTo>
                    <a:lnTo>
                      <a:pt x="815" y="2638"/>
                    </a:lnTo>
                    <a:lnTo>
                      <a:pt x="815" y="2554"/>
                    </a:lnTo>
                    <a:lnTo>
                      <a:pt x="815" y="2469"/>
                    </a:lnTo>
                    <a:lnTo>
                      <a:pt x="815" y="2385"/>
                    </a:lnTo>
                    <a:lnTo>
                      <a:pt x="793" y="2301"/>
                    </a:lnTo>
                    <a:lnTo>
                      <a:pt x="767" y="2222"/>
                    </a:lnTo>
                    <a:lnTo>
                      <a:pt x="767" y="1997"/>
                    </a:lnTo>
                    <a:lnTo>
                      <a:pt x="745" y="1887"/>
                    </a:lnTo>
                    <a:lnTo>
                      <a:pt x="745" y="1803"/>
                    </a:lnTo>
                    <a:lnTo>
                      <a:pt x="767" y="1719"/>
                    </a:lnTo>
                    <a:lnTo>
                      <a:pt x="815" y="1609"/>
                    </a:lnTo>
                    <a:lnTo>
                      <a:pt x="837" y="1525"/>
                    </a:lnTo>
                    <a:lnTo>
                      <a:pt x="908" y="1441"/>
                    </a:lnTo>
                    <a:lnTo>
                      <a:pt x="978" y="1358"/>
                    </a:lnTo>
                    <a:lnTo>
                      <a:pt x="1049" y="1278"/>
                    </a:lnTo>
                    <a:lnTo>
                      <a:pt x="1120" y="1195"/>
                    </a:lnTo>
                    <a:lnTo>
                      <a:pt x="1142" y="1111"/>
                    </a:lnTo>
                    <a:lnTo>
                      <a:pt x="1164" y="1027"/>
                    </a:lnTo>
                    <a:lnTo>
                      <a:pt x="1190" y="943"/>
                    </a:lnTo>
                    <a:lnTo>
                      <a:pt x="1234" y="859"/>
                    </a:lnTo>
                    <a:lnTo>
                      <a:pt x="1284" y="776"/>
                    </a:lnTo>
                    <a:lnTo>
                      <a:pt x="1350" y="692"/>
                    </a:lnTo>
                    <a:lnTo>
                      <a:pt x="1420" y="608"/>
                    </a:lnTo>
                    <a:lnTo>
                      <a:pt x="1491" y="555"/>
                    </a:lnTo>
                    <a:lnTo>
                      <a:pt x="1562" y="529"/>
                    </a:lnTo>
                    <a:lnTo>
                      <a:pt x="1632" y="471"/>
                    </a:lnTo>
                    <a:lnTo>
                      <a:pt x="1703" y="471"/>
                    </a:lnTo>
                    <a:lnTo>
                      <a:pt x="1839" y="471"/>
                    </a:lnTo>
                    <a:lnTo>
                      <a:pt x="1910" y="471"/>
                    </a:lnTo>
                    <a:lnTo>
                      <a:pt x="1980" y="471"/>
                    </a:lnTo>
                    <a:lnTo>
                      <a:pt x="2166" y="445"/>
                    </a:lnTo>
                    <a:lnTo>
                      <a:pt x="2263" y="445"/>
                    </a:lnTo>
                    <a:lnTo>
                      <a:pt x="2307" y="529"/>
                    </a:lnTo>
                    <a:lnTo>
                      <a:pt x="2377" y="582"/>
                    </a:lnTo>
                    <a:lnTo>
                      <a:pt x="2448" y="555"/>
                    </a:lnTo>
                    <a:lnTo>
                      <a:pt x="2470" y="471"/>
                    </a:lnTo>
                    <a:lnTo>
                      <a:pt x="2541" y="361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5075280" y="4398840"/>
              <a:ext cx="222480" cy="223920"/>
            </a:xfrm>
            <a:custGeom>
              <a:avLst/>
              <a:gdLst/>
              <a:ahLst/>
              <a:rect l="0" t="0" r="r" b="b"/>
              <a:pathLst>
                <a:path w="618" h="622">
                  <a:moveTo>
                    <a:pt x="0" y="297"/>
                  </a:moveTo>
                  <a:lnTo>
                    <a:pt x="0" y="297"/>
                  </a:lnTo>
                  <a:cubicBezTo>
                    <a:pt x="0" y="298"/>
                    <a:pt x="0" y="299"/>
                    <a:pt x="0" y="300"/>
                  </a:cubicBezTo>
                  <a:cubicBezTo>
                    <a:pt x="-2" y="355"/>
                    <a:pt x="10" y="409"/>
                    <a:pt x="36" y="457"/>
                  </a:cubicBezTo>
                  <a:cubicBezTo>
                    <a:pt x="61" y="505"/>
                    <a:pt x="99" y="546"/>
                    <a:pt x="145" y="575"/>
                  </a:cubicBezTo>
                  <a:cubicBezTo>
                    <a:pt x="191" y="604"/>
                    <a:pt x="244" y="620"/>
                    <a:pt x="298" y="622"/>
                  </a:cubicBezTo>
                  <a:cubicBezTo>
                    <a:pt x="352" y="624"/>
                    <a:pt x="406" y="611"/>
                    <a:pt x="454" y="586"/>
                  </a:cubicBezTo>
                  <a:cubicBezTo>
                    <a:pt x="502" y="560"/>
                    <a:pt x="542" y="522"/>
                    <a:pt x="571" y="476"/>
                  </a:cubicBezTo>
                  <a:cubicBezTo>
                    <a:pt x="600" y="430"/>
                    <a:pt x="616" y="378"/>
                    <a:pt x="618" y="325"/>
                  </a:cubicBezTo>
                  <a:lnTo>
                    <a:pt x="618" y="325"/>
                  </a:lnTo>
                  <a:cubicBezTo>
                    <a:pt x="618" y="324"/>
                    <a:pt x="618" y="323"/>
                    <a:pt x="618" y="322"/>
                  </a:cubicBezTo>
                  <a:cubicBezTo>
                    <a:pt x="620" y="267"/>
                    <a:pt x="608" y="213"/>
                    <a:pt x="582" y="165"/>
                  </a:cubicBezTo>
                  <a:cubicBezTo>
                    <a:pt x="557" y="117"/>
                    <a:pt x="519" y="76"/>
                    <a:pt x="473" y="47"/>
                  </a:cubicBezTo>
                  <a:cubicBezTo>
                    <a:pt x="427" y="18"/>
                    <a:pt x="374" y="2"/>
                    <a:pt x="320" y="0"/>
                  </a:cubicBezTo>
                  <a:cubicBezTo>
                    <a:pt x="266" y="-2"/>
                    <a:pt x="212" y="11"/>
                    <a:pt x="164" y="36"/>
                  </a:cubicBezTo>
                  <a:cubicBezTo>
                    <a:pt x="116" y="62"/>
                    <a:pt x="76" y="100"/>
                    <a:pt x="47" y="146"/>
                  </a:cubicBezTo>
                  <a:cubicBezTo>
                    <a:pt x="18" y="192"/>
                    <a:pt x="2" y="244"/>
                    <a:pt x="0" y="29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5592600" y="3502080"/>
              <a:ext cx="654480" cy="1046520"/>
              <a:chOff x="5592600" y="3502080"/>
              <a:chExt cx="654480" cy="1046520"/>
            </a:xfrm>
          </p:grpSpPr>
          <p:sp>
            <p:nvSpPr>
              <p:cNvPr id="1135" name=""/>
              <p:cNvSpPr/>
              <p:nvPr/>
            </p:nvSpPr>
            <p:spPr>
              <a:xfrm>
                <a:off x="5592600" y="4325760"/>
                <a:ext cx="222480" cy="222840"/>
              </a:xfrm>
              <a:custGeom>
                <a:avLst/>
                <a:gdLst/>
                <a:ahLst/>
                <a:rect l="0" t="0" r="r" b="b"/>
                <a:pathLst>
                  <a:path w="618" h="619">
                    <a:moveTo>
                      <a:pt x="44" y="150"/>
                    </a:moveTo>
                    <a:lnTo>
                      <a:pt x="44" y="150"/>
                    </a:lnTo>
                    <a:lnTo>
                      <a:pt x="44" y="150"/>
                    </a:lnTo>
                    <a:cubicBezTo>
                      <a:pt x="16" y="197"/>
                      <a:pt x="1" y="250"/>
                      <a:pt x="0" y="304"/>
                    </a:cubicBezTo>
                    <a:cubicBezTo>
                      <a:pt x="-1" y="358"/>
                      <a:pt x="12" y="412"/>
                      <a:pt x="39" y="459"/>
                    </a:cubicBezTo>
                    <a:cubicBezTo>
                      <a:pt x="65" y="507"/>
                      <a:pt x="103" y="547"/>
                      <a:pt x="150" y="574"/>
                    </a:cubicBezTo>
                    <a:cubicBezTo>
                      <a:pt x="196" y="602"/>
                      <a:pt x="249" y="618"/>
                      <a:pt x="304" y="619"/>
                    </a:cubicBezTo>
                    <a:cubicBezTo>
                      <a:pt x="358" y="620"/>
                      <a:pt x="411" y="606"/>
                      <a:pt x="459" y="580"/>
                    </a:cubicBezTo>
                    <a:cubicBezTo>
                      <a:pt x="506" y="554"/>
                      <a:pt x="546" y="515"/>
                      <a:pt x="574" y="469"/>
                    </a:cubicBezTo>
                    <a:lnTo>
                      <a:pt x="574" y="469"/>
                    </a:lnTo>
                    <a:lnTo>
                      <a:pt x="574" y="469"/>
                    </a:lnTo>
                    <a:cubicBezTo>
                      <a:pt x="602" y="422"/>
                      <a:pt x="617" y="369"/>
                      <a:pt x="618" y="315"/>
                    </a:cubicBezTo>
                    <a:cubicBezTo>
                      <a:pt x="619" y="261"/>
                      <a:pt x="606" y="207"/>
                      <a:pt x="579" y="160"/>
                    </a:cubicBezTo>
                    <a:cubicBezTo>
                      <a:pt x="553" y="112"/>
                      <a:pt x="515" y="72"/>
                      <a:pt x="468" y="45"/>
                    </a:cubicBezTo>
                    <a:cubicBezTo>
                      <a:pt x="422" y="17"/>
                      <a:pt x="369" y="1"/>
                      <a:pt x="314" y="0"/>
                    </a:cubicBezTo>
                    <a:cubicBezTo>
                      <a:pt x="260" y="-1"/>
                      <a:pt x="207" y="13"/>
                      <a:pt x="159" y="39"/>
                    </a:cubicBezTo>
                    <a:cubicBezTo>
                      <a:pt x="112" y="65"/>
                      <a:pt x="72" y="104"/>
                      <a:pt x="44" y="1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697360" y="3502080"/>
                <a:ext cx="549720" cy="933840"/>
              </a:xfrm>
              <a:custGeom>
                <a:avLst/>
                <a:gdLst/>
                <a:ahLst/>
                <a:rect l="0" t="0" r="r" b="b"/>
                <a:pathLst>
                  <a:path w="1527" h="2594">
                    <a:moveTo>
                      <a:pt x="521" y="97"/>
                    </a:moveTo>
                    <a:lnTo>
                      <a:pt x="481" y="317"/>
                    </a:lnTo>
                    <a:lnTo>
                      <a:pt x="710" y="918"/>
                    </a:lnTo>
                    <a:lnTo>
                      <a:pt x="852" y="1385"/>
                    </a:lnTo>
                    <a:lnTo>
                      <a:pt x="0" y="2189"/>
                    </a:lnTo>
                    <a:lnTo>
                      <a:pt x="503" y="2594"/>
                    </a:lnTo>
                    <a:lnTo>
                      <a:pt x="1527" y="1473"/>
                    </a:lnTo>
                    <a:lnTo>
                      <a:pt x="1063" y="282"/>
                    </a:lnTo>
                    <a:lnTo>
                      <a:pt x="882" y="30"/>
                    </a:lnTo>
                    <a:lnTo>
                      <a:pt x="658" y="0"/>
                    </a:lnTo>
                    <a:lnTo>
                      <a:pt x="521" y="97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3532320" y="3568680"/>
              <a:ext cx="574920" cy="844920"/>
            </a:xfrm>
            <a:custGeom>
              <a:avLst/>
              <a:gdLst/>
              <a:ahLst/>
              <a:rect l="0" t="0" r="r" b="b"/>
              <a:pathLst>
                <a:path w="1597" h="2347">
                  <a:moveTo>
                    <a:pt x="0" y="251"/>
                  </a:moveTo>
                  <a:lnTo>
                    <a:pt x="92" y="458"/>
                  </a:lnTo>
                  <a:lnTo>
                    <a:pt x="612" y="834"/>
                  </a:lnTo>
                  <a:lnTo>
                    <a:pt x="988" y="1143"/>
                  </a:lnTo>
                  <a:lnTo>
                    <a:pt x="718" y="2286"/>
                  </a:lnTo>
                  <a:lnTo>
                    <a:pt x="1363" y="2347"/>
                  </a:lnTo>
                  <a:lnTo>
                    <a:pt x="1597" y="847"/>
                  </a:lnTo>
                  <a:lnTo>
                    <a:pt x="555" y="110"/>
                  </a:lnTo>
                  <a:lnTo>
                    <a:pt x="268" y="0"/>
                  </a:lnTo>
                  <a:lnTo>
                    <a:pt x="61" y="97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692440" y="4562640"/>
              <a:ext cx="1335240" cy="1609920"/>
              <a:chOff x="2692440" y="4562640"/>
              <a:chExt cx="1335240" cy="1609920"/>
            </a:xfrm>
          </p:grpSpPr>
          <p:sp>
            <p:nvSpPr>
              <p:cNvPr id="1139" name=""/>
              <p:cNvSpPr/>
              <p:nvPr/>
            </p:nvSpPr>
            <p:spPr>
              <a:xfrm>
                <a:off x="3112920" y="4562640"/>
                <a:ext cx="579960" cy="1486440"/>
              </a:xfrm>
              <a:custGeom>
                <a:avLst/>
                <a:gdLst/>
                <a:ahLst/>
                <a:rect l="0" t="0" r="r" b="b"/>
                <a:pathLst>
                  <a:path w="1611" h="4129">
                    <a:moveTo>
                      <a:pt x="1611" y="0"/>
                    </a:moveTo>
                    <a:lnTo>
                      <a:pt x="1329" y="4129"/>
                    </a:lnTo>
                    <a:lnTo>
                      <a:pt x="697" y="4129"/>
                    </a:lnTo>
                    <a:lnTo>
                      <a:pt x="790" y="1121"/>
                    </a:lnTo>
                    <a:lnTo>
                      <a:pt x="697" y="4129"/>
                    </a:lnTo>
                    <a:lnTo>
                      <a:pt x="0" y="4129"/>
                    </a:lnTo>
                    <a:lnTo>
                      <a:pt x="66" y="26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36384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69244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2935440" y="335916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5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195720" y="42418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16080" y="212076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1682" y="0"/>
                  </a:moveTo>
                  <a:lnTo>
                    <a:pt x="1964" y="229"/>
                  </a:lnTo>
                  <a:lnTo>
                    <a:pt x="2127" y="590"/>
                  </a:lnTo>
                  <a:lnTo>
                    <a:pt x="2171" y="1050"/>
                  </a:lnTo>
                  <a:lnTo>
                    <a:pt x="2193" y="2324"/>
                  </a:lnTo>
                  <a:lnTo>
                    <a:pt x="2149" y="3057"/>
                  </a:lnTo>
                  <a:lnTo>
                    <a:pt x="1473" y="3102"/>
                  </a:lnTo>
                  <a:lnTo>
                    <a:pt x="1376" y="3512"/>
                  </a:lnTo>
                  <a:lnTo>
                    <a:pt x="1284" y="3785"/>
                  </a:lnTo>
                  <a:lnTo>
                    <a:pt x="1076" y="3785"/>
                  </a:lnTo>
                  <a:lnTo>
                    <a:pt x="957" y="3534"/>
                  </a:lnTo>
                  <a:lnTo>
                    <a:pt x="1028" y="3102"/>
                  </a:lnTo>
                  <a:lnTo>
                    <a:pt x="396" y="3031"/>
                  </a:lnTo>
                  <a:lnTo>
                    <a:pt x="374" y="2598"/>
                  </a:lnTo>
                  <a:lnTo>
                    <a:pt x="233" y="2668"/>
                  </a:lnTo>
                  <a:lnTo>
                    <a:pt x="97" y="2620"/>
                  </a:lnTo>
                  <a:lnTo>
                    <a:pt x="0" y="2258"/>
                  </a:lnTo>
                  <a:lnTo>
                    <a:pt x="119" y="2073"/>
                  </a:lnTo>
                  <a:lnTo>
                    <a:pt x="260" y="2100"/>
                  </a:lnTo>
                  <a:lnTo>
                    <a:pt x="119" y="158"/>
                  </a:lnTo>
                  <a:lnTo>
                    <a:pt x="16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40240" y="250344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62240" y="247032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348000" y="264312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08360" y="265104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95680" y="194328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3486240" y="1925640"/>
              <a:ext cx="1584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3325680" y="1917720"/>
              <a:ext cx="3348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3166920" y="1959120"/>
              <a:ext cx="4932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3041640" y="1982880"/>
              <a:ext cx="4752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33880" y="294156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1611" y="0"/>
                  </a:moveTo>
                  <a:lnTo>
                    <a:pt x="0" y="141"/>
                  </a:lnTo>
                  <a:lnTo>
                    <a:pt x="957" y="618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84640" y="336852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8" y="411"/>
                  </a:lnTo>
                  <a:lnTo>
                    <a:pt x="163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63" y="0"/>
                  </a:lnTo>
                  <a:lnTo>
                    <a:pt x="326" y="230"/>
                  </a:lnTo>
                  <a:lnTo>
                    <a:pt x="587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9640" y="26035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2817720" y="3502080"/>
              <a:ext cx="654480" cy="1046520"/>
              <a:chOff x="2817720" y="3502080"/>
              <a:chExt cx="654480" cy="1046520"/>
            </a:xfrm>
          </p:grpSpPr>
          <p:sp>
            <p:nvSpPr>
              <p:cNvPr id="1158" name=""/>
              <p:cNvSpPr/>
              <p:nvPr/>
            </p:nvSpPr>
            <p:spPr>
              <a:xfrm>
                <a:off x="3249720" y="4325760"/>
                <a:ext cx="222480" cy="222840"/>
              </a:xfrm>
              <a:custGeom>
                <a:avLst/>
                <a:gdLst/>
                <a:ahLst/>
                <a:rect l="0" t="0" r="r" b="b"/>
                <a:pathLst>
                  <a:path w="618" h="619">
                    <a:moveTo>
                      <a:pt x="44" y="469"/>
                    </a:moveTo>
                    <a:lnTo>
                      <a:pt x="44" y="469"/>
                    </a:lnTo>
                    <a:cubicBezTo>
                      <a:pt x="72" y="515"/>
                      <a:pt x="112" y="554"/>
                      <a:pt x="159" y="580"/>
                    </a:cubicBezTo>
                    <a:cubicBezTo>
                      <a:pt x="207" y="606"/>
                      <a:pt x="260" y="620"/>
                      <a:pt x="314" y="619"/>
                    </a:cubicBezTo>
                    <a:cubicBezTo>
                      <a:pt x="369" y="618"/>
                      <a:pt x="422" y="602"/>
                      <a:pt x="468" y="574"/>
                    </a:cubicBezTo>
                    <a:cubicBezTo>
                      <a:pt x="515" y="547"/>
                      <a:pt x="553" y="507"/>
                      <a:pt x="579" y="459"/>
                    </a:cubicBezTo>
                    <a:cubicBezTo>
                      <a:pt x="606" y="412"/>
                      <a:pt x="619" y="358"/>
                      <a:pt x="618" y="304"/>
                    </a:cubicBezTo>
                    <a:cubicBezTo>
                      <a:pt x="617" y="250"/>
                      <a:pt x="602" y="197"/>
                      <a:pt x="574" y="150"/>
                    </a:cubicBezTo>
                    <a:lnTo>
                      <a:pt x="574" y="150"/>
                    </a:lnTo>
                    <a:lnTo>
                      <a:pt x="574" y="150"/>
                    </a:lnTo>
                    <a:cubicBezTo>
                      <a:pt x="546" y="104"/>
                      <a:pt x="506" y="65"/>
                      <a:pt x="459" y="39"/>
                    </a:cubicBezTo>
                    <a:cubicBezTo>
                      <a:pt x="411" y="13"/>
                      <a:pt x="358" y="-1"/>
                      <a:pt x="304" y="0"/>
                    </a:cubicBezTo>
                    <a:cubicBezTo>
                      <a:pt x="249" y="1"/>
                      <a:pt x="196" y="17"/>
                      <a:pt x="150" y="45"/>
                    </a:cubicBezTo>
                    <a:cubicBezTo>
                      <a:pt x="103" y="72"/>
                      <a:pt x="65" y="112"/>
                      <a:pt x="39" y="160"/>
                    </a:cubicBezTo>
                    <a:cubicBezTo>
                      <a:pt x="12" y="207"/>
                      <a:pt x="-1" y="261"/>
                      <a:pt x="0" y="315"/>
                    </a:cubicBezTo>
                    <a:cubicBezTo>
                      <a:pt x="1" y="369"/>
                      <a:pt x="16" y="422"/>
                      <a:pt x="44" y="4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17720" y="3502080"/>
                <a:ext cx="549720" cy="933840"/>
              </a:xfrm>
              <a:custGeom>
                <a:avLst/>
                <a:gdLst/>
                <a:ahLst/>
                <a:rect l="0" t="0" r="r" b="b"/>
                <a:pathLst>
                  <a:path w="1527" h="2594">
                    <a:moveTo>
                      <a:pt x="1006" y="97"/>
                    </a:moveTo>
                    <a:lnTo>
                      <a:pt x="1046" y="317"/>
                    </a:lnTo>
                    <a:lnTo>
                      <a:pt x="816" y="918"/>
                    </a:lnTo>
                    <a:lnTo>
                      <a:pt x="675" y="1385"/>
                    </a:lnTo>
                    <a:lnTo>
                      <a:pt x="1527" y="2189"/>
                    </a:lnTo>
                    <a:lnTo>
                      <a:pt x="1024" y="2594"/>
                    </a:lnTo>
                    <a:lnTo>
                      <a:pt x="0" y="1473"/>
                    </a:lnTo>
                    <a:lnTo>
                      <a:pt x="464" y="282"/>
                    </a:lnTo>
                    <a:lnTo>
                      <a:pt x="644" y="30"/>
                    </a:lnTo>
                    <a:lnTo>
                      <a:pt x="869" y="0"/>
                    </a:lnTo>
                    <a:lnTo>
                      <a:pt x="1006" y="97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400560" y="4254480"/>
              <a:ext cx="914760" cy="1918080"/>
              <a:chOff x="3400560" y="4254480"/>
              <a:chExt cx="914760" cy="1918080"/>
            </a:xfrm>
          </p:grpSpPr>
          <p:sp>
            <p:nvSpPr>
              <p:cNvPr id="1161" name=""/>
              <p:cNvSpPr/>
              <p:nvPr/>
            </p:nvSpPr>
            <p:spPr>
              <a:xfrm>
                <a:off x="3602160" y="60134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1959" y="137"/>
                    </a:moveTo>
                    <a:lnTo>
                      <a:pt x="1867" y="221"/>
                    </a:lnTo>
                    <a:lnTo>
                      <a:pt x="1796" y="247"/>
                    </a:lnTo>
                    <a:lnTo>
                      <a:pt x="1748" y="332"/>
                    </a:lnTo>
                    <a:lnTo>
                      <a:pt x="1682" y="390"/>
                    </a:lnTo>
                    <a:lnTo>
                      <a:pt x="1611" y="390"/>
                    </a:lnTo>
                    <a:lnTo>
                      <a:pt x="1540" y="390"/>
                    </a:lnTo>
                    <a:lnTo>
                      <a:pt x="1470" y="390"/>
                    </a:lnTo>
                    <a:lnTo>
                      <a:pt x="1398" y="390"/>
                    </a:lnTo>
                    <a:lnTo>
                      <a:pt x="1328" y="390"/>
                    </a:lnTo>
                    <a:lnTo>
                      <a:pt x="1257" y="416"/>
                    </a:lnTo>
                    <a:lnTo>
                      <a:pt x="1165" y="442"/>
                    </a:lnTo>
                    <a:lnTo>
                      <a:pt x="1094" y="442"/>
                    </a:lnTo>
                    <a:lnTo>
                      <a:pt x="1028" y="442"/>
                    </a:lnTo>
                    <a:lnTo>
                      <a:pt x="957" y="442"/>
                    </a:lnTo>
                    <a:lnTo>
                      <a:pt x="887" y="442"/>
                    </a:lnTo>
                    <a:lnTo>
                      <a:pt x="816" y="416"/>
                    </a:lnTo>
                    <a:lnTo>
                      <a:pt x="746" y="416"/>
                    </a:lnTo>
                    <a:lnTo>
                      <a:pt x="675" y="390"/>
                    </a:lnTo>
                    <a:lnTo>
                      <a:pt x="605" y="359"/>
                    </a:lnTo>
                    <a:lnTo>
                      <a:pt x="538" y="359"/>
                    </a:lnTo>
                    <a:lnTo>
                      <a:pt x="467" y="359"/>
                    </a:lnTo>
                    <a:lnTo>
                      <a:pt x="396" y="416"/>
                    </a:lnTo>
                    <a:lnTo>
                      <a:pt x="326" y="442"/>
                    </a:lnTo>
                    <a:lnTo>
                      <a:pt x="255" y="442"/>
                    </a:lnTo>
                    <a:lnTo>
                      <a:pt x="211" y="359"/>
                    </a:lnTo>
                    <a:lnTo>
                      <a:pt x="141" y="359"/>
                    </a:lnTo>
                    <a:lnTo>
                      <a:pt x="70" y="359"/>
                    </a:lnTo>
                    <a:lnTo>
                      <a:pt x="0" y="305"/>
                    </a:lnTo>
                    <a:lnTo>
                      <a:pt x="92" y="247"/>
                    </a:lnTo>
                    <a:lnTo>
                      <a:pt x="163" y="247"/>
                    </a:lnTo>
                    <a:lnTo>
                      <a:pt x="233" y="195"/>
                    </a:lnTo>
                    <a:lnTo>
                      <a:pt x="185" y="111"/>
                    </a:lnTo>
                    <a:lnTo>
                      <a:pt x="396" y="111"/>
                    </a:lnTo>
                    <a:lnTo>
                      <a:pt x="467" y="83"/>
                    </a:lnTo>
                    <a:lnTo>
                      <a:pt x="538" y="83"/>
                    </a:lnTo>
                    <a:lnTo>
                      <a:pt x="605" y="111"/>
                    </a:lnTo>
                    <a:lnTo>
                      <a:pt x="675" y="168"/>
                    </a:lnTo>
                    <a:lnTo>
                      <a:pt x="746" y="168"/>
                    </a:lnTo>
                    <a:lnTo>
                      <a:pt x="816" y="168"/>
                    </a:lnTo>
                    <a:lnTo>
                      <a:pt x="909" y="168"/>
                    </a:lnTo>
                    <a:lnTo>
                      <a:pt x="1094" y="168"/>
                    </a:lnTo>
                    <a:lnTo>
                      <a:pt x="1235" y="168"/>
                    </a:lnTo>
                    <a:lnTo>
                      <a:pt x="1420" y="137"/>
                    </a:lnTo>
                    <a:lnTo>
                      <a:pt x="1518" y="137"/>
                    </a:lnTo>
                    <a:lnTo>
                      <a:pt x="1726" y="57"/>
                    </a:lnTo>
                    <a:lnTo>
                      <a:pt x="1911" y="0"/>
                    </a:lnTo>
                    <a:lnTo>
                      <a:pt x="1845" y="57"/>
                    </a:lnTo>
                    <a:lnTo>
                      <a:pt x="1818" y="168"/>
                    </a:lnTo>
                    <a:lnTo>
                      <a:pt x="1818" y="247"/>
                    </a:lnTo>
                    <a:lnTo>
                      <a:pt x="1818" y="305"/>
                    </a:lnTo>
                    <a:lnTo>
                      <a:pt x="1959" y="137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00560" y="42544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0" y="361"/>
                    </a:moveTo>
                    <a:lnTo>
                      <a:pt x="92" y="251"/>
                    </a:lnTo>
                    <a:lnTo>
                      <a:pt x="141" y="83"/>
                    </a:lnTo>
                    <a:lnTo>
                      <a:pt x="211" y="26"/>
                    </a:lnTo>
                    <a:lnTo>
                      <a:pt x="277" y="26"/>
                    </a:lnTo>
                    <a:lnTo>
                      <a:pt x="440" y="0"/>
                    </a:lnTo>
                    <a:lnTo>
                      <a:pt x="511" y="0"/>
                    </a:lnTo>
                    <a:lnTo>
                      <a:pt x="582" y="0"/>
                    </a:lnTo>
                    <a:lnTo>
                      <a:pt x="652" y="26"/>
                    </a:lnTo>
                    <a:lnTo>
                      <a:pt x="723" y="57"/>
                    </a:lnTo>
                    <a:lnTo>
                      <a:pt x="793" y="136"/>
                    </a:lnTo>
                    <a:lnTo>
                      <a:pt x="864" y="167"/>
                    </a:lnTo>
                    <a:lnTo>
                      <a:pt x="956" y="220"/>
                    </a:lnTo>
                    <a:lnTo>
                      <a:pt x="1027" y="251"/>
                    </a:lnTo>
                    <a:lnTo>
                      <a:pt x="1093" y="277"/>
                    </a:lnTo>
                    <a:lnTo>
                      <a:pt x="1164" y="304"/>
                    </a:lnTo>
                    <a:lnTo>
                      <a:pt x="1234" y="335"/>
                    </a:lnTo>
                    <a:lnTo>
                      <a:pt x="1306" y="361"/>
                    </a:lnTo>
                    <a:lnTo>
                      <a:pt x="1398" y="388"/>
                    </a:lnTo>
                    <a:lnTo>
                      <a:pt x="1469" y="445"/>
                    </a:lnTo>
                    <a:lnTo>
                      <a:pt x="1513" y="529"/>
                    </a:lnTo>
                    <a:lnTo>
                      <a:pt x="1562" y="608"/>
                    </a:lnTo>
                    <a:lnTo>
                      <a:pt x="1584" y="692"/>
                    </a:lnTo>
                    <a:lnTo>
                      <a:pt x="1610" y="776"/>
                    </a:lnTo>
                    <a:lnTo>
                      <a:pt x="1654" y="859"/>
                    </a:lnTo>
                    <a:lnTo>
                      <a:pt x="1676" y="943"/>
                    </a:lnTo>
                    <a:lnTo>
                      <a:pt x="1725" y="1027"/>
                    </a:lnTo>
                    <a:lnTo>
                      <a:pt x="1795" y="1053"/>
                    </a:lnTo>
                    <a:lnTo>
                      <a:pt x="1866" y="1111"/>
                    </a:lnTo>
                    <a:lnTo>
                      <a:pt x="1936" y="1164"/>
                    </a:lnTo>
                    <a:lnTo>
                      <a:pt x="2029" y="1221"/>
                    </a:lnTo>
                    <a:lnTo>
                      <a:pt x="2100" y="1305"/>
                    </a:lnTo>
                    <a:lnTo>
                      <a:pt x="2144" y="1389"/>
                    </a:lnTo>
                    <a:lnTo>
                      <a:pt x="2166" y="1472"/>
                    </a:lnTo>
                    <a:lnTo>
                      <a:pt x="2166" y="1556"/>
                    </a:lnTo>
                    <a:lnTo>
                      <a:pt x="2166" y="1636"/>
                    </a:lnTo>
                    <a:lnTo>
                      <a:pt x="2166" y="1719"/>
                    </a:lnTo>
                    <a:lnTo>
                      <a:pt x="2166" y="1803"/>
                    </a:lnTo>
                    <a:lnTo>
                      <a:pt x="2166" y="1887"/>
                    </a:lnTo>
                    <a:lnTo>
                      <a:pt x="2166" y="1971"/>
                    </a:lnTo>
                    <a:lnTo>
                      <a:pt x="2144" y="2054"/>
                    </a:lnTo>
                    <a:lnTo>
                      <a:pt x="2073" y="2301"/>
                    </a:lnTo>
                    <a:lnTo>
                      <a:pt x="2051" y="2385"/>
                    </a:lnTo>
                    <a:lnTo>
                      <a:pt x="2029" y="2469"/>
                    </a:lnTo>
                    <a:lnTo>
                      <a:pt x="2029" y="2554"/>
                    </a:lnTo>
                    <a:lnTo>
                      <a:pt x="2029" y="2638"/>
                    </a:lnTo>
                    <a:lnTo>
                      <a:pt x="2029" y="2721"/>
                    </a:lnTo>
                    <a:lnTo>
                      <a:pt x="2029" y="2805"/>
                    </a:lnTo>
                    <a:lnTo>
                      <a:pt x="2051" y="2889"/>
                    </a:lnTo>
                    <a:lnTo>
                      <a:pt x="2073" y="2973"/>
                    </a:lnTo>
                    <a:lnTo>
                      <a:pt x="2100" y="3052"/>
                    </a:lnTo>
                    <a:lnTo>
                      <a:pt x="2122" y="3136"/>
                    </a:lnTo>
                    <a:lnTo>
                      <a:pt x="2122" y="3220"/>
                    </a:lnTo>
                    <a:lnTo>
                      <a:pt x="2122" y="3303"/>
                    </a:lnTo>
                    <a:lnTo>
                      <a:pt x="2122" y="3387"/>
                    </a:lnTo>
                    <a:lnTo>
                      <a:pt x="2122" y="3471"/>
                    </a:lnTo>
                    <a:lnTo>
                      <a:pt x="2122" y="3555"/>
                    </a:lnTo>
                    <a:lnTo>
                      <a:pt x="2122" y="3639"/>
                    </a:lnTo>
                    <a:lnTo>
                      <a:pt x="2144" y="3722"/>
                    </a:lnTo>
                    <a:lnTo>
                      <a:pt x="2166" y="3802"/>
                    </a:lnTo>
                    <a:lnTo>
                      <a:pt x="2236" y="3859"/>
                    </a:lnTo>
                    <a:lnTo>
                      <a:pt x="2263" y="3943"/>
                    </a:lnTo>
                    <a:lnTo>
                      <a:pt x="2307" y="4027"/>
                    </a:lnTo>
                    <a:lnTo>
                      <a:pt x="2355" y="4110"/>
                    </a:lnTo>
                    <a:lnTo>
                      <a:pt x="2426" y="4163"/>
                    </a:lnTo>
                    <a:lnTo>
                      <a:pt x="2448" y="4247"/>
                    </a:lnTo>
                    <a:lnTo>
                      <a:pt x="2492" y="4331"/>
                    </a:lnTo>
                    <a:lnTo>
                      <a:pt x="2492" y="4415"/>
                    </a:lnTo>
                    <a:lnTo>
                      <a:pt x="2518" y="4498"/>
                    </a:lnTo>
                    <a:lnTo>
                      <a:pt x="2541" y="4582"/>
                    </a:lnTo>
                    <a:lnTo>
                      <a:pt x="2541" y="4666"/>
                    </a:lnTo>
                    <a:lnTo>
                      <a:pt x="2541" y="4745"/>
                    </a:lnTo>
                    <a:lnTo>
                      <a:pt x="2518" y="4829"/>
                    </a:lnTo>
                    <a:lnTo>
                      <a:pt x="2492" y="4913"/>
                    </a:lnTo>
                    <a:lnTo>
                      <a:pt x="2448" y="4997"/>
                    </a:lnTo>
                    <a:lnTo>
                      <a:pt x="2263" y="5023"/>
                    </a:lnTo>
                    <a:lnTo>
                      <a:pt x="2100" y="5054"/>
                    </a:lnTo>
                    <a:lnTo>
                      <a:pt x="2029" y="5081"/>
                    </a:lnTo>
                    <a:lnTo>
                      <a:pt x="1958" y="5081"/>
                    </a:lnTo>
                    <a:lnTo>
                      <a:pt x="1676" y="5081"/>
                    </a:lnTo>
                    <a:lnTo>
                      <a:pt x="1610" y="5081"/>
                    </a:lnTo>
                    <a:lnTo>
                      <a:pt x="1513" y="5081"/>
                    </a:lnTo>
                    <a:lnTo>
                      <a:pt x="1420" y="5054"/>
                    </a:lnTo>
                    <a:lnTo>
                      <a:pt x="1350" y="5023"/>
                    </a:lnTo>
                    <a:lnTo>
                      <a:pt x="1306" y="4944"/>
                    </a:lnTo>
                    <a:lnTo>
                      <a:pt x="1284" y="4860"/>
                    </a:lnTo>
                    <a:lnTo>
                      <a:pt x="1212" y="4776"/>
                    </a:lnTo>
                    <a:lnTo>
                      <a:pt x="1164" y="4692"/>
                    </a:lnTo>
                    <a:lnTo>
                      <a:pt x="1120" y="4609"/>
                    </a:lnTo>
                    <a:lnTo>
                      <a:pt x="1120" y="4525"/>
                    </a:lnTo>
                    <a:lnTo>
                      <a:pt x="1120" y="4388"/>
                    </a:lnTo>
                    <a:lnTo>
                      <a:pt x="1256" y="4331"/>
                    </a:lnTo>
                    <a:lnTo>
                      <a:pt x="1447" y="4274"/>
                    </a:lnTo>
                    <a:lnTo>
                      <a:pt x="1513" y="4304"/>
                    </a:lnTo>
                    <a:lnTo>
                      <a:pt x="1584" y="4331"/>
                    </a:lnTo>
                    <a:lnTo>
                      <a:pt x="1654" y="4388"/>
                    </a:lnTo>
                    <a:lnTo>
                      <a:pt x="1817" y="4388"/>
                    </a:lnTo>
                    <a:lnTo>
                      <a:pt x="2003" y="4388"/>
                    </a:lnTo>
                    <a:lnTo>
                      <a:pt x="2073" y="4415"/>
                    </a:lnTo>
                    <a:lnTo>
                      <a:pt x="2166" y="4441"/>
                    </a:lnTo>
                    <a:lnTo>
                      <a:pt x="2214" y="4719"/>
                    </a:lnTo>
                    <a:lnTo>
                      <a:pt x="2144" y="4692"/>
                    </a:lnTo>
                    <a:lnTo>
                      <a:pt x="2073" y="4666"/>
                    </a:lnTo>
                    <a:lnTo>
                      <a:pt x="2003" y="4635"/>
                    </a:lnTo>
                    <a:lnTo>
                      <a:pt x="1936" y="4609"/>
                    </a:lnTo>
                    <a:lnTo>
                      <a:pt x="1839" y="4582"/>
                    </a:lnTo>
                    <a:lnTo>
                      <a:pt x="1773" y="4582"/>
                    </a:lnTo>
                    <a:lnTo>
                      <a:pt x="1703" y="4582"/>
                    </a:lnTo>
                    <a:lnTo>
                      <a:pt x="1632" y="4582"/>
                    </a:lnTo>
                    <a:lnTo>
                      <a:pt x="1562" y="4635"/>
                    </a:lnTo>
                    <a:lnTo>
                      <a:pt x="1539" y="4719"/>
                    </a:lnTo>
                    <a:lnTo>
                      <a:pt x="1610" y="4776"/>
                    </a:lnTo>
                    <a:lnTo>
                      <a:pt x="1676" y="4803"/>
                    </a:lnTo>
                    <a:lnTo>
                      <a:pt x="1747" y="4803"/>
                    </a:lnTo>
                    <a:lnTo>
                      <a:pt x="1817" y="4803"/>
                    </a:lnTo>
                    <a:lnTo>
                      <a:pt x="1888" y="4776"/>
                    </a:lnTo>
                    <a:lnTo>
                      <a:pt x="1980" y="4719"/>
                    </a:lnTo>
                    <a:lnTo>
                      <a:pt x="2073" y="4745"/>
                    </a:lnTo>
                    <a:lnTo>
                      <a:pt x="2214" y="4745"/>
                    </a:lnTo>
                    <a:lnTo>
                      <a:pt x="2214" y="4498"/>
                    </a:lnTo>
                    <a:lnTo>
                      <a:pt x="2073" y="4388"/>
                    </a:lnTo>
                    <a:lnTo>
                      <a:pt x="2051" y="4304"/>
                    </a:lnTo>
                    <a:lnTo>
                      <a:pt x="2003" y="4221"/>
                    </a:lnTo>
                    <a:lnTo>
                      <a:pt x="2003" y="4137"/>
                    </a:lnTo>
                    <a:lnTo>
                      <a:pt x="1980" y="4053"/>
                    </a:lnTo>
                    <a:lnTo>
                      <a:pt x="1936" y="3969"/>
                    </a:lnTo>
                    <a:lnTo>
                      <a:pt x="1888" y="3885"/>
                    </a:lnTo>
                    <a:lnTo>
                      <a:pt x="1866" y="3802"/>
                    </a:lnTo>
                    <a:lnTo>
                      <a:pt x="1866" y="3722"/>
                    </a:lnTo>
                    <a:lnTo>
                      <a:pt x="1866" y="3639"/>
                    </a:lnTo>
                    <a:lnTo>
                      <a:pt x="1839" y="3555"/>
                    </a:lnTo>
                    <a:lnTo>
                      <a:pt x="1839" y="3471"/>
                    </a:lnTo>
                    <a:lnTo>
                      <a:pt x="1817" y="3387"/>
                    </a:lnTo>
                    <a:lnTo>
                      <a:pt x="1795" y="3303"/>
                    </a:lnTo>
                    <a:lnTo>
                      <a:pt x="1773" y="3220"/>
                    </a:lnTo>
                    <a:lnTo>
                      <a:pt x="1747" y="3136"/>
                    </a:lnTo>
                    <a:lnTo>
                      <a:pt x="1725" y="3052"/>
                    </a:lnTo>
                    <a:lnTo>
                      <a:pt x="1725" y="2973"/>
                    </a:lnTo>
                    <a:lnTo>
                      <a:pt x="1703" y="2889"/>
                    </a:lnTo>
                    <a:lnTo>
                      <a:pt x="1703" y="2805"/>
                    </a:lnTo>
                    <a:lnTo>
                      <a:pt x="1725" y="2721"/>
                    </a:lnTo>
                    <a:lnTo>
                      <a:pt x="1725" y="2638"/>
                    </a:lnTo>
                    <a:lnTo>
                      <a:pt x="1725" y="2554"/>
                    </a:lnTo>
                    <a:lnTo>
                      <a:pt x="1725" y="2469"/>
                    </a:lnTo>
                    <a:lnTo>
                      <a:pt x="1725" y="2385"/>
                    </a:lnTo>
                    <a:lnTo>
                      <a:pt x="1747" y="2301"/>
                    </a:lnTo>
                    <a:lnTo>
                      <a:pt x="1773" y="2222"/>
                    </a:lnTo>
                    <a:lnTo>
                      <a:pt x="1773" y="1997"/>
                    </a:lnTo>
                    <a:lnTo>
                      <a:pt x="1795" y="1887"/>
                    </a:lnTo>
                    <a:lnTo>
                      <a:pt x="1795" y="1803"/>
                    </a:lnTo>
                    <a:lnTo>
                      <a:pt x="1773" y="1719"/>
                    </a:lnTo>
                    <a:lnTo>
                      <a:pt x="1725" y="1609"/>
                    </a:lnTo>
                    <a:lnTo>
                      <a:pt x="1703" y="1525"/>
                    </a:lnTo>
                    <a:lnTo>
                      <a:pt x="1632" y="1441"/>
                    </a:lnTo>
                    <a:lnTo>
                      <a:pt x="1562" y="1358"/>
                    </a:lnTo>
                    <a:lnTo>
                      <a:pt x="1491" y="1278"/>
                    </a:lnTo>
                    <a:lnTo>
                      <a:pt x="1420" y="1195"/>
                    </a:lnTo>
                    <a:lnTo>
                      <a:pt x="1398" y="1111"/>
                    </a:lnTo>
                    <a:lnTo>
                      <a:pt x="1376" y="1027"/>
                    </a:lnTo>
                    <a:lnTo>
                      <a:pt x="1350" y="943"/>
                    </a:lnTo>
                    <a:lnTo>
                      <a:pt x="1306" y="859"/>
                    </a:lnTo>
                    <a:lnTo>
                      <a:pt x="1256" y="776"/>
                    </a:lnTo>
                    <a:lnTo>
                      <a:pt x="1190" y="692"/>
                    </a:lnTo>
                    <a:lnTo>
                      <a:pt x="1120" y="608"/>
                    </a:lnTo>
                    <a:lnTo>
                      <a:pt x="1049" y="555"/>
                    </a:lnTo>
                    <a:lnTo>
                      <a:pt x="978" y="529"/>
                    </a:lnTo>
                    <a:lnTo>
                      <a:pt x="908" y="471"/>
                    </a:lnTo>
                    <a:lnTo>
                      <a:pt x="837" y="471"/>
                    </a:lnTo>
                    <a:lnTo>
                      <a:pt x="701" y="471"/>
                    </a:lnTo>
                    <a:lnTo>
                      <a:pt x="630" y="471"/>
                    </a:lnTo>
                    <a:lnTo>
                      <a:pt x="560" y="471"/>
                    </a:lnTo>
                    <a:lnTo>
                      <a:pt x="374" y="445"/>
                    </a:lnTo>
                    <a:lnTo>
                      <a:pt x="277" y="445"/>
                    </a:lnTo>
                    <a:lnTo>
                      <a:pt x="233" y="529"/>
                    </a:lnTo>
                    <a:lnTo>
                      <a:pt x="163" y="582"/>
                    </a:lnTo>
                    <a:lnTo>
                      <a:pt x="92" y="555"/>
                    </a:lnTo>
                    <a:lnTo>
                      <a:pt x="70" y="47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3767040" y="4398840"/>
              <a:ext cx="222480" cy="223920"/>
            </a:xfrm>
            <a:custGeom>
              <a:avLst/>
              <a:gdLst/>
              <a:ahLst/>
              <a:rect l="0" t="0" r="r" b="b"/>
              <a:pathLst>
                <a:path w="618" h="622">
                  <a:moveTo>
                    <a:pt x="0" y="325"/>
                  </a:moveTo>
                  <a:lnTo>
                    <a:pt x="0" y="325"/>
                  </a:lnTo>
                  <a:cubicBezTo>
                    <a:pt x="2" y="378"/>
                    <a:pt x="18" y="430"/>
                    <a:pt x="47" y="476"/>
                  </a:cubicBezTo>
                  <a:cubicBezTo>
                    <a:pt x="76" y="522"/>
                    <a:pt x="116" y="560"/>
                    <a:pt x="164" y="586"/>
                  </a:cubicBezTo>
                  <a:cubicBezTo>
                    <a:pt x="212" y="611"/>
                    <a:pt x="266" y="624"/>
                    <a:pt x="320" y="622"/>
                  </a:cubicBezTo>
                  <a:cubicBezTo>
                    <a:pt x="374" y="620"/>
                    <a:pt x="427" y="604"/>
                    <a:pt x="473" y="575"/>
                  </a:cubicBezTo>
                  <a:cubicBezTo>
                    <a:pt x="519" y="546"/>
                    <a:pt x="557" y="505"/>
                    <a:pt x="582" y="457"/>
                  </a:cubicBezTo>
                  <a:cubicBezTo>
                    <a:pt x="608" y="409"/>
                    <a:pt x="620" y="355"/>
                    <a:pt x="618" y="300"/>
                  </a:cubicBezTo>
                  <a:cubicBezTo>
                    <a:pt x="618" y="299"/>
                    <a:pt x="618" y="298"/>
                    <a:pt x="618" y="297"/>
                  </a:cubicBezTo>
                  <a:lnTo>
                    <a:pt x="618" y="297"/>
                  </a:lnTo>
                  <a:cubicBezTo>
                    <a:pt x="616" y="244"/>
                    <a:pt x="600" y="192"/>
                    <a:pt x="571" y="146"/>
                  </a:cubicBezTo>
                  <a:cubicBezTo>
                    <a:pt x="542" y="100"/>
                    <a:pt x="502" y="62"/>
                    <a:pt x="454" y="36"/>
                  </a:cubicBezTo>
                  <a:cubicBezTo>
                    <a:pt x="406" y="11"/>
                    <a:pt x="352" y="-2"/>
                    <a:pt x="298" y="0"/>
                  </a:cubicBezTo>
                  <a:cubicBezTo>
                    <a:pt x="244" y="2"/>
                    <a:pt x="191" y="18"/>
                    <a:pt x="145" y="47"/>
                  </a:cubicBezTo>
                  <a:cubicBezTo>
                    <a:pt x="99" y="76"/>
                    <a:pt x="61" y="117"/>
                    <a:pt x="36" y="165"/>
                  </a:cubicBezTo>
                  <a:cubicBezTo>
                    <a:pt x="10" y="213"/>
                    <a:pt x="-2" y="267"/>
                    <a:pt x="0" y="322"/>
                  </a:cubicBezTo>
                  <a:cubicBezTo>
                    <a:pt x="0" y="323"/>
                    <a:pt x="0" y="324"/>
                    <a:pt x="0" y="32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5410080" y="4495680"/>
              <a:ext cx="508680" cy="1283400"/>
              <a:chOff x="5410080" y="4495680"/>
              <a:chExt cx="508680" cy="1283400"/>
            </a:xfrm>
          </p:grpSpPr>
          <p:sp>
            <p:nvSpPr>
              <p:cNvPr id="1165" name=""/>
              <p:cNvSpPr/>
              <p:nvPr/>
            </p:nvSpPr>
            <p:spPr>
              <a:xfrm>
                <a:off x="5678640" y="45705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10080" y="46972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60840" y="50641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54720" y="44956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52920" y="53388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700600" y="56055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567400" y="49942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3124080" y="4497480"/>
              <a:ext cx="508320" cy="1281240"/>
              <a:chOff x="3124080" y="4497480"/>
              <a:chExt cx="508320" cy="1281240"/>
            </a:xfrm>
          </p:grpSpPr>
          <p:sp>
            <p:nvSpPr>
              <p:cNvPr id="1173" name=""/>
              <p:cNvSpPr/>
              <p:nvPr/>
            </p:nvSpPr>
            <p:spPr>
              <a:xfrm>
                <a:off x="3265560" y="45673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19360" y="46972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70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403440" y="50817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403440" y="44974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508200" y="53420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276720" y="56070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24080" y="50133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1181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1189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1197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1201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"/>
          <p:cNvSpPr txBox="1"/>
          <p:nvPr/>
        </p:nvSpPr>
        <p:spPr>
          <a:xfrm>
            <a:off x="152280" y="304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Going Nut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0" y="5715000"/>
            <a:ext cx="9142920" cy="1141920"/>
          </a:xfrm>
          <a:custGeom>
            <a:avLst/>
            <a:gdLst/>
            <a:ahLst/>
            <a:rect l="0" t="0" r="r" b="b"/>
            <a:pathLst>
              <a:path w="25397" h="3172">
                <a:moveTo>
                  <a:pt x="13487" y="344"/>
                </a:moveTo>
                <a:lnTo>
                  <a:pt x="13172" y="275"/>
                </a:lnTo>
                <a:lnTo>
                  <a:pt x="12935" y="275"/>
                </a:lnTo>
                <a:lnTo>
                  <a:pt x="12698" y="344"/>
                </a:lnTo>
                <a:lnTo>
                  <a:pt x="12462" y="413"/>
                </a:lnTo>
                <a:lnTo>
                  <a:pt x="12225" y="344"/>
                </a:lnTo>
                <a:lnTo>
                  <a:pt x="11988" y="344"/>
                </a:lnTo>
                <a:lnTo>
                  <a:pt x="11752" y="275"/>
                </a:lnTo>
                <a:lnTo>
                  <a:pt x="11515" y="275"/>
                </a:lnTo>
                <a:lnTo>
                  <a:pt x="11279" y="275"/>
                </a:lnTo>
                <a:lnTo>
                  <a:pt x="11042" y="275"/>
                </a:lnTo>
                <a:lnTo>
                  <a:pt x="10805" y="344"/>
                </a:lnTo>
                <a:lnTo>
                  <a:pt x="10569" y="344"/>
                </a:lnTo>
                <a:lnTo>
                  <a:pt x="10332" y="344"/>
                </a:lnTo>
                <a:lnTo>
                  <a:pt x="10096" y="344"/>
                </a:lnTo>
                <a:lnTo>
                  <a:pt x="9859" y="344"/>
                </a:lnTo>
                <a:lnTo>
                  <a:pt x="9622" y="344"/>
                </a:lnTo>
                <a:lnTo>
                  <a:pt x="9386" y="344"/>
                </a:lnTo>
                <a:lnTo>
                  <a:pt x="9149" y="344"/>
                </a:lnTo>
                <a:lnTo>
                  <a:pt x="8913" y="344"/>
                </a:lnTo>
                <a:lnTo>
                  <a:pt x="8676" y="275"/>
                </a:lnTo>
                <a:lnTo>
                  <a:pt x="8439" y="206"/>
                </a:lnTo>
                <a:lnTo>
                  <a:pt x="8203" y="206"/>
                </a:lnTo>
                <a:lnTo>
                  <a:pt x="7966" y="275"/>
                </a:lnTo>
                <a:lnTo>
                  <a:pt x="7651" y="344"/>
                </a:lnTo>
                <a:lnTo>
                  <a:pt x="7335" y="413"/>
                </a:lnTo>
                <a:lnTo>
                  <a:pt x="7020" y="344"/>
                </a:lnTo>
                <a:lnTo>
                  <a:pt x="6704" y="275"/>
                </a:lnTo>
                <a:lnTo>
                  <a:pt x="6468" y="206"/>
                </a:lnTo>
                <a:lnTo>
                  <a:pt x="6230" y="206"/>
                </a:lnTo>
                <a:lnTo>
                  <a:pt x="5993" y="206"/>
                </a:lnTo>
                <a:lnTo>
                  <a:pt x="5757" y="206"/>
                </a:lnTo>
                <a:lnTo>
                  <a:pt x="5520" y="206"/>
                </a:lnTo>
                <a:lnTo>
                  <a:pt x="5284" y="275"/>
                </a:lnTo>
                <a:lnTo>
                  <a:pt x="5047" y="275"/>
                </a:lnTo>
                <a:lnTo>
                  <a:pt x="4810" y="275"/>
                </a:lnTo>
                <a:lnTo>
                  <a:pt x="4574" y="206"/>
                </a:lnTo>
                <a:lnTo>
                  <a:pt x="4337" y="137"/>
                </a:lnTo>
                <a:lnTo>
                  <a:pt x="4101" y="68"/>
                </a:lnTo>
                <a:lnTo>
                  <a:pt x="3864" y="0"/>
                </a:lnTo>
                <a:lnTo>
                  <a:pt x="3627" y="68"/>
                </a:lnTo>
                <a:lnTo>
                  <a:pt x="3391" y="68"/>
                </a:lnTo>
                <a:lnTo>
                  <a:pt x="3154" y="68"/>
                </a:lnTo>
                <a:lnTo>
                  <a:pt x="2918" y="68"/>
                </a:lnTo>
                <a:lnTo>
                  <a:pt x="2681" y="68"/>
                </a:lnTo>
                <a:lnTo>
                  <a:pt x="2444" y="68"/>
                </a:lnTo>
                <a:lnTo>
                  <a:pt x="2208" y="137"/>
                </a:lnTo>
                <a:lnTo>
                  <a:pt x="1971" y="275"/>
                </a:lnTo>
                <a:lnTo>
                  <a:pt x="1735" y="482"/>
                </a:lnTo>
                <a:lnTo>
                  <a:pt x="1498" y="620"/>
                </a:lnTo>
                <a:lnTo>
                  <a:pt x="1261" y="689"/>
                </a:lnTo>
                <a:lnTo>
                  <a:pt x="1025" y="689"/>
                </a:lnTo>
                <a:lnTo>
                  <a:pt x="788" y="689"/>
                </a:lnTo>
                <a:lnTo>
                  <a:pt x="552" y="689"/>
                </a:lnTo>
                <a:lnTo>
                  <a:pt x="315" y="758"/>
                </a:lnTo>
                <a:lnTo>
                  <a:pt x="78" y="758"/>
                </a:lnTo>
                <a:lnTo>
                  <a:pt x="0" y="965"/>
                </a:lnTo>
                <a:lnTo>
                  <a:pt x="0" y="1172"/>
                </a:lnTo>
                <a:lnTo>
                  <a:pt x="0" y="1379"/>
                </a:lnTo>
                <a:lnTo>
                  <a:pt x="236" y="1586"/>
                </a:lnTo>
                <a:lnTo>
                  <a:pt x="473" y="1724"/>
                </a:lnTo>
                <a:lnTo>
                  <a:pt x="709" y="1724"/>
                </a:lnTo>
                <a:lnTo>
                  <a:pt x="946" y="1724"/>
                </a:lnTo>
                <a:lnTo>
                  <a:pt x="1183" y="1724"/>
                </a:lnTo>
                <a:lnTo>
                  <a:pt x="1419" y="1724"/>
                </a:lnTo>
                <a:lnTo>
                  <a:pt x="1656" y="1793"/>
                </a:lnTo>
                <a:lnTo>
                  <a:pt x="1813" y="1999"/>
                </a:lnTo>
                <a:lnTo>
                  <a:pt x="1971" y="2206"/>
                </a:lnTo>
                <a:lnTo>
                  <a:pt x="2208" y="2344"/>
                </a:lnTo>
                <a:lnTo>
                  <a:pt x="2444" y="2344"/>
                </a:lnTo>
                <a:lnTo>
                  <a:pt x="2681" y="2275"/>
                </a:lnTo>
                <a:lnTo>
                  <a:pt x="2918" y="2206"/>
                </a:lnTo>
                <a:lnTo>
                  <a:pt x="3154" y="2137"/>
                </a:lnTo>
                <a:lnTo>
                  <a:pt x="3391" y="2137"/>
                </a:lnTo>
                <a:lnTo>
                  <a:pt x="3627" y="2275"/>
                </a:lnTo>
                <a:lnTo>
                  <a:pt x="3864" y="2414"/>
                </a:lnTo>
                <a:lnTo>
                  <a:pt x="4101" y="2483"/>
                </a:lnTo>
                <a:lnTo>
                  <a:pt x="4337" y="2483"/>
                </a:lnTo>
                <a:lnTo>
                  <a:pt x="4495" y="2690"/>
                </a:lnTo>
                <a:lnTo>
                  <a:pt x="4653" y="2896"/>
                </a:lnTo>
                <a:lnTo>
                  <a:pt x="4810" y="3103"/>
                </a:lnTo>
                <a:lnTo>
                  <a:pt x="5047" y="3172"/>
                </a:lnTo>
                <a:lnTo>
                  <a:pt x="5126" y="2965"/>
                </a:lnTo>
                <a:lnTo>
                  <a:pt x="5126" y="2759"/>
                </a:lnTo>
                <a:lnTo>
                  <a:pt x="5363" y="2690"/>
                </a:lnTo>
                <a:lnTo>
                  <a:pt x="5599" y="2690"/>
                </a:lnTo>
                <a:lnTo>
                  <a:pt x="5836" y="2896"/>
                </a:lnTo>
                <a:lnTo>
                  <a:pt x="6072" y="2965"/>
                </a:lnTo>
                <a:lnTo>
                  <a:pt x="6309" y="3034"/>
                </a:lnTo>
                <a:lnTo>
                  <a:pt x="6547" y="2965"/>
                </a:lnTo>
                <a:lnTo>
                  <a:pt x="6783" y="2759"/>
                </a:lnTo>
                <a:lnTo>
                  <a:pt x="7020" y="2759"/>
                </a:lnTo>
                <a:lnTo>
                  <a:pt x="7256" y="2759"/>
                </a:lnTo>
                <a:lnTo>
                  <a:pt x="7493" y="2827"/>
                </a:lnTo>
                <a:lnTo>
                  <a:pt x="7808" y="3034"/>
                </a:lnTo>
                <a:lnTo>
                  <a:pt x="8045" y="3103"/>
                </a:lnTo>
                <a:lnTo>
                  <a:pt x="8282" y="3172"/>
                </a:lnTo>
                <a:lnTo>
                  <a:pt x="8518" y="2965"/>
                </a:lnTo>
                <a:lnTo>
                  <a:pt x="8755" y="2896"/>
                </a:lnTo>
                <a:lnTo>
                  <a:pt x="8991" y="2827"/>
                </a:lnTo>
                <a:lnTo>
                  <a:pt x="9228" y="2759"/>
                </a:lnTo>
                <a:lnTo>
                  <a:pt x="9465" y="2690"/>
                </a:lnTo>
                <a:lnTo>
                  <a:pt x="9701" y="2621"/>
                </a:lnTo>
                <a:lnTo>
                  <a:pt x="9938" y="2621"/>
                </a:lnTo>
                <a:lnTo>
                  <a:pt x="10175" y="2621"/>
                </a:lnTo>
                <a:lnTo>
                  <a:pt x="10411" y="2690"/>
                </a:lnTo>
                <a:lnTo>
                  <a:pt x="10648" y="2759"/>
                </a:lnTo>
                <a:lnTo>
                  <a:pt x="10884" y="2827"/>
                </a:lnTo>
                <a:lnTo>
                  <a:pt x="11121" y="2827"/>
                </a:lnTo>
                <a:lnTo>
                  <a:pt x="11358" y="2896"/>
                </a:lnTo>
                <a:lnTo>
                  <a:pt x="11594" y="2896"/>
                </a:lnTo>
                <a:lnTo>
                  <a:pt x="11910" y="2827"/>
                </a:lnTo>
                <a:lnTo>
                  <a:pt x="12146" y="2759"/>
                </a:lnTo>
                <a:lnTo>
                  <a:pt x="12383" y="2690"/>
                </a:lnTo>
                <a:lnTo>
                  <a:pt x="12619" y="2690"/>
                </a:lnTo>
                <a:lnTo>
                  <a:pt x="12856" y="2621"/>
                </a:lnTo>
                <a:lnTo>
                  <a:pt x="13093" y="2552"/>
                </a:lnTo>
                <a:lnTo>
                  <a:pt x="13329" y="2483"/>
                </a:lnTo>
                <a:lnTo>
                  <a:pt x="13566" y="2414"/>
                </a:lnTo>
                <a:lnTo>
                  <a:pt x="13802" y="2344"/>
                </a:lnTo>
                <a:lnTo>
                  <a:pt x="14039" y="2275"/>
                </a:lnTo>
                <a:lnTo>
                  <a:pt x="14276" y="2275"/>
                </a:lnTo>
                <a:lnTo>
                  <a:pt x="14512" y="2275"/>
                </a:lnTo>
                <a:lnTo>
                  <a:pt x="14749" y="2275"/>
                </a:lnTo>
                <a:lnTo>
                  <a:pt x="14985" y="2275"/>
                </a:lnTo>
                <a:lnTo>
                  <a:pt x="15222" y="2344"/>
                </a:lnTo>
                <a:lnTo>
                  <a:pt x="15459" y="2414"/>
                </a:lnTo>
                <a:lnTo>
                  <a:pt x="15695" y="2483"/>
                </a:lnTo>
                <a:lnTo>
                  <a:pt x="15932" y="2483"/>
                </a:lnTo>
                <a:lnTo>
                  <a:pt x="16169" y="2483"/>
                </a:lnTo>
                <a:lnTo>
                  <a:pt x="16484" y="2483"/>
                </a:lnTo>
                <a:lnTo>
                  <a:pt x="16799" y="2344"/>
                </a:lnTo>
                <a:lnTo>
                  <a:pt x="17036" y="2275"/>
                </a:lnTo>
                <a:lnTo>
                  <a:pt x="17273" y="2206"/>
                </a:lnTo>
                <a:lnTo>
                  <a:pt x="17588" y="2206"/>
                </a:lnTo>
                <a:lnTo>
                  <a:pt x="17904" y="2275"/>
                </a:lnTo>
                <a:lnTo>
                  <a:pt x="18219" y="2344"/>
                </a:lnTo>
                <a:lnTo>
                  <a:pt x="18456" y="2483"/>
                </a:lnTo>
                <a:lnTo>
                  <a:pt x="18692" y="2552"/>
                </a:lnTo>
                <a:lnTo>
                  <a:pt x="18929" y="2621"/>
                </a:lnTo>
                <a:lnTo>
                  <a:pt x="19166" y="2621"/>
                </a:lnTo>
                <a:lnTo>
                  <a:pt x="19482" y="2483"/>
                </a:lnTo>
                <a:lnTo>
                  <a:pt x="19719" y="2414"/>
                </a:lnTo>
                <a:lnTo>
                  <a:pt x="19955" y="2275"/>
                </a:lnTo>
                <a:lnTo>
                  <a:pt x="20192" y="2206"/>
                </a:lnTo>
                <a:lnTo>
                  <a:pt x="20428" y="2206"/>
                </a:lnTo>
                <a:lnTo>
                  <a:pt x="20744" y="2206"/>
                </a:lnTo>
                <a:lnTo>
                  <a:pt x="21059" y="2206"/>
                </a:lnTo>
                <a:lnTo>
                  <a:pt x="21375" y="2206"/>
                </a:lnTo>
                <a:lnTo>
                  <a:pt x="21611" y="2275"/>
                </a:lnTo>
                <a:lnTo>
                  <a:pt x="21848" y="2275"/>
                </a:lnTo>
                <a:lnTo>
                  <a:pt x="22085" y="2344"/>
                </a:lnTo>
                <a:lnTo>
                  <a:pt x="22321" y="2344"/>
                </a:lnTo>
                <a:lnTo>
                  <a:pt x="22637" y="2344"/>
                </a:lnTo>
                <a:lnTo>
                  <a:pt x="22952" y="2344"/>
                </a:lnTo>
                <a:lnTo>
                  <a:pt x="23189" y="2206"/>
                </a:lnTo>
                <a:lnTo>
                  <a:pt x="23425" y="2137"/>
                </a:lnTo>
                <a:lnTo>
                  <a:pt x="23662" y="2137"/>
                </a:lnTo>
                <a:lnTo>
                  <a:pt x="23899" y="2137"/>
                </a:lnTo>
                <a:lnTo>
                  <a:pt x="24135" y="2137"/>
                </a:lnTo>
                <a:lnTo>
                  <a:pt x="24372" y="2137"/>
                </a:lnTo>
                <a:lnTo>
                  <a:pt x="24608" y="2068"/>
                </a:lnTo>
                <a:lnTo>
                  <a:pt x="24845" y="1999"/>
                </a:lnTo>
                <a:lnTo>
                  <a:pt x="25082" y="1930"/>
                </a:lnTo>
                <a:lnTo>
                  <a:pt x="25318" y="1793"/>
                </a:lnTo>
                <a:lnTo>
                  <a:pt x="25397" y="1586"/>
                </a:lnTo>
                <a:lnTo>
                  <a:pt x="25397" y="1379"/>
                </a:lnTo>
                <a:lnTo>
                  <a:pt x="25318" y="1172"/>
                </a:lnTo>
                <a:lnTo>
                  <a:pt x="25082" y="965"/>
                </a:lnTo>
                <a:lnTo>
                  <a:pt x="24845" y="965"/>
                </a:lnTo>
                <a:lnTo>
                  <a:pt x="24608" y="897"/>
                </a:lnTo>
                <a:lnTo>
                  <a:pt x="24372" y="897"/>
                </a:lnTo>
                <a:lnTo>
                  <a:pt x="24135" y="828"/>
                </a:lnTo>
                <a:lnTo>
                  <a:pt x="23820" y="689"/>
                </a:lnTo>
                <a:lnTo>
                  <a:pt x="23583" y="620"/>
                </a:lnTo>
                <a:lnTo>
                  <a:pt x="23347" y="482"/>
                </a:lnTo>
                <a:lnTo>
                  <a:pt x="23110" y="413"/>
                </a:lnTo>
                <a:lnTo>
                  <a:pt x="22873" y="344"/>
                </a:lnTo>
                <a:lnTo>
                  <a:pt x="22637" y="413"/>
                </a:lnTo>
                <a:lnTo>
                  <a:pt x="22400" y="413"/>
                </a:lnTo>
                <a:lnTo>
                  <a:pt x="22163" y="413"/>
                </a:lnTo>
                <a:lnTo>
                  <a:pt x="21927" y="413"/>
                </a:lnTo>
                <a:lnTo>
                  <a:pt x="21690" y="413"/>
                </a:lnTo>
                <a:lnTo>
                  <a:pt x="21454" y="413"/>
                </a:lnTo>
                <a:lnTo>
                  <a:pt x="21217" y="413"/>
                </a:lnTo>
                <a:lnTo>
                  <a:pt x="20980" y="482"/>
                </a:lnTo>
                <a:lnTo>
                  <a:pt x="20744" y="482"/>
                </a:lnTo>
                <a:lnTo>
                  <a:pt x="20507" y="413"/>
                </a:lnTo>
                <a:lnTo>
                  <a:pt x="20271" y="413"/>
                </a:lnTo>
                <a:lnTo>
                  <a:pt x="20034" y="344"/>
                </a:lnTo>
                <a:lnTo>
                  <a:pt x="19797" y="344"/>
                </a:lnTo>
                <a:lnTo>
                  <a:pt x="19482" y="413"/>
                </a:lnTo>
                <a:lnTo>
                  <a:pt x="19245" y="482"/>
                </a:lnTo>
                <a:lnTo>
                  <a:pt x="19008" y="482"/>
                </a:lnTo>
                <a:lnTo>
                  <a:pt x="18771" y="482"/>
                </a:lnTo>
                <a:lnTo>
                  <a:pt x="18535" y="551"/>
                </a:lnTo>
                <a:lnTo>
                  <a:pt x="18298" y="551"/>
                </a:lnTo>
                <a:lnTo>
                  <a:pt x="17982" y="551"/>
                </a:lnTo>
                <a:lnTo>
                  <a:pt x="17746" y="551"/>
                </a:lnTo>
                <a:lnTo>
                  <a:pt x="17430" y="551"/>
                </a:lnTo>
                <a:lnTo>
                  <a:pt x="17115" y="413"/>
                </a:lnTo>
                <a:lnTo>
                  <a:pt x="16878" y="413"/>
                </a:lnTo>
                <a:lnTo>
                  <a:pt x="16642" y="413"/>
                </a:lnTo>
                <a:lnTo>
                  <a:pt x="16326" y="413"/>
                </a:lnTo>
                <a:lnTo>
                  <a:pt x="16011" y="413"/>
                </a:lnTo>
                <a:lnTo>
                  <a:pt x="15774" y="482"/>
                </a:lnTo>
                <a:lnTo>
                  <a:pt x="15538" y="551"/>
                </a:lnTo>
                <a:lnTo>
                  <a:pt x="15301" y="482"/>
                </a:lnTo>
                <a:lnTo>
                  <a:pt x="15064" y="482"/>
                </a:lnTo>
                <a:lnTo>
                  <a:pt x="14828" y="413"/>
                </a:lnTo>
                <a:lnTo>
                  <a:pt x="14591" y="413"/>
                </a:lnTo>
                <a:lnTo>
                  <a:pt x="14355" y="413"/>
                </a:lnTo>
                <a:lnTo>
                  <a:pt x="14118" y="413"/>
                </a:lnTo>
                <a:lnTo>
                  <a:pt x="13881" y="413"/>
                </a:lnTo>
                <a:lnTo>
                  <a:pt x="13487" y="3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3657600" y="1066680"/>
            <a:ext cx="1600200" cy="919440"/>
            <a:chOff x="3657600" y="1066680"/>
            <a:chExt cx="1600200" cy="919440"/>
          </a:xfrm>
        </p:grpSpPr>
        <p:sp>
          <p:nvSpPr>
            <p:cNvPr id="1207" name=""/>
            <p:cNvSpPr/>
            <p:nvPr/>
          </p:nvSpPr>
          <p:spPr>
            <a:xfrm>
              <a:off x="37468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794" y="217"/>
                  </a:moveTo>
                  <a:lnTo>
                    <a:pt x="612" y="0"/>
                  </a:lnTo>
                  <a:lnTo>
                    <a:pt x="0" y="699"/>
                  </a:lnTo>
                  <a:lnTo>
                    <a:pt x="794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574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0" y="217"/>
                  </a:moveTo>
                  <a:lnTo>
                    <a:pt x="181" y="0"/>
                  </a:lnTo>
                  <a:lnTo>
                    <a:pt x="794" y="699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57600" y="1066680"/>
              <a:ext cx="1600200" cy="83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29040" y="169560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93" y="159"/>
                  </a:moveTo>
                  <a:lnTo>
                    <a:pt x="0" y="133"/>
                  </a:lnTo>
                  <a:lnTo>
                    <a:pt x="0" y="172"/>
                  </a:lnTo>
                  <a:lnTo>
                    <a:pt x="0" y="212"/>
                  </a:lnTo>
                  <a:lnTo>
                    <a:pt x="0" y="253"/>
                  </a:lnTo>
                  <a:lnTo>
                    <a:pt x="0" y="293"/>
                  </a:lnTo>
                  <a:lnTo>
                    <a:pt x="13" y="332"/>
                  </a:lnTo>
                  <a:lnTo>
                    <a:pt x="52" y="332"/>
                  </a:lnTo>
                  <a:lnTo>
                    <a:pt x="93" y="332"/>
                  </a:lnTo>
                  <a:lnTo>
                    <a:pt x="133" y="332"/>
                  </a:lnTo>
                  <a:lnTo>
                    <a:pt x="172" y="332"/>
                  </a:lnTo>
                  <a:lnTo>
                    <a:pt x="212" y="332"/>
                  </a:lnTo>
                  <a:lnTo>
                    <a:pt x="252" y="332"/>
                  </a:lnTo>
                  <a:lnTo>
                    <a:pt x="293" y="319"/>
                  </a:lnTo>
                  <a:lnTo>
                    <a:pt x="332" y="293"/>
                  </a:lnTo>
                  <a:lnTo>
                    <a:pt x="345" y="253"/>
                  </a:lnTo>
                  <a:lnTo>
                    <a:pt x="345" y="212"/>
                  </a:lnTo>
                  <a:lnTo>
                    <a:pt x="345" y="172"/>
                  </a:lnTo>
                  <a:lnTo>
                    <a:pt x="332" y="133"/>
                  </a:lnTo>
                  <a:lnTo>
                    <a:pt x="319" y="79"/>
                  </a:lnTo>
                  <a:lnTo>
                    <a:pt x="279" y="39"/>
                  </a:lnTo>
                  <a:lnTo>
                    <a:pt x="239" y="13"/>
                  </a:lnTo>
                  <a:lnTo>
                    <a:pt x="199" y="0"/>
                  </a:lnTo>
                  <a:lnTo>
                    <a:pt x="159" y="0"/>
                  </a:lnTo>
                  <a:lnTo>
                    <a:pt x="120" y="13"/>
                  </a:lnTo>
                  <a:lnTo>
                    <a:pt x="79" y="26"/>
                  </a:lnTo>
                  <a:lnTo>
                    <a:pt x="52" y="66"/>
                  </a:lnTo>
                  <a:lnTo>
                    <a:pt x="39" y="106"/>
                  </a:lnTo>
                  <a:lnTo>
                    <a:pt x="93" y="159"/>
                  </a:lnTo>
                  <a:lnTo>
                    <a:pt x="26" y="120"/>
                  </a:lnTo>
                  <a:lnTo>
                    <a:pt x="93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56040" y="171288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252" y="159"/>
                  </a:moveTo>
                  <a:lnTo>
                    <a:pt x="345" y="133"/>
                  </a:lnTo>
                  <a:lnTo>
                    <a:pt x="345" y="172"/>
                  </a:lnTo>
                  <a:lnTo>
                    <a:pt x="345" y="212"/>
                  </a:lnTo>
                  <a:lnTo>
                    <a:pt x="345" y="253"/>
                  </a:lnTo>
                  <a:lnTo>
                    <a:pt x="345" y="293"/>
                  </a:lnTo>
                  <a:lnTo>
                    <a:pt x="332" y="332"/>
                  </a:lnTo>
                  <a:lnTo>
                    <a:pt x="293" y="332"/>
                  </a:lnTo>
                  <a:lnTo>
                    <a:pt x="252" y="332"/>
                  </a:lnTo>
                  <a:lnTo>
                    <a:pt x="212" y="332"/>
                  </a:lnTo>
                  <a:lnTo>
                    <a:pt x="172" y="332"/>
                  </a:lnTo>
                  <a:lnTo>
                    <a:pt x="133" y="332"/>
                  </a:lnTo>
                  <a:lnTo>
                    <a:pt x="93" y="332"/>
                  </a:lnTo>
                  <a:lnTo>
                    <a:pt x="52" y="319"/>
                  </a:lnTo>
                  <a:lnTo>
                    <a:pt x="13" y="293"/>
                  </a:lnTo>
                  <a:lnTo>
                    <a:pt x="0" y="253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13" y="133"/>
                  </a:lnTo>
                  <a:lnTo>
                    <a:pt x="26" y="79"/>
                  </a:lnTo>
                  <a:lnTo>
                    <a:pt x="66" y="39"/>
                  </a:lnTo>
                  <a:lnTo>
                    <a:pt x="106" y="13"/>
                  </a:lnTo>
                  <a:lnTo>
                    <a:pt x="146" y="0"/>
                  </a:lnTo>
                  <a:lnTo>
                    <a:pt x="186" y="0"/>
                  </a:lnTo>
                  <a:lnTo>
                    <a:pt x="225" y="13"/>
                  </a:lnTo>
                  <a:lnTo>
                    <a:pt x="266" y="26"/>
                  </a:lnTo>
                  <a:lnTo>
                    <a:pt x="293" y="66"/>
                  </a:lnTo>
                  <a:lnTo>
                    <a:pt x="306" y="106"/>
                  </a:lnTo>
                  <a:lnTo>
                    <a:pt x="252" y="159"/>
                  </a:lnTo>
                  <a:lnTo>
                    <a:pt x="319" y="120"/>
                  </a:lnTo>
                  <a:lnTo>
                    <a:pt x="25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"/>
          <p:cNvSpPr txBox="1"/>
          <p:nvPr/>
        </p:nvSpPr>
        <p:spPr>
          <a:xfrm>
            <a:off x="4000680" y="1143000"/>
            <a:ext cx="1143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590920" y="1905120"/>
            <a:ext cx="3781440" cy="4267440"/>
            <a:chOff x="2590920" y="1905120"/>
            <a:chExt cx="3781440" cy="4267440"/>
          </a:xfrm>
        </p:grpSpPr>
        <p:grpSp>
          <p:nvGrpSpPr>
            <p:cNvPr id="1214" name=""/>
            <p:cNvGrpSpPr/>
            <p:nvPr/>
          </p:nvGrpSpPr>
          <p:grpSpPr>
            <a:xfrm>
              <a:off x="2590920" y="4554360"/>
              <a:ext cx="1335240" cy="1608840"/>
              <a:chOff x="2590920" y="4554360"/>
              <a:chExt cx="1335240" cy="1608840"/>
            </a:xfrm>
          </p:grpSpPr>
          <p:sp>
            <p:nvSpPr>
              <p:cNvPr id="1215" name=""/>
              <p:cNvSpPr/>
              <p:nvPr/>
            </p:nvSpPr>
            <p:spPr>
              <a:xfrm>
                <a:off x="301140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2623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909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3456000" y="3516480"/>
              <a:ext cx="564120" cy="1181880"/>
              <a:chOff x="3456000" y="3516480"/>
              <a:chExt cx="564120" cy="1181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3456000" y="3516480"/>
                <a:ext cx="532080" cy="1008360"/>
              </a:xfrm>
              <a:custGeom>
                <a:avLst/>
                <a:gdLst/>
                <a:ahLst/>
                <a:rect l="0" t="0" r="r" b="b"/>
                <a:pathLst>
                  <a:path w="1478" h="2801">
                    <a:moveTo>
                      <a:pt x="163" y="0"/>
                    </a:moveTo>
                    <a:lnTo>
                      <a:pt x="35" y="114"/>
                    </a:lnTo>
                    <a:lnTo>
                      <a:pt x="0" y="392"/>
                    </a:lnTo>
                    <a:lnTo>
                      <a:pt x="282" y="1133"/>
                    </a:lnTo>
                    <a:lnTo>
                      <a:pt x="772" y="2801"/>
                    </a:lnTo>
                    <a:lnTo>
                      <a:pt x="1478" y="2571"/>
                    </a:lnTo>
                    <a:lnTo>
                      <a:pt x="971" y="1164"/>
                    </a:lnTo>
                    <a:lnTo>
                      <a:pt x="467" y="17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762360" y="4435200"/>
                <a:ext cx="257760" cy="263160"/>
              </a:xfrm>
              <a:custGeom>
                <a:avLst/>
                <a:gdLst/>
                <a:ahLst/>
                <a:rect l="0" t="0" r="r" b="b"/>
                <a:pathLst>
                  <a:path w="716" h="731">
                    <a:moveTo>
                      <a:pt x="586" y="665"/>
                    </a:moveTo>
                    <a:lnTo>
                      <a:pt x="586" y="665"/>
                    </a:lnTo>
                    <a:cubicBezTo>
                      <a:pt x="634" y="628"/>
                      <a:pt x="671" y="579"/>
                      <a:pt x="693" y="521"/>
                    </a:cubicBezTo>
                    <a:cubicBezTo>
                      <a:pt x="716" y="463"/>
                      <a:pt x="722" y="398"/>
                      <a:pt x="712" y="334"/>
                    </a:cubicBezTo>
                    <a:cubicBezTo>
                      <a:pt x="702" y="270"/>
                      <a:pt x="676" y="209"/>
                      <a:pt x="636" y="156"/>
                    </a:cubicBezTo>
                    <a:cubicBezTo>
                      <a:pt x="596" y="104"/>
                      <a:pt x="545" y="62"/>
                      <a:pt x="486" y="34"/>
                    </a:cubicBezTo>
                    <a:cubicBezTo>
                      <a:pt x="427" y="7"/>
                      <a:pt x="364" y="-4"/>
                      <a:pt x="301" y="1"/>
                    </a:cubicBezTo>
                    <a:cubicBezTo>
                      <a:pt x="239" y="6"/>
                      <a:pt x="181" y="29"/>
                      <a:pt x="132" y="65"/>
                    </a:cubicBezTo>
                    <a:cubicBezTo>
                      <a:pt x="132" y="66"/>
                      <a:pt x="132" y="66"/>
                      <a:pt x="131" y="66"/>
                    </a:cubicBezTo>
                    <a:lnTo>
                      <a:pt x="131" y="66"/>
                    </a:lnTo>
                    <a:cubicBezTo>
                      <a:pt x="83" y="103"/>
                      <a:pt x="46" y="152"/>
                      <a:pt x="24" y="210"/>
                    </a:cubicBezTo>
                    <a:cubicBezTo>
                      <a:pt x="1" y="268"/>
                      <a:pt x="-5" y="333"/>
                      <a:pt x="5" y="397"/>
                    </a:cubicBezTo>
                    <a:cubicBezTo>
                      <a:pt x="15" y="461"/>
                      <a:pt x="41" y="522"/>
                      <a:pt x="81" y="575"/>
                    </a:cubicBezTo>
                    <a:cubicBezTo>
                      <a:pt x="121" y="627"/>
                      <a:pt x="172" y="669"/>
                      <a:pt x="231" y="697"/>
                    </a:cubicBezTo>
                    <a:cubicBezTo>
                      <a:pt x="290" y="724"/>
                      <a:pt x="353" y="735"/>
                      <a:pt x="416" y="730"/>
                    </a:cubicBezTo>
                    <a:cubicBezTo>
                      <a:pt x="478" y="725"/>
                      <a:pt x="536" y="702"/>
                      <a:pt x="585" y="666"/>
                    </a:cubicBezTo>
                    <a:cubicBezTo>
                      <a:pt x="585" y="665"/>
                      <a:pt x="585" y="665"/>
                      <a:pt x="586" y="6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2833560" y="1905120"/>
              <a:ext cx="954000" cy="2823120"/>
              <a:chOff x="2833560" y="1905120"/>
              <a:chExt cx="954000" cy="2823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83356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2901960" y="1905120"/>
                <a:ext cx="885600" cy="1606680"/>
                <a:chOff x="2901960" y="1905120"/>
                <a:chExt cx="885600" cy="160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90196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42576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04812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23388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59424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3481560" y="1930320"/>
                  <a:ext cx="612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 flipV="1">
                  <a:off x="337176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 flipV="1">
                  <a:off x="3211560" y="1905120"/>
                  <a:ext cx="3312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 flipV="1">
                  <a:off x="3052800" y="1946160"/>
                  <a:ext cx="4932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>
                  <a:off x="292752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11940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17016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4812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7" name=""/>
            <p:cNvGrpSpPr/>
            <p:nvPr/>
          </p:nvGrpSpPr>
          <p:grpSpPr>
            <a:xfrm>
              <a:off x="5020560" y="3524400"/>
              <a:ext cx="453240" cy="1220760"/>
              <a:chOff x="5020560" y="3524400"/>
              <a:chExt cx="453240" cy="1220760"/>
            </a:xfrm>
          </p:grpSpPr>
          <p:sp>
            <p:nvSpPr>
              <p:cNvPr id="1238" name=""/>
              <p:cNvSpPr/>
              <p:nvPr/>
            </p:nvSpPr>
            <p:spPr>
              <a:xfrm>
                <a:off x="5038560" y="3524400"/>
                <a:ext cx="435240" cy="1027440"/>
              </a:xfrm>
              <a:custGeom>
                <a:avLst/>
                <a:gdLst/>
                <a:ahLst/>
                <a:rect l="0" t="0" r="r" b="b"/>
                <a:pathLst>
                  <a:path w="1209" h="2854">
                    <a:moveTo>
                      <a:pt x="1002" y="0"/>
                    </a:moveTo>
                    <a:lnTo>
                      <a:pt x="1147" y="101"/>
                    </a:lnTo>
                    <a:lnTo>
                      <a:pt x="1209" y="370"/>
                    </a:lnTo>
                    <a:lnTo>
                      <a:pt x="1015" y="1142"/>
                    </a:lnTo>
                    <a:lnTo>
                      <a:pt x="728" y="2854"/>
                    </a:lnTo>
                    <a:lnTo>
                      <a:pt x="0" y="2712"/>
                    </a:lnTo>
                    <a:lnTo>
                      <a:pt x="339" y="1252"/>
                    </a:lnTo>
                    <a:lnTo>
                      <a:pt x="724" y="207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0560" y="4478760"/>
                <a:ext cx="254160" cy="266400"/>
              </a:xfrm>
              <a:custGeom>
                <a:avLst/>
                <a:gdLst/>
                <a:ahLst/>
                <a:rect l="0" t="0" r="r" b="b"/>
                <a:pathLst>
                  <a:path w="706" h="740">
                    <a:moveTo>
                      <a:pt x="545" y="44"/>
                    </a:moveTo>
                    <a:lnTo>
                      <a:pt x="545" y="44"/>
                    </a:lnTo>
                    <a:cubicBezTo>
                      <a:pt x="544" y="44"/>
                      <a:pt x="543" y="43"/>
                      <a:pt x="542" y="42"/>
                    </a:cubicBezTo>
                    <a:cubicBezTo>
                      <a:pt x="489" y="12"/>
                      <a:pt x="429" y="-2"/>
                      <a:pt x="367" y="0"/>
                    </a:cubicBezTo>
                    <a:cubicBezTo>
                      <a:pt x="305" y="3"/>
                      <a:pt x="244" y="23"/>
                      <a:pt x="189" y="57"/>
                    </a:cubicBezTo>
                    <a:cubicBezTo>
                      <a:pt x="134" y="92"/>
                      <a:pt x="88" y="140"/>
                      <a:pt x="54" y="198"/>
                    </a:cubicBezTo>
                    <a:cubicBezTo>
                      <a:pt x="21" y="255"/>
                      <a:pt x="2" y="320"/>
                      <a:pt x="0" y="385"/>
                    </a:cubicBezTo>
                    <a:cubicBezTo>
                      <a:pt x="-3" y="450"/>
                      <a:pt x="11" y="513"/>
                      <a:pt x="40" y="568"/>
                    </a:cubicBezTo>
                    <a:cubicBezTo>
                      <a:pt x="68" y="622"/>
                      <a:pt x="109" y="666"/>
                      <a:pt x="160" y="696"/>
                    </a:cubicBezTo>
                    <a:lnTo>
                      <a:pt x="160" y="696"/>
                    </a:lnTo>
                    <a:cubicBezTo>
                      <a:pt x="161" y="696"/>
                      <a:pt x="162" y="697"/>
                      <a:pt x="163" y="698"/>
                    </a:cubicBezTo>
                    <a:cubicBezTo>
                      <a:pt x="216" y="728"/>
                      <a:pt x="276" y="742"/>
                      <a:pt x="338" y="740"/>
                    </a:cubicBezTo>
                    <a:cubicBezTo>
                      <a:pt x="400" y="737"/>
                      <a:pt x="461" y="717"/>
                      <a:pt x="516" y="683"/>
                    </a:cubicBezTo>
                    <a:cubicBezTo>
                      <a:pt x="571" y="648"/>
                      <a:pt x="617" y="600"/>
                      <a:pt x="651" y="542"/>
                    </a:cubicBezTo>
                    <a:cubicBezTo>
                      <a:pt x="684" y="485"/>
                      <a:pt x="703" y="420"/>
                      <a:pt x="705" y="355"/>
                    </a:cubicBezTo>
                    <a:cubicBezTo>
                      <a:pt x="708" y="290"/>
                      <a:pt x="694" y="227"/>
                      <a:pt x="665" y="172"/>
                    </a:cubicBezTo>
                    <a:cubicBezTo>
                      <a:pt x="637" y="118"/>
                      <a:pt x="596" y="74"/>
                      <a:pt x="54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2654280" y="3495600"/>
              <a:ext cx="449640" cy="1243440"/>
              <a:chOff x="2654280" y="3495600"/>
              <a:chExt cx="449640" cy="1243440"/>
            </a:xfrm>
          </p:grpSpPr>
          <p:sp>
            <p:nvSpPr>
              <p:cNvPr id="1241" name=""/>
              <p:cNvSpPr/>
              <p:nvPr/>
            </p:nvSpPr>
            <p:spPr>
              <a:xfrm>
                <a:off x="267480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65428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037120" y="1914480"/>
              <a:ext cx="1335240" cy="4258080"/>
              <a:chOff x="5037120" y="1914480"/>
              <a:chExt cx="1335240" cy="425808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5037120" y="4564080"/>
                <a:ext cx="1335240" cy="1608480"/>
                <a:chOff x="5037120" y="4564080"/>
                <a:chExt cx="1335240" cy="160848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5373720" y="456408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0371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7085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5175360" y="1914480"/>
                <a:ext cx="954360" cy="2821680"/>
                <a:chOff x="5175360" y="1914480"/>
                <a:chExt cx="954360" cy="282168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5264280" y="335772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0" name=""/>
                <p:cNvGrpSpPr/>
                <p:nvPr/>
              </p:nvGrpSpPr>
              <p:grpSpPr>
                <a:xfrm>
                  <a:off x="5175360" y="1914480"/>
                  <a:ext cx="886320" cy="1566000"/>
                  <a:chOff x="5175360" y="1914480"/>
                  <a:chExt cx="886320" cy="156600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5272200" y="211788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175360" y="250020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5486400" y="246708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654520" y="263988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5292720" y="264780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5475240" y="1940040"/>
                    <a:ext cx="648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V="1">
                    <a:off x="5575320" y="1922400"/>
                    <a:ext cx="1584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flipV="1">
                    <a:off x="5718240" y="1914480"/>
                    <a:ext cx="33120" cy="19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V="1">
                    <a:off x="5861160" y="1955880"/>
                    <a:ext cx="48960" cy="171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flipV="1">
                    <a:off x="5987880" y="1979640"/>
                    <a:ext cx="47880" cy="155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5264280" y="293832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2" name=""/>
                <p:cNvSpPr/>
                <p:nvPr/>
              </p:nvSpPr>
              <p:spPr>
                <a:xfrm>
                  <a:off x="5524560" y="336564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5859360" y="3505320"/>
                <a:ext cx="449280" cy="1243080"/>
                <a:chOff x="5859360" y="3505320"/>
                <a:chExt cx="449280" cy="12430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859360" y="3505320"/>
                  <a:ext cx="429120" cy="1026000"/>
                </a:xfrm>
                <a:custGeom>
                  <a:avLst/>
                  <a:gdLst/>
                  <a:ahLst/>
                  <a:rect l="0" t="0" r="r" b="b"/>
                  <a:pathLst>
                    <a:path w="1192" h="2850">
                      <a:moveTo>
                        <a:pt x="210" y="0"/>
                      </a:moveTo>
                      <a:lnTo>
                        <a:pt x="70" y="91"/>
                      </a:lnTo>
                      <a:lnTo>
                        <a:pt x="0" y="364"/>
                      </a:lnTo>
                      <a:lnTo>
                        <a:pt x="186" y="1140"/>
                      </a:lnTo>
                      <a:lnTo>
                        <a:pt x="467" y="2850"/>
                      </a:lnTo>
                      <a:lnTo>
                        <a:pt x="1192" y="2713"/>
                      </a:lnTo>
                      <a:lnTo>
                        <a:pt x="864" y="1254"/>
                      </a:lnTo>
                      <a:lnTo>
                        <a:pt x="491" y="205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040440" y="4502160"/>
                  <a:ext cx="268200" cy="246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"/>
              <p:cNvSpPr/>
              <p:nvPr/>
            </p:nvSpPr>
            <p:spPr>
              <a:xfrm>
                <a:off x="5495760" y="4233960"/>
                <a:ext cx="371880" cy="562320"/>
              </a:xfrm>
              <a:custGeom>
                <a:avLst/>
                <a:gdLst/>
                <a:ahLst/>
                <a:rect l="0" t="0" r="r" b="b"/>
                <a:pathLst>
                  <a:path w="1033" h="1562">
                    <a:moveTo>
                      <a:pt x="264" y="62"/>
                    </a:moveTo>
                    <a:lnTo>
                      <a:pt x="317" y="22"/>
                    </a:lnTo>
                    <a:lnTo>
                      <a:pt x="370" y="0"/>
                    </a:lnTo>
                    <a:lnTo>
                      <a:pt x="423" y="22"/>
                    </a:lnTo>
                    <a:lnTo>
                      <a:pt x="505" y="40"/>
                    </a:lnTo>
                    <a:lnTo>
                      <a:pt x="634" y="0"/>
                    </a:lnTo>
                    <a:lnTo>
                      <a:pt x="686" y="0"/>
                    </a:lnTo>
                    <a:lnTo>
                      <a:pt x="769" y="0"/>
                    </a:lnTo>
                    <a:lnTo>
                      <a:pt x="769" y="62"/>
                    </a:lnTo>
                    <a:lnTo>
                      <a:pt x="769" y="80"/>
                    </a:lnTo>
                    <a:lnTo>
                      <a:pt x="686" y="142"/>
                    </a:lnTo>
                    <a:lnTo>
                      <a:pt x="716" y="227"/>
                    </a:lnTo>
                    <a:lnTo>
                      <a:pt x="716" y="289"/>
                    </a:lnTo>
                    <a:lnTo>
                      <a:pt x="769" y="330"/>
                    </a:lnTo>
                    <a:lnTo>
                      <a:pt x="822" y="392"/>
                    </a:lnTo>
                    <a:lnTo>
                      <a:pt x="793" y="535"/>
                    </a:lnTo>
                    <a:lnTo>
                      <a:pt x="739" y="637"/>
                    </a:lnTo>
                    <a:lnTo>
                      <a:pt x="793" y="700"/>
                    </a:lnTo>
                    <a:lnTo>
                      <a:pt x="875" y="780"/>
                    </a:lnTo>
                    <a:lnTo>
                      <a:pt x="951" y="861"/>
                    </a:lnTo>
                    <a:lnTo>
                      <a:pt x="981" y="924"/>
                    </a:lnTo>
                    <a:lnTo>
                      <a:pt x="1004" y="986"/>
                    </a:lnTo>
                    <a:lnTo>
                      <a:pt x="1033" y="1026"/>
                    </a:lnTo>
                    <a:lnTo>
                      <a:pt x="1033" y="1026"/>
                    </a:lnTo>
                    <a:lnTo>
                      <a:pt x="1004" y="1174"/>
                    </a:lnTo>
                    <a:lnTo>
                      <a:pt x="981" y="1294"/>
                    </a:lnTo>
                    <a:lnTo>
                      <a:pt x="951" y="1419"/>
                    </a:lnTo>
                    <a:lnTo>
                      <a:pt x="899" y="1562"/>
                    </a:lnTo>
                    <a:lnTo>
                      <a:pt x="899" y="1521"/>
                    </a:lnTo>
                    <a:lnTo>
                      <a:pt x="899" y="1481"/>
                    </a:lnTo>
                    <a:lnTo>
                      <a:pt x="928" y="1437"/>
                    </a:lnTo>
                    <a:lnTo>
                      <a:pt x="928" y="1419"/>
                    </a:lnTo>
                    <a:lnTo>
                      <a:pt x="899" y="1356"/>
                    </a:lnTo>
                    <a:lnTo>
                      <a:pt x="875" y="1276"/>
                    </a:lnTo>
                    <a:lnTo>
                      <a:pt x="899" y="1214"/>
                    </a:lnTo>
                    <a:lnTo>
                      <a:pt x="928" y="1191"/>
                    </a:lnTo>
                    <a:lnTo>
                      <a:pt x="928" y="1174"/>
                    </a:lnTo>
                    <a:lnTo>
                      <a:pt x="899" y="1049"/>
                    </a:lnTo>
                    <a:lnTo>
                      <a:pt x="846" y="986"/>
                    </a:lnTo>
                    <a:lnTo>
                      <a:pt x="793" y="946"/>
                    </a:lnTo>
                    <a:lnTo>
                      <a:pt x="739" y="884"/>
                    </a:lnTo>
                    <a:lnTo>
                      <a:pt x="686" y="821"/>
                    </a:lnTo>
                    <a:lnTo>
                      <a:pt x="634" y="861"/>
                    </a:lnTo>
                    <a:lnTo>
                      <a:pt x="581" y="884"/>
                    </a:lnTo>
                    <a:lnTo>
                      <a:pt x="528" y="906"/>
                    </a:lnTo>
                    <a:lnTo>
                      <a:pt x="505" y="924"/>
                    </a:lnTo>
                    <a:lnTo>
                      <a:pt x="475" y="924"/>
                    </a:lnTo>
                    <a:lnTo>
                      <a:pt x="475" y="843"/>
                    </a:lnTo>
                    <a:lnTo>
                      <a:pt x="475" y="821"/>
                    </a:lnTo>
                    <a:lnTo>
                      <a:pt x="475" y="803"/>
                    </a:lnTo>
                    <a:lnTo>
                      <a:pt x="505" y="758"/>
                    </a:lnTo>
                    <a:lnTo>
                      <a:pt x="528" y="718"/>
                    </a:lnTo>
                    <a:lnTo>
                      <a:pt x="528" y="718"/>
                    </a:lnTo>
                    <a:lnTo>
                      <a:pt x="528" y="740"/>
                    </a:lnTo>
                    <a:lnTo>
                      <a:pt x="528" y="758"/>
                    </a:lnTo>
                    <a:lnTo>
                      <a:pt x="505" y="780"/>
                    </a:lnTo>
                    <a:lnTo>
                      <a:pt x="452" y="758"/>
                    </a:lnTo>
                    <a:lnTo>
                      <a:pt x="423" y="740"/>
                    </a:lnTo>
                    <a:lnTo>
                      <a:pt x="399" y="740"/>
                    </a:lnTo>
                    <a:lnTo>
                      <a:pt x="370" y="758"/>
                    </a:lnTo>
                    <a:lnTo>
                      <a:pt x="346" y="780"/>
                    </a:lnTo>
                    <a:lnTo>
                      <a:pt x="264" y="718"/>
                    </a:lnTo>
                    <a:lnTo>
                      <a:pt x="240" y="780"/>
                    </a:lnTo>
                    <a:lnTo>
                      <a:pt x="211" y="803"/>
                    </a:lnTo>
                    <a:lnTo>
                      <a:pt x="158" y="780"/>
                    </a:lnTo>
                    <a:lnTo>
                      <a:pt x="52" y="758"/>
                    </a:lnTo>
                    <a:lnTo>
                      <a:pt x="23" y="740"/>
                    </a:lnTo>
                    <a:lnTo>
                      <a:pt x="0" y="700"/>
                    </a:lnTo>
                    <a:lnTo>
                      <a:pt x="23" y="677"/>
                    </a:lnTo>
                    <a:lnTo>
                      <a:pt x="52" y="677"/>
                    </a:lnTo>
                    <a:lnTo>
                      <a:pt x="158" y="700"/>
                    </a:lnTo>
                    <a:lnTo>
                      <a:pt x="264" y="718"/>
                    </a:lnTo>
                    <a:lnTo>
                      <a:pt x="264" y="718"/>
                    </a:lnTo>
                    <a:lnTo>
                      <a:pt x="240" y="700"/>
                    </a:lnTo>
                    <a:lnTo>
                      <a:pt x="211" y="677"/>
                    </a:lnTo>
                    <a:lnTo>
                      <a:pt x="187" y="655"/>
                    </a:lnTo>
                    <a:lnTo>
                      <a:pt x="187" y="637"/>
                    </a:lnTo>
                    <a:lnTo>
                      <a:pt x="187" y="597"/>
                    </a:lnTo>
                    <a:lnTo>
                      <a:pt x="211" y="553"/>
                    </a:lnTo>
                    <a:lnTo>
                      <a:pt x="240" y="535"/>
                    </a:lnTo>
                    <a:lnTo>
                      <a:pt x="240" y="472"/>
                    </a:lnTo>
                    <a:lnTo>
                      <a:pt x="240" y="410"/>
                    </a:lnTo>
                    <a:lnTo>
                      <a:pt x="240" y="267"/>
                    </a:lnTo>
                    <a:lnTo>
                      <a:pt x="187" y="227"/>
                    </a:lnTo>
                    <a:lnTo>
                      <a:pt x="158" y="205"/>
                    </a:lnTo>
                    <a:lnTo>
                      <a:pt x="158" y="182"/>
                    </a:lnTo>
                    <a:lnTo>
                      <a:pt x="187" y="165"/>
                    </a:lnTo>
                    <a:lnTo>
                      <a:pt x="211" y="142"/>
                    </a:lnTo>
                    <a:lnTo>
                      <a:pt x="211" y="124"/>
                    </a:lnTo>
                    <a:lnTo>
                      <a:pt x="264" y="6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>
              <a:off x="310680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01920" y="436896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0" y="26"/>
                  </a:moveTo>
                  <a:lnTo>
                    <a:pt x="110" y="26"/>
                  </a:lnTo>
                  <a:lnTo>
                    <a:pt x="194" y="0"/>
                  </a:lnTo>
                  <a:lnTo>
                    <a:pt x="277" y="0"/>
                  </a:lnTo>
                  <a:lnTo>
                    <a:pt x="361" y="26"/>
                  </a:lnTo>
                  <a:lnTo>
                    <a:pt x="450" y="52"/>
                  </a:lnTo>
                  <a:lnTo>
                    <a:pt x="534" y="127"/>
                  </a:lnTo>
                  <a:lnTo>
                    <a:pt x="618" y="176"/>
                  </a:lnTo>
                  <a:lnTo>
                    <a:pt x="702" y="229"/>
                  </a:lnTo>
                  <a:lnTo>
                    <a:pt x="728" y="304"/>
                  </a:lnTo>
                  <a:lnTo>
                    <a:pt x="728" y="380"/>
                  </a:lnTo>
                  <a:lnTo>
                    <a:pt x="728" y="459"/>
                  </a:lnTo>
                  <a:lnTo>
                    <a:pt x="785" y="534"/>
                  </a:lnTo>
                  <a:lnTo>
                    <a:pt x="812" y="609"/>
                  </a:lnTo>
                  <a:lnTo>
                    <a:pt x="728" y="636"/>
                  </a:lnTo>
                  <a:lnTo>
                    <a:pt x="702" y="561"/>
                  </a:lnTo>
                  <a:lnTo>
                    <a:pt x="618" y="508"/>
                  </a:lnTo>
                  <a:lnTo>
                    <a:pt x="503" y="508"/>
                  </a:lnTo>
                  <a:lnTo>
                    <a:pt x="450" y="433"/>
                  </a:lnTo>
                  <a:lnTo>
                    <a:pt x="392" y="358"/>
                  </a:lnTo>
                  <a:lnTo>
                    <a:pt x="308" y="304"/>
                  </a:lnTo>
                  <a:lnTo>
                    <a:pt x="224" y="277"/>
                  </a:lnTo>
                  <a:lnTo>
                    <a:pt x="141" y="304"/>
                  </a:lnTo>
                  <a:lnTo>
                    <a:pt x="110" y="229"/>
                  </a:lnTo>
                  <a:lnTo>
                    <a:pt x="141" y="154"/>
                  </a:lnTo>
                  <a:lnTo>
                    <a:pt x="110" y="74"/>
                  </a:lnTo>
                  <a:lnTo>
                    <a:pt x="167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34120" y="434340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812" y="26"/>
                  </a:moveTo>
                  <a:lnTo>
                    <a:pt x="702" y="26"/>
                  </a:lnTo>
                  <a:lnTo>
                    <a:pt x="618" y="0"/>
                  </a:lnTo>
                  <a:lnTo>
                    <a:pt x="534" y="0"/>
                  </a:lnTo>
                  <a:lnTo>
                    <a:pt x="450" y="26"/>
                  </a:lnTo>
                  <a:lnTo>
                    <a:pt x="361" y="52"/>
                  </a:lnTo>
                  <a:lnTo>
                    <a:pt x="277" y="127"/>
                  </a:lnTo>
                  <a:lnTo>
                    <a:pt x="194" y="176"/>
                  </a:lnTo>
                  <a:lnTo>
                    <a:pt x="110" y="229"/>
                  </a:lnTo>
                  <a:lnTo>
                    <a:pt x="83" y="304"/>
                  </a:lnTo>
                  <a:lnTo>
                    <a:pt x="83" y="380"/>
                  </a:lnTo>
                  <a:lnTo>
                    <a:pt x="83" y="459"/>
                  </a:lnTo>
                  <a:lnTo>
                    <a:pt x="26" y="534"/>
                  </a:lnTo>
                  <a:lnTo>
                    <a:pt x="0" y="609"/>
                  </a:lnTo>
                  <a:lnTo>
                    <a:pt x="83" y="636"/>
                  </a:lnTo>
                  <a:lnTo>
                    <a:pt x="110" y="561"/>
                  </a:lnTo>
                  <a:lnTo>
                    <a:pt x="194" y="508"/>
                  </a:lnTo>
                  <a:lnTo>
                    <a:pt x="308" y="508"/>
                  </a:lnTo>
                  <a:lnTo>
                    <a:pt x="361" y="433"/>
                  </a:lnTo>
                  <a:lnTo>
                    <a:pt x="419" y="358"/>
                  </a:lnTo>
                  <a:lnTo>
                    <a:pt x="503" y="304"/>
                  </a:lnTo>
                  <a:lnTo>
                    <a:pt x="587" y="277"/>
                  </a:lnTo>
                  <a:lnTo>
                    <a:pt x="671" y="304"/>
                  </a:lnTo>
                  <a:lnTo>
                    <a:pt x="702" y="229"/>
                  </a:lnTo>
                  <a:lnTo>
                    <a:pt x="671" y="154"/>
                  </a:lnTo>
                  <a:lnTo>
                    <a:pt x="702" y="74"/>
                  </a:lnTo>
                  <a:lnTo>
                    <a:pt x="644" y="26"/>
                  </a:lnTo>
                  <a:lnTo>
                    <a:pt x="812" y="26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5410080" y="4343400"/>
              <a:ext cx="508680" cy="1283040"/>
              <a:chOff x="5410080" y="4343400"/>
              <a:chExt cx="508680" cy="1283040"/>
            </a:xfrm>
          </p:grpSpPr>
          <p:sp>
            <p:nvSpPr>
              <p:cNvPr id="1271" name=""/>
              <p:cNvSpPr/>
              <p:nvPr/>
            </p:nvSpPr>
            <p:spPr>
              <a:xfrm>
                <a:off x="5678640" y="441792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410080" y="454500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460840" y="491184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454720" y="434340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452920" y="518652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700600" y="545292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67400" y="484200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3048120" y="4649760"/>
              <a:ext cx="508320" cy="1281240"/>
              <a:chOff x="3048120" y="4649760"/>
              <a:chExt cx="508320" cy="1281240"/>
            </a:xfrm>
          </p:grpSpPr>
          <p:sp>
            <p:nvSpPr>
              <p:cNvPr id="1279" name=""/>
              <p:cNvSpPr/>
              <p:nvPr/>
            </p:nvSpPr>
            <p:spPr>
              <a:xfrm>
                <a:off x="3189240" y="471960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443400" y="484992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70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327480" y="523404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327480" y="464976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432240" y="549432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200400" y="575928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48120" y="516564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1287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1295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2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1303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1307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"/>
          <p:cNvSpPr txBox="1"/>
          <p:nvPr/>
        </p:nvSpPr>
        <p:spPr>
          <a:xfrm>
            <a:off x="152280" y="304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Brought To You By….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1841400" y="1231920"/>
            <a:ext cx="5905800" cy="4191480"/>
          </a:xfrm>
          <a:custGeom>
            <a:avLst/>
            <a:gdLst/>
            <a:ahLst/>
            <a:rect l="0" t="0" r="r" b="b"/>
            <a:pathLst>
              <a:path w="16405" h="11643">
                <a:moveTo>
                  <a:pt x="8008" y="2081"/>
                </a:moveTo>
                <a:lnTo>
                  <a:pt x="7620" y="2151"/>
                </a:lnTo>
                <a:lnTo>
                  <a:pt x="7196" y="2116"/>
                </a:lnTo>
                <a:lnTo>
                  <a:pt x="6914" y="2081"/>
                </a:lnTo>
                <a:lnTo>
                  <a:pt x="6808" y="1975"/>
                </a:lnTo>
                <a:lnTo>
                  <a:pt x="6702" y="1834"/>
                </a:lnTo>
                <a:lnTo>
                  <a:pt x="6491" y="1763"/>
                </a:lnTo>
                <a:lnTo>
                  <a:pt x="6279" y="1481"/>
                </a:lnTo>
                <a:lnTo>
                  <a:pt x="6067" y="1270"/>
                </a:lnTo>
                <a:lnTo>
                  <a:pt x="5856" y="1058"/>
                </a:lnTo>
                <a:lnTo>
                  <a:pt x="5644" y="987"/>
                </a:lnTo>
                <a:lnTo>
                  <a:pt x="5362" y="917"/>
                </a:lnTo>
                <a:lnTo>
                  <a:pt x="5256" y="881"/>
                </a:lnTo>
                <a:lnTo>
                  <a:pt x="5009" y="917"/>
                </a:lnTo>
                <a:lnTo>
                  <a:pt x="4797" y="952"/>
                </a:lnTo>
                <a:lnTo>
                  <a:pt x="4586" y="987"/>
                </a:lnTo>
                <a:lnTo>
                  <a:pt x="4445" y="1128"/>
                </a:lnTo>
                <a:lnTo>
                  <a:pt x="4374" y="1411"/>
                </a:lnTo>
                <a:lnTo>
                  <a:pt x="4339" y="1693"/>
                </a:lnTo>
                <a:lnTo>
                  <a:pt x="4586" y="1834"/>
                </a:lnTo>
                <a:lnTo>
                  <a:pt x="4797" y="1834"/>
                </a:lnTo>
                <a:lnTo>
                  <a:pt x="5080" y="1940"/>
                </a:lnTo>
                <a:lnTo>
                  <a:pt x="5362" y="1975"/>
                </a:lnTo>
                <a:lnTo>
                  <a:pt x="5503" y="2081"/>
                </a:lnTo>
                <a:lnTo>
                  <a:pt x="5503" y="2187"/>
                </a:lnTo>
                <a:lnTo>
                  <a:pt x="5503" y="2293"/>
                </a:lnTo>
                <a:lnTo>
                  <a:pt x="5503" y="2504"/>
                </a:lnTo>
                <a:lnTo>
                  <a:pt x="5432" y="2786"/>
                </a:lnTo>
                <a:lnTo>
                  <a:pt x="5397" y="2999"/>
                </a:lnTo>
                <a:lnTo>
                  <a:pt x="5291" y="3105"/>
                </a:lnTo>
                <a:lnTo>
                  <a:pt x="4938" y="3105"/>
                </a:lnTo>
                <a:lnTo>
                  <a:pt x="4656" y="3105"/>
                </a:lnTo>
                <a:lnTo>
                  <a:pt x="4374" y="3070"/>
                </a:lnTo>
                <a:lnTo>
                  <a:pt x="4162" y="3034"/>
                </a:lnTo>
                <a:lnTo>
                  <a:pt x="4021" y="2964"/>
                </a:lnTo>
                <a:lnTo>
                  <a:pt x="3774" y="2892"/>
                </a:lnTo>
                <a:lnTo>
                  <a:pt x="3492" y="2822"/>
                </a:lnTo>
                <a:lnTo>
                  <a:pt x="3139" y="2751"/>
                </a:lnTo>
                <a:lnTo>
                  <a:pt x="2928" y="2751"/>
                </a:lnTo>
                <a:lnTo>
                  <a:pt x="2786" y="2751"/>
                </a:lnTo>
                <a:lnTo>
                  <a:pt x="2575" y="2822"/>
                </a:lnTo>
                <a:lnTo>
                  <a:pt x="2293" y="2892"/>
                </a:lnTo>
                <a:lnTo>
                  <a:pt x="2257" y="3105"/>
                </a:lnTo>
                <a:lnTo>
                  <a:pt x="2222" y="3458"/>
                </a:lnTo>
                <a:lnTo>
                  <a:pt x="2222" y="3669"/>
                </a:lnTo>
                <a:lnTo>
                  <a:pt x="2222" y="3775"/>
                </a:lnTo>
                <a:lnTo>
                  <a:pt x="2222" y="3916"/>
                </a:lnTo>
                <a:lnTo>
                  <a:pt x="2293" y="4199"/>
                </a:lnTo>
                <a:lnTo>
                  <a:pt x="2363" y="4304"/>
                </a:lnTo>
                <a:lnTo>
                  <a:pt x="2328" y="4410"/>
                </a:lnTo>
                <a:lnTo>
                  <a:pt x="2046" y="4551"/>
                </a:lnTo>
                <a:lnTo>
                  <a:pt x="1763" y="4587"/>
                </a:lnTo>
                <a:lnTo>
                  <a:pt x="1622" y="4622"/>
                </a:lnTo>
                <a:lnTo>
                  <a:pt x="1375" y="4657"/>
                </a:lnTo>
                <a:lnTo>
                  <a:pt x="1093" y="4728"/>
                </a:lnTo>
                <a:lnTo>
                  <a:pt x="811" y="4763"/>
                </a:lnTo>
                <a:lnTo>
                  <a:pt x="529" y="4834"/>
                </a:lnTo>
                <a:lnTo>
                  <a:pt x="388" y="4975"/>
                </a:lnTo>
                <a:lnTo>
                  <a:pt x="105" y="5257"/>
                </a:lnTo>
                <a:lnTo>
                  <a:pt x="0" y="5539"/>
                </a:lnTo>
                <a:lnTo>
                  <a:pt x="0" y="5751"/>
                </a:lnTo>
                <a:lnTo>
                  <a:pt x="0" y="6033"/>
                </a:lnTo>
                <a:lnTo>
                  <a:pt x="70" y="6315"/>
                </a:lnTo>
                <a:lnTo>
                  <a:pt x="141" y="6421"/>
                </a:lnTo>
                <a:lnTo>
                  <a:pt x="352" y="6456"/>
                </a:lnTo>
                <a:lnTo>
                  <a:pt x="635" y="6492"/>
                </a:lnTo>
                <a:lnTo>
                  <a:pt x="846" y="6492"/>
                </a:lnTo>
                <a:lnTo>
                  <a:pt x="987" y="6456"/>
                </a:lnTo>
                <a:lnTo>
                  <a:pt x="1199" y="6386"/>
                </a:lnTo>
                <a:lnTo>
                  <a:pt x="1305" y="6315"/>
                </a:lnTo>
                <a:lnTo>
                  <a:pt x="1446" y="6315"/>
                </a:lnTo>
                <a:lnTo>
                  <a:pt x="1658" y="6351"/>
                </a:lnTo>
                <a:lnTo>
                  <a:pt x="2081" y="6562"/>
                </a:lnTo>
                <a:lnTo>
                  <a:pt x="2363" y="6633"/>
                </a:lnTo>
                <a:lnTo>
                  <a:pt x="2469" y="6703"/>
                </a:lnTo>
                <a:lnTo>
                  <a:pt x="2504" y="6844"/>
                </a:lnTo>
                <a:lnTo>
                  <a:pt x="2504" y="7056"/>
                </a:lnTo>
                <a:lnTo>
                  <a:pt x="2504" y="7268"/>
                </a:lnTo>
                <a:lnTo>
                  <a:pt x="2469" y="7479"/>
                </a:lnTo>
                <a:lnTo>
                  <a:pt x="2434" y="7762"/>
                </a:lnTo>
                <a:lnTo>
                  <a:pt x="2398" y="7973"/>
                </a:lnTo>
                <a:lnTo>
                  <a:pt x="2293" y="8114"/>
                </a:lnTo>
                <a:lnTo>
                  <a:pt x="2257" y="8326"/>
                </a:lnTo>
                <a:lnTo>
                  <a:pt x="2257" y="8467"/>
                </a:lnTo>
                <a:lnTo>
                  <a:pt x="2257" y="8608"/>
                </a:lnTo>
                <a:lnTo>
                  <a:pt x="2328" y="8821"/>
                </a:lnTo>
                <a:lnTo>
                  <a:pt x="2398" y="9033"/>
                </a:lnTo>
                <a:lnTo>
                  <a:pt x="2681" y="9103"/>
                </a:lnTo>
                <a:lnTo>
                  <a:pt x="2892" y="9138"/>
                </a:lnTo>
                <a:lnTo>
                  <a:pt x="3175" y="9209"/>
                </a:lnTo>
                <a:lnTo>
                  <a:pt x="3316" y="9244"/>
                </a:lnTo>
                <a:lnTo>
                  <a:pt x="3527" y="9209"/>
                </a:lnTo>
                <a:lnTo>
                  <a:pt x="3668" y="9138"/>
                </a:lnTo>
                <a:lnTo>
                  <a:pt x="3951" y="9033"/>
                </a:lnTo>
                <a:lnTo>
                  <a:pt x="4092" y="8962"/>
                </a:lnTo>
                <a:lnTo>
                  <a:pt x="4233" y="8892"/>
                </a:lnTo>
                <a:lnTo>
                  <a:pt x="4339" y="8892"/>
                </a:lnTo>
                <a:lnTo>
                  <a:pt x="4621" y="8997"/>
                </a:lnTo>
                <a:lnTo>
                  <a:pt x="4762" y="9103"/>
                </a:lnTo>
                <a:lnTo>
                  <a:pt x="4797" y="9209"/>
                </a:lnTo>
                <a:lnTo>
                  <a:pt x="4833" y="9315"/>
                </a:lnTo>
                <a:lnTo>
                  <a:pt x="4833" y="9456"/>
                </a:lnTo>
                <a:lnTo>
                  <a:pt x="4833" y="9738"/>
                </a:lnTo>
                <a:lnTo>
                  <a:pt x="4797" y="9879"/>
                </a:lnTo>
                <a:lnTo>
                  <a:pt x="4797" y="9985"/>
                </a:lnTo>
                <a:lnTo>
                  <a:pt x="4797" y="10197"/>
                </a:lnTo>
                <a:lnTo>
                  <a:pt x="4833" y="10408"/>
                </a:lnTo>
                <a:lnTo>
                  <a:pt x="4833" y="10691"/>
                </a:lnTo>
                <a:lnTo>
                  <a:pt x="4868" y="10973"/>
                </a:lnTo>
                <a:lnTo>
                  <a:pt x="4903" y="11185"/>
                </a:lnTo>
                <a:lnTo>
                  <a:pt x="4974" y="11290"/>
                </a:lnTo>
                <a:lnTo>
                  <a:pt x="5115" y="11432"/>
                </a:lnTo>
                <a:lnTo>
                  <a:pt x="5221" y="11432"/>
                </a:lnTo>
                <a:lnTo>
                  <a:pt x="5503" y="11432"/>
                </a:lnTo>
                <a:lnTo>
                  <a:pt x="5644" y="11396"/>
                </a:lnTo>
                <a:lnTo>
                  <a:pt x="5715" y="11290"/>
                </a:lnTo>
                <a:lnTo>
                  <a:pt x="5715" y="11149"/>
                </a:lnTo>
                <a:lnTo>
                  <a:pt x="5679" y="10938"/>
                </a:lnTo>
                <a:lnTo>
                  <a:pt x="5679" y="10832"/>
                </a:lnTo>
                <a:lnTo>
                  <a:pt x="5679" y="10620"/>
                </a:lnTo>
                <a:lnTo>
                  <a:pt x="5644" y="10267"/>
                </a:lnTo>
                <a:lnTo>
                  <a:pt x="5644" y="9985"/>
                </a:lnTo>
                <a:lnTo>
                  <a:pt x="5644" y="9703"/>
                </a:lnTo>
                <a:lnTo>
                  <a:pt x="5679" y="9562"/>
                </a:lnTo>
                <a:lnTo>
                  <a:pt x="5715" y="9350"/>
                </a:lnTo>
                <a:lnTo>
                  <a:pt x="5820" y="9209"/>
                </a:lnTo>
                <a:lnTo>
                  <a:pt x="6103" y="9209"/>
                </a:lnTo>
                <a:lnTo>
                  <a:pt x="6244" y="9280"/>
                </a:lnTo>
                <a:lnTo>
                  <a:pt x="6385" y="9421"/>
                </a:lnTo>
                <a:lnTo>
                  <a:pt x="6455" y="9562"/>
                </a:lnTo>
                <a:lnTo>
                  <a:pt x="6526" y="9703"/>
                </a:lnTo>
                <a:lnTo>
                  <a:pt x="6561" y="9844"/>
                </a:lnTo>
                <a:lnTo>
                  <a:pt x="6596" y="10126"/>
                </a:lnTo>
                <a:lnTo>
                  <a:pt x="6632" y="10408"/>
                </a:lnTo>
                <a:lnTo>
                  <a:pt x="6667" y="10620"/>
                </a:lnTo>
                <a:lnTo>
                  <a:pt x="6702" y="10832"/>
                </a:lnTo>
                <a:lnTo>
                  <a:pt x="6914" y="11114"/>
                </a:lnTo>
                <a:lnTo>
                  <a:pt x="7126" y="11326"/>
                </a:lnTo>
                <a:lnTo>
                  <a:pt x="7408" y="11537"/>
                </a:lnTo>
                <a:lnTo>
                  <a:pt x="7690" y="11608"/>
                </a:lnTo>
                <a:lnTo>
                  <a:pt x="7902" y="11608"/>
                </a:lnTo>
                <a:lnTo>
                  <a:pt x="8184" y="11643"/>
                </a:lnTo>
                <a:lnTo>
                  <a:pt x="8467" y="11643"/>
                </a:lnTo>
                <a:lnTo>
                  <a:pt x="8608" y="11608"/>
                </a:lnTo>
                <a:lnTo>
                  <a:pt x="8749" y="11502"/>
                </a:lnTo>
                <a:lnTo>
                  <a:pt x="8820" y="11149"/>
                </a:lnTo>
                <a:lnTo>
                  <a:pt x="8820" y="10797"/>
                </a:lnTo>
                <a:lnTo>
                  <a:pt x="8820" y="10585"/>
                </a:lnTo>
                <a:lnTo>
                  <a:pt x="8820" y="10303"/>
                </a:lnTo>
                <a:lnTo>
                  <a:pt x="8820" y="10091"/>
                </a:lnTo>
                <a:lnTo>
                  <a:pt x="8820" y="9950"/>
                </a:lnTo>
                <a:lnTo>
                  <a:pt x="8820" y="9738"/>
                </a:lnTo>
                <a:lnTo>
                  <a:pt x="8855" y="9597"/>
                </a:lnTo>
                <a:lnTo>
                  <a:pt x="8961" y="9491"/>
                </a:lnTo>
                <a:lnTo>
                  <a:pt x="9173" y="9491"/>
                </a:lnTo>
                <a:lnTo>
                  <a:pt x="9279" y="9456"/>
                </a:lnTo>
                <a:lnTo>
                  <a:pt x="9420" y="9456"/>
                </a:lnTo>
                <a:lnTo>
                  <a:pt x="9702" y="9527"/>
                </a:lnTo>
                <a:lnTo>
                  <a:pt x="10125" y="9738"/>
                </a:lnTo>
                <a:lnTo>
                  <a:pt x="10478" y="9950"/>
                </a:lnTo>
                <a:lnTo>
                  <a:pt x="10831" y="10020"/>
                </a:lnTo>
                <a:lnTo>
                  <a:pt x="11113" y="10303"/>
                </a:lnTo>
                <a:lnTo>
                  <a:pt x="11395" y="10514"/>
                </a:lnTo>
                <a:lnTo>
                  <a:pt x="11677" y="10726"/>
                </a:lnTo>
                <a:lnTo>
                  <a:pt x="11819" y="10797"/>
                </a:lnTo>
                <a:lnTo>
                  <a:pt x="12207" y="10832"/>
                </a:lnTo>
                <a:lnTo>
                  <a:pt x="12630" y="10832"/>
                </a:lnTo>
                <a:lnTo>
                  <a:pt x="12842" y="10761"/>
                </a:lnTo>
                <a:lnTo>
                  <a:pt x="13194" y="10620"/>
                </a:lnTo>
                <a:lnTo>
                  <a:pt x="13406" y="10550"/>
                </a:lnTo>
                <a:lnTo>
                  <a:pt x="13688" y="10444"/>
                </a:lnTo>
                <a:lnTo>
                  <a:pt x="13794" y="10338"/>
                </a:lnTo>
                <a:lnTo>
                  <a:pt x="13865" y="10056"/>
                </a:lnTo>
                <a:lnTo>
                  <a:pt x="13900" y="9844"/>
                </a:lnTo>
                <a:lnTo>
                  <a:pt x="13900" y="9632"/>
                </a:lnTo>
                <a:lnTo>
                  <a:pt x="13900" y="9527"/>
                </a:lnTo>
                <a:lnTo>
                  <a:pt x="13829" y="9315"/>
                </a:lnTo>
                <a:lnTo>
                  <a:pt x="13618" y="9033"/>
                </a:lnTo>
                <a:lnTo>
                  <a:pt x="13547" y="8750"/>
                </a:lnTo>
                <a:lnTo>
                  <a:pt x="13477" y="8538"/>
                </a:lnTo>
                <a:lnTo>
                  <a:pt x="13477" y="8397"/>
                </a:lnTo>
                <a:lnTo>
                  <a:pt x="13441" y="8256"/>
                </a:lnTo>
                <a:lnTo>
                  <a:pt x="13441" y="7973"/>
                </a:lnTo>
                <a:lnTo>
                  <a:pt x="13477" y="7762"/>
                </a:lnTo>
                <a:lnTo>
                  <a:pt x="13547" y="7550"/>
                </a:lnTo>
                <a:lnTo>
                  <a:pt x="13653" y="7409"/>
                </a:lnTo>
                <a:lnTo>
                  <a:pt x="13794" y="7338"/>
                </a:lnTo>
                <a:lnTo>
                  <a:pt x="14076" y="7268"/>
                </a:lnTo>
                <a:lnTo>
                  <a:pt x="14359" y="7232"/>
                </a:lnTo>
                <a:lnTo>
                  <a:pt x="14570" y="7232"/>
                </a:lnTo>
                <a:lnTo>
                  <a:pt x="14711" y="7197"/>
                </a:lnTo>
                <a:lnTo>
                  <a:pt x="14923" y="7162"/>
                </a:lnTo>
                <a:lnTo>
                  <a:pt x="15135" y="7127"/>
                </a:lnTo>
                <a:lnTo>
                  <a:pt x="15346" y="7127"/>
                </a:lnTo>
                <a:lnTo>
                  <a:pt x="15629" y="7056"/>
                </a:lnTo>
                <a:lnTo>
                  <a:pt x="15911" y="6915"/>
                </a:lnTo>
                <a:lnTo>
                  <a:pt x="16017" y="6809"/>
                </a:lnTo>
                <a:lnTo>
                  <a:pt x="16228" y="6597"/>
                </a:lnTo>
                <a:lnTo>
                  <a:pt x="16299" y="6386"/>
                </a:lnTo>
                <a:lnTo>
                  <a:pt x="16369" y="6104"/>
                </a:lnTo>
                <a:lnTo>
                  <a:pt x="16405" y="5892"/>
                </a:lnTo>
                <a:lnTo>
                  <a:pt x="16405" y="5680"/>
                </a:lnTo>
                <a:lnTo>
                  <a:pt x="16405" y="5539"/>
                </a:lnTo>
                <a:lnTo>
                  <a:pt x="16405" y="5257"/>
                </a:lnTo>
                <a:lnTo>
                  <a:pt x="16334" y="4975"/>
                </a:lnTo>
                <a:lnTo>
                  <a:pt x="16264" y="4763"/>
                </a:lnTo>
                <a:lnTo>
                  <a:pt x="16052" y="4551"/>
                </a:lnTo>
                <a:lnTo>
                  <a:pt x="15487" y="4587"/>
                </a:lnTo>
                <a:lnTo>
                  <a:pt x="15205" y="4622"/>
                </a:lnTo>
                <a:lnTo>
                  <a:pt x="14994" y="4692"/>
                </a:lnTo>
                <a:lnTo>
                  <a:pt x="14782" y="4728"/>
                </a:lnTo>
                <a:lnTo>
                  <a:pt x="14570" y="4728"/>
                </a:lnTo>
                <a:lnTo>
                  <a:pt x="14359" y="4763"/>
                </a:lnTo>
                <a:lnTo>
                  <a:pt x="14147" y="4798"/>
                </a:lnTo>
                <a:lnTo>
                  <a:pt x="13935" y="4798"/>
                </a:lnTo>
                <a:lnTo>
                  <a:pt x="13829" y="4798"/>
                </a:lnTo>
                <a:lnTo>
                  <a:pt x="13618" y="4798"/>
                </a:lnTo>
                <a:lnTo>
                  <a:pt x="13406" y="4763"/>
                </a:lnTo>
                <a:lnTo>
                  <a:pt x="13336" y="4657"/>
                </a:lnTo>
                <a:lnTo>
                  <a:pt x="13336" y="4516"/>
                </a:lnTo>
                <a:lnTo>
                  <a:pt x="13371" y="4375"/>
                </a:lnTo>
                <a:lnTo>
                  <a:pt x="13406" y="4163"/>
                </a:lnTo>
                <a:lnTo>
                  <a:pt x="13441" y="3952"/>
                </a:lnTo>
                <a:lnTo>
                  <a:pt x="13724" y="3669"/>
                </a:lnTo>
                <a:lnTo>
                  <a:pt x="13935" y="3599"/>
                </a:lnTo>
                <a:lnTo>
                  <a:pt x="14006" y="3387"/>
                </a:lnTo>
                <a:lnTo>
                  <a:pt x="14147" y="3246"/>
                </a:lnTo>
                <a:lnTo>
                  <a:pt x="14429" y="2964"/>
                </a:lnTo>
                <a:lnTo>
                  <a:pt x="14641" y="2681"/>
                </a:lnTo>
                <a:lnTo>
                  <a:pt x="14711" y="2398"/>
                </a:lnTo>
                <a:lnTo>
                  <a:pt x="14817" y="2116"/>
                </a:lnTo>
                <a:lnTo>
                  <a:pt x="14888" y="1834"/>
                </a:lnTo>
                <a:lnTo>
                  <a:pt x="14923" y="1552"/>
                </a:lnTo>
                <a:lnTo>
                  <a:pt x="14923" y="1270"/>
                </a:lnTo>
                <a:lnTo>
                  <a:pt x="14888" y="987"/>
                </a:lnTo>
                <a:lnTo>
                  <a:pt x="14852" y="705"/>
                </a:lnTo>
                <a:lnTo>
                  <a:pt x="14641" y="352"/>
                </a:lnTo>
                <a:lnTo>
                  <a:pt x="14288" y="70"/>
                </a:lnTo>
                <a:lnTo>
                  <a:pt x="14147" y="0"/>
                </a:lnTo>
                <a:lnTo>
                  <a:pt x="13935" y="0"/>
                </a:lnTo>
                <a:lnTo>
                  <a:pt x="13724" y="0"/>
                </a:lnTo>
                <a:lnTo>
                  <a:pt x="13441" y="35"/>
                </a:lnTo>
                <a:lnTo>
                  <a:pt x="13159" y="35"/>
                </a:lnTo>
                <a:lnTo>
                  <a:pt x="12947" y="70"/>
                </a:lnTo>
                <a:lnTo>
                  <a:pt x="12736" y="105"/>
                </a:lnTo>
                <a:lnTo>
                  <a:pt x="12630" y="211"/>
                </a:lnTo>
                <a:lnTo>
                  <a:pt x="12489" y="493"/>
                </a:lnTo>
                <a:lnTo>
                  <a:pt x="12418" y="705"/>
                </a:lnTo>
                <a:lnTo>
                  <a:pt x="12136" y="917"/>
                </a:lnTo>
                <a:lnTo>
                  <a:pt x="11924" y="1128"/>
                </a:lnTo>
                <a:lnTo>
                  <a:pt x="11819" y="1199"/>
                </a:lnTo>
                <a:lnTo>
                  <a:pt x="11395" y="1164"/>
                </a:lnTo>
                <a:lnTo>
                  <a:pt x="10901" y="1128"/>
                </a:lnTo>
                <a:lnTo>
                  <a:pt x="10407" y="1093"/>
                </a:lnTo>
                <a:lnTo>
                  <a:pt x="10055" y="1023"/>
                </a:lnTo>
                <a:lnTo>
                  <a:pt x="9843" y="987"/>
                </a:lnTo>
                <a:lnTo>
                  <a:pt x="9702" y="917"/>
                </a:lnTo>
                <a:lnTo>
                  <a:pt x="9420" y="917"/>
                </a:lnTo>
                <a:lnTo>
                  <a:pt x="9208" y="952"/>
                </a:lnTo>
                <a:lnTo>
                  <a:pt x="8855" y="1023"/>
                </a:lnTo>
                <a:lnTo>
                  <a:pt x="8573" y="1058"/>
                </a:lnTo>
                <a:lnTo>
                  <a:pt x="8361" y="1128"/>
                </a:lnTo>
                <a:lnTo>
                  <a:pt x="8291" y="1234"/>
                </a:lnTo>
                <a:lnTo>
                  <a:pt x="8256" y="1375"/>
                </a:lnTo>
                <a:lnTo>
                  <a:pt x="8220" y="1516"/>
                </a:lnTo>
                <a:lnTo>
                  <a:pt x="8184" y="1658"/>
                </a:lnTo>
                <a:lnTo>
                  <a:pt x="8078" y="1799"/>
                </a:lnTo>
                <a:lnTo>
                  <a:pt x="8008" y="208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3251160" y="1514520"/>
            <a:ext cx="2642040" cy="2089440"/>
            <a:chOff x="3251160" y="1514520"/>
            <a:chExt cx="2642040" cy="2089440"/>
          </a:xfrm>
        </p:grpSpPr>
        <p:sp>
          <p:nvSpPr>
            <p:cNvPr id="1313" name=""/>
            <p:cNvSpPr/>
            <p:nvPr/>
          </p:nvSpPr>
          <p:spPr>
            <a:xfrm>
              <a:off x="3251160" y="1514520"/>
              <a:ext cx="2634120" cy="2089440"/>
            </a:xfrm>
            <a:custGeom>
              <a:avLst/>
              <a:gdLst/>
              <a:ahLst/>
              <a:rect l="0" t="0" r="r" b="b"/>
              <a:pathLst>
                <a:path w="7317" h="5804">
                  <a:moveTo>
                    <a:pt x="2990" y="3109"/>
                  </a:moveTo>
                  <a:lnTo>
                    <a:pt x="7317" y="5804"/>
                  </a:lnTo>
                  <a:lnTo>
                    <a:pt x="7300" y="5226"/>
                  </a:lnTo>
                  <a:lnTo>
                    <a:pt x="6978" y="4472"/>
                  </a:lnTo>
                  <a:lnTo>
                    <a:pt x="5619" y="3246"/>
                  </a:lnTo>
                  <a:lnTo>
                    <a:pt x="3264" y="1605"/>
                  </a:lnTo>
                  <a:lnTo>
                    <a:pt x="2338" y="1106"/>
                  </a:lnTo>
                  <a:lnTo>
                    <a:pt x="560" y="0"/>
                  </a:lnTo>
                  <a:lnTo>
                    <a:pt x="0" y="679"/>
                  </a:lnTo>
                  <a:lnTo>
                    <a:pt x="2091" y="2072"/>
                  </a:lnTo>
                  <a:lnTo>
                    <a:pt x="2752" y="2213"/>
                  </a:lnTo>
                  <a:lnTo>
                    <a:pt x="3242" y="2513"/>
                  </a:lnTo>
                  <a:lnTo>
                    <a:pt x="2990" y="3109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3298680" y="1536840"/>
              <a:ext cx="2594520" cy="2008440"/>
              <a:chOff x="3298680" y="1536840"/>
              <a:chExt cx="2594520" cy="2008440"/>
            </a:xfrm>
          </p:grpSpPr>
          <p:sp>
            <p:nvSpPr>
              <p:cNvPr id="1315" name=""/>
              <p:cNvSpPr/>
              <p:nvPr/>
            </p:nvSpPr>
            <p:spPr>
              <a:xfrm>
                <a:off x="4446720" y="2209680"/>
                <a:ext cx="1446480" cy="1335600"/>
              </a:xfrm>
              <a:custGeom>
                <a:avLst/>
                <a:gdLst/>
                <a:ahLst/>
                <a:rect l="0" t="0" r="r" b="b"/>
                <a:pathLst>
                  <a:path w="4018" h="3710">
                    <a:moveTo>
                      <a:pt x="0" y="551"/>
                    </a:moveTo>
                    <a:lnTo>
                      <a:pt x="330" y="940"/>
                    </a:lnTo>
                    <a:lnTo>
                      <a:pt x="926" y="935"/>
                    </a:lnTo>
                    <a:lnTo>
                      <a:pt x="1336" y="1570"/>
                    </a:lnTo>
                    <a:lnTo>
                      <a:pt x="2227" y="2122"/>
                    </a:lnTo>
                    <a:lnTo>
                      <a:pt x="2704" y="2413"/>
                    </a:lnTo>
                    <a:lnTo>
                      <a:pt x="3255" y="2850"/>
                    </a:lnTo>
                    <a:lnTo>
                      <a:pt x="4018" y="3710"/>
                    </a:lnTo>
                    <a:lnTo>
                      <a:pt x="3727" y="2646"/>
                    </a:lnTo>
                    <a:lnTo>
                      <a:pt x="3021" y="1963"/>
                    </a:lnTo>
                    <a:lnTo>
                      <a:pt x="1997" y="1059"/>
                    </a:lnTo>
                    <a:lnTo>
                      <a:pt x="1362" y="635"/>
                    </a:lnTo>
                    <a:lnTo>
                      <a:pt x="515" y="0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298680" y="1536840"/>
                <a:ext cx="1321200" cy="864000"/>
              </a:xfrm>
              <a:custGeom>
                <a:avLst/>
                <a:gdLst/>
                <a:ahLst/>
                <a:rect l="0" t="0" r="r" b="b"/>
                <a:pathLst>
                  <a:path w="3670" h="2400">
                    <a:moveTo>
                      <a:pt x="3670" y="1977"/>
                    </a:moveTo>
                    <a:lnTo>
                      <a:pt x="3318" y="2400"/>
                    </a:lnTo>
                    <a:lnTo>
                      <a:pt x="2047" y="2048"/>
                    </a:lnTo>
                    <a:lnTo>
                      <a:pt x="0" y="636"/>
                    </a:lnTo>
                    <a:lnTo>
                      <a:pt x="458" y="0"/>
                    </a:lnTo>
                    <a:lnTo>
                      <a:pt x="3670" y="1977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3692520" y="1514520"/>
            <a:ext cx="2642040" cy="2089440"/>
            <a:chOff x="3692520" y="1514520"/>
            <a:chExt cx="2642040" cy="2089440"/>
          </a:xfrm>
        </p:grpSpPr>
        <p:sp>
          <p:nvSpPr>
            <p:cNvPr id="1318" name=""/>
            <p:cNvSpPr/>
            <p:nvPr/>
          </p:nvSpPr>
          <p:spPr>
            <a:xfrm>
              <a:off x="3700440" y="1514520"/>
              <a:ext cx="2634120" cy="2089440"/>
            </a:xfrm>
            <a:custGeom>
              <a:avLst/>
              <a:gdLst/>
              <a:ahLst/>
              <a:rect l="0" t="0" r="r" b="b"/>
              <a:pathLst>
                <a:path w="7317" h="5804">
                  <a:moveTo>
                    <a:pt x="4326" y="3109"/>
                  </a:moveTo>
                  <a:lnTo>
                    <a:pt x="0" y="5804"/>
                  </a:lnTo>
                  <a:lnTo>
                    <a:pt x="17" y="5226"/>
                  </a:lnTo>
                  <a:lnTo>
                    <a:pt x="339" y="4472"/>
                  </a:lnTo>
                  <a:lnTo>
                    <a:pt x="1697" y="3246"/>
                  </a:lnTo>
                  <a:lnTo>
                    <a:pt x="4053" y="1605"/>
                  </a:lnTo>
                  <a:lnTo>
                    <a:pt x="4979" y="1106"/>
                  </a:lnTo>
                  <a:lnTo>
                    <a:pt x="6757" y="0"/>
                  </a:lnTo>
                  <a:lnTo>
                    <a:pt x="7317" y="679"/>
                  </a:lnTo>
                  <a:lnTo>
                    <a:pt x="5226" y="2072"/>
                  </a:lnTo>
                  <a:lnTo>
                    <a:pt x="4565" y="2213"/>
                  </a:lnTo>
                  <a:lnTo>
                    <a:pt x="4075" y="2513"/>
                  </a:lnTo>
                  <a:lnTo>
                    <a:pt x="4326" y="3109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692520" y="2209680"/>
              <a:ext cx="1446480" cy="1335600"/>
            </a:xfrm>
            <a:custGeom>
              <a:avLst/>
              <a:gdLst/>
              <a:ahLst/>
              <a:rect l="0" t="0" r="r" b="b"/>
              <a:pathLst>
                <a:path w="4018" h="3710">
                  <a:moveTo>
                    <a:pt x="4018" y="551"/>
                  </a:moveTo>
                  <a:lnTo>
                    <a:pt x="3687" y="940"/>
                  </a:lnTo>
                  <a:lnTo>
                    <a:pt x="3092" y="935"/>
                  </a:lnTo>
                  <a:lnTo>
                    <a:pt x="2682" y="1570"/>
                  </a:lnTo>
                  <a:lnTo>
                    <a:pt x="1790" y="2122"/>
                  </a:lnTo>
                  <a:lnTo>
                    <a:pt x="1314" y="2413"/>
                  </a:lnTo>
                  <a:lnTo>
                    <a:pt x="762" y="2850"/>
                  </a:lnTo>
                  <a:lnTo>
                    <a:pt x="0" y="3710"/>
                  </a:lnTo>
                  <a:lnTo>
                    <a:pt x="291" y="2646"/>
                  </a:lnTo>
                  <a:lnTo>
                    <a:pt x="996" y="1963"/>
                  </a:lnTo>
                  <a:lnTo>
                    <a:pt x="2020" y="1059"/>
                  </a:lnTo>
                  <a:lnTo>
                    <a:pt x="2655" y="635"/>
                  </a:lnTo>
                  <a:lnTo>
                    <a:pt x="3502" y="0"/>
                  </a:lnTo>
                  <a:lnTo>
                    <a:pt x="4018" y="5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965840" y="1536840"/>
              <a:ext cx="1321200" cy="864000"/>
            </a:xfrm>
            <a:custGeom>
              <a:avLst/>
              <a:gdLst/>
              <a:ahLst/>
              <a:rect l="0" t="0" r="r" b="b"/>
              <a:pathLst>
                <a:path w="3670" h="2400">
                  <a:moveTo>
                    <a:pt x="0" y="1977"/>
                  </a:moveTo>
                  <a:lnTo>
                    <a:pt x="352" y="2400"/>
                  </a:lnTo>
                  <a:lnTo>
                    <a:pt x="1623" y="2048"/>
                  </a:lnTo>
                  <a:lnTo>
                    <a:pt x="3670" y="636"/>
                  </a:lnTo>
                  <a:lnTo>
                    <a:pt x="3212" y="0"/>
                  </a:lnTo>
                  <a:lnTo>
                    <a:pt x="0" y="197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 txBox="1"/>
          <p:nvPr/>
        </p:nvSpPr>
        <p:spPr>
          <a:xfrm>
            <a:off x="685800" y="243828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743200" y="1905120"/>
            <a:ext cx="3857760" cy="4258080"/>
            <a:chOff x="2743200" y="1905120"/>
            <a:chExt cx="3857760" cy="4258080"/>
          </a:xfrm>
        </p:grpSpPr>
        <p:grpSp>
          <p:nvGrpSpPr>
            <p:cNvPr id="60" name=""/>
            <p:cNvGrpSpPr/>
            <p:nvPr/>
          </p:nvGrpSpPr>
          <p:grpSpPr>
            <a:xfrm>
              <a:off x="4191120" y="1905120"/>
              <a:ext cx="2409840" cy="4258080"/>
              <a:chOff x="4191120" y="1905120"/>
              <a:chExt cx="2409840" cy="42580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4191120" y="3511440"/>
                <a:ext cx="1578240" cy="869400"/>
                <a:chOff x="4191120" y="3511440"/>
                <a:chExt cx="1578240" cy="869400"/>
              </a:xfrm>
            </p:grpSpPr>
            <p:grpSp>
              <p:nvGrpSpPr>
                <p:cNvPr id="62" name=""/>
                <p:cNvGrpSpPr/>
                <p:nvPr/>
              </p:nvGrpSpPr>
              <p:grpSpPr>
                <a:xfrm>
                  <a:off x="4191120" y="3672000"/>
                  <a:ext cx="1074960" cy="708840"/>
                  <a:chOff x="4191120" y="3672000"/>
                  <a:chExt cx="1074960" cy="708840"/>
                </a:xfrm>
              </p:grpSpPr>
              <p:grpSp>
                <p:nvGrpSpPr>
                  <p:cNvPr id="63" name=""/>
                  <p:cNvGrpSpPr/>
                  <p:nvPr/>
                </p:nvGrpSpPr>
                <p:grpSpPr>
                  <a:xfrm>
                    <a:off x="4191120" y="3672000"/>
                    <a:ext cx="1074960" cy="576360"/>
                    <a:chOff x="4191120" y="3672000"/>
                    <a:chExt cx="1074960" cy="57636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191120" y="3855960"/>
                      <a:ext cx="1074960" cy="147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86" h="411">
                          <a:moveTo>
                            <a:pt x="1310" y="239"/>
                          </a:moveTo>
                          <a:lnTo>
                            <a:pt x="0" y="0"/>
                          </a:lnTo>
                          <a:lnTo>
                            <a:pt x="340" y="8"/>
                          </a:lnTo>
                          <a:lnTo>
                            <a:pt x="772" y="32"/>
                          </a:lnTo>
                          <a:lnTo>
                            <a:pt x="1401" y="112"/>
                          </a:lnTo>
                          <a:lnTo>
                            <a:pt x="2221" y="243"/>
                          </a:lnTo>
                          <a:lnTo>
                            <a:pt x="2448" y="294"/>
                          </a:lnTo>
                          <a:lnTo>
                            <a:pt x="2986" y="392"/>
                          </a:lnTo>
                          <a:lnTo>
                            <a:pt x="2539" y="411"/>
                          </a:lnTo>
                          <a:lnTo>
                            <a:pt x="1857" y="294"/>
                          </a:lnTo>
                          <a:lnTo>
                            <a:pt x="1819" y="261"/>
                          </a:lnTo>
                          <a:lnTo>
                            <a:pt x="1675" y="235"/>
                          </a:lnTo>
                          <a:lnTo>
                            <a:pt x="1310" y="239"/>
                          </a:lnTo>
                          <a:close/>
                        </a:path>
                      </a:pathLst>
                    </a:custGeom>
                    <a:blipFill rotWithShape="0">
                      <a:blip r:embed="rId1"/>
                      <a:tile tx="0" ty="0" sx="3528125" sy="3528125" algn="ctr"/>
                    </a:blip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4334040" y="3672000"/>
                      <a:ext cx="613080" cy="114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703" h="319">
                          <a:moveTo>
                            <a:pt x="1437" y="319"/>
                          </a:moveTo>
                          <a:lnTo>
                            <a:pt x="1253" y="291"/>
                          </a:lnTo>
                          <a:lnTo>
                            <a:pt x="1287" y="252"/>
                          </a:lnTo>
                          <a:lnTo>
                            <a:pt x="974" y="214"/>
                          </a:lnTo>
                          <a:lnTo>
                            <a:pt x="735" y="145"/>
                          </a:lnTo>
                          <a:lnTo>
                            <a:pt x="605" y="109"/>
                          </a:lnTo>
                          <a:lnTo>
                            <a:pt x="408" y="64"/>
                          </a:lnTo>
                          <a:lnTo>
                            <a:pt x="0" y="0"/>
                          </a:lnTo>
                          <a:lnTo>
                            <a:pt x="503" y="54"/>
                          </a:lnTo>
                          <a:lnTo>
                            <a:pt x="872" y="95"/>
                          </a:lnTo>
                          <a:lnTo>
                            <a:pt x="1233" y="184"/>
                          </a:lnTo>
                          <a:lnTo>
                            <a:pt x="1444" y="232"/>
                          </a:lnTo>
                          <a:lnTo>
                            <a:pt x="1703" y="306"/>
                          </a:lnTo>
                          <a:lnTo>
                            <a:pt x="1437" y="3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4643280" y="4141800"/>
                      <a:ext cx="43704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14" h="296">
                          <a:moveTo>
                            <a:pt x="304" y="0"/>
                          </a:moveTo>
                          <a:lnTo>
                            <a:pt x="0" y="20"/>
                          </a:lnTo>
                          <a:lnTo>
                            <a:pt x="0" y="107"/>
                          </a:lnTo>
                          <a:lnTo>
                            <a:pt x="803" y="296"/>
                          </a:lnTo>
                          <a:lnTo>
                            <a:pt x="1214" y="276"/>
                          </a:lnTo>
                          <a:lnTo>
                            <a:pt x="304" y="0"/>
                          </a:lnTo>
                          <a:close/>
                        </a:path>
                      </a:pathLst>
                    </a:custGeom>
                    <a:solidFill>
                      <a:srgbClr val="9933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>
                    <a:off x="4746240" y="4115160"/>
                    <a:ext cx="250560" cy="265680"/>
                  </a:xfrm>
                  <a:custGeom>
                    <a:avLst/>
                    <a:gdLst/>
                    <a:ahLst/>
                    <a:rect l="0" t="0" r="r" b="b"/>
                    <a:pathLst>
                      <a:path w="696" h="738">
                        <a:moveTo>
                          <a:pt x="196" y="27"/>
                        </a:moveTo>
                        <a:lnTo>
                          <a:pt x="196" y="27"/>
                        </a:lnTo>
                        <a:lnTo>
                          <a:pt x="196" y="27"/>
                        </a:lnTo>
                        <a:cubicBezTo>
                          <a:pt x="141" y="52"/>
                          <a:pt x="94" y="91"/>
                          <a:pt x="60" y="143"/>
                        </a:cubicBezTo>
                        <a:cubicBezTo>
                          <a:pt x="26" y="194"/>
                          <a:pt x="6" y="254"/>
                          <a:pt x="1" y="318"/>
                        </a:cubicBezTo>
                        <a:cubicBezTo>
                          <a:pt x="-3" y="383"/>
                          <a:pt x="9" y="448"/>
                          <a:pt x="35" y="508"/>
                        </a:cubicBezTo>
                        <a:cubicBezTo>
                          <a:pt x="62" y="568"/>
                          <a:pt x="103" y="620"/>
                          <a:pt x="153" y="660"/>
                        </a:cubicBezTo>
                        <a:cubicBezTo>
                          <a:pt x="204" y="700"/>
                          <a:pt x="262" y="725"/>
                          <a:pt x="323" y="734"/>
                        </a:cubicBezTo>
                        <a:cubicBezTo>
                          <a:pt x="384" y="743"/>
                          <a:pt x="445" y="734"/>
                          <a:pt x="500" y="710"/>
                        </a:cubicBezTo>
                        <a:lnTo>
                          <a:pt x="500" y="710"/>
                        </a:lnTo>
                        <a:lnTo>
                          <a:pt x="500" y="710"/>
                        </a:lnTo>
                        <a:cubicBezTo>
                          <a:pt x="555" y="685"/>
                          <a:pt x="602" y="646"/>
                          <a:pt x="636" y="594"/>
                        </a:cubicBezTo>
                        <a:cubicBezTo>
                          <a:pt x="670" y="543"/>
                          <a:pt x="690" y="483"/>
                          <a:pt x="695" y="419"/>
                        </a:cubicBezTo>
                        <a:cubicBezTo>
                          <a:pt x="699" y="354"/>
                          <a:pt x="687" y="289"/>
                          <a:pt x="661" y="229"/>
                        </a:cubicBezTo>
                        <a:cubicBezTo>
                          <a:pt x="634" y="169"/>
                          <a:pt x="593" y="117"/>
                          <a:pt x="543" y="77"/>
                        </a:cubicBezTo>
                        <a:cubicBezTo>
                          <a:pt x="492" y="37"/>
                          <a:pt x="434" y="12"/>
                          <a:pt x="373" y="3"/>
                        </a:cubicBezTo>
                        <a:cubicBezTo>
                          <a:pt x="312" y="-6"/>
                          <a:pt x="251" y="3"/>
                          <a:pt x="196" y="2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4964040" y="3511440"/>
                  <a:ext cx="805320" cy="854280"/>
                </a:xfrm>
                <a:custGeom>
                  <a:avLst/>
                  <a:gdLst/>
                  <a:ahLst/>
                  <a:rect l="0" t="0" r="r" b="b"/>
                  <a:pathLst>
                    <a:path w="2237" h="2373">
                      <a:moveTo>
                        <a:pt x="1865" y="0"/>
                      </a:moveTo>
                      <a:lnTo>
                        <a:pt x="1677" y="182"/>
                      </a:lnTo>
                      <a:lnTo>
                        <a:pt x="1491" y="912"/>
                      </a:lnTo>
                      <a:lnTo>
                        <a:pt x="1305" y="1460"/>
                      </a:lnTo>
                      <a:lnTo>
                        <a:pt x="0" y="1643"/>
                      </a:lnTo>
                      <a:lnTo>
                        <a:pt x="186" y="2373"/>
                      </a:lnTo>
                      <a:lnTo>
                        <a:pt x="1865" y="2008"/>
                      </a:lnTo>
                      <a:lnTo>
                        <a:pt x="2237" y="547"/>
                      </a:lnTo>
                      <a:lnTo>
                        <a:pt x="2237" y="182"/>
                      </a:lnTo>
                      <a:lnTo>
                        <a:pt x="2051" y="0"/>
                      </a:lnTo>
                      <a:lnTo>
                        <a:pt x="18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265720" y="4554360"/>
                <a:ext cx="1335240" cy="1608840"/>
                <a:chOff x="5265720" y="4554360"/>
                <a:chExt cx="1335240" cy="1608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602320" y="455436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265720" y="598176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937120" y="598176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403960" y="1905120"/>
                <a:ext cx="954360" cy="2821320"/>
                <a:chOff x="5403960" y="1905120"/>
                <a:chExt cx="954360" cy="28213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92880" y="334800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5403960" y="1905120"/>
                  <a:ext cx="886320" cy="1565640"/>
                  <a:chOff x="5403960" y="1905120"/>
                  <a:chExt cx="886320" cy="15656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5500800" y="210816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03960" y="249084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5715000" y="245736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883120" y="263052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521320" y="263844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5703840" y="1930320"/>
                    <a:ext cx="648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V="1">
                    <a:off x="5803920" y="1913040"/>
                    <a:ext cx="1584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V="1">
                    <a:off x="5946840" y="1905120"/>
                    <a:ext cx="33120" cy="195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V="1">
                    <a:off x="6089760" y="1946160"/>
                    <a:ext cx="48960" cy="1717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6216480" y="1969920"/>
                    <a:ext cx="47880" cy="155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492880" y="292896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575316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087960" y="3495600"/>
                <a:ext cx="449280" cy="1243440"/>
                <a:chOff x="6087960" y="3495600"/>
                <a:chExt cx="449280" cy="1243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087960" y="3495600"/>
                  <a:ext cx="429120" cy="1026000"/>
                </a:xfrm>
                <a:custGeom>
                  <a:avLst/>
                  <a:gdLst/>
                  <a:ahLst/>
                  <a:rect l="0" t="0" r="r" b="b"/>
                  <a:pathLst>
                    <a:path w="1192" h="2850">
                      <a:moveTo>
                        <a:pt x="210" y="0"/>
                      </a:moveTo>
                      <a:lnTo>
                        <a:pt x="70" y="91"/>
                      </a:lnTo>
                      <a:lnTo>
                        <a:pt x="0" y="364"/>
                      </a:lnTo>
                      <a:lnTo>
                        <a:pt x="186" y="1140"/>
                      </a:lnTo>
                      <a:lnTo>
                        <a:pt x="467" y="2850"/>
                      </a:lnTo>
                      <a:lnTo>
                        <a:pt x="1192" y="2713"/>
                      </a:lnTo>
                      <a:lnTo>
                        <a:pt x="864" y="1254"/>
                      </a:lnTo>
                      <a:lnTo>
                        <a:pt x="491" y="205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69040" y="4492800"/>
                  <a:ext cx="268200" cy="246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3575160" y="3475080"/>
              <a:ext cx="1322640" cy="946440"/>
              <a:chOff x="3575160" y="3475080"/>
              <a:chExt cx="1322640" cy="9464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346640" y="3475080"/>
                <a:ext cx="551160" cy="946440"/>
                <a:chOff x="4346640" y="3475080"/>
                <a:chExt cx="551160" cy="94644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4346640" y="3475080"/>
                  <a:ext cx="551160" cy="946440"/>
                  <a:chOff x="4346640" y="3475080"/>
                  <a:chExt cx="551160" cy="94644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4346640" y="3475080"/>
                    <a:ext cx="551160" cy="9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31" h="2629">
                        <a:moveTo>
                          <a:pt x="860" y="1531"/>
                        </a:moveTo>
                        <a:lnTo>
                          <a:pt x="1531" y="0"/>
                        </a:lnTo>
                        <a:lnTo>
                          <a:pt x="1359" y="52"/>
                        </a:lnTo>
                        <a:lnTo>
                          <a:pt x="1134" y="207"/>
                        </a:lnTo>
                        <a:lnTo>
                          <a:pt x="812" y="718"/>
                        </a:lnTo>
                        <a:lnTo>
                          <a:pt x="392" y="1557"/>
                        </a:lnTo>
                        <a:lnTo>
                          <a:pt x="273" y="1879"/>
                        </a:lnTo>
                        <a:lnTo>
                          <a:pt x="0" y="2510"/>
                        </a:lnTo>
                        <a:lnTo>
                          <a:pt x="229" y="2629"/>
                        </a:lnTo>
                        <a:lnTo>
                          <a:pt x="577" y="1883"/>
                        </a:lnTo>
                        <a:lnTo>
                          <a:pt x="599" y="1667"/>
                        </a:lnTo>
                        <a:lnTo>
                          <a:pt x="670" y="1500"/>
                        </a:lnTo>
                        <a:lnTo>
                          <a:pt x="860" y="1531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tile tx="0" ty="0" sx="3528125" sy="3528125" algn="ctr"/>
                  </a:blip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529160" y="3476520"/>
                    <a:ext cx="349560" cy="525960"/>
                  </a:xfrm>
                  <a:custGeom>
                    <a:avLst/>
                    <a:gdLst/>
                    <a:ahLst/>
                    <a:rect l="0" t="0" r="r" b="b"/>
                    <a:pathLst>
                      <a:path w="971" h="1461">
                        <a:moveTo>
                          <a:pt x="149" y="1461"/>
                        </a:moveTo>
                        <a:lnTo>
                          <a:pt x="255" y="1333"/>
                        </a:lnTo>
                        <a:lnTo>
                          <a:pt x="238" y="1152"/>
                        </a:lnTo>
                        <a:lnTo>
                          <a:pt x="414" y="979"/>
                        </a:lnTo>
                        <a:lnTo>
                          <a:pt x="552" y="666"/>
                        </a:lnTo>
                        <a:lnTo>
                          <a:pt x="627" y="503"/>
                        </a:lnTo>
                        <a:lnTo>
                          <a:pt x="737" y="299"/>
                        </a:lnTo>
                        <a:lnTo>
                          <a:pt x="971" y="0"/>
                        </a:lnTo>
                        <a:lnTo>
                          <a:pt x="684" y="251"/>
                        </a:lnTo>
                        <a:lnTo>
                          <a:pt x="471" y="437"/>
                        </a:lnTo>
                        <a:lnTo>
                          <a:pt x="268" y="847"/>
                        </a:lnTo>
                        <a:lnTo>
                          <a:pt x="145" y="1068"/>
                        </a:lnTo>
                        <a:lnTo>
                          <a:pt x="0" y="1404"/>
                        </a:lnTo>
                        <a:lnTo>
                          <a:pt x="149" y="14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362480" y="3976560"/>
                    <a:ext cx="208440" cy="427320"/>
                  </a:xfrm>
                  <a:custGeom>
                    <a:avLst/>
                    <a:gdLst/>
                    <a:ahLst/>
                    <a:rect l="0" t="0" r="r" b="b"/>
                    <a:pathLst>
                      <a:path w="579" h="1187">
                        <a:moveTo>
                          <a:pt x="433" y="0"/>
                        </a:moveTo>
                        <a:lnTo>
                          <a:pt x="579" y="83"/>
                        </a:lnTo>
                        <a:lnTo>
                          <a:pt x="579" y="432"/>
                        </a:lnTo>
                        <a:lnTo>
                          <a:pt x="195" y="1187"/>
                        </a:lnTo>
                        <a:lnTo>
                          <a:pt x="0" y="1107"/>
                        </a:lnTo>
                        <a:lnTo>
                          <a:pt x="43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4347720" y="4115160"/>
                  <a:ext cx="250560" cy="265680"/>
                </a:xfrm>
                <a:custGeom>
                  <a:avLst/>
                  <a:gdLst/>
                  <a:ahLst/>
                  <a:rect l="0" t="0" r="r" b="b"/>
                  <a:pathLst>
                    <a:path w="696" h="738">
                      <a:moveTo>
                        <a:pt x="196" y="710"/>
                      </a:moveTo>
                      <a:lnTo>
                        <a:pt x="196" y="710"/>
                      </a:lnTo>
                      <a:cubicBezTo>
                        <a:pt x="251" y="734"/>
                        <a:pt x="312" y="743"/>
                        <a:pt x="373" y="734"/>
                      </a:cubicBezTo>
                      <a:cubicBezTo>
                        <a:pt x="434" y="725"/>
                        <a:pt x="492" y="700"/>
                        <a:pt x="543" y="660"/>
                      </a:cubicBezTo>
                      <a:cubicBezTo>
                        <a:pt x="593" y="620"/>
                        <a:pt x="634" y="568"/>
                        <a:pt x="661" y="508"/>
                      </a:cubicBezTo>
                      <a:cubicBezTo>
                        <a:pt x="687" y="448"/>
                        <a:pt x="699" y="383"/>
                        <a:pt x="695" y="318"/>
                      </a:cubicBezTo>
                      <a:cubicBezTo>
                        <a:pt x="690" y="254"/>
                        <a:pt x="670" y="194"/>
                        <a:pt x="636" y="143"/>
                      </a:cubicBezTo>
                      <a:cubicBezTo>
                        <a:pt x="602" y="91"/>
                        <a:pt x="555" y="52"/>
                        <a:pt x="500" y="27"/>
                      </a:cubicBezTo>
                      <a:lnTo>
                        <a:pt x="500" y="27"/>
                      </a:lnTo>
                      <a:lnTo>
                        <a:pt x="500" y="27"/>
                      </a:lnTo>
                      <a:cubicBezTo>
                        <a:pt x="445" y="3"/>
                        <a:pt x="384" y="-6"/>
                        <a:pt x="323" y="3"/>
                      </a:cubicBezTo>
                      <a:cubicBezTo>
                        <a:pt x="262" y="12"/>
                        <a:pt x="204" y="37"/>
                        <a:pt x="153" y="77"/>
                      </a:cubicBezTo>
                      <a:cubicBezTo>
                        <a:pt x="103" y="117"/>
                        <a:pt x="62" y="169"/>
                        <a:pt x="35" y="229"/>
                      </a:cubicBezTo>
                      <a:cubicBezTo>
                        <a:pt x="9" y="289"/>
                        <a:pt x="-3" y="354"/>
                        <a:pt x="1" y="419"/>
                      </a:cubicBezTo>
                      <a:cubicBezTo>
                        <a:pt x="6" y="483"/>
                        <a:pt x="26" y="543"/>
                        <a:pt x="60" y="594"/>
                      </a:cubicBezTo>
                      <a:cubicBezTo>
                        <a:pt x="94" y="646"/>
                        <a:pt x="141" y="685"/>
                        <a:pt x="196" y="7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575160" y="3511440"/>
                <a:ext cx="805320" cy="854280"/>
              </a:xfrm>
              <a:custGeom>
                <a:avLst/>
                <a:gdLst/>
                <a:ahLst/>
                <a:rect l="0" t="0" r="r" b="b"/>
                <a:pathLst>
                  <a:path w="2237" h="2373">
                    <a:moveTo>
                      <a:pt x="374" y="0"/>
                    </a:moveTo>
                    <a:lnTo>
                      <a:pt x="561" y="180"/>
                    </a:lnTo>
                    <a:lnTo>
                      <a:pt x="746" y="912"/>
                    </a:lnTo>
                    <a:lnTo>
                      <a:pt x="935" y="1460"/>
                    </a:lnTo>
                    <a:lnTo>
                      <a:pt x="2237" y="1641"/>
                    </a:lnTo>
                    <a:lnTo>
                      <a:pt x="2052" y="2373"/>
                    </a:lnTo>
                    <a:lnTo>
                      <a:pt x="374" y="2007"/>
                    </a:lnTo>
                    <a:lnTo>
                      <a:pt x="0" y="546"/>
                    </a:lnTo>
                    <a:lnTo>
                      <a:pt x="0" y="180"/>
                    </a:lnTo>
                    <a:lnTo>
                      <a:pt x="189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743200" y="4554360"/>
              <a:ext cx="1335240" cy="1608840"/>
              <a:chOff x="2743200" y="4554360"/>
              <a:chExt cx="1335240" cy="1608840"/>
            </a:xfrm>
          </p:grpSpPr>
          <p:sp>
            <p:nvSpPr>
              <p:cNvPr id="100" name=""/>
              <p:cNvSpPr/>
              <p:nvPr/>
            </p:nvSpPr>
            <p:spPr>
              <a:xfrm>
                <a:off x="316404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146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432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986200" y="1905120"/>
              <a:ext cx="954000" cy="2823120"/>
              <a:chOff x="2986200" y="1905120"/>
              <a:chExt cx="954000" cy="2823120"/>
            </a:xfrm>
          </p:grpSpPr>
          <p:sp>
            <p:nvSpPr>
              <p:cNvPr id="104" name=""/>
              <p:cNvSpPr/>
              <p:nvPr/>
            </p:nvSpPr>
            <p:spPr>
              <a:xfrm>
                <a:off x="298620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054240" y="1905120"/>
                <a:ext cx="885960" cy="1606680"/>
                <a:chOff x="3054240" y="1905120"/>
                <a:chExt cx="885960" cy="1606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5424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57840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20040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8616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4652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3633840" y="1930320"/>
                  <a:ext cx="612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352440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3363840" y="1905120"/>
                  <a:ext cx="3348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flipV="1">
                  <a:off x="3205080" y="1946160"/>
                  <a:ext cx="4932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307980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7168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2280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0040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2806560" y="3495600"/>
              <a:ext cx="450000" cy="1243440"/>
              <a:chOff x="2806560" y="3495600"/>
              <a:chExt cx="450000" cy="1243440"/>
            </a:xfrm>
          </p:grpSpPr>
          <p:sp>
            <p:nvSpPr>
              <p:cNvPr id="120" name=""/>
              <p:cNvSpPr/>
              <p:nvPr/>
            </p:nvSpPr>
            <p:spPr>
              <a:xfrm>
                <a:off x="282744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0656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 txBox="1"/>
          <p:nvPr/>
        </p:nvSpPr>
        <p:spPr>
          <a:xfrm>
            <a:off x="152280" y="3049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’s Expression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895480" y="1905120"/>
            <a:ext cx="3400920" cy="4267440"/>
            <a:chOff x="2895480" y="1905120"/>
            <a:chExt cx="3400920" cy="4267440"/>
          </a:xfrm>
        </p:grpSpPr>
        <p:sp>
          <p:nvSpPr>
            <p:cNvPr id="124" name=""/>
            <p:cNvSpPr/>
            <p:nvPr/>
          </p:nvSpPr>
          <p:spPr>
            <a:xfrm>
              <a:off x="4554360" y="35560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2343" y="79"/>
                  </a:moveTo>
                  <a:lnTo>
                    <a:pt x="2189" y="0"/>
                  </a:lnTo>
                  <a:lnTo>
                    <a:pt x="1920" y="79"/>
                  </a:lnTo>
                  <a:lnTo>
                    <a:pt x="1341" y="626"/>
                  </a:lnTo>
                  <a:lnTo>
                    <a:pt x="0" y="1725"/>
                  </a:lnTo>
                  <a:lnTo>
                    <a:pt x="480" y="2285"/>
                  </a:lnTo>
                  <a:lnTo>
                    <a:pt x="1584" y="1271"/>
                  </a:lnTo>
                  <a:lnTo>
                    <a:pt x="2303" y="423"/>
                  </a:lnTo>
                  <a:lnTo>
                    <a:pt x="2343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960800" y="4564080"/>
              <a:ext cx="1335600" cy="1608480"/>
              <a:chOff x="4960800" y="4564080"/>
              <a:chExt cx="1335600" cy="1608480"/>
            </a:xfrm>
          </p:grpSpPr>
          <p:sp>
            <p:nvSpPr>
              <p:cNvPr id="126" name=""/>
              <p:cNvSpPr/>
              <p:nvPr/>
            </p:nvSpPr>
            <p:spPr>
              <a:xfrm>
                <a:off x="5297400" y="456408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0" y="0"/>
                    </a:moveTo>
                    <a:lnTo>
                      <a:pt x="279" y="4124"/>
                    </a:lnTo>
                    <a:lnTo>
                      <a:pt x="910" y="4124"/>
                    </a:lnTo>
                    <a:lnTo>
                      <a:pt x="817" y="1116"/>
                    </a:lnTo>
                    <a:lnTo>
                      <a:pt x="910" y="4124"/>
                    </a:lnTo>
                    <a:lnTo>
                      <a:pt x="1611" y="4124"/>
                    </a:lnTo>
                    <a:lnTo>
                      <a:pt x="15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6080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4" y="160"/>
                    </a:moveTo>
                    <a:lnTo>
                      <a:pt x="863" y="45"/>
                    </a:lnTo>
                    <a:lnTo>
                      <a:pt x="629" y="0"/>
                    </a:lnTo>
                    <a:lnTo>
                      <a:pt x="373" y="91"/>
                    </a:lnTo>
                    <a:lnTo>
                      <a:pt x="116" y="229"/>
                    </a:lnTo>
                    <a:lnTo>
                      <a:pt x="0" y="413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60"/>
                    </a:lnTo>
                    <a:lnTo>
                      <a:pt x="121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32560" y="599112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29" y="160"/>
                    </a:moveTo>
                    <a:lnTo>
                      <a:pt x="980" y="45"/>
                    </a:lnTo>
                    <a:lnTo>
                      <a:pt x="1214" y="0"/>
                    </a:lnTo>
                    <a:lnTo>
                      <a:pt x="1470" y="91"/>
                    </a:lnTo>
                    <a:lnTo>
                      <a:pt x="1727" y="229"/>
                    </a:lnTo>
                    <a:lnTo>
                      <a:pt x="1844" y="413"/>
                    </a:lnTo>
                    <a:lnTo>
                      <a:pt x="1680" y="504"/>
                    </a:lnTo>
                    <a:lnTo>
                      <a:pt x="0" y="504"/>
                    </a:lnTo>
                    <a:lnTo>
                      <a:pt x="0" y="160"/>
                    </a:lnTo>
                    <a:lnTo>
                      <a:pt x="629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099040" y="1914480"/>
              <a:ext cx="954360" cy="2821680"/>
              <a:chOff x="5099040" y="1914480"/>
              <a:chExt cx="954360" cy="2821680"/>
            </a:xfrm>
          </p:grpSpPr>
          <p:sp>
            <p:nvSpPr>
              <p:cNvPr id="130" name=""/>
              <p:cNvSpPr/>
              <p:nvPr/>
            </p:nvSpPr>
            <p:spPr>
              <a:xfrm>
                <a:off x="5187960" y="3357720"/>
                <a:ext cx="865440" cy="1378440"/>
              </a:xfrm>
              <a:custGeom>
                <a:avLst/>
                <a:gdLst/>
                <a:ahLst/>
                <a:rect l="0" t="0" r="r" b="b"/>
                <a:pathLst>
                  <a:path w="2404" h="3829">
                    <a:moveTo>
                      <a:pt x="841" y="322"/>
                    </a:moveTo>
                    <a:lnTo>
                      <a:pt x="763" y="337"/>
                    </a:lnTo>
                    <a:lnTo>
                      <a:pt x="705" y="375"/>
                    </a:lnTo>
                    <a:lnTo>
                      <a:pt x="593" y="501"/>
                    </a:lnTo>
                    <a:lnTo>
                      <a:pt x="476" y="622"/>
                    </a:lnTo>
                    <a:lnTo>
                      <a:pt x="344" y="732"/>
                    </a:lnTo>
                    <a:lnTo>
                      <a:pt x="325" y="767"/>
                    </a:lnTo>
                    <a:lnTo>
                      <a:pt x="306" y="801"/>
                    </a:lnTo>
                    <a:lnTo>
                      <a:pt x="306" y="801"/>
                    </a:lnTo>
                    <a:lnTo>
                      <a:pt x="325" y="801"/>
                    </a:lnTo>
                    <a:lnTo>
                      <a:pt x="135" y="1337"/>
                    </a:lnTo>
                    <a:lnTo>
                      <a:pt x="0" y="3742"/>
                    </a:lnTo>
                    <a:lnTo>
                      <a:pt x="2404" y="3829"/>
                    </a:lnTo>
                    <a:lnTo>
                      <a:pt x="2043" y="1588"/>
                    </a:lnTo>
                    <a:lnTo>
                      <a:pt x="1869" y="356"/>
                    </a:lnTo>
                    <a:lnTo>
                      <a:pt x="1222" y="0"/>
                    </a:lnTo>
                    <a:lnTo>
                      <a:pt x="841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099040" y="1914480"/>
                <a:ext cx="886320" cy="1566000"/>
                <a:chOff x="5099040" y="1914480"/>
                <a:chExt cx="886320" cy="1566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195880" y="211788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512" y="0"/>
                      </a:moveTo>
                      <a:lnTo>
                        <a:pt x="233" y="227"/>
                      </a:lnTo>
                      <a:lnTo>
                        <a:pt x="69" y="592"/>
                      </a:lnTo>
                      <a:lnTo>
                        <a:pt x="23" y="1049"/>
                      </a:lnTo>
                      <a:lnTo>
                        <a:pt x="0" y="2325"/>
                      </a:lnTo>
                      <a:lnTo>
                        <a:pt x="46" y="3056"/>
                      </a:lnTo>
                      <a:lnTo>
                        <a:pt x="723" y="3101"/>
                      </a:lnTo>
                      <a:lnTo>
                        <a:pt x="817" y="3512"/>
                      </a:lnTo>
                      <a:lnTo>
                        <a:pt x="910" y="3785"/>
                      </a:lnTo>
                      <a:lnTo>
                        <a:pt x="1120" y="3785"/>
                      </a:lnTo>
                      <a:lnTo>
                        <a:pt x="1236" y="3534"/>
                      </a:lnTo>
                      <a:lnTo>
                        <a:pt x="1166" y="3101"/>
                      </a:lnTo>
                      <a:lnTo>
                        <a:pt x="1797" y="3033"/>
                      </a:lnTo>
                      <a:lnTo>
                        <a:pt x="1820" y="2599"/>
                      </a:lnTo>
                      <a:lnTo>
                        <a:pt x="1960" y="2667"/>
                      </a:lnTo>
                      <a:lnTo>
                        <a:pt x="2100" y="2622"/>
                      </a:lnTo>
                      <a:lnTo>
                        <a:pt x="2193" y="2257"/>
                      </a:lnTo>
                      <a:lnTo>
                        <a:pt x="2077" y="2075"/>
                      </a:lnTo>
                      <a:lnTo>
                        <a:pt x="1937" y="2097"/>
                      </a:lnTo>
                      <a:lnTo>
                        <a:pt x="2077" y="159"/>
                      </a:lnTo>
                      <a:lnTo>
                        <a:pt x="5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99040" y="250020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10080" y="246708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78560" y="263988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216400" y="264780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98920" y="1940040"/>
                  <a:ext cx="648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5499000" y="1922400"/>
                  <a:ext cx="1584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641920" y="1914480"/>
                  <a:ext cx="33480" cy="195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784840" y="1955880"/>
                  <a:ext cx="49320" cy="171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911920" y="1979640"/>
                  <a:ext cx="4752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87960" y="293832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0" y="0"/>
                      </a:moveTo>
                      <a:lnTo>
                        <a:pt x="1611" y="141"/>
                      </a:lnTo>
                      <a:lnTo>
                        <a:pt x="658" y="6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5448240" y="3365640"/>
                <a:ext cx="268560" cy="155880"/>
              </a:xfrm>
              <a:custGeom>
                <a:avLst/>
                <a:gdLst/>
                <a:ahLst/>
                <a:rect l="0" t="0" r="r" b="b"/>
                <a:pathLst>
                  <a:path w="746" h="433">
                    <a:moveTo>
                      <a:pt x="0" y="296"/>
                    </a:moveTo>
                    <a:lnTo>
                      <a:pt x="209" y="410"/>
                    </a:lnTo>
                    <a:lnTo>
                      <a:pt x="583" y="433"/>
                    </a:lnTo>
                    <a:lnTo>
                      <a:pt x="746" y="228"/>
                    </a:lnTo>
                    <a:lnTo>
                      <a:pt x="746" y="68"/>
                    </a:lnTo>
                    <a:lnTo>
                      <a:pt x="583" y="0"/>
                    </a:lnTo>
                    <a:lnTo>
                      <a:pt x="420" y="228"/>
                    </a:lnTo>
                    <a:lnTo>
                      <a:pt x="163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783400" y="3505320"/>
              <a:ext cx="448920" cy="1243080"/>
              <a:chOff x="5783400" y="3505320"/>
              <a:chExt cx="448920" cy="1243080"/>
            </a:xfrm>
          </p:grpSpPr>
          <p:sp>
            <p:nvSpPr>
              <p:cNvPr id="145" name=""/>
              <p:cNvSpPr/>
              <p:nvPr/>
            </p:nvSpPr>
            <p:spPr>
              <a:xfrm>
                <a:off x="5783400" y="350532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210" y="0"/>
                    </a:moveTo>
                    <a:lnTo>
                      <a:pt x="70" y="91"/>
                    </a:lnTo>
                    <a:lnTo>
                      <a:pt x="0" y="364"/>
                    </a:lnTo>
                    <a:lnTo>
                      <a:pt x="186" y="1140"/>
                    </a:lnTo>
                    <a:lnTo>
                      <a:pt x="467" y="2850"/>
                    </a:lnTo>
                    <a:lnTo>
                      <a:pt x="1192" y="2713"/>
                    </a:lnTo>
                    <a:lnTo>
                      <a:pt x="864" y="1254"/>
                    </a:lnTo>
                    <a:lnTo>
                      <a:pt x="491" y="205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64120" y="450216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895480" y="4554360"/>
              <a:ext cx="1335600" cy="1608840"/>
              <a:chOff x="2895480" y="4554360"/>
              <a:chExt cx="1335600" cy="1608840"/>
            </a:xfrm>
          </p:grpSpPr>
          <p:sp>
            <p:nvSpPr>
              <p:cNvPr id="148" name=""/>
              <p:cNvSpPr/>
              <p:nvPr/>
            </p:nvSpPr>
            <p:spPr>
              <a:xfrm>
                <a:off x="331632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6724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9548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787920" y="3568680"/>
              <a:ext cx="1838520" cy="928440"/>
              <a:chOff x="3787920" y="3568680"/>
              <a:chExt cx="1838520" cy="9284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572000" y="4243320"/>
                <a:ext cx="1054440" cy="149760"/>
                <a:chOff x="4572000" y="4243320"/>
                <a:chExt cx="1054440" cy="149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572000" y="4243320"/>
                  <a:ext cx="1054440" cy="149760"/>
                </a:xfrm>
                <a:custGeom>
                  <a:avLst/>
                  <a:gdLst/>
                  <a:ahLst/>
                  <a:rect l="0" t="0" r="r" b="b"/>
                  <a:pathLst>
                    <a:path w="2929" h="416">
                      <a:moveTo>
                        <a:pt x="1256" y="416"/>
                      </a:moveTo>
                      <a:lnTo>
                        <a:pt x="2929" y="407"/>
                      </a:lnTo>
                      <a:lnTo>
                        <a:pt x="2809" y="269"/>
                      </a:lnTo>
                      <a:lnTo>
                        <a:pt x="2576" y="128"/>
                      </a:lnTo>
                      <a:lnTo>
                        <a:pt x="1980" y="39"/>
                      </a:lnTo>
                      <a:lnTo>
                        <a:pt x="1045" y="0"/>
                      </a:lnTo>
                      <a:lnTo>
                        <a:pt x="701" y="22"/>
                      </a:lnTo>
                      <a:lnTo>
                        <a:pt x="13" y="26"/>
                      </a:lnTo>
                      <a:lnTo>
                        <a:pt x="0" y="287"/>
                      </a:lnTo>
                      <a:lnTo>
                        <a:pt x="820" y="300"/>
                      </a:lnTo>
                      <a:lnTo>
                        <a:pt x="1027" y="234"/>
                      </a:lnTo>
                      <a:lnTo>
                        <a:pt x="1208" y="230"/>
                      </a:lnTo>
                      <a:lnTo>
                        <a:pt x="1256" y="416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3528125" sy="3528125" algn="ctr"/>
                </a:blip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013360" y="4257720"/>
                  <a:ext cx="603720" cy="114840"/>
                </a:xfrm>
                <a:custGeom>
                  <a:avLst/>
                  <a:gdLst/>
                  <a:ahLst/>
                  <a:rect l="0" t="0" r="r" b="b"/>
                  <a:pathLst>
                    <a:path w="1677" h="319">
                      <a:moveTo>
                        <a:pt x="8" y="164"/>
                      </a:moveTo>
                      <a:lnTo>
                        <a:pt x="167" y="208"/>
                      </a:lnTo>
                      <a:lnTo>
                        <a:pt x="326" y="120"/>
                      </a:lnTo>
                      <a:lnTo>
                        <a:pt x="556" y="208"/>
                      </a:lnTo>
                      <a:lnTo>
                        <a:pt x="900" y="208"/>
                      </a:lnTo>
                      <a:lnTo>
                        <a:pt x="1076" y="208"/>
                      </a:lnTo>
                      <a:lnTo>
                        <a:pt x="1311" y="225"/>
                      </a:lnTo>
                      <a:lnTo>
                        <a:pt x="1677" y="319"/>
                      </a:lnTo>
                      <a:lnTo>
                        <a:pt x="1333" y="159"/>
                      </a:lnTo>
                      <a:lnTo>
                        <a:pt x="1076" y="39"/>
                      </a:lnTo>
                      <a:lnTo>
                        <a:pt x="618" y="22"/>
                      </a:lnTo>
                      <a:lnTo>
                        <a:pt x="366" y="0"/>
                      </a:lnTo>
                      <a:lnTo>
                        <a:pt x="0" y="4"/>
                      </a:lnTo>
                      <a:lnTo>
                        <a:pt x="8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86400" y="4246560"/>
                  <a:ext cx="427320" cy="111600"/>
                </a:xfrm>
                <a:custGeom>
                  <a:avLst/>
                  <a:gdLst/>
                  <a:ahLst/>
                  <a:rect l="0" t="0" r="r" b="b"/>
                  <a:pathLst>
                    <a:path w="1187" h="310">
                      <a:moveTo>
                        <a:pt x="1187" y="0"/>
                      </a:moveTo>
                      <a:lnTo>
                        <a:pt x="1169" y="168"/>
                      </a:lnTo>
                      <a:lnTo>
                        <a:pt x="852" y="310"/>
                      </a:lnTo>
                      <a:lnTo>
                        <a:pt x="4" y="266"/>
                      </a:lnTo>
                      <a:lnTo>
                        <a:pt x="0" y="52"/>
                      </a:lnTo>
                      <a:lnTo>
                        <a:pt x="1187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787920" y="3568680"/>
                <a:ext cx="977040" cy="928440"/>
                <a:chOff x="3787920" y="3568680"/>
                <a:chExt cx="977040" cy="928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787920" y="3568680"/>
                  <a:ext cx="843480" cy="822600"/>
                </a:xfrm>
                <a:custGeom>
                  <a:avLst/>
                  <a:gdLst/>
                  <a:ahLst/>
                  <a:rect l="0" t="0" r="r" b="b"/>
                  <a:pathLst>
                    <a:path w="2343" h="2285">
                      <a:moveTo>
                        <a:pt x="0" y="79"/>
                      </a:moveTo>
                      <a:lnTo>
                        <a:pt x="154" y="0"/>
                      </a:lnTo>
                      <a:lnTo>
                        <a:pt x="423" y="79"/>
                      </a:lnTo>
                      <a:lnTo>
                        <a:pt x="1002" y="626"/>
                      </a:lnTo>
                      <a:lnTo>
                        <a:pt x="2343" y="1725"/>
                      </a:lnTo>
                      <a:lnTo>
                        <a:pt x="1862" y="2285"/>
                      </a:lnTo>
                      <a:lnTo>
                        <a:pt x="759" y="1271"/>
                      </a:lnTo>
                      <a:lnTo>
                        <a:pt x="39" y="423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12240" y="4232520"/>
                  <a:ext cx="252720" cy="264600"/>
                </a:xfrm>
                <a:custGeom>
                  <a:avLst/>
                  <a:gdLst/>
                  <a:ahLst/>
                  <a:rect l="0" t="0" r="r" b="b"/>
                  <a:pathLst>
                    <a:path w="702" h="735">
                      <a:moveTo>
                        <a:pt x="162" y="692"/>
                      </a:moveTo>
                      <a:lnTo>
                        <a:pt x="162" y="692"/>
                      </a:lnTo>
                      <a:cubicBezTo>
                        <a:pt x="163" y="692"/>
                        <a:pt x="163" y="692"/>
                        <a:pt x="163" y="692"/>
                      </a:cubicBezTo>
                      <a:cubicBezTo>
                        <a:pt x="215" y="722"/>
                        <a:pt x="275" y="737"/>
                        <a:pt x="336" y="734"/>
                      </a:cubicBezTo>
                      <a:cubicBezTo>
                        <a:pt x="398" y="731"/>
                        <a:pt x="459" y="712"/>
                        <a:pt x="514" y="678"/>
                      </a:cubicBezTo>
                      <a:cubicBezTo>
                        <a:pt x="568" y="643"/>
                        <a:pt x="614" y="595"/>
                        <a:pt x="647" y="538"/>
                      </a:cubicBezTo>
                      <a:cubicBezTo>
                        <a:pt x="680" y="481"/>
                        <a:pt x="699" y="417"/>
                        <a:pt x="701" y="353"/>
                      </a:cubicBezTo>
                      <a:cubicBezTo>
                        <a:pt x="704" y="288"/>
                        <a:pt x="690" y="226"/>
                        <a:pt x="662" y="171"/>
                      </a:cubicBezTo>
                      <a:cubicBezTo>
                        <a:pt x="633" y="117"/>
                        <a:pt x="591" y="72"/>
                        <a:pt x="539" y="42"/>
                      </a:cubicBezTo>
                      <a:lnTo>
                        <a:pt x="539" y="42"/>
                      </a:lnTo>
                      <a:cubicBezTo>
                        <a:pt x="538" y="42"/>
                        <a:pt x="538" y="42"/>
                        <a:pt x="538" y="42"/>
                      </a:cubicBezTo>
                      <a:cubicBezTo>
                        <a:pt x="486" y="12"/>
                        <a:pt x="426" y="-3"/>
                        <a:pt x="365" y="0"/>
                      </a:cubicBezTo>
                      <a:cubicBezTo>
                        <a:pt x="303" y="3"/>
                        <a:pt x="242" y="22"/>
                        <a:pt x="187" y="56"/>
                      </a:cubicBezTo>
                      <a:cubicBezTo>
                        <a:pt x="133" y="91"/>
                        <a:pt x="87" y="139"/>
                        <a:pt x="54" y="196"/>
                      </a:cubicBezTo>
                      <a:cubicBezTo>
                        <a:pt x="21" y="253"/>
                        <a:pt x="2" y="317"/>
                        <a:pt x="0" y="381"/>
                      </a:cubicBezTo>
                      <a:cubicBezTo>
                        <a:pt x="-3" y="446"/>
                        <a:pt x="11" y="508"/>
                        <a:pt x="39" y="563"/>
                      </a:cubicBezTo>
                      <a:cubicBezTo>
                        <a:pt x="68" y="617"/>
                        <a:pt x="110" y="662"/>
                        <a:pt x="162" y="69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138480" y="1905120"/>
              <a:ext cx="954000" cy="2823120"/>
              <a:chOff x="3138480" y="1905120"/>
              <a:chExt cx="954000" cy="2823120"/>
            </a:xfrm>
          </p:grpSpPr>
          <p:sp>
            <p:nvSpPr>
              <p:cNvPr id="160" name=""/>
              <p:cNvSpPr/>
              <p:nvPr/>
            </p:nvSpPr>
            <p:spPr>
              <a:xfrm>
                <a:off x="313848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206880" y="1905120"/>
                <a:ext cx="885600" cy="1606680"/>
                <a:chOff x="3206880" y="1905120"/>
                <a:chExt cx="885600" cy="1606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20688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73068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5268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3844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89880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3786120" y="1930320"/>
                  <a:ext cx="648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367668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3516480" y="1905120"/>
                  <a:ext cx="3312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3357720" y="1946160"/>
                  <a:ext cx="4896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>
                  <a:off x="323208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42432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7508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35268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3559320" y="4230720"/>
              <a:ext cx="1054440" cy="149760"/>
              <a:chOff x="3559320" y="4230720"/>
              <a:chExt cx="1054440" cy="149760"/>
            </a:xfrm>
          </p:grpSpPr>
          <p:sp>
            <p:nvSpPr>
              <p:cNvPr id="176" name=""/>
              <p:cNvSpPr/>
              <p:nvPr/>
            </p:nvSpPr>
            <p:spPr>
              <a:xfrm>
                <a:off x="3559320" y="4230720"/>
                <a:ext cx="1054440" cy="149760"/>
              </a:xfrm>
              <a:custGeom>
                <a:avLst/>
                <a:gdLst/>
                <a:ahLst/>
                <a:rect l="0" t="0" r="r" b="b"/>
                <a:pathLst>
                  <a:path w="2929" h="416">
                    <a:moveTo>
                      <a:pt x="1672" y="416"/>
                    </a:moveTo>
                    <a:lnTo>
                      <a:pt x="0" y="407"/>
                    </a:lnTo>
                    <a:lnTo>
                      <a:pt x="119" y="269"/>
                    </a:lnTo>
                    <a:lnTo>
                      <a:pt x="352" y="128"/>
                    </a:lnTo>
                    <a:lnTo>
                      <a:pt x="948" y="39"/>
                    </a:lnTo>
                    <a:lnTo>
                      <a:pt x="1883" y="0"/>
                    </a:lnTo>
                    <a:lnTo>
                      <a:pt x="2227" y="22"/>
                    </a:lnTo>
                    <a:lnTo>
                      <a:pt x="2915" y="26"/>
                    </a:lnTo>
                    <a:lnTo>
                      <a:pt x="2929" y="287"/>
                    </a:lnTo>
                    <a:lnTo>
                      <a:pt x="2108" y="300"/>
                    </a:lnTo>
                    <a:lnTo>
                      <a:pt x="1901" y="234"/>
                    </a:lnTo>
                    <a:lnTo>
                      <a:pt x="1720" y="230"/>
                    </a:lnTo>
                    <a:lnTo>
                      <a:pt x="1672" y="416"/>
                    </a:lnTo>
                    <a:close/>
                  </a:path>
                </a:pathLst>
              </a:custGeom>
              <a:blipFill rotWithShape="0">
                <a:blip r:embed="rId2"/>
                <a:tile tx="0" ty="0" sx="3528125" sy="3528125" algn="ctr"/>
              </a:blip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8680" y="4245120"/>
                <a:ext cx="603720" cy="114840"/>
              </a:xfrm>
              <a:custGeom>
                <a:avLst/>
                <a:gdLst/>
                <a:ahLst/>
                <a:rect l="0" t="0" r="r" b="b"/>
                <a:pathLst>
                  <a:path w="1677" h="319">
                    <a:moveTo>
                      <a:pt x="1668" y="164"/>
                    </a:moveTo>
                    <a:lnTo>
                      <a:pt x="1510" y="208"/>
                    </a:lnTo>
                    <a:lnTo>
                      <a:pt x="1351" y="120"/>
                    </a:lnTo>
                    <a:lnTo>
                      <a:pt x="1121" y="208"/>
                    </a:lnTo>
                    <a:lnTo>
                      <a:pt x="777" y="208"/>
                    </a:lnTo>
                    <a:lnTo>
                      <a:pt x="600" y="208"/>
                    </a:lnTo>
                    <a:lnTo>
                      <a:pt x="366" y="225"/>
                    </a:lnTo>
                    <a:lnTo>
                      <a:pt x="0" y="319"/>
                    </a:lnTo>
                    <a:lnTo>
                      <a:pt x="343" y="159"/>
                    </a:lnTo>
                    <a:lnTo>
                      <a:pt x="600" y="39"/>
                    </a:lnTo>
                    <a:lnTo>
                      <a:pt x="1059" y="22"/>
                    </a:lnTo>
                    <a:lnTo>
                      <a:pt x="1311" y="0"/>
                    </a:lnTo>
                    <a:lnTo>
                      <a:pt x="1677" y="4"/>
                    </a:lnTo>
                    <a:lnTo>
                      <a:pt x="1668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72040" y="4233960"/>
                <a:ext cx="427320" cy="111600"/>
              </a:xfrm>
              <a:custGeom>
                <a:avLst/>
                <a:gdLst/>
                <a:ahLst/>
                <a:rect l="0" t="0" r="r" b="b"/>
                <a:pathLst>
                  <a:path w="1187" h="310">
                    <a:moveTo>
                      <a:pt x="0" y="0"/>
                    </a:moveTo>
                    <a:lnTo>
                      <a:pt x="17" y="168"/>
                    </a:lnTo>
                    <a:lnTo>
                      <a:pt x="335" y="310"/>
                    </a:lnTo>
                    <a:lnTo>
                      <a:pt x="1182" y="266"/>
                    </a:lnTo>
                    <a:lnTo>
                      <a:pt x="1187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420440" y="42199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42"/>
                  </a:moveTo>
                  <a:lnTo>
                    <a:pt x="162" y="42"/>
                  </a:lnTo>
                  <a:cubicBezTo>
                    <a:pt x="110" y="72"/>
                    <a:pt x="68" y="117"/>
                    <a:pt x="39" y="171"/>
                  </a:cubicBezTo>
                  <a:cubicBezTo>
                    <a:pt x="11" y="226"/>
                    <a:pt x="-3" y="288"/>
                    <a:pt x="0" y="353"/>
                  </a:cubicBezTo>
                  <a:cubicBezTo>
                    <a:pt x="2" y="417"/>
                    <a:pt x="21" y="481"/>
                    <a:pt x="54" y="538"/>
                  </a:cubicBezTo>
                  <a:cubicBezTo>
                    <a:pt x="87" y="595"/>
                    <a:pt x="133" y="643"/>
                    <a:pt x="187" y="678"/>
                  </a:cubicBezTo>
                  <a:cubicBezTo>
                    <a:pt x="242" y="712"/>
                    <a:pt x="303" y="731"/>
                    <a:pt x="365" y="734"/>
                  </a:cubicBezTo>
                  <a:cubicBezTo>
                    <a:pt x="426" y="737"/>
                    <a:pt x="486" y="722"/>
                    <a:pt x="538" y="692"/>
                  </a:cubicBezTo>
                  <a:lnTo>
                    <a:pt x="539" y="692"/>
                  </a:lnTo>
                  <a:lnTo>
                    <a:pt x="539" y="692"/>
                  </a:lnTo>
                  <a:cubicBezTo>
                    <a:pt x="591" y="662"/>
                    <a:pt x="633" y="617"/>
                    <a:pt x="662" y="563"/>
                  </a:cubicBezTo>
                  <a:cubicBezTo>
                    <a:pt x="690" y="508"/>
                    <a:pt x="704" y="446"/>
                    <a:pt x="701" y="381"/>
                  </a:cubicBezTo>
                  <a:cubicBezTo>
                    <a:pt x="699" y="317"/>
                    <a:pt x="680" y="253"/>
                    <a:pt x="647" y="196"/>
                  </a:cubicBezTo>
                  <a:cubicBezTo>
                    <a:pt x="614" y="139"/>
                    <a:pt x="568" y="91"/>
                    <a:pt x="514" y="56"/>
                  </a:cubicBezTo>
                  <a:cubicBezTo>
                    <a:pt x="459" y="22"/>
                    <a:pt x="398" y="3"/>
                    <a:pt x="336" y="0"/>
                  </a:cubicBezTo>
                  <a:cubicBezTo>
                    <a:pt x="275" y="-3"/>
                    <a:pt x="215" y="12"/>
                    <a:pt x="163" y="42"/>
                  </a:cubicBezTo>
                  <a:lnTo>
                    <a:pt x="162" y="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959200" y="3495600"/>
              <a:ext cx="449640" cy="1243440"/>
              <a:chOff x="2959200" y="3495600"/>
              <a:chExt cx="449640" cy="1243440"/>
            </a:xfrm>
          </p:grpSpPr>
          <p:sp>
            <p:nvSpPr>
              <p:cNvPr id="181" name=""/>
              <p:cNvSpPr/>
              <p:nvPr/>
            </p:nvSpPr>
            <p:spPr>
              <a:xfrm>
                <a:off x="297972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5920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41980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36920" y="42418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152280" y="304920"/>
            <a:ext cx="868680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’re in a stressful Situation(again), or someone is giving Orders So STUPID that It Makes You                                Think This Must Be Inside                                a Wacko-Hou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743200" y="1905120"/>
            <a:ext cx="3857760" cy="4258080"/>
            <a:chOff x="2743200" y="1905120"/>
            <a:chExt cx="3857760" cy="4258080"/>
          </a:xfrm>
        </p:grpSpPr>
        <p:grpSp>
          <p:nvGrpSpPr>
            <p:cNvPr id="187" name=""/>
            <p:cNvGrpSpPr/>
            <p:nvPr/>
          </p:nvGrpSpPr>
          <p:grpSpPr>
            <a:xfrm>
              <a:off x="4191120" y="1905120"/>
              <a:ext cx="2409840" cy="4258080"/>
              <a:chOff x="4191120" y="1905120"/>
              <a:chExt cx="2409840" cy="42580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191120" y="3511440"/>
                <a:ext cx="1578240" cy="869400"/>
                <a:chOff x="4191120" y="3511440"/>
                <a:chExt cx="1578240" cy="8694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4191120" y="3672000"/>
                  <a:ext cx="1074960" cy="708840"/>
                  <a:chOff x="4191120" y="3672000"/>
                  <a:chExt cx="1074960" cy="70884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191120" y="3672000"/>
                    <a:ext cx="1074960" cy="576360"/>
                    <a:chOff x="4191120" y="3672000"/>
                    <a:chExt cx="1074960" cy="5763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191120" y="3855960"/>
                      <a:ext cx="1074960" cy="147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86" h="411">
                          <a:moveTo>
                            <a:pt x="1310" y="239"/>
                          </a:moveTo>
                          <a:lnTo>
                            <a:pt x="0" y="0"/>
                          </a:lnTo>
                          <a:lnTo>
                            <a:pt x="340" y="8"/>
                          </a:lnTo>
                          <a:lnTo>
                            <a:pt x="772" y="32"/>
                          </a:lnTo>
                          <a:lnTo>
                            <a:pt x="1401" y="112"/>
                          </a:lnTo>
                          <a:lnTo>
                            <a:pt x="2221" y="243"/>
                          </a:lnTo>
                          <a:lnTo>
                            <a:pt x="2448" y="294"/>
                          </a:lnTo>
                          <a:lnTo>
                            <a:pt x="2986" y="392"/>
                          </a:lnTo>
                          <a:lnTo>
                            <a:pt x="2539" y="411"/>
                          </a:lnTo>
                          <a:lnTo>
                            <a:pt x="1857" y="294"/>
                          </a:lnTo>
                          <a:lnTo>
                            <a:pt x="1819" y="261"/>
                          </a:lnTo>
                          <a:lnTo>
                            <a:pt x="1675" y="235"/>
                          </a:lnTo>
                          <a:lnTo>
                            <a:pt x="1310" y="239"/>
                          </a:lnTo>
                          <a:close/>
                        </a:path>
                      </a:pathLst>
                    </a:custGeom>
                    <a:blipFill rotWithShape="0">
                      <a:blip r:embed="rId1"/>
                      <a:tile tx="0" ty="0" sx="3528125" sy="3528125" algn="ctr"/>
                    </a:blip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334040" y="3672000"/>
                      <a:ext cx="613080" cy="114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703" h="319">
                          <a:moveTo>
                            <a:pt x="1437" y="319"/>
                          </a:moveTo>
                          <a:lnTo>
                            <a:pt x="1253" y="291"/>
                          </a:lnTo>
                          <a:lnTo>
                            <a:pt x="1287" y="252"/>
                          </a:lnTo>
                          <a:lnTo>
                            <a:pt x="974" y="214"/>
                          </a:lnTo>
                          <a:lnTo>
                            <a:pt x="735" y="145"/>
                          </a:lnTo>
                          <a:lnTo>
                            <a:pt x="605" y="109"/>
                          </a:lnTo>
                          <a:lnTo>
                            <a:pt x="408" y="64"/>
                          </a:lnTo>
                          <a:lnTo>
                            <a:pt x="0" y="0"/>
                          </a:lnTo>
                          <a:lnTo>
                            <a:pt x="503" y="54"/>
                          </a:lnTo>
                          <a:lnTo>
                            <a:pt x="872" y="95"/>
                          </a:lnTo>
                          <a:lnTo>
                            <a:pt x="1233" y="184"/>
                          </a:lnTo>
                          <a:lnTo>
                            <a:pt x="1444" y="232"/>
                          </a:lnTo>
                          <a:lnTo>
                            <a:pt x="1703" y="306"/>
                          </a:lnTo>
                          <a:lnTo>
                            <a:pt x="1437" y="3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643280" y="4141800"/>
                      <a:ext cx="43704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214" h="296">
                          <a:moveTo>
                            <a:pt x="304" y="0"/>
                          </a:moveTo>
                          <a:lnTo>
                            <a:pt x="0" y="20"/>
                          </a:lnTo>
                          <a:lnTo>
                            <a:pt x="0" y="107"/>
                          </a:lnTo>
                          <a:lnTo>
                            <a:pt x="803" y="296"/>
                          </a:lnTo>
                          <a:lnTo>
                            <a:pt x="1214" y="276"/>
                          </a:lnTo>
                          <a:lnTo>
                            <a:pt x="304" y="0"/>
                          </a:lnTo>
                          <a:close/>
                        </a:path>
                      </a:pathLst>
                    </a:custGeom>
                    <a:solidFill>
                      <a:srgbClr val="9933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4746240" y="4115160"/>
                    <a:ext cx="250560" cy="265680"/>
                  </a:xfrm>
                  <a:custGeom>
                    <a:avLst/>
                    <a:gdLst/>
                    <a:ahLst/>
                    <a:rect l="0" t="0" r="r" b="b"/>
                    <a:pathLst>
                      <a:path w="696" h="738">
                        <a:moveTo>
                          <a:pt x="196" y="27"/>
                        </a:moveTo>
                        <a:lnTo>
                          <a:pt x="196" y="27"/>
                        </a:lnTo>
                        <a:lnTo>
                          <a:pt x="196" y="27"/>
                        </a:lnTo>
                        <a:cubicBezTo>
                          <a:pt x="141" y="52"/>
                          <a:pt x="94" y="91"/>
                          <a:pt x="60" y="143"/>
                        </a:cubicBezTo>
                        <a:cubicBezTo>
                          <a:pt x="26" y="194"/>
                          <a:pt x="6" y="254"/>
                          <a:pt x="1" y="318"/>
                        </a:cubicBezTo>
                        <a:cubicBezTo>
                          <a:pt x="-3" y="383"/>
                          <a:pt x="9" y="448"/>
                          <a:pt x="35" y="508"/>
                        </a:cubicBezTo>
                        <a:cubicBezTo>
                          <a:pt x="62" y="568"/>
                          <a:pt x="103" y="620"/>
                          <a:pt x="153" y="660"/>
                        </a:cubicBezTo>
                        <a:cubicBezTo>
                          <a:pt x="204" y="700"/>
                          <a:pt x="262" y="725"/>
                          <a:pt x="323" y="734"/>
                        </a:cubicBezTo>
                        <a:cubicBezTo>
                          <a:pt x="384" y="743"/>
                          <a:pt x="445" y="734"/>
                          <a:pt x="500" y="710"/>
                        </a:cubicBezTo>
                        <a:lnTo>
                          <a:pt x="500" y="710"/>
                        </a:lnTo>
                        <a:lnTo>
                          <a:pt x="500" y="710"/>
                        </a:lnTo>
                        <a:cubicBezTo>
                          <a:pt x="555" y="685"/>
                          <a:pt x="602" y="646"/>
                          <a:pt x="636" y="594"/>
                        </a:cubicBezTo>
                        <a:cubicBezTo>
                          <a:pt x="670" y="543"/>
                          <a:pt x="690" y="483"/>
                          <a:pt x="695" y="419"/>
                        </a:cubicBezTo>
                        <a:cubicBezTo>
                          <a:pt x="699" y="354"/>
                          <a:pt x="687" y="289"/>
                          <a:pt x="661" y="229"/>
                        </a:cubicBezTo>
                        <a:cubicBezTo>
                          <a:pt x="634" y="169"/>
                          <a:pt x="593" y="117"/>
                          <a:pt x="543" y="77"/>
                        </a:cubicBezTo>
                        <a:cubicBezTo>
                          <a:pt x="492" y="37"/>
                          <a:pt x="434" y="12"/>
                          <a:pt x="373" y="3"/>
                        </a:cubicBezTo>
                        <a:cubicBezTo>
                          <a:pt x="312" y="-6"/>
                          <a:pt x="251" y="3"/>
                          <a:pt x="196" y="2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4964040" y="3511440"/>
                  <a:ext cx="805320" cy="854280"/>
                </a:xfrm>
                <a:custGeom>
                  <a:avLst/>
                  <a:gdLst/>
                  <a:ahLst/>
                  <a:rect l="0" t="0" r="r" b="b"/>
                  <a:pathLst>
                    <a:path w="2237" h="2373">
                      <a:moveTo>
                        <a:pt x="1865" y="0"/>
                      </a:moveTo>
                      <a:lnTo>
                        <a:pt x="1677" y="182"/>
                      </a:lnTo>
                      <a:lnTo>
                        <a:pt x="1491" y="912"/>
                      </a:lnTo>
                      <a:lnTo>
                        <a:pt x="1305" y="1460"/>
                      </a:lnTo>
                      <a:lnTo>
                        <a:pt x="0" y="1643"/>
                      </a:lnTo>
                      <a:lnTo>
                        <a:pt x="186" y="2373"/>
                      </a:lnTo>
                      <a:lnTo>
                        <a:pt x="1865" y="2008"/>
                      </a:lnTo>
                      <a:lnTo>
                        <a:pt x="2237" y="547"/>
                      </a:lnTo>
                      <a:lnTo>
                        <a:pt x="2237" y="182"/>
                      </a:lnTo>
                      <a:lnTo>
                        <a:pt x="2051" y="0"/>
                      </a:lnTo>
                      <a:lnTo>
                        <a:pt x="18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265720" y="4554360"/>
                <a:ext cx="1335240" cy="1608840"/>
                <a:chOff x="5265720" y="4554360"/>
                <a:chExt cx="1335240" cy="16088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602320" y="455436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65720" y="598176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7120" y="598176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03960" y="1905120"/>
                <a:ext cx="954360" cy="2821320"/>
                <a:chOff x="5403960" y="1905120"/>
                <a:chExt cx="954360" cy="2821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492880" y="334800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5403960" y="1905120"/>
                  <a:ext cx="886320" cy="1565640"/>
                  <a:chOff x="5403960" y="1905120"/>
                  <a:chExt cx="886320" cy="15656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500800" y="210816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5403960" y="249084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715000" y="245736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883120" y="263052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521320" y="263844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703840" y="1930320"/>
                    <a:ext cx="648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5803920" y="1913040"/>
                    <a:ext cx="1584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5946840" y="1905120"/>
                    <a:ext cx="33120" cy="195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V="1">
                    <a:off x="6089760" y="1946160"/>
                    <a:ext cx="48960" cy="1717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V="1">
                    <a:off x="6216480" y="1969920"/>
                    <a:ext cx="47880" cy="155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492880" y="292896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75316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087960" y="3495600"/>
                <a:ext cx="449280" cy="1243440"/>
                <a:chOff x="6087960" y="3495600"/>
                <a:chExt cx="449280" cy="1243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087960" y="3495600"/>
                  <a:ext cx="429120" cy="1026000"/>
                </a:xfrm>
                <a:custGeom>
                  <a:avLst/>
                  <a:gdLst/>
                  <a:ahLst/>
                  <a:rect l="0" t="0" r="r" b="b"/>
                  <a:pathLst>
                    <a:path w="1192" h="2850">
                      <a:moveTo>
                        <a:pt x="210" y="0"/>
                      </a:moveTo>
                      <a:lnTo>
                        <a:pt x="70" y="91"/>
                      </a:lnTo>
                      <a:lnTo>
                        <a:pt x="0" y="364"/>
                      </a:lnTo>
                      <a:lnTo>
                        <a:pt x="186" y="1140"/>
                      </a:lnTo>
                      <a:lnTo>
                        <a:pt x="467" y="2850"/>
                      </a:lnTo>
                      <a:lnTo>
                        <a:pt x="1192" y="2713"/>
                      </a:lnTo>
                      <a:lnTo>
                        <a:pt x="864" y="1254"/>
                      </a:lnTo>
                      <a:lnTo>
                        <a:pt x="491" y="205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269040" y="4492800"/>
                  <a:ext cx="268200" cy="246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3575160" y="3475080"/>
              <a:ext cx="1322640" cy="946440"/>
              <a:chOff x="3575160" y="3475080"/>
              <a:chExt cx="1322640" cy="9464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346640" y="3475080"/>
                <a:ext cx="551160" cy="946440"/>
                <a:chOff x="4346640" y="3475080"/>
                <a:chExt cx="551160" cy="94644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346640" y="3475080"/>
                  <a:ext cx="551160" cy="946440"/>
                  <a:chOff x="4346640" y="3475080"/>
                  <a:chExt cx="551160" cy="94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4346640" y="3475080"/>
                    <a:ext cx="551160" cy="9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31" h="2629">
                        <a:moveTo>
                          <a:pt x="860" y="1531"/>
                        </a:moveTo>
                        <a:lnTo>
                          <a:pt x="1531" y="0"/>
                        </a:lnTo>
                        <a:lnTo>
                          <a:pt x="1359" y="52"/>
                        </a:lnTo>
                        <a:lnTo>
                          <a:pt x="1134" y="207"/>
                        </a:lnTo>
                        <a:lnTo>
                          <a:pt x="812" y="718"/>
                        </a:lnTo>
                        <a:lnTo>
                          <a:pt x="392" y="1557"/>
                        </a:lnTo>
                        <a:lnTo>
                          <a:pt x="273" y="1879"/>
                        </a:lnTo>
                        <a:lnTo>
                          <a:pt x="0" y="2510"/>
                        </a:lnTo>
                        <a:lnTo>
                          <a:pt x="229" y="2629"/>
                        </a:lnTo>
                        <a:lnTo>
                          <a:pt x="577" y="1883"/>
                        </a:lnTo>
                        <a:lnTo>
                          <a:pt x="599" y="1667"/>
                        </a:lnTo>
                        <a:lnTo>
                          <a:pt x="670" y="1500"/>
                        </a:lnTo>
                        <a:lnTo>
                          <a:pt x="860" y="1531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tile tx="0" ty="0" sx="3528125" sy="3528125" algn="ctr"/>
                  </a:blip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529160" y="3476520"/>
                    <a:ext cx="349560" cy="525960"/>
                  </a:xfrm>
                  <a:custGeom>
                    <a:avLst/>
                    <a:gdLst/>
                    <a:ahLst/>
                    <a:rect l="0" t="0" r="r" b="b"/>
                    <a:pathLst>
                      <a:path w="971" h="1461">
                        <a:moveTo>
                          <a:pt x="149" y="1461"/>
                        </a:moveTo>
                        <a:lnTo>
                          <a:pt x="255" y="1333"/>
                        </a:lnTo>
                        <a:lnTo>
                          <a:pt x="238" y="1152"/>
                        </a:lnTo>
                        <a:lnTo>
                          <a:pt x="414" y="979"/>
                        </a:lnTo>
                        <a:lnTo>
                          <a:pt x="552" y="666"/>
                        </a:lnTo>
                        <a:lnTo>
                          <a:pt x="627" y="503"/>
                        </a:lnTo>
                        <a:lnTo>
                          <a:pt x="737" y="299"/>
                        </a:lnTo>
                        <a:lnTo>
                          <a:pt x="971" y="0"/>
                        </a:lnTo>
                        <a:lnTo>
                          <a:pt x="684" y="251"/>
                        </a:lnTo>
                        <a:lnTo>
                          <a:pt x="471" y="437"/>
                        </a:lnTo>
                        <a:lnTo>
                          <a:pt x="268" y="847"/>
                        </a:lnTo>
                        <a:lnTo>
                          <a:pt x="145" y="1068"/>
                        </a:lnTo>
                        <a:lnTo>
                          <a:pt x="0" y="1404"/>
                        </a:lnTo>
                        <a:lnTo>
                          <a:pt x="149" y="14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362480" y="3976560"/>
                    <a:ext cx="208440" cy="427320"/>
                  </a:xfrm>
                  <a:custGeom>
                    <a:avLst/>
                    <a:gdLst/>
                    <a:ahLst/>
                    <a:rect l="0" t="0" r="r" b="b"/>
                    <a:pathLst>
                      <a:path w="579" h="1187">
                        <a:moveTo>
                          <a:pt x="433" y="0"/>
                        </a:moveTo>
                        <a:lnTo>
                          <a:pt x="579" y="83"/>
                        </a:lnTo>
                        <a:lnTo>
                          <a:pt x="579" y="432"/>
                        </a:lnTo>
                        <a:lnTo>
                          <a:pt x="195" y="1187"/>
                        </a:lnTo>
                        <a:lnTo>
                          <a:pt x="0" y="1107"/>
                        </a:lnTo>
                        <a:lnTo>
                          <a:pt x="43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4347720" y="4115160"/>
                  <a:ext cx="250560" cy="265680"/>
                </a:xfrm>
                <a:custGeom>
                  <a:avLst/>
                  <a:gdLst/>
                  <a:ahLst/>
                  <a:rect l="0" t="0" r="r" b="b"/>
                  <a:pathLst>
                    <a:path w="696" h="738">
                      <a:moveTo>
                        <a:pt x="196" y="710"/>
                      </a:moveTo>
                      <a:lnTo>
                        <a:pt x="196" y="710"/>
                      </a:lnTo>
                      <a:cubicBezTo>
                        <a:pt x="251" y="734"/>
                        <a:pt x="312" y="743"/>
                        <a:pt x="373" y="734"/>
                      </a:cubicBezTo>
                      <a:cubicBezTo>
                        <a:pt x="434" y="725"/>
                        <a:pt x="492" y="700"/>
                        <a:pt x="543" y="660"/>
                      </a:cubicBezTo>
                      <a:cubicBezTo>
                        <a:pt x="593" y="620"/>
                        <a:pt x="634" y="568"/>
                        <a:pt x="661" y="508"/>
                      </a:cubicBezTo>
                      <a:cubicBezTo>
                        <a:pt x="687" y="448"/>
                        <a:pt x="699" y="383"/>
                        <a:pt x="695" y="318"/>
                      </a:cubicBezTo>
                      <a:cubicBezTo>
                        <a:pt x="690" y="254"/>
                        <a:pt x="670" y="194"/>
                        <a:pt x="636" y="143"/>
                      </a:cubicBezTo>
                      <a:cubicBezTo>
                        <a:pt x="602" y="91"/>
                        <a:pt x="555" y="52"/>
                        <a:pt x="500" y="27"/>
                      </a:cubicBezTo>
                      <a:lnTo>
                        <a:pt x="500" y="27"/>
                      </a:lnTo>
                      <a:lnTo>
                        <a:pt x="500" y="27"/>
                      </a:lnTo>
                      <a:cubicBezTo>
                        <a:pt x="445" y="3"/>
                        <a:pt x="384" y="-6"/>
                        <a:pt x="323" y="3"/>
                      </a:cubicBezTo>
                      <a:cubicBezTo>
                        <a:pt x="262" y="12"/>
                        <a:pt x="204" y="37"/>
                        <a:pt x="153" y="77"/>
                      </a:cubicBezTo>
                      <a:cubicBezTo>
                        <a:pt x="103" y="117"/>
                        <a:pt x="62" y="169"/>
                        <a:pt x="35" y="229"/>
                      </a:cubicBezTo>
                      <a:cubicBezTo>
                        <a:pt x="9" y="289"/>
                        <a:pt x="-3" y="354"/>
                        <a:pt x="1" y="419"/>
                      </a:cubicBezTo>
                      <a:cubicBezTo>
                        <a:pt x="6" y="483"/>
                        <a:pt x="26" y="543"/>
                        <a:pt x="60" y="594"/>
                      </a:cubicBezTo>
                      <a:cubicBezTo>
                        <a:pt x="94" y="646"/>
                        <a:pt x="141" y="685"/>
                        <a:pt x="196" y="7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575160" y="3511440"/>
                <a:ext cx="805320" cy="854280"/>
              </a:xfrm>
              <a:custGeom>
                <a:avLst/>
                <a:gdLst/>
                <a:ahLst/>
                <a:rect l="0" t="0" r="r" b="b"/>
                <a:pathLst>
                  <a:path w="2237" h="2373">
                    <a:moveTo>
                      <a:pt x="374" y="0"/>
                    </a:moveTo>
                    <a:lnTo>
                      <a:pt x="561" y="180"/>
                    </a:lnTo>
                    <a:lnTo>
                      <a:pt x="746" y="912"/>
                    </a:lnTo>
                    <a:lnTo>
                      <a:pt x="935" y="1460"/>
                    </a:lnTo>
                    <a:lnTo>
                      <a:pt x="2237" y="1641"/>
                    </a:lnTo>
                    <a:lnTo>
                      <a:pt x="2052" y="2373"/>
                    </a:lnTo>
                    <a:lnTo>
                      <a:pt x="374" y="2007"/>
                    </a:lnTo>
                    <a:lnTo>
                      <a:pt x="0" y="546"/>
                    </a:lnTo>
                    <a:lnTo>
                      <a:pt x="0" y="180"/>
                    </a:lnTo>
                    <a:lnTo>
                      <a:pt x="189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743200" y="4554360"/>
              <a:ext cx="1335240" cy="1608840"/>
              <a:chOff x="2743200" y="4554360"/>
              <a:chExt cx="1335240" cy="1608840"/>
            </a:xfrm>
          </p:grpSpPr>
          <p:sp>
            <p:nvSpPr>
              <p:cNvPr id="227" name=""/>
              <p:cNvSpPr/>
              <p:nvPr/>
            </p:nvSpPr>
            <p:spPr>
              <a:xfrm>
                <a:off x="316404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146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2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986200" y="1905120"/>
              <a:ext cx="954000" cy="2823120"/>
              <a:chOff x="2986200" y="1905120"/>
              <a:chExt cx="954000" cy="2823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8620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054240" y="1905120"/>
                <a:ext cx="885960" cy="1606680"/>
                <a:chOff x="3054240" y="1905120"/>
                <a:chExt cx="885960" cy="1606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05424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57840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0040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8616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74652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633840" y="1930320"/>
                  <a:ext cx="612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>
                  <a:off x="352440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3363840" y="1905120"/>
                  <a:ext cx="3348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3205080" y="1946160"/>
                  <a:ext cx="4932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>
                  <a:off x="307980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27168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32280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0040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2806560" y="3495600"/>
              <a:ext cx="450000" cy="1243440"/>
              <a:chOff x="2806560" y="3495600"/>
              <a:chExt cx="450000" cy="1243440"/>
            </a:xfrm>
          </p:grpSpPr>
          <p:sp>
            <p:nvSpPr>
              <p:cNvPr id="247" name=""/>
              <p:cNvSpPr/>
              <p:nvPr/>
            </p:nvSpPr>
            <p:spPr>
              <a:xfrm>
                <a:off x="282744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0656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809880" y="4191120"/>
              <a:ext cx="2280240" cy="1275120"/>
              <a:chOff x="3809880" y="4191120"/>
              <a:chExt cx="2280240" cy="1275120"/>
            </a:xfrm>
          </p:grpSpPr>
          <p:sp>
            <p:nvSpPr>
              <p:cNvPr id="250" name=""/>
              <p:cNvSpPr/>
              <p:nvPr/>
            </p:nvSpPr>
            <p:spPr>
              <a:xfrm>
                <a:off x="3809880" y="4219560"/>
                <a:ext cx="2068920" cy="1246680"/>
              </a:xfrm>
              <a:custGeom>
                <a:avLst/>
                <a:gdLst/>
                <a:ahLst/>
                <a:rect l="0" t="0" r="r" b="b"/>
                <a:pathLst>
                  <a:path w="5747" h="3463">
                    <a:moveTo>
                      <a:pt x="5452" y="332"/>
                    </a:moveTo>
                    <a:lnTo>
                      <a:pt x="5125" y="233"/>
                    </a:lnTo>
                    <a:lnTo>
                      <a:pt x="4784" y="137"/>
                    </a:lnTo>
                    <a:lnTo>
                      <a:pt x="4098" y="0"/>
                    </a:lnTo>
                    <a:lnTo>
                      <a:pt x="3571" y="58"/>
                    </a:lnTo>
                    <a:lnTo>
                      <a:pt x="3030" y="116"/>
                    </a:lnTo>
                    <a:lnTo>
                      <a:pt x="2671" y="216"/>
                    </a:lnTo>
                    <a:lnTo>
                      <a:pt x="2299" y="291"/>
                    </a:lnTo>
                    <a:lnTo>
                      <a:pt x="2207" y="349"/>
                    </a:lnTo>
                    <a:lnTo>
                      <a:pt x="2113" y="391"/>
                    </a:lnTo>
                    <a:lnTo>
                      <a:pt x="1849" y="449"/>
                    </a:lnTo>
                    <a:lnTo>
                      <a:pt x="1568" y="487"/>
                    </a:lnTo>
                    <a:lnTo>
                      <a:pt x="1600" y="408"/>
                    </a:lnTo>
                    <a:lnTo>
                      <a:pt x="1663" y="332"/>
                    </a:lnTo>
                    <a:lnTo>
                      <a:pt x="1803" y="233"/>
                    </a:lnTo>
                    <a:lnTo>
                      <a:pt x="1972" y="174"/>
                    </a:lnTo>
                    <a:lnTo>
                      <a:pt x="2158" y="137"/>
                    </a:lnTo>
                    <a:lnTo>
                      <a:pt x="2299" y="157"/>
                    </a:lnTo>
                    <a:lnTo>
                      <a:pt x="2439" y="157"/>
                    </a:lnTo>
                    <a:lnTo>
                      <a:pt x="2717" y="137"/>
                    </a:lnTo>
                    <a:lnTo>
                      <a:pt x="2981" y="58"/>
                    </a:lnTo>
                    <a:lnTo>
                      <a:pt x="3262" y="0"/>
                    </a:lnTo>
                    <a:lnTo>
                      <a:pt x="3371" y="0"/>
                    </a:lnTo>
                    <a:lnTo>
                      <a:pt x="3480" y="20"/>
                    </a:lnTo>
                    <a:lnTo>
                      <a:pt x="3648" y="41"/>
                    </a:lnTo>
                    <a:lnTo>
                      <a:pt x="3806" y="58"/>
                    </a:lnTo>
                    <a:lnTo>
                      <a:pt x="3993" y="78"/>
                    </a:lnTo>
                    <a:lnTo>
                      <a:pt x="4098" y="137"/>
                    </a:lnTo>
                    <a:lnTo>
                      <a:pt x="4225" y="195"/>
                    </a:lnTo>
                    <a:lnTo>
                      <a:pt x="4475" y="274"/>
                    </a:lnTo>
                    <a:lnTo>
                      <a:pt x="4521" y="312"/>
                    </a:lnTo>
                    <a:lnTo>
                      <a:pt x="4553" y="332"/>
                    </a:lnTo>
                    <a:lnTo>
                      <a:pt x="4612" y="349"/>
                    </a:lnTo>
                    <a:lnTo>
                      <a:pt x="4661" y="349"/>
                    </a:lnTo>
                    <a:lnTo>
                      <a:pt x="4630" y="274"/>
                    </a:lnTo>
                    <a:lnTo>
                      <a:pt x="4581" y="216"/>
                    </a:lnTo>
                    <a:lnTo>
                      <a:pt x="4458" y="137"/>
                    </a:lnTo>
                    <a:lnTo>
                      <a:pt x="4317" y="99"/>
                    </a:lnTo>
                    <a:lnTo>
                      <a:pt x="4161" y="58"/>
                    </a:lnTo>
                    <a:lnTo>
                      <a:pt x="4007" y="58"/>
                    </a:lnTo>
                    <a:lnTo>
                      <a:pt x="3884" y="78"/>
                    </a:lnTo>
                    <a:lnTo>
                      <a:pt x="3634" y="116"/>
                    </a:lnTo>
                    <a:lnTo>
                      <a:pt x="3416" y="157"/>
                    </a:lnTo>
                    <a:lnTo>
                      <a:pt x="3153" y="216"/>
                    </a:lnTo>
                    <a:lnTo>
                      <a:pt x="2717" y="408"/>
                    </a:lnTo>
                    <a:lnTo>
                      <a:pt x="2267" y="603"/>
                    </a:lnTo>
                    <a:lnTo>
                      <a:pt x="2081" y="682"/>
                    </a:lnTo>
                    <a:lnTo>
                      <a:pt x="1881" y="758"/>
                    </a:lnTo>
                    <a:lnTo>
                      <a:pt x="1694" y="857"/>
                    </a:lnTo>
                    <a:lnTo>
                      <a:pt x="1540" y="992"/>
                    </a:lnTo>
                    <a:lnTo>
                      <a:pt x="776" y="1733"/>
                    </a:lnTo>
                    <a:lnTo>
                      <a:pt x="0" y="2471"/>
                    </a:lnTo>
                    <a:lnTo>
                      <a:pt x="17" y="2371"/>
                    </a:lnTo>
                    <a:lnTo>
                      <a:pt x="31" y="2258"/>
                    </a:lnTo>
                    <a:lnTo>
                      <a:pt x="77" y="2141"/>
                    </a:lnTo>
                    <a:lnTo>
                      <a:pt x="140" y="2062"/>
                    </a:lnTo>
                    <a:lnTo>
                      <a:pt x="203" y="2004"/>
                    </a:lnTo>
                    <a:lnTo>
                      <a:pt x="281" y="1946"/>
                    </a:lnTo>
                    <a:lnTo>
                      <a:pt x="326" y="1925"/>
                    </a:lnTo>
                    <a:lnTo>
                      <a:pt x="358" y="1887"/>
                    </a:lnTo>
                    <a:lnTo>
                      <a:pt x="435" y="1809"/>
                    </a:lnTo>
                    <a:lnTo>
                      <a:pt x="499" y="1750"/>
                    </a:lnTo>
                    <a:lnTo>
                      <a:pt x="527" y="1712"/>
                    </a:lnTo>
                    <a:lnTo>
                      <a:pt x="558" y="1692"/>
                    </a:lnTo>
                    <a:lnTo>
                      <a:pt x="590" y="1675"/>
                    </a:lnTo>
                    <a:lnTo>
                      <a:pt x="622" y="1634"/>
                    </a:lnTo>
                    <a:lnTo>
                      <a:pt x="685" y="1616"/>
                    </a:lnTo>
                    <a:lnTo>
                      <a:pt x="762" y="1558"/>
                    </a:lnTo>
                    <a:lnTo>
                      <a:pt x="839" y="1517"/>
                    </a:lnTo>
                    <a:lnTo>
                      <a:pt x="917" y="1500"/>
                    </a:lnTo>
                    <a:lnTo>
                      <a:pt x="1008" y="1459"/>
                    </a:lnTo>
                    <a:lnTo>
                      <a:pt x="1071" y="1421"/>
                    </a:lnTo>
                    <a:lnTo>
                      <a:pt x="1103" y="1400"/>
                    </a:lnTo>
                    <a:lnTo>
                      <a:pt x="1135" y="1400"/>
                    </a:lnTo>
                    <a:lnTo>
                      <a:pt x="1166" y="1383"/>
                    </a:lnTo>
                    <a:lnTo>
                      <a:pt x="1180" y="1383"/>
                    </a:lnTo>
                    <a:lnTo>
                      <a:pt x="2049" y="875"/>
                    </a:lnTo>
                    <a:lnTo>
                      <a:pt x="2889" y="545"/>
                    </a:lnTo>
                    <a:lnTo>
                      <a:pt x="3230" y="466"/>
                    </a:lnTo>
                    <a:lnTo>
                      <a:pt x="3571" y="391"/>
                    </a:lnTo>
                    <a:lnTo>
                      <a:pt x="3743" y="370"/>
                    </a:lnTo>
                    <a:lnTo>
                      <a:pt x="3821" y="370"/>
                    </a:lnTo>
                    <a:lnTo>
                      <a:pt x="3898" y="349"/>
                    </a:lnTo>
                    <a:lnTo>
                      <a:pt x="3961" y="349"/>
                    </a:lnTo>
                    <a:lnTo>
                      <a:pt x="4007" y="312"/>
                    </a:lnTo>
                    <a:lnTo>
                      <a:pt x="4098" y="274"/>
                    </a:lnTo>
                    <a:lnTo>
                      <a:pt x="4161" y="253"/>
                    </a:lnTo>
                    <a:lnTo>
                      <a:pt x="4207" y="233"/>
                    </a:lnTo>
                    <a:lnTo>
                      <a:pt x="4256" y="233"/>
                    </a:lnTo>
                    <a:lnTo>
                      <a:pt x="4256" y="233"/>
                    </a:lnTo>
                    <a:lnTo>
                      <a:pt x="4207" y="233"/>
                    </a:lnTo>
                    <a:lnTo>
                      <a:pt x="4130" y="233"/>
                    </a:lnTo>
                    <a:lnTo>
                      <a:pt x="4052" y="253"/>
                    </a:lnTo>
                    <a:lnTo>
                      <a:pt x="3975" y="253"/>
                    </a:lnTo>
                    <a:lnTo>
                      <a:pt x="3884" y="274"/>
                    </a:lnTo>
                    <a:lnTo>
                      <a:pt x="3757" y="274"/>
                    </a:lnTo>
                    <a:lnTo>
                      <a:pt x="3603" y="291"/>
                    </a:lnTo>
                    <a:lnTo>
                      <a:pt x="3448" y="291"/>
                    </a:lnTo>
                    <a:lnTo>
                      <a:pt x="3248" y="428"/>
                    </a:lnTo>
                    <a:lnTo>
                      <a:pt x="3139" y="487"/>
                    </a:lnTo>
                    <a:lnTo>
                      <a:pt x="3030" y="545"/>
                    </a:lnTo>
                    <a:lnTo>
                      <a:pt x="2872" y="624"/>
                    </a:lnTo>
                    <a:lnTo>
                      <a:pt x="2735" y="682"/>
                    </a:lnTo>
                    <a:lnTo>
                      <a:pt x="2608" y="758"/>
                    </a:lnTo>
                    <a:lnTo>
                      <a:pt x="2548" y="799"/>
                    </a:lnTo>
                    <a:lnTo>
                      <a:pt x="2471" y="875"/>
                    </a:lnTo>
                    <a:lnTo>
                      <a:pt x="2376" y="975"/>
                    </a:lnTo>
                    <a:lnTo>
                      <a:pt x="2299" y="1091"/>
                    </a:lnTo>
                    <a:lnTo>
                      <a:pt x="2222" y="1188"/>
                    </a:lnTo>
                    <a:lnTo>
                      <a:pt x="2127" y="1284"/>
                    </a:lnTo>
                    <a:lnTo>
                      <a:pt x="2081" y="1342"/>
                    </a:lnTo>
                    <a:lnTo>
                      <a:pt x="2049" y="1383"/>
                    </a:lnTo>
                    <a:lnTo>
                      <a:pt x="2021" y="1421"/>
                    </a:lnTo>
                    <a:lnTo>
                      <a:pt x="2021" y="1400"/>
                    </a:lnTo>
                    <a:lnTo>
                      <a:pt x="2035" y="1383"/>
                    </a:lnTo>
                    <a:lnTo>
                      <a:pt x="2035" y="1342"/>
                    </a:lnTo>
                    <a:lnTo>
                      <a:pt x="2021" y="1363"/>
                    </a:lnTo>
                    <a:lnTo>
                      <a:pt x="1958" y="1400"/>
                    </a:lnTo>
                    <a:lnTo>
                      <a:pt x="1912" y="1459"/>
                    </a:lnTo>
                    <a:lnTo>
                      <a:pt x="1849" y="1537"/>
                    </a:lnTo>
                    <a:lnTo>
                      <a:pt x="1617" y="1850"/>
                    </a:lnTo>
                    <a:lnTo>
                      <a:pt x="1367" y="2141"/>
                    </a:lnTo>
                    <a:lnTo>
                      <a:pt x="1194" y="2371"/>
                    </a:lnTo>
                    <a:lnTo>
                      <a:pt x="1057" y="2605"/>
                    </a:lnTo>
                    <a:lnTo>
                      <a:pt x="917" y="2839"/>
                    </a:lnTo>
                    <a:lnTo>
                      <a:pt x="776" y="3113"/>
                    </a:lnTo>
                    <a:lnTo>
                      <a:pt x="776" y="3130"/>
                    </a:lnTo>
                    <a:lnTo>
                      <a:pt x="762" y="3151"/>
                    </a:lnTo>
                    <a:lnTo>
                      <a:pt x="713" y="3230"/>
                    </a:lnTo>
                    <a:lnTo>
                      <a:pt x="653" y="3326"/>
                    </a:lnTo>
                    <a:lnTo>
                      <a:pt x="622" y="3384"/>
                    </a:lnTo>
                    <a:lnTo>
                      <a:pt x="590" y="3405"/>
                    </a:lnTo>
                    <a:lnTo>
                      <a:pt x="558" y="3443"/>
                    </a:lnTo>
                    <a:lnTo>
                      <a:pt x="544" y="3463"/>
                    </a:lnTo>
                    <a:lnTo>
                      <a:pt x="527" y="3463"/>
                    </a:lnTo>
                    <a:lnTo>
                      <a:pt x="544" y="3443"/>
                    </a:lnTo>
                    <a:lnTo>
                      <a:pt x="558" y="3405"/>
                    </a:lnTo>
                    <a:lnTo>
                      <a:pt x="622" y="3346"/>
                    </a:lnTo>
                    <a:lnTo>
                      <a:pt x="713" y="3189"/>
                    </a:lnTo>
                    <a:lnTo>
                      <a:pt x="808" y="3014"/>
                    </a:lnTo>
                    <a:lnTo>
                      <a:pt x="853" y="2938"/>
                    </a:lnTo>
                    <a:lnTo>
                      <a:pt x="917" y="2880"/>
                    </a:lnTo>
                    <a:lnTo>
                      <a:pt x="962" y="2801"/>
                    </a:lnTo>
                    <a:lnTo>
                      <a:pt x="980" y="2780"/>
                    </a:lnTo>
                    <a:lnTo>
                      <a:pt x="1367" y="2200"/>
                    </a:lnTo>
                    <a:lnTo>
                      <a:pt x="2394" y="1459"/>
                    </a:lnTo>
                    <a:lnTo>
                      <a:pt x="3402" y="720"/>
                    </a:lnTo>
                    <a:lnTo>
                      <a:pt x="3448" y="699"/>
                    </a:lnTo>
                    <a:lnTo>
                      <a:pt x="3494" y="662"/>
                    </a:lnTo>
                    <a:lnTo>
                      <a:pt x="3620" y="624"/>
                    </a:lnTo>
                    <a:lnTo>
                      <a:pt x="3666" y="603"/>
                    </a:lnTo>
                    <a:lnTo>
                      <a:pt x="3698" y="583"/>
                    </a:lnTo>
                    <a:lnTo>
                      <a:pt x="3698" y="566"/>
                    </a:lnTo>
                    <a:lnTo>
                      <a:pt x="3680" y="545"/>
                    </a:lnTo>
                    <a:lnTo>
                      <a:pt x="3557" y="507"/>
                    </a:lnTo>
                    <a:lnTo>
                      <a:pt x="3416" y="507"/>
                    </a:lnTo>
                    <a:lnTo>
                      <a:pt x="3262" y="507"/>
                    </a:lnTo>
                    <a:lnTo>
                      <a:pt x="3121" y="524"/>
                    </a:lnTo>
                    <a:lnTo>
                      <a:pt x="2640" y="682"/>
                    </a:lnTo>
                    <a:lnTo>
                      <a:pt x="2144" y="917"/>
                    </a:lnTo>
                    <a:lnTo>
                      <a:pt x="1694" y="1167"/>
                    </a:lnTo>
                    <a:lnTo>
                      <a:pt x="1477" y="1325"/>
                    </a:lnTo>
                    <a:lnTo>
                      <a:pt x="1289" y="1479"/>
                    </a:lnTo>
                    <a:lnTo>
                      <a:pt x="1194" y="1575"/>
                    </a:lnTo>
                    <a:lnTo>
                      <a:pt x="1071" y="1692"/>
                    </a:lnTo>
                    <a:lnTo>
                      <a:pt x="948" y="1829"/>
                    </a:lnTo>
                    <a:lnTo>
                      <a:pt x="839" y="1946"/>
                    </a:lnTo>
                    <a:lnTo>
                      <a:pt x="808" y="2004"/>
                    </a:lnTo>
                    <a:lnTo>
                      <a:pt x="776" y="2062"/>
                    </a:lnTo>
                    <a:lnTo>
                      <a:pt x="745" y="2121"/>
                    </a:lnTo>
                    <a:lnTo>
                      <a:pt x="699" y="2179"/>
                    </a:lnTo>
                    <a:lnTo>
                      <a:pt x="667" y="2217"/>
                    </a:lnTo>
                    <a:lnTo>
                      <a:pt x="667" y="2237"/>
                    </a:lnTo>
                    <a:lnTo>
                      <a:pt x="667" y="2217"/>
                    </a:lnTo>
                    <a:lnTo>
                      <a:pt x="713" y="2158"/>
                    </a:lnTo>
                    <a:lnTo>
                      <a:pt x="762" y="2083"/>
                    </a:lnTo>
                    <a:lnTo>
                      <a:pt x="794" y="2025"/>
                    </a:lnTo>
                    <a:lnTo>
                      <a:pt x="808" y="2004"/>
                    </a:lnTo>
                    <a:lnTo>
                      <a:pt x="2872" y="1109"/>
                    </a:lnTo>
                    <a:lnTo>
                      <a:pt x="4925" y="216"/>
                    </a:lnTo>
                    <a:lnTo>
                      <a:pt x="4953" y="216"/>
                    </a:lnTo>
                    <a:lnTo>
                      <a:pt x="4985" y="195"/>
                    </a:lnTo>
                    <a:lnTo>
                      <a:pt x="5002" y="174"/>
                    </a:lnTo>
                    <a:lnTo>
                      <a:pt x="5002" y="157"/>
                    </a:lnTo>
                    <a:lnTo>
                      <a:pt x="4739" y="291"/>
                    </a:lnTo>
                    <a:lnTo>
                      <a:pt x="4475" y="449"/>
                    </a:lnTo>
                    <a:lnTo>
                      <a:pt x="4335" y="507"/>
                    </a:lnTo>
                    <a:lnTo>
                      <a:pt x="4193" y="583"/>
                    </a:lnTo>
                    <a:lnTo>
                      <a:pt x="3884" y="720"/>
                    </a:lnTo>
                    <a:lnTo>
                      <a:pt x="3603" y="896"/>
                    </a:lnTo>
                    <a:lnTo>
                      <a:pt x="3480" y="992"/>
                    </a:lnTo>
                    <a:lnTo>
                      <a:pt x="3371" y="1091"/>
                    </a:lnTo>
                    <a:lnTo>
                      <a:pt x="3167" y="1342"/>
                    </a:lnTo>
                    <a:lnTo>
                      <a:pt x="2981" y="1596"/>
                    </a:lnTo>
                    <a:lnTo>
                      <a:pt x="2858" y="1771"/>
                    </a:lnTo>
                    <a:lnTo>
                      <a:pt x="2735" y="1966"/>
                    </a:lnTo>
                    <a:lnTo>
                      <a:pt x="2626" y="2158"/>
                    </a:lnTo>
                    <a:lnTo>
                      <a:pt x="2499" y="2333"/>
                    </a:lnTo>
                    <a:lnTo>
                      <a:pt x="2453" y="2392"/>
                    </a:lnTo>
                    <a:lnTo>
                      <a:pt x="2439" y="2412"/>
                    </a:lnTo>
                    <a:lnTo>
                      <a:pt x="2422" y="2450"/>
                    </a:lnTo>
                    <a:lnTo>
                      <a:pt x="2422" y="2488"/>
                    </a:lnTo>
                    <a:lnTo>
                      <a:pt x="2394" y="2529"/>
                    </a:lnTo>
                    <a:lnTo>
                      <a:pt x="2362" y="2567"/>
                    </a:lnTo>
                    <a:lnTo>
                      <a:pt x="2313" y="2626"/>
                    </a:lnTo>
                    <a:lnTo>
                      <a:pt x="2285" y="2664"/>
                    </a:lnTo>
                    <a:lnTo>
                      <a:pt x="2299" y="2664"/>
                    </a:lnTo>
                    <a:lnTo>
                      <a:pt x="2376" y="2626"/>
                    </a:lnTo>
                    <a:lnTo>
                      <a:pt x="2439" y="2546"/>
                    </a:lnTo>
                    <a:lnTo>
                      <a:pt x="2485" y="2488"/>
                    </a:lnTo>
                    <a:lnTo>
                      <a:pt x="2499" y="2471"/>
                    </a:lnTo>
                    <a:lnTo>
                      <a:pt x="2889" y="2025"/>
                    </a:lnTo>
                    <a:lnTo>
                      <a:pt x="3153" y="1791"/>
                    </a:lnTo>
                    <a:lnTo>
                      <a:pt x="3402" y="1537"/>
                    </a:lnTo>
                    <a:lnTo>
                      <a:pt x="3511" y="1383"/>
                    </a:lnTo>
                    <a:lnTo>
                      <a:pt x="3603" y="1225"/>
                    </a:lnTo>
                    <a:lnTo>
                      <a:pt x="3835" y="917"/>
                    </a:lnTo>
                    <a:lnTo>
                      <a:pt x="4098" y="641"/>
                    </a:lnTo>
                    <a:lnTo>
                      <a:pt x="4239" y="524"/>
                    </a:lnTo>
                    <a:lnTo>
                      <a:pt x="4412" y="428"/>
                    </a:lnTo>
                    <a:lnTo>
                      <a:pt x="4581" y="332"/>
                    </a:lnTo>
                    <a:lnTo>
                      <a:pt x="4784" y="274"/>
                    </a:lnTo>
                    <a:lnTo>
                      <a:pt x="4862" y="291"/>
                    </a:lnTo>
                    <a:lnTo>
                      <a:pt x="4925" y="291"/>
                    </a:lnTo>
                    <a:lnTo>
                      <a:pt x="4953" y="349"/>
                    </a:lnTo>
                    <a:lnTo>
                      <a:pt x="4953" y="408"/>
                    </a:lnTo>
                    <a:lnTo>
                      <a:pt x="4907" y="487"/>
                    </a:lnTo>
                    <a:lnTo>
                      <a:pt x="4862" y="566"/>
                    </a:lnTo>
                    <a:lnTo>
                      <a:pt x="4739" y="699"/>
                    </a:lnTo>
                    <a:lnTo>
                      <a:pt x="4676" y="741"/>
                    </a:lnTo>
                    <a:lnTo>
                      <a:pt x="4661" y="758"/>
                    </a:lnTo>
                    <a:lnTo>
                      <a:pt x="4581" y="837"/>
                    </a:lnTo>
                    <a:lnTo>
                      <a:pt x="4475" y="875"/>
                    </a:lnTo>
                    <a:lnTo>
                      <a:pt x="4239" y="934"/>
                    </a:lnTo>
                    <a:lnTo>
                      <a:pt x="3993" y="975"/>
                    </a:lnTo>
                    <a:lnTo>
                      <a:pt x="3757" y="992"/>
                    </a:lnTo>
                    <a:lnTo>
                      <a:pt x="3603" y="1050"/>
                    </a:lnTo>
                    <a:lnTo>
                      <a:pt x="3434" y="1091"/>
                    </a:lnTo>
                    <a:lnTo>
                      <a:pt x="3307" y="1167"/>
                    </a:lnTo>
                    <a:lnTo>
                      <a:pt x="3167" y="1266"/>
                    </a:lnTo>
                    <a:lnTo>
                      <a:pt x="2872" y="1479"/>
                    </a:lnTo>
                    <a:lnTo>
                      <a:pt x="2735" y="1596"/>
                    </a:lnTo>
                    <a:lnTo>
                      <a:pt x="2580" y="1692"/>
                    </a:lnTo>
                    <a:lnTo>
                      <a:pt x="2548" y="1750"/>
                    </a:lnTo>
                    <a:lnTo>
                      <a:pt x="2531" y="1771"/>
                    </a:lnTo>
                    <a:lnTo>
                      <a:pt x="2499" y="1809"/>
                    </a:lnTo>
                    <a:lnTo>
                      <a:pt x="2471" y="1829"/>
                    </a:lnTo>
                    <a:lnTo>
                      <a:pt x="2439" y="1867"/>
                    </a:lnTo>
                    <a:lnTo>
                      <a:pt x="2394" y="1908"/>
                    </a:lnTo>
                    <a:lnTo>
                      <a:pt x="2330" y="1983"/>
                    </a:lnTo>
                    <a:lnTo>
                      <a:pt x="2330" y="1983"/>
                    </a:lnTo>
                    <a:lnTo>
                      <a:pt x="2345" y="1966"/>
                    </a:lnTo>
                    <a:lnTo>
                      <a:pt x="2394" y="1887"/>
                    </a:lnTo>
                    <a:lnTo>
                      <a:pt x="2471" y="1809"/>
                    </a:lnTo>
                    <a:lnTo>
                      <a:pt x="2531" y="1733"/>
                    </a:lnTo>
                    <a:lnTo>
                      <a:pt x="2671" y="1575"/>
                    </a:lnTo>
                    <a:lnTo>
                      <a:pt x="2749" y="1500"/>
                    </a:lnTo>
                    <a:lnTo>
                      <a:pt x="2844" y="1421"/>
                    </a:lnTo>
                    <a:lnTo>
                      <a:pt x="2921" y="1383"/>
                    </a:lnTo>
                    <a:lnTo>
                      <a:pt x="2998" y="1325"/>
                    </a:lnTo>
                    <a:lnTo>
                      <a:pt x="3076" y="1266"/>
                    </a:lnTo>
                    <a:lnTo>
                      <a:pt x="3107" y="1246"/>
                    </a:lnTo>
                    <a:lnTo>
                      <a:pt x="3121" y="1225"/>
                    </a:lnTo>
                    <a:lnTo>
                      <a:pt x="3339" y="1050"/>
                    </a:lnTo>
                    <a:lnTo>
                      <a:pt x="3571" y="875"/>
                    </a:lnTo>
                    <a:lnTo>
                      <a:pt x="3634" y="837"/>
                    </a:lnTo>
                    <a:lnTo>
                      <a:pt x="3712" y="837"/>
                    </a:lnTo>
                    <a:lnTo>
                      <a:pt x="3775" y="816"/>
                    </a:lnTo>
                    <a:lnTo>
                      <a:pt x="3852" y="799"/>
                    </a:lnTo>
                    <a:lnTo>
                      <a:pt x="3993" y="720"/>
                    </a:lnTo>
                    <a:lnTo>
                      <a:pt x="4052" y="682"/>
                    </a:lnTo>
                    <a:lnTo>
                      <a:pt x="4130" y="662"/>
                    </a:lnTo>
                    <a:lnTo>
                      <a:pt x="4739" y="524"/>
                    </a:lnTo>
                    <a:lnTo>
                      <a:pt x="5034" y="487"/>
                    </a:lnTo>
                    <a:lnTo>
                      <a:pt x="5343" y="449"/>
                    </a:lnTo>
                    <a:lnTo>
                      <a:pt x="5452" y="408"/>
                    </a:lnTo>
                    <a:lnTo>
                      <a:pt x="5561" y="391"/>
                    </a:lnTo>
                    <a:lnTo>
                      <a:pt x="5621" y="370"/>
                    </a:lnTo>
                    <a:lnTo>
                      <a:pt x="5698" y="370"/>
                    </a:lnTo>
                    <a:lnTo>
                      <a:pt x="5747" y="349"/>
                    </a:lnTo>
                    <a:lnTo>
                      <a:pt x="5747" y="349"/>
                    </a:lnTo>
                    <a:lnTo>
                      <a:pt x="5730" y="349"/>
                    </a:lnTo>
                    <a:lnTo>
                      <a:pt x="5357" y="370"/>
                    </a:lnTo>
                    <a:lnTo>
                      <a:pt x="4971" y="391"/>
                    </a:lnTo>
                    <a:lnTo>
                      <a:pt x="4799" y="428"/>
                    </a:lnTo>
                    <a:lnTo>
                      <a:pt x="4644" y="449"/>
                    </a:lnTo>
                    <a:lnTo>
                      <a:pt x="4380" y="524"/>
                    </a:lnTo>
                    <a:lnTo>
                      <a:pt x="4098" y="624"/>
                    </a:lnTo>
                    <a:lnTo>
                      <a:pt x="3821" y="758"/>
                    </a:lnTo>
                    <a:lnTo>
                      <a:pt x="3680" y="837"/>
                    </a:lnTo>
                    <a:lnTo>
                      <a:pt x="3603" y="875"/>
                    </a:lnTo>
                    <a:lnTo>
                      <a:pt x="3539" y="934"/>
                    </a:lnTo>
                    <a:lnTo>
                      <a:pt x="3539" y="934"/>
                    </a:lnTo>
                    <a:lnTo>
                      <a:pt x="3571" y="917"/>
                    </a:lnTo>
                    <a:lnTo>
                      <a:pt x="3620" y="896"/>
                    </a:lnTo>
                    <a:lnTo>
                      <a:pt x="3648" y="875"/>
                    </a:lnTo>
                    <a:lnTo>
                      <a:pt x="3712" y="857"/>
                    </a:lnTo>
                    <a:lnTo>
                      <a:pt x="3757" y="857"/>
                    </a:lnTo>
                    <a:lnTo>
                      <a:pt x="4007" y="720"/>
                    </a:lnTo>
                    <a:lnTo>
                      <a:pt x="4239" y="624"/>
                    </a:lnTo>
                    <a:lnTo>
                      <a:pt x="4489" y="524"/>
                    </a:lnTo>
                    <a:lnTo>
                      <a:pt x="4753" y="449"/>
                    </a:lnTo>
                    <a:lnTo>
                      <a:pt x="5002" y="449"/>
                    </a:lnTo>
                    <a:lnTo>
                      <a:pt x="5248" y="466"/>
                    </a:lnTo>
                    <a:lnTo>
                      <a:pt x="5312" y="487"/>
                    </a:lnTo>
                    <a:lnTo>
                      <a:pt x="5343" y="507"/>
                    </a:lnTo>
                    <a:lnTo>
                      <a:pt x="5343" y="524"/>
                    </a:lnTo>
                    <a:lnTo>
                      <a:pt x="5326" y="545"/>
                    </a:lnTo>
                    <a:lnTo>
                      <a:pt x="5298" y="566"/>
                    </a:lnTo>
                    <a:lnTo>
                      <a:pt x="5234" y="583"/>
                    </a:lnTo>
                    <a:lnTo>
                      <a:pt x="5157" y="603"/>
                    </a:lnTo>
                    <a:lnTo>
                      <a:pt x="5094" y="624"/>
                    </a:lnTo>
                    <a:lnTo>
                      <a:pt x="4985" y="682"/>
                    </a:lnTo>
                    <a:lnTo>
                      <a:pt x="4893" y="741"/>
                    </a:lnTo>
                    <a:lnTo>
                      <a:pt x="4630" y="875"/>
                    </a:lnTo>
                    <a:lnTo>
                      <a:pt x="4366" y="1033"/>
                    </a:lnTo>
                    <a:lnTo>
                      <a:pt x="3852" y="1383"/>
                    </a:lnTo>
                    <a:lnTo>
                      <a:pt x="3852" y="1383"/>
                    </a:lnTo>
                    <a:lnTo>
                      <a:pt x="3884" y="1363"/>
                    </a:lnTo>
                    <a:lnTo>
                      <a:pt x="3929" y="1342"/>
                    </a:lnTo>
                    <a:lnTo>
                      <a:pt x="3961" y="1325"/>
                    </a:lnTo>
                    <a:lnTo>
                      <a:pt x="4007" y="1284"/>
                    </a:lnTo>
                    <a:lnTo>
                      <a:pt x="4038" y="1225"/>
                    </a:lnTo>
                    <a:lnTo>
                      <a:pt x="4284" y="1109"/>
                    </a:lnTo>
                    <a:lnTo>
                      <a:pt x="4521" y="992"/>
                    </a:lnTo>
                    <a:lnTo>
                      <a:pt x="4721" y="857"/>
                    </a:lnTo>
                    <a:lnTo>
                      <a:pt x="4925" y="758"/>
                    </a:lnTo>
                    <a:lnTo>
                      <a:pt x="5375" y="583"/>
                    </a:lnTo>
                    <a:lnTo>
                      <a:pt x="5171" y="545"/>
                    </a:lnTo>
                    <a:lnTo>
                      <a:pt x="5002" y="545"/>
                    </a:lnTo>
                    <a:lnTo>
                      <a:pt x="4816" y="566"/>
                    </a:lnTo>
                    <a:lnTo>
                      <a:pt x="4612" y="583"/>
                    </a:lnTo>
                    <a:lnTo>
                      <a:pt x="4380" y="682"/>
                    </a:lnTo>
                    <a:lnTo>
                      <a:pt x="4161" y="799"/>
                    </a:lnTo>
                    <a:lnTo>
                      <a:pt x="3961" y="954"/>
                    </a:lnTo>
                    <a:lnTo>
                      <a:pt x="3743" y="1071"/>
                    </a:lnTo>
                    <a:lnTo>
                      <a:pt x="3757" y="992"/>
                    </a:lnTo>
                    <a:lnTo>
                      <a:pt x="3789" y="917"/>
                    </a:lnTo>
                    <a:lnTo>
                      <a:pt x="3866" y="837"/>
                    </a:lnTo>
                    <a:lnTo>
                      <a:pt x="3944" y="758"/>
                    </a:lnTo>
                    <a:lnTo>
                      <a:pt x="4052" y="699"/>
                    </a:lnTo>
                    <a:lnTo>
                      <a:pt x="4179" y="641"/>
                    </a:lnTo>
                    <a:lnTo>
                      <a:pt x="4426" y="566"/>
                    </a:lnTo>
                    <a:lnTo>
                      <a:pt x="4535" y="545"/>
                    </a:lnTo>
                    <a:lnTo>
                      <a:pt x="4644" y="524"/>
                    </a:lnTo>
                    <a:lnTo>
                      <a:pt x="4690" y="524"/>
                    </a:lnTo>
                    <a:lnTo>
                      <a:pt x="4753" y="545"/>
                    </a:lnTo>
                    <a:lnTo>
                      <a:pt x="4830" y="545"/>
                    </a:lnTo>
                    <a:lnTo>
                      <a:pt x="4925" y="566"/>
                    </a:lnTo>
                    <a:lnTo>
                      <a:pt x="5125" y="566"/>
                    </a:lnTo>
                    <a:lnTo>
                      <a:pt x="5220" y="566"/>
                    </a:lnTo>
                    <a:lnTo>
                      <a:pt x="5280" y="545"/>
                    </a:lnTo>
                    <a:lnTo>
                      <a:pt x="5375" y="566"/>
                    </a:lnTo>
                    <a:lnTo>
                      <a:pt x="5452" y="583"/>
                    </a:lnTo>
                    <a:lnTo>
                      <a:pt x="5544" y="583"/>
                    </a:lnTo>
                    <a:lnTo>
                      <a:pt x="5607" y="583"/>
                    </a:lnTo>
                    <a:lnTo>
                      <a:pt x="5621" y="566"/>
                    </a:lnTo>
                    <a:lnTo>
                      <a:pt x="5607" y="566"/>
                    </a:lnTo>
                    <a:lnTo>
                      <a:pt x="5575" y="545"/>
                    </a:lnTo>
                    <a:lnTo>
                      <a:pt x="5544" y="545"/>
                    </a:lnTo>
                    <a:lnTo>
                      <a:pt x="5512" y="524"/>
                    </a:lnTo>
                    <a:lnTo>
                      <a:pt x="5484" y="524"/>
                    </a:lnTo>
                    <a:lnTo>
                      <a:pt x="5498" y="466"/>
                    </a:lnTo>
                    <a:lnTo>
                      <a:pt x="5512" y="428"/>
                    </a:lnTo>
                    <a:lnTo>
                      <a:pt x="5466" y="408"/>
                    </a:lnTo>
                    <a:lnTo>
                      <a:pt x="5435" y="391"/>
                    </a:lnTo>
                    <a:lnTo>
                      <a:pt x="5389" y="391"/>
                    </a:lnTo>
                    <a:lnTo>
                      <a:pt x="5343" y="391"/>
                    </a:lnTo>
                    <a:lnTo>
                      <a:pt x="5312" y="408"/>
                    </a:lnTo>
                    <a:lnTo>
                      <a:pt x="5266" y="449"/>
                    </a:lnTo>
                    <a:lnTo>
                      <a:pt x="5234" y="466"/>
                    </a:lnTo>
                    <a:lnTo>
                      <a:pt x="5080" y="524"/>
                    </a:lnTo>
                    <a:lnTo>
                      <a:pt x="4907" y="566"/>
                    </a:lnTo>
                    <a:lnTo>
                      <a:pt x="4581" y="603"/>
                    </a:lnTo>
                    <a:lnTo>
                      <a:pt x="5452" y="3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91120" y="4191120"/>
                <a:ext cx="1899000" cy="983160"/>
              </a:xfrm>
              <a:custGeom>
                <a:avLst/>
                <a:gdLst/>
                <a:ahLst/>
                <a:rect l="0" t="0" r="r" b="b"/>
                <a:pathLst>
                  <a:path w="5275" h="2731">
                    <a:moveTo>
                      <a:pt x="4768" y="405"/>
                    </a:moveTo>
                    <a:lnTo>
                      <a:pt x="4732" y="344"/>
                    </a:lnTo>
                    <a:lnTo>
                      <a:pt x="4712" y="325"/>
                    </a:lnTo>
                    <a:lnTo>
                      <a:pt x="4692" y="325"/>
                    </a:lnTo>
                    <a:lnTo>
                      <a:pt x="4692" y="325"/>
                    </a:lnTo>
                    <a:lnTo>
                      <a:pt x="4655" y="325"/>
                    </a:lnTo>
                    <a:lnTo>
                      <a:pt x="4615" y="306"/>
                    </a:lnTo>
                    <a:lnTo>
                      <a:pt x="4543" y="264"/>
                    </a:lnTo>
                    <a:lnTo>
                      <a:pt x="4503" y="202"/>
                    </a:lnTo>
                    <a:lnTo>
                      <a:pt x="4446" y="164"/>
                    </a:lnTo>
                    <a:lnTo>
                      <a:pt x="4298" y="122"/>
                    </a:lnTo>
                    <a:lnTo>
                      <a:pt x="4145" y="84"/>
                    </a:lnTo>
                    <a:lnTo>
                      <a:pt x="4129" y="61"/>
                    </a:lnTo>
                    <a:lnTo>
                      <a:pt x="4089" y="61"/>
                    </a:lnTo>
                    <a:lnTo>
                      <a:pt x="4073" y="42"/>
                    </a:lnTo>
                    <a:lnTo>
                      <a:pt x="4052" y="42"/>
                    </a:lnTo>
                    <a:lnTo>
                      <a:pt x="4032" y="42"/>
                    </a:lnTo>
                    <a:lnTo>
                      <a:pt x="3976" y="42"/>
                    </a:lnTo>
                    <a:lnTo>
                      <a:pt x="3827" y="61"/>
                    </a:lnTo>
                    <a:lnTo>
                      <a:pt x="3655" y="84"/>
                    </a:lnTo>
                    <a:lnTo>
                      <a:pt x="3598" y="84"/>
                    </a:lnTo>
                    <a:lnTo>
                      <a:pt x="3542" y="103"/>
                    </a:lnTo>
                    <a:lnTo>
                      <a:pt x="3373" y="183"/>
                    </a:lnTo>
                    <a:lnTo>
                      <a:pt x="3224" y="283"/>
                    </a:lnTo>
                    <a:lnTo>
                      <a:pt x="3035" y="405"/>
                    </a:lnTo>
                    <a:lnTo>
                      <a:pt x="2867" y="528"/>
                    </a:lnTo>
                    <a:lnTo>
                      <a:pt x="2714" y="627"/>
                    </a:lnTo>
                    <a:lnTo>
                      <a:pt x="2544" y="770"/>
                    </a:lnTo>
                    <a:lnTo>
                      <a:pt x="2452" y="850"/>
                    </a:lnTo>
                    <a:lnTo>
                      <a:pt x="2411" y="893"/>
                    </a:lnTo>
                    <a:lnTo>
                      <a:pt x="2411" y="893"/>
                    </a:lnTo>
                    <a:lnTo>
                      <a:pt x="2411" y="893"/>
                    </a:lnTo>
                    <a:lnTo>
                      <a:pt x="2411" y="873"/>
                    </a:lnTo>
                    <a:lnTo>
                      <a:pt x="2411" y="873"/>
                    </a:lnTo>
                    <a:lnTo>
                      <a:pt x="2391" y="873"/>
                    </a:lnTo>
                    <a:lnTo>
                      <a:pt x="2319" y="931"/>
                    </a:lnTo>
                    <a:lnTo>
                      <a:pt x="2186" y="1053"/>
                    </a:lnTo>
                    <a:lnTo>
                      <a:pt x="2074" y="1176"/>
                    </a:lnTo>
                    <a:lnTo>
                      <a:pt x="1941" y="1275"/>
                    </a:lnTo>
                    <a:lnTo>
                      <a:pt x="1808" y="1398"/>
                    </a:lnTo>
                    <a:lnTo>
                      <a:pt x="1716" y="1478"/>
                    </a:lnTo>
                    <a:lnTo>
                      <a:pt x="1619" y="1559"/>
                    </a:lnTo>
                    <a:lnTo>
                      <a:pt x="1547" y="1620"/>
                    </a:lnTo>
                    <a:lnTo>
                      <a:pt x="1507" y="1639"/>
                    </a:lnTo>
                    <a:lnTo>
                      <a:pt x="1527" y="1539"/>
                    </a:lnTo>
                    <a:lnTo>
                      <a:pt x="1527" y="1478"/>
                    </a:lnTo>
                    <a:lnTo>
                      <a:pt x="1527" y="1436"/>
                    </a:lnTo>
                    <a:lnTo>
                      <a:pt x="1547" y="1398"/>
                    </a:lnTo>
                    <a:lnTo>
                      <a:pt x="1547" y="1379"/>
                    </a:lnTo>
                    <a:lnTo>
                      <a:pt x="1547" y="1379"/>
                    </a:lnTo>
                    <a:lnTo>
                      <a:pt x="1547" y="1398"/>
                    </a:lnTo>
                    <a:lnTo>
                      <a:pt x="1563" y="1398"/>
                    </a:lnTo>
                    <a:lnTo>
                      <a:pt x="1603" y="1337"/>
                    </a:lnTo>
                    <a:lnTo>
                      <a:pt x="1619" y="1294"/>
                    </a:lnTo>
                    <a:lnTo>
                      <a:pt x="1640" y="1214"/>
                    </a:lnTo>
                    <a:lnTo>
                      <a:pt x="1660" y="1115"/>
                    </a:lnTo>
                    <a:lnTo>
                      <a:pt x="1660" y="1053"/>
                    </a:lnTo>
                    <a:lnTo>
                      <a:pt x="1676" y="1015"/>
                    </a:lnTo>
                    <a:lnTo>
                      <a:pt x="1716" y="992"/>
                    </a:lnTo>
                    <a:lnTo>
                      <a:pt x="1792" y="973"/>
                    </a:lnTo>
                    <a:lnTo>
                      <a:pt x="1849" y="954"/>
                    </a:lnTo>
                    <a:lnTo>
                      <a:pt x="1905" y="931"/>
                    </a:lnTo>
                    <a:lnTo>
                      <a:pt x="2150" y="973"/>
                    </a:lnTo>
                    <a:lnTo>
                      <a:pt x="2375" y="1015"/>
                    </a:lnTo>
                    <a:lnTo>
                      <a:pt x="3128" y="992"/>
                    </a:lnTo>
                    <a:lnTo>
                      <a:pt x="3864" y="954"/>
                    </a:lnTo>
                    <a:lnTo>
                      <a:pt x="4073" y="893"/>
                    </a:lnTo>
                    <a:lnTo>
                      <a:pt x="4241" y="812"/>
                    </a:lnTo>
                    <a:lnTo>
                      <a:pt x="4599" y="627"/>
                    </a:lnTo>
                    <a:lnTo>
                      <a:pt x="4446" y="589"/>
                    </a:lnTo>
                    <a:lnTo>
                      <a:pt x="4258" y="589"/>
                    </a:lnTo>
                    <a:lnTo>
                      <a:pt x="3864" y="589"/>
                    </a:lnTo>
                    <a:lnTo>
                      <a:pt x="3695" y="608"/>
                    </a:lnTo>
                    <a:lnTo>
                      <a:pt x="3542" y="627"/>
                    </a:lnTo>
                    <a:lnTo>
                      <a:pt x="3450" y="646"/>
                    </a:lnTo>
                    <a:lnTo>
                      <a:pt x="3429" y="646"/>
                    </a:lnTo>
                    <a:lnTo>
                      <a:pt x="3413" y="646"/>
                    </a:lnTo>
                    <a:lnTo>
                      <a:pt x="2810" y="751"/>
                    </a:lnTo>
                    <a:lnTo>
                      <a:pt x="2186" y="831"/>
                    </a:lnTo>
                    <a:lnTo>
                      <a:pt x="2054" y="893"/>
                    </a:lnTo>
                    <a:lnTo>
                      <a:pt x="1941" y="931"/>
                    </a:lnTo>
                    <a:lnTo>
                      <a:pt x="1885" y="954"/>
                    </a:lnTo>
                    <a:lnTo>
                      <a:pt x="1849" y="973"/>
                    </a:lnTo>
                    <a:lnTo>
                      <a:pt x="1792" y="992"/>
                    </a:lnTo>
                    <a:lnTo>
                      <a:pt x="1732" y="992"/>
                    </a:lnTo>
                    <a:lnTo>
                      <a:pt x="1640" y="1015"/>
                    </a:lnTo>
                    <a:lnTo>
                      <a:pt x="1358" y="1195"/>
                    </a:lnTo>
                    <a:lnTo>
                      <a:pt x="1057" y="1356"/>
                    </a:lnTo>
                    <a:lnTo>
                      <a:pt x="904" y="1478"/>
                    </a:lnTo>
                    <a:lnTo>
                      <a:pt x="771" y="1620"/>
                    </a:lnTo>
                    <a:lnTo>
                      <a:pt x="643" y="1742"/>
                    </a:lnTo>
                    <a:lnTo>
                      <a:pt x="490" y="1842"/>
                    </a:lnTo>
                    <a:lnTo>
                      <a:pt x="434" y="1823"/>
                    </a:lnTo>
                    <a:lnTo>
                      <a:pt x="414" y="1800"/>
                    </a:lnTo>
                    <a:lnTo>
                      <a:pt x="397" y="1781"/>
                    </a:lnTo>
                    <a:lnTo>
                      <a:pt x="377" y="1700"/>
                    </a:lnTo>
                    <a:lnTo>
                      <a:pt x="397" y="1620"/>
                    </a:lnTo>
                    <a:lnTo>
                      <a:pt x="454" y="1436"/>
                    </a:lnTo>
                    <a:lnTo>
                      <a:pt x="546" y="1275"/>
                    </a:lnTo>
                    <a:lnTo>
                      <a:pt x="643" y="1153"/>
                    </a:lnTo>
                    <a:lnTo>
                      <a:pt x="888" y="893"/>
                    </a:lnTo>
                    <a:lnTo>
                      <a:pt x="1017" y="789"/>
                    </a:lnTo>
                    <a:lnTo>
                      <a:pt x="1169" y="690"/>
                    </a:lnTo>
                    <a:lnTo>
                      <a:pt x="1282" y="646"/>
                    </a:lnTo>
                    <a:lnTo>
                      <a:pt x="1414" y="589"/>
                    </a:lnTo>
                    <a:lnTo>
                      <a:pt x="1696" y="505"/>
                    </a:lnTo>
                    <a:lnTo>
                      <a:pt x="1997" y="447"/>
                    </a:lnTo>
                    <a:lnTo>
                      <a:pt x="2150" y="424"/>
                    </a:lnTo>
                    <a:lnTo>
                      <a:pt x="2263" y="405"/>
                    </a:lnTo>
                    <a:lnTo>
                      <a:pt x="2468" y="386"/>
                    </a:lnTo>
                    <a:lnTo>
                      <a:pt x="2678" y="363"/>
                    </a:lnTo>
                    <a:lnTo>
                      <a:pt x="2903" y="386"/>
                    </a:lnTo>
                    <a:lnTo>
                      <a:pt x="3128" y="424"/>
                    </a:lnTo>
                    <a:lnTo>
                      <a:pt x="3562" y="505"/>
                    </a:lnTo>
                    <a:lnTo>
                      <a:pt x="3996" y="566"/>
                    </a:lnTo>
                    <a:lnTo>
                      <a:pt x="3864" y="505"/>
                    </a:lnTo>
                    <a:lnTo>
                      <a:pt x="3751" y="486"/>
                    </a:lnTo>
                    <a:lnTo>
                      <a:pt x="3526" y="467"/>
                    </a:lnTo>
                    <a:lnTo>
                      <a:pt x="3393" y="467"/>
                    </a:lnTo>
                    <a:lnTo>
                      <a:pt x="3261" y="486"/>
                    </a:lnTo>
                    <a:lnTo>
                      <a:pt x="3112" y="505"/>
                    </a:lnTo>
                    <a:lnTo>
                      <a:pt x="2923" y="505"/>
                    </a:lnTo>
                    <a:lnTo>
                      <a:pt x="2468" y="589"/>
                    </a:lnTo>
                    <a:lnTo>
                      <a:pt x="1997" y="690"/>
                    </a:lnTo>
                    <a:lnTo>
                      <a:pt x="1792" y="751"/>
                    </a:lnTo>
                    <a:lnTo>
                      <a:pt x="1583" y="812"/>
                    </a:lnTo>
                    <a:lnTo>
                      <a:pt x="1527" y="831"/>
                    </a:lnTo>
                    <a:lnTo>
                      <a:pt x="1507" y="831"/>
                    </a:lnTo>
                    <a:lnTo>
                      <a:pt x="1491" y="831"/>
                    </a:lnTo>
                    <a:lnTo>
                      <a:pt x="1338" y="1015"/>
                    </a:lnTo>
                    <a:lnTo>
                      <a:pt x="1189" y="1176"/>
                    </a:lnTo>
                    <a:lnTo>
                      <a:pt x="1113" y="1294"/>
                    </a:lnTo>
                    <a:lnTo>
                      <a:pt x="1093" y="1356"/>
                    </a:lnTo>
                    <a:lnTo>
                      <a:pt x="1037" y="1417"/>
                    </a:lnTo>
                    <a:lnTo>
                      <a:pt x="888" y="1578"/>
                    </a:lnTo>
                    <a:lnTo>
                      <a:pt x="735" y="1742"/>
                    </a:lnTo>
                    <a:lnTo>
                      <a:pt x="586" y="1903"/>
                    </a:lnTo>
                    <a:lnTo>
                      <a:pt x="414" y="2065"/>
                    </a:lnTo>
                    <a:lnTo>
                      <a:pt x="357" y="2145"/>
                    </a:lnTo>
                    <a:lnTo>
                      <a:pt x="301" y="2226"/>
                    </a:lnTo>
                    <a:lnTo>
                      <a:pt x="229" y="2410"/>
                    </a:lnTo>
                    <a:lnTo>
                      <a:pt x="152" y="2589"/>
                    </a:lnTo>
                    <a:lnTo>
                      <a:pt x="96" y="2674"/>
                    </a:lnTo>
                    <a:lnTo>
                      <a:pt x="0" y="2731"/>
                    </a:lnTo>
                    <a:lnTo>
                      <a:pt x="132" y="2532"/>
                    </a:lnTo>
                    <a:lnTo>
                      <a:pt x="285" y="2329"/>
                    </a:lnTo>
                    <a:lnTo>
                      <a:pt x="470" y="2126"/>
                    </a:lnTo>
                    <a:lnTo>
                      <a:pt x="679" y="1964"/>
                    </a:lnTo>
                    <a:lnTo>
                      <a:pt x="828" y="1861"/>
                    </a:lnTo>
                    <a:lnTo>
                      <a:pt x="888" y="1800"/>
                    </a:lnTo>
                    <a:lnTo>
                      <a:pt x="960" y="1762"/>
                    </a:lnTo>
                    <a:lnTo>
                      <a:pt x="1057" y="1719"/>
                    </a:lnTo>
                    <a:lnTo>
                      <a:pt x="1073" y="1700"/>
                    </a:lnTo>
                    <a:lnTo>
                      <a:pt x="1093" y="1700"/>
                    </a:lnTo>
                    <a:lnTo>
                      <a:pt x="2130" y="973"/>
                    </a:lnTo>
                    <a:lnTo>
                      <a:pt x="2658" y="608"/>
                    </a:lnTo>
                    <a:lnTo>
                      <a:pt x="3184" y="264"/>
                    </a:lnTo>
                    <a:lnTo>
                      <a:pt x="3240" y="245"/>
                    </a:lnTo>
                    <a:lnTo>
                      <a:pt x="3337" y="202"/>
                    </a:lnTo>
                    <a:lnTo>
                      <a:pt x="3470" y="164"/>
                    </a:lnTo>
                    <a:lnTo>
                      <a:pt x="3618" y="141"/>
                    </a:lnTo>
                    <a:lnTo>
                      <a:pt x="3751" y="103"/>
                    </a:lnTo>
                    <a:lnTo>
                      <a:pt x="3884" y="61"/>
                    </a:lnTo>
                    <a:lnTo>
                      <a:pt x="4012" y="22"/>
                    </a:lnTo>
                    <a:lnTo>
                      <a:pt x="4089" y="0"/>
                    </a:lnTo>
                    <a:lnTo>
                      <a:pt x="4032" y="84"/>
                    </a:lnTo>
                    <a:lnTo>
                      <a:pt x="3976" y="122"/>
                    </a:lnTo>
                    <a:lnTo>
                      <a:pt x="3900" y="141"/>
                    </a:lnTo>
                    <a:lnTo>
                      <a:pt x="3807" y="164"/>
                    </a:lnTo>
                    <a:lnTo>
                      <a:pt x="3429" y="245"/>
                    </a:lnTo>
                    <a:lnTo>
                      <a:pt x="3052" y="325"/>
                    </a:lnTo>
                    <a:lnTo>
                      <a:pt x="2694" y="467"/>
                    </a:lnTo>
                    <a:lnTo>
                      <a:pt x="2319" y="627"/>
                    </a:lnTo>
                    <a:lnTo>
                      <a:pt x="2243" y="690"/>
                    </a:lnTo>
                    <a:lnTo>
                      <a:pt x="2166" y="751"/>
                    </a:lnTo>
                    <a:lnTo>
                      <a:pt x="1977" y="893"/>
                    </a:lnTo>
                    <a:lnTo>
                      <a:pt x="1808" y="1053"/>
                    </a:lnTo>
                    <a:lnTo>
                      <a:pt x="1676" y="1214"/>
                    </a:lnTo>
                    <a:lnTo>
                      <a:pt x="1547" y="1379"/>
                    </a:lnTo>
                    <a:lnTo>
                      <a:pt x="1302" y="1719"/>
                    </a:lnTo>
                    <a:lnTo>
                      <a:pt x="1057" y="2084"/>
                    </a:lnTo>
                    <a:lnTo>
                      <a:pt x="868" y="2348"/>
                    </a:lnTo>
                    <a:lnTo>
                      <a:pt x="679" y="2612"/>
                    </a:lnTo>
                    <a:lnTo>
                      <a:pt x="659" y="2651"/>
                    </a:lnTo>
                    <a:lnTo>
                      <a:pt x="623" y="2674"/>
                    </a:lnTo>
                    <a:lnTo>
                      <a:pt x="623" y="2712"/>
                    </a:lnTo>
                    <a:lnTo>
                      <a:pt x="623" y="2731"/>
                    </a:lnTo>
                    <a:lnTo>
                      <a:pt x="643" y="2731"/>
                    </a:lnTo>
                    <a:lnTo>
                      <a:pt x="659" y="2712"/>
                    </a:lnTo>
                    <a:lnTo>
                      <a:pt x="699" y="2674"/>
                    </a:lnTo>
                    <a:lnTo>
                      <a:pt x="715" y="2651"/>
                    </a:lnTo>
                    <a:lnTo>
                      <a:pt x="812" y="2570"/>
                    </a:lnTo>
                    <a:lnTo>
                      <a:pt x="904" y="2490"/>
                    </a:lnTo>
                    <a:lnTo>
                      <a:pt x="1093" y="2329"/>
                    </a:lnTo>
                    <a:lnTo>
                      <a:pt x="1262" y="2168"/>
                    </a:lnTo>
                    <a:lnTo>
                      <a:pt x="1318" y="2126"/>
                    </a:lnTo>
                    <a:lnTo>
                      <a:pt x="1374" y="2065"/>
                    </a:lnTo>
                    <a:lnTo>
                      <a:pt x="1431" y="2026"/>
                    </a:lnTo>
                    <a:lnTo>
                      <a:pt x="1451" y="2003"/>
                    </a:lnTo>
                    <a:lnTo>
                      <a:pt x="2620" y="1398"/>
                    </a:lnTo>
                    <a:lnTo>
                      <a:pt x="3771" y="812"/>
                    </a:lnTo>
                    <a:lnTo>
                      <a:pt x="3787" y="812"/>
                    </a:lnTo>
                    <a:lnTo>
                      <a:pt x="3771" y="812"/>
                    </a:lnTo>
                    <a:lnTo>
                      <a:pt x="3731" y="831"/>
                    </a:lnTo>
                    <a:lnTo>
                      <a:pt x="3655" y="873"/>
                    </a:lnTo>
                    <a:lnTo>
                      <a:pt x="3598" y="893"/>
                    </a:lnTo>
                    <a:lnTo>
                      <a:pt x="3562" y="931"/>
                    </a:lnTo>
                    <a:lnTo>
                      <a:pt x="3526" y="954"/>
                    </a:lnTo>
                    <a:lnTo>
                      <a:pt x="3470" y="992"/>
                    </a:lnTo>
                    <a:lnTo>
                      <a:pt x="3413" y="1034"/>
                    </a:lnTo>
                    <a:lnTo>
                      <a:pt x="3353" y="1053"/>
                    </a:lnTo>
                    <a:lnTo>
                      <a:pt x="3281" y="1095"/>
                    </a:lnTo>
                    <a:lnTo>
                      <a:pt x="3035" y="1176"/>
                    </a:lnTo>
                    <a:lnTo>
                      <a:pt x="2923" y="1237"/>
                    </a:lnTo>
                    <a:lnTo>
                      <a:pt x="2810" y="1294"/>
                    </a:lnTo>
                    <a:lnTo>
                      <a:pt x="2714" y="1379"/>
                    </a:lnTo>
                    <a:lnTo>
                      <a:pt x="2658" y="1417"/>
                    </a:lnTo>
                    <a:lnTo>
                      <a:pt x="2620" y="1459"/>
                    </a:lnTo>
                    <a:lnTo>
                      <a:pt x="2580" y="1478"/>
                    </a:lnTo>
                    <a:lnTo>
                      <a:pt x="2544" y="1497"/>
                    </a:lnTo>
                    <a:lnTo>
                      <a:pt x="2488" y="1497"/>
                    </a:lnTo>
                    <a:lnTo>
                      <a:pt x="2411" y="1520"/>
                    </a:lnTo>
                    <a:lnTo>
                      <a:pt x="2355" y="1559"/>
                    </a:lnTo>
                    <a:lnTo>
                      <a:pt x="2319" y="1601"/>
                    </a:lnTo>
                    <a:lnTo>
                      <a:pt x="2263" y="1620"/>
                    </a:lnTo>
                    <a:lnTo>
                      <a:pt x="2222" y="1639"/>
                    </a:lnTo>
                    <a:lnTo>
                      <a:pt x="2186" y="1662"/>
                    </a:lnTo>
                    <a:lnTo>
                      <a:pt x="2130" y="1700"/>
                    </a:lnTo>
                    <a:lnTo>
                      <a:pt x="2034" y="1762"/>
                    </a:lnTo>
                    <a:lnTo>
                      <a:pt x="1921" y="1842"/>
                    </a:lnTo>
                    <a:lnTo>
                      <a:pt x="1808" y="1941"/>
                    </a:lnTo>
                    <a:lnTo>
                      <a:pt x="1696" y="2045"/>
                    </a:lnTo>
                    <a:lnTo>
                      <a:pt x="1583" y="2126"/>
                    </a:lnTo>
                    <a:lnTo>
                      <a:pt x="1451" y="2187"/>
                    </a:lnTo>
                    <a:lnTo>
                      <a:pt x="1282" y="2249"/>
                    </a:lnTo>
                    <a:lnTo>
                      <a:pt x="1149" y="2310"/>
                    </a:lnTo>
                    <a:lnTo>
                      <a:pt x="1073" y="2329"/>
                    </a:lnTo>
                    <a:lnTo>
                      <a:pt x="1037" y="2367"/>
                    </a:lnTo>
                    <a:lnTo>
                      <a:pt x="1451" y="1903"/>
                    </a:lnTo>
                    <a:lnTo>
                      <a:pt x="1829" y="1700"/>
                    </a:lnTo>
                    <a:lnTo>
                      <a:pt x="2206" y="1520"/>
                    </a:lnTo>
                    <a:lnTo>
                      <a:pt x="2544" y="1356"/>
                    </a:lnTo>
                    <a:lnTo>
                      <a:pt x="2847" y="1195"/>
                    </a:lnTo>
                    <a:lnTo>
                      <a:pt x="3148" y="1053"/>
                    </a:lnTo>
                    <a:lnTo>
                      <a:pt x="3429" y="931"/>
                    </a:lnTo>
                    <a:lnTo>
                      <a:pt x="3675" y="812"/>
                    </a:lnTo>
                    <a:lnTo>
                      <a:pt x="3920" y="709"/>
                    </a:lnTo>
                    <a:lnTo>
                      <a:pt x="4129" y="608"/>
                    </a:lnTo>
                    <a:lnTo>
                      <a:pt x="4334" y="528"/>
                    </a:lnTo>
                    <a:lnTo>
                      <a:pt x="4503" y="447"/>
                    </a:lnTo>
                    <a:lnTo>
                      <a:pt x="4676" y="386"/>
                    </a:lnTo>
                    <a:lnTo>
                      <a:pt x="4917" y="283"/>
                    </a:lnTo>
                    <a:lnTo>
                      <a:pt x="5106" y="202"/>
                    </a:lnTo>
                    <a:lnTo>
                      <a:pt x="5238" y="164"/>
                    </a:lnTo>
                    <a:lnTo>
                      <a:pt x="5275" y="122"/>
                    </a:lnTo>
                    <a:lnTo>
                      <a:pt x="5258" y="103"/>
                    </a:lnTo>
                    <a:lnTo>
                      <a:pt x="5182" y="84"/>
                    </a:lnTo>
                    <a:lnTo>
                      <a:pt x="5033" y="84"/>
                    </a:lnTo>
                    <a:lnTo>
                      <a:pt x="4824" y="84"/>
                    </a:lnTo>
                    <a:lnTo>
                      <a:pt x="4559" y="61"/>
                    </a:lnTo>
                    <a:lnTo>
                      <a:pt x="4241" y="42"/>
                    </a:lnTo>
                    <a:lnTo>
                      <a:pt x="4032" y="61"/>
                    </a:lnTo>
                    <a:lnTo>
                      <a:pt x="3807" y="61"/>
                    </a:lnTo>
                    <a:lnTo>
                      <a:pt x="3598" y="103"/>
                    </a:lnTo>
                    <a:lnTo>
                      <a:pt x="3373" y="141"/>
                    </a:lnTo>
                    <a:lnTo>
                      <a:pt x="3168" y="202"/>
                    </a:lnTo>
                    <a:lnTo>
                      <a:pt x="3092" y="245"/>
                    </a:lnTo>
                    <a:lnTo>
                      <a:pt x="2995" y="283"/>
                    </a:lnTo>
                    <a:lnTo>
                      <a:pt x="2959" y="325"/>
                    </a:lnTo>
                    <a:lnTo>
                      <a:pt x="2903" y="386"/>
                    </a:lnTo>
                    <a:lnTo>
                      <a:pt x="2847" y="424"/>
                    </a:lnTo>
                    <a:lnTo>
                      <a:pt x="2826" y="447"/>
                    </a:lnTo>
                    <a:lnTo>
                      <a:pt x="2810" y="447"/>
                    </a:lnTo>
                    <a:lnTo>
                      <a:pt x="2411" y="812"/>
                    </a:lnTo>
                    <a:lnTo>
                      <a:pt x="2222" y="992"/>
                    </a:lnTo>
                    <a:lnTo>
                      <a:pt x="4732" y="84"/>
                    </a:lnTo>
                    <a:lnTo>
                      <a:pt x="4768" y="40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352680" y="4191120"/>
              <a:ext cx="1618200" cy="1081440"/>
              <a:chOff x="3352680" y="4191120"/>
              <a:chExt cx="1618200" cy="1081440"/>
            </a:xfrm>
          </p:grpSpPr>
          <p:sp>
            <p:nvSpPr>
              <p:cNvPr id="253" name=""/>
              <p:cNvSpPr/>
              <p:nvPr/>
            </p:nvSpPr>
            <p:spPr>
              <a:xfrm>
                <a:off x="3352680" y="4191120"/>
                <a:ext cx="1618200" cy="1081440"/>
              </a:xfrm>
              <a:custGeom>
                <a:avLst/>
                <a:gdLst/>
                <a:ahLst/>
                <a:rect l="0" t="0" r="r" b="b"/>
                <a:pathLst>
                  <a:path w="4495" h="3004">
                    <a:moveTo>
                      <a:pt x="230" y="288"/>
                    </a:moveTo>
                    <a:lnTo>
                      <a:pt x="486" y="202"/>
                    </a:lnTo>
                    <a:lnTo>
                      <a:pt x="753" y="119"/>
                    </a:lnTo>
                    <a:lnTo>
                      <a:pt x="1289" y="0"/>
                    </a:lnTo>
                    <a:lnTo>
                      <a:pt x="1702" y="50"/>
                    </a:lnTo>
                    <a:lnTo>
                      <a:pt x="2125" y="101"/>
                    </a:lnTo>
                    <a:lnTo>
                      <a:pt x="2405" y="187"/>
                    </a:lnTo>
                    <a:lnTo>
                      <a:pt x="2697" y="252"/>
                    </a:lnTo>
                    <a:lnTo>
                      <a:pt x="2768" y="303"/>
                    </a:lnTo>
                    <a:lnTo>
                      <a:pt x="2842" y="339"/>
                    </a:lnTo>
                    <a:lnTo>
                      <a:pt x="3048" y="389"/>
                    </a:lnTo>
                    <a:lnTo>
                      <a:pt x="3268" y="422"/>
                    </a:lnTo>
                    <a:lnTo>
                      <a:pt x="3244" y="354"/>
                    </a:lnTo>
                    <a:lnTo>
                      <a:pt x="3194" y="288"/>
                    </a:lnTo>
                    <a:lnTo>
                      <a:pt x="3084" y="202"/>
                    </a:lnTo>
                    <a:lnTo>
                      <a:pt x="2952" y="151"/>
                    </a:lnTo>
                    <a:lnTo>
                      <a:pt x="2807" y="119"/>
                    </a:lnTo>
                    <a:lnTo>
                      <a:pt x="2697" y="136"/>
                    </a:lnTo>
                    <a:lnTo>
                      <a:pt x="2587" y="136"/>
                    </a:lnTo>
                    <a:lnTo>
                      <a:pt x="2370" y="119"/>
                    </a:lnTo>
                    <a:lnTo>
                      <a:pt x="2163" y="50"/>
                    </a:lnTo>
                    <a:lnTo>
                      <a:pt x="1944" y="0"/>
                    </a:lnTo>
                    <a:lnTo>
                      <a:pt x="1858" y="0"/>
                    </a:lnTo>
                    <a:lnTo>
                      <a:pt x="1773" y="17"/>
                    </a:lnTo>
                    <a:lnTo>
                      <a:pt x="1641" y="35"/>
                    </a:lnTo>
                    <a:lnTo>
                      <a:pt x="1518" y="50"/>
                    </a:lnTo>
                    <a:lnTo>
                      <a:pt x="1372" y="68"/>
                    </a:lnTo>
                    <a:lnTo>
                      <a:pt x="1289" y="119"/>
                    </a:lnTo>
                    <a:lnTo>
                      <a:pt x="1191" y="169"/>
                    </a:lnTo>
                    <a:lnTo>
                      <a:pt x="994" y="238"/>
                    </a:lnTo>
                    <a:lnTo>
                      <a:pt x="959" y="270"/>
                    </a:lnTo>
                    <a:lnTo>
                      <a:pt x="934" y="288"/>
                    </a:lnTo>
                    <a:lnTo>
                      <a:pt x="887" y="303"/>
                    </a:lnTo>
                    <a:lnTo>
                      <a:pt x="849" y="303"/>
                    </a:lnTo>
                    <a:lnTo>
                      <a:pt x="873" y="238"/>
                    </a:lnTo>
                    <a:lnTo>
                      <a:pt x="912" y="187"/>
                    </a:lnTo>
                    <a:lnTo>
                      <a:pt x="1008" y="119"/>
                    </a:lnTo>
                    <a:lnTo>
                      <a:pt x="1118" y="86"/>
                    </a:lnTo>
                    <a:lnTo>
                      <a:pt x="1240" y="50"/>
                    </a:lnTo>
                    <a:lnTo>
                      <a:pt x="1361" y="50"/>
                    </a:lnTo>
                    <a:lnTo>
                      <a:pt x="1457" y="68"/>
                    </a:lnTo>
                    <a:lnTo>
                      <a:pt x="1652" y="101"/>
                    </a:lnTo>
                    <a:lnTo>
                      <a:pt x="1823" y="136"/>
                    </a:lnTo>
                    <a:lnTo>
                      <a:pt x="2029" y="187"/>
                    </a:lnTo>
                    <a:lnTo>
                      <a:pt x="2370" y="354"/>
                    </a:lnTo>
                    <a:lnTo>
                      <a:pt x="2721" y="523"/>
                    </a:lnTo>
                    <a:lnTo>
                      <a:pt x="2867" y="592"/>
                    </a:lnTo>
                    <a:lnTo>
                      <a:pt x="3024" y="657"/>
                    </a:lnTo>
                    <a:lnTo>
                      <a:pt x="3169" y="744"/>
                    </a:lnTo>
                    <a:lnTo>
                      <a:pt x="3290" y="860"/>
                    </a:lnTo>
                    <a:lnTo>
                      <a:pt x="3888" y="1503"/>
                    </a:lnTo>
                    <a:lnTo>
                      <a:pt x="4495" y="2143"/>
                    </a:lnTo>
                    <a:lnTo>
                      <a:pt x="4481" y="2057"/>
                    </a:lnTo>
                    <a:lnTo>
                      <a:pt x="4470" y="1959"/>
                    </a:lnTo>
                    <a:lnTo>
                      <a:pt x="4435" y="1858"/>
                    </a:lnTo>
                    <a:lnTo>
                      <a:pt x="4385" y="1789"/>
                    </a:lnTo>
                    <a:lnTo>
                      <a:pt x="4336" y="1739"/>
                    </a:lnTo>
                    <a:lnTo>
                      <a:pt x="4275" y="1688"/>
                    </a:lnTo>
                    <a:lnTo>
                      <a:pt x="4239" y="1670"/>
                    </a:lnTo>
                    <a:lnTo>
                      <a:pt x="4215" y="1637"/>
                    </a:lnTo>
                    <a:lnTo>
                      <a:pt x="4154" y="1569"/>
                    </a:lnTo>
                    <a:lnTo>
                      <a:pt x="4105" y="1518"/>
                    </a:lnTo>
                    <a:lnTo>
                      <a:pt x="4083" y="1485"/>
                    </a:lnTo>
                    <a:lnTo>
                      <a:pt x="4058" y="1467"/>
                    </a:lnTo>
                    <a:lnTo>
                      <a:pt x="4033" y="1452"/>
                    </a:lnTo>
                    <a:lnTo>
                      <a:pt x="4009" y="1416"/>
                    </a:lnTo>
                    <a:lnTo>
                      <a:pt x="3959" y="1401"/>
                    </a:lnTo>
                    <a:lnTo>
                      <a:pt x="3899" y="1351"/>
                    </a:lnTo>
                    <a:lnTo>
                      <a:pt x="3838" y="1315"/>
                    </a:lnTo>
                    <a:lnTo>
                      <a:pt x="3778" y="1300"/>
                    </a:lnTo>
                    <a:lnTo>
                      <a:pt x="3706" y="1264"/>
                    </a:lnTo>
                    <a:lnTo>
                      <a:pt x="3657" y="1232"/>
                    </a:lnTo>
                    <a:lnTo>
                      <a:pt x="3632" y="1214"/>
                    </a:lnTo>
                    <a:lnTo>
                      <a:pt x="3607" y="1214"/>
                    </a:lnTo>
                    <a:lnTo>
                      <a:pt x="3583" y="1199"/>
                    </a:lnTo>
                    <a:lnTo>
                      <a:pt x="3572" y="1199"/>
                    </a:lnTo>
                    <a:lnTo>
                      <a:pt x="2892" y="758"/>
                    </a:lnTo>
                    <a:lnTo>
                      <a:pt x="2235" y="473"/>
                    </a:lnTo>
                    <a:lnTo>
                      <a:pt x="1968" y="404"/>
                    </a:lnTo>
                    <a:lnTo>
                      <a:pt x="1702" y="339"/>
                    </a:lnTo>
                    <a:lnTo>
                      <a:pt x="1567" y="321"/>
                    </a:lnTo>
                    <a:lnTo>
                      <a:pt x="1507" y="321"/>
                    </a:lnTo>
                    <a:lnTo>
                      <a:pt x="1446" y="303"/>
                    </a:lnTo>
                    <a:lnTo>
                      <a:pt x="1397" y="303"/>
                    </a:lnTo>
                    <a:lnTo>
                      <a:pt x="1361" y="270"/>
                    </a:lnTo>
                    <a:lnTo>
                      <a:pt x="1289" y="238"/>
                    </a:lnTo>
                    <a:lnTo>
                      <a:pt x="1240" y="220"/>
                    </a:lnTo>
                    <a:lnTo>
                      <a:pt x="1204" y="202"/>
                    </a:lnTo>
                    <a:lnTo>
                      <a:pt x="1166" y="202"/>
                    </a:lnTo>
                    <a:lnTo>
                      <a:pt x="1166" y="202"/>
                    </a:lnTo>
                    <a:lnTo>
                      <a:pt x="1204" y="202"/>
                    </a:lnTo>
                    <a:lnTo>
                      <a:pt x="1265" y="202"/>
                    </a:lnTo>
                    <a:lnTo>
                      <a:pt x="1325" y="220"/>
                    </a:lnTo>
                    <a:lnTo>
                      <a:pt x="1386" y="220"/>
                    </a:lnTo>
                    <a:lnTo>
                      <a:pt x="1457" y="238"/>
                    </a:lnTo>
                    <a:lnTo>
                      <a:pt x="1556" y="238"/>
                    </a:lnTo>
                    <a:lnTo>
                      <a:pt x="1677" y="252"/>
                    </a:lnTo>
                    <a:lnTo>
                      <a:pt x="1798" y="252"/>
                    </a:lnTo>
                    <a:lnTo>
                      <a:pt x="1955" y="372"/>
                    </a:lnTo>
                    <a:lnTo>
                      <a:pt x="2040" y="422"/>
                    </a:lnTo>
                    <a:lnTo>
                      <a:pt x="2125" y="473"/>
                    </a:lnTo>
                    <a:lnTo>
                      <a:pt x="2249" y="541"/>
                    </a:lnTo>
                    <a:lnTo>
                      <a:pt x="2356" y="592"/>
                    </a:lnTo>
                    <a:lnTo>
                      <a:pt x="2455" y="657"/>
                    </a:lnTo>
                    <a:lnTo>
                      <a:pt x="2501" y="693"/>
                    </a:lnTo>
                    <a:lnTo>
                      <a:pt x="2562" y="758"/>
                    </a:lnTo>
                    <a:lnTo>
                      <a:pt x="2636" y="845"/>
                    </a:lnTo>
                    <a:lnTo>
                      <a:pt x="2697" y="946"/>
                    </a:lnTo>
                    <a:lnTo>
                      <a:pt x="2757" y="1029"/>
                    </a:lnTo>
                    <a:lnTo>
                      <a:pt x="2831" y="1113"/>
                    </a:lnTo>
                    <a:lnTo>
                      <a:pt x="2867" y="1163"/>
                    </a:lnTo>
                    <a:lnTo>
                      <a:pt x="2892" y="1199"/>
                    </a:lnTo>
                    <a:lnTo>
                      <a:pt x="2914" y="1232"/>
                    </a:lnTo>
                    <a:lnTo>
                      <a:pt x="2914" y="1214"/>
                    </a:lnTo>
                    <a:lnTo>
                      <a:pt x="2903" y="1199"/>
                    </a:lnTo>
                    <a:lnTo>
                      <a:pt x="2903" y="1163"/>
                    </a:lnTo>
                    <a:lnTo>
                      <a:pt x="2914" y="1181"/>
                    </a:lnTo>
                    <a:lnTo>
                      <a:pt x="2963" y="1214"/>
                    </a:lnTo>
                    <a:lnTo>
                      <a:pt x="2999" y="1264"/>
                    </a:lnTo>
                    <a:lnTo>
                      <a:pt x="3048" y="1333"/>
                    </a:lnTo>
                    <a:lnTo>
                      <a:pt x="3230" y="1605"/>
                    </a:lnTo>
                    <a:lnTo>
                      <a:pt x="3426" y="1858"/>
                    </a:lnTo>
                    <a:lnTo>
                      <a:pt x="3561" y="2057"/>
                    </a:lnTo>
                    <a:lnTo>
                      <a:pt x="3668" y="2259"/>
                    </a:lnTo>
                    <a:lnTo>
                      <a:pt x="3778" y="2462"/>
                    </a:lnTo>
                    <a:lnTo>
                      <a:pt x="3888" y="2700"/>
                    </a:lnTo>
                    <a:lnTo>
                      <a:pt x="3888" y="2715"/>
                    </a:lnTo>
                    <a:lnTo>
                      <a:pt x="3899" y="2733"/>
                    </a:lnTo>
                    <a:lnTo>
                      <a:pt x="3937" y="2801"/>
                    </a:lnTo>
                    <a:lnTo>
                      <a:pt x="3984" y="2884"/>
                    </a:lnTo>
                    <a:lnTo>
                      <a:pt x="4009" y="2935"/>
                    </a:lnTo>
                    <a:lnTo>
                      <a:pt x="4033" y="2953"/>
                    </a:lnTo>
                    <a:lnTo>
                      <a:pt x="4058" y="2986"/>
                    </a:lnTo>
                    <a:lnTo>
                      <a:pt x="4069" y="3004"/>
                    </a:lnTo>
                    <a:lnTo>
                      <a:pt x="4083" y="3004"/>
                    </a:lnTo>
                    <a:lnTo>
                      <a:pt x="4069" y="2986"/>
                    </a:lnTo>
                    <a:lnTo>
                      <a:pt x="4058" y="2953"/>
                    </a:lnTo>
                    <a:lnTo>
                      <a:pt x="4009" y="2902"/>
                    </a:lnTo>
                    <a:lnTo>
                      <a:pt x="3937" y="2765"/>
                    </a:lnTo>
                    <a:lnTo>
                      <a:pt x="3863" y="2614"/>
                    </a:lnTo>
                    <a:lnTo>
                      <a:pt x="3827" y="2548"/>
                    </a:lnTo>
                    <a:lnTo>
                      <a:pt x="3778" y="2498"/>
                    </a:lnTo>
                    <a:lnTo>
                      <a:pt x="3742" y="2429"/>
                    </a:lnTo>
                    <a:lnTo>
                      <a:pt x="3728" y="2411"/>
                    </a:lnTo>
                    <a:lnTo>
                      <a:pt x="3426" y="1908"/>
                    </a:lnTo>
                    <a:lnTo>
                      <a:pt x="2622" y="1264"/>
                    </a:lnTo>
                    <a:lnTo>
                      <a:pt x="1834" y="625"/>
                    </a:lnTo>
                    <a:lnTo>
                      <a:pt x="1798" y="607"/>
                    </a:lnTo>
                    <a:lnTo>
                      <a:pt x="1762" y="574"/>
                    </a:lnTo>
                    <a:lnTo>
                      <a:pt x="1663" y="541"/>
                    </a:lnTo>
                    <a:lnTo>
                      <a:pt x="1628" y="523"/>
                    </a:lnTo>
                    <a:lnTo>
                      <a:pt x="1603" y="505"/>
                    </a:lnTo>
                    <a:lnTo>
                      <a:pt x="1603" y="491"/>
                    </a:lnTo>
                    <a:lnTo>
                      <a:pt x="1617" y="473"/>
                    </a:lnTo>
                    <a:lnTo>
                      <a:pt x="1713" y="440"/>
                    </a:lnTo>
                    <a:lnTo>
                      <a:pt x="1823" y="440"/>
                    </a:lnTo>
                    <a:lnTo>
                      <a:pt x="1944" y="440"/>
                    </a:lnTo>
                    <a:lnTo>
                      <a:pt x="2053" y="455"/>
                    </a:lnTo>
                    <a:lnTo>
                      <a:pt x="2430" y="592"/>
                    </a:lnTo>
                    <a:lnTo>
                      <a:pt x="2818" y="794"/>
                    </a:lnTo>
                    <a:lnTo>
                      <a:pt x="3169" y="1011"/>
                    </a:lnTo>
                    <a:lnTo>
                      <a:pt x="3340" y="1148"/>
                    </a:lnTo>
                    <a:lnTo>
                      <a:pt x="3486" y="1282"/>
                    </a:lnTo>
                    <a:lnTo>
                      <a:pt x="3561" y="1366"/>
                    </a:lnTo>
                    <a:lnTo>
                      <a:pt x="3657" y="1467"/>
                    </a:lnTo>
                    <a:lnTo>
                      <a:pt x="3753" y="1587"/>
                    </a:lnTo>
                    <a:lnTo>
                      <a:pt x="3838" y="1688"/>
                    </a:lnTo>
                    <a:lnTo>
                      <a:pt x="3863" y="1739"/>
                    </a:lnTo>
                    <a:lnTo>
                      <a:pt x="3888" y="1789"/>
                    </a:lnTo>
                    <a:lnTo>
                      <a:pt x="3912" y="1840"/>
                    </a:lnTo>
                    <a:lnTo>
                      <a:pt x="3948" y="1890"/>
                    </a:lnTo>
                    <a:lnTo>
                      <a:pt x="3973" y="1923"/>
                    </a:lnTo>
                    <a:lnTo>
                      <a:pt x="3973" y="1941"/>
                    </a:lnTo>
                    <a:lnTo>
                      <a:pt x="3973" y="1923"/>
                    </a:lnTo>
                    <a:lnTo>
                      <a:pt x="3937" y="1873"/>
                    </a:lnTo>
                    <a:lnTo>
                      <a:pt x="3899" y="1807"/>
                    </a:lnTo>
                    <a:lnTo>
                      <a:pt x="3874" y="1756"/>
                    </a:lnTo>
                    <a:lnTo>
                      <a:pt x="3863" y="1739"/>
                    </a:lnTo>
                    <a:lnTo>
                      <a:pt x="2249" y="961"/>
                    </a:lnTo>
                    <a:lnTo>
                      <a:pt x="643" y="187"/>
                    </a:lnTo>
                    <a:lnTo>
                      <a:pt x="621" y="187"/>
                    </a:lnTo>
                    <a:lnTo>
                      <a:pt x="596" y="169"/>
                    </a:lnTo>
                    <a:lnTo>
                      <a:pt x="582" y="151"/>
                    </a:lnTo>
                    <a:lnTo>
                      <a:pt x="582" y="136"/>
                    </a:lnTo>
                    <a:lnTo>
                      <a:pt x="788" y="252"/>
                    </a:lnTo>
                    <a:lnTo>
                      <a:pt x="994" y="389"/>
                    </a:lnTo>
                    <a:lnTo>
                      <a:pt x="1104" y="440"/>
                    </a:lnTo>
                    <a:lnTo>
                      <a:pt x="1215" y="505"/>
                    </a:lnTo>
                    <a:lnTo>
                      <a:pt x="1457" y="625"/>
                    </a:lnTo>
                    <a:lnTo>
                      <a:pt x="1677" y="776"/>
                    </a:lnTo>
                    <a:lnTo>
                      <a:pt x="1773" y="860"/>
                    </a:lnTo>
                    <a:lnTo>
                      <a:pt x="1858" y="946"/>
                    </a:lnTo>
                    <a:lnTo>
                      <a:pt x="2018" y="1163"/>
                    </a:lnTo>
                    <a:lnTo>
                      <a:pt x="2163" y="1383"/>
                    </a:lnTo>
                    <a:lnTo>
                      <a:pt x="2260" y="1536"/>
                    </a:lnTo>
                    <a:lnTo>
                      <a:pt x="2356" y="1706"/>
                    </a:lnTo>
                    <a:lnTo>
                      <a:pt x="2441" y="1873"/>
                    </a:lnTo>
                    <a:lnTo>
                      <a:pt x="2540" y="2024"/>
                    </a:lnTo>
                    <a:lnTo>
                      <a:pt x="2576" y="2075"/>
                    </a:lnTo>
                    <a:lnTo>
                      <a:pt x="2587" y="2093"/>
                    </a:lnTo>
                    <a:lnTo>
                      <a:pt x="2600" y="2126"/>
                    </a:lnTo>
                    <a:lnTo>
                      <a:pt x="2600" y="2158"/>
                    </a:lnTo>
                    <a:lnTo>
                      <a:pt x="2622" y="2194"/>
                    </a:lnTo>
                    <a:lnTo>
                      <a:pt x="2647" y="2227"/>
                    </a:lnTo>
                    <a:lnTo>
                      <a:pt x="2686" y="2277"/>
                    </a:lnTo>
                    <a:lnTo>
                      <a:pt x="2708" y="2310"/>
                    </a:lnTo>
                    <a:lnTo>
                      <a:pt x="2697" y="2310"/>
                    </a:lnTo>
                    <a:lnTo>
                      <a:pt x="2636" y="2277"/>
                    </a:lnTo>
                    <a:lnTo>
                      <a:pt x="2587" y="2209"/>
                    </a:lnTo>
                    <a:lnTo>
                      <a:pt x="2551" y="2158"/>
                    </a:lnTo>
                    <a:lnTo>
                      <a:pt x="2540" y="2143"/>
                    </a:lnTo>
                    <a:lnTo>
                      <a:pt x="2235" y="1756"/>
                    </a:lnTo>
                    <a:lnTo>
                      <a:pt x="2029" y="1554"/>
                    </a:lnTo>
                    <a:lnTo>
                      <a:pt x="1834" y="1333"/>
                    </a:lnTo>
                    <a:lnTo>
                      <a:pt x="1748" y="1199"/>
                    </a:lnTo>
                    <a:lnTo>
                      <a:pt x="1677" y="1062"/>
                    </a:lnTo>
                    <a:lnTo>
                      <a:pt x="1496" y="794"/>
                    </a:lnTo>
                    <a:lnTo>
                      <a:pt x="1289" y="556"/>
                    </a:lnTo>
                    <a:lnTo>
                      <a:pt x="1180" y="455"/>
                    </a:lnTo>
                    <a:lnTo>
                      <a:pt x="1044" y="372"/>
                    </a:lnTo>
                    <a:lnTo>
                      <a:pt x="912" y="288"/>
                    </a:lnTo>
                    <a:lnTo>
                      <a:pt x="753" y="238"/>
                    </a:lnTo>
                    <a:lnTo>
                      <a:pt x="692" y="252"/>
                    </a:lnTo>
                    <a:lnTo>
                      <a:pt x="643" y="252"/>
                    </a:lnTo>
                    <a:lnTo>
                      <a:pt x="621" y="303"/>
                    </a:lnTo>
                    <a:lnTo>
                      <a:pt x="621" y="354"/>
                    </a:lnTo>
                    <a:lnTo>
                      <a:pt x="656" y="422"/>
                    </a:lnTo>
                    <a:lnTo>
                      <a:pt x="692" y="491"/>
                    </a:lnTo>
                    <a:lnTo>
                      <a:pt x="788" y="607"/>
                    </a:lnTo>
                    <a:lnTo>
                      <a:pt x="838" y="642"/>
                    </a:lnTo>
                    <a:lnTo>
                      <a:pt x="849" y="657"/>
                    </a:lnTo>
                    <a:lnTo>
                      <a:pt x="912" y="726"/>
                    </a:lnTo>
                    <a:lnTo>
                      <a:pt x="994" y="758"/>
                    </a:lnTo>
                    <a:lnTo>
                      <a:pt x="1180" y="809"/>
                    </a:lnTo>
                    <a:lnTo>
                      <a:pt x="1372" y="845"/>
                    </a:lnTo>
                    <a:lnTo>
                      <a:pt x="1556" y="860"/>
                    </a:lnTo>
                    <a:lnTo>
                      <a:pt x="1677" y="910"/>
                    </a:lnTo>
                    <a:lnTo>
                      <a:pt x="1809" y="946"/>
                    </a:lnTo>
                    <a:lnTo>
                      <a:pt x="1908" y="1011"/>
                    </a:lnTo>
                    <a:lnTo>
                      <a:pt x="2018" y="1098"/>
                    </a:lnTo>
                    <a:lnTo>
                      <a:pt x="2249" y="1282"/>
                    </a:lnTo>
                    <a:lnTo>
                      <a:pt x="2356" y="1383"/>
                    </a:lnTo>
                    <a:lnTo>
                      <a:pt x="2477" y="1467"/>
                    </a:lnTo>
                    <a:lnTo>
                      <a:pt x="2501" y="1518"/>
                    </a:lnTo>
                    <a:lnTo>
                      <a:pt x="2515" y="1536"/>
                    </a:lnTo>
                    <a:lnTo>
                      <a:pt x="2540" y="1569"/>
                    </a:lnTo>
                    <a:lnTo>
                      <a:pt x="2562" y="1587"/>
                    </a:lnTo>
                    <a:lnTo>
                      <a:pt x="2587" y="1620"/>
                    </a:lnTo>
                    <a:lnTo>
                      <a:pt x="2622" y="1655"/>
                    </a:lnTo>
                    <a:lnTo>
                      <a:pt x="2672" y="1721"/>
                    </a:lnTo>
                    <a:lnTo>
                      <a:pt x="2672" y="1721"/>
                    </a:lnTo>
                    <a:lnTo>
                      <a:pt x="2661" y="1706"/>
                    </a:lnTo>
                    <a:lnTo>
                      <a:pt x="2622" y="1637"/>
                    </a:lnTo>
                    <a:lnTo>
                      <a:pt x="2562" y="1569"/>
                    </a:lnTo>
                    <a:lnTo>
                      <a:pt x="2515" y="1503"/>
                    </a:lnTo>
                    <a:lnTo>
                      <a:pt x="2405" y="1366"/>
                    </a:lnTo>
                    <a:lnTo>
                      <a:pt x="2345" y="1300"/>
                    </a:lnTo>
                    <a:lnTo>
                      <a:pt x="2271" y="1232"/>
                    </a:lnTo>
                    <a:lnTo>
                      <a:pt x="2210" y="1199"/>
                    </a:lnTo>
                    <a:lnTo>
                      <a:pt x="2150" y="1148"/>
                    </a:lnTo>
                    <a:lnTo>
                      <a:pt x="2089" y="1098"/>
                    </a:lnTo>
                    <a:lnTo>
                      <a:pt x="2064" y="1080"/>
                    </a:lnTo>
                    <a:lnTo>
                      <a:pt x="2053" y="1062"/>
                    </a:lnTo>
                    <a:lnTo>
                      <a:pt x="1883" y="910"/>
                    </a:lnTo>
                    <a:lnTo>
                      <a:pt x="1702" y="758"/>
                    </a:lnTo>
                    <a:lnTo>
                      <a:pt x="1652" y="726"/>
                    </a:lnTo>
                    <a:lnTo>
                      <a:pt x="1592" y="726"/>
                    </a:lnTo>
                    <a:lnTo>
                      <a:pt x="1542" y="708"/>
                    </a:lnTo>
                    <a:lnTo>
                      <a:pt x="1482" y="693"/>
                    </a:lnTo>
                    <a:lnTo>
                      <a:pt x="1372" y="625"/>
                    </a:lnTo>
                    <a:lnTo>
                      <a:pt x="1325" y="592"/>
                    </a:lnTo>
                    <a:lnTo>
                      <a:pt x="1265" y="574"/>
                    </a:lnTo>
                    <a:lnTo>
                      <a:pt x="788" y="455"/>
                    </a:lnTo>
                    <a:lnTo>
                      <a:pt x="557" y="422"/>
                    </a:lnTo>
                    <a:lnTo>
                      <a:pt x="316" y="389"/>
                    </a:lnTo>
                    <a:lnTo>
                      <a:pt x="230" y="354"/>
                    </a:lnTo>
                    <a:lnTo>
                      <a:pt x="145" y="339"/>
                    </a:lnTo>
                    <a:lnTo>
                      <a:pt x="98" y="321"/>
                    </a:lnTo>
                    <a:lnTo>
                      <a:pt x="38" y="321"/>
                    </a:lnTo>
                    <a:lnTo>
                      <a:pt x="0" y="303"/>
                    </a:lnTo>
                    <a:lnTo>
                      <a:pt x="0" y="303"/>
                    </a:lnTo>
                    <a:lnTo>
                      <a:pt x="13" y="303"/>
                    </a:lnTo>
                    <a:lnTo>
                      <a:pt x="305" y="321"/>
                    </a:lnTo>
                    <a:lnTo>
                      <a:pt x="607" y="339"/>
                    </a:lnTo>
                    <a:lnTo>
                      <a:pt x="742" y="372"/>
                    </a:lnTo>
                    <a:lnTo>
                      <a:pt x="862" y="389"/>
                    </a:lnTo>
                    <a:lnTo>
                      <a:pt x="1069" y="455"/>
                    </a:lnTo>
                    <a:lnTo>
                      <a:pt x="1289" y="541"/>
                    </a:lnTo>
                    <a:lnTo>
                      <a:pt x="1507" y="657"/>
                    </a:lnTo>
                    <a:lnTo>
                      <a:pt x="1617" y="726"/>
                    </a:lnTo>
                    <a:lnTo>
                      <a:pt x="1677" y="758"/>
                    </a:lnTo>
                    <a:lnTo>
                      <a:pt x="1726" y="809"/>
                    </a:lnTo>
                    <a:lnTo>
                      <a:pt x="1726" y="809"/>
                    </a:lnTo>
                    <a:lnTo>
                      <a:pt x="1702" y="794"/>
                    </a:lnTo>
                    <a:lnTo>
                      <a:pt x="1663" y="776"/>
                    </a:lnTo>
                    <a:lnTo>
                      <a:pt x="1641" y="758"/>
                    </a:lnTo>
                    <a:lnTo>
                      <a:pt x="1592" y="744"/>
                    </a:lnTo>
                    <a:lnTo>
                      <a:pt x="1556" y="744"/>
                    </a:lnTo>
                    <a:lnTo>
                      <a:pt x="1361" y="625"/>
                    </a:lnTo>
                    <a:lnTo>
                      <a:pt x="1180" y="541"/>
                    </a:lnTo>
                    <a:lnTo>
                      <a:pt x="983" y="455"/>
                    </a:lnTo>
                    <a:lnTo>
                      <a:pt x="777" y="389"/>
                    </a:lnTo>
                    <a:lnTo>
                      <a:pt x="582" y="389"/>
                    </a:lnTo>
                    <a:lnTo>
                      <a:pt x="390" y="404"/>
                    </a:lnTo>
                    <a:lnTo>
                      <a:pt x="340" y="422"/>
                    </a:lnTo>
                    <a:lnTo>
                      <a:pt x="316" y="440"/>
                    </a:lnTo>
                    <a:lnTo>
                      <a:pt x="316" y="455"/>
                    </a:lnTo>
                    <a:lnTo>
                      <a:pt x="329" y="473"/>
                    </a:lnTo>
                    <a:lnTo>
                      <a:pt x="351" y="491"/>
                    </a:lnTo>
                    <a:lnTo>
                      <a:pt x="401" y="505"/>
                    </a:lnTo>
                    <a:lnTo>
                      <a:pt x="461" y="523"/>
                    </a:lnTo>
                    <a:lnTo>
                      <a:pt x="511" y="541"/>
                    </a:lnTo>
                    <a:lnTo>
                      <a:pt x="596" y="592"/>
                    </a:lnTo>
                    <a:lnTo>
                      <a:pt x="667" y="642"/>
                    </a:lnTo>
                    <a:lnTo>
                      <a:pt x="873" y="758"/>
                    </a:lnTo>
                    <a:lnTo>
                      <a:pt x="1080" y="895"/>
                    </a:lnTo>
                    <a:lnTo>
                      <a:pt x="1482" y="1199"/>
                    </a:lnTo>
                    <a:lnTo>
                      <a:pt x="1482" y="1199"/>
                    </a:lnTo>
                    <a:lnTo>
                      <a:pt x="1457" y="1181"/>
                    </a:lnTo>
                    <a:lnTo>
                      <a:pt x="1421" y="1163"/>
                    </a:lnTo>
                    <a:lnTo>
                      <a:pt x="1397" y="1148"/>
                    </a:lnTo>
                    <a:lnTo>
                      <a:pt x="1361" y="1113"/>
                    </a:lnTo>
                    <a:lnTo>
                      <a:pt x="1336" y="1062"/>
                    </a:lnTo>
                    <a:lnTo>
                      <a:pt x="1144" y="961"/>
                    </a:lnTo>
                    <a:lnTo>
                      <a:pt x="959" y="860"/>
                    </a:lnTo>
                    <a:lnTo>
                      <a:pt x="802" y="744"/>
                    </a:lnTo>
                    <a:lnTo>
                      <a:pt x="643" y="657"/>
                    </a:lnTo>
                    <a:lnTo>
                      <a:pt x="291" y="505"/>
                    </a:lnTo>
                    <a:lnTo>
                      <a:pt x="450" y="473"/>
                    </a:lnTo>
                    <a:lnTo>
                      <a:pt x="582" y="473"/>
                    </a:lnTo>
                    <a:lnTo>
                      <a:pt x="728" y="491"/>
                    </a:lnTo>
                    <a:lnTo>
                      <a:pt x="887" y="505"/>
                    </a:lnTo>
                    <a:lnTo>
                      <a:pt x="1069" y="592"/>
                    </a:lnTo>
                    <a:lnTo>
                      <a:pt x="1240" y="693"/>
                    </a:lnTo>
                    <a:lnTo>
                      <a:pt x="1397" y="827"/>
                    </a:lnTo>
                    <a:lnTo>
                      <a:pt x="1567" y="928"/>
                    </a:lnTo>
                    <a:lnTo>
                      <a:pt x="1556" y="860"/>
                    </a:lnTo>
                    <a:lnTo>
                      <a:pt x="1531" y="794"/>
                    </a:lnTo>
                    <a:lnTo>
                      <a:pt x="1471" y="726"/>
                    </a:lnTo>
                    <a:lnTo>
                      <a:pt x="1410" y="657"/>
                    </a:lnTo>
                    <a:lnTo>
                      <a:pt x="1325" y="607"/>
                    </a:lnTo>
                    <a:lnTo>
                      <a:pt x="1226" y="556"/>
                    </a:lnTo>
                    <a:lnTo>
                      <a:pt x="1033" y="491"/>
                    </a:lnTo>
                    <a:lnTo>
                      <a:pt x="948" y="473"/>
                    </a:lnTo>
                    <a:lnTo>
                      <a:pt x="862" y="455"/>
                    </a:lnTo>
                    <a:lnTo>
                      <a:pt x="827" y="455"/>
                    </a:lnTo>
                    <a:lnTo>
                      <a:pt x="777" y="473"/>
                    </a:lnTo>
                    <a:lnTo>
                      <a:pt x="717" y="473"/>
                    </a:lnTo>
                    <a:lnTo>
                      <a:pt x="643" y="491"/>
                    </a:lnTo>
                    <a:lnTo>
                      <a:pt x="486" y="491"/>
                    </a:lnTo>
                    <a:lnTo>
                      <a:pt x="412" y="491"/>
                    </a:lnTo>
                    <a:lnTo>
                      <a:pt x="365" y="473"/>
                    </a:lnTo>
                    <a:lnTo>
                      <a:pt x="291" y="491"/>
                    </a:lnTo>
                    <a:lnTo>
                      <a:pt x="230" y="505"/>
                    </a:lnTo>
                    <a:lnTo>
                      <a:pt x="159" y="505"/>
                    </a:lnTo>
                    <a:lnTo>
                      <a:pt x="109" y="505"/>
                    </a:lnTo>
                    <a:lnTo>
                      <a:pt x="98" y="491"/>
                    </a:lnTo>
                    <a:lnTo>
                      <a:pt x="109" y="491"/>
                    </a:lnTo>
                    <a:lnTo>
                      <a:pt x="134" y="473"/>
                    </a:lnTo>
                    <a:lnTo>
                      <a:pt x="159" y="473"/>
                    </a:lnTo>
                    <a:lnTo>
                      <a:pt x="184" y="455"/>
                    </a:lnTo>
                    <a:lnTo>
                      <a:pt x="206" y="455"/>
                    </a:lnTo>
                    <a:lnTo>
                      <a:pt x="195" y="404"/>
                    </a:lnTo>
                    <a:lnTo>
                      <a:pt x="184" y="372"/>
                    </a:lnTo>
                    <a:lnTo>
                      <a:pt x="219" y="354"/>
                    </a:lnTo>
                    <a:lnTo>
                      <a:pt x="244" y="339"/>
                    </a:lnTo>
                    <a:lnTo>
                      <a:pt x="280" y="339"/>
                    </a:lnTo>
                    <a:lnTo>
                      <a:pt x="316" y="339"/>
                    </a:lnTo>
                    <a:lnTo>
                      <a:pt x="340" y="354"/>
                    </a:lnTo>
                    <a:lnTo>
                      <a:pt x="376" y="389"/>
                    </a:lnTo>
                    <a:lnTo>
                      <a:pt x="401" y="404"/>
                    </a:lnTo>
                    <a:lnTo>
                      <a:pt x="522" y="455"/>
                    </a:lnTo>
                    <a:lnTo>
                      <a:pt x="656" y="491"/>
                    </a:lnTo>
                    <a:lnTo>
                      <a:pt x="912" y="523"/>
                    </a:lnTo>
                    <a:lnTo>
                      <a:pt x="230" y="28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73560" y="4251240"/>
                <a:ext cx="1298880" cy="765360"/>
              </a:xfrm>
              <a:custGeom>
                <a:avLst/>
                <a:gdLst/>
                <a:ahLst/>
                <a:rect l="0" t="0" r="r" b="b"/>
                <a:pathLst>
                  <a:path w="3608" h="2126">
                    <a:moveTo>
                      <a:pt x="346" y="315"/>
                    </a:moveTo>
                    <a:lnTo>
                      <a:pt x="371" y="268"/>
                    </a:lnTo>
                    <a:lnTo>
                      <a:pt x="384" y="253"/>
                    </a:lnTo>
                    <a:lnTo>
                      <a:pt x="398" y="253"/>
                    </a:lnTo>
                    <a:lnTo>
                      <a:pt x="398" y="253"/>
                    </a:lnTo>
                    <a:lnTo>
                      <a:pt x="423" y="253"/>
                    </a:lnTo>
                    <a:lnTo>
                      <a:pt x="450" y="238"/>
                    </a:lnTo>
                    <a:lnTo>
                      <a:pt x="500" y="205"/>
                    </a:lnTo>
                    <a:lnTo>
                      <a:pt x="527" y="157"/>
                    </a:lnTo>
                    <a:lnTo>
                      <a:pt x="566" y="128"/>
                    </a:lnTo>
                    <a:lnTo>
                      <a:pt x="668" y="95"/>
                    </a:lnTo>
                    <a:lnTo>
                      <a:pt x="772" y="65"/>
                    </a:lnTo>
                    <a:lnTo>
                      <a:pt x="783" y="47"/>
                    </a:lnTo>
                    <a:lnTo>
                      <a:pt x="811" y="47"/>
                    </a:lnTo>
                    <a:lnTo>
                      <a:pt x="822" y="32"/>
                    </a:lnTo>
                    <a:lnTo>
                      <a:pt x="835" y="32"/>
                    </a:lnTo>
                    <a:lnTo>
                      <a:pt x="849" y="32"/>
                    </a:lnTo>
                    <a:lnTo>
                      <a:pt x="888" y="32"/>
                    </a:lnTo>
                    <a:lnTo>
                      <a:pt x="989" y="47"/>
                    </a:lnTo>
                    <a:lnTo>
                      <a:pt x="1107" y="65"/>
                    </a:lnTo>
                    <a:lnTo>
                      <a:pt x="1146" y="65"/>
                    </a:lnTo>
                    <a:lnTo>
                      <a:pt x="1184" y="80"/>
                    </a:lnTo>
                    <a:lnTo>
                      <a:pt x="1300" y="143"/>
                    </a:lnTo>
                    <a:lnTo>
                      <a:pt x="1402" y="220"/>
                    </a:lnTo>
                    <a:lnTo>
                      <a:pt x="1531" y="315"/>
                    </a:lnTo>
                    <a:lnTo>
                      <a:pt x="1646" y="411"/>
                    </a:lnTo>
                    <a:lnTo>
                      <a:pt x="1751" y="488"/>
                    </a:lnTo>
                    <a:lnTo>
                      <a:pt x="1867" y="599"/>
                    </a:lnTo>
                    <a:lnTo>
                      <a:pt x="1931" y="661"/>
                    </a:lnTo>
                    <a:lnTo>
                      <a:pt x="1958" y="694"/>
                    </a:lnTo>
                    <a:lnTo>
                      <a:pt x="1958" y="694"/>
                    </a:lnTo>
                    <a:lnTo>
                      <a:pt x="1958" y="694"/>
                    </a:lnTo>
                    <a:lnTo>
                      <a:pt x="1958" y="679"/>
                    </a:lnTo>
                    <a:lnTo>
                      <a:pt x="1958" y="679"/>
                    </a:lnTo>
                    <a:lnTo>
                      <a:pt x="1972" y="679"/>
                    </a:lnTo>
                    <a:lnTo>
                      <a:pt x="2021" y="724"/>
                    </a:lnTo>
                    <a:lnTo>
                      <a:pt x="2112" y="819"/>
                    </a:lnTo>
                    <a:lnTo>
                      <a:pt x="2189" y="915"/>
                    </a:lnTo>
                    <a:lnTo>
                      <a:pt x="2280" y="992"/>
                    </a:lnTo>
                    <a:lnTo>
                      <a:pt x="2370" y="1089"/>
                    </a:lnTo>
                    <a:lnTo>
                      <a:pt x="2434" y="1151"/>
                    </a:lnTo>
                    <a:lnTo>
                      <a:pt x="2500" y="1214"/>
                    </a:lnTo>
                    <a:lnTo>
                      <a:pt x="2549" y="1261"/>
                    </a:lnTo>
                    <a:lnTo>
                      <a:pt x="2577" y="1276"/>
                    </a:lnTo>
                    <a:lnTo>
                      <a:pt x="2563" y="1199"/>
                    </a:lnTo>
                    <a:lnTo>
                      <a:pt x="2563" y="1151"/>
                    </a:lnTo>
                    <a:lnTo>
                      <a:pt x="2563" y="1118"/>
                    </a:lnTo>
                    <a:lnTo>
                      <a:pt x="2549" y="1089"/>
                    </a:lnTo>
                    <a:lnTo>
                      <a:pt x="2549" y="1074"/>
                    </a:lnTo>
                    <a:lnTo>
                      <a:pt x="2549" y="1074"/>
                    </a:lnTo>
                    <a:lnTo>
                      <a:pt x="2549" y="1089"/>
                    </a:lnTo>
                    <a:lnTo>
                      <a:pt x="2538" y="1089"/>
                    </a:lnTo>
                    <a:lnTo>
                      <a:pt x="2511" y="1040"/>
                    </a:lnTo>
                    <a:lnTo>
                      <a:pt x="2500" y="1007"/>
                    </a:lnTo>
                    <a:lnTo>
                      <a:pt x="2486" y="944"/>
                    </a:lnTo>
                    <a:lnTo>
                      <a:pt x="2472" y="867"/>
                    </a:lnTo>
                    <a:lnTo>
                      <a:pt x="2472" y="819"/>
                    </a:lnTo>
                    <a:lnTo>
                      <a:pt x="2461" y="789"/>
                    </a:lnTo>
                    <a:lnTo>
                      <a:pt x="2434" y="772"/>
                    </a:lnTo>
                    <a:lnTo>
                      <a:pt x="2381" y="757"/>
                    </a:lnTo>
                    <a:lnTo>
                      <a:pt x="2343" y="742"/>
                    </a:lnTo>
                    <a:lnTo>
                      <a:pt x="2304" y="724"/>
                    </a:lnTo>
                    <a:lnTo>
                      <a:pt x="2137" y="757"/>
                    </a:lnTo>
                    <a:lnTo>
                      <a:pt x="1983" y="789"/>
                    </a:lnTo>
                    <a:lnTo>
                      <a:pt x="1468" y="772"/>
                    </a:lnTo>
                    <a:lnTo>
                      <a:pt x="965" y="742"/>
                    </a:lnTo>
                    <a:lnTo>
                      <a:pt x="822" y="694"/>
                    </a:lnTo>
                    <a:lnTo>
                      <a:pt x="706" y="631"/>
                    </a:lnTo>
                    <a:lnTo>
                      <a:pt x="461" y="488"/>
                    </a:lnTo>
                    <a:lnTo>
                      <a:pt x="566" y="459"/>
                    </a:lnTo>
                    <a:lnTo>
                      <a:pt x="695" y="459"/>
                    </a:lnTo>
                    <a:lnTo>
                      <a:pt x="965" y="459"/>
                    </a:lnTo>
                    <a:lnTo>
                      <a:pt x="1080" y="473"/>
                    </a:lnTo>
                    <a:lnTo>
                      <a:pt x="1184" y="488"/>
                    </a:lnTo>
                    <a:lnTo>
                      <a:pt x="1248" y="503"/>
                    </a:lnTo>
                    <a:lnTo>
                      <a:pt x="1261" y="503"/>
                    </a:lnTo>
                    <a:lnTo>
                      <a:pt x="1272" y="503"/>
                    </a:lnTo>
                    <a:lnTo>
                      <a:pt x="1685" y="584"/>
                    </a:lnTo>
                    <a:lnTo>
                      <a:pt x="2112" y="646"/>
                    </a:lnTo>
                    <a:lnTo>
                      <a:pt x="2203" y="694"/>
                    </a:lnTo>
                    <a:lnTo>
                      <a:pt x="2280" y="724"/>
                    </a:lnTo>
                    <a:lnTo>
                      <a:pt x="2318" y="742"/>
                    </a:lnTo>
                    <a:lnTo>
                      <a:pt x="2343" y="757"/>
                    </a:lnTo>
                    <a:lnTo>
                      <a:pt x="2381" y="772"/>
                    </a:lnTo>
                    <a:lnTo>
                      <a:pt x="2423" y="772"/>
                    </a:lnTo>
                    <a:lnTo>
                      <a:pt x="2486" y="789"/>
                    </a:lnTo>
                    <a:lnTo>
                      <a:pt x="2678" y="930"/>
                    </a:lnTo>
                    <a:lnTo>
                      <a:pt x="2885" y="1055"/>
                    </a:lnTo>
                    <a:lnTo>
                      <a:pt x="2989" y="1151"/>
                    </a:lnTo>
                    <a:lnTo>
                      <a:pt x="3080" y="1261"/>
                    </a:lnTo>
                    <a:lnTo>
                      <a:pt x="3168" y="1357"/>
                    </a:lnTo>
                    <a:lnTo>
                      <a:pt x="3272" y="1434"/>
                    </a:lnTo>
                    <a:lnTo>
                      <a:pt x="3311" y="1419"/>
                    </a:lnTo>
                    <a:lnTo>
                      <a:pt x="3324" y="1402"/>
                    </a:lnTo>
                    <a:lnTo>
                      <a:pt x="3335" y="1387"/>
                    </a:lnTo>
                    <a:lnTo>
                      <a:pt x="3349" y="1324"/>
                    </a:lnTo>
                    <a:lnTo>
                      <a:pt x="3335" y="1261"/>
                    </a:lnTo>
                    <a:lnTo>
                      <a:pt x="3297" y="1118"/>
                    </a:lnTo>
                    <a:lnTo>
                      <a:pt x="3234" y="992"/>
                    </a:lnTo>
                    <a:lnTo>
                      <a:pt x="3168" y="897"/>
                    </a:lnTo>
                    <a:lnTo>
                      <a:pt x="3000" y="694"/>
                    </a:lnTo>
                    <a:lnTo>
                      <a:pt x="2912" y="614"/>
                    </a:lnTo>
                    <a:lnTo>
                      <a:pt x="2808" y="536"/>
                    </a:lnTo>
                    <a:lnTo>
                      <a:pt x="2731" y="503"/>
                    </a:lnTo>
                    <a:lnTo>
                      <a:pt x="2640" y="459"/>
                    </a:lnTo>
                    <a:lnTo>
                      <a:pt x="2447" y="393"/>
                    </a:lnTo>
                    <a:lnTo>
                      <a:pt x="2241" y="348"/>
                    </a:lnTo>
                    <a:lnTo>
                      <a:pt x="2137" y="330"/>
                    </a:lnTo>
                    <a:lnTo>
                      <a:pt x="2060" y="315"/>
                    </a:lnTo>
                    <a:lnTo>
                      <a:pt x="1920" y="301"/>
                    </a:lnTo>
                    <a:lnTo>
                      <a:pt x="1776" y="283"/>
                    </a:lnTo>
                    <a:lnTo>
                      <a:pt x="1622" y="301"/>
                    </a:lnTo>
                    <a:lnTo>
                      <a:pt x="1468" y="330"/>
                    </a:lnTo>
                    <a:lnTo>
                      <a:pt x="1171" y="393"/>
                    </a:lnTo>
                    <a:lnTo>
                      <a:pt x="874" y="441"/>
                    </a:lnTo>
                    <a:lnTo>
                      <a:pt x="965" y="393"/>
                    </a:lnTo>
                    <a:lnTo>
                      <a:pt x="1042" y="378"/>
                    </a:lnTo>
                    <a:lnTo>
                      <a:pt x="1195" y="363"/>
                    </a:lnTo>
                    <a:lnTo>
                      <a:pt x="1286" y="363"/>
                    </a:lnTo>
                    <a:lnTo>
                      <a:pt x="1377" y="378"/>
                    </a:lnTo>
                    <a:lnTo>
                      <a:pt x="1479" y="393"/>
                    </a:lnTo>
                    <a:lnTo>
                      <a:pt x="1608" y="393"/>
                    </a:lnTo>
                    <a:lnTo>
                      <a:pt x="1920" y="459"/>
                    </a:lnTo>
                    <a:lnTo>
                      <a:pt x="2241" y="536"/>
                    </a:lnTo>
                    <a:lnTo>
                      <a:pt x="2381" y="584"/>
                    </a:lnTo>
                    <a:lnTo>
                      <a:pt x="2524" y="631"/>
                    </a:lnTo>
                    <a:lnTo>
                      <a:pt x="2563" y="646"/>
                    </a:lnTo>
                    <a:lnTo>
                      <a:pt x="2577" y="646"/>
                    </a:lnTo>
                    <a:lnTo>
                      <a:pt x="2588" y="646"/>
                    </a:lnTo>
                    <a:lnTo>
                      <a:pt x="2692" y="789"/>
                    </a:lnTo>
                    <a:lnTo>
                      <a:pt x="2794" y="915"/>
                    </a:lnTo>
                    <a:lnTo>
                      <a:pt x="2846" y="1007"/>
                    </a:lnTo>
                    <a:lnTo>
                      <a:pt x="2860" y="1055"/>
                    </a:lnTo>
                    <a:lnTo>
                      <a:pt x="2898" y="1103"/>
                    </a:lnTo>
                    <a:lnTo>
                      <a:pt x="3000" y="1229"/>
                    </a:lnTo>
                    <a:lnTo>
                      <a:pt x="3105" y="1357"/>
                    </a:lnTo>
                    <a:lnTo>
                      <a:pt x="3206" y="1482"/>
                    </a:lnTo>
                    <a:lnTo>
                      <a:pt x="3324" y="1607"/>
                    </a:lnTo>
                    <a:lnTo>
                      <a:pt x="3363" y="1670"/>
                    </a:lnTo>
                    <a:lnTo>
                      <a:pt x="3401" y="1732"/>
                    </a:lnTo>
                    <a:lnTo>
                      <a:pt x="3451" y="1876"/>
                    </a:lnTo>
                    <a:lnTo>
                      <a:pt x="3503" y="2016"/>
                    </a:lnTo>
                    <a:lnTo>
                      <a:pt x="3542" y="2081"/>
                    </a:lnTo>
                    <a:lnTo>
                      <a:pt x="3608" y="2126"/>
                    </a:lnTo>
                    <a:lnTo>
                      <a:pt x="3517" y="1971"/>
                    </a:lnTo>
                    <a:lnTo>
                      <a:pt x="3412" y="1813"/>
                    </a:lnTo>
                    <a:lnTo>
                      <a:pt x="3286" y="1655"/>
                    </a:lnTo>
                    <a:lnTo>
                      <a:pt x="3143" y="1530"/>
                    </a:lnTo>
                    <a:lnTo>
                      <a:pt x="3041" y="1449"/>
                    </a:lnTo>
                    <a:lnTo>
                      <a:pt x="3000" y="1402"/>
                    </a:lnTo>
                    <a:lnTo>
                      <a:pt x="2951" y="1372"/>
                    </a:lnTo>
                    <a:lnTo>
                      <a:pt x="2885" y="1339"/>
                    </a:lnTo>
                    <a:lnTo>
                      <a:pt x="2874" y="1324"/>
                    </a:lnTo>
                    <a:lnTo>
                      <a:pt x="2860" y="1324"/>
                    </a:lnTo>
                    <a:lnTo>
                      <a:pt x="2150" y="757"/>
                    </a:lnTo>
                    <a:lnTo>
                      <a:pt x="1789" y="473"/>
                    </a:lnTo>
                    <a:lnTo>
                      <a:pt x="1429" y="205"/>
                    </a:lnTo>
                    <a:lnTo>
                      <a:pt x="1391" y="190"/>
                    </a:lnTo>
                    <a:lnTo>
                      <a:pt x="1325" y="157"/>
                    </a:lnTo>
                    <a:lnTo>
                      <a:pt x="1234" y="128"/>
                    </a:lnTo>
                    <a:lnTo>
                      <a:pt x="1132" y="110"/>
                    </a:lnTo>
                    <a:lnTo>
                      <a:pt x="1042" y="80"/>
                    </a:lnTo>
                    <a:lnTo>
                      <a:pt x="951" y="47"/>
                    </a:lnTo>
                    <a:lnTo>
                      <a:pt x="863" y="17"/>
                    </a:lnTo>
                    <a:lnTo>
                      <a:pt x="811" y="0"/>
                    </a:lnTo>
                    <a:lnTo>
                      <a:pt x="849" y="65"/>
                    </a:lnTo>
                    <a:lnTo>
                      <a:pt x="888" y="95"/>
                    </a:lnTo>
                    <a:lnTo>
                      <a:pt x="940" y="110"/>
                    </a:lnTo>
                    <a:lnTo>
                      <a:pt x="1003" y="128"/>
                    </a:lnTo>
                    <a:lnTo>
                      <a:pt x="1261" y="190"/>
                    </a:lnTo>
                    <a:lnTo>
                      <a:pt x="1520" y="253"/>
                    </a:lnTo>
                    <a:lnTo>
                      <a:pt x="1765" y="363"/>
                    </a:lnTo>
                    <a:lnTo>
                      <a:pt x="2021" y="488"/>
                    </a:lnTo>
                    <a:lnTo>
                      <a:pt x="2074" y="536"/>
                    </a:lnTo>
                    <a:lnTo>
                      <a:pt x="2126" y="584"/>
                    </a:lnTo>
                    <a:lnTo>
                      <a:pt x="2255" y="694"/>
                    </a:lnTo>
                    <a:lnTo>
                      <a:pt x="2370" y="819"/>
                    </a:lnTo>
                    <a:lnTo>
                      <a:pt x="2461" y="944"/>
                    </a:lnTo>
                    <a:lnTo>
                      <a:pt x="2549" y="1074"/>
                    </a:lnTo>
                    <a:lnTo>
                      <a:pt x="2717" y="1339"/>
                    </a:lnTo>
                    <a:lnTo>
                      <a:pt x="2885" y="1622"/>
                    </a:lnTo>
                    <a:lnTo>
                      <a:pt x="3014" y="1828"/>
                    </a:lnTo>
                    <a:lnTo>
                      <a:pt x="3143" y="2034"/>
                    </a:lnTo>
                    <a:lnTo>
                      <a:pt x="3157" y="2063"/>
                    </a:lnTo>
                    <a:lnTo>
                      <a:pt x="3182" y="2081"/>
                    </a:lnTo>
                    <a:lnTo>
                      <a:pt x="3182" y="2111"/>
                    </a:lnTo>
                    <a:lnTo>
                      <a:pt x="3182" y="2126"/>
                    </a:lnTo>
                    <a:lnTo>
                      <a:pt x="3168" y="2126"/>
                    </a:lnTo>
                    <a:lnTo>
                      <a:pt x="3157" y="2111"/>
                    </a:lnTo>
                    <a:lnTo>
                      <a:pt x="3129" y="2081"/>
                    </a:lnTo>
                    <a:lnTo>
                      <a:pt x="3118" y="2063"/>
                    </a:lnTo>
                    <a:lnTo>
                      <a:pt x="3052" y="2001"/>
                    </a:lnTo>
                    <a:lnTo>
                      <a:pt x="2989" y="1938"/>
                    </a:lnTo>
                    <a:lnTo>
                      <a:pt x="2860" y="1813"/>
                    </a:lnTo>
                    <a:lnTo>
                      <a:pt x="2744" y="1688"/>
                    </a:lnTo>
                    <a:lnTo>
                      <a:pt x="2706" y="1655"/>
                    </a:lnTo>
                    <a:lnTo>
                      <a:pt x="2667" y="1607"/>
                    </a:lnTo>
                    <a:lnTo>
                      <a:pt x="2629" y="1577"/>
                    </a:lnTo>
                    <a:lnTo>
                      <a:pt x="2615" y="1560"/>
                    </a:lnTo>
                    <a:lnTo>
                      <a:pt x="1815" y="1089"/>
                    </a:lnTo>
                    <a:lnTo>
                      <a:pt x="1028" y="631"/>
                    </a:lnTo>
                    <a:lnTo>
                      <a:pt x="1017" y="631"/>
                    </a:lnTo>
                    <a:lnTo>
                      <a:pt x="1028" y="631"/>
                    </a:lnTo>
                    <a:lnTo>
                      <a:pt x="1055" y="646"/>
                    </a:lnTo>
                    <a:lnTo>
                      <a:pt x="1107" y="679"/>
                    </a:lnTo>
                    <a:lnTo>
                      <a:pt x="1146" y="694"/>
                    </a:lnTo>
                    <a:lnTo>
                      <a:pt x="1171" y="724"/>
                    </a:lnTo>
                    <a:lnTo>
                      <a:pt x="1195" y="742"/>
                    </a:lnTo>
                    <a:lnTo>
                      <a:pt x="1234" y="772"/>
                    </a:lnTo>
                    <a:lnTo>
                      <a:pt x="1272" y="804"/>
                    </a:lnTo>
                    <a:lnTo>
                      <a:pt x="1314" y="819"/>
                    </a:lnTo>
                    <a:lnTo>
                      <a:pt x="1363" y="852"/>
                    </a:lnTo>
                    <a:lnTo>
                      <a:pt x="1531" y="915"/>
                    </a:lnTo>
                    <a:lnTo>
                      <a:pt x="1608" y="962"/>
                    </a:lnTo>
                    <a:lnTo>
                      <a:pt x="1685" y="1007"/>
                    </a:lnTo>
                    <a:lnTo>
                      <a:pt x="1751" y="1074"/>
                    </a:lnTo>
                    <a:lnTo>
                      <a:pt x="1789" y="1103"/>
                    </a:lnTo>
                    <a:lnTo>
                      <a:pt x="1815" y="1136"/>
                    </a:lnTo>
                    <a:lnTo>
                      <a:pt x="1843" y="1151"/>
                    </a:lnTo>
                    <a:lnTo>
                      <a:pt x="1867" y="1166"/>
                    </a:lnTo>
                    <a:lnTo>
                      <a:pt x="1906" y="1166"/>
                    </a:lnTo>
                    <a:lnTo>
                      <a:pt x="1958" y="1184"/>
                    </a:lnTo>
                    <a:lnTo>
                      <a:pt x="1997" y="1214"/>
                    </a:lnTo>
                    <a:lnTo>
                      <a:pt x="2021" y="1247"/>
                    </a:lnTo>
                    <a:lnTo>
                      <a:pt x="2060" y="1261"/>
                    </a:lnTo>
                    <a:lnTo>
                      <a:pt x="2087" y="1276"/>
                    </a:lnTo>
                    <a:lnTo>
                      <a:pt x="2112" y="1294"/>
                    </a:lnTo>
                    <a:lnTo>
                      <a:pt x="2150" y="1324"/>
                    </a:lnTo>
                    <a:lnTo>
                      <a:pt x="2216" y="1372"/>
                    </a:lnTo>
                    <a:lnTo>
                      <a:pt x="2293" y="1434"/>
                    </a:lnTo>
                    <a:lnTo>
                      <a:pt x="2370" y="1512"/>
                    </a:lnTo>
                    <a:lnTo>
                      <a:pt x="2447" y="1592"/>
                    </a:lnTo>
                    <a:lnTo>
                      <a:pt x="2524" y="1655"/>
                    </a:lnTo>
                    <a:lnTo>
                      <a:pt x="2615" y="1703"/>
                    </a:lnTo>
                    <a:lnTo>
                      <a:pt x="2731" y="1750"/>
                    </a:lnTo>
                    <a:lnTo>
                      <a:pt x="2821" y="1798"/>
                    </a:lnTo>
                    <a:lnTo>
                      <a:pt x="2874" y="1813"/>
                    </a:lnTo>
                    <a:lnTo>
                      <a:pt x="2898" y="1843"/>
                    </a:lnTo>
                    <a:lnTo>
                      <a:pt x="2615" y="1482"/>
                    </a:lnTo>
                    <a:lnTo>
                      <a:pt x="2357" y="1324"/>
                    </a:lnTo>
                    <a:lnTo>
                      <a:pt x="2098" y="1184"/>
                    </a:lnTo>
                    <a:lnTo>
                      <a:pt x="1867" y="1055"/>
                    </a:lnTo>
                    <a:lnTo>
                      <a:pt x="1660" y="930"/>
                    </a:lnTo>
                    <a:lnTo>
                      <a:pt x="1454" y="819"/>
                    </a:lnTo>
                    <a:lnTo>
                      <a:pt x="1261" y="724"/>
                    </a:lnTo>
                    <a:lnTo>
                      <a:pt x="1094" y="631"/>
                    </a:lnTo>
                    <a:lnTo>
                      <a:pt x="926" y="551"/>
                    </a:lnTo>
                    <a:lnTo>
                      <a:pt x="783" y="473"/>
                    </a:lnTo>
                    <a:lnTo>
                      <a:pt x="643" y="411"/>
                    </a:lnTo>
                    <a:lnTo>
                      <a:pt x="527" y="348"/>
                    </a:lnTo>
                    <a:lnTo>
                      <a:pt x="409" y="301"/>
                    </a:lnTo>
                    <a:lnTo>
                      <a:pt x="244" y="220"/>
                    </a:lnTo>
                    <a:lnTo>
                      <a:pt x="115" y="157"/>
                    </a:lnTo>
                    <a:lnTo>
                      <a:pt x="24" y="128"/>
                    </a:lnTo>
                    <a:lnTo>
                      <a:pt x="0" y="95"/>
                    </a:lnTo>
                    <a:lnTo>
                      <a:pt x="10" y="80"/>
                    </a:lnTo>
                    <a:lnTo>
                      <a:pt x="63" y="65"/>
                    </a:lnTo>
                    <a:lnTo>
                      <a:pt x="164" y="65"/>
                    </a:lnTo>
                    <a:lnTo>
                      <a:pt x="307" y="65"/>
                    </a:lnTo>
                    <a:lnTo>
                      <a:pt x="489" y="47"/>
                    </a:lnTo>
                    <a:lnTo>
                      <a:pt x="706" y="32"/>
                    </a:lnTo>
                    <a:lnTo>
                      <a:pt x="849" y="47"/>
                    </a:lnTo>
                    <a:lnTo>
                      <a:pt x="1003" y="47"/>
                    </a:lnTo>
                    <a:lnTo>
                      <a:pt x="1146" y="80"/>
                    </a:lnTo>
                    <a:lnTo>
                      <a:pt x="1300" y="110"/>
                    </a:lnTo>
                    <a:lnTo>
                      <a:pt x="1440" y="157"/>
                    </a:lnTo>
                    <a:lnTo>
                      <a:pt x="1492" y="190"/>
                    </a:lnTo>
                    <a:lnTo>
                      <a:pt x="1558" y="220"/>
                    </a:lnTo>
                    <a:lnTo>
                      <a:pt x="1583" y="253"/>
                    </a:lnTo>
                    <a:lnTo>
                      <a:pt x="1622" y="301"/>
                    </a:lnTo>
                    <a:lnTo>
                      <a:pt x="1660" y="330"/>
                    </a:lnTo>
                    <a:lnTo>
                      <a:pt x="1674" y="348"/>
                    </a:lnTo>
                    <a:lnTo>
                      <a:pt x="1685" y="348"/>
                    </a:lnTo>
                    <a:lnTo>
                      <a:pt x="1958" y="631"/>
                    </a:lnTo>
                    <a:lnTo>
                      <a:pt x="2087" y="772"/>
                    </a:lnTo>
                    <a:lnTo>
                      <a:pt x="371" y="65"/>
                    </a:lnTo>
                    <a:lnTo>
                      <a:pt x="346" y="315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686560" y="422100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84640" y="421632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 txBox="1"/>
          <p:nvPr/>
        </p:nvSpPr>
        <p:spPr>
          <a:xfrm>
            <a:off x="152280" y="304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ay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425680" y="6006960"/>
            <a:ext cx="4089600" cy="584640"/>
          </a:xfrm>
          <a:custGeom>
            <a:avLst/>
            <a:gdLst/>
            <a:ahLst/>
            <a:rect l="0" t="0" r="r" b="b"/>
            <a:pathLst>
              <a:path w="11360" h="1624">
                <a:moveTo>
                  <a:pt x="6033" y="176"/>
                </a:moveTo>
                <a:lnTo>
                  <a:pt x="5892" y="141"/>
                </a:lnTo>
                <a:lnTo>
                  <a:pt x="5786" y="141"/>
                </a:lnTo>
                <a:lnTo>
                  <a:pt x="5679" y="176"/>
                </a:lnTo>
                <a:lnTo>
                  <a:pt x="5573" y="211"/>
                </a:lnTo>
                <a:lnTo>
                  <a:pt x="5468" y="176"/>
                </a:lnTo>
                <a:lnTo>
                  <a:pt x="5362" y="176"/>
                </a:lnTo>
                <a:lnTo>
                  <a:pt x="5256" y="141"/>
                </a:lnTo>
                <a:lnTo>
                  <a:pt x="5150" y="141"/>
                </a:lnTo>
                <a:lnTo>
                  <a:pt x="5044" y="141"/>
                </a:lnTo>
                <a:lnTo>
                  <a:pt x="4938" y="141"/>
                </a:lnTo>
                <a:lnTo>
                  <a:pt x="4833" y="176"/>
                </a:lnTo>
                <a:lnTo>
                  <a:pt x="4727" y="176"/>
                </a:lnTo>
                <a:lnTo>
                  <a:pt x="4621" y="176"/>
                </a:lnTo>
                <a:lnTo>
                  <a:pt x="4515" y="176"/>
                </a:lnTo>
                <a:lnTo>
                  <a:pt x="4409" y="176"/>
                </a:lnTo>
                <a:lnTo>
                  <a:pt x="4303" y="176"/>
                </a:lnTo>
                <a:lnTo>
                  <a:pt x="4198" y="176"/>
                </a:lnTo>
                <a:lnTo>
                  <a:pt x="4092" y="176"/>
                </a:lnTo>
                <a:lnTo>
                  <a:pt x="3986" y="176"/>
                </a:lnTo>
                <a:lnTo>
                  <a:pt x="3880" y="141"/>
                </a:lnTo>
                <a:lnTo>
                  <a:pt x="3774" y="105"/>
                </a:lnTo>
                <a:lnTo>
                  <a:pt x="3668" y="105"/>
                </a:lnTo>
                <a:lnTo>
                  <a:pt x="3563" y="141"/>
                </a:lnTo>
                <a:lnTo>
                  <a:pt x="3421" y="176"/>
                </a:lnTo>
                <a:lnTo>
                  <a:pt x="3280" y="211"/>
                </a:lnTo>
                <a:lnTo>
                  <a:pt x="3139" y="176"/>
                </a:lnTo>
                <a:lnTo>
                  <a:pt x="2998" y="141"/>
                </a:lnTo>
                <a:lnTo>
                  <a:pt x="2892" y="105"/>
                </a:lnTo>
                <a:lnTo>
                  <a:pt x="2786" y="105"/>
                </a:lnTo>
                <a:lnTo>
                  <a:pt x="2681" y="105"/>
                </a:lnTo>
                <a:lnTo>
                  <a:pt x="2575" y="105"/>
                </a:lnTo>
                <a:lnTo>
                  <a:pt x="2469" y="105"/>
                </a:lnTo>
                <a:lnTo>
                  <a:pt x="2363" y="141"/>
                </a:lnTo>
                <a:lnTo>
                  <a:pt x="2257" y="141"/>
                </a:lnTo>
                <a:lnTo>
                  <a:pt x="2151" y="141"/>
                </a:lnTo>
                <a:lnTo>
                  <a:pt x="2046" y="105"/>
                </a:lnTo>
                <a:lnTo>
                  <a:pt x="1940" y="70"/>
                </a:lnTo>
                <a:lnTo>
                  <a:pt x="1834" y="35"/>
                </a:lnTo>
                <a:lnTo>
                  <a:pt x="1728" y="0"/>
                </a:lnTo>
                <a:lnTo>
                  <a:pt x="1622" y="35"/>
                </a:lnTo>
                <a:lnTo>
                  <a:pt x="1516" y="35"/>
                </a:lnTo>
                <a:lnTo>
                  <a:pt x="1411" y="35"/>
                </a:lnTo>
                <a:lnTo>
                  <a:pt x="1305" y="35"/>
                </a:lnTo>
                <a:lnTo>
                  <a:pt x="1199" y="35"/>
                </a:lnTo>
                <a:lnTo>
                  <a:pt x="1093" y="35"/>
                </a:lnTo>
                <a:lnTo>
                  <a:pt x="987" y="70"/>
                </a:lnTo>
                <a:lnTo>
                  <a:pt x="881" y="141"/>
                </a:lnTo>
                <a:lnTo>
                  <a:pt x="776" y="246"/>
                </a:lnTo>
                <a:lnTo>
                  <a:pt x="670" y="317"/>
                </a:lnTo>
                <a:lnTo>
                  <a:pt x="564" y="352"/>
                </a:lnTo>
                <a:lnTo>
                  <a:pt x="458" y="352"/>
                </a:lnTo>
                <a:lnTo>
                  <a:pt x="352" y="352"/>
                </a:lnTo>
                <a:lnTo>
                  <a:pt x="246" y="352"/>
                </a:lnTo>
                <a:lnTo>
                  <a:pt x="141" y="388"/>
                </a:lnTo>
                <a:lnTo>
                  <a:pt x="35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05" y="812"/>
                </a:lnTo>
                <a:lnTo>
                  <a:pt x="211" y="882"/>
                </a:lnTo>
                <a:lnTo>
                  <a:pt x="317" y="882"/>
                </a:lnTo>
                <a:lnTo>
                  <a:pt x="423" y="882"/>
                </a:lnTo>
                <a:lnTo>
                  <a:pt x="529" y="882"/>
                </a:lnTo>
                <a:lnTo>
                  <a:pt x="635" y="882"/>
                </a:lnTo>
                <a:lnTo>
                  <a:pt x="740" y="918"/>
                </a:lnTo>
                <a:lnTo>
                  <a:pt x="811" y="1024"/>
                </a:lnTo>
                <a:lnTo>
                  <a:pt x="881" y="1129"/>
                </a:lnTo>
                <a:lnTo>
                  <a:pt x="987" y="1200"/>
                </a:lnTo>
                <a:lnTo>
                  <a:pt x="1093" y="1200"/>
                </a:lnTo>
                <a:lnTo>
                  <a:pt x="1199" y="1165"/>
                </a:lnTo>
                <a:lnTo>
                  <a:pt x="1305" y="1129"/>
                </a:lnTo>
                <a:lnTo>
                  <a:pt x="1411" y="1094"/>
                </a:lnTo>
                <a:lnTo>
                  <a:pt x="1516" y="1094"/>
                </a:lnTo>
                <a:lnTo>
                  <a:pt x="1622" y="1165"/>
                </a:lnTo>
                <a:lnTo>
                  <a:pt x="1728" y="1236"/>
                </a:lnTo>
                <a:lnTo>
                  <a:pt x="1834" y="1272"/>
                </a:lnTo>
                <a:lnTo>
                  <a:pt x="1940" y="1272"/>
                </a:lnTo>
                <a:lnTo>
                  <a:pt x="2010" y="1377"/>
                </a:lnTo>
                <a:lnTo>
                  <a:pt x="2081" y="1483"/>
                </a:lnTo>
                <a:lnTo>
                  <a:pt x="2151" y="1589"/>
                </a:lnTo>
                <a:lnTo>
                  <a:pt x="2257" y="1624"/>
                </a:lnTo>
                <a:lnTo>
                  <a:pt x="2293" y="1518"/>
                </a:lnTo>
                <a:lnTo>
                  <a:pt x="2293" y="1413"/>
                </a:lnTo>
                <a:lnTo>
                  <a:pt x="2398" y="1377"/>
                </a:lnTo>
                <a:lnTo>
                  <a:pt x="2504" y="1377"/>
                </a:lnTo>
                <a:lnTo>
                  <a:pt x="2610" y="1483"/>
                </a:lnTo>
                <a:lnTo>
                  <a:pt x="2716" y="1518"/>
                </a:lnTo>
                <a:lnTo>
                  <a:pt x="2822" y="1554"/>
                </a:lnTo>
                <a:lnTo>
                  <a:pt x="2928" y="1518"/>
                </a:lnTo>
                <a:lnTo>
                  <a:pt x="3033" y="1413"/>
                </a:lnTo>
                <a:lnTo>
                  <a:pt x="3139" y="1413"/>
                </a:lnTo>
                <a:lnTo>
                  <a:pt x="3245" y="1413"/>
                </a:lnTo>
                <a:lnTo>
                  <a:pt x="3351" y="1448"/>
                </a:lnTo>
                <a:lnTo>
                  <a:pt x="3492" y="1554"/>
                </a:lnTo>
                <a:lnTo>
                  <a:pt x="3598" y="1589"/>
                </a:lnTo>
                <a:lnTo>
                  <a:pt x="3704" y="1624"/>
                </a:lnTo>
                <a:lnTo>
                  <a:pt x="3810" y="1518"/>
                </a:lnTo>
                <a:lnTo>
                  <a:pt x="3915" y="1483"/>
                </a:lnTo>
                <a:lnTo>
                  <a:pt x="4021" y="1448"/>
                </a:lnTo>
                <a:lnTo>
                  <a:pt x="4127" y="1413"/>
                </a:lnTo>
                <a:lnTo>
                  <a:pt x="4233" y="1377"/>
                </a:lnTo>
                <a:lnTo>
                  <a:pt x="4339" y="1342"/>
                </a:lnTo>
                <a:lnTo>
                  <a:pt x="4445" y="1342"/>
                </a:lnTo>
                <a:lnTo>
                  <a:pt x="4550" y="1342"/>
                </a:lnTo>
                <a:lnTo>
                  <a:pt x="4656" y="1377"/>
                </a:lnTo>
                <a:lnTo>
                  <a:pt x="4762" y="1413"/>
                </a:lnTo>
                <a:lnTo>
                  <a:pt x="4868" y="1448"/>
                </a:lnTo>
                <a:lnTo>
                  <a:pt x="4974" y="1448"/>
                </a:lnTo>
                <a:lnTo>
                  <a:pt x="5080" y="1483"/>
                </a:lnTo>
                <a:lnTo>
                  <a:pt x="5185" y="1483"/>
                </a:lnTo>
                <a:lnTo>
                  <a:pt x="5326" y="1448"/>
                </a:lnTo>
                <a:lnTo>
                  <a:pt x="5432" y="1413"/>
                </a:lnTo>
                <a:lnTo>
                  <a:pt x="5538" y="1377"/>
                </a:lnTo>
                <a:lnTo>
                  <a:pt x="5644" y="1377"/>
                </a:lnTo>
                <a:lnTo>
                  <a:pt x="5751" y="1342"/>
                </a:lnTo>
                <a:lnTo>
                  <a:pt x="5857" y="1307"/>
                </a:lnTo>
                <a:lnTo>
                  <a:pt x="5962" y="1272"/>
                </a:lnTo>
                <a:lnTo>
                  <a:pt x="6068" y="1236"/>
                </a:lnTo>
                <a:lnTo>
                  <a:pt x="6174" y="1200"/>
                </a:lnTo>
                <a:lnTo>
                  <a:pt x="6280" y="1165"/>
                </a:lnTo>
                <a:lnTo>
                  <a:pt x="6386" y="1165"/>
                </a:lnTo>
                <a:lnTo>
                  <a:pt x="6492" y="1165"/>
                </a:lnTo>
                <a:lnTo>
                  <a:pt x="6597" y="1165"/>
                </a:lnTo>
                <a:lnTo>
                  <a:pt x="6703" y="1165"/>
                </a:lnTo>
                <a:lnTo>
                  <a:pt x="6809" y="1200"/>
                </a:lnTo>
                <a:lnTo>
                  <a:pt x="6915" y="1236"/>
                </a:lnTo>
                <a:lnTo>
                  <a:pt x="7021" y="1272"/>
                </a:lnTo>
                <a:lnTo>
                  <a:pt x="7127" y="1272"/>
                </a:lnTo>
                <a:lnTo>
                  <a:pt x="7232" y="1272"/>
                </a:lnTo>
                <a:lnTo>
                  <a:pt x="7374" y="1272"/>
                </a:lnTo>
                <a:lnTo>
                  <a:pt x="7515" y="1200"/>
                </a:lnTo>
                <a:lnTo>
                  <a:pt x="7621" y="1165"/>
                </a:lnTo>
                <a:lnTo>
                  <a:pt x="7726" y="1129"/>
                </a:lnTo>
                <a:lnTo>
                  <a:pt x="7867" y="1129"/>
                </a:lnTo>
                <a:lnTo>
                  <a:pt x="8009" y="1165"/>
                </a:lnTo>
                <a:lnTo>
                  <a:pt x="8150" y="1200"/>
                </a:lnTo>
                <a:lnTo>
                  <a:pt x="8256" y="1272"/>
                </a:lnTo>
                <a:lnTo>
                  <a:pt x="8361" y="1307"/>
                </a:lnTo>
                <a:lnTo>
                  <a:pt x="8467" y="1342"/>
                </a:lnTo>
                <a:lnTo>
                  <a:pt x="8573" y="1342"/>
                </a:lnTo>
                <a:lnTo>
                  <a:pt x="8714" y="1272"/>
                </a:lnTo>
                <a:lnTo>
                  <a:pt x="8820" y="1236"/>
                </a:lnTo>
                <a:lnTo>
                  <a:pt x="8926" y="1165"/>
                </a:lnTo>
                <a:lnTo>
                  <a:pt x="9032" y="1129"/>
                </a:lnTo>
                <a:lnTo>
                  <a:pt x="9137" y="1129"/>
                </a:lnTo>
                <a:lnTo>
                  <a:pt x="9279" y="1129"/>
                </a:lnTo>
                <a:lnTo>
                  <a:pt x="9420" y="1129"/>
                </a:lnTo>
                <a:lnTo>
                  <a:pt x="9561" y="1129"/>
                </a:lnTo>
                <a:lnTo>
                  <a:pt x="9667" y="1165"/>
                </a:lnTo>
                <a:lnTo>
                  <a:pt x="9772" y="1165"/>
                </a:lnTo>
                <a:lnTo>
                  <a:pt x="9878" y="1200"/>
                </a:lnTo>
                <a:lnTo>
                  <a:pt x="9984" y="1200"/>
                </a:lnTo>
                <a:lnTo>
                  <a:pt x="10125" y="1200"/>
                </a:lnTo>
                <a:lnTo>
                  <a:pt x="10266" y="1200"/>
                </a:lnTo>
                <a:lnTo>
                  <a:pt x="10372" y="1129"/>
                </a:lnTo>
                <a:lnTo>
                  <a:pt x="10478" y="1094"/>
                </a:lnTo>
                <a:lnTo>
                  <a:pt x="10584" y="1094"/>
                </a:lnTo>
                <a:lnTo>
                  <a:pt x="10690" y="1094"/>
                </a:lnTo>
                <a:lnTo>
                  <a:pt x="10796" y="1094"/>
                </a:lnTo>
                <a:lnTo>
                  <a:pt x="10901" y="1094"/>
                </a:lnTo>
                <a:lnTo>
                  <a:pt x="11007" y="1059"/>
                </a:lnTo>
                <a:lnTo>
                  <a:pt x="11113" y="1024"/>
                </a:lnTo>
                <a:lnTo>
                  <a:pt x="11219" y="988"/>
                </a:lnTo>
                <a:lnTo>
                  <a:pt x="11325" y="918"/>
                </a:lnTo>
                <a:lnTo>
                  <a:pt x="11360" y="812"/>
                </a:lnTo>
                <a:lnTo>
                  <a:pt x="11360" y="706"/>
                </a:lnTo>
                <a:lnTo>
                  <a:pt x="11325" y="600"/>
                </a:lnTo>
                <a:lnTo>
                  <a:pt x="11219" y="494"/>
                </a:lnTo>
                <a:lnTo>
                  <a:pt x="11113" y="494"/>
                </a:lnTo>
                <a:lnTo>
                  <a:pt x="11007" y="459"/>
                </a:lnTo>
                <a:lnTo>
                  <a:pt x="10901" y="459"/>
                </a:lnTo>
                <a:lnTo>
                  <a:pt x="10796" y="424"/>
                </a:lnTo>
                <a:lnTo>
                  <a:pt x="10654" y="352"/>
                </a:lnTo>
                <a:lnTo>
                  <a:pt x="10549" y="317"/>
                </a:lnTo>
                <a:lnTo>
                  <a:pt x="10443" y="246"/>
                </a:lnTo>
                <a:lnTo>
                  <a:pt x="10337" y="211"/>
                </a:lnTo>
                <a:lnTo>
                  <a:pt x="10231" y="176"/>
                </a:lnTo>
                <a:lnTo>
                  <a:pt x="10125" y="211"/>
                </a:lnTo>
                <a:lnTo>
                  <a:pt x="10019" y="211"/>
                </a:lnTo>
                <a:lnTo>
                  <a:pt x="9914" y="211"/>
                </a:lnTo>
                <a:lnTo>
                  <a:pt x="9808" y="211"/>
                </a:lnTo>
                <a:lnTo>
                  <a:pt x="9702" y="211"/>
                </a:lnTo>
                <a:lnTo>
                  <a:pt x="9596" y="211"/>
                </a:lnTo>
                <a:lnTo>
                  <a:pt x="9490" y="211"/>
                </a:lnTo>
                <a:lnTo>
                  <a:pt x="9384" y="246"/>
                </a:lnTo>
                <a:lnTo>
                  <a:pt x="9279" y="246"/>
                </a:lnTo>
                <a:lnTo>
                  <a:pt x="9173" y="211"/>
                </a:lnTo>
                <a:lnTo>
                  <a:pt x="9067" y="211"/>
                </a:lnTo>
                <a:lnTo>
                  <a:pt x="8961" y="176"/>
                </a:lnTo>
                <a:lnTo>
                  <a:pt x="8855" y="176"/>
                </a:lnTo>
                <a:lnTo>
                  <a:pt x="8714" y="211"/>
                </a:lnTo>
                <a:lnTo>
                  <a:pt x="8608" y="246"/>
                </a:lnTo>
                <a:lnTo>
                  <a:pt x="8502" y="246"/>
                </a:lnTo>
                <a:lnTo>
                  <a:pt x="8397" y="246"/>
                </a:lnTo>
                <a:lnTo>
                  <a:pt x="8291" y="282"/>
                </a:lnTo>
                <a:lnTo>
                  <a:pt x="8185" y="282"/>
                </a:lnTo>
                <a:lnTo>
                  <a:pt x="8044" y="282"/>
                </a:lnTo>
                <a:lnTo>
                  <a:pt x="7938" y="282"/>
                </a:lnTo>
                <a:lnTo>
                  <a:pt x="7797" y="282"/>
                </a:lnTo>
                <a:lnTo>
                  <a:pt x="7656" y="211"/>
                </a:lnTo>
                <a:lnTo>
                  <a:pt x="7550" y="211"/>
                </a:lnTo>
                <a:lnTo>
                  <a:pt x="7444" y="211"/>
                </a:lnTo>
                <a:lnTo>
                  <a:pt x="7303" y="211"/>
                </a:lnTo>
                <a:lnTo>
                  <a:pt x="7162" y="211"/>
                </a:lnTo>
                <a:lnTo>
                  <a:pt x="7056" y="246"/>
                </a:lnTo>
                <a:lnTo>
                  <a:pt x="6950" y="282"/>
                </a:lnTo>
                <a:lnTo>
                  <a:pt x="6844" y="246"/>
                </a:lnTo>
                <a:lnTo>
                  <a:pt x="6739" y="246"/>
                </a:lnTo>
                <a:lnTo>
                  <a:pt x="6633" y="211"/>
                </a:lnTo>
                <a:lnTo>
                  <a:pt x="6527" y="211"/>
                </a:lnTo>
                <a:lnTo>
                  <a:pt x="6421" y="211"/>
                </a:lnTo>
                <a:lnTo>
                  <a:pt x="6315" y="211"/>
                </a:lnTo>
                <a:lnTo>
                  <a:pt x="6209" y="211"/>
                </a:lnTo>
                <a:lnTo>
                  <a:pt x="6033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63880" y="3568680"/>
            <a:ext cx="843480" cy="822600"/>
          </a:xfrm>
          <a:custGeom>
            <a:avLst/>
            <a:gdLst/>
            <a:ahLst/>
            <a:rect l="0" t="0" r="r" b="b"/>
            <a:pathLst>
              <a:path w="2343" h="2285">
                <a:moveTo>
                  <a:pt x="0" y="79"/>
                </a:moveTo>
                <a:lnTo>
                  <a:pt x="154" y="0"/>
                </a:lnTo>
                <a:lnTo>
                  <a:pt x="423" y="79"/>
                </a:lnTo>
                <a:lnTo>
                  <a:pt x="1002" y="626"/>
                </a:lnTo>
                <a:lnTo>
                  <a:pt x="2343" y="1725"/>
                </a:lnTo>
                <a:lnTo>
                  <a:pt x="1862" y="2285"/>
                </a:lnTo>
                <a:lnTo>
                  <a:pt x="759" y="1271"/>
                </a:lnTo>
                <a:lnTo>
                  <a:pt x="39" y="423"/>
                </a:lnTo>
                <a:lnTo>
                  <a:pt x="0" y="7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720" y="4219920"/>
            <a:ext cx="252720" cy="264600"/>
          </a:xfrm>
          <a:custGeom>
            <a:avLst/>
            <a:gdLst/>
            <a:ahLst/>
            <a:rect l="0" t="0" r="r" b="b"/>
            <a:pathLst>
              <a:path w="702" h="735">
                <a:moveTo>
                  <a:pt x="162" y="42"/>
                </a:moveTo>
                <a:lnTo>
                  <a:pt x="162" y="42"/>
                </a:lnTo>
                <a:cubicBezTo>
                  <a:pt x="110" y="72"/>
                  <a:pt x="68" y="117"/>
                  <a:pt x="39" y="171"/>
                </a:cubicBezTo>
                <a:cubicBezTo>
                  <a:pt x="11" y="226"/>
                  <a:pt x="-3" y="288"/>
                  <a:pt x="0" y="353"/>
                </a:cubicBezTo>
                <a:cubicBezTo>
                  <a:pt x="2" y="417"/>
                  <a:pt x="21" y="481"/>
                  <a:pt x="54" y="538"/>
                </a:cubicBezTo>
                <a:cubicBezTo>
                  <a:pt x="87" y="595"/>
                  <a:pt x="133" y="643"/>
                  <a:pt x="187" y="678"/>
                </a:cubicBezTo>
                <a:cubicBezTo>
                  <a:pt x="242" y="712"/>
                  <a:pt x="303" y="731"/>
                  <a:pt x="365" y="734"/>
                </a:cubicBezTo>
                <a:cubicBezTo>
                  <a:pt x="426" y="737"/>
                  <a:pt x="486" y="722"/>
                  <a:pt x="538" y="692"/>
                </a:cubicBezTo>
                <a:lnTo>
                  <a:pt x="539" y="692"/>
                </a:lnTo>
                <a:lnTo>
                  <a:pt x="539" y="692"/>
                </a:lnTo>
                <a:cubicBezTo>
                  <a:pt x="591" y="662"/>
                  <a:pt x="633" y="617"/>
                  <a:pt x="662" y="563"/>
                </a:cubicBezTo>
                <a:cubicBezTo>
                  <a:pt x="690" y="508"/>
                  <a:pt x="704" y="446"/>
                  <a:pt x="701" y="381"/>
                </a:cubicBezTo>
                <a:cubicBezTo>
                  <a:pt x="699" y="317"/>
                  <a:pt x="680" y="253"/>
                  <a:pt x="647" y="196"/>
                </a:cubicBezTo>
                <a:cubicBezTo>
                  <a:pt x="614" y="139"/>
                  <a:pt x="568" y="91"/>
                  <a:pt x="514" y="56"/>
                </a:cubicBezTo>
                <a:cubicBezTo>
                  <a:pt x="459" y="22"/>
                  <a:pt x="398" y="3"/>
                  <a:pt x="336" y="0"/>
                </a:cubicBezTo>
                <a:cubicBezTo>
                  <a:pt x="275" y="-3"/>
                  <a:pt x="215" y="12"/>
                  <a:pt x="163" y="42"/>
                </a:cubicBezTo>
                <a:lnTo>
                  <a:pt x="162" y="4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92640" y="4554360"/>
            <a:ext cx="579960" cy="1484640"/>
          </a:xfrm>
          <a:custGeom>
            <a:avLst/>
            <a:gdLst/>
            <a:ahLst/>
            <a:rect l="0" t="0" r="r" b="b"/>
            <a:pathLst>
              <a:path w="1611" h="4124">
                <a:moveTo>
                  <a:pt x="1611" y="0"/>
                </a:moveTo>
                <a:lnTo>
                  <a:pt x="1329" y="4124"/>
                </a:lnTo>
                <a:lnTo>
                  <a:pt x="697" y="4124"/>
                </a:lnTo>
                <a:lnTo>
                  <a:pt x="790" y="1115"/>
                </a:lnTo>
                <a:lnTo>
                  <a:pt x="697" y="4124"/>
                </a:lnTo>
                <a:lnTo>
                  <a:pt x="0" y="4124"/>
                </a:lnTo>
                <a:lnTo>
                  <a:pt x="66" y="22"/>
                </a:lnTo>
                <a:lnTo>
                  <a:pt x="1611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14800" y="3349800"/>
            <a:ext cx="867240" cy="1378440"/>
          </a:xfrm>
          <a:custGeom>
            <a:avLst/>
            <a:gdLst/>
            <a:ahLst/>
            <a:rect l="0" t="0" r="r" b="b"/>
            <a:pathLst>
              <a:path w="2409" h="3829">
                <a:moveTo>
                  <a:pt x="1566" y="321"/>
                </a:moveTo>
                <a:lnTo>
                  <a:pt x="1645" y="339"/>
                </a:lnTo>
                <a:lnTo>
                  <a:pt x="1703" y="374"/>
                </a:lnTo>
                <a:lnTo>
                  <a:pt x="1814" y="502"/>
                </a:lnTo>
                <a:lnTo>
                  <a:pt x="1933" y="621"/>
                </a:lnTo>
                <a:lnTo>
                  <a:pt x="2065" y="732"/>
                </a:lnTo>
                <a:lnTo>
                  <a:pt x="2083" y="767"/>
                </a:lnTo>
                <a:lnTo>
                  <a:pt x="2105" y="802"/>
                </a:lnTo>
                <a:lnTo>
                  <a:pt x="2105" y="802"/>
                </a:lnTo>
                <a:lnTo>
                  <a:pt x="2083" y="802"/>
                </a:lnTo>
                <a:lnTo>
                  <a:pt x="2277" y="1337"/>
                </a:lnTo>
                <a:lnTo>
                  <a:pt x="2409" y="3741"/>
                </a:lnTo>
                <a:lnTo>
                  <a:pt x="0" y="3829"/>
                </a:lnTo>
                <a:lnTo>
                  <a:pt x="361" y="1588"/>
                </a:lnTo>
                <a:lnTo>
                  <a:pt x="533" y="357"/>
                </a:lnTo>
                <a:lnTo>
                  <a:pt x="1187" y="0"/>
                </a:lnTo>
                <a:lnTo>
                  <a:pt x="1566" y="32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5981760"/>
            <a:ext cx="663840" cy="181440"/>
          </a:xfrm>
          <a:custGeom>
            <a:avLst/>
            <a:gdLst/>
            <a:ahLst/>
            <a:rect l="0" t="0" r="r" b="b"/>
            <a:pathLst>
              <a:path w="1844" h="504">
                <a:moveTo>
                  <a:pt x="630" y="159"/>
                </a:moveTo>
                <a:lnTo>
                  <a:pt x="979" y="44"/>
                </a:lnTo>
                <a:lnTo>
                  <a:pt x="1213" y="0"/>
                </a:lnTo>
                <a:lnTo>
                  <a:pt x="1469" y="92"/>
                </a:lnTo>
                <a:lnTo>
                  <a:pt x="1729" y="230"/>
                </a:lnTo>
                <a:lnTo>
                  <a:pt x="1844" y="412"/>
                </a:lnTo>
                <a:lnTo>
                  <a:pt x="1681" y="504"/>
                </a:lnTo>
                <a:lnTo>
                  <a:pt x="0" y="504"/>
                </a:lnTo>
                <a:lnTo>
                  <a:pt x="0" y="159"/>
                </a:lnTo>
                <a:lnTo>
                  <a:pt x="630" y="15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5981760"/>
            <a:ext cx="663840" cy="181440"/>
          </a:xfrm>
          <a:custGeom>
            <a:avLst/>
            <a:gdLst/>
            <a:ahLst/>
            <a:rect l="0" t="0" r="r" b="b"/>
            <a:pathLst>
              <a:path w="1844" h="504">
                <a:moveTo>
                  <a:pt x="1213" y="159"/>
                </a:moveTo>
                <a:lnTo>
                  <a:pt x="864" y="44"/>
                </a:lnTo>
                <a:lnTo>
                  <a:pt x="630" y="0"/>
                </a:lnTo>
                <a:lnTo>
                  <a:pt x="374" y="92"/>
                </a:lnTo>
                <a:lnTo>
                  <a:pt x="114" y="230"/>
                </a:lnTo>
                <a:lnTo>
                  <a:pt x="0" y="412"/>
                </a:lnTo>
                <a:lnTo>
                  <a:pt x="163" y="504"/>
                </a:lnTo>
                <a:lnTo>
                  <a:pt x="1844" y="504"/>
                </a:lnTo>
                <a:lnTo>
                  <a:pt x="1844" y="159"/>
                </a:lnTo>
                <a:lnTo>
                  <a:pt x="1213" y="15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282840" y="1905120"/>
            <a:ext cx="885960" cy="1606680"/>
            <a:chOff x="3282840" y="1905120"/>
            <a:chExt cx="885960" cy="1606680"/>
          </a:xfrm>
        </p:grpSpPr>
        <p:sp>
          <p:nvSpPr>
            <p:cNvPr id="266" name=""/>
            <p:cNvSpPr/>
            <p:nvPr/>
          </p:nvSpPr>
          <p:spPr>
            <a:xfrm>
              <a:off x="3282840" y="210816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1682" y="0"/>
                  </a:moveTo>
                  <a:lnTo>
                    <a:pt x="1964" y="229"/>
                  </a:lnTo>
                  <a:lnTo>
                    <a:pt x="2127" y="590"/>
                  </a:lnTo>
                  <a:lnTo>
                    <a:pt x="2171" y="1050"/>
                  </a:lnTo>
                  <a:lnTo>
                    <a:pt x="2193" y="2324"/>
                  </a:lnTo>
                  <a:lnTo>
                    <a:pt x="2149" y="3057"/>
                  </a:lnTo>
                  <a:lnTo>
                    <a:pt x="1473" y="3102"/>
                  </a:lnTo>
                  <a:lnTo>
                    <a:pt x="1376" y="3512"/>
                  </a:lnTo>
                  <a:lnTo>
                    <a:pt x="1284" y="3785"/>
                  </a:lnTo>
                  <a:lnTo>
                    <a:pt x="1076" y="3785"/>
                  </a:lnTo>
                  <a:lnTo>
                    <a:pt x="957" y="3534"/>
                  </a:lnTo>
                  <a:lnTo>
                    <a:pt x="1028" y="3102"/>
                  </a:lnTo>
                  <a:lnTo>
                    <a:pt x="396" y="3031"/>
                  </a:lnTo>
                  <a:lnTo>
                    <a:pt x="374" y="2598"/>
                  </a:lnTo>
                  <a:lnTo>
                    <a:pt x="233" y="2668"/>
                  </a:lnTo>
                  <a:lnTo>
                    <a:pt x="97" y="2620"/>
                  </a:lnTo>
                  <a:lnTo>
                    <a:pt x="0" y="2258"/>
                  </a:lnTo>
                  <a:lnTo>
                    <a:pt x="119" y="2073"/>
                  </a:lnTo>
                  <a:lnTo>
                    <a:pt x="260" y="2100"/>
                  </a:lnTo>
                  <a:lnTo>
                    <a:pt x="119" y="158"/>
                  </a:lnTo>
                  <a:lnTo>
                    <a:pt x="16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7000" y="249084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245736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14760" y="263052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5120" y="263844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862440" y="1930320"/>
              <a:ext cx="612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3753000" y="1913040"/>
              <a:ext cx="1584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592440" y="1905120"/>
              <a:ext cx="3348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433680" y="1946160"/>
              <a:ext cx="4932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308400" y="1969920"/>
              <a:ext cx="47520" cy="155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00280" y="292896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1611" y="618"/>
                  </a:moveTo>
                  <a:lnTo>
                    <a:pt x="0" y="477"/>
                  </a:lnTo>
                  <a:lnTo>
                    <a:pt x="957" y="0"/>
                  </a:lnTo>
                  <a:lnTo>
                    <a:pt x="1611" y="6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51400" y="335592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746" y="296"/>
                  </a:moveTo>
                  <a:lnTo>
                    <a:pt x="538" y="411"/>
                  </a:lnTo>
                  <a:lnTo>
                    <a:pt x="163" y="433"/>
                  </a:lnTo>
                  <a:lnTo>
                    <a:pt x="0" y="230"/>
                  </a:lnTo>
                  <a:lnTo>
                    <a:pt x="0" y="66"/>
                  </a:lnTo>
                  <a:lnTo>
                    <a:pt x="163" y="0"/>
                  </a:lnTo>
                  <a:lnTo>
                    <a:pt x="326" y="230"/>
                  </a:lnTo>
                  <a:lnTo>
                    <a:pt x="587" y="252"/>
                  </a:lnTo>
                  <a:lnTo>
                    <a:pt x="746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2900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657600" y="4254480"/>
            <a:ext cx="622800" cy="483120"/>
          </a:xfrm>
          <a:custGeom>
            <a:avLst/>
            <a:gdLst/>
            <a:ahLst/>
            <a:rect l="0" t="0" r="r" b="b"/>
            <a:pathLst>
              <a:path w="1730" h="1342">
                <a:moveTo>
                  <a:pt x="136" y="375"/>
                </a:moveTo>
                <a:lnTo>
                  <a:pt x="388" y="211"/>
                </a:lnTo>
                <a:lnTo>
                  <a:pt x="591" y="119"/>
                </a:lnTo>
                <a:lnTo>
                  <a:pt x="1002" y="0"/>
                </a:lnTo>
                <a:lnTo>
                  <a:pt x="1275" y="141"/>
                </a:lnTo>
                <a:lnTo>
                  <a:pt x="1527" y="260"/>
                </a:lnTo>
                <a:lnTo>
                  <a:pt x="1615" y="565"/>
                </a:lnTo>
                <a:lnTo>
                  <a:pt x="1730" y="940"/>
                </a:lnTo>
                <a:lnTo>
                  <a:pt x="1615" y="1179"/>
                </a:lnTo>
                <a:lnTo>
                  <a:pt x="1686" y="1342"/>
                </a:lnTo>
                <a:lnTo>
                  <a:pt x="1549" y="1272"/>
                </a:lnTo>
                <a:lnTo>
                  <a:pt x="1435" y="1082"/>
                </a:lnTo>
                <a:lnTo>
                  <a:pt x="1364" y="728"/>
                </a:lnTo>
                <a:lnTo>
                  <a:pt x="1231" y="472"/>
                </a:lnTo>
                <a:lnTo>
                  <a:pt x="931" y="330"/>
                </a:lnTo>
                <a:lnTo>
                  <a:pt x="591" y="402"/>
                </a:lnTo>
                <a:lnTo>
                  <a:pt x="339" y="565"/>
                </a:lnTo>
                <a:lnTo>
                  <a:pt x="180" y="636"/>
                </a:lnTo>
                <a:lnTo>
                  <a:pt x="44" y="636"/>
                </a:lnTo>
                <a:lnTo>
                  <a:pt x="0" y="472"/>
                </a:lnTo>
                <a:lnTo>
                  <a:pt x="136" y="375"/>
                </a:lnTo>
                <a:close/>
              </a:path>
            </a:pathLst>
          </a:custGeom>
          <a:solidFill>
            <a:srgbClr val="ff99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6040" y="3495600"/>
            <a:ext cx="429120" cy="1026000"/>
          </a:xfrm>
          <a:custGeom>
            <a:avLst/>
            <a:gdLst/>
            <a:ahLst/>
            <a:rect l="0" t="0" r="r" b="b"/>
            <a:pathLst>
              <a:path w="1192" h="2850">
                <a:moveTo>
                  <a:pt x="980" y="0"/>
                </a:moveTo>
                <a:lnTo>
                  <a:pt x="1122" y="92"/>
                </a:lnTo>
                <a:lnTo>
                  <a:pt x="1192" y="366"/>
                </a:lnTo>
                <a:lnTo>
                  <a:pt x="1007" y="1138"/>
                </a:lnTo>
                <a:lnTo>
                  <a:pt x="724" y="2850"/>
                </a:lnTo>
                <a:lnTo>
                  <a:pt x="0" y="2713"/>
                </a:lnTo>
                <a:lnTo>
                  <a:pt x="327" y="1253"/>
                </a:lnTo>
                <a:lnTo>
                  <a:pt x="702" y="207"/>
                </a:lnTo>
                <a:lnTo>
                  <a:pt x="98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35160" y="4492800"/>
            <a:ext cx="268200" cy="24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73480" y="3556080"/>
            <a:ext cx="843480" cy="822600"/>
          </a:xfrm>
          <a:custGeom>
            <a:avLst/>
            <a:gdLst/>
            <a:ahLst/>
            <a:rect l="0" t="0" r="r" b="b"/>
            <a:pathLst>
              <a:path w="2343" h="2285">
                <a:moveTo>
                  <a:pt x="2343" y="79"/>
                </a:moveTo>
                <a:lnTo>
                  <a:pt x="2189" y="0"/>
                </a:lnTo>
                <a:lnTo>
                  <a:pt x="1920" y="79"/>
                </a:lnTo>
                <a:lnTo>
                  <a:pt x="1341" y="626"/>
                </a:lnTo>
                <a:lnTo>
                  <a:pt x="0" y="1725"/>
                </a:lnTo>
                <a:lnTo>
                  <a:pt x="480" y="2285"/>
                </a:lnTo>
                <a:lnTo>
                  <a:pt x="1584" y="1271"/>
                </a:lnTo>
                <a:lnTo>
                  <a:pt x="2303" y="423"/>
                </a:lnTo>
                <a:lnTo>
                  <a:pt x="2343" y="7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579920" y="4564080"/>
            <a:ext cx="1335240" cy="1608480"/>
            <a:chOff x="4579920" y="4564080"/>
            <a:chExt cx="1335240" cy="1608480"/>
          </a:xfrm>
        </p:grpSpPr>
        <p:sp>
          <p:nvSpPr>
            <p:cNvPr id="284" name=""/>
            <p:cNvSpPr/>
            <p:nvPr/>
          </p:nvSpPr>
          <p:spPr>
            <a:xfrm>
              <a:off x="4916520" y="4564080"/>
              <a:ext cx="579960" cy="1484640"/>
            </a:xfrm>
            <a:custGeom>
              <a:avLst/>
              <a:gdLst/>
              <a:ahLst/>
              <a:rect l="0" t="0" r="r" b="b"/>
              <a:pathLst>
                <a:path w="1611" h="4124">
                  <a:moveTo>
                    <a:pt x="0" y="0"/>
                  </a:moveTo>
                  <a:lnTo>
                    <a:pt x="279" y="4124"/>
                  </a:lnTo>
                  <a:lnTo>
                    <a:pt x="910" y="4124"/>
                  </a:lnTo>
                  <a:lnTo>
                    <a:pt x="817" y="1116"/>
                  </a:lnTo>
                  <a:lnTo>
                    <a:pt x="910" y="4124"/>
                  </a:lnTo>
                  <a:lnTo>
                    <a:pt x="1611" y="4124"/>
                  </a:lnTo>
                  <a:lnTo>
                    <a:pt x="154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9920" y="599112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1214" y="160"/>
                  </a:moveTo>
                  <a:lnTo>
                    <a:pt x="863" y="45"/>
                  </a:lnTo>
                  <a:lnTo>
                    <a:pt x="629" y="0"/>
                  </a:lnTo>
                  <a:lnTo>
                    <a:pt x="373" y="91"/>
                  </a:lnTo>
                  <a:lnTo>
                    <a:pt x="116" y="229"/>
                  </a:lnTo>
                  <a:lnTo>
                    <a:pt x="0" y="413"/>
                  </a:lnTo>
                  <a:lnTo>
                    <a:pt x="163" y="504"/>
                  </a:lnTo>
                  <a:lnTo>
                    <a:pt x="1844" y="504"/>
                  </a:lnTo>
                  <a:lnTo>
                    <a:pt x="1844" y="160"/>
                  </a:lnTo>
                  <a:lnTo>
                    <a:pt x="1214" y="16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1320" y="599112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629" y="160"/>
                  </a:moveTo>
                  <a:lnTo>
                    <a:pt x="980" y="45"/>
                  </a:lnTo>
                  <a:lnTo>
                    <a:pt x="1214" y="0"/>
                  </a:lnTo>
                  <a:lnTo>
                    <a:pt x="1470" y="91"/>
                  </a:lnTo>
                  <a:lnTo>
                    <a:pt x="1727" y="229"/>
                  </a:lnTo>
                  <a:lnTo>
                    <a:pt x="1844" y="413"/>
                  </a:lnTo>
                  <a:lnTo>
                    <a:pt x="1680" y="504"/>
                  </a:lnTo>
                  <a:lnTo>
                    <a:pt x="0" y="504"/>
                  </a:lnTo>
                  <a:lnTo>
                    <a:pt x="0" y="160"/>
                  </a:lnTo>
                  <a:lnTo>
                    <a:pt x="629" y="16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718160" y="1914480"/>
            <a:ext cx="954360" cy="2821680"/>
            <a:chOff x="4718160" y="1914480"/>
            <a:chExt cx="954360" cy="2821680"/>
          </a:xfrm>
        </p:grpSpPr>
        <p:sp>
          <p:nvSpPr>
            <p:cNvPr id="288" name=""/>
            <p:cNvSpPr/>
            <p:nvPr/>
          </p:nvSpPr>
          <p:spPr>
            <a:xfrm>
              <a:off x="4807080" y="3357720"/>
              <a:ext cx="865440" cy="1378440"/>
            </a:xfrm>
            <a:custGeom>
              <a:avLst/>
              <a:gdLst/>
              <a:ahLst/>
              <a:rect l="0" t="0" r="r" b="b"/>
              <a:pathLst>
                <a:path w="2404" h="3829">
                  <a:moveTo>
                    <a:pt x="841" y="322"/>
                  </a:moveTo>
                  <a:lnTo>
                    <a:pt x="763" y="337"/>
                  </a:lnTo>
                  <a:lnTo>
                    <a:pt x="705" y="375"/>
                  </a:lnTo>
                  <a:lnTo>
                    <a:pt x="593" y="501"/>
                  </a:lnTo>
                  <a:lnTo>
                    <a:pt x="476" y="622"/>
                  </a:lnTo>
                  <a:lnTo>
                    <a:pt x="344" y="732"/>
                  </a:lnTo>
                  <a:lnTo>
                    <a:pt x="325" y="767"/>
                  </a:lnTo>
                  <a:lnTo>
                    <a:pt x="306" y="801"/>
                  </a:lnTo>
                  <a:lnTo>
                    <a:pt x="306" y="801"/>
                  </a:lnTo>
                  <a:lnTo>
                    <a:pt x="325" y="801"/>
                  </a:lnTo>
                  <a:lnTo>
                    <a:pt x="135" y="1337"/>
                  </a:lnTo>
                  <a:lnTo>
                    <a:pt x="0" y="3742"/>
                  </a:lnTo>
                  <a:lnTo>
                    <a:pt x="2404" y="3829"/>
                  </a:lnTo>
                  <a:lnTo>
                    <a:pt x="2043" y="1588"/>
                  </a:lnTo>
                  <a:lnTo>
                    <a:pt x="1869" y="356"/>
                  </a:lnTo>
                  <a:lnTo>
                    <a:pt x="1222" y="0"/>
                  </a:lnTo>
                  <a:lnTo>
                    <a:pt x="841" y="32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718160" y="1914480"/>
              <a:ext cx="886320" cy="1566000"/>
              <a:chOff x="4718160" y="1914480"/>
              <a:chExt cx="886320" cy="1566000"/>
            </a:xfrm>
          </p:grpSpPr>
          <p:sp>
            <p:nvSpPr>
              <p:cNvPr id="290" name=""/>
              <p:cNvSpPr/>
              <p:nvPr/>
            </p:nvSpPr>
            <p:spPr>
              <a:xfrm>
                <a:off x="4815000" y="2117880"/>
                <a:ext cx="789480" cy="1362600"/>
              </a:xfrm>
              <a:custGeom>
                <a:avLst/>
                <a:gdLst/>
                <a:ahLst/>
                <a:rect l="0" t="0" r="r" b="b"/>
                <a:pathLst>
                  <a:path w="2193" h="3785">
                    <a:moveTo>
                      <a:pt x="512" y="0"/>
                    </a:moveTo>
                    <a:lnTo>
                      <a:pt x="233" y="227"/>
                    </a:lnTo>
                    <a:lnTo>
                      <a:pt x="69" y="592"/>
                    </a:lnTo>
                    <a:lnTo>
                      <a:pt x="23" y="1049"/>
                    </a:lnTo>
                    <a:lnTo>
                      <a:pt x="0" y="2325"/>
                    </a:lnTo>
                    <a:lnTo>
                      <a:pt x="46" y="3056"/>
                    </a:lnTo>
                    <a:lnTo>
                      <a:pt x="723" y="3101"/>
                    </a:lnTo>
                    <a:lnTo>
                      <a:pt x="817" y="3512"/>
                    </a:lnTo>
                    <a:lnTo>
                      <a:pt x="910" y="3785"/>
                    </a:lnTo>
                    <a:lnTo>
                      <a:pt x="1120" y="3785"/>
                    </a:lnTo>
                    <a:lnTo>
                      <a:pt x="1236" y="3534"/>
                    </a:lnTo>
                    <a:lnTo>
                      <a:pt x="1166" y="3101"/>
                    </a:lnTo>
                    <a:lnTo>
                      <a:pt x="1797" y="3033"/>
                    </a:lnTo>
                    <a:lnTo>
                      <a:pt x="1820" y="2599"/>
                    </a:lnTo>
                    <a:lnTo>
                      <a:pt x="1960" y="2667"/>
                    </a:lnTo>
                    <a:lnTo>
                      <a:pt x="2100" y="2622"/>
                    </a:lnTo>
                    <a:lnTo>
                      <a:pt x="2193" y="2257"/>
                    </a:lnTo>
                    <a:lnTo>
                      <a:pt x="2077" y="2075"/>
                    </a:lnTo>
                    <a:lnTo>
                      <a:pt x="1937" y="2097"/>
                    </a:lnTo>
                    <a:lnTo>
                      <a:pt x="2077" y="159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18160" y="2500200"/>
                <a:ext cx="361800" cy="352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29200" y="2467080"/>
                <a:ext cx="428760" cy="419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97320" y="2639880"/>
                <a:ext cx="745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35520" y="2647800"/>
                <a:ext cx="763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18040" y="1940040"/>
                <a:ext cx="648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118120" y="1922400"/>
                <a:ext cx="15840" cy="18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261040" y="1914480"/>
                <a:ext cx="33120" cy="19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03960" y="1955880"/>
                <a:ext cx="4896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530680" y="1979640"/>
                <a:ext cx="47880" cy="1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7080" y="2938320"/>
                <a:ext cx="579960" cy="222480"/>
              </a:xfrm>
              <a:custGeom>
                <a:avLst/>
                <a:gdLst/>
                <a:ahLst/>
                <a:rect l="0" t="0" r="r" b="b"/>
                <a:pathLst>
                  <a:path w="1611" h="618">
                    <a:moveTo>
                      <a:pt x="0" y="0"/>
                    </a:moveTo>
                    <a:lnTo>
                      <a:pt x="1611" y="141"/>
                    </a:lnTo>
                    <a:lnTo>
                      <a:pt x="658" y="6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067360" y="3365640"/>
              <a:ext cx="268560" cy="155880"/>
            </a:xfrm>
            <a:custGeom>
              <a:avLst/>
              <a:gdLst/>
              <a:ahLst/>
              <a:rect l="0" t="0" r="r" b="b"/>
              <a:pathLst>
                <a:path w="746" h="433">
                  <a:moveTo>
                    <a:pt x="0" y="296"/>
                  </a:moveTo>
                  <a:lnTo>
                    <a:pt x="209" y="410"/>
                  </a:lnTo>
                  <a:lnTo>
                    <a:pt x="583" y="433"/>
                  </a:lnTo>
                  <a:lnTo>
                    <a:pt x="746" y="228"/>
                  </a:lnTo>
                  <a:lnTo>
                    <a:pt x="746" y="68"/>
                  </a:lnTo>
                  <a:lnTo>
                    <a:pt x="583" y="0"/>
                  </a:lnTo>
                  <a:lnTo>
                    <a:pt x="420" y="228"/>
                  </a:lnTo>
                  <a:lnTo>
                    <a:pt x="163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402160" y="3505320"/>
            <a:ext cx="449280" cy="1243080"/>
            <a:chOff x="5402160" y="3505320"/>
            <a:chExt cx="449280" cy="1243080"/>
          </a:xfrm>
        </p:grpSpPr>
        <p:sp>
          <p:nvSpPr>
            <p:cNvPr id="303" name=""/>
            <p:cNvSpPr/>
            <p:nvPr/>
          </p:nvSpPr>
          <p:spPr>
            <a:xfrm>
              <a:off x="5402160" y="3505320"/>
              <a:ext cx="429120" cy="1026000"/>
            </a:xfrm>
            <a:custGeom>
              <a:avLst/>
              <a:gdLst/>
              <a:ahLst/>
              <a:rect l="0" t="0" r="r" b="b"/>
              <a:pathLst>
                <a:path w="1192" h="2850">
                  <a:moveTo>
                    <a:pt x="210" y="0"/>
                  </a:moveTo>
                  <a:lnTo>
                    <a:pt x="70" y="91"/>
                  </a:lnTo>
                  <a:lnTo>
                    <a:pt x="0" y="364"/>
                  </a:lnTo>
                  <a:lnTo>
                    <a:pt x="186" y="1140"/>
                  </a:lnTo>
                  <a:lnTo>
                    <a:pt x="467" y="2850"/>
                  </a:lnTo>
                  <a:lnTo>
                    <a:pt x="1192" y="2713"/>
                  </a:lnTo>
                  <a:lnTo>
                    <a:pt x="864" y="1254"/>
                  </a:lnTo>
                  <a:lnTo>
                    <a:pt x="491" y="205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83240" y="4502160"/>
              <a:ext cx="26820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055040" y="4232520"/>
            <a:ext cx="252720" cy="264600"/>
          </a:xfrm>
          <a:custGeom>
            <a:avLst/>
            <a:gdLst/>
            <a:ahLst/>
            <a:rect l="0" t="0" r="r" b="b"/>
            <a:pathLst>
              <a:path w="702" h="735">
                <a:moveTo>
                  <a:pt x="162" y="692"/>
                </a:moveTo>
                <a:lnTo>
                  <a:pt x="162" y="692"/>
                </a:lnTo>
                <a:cubicBezTo>
                  <a:pt x="163" y="692"/>
                  <a:pt x="163" y="692"/>
                  <a:pt x="163" y="692"/>
                </a:cubicBezTo>
                <a:cubicBezTo>
                  <a:pt x="215" y="722"/>
                  <a:pt x="275" y="737"/>
                  <a:pt x="336" y="734"/>
                </a:cubicBezTo>
                <a:cubicBezTo>
                  <a:pt x="398" y="731"/>
                  <a:pt x="459" y="712"/>
                  <a:pt x="514" y="678"/>
                </a:cubicBezTo>
                <a:cubicBezTo>
                  <a:pt x="568" y="643"/>
                  <a:pt x="614" y="595"/>
                  <a:pt x="647" y="538"/>
                </a:cubicBezTo>
                <a:cubicBezTo>
                  <a:pt x="680" y="481"/>
                  <a:pt x="699" y="417"/>
                  <a:pt x="701" y="353"/>
                </a:cubicBezTo>
                <a:cubicBezTo>
                  <a:pt x="704" y="288"/>
                  <a:pt x="690" y="226"/>
                  <a:pt x="662" y="171"/>
                </a:cubicBezTo>
                <a:cubicBezTo>
                  <a:pt x="633" y="117"/>
                  <a:pt x="591" y="72"/>
                  <a:pt x="539" y="42"/>
                </a:cubicBezTo>
                <a:lnTo>
                  <a:pt x="539" y="42"/>
                </a:lnTo>
                <a:cubicBezTo>
                  <a:pt x="538" y="42"/>
                  <a:pt x="538" y="42"/>
                  <a:pt x="538" y="42"/>
                </a:cubicBezTo>
                <a:cubicBezTo>
                  <a:pt x="486" y="12"/>
                  <a:pt x="426" y="-3"/>
                  <a:pt x="365" y="0"/>
                </a:cubicBezTo>
                <a:cubicBezTo>
                  <a:pt x="303" y="3"/>
                  <a:pt x="242" y="22"/>
                  <a:pt x="187" y="56"/>
                </a:cubicBezTo>
                <a:cubicBezTo>
                  <a:pt x="133" y="91"/>
                  <a:pt x="87" y="139"/>
                  <a:pt x="54" y="196"/>
                </a:cubicBezTo>
                <a:cubicBezTo>
                  <a:pt x="21" y="253"/>
                  <a:pt x="2" y="317"/>
                  <a:pt x="0" y="381"/>
                </a:cubicBezTo>
                <a:cubicBezTo>
                  <a:pt x="-3" y="446"/>
                  <a:pt x="11" y="508"/>
                  <a:pt x="39" y="563"/>
                </a:cubicBezTo>
                <a:cubicBezTo>
                  <a:pt x="68" y="617"/>
                  <a:pt x="110" y="662"/>
                  <a:pt x="162" y="692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10160" y="4191120"/>
            <a:ext cx="622800" cy="483120"/>
          </a:xfrm>
          <a:custGeom>
            <a:avLst/>
            <a:gdLst/>
            <a:ahLst/>
            <a:rect l="0" t="0" r="r" b="b"/>
            <a:pathLst>
              <a:path w="1730" h="1342">
                <a:moveTo>
                  <a:pt x="1594" y="377"/>
                </a:moveTo>
                <a:lnTo>
                  <a:pt x="1343" y="211"/>
                </a:lnTo>
                <a:lnTo>
                  <a:pt x="1138" y="117"/>
                </a:lnTo>
                <a:lnTo>
                  <a:pt x="728" y="0"/>
                </a:lnTo>
                <a:lnTo>
                  <a:pt x="455" y="141"/>
                </a:lnTo>
                <a:lnTo>
                  <a:pt x="204" y="258"/>
                </a:lnTo>
                <a:lnTo>
                  <a:pt x="113" y="565"/>
                </a:lnTo>
                <a:lnTo>
                  <a:pt x="0" y="941"/>
                </a:lnTo>
                <a:lnTo>
                  <a:pt x="113" y="1177"/>
                </a:lnTo>
                <a:lnTo>
                  <a:pt x="45" y="1342"/>
                </a:lnTo>
                <a:lnTo>
                  <a:pt x="181" y="1272"/>
                </a:lnTo>
                <a:lnTo>
                  <a:pt x="295" y="1083"/>
                </a:lnTo>
                <a:lnTo>
                  <a:pt x="363" y="730"/>
                </a:lnTo>
                <a:lnTo>
                  <a:pt x="501" y="471"/>
                </a:lnTo>
                <a:lnTo>
                  <a:pt x="797" y="329"/>
                </a:lnTo>
                <a:lnTo>
                  <a:pt x="1138" y="400"/>
                </a:lnTo>
                <a:lnTo>
                  <a:pt x="1389" y="565"/>
                </a:lnTo>
                <a:lnTo>
                  <a:pt x="1548" y="636"/>
                </a:lnTo>
                <a:lnTo>
                  <a:pt x="1685" y="636"/>
                </a:lnTo>
                <a:lnTo>
                  <a:pt x="1730" y="471"/>
                </a:lnTo>
                <a:lnTo>
                  <a:pt x="1594" y="377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952880" y="4038480"/>
            <a:ext cx="508680" cy="1283400"/>
            <a:chOff x="4952880" y="4038480"/>
            <a:chExt cx="508680" cy="1283400"/>
          </a:xfrm>
        </p:grpSpPr>
        <p:sp>
          <p:nvSpPr>
            <p:cNvPr id="308" name=""/>
            <p:cNvSpPr/>
            <p:nvPr/>
          </p:nvSpPr>
          <p:spPr>
            <a:xfrm>
              <a:off x="5038560" y="4233960"/>
              <a:ext cx="371880" cy="562320"/>
            </a:xfrm>
            <a:custGeom>
              <a:avLst/>
              <a:gdLst/>
              <a:ahLst/>
              <a:rect l="0" t="0" r="r" b="b"/>
              <a:pathLst>
                <a:path w="1033" h="1562">
                  <a:moveTo>
                    <a:pt x="264" y="62"/>
                  </a:moveTo>
                  <a:lnTo>
                    <a:pt x="317" y="22"/>
                  </a:lnTo>
                  <a:lnTo>
                    <a:pt x="370" y="0"/>
                  </a:lnTo>
                  <a:lnTo>
                    <a:pt x="423" y="22"/>
                  </a:lnTo>
                  <a:lnTo>
                    <a:pt x="505" y="40"/>
                  </a:lnTo>
                  <a:lnTo>
                    <a:pt x="634" y="0"/>
                  </a:lnTo>
                  <a:lnTo>
                    <a:pt x="686" y="0"/>
                  </a:lnTo>
                  <a:lnTo>
                    <a:pt x="769" y="0"/>
                  </a:lnTo>
                  <a:lnTo>
                    <a:pt x="769" y="62"/>
                  </a:lnTo>
                  <a:lnTo>
                    <a:pt x="769" y="80"/>
                  </a:lnTo>
                  <a:lnTo>
                    <a:pt x="686" y="142"/>
                  </a:lnTo>
                  <a:lnTo>
                    <a:pt x="716" y="227"/>
                  </a:lnTo>
                  <a:lnTo>
                    <a:pt x="716" y="289"/>
                  </a:lnTo>
                  <a:lnTo>
                    <a:pt x="769" y="330"/>
                  </a:lnTo>
                  <a:lnTo>
                    <a:pt x="822" y="392"/>
                  </a:lnTo>
                  <a:lnTo>
                    <a:pt x="793" y="535"/>
                  </a:lnTo>
                  <a:lnTo>
                    <a:pt x="739" y="637"/>
                  </a:lnTo>
                  <a:lnTo>
                    <a:pt x="793" y="700"/>
                  </a:lnTo>
                  <a:lnTo>
                    <a:pt x="875" y="780"/>
                  </a:lnTo>
                  <a:lnTo>
                    <a:pt x="951" y="861"/>
                  </a:lnTo>
                  <a:lnTo>
                    <a:pt x="981" y="924"/>
                  </a:lnTo>
                  <a:lnTo>
                    <a:pt x="1004" y="986"/>
                  </a:lnTo>
                  <a:lnTo>
                    <a:pt x="1033" y="1026"/>
                  </a:lnTo>
                  <a:lnTo>
                    <a:pt x="1033" y="1026"/>
                  </a:lnTo>
                  <a:lnTo>
                    <a:pt x="1004" y="1174"/>
                  </a:lnTo>
                  <a:lnTo>
                    <a:pt x="981" y="1294"/>
                  </a:lnTo>
                  <a:lnTo>
                    <a:pt x="951" y="1419"/>
                  </a:lnTo>
                  <a:lnTo>
                    <a:pt x="899" y="1562"/>
                  </a:lnTo>
                  <a:lnTo>
                    <a:pt x="899" y="1521"/>
                  </a:lnTo>
                  <a:lnTo>
                    <a:pt x="899" y="1481"/>
                  </a:lnTo>
                  <a:lnTo>
                    <a:pt x="928" y="1437"/>
                  </a:lnTo>
                  <a:lnTo>
                    <a:pt x="928" y="1419"/>
                  </a:lnTo>
                  <a:lnTo>
                    <a:pt x="899" y="1356"/>
                  </a:lnTo>
                  <a:lnTo>
                    <a:pt x="875" y="1276"/>
                  </a:lnTo>
                  <a:lnTo>
                    <a:pt x="899" y="1214"/>
                  </a:lnTo>
                  <a:lnTo>
                    <a:pt x="928" y="1191"/>
                  </a:lnTo>
                  <a:lnTo>
                    <a:pt x="928" y="1174"/>
                  </a:lnTo>
                  <a:lnTo>
                    <a:pt x="899" y="1049"/>
                  </a:lnTo>
                  <a:lnTo>
                    <a:pt x="846" y="986"/>
                  </a:lnTo>
                  <a:lnTo>
                    <a:pt x="793" y="946"/>
                  </a:lnTo>
                  <a:lnTo>
                    <a:pt x="739" y="884"/>
                  </a:lnTo>
                  <a:lnTo>
                    <a:pt x="686" y="821"/>
                  </a:lnTo>
                  <a:lnTo>
                    <a:pt x="634" y="861"/>
                  </a:lnTo>
                  <a:lnTo>
                    <a:pt x="581" y="884"/>
                  </a:lnTo>
                  <a:lnTo>
                    <a:pt x="528" y="906"/>
                  </a:lnTo>
                  <a:lnTo>
                    <a:pt x="505" y="924"/>
                  </a:lnTo>
                  <a:lnTo>
                    <a:pt x="475" y="924"/>
                  </a:lnTo>
                  <a:lnTo>
                    <a:pt x="475" y="843"/>
                  </a:lnTo>
                  <a:lnTo>
                    <a:pt x="475" y="821"/>
                  </a:lnTo>
                  <a:lnTo>
                    <a:pt x="475" y="803"/>
                  </a:lnTo>
                  <a:lnTo>
                    <a:pt x="505" y="758"/>
                  </a:lnTo>
                  <a:lnTo>
                    <a:pt x="528" y="718"/>
                  </a:lnTo>
                  <a:lnTo>
                    <a:pt x="528" y="718"/>
                  </a:lnTo>
                  <a:lnTo>
                    <a:pt x="528" y="740"/>
                  </a:lnTo>
                  <a:lnTo>
                    <a:pt x="528" y="758"/>
                  </a:lnTo>
                  <a:lnTo>
                    <a:pt x="505" y="780"/>
                  </a:lnTo>
                  <a:lnTo>
                    <a:pt x="452" y="758"/>
                  </a:lnTo>
                  <a:lnTo>
                    <a:pt x="423" y="740"/>
                  </a:lnTo>
                  <a:lnTo>
                    <a:pt x="399" y="740"/>
                  </a:lnTo>
                  <a:lnTo>
                    <a:pt x="370" y="758"/>
                  </a:lnTo>
                  <a:lnTo>
                    <a:pt x="346" y="780"/>
                  </a:lnTo>
                  <a:lnTo>
                    <a:pt x="264" y="718"/>
                  </a:lnTo>
                  <a:lnTo>
                    <a:pt x="240" y="780"/>
                  </a:lnTo>
                  <a:lnTo>
                    <a:pt x="211" y="803"/>
                  </a:lnTo>
                  <a:lnTo>
                    <a:pt x="158" y="780"/>
                  </a:lnTo>
                  <a:lnTo>
                    <a:pt x="52" y="758"/>
                  </a:lnTo>
                  <a:lnTo>
                    <a:pt x="23" y="740"/>
                  </a:lnTo>
                  <a:lnTo>
                    <a:pt x="0" y="700"/>
                  </a:lnTo>
                  <a:lnTo>
                    <a:pt x="23" y="677"/>
                  </a:lnTo>
                  <a:lnTo>
                    <a:pt x="52" y="677"/>
                  </a:lnTo>
                  <a:lnTo>
                    <a:pt x="158" y="700"/>
                  </a:lnTo>
                  <a:lnTo>
                    <a:pt x="264" y="718"/>
                  </a:lnTo>
                  <a:lnTo>
                    <a:pt x="264" y="718"/>
                  </a:lnTo>
                  <a:lnTo>
                    <a:pt x="240" y="700"/>
                  </a:lnTo>
                  <a:lnTo>
                    <a:pt x="211" y="677"/>
                  </a:lnTo>
                  <a:lnTo>
                    <a:pt x="187" y="655"/>
                  </a:lnTo>
                  <a:lnTo>
                    <a:pt x="187" y="637"/>
                  </a:lnTo>
                  <a:lnTo>
                    <a:pt x="187" y="597"/>
                  </a:lnTo>
                  <a:lnTo>
                    <a:pt x="211" y="553"/>
                  </a:lnTo>
                  <a:lnTo>
                    <a:pt x="240" y="535"/>
                  </a:lnTo>
                  <a:lnTo>
                    <a:pt x="240" y="472"/>
                  </a:lnTo>
                  <a:lnTo>
                    <a:pt x="240" y="410"/>
                  </a:lnTo>
                  <a:lnTo>
                    <a:pt x="240" y="267"/>
                  </a:lnTo>
                  <a:lnTo>
                    <a:pt x="187" y="227"/>
                  </a:lnTo>
                  <a:lnTo>
                    <a:pt x="158" y="205"/>
                  </a:lnTo>
                  <a:lnTo>
                    <a:pt x="158" y="182"/>
                  </a:lnTo>
                  <a:lnTo>
                    <a:pt x="187" y="165"/>
                  </a:lnTo>
                  <a:lnTo>
                    <a:pt x="211" y="142"/>
                  </a:lnTo>
                  <a:lnTo>
                    <a:pt x="211" y="124"/>
                  </a:lnTo>
                  <a:lnTo>
                    <a:pt x="264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1440" y="411336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67" y="200"/>
                  </a:moveTo>
                  <a:lnTo>
                    <a:pt x="67" y="140"/>
                  </a:lnTo>
                  <a:lnTo>
                    <a:pt x="101" y="76"/>
                  </a:lnTo>
                  <a:lnTo>
                    <a:pt x="173" y="38"/>
                  </a:lnTo>
                  <a:lnTo>
                    <a:pt x="241" y="0"/>
                  </a:lnTo>
                  <a:lnTo>
                    <a:pt x="278" y="25"/>
                  </a:lnTo>
                  <a:lnTo>
                    <a:pt x="327" y="63"/>
                  </a:lnTo>
                  <a:lnTo>
                    <a:pt x="327" y="89"/>
                  </a:lnTo>
                  <a:lnTo>
                    <a:pt x="327" y="89"/>
                  </a:lnTo>
                  <a:lnTo>
                    <a:pt x="293" y="89"/>
                  </a:lnTo>
                  <a:lnTo>
                    <a:pt x="226" y="127"/>
                  </a:lnTo>
                  <a:lnTo>
                    <a:pt x="153" y="178"/>
                  </a:lnTo>
                  <a:lnTo>
                    <a:pt x="138" y="239"/>
                  </a:lnTo>
                  <a:lnTo>
                    <a:pt x="138" y="265"/>
                  </a:lnTo>
                  <a:lnTo>
                    <a:pt x="120" y="290"/>
                  </a:lnTo>
                  <a:lnTo>
                    <a:pt x="101" y="316"/>
                  </a:lnTo>
                  <a:lnTo>
                    <a:pt x="67" y="328"/>
                  </a:lnTo>
                  <a:lnTo>
                    <a:pt x="48" y="341"/>
                  </a:lnTo>
                  <a:lnTo>
                    <a:pt x="33" y="341"/>
                  </a:lnTo>
                  <a:lnTo>
                    <a:pt x="0" y="316"/>
                  </a:lnTo>
                  <a:lnTo>
                    <a:pt x="0" y="290"/>
                  </a:lnTo>
                  <a:lnTo>
                    <a:pt x="15" y="278"/>
                  </a:lnTo>
                  <a:lnTo>
                    <a:pt x="33" y="226"/>
                  </a:lnTo>
                  <a:lnTo>
                    <a:pt x="48" y="213"/>
                  </a:lnTo>
                  <a:lnTo>
                    <a:pt x="67" y="213"/>
                  </a:lnTo>
                  <a:lnTo>
                    <a:pt x="67" y="20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240080"/>
              <a:ext cx="135360" cy="197280"/>
            </a:xfrm>
            <a:custGeom>
              <a:avLst/>
              <a:gdLst/>
              <a:ahLst/>
              <a:rect l="0" t="0" r="r" b="b"/>
              <a:pathLst>
                <a:path w="376" h="548">
                  <a:moveTo>
                    <a:pt x="285" y="429"/>
                  </a:moveTo>
                  <a:lnTo>
                    <a:pt x="211" y="326"/>
                  </a:lnTo>
                  <a:lnTo>
                    <a:pt x="137" y="207"/>
                  </a:lnTo>
                  <a:lnTo>
                    <a:pt x="137" y="148"/>
                  </a:lnTo>
                  <a:lnTo>
                    <a:pt x="137" y="87"/>
                  </a:lnTo>
                  <a:lnTo>
                    <a:pt x="165" y="42"/>
                  </a:lnTo>
                  <a:lnTo>
                    <a:pt x="211" y="0"/>
                  </a:lnTo>
                  <a:lnTo>
                    <a:pt x="225" y="28"/>
                  </a:lnTo>
                  <a:lnTo>
                    <a:pt x="256" y="42"/>
                  </a:lnTo>
                  <a:lnTo>
                    <a:pt x="270" y="73"/>
                  </a:lnTo>
                  <a:lnTo>
                    <a:pt x="270" y="87"/>
                  </a:lnTo>
                  <a:lnTo>
                    <a:pt x="197" y="119"/>
                  </a:lnTo>
                  <a:lnTo>
                    <a:pt x="120" y="148"/>
                  </a:lnTo>
                  <a:lnTo>
                    <a:pt x="151" y="162"/>
                  </a:lnTo>
                  <a:lnTo>
                    <a:pt x="165" y="162"/>
                  </a:lnTo>
                  <a:lnTo>
                    <a:pt x="197" y="162"/>
                  </a:lnTo>
                  <a:lnTo>
                    <a:pt x="211" y="162"/>
                  </a:lnTo>
                  <a:lnTo>
                    <a:pt x="239" y="179"/>
                  </a:lnTo>
                  <a:lnTo>
                    <a:pt x="299" y="193"/>
                  </a:lnTo>
                  <a:lnTo>
                    <a:pt x="317" y="207"/>
                  </a:lnTo>
                  <a:lnTo>
                    <a:pt x="331" y="207"/>
                  </a:lnTo>
                  <a:lnTo>
                    <a:pt x="359" y="267"/>
                  </a:lnTo>
                  <a:lnTo>
                    <a:pt x="376" y="326"/>
                  </a:lnTo>
                  <a:lnTo>
                    <a:pt x="359" y="372"/>
                  </a:lnTo>
                  <a:lnTo>
                    <a:pt x="331" y="400"/>
                  </a:lnTo>
                  <a:lnTo>
                    <a:pt x="239" y="447"/>
                  </a:lnTo>
                  <a:lnTo>
                    <a:pt x="137" y="475"/>
                  </a:lnTo>
                  <a:lnTo>
                    <a:pt x="106" y="506"/>
                  </a:lnTo>
                  <a:lnTo>
                    <a:pt x="59" y="534"/>
                  </a:lnTo>
                  <a:lnTo>
                    <a:pt x="31" y="548"/>
                  </a:lnTo>
                  <a:lnTo>
                    <a:pt x="17" y="534"/>
                  </a:lnTo>
                  <a:lnTo>
                    <a:pt x="0" y="506"/>
                  </a:lnTo>
                  <a:lnTo>
                    <a:pt x="59" y="475"/>
                  </a:lnTo>
                  <a:lnTo>
                    <a:pt x="106" y="475"/>
                  </a:lnTo>
                  <a:lnTo>
                    <a:pt x="151" y="461"/>
                  </a:lnTo>
                  <a:lnTo>
                    <a:pt x="211" y="429"/>
                  </a:lnTo>
                  <a:lnTo>
                    <a:pt x="239" y="400"/>
                  </a:lnTo>
                  <a:lnTo>
                    <a:pt x="239" y="386"/>
                  </a:lnTo>
                  <a:lnTo>
                    <a:pt x="256" y="400"/>
                  </a:lnTo>
                  <a:lnTo>
                    <a:pt x="285" y="42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03640" y="4606920"/>
              <a:ext cx="200520" cy="81360"/>
            </a:xfrm>
            <a:custGeom>
              <a:avLst/>
              <a:gdLst/>
              <a:ahLst/>
              <a:rect l="0" t="0" r="r" b="b"/>
              <a:pathLst>
                <a:path w="557" h="226">
                  <a:moveTo>
                    <a:pt x="422" y="49"/>
                  </a:moveTo>
                  <a:lnTo>
                    <a:pt x="377" y="99"/>
                  </a:lnTo>
                  <a:lnTo>
                    <a:pt x="346" y="127"/>
                  </a:lnTo>
                  <a:lnTo>
                    <a:pt x="316" y="77"/>
                  </a:lnTo>
                  <a:lnTo>
                    <a:pt x="272" y="27"/>
                  </a:lnTo>
                  <a:lnTo>
                    <a:pt x="135" y="77"/>
                  </a:lnTo>
                  <a:lnTo>
                    <a:pt x="0" y="154"/>
                  </a:lnTo>
                  <a:lnTo>
                    <a:pt x="13" y="226"/>
                  </a:lnTo>
                  <a:lnTo>
                    <a:pt x="60" y="226"/>
                  </a:lnTo>
                  <a:lnTo>
                    <a:pt x="167" y="226"/>
                  </a:lnTo>
                  <a:lnTo>
                    <a:pt x="180" y="204"/>
                  </a:lnTo>
                  <a:lnTo>
                    <a:pt x="224" y="177"/>
                  </a:lnTo>
                  <a:lnTo>
                    <a:pt x="255" y="154"/>
                  </a:lnTo>
                  <a:lnTo>
                    <a:pt x="272" y="154"/>
                  </a:lnTo>
                  <a:lnTo>
                    <a:pt x="302" y="177"/>
                  </a:lnTo>
                  <a:lnTo>
                    <a:pt x="346" y="204"/>
                  </a:lnTo>
                  <a:lnTo>
                    <a:pt x="377" y="226"/>
                  </a:lnTo>
                  <a:lnTo>
                    <a:pt x="390" y="226"/>
                  </a:lnTo>
                  <a:lnTo>
                    <a:pt x="435" y="226"/>
                  </a:lnTo>
                  <a:lnTo>
                    <a:pt x="483" y="204"/>
                  </a:lnTo>
                  <a:lnTo>
                    <a:pt x="496" y="154"/>
                  </a:lnTo>
                  <a:lnTo>
                    <a:pt x="540" y="49"/>
                  </a:lnTo>
                  <a:lnTo>
                    <a:pt x="557" y="27"/>
                  </a:lnTo>
                  <a:lnTo>
                    <a:pt x="557" y="0"/>
                  </a:lnTo>
                  <a:lnTo>
                    <a:pt x="540" y="27"/>
                  </a:lnTo>
                  <a:lnTo>
                    <a:pt x="513" y="49"/>
                  </a:lnTo>
                  <a:lnTo>
                    <a:pt x="483" y="127"/>
                  </a:lnTo>
                  <a:lnTo>
                    <a:pt x="452" y="177"/>
                  </a:lnTo>
                  <a:lnTo>
                    <a:pt x="435" y="177"/>
                  </a:lnTo>
                  <a:lnTo>
                    <a:pt x="422" y="177"/>
                  </a:lnTo>
                  <a:lnTo>
                    <a:pt x="422" y="127"/>
                  </a:lnTo>
                  <a:lnTo>
                    <a:pt x="422" y="49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7520" y="4038480"/>
              <a:ext cx="187560" cy="170280"/>
            </a:xfrm>
            <a:custGeom>
              <a:avLst/>
              <a:gdLst/>
              <a:ahLst/>
              <a:rect l="0" t="0" r="r" b="b"/>
              <a:pathLst>
                <a:path w="521" h="473">
                  <a:moveTo>
                    <a:pt x="435" y="447"/>
                  </a:moveTo>
                  <a:lnTo>
                    <a:pt x="422" y="315"/>
                  </a:lnTo>
                  <a:lnTo>
                    <a:pt x="422" y="198"/>
                  </a:lnTo>
                  <a:lnTo>
                    <a:pt x="422" y="144"/>
                  </a:lnTo>
                  <a:lnTo>
                    <a:pt x="393" y="90"/>
                  </a:lnTo>
                  <a:lnTo>
                    <a:pt x="364" y="40"/>
                  </a:lnTo>
                  <a:lnTo>
                    <a:pt x="310" y="0"/>
                  </a:lnTo>
                  <a:lnTo>
                    <a:pt x="323" y="90"/>
                  </a:lnTo>
                  <a:lnTo>
                    <a:pt x="352" y="131"/>
                  </a:lnTo>
                  <a:lnTo>
                    <a:pt x="380" y="185"/>
                  </a:lnTo>
                  <a:lnTo>
                    <a:pt x="265" y="248"/>
                  </a:lnTo>
                  <a:lnTo>
                    <a:pt x="153" y="288"/>
                  </a:lnTo>
                  <a:lnTo>
                    <a:pt x="124" y="275"/>
                  </a:lnTo>
                  <a:lnTo>
                    <a:pt x="98" y="262"/>
                  </a:lnTo>
                  <a:lnTo>
                    <a:pt x="70" y="238"/>
                  </a:lnTo>
                  <a:lnTo>
                    <a:pt x="28" y="198"/>
                  </a:lnTo>
                  <a:lnTo>
                    <a:pt x="12" y="158"/>
                  </a:lnTo>
                  <a:lnTo>
                    <a:pt x="0" y="144"/>
                  </a:lnTo>
                  <a:lnTo>
                    <a:pt x="0" y="198"/>
                  </a:lnTo>
                  <a:lnTo>
                    <a:pt x="12" y="225"/>
                  </a:lnTo>
                  <a:lnTo>
                    <a:pt x="54" y="275"/>
                  </a:lnTo>
                  <a:lnTo>
                    <a:pt x="124" y="288"/>
                  </a:lnTo>
                  <a:lnTo>
                    <a:pt x="210" y="302"/>
                  </a:lnTo>
                  <a:lnTo>
                    <a:pt x="239" y="315"/>
                  </a:lnTo>
                  <a:lnTo>
                    <a:pt x="252" y="328"/>
                  </a:lnTo>
                  <a:lnTo>
                    <a:pt x="281" y="356"/>
                  </a:lnTo>
                  <a:lnTo>
                    <a:pt x="294" y="383"/>
                  </a:lnTo>
                  <a:lnTo>
                    <a:pt x="310" y="406"/>
                  </a:lnTo>
                  <a:lnTo>
                    <a:pt x="336" y="420"/>
                  </a:lnTo>
                  <a:lnTo>
                    <a:pt x="380" y="383"/>
                  </a:lnTo>
                  <a:lnTo>
                    <a:pt x="393" y="356"/>
                  </a:lnTo>
                  <a:lnTo>
                    <a:pt x="406" y="315"/>
                  </a:lnTo>
                  <a:lnTo>
                    <a:pt x="422" y="262"/>
                  </a:lnTo>
                  <a:lnTo>
                    <a:pt x="406" y="238"/>
                  </a:lnTo>
                  <a:lnTo>
                    <a:pt x="406" y="238"/>
                  </a:lnTo>
                  <a:lnTo>
                    <a:pt x="393" y="248"/>
                  </a:lnTo>
                  <a:lnTo>
                    <a:pt x="364" y="275"/>
                  </a:lnTo>
                  <a:lnTo>
                    <a:pt x="352" y="315"/>
                  </a:lnTo>
                  <a:lnTo>
                    <a:pt x="406" y="383"/>
                  </a:lnTo>
                  <a:lnTo>
                    <a:pt x="435" y="396"/>
                  </a:lnTo>
                  <a:lnTo>
                    <a:pt x="463" y="406"/>
                  </a:lnTo>
                  <a:lnTo>
                    <a:pt x="476" y="420"/>
                  </a:lnTo>
                  <a:lnTo>
                    <a:pt x="505" y="433"/>
                  </a:lnTo>
                  <a:lnTo>
                    <a:pt x="521" y="433"/>
                  </a:lnTo>
                  <a:lnTo>
                    <a:pt x="521" y="447"/>
                  </a:lnTo>
                  <a:lnTo>
                    <a:pt x="492" y="460"/>
                  </a:lnTo>
                  <a:lnTo>
                    <a:pt x="463" y="460"/>
                  </a:lnTo>
                  <a:lnTo>
                    <a:pt x="393" y="460"/>
                  </a:lnTo>
                  <a:lnTo>
                    <a:pt x="393" y="473"/>
                  </a:lnTo>
                  <a:lnTo>
                    <a:pt x="380" y="473"/>
                  </a:lnTo>
                  <a:lnTo>
                    <a:pt x="364" y="473"/>
                  </a:lnTo>
                  <a:lnTo>
                    <a:pt x="364" y="473"/>
                  </a:lnTo>
                  <a:lnTo>
                    <a:pt x="406" y="460"/>
                  </a:lnTo>
                  <a:lnTo>
                    <a:pt x="435" y="44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5720" y="4881600"/>
              <a:ext cx="89280" cy="236880"/>
            </a:xfrm>
            <a:custGeom>
              <a:avLst/>
              <a:gdLst/>
              <a:ahLst/>
              <a:rect l="0" t="0" r="r" b="b"/>
              <a:pathLst>
                <a:path w="248" h="658">
                  <a:moveTo>
                    <a:pt x="124" y="16"/>
                  </a:moveTo>
                  <a:lnTo>
                    <a:pt x="111" y="83"/>
                  </a:lnTo>
                  <a:lnTo>
                    <a:pt x="82" y="137"/>
                  </a:lnTo>
                  <a:lnTo>
                    <a:pt x="42" y="291"/>
                  </a:lnTo>
                  <a:lnTo>
                    <a:pt x="0" y="450"/>
                  </a:lnTo>
                  <a:lnTo>
                    <a:pt x="12" y="500"/>
                  </a:lnTo>
                  <a:lnTo>
                    <a:pt x="42" y="537"/>
                  </a:lnTo>
                  <a:lnTo>
                    <a:pt x="69" y="570"/>
                  </a:lnTo>
                  <a:lnTo>
                    <a:pt x="111" y="604"/>
                  </a:lnTo>
                  <a:lnTo>
                    <a:pt x="153" y="624"/>
                  </a:lnTo>
                  <a:lnTo>
                    <a:pt x="179" y="624"/>
                  </a:lnTo>
                  <a:lnTo>
                    <a:pt x="179" y="641"/>
                  </a:lnTo>
                  <a:lnTo>
                    <a:pt x="179" y="658"/>
                  </a:lnTo>
                  <a:lnTo>
                    <a:pt x="153" y="658"/>
                  </a:lnTo>
                  <a:lnTo>
                    <a:pt x="111" y="641"/>
                  </a:lnTo>
                  <a:lnTo>
                    <a:pt x="111" y="483"/>
                  </a:lnTo>
                  <a:lnTo>
                    <a:pt x="98" y="466"/>
                  </a:lnTo>
                  <a:lnTo>
                    <a:pt x="98" y="450"/>
                  </a:lnTo>
                  <a:lnTo>
                    <a:pt x="124" y="433"/>
                  </a:lnTo>
                  <a:lnTo>
                    <a:pt x="166" y="396"/>
                  </a:lnTo>
                  <a:lnTo>
                    <a:pt x="209" y="379"/>
                  </a:lnTo>
                  <a:lnTo>
                    <a:pt x="235" y="379"/>
                  </a:lnTo>
                  <a:lnTo>
                    <a:pt x="248" y="346"/>
                  </a:lnTo>
                  <a:lnTo>
                    <a:pt x="248" y="311"/>
                  </a:lnTo>
                  <a:lnTo>
                    <a:pt x="235" y="291"/>
                  </a:lnTo>
                  <a:lnTo>
                    <a:pt x="193" y="274"/>
                  </a:lnTo>
                  <a:lnTo>
                    <a:pt x="166" y="291"/>
                  </a:lnTo>
                  <a:lnTo>
                    <a:pt x="153" y="328"/>
                  </a:lnTo>
                  <a:lnTo>
                    <a:pt x="124" y="379"/>
                  </a:lnTo>
                  <a:lnTo>
                    <a:pt x="82" y="328"/>
                  </a:lnTo>
                  <a:lnTo>
                    <a:pt x="69" y="311"/>
                  </a:lnTo>
                  <a:lnTo>
                    <a:pt x="98" y="274"/>
                  </a:lnTo>
                  <a:lnTo>
                    <a:pt x="137" y="241"/>
                  </a:lnTo>
                  <a:lnTo>
                    <a:pt x="153" y="224"/>
                  </a:lnTo>
                  <a:lnTo>
                    <a:pt x="166" y="207"/>
                  </a:lnTo>
                  <a:lnTo>
                    <a:pt x="222" y="0"/>
                  </a:lnTo>
                  <a:lnTo>
                    <a:pt x="209" y="33"/>
                  </a:lnTo>
                  <a:lnTo>
                    <a:pt x="166" y="67"/>
                  </a:lnTo>
                  <a:lnTo>
                    <a:pt x="137" y="67"/>
                  </a:lnTo>
                  <a:lnTo>
                    <a:pt x="124" y="50"/>
                  </a:lnTo>
                  <a:lnTo>
                    <a:pt x="124" y="1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3400" y="5148360"/>
              <a:ext cx="70200" cy="173520"/>
            </a:xfrm>
            <a:custGeom>
              <a:avLst/>
              <a:gdLst/>
              <a:ahLst/>
              <a:rect l="0" t="0" r="r" b="b"/>
              <a:pathLst>
                <a:path w="195" h="482">
                  <a:moveTo>
                    <a:pt x="98" y="71"/>
                  </a:moveTo>
                  <a:lnTo>
                    <a:pt x="69" y="125"/>
                  </a:lnTo>
                  <a:lnTo>
                    <a:pt x="54" y="161"/>
                  </a:lnTo>
                  <a:lnTo>
                    <a:pt x="42" y="197"/>
                  </a:lnTo>
                  <a:lnTo>
                    <a:pt x="27" y="249"/>
                  </a:lnTo>
                  <a:lnTo>
                    <a:pt x="15" y="285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27" y="374"/>
                  </a:lnTo>
                  <a:lnTo>
                    <a:pt x="54" y="430"/>
                  </a:lnTo>
                  <a:lnTo>
                    <a:pt x="140" y="482"/>
                  </a:lnTo>
                  <a:lnTo>
                    <a:pt x="113" y="446"/>
                  </a:lnTo>
                  <a:lnTo>
                    <a:pt x="98" y="410"/>
                  </a:lnTo>
                  <a:lnTo>
                    <a:pt x="98" y="394"/>
                  </a:lnTo>
                  <a:lnTo>
                    <a:pt x="125" y="337"/>
                  </a:lnTo>
                  <a:lnTo>
                    <a:pt x="98" y="321"/>
                  </a:lnTo>
                  <a:lnTo>
                    <a:pt x="98" y="285"/>
                  </a:lnTo>
                  <a:lnTo>
                    <a:pt x="113" y="269"/>
                  </a:lnTo>
                  <a:lnTo>
                    <a:pt x="140" y="249"/>
                  </a:lnTo>
                  <a:lnTo>
                    <a:pt x="167" y="213"/>
                  </a:lnTo>
                  <a:lnTo>
                    <a:pt x="195" y="177"/>
                  </a:lnTo>
                  <a:lnTo>
                    <a:pt x="195" y="161"/>
                  </a:lnTo>
                  <a:lnTo>
                    <a:pt x="195" y="125"/>
                  </a:lnTo>
                  <a:lnTo>
                    <a:pt x="182" y="71"/>
                  </a:lnTo>
                  <a:lnTo>
                    <a:pt x="140" y="19"/>
                  </a:lnTo>
                  <a:lnTo>
                    <a:pt x="113" y="0"/>
                  </a:lnTo>
                  <a:lnTo>
                    <a:pt x="113" y="19"/>
                  </a:lnTo>
                  <a:lnTo>
                    <a:pt x="98" y="35"/>
                  </a:lnTo>
                  <a:lnTo>
                    <a:pt x="98" y="71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10200" y="4537080"/>
              <a:ext cx="351360" cy="225720"/>
            </a:xfrm>
            <a:custGeom>
              <a:avLst/>
              <a:gdLst/>
              <a:ahLst/>
              <a:rect l="0" t="0" r="r" b="b"/>
              <a:pathLst>
                <a:path w="976" h="627">
                  <a:moveTo>
                    <a:pt x="561" y="145"/>
                  </a:moveTo>
                  <a:lnTo>
                    <a:pt x="534" y="286"/>
                  </a:lnTo>
                  <a:lnTo>
                    <a:pt x="503" y="359"/>
                  </a:lnTo>
                  <a:lnTo>
                    <a:pt x="457" y="413"/>
                  </a:lnTo>
                  <a:lnTo>
                    <a:pt x="399" y="394"/>
                  </a:lnTo>
                  <a:lnTo>
                    <a:pt x="371" y="375"/>
                  </a:lnTo>
                  <a:lnTo>
                    <a:pt x="325" y="375"/>
                  </a:lnTo>
                  <a:lnTo>
                    <a:pt x="267" y="394"/>
                  </a:lnTo>
                  <a:lnTo>
                    <a:pt x="208" y="447"/>
                  </a:lnTo>
                  <a:lnTo>
                    <a:pt x="134" y="466"/>
                  </a:lnTo>
                  <a:lnTo>
                    <a:pt x="0" y="539"/>
                  </a:lnTo>
                  <a:lnTo>
                    <a:pt x="0" y="573"/>
                  </a:lnTo>
                  <a:lnTo>
                    <a:pt x="15" y="608"/>
                  </a:lnTo>
                  <a:lnTo>
                    <a:pt x="73" y="627"/>
                  </a:lnTo>
                  <a:lnTo>
                    <a:pt x="147" y="608"/>
                  </a:lnTo>
                  <a:lnTo>
                    <a:pt x="208" y="592"/>
                  </a:lnTo>
                  <a:lnTo>
                    <a:pt x="356" y="539"/>
                  </a:lnTo>
                  <a:lnTo>
                    <a:pt x="488" y="466"/>
                  </a:lnTo>
                  <a:lnTo>
                    <a:pt x="534" y="466"/>
                  </a:lnTo>
                  <a:lnTo>
                    <a:pt x="577" y="485"/>
                  </a:lnTo>
                  <a:lnTo>
                    <a:pt x="620" y="501"/>
                  </a:lnTo>
                  <a:lnTo>
                    <a:pt x="650" y="539"/>
                  </a:lnTo>
                  <a:lnTo>
                    <a:pt x="708" y="573"/>
                  </a:lnTo>
                  <a:lnTo>
                    <a:pt x="724" y="539"/>
                  </a:lnTo>
                  <a:lnTo>
                    <a:pt x="740" y="520"/>
                  </a:lnTo>
                  <a:lnTo>
                    <a:pt x="771" y="520"/>
                  </a:lnTo>
                  <a:lnTo>
                    <a:pt x="814" y="520"/>
                  </a:lnTo>
                  <a:lnTo>
                    <a:pt x="844" y="520"/>
                  </a:lnTo>
                  <a:lnTo>
                    <a:pt x="872" y="485"/>
                  </a:lnTo>
                  <a:lnTo>
                    <a:pt x="902" y="413"/>
                  </a:lnTo>
                  <a:lnTo>
                    <a:pt x="933" y="321"/>
                  </a:lnTo>
                  <a:lnTo>
                    <a:pt x="961" y="232"/>
                  </a:lnTo>
                  <a:lnTo>
                    <a:pt x="976" y="198"/>
                  </a:lnTo>
                  <a:lnTo>
                    <a:pt x="976" y="179"/>
                  </a:lnTo>
                  <a:lnTo>
                    <a:pt x="933" y="160"/>
                  </a:lnTo>
                  <a:lnTo>
                    <a:pt x="872" y="145"/>
                  </a:lnTo>
                  <a:lnTo>
                    <a:pt x="814" y="126"/>
                  </a:lnTo>
                  <a:lnTo>
                    <a:pt x="783" y="126"/>
                  </a:lnTo>
                  <a:lnTo>
                    <a:pt x="755" y="106"/>
                  </a:lnTo>
                  <a:lnTo>
                    <a:pt x="708" y="91"/>
                  </a:lnTo>
                  <a:lnTo>
                    <a:pt x="708" y="53"/>
                  </a:lnTo>
                  <a:lnTo>
                    <a:pt x="696" y="19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38"/>
                  </a:lnTo>
                  <a:lnTo>
                    <a:pt x="518" y="53"/>
                  </a:lnTo>
                  <a:lnTo>
                    <a:pt x="561" y="145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29000" y="4267080"/>
            <a:ext cx="508320" cy="1283040"/>
            <a:chOff x="3429000" y="4267080"/>
            <a:chExt cx="508320" cy="1283040"/>
          </a:xfrm>
        </p:grpSpPr>
        <p:sp>
          <p:nvSpPr>
            <p:cNvPr id="317" name=""/>
            <p:cNvSpPr/>
            <p:nvPr/>
          </p:nvSpPr>
          <p:spPr>
            <a:xfrm>
              <a:off x="348768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70120" y="4338720"/>
              <a:ext cx="93960" cy="125640"/>
            </a:xfrm>
            <a:custGeom>
              <a:avLst/>
              <a:gdLst/>
              <a:ahLst/>
              <a:rect l="0" t="0" r="r" b="b"/>
              <a:pathLst>
                <a:path w="261" h="349">
                  <a:moveTo>
                    <a:pt x="208" y="208"/>
                  </a:moveTo>
                  <a:lnTo>
                    <a:pt x="208" y="145"/>
                  </a:lnTo>
                  <a:lnTo>
                    <a:pt x="177" y="79"/>
                  </a:lnTo>
                  <a:lnTo>
                    <a:pt x="123" y="39"/>
                  </a:lnTo>
                  <a:lnTo>
                    <a:pt x="70" y="0"/>
                  </a:lnTo>
                  <a:lnTo>
                    <a:pt x="39" y="26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92"/>
                  </a:lnTo>
                  <a:lnTo>
                    <a:pt x="79" y="132"/>
                  </a:lnTo>
                  <a:lnTo>
                    <a:pt x="137" y="181"/>
                  </a:lnTo>
                  <a:lnTo>
                    <a:pt x="150" y="247"/>
                  </a:lnTo>
                  <a:lnTo>
                    <a:pt x="150" y="269"/>
                  </a:lnTo>
                  <a:lnTo>
                    <a:pt x="164" y="296"/>
                  </a:lnTo>
                  <a:lnTo>
                    <a:pt x="177" y="322"/>
                  </a:lnTo>
                  <a:lnTo>
                    <a:pt x="208" y="336"/>
                  </a:lnTo>
                  <a:lnTo>
                    <a:pt x="221" y="349"/>
                  </a:lnTo>
                  <a:lnTo>
                    <a:pt x="234" y="349"/>
                  </a:lnTo>
                  <a:lnTo>
                    <a:pt x="261" y="322"/>
                  </a:lnTo>
                  <a:lnTo>
                    <a:pt x="261" y="296"/>
                  </a:lnTo>
                  <a:lnTo>
                    <a:pt x="247" y="283"/>
                  </a:lnTo>
                  <a:lnTo>
                    <a:pt x="234" y="234"/>
                  </a:lnTo>
                  <a:lnTo>
                    <a:pt x="221" y="221"/>
                  </a:lnTo>
                  <a:lnTo>
                    <a:pt x="208" y="221"/>
                  </a:lnTo>
                  <a:lnTo>
                    <a:pt x="208" y="20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24280" y="4468680"/>
              <a:ext cx="113040" cy="182880"/>
            </a:xfrm>
            <a:custGeom>
              <a:avLst/>
              <a:gdLst/>
              <a:ahLst/>
              <a:rect l="0" t="0" r="r" b="b"/>
              <a:pathLst>
                <a:path w="314" h="508">
                  <a:moveTo>
                    <a:pt x="74" y="397"/>
                  </a:moveTo>
                  <a:lnTo>
                    <a:pt x="136" y="305"/>
                  </a:lnTo>
                  <a:lnTo>
                    <a:pt x="199" y="194"/>
                  </a:lnTo>
                  <a:lnTo>
                    <a:pt x="199" y="136"/>
                  </a:lnTo>
                  <a:lnTo>
                    <a:pt x="199" y="79"/>
                  </a:lnTo>
                  <a:lnTo>
                    <a:pt x="177" y="39"/>
                  </a:lnTo>
                  <a:lnTo>
                    <a:pt x="136" y="0"/>
                  </a:lnTo>
                  <a:lnTo>
                    <a:pt x="123" y="26"/>
                  </a:lnTo>
                  <a:lnTo>
                    <a:pt x="97" y="39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149" y="110"/>
                  </a:lnTo>
                  <a:lnTo>
                    <a:pt x="212" y="136"/>
                  </a:lnTo>
                  <a:lnTo>
                    <a:pt x="186" y="149"/>
                  </a:lnTo>
                  <a:lnTo>
                    <a:pt x="177" y="149"/>
                  </a:lnTo>
                  <a:lnTo>
                    <a:pt x="149" y="149"/>
                  </a:lnTo>
                  <a:lnTo>
                    <a:pt x="136" y="149"/>
                  </a:lnTo>
                  <a:lnTo>
                    <a:pt x="114" y="167"/>
                  </a:lnTo>
                  <a:lnTo>
                    <a:pt x="61" y="180"/>
                  </a:lnTo>
                  <a:lnTo>
                    <a:pt x="48" y="194"/>
                  </a:lnTo>
                  <a:lnTo>
                    <a:pt x="35" y="194"/>
                  </a:lnTo>
                  <a:lnTo>
                    <a:pt x="13" y="246"/>
                  </a:lnTo>
                  <a:lnTo>
                    <a:pt x="0" y="305"/>
                  </a:lnTo>
                  <a:lnTo>
                    <a:pt x="13" y="344"/>
                  </a:lnTo>
                  <a:lnTo>
                    <a:pt x="35" y="371"/>
                  </a:lnTo>
                  <a:lnTo>
                    <a:pt x="114" y="415"/>
                  </a:lnTo>
                  <a:lnTo>
                    <a:pt x="199" y="441"/>
                  </a:lnTo>
                  <a:lnTo>
                    <a:pt x="225" y="468"/>
                  </a:lnTo>
                  <a:lnTo>
                    <a:pt x="265" y="494"/>
                  </a:lnTo>
                  <a:lnTo>
                    <a:pt x="287" y="508"/>
                  </a:lnTo>
                  <a:lnTo>
                    <a:pt x="300" y="494"/>
                  </a:lnTo>
                  <a:lnTo>
                    <a:pt x="314" y="468"/>
                  </a:lnTo>
                  <a:lnTo>
                    <a:pt x="265" y="441"/>
                  </a:lnTo>
                  <a:lnTo>
                    <a:pt x="225" y="441"/>
                  </a:lnTo>
                  <a:lnTo>
                    <a:pt x="186" y="428"/>
                  </a:lnTo>
                  <a:lnTo>
                    <a:pt x="136" y="397"/>
                  </a:lnTo>
                  <a:lnTo>
                    <a:pt x="114" y="371"/>
                  </a:lnTo>
                  <a:lnTo>
                    <a:pt x="114" y="358"/>
                  </a:lnTo>
                  <a:lnTo>
                    <a:pt x="97" y="371"/>
                  </a:lnTo>
                  <a:lnTo>
                    <a:pt x="74" y="3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08360" y="4853160"/>
              <a:ext cx="174960" cy="47880"/>
            </a:xfrm>
            <a:custGeom>
              <a:avLst/>
              <a:gdLst/>
              <a:ahLst/>
              <a:rect l="0" t="0" r="r" b="b"/>
              <a:pathLst>
                <a:path w="486" h="133">
                  <a:moveTo>
                    <a:pt x="119" y="30"/>
                  </a:moveTo>
                  <a:lnTo>
                    <a:pt x="158" y="57"/>
                  </a:lnTo>
                  <a:lnTo>
                    <a:pt x="185" y="75"/>
                  </a:lnTo>
                  <a:lnTo>
                    <a:pt x="211" y="44"/>
                  </a:lnTo>
                  <a:lnTo>
                    <a:pt x="247" y="17"/>
                  </a:lnTo>
                  <a:lnTo>
                    <a:pt x="367" y="44"/>
                  </a:lnTo>
                  <a:lnTo>
                    <a:pt x="486" y="93"/>
                  </a:lnTo>
                  <a:lnTo>
                    <a:pt x="477" y="133"/>
                  </a:lnTo>
                  <a:lnTo>
                    <a:pt x="433" y="133"/>
                  </a:lnTo>
                  <a:lnTo>
                    <a:pt x="340" y="133"/>
                  </a:lnTo>
                  <a:lnTo>
                    <a:pt x="331" y="120"/>
                  </a:lnTo>
                  <a:lnTo>
                    <a:pt x="292" y="102"/>
                  </a:lnTo>
                  <a:lnTo>
                    <a:pt x="265" y="93"/>
                  </a:lnTo>
                  <a:lnTo>
                    <a:pt x="247" y="93"/>
                  </a:lnTo>
                  <a:lnTo>
                    <a:pt x="220" y="102"/>
                  </a:lnTo>
                  <a:lnTo>
                    <a:pt x="185" y="120"/>
                  </a:lnTo>
                  <a:lnTo>
                    <a:pt x="158" y="133"/>
                  </a:lnTo>
                  <a:lnTo>
                    <a:pt x="145" y="133"/>
                  </a:lnTo>
                  <a:lnTo>
                    <a:pt x="105" y="133"/>
                  </a:lnTo>
                  <a:lnTo>
                    <a:pt x="66" y="120"/>
                  </a:lnTo>
                  <a:lnTo>
                    <a:pt x="52" y="93"/>
                  </a:lnTo>
                  <a:lnTo>
                    <a:pt x="13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3" y="17"/>
                  </a:lnTo>
                  <a:lnTo>
                    <a:pt x="39" y="30"/>
                  </a:lnTo>
                  <a:lnTo>
                    <a:pt x="66" y="75"/>
                  </a:lnTo>
                  <a:lnTo>
                    <a:pt x="92" y="102"/>
                  </a:lnTo>
                  <a:lnTo>
                    <a:pt x="105" y="102"/>
                  </a:lnTo>
                  <a:lnTo>
                    <a:pt x="119" y="102"/>
                  </a:lnTo>
                  <a:lnTo>
                    <a:pt x="119" y="75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08360" y="4268880"/>
              <a:ext cx="173520" cy="165600"/>
            </a:xfrm>
            <a:custGeom>
              <a:avLst/>
              <a:gdLst/>
              <a:ahLst/>
              <a:rect l="0" t="0" r="r" b="b"/>
              <a:pathLst>
                <a:path w="482" h="460">
                  <a:moveTo>
                    <a:pt x="79" y="434"/>
                  </a:moveTo>
                  <a:lnTo>
                    <a:pt x="92" y="305"/>
                  </a:lnTo>
                  <a:lnTo>
                    <a:pt x="92" y="190"/>
                  </a:lnTo>
                  <a:lnTo>
                    <a:pt x="92" y="137"/>
                  </a:lnTo>
                  <a:lnTo>
                    <a:pt x="119" y="88"/>
                  </a:lnTo>
                  <a:lnTo>
                    <a:pt x="146" y="35"/>
                  </a:lnTo>
                  <a:lnTo>
                    <a:pt x="195" y="0"/>
                  </a:lnTo>
                  <a:lnTo>
                    <a:pt x="186" y="88"/>
                  </a:lnTo>
                  <a:lnTo>
                    <a:pt x="159" y="124"/>
                  </a:lnTo>
                  <a:lnTo>
                    <a:pt x="133" y="177"/>
                  </a:lnTo>
                  <a:lnTo>
                    <a:pt x="239" y="239"/>
                  </a:lnTo>
                  <a:lnTo>
                    <a:pt x="340" y="278"/>
                  </a:lnTo>
                  <a:lnTo>
                    <a:pt x="368" y="265"/>
                  </a:lnTo>
                  <a:lnTo>
                    <a:pt x="394" y="252"/>
                  </a:lnTo>
                  <a:lnTo>
                    <a:pt x="420" y="230"/>
                  </a:lnTo>
                  <a:lnTo>
                    <a:pt x="456" y="190"/>
                  </a:lnTo>
                  <a:lnTo>
                    <a:pt x="473" y="150"/>
                  </a:lnTo>
                  <a:lnTo>
                    <a:pt x="482" y="137"/>
                  </a:lnTo>
                  <a:lnTo>
                    <a:pt x="482" y="190"/>
                  </a:lnTo>
                  <a:lnTo>
                    <a:pt x="473" y="217"/>
                  </a:lnTo>
                  <a:lnTo>
                    <a:pt x="434" y="265"/>
                  </a:lnTo>
                  <a:lnTo>
                    <a:pt x="368" y="278"/>
                  </a:lnTo>
                  <a:lnTo>
                    <a:pt x="287" y="292"/>
                  </a:lnTo>
                  <a:lnTo>
                    <a:pt x="261" y="305"/>
                  </a:lnTo>
                  <a:lnTo>
                    <a:pt x="247" y="318"/>
                  </a:lnTo>
                  <a:lnTo>
                    <a:pt x="221" y="344"/>
                  </a:lnTo>
                  <a:lnTo>
                    <a:pt x="212" y="372"/>
                  </a:lnTo>
                  <a:lnTo>
                    <a:pt x="195" y="394"/>
                  </a:lnTo>
                  <a:lnTo>
                    <a:pt x="172" y="407"/>
                  </a:lnTo>
                  <a:lnTo>
                    <a:pt x="133" y="372"/>
                  </a:lnTo>
                  <a:lnTo>
                    <a:pt x="119" y="344"/>
                  </a:lnTo>
                  <a:lnTo>
                    <a:pt x="105" y="305"/>
                  </a:lnTo>
                  <a:lnTo>
                    <a:pt x="92" y="252"/>
                  </a:lnTo>
                  <a:lnTo>
                    <a:pt x="105" y="230"/>
                  </a:lnTo>
                  <a:lnTo>
                    <a:pt x="105" y="230"/>
                  </a:lnTo>
                  <a:lnTo>
                    <a:pt x="119" y="239"/>
                  </a:lnTo>
                  <a:lnTo>
                    <a:pt x="146" y="265"/>
                  </a:lnTo>
                  <a:lnTo>
                    <a:pt x="159" y="305"/>
                  </a:lnTo>
                  <a:lnTo>
                    <a:pt x="105" y="372"/>
                  </a:lnTo>
                  <a:lnTo>
                    <a:pt x="79" y="385"/>
                  </a:lnTo>
                  <a:lnTo>
                    <a:pt x="52" y="394"/>
                  </a:lnTo>
                  <a:lnTo>
                    <a:pt x="39" y="407"/>
                  </a:lnTo>
                  <a:lnTo>
                    <a:pt x="13" y="420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26" y="447"/>
                  </a:lnTo>
                  <a:lnTo>
                    <a:pt x="52" y="447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33" y="460"/>
                  </a:lnTo>
                  <a:lnTo>
                    <a:pt x="146" y="460"/>
                  </a:lnTo>
                  <a:lnTo>
                    <a:pt x="146" y="460"/>
                  </a:lnTo>
                  <a:lnTo>
                    <a:pt x="105" y="447"/>
                  </a:lnTo>
                  <a:lnTo>
                    <a:pt x="79" y="43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13120" y="5113440"/>
              <a:ext cx="81360" cy="228960"/>
            </a:xfrm>
            <a:custGeom>
              <a:avLst/>
              <a:gdLst/>
              <a:ahLst/>
              <a:rect l="0" t="0" r="r" b="b"/>
              <a:pathLst>
                <a:path w="226" h="636">
                  <a:moveTo>
                    <a:pt x="115" y="17"/>
                  </a:moveTo>
                  <a:lnTo>
                    <a:pt x="124" y="79"/>
                  </a:lnTo>
                  <a:lnTo>
                    <a:pt x="150" y="132"/>
                  </a:lnTo>
                  <a:lnTo>
                    <a:pt x="187" y="282"/>
                  </a:lnTo>
                  <a:lnTo>
                    <a:pt x="226" y="433"/>
                  </a:lnTo>
                  <a:lnTo>
                    <a:pt x="213" y="481"/>
                  </a:lnTo>
                  <a:lnTo>
                    <a:pt x="187" y="521"/>
                  </a:lnTo>
                  <a:lnTo>
                    <a:pt x="164" y="552"/>
                  </a:lnTo>
                  <a:lnTo>
                    <a:pt x="124" y="583"/>
                  </a:lnTo>
                  <a:lnTo>
                    <a:pt x="89" y="605"/>
                  </a:lnTo>
                  <a:lnTo>
                    <a:pt x="62" y="605"/>
                  </a:lnTo>
                  <a:lnTo>
                    <a:pt x="62" y="618"/>
                  </a:lnTo>
                  <a:lnTo>
                    <a:pt x="62" y="636"/>
                  </a:lnTo>
                  <a:lnTo>
                    <a:pt x="89" y="636"/>
                  </a:lnTo>
                  <a:lnTo>
                    <a:pt x="124" y="618"/>
                  </a:lnTo>
                  <a:lnTo>
                    <a:pt x="124" y="468"/>
                  </a:lnTo>
                  <a:lnTo>
                    <a:pt x="137" y="450"/>
                  </a:lnTo>
                  <a:lnTo>
                    <a:pt x="137" y="433"/>
                  </a:lnTo>
                  <a:lnTo>
                    <a:pt x="115" y="419"/>
                  </a:lnTo>
                  <a:lnTo>
                    <a:pt x="75" y="384"/>
                  </a:lnTo>
                  <a:lnTo>
                    <a:pt x="35" y="367"/>
                  </a:lnTo>
                  <a:lnTo>
                    <a:pt x="13" y="367"/>
                  </a:lnTo>
                  <a:lnTo>
                    <a:pt x="0" y="336"/>
                  </a:lnTo>
                  <a:lnTo>
                    <a:pt x="0" y="299"/>
                  </a:lnTo>
                  <a:lnTo>
                    <a:pt x="13" y="282"/>
                  </a:lnTo>
                  <a:lnTo>
                    <a:pt x="52" y="264"/>
                  </a:lnTo>
                  <a:lnTo>
                    <a:pt x="75" y="282"/>
                  </a:lnTo>
                  <a:lnTo>
                    <a:pt x="89" y="317"/>
                  </a:lnTo>
                  <a:lnTo>
                    <a:pt x="115" y="367"/>
                  </a:lnTo>
                  <a:lnTo>
                    <a:pt x="150" y="317"/>
                  </a:lnTo>
                  <a:lnTo>
                    <a:pt x="164" y="299"/>
                  </a:lnTo>
                  <a:lnTo>
                    <a:pt x="137" y="264"/>
                  </a:lnTo>
                  <a:lnTo>
                    <a:pt x="102" y="233"/>
                  </a:lnTo>
                  <a:lnTo>
                    <a:pt x="89" y="216"/>
                  </a:lnTo>
                  <a:lnTo>
                    <a:pt x="75" y="202"/>
                  </a:lnTo>
                  <a:lnTo>
                    <a:pt x="26" y="0"/>
                  </a:lnTo>
                  <a:lnTo>
                    <a:pt x="35" y="30"/>
                  </a:lnTo>
                  <a:lnTo>
                    <a:pt x="75" y="66"/>
                  </a:lnTo>
                  <a:lnTo>
                    <a:pt x="102" y="66"/>
                  </a:lnTo>
                  <a:lnTo>
                    <a:pt x="115" y="48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81280" y="53784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92" y="70"/>
                  </a:moveTo>
                  <a:lnTo>
                    <a:pt x="120" y="123"/>
                  </a:lnTo>
                  <a:lnTo>
                    <a:pt x="133" y="158"/>
                  </a:lnTo>
                  <a:lnTo>
                    <a:pt x="146" y="194"/>
                  </a:lnTo>
                  <a:lnTo>
                    <a:pt x="159" y="247"/>
                  </a:lnTo>
                  <a:lnTo>
                    <a:pt x="172" y="283"/>
                  </a:lnTo>
                  <a:lnTo>
                    <a:pt x="186" y="318"/>
                  </a:lnTo>
                  <a:lnTo>
                    <a:pt x="186" y="318"/>
                  </a:lnTo>
                  <a:lnTo>
                    <a:pt x="159" y="371"/>
                  </a:lnTo>
                  <a:lnTo>
                    <a:pt x="133" y="424"/>
                  </a:lnTo>
                  <a:lnTo>
                    <a:pt x="52" y="477"/>
                  </a:lnTo>
                  <a:lnTo>
                    <a:pt x="79" y="441"/>
                  </a:lnTo>
                  <a:lnTo>
                    <a:pt x="92" y="406"/>
                  </a:lnTo>
                  <a:lnTo>
                    <a:pt x="92" y="389"/>
                  </a:lnTo>
                  <a:lnTo>
                    <a:pt x="66" y="336"/>
                  </a:lnTo>
                  <a:lnTo>
                    <a:pt x="92" y="318"/>
                  </a:lnTo>
                  <a:lnTo>
                    <a:pt x="92" y="283"/>
                  </a:lnTo>
                  <a:lnTo>
                    <a:pt x="79" y="265"/>
                  </a:lnTo>
                  <a:lnTo>
                    <a:pt x="52" y="247"/>
                  </a:lnTo>
                  <a:lnTo>
                    <a:pt x="26" y="211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0" y="123"/>
                  </a:lnTo>
                  <a:lnTo>
                    <a:pt x="8" y="70"/>
                  </a:lnTo>
                  <a:lnTo>
                    <a:pt x="52" y="17"/>
                  </a:lnTo>
                  <a:lnTo>
                    <a:pt x="79" y="0"/>
                  </a:lnTo>
                  <a:lnTo>
                    <a:pt x="79" y="17"/>
                  </a:lnTo>
                  <a:lnTo>
                    <a:pt x="92" y="35"/>
                  </a:lnTo>
                  <a:lnTo>
                    <a:pt x="92" y="70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7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29000" y="4784760"/>
              <a:ext cx="340200" cy="192600"/>
            </a:xfrm>
            <a:custGeom>
              <a:avLst/>
              <a:gdLst/>
              <a:ahLst/>
              <a:rect l="0" t="0" r="r" b="b"/>
              <a:pathLst>
                <a:path w="945" h="535">
                  <a:moveTo>
                    <a:pt x="402" y="123"/>
                  </a:moveTo>
                  <a:lnTo>
                    <a:pt x="428" y="243"/>
                  </a:lnTo>
                  <a:lnTo>
                    <a:pt x="459" y="305"/>
                  </a:lnTo>
                  <a:lnTo>
                    <a:pt x="503" y="353"/>
                  </a:lnTo>
                  <a:lnTo>
                    <a:pt x="556" y="336"/>
                  </a:lnTo>
                  <a:lnTo>
                    <a:pt x="587" y="318"/>
                  </a:lnTo>
                  <a:lnTo>
                    <a:pt x="631" y="318"/>
                  </a:lnTo>
                  <a:lnTo>
                    <a:pt x="684" y="336"/>
                  </a:lnTo>
                  <a:lnTo>
                    <a:pt x="742" y="380"/>
                  </a:lnTo>
                  <a:lnTo>
                    <a:pt x="813" y="397"/>
                  </a:lnTo>
                  <a:lnTo>
                    <a:pt x="945" y="460"/>
                  </a:lnTo>
                  <a:lnTo>
                    <a:pt x="945" y="491"/>
                  </a:lnTo>
                  <a:lnTo>
                    <a:pt x="932" y="517"/>
                  </a:lnTo>
                  <a:lnTo>
                    <a:pt x="875" y="535"/>
                  </a:lnTo>
                  <a:lnTo>
                    <a:pt x="804" y="517"/>
                  </a:lnTo>
                  <a:lnTo>
                    <a:pt x="742" y="504"/>
                  </a:lnTo>
                  <a:lnTo>
                    <a:pt x="600" y="460"/>
                  </a:lnTo>
                  <a:lnTo>
                    <a:pt x="472" y="397"/>
                  </a:lnTo>
                  <a:lnTo>
                    <a:pt x="428" y="397"/>
                  </a:lnTo>
                  <a:lnTo>
                    <a:pt x="384" y="416"/>
                  </a:lnTo>
                  <a:lnTo>
                    <a:pt x="344" y="429"/>
                  </a:lnTo>
                  <a:lnTo>
                    <a:pt x="314" y="460"/>
                  </a:lnTo>
                  <a:lnTo>
                    <a:pt x="256" y="491"/>
                  </a:lnTo>
                  <a:lnTo>
                    <a:pt x="243" y="460"/>
                  </a:lnTo>
                  <a:lnTo>
                    <a:pt x="229" y="442"/>
                  </a:lnTo>
                  <a:lnTo>
                    <a:pt x="198" y="442"/>
                  </a:lnTo>
                  <a:lnTo>
                    <a:pt x="158" y="442"/>
                  </a:lnTo>
                  <a:lnTo>
                    <a:pt x="127" y="442"/>
                  </a:lnTo>
                  <a:lnTo>
                    <a:pt x="101" y="416"/>
                  </a:lnTo>
                  <a:lnTo>
                    <a:pt x="70" y="353"/>
                  </a:lnTo>
                  <a:lnTo>
                    <a:pt x="39" y="274"/>
                  </a:lnTo>
                  <a:lnTo>
                    <a:pt x="13" y="19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39" y="137"/>
                  </a:lnTo>
                  <a:lnTo>
                    <a:pt x="101" y="123"/>
                  </a:lnTo>
                  <a:lnTo>
                    <a:pt x="158" y="105"/>
                  </a:lnTo>
                  <a:lnTo>
                    <a:pt x="185" y="105"/>
                  </a:lnTo>
                  <a:lnTo>
                    <a:pt x="211" y="92"/>
                  </a:lnTo>
                  <a:lnTo>
                    <a:pt x="256" y="79"/>
                  </a:lnTo>
                  <a:lnTo>
                    <a:pt x="256" y="44"/>
                  </a:lnTo>
                  <a:lnTo>
                    <a:pt x="269" y="17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30"/>
                  </a:lnTo>
                  <a:lnTo>
                    <a:pt x="441" y="44"/>
                  </a:lnTo>
                  <a:lnTo>
                    <a:pt x="402" y="12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073400" y="5013360"/>
            <a:ext cx="995760" cy="473400"/>
          </a:xfrm>
          <a:custGeom>
            <a:avLst/>
            <a:gdLst/>
            <a:ahLst/>
            <a:rect l="0" t="0" r="r" b="b"/>
            <a:pathLst>
              <a:path w="2766" h="1315">
                <a:moveTo>
                  <a:pt x="1487" y="856"/>
                </a:moveTo>
                <a:lnTo>
                  <a:pt x="0" y="92"/>
                </a:lnTo>
                <a:lnTo>
                  <a:pt x="167" y="22"/>
                </a:lnTo>
                <a:lnTo>
                  <a:pt x="440" y="0"/>
                </a:lnTo>
                <a:lnTo>
                  <a:pt x="1010" y="194"/>
                </a:lnTo>
                <a:lnTo>
                  <a:pt x="1857" y="582"/>
                </a:lnTo>
                <a:lnTo>
                  <a:pt x="2158" y="759"/>
                </a:lnTo>
                <a:lnTo>
                  <a:pt x="2766" y="1076"/>
                </a:lnTo>
                <a:lnTo>
                  <a:pt x="2661" y="1315"/>
                </a:lnTo>
                <a:lnTo>
                  <a:pt x="1923" y="953"/>
                </a:lnTo>
                <a:lnTo>
                  <a:pt x="1769" y="799"/>
                </a:lnTo>
                <a:lnTo>
                  <a:pt x="1610" y="715"/>
                </a:lnTo>
                <a:lnTo>
                  <a:pt x="1487" y="856"/>
                </a:lnTo>
                <a:close/>
              </a:path>
            </a:pathLst>
          </a:custGeom>
          <a:blipFill rotWithShape="0">
            <a:blip r:embed="rId1"/>
            <a:tile tx="0" ty="0" sx="3528125" sy="3528125" algn="ctr"/>
          </a:blip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87800" y="5033880"/>
            <a:ext cx="589320" cy="224280"/>
          </a:xfrm>
          <a:custGeom>
            <a:avLst/>
            <a:gdLst/>
            <a:ahLst/>
            <a:rect l="0" t="0" r="r" b="b"/>
            <a:pathLst>
              <a:path w="1637" h="623">
                <a:moveTo>
                  <a:pt x="1557" y="623"/>
                </a:moveTo>
                <a:lnTo>
                  <a:pt x="1398" y="588"/>
                </a:lnTo>
                <a:lnTo>
                  <a:pt x="1297" y="437"/>
                </a:lnTo>
                <a:lnTo>
                  <a:pt x="1054" y="411"/>
                </a:lnTo>
                <a:lnTo>
                  <a:pt x="745" y="256"/>
                </a:lnTo>
                <a:lnTo>
                  <a:pt x="586" y="177"/>
                </a:lnTo>
                <a:lnTo>
                  <a:pt x="374" y="83"/>
                </a:lnTo>
                <a:lnTo>
                  <a:pt x="0" y="0"/>
                </a:lnTo>
                <a:lnTo>
                  <a:pt x="383" y="17"/>
                </a:lnTo>
                <a:lnTo>
                  <a:pt x="661" y="26"/>
                </a:lnTo>
                <a:lnTo>
                  <a:pt x="1081" y="221"/>
                </a:lnTo>
                <a:lnTo>
                  <a:pt x="1315" y="314"/>
                </a:lnTo>
                <a:lnTo>
                  <a:pt x="1637" y="482"/>
                </a:lnTo>
                <a:lnTo>
                  <a:pt x="1557" y="62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0920" y="5195880"/>
            <a:ext cx="395640" cy="278280"/>
          </a:xfrm>
          <a:custGeom>
            <a:avLst/>
            <a:gdLst/>
            <a:ahLst/>
            <a:rect l="0" t="0" r="r" b="b"/>
            <a:pathLst>
              <a:path w="1099" h="773">
                <a:moveTo>
                  <a:pt x="61" y="0"/>
                </a:moveTo>
                <a:lnTo>
                  <a:pt x="0" y="158"/>
                </a:lnTo>
                <a:lnTo>
                  <a:pt x="220" y="428"/>
                </a:lnTo>
                <a:lnTo>
                  <a:pt x="997" y="773"/>
                </a:lnTo>
                <a:lnTo>
                  <a:pt x="1099" y="592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24200" y="5672160"/>
            <a:ext cx="1037160" cy="356040"/>
          </a:xfrm>
          <a:custGeom>
            <a:avLst/>
            <a:gdLst/>
            <a:ahLst/>
            <a:rect l="0" t="0" r="r" b="b"/>
            <a:pathLst>
              <a:path w="2881" h="989">
                <a:moveTo>
                  <a:pt x="1301" y="702"/>
                </a:moveTo>
                <a:lnTo>
                  <a:pt x="2881" y="145"/>
                </a:lnTo>
                <a:lnTo>
                  <a:pt x="2722" y="57"/>
                </a:lnTo>
                <a:lnTo>
                  <a:pt x="2453" y="0"/>
                </a:lnTo>
                <a:lnTo>
                  <a:pt x="1861" y="110"/>
                </a:lnTo>
                <a:lnTo>
                  <a:pt x="966" y="375"/>
                </a:lnTo>
                <a:lnTo>
                  <a:pt x="648" y="512"/>
                </a:lnTo>
                <a:lnTo>
                  <a:pt x="0" y="737"/>
                </a:lnTo>
                <a:lnTo>
                  <a:pt x="70" y="989"/>
                </a:lnTo>
                <a:lnTo>
                  <a:pt x="852" y="733"/>
                </a:lnTo>
                <a:lnTo>
                  <a:pt x="1024" y="605"/>
                </a:lnTo>
                <a:lnTo>
                  <a:pt x="1196" y="543"/>
                </a:lnTo>
                <a:lnTo>
                  <a:pt x="1301" y="702"/>
                </a:lnTo>
                <a:close/>
              </a:path>
            </a:pathLst>
          </a:custGeom>
          <a:blipFill rotWithShape="0">
            <a:blip r:embed="rId2"/>
            <a:tile tx="0" ty="0" sx="3528125" sy="3528125" algn="ctr"/>
          </a:blip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38560" y="5688000"/>
            <a:ext cx="606960" cy="167040"/>
          </a:xfrm>
          <a:custGeom>
            <a:avLst/>
            <a:gdLst/>
            <a:ahLst/>
            <a:rect l="0" t="0" r="r" b="b"/>
            <a:pathLst>
              <a:path w="1686" h="464">
                <a:moveTo>
                  <a:pt x="61" y="464"/>
                </a:moveTo>
                <a:lnTo>
                  <a:pt x="224" y="455"/>
                </a:lnTo>
                <a:lnTo>
                  <a:pt x="343" y="318"/>
                </a:lnTo>
                <a:lnTo>
                  <a:pt x="591" y="327"/>
                </a:lnTo>
                <a:lnTo>
                  <a:pt x="918" y="216"/>
                </a:lnTo>
                <a:lnTo>
                  <a:pt x="1085" y="158"/>
                </a:lnTo>
                <a:lnTo>
                  <a:pt x="1311" y="97"/>
                </a:lnTo>
                <a:lnTo>
                  <a:pt x="1686" y="66"/>
                </a:lnTo>
                <a:lnTo>
                  <a:pt x="1311" y="26"/>
                </a:lnTo>
                <a:lnTo>
                  <a:pt x="1028" y="0"/>
                </a:lnTo>
                <a:lnTo>
                  <a:pt x="591" y="132"/>
                </a:lnTo>
                <a:lnTo>
                  <a:pt x="343" y="194"/>
                </a:lnTo>
                <a:lnTo>
                  <a:pt x="0" y="318"/>
                </a:lnTo>
                <a:lnTo>
                  <a:pt x="61" y="4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789520"/>
            <a:ext cx="411480" cy="228960"/>
          </a:xfrm>
          <a:custGeom>
            <a:avLst/>
            <a:gdLst/>
            <a:ahLst/>
            <a:rect l="0" t="0" r="r" b="b"/>
            <a:pathLst>
              <a:path w="1143" h="636">
                <a:moveTo>
                  <a:pt x="1103" y="0"/>
                </a:moveTo>
                <a:lnTo>
                  <a:pt x="1143" y="163"/>
                </a:lnTo>
                <a:lnTo>
                  <a:pt x="887" y="402"/>
                </a:lnTo>
                <a:lnTo>
                  <a:pt x="70" y="636"/>
                </a:lnTo>
                <a:lnTo>
                  <a:pt x="0" y="437"/>
                </a:lnTo>
                <a:lnTo>
                  <a:pt x="1103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2280" y="30492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AN-JANG-HAH-GET-DAH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260440" y="6006960"/>
            <a:ext cx="4597920" cy="584640"/>
          </a:xfrm>
          <a:custGeom>
            <a:avLst/>
            <a:gdLst/>
            <a:ahLst/>
            <a:rect l="0" t="0" r="r" b="b"/>
            <a:pathLst>
              <a:path w="12772" h="1624">
                <a:moveTo>
                  <a:pt x="6782" y="176"/>
                </a:moveTo>
                <a:lnTo>
                  <a:pt x="6624" y="141"/>
                </a:lnTo>
                <a:lnTo>
                  <a:pt x="6505" y="141"/>
                </a:lnTo>
                <a:lnTo>
                  <a:pt x="6386" y="176"/>
                </a:lnTo>
                <a:lnTo>
                  <a:pt x="6267" y="211"/>
                </a:lnTo>
                <a:lnTo>
                  <a:pt x="6148" y="176"/>
                </a:lnTo>
                <a:lnTo>
                  <a:pt x="6029" y="176"/>
                </a:lnTo>
                <a:lnTo>
                  <a:pt x="5910" y="141"/>
                </a:lnTo>
                <a:lnTo>
                  <a:pt x="5791" y="141"/>
                </a:lnTo>
                <a:lnTo>
                  <a:pt x="5672" y="141"/>
                </a:lnTo>
                <a:lnTo>
                  <a:pt x="5553" y="141"/>
                </a:lnTo>
                <a:lnTo>
                  <a:pt x="5434" y="176"/>
                </a:lnTo>
                <a:lnTo>
                  <a:pt x="5315" y="176"/>
                </a:lnTo>
                <a:lnTo>
                  <a:pt x="5196" y="176"/>
                </a:lnTo>
                <a:lnTo>
                  <a:pt x="5077" y="176"/>
                </a:lnTo>
                <a:lnTo>
                  <a:pt x="4958" y="176"/>
                </a:lnTo>
                <a:lnTo>
                  <a:pt x="4839" y="176"/>
                </a:lnTo>
                <a:lnTo>
                  <a:pt x="4720" y="176"/>
                </a:lnTo>
                <a:lnTo>
                  <a:pt x="4601" y="176"/>
                </a:lnTo>
                <a:lnTo>
                  <a:pt x="4482" y="176"/>
                </a:lnTo>
                <a:lnTo>
                  <a:pt x="4363" y="141"/>
                </a:lnTo>
                <a:lnTo>
                  <a:pt x="4244" y="105"/>
                </a:lnTo>
                <a:lnTo>
                  <a:pt x="4125" y="105"/>
                </a:lnTo>
                <a:lnTo>
                  <a:pt x="4006" y="141"/>
                </a:lnTo>
                <a:lnTo>
                  <a:pt x="3848" y="176"/>
                </a:lnTo>
                <a:lnTo>
                  <a:pt x="3689" y="211"/>
                </a:lnTo>
                <a:lnTo>
                  <a:pt x="3530" y="176"/>
                </a:lnTo>
                <a:lnTo>
                  <a:pt x="3372" y="141"/>
                </a:lnTo>
                <a:lnTo>
                  <a:pt x="3253" y="105"/>
                </a:lnTo>
                <a:lnTo>
                  <a:pt x="3133" y="105"/>
                </a:lnTo>
                <a:lnTo>
                  <a:pt x="3014" y="105"/>
                </a:lnTo>
                <a:lnTo>
                  <a:pt x="2895" y="105"/>
                </a:lnTo>
                <a:lnTo>
                  <a:pt x="2776" y="105"/>
                </a:lnTo>
                <a:lnTo>
                  <a:pt x="2657" y="141"/>
                </a:lnTo>
                <a:lnTo>
                  <a:pt x="2538" y="141"/>
                </a:lnTo>
                <a:lnTo>
                  <a:pt x="2419" y="141"/>
                </a:lnTo>
                <a:lnTo>
                  <a:pt x="2300" y="105"/>
                </a:lnTo>
                <a:lnTo>
                  <a:pt x="2181" y="70"/>
                </a:lnTo>
                <a:lnTo>
                  <a:pt x="2062" y="35"/>
                </a:lnTo>
                <a:lnTo>
                  <a:pt x="1943" y="0"/>
                </a:lnTo>
                <a:lnTo>
                  <a:pt x="1824" y="35"/>
                </a:lnTo>
                <a:lnTo>
                  <a:pt x="1705" y="35"/>
                </a:lnTo>
                <a:lnTo>
                  <a:pt x="1586" y="35"/>
                </a:lnTo>
                <a:lnTo>
                  <a:pt x="1467" y="35"/>
                </a:lnTo>
                <a:lnTo>
                  <a:pt x="1348" y="35"/>
                </a:lnTo>
                <a:lnTo>
                  <a:pt x="1229" y="35"/>
                </a:lnTo>
                <a:lnTo>
                  <a:pt x="1110" y="70"/>
                </a:lnTo>
                <a:lnTo>
                  <a:pt x="991" y="141"/>
                </a:lnTo>
                <a:lnTo>
                  <a:pt x="872" y="246"/>
                </a:lnTo>
                <a:lnTo>
                  <a:pt x="753" y="317"/>
                </a:lnTo>
                <a:lnTo>
                  <a:pt x="634" y="352"/>
                </a:lnTo>
                <a:lnTo>
                  <a:pt x="515" y="352"/>
                </a:lnTo>
                <a:lnTo>
                  <a:pt x="396" y="352"/>
                </a:lnTo>
                <a:lnTo>
                  <a:pt x="277" y="352"/>
                </a:lnTo>
                <a:lnTo>
                  <a:pt x="158" y="388"/>
                </a:lnTo>
                <a:lnTo>
                  <a:pt x="39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18" y="812"/>
                </a:lnTo>
                <a:lnTo>
                  <a:pt x="237" y="882"/>
                </a:lnTo>
                <a:lnTo>
                  <a:pt x="356" y="882"/>
                </a:lnTo>
                <a:lnTo>
                  <a:pt x="475" y="882"/>
                </a:lnTo>
                <a:lnTo>
                  <a:pt x="594" y="882"/>
                </a:lnTo>
                <a:lnTo>
                  <a:pt x="713" y="882"/>
                </a:lnTo>
                <a:lnTo>
                  <a:pt x="832" y="918"/>
                </a:lnTo>
                <a:lnTo>
                  <a:pt x="912" y="1024"/>
                </a:lnTo>
                <a:lnTo>
                  <a:pt x="991" y="1129"/>
                </a:lnTo>
                <a:lnTo>
                  <a:pt x="1110" y="1200"/>
                </a:lnTo>
                <a:lnTo>
                  <a:pt x="1229" y="1200"/>
                </a:lnTo>
                <a:lnTo>
                  <a:pt x="1348" y="1165"/>
                </a:lnTo>
                <a:lnTo>
                  <a:pt x="1467" y="1129"/>
                </a:lnTo>
                <a:lnTo>
                  <a:pt x="1586" y="1094"/>
                </a:lnTo>
                <a:lnTo>
                  <a:pt x="1705" y="1094"/>
                </a:lnTo>
                <a:lnTo>
                  <a:pt x="1824" y="1165"/>
                </a:lnTo>
                <a:lnTo>
                  <a:pt x="1943" y="1236"/>
                </a:lnTo>
                <a:lnTo>
                  <a:pt x="2062" y="1272"/>
                </a:lnTo>
                <a:lnTo>
                  <a:pt x="2181" y="1272"/>
                </a:lnTo>
                <a:lnTo>
                  <a:pt x="2260" y="1377"/>
                </a:lnTo>
                <a:lnTo>
                  <a:pt x="2339" y="1483"/>
                </a:lnTo>
                <a:lnTo>
                  <a:pt x="2419" y="1589"/>
                </a:lnTo>
                <a:lnTo>
                  <a:pt x="2538" y="1624"/>
                </a:lnTo>
                <a:lnTo>
                  <a:pt x="2577" y="1518"/>
                </a:lnTo>
                <a:lnTo>
                  <a:pt x="2577" y="1413"/>
                </a:lnTo>
                <a:lnTo>
                  <a:pt x="2696" y="1377"/>
                </a:lnTo>
                <a:lnTo>
                  <a:pt x="2815" y="1377"/>
                </a:lnTo>
                <a:lnTo>
                  <a:pt x="2934" y="1483"/>
                </a:lnTo>
                <a:lnTo>
                  <a:pt x="3053" y="1518"/>
                </a:lnTo>
                <a:lnTo>
                  <a:pt x="3172" y="1554"/>
                </a:lnTo>
                <a:lnTo>
                  <a:pt x="3292" y="1518"/>
                </a:lnTo>
                <a:lnTo>
                  <a:pt x="3411" y="1413"/>
                </a:lnTo>
                <a:lnTo>
                  <a:pt x="3530" y="1413"/>
                </a:lnTo>
                <a:lnTo>
                  <a:pt x="3649" y="1413"/>
                </a:lnTo>
                <a:lnTo>
                  <a:pt x="3768" y="1448"/>
                </a:lnTo>
                <a:lnTo>
                  <a:pt x="3927" y="1554"/>
                </a:lnTo>
                <a:lnTo>
                  <a:pt x="4046" y="1589"/>
                </a:lnTo>
                <a:lnTo>
                  <a:pt x="4165" y="1624"/>
                </a:lnTo>
                <a:lnTo>
                  <a:pt x="4284" y="1518"/>
                </a:lnTo>
                <a:lnTo>
                  <a:pt x="4403" y="1483"/>
                </a:lnTo>
                <a:lnTo>
                  <a:pt x="4522" y="1448"/>
                </a:lnTo>
                <a:lnTo>
                  <a:pt x="4641" y="1413"/>
                </a:lnTo>
                <a:lnTo>
                  <a:pt x="4760" y="1377"/>
                </a:lnTo>
                <a:lnTo>
                  <a:pt x="4879" y="1342"/>
                </a:lnTo>
                <a:lnTo>
                  <a:pt x="4998" y="1342"/>
                </a:lnTo>
                <a:lnTo>
                  <a:pt x="5117" y="1342"/>
                </a:lnTo>
                <a:lnTo>
                  <a:pt x="5236" y="1377"/>
                </a:lnTo>
                <a:lnTo>
                  <a:pt x="5355" y="1413"/>
                </a:lnTo>
                <a:lnTo>
                  <a:pt x="5474" y="1448"/>
                </a:lnTo>
                <a:lnTo>
                  <a:pt x="5593" y="1448"/>
                </a:lnTo>
                <a:lnTo>
                  <a:pt x="5712" y="1483"/>
                </a:lnTo>
                <a:lnTo>
                  <a:pt x="5831" y="1483"/>
                </a:lnTo>
                <a:lnTo>
                  <a:pt x="5989" y="1448"/>
                </a:lnTo>
                <a:lnTo>
                  <a:pt x="6108" y="1413"/>
                </a:lnTo>
                <a:lnTo>
                  <a:pt x="6227" y="1377"/>
                </a:lnTo>
                <a:lnTo>
                  <a:pt x="6346" y="1377"/>
                </a:lnTo>
                <a:lnTo>
                  <a:pt x="6465" y="1342"/>
                </a:lnTo>
                <a:lnTo>
                  <a:pt x="6584" y="1307"/>
                </a:lnTo>
                <a:lnTo>
                  <a:pt x="6703" y="1272"/>
                </a:lnTo>
                <a:lnTo>
                  <a:pt x="6822" y="1236"/>
                </a:lnTo>
                <a:lnTo>
                  <a:pt x="6941" y="1200"/>
                </a:lnTo>
                <a:lnTo>
                  <a:pt x="7060" y="1165"/>
                </a:lnTo>
                <a:lnTo>
                  <a:pt x="7179" y="1165"/>
                </a:lnTo>
                <a:lnTo>
                  <a:pt x="7298" y="1165"/>
                </a:lnTo>
                <a:lnTo>
                  <a:pt x="7417" y="1165"/>
                </a:lnTo>
                <a:lnTo>
                  <a:pt x="7536" y="1165"/>
                </a:lnTo>
                <a:lnTo>
                  <a:pt x="7655" y="1200"/>
                </a:lnTo>
                <a:lnTo>
                  <a:pt x="7774" y="1236"/>
                </a:lnTo>
                <a:lnTo>
                  <a:pt x="7893" y="1272"/>
                </a:lnTo>
                <a:lnTo>
                  <a:pt x="8012" y="1272"/>
                </a:lnTo>
                <a:lnTo>
                  <a:pt x="8131" y="1272"/>
                </a:lnTo>
                <a:lnTo>
                  <a:pt x="8289" y="1272"/>
                </a:lnTo>
                <a:lnTo>
                  <a:pt x="8448" y="1200"/>
                </a:lnTo>
                <a:lnTo>
                  <a:pt x="8567" y="1165"/>
                </a:lnTo>
                <a:lnTo>
                  <a:pt x="8686" y="1129"/>
                </a:lnTo>
                <a:lnTo>
                  <a:pt x="8845" y="1129"/>
                </a:lnTo>
                <a:lnTo>
                  <a:pt x="9003" y="1165"/>
                </a:lnTo>
                <a:lnTo>
                  <a:pt x="9162" y="1200"/>
                </a:lnTo>
                <a:lnTo>
                  <a:pt x="9281" y="1272"/>
                </a:lnTo>
                <a:lnTo>
                  <a:pt x="9400" y="1307"/>
                </a:lnTo>
                <a:lnTo>
                  <a:pt x="9519" y="1342"/>
                </a:lnTo>
                <a:lnTo>
                  <a:pt x="9639" y="1342"/>
                </a:lnTo>
                <a:lnTo>
                  <a:pt x="9798" y="1272"/>
                </a:lnTo>
                <a:lnTo>
                  <a:pt x="9917" y="1236"/>
                </a:lnTo>
                <a:lnTo>
                  <a:pt x="10036" y="1165"/>
                </a:lnTo>
                <a:lnTo>
                  <a:pt x="10154" y="1129"/>
                </a:lnTo>
                <a:lnTo>
                  <a:pt x="10273" y="1129"/>
                </a:lnTo>
                <a:lnTo>
                  <a:pt x="10432" y="1129"/>
                </a:lnTo>
                <a:lnTo>
                  <a:pt x="10591" y="1129"/>
                </a:lnTo>
                <a:lnTo>
                  <a:pt x="10749" y="1129"/>
                </a:lnTo>
                <a:lnTo>
                  <a:pt x="10868" y="1165"/>
                </a:lnTo>
                <a:lnTo>
                  <a:pt x="10987" y="1165"/>
                </a:lnTo>
                <a:lnTo>
                  <a:pt x="11106" y="1200"/>
                </a:lnTo>
                <a:lnTo>
                  <a:pt x="11225" y="1200"/>
                </a:lnTo>
                <a:lnTo>
                  <a:pt x="11384" y="1200"/>
                </a:lnTo>
                <a:lnTo>
                  <a:pt x="11543" y="1200"/>
                </a:lnTo>
                <a:lnTo>
                  <a:pt x="11662" y="1129"/>
                </a:lnTo>
                <a:lnTo>
                  <a:pt x="11781" y="1094"/>
                </a:lnTo>
                <a:lnTo>
                  <a:pt x="11900" y="1094"/>
                </a:lnTo>
                <a:lnTo>
                  <a:pt x="12019" y="1094"/>
                </a:lnTo>
                <a:lnTo>
                  <a:pt x="12137" y="1094"/>
                </a:lnTo>
                <a:lnTo>
                  <a:pt x="12256" y="1094"/>
                </a:lnTo>
                <a:lnTo>
                  <a:pt x="12375" y="1059"/>
                </a:lnTo>
                <a:lnTo>
                  <a:pt x="12494" y="1024"/>
                </a:lnTo>
                <a:lnTo>
                  <a:pt x="12613" y="988"/>
                </a:lnTo>
                <a:lnTo>
                  <a:pt x="12732" y="918"/>
                </a:lnTo>
                <a:lnTo>
                  <a:pt x="12772" y="812"/>
                </a:lnTo>
                <a:lnTo>
                  <a:pt x="12772" y="706"/>
                </a:lnTo>
                <a:lnTo>
                  <a:pt x="12732" y="600"/>
                </a:lnTo>
                <a:lnTo>
                  <a:pt x="12613" y="494"/>
                </a:lnTo>
                <a:lnTo>
                  <a:pt x="12494" y="494"/>
                </a:lnTo>
                <a:lnTo>
                  <a:pt x="12375" y="459"/>
                </a:lnTo>
                <a:lnTo>
                  <a:pt x="12256" y="459"/>
                </a:lnTo>
                <a:lnTo>
                  <a:pt x="12137" y="424"/>
                </a:lnTo>
                <a:lnTo>
                  <a:pt x="11979" y="352"/>
                </a:lnTo>
                <a:lnTo>
                  <a:pt x="11860" y="317"/>
                </a:lnTo>
                <a:lnTo>
                  <a:pt x="11741" y="246"/>
                </a:lnTo>
                <a:lnTo>
                  <a:pt x="11622" y="211"/>
                </a:lnTo>
                <a:lnTo>
                  <a:pt x="11503" y="176"/>
                </a:lnTo>
                <a:lnTo>
                  <a:pt x="11384" y="211"/>
                </a:lnTo>
                <a:lnTo>
                  <a:pt x="11265" y="211"/>
                </a:lnTo>
                <a:lnTo>
                  <a:pt x="11146" y="211"/>
                </a:lnTo>
                <a:lnTo>
                  <a:pt x="11027" y="211"/>
                </a:lnTo>
                <a:lnTo>
                  <a:pt x="10908" y="211"/>
                </a:lnTo>
                <a:lnTo>
                  <a:pt x="10789" y="211"/>
                </a:lnTo>
                <a:lnTo>
                  <a:pt x="10670" y="211"/>
                </a:lnTo>
                <a:lnTo>
                  <a:pt x="10551" y="246"/>
                </a:lnTo>
                <a:lnTo>
                  <a:pt x="10432" y="246"/>
                </a:lnTo>
                <a:lnTo>
                  <a:pt x="10313" y="211"/>
                </a:lnTo>
                <a:lnTo>
                  <a:pt x="10194" y="211"/>
                </a:lnTo>
                <a:lnTo>
                  <a:pt x="10075" y="176"/>
                </a:lnTo>
                <a:lnTo>
                  <a:pt x="9956" y="176"/>
                </a:lnTo>
                <a:lnTo>
                  <a:pt x="9798" y="211"/>
                </a:lnTo>
                <a:lnTo>
                  <a:pt x="9679" y="246"/>
                </a:lnTo>
                <a:lnTo>
                  <a:pt x="9559" y="246"/>
                </a:lnTo>
                <a:lnTo>
                  <a:pt x="9440" y="246"/>
                </a:lnTo>
                <a:lnTo>
                  <a:pt x="9321" y="282"/>
                </a:lnTo>
                <a:lnTo>
                  <a:pt x="9202" y="282"/>
                </a:lnTo>
                <a:lnTo>
                  <a:pt x="9043" y="282"/>
                </a:lnTo>
                <a:lnTo>
                  <a:pt x="8924" y="282"/>
                </a:lnTo>
                <a:lnTo>
                  <a:pt x="8765" y="282"/>
                </a:lnTo>
                <a:lnTo>
                  <a:pt x="8607" y="211"/>
                </a:lnTo>
                <a:lnTo>
                  <a:pt x="8488" y="211"/>
                </a:lnTo>
                <a:lnTo>
                  <a:pt x="8369" y="211"/>
                </a:lnTo>
                <a:lnTo>
                  <a:pt x="8210" y="211"/>
                </a:lnTo>
                <a:lnTo>
                  <a:pt x="8052" y="211"/>
                </a:lnTo>
                <a:lnTo>
                  <a:pt x="7933" y="246"/>
                </a:lnTo>
                <a:lnTo>
                  <a:pt x="7814" y="282"/>
                </a:lnTo>
                <a:lnTo>
                  <a:pt x="7695" y="246"/>
                </a:lnTo>
                <a:lnTo>
                  <a:pt x="7576" y="246"/>
                </a:lnTo>
                <a:lnTo>
                  <a:pt x="7457" y="211"/>
                </a:lnTo>
                <a:lnTo>
                  <a:pt x="7338" y="211"/>
                </a:lnTo>
                <a:lnTo>
                  <a:pt x="7219" y="211"/>
                </a:lnTo>
                <a:lnTo>
                  <a:pt x="7100" y="211"/>
                </a:lnTo>
                <a:lnTo>
                  <a:pt x="6981" y="211"/>
                </a:lnTo>
                <a:lnTo>
                  <a:pt x="6782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71800" y="1905120"/>
            <a:ext cx="2943360" cy="4267440"/>
            <a:chOff x="2971800" y="1905120"/>
            <a:chExt cx="2943360" cy="4267440"/>
          </a:xfrm>
        </p:grpSpPr>
        <p:grpSp>
          <p:nvGrpSpPr>
            <p:cNvPr id="334" name=""/>
            <p:cNvGrpSpPr/>
            <p:nvPr/>
          </p:nvGrpSpPr>
          <p:grpSpPr>
            <a:xfrm>
              <a:off x="2971800" y="4554360"/>
              <a:ext cx="1335240" cy="1608840"/>
              <a:chOff x="2971800" y="4554360"/>
              <a:chExt cx="1335240" cy="1608840"/>
            </a:xfrm>
          </p:grpSpPr>
          <p:sp>
            <p:nvSpPr>
              <p:cNvPr id="335" name=""/>
              <p:cNvSpPr/>
              <p:nvPr/>
            </p:nvSpPr>
            <p:spPr>
              <a:xfrm>
                <a:off x="339264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432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7180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3863880" y="3568680"/>
              <a:ext cx="843480" cy="822600"/>
            </a:xfrm>
            <a:custGeom>
              <a:avLst/>
              <a:gdLst/>
              <a:ahLst/>
              <a:rect l="0" t="0" r="r" b="b"/>
              <a:pathLst>
                <a:path w="2343" h="2285">
                  <a:moveTo>
                    <a:pt x="0" y="79"/>
                  </a:moveTo>
                  <a:lnTo>
                    <a:pt x="154" y="0"/>
                  </a:lnTo>
                  <a:lnTo>
                    <a:pt x="423" y="79"/>
                  </a:lnTo>
                  <a:lnTo>
                    <a:pt x="1002" y="626"/>
                  </a:lnTo>
                  <a:lnTo>
                    <a:pt x="2343" y="1725"/>
                  </a:lnTo>
                  <a:lnTo>
                    <a:pt x="1862" y="2285"/>
                  </a:lnTo>
                  <a:lnTo>
                    <a:pt x="759" y="1271"/>
                  </a:lnTo>
                  <a:lnTo>
                    <a:pt x="39" y="42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214800" y="1905120"/>
              <a:ext cx="954000" cy="2823120"/>
              <a:chOff x="3214800" y="1905120"/>
              <a:chExt cx="954000" cy="28231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3282840" y="1905120"/>
                <a:ext cx="885960" cy="1606680"/>
                <a:chOff x="3282840" y="1905120"/>
                <a:chExt cx="885960" cy="1606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328284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700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42900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61476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97512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3862440" y="1930320"/>
                  <a:ext cx="612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>
                  <a:off x="375300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3592440" y="1905120"/>
                  <a:ext cx="3348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3433680" y="1946160"/>
                  <a:ext cx="4932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30840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50028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55140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42900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4572720" y="4219920"/>
              <a:ext cx="252720" cy="264600"/>
            </a:xfrm>
            <a:custGeom>
              <a:avLst/>
              <a:gdLst/>
              <a:ahLst/>
              <a:rect l="0" t="0" r="r" b="b"/>
              <a:pathLst>
                <a:path w="702" h="735">
                  <a:moveTo>
                    <a:pt x="162" y="42"/>
                  </a:moveTo>
                  <a:lnTo>
                    <a:pt x="162" y="42"/>
                  </a:lnTo>
                  <a:cubicBezTo>
                    <a:pt x="110" y="72"/>
                    <a:pt x="68" y="117"/>
                    <a:pt x="39" y="171"/>
                  </a:cubicBezTo>
                  <a:cubicBezTo>
                    <a:pt x="11" y="226"/>
                    <a:pt x="-3" y="288"/>
                    <a:pt x="0" y="353"/>
                  </a:cubicBezTo>
                  <a:cubicBezTo>
                    <a:pt x="2" y="417"/>
                    <a:pt x="21" y="481"/>
                    <a:pt x="54" y="538"/>
                  </a:cubicBezTo>
                  <a:cubicBezTo>
                    <a:pt x="87" y="595"/>
                    <a:pt x="133" y="643"/>
                    <a:pt x="187" y="678"/>
                  </a:cubicBezTo>
                  <a:cubicBezTo>
                    <a:pt x="242" y="712"/>
                    <a:pt x="303" y="731"/>
                    <a:pt x="365" y="734"/>
                  </a:cubicBezTo>
                  <a:cubicBezTo>
                    <a:pt x="426" y="737"/>
                    <a:pt x="486" y="722"/>
                    <a:pt x="538" y="692"/>
                  </a:cubicBezTo>
                  <a:lnTo>
                    <a:pt x="539" y="692"/>
                  </a:lnTo>
                  <a:lnTo>
                    <a:pt x="539" y="692"/>
                  </a:lnTo>
                  <a:cubicBezTo>
                    <a:pt x="591" y="662"/>
                    <a:pt x="633" y="617"/>
                    <a:pt x="662" y="563"/>
                  </a:cubicBezTo>
                  <a:cubicBezTo>
                    <a:pt x="690" y="508"/>
                    <a:pt x="704" y="446"/>
                    <a:pt x="701" y="381"/>
                  </a:cubicBezTo>
                  <a:cubicBezTo>
                    <a:pt x="699" y="317"/>
                    <a:pt x="680" y="253"/>
                    <a:pt x="647" y="196"/>
                  </a:cubicBezTo>
                  <a:cubicBezTo>
                    <a:pt x="614" y="139"/>
                    <a:pt x="568" y="91"/>
                    <a:pt x="514" y="56"/>
                  </a:cubicBezTo>
                  <a:cubicBezTo>
                    <a:pt x="459" y="22"/>
                    <a:pt x="398" y="3"/>
                    <a:pt x="336" y="0"/>
                  </a:cubicBezTo>
                  <a:cubicBezTo>
                    <a:pt x="275" y="-3"/>
                    <a:pt x="215" y="12"/>
                    <a:pt x="163" y="42"/>
                  </a:cubicBezTo>
                  <a:lnTo>
                    <a:pt x="162" y="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035160" y="3495600"/>
              <a:ext cx="450000" cy="1243440"/>
              <a:chOff x="3035160" y="3495600"/>
              <a:chExt cx="450000" cy="1243440"/>
            </a:xfrm>
          </p:grpSpPr>
          <p:sp>
            <p:nvSpPr>
              <p:cNvPr id="357" name=""/>
              <p:cNvSpPr/>
              <p:nvPr/>
            </p:nvSpPr>
            <p:spPr>
              <a:xfrm>
                <a:off x="305604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3516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055040" y="1914480"/>
              <a:ext cx="1860120" cy="4258080"/>
              <a:chOff x="4055040" y="1914480"/>
              <a:chExt cx="1860120" cy="4258080"/>
            </a:xfrm>
          </p:grpSpPr>
          <p:sp>
            <p:nvSpPr>
              <p:cNvPr id="360" name=""/>
              <p:cNvSpPr/>
              <p:nvPr/>
            </p:nvSpPr>
            <p:spPr>
              <a:xfrm>
                <a:off x="4173480" y="3556080"/>
                <a:ext cx="843480" cy="822600"/>
              </a:xfrm>
              <a:custGeom>
                <a:avLst/>
                <a:gdLst/>
                <a:ahLst/>
                <a:rect l="0" t="0" r="r" b="b"/>
                <a:pathLst>
                  <a:path w="2343" h="2285">
                    <a:moveTo>
                      <a:pt x="2343" y="79"/>
                    </a:moveTo>
                    <a:lnTo>
                      <a:pt x="2189" y="0"/>
                    </a:lnTo>
                    <a:lnTo>
                      <a:pt x="1920" y="79"/>
                    </a:lnTo>
                    <a:lnTo>
                      <a:pt x="1341" y="626"/>
                    </a:lnTo>
                    <a:lnTo>
                      <a:pt x="0" y="1725"/>
                    </a:lnTo>
                    <a:lnTo>
                      <a:pt x="480" y="2285"/>
                    </a:lnTo>
                    <a:lnTo>
                      <a:pt x="1584" y="1271"/>
                    </a:lnTo>
                    <a:lnTo>
                      <a:pt x="2303" y="423"/>
                    </a:lnTo>
                    <a:lnTo>
                      <a:pt x="2343" y="7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579920" y="4564080"/>
                <a:ext cx="1335240" cy="1608480"/>
                <a:chOff x="4579920" y="4564080"/>
                <a:chExt cx="1335240" cy="1608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916520" y="456408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5799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2513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718160" y="1914480"/>
                <a:ext cx="954360" cy="2821680"/>
                <a:chOff x="4718160" y="1914480"/>
                <a:chExt cx="954360" cy="28216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807080" y="335772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4718160" y="1914480"/>
                  <a:ext cx="886320" cy="1566000"/>
                  <a:chOff x="4718160" y="1914480"/>
                  <a:chExt cx="886320" cy="15660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4815000" y="211788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718160" y="250020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029200" y="246708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197320" y="263988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835520" y="264780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018040" y="1940040"/>
                    <a:ext cx="648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5118120" y="1922400"/>
                    <a:ext cx="1584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5261040" y="1914480"/>
                    <a:ext cx="33120" cy="19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V="1">
                    <a:off x="5403960" y="1955880"/>
                    <a:ext cx="48960" cy="171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V="1">
                    <a:off x="5530680" y="1979640"/>
                    <a:ext cx="47880" cy="155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807080" y="293832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5067360" y="336564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402160" y="3505320"/>
                <a:ext cx="449280" cy="1243080"/>
                <a:chOff x="5402160" y="3505320"/>
                <a:chExt cx="449280" cy="12430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402160" y="3505320"/>
                  <a:ext cx="429120" cy="1026000"/>
                </a:xfrm>
                <a:custGeom>
                  <a:avLst/>
                  <a:gdLst/>
                  <a:ahLst/>
                  <a:rect l="0" t="0" r="r" b="b"/>
                  <a:pathLst>
                    <a:path w="1192" h="2850">
                      <a:moveTo>
                        <a:pt x="210" y="0"/>
                      </a:moveTo>
                      <a:lnTo>
                        <a:pt x="70" y="91"/>
                      </a:lnTo>
                      <a:lnTo>
                        <a:pt x="0" y="364"/>
                      </a:lnTo>
                      <a:lnTo>
                        <a:pt x="186" y="1140"/>
                      </a:lnTo>
                      <a:lnTo>
                        <a:pt x="467" y="2850"/>
                      </a:lnTo>
                      <a:lnTo>
                        <a:pt x="1192" y="2713"/>
                      </a:lnTo>
                      <a:lnTo>
                        <a:pt x="864" y="1254"/>
                      </a:lnTo>
                      <a:lnTo>
                        <a:pt x="491" y="205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83240" y="4502160"/>
                  <a:ext cx="268200" cy="246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055040" y="4232520"/>
                <a:ext cx="252720" cy="264600"/>
              </a:xfrm>
              <a:custGeom>
                <a:avLst/>
                <a:gdLst/>
                <a:ahLst/>
                <a:rect l="0" t="0" r="r" b="b"/>
                <a:pathLst>
                  <a:path w="702" h="735">
                    <a:moveTo>
                      <a:pt x="162" y="692"/>
                    </a:moveTo>
                    <a:lnTo>
                      <a:pt x="162" y="692"/>
                    </a:lnTo>
                    <a:cubicBezTo>
                      <a:pt x="163" y="692"/>
                      <a:pt x="163" y="692"/>
                      <a:pt x="163" y="692"/>
                    </a:cubicBezTo>
                    <a:cubicBezTo>
                      <a:pt x="215" y="722"/>
                      <a:pt x="275" y="737"/>
                      <a:pt x="336" y="734"/>
                    </a:cubicBezTo>
                    <a:cubicBezTo>
                      <a:pt x="398" y="731"/>
                      <a:pt x="459" y="712"/>
                      <a:pt x="514" y="678"/>
                    </a:cubicBezTo>
                    <a:cubicBezTo>
                      <a:pt x="568" y="643"/>
                      <a:pt x="614" y="595"/>
                      <a:pt x="647" y="538"/>
                    </a:cubicBezTo>
                    <a:cubicBezTo>
                      <a:pt x="680" y="481"/>
                      <a:pt x="699" y="417"/>
                      <a:pt x="701" y="353"/>
                    </a:cubicBezTo>
                    <a:cubicBezTo>
                      <a:pt x="704" y="288"/>
                      <a:pt x="690" y="226"/>
                      <a:pt x="662" y="171"/>
                    </a:cubicBezTo>
                    <a:cubicBezTo>
                      <a:pt x="633" y="117"/>
                      <a:pt x="591" y="72"/>
                      <a:pt x="539" y="42"/>
                    </a:cubicBezTo>
                    <a:lnTo>
                      <a:pt x="539" y="42"/>
                    </a:lnTo>
                    <a:cubicBezTo>
                      <a:pt x="538" y="42"/>
                      <a:pt x="538" y="42"/>
                      <a:pt x="538" y="42"/>
                    </a:cubicBezTo>
                    <a:cubicBezTo>
                      <a:pt x="486" y="12"/>
                      <a:pt x="426" y="-3"/>
                      <a:pt x="365" y="0"/>
                    </a:cubicBezTo>
                    <a:cubicBezTo>
                      <a:pt x="303" y="3"/>
                      <a:pt x="242" y="22"/>
                      <a:pt x="187" y="56"/>
                    </a:cubicBezTo>
                    <a:cubicBezTo>
                      <a:pt x="133" y="91"/>
                      <a:pt x="87" y="139"/>
                      <a:pt x="54" y="196"/>
                    </a:cubicBezTo>
                    <a:cubicBezTo>
                      <a:pt x="21" y="253"/>
                      <a:pt x="2" y="317"/>
                      <a:pt x="0" y="381"/>
                    </a:cubicBezTo>
                    <a:cubicBezTo>
                      <a:pt x="-3" y="446"/>
                      <a:pt x="11" y="508"/>
                      <a:pt x="39" y="563"/>
                    </a:cubicBezTo>
                    <a:cubicBezTo>
                      <a:pt x="68" y="617"/>
                      <a:pt x="110" y="662"/>
                      <a:pt x="162" y="6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38560" y="4233960"/>
                <a:ext cx="371880" cy="562320"/>
              </a:xfrm>
              <a:custGeom>
                <a:avLst/>
                <a:gdLst/>
                <a:ahLst/>
                <a:rect l="0" t="0" r="r" b="b"/>
                <a:pathLst>
                  <a:path w="1033" h="1562">
                    <a:moveTo>
                      <a:pt x="264" y="62"/>
                    </a:moveTo>
                    <a:lnTo>
                      <a:pt x="317" y="22"/>
                    </a:lnTo>
                    <a:lnTo>
                      <a:pt x="370" y="0"/>
                    </a:lnTo>
                    <a:lnTo>
                      <a:pt x="423" y="22"/>
                    </a:lnTo>
                    <a:lnTo>
                      <a:pt x="505" y="40"/>
                    </a:lnTo>
                    <a:lnTo>
                      <a:pt x="634" y="0"/>
                    </a:lnTo>
                    <a:lnTo>
                      <a:pt x="686" y="0"/>
                    </a:lnTo>
                    <a:lnTo>
                      <a:pt x="769" y="0"/>
                    </a:lnTo>
                    <a:lnTo>
                      <a:pt x="769" y="62"/>
                    </a:lnTo>
                    <a:lnTo>
                      <a:pt x="769" y="80"/>
                    </a:lnTo>
                    <a:lnTo>
                      <a:pt x="686" y="142"/>
                    </a:lnTo>
                    <a:lnTo>
                      <a:pt x="716" y="227"/>
                    </a:lnTo>
                    <a:lnTo>
                      <a:pt x="716" y="289"/>
                    </a:lnTo>
                    <a:lnTo>
                      <a:pt x="769" y="330"/>
                    </a:lnTo>
                    <a:lnTo>
                      <a:pt x="822" y="392"/>
                    </a:lnTo>
                    <a:lnTo>
                      <a:pt x="793" y="535"/>
                    </a:lnTo>
                    <a:lnTo>
                      <a:pt x="739" y="637"/>
                    </a:lnTo>
                    <a:lnTo>
                      <a:pt x="793" y="700"/>
                    </a:lnTo>
                    <a:lnTo>
                      <a:pt x="875" y="780"/>
                    </a:lnTo>
                    <a:lnTo>
                      <a:pt x="951" y="861"/>
                    </a:lnTo>
                    <a:lnTo>
                      <a:pt x="981" y="924"/>
                    </a:lnTo>
                    <a:lnTo>
                      <a:pt x="1004" y="986"/>
                    </a:lnTo>
                    <a:lnTo>
                      <a:pt x="1033" y="1026"/>
                    </a:lnTo>
                    <a:lnTo>
                      <a:pt x="1033" y="1026"/>
                    </a:lnTo>
                    <a:lnTo>
                      <a:pt x="1004" y="1174"/>
                    </a:lnTo>
                    <a:lnTo>
                      <a:pt x="981" y="1294"/>
                    </a:lnTo>
                    <a:lnTo>
                      <a:pt x="951" y="1419"/>
                    </a:lnTo>
                    <a:lnTo>
                      <a:pt x="899" y="1562"/>
                    </a:lnTo>
                    <a:lnTo>
                      <a:pt x="899" y="1521"/>
                    </a:lnTo>
                    <a:lnTo>
                      <a:pt x="899" y="1481"/>
                    </a:lnTo>
                    <a:lnTo>
                      <a:pt x="928" y="1437"/>
                    </a:lnTo>
                    <a:lnTo>
                      <a:pt x="928" y="1419"/>
                    </a:lnTo>
                    <a:lnTo>
                      <a:pt x="899" y="1356"/>
                    </a:lnTo>
                    <a:lnTo>
                      <a:pt x="875" y="1276"/>
                    </a:lnTo>
                    <a:lnTo>
                      <a:pt x="899" y="1214"/>
                    </a:lnTo>
                    <a:lnTo>
                      <a:pt x="928" y="1191"/>
                    </a:lnTo>
                    <a:lnTo>
                      <a:pt x="928" y="1174"/>
                    </a:lnTo>
                    <a:lnTo>
                      <a:pt x="899" y="1049"/>
                    </a:lnTo>
                    <a:lnTo>
                      <a:pt x="846" y="986"/>
                    </a:lnTo>
                    <a:lnTo>
                      <a:pt x="793" y="946"/>
                    </a:lnTo>
                    <a:lnTo>
                      <a:pt x="739" y="884"/>
                    </a:lnTo>
                    <a:lnTo>
                      <a:pt x="686" y="821"/>
                    </a:lnTo>
                    <a:lnTo>
                      <a:pt x="634" y="861"/>
                    </a:lnTo>
                    <a:lnTo>
                      <a:pt x="581" y="884"/>
                    </a:lnTo>
                    <a:lnTo>
                      <a:pt x="528" y="906"/>
                    </a:lnTo>
                    <a:lnTo>
                      <a:pt x="505" y="924"/>
                    </a:lnTo>
                    <a:lnTo>
                      <a:pt x="475" y="924"/>
                    </a:lnTo>
                    <a:lnTo>
                      <a:pt x="475" y="843"/>
                    </a:lnTo>
                    <a:lnTo>
                      <a:pt x="475" y="821"/>
                    </a:lnTo>
                    <a:lnTo>
                      <a:pt x="475" y="803"/>
                    </a:lnTo>
                    <a:lnTo>
                      <a:pt x="505" y="758"/>
                    </a:lnTo>
                    <a:lnTo>
                      <a:pt x="528" y="718"/>
                    </a:lnTo>
                    <a:lnTo>
                      <a:pt x="528" y="718"/>
                    </a:lnTo>
                    <a:lnTo>
                      <a:pt x="528" y="740"/>
                    </a:lnTo>
                    <a:lnTo>
                      <a:pt x="528" y="758"/>
                    </a:lnTo>
                    <a:lnTo>
                      <a:pt x="505" y="780"/>
                    </a:lnTo>
                    <a:lnTo>
                      <a:pt x="452" y="758"/>
                    </a:lnTo>
                    <a:lnTo>
                      <a:pt x="423" y="740"/>
                    </a:lnTo>
                    <a:lnTo>
                      <a:pt x="399" y="740"/>
                    </a:lnTo>
                    <a:lnTo>
                      <a:pt x="370" y="758"/>
                    </a:lnTo>
                    <a:lnTo>
                      <a:pt x="346" y="780"/>
                    </a:lnTo>
                    <a:lnTo>
                      <a:pt x="264" y="718"/>
                    </a:lnTo>
                    <a:lnTo>
                      <a:pt x="240" y="780"/>
                    </a:lnTo>
                    <a:lnTo>
                      <a:pt x="211" y="803"/>
                    </a:lnTo>
                    <a:lnTo>
                      <a:pt x="158" y="780"/>
                    </a:lnTo>
                    <a:lnTo>
                      <a:pt x="52" y="758"/>
                    </a:lnTo>
                    <a:lnTo>
                      <a:pt x="23" y="740"/>
                    </a:lnTo>
                    <a:lnTo>
                      <a:pt x="0" y="700"/>
                    </a:lnTo>
                    <a:lnTo>
                      <a:pt x="23" y="677"/>
                    </a:lnTo>
                    <a:lnTo>
                      <a:pt x="52" y="677"/>
                    </a:lnTo>
                    <a:lnTo>
                      <a:pt x="158" y="700"/>
                    </a:lnTo>
                    <a:lnTo>
                      <a:pt x="264" y="718"/>
                    </a:lnTo>
                    <a:lnTo>
                      <a:pt x="264" y="718"/>
                    </a:lnTo>
                    <a:lnTo>
                      <a:pt x="240" y="700"/>
                    </a:lnTo>
                    <a:lnTo>
                      <a:pt x="211" y="677"/>
                    </a:lnTo>
                    <a:lnTo>
                      <a:pt x="187" y="655"/>
                    </a:lnTo>
                    <a:lnTo>
                      <a:pt x="187" y="637"/>
                    </a:lnTo>
                    <a:lnTo>
                      <a:pt x="187" y="597"/>
                    </a:lnTo>
                    <a:lnTo>
                      <a:pt x="211" y="553"/>
                    </a:lnTo>
                    <a:lnTo>
                      <a:pt x="240" y="535"/>
                    </a:lnTo>
                    <a:lnTo>
                      <a:pt x="240" y="472"/>
                    </a:lnTo>
                    <a:lnTo>
                      <a:pt x="240" y="410"/>
                    </a:lnTo>
                    <a:lnTo>
                      <a:pt x="240" y="267"/>
                    </a:lnTo>
                    <a:lnTo>
                      <a:pt x="187" y="227"/>
                    </a:lnTo>
                    <a:lnTo>
                      <a:pt x="158" y="205"/>
                    </a:lnTo>
                    <a:lnTo>
                      <a:pt x="158" y="182"/>
                    </a:lnTo>
                    <a:lnTo>
                      <a:pt x="187" y="165"/>
                    </a:lnTo>
                    <a:lnTo>
                      <a:pt x="211" y="142"/>
                    </a:lnTo>
                    <a:lnTo>
                      <a:pt x="211" y="124"/>
                    </a:lnTo>
                    <a:lnTo>
                      <a:pt x="264" y="6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48768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83160" y="4254480"/>
              <a:ext cx="914760" cy="1918080"/>
              <a:chOff x="3683160" y="4254480"/>
              <a:chExt cx="914760" cy="1918080"/>
            </a:xfrm>
          </p:grpSpPr>
          <p:sp>
            <p:nvSpPr>
              <p:cNvPr id="387" name=""/>
              <p:cNvSpPr/>
              <p:nvPr/>
            </p:nvSpPr>
            <p:spPr>
              <a:xfrm>
                <a:off x="3884760" y="60134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1959" y="137"/>
                    </a:moveTo>
                    <a:lnTo>
                      <a:pt x="1867" y="221"/>
                    </a:lnTo>
                    <a:lnTo>
                      <a:pt x="1796" y="247"/>
                    </a:lnTo>
                    <a:lnTo>
                      <a:pt x="1748" y="332"/>
                    </a:lnTo>
                    <a:lnTo>
                      <a:pt x="1682" y="390"/>
                    </a:lnTo>
                    <a:lnTo>
                      <a:pt x="1611" y="390"/>
                    </a:lnTo>
                    <a:lnTo>
                      <a:pt x="1540" y="390"/>
                    </a:lnTo>
                    <a:lnTo>
                      <a:pt x="1470" y="390"/>
                    </a:lnTo>
                    <a:lnTo>
                      <a:pt x="1398" y="390"/>
                    </a:lnTo>
                    <a:lnTo>
                      <a:pt x="1328" y="390"/>
                    </a:lnTo>
                    <a:lnTo>
                      <a:pt x="1257" y="416"/>
                    </a:lnTo>
                    <a:lnTo>
                      <a:pt x="1165" y="442"/>
                    </a:lnTo>
                    <a:lnTo>
                      <a:pt x="1094" y="442"/>
                    </a:lnTo>
                    <a:lnTo>
                      <a:pt x="1028" y="442"/>
                    </a:lnTo>
                    <a:lnTo>
                      <a:pt x="957" y="442"/>
                    </a:lnTo>
                    <a:lnTo>
                      <a:pt x="887" y="442"/>
                    </a:lnTo>
                    <a:lnTo>
                      <a:pt x="816" y="416"/>
                    </a:lnTo>
                    <a:lnTo>
                      <a:pt x="746" y="416"/>
                    </a:lnTo>
                    <a:lnTo>
                      <a:pt x="675" y="390"/>
                    </a:lnTo>
                    <a:lnTo>
                      <a:pt x="605" y="359"/>
                    </a:lnTo>
                    <a:lnTo>
                      <a:pt x="538" y="359"/>
                    </a:lnTo>
                    <a:lnTo>
                      <a:pt x="467" y="359"/>
                    </a:lnTo>
                    <a:lnTo>
                      <a:pt x="396" y="416"/>
                    </a:lnTo>
                    <a:lnTo>
                      <a:pt x="326" y="442"/>
                    </a:lnTo>
                    <a:lnTo>
                      <a:pt x="255" y="442"/>
                    </a:lnTo>
                    <a:lnTo>
                      <a:pt x="211" y="359"/>
                    </a:lnTo>
                    <a:lnTo>
                      <a:pt x="141" y="359"/>
                    </a:lnTo>
                    <a:lnTo>
                      <a:pt x="70" y="359"/>
                    </a:lnTo>
                    <a:lnTo>
                      <a:pt x="0" y="305"/>
                    </a:lnTo>
                    <a:lnTo>
                      <a:pt x="92" y="247"/>
                    </a:lnTo>
                    <a:lnTo>
                      <a:pt x="163" y="247"/>
                    </a:lnTo>
                    <a:lnTo>
                      <a:pt x="233" y="195"/>
                    </a:lnTo>
                    <a:lnTo>
                      <a:pt x="185" y="111"/>
                    </a:lnTo>
                    <a:lnTo>
                      <a:pt x="396" y="111"/>
                    </a:lnTo>
                    <a:lnTo>
                      <a:pt x="467" y="83"/>
                    </a:lnTo>
                    <a:lnTo>
                      <a:pt x="538" y="83"/>
                    </a:lnTo>
                    <a:lnTo>
                      <a:pt x="605" y="111"/>
                    </a:lnTo>
                    <a:lnTo>
                      <a:pt x="675" y="168"/>
                    </a:lnTo>
                    <a:lnTo>
                      <a:pt x="746" y="168"/>
                    </a:lnTo>
                    <a:lnTo>
                      <a:pt x="816" y="168"/>
                    </a:lnTo>
                    <a:lnTo>
                      <a:pt x="909" y="168"/>
                    </a:lnTo>
                    <a:lnTo>
                      <a:pt x="1094" y="168"/>
                    </a:lnTo>
                    <a:lnTo>
                      <a:pt x="1235" y="168"/>
                    </a:lnTo>
                    <a:lnTo>
                      <a:pt x="1420" y="137"/>
                    </a:lnTo>
                    <a:lnTo>
                      <a:pt x="1518" y="137"/>
                    </a:lnTo>
                    <a:lnTo>
                      <a:pt x="1726" y="57"/>
                    </a:lnTo>
                    <a:lnTo>
                      <a:pt x="1911" y="0"/>
                    </a:lnTo>
                    <a:lnTo>
                      <a:pt x="1845" y="57"/>
                    </a:lnTo>
                    <a:lnTo>
                      <a:pt x="1818" y="168"/>
                    </a:lnTo>
                    <a:lnTo>
                      <a:pt x="1818" y="247"/>
                    </a:lnTo>
                    <a:lnTo>
                      <a:pt x="1818" y="305"/>
                    </a:lnTo>
                    <a:lnTo>
                      <a:pt x="1959" y="137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83160" y="42544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0" y="361"/>
                    </a:moveTo>
                    <a:lnTo>
                      <a:pt x="92" y="251"/>
                    </a:lnTo>
                    <a:lnTo>
                      <a:pt x="141" y="83"/>
                    </a:lnTo>
                    <a:lnTo>
                      <a:pt x="211" y="26"/>
                    </a:lnTo>
                    <a:lnTo>
                      <a:pt x="277" y="26"/>
                    </a:lnTo>
                    <a:lnTo>
                      <a:pt x="440" y="0"/>
                    </a:lnTo>
                    <a:lnTo>
                      <a:pt x="511" y="0"/>
                    </a:lnTo>
                    <a:lnTo>
                      <a:pt x="582" y="0"/>
                    </a:lnTo>
                    <a:lnTo>
                      <a:pt x="652" y="26"/>
                    </a:lnTo>
                    <a:lnTo>
                      <a:pt x="723" y="57"/>
                    </a:lnTo>
                    <a:lnTo>
                      <a:pt x="793" y="136"/>
                    </a:lnTo>
                    <a:lnTo>
                      <a:pt x="864" y="167"/>
                    </a:lnTo>
                    <a:lnTo>
                      <a:pt x="956" y="220"/>
                    </a:lnTo>
                    <a:lnTo>
                      <a:pt x="1027" y="251"/>
                    </a:lnTo>
                    <a:lnTo>
                      <a:pt x="1093" y="277"/>
                    </a:lnTo>
                    <a:lnTo>
                      <a:pt x="1164" y="304"/>
                    </a:lnTo>
                    <a:lnTo>
                      <a:pt x="1234" y="335"/>
                    </a:lnTo>
                    <a:lnTo>
                      <a:pt x="1306" y="361"/>
                    </a:lnTo>
                    <a:lnTo>
                      <a:pt x="1398" y="388"/>
                    </a:lnTo>
                    <a:lnTo>
                      <a:pt x="1469" y="445"/>
                    </a:lnTo>
                    <a:lnTo>
                      <a:pt x="1513" y="529"/>
                    </a:lnTo>
                    <a:lnTo>
                      <a:pt x="1562" y="608"/>
                    </a:lnTo>
                    <a:lnTo>
                      <a:pt x="1584" y="692"/>
                    </a:lnTo>
                    <a:lnTo>
                      <a:pt x="1610" y="776"/>
                    </a:lnTo>
                    <a:lnTo>
                      <a:pt x="1654" y="859"/>
                    </a:lnTo>
                    <a:lnTo>
                      <a:pt x="1676" y="943"/>
                    </a:lnTo>
                    <a:lnTo>
                      <a:pt x="1725" y="1027"/>
                    </a:lnTo>
                    <a:lnTo>
                      <a:pt x="1795" y="1053"/>
                    </a:lnTo>
                    <a:lnTo>
                      <a:pt x="1866" y="1111"/>
                    </a:lnTo>
                    <a:lnTo>
                      <a:pt x="1936" y="1164"/>
                    </a:lnTo>
                    <a:lnTo>
                      <a:pt x="2029" y="1221"/>
                    </a:lnTo>
                    <a:lnTo>
                      <a:pt x="2100" y="1305"/>
                    </a:lnTo>
                    <a:lnTo>
                      <a:pt x="2144" y="1389"/>
                    </a:lnTo>
                    <a:lnTo>
                      <a:pt x="2166" y="1472"/>
                    </a:lnTo>
                    <a:lnTo>
                      <a:pt x="2166" y="1556"/>
                    </a:lnTo>
                    <a:lnTo>
                      <a:pt x="2166" y="1636"/>
                    </a:lnTo>
                    <a:lnTo>
                      <a:pt x="2166" y="1719"/>
                    </a:lnTo>
                    <a:lnTo>
                      <a:pt x="2166" y="1803"/>
                    </a:lnTo>
                    <a:lnTo>
                      <a:pt x="2166" y="1887"/>
                    </a:lnTo>
                    <a:lnTo>
                      <a:pt x="2166" y="1971"/>
                    </a:lnTo>
                    <a:lnTo>
                      <a:pt x="2144" y="2054"/>
                    </a:lnTo>
                    <a:lnTo>
                      <a:pt x="2073" y="2301"/>
                    </a:lnTo>
                    <a:lnTo>
                      <a:pt x="2051" y="2385"/>
                    </a:lnTo>
                    <a:lnTo>
                      <a:pt x="2029" y="2469"/>
                    </a:lnTo>
                    <a:lnTo>
                      <a:pt x="2029" y="2554"/>
                    </a:lnTo>
                    <a:lnTo>
                      <a:pt x="2029" y="2638"/>
                    </a:lnTo>
                    <a:lnTo>
                      <a:pt x="2029" y="2721"/>
                    </a:lnTo>
                    <a:lnTo>
                      <a:pt x="2029" y="2805"/>
                    </a:lnTo>
                    <a:lnTo>
                      <a:pt x="2051" y="2889"/>
                    </a:lnTo>
                    <a:lnTo>
                      <a:pt x="2073" y="2973"/>
                    </a:lnTo>
                    <a:lnTo>
                      <a:pt x="2100" y="3052"/>
                    </a:lnTo>
                    <a:lnTo>
                      <a:pt x="2122" y="3136"/>
                    </a:lnTo>
                    <a:lnTo>
                      <a:pt x="2122" y="3220"/>
                    </a:lnTo>
                    <a:lnTo>
                      <a:pt x="2122" y="3303"/>
                    </a:lnTo>
                    <a:lnTo>
                      <a:pt x="2122" y="3387"/>
                    </a:lnTo>
                    <a:lnTo>
                      <a:pt x="2122" y="3471"/>
                    </a:lnTo>
                    <a:lnTo>
                      <a:pt x="2122" y="3555"/>
                    </a:lnTo>
                    <a:lnTo>
                      <a:pt x="2122" y="3639"/>
                    </a:lnTo>
                    <a:lnTo>
                      <a:pt x="2144" y="3722"/>
                    </a:lnTo>
                    <a:lnTo>
                      <a:pt x="2166" y="3802"/>
                    </a:lnTo>
                    <a:lnTo>
                      <a:pt x="2236" y="3859"/>
                    </a:lnTo>
                    <a:lnTo>
                      <a:pt x="2263" y="3943"/>
                    </a:lnTo>
                    <a:lnTo>
                      <a:pt x="2307" y="4027"/>
                    </a:lnTo>
                    <a:lnTo>
                      <a:pt x="2355" y="4110"/>
                    </a:lnTo>
                    <a:lnTo>
                      <a:pt x="2426" y="4163"/>
                    </a:lnTo>
                    <a:lnTo>
                      <a:pt x="2448" y="4247"/>
                    </a:lnTo>
                    <a:lnTo>
                      <a:pt x="2492" y="4331"/>
                    </a:lnTo>
                    <a:lnTo>
                      <a:pt x="2492" y="4415"/>
                    </a:lnTo>
                    <a:lnTo>
                      <a:pt x="2518" y="4498"/>
                    </a:lnTo>
                    <a:lnTo>
                      <a:pt x="2541" y="4582"/>
                    </a:lnTo>
                    <a:lnTo>
                      <a:pt x="2541" y="4666"/>
                    </a:lnTo>
                    <a:lnTo>
                      <a:pt x="2541" y="4745"/>
                    </a:lnTo>
                    <a:lnTo>
                      <a:pt x="2518" y="4829"/>
                    </a:lnTo>
                    <a:lnTo>
                      <a:pt x="2492" y="4913"/>
                    </a:lnTo>
                    <a:lnTo>
                      <a:pt x="2448" y="4997"/>
                    </a:lnTo>
                    <a:lnTo>
                      <a:pt x="2263" y="5023"/>
                    </a:lnTo>
                    <a:lnTo>
                      <a:pt x="2100" y="5054"/>
                    </a:lnTo>
                    <a:lnTo>
                      <a:pt x="2029" y="5081"/>
                    </a:lnTo>
                    <a:lnTo>
                      <a:pt x="1958" y="5081"/>
                    </a:lnTo>
                    <a:lnTo>
                      <a:pt x="1676" y="5081"/>
                    </a:lnTo>
                    <a:lnTo>
                      <a:pt x="1610" y="5081"/>
                    </a:lnTo>
                    <a:lnTo>
                      <a:pt x="1513" y="5081"/>
                    </a:lnTo>
                    <a:lnTo>
                      <a:pt x="1420" y="5054"/>
                    </a:lnTo>
                    <a:lnTo>
                      <a:pt x="1350" y="5023"/>
                    </a:lnTo>
                    <a:lnTo>
                      <a:pt x="1306" y="4944"/>
                    </a:lnTo>
                    <a:lnTo>
                      <a:pt x="1284" y="4860"/>
                    </a:lnTo>
                    <a:lnTo>
                      <a:pt x="1212" y="4776"/>
                    </a:lnTo>
                    <a:lnTo>
                      <a:pt x="1164" y="4692"/>
                    </a:lnTo>
                    <a:lnTo>
                      <a:pt x="1120" y="4609"/>
                    </a:lnTo>
                    <a:lnTo>
                      <a:pt x="1120" y="4525"/>
                    </a:lnTo>
                    <a:lnTo>
                      <a:pt x="1120" y="4388"/>
                    </a:lnTo>
                    <a:lnTo>
                      <a:pt x="1256" y="4331"/>
                    </a:lnTo>
                    <a:lnTo>
                      <a:pt x="1447" y="4274"/>
                    </a:lnTo>
                    <a:lnTo>
                      <a:pt x="1513" y="4304"/>
                    </a:lnTo>
                    <a:lnTo>
                      <a:pt x="1584" y="4331"/>
                    </a:lnTo>
                    <a:lnTo>
                      <a:pt x="1654" y="4388"/>
                    </a:lnTo>
                    <a:lnTo>
                      <a:pt x="1817" y="4388"/>
                    </a:lnTo>
                    <a:lnTo>
                      <a:pt x="2003" y="4388"/>
                    </a:lnTo>
                    <a:lnTo>
                      <a:pt x="2073" y="4415"/>
                    </a:lnTo>
                    <a:lnTo>
                      <a:pt x="2166" y="4441"/>
                    </a:lnTo>
                    <a:lnTo>
                      <a:pt x="2214" y="4719"/>
                    </a:lnTo>
                    <a:lnTo>
                      <a:pt x="2144" y="4692"/>
                    </a:lnTo>
                    <a:lnTo>
                      <a:pt x="2073" y="4666"/>
                    </a:lnTo>
                    <a:lnTo>
                      <a:pt x="2003" y="4635"/>
                    </a:lnTo>
                    <a:lnTo>
                      <a:pt x="1936" y="4609"/>
                    </a:lnTo>
                    <a:lnTo>
                      <a:pt x="1839" y="4582"/>
                    </a:lnTo>
                    <a:lnTo>
                      <a:pt x="1773" y="4582"/>
                    </a:lnTo>
                    <a:lnTo>
                      <a:pt x="1703" y="4582"/>
                    </a:lnTo>
                    <a:lnTo>
                      <a:pt x="1632" y="4582"/>
                    </a:lnTo>
                    <a:lnTo>
                      <a:pt x="1562" y="4635"/>
                    </a:lnTo>
                    <a:lnTo>
                      <a:pt x="1539" y="4719"/>
                    </a:lnTo>
                    <a:lnTo>
                      <a:pt x="1610" y="4776"/>
                    </a:lnTo>
                    <a:lnTo>
                      <a:pt x="1676" y="4803"/>
                    </a:lnTo>
                    <a:lnTo>
                      <a:pt x="1747" y="4803"/>
                    </a:lnTo>
                    <a:lnTo>
                      <a:pt x="1817" y="4803"/>
                    </a:lnTo>
                    <a:lnTo>
                      <a:pt x="1888" y="4776"/>
                    </a:lnTo>
                    <a:lnTo>
                      <a:pt x="1980" y="4719"/>
                    </a:lnTo>
                    <a:lnTo>
                      <a:pt x="2073" y="4745"/>
                    </a:lnTo>
                    <a:lnTo>
                      <a:pt x="2214" y="4745"/>
                    </a:lnTo>
                    <a:lnTo>
                      <a:pt x="2214" y="4498"/>
                    </a:lnTo>
                    <a:lnTo>
                      <a:pt x="2073" y="4388"/>
                    </a:lnTo>
                    <a:lnTo>
                      <a:pt x="2051" y="4304"/>
                    </a:lnTo>
                    <a:lnTo>
                      <a:pt x="2003" y="4221"/>
                    </a:lnTo>
                    <a:lnTo>
                      <a:pt x="2003" y="4137"/>
                    </a:lnTo>
                    <a:lnTo>
                      <a:pt x="1980" y="4053"/>
                    </a:lnTo>
                    <a:lnTo>
                      <a:pt x="1936" y="3969"/>
                    </a:lnTo>
                    <a:lnTo>
                      <a:pt x="1888" y="3885"/>
                    </a:lnTo>
                    <a:lnTo>
                      <a:pt x="1866" y="3802"/>
                    </a:lnTo>
                    <a:lnTo>
                      <a:pt x="1866" y="3722"/>
                    </a:lnTo>
                    <a:lnTo>
                      <a:pt x="1866" y="3639"/>
                    </a:lnTo>
                    <a:lnTo>
                      <a:pt x="1839" y="3555"/>
                    </a:lnTo>
                    <a:lnTo>
                      <a:pt x="1839" y="3471"/>
                    </a:lnTo>
                    <a:lnTo>
                      <a:pt x="1817" y="3387"/>
                    </a:lnTo>
                    <a:lnTo>
                      <a:pt x="1795" y="3303"/>
                    </a:lnTo>
                    <a:lnTo>
                      <a:pt x="1773" y="3220"/>
                    </a:lnTo>
                    <a:lnTo>
                      <a:pt x="1747" y="3136"/>
                    </a:lnTo>
                    <a:lnTo>
                      <a:pt x="1725" y="3052"/>
                    </a:lnTo>
                    <a:lnTo>
                      <a:pt x="1725" y="2973"/>
                    </a:lnTo>
                    <a:lnTo>
                      <a:pt x="1703" y="2889"/>
                    </a:lnTo>
                    <a:lnTo>
                      <a:pt x="1703" y="2805"/>
                    </a:lnTo>
                    <a:lnTo>
                      <a:pt x="1725" y="2721"/>
                    </a:lnTo>
                    <a:lnTo>
                      <a:pt x="1725" y="2638"/>
                    </a:lnTo>
                    <a:lnTo>
                      <a:pt x="1725" y="2554"/>
                    </a:lnTo>
                    <a:lnTo>
                      <a:pt x="1725" y="2469"/>
                    </a:lnTo>
                    <a:lnTo>
                      <a:pt x="1725" y="2385"/>
                    </a:lnTo>
                    <a:lnTo>
                      <a:pt x="1747" y="2301"/>
                    </a:lnTo>
                    <a:lnTo>
                      <a:pt x="1773" y="2222"/>
                    </a:lnTo>
                    <a:lnTo>
                      <a:pt x="1773" y="1997"/>
                    </a:lnTo>
                    <a:lnTo>
                      <a:pt x="1795" y="1887"/>
                    </a:lnTo>
                    <a:lnTo>
                      <a:pt x="1795" y="1803"/>
                    </a:lnTo>
                    <a:lnTo>
                      <a:pt x="1773" y="1719"/>
                    </a:lnTo>
                    <a:lnTo>
                      <a:pt x="1725" y="1609"/>
                    </a:lnTo>
                    <a:lnTo>
                      <a:pt x="1703" y="1525"/>
                    </a:lnTo>
                    <a:lnTo>
                      <a:pt x="1632" y="1441"/>
                    </a:lnTo>
                    <a:lnTo>
                      <a:pt x="1562" y="1358"/>
                    </a:lnTo>
                    <a:lnTo>
                      <a:pt x="1491" y="1278"/>
                    </a:lnTo>
                    <a:lnTo>
                      <a:pt x="1420" y="1195"/>
                    </a:lnTo>
                    <a:lnTo>
                      <a:pt x="1398" y="1111"/>
                    </a:lnTo>
                    <a:lnTo>
                      <a:pt x="1376" y="1027"/>
                    </a:lnTo>
                    <a:lnTo>
                      <a:pt x="1350" y="943"/>
                    </a:lnTo>
                    <a:lnTo>
                      <a:pt x="1306" y="859"/>
                    </a:lnTo>
                    <a:lnTo>
                      <a:pt x="1256" y="776"/>
                    </a:lnTo>
                    <a:lnTo>
                      <a:pt x="1190" y="692"/>
                    </a:lnTo>
                    <a:lnTo>
                      <a:pt x="1120" y="608"/>
                    </a:lnTo>
                    <a:lnTo>
                      <a:pt x="1049" y="555"/>
                    </a:lnTo>
                    <a:lnTo>
                      <a:pt x="978" y="529"/>
                    </a:lnTo>
                    <a:lnTo>
                      <a:pt x="908" y="471"/>
                    </a:lnTo>
                    <a:lnTo>
                      <a:pt x="837" y="471"/>
                    </a:lnTo>
                    <a:lnTo>
                      <a:pt x="701" y="471"/>
                    </a:lnTo>
                    <a:lnTo>
                      <a:pt x="630" y="471"/>
                    </a:lnTo>
                    <a:lnTo>
                      <a:pt x="560" y="471"/>
                    </a:lnTo>
                    <a:lnTo>
                      <a:pt x="374" y="445"/>
                    </a:lnTo>
                    <a:lnTo>
                      <a:pt x="277" y="445"/>
                    </a:lnTo>
                    <a:lnTo>
                      <a:pt x="233" y="529"/>
                    </a:lnTo>
                    <a:lnTo>
                      <a:pt x="163" y="582"/>
                    </a:lnTo>
                    <a:lnTo>
                      <a:pt x="92" y="555"/>
                    </a:lnTo>
                    <a:lnTo>
                      <a:pt x="70" y="47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ff99cc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292640" y="4241880"/>
              <a:ext cx="914760" cy="1918080"/>
              <a:chOff x="4292640" y="4241880"/>
              <a:chExt cx="914760" cy="1918080"/>
            </a:xfrm>
          </p:grpSpPr>
          <p:sp>
            <p:nvSpPr>
              <p:cNvPr id="390" name=""/>
              <p:cNvSpPr/>
              <p:nvPr/>
            </p:nvSpPr>
            <p:spPr>
              <a:xfrm>
                <a:off x="4300560" y="6000840"/>
                <a:ext cx="705240" cy="159120"/>
              </a:xfrm>
              <a:custGeom>
                <a:avLst/>
                <a:gdLst/>
                <a:ahLst/>
                <a:rect l="0" t="0" r="r" b="b"/>
                <a:pathLst>
                  <a:path w="1959" h="442">
                    <a:moveTo>
                      <a:pt x="0" y="138"/>
                    </a:moveTo>
                    <a:lnTo>
                      <a:pt x="93" y="221"/>
                    </a:lnTo>
                    <a:lnTo>
                      <a:pt x="163" y="249"/>
                    </a:lnTo>
                    <a:lnTo>
                      <a:pt x="209" y="332"/>
                    </a:lnTo>
                    <a:lnTo>
                      <a:pt x="279" y="387"/>
                    </a:lnTo>
                    <a:lnTo>
                      <a:pt x="349" y="387"/>
                    </a:lnTo>
                    <a:lnTo>
                      <a:pt x="419" y="387"/>
                    </a:lnTo>
                    <a:lnTo>
                      <a:pt x="489" y="387"/>
                    </a:lnTo>
                    <a:lnTo>
                      <a:pt x="560" y="387"/>
                    </a:lnTo>
                    <a:lnTo>
                      <a:pt x="630" y="387"/>
                    </a:lnTo>
                    <a:lnTo>
                      <a:pt x="700" y="415"/>
                    </a:lnTo>
                    <a:lnTo>
                      <a:pt x="793" y="442"/>
                    </a:lnTo>
                    <a:lnTo>
                      <a:pt x="863" y="442"/>
                    </a:lnTo>
                    <a:lnTo>
                      <a:pt x="933" y="442"/>
                    </a:lnTo>
                    <a:lnTo>
                      <a:pt x="1003" y="442"/>
                    </a:lnTo>
                    <a:lnTo>
                      <a:pt x="1073" y="442"/>
                    </a:lnTo>
                    <a:lnTo>
                      <a:pt x="1143" y="415"/>
                    </a:lnTo>
                    <a:lnTo>
                      <a:pt x="1213" y="415"/>
                    </a:lnTo>
                    <a:lnTo>
                      <a:pt x="1282" y="387"/>
                    </a:lnTo>
                    <a:lnTo>
                      <a:pt x="1352" y="360"/>
                    </a:lnTo>
                    <a:lnTo>
                      <a:pt x="1422" y="360"/>
                    </a:lnTo>
                    <a:lnTo>
                      <a:pt x="1493" y="360"/>
                    </a:lnTo>
                    <a:lnTo>
                      <a:pt x="1563" y="415"/>
                    </a:lnTo>
                    <a:lnTo>
                      <a:pt x="1633" y="442"/>
                    </a:lnTo>
                    <a:lnTo>
                      <a:pt x="1703" y="442"/>
                    </a:lnTo>
                    <a:lnTo>
                      <a:pt x="1750" y="360"/>
                    </a:lnTo>
                    <a:lnTo>
                      <a:pt x="1820" y="360"/>
                    </a:lnTo>
                    <a:lnTo>
                      <a:pt x="1889" y="360"/>
                    </a:lnTo>
                    <a:lnTo>
                      <a:pt x="1959" y="304"/>
                    </a:lnTo>
                    <a:lnTo>
                      <a:pt x="1866" y="249"/>
                    </a:lnTo>
                    <a:lnTo>
                      <a:pt x="1796" y="249"/>
                    </a:lnTo>
                    <a:lnTo>
                      <a:pt x="1726" y="193"/>
                    </a:lnTo>
                    <a:lnTo>
                      <a:pt x="1773" y="111"/>
                    </a:lnTo>
                    <a:lnTo>
                      <a:pt x="1563" y="111"/>
                    </a:lnTo>
                    <a:lnTo>
                      <a:pt x="1493" y="82"/>
                    </a:lnTo>
                    <a:lnTo>
                      <a:pt x="1422" y="82"/>
                    </a:lnTo>
                    <a:lnTo>
                      <a:pt x="1352" y="111"/>
                    </a:lnTo>
                    <a:lnTo>
                      <a:pt x="1282" y="166"/>
                    </a:lnTo>
                    <a:lnTo>
                      <a:pt x="1213" y="166"/>
                    </a:lnTo>
                    <a:lnTo>
                      <a:pt x="1143" y="166"/>
                    </a:lnTo>
                    <a:lnTo>
                      <a:pt x="1049" y="166"/>
                    </a:lnTo>
                    <a:lnTo>
                      <a:pt x="863" y="166"/>
                    </a:lnTo>
                    <a:lnTo>
                      <a:pt x="723" y="166"/>
                    </a:lnTo>
                    <a:lnTo>
                      <a:pt x="537" y="138"/>
                    </a:lnTo>
                    <a:lnTo>
                      <a:pt x="442" y="138"/>
                    </a:lnTo>
                    <a:lnTo>
                      <a:pt x="233" y="55"/>
                    </a:lnTo>
                    <a:lnTo>
                      <a:pt x="46" y="0"/>
                    </a:lnTo>
                    <a:lnTo>
                      <a:pt x="116" y="55"/>
                    </a:lnTo>
                    <a:lnTo>
                      <a:pt x="139" y="166"/>
                    </a:lnTo>
                    <a:lnTo>
                      <a:pt x="139" y="249"/>
                    </a:lnTo>
                    <a:lnTo>
                      <a:pt x="139" y="30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92640" y="4241880"/>
                <a:ext cx="914760" cy="1829160"/>
              </a:xfrm>
              <a:custGeom>
                <a:avLst/>
                <a:gdLst/>
                <a:ahLst/>
                <a:rect l="0" t="0" r="r" b="b"/>
                <a:pathLst>
                  <a:path w="2541" h="5081">
                    <a:moveTo>
                      <a:pt x="2541" y="360"/>
                    </a:moveTo>
                    <a:lnTo>
                      <a:pt x="2447" y="249"/>
                    </a:lnTo>
                    <a:lnTo>
                      <a:pt x="2401" y="83"/>
                    </a:lnTo>
                    <a:lnTo>
                      <a:pt x="2331" y="27"/>
                    </a:lnTo>
                    <a:lnTo>
                      <a:pt x="2261" y="27"/>
                    </a:lnTo>
                    <a:lnTo>
                      <a:pt x="2098" y="0"/>
                    </a:lnTo>
                    <a:lnTo>
                      <a:pt x="2028" y="0"/>
                    </a:lnTo>
                    <a:lnTo>
                      <a:pt x="1958" y="0"/>
                    </a:lnTo>
                    <a:lnTo>
                      <a:pt x="1888" y="27"/>
                    </a:lnTo>
                    <a:lnTo>
                      <a:pt x="1818" y="55"/>
                    </a:lnTo>
                    <a:lnTo>
                      <a:pt x="1748" y="138"/>
                    </a:lnTo>
                    <a:lnTo>
                      <a:pt x="1678" y="166"/>
                    </a:lnTo>
                    <a:lnTo>
                      <a:pt x="1585" y="222"/>
                    </a:lnTo>
                    <a:lnTo>
                      <a:pt x="1515" y="249"/>
                    </a:lnTo>
                    <a:lnTo>
                      <a:pt x="1445" y="277"/>
                    </a:lnTo>
                    <a:lnTo>
                      <a:pt x="1375" y="305"/>
                    </a:lnTo>
                    <a:lnTo>
                      <a:pt x="1305" y="333"/>
                    </a:lnTo>
                    <a:lnTo>
                      <a:pt x="1235" y="360"/>
                    </a:lnTo>
                    <a:lnTo>
                      <a:pt x="1141" y="388"/>
                    </a:lnTo>
                    <a:lnTo>
                      <a:pt x="1071" y="444"/>
                    </a:lnTo>
                    <a:lnTo>
                      <a:pt x="1025" y="527"/>
                    </a:lnTo>
                    <a:lnTo>
                      <a:pt x="978" y="610"/>
                    </a:lnTo>
                    <a:lnTo>
                      <a:pt x="955" y="693"/>
                    </a:lnTo>
                    <a:lnTo>
                      <a:pt x="932" y="777"/>
                    </a:lnTo>
                    <a:lnTo>
                      <a:pt x="885" y="860"/>
                    </a:lnTo>
                    <a:lnTo>
                      <a:pt x="862" y="943"/>
                    </a:lnTo>
                    <a:lnTo>
                      <a:pt x="815" y="1027"/>
                    </a:lnTo>
                    <a:lnTo>
                      <a:pt x="745" y="1054"/>
                    </a:lnTo>
                    <a:lnTo>
                      <a:pt x="675" y="1110"/>
                    </a:lnTo>
                    <a:lnTo>
                      <a:pt x="605" y="1165"/>
                    </a:lnTo>
                    <a:lnTo>
                      <a:pt x="512" y="1221"/>
                    </a:lnTo>
                    <a:lnTo>
                      <a:pt x="442" y="1304"/>
                    </a:lnTo>
                    <a:lnTo>
                      <a:pt x="396" y="1387"/>
                    </a:lnTo>
                    <a:lnTo>
                      <a:pt x="372" y="1471"/>
                    </a:lnTo>
                    <a:lnTo>
                      <a:pt x="372" y="1554"/>
                    </a:lnTo>
                    <a:lnTo>
                      <a:pt x="372" y="1637"/>
                    </a:lnTo>
                    <a:lnTo>
                      <a:pt x="372" y="1721"/>
                    </a:lnTo>
                    <a:lnTo>
                      <a:pt x="372" y="1804"/>
                    </a:lnTo>
                    <a:lnTo>
                      <a:pt x="372" y="1887"/>
                    </a:lnTo>
                    <a:lnTo>
                      <a:pt x="372" y="1970"/>
                    </a:lnTo>
                    <a:lnTo>
                      <a:pt x="396" y="2054"/>
                    </a:lnTo>
                    <a:lnTo>
                      <a:pt x="466" y="2304"/>
                    </a:lnTo>
                    <a:lnTo>
                      <a:pt x="489" y="2387"/>
                    </a:lnTo>
                    <a:lnTo>
                      <a:pt x="512" y="2470"/>
                    </a:lnTo>
                    <a:lnTo>
                      <a:pt x="512" y="2554"/>
                    </a:lnTo>
                    <a:lnTo>
                      <a:pt x="512" y="2638"/>
                    </a:lnTo>
                    <a:lnTo>
                      <a:pt x="512" y="2721"/>
                    </a:lnTo>
                    <a:lnTo>
                      <a:pt x="512" y="2804"/>
                    </a:lnTo>
                    <a:lnTo>
                      <a:pt x="489" y="2887"/>
                    </a:lnTo>
                    <a:lnTo>
                      <a:pt x="466" y="2971"/>
                    </a:lnTo>
                    <a:lnTo>
                      <a:pt x="442" y="3054"/>
                    </a:lnTo>
                    <a:lnTo>
                      <a:pt x="419" y="3137"/>
                    </a:lnTo>
                    <a:lnTo>
                      <a:pt x="419" y="3221"/>
                    </a:lnTo>
                    <a:lnTo>
                      <a:pt x="419" y="3304"/>
                    </a:lnTo>
                    <a:lnTo>
                      <a:pt x="419" y="3387"/>
                    </a:lnTo>
                    <a:lnTo>
                      <a:pt x="419" y="3470"/>
                    </a:lnTo>
                    <a:lnTo>
                      <a:pt x="419" y="3554"/>
                    </a:lnTo>
                    <a:lnTo>
                      <a:pt x="419" y="3637"/>
                    </a:lnTo>
                    <a:lnTo>
                      <a:pt x="396" y="3720"/>
                    </a:lnTo>
                    <a:lnTo>
                      <a:pt x="372" y="3804"/>
                    </a:lnTo>
                    <a:lnTo>
                      <a:pt x="302" y="3859"/>
                    </a:lnTo>
                    <a:lnTo>
                      <a:pt x="279" y="3942"/>
                    </a:lnTo>
                    <a:lnTo>
                      <a:pt x="233" y="4026"/>
                    </a:lnTo>
                    <a:lnTo>
                      <a:pt x="186" y="4109"/>
                    </a:lnTo>
                    <a:lnTo>
                      <a:pt x="116" y="4164"/>
                    </a:lnTo>
                    <a:lnTo>
                      <a:pt x="93" y="4248"/>
                    </a:lnTo>
                    <a:lnTo>
                      <a:pt x="46" y="4331"/>
                    </a:lnTo>
                    <a:lnTo>
                      <a:pt x="46" y="4414"/>
                    </a:lnTo>
                    <a:lnTo>
                      <a:pt x="23" y="4498"/>
                    </a:lnTo>
                    <a:lnTo>
                      <a:pt x="0" y="4581"/>
                    </a:lnTo>
                    <a:lnTo>
                      <a:pt x="0" y="4664"/>
                    </a:lnTo>
                    <a:lnTo>
                      <a:pt x="0" y="4747"/>
                    </a:lnTo>
                    <a:lnTo>
                      <a:pt x="23" y="4831"/>
                    </a:lnTo>
                    <a:lnTo>
                      <a:pt x="46" y="4914"/>
                    </a:lnTo>
                    <a:lnTo>
                      <a:pt x="93" y="4997"/>
                    </a:lnTo>
                    <a:lnTo>
                      <a:pt x="279" y="5025"/>
                    </a:lnTo>
                    <a:lnTo>
                      <a:pt x="442" y="5053"/>
                    </a:lnTo>
                    <a:lnTo>
                      <a:pt x="512" y="5081"/>
                    </a:lnTo>
                    <a:lnTo>
                      <a:pt x="582" y="5081"/>
                    </a:lnTo>
                    <a:lnTo>
                      <a:pt x="862" y="5081"/>
                    </a:lnTo>
                    <a:lnTo>
                      <a:pt x="932" y="5081"/>
                    </a:lnTo>
                    <a:lnTo>
                      <a:pt x="1025" y="5081"/>
                    </a:lnTo>
                    <a:lnTo>
                      <a:pt x="1118" y="5053"/>
                    </a:lnTo>
                    <a:lnTo>
                      <a:pt x="1188" y="5025"/>
                    </a:lnTo>
                    <a:lnTo>
                      <a:pt x="1235" y="4942"/>
                    </a:lnTo>
                    <a:lnTo>
                      <a:pt x="1258" y="4858"/>
                    </a:lnTo>
                    <a:lnTo>
                      <a:pt x="1329" y="4775"/>
                    </a:lnTo>
                    <a:lnTo>
                      <a:pt x="1375" y="4692"/>
                    </a:lnTo>
                    <a:lnTo>
                      <a:pt x="1422" y="4609"/>
                    </a:lnTo>
                    <a:lnTo>
                      <a:pt x="1422" y="4525"/>
                    </a:lnTo>
                    <a:lnTo>
                      <a:pt x="1422" y="4387"/>
                    </a:lnTo>
                    <a:lnTo>
                      <a:pt x="1282" y="4331"/>
                    </a:lnTo>
                    <a:lnTo>
                      <a:pt x="1095" y="4275"/>
                    </a:lnTo>
                    <a:lnTo>
                      <a:pt x="1025" y="4303"/>
                    </a:lnTo>
                    <a:lnTo>
                      <a:pt x="955" y="4331"/>
                    </a:lnTo>
                    <a:lnTo>
                      <a:pt x="885" y="4387"/>
                    </a:lnTo>
                    <a:lnTo>
                      <a:pt x="722" y="4387"/>
                    </a:lnTo>
                    <a:lnTo>
                      <a:pt x="535" y="4387"/>
                    </a:lnTo>
                    <a:lnTo>
                      <a:pt x="466" y="4414"/>
                    </a:lnTo>
                    <a:lnTo>
                      <a:pt x="372" y="4442"/>
                    </a:lnTo>
                    <a:lnTo>
                      <a:pt x="326" y="4720"/>
                    </a:lnTo>
                    <a:lnTo>
                      <a:pt x="396" y="4692"/>
                    </a:lnTo>
                    <a:lnTo>
                      <a:pt x="466" y="4664"/>
                    </a:lnTo>
                    <a:lnTo>
                      <a:pt x="535" y="4636"/>
                    </a:lnTo>
                    <a:lnTo>
                      <a:pt x="605" y="4609"/>
                    </a:lnTo>
                    <a:lnTo>
                      <a:pt x="699" y="4581"/>
                    </a:lnTo>
                    <a:lnTo>
                      <a:pt x="768" y="4581"/>
                    </a:lnTo>
                    <a:lnTo>
                      <a:pt x="838" y="4581"/>
                    </a:lnTo>
                    <a:lnTo>
                      <a:pt x="908" y="4581"/>
                    </a:lnTo>
                    <a:lnTo>
                      <a:pt x="978" y="4636"/>
                    </a:lnTo>
                    <a:lnTo>
                      <a:pt x="1002" y="4720"/>
                    </a:lnTo>
                    <a:lnTo>
                      <a:pt x="932" y="4775"/>
                    </a:lnTo>
                    <a:lnTo>
                      <a:pt x="862" y="4803"/>
                    </a:lnTo>
                    <a:lnTo>
                      <a:pt x="792" y="4803"/>
                    </a:lnTo>
                    <a:lnTo>
                      <a:pt x="722" y="4803"/>
                    </a:lnTo>
                    <a:lnTo>
                      <a:pt x="652" y="4775"/>
                    </a:lnTo>
                    <a:lnTo>
                      <a:pt x="559" y="4720"/>
                    </a:lnTo>
                    <a:lnTo>
                      <a:pt x="466" y="4747"/>
                    </a:lnTo>
                    <a:lnTo>
                      <a:pt x="326" y="4747"/>
                    </a:lnTo>
                    <a:lnTo>
                      <a:pt x="326" y="4498"/>
                    </a:lnTo>
                    <a:lnTo>
                      <a:pt x="466" y="4387"/>
                    </a:lnTo>
                    <a:lnTo>
                      <a:pt x="489" y="4303"/>
                    </a:lnTo>
                    <a:lnTo>
                      <a:pt x="535" y="4220"/>
                    </a:lnTo>
                    <a:lnTo>
                      <a:pt x="535" y="4137"/>
                    </a:lnTo>
                    <a:lnTo>
                      <a:pt x="559" y="4053"/>
                    </a:lnTo>
                    <a:lnTo>
                      <a:pt x="605" y="3970"/>
                    </a:lnTo>
                    <a:lnTo>
                      <a:pt x="652" y="3887"/>
                    </a:lnTo>
                    <a:lnTo>
                      <a:pt x="675" y="3804"/>
                    </a:lnTo>
                    <a:lnTo>
                      <a:pt x="675" y="3720"/>
                    </a:lnTo>
                    <a:lnTo>
                      <a:pt x="675" y="3637"/>
                    </a:lnTo>
                    <a:lnTo>
                      <a:pt x="699" y="3554"/>
                    </a:lnTo>
                    <a:lnTo>
                      <a:pt x="699" y="3470"/>
                    </a:lnTo>
                    <a:lnTo>
                      <a:pt x="722" y="3387"/>
                    </a:lnTo>
                    <a:lnTo>
                      <a:pt x="745" y="3304"/>
                    </a:lnTo>
                    <a:lnTo>
                      <a:pt x="768" y="3221"/>
                    </a:lnTo>
                    <a:lnTo>
                      <a:pt x="792" y="3137"/>
                    </a:lnTo>
                    <a:lnTo>
                      <a:pt x="815" y="3054"/>
                    </a:lnTo>
                    <a:lnTo>
                      <a:pt x="815" y="2971"/>
                    </a:lnTo>
                    <a:lnTo>
                      <a:pt x="838" y="2887"/>
                    </a:lnTo>
                    <a:lnTo>
                      <a:pt x="838" y="2804"/>
                    </a:lnTo>
                    <a:lnTo>
                      <a:pt x="815" y="2721"/>
                    </a:lnTo>
                    <a:lnTo>
                      <a:pt x="815" y="2638"/>
                    </a:lnTo>
                    <a:lnTo>
                      <a:pt x="815" y="2554"/>
                    </a:lnTo>
                    <a:lnTo>
                      <a:pt x="815" y="2470"/>
                    </a:lnTo>
                    <a:lnTo>
                      <a:pt x="815" y="2387"/>
                    </a:lnTo>
                    <a:lnTo>
                      <a:pt x="792" y="2304"/>
                    </a:lnTo>
                    <a:lnTo>
                      <a:pt x="768" y="2220"/>
                    </a:lnTo>
                    <a:lnTo>
                      <a:pt x="768" y="1998"/>
                    </a:lnTo>
                    <a:lnTo>
                      <a:pt x="745" y="1887"/>
                    </a:lnTo>
                    <a:lnTo>
                      <a:pt x="745" y="1804"/>
                    </a:lnTo>
                    <a:lnTo>
                      <a:pt x="768" y="1721"/>
                    </a:lnTo>
                    <a:lnTo>
                      <a:pt x="815" y="1610"/>
                    </a:lnTo>
                    <a:lnTo>
                      <a:pt x="838" y="1526"/>
                    </a:lnTo>
                    <a:lnTo>
                      <a:pt x="908" y="1443"/>
                    </a:lnTo>
                    <a:lnTo>
                      <a:pt x="978" y="1360"/>
                    </a:lnTo>
                    <a:lnTo>
                      <a:pt x="1048" y="1276"/>
                    </a:lnTo>
                    <a:lnTo>
                      <a:pt x="1118" y="1193"/>
                    </a:lnTo>
                    <a:lnTo>
                      <a:pt x="1141" y="1110"/>
                    </a:lnTo>
                    <a:lnTo>
                      <a:pt x="1165" y="1027"/>
                    </a:lnTo>
                    <a:lnTo>
                      <a:pt x="1188" y="943"/>
                    </a:lnTo>
                    <a:lnTo>
                      <a:pt x="1235" y="860"/>
                    </a:lnTo>
                    <a:lnTo>
                      <a:pt x="1282" y="777"/>
                    </a:lnTo>
                    <a:lnTo>
                      <a:pt x="1352" y="693"/>
                    </a:lnTo>
                    <a:lnTo>
                      <a:pt x="1422" y="610"/>
                    </a:lnTo>
                    <a:lnTo>
                      <a:pt x="1492" y="555"/>
                    </a:lnTo>
                    <a:lnTo>
                      <a:pt x="1562" y="527"/>
                    </a:lnTo>
                    <a:lnTo>
                      <a:pt x="1632" y="471"/>
                    </a:lnTo>
                    <a:lnTo>
                      <a:pt x="1702" y="471"/>
                    </a:lnTo>
                    <a:lnTo>
                      <a:pt x="1841" y="471"/>
                    </a:lnTo>
                    <a:lnTo>
                      <a:pt x="1911" y="471"/>
                    </a:lnTo>
                    <a:lnTo>
                      <a:pt x="1981" y="471"/>
                    </a:lnTo>
                    <a:lnTo>
                      <a:pt x="2168" y="444"/>
                    </a:lnTo>
                    <a:lnTo>
                      <a:pt x="2261" y="444"/>
                    </a:lnTo>
                    <a:lnTo>
                      <a:pt x="2307" y="527"/>
                    </a:lnTo>
                    <a:lnTo>
                      <a:pt x="2377" y="582"/>
                    </a:lnTo>
                    <a:lnTo>
                      <a:pt x="2447" y="555"/>
                    </a:lnTo>
                    <a:lnTo>
                      <a:pt x="2471" y="471"/>
                    </a:lnTo>
                    <a:lnTo>
                      <a:pt x="2541" y="360"/>
                    </a:lnTo>
                    <a:close/>
                  </a:path>
                </a:pathLst>
              </a:custGeom>
              <a:solidFill>
                <a:srgbClr val="ff99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427560" y="4268880"/>
              <a:ext cx="535320" cy="1511640"/>
              <a:chOff x="3427560" y="4268880"/>
              <a:chExt cx="535320" cy="1511640"/>
            </a:xfrm>
          </p:grpSpPr>
          <p:sp>
            <p:nvSpPr>
              <p:cNvPr id="393" name=""/>
              <p:cNvSpPr/>
              <p:nvPr/>
            </p:nvSpPr>
            <p:spPr>
              <a:xfrm>
                <a:off x="3576600" y="4352760"/>
                <a:ext cx="97200" cy="147960"/>
              </a:xfrm>
              <a:custGeom>
                <a:avLst/>
                <a:gdLst/>
                <a:ahLst/>
                <a:rect l="0" t="0" r="r" b="b"/>
                <a:pathLst>
                  <a:path w="270" h="411">
                    <a:moveTo>
                      <a:pt x="218" y="243"/>
                    </a:moveTo>
                    <a:lnTo>
                      <a:pt x="218" y="167"/>
                    </a:lnTo>
                    <a:lnTo>
                      <a:pt x="186" y="92"/>
                    </a:lnTo>
                    <a:lnTo>
                      <a:pt x="128" y="48"/>
                    </a:lnTo>
                    <a:lnTo>
                      <a:pt x="71" y="0"/>
                    </a:lnTo>
                    <a:lnTo>
                      <a:pt x="39" y="30"/>
                    </a:lnTo>
                    <a:lnTo>
                      <a:pt x="0" y="7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6" y="110"/>
                    </a:lnTo>
                    <a:lnTo>
                      <a:pt x="84" y="154"/>
                    </a:lnTo>
                    <a:lnTo>
                      <a:pt x="142" y="217"/>
                    </a:lnTo>
                    <a:lnTo>
                      <a:pt x="155" y="287"/>
                    </a:lnTo>
                    <a:lnTo>
                      <a:pt x="155" y="318"/>
                    </a:lnTo>
                    <a:lnTo>
                      <a:pt x="172" y="349"/>
                    </a:lnTo>
                    <a:lnTo>
                      <a:pt x="186" y="380"/>
                    </a:lnTo>
                    <a:lnTo>
                      <a:pt x="218" y="393"/>
                    </a:lnTo>
                    <a:lnTo>
                      <a:pt x="231" y="411"/>
                    </a:lnTo>
                    <a:lnTo>
                      <a:pt x="244" y="411"/>
                    </a:lnTo>
                    <a:lnTo>
                      <a:pt x="270" y="380"/>
                    </a:lnTo>
                    <a:lnTo>
                      <a:pt x="270" y="349"/>
                    </a:lnTo>
                    <a:lnTo>
                      <a:pt x="262" y="336"/>
                    </a:lnTo>
                    <a:lnTo>
                      <a:pt x="244" y="274"/>
                    </a:lnTo>
                    <a:lnTo>
                      <a:pt x="231" y="256"/>
                    </a:lnTo>
                    <a:lnTo>
                      <a:pt x="218" y="256"/>
                    </a:lnTo>
                    <a:lnTo>
                      <a:pt x="218" y="24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43360" y="4505400"/>
                <a:ext cx="119520" cy="216360"/>
              </a:xfrm>
              <a:custGeom>
                <a:avLst/>
                <a:gdLst/>
                <a:ahLst/>
                <a:rect l="0" t="0" r="r" b="b"/>
                <a:pathLst>
                  <a:path w="332" h="601">
                    <a:moveTo>
                      <a:pt x="79" y="469"/>
                    </a:moveTo>
                    <a:lnTo>
                      <a:pt x="146" y="358"/>
                    </a:lnTo>
                    <a:lnTo>
                      <a:pt x="212" y="225"/>
                    </a:lnTo>
                    <a:lnTo>
                      <a:pt x="212" y="164"/>
                    </a:lnTo>
                    <a:lnTo>
                      <a:pt x="212" y="97"/>
                    </a:lnTo>
                    <a:lnTo>
                      <a:pt x="186" y="44"/>
                    </a:lnTo>
                    <a:lnTo>
                      <a:pt x="146" y="0"/>
                    </a:lnTo>
                    <a:lnTo>
                      <a:pt x="133" y="30"/>
                    </a:lnTo>
                    <a:lnTo>
                      <a:pt x="106" y="44"/>
                    </a:lnTo>
                    <a:lnTo>
                      <a:pt x="93" y="79"/>
                    </a:lnTo>
                    <a:lnTo>
                      <a:pt x="93" y="97"/>
                    </a:lnTo>
                    <a:lnTo>
                      <a:pt x="159" y="132"/>
                    </a:lnTo>
                    <a:lnTo>
                      <a:pt x="225" y="164"/>
                    </a:lnTo>
                    <a:lnTo>
                      <a:pt x="199" y="177"/>
                    </a:lnTo>
                    <a:lnTo>
                      <a:pt x="186" y="177"/>
                    </a:lnTo>
                    <a:lnTo>
                      <a:pt x="159" y="177"/>
                    </a:lnTo>
                    <a:lnTo>
                      <a:pt x="146" y="177"/>
                    </a:lnTo>
                    <a:lnTo>
                      <a:pt x="120" y="195"/>
                    </a:lnTo>
                    <a:lnTo>
                      <a:pt x="70" y="212"/>
                    </a:lnTo>
                    <a:lnTo>
                      <a:pt x="52" y="225"/>
                    </a:lnTo>
                    <a:lnTo>
                      <a:pt x="39" y="225"/>
                    </a:lnTo>
                    <a:lnTo>
                      <a:pt x="17" y="292"/>
                    </a:lnTo>
                    <a:lnTo>
                      <a:pt x="0" y="358"/>
                    </a:lnTo>
                    <a:lnTo>
                      <a:pt x="17" y="406"/>
                    </a:lnTo>
                    <a:lnTo>
                      <a:pt x="39" y="437"/>
                    </a:lnTo>
                    <a:lnTo>
                      <a:pt x="120" y="487"/>
                    </a:lnTo>
                    <a:lnTo>
                      <a:pt x="212" y="517"/>
                    </a:lnTo>
                    <a:lnTo>
                      <a:pt x="239" y="553"/>
                    </a:lnTo>
                    <a:lnTo>
                      <a:pt x="279" y="584"/>
                    </a:lnTo>
                    <a:lnTo>
                      <a:pt x="306" y="601"/>
                    </a:lnTo>
                    <a:lnTo>
                      <a:pt x="319" y="584"/>
                    </a:lnTo>
                    <a:lnTo>
                      <a:pt x="332" y="553"/>
                    </a:lnTo>
                    <a:lnTo>
                      <a:pt x="279" y="517"/>
                    </a:lnTo>
                    <a:lnTo>
                      <a:pt x="239" y="517"/>
                    </a:lnTo>
                    <a:lnTo>
                      <a:pt x="199" y="504"/>
                    </a:lnTo>
                    <a:lnTo>
                      <a:pt x="146" y="469"/>
                    </a:lnTo>
                    <a:lnTo>
                      <a:pt x="120" y="437"/>
                    </a:lnTo>
                    <a:lnTo>
                      <a:pt x="120" y="424"/>
                    </a:lnTo>
                    <a:lnTo>
                      <a:pt x="106" y="437"/>
                    </a:lnTo>
                    <a:lnTo>
                      <a:pt x="79" y="46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22760" y="4959360"/>
                <a:ext cx="186120" cy="55800"/>
              </a:xfrm>
              <a:custGeom>
                <a:avLst/>
                <a:gdLst/>
                <a:ahLst/>
                <a:rect l="0" t="0" r="r" b="b"/>
                <a:pathLst>
                  <a:path w="517" h="155">
                    <a:moveTo>
                      <a:pt x="127" y="30"/>
                    </a:moveTo>
                    <a:lnTo>
                      <a:pt x="168" y="66"/>
                    </a:lnTo>
                    <a:lnTo>
                      <a:pt x="195" y="84"/>
                    </a:lnTo>
                    <a:lnTo>
                      <a:pt x="225" y="52"/>
                    </a:lnTo>
                    <a:lnTo>
                      <a:pt x="265" y="17"/>
                    </a:lnTo>
                    <a:lnTo>
                      <a:pt x="390" y="52"/>
                    </a:lnTo>
                    <a:lnTo>
                      <a:pt x="517" y="106"/>
                    </a:lnTo>
                    <a:lnTo>
                      <a:pt x="504" y="155"/>
                    </a:lnTo>
                    <a:lnTo>
                      <a:pt x="460" y="155"/>
                    </a:lnTo>
                    <a:lnTo>
                      <a:pt x="362" y="155"/>
                    </a:lnTo>
                    <a:lnTo>
                      <a:pt x="349" y="137"/>
                    </a:lnTo>
                    <a:lnTo>
                      <a:pt x="309" y="120"/>
                    </a:lnTo>
                    <a:lnTo>
                      <a:pt x="278" y="106"/>
                    </a:lnTo>
                    <a:lnTo>
                      <a:pt x="265" y="106"/>
                    </a:lnTo>
                    <a:lnTo>
                      <a:pt x="234" y="120"/>
                    </a:lnTo>
                    <a:lnTo>
                      <a:pt x="195" y="137"/>
                    </a:lnTo>
                    <a:lnTo>
                      <a:pt x="168" y="155"/>
                    </a:lnTo>
                    <a:lnTo>
                      <a:pt x="155" y="155"/>
                    </a:lnTo>
                    <a:lnTo>
                      <a:pt x="114" y="155"/>
                    </a:lnTo>
                    <a:lnTo>
                      <a:pt x="70" y="137"/>
                    </a:lnTo>
                    <a:lnTo>
                      <a:pt x="57" y="106"/>
                    </a:lnTo>
                    <a:lnTo>
                      <a:pt x="17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17"/>
                    </a:lnTo>
                    <a:lnTo>
                      <a:pt x="39" y="30"/>
                    </a:lnTo>
                    <a:lnTo>
                      <a:pt x="70" y="84"/>
                    </a:lnTo>
                    <a:lnTo>
                      <a:pt x="97" y="120"/>
                    </a:lnTo>
                    <a:lnTo>
                      <a:pt x="114" y="120"/>
                    </a:lnTo>
                    <a:lnTo>
                      <a:pt x="127" y="120"/>
                    </a:lnTo>
                    <a:lnTo>
                      <a:pt x="127" y="84"/>
                    </a:lnTo>
                    <a:lnTo>
                      <a:pt x="127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24200" y="4268880"/>
                <a:ext cx="181440" cy="195480"/>
              </a:xfrm>
              <a:custGeom>
                <a:avLst/>
                <a:gdLst/>
                <a:ahLst/>
                <a:rect l="0" t="0" r="r" b="b"/>
                <a:pathLst>
                  <a:path w="504" h="543">
                    <a:moveTo>
                      <a:pt x="79" y="512"/>
                    </a:moveTo>
                    <a:lnTo>
                      <a:pt x="92" y="362"/>
                    </a:lnTo>
                    <a:lnTo>
                      <a:pt x="92" y="229"/>
                    </a:lnTo>
                    <a:lnTo>
                      <a:pt x="92" y="167"/>
                    </a:lnTo>
                    <a:lnTo>
                      <a:pt x="123" y="105"/>
                    </a:lnTo>
                    <a:lnTo>
                      <a:pt x="150" y="48"/>
                    </a:lnTo>
                    <a:lnTo>
                      <a:pt x="203" y="0"/>
                    </a:lnTo>
                    <a:lnTo>
                      <a:pt x="190" y="105"/>
                    </a:lnTo>
                    <a:lnTo>
                      <a:pt x="164" y="149"/>
                    </a:lnTo>
                    <a:lnTo>
                      <a:pt x="133" y="211"/>
                    </a:lnTo>
                    <a:lnTo>
                      <a:pt x="247" y="287"/>
                    </a:lnTo>
                    <a:lnTo>
                      <a:pt x="353" y="331"/>
                    </a:lnTo>
                    <a:lnTo>
                      <a:pt x="381" y="318"/>
                    </a:lnTo>
                    <a:lnTo>
                      <a:pt x="407" y="300"/>
                    </a:lnTo>
                    <a:lnTo>
                      <a:pt x="434" y="274"/>
                    </a:lnTo>
                    <a:lnTo>
                      <a:pt x="473" y="229"/>
                    </a:lnTo>
                    <a:lnTo>
                      <a:pt x="491" y="180"/>
                    </a:lnTo>
                    <a:lnTo>
                      <a:pt x="504" y="167"/>
                    </a:lnTo>
                    <a:lnTo>
                      <a:pt x="504" y="229"/>
                    </a:lnTo>
                    <a:lnTo>
                      <a:pt x="491" y="260"/>
                    </a:lnTo>
                    <a:lnTo>
                      <a:pt x="451" y="318"/>
                    </a:lnTo>
                    <a:lnTo>
                      <a:pt x="381" y="331"/>
                    </a:lnTo>
                    <a:lnTo>
                      <a:pt x="296" y="349"/>
                    </a:lnTo>
                    <a:lnTo>
                      <a:pt x="269" y="362"/>
                    </a:lnTo>
                    <a:lnTo>
                      <a:pt x="256" y="375"/>
                    </a:lnTo>
                    <a:lnTo>
                      <a:pt x="230" y="406"/>
                    </a:lnTo>
                    <a:lnTo>
                      <a:pt x="217" y="437"/>
                    </a:lnTo>
                    <a:lnTo>
                      <a:pt x="203" y="464"/>
                    </a:lnTo>
                    <a:lnTo>
                      <a:pt x="177" y="481"/>
                    </a:lnTo>
                    <a:lnTo>
                      <a:pt x="133" y="437"/>
                    </a:lnTo>
                    <a:lnTo>
                      <a:pt x="123" y="406"/>
                    </a:lnTo>
                    <a:lnTo>
                      <a:pt x="110" y="362"/>
                    </a:lnTo>
                    <a:lnTo>
                      <a:pt x="92" y="300"/>
                    </a:lnTo>
                    <a:lnTo>
                      <a:pt x="110" y="274"/>
                    </a:lnTo>
                    <a:lnTo>
                      <a:pt x="110" y="274"/>
                    </a:lnTo>
                    <a:lnTo>
                      <a:pt x="123" y="287"/>
                    </a:lnTo>
                    <a:lnTo>
                      <a:pt x="150" y="318"/>
                    </a:lnTo>
                    <a:lnTo>
                      <a:pt x="164" y="362"/>
                    </a:lnTo>
                    <a:lnTo>
                      <a:pt x="110" y="437"/>
                    </a:lnTo>
                    <a:lnTo>
                      <a:pt x="79" y="455"/>
                    </a:lnTo>
                    <a:lnTo>
                      <a:pt x="52" y="464"/>
                    </a:lnTo>
                    <a:lnTo>
                      <a:pt x="39" y="481"/>
                    </a:lnTo>
                    <a:lnTo>
                      <a:pt x="13" y="494"/>
                    </a:lnTo>
                    <a:lnTo>
                      <a:pt x="0" y="494"/>
                    </a:lnTo>
                    <a:lnTo>
                      <a:pt x="0" y="512"/>
                    </a:lnTo>
                    <a:lnTo>
                      <a:pt x="26" y="525"/>
                    </a:lnTo>
                    <a:lnTo>
                      <a:pt x="52" y="525"/>
                    </a:lnTo>
                    <a:lnTo>
                      <a:pt x="123" y="525"/>
                    </a:lnTo>
                    <a:lnTo>
                      <a:pt x="123" y="543"/>
                    </a:lnTo>
                    <a:lnTo>
                      <a:pt x="133" y="543"/>
                    </a:lnTo>
                    <a:lnTo>
                      <a:pt x="150" y="543"/>
                    </a:lnTo>
                    <a:lnTo>
                      <a:pt x="150" y="543"/>
                    </a:lnTo>
                    <a:lnTo>
                      <a:pt x="110" y="525"/>
                    </a:lnTo>
                    <a:lnTo>
                      <a:pt x="79" y="51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32200" y="5265720"/>
                <a:ext cx="86040" cy="267120"/>
              </a:xfrm>
              <a:custGeom>
                <a:avLst/>
                <a:gdLst/>
                <a:ahLst/>
                <a:rect l="0" t="0" r="r" b="b"/>
                <a:pathLst>
                  <a:path w="239" h="742">
                    <a:moveTo>
                      <a:pt x="120" y="17"/>
                    </a:moveTo>
                    <a:lnTo>
                      <a:pt x="133" y="92"/>
                    </a:lnTo>
                    <a:lnTo>
                      <a:pt x="159" y="154"/>
                    </a:lnTo>
                    <a:lnTo>
                      <a:pt x="199" y="331"/>
                    </a:lnTo>
                    <a:lnTo>
                      <a:pt x="239" y="508"/>
                    </a:lnTo>
                    <a:lnTo>
                      <a:pt x="225" y="566"/>
                    </a:lnTo>
                    <a:lnTo>
                      <a:pt x="199" y="606"/>
                    </a:lnTo>
                    <a:lnTo>
                      <a:pt x="172" y="645"/>
                    </a:lnTo>
                    <a:lnTo>
                      <a:pt x="133" y="685"/>
                    </a:lnTo>
                    <a:lnTo>
                      <a:pt x="88" y="707"/>
                    </a:lnTo>
                    <a:lnTo>
                      <a:pt x="66" y="707"/>
                    </a:lnTo>
                    <a:lnTo>
                      <a:pt x="66" y="725"/>
                    </a:lnTo>
                    <a:lnTo>
                      <a:pt x="66" y="742"/>
                    </a:lnTo>
                    <a:lnTo>
                      <a:pt x="88" y="742"/>
                    </a:lnTo>
                    <a:lnTo>
                      <a:pt x="133" y="725"/>
                    </a:lnTo>
                    <a:lnTo>
                      <a:pt x="133" y="547"/>
                    </a:lnTo>
                    <a:lnTo>
                      <a:pt x="146" y="525"/>
                    </a:lnTo>
                    <a:lnTo>
                      <a:pt x="146" y="508"/>
                    </a:lnTo>
                    <a:lnTo>
                      <a:pt x="120" y="490"/>
                    </a:lnTo>
                    <a:lnTo>
                      <a:pt x="79" y="446"/>
                    </a:lnTo>
                    <a:lnTo>
                      <a:pt x="35" y="428"/>
                    </a:lnTo>
                    <a:lnTo>
                      <a:pt x="13" y="428"/>
                    </a:lnTo>
                    <a:lnTo>
                      <a:pt x="0" y="389"/>
                    </a:lnTo>
                    <a:lnTo>
                      <a:pt x="0" y="353"/>
                    </a:lnTo>
                    <a:lnTo>
                      <a:pt x="13" y="331"/>
                    </a:lnTo>
                    <a:lnTo>
                      <a:pt x="52" y="309"/>
                    </a:lnTo>
                    <a:lnTo>
                      <a:pt x="79" y="331"/>
                    </a:lnTo>
                    <a:lnTo>
                      <a:pt x="88" y="371"/>
                    </a:lnTo>
                    <a:lnTo>
                      <a:pt x="120" y="428"/>
                    </a:lnTo>
                    <a:lnTo>
                      <a:pt x="159" y="371"/>
                    </a:lnTo>
                    <a:lnTo>
                      <a:pt x="172" y="353"/>
                    </a:lnTo>
                    <a:lnTo>
                      <a:pt x="146" y="309"/>
                    </a:lnTo>
                    <a:lnTo>
                      <a:pt x="105" y="274"/>
                    </a:lnTo>
                    <a:lnTo>
                      <a:pt x="88" y="252"/>
                    </a:lnTo>
                    <a:lnTo>
                      <a:pt x="79" y="234"/>
                    </a:lnTo>
                    <a:lnTo>
                      <a:pt x="22" y="0"/>
                    </a:lnTo>
                    <a:lnTo>
                      <a:pt x="35" y="35"/>
                    </a:lnTo>
                    <a:lnTo>
                      <a:pt x="79" y="74"/>
                    </a:lnTo>
                    <a:lnTo>
                      <a:pt x="105" y="74"/>
                    </a:lnTo>
                    <a:lnTo>
                      <a:pt x="120" y="52"/>
                    </a:lnTo>
                    <a:lnTo>
                      <a:pt x="120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89200" y="5578560"/>
                <a:ext cx="70200" cy="201960"/>
              </a:xfrm>
              <a:custGeom>
                <a:avLst/>
                <a:gdLst/>
                <a:ahLst/>
                <a:rect l="0" t="0" r="r" b="b"/>
                <a:pathLst>
                  <a:path w="195" h="561">
                    <a:moveTo>
                      <a:pt x="98" y="83"/>
                    </a:moveTo>
                    <a:lnTo>
                      <a:pt x="124" y="145"/>
                    </a:lnTo>
                    <a:lnTo>
                      <a:pt x="142" y="185"/>
                    </a:lnTo>
                    <a:lnTo>
                      <a:pt x="150" y="229"/>
                    </a:lnTo>
                    <a:lnTo>
                      <a:pt x="168" y="287"/>
                    </a:lnTo>
                    <a:lnTo>
                      <a:pt x="177" y="331"/>
                    </a:lnTo>
                    <a:lnTo>
                      <a:pt x="195" y="371"/>
                    </a:lnTo>
                    <a:lnTo>
                      <a:pt x="195" y="371"/>
                    </a:lnTo>
                    <a:lnTo>
                      <a:pt x="168" y="433"/>
                    </a:lnTo>
                    <a:lnTo>
                      <a:pt x="142" y="499"/>
                    </a:lnTo>
                    <a:lnTo>
                      <a:pt x="52" y="561"/>
                    </a:lnTo>
                    <a:lnTo>
                      <a:pt x="83" y="516"/>
                    </a:lnTo>
                    <a:lnTo>
                      <a:pt x="98" y="477"/>
                    </a:lnTo>
                    <a:lnTo>
                      <a:pt x="98" y="459"/>
                    </a:lnTo>
                    <a:lnTo>
                      <a:pt x="70" y="393"/>
                    </a:lnTo>
                    <a:lnTo>
                      <a:pt x="98" y="371"/>
                    </a:lnTo>
                    <a:lnTo>
                      <a:pt x="98" y="331"/>
                    </a:lnTo>
                    <a:lnTo>
                      <a:pt x="83" y="314"/>
                    </a:lnTo>
                    <a:lnTo>
                      <a:pt x="52" y="287"/>
                    </a:lnTo>
                    <a:lnTo>
                      <a:pt x="26" y="246"/>
                    </a:lnTo>
                    <a:lnTo>
                      <a:pt x="0" y="202"/>
                    </a:lnTo>
                    <a:lnTo>
                      <a:pt x="0" y="185"/>
                    </a:lnTo>
                    <a:lnTo>
                      <a:pt x="0" y="145"/>
                    </a:lnTo>
                    <a:lnTo>
                      <a:pt x="13" y="83"/>
                    </a:lnTo>
                    <a:lnTo>
                      <a:pt x="52" y="22"/>
                    </a:lnTo>
                    <a:lnTo>
                      <a:pt x="83" y="0"/>
                    </a:lnTo>
                    <a:lnTo>
                      <a:pt x="83" y="22"/>
                    </a:lnTo>
                    <a:lnTo>
                      <a:pt x="98" y="39"/>
                    </a:lnTo>
                    <a:lnTo>
                      <a:pt x="98" y="83"/>
                    </a:lnTo>
                    <a:lnTo>
                      <a:pt x="98" y="101"/>
                    </a:lnTo>
                    <a:lnTo>
                      <a:pt x="98" y="101"/>
                    </a:lnTo>
                    <a:lnTo>
                      <a:pt x="98" y="8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27560" y="4876920"/>
                <a:ext cx="357480" cy="225720"/>
              </a:xfrm>
              <a:custGeom>
                <a:avLst/>
                <a:gdLst/>
                <a:ahLst/>
                <a:rect l="0" t="0" r="r" b="b"/>
                <a:pathLst>
                  <a:path w="993" h="627">
                    <a:moveTo>
                      <a:pt x="423" y="145"/>
                    </a:moveTo>
                    <a:lnTo>
                      <a:pt x="449" y="286"/>
                    </a:lnTo>
                    <a:lnTo>
                      <a:pt x="480" y="358"/>
                    </a:lnTo>
                    <a:lnTo>
                      <a:pt x="530" y="411"/>
                    </a:lnTo>
                    <a:lnTo>
                      <a:pt x="587" y="393"/>
                    </a:lnTo>
                    <a:lnTo>
                      <a:pt x="618" y="375"/>
                    </a:lnTo>
                    <a:lnTo>
                      <a:pt x="662" y="375"/>
                    </a:lnTo>
                    <a:lnTo>
                      <a:pt x="724" y="393"/>
                    </a:lnTo>
                    <a:lnTo>
                      <a:pt x="781" y="446"/>
                    </a:lnTo>
                    <a:lnTo>
                      <a:pt x="856" y="464"/>
                    </a:lnTo>
                    <a:lnTo>
                      <a:pt x="993" y="538"/>
                    </a:lnTo>
                    <a:lnTo>
                      <a:pt x="993" y="574"/>
                    </a:lnTo>
                    <a:lnTo>
                      <a:pt x="979" y="605"/>
                    </a:lnTo>
                    <a:lnTo>
                      <a:pt x="918" y="627"/>
                    </a:lnTo>
                    <a:lnTo>
                      <a:pt x="843" y="605"/>
                    </a:lnTo>
                    <a:lnTo>
                      <a:pt x="781" y="591"/>
                    </a:lnTo>
                    <a:lnTo>
                      <a:pt x="631" y="538"/>
                    </a:lnTo>
                    <a:lnTo>
                      <a:pt x="499" y="464"/>
                    </a:lnTo>
                    <a:lnTo>
                      <a:pt x="449" y="464"/>
                    </a:lnTo>
                    <a:lnTo>
                      <a:pt x="405" y="486"/>
                    </a:lnTo>
                    <a:lnTo>
                      <a:pt x="361" y="499"/>
                    </a:lnTo>
                    <a:lnTo>
                      <a:pt x="330" y="538"/>
                    </a:lnTo>
                    <a:lnTo>
                      <a:pt x="273" y="574"/>
                    </a:lnTo>
                    <a:lnTo>
                      <a:pt x="255" y="538"/>
                    </a:lnTo>
                    <a:lnTo>
                      <a:pt x="242" y="516"/>
                    </a:lnTo>
                    <a:lnTo>
                      <a:pt x="211" y="516"/>
                    </a:lnTo>
                    <a:lnTo>
                      <a:pt x="167" y="516"/>
                    </a:lnTo>
                    <a:lnTo>
                      <a:pt x="136" y="516"/>
                    </a:lnTo>
                    <a:lnTo>
                      <a:pt x="105" y="486"/>
                    </a:lnTo>
                    <a:lnTo>
                      <a:pt x="74" y="411"/>
                    </a:lnTo>
                    <a:lnTo>
                      <a:pt x="44" y="318"/>
                    </a:lnTo>
                    <a:lnTo>
                      <a:pt x="17" y="233"/>
                    </a:lnTo>
                    <a:lnTo>
                      <a:pt x="0" y="198"/>
                    </a:lnTo>
                    <a:lnTo>
                      <a:pt x="0" y="176"/>
                    </a:lnTo>
                    <a:lnTo>
                      <a:pt x="44" y="158"/>
                    </a:lnTo>
                    <a:lnTo>
                      <a:pt x="105" y="145"/>
                    </a:lnTo>
                    <a:lnTo>
                      <a:pt x="167" y="123"/>
                    </a:lnTo>
                    <a:lnTo>
                      <a:pt x="198" y="123"/>
                    </a:lnTo>
                    <a:lnTo>
                      <a:pt x="224" y="105"/>
                    </a:lnTo>
                    <a:lnTo>
                      <a:pt x="273" y="92"/>
                    </a:lnTo>
                    <a:lnTo>
                      <a:pt x="273" y="52"/>
                    </a:lnTo>
                    <a:lnTo>
                      <a:pt x="286" y="17"/>
                    </a:lnTo>
                    <a:lnTo>
                      <a:pt x="348" y="0"/>
                    </a:lnTo>
                    <a:lnTo>
                      <a:pt x="423" y="0"/>
                    </a:lnTo>
                    <a:lnTo>
                      <a:pt x="480" y="0"/>
                    </a:lnTo>
                    <a:lnTo>
                      <a:pt x="467" y="35"/>
                    </a:lnTo>
                    <a:lnTo>
                      <a:pt x="467" y="52"/>
                    </a:lnTo>
                    <a:lnTo>
                      <a:pt x="423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952880" y="4038480"/>
              <a:ext cx="508680" cy="1283400"/>
              <a:chOff x="4952880" y="4038480"/>
              <a:chExt cx="508680" cy="1283400"/>
            </a:xfrm>
          </p:grpSpPr>
          <p:sp>
            <p:nvSpPr>
              <p:cNvPr id="401" name=""/>
              <p:cNvSpPr/>
              <p:nvPr/>
            </p:nvSpPr>
            <p:spPr>
              <a:xfrm>
                <a:off x="5221440" y="41133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52880" y="42400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03640" y="46069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97520" y="40384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95720" y="48816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243400" y="51483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10200" y="45370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409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413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52280" y="30492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ly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81080" y="6006960"/>
            <a:ext cx="5258160" cy="584640"/>
          </a:xfrm>
          <a:custGeom>
            <a:avLst/>
            <a:gdLst/>
            <a:ahLst/>
            <a:rect l="0" t="0" r="r" b="b"/>
            <a:pathLst>
              <a:path w="14606" h="1624">
                <a:moveTo>
                  <a:pt x="7757" y="176"/>
                </a:moveTo>
                <a:lnTo>
                  <a:pt x="7575" y="141"/>
                </a:lnTo>
                <a:lnTo>
                  <a:pt x="7439" y="141"/>
                </a:lnTo>
                <a:lnTo>
                  <a:pt x="7302" y="176"/>
                </a:lnTo>
                <a:lnTo>
                  <a:pt x="7166" y="211"/>
                </a:lnTo>
                <a:lnTo>
                  <a:pt x="7030" y="176"/>
                </a:lnTo>
                <a:lnTo>
                  <a:pt x="6894" y="176"/>
                </a:lnTo>
                <a:lnTo>
                  <a:pt x="6758" y="141"/>
                </a:lnTo>
                <a:lnTo>
                  <a:pt x="6622" y="141"/>
                </a:lnTo>
                <a:lnTo>
                  <a:pt x="6486" y="141"/>
                </a:lnTo>
                <a:lnTo>
                  <a:pt x="6350" y="141"/>
                </a:lnTo>
                <a:lnTo>
                  <a:pt x="6213" y="176"/>
                </a:lnTo>
                <a:lnTo>
                  <a:pt x="6077" y="176"/>
                </a:lnTo>
                <a:lnTo>
                  <a:pt x="5941" y="176"/>
                </a:lnTo>
                <a:lnTo>
                  <a:pt x="5805" y="176"/>
                </a:lnTo>
                <a:lnTo>
                  <a:pt x="5669" y="176"/>
                </a:lnTo>
                <a:lnTo>
                  <a:pt x="5533" y="176"/>
                </a:lnTo>
                <a:lnTo>
                  <a:pt x="5397" y="176"/>
                </a:lnTo>
                <a:lnTo>
                  <a:pt x="5261" y="176"/>
                </a:lnTo>
                <a:lnTo>
                  <a:pt x="5125" y="176"/>
                </a:lnTo>
                <a:lnTo>
                  <a:pt x="4989" y="141"/>
                </a:lnTo>
                <a:lnTo>
                  <a:pt x="4853" y="105"/>
                </a:lnTo>
                <a:lnTo>
                  <a:pt x="4717" y="105"/>
                </a:lnTo>
                <a:lnTo>
                  <a:pt x="4581" y="141"/>
                </a:lnTo>
                <a:lnTo>
                  <a:pt x="4399" y="176"/>
                </a:lnTo>
                <a:lnTo>
                  <a:pt x="4218" y="211"/>
                </a:lnTo>
                <a:lnTo>
                  <a:pt x="4036" y="176"/>
                </a:lnTo>
                <a:lnTo>
                  <a:pt x="3855" y="141"/>
                </a:lnTo>
                <a:lnTo>
                  <a:pt x="3719" y="105"/>
                </a:lnTo>
                <a:lnTo>
                  <a:pt x="3583" y="105"/>
                </a:lnTo>
                <a:lnTo>
                  <a:pt x="3447" y="105"/>
                </a:lnTo>
                <a:lnTo>
                  <a:pt x="3311" y="105"/>
                </a:lnTo>
                <a:lnTo>
                  <a:pt x="3175" y="105"/>
                </a:lnTo>
                <a:lnTo>
                  <a:pt x="3038" y="141"/>
                </a:lnTo>
                <a:lnTo>
                  <a:pt x="2902" y="141"/>
                </a:lnTo>
                <a:lnTo>
                  <a:pt x="2766" y="141"/>
                </a:lnTo>
                <a:lnTo>
                  <a:pt x="2630" y="105"/>
                </a:lnTo>
                <a:lnTo>
                  <a:pt x="2494" y="70"/>
                </a:lnTo>
                <a:lnTo>
                  <a:pt x="2358" y="35"/>
                </a:lnTo>
                <a:lnTo>
                  <a:pt x="2222" y="0"/>
                </a:lnTo>
                <a:lnTo>
                  <a:pt x="2086" y="35"/>
                </a:lnTo>
                <a:lnTo>
                  <a:pt x="1950" y="35"/>
                </a:lnTo>
                <a:lnTo>
                  <a:pt x="1814" y="35"/>
                </a:lnTo>
                <a:lnTo>
                  <a:pt x="1678" y="35"/>
                </a:lnTo>
                <a:lnTo>
                  <a:pt x="1542" y="35"/>
                </a:lnTo>
                <a:lnTo>
                  <a:pt x="1406" y="35"/>
                </a:lnTo>
                <a:lnTo>
                  <a:pt x="1270" y="70"/>
                </a:lnTo>
                <a:lnTo>
                  <a:pt x="1133" y="141"/>
                </a:lnTo>
                <a:lnTo>
                  <a:pt x="997" y="246"/>
                </a:lnTo>
                <a:lnTo>
                  <a:pt x="861" y="317"/>
                </a:lnTo>
                <a:lnTo>
                  <a:pt x="725" y="352"/>
                </a:lnTo>
                <a:lnTo>
                  <a:pt x="589" y="352"/>
                </a:lnTo>
                <a:lnTo>
                  <a:pt x="453" y="352"/>
                </a:lnTo>
                <a:lnTo>
                  <a:pt x="317" y="352"/>
                </a:lnTo>
                <a:lnTo>
                  <a:pt x="181" y="388"/>
                </a:lnTo>
                <a:lnTo>
                  <a:pt x="45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36" y="812"/>
                </a:lnTo>
                <a:lnTo>
                  <a:pt x="272" y="882"/>
                </a:lnTo>
                <a:lnTo>
                  <a:pt x="408" y="882"/>
                </a:lnTo>
                <a:lnTo>
                  <a:pt x="544" y="882"/>
                </a:lnTo>
                <a:lnTo>
                  <a:pt x="680" y="882"/>
                </a:lnTo>
                <a:lnTo>
                  <a:pt x="816" y="882"/>
                </a:lnTo>
                <a:lnTo>
                  <a:pt x="952" y="918"/>
                </a:lnTo>
                <a:lnTo>
                  <a:pt x="1043" y="1024"/>
                </a:lnTo>
                <a:lnTo>
                  <a:pt x="1133" y="1129"/>
                </a:lnTo>
                <a:lnTo>
                  <a:pt x="1270" y="1200"/>
                </a:lnTo>
                <a:lnTo>
                  <a:pt x="1406" y="1200"/>
                </a:lnTo>
                <a:lnTo>
                  <a:pt x="1542" y="1165"/>
                </a:lnTo>
                <a:lnTo>
                  <a:pt x="1678" y="1129"/>
                </a:lnTo>
                <a:lnTo>
                  <a:pt x="1814" y="1094"/>
                </a:lnTo>
                <a:lnTo>
                  <a:pt x="1950" y="1094"/>
                </a:lnTo>
                <a:lnTo>
                  <a:pt x="2086" y="1165"/>
                </a:lnTo>
                <a:lnTo>
                  <a:pt x="2222" y="1236"/>
                </a:lnTo>
                <a:lnTo>
                  <a:pt x="2358" y="1272"/>
                </a:lnTo>
                <a:lnTo>
                  <a:pt x="2494" y="1272"/>
                </a:lnTo>
                <a:lnTo>
                  <a:pt x="2585" y="1377"/>
                </a:lnTo>
                <a:lnTo>
                  <a:pt x="2676" y="1483"/>
                </a:lnTo>
                <a:lnTo>
                  <a:pt x="2766" y="1589"/>
                </a:lnTo>
                <a:lnTo>
                  <a:pt x="2902" y="1624"/>
                </a:lnTo>
                <a:lnTo>
                  <a:pt x="2948" y="1518"/>
                </a:lnTo>
                <a:lnTo>
                  <a:pt x="2948" y="1413"/>
                </a:lnTo>
                <a:lnTo>
                  <a:pt x="3084" y="1377"/>
                </a:lnTo>
                <a:lnTo>
                  <a:pt x="3220" y="1377"/>
                </a:lnTo>
                <a:lnTo>
                  <a:pt x="3356" y="1483"/>
                </a:lnTo>
                <a:lnTo>
                  <a:pt x="3492" y="1518"/>
                </a:lnTo>
                <a:lnTo>
                  <a:pt x="3628" y="1554"/>
                </a:lnTo>
                <a:lnTo>
                  <a:pt x="3764" y="1518"/>
                </a:lnTo>
                <a:lnTo>
                  <a:pt x="3900" y="1413"/>
                </a:lnTo>
                <a:lnTo>
                  <a:pt x="4036" y="1413"/>
                </a:lnTo>
                <a:lnTo>
                  <a:pt x="4172" y="1413"/>
                </a:lnTo>
                <a:lnTo>
                  <a:pt x="4308" y="1448"/>
                </a:lnTo>
                <a:lnTo>
                  <a:pt x="4490" y="1554"/>
                </a:lnTo>
                <a:lnTo>
                  <a:pt x="4626" y="1589"/>
                </a:lnTo>
                <a:lnTo>
                  <a:pt x="4762" y="1624"/>
                </a:lnTo>
                <a:lnTo>
                  <a:pt x="4898" y="1518"/>
                </a:lnTo>
                <a:lnTo>
                  <a:pt x="5034" y="1483"/>
                </a:lnTo>
                <a:lnTo>
                  <a:pt x="5170" y="1448"/>
                </a:lnTo>
                <a:lnTo>
                  <a:pt x="5306" y="1413"/>
                </a:lnTo>
                <a:lnTo>
                  <a:pt x="5442" y="1377"/>
                </a:lnTo>
                <a:lnTo>
                  <a:pt x="5578" y="1342"/>
                </a:lnTo>
                <a:lnTo>
                  <a:pt x="5715" y="1342"/>
                </a:lnTo>
                <a:lnTo>
                  <a:pt x="5851" y="1342"/>
                </a:lnTo>
                <a:lnTo>
                  <a:pt x="5987" y="1377"/>
                </a:lnTo>
                <a:lnTo>
                  <a:pt x="6123" y="1413"/>
                </a:lnTo>
                <a:lnTo>
                  <a:pt x="6259" y="1448"/>
                </a:lnTo>
                <a:lnTo>
                  <a:pt x="6395" y="1448"/>
                </a:lnTo>
                <a:lnTo>
                  <a:pt x="6531" y="1483"/>
                </a:lnTo>
                <a:lnTo>
                  <a:pt x="6667" y="1483"/>
                </a:lnTo>
                <a:lnTo>
                  <a:pt x="6848" y="1448"/>
                </a:lnTo>
                <a:lnTo>
                  <a:pt x="6985" y="1413"/>
                </a:lnTo>
                <a:lnTo>
                  <a:pt x="7121" y="1377"/>
                </a:lnTo>
                <a:lnTo>
                  <a:pt x="7257" y="1377"/>
                </a:lnTo>
                <a:lnTo>
                  <a:pt x="7394" y="1342"/>
                </a:lnTo>
                <a:lnTo>
                  <a:pt x="7530" y="1307"/>
                </a:lnTo>
                <a:lnTo>
                  <a:pt x="7666" y="1272"/>
                </a:lnTo>
                <a:lnTo>
                  <a:pt x="7802" y="1236"/>
                </a:lnTo>
                <a:lnTo>
                  <a:pt x="7938" y="1200"/>
                </a:lnTo>
                <a:lnTo>
                  <a:pt x="8074" y="1165"/>
                </a:lnTo>
                <a:lnTo>
                  <a:pt x="8210" y="1165"/>
                </a:lnTo>
                <a:lnTo>
                  <a:pt x="8346" y="1165"/>
                </a:lnTo>
                <a:lnTo>
                  <a:pt x="8482" y="1165"/>
                </a:lnTo>
                <a:lnTo>
                  <a:pt x="8618" y="1165"/>
                </a:lnTo>
                <a:lnTo>
                  <a:pt x="8754" y="1200"/>
                </a:lnTo>
                <a:lnTo>
                  <a:pt x="8891" y="1236"/>
                </a:lnTo>
                <a:lnTo>
                  <a:pt x="9027" y="1272"/>
                </a:lnTo>
                <a:lnTo>
                  <a:pt x="9163" y="1272"/>
                </a:lnTo>
                <a:lnTo>
                  <a:pt x="9299" y="1272"/>
                </a:lnTo>
                <a:lnTo>
                  <a:pt x="9480" y="1272"/>
                </a:lnTo>
                <a:lnTo>
                  <a:pt x="9662" y="1200"/>
                </a:lnTo>
                <a:lnTo>
                  <a:pt x="9798" y="1165"/>
                </a:lnTo>
                <a:lnTo>
                  <a:pt x="9934" y="1129"/>
                </a:lnTo>
                <a:lnTo>
                  <a:pt x="10115" y="1129"/>
                </a:lnTo>
                <a:lnTo>
                  <a:pt x="10297" y="1165"/>
                </a:lnTo>
                <a:lnTo>
                  <a:pt x="10478" y="1200"/>
                </a:lnTo>
                <a:lnTo>
                  <a:pt x="10614" y="1272"/>
                </a:lnTo>
                <a:lnTo>
                  <a:pt x="10750" y="1307"/>
                </a:lnTo>
                <a:lnTo>
                  <a:pt x="10886" y="1342"/>
                </a:lnTo>
                <a:lnTo>
                  <a:pt x="11022" y="1342"/>
                </a:lnTo>
                <a:lnTo>
                  <a:pt x="11204" y="1272"/>
                </a:lnTo>
                <a:lnTo>
                  <a:pt x="11340" y="1236"/>
                </a:lnTo>
                <a:lnTo>
                  <a:pt x="11476" y="1165"/>
                </a:lnTo>
                <a:lnTo>
                  <a:pt x="11612" y="1129"/>
                </a:lnTo>
                <a:lnTo>
                  <a:pt x="11748" y="1129"/>
                </a:lnTo>
                <a:lnTo>
                  <a:pt x="11929" y="1129"/>
                </a:lnTo>
                <a:lnTo>
                  <a:pt x="12111" y="1129"/>
                </a:lnTo>
                <a:lnTo>
                  <a:pt x="12292" y="1129"/>
                </a:lnTo>
                <a:lnTo>
                  <a:pt x="12428" y="1165"/>
                </a:lnTo>
                <a:lnTo>
                  <a:pt x="12564" y="1165"/>
                </a:lnTo>
                <a:lnTo>
                  <a:pt x="12701" y="1200"/>
                </a:lnTo>
                <a:lnTo>
                  <a:pt x="12837" y="1200"/>
                </a:lnTo>
                <a:lnTo>
                  <a:pt x="13018" y="1200"/>
                </a:lnTo>
                <a:lnTo>
                  <a:pt x="13199" y="1200"/>
                </a:lnTo>
                <a:lnTo>
                  <a:pt x="13336" y="1129"/>
                </a:lnTo>
                <a:lnTo>
                  <a:pt x="13472" y="1094"/>
                </a:lnTo>
                <a:lnTo>
                  <a:pt x="13608" y="1094"/>
                </a:lnTo>
                <a:lnTo>
                  <a:pt x="13744" y="1094"/>
                </a:lnTo>
                <a:lnTo>
                  <a:pt x="13880" y="1094"/>
                </a:lnTo>
                <a:lnTo>
                  <a:pt x="14016" y="1094"/>
                </a:lnTo>
                <a:lnTo>
                  <a:pt x="14152" y="1059"/>
                </a:lnTo>
                <a:lnTo>
                  <a:pt x="14288" y="1024"/>
                </a:lnTo>
                <a:lnTo>
                  <a:pt x="14424" y="988"/>
                </a:lnTo>
                <a:lnTo>
                  <a:pt x="14560" y="918"/>
                </a:lnTo>
                <a:lnTo>
                  <a:pt x="14606" y="812"/>
                </a:lnTo>
                <a:lnTo>
                  <a:pt x="14606" y="706"/>
                </a:lnTo>
                <a:lnTo>
                  <a:pt x="14560" y="600"/>
                </a:lnTo>
                <a:lnTo>
                  <a:pt x="14424" y="494"/>
                </a:lnTo>
                <a:lnTo>
                  <a:pt x="14288" y="494"/>
                </a:lnTo>
                <a:lnTo>
                  <a:pt x="14152" y="459"/>
                </a:lnTo>
                <a:lnTo>
                  <a:pt x="14016" y="459"/>
                </a:lnTo>
                <a:lnTo>
                  <a:pt x="13880" y="424"/>
                </a:lnTo>
                <a:lnTo>
                  <a:pt x="13698" y="352"/>
                </a:lnTo>
                <a:lnTo>
                  <a:pt x="13562" y="317"/>
                </a:lnTo>
                <a:lnTo>
                  <a:pt x="13426" y="246"/>
                </a:lnTo>
                <a:lnTo>
                  <a:pt x="13290" y="211"/>
                </a:lnTo>
                <a:lnTo>
                  <a:pt x="13154" y="176"/>
                </a:lnTo>
                <a:lnTo>
                  <a:pt x="13018" y="211"/>
                </a:lnTo>
                <a:lnTo>
                  <a:pt x="12882" y="211"/>
                </a:lnTo>
                <a:lnTo>
                  <a:pt x="12746" y="211"/>
                </a:lnTo>
                <a:lnTo>
                  <a:pt x="12610" y="211"/>
                </a:lnTo>
                <a:lnTo>
                  <a:pt x="12474" y="211"/>
                </a:lnTo>
                <a:lnTo>
                  <a:pt x="12338" y="211"/>
                </a:lnTo>
                <a:lnTo>
                  <a:pt x="12202" y="211"/>
                </a:lnTo>
                <a:lnTo>
                  <a:pt x="12066" y="246"/>
                </a:lnTo>
                <a:lnTo>
                  <a:pt x="11929" y="246"/>
                </a:lnTo>
                <a:lnTo>
                  <a:pt x="11793" y="211"/>
                </a:lnTo>
                <a:lnTo>
                  <a:pt x="11657" y="211"/>
                </a:lnTo>
                <a:lnTo>
                  <a:pt x="11521" y="176"/>
                </a:lnTo>
                <a:lnTo>
                  <a:pt x="11385" y="176"/>
                </a:lnTo>
                <a:lnTo>
                  <a:pt x="11204" y="211"/>
                </a:lnTo>
                <a:lnTo>
                  <a:pt x="11068" y="246"/>
                </a:lnTo>
                <a:lnTo>
                  <a:pt x="10932" y="246"/>
                </a:lnTo>
                <a:lnTo>
                  <a:pt x="10796" y="246"/>
                </a:lnTo>
                <a:lnTo>
                  <a:pt x="10659" y="282"/>
                </a:lnTo>
                <a:lnTo>
                  <a:pt x="10523" y="282"/>
                </a:lnTo>
                <a:lnTo>
                  <a:pt x="10342" y="282"/>
                </a:lnTo>
                <a:lnTo>
                  <a:pt x="10206" y="282"/>
                </a:lnTo>
                <a:lnTo>
                  <a:pt x="10024" y="282"/>
                </a:lnTo>
                <a:lnTo>
                  <a:pt x="9843" y="211"/>
                </a:lnTo>
                <a:lnTo>
                  <a:pt x="9707" y="211"/>
                </a:lnTo>
                <a:lnTo>
                  <a:pt x="9571" y="211"/>
                </a:lnTo>
                <a:lnTo>
                  <a:pt x="9389" y="211"/>
                </a:lnTo>
                <a:lnTo>
                  <a:pt x="9208" y="211"/>
                </a:lnTo>
                <a:lnTo>
                  <a:pt x="9072" y="246"/>
                </a:lnTo>
                <a:lnTo>
                  <a:pt x="8936" y="282"/>
                </a:lnTo>
                <a:lnTo>
                  <a:pt x="8800" y="246"/>
                </a:lnTo>
                <a:lnTo>
                  <a:pt x="8664" y="246"/>
                </a:lnTo>
                <a:lnTo>
                  <a:pt x="8528" y="211"/>
                </a:lnTo>
                <a:lnTo>
                  <a:pt x="8392" y="211"/>
                </a:lnTo>
                <a:lnTo>
                  <a:pt x="8256" y="211"/>
                </a:lnTo>
                <a:lnTo>
                  <a:pt x="8119" y="211"/>
                </a:lnTo>
                <a:lnTo>
                  <a:pt x="7983" y="211"/>
                </a:lnTo>
                <a:lnTo>
                  <a:pt x="7757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019240" y="1905120"/>
            <a:ext cx="4934520" cy="4388040"/>
            <a:chOff x="2019240" y="1905120"/>
            <a:chExt cx="4934520" cy="4388040"/>
          </a:xfrm>
        </p:grpSpPr>
        <p:sp>
          <p:nvSpPr>
            <p:cNvPr id="419" name=""/>
            <p:cNvSpPr/>
            <p:nvPr/>
          </p:nvSpPr>
          <p:spPr>
            <a:xfrm>
              <a:off x="6248520" y="449568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0" y="25"/>
                  </a:moveTo>
                  <a:lnTo>
                    <a:pt x="111" y="25"/>
                  </a:lnTo>
                  <a:lnTo>
                    <a:pt x="195" y="0"/>
                  </a:lnTo>
                  <a:lnTo>
                    <a:pt x="279" y="0"/>
                  </a:lnTo>
                  <a:lnTo>
                    <a:pt x="363" y="25"/>
                  </a:lnTo>
                  <a:lnTo>
                    <a:pt x="448" y="50"/>
                  </a:lnTo>
                  <a:lnTo>
                    <a:pt x="532" y="127"/>
                  </a:lnTo>
                  <a:lnTo>
                    <a:pt x="616" y="177"/>
                  </a:lnTo>
                  <a:lnTo>
                    <a:pt x="700" y="228"/>
                  </a:lnTo>
                  <a:lnTo>
                    <a:pt x="728" y="304"/>
                  </a:lnTo>
                  <a:lnTo>
                    <a:pt x="728" y="381"/>
                  </a:lnTo>
                  <a:lnTo>
                    <a:pt x="728" y="458"/>
                  </a:lnTo>
                  <a:lnTo>
                    <a:pt x="784" y="534"/>
                  </a:lnTo>
                  <a:lnTo>
                    <a:pt x="812" y="610"/>
                  </a:lnTo>
                  <a:lnTo>
                    <a:pt x="728" y="636"/>
                  </a:lnTo>
                  <a:lnTo>
                    <a:pt x="700" y="559"/>
                  </a:lnTo>
                  <a:lnTo>
                    <a:pt x="616" y="508"/>
                  </a:lnTo>
                  <a:lnTo>
                    <a:pt x="504" y="508"/>
                  </a:lnTo>
                  <a:lnTo>
                    <a:pt x="448" y="432"/>
                  </a:lnTo>
                  <a:lnTo>
                    <a:pt x="391" y="356"/>
                  </a:lnTo>
                  <a:lnTo>
                    <a:pt x="307" y="304"/>
                  </a:lnTo>
                  <a:lnTo>
                    <a:pt x="223" y="279"/>
                  </a:lnTo>
                  <a:lnTo>
                    <a:pt x="139" y="304"/>
                  </a:lnTo>
                  <a:lnTo>
                    <a:pt x="111" y="228"/>
                  </a:lnTo>
                  <a:lnTo>
                    <a:pt x="139" y="152"/>
                  </a:lnTo>
                  <a:lnTo>
                    <a:pt x="111" y="76"/>
                  </a:lnTo>
                  <a:lnTo>
                    <a:pt x="167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590920" y="4554360"/>
              <a:ext cx="1335240" cy="1608840"/>
              <a:chOff x="2590920" y="4554360"/>
              <a:chExt cx="1335240" cy="1608840"/>
            </a:xfrm>
          </p:grpSpPr>
          <p:sp>
            <p:nvSpPr>
              <p:cNvPr id="421" name=""/>
              <p:cNvSpPr/>
              <p:nvPr/>
            </p:nvSpPr>
            <p:spPr>
              <a:xfrm>
                <a:off x="3011400" y="4554360"/>
                <a:ext cx="579960" cy="1484640"/>
              </a:xfrm>
              <a:custGeom>
                <a:avLst/>
                <a:gdLst/>
                <a:ahLst/>
                <a:rect l="0" t="0" r="r" b="b"/>
                <a:pathLst>
                  <a:path w="1611" h="4124">
                    <a:moveTo>
                      <a:pt x="1611" y="0"/>
                    </a:moveTo>
                    <a:lnTo>
                      <a:pt x="1329" y="4124"/>
                    </a:lnTo>
                    <a:lnTo>
                      <a:pt x="697" y="4124"/>
                    </a:lnTo>
                    <a:lnTo>
                      <a:pt x="790" y="1115"/>
                    </a:lnTo>
                    <a:lnTo>
                      <a:pt x="697" y="4124"/>
                    </a:lnTo>
                    <a:lnTo>
                      <a:pt x="0" y="4124"/>
                    </a:lnTo>
                    <a:lnTo>
                      <a:pt x="66" y="22"/>
                    </a:lnTo>
                    <a:lnTo>
                      <a:pt x="16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623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630" y="159"/>
                    </a:moveTo>
                    <a:lnTo>
                      <a:pt x="979" y="44"/>
                    </a:lnTo>
                    <a:lnTo>
                      <a:pt x="1213" y="0"/>
                    </a:lnTo>
                    <a:lnTo>
                      <a:pt x="1469" y="92"/>
                    </a:lnTo>
                    <a:lnTo>
                      <a:pt x="1729" y="230"/>
                    </a:lnTo>
                    <a:lnTo>
                      <a:pt x="1844" y="412"/>
                    </a:lnTo>
                    <a:lnTo>
                      <a:pt x="1681" y="504"/>
                    </a:lnTo>
                    <a:lnTo>
                      <a:pt x="0" y="504"/>
                    </a:lnTo>
                    <a:lnTo>
                      <a:pt x="0" y="159"/>
                    </a:lnTo>
                    <a:lnTo>
                      <a:pt x="63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90920" y="5981760"/>
                <a:ext cx="663840" cy="181440"/>
              </a:xfrm>
              <a:custGeom>
                <a:avLst/>
                <a:gdLst/>
                <a:ahLst/>
                <a:rect l="0" t="0" r="r" b="b"/>
                <a:pathLst>
                  <a:path w="1844" h="504">
                    <a:moveTo>
                      <a:pt x="1213" y="159"/>
                    </a:moveTo>
                    <a:lnTo>
                      <a:pt x="864" y="44"/>
                    </a:lnTo>
                    <a:lnTo>
                      <a:pt x="630" y="0"/>
                    </a:lnTo>
                    <a:lnTo>
                      <a:pt x="374" y="92"/>
                    </a:lnTo>
                    <a:lnTo>
                      <a:pt x="114" y="230"/>
                    </a:lnTo>
                    <a:lnTo>
                      <a:pt x="0" y="412"/>
                    </a:lnTo>
                    <a:lnTo>
                      <a:pt x="163" y="504"/>
                    </a:lnTo>
                    <a:lnTo>
                      <a:pt x="1844" y="504"/>
                    </a:lnTo>
                    <a:lnTo>
                      <a:pt x="1844" y="159"/>
                    </a:lnTo>
                    <a:lnTo>
                      <a:pt x="121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481560" y="3556080"/>
              <a:ext cx="743400" cy="910080"/>
            </a:xfrm>
            <a:custGeom>
              <a:avLst/>
              <a:gdLst/>
              <a:ahLst/>
              <a:rect l="0" t="0" r="r" b="b"/>
              <a:pathLst>
                <a:path w="2065" h="2528">
                  <a:moveTo>
                    <a:pt x="13" y="48"/>
                  </a:moveTo>
                  <a:lnTo>
                    <a:pt x="180" y="0"/>
                  </a:lnTo>
                  <a:lnTo>
                    <a:pt x="432" y="119"/>
                  </a:lnTo>
                  <a:lnTo>
                    <a:pt x="913" y="755"/>
                  </a:lnTo>
                  <a:lnTo>
                    <a:pt x="2065" y="2052"/>
                  </a:lnTo>
                  <a:lnTo>
                    <a:pt x="1500" y="2528"/>
                  </a:lnTo>
                  <a:lnTo>
                    <a:pt x="574" y="1350"/>
                  </a:lnTo>
                  <a:lnTo>
                    <a:pt x="0" y="396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48040" y="3556080"/>
              <a:ext cx="743400" cy="910080"/>
            </a:xfrm>
            <a:custGeom>
              <a:avLst/>
              <a:gdLst/>
              <a:ahLst/>
              <a:rect l="0" t="0" r="r" b="b"/>
              <a:pathLst>
                <a:path w="2065" h="2528">
                  <a:moveTo>
                    <a:pt x="2052" y="48"/>
                  </a:moveTo>
                  <a:lnTo>
                    <a:pt x="1884" y="0"/>
                  </a:lnTo>
                  <a:lnTo>
                    <a:pt x="1633" y="119"/>
                  </a:lnTo>
                  <a:lnTo>
                    <a:pt x="1151" y="755"/>
                  </a:lnTo>
                  <a:lnTo>
                    <a:pt x="0" y="2052"/>
                  </a:lnTo>
                  <a:lnTo>
                    <a:pt x="565" y="2528"/>
                  </a:lnTo>
                  <a:lnTo>
                    <a:pt x="1491" y="1350"/>
                  </a:lnTo>
                  <a:lnTo>
                    <a:pt x="2065" y="396"/>
                  </a:lnTo>
                  <a:lnTo>
                    <a:pt x="2052" y="4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833560" y="1905120"/>
              <a:ext cx="954000" cy="2823120"/>
              <a:chOff x="2833560" y="1905120"/>
              <a:chExt cx="954000" cy="2823120"/>
            </a:xfrm>
          </p:grpSpPr>
          <p:sp>
            <p:nvSpPr>
              <p:cNvPr id="427" name=""/>
              <p:cNvSpPr/>
              <p:nvPr/>
            </p:nvSpPr>
            <p:spPr>
              <a:xfrm>
                <a:off x="2833560" y="334980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9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2901960" y="1905120"/>
                <a:ext cx="885600" cy="1606680"/>
                <a:chOff x="2901960" y="1905120"/>
                <a:chExt cx="885600" cy="16066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901960" y="21081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425760" y="24908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48120" y="245736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233880" y="26305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594240" y="26384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3481560" y="1930320"/>
                  <a:ext cx="612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>
                  <a:off x="3371760" y="19130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3211560" y="1905120"/>
                  <a:ext cx="3312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>
                  <a:off x="3052800" y="1946160"/>
                  <a:ext cx="49320" cy="17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>
                  <a:off x="2927520" y="1969920"/>
                  <a:ext cx="4752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119400" y="29289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70160" y="33559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120" y="25909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2654280" y="3495600"/>
              <a:ext cx="449640" cy="1243440"/>
              <a:chOff x="2654280" y="3495600"/>
              <a:chExt cx="449640" cy="1243440"/>
            </a:xfrm>
          </p:grpSpPr>
          <p:sp>
            <p:nvSpPr>
              <p:cNvPr id="443" name=""/>
              <p:cNvSpPr/>
              <p:nvPr/>
            </p:nvSpPr>
            <p:spPr>
              <a:xfrm>
                <a:off x="2674800" y="3495600"/>
                <a:ext cx="429120" cy="1026000"/>
              </a:xfrm>
              <a:custGeom>
                <a:avLst/>
                <a:gdLst/>
                <a:ahLst/>
                <a:rect l="0" t="0" r="r" b="b"/>
                <a:pathLst>
                  <a:path w="1192" h="2850">
                    <a:moveTo>
                      <a:pt x="980" y="0"/>
                    </a:moveTo>
                    <a:lnTo>
                      <a:pt x="1122" y="92"/>
                    </a:lnTo>
                    <a:lnTo>
                      <a:pt x="1192" y="366"/>
                    </a:lnTo>
                    <a:lnTo>
                      <a:pt x="1007" y="1138"/>
                    </a:lnTo>
                    <a:lnTo>
                      <a:pt x="724" y="2850"/>
                    </a:lnTo>
                    <a:lnTo>
                      <a:pt x="0" y="2713"/>
                    </a:lnTo>
                    <a:lnTo>
                      <a:pt x="327" y="1253"/>
                    </a:lnTo>
                    <a:lnTo>
                      <a:pt x="702" y="207"/>
                    </a:lnTo>
                    <a:lnTo>
                      <a:pt x="9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54280" y="4492800"/>
                <a:ext cx="26820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037120" y="1914480"/>
              <a:ext cx="1335240" cy="4258080"/>
              <a:chOff x="5037120" y="1914480"/>
              <a:chExt cx="1335240" cy="425808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037120" y="4564080"/>
                <a:ext cx="1335240" cy="1608480"/>
                <a:chOff x="5037120" y="4564080"/>
                <a:chExt cx="1335240" cy="1608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373720" y="456408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0371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7085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175360" y="1914480"/>
                <a:ext cx="954360" cy="2821680"/>
                <a:chOff x="5175360" y="1914480"/>
                <a:chExt cx="954360" cy="28216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5264280" y="335772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5175360" y="1914480"/>
                  <a:ext cx="886320" cy="1566000"/>
                  <a:chOff x="5175360" y="1914480"/>
                  <a:chExt cx="886320" cy="15660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5272200" y="211788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175360" y="250020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486400" y="246708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654520" y="263988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292720" y="264780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475240" y="1940040"/>
                    <a:ext cx="648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5575320" y="1922400"/>
                    <a:ext cx="1584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V="1">
                    <a:off x="5718240" y="1914480"/>
                    <a:ext cx="33120" cy="19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>
                    <a:off x="5861160" y="1955880"/>
                    <a:ext cx="48960" cy="171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5987880" y="1979640"/>
                    <a:ext cx="47880" cy="155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264280" y="293832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"/>
                <p:cNvSpPr/>
                <p:nvPr/>
              </p:nvSpPr>
              <p:spPr>
                <a:xfrm>
                  <a:off x="5524560" y="336564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5859360" y="3505320"/>
                <a:ext cx="449280" cy="1243080"/>
                <a:chOff x="5859360" y="3505320"/>
                <a:chExt cx="449280" cy="12430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859360" y="3505320"/>
                  <a:ext cx="429120" cy="1026000"/>
                </a:xfrm>
                <a:custGeom>
                  <a:avLst/>
                  <a:gdLst/>
                  <a:ahLst/>
                  <a:rect l="0" t="0" r="r" b="b"/>
                  <a:pathLst>
                    <a:path w="1192" h="2850">
                      <a:moveTo>
                        <a:pt x="210" y="0"/>
                      </a:moveTo>
                      <a:lnTo>
                        <a:pt x="70" y="91"/>
                      </a:lnTo>
                      <a:lnTo>
                        <a:pt x="0" y="364"/>
                      </a:lnTo>
                      <a:lnTo>
                        <a:pt x="186" y="1140"/>
                      </a:lnTo>
                      <a:lnTo>
                        <a:pt x="467" y="2850"/>
                      </a:lnTo>
                      <a:lnTo>
                        <a:pt x="1192" y="2713"/>
                      </a:lnTo>
                      <a:lnTo>
                        <a:pt x="864" y="1254"/>
                      </a:lnTo>
                      <a:lnTo>
                        <a:pt x="491" y="205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40440" y="4502160"/>
                  <a:ext cx="268200" cy="246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5495760" y="4233960"/>
                <a:ext cx="371880" cy="562320"/>
              </a:xfrm>
              <a:custGeom>
                <a:avLst/>
                <a:gdLst/>
                <a:ahLst/>
                <a:rect l="0" t="0" r="r" b="b"/>
                <a:pathLst>
                  <a:path w="1033" h="1562">
                    <a:moveTo>
                      <a:pt x="264" y="62"/>
                    </a:moveTo>
                    <a:lnTo>
                      <a:pt x="317" y="22"/>
                    </a:lnTo>
                    <a:lnTo>
                      <a:pt x="370" y="0"/>
                    </a:lnTo>
                    <a:lnTo>
                      <a:pt x="423" y="22"/>
                    </a:lnTo>
                    <a:lnTo>
                      <a:pt x="505" y="40"/>
                    </a:lnTo>
                    <a:lnTo>
                      <a:pt x="634" y="0"/>
                    </a:lnTo>
                    <a:lnTo>
                      <a:pt x="686" y="0"/>
                    </a:lnTo>
                    <a:lnTo>
                      <a:pt x="769" y="0"/>
                    </a:lnTo>
                    <a:lnTo>
                      <a:pt x="769" y="62"/>
                    </a:lnTo>
                    <a:lnTo>
                      <a:pt x="769" y="80"/>
                    </a:lnTo>
                    <a:lnTo>
                      <a:pt x="686" y="142"/>
                    </a:lnTo>
                    <a:lnTo>
                      <a:pt x="716" y="227"/>
                    </a:lnTo>
                    <a:lnTo>
                      <a:pt x="716" y="289"/>
                    </a:lnTo>
                    <a:lnTo>
                      <a:pt x="769" y="330"/>
                    </a:lnTo>
                    <a:lnTo>
                      <a:pt x="822" y="392"/>
                    </a:lnTo>
                    <a:lnTo>
                      <a:pt x="793" y="535"/>
                    </a:lnTo>
                    <a:lnTo>
                      <a:pt x="739" y="637"/>
                    </a:lnTo>
                    <a:lnTo>
                      <a:pt x="793" y="700"/>
                    </a:lnTo>
                    <a:lnTo>
                      <a:pt x="875" y="780"/>
                    </a:lnTo>
                    <a:lnTo>
                      <a:pt x="951" y="861"/>
                    </a:lnTo>
                    <a:lnTo>
                      <a:pt x="981" y="924"/>
                    </a:lnTo>
                    <a:lnTo>
                      <a:pt x="1004" y="986"/>
                    </a:lnTo>
                    <a:lnTo>
                      <a:pt x="1033" y="1026"/>
                    </a:lnTo>
                    <a:lnTo>
                      <a:pt x="1033" y="1026"/>
                    </a:lnTo>
                    <a:lnTo>
                      <a:pt x="1004" y="1174"/>
                    </a:lnTo>
                    <a:lnTo>
                      <a:pt x="981" y="1294"/>
                    </a:lnTo>
                    <a:lnTo>
                      <a:pt x="951" y="1419"/>
                    </a:lnTo>
                    <a:lnTo>
                      <a:pt x="899" y="1562"/>
                    </a:lnTo>
                    <a:lnTo>
                      <a:pt x="899" y="1521"/>
                    </a:lnTo>
                    <a:lnTo>
                      <a:pt x="899" y="1481"/>
                    </a:lnTo>
                    <a:lnTo>
                      <a:pt x="928" y="1437"/>
                    </a:lnTo>
                    <a:lnTo>
                      <a:pt x="928" y="1419"/>
                    </a:lnTo>
                    <a:lnTo>
                      <a:pt x="899" y="1356"/>
                    </a:lnTo>
                    <a:lnTo>
                      <a:pt x="875" y="1276"/>
                    </a:lnTo>
                    <a:lnTo>
                      <a:pt x="899" y="1214"/>
                    </a:lnTo>
                    <a:lnTo>
                      <a:pt x="928" y="1191"/>
                    </a:lnTo>
                    <a:lnTo>
                      <a:pt x="928" y="1174"/>
                    </a:lnTo>
                    <a:lnTo>
                      <a:pt x="899" y="1049"/>
                    </a:lnTo>
                    <a:lnTo>
                      <a:pt x="846" y="986"/>
                    </a:lnTo>
                    <a:lnTo>
                      <a:pt x="793" y="946"/>
                    </a:lnTo>
                    <a:lnTo>
                      <a:pt x="739" y="884"/>
                    </a:lnTo>
                    <a:lnTo>
                      <a:pt x="686" y="821"/>
                    </a:lnTo>
                    <a:lnTo>
                      <a:pt x="634" y="861"/>
                    </a:lnTo>
                    <a:lnTo>
                      <a:pt x="581" y="884"/>
                    </a:lnTo>
                    <a:lnTo>
                      <a:pt x="528" y="906"/>
                    </a:lnTo>
                    <a:lnTo>
                      <a:pt x="505" y="924"/>
                    </a:lnTo>
                    <a:lnTo>
                      <a:pt x="475" y="924"/>
                    </a:lnTo>
                    <a:lnTo>
                      <a:pt x="475" y="843"/>
                    </a:lnTo>
                    <a:lnTo>
                      <a:pt x="475" y="821"/>
                    </a:lnTo>
                    <a:lnTo>
                      <a:pt x="475" y="803"/>
                    </a:lnTo>
                    <a:lnTo>
                      <a:pt x="505" y="758"/>
                    </a:lnTo>
                    <a:lnTo>
                      <a:pt x="528" y="718"/>
                    </a:lnTo>
                    <a:lnTo>
                      <a:pt x="528" y="718"/>
                    </a:lnTo>
                    <a:lnTo>
                      <a:pt x="528" y="740"/>
                    </a:lnTo>
                    <a:lnTo>
                      <a:pt x="528" y="758"/>
                    </a:lnTo>
                    <a:lnTo>
                      <a:pt x="505" y="780"/>
                    </a:lnTo>
                    <a:lnTo>
                      <a:pt x="452" y="758"/>
                    </a:lnTo>
                    <a:lnTo>
                      <a:pt x="423" y="740"/>
                    </a:lnTo>
                    <a:lnTo>
                      <a:pt x="399" y="740"/>
                    </a:lnTo>
                    <a:lnTo>
                      <a:pt x="370" y="758"/>
                    </a:lnTo>
                    <a:lnTo>
                      <a:pt x="346" y="780"/>
                    </a:lnTo>
                    <a:lnTo>
                      <a:pt x="264" y="718"/>
                    </a:lnTo>
                    <a:lnTo>
                      <a:pt x="240" y="780"/>
                    </a:lnTo>
                    <a:lnTo>
                      <a:pt x="211" y="803"/>
                    </a:lnTo>
                    <a:lnTo>
                      <a:pt x="158" y="780"/>
                    </a:lnTo>
                    <a:lnTo>
                      <a:pt x="52" y="758"/>
                    </a:lnTo>
                    <a:lnTo>
                      <a:pt x="23" y="740"/>
                    </a:lnTo>
                    <a:lnTo>
                      <a:pt x="0" y="700"/>
                    </a:lnTo>
                    <a:lnTo>
                      <a:pt x="23" y="677"/>
                    </a:lnTo>
                    <a:lnTo>
                      <a:pt x="52" y="677"/>
                    </a:lnTo>
                    <a:lnTo>
                      <a:pt x="158" y="700"/>
                    </a:lnTo>
                    <a:lnTo>
                      <a:pt x="264" y="718"/>
                    </a:lnTo>
                    <a:lnTo>
                      <a:pt x="264" y="718"/>
                    </a:lnTo>
                    <a:lnTo>
                      <a:pt x="240" y="700"/>
                    </a:lnTo>
                    <a:lnTo>
                      <a:pt x="211" y="677"/>
                    </a:lnTo>
                    <a:lnTo>
                      <a:pt x="187" y="655"/>
                    </a:lnTo>
                    <a:lnTo>
                      <a:pt x="187" y="637"/>
                    </a:lnTo>
                    <a:lnTo>
                      <a:pt x="187" y="597"/>
                    </a:lnTo>
                    <a:lnTo>
                      <a:pt x="211" y="553"/>
                    </a:lnTo>
                    <a:lnTo>
                      <a:pt x="240" y="535"/>
                    </a:lnTo>
                    <a:lnTo>
                      <a:pt x="240" y="472"/>
                    </a:lnTo>
                    <a:lnTo>
                      <a:pt x="240" y="410"/>
                    </a:lnTo>
                    <a:lnTo>
                      <a:pt x="240" y="267"/>
                    </a:lnTo>
                    <a:lnTo>
                      <a:pt x="187" y="227"/>
                    </a:lnTo>
                    <a:lnTo>
                      <a:pt x="158" y="205"/>
                    </a:lnTo>
                    <a:lnTo>
                      <a:pt x="158" y="182"/>
                    </a:lnTo>
                    <a:lnTo>
                      <a:pt x="187" y="165"/>
                    </a:lnTo>
                    <a:lnTo>
                      <a:pt x="211" y="142"/>
                    </a:lnTo>
                    <a:lnTo>
                      <a:pt x="211" y="124"/>
                    </a:lnTo>
                    <a:lnTo>
                      <a:pt x="264" y="6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310680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19240" y="4495680"/>
              <a:ext cx="2445120" cy="1797480"/>
            </a:xfrm>
            <a:custGeom>
              <a:avLst/>
              <a:gdLst/>
              <a:ahLst/>
              <a:rect l="0" t="0" r="r" b="b"/>
              <a:pathLst>
                <a:path w="6792" h="4993">
                  <a:moveTo>
                    <a:pt x="1830" y="492"/>
                  </a:moveTo>
                  <a:lnTo>
                    <a:pt x="1830" y="572"/>
                  </a:lnTo>
                  <a:lnTo>
                    <a:pt x="1847" y="620"/>
                  </a:lnTo>
                  <a:lnTo>
                    <a:pt x="1896" y="635"/>
                  </a:lnTo>
                  <a:lnTo>
                    <a:pt x="1945" y="651"/>
                  </a:lnTo>
                  <a:lnTo>
                    <a:pt x="2011" y="667"/>
                  </a:lnTo>
                  <a:lnTo>
                    <a:pt x="2061" y="683"/>
                  </a:lnTo>
                  <a:lnTo>
                    <a:pt x="2110" y="699"/>
                  </a:lnTo>
                  <a:lnTo>
                    <a:pt x="2160" y="699"/>
                  </a:lnTo>
                  <a:lnTo>
                    <a:pt x="2193" y="747"/>
                  </a:lnTo>
                  <a:lnTo>
                    <a:pt x="2193" y="794"/>
                  </a:lnTo>
                  <a:lnTo>
                    <a:pt x="2193" y="858"/>
                  </a:lnTo>
                  <a:lnTo>
                    <a:pt x="2176" y="906"/>
                  </a:lnTo>
                  <a:lnTo>
                    <a:pt x="2127" y="937"/>
                  </a:lnTo>
                  <a:lnTo>
                    <a:pt x="2061" y="985"/>
                  </a:lnTo>
                  <a:lnTo>
                    <a:pt x="2011" y="1001"/>
                  </a:lnTo>
                  <a:lnTo>
                    <a:pt x="1962" y="1033"/>
                  </a:lnTo>
                  <a:lnTo>
                    <a:pt x="1913" y="1049"/>
                  </a:lnTo>
                  <a:lnTo>
                    <a:pt x="1896" y="1096"/>
                  </a:lnTo>
                  <a:lnTo>
                    <a:pt x="1847" y="1160"/>
                  </a:lnTo>
                  <a:lnTo>
                    <a:pt x="1830" y="1208"/>
                  </a:lnTo>
                  <a:lnTo>
                    <a:pt x="1797" y="1256"/>
                  </a:lnTo>
                  <a:lnTo>
                    <a:pt x="1781" y="1304"/>
                  </a:lnTo>
                  <a:lnTo>
                    <a:pt x="1764" y="1352"/>
                  </a:lnTo>
                  <a:lnTo>
                    <a:pt x="1715" y="1384"/>
                  </a:lnTo>
                  <a:lnTo>
                    <a:pt x="1664" y="1384"/>
                  </a:lnTo>
                  <a:lnTo>
                    <a:pt x="1615" y="1415"/>
                  </a:lnTo>
                  <a:lnTo>
                    <a:pt x="1565" y="1463"/>
                  </a:lnTo>
                  <a:lnTo>
                    <a:pt x="1466" y="1495"/>
                  </a:lnTo>
                  <a:lnTo>
                    <a:pt x="1368" y="1511"/>
                  </a:lnTo>
                  <a:lnTo>
                    <a:pt x="1335" y="1558"/>
                  </a:lnTo>
                  <a:lnTo>
                    <a:pt x="1318" y="1606"/>
                  </a:lnTo>
                  <a:lnTo>
                    <a:pt x="1318" y="1733"/>
                  </a:lnTo>
                  <a:lnTo>
                    <a:pt x="1318" y="1892"/>
                  </a:lnTo>
                  <a:lnTo>
                    <a:pt x="1318" y="1988"/>
                  </a:lnTo>
                  <a:lnTo>
                    <a:pt x="1285" y="2051"/>
                  </a:lnTo>
                  <a:lnTo>
                    <a:pt x="1269" y="2099"/>
                  </a:lnTo>
                  <a:lnTo>
                    <a:pt x="1203" y="2131"/>
                  </a:lnTo>
                  <a:lnTo>
                    <a:pt x="1153" y="2163"/>
                  </a:lnTo>
                  <a:lnTo>
                    <a:pt x="1104" y="2210"/>
                  </a:lnTo>
                  <a:lnTo>
                    <a:pt x="1087" y="2274"/>
                  </a:lnTo>
                  <a:lnTo>
                    <a:pt x="1087" y="2337"/>
                  </a:lnTo>
                  <a:lnTo>
                    <a:pt x="1054" y="2401"/>
                  </a:lnTo>
                  <a:lnTo>
                    <a:pt x="1021" y="2465"/>
                  </a:lnTo>
                  <a:lnTo>
                    <a:pt x="972" y="2512"/>
                  </a:lnTo>
                  <a:lnTo>
                    <a:pt x="939" y="2560"/>
                  </a:lnTo>
                  <a:lnTo>
                    <a:pt x="840" y="2592"/>
                  </a:lnTo>
                  <a:lnTo>
                    <a:pt x="791" y="2639"/>
                  </a:lnTo>
                  <a:lnTo>
                    <a:pt x="758" y="2687"/>
                  </a:lnTo>
                  <a:lnTo>
                    <a:pt x="741" y="2735"/>
                  </a:lnTo>
                  <a:lnTo>
                    <a:pt x="725" y="2783"/>
                  </a:lnTo>
                  <a:lnTo>
                    <a:pt x="725" y="2830"/>
                  </a:lnTo>
                  <a:lnTo>
                    <a:pt x="725" y="2878"/>
                  </a:lnTo>
                  <a:lnTo>
                    <a:pt x="708" y="2926"/>
                  </a:lnTo>
                  <a:lnTo>
                    <a:pt x="708" y="2973"/>
                  </a:lnTo>
                  <a:lnTo>
                    <a:pt x="692" y="3021"/>
                  </a:lnTo>
                  <a:lnTo>
                    <a:pt x="659" y="3069"/>
                  </a:lnTo>
                  <a:lnTo>
                    <a:pt x="626" y="3116"/>
                  </a:lnTo>
                  <a:lnTo>
                    <a:pt x="626" y="3164"/>
                  </a:lnTo>
                  <a:lnTo>
                    <a:pt x="626" y="3212"/>
                  </a:lnTo>
                  <a:lnTo>
                    <a:pt x="609" y="3259"/>
                  </a:lnTo>
                  <a:lnTo>
                    <a:pt x="576" y="3307"/>
                  </a:lnTo>
                  <a:lnTo>
                    <a:pt x="527" y="3355"/>
                  </a:lnTo>
                  <a:lnTo>
                    <a:pt x="478" y="3403"/>
                  </a:lnTo>
                  <a:lnTo>
                    <a:pt x="445" y="3450"/>
                  </a:lnTo>
                  <a:lnTo>
                    <a:pt x="428" y="3498"/>
                  </a:lnTo>
                  <a:lnTo>
                    <a:pt x="412" y="3546"/>
                  </a:lnTo>
                  <a:lnTo>
                    <a:pt x="412" y="3593"/>
                  </a:lnTo>
                  <a:lnTo>
                    <a:pt x="412" y="3641"/>
                  </a:lnTo>
                  <a:lnTo>
                    <a:pt x="428" y="3689"/>
                  </a:lnTo>
                  <a:lnTo>
                    <a:pt x="445" y="3736"/>
                  </a:lnTo>
                  <a:lnTo>
                    <a:pt x="445" y="3785"/>
                  </a:lnTo>
                  <a:lnTo>
                    <a:pt x="445" y="3833"/>
                  </a:lnTo>
                  <a:lnTo>
                    <a:pt x="494" y="3880"/>
                  </a:lnTo>
                  <a:lnTo>
                    <a:pt x="543" y="3912"/>
                  </a:lnTo>
                  <a:lnTo>
                    <a:pt x="593" y="3944"/>
                  </a:lnTo>
                  <a:lnTo>
                    <a:pt x="642" y="3976"/>
                  </a:lnTo>
                  <a:lnTo>
                    <a:pt x="659" y="4024"/>
                  </a:lnTo>
                  <a:lnTo>
                    <a:pt x="708" y="4055"/>
                  </a:lnTo>
                  <a:lnTo>
                    <a:pt x="758" y="4087"/>
                  </a:lnTo>
                  <a:lnTo>
                    <a:pt x="807" y="4087"/>
                  </a:lnTo>
                  <a:lnTo>
                    <a:pt x="857" y="4087"/>
                  </a:lnTo>
                  <a:lnTo>
                    <a:pt x="906" y="4087"/>
                  </a:lnTo>
                  <a:lnTo>
                    <a:pt x="972" y="4103"/>
                  </a:lnTo>
                  <a:lnTo>
                    <a:pt x="1021" y="4135"/>
                  </a:lnTo>
                  <a:lnTo>
                    <a:pt x="1087" y="4167"/>
                  </a:lnTo>
                  <a:lnTo>
                    <a:pt x="1137" y="4198"/>
                  </a:lnTo>
                  <a:lnTo>
                    <a:pt x="1186" y="4214"/>
                  </a:lnTo>
                  <a:lnTo>
                    <a:pt x="1219" y="4262"/>
                  </a:lnTo>
                  <a:lnTo>
                    <a:pt x="1285" y="4326"/>
                  </a:lnTo>
                  <a:lnTo>
                    <a:pt x="1335" y="4373"/>
                  </a:lnTo>
                  <a:lnTo>
                    <a:pt x="1384" y="4389"/>
                  </a:lnTo>
                  <a:lnTo>
                    <a:pt x="1434" y="4405"/>
                  </a:lnTo>
                  <a:lnTo>
                    <a:pt x="1549" y="4421"/>
                  </a:lnTo>
                  <a:lnTo>
                    <a:pt x="1598" y="4437"/>
                  </a:lnTo>
                  <a:lnTo>
                    <a:pt x="1664" y="4469"/>
                  </a:lnTo>
                  <a:lnTo>
                    <a:pt x="1731" y="4485"/>
                  </a:lnTo>
                  <a:lnTo>
                    <a:pt x="1847" y="4485"/>
                  </a:lnTo>
                  <a:lnTo>
                    <a:pt x="1896" y="4485"/>
                  </a:lnTo>
                  <a:lnTo>
                    <a:pt x="1945" y="4469"/>
                  </a:lnTo>
                  <a:lnTo>
                    <a:pt x="1995" y="4453"/>
                  </a:lnTo>
                  <a:lnTo>
                    <a:pt x="2061" y="4453"/>
                  </a:lnTo>
                  <a:lnTo>
                    <a:pt x="2110" y="4469"/>
                  </a:lnTo>
                  <a:lnTo>
                    <a:pt x="2160" y="4485"/>
                  </a:lnTo>
                  <a:lnTo>
                    <a:pt x="2209" y="4516"/>
                  </a:lnTo>
                  <a:lnTo>
                    <a:pt x="2259" y="4532"/>
                  </a:lnTo>
                  <a:lnTo>
                    <a:pt x="2308" y="4548"/>
                  </a:lnTo>
                  <a:lnTo>
                    <a:pt x="2374" y="4564"/>
                  </a:lnTo>
                  <a:lnTo>
                    <a:pt x="2423" y="4548"/>
                  </a:lnTo>
                  <a:lnTo>
                    <a:pt x="2555" y="4532"/>
                  </a:lnTo>
                  <a:lnTo>
                    <a:pt x="2605" y="4516"/>
                  </a:lnTo>
                  <a:lnTo>
                    <a:pt x="2654" y="4516"/>
                  </a:lnTo>
                  <a:lnTo>
                    <a:pt x="2704" y="4500"/>
                  </a:lnTo>
                  <a:lnTo>
                    <a:pt x="2753" y="4516"/>
                  </a:lnTo>
                  <a:lnTo>
                    <a:pt x="2819" y="4516"/>
                  </a:lnTo>
                  <a:lnTo>
                    <a:pt x="2918" y="4500"/>
                  </a:lnTo>
                  <a:lnTo>
                    <a:pt x="3017" y="4485"/>
                  </a:lnTo>
                  <a:lnTo>
                    <a:pt x="3083" y="4485"/>
                  </a:lnTo>
                  <a:lnTo>
                    <a:pt x="3132" y="4485"/>
                  </a:lnTo>
                  <a:lnTo>
                    <a:pt x="3182" y="4485"/>
                  </a:lnTo>
                  <a:lnTo>
                    <a:pt x="3281" y="4485"/>
                  </a:lnTo>
                  <a:lnTo>
                    <a:pt x="3380" y="4485"/>
                  </a:lnTo>
                  <a:lnTo>
                    <a:pt x="3478" y="4485"/>
                  </a:lnTo>
                  <a:lnTo>
                    <a:pt x="3528" y="4469"/>
                  </a:lnTo>
                  <a:lnTo>
                    <a:pt x="3660" y="4453"/>
                  </a:lnTo>
                  <a:lnTo>
                    <a:pt x="3709" y="4453"/>
                  </a:lnTo>
                  <a:lnTo>
                    <a:pt x="3858" y="4485"/>
                  </a:lnTo>
                  <a:lnTo>
                    <a:pt x="3956" y="4485"/>
                  </a:lnTo>
                  <a:lnTo>
                    <a:pt x="4022" y="4500"/>
                  </a:lnTo>
                  <a:lnTo>
                    <a:pt x="4072" y="4500"/>
                  </a:lnTo>
                  <a:lnTo>
                    <a:pt x="4171" y="4500"/>
                  </a:lnTo>
                  <a:lnTo>
                    <a:pt x="4270" y="4500"/>
                  </a:lnTo>
                  <a:lnTo>
                    <a:pt x="4401" y="4500"/>
                  </a:lnTo>
                  <a:lnTo>
                    <a:pt x="4451" y="4485"/>
                  </a:lnTo>
                  <a:lnTo>
                    <a:pt x="4500" y="4485"/>
                  </a:lnTo>
                  <a:lnTo>
                    <a:pt x="4550" y="4469"/>
                  </a:lnTo>
                  <a:lnTo>
                    <a:pt x="4599" y="4453"/>
                  </a:lnTo>
                  <a:lnTo>
                    <a:pt x="4649" y="4453"/>
                  </a:lnTo>
                  <a:lnTo>
                    <a:pt x="4698" y="4453"/>
                  </a:lnTo>
                  <a:lnTo>
                    <a:pt x="4830" y="4453"/>
                  </a:lnTo>
                  <a:lnTo>
                    <a:pt x="4929" y="4453"/>
                  </a:lnTo>
                  <a:lnTo>
                    <a:pt x="4978" y="4453"/>
                  </a:lnTo>
                  <a:lnTo>
                    <a:pt x="5028" y="4453"/>
                  </a:lnTo>
                  <a:lnTo>
                    <a:pt x="5077" y="4453"/>
                  </a:lnTo>
                  <a:lnTo>
                    <a:pt x="5128" y="4453"/>
                  </a:lnTo>
                  <a:lnTo>
                    <a:pt x="5177" y="4437"/>
                  </a:lnTo>
                  <a:lnTo>
                    <a:pt x="5227" y="4421"/>
                  </a:lnTo>
                  <a:lnTo>
                    <a:pt x="5276" y="4405"/>
                  </a:lnTo>
                  <a:lnTo>
                    <a:pt x="5408" y="4389"/>
                  </a:lnTo>
                  <a:lnTo>
                    <a:pt x="5457" y="4373"/>
                  </a:lnTo>
                  <a:lnTo>
                    <a:pt x="5507" y="4357"/>
                  </a:lnTo>
                  <a:lnTo>
                    <a:pt x="5556" y="4326"/>
                  </a:lnTo>
                  <a:lnTo>
                    <a:pt x="5606" y="4294"/>
                  </a:lnTo>
                  <a:lnTo>
                    <a:pt x="5655" y="4262"/>
                  </a:lnTo>
                  <a:lnTo>
                    <a:pt x="5705" y="4230"/>
                  </a:lnTo>
                  <a:lnTo>
                    <a:pt x="5771" y="4230"/>
                  </a:lnTo>
                  <a:lnTo>
                    <a:pt x="5820" y="4246"/>
                  </a:lnTo>
                  <a:lnTo>
                    <a:pt x="5869" y="4278"/>
                  </a:lnTo>
                  <a:lnTo>
                    <a:pt x="5919" y="4294"/>
                  </a:lnTo>
                  <a:lnTo>
                    <a:pt x="5968" y="4326"/>
                  </a:lnTo>
                  <a:lnTo>
                    <a:pt x="6034" y="4342"/>
                  </a:lnTo>
                  <a:lnTo>
                    <a:pt x="6100" y="4357"/>
                  </a:lnTo>
                  <a:lnTo>
                    <a:pt x="6150" y="4357"/>
                  </a:lnTo>
                  <a:lnTo>
                    <a:pt x="6199" y="4342"/>
                  </a:lnTo>
                  <a:lnTo>
                    <a:pt x="6249" y="4326"/>
                  </a:lnTo>
                  <a:lnTo>
                    <a:pt x="6298" y="4294"/>
                  </a:lnTo>
                  <a:lnTo>
                    <a:pt x="6347" y="4230"/>
                  </a:lnTo>
                  <a:lnTo>
                    <a:pt x="6364" y="4183"/>
                  </a:lnTo>
                  <a:lnTo>
                    <a:pt x="6364" y="4119"/>
                  </a:lnTo>
                  <a:lnTo>
                    <a:pt x="6364" y="4071"/>
                  </a:lnTo>
                  <a:lnTo>
                    <a:pt x="6364" y="4024"/>
                  </a:lnTo>
                  <a:lnTo>
                    <a:pt x="6364" y="3976"/>
                  </a:lnTo>
                  <a:lnTo>
                    <a:pt x="6347" y="3928"/>
                  </a:lnTo>
                  <a:lnTo>
                    <a:pt x="6331" y="3880"/>
                  </a:lnTo>
                  <a:lnTo>
                    <a:pt x="6298" y="3833"/>
                  </a:lnTo>
                  <a:lnTo>
                    <a:pt x="6265" y="3769"/>
                  </a:lnTo>
                  <a:lnTo>
                    <a:pt x="6199" y="3641"/>
                  </a:lnTo>
                  <a:lnTo>
                    <a:pt x="6183" y="3546"/>
                  </a:lnTo>
                  <a:lnTo>
                    <a:pt x="6166" y="3498"/>
                  </a:lnTo>
                  <a:lnTo>
                    <a:pt x="6117" y="3434"/>
                  </a:lnTo>
                  <a:lnTo>
                    <a:pt x="6067" y="3371"/>
                  </a:lnTo>
                  <a:lnTo>
                    <a:pt x="6051" y="3307"/>
                  </a:lnTo>
                  <a:lnTo>
                    <a:pt x="6051" y="3259"/>
                  </a:lnTo>
                  <a:lnTo>
                    <a:pt x="6051" y="3164"/>
                  </a:lnTo>
                  <a:lnTo>
                    <a:pt x="6051" y="3069"/>
                  </a:lnTo>
                  <a:lnTo>
                    <a:pt x="6051" y="3021"/>
                  </a:lnTo>
                  <a:lnTo>
                    <a:pt x="6051" y="2973"/>
                  </a:lnTo>
                  <a:lnTo>
                    <a:pt x="6067" y="2926"/>
                  </a:lnTo>
                  <a:lnTo>
                    <a:pt x="6117" y="2862"/>
                  </a:lnTo>
                  <a:lnTo>
                    <a:pt x="6133" y="2814"/>
                  </a:lnTo>
                  <a:lnTo>
                    <a:pt x="6133" y="2767"/>
                  </a:lnTo>
                  <a:lnTo>
                    <a:pt x="6133" y="2639"/>
                  </a:lnTo>
                  <a:lnTo>
                    <a:pt x="6133" y="2592"/>
                  </a:lnTo>
                  <a:lnTo>
                    <a:pt x="6133" y="2544"/>
                  </a:lnTo>
                  <a:lnTo>
                    <a:pt x="6133" y="2449"/>
                  </a:lnTo>
                  <a:lnTo>
                    <a:pt x="6117" y="2322"/>
                  </a:lnTo>
                  <a:lnTo>
                    <a:pt x="6100" y="2274"/>
                  </a:lnTo>
                  <a:lnTo>
                    <a:pt x="6084" y="2226"/>
                  </a:lnTo>
                  <a:lnTo>
                    <a:pt x="6084" y="2178"/>
                  </a:lnTo>
                  <a:lnTo>
                    <a:pt x="6084" y="2131"/>
                  </a:lnTo>
                  <a:lnTo>
                    <a:pt x="6100" y="2083"/>
                  </a:lnTo>
                  <a:lnTo>
                    <a:pt x="6117" y="2019"/>
                  </a:lnTo>
                  <a:lnTo>
                    <a:pt x="6150" y="1972"/>
                  </a:lnTo>
                  <a:lnTo>
                    <a:pt x="6166" y="1908"/>
                  </a:lnTo>
                  <a:lnTo>
                    <a:pt x="6183" y="1813"/>
                  </a:lnTo>
                  <a:lnTo>
                    <a:pt x="6183" y="1749"/>
                  </a:lnTo>
                  <a:lnTo>
                    <a:pt x="6183" y="1686"/>
                  </a:lnTo>
                  <a:lnTo>
                    <a:pt x="6183" y="1638"/>
                  </a:lnTo>
                  <a:lnTo>
                    <a:pt x="6166" y="1590"/>
                  </a:lnTo>
                  <a:lnTo>
                    <a:pt x="6166" y="1543"/>
                  </a:lnTo>
                  <a:lnTo>
                    <a:pt x="6166" y="1415"/>
                  </a:lnTo>
                  <a:lnTo>
                    <a:pt x="6133" y="1320"/>
                  </a:lnTo>
                  <a:lnTo>
                    <a:pt x="6117" y="1224"/>
                  </a:lnTo>
                  <a:lnTo>
                    <a:pt x="6100" y="1160"/>
                  </a:lnTo>
                  <a:lnTo>
                    <a:pt x="6084" y="1112"/>
                  </a:lnTo>
                  <a:lnTo>
                    <a:pt x="6067" y="1017"/>
                  </a:lnTo>
                  <a:lnTo>
                    <a:pt x="6034" y="969"/>
                  </a:lnTo>
                  <a:lnTo>
                    <a:pt x="5985" y="922"/>
                  </a:lnTo>
                  <a:lnTo>
                    <a:pt x="5952" y="874"/>
                  </a:lnTo>
                  <a:lnTo>
                    <a:pt x="5919" y="826"/>
                  </a:lnTo>
                  <a:lnTo>
                    <a:pt x="5902" y="778"/>
                  </a:lnTo>
                  <a:lnTo>
                    <a:pt x="5902" y="731"/>
                  </a:lnTo>
                  <a:lnTo>
                    <a:pt x="5919" y="683"/>
                  </a:lnTo>
                  <a:lnTo>
                    <a:pt x="5919" y="635"/>
                  </a:lnTo>
                  <a:lnTo>
                    <a:pt x="5919" y="588"/>
                  </a:lnTo>
                  <a:lnTo>
                    <a:pt x="5919" y="540"/>
                  </a:lnTo>
                  <a:lnTo>
                    <a:pt x="5919" y="476"/>
                  </a:lnTo>
                  <a:lnTo>
                    <a:pt x="5919" y="429"/>
                  </a:lnTo>
                  <a:lnTo>
                    <a:pt x="5919" y="381"/>
                  </a:lnTo>
                  <a:lnTo>
                    <a:pt x="5919" y="333"/>
                  </a:lnTo>
                  <a:lnTo>
                    <a:pt x="5935" y="286"/>
                  </a:lnTo>
                  <a:lnTo>
                    <a:pt x="5968" y="238"/>
                  </a:lnTo>
                  <a:lnTo>
                    <a:pt x="5968" y="190"/>
                  </a:lnTo>
                  <a:lnTo>
                    <a:pt x="5952" y="143"/>
                  </a:lnTo>
                  <a:lnTo>
                    <a:pt x="5952" y="95"/>
                  </a:lnTo>
                  <a:lnTo>
                    <a:pt x="5952" y="31"/>
                  </a:lnTo>
                  <a:lnTo>
                    <a:pt x="6001" y="63"/>
                  </a:lnTo>
                  <a:lnTo>
                    <a:pt x="6051" y="79"/>
                  </a:lnTo>
                  <a:lnTo>
                    <a:pt x="6100" y="79"/>
                  </a:lnTo>
                  <a:lnTo>
                    <a:pt x="6150" y="63"/>
                  </a:lnTo>
                  <a:lnTo>
                    <a:pt x="6199" y="31"/>
                  </a:lnTo>
                  <a:lnTo>
                    <a:pt x="6249" y="15"/>
                  </a:lnTo>
                  <a:lnTo>
                    <a:pt x="6298" y="0"/>
                  </a:lnTo>
                  <a:lnTo>
                    <a:pt x="6347" y="0"/>
                  </a:lnTo>
                  <a:lnTo>
                    <a:pt x="6364" y="47"/>
                  </a:lnTo>
                  <a:lnTo>
                    <a:pt x="6364" y="95"/>
                  </a:lnTo>
                  <a:lnTo>
                    <a:pt x="6364" y="143"/>
                  </a:lnTo>
                  <a:lnTo>
                    <a:pt x="6364" y="190"/>
                  </a:lnTo>
                  <a:lnTo>
                    <a:pt x="6364" y="238"/>
                  </a:lnTo>
                  <a:lnTo>
                    <a:pt x="6364" y="302"/>
                  </a:lnTo>
                  <a:lnTo>
                    <a:pt x="6364" y="349"/>
                  </a:lnTo>
                  <a:lnTo>
                    <a:pt x="6364" y="397"/>
                  </a:lnTo>
                  <a:lnTo>
                    <a:pt x="6364" y="445"/>
                  </a:lnTo>
                  <a:lnTo>
                    <a:pt x="6347" y="492"/>
                  </a:lnTo>
                  <a:lnTo>
                    <a:pt x="6347" y="540"/>
                  </a:lnTo>
                  <a:lnTo>
                    <a:pt x="6364" y="588"/>
                  </a:lnTo>
                  <a:lnTo>
                    <a:pt x="6380" y="651"/>
                  </a:lnTo>
                  <a:lnTo>
                    <a:pt x="6413" y="699"/>
                  </a:lnTo>
                  <a:lnTo>
                    <a:pt x="6446" y="747"/>
                  </a:lnTo>
                  <a:lnTo>
                    <a:pt x="6496" y="810"/>
                  </a:lnTo>
                  <a:lnTo>
                    <a:pt x="6529" y="858"/>
                  </a:lnTo>
                  <a:lnTo>
                    <a:pt x="6529" y="906"/>
                  </a:lnTo>
                  <a:lnTo>
                    <a:pt x="6529" y="953"/>
                  </a:lnTo>
                  <a:lnTo>
                    <a:pt x="6512" y="1001"/>
                  </a:lnTo>
                  <a:lnTo>
                    <a:pt x="6512" y="1049"/>
                  </a:lnTo>
                  <a:lnTo>
                    <a:pt x="6512" y="1096"/>
                  </a:lnTo>
                  <a:lnTo>
                    <a:pt x="6512" y="1144"/>
                  </a:lnTo>
                  <a:lnTo>
                    <a:pt x="6529" y="1192"/>
                  </a:lnTo>
                  <a:lnTo>
                    <a:pt x="6529" y="1240"/>
                  </a:lnTo>
                  <a:lnTo>
                    <a:pt x="6562" y="1304"/>
                  </a:lnTo>
                  <a:lnTo>
                    <a:pt x="6562" y="1399"/>
                  </a:lnTo>
                  <a:lnTo>
                    <a:pt x="6595" y="1463"/>
                  </a:lnTo>
                  <a:lnTo>
                    <a:pt x="6611" y="1511"/>
                  </a:lnTo>
                  <a:lnTo>
                    <a:pt x="6628" y="1558"/>
                  </a:lnTo>
                  <a:lnTo>
                    <a:pt x="6628" y="1606"/>
                  </a:lnTo>
                  <a:lnTo>
                    <a:pt x="6628" y="1654"/>
                  </a:lnTo>
                  <a:lnTo>
                    <a:pt x="6628" y="1702"/>
                  </a:lnTo>
                  <a:lnTo>
                    <a:pt x="6628" y="1749"/>
                  </a:lnTo>
                  <a:lnTo>
                    <a:pt x="6611" y="1797"/>
                  </a:lnTo>
                  <a:lnTo>
                    <a:pt x="6595" y="1845"/>
                  </a:lnTo>
                  <a:lnTo>
                    <a:pt x="6578" y="1892"/>
                  </a:lnTo>
                  <a:lnTo>
                    <a:pt x="6562" y="1940"/>
                  </a:lnTo>
                  <a:lnTo>
                    <a:pt x="6562" y="2004"/>
                  </a:lnTo>
                  <a:lnTo>
                    <a:pt x="6562" y="2067"/>
                  </a:lnTo>
                  <a:lnTo>
                    <a:pt x="6562" y="2115"/>
                  </a:lnTo>
                  <a:lnTo>
                    <a:pt x="6562" y="2163"/>
                  </a:lnTo>
                  <a:lnTo>
                    <a:pt x="6562" y="2210"/>
                  </a:lnTo>
                  <a:lnTo>
                    <a:pt x="6562" y="2274"/>
                  </a:lnTo>
                  <a:lnTo>
                    <a:pt x="6562" y="2322"/>
                  </a:lnTo>
                  <a:lnTo>
                    <a:pt x="6562" y="2369"/>
                  </a:lnTo>
                  <a:lnTo>
                    <a:pt x="6529" y="2417"/>
                  </a:lnTo>
                  <a:lnTo>
                    <a:pt x="6529" y="2481"/>
                  </a:lnTo>
                  <a:lnTo>
                    <a:pt x="6529" y="2576"/>
                  </a:lnTo>
                  <a:lnTo>
                    <a:pt x="6529" y="2639"/>
                  </a:lnTo>
                  <a:lnTo>
                    <a:pt x="6529" y="2687"/>
                  </a:lnTo>
                  <a:lnTo>
                    <a:pt x="6545" y="2735"/>
                  </a:lnTo>
                  <a:lnTo>
                    <a:pt x="6545" y="2783"/>
                  </a:lnTo>
                  <a:lnTo>
                    <a:pt x="6529" y="2830"/>
                  </a:lnTo>
                  <a:lnTo>
                    <a:pt x="6512" y="2878"/>
                  </a:lnTo>
                  <a:lnTo>
                    <a:pt x="6512" y="2926"/>
                  </a:lnTo>
                  <a:lnTo>
                    <a:pt x="6512" y="2973"/>
                  </a:lnTo>
                  <a:lnTo>
                    <a:pt x="6512" y="3037"/>
                  </a:lnTo>
                  <a:lnTo>
                    <a:pt x="6545" y="3085"/>
                  </a:lnTo>
                  <a:lnTo>
                    <a:pt x="6578" y="3148"/>
                  </a:lnTo>
                  <a:lnTo>
                    <a:pt x="6628" y="3196"/>
                  </a:lnTo>
                  <a:lnTo>
                    <a:pt x="6644" y="3244"/>
                  </a:lnTo>
                  <a:lnTo>
                    <a:pt x="6644" y="3291"/>
                  </a:lnTo>
                  <a:lnTo>
                    <a:pt x="6644" y="3339"/>
                  </a:lnTo>
                  <a:lnTo>
                    <a:pt x="6644" y="3387"/>
                  </a:lnTo>
                  <a:lnTo>
                    <a:pt x="6644" y="3450"/>
                  </a:lnTo>
                  <a:lnTo>
                    <a:pt x="6677" y="3514"/>
                  </a:lnTo>
                  <a:lnTo>
                    <a:pt x="6694" y="3562"/>
                  </a:lnTo>
                  <a:lnTo>
                    <a:pt x="6710" y="3609"/>
                  </a:lnTo>
                  <a:lnTo>
                    <a:pt x="6710" y="3657"/>
                  </a:lnTo>
                  <a:lnTo>
                    <a:pt x="6727" y="3705"/>
                  </a:lnTo>
                  <a:lnTo>
                    <a:pt x="6760" y="3769"/>
                  </a:lnTo>
                  <a:lnTo>
                    <a:pt x="6760" y="3817"/>
                  </a:lnTo>
                  <a:lnTo>
                    <a:pt x="6776" y="3865"/>
                  </a:lnTo>
                  <a:lnTo>
                    <a:pt x="6792" y="3912"/>
                  </a:lnTo>
                  <a:lnTo>
                    <a:pt x="6792" y="3976"/>
                  </a:lnTo>
                  <a:lnTo>
                    <a:pt x="6792" y="4024"/>
                  </a:lnTo>
                  <a:lnTo>
                    <a:pt x="6792" y="4087"/>
                  </a:lnTo>
                  <a:lnTo>
                    <a:pt x="6792" y="4135"/>
                  </a:lnTo>
                  <a:lnTo>
                    <a:pt x="6776" y="4183"/>
                  </a:lnTo>
                  <a:lnTo>
                    <a:pt x="6776" y="4230"/>
                  </a:lnTo>
                  <a:lnTo>
                    <a:pt x="6776" y="4278"/>
                  </a:lnTo>
                  <a:lnTo>
                    <a:pt x="6776" y="4342"/>
                  </a:lnTo>
                  <a:lnTo>
                    <a:pt x="6760" y="4405"/>
                  </a:lnTo>
                  <a:lnTo>
                    <a:pt x="6760" y="4453"/>
                  </a:lnTo>
                  <a:lnTo>
                    <a:pt x="6727" y="4500"/>
                  </a:lnTo>
                  <a:lnTo>
                    <a:pt x="6710" y="4548"/>
                  </a:lnTo>
                  <a:lnTo>
                    <a:pt x="6661" y="4612"/>
                  </a:lnTo>
                  <a:lnTo>
                    <a:pt x="6611" y="4644"/>
                  </a:lnTo>
                  <a:lnTo>
                    <a:pt x="6562" y="4659"/>
                  </a:lnTo>
                  <a:lnTo>
                    <a:pt x="6512" y="4675"/>
                  </a:lnTo>
                  <a:lnTo>
                    <a:pt x="6463" y="4691"/>
                  </a:lnTo>
                  <a:lnTo>
                    <a:pt x="6413" y="4691"/>
                  </a:lnTo>
                  <a:lnTo>
                    <a:pt x="6364" y="4691"/>
                  </a:lnTo>
                  <a:lnTo>
                    <a:pt x="6298" y="4691"/>
                  </a:lnTo>
                  <a:lnTo>
                    <a:pt x="6249" y="4659"/>
                  </a:lnTo>
                  <a:lnTo>
                    <a:pt x="6199" y="4628"/>
                  </a:lnTo>
                  <a:lnTo>
                    <a:pt x="6150" y="4612"/>
                  </a:lnTo>
                  <a:lnTo>
                    <a:pt x="6100" y="4612"/>
                  </a:lnTo>
                  <a:lnTo>
                    <a:pt x="6051" y="4628"/>
                  </a:lnTo>
                  <a:lnTo>
                    <a:pt x="6001" y="4628"/>
                  </a:lnTo>
                  <a:lnTo>
                    <a:pt x="5952" y="4644"/>
                  </a:lnTo>
                  <a:lnTo>
                    <a:pt x="5886" y="4644"/>
                  </a:lnTo>
                  <a:lnTo>
                    <a:pt x="5836" y="4659"/>
                  </a:lnTo>
                  <a:lnTo>
                    <a:pt x="5787" y="4675"/>
                  </a:lnTo>
                  <a:lnTo>
                    <a:pt x="5738" y="4707"/>
                  </a:lnTo>
                  <a:lnTo>
                    <a:pt x="5688" y="4723"/>
                  </a:lnTo>
                  <a:lnTo>
                    <a:pt x="5639" y="4755"/>
                  </a:lnTo>
                  <a:lnTo>
                    <a:pt x="5589" y="4771"/>
                  </a:lnTo>
                  <a:lnTo>
                    <a:pt x="5540" y="4803"/>
                  </a:lnTo>
                  <a:lnTo>
                    <a:pt x="5474" y="4834"/>
                  </a:lnTo>
                  <a:lnTo>
                    <a:pt x="5408" y="4850"/>
                  </a:lnTo>
                  <a:lnTo>
                    <a:pt x="5293" y="4866"/>
                  </a:lnTo>
                  <a:lnTo>
                    <a:pt x="5243" y="4882"/>
                  </a:lnTo>
                  <a:lnTo>
                    <a:pt x="5144" y="4898"/>
                  </a:lnTo>
                  <a:lnTo>
                    <a:pt x="5095" y="4914"/>
                  </a:lnTo>
                  <a:lnTo>
                    <a:pt x="5028" y="4914"/>
                  </a:lnTo>
                  <a:lnTo>
                    <a:pt x="4978" y="4946"/>
                  </a:lnTo>
                  <a:lnTo>
                    <a:pt x="4929" y="4962"/>
                  </a:lnTo>
                  <a:lnTo>
                    <a:pt x="4879" y="4977"/>
                  </a:lnTo>
                  <a:lnTo>
                    <a:pt x="4814" y="4977"/>
                  </a:lnTo>
                  <a:lnTo>
                    <a:pt x="4748" y="4977"/>
                  </a:lnTo>
                  <a:lnTo>
                    <a:pt x="4698" y="4977"/>
                  </a:lnTo>
                  <a:lnTo>
                    <a:pt x="4649" y="4977"/>
                  </a:lnTo>
                  <a:lnTo>
                    <a:pt x="4599" y="4977"/>
                  </a:lnTo>
                  <a:lnTo>
                    <a:pt x="4550" y="4977"/>
                  </a:lnTo>
                  <a:lnTo>
                    <a:pt x="4451" y="4977"/>
                  </a:lnTo>
                  <a:lnTo>
                    <a:pt x="4352" y="4962"/>
                  </a:lnTo>
                  <a:lnTo>
                    <a:pt x="4303" y="4946"/>
                  </a:lnTo>
                  <a:lnTo>
                    <a:pt x="4253" y="4930"/>
                  </a:lnTo>
                  <a:lnTo>
                    <a:pt x="4204" y="4930"/>
                  </a:lnTo>
                  <a:lnTo>
                    <a:pt x="4105" y="4914"/>
                  </a:lnTo>
                  <a:lnTo>
                    <a:pt x="4055" y="4914"/>
                  </a:lnTo>
                  <a:lnTo>
                    <a:pt x="3989" y="4930"/>
                  </a:lnTo>
                  <a:lnTo>
                    <a:pt x="3923" y="4930"/>
                  </a:lnTo>
                  <a:lnTo>
                    <a:pt x="3792" y="4930"/>
                  </a:lnTo>
                  <a:lnTo>
                    <a:pt x="3726" y="4946"/>
                  </a:lnTo>
                  <a:lnTo>
                    <a:pt x="3676" y="4946"/>
                  </a:lnTo>
                  <a:lnTo>
                    <a:pt x="3627" y="4946"/>
                  </a:lnTo>
                  <a:lnTo>
                    <a:pt x="3561" y="4946"/>
                  </a:lnTo>
                  <a:lnTo>
                    <a:pt x="3429" y="4946"/>
                  </a:lnTo>
                  <a:lnTo>
                    <a:pt x="3380" y="4946"/>
                  </a:lnTo>
                  <a:lnTo>
                    <a:pt x="3330" y="4946"/>
                  </a:lnTo>
                  <a:lnTo>
                    <a:pt x="3281" y="4946"/>
                  </a:lnTo>
                  <a:lnTo>
                    <a:pt x="3231" y="4946"/>
                  </a:lnTo>
                  <a:lnTo>
                    <a:pt x="3182" y="4946"/>
                  </a:lnTo>
                  <a:lnTo>
                    <a:pt x="3083" y="4946"/>
                  </a:lnTo>
                  <a:lnTo>
                    <a:pt x="3033" y="4946"/>
                  </a:lnTo>
                  <a:lnTo>
                    <a:pt x="2967" y="4962"/>
                  </a:lnTo>
                  <a:lnTo>
                    <a:pt x="2901" y="4962"/>
                  </a:lnTo>
                  <a:lnTo>
                    <a:pt x="2770" y="4946"/>
                  </a:lnTo>
                  <a:lnTo>
                    <a:pt x="2654" y="4962"/>
                  </a:lnTo>
                  <a:lnTo>
                    <a:pt x="2605" y="4962"/>
                  </a:lnTo>
                  <a:lnTo>
                    <a:pt x="2539" y="4962"/>
                  </a:lnTo>
                  <a:lnTo>
                    <a:pt x="2489" y="4962"/>
                  </a:lnTo>
                  <a:lnTo>
                    <a:pt x="2440" y="4962"/>
                  </a:lnTo>
                  <a:lnTo>
                    <a:pt x="2391" y="4962"/>
                  </a:lnTo>
                  <a:lnTo>
                    <a:pt x="2341" y="4962"/>
                  </a:lnTo>
                  <a:lnTo>
                    <a:pt x="2275" y="4977"/>
                  </a:lnTo>
                  <a:lnTo>
                    <a:pt x="2209" y="4977"/>
                  </a:lnTo>
                  <a:lnTo>
                    <a:pt x="2077" y="4977"/>
                  </a:lnTo>
                  <a:lnTo>
                    <a:pt x="2011" y="4993"/>
                  </a:lnTo>
                  <a:lnTo>
                    <a:pt x="1945" y="4993"/>
                  </a:lnTo>
                  <a:lnTo>
                    <a:pt x="1896" y="4993"/>
                  </a:lnTo>
                  <a:lnTo>
                    <a:pt x="1847" y="4993"/>
                  </a:lnTo>
                  <a:lnTo>
                    <a:pt x="1797" y="4993"/>
                  </a:lnTo>
                  <a:lnTo>
                    <a:pt x="1748" y="4993"/>
                  </a:lnTo>
                  <a:lnTo>
                    <a:pt x="1648" y="4977"/>
                  </a:lnTo>
                  <a:lnTo>
                    <a:pt x="1516" y="4962"/>
                  </a:lnTo>
                  <a:lnTo>
                    <a:pt x="1450" y="4946"/>
                  </a:lnTo>
                  <a:lnTo>
                    <a:pt x="1384" y="4930"/>
                  </a:lnTo>
                  <a:lnTo>
                    <a:pt x="1335" y="4930"/>
                  </a:lnTo>
                  <a:lnTo>
                    <a:pt x="1269" y="4898"/>
                  </a:lnTo>
                  <a:lnTo>
                    <a:pt x="1219" y="4882"/>
                  </a:lnTo>
                  <a:lnTo>
                    <a:pt x="1170" y="4866"/>
                  </a:lnTo>
                  <a:lnTo>
                    <a:pt x="1120" y="4834"/>
                  </a:lnTo>
                  <a:lnTo>
                    <a:pt x="1054" y="4818"/>
                  </a:lnTo>
                  <a:lnTo>
                    <a:pt x="923" y="4803"/>
                  </a:lnTo>
                  <a:lnTo>
                    <a:pt x="873" y="4787"/>
                  </a:lnTo>
                  <a:lnTo>
                    <a:pt x="824" y="4755"/>
                  </a:lnTo>
                  <a:lnTo>
                    <a:pt x="758" y="4723"/>
                  </a:lnTo>
                  <a:lnTo>
                    <a:pt x="692" y="4659"/>
                  </a:lnTo>
                  <a:lnTo>
                    <a:pt x="642" y="4612"/>
                  </a:lnTo>
                  <a:lnTo>
                    <a:pt x="609" y="4564"/>
                  </a:lnTo>
                  <a:lnTo>
                    <a:pt x="576" y="4500"/>
                  </a:lnTo>
                  <a:lnTo>
                    <a:pt x="543" y="4453"/>
                  </a:lnTo>
                  <a:lnTo>
                    <a:pt x="527" y="4357"/>
                  </a:lnTo>
                  <a:lnTo>
                    <a:pt x="461" y="4294"/>
                  </a:lnTo>
                  <a:lnTo>
                    <a:pt x="329" y="4262"/>
                  </a:lnTo>
                  <a:lnTo>
                    <a:pt x="230" y="4230"/>
                  </a:lnTo>
                  <a:lnTo>
                    <a:pt x="164" y="4214"/>
                  </a:lnTo>
                  <a:lnTo>
                    <a:pt x="131" y="4167"/>
                  </a:lnTo>
                  <a:lnTo>
                    <a:pt x="115" y="4119"/>
                  </a:lnTo>
                  <a:lnTo>
                    <a:pt x="98" y="4071"/>
                  </a:lnTo>
                  <a:lnTo>
                    <a:pt x="82" y="4024"/>
                  </a:lnTo>
                  <a:lnTo>
                    <a:pt x="65" y="3976"/>
                  </a:lnTo>
                  <a:lnTo>
                    <a:pt x="49" y="3928"/>
                  </a:lnTo>
                  <a:lnTo>
                    <a:pt x="49" y="3880"/>
                  </a:lnTo>
                  <a:lnTo>
                    <a:pt x="32" y="3817"/>
                  </a:lnTo>
                  <a:lnTo>
                    <a:pt x="16" y="3769"/>
                  </a:lnTo>
                  <a:lnTo>
                    <a:pt x="0" y="3705"/>
                  </a:lnTo>
                  <a:lnTo>
                    <a:pt x="0" y="3641"/>
                  </a:lnTo>
                  <a:lnTo>
                    <a:pt x="0" y="3577"/>
                  </a:lnTo>
                  <a:lnTo>
                    <a:pt x="0" y="3514"/>
                  </a:lnTo>
                  <a:lnTo>
                    <a:pt x="0" y="3466"/>
                  </a:lnTo>
                  <a:lnTo>
                    <a:pt x="32" y="3418"/>
                  </a:lnTo>
                  <a:lnTo>
                    <a:pt x="49" y="3371"/>
                  </a:lnTo>
                  <a:lnTo>
                    <a:pt x="65" y="3323"/>
                  </a:lnTo>
                  <a:lnTo>
                    <a:pt x="82" y="3275"/>
                  </a:lnTo>
                  <a:lnTo>
                    <a:pt x="115" y="3228"/>
                  </a:lnTo>
                  <a:lnTo>
                    <a:pt x="115" y="3180"/>
                  </a:lnTo>
                  <a:lnTo>
                    <a:pt x="131" y="3116"/>
                  </a:lnTo>
                  <a:lnTo>
                    <a:pt x="148" y="3069"/>
                  </a:lnTo>
                  <a:lnTo>
                    <a:pt x="164" y="3021"/>
                  </a:lnTo>
                  <a:lnTo>
                    <a:pt x="181" y="2973"/>
                  </a:lnTo>
                  <a:lnTo>
                    <a:pt x="230" y="2910"/>
                  </a:lnTo>
                  <a:lnTo>
                    <a:pt x="346" y="2846"/>
                  </a:lnTo>
                  <a:lnTo>
                    <a:pt x="379" y="2798"/>
                  </a:lnTo>
                  <a:lnTo>
                    <a:pt x="428" y="2751"/>
                  </a:lnTo>
                  <a:lnTo>
                    <a:pt x="461" y="2703"/>
                  </a:lnTo>
                  <a:lnTo>
                    <a:pt x="494" y="2655"/>
                  </a:lnTo>
                  <a:lnTo>
                    <a:pt x="510" y="2608"/>
                  </a:lnTo>
                  <a:lnTo>
                    <a:pt x="543" y="2560"/>
                  </a:lnTo>
                  <a:lnTo>
                    <a:pt x="560" y="2512"/>
                  </a:lnTo>
                  <a:lnTo>
                    <a:pt x="576" y="2465"/>
                  </a:lnTo>
                  <a:lnTo>
                    <a:pt x="593" y="2401"/>
                  </a:lnTo>
                  <a:lnTo>
                    <a:pt x="626" y="2274"/>
                  </a:lnTo>
                  <a:lnTo>
                    <a:pt x="642" y="2226"/>
                  </a:lnTo>
                  <a:lnTo>
                    <a:pt x="642" y="2178"/>
                  </a:lnTo>
                  <a:lnTo>
                    <a:pt x="675" y="2115"/>
                  </a:lnTo>
                  <a:lnTo>
                    <a:pt x="708" y="2051"/>
                  </a:lnTo>
                  <a:lnTo>
                    <a:pt x="741" y="2004"/>
                  </a:lnTo>
                  <a:lnTo>
                    <a:pt x="758" y="1956"/>
                  </a:lnTo>
                  <a:lnTo>
                    <a:pt x="791" y="1908"/>
                  </a:lnTo>
                  <a:lnTo>
                    <a:pt x="824" y="1861"/>
                  </a:lnTo>
                  <a:lnTo>
                    <a:pt x="840" y="1813"/>
                  </a:lnTo>
                  <a:lnTo>
                    <a:pt x="857" y="1765"/>
                  </a:lnTo>
                  <a:lnTo>
                    <a:pt x="873" y="1717"/>
                  </a:lnTo>
                  <a:lnTo>
                    <a:pt x="890" y="1670"/>
                  </a:lnTo>
                  <a:lnTo>
                    <a:pt x="906" y="1606"/>
                  </a:lnTo>
                  <a:lnTo>
                    <a:pt x="939" y="1558"/>
                  </a:lnTo>
                  <a:lnTo>
                    <a:pt x="956" y="1511"/>
                  </a:lnTo>
                  <a:lnTo>
                    <a:pt x="988" y="1463"/>
                  </a:lnTo>
                  <a:lnTo>
                    <a:pt x="1005" y="1415"/>
                  </a:lnTo>
                  <a:lnTo>
                    <a:pt x="1038" y="1368"/>
                  </a:lnTo>
                  <a:lnTo>
                    <a:pt x="1071" y="1320"/>
                  </a:lnTo>
                  <a:lnTo>
                    <a:pt x="1087" y="1272"/>
                  </a:lnTo>
                  <a:lnTo>
                    <a:pt x="1104" y="1224"/>
                  </a:lnTo>
                  <a:lnTo>
                    <a:pt x="1153" y="1176"/>
                  </a:lnTo>
                  <a:lnTo>
                    <a:pt x="1186" y="1128"/>
                  </a:lnTo>
                  <a:lnTo>
                    <a:pt x="1219" y="1081"/>
                  </a:lnTo>
                  <a:lnTo>
                    <a:pt x="1269" y="1065"/>
                  </a:lnTo>
                  <a:lnTo>
                    <a:pt x="1318" y="1033"/>
                  </a:lnTo>
                  <a:lnTo>
                    <a:pt x="1368" y="1001"/>
                  </a:lnTo>
                  <a:lnTo>
                    <a:pt x="1417" y="953"/>
                  </a:lnTo>
                  <a:lnTo>
                    <a:pt x="1466" y="937"/>
                  </a:lnTo>
                  <a:lnTo>
                    <a:pt x="1532" y="890"/>
                  </a:lnTo>
                  <a:lnTo>
                    <a:pt x="1582" y="874"/>
                  </a:lnTo>
                  <a:lnTo>
                    <a:pt x="1631" y="826"/>
                  </a:lnTo>
                  <a:lnTo>
                    <a:pt x="1681" y="778"/>
                  </a:lnTo>
                  <a:lnTo>
                    <a:pt x="1731" y="747"/>
                  </a:lnTo>
                  <a:lnTo>
                    <a:pt x="1748" y="699"/>
                  </a:lnTo>
                  <a:lnTo>
                    <a:pt x="1764" y="651"/>
                  </a:lnTo>
                  <a:lnTo>
                    <a:pt x="1764" y="604"/>
                  </a:lnTo>
                  <a:lnTo>
                    <a:pt x="1830" y="492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52160" y="4317120"/>
              <a:ext cx="250200" cy="267840"/>
            </a:xfrm>
            <a:custGeom>
              <a:avLst/>
              <a:gdLst/>
              <a:ahLst/>
              <a:rect l="0" t="0" r="r" b="b"/>
              <a:pathLst>
                <a:path w="695" h="744">
                  <a:moveTo>
                    <a:pt x="214" y="20"/>
                  </a:moveTo>
                  <a:lnTo>
                    <a:pt x="214" y="20"/>
                  </a:lnTo>
                  <a:cubicBezTo>
                    <a:pt x="213" y="20"/>
                    <a:pt x="213" y="20"/>
                    <a:pt x="212" y="21"/>
                  </a:cubicBezTo>
                  <a:cubicBezTo>
                    <a:pt x="156" y="42"/>
                    <a:pt x="107" y="80"/>
                    <a:pt x="70" y="129"/>
                  </a:cubicBezTo>
                  <a:cubicBezTo>
                    <a:pt x="33" y="178"/>
                    <a:pt x="10" y="238"/>
                    <a:pt x="2" y="302"/>
                  </a:cubicBezTo>
                  <a:cubicBezTo>
                    <a:pt x="-5" y="367"/>
                    <a:pt x="3" y="433"/>
                    <a:pt x="27" y="494"/>
                  </a:cubicBezTo>
                  <a:cubicBezTo>
                    <a:pt x="51" y="556"/>
                    <a:pt x="89" y="611"/>
                    <a:pt x="137" y="653"/>
                  </a:cubicBezTo>
                  <a:cubicBezTo>
                    <a:pt x="186" y="696"/>
                    <a:pt x="243" y="725"/>
                    <a:pt x="304" y="737"/>
                  </a:cubicBezTo>
                  <a:cubicBezTo>
                    <a:pt x="364" y="749"/>
                    <a:pt x="425" y="744"/>
                    <a:pt x="480" y="723"/>
                  </a:cubicBezTo>
                  <a:lnTo>
                    <a:pt x="480" y="723"/>
                  </a:lnTo>
                  <a:cubicBezTo>
                    <a:pt x="481" y="723"/>
                    <a:pt x="481" y="723"/>
                    <a:pt x="482" y="722"/>
                  </a:cubicBezTo>
                  <a:cubicBezTo>
                    <a:pt x="538" y="701"/>
                    <a:pt x="587" y="663"/>
                    <a:pt x="624" y="614"/>
                  </a:cubicBezTo>
                  <a:cubicBezTo>
                    <a:pt x="661" y="565"/>
                    <a:pt x="684" y="505"/>
                    <a:pt x="692" y="441"/>
                  </a:cubicBezTo>
                  <a:cubicBezTo>
                    <a:pt x="699" y="376"/>
                    <a:pt x="691" y="310"/>
                    <a:pt x="667" y="249"/>
                  </a:cubicBezTo>
                  <a:cubicBezTo>
                    <a:pt x="643" y="187"/>
                    <a:pt x="605" y="132"/>
                    <a:pt x="557" y="90"/>
                  </a:cubicBezTo>
                  <a:cubicBezTo>
                    <a:pt x="508" y="47"/>
                    <a:pt x="451" y="18"/>
                    <a:pt x="390" y="6"/>
                  </a:cubicBezTo>
                  <a:cubicBezTo>
                    <a:pt x="330" y="-6"/>
                    <a:pt x="269" y="-1"/>
                    <a:pt x="214" y="2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08640" y="4495680"/>
              <a:ext cx="2445120" cy="1797480"/>
            </a:xfrm>
            <a:custGeom>
              <a:avLst/>
              <a:gdLst/>
              <a:ahLst/>
              <a:rect l="0" t="0" r="r" b="b"/>
              <a:pathLst>
                <a:path w="6792" h="4993">
                  <a:moveTo>
                    <a:pt x="4961" y="493"/>
                  </a:moveTo>
                  <a:lnTo>
                    <a:pt x="4961" y="573"/>
                  </a:lnTo>
                  <a:lnTo>
                    <a:pt x="4944" y="621"/>
                  </a:lnTo>
                  <a:lnTo>
                    <a:pt x="4895" y="635"/>
                  </a:lnTo>
                  <a:lnTo>
                    <a:pt x="4847" y="652"/>
                  </a:lnTo>
                  <a:lnTo>
                    <a:pt x="4781" y="665"/>
                  </a:lnTo>
                  <a:lnTo>
                    <a:pt x="4732" y="683"/>
                  </a:lnTo>
                  <a:lnTo>
                    <a:pt x="4684" y="701"/>
                  </a:lnTo>
                  <a:lnTo>
                    <a:pt x="4631" y="701"/>
                  </a:lnTo>
                  <a:lnTo>
                    <a:pt x="4600" y="745"/>
                  </a:lnTo>
                  <a:lnTo>
                    <a:pt x="4600" y="793"/>
                  </a:lnTo>
                  <a:lnTo>
                    <a:pt x="4600" y="859"/>
                  </a:lnTo>
                  <a:lnTo>
                    <a:pt x="4617" y="903"/>
                  </a:lnTo>
                  <a:lnTo>
                    <a:pt x="4666" y="939"/>
                  </a:lnTo>
                  <a:lnTo>
                    <a:pt x="4732" y="987"/>
                  </a:lnTo>
                  <a:lnTo>
                    <a:pt x="4781" y="1001"/>
                  </a:lnTo>
                  <a:lnTo>
                    <a:pt x="4829" y="1031"/>
                  </a:lnTo>
                  <a:lnTo>
                    <a:pt x="4878" y="1049"/>
                  </a:lnTo>
                  <a:lnTo>
                    <a:pt x="4895" y="1098"/>
                  </a:lnTo>
                  <a:lnTo>
                    <a:pt x="4944" y="1159"/>
                  </a:lnTo>
                  <a:lnTo>
                    <a:pt x="4961" y="1208"/>
                  </a:lnTo>
                  <a:lnTo>
                    <a:pt x="4997" y="1257"/>
                  </a:lnTo>
                  <a:lnTo>
                    <a:pt x="5010" y="1306"/>
                  </a:lnTo>
                  <a:lnTo>
                    <a:pt x="5028" y="1350"/>
                  </a:lnTo>
                  <a:lnTo>
                    <a:pt x="5076" y="1385"/>
                  </a:lnTo>
                  <a:lnTo>
                    <a:pt x="5126" y="1385"/>
                  </a:lnTo>
                  <a:lnTo>
                    <a:pt x="5179" y="1416"/>
                  </a:lnTo>
                  <a:lnTo>
                    <a:pt x="5227" y="1465"/>
                  </a:lnTo>
                  <a:lnTo>
                    <a:pt x="5324" y="1495"/>
                  </a:lnTo>
                  <a:lnTo>
                    <a:pt x="5425" y="1509"/>
                  </a:lnTo>
                  <a:lnTo>
                    <a:pt x="5456" y="1557"/>
                  </a:lnTo>
                  <a:lnTo>
                    <a:pt x="5474" y="1606"/>
                  </a:lnTo>
                  <a:lnTo>
                    <a:pt x="5474" y="1734"/>
                  </a:lnTo>
                  <a:lnTo>
                    <a:pt x="5474" y="1892"/>
                  </a:lnTo>
                  <a:lnTo>
                    <a:pt x="5474" y="1989"/>
                  </a:lnTo>
                  <a:lnTo>
                    <a:pt x="5505" y="2051"/>
                  </a:lnTo>
                  <a:lnTo>
                    <a:pt x="5522" y="2100"/>
                  </a:lnTo>
                  <a:lnTo>
                    <a:pt x="5589" y="2130"/>
                  </a:lnTo>
                  <a:lnTo>
                    <a:pt x="5637" y="2161"/>
                  </a:lnTo>
                  <a:lnTo>
                    <a:pt x="5690" y="2210"/>
                  </a:lnTo>
                  <a:lnTo>
                    <a:pt x="5703" y="2276"/>
                  </a:lnTo>
                  <a:lnTo>
                    <a:pt x="5703" y="2338"/>
                  </a:lnTo>
                  <a:lnTo>
                    <a:pt x="5739" y="2399"/>
                  </a:lnTo>
                  <a:lnTo>
                    <a:pt x="5769" y="2466"/>
                  </a:lnTo>
                  <a:lnTo>
                    <a:pt x="5818" y="2514"/>
                  </a:lnTo>
                  <a:lnTo>
                    <a:pt x="5853" y="2558"/>
                  </a:lnTo>
                  <a:lnTo>
                    <a:pt x="5950" y="2593"/>
                  </a:lnTo>
                  <a:lnTo>
                    <a:pt x="6003" y="2638"/>
                  </a:lnTo>
                  <a:lnTo>
                    <a:pt x="6034" y="2686"/>
                  </a:lnTo>
                  <a:lnTo>
                    <a:pt x="6052" y="2735"/>
                  </a:lnTo>
                  <a:lnTo>
                    <a:pt x="6069" y="2783"/>
                  </a:lnTo>
                  <a:lnTo>
                    <a:pt x="6069" y="2832"/>
                  </a:lnTo>
                  <a:lnTo>
                    <a:pt x="6069" y="2880"/>
                  </a:lnTo>
                  <a:lnTo>
                    <a:pt x="6083" y="2924"/>
                  </a:lnTo>
                  <a:lnTo>
                    <a:pt x="6083" y="2973"/>
                  </a:lnTo>
                  <a:lnTo>
                    <a:pt x="6100" y="3021"/>
                  </a:lnTo>
                  <a:lnTo>
                    <a:pt x="6131" y="3070"/>
                  </a:lnTo>
                  <a:lnTo>
                    <a:pt x="6166" y="3118"/>
                  </a:lnTo>
                  <a:lnTo>
                    <a:pt x="6166" y="3162"/>
                  </a:lnTo>
                  <a:lnTo>
                    <a:pt x="6166" y="3211"/>
                  </a:lnTo>
                  <a:lnTo>
                    <a:pt x="6184" y="3259"/>
                  </a:lnTo>
                  <a:lnTo>
                    <a:pt x="6215" y="3308"/>
                  </a:lnTo>
                  <a:lnTo>
                    <a:pt x="6263" y="3356"/>
                  </a:lnTo>
                  <a:lnTo>
                    <a:pt x="6316" y="3400"/>
                  </a:lnTo>
                  <a:lnTo>
                    <a:pt x="6347" y="3449"/>
                  </a:lnTo>
                  <a:lnTo>
                    <a:pt x="6365" y="3497"/>
                  </a:lnTo>
                  <a:lnTo>
                    <a:pt x="6382" y="3546"/>
                  </a:lnTo>
                  <a:lnTo>
                    <a:pt x="6382" y="3594"/>
                  </a:lnTo>
                  <a:lnTo>
                    <a:pt x="6382" y="3643"/>
                  </a:lnTo>
                  <a:lnTo>
                    <a:pt x="6365" y="3687"/>
                  </a:lnTo>
                  <a:lnTo>
                    <a:pt x="6347" y="3736"/>
                  </a:lnTo>
                  <a:lnTo>
                    <a:pt x="6347" y="3785"/>
                  </a:lnTo>
                  <a:lnTo>
                    <a:pt x="6347" y="3834"/>
                  </a:lnTo>
                  <a:lnTo>
                    <a:pt x="6299" y="3882"/>
                  </a:lnTo>
                  <a:lnTo>
                    <a:pt x="6250" y="3913"/>
                  </a:lnTo>
                  <a:lnTo>
                    <a:pt x="6197" y="3944"/>
                  </a:lnTo>
                  <a:lnTo>
                    <a:pt x="6149" y="3975"/>
                  </a:lnTo>
                  <a:lnTo>
                    <a:pt x="6131" y="4023"/>
                  </a:lnTo>
                  <a:lnTo>
                    <a:pt x="6083" y="4054"/>
                  </a:lnTo>
                  <a:lnTo>
                    <a:pt x="6034" y="4089"/>
                  </a:lnTo>
                  <a:lnTo>
                    <a:pt x="5985" y="4089"/>
                  </a:lnTo>
                  <a:lnTo>
                    <a:pt x="5937" y="4089"/>
                  </a:lnTo>
                  <a:lnTo>
                    <a:pt x="5884" y="4089"/>
                  </a:lnTo>
                  <a:lnTo>
                    <a:pt x="5818" y="4103"/>
                  </a:lnTo>
                  <a:lnTo>
                    <a:pt x="5769" y="4133"/>
                  </a:lnTo>
                  <a:lnTo>
                    <a:pt x="5703" y="4169"/>
                  </a:lnTo>
                  <a:lnTo>
                    <a:pt x="5655" y="4200"/>
                  </a:lnTo>
                  <a:lnTo>
                    <a:pt x="5606" y="4213"/>
                  </a:lnTo>
                  <a:lnTo>
                    <a:pt x="5571" y="4261"/>
                  </a:lnTo>
                  <a:lnTo>
                    <a:pt x="5505" y="4327"/>
                  </a:lnTo>
                  <a:lnTo>
                    <a:pt x="5456" y="4372"/>
                  </a:lnTo>
                  <a:lnTo>
                    <a:pt x="5408" y="4389"/>
                  </a:lnTo>
                  <a:lnTo>
                    <a:pt x="5359" y="4407"/>
                  </a:lnTo>
                  <a:lnTo>
                    <a:pt x="5245" y="4420"/>
                  </a:lnTo>
                  <a:lnTo>
                    <a:pt x="5192" y="4438"/>
                  </a:lnTo>
                  <a:lnTo>
                    <a:pt x="5126" y="4469"/>
                  </a:lnTo>
                  <a:lnTo>
                    <a:pt x="5063" y="4486"/>
                  </a:lnTo>
                  <a:lnTo>
                    <a:pt x="4944" y="4486"/>
                  </a:lnTo>
                  <a:lnTo>
                    <a:pt x="4895" y="4486"/>
                  </a:lnTo>
                  <a:lnTo>
                    <a:pt x="4847" y="4469"/>
                  </a:lnTo>
                  <a:lnTo>
                    <a:pt x="4798" y="4451"/>
                  </a:lnTo>
                  <a:lnTo>
                    <a:pt x="4732" y="4451"/>
                  </a:lnTo>
                  <a:lnTo>
                    <a:pt x="4684" y="4469"/>
                  </a:lnTo>
                  <a:lnTo>
                    <a:pt x="4631" y="4486"/>
                  </a:lnTo>
                  <a:lnTo>
                    <a:pt x="4582" y="4517"/>
                  </a:lnTo>
                  <a:lnTo>
                    <a:pt x="4534" y="4530"/>
                  </a:lnTo>
                  <a:lnTo>
                    <a:pt x="4485" y="4548"/>
                  </a:lnTo>
                  <a:lnTo>
                    <a:pt x="4419" y="4566"/>
                  </a:lnTo>
                  <a:lnTo>
                    <a:pt x="4371" y="4548"/>
                  </a:lnTo>
                  <a:lnTo>
                    <a:pt x="4238" y="4530"/>
                  </a:lnTo>
                  <a:lnTo>
                    <a:pt x="4185" y="4517"/>
                  </a:lnTo>
                  <a:lnTo>
                    <a:pt x="4137" y="4517"/>
                  </a:lnTo>
                  <a:lnTo>
                    <a:pt x="4088" y="4499"/>
                  </a:lnTo>
                  <a:lnTo>
                    <a:pt x="4040" y="4517"/>
                  </a:lnTo>
                  <a:lnTo>
                    <a:pt x="3974" y="4517"/>
                  </a:lnTo>
                  <a:lnTo>
                    <a:pt x="3872" y="4499"/>
                  </a:lnTo>
                  <a:lnTo>
                    <a:pt x="3775" y="4486"/>
                  </a:lnTo>
                  <a:lnTo>
                    <a:pt x="3709" y="4486"/>
                  </a:lnTo>
                  <a:lnTo>
                    <a:pt x="3661" y="4486"/>
                  </a:lnTo>
                  <a:lnTo>
                    <a:pt x="3612" y="4486"/>
                  </a:lnTo>
                  <a:lnTo>
                    <a:pt x="3511" y="4486"/>
                  </a:lnTo>
                  <a:lnTo>
                    <a:pt x="3414" y="4486"/>
                  </a:lnTo>
                  <a:lnTo>
                    <a:pt x="3312" y="4486"/>
                  </a:lnTo>
                  <a:lnTo>
                    <a:pt x="3264" y="4469"/>
                  </a:lnTo>
                  <a:lnTo>
                    <a:pt x="3131" y="4451"/>
                  </a:lnTo>
                  <a:lnTo>
                    <a:pt x="3083" y="4451"/>
                  </a:lnTo>
                  <a:lnTo>
                    <a:pt x="2933" y="4486"/>
                  </a:lnTo>
                  <a:lnTo>
                    <a:pt x="2836" y="4486"/>
                  </a:lnTo>
                  <a:lnTo>
                    <a:pt x="2770" y="4499"/>
                  </a:lnTo>
                  <a:lnTo>
                    <a:pt x="2721" y="4499"/>
                  </a:lnTo>
                  <a:lnTo>
                    <a:pt x="2620" y="4499"/>
                  </a:lnTo>
                  <a:lnTo>
                    <a:pt x="2523" y="4499"/>
                  </a:lnTo>
                  <a:lnTo>
                    <a:pt x="2391" y="4499"/>
                  </a:lnTo>
                  <a:lnTo>
                    <a:pt x="2342" y="4486"/>
                  </a:lnTo>
                  <a:lnTo>
                    <a:pt x="2294" y="4486"/>
                  </a:lnTo>
                  <a:lnTo>
                    <a:pt x="2241" y="4469"/>
                  </a:lnTo>
                  <a:lnTo>
                    <a:pt x="2192" y="4451"/>
                  </a:lnTo>
                  <a:lnTo>
                    <a:pt x="2144" y="4451"/>
                  </a:lnTo>
                  <a:lnTo>
                    <a:pt x="2095" y="4451"/>
                  </a:lnTo>
                  <a:lnTo>
                    <a:pt x="1963" y="4451"/>
                  </a:lnTo>
                  <a:lnTo>
                    <a:pt x="1861" y="4451"/>
                  </a:lnTo>
                  <a:lnTo>
                    <a:pt x="1813" y="4451"/>
                  </a:lnTo>
                  <a:lnTo>
                    <a:pt x="1764" y="4451"/>
                  </a:lnTo>
                  <a:lnTo>
                    <a:pt x="1716" y="4451"/>
                  </a:lnTo>
                  <a:lnTo>
                    <a:pt x="1666" y="4451"/>
                  </a:lnTo>
                  <a:lnTo>
                    <a:pt x="1613" y="4438"/>
                  </a:lnTo>
                  <a:lnTo>
                    <a:pt x="1565" y="4420"/>
                  </a:lnTo>
                  <a:lnTo>
                    <a:pt x="1516" y="4407"/>
                  </a:lnTo>
                  <a:lnTo>
                    <a:pt x="1384" y="4389"/>
                  </a:lnTo>
                  <a:lnTo>
                    <a:pt x="1336" y="4372"/>
                  </a:lnTo>
                  <a:lnTo>
                    <a:pt x="1287" y="4358"/>
                  </a:lnTo>
                  <a:lnTo>
                    <a:pt x="1234" y="4327"/>
                  </a:lnTo>
                  <a:lnTo>
                    <a:pt x="1186" y="4292"/>
                  </a:lnTo>
                  <a:lnTo>
                    <a:pt x="1137" y="4261"/>
                  </a:lnTo>
                  <a:lnTo>
                    <a:pt x="1089" y="4230"/>
                  </a:lnTo>
                  <a:lnTo>
                    <a:pt x="1023" y="4230"/>
                  </a:lnTo>
                  <a:lnTo>
                    <a:pt x="974" y="4248"/>
                  </a:lnTo>
                  <a:lnTo>
                    <a:pt x="921" y="4279"/>
                  </a:lnTo>
                  <a:lnTo>
                    <a:pt x="873" y="4292"/>
                  </a:lnTo>
                  <a:lnTo>
                    <a:pt x="824" y="4327"/>
                  </a:lnTo>
                  <a:lnTo>
                    <a:pt x="758" y="4341"/>
                  </a:lnTo>
                  <a:lnTo>
                    <a:pt x="692" y="4358"/>
                  </a:lnTo>
                  <a:lnTo>
                    <a:pt x="643" y="4358"/>
                  </a:lnTo>
                  <a:lnTo>
                    <a:pt x="595" y="4341"/>
                  </a:lnTo>
                  <a:lnTo>
                    <a:pt x="542" y="4327"/>
                  </a:lnTo>
                  <a:lnTo>
                    <a:pt x="493" y="4292"/>
                  </a:lnTo>
                  <a:lnTo>
                    <a:pt x="445" y="4230"/>
                  </a:lnTo>
                  <a:lnTo>
                    <a:pt x="427" y="4182"/>
                  </a:lnTo>
                  <a:lnTo>
                    <a:pt x="427" y="4120"/>
                  </a:lnTo>
                  <a:lnTo>
                    <a:pt x="427" y="4072"/>
                  </a:lnTo>
                  <a:lnTo>
                    <a:pt x="427" y="4023"/>
                  </a:lnTo>
                  <a:lnTo>
                    <a:pt x="427" y="3975"/>
                  </a:lnTo>
                  <a:lnTo>
                    <a:pt x="445" y="3926"/>
                  </a:lnTo>
                  <a:lnTo>
                    <a:pt x="463" y="3882"/>
                  </a:lnTo>
                  <a:lnTo>
                    <a:pt x="493" y="3834"/>
                  </a:lnTo>
                  <a:lnTo>
                    <a:pt x="529" y="3767"/>
                  </a:lnTo>
                  <a:lnTo>
                    <a:pt x="595" y="3643"/>
                  </a:lnTo>
                  <a:lnTo>
                    <a:pt x="608" y="3546"/>
                  </a:lnTo>
                  <a:lnTo>
                    <a:pt x="626" y="3497"/>
                  </a:lnTo>
                  <a:lnTo>
                    <a:pt x="674" y="3436"/>
                  </a:lnTo>
                  <a:lnTo>
                    <a:pt x="723" y="3370"/>
                  </a:lnTo>
                  <a:lnTo>
                    <a:pt x="740" y="3308"/>
                  </a:lnTo>
                  <a:lnTo>
                    <a:pt x="740" y="3259"/>
                  </a:lnTo>
                  <a:lnTo>
                    <a:pt x="740" y="3162"/>
                  </a:lnTo>
                  <a:lnTo>
                    <a:pt x="740" y="3070"/>
                  </a:lnTo>
                  <a:lnTo>
                    <a:pt x="740" y="3021"/>
                  </a:lnTo>
                  <a:lnTo>
                    <a:pt x="740" y="2973"/>
                  </a:lnTo>
                  <a:lnTo>
                    <a:pt x="723" y="2924"/>
                  </a:lnTo>
                  <a:lnTo>
                    <a:pt x="674" y="2862"/>
                  </a:lnTo>
                  <a:lnTo>
                    <a:pt x="661" y="2814"/>
                  </a:lnTo>
                  <a:lnTo>
                    <a:pt x="661" y="2765"/>
                  </a:lnTo>
                  <a:lnTo>
                    <a:pt x="661" y="2638"/>
                  </a:lnTo>
                  <a:lnTo>
                    <a:pt x="661" y="2593"/>
                  </a:lnTo>
                  <a:lnTo>
                    <a:pt x="661" y="2545"/>
                  </a:lnTo>
                  <a:lnTo>
                    <a:pt x="661" y="2448"/>
                  </a:lnTo>
                  <a:lnTo>
                    <a:pt x="674" y="2320"/>
                  </a:lnTo>
                  <a:lnTo>
                    <a:pt x="692" y="2276"/>
                  </a:lnTo>
                  <a:lnTo>
                    <a:pt x="709" y="2227"/>
                  </a:lnTo>
                  <a:lnTo>
                    <a:pt x="709" y="2179"/>
                  </a:lnTo>
                  <a:lnTo>
                    <a:pt x="709" y="2130"/>
                  </a:lnTo>
                  <a:lnTo>
                    <a:pt x="692" y="2082"/>
                  </a:lnTo>
                  <a:lnTo>
                    <a:pt x="674" y="2020"/>
                  </a:lnTo>
                  <a:lnTo>
                    <a:pt x="643" y="1972"/>
                  </a:lnTo>
                  <a:lnTo>
                    <a:pt x="626" y="1910"/>
                  </a:lnTo>
                  <a:lnTo>
                    <a:pt x="608" y="1813"/>
                  </a:lnTo>
                  <a:lnTo>
                    <a:pt x="608" y="1751"/>
                  </a:lnTo>
                  <a:lnTo>
                    <a:pt x="608" y="1685"/>
                  </a:lnTo>
                  <a:lnTo>
                    <a:pt x="608" y="1637"/>
                  </a:lnTo>
                  <a:lnTo>
                    <a:pt x="626" y="1592"/>
                  </a:lnTo>
                  <a:lnTo>
                    <a:pt x="626" y="1544"/>
                  </a:lnTo>
                  <a:lnTo>
                    <a:pt x="626" y="1416"/>
                  </a:lnTo>
                  <a:lnTo>
                    <a:pt x="661" y="1319"/>
                  </a:lnTo>
                  <a:lnTo>
                    <a:pt x="674" y="1225"/>
                  </a:lnTo>
                  <a:lnTo>
                    <a:pt x="692" y="1159"/>
                  </a:lnTo>
                  <a:lnTo>
                    <a:pt x="709" y="1111"/>
                  </a:lnTo>
                  <a:lnTo>
                    <a:pt x="723" y="1018"/>
                  </a:lnTo>
                  <a:lnTo>
                    <a:pt x="758" y="970"/>
                  </a:lnTo>
                  <a:lnTo>
                    <a:pt x="806" y="921"/>
                  </a:lnTo>
                  <a:lnTo>
                    <a:pt x="842" y="873"/>
                  </a:lnTo>
                  <a:lnTo>
                    <a:pt x="873" y="824"/>
                  </a:lnTo>
                  <a:lnTo>
                    <a:pt x="890" y="780"/>
                  </a:lnTo>
                  <a:lnTo>
                    <a:pt x="890" y="732"/>
                  </a:lnTo>
                  <a:lnTo>
                    <a:pt x="873" y="683"/>
                  </a:lnTo>
                  <a:lnTo>
                    <a:pt x="873" y="635"/>
                  </a:lnTo>
                  <a:lnTo>
                    <a:pt x="873" y="586"/>
                  </a:lnTo>
                  <a:lnTo>
                    <a:pt x="873" y="542"/>
                  </a:lnTo>
                  <a:lnTo>
                    <a:pt x="873" y="476"/>
                  </a:lnTo>
                  <a:lnTo>
                    <a:pt x="873" y="427"/>
                  </a:lnTo>
                  <a:lnTo>
                    <a:pt x="873" y="383"/>
                  </a:lnTo>
                  <a:lnTo>
                    <a:pt x="873" y="335"/>
                  </a:lnTo>
                  <a:lnTo>
                    <a:pt x="855" y="286"/>
                  </a:lnTo>
                  <a:lnTo>
                    <a:pt x="824" y="238"/>
                  </a:lnTo>
                  <a:lnTo>
                    <a:pt x="824" y="189"/>
                  </a:lnTo>
                  <a:lnTo>
                    <a:pt x="842" y="141"/>
                  </a:lnTo>
                  <a:lnTo>
                    <a:pt x="842" y="97"/>
                  </a:lnTo>
                  <a:lnTo>
                    <a:pt x="842" y="30"/>
                  </a:lnTo>
                  <a:lnTo>
                    <a:pt x="789" y="61"/>
                  </a:lnTo>
                  <a:lnTo>
                    <a:pt x="740" y="79"/>
                  </a:lnTo>
                  <a:lnTo>
                    <a:pt x="692" y="79"/>
                  </a:lnTo>
                  <a:lnTo>
                    <a:pt x="643" y="61"/>
                  </a:lnTo>
                  <a:lnTo>
                    <a:pt x="595" y="30"/>
                  </a:lnTo>
                  <a:lnTo>
                    <a:pt x="542" y="17"/>
                  </a:lnTo>
                  <a:lnTo>
                    <a:pt x="493" y="0"/>
                  </a:lnTo>
                  <a:lnTo>
                    <a:pt x="445" y="0"/>
                  </a:lnTo>
                  <a:lnTo>
                    <a:pt x="427" y="48"/>
                  </a:lnTo>
                  <a:lnTo>
                    <a:pt x="427" y="97"/>
                  </a:lnTo>
                  <a:lnTo>
                    <a:pt x="427" y="141"/>
                  </a:lnTo>
                  <a:lnTo>
                    <a:pt x="427" y="189"/>
                  </a:lnTo>
                  <a:lnTo>
                    <a:pt x="427" y="238"/>
                  </a:lnTo>
                  <a:lnTo>
                    <a:pt x="427" y="299"/>
                  </a:lnTo>
                  <a:lnTo>
                    <a:pt x="427" y="348"/>
                  </a:lnTo>
                  <a:lnTo>
                    <a:pt x="427" y="396"/>
                  </a:lnTo>
                  <a:lnTo>
                    <a:pt x="427" y="445"/>
                  </a:lnTo>
                  <a:lnTo>
                    <a:pt x="445" y="493"/>
                  </a:lnTo>
                  <a:lnTo>
                    <a:pt x="445" y="542"/>
                  </a:lnTo>
                  <a:lnTo>
                    <a:pt x="427" y="586"/>
                  </a:lnTo>
                  <a:lnTo>
                    <a:pt x="410" y="652"/>
                  </a:lnTo>
                  <a:lnTo>
                    <a:pt x="379" y="701"/>
                  </a:lnTo>
                  <a:lnTo>
                    <a:pt x="343" y="745"/>
                  </a:lnTo>
                  <a:lnTo>
                    <a:pt x="295" y="811"/>
                  </a:lnTo>
                  <a:lnTo>
                    <a:pt x="264" y="859"/>
                  </a:lnTo>
                  <a:lnTo>
                    <a:pt x="264" y="903"/>
                  </a:lnTo>
                  <a:lnTo>
                    <a:pt x="264" y="952"/>
                  </a:lnTo>
                  <a:lnTo>
                    <a:pt x="282" y="1001"/>
                  </a:lnTo>
                  <a:lnTo>
                    <a:pt x="282" y="1049"/>
                  </a:lnTo>
                  <a:lnTo>
                    <a:pt x="282" y="1098"/>
                  </a:lnTo>
                  <a:lnTo>
                    <a:pt x="282" y="1146"/>
                  </a:lnTo>
                  <a:lnTo>
                    <a:pt x="264" y="1190"/>
                  </a:lnTo>
                  <a:lnTo>
                    <a:pt x="264" y="1239"/>
                  </a:lnTo>
                  <a:lnTo>
                    <a:pt x="229" y="1306"/>
                  </a:lnTo>
                  <a:lnTo>
                    <a:pt x="229" y="1398"/>
                  </a:lnTo>
                  <a:lnTo>
                    <a:pt x="198" y="1465"/>
                  </a:lnTo>
                  <a:lnTo>
                    <a:pt x="180" y="1509"/>
                  </a:lnTo>
                  <a:lnTo>
                    <a:pt x="163" y="1557"/>
                  </a:lnTo>
                  <a:lnTo>
                    <a:pt x="163" y="1606"/>
                  </a:lnTo>
                  <a:lnTo>
                    <a:pt x="163" y="1654"/>
                  </a:lnTo>
                  <a:lnTo>
                    <a:pt x="163" y="1703"/>
                  </a:lnTo>
                  <a:lnTo>
                    <a:pt x="163" y="1751"/>
                  </a:lnTo>
                  <a:lnTo>
                    <a:pt x="180" y="1795"/>
                  </a:lnTo>
                  <a:lnTo>
                    <a:pt x="198" y="1844"/>
                  </a:lnTo>
                  <a:lnTo>
                    <a:pt x="216" y="1892"/>
                  </a:lnTo>
                  <a:lnTo>
                    <a:pt x="229" y="1941"/>
                  </a:lnTo>
                  <a:lnTo>
                    <a:pt x="229" y="2003"/>
                  </a:lnTo>
                  <a:lnTo>
                    <a:pt x="229" y="2069"/>
                  </a:lnTo>
                  <a:lnTo>
                    <a:pt x="229" y="2113"/>
                  </a:lnTo>
                  <a:lnTo>
                    <a:pt x="229" y="2161"/>
                  </a:lnTo>
                  <a:lnTo>
                    <a:pt x="229" y="2210"/>
                  </a:lnTo>
                  <a:lnTo>
                    <a:pt x="229" y="2276"/>
                  </a:lnTo>
                  <a:lnTo>
                    <a:pt x="229" y="2320"/>
                  </a:lnTo>
                  <a:lnTo>
                    <a:pt x="229" y="2369"/>
                  </a:lnTo>
                  <a:lnTo>
                    <a:pt x="264" y="2417"/>
                  </a:lnTo>
                  <a:lnTo>
                    <a:pt x="264" y="2479"/>
                  </a:lnTo>
                  <a:lnTo>
                    <a:pt x="264" y="2576"/>
                  </a:lnTo>
                  <a:lnTo>
                    <a:pt x="264" y="2638"/>
                  </a:lnTo>
                  <a:lnTo>
                    <a:pt x="264" y="2686"/>
                  </a:lnTo>
                  <a:lnTo>
                    <a:pt x="246" y="2735"/>
                  </a:lnTo>
                  <a:lnTo>
                    <a:pt x="246" y="2783"/>
                  </a:lnTo>
                  <a:lnTo>
                    <a:pt x="264" y="2832"/>
                  </a:lnTo>
                  <a:lnTo>
                    <a:pt x="282" y="2880"/>
                  </a:lnTo>
                  <a:lnTo>
                    <a:pt x="282" y="2924"/>
                  </a:lnTo>
                  <a:lnTo>
                    <a:pt x="282" y="2973"/>
                  </a:lnTo>
                  <a:lnTo>
                    <a:pt x="282" y="3039"/>
                  </a:lnTo>
                  <a:lnTo>
                    <a:pt x="246" y="3083"/>
                  </a:lnTo>
                  <a:lnTo>
                    <a:pt x="216" y="3149"/>
                  </a:lnTo>
                  <a:lnTo>
                    <a:pt x="163" y="3198"/>
                  </a:lnTo>
                  <a:lnTo>
                    <a:pt x="149" y="3242"/>
                  </a:lnTo>
                  <a:lnTo>
                    <a:pt x="149" y="3290"/>
                  </a:lnTo>
                  <a:lnTo>
                    <a:pt x="149" y="3339"/>
                  </a:lnTo>
                  <a:lnTo>
                    <a:pt x="149" y="3387"/>
                  </a:lnTo>
                  <a:lnTo>
                    <a:pt x="149" y="3449"/>
                  </a:lnTo>
                  <a:lnTo>
                    <a:pt x="114" y="3515"/>
                  </a:lnTo>
                  <a:lnTo>
                    <a:pt x="97" y="3564"/>
                  </a:lnTo>
                  <a:lnTo>
                    <a:pt x="83" y="3608"/>
                  </a:lnTo>
                  <a:lnTo>
                    <a:pt x="83" y="3656"/>
                  </a:lnTo>
                  <a:lnTo>
                    <a:pt x="66" y="3705"/>
                  </a:lnTo>
                  <a:lnTo>
                    <a:pt x="30" y="3767"/>
                  </a:lnTo>
                  <a:lnTo>
                    <a:pt x="30" y="3816"/>
                  </a:lnTo>
                  <a:lnTo>
                    <a:pt x="17" y="3864"/>
                  </a:lnTo>
                  <a:lnTo>
                    <a:pt x="0" y="3913"/>
                  </a:lnTo>
                  <a:lnTo>
                    <a:pt x="0" y="3975"/>
                  </a:lnTo>
                  <a:lnTo>
                    <a:pt x="0" y="4023"/>
                  </a:lnTo>
                  <a:lnTo>
                    <a:pt x="0" y="4089"/>
                  </a:lnTo>
                  <a:lnTo>
                    <a:pt x="0" y="4133"/>
                  </a:lnTo>
                  <a:lnTo>
                    <a:pt x="17" y="4182"/>
                  </a:lnTo>
                  <a:lnTo>
                    <a:pt x="17" y="4230"/>
                  </a:lnTo>
                  <a:lnTo>
                    <a:pt x="17" y="4279"/>
                  </a:lnTo>
                  <a:lnTo>
                    <a:pt x="17" y="4341"/>
                  </a:lnTo>
                  <a:lnTo>
                    <a:pt x="30" y="4407"/>
                  </a:lnTo>
                  <a:lnTo>
                    <a:pt x="30" y="4451"/>
                  </a:lnTo>
                  <a:lnTo>
                    <a:pt x="66" y="4499"/>
                  </a:lnTo>
                  <a:lnTo>
                    <a:pt x="83" y="4548"/>
                  </a:lnTo>
                  <a:lnTo>
                    <a:pt x="132" y="4610"/>
                  </a:lnTo>
                  <a:lnTo>
                    <a:pt x="180" y="4645"/>
                  </a:lnTo>
                  <a:lnTo>
                    <a:pt x="229" y="4658"/>
                  </a:lnTo>
                  <a:lnTo>
                    <a:pt x="282" y="4676"/>
                  </a:lnTo>
                  <a:lnTo>
                    <a:pt x="330" y="4693"/>
                  </a:lnTo>
                  <a:lnTo>
                    <a:pt x="379" y="4693"/>
                  </a:lnTo>
                  <a:lnTo>
                    <a:pt x="427" y="4693"/>
                  </a:lnTo>
                  <a:lnTo>
                    <a:pt x="493" y="4693"/>
                  </a:lnTo>
                  <a:lnTo>
                    <a:pt x="542" y="4658"/>
                  </a:lnTo>
                  <a:lnTo>
                    <a:pt x="595" y="4627"/>
                  </a:lnTo>
                  <a:lnTo>
                    <a:pt x="643" y="4610"/>
                  </a:lnTo>
                  <a:lnTo>
                    <a:pt x="692" y="4610"/>
                  </a:lnTo>
                  <a:lnTo>
                    <a:pt x="740" y="4627"/>
                  </a:lnTo>
                  <a:lnTo>
                    <a:pt x="789" y="4627"/>
                  </a:lnTo>
                  <a:lnTo>
                    <a:pt x="842" y="4645"/>
                  </a:lnTo>
                  <a:lnTo>
                    <a:pt x="908" y="4645"/>
                  </a:lnTo>
                  <a:lnTo>
                    <a:pt x="956" y="4658"/>
                  </a:lnTo>
                  <a:lnTo>
                    <a:pt x="1005" y="4676"/>
                  </a:lnTo>
                  <a:lnTo>
                    <a:pt x="1053" y="4707"/>
                  </a:lnTo>
                  <a:lnTo>
                    <a:pt x="1102" y="4724"/>
                  </a:lnTo>
                  <a:lnTo>
                    <a:pt x="1155" y="4755"/>
                  </a:lnTo>
                  <a:lnTo>
                    <a:pt x="1203" y="4773"/>
                  </a:lnTo>
                  <a:lnTo>
                    <a:pt x="1252" y="4804"/>
                  </a:lnTo>
                  <a:lnTo>
                    <a:pt x="1318" y="4835"/>
                  </a:lnTo>
                  <a:lnTo>
                    <a:pt x="1384" y="4852"/>
                  </a:lnTo>
                  <a:lnTo>
                    <a:pt x="1499" y="4865"/>
                  </a:lnTo>
                  <a:lnTo>
                    <a:pt x="1547" y="4883"/>
                  </a:lnTo>
                  <a:lnTo>
                    <a:pt x="1649" y="4896"/>
                  </a:lnTo>
                  <a:lnTo>
                    <a:pt x="1697" y="4914"/>
                  </a:lnTo>
                  <a:lnTo>
                    <a:pt x="1764" y="4914"/>
                  </a:lnTo>
                  <a:lnTo>
                    <a:pt x="1813" y="4945"/>
                  </a:lnTo>
                  <a:lnTo>
                    <a:pt x="1861" y="4962"/>
                  </a:lnTo>
                  <a:lnTo>
                    <a:pt x="1914" y="4976"/>
                  </a:lnTo>
                  <a:lnTo>
                    <a:pt x="1980" y="4976"/>
                  </a:lnTo>
                  <a:lnTo>
                    <a:pt x="2042" y="4976"/>
                  </a:lnTo>
                  <a:lnTo>
                    <a:pt x="2095" y="4976"/>
                  </a:lnTo>
                  <a:lnTo>
                    <a:pt x="2144" y="4976"/>
                  </a:lnTo>
                  <a:lnTo>
                    <a:pt x="2192" y="4976"/>
                  </a:lnTo>
                  <a:lnTo>
                    <a:pt x="2241" y="4976"/>
                  </a:lnTo>
                  <a:lnTo>
                    <a:pt x="2342" y="4976"/>
                  </a:lnTo>
                  <a:lnTo>
                    <a:pt x="2439" y="4962"/>
                  </a:lnTo>
                  <a:lnTo>
                    <a:pt x="2488" y="4945"/>
                  </a:lnTo>
                  <a:lnTo>
                    <a:pt x="2541" y="4932"/>
                  </a:lnTo>
                  <a:lnTo>
                    <a:pt x="2589" y="4932"/>
                  </a:lnTo>
                  <a:lnTo>
                    <a:pt x="2686" y="4914"/>
                  </a:lnTo>
                  <a:lnTo>
                    <a:pt x="2735" y="4914"/>
                  </a:lnTo>
                  <a:lnTo>
                    <a:pt x="2801" y="4932"/>
                  </a:lnTo>
                  <a:lnTo>
                    <a:pt x="2867" y="4932"/>
                  </a:lnTo>
                  <a:lnTo>
                    <a:pt x="2999" y="4932"/>
                  </a:lnTo>
                  <a:lnTo>
                    <a:pt x="3065" y="4945"/>
                  </a:lnTo>
                  <a:lnTo>
                    <a:pt x="3114" y="4945"/>
                  </a:lnTo>
                  <a:lnTo>
                    <a:pt x="3167" y="4945"/>
                  </a:lnTo>
                  <a:lnTo>
                    <a:pt x="3233" y="4945"/>
                  </a:lnTo>
                  <a:lnTo>
                    <a:pt x="3365" y="4945"/>
                  </a:lnTo>
                  <a:lnTo>
                    <a:pt x="3414" y="4945"/>
                  </a:lnTo>
                  <a:lnTo>
                    <a:pt x="3462" y="4945"/>
                  </a:lnTo>
                  <a:lnTo>
                    <a:pt x="3511" y="4945"/>
                  </a:lnTo>
                  <a:lnTo>
                    <a:pt x="3559" y="4945"/>
                  </a:lnTo>
                  <a:lnTo>
                    <a:pt x="3612" y="4945"/>
                  </a:lnTo>
                  <a:lnTo>
                    <a:pt x="3709" y="4945"/>
                  </a:lnTo>
                  <a:lnTo>
                    <a:pt x="3758" y="4945"/>
                  </a:lnTo>
                  <a:lnTo>
                    <a:pt x="3824" y="4962"/>
                  </a:lnTo>
                  <a:lnTo>
                    <a:pt x="3890" y="4962"/>
                  </a:lnTo>
                  <a:lnTo>
                    <a:pt x="4022" y="4945"/>
                  </a:lnTo>
                  <a:lnTo>
                    <a:pt x="4137" y="4962"/>
                  </a:lnTo>
                  <a:lnTo>
                    <a:pt x="4185" y="4962"/>
                  </a:lnTo>
                  <a:lnTo>
                    <a:pt x="4251" y="4962"/>
                  </a:lnTo>
                  <a:lnTo>
                    <a:pt x="4304" y="4962"/>
                  </a:lnTo>
                  <a:lnTo>
                    <a:pt x="4353" y="4962"/>
                  </a:lnTo>
                  <a:lnTo>
                    <a:pt x="4401" y="4962"/>
                  </a:lnTo>
                  <a:lnTo>
                    <a:pt x="4450" y="4962"/>
                  </a:lnTo>
                  <a:lnTo>
                    <a:pt x="4516" y="4976"/>
                  </a:lnTo>
                  <a:lnTo>
                    <a:pt x="4582" y="4976"/>
                  </a:lnTo>
                  <a:lnTo>
                    <a:pt x="4714" y="4976"/>
                  </a:lnTo>
                  <a:lnTo>
                    <a:pt x="4781" y="4993"/>
                  </a:lnTo>
                  <a:lnTo>
                    <a:pt x="4847" y="4993"/>
                  </a:lnTo>
                  <a:lnTo>
                    <a:pt x="4895" y="4993"/>
                  </a:lnTo>
                  <a:lnTo>
                    <a:pt x="4944" y="4993"/>
                  </a:lnTo>
                  <a:lnTo>
                    <a:pt x="4997" y="4993"/>
                  </a:lnTo>
                  <a:lnTo>
                    <a:pt x="5045" y="4993"/>
                  </a:lnTo>
                  <a:lnTo>
                    <a:pt x="5143" y="4976"/>
                  </a:lnTo>
                  <a:lnTo>
                    <a:pt x="5276" y="4962"/>
                  </a:lnTo>
                  <a:lnTo>
                    <a:pt x="5342" y="4945"/>
                  </a:lnTo>
                  <a:lnTo>
                    <a:pt x="5408" y="4932"/>
                  </a:lnTo>
                  <a:lnTo>
                    <a:pt x="5456" y="4932"/>
                  </a:lnTo>
                  <a:lnTo>
                    <a:pt x="5522" y="4896"/>
                  </a:lnTo>
                  <a:lnTo>
                    <a:pt x="5571" y="4883"/>
                  </a:lnTo>
                  <a:lnTo>
                    <a:pt x="5624" y="4865"/>
                  </a:lnTo>
                  <a:lnTo>
                    <a:pt x="5672" y="4835"/>
                  </a:lnTo>
                  <a:lnTo>
                    <a:pt x="5739" y="4817"/>
                  </a:lnTo>
                  <a:lnTo>
                    <a:pt x="5871" y="4804"/>
                  </a:lnTo>
                  <a:lnTo>
                    <a:pt x="5919" y="4786"/>
                  </a:lnTo>
                  <a:lnTo>
                    <a:pt x="5968" y="4755"/>
                  </a:lnTo>
                  <a:lnTo>
                    <a:pt x="6034" y="4724"/>
                  </a:lnTo>
                  <a:lnTo>
                    <a:pt x="6100" y="4658"/>
                  </a:lnTo>
                  <a:lnTo>
                    <a:pt x="6149" y="4610"/>
                  </a:lnTo>
                  <a:lnTo>
                    <a:pt x="6184" y="4566"/>
                  </a:lnTo>
                  <a:lnTo>
                    <a:pt x="6215" y="4499"/>
                  </a:lnTo>
                  <a:lnTo>
                    <a:pt x="6250" y="4451"/>
                  </a:lnTo>
                  <a:lnTo>
                    <a:pt x="6263" y="4358"/>
                  </a:lnTo>
                  <a:lnTo>
                    <a:pt x="6329" y="4292"/>
                  </a:lnTo>
                  <a:lnTo>
                    <a:pt x="6462" y="4261"/>
                  </a:lnTo>
                  <a:lnTo>
                    <a:pt x="6563" y="4230"/>
                  </a:lnTo>
                  <a:lnTo>
                    <a:pt x="6629" y="4213"/>
                  </a:lnTo>
                  <a:lnTo>
                    <a:pt x="6660" y="4169"/>
                  </a:lnTo>
                  <a:lnTo>
                    <a:pt x="6678" y="4120"/>
                  </a:lnTo>
                  <a:lnTo>
                    <a:pt x="6695" y="4072"/>
                  </a:lnTo>
                  <a:lnTo>
                    <a:pt x="6709" y="4023"/>
                  </a:lnTo>
                  <a:lnTo>
                    <a:pt x="6726" y="3975"/>
                  </a:lnTo>
                  <a:lnTo>
                    <a:pt x="6744" y="3926"/>
                  </a:lnTo>
                  <a:lnTo>
                    <a:pt x="6744" y="3882"/>
                  </a:lnTo>
                  <a:lnTo>
                    <a:pt x="6762" y="3816"/>
                  </a:lnTo>
                  <a:lnTo>
                    <a:pt x="6775" y="3767"/>
                  </a:lnTo>
                  <a:lnTo>
                    <a:pt x="6792" y="3705"/>
                  </a:lnTo>
                  <a:lnTo>
                    <a:pt x="6792" y="3643"/>
                  </a:lnTo>
                  <a:lnTo>
                    <a:pt x="6792" y="3577"/>
                  </a:lnTo>
                  <a:lnTo>
                    <a:pt x="6792" y="3515"/>
                  </a:lnTo>
                  <a:lnTo>
                    <a:pt x="6792" y="3467"/>
                  </a:lnTo>
                  <a:lnTo>
                    <a:pt x="6762" y="3418"/>
                  </a:lnTo>
                  <a:lnTo>
                    <a:pt x="6744" y="3370"/>
                  </a:lnTo>
                  <a:lnTo>
                    <a:pt x="6726" y="3321"/>
                  </a:lnTo>
                  <a:lnTo>
                    <a:pt x="6709" y="3277"/>
                  </a:lnTo>
                  <a:lnTo>
                    <a:pt x="6678" y="3228"/>
                  </a:lnTo>
                  <a:lnTo>
                    <a:pt x="6678" y="3180"/>
                  </a:lnTo>
                  <a:lnTo>
                    <a:pt x="6660" y="3118"/>
                  </a:lnTo>
                  <a:lnTo>
                    <a:pt x="6643" y="3070"/>
                  </a:lnTo>
                  <a:lnTo>
                    <a:pt x="6629" y="3021"/>
                  </a:lnTo>
                  <a:lnTo>
                    <a:pt x="6612" y="2973"/>
                  </a:lnTo>
                  <a:lnTo>
                    <a:pt x="6563" y="2911"/>
                  </a:lnTo>
                  <a:lnTo>
                    <a:pt x="6449" y="2845"/>
                  </a:lnTo>
                  <a:lnTo>
                    <a:pt x="6413" y="2796"/>
                  </a:lnTo>
                  <a:lnTo>
                    <a:pt x="6365" y="2752"/>
                  </a:lnTo>
                  <a:lnTo>
                    <a:pt x="6329" y="2704"/>
                  </a:lnTo>
                  <a:lnTo>
                    <a:pt x="6299" y="2655"/>
                  </a:lnTo>
                  <a:lnTo>
                    <a:pt x="6281" y="2607"/>
                  </a:lnTo>
                  <a:lnTo>
                    <a:pt x="6250" y="2558"/>
                  </a:lnTo>
                  <a:lnTo>
                    <a:pt x="6232" y="2514"/>
                  </a:lnTo>
                  <a:lnTo>
                    <a:pt x="6215" y="2466"/>
                  </a:lnTo>
                  <a:lnTo>
                    <a:pt x="6197" y="2399"/>
                  </a:lnTo>
                  <a:lnTo>
                    <a:pt x="6166" y="2276"/>
                  </a:lnTo>
                  <a:lnTo>
                    <a:pt x="6149" y="2227"/>
                  </a:lnTo>
                  <a:lnTo>
                    <a:pt x="6149" y="2179"/>
                  </a:lnTo>
                  <a:lnTo>
                    <a:pt x="6118" y="2113"/>
                  </a:lnTo>
                  <a:lnTo>
                    <a:pt x="6083" y="2051"/>
                  </a:lnTo>
                  <a:lnTo>
                    <a:pt x="6052" y="2003"/>
                  </a:lnTo>
                  <a:lnTo>
                    <a:pt x="6034" y="1954"/>
                  </a:lnTo>
                  <a:lnTo>
                    <a:pt x="6003" y="1910"/>
                  </a:lnTo>
                  <a:lnTo>
                    <a:pt x="5968" y="1861"/>
                  </a:lnTo>
                  <a:lnTo>
                    <a:pt x="5950" y="1813"/>
                  </a:lnTo>
                  <a:lnTo>
                    <a:pt x="5937" y="1764"/>
                  </a:lnTo>
                  <a:lnTo>
                    <a:pt x="5919" y="1716"/>
                  </a:lnTo>
                  <a:lnTo>
                    <a:pt x="5902" y="1672"/>
                  </a:lnTo>
                  <a:lnTo>
                    <a:pt x="5884" y="1606"/>
                  </a:lnTo>
                  <a:lnTo>
                    <a:pt x="5853" y="1557"/>
                  </a:lnTo>
                  <a:lnTo>
                    <a:pt x="5836" y="1509"/>
                  </a:lnTo>
                  <a:lnTo>
                    <a:pt x="5805" y="1465"/>
                  </a:lnTo>
                  <a:lnTo>
                    <a:pt x="5787" y="1416"/>
                  </a:lnTo>
                  <a:lnTo>
                    <a:pt x="5756" y="1368"/>
                  </a:lnTo>
                  <a:lnTo>
                    <a:pt x="5721" y="1319"/>
                  </a:lnTo>
                  <a:lnTo>
                    <a:pt x="5703" y="1271"/>
                  </a:lnTo>
                  <a:lnTo>
                    <a:pt x="5690" y="1225"/>
                  </a:lnTo>
                  <a:lnTo>
                    <a:pt x="5637" y="1177"/>
                  </a:lnTo>
                  <a:lnTo>
                    <a:pt x="5606" y="1128"/>
                  </a:lnTo>
                  <a:lnTo>
                    <a:pt x="5571" y="1080"/>
                  </a:lnTo>
                  <a:lnTo>
                    <a:pt x="5522" y="1067"/>
                  </a:lnTo>
                  <a:lnTo>
                    <a:pt x="5474" y="1031"/>
                  </a:lnTo>
                  <a:lnTo>
                    <a:pt x="5425" y="1001"/>
                  </a:lnTo>
                  <a:lnTo>
                    <a:pt x="5377" y="952"/>
                  </a:lnTo>
                  <a:lnTo>
                    <a:pt x="5324" y="939"/>
                  </a:lnTo>
                  <a:lnTo>
                    <a:pt x="5258" y="890"/>
                  </a:lnTo>
                  <a:lnTo>
                    <a:pt x="5209" y="873"/>
                  </a:lnTo>
                  <a:lnTo>
                    <a:pt x="5161" y="824"/>
                  </a:lnTo>
                  <a:lnTo>
                    <a:pt x="5112" y="780"/>
                  </a:lnTo>
                  <a:lnTo>
                    <a:pt x="5063" y="745"/>
                  </a:lnTo>
                  <a:lnTo>
                    <a:pt x="5045" y="701"/>
                  </a:lnTo>
                  <a:lnTo>
                    <a:pt x="5028" y="652"/>
                  </a:lnTo>
                  <a:lnTo>
                    <a:pt x="5028" y="604"/>
                  </a:lnTo>
                  <a:lnTo>
                    <a:pt x="4961" y="493"/>
                  </a:lnTo>
                  <a:close/>
                </a:path>
              </a:pathLst>
            </a:custGeom>
            <a:solidFill>
              <a:srgbClr val="ff99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71000" y="4317120"/>
              <a:ext cx="250200" cy="267840"/>
            </a:xfrm>
            <a:custGeom>
              <a:avLst/>
              <a:gdLst/>
              <a:ahLst/>
              <a:rect l="0" t="0" r="r" b="b"/>
              <a:pathLst>
                <a:path w="695" h="744">
                  <a:moveTo>
                    <a:pt x="214" y="723"/>
                  </a:moveTo>
                  <a:lnTo>
                    <a:pt x="214" y="723"/>
                  </a:lnTo>
                  <a:cubicBezTo>
                    <a:pt x="269" y="744"/>
                    <a:pt x="330" y="749"/>
                    <a:pt x="390" y="737"/>
                  </a:cubicBezTo>
                  <a:cubicBezTo>
                    <a:pt x="451" y="725"/>
                    <a:pt x="508" y="696"/>
                    <a:pt x="557" y="653"/>
                  </a:cubicBezTo>
                  <a:cubicBezTo>
                    <a:pt x="605" y="611"/>
                    <a:pt x="643" y="556"/>
                    <a:pt x="667" y="494"/>
                  </a:cubicBezTo>
                  <a:cubicBezTo>
                    <a:pt x="691" y="433"/>
                    <a:pt x="699" y="367"/>
                    <a:pt x="692" y="302"/>
                  </a:cubicBezTo>
                  <a:cubicBezTo>
                    <a:pt x="684" y="238"/>
                    <a:pt x="661" y="178"/>
                    <a:pt x="624" y="129"/>
                  </a:cubicBezTo>
                  <a:cubicBezTo>
                    <a:pt x="587" y="80"/>
                    <a:pt x="538" y="42"/>
                    <a:pt x="482" y="21"/>
                  </a:cubicBezTo>
                  <a:cubicBezTo>
                    <a:pt x="481" y="20"/>
                    <a:pt x="481" y="20"/>
                    <a:pt x="480" y="20"/>
                  </a:cubicBezTo>
                  <a:lnTo>
                    <a:pt x="480" y="20"/>
                  </a:lnTo>
                  <a:cubicBezTo>
                    <a:pt x="425" y="-1"/>
                    <a:pt x="364" y="-6"/>
                    <a:pt x="304" y="6"/>
                  </a:cubicBezTo>
                  <a:cubicBezTo>
                    <a:pt x="243" y="18"/>
                    <a:pt x="186" y="47"/>
                    <a:pt x="137" y="90"/>
                  </a:cubicBezTo>
                  <a:cubicBezTo>
                    <a:pt x="89" y="132"/>
                    <a:pt x="51" y="187"/>
                    <a:pt x="27" y="249"/>
                  </a:cubicBezTo>
                  <a:cubicBezTo>
                    <a:pt x="3" y="310"/>
                    <a:pt x="-5" y="376"/>
                    <a:pt x="2" y="441"/>
                  </a:cubicBezTo>
                  <a:cubicBezTo>
                    <a:pt x="10" y="505"/>
                    <a:pt x="33" y="565"/>
                    <a:pt x="70" y="614"/>
                  </a:cubicBezTo>
                  <a:cubicBezTo>
                    <a:pt x="107" y="663"/>
                    <a:pt x="156" y="701"/>
                    <a:pt x="212" y="722"/>
                  </a:cubicBezTo>
                  <a:cubicBezTo>
                    <a:pt x="213" y="723"/>
                    <a:pt x="213" y="723"/>
                    <a:pt x="214" y="7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5680" y="449568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812" y="26"/>
                  </a:moveTo>
                  <a:lnTo>
                    <a:pt x="702" y="26"/>
                  </a:lnTo>
                  <a:lnTo>
                    <a:pt x="618" y="0"/>
                  </a:lnTo>
                  <a:lnTo>
                    <a:pt x="534" y="0"/>
                  </a:lnTo>
                  <a:lnTo>
                    <a:pt x="450" y="26"/>
                  </a:lnTo>
                  <a:lnTo>
                    <a:pt x="361" y="52"/>
                  </a:lnTo>
                  <a:lnTo>
                    <a:pt x="277" y="127"/>
                  </a:lnTo>
                  <a:lnTo>
                    <a:pt x="194" y="176"/>
                  </a:lnTo>
                  <a:lnTo>
                    <a:pt x="110" y="229"/>
                  </a:lnTo>
                  <a:lnTo>
                    <a:pt x="83" y="304"/>
                  </a:lnTo>
                  <a:lnTo>
                    <a:pt x="83" y="380"/>
                  </a:lnTo>
                  <a:lnTo>
                    <a:pt x="83" y="459"/>
                  </a:lnTo>
                  <a:lnTo>
                    <a:pt x="26" y="534"/>
                  </a:lnTo>
                  <a:lnTo>
                    <a:pt x="0" y="609"/>
                  </a:lnTo>
                  <a:lnTo>
                    <a:pt x="83" y="636"/>
                  </a:lnTo>
                  <a:lnTo>
                    <a:pt x="110" y="561"/>
                  </a:lnTo>
                  <a:lnTo>
                    <a:pt x="194" y="508"/>
                  </a:lnTo>
                  <a:lnTo>
                    <a:pt x="308" y="508"/>
                  </a:lnTo>
                  <a:lnTo>
                    <a:pt x="361" y="433"/>
                  </a:lnTo>
                  <a:lnTo>
                    <a:pt x="419" y="358"/>
                  </a:lnTo>
                  <a:lnTo>
                    <a:pt x="503" y="304"/>
                  </a:lnTo>
                  <a:lnTo>
                    <a:pt x="587" y="277"/>
                  </a:lnTo>
                  <a:lnTo>
                    <a:pt x="671" y="304"/>
                  </a:lnTo>
                  <a:lnTo>
                    <a:pt x="702" y="229"/>
                  </a:lnTo>
                  <a:lnTo>
                    <a:pt x="671" y="154"/>
                  </a:lnTo>
                  <a:lnTo>
                    <a:pt x="702" y="74"/>
                  </a:lnTo>
                  <a:lnTo>
                    <a:pt x="644" y="26"/>
                  </a:lnTo>
                  <a:lnTo>
                    <a:pt x="812" y="26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5410080" y="4495680"/>
              <a:ext cx="508680" cy="1283400"/>
              <a:chOff x="5410080" y="4495680"/>
              <a:chExt cx="508680" cy="1283400"/>
            </a:xfrm>
          </p:grpSpPr>
          <p:sp>
            <p:nvSpPr>
              <p:cNvPr id="476" name=""/>
              <p:cNvSpPr/>
              <p:nvPr/>
            </p:nvSpPr>
            <p:spPr>
              <a:xfrm>
                <a:off x="5678640" y="45705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10080" y="46972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60840" y="50641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54720" y="44956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52920" y="53388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00600" y="56055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67400" y="49942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048120" y="4497480"/>
              <a:ext cx="508320" cy="1281240"/>
              <a:chOff x="3048120" y="4497480"/>
              <a:chExt cx="508320" cy="12812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9240" y="45673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43400" y="46972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66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27480" y="50817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27480" y="44974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32240" y="53420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00400" y="56070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48120" y="50133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492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500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508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512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152280" y="30492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Feel Like Exchanging my Intestin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47920" y="6006960"/>
            <a:ext cx="6096240" cy="584640"/>
          </a:xfrm>
          <a:custGeom>
            <a:avLst/>
            <a:gdLst/>
            <a:ahLst/>
            <a:rect l="0" t="0" r="r" b="b"/>
            <a:pathLst>
              <a:path w="16934" h="1624">
                <a:moveTo>
                  <a:pt x="8993" y="176"/>
                </a:moveTo>
                <a:lnTo>
                  <a:pt x="8783" y="141"/>
                </a:lnTo>
                <a:lnTo>
                  <a:pt x="8625" y="141"/>
                </a:lnTo>
                <a:lnTo>
                  <a:pt x="8466" y="176"/>
                </a:lnTo>
                <a:lnTo>
                  <a:pt x="8308" y="211"/>
                </a:lnTo>
                <a:lnTo>
                  <a:pt x="8151" y="176"/>
                </a:lnTo>
                <a:lnTo>
                  <a:pt x="7993" y="176"/>
                </a:lnTo>
                <a:lnTo>
                  <a:pt x="7835" y="141"/>
                </a:lnTo>
                <a:lnTo>
                  <a:pt x="7677" y="141"/>
                </a:lnTo>
                <a:lnTo>
                  <a:pt x="7520" y="141"/>
                </a:lnTo>
                <a:lnTo>
                  <a:pt x="7362" y="141"/>
                </a:lnTo>
                <a:lnTo>
                  <a:pt x="7204" y="176"/>
                </a:lnTo>
                <a:lnTo>
                  <a:pt x="7046" y="176"/>
                </a:lnTo>
                <a:lnTo>
                  <a:pt x="6889" y="176"/>
                </a:lnTo>
                <a:lnTo>
                  <a:pt x="6731" y="176"/>
                </a:lnTo>
                <a:lnTo>
                  <a:pt x="6573" y="176"/>
                </a:lnTo>
                <a:lnTo>
                  <a:pt x="6415" y="176"/>
                </a:lnTo>
                <a:lnTo>
                  <a:pt x="6257" y="176"/>
                </a:lnTo>
                <a:lnTo>
                  <a:pt x="6100" y="176"/>
                </a:lnTo>
                <a:lnTo>
                  <a:pt x="5942" y="176"/>
                </a:lnTo>
                <a:lnTo>
                  <a:pt x="5784" y="141"/>
                </a:lnTo>
                <a:lnTo>
                  <a:pt x="5626" y="105"/>
                </a:lnTo>
                <a:lnTo>
                  <a:pt x="5469" y="105"/>
                </a:lnTo>
                <a:lnTo>
                  <a:pt x="5311" y="141"/>
                </a:lnTo>
                <a:lnTo>
                  <a:pt x="5101" y="176"/>
                </a:lnTo>
                <a:lnTo>
                  <a:pt x="4890" y="211"/>
                </a:lnTo>
                <a:lnTo>
                  <a:pt x="4680" y="176"/>
                </a:lnTo>
                <a:lnTo>
                  <a:pt x="4469" y="141"/>
                </a:lnTo>
                <a:lnTo>
                  <a:pt x="4312" y="105"/>
                </a:lnTo>
                <a:lnTo>
                  <a:pt x="4154" y="105"/>
                </a:lnTo>
                <a:lnTo>
                  <a:pt x="3996" y="105"/>
                </a:lnTo>
                <a:lnTo>
                  <a:pt x="3838" y="105"/>
                </a:lnTo>
                <a:lnTo>
                  <a:pt x="3681" y="105"/>
                </a:lnTo>
                <a:lnTo>
                  <a:pt x="3523" y="141"/>
                </a:lnTo>
                <a:lnTo>
                  <a:pt x="3365" y="141"/>
                </a:lnTo>
                <a:lnTo>
                  <a:pt x="3207" y="141"/>
                </a:lnTo>
                <a:lnTo>
                  <a:pt x="3050" y="105"/>
                </a:lnTo>
                <a:lnTo>
                  <a:pt x="2892" y="70"/>
                </a:lnTo>
                <a:lnTo>
                  <a:pt x="2734" y="35"/>
                </a:lnTo>
                <a:lnTo>
                  <a:pt x="2576" y="0"/>
                </a:lnTo>
                <a:lnTo>
                  <a:pt x="2419" y="35"/>
                </a:lnTo>
                <a:lnTo>
                  <a:pt x="2261" y="35"/>
                </a:lnTo>
                <a:lnTo>
                  <a:pt x="2103" y="35"/>
                </a:lnTo>
                <a:lnTo>
                  <a:pt x="1945" y="35"/>
                </a:lnTo>
                <a:lnTo>
                  <a:pt x="1787" y="35"/>
                </a:lnTo>
                <a:lnTo>
                  <a:pt x="1630" y="35"/>
                </a:lnTo>
                <a:lnTo>
                  <a:pt x="1472" y="70"/>
                </a:lnTo>
                <a:lnTo>
                  <a:pt x="1314" y="141"/>
                </a:lnTo>
                <a:lnTo>
                  <a:pt x="1156" y="246"/>
                </a:lnTo>
                <a:lnTo>
                  <a:pt x="999" y="317"/>
                </a:lnTo>
                <a:lnTo>
                  <a:pt x="841" y="352"/>
                </a:lnTo>
                <a:lnTo>
                  <a:pt x="683" y="352"/>
                </a:lnTo>
                <a:lnTo>
                  <a:pt x="525" y="352"/>
                </a:lnTo>
                <a:lnTo>
                  <a:pt x="368" y="352"/>
                </a:lnTo>
                <a:lnTo>
                  <a:pt x="210" y="388"/>
                </a:lnTo>
                <a:lnTo>
                  <a:pt x="52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57" y="812"/>
                </a:lnTo>
                <a:lnTo>
                  <a:pt x="315" y="882"/>
                </a:lnTo>
                <a:lnTo>
                  <a:pt x="473" y="882"/>
                </a:lnTo>
                <a:lnTo>
                  <a:pt x="631" y="882"/>
                </a:lnTo>
                <a:lnTo>
                  <a:pt x="788" y="882"/>
                </a:lnTo>
                <a:lnTo>
                  <a:pt x="946" y="882"/>
                </a:lnTo>
                <a:lnTo>
                  <a:pt x="1104" y="918"/>
                </a:lnTo>
                <a:lnTo>
                  <a:pt x="1209" y="1024"/>
                </a:lnTo>
                <a:lnTo>
                  <a:pt x="1314" y="1129"/>
                </a:lnTo>
                <a:lnTo>
                  <a:pt x="1472" y="1200"/>
                </a:lnTo>
                <a:lnTo>
                  <a:pt x="1630" y="1200"/>
                </a:lnTo>
                <a:lnTo>
                  <a:pt x="1787" y="1165"/>
                </a:lnTo>
                <a:lnTo>
                  <a:pt x="1945" y="1129"/>
                </a:lnTo>
                <a:lnTo>
                  <a:pt x="2103" y="1094"/>
                </a:lnTo>
                <a:lnTo>
                  <a:pt x="2261" y="1094"/>
                </a:lnTo>
                <a:lnTo>
                  <a:pt x="2419" y="1165"/>
                </a:lnTo>
                <a:lnTo>
                  <a:pt x="2576" y="1236"/>
                </a:lnTo>
                <a:lnTo>
                  <a:pt x="2734" y="1272"/>
                </a:lnTo>
                <a:lnTo>
                  <a:pt x="2892" y="1272"/>
                </a:lnTo>
                <a:lnTo>
                  <a:pt x="2997" y="1377"/>
                </a:lnTo>
                <a:lnTo>
                  <a:pt x="3102" y="1483"/>
                </a:lnTo>
                <a:lnTo>
                  <a:pt x="3207" y="1589"/>
                </a:lnTo>
                <a:lnTo>
                  <a:pt x="3365" y="1624"/>
                </a:lnTo>
                <a:lnTo>
                  <a:pt x="3418" y="1518"/>
                </a:lnTo>
                <a:lnTo>
                  <a:pt x="3418" y="1413"/>
                </a:lnTo>
                <a:lnTo>
                  <a:pt x="3575" y="1377"/>
                </a:lnTo>
                <a:lnTo>
                  <a:pt x="3733" y="1377"/>
                </a:lnTo>
                <a:lnTo>
                  <a:pt x="3891" y="1483"/>
                </a:lnTo>
                <a:lnTo>
                  <a:pt x="4049" y="1518"/>
                </a:lnTo>
                <a:lnTo>
                  <a:pt x="4207" y="1554"/>
                </a:lnTo>
                <a:lnTo>
                  <a:pt x="4364" y="1518"/>
                </a:lnTo>
                <a:lnTo>
                  <a:pt x="4522" y="1413"/>
                </a:lnTo>
                <a:lnTo>
                  <a:pt x="4680" y="1413"/>
                </a:lnTo>
                <a:lnTo>
                  <a:pt x="4838" y="1413"/>
                </a:lnTo>
                <a:lnTo>
                  <a:pt x="4995" y="1448"/>
                </a:lnTo>
                <a:lnTo>
                  <a:pt x="5206" y="1554"/>
                </a:lnTo>
                <a:lnTo>
                  <a:pt x="5363" y="1589"/>
                </a:lnTo>
                <a:lnTo>
                  <a:pt x="5521" y="1624"/>
                </a:lnTo>
                <a:lnTo>
                  <a:pt x="5679" y="1518"/>
                </a:lnTo>
                <a:lnTo>
                  <a:pt x="5837" y="1483"/>
                </a:lnTo>
                <a:lnTo>
                  <a:pt x="5995" y="1448"/>
                </a:lnTo>
                <a:lnTo>
                  <a:pt x="6152" y="1413"/>
                </a:lnTo>
                <a:lnTo>
                  <a:pt x="6310" y="1377"/>
                </a:lnTo>
                <a:lnTo>
                  <a:pt x="6468" y="1342"/>
                </a:lnTo>
                <a:lnTo>
                  <a:pt x="6626" y="1342"/>
                </a:lnTo>
                <a:lnTo>
                  <a:pt x="6783" y="1342"/>
                </a:lnTo>
                <a:lnTo>
                  <a:pt x="6941" y="1377"/>
                </a:lnTo>
                <a:lnTo>
                  <a:pt x="7099" y="1413"/>
                </a:lnTo>
                <a:lnTo>
                  <a:pt x="7257" y="1448"/>
                </a:lnTo>
                <a:lnTo>
                  <a:pt x="7414" y="1448"/>
                </a:lnTo>
                <a:lnTo>
                  <a:pt x="7572" y="1483"/>
                </a:lnTo>
                <a:lnTo>
                  <a:pt x="7730" y="1483"/>
                </a:lnTo>
                <a:lnTo>
                  <a:pt x="7940" y="1448"/>
                </a:lnTo>
                <a:lnTo>
                  <a:pt x="8098" y="1413"/>
                </a:lnTo>
                <a:lnTo>
                  <a:pt x="8256" y="1377"/>
                </a:lnTo>
                <a:lnTo>
                  <a:pt x="8414" y="1377"/>
                </a:lnTo>
                <a:lnTo>
                  <a:pt x="8572" y="1342"/>
                </a:lnTo>
                <a:lnTo>
                  <a:pt x="8730" y="1307"/>
                </a:lnTo>
                <a:lnTo>
                  <a:pt x="8888" y="1272"/>
                </a:lnTo>
                <a:lnTo>
                  <a:pt x="9046" y="1236"/>
                </a:lnTo>
                <a:lnTo>
                  <a:pt x="9203" y="1200"/>
                </a:lnTo>
                <a:lnTo>
                  <a:pt x="9361" y="1165"/>
                </a:lnTo>
                <a:lnTo>
                  <a:pt x="9519" y="1165"/>
                </a:lnTo>
                <a:lnTo>
                  <a:pt x="9677" y="1165"/>
                </a:lnTo>
                <a:lnTo>
                  <a:pt x="9834" y="1165"/>
                </a:lnTo>
                <a:lnTo>
                  <a:pt x="9992" y="1165"/>
                </a:lnTo>
                <a:lnTo>
                  <a:pt x="10150" y="1200"/>
                </a:lnTo>
                <a:lnTo>
                  <a:pt x="10308" y="1236"/>
                </a:lnTo>
                <a:lnTo>
                  <a:pt x="10466" y="1272"/>
                </a:lnTo>
                <a:lnTo>
                  <a:pt x="10623" y="1272"/>
                </a:lnTo>
                <a:lnTo>
                  <a:pt x="10781" y="1272"/>
                </a:lnTo>
                <a:lnTo>
                  <a:pt x="10991" y="1272"/>
                </a:lnTo>
                <a:lnTo>
                  <a:pt x="11202" y="1200"/>
                </a:lnTo>
                <a:lnTo>
                  <a:pt x="11360" y="1165"/>
                </a:lnTo>
                <a:lnTo>
                  <a:pt x="11517" y="1129"/>
                </a:lnTo>
                <a:lnTo>
                  <a:pt x="11728" y="1129"/>
                </a:lnTo>
                <a:lnTo>
                  <a:pt x="11938" y="1165"/>
                </a:lnTo>
                <a:lnTo>
                  <a:pt x="12148" y="1200"/>
                </a:lnTo>
                <a:lnTo>
                  <a:pt x="12306" y="1272"/>
                </a:lnTo>
                <a:lnTo>
                  <a:pt x="12464" y="1307"/>
                </a:lnTo>
                <a:lnTo>
                  <a:pt x="12622" y="1342"/>
                </a:lnTo>
                <a:lnTo>
                  <a:pt x="12779" y="1342"/>
                </a:lnTo>
                <a:lnTo>
                  <a:pt x="12990" y="1272"/>
                </a:lnTo>
                <a:lnTo>
                  <a:pt x="13147" y="1236"/>
                </a:lnTo>
                <a:lnTo>
                  <a:pt x="13305" y="1165"/>
                </a:lnTo>
                <a:lnTo>
                  <a:pt x="13463" y="1129"/>
                </a:lnTo>
                <a:lnTo>
                  <a:pt x="13621" y="1129"/>
                </a:lnTo>
                <a:lnTo>
                  <a:pt x="13831" y="1129"/>
                </a:lnTo>
                <a:lnTo>
                  <a:pt x="14041" y="1129"/>
                </a:lnTo>
                <a:lnTo>
                  <a:pt x="14252" y="1129"/>
                </a:lnTo>
                <a:lnTo>
                  <a:pt x="14410" y="1165"/>
                </a:lnTo>
                <a:lnTo>
                  <a:pt x="14567" y="1165"/>
                </a:lnTo>
                <a:lnTo>
                  <a:pt x="14725" y="1200"/>
                </a:lnTo>
                <a:lnTo>
                  <a:pt x="14883" y="1200"/>
                </a:lnTo>
                <a:lnTo>
                  <a:pt x="15093" y="1200"/>
                </a:lnTo>
                <a:lnTo>
                  <a:pt x="15304" y="1200"/>
                </a:lnTo>
                <a:lnTo>
                  <a:pt x="15461" y="1129"/>
                </a:lnTo>
                <a:lnTo>
                  <a:pt x="15619" y="1094"/>
                </a:lnTo>
                <a:lnTo>
                  <a:pt x="15777" y="1094"/>
                </a:lnTo>
                <a:lnTo>
                  <a:pt x="15935" y="1094"/>
                </a:lnTo>
                <a:lnTo>
                  <a:pt x="16092" y="1094"/>
                </a:lnTo>
                <a:lnTo>
                  <a:pt x="16250" y="1094"/>
                </a:lnTo>
                <a:lnTo>
                  <a:pt x="16408" y="1059"/>
                </a:lnTo>
                <a:lnTo>
                  <a:pt x="16566" y="1024"/>
                </a:lnTo>
                <a:lnTo>
                  <a:pt x="16723" y="988"/>
                </a:lnTo>
                <a:lnTo>
                  <a:pt x="16881" y="918"/>
                </a:lnTo>
                <a:lnTo>
                  <a:pt x="16934" y="812"/>
                </a:lnTo>
                <a:lnTo>
                  <a:pt x="16934" y="706"/>
                </a:lnTo>
                <a:lnTo>
                  <a:pt x="16881" y="600"/>
                </a:lnTo>
                <a:lnTo>
                  <a:pt x="16723" y="494"/>
                </a:lnTo>
                <a:lnTo>
                  <a:pt x="16566" y="494"/>
                </a:lnTo>
                <a:lnTo>
                  <a:pt x="16408" y="459"/>
                </a:lnTo>
                <a:lnTo>
                  <a:pt x="16250" y="459"/>
                </a:lnTo>
                <a:lnTo>
                  <a:pt x="16092" y="424"/>
                </a:lnTo>
                <a:lnTo>
                  <a:pt x="15882" y="352"/>
                </a:lnTo>
                <a:lnTo>
                  <a:pt x="15724" y="317"/>
                </a:lnTo>
                <a:lnTo>
                  <a:pt x="15567" y="246"/>
                </a:lnTo>
                <a:lnTo>
                  <a:pt x="15409" y="211"/>
                </a:lnTo>
                <a:lnTo>
                  <a:pt x="15251" y="176"/>
                </a:lnTo>
                <a:lnTo>
                  <a:pt x="15093" y="211"/>
                </a:lnTo>
                <a:lnTo>
                  <a:pt x="14935" y="211"/>
                </a:lnTo>
                <a:lnTo>
                  <a:pt x="14778" y="211"/>
                </a:lnTo>
                <a:lnTo>
                  <a:pt x="14620" y="211"/>
                </a:lnTo>
                <a:lnTo>
                  <a:pt x="14462" y="211"/>
                </a:lnTo>
                <a:lnTo>
                  <a:pt x="14304" y="211"/>
                </a:lnTo>
                <a:lnTo>
                  <a:pt x="14147" y="211"/>
                </a:lnTo>
                <a:lnTo>
                  <a:pt x="13989" y="246"/>
                </a:lnTo>
                <a:lnTo>
                  <a:pt x="13831" y="246"/>
                </a:lnTo>
                <a:lnTo>
                  <a:pt x="13673" y="211"/>
                </a:lnTo>
                <a:lnTo>
                  <a:pt x="13516" y="211"/>
                </a:lnTo>
                <a:lnTo>
                  <a:pt x="13358" y="176"/>
                </a:lnTo>
                <a:lnTo>
                  <a:pt x="13200" y="176"/>
                </a:lnTo>
                <a:lnTo>
                  <a:pt x="12990" y="211"/>
                </a:lnTo>
                <a:lnTo>
                  <a:pt x="12832" y="246"/>
                </a:lnTo>
                <a:lnTo>
                  <a:pt x="12674" y="246"/>
                </a:lnTo>
                <a:lnTo>
                  <a:pt x="12516" y="246"/>
                </a:lnTo>
                <a:lnTo>
                  <a:pt x="12359" y="282"/>
                </a:lnTo>
                <a:lnTo>
                  <a:pt x="12201" y="282"/>
                </a:lnTo>
                <a:lnTo>
                  <a:pt x="11991" y="282"/>
                </a:lnTo>
                <a:lnTo>
                  <a:pt x="11833" y="282"/>
                </a:lnTo>
                <a:lnTo>
                  <a:pt x="11622" y="282"/>
                </a:lnTo>
                <a:lnTo>
                  <a:pt x="11412" y="211"/>
                </a:lnTo>
                <a:lnTo>
                  <a:pt x="11254" y="211"/>
                </a:lnTo>
                <a:lnTo>
                  <a:pt x="11097" y="211"/>
                </a:lnTo>
                <a:lnTo>
                  <a:pt x="10886" y="211"/>
                </a:lnTo>
                <a:lnTo>
                  <a:pt x="10676" y="211"/>
                </a:lnTo>
                <a:lnTo>
                  <a:pt x="10518" y="246"/>
                </a:lnTo>
                <a:lnTo>
                  <a:pt x="10360" y="282"/>
                </a:lnTo>
                <a:lnTo>
                  <a:pt x="10203" y="246"/>
                </a:lnTo>
                <a:lnTo>
                  <a:pt x="10045" y="246"/>
                </a:lnTo>
                <a:lnTo>
                  <a:pt x="9887" y="211"/>
                </a:lnTo>
                <a:lnTo>
                  <a:pt x="9729" y="211"/>
                </a:lnTo>
                <a:lnTo>
                  <a:pt x="9572" y="211"/>
                </a:lnTo>
                <a:lnTo>
                  <a:pt x="9414" y="211"/>
                </a:lnTo>
                <a:lnTo>
                  <a:pt x="9256" y="211"/>
                </a:lnTo>
                <a:lnTo>
                  <a:pt x="8993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692440" y="1914480"/>
            <a:ext cx="3679920" cy="4258080"/>
            <a:chOff x="2692440" y="1914480"/>
            <a:chExt cx="3679920" cy="4258080"/>
          </a:xfrm>
        </p:grpSpPr>
        <p:grpSp>
          <p:nvGrpSpPr>
            <p:cNvPr id="518" name=""/>
            <p:cNvGrpSpPr/>
            <p:nvPr/>
          </p:nvGrpSpPr>
          <p:grpSpPr>
            <a:xfrm>
              <a:off x="4749840" y="1914480"/>
              <a:ext cx="1622520" cy="4258080"/>
              <a:chOff x="4749840" y="1914480"/>
              <a:chExt cx="1622520" cy="425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4957920" y="3568680"/>
                <a:ext cx="574920" cy="844920"/>
              </a:xfrm>
              <a:custGeom>
                <a:avLst/>
                <a:gdLst/>
                <a:ahLst/>
                <a:rect l="0" t="0" r="r" b="b"/>
                <a:pathLst>
                  <a:path w="1597" h="2347">
                    <a:moveTo>
                      <a:pt x="1597" y="251"/>
                    </a:moveTo>
                    <a:lnTo>
                      <a:pt x="1504" y="458"/>
                    </a:lnTo>
                    <a:lnTo>
                      <a:pt x="984" y="834"/>
                    </a:lnTo>
                    <a:lnTo>
                      <a:pt x="608" y="1143"/>
                    </a:lnTo>
                    <a:lnTo>
                      <a:pt x="878" y="2286"/>
                    </a:lnTo>
                    <a:lnTo>
                      <a:pt x="233" y="2347"/>
                    </a:lnTo>
                    <a:lnTo>
                      <a:pt x="0" y="847"/>
                    </a:lnTo>
                    <a:lnTo>
                      <a:pt x="1041" y="110"/>
                    </a:lnTo>
                    <a:lnTo>
                      <a:pt x="1328" y="0"/>
                    </a:lnTo>
                    <a:lnTo>
                      <a:pt x="1535" y="97"/>
                    </a:lnTo>
                    <a:lnTo>
                      <a:pt x="1597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5037120" y="4564080"/>
                <a:ext cx="1335240" cy="1608480"/>
                <a:chOff x="5037120" y="4564080"/>
                <a:chExt cx="1335240" cy="1608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373720" y="4564080"/>
                  <a:ext cx="579960" cy="1484640"/>
                </a:xfrm>
                <a:custGeom>
                  <a:avLst/>
                  <a:gdLst/>
                  <a:ahLst/>
                  <a:rect l="0" t="0" r="r" b="b"/>
                  <a:pathLst>
                    <a:path w="1611" h="4124">
                      <a:moveTo>
                        <a:pt x="0" y="0"/>
                      </a:moveTo>
                      <a:lnTo>
                        <a:pt x="279" y="4124"/>
                      </a:lnTo>
                      <a:lnTo>
                        <a:pt x="910" y="4124"/>
                      </a:lnTo>
                      <a:lnTo>
                        <a:pt x="817" y="1116"/>
                      </a:lnTo>
                      <a:lnTo>
                        <a:pt x="910" y="4124"/>
                      </a:lnTo>
                      <a:lnTo>
                        <a:pt x="1611" y="4124"/>
                      </a:lnTo>
                      <a:lnTo>
                        <a:pt x="1541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0371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4" y="160"/>
                      </a:moveTo>
                      <a:lnTo>
                        <a:pt x="863" y="45"/>
                      </a:lnTo>
                      <a:lnTo>
                        <a:pt x="629" y="0"/>
                      </a:lnTo>
                      <a:lnTo>
                        <a:pt x="373" y="91"/>
                      </a:lnTo>
                      <a:lnTo>
                        <a:pt x="116" y="229"/>
                      </a:lnTo>
                      <a:lnTo>
                        <a:pt x="0" y="413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60"/>
                      </a:lnTo>
                      <a:lnTo>
                        <a:pt x="1214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0852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29" y="160"/>
                      </a:moveTo>
                      <a:lnTo>
                        <a:pt x="980" y="45"/>
                      </a:lnTo>
                      <a:lnTo>
                        <a:pt x="1214" y="0"/>
                      </a:lnTo>
                      <a:lnTo>
                        <a:pt x="1470" y="91"/>
                      </a:lnTo>
                      <a:lnTo>
                        <a:pt x="1727" y="229"/>
                      </a:lnTo>
                      <a:lnTo>
                        <a:pt x="1844" y="413"/>
                      </a:lnTo>
                      <a:lnTo>
                        <a:pt x="1680" y="504"/>
                      </a:lnTo>
                      <a:lnTo>
                        <a:pt x="0" y="504"/>
                      </a:lnTo>
                      <a:lnTo>
                        <a:pt x="0" y="160"/>
                      </a:lnTo>
                      <a:lnTo>
                        <a:pt x="629" y="1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175360" y="1914480"/>
                <a:ext cx="954360" cy="2821680"/>
                <a:chOff x="5175360" y="1914480"/>
                <a:chExt cx="954360" cy="28216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5264280" y="3357720"/>
                  <a:ext cx="865440" cy="1378440"/>
                </a:xfrm>
                <a:custGeom>
                  <a:avLst/>
                  <a:gdLst/>
                  <a:ahLst/>
                  <a:rect l="0" t="0" r="r" b="b"/>
                  <a:pathLst>
                    <a:path w="2404" h="3829">
                      <a:moveTo>
                        <a:pt x="841" y="322"/>
                      </a:moveTo>
                      <a:lnTo>
                        <a:pt x="763" y="337"/>
                      </a:lnTo>
                      <a:lnTo>
                        <a:pt x="705" y="375"/>
                      </a:lnTo>
                      <a:lnTo>
                        <a:pt x="593" y="501"/>
                      </a:lnTo>
                      <a:lnTo>
                        <a:pt x="476" y="622"/>
                      </a:lnTo>
                      <a:lnTo>
                        <a:pt x="344" y="732"/>
                      </a:lnTo>
                      <a:lnTo>
                        <a:pt x="325" y="767"/>
                      </a:lnTo>
                      <a:lnTo>
                        <a:pt x="306" y="801"/>
                      </a:lnTo>
                      <a:lnTo>
                        <a:pt x="306" y="801"/>
                      </a:lnTo>
                      <a:lnTo>
                        <a:pt x="325" y="801"/>
                      </a:lnTo>
                      <a:lnTo>
                        <a:pt x="135" y="1337"/>
                      </a:lnTo>
                      <a:lnTo>
                        <a:pt x="0" y="3742"/>
                      </a:lnTo>
                      <a:lnTo>
                        <a:pt x="2404" y="3829"/>
                      </a:lnTo>
                      <a:lnTo>
                        <a:pt x="2043" y="1588"/>
                      </a:lnTo>
                      <a:lnTo>
                        <a:pt x="1869" y="356"/>
                      </a:lnTo>
                      <a:lnTo>
                        <a:pt x="1222" y="0"/>
                      </a:lnTo>
                      <a:lnTo>
                        <a:pt x="841" y="3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5175360" y="1914480"/>
                  <a:ext cx="886320" cy="1566000"/>
                  <a:chOff x="5175360" y="1914480"/>
                  <a:chExt cx="886320" cy="15660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5272200" y="2117880"/>
                    <a:ext cx="789480" cy="1362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93" h="3785">
                        <a:moveTo>
                          <a:pt x="512" y="0"/>
                        </a:moveTo>
                        <a:lnTo>
                          <a:pt x="233" y="227"/>
                        </a:lnTo>
                        <a:lnTo>
                          <a:pt x="69" y="592"/>
                        </a:lnTo>
                        <a:lnTo>
                          <a:pt x="23" y="1049"/>
                        </a:lnTo>
                        <a:lnTo>
                          <a:pt x="0" y="2325"/>
                        </a:lnTo>
                        <a:lnTo>
                          <a:pt x="46" y="3056"/>
                        </a:lnTo>
                        <a:lnTo>
                          <a:pt x="723" y="3101"/>
                        </a:lnTo>
                        <a:lnTo>
                          <a:pt x="817" y="3512"/>
                        </a:lnTo>
                        <a:lnTo>
                          <a:pt x="910" y="3785"/>
                        </a:lnTo>
                        <a:lnTo>
                          <a:pt x="1120" y="3785"/>
                        </a:lnTo>
                        <a:lnTo>
                          <a:pt x="1236" y="3534"/>
                        </a:lnTo>
                        <a:lnTo>
                          <a:pt x="1166" y="3101"/>
                        </a:lnTo>
                        <a:lnTo>
                          <a:pt x="1797" y="3033"/>
                        </a:lnTo>
                        <a:lnTo>
                          <a:pt x="1820" y="2599"/>
                        </a:lnTo>
                        <a:lnTo>
                          <a:pt x="1960" y="2667"/>
                        </a:lnTo>
                        <a:lnTo>
                          <a:pt x="2100" y="2622"/>
                        </a:lnTo>
                        <a:lnTo>
                          <a:pt x="2193" y="2257"/>
                        </a:lnTo>
                        <a:lnTo>
                          <a:pt x="2077" y="2075"/>
                        </a:lnTo>
                        <a:lnTo>
                          <a:pt x="1937" y="2097"/>
                        </a:lnTo>
                        <a:lnTo>
                          <a:pt x="2077" y="159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5175360" y="2500200"/>
                    <a:ext cx="36180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5486400" y="2467080"/>
                    <a:ext cx="42876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5654520" y="2639880"/>
                    <a:ext cx="745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292720" y="2647800"/>
                    <a:ext cx="763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475240" y="1940040"/>
                    <a:ext cx="6480" cy="18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5575320" y="1922400"/>
                    <a:ext cx="15840" cy="187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5718240" y="1914480"/>
                    <a:ext cx="33120" cy="19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5861160" y="1955880"/>
                    <a:ext cx="48960" cy="171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5987880" y="1979640"/>
                    <a:ext cx="47880" cy="155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5264280" y="2938320"/>
                    <a:ext cx="5799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1611" h="618">
                        <a:moveTo>
                          <a:pt x="0" y="0"/>
                        </a:moveTo>
                        <a:lnTo>
                          <a:pt x="1611" y="141"/>
                        </a:lnTo>
                        <a:lnTo>
                          <a:pt x="658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5524560" y="336564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0" y="296"/>
                      </a:moveTo>
                      <a:lnTo>
                        <a:pt x="209" y="410"/>
                      </a:lnTo>
                      <a:lnTo>
                        <a:pt x="583" y="433"/>
                      </a:lnTo>
                      <a:lnTo>
                        <a:pt x="746" y="228"/>
                      </a:lnTo>
                      <a:lnTo>
                        <a:pt x="746" y="68"/>
                      </a:lnTo>
                      <a:lnTo>
                        <a:pt x="583" y="0"/>
                      </a:lnTo>
                      <a:lnTo>
                        <a:pt x="420" y="228"/>
                      </a:lnTo>
                      <a:lnTo>
                        <a:pt x="163" y="25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5495760" y="4233960"/>
                <a:ext cx="371880" cy="562320"/>
              </a:xfrm>
              <a:custGeom>
                <a:avLst/>
                <a:gdLst/>
                <a:ahLst/>
                <a:rect l="0" t="0" r="r" b="b"/>
                <a:pathLst>
                  <a:path w="1033" h="1562">
                    <a:moveTo>
                      <a:pt x="264" y="62"/>
                    </a:moveTo>
                    <a:lnTo>
                      <a:pt x="317" y="22"/>
                    </a:lnTo>
                    <a:lnTo>
                      <a:pt x="370" y="0"/>
                    </a:lnTo>
                    <a:lnTo>
                      <a:pt x="423" y="22"/>
                    </a:lnTo>
                    <a:lnTo>
                      <a:pt x="505" y="40"/>
                    </a:lnTo>
                    <a:lnTo>
                      <a:pt x="634" y="0"/>
                    </a:lnTo>
                    <a:lnTo>
                      <a:pt x="686" y="0"/>
                    </a:lnTo>
                    <a:lnTo>
                      <a:pt x="769" y="0"/>
                    </a:lnTo>
                    <a:lnTo>
                      <a:pt x="769" y="62"/>
                    </a:lnTo>
                    <a:lnTo>
                      <a:pt x="769" y="80"/>
                    </a:lnTo>
                    <a:lnTo>
                      <a:pt x="686" y="142"/>
                    </a:lnTo>
                    <a:lnTo>
                      <a:pt x="716" y="227"/>
                    </a:lnTo>
                    <a:lnTo>
                      <a:pt x="716" y="289"/>
                    </a:lnTo>
                    <a:lnTo>
                      <a:pt x="769" y="330"/>
                    </a:lnTo>
                    <a:lnTo>
                      <a:pt x="822" y="392"/>
                    </a:lnTo>
                    <a:lnTo>
                      <a:pt x="793" y="535"/>
                    </a:lnTo>
                    <a:lnTo>
                      <a:pt x="739" y="637"/>
                    </a:lnTo>
                    <a:lnTo>
                      <a:pt x="793" y="700"/>
                    </a:lnTo>
                    <a:lnTo>
                      <a:pt x="875" y="780"/>
                    </a:lnTo>
                    <a:lnTo>
                      <a:pt x="951" y="861"/>
                    </a:lnTo>
                    <a:lnTo>
                      <a:pt x="981" y="924"/>
                    </a:lnTo>
                    <a:lnTo>
                      <a:pt x="1004" y="986"/>
                    </a:lnTo>
                    <a:lnTo>
                      <a:pt x="1033" y="1026"/>
                    </a:lnTo>
                    <a:lnTo>
                      <a:pt x="1033" y="1026"/>
                    </a:lnTo>
                    <a:lnTo>
                      <a:pt x="1004" y="1174"/>
                    </a:lnTo>
                    <a:lnTo>
                      <a:pt x="981" y="1294"/>
                    </a:lnTo>
                    <a:lnTo>
                      <a:pt x="951" y="1419"/>
                    </a:lnTo>
                    <a:lnTo>
                      <a:pt x="899" y="1562"/>
                    </a:lnTo>
                    <a:lnTo>
                      <a:pt x="899" y="1521"/>
                    </a:lnTo>
                    <a:lnTo>
                      <a:pt x="899" y="1481"/>
                    </a:lnTo>
                    <a:lnTo>
                      <a:pt x="928" y="1437"/>
                    </a:lnTo>
                    <a:lnTo>
                      <a:pt x="928" y="1419"/>
                    </a:lnTo>
                    <a:lnTo>
                      <a:pt x="899" y="1356"/>
                    </a:lnTo>
                    <a:lnTo>
                      <a:pt x="875" y="1276"/>
                    </a:lnTo>
                    <a:lnTo>
                      <a:pt x="899" y="1214"/>
                    </a:lnTo>
                    <a:lnTo>
                      <a:pt x="928" y="1191"/>
                    </a:lnTo>
                    <a:lnTo>
                      <a:pt x="928" y="1174"/>
                    </a:lnTo>
                    <a:lnTo>
                      <a:pt x="899" y="1049"/>
                    </a:lnTo>
                    <a:lnTo>
                      <a:pt x="846" y="986"/>
                    </a:lnTo>
                    <a:lnTo>
                      <a:pt x="793" y="946"/>
                    </a:lnTo>
                    <a:lnTo>
                      <a:pt x="739" y="884"/>
                    </a:lnTo>
                    <a:lnTo>
                      <a:pt x="686" y="821"/>
                    </a:lnTo>
                    <a:lnTo>
                      <a:pt x="634" y="861"/>
                    </a:lnTo>
                    <a:lnTo>
                      <a:pt x="581" y="884"/>
                    </a:lnTo>
                    <a:lnTo>
                      <a:pt x="528" y="906"/>
                    </a:lnTo>
                    <a:lnTo>
                      <a:pt x="505" y="924"/>
                    </a:lnTo>
                    <a:lnTo>
                      <a:pt x="475" y="924"/>
                    </a:lnTo>
                    <a:lnTo>
                      <a:pt x="475" y="843"/>
                    </a:lnTo>
                    <a:lnTo>
                      <a:pt x="475" y="821"/>
                    </a:lnTo>
                    <a:lnTo>
                      <a:pt x="475" y="803"/>
                    </a:lnTo>
                    <a:lnTo>
                      <a:pt x="505" y="758"/>
                    </a:lnTo>
                    <a:lnTo>
                      <a:pt x="528" y="718"/>
                    </a:lnTo>
                    <a:lnTo>
                      <a:pt x="528" y="718"/>
                    </a:lnTo>
                    <a:lnTo>
                      <a:pt x="528" y="740"/>
                    </a:lnTo>
                    <a:lnTo>
                      <a:pt x="528" y="758"/>
                    </a:lnTo>
                    <a:lnTo>
                      <a:pt x="505" y="780"/>
                    </a:lnTo>
                    <a:lnTo>
                      <a:pt x="452" y="758"/>
                    </a:lnTo>
                    <a:lnTo>
                      <a:pt x="423" y="740"/>
                    </a:lnTo>
                    <a:lnTo>
                      <a:pt x="399" y="740"/>
                    </a:lnTo>
                    <a:lnTo>
                      <a:pt x="370" y="758"/>
                    </a:lnTo>
                    <a:lnTo>
                      <a:pt x="346" y="780"/>
                    </a:lnTo>
                    <a:lnTo>
                      <a:pt x="264" y="718"/>
                    </a:lnTo>
                    <a:lnTo>
                      <a:pt x="240" y="780"/>
                    </a:lnTo>
                    <a:lnTo>
                      <a:pt x="211" y="803"/>
                    </a:lnTo>
                    <a:lnTo>
                      <a:pt x="158" y="780"/>
                    </a:lnTo>
                    <a:lnTo>
                      <a:pt x="52" y="758"/>
                    </a:lnTo>
                    <a:lnTo>
                      <a:pt x="23" y="740"/>
                    </a:lnTo>
                    <a:lnTo>
                      <a:pt x="0" y="700"/>
                    </a:lnTo>
                    <a:lnTo>
                      <a:pt x="23" y="677"/>
                    </a:lnTo>
                    <a:lnTo>
                      <a:pt x="52" y="677"/>
                    </a:lnTo>
                    <a:lnTo>
                      <a:pt x="158" y="700"/>
                    </a:lnTo>
                    <a:lnTo>
                      <a:pt x="264" y="718"/>
                    </a:lnTo>
                    <a:lnTo>
                      <a:pt x="264" y="718"/>
                    </a:lnTo>
                    <a:lnTo>
                      <a:pt x="240" y="700"/>
                    </a:lnTo>
                    <a:lnTo>
                      <a:pt x="211" y="677"/>
                    </a:lnTo>
                    <a:lnTo>
                      <a:pt x="187" y="655"/>
                    </a:lnTo>
                    <a:lnTo>
                      <a:pt x="187" y="637"/>
                    </a:lnTo>
                    <a:lnTo>
                      <a:pt x="187" y="597"/>
                    </a:lnTo>
                    <a:lnTo>
                      <a:pt x="211" y="553"/>
                    </a:lnTo>
                    <a:lnTo>
                      <a:pt x="240" y="535"/>
                    </a:lnTo>
                    <a:lnTo>
                      <a:pt x="240" y="472"/>
                    </a:lnTo>
                    <a:lnTo>
                      <a:pt x="240" y="410"/>
                    </a:lnTo>
                    <a:lnTo>
                      <a:pt x="240" y="267"/>
                    </a:lnTo>
                    <a:lnTo>
                      <a:pt x="187" y="227"/>
                    </a:lnTo>
                    <a:lnTo>
                      <a:pt x="158" y="205"/>
                    </a:lnTo>
                    <a:lnTo>
                      <a:pt x="158" y="182"/>
                    </a:lnTo>
                    <a:lnTo>
                      <a:pt x="187" y="165"/>
                    </a:lnTo>
                    <a:lnTo>
                      <a:pt x="211" y="142"/>
                    </a:lnTo>
                    <a:lnTo>
                      <a:pt x="211" y="124"/>
                    </a:lnTo>
                    <a:lnTo>
                      <a:pt x="264" y="6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4749840" y="4254480"/>
                <a:ext cx="914760" cy="1918080"/>
                <a:chOff x="4749840" y="4254480"/>
                <a:chExt cx="914760" cy="19180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4757760" y="6013440"/>
                  <a:ext cx="705240" cy="159120"/>
                </a:xfrm>
                <a:custGeom>
                  <a:avLst/>
                  <a:gdLst/>
                  <a:ahLst/>
                  <a:rect l="0" t="0" r="r" b="b"/>
                  <a:pathLst>
                    <a:path w="1959" h="442">
                      <a:moveTo>
                        <a:pt x="0" y="137"/>
                      </a:moveTo>
                      <a:lnTo>
                        <a:pt x="92" y="221"/>
                      </a:lnTo>
                      <a:lnTo>
                        <a:pt x="163" y="247"/>
                      </a:lnTo>
                      <a:lnTo>
                        <a:pt x="211" y="332"/>
                      </a:lnTo>
                      <a:lnTo>
                        <a:pt x="277" y="390"/>
                      </a:lnTo>
                      <a:lnTo>
                        <a:pt x="348" y="390"/>
                      </a:lnTo>
                      <a:lnTo>
                        <a:pt x="418" y="390"/>
                      </a:lnTo>
                      <a:lnTo>
                        <a:pt x="489" y="390"/>
                      </a:lnTo>
                      <a:lnTo>
                        <a:pt x="561" y="390"/>
                      </a:lnTo>
                      <a:lnTo>
                        <a:pt x="631" y="390"/>
                      </a:lnTo>
                      <a:lnTo>
                        <a:pt x="702" y="416"/>
                      </a:lnTo>
                      <a:lnTo>
                        <a:pt x="794" y="442"/>
                      </a:lnTo>
                      <a:lnTo>
                        <a:pt x="865" y="442"/>
                      </a:lnTo>
                      <a:lnTo>
                        <a:pt x="931" y="442"/>
                      </a:lnTo>
                      <a:lnTo>
                        <a:pt x="1002" y="442"/>
                      </a:lnTo>
                      <a:lnTo>
                        <a:pt x="1072" y="442"/>
                      </a:lnTo>
                      <a:lnTo>
                        <a:pt x="1143" y="416"/>
                      </a:lnTo>
                      <a:lnTo>
                        <a:pt x="1213" y="416"/>
                      </a:lnTo>
                      <a:lnTo>
                        <a:pt x="1284" y="390"/>
                      </a:lnTo>
                      <a:lnTo>
                        <a:pt x="1354" y="359"/>
                      </a:lnTo>
                      <a:lnTo>
                        <a:pt x="1420" y="359"/>
                      </a:lnTo>
                      <a:lnTo>
                        <a:pt x="1492" y="359"/>
                      </a:lnTo>
                      <a:lnTo>
                        <a:pt x="1563" y="416"/>
                      </a:lnTo>
                      <a:lnTo>
                        <a:pt x="1633" y="442"/>
                      </a:lnTo>
                      <a:lnTo>
                        <a:pt x="1704" y="442"/>
                      </a:lnTo>
                      <a:lnTo>
                        <a:pt x="1748" y="359"/>
                      </a:lnTo>
                      <a:lnTo>
                        <a:pt x="1818" y="359"/>
                      </a:lnTo>
                      <a:lnTo>
                        <a:pt x="1889" y="359"/>
                      </a:lnTo>
                      <a:lnTo>
                        <a:pt x="1959" y="305"/>
                      </a:lnTo>
                      <a:lnTo>
                        <a:pt x="1867" y="247"/>
                      </a:lnTo>
                      <a:lnTo>
                        <a:pt x="1796" y="247"/>
                      </a:lnTo>
                      <a:lnTo>
                        <a:pt x="1726" y="195"/>
                      </a:lnTo>
                      <a:lnTo>
                        <a:pt x="1774" y="111"/>
                      </a:lnTo>
                      <a:lnTo>
                        <a:pt x="1563" y="111"/>
                      </a:lnTo>
                      <a:lnTo>
                        <a:pt x="1492" y="83"/>
                      </a:lnTo>
                      <a:lnTo>
                        <a:pt x="1420" y="83"/>
                      </a:lnTo>
                      <a:lnTo>
                        <a:pt x="1354" y="111"/>
                      </a:lnTo>
                      <a:lnTo>
                        <a:pt x="1284" y="168"/>
                      </a:lnTo>
                      <a:lnTo>
                        <a:pt x="1213" y="168"/>
                      </a:lnTo>
                      <a:lnTo>
                        <a:pt x="1143" y="168"/>
                      </a:lnTo>
                      <a:lnTo>
                        <a:pt x="1050" y="168"/>
                      </a:lnTo>
                      <a:lnTo>
                        <a:pt x="865" y="168"/>
                      </a:lnTo>
                      <a:lnTo>
                        <a:pt x="724" y="168"/>
                      </a:lnTo>
                      <a:lnTo>
                        <a:pt x="538" y="137"/>
                      </a:lnTo>
                      <a:lnTo>
                        <a:pt x="440" y="137"/>
                      </a:lnTo>
                      <a:lnTo>
                        <a:pt x="233" y="57"/>
                      </a:lnTo>
                      <a:lnTo>
                        <a:pt x="48" y="0"/>
                      </a:lnTo>
                      <a:lnTo>
                        <a:pt x="114" y="57"/>
                      </a:lnTo>
                      <a:lnTo>
                        <a:pt x="141" y="168"/>
                      </a:lnTo>
                      <a:lnTo>
                        <a:pt x="141" y="247"/>
                      </a:lnTo>
                      <a:lnTo>
                        <a:pt x="141" y="305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749840" y="4254480"/>
                  <a:ext cx="914760" cy="1829160"/>
                </a:xfrm>
                <a:custGeom>
                  <a:avLst/>
                  <a:gdLst/>
                  <a:ahLst/>
                  <a:rect l="0" t="0" r="r" b="b"/>
                  <a:pathLst>
                    <a:path w="2541" h="5081">
                      <a:moveTo>
                        <a:pt x="2541" y="361"/>
                      </a:moveTo>
                      <a:lnTo>
                        <a:pt x="2448" y="251"/>
                      </a:lnTo>
                      <a:lnTo>
                        <a:pt x="2399" y="83"/>
                      </a:lnTo>
                      <a:lnTo>
                        <a:pt x="2329" y="26"/>
                      </a:lnTo>
                      <a:lnTo>
                        <a:pt x="2263" y="26"/>
                      </a:lnTo>
                      <a:lnTo>
                        <a:pt x="2100" y="0"/>
                      </a:lnTo>
                      <a:lnTo>
                        <a:pt x="2029" y="0"/>
                      </a:lnTo>
                      <a:lnTo>
                        <a:pt x="1958" y="0"/>
                      </a:lnTo>
                      <a:lnTo>
                        <a:pt x="1888" y="26"/>
                      </a:lnTo>
                      <a:lnTo>
                        <a:pt x="1817" y="57"/>
                      </a:lnTo>
                      <a:lnTo>
                        <a:pt x="1747" y="136"/>
                      </a:lnTo>
                      <a:lnTo>
                        <a:pt x="1676" y="167"/>
                      </a:lnTo>
                      <a:lnTo>
                        <a:pt x="1584" y="220"/>
                      </a:lnTo>
                      <a:lnTo>
                        <a:pt x="1513" y="251"/>
                      </a:lnTo>
                      <a:lnTo>
                        <a:pt x="1447" y="277"/>
                      </a:lnTo>
                      <a:lnTo>
                        <a:pt x="1376" y="304"/>
                      </a:lnTo>
                      <a:lnTo>
                        <a:pt x="1306" y="335"/>
                      </a:lnTo>
                      <a:lnTo>
                        <a:pt x="1234" y="361"/>
                      </a:lnTo>
                      <a:lnTo>
                        <a:pt x="1142" y="388"/>
                      </a:lnTo>
                      <a:lnTo>
                        <a:pt x="1071" y="445"/>
                      </a:lnTo>
                      <a:lnTo>
                        <a:pt x="1027" y="529"/>
                      </a:lnTo>
                      <a:lnTo>
                        <a:pt x="978" y="608"/>
                      </a:lnTo>
                      <a:lnTo>
                        <a:pt x="956" y="692"/>
                      </a:lnTo>
                      <a:lnTo>
                        <a:pt x="930" y="776"/>
                      </a:lnTo>
                      <a:lnTo>
                        <a:pt x="886" y="859"/>
                      </a:lnTo>
                      <a:lnTo>
                        <a:pt x="864" y="943"/>
                      </a:lnTo>
                      <a:lnTo>
                        <a:pt x="815" y="1027"/>
                      </a:lnTo>
                      <a:lnTo>
                        <a:pt x="745" y="1053"/>
                      </a:lnTo>
                      <a:lnTo>
                        <a:pt x="674" y="1111"/>
                      </a:lnTo>
                      <a:lnTo>
                        <a:pt x="604" y="1164"/>
                      </a:lnTo>
                      <a:lnTo>
                        <a:pt x="511" y="1221"/>
                      </a:lnTo>
                      <a:lnTo>
                        <a:pt x="440" y="1305"/>
                      </a:lnTo>
                      <a:lnTo>
                        <a:pt x="396" y="1389"/>
                      </a:lnTo>
                      <a:lnTo>
                        <a:pt x="374" y="1472"/>
                      </a:lnTo>
                      <a:lnTo>
                        <a:pt x="374" y="1556"/>
                      </a:lnTo>
                      <a:lnTo>
                        <a:pt x="374" y="1636"/>
                      </a:lnTo>
                      <a:lnTo>
                        <a:pt x="374" y="1719"/>
                      </a:lnTo>
                      <a:lnTo>
                        <a:pt x="374" y="1803"/>
                      </a:lnTo>
                      <a:lnTo>
                        <a:pt x="374" y="1887"/>
                      </a:lnTo>
                      <a:lnTo>
                        <a:pt x="374" y="1971"/>
                      </a:lnTo>
                      <a:lnTo>
                        <a:pt x="396" y="2054"/>
                      </a:lnTo>
                      <a:lnTo>
                        <a:pt x="467" y="2301"/>
                      </a:lnTo>
                      <a:lnTo>
                        <a:pt x="489" y="2385"/>
                      </a:lnTo>
                      <a:lnTo>
                        <a:pt x="511" y="2469"/>
                      </a:lnTo>
                      <a:lnTo>
                        <a:pt x="511" y="2554"/>
                      </a:lnTo>
                      <a:lnTo>
                        <a:pt x="511" y="2638"/>
                      </a:lnTo>
                      <a:lnTo>
                        <a:pt x="511" y="2721"/>
                      </a:lnTo>
                      <a:lnTo>
                        <a:pt x="511" y="2805"/>
                      </a:lnTo>
                      <a:lnTo>
                        <a:pt x="489" y="2889"/>
                      </a:lnTo>
                      <a:lnTo>
                        <a:pt x="467" y="2973"/>
                      </a:lnTo>
                      <a:lnTo>
                        <a:pt x="440" y="3052"/>
                      </a:lnTo>
                      <a:lnTo>
                        <a:pt x="418" y="3136"/>
                      </a:lnTo>
                      <a:lnTo>
                        <a:pt x="418" y="3220"/>
                      </a:lnTo>
                      <a:lnTo>
                        <a:pt x="418" y="3303"/>
                      </a:lnTo>
                      <a:lnTo>
                        <a:pt x="418" y="3387"/>
                      </a:lnTo>
                      <a:lnTo>
                        <a:pt x="418" y="3471"/>
                      </a:lnTo>
                      <a:lnTo>
                        <a:pt x="418" y="3555"/>
                      </a:lnTo>
                      <a:lnTo>
                        <a:pt x="418" y="3639"/>
                      </a:lnTo>
                      <a:lnTo>
                        <a:pt x="396" y="3722"/>
                      </a:lnTo>
                      <a:lnTo>
                        <a:pt x="374" y="3802"/>
                      </a:lnTo>
                      <a:lnTo>
                        <a:pt x="304" y="3859"/>
                      </a:lnTo>
                      <a:lnTo>
                        <a:pt x="277" y="3943"/>
                      </a:lnTo>
                      <a:lnTo>
                        <a:pt x="233" y="4027"/>
                      </a:lnTo>
                      <a:lnTo>
                        <a:pt x="185" y="4110"/>
                      </a:lnTo>
                      <a:lnTo>
                        <a:pt x="114" y="4163"/>
                      </a:lnTo>
                      <a:lnTo>
                        <a:pt x="92" y="4247"/>
                      </a:lnTo>
                      <a:lnTo>
                        <a:pt x="48" y="4331"/>
                      </a:lnTo>
                      <a:lnTo>
                        <a:pt x="48" y="4415"/>
                      </a:lnTo>
                      <a:lnTo>
                        <a:pt x="22" y="4498"/>
                      </a:lnTo>
                      <a:lnTo>
                        <a:pt x="0" y="4582"/>
                      </a:lnTo>
                      <a:lnTo>
                        <a:pt x="0" y="4666"/>
                      </a:lnTo>
                      <a:lnTo>
                        <a:pt x="0" y="4745"/>
                      </a:lnTo>
                      <a:lnTo>
                        <a:pt x="22" y="4829"/>
                      </a:lnTo>
                      <a:lnTo>
                        <a:pt x="48" y="4913"/>
                      </a:lnTo>
                      <a:lnTo>
                        <a:pt x="92" y="4997"/>
                      </a:lnTo>
                      <a:lnTo>
                        <a:pt x="277" y="5023"/>
                      </a:lnTo>
                      <a:lnTo>
                        <a:pt x="440" y="5054"/>
                      </a:lnTo>
                      <a:lnTo>
                        <a:pt x="511" y="5081"/>
                      </a:lnTo>
                      <a:lnTo>
                        <a:pt x="582" y="5081"/>
                      </a:lnTo>
                      <a:lnTo>
                        <a:pt x="864" y="5081"/>
                      </a:lnTo>
                      <a:lnTo>
                        <a:pt x="930" y="5081"/>
                      </a:lnTo>
                      <a:lnTo>
                        <a:pt x="1027" y="5081"/>
                      </a:lnTo>
                      <a:lnTo>
                        <a:pt x="1120" y="5054"/>
                      </a:lnTo>
                      <a:lnTo>
                        <a:pt x="1190" y="5023"/>
                      </a:lnTo>
                      <a:lnTo>
                        <a:pt x="1234" y="4944"/>
                      </a:lnTo>
                      <a:lnTo>
                        <a:pt x="1256" y="4860"/>
                      </a:lnTo>
                      <a:lnTo>
                        <a:pt x="1328" y="4776"/>
                      </a:lnTo>
                      <a:lnTo>
                        <a:pt x="1376" y="4692"/>
                      </a:lnTo>
                      <a:lnTo>
                        <a:pt x="1420" y="4609"/>
                      </a:lnTo>
                      <a:lnTo>
                        <a:pt x="1420" y="4525"/>
                      </a:lnTo>
                      <a:lnTo>
                        <a:pt x="1420" y="4388"/>
                      </a:lnTo>
                      <a:lnTo>
                        <a:pt x="1284" y="4331"/>
                      </a:lnTo>
                      <a:lnTo>
                        <a:pt x="1093" y="4274"/>
                      </a:lnTo>
                      <a:lnTo>
                        <a:pt x="1027" y="4304"/>
                      </a:lnTo>
                      <a:lnTo>
                        <a:pt x="956" y="4331"/>
                      </a:lnTo>
                      <a:lnTo>
                        <a:pt x="886" y="4388"/>
                      </a:lnTo>
                      <a:lnTo>
                        <a:pt x="723" y="4388"/>
                      </a:lnTo>
                      <a:lnTo>
                        <a:pt x="537" y="4388"/>
                      </a:lnTo>
                      <a:lnTo>
                        <a:pt x="467" y="4415"/>
                      </a:lnTo>
                      <a:lnTo>
                        <a:pt x="374" y="4441"/>
                      </a:lnTo>
                      <a:lnTo>
                        <a:pt x="326" y="4719"/>
                      </a:lnTo>
                      <a:lnTo>
                        <a:pt x="396" y="4692"/>
                      </a:lnTo>
                      <a:lnTo>
                        <a:pt x="467" y="4666"/>
                      </a:lnTo>
                      <a:lnTo>
                        <a:pt x="537" y="4635"/>
                      </a:lnTo>
                      <a:lnTo>
                        <a:pt x="604" y="4609"/>
                      </a:lnTo>
                      <a:lnTo>
                        <a:pt x="701" y="4582"/>
                      </a:lnTo>
                      <a:lnTo>
                        <a:pt x="767" y="4582"/>
                      </a:lnTo>
                      <a:lnTo>
                        <a:pt x="837" y="4582"/>
                      </a:lnTo>
                      <a:lnTo>
                        <a:pt x="908" y="4582"/>
                      </a:lnTo>
                      <a:lnTo>
                        <a:pt x="978" y="4635"/>
                      </a:lnTo>
                      <a:lnTo>
                        <a:pt x="1001" y="4719"/>
                      </a:lnTo>
                      <a:lnTo>
                        <a:pt x="930" y="4776"/>
                      </a:lnTo>
                      <a:lnTo>
                        <a:pt x="864" y="4803"/>
                      </a:lnTo>
                      <a:lnTo>
                        <a:pt x="793" y="4803"/>
                      </a:lnTo>
                      <a:lnTo>
                        <a:pt x="723" y="4803"/>
                      </a:lnTo>
                      <a:lnTo>
                        <a:pt x="652" y="4776"/>
                      </a:lnTo>
                      <a:lnTo>
                        <a:pt x="560" y="4719"/>
                      </a:lnTo>
                      <a:lnTo>
                        <a:pt x="467" y="4745"/>
                      </a:lnTo>
                      <a:lnTo>
                        <a:pt x="326" y="4745"/>
                      </a:lnTo>
                      <a:lnTo>
                        <a:pt x="326" y="4498"/>
                      </a:lnTo>
                      <a:lnTo>
                        <a:pt x="467" y="4388"/>
                      </a:lnTo>
                      <a:lnTo>
                        <a:pt x="489" y="4304"/>
                      </a:lnTo>
                      <a:lnTo>
                        <a:pt x="537" y="4221"/>
                      </a:lnTo>
                      <a:lnTo>
                        <a:pt x="537" y="4137"/>
                      </a:lnTo>
                      <a:lnTo>
                        <a:pt x="560" y="4053"/>
                      </a:lnTo>
                      <a:lnTo>
                        <a:pt x="604" y="3969"/>
                      </a:lnTo>
                      <a:lnTo>
                        <a:pt x="652" y="3885"/>
                      </a:lnTo>
                      <a:lnTo>
                        <a:pt x="674" y="3802"/>
                      </a:lnTo>
                      <a:lnTo>
                        <a:pt x="674" y="3722"/>
                      </a:lnTo>
                      <a:lnTo>
                        <a:pt x="674" y="3639"/>
                      </a:lnTo>
                      <a:lnTo>
                        <a:pt x="701" y="3555"/>
                      </a:lnTo>
                      <a:lnTo>
                        <a:pt x="701" y="3471"/>
                      </a:lnTo>
                      <a:lnTo>
                        <a:pt x="723" y="3387"/>
                      </a:lnTo>
                      <a:lnTo>
                        <a:pt x="745" y="3303"/>
                      </a:lnTo>
                      <a:lnTo>
                        <a:pt x="767" y="3220"/>
                      </a:lnTo>
                      <a:lnTo>
                        <a:pt x="793" y="3136"/>
                      </a:lnTo>
                      <a:lnTo>
                        <a:pt x="815" y="3052"/>
                      </a:lnTo>
                      <a:lnTo>
                        <a:pt x="815" y="2973"/>
                      </a:lnTo>
                      <a:lnTo>
                        <a:pt x="837" y="2889"/>
                      </a:lnTo>
                      <a:lnTo>
                        <a:pt x="837" y="2805"/>
                      </a:lnTo>
                      <a:lnTo>
                        <a:pt x="815" y="2721"/>
                      </a:lnTo>
                      <a:lnTo>
                        <a:pt x="815" y="2638"/>
                      </a:lnTo>
                      <a:lnTo>
                        <a:pt x="815" y="2554"/>
                      </a:lnTo>
                      <a:lnTo>
                        <a:pt x="815" y="2469"/>
                      </a:lnTo>
                      <a:lnTo>
                        <a:pt x="815" y="2385"/>
                      </a:lnTo>
                      <a:lnTo>
                        <a:pt x="793" y="2301"/>
                      </a:lnTo>
                      <a:lnTo>
                        <a:pt x="767" y="2222"/>
                      </a:lnTo>
                      <a:lnTo>
                        <a:pt x="767" y="1997"/>
                      </a:lnTo>
                      <a:lnTo>
                        <a:pt x="745" y="1887"/>
                      </a:lnTo>
                      <a:lnTo>
                        <a:pt x="745" y="1803"/>
                      </a:lnTo>
                      <a:lnTo>
                        <a:pt x="767" y="1719"/>
                      </a:lnTo>
                      <a:lnTo>
                        <a:pt x="815" y="1609"/>
                      </a:lnTo>
                      <a:lnTo>
                        <a:pt x="837" y="1525"/>
                      </a:lnTo>
                      <a:lnTo>
                        <a:pt x="908" y="1441"/>
                      </a:lnTo>
                      <a:lnTo>
                        <a:pt x="978" y="1358"/>
                      </a:lnTo>
                      <a:lnTo>
                        <a:pt x="1049" y="1278"/>
                      </a:lnTo>
                      <a:lnTo>
                        <a:pt x="1120" y="1195"/>
                      </a:lnTo>
                      <a:lnTo>
                        <a:pt x="1142" y="1111"/>
                      </a:lnTo>
                      <a:lnTo>
                        <a:pt x="1164" y="1027"/>
                      </a:lnTo>
                      <a:lnTo>
                        <a:pt x="1190" y="943"/>
                      </a:lnTo>
                      <a:lnTo>
                        <a:pt x="1234" y="859"/>
                      </a:lnTo>
                      <a:lnTo>
                        <a:pt x="1284" y="776"/>
                      </a:lnTo>
                      <a:lnTo>
                        <a:pt x="1350" y="692"/>
                      </a:lnTo>
                      <a:lnTo>
                        <a:pt x="1420" y="608"/>
                      </a:lnTo>
                      <a:lnTo>
                        <a:pt x="1491" y="555"/>
                      </a:lnTo>
                      <a:lnTo>
                        <a:pt x="1562" y="529"/>
                      </a:lnTo>
                      <a:lnTo>
                        <a:pt x="1632" y="471"/>
                      </a:lnTo>
                      <a:lnTo>
                        <a:pt x="1703" y="471"/>
                      </a:lnTo>
                      <a:lnTo>
                        <a:pt x="1839" y="471"/>
                      </a:lnTo>
                      <a:lnTo>
                        <a:pt x="1910" y="471"/>
                      </a:lnTo>
                      <a:lnTo>
                        <a:pt x="1980" y="471"/>
                      </a:lnTo>
                      <a:lnTo>
                        <a:pt x="2166" y="445"/>
                      </a:lnTo>
                      <a:lnTo>
                        <a:pt x="2263" y="445"/>
                      </a:lnTo>
                      <a:lnTo>
                        <a:pt x="2307" y="529"/>
                      </a:lnTo>
                      <a:lnTo>
                        <a:pt x="2377" y="582"/>
                      </a:lnTo>
                      <a:lnTo>
                        <a:pt x="2448" y="555"/>
                      </a:lnTo>
                      <a:lnTo>
                        <a:pt x="2470" y="471"/>
                      </a:lnTo>
                      <a:lnTo>
                        <a:pt x="2541" y="36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5075280" y="4398840"/>
                <a:ext cx="222480" cy="223920"/>
              </a:xfrm>
              <a:custGeom>
                <a:avLst/>
                <a:gdLst/>
                <a:ahLst/>
                <a:rect l="0" t="0" r="r" b="b"/>
                <a:pathLst>
                  <a:path w="618" h="622">
                    <a:moveTo>
                      <a:pt x="0" y="297"/>
                    </a:moveTo>
                    <a:lnTo>
                      <a:pt x="0" y="297"/>
                    </a:lnTo>
                    <a:cubicBezTo>
                      <a:pt x="0" y="298"/>
                      <a:pt x="0" y="299"/>
                      <a:pt x="0" y="300"/>
                    </a:cubicBezTo>
                    <a:cubicBezTo>
                      <a:pt x="-2" y="355"/>
                      <a:pt x="10" y="409"/>
                      <a:pt x="36" y="457"/>
                    </a:cubicBezTo>
                    <a:cubicBezTo>
                      <a:pt x="61" y="505"/>
                      <a:pt x="99" y="546"/>
                      <a:pt x="145" y="575"/>
                    </a:cubicBezTo>
                    <a:cubicBezTo>
                      <a:pt x="191" y="604"/>
                      <a:pt x="244" y="620"/>
                      <a:pt x="298" y="622"/>
                    </a:cubicBezTo>
                    <a:cubicBezTo>
                      <a:pt x="352" y="624"/>
                      <a:pt x="406" y="611"/>
                      <a:pt x="454" y="586"/>
                    </a:cubicBezTo>
                    <a:cubicBezTo>
                      <a:pt x="502" y="560"/>
                      <a:pt x="542" y="522"/>
                      <a:pt x="571" y="476"/>
                    </a:cubicBezTo>
                    <a:cubicBezTo>
                      <a:pt x="600" y="430"/>
                      <a:pt x="616" y="378"/>
                      <a:pt x="618" y="325"/>
                    </a:cubicBezTo>
                    <a:lnTo>
                      <a:pt x="618" y="325"/>
                    </a:lnTo>
                    <a:cubicBezTo>
                      <a:pt x="618" y="324"/>
                      <a:pt x="618" y="323"/>
                      <a:pt x="618" y="322"/>
                    </a:cubicBezTo>
                    <a:cubicBezTo>
                      <a:pt x="620" y="267"/>
                      <a:pt x="608" y="213"/>
                      <a:pt x="582" y="165"/>
                    </a:cubicBezTo>
                    <a:cubicBezTo>
                      <a:pt x="557" y="117"/>
                      <a:pt x="519" y="76"/>
                      <a:pt x="473" y="47"/>
                    </a:cubicBezTo>
                    <a:cubicBezTo>
                      <a:pt x="427" y="18"/>
                      <a:pt x="374" y="2"/>
                      <a:pt x="320" y="0"/>
                    </a:cubicBezTo>
                    <a:cubicBezTo>
                      <a:pt x="266" y="-2"/>
                      <a:pt x="212" y="11"/>
                      <a:pt x="164" y="36"/>
                    </a:cubicBezTo>
                    <a:cubicBezTo>
                      <a:pt x="116" y="62"/>
                      <a:pt x="76" y="100"/>
                      <a:pt x="47" y="146"/>
                    </a:cubicBezTo>
                    <a:cubicBezTo>
                      <a:pt x="18" y="192"/>
                      <a:pt x="2" y="244"/>
                      <a:pt x="0" y="2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5592600" y="3502080"/>
                <a:ext cx="654480" cy="1046520"/>
                <a:chOff x="5592600" y="3502080"/>
                <a:chExt cx="654480" cy="10465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592600" y="4325760"/>
                  <a:ext cx="222480" cy="222840"/>
                </a:xfrm>
                <a:custGeom>
                  <a:avLst/>
                  <a:gdLst/>
                  <a:ahLst/>
                  <a:rect l="0" t="0" r="r" b="b"/>
                  <a:pathLst>
                    <a:path w="618" h="619">
                      <a:moveTo>
                        <a:pt x="44" y="150"/>
                      </a:moveTo>
                      <a:lnTo>
                        <a:pt x="44" y="150"/>
                      </a:lnTo>
                      <a:lnTo>
                        <a:pt x="44" y="150"/>
                      </a:lnTo>
                      <a:cubicBezTo>
                        <a:pt x="16" y="197"/>
                        <a:pt x="1" y="250"/>
                        <a:pt x="0" y="304"/>
                      </a:cubicBezTo>
                      <a:cubicBezTo>
                        <a:pt x="-1" y="358"/>
                        <a:pt x="12" y="412"/>
                        <a:pt x="39" y="459"/>
                      </a:cubicBezTo>
                      <a:cubicBezTo>
                        <a:pt x="65" y="507"/>
                        <a:pt x="103" y="547"/>
                        <a:pt x="150" y="574"/>
                      </a:cubicBezTo>
                      <a:cubicBezTo>
                        <a:pt x="196" y="602"/>
                        <a:pt x="249" y="618"/>
                        <a:pt x="304" y="619"/>
                      </a:cubicBezTo>
                      <a:cubicBezTo>
                        <a:pt x="358" y="620"/>
                        <a:pt x="411" y="606"/>
                        <a:pt x="459" y="580"/>
                      </a:cubicBezTo>
                      <a:cubicBezTo>
                        <a:pt x="506" y="554"/>
                        <a:pt x="546" y="515"/>
                        <a:pt x="574" y="469"/>
                      </a:cubicBezTo>
                      <a:lnTo>
                        <a:pt x="574" y="469"/>
                      </a:lnTo>
                      <a:lnTo>
                        <a:pt x="574" y="469"/>
                      </a:lnTo>
                      <a:cubicBezTo>
                        <a:pt x="602" y="422"/>
                        <a:pt x="617" y="369"/>
                        <a:pt x="618" y="315"/>
                      </a:cubicBezTo>
                      <a:cubicBezTo>
                        <a:pt x="619" y="261"/>
                        <a:pt x="606" y="207"/>
                        <a:pt x="579" y="160"/>
                      </a:cubicBezTo>
                      <a:cubicBezTo>
                        <a:pt x="553" y="112"/>
                        <a:pt x="515" y="72"/>
                        <a:pt x="468" y="45"/>
                      </a:cubicBezTo>
                      <a:cubicBezTo>
                        <a:pt x="422" y="17"/>
                        <a:pt x="369" y="1"/>
                        <a:pt x="314" y="0"/>
                      </a:cubicBezTo>
                      <a:cubicBezTo>
                        <a:pt x="260" y="-1"/>
                        <a:pt x="207" y="13"/>
                        <a:pt x="159" y="39"/>
                      </a:cubicBezTo>
                      <a:cubicBezTo>
                        <a:pt x="112" y="65"/>
                        <a:pt x="72" y="104"/>
                        <a:pt x="44" y="15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97360" y="3502080"/>
                  <a:ext cx="549720" cy="933840"/>
                </a:xfrm>
                <a:custGeom>
                  <a:avLst/>
                  <a:gdLst/>
                  <a:ahLst/>
                  <a:rect l="0" t="0" r="r" b="b"/>
                  <a:pathLst>
                    <a:path w="1527" h="2594">
                      <a:moveTo>
                        <a:pt x="521" y="97"/>
                      </a:moveTo>
                      <a:lnTo>
                        <a:pt x="481" y="317"/>
                      </a:lnTo>
                      <a:lnTo>
                        <a:pt x="710" y="918"/>
                      </a:lnTo>
                      <a:lnTo>
                        <a:pt x="852" y="1385"/>
                      </a:lnTo>
                      <a:lnTo>
                        <a:pt x="0" y="2189"/>
                      </a:lnTo>
                      <a:lnTo>
                        <a:pt x="503" y="2594"/>
                      </a:lnTo>
                      <a:lnTo>
                        <a:pt x="1527" y="1473"/>
                      </a:lnTo>
                      <a:lnTo>
                        <a:pt x="1063" y="282"/>
                      </a:lnTo>
                      <a:lnTo>
                        <a:pt x="882" y="30"/>
                      </a:lnTo>
                      <a:lnTo>
                        <a:pt x="658" y="0"/>
                      </a:lnTo>
                      <a:lnTo>
                        <a:pt x="521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7" name=""/>
            <p:cNvGrpSpPr/>
            <p:nvPr/>
          </p:nvGrpSpPr>
          <p:grpSpPr>
            <a:xfrm>
              <a:off x="2692440" y="1917720"/>
              <a:ext cx="1622880" cy="4254840"/>
              <a:chOff x="2692440" y="1917720"/>
              <a:chExt cx="1622880" cy="4254840"/>
            </a:xfrm>
          </p:grpSpPr>
          <p:sp>
            <p:nvSpPr>
              <p:cNvPr id="548" name=""/>
              <p:cNvSpPr/>
              <p:nvPr/>
            </p:nvSpPr>
            <p:spPr>
              <a:xfrm>
                <a:off x="3532320" y="3568680"/>
                <a:ext cx="574920" cy="844920"/>
              </a:xfrm>
              <a:custGeom>
                <a:avLst/>
                <a:gdLst/>
                <a:ahLst/>
                <a:rect l="0" t="0" r="r" b="b"/>
                <a:pathLst>
                  <a:path w="1597" h="2347">
                    <a:moveTo>
                      <a:pt x="0" y="251"/>
                    </a:moveTo>
                    <a:lnTo>
                      <a:pt x="92" y="458"/>
                    </a:lnTo>
                    <a:lnTo>
                      <a:pt x="612" y="834"/>
                    </a:lnTo>
                    <a:lnTo>
                      <a:pt x="988" y="1143"/>
                    </a:lnTo>
                    <a:lnTo>
                      <a:pt x="718" y="2286"/>
                    </a:lnTo>
                    <a:lnTo>
                      <a:pt x="1363" y="2347"/>
                    </a:lnTo>
                    <a:lnTo>
                      <a:pt x="1597" y="847"/>
                    </a:lnTo>
                    <a:lnTo>
                      <a:pt x="555" y="110"/>
                    </a:lnTo>
                    <a:lnTo>
                      <a:pt x="268" y="0"/>
                    </a:lnTo>
                    <a:lnTo>
                      <a:pt x="61" y="97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2692440" y="4562640"/>
                <a:ext cx="1335240" cy="1609920"/>
                <a:chOff x="2692440" y="4562640"/>
                <a:chExt cx="1335240" cy="16099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112920" y="4562640"/>
                  <a:ext cx="579960" cy="1486440"/>
                </a:xfrm>
                <a:custGeom>
                  <a:avLst/>
                  <a:gdLst/>
                  <a:ahLst/>
                  <a:rect l="0" t="0" r="r" b="b"/>
                  <a:pathLst>
                    <a:path w="1611" h="4129">
                      <a:moveTo>
                        <a:pt x="1611" y="0"/>
                      </a:moveTo>
                      <a:lnTo>
                        <a:pt x="1329" y="4129"/>
                      </a:lnTo>
                      <a:lnTo>
                        <a:pt x="697" y="4129"/>
                      </a:lnTo>
                      <a:lnTo>
                        <a:pt x="790" y="1121"/>
                      </a:lnTo>
                      <a:lnTo>
                        <a:pt x="697" y="4129"/>
                      </a:lnTo>
                      <a:lnTo>
                        <a:pt x="0" y="4129"/>
                      </a:lnTo>
                      <a:lnTo>
                        <a:pt x="66" y="26"/>
                      </a:lnTo>
                      <a:lnTo>
                        <a:pt x="16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6384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630" y="159"/>
                      </a:moveTo>
                      <a:lnTo>
                        <a:pt x="979" y="44"/>
                      </a:lnTo>
                      <a:lnTo>
                        <a:pt x="1213" y="0"/>
                      </a:lnTo>
                      <a:lnTo>
                        <a:pt x="1469" y="92"/>
                      </a:lnTo>
                      <a:lnTo>
                        <a:pt x="1729" y="230"/>
                      </a:lnTo>
                      <a:lnTo>
                        <a:pt x="1844" y="412"/>
                      </a:lnTo>
                      <a:lnTo>
                        <a:pt x="1681" y="504"/>
                      </a:lnTo>
                      <a:lnTo>
                        <a:pt x="0" y="504"/>
                      </a:lnTo>
                      <a:lnTo>
                        <a:pt x="0" y="159"/>
                      </a:lnTo>
                      <a:lnTo>
                        <a:pt x="630" y="1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692440" y="5991120"/>
                  <a:ext cx="663840" cy="181440"/>
                </a:xfrm>
                <a:custGeom>
                  <a:avLst/>
                  <a:gdLst/>
                  <a:ahLst/>
                  <a:rect l="0" t="0" r="r" b="b"/>
                  <a:pathLst>
                    <a:path w="1844" h="504">
                      <a:moveTo>
                        <a:pt x="1213" y="159"/>
                      </a:moveTo>
                      <a:lnTo>
                        <a:pt x="864" y="44"/>
                      </a:lnTo>
                      <a:lnTo>
                        <a:pt x="630" y="0"/>
                      </a:lnTo>
                      <a:lnTo>
                        <a:pt x="374" y="92"/>
                      </a:lnTo>
                      <a:lnTo>
                        <a:pt x="114" y="230"/>
                      </a:lnTo>
                      <a:lnTo>
                        <a:pt x="0" y="412"/>
                      </a:lnTo>
                      <a:lnTo>
                        <a:pt x="163" y="504"/>
                      </a:lnTo>
                      <a:lnTo>
                        <a:pt x="1844" y="504"/>
                      </a:lnTo>
                      <a:lnTo>
                        <a:pt x="1844" y="159"/>
                      </a:lnTo>
                      <a:lnTo>
                        <a:pt x="1213" y="1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2935440" y="3359160"/>
                <a:ext cx="867240" cy="1378440"/>
              </a:xfrm>
              <a:custGeom>
                <a:avLst/>
                <a:gdLst/>
                <a:ahLst/>
                <a:rect l="0" t="0" r="r" b="b"/>
                <a:pathLst>
                  <a:path w="2409" h="3829">
                    <a:moveTo>
                      <a:pt x="1566" y="321"/>
                    </a:moveTo>
                    <a:lnTo>
                      <a:pt x="1645" y="335"/>
                    </a:lnTo>
                    <a:lnTo>
                      <a:pt x="1703" y="374"/>
                    </a:lnTo>
                    <a:lnTo>
                      <a:pt x="1814" y="502"/>
                    </a:lnTo>
                    <a:lnTo>
                      <a:pt x="1933" y="621"/>
                    </a:lnTo>
                    <a:lnTo>
                      <a:pt x="2065" y="732"/>
                    </a:lnTo>
                    <a:lnTo>
                      <a:pt x="2083" y="767"/>
                    </a:lnTo>
                    <a:lnTo>
                      <a:pt x="2105" y="802"/>
                    </a:lnTo>
                    <a:lnTo>
                      <a:pt x="2105" y="802"/>
                    </a:lnTo>
                    <a:lnTo>
                      <a:pt x="2083" y="802"/>
                    </a:lnTo>
                    <a:lnTo>
                      <a:pt x="2277" y="1337"/>
                    </a:lnTo>
                    <a:lnTo>
                      <a:pt x="2409" y="3741"/>
                    </a:lnTo>
                    <a:lnTo>
                      <a:pt x="0" y="3829"/>
                    </a:lnTo>
                    <a:lnTo>
                      <a:pt x="361" y="1588"/>
                    </a:lnTo>
                    <a:lnTo>
                      <a:pt x="533" y="357"/>
                    </a:lnTo>
                    <a:lnTo>
                      <a:pt x="1187" y="0"/>
                    </a:lnTo>
                    <a:lnTo>
                      <a:pt x="1566" y="321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95720" y="4241880"/>
                <a:ext cx="375120" cy="555840"/>
              </a:xfrm>
              <a:custGeom>
                <a:avLst/>
                <a:gdLst/>
                <a:ahLst/>
                <a:rect l="0" t="0" r="r" b="b"/>
                <a:pathLst>
                  <a:path w="1042" h="1544">
                    <a:moveTo>
                      <a:pt x="777" y="61"/>
                    </a:moveTo>
                    <a:lnTo>
                      <a:pt x="724" y="22"/>
                    </a:lnTo>
                    <a:lnTo>
                      <a:pt x="671" y="0"/>
                    </a:lnTo>
                    <a:lnTo>
                      <a:pt x="618" y="22"/>
                    </a:lnTo>
                    <a:lnTo>
                      <a:pt x="534" y="39"/>
                    </a:lnTo>
                    <a:lnTo>
                      <a:pt x="402" y="0"/>
                    </a:lnTo>
                    <a:lnTo>
                      <a:pt x="349" y="0"/>
                    </a:lnTo>
                    <a:lnTo>
                      <a:pt x="265" y="0"/>
                    </a:lnTo>
                    <a:lnTo>
                      <a:pt x="265" y="61"/>
                    </a:lnTo>
                    <a:lnTo>
                      <a:pt x="265" y="79"/>
                    </a:lnTo>
                    <a:lnTo>
                      <a:pt x="349" y="141"/>
                    </a:lnTo>
                    <a:lnTo>
                      <a:pt x="318" y="224"/>
                    </a:lnTo>
                    <a:lnTo>
                      <a:pt x="318" y="286"/>
                    </a:lnTo>
                    <a:lnTo>
                      <a:pt x="265" y="326"/>
                    </a:lnTo>
                    <a:lnTo>
                      <a:pt x="211" y="388"/>
                    </a:lnTo>
                    <a:lnTo>
                      <a:pt x="242" y="529"/>
                    </a:lnTo>
                    <a:lnTo>
                      <a:pt x="296" y="630"/>
                    </a:lnTo>
                    <a:lnTo>
                      <a:pt x="242" y="692"/>
                    </a:lnTo>
                    <a:lnTo>
                      <a:pt x="158" y="771"/>
                    </a:lnTo>
                    <a:lnTo>
                      <a:pt x="79" y="852"/>
                    </a:lnTo>
                    <a:lnTo>
                      <a:pt x="52" y="913"/>
                    </a:lnTo>
                    <a:lnTo>
                      <a:pt x="26" y="975"/>
                    </a:lnTo>
                    <a:lnTo>
                      <a:pt x="0" y="1015"/>
                    </a:lnTo>
                    <a:lnTo>
                      <a:pt x="0" y="1015"/>
                    </a:lnTo>
                    <a:lnTo>
                      <a:pt x="26" y="1160"/>
                    </a:lnTo>
                    <a:lnTo>
                      <a:pt x="52" y="1279"/>
                    </a:lnTo>
                    <a:lnTo>
                      <a:pt x="79" y="1403"/>
                    </a:lnTo>
                    <a:lnTo>
                      <a:pt x="136" y="1544"/>
                    </a:lnTo>
                    <a:lnTo>
                      <a:pt x="136" y="1504"/>
                    </a:lnTo>
                    <a:lnTo>
                      <a:pt x="136" y="1465"/>
                    </a:lnTo>
                    <a:lnTo>
                      <a:pt x="105" y="1420"/>
                    </a:lnTo>
                    <a:lnTo>
                      <a:pt x="105" y="1403"/>
                    </a:lnTo>
                    <a:lnTo>
                      <a:pt x="136" y="1341"/>
                    </a:lnTo>
                    <a:lnTo>
                      <a:pt x="158" y="1262"/>
                    </a:lnTo>
                    <a:lnTo>
                      <a:pt x="136" y="1200"/>
                    </a:lnTo>
                    <a:lnTo>
                      <a:pt x="105" y="1178"/>
                    </a:lnTo>
                    <a:lnTo>
                      <a:pt x="105" y="1160"/>
                    </a:lnTo>
                    <a:lnTo>
                      <a:pt x="136" y="1037"/>
                    </a:lnTo>
                    <a:lnTo>
                      <a:pt x="189" y="975"/>
                    </a:lnTo>
                    <a:lnTo>
                      <a:pt x="242" y="935"/>
                    </a:lnTo>
                    <a:lnTo>
                      <a:pt x="296" y="874"/>
                    </a:lnTo>
                    <a:lnTo>
                      <a:pt x="349" y="812"/>
                    </a:lnTo>
                    <a:lnTo>
                      <a:pt x="402" y="852"/>
                    </a:lnTo>
                    <a:lnTo>
                      <a:pt x="455" y="874"/>
                    </a:lnTo>
                    <a:lnTo>
                      <a:pt x="508" y="896"/>
                    </a:lnTo>
                    <a:lnTo>
                      <a:pt x="534" y="913"/>
                    </a:lnTo>
                    <a:lnTo>
                      <a:pt x="561" y="913"/>
                    </a:lnTo>
                    <a:lnTo>
                      <a:pt x="561" y="834"/>
                    </a:lnTo>
                    <a:lnTo>
                      <a:pt x="561" y="812"/>
                    </a:lnTo>
                    <a:lnTo>
                      <a:pt x="561" y="794"/>
                    </a:lnTo>
                    <a:lnTo>
                      <a:pt x="534" y="749"/>
                    </a:lnTo>
                    <a:lnTo>
                      <a:pt x="508" y="709"/>
                    </a:lnTo>
                    <a:lnTo>
                      <a:pt x="508" y="709"/>
                    </a:lnTo>
                    <a:lnTo>
                      <a:pt x="508" y="732"/>
                    </a:lnTo>
                    <a:lnTo>
                      <a:pt x="508" y="749"/>
                    </a:lnTo>
                    <a:lnTo>
                      <a:pt x="534" y="771"/>
                    </a:lnTo>
                    <a:lnTo>
                      <a:pt x="587" y="749"/>
                    </a:lnTo>
                    <a:lnTo>
                      <a:pt x="618" y="732"/>
                    </a:lnTo>
                    <a:lnTo>
                      <a:pt x="640" y="732"/>
                    </a:lnTo>
                    <a:lnTo>
                      <a:pt x="671" y="749"/>
                    </a:lnTo>
                    <a:lnTo>
                      <a:pt x="693" y="771"/>
                    </a:lnTo>
                    <a:lnTo>
                      <a:pt x="777" y="709"/>
                    </a:lnTo>
                    <a:lnTo>
                      <a:pt x="800" y="771"/>
                    </a:lnTo>
                    <a:lnTo>
                      <a:pt x="831" y="794"/>
                    </a:lnTo>
                    <a:lnTo>
                      <a:pt x="883" y="771"/>
                    </a:lnTo>
                    <a:lnTo>
                      <a:pt x="989" y="749"/>
                    </a:lnTo>
                    <a:lnTo>
                      <a:pt x="1020" y="732"/>
                    </a:lnTo>
                    <a:lnTo>
                      <a:pt x="1042" y="692"/>
                    </a:lnTo>
                    <a:lnTo>
                      <a:pt x="1020" y="670"/>
                    </a:lnTo>
                    <a:lnTo>
                      <a:pt x="989" y="670"/>
                    </a:lnTo>
                    <a:lnTo>
                      <a:pt x="883" y="692"/>
                    </a:lnTo>
                    <a:lnTo>
                      <a:pt x="777" y="709"/>
                    </a:lnTo>
                    <a:lnTo>
                      <a:pt x="777" y="709"/>
                    </a:lnTo>
                    <a:lnTo>
                      <a:pt x="800" y="692"/>
                    </a:lnTo>
                    <a:lnTo>
                      <a:pt x="831" y="670"/>
                    </a:lnTo>
                    <a:lnTo>
                      <a:pt x="853" y="648"/>
                    </a:lnTo>
                    <a:lnTo>
                      <a:pt x="853" y="630"/>
                    </a:lnTo>
                    <a:lnTo>
                      <a:pt x="853" y="590"/>
                    </a:lnTo>
                    <a:lnTo>
                      <a:pt x="831" y="546"/>
                    </a:lnTo>
                    <a:lnTo>
                      <a:pt x="800" y="529"/>
                    </a:lnTo>
                    <a:lnTo>
                      <a:pt x="800" y="467"/>
                    </a:lnTo>
                    <a:lnTo>
                      <a:pt x="800" y="405"/>
                    </a:lnTo>
                    <a:lnTo>
                      <a:pt x="800" y="264"/>
                    </a:lnTo>
                    <a:lnTo>
                      <a:pt x="853" y="224"/>
                    </a:lnTo>
                    <a:lnTo>
                      <a:pt x="883" y="202"/>
                    </a:lnTo>
                    <a:lnTo>
                      <a:pt x="883" y="180"/>
                    </a:lnTo>
                    <a:lnTo>
                      <a:pt x="853" y="163"/>
                    </a:lnTo>
                    <a:lnTo>
                      <a:pt x="831" y="141"/>
                    </a:lnTo>
                    <a:lnTo>
                      <a:pt x="831" y="123"/>
                    </a:lnTo>
                    <a:lnTo>
                      <a:pt x="777" y="6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3016080" y="1917720"/>
                <a:ext cx="885960" cy="1606680"/>
                <a:chOff x="3016080" y="1917720"/>
                <a:chExt cx="885960" cy="16066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016080" y="2120760"/>
                  <a:ext cx="789480" cy="1362600"/>
                </a:xfrm>
                <a:custGeom>
                  <a:avLst/>
                  <a:gdLst/>
                  <a:ahLst/>
                  <a:rect l="0" t="0" r="r" b="b"/>
                  <a:pathLst>
                    <a:path w="2193" h="3785">
                      <a:moveTo>
                        <a:pt x="1682" y="0"/>
                      </a:moveTo>
                      <a:lnTo>
                        <a:pt x="1964" y="229"/>
                      </a:lnTo>
                      <a:lnTo>
                        <a:pt x="2127" y="590"/>
                      </a:lnTo>
                      <a:lnTo>
                        <a:pt x="2171" y="1050"/>
                      </a:lnTo>
                      <a:lnTo>
                        <a:pt x="2193" y="2324"/>
                      </a:lnTo>
                      <a:lnTo>
                        <a:pt x="2149" y="3057"/>
                      </a:lnTo>
                      <a:lnTo>
                        <a:pt x="1473" y="3102"/>
                      </a:lnTo>
                      <a:lnTo>
                        <a:pt x="1376" y="3512"/>
                      </a:lnTo>
                      <a:lnTo>
                        <a:pt x="1284" y="3785"/>
                      </a:lnTo>
                      <a:lnTo>
                        <a:pt x="1076" y="3785"/>
                      </a:lnTo>
                      <a:lnTo>
                        <a:pt x="957" y="3534"/>
                      </a:lnTo>
                      <a:lnTo>
                        <a:pt x="1028" y="3102"/>
                      </a:lnTo>
                      <a:lnTo>
                        <a:pt x="396" y="3031"/>
                      </a:lnTo>
                      <a:lnTo>
                        <a:pt x="374" y="2598"/>
                      </a:lnTo>
                      <a:lnTo>
                        <a:pt x="233" y="2668"/>
                      </a:lnTo>
                      <a:lnTo>
                        <a:pt x="97" y="2620"/>
                      </a:lnTo>
                      <a:lnTo>
                        <a:pt x="0" y="2258"/>
                      </a:lnTo>
                      <a:lnTo>
                        <a:pt x="119" y="2073"/>
                      </a:lnTo>
                      <a:lnTo>
                        <a:pt x="260" y="2100"/>
                      </a:lnTo>
                      <a:lnTo>
                        <a:pt x="119" y="158"/>
                      </a:lnTo>
                      <a:lnTo>
                        <a:pt x="168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40240" y="2503440"/>
                  <a:ext cx="361800" cy="352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62240" y="2470320"/>
                  <a:ext cx="428760" cy="419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348000" y="2643120"/>
                  <a:ext cx="745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708360" y="2651040"/>
                  <a:ext cx="76320" cy="73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3595680" y="1943280"/>
                  <a:ext cx="648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>
                  <a:off x="3486240" y="192564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3325680" y="1917720"/>
                  <a:ext cx="33480" cy="195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flipV="1">
                  <a:off x="3166920" y="1959120"/>
                  <a:ext cx="49320" cy="171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3041640" y="1982880"/>
                  <a:ext cx="47520" cy="1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33880" y="2941560"/>
                  <a:ext cx="579960" cy="222480"/>
                </a:xfrm>
                <a:custGeom>
                  <a:avLst/>
                  <a:gdLst/>
                  <a:ahLst/>
                  <a:rect l="0" t="0" r="r" b="b"/>
                  <a:pathLst>
                    <a:path w="1611" h="618">
                      <a:moveTo>
                        <a:pt x="1611" y="618"/>
                      </a:moveTo>
                      <a:lnTo>
                        <a:pt x="0" y="477"/>
                      </a:lnTo>
                      <a:lnTo>
                        <a:pt x="957" y="0"/>
                      </a:lnTo>
                      <a:lnTo>
                        <a:pt x="1611" y="6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84640" y="3368520"/>
                  <a:ext cx="268560" cy="155880"/>
                </a:xfrm>
                <a:custGeom>
                  <a:avLst/>
                  <a:gdLst/>
                  <a:ahLst/>
                  <a:rect l="0" t="0" r="r" b="b"/>
                  <a:pathLst>
                    <a:path w="746" h="433">
                      <a:moveTo>
                        <a:pt x="746" y="296"/>
                      </a:moveTo>
                      <a:lnTo>
                        <a:pt x="538" y="411"/>
                      </a:lnTo>
                      <a:lnTo>
                        <a:pt x="163" y="433"/>
                      </a:lnTo>
                      <a:lnTo>
                        <a:pt x="0" y="230"/>
                      </a:lnTo>
                      <a:lnTo>
                        <a:pt x="0" y="66"/>
                      </a:lnTo>
                      <a:lnTo>
                        <a:pt x="163" y="0"/>
                      </a:lnTo>
                      <a:lnTo>
                        <a:pt x="326" y="230"/>
                      </a:lnTo>
                      <a:lnTo>
                        <a:pt x="587" y="252"/>
                      </a:lnTo>
                      <a:lnTo>
                        <a:pt x="746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162240" y="2603520"/>
                  <a:ext cx="68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2817720" y="3502080"/>
                <a:ext cx="654480" cy="1046520"/>
                <a:chOff x="2817720" y="3502080"/>
                <a:chExt cx="654480" cy="1046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249720" y="4325760"/>
                  <a:ext cx="222480" cy="222840"/>
                </a:xfrm>
                <a:custGeom>
                  <a:avLst/>
                  <a:gdLst/>
                  <a:ahLst/>
                  <a:rect l="0" t="0" r="r" b="b"/>
                  <a:pathLst>
                    <a:path w="618" h="619">
                      <a:moveTo>
                        <a:pt x="44" y="469"/>
                      </a:moveTo>
                      <a:lnTo>
                        <a:pt x="44" y="469"/>
                      </a:lnTo>
                      <a:cubicBezTo>
                        <a:pt x="72" y="515"/>
                        <a:pt x="112" y="554"/>
                        <a:pt x="159" y="580"/>
                      </a:cubicBezTo>
                      <a:cubicBezTo>
                        <a:pt x="207" y="606"/>
                        <a:pt x="260" y="620"/>
                        <a:pt x="314" y="619"/>
                      </a:cubicBezTo>
                      <a:cubicBezTo>
                        <a:pt x="369" y="618"/>
                        <a:pt x="422" y="602"/>
                        <a:pt x="468" y="574"/>
                      </a:cubicBezTo>
                      <a:cubicBezTo>
                        <a:pt x="515" y="547"/>
                        <a:pt x="553" y="507"/>
                        <a:pt x="579" y="459"/>
                      </a:cubicBezTo>
                      <a:cubicBezTo>
                        <a:pt x="606" y="412"/>
                        <a:pt x="619" y="358"/>
                        <a:pt x="618" y="304"/>
                      </a:cubicBezTo>
                      <a:cubicBezTo>
                        <a:pt x="617" y="250"/>
                        <a:pt x="602" y="197"/>
                        <a:pt x="574" y="150"/>
                      </a:cubicBezTo>
                      <a:lnTo>
                        <a:pt x="574" y="150"/>
                      </a:lnTo>
                      <a:lnTo>
                        <a:pt x="574" y="150"/>
                      </a:lnTo>
                      <a:cubicBezTo>
                        <a:pt x="546" y="104"/>
                        <a:pt x="506" y="65"/>
                        <a:pt x="459" y="39"/>
                      </a:cubicBezTo>
                      <a:cubicBezTo>
                        <a:pt x="411" y="13"/>
                        <a:pt x="358" y="-1"/>
                        <a:pt x="304" y="0"/>
                      </a:cubicBezTo>
                      <a:cubicBezTo>
                        <a:pt x="249" y="1"/>
                        <a:pt x="196" y="17"/>
                        <a:pt x="150" y="45"/>
                      </a:cubicBezTo>
                      <a:cubicBezTo>
                        <a:pt x="103" y="72"/>
                        <a:pt x="65" y="112"/>
                        <a:pt x="39" y="160"/>
                      </a:cubicBezTo>
                      <a:cubicBezTo>
                        <a:pt x="12" y="207"/>
                        <a:pt x="-1" y="261"/>
                        <a:pt x="0" y="315"/>
                      </a:cubicBezTo>
                      <a:cubicBezTo>
                        <a:pt x="1" y="369"/>
                        <a:pt x="16" y="422"/>
                        <a:pt x="44" y="46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817720" y="3502080"/>
                  <a:ext cx="549720" cy="933840"/>
                </a:xfrm>
                <a:custGeom>
                  <a:avLst/>
                  <a:gdLst/>
                  <a:ahLst/>
                  <a:rect l="0" t="0" r="r" b="b"/>
                  <a:pathLst>
                    <a:path w="1527" h="2594">
                      <a:moveTo>
                        <a:pt x="1006" y="97"/>
                      </a:moveTo>
                      <a:lnTo>
                        <a:pt x="1046" y="317"/>
                      </a:lnTo>
                      <a:lnTo>
                        <a:pt x="816" y="918"/>
                      </a:lnTo>
                      <a:lnTo>
                        <a:pt x="675" y="1385"/>
                      </a:lnTo>
                      <a:lnTo>
                        <a:pt x="1527" y="2189"/>
                      </a:lnTo>
                      <a:lnTo>
                        <a:pt x="1024" y="2594"/>
                      </a:lnTo>
                      <a:lnTo>
                        <a:pt x="0" y="1473"/>
                      </a:lnTo>
                      <a:lnTo>
                        <a:pt x="464" y="282"/>
                      </a:lnTo>
                      <a:lnTo>
                        <a:pt x="644" y="30"/>
                      </a:lnTo>
                      <a:lnTo>
                        <a:pt x="869" y="0"/>
                      </a:lnTo>
                      <a:lnTo>
                        <a:pt x="1006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3400560" y="4254480"/>
                <a:ext cx="914760" cy="1918080"/>
                <a:chOff x="3400560" y="4254480"/>
                <a:chExt cx="914760" cy="19180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602160" y="6013440"/>
                  <a:ext cx="705240" cy="159120"/>
                </a:xfrm>
                <a:custGeom>
                  <a:avLst/>
                  <a:gdLst/>
                  <a:ahLst/>
                  <a:rect l="0" t="0" r="r" b="b"/>
                  <a:pathLst>
                    <a:path w="1959" h="442">
                      <a:moveTo>
                        <a:pt x="1959" y="137"/>
                      </a:moveTo>
                      <a:lnTo>
                        <a:pt x="1867" y="221"/>
                      </a:lnTo>
                      <a:lnTo>
                        <a:pt x="1796" y="247"/>
                      </a:lnTo>
                      <a:lnTo>
                        <a:pt x="1748" y="332"/>
                      </a:lnTo>
                      <a:lnTo>
                        <a:pt x="1682" y="390"/>
                      </a:lnTo>
                      <a:lnTo>
                        <a:pt x="1611" y="390"/>
                      </a:lnTo>
                      <a:lnTo>
                        <a:pt x="1540" y="390"/>
                      </a:lnTo>
                      <a:lnTo>
                        <a:pt x="1470" y="390"/>
                      </a:lnTo>
                      <a:lnTo>
                        <a:pt x="1398" y="390"/>
                      </a:lnTo>
                      <a:lnTo>
                        <a:pt x="1328" y="390"/>
                      </a:lnTo>
                      <a:lnTo>
                        <a:pt x="1257" y="416"/>
                      </a:lnTo>
                      <a:lnTo>
                        <a:pt x="1165" y="442"/>
                      </a:lnTo>
                      <a:lnTo>
                        <a:pt x="1094" y="442"/>
                      </a:lnTo>
                      <a:lnTo>
                        <a:pt x="1028" y="442"/>
                      </a:lnTo>
                      <a:lnTo>
                        <a:pt x="957" y="442"/>
                      </a:lnTo>
                      <a:lnTo>
                        <a:pt x="887" y="442"/>
                      </a:lnTo>
                      <a:lnTo>
                        <a:pt x="816" y="416"/>
                      </a:lnTo>
                      <a:lnTo>
                        <a:pt x="746" y="416"/>
                      </a:lnTo>
                      <a:lnTo>
                        <a:pt x="675" y="390"/>
                      </a:lnTo>
                      <a:lnTo>
                        <a:pt x="605" y="359"/>
                      </a:lnTo>
                      <a:lnTo>
                        <a:pt x="538" y="359"/>
                      </a:lnTo>
                      <a:lnTo>
                        <a:pt x="467" y="359"/>
                      </a:lnTo>
                      <a:lnTo>
                        <a:pt x="396" y="416"/>
                      </a:lnTo>
                      <a:lnTo>
                        <a:pt x="326" y="442"/>
                      </a:lnTo>
                      <a:lnTo>
                        <a:pt x="255" y="442"/>
                      </a:lnTo>
                      <a:lnTo>
                        <a:pt x="211" y="359"/>
                      </a:lnTo>
                      <a:lnTo>
                        <a:pt x="141" y="359"/>
                      </a:lnTo>
                      <a:lnTo>
                        <a:pt x="70" y="359"/>
                      </a:lnTo>
                      <a:lnTo>
                        <a:pt x="0" y="305"/>
                      </a:lnTo>
                      <a:lnTo>
                        <a:pt x="92" y="247"/>
                      </a:lnTo>
                      <a:lnTo>
                        <a:pt x="163" y="247"/>
                      </a:lnTo>
                      <a:lnTo>
                        <a:pt x="233" y="195"/>
                      </a:lnTo>
                      <a:lnTo>
                        <a:pt x="185" y="111"/>
                      </a:lnTo>
                      <a:lnTo>
                        <a:pt x="396" y="111"/>
                      </a:lnTo>
                      <a:lnTo>
                        <a:pt x="467" y="83"/>
                      </a:lnTo>
                      <a:lnTo>
                        <a:pt x="538" y="83"/>
                      </a:lnTo>
                      <a:lnTo>
                        <a:pt x="605" y="111"/>
                      </a:lnTo>
                      <a:lnTo>
                        <a:pt x="675" y="168"/>
                      </a:lnTo>
                      <a:lnTo>
                        <a:pt x="746" y="168"/>
                      </a:lnTo>
                      <a:lnTo>
                        <a:pt x="816" y="168"/>
                      </a:lnTo>
                      <a:lnTo>
                        <a:pt x="909" y="168"/>
                      </a:lnTo>
                      <a:lnTo>
                        <a:pt x="1094" y="168"/>
                      </a:lnTo>
                      <a:lnTo>
                        <a:pt x="1235" y="168"/>
                      </a:lnTo>
                      <a:lnTo>
                        <a:pt x="1420" y="137"/>
                      </a:lnTo>
                      <a:lnTo>
                        <a:pt x="1518" y="137"/>
                      </a:lnTo>
                      <a:lnTo>
                        <a:pt x="1726" y="57"/>
                      </a:lnTo>
                      <a:lnTo>
                        <a:pt x="1911" y="0"/>
                      </a:lnTo>
                      <a:lnTo>
                        <a:pt x="1845" y="57"/>
                      </a:lnTo>
                      <a:lnTo>
                        <a:pt x="1818" y="168"/>
                      </a:lnTo>
                      <a:lnTo>
                        <a:pt x="1818" y="247"/>
                      </a:lnTo>
                      <a:lnTo>
                        <a:pt x="1818" y="305"/>
                      </a:lnTo>
                      <a:lnTo>
                        <a:pt x="1959" y="137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400560" y="4254480"/>
                  <a:ext cx="914760" cy="1829160"/>
                </a:xfrm>
                <a:custGeom>
                  <a:avLst/>
                  <a:gdLst/>
                  <a:ahLst/>
                  <a:rect l="0" t="0" r="r" b="b"/>
                  <a:pathLst>
                    <a:path w="2541" h="5081">
                      <a:moveTo>
                        <a:pt x="0" y="361"/>
                      </a:moveTo>
                      <a:lnTo>
                        <a:pt x="92" y="251"/>
                      </a:lnTo>
                      <a:lnTo>
                        <a:pt x="141" y="83"/>
                      </a:lnTo>
                      <a:lnTo>
                        <a:pt x="211" y="26"/>
                      </a:lnTo>
                      <a:lnTo>
                        <a:pt x="277" y="26"/>
                      </a:lnTo>
                      <a:lnTo>
                        <a:pt x="440" y="0"/>
                      </a:lnTo>
                      <a:lnTo>
                        <a:pt x="511" y="0"/>
                      </a:lnTo>
                      <a:lnTo>
                        <a:pt x="582" y="0"/>
                      </a:lnTo>
                      <a:lnTo>
                        <a:pt x="652" y="26"/>
                      </a:lnTo>
                      <a:lnTo>
                        <a:pt x="723" y="57"/>
                      </a:lnTo>
                      <a:lnTo>
                        <a:pt x="793" y="136"/>
                      </a:lnTo>
                      <a:lnTo>
                        <a:pt x="864" y="167"/>
                      </a:lnTo>
                      <a:lnTo>
                        <a:pt x="956" y="220"/>
                      </a:lnTo>
                      <a:lnTo>
                        <a:pt x="1027" y="251"/>
                      </a:lnTo>
                      <a:lnTo>
                        <a:pt x="1093" y="277"/>
                      </a:lnTo>
                      <a:lnTo>
                        <a:pt x="1164" y="304"/>
                      </a:lnTo>
                      <a:lnTo>
                        <a:pt x="1234" y="335"/>
                      </a:lnTo>
                      <a:lnTo>
                        <a:pt x="1306" y="361"/>
                      </a:lnTo>
                      <a:lnTo>
                        <a:pt x="1398" y="388"/>
                      </a:lnTo>
                      <a:lnTo>
                        <a:pt x="1469" y="445"/>
                      </a:lnTo>
                      <a:lnTo>
                        <a:pt x="1513" y="529"/>
                      </a:lnTo>
                      <a:lnTo>
                        <a:pt x="1562" y="608"/>
                      </a:lnTo>
                      <a:lnTo>
                        <a:pt x="1584" y="692"/>
                      </a:lnTo>
                      <a:lnTo>
                        <a:pt x="1610" y="776"/>
                      </a:lnTo>
                      <a:lnTo>
                        <a:pt x="1654" y="859"/>
                      </a:lnTo>
                      <a:lnTo>
                        <a:pt x="1676" y="943"/>
                      </a:lnTo>
                      <a:lnTo>
                        <a:pt x="1725" y="1027"/>
                      </a:lnTo>
                      <a:lnTo>
                        <a:pt x="1795" y="1053"/>
                      </a:lnTo>
                      <a:lnTo>
                        <a:pt x="1866" y="1111"/>
                      </a:lnTo>
                      <a:lnTo>
                        <a:pt x="1936" y="1164"/>
                      </a:lnTo>
                      <a:lnTo>
                        <a:pt x="2029" y="1221"/>
                      </a:lnTo>
                      <a:lnTo>
                        <a:pt x="2100" y="1305"/>
                      </a:lnTo>
                      <a:lnTo>
                        <a:pt x="2144" y="1389"/>
                      </a:lnTo>
                      <a:lnTo>
                        <a:pt x="2166" y="1472"/>
                      </a:lnTo>
                      <a:lnTo>
                        <a:pt x="2166" y="1556"/>
                      </a:lnTo>
                      <a:lnTo>
                        <a:pt x="2166" y="1636"/>
                      </a:lnTo>
                      <a:lnTo>
                        <a:pt x="2166" y="1719"/>
                      </a:lnTo>
                      <a:lnTo>
                        <a:pt x="2166" y="1803"/>
                      </a:lnTo>
                      <a:lnTo>
                        <a:pt x="2166" y="1887"/>
                      </a:lnTo>
                      <a:lnTo>
                        <a:pt x="2166" y="1971"/>
                      </a:lnTo>
                      <a:lnTo>
                        <a:pt x="2144" y="2054"/>
                      </a:lnTo>
                      <a:lnTo>
                        <a:pt x="2073" y="2301"/>
                      </a:lnTo>
                      <a:lnTo>
                        <a:pt x="2051" y="2385"/>
                      </a:lnTo>
                      <a:lnTo>
                        <a:pt x="2029" y="2469"/>
                      </a:lnTo>
                      <a:lnTo>
                        <a:pt x="2029" y="2554"/>
                      </a:lnTo>
                      <a:lnTo>
                        <a:pt x="2029" y="2638"/>
                      </a:lnTo>
                      <a:lnTo>
                        <a:pt x="2029" y="2721"/>
                      </a:lnTo>
                      <a:lnTo>
                        <a:pt x="2029" y="2805"/>
                      </a:lnTo>
                      <a:lnTo>
                        <a:pt x="2051" y="2889"/>
                      </a:lnTo>
                      <a:lnTo>
                        <a:pt x="2073" y="2973"/>
                      </a:lnTo>
                      <a:lnTo>
                        <a:pt x="2100" y="3052"/>
                      </a:lnTo>
                      <a:lnTo>
                        <a:pt x="2122" y="3136"/>
                      </a:lnTo>
                      <a:lnTo>
                        <a:pt x="2122" y="3220"/>
                      </a:lnTo>
                      <a:lnTo>
                        <a:pt x="2122" y="3303"/>
                      </a:lnTo>
                      <a:lnTo>
                        <a:pt x="2122" y="3387"/>
                      </a:lnTo>
                      <a:lnTo>
                        <a:pt x="2122" y="3471"/>
                      </a:lnTo>
                      <a:lnTo>
                        <a:pt x="2122" y="3555"/>
                      </a:lnTo>
                      <a:lnTo>
                        <a:pt x="2122" y="3639"/>
                      </a:lnTo>
                      <a:lnTo>
                        <a:pt x="2144" y="3722"/>
                      </a:lnTo>
                      <a:lnTo>
                        <a:pt x="2166" y="3802"/>
                      </a:lnTo>
                      <a:lnTo>
                        <a:pt x="2236" y="3859"/>
                      </a:lnTo>
                      <a:lnTo>
                        <a:pt x="2263" y="3943"/>
                      </a:lnTo>
                      <a:lnTo>
                        <a:pt x="2307" y="4027"/>
                      </a:lnTo>
                      <a:lnTo>
                        <a:pt x="2355" y="4110"/>
                      </a:lnTo>
                      <a:lnTo>
                        <a:pt x="2426" y="4163"/>
                      </a:lnTo>
                      <a:lnTo>
                        <a:pt x="2448" y="4247"/>
                      </a:lnTo>
                      <a:lnTo>
                        <a:pt x="2492" y="4331"/>
                      </a:lnTo>
                      <a:lnTo>
                        <a:pt x="2492" y="4415"/>
                      </a:lnTo>
                      <a:lnTo>
                        <a:pt x="2518" y="4498"/>
                      </a:lnTo>
                      <a:lnTo>
                        <a:pt x="2541" y="4582"/>
                      </a:lnTo>
                      <a:lnTo>
                        <a:pt x="2541" y="4666"/>
                      </a:lnTo>
                      <a:lnTo>
                        <a:pt x="2541" y="4745"/>
                      </a:lnTo>
                      <a:lnTo>
                        <a:pt x="2518" y="4829"/>
                      </a:lnTo>
                      <a:lnTo>
                        <a:pt x="2492" y="4913"/>
                      </a:lnTo>
                      <a:lnTo>
                        <a:pt x="2448" y="4997"/>
                      </a:lnTo>
                      <a:lnTo>
                        <a:pt x="2263" y="5023"/>
                      </a:lnTo>
                      <a:lnTo>
                        <a:pt x="2100" y="5054"/>
                      </a:lnTo>
                      <a:lnTo>
                        <a:pt x="2029" y="5081"/>
                      </a:lnTo>
                      <a:lnTo>
                        <a:pt x="1958" y="5081"/>
                      </a:lnTo>
                      <a:lnTo>
                        <a:pt x="1676" y="5081"/>
                      </a:lnTo>
                      <a:lnTo>
                        <a:pt x="1610" y="5081"/>
                      </a:lnTo>
                      <a:lnTo>
                        <a:pt x="1513" y="5081"/>
                      </a:lnTo>
                      <a:lnTo>
                        <a:pt x="1420" y="5054"/>
                      </a:lnTo>
                      <a:lnTo>
                        <a:pt x="1350" y="5023"/>
                      </a:lnTo>
                      <a:lnTo>
                        <a:pt x="1306" y="4944"/>
                      </a:lnTo>
                      <a:lnTo>
                        <a:pt x="1284" y="4860"/>
                      </a:lnTo>
                      <a:lnTo>
                        <a:pt x="1212" y="4776"/>
                      </a:lnTo>
                      <a:lnTo>
                        <a:pt x="1164" y="4692"/>
                      </a:lnTo>
                      <a:lnTo>
                        <a:pt x="1120" y="4609"/>
                      </a:lnTo>
                      <a:lnTo>
                        <a:pt x="1120" y="4525"/>
                      </a:lnTo>
                      <a:lnTo>
                        <a:pt x="1120" y="4388"/>
                      </a:lnTo>
                      <a:lnTo>
                        <a:pt x="1256" y="4331"/>
                      </a:lnTo>
                      <a:lnTo>
                        <a:pt x="1447" y="4274"/>
                      </a:lnTo>
                      <a:lnTo>
                        <a:pt x="1513" y="4304"/>
                      </a:lnTo>
                      <a:lnTo>
                        <a:pt x="1584" y="4331"/>
                      </a:lnTo>
                      <a:lnTo>
                        <a:pt x="1654" y="4388"/>
                      </a:lnTo>
                      <a:lnTo>
                        <a:pt x="1817" y="4388"/>
                      </a:lnTo>
                      <a:lnTo>
                        <a:pt x="2003" y="4388"/>
                      </a:lnTo>
                      <a:lnTo>
                        <a:pt x="2073" y="4415"/>
                      </a:lnTo>
                      <a:lnTo>
                        <a:pt x="2166" y="4441"/>
                      </a:lnTo>
                      <a:lnTo>
                        <a:pt x="2214" y="4719"/>
                      </a:lnTo>
                      <a:lnTo>
                        <a:pt x="2144" y="4692"/>
                      </a:lnTo>
                      <a:lnTo>
                        <a:pt x="2073" y="4666"/>
                      </a:lnTo>
                      <a:lnTo>
                        <a:pt x="2003" y="4635"/>
                      </a:lnTo>
                      <a:lnTo>
                        <a:pt x="1936" y="4609"/>
                      </a:lnTo>
                      <a:lnTo>
                        <a:pt x="1839" y="4582"/>
                      </a:lnTo>
                      <a:lnTo>
                        <a:pt x="1773" y="4582"/>
                      </a:lnTo>
                      <a:lnTo>
                        <a:pt x="1703" y="4582"/>
                      </a:lnTo>
                      <a:lnTo>
                        <a:pt x="1632" y="4582"/>
                      </a:lnTo>
                      <a:lnTo>
                        <a:pt x="1562" y="4635"/>
                      </a:lnTo>
                      <a:lnTo>
                        <a:pt x="1539" y="4719"/>
                      </a:lnTo>
                      <a:lnTo>
                        <a:pt x="1610" y="4776"/>
                      </a:lnTo>
                      <a:lnTo>
                        <a:pt x="1676" y="4803"/>
                      </a:lnTo>
                      <a:lnTo>
                        <a:pt x="1747" y="4803"/>
                      </a:lnTo>
                      <a:lnTo>
                        <a:pt x="1817" y="4803"/>
                      </a:lnTo>
                      <a:lnTo>
                        <a:pt x="1888" y="4776"/>
                      </a:lnTo>
                      <a:lnTo>
                        <a:pt x="1980" y="4719"/>
                      </a:lnTo>
                      <a:lnTo>
                        <a:pt x="2073" y="4745"/>
                      </a:lnTo>
                      <a:lnTo>
                        <a:pt x="2214" y="4745"/>
                      </a:lnTo>
                      <a:lnTo>
                        <a:pt x="2214" y="4498"/>
                      </a:lnTo>
                      <a:lnTo>
                        <a:pt x="2073" y="4388"/>
                      </a:lnTo>
                      <a:lnTo>
                        <a:pt x="2051" y="4304"/>
                      </a:lnTo>
                      <a:lnTo>
                        <a:pt x="2003" y="4221"/>
                      </a:lnTo>
                      <a:lnTo>
                        <a:pt x="2003" y="4137"/>
                      </a:lnTo>
                      <a:lnTo>
                        <a:pt x="1980" y="4053"/>
                      </a:lnTo>
                      <a:lnTo>
                        <a:pt x="1936" y="3969"/>
                      </a:lnTo>
                      <a:lnTo>
                        <a:pt x="1888" y="3885"/>
                      </a:lnTo>
                      <a:lnTo>
                        <a:pt x="1866" y="3802"/>
                      </a:lnTo>
                      <a:lnTo>
                        <a:pt x="1866" y="3722"/>
                      </a:lnTo>
                      <a:lnTo>
                        <a:pt x="1866" y="3639"/>
                      </a:lnTo>
                      <a:lnTo>
                        <a:pt x="1839" y="3555"/>
                      </a:lnTo>
                      <a:lnTo>
                        <a:pt x="1839" y="3471"/>
                      </a:lnTo>
                      <a:lnTo>
                        <a:pt x="1817" y="3387"/>
                      </a:lnTo>
                      <a:lnTo>
                        <a:pt x="1795" y="3303"/>
                      </a:lnTo>
                      <a:lnTo>
                        <a:pt x="1773" y="3220"/>
                      </a:lnTo>
                      <a:lnTo>
                        <a:pt x="1747" y="3136"/>
                      </a:lnTo>
                      <a:lnTo>
                        <a:pt x="1725" y="3052"/>
                      </a:lnTo>
                      <a:lnTo>
                        <a:pt x="1725" y="2973"/>
                      </a:lnTo>
                      <a:lnTo>
                        <a:pt x="1703" y="2889"/>
                      </a:lnTo>
                      <a:lnTo>
                        <a:pt x="1703" y="2805"/>
                      </a:lnTo>
                      <a:lnTo>
                        <a:pt x="1725" y="2721"/>
                      </a:lnTo>
                      <a:lnTo>
                        <a:pt x="1725" y="2638"/>
                      </a:lnTo>
                      <a:lnTo>
                        <a:pt x="1725" y="2554"/>
                      </a:lnTo>
                      <a:lnTo>
                        <a:pt x="1725" y="2469"/>
                      </a:lnTo>
                      <a:lnTo>
                        <a:pt x="1725" y="2385"/>
                      </a:lnTo>
                      <a:lnTo>
                        <a:pt x="1747" y="2301"/>
                      </a:lnTo>
                      <a:lnTo>
                        <a:pt x="1773" y="2222"/>
                      </a:lnTo>
                      <a:lnTo>
                        <a:pt x="1773" y="1997"/>
                      </a:lnTo>
                      <a:lnTo>
                        <a:pt x="1795" y="1887"/>
                      </a:lnTo>
                      <a:lnTo>
                        <a:pt x="1795" y="1803"/>
                      </a:lnTo>
                      <a:lnTo>
                        <a:pt x="1773" y="1719"/>
                      </a:lnTo>
                      <a:lnTo>
                        <a:pt x="1725" y="1609"/>
                      </a:lnTo>
                      <a:lnTo>
                        <a:pt x="1703" y="1525"/>
                      </a:lnTo>
                      <a:lnTo>
                        <a:pt x="1632" y="1441"/>
                      </a:lnTo>
                      <a:lnTo>
                        <a:pt x="1562" y="1358"/>
                      </a:lnTo>
                      <a:lnTo>
                        <a:pt x="1491" y="1278"/>
                      </a:lnTo>
                      <a:lnTo>
                        <a:pt x="1420" y="1195"/>
                      </a:lnTo>
                      <a:lnTo>
                        <a:pt x="1398" y="1111"/>
                      </a:lnTo>
                      <a:lnTo>
                        <a:pt x="1376" y="1027"/>
                      </a:lnTo>
                      <a:lnTo>
                        <a:pt x="1350" y="943"/>
                      </a:lnTo>
                      <a:lnTo>
                        <a:pt x="1306" y="859"/>
                      </a:lnTo>
                      <a:lnTo>
                        <a:pt x="1256" y="776"/>
                      </a:lnTo>
                      <a:lnTo>
                        <a:pt x="1190" y="692"/>
                      </a:lnTo>
                      <a:lnTo>
                        <a:pt x="1120" y="608"/>
                      </a:lnTo>
                      <a:lnTo>
                        <a:pt x="1049" y="555"/>
                      </a:lnTo>
                      <a:lnTo>
                        <a:pt x="978" y="529"/>
                      </a:lnTo>
                      <a:lnTo>
                        <a:pt x="908" y="471"/>
                      </a:lnTo>
                      <a:lnTo>
                        <a:pt x="837" y="471"/>
                      </a:lnTo>
                      <a:lnTo>
                        <a:pt x="701" y="471"/>
                      </a:lnTo>
                      <a:lnTo>
                        <a:pt x="630" y="471"/>
                      </a:lnTo>
                      <a:lnTo>
                        <a:pt x="560" y="471"/>
                      </a:lnTo>
                      <a:lnTo>
                        <a:pt x="374" y="445"/>
                      </a:lnTo>
                      <a:lnTo>
                        <a:pt x="277" y="445"/>
                      </a:lnTo>
                      <a:lnTo>
                        <a:pt x="233" y="529"/>
                      </a:lnTo>
                      <a:lnTo>
                        <a:pt x="163" y="582"/>
                      </a:lnTo>
                      <a:lnTo>
                        <a:pt x="92" y="555"/>
                      </a:lnTo>
                      <a:lnTo>
                        <a:pt x="70" y="471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3767040" y="4398840"/>
                <a:ext cx="222480" cy="223920"/>
              </a:xfrm>
              <a:custGeom>
                <a:avLst/>
                <a:gdLst/>
                <a:ahLst/>
                <a:rect l="0" t="0" r="r" b="b"/>
                <a:pathLst>
                  <a:path w="618" h="622">
                    <a:moveTo>
                      <a:pt x="0" y="325"/>
                    </a:moveTo>
                    <a:lnTo>
                      <a:pt x="0" y="325"/>
                    </a:lnTo>
                    <a:cubicBezTo>
                      <a:pt x="2" y="378"/>
                      <a:pt x="18" y="430"/>
                      <a:pt x="47" y="476"/>
                    </a:cubicBezTo>
                    <a:cubicBezTo>
                      <a:pt x="76" y="522"/>
                      <a:pt x="116" y="560"/>
                      <a:pt x="164" y="586"/>
                    </a:cubicBezTo>
                    <a:cubicBezTo>
                      <a:pt x="212" y="611"/>
                      <a:pt x="266" y="624"/>
                      <a:pt x="320" y="622"/>
                    </a:cubicBezTo>
                    <a:cubicBezTo>
                      <a:pt x="374" y="620"/>
                      <a:pt x="427" y="604"/>
                      <a:pt x="473" y="575"/>
                    </a:cubicBezTo>
                    <a:cubicBezTo>
                      <a:pt x="519" y="546"/>
                      <a:pt x="557" y="505"/>
                      <a:pt x="582" y="457"/>
                    </a:cubicBezTo>
                    <a:cubicBezTo>
                      <a:pt x="608" y="409"/>
                      <a:pt x="620" y="355"/>
                      <a:pt x="618" y="300"/>
                    </a:cubicBezTo>
                    <a:cubicBezTo>
                      <a:pt x="618" y="299"/>
                      <a:pt x="618" y="298"/>
                      <a:pt x="618" y="297"/>
                    </a:cubicBezTo>
                    <a:lnTo>
                      <a:pt x="618" y="297"/>
                    </a:lnTo>
                    <a:cubicBezTo>
                      <a:pt x="616" y="244"/>
                      <a:pt x="600" y="192"/>
                      <a:pt x="571" y="146"/>
                    </a:cubicBezTo>
                    <a:cubicBezTo>
                      <a:pt x="542" y="100"/>
                      <a:pt x="502" y="62"/>
                      <a:pt x="454" y="36"/>
                    </a:cubicBezTo>
                    <a:cubicBezTo>
                      <a:pt x="406" y="11"/>
                      <a:pt x="352" y="-2"/>
                      <a:pt x="298" y="0"/>
                    </a:cubicBezTo>
                    <a:cubicBezTo>
                      <a:pt x="244" y="2"/>
                      <a:pt x="191" y="18"/>
                      <a:pt x="145" y="47"/>
                    </a:cubicBezTo>
                    <a:cubicBezTo>
                      <a:pt x="99" y="76"/>
                      <a:pt x="61" y="117"/>
                      <a:pt x="36" y="165"/>
                    </a:cubicBezTo>
                    <a:cubicBezTo>
                      <a:pt x="10" y="213"/>
                      <a:pt x="-2" y="267"/>
                      <a:pt x="0" y="322"/>
                    </a:cubicBezTo>
                    <a:cubicBezTo>
                      <a:pt x="0" y="323"/>
                      <a:pt x="0" y="324"/>
                      <a:pt x="0" y="3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410080" y="4495680"/>
              <a:ext cx="508680" cy="1283400"/>
              <a:chOff x="5410080" y="4495680"/>
              <a:chExt cx="508680" cy="1283400"/>
            </a:xfrm>
          </p:grpSpPr>
          <p:sp>
            <p:nvSpPr>
              <p:cNvPr id="577" name=""/>
              <p:cNvSpPr/>
              <p:nvPr/>
            </p:nvSpPr>
            <p:spPr>
              <a:xfrm>
                <a:off x="5678640" y="457056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7" y="200"/>
                    </a:moveTo>
                    <a:lnTo>
                      <a:pt x="67" y="140"/>
                    </a:lnTo>
                    <a:lnTo>
                      <a:pt x="101" y="76"/>
                    </a:lnTo>
                    <a:lnTo>
                      <a:pt x="173" y="38"/>
                    </a:lnTo>
                    <a:lnTo>
                      <a:pt x="241" y="0"/>
                    </a:lnTo>
                    <a:lnTo>
                      <a:pt x="278" y="25"/>
                    </a:lnTo>
                    <a:lnTo>
                      <a:pt x="327" y="63"/>
                    </a:lnTo>
                    <a:lnTo>
                      <a:pt x="327" y="89"/>
                    </a:lnTo>
                    <a:lnTo>
                      <a:pt x="327" y="89"/>
                    </a:lnTo>
                    <a:lnTo>
                      <a:pt x="293" y="89"/>
                    </a:lnTo>
                    <a:lnTo>
                      <a:pt x="226" y="127"/>
                    </a:lnTo>
                    <a:lnTo>
                      <a:pt x="153" y="178"/>
                    </a:lnTo>
                    <a:lnTo>
                      <a:pt x="138" y="239"/>
                    </a:lnTo>
                    <a:lnTo>
                      <a:pt x="138" y="265"/>
                    </a:lnTo>
                    <a:lnTo>
                      <a:pt x="120" y="290"/>
                    </a:lnTo>
                    <a:lnTo>
                      <a:pt x="101" y="316"/>
                    </a:lnTo>
                    <a:lnTo>
                      <a:pt x="67" y="328"/>
                    </a:lnTo>
                    <a:lnTo>
                      <a:pt x="48" y="341"/>
                    </a:lnTo>
                    <a:lnTo>
                      <a:pt x="33" y="341"/>
                    </a:lnTo>
                    <a:lnTo>
                      <a:pt x="0" y="316"/>
                    </a:lnTo>
                    <a:lnTo>
                      <a:pt x="0" y="290"/>
                    </a:lnTo>
                    <a:lnTo>
                      <a:pt x="15" y="278"/>
                    </a:lnTo>
                    <a:lnTo>
                      <a:pt x="33" y="226"/>
                    </a:lnTo>
                    <a:lnTo>
                      <a:pt x="48" y="213"/>
                    </a:lnTo>
                    <a:lnTo>
                      <a:pt x="67" y="213"/>
                    </a:lnTo>
                    <a:lnTo>
                      <a:pt x="67" y="20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10080" y="4697280"/>
                <a:ext cx="135360" cy="197280"/>
              </a:xfrm>
              <a:custGeom>
                <a:avLst/>
                <a:gdLst/>
                <a:ahLst/>
                <a:rect l="0" t="0" r="r" b="b"/>
                <a:pathLst>
                  <a:path w="376" h="548">
                    <a:moveTo>
                      <a:pt x="285" y="429"/>
                    </a:moveTo>
                    <a:lnTo>
                      <a:pt x="211" y="326"/>
                    </a:lnTo>
                    <a:lnTo>
                      <a:pt x="137" y="207"/>
                    </a:lnTo>
                    <a:lnTo>
                      <a:pt x="137" y="148"/>
                    </a:lnTo>
                    <a:lnTo>
                      <a:pt x="137" y="87"/>
                    </a:lnTo>
                    <a:lnTo>
                      <a:pt x="165" y="42"/>
                    </a:lnTo>
                    <a:lnTo>
                      <a:pt x="211" y="0"/>
                    </a:lnTo>
                    <a:lnTo>
                      <a:pt x="225" y="28"/>
                    </a:lnTo>
                    <a:lnTo>
                      <a:pt x="256" y="42"/>
                    </a:lnTo>
                    <a:lnTo>
                      <a:pt x="270" y="73"/>
                    </a:lnTo>
                    <a:lnTo>
                      <a:pt x="270" y="87"/>
                    </a:lnTo>
                    <a:lnTo>
                      <a:pt x="197" y="119"/>
                    </a:lnTo>
                    <a:lnTo>
                      <a:pt x="120" y="148"/>
                    </a:lnTo>
                    <a:lnTo>
                      <a:pt x="151" y="162"/>
                    </a:lnTo>
                    <a:lnTo>
                      <a:pt x="165" y="162"/>
                    </a:lnTo>
                    <a:lnTo>
                      <a:pt x="197" y="162"/>
                    </a:lnTo>
                    <a:lnTo>
                      <a:pt x="211" y="162"/>
                    </a:lnTo>
                    <a:lnTo>
                      <a:pt x="239" y="179"/>
                    </a:lnTo>
                    <a:lnTo>
                      <a:pt x="299" y="193"/>
                    </a:lnTo>
                    <a:lnTo>
                      <a:pt x="317" y="207"/>
                    </a:lnTo>
                    <a:lnTo>
                      <a:pt x="331" y="207"/>
                    </a:lnTo>
                    <a:lnTo>
                      <a:pt x="359" y="267"/>
                    </a:lnTo>
                    <a:lnTo>
                      <a:pt x="376" y="326"/>
                    </a:lnTo>
                    <a:lnTo>
                      <a:pt x="359" y="372"/>
                    </a:lnTo>
                    <a:lnTo>
                      <a:pt x="331" y="400"/>
                    </a:lnTo>
                    <a:lnTo>
                      <a:pt x="239" y="447"/>
                    </a:lnTo>
                    <a:lnTo>
                      <a:pt x="137" y="475"/>
                    </a:lnTo>
                    <a:lnTo>
                      <a:pt x="106" y="506"/>
                    </a:lnTo>
                    <a:lnTo>
                      <a:pt x="59" y="534"/>
                    </a:lnTo>
                    <a:lnTo>
                      <a:pt x="31" y="548"/>
                    </a:lnTo>
                    <a:lnTo>
                      <a:pt x="17" y="534"/>
                    </a:lnTo>
                    <a:lnTo>
                      <a:pt x="0" y="506"/>
                    </a:lnTo>
                    <a:lnTo>
                      <a:pt x="59" y="475"/>
                    </a:lnTo>
                    <a:lnTo>
                      <a:pt x="106" y="475"/>
                    </a:lnTo>
                    <a:lnTo>
                      <a:pt x="151" y="461"/>
                    </a:lnTo>
                    <a:lnTo>
                      <a:pt x="211" y="429"/>
                    </a:lnTo>
                    <a:lnTo>
                      <a:pt x="239" y="400"/>
                    </a:lnTo>
                    <a:lnTo>
                      <a:pt x="239" y="386"/>
                    </a:lnTo>
                    <a:lnTo>
                      <a:pt x="256" y="400"/>
                    </a:lnTo>
                    <a:lnTo>
                      <a:pt x="285" y="42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60840" y="5064120"/>
                <a:ext cx="200520" cy="81360"/>
              </a:xfrm>
              <a:custGeom>
                <a:avLst/>
                <a:gdLst/>
                <a:ahLst/>
                <a:rect l="0" t="0" r="r" b="b"/>
                <a:pathLst>
                  <a:path w="557" h="226">
                    <a:moveTo>
                      <a:pt x="422" y="49"/>
                    </a:moveTo>
                    <a:lnTo>
                      <a:pt x="377" y="99"/>
                    </a:lnTo>
                    <a:lnTo>
                      <a:pt x="346" y="127"/>
                    </a:lnTo>
                    <a:lnTo>
                      <a:pt x="316" y="77"/>
                    </a:lnTo>
                    <a:lnTo>
                      <a:pt x="272" y="27"/>
                    </a:lnTo>
                    <a:lnTo>
                      <a:pt x="135" y="77"/>
                    </a:lnTo>
                    <a:lnTo>
                      <a:pt x="0" y="154"/>
                    </a:lnTo>
                    <a:lnTo>
                      <a:pt x="13" y="226"/>
                    </a:lnTo>
                    <a:lnTo>
                      <a:pt x="60" y="226"/>
                    </a:lnTo>
                    <a:lnTo>
                      <a:pt x="167" y="226"/>
                    </a:lnTo>
                    <a:lnTo>
                      <a:pt x="180" y="204"/>
                    </a:lnTo>
                    <a:lnTo>
                      <a:pt x="224" y="177"/>
                    </a:lnTo>
                    <a:lnTo>
                      <a:pt x="255" y="154"/>
                    </a:lnTo>
                    <a:lnTo>
                      <a:pt x="272" y="154"/>
                    </a:lnTo>
                    <a:lnTo>
                      <a:pt x="302" y="177"/>
                    </a:lnTo>
                    <a:lnTo>
                      <a:pt x="346" y="204"/>
                    </a:lnTo>
                    <a:lnTo>
                      <a:pt x="377" y="226"/>
                    </a:lnTo>
                    <a:lnTo>
                      <a:pt x="390" y="226"/>
                    </a:lnTo>
                    <a:lnTo>
                      <a:pt x="435" y="226"/>
                    </a:lnTo>
                    <a:lnTo>
                      <a:pt x="483" y="204"/>
                    </a:lnTo>
                    <a:lnTo>
                      <a:pt x="496" y="154"/>
                    </a:lnTo>
                    <a:lnTo>
                      <a:pt x="540" y="49"/>
                    </a:lnTo>
                    <a:lnTo>
                      <a:pt x="557" y="27"/>
                    </a:lnTo>
                    <a:lnTo>
                      <a:pt x="557" y="0"/>
                    </a:lnTo>
                    <a:lnTo>
                      <a:pt x="540" y="27"/>
                    </a:lnTo>
                    <a:lnTo>
                      <a:pt x="513" y="49"/>
                    </a:lnTo>
                    <a:lnTo>
                      <a:pt x="483" y="127"/>
                    </a:lnTo>
                    <a:lnTo>
                      <a:pt x="452" y="177"/>
                    </a:lnTo>
                    <a:lnTo>
                      <a:pt x="435" y="177"/>
                    </a:lnTo>
                    <a:lnTo>
                      <a:pt x="422" y="177"/>
                    </a:lnTo>
                    <a:lnTo>
                      <a:pt x="422" y="127"/>
                    </a:lnTo>
                    <a:lnTo>
                      <a:pt x="422" y="49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54720" y="4495680"/>
                <a:ext cx="187560" cy="170280"/>
              </a:xfrm>
              <a:custGeom>
                <a:avLst/>
                <a:gdLst/>
                <a:ahLst/>
                <a:rect l="0" t="0" r="r" b="b"/>
                <a:pathLst>
                  <a:path w="521" h="473">
                    <a:moveTo>
                      <a:pt x="435" y="447"/>
                    </a:moveTo>
                    <a:lnTo>
                      <a:pt x="422" y="315"/>
                    </a:lnTo>
                    <a:lnTo>
                      <a:pt x="422" y="198"/>
                    </a:lnTo>
                    <a:lnTo>
                      <a:pt x="422" y="144"/>
                    </a:lnTo>
                    <a:lnTo>
                      <a:pt x="393" y="90"/>
                    </a:lnTo>
                    <a:lnTo>
                      <a:pt x="364" y="40"/>
                    </a:lnTo>
                    <a:lnTo>
                      <a:pt x="310" y="0"/>
                    </a:lnTo>
                    <a:lnTo>
                      <a:pt x="323" y="90"/>
                    </a:lnTo>
                    <a:lnTo>
                      <a:pt x="352" y="131"/>
                    </a:lnTo>
                    <a:lnTo>
                      <a:pt x="380" y="185"/>
                    </a:lnTo>
                    <a:lnTo>
                      <a:pt x="265" y="248"/>
                    </a:lnTo>
                    <a:lnTo>
                      <a:pt x="153" y="288"/>
                    </a:lnTo>
                    <a:lnTo>
                      <a:pt x="124" y="275"/>
                    </a:lnTo>
                    <a:lnTo>
                      <a:pt x="98" y="262"/>
                    </a:lnTo>
                    <a:lnTo>
                      <a:pt x="70" y="238"/>
                    </a:lnTo>
                    <a:lnTo>
                      <a:pt x="28" y="198"/>
                    </a:lnTo>
                    <a:lnTo>
                      <a:pt x="12" y="158"/>
                    </a:lnTo>
                    <a:lnTo>
                      <a:pt x="0" y="144"/>
                    </a:lnTo>
                    <a:lnTo>
                      <a:pt x="0" y="198"/>
                    </a:lnTo>
                    <a:lnTo>
                      <a:pt x="12" y="225"/>
                    </a:lnTo>
                    <a:lnTo>
                      <a:pt x="54" y="275"/>
                    </a:lnTo>
                    <a:lnTo>
                      <a:pt x="124" y="288"/>
                    </a:lnTo>
                    <a:lnTo>
                      <a:pt x="210" y="302"/>
                    </a:lnTo>
                    <a:lnTo>
                      <a:pt x="239" y="315"/>
                    </a:lnTo>
                    <a:lnTo>
                      <a:pt x="252" y="328"/>
                    </a:lnTo>
                    <a:lnTo>
                      <a:pt x="281" y="356"/>
                    </a:lnTo>
                    <a:lnTo>
                      <a:pt x="294" y="383"/>
                    </a:lnTo>
                    <a:lnTo>
                      <a:pt x="310" y="406"/>
                    </a:lnTo>
                    <a:lnTo>
                      <a:pt x="336" y="420"/>
                    </a:lnTo>
                    <a:lnTo>
                      <a:pt x="380" y="383"/>
                    </a:lnTo>
                    <a:lnTo>
                      <a:pt x="393" y="356"/>
                    </a:lnTo>
                    <a:lnTo>
                      <a:pt x="406" y="315"/>
                    </a:lnTo>
                    <a:lnTo>
                      <a:pt x="422" y="262"/>
                    </a:lnTo>
                    <a:lnTo>
                      <a:pt x="406" y="238"/>
                    </a:lnTo>
                    <a:lnTo>
                      <a:pt x="406" y="238"/>
                    </a:lnTo>
                    <a:lnTo>
                      <a:pt x="393" y="248"/>
                    </a:lnTo>
                    <a:lnTo>
                      <a:pt x="364" y="275"/>
                    </a:lnTo>
                    <a:lnTo>
                      <a:pt x="352" y="315"/>
                    </a:lnTo>
                    <a:lnTo>
                      <a:pt x="406" y="383"/>
                    </a:lnTo>
                    <a:lnTo>
                      <a:pt x="435" y="396"/>
                    </a:lnTo>
                    <a:lnTo>
                      <a:pt x="463" y="406"/>
                    </a:lnTo>
                    <a:lnTo>
                      <a:pt x="476" y="420"/>
                    </a:lnTo>
                    <a:lnTo>
                      <a:pt x="505" y="433"/>
                    </a:lnTo>
                    <a:lnTo>
                      <a:pt x="521" y="433"/>
                    </a:lnTo>
                    <a:lnTo>
                      <a:pt x="521" y="447"/>
                    </a:lnTo>
                    <a:lnTo>
                      <a:pt x="492" y="460"/>
                    </a:lnTo>
                    <a:lnTo>
                      <a:pt x="463" y="460"/>
                    </a:lnTo>
                    <a:lnTo>
                      <a:pt x="393" y="460"/>
                    </a:lnTo>
                    <a:lnTo>
                      <a:pt x="393" y="473"/>
                    </a:lnTo>
                    <a:lnTo>
                      <a:pt x="380" y="473"/>
                    </a:lnTo>
                    <a:lnTo>
                      <a:pt x="364" y="473"/>
                    </a:lnTo>
                    <a:lnTo>
                      <a:pt x="364" y="473"/>
                    </a:lnTo>
                    <a:lnTo>
                      <a:pt x="406" y="460"/>
                    </a:lnTo>
                    <a:lnTo>
                      <a:pt x="435" y="44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52920" y="5338800"/>
                <a:ext cx="89280" cy="236880"/>
              </a:xfrm>
              <a:custGeom>
                <a:avLst/>
                <a:gdLst/>
                <a:ahLst/>
                <a:rect l="0" t="0" r="r" b="b"/>
                <a:pathLst>
                  <a:path w="248" h="658">
                    <a:moveTo>
                      <a:pt x="124" y="16"/>
                    </a:moveTo>
                    <a:lnTo>
                      <a:pt x="111" y="83"/>
                    </a:lnTo>
                    <a:lnTo>
                      <a:pt x="82" y="137"/>
                    </a:lnTo>
                    <a:lnTo>
                      <a:pt x="42" y="291"/>
                    </a:lnTo>
                    <a:lnTo>
                      <a:pt x="0" y="450"/>
                    </a:lnTo>
                    <a:lnTo>
                      <a:pt x="12" y="500"/>
                    </a:lnTo>
                    <a:lnTo>
                      <a:pt x="42" y="537"/>
                    </a:lnTo>
                    <a:lnTo>
                      <a:pt x="69" y="570"/>
                    </a:lnTo>
                    <a:lnTo>
                      <a:pt x="111" y="604"/>
                    </a:lnTo>
                    <a:lnTo>
                      <a:pt x="153" y="624"/>
                    </a:lnTo>
                    <a:lnTo>
                      <a:pt x="179" y="624"/>
                    </a:lnTo>
                    <a:lnTo>
                      <a:pt x="179" y="641"/>
                    </a:lnTo>
                    <a:lnTo>
                      <a:pt x="179" y="658"/>
                    </a:lnTo>
                    <a:lnTo>
                      <a:pt x="153" y="658"/>
                    </a:lnTo>
                    <a:lnTo>
                      <a:pt x="111" y="641"/>
                    </a:lnTo>
                    <a:lnTo>
                      <a:pt x="111" y="483"/>
                    </a:lnTo>
                    <a:lnTo>
                      <a:pt x="98" y="466"/>
                    </a:lnTo>
                    <a:lnTo>
                      <a:pt x="98" y="450"/>
                    </a:lnTo>
                    <a:lnTo>
                      <a:pt x="124" y="433"/>
                    </a:lnTo>
                    <a:lnTo>
                      <a:pt x="166" y="396"/>
                    </a:lnTo>
                    <a:lnTo>
                      <a:pt x="209" y="379"/>
                    </a:lnTo>
                    <a:lnTo>
                      <a:pt x="235" y="379"/>
                    </a:lnTo>
                    <a:lnTo>
                      <a:pt x="248" y="346"/>
                    </a:lnTo>
                    <a:lnTo>
                      <a:pt x="248" y="311"/>
                    </a:lnTo>
                    <a:lnTo>
                      <a:pt x="235" y="291"/>
                    </a:lnTo>
                    <a:lnTo>
                      <a:pt x="193" y="274"/>
                    </a:lnTo>
                    <a:lnTo>
                      <a:pt x="166" y="291"/>
                    </a:lnTo>
                    <a:lnTo>
                      <a:pt x="153" y="328"/>
                    </a:lnTo>
                    <a:lnTo>
                      <a:pt x="124" y="379"/>
                    </a:lnTo>
                    <a:lnTo>
                      <a:pt x="82" y="328"/>
                    </a:lnTo>
                    <a:lnTo>
                      <a:pt x="69" y="311"/>
                    </a:lnTo>
                    <a:lnTo>
                      <a:pt x="98" y="274"/>
                    </a:lnTo>
                    <a:lnTo>
                      <a:pt x="137" y="241"/>
                    </a:lnTo>
                    <a:lnTo>
                      <a:pt x="153" y="224"/>
                    </a:lnTo>
                    <a:lnTo>
                      <a:pt x="166" y="207"/>
                    </a:lnTo>
                    <a:lnTo>
                      <a:pt x="222" y="0"/>
                    </a:lnTo>
                    <a:lnTo>
                      <a:pt x="209" y="33"/>
                    </a:lnTo>
                    <a:lnTo>
                      <a:pt x="166" y="67"/>
                    </a:lnTo>
                    <a:lnTo>
                      <a:pt x="137" y="67"/>
                    </a:lnTo>
                    <a:lnTo>
                      <a:pt x="124" y="50"/>
                    </a:ln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00600" y="5605560"/>
                <a:ext cx="70200" cy="173520"/>
              </a:xfrm>
              <a:custGeom>
                <a:avLst/>
                <a:gdLst/>
                <a:ahLst/>
                <a:rect l="0" t="0" r="r" b="b"/>
                <a:pathLst>
                  <a:path w="195" h="482">
                    <a:moveTo>
                      <a:pt x="98" y="71"/>
                    </a:moveTo>
                    <a:lnTo>
                      <a:pt x="69" y="125"/>
                    </a:lnTo>
                    <a:lnTo>
                      <a:pt x="54" y="161"/>
                    </a:lnTo>
                    <a:lnTo>
                      <a:pt x="42" y="197"/>
                    </a:lnTo>
                    <a:lnTo>
                      <a:pt x="27" y="249"/>
                    </a:lnTo>
                    <a:lnTo>
                      <a:pt x="15" y="285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7" y="374"/>
                    </a:lnTo>
                    <a:lnTo>
                      <a:pt x="54" y="430"/>
                    </a:lnTo>
                    <a:lnTo>
                      <a:pt x="140" y="482"/>
                    </a:lnTo>
                    <a:lnTo>
                      <a:pt x="113" y="446"/>
                    </a:lnTo>
                    <a:lnTo>
                      <a:pt x="98" y="410"/>
                    </a:lnTo>
                    <a:lnTo>
                      <a:pt x="98" y="394"/>
                    </a:lnTo>
                    <a:lnTo>
                      <a:pt x="125" y="337"/>
                    </a:lnTo>
                    <a:lnTo>
                      <a:pt x="98" y="321"/>
                    </a:lnTo>
                    <a:lnTo>
                      <a:pt x="98" y="285"/>
                    </a:lnTo>
                    <a:lnTo>
                      <a:pt x="113" y="269"/>
                    </a:lnTo>
                    <a:lnTo>
                      <a:pt x="140" y="249"/>
                    </a:lnTo>
                    <a:lnTo>
                      <a:pt x="167" y="213"/>
                    </a:lnTo>
                    <a:lnTo>
                      <a:pt x="195" y="177"/>
                    </a:lnTo>
                    <a:lnTo>
                      <a:pt x="195" y="161"/>
                    </a:lnTo>
                    <a:lnTo>
                      <a:pt x="195" y="125"/>
                    </a:lnTo>
                    <a:lnTo>
                      <a:pt x="182" y="71"/>
                    </a:lnTo>
                    <a:lnTo>
                      <a:pt x="140" y="19"/>
                    </a:lnTo>
                    <a:lnTo>
                      <a:pt x="113" y="0"/>
                    </a:lnTo>
                    <a:lnTo>
                      <a:pt x="113" y="19"/>
                    </a:lnTo>
                    <a:lnTo>
                      <a:pt x="98" y="35"/>
                    </a:lnTo>
                    <a:lnTo>
                      <a:pt x="98" y="71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7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67400" y="4994280"/>
                <a:ext cx="351360" cy="225720"/>
              </a:xfrm>
              <a:custGeom>
                <a:avLst/>
                <a:gdLst/>
                <a:ahLst/>
                <a:rect l="0" t="0" r="r" b="b"/>
                <a:pathLst>
                  <a:path w="976" h="627">
                    <a:moveTo>
                      <a:pt x="561" y="145"/>
                    </a:moveTo>
                    <a:lnTo>
                      <a:pt x="534" y="286"/>
                    </a:lnTo>
                    <a:lnTo>
                      <a:pt x="503" y="359"/>
                    </a:lnTo>
                    <a:lnTo>
                      <a:pt x="457" y="413"/>
                    </a:lnTo>
                    <a:lnTo>
                      <a:pt x="399" y="394"/>
                    </a:lnTo>
                    <a:lnTo>
                      <a:pt x="371" y="375"/>
                    </a:lnTo>
                    <a:lnTo>
                      <a:pt x="325" y="375"/>
                    </a:lnTo>
                    <a:lnTo>
                      <a:pt x="267" y="394"/>
                    </a:lnTo>
                    <a:lnTo>
                      <a:pt x="208" y="447"/>
                    </a:lnTo>
                    <a:lnTo>
                      <a:pt x="134" y="466"/>
                    </a:lnTo>
                    <a:lnTo>
                      <a:pt x="0" y="539"/>
                    </a:lnTo>
                    <a:lnTo>
                      <a:pt x="0" y="573"/>
                    </a:lnTo>
                    <a:lnTo>
                      <a:pt x="15" y="608"/>
                    </a:lnTo>
                    <a:lnTo>
                      <a:pt x="73" y="627"/>
                    </a:lnTo>
                    <a:lnTo>
                      <a:pt x="147" y="608"/>
                    </a:lnTo>
                    <a:lnTo>
                      <a:pt x="208" y="592"/>
                    </a:lnTo>
                    <a:lnTo>
                      <a:pt x="356" y="539"/>
                    </a:lnTo>
                    <a:lnTo>
                      <a:pt x="488" y="466"/>
                    </a:lnTo>
                    <a:lnTo>
                      <a:pt x="534" y="466"/>
                    </a:lnTo>
                    <a:lnTo>
                      <a:pt x="577" y="485"/>
                    </a:lnTo>
                    <a:lnTo>
                      <a:pt x="620" y="501"/>
                    </a:lnTo>
                    <a:lnTo>
                      <a:pt x="650" y="539"/>
                    </a:lnTo>
                    <a:lnTo>
                      <a:pt x="708" y="573"/>
                    </a:lnTo>
                    <a:lnTo>
                      <a:pt x="724" y="539"/>
                    </a:lnTo>
                    <a:lnTo>
                      <a:pt x="740" y="520"/>
                    </a:lnTo>
                    <a:lnTo>
                      <a:pt x="771" y="520"/>
                    </a:lnTo>
                    <a:lnTo>
                      <a:pt x="814" y="520"/>
                    </a:lnTo>
                    <a:lnTo>
                      <a:pt x="844" y="520"/>
                    </a:lnTo>
                    <a:lnTo>
                      <a:pt x="872" y="485"/>
                    </a:lnTo>
                    <a:lnTo>
                      <a:pt x="902" y="413"/>
                    </a:lnTo>
                    <a:lnTo>
                      <a:pt x="933" y="321"/>
                    </a:lnTo>
                    <a:lnTo>
                      <a:pt x="961" y="232"/>
                    </a:lnTo>
                    <a:lnTo>
                      <a:pt x="976" y="198"/>
                    </a:lnTo>
                    <a:lnTo>
                      <a:pt x="976" y="179"/>
                    </a:lnTo>
                    <a:lnTo>
                      <a:pt x="933" y="160"/>
                    </a:lnTo>
                    <a:lnTo>
                      <a:pt x="872" y="145"/>
                    </a:lnTo>
                    <a:lnTo>
                      <a:pt x="814" y="126"/>
                    </a:lnTo>
                    <a:lnTo>
                      <a:pt x="783" y="126"/>
                    </a:lnTo>
                    <a:lnTo>
                      <a:pt x="755" y="106"/>
                    </a:lnTo>
                    <a:lnTo>
                      <a:pt x="708" y="91"/>
                    </a:lnTo>
                    <a:lnTo>
                      <a:pt x="708" y="53"/>
                    </a:lnTo>
                    <a:lnTo>
                      <a:pt x="696" y="19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38"/>
                    </a:lnTo>
                    <a:lnTo>
                      <a:pt x="518" y="53"/>
                    </a:lnTo>
                    <a:lnTo>
                      <a:pt x="561" y="14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124080" y="4497480"/>
              <a:ext cx="508320" cy="1281240"/>
              <a:chOff x="3124080" y="4497480"/>
              <a:chExt cx="508320" cy="1281240"/>
            </a:xfrm>
          </p:grpSpPr>
          <p:sp>
            <p:nvSpPr>
              <p:cNvPr id="585" name=""/>
              <p:cNvSpPr/>
              <p:nvPr/>
            </p:nvSpPr>
            <p:spPr>
              <a:xfrm>
                <a:off x="3265560" y="456732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08" y="208"/>
                    </a:moveTo>
                    <a:lnTo>
                      <a:pt x="208" y="145"/>
                    </a:lnTo>
                    <a:lnTo>
                      <a:pt x="177" y="79"/>
                    </a:lnTo>
                    <a:lnTo>
                      <a:pt x="123" y="39"/>
                    </a:lnTo>
                    <a:lnTo>
                      <a:pt x="70" y="0"/>
                    </a:lnTo>
                    <a:lnTo>
                      <a:pt x="39" y="26"/>
                    </a:lnTo>
                    <a:lnTo>
                      <a:pt x="0" y="6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92"/>
                    </a:lnTo>
                    <a:lnTo>
                      <a:pt x="79" y="132"/>
                    </a:lnTo>
                    <a:lnTo>
                      <a:pt x="137" y="181"/>
                    </a:lnTo>
                    <a:lnTo>
                      <a:pt x="150" y="247"/>
                    </a:lnTo>
                    <a:lnTo>
                      <a:pt x="150" y="269"/>
                    </a:lnTo>
                    <a:lnTo>
                      <a:pt x="164" y="296"/>
                    </a:lnTo>
                    <a:lnTo>
                      <a:pt x="177" y="322"/>
                    </a:lnTo>
                    <a:lnTo>
                      <a:pt x="208" y="336"/>
                    </a:lnTo>
                    <a:lnTo>
                      <a:pt x="221" y="349"/>
                    </a:lnTo>
                    <a:lnTo>
                      <a:pt x="234" y="349"/>
                    </a:lnTo>
                    <a:lnTo>
                      <a:pt x="261" y="322"/>
                    </a:lnTo>
                    <a:lnTo>
                      <a:pt x="261" y="296"/>
                    </a:lnTo>
                    <a:lnTo>
                      <a:pt x="247" y="283"/>
                    </a:lnTo>
                    <a:lnTo>
                      <a:pt x="234" y="234"/>
                    </a:lnTo>
                    <a:lnTo>
                      <a:pt x="221" y="221"/>
                    </a:lnTo>
                    <a:lnTo>
                      <a:pt x="208" y="221"/>
                    </a:lnTo>
                    <a:lnTo>
                      <a:pt x="208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19360" y="4697280"/>
                <a:ext cx="113040" cy="182880"/>
              </a:xfrm>
              <a:custGeom>
                <a:avLst/>
                <a:gdLst/>
                <a:ahLst/>
                <a:rect l="0" t="0" r="r" b="b"/>
                <a:pathLst>
                  <a:path w="314" h="508">
                    <a:moveTo>
                      <a:pt x="74" y="397"/>
                    </a:moveTo>
                    <a:lnTo>
                      <a:pt x="136" y="305"/>
                    </a:lnTo>
                    <a:lnTo>
                      <a:pt x="199" y="194"/>
                    </a:lnTo>
                    <a:lnTo>
                      <a:pt x="199" y="136"/>
                    </a:lnTo>
                    <a:lnTo>
                      <a:pt x="199" y="79"/>
                    </a:lnTo>
                    <a:lnTo>
                      <a:pt x="177" y="39"/>
                    </a:lnTo>
                    <a:lnTo>
                      <a:pt x="136" y="0"/>
                    </a:lnTo>
                    <a:lnTo>
                      <a:pt x="123" y="26"/>
                    </a:lnTo>
                    <a:lnTo>
                      <a:pt x="97" y="39"/>
                    </a:lnTo>
                    <a:lnTo>
                      <a:pt x="88" y="70"/>
                    </a:lnTo>
                    <a:lnTo>
                      <a:pt x="88" y="79"/>
                    </a:lnTo>
                    <a:lnTo>
                      <a:pt x="149" y="110"/>
                    </a:lnTo>
                    <a:lnTo>
                      <a:pt x="212" y="136"/>
                    </a:lnTo>
                    <a:lnTo>
                      <a:pt x="186" y="149"/>
                    </a:lnTo>
                    <a:lnTo>
                      <a:pt x="177" y="149"/>
                    </a:lnTo>
                    <a:lnTo>
                      <a:pt x="149" y="149"/>
                    </a:lnTo>
                    <a:lnTo>
                      <a:pt x="136" y="149"/>
                    </a:lnTo>
                    <a:lnTo>
                      <a:pt x="114" y="167"/>
                    </a:lnTo>
                    <a:lnTo>
                      <a:pt x="61" y="180"/>
                    </a:lnTo>
                    <a:lnTo>
                      <a:pt x="48" y="194"/>
                    </a:lnTo>
                    <a:lnTo>
                      <a:pt x="35" y="194"/>
                    </a:lnTo>
                    <a:lnTo>
                      <a:pt x="13" y="246"/>
                    </a:lnTo>
                    <a:lnTo>
                      <a:pt x="0" y="305"/>
                    </a:lnTo>
                    <a:lnTo>
                      <a:pt x="13" y="344"/>
                    </a:lnTo>
                    <a:lnTo>
                      <a:pt x="35" y="371"/>
                    </a:lnTo>
                    <a:lnTo>
                      <a:pt x="114" y="415"/>
                    </a:lnTo>
                    <a:lnTo>
                      <a:pt x="199" y="441"/>
                    </a:lnTo>
                    <a:lnTo>
                      <a:pt x="225" y="468"/>
                    </a:lnTo>
                    <a:lnTo>
                      <a:pt x="265" y="494"/>
                    </a:lnTo>
                    <a:lnTo>
                      <a:pt x="287" y="508"/>
                    </a:lnTo>
                    <a:lnTo>
                      <a:pt x="300" y="494"/>
                    </a:lnTo>
                    <a:lnTo>
                      <a:pt x="314" y="468"/>
                    </a:lnTo>
                    <a:lnTo>
                      <a:pt x="265" y="441"/>
                    </a:lnTo>
                    <a:lnTo>
                      <a:pt x="225" y="441"/>
                    </a:lnTo>
                    <a:lnTo>
                      <a:pt x="186" y="428"/>
                    </a:lnTo>
                    <a:lnTo>
                      <a:pt x="136" y="397"/>
                    </a:lnTo>
                    <a:lnTo>
                      <a:pt x="114" y="371"/>
                    </a:lnTo>
                    <a:lnTo>
                      <a:pt x="114" y="358"/>
                    </a:lnTo>
                    <a:lnTo>
                      <a:pt x="97" y="371"/>
                    </a:lnTo>
                    <a:lnTo>
                      <a:pt x="74" y="39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03440" y="5081760"/>
                <a:ext cx="174960" cy="47880"/>
              </a:xfrm>
              <a:custGeom>
                <a:avLst/>
                <a:gdLst/>
                <a:ahLst/>
                <a:rect l="0" t="0" r="r" b="b"/>
                <a:pathLst>
                  <a:path w="486" h="133">
                    <a:moveTo>
                      <a:pt x="119" y="30"/>
                    </a:moveTo>
                    <a:lnTo>
                      <a:pt x="158" y="57"/>
                    </a:lnTo>
                    <a:lnTo>
                      <a:pt x="185" y="75"/>
                    </a:lnTo>
                    <a:lnTo>
                      <a:pt x="211" y="44"/>
                    </a:lnTo>
                    <a:lnTo>
                      <a:pt x="247" y="17"/>
                    </a:lnTo>
                    <a:lnTo>
                      <a:pt x="367" y="44"/>
                    </a:lnTo>
                    <a:lnTo>
                      <a:pt x="486" y="93"/>
                    </a:lnTo>
                    <a:lnTo>
                      <a:pt x="477" y="133"/>
                    </a:lnTo>
                    <a:lnTo>
                      <a:pt x="433" y="133"/>
                    </a:lnTo>
                    <a:lnTo>
                      <a:pt x="340" y="133"/>
                    </a:lnTo>
                    <a:lnTo>
                      <a:pt x="331" y="120"/>
                    </a:lnTo>
                    <a:lnTo>
                      <a:pt x="292" y="102"/>
                    </a:lnTo>
                    <a:lnTo>
                      <a:pt x="265" y="93"/>
                    </a:lnTo>
                    <a:lnTo>
                      <a:pt x="247" y="93"/>
                    </a:lnTo>
                    <a:lnTo>
                      <a:pt x="220" y="102"/>
                    </a:lnTo>
                    <a:lnTo>
                      <a:pt x="185" y="120"/>
                    </a:lnTo>
                    <a:lnTo>
                      <a:pt x="158" y="133"/>
                    </a:lnTo>
                    <a:lnTo>
                      <a:pt x="145" y="133"/>
                    </a:lnTo>
                    <a:lnTo>
                      <a:pt x="105" y="133"/>
                    </a:lnTo>
                    <a:lnTo>
                      <a:pt x="66" y="120"/>
                    </a:lnTo>
                    <a:lnTo>
                      <a:pt x="52" y="93"/>
                    </a:lnTo>
                    <a:lnTo>
                      <a:pt x="13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39" y="30"/>
                    </a:lnTo>
                    <a:lnTo>
                      <a:pt x="66" y="75"/>
                    </a:lnTo>
                    <a:lnTo>
                      <a:pt x="92" y="102"/>
                    </a:lnTo>
                    <a:lnTo>
                      <a:pt x="105" y="102"/>
                    </a:lnTo>
                    <a:lnTo>
                      <a:pt x="119" y="102"/>
                    </a:lnTo>
                    <a:lnTo>
                      <a:pt x="119" y="75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03440" y="4497480"/>
                <a:ext cx="173520" cy="165600"/>
              </a:xfrm>
              <a:custGeom>
                <a:avLst/>
                <a:gdLst/>
                <a:ahLst/>
                <a:rect l="0" t="0" r="r" b="b"/>
                <a:pathLst>
                  <a:path w="482" h="460">
                    <a:moveTo>
                      <a:pt x="79" y="434"/>
                    </a:moveTo>
                    <a:lnTo>
                      <a:pt x="92" y="305"/>
                    </a:lnTo>
                    <a:lnTo>
                      <a:pt x="92" y="190"/>
                    </a:lnTo>
                    <a:lnTo>
                      <a:pt x="92" y="137"/>
                    </a:lnTo>
                    <a:lnTo>
                      <a:pt x="119" y="88"/>
                    </a:lnTo>
                    <a:lnTo>
                      <a:pt x="146" y="35"/>
                    </a:lnTo>
                    <a:lnTo>
                      <a:pt x="195" y="0"/>
                    </a:lnTo>
                    <a:lnTo>
                      <a:pt x="186" y="88"/>
                    </a:lnTo>
                    <a:lnTo>
                      <a:pt x="159" y="124"/>
                    </a:lnTo>
                    <a:lnTo>
                      <a:pt x="133" y="177"/>
                    </a:lnTo>
                    <a:lnTo>
                      <a:pt x="239" y="239"/>
                    </a:lnTo>
                    <a:lnTo>
                      <a:pt x="340" y="278"/>
                    </a:lnTo>
                    <a:lnTo>
                      <a:pt x="368" y="265"/>
                    </a:lnTo>
                    <a:lnTo>
                      <a:pt x="394" y="252"/>
                    </a:lnTo>
                    <a:lnTo>
                      <a:pt x="420" y="230"/>
                    </a:lnTo>
                    <a:lnTo>
                      <a:pt x="456" y="190"/>
                    </a:lnTo>
                    <a:lnTo>
                      <a:pt x="473" y="150"/>
                    </a:lnTo>
                    <a:lnTo>
                      <a:pt x="482" y="137"/>
                    </a:lnTo>
                    <a:lnTo>
                      <a:pt x="482" y="190"/>
                    </a:lnTo>
                    <a:lnTo>
                      <a:pt x="473" y="217"/>
                    </a:lnTo>
                    <a:lnTo>
                      <a:pt x="434" y="265"/>
                    </a:lnTo>
                    <a:lnTo>
                      <a:pt x="368" y="278"/>
                    </a:lnTo>
                    <a:lnTo>
                      <a:pt x="287" y="292"/>
                    </a:lnTo>
                    <a:lnTo>
                      <a:pt x="261" y="305"/>
                    </a:lnTo>
                    <a:lnTo>
                      <a:pt x="247" y="318"/>
                    </a:lnTo>
                    <a:lnTo>
                      <a:pt x="221" y="344"/>
                    </a:lnTo>
                    <a:lnTo>
                      <a:pt x="212" y="372"/>
                    </a:lnTo>
                    <a:lnTo>
                      <a:pt x="195" y="394"/>
                    </a:lnTo>
                    <a:lnTo>
                      <a:pt x="172" y="407"/>
                    </a:lnTo>
                    <a:lnTo>
                      <a:pt x="133" y="372"/>
                    </a:lnTo>
                    <a:lnTo>
                      <a:pt x="119" y="344"/>
                    </a:lnTo>
                    <a:lnTo>
                      <a:pt x="105" y="305"/>
                    </a:lnTo>
                    <a:lnTo>
                      <a:pt x="92" y="252"/>
                    </a:lnTo>
                    <a:lnTo>
                      <a:pt x="105" y="230"/>
                    </a:lnTo>
                    <a:lnTo>
                      <a:pt x="105" y="230"/>
                    </a:lnTo>
                    <a:lnTo>
                      <a:pt x="119" y="239"/>
                    </a:lnTo>
                    <a:lnTo>
                      <a:pt x="146" y="265"/>
                    </a:lnTo>
                    <a:lnTo>
                      <a:pt x="159" y="305"/>
                    </a:lnTo>
                    <a:lnTo>
                      <a:pt x="105" y="372"/>
                    </a:lnTo>
                    <a:lnTo>
                      <a:pt x="79" y="385"/>
                    </a:lnTo>
                    <a:lnTo>
                      <a:pt x="52" y="394"/>
                    </a:lnTo>
                    <a:lnTo>
                      <a:pt x="39" y="407"/>
                    </a:lnTo>
                    <a:lnTo>
                      <a:pt x="13" y="420"/>
                    </a:lnTo>
                    <a:lnTo>
                      <a:pt x="0" y="420"/>
                    </a:lnTo>
                    <a:lnTo>
                      <a:pt x="0" y="434"/>
                    </a:lnTo>
                    <a:lnTo>
                      <a:pt x="26" y="447"/>
                    </a:lnTo>
                    <a:lnTo>
                      <a:pt x="52" y="447"/>
                    </a:lnTo>
                    <a:lnTo>
                      <a:pt x="119" y="447"/>
                    </a:lnTo>
                    <a:lnTo>
                      <a:pt x="119" y="460"/>
                    </a:lnTo>
                    <a:lnTo>
                      <a:pt x="133" y="460"/>
                    </a:lnTo>
                    <a:lnTo>
                      <a:pt x="146" y="460"/>
                    </a:lnTo>
                    <a:lnTo>
                      <a:pt x="146" y="460"/>
                    </a:lnTo>
                    <a:lnTo>
                      <a:pt x="105" y="447"/>
                    </a:lnTo>
                    <a:lnTo>
                      <a:pt x="79" y="43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08200" y="5342040"/>
                <a:ext cx="81360" cy="228960"/>
              </a:xfrm>
              <a:custGeom>
                <a:avLst/>
                <a:gdLst/>
                <a:ahLst/>
                <a:rect l="0" t="0" r="r" b="b"/>
                <a:pathLst>
                  <a:path w="226" h="636">
                    <a:moveTo>
                      <a:pt x="115" y="17"/>
                    </a:moveTo>
                    <a:lnTo>
                      <a:pt x="124" y="79"/>
                    </a:lnTo>
                    <a:lnTo>
                      <a:pt x="150" y="132"/>
                    </a:lnTo>
                    <a:lnTo>
                      <a:pt x="187" y="282"/>
                    </a:lnTo>
                    <a:lnTo>
                      <a:pt x="226" y="433"/>
                    </a:lnTo>
                    <a:lnTo>
                      <a:pt x="213" y="481"/>
                    </a:lnTo>
                    <a:lnTo>
                      <a:pt x="187" y="521"/>
                    </a:lnTo>
                    <a:lnTo>
                      <a:pt x="164" y="552"/>
                    </a:lnTo>
                    <a:lnTo>
                      <a:pt x="124" y="583"/>
                    </a:lnTo>
                    <a:lnTo>
                      <a:pt x="89" y="605"/>
                    </a:lnTo>
                    <a:lnTo>
                      <a:pt x="62" y="605"/>
                    </a:lnTo>
                    <a:lnTo>
                      <a:pt x="62" y="618"/>
                    </a:lnTo>
                    <a:lnTo>
                      <a:pt x="62" y="636"/>
                    </a:lnTo>
                    <a:lnTo>
                      <a:pt x="89" y="636"/>
                    </a:lnTo>
                    <a:lnTo>
                      <a:pt x="124" y="618"/>
                    </a:lnTo>
                    <a:lnTo>
                      <a:pt x="124" y="468"/>
                    </a:lnTo>
                    <a:lnTo>
                      <a:pt x="137" y="450"/>
                    </a:lnTo>
                    <a:lnTo>
                      <a:pt x="137" y="433"/>
                    </a:lnTo>
                    <a:lnTo>
                      <a:pt x="115" y="419"/>
                    </a:lnTo>
                    <a:lnTo>
                      <a:pt x="75" y="384"/>
                    </a:lnTo>
                    <a:lnTo>
                      <a:pt x="35" y="367"/>
                    </a:lnTo>
                    <a:lnTo>
                      <a:pt x="13" y="367"/>
                    </a:lnTo>
                    <a:lnTo>
                      <a:pt x="0" y="336"/>
                    </a:lnTo>
                    <a:lnTo>
                      <a:pt x="0" y="299"/>
                    </a:lnTo>
                    <a:lnTo>
                      <a:pt x="13" y="282"/>
                    </a:lnTo>
                    <a:lnTo>
                      <a:pt x="52" y="264"/>
                    </a:lnTo>
                    <a:lnTo>
                      <a:pt x="75" y="282"/>
                    </a:lnTo>
                    <a:lnTo>
                      <a:pt x="89" y="317"/>
                    </a:lnTo>
                    <a:lnTo>
                      <a:pt x="115" y="367"/>
                    </a:lnTo>
                    <a:lnTo>
                      <a:pt x="150" y="317"/>
                    </a:lnTo>
                    <a:lnTo>
                      <a:pt x="164" y="299"/>
                    </a:lnTo>
                    <a:lnTo>
                      <a:pt x="137" y="264"/>
                    </a:lnTo>
                    <a:lnTo>
                      <a:pt x="102" y="233"/>
                    </a:lnTo>
                    <a:lnTo>
                      <a:pt x="89" y="216"/>
                    </a:lnTo>
                    <a:lnTo>
                      <a:pt x="75" y="202"/>
                    </a:lnTo>
                    <a:lnTo>
                      <a:pt x="26" y="0"/>
                    </a:lnTo>
                    <a:lnTo>
                      <a:pt x="35" y="30"/>
                    </a:lnTo>
                    <a:lnTo>
                      <a:pt x="75" y="66"/>
                    </a:lnTo>
                    <a:lnTo>
                      <a:pt x="102" y="66"/>
                    </a:lnTo>
                    <a:lnTo>
                      <a:pt x="115" y="48"/>
                    </a:lnTo>
                    <a:lnTo>
                      <a:pt x="115" y="1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76720" y="5607000"/>
                <a:ext cx="66960" cy="171720"/>
              </a:xfrm>
              <a:custGeom>
                <a:avLst/>
                <a:gdLst/>
                <a:ahLst/>
                <a:rect l="0" t="0" r="r" b="b"/>
                <a:pathLst>
                  <a:path w="186" h="477">
                    <a:moveTo>
                      <a:pt x="92" y="70"/>
                    </a:moveTo>
                    <a:lnTo>
                      <a:pt x="120" y="123"/>
                    </a:lnTo>
                    <a:lnTo>
                      <a:pt x="133" y="158"/>
                    </a:lnTo>
                    <a:lnTo>
                      <a:pt x="146" y="194"/>
                    </a:lnTo>
                    <a:lnTo>
                      <a:pt x="159" y="247"/>
                    </a:lnTo>
                    <a:lnTo>
                      <a:pt x="172" y="283"/>
                    </a:lnTo>
                    <a:lnTo>
                      <a:pt x="186" y="318"/>
                    </a:lnTo>
                    <a:lnTo>
                      <a:pt x="186" y="318"/>
                    </a:lnTo>
                    <a:lnTo>
                      <a:pt x="159" y="371"/>
                    </a:lnTo>
                    <a:lnTo>
                      <a:pt x="133" y="424"/>
                    </a:lnTo>
                    <a:lnTo>
                      <a:pt x="52" y="477"/>
                    </a:lnTo>
                    <a:lnTo>
                      <a:pt x="79" y="441"/>
                    </a:lnTo>
                    <a:lnTo>
                      <a:pt x="92" y="406"/>
                    </a:lnTo>
                    <a:lnTo>
                      <a:pt x="92" y="389"/>
                    </a:lnTo>
                    <a:lnTo>
                      <a:pt x="66" y="336"/>
                    </a:lnTo>
                    <a:lnTo>
                      <a:pt x="92" y="318"/>
                    </a:lnTo>
                    <a:lnTo>
                      <a:pt x="92" y="283"/>
                    </a:lnTo>
                    <a:lnTo>
                      <a:pt x="79" y="265"/>
                    </a:lnTo>
                    <a:lnTo>
                      <a:pt x="52" y="247"/>
                    </a:lnTo>
                    <a:lnTo>
                      <a:pt x="26" y="211"/>
                    </a:lnTo>
                    <a:lnTo>
                      <a:pt x="0" y="176"/>
                    </a:lnTo>
                    <a:lnTo>
                      <a:pt x="0" y="158"/>
                    </a:lnTo>
                    <a:lnTo>
                      <a:pt x="0" y="123"/>
                    </a:lnTo>
                    <a:lnTo>
                      <a:pt x="8" y="70"/>
                    </a:lnTo>
                    <a:lnTo>
                      <a:pt x="52" y="17"/>
                    </a:lnTo>
                    <a:lnTo>
                      <a:pt x="79" y="0"/>
                    </a:lnTo>
                    <a:lnTo>
                      <a:pt x="79" y="17"/>
                    </a:lnTo>
                    <a:lnTo>
                      <a:pt x="92" y="35"/>
                    </a:lnTo>
                    <a:lnTo>
                      <a:pt x="92" y="70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124080" y="5013360"/>
                <a:ext cx="340200" cy="192600"/>
              </a:xfrm>
              <a:custGeom>
                <a:avLst/>
                <a:gdLst/>
                <a:ahLst/>
                <a:rect l="0" t="0" r="r" b="b"/>
                <a:pathLst>
                  <a:path w="945" h="535">
                    <a:moveTo>
                      <a:pt x="402" y="123"/>
                    </a:moveTo>
                    <a:lnTo>
                      <a:pt x="428" y="243"/>
                    </a:lnTo>
                    <a:lnTo>
                      <a:pt x="459" y="305"/>
                    </a:lnTo>
                    <a:lnTo>
                      <a:pt x="503" y="353"/>
                    </a:lnTo>
                    <a:lnTo>
                      <a:pt x="556" y="336"/>
                    </a:lnTo>
                    <a:lnTo>
                      <a:pt x="587" y="318"/>
                    </a:lnTo>
                    <a:lnTo>
                      <a:pt x="631" y="318"/>
                    </a:lnTo>
                    <a:lnTo>
                      <a:pt x="684" y="336"/>
                    </a:lnTo>
                    <a:lnTo>
                      <a:pt x="742" y="380"/>
                    </a:lnTo>
                    <a:lnTo>
                      <a:pt x="813" y="397"/>
                    </a:lnTo>
                    <a:lnTo>
                      <a:pt x="945" y="460"/>
                    </a:lnTo>
                    <a:lnTo>
                      <a:pt x="945" y="491"/>
                    </a:lnTo>
                    <a:lnTo>
                      <a:pt x="932" y="517"/>
                    </a:lnTo>
                    <a:lnTo>
                      <a:pt x="875" y="535"/>
                    </a:lnTo>
                    <a:lnTo>
                      <a:pt x="804" y="517"/>
                    </a:lnTo>
                    <a:lnTo>
                      <a:pt x="742" y="504"/>
                    </a:lnTo>
                    <a:lnTo>
                      <a:pt x="600" y="460"/>
                    </a:lnTo>
                    <a:lnTo>
                      <a:pt x="472" y="397"/>
                    </a:lnTo>
                    <a:lnTo>
                      <a:pt x="428" y="397"/>
                    </a:lnTo>
                    <a:lnTo>
                      <a:pt x="384" y="416"/>
                    </a:lnTo>
                    <a:lnTo>
                      <a:pt x="344" y="429"/>
                    </a:lnTo>
                    <a:lnTo>
                      <a:pt x="314" y="460"/>
                    </a:lnTo>
                    <a:lnTo>
                      <a:pt x="256" y="491"/>
                    </a:lnTo>
                    <a:lnTo>
                      <a:pt x="243" y="460"/>
                    </a:lnTo>
                    <a:lnTo>
                      <a:pt x="229" y="442"/>
                    </a:lnTo>
                    <a:lnTo>
                      <a:pt x="198" y="442"/>
                    </a:lnTo>
                    <a:lnTo>
                      <a:pt x="158" y="442"/>
                    </a:lnTo>
                    <a:lnTo>
                      <a:pt x="127" y="442"/>
                    </a:lnTo>
                    <a:lnTo>
                      <a:pt x="101" y="416"/>
                    </a:lnTo>
                    <a:lnTo>
                      <a:pt x="70" y="353"/>
                    </a:lnTo>
                    <a:lnTo>
                      <a:pt x="39" y="274"/>
                    </a:lnTo>
                    <a:lnTo>
                      <a:pt x="13" y="199"/>
                    </a:lnTo>
                    <a:lnTo>
                      <a:pt x="0" y="168"/>
                    </a:lnTo>
                    <a:lnTo>
                      <a:pt x="0" y="155"/>
                    </a:lnTo>
                    <a:lnTo>
                      <a:pt x="39" y="137"/>
                    </a:lnTo>
                    <a:lnTo>
                      <a:pt x="101" y="123"/>
                    </a:lnTo>
                    <a:lnTo>
                      <a:pt x="158" y="105"/>
                    </a:lnTo>
                    <a:lnTo>
                      <a:pt x="185" y="105"/>
                    </a:lnTo>
                    <a:lnTo>
                      <a:pt x="211" y="92"/>
                    </a:lnTo>
                    <a:lnTo>
                      <a:pt x="256" y="79"/>
                    </a:lnTo>
                    <a:lnTo>
                      <a:pt x="256" y="44"/>
                    </a:lnTo>
                    <a:lnTo>
                      <a:pt x="269" y="17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30"/>
                    </a:lnTo>
                    <a:lnTo>
                      <a:pt x="441" y="44"/>
                    </a:lnTo>
                    <a:lnTo>
                      <a:pt x="402" y="12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410080" y="3886200"/>
              <a:ext cx="508320" cy="749880"/>
              <a:chOff x="5410080" y="3886200"/>
              <a:chExt cx="508320" cy="749880"/>
            </a:xfrm>
          </p:grpSpPr>
          <p:sp>
            <p:nvSpPr>
              <p:cNvPr id="593" name=""/>
              <p:cNvSpPr/>
              <p:nvPr/>
            </p:nvSpPr>
            <p:spPr>
              <a:xfrm>
                <a:off x="5551560" y="3927600"/>
                <a:ext cx="93960" cy="73440"/>
              </a:xfrm>
              <a:custGeom>
                <a:avLst/>
                <a:gdLst/>
                <a:ahLst/>
                <a:rect l="0" t="0" r="r" b="b"/>
                <a:pathLst>
                  <a:path w="261" h="204">
                    <a:moveTo>
                      <a:pt x="208" y="121"/>
                    </a:moveTo>
                    <a:lnTo>
                      <a:pt x="208" y="85"/>
                    </a:lnTo>
                    <a:lnTo>
                      <a:pt x="177" y="46"/>
                    </a:lnTo>
                    <a:lnTo>
                      <a:pt x="123" y="23"/>
                    </a:lnTo>
                    <a:lnTo>
                      <a:pt x="70" y="0"/>
                    </a:lnTo>
                    <a:lnTo>
                      <a:pt x="39" y="15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6" y="54"/>
                    </a:lnTo>
                    <a:lnTo>
                      <a:pt x="79" y="78"/>
                    </a:lnTo>
                    <a:lnTo>
                      <a:pt x="137" y="106"/>
                    </a:lnTo>
                    <a:lnTo>
                      <a:pt x="150" y="144"/>
                    </a:lnTo>
                    <a:lnTo>
                      <a:pt x="150" y="158"/>
                    </a:lnTo>
                    <a:lnTo>
                      <a:pt x="164" y="174"/>
                    </a:lnTo>
                    <a:lnTo>
                      <a:pt x="177" y="189"/>
                    </a:lnTo>
                    <a:lnTo>
                      <a:pt x="208" y="197"/>
                    </a:lnTo>
                    <a:lnTo>
                      <a:pt x="221" y="204"/>
                    </a:lnTo>
                    <a:lnTo>
                      <a:pt x="234" y="204"/>
                    </a:lnTo>
                    <a:lnTo>
                      <a:pt x="261" y="189"/>
                    </a:lnTo>
                    <a:lnTo>
                      <a:pt x="261" y="174"/>
                    </a:lnTo>
                    <a:lnTo>
                      <a:pt x="247" y="166"/>
                    </a:lnTo>
                    <a:lnTo>
                      <a:pt x="234" y="137"/>
                    </a:lnTo>
                    <a:lnTo>
                      <a:pt x="221" y="129"/>
                    </a:lnTo>
                    <a:lnTo>
                      <a:pt x="208" y="129"/>
                    </a:lnTo>
                    <a:lnTo>
                      <a:pt x="208" y="12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05360" y="4003560"/>
                <a:ext cx="113040" cy="106560"/>
              </a:xfrm>
              <a:custGeom>
                <a:avLst/>
                <a:gdLst/>
                <a:ahLst/>
                <a:rect l="0" t="0" r="r" b="b"/>
                <a:pathLst>
                  <a:path w="314" h="296">
                    <a:moveTo>
                      <a:pt x="74" y="232"/>
                    </a:moveTo>
                    <a:lnTo>
                      <a:pt x="136" y="178"/>
                    </a:lnTo>
                    <a:lnTo>
                      <a:pt x="199" y="113"/>
                    </a:lnTo>
                    <a:lnTo>
                      <a:pt x="199" y="79"/>
                    </a:lnTo>
                    <a:lnTo>
                      <a:pt x="199" y="46"/>
                    </a:lnTo>
                    <a:lnTo>
                      <a:pt x="177" y="23"/>
                    </a:lnTo>
                    <a:lnTo>
                      <a:pt x="136" y="0"/>
                    </a:lnTo>
                    <a:lnTo>
                      <a:pt x="123" y="15"/>
                    </a:lnTo>
                    <a:lnTo>
                      <a:pt x="97" y="23"/>
                    </a:lnTo>
                    <a:lnTo>
                      <a:pt x="88" y="41"/>
                    </a:lnTo>
                    <a:lnTo>
                      <a:pt x="88" y="46"/>
                    </a:lnTo>
                    <a:lnTo>
                      <a:pt x="149" y="64"/>
                    </a:lnTo>
                    <a:lnTo>
                      <a:pt x="212" y="79"/>
                    </a:lnTo>
                    <a:lnTo>
                      <a:pt x="186" y="87"/>
                    </a:lnTo>
                    <a:lnTo>
                      <a:pt x="177" y="87"/>
                    </a:lnTo>
                    <a:lnTo>
                      <a:pt x="149" y="87"/>
                    </a:lnTo>
                    <a:lnTo>
                      <a:pt x="136" y="87"/>
                    </a:lnTo>
                    <a:lnTo>
                      <a:pt x="114" y="97"/>
                    </a:lnTo>
                    <a:lnTo>
                      <a:pt x="61" y="105"/>
                    </a:lnTo>
                    <a:lnTo>
                      <a:pt x="48" y="113"/>
                    </a:lnTo>
                    <a:lnTo>
                      <a:pt x="35" y="113"/>
                    </a:lnTo>
                    <a:lnTo>
                      <a:pt x="13" y="143"/>
                    </a:lnTo>
                    <a:lnTo>
                      <a:pt x="0" y="178"/>
                    </a:lnTo>
                    <a:lnTo>
                      <a:pt x="13" y="201"/>
                    </a:lnTo>
                    <a:lnTo>
                      <a:pt x="35" y="216"/>
                    </a:lnTo>
                    <a:lnTo>
                      <a:pt x="114" y="242"/>
                    </a:lnTo>
                    <a:lnTo>
                      <a:pt x="199" y="257"/>
                    </a:lnTo>
                    <a:lnTo>
                      <a:pt x="225" y="273"/>
                    </a:lnTo>
                    <a:lnTo>
                      <a:pt x="265" y="288"/>
                    </a:lnTo>
                    <a:lnTo>
                      <a:pt x="287" y="296"/>
                    </a:lnTo>
                    <a:lnTo>
                      <a:pt x="300" y="288"/>
                    </a:lnTo>
                    <a:lnTo>
                      <a:pt x="314" y="273"/>
                    </a:lnTo>
                    <a:lnTo>
                      <a:pt x="265" y="257"/>
                    </a:lnTo>
                    <a:lnTo>
                      <a:pt x="225" y="257"/>
                    </a:lnTo>
                    <a:lnTo>
                      <a:pt x="186" y="250"/>
                    </a:lnTo>
                    <a:lnTo>
                      <a:pt x="136" y="232"/>
                    </a:lnTo>
                    <a:lnTo>
                      <a:pt x="114" y="216"/>
                    </a:lnTo>
                    <a:lnTo>
                      <a:pt x="114" y="209"/>
                    </a:lnTo>
                    <a:lnTo>
                      <a:pt x="97" y="216"/>
                    </a:lnTo>
                    <a:lnTo>
                      <a:pt x="74" y="23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89440" y="4227480"/>
                <a:ext cx="174960" cy="28800"/>
              </a:xfrm>
              <a:custGeom>
                <a:avLst/>
                <a:gdLst/>
                <a:ahLst/>
                <a:rect l="0" t="0" r="r" b="b"/>
                <a:pathLst>
                  <a:path w="486" h="80">
                    <a:moveTo>
                      <a:pt x="119" y="18"/>
                    </a:moveTo>
                    <a:lnTo>
                      <a:pt x="158" y="34"/>
                    </a:lnTo>
                    <a:lnTo>
                      <a:pt x="185" y="45"/>
                    </a:lnTo>
                    <a:lnTo>
                      <a:pt x="211" y="26"/>
                    </a:lnTo>
                    <a:lnTo>
                      <a:pt x="247" y="10"/>
                    </a:lnTo>
                    <a:lnTo>
                      <a:pt x="367" y="26"/>
                    </a:lnTo>
                    <a:lnTo>
                      <a:pt x="486" y="56"/>
                    </a:lnTo>
                    <a:lnTo>
                      <a:pt x="477" y="80"/>
                    </a:lnTo>
                    <a:lnTo>
                      <a:pt x="433" y="80"/>
                    </a:lnTo>
                    <a:lnTo>
                      <a:pt x="340" y="80"/>
                    </a:lnTo>
                    <a:lnTo>
                      <a:pt x="331" y="72"/>
                    </a:lnTo>
                    <a:lnTo>
                      <a:pt x="292" y="61"/>
                    </a:lnTo>
                    <a:lnTo>
                      <a:pt x="265" y="56"/>
                    </a:lnTo>
                    <a:lnTo>
                      <a:pt x="247" y="56"/>
                    </a:lnTo>
                    <a:lnTo>
                      <a:pt x="220" y="61"/>
                    </a:lnTo>
                    <a:lnTo>
                      <a:pt x="185" y="72"/>
                    </a:lnTo>
                    <a:lnTo>
                      <a:pt x="158" y="80"/>
                    </a:lnTo>
                    <a:lnTo>
                      <a:pt x="145" y="80"/>
                    </a:lnTo>
                    <a:lnTo>
                      <a:pt x="105" y="80"/>
                    </a:lnTo>
                    <a:lnTo>
                      <a:pt x="66" y="72"/>
                    </a:lnTo>
                    <a:lnTo>
                      <a:pt x="52" y="56"/>
                    </a:lnTo>
                    <a:lnTo>
                      <a:pt x="13" y="18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3" y="10"/>
                    </a:lnTo>
                    <a:lnTo>
                      <a:pt x="39" y="18"/>
                    </a:lnTo>
                    <a:lnTo>
                      <a:pt x="66" y="45"/>
                    </a:lnTo>
                    <a:lnTo>
                      <a:pt x="92" y="61"/>
                    </a:lnTo>
                    <a:lnTo>
                      <a:pt x="105" y="61"/>
                    </a:lnTo>
                    <a:lnTo>
                      <a:pt x="119" y="61"/>
                    </a:lnTo>
                    <a:lnTo>
                      <a:pt x="119" y="45"/>
                    </a:lnTo>
                    <a:lnTo>
                      <a:pt x="119" y="1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89440" y="3886200"/>
                <a:ext cx="173520" cy="97200"/>
              </a:xfrm>
              <a:custGeom>
                <a:avLst/>
                <a:gdLst/>
                <a:ahLst/>
                <a:rect l="0" t="0" r="r" b="b"/>
                <a:pathLst>
                  <a:path w="482" h="270">
                    <a:moveTo>
                      <a:pt x="79" y="255"/>
                    </a:moveTo>
                    <a:lnTo>
                      <a:pt x="92" y="179"/>
                    </a:lnTo>
                    <a:lnTo>
                      <a:pt x="92" y="112"/>
                    </a:lnTo>
                    <a:lnTo>
                      <a:pt x="92" y="81"/>
                    </a:lnTo>
                    <a:lnTo>
                      <a:pt x="119" y="51"/>
                    </a:lnTo>
                    <a:lnTo>
                      <a:pt x="146" y="20"/>
                    </a:lnTo>
                    <a:lnTo>
                      <a:pt x="195" y="0"/>
                    </a:lnTo>
                    <a:lnTo>
                      <a:pt x="186" y="51"/>
                    </a:lnTo>
                    <a:lnTo>
                      <a:pt x="159" y="73"/>
                    </a:lnTo>
                    <a:lnTo>
                      <a:pt x="133" y="104"/>
                    </a:lnTo>
                    <a:lnTo>
                      <a:pt x="239" y="140"/>
                    </a:lnTo>
                    <a:lnTo>
                      <a:pt x="340" y="163"/>
                    </a:lnTo>
                    <a:lnTo>
                      <a:pt x="368" y="156"/>
                    </a:lnTo>
                    <a:lnTo>
                      <a:pt x="394" y="148"/>
                    </a:lnTo>
                    <a:lnTo>
                      <a:pt x="420" y="135"/>
                    </a:lnTo>
                    <a:lnTo>
                      <a:pt x="456" y="112"/>
                    </a:lnTo>
                    <a:lnTo>
                      <a:pt x="473" y="88"/>
                    </a:lnTo>
                    <a:lnTo>
                      <a:pt x="482" y="81"/>
                    </a:lnTo>
                    <a:lnTo>
                      <a:pt x="482" y="112"/>
                    </a:lnTo>
                    <a:lnTo>
                      <a:pt x="473" y="127"/>
                    </a:lnTo>
                    <a:lnTo>
                      <a:pt x="434" y="156"/>
                    </a:lnTo>
                    <a:lnTo>
                      <a:pt x="368" y="163"/>
                    </a:lnTo>
                    <a:lnTo>
                      <a:pt x="287" y="171"/>
                    </a:lnTo>
                    <a:lnTo>
                      <a:pt x="261" y="179"/>
                    </a:lnTo>
                    <a:lnTo>
                      <a:pt x="247" y="187"/>
                    </a:lnTo>
                    <a:lnTo>
                      <a:pt x="221" y="202"/>
                    </a:lnTo>
                    <a:lnTo>
                      <a:pt x="212" y="219"/>
                    </a:lnTo>
                    <a:lnTo>
                      <a:pt x="195" y="232"/>
                    </a:lnTo>
                    <a:lnTo>
                      <a:pt x="172" y="239"/>
                    </a:lnTo>
                    <a:lnTo>
                      <a:pt x="133" y="219"/>
                    </a:lnTo>
                    <a:lnTo>
                      <a:pt x="119" y="202"/>
                    </a:lnTo>
                    <a:lnTo>
                      <a:pt x="105" y="179"/>
                    </a:lnTo>
                    <a:lnTo>
                      <a:pt x="92" y="148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19" y="140"/>
                    </a:lnTo>
                    <a:lnTo>
                      <a:pt x="146" y="156"/>
                    </a:lnTo>
                    <a:lnTo>
                      <a:pt x="159" y="179"/>
                    </a:lnTo>
                    <a:lnTo>
                      <a:pt x="105" y="219"/>
                    </a:lnTo>
                    <a:lnTo>
                      <a:pt x="79" y="227"/>
                    </a:lnTo>
                    <a:lnTo>
                      <a:pt x="52" y="232"/>
                    </a:lnTo>
                    <a:lnTo>
                      <a:pt x="39" y="239"/>
                    </a:lnTo>
                    <a:lnTo>
                      <a:pt x="13" y="247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26" y="263"/>
                    </a:lnTo>
                    <a:lnTo>
                      <a:pt x="52" y="263"/>
                    </a:lnTo>
                    <a:lnTo>
                      <a:pt x="119" y="263"/>
                    </a:lnTo>
                    <a:lnTo>
                      <a:pt x="119" y="270"/>
                    </a:lnTo>
                    <a:lnTo>
                      <a:pt x="133" y="270"/>
                    </a:lnTo>
                    <a:lnTo>
                      <a:pt x="146" y="270"/>
                    </a:lnTo>
                    <a:lnTo>
                      <a:pt x="146" y="270"/>
                    </a:lnTo>
                    <a:lnTo>
                      <a:pt x="105" y="263"/>
                    </a:lnTo>
                    <a:lnTo>
                      <a:pt x="79" y="255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94200" y="4379760"/>
                <a:ext cx="81360" cy="133560"/>
              </a:xfrm>
              <a:custGeom>
                <a:avLst/>
                <a:gdLst/>
                <a:ahLst/>
                <a:rect l="0" t="0" r="r" b="b"/>
                <a:pathLst>
                  <a:path w="226" h="371">
                    <a:moveTo>
                      <a:pt x="115" y="10"/>
                    </a:moveTo>
                    <a:lnTo>
                      <a:pt x="124" y="46"/>
                    </a:lnTo>
                    <a:lnTo>
                      <a:pt x="150" y="77"/>
                    </a:lnTo>
                    <a:lnTo>
                      <a:pt x="187" y="164"/>
                    </a:lnTo>
                    <a:lnTo>
                      <a:pt x="226" y="253"/>
                    </a:lnTo>
                    <a:lnTo>
                      <a:pt x="213" y="281"/>
                    </a:lnTo>
                    <a:lnTo>
                      <a:pt x="187" y="304"/>
                    </a:lnTo>
                    <a:lnTo>
                      <a:pt x="164" y="322"/>
                    </a:lnTo>
                    <a:lnTo>
                      <a:pt x="124" y="340"/>
                    </a:lnTo>
                    <a:lnTo>
                      <a:pt x="89" y="353"/>
                    </a:lnTo>
                    <a:lnTo>
                      <a:pt x="62" y="353"/>
                    </a:lnTo>
                    <a:lnTo>
                      <a:pt x="62" y="361"/>
                    </a:lnTo>
                    <a:lnTo>
                      <a:pt x="62" y="371"/>
                    </a:lnTo>
                    <a:lnTo>
                      <a:pt x="89" y="371"/>
                    </a:lnTo>
                    <a:lnTo>
                      <a:pt x="124" y="361"/>
                    </a:lnTo>
                    <a:lnTo>
                      <a:pt x="124" y="273"/>
                    </a:lnTo>
                    <a:lnTo>
                      <a:pt x="137" y="263"/>
                    </a:lnTo>
                    <a:lnTo>
                      <a:pt x="137" y="253"/>
                    </a:lnTo>
                    <a:lnTo>
                      <a:pt x="115" y="245"/>
                    </a:lnTo>
                    <a:lnTo>
                      <a:pt x="75" y="224"/>
                    </a:lnTo>
                    <a:lnTo>
                      <a:pt x="35" y="214"/>
                    </a:lnTo>
                    <a:lnTo>
                      <a:pt x="13" y="214"/>
                    </a:lnTo>
                    <a:lnTo>
                      <a:pt x="0" y="196"/>
                    </a:lnTo>
                    <a:lnTo>
                      <a:pt x="0" y="174"/>
                    </a:lnTo>
                    <a:lnTo>
                      <a:pt x="13" y="164"/>
                    </a:lnTo>
                    <a:lnTo>
                      <a:pt x="52" y="154"/>
                    </a:lnTo>
                    <a:lnTo>
                      <a:pt x="75" y="164"/>
                    </a:lnTo>
                    <a:lnTo>
                      <a:pt x="89" y="186"/>
                    </a:lnTo>
                    <a:lnTo>
                      <a:pt x="115" y="214"/>
                    </a:lnTo>
                    <a:lnTo>
                      <a:pt x="150" y="186"/>
                    </a:lnTo>
                    <a:lnTo>
                      <a:pt x="164" y="174"/>
                    </a:lnTo>
                    <a:lnTo>
                      <a:pt x="137" y="154"/>
                    </a:lnTo>
                    <a:lnTo>
                      <a:pt x="102" y="136"/>
                    </a:lnTo>
                    <a:lnTo>
                      <a:pt x="89" y="126"/>
                    </a:lnTo>
                    <a:lnTo>
                      <a:pt x="75" y="118"/>
                    </a:lnTo>
                    <a:lnTo>
                      <a:pt x="26" y="0"/>
                    </a:lnTo>
                    <a:lnTo>
                      <a:pt x="35" y="18"/>
                    </a:lnTo>
                    <a:lnTo>
                      <a:pt x="75" y="38"/>
                    </a:lnTo>
                    <a:lnTo>
                      <a:pt x="102" y="38"/>
                    </a:lnTo>
                    <a:lnTo>
                      <a:pt x="115" y="28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62720" y="4535640"/>
                <a:ext cx="66960" cy="100440"/>
              </a:xfrm>
              <a:custGeom>
                <a:avLst/>
                <a:gdLst/>
                <a:ahLst/>
                <a:rect l="0" t="0" r="r" b="b"/>
                <a:pathLst>
                  <a:path w="186" h="279">
                    <a:moveTo>
                      <a:pt x="92" y="41"/>
                    </a:moveTo>
                    <a:lnTo>
                      <a:pt x="120" y="73"/>
                    </a:lnTo>
                    <a:lnTo>
                      <a:pt x="133" y="93"/>
                    </a:lnTo>
                    <a:lnTo>
                      <a:pt x="146" y="114"/>
                    </a:lnTo>
                    <a:lnTo>
                      <a:pt x="159" y="145"/>
                    </a:lnTo>
                    <a:lnTo>
                      <a:pt x="172" y="165"/>
                    </a:lnTo>
                    <a:lnTo>
                      <a:pt x="186" y="186"/>
                    </a:lnTo>
                    <a:lnTo>
                      <a:pt x="186" y="186"/>
                    </a:lnTo>
                    <a:lnTo>
                      <a:pt x="159" y="218"/>
                    </a:lnTo>
                    <a:lnTo>
                      <a:pt x="133" y="248"/>
                    </a:lnTo>
                    <a:lnTo>
                      <a:pt x="52" y="279"/>
                    </a:lnTo>
                    <a:lnTo>
                      <a:pt x="79" y="259"/>
                    </a:lnTo>
                    <a:lnTo>
                      <a:pt x="92" y="238"/>
                    </a:lnTo>
                    <a:lnTo>
                      <a:pt x="92" y="228"/>
                    </a:lnTo>
                    <a:lnTo>
                      <a:pt x="66" y="196"/>
                    </a:lnTo>
                    <a:lnTo>
                      <a:pt x="92" y="186"/>
                    </a:lnTo>
                    <a:lnTo>
                      <a:pt x="92" y="165"/>
                    </a:lnTo>
                    <a:lnTo>
                      <a:pt x="79" y="155"/>
                    </a:lnTo>
                    <a:lnTo>
                      <a:pt x="52" y="145"/>
                    </a:lnTo>
                    <a:lnTo>
                      <a:pt x="26" y="124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73"/>
                    </a:lnTo>
                    <a:lnTo>
                      <a:pt x="8" y="41"/>
                    </a:lnTo>
                    <a:lnTo>
                      <a:pt x="52" y="10"/>
                    </a:lnTo>
                    <a:lnTo>
                      <a:pt x="79" y="0"/>
                    </a:lnTo>
                    <a:lnTo>
                      <a:pt x="79" y="10"/>
                    </a:lnTo>
                    <a:lnTo>
                      <a:pt x="92" y="20"/>
                    </a:lnTo>
                    <a:lnTo>
                      <a:pt x="92" y="41"/>
                    </a:lnTo>
                    <a:lnTo>
                      <a:pt x="92" y="51"/>
                    </a:lnTo>
                    <a:lnTo>
                      <a:pt x="92" y="51"/>
                    </a:lnTo>
                    <a:lnTo>
                      <a:pt x="92" y="41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10080" y="4187880"/>
                <a:ext cx="340200" cy="113040"/>
              </a:xfrm>
              <a:custGeom>
                <a:avLst/>
                <a:gdLst/>
                <a:ahLst/>
                <a:rect l="0" t="0" r="r" b="b"/>
                <a:pathLst>
                  <a:path w="945" h="314">
                    <a:moveTo>
                      <a:pt x="402" y="72"/>
                    </a:moveTo>
                    <a:lnTo>
                      <a:pt x="428" y="142"/>
                    </a:lnTo>
                    <a:lnTo>
                      <a:pt x="459" y="179"/>
                    </a:lnTo>
                    <a:lnTo>
                      <a:pt x="503" y="208"/>
                    </a:lnTo>
                    <a:lnTo>
                      <a:pt x="556" y="197"/>
                    </a:lnTo>
                    <a:lnTo>
                      <a:pt x="587" y="187"/>
                    </a:lnTo>
                    <a:lnTo>
                      <a:pt x="631" y="187"/>
                    </a:lnTo>
                    <a:lnTo>
                      <a:pt x="684" y="197"/>
                    </a:lnTo>
                    <a:lnTo>
                      <a:pt x="742" y="223"/>
                    </a:lnTo>
                    <a:lnTo>
                      <a:pt x="813" y="233"/>
                    </a:lnTo>
                    <a:lnTo>
                      <a:pt x="945" y="270"/>
                    </a:lnTo>
                    <a:lnTo>
                      <a:pt x="945" y="288"/>
                    </a:lnTo>
                    <a:lnTo>
                      <a:pt x="932" y="303"/>
                    </a:lnTo>
                    <a:lnTo>
                      <a:pt x="875" y="314"/>
                    </a:lnTo>
                    <a:lnTo>
                      <a:pt x="804" y="303"/>
                    </a:lnTo>
                    <a:lnTo>
                      <a:pt x="742" y="295"/>
                    </a:lnTo>
                    <a:lnTo>
                      <a:pt x="600" y="270"/>
                    </a:lnTo>
                    <a:lnTo>
                      <a:pt x="472" y="233"/>
                    </a:lnTo>
                    <a:lnTo>
                      <a:pt x="428" y="233"/>
                    </a:lnTo>
                    <a:lnTo>
                      <a:pt x="384" y="244"/>
                    </a:lnTo>
                    <a:lnTo>
                      <a:pt x="344" y="251"/>
                    </a:lnTo>
                    <a:lnTo>
                      <a:pt x="314" y="270"/>
                    </a:lnTo>
                    <a:lnTo>
                      <a:pt x="256" y="288"/>
                    </a:lnTo>
                    <a:lnTo>
                      <a:pt x="243" y="270"/>
                    </a:lnTo>
                    <a:lnTo>
                      <a:pt x="229" y="259"/>
                    </a:lnTo>
                    <a:lnTo>
                      <a:pt x="198" y="259"/>
                    </a:lnTo>
                    <a:lnTo>
                      <a:pt x="158" y="259"/>
                    </a:lnTo>
                    <a:lnTo>
                      <a:pt x="127" y="259"/>
                    </a:lnTo>
                    <a:lnTo>
                      <a:pt x="101" y="244"/>
                    </a:lnTo>
                    <a:lnTo>
                      <a:pt x="70" y="208"/>
                    </a:lnTo>
                    <a:lnTo>
                      <a:pt x="39" y="161"/>
                    </a:lnTo>
                    <a:lnTo>
                      <a:pt x="13" y="116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39" y="80"/>
                    </a:lnTo>
                    <a:lnTo>
                      <a:pt x="101" y="72"/>
                    </a:lnTo>
                    <a:lnTo>
                      <a:pt x="158" y="62"/>
                    </a:lnTo>
                    <a:lnTo>
                      <a:pt x="185" y="62"/>
                    </a:lnTo>
                    <a:lnTo>
                      <a:pt x="211" y="54"/>
                    </a:lnTo>
                    <a:lnTo>
                      <a:pt x="256" y="46"/>
                    </a:lnTo>
                    <a:lnTo>
                      <a:pt x="256" y="25"/>
                    </a:lnTo>
                    <a:lnTo>
                      <a:pt x="269" y="10"/>
                    </a:lnTo>
                    <a:lnTo>
                      <a:pt x="331" y="0"/>
                    </a:lnTo>
                    <a:lnTo>
                      <a:pt x="402" y="0"/>
                    </a:lnTo>
                    <a:lnTo>
                      <a:pt x="459" y="0"/>
                    </a:lnTo>
                    <a:lnTo>
                      <a:pt x="441" y="18"/>
                    </a:lnTo>
                    <a:lnTo>
                      <a:pt x="441" y="25"/>
                    </a:lnTo>
                    <a:lnTo>
                      <a:pt x="402" y="7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3048120" y="3809880"/>
              <a:ext cx="508320" cy="597240"/>
              <a:chOff x="3048120" y="3809880"/>
              <a:chExt cx="508320" cy="597240"/>
            </a:xfrm>
          </p:grpSpPr>
          <p:sp>
            <p:nvSpPr>
              <p:cNvPr id="601" name=""/>
              <p:cNvSpPr/>
              <p:nvPr/>
            </p:nvSpPr>
            <p:spPr>
              <a:xfrm>
                <a:off x="3316320" y="3844800"/>
                <a:ext cx="117720" cy="57600"/>
              </a:xfrm>
              <a:custGeom>
                <a:avLst/>
                <a:gdLst/>
                <a:ahLst/>
                <a:rect l="0" t="0" r="r" b="b"/>
                <a:pathLst>
                  <a:path w="327" h="160">
                    <a:moveTo>
                      <a:pt x="67" y="94"/>
                    </a:moveTo>
                    <a:lnTo>
                      <a:pt x="67" y="66"/>
                    </a:lnTo>
                    <a:lnTo>
                      <a:pt x="101" y="35"/>
                    </a:lnTo>
                    <a:lnTo>
                      <a:pt x="173" y="17"/>
                    </a:lnTo>
                    <a:lnTo>
                      <a:pt x="241" y="0"/>
                    </a:lnTo>
                    <a:lnTo>
                      <a:pt x="278" y="11"/>
                    </a:lnTo>
                    <a:lnTo>
                      <a:pt x="327" y="29"/>
                    </a:lnTo>
                    <a:lnTo>
                      <a:pt x="327" y="42"/>
                    </a:lnTo>
                    <a:lnTo>
                      <a:pt x="327" y="42"/>
                    </a:lnTo>
                    <a:lnTo>
                      <a:pt x="293" y="42"/>
                    </a:lnTo>
                    <a:lnTo>
                      <a:pt x="226" y="60"/>
                    </a:lnTo>
                    <a:lnTo>
                      <a:pt x="153" y="84"/>
                    </a:lnTo>
                    <a:lnTo>
                      <a:pt x="138" y="112"/>
                    </a:lnTo>
                    <a:lnTo>
                      <a:pt x="138" y="125"/>
                    </a:lnTo>
                    <a:lnTo>
                      <a:pt x="120" y="137"/>
                    </a:lnTo>
                    <a:lnTo>
                      <a:pt x="101" y="148"/>
                    </a:lnTo>
                    <a:lnTo>
                      <a:pt x="67" y="154"/>
                    </a:lnTo>
                    <a:lnTo>
                      <a:pt x="48" y="160"/>
                    </a:lnTo>
                    <a:lnTo>
                      <a:pt x="33" y="160"/>
                    </a:lnTo>
                    <a:lnTo>
                      <a:pt x="0" y="148"/>
                    </a:lnTo>
                    <a:lnTo>
                      <a:pt x="0" y="137"/>
                    </a:lnTo>
                    <a:lnTo>
                      <a:pt x="15" y="131"/>
                    </a:lnTo>
                    <a:lnTo>
                      <a:pt x="33" y="106"/>
                    </a:lnTo>
                    <a:lnTo>
                      <a:pt x="48" y="100"/>
                    </a:lnTo>
                    <a:lnTo>
                      <a:pt x="67" y="100"/>
                    </a:lnTo>
                    <a:lnTo>
                      <a:pt x="67" y="9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48120" y="3903840"/>
                <a:ext cx="135360" cy="92520"/>
              </a:xfrm>
              <a:custGeom>
                <a:avLst/>
                <a:gdLst/>
                <a:ahLst/>
                <a:rect l="0" t="0" r="r" b="b"/>
                <a:pathLst>
                  <a:path w="376" h="257">
                    <a:moveTo>
                      <a:pt x="285" y="202"/>
                    </a:moveTo>
                    <a:lnTo>
                      <a:pt x="211" y="153"/>
                    </a:lnTo>
                    <a:lnTo>
                      <a:pt x="137" y="97"/>
                    </a:lnTo>
                    <a:lnTo>
                      <a:pt x="137" y="69"/>
                    </a:lnTo>
                    <a:lnTo>
                      <a:pt x="137" y="40"/>
                    </a:lnTo>
                    <a:lnTo>
                      <a:pt x="165" y="19"/>
                    </a:lnTo>
                    <a:lnTo>
                      <a:pt x="211" y="0"/>
                    </a:lnTo>
                    <a:lnTo>
                      <a:pt x="225" y="13"/>
                    </a:lnTo>
                    <a:lnTo>
                      <a:pt x="256" y="19"/>
                    </a:lnTo>
                    <a:lnTo>
                      <a:pt x="270" y="34"/>
                    </a:lnTo>
                    <a:lnTo>
                      <a:pt x="270" y="40"/>
                    </a:lnTo>
                    <a:lnTo>
                      <a:pt x="197" y="55"/>
                    </a:lnTo>
                    <a:lnTo>
                      <a:pt x="120" y="69"/>
                    </a:lnTo>
                    <a:lnTo>
                      <a:pt x="151" y="76"/>
                    </a:lnTo>
                    <a:lnTo>
                      <a:pt x="165" y="76"/>
                    </a:lnTo>
                    <a:lnTo>
                      <a:pt x="197" y="76"/>
                    </a:lnTo>
                    <a:lnTo>
                      <a:pt x="211" y="76"/>
                    </a:lnTo>
                    <a:lnTo>
                      <a:pt x="239" y="84"/>
                    </a:lnTo>
                    <a:lnTo>
                      <a:pt x="299" y="91"/>
                    </a:lnTo>
                    <a:lnTo>
                      <a:pt x="317" y="97"/>
                    </a:lnTo>
                    <a:lnTo>
                      <a:pt x="331" y="97"/>
                    </a:lnTo>
                    <a:lnTo>
                      <a:pt x="359" y="125"/>
                    </a:lnTo>
                    <a:lnTo>
                      <a:pt x="376" y="153"/>
                    </a:lnTo>
                    <a:lnTo>
                      <a:pt x="359" y="174"/>
                    </a:lnTo>
                    <a:lnTo>
                      <a:pt x="331" y="187"/>
                    </a:lnTo>
                    <a:lnTo>
                      <a:pt x="239" y="210"/>
                    </a:lnTo>
                    <a:lnTo>
                      <a:pt x="137" y="223"/>
                    </a:lnTo>
                    <a:lnTo>
                      <a:pt x="106" y="238"/>
                    </a:lnTo>
                    <a:lnTo>
                      <a:pt x="59" y="251"/>
                    </a:lnTo>
                    <a:lnTo>
                      <a:pt x="31" y="257"/>
                    </a:lnTo>
                    <a:lnTo>
                      <a:pt x="17" y="251"/>
                    </a:lnTo>
                    <a:lnTo>
                      <a:pt x="0" y="238"/>
                    </a:lnTo>
                    <a:lnTo>
                      <a:pt x="59" y="223"/>
                    </a:lnTo>
                    <a:lnTo>
                      <a:pt x="106" y="223"/>
                    </a:lnTo>
                    <a:lnTo>
                      <a:pt x="151" y="216"/>
                    </a:lnTo>
                    <a:lnTo>
                      <a:pt x="211" y="202"/>
                    </a:lnTo>
                    <a:lnTo>
                      <a:pt x="239" y="187"/>
                    </a:lnTo>
                    <a:lnTo>
                      <a:pt x="239" y="181"/>
                    </a:lnTo>
                    <a:lnTo>
                      <a:pt x="256" y="187"/>
                    </a:lnTo>
                    <a:lnTo>
                      <a:pt x="285" y="20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98880" y="4075200"/>
                <a:ext cx="200520" cy="36720"/>
              </a:xfrm>
              <a:custGeom>
                <a:avLst/>
                <a:gdLst/>
                <a:ahLst/>
                <a:rect l="0" t="0" r="r" b="b"/>
                <a:pathLst>
                  <a:path w="557" h="102">
                    <a:moveTo>
                      <a:pt x="422" y="22"/>
                    </a:moveTo>
                    <a:lnTo>
                      <a:pt x="377" y="44"/>
                    </a:lnTo>
                    <a:lnTo>
                      <a:pt x="346" y="57"/>
                    </a:lnTo>
                    <a:lnTo>
                      <a:pt x="316" y="34"/>
                    </a:lnTo>
                    <a:lnTo>
                      <a:pt x="272" y="12"/>
                    </a:lnTo>
                    <a:lnTo>
                      <a:pt x="135" y="34"/>
                    </a:lnTo>
                    <a:lnTo>
                      <a:pt x="0" y="70"/>
                    </a:lnTo>
                    <a:lnTo>
                      <a:pt x="13" y="102"/>
                    </a:lnTo>
                    <a:lnTo>
                      <a:pt x="60" y="102"/>
                    </a:lnTo>
                    <a:lnTo>
                      <a:pt x="167" y="102"/>
                    </a:lnTo>
                    <a:lnTo>
                      <a:pt x="180" y="92"/>
                    </a:lnTo>
                    <a:lnTo>
                      <a:pt x="224" y="80"/>
                    </a:lnTo>
                    <a:lnTo>
                      <a:pt x="255" y="70"/>
                    </a:lnTo>
                    <a:lnTo>
                      <a:pt x="272" y="70"/>
                    </a:lnTo>
                    <a:lnTo>
                      <a:pt x="302" y="80"/>
                    </a:lnTo>
                    <a:lnTo>
                      <a:pt x="346" y="92"/>
                    </a:lnTo>
                    <a:lnTo>
                      <a:pt x="377" y="102"/>
                    </a:lnTo>
                    <a:lnTo>
                      <a:pt x="390" y="102"/>
                    </a:lnTo>
                    <a:lnTo>
                      <a:pt x="435" y="102"/>
                    </a:lnTo>
                    <a:lnTo>
                      <a:pt x="483" y="92"/>
                    </a:lnTo>
                    <a:lnTo>
                      <a:pt x="496" y="70"/>
                    </a:lnTo>
                    <a:lnTo>
                      <a:pt x="540" y="22"/>
                    </a:lnTo>
                    <a:lnTo>
                      <a:pt x="557" y="12"/>
                    </a:lnTo>
                    <a:lnTo>
                      <a:pt x="557" y="0"/>
                    </a:lnTo>
                    <a:lnTo>
                      <a:pt x="540" y="12"/>
                    </a:lnTo>
                    <a:lnTo>
                      <a:pt x="513" y="22"/>
                    </a:lnTo>
                    <a:lnTo>
                      <a:pt x="483" y="57"/>
                    </a:lnTo>
                    <a:lnTo>
                      <a:pt x="452" y="80"/>
                    </a:lnTo>
                    <a:lnTo>
                      <a:pt x="435" y="80"/>
                    </a:lnTo>
                    <a:lnTo>
                      <a:pt x="422" y="80"/>
                    </a:lnTo>
                    <a:lnTo>
                      <a:pt x="422" y="57"/>
                    </a:lnTo>
                    <a:lnTo>
                      <a:pt x="422" y="22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92400" y="3809880"/>
                <a:ext cx="187560" cy="79560"/>
              </a:xfrm>
              <a:custGeom>
                <a:avLst/>
                <a:gdLst/>
                <a:ahLst/>
                <a:rect l="0" t="0" r="r" b="b"/>
                <a:pathLst>
                  <a:path w="521" h="221">
                    <a:moveTo>
                      <a:pt x="435" y="208"/>
                    </a:moveTo>
                    <a:lnTo>
                      <a:pt x="422" y="147"/>
                    </a:lnTo>
                    <a:lnTo>
                      <a:pt x="422" y="92"/>
                    </a:lnTo>
                    <a:lnTo>
                      <a:pt x="422" y="67"/>
                    </a:lnTo>
                    <a:lnTo>
                      <a:pt x="393" y="42"/>
                    </a:lnTo>
                    <a:lnTo>
                      <a:pt x="364" y="18"/>
                    </a:lnTo>
                    <a:lnTo>
                      <a:pt x="310" y="0"/>
                    </a:lnTo>
                    <a:lnTo>
                      <a:pt x="323" y="42"/>
                    </a:lnTo>
                    <a:lnTo>
                      <a:pt x="352" y="60"/>
                    </a:lnTo>
                    <a:lnTo>
                      <a:pt x="380" y="86"/>
                    </a:lnTo>
                    <a:lnTo>
                      <a:pt x="265" y="116"/>
                    </a:lnTo>
                    <a:lnTo>
                      <a:pt x="153" y="135"/>
                    </a:lnTo>
                    <a:lnTo>
                      <a:pt x="124" y="129"/>
                    </a:lnTo>
                    <a:lnTo>
                      <a:pt x="98" y="122"/>
                    </a:lnTo>
                    <a:lnTo>
                      <a:pt x="70" y="112"/>
                    </a:lnTo>
                    <a:lnTo>
                      <a:pt x="28" y="92"/>
                    </a:lnTo>
                    <a:lnTo>
                      <a:pt x="12" y="73"/>
                    </a:lnTo>
                    <a:lnTo>
                      <a:pt x="0" y="67"/>
                    </a:lnTo>
                    <a:lnTo>
                      <a:pt x="0" y="92"/>
                    </a:lnTo>
                    <a:lnTo>
                      <a:pt x="12" y="104"/>
                    </a:lnTo>
                    <a:lnTo>
                      <a:pt x="54" y="129"/>
                    </a:lnTo>
                    <a:lnTo>
                      <a:pt x="124" y="135"/>
                    </a:lnTo>
                    <a:lnTo>
                      <a:pt x="210" y="141"/>
                    </a:lnTo>
                    <a:lnTo>
                      <a:pt x="239" y="147"/>
                    </a:lnTo>
                    <a:lnTo>
                      <a:pt x="252" y="154"/>
                    </a:lnTo>
                    <a:lnTo>
                      <a:pt x="281" y="166"/>
                    </a:lnTo>
                    <a:lnTo>
                      <a:pt x="294" y="179"/>
                    </a:lnTo>
                    <a:lnTo>
                      <a:pt x="310" y="190"/>
                    </a:lnTo>
                    <a:lnTo>
                      <a:pt x="336" y="196"/>
                    </a:lnTo>
                    <a:lnTo>
                      <a:pt x="380" y="179"/>
                    </a:lnTo>
                    <a:lnTo>
                      <a:pt x="393" y="166"/>
                    </a:lnTo>
                    <a:lnTo>
                      <a:pt x="406" y="147"/>
                    </a:lnTo>
                    <a:lnTo>
                      <a:pt x="422" y="122"/>
                    </a:lnTo>
                    <a:lnTo>
                      <a:pt x="406" y="112"/>
                    </a:lnTo>
                    <a:lnTo>
                      <a:pt x="406" y="112"/>
                    </a:lnTo>
                    <a:lnTo>
                      <a:pt x="393" y="116"/>
                    </a:lnTo>
                    <a:lnTo>
                      <a:pt x="364" y="129"/>
                    </a:lnTo>
                    <a:lnTo>
                      <a:pt x="352" y="147"/>
                    </a:lnTo>
                    <a:lnTo>
                      <a:pt x="406" y="179"/>
                    </a:lnTo>
                    <a:lnTo>
                      <a:pt x="435" y="185"/>
                    </a:lnTo>
                    <a:lnTo>
                      <a:pt x="463" y="190"/>
                    </a:lnTo>
                    <a:lnTo>
                      <a:pt x="476" y="196"/>
                    </a:lnTo>
                    <a:lnTo>
                      <a:pt x="505" y="202"/>
                    </a:lnTo>
                    <a:lnTo>
                      <a:pt x="521" y="202"/>
                    </a:lnTo>
                    <a:lnTo>
                      <a:pt x="521" y="208"/>
                    </a:lnTo>
                    <a:lnTo>
                      <a:pt x="492" y="215"/>
                    </a:lnTo>
                    <a:lnTo>
                      <a:pt x="463" y="215"/>
                    </a:lnTo>
                    <a:lnTo>
                      <a:pt x="393" y="215"/>
                    </a:lnTo>
                    <a:lnTo>
                      <a:pt x="393" y="221"/>
                    </a:lnTo>
                    <a:lnTo>
                      <a:pt x="380" y="221"/>
                    </a:lnTo>
                    <a:lnTo>
                      <a:pt x="364" y="221"/>
                    </a:lnTo>
                    <a:lnTo>
                      <a:pt x="364" y="221"/>
                    </a:lnTo>
                    <a:lnTo>
                      <a:pt x="406" y="215"/>
                    </a:lnTo>
                    <a:lnTo>
                      <a:pt x="435" y="20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90960" y="4202280"/>
                <a:ext cx="89280" cy="109800"/>
              </a:xfrm>
              <a:custGeom>
                <a:avLst/>
                <a:gdLst/>
                <a:ahLst/>
                <a:rect l="0" t="0" r="r" b="b"/>
                <a:pathLst>
                  <a:path w="248" h="305">
                    <a:moveTo>
                      <a:pt x="124" y="7"/>
                    </a:moveTo>
                    <a:lnTo>
                      <a:pt x="111" y="38"/>
                    </a:lnTo>
                    <a:lnTo>
                      <a:pt x="82" y="63"/>
                    </a:lnTo>
                    <a:lnTo>
                      <a:pt x="42" y="135"/>
                    </a:lnTo>
                    <a:lnTo>
                      <a:pt x="0" y="209"/>
                    </a:lnTo>
                    <a:lnTo>
                      <a:pt x="12" y="232"/>
                    </a:lnTo>
                    <a:lnTo>
                      <a:pt x="42" y="249"/>
                    </a:lnTo>
                    <a:lnTo>
                      <a:pt x="69" y="264"/>
                    </a:lnTo>
                    <a:lnTo>
                      <a:pt x="111" y="280"/>
                    </a:lnTo>
                    <a:lnTo>
                      <a:pt x="153" y="289"/>
                    </a:lnTo>
                    <a:lnTo>
                      <a:pt x="179" y="289"/>
                    </a:lnTo>
                    <a:lnTo>
                      <a:pt x="179" y="297"/>
                    </a:lnTo>
                    <a:lnTo>
                      <a:pt x="179" y="305"/>
                    </a:lnTo>
                    <a:lnTo>
                      <a:pt x="153" y="305"/>
                    </a:lnTo>
                    <a:lnTo>
                      <a:pt x="111" y="297"/>
                    </a:lnTo>
                    <a:lnTo>
                      <a:pt x="111" y="224"/>
                    </a:lnTo>
                    <a:lnTo>
                      <a:pt x="98" y="216"/>
                    </a:lnTo>
                    <a:lnTo>
                      <a:pt x="98" y="209"/>
                    </a:lnTo>
                    <a:lnTo>
                      <a:pt x="124" y="201"/>
                    </a:lnTo>
                    <a:lnTo>
                      <a:pt x="166" y="184"/>
                    </a:lnTo>
                    <a:lnTo>
                      <a:pt x="209" y="176"/>
                    </a:lnTo>
                    <a:lnTo>
                      <a:pt x="235" y="176"/>
                    </a:lnTo>
                    <a:lnTo>
                      <a:pt x="248" y="160"/>
                    </a:lnTo>
                    <a:lnTo>
                      <a:pt x="248" y="144"/>
                    </a:lnTo>
                    <a:lnTo>
                      <a:pt x="235" y="135"/>
                    </a:lnTo>
                    <a:lnTo>
                      <a:pt x="193" y="127"/>
                    </a:lnTo>
                    <a:lnTo>
                      <a:pt x="166" y="135"/>
                    </a:lnTo>
                    <a:lnTo>
                      <a:pt x="153" y="153"/>
                    </a:lnTo>
                    <a:lnTo>
                      <a:pt x="124" y="176"/>
                    </a:lnTo>
                    <a:lnTo>
                      <a:pt x="82" y="153"/>
                    </a:lnTo>
                    <a:lnTo>
                      <a:pt x="69" y="144"/>
                    </a:lnTo>
                    <a:lnTo>
                      <a:pt x="98" y="127"/>
                    </a:lnTo>
                    <a:lnTo>
                      <a:pt x="137" y="111"/>
                    </a:lnTo>
                    <a:lnTo>
                      <a:pt x="153" y="104"/>
                    </a:lnTo>
                    <a:lnTo>
                      <a:pt x="166" y="96"/>
                    </a:lnTo>
                    <a:lnTo>
                      <a:pt x="222" y="0"/>
                    </a:lnTo>
                    <a:lnTo>
                      <a:pt x="209" y="15"/>
                    </a:lnTo>
                    <a:lnTo>
                      <a:pt x="166" y="31"/>
                    </a:lnTo>
                    <a:lnTo>
                      <a:pt x="137" y="31"/>
                    </a:lnTo>
                    <a:lnTo>
                      <a:pt x="124" y="23"/>
                    </a:lnTo>
                    <a:lnTo>
                      <a:pt x="124" y="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338640" y="4325760"/>
                <a:ext cx="70200" cy="81360"/>
              </a:xfrm>
              <a:custGeom>
                <a:avLst/>
                <a:gdLst/>
                <a:ahLst/>
                <a:rect l="0" t="0" r="r" b="b"/>
                <a:pathLst>
                  <a:path w="195" h="226">
                    <a:moveTo>
                      <a:pt x="98" y="33"/>
                    </a:moveTo>
                    <a:lnTo>
                      <a:pt x="69" y="59"/>
                    </a:lnTo>
                    <a:lnTo>
                      <a:pt x="54" y="75"/>
                    </a:lnTo>
                    <a:lnTo>
                      <a:pt x="42" y="92"/>
                    </a:lnTo>
                    <a:lnTo>
                      <a:pt x="27" y="117"/>
                    </a:lnTo>
                    <a:lnTo>
                      <a:pt x="15" y="134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27" y="176"/>
                    </a:lnTo>
                    <a:lnTo>
                      <a:pt x="54" y="202"/>
                    </a:lnTo>
                    <a:lnTo>
                      <a:pt x="140" y="226"/>
                    </a:lnTo>
                    <a:lnTo>
                      <a:pt x="113" y="210"/>
                    </a:lnTo>
                    <a:lnTo>
                      <a:pt x="98" y="193"/>
                    </a:lnTo>
                    <a:lnTo>
                      <a:pt x="98" y="185"/>
                    </a:lnTo>
                    <a:lnTo>
                      <a:pt x="125" y="158"/>
                    </a:lnTo>
                    <a:lnTo>
                      <a:pt x="98" y="150"/>
                    </a:lnTo>
                    <a:lnTo>
                      <a:pt x="98" y="134"/>
                    </a:lnTo>
                    <a:lnTo>
                      <a:pt x="113" y="126"/>
                    </a:lnTo>
                    <a:lnTo>
                      <a:pt x="140" y="117"/>
                    </a:lnTo>
                    <a:lnTo>
                      <a:pt x="167" y="100"/>
                    </a:lnTo>
                    <a:lnTo>
                      <a:pt x="195" y="83"/>
                    </a:lnTo>
                    <a:lnTo>
                      <a:pt x="195" y="75"/>
                    </a:lnTo>
                    <a:lnTo>
                      <a:pt x="195" y="59"/>
                    </a:lnTo>
                    <a:lnTo>
                      <a:pt x="182" y="33"/>
                    </a:lnTo>
                    <a:lnTo>
                      <a:pt x="140" y="9"/>
                    </a:lnTo>
                    <a:lnTo>
                      <a:pt x="113" y="0"/>
                    </a:lnTo>
                    <a:lnTo>
                      <a:pt x="113" y="9"/>
                    </a:lnTo>
                    <a:lnTo>
                      <a:pt x="98" y="16"/>
                    </a:lnTo>
                    <a:lnTo>
                      <a:pt x="98" y="33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05080" y="4041720"/>
                <a:ext cx="351360" cy="105120"/>
              </a:xfrm>
              <a:custGeom>
                <a:avLst/>
                <a:gdLst/>
                <a:ahLst/>
                <a:rect l="0" t="0" r="r" b="b"/>
                <a:pathLst>
                  <a:path w="976" h="292">
                    <a:moveTo>
                      <a:pt x="561" y="67"/>
                    </a:moveTo>
                    <a:lnTo>
                      <a:pt x="534" y="133"/>
                    </a:lnTo>
                    <a:lnTo>
                      <a:pt x="503" y="167"/>
                    </a:lnTo>
                    <a:lnTo>
                      <a:pt x="457" y="192"/>
                    </a:lnTo>
                    <a:lnTo>
                      <a:pt x="399" y="183"/>
                    </a:lnTo>
                    <a:lnTo>
                      <a:pt x="371" y="174"/>
                    </a:lnTo>
                    <a:lnTo>
                      <a:pt x="325" y="174"/>
                    </a:lnTo>
                    <a:lnTo>
                      <a:pt x="267" y="183"/>
                    </a:lnTo>
                    <a:lnTo>
                      <a:pt x="208" y="208"/>
                    </a:lnTo>
                    <a:lnTo>
                      <a:pt x="134" y="217"/>
                    </a:lnTo>
                    <a:lnTo>
                      <a:pt x="0" y="251"/>
                    </a:lnTo>
                    <a:lnTo>
                      <a:pt x="0" y="267"/>
                    </a:lnTo>
                    <a:lnTo>
                      <a:pt x="15" y="283"/>
                    </a:lnTo>
                    <a:lnTo>
                      <a:pt x="73" y="292"/>
                    </a:lnTo>
                    <a:lnTo>
                      <a:pt x="147" y="283"/>
                    </a:lnTo>
                    <a:lnTo>
                      <a:pt x="208" y="276"/>
                    </a:lnTo>
                    <a:lnTo>
                      <a:pt x="356" y="251"/>
                    </a:lnTo>
                    <a:lnTo>
                      <a:pt x="488" y="217"/>
                    </a:lnTo>
                    <a:lnTo>
                      <a:pt x="534" y="217"/>
                    </a:lnTo>
                    <a:lnTo>
                      <a:pt x="577" y="226"/>
                    </a:lnTo>
                    <a:lnTo>
                      <a:pt x="620" y="233"/>
                    </a:lnTo>
                    <a:lnTo>
                      <a:pt x="650" y="251"/>
                    </a:lnTo>
                    <a:lnTo>
                      <a:pt x="708" y="267"/>
                    </a:lnTo>
                    <a:lnTo>
                      <a:pt x="724" y="251"/>
                    </a:lnTo>
                    <a:lnTo>
                      <a:pt x="740" y="242"/>
                    </a:lnTo>
                    <a:lnTo>
                      <a:pt x="771" y="242"/>
                    </a:lnTo>
                    <a:lnTo>
                      <a:pt x="814" y="242"/>
                    </a:lnTo>
                    <a:lnTo>
                      <a:pt x="844" y="242"/>
                    </a:lnTo>
                    <a:lnTo>
                      <a:pt x="872" y="226"/>
                    </a:lnTo>
                    <a:lnTo>
                      <a:pt x="902" y="192"/>
                    </a:lnTo>
                    <a:lnTo>
                      <a:pt x="933" y="150"/>
                    </a:lnTo>
                    <a:lnTo>
                      <a:pt x="961" y="108"/>
                    </a:lnTo>
                    <a:lnTo>
                      <a:pt x="976" y="92"/>
                    </a:lnTo>
                    <a:lnTo>
                      <a:pt x="976" y="83"/>
                    </a:lnTo>
                    <a:lnTo>
                      <a:pt x="933" y="74"/>
                    </a:lnTo>
                    <a:lnTo>
                      <a:pt x="872" y="67"/>
                    </a:lnTo>
                    <a:lnTo>
                      <a:pt x="814" y="58"/>
                    </a:lnTo>
                    <a:lnTo>
                      <a:pt x="783" y="58"/>
                    </a:lnTo>
                    <a:lnTo>
                      <a:pt x="755" y="49"/>
                    </a:lnTo>
                    <a:lnTo>
                      <a:pt x="708" y="42"/>
                    </a:lnTo>
                    <a:lnTo>
                      <a:pt x="708" y="24"/>
                    </a:lnTo>
                    <a:lnTo>
                      <a:pt x="696" y="8"/>
                    </a:lnTo>
                    <a:lnTo>
                      <a:pt x="635" y="0"/>
                    </a:lnTo>
                    <a:lnTo>
                      <a:pt x="561" y="0"/>
                    </a:lnTo>
                    <a:lnTo>
                      <a:pt x="503" y="0"/>
                    </a:lnTo>
                    <a:lnTo>
                      <a:pt x="518" y="17"/>
                    </a:lnTo>
                    <a:lnTo>
                      <a:pt x="518" y="24"/>
                    </a:lnTo>
                    <a:lnTo>
                      <a:pt x="561" y="67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609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613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152280" y="3049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762120" y="6006960"/>
            <a:ext cx="7391880" cy="584640"/>
          </a:xfrm>
          <a:custGeom>
            <a:avLst/>
            <a:gdLst/>
            <a:ahLst/>
            <a:rect l="0" t="0" r="r" b="b"/>
            <a:pathLst>
              <a:path w="20533" h="1624">
                <a:moveTo>
                  <a:pt x="10904" y="176"/>
                </a:moveTo>
                <a:lnTo>
                  <a:pt x="10649" y="141"/>
                </a:lnTo>
                <a:lnTo>
                  <a:pt x="10458" y="141"/>
                </a:lnTo>
                <a:lnTo>
                  <a:pt x="10266" y="176"/>
                </a:lnTo>
                <a:lnTo>
                  <a:pt x="10075" y="211"/>
                </a:lnTo>
                <a:lnTo>
                  <a:pt x="9884" y="176"/>
                </a:lnTo>
                <a:lnTo>
                  <a:pt x="9692" y="176"/>
                </a:lnTo>
                <a:lnTo>
                  <a:pt x="9501" y="141"/>
                </a:lnTo>
                <a:lnTo>
                  <a:pt x="9310" y="141"/>
                </a:lnTo>
                <a:lnTo>
                  <a:pt x="9119" y="141"/>
                </a:lnTo>
                <a:lnTo>
                  <a:pt x="8927" y="141"/>
                </a:lnTo>
                <a:lnTo>
                  <a:pt x="8736" y="176"/>
                </a:lnTo>
                <a:lnTo>
                  <a:pt x="8545" y="176"/>
                </a:lnTo>
                <a:lnTo>
                  <a:pt x="8353" y="176"/>
                </a:lnTo>
                <a:lnTo>
                  <a:pt x="8162" y="176"/>
                </a:lnTo>
                <a:lnTo>
                  <a:pt x="7971" y="176"/>
                </a:lnTo>
                <a:lnTo>
                  <a:pt x="7780" y="176"/>
                </a:lnTo>
                <a:lnTo>
                  <a:pt x="7588" y="176"/>
                </a:lnTo>
                <a:lnTo>
                  <a:pt x="7397" y="176"/>
                </a:lnTo>
                <a:lnTo>
                  <a:pt x="7206" y="176"/>
                </a:lnTo>
                <a:lnTo>
                  <a:pt x="7014" y="141"/>
                </a:lnTo>
                <a:lnTo>
                  <a:pt x="6823" y="105"/>
                </a:lnTo>
                <a:lnTo>
                  <a:pt x="6632" y="105"/>
                </a:lnTo>
                <a:lnTo>
                  <a:pt x="6441" y="141"/>
                </a:lnTo>
                <a:lnTo>
                  <a:pt x="6186" y="176"/>
                </a:lnTo>
                <a:lnTo>
                  <a:pt x="5930" y="211"/>
                </a:lnTo>
                <a:lnTo>
                  <a:pt x="5675" y="176"/>
                </a:lnTo>
                <a:lnTo>
                  <a:pt x="5420" y="141"/>
                </a:lnTo>
                <a:lnTo>
                  <a:pt x="5229" y="105"/>
                </a:lnTo>
                <a:lnTo>
                  <a:pt x="5037" y="105"/>
                </a:lnTo>
                <a:lnTo>
                  <a:pt x="4845" y="105"/>
                </a:lnTo>
                <a:lnTo>
                  <a:pt x="4654" y="105"/>
                </a:lnTo>
                <a:lnTo>
                  <a:pt x="4463" y="105"/>
                </a:lnTo>
                <a:lnTo>
                  <a:pt x="4272" y="141"/>
                </a:lnTo>
                <a:lnTo>
                  <a:pt x="4080" y="141"/>
                </a:lnTo>
                <a:lnTo>
                  <a:pt x="3889" y="141"/>
                </a:lnTo>
                <a:lnTo>
                  <a:pt x="3698" y="105"/>
                </a:lnTo>
                <a:lnTo>
                  <a:pt x="3506" y="70"/>
                </a:lnTo>
                <a:lnTo>
                  <a:pt x="3315" y="35"/>
                </a:lnTo>
                <a:lnTo>
                  <a:pt x="3124" y="0"/>
                </a:lnTo>
                <a:lnTo>
                  <a:pt x="2933" y="35"/>
                </a:lnTo>
                <a:lnTo>
                  <a:pt x="2741" y="35"/>
                </a:lnTo>
                <a:lnTo>
                  <a:pt x="2550" y="35"/>
                </a:lnTo>
                <a:lnTo>
                  <a:pt x="2359" y="35"/>
                </a:lnTo>
                <a:lnTo>
                  <a:pt x="2167" y="35"/>
                </a:lnTo>
                <a:lnTo>
                  <a:pt x="1976" y="35"/>
                </a:lnTo>
                <a:lnTo>
                  <a:pt x="1785" y="70"/>
                </a:lnTo>
                <a:lnTo>
                  <a:pt x="1594" y="141"/>
                </a:lnTo>
                <a:lnTo>
                  <a:pt x="1402" y="246"/>
                </a:lnTo>
                <a:lnTo>
                  <a:pt x="1211" y="317"/>
                </a:lnTo>
                <a:lnTo>
                  <a:pt x="1020" y="352"/>
                </a:lnTo>
                <a:lnTo>
                  <a:pt x="828" y="352"/>
                </a:lnTo>
                <a:lnTo>
                  <a:pt x="637" y="352"/>
                </a:lnTo>
                <a:lnTo>
                  <a:pt x="446" y="352"/>
                </a:lnTo>
                <a:lnTo>
                  <a:pt x="255" y="388"/>
                </a:lnTo>
                <a:lnTo>
                  <a:pt x="63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91" y="812"/>
                </a:lnTo>
                <a:lnTo>
                  <a:pt x="382" y="882"/>
                </a:lnTo>
                <a:lnTo>
                  <a:pt x="573" y="882"/>
                </a:lnTo>
                <a:lnTo>
                  <a:pt x="765" y="882"/>
                </a:lnTo>
                <a:lnTo>
                  <a:pt x="956" y="882"/>
                </a:lnTo>
                <a:lnTo>
                  <a:pt x="1147" y="882"/>
                </a:lnTo>
                <a:lnTo>
                  <a:pt x="1339" y="918"/>
                </a:lnTo>
                <a:lnTo>
                  <a:pt x="1466" y="1024"/>
                </a:lnTo>
                <a:lnTo>
                  <a:pt x="1594" y="1129"/>
                </a:lnTo>
                <a:lnTo>
                  <a:pt x="1785" y="1200"/>
                </a:lnTo>
                <a:lnTo>
                  <a:pt x="1976" y="1200"/>
                </a:lnTo>
                <a:lnTo>
                  <a:pt x="2167" y="1165"/>
                </a:lnTo>
                <a:lnTo>
                  <a:pt x="2359" y="1129"/>
                </a:lnTo>
                <a:lnTo>
                  <a:pt x="2550" y="1094"/>
                </a:lnTo>
                <a:lnTo>
                  <a:pt x="2741" y="1094"/>
                </a:lnTo>
                <a:lnTo>
                  <a:pt x="2933" y="1165"/>
                </a:lnTo>
                <a:lnTo>
                  <a:pt x="3124" y="1236"/>
                </a:lnTo>
                <a:lnTo>
                  <a:pt x="3315" y="1272"/>
                </a:lnTo>
                <a:lnTo>
                  <a:pt x="3506" y="1272"/>
                </a:lnTo>
                <a:lnTo>
                  <a:pt x="3634" y="1377"/>
                </a:lnTo>
                <a:lnTo>
                  <a:pt x="3762" y="1483"/>
                </a:lnTo>
                <a:lnTo>
                  <a:pt x="3889" y="1589"/>
                </a:lnTo>
                <a:lnTo>
                  <a:pt x="4080" y="1624"/>
                </a:lnTo>
                <a:lnTo>
                  <a:pt x="4144" y="1518"/>
                </a:lnTo>
                <a:lnTo>
                  <a:pt x="4144" y="1413"/>
                </a:lnTo>
                <a:lnTo>
                  <a:pt x="4335" y="1377"/>
                </a:lnTo>
                <a:lnTo>
                  <a:pt x="4527" y="1377"/>
                </a:lnTo>
                <a:lnTo>
                  <a:pt x="4718" y="1483"/>
                </a:lnTo>
                <a:lnTo>
                  <a:pt x="4909" y="1518"/>
                </a:lnTo>
                <a:lnTo>
                  <a:pt x="5101" y="1554"/>
                </a:lnTo>
                <a:lnTo>
                  <a:pt x="5293" y="1518"/>
                </a:lnTo>
                <a:lnTo>
                  <a:pt x="5484" y="1413"/>
                </a:lnTo>
                <a:lnTo>
                  <a:pt x="5675" y="1413"/>
                </a:lnTo>
                <a:lnTo>
                  <a:pt x="5867" y="1413"/>
                </a:lnTo>
                <a:lnTo>
                  <a:pt x="6058" y="1448"/>
                </a:lnTo>
                <a:lnTo>
                  <a:pt x="6313" y="1554"/>
                </a:lnTo>
                <a:lnTo>
                  <a:pt x="6504" y="1589"/>
                </a:lnTo>
                <a:lnTo>
                  <a:pt x="6696" y="1624"/>
                </a:lnTo>
                <a:lnTo>
                  <a:pt x="6887" y="1518"/>
                </a:lnTo>
                <a:lnTo>
                  <a:pt x="7078" y="1483"/>
                </a:lnTo>
                <a:lnTo>
                  <a:pt x="7269" y="1448"/>
                </a:lnTo>
                <a:lnTo>
                  <a:pt x="7461" y="1413"/>
                </a:lnTo>
                <a:lnTo>
                  <a:pt x="7652" y="1377"/>
                </a:lnTo>
                <a:lnTo>
                  <a:pt x="7843" y="1342"/>
                </a:lnTo>
                <a:lnTo>
                  <a:pt x="8035" y="1342"/>
                </a:lnTo>
                <a:lnTo>
                  <a:pt x="8226" y="1342"/>
                </a:lnTo>
                <a:lnTo>
                  <a:pt x="8417" y="1377"/>
                </a:lnTo>
                <a:lnTo>
                  <a:pt x="8608" y="1413"/>
                </a:lnTo>
                <a:lnTo>
                  <a:pt x="8800" y="1448"/>
                </a:lnTo>
                <a:lnTo>
                  <a:pt x="8991" y="1448"/>
                </a:lnTo>
                <a:lnTo>
                  <a:pt x="9182" y="1483"/>
                </a:lnTo>
                <a:lnTo>
                  <a:pt x="9374" y="1483"/>
                </a:lnTo>
                <a:lnTo>
                  <a:pt x="9629" y="1448"/>
                </a:lnTo>
                <a:lnTo>
                  <a:pt x="9820" y="1413"/>
                </a:lnTo>
                <a:lnTo>
                  <a:pt x="10011" y="1377"/>
                </a:lnTo>
                <a:lnTo>
                  <a:pt x="10203" y="1377"/>
                </a:lnTo>
                <a:lnTo>
                  <a:pt x="10394" y="1342"/>
                </a:lnTo>
                <a:lnTo>
                  <a:pt x="10585" y="1307"/>
                </a:lnTo>
                <a:lnTo>
                  <a:pt x="10776" y="1272"/>
                </a:lnTo>
                <a:lnTo>
                  <a:pt x="10968" y="1236"/>
                </a:lnTo>
                <a:lnTo>
                  <a:pt x="11159" y="1200"/>
                </a:lnTo>
                <a:lnTo>
                  <a:pt x="11350" y="1165"/>
                </a:lnTo>
                <a:lnTo>
                  <a:pt x="11542" y="1165"/>
                </a:lnTo>
                <a:lnTo>
                  <a:pt x="11733" y="1165"/>
                </a:lnTo>
                <a:lnTo>
                  <a:pt x="11924" y="1165"/>
                </a:lnTo>
                <a:lnTo>
                  <a:pt x="12115" y="1165"/>
                </a:lnTo>
                <a:lnTo>
                  <a:pt x="12307" y="1200"/>
                </a:lnTo>
                <a:lnTo>
                  <a:pt x="12498" y="1236"/>
                </a:lnTo>
                <a:lnTo>
                  <a:pt x="12689" y="1272"/>
                </a:lnTo>
                <a:lnTo>
                  <a:pt x="12881" y="1272"/>
                </a:lnTo>
                <a:lnTo>
                  <a:pt x="13072" y="1272"/>
                </a:lnTo>
                <a:lnTo>
                  <a:pt x="13327" y="1272"/>
                </a:lnTo>
                <a:lnTo>
                  <a:pt x="13582" y="1200"/>
                </a:lnTo>
                <a:lnTo>
                  <a:pt x="13773" y="1165"/>
                </a:lnTo>
                <a:lnTo>
                  <a:pt x="13965" y="1129"/>
                </a:lnTo>
                <a:lnTo>
                  <a:pt x="14220" y="1129"/>
                </a:lnTo>
                <a:lnTo>
                  <a:pt x="14475" y="1165"/>
                </a:lnTo>
                <a:lnTo>
                  <a:pt x="14730" y="1200"/>
                </a:lnTo>
                <a:lnTo>
                  <a:pt x="14921" y="1272"/>
                </a:lnTo>
                <a:lnTo>
                  <a:pt x="15112" y="1307"/>
                </a:lnTo>
                <a:lnTo>
                  <a:pt x="15304" y="1342"/>
                </a:lnTo>
                <a:lnTo>
                  <a:pt x="15496" y="1342"/>
                </a:lnTo>
                <a:lnTo>
                  <a:pt x="15751" y="1272"/>
                </a:lnTo>
                <a:lnTo>
                  <a:pt x="15942" y="1236"/>
                </a:lnTo>
                <a:lnTo>
                  <a:pt x="16134" y="1165"/>
                </a:lnTo>
                <a:lnTo>
                  <a:pt x="16325" y="1129"/>
                </a:lnTo>
                <a:lnTo>
                  <a:pt x="16516" y="1129"/>
                </a:lnTo>
                <a:lnTo>
                  <a:pt x="16771" y="1129"/>
                </a:lnTo>
                <a:lnTo>
                  <a:pt x="17026" y="1129"/>
                </a:lnTo>
                <a:lnTo>
                  <a:pt x="17281" y="1129"/>
                </a:lnTo>
                <a:lnTo>
                  <a:pt x="17473" y="1165"/>
                </a:lnTo>
                <a:lnTo>
                  <a:pt x="17664" y="1165"/>
                </a:lnTo>
                <a:lnTo>
                  <a:pt x="17855" y="1200"/>
                </a:lnTo>
                <a:lnTo>
                  <a:pt x="18046" y="1200"/>
                </a:lnTo>
                <a:lnTo>
                  <a:pt x="18301" y="1200"/>
                </a:lnTo>
                <a:lnTo>
                  <a:pt x="18557" y="1200"/>
                </a:lnTo>
                <a:lnTo>
                  <a:pt x="18748" y="1129"/>
                </a:lnTo>
                <a:lnTo>
                  <a:pt x="18939" y="1094"/>
                </a:lnTo>
                <a:lnTo>
                  <a:pt x="19130" y="1094"/>
                </a:lnTo>
                <a:lnTo>
                  <a:pt x="19322" y="1094"/>
                </a:lnTo>
                <a:lnTo>
                  <a:pt x="19513" y="1094"/>
                </a:lnTo>
                <a:lnTo>
                  <a:pt x="19704" y="1094"/>
                </a:lnTo>
                <a:lnTo>
                  <a:pt x="19896" y="1059"/>
                </a:lnTo>
                <a:lnTo>
                  <a:pt x="20087" y="1024"/>
                </a:lnTo>
                <a:lnTo>
                  <a:pt x="20278" y="988"/>
                </a:lnTo>
                <a:lnTo>
                  <a:pt x="20469" y="918"/>
                </a:lnTo>
                <a:lnTo>
                  <a:pt x="20533" y="812"/>
                </a:lnTo>
                <a:lnTo>
                  <a:pt x="20533" y="706"/>
                </a:lnTo>
                <a:lnTo>
                  <a:pt x="20469" y="600"/>
                </a:lnTo>
                <a:lnTo>
                  <a:pt x="20278" y="494"/>
                </a:lnTo>
                <a:lnTo>
                  <a:pt x="20087" y="494"/>
                </a:lnTo>
                <a:lnTo>
                  <a:pt x="19896" y="459"/>
                </a:lnTo>
                <a:lnTo>
                  <a:pt x="19704" y="459"/>
                </a:lnTo>
                <a:lnTo>
                  <a:pt x="19513" y="424"/>
                </a:lnTo>
                <a:lnTo>
                  <a:pt x="19258" y="352"/>
                </a:lnTo>
                <a:lnTo>
                  <a:pt x="19067" y="317"/>
                </a:lnTo>
                <a:lnTo>
                  <a:pt x="18875" y="246"/>
                </a:lnTo>
                <a:lnTo>
                  <a:pt x="18684" y="211"/>
                </a:lnTo>
                <a:lnTo>
                  <a:pt x="18493" y="176"/>
                </a:lnTo>
                <a:lnTo>
                  <a:pt x="18301" y="211"/>
                </a:lnTo>
                <a:lnTo>
                  <a:pt x="18110" y="211"/>
                </a:lnTo>
                <a:lnTo>
                  <a:pt x="17919" y="211"/>
                </a:lnTo>
                <a:lnTo>
                  <a:pt x="17728" y="211"/>
                </a:lnTo>
                <a:lnTo>
                  <a:pt x="17536" y="211"/>
                </a:lnTo>
                <a:lnTo>
                  <a:pt x="17345" y="211"/>
                </a:lnTo>
                <a:lnTo>
                  <a:pt x="17154" y="211"/>
                </a:lnTo>
                <a:lnTo>
                  <a:pt x="16962" y="246"/>
                </a:lnTo>
                <a:lnTo>
                  <a:pt x="16771" y="246"/>
                </a:lnTo>
                <a:lnTo>
                  <a:pt x="16580" y="211"/>
                </a:lnTo>
                <a:lnTo>
                  <a:pt x="16389" y="211"/>
                </a:lnTo>
                <a:lnTo>
                  <a:pt x="16197" y="176"/>
                </a:lnTo>
                <a:lnTo>
                  <a:pt x="16006" y="176"/>
                </a:lnTo>
                <a:lnTo>
                  <a:pt x="15751" y="211"/>
                </a:lnTo>
                <a:lnTo>
                  <a:pt x="15560" y="246"/>
                </a:lnTo>
                <a:lnTo>
                  <a:pt x="15367" y="246"/>
                </a:lnTo>
                <a:lnTo>
                  <a:pt x="15176" y="246"/>
                </a:lnTo>
                <a:lnTo>
                  <a:pt x="14985" y="282"/>
                </a:lnTo>
                <a:lnTo>
                  <a:pt x="14794" y="282"/>
                </a:lnTo>
                <a:lnTo>
                  <a:pt x="14538" y="282"/>
                </a:lnTo>
                <a:lnTo>
                  <a:pt x="14347" y="282"/>
                </a:lnTo>
                <a:lnTo>
                  <a:pt x="14092" y="282"/>
                </a:lnTo>
                <a:lnTo>
                  <a:pt x="13837" y="211"/>
                </a:lnTo>
                <a:lnTo>
                  <a:pt x="13646" y="211"/>
                </a:lnTo>
                <a:lnTo>
                  <a:pt x="13454" y="211"/>
                </a:lnTo>
                <a:lnTo>
                  <a:pt x="13199" y="211"/>
                </a:lnTo>
                <a:lnTo>
                  <a:pt x="12944" y="211"/>
                </a:lnTo>
                <a:lnTo>
                  <a:pt x="12753" y="246"/>
                </a:lnTo>
                <a:lnTo>
                  <a:pt x="12562" y="282"/>
                </a:lnTo>
                <a:lnTo>
                  <a:pt x="12371" y="246"/>
                </a:lnTo>
                <a:lnTo>
                  <a:pt x="12179" y="246"/>
                </a:lnTo>
                <a:lnTo>
                  <a:pt x="11988" y="211"/>
                </a:lnTo>
                <a:lnTo>
                  <a:pt x="11797" y="211"/>
                </a:lnTo>
                <a:lnTo>
                  <a:pt x="11605" y="211"/>
                </a:lnTo>
                <a:lnTo>
                  <a:pt x="11414" y="211"/>
                </a:lnTo>
                <a:lnTo>
                  <a:pt x="11223" y="211"/>
                </a:lnTo>
                <a:lnTo>
                  <a:pt x="10904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38560" y="3524400"/>
            <a:ext cx="435240" cy="1027440"/>
          </a:xfrm>
          <a:custGeom>
            <a:avLst/>
            <a:gdLst/>
            <a:ahLst/>
            <a:rect l="0" t="0" r="r" b="b"/>
            <a:pathLst>
              <a:path w="1209" h="2854">
                <a:moveTo>
                  <a:pt x="1002" y="0"/>
                </a:moveTo>
                <a:lnTo>
                  <a:pt x="1147" y="101"/>
                </a:lnTo>
                <a:lnTo>
                  <a:pt x="1209" y="370"/>
                </a:lnTo>
                <a:lnTo>
                  <a:pt x="1015" y="1142"/>
                </a:lnTo>
                <a:lnTo>
                  <a:pt x="728" y="2854"/>
                </a:lnTo>
                <a:lnTo>
                  <a:pt x="0" y="2712"/>
                </a:lnTo>
                <a:lnTo>
                  <a:pt x="339" y="1252"/>
                </a:lnTo>
                <a:lnTo>
                  <a:pt x="724" y="207"/>
                </a:lnTo>
                <a:lnTo>
                  <a:pt x="1002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73720" y="4564080"/>
            <a:ext cx="579960" cy="1484640"/>
          </a:xfrm>
          <a:custGeom>
            <a:avLst/>
            <a:gdLst/>
            <a:ahLst/>
            <a:rect l="0" t="0" r="r" b="b"/>
            <a:pathLst>
              <a:path w="1611" h="4124">
                <a:moveTo>
                  <a:pt x="0" y="0"/>
                </a:moveTo>
                <a:lnTo>
                  <a:pt x="279" y="4124"/>
                </a:lnTo>
                <a:lnTo>
                  <a:pt x="910" y="4124"/>
                </a:lnTo>
                <a:lnTo>
                  <a:pt x="817" y="1116"/>
                </a:lnTo>
                <a:lnTo>
                  <a:pt x="910" y="4124"/>
                </a:lnTo>
                <a:lnTo>
                  <a:pt x="1611" y="4124"/>
                </a:lnTo>
                <a:lnTo>
                  <a:pt x="1541" y="2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37120" y="5991120"/>
            <a:ext cx="663840" cy="181440"/>
          </a:xfrm>
          <a:custGeom>
            <a:avLst/>
            <a:gdLst/>
            <a:ahLst/>
            <a:rect l="0" t="0" r="r" b="b"/>
            <a:pathLst>
              <a:path w="1844" h="504">
                <a:moveTo>
                  <a:pt x="1214" y="160"/>
                </a:moveTo>
                <a:lnTo>
                  <a:pt x="863" y="45"/>
                </a:lnTo>
                <a:lnTo>
                  <a:pt x="629" y="0"/>
                </a:lnTo>
                <a:lnTo>
                  <a:pt x="373" y="91"/>
                </a:lnTo>
                <a:lnTo>
                  <a:pt x="116" y="229"/>
                </a:lnTo>
                <a:lnTo>
                  <a:pt x="0" y="413"/>
                </a:lnTo>
                <a:lnTo>
                  <a:pt x="163" y="504"/>
                </a:lnTo>
                <a:lnTo>
                  <a:pt x="1844" y="504"/>
                </a:lnTo>
                <a:lnTo>
                  <a:pt x="1844" y="160"/>
                </a:lnTo>
                <a:lnTo>
                  <a:pt x="1214" y="16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08520" y="5991120"/>
            <a:ext cx="663840" cy="181440"/>
          </a:xfrm>
          <a:custGeom>
            <a:avLst/>
            <a:gdLst/>
            <a:ahLst/>
            <a:rect l="0" t="0" r="r" b="b"/>
            <a:pathLst>
              <a:path w="1844" h="504">
                <a:moveTo>
                  <a:pt x="629" y="160"/>
                </a:moveTo>
                <a:lnTo>
                  <a:pt x="980" y="45"/>
                </a:lnTo>
                <a:lnTo>
                  <a:pt x="1214" y="0"/>
                </a:lnTo>
                <a:lnTo>
                  <a:pt x="1470" y="91"/>
                </a:lnTo>
                <a:lnTo>
                  <a:pt x="1727" y="229"/>
                </a:lnTo>
                <a:lnTo>
                  <a:pt x="1844" y="413"/>
                </a:lnTo>
                <a:lnTo>
                  <a:pt x="1680" y="504"/>
                </a:lnTo>
                <a:lnTo>
                  <a:pt x="0" y="504"/>
                </a:lnTo>
                <a:lnTo>
                  <a:pt x="0" y="160"/>
                </a:lnTo>
                <a:lnTo>
                  <a:pt x="629" y="16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64280" y="3357720"/>
            <a:ext cx="865440" cy="1378440"/>
          </a:xfrm>
          <a:custGeom>
            <a:avLst/>
            <a:gdLst/>
            <a:ahLst/>
            <a:rect l="0" t="0" r="r" b="b"/>
            <a:pathLst>
              <a:path w="2404" h="3829">
                <a:moveTo>
                  <a:pt x="841" y="322"/>
                </a:moveTo>
                <a:lnTo>
                  <a:pt x="763" y="337"/>
                </a:lnTo>
                <a:lnTo>
                  <a:pt x="705" y="375"/>
                </a:lnTo>
                <a:lnTo>
                  <a:pt x="593" y="501"/>
                </a:lnTo>
                <a:lnTo>
                  <a:pt x="476" y="622"/>
                </a:lnTo>
                <a:lnTo>
                  <a:pt x="344" y="732"/>
                </a:lnTo>
                <a:lnTo>
                  <a:pt x="325" y="767"/>
                </a:lnTo>
                <a:lnTo>
                  <a:pt x="306" y="801"/>
                </a:lnTo>
                <a:lnTo>
                  <a:pt x="306" y="801"/>
                </a:lnTo>
                <a:lnTo>
                  <a:pt x="325" y="801"/>
                </a:lnTo>
                <a:lnTo>
                  <a:pt x="135" y="1337"/>
                </a:lnTo>
                <a:lnTo>
                  <a:pt x="0" y="3742"/>
                </a:lnTo>
                <a:lnTo>
                  <a:pt x="2404" y="3829"/>
                </a:lnTo>
                <a:lnTo>
                  <a:pt x="2043" y="1588"/>
                </a:lnTo>
                <a:lnTo>
                  <a:pt x="1869" y="356"/>
                </a:lnTo>
                <a:lnTo>
                  <a:pt x="1222" y="0"/>
                </a:lnTo>
                <a:lnTo>
                  <a:pt x="841" y="32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5175360" y="1914480"/>
            <a:ext cx="886320" cy="1566000"/>
            <a:chOff x="5175360" y="1914480"/>
            <a:chExt cx="886320" cy="1566000"/>
          </a:xfrm>
        </p:grpSpPr>
        <p:sp>
          <p:nvSpPr>
            <p:cNvPr id="624" name=""/>
            <p:cNvSpPr/>
            <p:nvPr/>
          </p:nvSpPr>
          <p:spPr>
            <a:xfrm>
              <a:off x="5272200" y="2117880"/>
              <a:ext cx="789480" cy="1362600"/>
            </a:xfrm>
            <a:custGeom>
              <a:avLst/>
              <a:gdLst/>
              <a:ahLst/>
              <a:rect l="0" t="0" r="r" b="b"/>
              <a:pathLst>
                <a:path w="2193" h="3785">
                  <a:moveTo>
                    <a:pt x="512" y="0"/>
                  </a:moveTo>
                  <a:lnTo>
                    <a:pt x="233" y="227"/>
                  </a:lnTo>
                  <a:lnTo>
                    <a:pt x="69" y="592"/>
                  </a:lnTo>
                  <a:lnTo>
                    <a:pt x="23" y="1049"/>
                  </a:lnTo>
                  <a:lnTo>
                    <a:pt x="0" y="2325"/>
                  </a:lnTo>
                  <a:lnTo>
                    <a:pt x="46" y="3056"/>
                  </a:lnTo>
                  <a:lnTo>
                    <a:pt x="723" y="3101"/>
                  </a:lnTo>
                  <a:lnTo>
                    <a:pt x="817" y="3512"/>
                  </a:lnTo>
                  <a:lnTo>
                    <a:pt x="910" y="3785"/>
                  </a:lnTo>
                  <a:lnTo>
                    <a:pt x="1120" y="3785"/>
                  </a:lnTo>
                  <a:lnTo>
                    <a:pt x="1236" y="3534"/>
                  </a:lnTo>
                  <a:lnTo>
                    <a:pt x="1166" y="3101"/>
                  </a:lnTo>
                  <a:lnTo>
                    <a:pt x="1797" y="3033"/>
                  </a:lnTo>
                  <a:lnTo>
                    <a:pt x="1820" y="2599"/>
                  </a:lnTo>
                  <a:lnTo>
                    <a:pt x="1960" y="2667"/>
                  </a:lnTo>
                  <a:lnTo>
                    <a:pt x="2100" y="2622"/>
                  </a:lnTo>
                  <a:lnTo>
                    <a:pt x="2193" y="2257"/>
                  </a:lnTo>
                  <a:lnTo>
                    <a:pt x="2077" y="2075"/>
                  </a:lnTo>
                  <a:lnTo>
                    <a:pt x="1937" y="2097"/>
                  </a:lnTo>
                  <a:lnTo>
                    <a:pt x="2077" y="159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75360" y="2500200"/>
              <a:ext cx="361800" cy="35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86400" y="2467080"/>
              <a:ext cx="428760" cy="419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54520" y="2639880"/>
              <a:ext cx="745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2720" y="2647800"/>
              <a:ext cx="76320" cy="73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75240" y="1940040"/>
              <a:ext cx="6480" cy="18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5575320" y="1922400"/>
              <a:ext cx="15840" cy="18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718240" y="1914480"/>
              <a:ext cx="3312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861160" y="1955880"/>
              <a:ext cx="48960" cy="171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987880" y="1979640"/>
              <a:ext cx="4788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64280" y="2938320"/>
              <a:ext cx="579960" cy="222480"/>
            </a:xfrm>
            <a:custGeom>
              <a:avLst/>
              <a:gdLst/>
              <a:ahLst/>
              <a:rect l="0" t="0" r="r" b="b"/>
              <a:pathLst>
                <a:path w="1611" h="618">
                  <a:moveTo>
                    <a:pt x="0" y="0"/>
                  </a:moveTo>
                  <a:lnTo>
                    <a:pt x="1611" y="141"/>
                  </a:lnTo>
                  <a:lnTo>
                    <a:pt x="658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524560" y="3365640"/>
            <a:ext cx="268560" cy="155880"/>
          </a:xfrm>
          <a:custGeom>
            <a:avLst/>
            <a:gdLst/>
            <a:ahLst/>
            <a:rect l="0" t="0" r="r" b="b"/>
            <a:pathLst>
              <a:path w="746" h="433">
                <a:moveTo>
                  <a:pt x="0" y="296"/>
                </a:moveTo>
                <a:lnTo>
                  <a:pt x="209" y="410"/>
                </a:lnTo>
                <a:lnTo>
                  <a:pt x="583" y="433"/>
                </a:lnTo>
                <a:lnTo>
                  <a:pt x="746" y="228"/>
                </a:lnTo>
                <a:lnTo>
                  <a:pt x="746" y="68"/>
                </a:lnTo>
                <a:lnTo>
                  <a:pt x="583" y="0"/>
                </a:lnTo>
                <a:lnTo>
                  <a:pt x="420" y="228"/>
                </a:lnTo>
                <a:lnTo>
                  <a:pt x="163" y="251"/>
                </a:lnTo>
                <a:lnTo>
                  <a:pt x="0" y="29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59360" y="3505320"/>
            <a:ext cx="429120" cy="1026000"/>
          </a:xfrm>
          <a:custGeom>
            <a:avLst/>
            <a:gdLst/>
            <a:ahLst/>
            <a:rect l="0" t="0" r="r" b="b"/>
            <a:pathLst>
              <a:path w="1192" h="2850">
                <a:moveTo>
                  <a:pt x="210" y="0"/>
                </a:moveTo>
                <a:lnTo>
                  <a:pt x="70" y="91"/>
                </a:lnTo>
                <a:lnTo>
                  <a:pt x="0" y="364"/>
                </a:lnTo>
                <a:lnTo>
                  <a:pt x="186" y="1140"/>
                </a:lnTo>
                <a:lnTo>
                  <a:pt x="467" y="2850"/>
                </a:lnTo>
                <a:lnTo>
                  <a:pt x="1192" y="2713"/>
                </a:lnTo>
                <a:lnTo>
                  <a:pt x="864" y="1254"/>
                </a:lnTo>
                <a:lnTo>
                  <a:pt x="491" y="205"/>
                </a:lnTo>
                <a:lnTo>
                  <a:pt x="21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40440" y="4502160"/>
            <a:ext cx="268200" cy="24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34120" y="4343400"/>
            <a:ext cx="292320" cy="228960"/>
          </a:xfrm>
          <a:custGeom>
            <a:avLst/>
            <a:gdLst/>
            <a:ahLst/>
            <a:rect l="0" t="0" r="r" b="b"/>
            <a:pathLst>
              <a:path w="812" h="636">
                <a:moveTo>
                  <a:pt x="812" y="26"/>
                </a:moveTo>
                <a:lnTo>
                  <a:pt x="702" y="26"/>
                </a:lnTo>
                <a:lnTo>
                  <a:pt x="618" y="0"/>
                </a:lnTo>
                <a:lnTo>
                  <a:pt x="534" y="0"/>
                </a:lnTo>
                <a:lnTo>
                  <a:pt x="450" y="26"/>
                </a:lnTo>
                <a:lnTo>
                  <a:pt x="361" y="52"/>
                </a:lnTo>
                <a:lnTo>
                  <a:pt x="277" y="127"/>
                </a:lnTo>
                <a:lnTo>
                  <a:pt x="194" y="176"/>
                </a:lnTo>
                <a:lnTo>
                  <a:pt x="110" y="229"/>
                </a:lnTo>
                <a:lnTo>
                  <a:pt x="83" y="304"/>
                </a:lnTo>
                <a:lnTo>
                  <a:pt x="83" y="380"/>
                </a:lnTo>
                <a:lnTo>
                  <a:pt x="83" y="459"/>
                </a:lnTo>
                <a:lnTo>
                  <a:pt x="26" y="534"/>
                </a:lnTo>
                <a:lnTo>
                  <a:pt x="0" y="609"/>
                </a:lnTo>
                <a:lnTo>
                  <a:pt x="83" y="636"/>
                </a:lnTo>
                <a:lnTo>
                  <a:pt x="110" y="561"/>
                </a:lnTo>
                <a:lnTo>
                  <a:pt x="194" y="508"/>
                </a:lnTo>
                <a:lnTo>
                  <a:pt x="308" y="508"/>
                </a:lnTo>
                <a:lnTo>
                  <a:pt x="361" y="433"/>
                </a:lnTo>
                <a:lnTo>
                  <a:pt x="419" y="358"/>
                </a:lnTo>
                <a:lnTo>
                  <a:pt x="503" y="304"/>
                </a:lnTo>
                <a:lnTo>
                  <a:pt x="587" y="277"/>
                </a:lnTo>
                <a:lnTo>
                  <a:pt x="671" y="304"/>
                </a:lnTo>
                <a:lnTo>
                  <a:pt x="702" y="229"/>
                </a:lnTo>
                <a:lnTo>
                  <a:pt x="671" y="154"/>
                </a:lnTo>
                <a:lnTo>
                  <a:pt x="702" y="74"/>
                </a:lnTo>
                <a:lnTo>
                  <a:pt x="644" y="26"/>
                </a:lnTo>
                <a:lnTo>
                  <a:pt x="812" y="26"/>
                </a:lnTo>
                <a:close/>
              </a:path>
            </a:pathLst>
          </a:custGeom>
          <a:solidFill>
            <a:srgbClr val="ff99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657600" y="1066680"/>
            <a:ext cx="1600200" cy="919440"/>
            <a:chOff x="3657600" y="1066680"/>
            <a:chExt cx="1600200" cy="919440"/>
          </a:xfrm>
        </p:grpSpPr>
        <p:sp>
          <p:nvSpPr>
            <p:cNvPr id="640" name=""/>
            <p:cNvSpPr/>
            <p:nvPr/>
          </p:nvSpPr>
          <p:spPr>
            <a:xfrm>
              <a:off x="37468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794" y="217"/>
                  </a:moveTo>
                  <a:lnTo>
                    <a:pt x="612" y="0"/>
                  </a:lnTo>
                  <a:lnTo>
                    <a:pt x="0" y="699"/>
                  </a:lnTo>
                  <a:lnTo>
                    <a:pt x="794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57480" y="1734480"/>
              <a:ext cx="285840" cy="251640"/>
            </a:xfrm>
            <a:custGeom>
              <a:avLst/>
              <a:gdLst/>
              <a:ahLst/>
              <a:rect l="0" t="0" r="r" b="b"/>
              <a:pathLst>
                <a:path w="794" h="699">
                  <a:moveTo>
                    <a:pt x="0" y="217"/>
                  </a:moveTo>
                  <a:lnTo>
                    <a:pt x="181" y="0"/>
                  </a:lnTo>
                  <a:lnTo>
                    <a:pt x="794" y="699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57600" y="1066680"/>
              <a:ext cx="1600200" cy="83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9040" y="169560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93" y="159"/>
                  </a:moveTo>
                  <a:lnTo>
                    <a:pt x="0" y="133"/>
                  </a:lnTo>
                  <a:lnTo>
                    <a:pt x="0" y="172"/>
                  </a:lnTo>
                  <a:lnTo>
                    <a:pt x="0" y="212"/>
                  </a:lnTo>
                  <a:lnTo>
                    <a:pt x="0" y="253"/>
                  </a:lnTo>
                  <a:lnTo>
                    <a:pt x="0" y="293"/>
                  </a:lnTo>
                  <a:lnTo>
                    <a:pt x="13" y="332"/>
                  </a:lnTo>
                  <a:lnTo>
                    <a:pt x="52" y="332"/>
                  </a:lnTo>
                  <a:lnTo>
                    <a:pt x="93" y="332"/>
                  </a:lnTo>
                  <a:lnTo>
                    <a:pt x="133" y="332"/>
                  </a:lnTo>
                  <a:lnTo>
                    <a:pt x="172" y="332"/>
                  </a:lnTo>
                  <a:lnTo>
                    <a:pt x="212" y="332"/>
                  </a:lnTo>
                  <a:lnTo>
                    <a:pt x="252" y="332"/>
                  </a:lnTo>
                  <a:lnTo>
                    <a:pt x="293" y="319"/>
                  </a:lnTo>
                  <a:lnTo>
                    <a:pt x="332" y="293"/>
                  </a:lnTo>
                  <a:lnTo>
                    <a:pt x="345" y="253"/>
                  </a:lnTo>
                  <a:lnTo>
                    <a:pt x="345" y="212"/>
                  </a:lnTo>
                  <a:lnTo>
                    <a:pt x="345" y="172"/>
                  </a:lnTo>
                  <a:lnTo>
                    <a:pt x="332" y="133"/>
                  </a:lnTo>
                  <a:lnTo>
                    <a:pt x="319" y="79"/>
                  </a:lnTo>
                  <a:lnTo>
                    <a:pt x="279" y="39"/>
                  </a:lnTo>
                  <a:lnTo>
                    <a:pt x="239" y="13"/>
                  </a:lnTo>
                  <a:lnTo>
                    <a:pt x="199" y="0"/>
                  </a:lnTo>
                  <a:lnTo>
                    <a:pt x="159" y="0"/>
                  </a:lnTo>
                  <a:lnTo>
                    <a:pt x="120" y="13"/>
                  </a:lnTo>
                  <a:lnTo>
                    <a:pt x="79" y="26"/>
                  </a:lnTo>
                  <a:lnTo>
                    <a:pt x="52" y="66"/>
                  </a:lnTo>
                  <a:lnTo>
                    <a:pt x="39" y="106"/>
                  </a:lnTo>
                  <a:lnTo>
                    <a:pt x="93" y="159"/>
                  </a:lnTo>
                  <a:lnTo>
                    <a:pt x="26" y="120"/>
                  </a:lnTo>
                  <a:lnTo>
                    <a:pt x="93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56040" y="1712880"/>
              <a:ext cx="124200" cy="119520"/>
            </a:xfrm>
            <a:custGeom>
              <a:avLst/>
              <a:gdLst/>
              <a:ahLst/>
              <a:rect l="0" t="0" r="r" b="b"/>
              <a:pathLst>
                <a:path w="345" h="332">
                  <a:moveTo>
                    <a:pt x="252" y="159"/>
                  </a:moveTo>
                  <a:lnTo>
                    <a:pt x="345" y="133"/>
                  </a:lnTo>
                  <a:lnTo>
                    <a:pt x="345" y="172"/>
                  </a:lnTo>
                  <a:lnTo>
                    <a:pt x="345" y="212"/>
                  </a:lnTo>
                  <a:lnTo>
                    <a:pt x="345" y="253"/>
                  </a:lnTo>
                  <a:lnTo>
                    <a:pt x="345" y="293"/>
                  </a:lnTo>
                  <a:lnTo>
                    <a:pt x="332" y="332"/>
                  </a:lnTo>
                  <a:lnTo>
                    <a:pt x="293" y="332"/>
                  </a:lnTo>
                  <a:lnTo>
                    <a:pt x="252" y="332"/>
                  </a:lnTo>
                  <a:lnTo>
                    <a:pt x="212" y="332"/>
                  </a:lnTo>
                  <a:lnTo>
                    <a:pt x="172" y="332"/>
                  </a:lnTo>
                  <a:lnTo>
                    <a:pt x="133" y="332"/>
                  </a:lnTo>
                  <a:lnTo>
                    <a:pt x="93" y="332"/>
                  </a:lnTo>
                  <a:lnTo>
                    <a:pt x="52" y="319"/>
                  </a:lnTo>
                  <a:lnTo>
                    <a:pt x="13" y="293"/>
                  </a:lnTo>
                  <a:lnTo>
                    <a:pt x="0" y="253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13" y="133"/>
                  </a:lnTo>
                  <a:lnTo>
                    <a:pt x="26" y="79"/>
                  </a:lnTo>
                  <a:lnTo>
                    <a:pt x="66" y="39"/>
                  </a:lnTo>
                  <a:lnTo>
                    <a:pt x="106" y="13"/>
                  </a:lnTo>
                  <a:lnTo>
                    <a:pt x="146" y="0"/>
                  </a:lnTo>
                  <a:lnTo>
                    <a:pt x="186" y="0"/>
                  </a:lnTo>
                  <a:lnTo>
                    <a:pt x="225" y="13"/>
                  </a:lnTo>
                  <a:lnTo>
                    <a:pt x="266" y="26"/>
                  </a:lnTo>
                  <a:lnTo>
                    <a:pt x="293" y="66"/>
                  </a:lnTo>
                  <a:lnTo>
                    <a:pt x="306" y="106"/>
                  </a:lnTo>
                  <a:lnTo>
                    <a:pt x="252" y="159"/>
                  </a:lnTo>
                  <a:lnTo>
                    <a:pt x="319" y="120"/>
                  </a:lnTo>
                  <a:lnTo>
                    <a:pt x="252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 txBox="1"/>
          <p:nvPr/>
        </p:nvSpPr>
        <p:spPr>
          <a:xfrm>
            <a:off x="4000680" y="1143000"/>
            <a:ext cx="1143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20560" y="4478760"/>
            <a:ext cx="254160" cy="266400"/>
          </a:xfrm>
          <a:custGeom>
            <a:avLst/>
            <a:gdLst/>
            <a:ahLst/>
            <a:rect l="0" t="0" r="r" b="b"/>
            <a:pathLst>
              <a:path w="706" h="740">
                <a:moveTo>
                  <a:pt x="545" y="44"/>
                </a:moveTo>
                <a:lnTo>
                  <a:pt x="545" y="44"/>
                </a:lnTo>
                <a:cubicBezTo>
                  <a:pt x="544" y="44"/>
                  <a:pt x="543" y="43"/>
                  <a:pt x="542" y="42"/>
                </a:cubicBezTo>
                <a:cubicBezTo>
                  <a:pt x="489" y="12"/>
                  <a:pt x="429" y="-2"/>
                  <a:pt x="367" y="0"/>
                </a:cubicBezTo>
                <a:cubicBezTo>
                  <a:pt x="305" y="3"/>
                  <a:pt x="244" y="23"/>
                  <a:pt x="189" y="57"/>
                </a:cubicBezTo>
                <a:cubicBezTo>
                  <a:pt x="134" y="92"/>
                  <a:pt x="88" y="140"/>
                  <a:pt x="54" y="198"/>
                </a:cubicBezTo>
                <a:cubicBezTo>
                  <a:pt x="21" y="255"/>
                  <a:pt x="2" y="320"/>
                  <a:pt x="0" y="385"/>
                </a:cubicBezTo>
                <a:cubicBezTo>
                  <a:pt x="-3" y="450"/>
                  <a:pt x="11" y="513"/>
                  <a:pt x="40" y="568"/>
                </a:cubicBezTo>
                <a:cubicBezTo>
                  <a:pt x="68" y="622"/>
                  <a:pt x="109" y="666"/>
                  <a:pt x="160" y="696"/>
                </a:cubicBezTo>
                <a:lnTo>
                  <a:pt x="160" y="696"/>
                </a:lnTo>
                <a:cubicBezTo>
                  <a:pt x="161" y="696"/>
                  <a:pt x="162" y="697"/>
                  <a:pt x="163" y="698"/>
                </a:cubicBezTo>
                <a:cubicBezTo>
                  <a:pt x="216" y="728"/>
                  <a:pt x="276" y="742"/>
                  <a:pt x="338" y="740"/>
                </a:cubicBezTo>
                <a:cubicBezTo>
                  <a:pt x="400" y="737"/>
                  <a:pt x="461" y="717"/>
                  <a:pt x="516" y="683"/>
                </a:cubicBezTo>
                <a:cubicBezTo>
                  <a:pt x="571" y="648"/>
                  <a:pt x="617" y="600"/>
                  <a:pt x="651" y="542"/>
                </a:cubicBezTo>
                <a:cubicBezTo>
                  <a:pt x="684" y="485"/>
                  <a:pt x="703" y="420"/>
                  <a:pt x="705" y="355"/>
                </a:cubicBezTo>
                <a:cubicBezTo>
                  <a:pt x="708" y="290"/>
                  <a:pt x="694" y="227"/>
                  <a:pt x="665" y="172"/>
                </a:cubicBezTo>
                <a:cubicBezTo>
                  <a:pt x="637" y="118"/>
                  <a:pt x="596" y="74"/>
                  <a:pt x="545" y="44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5760" y="4233960"/>
            <a:ext cx="371880" cy="562320"/>
          </a:xfrm>
          <a:custGeom>
            <a:avLst/>
            <a:gdLst/>
            <a:ahLst/>
            <a:rect l="0" t="0" r="r" b="b"/>
            <a:pathLst>
              <a:path w="1033" h="1562">
                <a:moveTo>
                  <a:pt x="264" y="62"/>
                </a:moveTo>
                <a:lnTo>
                  <a:pt x="317" y="22"/>
                </a:lnTo>
                <a:lnTo>
                  <a:pt x="370" y="0"/>
                </a:lnTo>
                <a:lnTo>
                  <a:pt x="423" y="22"/>
                </a:lnTo>
                <a:lnTo>
                  <a:pt x="505" y="40"/>
                </a:lnTo>
                <a:lnTo>
                  <a:pt x="634" y="0"/>
                </a:lnTo>
                <a:lnTo>
                  <a:pt x="686" y="0"/>
                </a:lnTo>
                <a:lnTo>
                  <a:pt x="769" y="0"/>
                </a:lnTo>
                <a:lnTo>
                  <a:pt x="769" y="62"/>
                </a:lnTo>
                <a:lnTo>
                  <a:pt x="769" y="80"/>
                </a:lnTo>
                <a:lnTo>
                  <a:pt x="686" y="142"/>
                </a:lnTo>
                <a:lnTo>
                  <a:pt x="716" y="227"/>
                </a:lnTo>
                <a:lnTo>
                  <a:pt x="716" y="289"/>
                </a:lnTo>
                <a:lnTo>
                  <a:pt x="769" y="330"/>
                </a:lnTo>
                <a:lnTo>
                  <a:pt x="822" y="392"/>
                </a:lnTo>
                <a:lnTo>
                  <a:pt x="793" y="535"/>
                </a:lnTo>
                <a:lnTo>
                  <a:pt x="739" y="637"/>
                </a:lnTo>
                <a:lnTo>
                  <a:pt x="793" y="700"/>
                </a:lnTo>
                <a:lnTo>
                  <a:pt x="875" y="780"/>
                </a:lnTo>
                <a:lnTo>
                  <a:pt x="951" y="861"/>
                </a:lnTo>
                <a:lnTo>
                  <a:pt x="981" y="924"/>
                </a:lnTo>
                <a:lnTo>
                  <a:pt x="1004" y="986"/>
                </a:lnTo>
                <a:lnTo>
                  <a:pt x="1033" y="1026"/>
                </a:lnTo>
                <a:lnTo>
                  <a:pt x="1033" y="1026"/>
                </a:lnTo>
                <a:lnTo>
                  <a:pt x="1004" y="1174"/>
                </a:lnTo>
                <a:lnTo>
                  <a:pt x="981" y="1294"/>
                </a:lnTo>
                <a:lnTo>
                  <a:pt x="951" y="1419"/>
                </a:lnTo>
                <a:lnTo>
                  <a:pt x="899" y="1562"/>
                </a:lnTo>
                <a:lnTo>
                  <a:pt x="899" y="1521"/>
                </a:lnTo>
                <a:lnTo>
                  <a:pt x="899" y="1481"/>
                </a:lnTo>
                <a:lnTo>
                  <a:pt x="928" y="1437"/>
                </a:lnTo>
                <a:lnTo>
                  <a:pt x="928" y="1419"/>
                </a:lnTo>
                <a:lnTo>
                  <a:pt x="899" y="1356"/>
                </a:lnTo>
                <a:lnTo>
                  <a:pt x="875" y="1276"/>
                </a:lnTo>
                <a:lnTo>
                  <a:pt x="899" y="1214"/>
                </a:lnTo>
                <a:lnTo>
                  <a:pt x="928" y="1191"/>
                </a:lnTo>
                <a:lnTo>
                  <a:pt x="928" y="1174"/>
                </a:lnTo>
                <a:lnTo>
                  <a:pt x="899" y="1049"/>
                </a:lnTo>
                <a:lnTo>
                  <a:pt x="846" y="986"/>
                </a:lnTo>
                <a:lnTo>
                  <a:pt x="793" y="946"/>
                </a:lnTo>
                <a:lnTo>
                  <a:pt x="739" y="884"/>
                </a:lnTo>
                <a:lnTo>
                  <a:pt x="686" y="821"/>
                </a:lnTo>
                <a:lnTo>
                  <a:pt x="634" y="861"/>
                </a:lnTo>
                <a:lnTo>
                  <a:pt x="581" y="884"/>
                </a:lnTo>
                <a:lnTo>
                  <a:pt x="528" y="906"/>
                </a:lnTo>
                <a:lnTo>
                  <a:pt x="505" y="924"/>
                </a:lnTo>
                <a:lnTo>
                  <a:pt x="475" y="924"/>
                </a:lnTo>
                <a:lnTo>
                  <a:pt x="475" y="843"/>
                </a:lnTo>
                <a:lnTo>
                  <a:pt x="475" y="821"/>
                </a:lnTo>
                <a:lnTo>
                  <a:pt x="475" y="803"/>
                </a:lnTo>
                <a:lnTo>
                  <a:pt x="505" y="758"/>
                </a:lnTo>
                <a:lnTo>
                  <a:pt x="528" y="718"/>
                </a:lnTo>
                <a:lnTo>
                  <a:pt x="528" y="718"/>
                </a:lnTo>
                <a:lnTo>
                  <a:pt x="528" y="740"/>
                </a:lnTo>
                <a:lnTo>
                  <a:pt x="528" y="758"/>
                </a:lnTo>
                <a:lnTo>
                  <a:pt x="505" y="780"/>
                </a:lnTo>
                <a:lnTo>
                  <a:pt x="452" y="758"/>
                </a:lnTo>
                <a:lnTo>
                  <a:pt x="423" y="740"/>
                </a:lnTo>
                <a:lnTo>
                  <a:pt x="399" y="740"/>
                </a:lnTo>
                <a:lnTo>
                  <a:pt x="370" y="758"/>
                </a:lnTo>
                <a:lnTo>
                  <a:pt x="346" y="780"/>
                </a:lnTo>
                <a:lnTo>
                  <a:pt x="264" y="718"/>
                </a:lnTo>
                <a:lnTo>
                  <a:pt x="240" y="780"/>
                </a:lnTo>
                <a:lnTo>
                  <a:pt x="211" y="803"/>
                </a:lnTo>
                <a:lnTo>
                  <a:pt x="158" y="780"/>
                </a:lnTo>
                <a:lnTo>
                  <a:pt x="52" y="758"/>
                </a:lnTo>
                <a:lnTo>
                  <a:pt x="23" y="740"/>
                </a:lnTo>
                <a:lnTo>
                  <a:pt x="0" y="700"/>
                </a:lnTo>
                <a:lnTo>
                  <a:pt x="23" y="677"/>
                </a:lnTo>
                <a:lnTo>
                  <a:pt x="52" y="677"/>
                </a:lnTo>
                <a:lnTo>
                  <a:pt x="158" y="700"/>
                </a:lnTo>
                <a:lnTo>
                  <a:pt x="264" y="718"/>
                </a:lnTo>
                <a:lnTo>
                  <a:pt x="264" y="718"/>
                </a:lnTo>
                <a:lnTo>
                  <a:pt x="240" y="700"/>
                </a:lnTo>
                <a:lnTo>
                  <a:pt x="211" y="677"/>
                </a:lnTo>
                <a:lnTo>
                  <a:pt x="187" y="655"/>
                </a:lnTo>
                <a:lnTo>
                  <a:pt x="187" y="637"/>
                </a:lnTo>
                <a:lnTo>
                  <a:pt x="187" y="597"/>
                </a:lnTo>
                <a:lnTo>
                  <a:pt x="211" y="553"/>
                </a:lnTo>
                <a:lnTo>
                  <a:pt x="240" y="535"/>
                </a:lnTo>
                <a:lnTo>
                  <a:pt x="240" y="472"/>
                </a:lnTo>
                <a:lnTo>
                  <a:pt x="240" y="410"/>
                </a:lnTo>
                <a:lnTo>
                  <a:pt x="240" y="267"/>
                </a:lnTo>
                <a:lnTo>
                  <a:pt x="187" y="227"/>
                </a:lnTo>
                <a:lnTo>
                  <a:pt x="158" y="205"/>
                </a:lnTo>
                <a:lnTo>
                  <a:pt x="158" y="182"/>
                </a:lnTo>
                <a:lnTo>
                  <a:pt x="187" y="165"/>
                </a:lnTo>
                <a:lnTo>
                  <a:pt x="211" y="142"/>
                </a:lnTo>
                <a:lnTo>
                  <a:pt x="211" y="124"/>
                </a:lnTo>
                <a:lnTo>
                  <a:pt x="264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678640" y="4417920"/>
            <a:ext cx="117720" cy="122760"/>
          </a:xfrm>
          <a:custGeom>
            <a:avLst/>
            <a:gdLst/>
            <a:ahLst/>
            <a:rect l="0" t="0" r="r" b="b"/>
            <a:pathLst>
              <a:path w="327" h="341">
                <a:moveTo>
                  <a:pt x="67" y="200"/>
                </a:moveTo>
                <a:lnTo>
                  <a:pt x="67" y="140"/>
                </a:lnTo>
                <a:lnTo>
                  <a:pt x="101" y="76"/>
                </a:lnTo>
                <a:lnTo>
                  <a:pt x="173" y="38"/>
                </a:lnTo>
                <a:lnTo>
                  <a:pt x="241" y="0"/>
                </a:lnTo>
                <a:lnTo>
                  <a:pt x="278" y="25"/>
                </a:lnTo>
                <a:lnTo>
                  <a:pt x="327" y="63"/>
                </a:lnTo>
                <a:lnTo>
                  <a:pt x="327" y="89"/>
                </a:lnTo>
                <a:lnTo>
                  <a:pt x="327" y="89"/>
                </a:lnTo>
                <a:lnTo>
                  <a:pt x="293" y="89"/>
                </a:lnTo>
                <a:lnTo>
                  <a:pt x="226" y="127"/>
                </a:lnTo>
                <a:lnTo>
                  <a:pt x="153" y="178"/>
                </a:lnTo>
                <a:lnTo>
                  <a:pt x="138" y="239"/>
                </a:lnTo>
                <a:lnTo>
                  <a:pt x="138" y="265"/>
                </a:lnTo>
                <a:lnTo>
                  <a:pt x="120" y="290"/>
                </a:lnTo>
                <a:lnTo>
                  <a:pt x="101" y="316"/>
                </a:lnTo>
                <a:lnTo>
                  <a:pt x="67" y="328"/>
                </a:lnTo>
                <a:lnTo>
                  <a:pt x="48" y="341"/>
                </a:lnTo>
                <a:lnTo>
                  <a:pt x="33" y="341"/>
                </a:lnTo>
                <a:lnTo>
                  <a:pt x="0" y="316"/>
                </a:lnTo>
                <a:lnTo>
                  <a:pt x="0" y="290"/>
                </a:lnTo>
                <a:lnTo>
                  <a:pt x="15" y="278"/>
                </a:lnTo>
                <a:lnTo>
                  <a:pt x="33" y="226"/>
                </a:lnTo>
                <a:lnTo>
                  <a:pt x="48" y="213"/>
                </a:lnTo>
                <a:lnTo>
                  <a:pt x="67" y="213"/>
                </a:lnTo>
                <a:lnTo>
                  <a:pt x="67" y="200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4545000"/>
            <a:ext cx="135360" cy="197280"/>
          </a:xfrm>
          <a:custGeom>
            <a:avLst/>
            <a:gdLst/>
            <a:ahLst/>
            <a:rect l="0" t="0" r="r" b="b"/>
            <a:pathLst>
              <a:path w="376" h="548">
                <a:moveTo>
                  <a:pt x="285" y="429"/>
                </a:moveTo>
                <a:lnTo>
                  <a:pt x="211" y="326"/>
                </a:lnTo>
                <a:lnTo>
                  <a:pt x="137" y="207"/>
                </a:lnTo>
                <a:lnTo>
                  <a:pt x="137" y="148"/>
                </a:lnTo>
                <a:lnTo>
                  <a:pt x="137" y="87"/>
                </a:lnTo>
                <a:lnTo>
                  <a:pt x="165" y="42"/>
                </a:lnTo>
                <a:lnTo>
                  <a:pt x="211" y="0"/>
                </a:lnTo>
                <a:lnTo>
                  <a:pt x="225" y="28"/>
                </a:lnTo>
                <a:lnTo>
                  <a:pt x="256" y="42"/>
                </a:lnTo>
                <a:lnTo>
                  <a:pt x="270" y="73"/>
                </a:lnTo>
                <a:lnTo>
                  <a:pt x="270" y="87"/>
                </a:lnTo>
                <a:lnTo>
                  <a:pt x="197" y="119"/>
                </a:lnTo>
                <a:lnTo>
                  <a:pt x="120" y="148"/>
                </a:lnTo>
                <a:lnTo>
                  <a:pt x="151" y="162"/>
                </a:lnTo>
                <a:lnTo>
                  <a:pt x="165" y="162"/>
                </a:lnTo>
                <a:lnTo>
                  <a:pt x="197" y="162"/>
                </a:lnTo>
                <a:lnTo>
                  <a:pt x="211" y="162"/>
                </a:lnTo>
                <a:lnTo>
                  <a:pt x="239" y="179"/>
                </a:lnTo>
                <a:lnTo>
                  <a:pt x="299" y="193"/>
                </a:lnTo>
                <a:lnTo>
                  <a:pt x="317" y="207"/>
                </a:lnTo>
                <a:lnTo>
                  <a:pt x="331" y="207"/>
                </a:lnTo>
                <a:lnTo>
                  <a:pt x="359" y="267"/>
                </a:lnTo>
                <a:lnTo>
                  <a:pt x="376" y="326"/>
                </a:lnTo>
                <a:lnTo>
                  <a:pt x="359" y="372"/>
                </a:lnTo>
                <a:lnTo>
                  <a:pt x="331" y="400"/>
                </a:lnTo>
                <a:lnTo>
                  <a:pt x="239" y="447"/>
                </a:lnTo>
                <a:lnTo>
                  <a:pt x="137" y="475"/>
                </a:lnTo>
                <a:lnTo>
                  <a:pt x="106" y="506"/>
                </a:lnTo>
                <a:lnTo>
                  <a:pt x="59" y="534"/>
                </a:lnTo>
                <a:lnTo>
                  <a:pt x="31" y="548"/>
                </a:lnTo>
                <a:lnTo>
                  <a:pt x="17" y="534"/>
                </a:lnTo>
                <a:lnTo>
                  <a:pt x="0" y="506"/>
                </a:lnTo>
                <a:lnTo>
                  <a:pt x="59" y="475"/>
                </a:lnTo>
                <a:lnTo>
                  <a:pt x="106" y="475"/>
                </a:lnTo>
                <a:lnTo>
                  <a:pt x="151" y="461"/>
                </a:lnTo>
                <a:lnTo>
                  <a:pt x="211" y="429"/>
                </a:lnTo>
                <a:lnTo>
                  <a:pt x="239" y="400"/>
                </a:lnTo>
                <a:lnTo>
                  <a:pt x="239" y="386"/>
                </a:lnTo>
                <a:lnTo>
                  <a:pt x="256" y="400"/>
                </a:lnTo>
                <a:lnTo>
                  <a:pt x="285" y="42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60840" y="4911840"/>
            <a:ext cx="200520" cy="81360"/>
          </a:xfrm>
          <a:custGeom>
            <a:avLst/>
            <a:gdLst/>
            <a:ahLst/>
            <a:rect l="0" t="0" r="r" b="b"/>
            <a:pathLst>
              <a:path w="557" h="226">
                <a:moveTo>
                  <a:pt x="422" y="49"/>
                </a:moveTo>
                <a:lnTo>
                  <a:pt x="377" y="99"/>
                </a:lnTo>
                <a:lnTo>
                  <a:pt x="346" y="127"/>
                </a:lnTo>
                <a:lnTo>
                  <a:pt x="316" y="77"/>
                </a:lnTo>
                <a:lnTo>
                  <a:pt x="272" y="27"/>
                </a:lnTo>
                <a:lnTo>
                  <a:pt x="135" y="77"/>
                </a:lnTo>
                <a:lnTo>
                  <a:pt x="0" y="154"/>
                </a:lnTo>
                <a:lnTo>
                  <a:pt x="13" y="226"/>
                </a:lnTo>
                <a:lnTo>
                  <a:pt x="60" y="226"/>
                </a:lnTo>
                <a:lnTo>
                  <a:pt x="167" y="226"/>
                </a:lnTo>
                <a:lnTo>
                  <a:pt x="180" y="204"/>
                </a:lnTo>
                <a:lnTo>
                  <a:pt x="224" y="177"/>
                </a:lnTo>
                <a:lnTo>
                  <a:pt x="255" y="154"/>
                </a:lnTo>
                <a:lnTo>
                  <a:pt x="272" y="154"/>
                </a:lnTo>
                <a:lnTo>
                  <a:pt x="302" y="177"/>
                </a:lnTo>
                <a:lnTo>
                  <a:pt x="346" y="204"/>
                </a:lnTo>
                <a:lnTo>
                  <a:pt x="377" y="226"/>
                </a:lnTo>
                <a:lnTo>
                  <a:pt x="390" y="226"/>
                </a:lnTo>
                <a:lnTo>
                  <a:pt x="435" y="226"/>
                </a:lnTo>
                <a:lnTo>
                  <a:pt x="483" y="204"/>
                </a:lnTo>
                <a:lnTo>
                  <a:pt x="496" y="154"/>
                </a:lnTo>
                <a:lnTo>
                  <a:pt x="540" y="49"/>
                </a:lnTo>
                <a:lnTo>
                  <a:pt x="557" y="27"/>
                </a:lnTo>
                <a:lnTo>
                  <a:pt x="557" y="0"/>
                </a:lnTo>
                <a:lnTo>
                  <a:pt x="540" y="27"/>
                </a:lnTo>
                <a:lnTo>
                  <a:pt x="513" y="49"/>
                </a:lnTo>
                <a:lnTo>
                  <a:pt x="483" y="127"/>
                </a:lnTo>
                <a:lnTo>
                  <a:pt x="452" y="177"/>
                </a:lnTo>
                <a:lnTo>
                  <a:pt x="435" y="177"/>
                </a:lnTo>
                <a:lnTo>
                  <a:pt x="422" y="177"/>
                </a:lnTo>
                <a:lnTo>
                  <a:pt x="422" y="127"/>
                </a:lnTo>
                <a:lnTo>
                  <a:pt x="422" y="4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54720" y="4343400"/>
            <a:ext cx="187560" cy="170280"/>
          </a:xfrm>
          <a:custGeom>
            <a:avLst/>
            <a:gdLst/>
            <a:ahLst/>
            <a:rect l="0" t="0" r="r" b="b"/>
            <a:pathLst>
              <a:path w="521" h="473">
                <a:moveTo>
                  <a:pt x="435" y="447"/>
                </a:moveTo>
                <a:lnTo>
                  <a:pt x="422" y="315"/>
                </a:lnTo>
                <a:lnTo>
                  <a:pt x="422" y="198"/>
                </a:lnTo>
                <a:lnTo>
                  <a:pt x="422" y="144"/>
                </a:lnTo>
                <a:lnTo>
                  <a:pt x="393" y="90"/>
                </a:lnTo>
                <a:lnTo>
                  <a:pt x="364" y="40"/>
                </a:lnTo>
                <a:lnTo>
                  <a:pt x="310" y="0"/>
                </a:lnTo>
                <a:lnTo>
                  <a:pt x="323" y="90"/>
                </a:lnTo>
                <a:lnTo>
                  <a:pt x="352" y="131"/>
                </a:lnTo>
                <a:lnTo>
                  <a:pt x="380" y="185"/>
                </a:lnTo>
                <a:lnTo>
                  <a:pt x="265" y="248"/>
                </a:lnTo>
                <a:lnTo>
                  <a:pt x="153" y="288"/>
                </a:lnTo>
                <a:lnTo>
                  <a:pt x="124" y="275"/>
                </a:lnTo>
                <a:lnTo>
                  <a:pt x="98" y="262"/>
                </a:lnTo>
                <a:lnTo>
                  <a:pt x="70" y="238"/>
                </a:lnTo>
                <a:lnTo>
                  <a:pt x="28" y="198"/>
                </a:lnTo>
                <a:lnTo>
                  <a:pt x="12" y="158"/>
                </a:lnTo>
                <a:lnTo>
                  <a:pt x="0" y="144"/>
                </a:lnTo>
                <a:lnTo>
                  <a:pt x="0" y="198"/>
                </a:lnTo>
                <a:lnTo>
                  <a:pt x="12" y="225"/>
                </a:lnTo>
                <a:lnTo>
                  <a:pt x="54" y="275"/>
                </a:lnTo>
                <a:lnTo>
                  <a:pt x="124" y="288"/>
                </a:lnTo>
                <a:lnTo>
                  <a:pt x="210" y="302"/>
                </a:lnTo>
                <a:lnTo>
                  <a:pt x="239" y="315"/>
                </a:lnTo>
                <a:lnTo>
                  <a:pt x="252" y="328"/>
                </a:lnTo>
                <a:lnTo>
                  <a:pt x="281" y="356"/>
                </a:lnTo>
                <a:lnTo>
                  <a:pt x="294" y="383"/>
                </a:lnTo>
                <a:lnTo>
                  <a:pt x="310" y="406"/>
                </a:lnTo>
                <a:lnTo>
                  <a:pt x="336" y="420"/>
                </a:lnTo>
                <a:lnTo>
                  <a:pt x="380" y="383"/>
                </a:lnTo>
                <a:lnTo>
                  <a:pt x="393" y="356"/>
                </a:lnTo>
                <a:lnTo>
                  <a:pt x="406" y="315"/>
                </a:lnTo>
                <a:lnTo>
                  <a:pt x="422" y="262"/>
                </a:lnTo>
                <a:lnTo>
                  <a:pt x="406" y="238"/>
                </a:lnTo>
                <a:lnTo>
                  <a:pt x="406" y="238"/>
                </a:lnTo>
                <a:lnTo>
                  <a:pt x="393" y="248"/>
                </a:lnTo>
                <a:lnTo>
                  <a:pt x="364" y="275"/>
                </a:lnTo>
                <a:lnTo>
                  <a:pt x="352" y="315"/>
                </a:lnTo>
                <a:lnTo>
                  <a:pt x="406" y="383"/>
                </a:lnTo>
                <a:lnTo>
                  <a:pt x="435" y="396"/>
                </a:lnTo>
                <a:lnTo>
                  <a:pt x="463" y="406"/>
                </a:lnTo>
                <a:lnTo>
                  <a:pt x="476" y="420"/>
                </a:lnTo>
                <a:lnTo>
                  <a:pt x="505" y="433"/>
                </a:lnTo>
                <a:lnTo>
                  <a:pt x="521" y="433"/>
                </a:lnTo>
                <a:lnTo>
                  <a:pt x="521" y="447"/>
                </a:lnTo>
                <a:lnTo>
                  <a:pt x="492" y="460"/>
                </a:lnTo>
                <a:lnTo>
                  <a:pt x="463" y="460"/>
                </a:lnTo>
                <a:lnTo>
                  <a:pt x="393" y="460"/>
                </a:lnTo>
                <a:lnTo>
                  <a:pt x="393" y="473"/>
                </a:lnTo>
                <a:lnTo>
                  <a:pt x="380" y="473"/>
                </a:lnTo>
                <a:lnTo>
                  <a:pt x="364" y="473"/>
                </a:lnTo>
                <a:lnTo>
                  <a:pt x="364" y="473"/>
                </a:lnTo>
                <a:lnTo>
                  <a:pt x="406" y="460"/>
                </a:lnTo>
                <a:lnTo>
                  <a:pt x="435" y="447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52920" y="5186520"/>
            <a:ext cx="89280" cy="236880"/>
          </a:xfrm>
          <a:custGeom>
            <a:avLst/>
            <a:gdLst/>
            <a:ahLst/>
            <a:rect l="0" t="0" r="r" b="b"/>
            <a:pathLst>
              <a:path w="248" h="658">
                <a:moveTo>
                  <a:pt x="124" y="16"/>
                </a:moveTo>
                <a:lnTo>
                  <a:pt x="111" y="83"/>
                </a:lnTo>
                <a:lnTo>
                  <a:pt x="82" y="137"/>
                </a:lnTo>
                <a:lnTo>
                  <a:pt x="42" y="291"/>
                </a:lnTo>
                <a:lnTo>
                  <a:pt x="0" y="450"/>
                </a:lnTo>
                <a:lnTo>
                  <a:pt x="12" y="500"/>
                </a:lnTo>
                <a:lnTo>
                  <a:pt x="42" y="537"/>
                </a:lnTo>
                <a:lnTo>
                  <a:pt x="69" y="570"/>
                </a:lnTo>
                <a:lnTo>
                  <a:pt x="111" y="604"/>
                </a:lnTo>
                <a:lnTo>
                  <a:pt x="153" y="624"/>
                </a:lnTo>
                <a:lnTo>
                  <a:pt x="179" y="624"/>
                </a:lnTo>
                <a:lnTo>
                  <a:pt x="179" y="641"/>
                </a:lnTo>
                <a:lnTo>
                  <a:pt x="179" y="658"/>
                </a:lnTo>
                <a:lnTo>
                  <a:pt x="153" y="658"/>
                </a:lnTo>
                <a:lnTo>
                  <a:pt x="111" y="641"/>
                </a:lnTo>
                <a:lnTo>
                  <a:pt x="111" y="483"/>
                </a:lnTo>
                <a:lnTo>
                  <a:pt x="98" y="466"/>
                </a:lnTo>
                <a:lnTo>
                  <a:pt x="98" y="450"/>
                </a:lnTo>
                <a:lnTo>
                  <a:pt x="124" y="433"/>
                </a:lnTo>
                <a:lnTo>
                  <a:pt x="166" y="396"/>
                </a:lnTo>
                <a:lnTo>
                  <a:pt x="209" y="379"/>
                </a:lnTo>
                <a:lnTo>
                  <a:pt x="235" y="379"/>
                </a:lnTo>
                <a:lnTo>
                  <a:pt x="248" y="346"/>
                </a:lnTo>
                <a:lnTo>
                  <a:pt x="248" y="311"/>
                </a:lnTo>
                <a:lnTo>
                  <a:pt x="235" y="291"/>
                </a:lnTo>
                <a:lnTo>
                  <a:pt x="193" y="274"/>
                </a:lnTo>
                <a:lnTo>
                  <a:pt x="166" y="291"/>
                </a:lnTo>
                <a:lnTo>
                  <a:pt x="153" y="328"/>
                </a:lnTo>
                <a:lnTo>
                  <a:pt x="124" y="379"/>
                </a:lnTo>
                <a:lnTo>
                  <a:pt x="82" y="328"/>
                </a:lnTo>
                <a:lnTo>
                  <a:pt x="69" y="311"/>
                </a:lnTo>
                <a:lnTo>
                  <a:pt x="98" y="274"/>
                </a:lnTo>
                <a:lnTo>
                  <a:pt x="137" y="241"/>
                </a:lnTo>
                <a:lnTo>
                  <a:pt x="153" y="224"/>
                </a:lnTo>
                <a:lnTo>
                  <a:pt x="166" y="207"/>
                </a:lnTo>
                <a:lnTo>
                  <a:pt x="222" y="0"/>
                </a:lnTo>
                <a:lnTo>
                  <a:pt x="209" y="33"/>
                </a:lnTo>
                <a:lnTo>
                  <a:pt x="166" y="67"/>
                </a:lnTo>
                <a:lnTo>
                  <a:pt x="137" y="67"/>
                </a:lnTo>
                <a:lnTo>
                  <a:pt x="124" y="50"/>
                </a:lnTo>
                <a:lnTo>
                  <a:pt x="124" y="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00600" y="5452920"/>
            <a:ext cx="70200" cy="173520"/>
          </a:xfrm>
          <a:custGeom>
            <a:avLst/>
            <a:gdLst/>
            <a:ahLst/>
            <a:rect l="0" t="0" r="r" b="b"/>
            <a:pathLst>
              <a:path w="195" h="482">
                <a:moveTo>
                  <a:pt x="98" y="71"/>
                </a:moveTo>
                <a:lnTo>
                  <a:pt x="69" y="125"/>
                </a:lnTo>
                <a:lnTo>
                  <a:pt x="54" y="161"/>
                </a:lnTo>
                <a:lnTo>
                  <a:pt x="42" y="197"/>
                </a:lnTo>
                <a:lnTo>
                  <a:pt x="27" y="249"/>
                </a:lnTo>
                <a:lnTo>
                  <a:pt x="15" y="285"/>
                </a:lnTo>
                <a:lnTo>
                  <a:pt x="0" y="321"/>
                </a:lnTo>
                <a:lnTo>
                  <a:pt x="0" y="321"/>
                </a:lnTo>
                <a:lnTo>
                  <a:pt x="27" y="374"/>
                </a:lnTo>
                <a:lnTo>
                  <a:pt x="54" y="430"/>
                </a:lnTo>
                <a:lnTo>
                  <a:pt x="140" y="482"/>
                </a:lnTo>
                <a:lnTo>
                  <a:pt x="113" y="446"/>
                </a:lnTo>
                <a:lnTo>
                  <a:pt x="98" y="410"/>
                </a:lnTo>
                <a:lnTo>
                  <a:pt x="98" y="394"/>
                </a:lnTo>
                <a:lnTo>
                  <a:pt x="125" y="337"/>
                </a:lnTo>
                <a:lnTo>
                  <a:pt x="98" y="321"/>
                </a:lnTo>
                <a:lnTo>
                  <a:pt x="98" y="285"/>
                </a:lnTo>
                <a:lnTo>
                  <a:pt x="113" y="269"/>
                </a:lnTo>
                <a:lnTo>
                  <a:pt x="140" y="249"/>
                </a:lnTo>
                <a:lnTo>
                  <a:pt x="167" y="213"/>
                </a:lnTo>
                <a:lnTo>
                  <a:pt x="195" y="177"/>
                </a:lnTo>
                <a:lnTo>
                  <a:pt x="195" y="161"/>
                </a:lnTo>
                <a:lnTo>
                  <a:pt x="195" y="125"/>
                </a:lnTo>
                <a:lnTo>
                  <a:pt x="182" y="71"/>
                </a:lnTo>
                <a:lnTo>
                  <a:pt x="140" y="19"/>
                </a:lnTo>
                <a:lnTo>
                  <a:pt x="113" y="0"/>
                </a:lnTo>
                <a:lnTo>
                  <a:pt x="113" y="19"/>
                </a:lnTo>
                <a:lnTo>
                  <a:pt x="98" y="35"/>
                </a:lnTo>
                <a:lnTo>
                  <a:pt x="98" y="71"/>
                </a:lnTo>
                <a:lnTo>
                  <a:pt x="98" y="88"/>
                </a:lnTo>
                <a:lnTo>
                  <a:pt x="98" y="88"/>
                </a:lnTo>
                <a:lnTo>
                  <a:pt x="98" y="7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567400" y="4842000"/>
            <a:ext cx="351360" cy="225720"/>
          </a:xfrm>
          <a:custGeom>
            <a:avLst/>
            <a:gdLst/>
            <a:ahLst/>
            <a:rect l="0" t="0" r="r" b="b"/>
            <a:pathLst>
              <a:path w="976" h="627">
                <a:moveTo>
                  <a:pt x="561" y="145"/>
                </a:moveTo>
                <a:lnTo>
                  <a:pt x="534" y="286"/>
                </a:lnTo>
                <a:lnTo>
                  <a:pt x="503" y="359"/>
                </a:lnTo>
                <a:lnTo>
                  <a:pt x="457" y="413"/>
                </a:lnTo>
                <a:lnTo>
                  <a:pt x="399" y="394"/>
                </a:lnTo>
                <a:lnTo>
                  <a:pt x="371" y="375"/>
                </a:lnTo>
                <a:lnTo>
                  <a:pt x="325" y="375"/>
                </a:lnTo>
                <a:lnTo>
                  <a:pt x="267" y="394"/>
                </a:lnTo>
                <a:lnTo>
                  <a:pt x="208" y="447"/>
                </a:lnTo>
                <a:lnTo>
                  <a:pt x="134" y="466"/>
                </a:lnTo>
                <a:lnTo>
                  <a:pt x="0" y="539"/>
                </a:lnTo>
                <a:lnTo>
                  <a:pt x="0" y="573"/>
                </a:lnTo>
                <a:lnTo>
                  <a:pt x="15" y="608"/>
                </a:lnTo>
                <a:lnTo>
                  <a:pt x="73" y="627"/>
                </a:lnTo>
                <a:lnTo>
                  <a:pt x="147" y="608"/>
                </a:lnTo>
                <a:lnTo>
                  <a:pt x="208" y="592"/>
                </a:lnTo>
                <a:lnTo>
                  <a:pt x="356" y="539"/>
                </a:lnTo>
                <a:lnTo>
                  <a:pt x="488" y="466"/>
                </a:lnTo>
                <a:lnTo>
                  <a:pt x="534" y="466"/>
                </a:lnTo>
                <a:lnTo>
                  <a:pt x="577" y="485"/>
                </a:lnTo>
                <a:lnTo>
                  <a:pt x="620" y="501"/>
                </a:lnTo>
                <a:lnTo>
                  <a:pt x="650" y="539"/>
                </a:lnTo>
                <a:lnTo>
                  <a:pt x="708" y="573"/>
                </a:lnTo>
                <a:lnTo>
                  <a:pt x="724" y="539"/>
                </a:lnTo>
                <a:lnTo>
                  <a:pt x="740" y="520"/>
                </a:lnTo>
                <a:lnTo>
                  <a:pt x="771" y="520"/>
                </a:lnTo>
                <a:lnTo>
                  <a:pt x="814" y="520"/>
                </a:lnTo>
                <a:lnTo>
                  <a:pt x="844" y="520"/>
                </a:lnTo>
                <a:lnTo>
                  <a:pt x="872" y="485"/>
                </a:lnTo>
                <a:lnTo>
                  <a:pt x="902" y="413"/>
                </a:lnTo>
                <a:lnTo>
                  <a:pt x="933" y="321"/>
                </a:lnTo>
                <a:lnTo>
                  <a:pt x="961" y="232"/>
                </a:lnTo>
                <a:lnTo>
                  <a:pt x="976" y="198"/>
                </a:lnTo>
                <a:lnTo>
                  <a:pt x="976" y="179"/>
                </a:lnTo>
                <a:lnTo>
                  <a:pt x="933" y="160"/>
                </a:lnTo>
                <a:lnTo>
                  <a:pt x="872" y="145"/>
                </a:lnTo>
                <a:lnTo>
                  <a:pt x="814" y="126"/>
                </a:lnTo>
                <a:lnTo>
                  <a:pt x="783" y="126"/>
                </a:lnTo>
                <a:lnTo>
                  <a:pt x="755" y="106"/>
                </a:lnTo>
                <a:lnTo>
                  <a:pt x="708" y="91"/>
                </a:lnTo>
                <a:lnTo>
                  <a:pt x="708" y="53"/>
                </a:lnTo>
                <a:lnTo>
                  <a:pt x="696" y="19"/>
                </a:lnTo>
                <a:lnTo>
                  <a:pt x="635" y="0"/>
                </a:lnTo>
                <a:lnTo>
                  <a:pt x="561" y="0"/>
                </a:lnTo>
                <a:lnTo>
                  <a:pt x="503" y="0"/>
                </a:lnTo>
                <a:lnTo>
                  <a:pt x="518" y="38"/>
                </a:lnTo>
                <a:lnTo>
                  <a:pt x="518" y="53"/>
                </a:lnTo>
                <a:lnTo>
                  <a:pt x="561" y="145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51560" y="3927600"/>
            <a:ext cx="93960" cy="73440"/>
          </a:xfrm>
          <a:custGeom>
            <a:avLst/>
            <a:gdLst/>
            <a:ahLst/>
            <a:rect l="0" t="0" r="r" b="b"/>
            <a:pathLst>
              <a:path w="261" h="204">
                <a:moveTo>
                  <a:pt x="208" y="121"/>
                </a:moveTo>
                <a:lnTo>
                  <a:pt x="208" y="85"/>
                </a:lnTo>
                <a:lnTo>
                  <a:pt x="177" y="46"/>
                </a:lnTo>
                <a:lnTo>
                  <a:pt x="123" y="23"/>
                </a:lnTo>
                <a:lnTo>
                  <a:pt x="70" y="0"/>
                </a:lnTo>
                <a:lnTo>
                  <a:pt x="39" y="15"/>
                </a:lnTo>
                <a:lnTo>
                  <a:pt x="0" y="38"/>
                </a:lnTo>
                <a:lnTo>
                  <a:pt x="0" y="54"/>
                </a:lnTo>
                <a:lnTo>
                  <a:pt x="0" y="54"/>
                </a:lnTo>
                <a:lnTo>
                  <a:pt x="26" y="54"/>
                </a:lnTo>
                <a:lnTo>
                  <a:pt x="79" y="78"/>
                </a:lnTo>
                <a:lnTo>
                  <a:pt x="137" y="106"/>
                </a:lnTo>
                <a:lnTo>
                  <a:pt x="150" y="144"/>
                </a:lnTo>
                <a:lnTo>
                  <a:pt x="150" y="158"/>
                </a:lnTo>
                <a:lnTo>
                  <a:pt x="164" y="174"/>
                </a:lnTo>
                <a:lnTo>
                  <a:pt x="177" y="189"/>
                </a:lnTo>
                <a:lnTo>
                  <a:pt x="208" y="197"/>
                </a:lnTo>
                <a:lnTo>
                  <a:pt x="221" y="204"/>
                </a:lnTo>
                <a:lnTo>
                  <a:pt x="234" y="204"/>
                </a:lnTo>
                <a:lnTo>
                  <a:pt x="261" y="189"/>
                </a:lnTo>
                <a:lnTo>
                  <a:pt x="261" y="174"/>
                </a:lnTo>
                <a:lnTo>
                  <a:pt x="247" y="166"/>
                </a:lnTo>
                <a:lnTo>
                  <a:pt x="234" y="137"/>
                </a:lnTo>
                <a:lnTo>
                  <a:pt x="221" y="129"/>
                </a:lnTo>
                <a:lnTo>
                  <a:pt x="208" y="129"/>
                </a:lnTo>
                <a:lnTo>
                  <a:pt x="208" y="12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05360" y="4003560"/>
            <a:ext cx="113040" cy="106560"/>
          </a:xfrm>
          <a:custGeom>
            <a:avLst/>
            <a:gdLst/>
            <a:ahLst/>
            <a:rect l="0" t="0" r="r" b="b"/>
            <a:pathLst>
              <a:path w="314" h="296">
                <a:moveTo>
                  <a:pt x="74" y="232"/>
                </a:moveTo>
                <a:lnTo>
                  <a:pt x="136" y="178"/>
                </a:lnTo>
                <a:lnTo>
                  <a:pt x="199" y="113"/>
                </a:lnTo>
                <a:lnTo>
                  <a:pt x="199" y="79"/>
                </a:lnTo>
                <a:lnTo>
                  <a:pt x="199" y="46"/>
                </a:lnTo>
                <a:lnTo>
                  <a:pt x="177" y="23"/>
                </a:lnTo>
                <a:lnTo>
                  <a:pt x="136" y="0"/>
                </a:lnTo>
                <a:lnTo>
                  <a:pt x="123" y="15"/>
                </a:lnTo>
                <a:lnTo>
                  <a:pt x="97" y="23"/>
                </a:lnTo>
                <a:lnTo>
                  <a:pt x="88" y="41"/>
                </a:lnTo>
                <a:lnTo>
                  <a:pt x="88" y="46"/>
                </a:lnTo>
                <a:lnTo>
                  <a:pt x="149" y="64"/>
                </a:lnTo>
                <a:lnTo>
                  <a:pt x="212" y="79"/>
                </a:lnTo>
                <a:lnTo>
                  <a:pt x="186" y="87"/>
                </a:lnTo>
                <a:lnTo>
                  <a:pt x="177" y="87"/>
                </a:lnTo>
                <a:lnTo>
                  <a:pt x="149" y="87"/>
                </a:lnTo>
                <a:lnTo>
                  <a:pt x="136" y="87"/>
                </a:lnTo>
                <a:lnTo>
                  <a:pt x="114" y="97"/>
                </a:lnTo>
                <a:lnTo>
                  <a:pt x="61" y="105"/>
                </a:lnTo>
                <a:lnTo>
                  <a:pt x="48" y="113"/>
                </a:lnTo>
                <a:lnTo>
                  <a:pt x="35" y="113"/>
                </a:lnTo>
                <a:lnTo>
                  <a:pt x="13" y="143"/>
                </a:lnTo>
                <a:lnTo>
                  <a:pt x="0" y="178"/>
                </a:lnTo>
                <a:lnTo>
                  <a:pt x="13" y="201"/>
                </a:lnTo>
                <a:lnTo>
                  <a:pt x="35" y="216"/>
                </a:lnTo>
                <a:lnTo>
                  <a:pt x="114" y="242"/>
                </a:lnTo>
                <a:lnTo>
                  <a:pt x="199" y="257"/>
                </a:lnTo>
                <a:lnTo>
                  <a:pt x="225" y="273"/>
                </a:lnTo>
                <a:lnTo>
                  <a:pt x="265" y="288"/>
                </a:lnTo>
                <a:lnTo>
                  <a:pt x="287" y="296"/>
                </a:lnTo>
                <a:lnTo>
                  <a:pt x="300" y="288"/>
                </a:lnTo>
                <a:lnTo>
                  <a:pt x="314" y="273"/>
                </a:lnTo>
                <a:lnTo>
                  <a:pt x="265" y="257"/>
                </a:lnTo>
                <a:lnTo>
                  <a:pt x="225" y="257"/>
                </a:lnTo>
                <a:lnTo>
                  <a:pt x="186" y="250"/>
                </a:lnTo>
                <a:lnTo>
                  <a:pt x="136" y="232"/>
                </a:lnTo>
                <a:lnTo>
                  <a:pt x="114" y="216"/>
                </a:lnTo>
                <a:lnTo>
                  <a:pt x="114" y="209"/>
                </a:lnTo>
                <a:lnTo>
                  <a:pt x="97" y="216"/>
                </a:lnTo>
                <a:lnTo>
                  <a:pt x="74" y="23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89440" y="4227480"/>
            <a:ext cx="174960" cy="28800"/>
          </a:xfrm>
          <a:custGeom>
            <a:avLst/>
            <a:gdLst/>
            <a:ahLst/>
            <a:rect l="0" t="0" r="r" b="b"/>
            <a:pathLst>
              <a:path w="486" h="80">
                <a:moveTo>
                  <a:pt x="119" y="18"/>
                </a:moveTo>
                <a:lnTo>
                  <a:pt x="158" y="34"/>
                </a:lnTo>
                <a:lnTo>
                  <a:pt x="185" y="45"/>
                </a:lnTo>
                <a:lnTo>
                  <a:pt x="211" y="26"/>
                </a:lnTo>
                <a:lnTo>
                  <a:pt x="247" y="10"/>
                </a:lnTo>
                <a:lnTo>
                  <a:pt x="367" y="26"/>
                </a:lnTo>
                <a:lnTo>
                  <a:pt x="486" y="56"/>
                </a:lnTo>
                <a:lnTo>
                  <a:pt x="477" y="80"/>
                </a:lnTo>
                <a:lnTo>
                  <a:pt x="433" y="80"/>
                </a:lnTo>
                <a:lnTo>
                  <a:pt x="340" y="80"/>
                </a:lnTo>
                <a:lnTo>
                  <a:pt x="331" y="72"/>
                </a:lnTo>
                <a:lnTo>
                  <a:pt x="292" y="61"/>
                </a:lnTo>
                <a:lnTo>
                  <a:pt x="265" y="56"/>
                </a:lnTo>
                <a:lnTo>
                  <a:pt x="247" y="56"/>
                </a:lnTo>
                <a:lnTo>
                  <a:pt x="220" y="61"/>
                </a:lnTo>
                <a:lnTo>
                  <a:pt x="185" y="72"/>
                </a:lnTo>
                <a:lnTo>
                  <a:pt x="158" y="80"/>
                </a:lnTo>
                <a:lnTo>
                  <a:pt x="145" y="80"/>
                </a:lnTo>
                <a:lnTo>
                  <a:pt x="105" y="80"/>
                </a:lnTo>
                <a:lnTo>
                  <a:pt x="66" y="72"/>
                </a:lnTo>
                <a:lnTo>
                  <a:pt x="52" y="56"/>
                </a:lnTo>
                <a:lnTo>
                  <a:pt x="13" y="18"/>
                </a:lnTo>
                <a:lnTo>
                  <a:pt x="0" y="10"/>
                </a:lnTo>
                <a:lnTo>
                  <a:pt x="0" y="0"/>
                </a:lnTo>
                <a:lnTo>
                  <a:pt x="13" y="10"/>
                </a:lnTo>
                <a:lnTo>
                  <a:pt x="39" y="18"/>
                </a:lnTo>
                <a:lnTo>
                  <a:pt x="66" y="45"/>
                </a:lnTo>
                <a:lnTo>
                  <a:pt x="92" y="61"/>
                </a:lnTo>
                <a:lnTo>
                  <a:pt x="105" y="61"/>
                </a:lnTo>
                <a:lnTo>
                  <a:pt x="119" y="61"/>
                </a:lnTo>
                <a:lnTo>
                  <a:pt x="119" y="45"/>
                </a:lnTo>
                <a:lnTo>
                  <a:pt x="119" y="18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89440" y="3886200"/>
            <a:ext cx="173520" cy="97200"/>
          </a:xfrm>
          <a:custGeom>
            <a:avLst/>
            <a:gdLst/>
            <a:ahLst/>
            <a:rect l="0" t="0" r="r" b="b"/>
            <a:pathLst>
              <a:path w="482" h="270">
                <a:moveTo>
                  <a:pt x="79" y="255"/>
                </a:moveTo>
                <a:lnTo>
                  <a:pt x="92" y="179"/>
                </a:lnTo>
                <a:lnTo>
                  <a:pt x="92" y="112"/>
                </a:lnTo>
                <a:lnTo>
                  <a:pt x="92" y="81"/>
                </a:lnTo>
                <a:lnTo>
                  <a:pt x="119" y="51"/>
                </a:lnTo>
                <a:lnTo>
                  <a:pt x="146" y="20"/>
                </a:lnTo>
                <a:lnTo>
                  <a:pt x="195" y="0"/>
                </a:lnTo>
                <a:lnTo>
                  <a:pt x="186" y="51"/>
                </a:lnTo>
                <a:lnTo>
                  <a:pt x="159" y="73"/>
                </a:lnTo>
                <a:lnTo>
                  <a:pt x="133" y="104"/>
                </a:lnTo>
                <a:lnTo>
                  <a:pt x="239" y="140"/>
                </a:lnTo>
                <a:lnTo>
                  <a:pt x="340" y="163"/>
                </a:lnTo>
                <a:lnTo>
                  <a:pt x="368" y="156"/>
                </a:lnTo>
                <a:lnTo>
                  <a:pt x="394" y="148"/>
                </a:lnTo>
                <a:lnTo>
                  <a:pt x="420" y="135"/>
                </a:lnTo>
                <a:lnTo>
                  <a:pt x="456" y="112"/>
                </a:lnTo>
                <a:lnTo>
                  <a:pt x="473" y="88"/>
                </a:lnTo>
                <a:lnTo>
                  <a:pt x="482" y="81"/>
                </a:lnTo>
                <a:lnTo>
                  <a:pt x="482" y="112"/>
                </a:lnTo>
                <a:lnTo>
                  <a:pt x="473" y="127"/>
                </a:lnTo>
                <a:lnTo>
                  <a:pt x="434" y="156"/>
                </a:lnTo>
                <a:lnTo>
                  <a:pt x="368" y="163"/>
                </a:lnTo>
                <a:lnTo>
                  <a:pt x="287" y="171"/>
                </a:lnTo>
                <a:lnTo>
                  <a:pt x="261" y="179"/>
                </a:lnTo>
                <a:lnTo>
                  <a:pt x="247" y="187"/>
                </a:lnTo>
                <a:lnTo>
                  <a:pt x="221" y="202"/>
                </a:lnTo>
                <a:lnTo>
                  <a:pt x="212" y="219"/>
                </a:lnTo>
                <a:lnTo>
                  <a:pt x="195" y="232"/>
                </a:lnTo>
                <a:lnTo>
                  <a:pt x="172" y="239"/>
                </a:lnTo>
                <a:lnTo>
                  <a:pt x="133" y="219"/>
                </a:lnTo>
                <a:lnTo>
                  <a:pt x="119" y="202"/>
                </a:lnTo>
                <a:lnTo>
                  <a:pt x="105" y="179"/>
                </a:lnTo>
                <a:lnTo>
                  <a:pt x="92" y="148"/>
                </a:lnTo>
                <a:lnTo>
                  <a:pt x="105" y="135"/>
                </a:lnTo>
                <a:lnTo>
                  <a:pt x="105" y="135"/>
                </a:lnTo>
                <a:lnTo>
                  <a:pt x="119" y="140"/>
                </a:lnTo>
                <a:lnTo>
                  <a:pt x="146" y="156"/>
                </a:lnTo>
                <a:lnTo>
                  <a:pt x="159" y="179"/>
                </a:lnTo>
                <a:lnTo>
                  <a:pt x="105" y="219"/>
                </a:lnTo>
                <a:lnTo>
                  <a:pt x="79" y="227"/>
                </a:lnTo>
                <a:lnTo>
                  <a:pt x="52" y="232"/>
                </a:lnTo>
                <a:lnTo>
                  <a:pt x="39" y="239"/>
                </a:lnTo>
                <a:lnTo>
                  <a:pt x="13" y="247"/>
                </a:lnTo>
                <a:lnTo>
                  <a:pt x="0" y="247"/>
                </a:lnTo>
                <a:lnTo>
                  <a:pt x="0" y="255"/>
                </a:lnTo>
                <a:lnTo>
                  <a:pt x="26" y="263"/>
                </a:lnTo>
                <a:lnTo>
                  <a:pt x="52" y="263"/>
                </a:lnTo>
                <a:lnTo>
                  <a:pt x="119" y="263"/>
                </a:lnTo>
                <a:lnTo>
                  <a:pt x="119" y="270"/>
                </a:lnTo>
                <a:lnTo>
                  <a:pt x="133" y="270"/>
                </a:lnTo>
                <a:lnTo>
                  <a:pt x="146" y="270"/>
                </a:lnTo>
                <a:lnTo>
                  <a:pt x="146" y="270"/>
                </a:lnTo>
                <a:lnTo>
                  <a:pt x="105" y="263"/>
                </a:lnTo>
                <a:lnTo>
                  <a:pt x="79" y="255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4200" y="4379760"/>
            <a:ext cx="81360" cy="133560"/>
          </a:xfrm>
          <a:custGeom>
            <a:avLst/>
            <a:gdLst/>
            <a:ahLst/>
            <a:rect l="0" t="0" r="r" b="b"/>
            <a:pathLst>
              <a:path w="226" h="371">
                <a:moveTo>
                  <a:pt x="115" y="10"/>
                </a:moveTo>
                <a:lnTo>
                  <a:pt x="124" y="46"/>
                </a:lnTo>
                <a:lnTo>
                  <a:pt x="150" y="77"/>
                </a:lnTo>
                <a:lnTo>
                  <a:pt x="187" y="164"/>
                </a:lnTo>
                <a:lnTo>
                  <a:pt x="226" y="253"/>
                </a:lnTo>
                <a:lnTo>
                  <a:pt x="213" y="281"/>
                </a:lnTo>
                <a:lnTo>
                  <a:pt x="187" y="304"/>
                </a:lnTo>
                <a:lnTo>
                  <a:pt x="164" y="322"/>
                </a:lnTo>
                <a:lnTo>
                  <a:pt x="124" y="340"/>
                </a:lnTo>
                <a:lnTo>
                  <a:pt x="89" y="353"/>
                </a:lnTo>
                <a:lnTo>
                  <a:pt x="62" y="353"/>
                </a:lnTo>
                <a:lnTo>
                  <a:pt x="62" y="361"/>
                </a:lnTo>
                <a:lnTo>
                  <a:pt x="62" y="371"/>
                </a:lnTo>
                <a:lnTo>
                  <a:pt x="89" y="371"/>
                </a:lnTo>
                <a:lnTo>
                  <a:pt x="124" y="361"/>
                </a:lnTo>
                <a:lnTo>
                  <a:pt x="124" y="273"/>
                </a:lnTo>
                <a:lnTo>
                  <a:pt x="137" y="263"/>
                </a:lnTo>
                <a:lnTo>
                  <a:pt x="137" y="253"/>
                </a:lnTo>
                <a:lnTo>
                  <a:pt x="115" y="245"/>
                </a:lnTo>
                <a:lnTo>
                  <a:pt x="75" y="224"/>
                </a:lnTo>
                <a:lnTo>
                  <a:pt x="35" y="214"/>
                </a:lnTo>
                <a:lnTo>
                  <a:pt x="13" y="214"/>
                </a:lnTo>
                <a:lnTo>
                  <a:pt x="0" y="196"/>
                </a:lnTo>
                <a:lnTo>
                  <a:pt x="0" y="174"/>
                </a:lnTo>
                <a:lnTo>
                  <a:pt x="13" y="164"/>
                </a:lnTo>
                <a:lnTo>
                  <a:pt x="52" y="154"/>
                </a:lnTo>
                <a:lnTo>
                  <a:pt x="75" y="164"/>
                </a:lnTo>
                <a:lnTo>
                  <a:pt x="89" y="186"/>
                </a:lnTo>
                <a:lnTo>
                  <a:pt x="115" y="214"/>
                </a:lnTo>
                <a:lnTo>
                  <a:pt x="150" y="186"/>
                </a:lnTo>
                <a:lnTo>
                  <a:pt x="164" y="174"/>
                </a:lnTo>
                <a:lnTo>
                  <a:pt x="137" y="154"/>
                </a:lnTo>
                <a:lnTo>
                  <a:pt x="102" y="136"/>
                </a:lnTo>
                <a:lnTo>
                  <a:pt x="89" y="126"/>
                </a:lnTo>
                <a:lnTo>
                  <a:pt x="75" y="118"/>
                </a:lnTo>
                <a:lnTo>
                  <a:pt x="26" y="0"/>
                </a:lnTo>
                <a:lnTo>
                  <a:pt x="35" y="18"/>
                </a:lnTo>
                <a:lnTo>
                  <a:pt x="75" y="38"/>
                </a:lnTo>
                <a:lnTo>
                  <a:pt x="102" y="38"/>
                </a:lnTo>
                <a:lnTo>
                  <a:pt x="115" y="28"/>
                </a:lnTo>
                <a:lnTo>
                  <a:pt x="115" y="10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62720" y="4535640"/>
            <a:ext cx="66960" cy="100440"/>
          </a:xfrm>
          <a:custGeom>
            <a:avLst/>
            <a:gdLst/>
            <a:ahLst/>
            <a:rect l="0" t="0" r="r" b="b"/>
            <a:pathLst>
              <a:path w="186" h="279">
                <a:moveTo>
                  <a:pt x="92" y="41"/>
                </a:moveTo>
                <a:lnTo>
                  <a:pt x="120" y="73"/>
                </a:lnTo>
                <a:lnTo>
                  <a:pt x="133" y="93"/>
                </a:lnTo>
                <a:lnTo>
                  <a:pt x="146" y="114"/>
                </a:lnTo>
                <a:lnTo>
                  <a:pt x="159" y="145"/>
                </a:lnTo>
                <a:lnTo>
                  <a:pt x="172" y="165"/>
                </a:lnTo>
                <a:lnTo>
                  <a:pt x="186" y="186"/>
                </a:lnTo>
                <a:lnTo>
                  <a:pt x="186" y="186"/>
                </a:lnTo>
                <a:lnTo>
                  <a:pt x="159" y="218"/>
                </a:lnTo>
                <a:lnTo>
                  <a:pt x="133" y="248"/>
                </a:lnTo>
                <a:lnTo>
                  <a:pt x="52" y="279"/>
                </a:lnTo>
                <a:lnTo>
                  <a:pt x="79" y="259"/>
                </a:lnTo>
                <a:lnTo>
                  <a:pt x="92" y="238"/>
                </a:lnTo>
                <a:lnTo>
                  <a:pt x="92" y="228"/>
                </a:lnTo>
                <a:lnTo>
                  <a:pt x="66" y="196"/>
                </a:lnTo>
                <a:lnTo>
                  <a:pt x="92" y="186"/>
                </a:lnTo>
                <a:lnTo>
                  <a:pt x="92" y="165"/>
                </a:lnTo>
                <a:lnTo>
                  <a:pt x="79" y="155"/>
                </a:lnTo>
                <a:lnTo>
                  <a:pt x="52" y="145"/>
                </a:lnTo>
                <a:lnTo>
                  <a:pt x="26" y="124"/>
                </a:lnTo>
                <a:lnTo>
                  <a:pt x="0" y="103"/>
                </a:lnTo>
                <a:lnTo>
                  <a:pt x="0" y="93"/>
                </a:lnTo>
                <a:lnTo>
                  <a:pt x="0" y="73"/>
                </a:lnTo>
                <a:lnTo>
                  <a:pt x="8" y="41"/>
                </a:lnTo>
                <a:lnTo>
                  <a:pt x="52" y="10"/>
                </a:lnTo>
                <a:lnTo>
                  <a:pt x="79" y="0"/>
                </a:lnTo>
                <a:lnTo>
                  <a:pt x="79" y="10"/>
                </a:lnTo>
                <a:lnTo>
                  <a:pt x="92" y="20"/>
                </a:lnTo>
                <a:lnTo>
                  <a:pt x="92" y="41"/>
                </a:lnTo>
                <a:lnTo>
                  <a:pt x="92" y="51"/>
                </a:lnTo>
                <a:lnTo>
                  <a:pt x="92" y="51"/>
                </a:lnTo>
                <a:lnTo>
                  <a:pt x="92" y="4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4187880"/>
            <a:ext cx="340200" cy="113040"/>
          </a:xfrm>
          <a:custGeom>
            <a:avLst/>
            <a:gdLst/>
            <a:ahLst/>
            <a:rect l="0" t="0" r="r" b="b"/>
            <a:pathLst>
              <a:path w="945" h="314">
                <a:moveTo>
                  <a:pt x="402" y="72"/>
                </a:moveTo>
                <a:lnTo>
                  <a:pt x="428" y="142"/>
                </a:lnTo>
                <a:lnTo>
                  <a:pt x="459" y="179"/>
                </a:lnTo>
                <a:lnTo>
                  <a:pt x="503" y="208"/>
                </a:lnTo>
                <a:lnTo>
                  <a:pt x="556" y="197"/>
                </a:lnTo>
                <a:lnTo>
                  <a:pt x="587" y="187"/>
                </a:lnTo>
                <a:lnTo>
                  <a:pt x="631" y="187"/>
                </a:lnTo>
                <a:lnTo>
                  <a:pt x="684" y="197"/>
                </a:lnTo>
                <a:lnTo>
                  <a:pt x="742" y="223"/>
                </a:lnTo>
                <a:lnTo>
                  <a:pt x="813" y="233"/>
                </a:lnTo>
                <a:lnTo>
                  <a:pt x="945" y="270"/>
                </a:lnTo>
                <a:lnTo>
                  <a:pt x="945" y="288"/>
                </a:lnTo>
                <a:lnTo>
                  <a:pt x="932" y="303"/>
                </a:lnTo>
                <a:lnTo>
                  <a:pt x="875" y="314"/>
                </a:lnTo>
                <a:lnTo>
                  <a:pt x="804" y="303"/>
                </a:lnTo>
                <a:lnTo>
                  <a:pt x="742" y="295"/>
                </a:lnTo>
                <a:lnTo>
                  <a:pt x="600" y="270"/>
                </a:lnTo>
                <a:lnTo>
                  <a:pt x="472" y="233"/>
                </a:lnTo>
                <a:lnTo>
                  <a:pt x="428" y="233"/>
                </a:lnTo>
                <a:lnTo>
                  <a:pt x="384" y="244"/>
                </a:lnTo>
                <a:lnTo>
                  <a:pt x="344" y="251"/>
                </a:lnTo>
                <a:lnTo>
                  <a:pt x="314" y="270"/>
                </a:lnTo>
                <a:lnTo>
                  <a:pt x="256" y="288"/>
                </a:lnTo>
                <a:lnTo>
                  <a:pt x="243" y="270"/>
                </a:lnTo>
                <a:lnTo>
                  <a:pt x="229" y="259"/>
                </a:lnTo>
                <a:lnTo>
                  <a:pt x="198" y="259"/>
                </a:lnTo>
                <a:lnTo>
                  <a:pt x="158" y="259"/>
                </a:lnTo>
                <a:lnTo>
                  <a:pt x="127" y="259"/>
                </a:lnTo>
                <a:lnTo>
                  <a:pt x="101" y="244"/>
                </a:lnTo>
                <a:lnTo>
                  <a:pt x="70" y="208"/>
                </a:lnTo>
                <a:lnTo>
                  <a:pt x="39" y="161"/>
                </a:lnTo>
                <a:lnTo>
                  <a:pt x="13" y="116"/>
                </a:lnTo>
                <a:lnTo>
                  <a:pt x="0" y="98"/>
                </a:lnTo>
                <a:lnTo>
                  <a:pt x="0" y="90"/>
                </a:lnTo>
                <a:lnTo>
                  <a:pt x="39" y="80"/>
                </a:lnTo>
                <a:lnTo>
                  <a:pt x="101" y="72"/>
                </a:lnTo>
                <a:lnTo>
                  <a:pt x="158" y="62"/>
                </a:lnTo>
                <a:lnTo>
                  <a:pt x="185" y="62"/>
                </a:lnTo>
                <a:lnTo>
                  <a:pt x="211" y="54"/>
                </a:lnTo>
                <a:lnTo>
                  <a:pt x="256" y="46"/>
                </a:lnTo>
                <a:lnTo>
                  <a:pt x="256" y="25"/>
                </a:lnTo>
                <a:lnTo>
                  <a:pt x="269" y="10"/>
                </a:lnTo>
                <a:lnTo>
                  <a:pt x="331" y="0"/>
                </a:lnTo>
                <a:lnTo>
                  <a:pt x="402" y="0"/>
                </a:lnTo>
                <a:lnTo>
                  <a:pt x="459" y="0"/>
                </a:lnTo>
                <a:lnTo>
                  <a:pt x="441" y="18"/>
                </a:lnTo>
                <a:lnTo>
                  <a:pt x="441" y="25"/>
                </a:lnTo>
                <a:lnTo>
                  <a:pt x="402" y="7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590920" y="1905120"/>
            <a:ext cx="1429200" cy="4258080"/>
            <a:chOff x="2590920" y="1905120"/>
            <a:chExt cx="1429200" cy="4258080"/>
          </a:xfrm>
        </p:grpSpPr>
        <p:sp>
          <p:nvSpPr>
            <p:cNvPr id="663" name=""/>
            <p:cNvSpPr/>
            <p:nvPr/>
          </p:nvSpPr>
          <p:spPr>
            <a:xfrm>
              <a:off x="3762360" y="4435200"/>
              <a:ext cx="257760" cy="263160"/>
            </a:xfrm>
            <a:custGeom>
              <a:avLst/>
              <a:gdLst/>
              <a:ahLst/>
              <a:rect l="0" t="0" r="r" b="b"/>
              <a:pathLst>
                <a:path w="716" h="731">
                  <a:moveTo>
                    <a:pt x="586" y="665"/>
                  </a:moveTo>
                  <a:lnTo>
                    <a:pt x="586" y="665"/>
                  </a:lnTo>
                  <a:cubicBezTo>
                    <a:pt x="634" y="628"/>
                    <a:pt x="671" y="579"/>
                    <a:pt x="693" y="521"/>
                  </a:cubicBezTo>
                  <a:cubicBezTo>
                    <a:pt x="716" y="463"/>
                    <a:pt x="722" y="398"/>
                    <a:pt x="712" y="334"/>
                  </a:cubicBezTo>
                  <a:cubicBezTo>
                    <a:pt x="702" y="270"/>
                    <a:pt x="676" y="209"/>
                    <a:pt x="636" y="156"/>
                  </a:cubicBezTo>
                  <a:cubicBezTo>
                    <a:pt x="596" y="104"/>
                    <a:pt x="545" y="62"/>
                    <a:pt x="486" y="34"/>
                  </a:cubicBezTo>
                  <a:cubicBezTo>
                    <a:pt x="427" y="7"/>
                    <a:pt x="364" y="-4"/>
                    <a:pt x="301" y="1"/>
                  </a:cubicBezTo>
                  <a:cubicBezTo>
                    <a:pt x="239" y="6"/>
                    <a:pt x="181" y="29"/>
                    <a:pt x="132" y="65"/>
                  </a:cubicBezTo>
                  <a:cubicBezTo>
                    <a:pt x="132" y="66"/>
                    <a:pt x="132" y="66"/>
                    <a:pt x="131" y="66"/>
                  </a:cubicBezTo>
                  <a:lnTo>
                    <a:pt x="131" y="66"/>
                  </a:lnTo>
                  <a:cubicBezTo>
                    <a:pt x="83" y="103"/>
                    <a:pt x="46" y="152"/>
                    <a:pt x="24" y="210"/>
                  </a:cubicBezTo>
                  <a:cubicBezTo>
                    <a:pt x="1" y="268"/>
                    <a:pt x="-5" y="333"/>
                    <a:pt x="5" y="397"/>
                  </a:cubicBezTo>
                  <a:cubicBezTo>
                    <a:pt x="15" y="461"/>
                    <a:pt x="41" y="522"/>
                    <a:pt x="81" y="575"/>
                  </a:cubicBezTo>
                  <a:cubicBezTo>
                    <a:pt x="121" y="627"/>
                    <a:pt x="172" y="669"/>
                    <a:pt x="231" y="697"/>
                  </a:cubicBezTo>
                  <a:cubicBezTo>
                    <a:pt x="290" y="724"/>
                    <a:pt x="353" y="735"/>
                    <a:pt x="416" y="730"/>
                  </a:cubicBezTo>
                  <a:cubicBezTo>
                    <a:pt x="478" y="725"/>
                    <a:pt x="536" y="702"/>
                    <a:pt x="585" y="666"/>
                  </a:cubicBezTo>
                  <a:cubicBezTo>
                    <a:pt x="585" y="665"/>
                    <a:pt x="585" y="665"/>
                    <a:pt x="586" y="66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11400" y="4554360"/>
              <a:ext cx="579960" cy="1484640"/>
            </a:xfrm>
            <a:custGeom>
              <a:avLst/>
              <a:gdLst/>
              <a:ahLst/>
              <a:rect l="0" t="0" r="r" b="b"/>
              <a:pathLst>
                <a:path w="1611" h="4124">
                  <a:moveTo>
                    <a:pt x="1611" y="0"/>
                  </a:moveTo>
                  <a:lnTo>
                    <a:pt x="1329" y="4124"/>
                  </a:lnTo>
                  <a:lnTo>
                    <a:pt x="697" y="4124"/>
                  </a:lnTo>
                  <a:lnTo>
                    <a:pt x="790" y="1115"/>
                  </a:lnTo>
                  <a:lnTo>
                    <a:pt x="697" y="4124"/>
                  </a:lnTo>
                  <a:lnTo>
                    <a:pt x="0" y="4124"/>
                  </a:lnTo>
                  <a:lnTo>
                    <a:pt x="66" y="22"/>
                  </a:lnTo>
                  <a:lnTo>
                    <a:pt x="1611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56000" y="3516480"/>
              <a:ext cx="532080" cy="1008360"/>
            </a:xfrm>
            <a:custGeom>
              <a:avLst/>
              <a:gdLst/>
              <a:ahLst/>
              <a:rect l="0" t="0" r="r" b="b"/>
              <a:pathLst>
                <a:path w="1478" h="2801">
                  <a:moveTo>
                    <a:pt x="163" y="0"/>
                  </a:moveTo>
                  <a:lnTo>
                    <a:pt x="35" y="114"/>
                  </a:lnTo>
                  <a:lnTo>
                    <a:pt x="0" y="392"/>
                  </a:lnTo>
                  <a:lnTo>
                    <a:pt x="282" y="1133"/>
                  </a:lnTo>
                  <a:lnTo>
                    <a:pt x="772" y="2801"/>
                  </a:lnTo>
                  <a:lnTo>
                    <a:pt x="1478" y="2571"/>
                  </a:lnTo>
                  <a:lnTo>
                    <a:pt x="971" y="1164"/>
                  </a:lnTo>
                  <a:lnTo>
                    <a:pt x="467" y="17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33560" y="3349800"/>
              <a:ext cx="867240" cy="1378440"/>
            </a:xfrm>
            <a:custGeom>
              <a:avLst/>
              <a:gdLst/>
              <a:ahLst/>
              <a:rect l="0" t="0" r="r" b="b"/>
              <a:pathLst>
                <a:path w="2409" h="3829">
                  <a:moveTo>
                    <a:pt x="1566" y="321"/>
                  </a:moveTo>
                  <a:lnTo>
                    <a:pt x="1645" y="339"/>
                  </a:lnTo>
                  <a:lnTo>
                    <a:pt x="1703" y="374"/>
                  </a:lnTo>
                  <a:lnTo>
                    <a:pt x="1814" y="502"/>
                  </a:lnTo>
                  <a:lnTo>
                    <a:pt x="1933" y="621"/>
                  </a:lnTo>
                  <a:lnTo>
                    <a:pt x="2065" y="732"/>
                  </a:lnTo>
                  <a:lnTo>
                    <a:pt x="2083" y="767"/>
                  </a:lnTo>
                  <a:lnTo>
                    <a:pt x="2105" y="802"/>
                  </a:lnTo>
                  <a:lnTo>
                    <a:pt x="2105" y="802"/>
                  </a:lnTo>
                  <a:lnTo>
                    <a:pt x="2083" y="802"/>
                  </a:lnTo>
                  <a:lnTo>
                    <a:pt x="2277" y="1337"/>
                  </a:lnTo>
                  <a:lnTo>
                    <a:pt x="2409" y="3741"/>
                  </a:lnTo>
                  <a:lnTo>
                    <a:pt x="0" y="3829"/>
                  </a:lnTo>
                  <a:lnTo>
                    <a:pt x="361" y="1588"/>
                  </a:lnTo>
                  <a:lnTo>
                    <a:pt x="533" y="357"/>
                  </a:lnTo>
                  <a:lnTo>
                    <a:pt x="1187" y="0"/>
                  </a:lnTo>
                  <a:lnTo>
                    <a:pt x="1566" y="32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74800" y="3495600"/>
              <a:ext cx="429120" cy="1026000"/>
            </a:xfrm>
            <a:custGeom>
              <a:avLst/>
              <a:gdLst/>
              <a:ahLst/>
              <a:rect l="0" t="0" r="r" b="b"/>
              <a:pathLst>
                <a:path w="1192" h="2850">
                  <a:moveTo>
                    <a:pt x="980" y="0"/>
                  </a:moveTo>
                  <a:lnTo>
                    <a:pt x="1122" y="92"/>
                  </a:lnTo>
                  <a:lnTo>
                    <a:pt x="1192" y="366"/>
                  </a:lnTo>
                  <a:lnTo>
                    <a:pt x="1007" y="1138"/>
                  </a:lnTo>
                  <a:lnTo>
                    <a:pt x="724" y="2850"/>
                  </a:lnTo>
                  <a:lnTo>
                    <a:pt x="0" y="2713"/>
                  </a:lnTo>
                  <a:lnTo>
                    <a:pt x="327" y="1253"/>
                  </a:lnTo>
                  <a:lnTo>
                    <a:pt x="702" y="207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06800" y="4267080"/>
              <a:ext cx="375120" cy="555840"/>
            </a:xfrm>
            <a:custGeom>
              <a:avLst/>
              <a:gdLst/>
              <a:ahLst/>
              <a:rect l="0" t="0" r="r" b="b"/>
              <a:pathLst>
                <a:path w="1042" h="1544">
                  <a:moveTo>
                    <a:pt x="777" y="61"/>
                  </a:moveTo>
                  <a:lnTo>
                    <a:pt x="724" y="22"/>
                  </a:lnTo>
                  <a:lnTo>
                    <a:pt x="671" y="0"/>
                  </a:lnTo>
                  <a:lnTo>
                    <a:pt x="618" y="22"/>
                  </a:lnTo>
                  <a:lnTo>
                    <a:pt x="534" y="39"/>
                  </a:lnTo>
                  <a:lnTo>
                    <a:pt x="402" y="0"/>
                  </a:lnTo>
                  <a:lnTo>
                    <a:pt x="349" y="0"/>
                  </a:lnTo>
                  <a:lnTo>
                    <a:pt x="265" y="0"/>
                  </a:lnTo>
                  <a:lnTo>
                    <a:pt x="265" y="61"/>
                  </a:lnTo>
                  <a:lnTo>
                    <a:pt x="265" y="79"/>
                  </a:lnTo>
                  <a:lnTo>
                    <a:pt x="349" y="141"/>
                  </a:lnTo>
                  <a:lnTo>
                    <a:pt x="318" y="224"/>
                  </a:lnTo>
                  <a:lnTo>
                    <a:pt x="318" y="286"/>
                  </a:lnTo>
                  <a:lnTo>
                    <a:pt x="265" y="326"/>
                  </a:lnTo>
                  <a:lnTo>
                    <a:pt x="211" y="388"/>
                  </a:lnTo>
                  <a:lnTo>
                    <a:pt x="242" y="529"/>
                  </a:lnTo>
                  <a:lnTo>
                    <a:pt x="296" y="630"/>
                  </a:lnTo>
                  <a:lnTo>
                    <a:pt x="242" y="692"/>
                  </a:lnTo>
                  <a:lnTo>
                    <a:pt x="158" y="771"/>
                  </a:lnTo>
                  <a:lnTo>
                    <a:pt x="79" y="852"/>
                  </a:lnTo>
                  <a:lnTo>
                    <a:pt x="52" y="913"/>
                  </a:lnTo>
                  <a:lnTo>
                    <a:pt x="26" y="975"/>
                  </a:lnTo>
                  <a:lnTo>
                    <a:pt x="0" y="1015"/>
                  </a:lnTo>
                  <a:lnTo>
                    <a:pt x="0" y="1015"/>
                  </a:lnTo>
                  <a:lnTo>
                    <a:pt x="26" y="1160"/>
                  </a:lnTo>
                  <a:lnTo>
                    <a:pt x="52" y="1279"/>
                  </a:lnTo>
                  <a:lnTo>
                    <a:pt x="79" y="1403"/>
                  </a:lnTo>
                  <a:lnTo>
                    <a:pt x="136" y="1544"/>
                  </a:lnTo>
                  <a:lnTo>
                    <a:pt x="136" y="1504"/>
                  </a:lnTo>
                  <a:lnTo>
                    <a:pt x="136" y="1465"/>
                  </a:lnTo>
                  <a:lnTo>
                    <a:pt x="105" y="1420"/>
                  </a:lnTo>
                  <a:lnTo>
                    <a:pt x="105" y="1403"/>
                  </a:lnTo>
                  <a:lnTo>
                    <a:pt x="136" y="1341"/>
                  </a:lnTo>
                  <a:lnTo>
                    <a:pt x="158" y="1262"/>
                  </a:lnTo>
                  <a:lnTo>
                    <a:pt x="136" y="1200"/>
                  </a:lnTo>
                  <a:lnTo>
                    <a:pt x="105" y="1178"/>
                  </a:lnTo>
                  <a:lnTo>
                    <a:pt x="105" y="1160"/>
                  </a:lnTo>
                  <a:lnTo>
                    <a:pt x="136" y="1037"/>
                  </a:lnTo>
                  <a:lnTo>
                    <a:pt x="189" y="975"/>
                  </a:lnTo>
                  <a:lnTo>
                    <a:pt x="242" y="935"/>
                  </a:lnTo>
                  <a:lnTo>
                    <a:pt x="296" y="874"/>
                  </a:lnTo>
                  <a:lnTo>
                    <a:pt x="349" y="812"/>
                  </a:lnTo>
                  <a:lnTo>
                    <a:pt x="402" y="852"/>
                  </a:lnTo>
                  <a:lnTo>
                    <a:pt x="455" y="874"/>
                  </a:lnTo>
                  <a:lnTo>
                    <a:pt x="508" y="896"/>
                  </a:lnTo>
                  <a:lnTo>
                    <a:pt x="534" y="913"/>
                  </a:lnTo>
                  <a:lnTo>
                    <a:pt x="561" y="913"/>
                  </a:lnTo>
                  <a:lnTo>
                    <a:pt x="561" y="834"/>
                  </a:lnTo>
                  <a:lnTo>
                    <a:pt x="561" y="812"/>
                  </a:lnTo>
                  <a:lnTo>
                    <a:pt x="561" y="794"/>
                  </a:lnTo>
                  <a:lnTo>
                    <a:pt x="534" y="749"/>
                  </a:lnTo>
                  <a:lnTo>
                    <a:pt x="508" y="709"/>
                  </a:lnTo>
                  <a:lnTo>
                    <a:pt x="508" y="709"/>
                  </a:lnTo>
                  <a:lnTo>
                    <a:pt x="508" y="732"/>
                  </a:lnTo>
                  <a:lnTo>
                    <a:pt x="508" y="749"/>
                  </a:lnTo>
                  <a:lnTo>
                    <a:pt x="534" y="771"/>
                  </a:lnTo>
                  <a:lnTo>
                    <a:pt x="587" y="749"/>
                  </a:lnTo>
                  <a:lnTo>
                    <a:pt x="618" y="732"/>
                  </a:lnTo>
                  <a:lnTo>
                    <a:pt x="640" y="732"/>
                  </a:lnTo>
                  <a:lnTo>
                    <a:pt x="671" y="749"/>
                  </a:lnTo>
                  <a:lnTo>
                    <a:pt x="693" y="771"/>
                  </a:lnTo>
                  <a:lnTo>
                    <a:pt x="777" y="709"/>
                  </a:lnTo>
                  <a:lnTo>
                    <a:pt x="800" y="771"/>
                  </a:lnTo>
                  <a:lnTo>
                    <a:pt x="831" y="794"/>
                  </a:lnTo>
                  <a:lnTo>
                    <a:pt x="883" y="771"/>
                  </a:lnTo>
                  <a:lnTo>
                    <a:pt x="989" y="749"/>
                  </a:lnTo>
                  <a:lnTo>
                    <a:pt x="1020" y="732"/>
                  </a:lnTo>
                  <a:lnTo>
                    <a:pt x="1042" y="692"/>
                  </a:lnTo>
                  <a:lnTo>
                    <a:pt x="1020" y="670"/>
                  </a:lnTo>
                  <a:lnTo>
                    <a:pt x="989" y="670"/>
                  </a:lnTo>
                  <a:lnTo>
                    <a:pt x="883" y="692"/>
                  </a:lnTo>
                  <a:lnTo>
                    <a:pt x="777" y="709"/>
                  </a:lnTo>
                  <a:lnTo>
                    <a:pt x="777" y="709"/>
                  </a:lnTo>
                  <a:lnTo>
                    <a:pt x="800" y="692"/>
                  </a:lnTo>
                  <a:lnTo>
                    <a:pt x="831" y="670"/>
                  </a:lnTo>
                  <a:lnTo>
                    <a:pt x="853" y="648"/>
                  </a:lnTo>
                  <a:lnTo>
                    <a:pt x="853" y="630"/>
                  </a:lnTo>
                  <a:lnTo>
                    <a:pt x="853" y="590"/>
                  </a:lnTo>
                  <a:lnTo>
                    <a:pt x="831" y="546"/>
                  </a:lnTo>
                  <a:lnTo>
                    <a:pt x="800" y="529"/>
                  </a:lnTo>
                  <a:lnTo>
                    <a:pt x="800" y="467"/>
                  </a:lnTo>
                  <a:lnTo>
                    <a:pt x="800" y="405"/>
                  </a:lnTo>
                  <a:lnTo>
                    <a:pt x="800" y="264"/>
                  </a:lnTo>
                  <a:lnTo>
                    <a:pt x="853" y="224"/>
                  </a:lnTo>
                  <a:lnTo>
                    <a:pt x="883" y="202"/>
                  </a:lnTo>
                  <a:lnTo>
                    <a:pt x="883" y="180"/>
                  </a:lnTo>
                  <a:lnTo>
                    <a:pt x="853" y="163"/>
                  </a:lnTo>
                  <a:lnTo>
                    <a:pt x="831" y="141"/>
                  </a:lnTo>
                  <a:lnTo>
                    <a:pt x="831" y="123"/>
                  </a:lnTo>
                  <a:lnTo>
                    <a:pt x="777" y="6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01920" y="4368960"/>
              <a:ext cx="292320" cy="228960"/>
            </a:xfrm>
            <a:custGeom>
              <a:avLst/>
              <a:gdLst/>
              <a:ahLst/>
              <a:rect l="0" t="0" r="r" b="b"/>
              <a:pathLst>
                <a:path w="812" h="636">
                  <a:moveTo>
                    <a:pt x="0" y="26"/>
                  </a:moveTo>
                  <a:lnTo>
                    <a:pt x="110" y="26"/>
                  </a:lnTo>
                  <a:lnTo>
                    <a:pt x="194" y="0"/>
                  </a:lnTo>
                  <a:lnTo>
                    <a:pt x="277" y="0"/>
                  </a:lnTo>
                  <a:lnTo>
                    <a:pt x="361" y="26"/>
                  </a:lnTo>
                  <a:lnTo>
                    <a:pt x="450" y="52"/>
                  </a:lnTo>
                  <a:lnTo>
                    <a:pt x="534" y="127"/>
                  </a:lnTo>
                  <a:lnTo>
                    <a:pt x="618" y="176"/>
                  </a:lnTo>
                  <a:lnTo>
                    <a:pt x="702" y="229"/>
                  </a:lnTo>
                  <a:lnTo>
                    <a:pt x="728" y="304"/>
                  </a:lnTo>
                  <a:lnTo>
                    <a:pt x="728" y="380"/>
                  </a:lnTo>
                  <a:lnTo>
                    <a:pt x="728" y="459"/>
                  </a:lnTo>
                  <a:lnTo>
                    <a:pt x="785" y="534"/>
                  </a:lnTo>
                  <a:lnTo>
                    <a:pt x="812" y="609"/>
                  </a:lnTo>
                  <a:lnTo>
                    <a:pt x="728" y="636"/>
                  </a:lnTo>
                  <a:lnTo>
                    <a:pt x="702" y="561"/>
                  </a:lnTo>
                  <a:lnTo>
                    <a:pt x="618" y="508"/>
                  </a:lnTo>
                  <a:lnTo>
                    <a:pt x="503" y="508"/>
                  </a:lnTo>
                  <a:lnTo>
                    <a:pt x="450" y="433"/>
                  </a:lnTo>
                  <a:lnTo>
                    <a:pt x="392" y="358"/>
                  </a:lnTo>
                  <a:lnTo>
                    <a:pt x="308" y="304"/>
                  </a:lnTo>
                  <a:lnTo>
                    <a:pt x="224" y="277"/>
                  </a:lnTo>
                  <a:lnTo>
                    <a:pt x="141" y="304"/>
                  </a:lnTo>
                  <a:lnTo>
                    <a:pt x="110" y="229"/>
                  </a:lnTo>
                  <a:lnTo>
                    <a:pt x="141" y="154"/>
                  </a:lnTo>
                  <a:lnTo>
                    <a:pt x="110" y="74"/>
                  </a:lnTo>
                  <a:lnTo>
                    <a:pt x="167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62320" y="598176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630" y="159"/>
                  </a:moveTo>
                  <a:lnTo>
                    <a:pt x="979" y="44"/>
                  </a:lnTo>
                  <a:lnTo>
                    <a:pt x="1213" y="0"/>
                  </a:lnTo>
                  <a:lnTo>
                    <a:pt x="1469" y="92"/>
                  </a:lnTo>
                  <a:lnTo>
                    <a:pt x="1729" y="230"/>
                  </a:lnTo>
                  <a:lnTo>
                    <a:pt x="1844" y="412"/>
                  </a:lnTo>
                  <a:lnTo>
                    <a:pt x="1681" y="504"/>
                  </a:lnTo>
                  <a:lnTo>
                    <a:pt x="0" y="504"/>
                  </a:lnTo>
                  <a:lnTo>
                    <a:pt x="0" y="159"/>
                  </a:lnTo>
                  <a:lnTo>
                    <a:pt x="630" y="15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90920" y="5981760"/>
              <a:ext cx="663840" cy="181440"/>
            </a:xfrm>
            <a:custGeom>
              <a:avLst/>
              <a:gdLst/>
              <a:ahLst/>
              <a:rect l="0" t="0" r="r" b="b"/>
              <a:pathLst>
                <a:path w="1844" h="504">
                  <a:moveTo>
                    <a:pt x="1213" y="159"/>
                  </a:moveTo>
                  <a:lnTo>
                    <a:pt x="864" y="44"/>
                  </a:lnTo>
                  <a:lnTo>
                    <a:pt x="630" y="0"/>
                  </a:lnTo>
                  <a:lnTo>
                    <a:pt x="374" y="92"/>
                  </a:lnTo>
                  <a:lnTo>
                    <a:pt x="114" y="230"/>
                  </a:lnTo>
                  <a:lnTo>
                    <a:pt x="0" y="412"/>
                  </a:lnTo>
                  <a:lnTo>
                    <a:pt x="163" y="504"/>
                  </a:lnTo>
                  <a:lnTo>
                    <a:pt x="1844" y="504"/>
                  </a:lnTo>
                  <a:lnTo>
                    <a:pt x="1844" y="159"/>
                  </a:lnTo>
                  <a:lnTo>
                    <a:pt x="1213" y="15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901960" y="1905120"/>
              <a:ext cx="885600" cy="1606680"/>
              <a:chOff x="2901960" y="1905120"/>
              <a:chExt cx="885600" cy="1606680"/>
            </a:xfrm>
          </p:grpSpPr>
          <p:sp>
            <p:nvSpPr>
              <p:cNvPr id="673" name=""/>
              <p:cNvSpPr/>
              <p:nvPr/>
            </p:nvSpPr>
            <p:spPr>
              <a:xfrm>
                <a:off x="2901960" y="2108160"/>
                <a:ext cx="789480" cy="1362600"/>
              </a:xfrm>
              <a:custGeom>
                <a:avLst/>
                <a:gdLst/>
                <a:ahLst/>
                <a:rect l="0" t="0" r="r" b="b"/>
                <a:pathLst>
                  <a:path w="2193" h="3785">
                    <a:moveTo>
                      <a:pt x="1682" y="0"/>
                    </a:moveTo>
                    <a:lnTo>
                      <a:pt x="1964" y="229"/>
                    </a:lnTo>
                    <a:lnTo>
                      <a:pt x="2127" y="590"/>
                    </a:lnTo>
                    <a:lnTo>
                      <a:pt x="2171" y="1050"/>
                    </a:lnTo>
                    <a:lnTo>
                      <a:pt x="2193" y="2324"/>
                    </a:lnTo>
                    <a:lnTo>
                      <a:pt x="2149" y="3057"/>
                    </a:lnTo>
                    <a:lnTo>
                      <a:pt x="1473" y="3102"/>
                    </a:lnTo>
                    <a:lnTo>
                      <a:pt x="1376" y="3512"/>
                    </a:lnTo>
                    <a:lnTo>
                      <a:pt x="1284" y="3785"/>
                    </a:lnTo>
                    <a:lnTo>
                      <a:pt x="1076" y="3785"/>
                    </a:lnTo>
                    <a:lnTo>
                      <a:pt x="957" y="3534"/>
                    </a:lnTo>
                    <a:lnTo>
                      <a:pt x="1028" y="3102"/>
                    </a:lnTo>
                    <a:lnTo>
                      <a:pt x="396" y="3031"/>
                    </a:lnTo>
                    <a:lnTo>
                      <a:pt x="374" y="2598"/>
                    </a:lnTo>
                    <a:lnTo>
                      <a:pt x="233" y="2668"/>
                    </a:lnTo>
                    <a:lnTo>
                      <a:pt x="97" y="2620"/>
                    </a:lnTo>
                    <a:lnTo>
                      <a:pt x="0" y="2258"/>
                    </a:lnTo>
                    <a:lnTo>
                      <a:pt x="119" y="2073"/>
                    </a:lnTo>
                    <a:lnTo>
                      <a:pt x="260" y="2100"/>
                    </a:lnTo>
                    <a:lnTo>
                      <a:pt x="119" y="158"/>
                    </a:lnTo>
                    <a:lnTo>
                      <a:pt x="16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25760" y="2490840"/>
                <a:ext cx="361800" cy="352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48120" y="2457360"/>
                <a:ext cx="428760" cy="419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33880" y="2630520"/>
                <a:ext cx="745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94240" y="2638440"/>
                <a:ext cx="76320" cy="73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481560" y="1930320"/>
                <a:ext cx="6120" cy="18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3371760" y="1913040"/>
                <a:ext cx="1584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3211560" y="1905120"/>
                <a:ext cx="3312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3052800" y="1946160"/>
                <a:ext cx="49320" cy="17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2927520" y="1969920"/>
                <a:ext cx="47520" cy="15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119400" y="2928960"/>
                <a:ext cx="579960" cy="222480"/>
              </a:xfrm>
              <a:custGeom>
                <a:avLst/>
                <a:gdLst/>
                <a:ahLst/>
                <a:rect l="0" t="0" r="r" b="b"/>
                <a:pathLst>
                  <a:path w="1611" h="618">
                    <a:moveTo>
                      <a:pt x="1611" y="618"/>
                    </a:moveTo>
                    <a:lnTo>
                      <a:pt x="0" y="477"/>
                    </a:lnTo>
                    <a:lnTo>
                      <a:pt x="957" y="0"/>
                    </a:lnTo>
                    <a:lnTo>
                      <a:pt x="1611" y="6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70160" y="3355920"/>
                <a:ext cx="268560" cy="155880"/>
              </a:xfrm>
              <a:custGeom>
                <a:avLst/>
                <a:gdLst/>
                <a:ahLst/>
                <a:rect l="0" t="0" r="r" b="b"/>
                <a:pathLst>
                  <a:path w="746" h="433">
                    <a:moveTo>
                      <a:pt x="746" y="296"/>
                    </a:moveTo>
                    <a:lnTo>
                      <a:pt x="538" y="411"/>
                    </a:lnTo>
                    <a:lnTo>
                      <a:pt x="163" y="433"/>
                    </a:lnTo>
                    <a:lnTo>
                      <a:pt x="0" y="230"/>
                    </a:lnTo>
                    <a:lnTo>
                      <a:pt x="0" y="66"/>
                    </a:lnTo>
                    <a:lnTo>
                      <a:pt x="163" y="0"/>
                    </a:lnTo>
                    <a:lnTo>
                      <a:pt x="326" y="230"/>
                    </a:lnTo>
                    <a:lnTo>
                      <a:pt x="587" y="252"/>
                    </a:lnTo>
                    <a:lnTo>
                      <a:pt x="746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48120" y="25909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2654280" y="4492800"/>
              <a:ext cx="26820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89240" y="4719600"/>
              <a:ext cx="93960" cy="125640"/>
            </a:xfrm>
            <a:custGeom>
              <a:avLst/>
              <a:gdLst/>
              <a:ahLst/>
              <a:rect l="0" t="0" r="r" b="b"/>
              <a:pathLst>
                <a:path w="261" h="349">
                  <a:moveTo>
                    <a:pt x="208" y="208"/>
                  </a:moveTo>
                  <a:lnTo>
                    <a:pt x="208" y="145"/>
                  </a:lnTo>
                  <a:lnTo>
                    <a:pt x="177" y="79"/>
                  </a:lnTo>
                  <a:lnTo>
                    <a:pt x="123" y="39"/>
                  </a:lnTo>
                  <a:lnTo>
                    <a:pt x="70" y="0"/>
                  </a:lnTo>
                  <a:lnTo>
                    <a:pt x="39" y="26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92"/>
                  </a:lnTo>
                  <a:lnTo>
                    <a:pt x="79" y="132"/>
                  </a:lnTo>
                  <a:lnTo>
                    <a:pt x="137" y="181"/>
                  </a:lnTo>
                  <a:lnTo>
                    <a:pt x="150" y="247"/>
                  </a:lnTo>
                  <a:lnTo>
                    <a:pt x="150" y="269"/>
                  </a:lnTo>
                  <a:lnTo>
                    <a:pt x="164" y="296"/>
                  </a:lnTo>
                  <a:lnTo>
                    <a:pt x="177" y="322"/>
                  </a:lnTo>
                  <a:lnTo>
                    <a:pt x="208" y="336"/>
                  </a:lnTo>
                  <a:lnTo>
                    <a:pt x="221" y="349"/>
                  </a:lnTo>
                  <a:lnTo>
                    <a:pt x="234" y="349"/>
                  </a:lnTo>
                  <a:lnTo>
                    <a:pt x="261" y="322"/>
                  </a:lnTo>
                  <a:lnTo>
                    <a:pt x="261" y="296"/>
                  </a:lnTo>
                  <a:lnTo>
                    <a:pt x="247" y="283"/>
                  </a:lnTo>
                  <a:lnTo>
                    <a:pt x="234" y="234"/>
                  </a:lnTo>
                  <a:lnTo>
                    <a:pt x="221" y="221"/>
                  </a:lnTo>
                  <a:lnTo>
                    <a:pt x="208" y="221"/>
                  </a:lnTo>
                  <a:lnTo>
                    <a:pt x="208" y="20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43400" y="4849920"/>
              <a:ext cx="113040" cy="182880"/>
            </a:xfrm>
            <a:custGeom>
              <a:avLst/>
              <a:gdLst/>
              <a:ahLst/>
              <a:rect l="0" t="0" r="r" b="b"/>
              <a:pathLst>
                <a:path w="314" h="508">
                  <a:moveTo>
                    <a:pt x="74" y="397"/>
                  </a:moveTo>
                  <a:lnTo>
                    <a:pt x="136" y="305"/>
                  </a:lnTo>
                  <a:lnTo>
                    <a:pt x="199" y="194"/>
                  </a:lnTo>
                  <a:lnTo>
                    <a:pt x="199" y="136"/>
                  </a:lnTo>
                  <a:lnTo>
                    <a:pt x="199" y="79"/>
                  </a:lnTo>
                  <a:lnTo>
                    <a:pt x="177" y="39"/>
                  </a:lnTo>
                  <a:lnTo>
                    <a:pt x="136" y="0"/>
                  </a:lnTo>
                  <a:lnTo>
                    <a:pt x="123" y="26"/>
                  </a:lnTo>
                  <a:lnTo>
                    <a:pt x="97" y="39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149" y="110"/>
                  </a:lnTo>
                  <a:lnTo>
                    <a:pt x="212" y="136"/>
                  </a:lnTo>
                  <a:lnTo>
                    <a:pt x="186" y="149"/>
                  </a:lnTo>
                  <a:lnTo>
                    <a:pt x="177" y="149"/>
                  </a:lnTo>
                  <a:lnTo>
                    <a:pt x="149" y="149"/>
                  </a:lnTo>
                  <a:lnTo>
                    <a:pt x="136" y="149"/>
                  </a:lnTo>
                  <a:lnTo>
                    <a:pt x="114" y="167"/>
                  </a:lnTo>
                  <a:lnTo>
                    <a:pt x="61" y="180"/>
                  </a:lnTo>
                  <a:lnTo>
                    <a:pt x="48" y="194"/>
                  </a:lnTo>
                  <a:lnTo>
                    <a:pt x="35" y="194"/>
                  </a:lnTo>
                  <a:lnTo>
                    <a:pt x="13" y="246"/>
                  </a:lnTo>
                  <a:lnTo>
                    <a:pt x="0" y="305"/>
                  </a:lnTo>
                  <a:lnTo>
                    <a:pt x="13" y="344"/>
                  </a:lnTo>
                  <a:lnTo>
                    <a:pt x="35" y="371"/>
                  </a:lnTo>
                  <a:lnTo>
                    <a:pt x="114" y="415"/>
                  </a:lnTo>
                  <a:lnTo>
                    <a:pt x="199" y="441"/>
                  </a:lnTo>
                  <a:lnTo>
                    <a:pt x="225" y="468"/>
                  </a:lnTo>
                  <a:lnTo>
                    <a:pt x="265" y="494"/>
                  </a:lnTo>
                  <a:lnTo>
                    <a:pt x="287" y="508"/>
                  </a:lnTo>
                  <a:lnTo>
                    <a:pt x="300" y="494"/>
                  </a:lnTo>
                  <a:lnTo>
                    <a:pt x="314" y="468"/>
                  </a:lnTo>
                  <a:lnTo>
                    <a:pt x="265" y="441"/>
                  </a:lnTo>
                  <a:lnTo>
                    <a:pt x="225" y="441"/>
                  </a:lnTo>
                  <a:lnTo>
                    <a:pt x="186" y="428"/>
                  </a:lnTo>
                  <a:lnTo>
                    <a:pt x="136" y="397"/>
                  </a:lnTo>
                  <a:lnTo>
                    <a:pt x="114" y="371"/>
                  </a:lnTo>
                  <a:lnTo>
                    <a:pt x="114" y="358"/>
                  </a:lnTo>
                  <a:lnTo>
                    <a:pt x="97" y="371"/>
                  </a:lnTo>
                  <a:lnTo>
                    <a:pt x="74" y="3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7480" y="5234040"/>
              <a:ext cx="174960" cy="47880"/>
            </a:xfrm>
            <a:custGeom>
              <a:avLst/>
              <a:gdLst/>
              <a:ahLst/>
              <a:rect l="0" t="0" r="r" b="b"/>
              <a:pathLst>
                <a:path w="486" h="133">
                  <a:moveTo>
                    <a:pt x="119" y="30"/>
                  </a:moveTo>
                  <a:lnTo>
                    <a:pt x="158" y="57"/>
                  </a:lnTo>
                  <a:lnTo>
                    <a:pt x="185" y="75"/>
                  </a:lnTo>
                  <a:lnTo>
                    <a:pt x="211" y="44"/>
                  </a:lnTo>
                  <a:lnTo>
                    <a:pt x="247" y="17"/>
                  </a:lnTo>
                  <a:lnTo>
                    <a:pt x="367" y="44"/>
                  </a:lnTo>
                  <a:lnTo>
                    <a:pt x="486" y="93"/>
                  </a:lnTo>
                  <a:lnTo>
                    <a:pt x="477" y="133"/>
                  </a:lnTo>
                  <a:lnTo>
                    <a:pt x="433" y="133"/>
                  </a:lnTo>
                  <a:lnTo>
                    <a:pt x="340" y="133"/>
                  </a:lnTo>
                  <a:lnTo>
                    <a:pt x="331" y="120"/>
                  </a:lnTo>
                  <a:lnTo>
                    <a:pt x="292" y="102"/>
                  </a:lnTo>
                  <a:lnTo>
                    <a:pt x="265" y="93"/>
                  </a:lnTo>
                  <a:lnTo>
                    <a:pt x="247" y="93"/>
                  </a:lnTo>
                  <a:lnTo>
                    <a:pt x="220" y="102"/>
                  </a:lnTo>
                  <a:lnTo>
                    <a:pt x="185" y="120"/>
                  </a:lnTo>
                  <a:lnTo>
                    <a:pt x="158" y="133"/>
                  </a:lnTo>
                  <a:lnTo>
                    <a:pt x="145" y="133"/>
                  </a:lnTo>
                  <a:lnTo>
                    <a:pt x="105" y="133"/>
                  </a:lnTo>
                  <a:lnTo>
                    <a:pt x="66" y="120"/>
                  </a:lnTo>
                  <a:lnTo>
                    <a:pt x="52" y="93"/>
                  </a:lnTo>
                  <a:lnTo>
                    <a:pt x="13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3" y="17"/>
                  </a:lnTo>
                  <a:lnTo>
                    <a:pt x="39" y="30"/>
                  </a:lnTo>
                  <a:lnTo>
                    <a:pt x="66" y="75"/>
                  </a:lnTo>
                  <a:lnTo>
                    <a:pt x="92" y="102"/>
                  </a:lnTo>
                  <a:lnTo>
                    <a:pt x="105" y="102"/>
                  </a:lnTo>
                  <a:lnTo>
                    <a:pt x="119" y="102"/>
                  </a:lnTo>
                  <a:lnTo>
                    <a:pt x="119" y="75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27480" y="4649760"/>
              <a:ext cx="173520" cy="165600"/>
            </a:xfrm>
            <a:custGeom>
              <a:avLst/>
              <a:gdLst/>
              <a:ahLst/>
              <a:rect l="0" t="0" r="r" b="b"/>
              <a:pathLst>
                <a:path w="482" h="460">
                  <a:moveTo>
                    <a:pt x="79" y="434"/>
                  </a:moveTo>
                  <a:lnTo>
                    <a:pt x="92" y="305"/>
                  </a:lnTo>
                  <a:lnTo>
                    <a:pt x="92" y="190"/>
                  </a:lnTo>
                  <a:lnTo>
                    <a:pt x="92" y="137"/>
                  </a:lnTo>
                  <a:lnTo>
                    <a:pt x="119" y="88"/>
                  </a:lnTo>
                  <a:lnTo>
                    <a:pt x="146" y="35"/>
                  </a:lnTo>
                  <a:lnTo>
                    <a:pt x="195" y="0"/>
                  </a:lnTo>
                  <a:lnTo>
                    <a:pt x="186" y="88"/>
                  </a:lnTo>
                  <a:lnTo>
                    <a:pt x="159" y="124"/>
                  </a:lnTo>
                  <a:lnTo>
                    <a:pt x="133" y="177"/>
                  </a:lnTo>
                  <a:lnTo>
                    <a:pt x="239" y="239"/>
                  </a:lnTo>
                  <a:lnTo>
                    <a:pt x="340" y="278"/>
                  </a:lnTo>
                  <a:lnTo>
                    <a:pt x="368" y="265"/>
                  </a:lnTo>
                  <a:lnTo>
                    <a:pt x="394" y="252"/>
                  </a:lnTo>
                  <a:lnTo>
                    <a:pt x="420" y="230"/>
                  </a:lnTo>
                  <a:lnTo>
                    <a:pt x="456" y="190"/>
                  </a:lnTo>
                  <a:lnTo>
                    <a:pt x="473" y="150"/>
                  </a:lnTo>
                  <a:lnTo>
                    <a:pt x="482" y="137"/>
                  </a:lnTo>
                  <a:lnTo>
                    <a:pt x="482" y="190"/>
                  </a:lnTo>
                  <a:lnTo>
                    <a:pt x="473" y="217"/>
                  </a:lnTo>
                  <a:lnTo>
                    <a:pt x="434" y="265"/>
                  </a:lnTo>
                  <a:lnTo>
                    <a:pt x="368" y="278"/>
                  </a:lnTo>
                  <a:lnTo>
                    <a:pt x="287" y="292"/>
                  </a:lnTo>
                  <a:lnTo>
                    <a:pt x="261" y="305"/>
                  </a:lnTo>
                  <a:lnTo>
                    <a:pt x="247" y="318"/>
                  </a:lnTo>
                  <a:lnTo>
                    <a:pt x="221" y="344"/>
                  </a:lnTo>
                  <a:lnTo>
                    <a:pt x="212" y="372"/>
                  </a:lnTo>
                  <a:lnTo>
                    <a:pt x="195" y="394"/>
                  </a:lnTo>
                  <a:lnTo>
                    <a:pt x="172" y="407"/>
                  </a:lnTo>
                  <a:lnTo>
                    <a:pt x="133" y="372"/>
                  </a:lnTo>
                  <a:lnTo>
                    <a:pt x="119" y="344"/>
                  </a:lnTo>
                  <a:lnTo>
                    <a:pt x="105" y="305"/>
                  </a:lnTo>
                  <a:lnTo>
                    <a:pt x="92" y="252"/>
                  </a:lnTo>
                  <a:lnTo>
                    <a:pt x="105" y="230"/>
                  </a:lnTo>
                  <a:lnTo>
                    <a:pt x="105" y="230"/>
                  </a:lnTo>
                  <a:lnTo>
                    <a:pt x="119" y="239"/>
                  </a:lnTo>
                  <a:lnTo>
                    <a:pt x="146" y="265"/>
                  </a:lnTo>
                  <a:lnTo>
                    <a:pt x="159" y="305"/>
                  </a:lnTo>
                  <a:lnTo>
                    <a:pt x="105" y="372"/>
                  </a:lnTo>
                  <a:lnTo>
                    <a:pt x="79" y="385"/>
                  </a:lnTo>
                  <a:lnTo>
                    <a:pt x="52" y="394"/>
                  </a:lnTo>
                  <a:lnTo>
                    <a:pt x="39" y="407"/>
                  </a:lnTo>
                  <a:lnTo>
                    <a:pt x="13" y="420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26" y="447"/>
                  </a:lnTo>
                  <a:lnTo>
                    <a:pt x="52" y="447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33" y="460"/>
                  </a:lnTo>
                  <a:lnTo>
                    <a:pt x="146" y="460"/>
                  </a:lnTo>
                  <a:lnTo>
                    <a:pt x="146" y="460"/>
                  </a:lnTo>
                  <a:lnTo>
                    <a:pt x="105" y="447"/>
                  </a:lnTo>
                  <a:lnTo>
                    <a:pt x="79" y="43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32240" y="5494320"/>
              <a:ext cx="81360" cy="228960"/>
            </a:xfrm>
            <a:custGeom>
              <a:avLst/>
              <a:gdLst/>
              <a:ahLst/>
              <a:rect l="0" t="0" r="r" b="b"/>
              <a:pathLst>
                <a:path w="226" h="636">
                  <a:moveTo>
                    <a:pt x="115" y="17"/>
                  </a:moveTo>
                  <a:lnTo>
                    <a:pt x="124" y="79"/>
                  </a:lnTo>
                  <a:lnTo>
                    <a:pt x="150" y="132"/>
                  </a:lnTo>
                  <a:lnTo>
                    <a:pt x="187" y="282"/>
                  </a:lnTo>
                  <a:lnTo>
                    <a:pt x="226" y="433"/>
                  </a:lnTo>
                  <a:lnTo>
                    <a:pt x="213" y="481"/>
                  </a:lnTo>
                  <a:lnTo>
                    <a:pt x="187" y="521"/>
                  </a:lnTo>
                  <a:lnTo>
                    <a:pt x="164" y="552"/>
                  </a:lnTo>
                  <a:lnTo>
                    <a:pt x="124" y="583"/>
                  </a:lnTo>
                  <a:lnTo>
                    <a:pt x="89" y="605"/>
                  </a:lnTo>
                  <a:lnTo>
                    <a:pt x="62" y="605"/>
                  </a:lnTo>
                  <a:lnTo>
                    <a:pt x="62" y="618"/>
                  </a:lnTo>
                  <a:lnTo>
                    <a:pt x="62" y="636"/>
                  </a:lnTo>
                  <a:lnTo>
                    <a:pt x="89" y="636"/>
                  </a:lnTo>
                  <a:lnTo>
                    <a:pt x="124" y="618"/>
                  </a:lnTo>
                  <a:lnTo>
                    <a:pt x="124" y="468"/>
                  </a:lnTo>
                  <a:lnTo>
                    <a:pt x="137" y="450"/>
                  </a:lnTo>
                  <a:lnTo>
                    <a:pt x="137" y="433"/>
                  </a:lnTo>
                  <a:lnTo>
                    <a:pt x="115" y="419"/>
                  </a:lnTo>
                  <a:lnTo>
                    <a:pt x="75" y="384"/>
                  </a:lnTo>
                  <a:lnTo>
                    <a:pt x="35" y="367"/>
                  </a:lnTo>
                  <a:lnTo>
                    <a:pt x="13" y="367"/>
                  </a:lnTo>
                  <a:lnTo>
                    <a:pt x="0" y="336"/>
                  </a:lnTo>
                  <a:lnTo>
                    <a:pt x="0" y="299"/>
                  </a:lnTo>
                  <a:lnTo>
                    <a:pt x="13" y="282"/>
                  </a:lnTo>
                  <a:lnTo>
                    <a:pt x="52" y="264"/>
                  </a:lnTo>
                  <a:lnTo>
                    <a:pt x="75" y="282"/>
                  </a:lnTo>
                  <a:lnTo>
                    <a:pt x="89" y="317"/>
                  </a:lnTo>
                  <a:lnTo>
                    <a:pt x="115" y="367"/>
                  </a:lnTo>
                  <a:lnTo>
                    <a:pt x="150" y="317"/>
                  </a:lnTo>
                  <a:lnTo>
                    <a:pt x="164" y="299"/>
                  </a:lnTo>
                  <a:lnTo>
                    <a:pt x="137" y="264"/>
                  </a:lnTo>
                  <a:lnTo>
                    <a:pt x="102" y="233"/>
                  </a:lnTo>
                  <a:lnTo>
                    <a:pt x="89" y="216"/>
                  </a:lnTo>
                  <a:lnTo>
                    <a:pt x="75" y="202"/>
                  </a:lnTo>
                  <a:lnTo>
                    <a:pt x="26" y="0"/>
                  </a:lnTo>
                  <a:lnTo>
                    <a:pt x="35" y="30"/>
                  </a:lnTo>
                  <a:lnTo>
                    <a:pt x="75" y="66"/>
                  </a:lnTo>
                  <a:lnTo>
                    <a:pt x="102" y="66"/>
                  </a:lnTo>
                  <a:lnTo>
                    <a:pt x="115" y="48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7592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92" y="70"/>
                  </a:moveTo>
                  <a:lnTo>
                    <a:pt x="120" y="123"/>
                  </a:lnTo>
                  <a:lnTo>
                    <a:pt x="133" y="158"/>
                  </a:lnTo>
                  <a:lnTo>
                    <a:pt x="146" y="194"/>
                  </a:lnTo>
                  <a:lnTo>
                    <a:pt x="159" y="247"/>
                  </a:lnTo>
                  <a:lnTo>
                    <a:pt x="172" y="283"/>
                  </a:lnTo>
                  <a:lnTo>
                    <a:pt x="186" y="318"/>
                  </a:lnTo>
                  <a:lnTo>
                    <a:pt x="186" y="318"/>
                  </a:lnTo>
                  <a:lnTo>
                    <a:pt x="159" y="371"/>
                  </a:lnTo>
                  <a:lnTo>
                    <a:pt x="133" y="424"/>
                  </a:lnTo>
                  <a:lnTo>
                    <a:pt x="52" y="477"/>
                  </a:lnTo>
                  <a:lnTo>
                    <a:pt x="79" y="441"/>
                  </a:lnTo>
                  <a:lnTo>
                    <a:pt x="92" y="406"/>
                  </a:lnTo>
                  <a:lnTo>
                    <a:pt x="92" y="389"/>
                  </a:lnTo>
                  <a:lnTo>
                    <a:pt x="66" y="336"/>
                  </a:lnTo>
                  <a:lnTo>
                    <a:pt x="92" y="318"/>
                  </a:lnTo>
                  <a:lnTo>
                    <a:pt x="92" y="283"/>
                  </a:lnTo>
                  <a:lnTo>
                    <a:pt x="79" y="265"/>
                  </a:lnTo>
                  <a:lnTo>
                    <a:pt x="52" y="247"/>
                  </a:lnTo>
                  <a:lnTo>
                    <a:pt x="26" y="211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0" y="123"/>
                  </a:lnTo>
                  <a:lnTo>
                    <a:pt x="8" y="70"/>
                  </a:lnTo>
                  <a:lnTo>
                    <a:pt x="52" y="17"/>
                  </a:lnTo>
                  <a:lnTo>
                    <a:pt x="79" y="0"/>
                  </a:lnTo>
                  <a:lnTo>
                    <a:pt x="79" y="17"/>
                  </a:lnTo>
                  <a:lnTo>
                    <a:pt x="92" y="35"/>
                  </a:lnTo>
                  <a:lnTo>
                    <a:pt x="92" y="70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7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5165640"/>
              <a:ext cx="340200" cy="192600"/>
            </a:xfrm>
            <a:custGeom>
              <a:avLst/>
              <a:gdLst/>
              <a:ahLst/>
              <a:rect l="0" t="0" r="r" b="b"/>
              <a:pathLst>
                <a:path w="945" h="535">
                  <a:moveTo>
                    <a:pt x="402" y="123"/>
                  </a:moveTo>
                  <a:lnTo>
                    <a:pt x="428" y="243"/>
                  </a:lnTo>
                  <a:lnTo>
                    <a:pt x="459" y="305"/>
                  </a:lnTo>
                  <a:lnTo>
                    <a:pt x="503" y="353"/>
                  </a:lnTo>
                  <a:lnTo>
                    <a:pt x="556" y="336"/>
                  </a:lnTo>
                  <a:lnTo>
                    <a:pt x="587" y="318"/>
                  </a:lnTo>
                  <a:lnTo>
                    <a:pt x="631" y="318"/>
                  </a:lnTo>
                  <a:lnTo>
                    <a:pt x="684" y="336"/>
                  </a:lnTo>
                  <a:lnTo>
                    <a:pt x="742" y="380"/>
                  </a:lnTo>
                  <a:lnTo>
                    <a:pt x="813" y="397"/>
                  </a:lnTo>
                  <a:lnTo>
                    <a:pt x="945" y="460"/>
                  </a:lnTo>
                  <a:lnTo>
                    <a:pt x="945" y="491"/>
                  </a:lnTo>
                  <a:lnTo>
                    <a:pt x="932" y="517"/>
                  </a:lnTo>
                  <a:lnTo>
                    <a:pt x="875" y="535"/>
                  </a:lnTo>
                  <a:lnTo>
                    <a:pt x="804" y="517"/>
                  </a:lnTo>
                  <a:lnTo>
                    <a:pt x="742" y="504"/>
                  </a:lnTo>
                  <a:lnTo>
                    <a:pt x="600" y="460"/>
                  </a:lnTo>
                  <a:lnTo>
                    <a:pt x="472" y="397"/>
                  </a:lnTo>
                  <a:lnTo>
                    <a:pt x="428" y="397"/>
                  </a:lnTo>
                  <a:lnTo>
                    <a:pt x="384" y="416"/>
                  </a:lnTo>
                  <a:lnTo>
                    <a:pt x="344" y="429"/>
                  </a:lnTo>
                  <a:lnTo>
                    <a:pt x="314" y="460"/>
                  </a:lnTo>
                  <a:lnTo>
                    <a:pt x="256" y="491"/>
                  </a:lnTo>
                  <a:lnTo>
                    <a:pt x="243" y="460"/>
                  </a:lnTo>
                  <a:lnTo>
                    <a:pt x="229" y="442"/>
                  </a:lnTo>
                  <a:lnTo>
                    <a:pt x="198" y="442"/>
                  </a:lnTo>
                  <a:lnTo>
                    <a:pt x="158" y="442"/>
                  </a:lnTo>
                  <a:lnTo>
                    <a:pt x="127" y="442"/>
                  </a:lnTo>
                  <a:lnTo>
                    <a:pt x="101" y="416"/>
                  </a:lnTo>
                  <a:lnTo>
                    <a:pt x="70" y="353"/>
                  </a:lnTo>
                  <a:lnTo>
                    <a:pt x="39" y="274"/>
                  </a:lnTo>
                  <a:lnTo>
                    <a:pt x="13" y="19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39" y="137"/>
                  </a:lnTo>
                  <a:lnTo>
                    <a:pt x="101" y="123"/>
                  </a:lnTo>
                  <a:lnTo>
                    <a:pt x="158" y="105"/>
                  </a:lnTo>
                  <a:lnTo>
                    <a:pt x="185" y="105"/>
                  </a:lnTo>
                  <a:lnTo>
                    <a:pt x="211" y="92"/>
                  </a:lnTo>
                  <a:lnTo>
                    <a:pt x="256" y="79"/>
                  </a:lnTo>
                  <a:lnTo>
                    <a:pt x="256" y="44"/>
                  </a:lnTo>
                  <a:lnTo>
                    <a:pt x="269" y="17"/>
                  </a:lnTo>
                  <a:lnTo>
                    <a:pt x="331" y="0"/>
                  </a:lnTo>
                  <a:lnTo>
                    <a:pt x="402" y="0"/>
                  </a:lnTo>
                  <a:lnTo>
                    <a:pt x="459" y="0"/>
                  </a:lnTo>
                  <a:lnTo>
                    <a:pt x="441" y="30"/>
                  </a:lnTo>
                  <a:lnTo>
                    <a:pt x="441" y="44"/>
                  </a:lnTo>
                  <a:lnTo>
                    <a:pt x="402" y="12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16320" y="3844800"/>
              <a:ext cx="117720" cy="57600"/>
            </a:xfrm>
            <a:custGeom>
              <a:avLst/>
              <a:gdLst/>
              <a:ahLst/>
              <a:rect l="0" t="0" r="r" b="b"/>
              <a:pathLst>
                <a:path w="327" h="160">
                  <a:moveTo>
                    <a:pt x="67" y="94"/>
                  </a:moveTo>
                  <a:lnTo>
                    <a:pt x="67" y="66"/>
                  </a:lnTo>
                  <a:lnTo>
                    <a:pt x="101" y="35"/>
                  </a:lnTo>
                  <a:lnTo>
                    <a:pt x="173" y="17"/>
                  </a:lnTo>
                  <a:lnTo>
                    <a:pt x="241" y="0"/>
                  </a:lnTo>
                  <a:lnTo>
                    <a:pt x="278" y="11"/>
                  </a:lnTo>
                  <a:lnTo>
                    <a:pt x="327" y="29"/>
                  </a:lnTo>
                  <a:lnTo>
                    <a:pt x="327" y="42"/>
                  </a:lnTo>
                  <a:lnTo>
                    <a:pt x="327" y="42"/>
                  </a:lnTo>
                  <a:lnTo>
                    <a:pt x="293" y="42"/>
                  </a:lnTo>
                  <a:lnTo>
                    <a:pt x="226" y="60"/>
                  </a:lnTo>
                  <a:lnTo>
                    <a:pt x="153" y="84"/>
                  </a:lnTo>
                  <a:lnTo>
                    <a:pt x="138" y="112"/>
                  </a:lnTo>
                  <a:lnTo>
                    <a:pt x="138" y="125"/>
                  </a:lnTo>
                  <a:lnTo>
                    <a:pt x="120" y="137"/>
                  </a:lnTo>
                  <a:lnTo>
                    <a:pt x="101" y="148"/>
                  </a:lnTo>
                  <a:lnTo>
                    <a:pt x="67" y="154"/>
                  </a:lnTo>
                  <a:lnTo>
                    <a:pt x="48" y="160"/>
                  </a:lnTo>
                  <a:lnTo>
                    <a:pt x="33" y="160"/>
                  </a:lnTo>
                  <a:lnTo>
                    <a:pt x="0" y="148"/>
                  </a:lnTo>
                  <a:lnTo>
                    <a:pt x="0" y="137"/>
                  </a:lnTo>
                  <a:lnTo>
                    <a:pt x="15" y="131"/>
                  </a:lnTo>
                  <a:lnTo>
                    <a:pt x="33" y="106"/>
                  </a:lnTo>
                  <a:lnTo>
                    <a:pt x="48" y="100"/>
                  </a:lnTo>
                  <a:lnTo>
                    <a:pt x="67" y="100"/>
                  </a:lnTo>
                  <a:lnTo>
                    <a:pt x="67" y="9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48120" y="3903840"/>
              <a:ext cx="135360" cy="92520"/>
            </a:xfrm>
            <a:custGeom>
              <a:avLst/>
              <a:gdLst/>
              <a:ahLst/>
              <a:rect l="0" t="0" r="r" b="b"/>
              <a:pathLst>
                <a:path w="376" h="257">
                  <a:moveTo>
                    <a:pt x="285" y="202"/>
                  </a:moveTo>
                  <a:lnTo>
                    <a:pt x="211" y="153"/>
                  </a:lnTo>
                  <a:lnTo>
                    <a:pt x="137" y="97"/>
                  </a:lnTo>
                  <a:lnTo>
                    <a:pt x="137" y="69"/>
                  </a:lnTo>
                  <a:lnTo>
                    <a:pt x="137" y="40"/>
                  </a:lnTo>
                  <a:lnTo>
                    <a:pt x="165" y="19"/>
                  </a:lnTo>
                  <a:lnTo>
                    <a:pt x="211" y="0"/>
                  </a:lnTo>
                  <a:lnTo>
                    <a:pt x="225" y="13"/>
                  </a:lnTo>
                  <a:lnTo>
                    <a:pt x="256" y="19"/>
                  </a:lnTo>
                  <a:lnTo>
                    <a:pt x="270" y="34"/>
                  </a:lnTo>
                  <a:lnTo>
                    <a:pt x="270" y="40"/>
                  </a:lnTo>
                  <a:lnTo>
                    <a:pt x="197" y="55"/>
                  </a:lnTo>
                  <a:lnTo>
                    <a:pt x="120" y="69"/>
                  </a:lnTo>
                  <a:lnTo>
                    <a:pt x="151" y="76"/>
                  </a:lnTo>
                  <a:lnTo>
                    <a:pt x="165" y="76"/>
                  </a:lnTo>
                  <a:lnTo>
                    <a:pt x="197" y="76"/>
                  </a:lnTo>
                  <a:lnTo>
                    <a:pt x="211" y="76"/>
                  </a:lnTo>
                  <a:lnTo>
                    <a:pt x="239" y="84"/>
                  </a:lnTo>
                  <a:lnTo>
                    <a:pt x="299" y="91"/>
                  </a:lnTo>
                  <a:lnTo>
                    <a:pt x="317" y="97"/>
                  </a:lnTo>
                  <a:lnTo>
                    <a:pt x="331" y="97"/>
                  </a:lnTo>
                  <a:lnTo>
                    <a:pt x="359" y="125"/>
                  </a:lnTo>
                  <a:lnTo>
                    <a:pt x="376" y="153"/>
                  </a:lnTo>
                  <a:lnTo>
                    <a:pt x="359" y="174"/>
                  </a:lnTo>
                  <a:lnTo>
                    <a:pt x="331" y="187"/>
                  </a:lnTo>
                  <a:lnTo>
                    <a:pt x="239" y="210"/>
                  </a:lnTo>
                  <a:lnTo>
                    <a:pt x="137" y="223"/>
                  </a:lnTo>
                  <a:lnTo>
                    <a:pt x="106" y="238"/>
                  </a:lnTo>
                  <a:lnTo>
                    <a:pt x="59" y="251"/>
                  </a:lnTo>
                  <a:lnTo>
                    <a:pt x="31" y="257"/>
                  </a:lnTo>
                  <a:lnTo>
                    <a:pt x="17" y="251"/>
                  </a:lnTo>
                  <a:lnTo>
                    <a:pt x="0" y="238"/>
                  </a:lnTo>
                  <a:lnTo>
                    <a:pt x="59" y="223"/>
                  </a:lnTo>
                  <a:lnTo>
                    <a:pt x="106" y="223"/>
                  </a:lnTo>
                  <a:lnTo>
                    <a:pt x="151" y="216"/>
                  </a:lnTo>
                  <a:lnTo>
                    <a:pt x="211" y="202"/>
                  </a:lnTo>
                  <a:lnTo>
                    <a:pt x="239" y="187"/>
                  </a:lnTo>
                  <a:lnTo>
                    <a:pt x="239" y="181"/>
                  </a:lnTo>
                  <a:lnTo>
                    <a:pt x="256" y="187"/>
                  </a:lnTo>
                  <a:lnTo>
                    <a:pt x="285" y="20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98880" y="4075200"/>
              <a:ext cx="200520" cy="36720"/>
            </a:xfrm>
            <a:custGeom>
              <a:avLst/>
              <a:gdLst/>
              <a:ahLst/>
              <a:rect l="0" t="0" r="r" b="b"/>
              <a:pathLst>
                <a:path w="557" h="102">
                  <a:moveTo>
                    <a:pt x="422" y="22"/>
                  </a:moveTo>
                  <a:lnTo>
                    <a:pt x="377" y="44"/>
                  </a:lnTo>
                  <a:lnTo>
                    <a:pt x="346" y="57"/>
                  </a:lnTo>
                  <a:lnTo>
                    <a:pt x="316" y="34"/>
                  </a:lnTo>
                  <a:lnTo>
                    <a:pt x="272" y="12"/>
                  </a:lnTo>
                  <a:lnTo>
                    <a:pt x="135" y="34"/>
                  </a:lnTo>
                  <a:lnTo>
                    <a:pt x="0" y="70"/>
                  </a:lnTo>
                  <a:lnTo>
                    <a:pt x="13" y="102"/>
                  </a:lnTo>
                  <a:lnTo>
                    <a:pt x="60" y="102"/>
                  </a:lnTo>
                  <a:lnTo>
                    <a:pt x="167" y="102"/>
                  </a:lnTo>
                  <a:lnTo>
                    <a:pt x="180" y="92"/>
                  </a:lnTo>
                  <a:lnTo>
                    <a:pt x="224" y="80"/>
                  </a:lnTo>
                  <a:lnTo>
                    <a:pt x="255" y="70"/>
                  </a:lnTo>
                  <a:lnTo>
                    <a:pt x="272" y="70"/>
                  </a:lnTo>
                  <a:lnTo>
                    <a:pt x="302" y="80"/>
                  </a:lnTo>
                  <a:lnTo>
                    <a:pt x="346" y="92"/>
                  </a:lnTo>
                  <a:lnTo>
                    <a:pt x="377" y="102"/>
                  </a:lnTo>
                  <a:lnTo>
                    <a:pt x="390" y="102"/>
                  </a:lnTo>
                  <a:lnTo>
                    <a:pt x="435" y="102"/>
                  </a:lnTo>
                  <a:lnTo>
                    <a:pt x="483" y="92"/>
                  </a:lnTo>
                  <a:lnTo>
                    <a:pt x="496" y="70"/>
                  </a:lnTo>
                  <a:lnTo>
                    <a:pt x="540" y="22"/>
                  </a:lnTo>
                  <a:lnTo>
                    <a:pt x="557" y="12"/>
                  </a:lnTo>
                  <a:lnTo>
                    <a:pt x="557" y="0"/>
                  </a:lnTo>
                  <a:lnTo>
                    <a:pt x="540" y="12"/>
                  </a:lnTo>
                  <a:lnTo>
                    <a:pt x="513" y="22"/>
                  </a:lnTo>
                  <a:lnTo>
                    <a:pt x="483" y="57"/>
                  </a:lnTo>
                  <a:lnTo>
                    <a:pt x="452" y="80"/>
                  </a:lnTo>
                  <a:lnTo>
                    <a:pt x="435" y="80"/>
                  </a:lnTo>
                  <a:lnTo>
                    <a:pt x="422" y="80"/>
                  </a:lnTo>
                  <a:lnTo>
                    <a:pt x="422" y="57"/>
                  </a:lnTo>
                  <a:lnTo>
                    <a:pt x="422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92400" y="3809880"/>
              <a:ext cx="187560" cy="79560"/>
            </a:xfrm>
            <a:custGeom>
              <a:avLst/>
              <a:gdLst/>
              <a:ahLst/>
              <a:rect l="0" t="0" r="r" b="b"/>
              <a:pathLst>
                <a:path w="521" h="221">
                  <a:moveTo>
                    <a:pt x="435" y="208"/>
                  </a:moveTo>
                  <a:lnTo>
                    <a:pt x="422" y="147"/>
                  </a:lnTo>
                  <a:lnTo>
                    <a:pt x="422" y="92"/>
                  </a:lnTo>
                  <a:lnTo>
                    <a:pt x="422" y="67"/>
                  </a:lnTo>
                  <a:lnTo>
                    <a:pt x="393" y="42"/>
                  </a:lnTo>
                  <a:lnTo>
                    <a:pt x="364" y="18"/>
                  </a:lnTo>
                  <a:lnTo>
                    <a:pt x="310" y="0"/>
                  </a:lnTo>
                  <a:lnTo>
                    <a:pt x="323" y="42"/>
                  </a:lnTo>
                  <a:lnTo>
                    <a:pt x="352" y="60"/>
                  </a:lnTo>
                  <a:lnTo>
                    <a:pt x="380" y="86"/>
                  </a:lnTo>
                  <a:lnTo>
                    <a:pt x="265" y="116"/>
                  </a:lnTo>
                  <a:lnTo>
                    <a:pt x="153" y="135"/>
                  </a:lnTo>
                  <a:lnTo>
                    <a:pt x="124" y="129"/>
                  </a:lnTo>
                  <a:lnTo>
                    <a:pt x="98" y="122"/>
                  </a:lnTo>
                  <a:lnTo>
                    <a:pt x="70" y="112"/>
                  </a:lnTo>
                  <a:lnTo>
                    <a:pt x="28" y="92"/>
                  </a:lnTo>
                  <a:lnTo>
                    <a:pt x="12" y="73"/>
                  </a:lnTo>
                  <a:lnTo>
                    <a:pt x="0" y="67"/>
                  </a:lnTo>
                  <a:lnTo>
                    <a:pt x="0" y="92"/>
                  </a:lnTo>
                  <a:lnTo>
                    <a:pt x="12" y="104"/>
                  </a:lnTo>
                  <a:lnTo>
                    <a:pt x="54" y="129"/>
                  </a:lnTo>
                  <a:lnTo>
                    <a:pt x="124" y="135"/>
                  </a:lnTo>
                  <a:lnTo>
                    <a:pt x="210" y="141"/>
                  </a:lnTo>
                  <a:lnTo>
                    <a:pt x="239" y="147"/>
                  </a:lnTo>
                  <a:lnTo>
                    <a:pt x="252" y="154"/>
                  </a:lnTo>
                  <a:lnTo>
                    <a:pt x="281" y="166"/>
                  </a:lnTo>
                  <a:lnTo>
                    <a:pt x="294" y="179"/>
                  </a:lnTo>
                  <a:lnTo>
                    <a:pt x="310" y="190"/>
                  </a:lnTo>
                  <a:lnTo>
                    <a:pt x="336" y="196"/>
                  </a:lnTo>
                  <a:lnTo>
                    <a:pt x="380" y="179"/>
                  </a:lnTo>
                  <a:lnTo>
                    <a:pt x="393" y="166"/>
                  </a:lnTo>
                  <a:lnTo>
                    <a:pt x="406" y="147"/>
                  </a:lnTo>
                  <a:lnTo>
                    <a:pt x="422" y="122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393" y="116"/>
                  </a:lnTo>
                  <a:lnTo>
                    <a:pt x="364" y="129"/>
                  </a:lnTo>
                  <a:lnTo>
                    <a:pt x="352" y="147"/>
                  </a:lnTo>
                  <a:lnTo>
                    <a:pt x="406" y="179"/>
                  </a:lnTo>
                  <a:lnTo>
                    <a:pt x="435" y="185"/>
                  </a:lnTo>
                  <a:lnTo>
                    <a:pt x="463" y="190"/>
                  </a:lnTo>
                  <a:lnTo>
                    <a:pt x="476" y="196"/>
                  </a:lnTo>
                  <a:lnTo>
                    <a:pt x="505" y="202"/>
                  </a:lnTo>
                  <a:lnTo>
                    <a:pt x="521" y="202"/>
                  </a:lnTo>
                  <a:lnTo>
                    <a:pt x="521" y="208"/>
                  </a:lnTo>
                  <a:lnTo>
                    <a:pt x="492" y="215"/>
                  </a:lnTo>
                  <a:lnTo>
                    <a:pt x="463" y="215"/>
                  </a:lnTo>
                  <a:lnTo>
                    <a:pt x="393" y="215"/>
                  </a:lnTo>
                  <a:lnTo>
                    <a:pt x="393" y="221"/>
                  </a:lnTo>
                  <a:lnTo>
                    <a:pt x="380" y="221"/>
                  </a:lnTo>
                  <a:lnTo>
                    <a:pt x="364" y="221"/>
                  </a:lnTo>
                  <a:lnTo>
                    <a:pt x="364" y="221"/>
                  </a:lnTo>
                  <a:lnTo>
                    <a:pt x="406" y="215"/>
                  </a:lnTo>
                  <a:lnTo>
                    <a:pt x="435" y="208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90960" y="4202280"/>
              <a:ext cx="89280" cy="109800"/>
            </a:xfrm>
            <a:custGeom>
              <a:avLst/>
              <a:gdLst/>
              <a:ahLst/>
              <a:rect l="0" t="0" r="r" b="b"/>
              <a:pathLst>
                <a:path w="248" h="305">
                  <a:moveTo>
                    <a:pt x="124" y="7"/>
                  </a:moveTo>
                  <a:lnTo>
                    <a:pt x="111" y="38"/>
                  </a:lnTo>
                  <a:lnTo>
                    <a:pt x="82" y="63"/>
                  </a:lnTo>
                  <a:lnTo>
                    <a:pt x="42" y="135"/>
                  </a:lnTo>
                  <a:lnTo>
                    <a:pt x="0" y="209"/>
                  </a:lnTo>
                  <a:lnTo>
                    <a:pt x="12" y="232"/>
                  </a:lnTo>
                  <a:lnTo>
                    <a:pt x="42" y="249"/>
                  </a:lnTo>
                  <a:lnTo>
                    <a:pt x="69" y="264"/>
                  </a:lnTo>
                  <a:lnTo>
                    <a:pt x="111" y="280"/>
                  </a:lnTo>
                  <a:lnTo>
                    <a:pt x="153" y="289"/>
                  </a:lnTo>
                  <a:lnTo>
                    <a:pt x="179" y="289"/>
                  </a:lnTo>
                  <a:lnTo>
                    <a:pt x="179" y="297"/>
                  </a:lnTo>
                  <a:lnTo>
                    <a:pt x="179" y="305"/>
                  </a:lnTo>
                  <a:lnTo>
                    <a:pt x="153" y="305"/>
                  </a:lnTo>
                  <a:lnTo>
                    <a:pt x="111" y="297"/>
                  </a:lnTo>
                  <a:lnTo>
                    <a:pt x="111" y="224"/>
                  </a:lnTo>
                  <a:lnTo>
                    <a:pt x="98" y="216"/>
                  </a:lnTo>
                  <a:lnTo>
                    <a:pt x="98" y="209"/>
                  </a:lnTo>
                  <a:lnTo>
                    <a:pt x="124" y="201"/>
                  </a:lnTo>
                  <a:lnTo>
                    <a:pt x="166" y="184"/>
                  </a:lnTo>
                  <a:lnTo>
                    <a:pt x="209" y="176"/>
                  </a:lnTo>
                  <a:lnTo>
                    <a:pt x="235" y="176"/>
                  </a:lnTo>
                  <a:lnTo>
                    <a:pt x="248" y="160"/>
                  </a:lnTo>
                  <a:lnTo>
                    <a:pt x="248" y="144"/>
                  </a:lnTo>
                  <a:lnTo>
                    <a:pt x="235" y="135"/>
                  </a:lnTo>
                  <a:lnTo>
                    <a:pt x="193" y="127"/>
                  </a:lnTo>
                  <a:lnTo>
                    <a:pt x="166" y="135"/>
                  </a:lnTo>
                  <a:lnTo>
                    <a:pt x="153" y="153"/>
                  </a:lnTo>
                  <a:lnTo>
                    <a:pt x="124" y="176"/>
                  </a:lnTo>
                  <a:lnTo>
                    <a:pt x="82" y="153"/>
                  </a:lnTo>
                  <a:lnTo>
                    <a:pt x="69" y="144"/>
                  </a:lnTo>
                  <a:lnTo>
                    <a:pt x="98" y="127"/>
                  </a:lnTo>
                  <a:lnTo>
                    <a:pt x="137" y="111"/>
                  </a:lnTo>
                  <a:lnTo>
                    <a:pt x="153" y="104"/>
                  </a:lnTo>
                  <a:lnTo>
                    <a:pt x="166" y="96"/>
                  </a:lnTo>
                  <a:lnTo>
                    <a:pt x="222" y="0"/>
                  </a:lnTo>
                  <a:lnTo>
                    <a:pt x="209" y="15"/>
                  </a:lnTo>
                  <a:lnTo>
                    <a:pt x="166" y="31"/>
                  </a:lnTo>
                  <a:lnTo>
                    <a:pt x="137" y="31"/>
                  </a:lnTo>
                  <a:lnTo>
                    <a:pt x="124" y="23"/>
                  </a:lnTo>
                  <a:lnTo>
                    <a:pt x="124" y="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38640" y="4325760"/>
              <a:ext cx="70200" cy="81360"/>
            </a:xfrm>
            <a:custGeom>
              <a:avLst/>
              <a:gdLst/>
              <a:ahLst/>
              <a:rect l="0" t="0" r="r" b="b"/>
              <a:pathLst>
                <a:path w="195" h="226">
                  <a:moveTo>
                    <a:pt x="98" y="33"/>
                  </a:moveTo>
                  <a:lnTo>
                    <a:pt x="69" y="59"/>
                  </a:lnTo>
                  <a:lnTo>
                    <a:pt x="54" y="75"/>
                  </a:lnTo>
                  <a:lnTo>
                    <a:pt x="42" y="92"/>
                  </a:lnTo>
                  <a:lnTo>
                    <a:pt x="27" y="117"/>
                  </a:lnTo>
                  <a:lnTo>
                    <a:pt x="15" y="13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7" y="176"/>
                  </a:lnTo>
                  <a:lnTo>
                    <a:pt x="54" y="202"/>
                  </a:lnTo>
                  <a:lnTo>
                    <a:pt x="140" y="226"/>
                  </a:lnTo>
                  <a:lnTo>
                    <a:pt x="113" y="210"/>
                  </a:lnTo>
                  <a:lnTo>
                    <a:pt x="98" y="193"/>
                  </a:lnTo>
                  <a:lnTo>
                    <a:pt x="98" y="185"/>
                  </a:lnTo>
                  <a:lnTo>
                    <a:pt x="125" y="158"/>
                  </a:lnTo>
                  <a:lnTo>
                    <a:pt x="98" y="150"/>
                  </a:lnTo>
                  <a:lnTo>
                    <a:pt x="98" y="134"/>
                  </a:lnTo>
                  <a:lnTo>
                    <a:pt x="113" y="126"/>
                  </a:lnTo>
                  <a:lnTo>
                    <a:pt x="140" y="117"/>
                  </a:lnTo>
                  <a:lnTo>
                    <a:pt x="167" y="100"/>
                  </a:lnTo>
                  <a:lnTo>
                    <a:pt x="195" y="83"/>
                  </a:lnTo>
                  <a:lnTo>
                    <a:pt x="195" y="75"/>
                  </a:lnTo>
                  <a:lnTo>
                    <a:pt x="195" y="59"/>
                  </a:lnTo>
                  <a:lnTo>
                    <a:pt x="182" y="33"/>
                  </a:lnTo>
                  <a:lnTo>
                    <a:pt x="140" y="9"/>
                  </a:lnTo>
                  <a:lnTo>
                    <a:pt x="113" y="0"/>
                  </a:lnTo>
                  <a:lnTo>
                    <a:pt x="113" y="9"/>
                  </a:lnTo>
                  <a:lnTo>
                    <a:pt x="98" y="16"/>
                  </a:lnTo>
                  <a:lnTo>
                    <a:pt x="98" y="33"/>
                  </a:lnTo>
                  <a:lnTo>
                    <a:pt x="98" y="41"/>
                  </a:lnTo>
                  <a:lnTo>
                    <a:pt x="98" y="41"/>
                  </a:lnTo>
                  <a:lnTo>
                    <a:pt x="98" y="33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5080" y="4041720"/>
              <a:ext cx="351360" cy="105120"/>
            </a:xfrm>
            <a:custGeom>
              <a:avLst/>
              <a:gdLst/>
              <a:ahLst/>
              <a:rect l="0" t="0" r="r" b="b"/>
              <a:pathLst>
                <a:path w="976" h="292">
                  <a:moveTo>
                    <a:pt x="561" y="67"/>
                  </a:moveTo>
                  <a:lnTo>
                    <a:pt x="534" y="133"/>
                  </a:lnTo>
                  <a:lnTo>
                    <a:pt x="503" y="167"/>
                  </a:lnTo>
                  <a:lnTo>
                    <a:pt x="457" y="192"/>
                  </a:lnTo>
                  <a:lnTo>
                    <a:pt x="399" y="183"/>
                  </a:lnTo>
                  <a:lnTo>
                    <a:pt x="371" y="174"/>
                  </a:lnTo>
                  <a:lnTo>
                    <a:pt x="325" y="174"/>
                  </a:lnTo>
                  <a:lnTo>
                    <a:pt x="267" y="183"/>
                  </a:lnTo>
                  <a:lnTo>
                    <a:pt x="208" y="208"/>
                  </a:lnTo>
                  <a:lnTo>
                    <a:pt x="134" y="217"/>
                  </a:lnTo>
                  <a:lnTo>
                    <a:pt x="0" y="251"/>
                  </a:lnTo>
                  <a:lnTo>
                    <a:pt x="0" y="267"/>
                  </a:lnTo>
                  <a:lnTo>
                    <a:pt x="15" y="283"/>
                  </a:lnTo>
                  <a:lnTo>
                    <a:pt x="73" y="292"/>
                  </a:lnTo>
                  <a:lnTo>
                    <a:pt x="147" y="283"/>
                  </a:lnTo>
                  <a:lnTo>
                    <a:pt x="208" y="276"/>
                  </a:lnTo>
                  <a:lnTo>
                    <a:pt x="356" y="251"/>
                  </a:lnTo>
                  <a:lnTo>
                    <a:pt x="488" y="217"/>
                  </a:lnTo>
                  <a:lnTo>
                    <a:pt x="534" y="217"/>
                  </a:lnTo>
                  <a:lnTo>
                    <a:pt x="577" y="226"/>
                  </a:lnTo>
                  <a:lnTo>
                    <a:pt x="620" y="233"/>
                  </a:lnTo>
                  <a:lnTo>
                    <a:pt x="650" y="251"/>
                  </a:lnTo>
                  <a:lnTo>
                    <a:pt x="708" y="267"/>
                  </a:lnTo>
                  <a:lnTo>
                    <a:pt x="724" y="251"/>
                  </a:lnTo>
                  <a:lnTo>
                    <a:pt x="740" y="242"/>
                  </a:lnTo>
                  <a:lnTo>
                    <a:pt x="771" y="242"/>
                  </a:lnTo>
                  <a:lnTo>
                    <a:pt x="814" y="242"/>
                  </a:lnTo>
                  <a:lnTo>
                    <a:pt x="844" y="242"/>
                  </a:lnTo>
                  <a:lnTo>
                    <a:pt x="872" y="226"/>
                  </a:lnTo>
                  <a:lnTo>
                    <a:pt x="902" y="192"/>
                  </a:lnTo>
                  <a:lnTo>
                    <a:pt x="933" y="150"/>
                  </a:lnTo>
                  <a:lnTo>
                    <a:pt x="961" y="108"/>
                  </a:lnTo>
                  <a:lnTo>
                    <a:pt x="976" y="92"/>
                  </a:lnTo>
                  <a:lnTo>
                    <a:pt x="976" y="83"/>
                  </a:lnTo>
                  <a:lnTo>
                    <a:pt x="933" y="74"/>
                  </a:lnTo>
                  <a:lnTo>
                    <a:pt x="872" y="67"/>
                  </a:lnTo>
                  <a:lnTo>
                    <a:pt x="814" y="58"/>
                  </a:lnTo>
                  <a:lnTo>
                    <a:pt x="783" y="58"/>
                  </a:lnTo>
                  <a:lnTo>
                    <a:pt x="755" y="49"/>
                  </a:lnTo>
                  <a:lnTo>
                    <a:pt x="708" y="42"/>
                  </a:lnTo>
                  <a:lnTo>
                    <a:pt x="708" y="24"/>
                  </a:lnTo>
                  <a:lnTo>
                    <a:pt x="696" y="8"/>
                  </a:lnTo>
                  <a:lnTo>
                    <a:pt x="635" y="0"/>
                  </a:lnTo>
                  <a:lnTo>
                    <a:pt x="561" y="0"/>
                  </a:lnTo>
                  <a:lnTo>
                    <a:pt x="503" y="0"/>
                  </a:lnTo>
                  <a:lnTo>
                    <a:pt x="518" y="17"/>
                  </a:lnTo>
                  <a:lnTo>
                    <a:pt x="518" y="24"/>
                  </a:lnTo>
                  <a:lnTo>
                    <a:pt x="561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635280" y="6364440"/>
            <a:ext cx="1054440" cy="149760"/>
            <a:chOff x="3635280" y="6364440"/>
            <a:chExt cx="1054440" cy="149760"/>
          </a:xfrm>
        </p:grpSpPr>
        <p:sp>
          <p:nvSpPr>
            <p:cNvPr id="702" name=""/>
            <p:cNvSpPr/>
            <p:nvPr/>
          </p:nvSpPr>
          <p:spPr>
            <a:xfrm>
              <a:off x="3635280" y="6364440"/>
              <a:ext cx="1054440" cy="149760"/>
            </a:xfrm>
            <a:custGeom>
              <a:avLst/>
              <a:gdLst/>
              <a:ahLst/>
              <a:rect l="0" t="0" r="r" b="b"/>
              <a:pathLst>
                <a:path w="2929" h="416">
                  <a:moveTo>
                    <a:pt x="1672" y="416"/>
                  </a:moveTo>
                  <a:lnTo>
                    <a:pt x="0" y="407"/>
                  </a:lnTo>
                  <a:lnTo>
                    <a:pt x="119" y="269"/>
                  </a:lnTo>
                  <a:lnTo>
                    <a:pt x="352" y="128"/>
                  </a:lnTo>
                  <a:lnTo>
                    <a:pt x="948" y="39"/>
                  </a:lnTo>
                  <a:lnTo>
                    <a:pt x="1883" y="0"/>
                  </a:lnTo>
                  <a:lnTo>
                    <a:pt x="2227" y="22"/>
                  </a:lnTo>
                  <a:lnTo>
                    <a:pt x="2915" y="26"/>
                  </a:lnTo>
                  <a:lnTo>
                    <a:pt x="2929" y="287"/>
                  </a:lnTo>
                  <a:lnTo>
                    <a:pt x="2108" y="300"/>
                  </a:lnTo>
                  <a:lnTo>
                    <a:pt x="1901" y="234"/>
                  </a:lnTo>
                  <a:lnTo>
                    <a:pt x="1720" y="230"/>
                  </a:lnTo>
                  <a:lnTo>
                    <a:pt x="1672" y="416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6378480"/>
              <a:ext cx="603720" cy="114840"/>
            </a:xfrm>
            <a:custGeom>
              <a:avLst/>
              <a:gdLst/>
              <a:ahLst/>
              <a:rect l="0" t="0" r="r" b="b"/>
              <a:pathLst>
                <a:path w="1677" h="319">
                  <a:moveTo>
                    <a:pt x="1668" y="164"/>
                  </a:moveTo>
                  <a:lnTo>
                    <a:pt x="1510" y="208"/>
                  </a:lnTo>
                  <a:lnTo>
                    <a:pt x="1351" y="120"/>
                  </a:lnTo>
                  <a:lnTo>
                    <a:pt x="1121" y="208"/>
                  </a:lnTo>
                  <a:lnTo>
                    <a:pt x="777" y="208"/>
                  </a:lnTo>
                  <a:lnTo>
                    <a:pt x="600" y="208"/>
                  </a:lnTo>
                  <a:lnTo>
                    <a:pt x="366" y="225"/>
                  </a:lnTo>
                  <a:lnTo>
                    <a:pt x="0" y="319"/>
                  </a:lnTo>
                  <a:lnTo>
                    <a:pt x="343" y="159"/>
                  </a:lnTo>
                  <a:lnTo>
                    <a:pt x="600" y="39"/>
                  </a:lnTo>
                  <a:lnTo>
                    <a:pt x="1059" y="22"/>
                  </a:lnTo>
                  <a:lnTo>
                    <a:pt x="1311" y="0"/>
                  </a:lnTo>
                  <a:lnTo>
                    <a:pt x="1677" y="4"/>
                  </a:lnTo>
                  <a:lnTo>
                    <a:pt x="1668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6367320"/>
              <a:ext cx="427320" cy="111600"/>
            </a:xfrm>
            <a:custGeom>
              <a:avLst/>
              <a:gdLst/>
              <a:ahLst/>
              <a:rect l="0" t="0" r="r" b="b"/>
              <a:pathLst>
                <a:path w="1187" h="310">
                  <a:moveTo>
                    <a:pt x="0" y="0"/>
                  </a:moveTo>
                  <a:lnTo>
                    <a:pt x="17" y="168"/>
                  </a:lnTo>
                  <a:lnTo>
                    <a:pt x="335" y="310"/>
                  </a:lnTo>
                  <a:lnTo>
                    <a:pt x="1182" y="266"/>
                  </a:lnTo>
                  <a:lnTo>
                    <a:pt x="11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213080" y="6080040"/>
            <a:ext cx="1018080" cy="370080"/>
            <a:chOff x="4213080" y="6080040"/>
            <a:chExt cx="1018080" cy="370080"/>
          </a:xfrm>
        </p:grpSpPr>
        <p:sp>
          <p:nvSpPr>
            <p:cNvPr id="706" name=""/>
            <p:cNvSpPr/>
            <p:nvPr/>
          </p:nvSpPr>
          <p:spPr>
            <a:xfrm>
              <a:off x="4213080" y="6080040"/>
              <a:ext cx="1018080" cy="370080"/>
            </a:xfrm>
            <a:custGeom>
              <a:avLst/>
              <a:gdLst/>
              <a:ahLst/>
              <a:rect l="0" t="0" r="r" b="b"/>
              <a:pathLst>
                <a:path w="2828" h="1028">
                  <a:moveTo>
                    <a:pt x="1200" y="658"/>
                  </a:moveTo>
                  <a:lnTo>
                    <a:pt x="2828" y="1028"/>
                  </a:lnTo>
                  <a:lnTo>
                    <a:pt x="2744" y="865"/>
                  </a:lnTo>
                  <a:lnTo>
                    <a:pt x="2550" y="675"/>
                  </a:lnTo>
                  <a:lnTo>
                    <a:pt x="1989" y="454"/>
                  </a:lnTo>
                  <a:lnTo>
                    <a:pt x="1085" y="207"/>
                  </a:lnTo>
                  <a:lnTo>
                    <a:pt x="746" y="149"/>
                  </a:lnTo>
                  <a:lnTo>
                    <a:pt x="74" y="0"/>
                  </a:lnTo>
                  <a:lnTo>
                    <a:pt x="0" y="251"/>
                  </a:lnTo>
                  <a:lnTo>
                    <a:pt x="799" y="449"/>
                  </a:lnTo>
                  <a:lnTo>
                    <a:pt x="1015" y="432"/>
                  </a:lnTo>
                  <a:lnTo>
                    <a:pt x="1191" y="467"/>
                  </a:lnTo>
                  <a:lnTo>
                    <a:pt x="1200" y="658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54440" y="6184800"/>
              <a:ext cx="572040" cy="244800"/>
            </a:xfrm>
            <a:custGeom>
              <a:avLst/>
              <a:gdLst/>
              <a:ahLst/>
              <a:rect l="0" t="0" r="r" b="b"/>
              <a:pathLst>
                <a:path w="1589" h="680">
                  <a:moveTo>
                    <a:pt x="0" y="154"/>
                  </a:moveTo>
                  <a:lnTo>
                    <a:pt x="141" y="233"/>
                  </a:lnTo>
                  <a:lnTo>
                    <a:pt x="317" y="185"/>
                  </a:lnTo>
                  <a:lnTo>
                    <a:pt x="521" y="321"/>
                  </a:lnTo>
                  <a:lnTo>
                    <a:pt x="856" y="402"/>
                  </a:lnTo>
                  <a:lnTo>
                    <a:pt x="1028" y="441"/>
                  </a:lnTo>
                  <a:lnTo>
                    <a:pt x="1254" y="508"/>
                  </a:lnTo>
                  <a:lnTo>
                    <a:pt x="1589" y="680"/>
                  </a:lnTo>
                  <a:lnTo>
                    <a:pt x="1289" y="450"/>
                  </a:lnTo>
                  <a:lnTo>
                    <a:pt x="1068" y="273"/>
                  </a:lnTo>
                  <a:lnTo>
                    <a:pt x="622" y="154"/>
                  </a:lnTo>
                  <a:lnTo>
                    <a:pt x="383" y="74"/>
                  </a:lnTo>
                  <a:lnTo>
                    <a:pt x="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30720" y="6094440"/>
              <a:ext cx="437040" cy="159120"/>
            </a:xfrm>
            <a:custGeom>
              <a:avLst/>
              <a:gdLst/>
              <a:ahLst/>
              <a:rect l="0" t="0" r="r" b="b"/>
              <a:pathLst>
                <a:path w="1214" h="442">
                  <a:moveTo>
                    <a:pt x="1214" y="217"/>
                  </a:moveTo>
                  <a:lnTo>
                    <a:pt x="1157" y="376"/>
                  </a:lnTo>
                  <a:lnTo>
                    <a:pt x="816" y="442"/>
                  </a:lnTo>
                  <a:lnTo>
                    <a:pt x="0" y="208"/>
                  </a:lnTo>
                  <a:lnTo>
                    <a:pt x="44" y="0"/>
                  </a:lnTo>
                  <a:lnTo>
                    <a:pt x="1214" y="21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 txBox="1"/>
          <p:nvPr/>
        </p:nvSpPr>
        <p:spPr>
          <a:xfrm>
            <a:off x="152280" y="3049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Going Nuts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T #3  OPS</dc:creator>
  <dc:description/>
  <dc:language>en-US</dc:language>
  <cp:lastModifiedBy>CSCT #3  OPS</cp:lastModifiedBy>
  <cp:revision>0</cp:revision>
  <dc:subject/>
  <dc:title>No Slide Title</dc:title>
</cp:coreProperties>
</file>