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bmp" ContentType="image/bmp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bmp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bmp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bmp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bmp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bmp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bmp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bmp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bmp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bmp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bmp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bmp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bmp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bmp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bmp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bmp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bmp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bmp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0" y="76320"/>
            <a:ext cx="9142920" cy="6642000"/>
            <a:chOff x="0" y="76320"/>
            <a:chExt cx="9142920" cy="6642000"/>
          </a:xfrm>
        </p:grpSpPr>
        <p:sp>
          <p:nvSpPr>
            <p:cNvPr id="40" name=""/>
            <p:cNvSpPr/>
            <p:nvPr/>
          </p:nvSpPr>
          <p:spPr>
            <a:xfrm>
              <a:off x="19080" y="749160"/>
              <a:ext cx="9110880" cy="381240"/>
            </a:xfrm>
            <a:custGeom>
              <a:avLst/>
              <a:gdLst/>
              <a:ahLst/>
              <a:rect l="0" t="0" r="r" b="b"/>
              <a:pathLst>
                <a:path fill="none" w="25308" h="1059">
                  <a:moveTo>
                    <a:pt x="0" y="141"/>
                  </a:moveTo>
                  <a:lnTo>
                    <a:pt x="367" y="565"/>
                  </a:lnTo>
                  <a:lnTo>
                    <a:pt x="881" y="847"/>
                  </a:lnTo>
                  <a:lnTo>
                    <a:pt x="1616" y="953"/>
                  </a:lnTo>
                  <a:lnTo>
                    <a:pt x="2975" y="1059"/>
                  </a:lnTo>
                  <a:lnTo>
                    <a:pt x="22590" y="1059"/>
                  </a:lnTo>
                  <a:lnTo>
                    <a:pt x="24206" y="847"/>
                  </a:lnTo>
                  <a:lnTo>
                    <a:pt x="25014" y="458"/>
                  </a:lnTo>
                  <a:lnTo>
                    <a:pt x="25308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" name=""/>
            <p:cNvGrpSpPr/>
            <p:nvPr/>
          </p:nvGrpSpPr>
          <p:grpSpPr>
            <a:xfrm>
              <a:off x="0" y="76320"/>
              <a:ext cx="9142920" cy="6642000"/>
              <a:chOff x="0" y="76320"/>
              <a:chExt cx="9142920" cy="6642000"/>
            </a:xfrm>
          </p:grpSpPr>
          <p:sp>
            <p:nvSpPr>
              <p:cNvPr id="42" name=""/>
              <p:cNvSpPr/>
              <p:nvPr/>
            </p:nvSpPr>
            <p:spPr>
              <a:xfrm>
                <a:off x="19080" y="76320"/>
                <a:ext cx="9123840" cy="775080"/>
              </a:xfrm>
              <a:custGeom>
                <a:avLst/>
                <a:gdLst/>
                <a:ahLst/>
                <a:rect l="0" t="0" r="r" b="b"/>
                <a:pathLst>
                  <a:path fill="none" w="25344" h="2153">
                    <a:moveTo>
                      <a:pt x="0" y="1871"/>
                    </a:moveTo>
                    <a:lnTo>
                      <a:pt x="514" y="2083"/>
                    </a:lnTo>
                    <a:lnTo>
                      <a:pt x="1028" y="2153"/>
                    </a:lnTo>
                    <a:lnTo>
                      <a:pt x="1469" y="2048"/>
                    </a:lnTo>
                    <a:lnTo>
                      <a:pt x="1946" y="1341"/>
                    </a:lnTo>
                    <a:lnTo>
                      <a:pt x="2203" y="458"/>
                    </a:lnTo>
                    <a:lnTo>
                      <a:pt x="2056" y="0"/>
                    </a:lnTo>
                    <a:lnTo>
                      <a:pt x="22479" y="0"/>
                    </a:lnTo>
                    <a:lnTo>
                      <a:pt x="22443" y="529"/>
                    </a:lnTo>
                    <a:lnTo>
                      <a:pt x="22736" y="1306"/>
                    </a:lnTo>
                    <a:lnTo>
                      <a:pt x="23544" y="1977"/>
                    </a:lnTo>
                    <a:lnTo>
                      <a:pt x="24536" y="2048"/>
                    </a:lnTo>
                    <a:lnTo>
                      <a:pt x="25344" y="1801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746280" y="1079640"/>
                <a:ext cx="237960" cy="5562720"/>
              </a:xfrm>
              <a:prstGeom prst="rect">
                <a:avLst/>
              </a:prstGeom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0"/>
              </a:gra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807320" y="1079640"/>
                <a:ext cx="236520" cy="5562720"/>
              </a:xfrm>
              <a:prstGeom prst="rect">
                <a:avLst/>
              </a:prstGeom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0"/>
              </a:gra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" name=""/>
              <p:cNvGrpSpPr/>
              <p:nvPr/>
            </p:nvGrpSpPr>
            <p:grpSpPr>
              <a:xfrm>
                <a:off x="271440" y="6032520"/>
                <a:ext cx="8407440" cy="685800"/>
                <a:chOff x="271440" y="6032520"/>
                <a:chExt cx="8407440" cy="68580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88960" y="6032520"/>
                  <a:ext cx="769320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ffffff"/>
                    </a:gs>
                  </a:gsLst>
                  <a:lin ang="5400000"/>
                </a:gra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28760" y="6261120"/>
                  <a:ext cx="801360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ffffff"/>
                    </a:gs>
                  </a:gsLst>
                  <a:lin ang="5400000"/>
                </a:gra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271440" y="6489720"/>
                  <a:ext cx="840744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ffffff"/>
                    </a:gs>
                  </a:gsLst>
                  <a:lin ang="5400000"/>
                </a:gra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" name=""/>
              <p:cNvSpPr/>
              <p:nvPr/>
            </p:nvSpPr>
            <p:spPr>
              <a:xfrm>
                <a:off x="0" y="88920"/>
                <a:ext cx="9136440" cy="1035360"/>
              </a:xfrm>
              <a:custGeom>
                <a:avLst/>
                <a:gdLst/>
                <a:ahLst/>
                <a:rect l="0" t="0" r="r" b="b"/>
                <a:pathLst>
                  <a:path w="25379" h="2876">
                    <a:moveTo>
                      <a:pt x="0" y="1853"/>
                    </a:moveTo>
                    <a:lnTo>
                      <a:pt x="201" y="2117"/>
                    </a:lnTo>
                    <a:lnTo>
                      <a:pt x="422" y="2382"/>
                    </a:lnTo>
                    <a:lnTo>
                      <a:pt x="936" y="2646"/>
                    </a:lnTo>
                    <a:lnTo>
                      <a:pt x="1744" y="2770"/>
                    </a:lnTo>
                    <a:lnTo>
                      <a:pt x="2056" y="2787"/>
                    </a:lnTo>
                    <a:lnTo>
                      <a:pt x="3360" y="2876"/>
                    </a:lnTo>
                    <a:lnTo>
                      <a:pt x="22588" y="2876"/>
                    </a:lnTo>
                    <a:lnTo>
                      <a:pt x="24241" y="2664"/>
                    </a:lnTo>
                    <a:lnTo>
                      <a:pt x="25031" y="2276"/>
                    </a:lnTo>
                    <a:lnTo>
                      <a:pt x="25379" y="1764"/>
                    </a:lnTo>
                    <a:lnTo>
                      <a:pt x="24608" y="2029"/>
                    </a:lnTo>
                    <a:lnTo>
                      <a:pt x="23543" y="1958"/>
                    </a:lnTo>
                    <a:lnTo>
                      <a:pt x="22772" y="1287"/>
                    </a:lnTo>
                    <a:lnTo>
                      <a:pt x="22441" y="458"/>
                    </a:lnTo>
                    <a:lnTo>
                      <a:pt x="22515" y="0"/>
                    </a:lnTo>
                    <a:lnTo>
                      <a:pt x="2130" y="0"/>
                    </a:lnTo>
                    <a:lnTo>
                      <a:pt x="2295" y="458"/>
                    </a:lnTo>
                    <a:lnTo>
                      <a:pt x="2038" y="1287"/>
                    </a:lnTo>
                    <a:lnTo>
                      <a:pt x="1542" y="2064"/>
                    </a:lnTo>
                    <a:lnTo>
                      <a:pt x="1101" y="2135"/>
                    </a:lnTo>
                    <a:lnTo>
                      <a:pt x="569" y="2064"/>
                    </a:lnTo>
                    <a:lnTo>
                      <a:pt x="0" y="18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" name=""/>
          <p:cNvGrpSpPr/>
          <p:nvPr/>
        </p:nvGrpSpPr>
        <p:grpSpPr>
          <a:xfrm>
            <a:off x="3048120" y="2057400"/>
            <a:ext cx="3124440" cy="2895840"/>
            <a:chOff x="3048120" y="2057400"/>
            <a:chExt cx="3124440" cy="2895840"/>
          </a:xfrm>
        </p:grpSpPr>
        <p:sp>
          <p:nvSpPr>
            <p:cNvPr id="51" name=""/>
            <p:cNvSpPr/>
            <p:nvPr/>
          </p:nvSpPr>
          <p:spPr>
            <a:xfrm>
              <a:off x="3165480" y="2568600"/>
              <a:ext cx="2876760" cy="2384640"/>
            </a:xfrm>
            <a:custGeom>
              <a:avLst/>
              <a:gdLst/>
              <a:ahLst/>
              <a:rect l="0" t="0" r="r" b="b"/>
              <a:pathLst>
                <a:path w="7991" h="6624">
                  <a:moveTo>
                    <a:pt x="4000" y="2609"/>
                  </a:moveTo>
                  <a:lnTo>
                    <a:pt x="3686" y="2587"/>
                  </a:lnTo>
                  <a:lnTo>
                    <a:pt x="3446" y="2341"/>
                  </a:lnTo>
                  <a:lnTo>
                    <a:pt x="3354" y="1980"/>
                  </a:lnTo>
                  <a:lnTo>
                    <a:pt x="3270" y="1626"/>
                  </a:lnTo>
                  <a:lnTo>
                    <a:pt x="3298" y="1284"/>
                  </a:lnTo>
                  <a:lnTo>
                    <a:pt x="3394" y="982"/>
                  </a:lnTo>
                  <a:lnTo>
                    <a:pt x="3550" y="714"/>
                  </a:lnTo>
                  <a:lnTo>
                    <a:pt x="3787" y="491"/>
                  </a:lnTo>
                  <a:lnTo>
                    <a:pt x="4060" y="338"/>
                  </a:lnTo>
                  <a:lnTo>
                    <a:pt x="4508" y="156"/>
                  </a:lnTo>
                  <a:lnTo>
                    <a:pt x="5049" y="18"/>
                  </a:lnTo>
                  <a:lnTo>
                    <a:pt x="5273" y="0"/>
                  </a:lnTo>
                  <a:lnTo>
                    <a:pt x="5497" y="29"/>
                  </a:lnTo>
                  <a:lnTo>
                    <a:pt x="6029" y="219"/>
                  </a:lnTo>
                  <a:lnTo>
                    <a:pt x="6350" y="364"/>
                  </a:lnTo>
                  <a:lnTo>
                    <a:pt x="6882" y="673"/>
                  </a:lnTo>
                  <a:lnTo>
                    <a:pt x="7206" y="1042"/>
                  </a:lnTo>
                  <a:lnTo>
                    <a:pt x="7723" y="1738"/>
                  </a:lnTo>
                  <a:lnTo>
                    <a:pt x="7919" y="2256"/>
                  </a:lnTo>
                  <a:lnTo>
                    <a:pt x="7991" y="2985"/>
                  </a:lnTo>
                  <a:lnTo>
                    <a:pt x="7983" y="3686"/>
                  </a:lnTo>
                  <a:lnTo>
                    <a:pt x="7843" y="4167"/>
                  </a:lnTo>
                  <a:lnTo>
                    <a:pt x="7639" y="4822"/>
                  </a:lnTo>
                  <a:lnTo>
                    <a:pt x="7402" y="5153"/>
                  </a:lnTo>
                  <a:lnTo>
                    <a:pt x="6894" y="5619"/>
                  </a:lnTo>
                  <a:lnTo>
                    <a:pt x="6418" y="5995"/>
                  </a:lnTo>
                  <a:lnTo>
                    <a:pt x="5765" y="6281"/>
                  </a:lnTo>
                  <a:lnTo>
                    <a:pt x="5237" y="6479"/>
                  </a:lnTo>
                  <a:lnTo>
                    <a:pt x="4376" y="6620"/>
                  </a:lnTo>
                  <a:lnTo>
                    <a:pt x="3767" y="6624"/>
                  </a:lnTo>
                  <a:lnTo>
                    <a:pt x="3110" y="6542"/>
                  </a:lnTo>
                  <a:lnTo>
                    <a:pt x="2401" y="6322"/>
                  </a:lnTo>
                  <a:lnTo>
                    <a:pt x="1677" y="5972"/>
                  </a:lnTo>
                  <a:lnTo>
                    <a:pt x="1192" y="5619"/>
                  </a:lnTo>
                  <a:lnTo>
                    <a:pt x="776" y="5235"/>
                  </a:lnTo>
                  <a:lnTo>
                    <a:pt x="420" y="4822"/>
                  </a:lnTo>
                  <a:lnTo>
                    <a:pt x="168" y="4409"/>
                  </a:lnTo>
                  <a:lnTo>
                    <a:pt x="0" y="4096"/>
                  </a:lnTo>
                  <a:lnTo>
                    <a:pt x="400" y="4479"/>
                  </a:lnTo>
                  <a:lnTo>
                    <a:pt x="788" y="4908"/>
                  </a:lnTo>
                  <a:lnTo>
                    <a:pt x="1417" y="5280"/>
                  </a:lnTo>
                  <a:lnTo>
                    <a:pt x="1965" y="5548"/>
                  </a:lnTo>
                  <a:lnTo>
                    <a:pt x="2465" y="5782"/>
                  </a:lnTo>
                  <a:lnTo>
                    <a:pt x="3182" y="5917"/>
                  </a:lnTo>
                  <a:lnTo>
                    <a:pt x="3795" y="5939"/>
                  </a:lnTo>
                  <a:lnTo>
                    <a:pt x="4160" y="5835"/>
                  </a:lnTo>
                  <a:lnTo>
                    <a:pt x="4780" y="5548"/>
                  </a:lnTo>
                  <a:lnTo>
                    <a:pt x="5341" y="5258"/>
                  </a:lnTo>
                  <a:lnTo>
                    <a:pt x="5653" y="4807"/>
                  </a:lnTo>
                  <a:lnTo>
                    <a:pt x="5953" y="4062"/>
                  </a:lnTo>
                  <a:lnTo>
                    <a:pt x="6013" y="3616"/>
                  </a:lnTo>
                  <a:lnTo>
                    <a:pt x="5909" y="3108"/>
                  </a:lnTo>
                  <a:lnTo>
                    <a:pt x="5561" y="2721"/>
                  </a:lnTo>
                  <a:lnTo>
                    <a:pt x="5201" y="2475"/>
                  </a:lnTo>
                  <a:lnTo>
                    <a:pt x="4760" y="2364"/>
                  </a:lnTo>
                  <a:lnTo>
                    <a:pt x="4412" y="2375"/>
                  </a:lnTo>
                  <a:lnTo>
                    <a:pt x="4256" y="2509"/>
                  </a:lnTo>
                  <a:lnTo>
                    <a:pt x="4000" y="2609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2057400"/>
              <a:ext cx="2298960" cy="2659320"/>
            </a:xfrm>
            <a:custGeom>
              <a:avLst/>
              <a:gdLst/>
              <a:ahLst/>
              <a:rect l="0" t="0" r="r" b="b"/>
              <a:pathLst>
                <a:path w="6386" h="7387">
                  <a:moveTo>
                    <a:pt x="4332" y="4026"/>
                  </a:moveTo>
                  <a:lnTo>
                    <a:pt x="4612" y="3818"/>
                  </a:lnTo>
                  <a:lnTo>
                    <a:pt x="4917" y="3751"/>
                  </a:lnTo>
                  <a:lnTo>
                    <a:pt x="5325" y="3796"/>
                  </a:lnTo>
                  <a:lnTo>
                    <a:pt x="5685" y="3941"/>
                  </a:lnTo>
                  <a:lnTo>
                    <a:pt x="5985" y="4142"/>
                  </a:lnTo>
                  <a:lnTo>
                    <a:pt x="6154" y="4376"/>
                  </a:lnTo>
                  <a:lnTo>
                    <a:pt x="6314" y="4684"/>
                  </a:lnTo>
                  <a:lnTo>
                    <a:pt x="6386" y="4997"/>
                  </a:lnTo>
                  <a:lnTo>
                    <a:pt x="6374" y="5290"/>
                  </a:lnTo>
                  <a:lnTo>
                    <a:pt x="6290" y="5736"/>
                  </a:lnTo>
                  <a:lnTo>
                    <a:pt x="6114" y="6231"/>
                  </a:lnTo>
                  <a:lnTo>
                    <a:pt x="6001" y="6413"/>
                  </a:lnTo>
                  <a:lnTo>
                    <a:pt x="5857" y="6569"/>
                  </a:lnTo>
                  <a:lnTo>
                    <a:pt x="5393" y="6881"/>
                  </a:lnTo>
                  <a:lnTo>
                    <a:pt x="5081" y="7049"/>
                  </a:lnTo>
                  <a:lnTo>
                    <a:pt x="4512" y="7290"/>
                  </a:lnTo>
                  <a:lnTo>
                    <a:pt x="4064" y="7387"/>
                  </a:lnTo>
                  <a:lnTo>
                    <a:pt x="3094" y="7350"/>
                  </a:lnTo>
                  <a:lnTo>
                    <a:pt x="2369" y="7190"/>
                  </a:lnTo>
                  <a:lnTo>
                    <a:pt x="1825" y="6878"/>
                  </a:lnTo>
                  <a:lnTo>
                    <a:pt x="1200" y="6480"/>
                  </a:lnTo>
                  <a:lnTo>
                    <a:pt x="852" y="6108"/>
                  </a:lnTo>
                  <a:lnTo>
                    <a:pt x="372" y="5591"/>
                  </a:lnTo>
                  <a:lnTo>
                    <a:pt x="208" y="5223"/>
                  </a:lnTo>
                  <a:lnTo>
                    <a:pt x="72" y="4577"/>
                  </a:lnTo>
                  <a:lnTo>
                    <a:pt x="0" y="4000"/>
                  </a:lnTo>
                  <a:lnTo>
                    <a:pt x="100" y="3334"/>
                  </a:lnTo>
                  <a:lnTo>
                    <a:pt x="216" y="2817"/>
                  </a:lnTo>
                  <a:lnTo>
                    <a:pt x="564" y="2070"/>
                  </a:lnTo>
                  <a:lnTo>
                    <a:pt x="896" y="1594"/>
                  </a:lnTo>
                  <a:lnTo>
                    <a:pt x="1333" y="1133"/>
                  </a:lnTo>
                  <a:lnTo>
                    <a:pt x="1917" y="706"/>
                  </a:lnTo>
                  <a:lnTo>
                    <a:pt x="2634" y="341"/>
                  </a:lnTo>
                  <a:lnTo>
                    <a:pt x="3219" y="163"/>
                  </a:lnTo>
                  <a:lnTo>
                    <a:pt x="3796" y="44"/>
                  </a:lnTo>
                  <a:lnTo>
                    <a:pt x="4360" y="0"/>
                  </a:lnTo>
                  <a:lnTo>
                    <a:pt x="4873" y="63"/>
                  </a:lnTo>
                  <a:lnTo>
                    <a:pt x="5265" y="122"/>
                  </a:lnTo>
                  <a:lnTo>
                    <a:pt x="4680" y="174"/>
                  </a:lnTo>
                  <a:lnTo>
                    <a:pt x="4080" y="237"/>
                  </a:lnTo>
                  <a:lnTo>
                    <a:pt x="3363" y="464"/>
                  </a:lnTo>
                  <a:lnTo>
                    <a:pt x="2674" y="739"/>
                  </a:lnTo>
                  <a:lnTo>
                    <a:pt x="2317" y="1003"/>
                  </a:lnTo>
                  <a:lnTo>
                    <a:pt x="1853" y="1538"/>
                  </a:lnTo>
                  <a:lnTo>
                    <a:pt x="1433" y="2137"/>
                  </a:lnTo>
                  <a:lnTo>
                    <a:pt x="1385" y="2338"/>
                  </a:lnTo>
                  <a:lnTo>
                    <a:pt x="1237" y="2936"/>
                  </a:lnTo>
                  <a:lnTo>
                    <a:pt x="1253" y="3568"/>
                  </a:lnTo>
                  <a:lnTo>
                    <a:pt x="1481" y="4064"/>
                  </a:lnTo>
                  <a:lnTo>
                    <a:pt x="1989" y="4707"/>
                  </a:lnTo>
                  <a:lnTo>
                    <a:pt x="2357" y="4997"/>
                  </a:lnTo>
                  <a:lnTo>
                    <a:pt x="2862" y="5201"/>
                  </a:lnTo>
                  <a:lnTo>
                    <a:pt x="3443" y="5138"/>
                  </a:lnTo>
                  <a:lnTo>
                    <a:pt x="3844" y="4971"/>
                  </a:lnTo>
                  <a:lnTo>
                    <a:pt x="4204" y="4733"/>
                  </a:lnTo>
                  <a:lnTo>
                    <a:pt x="4408" y="4406"/>
                  </a:lnTo>
                  <a:lnTo>
                    <a:pt x="4396" y="4182"/>
                  </a:lnTo>
                  <a:lnTo>
                    <a:pt x="4332" y="4026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40160" y="2073240"/>
              <a:ext cx="2732400" cy="2304000"/>
            </a:xfrm>
            <a:custGeom>
              <a:avLst/>
              <a:gdLst/>
              <a:ahLst/>
              <a:rect l="0" t="0" r="r" b="b"/>
              <a:pathLst>
                <a:path w="7590" h="6400">
                  <a:moveTo>
                    <a:pt x="3279" y="3994"/>
                  </a:moveTo>
                  <a:lnTo>
                    <a:pt x="3364" y="4313"/>
                  </a:lnTo>
                  <a:lnTo>
                    <a:pt x="3295" y="4607"/>
                  </a:lnTo>
                  <a:lnTo>
                    <a:pt x="3063" y="4879"/>
                  </a:lnTo>
                  <a:lnTo>
                    <a:pt x="2787" y="5132"/>
                  </a:lnTo>
                  <a:lnTo>
                    <a:pt x="2458" y="5292"/>
                  </a:lnTo>
                  <a:lnTo>
                    <a:pt x="2138" y="5374"/>
                  </a:lnTo>
                  <a:lnTo>
                    <a:pt x="1810" y="5392"/>
                  </a:lnTo>
                  <a:lnTo>
                    <a:pt x="1477" y="5326"/>
                  </a:lnTo>
                  <a:lnTo>
                    <a:pt x="1193" y="5188"/>
                  </a:lnTo>
                  <a:lnTo>
                    <a:pt x="792" y="4939"/>
                  </a:lnTo>
                  <a:lnTo>
                    <a:pt x="372" y="4585"/>
                  </a:lnTo>
                  <a:lnTo>
                    <a:pt x="240" y="4410"/>
                  </a:lnTo>
                  <a:lnTo>
                    <a:pt x="148" y="4217"/>
                  </a:lnTo>
                  <a:lnTo>
                    <a:pt x="36" y="3704"/>
                  </a:lnTo>
                  <a:lnTo>
                    <a:pt x="0" y="3376"/>
                  </a:lnTo>
                  <a:lnTo>
                    <a:pt x="4" y="2793"/>
                  </a:lnTo>
                  <a:lnTo>
                    <a:pt x="172" y="2339"/>
                  </a:lnTo>
                  <a:lnTo>
                    <a:pt x="528" y="1565"/>
                  </a:lnTo>
                  <a:lnTo>
                    <a:pt x="897" y="1130"/>
                  </a:lnTo>
                  <a:lnTo>
                    <a:pt x="1525" y="691"/>
                  </a:lnTo>
                  <a:lnTo>
                    <a:pt x="2166" y="330"/>
                  </a:lnTo>
                  <a:lnTo>
                    <a:pt x="2683" y="189"/>
                  </a:lnTo>
                  <a:lnTo>
                    <a:pt x="3380" y="0"/>
                  </a:lnTo>
                  <a:lnTo>
                    <a:pt x="3809" y="7"/>
                  </a:lnTo>
                  <a:lnTo>
                    <a:pt x="4506" y="167"/>
                  </a:lnTo>
                  <a:lnTo>
                    <a:pt x="5103" y="342"/>
                  </a:lnTo>
                  <a:lnTo>
                    <a:pt x="5715" y="702"/>
                  </a:lnTo>
                  <a:lnTo>
                    <a:pt x="6164" y="1011"/>
                  </a:lnTo>
                  <a:lnTo>
                    <a:pt x="6757" y="1618"/>
                  </a:lnTo>
                  <a:lnTo>
                    <a:pt x="7085" y="2094"/>
                  </a:lnTo>
                  <a:lnTo>
                    <a:pt x="7357" y="2663"/>
                  </a:lnTo>
                  <a:lnTo>
                    <a:pt x="7538" y="3324"/>
                  </a:lnTo>
                  <a:lnTo>
                    <a:pt x="7590" y="4083"/>
                  </a:lnTo>
                  <a:lnTo>
                    <a:pt x="7526" y="4655"/>
                  </a:lnTo>
                  <a:lnTo>
                    <a:pt x="7401" y="5188"/>
                  </a:lnTo>
                  <a:lnTo>
                    <a:pt x="7213" y="5682"/>
                  </a:lnTo>
                  <a:lnTo>
                    <a:pt x="6949" y="6110"/>
                  </a:lnTo>
                  <a:lnTo>
                    <a:pt x="6733" y="6400"/>
                  </a:lnTo>
                  <a:lnTo>
                    <a:pt x="6909" y="5880"/>
                  </a:lnTo>
                  <a:lnTo>
                    <a:pt x="7097" y="5355"/>
                  </a:lnTo>
                  <a:lnTo>
                    <a:pt x="7169" y="4655"/>
                  </a:lnTo>
                  <a:lnTo>
                    <a:pt x="7165" y="3967"/>
                  </a:lnTo>
                  <a:lnTo>
                    <a:pt x="7077" y="3547"/>
                  </a:lnTo>
                  <a:lnTo>
                    <a:pt x="6745" y="2934"/>
                  </a:lnTo>
                  <a:lnTo>
                    <a:pt x="6332" y="2332"/>
                  </a:lnTo>
                  <a:lnTo>
                    <a:pt x="6152" y="2201"/>
                  </a:lnTo>
                  <a:lnTo>
                    <a:pt x="5631" y="1830"/>
                  </a:lnTo>
                  <a:lnTo>
                    <a:pt x="5003" y="1580"/>
                  </a:lnTo>
                  <a:lnTo>
                    <a:pt x="4422" y="1576"/>
                  </a:lnTo>
                  <a:lnTo>
                    <a:pt x="3588" y="1729"/>
                  </a:lnTo>
                  <a:lnTo>
                    <a:pt x="3147" y="1919"/>
                  </a:lnTo>
                  <a:lnTo>
                    <a:pt x="2743" y="2268"/>
                  </a:lnTo>
                  <a:lnTo>
                    <a:pt x="2559" y="2781"/>
                  </a:lnTo>
                  <a:lnTo>
                    <a:pt x="2551" y="3187"/>
                  </a:lnTo>
                  <a:lnTo>
                    <a:pt x="2659" y="3633"/>
                  </a:lnTo>
                  <a:lnTo>
                    <a:pt x="2875" y="3901"/>
                  </a:lnTo>
                  <a:lnTo>
                    <a:pt x="3091" y="3979"/>
                  </a:lnTo>
                  <a:lnTo>
                    <a:pt x="3279" y="399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 txBox="1"/>
          <p:nvPr/>
        </p:nvSpPr>
        <p:spPr>
          <a:xfrm>
            <a:off x="609480" y="0"/>
            <a:ext cx="8077320" cy="22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900" spc="-1" strike="noStrike">
                <a:solidFill>
                  <a:srgbClr val="000000"/>
                </a:solidFill>
                <a:latin typeface="Marigold"/>
                <a:ea typeface="Marigold"/>
              </a:rPr>
              <a:t>TALK TIPS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553080" y="2438280"/>
            <a:ext cx="220968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9480" y="4940280"/>
            <a:ext cx="8077320" cy="207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6000" spc="-1" strike="noStrike">
                <a:solidFill>
                  <a:srgbClr val="000000"/>
                </a:solidFill>
                <a:latin typeface="Marigold"/>
                <a:ea typeface="Marigold"/>
              </a:rPr>
              <a:t>The Daily Language Progra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62120" y="2743200"/>
            <a:ext cx="22860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e00000"/>
                </a:solidFill>
                <a:latin typeface="Times New Roman"/>
                <a:ea typeface="Times New Roman"/>
              </a:rPr>
              <a:t>NC-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4356000" y="4927680"/>
            <a:ext cx="241560" cy="660600"/>
          </a:xfrm>
          <a:custGeom>
            <a:avLst/>
            <a:gdLst/>
            <a:ahLst/>
            <a:rect l="0" t="0" r="r" b="b"/>
            <a:pathLst>
              <a:path w="671" h="1835">
                <a:moveTo>
                  <a:pt x="35" y="1200"/>
                </a:moveTo>
                <a:lnTo>
                  <a:pt x="70" y="1517"/>
                </a:lnTo>
                <a:lnTo>
                  <a:pt x="246" y="1729"/>
                </a:lnTo>
                <a:lnTo>
                  <a:pt x="459" y="1835"/>
                </a:lnTo>
                <a:lnTo>
                  <a:pt x="671" y="1659"/>
                </a:lnTo>
                <a:lnTo>
                  <a:pt x="671" y="282"/>
                </a:lnTo>
                <a:lnTo>
                  <a:pt x="494" y="0"/>
                </a:lnTo>
                <a:lnTo>
                  <a:pt x="141" y="105"/>
                </a:lnTo>
                <a:lnTo>
                  <a:pt x="0" y="670"/>
                </a:lnTo>
                <a:lnTo>
                  <a:pt x="35" y="1200"/>
                </a:lnTo>
                <a:close/>
              </a:path>
            </a:pathLst>
          </a:custGeom>
          <a:solidFill>
            <a:srgbClr val="9933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737240" y="4851360"/>
            <a:ext cx="241560" cy="660600"/>
          </a:xfrm>
          <a:custGeom>
            <a:avLst/>
            <a:gdLst/>
            <a:ahLst/>
            <a:rect l="0" t="0" r="r" b="b"/>
            <a:pathLst>
              <a:path w="671" h="1835">
                <a:moveTo>
                  <a:pt x="35" y="1200"/>
                </a:moveTo>
                <a:lnTo>
                  <a:pt x="70" y="1517"/>
                </a:lnTo>
                <a:lnTo>
                  <a:pt x="246" y="1729"/>
                </a:lnTo>
                <a:lnTo>
                  <a:pt x="459" y="1835"/>
                </a:lnTo>
                <a:lnTo>
                  <a:pt x="671" y="1659"/>
                </a:lnTo>
                <a:lnTo>
                  <a:pt x="671" y="282"/>
                </a:lnTo>
                <a:lnTo>
                  <a:pt x="494" y="0"/>
                </a:lnTo>
                <a:lnTo>
                  <a:pt x="141" y="105"/>
                </a:lnTo>
                <a:lnTo>
                  <a:pt x="0" y="670"/>
                </a:lnTo>
                <a:lnTo>
                  <a:pt x="35" y="1200"/>
                </a:lnTo>
                <a:close/>
              </a:path>
            </a:pathLst>
          </a:custGeom>
          <a:solidFill>
            <a:srgbClr val="9933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2955600" y="2770200"/>
            <a:ext cx="1203840" cy="955800"/>
            <a:chOff x="2955600" y="2770200"/>
            <a:chExt cx="1203840" cy="955800"/>
          </a:xfrm>
        </p:grpSpPr>
        <p:sp>
          <p:nvSpPr>
            <p:cNvPr id="351" name=""/>
            <p:cNvSpPr/>
            <p:nvPr/>
          </p:nvSpPr>
          <p:spPr>
            <a:xfrm>
              <a:off x="2955600" y="3422880"/>
              <a:ext cx="290520" cy="303120"/>
            </a:xfrm>
            <a:custGeom>
              <a:avLst/>
              <a:gdLst/>
              <a:ahLst/>
              <a:rect l="0" t="0" r="r" b="b"/>
              <a:pathLst>
                <a:path w="807" h="842">
                  <a:moveTo>
                    <a:pt x="259" y="23"/>
                  </a:moveTo>
                  <a:lnTo>
                    <a:pt x="259" y="23"/>
                  </a:lnTo>
                  <a:lnTo>
                    <a:pt x="258" y="23"/>
                  </a:lnTo>
                  <a:cubicBezTo>
                    <a:pt x="192" y="47"/>
                    <a:pt x="134" y="89"/>
                    <a:pt x="90" y="145"/>
                  </a:cubicBezTo>
                  <a:cubicBezTo>
                    <a:pt x="45" y="201"/>
                    <a:pt x="16" y="268"/>
                    <a:pt x="5" y="341"/>
                  </a:cubicBezTo>
                  <a:cubicBezTo>
                    <a:pt x="-6" y="413"/>
                    <a:pt x="2" y="488"/>
                    <a:pt x="27" y="558"/>
                  </a:cubicBezTo>
                  <a:cubicBezTo>
                    <a:pt x="53" y="628"/>
                    <a:pt x="95" y="691"/>
                    <a:pt x="150" y="739"/>
                  </a:cubicBezTo>
                  <a:cubicBezTo>
                    <a:pt x="205" y="788"/>
                    <a:pt x="271" y="821"/>
                    <a:pt x="341" y="835"/>
                  </a:cubicBezTo>
                  <a:cubicBezTo>
                    <a:pt x="411" y="849"/>
                    <a:pt x="482" y="844"/>
                    <a:pt x="548" y="820"/>
                  </a:cubicBezTo>
                  <a:lnTo>
                    <a:pt x="548" y="820"/>
                  </a:lnTo>
                  <a:lnTo>
                    <a:pt x="549" y="820"/>
                  </a:lnTo>
                  <a:cubicBezTo>
                    <a:pt x="615" y="796"/>
                    <a:pt x="673" y="754"/>
                    <a:pt x="717" y="698"/>
                  </a:cubicBezTo>
                  <a:cubicBezTo>
                    <a:pt x="762" y="642"/>
                    <a:pt x="791" y="575"/>
                    <a:pt x="802" y="502"/>
                  </a:cubicBezTo>
                  <a:cubicBezTo>
                    <a:pt x="813" y="430"/>
                    <a:pt x="805" y="355"/>
                    <a:pt x="780" y="285"/>
                  </a:cubicBezTo>
                  <a:cubicBezTo>
                    <a:pt x="754" y="215"/>
                    <a:pt x="712" y="152"/>
                    <a:pt x="657" y="104"/>
                  </a:cubicBezTo>
                  <a:cubicBezTo>
                    <a:pt x="602" y="55"/>
                    <a:pt x="536" y="22"/>
                    <a:pt x="466" y="8"/>
                  </a:cubicBezTo>
                  <a:cubicBezTo>
                    <a:pt x="396" y="-6"/>
                    <a:pt x="325" y="-1"/>
                    <a:pt x="259" y="23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213000" y="2770200"/>
              <a:ext cx="946440" cy="952920"/>
            </a:xfrm>
            <a:custGeom>
              <a:avLst/>
              <a:gdLst/>
              <a:ahLst/>
              <a:rect l="0" t="0" r="r" b="b"/>
              <a:pathLst>
                <a:path w="2629" h="2647">
                  <a:moveTo>
                    <a:pt x="2219" y="0"/>
                  </a:moveTo>
                  <a:lnTo>
                    <a:pt x="1998" y="198"/>
                  </a:lnTo>
                  <a:lnTo>
                    <a:pt x="1738" y="1032"/>
                  </a:lnTo>
                  <a:lnTo>
                    <a:pt x="1495" y="1654"/>
                  </a:lnTo>
                  <a:lnTo>
                    <a:pt x="0" y="1786"/>
                  </a:lnTo>
                  <a:lnTo>
                    <a:pt x="167" y="2647"/>
                  </a:lnTo>
                  <a:lnTo>
                    <a:pt x="2095" y="2325"/>
                  </a:lnTo>
                  <a:lnTo>
                    <a:pt x="2607" y="657"/>
                  </a:lnTo>
                  <a:lnTo>
                    <a:pt x="2629" y="233"/>
                  </a:lnTo>
                  <a:lnTo>
                    <a:pt x="2430" y="8"/>
                  </a:lnTo>
                  <a:lnTo>
                    <a:pt x="2219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3911760" y="4025880"/>
            <a:ext cx="940320" cy="1371960"/>
          </a:xfrm>
          <a:custGeom>
            <a:avLst/>
            <a:gdLst/>
            <a:ahLst/>
            <a:rect l="0" t="0" r="r" b="b"/>
            <a:pathLst>
              <a:path w="2612" h="3811">
                <a:moveTo>
                  <a:pt x="0" y="0"/>
                </a:moveTo>
                <a:lnTo>
                  <a:pt x="352" y="2893"/>
                </a:lnTo>
                <a:lnTo>
                  <a:pt x="635" y="3705"/>
                </a:lnTo>
                <a:lnTo>
                  <a:pt x="882" y="3775"/>
                </a:lnTo>
                <a:lnTo>
                  <a:pt x="1200" y="3811"/>
                </a:lnTo>
                <a:lnTo>
                  <a:pt x="1376" y="3634"/>
                </a:lnTo>
                <a:lnTo>
                  <a:pt x="1129" y="2823"/>
                </a:lnTo>
                <a:lnTo>
                  <a:pt x="1024" y="1658"/>
                </a:lnTo>
                <a:lnTo>
                  <a:pt x="1024" y="1234"/>
                </a:lnTo>
                <a:lnTo>
                  <a:pt x="1094" y="2364"/>
                </a:lnTo>
                <a:lnTo>
                  <a:pt x="1200" y="3246"/>
                </a:lnTo>
                <a:lnTo>
                  <a:pt x="1376" y="3528"/>
                </a:lnTo>
                <a:lnTo>
                  <a:pt x="1588" y="3564"/>
                </a:lnTo>
                <a:lnTo>
                  <a:pt x="1412" y="3564"/>
                </a:lnTo>
                <a:lnTo>
                  <a:pt x="1553" y="3669"/>
                </a:lnTo>
                <a:lnTo>
                  <a:pt x="1764" y="3705"/>
                </a:lnTo>
                <a:lnTo>
                  <a:pt x="2118" y="3634"/>
                </a:lnTo>
                <a:lnTo>
                  <a:pt x="2612" y="3281"/>
                </a:lnTo>
                <a:lnTo>
                  <a:pt x="2612" y="3070"/>
                </a:lnTo>
                <a:lnTo>
                  <a:pt x="2542" y="2329"/>
                </a:lnTo>
                <a:lnTo>
                  <a:pt x="2153" y="2399"/>
                </a:lnTo>
                <a:lnTo>
                  <a:pt x="2224" y="2823"/>
                </a:lnTo>
                <a:lnTo>
                  <a:pt x="2153" y="2435"/>
                </a:lnTo>
                <a:lnTo>
                  <a:pt x="2153" y="1481"/>
                </a:lnTo>
                <a:lnTo>
                  <a:pt x="2224" y="7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463840" y="6146640"/>
            <a:ext cx="3670560" cy="344880"/>
          </a:xfrm>
          <a:custGeom>
            <a:avLst/>
            <a:gdLst/>
            <a:ahLst/>
            <a:rect l="0" t="0" r="r" b="b"/>
            <a:pathLst>
              <a:path w="10196" h="958">
                <a:moveTo>
                  <a:pt x="3764" y="216"/>
                </a:moveTo>
                <a:lnTo>
                  <a:pt x="3654" y="246"/>
                </a:lnTo>
                <a:lnTo>
                  <a:pt x="3570" y="246"/>
                </a:lnTo>
                <a:lnTo>
                  <a:pt x="3517" y="246"/>
                </a:lnTo>
                <a:lnTo>
                  <a:pt x="3407" y="216"/>
                </a:lnTo>
                <a:lnTo>
                  <a:pt x="3354" y="183"/>
                </a:lnTo>
                <a:lnTo>
                  <a:pt x="3297" y="183"/>
                </a:lnTo>
                <a:lnTo>
                  <a:pt x="3244" y="155"/>
                </a:lnTo>
                <a:lnTo>
                  <a:pt x="3217" y="155"/>
                </a:lnTo>
                <a:lnTo>
                  <a:pt x="2997" y="246"/>
                </a:lnTo>
                <a:lnTo>
                  <a:pt x="2781" y="340"/>
                </a:lnTo>
                <a:lnTo>
                  <a:pt x="2508" y="216"/>
                </a:lnTo>
                <a:lnTo>
                  <a:pt x="2208" y="94"/>
                </a:lnTo>
                <a:lnTo>
                  <a:pt x="2128" y="61"/>
                </a:lnTo>
                <a:lnTo>
                  <a:pt x="2098" y="61"/>
                </a:lnTo>
                <a:lnTo>
                  <a:pt x="2071" y="61"/>
                </a:lnTo>
                <a:lnTo>
                  <a:pt x="2045" y="94"/>
                </a:lnTo>
                <a:lnTo>
                  <a:pt x="762" y="279"/>
                </a:lnTo>
                <a:lnTo>
                  <a:pt x="357" y="524"/>
                </a:lnTo>
                <a:lnTo>
                  <a:pt x="273" y="646"/>
                </a:lnTo>
                <a:lnTo>
                  <a:pt x="246" y="679"/>
                </a:lnTo>
                <a:lnTo>
                  <a:pt x="246" y="679"/>
                </a:lnTo>
                <a:lnTo>
                  <a:pt x="273" y="646"/>
                </a:lnTo>
                <a:lnTo>
                  <a:pt x="326" y="585"/>
                </a:lnTo>
                <a:lnTo>
                  <a:pt x="357" y="585"/>
                </a:lnTo>
                <a:lnTo>
                  <a:pt x="357" y="618"/>
                </a:lnTo>
                <a:lnTo>
                  <a:pt x="357" y="742"/>
                </a:lnTo>
                <a:lnTo>
                  <a:pt x="299" y="803"/>
                </a:lnTo>
                <a:lnTo>
                  <a:pt x="189" y="836"/>
                </a:lnTo>
                <a:lnTo>
                  <a:pt x="83" y="864"/>
                </a:lnTo>
                <a:lnTo>
                  <a:pt x="0" y="897"/>
                </a:lnTo>
                <a:lnTo>
                  <a:pt x="110" y="958"/>
                </a:lnTo>
                <a:lnTo>
                  <a:pt x="189" y="958"/>
                </a:lnTo>
                <a:lnTo>
                  <a:pt x="273" y="925"/>
                </a:lnTo>
                <a:lnTo>
                  <a:pt x="383" y="897"/>
                </a:lnTo>
                <a:lnTo>
                  <a:pt x="489" y="742"/>
                </a:lnTo>
                <a:lnTo>
                  <a:pt x="573" y="679"/>
                </a:lnTo>
                <a:lnTo>
                  <a:pt x="656" y="679"/>
                </a:lnTo>
                <a:lnTo>
                  <a:pt x="819" y="742"/>
                </a:lnTo>
                <a:lnTo>
                  <a:pt x="899" y="864"/>
                </a:lnTo>
                <a:lnTo>
                  <a:pt x="982" y="897"/>
                </a:lnTo>
                <a:lnTo>
                  <a:pt x="1093" y="864"/>
                </a:lnTo>
                <a:lnTo>
                  <a:pt x="1198" y="775"/>
                </a:lnTo>
                <a:lnTo>
                  <a:pt x="1282" y="679"/>
                </a:lnTo>
                <a:lnTo>
                  <a:pt x="1362" y="679"/>
                </a:lnTo>
                <a:lnTo>
                  <a:pt x="1445" y="712"/>
                </a:lnTo>
                <a:lnTo>
                  <a:pt x="1555" y="775"/>
                </a:lnTo>
                <a:lnTo>
                  <a:pt x="1829" y="712"/>
                </a:lnTo>
                <a:lnTo>
                  <a:pt x="2128" y="679"/>
                </a:lnTo>
                <a:lnTo>
                  <a:pt x="2481" y="742"/>
                </a:lnTo>
                <a:lnTo>
                  <a:pt x="2671" y="742"/>
                </a:lnTo>
                <a:lnTo>
                  <a:pt x="2917" y="712"/>
                </a:lnTo>
                <a:lnTo>
                  <a:pt x="3133" y="679"/>
                </a:lnTo>
                <a:lnTo>
                  <a:pt x="3217" y="712"/>
                </a:lnTo>
                <a:lnTo>
                  <a:pt x="3270" y="742"/>
                </a:lnTo>
                <a:lnTo>
                  <a:pt x="3270" y="742"/>
                </a:lnTo>
                <a:lnTo>
                  <a:pt x="3517" y="958"/>
                </a:lnTo>
                <a:lnTo>
                  <a:pt x="3953" y="742"/>
                </a:lnTo>
                <a:lnTo>
                  <a:pt x="4579" y="742"/>
                </a:lnTo>
                <a:lnTo>
                  <a:pt x="5016" y="742"/>
                </a:lnTo>
                <a:lnTo>
                  <a:pt x="5068" y="864"/>
                </a:lnTo>
                <a:lnTo>
                  <a:pt x="5127" y="925"/>
                </a:lnTo>
                <a:lnTo>
                  <a:pt x="5237" y="958"/>
                </a:lnTo>
                <a:lnTo>
                  <a:pt x="5369" y="925"/>
                </a:lnTo>
                <a:lnTo>
                  <a:pt x="5479" y="897"/>
                </a:lnTo>
                <a:lnTo>
                  <a:pt x="5537" y="864"/>
                </a:lnTo>
                <a:lnTo>
                  <a:pt x="5590" y="897"/>
                </a:lnTo>
                <a:lnTo>
                  <a:pt x="5669" y="958"/>
                </a:lnTo>
                <a:lnTo>
                  <a:pt x="5779" y="958"/>
                </a:lnTo>
                <a:lnTo>
                  <a:pt x="5863" y="925"/>
                </a:lnTo>
                <a:lnTo>
                  <a:pt x="5916" y="925"/>
                </a:lnTo>
                <a:lnTo>
                  <a:pt x="5969" y="897"/>
                </a:lnTo>
                <a:lnTo>
                  <a:pt x="6026" y="864"/>
                </a:lnTo>
                <a:lnTo>
                  <a:pt x="6052" y="864"/>
                </a:lnTo>
                <a:lnTo>
                  <a:pt x="6326" y="897"/>
                </a:lnTo>
                <a:lnTo>
                  <a:pt x="6573" y="836"/>
                </a:lnTo>
                <a:lnTo>
                  <a:pt x="6736" y="897"/>
                </a:lnTo>
                <a:lnTo>
                  <a:pt x="6872" y="925"/>
                </a:lnTo>
                <a:lnTo>
                  <a:pt x="6952" y="958"/>
                </a:lnTo>
                <a:lnTo>
                  <a:pt x="6978" y="958"/>
                </a:lnTo>
                <a:lnTo>
                  <a:pt x="7088" y="925"/>
                </a:lnTo>
                <a:lnTo>
                  <a:pt x="7198" y="897"/>
                </a:lnTo>
                <a:lnTo>
                  <a:pt x="7251" y="897"/>
                </a:lnTo>
                <a:lnTo>
                  <a:pt x="7304" y="864"/>
                </a:lnTo>
                <a:lnTo>
                  <a:pt x="7304" y="864"/>
                </a:lnTo>
                <a:lnTo>
                  <a:pt x="7551" y="925"/>
                </a:lnTo>
                <a:lnTo>
                  <a:pt x="7688" y="958"/>
                </a:lnTo>
                <a:lnTo>
                  <a:pt x="7798" y="925"/>
                </a:lnTo>
                <a:lnTo>
                  <a:pt x="7908" y="897"/>
                </a:lnTo>
                <a:lnTo>
                  <a:pt x="8014" y="864"/>
                </a:lnTo>
                <a:lnTo>
                  <a:pt x="8124" y="836"/>
                </a:lnTo>
                <a:lnTo>
                  <a:pt x="8151" y="836"/>
                </a:lnTo>
                <a:lnTo>
                  <a:pt x="8450" y="897"/>
                </a:lnTo>
                <a:lnTo>
                  <a:pt x="8587" y="897"/>
                </a:lnTo>
                <a:lnTo>
                  <a:pt x="8724" y="864"/>
                </a:lnTo>
                <a:lnTo>
                  <a:pt x="8944" y="864"/>
                </a:lnTo>
                <a:lnTo>
                  <a:pt x="9160" y="836"/>
                </a:lnTo>
                <a:lnTo>
                  <a:pt x="9213" y="775"/>
                </a:lnTo>
                <a:lnTo>
                  <a:pt x="9270" y="712"/>
                </a:lnTo>
                <a:lnTo>
                  <a:pt x="9433" y="679"/>
                </a:lnTo>
                <a:lnTo>
                  <a:pt x="9596" y="679"/>
                </a:lnTo>
                <a:lnTo>
                  <a:pt x="9759" y="712"/>
                </a:lnTo>
                <a:lnTo>
                  <a:pt x="9896" y="712"/>
                </a:lnTo>
                <a:lnTo>
                  <a:pt x="10033" y="679"/>
                </a:lnTo>
                <a:lnTo>
                  <a:pt x="10112" y="618"/>
                </a:lnTo>
                <a:lnTo>
                  <a:pt x="10196" y="524"/>
                </a:lnTo>
                <a:lnTo>
                  <a:pt x="10169" y="462"/>
                </a:lnTo>
                <a:lnTo>
                  <a:pt x="10143" y="434"/>
                </a:lnTo>
                <a:lnTo>
                  <a:pt x="10112" y="401"/>
                </a:lnTo>
                <a:lnTo>
                  <a:pt x="10059" y="434"/>
                </a:lnTo>
                <a:lnTo>
                  <a:pt x="9980" y="462"/>
                </a:lnTo>
                <a:lnTo>
                  <a:pt x="9922" y="495"/>
                </a:lnTo>
                <a:lnTo>
                  <a:pt x="9896" y="495"/>
                </a:lnTo>
                <a:lnTo>
                  <a:pt x="9843" y="462"/>
                </a:lnTo>
                <a:lnTo>
                  <a:pt x="9733" y="462"/>
                </a:lnTo>
                <a:lnTo>
                  <a:pt x="9649" y="434"/>
                </a:lnTo>
                <a:lnTo>
                  <a:pt x="9570" y="401"/>
                </a:lnTo>
                <a:lnTo>
                  <a:pt x="9513" y="373"/>
                </a:lnTo>
                <a:lnTo>
                  <a:pt x="9433" y="307"/>
                </a:lnTo>
                <a:lnTo>
                  <a:pt x="9376" y="279"/>
                </a:lnTo>
                <a:lnTo>
                  <a:pt x="9349" y="246"/>
                </a:lnTo>
                <a:lnTo>
                  <a:pt x="8913" y="307"/>
                </a:lnTo>
                <a:lnTo>
                  <a:pt x="8508" y="373"/>
                </a:lnTo>
                <a:lnTo>
                  <a:pt x="8340" y="340"/>
                </a:lnTo>
                <a:lnTo>
                  <a:pt x="8177" y="340"/>
                </a:lnTo>
                <a:lnTo>
                  <a:pt x="8040" y="279"/>
                </a:lnTo>
                <a:lnTo>
                  <a:pt x="7908" y="216"/>
                </a:lnTo>
                <a:lnTo>
                  <a:pt x="7798" y="155"/>
                </a:lnTo>
                <a:lnTo>
                  <a:pt x="7714" y="94"/>
                </a:lnTo>
                <a:lnTo>
                  <a:pt x="7608" y="61"/>
                </a:lnTo>
                <a:lnTo>
                  <a:pt x="7578" y="32"/>
                </a:lnTo>
                <a:lnTo>
                  <a:pt x="7278" y="94"/>
                </a:lnTo>
                <a:lnTo>
                  <a:pt x="6978" y="155"/>
                </a:lnTo>
                <a:lnTo>
                  <a:pt x="6815" y="183"/>
                </a:lnTo>
                <a:lnTo>
                  <a:pt x="6652" y="122"/>
                </a:lnTo>
                <a:lnTo>
                  <a:pt x="6326" y="0"/>
                </a:lnTo>
                <a:lnTo>
                  <a:pt x="5942" y="61"/>
                </a:lnTo>
                <a:lnTo>
                  <a:pt x="5753" y="94"/>
                </a:lnTo>
                <a:lnTo>
                  <a:pt x="5563" y="155"/>
                </a:lnTo>
                <a:lnTo>
                  <a:pt x="5479" y="183"/>
                </a:lnTo>
                <a:lnTo>
                  <a:pt x="5369" y="216"/>
                </a:lnTo>
                <a:lnTo>
                  <a:pt x="5290" y="246"/>
                </a:lnTo>
                <a:lnTo>
                  <a:pt x="5263" y="246"/>
                </a:lnTo>
                <a:lnTo>
                  <a:pt x="5153" y="246"/>
                </a:lnTo>
                <a:lnTo>
                  <a:pt x="5016" y="216"/>
                </a:lnTo>
                <a:lnTo>
                  <a:pt x="4879" y="183"/>
                </a:lnTo>
                <a:lnTo>
                  <a:pt x="4826" y="155"/>
                </a:lnTo>
                <a:lnTo>
                  <a:pt x="4800" y="155"/>
                </a:lnTo>
                <a:lnTo>
                  <a:pt x="4663" y="183"/>
                </a:lnTo>
                <a:lnTo>
                  <a:pt x="4579" y="216"/>
                </a:lnTo>
                <a:lnTo>
                  <a:pt x="4469" y="216"/>
                </a:lnTo>
                <a:lnTo>
                  <a:pt x="4332" y="183"/>
                </a:lnTo>
                <a:lnTo>
                  <a:pt x="4279" y="155"/>
                </a:lnTo>
                <a:lnTo>
                  <a:pt x="4200" y="122"/>
                </a:lnTo>
                <a:lnTo>
                  <a:pt x="4143" y="94"/>
                </a:lnTo>
                <a:lnTo>
                  <a:pt x="4116" y="94"/>
                </a:lnTo>
                <a:lnTo>
                  <a:pt x="4033" y="122"/>
                </a:lnTo>
                <a:lnTo>
                  <a:pt x="3980" y="155"/>
                </a:lnTo>
                <a:lnTo>
                  <a:pt x="3927" y="183"/>
                </a:lnTo>
                <a:lnTo>
                  <a:pt x="3896" y="183"/>
                </a:lnTo>
                <a:lnTo>
                  <a:pt x="3817" y="155"/>
                </a:lnTo>
                <a:lnTo>
                  <a:pt x="3733" y="183"/>
                </a:lnTo>
                <a:lnTo>
                  <a:pt x="3706" y="216"/>
                </a:lnTo>
                <a:lnTo>
                  <a:pt x="3706" y="216"/>
                </a:lnTo>
                <a:lnTo>
                  <a:pt x="3764" y="216"/>
                </a:lnTo>
                <a:close/>
              </a:path>
            </a:pathLst>
          </a:custGeom>
          <a:solidFill>
            <a:srgbClr val="e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3719520" y="915840"/>
            <a:ext cx="1081440" cy="3275640"/>
            <a:chOff x="3719520" y="915840"/>
            <a:chExt cx="1081440" cy="3275640"/>
          </a:xfrm>
        </p:grpSpPr>
        <p:sp>
          <p:nvSpPr>
            <p:cNvPr id="356" name=""/>
            <p:cNvSpPr/>
            <p:nvPr/>
          </p:nvSpPr>
          <p:spPr>
            <a:xfrm>
              <a:off x="3819600" y="2590920"/>
              <a:ext cx="981360" cy="1600560"/>
            </a:xfrm>
            <a:custGeom>
              <a:avLst/>
              <a:gdLst/>
              <a:ahLst/>
              <a:rect l="0" t="0" r="r" b="b"/>
              <a:pathLst>
                <a:path w="2726" h="4446">
                  <a:moveTo>
                    <a:pt x="953" y="374"/>
                  </a:moveTo>
                  <a:lnTo>
                    <a:pt x="865" y="392"/>
                  </a:lnTo>
                  <a:lnTo>
                    <a:pt x="799" y="436"/>
                  </a:lnTo>
                  <a:lnTo>
                    <a:pt x="672" y="582"/>
                  </a:lnTo>
                  <a:lnTo>
                    <a:pt x="540" y="723"/>
                  </a:lnTo>
                  <a:lnTo>
                    <a:pt x="391" y="851"/>
                  </a:lnTo>
                  <a:lnTo>
                    <a:pt x="369" y="890"/>
                  </a:lnTo>
                  <a:lnTo>
                    <a:pt x="347" y="930"/>
                  </a:lnTo>
                  <a:lnTo>
                    <a:pt x="347" y="930"/>
                  </a:lnTo>
                  <a:lnTo>
                    <a:pt x="369" y="930"/>
                  </a:lnTo>
                  <a:lnTo>
                    <a:pt x="153" y="1553"/>
                  </a:lnTo>
                  <a:lnTo>
                    <a:pt x="0" y="4345"/>
                  </a:lnTo>
                  <a:lnTo>
                    <a:pt x="2726" y="4446"/>
                  </a:lnTo>
                  <a:lnTo>
                    <a:pt x="2317" y="1844"/>
                  </a:lnTo>
                  <a:lnTo>
                    <a:pt x="2119" y="414"/>
                  </a:lnTo>
                  <a:lnTo>
                    <a:pt x="1385" y="0"/>
                  </a:lnTo>
                  <a:lnTo>
                    <a:pt x="953" y="374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3719520" y="915840"/>
              <a:ext cx="1005120" cy="1818000"/>
              <a:chOff x="3719520" y="915840"/>
              <a:chExt cx="1005120" cy="1818000"/>
            </a:xfrm>
          </p:grpSpPr>
          <p:sp>
            <p:nvSpPr>
              <p:cNvPr id="358" name=""/>
              <p:cNvSpPr/>
              <p:nvPr/>
            </p:nvSpPr>
            <p:spPr>
              <a:xfrm>
                <a:off x="3828960" y="1152360"/>
                <a:ext cx="895680" cy="1581480"/>
              </a:xfrm>
              <a:custGeom>
                <a:avLst/>
                <a:gdLst/>
                <a:ahLst/>
                <a:rect l="0" t="0" r="r" b="b"/>
                <a:pathLst>
                  <a:path w="2488" h="4393">
                    <a:moveTo>
                      <a:pt x="582" y="0"/>
                    </a:moveTo>
                    <a:lnTo>
                      <a:pt x="264" y="264"/>
                    </a:lnTo>
                    <a:lnTo>
                      <a:pt x="79" y="687"/>
                    </a:lnTo>
                    <a:lnTo>
                      <a:pt x="26" y="1217"/>
                    </a:lnTo>
                    <a:lnTo>
                      <a:pt x="0" y="2699"/>
                    </a:lnTo>
                    <a:lnTo>
                      <a:pt x="52" y="3546"/>
                    </a:lnTo>
                    <a:lnTo>
                      <a:pt x="820" y="3599"/>
                    </a:lnTo>
                    <a:lnTo>
                      <a:pt x="926" y="4075"/>
                    </a:lnTo>
                    <a:lnTo>
                      <a:pt x="1031" y="4393"/>
                    </a:lnTo>
                    <a:lnTo>
                      <a:pt x="1271" y="4393"/>
                    </a:lnTo>
                    <a:lnTo>
                      <a:pt x="1403" y="4102"/>
                    </a:lnTo>
                    <a:lnTo>
                      <a:pt x="1323" y="3599"/>
                    </a:lnTo>
                    <a:lnTo>
                      <a:pt x="2038" y="3519"/>
                    </a:lnTo>
                    <a:lnTo>
                      <a:pt x="2064" y="3017"/>
                    </a:lnTo>
                    <a:lnTo>
                      <a:pt x="2223" y="3096"/>
                    </a:lnTo>
                    <a:lnTo>
                      <a:pt x="2382" y="3043"/>
                    </a:lnTo>
                    <a:lnTo>
                      <a:pt x="2488" y="2620"/>
                    </a:lnTo>
                    <a:lnTo>
                      <a:pt x="2355" y="2408"/>
                    </a:lnTo>
                    <a:lnTo>
                      <a:pt x="2197" y="2435"/>
                    </a:lnTo>
                    <a:lnTo>
                      <a:pt x="2355" y="185"/>
                    </a:lnTo>
                    <a:lnTo>
                      <a:pt x="582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719520" y="1595520"/>
                <a:ext cx="409680" cy="4096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071960" y="1557360"/>
                <a:ext cx="485640" cy="4856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262400" y="1757520"/>
                <a:ext cx="85680" cy="85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4560" bIns="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852720" y="1766880"/>
                <a:ext cx="85680" cy="85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4560" bIns="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059360" y="944640"/>
                <a:ext cx="7920" cy="217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4173480" y="925560"/>
                <a:ext cx="17640" cy="217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4335480" y="915840"/>
                <a:ext cx="36360" cy="227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4497480" y="963720"/>
                <a:ext cx="55440" cy="198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4640400" y="992160"/>
                <a:ext cx="55440" cy="179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819600" y="2104920"/>
                <a:ext cx="657720" cy="257400"/>
              </a:xfrm>
              <a:custGeom>
                <a:avLst/>
                <a:gdLst/>
                <a:ahLst/>
                <a:rect l="0" t="0" r="r" b="b"/>
                <a:pathLst>
                  <a:path w="1827" h="715">
                    <a:moveTo>
                      <a:pt x="0" y="0"/>
                    </a:moveTo>
                    <a:lnTo>
                      <a:pt x="1827" y="163"/>
                    </a:lnTo>
                    <a:lnTo>
                      <a:pt x="746" y="7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4114800" y="2600280"/>
              <a:ext cx="305280" cy="181440"/>
            </a:xfrm>
            <a:custGeom>
              <a:avLst/>
              <a:gdLst/>
              <a:ahLst/>
              <a:rect l="0" t="0" r="r" b="b"/>
              <a:pathLst>
                <a:path w="848" h="504">
                  <a:moveTo>
                    <a:pt x="0" y="344"/>
                  </a:moveTo>
                  <a:lnTo>
                    <a:pt x="239" y="478"/>
                  </a:lnTo>
                  <a:lnTo>
                    <a:pt x="663" y="504"/>
                  </a:lnTo>
                  <a:lnTo>
                    <a:pt x="848" y="265"/>
                  </a:lnTo>
                  <a:lnTo>
                    <a:pt x="848" y="79"/>
                  </a:lnTo>
                  <a:lnTo>
                    <a:pt x="663" y="0"/>
                  </a:lnTo>
                  <a:lnTo>
                    <a:pt x="477" y="265"/>
                  </a:lnTo>
                  <a:lnTo>
                    <a:pt x="185" y="292"/>
                  </a:lnTo>
                  <a:lnTo>
                    <a:pt x="0" y="344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4124160" y="3548160"/>
            <a:ext cx="276480" cy="562320"/>
          </a:xfrm>
          <a:custGeom>
            <a:avLst/>
            <a:gdLst/>
            <a:ahLst/>
            <a:rect l="0" t="0" r="r" b="b"/>
            <a:pathLst>
              <a:path w="768" h="1562">
                <a:moveTo>
                  <a:pt x="196" y="62"/>
                </a:moveTo>
                <a:lnTo>
                  <a:pt x="235" y="22"/>
                </a:lnTo>
                <a:lnTo>
                  <a:pt x="274" y="0"/>
                </a:lnTo>
                <a:lnTo>
                  <a:pt x="313" y="22"/>
                </a:lnTo>
                <a:lnTo>
                  <a:pt x="374" y="40"/>
                </a:lnTo>
                <a:lnTo>
                  <a:pt x="471" y="0"/>
                </a:lnTo>
                <a:lnTo>
                  <a:pt x="511" y="0"/>
                </a:lnTo>
                <a:lnTo>
                  <a:pt x="572" y="0"/>
                </a:lnTo>
                <a:lnTo>
                  <a:pt x="572" y="62"/>
                </a:lnTo>
                <a:lnTo>
                  <a:pt x="572" y="80"/>
                </a:lnTo>
                <a:lnTo>
                  <a:pt x="511" y="142"/>
                </a:lnTo>
                <a:lnTo>
                  <a:pt x="532" y="227"/>
                </a:lnTo>
                <a:lnTo>
                  <a:pt x="532" y="289"/>
                </a:lnTo>
                <a:lnTo>
                  <a:pt x="572" y="330"/>
                </a:lnTo>
                <a:lnTo>
                  <a:pt x="611" y="392"/>
                </a:lnTo>
                <a:lnTo>
                  <a:pt x="589" y="535"/>
                </a:lnTo>
                <a:lnTo>
                  <a:pt x="550" y="637"/>
                </a:lnTo>
                <a:lnTo>
                  <a:pt x="589" y="700"/>
                </a:lnTo>
                <a:lnTo>
                  <a:pt x="650" y="780"/>
                </a:lnTo>
                <a:lnTo>
                  <a:pt x="707" y="861"/>
                </a:lnTo>
                <a:lnTo>
                  <a:pt x="729" y="924"/>
                </a:lnTo>
                <a:lnTo>
                  <a:pt x="746" y="986"/>
                </a:lnTo>
                <a:lnTo>
                  <a:pt x="768" y="1026"/>
                </a:lnTo>
                <a:lnTo>
                  <a:pt x="768" y="1026"/>
                </a:lnTo>
                <a:lnTo>
                  <a:pt x="746" y="1174"/>
                </a:lnTo>
                <a:lnTo>
                  <a:pt x="729" y="1294"/>
                </a:lnTo>
                <a:lnTo>
                  <a:pt x="707" y="1419"/>
                </a:lnTo>
                <a:lnTo>
                  <a:pt x="668" y="1562"/>
                </a:lnTo>
                <a:lnTo>
                  <a:pt x="668" y="1521"/>
                </a:lnTo>
                <a:lnTo>
                  <a:pt x="668" y="1481"/>
                </a:lnTo>
                <a:lnTo>
                  <a:pt x="689" y="1437"/>
                </a:lnTo>
                <a:lnTo>
                  <a:pt x="689" y="1419"/>
                </a:lnTo>
                <a:lnTo>
                  <a:pt x="668" y="1356"/>
                </a:lnTo>
                <a:lnTo>
                  <a:pt x="650" y="1276"/>
                </a:lnTo>
                <a:lnTo>
                  <a:pt x="668" y="1214"/>
                </a:lnTo>
                <a:lnTo>
                  <a:pt x="689" y="1191"/>
                </a:lnTo>
                <a:lnTo>
                  <a:pt x="689" y="1174"/>
                </a:lnTo>
                <a:lnTo>
                  <a:pt x="668" y="1049"/>
                </a:lnTo>
                <a:lnTo>
                  <a:pt x="628" y="986"/>
                </a:lnTo>
                <a:lnTo>
                  <a:pt x="589" y="946"/>
                </a:lnTo>
                <a:lnTo>
                  <a:pt x="550" y="884"/>
                </a:lnTo>
                <a:lnTo>
                  <a:pt x="511" y="821"/>
                </a:lnTo>
                <a:lnTo>
                  <a:pt x="471" y="861"/>
                </a:lnTo>
                <a:lnTo>
                  <a:pt x="432" y="884"/>
                </a:lnTo>
                <a:lnTo>
                  <a:pt x="393" y="906"/>
                </a:lnTo>
                <a:lnTo>
                  <a:pt x="374" y="924"/>
                </a:lnTo>
                <a:lnTo>
                  <a:pt x="353" y="924"/>
                </a:lnTo>
                <a:lnTo>
                  <a:pt x="353" y="843"/>
                </a:lnTo>
                <a:lnTo>
                  <a:pt x="353" y="821"/>
                </a:lnTo>
                <a:lnTo>
                  <a:pt x="353" y="803"/>
                </a:lnTo>
                <a:lnTo>
                  <a:pt x="374" y="758"/>
                </a:lnTo>
                <a:lnTo>
                  <a:pt x="393" y="718"/>
                </a:lnTo>
                <a:lnTo>
                  <a:pt x="393" y="718"/>
                </a:lnTo>
                <a:lnTo>
                  <a:pt x="393" y="740"/>
                </a:lnTo>
                <a:lnTo>
                  <a:pt x="393" y="758"/>
                </a:lnTo>
                <a:lnTo>
                  <a:pt x="374" y="780"/>
                </a:lnTo>
                <a:lnTo>
                  <a:pt x="335" y="758"/>
                </a:lnTo>
                <a:lnTo>
                  <a:pt x="313" y="740"/>
                </a:lnTo>
                <a:lnTo>
                  <a:pt x="296" y="740"/>
                </a:lnTo>
                <a:lnTo>
                  <a:pt x="274" y="758"/>
                </a:lnTo>
                <a:lnTo>
                  <a:pt x="257" y="780"/>
                </a:lnTo>
                <a:lnTo>
                  <a:pt x="196" y="718"/>
                </a:lnTo>
                <a:lnTo>
                  <a:pt x="178" y="780"/>
                </a:lnTo>
                <a:lnTo>
                  <a:pt x="156" y="803"/>
                </a:lnTo>
                <a:lnTo>
                  <a:pt x="117" y="780"/>
                </a:lnTo>
                <a:lnTo>
                  <a:pt x="39" y="758"/>
                </a:lnTo>
                <a:lnTo>
                  <a:pt x="17" y="740"/>
                </a:lnTo>
                <a:lnTo>
                  <a:pt x="0" y="700"/>
                </a:lnTo>
                <a:lnTo>
                  <a:pt x="17" y="677"/>
                </a:lnTo>
                <a:lnTo>
                  <a:pt x="39" y="677"/>
                </a:lnTo>
                <a:lnTo>
                  <a:pt x="117" y="700"/>
                </a:lnTo>
                <a:lnTo>
                  <a:pt x="196" y="718"/>
                </a:lnTo>
                <a:lnTo>
                  <a:pt x="196" y="718"/>
                </a:lnTo>
                <a:lnTo>
                  <a:pt x="178" y="700"/>
                </a:lnTo>
                <a:lnTo>
                  <a:pt x="156" y="677"/>
                </a:lnTo>
                <a:lnTo>
                  <a:pt x="139" y="655"/>
                </a:lnTo>
                <a:lnTo>
                  <a:pt x="139" y="637"/>
                </a:lnTo>
                <a:lnTo>
                  <a:pt x="139" y="597"/>
                </a:lnTo>
                <a:lnTo>
                  <a:pt x="156" y="553"/>
                </a:lnTo>
                <a:lnTo>
                  <a:pt x="178" y="535"/>
                </a:lnTo>
                <a:lnTo>
                  <a:pt x="178" y="472"/>
                </a:lnTo>
                <a:lnTo>
                  <a:pt x="178" y="410"/>
                </a:lnTo>
                <a:lnTo>
                  <a:pt x="178" y="267"/>
                </a:lnTo>
                <a:lnTo>
                  <a:pt x="139" y="227"/>
                </a:lnTo>
                <a:lnTo>
                  <a:pt x="117" y="205"/>
                </a:lnTo>
                <a:lnTo>
                  <a:pt x="117" y="182"/>
                </a:lnTo>
                <a:lnTo>
                  <a:pt x="139" y="165"/>
                </a:lnTo>
                <a:lnTo>
                  <a:pt x="156" y="142"/>
                </a:lnTo>
                <a:lnTo>
                  <a:pt x="156" y="124"/>
                </a:lnTo>
                <a:lnTo>
                  <a:pt x="196" y="62"/>
                </a:lnTo>
                <a:close/>
              </a:path>
            </a:pathLst>
          </a:custGeom>
          <a:solidFill>
            <a:srgbClr val="e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3943440" y="3200400"/>
            <a:ext cx="755640" cy="1740240"/>
            <a:chOff x="3943440" y="3200400"/>
            <a:chExt cx="755640" cy="1740240"/>
          </a:xfrm>
        </p:grpSpPr>
        <p:sp>
          <p:nvSpPr>
            <p:cNvPr id="372" name=""/>
            <p:cNvSpPr/>
            <p:nvPr/>
          </p:nvSpPr>
          <p:spPr>
            <a:xfrm>
              <a:off x="4341960" y="3301920"/>
              <a:ext cx="174960" cy="165600"/>
            </a:xfrm>
            <a:custGeom>
              <a:avLst/>
              <a:gdLst/>
              <a:ahLst/>
              <a:rect l="0" t="0" r="r" b="b"/>
              <a:pathLst>
                <a:path w="486" h="460">
                  <a:moveTo>
                    <a:pt x="100" y="271"/>
                  </a:moveTo>
                  <a:lnTo>
                    <a:pt x="100" y="189"/>
                  </a:lnTo>
                  <a:lnTo>
                    <a:pt x="150" y="102"/>
                  </a:lnTo>
                  <a:lnTo>
                    <a:pt x="257" y="51"/>
                  </a:lnTo>
                  <a:lnTo>
                    <a:pt x="357" y="0"/>
                  </a:lnTo>
                  <a:lnTo>
                    <a:pt x="413" y="34"/>
                  </a:lnTo>
                  <a:lnTo>
                    <a:pt x="486" y="85"/>
                  </a:lnTo>
                  <a:lnTo>
                    <a:pt x="486" y="121"/>
                  </a:lnTo>
                  <a:lnTo>
                    <a:pt x="486" y="121"/>
                  </a:lnTo>
                  <a:lnTo>
                    <a:pt x="435" y="121"/>
                  </a:lnTo>
                  <a:lnTo>
                    <a:pt x="335" y="172"/>
                  </a:lnTo>
                  <a:lnTo>
                    <a:pt x="228" y="241"/>
                  </a:lnTo>
                  <a:lnTo>
                    <a:pt x="206" y="322"/>
                  </a:lnTo>
                  <a:lnTo>
                    <a:pt x="206" y="357"/>
                  </a:lnTo>
                  <a:lnTo>
                    <a:pt x="178" y="392"/>
                  </a:lnTo>
                  <a:lnTo>
                    <a:pt x="150" y="426"/>
                  </a:lnTo>
                  <a:lnTo>
                    <a:pt x="100" y="443"/>
                  </a:lnTo>
                  <a:lnTo>
                    <a:pt x="72" y="460"/>
                  </a:lnTo>
                  <a:lnTo>
                    <a:pt x="50" y="460"/>
                  </a:lnTo>
                  <a:lnTo>
                    <a:pt x="0" y="426"/>
                  </a:lnTo>
                  <a:lnTo>
                    <a:pt x="0" y="392"/>
                  </a:lnTo>
                  <a:lnTo>
                    <a:pt x="22" y="374"/>
                  </a:lnTo>
                  <a:lnTo>
                    <a:pt x="50" y="305"/>
                  </a:lnTo>
                  <a:lnTo>
                    <a:pt x="72" y="288"/>
                  </a:lnTo>
                  <a:lnTo>
                    <a:pt x="100" y="288"/>
                  </a:lnTo>
                  <a:lnTo>
                    <a:pt x="100" y="271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943440" y="3473280"/>
              <a:ext cx="201960" cy="267120"/>
            </a:xfrm>
            <a:custGeom>
              <a:avLst/>
              <a:gdLst/>
              <a:ahLst/>
              <a:rect l="0" t="0" r="r" b="b"/>
              <a:pathLst>
                <a:path w="561" h="742">
                  <a:moveTo>
                    <a:pt x="424" y="581"/>
                  </a:moveTo>
                  <a:lnTo>
                    <a:pt x="315" y="442"/>
                  </a:lnTo>
                  <a:lnTo>
                    <a:pt x="204" y="281"/>
                  </a:lnTo>
                  <a:lnTo>
                    <a:pt x="204" y="200"/>
                  </a:lnTo>
                  <a:lnTo>
                    <a:pt x="204" y="118"/>
                  </a:lnTo>
                  <a:lnTo>
                    <a:pt x="245" y="56"/>
                  </a:lnTo>
                  <a:lnTo>
                    <a:pt x="315" y="0"/>
                  </a:lnTo>
                  <a:lnTo>
                    <a:pt x="335" y="37"/>
                  </a:lnTo>
                  <a:lnTo>
                    <a:pt x="383" y="56"/>
                  </a:lnTo>
                  <a:lnTo>
                    <a:pt x="404" y="99"/>
                  </a:lnTo>
                  <a:lnTo>
                    <a:pt x="404" y="118"/>
                  </a:lnTo>
                  <a:lnTo>
                    <a:pt x="294" y="161"/>
                  </a:lnTo>
                  <a:lnTo>
                    <a:pt x="177" y="200"/>
                  </a:lnTo>
                  <a:lnTo>
                    <a:pt x="225" y="219"/>
                  </a:lnTo>
                  <a:lnTo>
                    <a:pt x="245" y="219"/>
                  </a:lnTo>
                  <a:lnTo>
                    <a:pt x="294" y="219"/>
                  </a:lnTo>
                  <a:lnTo>
                    <a:pt x="315" y="219"/>
                  </a:lnTo>
                  <a:lnTo>
                    <a:pt x="356" y="243"/>
                  </a:lnTo>
                  <a:lnTo>
                    <a:pt x="445" y="262"/>
                  </a:lnTo>
                  <a:lnTo>
                    <a:pt x="472" y="281"/>
                  </a:lnTo>
                  <a:lnTo>
                    <a:pt x="492" y="281"/>
                  </a:lnTo>
                  <a:lnTo>
                    <a:pt x="534" y="361"/>
                  </a:lnTo>
                  <a:lnTo>
                    <a:pt x="561" y="442"/>
                  </a:lnTo>
                  <a:lnTo>
                    <a:pt x="534" y="504"/>
                  </a:lnTo>
                  <a:lnTo>
                    <a:pt x="492" y="542"/>
                  </a:lnTo>
                  <a:lnTo>
                    <a:pt x="356" y="605"/>
                  </a:lnTo>
                  <a:lnTo>
                    <a:pt x="204" y="643"/>
                  </a:lnTo>
                  <a:lnTo>
                    <a:pt x="157" y="685"/>
                  </a:lnTo>
                  <a:lnTo>
                    <a:pt x="88" y="723"/>
                  </a:lnTo>
                  <a:lnTo>
                    <a:pt x="47" y="742"/>
                  </a:lnTo>
                  <a:lnTo>
                    <a:pt x="26" y="723"/>
                  </a:lnTo>
                  <a:lnTo>
                    <a:pt x="0" y="685"/>
                  </a:lnTo>
                  <a:lnTo>
                    <a:pt x="88" y="643"/>
                  </a:lnTo>
                  <a:lnTo>
                    <a:pt x="157" y="643"/>
                  </a:lnTo>
                  <a:lnTo>
                    <a:pt x="225" y="624"/>
                  </a:lnTo>
                  <a:lnTo>
                    <a:pt x="315" y="581"/>
                  </a:lnTo>
                  <a:lnTo>
                    <a:pt x="356" y="542"/>
                  </a:lnTo>
                  <a:lnTo>
                    <a:pt x="356" y="523"/>
                  </a:lnTo>
                  <a:lnTo>
                    <a:pt x="383" y="542"/>
                  </a:lnTo>
                  <a:lnTo>
                    <a:pt x="424" y="581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019400" y="3970440"/>
              <a:ext cx="297360" cy="111600"/>
            </a:xfrm>
            <a:custGeom>
              <a:avLst/>
              <a:gdLst/>
              <a:ahLst/>
              <a:rect l="0" t="0" r="r" b="b"/>
              <a:pathLst>
                <a:path w="826" h="310">
                  <a:moveTo>
                    <a:pt x="625" y="67"/>
                  </a:moveTo>
                  <a:lnTo>
                    <a:pt x="559" y="136"/>
                  </a:lnTo>
                  <a:lnTo>
                    <a:pt x="513" y="174"/>
                  </a:lnTo>
                  <a:lnTo>
                    <a:pt x="468" y="106"/>
                  </a:lnTo>
                  <a:lnTo>
                    <a:pt x="403" y="37"/>
                  </a:lnTo>
                  <a:lnTo>
                    <a:pt x="201" y="106"/>
                  </a:lnTo>
                  <a:lnTo>
                    <a:pt x="0" y="211"/>
                  </a:lnTo>
                  <a:lnTo>
                    <a:pt x="20" y="310"/>
                  </a:lnTo>
                  <a:lnTo>
                    <a:pt x="90" y="310"/>
                  </a:lnTo>
                  <a:lnTo>
                    <a:pt x="247" y="310"/>
                  </a:lnTo>
                  <a:lnTo>
                    <a:pt x="267" y="280"/>
                  </a:lnTo>
                  <a:lnTo>
                    <a:pt x="332" y="242"/>
                  </a:lnTo>
                  <a:lnTo>
                    <a:pt x="378" y="211"/>
                  </a:lnTo>
                  <a:lnTo>
                    <a:pt x="403" y="211"/>
                  </a:lnTo>
                  <a:lnTo>
                    <a:pt x="448" y="242"/>
                  </a:lnTo>
                  <a:lnTo>
                    <a:pt x="513" y="280"/>
                  </a:lnTo>
                  <a:lnTo>
                    <a:pt x="559" y="310"/>
                  </a:lnTo>
                  <a:lnTo>
                    <a:pt x="579" y="310"/>
                  </a:lnTo>
                  <a:lnTo>
                    <a:pt x="645" y="310"/>
                  </a:lnTo>
                  <a:lnTo>
                    <a:pt x="715" y="280"/>
                  </a:lnTo>
                  <a:lnTo>
                    <a:pt x="736" y="211"/>
                  </a:lnTo>
                  <a:lnTo>
                    <a:pt x="801" y="67"/>
                  </a:lnTo>
                  <a:lnTo>
                    <a:pt x="826" y="37"/>
                  </a:lnTo>
                  <a:lnTo>
                    <a:pt x="826" y="0"/>
                  </a:lnTo>
                  <a:lnTo>
                    <a:pt x="801" y="37"/>
                  </a:lnTo>
                  <a:lnTo>
                    <a:pt x="761" y="67"/>
                  </a:lnTo>
                  <a:lnTo>
                    <a:pt x="715" y="174"/>
                  </a:lnTo>
                  <a:lnTo>
                    <a:pt x="670" y="242"/>
                  </a:lnTo>
                  <a:lnTo>
                    <a:pt x="645" y="242"/>
                  </a:lnTo>
                  <a:lnTo>
                    <a:pt x="625" y="242"/>
                  </a:lnTo>
                  <a:lnTo>
                    <a:pt x="625" y="174"/>
                  </a:lnTo>
                  <a:lnTo>
                    <a:pt x="625" y="67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008600" y="3200400"/>
              <a:ext cx="279720" cy="230400"/>
            </a:xfrm>
            <a:custGeom>
              <a:avLst/>
              <a:gdLst/>
              <a:ahLst/>
              <a:rect l="0" t="0" r="r" b="b"/>
              <a:pathLst>
                <a:path w="777" h="640">
                  <a:moveTo>
                    <a:pt x="648" y="604"/>
                  </a:moveTo>
                  <a:lnTo>
                    <a:pt x="629" y="427"/>
                  </a:lnTo>
                  <a:lnTo>
                    <a:pt x="629" y="267"/>
                  </a:lnTo>
                  <a:lnTo>
                    <a:pt x="629" y="194"/>
                  </a:lnTo>
                  <a:lnTo>
                    <a:pt x="586" y="122"/>
                  </a:lnTo>
                  <a:lnTo>
                    <a:pt x="543" y="54"/>
                  </a:lnTo>
                  <a:lnTo>
                    <a:pt x="462" y="0"/>
                  </a:lnTo>
                  <a:lnTo>
                    <a:pt x="481" y="122"/>
                  </a:lnTo>
                  <a:lnTo>
                    <a:pt x="524" y="176"/>
                  </a:lnTo>
                  <a:lnTo>
                    <a:pt x="567" y="249"/>
                  </a:lnTo>
                  <a:lnTo>
                    <a:pt x="396" y="336"/>
                  </a:lnTo>
                  <a:lnTo>
                    <a:pt x="228" y="390"/>
                  </a:lnTo>
                  <a:lnTo>
                    <a:pt x="185" y="372"/>
                  </a:lnTo>
                  <a:lnTo>
                    <a:pt x="147" y="354"/>
                  </a:lnTo>
                  <a:lnTo>
                    <a:pt x="104" y="322"/>
                  </a:lnTo>
                  <a:lnTo>
                    <a:pt x="42" y="267"/>
                  </a:lnTo>
                  <a:lnTo>
                    <a:pt x="19" y="213"/>
                  </a:lnTo>
                  <a:lnTo>
                    <a:pt x="0" y="194"/>
                  </a:lnTo>
                  <a:lnTo>
                    <a:pt x="0" y="267"/>
                  </a:lnTo>
                  <a:lnTo>
                    <a:pt x="19" y="303"/>
                  </a:lnTo>
                  <a:lnTo>
                    <a:pt x="80" y="372"/>
                  </a:lnTo>
                  <a:lnTo>
                    <a:pt x="185" y="390"/>
                  </a:lnTo>
                  <a:lnTo>
                    <a:pt x="314" y="409"/>
                  </a:lnTo>
                  <a:lnTo>
                    <a:pt x="357" y="427"/>
                  </a:lnTo>
                  <a:lnTo>
                    <a:pt x="376" y="445"/>
                  </a:lnTo>
                  <a:lnTo>
                    <a:pt x="420" y="481"/>
                  </a:lnTo>
                  <a:lnTo>
                    <a:pt x="439" y="517"/>
                  </a:lnTo>
                  <a:lnTo>
                    <a:pt x="462" y="549"/>
                  </a:lnTo>
                  <a:lnTo>
                    <a:pt x="500" y="567"/>
                  </a:lnTo>
                  <a:lnTo>
                    <a:pt x="567" y="517"/>
                  </a:lnTo>
                  <a:lnTo>
                    <a:pt x="586" y="481"/>
                  </a:lnTo>
                  <a:lnTo>
                    <a:pt x="605" y="427"/>
                  </a:lnTo>
                  <a:lnTo>
                    <a:pt x="629" y="354"/>
                  </a:lnTo>
                  <a:lnTo>
                    <a:pt x="605" y="322"/>
                  </a:lnTo>
                  <a:lnTo>
                    <a:pt x="605" y="322"/>
                  </a:lnTo>
                  <a:lnTo>
                    <a:pt x="586" y="336"/>
                  </a:lnTo>
                  <a:lnTo>
                    <a:pt x="543" y="372"/>
                  </a:lnTo>
                  <a:lnTo>
                    <a:pt x="524" y="427"/>
                  </a:lnTo>
                  <a:lnTo>
                    <a:pt x="605" y="517"/>
                  </a:lnTo>
                  <a:lnTo>
                    <a:pt x="648" y="536"/>
                  </a:lnTo>
                  <a:lnTo>
                    <a:pt x="691" y="549"/>
                  </a:lnTo>
                  <a:lnTo>
                    <a:pt x="710" y="567"/>
                  </a:lnTo>
                  <a:lnTo>
                    <a:pt x="753" y="585"/>
                  </a:lnTo>
                  <a:lnTo>
                    <a:pt x="777" y="585"/>
                  </a:lnTo>
                  <a:lnTo>
                    <a:pt x="777" y="604"/>
                  </a:lnTo>
                  <a:lnTo>
                    <a:pt x="734" y="622"/>
                  </a:lnTo>
                  <a:lnTo>
                    <a:pt x="691" y="622"/>
                  </a:lnTo>
                  <a:lnTo>
                    <a:pt x="586" y="622"/>
                  </a:lnTo>
                  <a:lnTo>
                    <a:pt x="586" y="640"/>
                  </a:lnTo>
                  <a:lnTo>
                    <a:pt x="567" y="640"/>
                  </a:lnTo>
                  <a:lnTo>
                    <a:pt x="543" y="640"/>
                  </a:lnTo>
                  <a:lnTo>
                    <a:pt x="543" y="640"/>
                  </a:lnTo>
                  <a:lnTo>
                    <a:pt x="605" y="622"/>
                  </a:lnTo>
                  <a:lnTo>
                    <a:pt x="648" y="604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06800" y="4343400"/>
              <a:ext cx="133560" cy="322560"/>
            </a:xfrm>
            <a:custGeom>
              <a:avLst/>
              <a:gdLst/>
              <a:ahLst/>
              <a:rect l="0" t="0" r="r" b="b"/>
              <a:pathLst>
                <a:path w="371" h="896">
                  <a:moveTo>
                    <a:pt x="186" y="22"/>
                  </a:moveTo>
                  <a:lnTo>
                    <a:pt x="165" y="114"/>
                  </a:lnTo>
                  <a:lnTo>
                    <a:pt x="121" y="187"/>
                  </a:lnTo>
                  <a:lnTo>
                    <a:pt x="63" y="397"/>
                  </a:lnTo>
                  <a:lnTo>
                    <a:pt x="0" y="613"/>
                  </a:lnTo>
                  <a:lnTo>
                    <a:pt x="19" y="681"/>
                  </a:lnTo>
                  <a:lnTo>
                    <a:pt x="63" y="731"/>
                  </a:lnTo>
                  <a:lnTo>
                    <a:pt x="102" y="777"/>
                  </a:lnTo>
                  <a:lnTo>
                    <a:pt x="165" y="823"/>
                  </a:lnTo>
                  <a:lnTo>
                    <a:pt x="230" y="850"/>
                  </a:lnTo>
                  <a:lnTo>
                    <a:pt x="269" y="850"/>
                  </a:lnTo>
                  <a:lnTo>
                    <a:pt x="269" y="873"/>
                  </a:lnTo>
                  <a:lnTo>
                    <a:pt x="269" y="896"/>
                  </a:lnTo>
                  <a:lnTo>
                    <a:pt x="230" y="896"/>
                  </a:lnTo>
                  <a:lnTo>
                    <a:pt x="165" y="873"/>
                  </a:lnTo>
                  <a:lnTo>
                    <a:pt x="165" y="658"/>
                  </a:lnTo>
                  <a:lnTo>
                    <a:pt x="146" y="635"/>
                  </a:lnTo>
                  <a:lnTo>
                    <a:pt x="146" y="613"/>
                  </a:lnTo>
                  <a:lnTo>
                    <a:pt x="186" y="590"/>
                  </a:lnTo>
                  <a:lnTo>
                    <a:pt x="249" y="539"/>
                  </a:lnTo>
                  <a:lnTo>
                    <a:pt x="312" y="517"/>
                  </a:lnTo>
                  <a:lnTo>
                    <a:pt x="351" y="517"/>
                  </a:lnTo>
                  <a:lnTo>
                    <a:pt x="371" y="471"/>
                  </a:lnTo>
                  <a:lnTo>
                    <a:pt x="371" y="424"/>
                  </a:lnTo>
                  <a:lnTo>
                    <a:pt x="351" y="397"/>
                  </a:lnTo>
                  <a:lnTo>
                    <a:pt x="288" y="374"/>
                  </a:lnTo>
                  <a:lnTo>
                    <a:pt x="249" y="397"/>
                  </a:lnTo>
                  <a:lnTo>
                    <a:pt x="230" y="447"/>
                  </a:lnTo>
                  <a:lnTo>
                    <a:pt x="186" y="517"/>
                  </a:lnTo>
                  <a:lnTo>
                    <a:pt x="121" y="447"/>
                  </a:lnTo>
                  <a:lnTo>
                    <a:pt x="102" y="424"/>
                  </a:lnTo>
                  <a:lnTo>
                    <a:pt x="146" y="374"/>
                  </a:lnTo>
                  <a:lnTo>
                    <a:pt x="205" y="328"/>
                  </a:lnTo>
                  <a:lnTo>
                    <a:pt x="230" y="306"/>
                  </a:lnTo>
                  <a:lnTo>
                    <a:pt x="249" y="283"/>
                  </a:lnTo>
                  <a:lnTo>
                    <a:pt x="332" y="0"/>
                  </a:lnTo>
                  <a:lnTo>
                    <a:pt x="312" y="45"/>
                  </a:lnTo>
                  <a:lnTo>
                    <a:pt x="249" y="91"/>
                  </a:lnTo>
                  <a:lnTo>
                    <a:pt x="205" y="91"/>
                  </a:lnTo>
                  <a:lnTo>
                    <a:pt x="186" y="68"/>
                  </a:lnTo>
                  <a:lnTo>
                    <a:pt x="186" y="22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375080" y="4705200"/>
              <a:ext cx="105120" cy="235440"/>
            </a:xfrm>
            <a:custGeom>
              <a:avLst/>
              <a:gdLst/>
              <a:ahLst/>
              <a:rect l="0" t="0" r="r" b="b"/>
              <a:pathLst>
                <a:path w="292" h="654">
                  <a:moveTo>
                    <a:pt x="145" y="97"/>
                  </a:moveTo>
                  <a:lnTo>
                    <a:pt x="104" y="169"/>
                  </a:lnTo>
                  <a:lnTo>
                    <a:pt x="81" y="218"/>
                  </a:lnTo>
                  <a:lnTo>
                    <a:pt x="63" y="267"/>
                  </a:lnTo>
                  <a:lnTo>
                    <a:pt x="40" y="338"/>
                  </a:lnTo>
                  <a:lnTo>
                    <a:pt x="22" y="387"/>
                  </a:lnTo>
                  <a:lnTo>
                    <a:pt x="0" y="436"/>
                  </a:lnTo>
                  <a:lnTo>
                    <a:pt x="0" y="436"/>
                  </a:lnTo>
                  <a:lnTo>
                    <a:pt x="40" y="508"/>
                  </a:lnTo>
                  <a:lnTo>
                    <a:pt x="81" y="583"/>
                  </a:lnTo>
                  <a:lnTo>
                    <a:pt x="210" y="654"/>
                  </a:lnTo>
                  <a:lnTo>
                    <a:pt x="169" y="605"/>
                  </a:lnTo>
                  <a:lnTo>
                    <a:pt x="145" y="556"/>
                  </a:lnTo>
                  <a:lnTo>
                    <a:pt x="145" y="534"/>
                  </a:lnTo>
                  <a:lnTo>
                    <a:pt x="187" y="458"/>
                  </a:lnTo>
                  <a:lnTo>
                    <a:pt x="145" y="436"/>
                  </a:lnTo>
                  <a:lnTo>
                    <a:pt x="145" y="387"/>
                  </a:lnTo>
                  <a:lnTo>
                    <a:pt x="169" y="365"/>
                  </a:lnTo>
                  <a:lnTo>
                    <a:pt x="210" y="338"/>
                  </a:lnTo>
                  <a:lnTo>
                    <a:pt x="251" y="289"/>
                  </a:lnTo>
                  <a:lnTo>
                    <a:pt x="292" y="240"/>
                  </a:lnTo>
                  <a:lnTo>
                    <a:pt x="292" y="218"/>
                  </a:lnTo>
                  <a:lnTo>
                    <a:pt x="292" y="169"/>
                  </a:lnTo>
                  <a:lnTo>
                    <a:pt x="273" y="97"/>
                  </a:lnTo>
                  <a:lnTo>
                    <a:pt x="210" y="26"/>
                  </a:lnTo>
                  <a:lnTo>
                    <a:pt x="169" y="0"/>
                  </a:lnTo>
                  <a:lnTo>
                    <a:pt x="169" y="26"/>
                  </a:lnTo>
                  <a:lnTo>
                    <a:pt x="145" y="48"/>
                  </a:lnTo>
                  <a:lnTo>
                    <a:pt x="145" y="97"/>
                  </a:lnTo>
                  <a:lnTo>
                    <a:pt x="145" y="119"/>
                  </a:lnTo>
                  <a:lnTo>
                    <a:pt x="145" y="119"/>
                  </a:lnTo>
                  <a:lnTo>
                    <a:pt x="145" y="97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178160" y="3876840"/>
              <a:ext cx="520920" cy="306720"/>
            </a:xfrm>
            <a:custGeom>
              <a:avLst/>
              <a:gdLst/>
              <a:ahLst/>
              <a:rect l="0" t="0" r="r" b="b"/>
              <a:pathLst>
                <a:path w="1447" h="852">
                  <a:moveTo>
                    <a:pt x="833" y="197"/>
                  </a:moveTo>
                  <a:lnTo>
                    <a:pt x="792" y="389"/>
                  </a:lnTo>
                  <a:lnTo>
                    <a:pt x="746" y="488"/>
                  </a:lnTo>
                  <a:lnTo>
                    <a:pt x="677" y="561"/>
                  </a:lnTo>
                  <a:lnTo>
                    <a:pt x="591" y="535"/>
                  </a:lnTo>
                  <a:lnTo>
                    <a:pt x="550" y="509"/>
                  </a:lnTo>
                  <a:lnTo>
                    <a:pt x="482" y="509"/>
                  </a:lnTo>
                  <a:lnTo>
                    <a:pt x="395" y="535"/>
                  </a:lnTo>
                  <a:lnTo>
                    <a:pt x="309" y="608"/>
                  </a:lnTo>
                  <a:lnTo>
                    <a:pt x="200" y="634"/>
                  </a:lnTo>
                  <a:lnTo>
                    <a:pt x="0" y="732"/>
                  </a:lnTo>
                  <a:lnTo>
                    <a:pt x="0" y="779"/>
                  </a:lnTo>
                  <a:lnTo>
                    <a:pt x="22" y="826"/>
                  </a:lnTo>
                  <a:lnTo>
                    <a:pt x="109" y="852"/>
                  </a:lnTo>
                  <a:lnTo>
                    <a:pt x="218" y="826"/>
                  </a:lnTo>
                  <a:lnTo>
                    <a:pt x="309" y="805"/>
                  </a:lnTo>
                  <a:lnTo>
                    <a:pt x="527" y="732"/>
                  </a:lnTo>
                  <a:lnTo>
                    <a:pt x="724" y="634"/>
                  </a:lnTo>
                  <a:lnTo>
                    <a:pt x="792" y="634"/>
                  </a:lnTo>
                  <a:lnTo>
                    <a:pt x="856" y="660"/>
                  </a:lnTo>
                  <a:lnTo>
                    <a:pt x="919" y="680"/>
                  </a:lnTo>
                  <a:lnTo>
                    <a:pt x="965" y="732"/>
                  </a:lnTo>
                  <a:lnTo>
                    <a:pt x="1051" y="779"/>
                  </a:lnTo>
                  <a:lnTo>
                    <a:pt x="1074" y="732"/>
                  </a:lnTo>
                  <a:lnTo>
                    <a:pt x="1097" y="706"/>
                  </a:lnTo>
                  <a:lnTo>
                    <a:pt x="1142" y="706"/>
                  </a:lnTo>
                  <a:lnTo>
                    <a:pt x="1206" y="706"/>
                  </a:lnTo>
                  <a:lnTo>
                    <a:pt x="1251" y="706"/>
                  </a:lnTo>
                  <a:lnTo>
                    <a:pt x="1292" y="660"/>
                  </a:lnTo>
                  <a:lnTo>
                    <a:pt x="1338" y="561"/>
                  </a:lnTo>
                  <a:lnTo>
                    <a:pt x="1383" y="436"/>
                  </a:lnTo>
                  <a:lnTo>
                    <a:pt x="1424" y="316"/>
                  </a:lnTo>
                  <a:lnTo>
                    <a:pt x="1447" y="269"/>
                  </a:lnTo>
                  <a:lnTo>
                    <a:pt x="1447" y="243"/>
                  </a:lnTo>
                  <a:lnTo>
                    <a:pt x="1383" y="217"/>
                  </a:lnTo>
                  <a:lnTo>
                    <a:pt x="1292" y="197"/>
                  </a:lnTo>
                  <a:lnTo>
                    <a:pt x="1206" y="171"/>
                  </a:lnTo>
                  <a:lnTo>
                    <a:pt x="1160" y="171"/>
                  </a:lnTo>
                  <a:lnTo>
                    <a:pt x="1119" y="145"/>
                  </a:lnTo>
                  <a:lnTo>
                    <a:pt x="1051" y="124"/>
                  </a:lnTo>
                  <a:lnTo>
                    <a:pt x="1051" y="72"/>
                  </a:lnTo>
                  <a:lnTo>
                    <a:pt x="1033" y="25"/>
                  </a:lnTo>
                  <a:lnTo>
                    <a:pt x="942" y="0"/>
                  </a:lnTo>
                  <a:lnTo>
                    <a:pt x="833" y="0"/>
                  </a:lnTo>
                  <a:lnTo>
                    <a:pt x="746" y="0"/>
                  </a:lnTo>
                  <a:lnTo>
                    <a:pt x="769" y="51"/>
                  </a:lnTo>
                  <a:lnTo>
                    <a:pt x="769" y="72"/>
                  </a:lnTo>
                  <a:lnTo>
                    <a:pt x="833" y="197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2209680" y="6126120"/>
            <a:ext cx="1219680" cy="228960"/>
            <a:chOff x="2209680" y="6126120"/>
            <a:chExt cx="1219680" cy="228960"/>
          </a:xfrm>
        </p:grpSpPr>
        <p:sp>
          <p:nvSpPr>
            <p:cNvPr id="380" name=""/>
            <p:cNvSpPr/>
            <p:nvPr/>
          </p:nvSpPr>
          <p:spPr>
            <a:xfrm>
              <a:off x="2209680" y="6153120"/>
              <a:ext cx="1219680" cy="171720"/>
            </a:xfrm>
            <a:custGeom>
              <a:avLst/>
              <a:gdLst/>
              <a:ahLst/>
              <a:rect l="0" t="0" r="r" b="b"/>
              <a:pathLst>
                <a:path w="3388" h="477">
                  <a:moveTo>
                    <a:pt x="1493" y="84"/>
                  </a:moveTo>
                  <a:lnTo>
                    <a:pt x="3388" y="328"/>
                  </a:lnTo>
                  <a:lnTo>
                    <a:pt x="3229" y="412"/>
                  </a:lnTo>
                  <a:lnTo>
                    <a:pt x="2938" y="477"/>
                  </a:lnTo>
                  <a:lnTo>
                    <a:pt x="2239" y="457"/>
                  </a:lnTo>
                  <a:lnTo>
                    <a:pt x="1162" y="351"/>
                  </a:lnTo>
                  <a:lnTo>
                    <a:pt x="777" y="286"/>
                  </a:lnTo>
                  <a:lnTo>
                    <a:pt x="0" y="184"/>
                  </a:lnTo>
                  <a:lnTo>
                    <a:pt x="30" y="0"/>
                  </a:lnTo>
                  <a:lnTo>
                    <a:pt x="972" y="103"/>
                  </a:lnTo>
                  <a:lnTo>
                    <a:pt x="1188" y="182"/>
                  </a:lnTo>
                  <a:lnTo>
                    <a:pt x="1400" y="210"/>
                  </a:lnTo>
                  <a:lnTo>
                    <a:pt x="1493" y="84"/>
                  </a:lnTo>
                  <a:close/>
                </a:path>
              </a:pathLst>
            </a:custGeom>
            <a:blipFill rotWithShape="0">
              <a:blip r:embed="rId1"/>
              <a:tile tx="0" ty="0" sx="3528125" sy="3528125" algn="ctr"/>
            </a:blip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717640" y="6221520"/>
              <a:ext cx="695520" cy="133560"/>
            </a:xfrm>
            <a:custGeom>
              <a:avLst/>
              <a:gdLst/>
              <a:ahLst/>
              <a:rect l="0" t="0" r="r" b="b"/>
              <a:pathLst>
                <a:path w="1932" h="371">
                  <a:moveTo>
                    <a:pt x="34" y="12"/>
                  </a:moveTo>
                  <a:lnTo>
                    <a:pt x="225" y="0"/>
                  </a:lnTo>
                  <a:lnTo>
                    <a:pt x="381" y="133"/>
                  </a:lnTo>
                  <a:lnTo>
                    <a:pt x="658" y="83"/>
                  </a:lnTo>
                  <a:lnTo>
                    <a:pt x="1040" y="158"/>
                  </a:lnTo>
                  <a:lnTo>
                    <a:pt x="1243" y="200"/>
                  </a:lnTo>
                  <a:lnTo>
                    <a:pt x="1503" y="225"/>
                  </a:lnTo>
                  <a:lnTo>
                    <a:pt x="1932" y="204"/>
                  </a:lnTo>
                  <a:lnTo>
                    <a:pt x="1512" y="304"/>
                  </a:lnTo>
                  <a:lnTo>
                    <a:pt x="1209" y="371"/>
                  </a:lnTo>
                  <a:lnTo>
                    <a:pt x="692" y="296"/>
                  </a:lnTo>
                  <a:lnTo>
                    <a:pt x="407" y="267"/>
                  </a:lnTo>
                  <a:lnTo>
                    <a:pt x="0" y="188"/>
                  </a:lnTo>
                  <a:lnTo>
                    <a:pt x="34" y="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30560" y="6126120"/>
              <a:ext cx="495720" cy="124200"/>
            </a:xfrm>
            <a:custGeom>
              <a:avLst/>
              <a:gdLst/>
              <a:ahLst/>
              <a:rect l="0" t="0" r="r" b="b"/>
              <a:pathLst>
                <a:path w="1377" h="345">
                  <a:moveTo>
                    <a:pt x="1364" y="345"/>
                  </a:moveTo>
                  <a:lnTo>
                    <a:pt x="1377" y="230"/>
                  </a:lnTo>
                  <a:lnTo>
                    <a:pt x="1036" y="88"/>
                  </a:lnTo>
                  <a:lnTo>
                    <a:pt x="44" y="0"/>
                  </a:lnTo>
                  <a:lnTo>
                    <a:pt x="0" y="142"/>
                  </a:lnTo>
                  <a:lnTo>
                    <a:pt x="1364" y="345"/>
                  </a:lnTo>
                  <a:close/>
                </a:path>
              </a:pathLst>
            </a:custGeom>
            <a:solidFill>
              <a:srgbClr val="9933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4500720" y="2768760"/>
            <a:ext cx="1203120" cy="957240"/>
            <a:chOff x="4500720" y="2768760"/>
            <a:chExt cx="1203120" cy="957240"/>
          </a:xfrm>
        </p:grpSpPr>
        <p:sp>
          <p:nvSpPr>
            <p:cNvPr id="384" name=""/>
            <p:cNvSpPr/>
            <p:nvPr/>
          </p:nvSpPr>
          <p:spPr>
            <a:xfrm>
              <a:off x="5413320" y="3422880"/>
              <a:ext cx="290520" cy="303120"/>
            </a:xfrm>
            <a:custGeom>
              <a:avLst/>
              <a:gdLst/>
              <a:ahLst/>
              <a:rect l="0" t="0" r="r" b="b"/>
              <a:pathLst>
                <a:path w="807" h="842">
                  <a:moveTo>
                    <a:pt x="259" y="820"/>
                  </a:moveTo>
                  <a:lnTo>
                    <a:pt x="259" y="820"/>
                  </a:lnTo>
                  <a:cubicBezTo>
                    <a:pt x="325" y="844"/>
                    <a:pt x="396" y="849"/>
                    <a:pt x="466" y="835"/>
                  </a:cubicBezTo>
                  <a:cubicBezTo>
                    <a:pt x="536" y="821"/>
                    <a:pt x="602" y="788"/>
                    <a:pt x="657" y="739"/>
                  </a:cubicBezTo>
                  <a:cubicBezTo>
                    <a:pt x="712" y="691"/>
                    <a:pt x="754" y="628"/>
                    <a:pt x="780" y="558"/>
                  </a:cubicBezTo>
                  <a:cubicBezTo>
                    <a:pt x="805" y="488"/>
                    <a:pt x="813" y="413"/>
                    <a:pt x="802" y="341"/>
                  </a:cubicBezTo>
                  <a:cubicBezTo>
                    <a:pt x="791" y="268"/>
                    <a:pt x="762" y="201"/>
                    <a:pt x="717" y="145"/>
                  </a:cubicBezTo>
                  <a:cubicBezTo>
                    <a:pt x="673" y="89"/>
                    <a:pt x="615" y="47"/>
                    <a:pt x="549" y="23"/>
                  </a:cubicBezTo>
                  <a:lnTo>
                    <a:pt x="548" y="23"/>
                  </a:lnTo>
                  <a:lnTo>
                    <a:pt x="548" y="23"/>
                  </a:lnTo>
                  <a:cubicBezTo>
                    <a:pt x="482" y="-1"/>
                    <a:pt x="411" y="-6"/>
                    <a:pt x="341" y="8"/>
                  </a:cubicBezTo>
                  <a:cubicBezTo>
                    <a:pt x="271" y="22"/>
                    <a:pt x="205" y="55"/>
                    <a:pt x="150" y="104"/>
                  </a:cubicBezTo>
                  <a:cubicBezTo>
                    <a:pt x="95" y="152"/>
                    <a:pt x="53" y="215"/>
                    <a:pt x="27" y="285"/>
                  </a:cubicBezTo>
                  <a:cubicBezTo>
                    <a:pt x="2" y="355"/>
                    <a:pt x="-6" y="430"/>
                    <a:pt x="5" y="502"/>
                  </a:cubicBezTo>
                  <a:cubicBezTo>
                    <a:pt x="16" y="575"/>
                    <a:pt x="45" y="642"/>
                    <a:pt x="90" y="698"/>
                  </a:cubicBezTo>
                  <a:cubicBezTo>
                    <a:pt x="134" y="754"/>
                    <a:pt x="192" y="796"/>
                    <a:pt x="258" y="820"/>
                  </a:cubicBezTo>
                  <a:lnTo>
                    <a:pt x="259" y="82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500720" y="2768760"/>
              <a:ext cx="946440" cy="952920"/>
            </a:xfrm>
            <a:custGeom>
              <a:avLst/>
              <a:gdLst/>
              <a:ahLst/>
              <a:rect l="0" t="0" r="r" b="b"/>
              <a:pathLst>
                <a:path w="2629" h="2647">
                  <a:moveTo>
                    <a:pt x="410" y="0"/>
                  </a:moveTo>
                  <a:lnTo>
                    <a:pt x="630" y="198"/>
                  </a:lnTo>
                  <a:lnTo>
                    <a:pt x="890" y="1032"/>
                  </a:lnTo>
                  <a:lnTo>
                    <a:pt x="1133" y="1654"/>
                  </a:lnTo>
                  <a:lnTo>
                    <a:pt x="2629" y="1786"/>
                  </a:lnTo>
                  <a:lnTo>
                    <a:pt x="2461" y="2647"/>
                  </a:lnTo>
                  <a:lnTo>
                    <a:pt x="533" y="2325"/>
                  </a:lnTo>
                  <a:lnTo>
                    <a:pt x="22" y="657"/>
                  </a:lnTo>
                  <a:lnTo>
                    <a:pt x="0" y="233"/>
                  </a:lnTo>
                  <a:lnTo>
                    <a:pt x="194" y="8"/>
                  </a:lnTo>
                  <a:lnTo>
                    <a:pt x="41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2832120" y="3478320"/>
            <a:ext cx="3099240" cy="2922840"/>
          </a:xfrm>
          <a:custGeom>
            <a:avLst/>
            <a:gdLst/>
            <a:ahLst/>
            <a:rect l="0" t="0" r="r" b="b"/>
            <a:pathLst>
              <a:path w="8609" h="8119">
                <a:moveTo>
                  <a:pt x="3775" y="379"/>
                </a:moveTo>
                <a:lnTo>
                  <a:pt x="3916" y="496"/>
                </a:lnTo>
                <a:lnTo>
                  <a:pt x="3916" y="613"/>
                </a:lnTo>
                <a:lnTo>
                  <a:pt x="3846" y="700"/>
                </a:lnTo>
                <a:lnTo>
                  <a:pt x="3775" y="788"/>
                </a:lnTo>
                <a:lnTo>
                  <a:pt x="3669" y="759"/>
                </a:lnTo>
                <a:lnTo>
                  <a:pt x="3564" y="671"/>
                </a:lnTo>
                <a:lnTo>
                  <a:pt x="3458" y="642"/>
                </a:lnTo>
                <a:lnTo>
                  <a:pt x="3352" y="613"/>
                </a:lnTo>
                <a:lnTo>
                  <a:pt x="3211" y="584"/>
                </a:lnTo>
                <a:lnTo>
                  <a:pt x="3070" y="584"/>
                </a:lnTo>
                <a:lnTo>
                  <a:pt x="2823" y="584"/>
                </a:lnTo>
                <a:lnTo>
                  <a:pt x="2717" y="584"/>
                </a:lnTo>
                <a:lnTo>
                  <a:pt x="2611" y="496"/>
                </a:lnTo>
                <a:lnTo>
                  <a:pt x="2505" y="467"/>
                </a:lnTo>
                <a:lnTo>
                  <a:pt x="2399" y="467"/>
                </a:lnTo>
                <a:lnTo>
                  <a:pt x="2151" y="467"/>
                </a:lnTo>
                <a:lnTo>
                  <a:pt x="2010" y="467"/>
                </a:lnTo>
                <a:lnTo>
                  <a:pt x="1728" y="467"/>
                </a:lnTo>
                <a:lnTo>
                  <a:pt x="1622" y="496"/>
                </a:lnTo>
                <a:lnTo>
                  <a:pt x="1516" y="525"/>
                </a:lnTo>
                <a:lnTo>
                  <a:pt x="1375" y="525"/>
                </a:lnTo>
                <a:lnTo>
                  <a:pt x="1270" y="496"/>
                </a:lnTo>
                <a:lnTo>
                  <a:pt x="1164" y="467"/>
                </a:lnTo>
                <a:lnTo>
                  <a:pt x="1058" y="467"/>
                </a:lnTo>
                <a:lnTo>
                  <a:pt x="811" y="467"/>
                </a:lnTo>
                <a:lnTo>
                  <a:pt x="599" y="467"/>
                </a:lnTo>
                <a:lnTo>
                  <a:pt x="529" y="554"/>
                </a:lnTo>
                <a:lnTo>
                  <a:pt x="529" y="642"/>
                </a:lnTo>
                <a:lnTo>
                  <a:pt x="564" y="730"/>
                </a:lnTo>
                <a:lnTo>
                  <a:pt x="670" y="817"/>
                </a:lnTo>
                <a:lnTo>
                  <a:pt x="670" y="905"/>
                </a:lnTo>
                <a:lnTo>
                  <a:pt x="670" y="992"/>
                </a:lnTo>
                <a:lnTo>
                  <a:pt x="635" y="1080"/>
                </a:lnTo>
                <a:lnTo>
                  <a:pt x="635" y="1197"/>
                </a:lnTo>
                <a:lnTo>
                  <a:pt x="635" y="1314"/>
                </a:lnTo>
                <a:lnTo>
                  <a:pt x="635" y="1401"/>
                </a:lnTo>
                <a:lnTo>
                  <a:pt x="635" y="1489"/>
                </a:lnTo>
                <a:lnTo>
                  <a:pt x="670" y="1606"/>
                </a:lnTo>
                <a:lnTo>
                  <a:pt x="705" y="1839"/>
                </a:lnTo>
                <a:lnTo>
                  <a:pt x="740" y="1956"/>
                </a:lnTo>
                <a:lnTo>
                  <a:pt x="740" y="2073"/>
                </a:lnTo>
                <a:lnTo>
                  <a:pt x="740" y="2160"/>
                </a:lnTo>
                <a:lnTo>
                  <a:pt x="740" y="2277"/>
                </a:lnTo>
                <a:lnTo>
                  <a:pt x="705" y="2453"/>
                </a:lnTo>
                <a:lnTo>
                  <a:pt x="705" y="2569"/>
                </a:lnTo>
                <a:lnTo>
                  <a:pt x="670" y="2657"/>
                </a:lnTo>
                <a:lnTo>
                  <a:pt x="635" y="2745"/>
                </a:lnTo>
                <a:lnTo>
                  <a:pt x="599" y="2920"/>
                </a:lnTo>
                <a:lnTo>
                  <a:pt x="529" y="3212"/>
                </a:lnTo>
                <a:lnTo>
                  <a:pt x="458" y="3445"/>
                </a:lnTo>
                <a:lnTo>
                  <a:pt x="423" y="3533"/>
                </a:lnTo>
                <a:lnTo>
                  <a:pt x="458" y="3708"/>
                </a:lnTo>
                <a:lnTo>
                  <a:pt x="493" y="3883"/>
                </a:lnTo>
                <a:lnTo>
                  <a:pt x="529" y="4060"/>
                </a:lnTo>
                <a:lnTo>
                  <a:pt x="599" y="4147"/>
                </a:lnTo>
                <a:lnTo>
                  <a:pt x="670" y="4264"/>
                </a:lnTo>
                <a:lnTo>
                  <a:pt x="776" y="4352"/>
                </a:lnTo>
                <a:lnTo>
                  <a:pt x="811" y="4439"/>
                </a:lnTo>
                <a:lnTo>
                  <a:pt x="846" y="4527"/>
                </a:lnTo>
                <a:lnTo>
                  <a:pt x="881" y="4614"/>
                </a:lnTo>
                <a:lnTo>
                  <a:pt x="952" y="4731"/>
                </a:lnTo>
                <a:lnTo>
                  <a:pt x="987" y="4819"/>
                </a:lnTo>
                <a:lnTo>
                  <a:pt x="1058" y="4936"/>
                </a:lnTo>
                <a:lnTo>
                  <a:pt x="1093" y="5023"/>
                </a:lnTo>
                <a:lnTo>
                  <a:pt x="1128" y="5140"/>
                </a:lnTo>
                <a:lnTo>
                  <a:pt x="1128" y="5315"/>
                </a:lnTo>
                <a:lnTo>
                  <a:pt x="1164" y="5403"/>
                </a:lnTo>
                <a:lnTo>
                  <a:pt x="1199" y="5520"/>
                </a:lnTo>
                <a:lnTo>
                  <a:pt x="1234" y="5637"/>
                </a:lnTo>
                <a:lnTo>
                  <a:pt x="1270" y="5724"/>
                </a:lnTo>
                <a:lnTo>
                  <a:pt x="1305" y="5812"/>
                </a:lnTo>
                <a:lnTo>
                  <a:pt x="1340" y="5929"/>
                </a:lnTo>
                <a:lnTo>
                  <a:pt x="1411" y="6162"/>
                </a:lnTo>
                <a:lnTo>
                  <a:pt x="1516" y="6279"/>
                </a:lnTo>
                <a:lnTo>
                  <a:pt x="1622" y="6367"/>
                </a:lnTo>
                <a:lnTo>
                  <a:pt x="1728" y="6454"/>
                </a:lnTo>
                <a:lnTo>
                  <a:pt x="1799" y="6542"/>
                </a:lnTo>
                <a:lnTo>
                  <a:pt x="1905" y="6629"/>
                </a:lnTo>
                <a:lnTo>
                  <a:pt x="1975" y="6746"/>
                </a:lnTo>
                <a:lnTo>
                  <a:pt x="2046" y="6834"/>
                </a:lnTo>
                <a:lnTo>
                  <a:pt x="2116" y="6921"/>
                </a:lnTo>
                <a:lnTo>
                  <a:pt x="2223" y="7038"/>
                </a:lnTo>
                <a:lnTo>
                  <a:pt x="2364" y="7155"/>
                </a:lnTo>
                <a:lnTo>
                  <a:pt x="2470" y="7214"/>
                </a:lnTo>
                <a:lnTo>
                  <a:pt x="2576" y="7301"/>
                </a:lnTo>
                <a:lnTo>
                  <a:pt x="2682" y="7360"/>
                </a:lnTo>
                <a:lnTo>
                  <a:pt x="2787" y="7418"/>
                </a:lnTo>
                <a:lnTo>
                  <a:pt x="2893" y="7476"/>
                </a:lnTo>
                <a:lnTo>
                  <a:pt x="2999" y="7535"/>
                </a:lnTo>
                <a:lnTo>
                  <a:pt x="3105" y="7564"/>
                </a:lnTo>
                <a:lnTo>
                  <a:pt x="3246" y="7593"/>
                </a:lnTo>
                <a:lnTo>
                  <a:pt x="3352" y="7622"/>
                </a:lnTo>
                <a:lnTo>
                  <a:pt x="3458" y="7622"/>
                </a:lnTo>
                <a:lnTo>
                  <a:pt x="3564" y="7652"/>
                </a:lnTo>
                <a:lnTo>
                  <a:pt x="3669" y="7681"/>
                </a:lnTo>
                <a:lnTo>
                  <a:pt x="3775" y="7681"/>
                </a:lnTo>
                <a:lnTo>
                  <a:pt x="3881" y="7681"/>
                </a:lnTo>
                <a:lnTo>
                  <a:pt x="3987" y="7681"/>
                </a:lnTo>
                <a:lnTo>
                  <a:pt x="4128" y="7652"/>
                </a:lnTo>
                <a:lnTo>
                  <a:pt x="4410" y="7652"/>
                </a:lnTo>
                <a:lnTo>
                  <a:pt x="4763" y="7622"/>
                </a:lnTo>
                <a:lnTo>
                  <a:pt x="5045" y="7593"/>
                </a:lnTo>
                <a:lnTo>
                  <a:pt x="5151" y="7593"/>
                </a:lnTo>
                <a:lnTo>
                  <a:pt x="5433" y="7564"/>
                </a:lnTo>
                <a:lnTo>
                  <a:pt x="5539" y="7535"/>
                </a:lnTo>
                <a:lnTo>
                  <a:pt x="5680" y="7476"/>
                </a:lnTo>
                <a:lnTo>
                  <a:pt x="5786" y="7447"/>
                </a:lnTo>
                <a:lnTo>
                  <a:pt x="6068" y="7360"/>
                </a:lnTo>
                <a:lnTo>
                  <a:pt x="6209" y="7272"/>
                </a:lnTo>
                <a:lnTo>
                  <a:pt x="6315" y="7155"/>
                </a:lnTo>
                <a:lnTo>
                  <a:pt x="6421" y="7038"/>
                </a:lnTo>
                <a:lnTo>
                  <a:pt x="6563" y="6921"/>
                </a:lnTo>
                <a:lnTo>
                  <a:pt x="6669" y="6834"/>
                </a:lnTo>
                <a:lnTo>
                  <a:pt x="6775" y="6746"/>
                </a:lnTo>
                <a:lnTo>
                  <a:pt x="6916" y="6629"/>
                </a:lnTo>
                <a:lnTo>
                  <a:pt x="7128" y="6571"/>
                </a:lnTo>
                <a:lnTo>
                  <a:pt x="7233" y="6483"/>
                </a:lnTo>
                <a:lnTo>
                  <a:pt x="7375" y="6396"/>
                </a:lnTo>
                <a:lnTo>
                  <a:pt x="7480" y="6337"/>
                </a:lnTo>
                <a:lnTo>
                  <a:pt x="7586" y="6221"/>
                </a:lnTo>
                <a:lnTo>
                  <a:pt x="7692" y="6133"/>
                </a:lnTo>
                <a:lnTo>
                  <a:pt x="7798" y="6016"/>
                </a:lnTo>
                <a:lnTo>
                  <a:pt x="7868" y="5929"/>
                </a:lnTo>
                <a:lnTo>
                  <a:pt x="7904" y="5841"/>
                </a:lnTo>
                <a:lnTo>
                  <a:pt x="7939" y="5724"/>
                </a:lnTo>
                <a:lnTo>
                  <a:pt x="7939" y="5637"/>
                </a:lnTo>
                <a:lnTo>
                  <a:pt x="7974" y="5520"/>
                </a:lnTo>
                <a:lnTo>
                  <a:pt x="7974" y="5345"/>
                </a:lnTo>
                <a:lnTo>
                  <a:pt x="8010" y="5228"/>
                </a:lnTo>
                <a:lnTo>
                  <a:pt x="8045" y="5111"/>
                </a:lnTo>
                <a:lnTo>
                  <a:pt x="8045" y="4907"/>
                </a:lnTo>
                <a:lnTo>
                  <a:pt x="8045" y="4819"/>
                </a:lnTo>
                <a:lnTo>
                  <a:pt x="8080" y="4731"/>
                </a:lnTo>
                <a:lnTo>
                  <a:pt x="8080" y="4614"/>
                </a:lnTo>
                <a:lnTo>
                  <a:pt x="8080" y="4498"/>
                </a:lnTo>
                <a:lnTo>
                  <a:pt x="8080" y="4264"/>
                </a:lnTo>
                <a:lnTo>
                  <a:pt x="8080" y="4089"/>
                </a:lnTo>
                <a:lnTo>
                  <a:pt x="8045" y="3854"/>
                </a:lnTo>
                <a:lnTo>
                  <a:pt x="8045" y="3679"/>
                </a:lnTo>
                <a:lnTo>
                  <a:pt x="8010" y="3562"/>
                </a:lnTo>
                <a:lnTo>
                  <a:pt x="7974" y="3475"/>
                </a:lnTo>
                <a:lnTo>
                  <a:pt x="7939" y="3358"/>
                </a:lnTo>
                <a:lnTo>
                  <a:pt x="7904" y="3270"/>
                </a:lnTo>
                <a:lnTo>
                  <a:pt x="7868" y="3153"/>
                </a:lnTo>
                <a:lnTo>
                  <a:pt x="7833" y="3066"/>
                </a:lnTo>
                <a:lnTo>
                  <a:pt x="7833" y="2949"/>
                </a:lnTo>
                <a:lnTo>
                  <a:pt x="7798" y="2715"/>
                </a:lnTo>
                <a:lnTo>
                  <a:pt x="7763" y="2628"/>
                </a:lnTo>
                <a:lnTo>
                  <a:pt x="7763" y="2540"/>
                </a:lnTo>
                <a:lnTo>
                  <a:pt x="7763" y="2453"/>
                </a:lnTo>
                <a:lnTo>
                  <a:pt x="7763" y="2365"/>
                </a:lnTo>
                <a:lnTo>
                  <a:pt x="7763" y="2277"/>
                </a:lnTo>
                <a:lnTo>
                  <a:pt x="7763" y="2190"/>
                </a:lnTo>
                <a:lnTo>
                  <a:pt x="7763" y="2102"/>
                </a:lnTo>
                <a:lnTo>
                  <a:pt x="7763" y="2014"/>
                </a:lnTo>
                <a:lnTo>
                  <a:pt x="7763" y="1927"/>
                </a:lnTo>
                <a:lnTo>
                  <a:pt x="7763" y="1839"/>
                </a:lnTo>
                <a:lnTo>
                  <a:pt x="7763" y="1752"/>
                </a:lnTo>
                <a:lnTo>
                  <a:pt x="7727" y="1664"/>
                </a:lnTo>
                <a:lnTo>
                  <a:pt x="7692" y="1547"/>
                </a:lnTo>
                <a:lnTo>
                  <a:pt x="7657" y="1430"/>
                </a:lnTo>
                <a:lnTo>
                  <a:pt x="7622" y="1343"/>
                </a:lnTo>
                <a:lnTo>
                  <a:pt x="7551" y="1255"/>
                </a:lnTo>
                <a:lnTo>
                  <a:pt x="7375" y="708"/>
                </a:lnTo>
                <a:lnTo>
                  <a:pt x="7586" y="708"/>
                </a:lnTo>
                <a:lnTo>
                  <a:pt x="7679" y="657"/>
                </a:lnTo>
                <a:lnTo>
                  <a:pt x="7877" y="445"/>
                </a:lnTo>
                <a:lnTo>
                  <a:pt x="8010" y="708"/>
                </a:lnTo>
                <a:lnTo>
                  <a:pt x="8045" y="1080"/>
                </a:lnTo>
                <a:lnTo>
                  <a:pt x="8045" y="1168"/>
                </a:lnTo>
                <a:lnTo>
                  <a:pt x="8045" y="1284"/>
                </a:lnTo>
                <a:lnTo>
                  <a:pt x="8080" y="1372"/>
                </a:lnTo>
                <a:lnTo>
                  <a:pt x="8186" y="1430"/>
                </a:lnTo>
                <a:lnTo>
                  <a:pt x="8221" y="1518"/>
                </a:lnTo>
                <a:lnTo>
                  <a:pt x="8327" y="1635"/>
                </a:lnTo>
                <a:lnTo>
                  <a:pt x="8327" y="1722"/>
                </a:lnTo>
                <a:lnTo>
                  <a:pt x="8327" y="1810"/>
                </a:lnTo>
                <a:lnTo>
                  <a:pt x="8292" y="1927"/>
                </a:lnTo>
                <a:lnTo>
                  <a:pt x="8221" y="2044"/>
                </a:lnTo>
                <a:lnTo>
                  <a:pt x="8186" y="2131"/>
                </a:lnTo>
                <a:lnTo>
                  <a:pt x="8186" y="2306"/>
                </a:lnTo>
                <a:lnTo>
                  <a:pt x="8151" y="2394"/>
                </a:lnTo>
                <a:lnTo>
                  <a:pt x="8151" y="2511"/>
                </a:lnTo>
                <a:lnTo>
                  <a:pt x="8186" y="2599"/>
                </a:lnTo>
                <a:lnTo>
                  <a:pt x="8221" y="2686"/>
                </a:lnTo>
                <a:lnTo>
                  <a:pt x="8327" y="2803"/>
                </a:lnTo>
                <a:lnTo>
                  <a:pt x="8433" y="2891"/>
                </a:lnTo>
                <a:lnTo>
                  <a:pt x="8468" y="2978"/>
                </a:lnTo>
                <a:lnTo>
                  <a:pt x="8539" y="3066"/>
                </a:lnTo>
                <a:lnTo>
                  <a:pt x="8574" y="3153"/>
                </a:lnTo>
                <a:lnTo>
                  <a:pt x="8574" y="3241"/>
                </a:lnTo>
                <a:lnTo>
                  <a:pt x="8574" y="3329"/>
                </a:lnTo>
                <a:lnTo>
                  <a:pt x="8539" y="3504"/>
                </a:lnTo>
                <a:lnTo>
                  <a:pt x="8539" y="3679"/>
                </a:lnTo>
                <a:lnTo>
                  <a:pt x="8503" y="3854"/>
                </a:lnTo>
                <a:lnTo>
                  <a:pt x="8503" y="3942"/>
                </a:lnTo>
                <a:lnTo>
                  <a:pt x="8539" y="4029"/>
                </a:lnTo>
                <a:lnTo>
                  <a:pt x="8574" y="4147"/>
                </a:lnTo>
                <a:lnTo>
                  <a:pt x="8609" y="4264"/>
                </a:lnTo>
                <a:lnTo>
                  <a:pt x="8609" y="4352"/>
                </a:lnTo>
                <a:lnTo>
                  <a:pt x="8609" y="4468"/>
                </a:lnTo>
                <a:lnTo>
                  <a:pt x="8609" y="4702"/>
                </a:lnTo>
                <a:lnTo>
                  <a:pt x="8609" y="4877"/>
                </a:lnTo>
                <a:lnTo>
                  <a:pt x="8609" y="4965"/>
                </a:lnTo>
                <a:lnTo>
                  <a:pt x="8609" y="5053"/>
                </a:lnTo>
                <a:lnTo>
                  <a:pt x="8609" y="5140"/>
                </a:lnTo>
                <a:lnTo>
                  <a:pt x="8609" y="5345"/>
                </a:lnTo>
                <a:lnTo>
                  <a:pt x="8609" y="5520"/>
                </a:lnTo>
                <a:lnTo>
                  <a:pt x="8574" y="5753"/>
                </a:lnTo>
                <a:lnTo>
                  <a:pt x="8362" y="6045"/>
                </a:lnTo>
                <a:lnTo>
                  <a:pt x="8292" y="6337"/>
                </a:lnTo>
                <a:lnTo>
                  <a:pt x="8221" y="6571"/>
                </a:lnTo>
                <a:lnTo>
                  <a:pt x="8115" y="6542"/>
                </a:lnTo>
                <a:lnTo>
                  <a:pt x="7833" y="6571"/>
                </a:lnTo>
                <a:lnTo>
                  <a:pt x="7727" y="6629"/>
                </a:lnTo>
                <a:lnTo>
                  <a:pt x="7692" y="6805"/>
                </a:lnTo>
                <a:lnTo>
                  <a:pt x="7480" y="6863"/>
                </a:lnTo>
                <a:lnTo>
                  <a:pt x="7445" y="6951"/>
                </a:lnTo>
                <a:lnTo>
                  <a:pt x="7163" y="7038"/>
                </a:lnTo>
                <a:lnTo>
                  <a:pt x="7128" y="7126"/>
                </a:lnTo>
                <a:lnTo>
                  <a:pt x="6881" y="7214"/>
                </a:lnTo>
                <a:lnTo>
                  <a:pt x="6845" y="7301"/>
                </a:lnTo>
                <a:lnTo>
                  <a:pt x="6775" y="7389"/>
                </a:lnTo>
                <a:lnTo>
                  <a:pt x="6669" y="7476"/>
                </a:lnTo>
                <a:lnTo>
                  <a:pt x="6598" y="7593"/>
                </a:lnTo>
                <a:lnTo>
                  <a:pt x="6386" y="7622"/>
                </a:lnTo>
                <a:lnTo>
                  <a:pt x="6280" y="7710"/>
                </a:lnTo>
                <a:lnTo>
                  <a:pt x="6139" y="7768"/>
                </a:lnTo>
                <a:lnTo>
                  <a:pt x="5927" y="7827"/>
                </a:lnTo>
                <a:lnTo>
                  <a:pt x="5574" y="7885"/>
                </a:lnTo>
                <a:lnTo>
                  <a:pt x="5292" y="7944"/>
                </a:lnTo>
                <a:lnTo>
                  <a:pt x="5081" y="7944"/>
                </a:lnTo>
                <a:lnTo>
                  <a:pt x="4975" y="7944"/>
                </a:lnTo>
                <a:lnTo>
                  <a:pt x="4728" y="8060"/>
                </a:lnTo>
                <a:lnTo>
                  <a:pt x="4587" y="8090"/>
                </a:lnTo>
                <a:lnTo>
                  <a:pt x="4304" y="8119"/>
                </a:lnTo>
                <a:lnTo>
                  <a:pt x="4093" y="8119"/>
                </a:lnTo>
                <a:lnTo>
                  <a:pt x="3987" y="8090"/>
                </a:lnTo>
                <a:lnTo>
                  <a:pt x="3775" y="8031"/>
                </a:lnTo>
                <a:lnTo>
                  <a:pt x="3634" y="7973"/>
                </a:lnTo>
                <a:lnTo>
                  <a:pt x="3493" y="7914"/>
                </a:lnTo>
                <a:lnTo>
                  <a:pt x="3140" y="7914"/>
                </a:lnTo>
                <a:lnTo>
                  <a:pt x="2929" y="7914"/>
                </a:lnTo>
                <a:lnTo>
                  <a:pt x="2787" y="7885"/>
                </a:lnTo>
                <a:lnTo>
                  <a:pt x="2646" y="7856"/>
                </a:lnTo>
                <a:lnTo>
                  <a:pt x="2541" y="7798"/>
                </a:lnTo>
                <a:lnTo>
                  <a:pt x="2399" y="7710"/>
                </a:lnTo>
                <a:lnTo>
                  <a:pt x="2294" y="7652"/>
                </a:lnTo>
                <a:lnTo>
                  <a:pt x="2223" y="7564"/>
                </a:lnTo>
                <a:lnTo>
                  <a:pt x="2116" y="7476"/>
                </a:lnTo>
                <a:lnTo>
                  <a:pt x="2046" y="7301"/>
                </a:lnTo>
                <a:lnTo>
                  <a:pt x="1975" y="7214"/>
                </a:lnTo>
                <a:lnTo>
                  <a:pt x="1905" y="7126"/>
                </a:lnTo>
                <a:lnTo>
                  <a:pt x="1799" y="7038"/>
                </a:lnTo>
                <a:lnTo>
                  <a:pt x="1693" y="6980"/>
                </a:lnTo>
                <a:lnTo>
                  <a:pt x="1446" y="6921"/>
                </a:lnTo>
                <a:lnTo>
                  <a:pt x="1164" y="6805"/>
                </a:lnTo>
                <a:lnTo>
                  <a:pt x="1058" y="6717"/>
                </a:lnTo>
                <a:lnTo>
                  <a:pt x="987" y="6483"/>
                </a:lnTo>
                <a:lnTo>
                  <a:pt x="952" y="6396"/>
                </a:lnTo>
                <a:lnTo>
                  <a:pt x="917" y="6308"/>
                </a:lnTo>
                <a:lnTo>
                  <a:pt x="881" y="6221"/>
                </a:lnTo>
                <a:lnTo>
                  <a:pt x="846" y="6104"/>
                </a:lnTo>
                <a:lnTo>
                  <a:pt x="846" y="6016"/>
                </a:lnTo>
                <a:lnTo>
                  <a:pt x="846" y="5929"/>
                </a:lnTo>
                <a:lnTo>
                  <a:pt x="846" y="5841"/>
                </a:lnTo>
                <a:lnTo>
                  <a:pt x="811" y="5753"/>
                </a:lnTo>
                <a:lnTo>
                  <a:pt x="776" y="5666"/>
                </a:lnTo>
                <a:lnTo>
                  <a:pt x="705" y="5578"/>
                </a:lnTo>
                <a:lnTo>
                  <a:pt x="670" y="5491"/>
                </a:lnTo>
                <a:lnTo>
                  <a:pt x="635" y="5403"/>
                </a:lnTo>
                <a:lnTo>
                  <a:pt x="599" y="5286"/>
                </a:lnTo>
                <a:lnTo>
                  <a:pt x="529" y="5169"/>
                </a:lnTo>
                <a:lnTo>
                  <a:pt x="493" y="5082"/>
                </a:lnTo>
                <a:lnTo>
                  <a:pt x="423" y="4994"/>
                </a:lnTo>
                <a:lnTo>
                  <a:pt x="388" y="4907"/>
                </a:lnTo>
                <a:lnTo>
                  <a:pt x="352" y="4819"/>
                </a:lnTo>
                <a:lnTo>
                  <a:pt x="317" y="4702"/>
                </a:lnTo>
                <a:lnTo>
                  <a:pt x="282" y="4614"/>
                </a:lnTo>
                <a:lnTo>
                  <a:pt x="282" y="4527"/>
                </a:lnTo>
                <a:lnTo>
                  <a:pt x="246" y="4439"/>
                </a:lnTo>
                <a:lnTo>
                  <a:pt x="246" y="4352"/>
                </a:lnTo>
                <a:lnTo>
                  <a:pt x="211" y="4264"/>
                </a:lnTo>
                <a:lnTo>
                  <a:pt x="211" y="4147"/>
                </a:lnTo>
                <a:lnTo>
                  <a:pt x="176" y="4060"/>
                </a:lnTo>
                <a:lnTo>
                  <a:pt x="141" y="3971"/>
                </a:lnTo>
                <a:lnTo>
                  <a:pt x="70" y="3883"/>
                </a:lnTo>
                <a:lnTo>
                  <a:pt x="70" y="3679"/>
                </a:lnTo>
                <a:lnTo>
                  <a:pt x="70" y="3562"/>
                </a:lnTo>
                <a:lnTo>
                  <a:pt x="35" y="3445"/>
                </a:lnTo>
                <a:lnTo>
                  <a:pt x="35" y="3270"/>
                </a:lnTo>
                <a:lnTo>
                  <a:pt x="0" y="3183"/>
                </a:lnTo>
                <a:lnTo>
                  <a:pt x="0" y="3095"/>
                </a:lnTo>
                <a:lnTo>
                  <a:pt x="35" y="3007"/>
                </a:lnTo>
                <a:lnTo>
                  <a:pt x="70" y="2920"/>
                </a:lnTo>
                <a:lnTo>
                  <a:pt x="105" y="2803"/>
                </a:lnTo>
                <a:lnTo>
                  <a:pt x="176" y="2686"/>
                </a:lnTo>
                <a:lnTo>
                  <a:pt x="211" y="2453"/>
                </a:lnTo>
                <a:lnTo>
                  <a:pt x="246" y="2365"/>
                </a:lnTo>
                <a:lnTo>
                  <a:pt x="282" y="2248"/>
                </a:lnTo>
                <a:lnTo>
                  <a:pt x="282" y="2044"/>
                </a:lnTo>
                <a:lnTo>
                  <a:pt x="246" y="1956"/>
                </a:lnTo>
                <a:lnTo>
                  <a:pt x="211" y="1839"/>
                </a:lnTo>
                <a:lnTo>
                  <a:pt x="211" y="1752"/>
                </a:lnTo>
                <a:lnTo>
                  <a:pt x="211" y="1635"/>
                </a:lnTo>
                <a:lnTo>
                  <a:pt x="211" y="1547"/>
                </a:lnTo>
                <a:lnTo>
                  <a:pt x="211" y="1430"/>
                </a:lnTo>
                <a:lnTo>
                  <a:pt x="176" y="1314"/>
                </a:lnTo>
                <a:lnTo>
                  <a:pt x="141" y="1226"/>
                </a:lnTo>
                <a:lnTo>
                  <a:pt x="141" y="1138"/>
                </a:lnTo>
                <a:lnTo>
                  <a:pt x="141" y="1022"/>
                </a:lnTo>
                <a:lnTo>
                  <a:pt x="105" y="934"/>
                </a:lnTo>
                <a:lnTo>
                  <a:pt x="105" y="846"/>
                </a:lnTo>
                <a:lnTo>
                  <a:pt x="105" y="759"/>
                </a:lnTo>
                <a:lnTo>
                  <a:pt x="105" y="671"/>
                </a:lnTo>
                <a:lnTo>
                  <a:pt x="141" y="554"/>
                </a:lnTo>
                <a:lnTo>
                  <a:pt x="176" y="467"/>
                </a:lnTo>
                <a:lnTo>
                  <a:pt x="246" y="379"/>
                </a:lnTo>
                <a:lnTo>
                  <a:pt x="352" y="321"/>
                </a:lnTo>
                <a:lnTo>
                  <a:pt x="423" y="233"/>
                </a:lnTo>
                <a:lnTo>
                  <a:pt x="529" y="146"/>
                </a:lnTo>
                <a:lnTo>
                  <a:pt x="599" y="58"/>
                </a:lnTo>
                <a:lnTo>
                  <a:pt x="705" y="0"/>
                </a:lnTo>
                <a:lnTo>
                  <a:pt x="811" y="0"/>
                </a:lnTo>
                <a:lnTo>
                  <a:pt x="917" y="58"/>
                </a:lnTo>
                <a:lnTo>
                  <a:pt x="1023" y="58"/>
                </a:lnTo>
                <a:lnTo>
                  <a:pt x="1128" y="58"/>
                </a:lnTo>
                <a:lnTo>
                  <a:pt x="1270" y="58"/>
                </a:lnTo>
                <a:lnTo>
                  <a:pt x="1375" y="58"/>
                </a:lnTo>
                <a:lnTo>
                  <a:pt x="1481" y="58"/>
                </a:lnTo>
                <a:lnTo>
                  <a:pt x="1587" y="58"/>
                </a:lnTo>
                <a:lnTo>
                  <a:pt x="1693" y="29"/>
                </a:lnTo>
                <a:lnTo>
                  <a:pt x="1799" y="29"/>
                </a:lnTo>
                <a:lnTo>
                  <a:pt x="1905" y="29"/>
                </a:lnTo>
                <a:lnTo>
                  <a:pt x="2010" y="0"/>
                </a:lnTo>
                <a:lnTo>
                  <a:pt x="2116" y="0"/>
                </a:lnTo>
                <a:lnTo>
                  <a:pt x="2223" y="0"/>
                </a:lnTo>
                <a:lnTo>
                  <a:pt x="2329" y="29"/>
                </a:lnTo>
                <a:lnTo>
                  <a:pt x="2435" y="58"/>
                </a:lnTo>
                <a:lnTo>
                  <a:pt x="2576" y="58"/>
                </a:lnTo>
                <a:lnTo>
                  <a:pt x="2682" y="87"/>
                </a:lnTo>
                <a:lnTo>
                  <a:pt x="2823" y="116"/>
                </a:lnTo>
                <a:lnTo>
                  <a:pt x="2964" y="146"/>
                </a:lnTo>
                <a:lnTo>
                  <a:pt x="3070" y="175"/>
                </a:lnTo>
                <a:lnTo>
                  <a:pt x="3176" y="204"/>
                </a:lnTo>
                <a:lnTo>
                  <a:pt x="3281" y="233"/>
                </a:lnTo>
                <a:lnTo>
                  <a:pt x="3387" y="262"/>
                </a:lnTo>
                <a:lnTo>
                  <a:pt x="3493" y="292"/>
                </a:lnTo>
                <a:lnTo>
                  <a:pt x="3599" y="292"/>
                </a:lnTo>
                <a:lnTo>
                  <a:pt x="3775" y="379"/>
                </a:lnTo>
                <a:lnTo>
                  <a:pt x="3811" y="554"/>
                </a:lnTo>
                <a:lnTo>
                  <a:pt x="3881" y="642"/>
                </a:lnTo>
                <a:lnTo>
                  <a:pt x="3846" y="525"/>
                </a:lnTo>
                <a:lnTo>
                  <a:pt x="3775" y="379"/>
                </a:lnTo>
                <a:close/>
              </a:path>
            </a:pathLst>
          </a:custGeom>
          <a:solidFill>
            <a:srgbClr val="ff9999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499000" y="3149640"/>
            <a:ext cx="317880" cy="368640"/>
          </a:xfrm>
          <a:custGeom>
            <a:avLst/>
            <a:gdLst/>
            <a:ahLst/>
            <a:rect l="0" t="0" r="r" b="b"/>
            <a:pathLst>
              <a:path w="883" h="1024">
                <a:moveTo>
                  <a:pt x="35" y="1024"/>
                </a:moveTo>
                <a:lnTo>
                  <a:pt x="35" y="882"/>
                </a:lnTo>
                <a:lnTo>
                  <a:pt x="0" y="777"/>
                </a:lnTo>
                <a:lnTo>
                  <a:pt x="0" y="671"/>
                </a:lnTo>
                <a:lnTo>
                  <a:pt x="35" y="565"/>
                </a:lnTo>
                <a:lnTo>
                  <a:pt x="70" y="458"/>
                </a:lnTo>
                <a:lnTo>
                  <a:pt x="176" y="352"/>
                </a:lnTo>
                <a:lnTo>
                  <a:pt x="247" y="246"/>
                </a:lnTo>
                <a:lnTo>
                  <a:pt x="318" y="141"/>
                </a:lnTo>
                <a:lnTo>
                  <a:pt x="424" y="105"/>
                </a:lnTo>
                <a:lnTo>
                  <a:pt x="530" y="105"/>
                </a:lnTo>
                <a:lnTo>
                  <a:pt x="636" y="105"/>
                </a:lnTo>
                <a:lnTo>
                  <a:pt x="742" y="35"/>
                </a:lnTo>
                <a:lnTo>
                  <a:pt x="848" y="0"/>
                </a:lnTo>
                <a:lnTo>
                  <a:pt x="883" y="105"/>
                </a:lnTo>
                <a:lnTo>
                  <a:pt x="778" y="141"/>
                </a:lnTo>
                <a:lnTo>
                  <a:pt x="707" y="246"/>
                </a:lnTo>
                <a:lnTo>
                  <a:pt x="707" y="388"/>
                </a:lnTo>
                <a:lnTo>
                  <a:pt x="600" y="458"/>
                </a:lnTo>
                <a:lnTo>
                  <a:pt x="494" y="530"/>
                </a:lnTo>
                <a:lnTo>
                  <a:pt x="424" y="636"/>
                </a:lnTo>
                <a:lnTo>
                  <a:pt x="389" y="741"/>
                </a:lnTo>
                <a:lnTo>
                  <a:pt x="424" y="847"/>
                </a:lnTo>
                <a:lnTo>
                  <a:pt x="318" y="882"/>
                </a:lnTo>
                <a:lnTo>
                  <a:pt x="211" y="847"/>
                </a:lnTo>
                <a:lnTo>
                  <a:pt x="105" y="882"/>
                </a:lnTo>
                <a:lnTo>
                  <a:pt x="35" y="812"/>
                </a:lnTo>
                <a:lnTo>
                  <a:pt x="35" y="1024"/>
                </a:lnTo>
                <a:close/>
              </a:path>
            </a:pathLst>
          </a:custGeom>
          <a:solidFill>
            <a:srgbClr val="ff9999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80880" y="22860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More Time 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2463840" y="6146640"/>
            <a:ext cx="3670560" cy="344880"/>
          </a:xfrm>
          <a:custGeom>
            <a:avLst/>
            <a:gdLst/>
            <a:ahLst/>
            <a:rect l="0" t="0" r="r" b="b"/>
            <a:pathLst>
              <a:path w="10196" h="958">
                <a:moveTo>
                  <a:pt x="3764" y="216"/>
                </a:moveTo>
                <a:lnTo>
                  <a:pt x="3654" y="246"/>
                </a:lnTo>
                <a:lnTo>
                  <a:pt x="3570" y="246"/>
                </a:lnTo>
                <a:lnTo>
                  <a:pt x="3517" y="246"/>
                </a:lnTo>
                <a:lnTo>
                  <a:pt x="3407" y="216"/>
                </a:lnTo>
                <a:lnTo>
                  <a:pt x="3354" y="183"/>
                </a:lnTo>
                <a:lnTo>
                  <a:pt x="3297" y="183"/>
                </a:lnTo>
                <a:lnTo>
                  <a:pt x="3244" y="155"/>
                </a:lnTo>
                <a:lnTo>
                  <a:pt x="3217" y="155"/>
                </a:lnTo>
                <a:lnTo>
                  <a:pt x="2997" y="246"/>
                </a:lnTo>
                <a:lnTo>
                  <a:pt x="2781" y="340"/>
                </a:lnTo>
                <a:lnTo>
                  <a:pt x="2508" y="216"/>
                </a:lnTo>
                <a:lnTo>
                  <a:pt x="2208" y="94"/>
                </a:lnTo>
                <a:lnTo>
                  <a:pt x="2128" y="61"/>
                </a:lnTo>
                <a:lnTo>
                  <a:pt x="2098" y="61"/>
                </a:lnTo>
                <a:lnTo>
                  <a:pt x="2071" y="61"/>
                </a:lnTo>
                <a:lnTo>
                  <a:pt x="2045" y="94"/>
                </a:lnTo>
                <a:lnTo>
                  <a:pt x="762" y="279"/>
                </a:lnTo>
                <a:lnTo>
                  <a:pt x="357" y="524"/>
                </a:lnTo>
                <a:lnTo>
                  <a:pt x="273" y="646"/>
                </a:lnTo>
                <a:lnTo>
                  <a:pt x="246" y="679"/>
                </a:lnTo>
                <a:lnTo>
                  <a:pt x="246" y="679"/>
                </a:lnTo>
                <a:lnTo>
                  <a:pt x="273" y="646"/>
                </a:lnTo>
                <a:lnTo>
                  <a:pt x="326" y="585"/>
                </a:lnTo>
                <a:lnTo>
                  <a:pt x="357" y="585"/>
                </a:lnTo>
                <a:lnTo>
                  <a:pt x="357" y="618"/>
                </a:lnTo>
                <a:lnTo>
                  <a:pt x="357" y="742"/>
                </a:lnTo>
                <a:lnTo>
                  <a:pt x="299" y="803"/>
                </a:lnTo>
                <a:lnTo>
                  <a:pt x="189" y="836"/>
                </a:lnTo>
                <a:lnTo>
                  <a:pt x="83" y="864"/>
                </a:lnTo>
                <a:lnTo>
                  <a:pt x="0" y="897"/>
                </a:lnTo>
                <a:lnTo>
                  <a:pt x="110" y="958"/>
                </a:lnTo>
                <a:lnTo>
                  <a:pt x="189" y="958"/>
                </a:lnTo>
                <a:lnTo>
                  <a:pt x="273" y="925"/>
                </a:lnTo>
                <a:lnTo>
                  <a:pt x="383" y="897"/>
                </a:lnTo>
                <a:lnTo>
                  <a:pt x="489" y="742"/>
                </a:lnTo>
                <a:lnTo>
                  <a:pt x="573" y="679"/>
                </a:lnTo>
                <a:lnTo>
                  <a:pt x="656" y="679"/>
                </a:lnTo>
                <a:lnTo>
                  <a:pt x="819" y="742"/>
                </a:lnTo>
                <a:lnTo>
                  <a:pt x="899" y="864"/>
                </a:lnTo>
                <a:lnTo>
                  <a:pt x="982" y="897"/>
                </a:lnTo>
                <a:lnTo>
                  <a:pt x="1093" y="864"/>
                </a:lnTo>
                <a:lnTo>
                  <a:pt x="1198" y="775"/>
                </a:lnTo>
                <a:lnTo>
                  <a:pt x="1282" y="679"/>
                </a:lnTo>
                <a:lnTo>
                  <a:pt x="1362" y="679"/>
                </a:lnTo>
                <a:lnTo>
                  <a:pt x="1445" y="712"/>
                </a:lnTo>
                <a:lnTo>
                  <a:pt x="1555" y="775"/>
                </a:lnTo>
                <a:lnTo>
                  <a:pt x="1829" y="712"/>
                </a:lnTo>
                <a:lnTo>
                  <a:pt x="2128" y="679"/>
                </a:lnTo>
                <a:lnTo>
                  <a:pt x="2481" y="742"/>
                </a:lnTo>
                <a:lnTo>
                  <a:pt x="2671" y="742"/>
                </a:lnTo>
                <a:lnTo>
                  <a:pt x="2917" y="712"/>
                </a:lnTo>
                <a:lnTo>
                  <a:pt x="3133" y="679"/>
                </a:lnTo>
                <a:lnTo>
                  <a:pt x="3217" y="712"/>
                </a:lnTo>
                <a:lnTo>
                  <a:pt x="3270" y="742"/>
                </a:lnTo>
                <a:lnTo>
                  <a:pt x="3270" y="742"/>
                </a:lnTo>
                <a:lnTo>
                  <a:pt x="3517" y="958"/>
                </a:lnTo>
                <a:lnTo>
                  <a:pt x="3953" y="742"/>
                </a:lnTo>
                <a:lnTo>
                  <a:pt x="4579" y="742"/>
                </a:lnTo>
                <a:lnTo>
                  <a:pt x="5016" y="742"/>
                </a:lnTo>
                <a:lnTo>
                  <a:pt x="5068" y="864"/>
                </a:lnTo>
                <a:lnTo>
                  <a:pt x="5127" y="925"/>
                </a:lnTo>
                <a:lnTo>
                  <a:pt x="5237" y="958"/>
                </a:lnTo>
                <a:lnTo>
                  <a:pt x="5369" y="925"/>
                </a:lnTo>
                <a:lnTo>
                  <a:pt x="5479" y="897"/>
                </a:lnTo>
                <a:lnTo>
                  <a:pt x="5537" y="864"/>
                </a:lnTo>
                <a:lnTo>
                  <a:pt x="5590" y="897"/>
                </a:lnTo>
                <a:lnTo>
                  <a:pt x="5669" y="958"/>
                </a:lnTo>
                <a:lnTo>
                  <a:pt x="5779" y="958"/>
                </a:lnTo>
                <a:lnTo>
                  <a:pt x="5863" y="925"/>
                </a:lnTo>
                <a:lnTo>
                  <a:pt x="5916" y="925"/>
                </a:lnTo>
                <a:lnTo>
                  <a:pt x="5969" y="897"/>
                </a:lnTo>
                <a:lnTo>
                  <a:pt x="6026" y="864"/>
                </a:lnTo>
                <a:lnTo>
                  <a:pt x="6052" y="864"/>
                </a:lnTo>
                <a:lnTo>
                  <a:pt x="6326" y="897"/>
                </a:lnTo>
                <a:lnTo>
                  <a:pt x="6573" y="836"/>
                </a:lnTo>
                <a:lnTo>
                  <a:pt x="6736" y="897"/>
                </a:lnTo>
                <a:lnTo>
                  <a:pt x="6872" y="925"/>
                </a:lnTo>
                <a:lnTo>
                  <a:pt x="6952" y="958"/>
                </a:lnTo>
                <a:lnTo>
                  <a:pt x="6978" y="958"/>
                </a:lnTo>
                <a:lnTo>
                  <a:pt x="7088" y="925"/>
                </a:lnTo>
                <a:lnTo>
                  <a:pt x="7198" y="897"/>
                </a:lnTo>
                <a:lnTo>
                  <a:pt x="7251" y="897"/>
                </a:lnTo>
                <a:lnTo>
                  <a:pt x="7304" y="864"/>
                </a:lnTo>
                <a:lnTo>
                  <a:pt x="7304" y="864"/>
                </a:lnTo>
                <a:lnTo>
                  <a:pt x="7551" y="925"/>
                </a:lnTo>
                <a:lnTo>
                  <a:pt x="7688" y="958"/>
                </a:lnTo>
                <a:lnTo>
                  <a:pt x="7798" y="925"/>
                </a:lnTo>
                <a:lnTo>
                  <a:pt x="7908" y="897"/>
                </a:lnTo>
                <a:lnTo>
                  <a:pt x="8014" y="864"/>
                </a:lnTo>
                <a:lnTo>
                  <a:pt x="8124" y="836"/>
                </a:lnTo>
                <a:lnTo>
                  <a:pt x="8151" y="836"/>
                </a:lnTo>
                <a:lnTo>
                  <a:pt x="8450" y="897"/>
                </a:lnTo>
                <a:lnTo>
                  <a:pt x="8587" y="897"/>
                </a:lnTo>
                <a:lnTo>
                  <a:pt x="8724" y="864"/>
                </a:lnTo>
                <a:lnTo>
                  <a:pt x="8944" y="864"/>
                </a:lnTo>
                <a:lnTo>
                  <a:pt x="9160" y="836"/>
                </a:lnTo>
                <a:lnTo>
                  <a:pt x="9213" y="775"/>
                </a:lnTo>
                <a:lnTo>
                  <a:pt x="9270" y="712"/>
                </a:lnTo>
                <a:lnTo>
                  <a:pt x="9433" y="679"/>
                </a:lnTo>
                <a:lnTo>
                  <a:pt x="9596" y="679"/>
                </a:lnTo>
                <a:lnTo>
                  <a:pt x="9759" y="712"/>
                </a:lnTo>
                <a:lnTo>
                  <a:pt x="9896" y="712"/>
                </a:lnTo>
                <a:lnTo>
                  <a:pt x="10033" y="679"/>
                </a:lnTo>
                <a:lnTo>
                  <a:pt x="10112" y="618"/>
                </a:lnTo>
                <a:lnTo>
                  <a:pt x="10196" y="524"/>
                </a:lnTo>
                <a:lnTo>
                  <a:pt x="10169" y="462"/>
                </a:lnTo>
                <a:lnTo>
                  <a:pt x="10143" y="434"/>
                </a:lnTo>
                <a:lnTo>
                  <a:pt x="10112" y="401"/>
                </a:lnTo>
                <a:lnTo>
                  <a:pt x="10059" y="434"/>
                </a:lnTo>
                <a:lnTo>
                  <a:pt x="9980" y="462"/>
                </a:lnTo>
                <a:lnTo>
                  <a:pt x="9922" y="495"/>
                </a:lnTo>
                <a:lnTo>
                  <a:pt x="9896" y="495"/>
                </a:lnTo>
                <a:lnTo>
                  <a:pt x="9843" y="462"/>
                </a:lnTo>
                <a:lnTo>
                  <a:pt x="9733" y="462"/>
                </a:lnTo>
                <a:lnTo>
                  <a:pt x="9649" y="434"/>
                </a:lnTo>
                <a:lnTo>
                  <a:pt x="9570" y="401"/>
                </a:lnTo>
                <a:lnTo>
                  <a:pt x="9513" y="373"/>
                </a:lnTo>
                <a:lnTo>
                  <a:pt x="9433" y="307"/>
                </a:lnTo>
                <a:lnTo>
                  <a:pt x="9376" y="279"/>
                </a:lnTo>
                <a:lnTo>
                  <a:pt x="9349" y="246"/>
                </a:lnTo>
                <a:lnTo>
                  <a:pt x="8913" y="307"/>
                </a:lnTo>
                <a:lnTo>
                  <a:pt x="8508" y="373"/>
                </a:lnTo>
                <a:lnTo>
                  <a:pt x="8340" y="340"/>
                </a:lnTo>
                <a:lnTo>
                  <a:pt x="8177" y="340"/>
                </a:lnTo>
                <a:lnTo>
                  <a:pt x="8040" y="279"/>
                </a:lnTo>
                <a:lnTo>
                  <a:pt x="7908" y="216"/>
                </a:lnTo>
                <a:lnTo>
                  <a:pt x="7798" y="155"/>
                </a:lnTo>
                <a:lnTo>
                  <a:pt x="7714" y="94"/>
                </a:lnTo>
                <a:lnTo>
                  <a:pt x="7608" y="61"/>
                </a:lnTo>
                <a:lnTo>
                  <a:pt x="7578" y="32"/>
                </a:lnTo>
                <a:lnTo>
                  <a:pt x="7278" y="94"/>
                </a:lnTo>
                <a:lnTo>
                  <a:pt x="6978" y="155"/>
                </a:lnTo>
                <a:lnTo>
                  <a:pt x="6815" y="183"/>
                </a:lnTo>
                <a:lnTo>
                  <a:pt x="6652" y="122"/>
                </a:lnTo>
                <a:lnTo>
                  <a:pt x="6326" y="0"/>
                </a:lnTo>
                <a:lnTo>
                  <a:pt x="5942" y="61"/>
                </a:lnTo>
                <a:lnTo>
                  <a:pt x="5753" y="94"/>
                </a:lnTo>
                <a:lnTo>
                  <a:pt x="5563" y="155"/>
                </a:lnTo>
                <a:lnTo>
                  <a:pt x="5479" y="183"/>
                </a:lnTo>
                <a:lnTo>
                  <a:pt x="5369" y="216"/>
                </a:lnTo>
                <a:lnTo>
                  <a:pt x="5290" y="246"/>
                </a:lnTo>
                <a:lnTo>
                  <a:pt x="5263" y="246"/>
                </a:lnTo>
                <a:lnTo>
                  <a:pt x="5153" y="246"/>
                </a:lnTo>
                <a:lnTo>
                  <a:pt x="5016" y="216"/>
                </a:lnTo>
                <a:lnTo>
                  <a:pt x="4879" y="183"/>
                </a:lnTo>
                <a:lnTo>
                  <a:pt x="4826" y="155"/>
                </a:lnTo>
                <a:lnTo>
                  <a:pt x="4800" y="155"/>
                </a:lnTo>
                <a:lnTo>
                  <a:pt x="4663" y="183"/>
                </a:lnTo>
                <a:lnTo>
                  <a:pt x="4579" y="216"/>
                </a:lnTo>
                <a:lnTo>
                  <a:pt x="4469" y="216"/>
                </a:lnTo>
                <a:lnTo>
                  <a:pt x="4332" y="183"/>
                </a:lnTo>
                <a:lnTo>
                  <a:pt x="4279" y="155"/>
                </a:lnTo>
                <a:lnTo>
                  <a:pt x="4200" y="122"/>
                </a:lnTo>
                <a:lnTo>
                  <a:pt x="4143" y="94"/>
                </a:lnTo>
                <a:lnTo>
                  <a:pt x="4116" y="94"/>
                </a:lnTo>
                <a:lnTo>
                  <a:pt x="4033" y="122"/>
                </a:lnTo>
                <a:lnTo>
                  <a:pt x="3980" y="155"/>
                </a:lnTo>
                <a:lnTo>
                  <a:pt x="3927" y="183"/>
                </a:lnTo>
                <a:lnTo>
                  <a:pt x="3896" y="183"/>
                </a:lnTo>
                <a:lnTo>
                  <a:pt x="3817" y="155"/>
                </a:lnTo>
                <a:lnTo>
                  <a:pt x="3733" y="183"/>
                </a:lnTo>
                <a:lnTo>
                  <a:pt x="3706" y="216"/>
                </a:lnTo>
                <a:lnTo>
                  <a:pt x="3706" y="216"/>
                </a:lnTo>
                <a:lnTo>
                  <a:pt x="3764" y="216"/>
                </a:lnTo>
                <a:close/>
              </a:path>
            </a:pathLst>
          </a:custGeom>
          <a:solidFill>
            <a:srgbClr val="e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689280" y="6105600"/>
            <a:ext cx="752760" cy="209880"/>
          </a:xfrm>
          <a:custGeom>
            <a:avLst/>
            <a:gdLst/>
            <a:ahLst/>
            <a:rect l="0" t="0" r="r" b="b"/>
            <a:pathLst>
              <a:path w="2091" h="583">
                <a:moveTo>
                  <a:pt x="1376" y="185"/>
                </a:moveTo>
                <a:lnTo>
                  <a:pt x="978" y="52"/>
                </a:lnTo>
                <a:lnTo>
                  <a:pt x="714" y="0"/>
                </a:lnTo>
                <a:lnTo>
                  <a:pt x="423" y="105"/>
                </a:lnTo>
                <a:lnTo>
                  <a:pt x="132" y="264"/>
                </a:lnTo>
                <a:lnTo>
                  <a:pt x="0" y="477"/>
                </a:lnTo>
                <a:lnTo>
                  <a:pt x="185" y="583"/>
                </a:lnTo>
                <a:lnTo>
                  <a:pt x="2091" y="583"/>
                </a:lnTo>
                <a:lnTo>
                  <a:pt x="2091" y="185"/>
                </a:lnTo>
                <a:lnTo>
                  <a:pt x="1376" y="185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3031920" y="3456000"/>
            <a:ext cx="1203840" cy="955800"/>
            <a:chOff x="3031920" y="3456000"/>
            <a:chExt cx="1203840" cy="955800"/>
          </a:xfrm>
        </p:grpSpPr>
        <p:sp>
          <p:nvSpPr>
            <p:cNvPr id="392" name=""/>
            <p:cNvSpPr/>
            <p:nvPr/>
          </p:nvSpPr>
          <p:spPr>
            <a:xfrm>
              <a:off x="3031920" y="4108680"/>
              <a:ext cx="290520" cy="303120"/>
            </a:xfrm>
            <a:custGeom>
              <a:avLst/>
              <a:gdLst/>
              <a:ahLst/>
              <a:rect l="0" t="0" r="r" b="b"/>
              <a:pathLst>
                <a:path w="807" h="842">
                  <a:moveTo>
                    <a:pt x="258" y="23"/>
                  </a:moveTo>
                  <a:lnTo>
                    <a:pt x="258" y="23"/>
                  </a:lnTo>
                  <a:cubicBezTo>
                    <a:pt x="192" y="47"/>
                    <a:pt x="134" y="89"/>
                    <a:pt x="90" y="145"/>
                  </a:cubicBezTo>
                  <a:cubicBezTo>
                    <a:pt x="45" y="201"/>
                    <a:pt x="16" y="268"/>
                    <a:pt x="5" y="341"/>
                  </a:cubicBezTo>
                  <a:cubicBezTo>
                    <a:pt x="-6" y="413"/>
                    <a:pt x="2" y="488"/>
                    <a:pt x="28" y="558"/>
                  </a:cubicBezTo>
                  <a:cubicBezTo>
                    <a:pt x="53" y="628"/>
                    <a:pt x="95" y="691"/>
                    <a:pt x="150" y="739"/>
                  </a:cubicBezTo>
                  <a:cubicBezTo>
                    <a:pt x="206" y="788"/>
                    <a:pt x="271" y="821"/>
                    <a:pt x="341" y="835"/>
                  </a:cubicBezTo>
                  <a:cubicBezTo>
                    <a:pt x="411" y="849"/>
                    <a:pt x="483" y="844"/>
                    <a:pt x="549" y="820"/>
                  </a:cubicBezTo>
                  <a:lnTo>
                    <a:pt x="549" y="820"/>
                  </a:lnTo>
                  <a:lnTo>
                    <a:pt x="549" y="820"/>
                  </a:lnTo>
                  <a:cubicBezTo>
                    <a:pt x="615" y="796"/>
                    <a:pt x="673" y="754"/>
                    <a:pt x="717" y="698"/>
                  </a:cubicBezTo>
                  <a:cubicBezTo>
                    <a:pt x="762" y="642"/>
                    <a:pt x="791" y="575"/>
                    <a:pt x="802" y="502"/>
                  </a:cubicBezTo>
                  <a:cubicBezTo>
                    <a:pt x="813" y="430"/>
                    <a:pt x="805" y="355"/>
                    <a:pt x="779" y="285"/>
                  </a:cubicBezTo>
                  <a:cubicBezTo>
                    <a:pt x="754" y="215"/>
                    <a:pt x="712" y="152"/>
                    <a:pt x="657" y="104"/>
                  </a:cubicBezTo>
                  <a:cubicBezTo>
                    <a:pt x="601" y="55"/>
                    <a:pt x="536" y="22"/>
                    <a:pt x="466" y="8"/>
                  </a:cubicBezTo>
                  <a:cubicBezTo>
                    <a:pt x="396" y="-6"/>
                    <a:pt x="324" y="-1"/>
                    <a:pt x="258" y="23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289320" y="3456000"/>
              <a:ext cx="946440" cy="952920"/>
            </a:xfrm>
            <a:custGeom>
              <a:avLst/>
              <a:gdLst/>
              <a:ahLst/>
              <a:rect l="0" t="0" r="r" b="b"/>
              <a:pathLst>
                <a:path w="2629" h="2647">
                  <a:moveTo>
                    <a:pt x="2219" y="0"/>
                  </a:moveTo>
                  <a:lnTo>
                    <a:pt x="1998" y="198"/>
                  </a:lnTo>
                  <a:lnTo>
                    <a:pt x="1738" y="1032"/>
                  </a:lnTo>
                  <a:lnTo>
                    <a:pt x="1495" y="1654"/>
                  </a:lnTo>
                  <a:lnTo>
                    <a:pt x="0" y="1786"/>
                  </a:lnTo>
                  <a:lnTo>
                    <a:pt x="167" y="2647"/>
                  </a:lnTo>
                  <a:lnTo>
                    <a:pt x="2095" y="2325"/>
                  </a:lnTo>
                  <a:lnTo>
                    <a:pt x="2607" y="657"/>
                  </a:lnTo>
                  <a:lnTo>
                    <a:pt x="2629" y="233"/>
                  </a:lnTo>
                  <a:lnTo>
                    <a:pt x="2430" y="8"/>
                  </a:lnTo>
                  <a:lnTo>
                    <a:pt x="2219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3860640" y="4788000"/>
            <a:ext cx="914760" cy="1384560"/>
            <a:chOff x="3860640" y="4788000"/>
            <a:chExt cx="914760" cy="1384560"/>
          </a:xfrm>
        </p:grpSpPr>
        <p:sp>
          <p:nvSpPr>
            <p:cNvPr id="395" name=""/>
            <p:cNvSpPr/>
            <p:nvPr/>
          </p:nvSpPr>
          <p:spPr>
            <a:xfrm>
              <a:off x="3860640" y="4788000"/>
              <a:ext cx="914760" cy="1384560"/>
            </a:xfrm>
            <a:custGeom>
              <a:avLst/>
              <a:gdLst/>
              <a:ahLst/>
              <a:rect l="0" t="0" r="r" b="b"/>
              <a:pathLst>
                <a:path w="2541" h="3846">
                  <a:moveTo>
                    <a:pt x="635" y="35"/>
                  </a:moveTo>
                  <a:lnTo>
                    <a:pt x="0" y="2152"/>
                  </a:lnTo>
                  <a:lnTo>
                    <a:pt x="846" y="3846"/>
                  </a:lnTo>
                  <a:lnTo>
                    <a:pt x="1482" y="3846"/>
                  </a:lnTo>
                  <a:lnTo>
                    <a:pt x="1623" y="3846"/>
                  </a:lnTo>
                  <a:lnTo>
                    <a:pt x="811" y="2047"/>
                  </a:lnTo>
                  <a:lnTo>
                    <a:pt x="1164" y="846"/>
                  </a:lnTo>
                  <a:lnTo>
                    <a:pt x="776" y="2082"/>
                  </a:lnTo>
                  <a:lnTo>
                    <a:pt x="1623" y="3811"/>
                  </a:lnTo>
                  <a:lnTo>
                    <a:pt x="2435" y="3811"/>
                  </a:lnTo>
                  <a:lnTo>
                    <a:pt x="1659" y="2152"/>
                  </a:lnTo>
                  <a:lnTo>
                    <a:pt x="1764" y="1693"/>
                  </a:lnTo>
                  <a:lnTo>
                    <a:pt x="2541" y="0"/>
                  </a:lnTo>
                  <a:lnTo>
                    <a:pt x="635" y="35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057560" y="4952880"/>
              <a:ext cx="133560" cy="322560"/>
            </a:xfrm>
            <a:custGeom>
              <a:avLst/>
              <a:gdLst/>
              <a:ahLst/>
              <a:rect l="0" t="0" r="r" b="b"/>
              <a:pathLst>
                <a:path w="371" h="896">
                  <a:moveTo>
                    <a:pt x="186" y="22"/>
                  </a:moveTo>
                  <a:lnTo>
                    <a:pt x="165" y="114"/>
                  </a:lnTo>
                  <a:lnTo>
                    <a:pt x="121" y="187"/>
                  </a:lnTo>
                  <a:lnTo>
                    <a:pt x="63" y="397"/>
                  </a:lnTo>
                  <a:lnTo>
                    <a:pt x="0" y="613"/>
                  </a:lnTo>
                  <a:lnTo>
                    <a:pt x="19" y="681"/>
                  </a:lnTo>
                  <a:lnTo>
                    <a:pt x="63" y="731"/>
                  </a:lnTo>
                  <a:lnTo>
                    <a:pt x="102" y="777"/>
                  </a:lnTo>
                  <a:lnTo>
                    <a:pt x="165" y="823"/>
                  </a:lnTo>
                  <a:lnTo>
                    <a:pt x="230" y="850"/>
                  </a:lnTo>
                  <a:lnTo>
                    <a:pt x="269" y="850"/>
                  </a:lnTo>
                  <a:lnTo>
                    <a:pt x="269" y="873"/>
                  </a:lnTo>
                  <a:lnTo>
                    <a:pt x="269" y="896"/>
                  </a:lnTo>
                  <a:lnTo>
                    <a:pt x="230" y="896"/>
                  </a:lnTo>
                  <a:lnTo>
                    <a:pt x="165" y="873"/>
                  </a:lnTo>
                  <a:lnTo>
                    <a:pt x="165" y="658"/>
                  </a:lnTo>
                  <a:lnTo>
                    <a:pt x="146" y="635"/>
                  </a:lnTo>
                  <a:lnTo>
                    <a:pt x="146" y="613"/>
                  </a:lnTo>
                  <a:lnTo>
                    <a:pt x="186" y="590"/>
                  </a:lnTo>
                  <a:lnTo>
                    <a:pt x="249" y="539"/>
                  </a:lnTo>
                  <a:lnTo>
                    <a:pt x="312" y="517"/>
                  </a:lnTo>
                  <a:lnTo>
                    <a:pt x="351" y="517"/>
                  </a:lnTo>
                  <a:lnTo>
                    <a:pt x="371" y="471"/>
                  </a:lnTo>
                  <a:lnTo>
                    <a:pt x="371" y="424"/>
                  </a:lnTo>
                  <a:lnTo>
                    <a:pt x="351" y="397"/>
                  </a:lnTo>
                  <a:lnTo>
                    <a:pt x="288" y="374"/>
                  </a:lnTo>
                  <a:lnTo>
                    <a:pt x="249" y="397"/>
                  </a:lnTo>
                  <a:lnTo>
                    <a:pt x="230" y="447"/>
                  </a:lnTo>
                  <a:lnTo>
                    <a:pt x="186" y="517"/>
                  </a:lnTo>
                  <a:lnTo>
                    <a:pt x="121" y="447"/>
                  </a:lnTo>
                  <a:lnTo>
                    <a:pt x="102" y="424"/>
                  </a:lnTo>
                  <a:lnTo>
                    <a:pt x="146" y="374"/>
                  </a:lnTo>
                  <a:lnTo>
                    <a:pt x="205" y="328"/>
                  </a:lnTo>
                  <a:lnTo>
                    <a:pt x="230" y="306"/>
                  </a:lnTo>
                  <a:lnTo>
                    <a:pt x="249" y="283"/>
                  </a:lnTo>
                  <a:lnTo>
                    <a:pt x="332" y="0"/>
                  </a:lnTo>
                  <a:lnTo>
                    <a:pt x="312" y="45"/>
                  </a:lnTo>
                  <a:lnTo>
                    <a:pt x="249" y="91"/>
                  </a:lnTo>
                  <a:lnTo>
                    <a:pt x="205" y="91"/>
                  </a:lnTo>
                  <a:lnTo>
                    <a:pt x="186" y="68"/>
                  </a:lnTo>
                  <a:lnTo>
                    <a:pt x="186" y="22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49880" y="5238720"/>
              <a:ext cx="105120" cy="235440"/>
            </a:xfrm>
            <a:custGeom>
              <a:avLst/>
              <a:gdLst/>
              <a:ahLst/>
              <a:rect l="0" t="0" r="r" b="b"/>
              <a:pathLst>
                <a:path w="292" h="654">
                  <a:moveTo>
                    <a:pt x="145" y="97"/>
                  </a:moveTo>
                  <a:lnTo>
                    <a:pt x="104" y="169"/>
                  </a:lnTo>
                  <a:lnTo>
                    <a:pt x="81" y="218"/>
                  </a:lnTo>
                  <a:lnTo>
                    <a:pt x="63" y="267"/>
                  </a:lnTo>
                  <a:lnTo>
                    <a:pt x="40" y="338"/>
                  </a:lnTo>
                  <a:lnTo>
                    <a:pt x="22" y="387"/>
                  </a:lnTo>
                  <a:lnTo>
                    <a:pt x="0" y="436"/>
                  </a:lnTo>
                  <a:lnTo>
                    <a:pt x="0" y="436"/>
                  </a:lnTo>
                  <a:lnTo>
                    <a:pt x="40" y="508"/>
                  </a:lnTo>
                  <a:lnTo>
                    <a:pt x="81" y="583"/>
                  </a:lnTo>
                  <a:lnTo>
                    <a:pt x="210" y="654"/>
                  </a:lnTo>
                  <a:lnTo>
                    <a:pt x="169" y="605"/>
                  </a:lnTo>
                  <a:lnTo>
                    <a:pt x="145" y="556"/>
                  </a:lnTo>
                  <a:lnTo>
                    <a:pt x="145" y="534"/>
                  </a:lnTo>
                  <a:lnTo>
                    <a:pt x="187" y="458"/>
                  </a:lnTo>
                  <a:lnTo>
                    <a:pt x="145" y="436"/>
                  </a:lnTo>
                  <a:lnTo>
                    <a:pt x="145" y="387"/>
                  </a:lnTo>
                  <a:lnTo>
                    <a:pt x="169" y="365"/>
                  </a:lnTo>
                  <a:lnTo>
                    <a:pt x="210" y="338"/>
                  </a:lnTo>
                  <a:lnTo>
                    <a:pt x="251" y="289"/>
                  </a:lnTo>
                  <a:lnTo>
                    <a:pt x="292" y="240"/>
                  </a:lnTo>
                  <a:lnTo>
                    <a:pt x="292" y="218"/>
                  </a:lnTo>
                  <a:lnTo>
                    <a:pt x="292" y="169"/>
                  </a:lnTo>
                  <a:lnTo>
                    <a:pt x="273" y="97"/>
                  </a:lnTo>
                  <a:lnTo>
                    <a:pt x="210" y="26"/>
                  </a:lnTo>
                  <a:lnTo>
                    <a:pt x="169" y="0"/>
                  </a:lnTo>
                  <a:lnTo>
                    <a:pt x="169" y="26"/>
                  </a:lnTo>
                  <a:lnTo>
                    <a:pt x="145" y="48"/>
                  </a:lnTo>
                  <a:lnTo>
                    <a:pt x="145" y="97"/>
                  </a:lnTo>
                  <a:lnTo>
                    <a:pt x="145" y="119"/>
                  </a:lnTo>
                  <a:lnTo>
                    <a:pt x="145" y="119"/>
                  </a:lnTo>
                  <a:lnTo>
                    <a:pt x="145" y="97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3795840" y="1601640"/>
            <a:ext cx="1081080" cy="3275640"/>
            <a:chOff x="3795840" y="1601640"/>
            <a:chExt cx="1081080" cy="3275640"/>
          </a:xfrm>
        </p:grpSpPr>
        <p:sp>
          <p:nvSpPr>
            <p:cNvPr id="399" name=""/>
            <p:cNvSpPr/>
            <p:nvPr/>
          </p:nvSpPr>
          <p:spPr>
            <a:xfrm>
              <a:off x="3895560" y="3276720"/>
              <a:ext cx="981360" cy="1600560"/>
            </a:xfrm>
            <a:custGeom>
              <a:avLst/>
              <a:gdLst/>
              <a:ahLst/>
              <a:rect l="0" t="0" r="r" b="b"/>
              <a:pathLst>
                <a:path w="2726" h="4446">
                  <a:moveTo>
                    <a:pt x="953" y="374"/>
                  </a:moveTo>
                  <a:lnTo>
                    <a:pt x="865" y="392"/>
                  </a:lnTo>
                  <a:lnTo>
                    <a:pt x="799" y="436"/>
                  </a:lnTo>
                  <a:lnTo>
                    <a:pt x="672" y="582"/>
                  </a:lnTo>
                  <a:lnTo>
                    <a:pt x="540" y="723"/>
                  </a:lnTo>
                  <a:lnTo>
                    <a:pt x="391" y="851"/>
                  </a:lnTo>
                  <a:lnTo>
                    <a:pt x="369" y="890"/>
                  </a:lnTo>
                  <a:lnTo>
                    <a:pt x="347" y="930"/>
                  </a:lnTo>
                  <a:lnTo>
                    <a:pt x="347" y="930"/>
                  </a:lnTo>
                  <a:lnTo>
                    <a:pt x="369" y="930"/>
                  </a:lnTo>
                  <a:lnTo>
                    <a:pt x="153" y="1553"/>
                  </a:lnTo>
                  <a:lnTo>
                    <a:pt x="0" y="4345"/>
                  </a:lnTo>
                  <a:lnTo>
                    <a:pt x="2726" y="4446"/>
                  </a:lnTo>
                  <a:lnTo>
                    <a:pt x="2317" y="1844"/>
                  </a:lnTo>
                  <a:lnTo>
                    <a:pt x="2119" y="414"/>
                  </a:lnTo>
                  <a:lnTo>
                    <a:pt x="1385" y="0"/>
                  </a:lnTo>
                  <a:lnTo>
                    <a:pt x="953" y="374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3795840" y="1601640"/>
              <a:ext cx="1005120" cy="1818000"/>
              <a:chOff x="3795840" y="1601640"/>
              <a:chExt cx="1005120" cy="1818000"/>
            </a:xfrm>
          </p:grpSpPr>
          <p:sp>
            <p:nvSpPr>
              <p:cNvPr id="401" name=""/>
              <p:cNvSpPr/>
              <p:nvPr/>
            </p:nvSpPr>
            <p:spPr>
              <a:xfrm>
                <a:off x="3905280" y="1838160"/>
                <a:ext cx="895680" cy="1581480"/>
              </a:xfrm>
              <a:custGeom>
                <a:avLst/>
                <a:gdLst/>
                <a:ahLst/>
                <a:rect l="0" t="0" r="r" b="b"/>
                <a:pathLst>
                  <a:path w="2488" h="4393">
                    <a:moveTo>
                      <a:pt x="582" y="0"/>
                    </a:moveTo>
                    <a:lnTo>
                      <a:pt x="264" y="264"/>
                    </a:lnTo>
                    <a:lnTo>
                      <a:pt x="79" y="687"/>
                    </a:lnTo>
                    <a:lnTo>
                      <a:pt x="26" y="1217"/>
                    </a:lnTo>
                    <a:lnTo>
                      <a:pt x="0" y="2699"/>
                    </a:lnTo>
                    <a:lnTo>
                      <a:pt x="52" y="3546"/>
                    </a:lnTo>
                    <a:lnTo>
                      <a:pt x="820" y="3599"/>
                    </a:lnTo>
                    <a:lnTo>
                      <a:pt x="926" y="4075"/>
                    </a:lnTo>
                    <a:lnTo>
                      <a:pt x="1031" y="4393"/>
                    </a:lnTo>
                    <a:lnTo>
                      <a:pt x="1271" y="4393"/>
                    </a:lnTo>
                    <a:lnTo>
                      <a:pt x="1403" y="4102"/>
                    </a:lnTo>
                    <a:lnTo>
                      <a:pt x="1323" y="3599"/>
                    </a:lnTo>
                    <a:lnTo>
                      <a:pt x="2038" y="3519"/>
                    </a:lnTo>
                    <a:lnTo>
                      <a:pt x="2064" y="3017"/>
                    </a:lnTo>
                    <a:lnTo>
                      <a:pt x="2223" y="3096"/>
                    </a:lnTo>
                    <a:lnTo>
                      <a:pt x="2382" y="3043"/>
                    </a:lnTo>
                    <a:lnTo>
                      <a:pt x="2488" y="2620"/>
                    </a:lnTo>
                    <a:lnTo>
                      <a:pt x="2355" y="2408"/>
                    </a:lnTo>
                    <a:lnTo>
                      <a:pt x="2197" y="2435"/>
                    </a:lnTo>
                    <a:lnTo>
                      <a:pt x="2355" y="185"/>
                    </a:lnTo>
                    <a:lnTo>
                      <a:pt x="582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795840" y="2281320"/>
                <a:ext cx="409680" cy="4096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148280" y="2243160"/>
                <a:ext cx="485640" cy="4856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38720" y="2443320"/>
                <a:ext cx="85680" cy="85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4560" bIns="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929040" y="2452680"/>
                <a:ext cx="85680" cy="85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4560" bIns="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135320" y="1630440"/>
                <a:ext cx="7920" cy="217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4249800" y="1611360"/>
                <a:ext cx="17280" cy="217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4411800" y="1601640"/>
                <a:ext cx="36360" cy="227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4573440" y="1649520"/>
                <a:ext cx="55800" cy="198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4716360" y="1677960"/>
                <a:ext cx="55800" cy="179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895560" y="2790720"/>
                <a:ext cx="657720" cy="257400"/>
              </a:xfrm>
              <a:custGeom>
                <a:avLst/>
                <a:gdLst/>
                <a:ahLst/>
                <a:rect l="0" t="0" r="r" b="b"/>
                <a:pathLst>
                  <a:path w="1827" h="715">
                    <a:moveTo>
                      <a:pt x="0" y="0"/>
                    </a:moveTo>
                    <a:lnTo>
                      <a:pt x="1827" y="163"/>
                    </a:lnTo>
                    <a:lnTo>
                      <a:pt x="746" y="7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2" name=""/>
            <p:cNvSpPr/>
            <p:nvPr/>
          </p:nvSpPr>
          <p:spPr>
            <a:xfrm>
              <a:off x="4191120" y="3286080"/>
              <a:ext cx="305280" cy="181440"/>
            </a:xfrm>
            <a:custGeom>
              <a:avLst/>
              <a:gdLst/>
              <a:ahLst/>
              <a:rect l="0" t="0" r="r" b="b"/>
              <a:pathLst>
                <a:path w="848" h="504">
                  <a:moveTo>
                    <a:pt x="0" y="344"/>
                  </a:moveTo>
                  <a:lnTo>
                    <a:pt x="239" y="478"/>
                  </a:lnTo>
                  <a:lnTo>
                    <a:pt x="663" y="504"/>
                  </a:lnTo>
                  <a:lnTo>
                    <a:pt x="848" y="265"/>
                  </a:lnTo>
                  <a:lnTo>
                    <a:pt x="848" y="79"/>
                  </a:lnTo>
                  <a:lnTo>
                    <a:pt x="663" y="0"/>
                  </a:lnTo>
                  <a:lnTo>
                    <a:pt x="477" y="265"/>
                  </a:lnTo>
                  <a:lnTo>
                    <a:pt x="185" y="292"/>
                  </a:lnTo>
                  <a:lnTo>
                    <a:pt x="0" y="344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3994200" y="6105600"/>
            <a:ext cx="752760" cy="209880"/>
          </a:xfrm>
          <a:custGeom>
            <a:avLst/>
            <a:gdLst/>
            <a:ahLst/>
            <a:rect l="0" t="0" r="r" b="b"/>
            <a:pathLst>
              <a:path w="2091" h="583">
                <a:moveTo>
                  <a:pt x="1376" y="185"/>
                </a:moveTo>
                <a:lnTo>
                  <a:pt x="978" y="52"/>
                </a:lnTo>
                <a:lnTo>
                  <a:pt x="714" y="0"/>
                </a:lnTo>
                <a:lnTo>
                  <a:pt x="423" y="105"/>
                </a:lnTo>
                <a:lnTo>
                  <a:pt x="132" y="264"/>
                </a:lnTo>
                <a:lnTo>
                  <a:pt x="0" y="477"/>
                </a:lnTo>
                <a:lnTo>
                  <a:pt x="185" y="583"/>
                </a:lnTo>
                <a:lnTo>
                  <a:pt x="2091" y="583"/>
                </a:lnTo>
                <a:lnTo>
                  <a:pt x="2091" y="185"/>
                </a:lnTo>
                <a:lnTo>
                  <a:pt x="1376" y="185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4019400" y="3886200"/>
            <a:ext cx="756000" cy="983160"/>
            <a:chOff x="4019400" y="3886200"/>
            <a:chExt cx="756000" cy="983160"/>
          </a:xfrm>
        </p:grpSpPr>
        <p:sp>
          <p:nvSpPr>
            <p:cNvPr id="415" name=""/>
            <p:cNvSpPr/>
            <p:nvPr/>
          </p:nvSpPr>
          <p:spPr>
            <a:xfrm>
              <a:off x="4200480" y="4233960"/>
              <a:ext cx="276480" cy="562320"/>
            </a:xfrm>
            <a:custGeom>
              <a:avLst/>
              <a:gdLst/>
              <a:ahLst/>
              <a:rect l="0" t="0" r="r" b="b"/>
              <a:pathLst>
                <a:path w="768" h="1562">
                  <a:moveTo>
                    <a:pt x="196" y="62"/>
                  </a:moveTo>
                  <a:lnTo>
                    <a:pt x="235" y="22"/>
                  </a:lnTo>
                  <a:lnTo>
                    <a:pt x="274" y="0"/>
                  </a:lnTo>
                  <a:lnTo>
                    <a:pt x="313" y="22"/>
                  </a:lnTo>
                  <a:lnTo>
                    <a:pt x="374" y="40"/>
                  </a:lnTo>
                  <a:lnTo>
                    <a:pt x="471" y="0"/>
                  </a:lnTo>
                  <a:lnTo>
                    <a:pt x="511" y="0"/>
                  </a:lnTo>
                  <a:lnTo>
                    <a:pt x="572" y="0"/>
                  </a:lnTo>
                  <a:lnTo>
                    <a:pt x="572" y="62"/>
                  </a:lnTo>
                  <a:lnTo>
                    <a:pt x="572" y="80"/>
                  </a:lnTo>
                  <a:lnTo>
                    <a:pt x="511" y="142"/>
                  </a:lnTo>
                  <a:lnTo>
                    <a:pt x="532" y="227"/>
                  </a:lnTo>
                  <a:lnTo>
                    <a:pt x="532" y="289"/>
                  </a:lnTo>
                  <a:lnTo>
                    <a:pt x="572" y="330"/>
                  </a:lnTo>
                  <a:lnTo>
                    <a:pt x="611" y="392"/>
                  </a:lnTo>
                  <a:lnTo>
                    <a:pt x="589" y="535"/>
                  </a:lnTo>
                  <a:lnTo>
                    <a:pt x="550" y="637"/>
                  </a:lnTo>
                  <a:lnTo>
                    <a:pt x="589" y="700"/>
                  </a:lnTo>
                  <a:lnTo>
                    <a:pt x="650" y="780"/>
                  </a:lnTo>
                  <a:lnTo>
                    <a:pt x="707" y="861"/>
                  </a:lnTo>
                  <a:lnTo>
                    <a:pt x="729" y="924"/>
                  </a:lnTo>
                  <a:lnTo>
                    <a:pt x="746" y="986"/>
                  </a:lnTo>
                  <a:lnTo>
                    <a:pt x="768" y="1026"/>
                  </a:lnTo>
                  <a:lnTo>
                    <a:pt x="768" y="1026"/>
                  </a:lnTo>
                  <a:lnTo>
                    <a:pt x="746" y="1174"/>
                  </a:lnTo>
                  <a:lnTo>
                    <a:pt x="729" y="1294"/>
                  </a:lnTo>
                  <a:lnTo>
                    <a:pt x="707" y="1419"/>
                  </a:lnTo>
                  <a:lnTo>
                    <a:pt x="668" y="1562"/>
                  </a:lnTo>
                  <a:lnTo>
                    <a:pt x="668" y="1521"/>
                  </a:lnTo>
                  <a:lnTo>
                    <a:pt x="668" y="1481"/>
                  </a:lnTo>
                  <a:lnTo>
                    <a:pt x="689" y="1437"/>
                  </a:lnTo>
                  <a:lnTo>
                    <a:pt x="689" y="1419"/>
                  </a:lnTo>
                  <a:lnTo>
                    <a:pt x="668" y="1356"/>
                  </a:lnTo>
                  <a:lnTo>
                    <a:pt x="650" y="1276"/>
                  </a:lnTo>
                  <a:lnTo>
                    <a:pt x="668" y="1214"/>
                  </a:lnTo>
                  <a:lnTo>
                    <a:pt x="689" y="1191"/>
                  </a:lnTo>
                  <a:lnTo>
                    <a:pt x="689" y="1174"/>
                  </a:lnTo>
                  <a:lnTo>
                    <a:pt x="668" y="1049"/>
                  </a:lnTo>
                  <a:lnTo>
                    <a:pt x="628" y="986"/>
                  </a:lnTo>
                  <a:lnTo>
                    <a:pt x="589" y="946"/>
                  </a:lnTo>
                  <a:lnTo>
                    <a:pt x="550" y="884"/>
                  </a:lnTo>
                  <a:lnTo>
                    <a:pt x="511" y="821"/>
                  </a:lnTo>
                  <a:lnTo>
                    <a:pt x="471" y="861"/>
                  </a:lnTo>
                  <a:lnTo>
                    <a:pt x="432" y="884"/>
                  </a:lnTo>
                  <a:lnTo>
                    <a:pt x="393" y="906"/>
                  </a:lnTo>
                  <a:lnTo>
                    <a:pt x="374" y="924"/>
                  </a:lnTo>
                  <a:lnTo>
                    <a:pt x="353" y="924"/>
                  </a:lnTo>
                  <a:lnTo>
                    <a:pt x="353" y="843"/>
                  </a:lnTo>
                  <a:lnTo>
                    <a:pt x="353" y="821"/>
                  </a:lnTo>
                  <a:lnTo>
                    <a:pt x="353" y="803"/>
                  </a:lnTo>
                  <a:lnTo>
                    <a:pt x="374" y="758"/>
                  </a:lnTo>
                  <a:lnTo>
                    <a:pt x="393" y="718"/>
                  </a:lnTo>
                  <a:lnTo>
                    <a:pt x="393" y="718"/>
                  </a:lnTo>
                  <a:lnTo>
                    <a:pt x="393" y="740"/>
                  </a:lnTo>
                  <a:lnTo>
                    <a:pt x="393" y="758"/>
                  </a:lnTo>
                  <a:lnTo>
                    <a:pt x="374" y="780"/>
                  </a:lnTo>
                  <a:lnTo>
                    <a:pt x="335" y="758"/>
                  </a:lnTo>
                  <a:lnTo>
                    <a:pt x="313" y="740"/>
                  </a:lnTo>
                  <a:lnTo>
                    <a:pt x="296" y="740"/>
                  </a:lnTo>
                  <a:lnTo>
                    <a:pt x="274" y="758"/>
                  </a:lnTo>
                  <a:lnTo>
                    <a:pt x="257" y="780"/>
                  </a:lnTo>
                  <a:lnTo>
                    <a:pt x="196" y="718"/>
                  </a:lnTo>
                  <a:lnTo>
                    <a:pt x="178" y="780"/>
                  </a:lnTo>
                  <a:lnTo>
                    <a:pt x="156" y="803"/>
                  </a:lnTo>
                  <a:lnTo>
                    <a:pt x="117" y="780"/>
                  </a:lnTo>
                  <a:lnTo>
                    <a:pt x="39" y="758"/>
                  </a:lnTo>
                  <a:lnTo>
                    <a:pt x="17" y="740"/>
                  </a:lnTo>
                  <a:lnTo>
                    <a:pt x="0" y="700"/>
                  </a:lnTo>
                  <a:lnTo>
                    <a:pt x="17" y="677"/>
                  </a:lnTo>
                  <a:lnTo>
                    <a:pt x="39" y="677"/>
                  </a:lnTo>
                  <a:lnTo>
                    <a:pt x="117" y="700"/>
                  </a:lnTo>
                  <a:lnTo>
                    <a:pt x="196" y="718"/>
                  </a:lnTo>
                  <a:lnTo>
                    <a:pt x="196" y="718"/>
                  </a:lnTo>
                  <a:lnTo>
                    <a:pt x="178" y="700"/>
                  </a:lnTo>
                  <a:lnTo>
                    <a:pt x="156" y="677"/>
                  </a:lnTo>
                  <a:lnTo>
                    <a:pt x="139" y="655"/>
                  </a:lnTo>
                  <a:lnTo>
                    <a:pt x="139" y="637"/>
                  </a:lnTo>
                  <a:lnTo>
                    <a:pt x="139" y="597"/>
                  </a:lnTo>
                  <a:lnTo>
                    <a:pt x="156" y="553"/>
                  </a:lnTo>
                  <a:lnTo>
                    <a:pt x="178" y="535"/>
                  </a:lnTo>
                  <a:lnTo>
                    <a:pt x="178" y="472"/>
                  </a:lnTo>
                  <a:lnTo>
                    <a:pt x="178" y="410"/>
                  </a:lnTo>
                  <a:lnTo>
                    <a:pt x="178" y="267"/>
                  </a:lnTo>
                  <a:lnTo>
                    <a:pt x="139" y="227"/>
                  </a:lnTo>
                  <a:lnTo>
                    <a:pt x="117" y="205"/>
                  </a:lnTo>
                  <a:lnTo>
                    <a:pt x="117" y="182"/>
                  </a:lnTo>
                  <a:lnTo>
                    <a:pt x="139" y="165"/>
                  </a:lnTo>
                  <a:lnTo>
                    <a:pt x="156" y="142"/>
                  </a:lnTo>
                  <a:lnTo>
                    <a:pt x="156" y="124"/>
                  </a:lnTo>
                  <a:lnTo>
                    <a:pt x="196" y="62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417920" y="3987720"/>
              <a:ext cx="174960" cy="165600"/>
            </a:xfrm>
            <a:custGeom>
              <a:avLst/>
              <a:gdLst/>
              <a:ahLst/>
              <a:rect l="0" t="0" r="r" b="b"/>
              <a:pathLst>
                <a:path w="486" h="460">
                  <a:moveTo>
                    <a:pt x="100" y="271"/>
                  </a:moveTo>
                  <a:lnTo>
                    <a:pt x="100" y="189"/>
                  </a:lnTo>
                  <a:lnTo>
                    <a:pt x="150" y="102"/>
                  </a:lnTo>
                  <a:lnTo>
                    <a:pt x="257" y="51"/>
                  </a:lnTo>
                  <a:lnTo>
                    <a:pt x="357" y="0"/>
                  </a:lnTo>
                  <a:lnTo>
                    <a:pt x="413" y="34"/>
                  </a:lnTo>
                  <a:lnTo>
                    <a:pt x="486" y="85"/>
                  </a:lnTo>
                  <a:lnTo>
                    <a:pt x="486" y="121"/>
                  </a:lnTo>
                  <a:lnTo>
                    <a:pt x="486" y="121"/>
                  </a:lnTo>
                  <a:lnTo>
                    <a:pt x="435" y="121"/>
                  </a:lnTo>
                  <a:lnTo>
                    <a:pt x="335" y="172"/>
                  </a:lnTo>
                  <a:lnTo>
                    <a:pt x="228" y="241"/>
                  </a:lnTo>
                  <a:lnTo>
                    <a:pt x="206" y="322"/>
                  </a:lnTo>
                  <a:lnTo>
                    <a:pt x="206" y="357"/>
                  </a:lnTo>
                  <a:lnTo>
                    <a:pt x="178" y="392"/>
                  </a:lnTo>
                  <a:lnTo>
                    <a:pt x="150" y="426"/>
                  </a:lnTo>
                  <a:lnTo>
                    <a:pt x="100" y="443"/>
                  </a:lnTo>
                  <a:lnTo>
                    <a:pt x="72" y="460"/>
                  </a:lnTo>
                  <a:lnTo>
                    <a:pt x="50" y="460"/>
                  </a:lnTo>
                  <a:lnTo>
                    <a:pt x="0" y="426"/>
                  </a:lnTo>
                  <a:lnTo>
                    <a:pt x="0" y="392"/>
                  </a:lnTo>
                  <a:lnTo>
                    <a:pt x="22" y="374"/>
                  </a:lnTo>
                  <a:lnTo>
                    <a:pt x="50" y="305"/>
                  </a:lnTo>
                  <a:lnTo>
                    <a:pt x="72" y="288"/>
                  </a:lnTo>
                  <a:lnTo>
                    <a:pt x="100" y="288"/>
                  </a:lnTo>
                  <a:lnTo>
                    <a:pt x="100" y="271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019400" y="4159080"/>
              <a:ext cx="201960" cy="267120"/>
            </a:xfrm>
            <a:custGeom>
              <a:avLst/>
              <a:gdLst/>
              <a:ahLst/>
              <a:rect l="0" t="0" r="r" b="b"/>
              <a:pathLst>
                <a:path w="561" h="742">
                  <a:moveTo>
                    <a:pt x="424" y="581"/>
                  </a:moveTo>
                  <a:lnTo>
                    <a:pt x="315" y="442"/>
                  </a:lnTo>
                  <a:lnTo>
                    <a:pt x="204" y="281"/>
                  </a:lnTo>
                  <a:lnTo>
                    <a:pt x="204" y="200"/>
                  </a:lnTo>
                  <a:lnTo>
                    <a:pt x="204" y="118"/>
                  </a:lnTo>
                  <a:lnTo>
                    <a:pt x="245" y="56"/>
                  </a:lnTo>
                  <a:lnTo>
                    <a:pt x="315" y="0"/>
                  </a:lnTo>
                  <a:lnTo>
                    <a:pt x="335" y="37"/>
                  </a:lnTo>
                  <a:lnTo>
                    <a:pt x="383" y="56"/>
                  </a:lnTo>
                  <a:lnTo>
                    <a:pt x="404" y="99"/>
                  </a:lnTo>
                  <a:lnTo>
                    <a:pt x="404" y="118"/>
                  </a:lnTo>
                  <a:lnTo>
                    <a:pt x="294" y="161"/>
                  </a:lnTo>
                  <a:lnTo>
                    <a:pt x="177" y="200"/>
                  </a:lnTo>
                  <a:lnTo>
                    <a:pt x="225" y="219"/>
                  </a:lnTo>
                  <a:lnTo>
                    <a:pt x="245" y="219"/>
                  </a:lnTo>
                  <a:lnTo>
                    <a:pt x="294" y="219"/>
                  </a:lnTo>
                  <a:lnTo>
                    <a:pt x="315" y="219"/>
                  </a:lnTo>
                  <a:lnTo>
                    <a:pt x="356" y="243"/>
                  </a:lnTo>
                  <a:lnTo>
                    <a:pt x="445" y="262"/>
                  </a:lnTo>
                  <a:lnTo>
                    <a:pt x="472" y="281"/>
                  </a:lnTo>
                  <a:lnTo>
                    <a:pt x="492" y="281"/>
                  </a:lnTo>
                  <a:lnTo>
                    <a:pt x="534" y="361"/>
                  </a:lnTo>
                  <a:lnTo>
                    <a:pt x="561" y="442"/>
                  </a:lnTo>
                  <a:lnTo>
                    <a:pt x="534" y="504"/>
                  </a:lnTo>
                  <a:lnTo>
                    <a:pt x="492" y="542"/>
                  </a:lnTo>
                  <a:lnTo>
                    <a:pt x="356" y="605"/>
                  </a:lnTo>
                  <a:lnTo>
                    <a:pt x="204" y="643"/>
                  </a:lnTo>
                  <a:lnTo>
                    <a:pt x="157" y="685"/>
                  </a:lnTo>
                  <a:lnTo>
                    <a:pt x="88" y="723"/>
                  </a:lnTo>
                  <a:lnTo>
                    <a:pt x="47" y="742"/>
                  </a:lnTo>
                  <a:lnTo>
                    <a:pt x="26" y="723"/>
                  </a:lnTo>
                  <a:lnTo>
                    <a:pt x="0" y="685"/>
                  </a:lnTo>
                  <a:lnTo>
                    <a:pt x="88" y="643"/>
                  </a:lnTo>
                  <a:lnTo>
                    <a:pt x="157" y="643"/>
                  </a:lnTo>
                  <a:lnTo>
                    <a:pt x="225" y="624"/>
                  </a:lnTo>
                  <a:lnTo>
                    <a:pt x="315" y="581"/>
                  </a:lnTo>
                  <a:lnTo>
                    <a:pt x="356" y="542"/>
                  </a:lnTo>
                  <a:lnTo>
                    <a:pt x="356" y="523"/>
                  </a:lnTo>
                  <a:lnTo>
                    <a:pt x="383" y="542"/>
                  </a:lnTo>
                  <a:lnTo>
                    <a:pt x="424" y="581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95720" y="4656240"/>
              <a:ext cx="297360" cy="111600"/>
            </a:xfrm>
            <a:custGeom>
              <a:avLst/>
              <a:gdLst/>
              <a:ahLst/>
              <a:rect l="0" t="0" r="r" b="b"/>
              <a:pathLst>
                <a:path w="826" h="310">
                  <a:moveTo>
                    <a:pt x="625" y="67"/>
                  </a:moveTo>
                  <a:lnTo>
                    <a:pt x="559" y="136"/>
                  </a:lnTo>
                  <a:lnTo>
                    <a:pt x="513" y="174"/>
                  </a:lnTo>
                  <a:lnTo>
                    <a:pt x="468" y="106"/>
                  </a:lnTo>
                  <a:lnTo>
                    <a:pt x="403" y="37"/>
                  </a:lnTo>
                  <a:lnTo>
                    <a:pt x="201" y="106"/>
                  </a:lnTo>
                  <a:lnTo>
                    <a:pt x="0" y="211"/>
                  </a:lnTo>
                  <a:lnTo>
                    <a:pt x="20" y="310"/>
                  </a:lnTo>
                  <a:lnTo>
                    <a:pt x="90" y="310"/>
                  </a:lnTo>
                  <a:lnTo>
                    <a:pt x="247" y="310"/>
                  </a:lnTo>
                  <a:lnTo>
                    <a:pt x="267" y="280"/>
                  </a:lnTo>
                  <a:lnTo>
                    <a:pt x="332" y="242"/>
                  </a:lnTo>
                  <a:lnTo>
                    <a:pt x="378" y="211"/>
                  </a:lnTo>
                  <a:lnTo>
                    <a:pt x="403" y="211"/>
                  </a:lnTo>
                  <a:lnTo>
                    <a:pt x="448" y="242"/>
                  </a:lnTo>
                  <a:lnTo>
                    <a:pt x="513" y="280"/>
                  </a:lnTo>
                  <a:lnTo>
                    <a:pt x="559" y="310"/>
                  </a:lnTo>
                  <a:lnTo>
                    <a:pt x="579" y="310"/>
                  </a:lnTo>
                  <a:lnTo>
                    <a:pt x="645" y="310"/>
                  </a:lnTo>
                  <a:lnTo>
                    <a:pt x="715" y="280"/>
                  </a:lnTo>
                  <a:lnTo>
                    <a:pt x="736" y="211"/>
                  </a:lnTo>
                  <a:lnTo>
                    <a:pt x="801" y="67"/>
                  </a:lnTo>
                  <a:lnTo>
                    <a:pt x="826" y="37"/>
                  </a:lnTo>
                  <a:lnTo>
                    <a:pt x="826" y="0"/>
                  </a:lnTo>
                  <a:lnTo>
                    <a:pt x="801" y="37"/>
                  </a:lnTo>
                  <a:lnTo>
                    <a:pt x="761" y="67"/>
                  </a:lnTo>
                  <a:lnTo>
                    <a:pt x="715" y="174"/>
                  </a:lnTo>
                  <a:lnTo>
                    <a:pt x="670" y="242"/>
                  </a:lnTo>
                  <a:lnTo>
                    <a:pt x="645" y="242"/>
                  </a:lnTo>
                  <a:lnTo>
                    <a:pt x="625" y="242"/>
                  </a:lnTo>
                  <a:lnTo>
                    <a:pt x="625" y="174"/>
                  </a:lnTo>
                  <a:lnTo>
                    <a:pt x="625" y="67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084560" y="3886200"/>
              <a:ext cx="279720" cy="230400"/>
            </a:xfrm>
            <a:custGeom>
              <a:avLst/>
              <a:gdLst/>
              <a:ahLst/>
              <a:rect l="0" t="0" r="r" b="b"/>
              <a:pathLst>
                <a:path w="777" h="640">
                  <a:moveTo>
                    <a:pt x="648" y="604"/>
                  </a:moveTo>
                  <a:lnTo>
                    <a:pt x="629" y="427"/>
                  </a:lnTo>
                  <a:lnTo>
                    <a:pt x="629" y="267"/>
                  </a:lnTo>
                  <a:lnTo>
                    <a:pt x="629" y="194"/>
                  </a:lnTo>
                  <a:lnTo>
                    <a:pt x="586" y="122"/>
                  </a:lnTo>
                  <a:lnTo>
                    <a:pt x="543" y="54"/>
                  </a:lnTo>
                  <a:lnTo>
                    <a:pt x="462" y="0"/>
                  </a:lnTo>
                  <a:lnTo>
                    <a:pt x="481" y="122"/>
                  </a:lnTo>
                  <a:lnTo>
                    <a:pt x="524" y="176"/>
                  </a:lnTo>
                  <a:lnTo>
                    <a:pt x="567" y="249"/>
                  </a:lnTo>
                  <a:lnTo>
                    <a:pt x="396" y="336"/>
                  </a:lnTo>
                  <a:lnTo>
                    <a:pt x="228" y="390"/>
                  </a:lnTo>
                  <a:lnTo>
                    <a:pt x="185" y="372"/>
                  </a:lnTo>
                  <a:lnTo>
                    <a:pt x="147" y="354"/>
                  </a:lnTo>
                  <a:lnTo>
                    <a:pt x="104" y="322"/>
                  </a:lnTo>
                  <a:lnTo>
                    <a:pt x="42" y="267"/>
                  </a:lnTo>
                  <a:lnTo>
                    <a:pt x="19" y="213"/>
                  </a:lnTo>
                  <a:lnTo>
                    <a:pt x="0" y="194"/>
                  </a:lnTo>
                  <a:lnTo>
                    <a:pt x="0" y="267"/>
                  </a:lnTo>
                  <a:lnTo>
                    <a:pt x="19" y="303"/>
                  </a:lnTo>
                  <a:lnTo>
                    <a:pt x="80" y="372"/>
                  </a:lnTo>
                  <a:lnTo>
                    <a:pt x="185" y="390"/>
                  </a:lnTo>
                  <a:lnTo>
                    <a:pt x="314" y="409"/>
                  </a:lnTo>
                  <a:lnTo>
                    <a:pt x="357" y="427"/>
                  </a:lnTo>
                  <a:lnTo>
                    <a:pt x="376" y="445"/>
                  </a:lnTo>
                  <a:lnTo>
                    <a:pt x="420" y="481"/>
                  </a:lnTo>
                  <a:lnTo>
                    <a:pt x="439" y="517"/>
                  </a:lnTo>
                  <a:lnTo>
                    <a:pt x="462" y="549"/>
                  </a:lnTo>
                  <a:lnTo>
                    <a:pt x="500" y="567"/>
                  </a:lnTo>
                  <a:lnTo>
                    <a:pt x="567" y="517"/>
                  </a:lnTo>
                  <a:lnTo>
                    <a:pt x="586" y="481"/>
                  </a:lnTo>
                  <a:lnTo>
                    <a:pt x="605" y="427"/>
                  </a:lnTo>
                  <a:lnTo>
                    <a:pt x="629" y="354"/>
                  </a:lnTo>
                  <a:lnTo>
                    <a:pt x="605" y="322"/>
                  </a:lnTo>
                  <a:lnTo>
                    <a:pt x="605" y="322"/>
                  </a:lnTo>
                  <a:lnTo>
                    <a:pt x="586" y="336"/>
                  </a:lnTo>
                  <a:lnTo>
                    <a:pt x="543" y="372"/>
                  </a:lnTo>
                  <a:lnTo>
                    <a:pt x="524" y="427"/>
                  </a:lnTo>
                  <a:lnTo>
                    <a:pt x="605" y="517"/>
                  </a:lnTo>
                  <a:lnTo>
                    <a:pt x="648" y="536"/>
                  </a:lnTo>
                  <a:lnTo>
                    <a:pt x="691" y="549"/>
                  </a:lnTo>
                  <a:lnTo>
                    <a:pt x="710" y="567"/>
                  </a:lnTo>
                  <a:lnTo>
                    <a:pt x="753" y="585"/>
                  </a:lnTo>
                  <a:lnTo>
                    <a:pt x="777" y="585"/>
                  </a:lnTo>
                  <a:lnTo>
                    <a:pt x="777" y="604"/>
                  </a:lnTo>
                  <a:lnTo>
                    <a:pt x="734" y="622"/>
                  </a:lnTo>
                  <a:lnTo>
                    <a:pt x="691" y="622"/>
                  </a:lnTo>
                  <a:lnTo>
                    <a:pt x="586" y="622"/>
                  </a:lnTo>
                  <a:lnTo>
                    <a:pt x="586" y="640"/>
                  </a:lnTo>
                  <a:lnTo>
                    <a:pt x="567" y="640"/>
                  </a:lnTo>
                  <a:lnTo>
                    <a:pt x="543" y="640"/>
                  </a:lnTo>
                  <a:lnTo>
                    <a:pt x="543" y="640"/>
                  </a:lnTo>
                  <a:lnTo>
                    <a:pt x="605" y="622"/>
                  </a:lnTo>
                  <a:lnTo>
                    <a:pt x="648" y="604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254480" y="4562640"/>
              <a:ext cx="520920" cy="306720"/>
            </a:xfrm>
            <a:custGeom>
              <a:avLst/>
              <a:gdLst/>
              <a:ahLst/>
              <a:rect l="0" t="0" r="r" b="b"/>
              <a:pathLst>
                <a:path w="1447" h="852">
                  <a:moveTo>
                    <a:pt x="833" y="197"/>
                  </a:moveTo>
                  <a:lnTo>
                    <a:pt x="792" y="389"/>
                  </a:lnTo>
                  <a:lnTo>
                    <a:pt x="746" y="488"/>
                  </a:lnTo>
                  <a:lnTo>
                    <a:pt x="677" y="561"/>
                  </a:lnTo>
                  <a:lnTo>
                    <a:pt x="591" y="535"/>
                  </a:lnTo>
                  <a:lnTo>
                    <a:pt x="550" y="509"/>
                  </a:lnTo>
                  <a:lnTo>
                    <a:pt x="482" y="509"/>
                  </a:lnTo>
                  <a:lnTo>
                    <a:pt x="395" y="535"/>
                  </a:lnTo>
                  <a:lnTo>
                    <a:pt x="309" y="608"/>
                  </a:lnTo>
                  <a:lnTo>
                    <a:pt x="200" y="634"/>
                  </a:lnTo>
                  <a:lnTo>
                    <a:pt x="0" y="732"/>
                  </a:lnTo>
                  <a:lnTo>
                    <a:pt x="0" y="779"/>
                  </a:lnTo>
                  <a:lnTo>
                    <a:pt x="22" y="826"/>
                  </a:lnTo>
                  <a:lnTo>
                    <a:pt x="109" y="852"/>
                  </a:lnTo>
                  <a:lnTo>
                    <a:pt x="218" y="826"/>
                  </a:lnTo>
                  <a:lnTo>
                    <a:pt x="309" y="805"/>
                  </a:lnTo>
                  <a:lnTo>
                    <a:pt x="527" y="732"/>
                  </a:lnTo>
                  <a:lnTo>
                    <a:pt x="724" y="634"/>
                  </a:lnTo>
                  <a:lnTo>
                    <a:pt x="792" y="634"/>
                  </a:lnTo>
                  <a:lnTo>
                    <a:pt x="856" y="660"/>
                  </a:lnTo>
                  <a:lnTo>
                    <a:pt x="919" y="680"/>
                  </a:lnTo>
                  <a:lnTo>
                    <a:pt x="965" y="732"/>
                  </a:lnTo>
                  <a:lnTo>
                    <a:pt x="1051" y="779"/>
                  </a:lnTo>
                  <a:lnTo>
                    <a:pt x="1074" y="732"/>
                  </a:lnTo>
                  <a:lnTo>
                    <a:pt x="1097" y="706"/>
                  </a:lnTo>
                  <a:lnTo>
                    <a:pt x="1142" y="706"/>
                  </a:lnTo>
                  <a:lnTo>
                    <a:pt x="1206" y="706"/>
                  </a:lnTo>
                  <a:lnTo>
                    <a:pt x="1251" y="706"/>
                  </a:lnTo>
                  <a:lnTo>
                    <a:pt x="1292" y="660"/>
                  </a:lnTo>
                  <a:lnTo>
                    <a:pt x="1338" y="561"/>
                  </a:lnTo>
                  <a:lnTo>
                    <a:pt x="1383" y="436"/>
                  </a:lnTo>
                  <a:lnTo>
                    <a:pt x="1424" y="316"/>
                  </a:lnTo>
                  <a:lnTo>
                    <a:pt x="1447" y="269"/>
                  </a:lnTo>
                  <a:lnTo>
                    <a:pt x="1447" y="243"/>
                  </a:lnTo>
                  <a:lnTo>
                    <a:pt x="1383" y="217"/>
                  </a:lnTo>
                  <a:lnTo>
                    <a:pt x="1292" y="197"/>
                  </a:lnTo>
                  <a:lnTo>
                    <a:pt x="1206" y="171"/>
                  </a:lnTo>
                  <a:lnTo>
                    <a:pt x="1160" y="171"/>
                  </a:lnTo>
                  <a:lnTo>
                    <a:pt x="1119" y="145"/>
                  </a:lnTo>
                  <a:lnTo>
                    <a:pt x="1051" y="124"/>
                  </a:lnTo>
                  <a:lnTo>
                    <a:pt x="1051" y="72"/>
                  </a:lnTo>
                  <a:lnTo>
                    <a:pt x="1033" y="25"/>
                  </a:lnTo>
                  <a:lnTo>
                    <a:pt x="942" y="0"/>
                  </a:lnTo>
                  <a:lnTo>
                    <a:pt x="833" y="0"/>
                  </a:lnTo>
                  <a:lnTo>
                    <a:pt x="746" y="0"/>
                  </a:lnTo>
                  <a:lnTo>
                    <a:pt x="769" y="51"/>
                  </a:lnTo>
                  <a:lnTo>
                    <a:pt x="769" y="72"/>
                  </a:lnTo>
                  <a:lnTo>
                    <a:pt x="833" y="197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5359320" y="4280040"/>
            <a:ext cx="317880" cy="368640"/>
          </a:xfrm>
          <a:custGeom>
            <a:avLst/>
            <a:gdLst/>
            <a:ahLst/>
            <a:rect l="0" t="0" r="r" b="b"/>
            <a:pathLst>
              <a:path w="883" h="1024">
                <a:moveTo>
                  <a:pt x="848" y="0"/>
                </a:moveTo>
                <a:lnTo>
                  <a:pt x="848" y="141"/>
                </a:lnTo>
                <a:lnTo>
                  <a:pt x="883" y="246"/>
                </a:lnTo>
                <a:lnTo>
                  <a:pt x="883" y="352"/>
                </a:lnTo>
                <a:lnTo>
                  <a:pt x="848" y="458"/>
                </a:lnTo>
                <a:lnTo>
                  <a:pt x="813" y="565"/>
                </a:lnTo>
                <a:lnTo>
                  <a:pt x="707" y="671"/>
                </a:lnTo>
                <a:lnTo>
                  <a:pt x="636" y="777"/>
                </a:lnTo>
                <a:lnTo>
                  <a:pt x="565" y="882"/>
                </a:lnTo>
                <a:lnTo>
                  <a:pt x="459" y="918"/>
                </a:lnTo>
                <a:lnTo>
                  <a:pt x="353" y="918"/>
                </a:lnTo>
                <a:lnTo>
                  <a:pt x="247" y="918"/>
                </a:lnTo>
                <a:lnTo>
                  <a:pt x="141" y="988"/>
                </a:lnTo>
                <a:lnTo>
                  <a:pt x="35" y="1024"/>
                </a:lnTo>
                <a:lnTo>
                  <a:pt x="0" y="918"/>
                </a:lnTo>
                <a:lnTo>
                  <a:pt x="105" y="882"/>
                </a:lnTo>
                <a:lnTo>
                  <a:pt x="176" y="777"/>
                </a:lnTo>
                <a:lnTo>
                  <a:pt x="176" y="636"/>
                </a:lnTo>
                <a:lnTo>
                  <a:pt x="283" y="565"/>
                </a:lnTo>
                <a:lnTo>
                  <a:pt x="389" y="493"/>
                </a:lnTo>
                <a:lnTo>
                  <a:pt x="459" y="388"/>
                </a:lnTo>
                <a:lnTo>
                  <a:pt x="494" y="282"/>
                </a:lnTo>
                <a:lnTo>
                  <a:pt x="459" y="176"/>
                </a:lnTo>
                <a:lnTo>
                  <a:pt x="565" y="141"/>
                </a:lnTo>
                <a:lnTo>
                  <a:pt x="672" y="176"/>
                </a:lnTo>
                <a:lnTo>
                  <a:pt x="778" y="141"/>
                </a:lnTo>
                <a:lnTo>
                  <a:pt x="848" y="211"/>
                </a:lnTo>
                <a:lnTo>
                  <a:pt x="848" y="0"/>
                </a:lnTo>
                <a:close/>
              </a:path>
            </a:pathLst>
          </a:custGeom>
          <a:solidFill>
            <a:srgbClr val="ff9999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2209680" y="6126120"/>
            <a:ext cx="1219680" cy="228960"/>
            <a:chOff x="2209680" y="6126120"/>
            <a:chExt cx="1219680" cy="228960"/>
          </a:xfrm>
        </p:grpSpPr>
        <p:sp>
          <p:nvSpPr>
            <p:cNvPr id="423" name=""/>
            <p:cNvSpPr/>
            <p:nvPr/>
          </p:nvSpPr>
          <p:spPr>
            <a:xfrm>
              <a:off x="2209680" y="6153120"/>
              <a:ext cx="1219680" cy="171720"/>
            </a:xfrm>
            <a:custGeom>
              <a:avLst/>
              <a:gdLst/>
              <a:ahLst/>
              <a:rect l="0" t="0" r="r" b="b"/>
              <a:pathLst>
                <a:path w="3388" h="477">
                  <a:moveTo>
                    <a:pt x="1493" y="84"/>
                  </a:moveTo>
                  <a:lnTo>
                    <a:pt x="3388" y="328"/>
                  </a:lnTo>
                  <a:lnTo>
                    <a:pt x="3229" y="412"/>
                  </a:lnTo>
                  <a:lnTo>
                    <a:pt x="2938" y="477"/>
                  </a:lnTo>
                  <a:lnTo>
                    <a:pt x="2239" y="457"/>
                  </a:lnTo>
                  <a:lnTo>
                    <a:pt x="1162" y="351"/>
                  </a:lnTo>
                  <a:lnTo>
                    <a:pt x="777" y="286"/>
                  </a:lnTo>
                  <a:lnTo>
                    <a:pt x="0" y="184"/>
                  </a:lnTo>
                  <a:lnTo>
                    <a:pt x="30" y="0"/>
                  </a:lnTo>
                  <a:lnTo>
                    <a:pt x="972" y="103"/>
                  </a:lnTo>
                  <a:lnTo>
                    <a:pt x="1188" y="182"/>
                  </a:lnTo>
                  <a:lnTo>
                    <a:pt x="1400" y="210"/>
                  </a:lnTo>
                  <a:lnTo>
                    <a:pt x="1493" y="84"/>
                  </a:lnTo>
                  <a:close/>
                </a:path>
              </a:pathLst>
            </a:custGeom>
            <a:blipFill rotWithShape="0">
              <a:blip r:embed="rId1"/>
              <a:tile tx="0" ty="0" sx="3528125" sy="3528125" algn="ctr"/>
            </a:blip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717640" y="6221520"/>
              <a:ext cx="695520" cy="133560"/>
            </a:xfrm>
            <a:custGeom>
              <a:avLst/>
              <a:gdLst/>
              <a:ahLst/>
              <a:rect l="0" t="0" r="r" b="b"/>
              <a:pathLst>
                <a:path w="1932" h="371">
                  <a:moveTo>
                    <a:pt x="34" y="12"/>
                  </a:moveTo>
                  <a:lnTo>
                    <a:pt x="225" y="0"/>
                  </a:lnTo>
                  <a:lnTo>
                    <a:pt x="381" y="133"/>
                  </a:lnTo>
                  <a:lnTo>
                    <a:pt x="658" y="83"/>
                  </a:lnTo>
                  <a:lnTo>
                    <a:pt x="1040" y="158"/>
                  </a:lnTo>
                  <a:lnTo>
                    <a:pt x="1243" y="200"/>
                  </a:lnTo>
                  <a:lnTo>
                    <a:pt x="1503" y="225"/>
                  </a:lnTo>
                  <a:lnTo>
                    <a:pt x="1932" y="204"/>
                  </a:lnTo>
                  <a:lnTo>
                    <a:pt x="1512" y="304"/>
                  </a:lnTo>
                  <a:lnTo>
                    <a:pt x="1209" y="371"/>
                  </a:lnTo>
                  <a:lnTo>
                    <a:pt x="692" y="296"/>
                  </a:lnTo>
                  <a:lnTo>
                    <a:pt x="407" y="267"/>
                  </a:lnTo>
                  <a:lnTo>
                    <a:pt x="0" y="188"/>
                  </a:lnTo>
                  <a:lnTo>
                    <a:pt x="34" y="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230560" y="6126120"/>
              <a:ext cx="495720" cy="124200"/>
            </a:xfrm>
            <a:custGeom>
              <a:avLst/>
              <a:gdLst/>
              <a:ahLst/>
              <a:rect l="0" t="0" r="r" b="b"/>
              <a:pathLst>
                <a:path w="1377" h="345">
                  <a:moveTo>
                    <a:pt x="1364" y="345"/>
                  </a:moveTo>
                  <a:lnTo>
                    <a:pt x="1377" y="230"/>
                  </a:lnTo>
                  <a:lnTo>
                    <a:pt x="1036" y="88"/>
                  </a:lnTo>
                  <a:lnTo>
                    <a:pt x="44" y="0"/>
                  </a:lnTo>
                  <a:lnTo>
                    <a:pt x="0" y="142"/>
                  </a:lnTo>
                  <a:lnTo>
                    <a:pt x="1364" y="345"/>
                  </a:lnTo>
                  <a:close/>
                </a:path>
              </a:pathLst>
            </a:custGeom>
            <a:solidFill>
              <a:srgbClr val="9933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4576680" y="3454560"/>
            <a:ext cx="1203120" cy="957240"/>
            <a:chOff x="4576680" y="3454560"/>
            <a:chExt cx="1203120" cy="957240"/>
          </a:xfrm>
        </p:grpSpPr>
        <p:sp>
          <p:nvSpPr>
            <p:cNvPr id="427" name=""/>
            <p:cNvSpPr/>
            <p:nvPr/>
          </p:nvSpPr>
          <p:spPr>
            <a:xfrm>
              <a:off x="5489280" y="4108680"/>
              <a:ext cx="290520" cy="303120"/>
            </a:xfrm>
            <a:custGeom>
              <a:avLst/>
              <a:gdLst/>
              <a:ahLst/>
              <a:rect l="0" t="0" r="r" b="b"/>
              <a:pathLst>
                <a:path w="807" h="842">
                  <a:moveTo>
                    <a:pt x="259" y="820"/>
                  </a:moveTo>
                  <a:lnTo>
                    <a:pt x="259" y="820"/>
                  </a:lnTo>
                  <a:cubicBezTo>
                    <a:pt x="325" y="844"/>
                    <a:pt x="396" y="849"/>
                    <a:pt x="466" y="835"/>
                  </a:cubicBezTo>
                  <a:cubicBezTo>
                    <a:pt x="536" y="821"/>
                    <a:pt x="602" y="788"/>
                    <a:pt x="657" y="739"/>
                  </a:cubicBezTo>
                  <a:cubicBezTo>
                    <a:pt x="712" y="691"/>
                    <a:pt x="754" y="628"/>
                    <a:pt x="780" y="558"/>
                  </a:cubicBezTo>
                  <a:cubicBezTo>
                    <a:pt x="805" y="488"/>
                    <a:pt x="813" y="413"/>
                    <a:pt x="802" y="341"/>
                  </a:cubicBezTo>
                  <a:cubicBezTo>
                    <a:pt x="791" y="268"/>
                    <a:pt x="762" y="201"/>
                    <a:pt x="717" y="145"/>
                  </a:cubicBezTo>
                  <a:cubicBezTo>
                    <a:pt x="673" y="89"/>
                    <a:pt x="615" y="47"/>
                    <a:pt x="549" y="23"/>
                  </a:cubicBezTo>
                  <a:lnTo>
                    <a:pt x="548" y="23"/>
                  </a:lnTo>
                  <a:lnTo>
                    <a:pt x="548" y="23"/>
                  </a:lnTo>
                  <a:cubicBezTo>
                    <a:pt x="482" y="-1"/>
                    <a:pt x="411" y="-6"/>
                    <a:pt x="341" y="8"/>
                  </a:cubicBezTo>
                  <a:cubicBezTo>
                    <a:pt x="271" y="22"/>
                    <a:pt x="205" y="55"/>
                    <a:pt x="150" y="104"/>
                  </a:cubicBezTo>
                  <a:cubicBezTo>
                    <a:pt x="95" y="152"/>
                    <a:pt x="53" y="215"/>
                    <a:pt x="27" y="285"/>
                  </a:cubicBezTo>
                  <a:cubicBezTo>
                    <a:pt x="2" y="355"/>
                    <a:pt x="-6" y="430"/>
                    <a:pt x="5" y="502"/>
                  </a:cubicBezTo>
                  <a:cubicBezTo>
                    <a:pt x="16" y="575"/>
                    <a:pt x="45" y="642"/>
                    <a:pt x="90" y="698"/>
                  </a:cubicBezTo>
                  <a:cubicBezTo>
                    <a:pt x="134" y="754"/>
                    <a:pt x="192" y="796"/>
                    <a:pt x="258" y="820"/>
                  </a:cubicBezTo>
                  <a:lnTo>
                    <a:pt x="259" y="82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576680" y="3454560"/>
              <a:ext cx="946440" cy="952920"/>
            </a:xfrm>
            <a:custGeom>
              <a:avLst/>
              <a:gdLst/>
              <a:ahLst/>
              <a:rect l="0" t="0" r="r" b="b"/>
              <a:pathLst>
                <a:path w="2629" h="2647">
                  <a:moveTo>
                    <a:pt x="410" y="0"/>
                  </a:moveTo>
                  <a:lnTo>
                    <a:pt x="630" y="198"/>
                  </a:lnTo>
                  <a:lnTo>
                    <a:pt x="890" y="1032"/>
                  </a:lnTo>
                  <a:lnTo>
                    <a:pt x="1133" y="1654"/>
                  </a:lnTo>
                  <a:lnTo>
                    <a:pt x="2629" y="1786"/>
                  </a:lnTo>
                  <a:lnTo>
                    <a:pt x="2461" y="2647"/>
                  </a:lnTo>
                  <a:lnTo>
                    <a:pt x="533" y="2325"/>
                  </a:lnTo>
                  <a:lnTo>
                    <a:pt x="22" y="657"/>
                  </a:lnTo>
                  <a:lnTo>
                    <a:pt x="0" y="233"/>
                  </a:lnTo>
                  <a:lnTo>
                    <a:pt x="194" y="8"/>
                  </a:lnTo>
                  <a:lnTo>
                    <a:pt x="41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4788000" y="5321160"/>
            <a:ext cx="673560" cy="978120"/>
          </a:xfrm>
          <a:custGeom>
            <a:avLst/>
            <a:gdLst/>
            <a:ahLst/>
            <a:rect l="0" t="0" r="r" b="b"/>
            <a:pathLst>
              <a:path w="1871" h="2717">
                <a:moveTo>
                  <a:pt x="35" y="2576"/>
                </a:moveTo>
                <a:lnTo>
                  <a:pt x="211" y="2329"/>
                </a:lnTo>
                <a:lnTo>
                  <a:pt x="211" y="2188"/>
                </a:lnTo>
                <a:lnTo>
                  <a:pt x="211" y="2082"/>
                </a:lnTo>
                <a:lnTo>
                  <a:pt x="211" y="1941"/>
                </a:lnTo>
                <a:lnTo>
                  <a:pt x="317" y="2047"/>
                </a:lnTo>
                <a:lnTo>
                  <a:pt x="352" y="1906"/>
                </a:lnTo>
                <a:lnTo>
                  <a:pt x="388" y="1764"/>
                </a:lnTo>
                <a:lnTo>
                  <a:pt x="388" y="1623"/>
                </a:lnTo>
                <a:lnTo>
                  <a:pt x="458" y="1412"/>
                </a:lnTo>
                <a:lnTo>
                  <a:pt x="530" y="1128"/>
                </a:lnTo>
                <a:lnTo>
                  <a:pt x="741" y="1058"/>
                </a:lnTo>
                <a:lnTo>
                  <a:pt x="953" y="776"/>
                </a:lnTo>
                <a:lnTo>
                  <a:pt x="1235" y="423"/>
                </a:lnTo>
                <a:lnTo>
                  <a:pt x="1518" y="70"/>
                </a:lnTo>
                <a:lnTo>
                  <a:pt x="1730" y="0"/>
                </a:lnTo>
                <a:lnTo>
                  <a:pt x="1554" y="0"/>
                </a:lnTo>
                <a:lnTo>
                  <a:pt x="1271" y="282"/>
                </a:lnTo>
                <a:lnTo>
                  <a:pt x="1059" y="564"/>
                </a:lnTo>
                <a:lnTo>
                  <a:pt x="1024" y="705"/>
                </a:lnTo>
                <a:lnTo>
                  <a:pt x="953" y="811"/>
                </a:lnTo>
                <a:lnTo>
                  <a:pt x="882" y="952"/>
                </a:lnTo>
                <a:lnTo>
                  <a:pt x="847" y="1093"/>
                </a:lnTo>
                <a:lnTo>
                  <a:pt x="777" y="1199"/>
                </a:lnTo>
                <a:lnTo>
                  <a:pt x="706" y="1412"/>
                </a:lnTo>
                <a:lnTo>
                  <a:pt x="600" y="1764"/>
                </a:lnTo>
                <a:lnTo>
                  <a:pt x="530" y="1976"/>
                </a:lnTo>
                <a:lnTo>
                  <a:pt x="494" y="2082"/>
                </a:lnTo>
                <a:lnTo>
                  <a:pt x="600" y="1941"/>
                </a:lnTo>
                <a:lnTo>
                  <a:pt x="812" y="1729"/>
                </a:lnTo>
                <a:lnTo>
                  <a:pt x="1094" y="1517"/>
                </a:lnTo>
                <a:lnTo>
                  <a:pt x="1306" y="1305"/>
                </a:lnTo>
                <a:lnTo>
                  <a:pt x="1413" y="1234"/>
                </a:lnTo>
                <a:lnTo>
                  <a:pt x="1554" y="1199"/>
                </a:lnTo>
                <a:lnTo>
                  <a:pt x="1413" y="1234"/>
                </a:lnTo>
                <a:lnTo>
                  <a:pt x="1200" y="1305"/>
                </a:lnTo>
                <a:lnTo>
                  <a:pt x="1165" y="1517"/>
                </a:lnTo>
                <a:lnTo>
                  <a:pt x="1024" y="1659"/>
                </a:lnTo>
                <a:lnTo>
                  <a:pt x="953" y="1800"/>
                </a:lnTo>
                <a:lnTo>
                  <a:pt x="847" y="1906"/>
                </a:lnTo>
                <a:lnTo>
                  <a:pt x="777" y="2011"/>
                </a:lnTo>
                <a:lnTo>
                  <a:pt x="1024" y="2011"/>
                </a:lnTo>
                <a:lnTo>
                  <a:pt x="1306" y="1976"/>
                </a:lnTo>
                <a:lnTo>
                  <a:pt x="1518" y="1941"/>
                </a:lnTo>
                <a:lnTo>
                  <a:pt x="1624" y="1906"/>
                </a:lnTo>
                <a:lnTo>
                  <a:pt x="1765" y="1906"/>
                </a:lnTo>
                <a:lnTo>
                  <a:pt x="1871" y="1870"/>
                </a:lnTo>
                <a:lnTo>
                  <a:pt x="1765" y="1870"/>
                </a:lnTo>
                <a:lnTo>
                  <a:pt x="1483" y="1870"/>
                </a:lnTo>
                <a:lnTo>
                  <a:pt x="1271" y="1870"/>
                </a:lnTo>
                <a:lnTo>
                  <a:pt x="1129" y="1906"/>
                </a:lnTo>
                <a:lnTo>
                  <a:pt x="1024" y="1976"/>
                </a:lnTo>
                <a:lnTo>
                  <a:pt x="741" y="2082"/>
                </a:lnTo>
                <a:lnTo>
                  <a:pt x="1024" y="2188"/>
                </a:lnTo>
                <a:lnTo>
                  <a:pt x="1129" y="2188"/>
                </a:lnTo>
                <a:lnTo>
                  <a:pt x="1235" y="2188"/>
                </a:lnTo>
                <a:lnTo>
                  <a:pt x="918" y="2188"/>
                </a:lnTo>
                <a:lnTo>
                  <a:pt x="706" y="2188"/>
                </a:lnTo>
                <a:lnTo>
                  <a:pt x="600" y="2223"/>
                </a:lnTo>
                <a:lnTo>
                  <a:pt x="530" y="2364"/>
                </a:lnTo>
                <a:lnTo>
                  <a:pt x="458" y="2470"/>
                </a:lnTo>
                <a:lnTo>
                  <a:pt x="352" y="2541"/>
                </a:lnTo>
                <a:lnTo>
                  <a:pt x="246" y="2611"/>
                </a:lnTo>
                <a:lnTo>
                  <a:pt x="35" y="2576"/>
                </a:lnTo>
                <a:lnTo>
                  <a:pt x="35" y="2717"/>
                </a:lnTo>
                <a:lnTo>
                  <a:pt x="35" y="2576"/>
                </a:lnTo>
                <a:lnTo>
                  <a:pt x="0" y="2294"/>
                </a:lnTo>
                <a:lnTo>
                  <a:pt x="0" y="2188"/>
                </a:lnTo>
                <a:lnTo>
                  <a:pt x="35" y="2082"/>
                </a:lnTo>
                <a:lnTo>
                  <a:pt x="105" y="1870"/>
                </a:lnTo>
                <a:lnTo>
                  <a:pt x="141" y="1588"/>
                </a:lnTo>
                <a:lnTo>
                  <a:pt x="141" y="1800"/>
                </a:lnTo>
                <a:lnTo>
                  <a:pt x="141" y="2082"/>
                </a:lnTo>
                <a:lnTo>
                  <a:pt x="141" y="2188"/>
                </a:lnTo>
                <a:lnTo>
                  <a:pt x="141" y="2294"/>
                </a:lnTo>
                <a:lnTo>
                  <a:pt x="141" y="2399"/>
                </a:lnTo>
                <a:lnTo>
                  <a:pt x="246" y="2364"/>
                </a:lnTo>
                <a:lnTo>
                  <a:pt x="35" y="2576"/>
                </a:lnTo>
                <a:close/>
              </a:path>
            </a:pathLst>
          </a:custGeom>
          <a:solidFill>
            <a:srgbClr val="e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971800" y="5651640"/>
            <a:ext cx="698760" cy="597240"/>
          </a:xfrm>
          <a:custGeom>
            <a:avLst/>
            <a:gdLst/>
            <a:ahLst/>
            <a:rect l="0" t="0" r="r" b="b"/>
            <a:pathLst>
              <a:path w="1941" h="1659">
                <a:moveTo>
                  <a:pt x="1906" y="1659"/>
                </a:moveTo>
                <a:lnTo>
                  <a:pt x="1941" y="1271"/>
                </a:lnTo>
                <a:lnTo>
                  <a:pt x="1941" y="988"/>
                </a:lnTo>
                <a:lnTo>
                  <a:pt x="1906" y="705"/>
                </a:lnTo>
                <a:lnTo>
                  <a:pt x="1870" y="564"/>
                </a:lnTo>
                <a:lnTo>
                  <a:pt x="1835" y="458"/>
                </a:lnTo>
                <a:lnTo>
                  <a:pt x="1694" y="176"/>
                </a:lnTo>
                <a:lnTo>
                  <a:pt x="1659" y="70"/>
                </a:lnTo>
                <a:lnTo>
                  <a:pt x="1517" y="0"/>
                </a:lnTo>
                <a:lnTo>
                  <a:pt x="1553" y="211"/>
                </a:lnTo>
                <a:lnTo>
                  <a:pt x="1623" y="317"/>
                </a:lnTo>
                <a:lnTo>
                  <a:pt x="1623" y="423"/>
                </a:lnTo>
                <a:lnTo>
                  <a:pt x="1659" y="564"/>
                </a:lnTo>
                <a:lnTo>
                  <a:pt x="1623" y="423"/>
                </a:lnTo>
                <a:lnTo>
                  <a:pt x="1341" y="352"/>
                </a:lnTo>
                <a:lnTo>
                  <a:pt x="846" y="282"/>
                </a:lnTo>
                <a:lnTo>
                  <a:pt x="705" y="176"/>
                </a:lnTo>
                <a:lnTo>
                  <a:pt x="493" y="105"/>
                </a:lnTo>
                <a:lnTo>
                  <a:pt x="352" y="70"/>
                </a:lnTo>
                <a:lnTo>
                  <a:pt x="105" y="35"/>
                </a:lnTo>
                <a:lnTo>
                  <a:pt x="0" y="0"/>
                </a:lnTo>
                <a:lnTo>
                  <a:pt x="388" y="105"/>
                </a:lnTo>
                <a:lnTo>
                  <a:pt x="811" y="141"/>
                </a:lnTo>
                <a:lnTo>
                  <a:pt x="1024" y="211"/>
                </a:lnTo>
                <a:lnTo>
                  <a:pt x="1306" y="317"/>
                </a:lnTo>
                <a:lnTo>
                  <a:pt x="1412" y="388"/>
                </a:lnTo>
                <a:lnTo>
                  <a:pt x="1517" y="635"/>
                </a:lnTo>
                <a:lnTo>
                  <a:pt x="1588" y="740"/>
                </a:lnTo>
                <a:lnTo>
                  <a:pt x="1623" y="847"/>
                </a:lnTo>
                <a:lnTo>
                  <a:pt x="1694" y="988"/>
                </a:lnTo>
                <a:lnTo>
                  <a:pt x="1623" y="882"/>
                </a:lnTo>
                <a:lnTo>
                  <a:pt x="1412" y="811"/>
                </a:lnTo>
                <a:lnTo>
                  <a:pt x="1200" y="776"/>
                </a:lnTo>
                <a:lnTo>
                  <a:pt x="1094" y="705"/>
                </a:lnTo>
                <a:lnTo>
                  <a:pt x="988" y="635"/>
                </a:lnTo>
                <a:lnTo>
                  <a:pt x="881" y="635"/>
                </a:lnTo>
                <a:lnTo>
                  <a:pt x="599" y="599"/>
                </a:lnTo>
                <a:lnTo>
                  <a:pt x="811" y="599"/>
                </a:lnTo>
                <a:lnTo>
                  <a:pt x="1094" y="599"/>
                </a:lnTo>
                <a:lnTo>
                  <a:pt x="1376" y="670"/>
                </a:lnTo>
                <a:lnTo>
                  <a:pt x="1517" y="705"/>
                </a:lnTo>
                <a:lnTo>
                  <a:pt x="1623" y="740"/>
                </a:lnTo>
                <a:lnTo>
                  <a:pt x="1659" y="847"/>
                </a:lnTo>
                <a:lnTo>
                  <a:pt x="1694" y="953"/>
                </a:lnTo>
                <a:lnTo>
                  <a:pt x="1800" y="988"/>
                </a:lnTo>
                <a:lnTo>
                  <a:pt x="1906" y="1059"/>
                </a:lnTo>
                <a:lnTo>
                  <a:pt x="1764" y="1165"/>
                </a:lnTo>
                <a:lnTo>
                  <a:pt x="1553" y="1165"/>
                </a:lnTo>
                <a:lnTo>
                  <a:pt x="1412" y="1165"/>
                </a:lnTo>
                <a:lnTo>
                  <a:pt x="1129" y="1165"/>
                </a:lnTo>
                <a:lnTo>
                  <a:pt x="846" y="1129"/>
                </a:lnTo>
                <a:lnTo>
                  <a:pt x="1094" y="1200"/>
                </a:lnTo>
                <a:lnTo>
                  <a:pt x="1306" y="1235"/>
                </a:lnTo>
                <a:lnTo>
                  <a:pt x="1412" y="1306"/>
                </a:lnTo>
                <a:lnTo>
                  <a:pt x="1517" y="1376"/>
                </a:lnTo>
                <a:lnTo>
                  <a:pt x="1623" y="1412"/>
                </a:lnTo>
                <a:lnTo>
                  <a:pt x="1517" y="1341"/>
                </a:lnTo>
                <a:lnTo>
                  <a:pt x="1412" y="1306"/>
                </a:lnTo>
                <a:lnTo>
                  <a:pt x="1306" y="1341"/>
                </a:lnTo>
                <a:lnTo>
                  <a:pt x="1376" y="1482"/>
                </a:lnTo>
                <a:lnTo>
                  <a:pt x="1517" y="1553"/>
                </a:lnTo>
                <a:lnTo>
                  <a:pt x="1623" y="1553"/>
                </a:lnTo>
                <a:lnTo>
                  <a:pt x="1729" y="1659"/>
                </a:lnTo>
                <a:lnTo>
                  <a:pt x="1906" y="1659"/>
                </a:lnTo>
                <a:close/>
              </a:path>
            </a:pathLst>
          </a:custGeom>
          <a:solidFill>
            <a:srgbClr val="e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908440" y="1130400"/>
            <a:ext cx="3099240" cy="3530880"/>
          </a:xfrm>
          <a:custGeom>
            <a:avLst/>
            <a:gdLst/>
            <a:ahLst/>
            <a:rect l="0" t="0" r="r" b="b"/>
            <a:pathLst>
              <a:path w="8609" h="9808">
                <a:moveTo>
                  <a:pt x="3775" y="9349"/>
                </a:moveTo>
                <a:lnTo>
                  <a:pt x="3916" y="9208"/>
                </a:lnTo>
                <a:lnTo>
                  <a:pt x="3916" y="9067"/>
                </a:lnTo>
                <a:lnTo>
                  <a:pt x="3846" y="8961"/>
                </a:lnTo>
                <a:lnTo>
                  <a:pt x="3775" y="8855"/>
                </a:lnTo>
                <a:lnTo>
                  <a:pt x="3669" y="8890"/>
                </a:lnTo>
                <a:lnTo>
                  <a:pt x="3564" y="8996"/>
                </a:lnTo>
                <a:lnTo>
                  <a:pt x="3458" y="9032"/>
                </a:lnTo>
                <a:lnTo>
                  <a:pt x="3352" y="9067"/>
                </a:lnTo>
                <a:lnTo>
                  <a:pt x="3211" y="9102"/>
                </a:lnTo>
                <a:lnTo>
                  <a:pt x="3070" y="9102"/>
                </a:lnTo>
                <a:lnTo>
                  <a:pt x="2823" y="9102"/>
                </a:lnTo>
                <a:lnTo>
                  <a:pt x="2717" y="9102"/>
                </a:lnTo>
                <a:lnTo>
                  <a:pt x="2611" y="9208"/>
                </a:lnTo>
                <a:lnTo>
                  <a:pt x="2505" y="9243"/>
                </a:lnTo>
                <a:lnTo>
                  <a:pt x="2399" y="9243"/>
                </a:lnTo>
                <a:lnTo>
                  <a:pt x="2151" y="9243"/>
                </a:lnTo>
                <a:lnTo>
                  <a:pt x="2010" y="9243"/>
                </a:lnTo>
                <a:lnTo>
                  <a:pt x="1728" y="9243"/>
                </a:lnTo>
                <a:lnTo>
                  <a:pt x="1622" y="9208"/>
                </a:lnTo>
                <a:lnTo>
                  <a:pt x="1516" y="9173"/>
                </a:lnTo>
                <a:lnTo>
                  <a:pt x="1375" y="9173"/>
                </a:lnTo>
                <a:lnTo>
                  <a:pt x="1270" y="9208"/>
                </a:lnTo>
                <a:lnTo>
                  <a:pt x="1164" y="9243"/>
                </a:lnTo>
                <a:lnTo>
                  <a:pt x="1058" y="9243"/>
                </a:lnTo>
                <a:lnTo>
                  <a:pt x="811" y="9243"/>
                </a:lnTo>
                <a:lnTo>
                  <a:pt x="599" y="9243"/>
                </a:lnTo>
                <a:lnTo>
                  <a:pt x="529" y="9137"/>
                </a:lnTo>
                <a:lnTo>
                  <a:pt x="529" y="9032"/>
                </a:lnTo>
                <a:lnTo>
                  <a:pt x="564" y="8926"/>
                </a:lnTo>
                <a:lnTo>
                  <a:pt x="670" y="8820"/>
                </a:lnTo>
                <a:lnTo>
                  <a:pt x="670" y="8714"/>
                </a:lnTo>
                <a:lnTo>
                  <a:pt x="670" y="8608"/>
                </a:lnTo>
                <a:lnTo>
                  <a:pt x="635" y="8502"/>
                </a:lnTo>
                <a:lnTo>
                  <a:pt x="635" y="8361"/>
                </a:lnTo>
                <a:lnTo>
                  <a:pt x="635" y="8220"/>
                </a:lnTo>
                <a:lnTo>
                  <a:pt x="635" y="8114"/>
                </a:lnTo>
                <a:lnTo>
                  <a:pt x="635" y="8009"/>
                </a:lnTo>
                <a:lnTo>
                  <a:pt x="670" y="7867"/>
                </a:lnTo>
                <a:lnTo>
                  <a:pt x="705" y="7585"/>
                </a:lnTo>
                <a:lnTo>
                  <a:pt x="740" y="7444"/>
                </a:lnTo>
                <a:lnTo>
                  <a:pt x="740" y="7303"/>
                </a:lnTo>
                <a:lnTo>
                  <a:pt x="740" y="7197"/>
                </a:lnTo>
                <a:lnTo>
                  <a:pt x="740" y="7056"/>
                </a:lnTo>
                <a:lnTo>
                  <a:pt x="705" y="6844"/>
                </a:lnTo>
                <a:lnTo>
                  <a:pt x="705" y="6703"/>
                </a:lnTo>
                <a:lnTo>
                  <a:pt x="670" y="6597"/>
                </a:lnTo>
                <a:lnTo>
                  <a:pt x="635" y="6492"/>
                </a:lnTo>
                <a:lnTo>
                  <a:pt x="599" y="6280"/>
                </a:lnTo>
                <a:lnTo>
                  <a:pt x="529" y="5927"/>
                </a:lnTo>
                <a:lnTo>
                  <a:pt x="458" y="5645"/>
                </a:lnTo>
                <a:lnTo>
                  <a:pt x="423" y="5539"/>
                </a:lnTo>
                <a:lnTo>
                  <a:pt x="458" y="5327"/>
                </a:lnTo>
                <a:lnTo>
                  <a:pt x="493" y="5116"/>
                </a:lnTo>
                <a:lnTo>
                  <a:pt x="529" y="4903"/>
                </a:lnTo>
                <a:lnTo>
                  <a:pt x="599" y="4797"/>
                </a:lnTo>
                <a:lnTo>
                  <a:pt x="670" y="4656"/>
                </a:lnTo>
                <a:lnTo>
                  <a:pt x="776" y="4550"/>
                </a:lnTo>
                <a:lnTo>
                  <a:pt x="811" y="4445"/>
                </a:lnTo>
                <a:lnTo>
                  <a:pt x="846" y="4339"/>
                </a:lnTo>
                <a:lnTo>
                  <a:pt x="881" y="4233"/>
                </a:lnTo>
                <a:lnTo>
                  <a:pt x="952" y="4092"/>
                </a:lnTo>
                <a:lnTo>
                  <a:pt x="987" y="3986"/>
                </a:lnTo>
                <a:lnTo>
                  <a:pt x="1058" y="3845"/>
                </a:lnTo>
                <a:lnTo>
                  <a:pt x="1093" y="3739"/>
                </a:lnTo>
                <a:lnTo>
                  <a:pt x="1128" y="3598"/>
                </a:lnTo>
                <a:lnTo>
                  <a:pt x="1128" y="3386"/>
                </a:lnTo>
                <a:lnTo>
                  <a:pt x="1164" y="3280"/>
                </a:lnTo>
                <a:lnTo>
                  <a:pt x="1199" y="3139"/>
                </a:lnTo>
                <a:lnTo>
                  <a:pt x="1234" y="2998"/>
                </a:lnTo>
                <a:lnTo>
                  <a:pt x="1270" y="2892"/>
                </a:lnTo>
                <a:lnTo>
                  <a:pt x="1305" y="2786"/>
                </a:lnTo>
                <a:lnTo>
                  <a:pt x="1340" y="2645"/>
                </a:lnTo>
                <a:lnTo>
                  <a:pt x="1411" y="2363"/>
                </a:lnTo>
                <a:lnTo>
                  <a:pt x="1516" y="2222"/>
                </a:lnTo>
                <a:lnTo>
                  <a:pt x="1622" y="2116"/>
                </a:lnTo>
                <a:lnTo>
                  <a:pt x="1728" y="2010"/>
                </a:lnTo>
                <a:lnTo>
                  <a:pt x="1799" y="1905"/>
                </a:lnTo>
                <a:lnTo>
                  <a:pt x="1905" y="1799"/>
                </a:lnTo>
                <a:lnTo>
                  <a:pt x="1975" y="1658"/>
                </a:lnTo>
                <a:lnTo>
                  <a:pt x="2046" y="1552"/>
                </a:lnTo>
                <a:lnTo>
                  <a:pt x="2116" y="1446"/>
                </a:lnTo>
                <a:lnTo>
                  <a:pt x="2223" y="1305"/>
                </a:lnTo>
                <a:lnTo>
                  <a:pt x="2364" y="1164"/>
                </a:lnTo>
                <a:lnTo>
                  <a:pt x="2470" y="1093"/>
                </a:lnTo>
                <a:lnTo>
                  <a:pt x="2576" y="987"/>
                </a:lnTo>
                <a:lnTo>
                  <a:pt x="2682" y="917"/>
                </a:lnTo>
                <a:lnTo>
                  <a:pt x="2787" y="846"/>
                </a:lnTo>
                <a:lnTo>
                  <a:pt x="2893" y="776"/>
                </a:lnTo>
                <a:lnTo>
                  <a:pt x="2999" y="705"/>
                </a:lnTo>
                <a:lnTo>
                  <a:pt x="3105" y="670"/>
                </a:lnTo>
                <a:lnTo>
                  <a:pt x="3246" y="635"/>
                </a:lnTo>
                <a:lnTo>
                  <a:pt x="3352" y="599"/>
                </a:lnTo>
                <a:lnTo>
                  <a:pt x="3458" y="599"/>
                </a:lnTo>
                <a:lnTo>
                  <a:pt x="3564" y="564"/>
                </a:lnTo>
                <a:lnTo>
                  <a:pt x="3669" y="529"/>
                </a:lnTo>
                <a:lnTo>
                  <a:pt x="3775" y="529"/>
                </a:lnTo>
                <a:lnTo>
                  <a:pt x="3881" y="529"/>
                </a:lnTo>
                <a:lnTo>
                  <a:pt x="3987" y="529"/>
                </a:lnTo>
                <a:lnTo>
                  <a:pt x="4128" y="564"/>
                </a:lnTo>
                <a:lnTo>
                  <a:pt x="4410" y="564"/>
                </a:lnTo>
                <a:lnTo>
                  <a:pt x="4763" y="599"/>
                </a:lnTo>
                <a:lnTo>
                  <a:pt x="5045" y="635"/>
                </a:lnTo>
                <a:lnTo>
                  <a:pt x="5151" y="635"/>
                </a:lnTo>
                <a:lnTo>
                  <a:pt x="5433" y="670"/>
                </a:lnTo>
                <a:lnTo>
                  <a:pt x="5539" y="705"/>
                </a:lnTo>
                <a:lnTo>
                  <a:pt x="5680" y="776"/>
                </a:lnTo>
                <a:lnTo>
                  <a:pt x="5786" y="811"/>
                </a:lnTo>
                <a:lnTo>
                  <a:pt x="6068" y="917"/>
                </a:lnTo>
                <a:lnTo>
                  <a:pt x="6209" y="1023"/>
                </a:lnTo>
                <a:lnTo>
                  <a:pt x="6315" y="1164"/>
                </a:lnTo>
                <a:lnTo>
                  <a:pt x="6421" y="1305"/>
                </a:lnTo>
                <a:lnTo>
                  <a:pt x="6563" y="1446"/>
                </a:lnTo>
                <a:lnTo>
                  <a:pt x="6669" y="1552"/>
                </a:lnTo>
                <a:lnTo>
                  <a:pt x="6775" y="1658"/>
                </a:lnTo>
                <a:lnTo>
                  <a:pt x="6916" y="1799"/>
                </a:lnTo>
                <a:lnTo>
                  <a:pt x="7128" y="1869"/>
                </a:lnTo>
                <a:lnTo>
                  <a:pt x="7233" y="1975"/>
                </a:lnTo>
                <a:lnTo>
                  <a:pt x="7375" y="2081"/>
                </a:lnTo>
                <a:lnTo>
                  <a:pt x="7480" y="2151"/>
                </a:lnTo>
                <a:lnTo>
                  <a:pt x="7586" y="2293"/>
                </a:lnTo>
                <a:lnTo>
                  <a:pt x="7692" y="2398"/>
                </a:lnTo>
                <a:lnTo>
                  <a:pt x="7798" y="2540"/>
                </a:lnTo>
                <a:lnTo>
                  <a:pt x="7868" y="2645"/>
                </a:lnTo>
                <a:lnTo>
                  <a:pt x="7904" y="2751"/>
                </a:lnTo>
                <a:lnTo>
                  <a:pt x="7939" y="2892"/>
                </a:lnTo>
                <a:lnTo>
                  <a:pt x="7939" y="2998"/>
                </a:lnTo>
                <a:lnTo>
                  <a:pt x="7974" y="3139"/>
                </a:lnTo>
                <a:lnTo>
                  <a:pt x="7974" y="3351"/>
                </a:lnTo>
                <a:lnTo>
                  <a:pt x="8010" y="3492"/>
                </a:lnTo>
                <a:lnTo>
                  <a:pt x="8045" y="3633"/>
                </a:lnTo>
                <a:lnTo>
                  <a:pt x="8045" y="3880"/>
                </a:lnTo>
                <a:lnTo>
                  <a:pt x="8045" y="3986"/>
                </a:lnTo>
                <a:lnTo>
                  <a:pt x="8080" y="4092"/>
                </a:lnTo>
                <a:lnTo>
                  <a:pt x="8080" y="4233"/>
                </a:lnTo>
                <a:lnTo>
                  <a:pt x="8080" y="4374"/>
                </a:lnTo>
                <a:lnTo>
                  <a:pt x="8080" y="4656"/>
                </a:lnTo>
                <a:lnTo>
                  <a:pt x="8080" y="4868"/>
                </a:lnTo>
                <a:lnTo>
                  <a:pt x="8045" y="5151"/>
                </a:lnTo>
                <a:lnTo>
                  <a:pt x="8045" y="5363"/>
                </a:lnTo>
                <a:lnTo>
                  <a:pt x="8010" y="5504"/>
                </a:lnTo>
                <a:lnTo>
                  <a:pt x="7974" y="5610"/>
                </a:lnTo>
                <a:lnTo>
                  <a:pt x="7939" y="5751"/>
                </a:lnTo>
                <a:lnTo>
                  <a:pt x="7904" y="5857"/>
                </a:lnTo>
                <a:lnTo>
                  <a:pt x="7868" y="5998"/>
                </a:lnTo>
                <a:lnTo>
                  <a:pt x="7833" y="6104"/>
                </a:lnTo>
                <a:lnTo>
                  <a:pt x="7833" y="6245"/>
                </a:lnTo>
                <a:lnTo>
                  <a:pt x="7798" y="6527"/>
                </a:lnTo>
                <a:lnTo>
                  <a:pt x="7763" y="6633"/>
                </a:lnTo>
                <a:lnTo>
                  <a:pt x="7763" y="6739"/>
                </a:lnTo>
                <a:lnTo>
                  <a:pt x="7763" y="6844"/>
                </a:lnTo>
                <a:lnTo>
                  <a:pt x="7763" y="6950"/>
                </a:lnTo>
                <a:lnTo>
                  <a:pt x="7763" y="7056"/>
                </a:lnTo>
                <a:lnTo>
                  <a:pt x="7763" y="7162"/>
                </a:lnTo>
                <a:lnTo>
                  <a:pt x="7763" y="7268"/>
                </a:lnTo>
                <a:lnTo>
                  <a:pt x="7763" y="7374"/>
                </a:lnTo>
                <a:lnTo>
                  <a:pt x="7763" y="7479"/>
                </a:lnTo>
                <a:lnTo>
                  <a:pt x="7763" y="7585"/>
                </a:lnTo>
                <a:lnTo>
                  <a:pt x="7763" y="7691"/>
                </a:lnTo>
                <a:lnTo>
                  <a:pt x="7727" y="7797"/>
                </a:lnTo>
                <a:lnTo>
                  <a:pt x="7692" y="7938"/>
                </a:lnTo>
                <a:lnTo>
                  <a:pt x="7657" y="8079"/>
                </a:lnTo>
                <a:lnTo>
                  <a:pt x="7622" y="8185"/>
                </a:lnTo>
                <a:lnTo>
                  <a:pt x="7551" y="8291"/>
                </a:lnTo>
                <a:lnTo>
                  <a:pt x="7516" y="8397"/>
                </a:lnTo>
                <a:lnTo>
                  <a:pt x="7622" y="8432"/>
                </a:lnTo>
                <a:lnTo>
                  <a:pt x="7727" y="8467"/>
                </a:lnTo>
                <a:lnTo>
                  <a:pt x="7833" y="8502"/>
                </a:lnTo>
                <a:lnTo>
                  <a:pt x="7939" y="8573"/>
                </a:lnTo>
                <a:lnTo>
                  <a:pt x="8045" y="8502"/>
                </a:lnTo>
                <a:lnTo>
                  <a:pt x="8045" y="8397"/>
                </a:lnTo>
                <a:lnTo>
                  <a:pt x="8045" y="8255"/>
                </a:lnTo>
                <a:lnTo>
                  <a:pt x="8080" y="8150"/>
                </a:lnTo>
                <a:lnTo>
                  <a:pt x="8186" y="8079"/>
                </a:lnTo>
                <a:lnTo>
                  <a:pt x="8221" y="7973"/>
                </a:lnTo>
                <a:lnTo>
                  <a:pt x="8327" y="7832"/>
                </a:lnTo>
                <a:lnTo>
                  <a:pt x="8327" y="7726"/>
                </a:lnTo>
                <a:lnTo>
                  <a:pt x="8327" y="7620"/>
                </a:lnTo>
                <a:lnTo>
                  <a:pt x="8292" y="7479"/>
                </a:lnTo>
                <a:lnTo>
                  <a:pt x="8221" y="7338"/>
                </a:lnTo>
                <a:lnTo>
                  <a:pt x="8186" y="7232"/>
                </a:lnTo>
                <a:lnTo>
                  <a:pt x="8186" y="7021"/>
                </a:lnTo>
                <a:lnTo>
                  <a:pt x="8151" y="6915"/>
                </a:lnTo>
                <a:lnTo>
                  <a:pt x="8151" y="6774"/>
                </a:lnTo>
                <a:lnTo>
                  <a:pt x="8186" y="6668"/>
                </a:lnTo>
                <a:lnTo>
                  <a:pt x="8221" y="6562"/>
                </a:lnTo>
                <a:lnTo>
                  <a:pt x="8327" y="6421"/>
                </a:lnTo>
                <a:lnTo>
                  <a:pt x="8433" y="6315"/>
                </a:lnTo>
                <a:lnTo>
                  <a:pt x="8468" y="6209"/>
                </a:lnTo>
                <a:lnTo>
                  <a:pt x="8539" y="6104"/>
                </a:lnTo>
                <a:lnTo>
                  <a:pt x="8574" y="5998"/>
                </a:lnTo>
                <a:lnTo>
                  <a:pt x="8574" y="5892"/>
                </a:lnTo>
                <a:lnTo>
                  <a:pt x="8574" y="5786"/>
                </a:lnTo>
                <a:lnTo>
                  <a:pt x="8539" y="5574"/>
                </a:lnTo>
                <a:lnTo>
                  <a:pt x="8539" y="5363"/>
                </a:lnTo>
                <a:lnTo>
                  <a:pt x="8503" y="5151"/>
                </a:lnTo>
                <a:lnTo>
                  <a:pt x="8503" y="5045"/>
                </a:lnTo>
                <a:lnTo>
                  <a:pt x="8539" y="4939"/>
                </a:lnTo>
                <a:lnTo>
                  <a:pt x="8574" y="4797"/>
                </a:lnTo>
                <a:lnTo>
                  <a:pt x="8609" y="4656"/>
                </a:lnTo>
                <a:lnTo>
                  <a:pt x="8609" y="4550"/>
                </a:lnTo>
                <a:lnTo>
                  <a:pt x="8609" y="4409"/>
                </a:lnTo>
                <a:lnTo>
                  <a:pt x="8609" y="4127"/>
                </a:lnTo>
                <a:lnTo>
                  <a:pt x="8609" y="3915"/>
                </a:lnTo>
                <a:lnTo>
                  <a:pt x="8609" y="3810"/>
                </a:lnTo>
                <a:lnTo>
                  <a:pt x="8609" y="3704"/>
                </a:lnTo>
                <a:lnTo>
                  <a:pt x="8609" y="3598"/>
                </a:lnTo>
                <a:lnTo>
                  <a:pt x="8609" y="3351"/>
                </a:lnTo>
                <a:lnTo>
                  <a:pt x="8609" y="3139"/>
                </a:lnTo>
                <a:lnTo>
                  <a:pt x="8574" y="2857"/>
                </a:lnTo>
                <a:lnTo>
                  <a:pt x="8362" y="2504"/>
                </a:lnTo>
                <a:lnTo>
                  <a:pt x="8292" y="2151"/>
                </a:lnTo>
                <a:lnTo>
                  <a:pt x="8221" y="1869"/>
                </a:lnTo>
                <a:lnTo>
                  <a:pt x="8115" y="1905"/>
                </a:lnTo>
                <a:lnTo>
                  <a:pt x="7833" y="1869"/>
                </a:lnTo>
                <a:lnTo>
                  <a:pt x="7727" y="1799"/>
                </a:lnTo>
                <a:lnTo>
                  <a:pt x="7692" y="1587"/>
                </a:lnTo>
                <a:lnTo>
                  <a:pt x="7480" y="1516"/>
                </a:lnTo>
                <a:lnTo>
                  <a:pt x="7445" y="1411"/>
                </a:lnTo>
                <a:lnTo>
                  <a:pt x="7163" y="1305"/>
                </a:lnTo>
                <a:lnTo>
                  <a:pt x="7128" y="1199"/>
                </a:lnTo>
                <a:lnTo>
                  <a:pt x="6881" y="1093"/>
                </a:lnTo>
                <a:lnTo>
                  <a:pt x="6845" y="987"/>
                </a:lnTo>
                <a:lnTo>
                  <a:pt x="6775" y="881"/>
                </a:lnTo>
                <a:lnTo>
                  <a:pt x="6669" y="776"/>
                </a:lnTo>
                <a:lnTo>
                  <a:pt x="6598" y="635"/>
                </a:lnTo>
                <a:lnTo>
                  <a:pt x="6386" y="599"/>
                </a:lnTo>
                <a:lnTo>
                  <a:pt x="6280" y="493"/>
                </a:lnTo>
                <a:lnTo>
                  <a:pt x="6139" y="423"/>
                </a:lnTo>
                <a:lnTo>
                  <a:pt x="5927" y="352"/>
                </a:lnTo>
                <a:lnTo>
                  <a:pt x="5574" y="282"/>
                </a:lnTo>
                <a:lnTo>
                  <a:pt x="5292" y="211"/>
                </a:lnTo>
                <a:lnTo>
                  <a:pt x="5081" y="211"/>
                </a:lnTo>
                <a:lnTo>
                  <a:pt x="4975" y="211"/>
                </a:lnTo>
                <a:lnTo>
                  <a:pt x="4728" y="70"/>
                </a:lnTo>
                <a:lnTo>
                  <a:pt x="4587" y="35"/>
                </a:lnTo>
                <a:lnTo>
                  <a:pt x="4304" y="0"/>
                </a:lnTo>
                <a:lnTo>
                  <a:pt x="4093" y="0"/>
                </a:lnTo>
                <a:lnTo>
                  <a:pt x="3987" y="35"/>
                </a:lnTo>
                <a:lnTo>
                  <a:pt x="3775" y="105"/>
                </a:lnTo>
                <a:lnTo>
                  <a:pt x="3634" y="176"/>
                </a:lnTo>
                <a:lnTo>
                  <a:pt x="3493" y="246"/>
                </a:lnTo>
                <a:lnTo>
                  <a:pt x="3140" y="246"/>
                </a:lnTo>
                <a:lnTo>
                  <a:pt x="2929" y="246"/>
                </a:lnTo>
                <a:lnTo>
                  <a:pt x="2787" y="282"/>
                </a:lnTo>
                <a:lnTo>
                  <a:pt x="2646" y="317"/>
                </a:lnTo>
                <a:lnTo>
                  <a:pt x="2541" y="388"/>
                </a:lnTo>
                <a:lnTo>
                  <a:pt x="2399" y="493"/>
                </a:lnTo>
                <a:lnTo>
                  <a:pt x="2294" y="564"/>
                </a:lnTo>
                <a:lnTo>
                  <a:pt x="2223" y="670"/>
                </a:lnTo>
                <a:lnTo>
                  <a:pt x="2116" y="776"/>
                </a:lnTo>
                <a:lnTo>
                  <a:pt x="2046" y="987"/>
                </a:lnTo>
                <a:lnTo>
                  <a:pt x="1975" y="1093"/>
                </a:lnTo>
                <a:lnTo>
                  <a:pt x="1905" y="1199"/>
                </a:lnTo>
                <a:lnTo>
                  <a:pt x="1799" y="1305"/>
                </a:lnTo>
                <a:lnTo>
                  <a:pt x="1693" y="1375"/>
                </a:lnTo>
                <a:lnTo>
                  <a:pt x="1446" y="1446"/>
                </a:lnTo>
                <a:lnTo>
                  <a:pt x="1164" y="1587"/>
                </a:lnTo>
                <a:lnTo>
                  <a:pt x="1058" y="1693"/>
                </a:lnTo>
                <a:lnTo>
                  <a:pt x="987" y="1975"/>
                </a:lnTo>
                <a:lnTo>
                  <a:pt x="952" y="2081"/>
                </a:lnTo>
                <a:lnTo>
                  <a:pt x="917" y="2187"/>
                </a:lnTo>
                <a:lnTo>
                  <a:pt x="881" y="2293"/>
                </a:lnTo>
                <a:lnTo>
                  <a:pt x="846" y="2434"/>
                </a:lnTo>
                <a:lnTo>
                  <a:pt x="846" y="2540"/>
                </a:lnTo>
                <a:lnTo>
                  <a:pt x="846" y="2645"/>
                </a:lnTo>
                <a:lnTo>
                  <a:pt x="846" y="2751"/>
                </a:lnTo>
                <a:lnTo>
                  <a:pt x="811" y="2857"/>
                </a:lnTo>
                <a:lnTo>
                  <a:pt x="776" y="2963"/>
                </a:lnTo>
                <a:lnTo>
                  <a:pt x="705" y="3069"/>
                </a:lnTo>
                <a:lnTo>
                  <a:pt x="670" y="3175"/>
                </a:lnTo>
                <a:lnTo>
                  <a:pt x="635" y="3280"/>
                </a:lnTo>
                <a:lnTo>
                  <a:pt x="599" y="3421"/>
                </a:lnTo>
                <a:lnTo>
                  <a:pt x="529" y="3563"/>
                </a:lnTo>
                <a:lnTo>
                  <a:pt x="493" y="3668"/>
                </a:lnTo>
                <a:lnTo>
                  <a:pt x="423" y="3774"/>
                </a:lnTo>
                <a:lnTo>
                  <a:pt x="388" y="3880"/>
                </a:lnTo>
                <a:lnTo>
                  <a:pt x="352" y="3986"/>
                </a:lnTo>
                <a:lnTo>
                  <a:pt x="317" y="4127"/>
                </a:lnTo>
                <a:lnTo>
                  <a:pt x="282" y="4233"/>
                </a:lnTo>
                <a:lnTo>
                  <a:pt x="282" y="4339"/>
                </a:lnTo>
                <a:lnTo>
                  <a:pt x="246" y="4445"/>
                </a:lnTo>
                <a:lnTo>
                  <a:pt x="246" y="4550"/>
                </a:lnTo>
                <a:lnTo>
                  <a:pt x="211" y="4656"/>
                </a:lnTo>
                <a:lnTo>
                  <a:pt x="211" y="4797"/>
                </a:lnTo>
                <a:lnTo>
                  <a:pt x="176" y="4903"/>
                </a:lnTo>
                <a:lnTo>
                  <a:pt x="141" y="5010"/>
                </a:lnTo>
                <a:lnTo>
                  <a:pt x="70" y="5116"/>
                </a:lnTo>
                <a:lnTo>
                  <a:pt x="70" y="5363"/>
                </a:lnTo>
                <a:lnTo>
                  <a:pt x="70" y="5504"/>
                </a:lnTo>
                <a:lnTo>
                  <a:pt x="35" y="5645"/>
                </a:lnTo>
                <a:lnTo>
                  <a:pt x="35" y="5857"/>
                </a:lnTo>
                <a:lnTo>
                  <a:pt x="0" y="5962"/>
                </a:lnTo>
                <a:lnTo>
                  <a:pt x="0" y="6068"/>
                </a:lnTo>
                <a:lnTo>
                  <a:pt x="35" y="6174"/>
                </a:lnTo>
                <a:lnTo>
                  <a:pt x="70" y="6280"/>
                </a:lnTo>
                <a:lnTo>
                  <a:pt x="105" y="6421"/>
                </a:lnTo>
                <a:lnTo>
                  <a:pt x="176" y="6562"/>
                </a:lnTo>
                <a:lnTo>
                  <a:pt x="211" y="6844"/>
                </a:lnTo>
                <a:lnTo>
                  <a:pt x="246" y="6950"/>
                </a:lnTo>
                <a:lnTo>
                  <a:pt x="282" y="7091"/>
                </a:lnTo>
                <a:lnTo>
                  <a:pt x="282" y="7338"/>
                </a:lnTo>
                <a:lnTo>
                  <a:pt x="246" y="7444"/>
                </a:lnTo>
                <a:lnTo>
                  <a:pt x="211" y="7585"/>
                </a:lnTo>
                <a:lnTo>
                  <a:pt x="211" y="7691"/>
                </a:lnTo>
                <a:lnTo>
                  <a:pt x="211" y="7832"/>
                </a:lnTo>
                <a:lnTo>
                  <a:pt x="211" y="7938"/>
                </a:lnTo>
                <a:lnTo>
                  <a:pt x="211" y="8079"/>
                </a:lnTo>
                <a:lnTo>
                  <a:pt x="176" y="8220"/>
                </a:lnTo>
                <a:lnTo>
                  <a:pt x="141" y="8326"/>
                </a:lnTo>
                <a:lnTo>
                  <a:pt x="141" y="8432"/>
                </a:lnTo>
                <a:lnTo>
                  <a:pt x="141" y="8573"/>
                </a:lnTo>
                <a:lnTo>
                  <a:pt x="105" y="8679"/>
                </a:lnTo>
                <a:lnTo>
                  <a:pt x="105" y="8785"/>
                </a:lnTo>
                <a:lnTo>
                  <a:pt x="105" y="8890"/>
                </a:lnTo>
                <a:lnTo>
                  <a:pt x="105" y="8996"/>
                </a:lnTo>
                <a:lnTo>
                  <a:pt x="141" y="9137"/>
                </a:lnTo>
                <a:lnTo>
                  <a:pt x="176" y="9243"/>
                </a:lnTo>
                <a:lnTo>
                  <a:pt x="246" y="9349"/>
                </a:lnTo>
                <a:lnTo>
                  <a:pt x="352" y="9420"/>
                </a:lnTo>
                <a:lnTo>
                  <a:pt x="423" y="9525"/>
                </a:lnTo>
                <a:lnTo>
                  <a:pt x="529" y="9631"/>
                </a:lnTo>
                <a:lnTo>
                  <a:pt x="599" y="9737"/>
                </a:lnTo>
                <a:lnTo>
                  <a:pt x="705" y="9808"/>
                </a:lnTo>
                <a:lnTo>
                  <a:pt x="811" y="9808"/>
                </a:lnTo>
                <a:lnTo>
                  <a:pt x="917" y="9737"/>
                </a:lnTo>
                <a:lnTo>
                  <a:pt x="1023" y="9737"/>
                </a:lnTo>
                <a:lnTo>
                  <a:pt x="1128" y="9737"/>
                </a:lnTo>
                <a:lnTo>
                  <a:pt x="1270" y="9737"/>
                </a:lnTo>
                <a:lnTo>
                  <a:pt x="1375" y="9737"/>
                </a:lnTo>
                <a:lnTo>
                  <a:pt x="1481" y="9737"/>
                </a:lnTo>
                <a:lnTo>
                  <a:pt x="1587" y="9737"/>
                </a:lnTo>
                <a:lnTo>
                  <a:pt x="1693" y="9772"/>
                </a:lnTo>
                <a:lnTo>
                  <a:pt x="1799" y="9772"/>
                </a:lnTo>
                <a:lnTo>
                  <a:pt x="1905" y="9772"/>
                </a:lnTo>
                <a:lnTo>
                  <a:pt x="2010" y="9808"/>
                </a:lnTo>
                <a:lnTo>
                  <a:pt x="2116" y="9808"/>
                </a:lnTo>
                <a:lnTo>
                  <a:pt x="2223" y="9808"/>
                </a:lnTo>
                <a:lnTo>
                  <a:pt x="2329" y="9772"/>
                </a:lnTo>
                <a:lnTo>
                  <a:pt x="2435" y="9737"/>
                </a:lnTo>
                <a:lnTo>
                  <a:pt x="2576" y="9737"/>
                </a:lnTo>
                <a:lnTo>
                  <a:pt x="2682" y="9702"/>
                </a:lnTo>
                <a:lnTo>
                  <a:pt x="2823" y="9667"/>
                </a:lnTo>
                <a:lnTo>
                  <a:pt x="2964" y="9631"/>
                </a:lnTo>
                <a:lnTo>
                  <a:pt x="3070" y="9596"/>
                </a:lnTo>
                <a:lnTo>
                  <a:pt x="3176" y="9561"/>
                </a:lnTo>
                <a:lnTo>
                  <a:pt x="3281" y="9525"/>
                </a:lnTo>
                <a:lnTo>
                  <a:pt x="3387" y="9490"/>
                </a:lnTo>
                <a:lnTo>
                  <a:pt x="3493" y="9455"/>
                </a:lnTo>
                <a:lnTo>
                  <a:pt x="3599" y="9455"/>
                </a:lnTo>
                <a:lnTo>
                  <a:pt x="3775" y="9349"/>
                </a:lnTo>
                <a:lnTo>
                  <a:pt x="3811" y="9137"/>
                </a:lnTo>
                <a:lnTo>
                  <a:pt x="3881" y="9032"/>
                </a:lnTo>
                <a:lnTo>
                  <a:pt x="3846" y="9173"/>
                </a:lnTo>
                <a:lnTo>
                  <a:pt x="3775" y="9349"/>
                </a:lnTo>
                <a:close/>
              </a:path>
            </a:pathLst>
          </a:custGeom>
          <a:solidFill>
            <a:srgbClr val="ff9999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0880" y="22860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E - JJAE - RAH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4356000" y="4927680"/>
            <a:ext cx="241560" cy="660600"/>
          </a:xfrm>
          <a:custGeom>
            <a:avLst/>
            <a:gdLst/>
            <a:ahLst/>
            <a:rect l="0" t="0" r="r" b="b"/>
            <a:pathLst>
              <a:path w="671" h="1835">
                <a:moveTo>
                  <a:pt x="35" y="1200"/>
                </a:moveTo>
                <a:lnTo>
                  <a:pt x="70" y="1517"/>
                </a:lnTo>
                <a:lnTo>
                  <a:pt x="246" y="1729"/>
                </a:lnTo>
                <a:lnTo>
                  <a:pt x="459" y="1835"/>
                </a:lnTo>
                <a:lnTo>
                  <a:pt x="671" y="1659"/>
                </a:lnTo>
                <a:lnTo>
                  <a:pt x="671" y="282"/>
                </a:lnTo>
                <a:lnTo>
                  <a:pt x="494" y="0"/>
                </a:lnTo>
                <a:lnTo>
                  <a:pt x="141" y="105"/>
                </a:lnTo>
                <a:lnTo>
                  <a:pt x="0" y="670"/>
                </a:lnTo>
                <a:lnTo>
                  <a:pt x="35" y="1200"/>
                </a:lnTo>
                <a:close/>
              </a:path>
            </a:pathLst>
          </a:custGeom>
          <a:solidFill>
            <a:srgbClr val="9933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737240" y="4851360"/>
            <a:ext cx="241560" cy="660600"/>
          </a:xfrm>
          <a:custGeom>
            <a:avLst/>
            <a:gdLst/>
            <a:ahLst/>
            <a:rect l="0" t="0" r="r" b="b"/>
            <a:pathLst>
              <a:path w="671" h="1835">
                <a:moveTo>
                  <a:pt x="35" y="1200"/>
                </a:moveTo>
                <a:lnTo>
                  <a:pt x="70" y="1517"/>
                </a:lnTo>
                <a:lnTo>
                  <a:pt x="246" y="1729"/>
                </a:lnTo>
                <a:lnTo>
                  <a:pt x="459" y="1835"/>
                </a:lnTo>
                <a:lnTo>
                  <a:pt x="671" y="1659"/>
                </a:lnTo>
                <a:lnTo>
                  <a:pt x="671" y="282"/>
                </a:lnTo>
                <a:lnTo>
                  <a:pt x="494" y="0"/>
                </a:lnTo>
                <a:lnTo>
                  <a:pt x="141" y="105"/>
                </a:lnTo>
                <a:lnTo>
                  <a:pt x="0" y="670"/>
                </a:lnTo>
                <a:lnTo>
                  <a:pt x="35" y="1200"/>
                </a:lnTo>
                <a:close/>
              </a:path>
            </a:pathLst>
          </a:custGeom>
          <a:solidFill>
            <a:srgbClr val="9933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2955600" y="2770200"/>
            <a:ext cx="1203840" cy="955800"/>
            <a:chOff x="2955600" y="2770200"/>
            <a:chExt cx="1203840" cy="955800"/>
          </a:xfrm>
        </p:grpSpPr>
        <p:sp>
          <p:nvSpPr>
            <p:cNvPr id="436" name=""/>
            <p:cNvSpPr/>
            <p:nvPr/>
          </p:nvSpPr>
          <p:spPr>
            <a:xfrm>
              <a:off x="2955600" y="3422880"/>
              <a:ext cx="290520" cy="303120"/>
            </a:xfrm>
            <a:custGeom>
              <a:avLst/>
              <a:gdLst/>
              <a:ahLst/>
              <a:rect l="0" t="0" r="r" b="b"/>
              <a:pathLst>
                <a:path w="807" h="842">
                  <a:moveTo>
                    <a:pt x="259" y="23"/>
                  </a:moveTo>
                  <a:lnTo>
                    <a:pt x="259" y="23"/>
                  </a:lnTo>
                  <a:lnTo>
                    <a:pt x="258" y="23"/>
                  </a:lnTo>
                  <a:cubicBezTo>
                    <a:pt x="192" y="47"/>
                    <a:pt x="134" y="89"/>
                    <a:pt x="90" y="145"/>
                  </a:cubicBezTo>
                  <a:cubicBezTo>
                    <a:pt x="45" y="201"/>
                    <a:pt x="16" y="268"/>
                    <a:pt x="5" y="341"/>
                  </a:cubicBezTo>
                  <a:cubicBezTo>
                    <a:pt x="-6" y="413"/>
                    <a:pt x="2" y="488"/>
                    <a:pt x="27" y="558"/>
                  </a:cubicBezTo>
                  <a:cubicBezTo>
                    <a:pt x="53" y="628"/>
                    <a:pt x="95" y="691"/>
                    <a:pt x="150" y="739"/>
                  </a:cubicBezTo>
                  <a:cubicBezTo>
                    <a:pt x="205" y="788"/>
                    <a:pt x="271" y="821"/>
                    <a:pt x="341" y="835"/>
                  </a:cubicBezTo>
                  <a:cubicBezTo>
                    <a:pt x="411" y="849"/>
                    <a:pt x="482" y="844"/>
                    <a:pt x="548" y="820"/>
                  </a:cubicBezTo>
                  <a:lnTo>
                    <a:pt x="548" y="820"/>
                  </a:lnTo>
                  <a:lnTo>
                    <a:pt x="549" y="820"/>
                  </a:lnTo>
                  <a:cubicBezTo>
                    <a:pt x="615" y="796"/>
                    <a:pt x="673" y="754"/>
                    <a:pt x="717" y="698"/>
                  </a:cubicBezTo>
                  <a:cubicBezTo>
                    <a:pt x="762" y="642"/>
                    <a:pt x="791" y="575"/>
                    <a:pt x="802" y="502"/>
                  </a:cubicBezTo>
                  <a:cubicBezTo>
                    <a:pt x="813" y="430"/>
                    <a:pt x="805" y="355"/>
                    <a:pt x="780" y="285"/>
                  </a:cubicBezTo>
                  <a:cubicBezTo>
                    <a:pt x="754" y="215"/>
                    <a:pt x="712" y="152"/>
                    <a:pt x="657" y="104"/>
                  </a:cubicBezTo>
                  <a:cubicBezTo>
                    <a:pt x="602" y="55"/>
                    <a:pt x="536" y="22"/>
                    <a:pt x="466" y="8"/>
                  </a:cubicBezTo>
                  <a:cubicBezTo>
                    <a:pt x="396" y="-6"/>
                    <a:pt x="325" y="-1"/>
                    <a:pt x="259" y="23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213000" y="2770200"/>
              <a:ext cx="946440" cy="952920"/>
            </a:xfrm>
            <a:custGeom>
              <a:avLst/>
              <a:gdLst/>
              <a:ahLst/>
              <a:rect l="0" t="0" r="r" b="b"/>
              <a:pathLst>
                <a:path w="2629" h="2647">
                  <a:moveTo>
                    <a:pt x="2219" y="0"/>
                  </a:moveTo>
                  <a:lnTo>
                    <a:pt x="1998" y="198"/>
                  </a:lnTo>
                  <a:lnTo>
                    <a:pt x="1738" y="1032"/>
                  </a:lnTo>
                  <a:lnTo>
                    <a:pt x="1495" y="1654"/>
                  </a:lnTo>
                  <a:lnTo>
                    <a:pt x="0" y="1786"/>
                  </a:lnTo>
                  <a:lnTo>
                    <a:pt x="167" y="2647"/>
                  </a:lnTo>
                  <a:lnTo>
                    <a:pt x="2095" y="2325"/>
                  </a:lnTo>
                  <a:lnTo>
                    <a:pt x="2607" y="657"/>
                  </a:lnTo>
                  <a:lnTo>
                    <a:pt x="2629" y="233"/>
                  </a:lnTo>
                  <a:lnTo>
                    <a:pt x="2430" y="8"/>
                  </a:lnTo>
                  <a:lnTo>
                    <a:pt x="2219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3911760" y="4025880"/>
            <a:ext cx="940320" cy="1371960"/>
          </a:xfrm>
          <a:custGeom>
            <a:avLst/>
            <a:gdLst/>
            <a:ahLst/>
            <a:rect l="0" t="0" r="r" b="b"/>
            <a:pathLst>
              <a:path w="2612" h="3811">
                <a:moveTo>
                  <a:pt x="0" y="0"/>
                </a:moveTo>
                <a:lnTo>
                  <a:pt x="352" y="2893"/>
                </a:lnTo>
                <a:lnTo>
                  <a:pt x="635" y="3705"/>
                </a:lnTo>
                <a:lnTo>
                  <a:pt x="882" y="3775"/>
                </a:lnTo>
                <a:lnTo>
                  <a:pt x="1200" y="3811"/>
                </a:lnTo>
                <a:lnTo>
                  <a:pt x="1376" y="3634"/>
                </a:lnTo>
                <a:lnTo>
                  <a:pt x="1129" y="2823"/>
                </a:lnTo>
                <a:lnTo>
                  <a:pt x="1024" y="1658"/>
                </a:lnTo>
                <a:lnTo>
                  <a:pt x="1024" y="1234"/>
                </a:lnTo>
                <a:lnTo>
                  <a:pt x="1094" y="2364"/>
                </a:lnTo>
                <a:lnTo>
                  <a:pt x="1200" y="3246"/>
                </a:lnTo>
                <a:lnTo>
                  <a:pt x="1376" y="3528"/>
                </a:lnTo>
                <a:lnTo>
                  <a:pt x="1588" y="3564"/>
                </a:lnTo>
                <a:lnTo>
                  <a:pt x="1412" y="3564"/>
                </a:lnTo>
                <a:lnTo>
                  <a:pt x="1553" y="3669"/>
                </a:lnTo>
                <a:lnTo>
                  <a:pt x="1764" y="3705"/>
                </a:lnTo>
                <a:lnTo>
                  <a:pt x="2118" y="3634"/>
                </a:lnTo>
                <a:lnTo>
                  <a:pt x="2612" y="3281"/>
                </a:lnTo>
                <a:lnTo>
                  <a:pt x="2612" y="3070"/>
                </a:lnTo>
                <a:lnTo>
                  <a:pt x="2542" y="2329"/>
                </a:lnTo>
                <a:lnTo>
                  <a:pt x="2153" y="2399"/>
                </a:lnTo>
                <a:lnTo>
                  <a:pt x="2224" y="2823"/>
                </a:lnTo>
                <a:lnTo>
                  <a:pt x="2153" y="2435"/>
                </a:lnTo>
                <a:lnTo>
                  <a:pt x="2153" y="1481"/>
                </a:lnTo>
                <a:lnTo>
                  <a:pt x="2224" y="7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463840" y="6146640"/>
            <a:ext cx="3670560" cy="344880"/>
          </a:xfrm>
          <a:custGeom>
            <a:avLst/>
            <a:gdLst/>
            <a:ahLst/>
            <a:rect l="0" t="0" r="r" b="b"/>
            <a:pathLst>
              <a:path w="10196" h="958">
                <a:moveTo>
                  <a:pt x="3764" y="216"/>
                </a:moveTo>
                <a:lnTo>
                  <a:pt x="3654" y="246"/>
                </a:lnTo>
                <a:lnTo>
                  <a:pt x="3570" y="246"/>
                </a:lnTo>
                <a:lnTo>
                  <a:pt x="3517" y="246"/>
                </a:lnTo>
                <a:lnTo>
                  <a:pt x="3407" y="216"/>
                </a:lnTo>
                <a:lnTo>
                  <a:pt x="3354" y="183"/>
                </a:lnTo>
                <a:lnTo>
                  <a:pt x="3297" y="183"/>
                </a:lnTo>
                <a:lnTo>
                  <a:pt x="3244" y="155"/>
                </a:lnTo>
                <a:lnTo>
                  <a:pt x="3217" y="155"/>
                </a:lnTo>
                <a:lnTo>
                  <a:pt x="2997" y="246"/>
                </a:lnTo>
                <a:lnTo>
                  <a:pt x="2781" y="340"/>
                </a:lnTo>
                <a:lnTo>
                  <a:pt x="2508" y="216"/>
                </a:lnTo>
                <a:lnTo>
                  <a:pt x="2208" y="94"/>
                </a:lnTo>
                <a:lnTo>
                  <a:pt x="2128" y="61"/>
                </a:lnTo>
                <a:lnTo>
                  <a:pt x="2098" y="61"/>
                </a:lnTo>
                <a:lnTo>
                  <a:pt x="2071" y="61"/>
                </a:lnTo>
                <a:lnTo>
                  <a:pt x="2045" y="94"/>
                </a:lnTo>
                <a:lnTo>
                  <a:pt x="762" y="279"/>
                </a:lnTo>
                <a:lnTo>
                  <a:pt x="357" y="524"/>
                </a:lnTo>
                <a:lnTo>
                  <a:pt x="273" y="646"/>
                </a:lnTo>
                <a:lnTo>
                  <a:pt x="246" y="679"/>
                </a:lnTo>
                <a:lnTo>
                  <a:pt x="246" y="679"/>
                </a:lnTo>
                <a:lnTo>
                  <a:pt x="273" y="646"/>
                </a:lnTo>
                <a:lnTo>
                  <a:pt x="326" y="585"/>
                </a:lnTo>
                <a:lnTo>
                  <a:pt x="357" y="585"/>
                </a:lnTo>
                <a:lnTo>
                  <a:pt x="357" y="618"/>
                </a:lnTo>
                <a:lnTo>
                  <a:pt x="357" y="742"/>
                </a:lnTo>
                <a:lnTo>
                  <a:pt x="299" y="803"/>
                </a:lnTo>
                <a:lnTo>
                  <a:pt x="189" y="836"/>
                </a:lnTo>
                <a:lnTo>
                  <a:pt x="83" y="864"/>
                </a:lnTo>
                <a:lnTo>
                  <a:pt x="0" y="897"/>
                </a:lnTo>
                <a:lnTo>
                  <a:pt x="110" y="958"/>
                </a:lnTo>
                <a:lnTo>
                  <a:pt x="189" y="958"/>
                </a:lnTo>
                <a:lnTo>
                  <a:pt x="273" y="925"/>
                </a:lnTo>
                <a:lnTo>
                  <a:pt x="383" y="897"/>
                </a:lnTo>
                <a:lnTo>
                  <a:pt x="489" y="742"/>
                </a:lnTo>
                <a:lnTo>
                  <a:pt x="573" y="679"/>
                </a:lnTo>
                <a:lnTo>
                  <a:pt x="656" y="679"/>
                </a:lnTo>
                <a:lnTo>
                  <a:pt x="819" y="742"/>
                </a:lnTo>
                <a:lnTo>
                  <a:pt x="899" y="864"/>
                </a:lnTo>
                <a:lnTo>
                  <a:pt x="982" y="897"/>
                </a:lnTo>
                <a:lnTo>
                  <a:pt x="1093" y="864"/>
                </a:lnTo>
                <a:lnTo>
                  <a:pt x="1198" y="775"/>
                </a:lnTo>
                <a:lnTo>
                  <a:pt x="1282" y="679"/>
                </a:lnTo>
                <a:lnTo>
                  <a:pt x="1362" y="679"/>
                </a:lnTo>
                <a:lnTo>
                  <a:pt x="1445" y="712"/>
                </a:lnTo>
                <a:lnTo>
                  <a:pt x="1555" y="775"/>
                </a:lnTo>
                <a:lnTo>
                  <a:pt x="1829" y="712"/>
                </a:lnTo>
                <a:lnTo>
                  <a:pt x="2128" y="679"/>
                </a:lnTo>
                <a:lnTo>
                  <a:pt x="2481" y="742"/>
                </a:lnTo>
                <a:lnTo>
                  <a:pt x="2671" y="742"/>
                </a:lnTo>
                <a:lnTo>
                  <a:pt x="2917" y="712"/>
                </a:lnTo>
                <a:lnTo>
                  <a:pt x="3133" y="679"/>
                </a:lnTo>
                <a:lnTo>
                  <a:pt x="3217" y="712"/>
                </a:lnTo>
                <a:lnTo>
                  <a:pt x="3270" y="742"/>
                </a:lnTo>
                <a:lnTo>
                  <a:pt x="3270" y="742"/>
                </a:lnTo>
                <a:lnTo>
                  <a:pt x="3517" y="958"/>
                </a:lnTo>
                <a:lnTo>
                  <a:pt x="3953" y="742"/>
                </a:lnTo>
                <a:lnTo>
                  <a:pt x="4579" y="742"/>
                </a:lnTo>
                <a:lnTo>
                  <a:pt x="5016" y="742"/>
                </a:lnTo>
                <a:lnTo>
                  <a:pt x="5068" y="864"/>
                </a:lnTo>
                <a:lnTo>
                  <a:pt x="5127" y="925"/>
                </a:lnTo>
                <a:lnTo>
                  <a:pt x="5237" y="958"/>
                </a:lnTo>
                <a:lnTo>
                  <a:pt x="5369" y="925"/>
                </a:lnTo>
                <a:lnTo>
                  <a:pt x="5479" y="897"/>
                </a:lnTo>
                <a:lnTo>
                  <a:pt x="5537" y="864"/>
                </a:lnTo>
                <a:lnTo>
                  <a:pt x="5590" y="897"/>
                </a:lnTo>
                <a:lnTo>
                  <a:pt x="5669" y="958"/>
                </a:lnTo>
                <a:lnTo>
                  <a:pt x="5779" y="958"/>
                </a:lnTo>
                <a:lnTo>
                  <a:pt x="5863" y="925"/>
                </a:lnTo>
                <a:lnTo>
                  <a:pt x="5916" y="925"/>
                </a:lnTo>
                <a:lnTo>
                  <a:pt x="5969" y="897"/>
                </a:lnTo>
                <a:lnTo>
                  <a:pt x="6026" y="864"/>
                </a:lnTo>
                <a:lnTo>
                  <a:pt x="6052" y="864"/>
                </a:lnTo>
                <a:lnTo>
                  <a:pt x="6326" y="897"/>
                </a:lnTo>
                <a:lnTo>
                  <a:pt x="6573" y="836"/>
                </a:lnTo>
                <a:lnTo>
                  <a:pt x="6736" y="897"/>
                </a:lnTo>
                <a:lnTo>
                  <a:pt x="6872" y="925"/>
                </a:lnTo>
                <a:lnTo>
                  <a:pt x="6952" y="958"/>
                </a:lnTo>
                <a:lnTo>
                  <a:pt x="6978" y="958"/>
                </a:lnTo>
                <a:lnTo>
                  <a:pt x="7088" y="925"/>
                </a:lnTo>
                <a:lnTo>
                  <a:pt x="7198" y="897"/>
                </a:lnTo>
                <a:lnTo>
                  <a:pt x="7251" y="897"/>
                </a:lnTo>
                <a:lnTo>
                  <a:pt x="7304" y="864"/>
                </a:lnTo>
                <a:lnTo>
                  <a:pt x="7304" y="864"/>
                </a:lnTo>
                <a:lnTo>
                  <a:pt x="7551" y="925"/>
                </a:lnTo>
                <a:lnTo>
                  <a:pt x="7688" y="958"/>
                </a:lnTo>
                <a:lnTo>
                  <a:pt x="7798" y="925"/>
                </a:lnTo>
                <a:lnTo>
                  <a:pt x="7908" y="897"/>
                </a:lnTo>
                <a:lnTo>
                  <a:pt x="8014" y="864"/>
                </a:lnTo>
                <a:lnTo>
                  <a:pt x="8124" y="836"/>
                </a:lnTo>
                <a:lnTo>
                  <a:pt x="8151" y="836"/>
                </a:lnTo>
                <a:lnTo>
                  <a:pt x="8450" y="897"/>
                </a:lnTo>
                <a:lnTo>
                  <a:pt x="8587" y="897"/>
                </a:lnTo>
                <a:lnTo>
                  <a:pt x="8724" y="864"/>
                </a:lnTo>
                <a:lnTo>
                  <a:pt x="8944" y="864"/>
                </a:lnTo>
                <a:lnTo>
                  <a:pt x="9160" y="836"/>
                </a:lnTo>
                <a:lnTo>
                  <a:pt x="9213" y="775"/>
                </a:lnTo>
                <a:lnTo>
                  <a:pt x="9270" y="712"/>
                </a:lnTo>
                <a:lnTo>
                  <a:pt x="9433" y="679"/>
                </a:lnTo>
                <a:lnTo>
                  <a:pt x="9596" y="679"/>
                </a:lnTo>
                <a:lnTo>
                  <a:pt x="9759" y="712"/>
                </a:lnTo>
                <a:lnTo>
                  <a:pt x="9896" y="712"/>
                </a:lnTo>
                <a:lnTo>
                  <a:pt x="10033" y="679"/>
                </a:lnTo>
                <a:lnTo>
                  <a:pt x="10112" y="618"/>
                </a:lnTo>
                <a:lnTo>
                  <a:pt x="10196" y="524"/>
                </a:lnTo>
                <a:lnTo>
                  <a:pt x="10169" y="462"/>
                </a:lnTo>
                <a:lnTo>
                  <a:pt x="10143" y="434"/>
                </a:lnTo>
                <a:lnTo>
                  <a:pt x="10112" y="401"/>
                </a:lnTo>
                <a:lnTo>
                  <a:pt x="10059" y="434"/>
                </a:lnTo>
                <a:lnTo>
                  <a:pt x="9980" y="462"/>
                </a:lnTo>
                <a:lnTo>
                  <a:pt x="9922" y="495"/>
                </a:lnTo>
                <a:lnTo>
                  <a:pt x="9896" y="495"/>
                </a:lnTo>
                <a:lnTo>
                  <a:pt x="9843" y="462"/>
                </a:lnTo>
                <a:lnTo>
                  <a:pt x="9733" y="462"/>
                </a:lnTo>
                <a:lnTo>
                  <a:pt x="9649" y="434"/>
                </a:lnTo>
                <a:lnTo>
                  <a:pt x="9570" y="401"/>
                </a:lnTo>
                <a:lnTo>
                  <a:pt x="9513" y="373"/>
                </a:lnTo>
                <a:lnTo>
                  <a:pt x="9433" y="307"/>
                </a:lnTo>
                <a:lnTo>
                  <a:pt x="9376" y="279"/>
                </a:lnTo>
                <a:lnTo>
                  <a:pt x="9349" y="246"/>
                </a:lnTo>
                <a:lnTo>
                  <a:pt x="8913" y="307"/>
                </a:lnTo>
                <a:lnTo>
                  <a:pt x="8508" y="373"/>
                </a:lnTo>
                <a:lnTo>
                  <a:pt x="8340" y="340"/>
                </a:lnTo>
                <a:lnTo>
                  <a:pt x="8177" y="340"/>
                </a:lnTo>
                <a:lnTo>
                  <a:pt x="8040" y="279"/>
                </a:lnTo>
                <a:lnTo>
                  <a:pt x="7908" y="216"/>
                </a:lnTo>
                <a:lnTo>
                  <a:pt x="7798" y="155"/>
                </a:lnTo>
                <a:lnTo>
                  <a:pt x="7714" y="94"/>
                </a:lnTo>
                <a:lnTo>
                  <a:pt x="7608" y="61"/>
                </a:lnTo>
                <a:lnTo>
                  <a:pt x="7578" y="32"/>
                </a:lnTo>
                <a:lnTo>
                  <a:pt x="7278" y="94"/>
                </a:lnTo>
                <a:lnTo>
                  <a:pt x="6978" y="155"/>
                </a:lnTo>
                <a:lnTo>
                  <a:pt x="6815" y="183"/>
                </a:lnTo>
                <a:lnTo>
                  <a:pt x="6652" y="122"/>
                </a:lnTo>
                <a:lnTo>
                  <a:pt x="6326" y="0"/>
                </a:lnTo>
                <a:lnTo>
                  <a:pt x="5942" y="61"/>
                </a:lnTo>
                <a:lnTo>
                  <a:pt x="5753" y="94"/>
                </a:lnTo>
                <a:lnTo>
                  <a:pt x="5563" y="155"/>
                </a:lnTo>
                <a:lnTo>
                  <a:pt x="5479" y="183"/>
                </a:lnTo>
                <a:lnTo>
                  <a:pt x="5369" y="216"/>
                </a:lnTo>
                <a:lnTo>
                  <a:pt x="5290" y="246"/>
                </a:lnTo>
                <a:lnTo>
                  <a:pt x="5263" y="246"/>
                </a:lnTo>
                <a:lnTo>
                  <a:pt x="5153" y="246"/>
                </a:lnTo>
                <a:lnTo>
                  <a:pt x="5016" y="216"/>
                </a:lnTo>
                <a:lnTo>
                  <a:pt x="4879" y="183"/>
                </a:lnTo>
                <a:lnTo>
                  <a:pt x="4826" y="155"/>
                </a:lnTo>
                <a:lnTo>
                  <a:pt x="4800" y="155"/>
                </a:lnTo>
                <a:lnTo>
                  <a:pt x="4663" y="183"/>
                </a:lnTo>
                <a:lnTo>
                  <a:pt x="4579" y="216"/>
                </a:lnTo>
                <a:lnTo>
                  <a:pt x="4469" y="216"/>
                </a:lnTo>
                <a:lnTo>
                  <a:pt x="4332" y="183"/>
                </a:lnTo>
                <a:lnTo>
                  <a:pt x="4279" y="155"/>
                </a:lnTo>
                <a:lnTo>
                  <a:pt x="4200" y="122"/>
                </a:lnTo>
                <a:lnTo>
                  <a:pt x="4143" y="94"/>
                </a:lnTo>
                <a:lnTo>
                  <a:pt x="4116" y="94"/>
                </a:lnTo>
                <a:lnTo>
                  <a:pt x="4033" y="122"/>
                </a:lnTo>
                <a:lnTo>
                  <a:pt x="3980" y="155"/>
                </a:lnTo>
                <a:lnTo>
                  <a:pt x="3927" y="183"/>
                </a:lnTo>
                <a:lnTo>
                  <a:pt x="3896" y="183"/>
                </a:lnTo>
                <a:lnTo>
                  <a:pt x="3817" y="155"/>
                </a:lnTo>
                <a:lnTo>
                  <a:pt x="3733" y="183"/>
                </a:lnTo>
                <a:lnTo>
                  <a:pt x="3706" y="216"/>
                </a:lnTo>
                <a:lnTo>
                  <a:pt x="3706" y="216"/>
                </a:lnTo>
                <a:lnTo>
                  <a:pt x="3764" y="216"/>
                </a:lnTo>
                <a:close/>
              </a:path>
            </a:pathLst>
          </a:custGeom>
          <a:solidFill>
            <a:srgbClr val="e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3719520" y="915840"/>
            <a:ext cx="1081440" cy="3275640"/>
            <a:chOff x="3719520" y="915840"/>
            <a:chExt cx="1081440" cy="3275640"/>
          </a:xfrm>
        </p:grpSpPr>
        <p:sp>
          <p:nvSpPr>
            <p:cNvPr id="441" name=""/>
            <p:cNvSpPr/>
            <p:nvPr/>
          </p:nvSpPr>
          <p:spPr>
            <a:xfrm>
              <a:off x="3819600" y="2590920"/>
              <a:ext cx="981360" cy="1600560"/>
            </a:xfrm>
            <a:custGeom>
              <a:avLst/>
              <a:gdLst/>
              <a:ahLst/>
              <a:rect l="0" t="0" r="r" b="b"/>
              <a:pathLst>
                <a:path w="2726" h="4446">
                  <a:moveTo>
                    <a:pt x="953" y="374"/>
                  </a:moveTo>
                  <a:lnTo>
                    <a:pt x="865" y="392"/>
                  </a:lnTo>
                  <a:lnTo>
                    <a:pt x="799" y="436"/>
                  </a:lnTo>
                  <a:lnTo>
                    <a:pt x="672" y="582"/>
                  </a:lnTo>
                  <a:lnTo>
                    <a:pt x="540" y="723"/>
                  </a:lnTo>
                  <a:lnTo>
                    <a:pt x="391" y="851"/>
                  </a:lnTo>
                  <a:lnTo>
                    <a:pt x="369" y="890"/>
                  </a:lnTo>
                  <a:lnTo>
                    <a:pt x="347" y="930"/>
                  </a:lnTo>
                  <a:lnTo>
                    <a:pt x="347" y="930"/>
                  </a:lnTo>
                  <a:lnTo>
                    <a:pt x="369" y="930"/>
                  </a:lnTo>
                  <a:lnTo>
                    <a:pt x="153" y="1553"/>
                  </a:lnTo>
                  <a:lnTo>
                    <a:pt x="0" y="4345"/>
                  </a:lnTo>
                  <a:lnTo>
                    <a:pt x="2726" y="4446"/>
                  </a:lnTo>
                  <a:lnTo>
                    <a:pt x="2317" y="1844"/>
                  </a:lnTo>
                  <a:lnTo>
                    <a:pt x="2119" y="414"/>
                  </a:lnTo>
                  <a:lnTo>
                    <a:pt x="1385" y="0"/>
                  </a:lnTo>
                  <a:lnTo>
                    <a:pt x="953" y="374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3719520" y="915840"/>
              <a:ext cx="1005120" cy="1818000"/>
              <a:chOff x="3719520" y="915840"/>
              <a:chExt cx="1005120" cy="1818000"/>
            </a:xfrm>
          </p:grpSpPr>
          <p:sp>
            <p:nvSpPr>
              <p:cNvPr id="443" name=""/>
              <p:cNvSpPr/>
              <p:nvPr/>
            </p:nvSpPr>
            <p:spPr>
              <a:xfrm>
                <a:off x="3828960" y="1152360"/>
                <a:ext cx="895680" cy="1581480"/>
              </a:xfrm>
              <a:custGeom>
                <a:avLst/>
                <a:gdLst/>
                <a:ahLst/>
                <a:rect l="0" t="0" r="r" b="b"/>
                <a:pathLst>
                  <a:path w="2488" h="4393">
                    <a:moveTo>
                      <a:pt x="582" y="0"/>
                    </a:moveTo>
                    <a:lnTo>
                      <a:pt x="264" y="264"/>
                    </a:lnTo>
                    <a:lnTo>
                      <a:pt x="79" y="687"/>
                    </a:lnTo>
                    <a:lnTo>
                      <a:pt x="26" y="1217"/>
                    </a:lnTo>
                    <a:lnTo>
                      <a:pt x="0" y="2699"/>
                    </a:lnTo>
                    <a:lnTo>
                      <a:pt x="52" y="3546"/>
                    </a:lnTo>
                    <a:lnTo>
                      <a:pt x="820" y="3599"/>
                    </a:lnTo>
                    <a:lnTo>
                      <a:pt x="926" y="4075"/>
                    </a:lnTo>
                    <a:lnTo>
                      <a:pt x="1031" y="4393"/>
                    </a:lnTo>
                    <a:lnTo>
                      <a:pt x="1271" y="4393"/>
                    </a:lnTo>
                    <a:lnTo>
                      <a:pt x="1403" y="4102"/>
                    </a:lnTo>
                    <a:lnTo>
                      <a:pt x="1323" y="3599"/>
                    </a:lnTo>
                    <a:lnTo>
                      <a:pt x="2038" y="3519"/>
                    </a:lnTo>
                    <a:lnTo>
                      <a:pt x="2064" y="3017"/>
                    </a:lnTo>
                    <a:lnTo>
                      <a:pt x="2223" y="3096"/>
                    </a:lnTo>
                    <a:lnTo>
                      <a:pt x="2382" y="3043"/>
                    </a:lnTo>
                    <a:lnTo>
                      <a:pt x="2488" y="2620"/>
                    </a:lnTo>
                    <a:lnTo>
                      <a:pt x="2355" y="2408"/>
                    </a:lnTo>
                    <a:lnTo>
                      <a:pt x="2197" y="2435"/>
                    </a:lnTo>
                    <a:lnTo>
                      <a:pt x="2355" y="185"/>
                    </a:lnTo>
                    <a:lnTo>
                      <a:pt x="582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719520" y="1595520"/>
                <a:ext cx="409680" cy="4096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071960" y="1557360"/>
                <a:ext cx="485640" cy="4856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262400" y="1757520"/>
                <a:ext cx="85680" cy="85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4560" bIns="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852720" y="1766880"/>
                <a:ext cx="85680" cy="85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4560" bIns="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059360" y="944640"/>
                <a:ext cx="7920" cy="217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V="1">
                <a:off x="4173480" y="925560"/>
                <a:ext cx="17640" cy="217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V="1">
                <a:off x="4335480" y="915840"/>
                <a:ext cx="36360" cy="227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V="1">
                <a:off x="4497480" y="963720"/>
                <a:ext cx="55440" cy="198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V="1">
                <a:off x="4640400" y="992160"/>
                <a:ext cx="55440" cy="179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819600" y="2104920"/>
                <a:ext cx="657720" cy="257400"/>
              </a:xfrm>
              <a:custGeom>
                <a:avLst/>
                <a:gdLst/>
                <a:ahLst/>
                <a:rect l="0" t="0" r="r" b="b"/>
                <a:pathLst>
                  <a:path w="1827" h="715">
                    <a:moveTo>
                      <a:pt x="0" y="0"/>
                    </a:moveTo>
                    <a:lnTo>
                      <a:pt x="1827" y="163"/>
                    </a:lnTo>
                    <a:lnTo>
                      <a:pt x="746" y="7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4" name=""/>
            <p:cNvSpPr/>
            <p:nvPr/>
          </p:nvSpPr>
          <p:spPr>
            <a:xfrm>
              <a:off x="4114800" y="2600280"/>
              <a:ext cx="305280" cy="181440"/>
            </a:xfrm>
            <a:custGeom>
              <a:avLst/>
              <a:gdLst/>
              <a:ahLst/>
              <a:rect l="0" t="0" r="r" b="b"/>
              <a:pathLst>
                <a:path w="848" h="504">
                  <a:moveTo>
                    <a:pt x="0" y="344"/>
                  </a:moveTo>
                  <a:lnTo>
                    <a:pt x="239" y="478"/>
                  </a:lnTo>
                  <a:lnTo>
                    <a:pt x="663" y="504"/>
                  </a:lnTo>
                  <a:lnTo>
                    <a:pt x="848" y="265"/>
                  </a:lnTo>
                  <a:lnTo>
                    <a:pt x="848" y="79"/>
                  </a:lnTo>
                  <a:lnTo>
                    <a:pt x="663" y="0"/>
                  </a:lnTo>
                  <a:lnTo>
                    <a:pt x="477" y="265"/>
                  </a:lnTo>
                  <a:lnTo>
                    <a:pt x="185" y="292"/>
                  </a:lnTo>
                  <a:lnTo>
                    <a:pt x="0" y="344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4124160" y="3548160"/>
            <a:ext cx="276480" cy="562320"/>
          </a:xfrm>
          <a:custGeom>
            <a:avLst/>
            <a:gdLst/>
            <a:ahLst/>
            <a:rect l="0" t="0" r="r" b="b"/>
            <a:pathLst>
              <a:path w="768" h="1562">
                <a:moveTo>
                  <a:pt x="196" y="62"/>
                </a:moveTo>
                <a:lnTo>
                  <a:pt x="235" y="22"/>
                </a:lnTo>
                <a:lnTo>
                  <a:pt x="274" y="0"/>
                </a:lnTo>
                <a:lnTo>
                  <a:pt x="313" y="22"/>
                </a:lnTo>
                <a:lnTo>
                  <a:pt x="374" y="40"/>
                </a:lnTo>
                <a:lnTo>
                  <a:pt x="471" y="0"/>
                </a:lnTo>
                <a:lnTo>
                  <a:pt x="511" y="0"/>
                </a:lnTo>
                <a:lnTo>
                  <a:pt x="572" y="0"/>
                </a:lnTo>
                <a:lnTo>
                  <a:pt x="572" y="62"/>
                </a:lnTo>
                <a:lnTo>
                  <a:pt x="572" y="80"/>
                </a:lnTo>
                <a:lnTo>
                  <a:pt x="511" y="142"/>
                </a:lnTo>
                <a:lnTo>
                  <a:pt x="532" y="227"/>
                </a:lnTo>
                <a:lnTo>
                  <a:pt x="532" y="289"/>
                </a:lnTo>
                <a:lnTo>
                  <a:pt x="572" y="330"/>
                </a:lnTo>
                <a:lnTo>
                  <a:pt x="611" y="392"/>
                </a:lnTo>
                <a:lnTo>
                  <a:pt x="589" y="535"/>
                </a:lnTo>
                <a:lnTo>
                  <a:pt x="550" y="637"/>
                </a:lnTo>
                <a:lnTo>
                  <a:pt x="589" y="700"/>
                </a:lnTo>
                <a:lnTo>
                  <a:pt x="650" y="780"/>
                </a:lnTo>
                <a:lnTo>
                  <a:pt x="707" y="861"/>
                </a:lnTo>
                <a:lnTo>
                  <a:pt x="729" y="924"/>
                </a:lnTo>
                <a:lnTo>
                  <a:pt x="746" y="986"/>
                </a:lnTo>
                <a:lnTo>
                  <a:pt x="768" y="1026"/>
                </a:lnTo>
                <a:lnTo>
                  <a:pt x="768" y="1026"/>
                </a:lnTo>
                <a:lnTo>
                  <a:pt x="746" y="1174"/>
                </a:lnTo>
                <a:lnTo>
                  <a:pt x="729" y="1294"/>
                </a:lnTo>
                <a:lnTo>
                  <a:pt x="707" y="1419"/>
                </a:lnTo>
                <a:lnTo>
                  <a:pt x="668" y="1562"/>
                </a:lnTo>
                <a:lnTo>
                  <a:pt x="668" y="1521"/>
                </a:lnTo>
                <a:lnTo>
                  <a:pt x="668" y="1481"/>
                </a:lnTo>
                <a:lnTo>
                  <a:pt x="689" y="1437"/>
                </a:lnTo>
                <a:lnTo>
                  <a:pt x="689" y="1419"/>
                </a:lnTo>
                <a:lnTo>
                  <a:pt x="668" y="1356"/>
                </a:lnTo>
                <a:lnTo>
                  <a:pt x="650" y="1276"/>
                </a:lnTo>
                <a:lnTo>
                  <a:pt x="668" y="1214"/>
                </a:lnTo>
                <a:lnTo>
                  <a:pt x="689" y="1191"/>
                </a:lnTo>
                <a:lnTo>
                  <a:pt x="689" y="1174"/>
                </a:lnTo>
                <a:lnTo>
                  <a:pt x="668" y="1049"/>
                </a:lnTo>
                <a:lnTo>
                  <a:pt x="628" y="986"/>
                </a:lnTo>
                <a:lnTo>
                  <a:pt x="589" y="946"/>
                </a:lnTo>
                <a:lnTo>
                  <a:pt x="550" y="884"/>
                </a:lnTo>
                <a:lnTo>
                  <a:pt x="511" y="821"/>
                </a:lnTo>
                <a:lnTo>
                  <a:pt x="471" y="861"/>
                </a:lnTo>
                <a:lnTo>
                  <a:pt x="432" y="884"/>
                </a:lnTo>
                <a:lnTo>
                  <a:pt x="393" y="906"/>
                </a:lnTo>
                <a:lnTo>
                  <a:pt x="374" y="924"/>
                </a:lnTo>
                <a:lnTo>
                  <a:pt x="353" y="924"/>
                </a:lnTo>
                <a:lnTo>
                  <a:pt x="353" y="843"/>
                </a:lnTo>
                <a:lnTo>
                  <a:pt x="353" y="821"/>
                </a:lnTo>
                <a:lnTo>
                  <a:pt x="353" y="803"/>
                </a:lnTo>
                <a:lnTo>
                  <a:pt x="374" y="758"/>
                </a:lnTo>
                <a:lnTo>
                  <a:pt x="393" y="718"/>
                </a:lnTo>
                <a:lnTo>
                  <a:pt x="393" y="718"/>
                </a:lnTo>
                <a:lnTo>
                  <a:pt x="393" y="740"/>
                </a:lnTo>
                <a:lnTo>
                  <a:pt x="393" y="758"/>
                </a:lnTo>
                <a:lnTo>
                  <a:pt x="374" y="780"/>
                </a:lnTo>
                <a:lnTo>
                  <a:pt x="335" y="758"/>
                </a:lnTo>
                <a:lnTo>
                  <a:pt x="313" y="740"/>
                </a:lnTo>
                <a:lnTo>
                  <a:pt x="296" y="740"/>
                </a:lnTo>
                <a:lnTo>
                  <a:pt x="274" y="758"/>
                </a:lnTo>
                <a:lnTo>
                  <a:pt x="257" y="780"/>
                </a:lnTo>
                <a:lnTo>
                  <a:pt x="196" y="718"/>
                </a:lnTo>
                <a:lnTo>
                  <a:pt x="178" y="780"/>
                </a:lnTo>
                <a:lnTo>
                  <a:pt x="156" y="803"/>
                </a:lnTo>
                <a:lnTo>
                  <a:pt x="117" y="780"/>
                </a:lnTo>
                <a:lnTo>
                  <a:pt x="39" y="758"/>
                </a:lnTo>
                <a:lnTo>
                  <a:pt x="17" y="740"/>
                </a:lnTo>
                <a:lnTo>
                  <a:pt x="0" y="700"/>
                </a:lnTo>
                <a:lnTo>
                  <a:pt x="17" y="677"/>
                </a:lnTo>
                <a:lnTo>
                  <a:pt x="39" y="677"/>
                </a:lnTo>
                <a:lnTo>
                  <a:pt x="117" y="700"/>
                </a:lnTo>
                <a:lnTo>
                  <a:pt x="196" y="718"/>
                </a:lnTo>
                <a:lnTo>
                  <a:pt x="196" y="718"/>
                </a:lnTo>
                <a:lnTo>
                  <a:pt x="178" y="700"/>
                </a:lnTo>
                <a:lnTo>
                  <a:pt x="156" y="677"/>
                </a:lnTo>
                <a:lnTo>
                  <a:pt x="139" y="655"/>
                </a:lnTo>
                <a:lnTo>
                  <a:pt x="139" y="637"/>
                </a:lnTo>
                <a:lnTo>
                  <a:pt x="139" y="597"/>
                </a:lnTo>
                <a:lnTo>
                  <a:pt x="156" y="553"/>
                </a:lnTo>
                <a:lnTo>
                  <a:pt x="178" y="535"/>
                </a:lnTo>
                <a:lnTo>
                  <a:pt x="178" y="472"/>
                </a:lnTo>
                <a:lnTo>
                  <a:pt x="178" y="410"/>
                </a:lnTo>
                <a:lnTo>
                  <a:pt x="178" y="267"/>
                </a:lnTo>
                <a:lnTo>
                  <a:pt x="139" y="227"/>
                </a:lnTo>
                <a:lnTo>
                  <a:pt x="117" y="205"/>
                </a:lnTo>
                <a:lnTo>
                  <a:pt x="117" y="182"/>
                </a:lnTo>
                <a:lnTo>
                  <a:pt x="139" y="165"/>
                </a:lnTo>
                <a:lnTo>
                  <a:pt x="156" y="142"/>
                </a:lnTo>
                <a:lnTo>
                  <a:pt x="156" y="124"/>
                </a:lnTo>
                <a:lnTo>
                  <a:pt x="196" y="62"/>
                </a:lnTo>
                <a:close/>
              </a:path>
            </a:pathLst>
          </a:custGeom>
          <a:solidFill>
            <a:srgbClr val="e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3943440" y="3200400"/>
            <a:ext cx="755640" cy="1740240"/>
            <a:chOff x="3943440" y="3200400"/>
            <a:chExt cx="755640" cy="1740240"/>
          </a:xfrm>
        </p:grpSpPr>
        <p:sp>
          <p:nvSpPr>
            <p:cNvPr id="457" name=""/>
            <p:cNvSpPr/>
            <p:nvPr/>
          </p:nvSpPr>
          <p:spPr>
            <a:xfrm>
              <a:off x="4341960" y="3301920"/>
              <a:ext cx="174960" cy="165600"/>
            </a:xfrm>
            <a:custGeom>
              <a:avLst/>
              <a:gdLst/>
              <a:ahLst/>
              <a:rect l="0" t="0" r="r" b="b"/>
              <a:pathLst>
                <a:path w="486" h="460">
                  <a:moveTo>
                    <a:pt x="100" y="271"/>
                  </a:moveTo>
                  <a:lnTo>
                    <a:pt x="100" y="189"/>
                  </a:lnTo>
                  <a:lnTo>
                    <a:pt x="150" y="102"/>
                  </a:lnTo>
                  <a:lnTo>
                    <a:pt x="257" y="51"/>
                  </a:lnTo>
                  <a:lnTo>
                    <a:pt x="357" y="0"/>
                  </a:lnTo>
                  <a:lnTo>
                    <a:pt x="413" y="34"/>
                  </a:lnTo>
                  <a:lnTo>
                    <a:pt x="486" y="85"/>
                  </a:lnTo>
                  <a:lnTo>
                    <a:pt x="486" y="121"/>
                  </a:lnTo>
                  <a:lnTo>
                    <a:pt x="486" y="121"/>
                  </a:lnTo>
                  <a:lnTo>
                    <a:pt x="435" y="121"/>
                  </a:lnTo>
                  <a:lnTo>
                    <a:pt x="335" y="172"/>
                  </a:lnTo>
                  <a:lnTo>
                    <a:pt x="228" y="241"/>
                  </a:lnTo>
                  <a:lnTo>
                    <a:pt x="206" y="322"/>
                  </a:lnTo>
                  <a:lnTo>
                    <a:pt x="206" y="357"/>
                  </a:lnTo>
                  <a:lnTo>
                    <a:pt x="178" y="392"/>
                  </a:lnTo>
                  <a:lnTo>
                    <a:pt x="150" y="426"/>
                  </a:lnTo>
                  <a:lnTo>
                    <a:pt x="100" y="443"/>
                  </a:lnTo>
                  <a:lnTo>
                    <a:pt x="72" y="460"/>
                  </a:lnTo>
                  <a:lnTo>
                    <a:pt x="50" y="460"/>
                  </a:lnTo>
                  <a:lnTo>
                    <a:pt x="0" y="426"/>
                  </a:lnTo>
                  <a:lnTo>
                    <a:pt x="0" y="392"/>
                  </a:lnTo>
                  <a:lnTo>
                    <a:pt x="22" y="374"/>
                  </a:lnTo>
                  <a:lnTo>
                    <a:pt x="50" y="305"/>
                  </a:lnTo>
                  <a:lnTo>
                    <a:pt x="72" y="288"/>
                  </a:lnTo>
                  <a:lnTo>
                    <a:pt x="100" y="288"/>
                  </a:lnTo>
                  <a:lnTo>
                    <a:pt x="100" y="271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943440" y="3473280"/>
              <a:ext cx="201960" cy="267120"/>
            </a:xfrm>
            <a:custGeom>
              <a:avLst/>
              <a:gdLst/>
              <a:ahLst/>
              <a:rect l="0" t="0" r="r" b="b"/>
              <a:pathLst>
                <a:path w="561" h="742">
                  <a:moveTo>
                    <a:pt x="424" y="581"/>
                  </a:moveTo>
                  <a:lnTo>
                    <a:pt x="315" y="442"/>
                  </a:lnTo>
                  <a:lnTo>
                    <a:pt x="204" y="281"/>
                  </a:lnTo>
                  <a:lnTo>
                    <a:pt x="204" y="200"/>
                  </a:lnTo>
                  <a:lnTo>
                    <a:pt x="204" y="118"/>
                  </a:lnTo>
                  <a:lnTo>
                    <a:pt x="245" y="56"/>
                  </a:lnTo>
                  <a:lnTo>
                    <a:pt x="315" y="0"/>
                  </a:lnTo>
                  <a:lnTo>
                    <a:pt x="335" y="37"/>
                  </a:lnTo>
                  <a:lnTo>
                    <a:pt x="383" y="56"/>
                  </a:lnTo>
                  <a:lnTo>
                    <a:pt x="404" y="99"/>
                  </a:lnTo>
                  <a:lnTo>
                    <a:pt x="404" y="118"/>
                  </a:lnTo>
                  <a:lnTo>
                    <a:pt x="294" y="161"/>
                  </a:lnTo>
                  <a:lnTo>
                    <a:pt x="177" y="200"/>
                  </a:lnTo>
                  <a:lnTo>
                    <a:pt x="225" y="219"/>
                  </a:lnTo>
                  <a:lnTo>
                    <a:pt x="245" y="219"/>
                  </a:lnTo>
                  <a:lnTo>
                    <a:pt x="294" y="219"/>
                  </a:lnTo>
                  <a:lnTo>
                    <a:pt x="315" y="219"/>
                  </a:lnTo>
                  <a:lnTo>
                    <a:pt x="356" y="243"/>
                  </a:lnTo>
                  <a:lnTo>
                    <a:pt x="445" y="262"/>
                  </a:lnTo>
                  <a:lnTo>
                    <a:pt x="472" y="281"/>
                  </a:lnTo>
                  <a:lnTo>
                    <a:pt x="492" y="281"/>
                  </a:lnTo>
                  <a:lnTo>
                    <a:pt x="534" y="361"/>
                  </a:lnTo>
                  <a:lnTo>
                    <a:pt x="561" y="442"/>
                  </a:lnTo>
                  <a:lnTo>
                    <a:pt x="534" y="504"/>
                  </a:lnTo>
                  <a:lnTo>
                    <a:pt x="492" y="542"/>
                  </a:lnTo>
                  <a:lnTo>
                    <a:pt x="356" y="605"/>
                  </a:lnTo>
                  <a:lnTo>
                    <a:pt x="204" y="643"/>
                  </a:lnTo>
                  <a:lnTo>
                    <a:pt x="157" y="685"/>
                  </a:lnTo>
                  <a:lnTo>
                    <a:pt x="88" y="723"/>
                  </a:lnTo>
                  <a:lnTo>
                    <a:pt x="47" y="742"/>
                  </a:lnTo>
                  <a:lnTo>
                    <a:pt x="26" y="723"/>
                  </a:lnTo>
                  <a:lnTo>
                    <a:pt x="0" y="685"/>
                  </a:lnTo>
                  <a:lnTo>
                    <a:pt x="88" y="643"/>
                  </a:lnTo>
                  <a:lnTo>
                    <a:pt x="157" y="643"/>
                  </a:lnTo>
                  <a:lnTo>
                    <a:pt x="225" y="624"/>
                  </a:lnTo>
                  <a:lnTo>
                    <a:pt x="315" y="581"/>
                  </a:lnTo>
                  <a:lnTo>
                    <a:pt x="356" y="542"/>
                  </a:lnTo>
                  <a:lnTo>
                    <a:pt x="356" y="523"/>
                  </a:lnTo>
                  <a:lnTo>
                    <a:pt x="383" y="542"/>
                  </a:lnTo>
                  <a:lnTo>
                    <a:pt x="424" y="581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019400" y="3970440"/>
              <a:ext cx="297360" cy="111600"/>
            </a:xfrm>
            <a:custGeom>
              <a:avLst/>
              <a:gdLst/>
              <a:ahLst/>
              <a:rect l="0" t="0" r="r" b="b"/>
              <a:pathLst>
                <a:path w="826" h="310">
                  <a:moveTo>
                    <a:pt x="625" y="67"/>
                  </a:moveTo>
                  <a:lnTo>
                    <a:pt x="559" y="136"/>
                  </a:lnTo>
                  <a:lnTo>
                    <a:pt x="513" y="174"/>
                  </a:lnTo>
                  <a:lnTo>
                    <a:pt x="468" y="106"/>
                  </a:lnTo>
                  <a:lnTo>
                    <a:pt x="403" y="37"/>
                  </a:lnTo>
                  <a:lnTo>
                    <a:pt x="201" y="106"/>
                  </a:lnTo>
                  <a:lnTo>
                    <a:pt x="0" y="211"/>
                  </a:lnTo>
                  <a:lnTo>
                    <a:pt x="20" y="310"/>
                  </a:lnTo>
                  <a:lnTo>
                    <a:pt x="90" y="310"/>
                  </a:lnTo>
                  <a:lnTo>
                    <a:pt x="247" y="310"/>
                  </a:lnTo>
                  <a:lnTo>
                    <a:pt x="267" y="280"/>
                  </a:lnTo>
                  <a:lnTo>
                    <a:pt x="332" y="242"/>
                  </a:lnTo>
                  <a:lnTo>
                    <a:pt x="378" y="211"/>
                  </a:lnTo>
                  <a:lnTo>
                    <a:pt x="403" y="211"/>
                  </a:lnTo>
                  <a:lnTo>
                    <a:pt x="448" y="242"/>
                  </a:lnTo>
                  <a:lnTo>
                    <a:pt x="513" y="280"/>
                  </a:lnTo>
                  <a:lnTo>
                    <a:pt x="559" y="310"/>
                  </a:lnTo>
                  <a:lnTo>
                    <a:pt x="579" y="310"/>
                  </a:lnTo>
                  <a:lnTo>
                    <a:pt x="645" y="310"/>
                  </a:lnTo>
                  <a:lnTo>
                    <a:pt x="715" y="280"/>
                  </a:lnTo>
                  <a:lnTo>
                    <a:pt x="736" y="211"/>
                  </a:lnTo>
                  <a:lnTo>
                    <a:pt x="801" y="67"/>
                  </a:lnTo>
                  <a:lnTo>
                    <a:pt x="826" y="37"/>
                  </a:lnTo>
                  <a:lnTo>
                    <a:pt x="826" y="0"/>
                  </a:lnTo>
                  <a:lnTo>
                    <a:pt x="801" y="37"/>
                  </a:lnTo>
                  <a:lnTo>
                    <a:pt x="761" y="67"/>
                  </a:lnTo>
                  <a:lnTo>
                    <a:pt x="715" y="174"/>
                  </a:lnTo>
                  <a:lnTo>
                    <a:pt x="670" y="242"/>
                  </a:lnTo>
                  <a:lnTo>
                    <a:pt x="645" y="242"/>
                  </a:lnTo>
                  <a:lnTo>
                    <a:pt x="625" y="242"/>
                  </a:lnTo>
                  <a:lnTo>
                    <a:pt x="625" y="174"/>
                  </a:lnTo>
                  <a:lnTo>
                    <a:pt x="625" y="67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008600" y="3200400"/>
              <a:ext cx="279720" cy="230400"/>
            </a:xfrm>
            <a:custGeom>
              <a:avLst/>
              <a:gdLst/>
              <a:ahLst/>
              <a:rect l="0" t="0" r="r" b="b"/>
              <a:pathLst>
                <a:path w="777" h="640">
                  <a:moveTo>
                    <a:pt x="648" y="604"/>
                  </a:moveTo>
                  <a:lnTo>
                    <a:pt x="629" y="427"/>
                  </a:lnTo>
                  <a:lnTo>
                    <a:pt x="629" y="267"/>
                  </a:lnTo>
                  <a:lnTo>
                    <a:pt x="629" y="194"/>
                  </a:lnTo>
                  <a:lnTo>
                    <a:pt x="586" y="122"/>
                  </a:lnTo>
                  <a:lnTo>
                    <a:pt x="543" y="54"/>
                  </a:lnTo>
                  <a:lnTo>
                    <a:pt x="462" y="0"/>
                  </a:lnTo>
                  <a:lnTo>
                    <a:pt x="481" y="122"/>
                  </a:lnTo>
                  <a:lnTo>
                    <a:pt x="524" y="176"/>
                  </a:lnTo>
                  <a:lnTo>
                    <a:pt x="567" y="249"/>
                  </a:lnTo>
                  <a:lnTo>
                    <a:pt x="396" y="336"/>
                  </a:lnTo>
                  <a:lnTo>
                    <a:pt x="228" y="390"/>
                  </a:lnTo>
                  <a:lnTo>
                    <a:pt x="185" y="372"/>
                  </a:lnTo>
                  <a:lnTo>
                    <a:pt x="147" y="354"/>
                  </a:lnTo>
                  <a:lnTo>
                    <a:pt x="104" y="322"/>
                  </a:lnTo>
                  <a:lnTo>
                    <a:pt x="42" y="267"/>
                  </a:lnTo>
                  <a:lnTo>
                    <a:pt x="19" y="213"/>
                  </a:lnTo>
                  <a:lnTo>
                    <a:pt x="0" y="194"/>
                  </a:lnTo>
                  <a:lnTo>
                    <a:pt x="0" y="267"/>
                  </a:lnTo>
                  <a:lnTo>
                    <a:pt x="19" y="303"/>
                  </a:lnTo>
                  <a:lnTo>
                    <a:pt x="80" y="372"/>
                  </a:lnTo>
                  <a:lnTo>
                    <a:pt x="185" y="390"/>
                  </a:lnTo>
                  <a:lnTo>
                    <a:pt x="314" y="409"/>
                  </a:lnTo>
                  <a:lnTo>
                    <a:pt x="357" y="427"/>
                  </a:lnTo>
                  <a:lnTo>
                    <a:pt x="376" y="445"/>
                  </a:lnTo>
                  <a:lnTo>
                    <a:pt x="420" y="481"/>
                  </a:lnTo>
                  <a:lnTo>
                    <a:pt x="439" y="517"/>
                  </a:lnTo>
                  <a:lnTo>
                    <a:pt x="462" y="549"/>
                  </a:lnTo>
                  <a:lnTo>
                    <a:pt x="500" y="567"/>
                  </a:lnTo>
                  <a:lnTo>
                    <a:pt x="567" y="517"/>
                  </a:lnTo>
                  <a:lnTo>
                    <a:pt x="586" y="481"/>
                  </a:lnTo>
                  <a:lnTo>
                    <a:pt x="605" y="427"/>
                  </a:lnTo>
                  <a:lnTo>
                    <a:pt x="629" y="354"/>
                  </a:lnTo>
                  <a:lnTo>
                    <a:pt x="605" y="322"/>
                  </a:lnTo>
                  <a:lnTo>
                    <a:pt x="605" y="322"/>
                  </a:lnTo>
                  <a:lnTo>
                    <a:pt x="586" y="336"/>
                  </a:lnTo>
                  <a:lnTo>
                    <a:pt x="543" y="372"/>
                  </a:lnTo>
                  <a:lnTo>
                    <a:pt x="524" y="427"/>
                  </a:lnTo>
                  <a:lnTo>
                    <a:pt x="605" y="517"/>
                  </a:lnTo>
                  <a:lnTo>
                    <a:pt x="648" y="536"/>
                  </a:lnTo>
                  <a:lnTo>
                    <a:pt x="691" y="549"/>
                  </a:lnTo>
                  <a:lnTo>
                    <a:pt x="710" y="567"/>
                  </a:lnTo>
                  <a:lnTo>
                    <a:pt x="753" y="585"/>
                  </a:lnTo>
                  <a:lnTo>
                    <a:pt x="777" y="585"/>
                  </a:lnTo>
                  <a:lnTo>
                    <a:pt x="777" y="604"/>
                  </a:lnTo>
                  <a:lnTo>
                    <a:pt x="734" y="622"/>
                  </a:lnTo>
                  <a:lnTo>
                    <a:pt x="691" y="622"/>
                  </a:lnTo>
                  <a:lnTo>
                    <a:pt x="586" y="622"/>
                  </a:lnTo>
                  <a:lnTo>
                    <a:pt x="586" y="640"/>
                  </a:lnTo>
                  <a:lnTo>
                    <a:pt x="567" y="640"/>
                  </a:lnTo>
                  <a:lnTo>
                    <a:pt x="543" y="640"/>
                  </a:lnTo>
                  <a:lnTo>
                    <a:pt x="543" y="640"/>
                  </a:lnTo>
                  <a:lnTo>
                    <a:pt x="605" y="622"/>
                  </a:lnTo>
                  <a:lnTo>
                    <a:pt x="648" y="604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006800" y="4343400"/>
              <a:ext cx="133560" cy="322560"/>
            </a:xfrm>
            <a:custGeom>
              <a:avLst/>
              <a:gdLst/>
              <a:ahLst/>
              <a:rect l="0" t="0" r="r" b="b"/>
              <a:pathLst>
                <a:path w="371" h="896">
                  <a:moveTo>
                    <a:pt x="186" y="22"/>
                  </a:moveTo>
                  <a:lnTo>
                    <a:pt x="165" y="114"/>
                  </a:lnTo>
                  <a:lnTo>
                    <a:pt x="121" y="187"/>
                  </a:lnTo>
                  <a:lnTo>
                    <a:pt x="63" y="397"/>
                  </a:lnTo>
                  <a:lnTo>
                    <a:pt x="0" y="613"/>
                  </a:lnTo>
                  <a:lnTo>
                    <a:pt x="19" y="681"/>
                  </a:lnTo>
                  <a:lnTo>
                    <a:pt x="63" y="731"/>
                  </a:lnTo>
                  <a:lnTo>
                    <a:pt x="102" y="777"/>
                  </a:lnTo>
                  <a:lnTo>
                    <a:pt x="165" y="823"/>
                  </a:lnTo>
                  <a:lnTo>
                    <a:pt x="230" y="850"/>
                  </a:lnTo>
                  <a:lnTo>
                    <a:pt x="269" y="850"/>
                  </a:lnTo>
                  <a:lnTo>
                    <a:pt x="269" y="873"/>
                  </a:lnTo>
                  <a:lnTo>
                    <a:pt x="269" y="896"/>
                  </a:lnTo>
                  <a:lnTo>
                    <a:pt x="230" y="896"/>
                  </a:lnTo>
                  <a:lnTo>
                    <a:pt x="165" y="873"/>
                  </a:lnTo>
                  <a:lnTo>
                    <a:pt x="165" y="658"/>
                  </a:lnTo>
                  <a:lnTo>
                    <a:pt x="146" y="635"/>
                  </a:lnTo>
                  <a:lnTo>
                    <a:pt x="146" y="613"/>
                  </a:lnTo>
                  <a:lnTo>
                    <a:pt x="186" y="590"/>
                  </a:lnTo>
                  <a:lnTo>
                    <a:pt x="249" y="539"/>
                  </a:lnTo>
                  <a:lnTo>
                    <a:pt x="312" y="517"/>
                  </a:lnTo>
                  <a:lnTo>
                    <a:pt x="351" y="517"/>
                  </a:lnTo>
                  <a:lnTo>
                    <a:pt x="371" y="471"/>
                  </a:lnTo>
                  <a:lnTo>
                    <a:pt x="371" y="424"/>
                  </a:lnTo>
                  <a:lnTo>
                    <a:pt x="351" y="397"/>
                  </a:lnTo>
                  <a:lnTo>
                    <a:pt x="288" y="374"/>
                  </a:lnTo>
                  <a:lnTo>
                    <a:pt x="249" y="397"/>
                  </a:lnTo>
                  <a:lnTo>
                    <a:pt x="230" y="447"/>
                  </a:lnTo>
                  <a:lnTo>
                    <a:pt x="186" y="517"/>
                  </a:lnTo>
                  <a:lnTo>
                    <a:pt x="121" y="447"/>
                  </a:lnTo>
                  <a:lnTo>
                    <a:pt x="102" y="424"/>
                  </a:lnTo>
                  <a:lnTo>
                    <a:pt x="146" y="374"/>
                  </a:lnTo>
                  <a:lnTo>
                    <a:pt x="205" y="328"/>
                  </a:lnTo>
                  <a:lnTo>
                    <a:pt x="230" y="306"/>
                  </a:lnTo>
                  <a:lnTo>
                    <a:pt x="249" y="283"/>
                  </a:lnTo>
                  <a:lnTo>
                    <a:pt x="332" y="0"/>
                  </a:lnTo>
                  <a:lnTo>
                    <a:pt x="312" y="45"/>
                  </a:lnTo>
                  <a:lnTo>
                    <a:pt x="249" y="91"/>
                  </a:lnTo>
                  <a:lnTo>
                    <a:pt x="205" y="91"/>
                  </a:lnTo>
                  <a:lnTo>
                    <a:pt x="186" y="68"/>
                  </a:lnTo>
                  <a:lnTo>
                    <a:pt x="186" y="22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375080" y="4705200"/>
              <a:ext cx="105120" cy="235440"/>
            </a:xfrm>
            <a:custGeom>
              <a:avLst/>
              <a:gdLst/>
              <a:ahLst/>
              <a:rect l="0" t="0" r="r" b="b"/>
              <a:pathLst>
                <a:path w="292" h="654">
                  <a:moveTo>
                    <a:pt x="145" y="97"/>
                  </a:moveTo>
                  <a:lnTo>
                    <a:pt x="104" y="169"/>
                  </a:lnTo>
                  <a:lnTo>
                    <a:pt x="81" y="218"/>
                  </a:lnTo>
                  <a:lnTo>
                    <a:pt x="63" y="267"/>
                  </a:lnTo>
                  <a:lnTo>
                    <a:pt x="40" y="338"/>
                  </a:lnTo>
                  <a:lnTo>
                    <a:pt x="22" y="387"/>
                  </a:lnTo>
                  <a:lnTo>
                    <a:pt x="0" y="436"/>
                  </a:lnTo>
                  <a:lnTo>
                    <a:pt x="0" y="436"/>
                  </a:lnTo>
                  <a:lnTo>
                    <a:pt x="40" y="508"/>
                  </a:lnTo>
                  <a:lnTo>
                    <a:pt x="81" y="583"/>
                  </a:lnTo>
                  <a:lnTo>
                    <a:pt x="210" y="654"/>
                  </a:lnTo>
                  <a:lnTo>
                    <a:pt x="169" y="605"/>
                  </a:lnTo>
                  <a:lnTo>
                    <a:pt x="145" y="556"/>
                  </a:lnTo>
                  <a:lnTo>
                    <a:pt x="145" y="534"/>
                  </a:lnTo>
                  <a:lnTo>
                    <a:pt x="187" y="458"/>
                  </a:lnTo>
                  <a:lnTo>
                    <a:pt x="145" y="436"/>
                  </a:lnTo>
                  <a:lnTo>
                    <a:pt x="145" y="387"/>
                  </a:lnTo>
                  <a:lnTo>
                    <a:pt x="169" y="365"/>
                  </a:lnTo>
                  <a:lnTo>
                    <a:pt x="210" y="338"/>
                  </a:lnTo>
                  <a:lnTo>
                    <a:pt x="251" y="289"/>
                  </a:lnTo>
                  <a:lnTo>
                    <a:pt x="292" y="240"/>
                  </a:lnTo>
                  <a:lnTo>
                    <a:pt x="292" y="218"/>
                  </a:lnTo>
                  <a:lnTo>
                    <a:pt x="292" y="169"/>
                  </a:lnTo>
                  <a:lnTo>
                    <a:pt x="273" y="97"/>
                  </a:lnTo>
                  <a:lnTo>
                    <a:pt x="210" y="26"/>
                  </a:lnTo>
                  <a:lnTo>
                    <a:pt x="169" y="0"/>
                  </a:lnTo>
                  <a:lnTo>
                    <a:pt x="169" y="26"/>
                  </a:lnTo>
                  <a:lnTo>
                    <a:pt x="145" y="48"/>
                  </a:lnTo>
                  <a:lnTo>
                    <a:pt x="145" y="97"/>
                  </a:lnTo>
                  <a:lnTo>
                    <a:pt x="145" y="119"/>
                  </a:lnTo>
                  <a:lnTo>
                    <a:pt x="145" y="119"/>
                  </a:lnTo>
                  <a:lnTo>
                    <a:pt x="145" y="97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78160" y="3876840"/>
              <a:ext cx="520920" cy="306720"/>
            </a:xfrm>
            <a:custGeom>
              <a:avLst/>
              <a:gdLst/>
              <a:ahLst/>
              <a:rect l="0" t="0" r="r" b="b"/>
              <a:pathLst>
                <a:path w="1447" h="852">
                  <a:moveTo>
                    <a:pt x="833" y="197"/>
                  </a:moveTo>
                  <a:lnTo>
                    <a:pt x="792" y="389"/>
                  </a:lnTo>
                  <a:lnTo>
                    <a:pt x="746" y="488"/>
                  </a:lnTo>
                  <a:lnTo>
                    <a:pt x="677" y="561"/>
                  </a:lnTo>
                  <a:lnTo>
                    <a:pt x="591" y="535"/>
                  </a:lnTo>
                  <a:lnTo>
                    <a:pt x="550" y="509"/>
                  </a:lnTo>
                  <a:lnTo>
                    <a:pt x="482" y="509"/>
                  </a:lnTo>
                  <a:lnTo>
                    <a:pt x="395" y="535"/>
                  </a:lnTo>
                  <a:lnTo>
                    <a:pt x="309" y="608"/>
                  </a:lnTo>
                  <a:lnTo>
                    <a:pt x="200" y="634"/>
                  </a:lnTo>
                  <a:lnTo>
                    <a:pt x="0" y="732"/>
                  </a:lnTo>
                  <a:lnTo>
                    <a:pt x="0" y="779"/>
                  </a:lnTo>
                  <a:lnTo>
                    <a:pt x="22" y="826"/>
                  </a:lnTo>
                  <a:lnTo>
                    <a:pt x="109" y="852"/>
                  </a:lnTo>
                  <a:lnTo>
                    <a:pt x="218" y="826"/>
                  </a:lnTo>
                  <a:lnTo>
                    <a:pt x="309" y="805"/>
                  </a:lnTo>
                  <a:lnTo>
                    <a:pt x="527" y="732"/>
                  </a:lnTo>
                  <a:lnTo>
                    <a:pt x="724" y="634"/>
                  </a:lnTo>
                  <a:lnTo>
                    <a:pt x="792" y="634"/>
                  </a:lnTo>
                  <a:lnTo>
                    <a:pt x="856" y="660"/>
                  </a:lnTo>
                  <a:lnTo>
                    <a:pt x="919" y="680"/>
                  </a:lnTo>
                  <a:lnTo>
                    <a:pt x="965" y="732"/>
                  </a:lnTo>
                  <a:lnTo>
                    <a:pt x="1051" y="779"/>
                  </a:lnTo>
                  <a:lnTo>
                    <a:pt x="1074" y="732"/>
                  </a:lnTo>
                  <a:lnTo>
                    <a:pt x="1097" y="706"/>
                  </a:lnTo>
                  <a:lnTo>
                    <a:pt x="1142" y="706"/>
                  </a:lnTo>
                  <a:lnTo>
                    <a:pt x="1206" y="706"/>
                  </a:lnTo>
                  <a:lnTo>
                    <a:pt x="1251" y="706"/>
                  </a:lnTo>
                  <a:lnTo>
                    <a:pt x="1292" y="660"/>
                  </a:lnTo>
                  <a:lnTo>
                    <a:pt x="1338" y="561"/>
                  </a:lnTo>
                  <a:lnTo>
                    <a:pt x="1383" y="436"/>
                  </a:lnTo>
                  <a:lnTo>
                    <a:pt x="1424" y="316"/>
                  </a:lnTo>
                  <a:lnTo>
                    <a:pt x="1447" y="269"/>
                  </a:lnTo>
                  <a:lnTo>
                    <a:pt x="1447" y="243"/>
                  </a:lnTo>
                  <a:lnTo>
                    <a:pt x="1383" y="217"/>
                  </a:lnTo>
                  <a:lnTo>
                    <a:pt x="1292" y="197"/>
                  </a:lnTo>
                  <a:lnTo>
                    <a:pt x="1206" y="171"/>
                  </a:lnTo>
                  <a:lnTo>
                    <a:pt x="1160" y="171"/>
                  </a:lnTo>
                  <a:lnTo>
                    <a:pt x="1119" y="145"/>
                  </a:lnTo>
                  <a:lnTo>
                    <a:pt x="1051" y="124"/>
                  </a:lnTo>
                  <a:lnTo>
                    <a:pt x="1051" y="72"/>
                  </a:lnTo>
                  <a:lnTo>
                    <a:pt x="1033" y="25"/>
                  </a:lnTo>
                  <a:lnTo>
                    <a:pt x="942" y="0"/>
                  </a:lnTo>
                  <a:lnTo>
                    <a:pt x="833" y="0"/>
                  </a:lnTo>
                  <a:lnTo>
                    <a:pt x="746" y="0"/>
                  </a:lnTo>
                  <a:lnTo>
                    <a:pt x="769" y="51"/>
                  </a:lnTo>
                  <a:lnTo>
                    <a:pt x="769" y="72"/>
                  </a:lnTo>
                  <a:lnTo>
                    <a:pt x="833" y="197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2209680" y="6126120"/>
            <a:ext cx="1219680" cy="228960"/>
            <a:chOff x="2209680" y="6126120"/>
            <a:chExt cx="1219680" cy="228960"/>
          </a:xfrm>
        </p:grpSpPr>
        <p:sp>
          <p:nvSpPr>
            <p:cNvPr id="465" name=""/>
            <p:cNvSpPr/>
            <p:nvPr/>
          </p:nvSpPr>
          <p:spPr>
            <a:xfrm>
              <a:off x="2209680" y="6153120"/>
              <a:ext cx="1219680" cy="171720"/>
            </a:xfrm>
            <a:custGeom>
              <a:avLst/>
              <a:gdLst/>
              <a:ahLst/>
              <a:rect l="0" t="0" r="r" b="b"/>
              <a:pathLst>
                <a:path w="3388" h="477">
                  <a:moveTo>
                    <a:pt x="1493" y="84"/>
                  </a:moveTo>
                  <a:lnTo>
                    <a:pt x="3388" y="328"/>
                  </a:lnTo>
                  <a:lnTo>
                    <a:pt x="3229" y="412"/>
                  </a:lnTo>
                  <a:lnTo>
                    <a:pt x="2938" y="477"/>
                  </a:lnTo>
                  <a:lnTo>
                    <a:pt x="2239" y="457"/>
                  </a:lnTo>
                  <a:lnTo>
                    <a:pt x="1162" y="351"/>
                  </a:lnTo>
                  <a:lnTo>
                    <a:pt x="777" y="286"/>
                  </a:lnTo>
                  <a:lnTo>
                    <a:pt x="0" y="184"/>
                  </a:lnTo>
                  <a:lnTo>
                    <a:pt x="30" y="0"/>
                  </a:lnTo>
                  <a:lnTo>
                    <a:pt x="972" y="103"/>
                  </a:lnTo>
                  <a:lnTo>
                    <a:pt x="1188" y="182"/>
                  </a:lnTo>
                  <a:lnTo>
                    <a:pt x="1400" y="210"/>
                  </a:lnTo>
                  <a:lnTo>
                    <a:pt x="1493" y="84"/>
                  </a:lnTo>
                  <a:close/>
                </a:path>
              </a:pathLst>
            </a:custGeom>
            <a:blipFill rotWithShape="0">
              <a:blip r:embed="rId1"/>
              <a:tile tx="0" ty="0" sx="3528125" sy="3528125" algn="ctr"/>
            </a:blip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717640" y="6221520"/>
              <a:ext cx="695520" cy="133560"/>
            </a:xfrm>
            <a:custGeom>
              <a:avLst/>
              <a:gdLst/>
              <a:ahLst/>
              <a:rect l="0" t="0" r="r" b="b"/>
              <a:pathLst>
                <a:path w="1932" h="371">
                  <a:moveTo>
                    <a:pt x="34" y="12"/>
                  </a:moveTo>
                  <a:lnTo>
                    <a:pt x="225" y="0"/>
                  </a:lnTo>
                  <a:lnTo>
                    <a:pt x="381" y="133"/>
                  </a:lnTo>
                  <a:lnTo>
                    <a:pt x="658" y="83"/>
                  </a:lnTo>
                  <a:lnTo>
                    <a:pt x="1040" y="158"/>
                  </a:lnTo>
                  <a:lnTo>
                    <a:pt x="1243" y="200"/>
                  </a:lnTo>
                  <a:lnTo>
                    <a:pt x="1503" y="225"/>
                  </a:lnTo>
                  <a:lnTo>
                    <a:pt x="1932" y="204"/>
                  </a:lnTo>
                  <a:lnTo>
                    <a:pt x="1512" y="304"/>
                  </a:lnTo>
                  <a:lnTo>
                    <a:pt x="1209" y="371"/>
                  </a:lnTo>
                  <a:lnTo>
                    <a:pt x="692" y="296"/>
                  </a:lnTo>
                  <a:lnTo>
                    <a:pt x="407" y="267"/>
                  </a:lnTo>
                  <a:lnTo>
                    <a:pt x="0" y="188"/>
                  </a:lnTo>
                  <a:lnTo>
                    <a:pt x="34" y="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230560" y="6126120"/>
              <a:ext cx="495720" cy="124200"/>
            </a:xfrm>
            <a:custGeom>
              <a:avLst/>
              <a:gdLst/>
              <a:ahLst/>
              <a:rect l="0" t="0" r="r" b="b"/>
              <a:pathLst>
                <a:path w="1377" h="345">
                  <a:moveTo>
                    <a:pt x="1364" y="345"/>
                  </a:moveTo>
                  <a:lnTo>
                    <a:pt x="1377" y="230"/>
                  </a:lnTo>
                  <a:lnTo>
                    <a:pt x="1036" y="88"/>
                  </a:lnTo>
                  <a:lnTo>
                    <a:pt x="44" y="0"/>
                  </a:lnTo>
                  <a:lnTo>
                    <a:pt x="0" y="142"/>
                  </a:lnTo>
                  <a:lnTo>
                    <a:pt x="1364" y="345"/>
                  </a:lnTo>
                  <a:close/>
                </a:path>
              </a:pathLst>
            </a:custGeom>
            <a:solidFill>
              <a:srgbClr val="9933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4500720" y="2768760"/>
            <a:ext cx="1203120" cy="957240"/>
            <a:chOff x="4500720" y="2768760"/>
            <a:chExt cx="1203120" cy="957240"/>
          </a:xfrm>
        </p:grpSpPr>
        <p:sp>
          <p:nvSpPr>
            <p:cNvPr id="469" name=""/>
            <p:cNvSpPr/>
            <p:nvPr/>
          </p:nvSpPr>
          <p:spPr>
            <a:xfrm>
              <a:off x="5413320" y="3422880"/>
              <a:ext cx="290520" cy="303120"/>
            </a:xfrm>
            <a:custGeom>
              <a:avLst/>
              <a:gdLst/>
              <a:ahLst/>
              <a:rect l="0" t="0" r="r" b="b"/>
              <a:pathLst>
                <a:path w="807" h="842">
                  <a:moveTo>
                    <a:pt x="259" y="820"/>
                  </a:moveTo>
                  <a:lnTo>
                    <a:pt x="259" y="820"/>
                  </a:lnTo>
                  <a:cubicBezTo>
                    <a:pt x="325" y="844"/>
                    <a:pt x="396" y="849"/>
                    <a:pt x="466" y="835"/>
                  </a:cubicBezTo>
                  <a:cubicBezTo>
                    <a:pt x="536" y="821"/>
                    <a:pt x="602" y="788"/>
                    <a:pt x="657" y="739"/>
                  </a:cubicBezTo>
                  <a:cubicBezTo>
                    <a:pt x="712" y="691"/>
                    <a:pt x="754" y="628"/>
                    <a:pt x="780" y="558"/>
                  </a:cubicBezTo>
                  <a:cubicBezTo>
                    <a:pt x="805" y="488"/>
                    <a:pt x="813" y="413"/>
                    <a:pt x="802" y="341"/>
                  </a:cubicBezTo>
                  <a:cubicBezTo>
                    <a:pt x="791" y="268"/>
                    <a:pt x="762" y="201"/>
                    <a:pt x="717" y="145"/>
                  </a:cubicBezTo>
                  <a:cubicBezTo>
                    <a:pt x="673" y="89"/>
                    <a:pt x="615" y="47"/>
                    <a:pt x="549" y="23"/>
                  </a:cubicBezTo>
                  <a:lnTo>
                    <a:pt x="548" y="23"/>
                  </a:lnTo>
                  <a:lnTo>
                    <a:pt x="548" y="23"/>
                  </a:lnTo>
                  <a:cubicBezTo>
                    <a:pt x="482" y="-1"/>
                    <a:pt x="411" y="-6"/>
                    <a:pt x="341" y="8"/>
                  </a:cubicBezTo>
                  <a:cubicBezTo>
                    <a:pt x="271" y="22"/>
                    <a:pt x="205" y="55"/>
                    <a:pt x="150" y="104"/>
                  </a:cubicBezTo>
                  <a:cubicBezTo>
                    <a:pt x="95" y="152"/>
                    <a:pt x="53" y="215"/>
                    <a:pt x="27" y="285"/>
                  </a:cubicBezTo>
                  <a:cubicBezTo>
                    <a:pt x="2" y="355"/>
                    <a:pt x="-6" y="430"/>
                    <a:pt x="5" y="502"/>
                  </a:cubicBezTo>
                  <a:cubicBezTo>
                    <a:pt x="16" y="575"/>
                    <a:pt x="45" y="642"/>
                    <a:pt x="90" y="698"/>
                  </a:cubicBezTo>
                  <a:cubicBezTo>
                    <a:pt x="134" y="754"/>
                    <a:pt x="192" y="796"/>
                    <a:pt x="258" y="820"/>
                  </a:cubicBezTo>
                  <a:lnTo>
                    <a:pt x="259" y="82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500720" y="2768760"/>
              <a:ext cx="946440" cy="952920"/>
            </a:xfrm>
            <a:custGeom>
              <a:avLst/>
              <a:gdLst/>
              <a:ahLst/>
              <a:rect l="0" t="0" r="r" b="b"/>
              <a:pathLst>
                <a:path w="2629" h="2647">
                  <a:moveTo>
                    <a:pt x="410" y="0"/>
                  </a:moveTo>
                  <a:lnTo>
                    <a:pt x="630" y="198"/>
                  </a:lnTo>
                  <a:lnTo>
                    <a:pt x="890" y="1032"/>
                  </a:lnTo>
                  <a:lnTo>
                    <a:pt x="1133" y="1654"/>
                  </a:lnTo>
                  <a:lnTo>
                    <a:pt x="2629" y="1786"/>
                  </a:lnTo>
                  <a:lnTo>
                    <a:pt x="2461" y="2647"/>
                  </a:lnTo>
                  <a:lnTo>
                    <a:pt x="533" y="2325"/>
                  </a:lnTo>
                  <a:lnTo>
                    <a:pt x="22" y="657"/>
                  </a:lnTo>
                  <a:lnTo>
                    <a:pt x="0" y="233"/>
                  </a:lnTo>
                  <a:lnTo>
                    <a:pt x="194" y="8"/>
                  </a:lnTo>
                  <a:lnTo>
                    <a:pt x="41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2832120" y="3478320"/>
            <a:ext cx="3099240" cy="2922840"/>
          </a:xfrm>
          <a:custGeom>
            <a:avLst/>
            <a:gdLst/>
            <a:ahLst/>
            <a:rect l="0" t="0" r="r" b="b"/>
            <a:pathLst>
              <a:path w="8609" h="8119">
                <a:moveTo>
                  <a:pt x="3775" y="379"/>
                </a:moveTo>
                <a:lnTo>
                  <a:pt x="3916" y="496"/>
                </a:lnTo>
                <a:lnTo>
                  <a:pt x="3916" y="613"/>
                </a:lnTo>
                <a:lnTo>
                  <a:pt x="3846" y="700"/>
                </a:lnTo>
                <a:lnTo>
                  <a:pt x="3775" y="788"/>
                </a:lnTo>
                <a:lnTo>
                  <a:pt x="3669" y="759"/>
                </a:lnTo>
                <a:lnTo>
                  <a:pt x="3564" y="671"/>
                </a:lnTo>
                <a:lnTo>
                  <a:pt x="3458" y="642"/>
                </a:lnTo>
                <a:lnTo>
                  <a:pt x="3352" y="613"/>
                </a:lnTo>
                <a:lnTo>
                  <a:pt x="3211" y="584"/>
                </a:lnTo>
                <a:lnTo>
                  <a:pt x="3070" y="584"/>
                </a:lnTo>
                <a:lnTo>
                  <a:pt x="2823" y="584"/>
                </a:lnTo>
                <a:lnTo>
                  <a:pt x="2717" y="584"/>
                </a:lnTo>
                <a:lnTo>
                  <a:pt x="2611" y="496"/>
                </a:lnTo>
                <a:lnTo>
                  <a:pt x="2505" y="467"/>
                </a:lnTo>
                <a:lnTo>
                  <a:pt x="2399" y="467"/>
                </a:lnTo>
                <a:lnTo>
                  <a:pt x="2151" y="467"/>
                </a:lnTo>
                <a:lnTo>
                  <a:pt x="2010" y="467"/>
                </a:lnTo>
                <a:lnTo>
                  <a:pt x="1728" y="467"/>
                </a:lnTo>
                <a:lnTo>
                  <a:pt x="1622" y="496"/>
                </a:lnTo>
                <a:lnTo>
                  <a:pt x="1516" y="525"/>
                </a:lnTo>
                <a:lnTo>
                  <a:pt x="1375" y="525"/>
                </a:lnTo>
                <a:lnTo>
                  <a:pt x="1270" y="496"/>
                </a:lnTo>
                <a:lnTo>
                  <a:pt x="1164" y="467"/>
                </a:lnTo>
                <a:lnTo>
                  <a:pt x="1058" y="467"/>
                </a:lnTo>
                <a:lnTo>
                  <a:pt x="811" y="467"/>
                </a:lnTo>
                <a:lnTo>
                  <a:pt x="599" y="467"/>
                </a:lnTo>
                <a:lnTo>
                  <a:pt x="529" y="554"/>
                </a:lnTo>
                <a:lnTo>
                  <a:pt x="529" y="642"/>
                </a:lnTo>
                <a:lnTo>
                  <a:pt x="564" y="730"/>
                </a:lnTo>
                <a:lnTo>
                  <a:pt x="670" y="817"/>
                </a:lnTo>
                <a:lnTo>
                  <a:pt x="670" y="905"/>
                </a:lnTo>
                <a:lnTo>
                  <a:pt x="670" y="992"/>
                </a:lnTo>
                <a:lnTo>
                  <a:pt x="635" y="1080"/>
                </a:lnTo>
                <a:lnTo>
                  <a:pt x="635" y="1197"/>
                </a:lnTo>
                <a:lnTo>
                  <a:pt x="635" y="1314"/>
                </a:lnTo>
                <a:lnTo>
                  <a:pt x="635" y="1401"/>
                </a:lnTo>
                <a:lnTo>
                  <a:pt x="635" y="1489"/>
                </a:lnTo>
                <a:lnTo>
                  <a:pt x="670" y="1606"/>
                </a:lnTo>
                <a:lnTo>
                  <a:pt x="705" y="1839"/>
                </a:lnTo>
                <a:lnTo>
                  <a:pt x="740" y="1956"/>
                </a:lnTo>
                <a:lnTo>
                  <a:pt x="740" y="2073"/>
                </a:lnTo>
                <a:lnTo>
                  <a:pt x="740" y="2160"/>
                </a:lnTo>
                <a:lnTo>
                  <a:pt x="740" y="2277"/>
                </a:lnTo>
                <a:lnTo>
                  <a:pt x="705" y="2453"/>
                </a:lnTo>
                <a:lnTo>
                  <a:pt x="705" y="2569"/>
                </a:lnTo>
                <a:lnTo>
                  <a:pt x="670" y="2657"/>
                </a:lnTo>
                <a:lnTo>
                  <a:pt x="635" y="2745"/>
                </a:lnTo>
                <a:lnTo>
                  <a:pt x="599" y="2920"/>
                </a:lnTo>
                <a:lnTo>
                  <a:pt x="529" y="3212"/>
                </a:lnTo>
                <a:lnTo>
                  <a:pt x="458" y="3445"/>
                </a:lnTo>
                <a:lnTo>
                  <a:pt x="423" y="3533"/>
                </a:lnTo>
                <a:lnTo>
                  <a:pt x="458" y="3708"/>
                </a:lnTo>
                <a:lnTo>
                  <a:pt x="493" y="3883"/>
                </a:lnTo>
                <a:lnTo>
                  <a:pt x="529" y="4060"/>
                </a:lnTo>
                <a:lnTo>
                  <a:pt x="599" y="4147"/>
                </a:lnTo>
                <a:lnTo>
                  <a:pt x="670" y="4264"/>
                </a:lnTo>
                <a:lnTo>
                  <a:pt x="776" y="4352"/>
                </a:lnTo>
                <a:lnTo>
                  <a:pt x="811" y="4439"/>
                </a:lnTo>
                <a:lnTo>
                  <a:pt x="846" y="4527"/>
                </a:lnTo>
                <a:lnTo>
                  <a:pt x="881" y="4614"/>
                </a:lnTo>
                <a:lnTo>
                  <a:pt x="952" y="4731"/>
                </a:lnTo>
                <a:lnTo>
                  <a:pt x="987" y="4819"/>
                </a:lnTo>
                <a:lnTo>
                  <a:pt x="1058" y="4936"/>
                </a:lnTo>
                <a:lnTo>
                  <a:pt x="1093" y="5023"/>
                </a:lnTo>
                <a:lnTo>
                  <a:pt x="1128" y="5140"/>
                </a:lnTo>
                <a:lnTo>
                  <a:pt x="1128" y="5315"/>
                </a:lnTo>
                <a:lnTo>
                  <a:pt x="1164" y="5403"/>
                </a:lnTo>
                <a:lnTo>
                  <a:pt x="1199" y="5520"/>
                </a:lnTo>
                <a:lnTo>
                  <a:pt x="1234" y="5637"/>
                </a:lnTo>
                <a:lnTo>
                  <a:pt x="1270" y="5724"/>
                </a:lnTo>
                <a:lnTo>
                  <a:pt x="1305" y="5812"/>
                </a:lnTo>
                <a:lnTo>
                  <a:pt x="1340" y="5929"/>
                </a:lnTo>
                <a:lnTo>
                  <a:pt x="1411" y="6162"/>
                </a:lnTo>
                <a:lnTo>
                  <a:pt x="1516" y="6279"/>
                </a:lnTo>
                <a:lnTo>
                  <a:pt x="1622" y="6367"/>
                </a:lnTo>
                <a:lnTo>
                  <a:pt x="1728" y="6454"/>
                </a:lnTo>
                <a:lnTo>
                  <a:pt x="1799" y="6542"/>
                </a:lnTo>
                <a:lnTo>
                  <a:pt x="1905" y="6629"/>
                </a:lnTo>
                <a:lnTo>
                  <a:pt x="1975" y="6746"/>
                </a:lnTo>
                <a:lnTo>
                  <a:pt x="2046" y="6834"/>
                </a:lnTo>
                <a:lnTo>
                  <a:pt x="2116" y="6921"/>
                </a:lnTo>
                <a:lnTo>
                  <a:pt x="2223" y="7038"/>
                </a:lnTo>
                <a:lnTo>
                  <a:pt x="2364" y="7155"/>
                </a:lnTo>
                <a:lnTo>
                  <a:pt x="2470" y="7214"/>
                </a:lnTo>
                <a:lnTo>
                  <a:pt x="2576" y="7301"/>
                </a:lnTo>
                <a:lnTo>
                  <a:pt x="2682" y="7360"/>
                </a:lnTo>
                <a:lnTo>
                  <a:pt x="2787" y="7418"/>
                </a:lnTo>
                <a:lnTo>
                  <a:pt x="2893" y="7476"/>
                </a:lnTo>
                <a:lnTo>
                  <a:pt x="2999" y="7535"/>
                </a:lnTo>
                <a:lnTo>
                  <a:pt x="3105" y="7564"/>
                </a:lnTo>
                <a:lnTo>
                  <a:pt x="3246" y="7593"/>
                </a:lnTo>
                <a:lnTo>
                  <a:pt x="3352" y="7622"/>
                </a:lnTo>
                <a:lnTo>
                  <a:pt x="3458" y="7622"/>
                </a:lnTo>
                <a:lnTo>
                  <a:pt x="3564" y="7652"/>
                </a:lnTo>
                <a:lnTo>
                  <a:pt x="3669" y="7681"/>
                </a:lnTo>
                <a:lnTo>
                  <a:pt x="3775" y="7681"/>
                </a:lnTo>
                <a:lnTo>
                  <a:pt x="3881" y="7681"/>
                </a:lnTo>
                <a:lnTo>
                  <a:pt x="3987" y="7681"/>
                </a:lnTo>
                <a:lnTo>
                  <a:pt x="4128" y="7652"/>
                </a:lnTo>
                <a:lnTo>
                  <a:pt x="4410" y="7652"/>
                </a:lnTo>
                <a:lnTo>
                  <a:pt x="4763" y="7622"/>
                </a:lnTo>
                <a:lnTo>
                  <a:pt x="5045" y="7593"/>
                </a:lnTo>
                <a:lnTo>
                  <a:pt x="5151" y="7593"/>
                </a:lnTo>
                <a:lnTo>
                  <a:pt x="5433" y="7564"/>
                </a:lnTo>
                <a:lnTo>
                  <a:pt x="5539" y="7535"/>
                </a:lnTo>
                <a:lnTo>
                  <a:pt x="5680" y="7476"/>
                </a:lnTo>
                <a:lnTo>
                  <a:pt x="5786" y="7447"/>
                </a:lnTo>
                <a:lnTo>
                  <a:pt x="6068" y="7360"/>
                </a:lnTo>
                <a:lnTo>
                  <a:pt x="6209" y="7272"/>
                </a:lnTo>
                <a:lnTo>
                  <a:pt x="6315" y="7155"/>
                </a:lnTo>
                <a:lnTo>
                  <a:pt x="6421" y="7038"/>
                </a:lnTo>
                <a:lnTo>
                  <a:pt x="6563" y="6921"/>
                </a:lnTo>
                <a:lnTo>
                  <a:pt x="6669" y="6834"/>
                </a:lnTo>
                <a:lnTo>
                  <a:pt x="6775" y="6746"/>
                </a:lnTo>
                <a:lnTo>
                  <a:pt x="6916" y="6629"/>
                </a:lnTo>
                <a:lnTo>
                  <a:pt x="7128" y="6571"/>
                </a:lnTo>
                <a:lnTo>
                  <a:pt x="7233" y="6483"/>
                </a:lnTo>
                <a:lnTo>
                  <a:pt x="7375" y="6396"/>
                </a:lnTo>
                <a:lnTo>
                  <a:pt x="7480" y="6337"/>
                </a:lnTo>
                <a:lnTo>
                  <a:pt x="7586" y="6221"/>
                </a:lnTo>
                <a:lnTo>
                  <a:pt x="7692" y="6133"/>
                </a:lnTo>
                <a:lnTo>
                  <a:pt x="7798" y="6016"/>
                </a:lnTo>
                <a:lnTo>
                  <a:pt x="7868" y="5929"/>
                </a:lnTo>
                <a:lnTo>
                  <a:pt x="7904" y="5841"/>
                </a:lnTo>
                <a:lnTo>
                  <a:pt x="7939" y="5724"/>
                </a:lnTo>
                <a:lnTo>
                  <a:pt x="7939" y="5637"/>
                </a:lnTo>
                <a:lnTo>
                  <a:pt x="7974" y="5520"/>
                </a:lnTo>
                <a:lnTo>
                  <a:pt x="7974" y="5345"/>
                </a:lnTo>
                <a:lnTo>
                  <a:pt x="8010" y="5228"/>
                </a:lnTo>
                <a:lnTo>
                  <a:pt x="8045" y="5111"/>
                </a:lnTo>
                <a:lnTo>
                  <a:pt x="8045" y="4907"/>
                </a:lnTo>
                <a:lnTo>
                  <a:pt x="8045" y="4819"/>
                </a:lnTo>
                <a:lnTo>
                  <a:pt x="8080" y="4731"/>
                </a:lnTo>
                <a:lnTo>
                  <a:pt x="8080" y="4614"/>
                </a:lnTo>
                <a:lnTo>
                  <a:pt x="8080" y="4498"/>
                </a:lnTo>
                <a:lnTo>
                  <a:pt x="8080" y="4264"/>
                </a:lnTo>
                <a:lnTo>
                  <a:pt x="8080" y="4089"/>
                </a:lnTo>
                <a:lnTo>
                  <a:pt x="8045" y="3854"/>
                </a:lnTo>
                <a:lnTo>
                  <a:pt x="8045" y="3679"/>
                </a:lnTo>
                <a:lnTo>
                  <a:pt x="8010" y="3562"/>
                </a:lnTo>
                <a:lnTo>
                  <a:pt x="7974" y="3475"/>
                </a:lnTo>
                <a:lnTo>
                  <a:pt x="7939" y="3358"/>
                </a:lnTo>
                <a:lnTo>
                  <a:pt x="7904" y="3270"/>
                </a:lnTo>
                <a:lnTo>
                  <a:pt x="7868" y="3153"/>
                </a:lnTo>
                <a:lnTo>
                  <a:pt x="7833" y="3066"/>
                </a:lnTo>
                <a:lnTo>
                  <a:pt x="7833" y="2949"/>
                </a:lnTo>
                <a:lnTo>
                  <a:pt x="7798" y="2715"/>
                </a:lnTo>
                <a:lnTo>
                  <a:pt x="7763" y="2628"/>
                </a:lnTo>
                <a:lnTo>
                  <a:pt x="7763" y="2540"/>
                </a:lnTo>
                <a:lnTo>
                  <a:pt x="7763" y="2453"/>
                </a:lnTo>
                <a:lnTo>
                  <a:pt x="7763" y="2365"/>
                </a:lnTo>
                <a:lnTo>
                  <a:pt x="7763" y="2277"/>
                </a:lnTo>
                <a:lnTo>
                  <a:pt x="7763" y="2190"/>
                </a:lnTo>
                <a:lnTo>
                  <a:pt x="7763" y="2102"/>
                </a:lnTo>
                <a:lnTo>
                  <a:pt x="7763" y="2014"/>
                </a:lnTo>
                <a:lnTo>
                  <a:pt x="7763" y="1927"/>
                </a:lnTo>
                <a:lnTo>
                  <a:pt x="7763" y="1839"/>
                </a:lnTo>
                <a:lnTo>
                  <a:pt x="7763" y="1752"/>
                </a:lnTo>
                <a:lnTo>
                  <a:pt x="7727" y="1664"/>
                </a:lnTo>
                <a:lnTo>
                  <a:pt x="7692" y="1547"/>
                </a:lnTo>
                <a:lnTo>
                  <a:pt x="7657" y="1430"/>
                </a:lnTo>
                <a:lnTo>
                  <a:pt x="7622" y="1343"/>
                </a:lnTo>
                <a:lnTo>
                  <a:pt x="7551" y="1255"/>
                </a:lnTo>
                <a:lnTo>
                  <a:pt x="7375" y="708"/>
                </a:lnTo>
                <a:lnTo>
                  <a:pt x="7586" y="708"/>
                </a:lnTo>
                <a:lnTo>
                  <a:pt x="7679" y="657"/>
                </a:lnTo>
                <a:lnTo>
                  <a:pt x="7877" y="445"/>
                </a:lnTo>
                <a:lnTo>
                  <a:pt x="8010" y="708"/>
                </a:lnTo>
                <a:lnTo>
                  <a:pt x="8045" y="1080"/>
                </a:lnTo>
                <a:lnTo>
                  <a:pt x="8045" y="1168"/>
                </a:lnTo>
                <a:lnTo>
                  <a:pt x="8045" y="1284"/>
                </a:lnTo>
                <a:lnTo>
                  <a:pt x="8080" y="1372"/>
                </a:lnTo>
                <a:lnTo>
                  <a:pt x="8186" y="1430"/>
                </a:lnTo>
                <a:lnTo>
                  <a:pt x="8221" y="1518"/>
                </a:lnTo>
                <a:lnTo>
                  <a:pt x="8327" y="1635"/>
                </a:lnTo>
                <a:lnTo>
                  <a:pt x="8327" y="1722"/>
                </a:lnTo>
                <a:lnTo>
                  <a:pt x="8327" y="1810"/>
                </a:lnTo>
                <a:lnTo>
                  <a:pt x="8292" y="1927"/>
                </a:lnTo>
                <a:lnTo>
                  <a:pt x="8221" y="2044"/>
                </a:lnTo>
                <a:lnTo>
                  <a:pt x="8186" y="2131"/>
                </a:lnTo>
                <a:lnTo>
                  <a:pt x="8186" y="2306"/>
                </a:lnTo>
                <a:lnTo>
                  <a:pt x="8151" y="2394"/>
                </a:lnTo>
                <a:lnTo>
                  <a:pt x="8151" y="2511"/>
                </a:lnTo>
                <a:lnTo>
                  <a:pt x="8186" y="2599"/>
                </a:lnTo>
                <a:lnTo>
                  <a:pt x="8221" y="2686"/>
                </a:lnTo>
                <a:lnTo>
                  <a:pt x="8327" y="2803"/>
                </a:lnTo>
                <a:lnTo>
                  <a:pt x="8433" y="2891"/>
                </a:lnTo>
                <a:lnTo>
                  <a:pt x="8468" y="2978"/>
                </a:lnTo>
                <a:lnTo>
                  <a:pt x="8539" y="3066"/>
                </a:lnTo>
                <a:lnTo>
                  <a:pt x="8574" y="3153"/>
                </a:lnTo>
                <a:lnTo>
                  <a:pt x="8574" y="3241"/>
                </a:lnTo>
                <a:lnTo>
                  <a:pt x="8574" y="3329"/>
                </a:lnTo>
                <a:lnTo>
                  <a:pt x="8539" y="3504"/>
                </a:lnTo>
                <a:lnTo>
                  <a:pt x="8539" y="3679"/>
                </a:lnTo>
                <a:lnTo>
                  <a:pt x="8503" y="3854"/>
                </a:lnTo>
                <a:lnTo>
                  <a:pt x="8503" y="3942"/>
                </a:lnTo>
                <a:lnTo>
                  <a:pt x="8539" y="4029"/>
                </a:lnTo>
                <a:lnTo>
                  <a:pt x="8574" y="4147"/>
                </a:lnTo>
                <a:lnTo>
                  <a:pt x="8609" y="4264"/>
                </a:lnTo>
                <a:lnTo>
                  <a:pt x="8609" y="4352"/>
                </a:lnTo>
                <a:lnTo>
                  <a:pt x="8609" y="4468"/>
                </a:lnTo>
                <a:lnTo>
                  <a:pt x="8609" y="4702"/>
                </a:lnTo>
                <a:lnTo>
                  <a:pt x="8609" y="4877"/>
                </a:lnTo>
                <a:lnTo>
                  <a:pt x="8609" y="4965"/>
                </a:lnTo>
                <a:lnTo>
                  <a:pt x="8609" y="5053"/>
                </a:lnTo>
                <a:lnTo>
                  <a:pt x="8609" y="5140"/>
                </a:lnTo>
                <a:lnTo>
                  <a:pt x="8609" y="5345"/>
                </a:lnTo>
                <a:lnTo>
                  <a:pt x="8609" y="5520"/>
                </a:lnTo>
                <a:lnTo>
                  <a:pt x="8574" y="5753"/>
                </a:lnTo>
                <a:lnTo>
                  <a:pt x="8362" y="6045"/>
                </a:lnTo>
                <a:lnTo>
                  <a:pt x="8292" y="6337"/>
                </a:lnTo>
                <a:lnTo>
                  <a:pt x="8221" y="6571"/>
                </a:lnTo>
                <a:lnTo>
                  <a:pt x="8115" y="6542"/>
                </a:lnTo>
                <a:lnTo>
                  <a:pt x="7833" y="6571"/>
                </a:lnTo>
                <a:lnTo>
                  <a:pt x="7727" y="6629"/>
                </a:lnTo>
                <a:lnTo>
                  <a:pt x="7692" y="6805"/>
                </a:lnTo>
                <a:lnTo>
                  <a:pt x="7480" y="6863"/>
                </a:lnTo>
                <a:lnTo>
                  <a:pt x="7445" y="6951"/>
                </a:lnTo>
                <a:lnTo>
                  <a:pt x="7163" y="7038"/>
                </a:lnTo>
                <a:lnTo>
                  <a:pt x="7128" y="7126"/>
                </a:lnTo>
                <a:lnTo>
                  <a:pt x="6881" y="7214"/>
                </a:lnTo>
                <a:lnTo>
                  <a:pt x="6845" y="7301"/>
                </a:lnTo>
                <a:lnTo>
                  <a:pt x="6775" y="7389"/>
                </a:lnTo>
                <a:lnTo>
                  <a:pt x="6669" y="7476"/>
                </a:lnTo>
                <a:lnTo>
                  <a:pt x="6598" y="7593"/>
                </a:lnTo>
                <a:lnTo>
                  <a:pt x="6386" y="7622"/>
                </a:lnTo>
                <a:lnTo>
                  <a:pt x="6280" y="7710"/>
                </a:lnTo>
                <a:lnTo>
                  <a:pt x="6139" y="7768"/>
                </a:lnTo>
                <a:lnTo>
                  <a:pt x="5927" y="7827"/>
                </a:lnTo>
                <a:lnTo>
                  <a:pt x="5574" y="7885"/>
                </a:lnTo>
                <a:lnTo>
                  <a:pt x="5292" y="7944"/>
                </a:lnTo>
                <a:lnTo>
                  <a:pt x="5081" y="7944"/>
                </a:lnTo>
                <a:lnTo>
                  <a:pt x="4975" y="7944"/>
                </a:lnTo>
                <a:lnTo>
                  <a:pt x="4728" y="8060"/>
                </a:lnTo>
                <a:lnTo>
                  <a:pt x="4587" y="8090"/>
                </a:lnTo>
                <a:lnTo>
                  <a:pt x="4304" y="8119"/>
                </a:lnTo>
                <a:lnTo>
                  <a:pt x="4093" y="8119"/>
                </a:lnTo>
                <a:lnTo>
                  <a:pt x="3987" y="8090"/>
                </a:lnTo>
                <a:lnTo>
                  <a:pt x="3775" y="8031"/>
                </a:lnTo>
                <a:lnTo>
                  <a:pt x="3634" y="7973"/>
                </a:lnTo>
                <a:lnTo>
                  <a:pt x="3493" y="7914"/>
                </a:lnTo>
                <a:lnTo>
                  <a:pt x="3140" y="7914"/>
                </a:lnTo>
                <a:lnTo>
                  <a:pt x="2929" y="7914"/>
                </a:lnTo>
                <a:lnTo>
                  <a:pt x="2787" y="7885"/>
                </a:lnTo>
                <a:lnTo>
                  <a:pt x="2646" y="7856"/>
                </a:lnTo>
                <a:lnTo>
                  <a:pt x="2541" y="7798"/>
                </a:lnTo>
                <a:lnTo>
                  <a:pt x="2399" y="7710"/>
                </a:lnTo>
                <a:lnTo>
                  <a:pt x="2294" y="7652"/>
                </a:lnTo>
                <a:lnTo>
                  <a:pt x="2223" y="7564"/>
                </a:lnTo>
                <a:lnTo>
                  <a:pt x="2116" y="7476"/>
                </a:lnTo>
                <a:lnTo>
                  <a:pt x="2046" y="7301"/>
                </a:lnTo>
                <a:lnTo>
                  <a:pt x="1975" y="7214"/>
                </a:lnTo>
                <a:lnTo>
                  <a:pt x="1905" y="7126"/>
                </a:lnTo>
                <a:lnTo>
                  <a:pt x="1799" y="7038"/>
                </a:lnTo>
                <a:lnTo>
                  <a:pt x="1693" y="6980"/>
                </a:lnTo>
                <a:lnTo>
                  <a:pt x="1446" y="6921"/>
                </a:lnTo>
                <a:lnTo>
                  <a:pt x="1164" y="6805"/>
                </a:lnTo>
                <a:lnTo>
                  <a:pt x="1058" y="6717"/>
                </a:lnTo>
                <a:lnTo>
                  <a:pt x="987" y="6483"/>
                </a:lnTo>
                <a:lnTo>
                  <a:pt x="952" y="6396"/>
                </a:lnTo>
                <a:lnTo>
                  <a:pt x="917" y="6308"/>
                </a:lnTo>
                <a:lnTo>
                  <a:pt x="881" y="6221"/>
                </a:lnTo>
                <a:lnTo>
                  <a:pt x="846" y="6104"/>
                </a:lnTo>
                <a:lnTo>
                  <a:pt x="846" y="6016"/>
                </a:lnTo>
                <a:lnTo>
                  <a:pt x="846" y="5929"/>
                </a:lnTo>
                <a:lnTo>
                  <a:pt x="846" y="5841"/>
                </a:lnTo>
                <a:lnTo>
                  <a:pt x="811" y="5753"/>
                </a:lnTo>
                <a:lnTo>
                  <a:pt x="776" y="5666"/>
                </a:lnTo>
                <a:lnTo>
                  <a:pt x="705" y="5578"/>
                </a:lnTo>
                <a:lnTo>
                  <a:pt x="670" y="5491"/>
                </a:lnTo>
                <a:lnTo>
                  <a:pt x="635" y="5403"/>
                </a:lnTo>
                <a:lnTo>
                  <a:pt x="599" y="5286"/>
                </a:lnTo>
                <a:lnTo>
                  <a:pt x="529" y="5169"/>
                </a:lnTo>
                <a:lnTo>
                  <a:pt x="493" y="5082"/>
                </a:lnTo>
                <a:lnTo>
                  <a:pt x="423" y="4994"/>
                </a:lnTo>
                <a:lnTo>
                  <a:pt x="388" y="4907"/>
                </a:lnTo>
                <a:lnTo>
                  <a:pt x="352" y="4819"/>
                </a:lnTo>
                <a:lnTo>
                  <a:pt x="317" y="4702"/>
                </a:lnTo>
                <a:lnTo>
                  <a:pt x="282" y="4614"/>
                </a:lnTo>
                <a:lnTo>
                  <a:pt x="282" y="4527"/>
                </a:lnTo>
                <a:lnTo>
                  <a:pt x="246" y="4439"/>
                </a:lnTo>
                <a:lnTo>
                  <a:pt x="246" y="4352"/>
                </a:lnTo>
                <a:lnTo>
                  <a:pt x="211" y="4264"/>
                </a:lnTo>
                <a:lnTo>
                  <a:pt x="211" y="4147"/>
                </a:lnTo>
                <a:lnTo>
                  <a:pt x="176" y="4060"/>
                </a:lnTo>
                <a:lnTo>
                  <a:pt x="141" y="3971"/>
                </a:lnTo>
                <a:lnTo>
                  <a:pt x="70" y="3883"/>
                </a:lnTo>
                <a:lnTo>
                  <a:pt x="70" y="3679"/>
                </a:lnTo>
                <a:lnTo>
                  <a:pt x="70" y="3562"/>
                </a:lnTo>
                <a:lnTo>
                  <a:pt x="35" y="3445"/>
                </a:lnTo>
                <a:lnTo>
                  <a:pt x="35" y="3270"/>
                </a:lnTo>
                <a:lnTo>
                  <a:pt x="0" y="3183"/>
                </a:lnTo>
                <a:lnTo>
                  <a:pt x="0" y="3095"/>
                </a:lnTo>
                <a:lnTo>
                  <a:pt x="35" y="3007"/>
                </a:lnTo>
                <a:lnTo>
                  <a:pt x="70" y="2920"/>
                </a:lnTo>
                <a:lnTo>
                  <a:pt x="105" y="2803"/>
                </a:lnTo>
                <a:lnTo>
                  <a:pt x="176" y="2686"/>
                </a:lnTo>
                <a:lnTo>
                  <a:pt x="211" y="2453"/>
                </a:lnTo>
                <a:lnTo>
                  <a:pt x="246" y="2365"/>
                </a:lnTo>
                <a:lnTo>
                  <a:pt x="282" y="2248"/>
                </a:lnTo>
                <a:lnTo>
                  <a:pt x="282" y="2044"/>
                </a:lnTo>
                <a:lnTo>
                  <a:pt x="246" y="1956"/>
                </a:lnTo>
                <a:lnTo>
                  <a:pt x="211" y="1839"/>
                </a:lnTo>
                <a:lnTo>
                  <a:pt x="211" y="1752"/>
                </a:lnTo>
                <a:lnTo>
                  <a:pt x="211" y="1635"/>
                </a:lnTo>
                <a:lnTo>
                  <a:pt x="211" y="1547"/>
                </a:lnTo>
                <a:lnTo>
                  <a:pt x="211" y="1430"/>
                </a:lnTo>
                <a:lnTo>
                  <a:pt x="176" y="1314"/>
                </a:lnTo>
                <a:lnTo>
                  <a:pt x="141" y="1226"/>
                </a:lnTo>
                <a:lnTo>
                  <a:pt x="141" y="1138"/>
                </a:lnTo>
                <a:lnTo>
                  <a:pt x="141" y="1022"/>
                </a:lnTo>
                <a:lnTo>
                  <a:pt x="105" y="934"/>
                </a:lnTo>
                <a:lnTo>
                  <a:pt x="105" y="846"/>
                </a:lnTo>
                <a:lnTo>
                  <a:pt x="105" y="759"/>
                </a:lnTo>
                <a:lnTo>
                  <a:pt x="105" y="671"/>
                </a:lnTo>
                <a:lnTo>
                  <a:pt x="141" y="554"/>
                </a:lnTo>
                <a:lnTo>
                  <a:pt x="176" y="467"/>
                </a:lnTo>
                <a:lnTo>
                  <a:pt x="246" y="379"/>
                </a:lnTo>
                <a:lnTo>
                  <a:pt x="352" y="321"/>
                </a:lnTo>
                <a:lnTo>
                  <a:pt x="423" y="233"/>
                </a:lnTo>
                <a:lnTo>
                  <a:pt x="529" y="146"/>
                </a:lnTo>
                <a:lnTo>
                  <a:pt x="599" y="58"/>
                </a:lnTo>
                <a:lnTo>
                  <a:pt x="705" y="0"/>
                </a:lnTo>
                <a:lnTo>
                  <a:pt x="811" y="0"/>
                </a:lnTo>
                <a:lnTo>
                  <a:pt x="917" y="58"/>
                </a:lnTo>
                <a:lnTo>
                  <a:pt x="1023" y="58"/>
                </a:lnTo>
                <a:lnTo>
                  <a:pt x="1128" y="58"/>
                </a:lnTo>
                <a:lnTo>
                  <a:pt x="1270" y="58"/>
                </a:lnTo>
                <a:lnTo>
                  <a:pt x="1375" y="58"/>
                </a:lnTo>
                <a:lnTo>
                  <a:pt x="1481" y="58"/>
                </a:lnTo>
                <a:lnTo>
                  <a:pt x="1587" y="58"/>
                </a:lnTo>
                <a:lnTo>
                  <a:pt x="1693" y="29"/>
                </a:lnTo>
                <a:lnTo>
                  <a:pt x="1799" y="29"/>
                </a:lnTo>
                <a:lnTo>
                  <a:pt x="1905" y="29"/>
                </a:lnTo>
                <a:lnTo>
                  <a:pt x="2010" y="0"/>
                </a:lnTo>
                <a:lnTo>
                  <a:pt x="2116" y="0"/>
                </a:lnTo>
                <a:lnTo>
                  <a:pt x="2223" y="0"/>
                </a:lnTo>
                <a:lnTo>
                  <a:pt x="2329" y="29"/>
                </a:lnTo>
                <a:lnTo>
                  <a:pt x="2435" y="58"/>
                </a:lnTo>
                <a:lnTo>
                  <a:pt x="2576" y="58"/>
                </a:lnTo>
                <a:lnTo>
                  <a:pt x="2682" y="87"/>
                </a:lnTo>
                <a:lnTo>
                  <a:pt x="2823" y="116"/>
                </a:lnTo>
                <a:lnTo>
                  <a:pt x="2964" y="146"/>
                </a:lnTo>
                <a:lnTo>
                  <a:pt x="3070" y="175"/>
                </a:lnTo>
                <a:lnTo>
                  <a:pt x="3176" y="204"/>
                </a:lnTo>
                <a:lnTo>
                  <a:pt x="3281" y="233"/>
                </a:lnTo>
                <a:lnTo>
                  <a:pt x="3387" y="262"/>
                </a:lnTo>
                <a:lnTo>
                  <a:pt x="3493" y="292"/>
                </a:lnTo>
                <a:lnTo>
                  <a:pt x="3599" y="292"/>
                </a:lnTo>
                <a:lnTo>
                  <a:pt x="3775" y="379"/>
                </a:lnTo>
                <a:lnTo>
                  <a:pt x="3811" y="554"/>
                </a:lnTo>
                <a:lnTo>
                  <a:pt x="3881" y="642"/>
                </a:lnTo>
                <a:lnTo>
                  <a:pt x="3846" y="525"/>
                </a:lnTo>
                <a:lnTo>
                  <a:pt x="3775" y="379"/>
                </a:lnTo>
                <a:close/>
              </a:path>
            </a:pathLst>
          </a:custGeom>
          <a:solidFill>
            <a:srgbClr val="ff9999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499000" y="3149640"/>
            <a:ext cx="317880" cy="368640"/>
          </a:xfrm>
          <a:custGeom>
            <a:avLst/>
            <a:gdLst/>
            <a:ahLst/>
            <a:rect l="0" t="0" r="r" b="b"/>
            <a:pathLst>
              <a:path w="883" h="1024">
                <a:moveTo>
                  <a:pt x="35" y="1024"/>
                </a:moveTo>
                <a:lnTo>
                  <a:pt x="35" y="882"/>
                </a:lnTo>
                <a:lnTo>
                  <a:pt x="0" y="777"/>
                </a:lnTo>
                <a:lnTo>
                  <a:pt x="0" y="671"/>
                </a:lnTo>
                <a:lnTo>
                  <a:pt x="35" y="565"/>
                </a:lnTo>
                <a:lnTo>
                  <a:pt x="70" y="458"/>
                </a:lnTo>
                <a:lnTo>
                  <a:pt x="176" y="352"/>
                </a:lnTo>
                <a:lnTo>
                  <a:pt x="247" y="246"/>
                </a:lnTo>
                <a:lnTo>
                  <a:pt x="318" y="141"/>
                </a:lnTo>
                <a:lnTo>
                  <a:pt x="424" y="105"/>
                </a:lnTo>
                <a:lnTo>
                  <a:pt x="530" y="105"/>
                </a:lnTo>
                <a:lnTo>
                  <a:pt x="636" y="105"/>
                </a:lnTo>
                <a:lnTo>
                  <a:pt x="742" y="35"/>
                </a:lnTo>
                <a:lnTo>
                  <a:pt x="848" y="0"/>
                </a:lnTo>
                <a:lnTo>
                  <a:pt x="883" y="105"/>
                </a:lnTo>
                <a:lnTo>
                  <a:pt x="778" y="141"/>
                </a:lnTo>
                <a:lnTo>
                  <a:pt x="707" y="246"/>
                </a:lnTo>
                <a:lnTo>
                  <a:pt x="707" y="388"/>
                </a:lnTo>
                <a:lnTo>
                  <a:pt x="600" y="458"/>
                </a:lnTo>
                <a:lnTo>
                  <a:pt x="494" y="530"/>
                </a:lnTo>
                <a:lnTo>
                  <a:pt x="424" y="636"/>
                </a:lnTo>
                <a:lnTo>
                  <a:pt x="389" y="741"/>
                </a:lnTo>
                <a:lnTo>
                  <a:pt x="424" y="847"/>
                </a:lnTo>
                <a:lnTo>
                  <a:pt x="318" y="882"/>
                </a:lnTo>
                <a:lnTo>
                  <a:pt x="211" y="847"/>
                </a:lnTo>
                <a:lnTo>
                  <a:pt x="105" y="882"/>
                </a:lnTo>
                <a:lnTo>
                  <a:pt x="35" y="812"/>
                </a:lnTo>
                <a:lnTo>
                  <a:pt x="35" y="1024"/>
                </a:lnTo>
                <a:close/>
              </a:path>
            </a:pathLst>
          </a:custGeom>
          <a:solidFill>
            <a:srgbClr val="ff9999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80880" y="22860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pen My Stomach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2463840" y="6146640"/>
            <a:ext cx="3670560" cy="344880"/>
          </a:xfrm>
          <a:custGeom>
            <a:avLst/>
            <a:gdLst/>
            <a:ahLst/>
            <a:rect l="0" t="0" r="r" b="b"/>
            <a:pathLst>
              <a:path w="10196" h="958">
                <a:moveTo>
                  <a:pt x="3764" y="216"/>
                </a:moveTo>
                <a:lnTo>
                  <a:pt x="3654" y="246"/>
                </a:lnTo>
                <a:lnTo>
                  <a:pt x="3570" y="246"/>
                </a:lnTo>
                <a:lnTo>
                  <a:pt x="3517" y="246"/>
                </a:lnTo>
                <a:lnTo>
                  <a:pt x="3407" y="216"/>
                </a:lnTo>
                <a:lnTo>
                  <a:pt x="3354" y="183"/>
                </a:lnTo>
                <a:lnTo>
                  <a:pt x="3297" y="183"/>
                </a:lnTo>
                <a:lnTo>
                  <a:pt x="3244" y="155"/>
                </a:lnTo>
                <a:lnTo>
                  <a:pt x="3217" y="155"/>
                </a:lnTo>
                <a:lnTo>
                  <a:pt x="2997" y="246"/>
                </a:lnTo>
                <a:lnTo>
                  <a:pt x="2781" y="340"/>
                </a:lnTo>
                <a:lnTo>
                  <a:pt x="2508" y="216"/>
                </a:lnTo>
                <a:lnTo>
                  <a:pt x="2208" y="94"/>
                </a:lnTo>
                <a:lnTo>
                  <a:pt x="2128" y="61"/>
                </a:lnTo>
                <a:lnTo>
                  <a:pt x="2098" y="61"/>
                </a:lnTo>
                <a:lnTo>
                  <a:pt x="2071" y="61"/>
                </a:lnTo>
                <a:lnTo>
                  <a:pt x="2045" y="94"/>
                </a:lnTo>
                <a:lnTo>
                  <a:pt x="762" y="279"/>
                </a:lnTo>
                <a:lnTo>
                  <a:pt x="357" y="524"/>
                </a:lnTo>
                <a:lnTo>
                  <a:pt x="273" y="646"/>
                </a:lnTo>
                <a:lnTo>
                  <a:pt x="246" y="679"/>
                </a:lnTo>
                <a:lnTo>
                  <a:pt x="246" y="679"/>
                </a:lnTo>
                <a:lnTo>
                  <a:pt x="273" y="646"/>
                </a:lnTo>
                <a:lnTo>
                  <a:pt x="326" y="585"/>
                </a:lnTo>
                <a:lnTo>
                  <a:pt x="357" y="585"/>
                </a:lnTo>
                <a:lnTo>
                  <a:pt x="357" y="618"/>
                </a:lnTo>
                <a:lnTo>
                  <a:pt x="357" y="742"/>
                </a:lnTo>
                <a:lnTo>
                  <a:pt x="299" y="803"/>
                </a:lnTo>
                <a:lnTo>
                  <a:pt x="189" y="836"/>
                </a:lnTo>
                <a:lnTo>
                  <a:pt x="83" y="864"/>
                </a:lnTo>
                <a:lnTo>
                  <a:pt x="0" y="897"/>
                </a:lnTo>
                <a:lnTo>
                  <a:pt x="110" y="958"/>
                </a:lnTo>
                <a:lnTo>
                  <a:pt x="189" y="958"/>
                </a:lnTo>
                <a:lnTo>
                  <a:pt x="273" y="925"/>
                </a:lnTo>
                <a:lnTo>
                  <a:pt x="383" y="897"/>
                </a:lnTo>
                <a:lnTo>
                  <a:pt x="489" y="742"/>
                </a:lnTo>
                <a:lnTo>
                  <a:pt x="573" y="679"/>
                </a:lnTo>
                <a:lnTo>
                  <a:pt x="656" y="679"/>
                </a:lnTo>
                <a:lnTo>
                  <a:pt x="819" y="742"/>
                </a:lnTo>
                <a:lnTo>
                  <a:pt x="899" y="864"/>
                </a:lnTo>
                <a:lnTo>
                  <a:pt x="982" y="897"/>
                </a:lnTo>
                <a:lnTo>
                  <a:pt x="1093" y="864"/>
                </a:lnTo>
                <a:lnTo>
                  <a:pt x="1198" y="775"/>
                </a:lnTo>
                <a:lnTo>
                  <a:pt x="1282" y="679"/>
                </a:lnTo>
                <a:lnTo>
                  <a:pt x="1362" y="679"/>
                </a:lnTo>
                <a:lnTo>
                  <a:pt x="1445" y="712"/>
                </a:lnTo>
                <a:lnTo>
                  <a:pt x="1555" y="775"/>
                </a:lnTo>
                <a:lnTo>
                  <a:pt x="1829" y="712"/>
                </a:lnTo>
                <a:lnTo>
                  <a:pt x="2128" y="679"/>
                </a:lnTo>
                <a:lnTo>
                  <a:pt x="2481" y="742"/>
                </a:lnTo>
                <a:lnTo>
                  <a:pt x="2671" y="742"/>
                </a:lnTo>
                <a:lnTo>
                  <a:pt x="2917" y="712"/>
                </a:lnTo>
                <a:lnTo>
                  <a:pt x="3133" y="679"/>
                </a:lnTo>
                <a:lnTo>
                  <a:pt x="3217" y="712"/>
                </a:lnTo>
                <a:lnTo>
                  <a:pt x="3270" y="742"/>
                </a:lnTo>
                <a:lnTo>
                  <a:pt x="3270" y="742"/>
                </a:lnTo>
                <a:lnTo>
                  <a:pt x="3517" y="958"/>
                </a:lnTo>
                <a:lnTo>
                  <a:pt x="3953" y="742"/>
                </a:lnTo>
                <a:lnTo>
                  <a:pt x="4579" y="742"/>
                </a:lnTo>
                <a:lnTo>
                  <a:pt x="5016" y="742"/>
                </a:lnTo>
                <a:lnTo>
                  <a:pt x="5068" y="864"/>
                </a:lnTo>
                <a:lnTo>
                  <a:pt x="5127" y="925"/>
                </a:lnTo>
                <a:lnTo>
                  <a:pt x="5237" y="958"/>
                </a:lnTo>
                <a:lnTo>
                  <a:pt x="5369" y="925"/>
                </a:lnTo>
                <a:lnTo>
                  <a:pt x="5479" y="897"/>
                </a:lnTo>
                <a:lnTo>
                  <a:pt x="5537" y="864"/>
                </a:lnTo>
                <a:lnTo>
                  <a:pt x="5590" y="897"/>
                </a:lnTo>
                <a:lnTo>
                  <a:pt x="5669" y="958"/>
                </a:lnTo>
                <a:lnTo>
                  <a:pt x="5779" y="958"/>
                </a:lnTo>
                <a:lnTo>
                  <a:pt x="5863" y="925"/>
                </a:lnTo>
                <a:lnTo>
                  <a:pt x="5916" y="925"/>
                </a:lnTo>
                <a:lnTo>
                  <a:pt x="5969" y="897"/>
                </a:lnTo>
                <a:lnTo>
                  <a:pt x="6026" y="864"/>
                </a:lnTo>
                <a:lnTo>
                  <a:pt x="6052" y="864"/>
                </a:lnTo>
                <a:lnTo>
                  <a:pt x="6326" y="897"/>
                </a:lnTo>
                <a:lnTo>
                  <a:pt x="6573" y="836"/>
                </a:lnTo>
                <a:lnTo>
                  <a:pt x="6736" y="897"/>
                </a:lnTo>
                <a:lnTo>
                  <a:pt x="6872" y="925"/>
                </a:lnTo>
                <a:lnTo>
                  <a:pt x="6952" y="958"/>
                </a:lnTo>
                <a:lnTo>
                  <a:pt x="6978" y="958"/>
                </a:lnTo>
                <a:lnTo>
                  <a:pt x="7088" y="925"/>
                </a:lnTo>
                <a:lnTo>
                  <a:pt x="7198" y="897"/>
                </a:lnTo>
                <a:lnTo>
                  <a:pt x="7251" y="897"/>
                </a:lnTo>
                <a:lnTo>
                  <a:pt x="7304" y="864"/>
                </a:lnTo>
                <a:lnTo>
                  <a:pt x="7304" y="864"/>
                </a:lnTo>
                <a:lnTo>
                  <a:pt x="7551" y="925"/>
                </a:lnTo>
                <a:lnTo>
                  <a:pt x="7688" y="958"/>
                </a:lnTo>
                <a:lnTo>
                  <a:pt x="7798" y="925"/>
                </a:lnTo>
                <a:lnTo>
                  <a:pt x="7908" y="897"/>
                </a:lnTo>
                <a:lnTo>
                  <a:pt x="8014" y="864"/>
                </a:lnTo>
                <a:lnTo>
                  <a:pt x="8124" y="836"/>
                </a:lnTo>
                <a:lnTo>
                  <a:pt x="8151" y="836"/>
                </a:lnTo>
                <a:lnTo>
                  <a:pt x="8450" y="897"/>
                </a:lnTo>
                <a:lnTo>
                  <a:pt x="8587" y="897"/>
                </a:lnTo>
                <a:lnTo>
                  <a:pt x="8724" y="864"/>
                </a:lnTo>
                <a:lnTo>
                  <a:pt x="8944" y="864"/>
                </a:lnTo>
                <a:lnTo>
                  <a:pt x="9160" y="836"/>
                </a:lnTo>
                <a:lnTo>
                  <a:pt x="9213" y="775"/>
                </a:lnTo>
                <a:lnTo>
                  <a:pt x="9270" y="712"/>
                </a:lnTo>
                <a:lnTo>
                  <a:pt x="9433" y="679"/>
                </a:lnTo>
                <a:lnTo>
                  <a:pt x="9596" y="679"/>
                </a:lnTo>
                <a:lnTo>
                  <a:pt x="9759" y="712"/>
                </a:lnTo>
                <a:lnTo>
                  <a:pt x="9896" y="712"/>
                </a:lnTo>
                <a:lnTo>
                  <a:pt x="10033" y="679"/>
                </a:lnTo>
                <a:lnTo>
                  <a:pt x="10112" y="618"/>
                </a:lnTo>
                <a:lnTo>
                  <a:pt x="10196" y="524"/>
                </a:lnTo>
                <a:lnTo>
                  <a:pt x="10169" y="462"/>
                </a:lnTo>
                <a:lnTo>
                  <a:pt x="10143" y="434"/>
                </a:lnTo>
                <a:lnTo>
                  <a:pt x="10112" y="401"/>
                </a:lnTo>
                <a:lnTo>
                  <a:pt x="10059" y="434"/>
                </a:lnTo>
                <a:lnTo>
                  <a:pt x="9980" y="462"/>
                </a:lnTo>
                <a:lnTo>
                  <a:pt x="9922" y="495"/>
                </a:lnTo>
                <a:lnTo>
                  <a:pt x="9896" y="495"/>
                </a:lnTo>
                <a:lnTo>
                  <a:pt x="9843" y="462"/>
                </a:lnTo>
                <a:lnTo>
                  <a:pt x="9733" y="462"/>
                </a:lnTo>
                <a:lnTo>
                  <a:pt x="9649" y="434"/>
                </a:lnTo>
                <a:lnTo>
                  <a:pt x="9570" y="401"/>
                </a:lnTo>
                <a:lnTo>
                  <a:pt x="9513" y="373"/>
                </a:lnTo>
                <a:lnTo>
                  <a:pt x="9433" y="307"/>
                </a:lnTo>
                <a:lnTo>
                  <a:pt x="9376" y="279"/>
                </a:lnTo>
                <a:lnTo>
                  <a:pt x="9349" y="246"/>
                </a:lnTo>
                <a:lnTo>
                  <a:pt x="8913" y="307"/>
                </a:lnTo>
                <a:lnTo>
                  <a:pt x="8508" y="373"/>
                </a:lnTo>
                <a:lnTo>
                  <a:pt x="8340" y="340"/>
                </a:lnTo>
                <a:lnTo>
                  <a:pt x="8177" y="340"/>
                </a:lnTo>
                <a:lnTo>
                  <a:pt x="8040" y="279"/>
                </a:lnTo>
                <a:lnTo>
                  <a:pt x="7908" y="216"/>
                </a:lnTo>
                <a:lnTo>
                  <a:pt x="7798" y="155"/>
                </a:lnTo>
                <a:lnTo>
                  <a:pt x="7714" y="94"/>
                </a:lnTo>
                <a:lnTo>
                  <a:pt x="7608" y="61"/>
                </a:lnTo>
                <a:lnTo>
                  <a:pt x="7578" y="32"/>
                </a:lnTo>
                <a:lnTo>
                  <a:pt x="7278" y="94"/>
                </a:lnTo>
                <a:lnTo>
                  <a:pt x="6978" y="155"/>
                </a:lnTo>
                <a:lnTo>
                  <a:pt x="6815" y="183"/>
                </a:lnTo>
                <a:lnTo>
                  <a:pt x="6652" y="122"/>
                </a:lnTo>
                <a:lnTo>
                  <a:pt x="6326" y="0"/>
                </a:lnTo>
                <a:lnTo>
                  <a:pt x="5942" y="61"/>
                </a:lnTo>
                <a:lnTo>
                  <a:pt x="5753" y="94"/>
                </a:lnTo>
                <a:lnTo>
                  <a:pt x="5563" y="155"/>
                </a:lnTo>
                <a:lnTo>
                  <a:pt x="5479" y="183"/>
                </a:lnTo>
                <a:lnTo>
                  <a:pt x="5369" y="216"/>
                </a:lnTo>
                <a:lnTo>
                  <a:pt x="5290" y="246"/>
                </a:lnTo>
                <a:lnTo>
                  <a:pt x="5263" y="246"/>
                </a:lnTo>
                <a:lnTo>
                  <a:pt x="5153" y="246"/>
                </a:lnTo>
                <a:lnTo>
                  <a:pt x="5016" y="216"/>
                </a:lnTo>
                <a:lnTo>
                  <a:pt x="4879" y="183"/>
                </a:lnTo>
                <a:lnTo>
                  <a:pt x="4826" y="155"/>
                </a:lnTo>
                <a:lnTo>
                  <a:pt x="4800" y="155"/>
                </a:lnTo>
                <a:lnTo>
                  <a:pt x="4663" y="183"/>
                </a:lnTo>
                <a:lnTo>
                  <a:pt x="4579" y="216"/>
                </a:lnTo>
                <a:lnTo>
                  <a:pt x="4469" y="216"/>
                </a:lnTo>
                <a:lnTo>
                  <a:pt x="4332" y="183"/>
                </a:lnTo>
                <a:lnTo>
                  <a:pt x="4279" y="155"/>
                </a:lnTo>
                <a:lnTo>
                  <a:pt x="4200" y="122"/>
                </a:lnTo>
                <a:lnTo>
                  <a:pt x="4143" y="94"/>
                </a:lnTo>
                <a:lnTo>
                  <a:pt x="4116" y="94"/>
                </a:lnTo>
                <a:lnTo>
                  <a:pt x="4033" y="122"/>
                </a:lnTo>
                <a:lnTo>
                  <a:pt x="3980" y="155"/>
                </a:lnTo>
                <a:lnTo>
                  <a:pt x="3927" y="183"/>
                </a:lnTo>
                <a:lnTo>
                  <a:pt x="3896" y="183"/>
                </a:lnTo>
                <a:lnTo>
                  <a:pt x="3817" y="155"/>
                </a:lnTo>
                <a:lnTo>
                  <a:pt x="3733" y="183"/>
                </a:lnTo>
                <a:lnTo>
                  <a:pt x="3706" y="216"/>
                </a:lnTo>
                <a:lnTo>
                  <a:pt x="3706" y="216"/>
                </a:lnTo>
                <a:lnTo>
                  <a:pt x="3764" y="216"/>
                </a:lnTo>
                <a:close/>
              </a:path>
            </a:pathLst>
          </a:custGeom>
          <a:solidFill>
            <a:srgbClr val="e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689280" y="6105600"/>
            <a:ext cx="752760" cy="209880"/>
          </a:xfrm>
          <a:custGeom>
            <a:avLst/>
            <a:gdLst/>
            <a:ahLst/>
            <a:rect l="0" t="0" r="r" b="b"/>
            <a:pathLst>
              <a:path w="2091" h="583">
                <a:moveTo>
                  <a:pt x="1376" y="185"/>
                </a:moveTo>
                <a:lnTo>
                  <a:pt x="978" y="52"/>
                </a:lnTo>
                <a:lnTo>
                  <a:pt x="714" y="0"/>
                </a:lnTo>
                <a:lnTo>
                  <a:pt x="423" y="105"/>
                </a:lnTo>
                <a:lnTo>
                  <a:pt x="132" y="264"/>
                </a:lnTo>
                <a:lnTo>
                  <a:pt x="0" y="477"/>
                </a:lnTo>
                <a:lnTo>
                  <a:pt x="185" y="583"/>
                </a:lnTo>
                <a:lnTo>
                  <a:pt x="2091" y="583"/>
                </a:lnTo>
                <a:lnTo>
                  <a:pt x="2091" y="185"/>
                </a:lnTo>
                <a:lnTo>
                  <a:pt x="1376" y="185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3031920" y="3456000"/>
            <a:ext cx="1203840" cy="955800"/>
            <a:chOff x="3031920" y="3456000"/>
            <a:chExt cx="1203840" cy="955800"/>
          </a:xfrm>
        </p:grpSpPr>
        <p:sp>
          <p:nvSpPr>
            <p:cNvPr id="477" name=""/>
            <p:cNvSpPr/>
            <p:nvPr/>
          </p:nvSpPr>
          <p:spPr>
            <a:xfrm>
              <a:off x="3031920" y="4108680"/>
              <a:ext cx="290520" cy="303120"/>
            </a:xfrm>
            <a:custGeom>
              <a:avLst/>
              <a:gdLst/>
              <a:ahLst/>
              <a:rect l="0" t="0" r="r" b="b"/>
              <a:pathLst>
                <a:path w="807" h="842">
                  <a:moveTo>
                    <a:pt x="258" y="23"/>
                  </a:moveTo>
                  <a:lnTo>
                    <a:pt x="258" y="23"/>
                  </a:lnTo>
                  <a:cubicBezTo>
                    <a:pt x="192" y="47"/>
                    <a:pt x="134" y="89"/>
                    <a:pt x="90" y="145"/>
                  </a:cubicBezTo>
                  <a:cubicBezTo>
                    <a:pt x="45" y="201"/>
                    <a:pt x="16" y="268"/>
                    <a:pt x="5" y="341"/>
                  </a:cubicBezTo>
                  <a:cubicBezTo>
                    <a:pt x="-6" y="413"/>
                    <a:pt x="2" y="488"/>
                    <a:pt x="28" y="558"/>
                  </a:cubicBezTo>
                  <a:cubicBezTo>
                    <a:pt x="53" y="628"/>
                    <a:pt x="95" y="691"/>
                    <a:pt x="150" y="739"/>
                  </a:cubicBezTo>
                  <a:cubicBezTo>
                    <a:pt x="206" y="788"/>
                    <a:pt x="271" y="821"/>
                    <a:pt x="341" y="835"/>
                  </a:cubicBezTo>
                  <a:cubicBezTo>
                    <a:pt x="411" y="849"/>
                    <a:pt x="483" y="844"/>
                    <a:pt x="549" y="820"/>
                  </a:cubicBezTo>
                  <a:lnTo>
                    <a:pt x="549" y="820"/>
                  </a:lnTo>
                  <a:lnTo>
                    <a:pt x="549" y="820"/>
                  </a:lnTo>
                  <a:cubicBezTo>
                    <a:pt x="615" y="796"/>
                    <a:pt x="673" y="754"/>
                    <a:pt x="717" y="698"/>
                  </a:cubicBezTo>
                  <a:cubicBezTo>
                    <a:pt x="762" y="642"/>
                    <a:pt x="791" y="575"/>
                    <a:pt x="802" y="502"/>
                  </a:cubicBezTo>
                  <a:cubicBezTo>
                    <a:pt x="813" y="430"/>
                    <a:pt x="805" y="355"/>
                    <a:pt x="779" y="285"/>
                  </a:cubicBezTo>
                  <a:cubicBezTo>
                    <a:pt x="754" y="215"/>
                    <a:pt x="712" y="152"/>
                    <a:pt x="657" y="104"/>
                  </a:cubicBezTo>
                  <a:cubicBezTo>
                    <a:pt x="601" y="55"/>
                    <a:pt x="536" y="22"/>
                    <a:pt x="466" y="8"/>
                  </a:cubicBezTo>
                  <a:cubicBezTo>
                    <a:pt x="396" y="-6"/>
                    <a:pt x="324" y="-1"/>
                    <a:pt x="258" y="23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289320" y="3456000"/>
              <a:ext cx="946440" cy="952920"/>
            </a:xfrm>
            <a:custGeom>
              <a:avLst/>
              <a:gdLst/>
              <a:ahLst/>
              <a:rect l="0" t="0" r="r" b="b"/>
              <a:pathLst>
                <a:path w="2629" h="2647">
                  <a:moveTo>
                    <a:pt x="2219" y="0"/>
                  </a:moveTo>
                  <a:lnTo>
                    <a:pt x="1998" y="198"/>
                  </a:lnTo>
                  <a:lnTo>
                    <a:pt x="1738" y="1032"/>
                  </a:lnTo>
                  <a:lnTo>
                    <a:pt x="1495" y="1654"/>
                  </a:lnTo>
                  <a:lnTo>
                    <a:pt x="0" y="1786"/>
                  </a:lnTo>
                  <a:lnTo>
                    <a:pt x="167" y="2647"/>
                  </a:lnTo>
                  <a:lnTo>
                    <a:pt x="2095" y="2325"/>
                  </a:lnTo>
                  <a:lnTo>
                    <a:pt x="2607" y="657"/>
                  </a:lnTo>
                  <a:lnTo>
                    <a:pt x="2629" y="233"/>
                  </a:lnTo>
                  <a:lnTo>
                    <a:pt x="2430" y="8"/>
                  </a:lnTo>
                  <a:lnTo>
                    <a:pt x="2219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3860640" y="4788000"/>
            <a:ext cx="914760" cy="1384560"/>
            <a:chOff x="3860640" y="4788000"/>
            <a:chExt cx="914760" cy="1384560"/>
          </a:xfrm>
        </p:grpSpPr>
        <p:sp>
          <p:nvSpPr>
            <p:cNvPr id="480" name=""/>
            <p:cNvSpPr/>
            <p:nvPr/>
          </p:nvSpPr>
          <p:spPr>
            <a:xfrm>
              <a:off x="3860640" y="4788000"/>
              <a:ext cx="914760" cy="1384560"/>
            </a:xfrm>
            <a:custGeom>
              <a:avLst/>
              <a:gdLst/>
              <a:ahLst/>
              <a:rect l="0" t="0" r="r" b="b"/>
              <a:pathLst>
                <a:path w="2541" h="3846">
                  <a:moveTo>
                    <a:pt x="635" y="35"/>
                  </a:moveTo>
                  <a:lnTo>
                    <a:pt x="0" y="2152"/>
                  </a:lnTo>
                  <a:lnTo>
                    <a:pt x="846" y="3846"/>
                  </a:lnTo>
                  <a:lnTo>
                    <a:pt x="1482" y="3846"/>
                  </a:lnTo>
                  <a:lnTo>
                    <a:pt x="1623" y="3846"/>
                  </a:lnTo>
                  <a:lnTo>
                    <a:pt x="811" y="2047"/>
                  </a:lnTo>
                  <a:lnTo>
                    <a:pt x="1164" y="846"/>
                  </a:lnTo>
                  <a:lnTo>
                    <a:pt x="776" y="2082"/>
                  </a:lnTo>
                  <a:lnTo>
                    <a:pt x="1623" y="3811"/>
                  </a:lnTo>
                  <a:lnTo>
                    <a:pt x="2435" y="3811"/>
                  </a:lnTo>
                  <a:lnTo>
                    <a:pt x="1659" y="2152"/>
                  </a:lnTo>
                  <a:lnTo>
                    <a:pt x="1764" y="1693"/>
                  </a:lnTo>
                  <a:lnTo>
                    <a:pt x="2541" y="0"/>
                  </a:lnTo>
                  <a:lnTo>
                    <a:pt x="635" y="35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057560" y="4952880"/>
              <a:ext cx="133560" cy="322560"/>
            </a:xfrm>
            <a:custGeom>
              <a:avLst/>
              <a:gdLst/>
              <a:ahLst/>
              <a:rect l="0" t="0" r="r" b="b"/>
              <a:pathLst>
                <a:path w="371" h="896">
                  <a:moveTo>
                    <a:pt x="186" y="22"/>
                  </a:moveTo>
                  <a:lnTo>
                    <a:pt x="165" y="114"/>
                  </a:lnTo>
                  <a:lnTo>
                    <a:pt x="121" y="187"/>
                  </a:lnTo>
                  <a:lnTo>
                    <a:pt x="63" y="397"/>
                  </a:lnTo>
                  <a:lnTo>
                    <a:pt x="0" y="613"/>
                  </a:lnTo>
                  <a:lnTo>
                    <a:pt x="19" y="681"/>
                  </a:lnTo>
                  <a:lnTo>
                    <a:pt x="63" y="731"/>
                  </a:lnTo>
                  <a:lnTo>
                    <a:pt x="102" y="777"/>
                  </a:lnTo>
                  <a:lnTo>
                    <a:pt x="165" y="823"/>
                  </a:lnTo>
                  <a:lnTo>
                    <a:pt x="230" y="850"/>
                  </a:lnTo>
                  <a:lnTo>
                    <a:pt x="269" y="850"/>
                  </a:lnTo>
                  <a:lnTo>
                    <a:pt x="269" y="873"/>
                  </a:lnTo>
                  <a:lnTo>
                    <a:pt x="269" y="896"/>
                  </a:lnTo>
                  <a:lnTo>
                    <a:pt x="230" y="896"/>
                  </a:lnTo>
                  <a:lnTo>
                    <a:pt x="165" y="873"/>
                  </a:lnTo>
                  <a:lnTo>
                    <a:pt x="165" y="658"/>
                  </a:lnTo>
                  <a:lnTo>
                    <a:pt x="146" y="635"/>
                  </a:lnTo>
                  <a:lnTo>
                    <a:pt x="146" y="613"/>
                  </a:lnTo>
                  <a:lnTo>
                    <a:pt x="186" y="590"/>
                  </a:lnTo>
                  <a:lnTo>
                    <a:pt x="249" y="539"/>
                  </a:lnTo>
                  <a:lnTo>
                    <a:pt x="312" y="517"/>
                  </a:lnTo>
                  <a:lnTo>
                    <a:pt x="351" y="517"/>
                  </a:lnTo>
                  <a:lnTo>
                    <a:pt x="371" y="471"/>
                  </a:lnTo>
                  <a:lnTo>
                    <a:pt x="371" y="424"/>
                  </a:lnTo>
                  <a:lnTo>
                    <a:pt x="351" y="397"/>
                  </a:lnTo>
                  <a:lnTo>
                    <a:pt x="288" y="374"/>
                  </a:lnTo>
                  <a:lnTo>
                    <a:pt x="249" y="397"/>
                  </a:lnTo>
                  <a:lnTo>
                    <a:pt x="230" y="447"/>
                  </a:lnTo>
                  <a:lnTo>
                    <a:pt x="186" y="517"/>
                  </a:lnTo>
                  <a:lnTo>
                    <a:pt x="121" y="447"/>
                  </a:lnTo>
                  <a:lnTo>
                    <a:pt x="102" y="424"/>
                  </a:lnTo>
                  <a:lnTo>
                    <a:pt x="146" y="374"/>
                  </a:lnTo>
                  <a:lnTo>
                    <a:pt x="205" y="328"/>
                  </a:lnTo>
                  <a:lnTo>
                    <a:pt x="230" y="306"/>
                  </a:lnTo>
                  <a:lnTo>
                    <a:pt x="249" y="283"/>
                  </a:lnTo>
                  <a:lnTo>
                    <a:pt x="332" y="0"/>
                  </a:lnTo>
                  <a:lnTo>
                    <a:pt x="312" y="45"/>
                  </a:lnTo>
                  <a:lnTo>
                    <a:pt x="249" y="91"/>
                  </a:lnTo>
                  <a:lnTo>
                    <a:pt x="205" y="91"/>
                  </a:lnTo>
                  <a:lnTo>
                    <a:pt x="186" y="68"/>
                  </a:lnTo>
                  <a:lnTo>
                    <a:pt x="186" y="22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349880" y="5238720"/>
              <a:ext cx="105120" cy="235440"/>
            </a:xfrm>
            <a:custGeom>
              <a:avLst/>
              <a:gdLst/>
              <a:ahLst/>
              <a:rect l="0" t="0" r="r" b="b"/>
              <a:pathLst>
                <a:path w="292" h="654">
                  <a:moveTo>
                    <a:pt x="145" y="97"/>
                  </a:moveTo>
                  <a:lnTo>
                    <a:pt x="104" y="169"/>
                  </a:lnTo>
                  <a:lnTo>
                    <a:pt x="81" y="218"/>
                  </a:lnTo>
                  <a:lnTo>
                    <a:pt x="63" y="267"/>
                  </a:lnTo>
                  <a:lnTo>
                    <a:pt x="40" y="338"/>
                  </a:lnTo>
                  <a:lnTo>
                    <a:pt x="22" y="387"/>
                  </a:lnTo>
                  <a:lnTo>
                    <a:pt x="0" y="436"/>
                  </a:lnTo>
                  <a:lnTo>
                    <a:pt x="0" y="436"/>
                  </a:lnTo>
                  <a:lnTo>
                    <a:pt x="40" y="508"/>
                  </a:lnTo>
                  <a:lnTo>
                    <a:pt x="81" y="583"/>
                  </a:lnTo>
                  <a:lnTo>
                    <a:pt x="210" y="654"/>
                  </a:lnTo>
                  <a:lnTo>
                    <a:pt x="169" y="605"/>
                  </a:lnTo>
                  <a:lnTo>
                    <a:pt x="145" y="556"/>
                  </a:lnTo>
                  <a:lnTo>
                    <a:pt x="145" y="534"/>
                  </a:lnTo>
                  <a:lnTo>
                    <a:pt x="187" y="458"/>
                  </a:lnTo>
                  <a:lnTo>
                    <a:pt x="145" y="436"/>
                  </a:lnTo>
                  <a:lnTo>
                    <a:pt x="145" y="387"/>
                  </a:lnTo>
                  <a:lnTo>
                    <a:pt x="169" y="365"/>
                  </a:lnTo>
                  <a:lnTo>
                    <a:pt x="210" y="338"/>
                  </a:lnTo>
                  <a:lnTo>
                    <a:pt x="251" y="289"/>
                  </a:lnTo>
                  <a:lnTo>
                    <a:pt x="292" y="240"/>
                  </a:lnTo>
                  <a:lnTo>
                    <a:pt x="292" y="218"/>
                  </a:lnTo>
                  <a:lnTo>
                    <a:pt x="292" y="169"/>
                  </a:lnTo>
                  <a:lnTo>
                    <a:pt x="273" y="97"/>
                  </a:lnTo>
                  <a:lnTo>
                    <a:pt x="210" y="26"/>
                  </a:lnTo>
                  <a:lnTo>
                    <a:pt x="169" y="0"/>
                  </a:lnTo>
                  <a:lnTo>
                    <a:pt x="169" y="26"/>
                  </a:lnTo>
                  <a:lnTo>
                    <a:pt x="145" y="48"/>
                  </a:lnTo>
                  <a:lnTo>
                    <a:pt x="145" y="97"/>
                  </a:lnTo>
                  <a:lnTo>
                    <a:pt x="145" y="119"/>
                  </a:lnTo>
                  <a:lnTo>
                    <a:pt x="145" y="119"/>
                  </a:lnTo>
                  <a:lnTo>
                    <a:pt x="145" y="97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3795840" y="1601640"/>
            <a:ext cx="1081080" cy="3275640"/>
            <a:chOff x="3795840" y="1601640"/>
            <a:chExt cx="1081080" cy="3275640"/>
          </a:xfrm>
        </p:grpSpPr>
        <p:sp>
          <p:nvSpPr>
            <p:cNvPr id="484" name=""/>
            <p:cNvSpPr/>
            <p:nvPr/>
          </p:nvSpPr>
          <p:spPr>
            <a:xfrm>
              <a:off x="3895560" y="3276720"/>
              <a:ext cx="981360" cy="1600560"/>
            </a:xfrm>
            <a:custGeom>
              <a:avLst/>
              <a:gdLst/>
              <a:ahLst/>
              <a:rect l="0" t="0" r="r" b="b"/>
              <a:pathLst>
                <a:path w="2726" h="4446">
                  <a:moveTo>
                    <a:pt x="953" y="374"/>
                  </a:moveTo>
                  <a:lnTo>
                    <a:pt x="865" y="392"/>
                  </a:lnTo>
                  <a:lnTo>
                    <a:pt x="799" y="436"/>
                  </a:lnTo>
                  <a:lnTo>
                    <a:pt x="672" y="582"/>
                  </a:lnTo>
                  <a:lnTo>
                    <a:pt x="540" y="723"/>
                  </a:lnTo>
                  <a:lnTo>
                    <a:pt x="391" y="851"/>
                  </a:lnTo>
                  <a:lnTo>
                    <a:pt x="369" y="890"/>
                  </a:lnTo>
                  <a:lnTo>
                    <a:pt x="347" y="930"/>
                  </a:lnTo>
                  <a:lnTo>
                    <a:pt x="347" y="930"/>
                  </a:lnTo>
                  <a:lnTo>
                    <a:pt x="369" y="930"/>
                  </a:lnTo>
                  <a:lnTo>
                    <a:pt x="153" y="1553"/>
                  </a:lnTo>
                  <a:lnTo>
                    <a:pt x="0" y="4345"/>
                  </a:lnTo>
                  <a:lnTo>
                    <a:pt x="2726" y="4446"/>
                  </a:lnTo>
                  <a:lnTo>
                    <a:pt x="2317" y="1844"/>
                  </a:lnTo>
                  <a:lnTo>
                    <a:pt x="2119" y="414"/>
                  </a:lnTo>
                  <a:lnTo>
                    <a:pt x="1385" y="0"/>
                  </a:lnTo>
                  <a:lnTo>
                    <a:pt x="953" y="374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3795840" y="1601640"/>
              <a:ext cx="1005120" cy="1818000"/>
              <a:chOff x="3795840" y="1601640"/>
              <a:chExt cx="1005120" cy="1818000"/>
            </a:xfrm>
          </p:grpSpPr>
          <p:sp>
            <p:nvSpPr>
              <p:cNvPr id="486" name=""/>
              <p:cNvSpPr/>
              <p:nvPr/>
            </p:nvSpPr>
            <p:spPr>
              <a:xfrm>
                <a:off x="3905280" y="1838160"/>
                <a:ext cx="895680" cy="1581480"/>
              </a:xfrm>
              <a:custGeom>
                <a:avLst/>
                <a:gdLst/>
                <a:ahLst/>
                <a:rect l="0" t="0" r="r" b="b"/>
                <a:pathLst>
                  <a:path w="2488" h="4393">
                    <a:moveTo>
                      <a:pt x="582" y="0"/>
                    </a:moveTo>
                    <a:lnTo>
                      <a:pt x="264" y="264"/>
                    </a:lnTo>
                    <a:lnTo>
                      <a:pt x="79" y="687"/>
                    </a:lnTo>
                    <a:lnTo>
                      <a:pt x="26" y="1217"/>
                    </a:lnTo>
                    <a:lnTo>
                      <a:pt x="0" y="2699"/>
                    </a:lnTo>
                    <a:lnTo>
                      <a:pt x="52" y="3546"/>
                    </a:lnTo>
                    <a:lnTo>
                      <a:pt x="820" y="3599"/>
                    </a:lnTo>
                    <a:lnTo>
                      <a:pt x="926" y="4075"/>
                    </a:lnTo>
                    <a:lnTo>
                      <a:pt x="1031" y="4393"/>
                    </a:lnTo>
                    <a:lnTo>
                      <a:pt x="1271" y="4393"/>
                    </a:lnTo>
                    <a:lnTo>
                      <a:pt x="1403" y="4102"/>
                    </a:lnTo>
                    <a:lnTo>
                      <a:pt x="1323" y="3599"/>
                    </a:lnTo>
                    <a:lnTo>
                      <a:pt x="2038" y="3519"/>
                    </a:lnTo>
                    <a:lnTo>
                      <a:pt x="2064" y="3017"/>
                    </a:lnTo>
                    <a:lnTo>
                      <a:pt x="2223" y="3096"/>
                    </a:lnTo>
                    <a:lnTo>
                      <a:pt x="2382" y="3043"/>
                    </a:lnTo>
                    <a:lnTo>
                      <a:pt x="2488" y="2620"/>
                    </a:lnTo>
                    <a:lnTo>
                      <a:pt x="2355" y="2408"/>
                    </a:lnTo>
                    <a:lnTo>
                      <a:pt x="2197" y="2435"/>
                    </a:lnTo>
                    <a:lnTo>
                      <a:pt x="2355" y="185"/>
                    </a:lnTo>
                    <a:lnTo>
                      <a:pt x="582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795840" y="2281320"/>
                <a:ext cx="409680" cy="4096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148280" y="2243160"/>
                <a:ext cx="485640" cy="4856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338720" y="2443320"/>
                <a:ext cx="85680" cy="85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4560" bIns="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929040" y="2452680"/>
                <a:ext cx="85680" cy="85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4560" bIns="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135320" y="1630440"/>
                <a:ext cx="7920" cy="217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V="1">
                <a:off x="4249800" y="1611360"/>
                <a:ext cx="17280" cy="217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V="1">
                <a:off x="4411800" y="1601640"/>
                <a:ext cx="36360" cy="227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>
                <a:off x="4573440" y="1649520"/>
                <a:ext cx="55800" cy="198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>
                <a:off x="4716360" y="1677960"/>
                <a:ext cx="55800" cy="179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895560" y="2790720"/>
                <a:ext cx="657720" cy="257400"/>
              </a:xfrm>
              <a:custGeom>
                <a:avLst/>
                <a:gdLst/>
                <a:ahLst/>
                <a:rect l="0" t="0" r="r" b="b"/>
                <a:pathLst>
                  <a:path w="1827" h="715">
                    <a:moveTo>
                      <a:pt x="0" y="0"/>
                    </a:moveTo>
                    <a:lnTo>
                      <a:pt x="1827" y="163"/>
                    </a:lnTo>
                    <a:lnTo>
                      <a:pt x="746" y="7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4191120" y="3286080"/>
              <a:ext cx="305280" cy="181440"/>
            </a:xfrm>
            <a:custGeom>
              <a:avLst/>
              <a:gdLst/>
              <a:ahLst/>
              <a:rect l="0" t="0" r="r" b="b"/>
              <a:pathLst>
                <a:path w="848" h="504">
                  <a:moveTo>
                    <a:pt x="0" y="344"/>
                  </a:moveTo>
                  <a:lnTo>
                    <a:pt x="239" y="478"/>
                  </a:lnTo>
                  <a:lnTo>
                    <a:pt x="663" y="504"/>
                  </a:lnTo>
                  <a:lnTo>
                    <a:pt x="848" y="265"/>
                  </a:lnTo>
                  <a:lnTo>
                    <a:pt x="848" y="79"/>
                  </a:lnTo>
                  <a:lnTo>
                    <a:pt x="663" y="0"/>
                  </a:lnTo>
                  <a:lnTo>
                    <a:pt x="477" y="265"/>
                  </a:lnTo>
                  <a:lnTo>
                    <a:pt x="185" y="292"/>
                  </a:lnTo>
                  <a:lnTo>
                    <a:pt x="0" y="344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3994200" y="6105600"/>
            <a:ext cx="752760" cy="209880"/>
          </a:xfrm>
          <a:custGeom>
            <a:avLst/>
            <a:gdLst/>
            <a:ahLst/>
            <a:rect l="0" t="0" r="r" b="b"/>
            <a:pathLst>
              <a:path w="2091" h="583">
                <a:moveTo>
                  <a:pt x="1376" y="185"/>
                </a:moveTo>
                <a:lnTo>
                  <a:pt x="978" y="52"/>
                </a:lnTo>
                <a:lnTo>
                  <a:pt x="714" y="0"/>
                </a:lnTo>
                <a:lnTo>
                  <a:pt x="423" y="105"/>
                </a:lnTo>
                <a:lnTo>
                  <a:pt x="132" y="264"/>
                </a:lnTo>
                <a:lnTo>
                  <a:pt x="0" y="477"/>
                </a:lnTo>
                <a:lnTo>
                  <a:pt x="185" y="583"/>
                </a:lnTo>
                <a:lnTo>
                  <a:pt x="2091" y="583"/>
                </a:lnTo>
                <a:lnTo>
                  <a:pt x="2091" y="185"/>
                </a:lnTo>
                <a:lnTo>
                  <a:pt x="1376" y="185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4019400" y="3886200"/>
            <a:ext cx="756000" cy="983160"/>
            <a:chOff x="4019400" y="3886200"/>
            <a:chExt cx="756000" cy="983160"/>
          </a:xfrm>
        </p:grpSpPr>
        <p:sp>
          <p:nvSpPr>
            <p:cNvPr id="500" name=""/>
            <p:cNvSpPr/>
            <p:nvPr/>
          </p:nvSpPr>
          <p:spPr>
            <a:xfrm>
              <a:off x="4200480" y="4233960"/>
              <a:ext cx="276480" cy="562320"/>
            </a:xfrm>
            <a:custGeom>
              <a:avLst/>
              <a:gdLst/>
              <a:ahLst/>
              <a:rect l="0" t="0" r="r" b="b"/>
              <a:pathLst>
                <a:path w="768" h="1562">
                  <a:moveTo>
                    <a:pt x="196" y="62"/>
                  </a:moveTo>
                  <a:lnTo>
                    <a:pt x="235" y="22"/>
                  </a:lnTo>
                  <a:lnTo>
                    <a:pt x="274" y="0"/>
                  </a:lnTo>
                  <a:lnTo>
                    <a:pt x="313" y="22"/>
                  </a:lnTo>
                  <a:lnTo>
                    <a:pt x="374" y="40"/>
                  </a:lnTo>
                  <a:lnTo>
                    <a:pt x="471" y="0"/>
                  </a:lnTo>
                  <a:lnTo>
                    <a:pt x="511" y="0"/>
                  </a:lnTo>
                  <a:lnTo>
                    <a:pt x="572" y="0"/>
                  </a:lnTo>
                  <a:lnTo>
                    <a:pt x="572" y="62"/>
                  </a:lnTo>
                  <a:lnTo>
                    <a:pt x="572" y="80"/>
                  </a:lnTo>
                  <a:lnTo>
                    <a:pt x="511" y="142"/>
                  </a:lnTo>
                  <a:lnTo>
                    <a:pt x="532" y="227"/>
                  </a:lnTo>
                  <a:lnTo>
                    <a:pt x="532" y="289"/>
                  </a:lnTo>
                  <a:lnTo>
                    <a:pt x="572" y="330"/>
                  </a:lnTo>
                  <a:lnTo>
                    <a:pt x="611" y="392"/>
                  </a:lnTo>
                  <a:lnTo>
                    <a:pt x="589" y="535"/>
                  </a:lnTo>
                  <a:lnTo>
                    <a:pt x="550" y="637"/>
                  </a:lnTo>
                  <a:lnTo>
                    <a:pt x="589" y="700"/>
                  </a:lnTo>
                  <a:lnTo>
                    <a:pt x="650" y="780"/>
                  </a:lnTo>
                  <a:lnTo>
                    <a:pt x="707" y="861"/>
                  </a:lnTo>
                  <a:lnTo>
                    <a:pt x="729" y="924"/>
                  </a:lnTo>
                  <a:lnTo>
                    <a:pt x="746" y="986"/>
                  </a:lnTo>
                  <a:lnTo>
                    <a:pt x="768" y="1026"/>
                  </a:lnTo>
                  <a:lnTo>
                    <a:pt x="768" y="1026"/>
                  </a:lnTo>
                  <a:lnTo>
                    <a:pt x="746" y="1174"/>
                  </a:lnTo>
                  <a:lnTo>
                    <a:pt x="729" y="1294"/>
                  </a:lnTo>
                  <a:lnTo>
                    <a:pt x="707" y="1419"/>
                  </a:lnTo>
                  <a:lnTo>
                    <a:pt x="668" y="1562"/>
                  </a:lnTo>
                  <a:lnTo>
                    <a:pt x="668" y="1521"/>
                  </a:lnTo>
                  <a:lnTo>
                    <a:pt x="668" y="1481"/>
                  </a:lnTo>
                  <a:lnTo>
                    <a:pt x="689" y="1437"/>
                  </a:lnTo>
                  <a:lnTo>
                    <a:pt x="689" y="1419"/>
                  </a:lnTo>
                  <a:lnTo>
                    <a:pt x="668" y="1356"/>
                  </a:lnTo>
                  <a:lnTo>
                    <a:pt x="650" y="1276"/>
                  </a:lnTo>
                  <a:lnTo>
                    <a:pt x="668" y="1214"/>
                  </a:lnTo>
                  <a:lnTo>
                    <a:pt x="689" y="1191"/>
                  </a:lnTo>
                  <a:lnTo>
                    <a:pt x="689" y="1174"/>
                  </a:lnTo>
                  <a:lnTo>
                    <a:pt x="668" y="1049"/>
                  </a:lnTo>
                  <a:lnTo>
                    <a:pt x="628" y="986"/>
                  </a:lnTo>
                  <a:lnTo>
                    <a:pt x="589" y="946"/>
                  </a:lnTo>
                  <a:lnTo>
                    <a:pt x="550" y="884"/>
                  </a:lnTo>
                  <a:lnTo>
                    <a:pt x="511" y="821"/>
                  </a:lnTo>
                  <a:lnTo>
                    <a:pt x="471" y="861"/>
                  </a:lnTo>
                  <a:lnTo>
                    <a:pt x="432" y="884"/>
                  </a:lnTo>
                  <a:lnTo>
                    <a:pt x="393" y="906"/>
                  </a:lnTo>
                  <a:lnTo>
                    <a:pt x="374" y="924"/>
                  </a:lnTo>
                  <a:lnTo>
                    <a:pt x="353" y="924"/>
                  </a:lnTo>
                  <a:lnTo>
                    <a:pt x="353" y="843"/>
                  </a:lnTo>
                  <a:lnTo>
                    <a:pt x="353" y="821"/>
                  </a:lnTo>
                  <a:lnTo>
                    <a:pt x="353" y="803"/>
                  </a:lnTo>
                  <a:lnTo>
                    <a:pt x="374" y="758"/>
                  </a:lnTo>
                  <a:lnTo>
                    <a:pt x="393" y="718"/>
                  </a:lnTo>
                  <a:lnTo>
                    <a:pt x="393" y="718"/>
                  </a:lnTo>
                  <a:lnTo>
                    <a:pt x="393" y="740"/>
                  </a:lnTo>
                  <a:lnTo>
                    <a:pt x="393" y="758"/>
                  </a:lnTo>
                  <a:lnTo>
                    <a:pt x="374" y="780"/>
                  </a:lnTo>
                  <a:lnTo>
                    <a:pt x="335" y="758"/>
                  </a:lnTo>
                  <a:lnTo>
                    <a:pt x="313" y="740"/>
                  </a:lnTo>
                  <a:lnTo>
                    <a:pt x="296" y="740"/>
                  </a:lnTo>
                  <a:lnTo>
                    <a:pt x="274" y="758"/>
                  </a:lnTo>
                  <a:lnTo>
                    <a:pt x="257" y="780"/>
                  </a:lnTo>
                  <a:lnTo>
                    <a:pt x="196" y="718"/>
                  </a:lnTo>
                  <a:lnTo>
                    <a:pt x="178" y="780"/>
                  </a:lnTo>
                  <a:lnTo>
                    <a:pt x="156" y="803"/>
                  </a:lnTo>
                  <a:lnTo>
                    <a:pt x="117" y="780"/>
                  </a:lnTo>
                  <a:lnTo>
                    <a:pt x="39" y="758"/>
                  </a:lnTo>
                  <a:lnTo>
                    <a:pt x="17" y="740"/>
                  </a:lnTo>
                  <a:lnTo>
                    <a:pt x="0" y="700"/>
                  </a:lnTo>
                  <a:lnTo>
                    <a:pt x="17" y="677"/>
                  </a:lnTo>
                  <a:lnTo>
                    <a:pt x="39" y="677"/>
                  </a:lnTo>
                  <a:lnTo>
                    <a:pt x="117" y="700"/>
                  </a:lnTo>
                  <a:lnTo>
                    <a:pt x="196" y="718"/>
                  </a:lnTo>
                  <a:lnTo>
                    <a:pt x="196" y="718"/>
                  </a:lnTo>
                  <a:lnTo>
                    <a:pt x="178" y="700"/>
                  </a:lnTo>
                  <a:lnTo>
                    <a:pt x="156" y="677"/>
                  </a:lnTo>
                  <a:lnTo>
                    <a:pt x="139" y="655"/>
                  </a:lnTo>
                  <a:lnTo>
                    <a:pt x="139" y="637"/>
                  </a:lnTo>
                  <a:lnTo>
                    <a:pt x="139" y="597"/>
                  </a:lnTo>
                  <a:lnTo>
                    <a:pt x="156" y="553"/>
                  </a:lnTo>
                  <a:lnTo>
                    <a:pt x="178" y="535"/>
                  </a:lnTo>
                  <a:lnTo>
                    <a:pt x="178" y="472"/>
                  </a:lnTo>
                  <a:lnTo>
                    <a:pt x="178" y="410"/>
                  </a:lnTo>
                  <a:lnTo>
                    <a:pt x="178" y="267"/>
                  </a:lnTo>
                  <a:lnTo>
                    <a:pt x="139" y="227"/>
                  </a:lnTo>
                  <a:lnTo>
                    <a:pt x="117" y="205"/>
                  </a:lnTo>
                  <a:lnTo>
                    <a:pt x="117" y="182"/>
                  </a:lnTo>
                  <a:lnTo>
                    <a:pt x="139" y="165"/>
                  </a:lnTo>
                  <a:lnTo>
                    <a:pt x="156" y="142"/>
                  </a:lnTo>
                  <a:lnTo>
                    <a:pt x="156" y="124"/>
                  </a:lnTo>
                  <a:lnTo>
                    <a:pt x="196" y="62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417920" y="3987720"/>
              <a:ext cx="174960" cy="165600"/>
            </a:xfrm>
            <a:custGeom>
              <a:avLst/>
              <a:gdLst/>
              <a:ahLst/>
              <a:rect l="0" t="0" r="r" b="b"/>
              <a:pathLst>
                <a:path w="486" h="460">
                  <a:moveTo>
                    <a:pt x="100" y="271"/>
                  </a:moveTo>
                  <a:lnTo>
                    <a:pt x="100" y="189"/>
                  </a:lnTo>
                  <a:lnTo>
                    <a:pt x="150" y="102"/>
                  </a:lnTo>
                  <a:lnTo>
                    <a:pt x="257" y="51"/>
                  </a:lnTo>
                  <a:lnTo>
                    <a:pt x="357" y="0"/>
                  </a:lnTo>
                  <a:lnTo>
                    <a:pt x="413" y="34"/>
                  </a:lnTo>
                  <a:lnTo>
                    <a:pt x="486" y="85"/>
                  </a:lnTo>
                  <a:lnTo>
                    <a:pt x="486" y="121"/>
                  </a:lnTo>
                  <a:lnTo>
                    <a:pt x="486" y="121"/>
                  </a:lnTo>
                  <a:lnTo>
                    <a:pt x="435" y="121"/>
                  </a:lnTo>
                  <a:lnTo>
                    <a:pt x="335" y="172"/>
                  </a:lnTo>
                  <a:lnTo>
                    <a:pt x="228" y="241"/>
                  </a:lnTo>
                  <a:lnTo>
                    <a:pt x="206" y="322"/>
                  </a:lnTo>
                  <a:lnTo>
                    <a:pt x="206" y="357"/>
                  </a:lnTo>
                  <a:lnTo>
                    <a:pt x="178" y="392"/>
                  </a:lnTo>
                  <a:lnTo>
                    <a:pt x="150" y="426"/>
                  </a:lnTo>
                  <a:lnTo>
                    <a:pt x="100" y="443"/>
                  </a:lnTo>
                  <a:lnTo>
                    <a:pt x="72" y="460"/>
                  </a:lnTo>
                  <a:lnTo>
                    <a:pt x="50" y="460"/>
                  </a:lnTo>
                  <a:lnTo>
                    <a:pt x="0" y="426"/>
                  </a:lnTo>
                  <a:lnTo>
                    <a:pt x="0" y="392"/>
                  </a:lnTo>
                  <a:lnTo>
                    <a:pt x="22" y="374"/>
                  </a:lnTo>
                  <a:lnTo>
                    <a:pt x="50" y="305"/>
                  </a:lnTo>
                  <a:lnTo>
                    <a:pt x="72" y="288"/>
                  </a:lnTo>
                  <a:lnTo>
                    <a:pt x="100" y="288"/>
                  </a:lnTo>
                  <a:lnTo>
                    <a:pt x="100" y="271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019400" y="4159080"/>
              <a:ext cx="201960" cy="267120"/>
            </a:xfrm>
            <a:custGeom>
              <a:avLst/>
              <a:gdLst/>
              <a:ahLst/>
              <a:rect l="0" t="0" r="r" b="b"/>
              <a:pathLst>
                <a:path w="561" h="742">
                  <a:moveTo>
                    <a:pt x="424" y="581"/>
                  </a:moveTo>
                  <a:lnTo>
                    <a:pt x="315" y="442"/>
                  </a:lnTo>
                  <a:lnTo>
                    <a:pt x="204" y="281"/>
                  </a:lnTo>
                  <a:lnTo>
                    <a:pt x="204" y="200"/>
                  </a:lnTo>
                  <a:lnTo>
                    <a:pt x="204" y="118"/>
                  </a:lnTo>
                  <a:lnTo>
                    <a:pt x="245" y="56"/>
                  </a:lnTo>
                  <a:lnTo>
                    <a:pt x="315" y="0"/>
                  </a:lnTo>
                  <a:lnTo>
                    <a:pt x="335" y="37"/>
                  </a:lnTo>
                  <a:lnTo>
                    <a:pt x="383" y="56"/>
                  </a:lnTo>
                  <a:lnTo>
                    <a:pt x="404" y="99"/>
                  </a:lnTo>
                  <a:lnTo>
                    <a:pt x="404" y="118"/>
                  </a:lnTo>
                  <a:lnTo>
                    <a:pt x="294" y="161"/>
                  </a:lnTo>
                  <a:lnTo>
                    <a:pt x="177" y="200"/>
                  </a:lnTo>
                  <a:lnTo>
                    <a:pt x="225" y="219"/>
                  </a:lnTo>
                  <a:lnTo>
                    <a:pt x="245" y="219"/>
                  </a:lnTo>
                  <a:lnTo>
                    <a:pt x="294" y="219"/>
                  </a:lnTo>
                  <a:lnTo>
                    <a:pt x="315" y="219"/>
                  </a:lnTo>
                  <a:lnTo>
                    <a:pt x="356" y="243"/>
                  </a:lnTo>
                  <a:lnTo>
                    <a:pt x="445" y="262"/>
                  </a:lnTo>
                  <a:lnTo>
                    <a:pt x="472" y="281"/>
                  </a:lnTo>
                  <a:lnTo>
                    <a:pt x="492" y="281"/>
                  </a:lnTo>
                  <a:lnTo>
                    <a:pt x="534" y="361"/>
                  </a:lnTo>
                  <a:lnTo>
                    <a:pt x="561" y="442"/>
                  </a:lnTo>
                  <a:lnTo>
                    <a:pt x="534" y="504"/>
                  </a:lnTo>
                  <a:lnTo>
                    <a:pt x="492" y="542"/>
                  </a:lnTo>
                  <a:lnTo>
                    <a:pt x="356" y="605"/>
                  </a:lnTo>
                  <a:lnTo>
                    <a:pt x="204" y="643"/>
                  </a:lnTo>
                  <a:lnTo>
                    <a:pt x="157" y="685"/>
                  </a:lnTo>
                  <a:lnTo>
                    <a:pt x="88" y="723"/>
                  </a:lnTo>
                  <a:lnTo>
                    <a:pt x="47" y="742"/>
                  </a:lnTo>
                  <a:lnTo>
                    <a:pt x="26" y="723"/>
                  </a:lnTo>
                  <a:lnTo>
                    <a:pt x="0" y="685"/>
                  </a:lnTo>
                  <a:lnTo>
                    <a:pt x="88" y="643"/>
                  </a:lnTo>
                  <a:lnTo>
                    <a:pt x="157" y="643"/>
                  </a:lnTo>
                  <a:lnTo>
                    <a:pt x="225" y="624"/>
                  </a:lnTo>
                  <a:lnTo>
                    <a:pt x="315" y="581"/>
                  </a:lnTo>
                  <a:lnTo>
                    <a:pt x="356" y="542"/>
                  </a:lnTo>
                  <a:lnTo>
                    <a:pt x="356" y="523"/>
                  </a:lnTo>
                  <a:lnTo>
                    <a:pt x="383" y="542"/>
                  </a:lnTo>
                  <a:lnTo>
                    <a:pt x="424" y="581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095720" y="4656240"/>
              <a:ext cx="297360" cy="111600"/>
            </a:xfrm>
            <a:custGeom>
              <a:avLst/>
              <a:gdLst/>
              <a:ahLst/>
              <a:rect l="0" t="0" r="r" b="b"/>
              <a:pathLst>
                <a:path w="826" h="310">
                  <a:moveTo>
                    <a:pt x="625" y="67"/>
                  </a:moveTo>
                  <a:lnTo>
                    <a:pt x="559" y="136"/>
                  </a:lnTo>
                  <a:lnTo>
                    <a:pt x="513" y="174"/>
                  </a:lnTo>
                  <a:lnTo>
                    <a:pt x="468" y="106"/>
                  </a:lnTo>
                  <a:lnTo>
                    <a:pt x="403" y="37"/>
                  </a:lnTo>
                  <a:lnTo>
                    <a:pt x="201" y="106"/>
                  </a:lnTo>
                  <a:lnTo>
                    <a:pt x="0" y="211"/>
                  </a:lnTo>
                  <a:lnTo>
                    <a:pt x="20" y="310"/>
                  </a:lnTo>
                  <a:lnTo>
                    <a:pt x="90" y="310"/>
                  </a:lnTo>
                  <a:lnTo>
                    <a:pt x="247" y="310"/>
                  </a:lnTo>
                  <a:lnTo>
                    <a:pt x="267" y="280"/>
                  </a:lnTo>
                  <a:lnTo>
                    <a:pt x="332" y="242"/>
                  </a:lnTo>
                  <a:lnTo>
                    <a:pt x="378" y="211"/>
                  </a:lnTo>
                  <a:lnTo>
                    <a:pt x="403" y="211"/>
                  </a:lnTo>
                  <a:lnTo>
                    <a:pt x="448" y="242"/>
                  </a:lnTo>
                  <a:lnTo>
                    <a:pt x="513" y="280"/>
                  </a:lnTo>
                  <a:lnTo>
                    <a:pt x="559" y="310"/>
                  </a:lnTo>
                  <a:lnTo>
                    <a:pt x="579" y="310"/>
                  </a:lnTo>
                  <a:lnTo>
                    <a:pt x="645" y="310"/>
                  </a:lnTo>
                  <a:lnTo>
                    <a:pt x="715" y="280"/>
                  </a:lnTo>
                  <a:lnTo>
                    <a:pt x="736" y="211"/>
                  </a:lnTo>
                  <a:lnTo>
                    <a:pt x="801" y="67"/>
                  </a:lnTo>
                  <a:lnTo>
                    <a:pt x="826" y="37"/>
                  </a:lnTo>
                  <a:lnTo>
                    <a:pt x="826" y="0"/>
                  </a:lnTo>
                  <a:lnTo>
                    <a:pt x="801" y="37"/>
                  </a:lnTo>
                  <a:lnTo>
                    <a:pt x="761" y="67"/>
                  </a:lnTo>
                  <a:lnTo>
                    <a:pt x="715" y="174"/>
                  </a:lnTo>
                  <a:lnTo>
                    <a:pt x="670" y="242"/>
                  </a:lnTo>
                  <a:lnTo>
                    <a:pt x="645" y="242"/>
                  </a:lnTo>
                  <a:lnTo>
                    <a:pt x="625" y="242"/>
                  </a:lnTo>
                  <a:lnTo>
                    <a:pt x="625" y="174"/>
                  </a:lnTo>
                  <a:lnTo>
                    <a:pt x="625" y="67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084560" y="3886200"/>
              <a:ext cx="279720" cy="230400"/>
            </a:xfrm>
            <a:custGeom>
              <a:avLst/>
              <a:gdLst/>
              <a:ahLst/>
              <a:rect l="0" t="0" r="r" b="b"/>
              <a:pathLst>
                <a:path w="777" h="640">
                  <a:moveTo>
                    <a:pt x="648" y="604"/>
                  </a:moveTo>
                  <a:lnTo>
                    <a:pt x="629" y="427"/>
                  </a:lnTo>
                  <a:lnTo>
                    <a:pt x="629" y="267"/>
                  </a:lnTo>
                  <a:lnTo>
                    <a:pt x="629" y="194"/>
                  </a:lnTo>
                  <a:lnTo>
                    <a:pt x="586" y="122"/>
                  </a:lnTo>
                  <a:lnTo>
                    <a:pt x="543" y="54"/>
                  </a:lnTo>
                  <a:lnTo>
                    <a:pt x="462" y="0"/>
                  </a:lnTo>
                  <a:lnTo>
                    <a:pt x="481" y="122"/>
                  </a:lnTo>
                  <a:lnTo>
                    <a:pt x="524" y="176"/>
                  </a:lnTo>
                  <a:lnTo>
                    <a:pt x="567" y="249"/>
                  </a:lnTo>
                  <a:lnTo>
                    <a:pt x="396" y="336"/>
                  </a:lnTo>
                  <a:lnTo>
                    <a:pt x="228" y="390"/>
                  </a:lnTo>
                  <a:lnTo>
                    <a:pt x="185" y="372"/>
                  </a:lnTo>
                  <a:lnTo>
                    <a:pt x="147" y="354"/>
                  </a:lnTo>
                  <a:lnTo>
                    <a:pt x="104" y="322"/>
                  </a:lnTo>
                  <a:lnTo>
                    <a:pt x="42" y="267"/>
                  </a:lnTo>
                  <a:lnTo>
                    <a:pt x="19" y="213"/>
                  </a:lnTo>
                  <a:lnTo>
                    <a:pt x="0" y="194"/>
                  </a:lnTo>
                  <a:lnTo>
                    <a:pt x="0" y="267"/>
                  </a:lnTo>
                  <a:lnTo>
                    <a:pt x="19" y="303"/>
                  </a:lnTo>
                  <a:lnTo>
                    <a:pt x="80" y="372"/>
                  </a:lnTo>
                  <a:lnTo>
                    <a:pt x="185" y="390"/>
                  </a:lnTo>
                  <a:lnTo>
                    <a:pt x="314" y="409"/>
                  </a:lnTo>
                  <a:lnTo>
                    <a:pt x="357" y="427"/>
                  </a:lnTo>
                  <a:lnTo>
                    <a:pt x="376" y="445"/>
                  </a:lnTo>
                  <a:lnTo>
                    <a:pt x="420" y="481"/>
                  </a:lnTo>
                  <a:lnTo>
                    <a:pt x="439" y="517"/>
                  </a:lnTo>
                  <a:lnTo>
                    <a:pt x="462" y="549"/>
                  </a:lnTo>
                  <a:lnTo>
                    <a:pt x="500" y="567"/>
                  </a:lnTo>
                  <a:lnTo>
                    <a:pt x="567" y="517"/>
                  </a:lnTo>
                  <a:lnTo>
                    <a:pt x="586" y="481"/>
                  </a:lnTo>
                  <a:lnTo>
                    <a:pt x="605" y="427"/>
                  </a:lnTo>
                  <a:lnTo>
                    <a:pt x="629" y="354"/>
                  </a:lnTo>
                  <a:lnTo>
                    <a:pt x="605" y="322"/>
                  </a:lnTo>
                  <a:lnTo>
                    <a:pt x="605" y="322"/>
                  </a:lnTo>
                  <a:lnTo>
                    <a:pt x="586" y="336"/>
                  </a:lnTo>
                  <a:lnTo>
                    <a:pt x="543" y="372"/>
                  </a:lnTo>
                  <a:lnTo>
                    <a:pt x="524" y="427"/>
                  </a:lnTo>
                  <a:lnTo>
                    <a:pt x="605" y="517"/>
                  </a:lnTo>
                  <a:lnTo>
                    <a:pt x="648" y="536"/>
                  </a:lnTo>
                  <a:lnTo>
                    <a:pt x="691" y="549"/>
                  </a:lnTo>
                  <a:lnTo>
                    <a:pt x="710" y="567"/>
                  </a:lnTo>
                  <a:lnTo>
                    <a:pt x="753" y="585"/>
                  </a:lnTo>
                  <a:lnTo>
                    <a:pt x="777" y="585"/>
                  </a:lnTo>
                  <a:lnTo>
                    <a:pt x="777" y="604"/>
                  </a:lnTo>
                  <a:lnTo>
                    <a:pt x="734" y="622"/>
                  </a:lnTo>
                  <a:lnTo>
                    <a:pt x="691" y="622"/>
                  </a:lnTo>
                  <a:lnTo>
                    <a:pt x="586" y="622"/>
                  </a:lnTo>
                  <a:lnTo>
                    <a:pt x="586" y="640"/>
                  </a:lnTo>
                  <a:lnTo>
                    <a:pt x="567" y="640"/>
                  </a:lnTo>
                  <a:lnTo>
                    <a:pt x="543" y="640"/>
                  </a:lnTo>
                  <a:lnTo>
                    <a:pt x="543" y="640"/>
                  </a:lnTo>
                  <a:lnTo>
                    <a:pt x="605" y="622"/>
                  </a:lnTo>
                  <a:lnTo>
                    <a:pt x="648" y="604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254480" y="4562640"/>
              <a:ext cx="520920" cy="306720"/>
            </a:xfrm>
            <a:custGeom>
              <a:avLst/>
              <a:gdLst/>
              <a:ahLst/>
              <a:rect l="0" t="0" r="r" b="b"/>
              <a:pathLst>
                <a:path w="1447" h="852">
                  <a:moveTo>
                    <a:pt x="833" y="197"/>
                  </a:moveTo>
                  <a:lnTo>
                    <a:pt x="792" y="389"/>
                  </a:lnTo>
                  <a:lnTo>
                    <a:pt x="746" y="488"/>
                  </a:lnTo>
                  <a:lnTo>
                    <a:pt x="677" y="561"/>
                  </a:lnTo>
                  <a:lnTo>
                    <a:pt x="591" y="535"/>
                  </a:lnTo>
                  <a:lnTo>
                    <a:pt x="550" y="509"/>
                  </a:lnTo>
                  <a:lnTo>
                    <a:pt x="482" y="509"/>
                  </a:lnTo>
                  <a:lnTo>
                    <a:pt x="395" y="535"/>
                  </a:lnTo>
                  <a:lnTo>
                    <a:pt x="309" y="608"/>
                  </a:lnTo>
                  <a:lnTo>
                    <a:pt x="200" y="634"/>
                  </a:lnTo>
                  <a:lnTo>
                    <a:pt x="0" y="732"/>
                  </a:lnTo>
                  <a:lnTo>
                    <a:pt x="0" y="779"/>
                  </a:lnTo>
                  <a:lnTo>
                    <a:pt x="22" y="826"/>
                  </a:lnTo>
                  <a:lnTo>
                    <a:pt x="109" y="852"/>
                  </a:lnTo>
                  <a:lnTo>
                    <a:pt x="218" y="826"/>
                  </a:lnTo>
                  <a:lnTo>
                    <a:pt x="309" y="805"/>
                  </a:lnTo>
                  <a:lnTo>
                    <a:pt x="527" y="732"/>
                  </a:lnTo>
                  <a:lnTo>
                    <a:pt x="724" y="634"/>
                  </a:lnTo>
                  <a:lnTo>
                    <a:pt x="792" y="634"/>
                  </a:lnTo>
                  <a:lnTo>
                    <a:pt x="856" y="660"/>
                  </a:lnTo>
                  <a:lnTo>
                    <a:pt x="919" y="680"/>
                  </a:lnTo>
                  <a:lnTo>
                    <a:pt x="965" y="732"/>
                  </a:lnTo>
                  <a:lnTo>
                    <a:pt x="1051" y="779"/>
                  </a:lnTo>
                  <a:lnTo>
                    <a:pt x="1074" y="732"/>
                  </a:lnTo>
                  <a:lnTo>
                    <a:pt x="1097" y="706"/>
                  </a:lnTo>
                  <a:lnTo>
                    <a:pt x="1142" y="706"/>
                  </a:lnTo>
                  <a:lnTo>
                    <a:pt x="1206" y="706"/>
                  </a:lnTo>
                  <a:lnTo>
                    <a:pt x="1251" y="706"/>
                  </a:lnTo>
                  <a:lnTo>
                    <a:pt x="1292" y="660"/>
                  </a:lnTo>
                  <a:lnTo>
                    <a:pt x="1338" y="561"/>
                  </a:lnTo>
                  <a:lnTo>
                    <a:pt x="1383" y="436"/>
                  </a:lnTo>
                  <a:lnTo>
                    <a:pt x="1424" y="316"/>
                  </a:lnTo>
                  <a:lnTo>
                    <a:pt x="1447" y="269"/>
                  </a:lnTo>
                  <a:lnTo>
                    <a:pt x="1447" y="243"/>
                  </a:lnTo>
                  <a:lnTo>
                    <a:pt x="1383" y="217"/>
                  </a:lnTo>
                  <a:lnTo>
                    <a:pt x="1292" y="197"/>
                  </a:lnTo>
                  <a:lnTo>
                    <a:pt x="1206" y="171"/>
                  </a:lnTo>
                  <a:lnTo>
                    <a:pt x="1160" y="171"/>
                  </a:lnTo>
                  <a:lnTo>
                    <a:pt x="1119" y="145"/>
                  </a:lnTo>
                  <a:lnTo>
                    <a:pt x="1051" y="124"/>
                  </a:lnTo>
                  <a:lnTo>
                    <a:pt x="1051" y="72"/>
                  </a:lnTo>
                  <a:lnTo>
                    <a:pt x="1033" y="25"/>
                  </a:lnTo>
                  <a:lnTo>
                    <a:pt x="942" y="0"/>
                  </a:lnTo>
                  <a:lnTo>
                    <a:pt x="833" y="0"/>
                  </a:lnTo>
                  <a:lnTo>
                    <a:pt x="746" y="0"/>
                  </a:lnTo>
                  <a:lnTo>
                    <a:pt x="769" y="51"/>
                  </a:lnTo>
                  <a:lnTo>
                    <a:pt x="769" y="72"/>
                  </a:lnTo>
                  <a:lnTo>
                    <a:pt x="833" y="197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5359320" y="4280040"/>
            <a:ext cx="317880" cy="368640"/>
          </a:xfrm>
          <a:custGeom>
            <a:avLst/>
            <a:gdLst/>
            <a:ahLst/>
            <a:rect l="0" t="0" r="r" b="b"/>
            <a:pathLst>
              <a:path w="883" h="1024">
                <a:moveTo>
                  <a:pt x="848" y="0"/>
                </a:moveTo>
                <a:lnTo>
                  <a:pt x="848" y="141"/>
                </a:lnTo>
                <a:lnTo>
                  <a:pt x="883" y="246"/>
                </a:lnTo>
                <a:lnTo>
                  <a:pt x="883" y="352"/>
                </a:lnTo>
                <a:lnTo>
                  <a:pt x="848" y="458"/>
                </a:lnTo>
                <a:lnTo>
                  <a:pt x="813" y="565"/>
                </a:lnTo>
                <a:lnTo>
                  <a:pt x="707" y="671"/>
                </a:lnTo>
                <a:lnTo>
                  <a:pt x="636" y="777"/>
                </a:lnTo>
                <a:lnTo>
                  <a:pt x="565" y="882"/>
                </a:lnTo>
                <a:lnTo>
                  <a:pt x="459" y="918"/>
                </a:lnTo>
                <a:lnTo>
                  <a:pt x="353" y="918"/>
                </a:lnTo>
                <a:lnTo>
                  <a:pt x="247" y="918"/>
                </a:lnTo>
                <a:lnTo>
                  <a:pt x="141" y="988"/>
                </a:lnTo>
                <a:lnTo>
                  <a:pt x="35" y="1024"/>
                </a:lnTo>
                <a:lnTo>
                  <a:pt x="0" y="918"/>
                </a:lnTo>
                <a:lnTo>
                  <a:pt x="105" y="882"/>
                </a:lnTo>
                <a:lnTo>
                  <a:pt x="176" y="777"/>
                </a:lnTo>
                <a:lnTo>
                  <a:pt x="176" y="636"/>
                </a:lnTo>
                <a:lnTo>
                  <a:pt x="283" y="565"/>
                </a:lnTo>
                <a:lnTo>
                  <a:pt x="389" y="493"/>
                </a:lnTo>
                <a:lnTo>
                  <a:pt x="459" y="388"/>
                </a:lnTo>
                <a:lnTo>
                  <a:pt x="494" y="282"/>
                </a:lnTo>
                <a:lnTo>
                  <a:pt x="459" y="176"/>
                </a:lnTo>
                <a:lnTo>
                  <a:pt x="565" y="141"/>
                </a:lnTo>
                <a:lnTo>
                  <a:pt x="672" y="176"/>
                </a:lnTo>
                <a:lnTo>
                  <a:pt x="778" y="141"/>
                </a:lnTo>
                <a:lnTo>
                  <a:pt x="848" y="211"/>
                </a:lnTo>
                <a:lnTo>
                  <a:pt x="848" y="0"/>
                </a:lnTo>
                <a:close/>
              </a:path>
            </a:pathLst>
          </a:custGeom>
          <a:solidFill>
            <a:srgbClr val="ff9999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2209680" y="6126120"/>
            <a:ext cx="1219680" cy="228960"/>
            <a:chOff x="2209680" y="6126120"/>
            <a:chExt cx="1219680" cy="228960"/>
          </a:xfrm>
        </p:grpSpPr>
        <p:sp>
          <p:nvSpPr>
            <p:cNvPr id="508" name=""/>
            <p:cNvSpPr/>
            <p:nvPr/>
          </p:nvSpPr>
          <p:spPr>
            <a:xfrm>
              <a:off x="2209680" y="6153120"/>
              <a:ext cx="1219680" cy="171720"/>
            </a:xfrm>
            <a:custGeom>
              <a:avLst/>
              <a:gdLst/>
              <a:ahLst/>
              <a:rect l="0" t="0" r="r" b="b"/>
              <a:pathLst>
                <a:path w="3388" h="477">
                  <a:moveTo>
                    <a:pt x="1493" y="84"/>
                  </a:moveTo>
                  <a:lnTo>
                    <a:pt x="3388" y="328"/>
                  </a:lnTo>
                  <a:lnTo>
                    <a:pt x="3229" y="412"/>
                  </a:lnTo>
                  <a:lnTo>
                    <a:pt x="2938" y="477"/>
                  </a:lnTo>
                  <a:lnTo>
                    <a:pt x="2239" y="457"/>
                  </a:lnTo>
                  <a:lnTo>
                    <a:pt x="1162" y="351"/>
                  </a:lnTo>
                  <a:lnTo>
                    <a:pt x="777" y="286"/>
                  </a:lnTo>
                  <a:lnTo>
                    <a:pt x="0" y="184"/>
                  </a:lnTo>
                  <a:lnTo>
                    <a:pt x="30" y="0"/>
                  </a:lnTo>
                  <a:lnTo>
                    <a:pt x="972" y="103"/>
                  </a:lnTo>
                  <a:lnTo>
                    <a:pt x="1188" y="182"/>
                  </a:lnTo>
                  <a:lnTo>
                    <a:pt x="1400" y="210"/>
                  </a:lnTo>
                  <a:lnTo>
                    <a:pt x="1493" y="84"/>
                  </a:lnTo>
                  <a:close/>
                </a:path>
              </a:pathLst>
            </a:custGeom>
            <a:blipFill rotWithShape="0">
              <a:blip r:embed="rId1"/>
              <a:tile tx="0" ty="0" sx="3528125" sy="3528125" algn="ctr"/>
            </a:blip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717640" y="6221520"/>
              <a:ext cx="695520" cy="133560"/>
            </a:xfrm>
            <a:custGeom>
              <a:avLst/>
              <a:gdLst/>
              <a:ahLst/>
              <a:rect l="0" t="0" r="r" b="b"/>
              <a:pathLst>
                <a:path w="1932" h="371">
                  <a:moveTo>
                    <a:pt x="34" y="12"/>
                  </a:moveTo>
                  <a:lnTo>
                    <a:pt x="225" y="0"/>
                  </a:lnTo>
                  <a:lnTo>
                    <a:pt x="381" y="133"/>
                  </a:lnTo>
                  <a:lnTo>
                    <a:pt x="658" y="83"/>
                  </a:lnTo>
                  <a:lnTo>
                    <a:pt x="1040" y="158"/>
                  </a:lnTo>
                  <a:lnTo>
                    <a:pt x="1243" y="200"/>
                  </a:lnTo>
                  <a:lnTo>
                    <a:pt x="1503" y="225"/>
                  </a:lnTo>
                  <a:lnTo>
                    <a:pt x="1932" y="204"/>
                  </a:lnTo>
                  <a:lnTo>
                    <a:pt x="1512" y="304"/>
                  </a:lnTo>
                  <a:lnTo>
                    <a:pt x="1209" y="371"/>
                  </a:lnTo>
                  <a:lnTo>
                    <a:pt x="692" y="296"/>
                  </a:lnTo>
                  <a:lnTo>
                    <a:pt x="407" y="267"/>
                  </a:lnTo>
                  <a:lnTo>
                    <a:pt x="0" y="188"/>
                  </a:lnTo>
                  <a:lnTo>
                    <a:pt x="34" y="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230560" y="6126120"/>
              <a:ext cx="495720" cy="124200"/>
            </a:xfrm>
            <a:custGeom>
              <a:avLst/>
              <a:gdLst/>
              <a:ahLst/>
              <a:rect l="0" t="0" r="r" b="b"/>
              <a:pathLst>
                <a:path w="1377" h="345">
                  <a:moveTo>
                    <a:pt x="1364" y="345"/>
                  </a:moveTo>
                  <a:lnTo>
                    <a:pt x="1377" y="230"/>
                  </a:lnTo>
                  <a:lnTo>
                    <a:pt x="1036" y="88"/>
                  </a:lnTo>
                  <a:lnTo>
                    <a:pt x="44" y="0"/>
                  </a:lnTo>
                  <a:lnTo>
                    <a:pt x="0" y="142"/>
                  </a:lnTo>
                  <a:lnTo>
                    <a:pt x="1364" y="345"/>
                  </a:lnTo>
                  <a:close/>
                </a:path>
              </a:pathLst>
            </a:custGeom>
            <a:solidFill>
              <a:srgbClr val="9933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4576680" y="3454560"/>
            <a:ext cx="1203120" cy="957240"/>
            <a:chOff x="4576680" y="3454560"/>
            <a:chExt cx="1203120" cy="957240"/>
          </a:xfrm>
        </p:grpSpPr>
        <p:sp>
          <p:nvSpPr>
            <p:cNvPr id="512" name=""/>
            <p:cNvSpPr/>
            <p:nvPr/>
          </p:nvSpPr>
          <p:spPr>
            <a:xfrm>
              <a:off x="5489280" y="4108680"/>
              <a:ext cx="290520" cy="303120"/>
            </a:xfrm>
            <a:custGeom>
              <a:avLst/>
              <a:gdLst/>
              <a:ahLst/>
              <a:rect l="0" t="0" r="r" b="b"/>
              <a:pathLst>
                <a:path w="807" h="842">
                  <a:moveTo>
                    <a:pt x="259" y="820"/>
                  </a:moveTo>
                  <a:lnTo>
                    <a:pt x="259" y="820"/>
                  </a:lnTo>
                  <a:cubicBezTo>
                    <a:pt x="325" y="844"/>
                    <a:pt x="396" y="849"/>
                    <a:pt x="466" y="835"/>
                  </a:cubicBezTo>
                  <a:cubicBezTo>
                    <a:pt x="536" y="821"/>
                    <a:pt x="602" y="788"/>
                    <a:pt x="657" y="739"/>
                  </a:cubicBezTo>
                  <a:cubicBezTo>
                    <a:pt x="712" y="691"/>
                    <a:pt x="754" y="628"/>
                    <a:pt x="780" y="558"/>
                  </a:cubicBezTo>
                  <a:cubicBezTo>
                    <a:pt x="805" y="488"/>
                    <a:pt x="813" y="413"/>
                    <a:pt x="802" y="341"/>
                  </a:cubicBezTo>
                  <a:cubicBezTo>
                    <a:pt x="791" y="268"/>
                    <a:pt x="762" y="201"/>
                    <a:pt x="717" y="145"/>
                  </a:cubicBezTo>
                  <a:cubicBezTo>
                    <a:pt x="673" y="89"/>
                    <a:pt x="615" y="47"/>
                    <a:pt x="549" y="23"/>
                  </a:cubicBezTo>
                  <a:lnTo>
                    <a:pt x="548" y="23"/>
                  </a:lnTo>
                  <a:lnTo>
                    <a:pt x="548" y="23"/>
                  </a:lnTo>
                  <a:cubicBezTo>
                    <a:pt x="482" y="-1"/>
                    <a:pt x="411" y="-6"/>
                    <a:pt x="341" y="8"/>
                  </a:cubicBezTo>
                  <a:cubicBezTo>
                    <a:pt x="271" y="22"/>
                    <a:pt x="205" y="55"/>
                    <a:pt x="150" y="104"/>
                  </a:cubicBezTo>
                  <a:cubicBezTo>
                    <a:pt x="95" y="152"/>
                    <a:pt x="53" y="215"/>
                    <a:pt x="27" y="285"/>
                  </a:cubicBezTo>
                  <a:cubicBezTo>
                    <a:pt x="2" y="355"/>
                    <a:pt x="-6" y="430"/>
                    <a:pt x="5" y="502"/>
                  </a:cubicBezTo>
                  <a:cubicBezTo>
                    <a:pt x="16" y="575"/>
                    <a:pt x="45" y="642"/>
                    <a:pt x="90" y="698"/>
                  </a:cubicBezTo>
                  <a:cubicBezTo>
                    <a:pt x="134" y="754"/>
                    <a:pt x="192" y="796"/>
                    <a:pt x="258" y="820"/>
                  </a:cubicBezTo>
                  <a:lnTo>
                    <a:pt x="259" y="82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576680" y="3454560"/>
              <a:ext cx="946440" cy="952920"/>
            </a:xfrm>
            <a:custGeom>
              <a:avLst/>
              <a:gdLst/>
              <a:ahLst/>
              <a:rect l="0" t="0" r="r" b="b"/>
              <a:pathLst>
                <a:path w="2629" h="2647">
                  <a:moveTo>
                    <a:pt x="410" y="0"/>
                  </a:moveTo>
                  <a:lnTo>
                    <a:pt x="630" y="198"/>
                  </a:lnTo>
                  <a:lnTo>
                    <a:pt x="890" y="1032"/>
                  </a:lnTo>
                  <a:lnTo>
                    <a:pt x="1133" y="1654"/>
                  </a:lnTo>
                  <a:lnTo>
                    <a:pt x="2629" y="1786"/>
                  </a:lnTo>
                  <a:lnTo>
                    <a:pt x="2461" y="2647"/>
                  </a:lnTo>
                  <a:lnTo>
                    <a:pt x="533" y="2325"/>
                  </a:lnTo>
                  <a:lnTo>
                    <a:pt x="22" y="657"/>
                  </a:lnTo>
                  <a:lnTo>
                    <a:pt x="0" y="233"/>
                  </a:lnTo>
                  <a:lnTo>
                    <a:pt x="194" y="8"/>
                  </a:lnTo>
                  <a:lnTo>
                    <a:pt x="41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4788000" y="5321160"/>
            <a:ext cx="673560" cy="978120"/>
          </a:xfrm>
          <a:custGeom>
            <a:avLst/>
            <a:gdLst/>
            <a:ahLst/>
            <a:rect l="0" t="0" r="r" b="b"/>
            <a:pathLst>
              <a:path w="1871" h="2717">
                <a:moveTo>
                  <a:pt x="35" y="2576"/>
                </a:moveTo>
                <a:lnTo>
                  <a:pt x="211" y="2329"/>
                </a:lnTo>
                <a:lnTo>
                  <a:pt x="211" y="2188"/>
                </a:lnTo>
                <a:lnTo>
                  <a:pt x="211" y="2082"/>
                </a:lnTo>
                <a:lnTo>
                  <a:pt x="211" y="1941"/>
                </a:lnTo>
                <a:lnTo>
                  <a:pt x="317" y="2047"/>
                </a:lnTo>
                <a:lnTo>
                  <a:pt x="352" y="1906"/>
                </a:lnTo>
                <a:lnTo>
                  <a:pt x="388" y="1764"/>
                </a:lnTo>
                <a:lnTo>
                  <a:pt x="388" y="1623"/>
                </a:lnTo>
                <a:lnTo>
                  <a:pt x="458" y="1412"/>
                </a:lnTo>
                <a:lnTo>
                  <a:pt x="530" y="1128"/>
                </a:lnTo>
                <a:lnTo>
                  <a:pt x="741" y="1058"/>
                </a:lnTo>
                <a:lnTo>
                  <a:pt x="953" y="776"/>
                </a:lnTo>
                <a:lnTo>
                  <a:pt x="1235" y="423"/>
                </a:lnTo>
                <a:lnTo>
                  <a:pt x="1518" y="70"/>
                </a:lnTo>
                <a:lnTo>
                  <a:pt x="1730" y="0"/>
                </a:lnTo>
                <a:lnTo>
                  <a:pt x="1554" y="0"/>
                </a:lnTo>
                <a:lnTo>
                  <a:pt x="1271" y="282"/>
                </a:lnTo>
                <a:lnTo>
                  <a:pt x="1059" y="564"/>
                </a:lnTo>
                <a:lnTo>
                  <a:pt x="1024" y="705"/>
                </a:lnTo>
                <a:lnTo>
                  <a:pt x="953" y="811"/>
                </a:lnTo>
                <a:lnTo>
                  <a:pt x="882" y="952"/>
                </a:lnTo>
                <a:lnTo>
                  <a:pt x="847" y="1093"/>
                </a:lnTo>
                <a:lnTo>
                  <a:pt x="777" y="1199"/>
                </a:lnTo>
                <a:lnTo>
                  <a:pt x="706" y="1412"/>
                </a:lnTo>
                <a:lnTo>
                  <a:pt x="600" y="1764"/>
                </a:lnTo>
                <a:lnTo>
                  <a:pt x="530" y="1976"/>
                </a:lnTo>
                <a:lnTo>
                  <a:pt x="494" y="2082"/>
                </a:lnTo>
                <a:lnTo>
                  <a:pt x="600" y="1941"/>
                </a:lnTo>
                <a:lnTo>
                  <a:pt x="812" y="1729"/>
                </a:lnTo>
                <a:lnTo>
                  <a:pt x="1094" y="1517"/>
                </a:lnTo>
                <a:lnTo>
                  <a:pt x="1306" y="1305"/>
                </a:lnTo>
                <a:lnTo>
                  <a:pt x="1413" y="1234"/>
                </a:lnTo>
                <a:lnTo>
                  <a:pt x="1554" y="1199"/>
                </a:lnTo>
                <a:lnTo>
                  <a:pt x="1413" y="1234"/>
                </a:lnTo>
                <a:lnTo>
                  <a:pt x="1200" y="1305"/>
                </a:lnTo>
                <a:lnTo>
                  <a:pt x="1165" y="1517"/>
                </a:lnTo>
                <a:lnTo>
                  <a:pt x="1024" y="1659"/>
                </a:lnTo>
                <a:lnTo>
                  <a:pt x="953" y="1800"/>
                </a:lnTo>
                <a:lnTo>
                  <a:pt x="847" y="1906"/>
                </a:lnTo>
                <a:lnTo>
                  <a:pt x="777" y="2011"/>
                </a:lnTo>
                <a:lnTo>
                  <a:pt x="1024" y="2011"/>
                </a:lnTo>
                <a:lnTo>
                  <a:pt x="1306" y="1976"/>
                </a:lnTo>
                <a:lnTo>
                  <a:pt x="1518" y="1941"/>
                </a:lnTo>
                <a:lnTo>
                  <a:pt x="1624" y="1906"/>
                </a:lnTo>
                <a:lnTo>
                  <a:pt x="1765" y="1906"/>
                </a:lnTo>
                <a:lnTo>
                  <a:pt x="1871" y="1870"/>
                </a:lnTo>
                <a:lnTo>
                  <a:pt x="1765" y="1870"/>
                </a:lnTo>
                <a:lnTo>
                  <a:pt x="1483" y="1870"/>
                </a:lnTo>
                <a:lnTo>
                  <a:pt x="1271" y="1870"/>
                </a:lnTo>
                <a:lnTo>
                  <a:pt x="1129" y="1906"/>
                </a:lnTo>
                <a:lnTo>
                  <a:pt x="1024" y="1976"/>
                </a:lnTo>
                <a:lnTo>
                  <a:pt x="741" y="2082"/>
                </a:lnTo>
                <a:lnTo>
                  <a:pt x="1024" y="2188"/>
                </a:lnTo>
                <a:lnTo>
                  <a:pt x="1129" y="2188"/>
                </a:lnTo>
                <a:lnTo>
                  <a:pt x="1235" y="2188"/>
                </a:lnTo>
                <a:lnTo>
                  <a:pt x="918" y="2188"/>
                </a:lnTo>
                <a:lnTo>
                  <a:pt x="706" y="2188"/>
                </a:lnTo>
                <a:lnTo>
                  <a:pt x="600" y="2223"/>
                </a:lnTo>
                <a:lnTo>
                  <a:pt x="530" y="2364"/>
                </a:lnTo>
                <a:lnTo>
                  <a:pt x="458" y="2470"/>
                </a:lnTo>
                <a:lnTo>
                  <a:pt x="352" y="2541"/>
                </a:lnTo>
                <a:lnTo>
                  <a:pt x="246" y="2611"/>
                </a:lnTo>
                <a:lnTo>
                  <a:pt x="35" y="2576"/>
                </a:lnTo>
                <a:lnTo>
                  <a:pt x="35" y="2717"/>
                </a:lnTo>
                <a:lnTo>
                  <a:pt x="35" y="2576"/>
                </a:lnTo>
                <a:lnTo>
                  <a:pt x="0" y="2294"/>
                </a:lnTo>
                <a:lnTo>
                  <a:pt x="0" y="2188"/>
                </a:lnTo>
                <a:lnTo>
                  <a:pt x="35" y="2082"/>
                </a:lnTo>
                <a:lnTo>
                  <a:pt x="105" y="1870"/>
                </a:lnTo>
                <a:lnTo>
                  <a:pt x="141" y="1588"/>
                </a:lnTo>
                <a:lnTo>
                  <a:pt x="141" y="1800"/>
                </a:lnTo>
                <a:lnTo>
                  <a:pt x="141" y="2082"/>
                </a:lnTo>
                <a:lnTo>
                  <a:pt x="141" y="2188"/>
                </a:lnTo>
                <a:lnTo>
                  <a:pt x="141" y="2294"/>
                </a:lnTo>
                <a:lnTo>
                  <a:pt x="141" y="2399"/>
                </a:lnTo>
                <a:lnTo>
                  <a:pt x="246" y="2364"/>
                </a:lnTo>
                <a:lnTo>
                  <a:pt x="35" y="2576"/>
                </a:lnTo>
                <a:close/>
              </a:path>
            </a:pathLst>
          </a:custGeom>
          <a:solidFill>
            <a:srgbClr val="e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971800" y="5651640"/>
            <a:ext cx="698760" cy="597240"/>
          </a:xfrm>
          <a:custGeom>
            <a:avLst/>
            <a:gdLst/>
            <a:ahLst/>
            <a:rect l="0" t="0" r="r" b="b"/>
            <a:pathLst>
              <a:path w="1941" h="1659">
                <a:moveTo>
                  <a:pt x="1906" y="1659"/>
                </a:moveTo>
                <a:lnTo>
                  <a:pt x="1941" y="1271"/>
                </a:lnTo>
                <a:lnTo>
                  <a:pt x="1941" y="988"/>
                </a:lnTo>
                <a:lnTo>
                  <a:pt x="1906" y="705"/>
                </a:lnTo>
                <a:lnTo>
                  <a:pt x="1870" y="564"/>
                </a:lnTo>
                <a:lnTo>
                  <a:pt x="1835" y="458"/>
                </a:lnTo>
                <a:lnTo>
                  <a:pt x="1694" y="176"/>
                </a:lnTo>
                <a:lnTo>
                  <a:pt x="1659" y="70"/>
                </a:lnTo>
                <a:lnTo>
                  <a:pt x="1517" y="0"/>
                </a:lnTo>
                <a:lnTo>
                  <a:pt x="1553" y="211"/>
                </a:lnTo>
                <a:lnTo>
                  <a:pt x="1623" y="317"/>
                </a:lnTo>
                <a:lnTo>
                  <a:pt x="1623" y="423"/>
                </a:lnTo>
                <a:lnTo>
                  <a:pt x="1659" y="564"/>
                </a:lnTo>
                <a:lnTo>
                  <a:pt x="1623" y="423"/>
                </a:lnTo>
                <a:lnTo>
                  <a:pt x="1341" y="352"/>
                </a:lnTo>
                <a:lnTo>
                  <a:pt x="846" y="282"/>
                </a:lnTo>
                <a:lnTo>
                  <a:pt x="705" y="176"/>
                </a:lnTo>
                <a:lnTo>
                  <a:pt x="493" y="105"/>
                </a:lnTo>
                <a:lnTo>
                  <a:pt x="352" y="70"/>
                </a:lnTo>
                <a:lnTo>
                  <a:pt x="105" y="35"/>
                </a:lnTo>
                <a:lnTo>
                  <a:pt x="0" y="0"/>
                </a:lnTo>
                <a:lnTo>
                  <a:pt x="388" y="105"/>
                </a:lnTo>
                <a:lnTo>
                  <a:pt x="811" y="141"/>
                </a:lnTo>
                <a:lnTo>
                  <a:pt x="1024" y="211"/>
                </a:lnTo>
                <a:lnTo>
                  <a:pt x="1306" y="317"/>
                </a:lnTo>
                <a:lnTo>
                  <a:pt x="1412" y="388"/>
                </a:lnTo>
                <a:lnTo>
                  <a:pt x="1517" y="635"/>
                </a:lnTo>
                <a:lnTo>
                  <a:pt x="1588" y="740"/>
                </a:lnTo>
                <a:lnTo>
                  <a:pt x="1623" y="847"/>
                </a:lnTo>
                <a:lnTo>
                  <a:pt x="1694" y="988"/>
                </a:lnTo>
                <a:lnTo>
                  <a:pt x="1623" y="882"/>
                </a:lnTo>
                <a:lnTo>
                  <a:pt x="1412" y="811"/>
                </a:lnTo>
                <a:lnTo>
                  <a:pt x="1200" y="776"/>
                </a:lnTo>
                <a:lnTo>
                  <a:pt x="1094" y="705"/>
                </a:lnTo>
                <a:lnTo>
                  <a:pt x="988" y="635"/>
                </a:lnTo>
                <a:lnTo>
                  <a:pt x="881" y="635"/>
                </a:lnTo>
                <a:lnTo>
                  <a:pt x="599" y="599"/>
                </a:lnTo>
                <a:lnTo>
                  <a:pt x="811" y="599"/>
                </a:lnTo>
                <a:lnTo>
                  <a:pt x="1094" y="599"/>
                </a:lnTo>
                <a:lnTo>
                  <a:pt x="1376" y="670"/>
                </a:lnTo>
                <a:lnTo>
                  <a:pt x="1517" y="705"/>
                </a:lnTo>
                <a:lnTo>
                  <a:pt x="1623" y="740"/>
                </a:lnTo>
                <a:lnTo>
                  <a:pt x="1659" y="847"/>
                </a:lnTo>
                <a:lnTo>
                  <a:pt x="1694" y="953"/>
                </a:lnTo>
                <a:lnTo>
                  <a:pt x="1800" y="988"/>
                </a:lnTo>
                <a:lnTo>
                  <a:pt x="1906" y="1059"/>
                </a:lnTo>
                <a:lnTo>
                  <a:pt x="1764" y="1165"/>
                </a:lnTo>
                <a:lnTo>
                  <a:pt x="1553" y="1165"/>
                </a:lnTo>
                <a:lnTo>
                  <a:pt x="1412" y="1165"/>
                </a:lnTo>
                <a:lnTo>
                  <a:pt x="1129" y="1165"/>
                </a:lnTo>
                <a:lnTo>
                  <a:pt x="846" y="1129"/>
                </a:lnTo>
                <a:lnTo>
                  <a:pt x="1094" y="1200"/>
                </a:lnTo>
                <a:lnTo>
                  <a:pt x="1306" y="1235"/>
                </a:lnTo>
                <a:lnTo>
                  <a:pt x="1412" y="1306"/>
                </a:lnTo>
                <a:lnTo>
                  <a:pt x="1517" y="1376"/>
                </a:lnTo>
                <a:lnTo>
                  <a:pt x="1623" y="1412"/>
                </a:lnTo>
                <a:lnTo>
                  <a:pt x="1517" y="1341"/>
                </a:lnTo>
                <a:lnTo>
                  <a:pt x="1412" y="1306"/>
                </a:lnTo>
                <a:lnTo>
                  <a:pt x="1306" y="1341"/>
                </a:lnTo>
                <a:lnTo>
                  <a:pt x="1376" y="1482"/>
                </a:lnTo>
                <a:lnTo>
                  <a:pt x="1517" y="1553"/>
                </a:lnTo>
                <a:lnTo>
                  <a:pt x="1623" y="1553"/>
                </a:lnTo>
                <a:lnTo>
                  <a:pt x="1729" y="1659"/>
                </a:lnTo>
                <a:lnTo>
                  <a:pt x="1906" y="1659"/>
                </a:lnTo>
                <a:close/>
              </a:path>
            </a:pathLst>
          </a:custGeom>
          <a:solidFill>
            <a:srgbClr val="e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908440" y="1130400"/>
            <a:ext cx="3099240" cy="3530880"/>
          </a:xfrm>
          <a:custGeom>
            <a:avLst/>
            <a:gdLst/>
            <a:ahLst/>
            <a:rect l="0" t="0" r="r" b="b"/>
            <a:pathLst>
              <a:path w="8609" h="9808">
                <a:moveTo>
                  <a:pt x="3775" y="9349"/>
                </a:moveTo>
                <a:lnTo>
                  <a:pt x="3916" y="9208"/>
                </a:lnTo>
                <a:lnTo>
                  <a:pt x="3916" y="9067"/>
                </a:lnTo>
                <a:lnTo>
                  <a:pt x="3846" y="8961"/>
                </a:lnTo>
                <a:lnTo>
                  <a:pt x="3775" y="8855"/>
                </a:lnTo>
                <a:lnTo>
                  <a:pt x="3669" y="8890"/>
                </a:lnTo>
                <a:lnTo>
                  <a:pt x="3564" y="8996"/>
                </a:lnTo>
                <a:lnTo>
                  <a:pt x="3458" y="9032"/>
                </a:lnTo>
                <a:lnTo>
                  <a:pt x="3352" y="9067"/>
                </a:lnTo>
                <a:lnTo>
                  <a:pt x="3211" y="9102"/>
                </a:lnTo>
                <a:lnTo>
                  <a:pt x="3070" y="9102"/>
                </a:lnTo>
                <a:lnTo>
                  <a:pt x="2823" y="9102"/>
                </a:lnTo>
                <a:lnTo>
                  <a:pt x="2717" y="9102"/>
                </a:lnTo>
                <a:lnTo>
                  <a:pt x="2611" y="9208"/>
                </a:lnTo>
                <a:lnTo>
                  <a:pt x="2505" y="9243"/>
                </a:lnTo>
                <a:lnTo>
                  <a:pt x="2399" y="9243"/>
                </a:lnTo>
                <a:lnTo>
                  <a:pt x="2151" y="9243"/>
                </a:lnTo>
                <a:lnTo>
                  <a:pt x="2010" y="9243"/>
                </a:lnTo>
                <a:lnTo>
                  <a:pt x="1728" y="9243"/>
                </a:lnTo>
                <a:lnTo>
                  <a:pt x="1622" y="9208"/>
                </a:lnTo>
                <a:lnTo>
                  <a:pt x="1516" y="9173"/>
                </a:lnTo>
                <a:lnTo>
                  <a:pt x="1375" y="9173"/>
                </a:lnTo>
                <a:lnTo>
                  <a:pt x="1270" y="9208"/>
                </a:lnTo>
                <a:lnTo>
                  <a:pt x="1164" y="9243"/>
                </a:lnTo>
                <a:lnTo>
                  <a:pt x="1058" y="9243"/>
                </a:lnTo>
                <a:lnTo>
                  <a:pt x="811" y="9243"/>
                </a:lnTo>
                <a:lnTo>
                  <a:pt x="599" y="9243"/>
                </a:lnTo>
                <a:lnTo>
                  <a:pt x="529" y="9137"/>
                </a:lnTo>
                <a:lnTo>
                  <a:pt x="529" y="9032"/>
                </a:lnTo>
                <a:lnTo>
                  <a:pt x="564" y="8926"/>
                </a:lnTo>
                <a:lnTo>
                  <a:pt x="670" y="8820"/>
                </a:lnTo>
                <a:lnTo>
                  <a:pt x="670" y="8714"/>
                </a:lnTo>
                <a:lnTo>
                  <a:pt x="670" y="8608"/>
                </a:lnTo>
                <a:lnTo>
                  <a:pt x="635" y="8502"/>
                </a:lnTo>
                <a:lnTo>
                  <a:pt x="635" y="8361"/>
                </a:lnTo>
                <a:lnTo>
                  <a:pt x="635" y="8220"/>
                </a:lnTo>
                <a:lnTo>
                  <a:pt x="635" y="8114"/>
                </a:lnTo>
                <a:lnTo>
                  <a:pt x="635" y="8009"/>
                </a:lnTo>
                <a:lnTo>
                  <a:pt x="670" y="7867"/>
                </a:lnTo>
                <a:lnTo>
                  <a:pt x="705" y="7585"/>
                </a:lnTo>
                <a:lnTo>
                  <a:pt x="740" y="7444"/>
                </a:lnTo>
                <a:lnTo>
                  <a:pt x="740" y="7303"/>
                </a:lnTo>
                <a:lnTo>
                  <a:pt x="740" y="7197"/>
                </a:lnTo>
                <a:lnTo>
                  <a:pt x="740" y="7056"/>
                </a:lnTo>
                <a:lnTo>
                  <a:pt x="705" y="6844"/>
                </a:lnTo>
                <a:lnTo>
                  <a:pt x="705" y="6703"/>
                </a:lnTo>
                <a:lnTo>
                  <a:pt x="670" y="6597"/>
                </a:lnTo>
                <a:lnTo>
                  <a:pt x="635" y="6492"/>
                </a:lnTo>
                <a:lnTo>
                  <a:pt x="599" y="6280"/>
                </a:lnTo>
                <a:lnTo>
                  <a:pt x="529" y="5927"/>
                </a:lnTo>
                <a:lnTo>
                  <a:pt x="458" y="5645"/>
                </a:lnTo>
                <a:lnTo>
                  <a:pt x="423" y="5539"/>
                </a:lnTo>
                <a:lnTo>
                  <a:pt x="458" y="5327"/>
                </a:lnTo>
                <a:lnTo>
                  <a:pt x="493" y="5116"/>
                </a:lnTo>
                <a:lnTo>
                  <a:pt x="529" y="4903"/>
                </a:lnTo>
                <a:lnTo>
                  <a:pt x="599" y="4797"/>
                </a:lnTo>
                <a:lnTo>
                  <a:pt x="670" y="4656"/>
                </a:lnTo>
                <a:lnTo>
                  <a:pt x="776" y="4550"/>
                </a:lnTo>
                <a:lnTo>
                  <a:pt x="811" y="4445"/>
                </a:lnTo>
                <a:lnTo>
                  <a:pt x="846" y="4339"/>
                </a:lnTo>
                <a:lnTo>
                  <a:pt x="881" y="4233"/>
                </a:lnTo>
                <a:lnTo>
                  <a:pt x="952" y="4092"/>
                </a:lnTo>
                <a:lnTo>
                  <a:pt x="987" y="3986"/>
                </a:lnTo>
                <a:lnTo>
                  <a:pt x="1058" y="3845"/>
                </a:lnTo>
                <a:lnTo>
                  <a:pt x="1093" y="3739"/>
                </a:lnTo>
                <a:lnTo>
                  <a:pt x="1128" y="3598"/>
                </a:lnTo>
                <a:lnTo>
                  <a:pt x="1128" y="3386"/>
                </a:lnTo>
                <a:lnTo>
                  <a:pt x="1164" y="3280"/>
                </a:lnTo>
                <a:lnTo>
                  <a:pt x="1199" y="3139"/>
                </a:lnTo>
                <a:lnTo>
                  <a:pt x="1234" y="2998"/>
                </a:lnTo>
                <a:lnTo>
                  <a:pt x="1270" y="2892"/>
                </a:lnTo>
                <a:lnTo>
                  <a:pt x="1305" y="2786"/>
                </a:lnTo>
                <a:lnTo>
                  <a:pt x="1340" y="2645"/>
                </a:lnTo>
                <a:lnTo>
                  <a:pt x="1411" y="2363"/>
                </a:lnTo>
                <a:lnTo>
                  <a:pt x="1516" y="2222"/>
                </a:lnTo>
                <a:lnTo>
                  <a:pt x="1622" y="2116"/>
                </a:lnTo>
                <a:lnTo>
                  <a:pt x="1728" y="2010"/>
                </a:lnTo>
                <a:lnTo>
                  <a:pt x="1799" y="1905"/>
                </a:lnTo>
                <a:lnTo>
                  <a:pt x="1905" y="1799"/>
                </a:lnTo>
                <a:lnTo>
                  <a:pt x="1975" y="1658"/>
                </a:lnTo>
                <a:lnTo>
                  <a:pt x="2046" y="1552"/>
                </a:lnTo>
                <a:lnTo>
                  <a:pt x="2116" y="1446"/>
                </a:lnTo>
                <a:lnTo>
                  <a:pt x="2223" y="1305"/>
                </a:lnTo>
                <a:lnTo>
                  <a:pt x="2364" y="1164"/>
                </a:lnTo>
                <a:lnTo>
                  <a:pt x="2470" y="1093"/>
                </a:lnTo>
                <a:lnTo>
                  <a:pt x="2576" y="987"/>
                </a:lnTo>
                <a:lnTo>
                  <a:pt x="2682" y="917"/>
                </a:lnTo>
                <a:lnTo>
                  <a:pt x="2787" y="846"/>
                </a:lnTo>
                <a:lnTo>
                  <a:pt x="2893" y="776"/>
                </a:lnTo>
                <a:lnTo>
                  <a:pt x="2999" y="705"/>
                </a:lnTo>
                <a:lnTo>
                  <a:pt x="3105" y="670"/>
                </a:lnTo>
                <a:lnTo>
                  <a:pt x="3246" y="635"/>
                </a:lnTo>
                <a:lnTo>
                  <a:pt x="3352" y="599"/>
                </a:lnTo>
                <a:lnTo>
                  <a:pt x="3458" y="599"/>
                </a:lnTo>
                <a:lnTo>
                  <a:pt x="3564" y="564"/>
                </a:lnTo>
                <a:lnTo>
                  <a:pt x="3669" y="529"/>
                </a:lnTo>
                <a:lnTo>
                  <a:pt x="3775" y="529"/>
                </a:lnTo>
                <a:lnTo>
                  <a:pt x="3881" y="529"/>
                </a:lnTo>
                <a:lnTo>
                  <a:pt x="3987" y="529"/>
                </a:lnTo>
                <a:lnTo>
                  <a:pt x="4128" y="564"/>
                </a:lnTo>
                <a:lnTo>
                  <a:pt x="4410" y="564"/>
                </a:lnTo>
                <a:lnTo>
                  <a:pt x="4763" y="599"/>
                </a:lnTo>
                <a:lnTo>
                  <a:pt x="5045" y="635"/>
                </a:lnTo>
                <a:lnTo>
                  <a:pt x="5151" y="635"/>
                </a:lnTo>
                <a:lnTo>
                  <a:pt x="5433" y="670"/>
                </a:lnTo>
                <a:lnTo>
                  <a:pt x="5539" y="705"/>
                </a:lnTo>
                <a:lnTo>
                  <a:pt x="5680" y="776"/>
                </a:lnTo>
                <a:lnTo>
                  <a:pt x="5786" y="811"/>
                </a:lnTo>
                <a:lnTo>
                  <a:pt x="6068" y="917"/>
                </a:lnTo>
                <a:lnTo>
                  <a:pt x="6209" y="1023"/>
                </a:lnTo>
                <a:lnTo>
                  <a:pt x="6315" y="1164"/>
                </a:lnTo>
                <a:lnTo>
                  <a:pt x="6421" y="1305"/>
                </a:lnTo>
                <a:lnTo>
                  <a:pt x="6563" y="1446"/>
                </a:lnTo>
                <a:lnTo>
                  <a:pt x="6669" y="1552"/>
                </a:lnTo>
                <a:lnTo>
                  <a:pt x="6775" y="1658"/>
                </a:lnTo>
                <a:lnTo>
                  <a:pt x="6916" y="1799"/>
                </a:lnTo>
                <a:lnTo>
                  <a:pt x="7128" y="1869"/>
                </a:lnTo>
                <a:lnTo>
                  <a:pt x="7233" y="1975"/>
                </a:lnTo>
                <a:lnTo>
                  <a:pt x="7375" y="2081"/>
                </a:lnTo>
                <a:lnTo>
                  <a:pt x="7480" y="2151"/>
                </a:lnTo>
                <a:lnTo>
                  <a:pt x="7586" y="2293"/>
                </a:lnTo>
                <a:lnTo>
                  <a:pt x="7692" y="2398"/>
                </a:lnTo>
                <a:lnTo>
                  <a:pt x="7798" y="2540"/>
                </a:lnTo>
                <a:lnTo>
                  <a:pt x="7868" y="2645"/>
                </a:lnTo>
                <a:lnTo>
                  <a:pt x="7904" y="2751"/>
                </a:lnTo>
                <a:lnTo>
                  <a:pt x="7939" y="2892"/>
                </a:lnTo>
                <a:lnTo>
                  <a:pt x="7939" y="2998"/>
                </a:lnTo>
                <a:lnTo>
                  <a:pt x="7974" y="3139"/>
                </a:lnTo>
                <a:lnTo>
                  <a:pt x="7974" y="3351"/>
                </a:lnTo>
                <a:lnTo>
                  <a:pt x="8010" y="3492"/>
                </a:lnTo>
                <a:lnTo>
                  <a:pt x="8045" y="3633"/>
                </a:lnTo>
                <a:lnTo>
                  <a:pt x="8045" y="3880"/>
                </a:lnTo>
                <a:lnTo>
                  <a:pt x="8045" y="3986"/>
                </a:lnTo>
                <a:lnTo>
                  <a:pt x="8080" y="4092"/>
                </a:lnTo>
                <a:lnTo>
                  <a:pt x="8080" y="4233"/>
                </a:lnTo>
                <a:lnTo>
                  <a:pt x="8080" y="4374"/>
                </a:lnTo>
                <a:lnTo>
                  <a:pt x="8080" y="4656"/>
                </a:lnTo>
                <a:lnTo>
                  <a:pt x="8080" y="4868"/>
                </a:lnTo>
                <a:lnTo>
                  <a:pt x="8045" y="5151"/>
                </a:lnTo>
                <a:lnTo>
                  <a:pt x="8045" y="5363"/>
                </a:lnTo>
                <a:lnTo>
                  <a:pt x="8010" y="5504"/>
                </a:lnTo>
                <a:lnTo>
                  <a:pt x="7974" y="5610"/>
                </a:lnTo>
                <a:lnTo>
                  <a:pt x="7939" y="5751"/>
                </a:lnTo>
                <a:lnTo>
                  <a:pt x="7904" y="5857"/>
                </a:lnTo>
                <a:lnTo>
                  <a:pt x="7868" y="5998"/>
                </a:lnTo>
                <a:lnTo>
                  <a:pt x="7833" y="6104"/>
                </a:lnTo>
                <a:lnTo>
                  <a:pt x="7833" y="6245"/>
                </a:lnTo>
                <a:lnTo>
                  <a:pt x="7798" y="6527"/>
                </a:lnTo>
                <a:lnTo>
                  <a:pt x="7763" y="6633"/>
                </a:lnTo>
                <a:lnTo>
                  <a:pt x="7763" y="6739"/>
                </a:lnTo>
                <a:lnTo>
                  <a:pt x="7763" y="6844"/>
                </a:lnTo>
                <a:lnTo>
                  <a:pt x="7763" y="6950"/>
                </a:lnTo>
                <a:lnTo>
                  <a:pt x="7763" y="7056"/>
                </a:lnTo>
                <a:lnTo>
                  <a:pt x="7763" y="7162"/>
                </a:lnTo>
                <a:lnTo>
                  <a:pt x="7763" y="7268"/>
                </a:lnTo>
                <a:lnTo>
                  <a:pt x="7763" y="7374"/>
                </a:lnTo>
                <a:lnTo>
                  <a:pt x="7763" y="7479"/>
                </a:lnTo>
                <a:lnTo>
                  <a:pt x="7763" y="7585"/>
                </a:lnTo>
                <a:lnTo>
                  <a:pt x="7763" y="7691"/>
                </a:lnTo>
                <a:lnTo>
                  <a:pt x="7727" y="7797"/>
                </a:lnTo>
                <a:lnTo>
                  <a:pt x="7692" y="7938"/>
                </a:lnTo>
                <a:lnTo>
                  <a:pt x="7657" y="8079"/>
                </a:lnTo>
                <a:lnTo>
                  <a:pt x="7622" y="8185"/>
                </a:lnTo>
                <a:lnTo>
                  <a:pt x="7551" y="8291"/>
                </a:lnTo>
                <a:lnTo>
                  <a:pt x="7516" y="8397"/>
                </a:lnTo>
                <a:lnTo>
                  <a:pt x="7622" y="8432"/>
                </a:lnTo>
                <a:lnTo>
                  <a:pt x="7727" y="8467"/>
                </a:lnTo>
                <a:lnTo>
                  <a:pt x="7833" y="8502"/>
                </a:lnTo>
                <a:lnTo>
                  <a:pt x="7939" y="8573"/>
                </a:lnTo>
                <a:lnTo>
                  <a:pt x="8045" y="8502"/>
                </a:lnTo>
                <a:lnTo>
                  <a:pt x="8045" y="8397"/>
                </a:lnTo>
                <a:lnTo>
                  <a:pt x="8045" y="8255"/>
                </a:lnTo>
                <a:lnTo>
                  <a:pt x="8080" y="8150"/>
                </a:lnTo>
                <a:lnTo>
                  <a:pt x="8186" y="8079"/>
                </a:lnTo>
                <a:lnTo>
                  <a:pt x="8221" y="7973"/>
                </a:lnTo>
                <a:lnTo>
                  <a:pt x="8327" y="7832"/>
                </a:lnTo>
                <a:lnTo>
                  <a:pt x="8327" y="7726"/>
                </a:lnTo>
                <a:lnTo>
                  <a:pt x="8327" y="7620"/>
                </a:lnTo>
                <a:lnTo>
                  <a:pt x="8292" y="7479"/>
                </a:lnTo>
                <a:lnTo>
                  <a:pt x="8221" y="7338"/>
                </a:lnTo>
                <a:lnTo>
                  <a:pt x="8186" y="7232"/>
                </a:lnTo>
                <a:lnTo>
                  <a:pt x="8186" y="7021"/>
                </a:lnTo>
                <a:lnTo>
                  <a:pt x="8151" y="6915"/>
                </a:lnTo>
                <a:lnTo>
                  <a:pt x="8151" y="6774"/>
                </a:lnTo>
                <a:lnTo>
                  <a:pt x="8186" y="6668"/>
                </a:lnTo>
                <a:lnTo>
                  <a:pt x="8221" y="6562"/>
                </a:lnTo>
                <a:lnTo>
                  <a:pt x="8327" y="6421"/>
                </a:lnTo>
                <a:lnTo>
                  <a:pt x="8433" y="6315"/>
                </a:lnTo>
                <a:lnTo>
                  <a:pt x="8468" y="6209"/>
                </a:lnTo>
                <a:lnTo>
                  <a:pt x="8539" y="6104"/>
                </a:lnTo>
                <a:lnTo>
                  <a:pt x="8574" y="5998"/>
                </a:lnTo>
                <a:lnTo>
                  <a:pt x="8574" y="5892"/>
                </a:lnTo>
                <a:lnTo>
                  <a:pt x="8574" y="5786"/>
                </a:lnTo>
                <a:lnTo>
                  <a:pt x="8539" y="5574"/>
                </a:lnTo>
                <a:lnTo>
                  <a:pt x="8539" y="5363"/>
                </a:lnTo>
                <a:lnTo>
                  <a:pt x="8503" y="5151"/>
                </a:lnTo>
                <a:lnTo>
                  <a:pt x="8503" y="5045"/>
                </a:lnTo>
                <a:lnTo>
                  <a:pt x="8539" y="4939"/>
                </a:lnTo>
                <a:lnTo>
                  <a:pt x="8574" y="4797"/>
                </a:lnTo>
                <a:lnTo>
                  <a:pt x="8609" y="4656"/>
                </a:lnTo>
                <a:lnTo>
                  <a:pt x="8609" y="4550"/>
                </a:lnTo>
                <a:lnTo>
                  <a:pt x="8609" y="4409"/>
                </a:lnTo>
                <a:lnTo>
                  <a:pt x="8609" y="4127"/>
                </a:lnTo>
                <a:lnTo>
                  <a:pt x="8609" y="3915"/>
                </a:lnTo>
                <a:lnTo>
                  <a:pt x="8609" y="3810"/>
                </a:lnTo>
                <a:lnTo>
                  <a:pt x="8609" y="3704"/>
                </a:lnTo>
                <a:lnTo>
                  <a:pt x="8609" y="3598"/>
                </a:lnTo>
                <a:lnTo>
                  <a:pt x="8609" y="3351"/>
                </a:lnTo>
                <a:lnTo>
                  <a:pt x="8609" y="3139"/>
                </a:lnTo>
                <a:lnTo>
                  <a:pt x="8574" y="2857"/>
                </a:lnTo>
                <a:lnTo>
                  <a:pt x="8362" y="2504"/>
                </a:lnTo>
                <a:lnTo>
                  <a:pt x="8292" y="2151"/>
                </a:lnTo>
                <a:lnTo>
                  <a:pt x="8221" y="1869"/>
                </a:lnTo>
                <a:lnTo>
                  <a:pt x="8115" y="1905"/>
                </a:lnTo>
                <a:lnTo>
                  <a:pt x="7833" y="1869"/>
                </a:lnTo>
                <a:lnTo>
                  <a:pt x="7727" y="1799"/>
                </a:lnTo>
                <a:lnTo>
                  <a:pt x="7692" y="1587"/>
                </a:lnTo>
                <a:lnTo>
                  <a:pt x="7480" y="1516"/>
                </a:lnTo>
                <a:lnTo>
                  <a:pt x="7445" y="1411"/>
                </a:lnTo>
                <a:lnTo>
                  <a:pt x="7163" y="1305"/>
                </a:lnTo>
                <a:lnTo>
                  <a:pt x="7128" y="1199"/>
                </a:lnTo>
                <a:lnTo>
                  <a:pt x="6881" y="1093"/>
                </a:lnTo>
                <a:lnTo>
                  <a:pt x="6845" y="987"/>
                </a:lnTo>
                <a:lnTo>
                  <a:pt x="6775" y="881"/>
                </a:lnTo>
                <a:lnTo>
                  <a:pt x="6669" y="776"/>
                </a:lnTo>
                <a:lnTo>
                  <a:pt x="6598" y="635"/>
                </a:lnTo>
                <a:lnTo>
                  <a:pt x="6386" y="599"/>
                </a:lnTo>
                <a:lnTo>
                  <a:pt x="6280" y="493"/>
                </a:lnTo>
                <a:lnTo>
                  <a:pt x="6139" y="423"/>
                </a:lnTo>
                <a:lnTo>
                  <a:pt x="5927" y="352"/>
                </a:lnTo>
                <a:lnTo>
                  <a:pt x="5574" y="282"/>
                </a:lnTo>
                <a:lnTo>
                  <a:pt x="5292" y="211"/>
                </a:lnTo>
                <a:lnTo>
                  <a:pt x="5081" y="211"/>
                </a:lnTo>
                <a:lnTo>
                  <a:pt x="4975" y="211"/>
                </a:lnTo>
                <a:lnTo>
                  <a:pt x="4728" y="70"/>
                </a:lnTo>
                <a:lnTo>
                  <a:pt x="4587" y="35"/>
                </a:lnTo>
                <a:lnTo>
                  <a:pt x="4304" y="0"/>
                </a:lnTo>
                <a:lnTo>
                  <a:pt x="4093" y="0"/>
                </a:lnTo>
                <a:lnTo>
                  <a:pt x="3987" y="35"/>
                </a:lnTo>
                <a:lnTo>
                  <a:pt x="3775" y="105"/>
                </a:lnTo>
                <a:lnTo>
                  <a:pt x="3634" y="176"/>
                </a:lnTo>
                <a:lnTo>
                  <a:pt x="3493" y="246"/>
                </a:lnTo>
                <a:lnTo>
                  <a:pt x="3140" y="246"/>
                </a:lnTo>
                <a:lnTo>
                  <a:pt x="2929" y="246"/>
                </a:lnTo>
                <a:lnTo>
                  <a:pt x="2787" y="282"/>
                </a:lnTo>
                <a:lnTo>
                  <a:pt x="2646" y="317"/>
                </a:lnTo>
                <a:lnTo>
                  <a:pt x="2541" y="388"/>
                </a:lnTo>
                <a:lnTo>
                  <a:pt x="2399" y="493"/>
                </a:lnTo>
                <a:lnTo>
                  <a:pt x="2294" y="564"/>
                </a:lnTo>
                <a:lnTo>
                  <a:pt x="2223" y="670"/>
                </a:lnTo>
                <a:lnTo>
                  <a:pt x="2116" y="776"/>
                </a:lnTo>
                <a:lnTo>
                  <a:pt x="2046" y="987"/>
                </a:lnTo>
                <a:lnTo>
                  <a:pt x="1975" y="1093"/>
                </a:lnTo>
                <a:lnTo>
                  <a:pt x="1905" y="1199"/>
                </a:lnTo>
                <a:lnTo>
                  <a:pt x="1799" y="1305"/>
                </a:lnTo>
                <a:lnTo>
                  <a:pt x="1693" y="1375"/>
                </a:lnTo>
                <a:lnTo>
                  <a:pt x="1446" y="1446"/>
                </a:lnTo>
                <a:lnTo>
                  <a:pt x="1164" y="1587"/>
                </a:lnTo>
                <a:lnTo>
                  <a:pt x="1058" y="1693"/>
                </a:lnTo>
                <a:lnTo>
                  <a:pt x="987" y="1975"/>
                </a:lnTo>
                <a:lnTo>
                  <a:pt x="952" y="2081"/>
                </a:lnTo>
                <a:lnTo>
                  <a:pt x="917" y="2187"/>
                </a:lnTo>
                <a:lnTo>
                  <a:pt x="881" y="2293"/>
                </a:lnTo>
                <a:lnTo>
                  <a:pt x="846" y="2434"/>
                </a:lnTo>
                <a:lnTo>
                  <a:pt x="846" y="2540"/>
                </a:lnTo>
                <a:lnTo>
                  <a:pt x="846" y="2645"/>
                </a:lnTo>
                <a:lnTo>
                  <a:pt x="846" y="2751"/>
                </a:lnTo>
                <a:lnTo>
                  <a:pt x="811" y="2857"/>
                </a:lnTo>
                <a:lnTo>
                  <a:pt x="776" y="2963"/>
                </a:lnTo>
                <a:lnTo>
                  <a:pt x="705" y="3069"/>
                </a:lnTo>
                <a:lnTo>
                  <a:pt x="670" y="3175"/>
                </a:lnTo>
                <a:lnTo>
                  <a:pt x="635" y="3280"/>
                </a:lnTo>
                <a:lnTo>
                  <a:pt x="599" y="3421"/>
                </a:lnTo>
                <a:lnTo>
                  <a:pt x="529" y="3563"/>
                </a:lnTo>
                <a:lnTo>
                  <a:pt x="493" y="3668"/>
                </a:lnTo>
                <a:lnTo>
                  <a:pt x="423" y="3774"/>
                </a:lnTo>
                <a:lnTo>
                  <a:pt x="388" y="3880"/>
                </a:lnTo>
                <a:lnTo>
                  <a:pt x="352" y="3986"/>
                </a:lnTo>
                <a:lnTo>
                  <a:pt x="317" y="4127"/>
                </a:lnTo>
                <a:lnTo>
                  <a:pt x="282" y="4233"/>
                </a:lnTo>
                <a:lnTo>
                  <a:pt x="282" y="4339"/>
                </a:lnTo>
                <a:lnTo>
                  <a:pt x="246" y="4445"/>
                </a:lnTo>
                <a:lnTo>
                  <a:pt x="246" y="4550"/>
                </a:lnTo>
                <a:lnTo>
                  <a:pt x="211" y="4656"/>
                </a:lnTo>
                <a:lnTo>
                  <a:pt x="211" y="4797"/>
                </a:lnTo>
                <a:lnTo>
                  <a:pt x="176" y="4903"/>
                </a:lnTo>
                <a:lnTo>
                  <a:pt x="141" y="5010"/>
                </a:lnTo>
                <a:lnTo>
                  <a:pt x="70" y="5116"/>
                </a:lnTo>
                <a:lnTo>
                  <a:pt x="70" y="5363"/>
                </a:lnTo>
                <a:lnTo>
                  <a:pt x="70" y="5504"/>
                </a:lnTo>
                <a:lnTo>
                  <a:pt x="35" y="5645"/>
                </a:lnTo>
                <a:lnTo>
                  <a:pt x="35" y="5857"/>
                </a:lnTo>
                <a:lnTo>
                  <a:pt x="0" y="5962"/>
                </a:lnTo>
                <a:lnTo>
                  <a:pt x="0" y="6068"/>
                </a:lnTo>
                <a:lnTo>
                  <a:pt x="35" y="6174"/>
                </a:lnTo>
                <a:lnTo>
                  <a:pt x="70" y="6280"/>
                </a:lnTo>
                <a:lnTo>
                  <a:pt x="105" y="6421"/>
                </a:lnTo>
                <a:lnTo>
                  <a:pt x="176" y="6562"/>
                </a:lnTo>
                <a:lnTo>
                  <a:pt x="211" y="6844"/>
                </a:lnTo>
                <a:lnTo>
                  <a:pt x="246" y="6950"/>
                </a:lnTo>
                <a:lnTo>
                  <a:pt x="282" y="7091"/>
                </a:lnTo>
                <a:lnTo>
                  <a:pt x="282" y="7338"/>
                </a:lnTo>
                <a:lnTo>
                  <a:pt x="246" y="7444"/>
                </a:lnTo>
                <a:lnTo>
                  <a:pt x="211" y="7585"/>
                </a:lnTo>
                <a:lnTo>
                  <a:pt x="211" y="7691"/>
                </a:lnTo>
                <a:lnTo>
                  <a:pt x="211" y="7832"/>
                </a:lnTo>
                <a:lnTo>
                  <a:pt x="211" y="7938"/>
                </a:lnTo>
                <a:lnTo>
                  <a:pt x="211" y="8079"/>
                </a:lnTo>
                <a:lnTo>
                  <a:pt x="176" y="8220"/>
                </a:lnTo>
                <a:lnTo>
                  <a:pt x="141" y="8326"/>
                </a:lnTo>
                <a:lnTo>
                  <a:pt x="141" y="8432"/>
                </a:lnTo>
                <a:lnTo>
                  <a:pt x="141" y="8573"/>
                </a:lnTo>
                <a:lnTo>
                  <a:pt x="105" y="8679"/>
                </a:lnTo>
                <a:lnTo>
                  <a:pt x="105" y="8785"/>
                </a:lnTo>
                <a:lnTo>
                  <a:pt x="105" y="8890"/>
                </a:lnTo>
                <a:lnTo>
                  <a:pt x="105" y="8996"/>
                </a:lnTo>
                <a:lnTo>
                  <a:pt x="141" y="9137"/>
                </a:lnTo>
                <a:lnTo>
                  <a:pt x="176" y="9243"/>
                </a:lnTo>
                <a:lnTo>
                  <a:pt x="246" y="9349"/>
                </a:lnTo>
                <a:lnTo>
                  <a:pt x="352" y="9420"/>
                </a:lnTo>
                <a:lnTo>
                  <a:pt x="423" y="9525"/>
                </a:lnTo>
                <a:lnTo>
                  <a:pt x="529" y="9631"/>
                </a:lnTo>
                <a:lnTo>
                  <a:pt x="599" y="9737"/>
                </a:lnTo>
                <a:lnTo>
                  <a:pt x="705" y="9808"/>
                </a:lnTo>
                <a:lnTo>
                  <a:pt x="811" y="9808"/>
                </a:lnTo>
                <a:lnTo>
                  <a:pt x="917" y="9737"/>
                </a:lnTo>
                <a:lnTo>
                  <a:pt x="1023" y="9737"/>
                </a:lnTo>
                <a:lnTo>
                  <a:pt x="1128" y="9737"/>
                </a:lnTo>
                <a:lnTo>
                  <a:pt x="1270" y="9737"/>
                </a:lnTo>
                <a:lnTo>
                  <a:pt x="1375" y="9737"/>
                </a:lnTo>
                <a:lnTo>
                  <a:pt x="1481" y="9737"/>
                </a:lnTo>
                <a:lnTo>
                  <a:pt x="1587" y="9737"/>
                </a:lnTo>
                <a:lnTo>
                  <a:pt x="1693" y="9772"/>
                </a:lnTo>
                <a:lnTo>
                  <a:pt x="1799" y="9772"/>
                </a:lnTo>
                <a:lnTo>
                  <a:pt x="1905" y="9772"/>
                </a:lnTo>
                <a:lnTo>
                  <a:pt x="2010" y="9808"/>
                </a:lnTo>
                <a:lnTo>
                  <a:pt x="2116" y="9808"/>
                </a:lnTo>
                <a:lnTo>
                  <a:pt x="2223" y="9808"/>
                </a:lnTo>
                <a:lnTo>
                  <a:pt x="2329" y="9772"/>
                </a:lnTo>
                <a:lnTo>
                  <a:pt x="2435" y="9737"/>
                </a:lnTo>
                <a:lnTo>
                  <a:pt x="2576" y="9737"/>
                </a:lnTo>
                <a:lnTo>
                  <a:pt x="2682" y="9702"/>
                </a:lnTo>
                <a:lnTo>
                  <a:pt x="2823" y="9667"/>
                </a:lnTo>
                <a:lnTo>
                  <a:pt x="2964" y="9631"/>
                </a:lnTo>
                <a:lnTo>
                  <a:pt x="3070" y="9596"/>
                </a:lnTo>
                <a:lnTo>
                  <a:pt x="3176" y="9561"/>
                </a:lnTo>
                <a:lnTo>
                  <a:pt x="3281" y="9525"/>
                </a:lnTo>
                <a:lnTo>
                  <a:pt x="3387" y="9490"/>
                </a:lnTo>
                <a:lnTo>
                  <a:pt x="3493" y="9455"/>
                </a:lnTo>
                <a:lnTo>
                  <a:pt x="3599" y="9455"/>
                </a:lnTo>
                <a:lnTo>
                  <a:pt x="3775" y="9349"/>
                </a:lnTo>
                <a:lnTo>
                  <a:pt x="3811" y="9137"/>
                </a:lnTo>
                <a:lnTo>
                  <a:pt x="3881" y="9032"/>
                </a:lnTo>
                <a:lnTo>
                  <a:pt x="3846" y="9173"/>
                </a:lnTo>
                <a:lnTo>
                  <a:pt x="3775" y="9349"/>
                </a:lnTo>
                <a:close/>
              </a:path>
            </a:pathLst>
          </a:custGeom>
          <a:solidFill>
            <a:srgbClr val="ff9999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80880" y="22860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ing : Eat Me 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4356000" y="4927680"/>
            <a:ext cx="241560" cy="660600"/>
          </a:xfrm>
          <a:custGeom>
            <a:avLst/>
            <a:gdLst/>
            <a:ahLst/>
            <a:rect l="0" t="0" r="r" b="b"/>
            <a:pathLst>
              <a:path w="671" h="1835">
                <a:moveTo>
                  <a:pt x="35" y="1200"/>
                </a:moveTo>
                <a:lnTo>
                  <a:pt x="70" y="1517"/>
                </a:lnTo>
                <a:lnTo>
                  <a:pt x="246" y="1729"/>
                </a:lnTo>
                <a:lnTo>
                  <a:pt x="459" y="1835"/>
                </a:lnTo>
                <a:lnTo>
                  <a:pt x="671" y="1659"/>
                </a:lnTo>
                <a:lnTo>
                  <a:pt x="671" y="282"/>
                </a:lnTo>
                <a:lnTo>
                  <a:pt x="494" y="0"/>
                </a:lnTo>
                <a:lnTo>
                  <a:pt x="141" y="105"/>
                </a:lnTo>
                <a:lnTo>
                  <a:pt x="0" y="670"/>
                </a:lnTo>
                <a:lnTo>
                  <a:pt x="35" y="1200"/>
                </a:lnTo>
                <a:close/>
              </a:path>
            </a:pathLst>
          </a:custGeom>
          <a:solidFill>
            <a:srgbClr val="9933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737240" y="4851360"/>
            <a:ext cx="241560" cy="660600"/>
          </a:xfrm>
          <a:custGeom>
            <a:avLst/>
            <a:gdLst/>
            <a:ahLst/>
            <a:rect l="0" t="0" r="r" b="b"/>
            <a:pathLst>
              <a:path w="671" h="1835">
                <a:moveTo>
                  <a:pt x="35" y="1200"/>
                </a:moveTo>
                <a:lnTo>
                  <a:pt x="70" y="1517"/>
                </a:lnTo>
                <a:lnTo>
                  <a:pt x="246" y="1729"/>
                </a:lnTo>
                <a:lnTo>
                  <a:pt x="459" y="1835"/>
                </a:lnTo>
                <a:lnTo>
                  <a:pt x="671" y="1659"/>
                </a:lnTo>
                <a:lnTo>
                  <a:pt x="671" y="282"/>
                </a:lnTo>
                <a:lnTo>
                  <a:pt x="494" y="0"/>
                </a:lnTo>
                <a:lnTo>
                  <a:pt x="141" y="105"/>
                </a:lnTo>
                <a:lnTo>
                  <a:pt x="0" y="670"/>
                </a:lnTo>
                <a:lnTo>
                  <a:pt x="35" y="1200"/>
                </a:lnTo>
                <a:close/>
              </a:path>
            </a:pathLst>
          </a:custGeom>
          <a:solidFill>
            <a:srgbClr val="9933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2955600" y="2770200"/>
            <a:ext cx="1203840" cy="955800"/>
            <a:chOff x="2955600" y="2770200"/>
            <a:chExt cx="1203840" cy="955800"/>
          </a:xfrm>
        </p:grpSpPr>
        <p:sp>
          <p:nvSpPr>
            <p:cNvPr id="521" name=""/>
            <p:cNvSpPr/>
            <p:nvPr/>
          </p:nvSpPr>
          <p:spPr>
            <a:xfrm>
              <a:off x="2955600" y="3422880"/>
              <a:ext cx="290520" cy="303120"/>
            </a:xfrm>
            <a:custGeom>
              <a:avLst/>
              <a:gdLst/>
              <a:ahLst/>
              <a:rect l="0" t="0" r="r" b="b"/>
              <a:pathLst>
                <a:path w="807" h="842">
                  <a:moveTo>
                    <a:pt x="259" y="23"/>
                  </a:moveTo>
                  <a:lnTo>
                    <a:pt x="259" y="23"/>
                  </a:lnTo>
                  <a:lnTo>
                    <a:pt x="258" y="23"/>
                  </a:lnTo>
                  <a:cubicBezTo>
                    <a:pt x="192" y="47"/>
                    <a:pt x="134" y="89"/>
                    <a:pt x="90" y="145"/>
                  </a:cubicBezTo>
                  <a:cubicBezTo>
                    <a:pt x="45" y="201"/>
                    <a:pt x="16" y="268"/>
                    <a:pt x="5" y="341"/>
                  </a:cubicBezTo>
                  <a:cubicBezTo>
                    <a:pt x="-6" y="413"/>
                    <a:pt x="2" y="488"/>
                    <a:pt x="27" y="558"/>
                  </a:cubicBezTo>
                  <a:cubicBezTo>
                    <a:pt x="53" y="628"/>
                    <a:pt x="95" y="691"/>
                    <a:pt x="150" y="739"/>
                  </a:cubicBezTo>
                  <a:cubicBezTo>
                    <a:pt x="205" y="788"/>
                    <a:pt x="271" y="821"/>
                    <a:pt x="341" y="835"/>
                  </a:cubicBezTo>
                  <a:cubicBezTo>
                    <a:pt x="411" y="849"/>
                    <a:pt x="482" y="844"/>
                    <a:pt x="548" y="820"/>
                  </a:cubicBezTo>
                  <a:lnTo>
                    <a:pt x="548" y="820"/>
                  </a:lnTo>
                  <a:lnTo>
                    <a:pt x="549" y="820"/>
                  </a:lnTo>
                  <a:cubicBezTo>
                    <a:pt x="615" y="796"/>
                    <a:pt x="673" y="754"/>
                    <a:pt x="717" y="698"/>
                  </a:cubicBezTo>
                  <a:cubicBezTo>
                    <a:pt x="762" y="642"/>
                    <a:pt x="791" y="575"/>
                    <a:pt x="802" y="502"/>
                  </a:cubicBezTo>
                  <a:cubicBezTo>
                    <a:pt x="813" y="430"/>
                    <a:pt x="805" y="355"/>
                    <a:pt x="780" y="285"/>
                  </a:cubicBezTo>
                  <a:cubicBezTo>
                    <a:pt x="754" y="215"/>
                    <a:pt x="712" y="152"/>
                    <a:pt x="657" y="104"/>
                  </a:cubicBezTo>
                  <a:cubicBezTo>
                    <a:pt x="602" y="55"/>
                    <a:pt x="536" y="22"/>
                    <a:pt x="466" y="8"/>
                  </a:cubicBezTo>
                  <a:cubicBezTo>
                    <a:pt x="396" y="-6"/>
                    <a:pt x="325" y="-1"/>
                    <a:pt x="259" y="23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213000" y="2770200"/>
              <a:ext cx="946440" cy="952920"/>
            </a:xfrm>
            <a:custGeom>
              <a:avLst/>
              <a:gdLst/>
              <a:ahLst/>
              <a:rect l="0" t="0" r="r" b="b"/>
              <a:pathLst>
                <a:path w="2629" h="2647">
                  <a:moveTo>
                    <a:pt x="2219" y="0"/>
                  </a:moveTo>
                  <a:lnTo>
                    <a:pt x="1998" y="198"/>
                  </a:lnTo>
                  <a:lnTo>
                    <a:pt x="1738" y="1032"/>
                  </a:lnTo>
                  <a:lnTo>
                    <a:pt x="1495" y="1654"/>
                  </a:lnTo>
                  <a:lnTo>
                    <a:pt x="0" y="1786"/>
                  </a:lnTo>
                  <a:lnTo>
                    <a:pt x="167" y="2647"/>
                  </a:lnTo>
                  <a:lnTo>
                    <a:pt x="2095" y="2325"/>
                  </a:lnTo>
                  <a:lnTo>
                    <a:pt x="2607" y="657"/>
                  </a:lnTo>
                  <a:lnTo>
                    <a:pt x="2629" y="233"/>
                  </a:lnTo>
                  <a:lnTo>
                    <a:pt x="2430" y="8"/>
                  </a:lnTo>
                  <a:lnTo>
                    <a:pt x="2219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3911760" y="4025880"/>
            <a:ext cx="940320" cy="1371960"/>
          </a:xfrm>
          <a:custGeom>
            <a:avLst/>
            <a:gdLst/>
            <a:ahLst/>
            <a:rect l="0" t="0" r="r" b="b"/>
            <a:pathLst>
              <a:path w="2612" h="3811">
                <a:moveTo>
                  <a:pt x="0" y="0"/>
                </a:moveTo>
                <a:lnTo>
                  <a:pt x="352" y="2893"/>
                </a:lnTo>
                <a:lnTo>
                  <a:pt x="635" y="3705"/>
                </a:lnTo>
                <a:lnTo>
                  <a:pt x="882" y="3775"/>
                </a:lnTo>
                <a:lnTo>
                  <a:pt x="1200" y="3811"/>
                </a:lnTo>
                <a:lnTo>
                  <a:pt x="1376" y="3634"/>
                </a:lnTo>
                <a:lnTo>
                  <a:pt x="1129" y="2823"/>
                </a:lnTo>
                <a:lnTo>
                  <a:pt x="1024" y="1658"/>
                </a:lnTo>
                <a:lnTo>
                  <a:pt x="1024" y="1234"/>
                </a:lnTo>
                <a:lnTo>
                  <a:pt x="1094" y="2364"/>
                </a:lnTo>
                <a:lnTo>
                  <a:pt x="1200" y="3246"/>
                </a:lnTo>
                <a:lnTo>
                  <a:pt x="1376" y="3528"/>
                </a:lnTo>
                <a:lnTo>
                  <a:pt x="1588" y="3564"/>
                </a:lnTo>
                <a:lnTo>
                  <a:pt x="1412" y="3564"/>
                </a:lnTo>
                <a:lnTo>
                  <a:pt x="1553" y="3669"/>
                </a:lnTo>
                <a:lnTo>
                  <a:pt x="1764" y="3705"/>
                </a:lnTo>
                <a:lnTo>
                  <a:pt x="2118" y="3634"/>
                </a:lnTo>
                <a:lnTo>
                  <a:pt x="2612" y="3281"/>
                </a:lnTo>
                <a:lnTo>
                  <a:pt x="2612" y="3070"/>
                </a:lnTo>
                <a:lnTo>
                  <a:pt x="2542" y="2329"/>
                </a:lnTo>
                <a:lnTo>
                  <a:pt x="2153" y="2399"/>
                </a:lnTo>
                <a:lnTo>
                  <a:pt x="2224" y="2823"/>
                </a:lnTo>
                <a:lnTo>
                  <a:pt x="2153" y="2435"/>
                </a:lnTo>
                <a:lnTo>
                  <a:pt x="2153" y="1481"/>
                </a:lnTo>
                <a:lnTo>
                  <a:pt x="2224" y="7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463840" y="6146640"/>
            <a:ext cx="3670560" cy="344880"/>
          </a:xfrm>
          <a:custGeom>
            <a:avLst/>
            <a:gdLst/>
            <a:ahLst/>
            <a:rect l="0" t="0" r="r" b="b"/>
            <a:pathLst>
              <a:path w="10196" h="958">
                <a:moveTo>
                  <a:pt x="3764" y="216"/>
                </a:moveTo>
                <a:lnTo>
                  <a:pt x="3654" y="246"/>
                </a:lnTo>
                <a:lnTo>
                  <a:pt x="3570" y="246"/>
                </a:lnTo>
                <a:lnTo>
                  <a:pt x="3517" y="246"/>
                </a:lnTo>
                <a:lnTo>
                  <a:pt x="3407" y="216"/>
                </a:lnTo>
                <a:lnTo>
                  <a:pt x="3354" y="183"/>
                </a:lnTo>
                <a:lnTo>
                  <a:pt x="3297" y="183"/>
                </a:lnTo>
                <a:lnTo>
                  <a:pt x="3244" y="155"/>
                </a:lnTo>
                <a:lnTo>
                  <a:pt x="3217" y="155"/>
                </a:lnTo>
                <a:lnTo>
                  <a:pt x="2997" y="246"/>
                </a:lnTo>
                <a:lnTo>
                  <a:pt x="2781" y="340"/>
                </a:lnTo>
                <a:lnTo>
                  <a:pt x="2508" y="216"/>
                </a:lnTo>
                <a:lnTo>
                  <a:pt x="2208" y="94"/>
                </a:lnTo>
                <a:lnTo>
                  <a:pt x="2128" y="61"/>
                </a:lnTo>
                <a:lnTo>
                  <a:pt x="2098" y="61"/>
                </a:lnTo>
                <a:lnTo>
                  <a:pt x="2071" y="61"/>
                </a:lnTo>
                <a:lnTo>
                  <a:pt x="2045" y="94"/>
                </a:lnTo>
                <a:lnTo>
                  <a:pt x="762" y="279"/>
                </a:lnTo>
                <a:lnTo>
                  <a:pt x="357" y="524"/>
                </a:lnTo>
                <a:lnTo>
                  <a:pt x="273" y="646"/>
                </a:lnTo>
                <a:lnTo>
                  <a:pt x="246" y="679"/>
                </a:lnTo>
                <a:lnTo>
                  <a:pt x="246" y="679"/>
                </a:lnTo>
                <a:lnTo>
                  <a:pt x="273" y="646"/>
                </a:lnTo>
                <a:lnTo>
                  <a:pt x="326" y="585"/>
                </a:lnTo>
                <a:lnTo>
                  <a:pt x="357" y="585"/>
                </a:lnTo>
                <a:lnTo>
                  <a:pt x="357" y="618"/>
                </a:lnTo>
                <a:lnTo>
                  <a:pt x="357" y="742"/>
                </a:lnTo>
                <a:lnTo>
                  <a:pt x="299" y="803"/>
                </a:lnTo>
                <a:lnTo>
                  <a:pt x="189" y="836"/>
                </a:lnTo>
                <a:lnTo>
                  <a:pt x="83" y="864"/>
                </a:lnTo>
                <a:lnTo>
                  <a:pt x="0" y="897"/>
                </a:lnTo>
                <a:lnTo>
                  <a:pt x="110" y="958"/>
                </a:lnTo>
                <a:lnTo>
                  <a:pt x="189" y="958"/>
                </a:lnTo>
                <a:lnTo>
                  <a:pt x="273" y="925"/>
                </a:lnTo>
                <a:lnTo>
                  <a:pt x="383" y="897"/>
                </a:lnTo>
                <a:lnTo>
                  <a:pt x="489" y="742"/>
                </a:lnTo>
                <a:lnTo>
                  <a:pt x="573" y="679"/>
                </a:lnTo>
                <a:lnTo>
                  <a:pt x="656" y="679"/>
                </a:lnTo>
                <a:lnTo>
                  <a:pt x="819" y="742"/>
                </a:lnTo>
                <a:lnTo>
                  <a:pt x="899" y="864"/>
                </a:lnTo>
                <a:lnTo>
                  <a:pt x="982" y="897"/>
                </a:lnTo>
                <a:lnTo>
                  <a:pt x="1093" y="864"/>
                </a:lnTo>
                <a:lnTo>
                  <a:pt x="1198" y="775"/>
                </a:lnTo>
                <a:lnTo>
                  <a:pt x="1282" y="679"/>
                </a:lnTo>
                <a:lnTo>
                  <a:pt x="1362" y="679"/>
                </a:lnTo>
                <a:lnTo>
                  <a:pt x="1445" y="712"/>
                </a:lnTo>
                <a:lnTo>
                  <a:pt x="1555" y="775"/>
                </a:lnTo>
                <a:lnTo>
                  <a:pt x="1829" y="712"/>
                </a:lnTo>
                <a:lnTo>
                  <a:pt x="2128" y="679"/>
                </a:lnTo>
                <a:lnTo>
                  <a:pt x="2481" y="742"/>
                </a:lnTo>
                <a:lnTo>
                  <a:pt x="2671" y="742"/>
                </a:lnTo>
                <a:lnTo>
                  <a:pt x="2917" y="712"/>
                </a:lnTo>
                <a:lnTo>
                  <a:pt x="3133" y="679"/>
                </a:lnTo>
                <a:lnTo>
                  <a:pt x="3217" y="712"/>
                </a:lnTo>
                <a:lnTo>
                  <a:pt x="3270" y="742"/>
                </a:lnTo>
                <a:lnTo>
                  <a:pt x="3270" y="742"/>
                </a:lnTo>
                <a:lnTo>
                  <a:pt x="3517" y="958"/>
                </a:lnTo>
                <a:lnTo>
                  <a:pt x="3953" y="742"/>
                </a:lnTo>
                <a:lnTo>
                  <a:pt x="4579" y="742"/>
                </a:lnTo>
                <a:lnTo>
                  <a:pt x="5016" y="742"/>
                </a:lnTo>
                <a:lnTo>
                  <a:pt x="5068" y="864"/>
                </a:lnTo>
                <a:lnTo>
                  <a:pt x="5127" y="925"/>
                </a:lnTo>
                <a:lnTo>
                  <a:pt x="5237" y="958"/>
                </a:lnTo>
                <a:lnTo>
                  <a:pt x="5369" y="925"/>
                </a:lnTo>
                <a:lnTo>
                  <a:pt x="5479" y="897"/>
                </a:lnTo>
                <a:lnTo>
                  <a:pt x="5537" y="864"/>
                </a:lnTo>
                <a:lnTo>
                  <a:pt x="5590" y="897"/>
                </a:lnTo>
                <a:lnTo>
                  <a:pt x="5669" y="958"/>
                </a:lnTo>
                <a:lnTo>
                  <a:pt x="5779" y="958"/>
                </a:lnTo>
                <a:lnTo>
                  <a:pt x="5863" y="925"/>
                </a:lnTo>
                <a:lnTo>
                  <a:pt x="5916" y="925"/>
                </a:lnTo>
                <a:lnTo>
                  <a:pt x="5969" y="897"/>
                </a:lnTo>
                <a:lnTo>
                  <a:pt x="6026" y="864"/>
                </a:lnTo>
                <a:lnTo>
                  <a:pt x="6052" y="864"/>
                </a:lnTo>
                <a:lnTo>
                  <a:pt x="6326" y="897"/>
                </a:lnTo>
                <a:lnTo>
                  <a:pt x="6573" y="836"/>
                </a:lnTo>
                <a:lnTo>
                  <a:pt x="6736" y="897"/>
                </a:lnTo>
                <a:lnTo>
                  <a:pt x="6872" y="925"/>
                </a:lnTo>
                <a:lnTo>
                  <a:pt x="6952" y="958"/>
                </a:lnTo>
                <a:lnTo>
                  <a:pt x="6978" y="958"/>
                </a:lnTo>
                <a:lnTo>
                  <a:pt x="7088" y="925"/>
                </a:lnTo>
                <a:lnTo>
                  <a:pt x="7198" y="897"/>
                </a:lnTo>
                <a:lnTo>
                  <a:pt x="7251" y="897"/>
                </a:lnTo>
                <a:lnTo>
                  <a:pt x="7304" y="864"/>
                </a:lnTo>
                <a:lnTo>
                  <a:pt x="7304" y="864"/>
                </a:lnTo>
                <a:lnTo>
                  <a:pt x="7551" y="925"/>
                </a:lnTo>
                <a:lnTo>
                  <a:pt x="7688" y="958"/>
                </a:lnTo>
                <a:lnTo>
                  <a:pt x="7798" y="925"/>
                </a:lnTo>
                <a:lnTo>
                  <a:pt x="7908" y="897"/>
                </a:lnTo>
                <a:lnTo>
                  <a:pt x="8014" y="864"/>
                </a:lnTo>
                <a:lnTo>
                  <a:pt x="8124" y="836"/>
                </a:lnTo>
                <a:lnTo>
                  <a:pt x="8151" y="836"/>
                </a:lnTo>
                <a:lnTo>
                  <a:pt x="8450" y="897"/>
                </a:lnTo>
                <a:lnTo>
                  <a:pt x="8587" y="897"/>
                </a:lnTo>
                <a:lnTo>
                  <a:pt x="8724" y="864"/>
                </a:lnTo>
                <a:lnTo>
                  <a:pt x="8944" y="864"/>
                </a:lnTo>
                <a:lnTo>
                  <a:pt x="9160" y="836"/>
                </a:lnTo>
                <a:lnTo>
                  <a:pt x="9213" y="775"/>
                </a:lnTo>
                <a:lnTo>
                  <a:pt x="9270" y="712"/>
                </a:lnTo>
                <a:lnTo>
                  <a:pt x="9433" y="679"/>
                </a:lnTo>
                <a:lnTo>
                  <a:pt x="9596" y="679"/>
                </a:lnTo>
                <a:lnTo>
                  <a:pt x="9759" y="712"/>
                </a:lnTo>
                <a:lnTo>
                  <a:pt x="9896" y="712"/>
                </a:lnTo>
                <a:lnTo>
                  <a:pt x="10033" y="679"/>
                </a:lnTo>
                <a:lnTo>
                  <a:pt x="10112" y="618"/>
                </a:lnTo>
                <a:lnTo>
                  <a:pt x="10196" y="524"/>
                </a:lnTo>
                <a:lnTo>
                  <a:pt x="10169" y="462"/>
                </a:lnTo>
                <a:lnTo>
                  <a:pt x="10143" y="434"/>
                </a:lnTo>
                <a:lnTo>
                  <a:pt x="10112" y="401"/>
                </a:lnTo>
                <a:lnTo>
                  <a:pt x="10059" y="434"/>
                </a:lnTo>
                <a:lnTo>
                  <a:pt x="9980" y="462"/>
                </a:lnTo>
                <a:lnTo>
                  <a:pt x="9922" y="495"/>
                </a:lnTo>
                <a:lnTo>
                  <a:pt x="9896" y="495"/>
                </a:lnTo>
                <a:lnTo>
                  <a:pt x="9843" y="462"/>
                </a:lnTo>
                <a:lnTo>
                  <a:pt x="9733" y="462"/>
                </a:lnTo>
                <a:lnTo>
                  <a:pt x="9649" y="434"/>
                </a:lnTo>
                <a:lnTo>
                  <a:pt x="9570" y="401"/>
                </a:lnTo>
                <a:lnTo>
                  <a:pt x="9513" y="373"/>
                </a:lnTo>
                <a:lnTo>
                  <a:pt x="9433" y="307"/>
                </a:lnTo>
                <a:lnTo>
                  <a:pt x="9376" y="279"/>
                </a:lnTo>
                <a:lnTo>
                  <a:pt x="9349" y="246"/>
                </a:lnTo>
                <a:lnTo>
                  <a:pt x="8913" y="307"/>
                </a:lnTo>
                <a:lnTo>
                  <a:pt x="8508" y="373"/>
                </a:lnTo>
                <a:lnTo>
                  <a:pt x="8340" y="340"/>
                </a:lnTo>
                <a:lnTo>
                  <a:pt x="8177" y="340"/>
                </a:lnTo>
                <a:lnTo>
                  <a:pt x="8040" y="279"/>
                </a:lnTo>
                <a:lnTo>
                  <a:pt x="7908" y="216"/>
                </a:lnTo>
                <a:lnTo>
                  <a:pt x="7798" y="155"/>
                </a:lnTo>
                <a:lnTo>
                  <a:pt x="7714" y="94"/>
                </a:lnTo>
                <a:lnTo>
                  <a:pt x="7608" y="61"/>
                </a:lnTo>
                <a:lnTo>
                  <a:pt x="7578" y="32"/>
                </a:lnTo>
                <a:lnTo>
                  <a:pt x="7278" y="94"/>
                </a:lnTo>
                <a:lnTo>
                  <a:pt x="6978" y="155"/>
                </a:lnTo>
                <a:lnTo>
                  <a:pt x="6815" y="183"/>
                </a:lnTo>
                <a:lnTo>
                  <a:pt x="6652" y="122"/>
                </a:lnTo>
                <a:lnTo>
                  <a:pt x="6326" y="0"/>
                </a:lnTo>
                <a:lnTo>
                  <a:pt x="5942" y="61"/>
                </a:lnTo>
                <a:lnTo>
                  <a:pt x="5753" y="94"/>
                </a:lnTo>
                <a:lnTo>
                  <a:pt x="5563" y="155"/>
                </a:lnTo>
                <a:lnTo>
                  <a:pt x="5479" y="183"/>
                </a:lnTo>
                <a:lnTo>
                  <a:pt x="5369" y="216"/>
                </a:lnTo>
                <a:lnTo>
                  <a:pt x="5290" y="246"/>
                </a:lnTo>
                <a:lnTo>
                  <a:pt x="5263" y="246"/>
                </a:lnTo>
                <a:lnTo>
                  <a:pt x="5153" y="246"/>
                </a:lnTo>
                <a:lnTo>
                  <a:pt x="5016" y="216"/>
                </a:lnTo>
                <a:lnTo>
                  <a:pt x="4879" y="183"/>
                </a:lnTo>
                <a:lnTo>
                  <a:pt x="4826" y="155"/>
                </a:lnTo>
                <a:lnTo>
                  <a:pt x="4800" y="155"/>
                </a:lnTo>
                <a:lnTo>
                  <a:pt x="4663" y="183"/>
                </a:lnTo>
                <a:lnTo>
                  <a:pt x="4579" y="216"/>
                </a:lnTo>
                <a:lnTo>
                  <a:pt x="4469" y="216"/>
                </a:lnTo>
                <a:lnTo>
                  <a:pt x="4332" y="183"/>
                </a:lnTo>
                <a:lnTo>
                  <a:pt x="4279" y="155"/>
                </a:lnTo>
                <a:lnTo>
                  <a:pt x="4200" y="122"/>
                </a:lnTo>
                <a:lnTo>
                  <a:pt x="4143" y="94"/>
                </a:lnTo>
                <a:lnTo>
                  <a:pt x="4116" y="94"/>
                </a:lnTo>
                <a:lnTo>
                  <a:pt x="4033" y="122"/>
                </a:lnTo>
                <a:lnTo>
                  <a:pt x="3980" y="155"/>
                </a:lnTo>
                <a:lnTo>
                  <a:pt x="3927" y="183"/>
                </a:lnTo>
                <a:lnTo>
                  <a:pt x="3896" y="183"/>
                </a:lnTo>
                <a:lnTo>
                  <a:pt x="3817" y="155"/>
                </a:lnTo>
                <a:lnTo>
                  <a:pt x="3733" y="183"/>
                </a:lnTo>
                <a:lnTo>
                  <a:pt x="3706" y="216"/>
                </a:lnTo>
                <a:lnTo>
                  <a:pt x="3706" y="216"/>
                </a:lnTo>
                <a:lnTo>
                  <a:pt x="3764" y="216"/>
                </a:lnTo>
                <a:close/>
              </a:path>
            </a:pathLst>
          </a:custGeom>
          <a:solidFill>
            <a:srgbClr val="e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3719520" y="915840"/>
            <a:ext cx="1081440" cy="3275640"/>
            <a:chOff x="3719520" y="915840"/>
            <a:chExt cx="1081440" cy="3275640"/>
          </a:xfrm>
        </p:grpSpPr>
        <p:sp>
          <p:nvSpPr>
            <p:cNvPr id="526" name=""/>
            <p:cNvSpPr/>
            <p:nvPr/>
          </p:nvSpPr>
          <p:spPr>
            <a:xfrm>
              <a:off x="3819600" y="2590920"/>
              <a:ext cx="981360" cy="1600560"/>
            </a:xfrm>
            <a:custGeom>
              <a:avLst/>
              <a:gdLst/>
              <a:ahLst/>
              <a:rect l="0" t="0" r="r" b="b"/>
              <a:pathLst>
                <a:path w="2726" h="4446">
                  <a:moveTo>
                    <a:pt x="953" y="374"/>
                  </a:moveTo>
                  <a:lnTo>
                    <a:pt x="865" y="392"/>
                  </a:lnTo>
                  <a:lnTo>
                    <a:pt x="799" y="436"/>
                  </a:lnTo>
                  <a:lnTo>
                    <a:pt x="672" y="582"/>
                  </a:lnTo>
                  <a:lnTo>
                    <a:pt x="540" y="723"/>
                  </a:lnTo>
                  <a:lnTo>
                    <a:pt x="391" y="851"/>
                  </a:lnTo>
                  <a:lnTo>
                    <a:pt x="369" y="890"/>
                  </a:lnTo>
                  <a:lnTo>
                    <a:pt x="347" y="930"/>
                  </a:lnTo>
                  <a:lnTo>
                    <a:pt x="347" y="930"/>
                  </a:lnTo>
                  <a:lnTo>
                    <a:pt x="369" y="930"/>
                  </a:lnTo>
                  <a:lnTo>
                    <a:pt x="153" y="1553"/>
                  </a:lnTo>
                  <a:lnTo>
                    <a:pt x="0" y="4345"/>
                  </a:lnTo>
                  <a:lnTo>
                    <a:pt x="2726" y="4446"/>
                  </a:lnTo>
                  <a:lnTo>
                    <a:pt x="2317" y="1844"/>
                  </a:lnTo>
                  <a:lnTo>
                    <a:pt x="2119" y="414"/>
                  </a:lnTo>
                  <a:lnTo>
                    <a:pt x="1385" y="0"/>
                  </a:lnTo>
                  <a:lnTo>
                    <a:pt x="953" y="374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3719520" y="915840"/>
              <a:ext cx="1005120" cy="1818000"/>
              <a:chOff x="3719520" y="915840"/>
              <a:chExt cx="1005120" cy="1818000"/>
            </a:xfrm>
          </p:grpSpPr>
          <p:sp>
            <p:nvSpPr>
              <p:cNvPr id="528" name=""/>
              <p:cNvSpPr/>
              <p:nvPr/>
            </p:nvSpPr>
            <p:spPr>
              <a:xfrm>
                <a:off x="3828960" y="1152360"/>
                <a:ext cx="895680" cy="1581480"/>
              </a:xfrm>
              <a:custGeom>
                <a:avLst/>
                <a:gdLst/>
                <a:ahLst/>
                <a:rect l="0" t="0" r="r" b="b"/>
                <a:pathLst>
                  <a:path w="2488" h="4393">
                    <a:moveTo>
                      <a:pt x="582" y="0"/>
                    </a:moveTo>
                    <a:lnTo>
                      <a:pt x="264" y="264"/>
                    </a:lnTo>
                    <a:lnTo>
                      <a:pt x="79" y="687"/>
                    </a:lnTo>
                    <a:lnTo>
                      <a:pt x="26" y="1217"/>
                    </a:lnTo>
                    <a:lnTo>
                      <a:pt x="0" y="2699"/>
                    </a:lnTo>
                    <a:lnTo>
                      <a:pt x="52" y="3546"/>
                    </a:lnTo>
                    <a:lnTo>
                      <a:pt x="820" y="3599"/>
                    </a:lnTo>
                    <a:lnTo>
                      <a:pt x="926" y="4075"/>
                    </a:lnTo>
                    <a:lnTo>
                      <a:pt x="1031" y="4393"/>
                    </a:lnTo>
                    <a:lnTo>
                      <a:pt x="1271" y="4393"/>
                    </a:lnTo>
                    <a:lnTo>
                      <a:pt x="1403" y="4102"/>
                    </a:lnTo>
                    <a:lnTo>
                      <a:pt x="1323" y="3599"/>
                    </a:lnTo>
                    <a:lnTo>
                      <a:pt x="2038" y="3519"/>
                    </a:lnTo>
                    <a:lnTo>
                      <a:pt x="2064" y="3017"/>
                    </a:lnTo>
                    <a:lnTo>
                      <a:pt x="2223" y="3096"/>
                    </a:lnTo>
                    <a:lnTo>
                      <a:pt x="2382" y="3043"/>
                    </a:lnTo>
                    <a:lnTo>
                      <a:pt x="2488" y="2620"/>
                    </a:lnTo>
                    <a:lnTo>
                      <a:pt x="2355" y="2408"/>
                    </a:lnTo>
                    <a:lnTo>
                      <a:pt x="2197" y="2435"/>
                    </a:lnTo>
                    <a:lnTo>
                      <a:pt x="2355" y="185"/>
                    </a:lnTo>
                    <a:lnTo>
                      <a:pt x="582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719520" y="1595520"/>
                <a:ext cx="409680" cy="4096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071960" y="1557360"/>
                <a:ext cx="485640" cy="4856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262400" y="1757520"/>
                <a:ext cx="85680" cy="85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4560" bIns="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852720" y="1766880"/>
                <a:ext cx="85680" cy="85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4560" bIns="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059360" y="944640"/>
                <a:ext cx="7920" cy="217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4173480" y="925560"/>
                <a:ext cx="17640" cy="217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4335480" y="915840"/>
                <a:ext cx="36360" cy="227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V="1">
                <a:off x="4497480" y="963720"/>
                <a:ext cx="55440" cy="198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V="1">
                <a:off x="4640400" y="992160"/>
                <a:ext cx="55440" cy="179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819600" y="2104920"/>
                <a:ext cx="657720" cy="257400"/>
              </a:xfrm>
              <a:custGeom>
                <a:avLst/>
                <a:gdLst/>
                <a:ahLst/>
                <a:rect l="0" t="0" r="r" b="b"/>
                <a:pathLst>
                  <a:path w="1827" h="715">
                    <a:moveTo>
                      <a:pt x="0" y="0"/>
                    </a:moveTo>
                    <a:lnTo>
                      <a:pt x="1827" y="163"/>
                    </a:lnTo>
                    <a:lnTo>
                      <a:pt x="746" y="7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9" name=""/>
            <p:cNvSpPr/>
            <p:nvPr/>
          </p:nvSpPr>
          <p:spPr>
            <a:xfrm>
              <a:off x="4114800" y="2600280"/>
              <a:ext cx="305280" cy="181440"/>
            </a:xfrm>
            <a:custGeom>
              <a:avLst/>
              <a:gdLst/>
              <a:ahLst/>
              <a:rect l="0" t="0" r="r" b="b"/>
              <a:pathLst>
                <a:path w="848" h="504">
                  <a:moveTo>
                    <a:pt x="0" y="344"/>
                  </a:moveTo>
                  <a:lnTo>
                    <a:pt x="239" y="478"/>
                  </a:lnTo>
                  <a:lnTo>
                    <a:pt x="663" y="504"/>
                  </a:lnTo>
                  <a:lnTo>
                    <a:pt x="848" y="265"/>
                  </a:lnTo>
                  <a:lnTo>
                    <a:pt x="848" y="79"/>
                  </a:lnTo>
                  <a:lnTo>
                    <a:pt x="663" y="0"/>
                  </a:lnTo>
                  <a:lnTo>
                    <a:pt x="477" y="265"/>
                  </a:lnTo>
                  <a:lnTo>
                    <a:pt x="185" y="292"/>
                  </a:lnTo>
                  <a:lnTo>
                    <a:pt x="0" y="344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4124160" y="3548160"/>
            <a:ext cx="276480" cy="562320"/>
          </a:xfrm>
          <a:custGeom>
            <a:avLst/>
            <a:gdLst/>
            <a:ahLst/>
            <a:rect l="0" t="0" r="r" b="b"/>
            <a:pathLst>
              <a:path w="768" h="1562">
                <a:moveTo>
                  <a:pt x="196" y="62"/>
                </a:moveTo>
                <a:lnTo>
                  <a:pt x="235" y="22"/>
                </a:lnTo>
                <a:lnTo>
                  <a:pt x="274" y="0"/>
                </a:lnTo>
                <a:lnTo>
                  <a:pt x="313" y="22"/>
                </a:lnTo>
                <a:lnTo>
                  <a:pt x="374" y="40"/>
                </a:lnTo>
                <a:lnTo>
                  <a:pt x="471" y="0"/>
                </a:lnTo>
                <a:lnTo>
                  <a:pt x="511" y="0"/>
                </a:lnTo>
                <a:lnTo>
                  <a:pt x="572" y="0"/>
                </a:lnTo>
                <a:lnTo>
                  <a:pt x="572" y="62"/>
                </a:lnTo>
                <a:lnTo>
                  <a:pt x="572" y="80"/>
                </a:lnTo>
                <a:lnTo>
                  <a:pt x="511" y="142"/>
                </a:lnTo>
                <a:lnTo>
                  <a:pt x="532" y="227"/>
                </a:lnTo>
                <a:lnTo>
                  <a:pt x="532" y="289"/>
                </a:lnTo>
                <a:lnTo>
                  <a:pt x="572" y="330"/>
                </a:lnTo>
                <a:lnTo>
                  <a:pt x="611" y="392"/>
                </a:lnTo>
                <a:lnTo>
                  <a:pt x="589" y="535"/>
                </a:lnTo>
                <a:lnTo>
                  <a:pt x="550" y="637"/>
                </a:lnTo>
                <a:lnTo>
                  <a:pt x="589" y="700"/>
                </a:lnTo>
                <a:lnTo>
                  <a:pt x="650" y="780"/>
                </a:lnTo>
                <a:lnTo>
                  <a:pt x="707" y="861"/>
                </a:lnTo>
                <a:lnTo>
                  <a:pt x="729" y="924"/>
                </a:lnTo>
                <a:lnTo>
                  <a:pt x="746" y="986"/>
                </a:lnTo>
                <a:lnTo>
                  <a:pt x="768" y="1026"/>
                </a:lnTo>
                <a:lnTo>
                  <a:pt x="768" y="1026"/>
                </a:lnTo>
                <a:lnTo>
                  <a:pt x="746" y="1174"/>
                </a:lnTo>
                <a:lnTo>
                  <a:pt x="729" y="1294"/>
                </a:lnTo>
                <a:lnTo>
                  <a:pt x="707" y="1419"/>
                </a:lnTo>
                <a:lnTo>
                  <a:pt x="668" y="1562"/>
                </a:lnTo>
                <a:lnTo>
                  <a:pt x="668" y="1521"/>
                </a:lnTo>
                <a:lnTo>
                  <a:pt x="668" y="1481"/>
                </a:lnTo>
                <a:lnTo>
                  <a:pt x="689" y="1437"/>
                </a:lnTo>
                <a:lnTo>
                  <a:pt x="689" y="1419"/>
                </a:lnTo>
                <a:lnTo>
                  <a:pt x="668" y="1356"/>
                </a:lnTo>
                <a:lnTo>
                  <a:pt x="650" y="1276"/>
                </a:lnTo>
                <a:lnTo>
                  <a:pt x="668" y="1214"/>
                </a:lnTo>
                <a:lnTo>
                  <a:pt x="689" y="1191"/>
                </a:lnTo>
                <a:lnTo>
                  <a:pt x="689" y="1174"/>
                </a:lnTo>
                <a:lnTo>
                  <a:pt x="668" y="1049"/>
                </a:lnTo>
                <a:lnTo>
                  <a:pt x="628" y="986"/>
                </a:lnTo>
                <a:lnTo>
                  <a:pt x="589" y="946"/>
                </a:lnTo>
                <a:lnTo>
                  <a:pt x="550" y="884"/>
                </a:lnTo>
                <a:lnTo>
                  <a:pt x="511" y="821"/>
                </a:lnTo>
                <a:lnTo>
                  <a:pt x="471" y="861"/>
                </a:lnTo>
                <a:lnTo>
                  <a:pt x="432" y="884"/>
                </a:lnTo>
                <a:lnTo>
                  <a:pt x="393" y="906"/>
                </a:lnTo>
                <a:lnTo>
                  <a:pt x="374" y="924"/>
                </a:lnTo>
                <a:lnTo>
                  <a:pt x="353" y="924"/>
                </a:lnTo>
                <a:lnTo>
                  <a:pt x="353" y="843"/>
                </a:lnTo>
                <a:lnTo>
                  <a:pt x="353" y="821"/>
                </a:lnTo>
                <a:lnTo>
                  <a:pt x="353" y="803"/>
                </a:lnTo>
                <a:lnTo>
                  <a:pt x="374" y="758"/>
                </a:lnTo>
                <a:lnTo>
                  <a:pt x="393" y="718"/>
                </a:lnTo>
                <a:lnTo>
                  <a:pt x="393" y="718"/>
                </a:lnTo>
                <a:lnTo>
                  <a:pt x="393" y="740"/>
                </a:lnTo>
                <a:lnTo>
                  <a:pt x="393" y="758"/>
                </a:lnTo>
                <a:lnTo>
                  <a:pt x="374" y="780"/>
                </a:lnTo>
                <a:lnTo>
                  <a:pt x="335" y="758"/>
                </a:lnTo>
                <a:lnTo>
                  <a:pt x="313" y="740"/>
                </a:lnTo>
                <a:lnTo>
                  <a:pt x="296" y="740"/>
                </a:lnTo>
                <a:lnTo>
                  <a:pt x="274" y="758"/>
                </a:lnTo>
                <a:lnTo>
                  <a:pt x="257" y="780"/>
                </a:lnTo>
                <a:lnTo>
                  <a:pt x="196" y="718"/>
                </a:lnTo>
                <a:lnTo>
                  <a:pt x="178" y="780"/>
                </a:lnTo>
                <a:lnTo>
                  <a:pt x="156" y="803"/>
                </a:lnTo>
                <a:lnTo>
                  <a:pt x="117" y="780"/>
                </a:lnTo>
                <a:lnTo>
                  <a:pt x="39" y="758"/>
                </a:lnTo>
                <a:lnTo>
                  <a:pt x="17" y="740"/>
                </a:lnTo>
                <a:lnTo>
                  <a:pt x="0" y="700"/>
                </a:lnTo>
                <a:lnTo>
                  <a:pt x="17" y="677"/>
                </a:lnTo>
                <a:lnTo>
                  <a:pt x="39" y="677"/>
                </a:lnTo>
                <a:lnTo>
                  <a:pt x="117" y="700"/>
                </a:lnTo>
                <a:lnTo>
                  <a:pt x="196" y="718"/>
                </a:lnTo>
                <a:lnTo>
                  <a:pt x="196" y="718"/>
                </a:lnTo>
                <a:lnTo>
                  <a:pt x="178" y="700"/>
                </a:lnTo>
                <a:lnTo>
                  <a:pt x="156" y="677"/>
                </a:lnTo>
                <a:lnTo>
                  <a:pt x="139" y="655"/>
                </a:lnTo>
                <a:lnTo>
                  <a:pt x="139" y="637"/>
                </a:lnTo>
                <a:lnTo>
                  <a:pt x="139" y="597"/>
                </a:lnTo>
                <a:lnTo>
                  <a:pt x="156" y="553"/>
                </a:lnTo>
                <a:lnTo>
                  <a:pt x="178" y="535"/>
                </a:lnTo>
                <a:lnTo>
                  <a:pt x="178" y="472"/>
                </a:lnTo>
                <a:lnTo>
                  <a:pt x="178" y="410"/>
                </a:lnTo>
                <a:lnTo>
                  <a:pt x="178" y="267"/>
                </a:lnTo>
                <a:lnTo>
                  <a:pt x="139" y="227"/>
                </a:lnTo>
                <a:lnTo>
                  <a:pt x="117" y="205"/>
                </a:lnTo>
                <a:lnTo>
                  <a:pt x="117" y="182"/>
                </a:lnTo>
                <a:lnTo>
                  <a:pt x="139" y="165"/>
                </a:lnTo>
                <a:lnTo>
                  <a:pt x="156" y="142"/>
                </a:lnTo>
                <a:lnTo>
                  <a:pt x="156" y="124"/>
                </a:lnTo>
                <a:lnTo>
                  <a:pt x="196" y="62"/>
                </a:lnTo>
                <a:close/>
              </a:path>
            </a:pathLst>
          </a:custGeom>
          <a:solidFill>
            <a:srgbClr val="e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3943440" y="3200400"/>
            <a:ext cx="755640" cy="1740240"/>
            <a:chOff x="3943440" y="3200400"/>
            <a:chExt cx="755640" cy="1740240"/>
          </a:xfrm>
        </p:grpSpPr>
        <p:sp>
          <p:nvSpPr>
            <p:cNvPr id="542" name=""/>
            <p:cNvSpPr/>
            <p:nvPr/>
          </p:nvSpPr>
          <p:spPr>
            <a:xfrm>
              <a:off x="4341960" y="3301920"/>
              <a:ext cx="174960" cy="165600"/>
            </a:xfrm>
            <a:custGeom>
              <a:avLst/>
              <a:gdLst/>
              <a:ahLst/>
              <a:rect l="0" t="0" r="r" b="b"/>
              <a:pathLst>
                <a:path w="486" h="460">
                  <a:moveTo>
                    <a:pt x="100" y="271"/>
                  </a:moveTo>
                  <a:lnTo>
                    <a:pt x="100" y="189"/>
                  </a:lnTo>
                  <a:lnTo>
                    <a:pt x="150" y="102"/>
                  </a:lnTo>
                  <a:lnTo>
                    <a:pt x="257" y="51"/>
                  </a:lnTo>
                  <a:lnTo>
                    <a:pt x="357" y="0"/>
                  </a:lnTo>
                  <a:lnTo>
                    <a:pt x="413" y="34"/>
                  </a:lnTo>
                  <a:lnTo>
                    <a:pt x="486" y="85"/>
                  </a:lnTo>
                  <a:lnTo>
                    <a:pt x="486" y="121"/>
                  </a:lnTo>
                  <a:lnTo>
                    <a:pt x="486" y="121"/>
                  </a:lnTo>
                  <a:lnTo>
                    <a:pt x="435" y="121"/>
                  </a:lnTo>
                  <a:lnTo>
                    <a:pt x="335" y="172"/>
                  </a:lnTo>
                  <a:lnTo>
                    <a:pt x="228" y="241"/>
                  </a:lnTo>
                  <a:lnTo>
                    <a:pt x="206" y="322"/>
                  </a:lnTo>
                  <a:lnTo>
                    <a:pt x="206" y="357"/>
                  </a:lnTo>
                  <a:lnTo>
                    <a:pt x="178" y="392"/>
                  </a:lnTo>
                  <a:lnTo>
                    <a:pt x="150" y="426"/>
                  </a:lnTo>
                  <a:lnTo>
                    <a:pt x="100" y="443"/>
                  </a:lnTo>
                  <a:lnTo>
                    <a:pt x="72" y="460"/>
                  </a:lnTo>
                  <a:lnTo>
                    <a:pt x="50" y="460"/>
                  </a:lnTo>
                  <a:lnTo>
                    <a:pt x="0" y="426"/>
                  </a:lnTo>
                  <a:lnTo>
                    <a:pt x="0" y="392"/>
                  </a:lnTo>
                  <a:lnTo>
                    <a:pt x="22" y="374"/>
                  </a:lnTo>
                  <a:lnTo>
                    <a:pt x="50" y="305"/>
                  </a:lnTo>
                  <a:lnTo>
                    <a:pt x="72" y="288"/>
                  </a:lnTo>
                  <a:lnTo>
                    <a:pt x="100" y="288"/>
                  </a:lnTo>
                  <a:lnTo>
                    <a:pt x="100" y="271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943440" y="3473280"/>
              <a:ext cx="201960" cy="267120"/>
            </a:xfrm>
            <a:custGeom>
              <a:avLst/>
              <a:gdLst/>
              <a:ahLst/>
              <a:rect l="0" t="0" r="r" b="b"/>
              <a:pathLst>
                <a:path w="561" h="742">
                  <a:moveTo>
                    <a:pt x="424" y="581"/>
                  </a:moveTo>
                  <a:lnTo>
                    <a:pt x="315" y="442"/>
                  </a:lnTo>
                  <a:lnTo>
                    <a:pt x="204" y="281"/>
                  </a:lnTo>
                  <a:lnTo>
                    <a:pt x="204" y="200"/>
                  </a:lnTo>
                  <a:lnTo>
                    <a:pt x="204" y="118"/>
                  </a:lnTo>
                  <a:lnTo>
                    <a:pt x="245" y="56"/>
                  </a:lnTo>
                  <a:lnTo>
                    <a:pt x="315" y="0"/>
                  </a:lnTo>
                  <a:lnTo>
                    <a:pt x="335" y="37"/>
                  </a:lnTo>
                  <a:lnTo>
                    <a:pt x="383" y="56"/>
                  </a:lnTo>
                  <a:lnTo>
                    <a:pt x="404" y="99"/>
                  </a:lnTo>
                  <a:lnTo>
                    <a:pt x="404" y="118"/>
                  </a:lnTo>
                  <a:lnTo>
                    <a:pt x="294" y="161"/>
                  </a:lnTo>
                  <a:lnTo>
                    <a:pt x="177" y="200"/>
                  </a:lnTo>
                  <a:lnTo>
                    <a:pt x="225" y="219"/>
                  </a:lnTo>
                  <a:lnTo>
                    <a:pt x="245" y="219"/>
                  </a:lnTo>
                  <a:lnTo>
                    <a:pt x="294" y="219"/>
                  </a:lnTo>
                  <a:lnTo>
                    <a:pt x="315" y="219"/>
                  </a:lnTo>
                  <a:lnTo>
                    <a:pt x="356" y="243"/>
                  </a:lnTo>
                  <a:lnTo>
                    <a:pt x="445" y="262"/>
                  </a:lnTo>
                  <a:lnTo>
                    <a:pt x="472" y="281"/>
                  </a:lnTo>
                  <a:lnTo>
                    <a:pt x="492" y="281"/>
                  </a:lnTo>
                  <a:lnTo>
                    <a:pt x="534" y="361"/>
                  </a:lnTo>
                  <a:lnTo>
                    <a:pt x="561" y="442"/>
                  </a:lnTo>
                  <a:lnTo>
                    <a:pt x="534" y="504"/>
                  </a:lnTo>
                  <a:lnTo>
                    <a:pt x="492" y="542"/>
                  </a:lnTo>
                  <a:lnTo>
                    <a:pt x="356" y="605"/>
                  </a:lnTo>
                  <a:lnTo>
                    <a:pt x="204" y="643"/>
                  </a:lnTo>
                  <a:lnTo>
                    <a:pt x="157" y="685"/>
                  </a:lnTo>
                  <a:lnTo>
                    <a:pt x="88" y="723"/>
                  </a:lnTo>
                  <a:lnTo>
                    <a:pt x="47" y="742"/>
                  </a:lnTo>
                  <a:lnTo>
                    <a:pt x="26" y="723"/>
                  </a:lnTo>
                  <a:lnTo>
                    <a:pt x="0" y="685"/>
                  </a:lnTo>
                  <a:lnTo>
                    <a:pt x="88" y="643"/>
                  </a:lnTo>
                  <a:lnTo>
                    <a:pt x="157" y="643"/>
                  </a:lnTo>
                  <a:lnTo>
                    <a:pt x="225" y="624"/>
                  </a:lnTo>
                  <a:lnTo>
                    <a:pt x="315" y="581"/>
                  </a:lnTo>
                  <a:lnTo>
                    <a:pt x="356" y="542"/>
                  </a:lnTo>
                  <a:lnTo>
                    <a:pt x="356" y="523"/>
                  </a:lnTo>
                  <a:lnTo>
                    <a:pt x="383" y="542"/>
                  </a:lnTo>
                  <a:lnTo>
                    <a:pt x="424" y="581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019400" y="3970440"/>
              <a:ext cx="297360" cy="111600"/>
            </a:xfrm>
            <a:custGeom>
              <a:avLst/>
              <a:gdLst/>
              <a:ahLst/>
              <a:rect l="0" t="0" r="r" b="b"/>
              <a:pathLst>
                <a:path w="826" h="310">
                  <a:moveTo>
                    <a:pt x="625" y="67"/>
                  </a:moveTo>
                  <a:lnTo>
                    <a:pt x="559" y="136"/>
                  </a:lnTo>
                  <a:lnTo>
                    <a:pt x="513" y="174"/>
                  </a:lnTo>
                  <a:lnTo>
                    <a:pt x="468" y="106"/>
                  </a:lnTo>
                  <a:lnTo>
                    <a:pt x="403" y="37"/>
                  </a:lnTo>
                  <a:lnTo>
                    <a:pt x="201" y="106"/>
                  </a:lnTo>
                  <a:lnTo>
                    <a:pt x="0" y="211"/>
                  </a:lnTo>
                  <a:lnTo>
                    <a:pt x="20" y="310"/>
                  </a:lnTo>
                  <a:lnTo>
                    <a:pt x="90" y="310"/>
                  </a:lnTo>
                  <a:lnTo>
                    <a:pt x="247" y="310"/>
                  </a:lnTo>
                  <a:lnTo>
                    <a:pt x="267" y="280"/>
                  </a:lnTo>
                  <a:lnTo>
                    <a:pt x="332" y="242"/>
                  </a:lnTo>
                  <a:lnTo>
                    <a:pt x="378" y="211"/>
                  </a:lnTo>
                  <a:lnTo>
                    <a:pt x="403" y="211"/>
                  </a:lnTo>
                  <a:lnTo>
                    <a:pt x="448" y="242"/>
                  </a:lnTo>
                  <a:lnTo>
                    <a:pt x="513" y="280"/>
                  </a:lnTo>
                  <a:lnTo>
                    <a:pt x="559" y="310"/>
                  </a:lnTo>
                  <a:lnTo>
                    <a:pt x="579" y="310"/>
                  </a:lnTo>
                  <a:lnTo>
                    <a:pt x="645" y="310"/>
                  </a:lnTo>
                  <a:lnTo>
                    <a:pt x="715" y="280"/>
                  </a:lnTo>
                  <a:lnTo>
                    <a:pt x="736" y="211"/>
                  </a:lnTo>
                  <a:lnTo>
                    <a:pt x="801" y="67"/>
                  </a:lnTo>
                  <a:lnTo>
                    <a:pt x="826" y="37"/>
                  </a:lnTo>
                  <a:lnTo>
                    <a:pt x="826" y="0"/>
                  </a:lnTo>
                  <a:lnTo>
                    <a:pt x="801" y="37"/>
                  </a:lnTo>
                  <a:lnTo>
                    <a:pt x="761" y="67"/>
                  </a:lnTo>
                  <a:lnTo>
                    <a:pt x="715" y="174"/>
                  </a:lnTo>
                  <a:lnTo>
                    <a:pt x="670" y="242"/>
                  </a:lnTo>
                  <a:lnTo>
                    <a:pt x="645" y="242"/>
                  </a:lnTo>
                  <a:lnTo>
                    <a:pt x="625" y="242"/>
                  </a:lnTo>
                  <a:lnTo>
                    <a:pt x="625" y="174"/>
                  </a:lnTo>
                  <a:lnTo>
                    <a:pt x="625" y="67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008600" y="3200400"/>
              <a:ext cx="279720" cy="230400"/>
            </a:xfrm>
            <a:custGeom>
              <a:avLst/>
              <a:gdLst/>
              <a:ahLst/>
              <a:rect l="0" t="0" r="r" b="b"/>
              <a:pathLst>
                <a:path w="777" h="640">
                  <a:moveTo>
                    <a:pt x="648" y="604"/>
                  </a:moveTo>
                  <a:lnTo>
                    <a:pt x="629" y="427"/>
                  </a:lnTo>
                  <a:lnTo>
                    <a:pt x="629" y="267"/>
                  </a:lnTo>
                  <a:lnTo>
                    <a:pt x="629" y="194"/>
                  </a:lnTo>
                  <a:lnTo>
                    <a:pt x="586" y="122"/>
                  </a:lnTo>
                  <a:lnTo>
                    <a:pt x="543" y="54"/>
                  </a:lnTo>
                  <a:lnTo>
                    <a:pt x="462" y="0"/>
                  </a:lnTo>
                  <a:lnTo>
                    <a:pt x="481" y="122"/>
                  </a:lnTo>
                  <a:lnTo>
                    <a:pt x="524" y="176"/>
                  </a:lnTo>
                  <a:lnTo>
                    <a:pt x="567" y="249"/>
                  </a:lnTo>
                  <a:lnTo>
                    <a:pt x="396" y="336"/>
                  </a:lnTo>
                  <a:lnTo>
                    <a:pt x="228" y="390"/>
                  </a:lnTo>
                  <a:lnTo>
                    <a:pt x="185" y="372"/>
                  </a:lnTo>
                  <a:lnTo>
                    <a:pt x="147" y="354"/>
                  </a:lnTo>
                  <a:lnTo>
                    <a:pt x="104" y="322"/>
                  </a:lnTo>
                  <a:lnTo>
                    <a:pt x="42" y="267"/>
                  </a:lnTo>
                  <a:lnTo>
                    <a:pt x="19" y="213"/>
                  </a:lnTo>
                  <a:lnTo>
                    <a:pt x="0" y="194"/>
                  </a:lnTo>
                  <a:lnTo>
                    <a:pt x="0" y="267"/>
                  </a:lnTo>
                  <a:lnTo>
                    <a:pt x="19" y="303"/>
                  </a:lnTo>
                  <a:lnTo>
                    <a:pt x="80" y="372"/>
                  </a:lnTo>
                  <a:lnTo>
                    <a:pt x="185" y="390"/>
                  </a:lnTo>
                  <a:lnTo>
                    <a:pt x="314" y="409"/>
                  </a:lnTo>
                  <a:lnTo>
                    <a:pt x="357" y="427"/>
                  </a:lnTo>
                  <a:lnTo>
                    <a:pt x="376" y="445"/>
                  </a:lnTo>
                  <a:lnTo>
                    <a:pt x="420" y="481"/>
                  </a:lnTo>
                  <a:lnTo>
                    <a:pt x="439" y="517"/>
                  </a:lnTo>
                  <a:lnTo>
                    <a:pt x="462" y="549"/>
                  </a:lnTo>
                  <a:lnTo>
                    <a:pt x="500" y="567"/>
                  </a:lnTo>
                  <a:lnTo>
                    <a:pt x="567" y="517"/>
                  </a:lnTo>
                  <a:lnTo>
                    <a:pt x="586" y="481"/>
                  </a:lnTo>
                  <a:lnTo>
                    <a:pt x="605" y="427"/>
                  </a:lnTo>
                  <a:lnTo>
                    <a:pt x="629" y="354"/>
                  </a:lnTo>
                  <a:lnTo>
                    <a:pt x="605" y="322"/>
                  </a:lnTo>
                  <a:lnTo>
                    <a:pt x="605" y="322"/>
                  </a:lnTo>
                  <a:lnTo>
                    <a:pt x="586" y="336"/>
                  </a:lnTo>
                  <a:lnTo>
                    <a:pt x="543" y="372"/>
                  </a:lnTo>
                  <a:lnTo>
                    <a:pt x="524" y="427"/>
                  </a:lnTo>
                  <a:lnTo>
                    <a:pt x="605" y="517"/>
                  </a:lnTo>
                  <a:lnTo>
                    <a:pt x="648" y="536"/>
                  </a:lnTo>
                  <a:lnTo>
                    <a:pt x="691" y="549"/>
                  </a:lnTo>
                  <a:lnTo>
                    <a:pt x="710" y="567"/>
                  </a:lnTo>
                  <a:lnTo>
                    <a:pt x="753" y="585"/>
                  </a:lnTo>
                  <a:lnTo>
                    <a:pt x="777" y="585"/>
                  </a:lnTo>
                  <a:lnTo>
                    <a:pt x="777" y="604"/>
                  </a:lnTo>
                  <a:lnTo>
                    <a:pt x="734" y="622"/>
                  </a:lnTo>
                  <a:lnTo>
                    <a:pt x="691" y="622"/>
                  </a:lnTo>
                  <a:lnTo>
                    <a:pt x="586" y="622"/>
                  </a:lnTo>
                  <a:lnTo>
                    <a:pt x="586" y="640"/>
                  </a:lnTo>
                  <a:lnTo>
                    <a:pt x="567" y="640"/>
                  </a:lnTo>
                  <a:lnTo>
                    <a:pt x="543" y="640"/>
                  </a:lnTo>
                  <a:lnTo>
                    <a:pt x="543" y="640"/>
                  </a:lnTo>
                  <a:lnTo>
                    <a:pt x="605" y="622"/>
                  </a:lnTo>
                  <a:lnTo>
                    <a:pt x="648" y="604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006800" y="4343400"/>
              <a:ext cx="133560" cy="322560"/>
            </a:xfrm>
            <a:custGeom>
              <a:avLst/>
              <a:gdLst/>
              <a:ahLst/>
              <a:rect l="0" t="0" r="r" b="b"/>
              <a:pathLst>
                <a:path w="371" h="896">
                  <a:moveTo>
                    <a:pt x="186" y="22"/>
                  </a:moveTo>
                  <a:lnTo>
                    <a:pt x="165" y="114"/>
                  </a:lnTo>
                  <a:lnTo>
                    <a:pt x="121" y="187"/>
                  </a:lnTo>
                  <a:lnTo>
                    <a:pt x="63" y="397"/>
                  </a:lnTo>
                  <a:lnTo>
                    <a:pt x="0" y="613"/>
                  </a:lnTo>
                  <a:lnTo>
                    <a:pt x="19" y="681"/>
                  </a:lnTo>
                  <a:lnTo>
                    <a:pt x="63" y="731"/>
                  </a:lnTo>
                  <a:lnTo>
                    <a:pt x="102" y="777"/>
                  </a:lnTo>
                  <a:lnTo>
                    <a:pt x="165" y="823"/>
                  </a:lnTo>
                  <a:lnTo>
                    <a:pt x="230" y="850"/>
                  </a:lnTo>
                  <a:lnTo>
                    <a:pt x="269" y="850"/>
                  </a:lnTo>
                  <a:lnTo>
                    <a:pt x="269" y="873"/>
                  </a:lnTo>
                  <a:lnTo>
                    <a:pt x="269" y="896"/>
                  </a:lnTo>
                  <a:lnTo>
                    <a:pt x="230" y="896"/>
                  </a:lnTo>
                  <a:lnTo>
                    <a:pt x="165" y="873"/>
                  </a:lnTo>
                  <a:lnTo>
                    <a:pt x="165" y="658"/>
                  </a:lnTo>
                  <a:lnTo>
                    <a:pt x="146" y="635"/>
                  </a:lnTo>
                  <a:lnTo>
                    <a:pt x="146" y="613"/>
                  </a:lnTo>
                  <a:lnTo>
                    <a:pt x="186" y="590"/>
                  </a:lnTo>
                  <a:lnTo>
                    <a:pt x="249" y="539"/>
                  </a:lnTo>
                  <a:lnTo>
                    <a:pt x="312" y="517"/>
                  </a:lnTo>
                  <a:lnTo>
                    <a:pt x="351" y="517"/>
                  </a:lnTo>
                  <a:lnTo>
                    <a:pt x="371" y="471"/>
                  </a:lnTo>
                  <a:lnTo>
                    <a:pt x="371" y="424"/>
                  </a:lnTo>
                  <a:lnTo>
                    <a:pt x="351" y="397"/>
                  </a:lnTo>
                  <a:lnTo>
                    <a:pt x="288" y="374"/>
                  </a:lnTo>
                  <a:lnTo>
                    <a:pt x="249" y="397"/>
                  </a:lnTo>
                  <a:lnTo>
                    <a:pt x="230" y="447"/>
                  </a:lnTo>
                  <a:lnTo>
                    <a:pt x="186" y="517"/>
                  </a:lnTo>
                  <a:lnTo>
                    <a:pt x="121" y="447"/>
                  </a:lnTo>
                  <a:lnTo>
                    <a:pt x="102" y="424"/>
                  </a:lnTo>
                  <a:lnTo>
                    <a:pt x="146" y="374"/>
                  </a:lnTo>
                  <a:lnTo>
                    <a:pt x="205" y="328"/>
                  </a:lnTo>
                  <a:lnTo>
                    <a:pt x="230" y="306"/>
                  </a:lnTo>
                  <a:lnTo>
                    <a:pt x="249" y="283"/>
                  </a:lnTo>
                  <a:lnTo>
                    <a:pt x="332" y="0"/>
                  </a:lnTo>
                  <a:lnTo>
                    <a:pt x="312" y="45"/>
                  </a:lnTo>
                  <a:lnTo>
                    <a:pt x="249" y="91"/>
                  </a:lnTo>
                  <a:lnTo>
                    <a:pt x="205" y="91"/>
                  </a:lnTo>
                  <a:lnTo>
                    <a:pt x="186" y="68"/>
                  </a:lnTo>
                  <a:lnTo>
                    <a:pt x="186" y="22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375080" y="4705200"/>
              <a:ext cx="105120" cy="235440"/>
            </a:xfrm>
            <a:custGeom>
              <a:avLst/>
              <a:gdLst/>
              <a:ahLst/>
              <a:rect l="0" t="0" r="r" b="b"/>
              <a:pathLst>
                <a:path w="292" h="654">
                  <a:moveTo>
                    <a:pt x="145" y="97"/>
                  </a:moveTo>
                  <a:lnTo>
                    <a:pt x="104" y="169"/>
                  </a:lnTo>
                  <a:lnTo>
                    <a:pt x="81" y="218"/>
                  </a:lnTo>
                  <a:lnTo>
                    <a:pt x="63" y="267"/>
                  </a:lnTo>
                  <a:lnTo>
                    <a:pt x="40" y="338"/>
                  </a:lnTo>
                  <a:lnTo>
                    <a:pt x="22" y="387"/>
                  </a:lnTo>
                  <a:lnTo>
                    <a:pt x="0" y="436"/>
                  </a:lnTo>
                  <a:lnTo>
                    <a:pt x="0" y="436"/>
                  </a:lnTo>
                  <a:lnTo>
                    <a:pt x="40" y="508"/>
                  </a:lnTo>
                  <a:lnTo>
                    <a:pt x="81" y="583"/>
                  </a:lnTo>
                  <a:lnTo>
                    <a:pt x="210" y="654"/>
                  </a:lnTo>
                  <a:lnTo>
                    <a:pt x="169" y="605"/>
                  </a:lnTo>
                  <a:lnTo>
                    <a:pt x="145" y="556"/>
                  </a:lnTo>
                  <a:lnTo>
                    <a:pt x="145" y="534"/>
                  </a:lnTo>
                  <a:lnTo>
                    <a:pt x="187" y="458"/>
                  </a:lnTo>
                  <a:lnTo>
                    <a:pt x="145" y="436"/>
                  </a:lnTo>
                  <a:lnTo>
                    <a:pt x="145" y="387"/>
                  </a:lnTo>
                  <a:lnTo>
                    <a:pt x="169" y="365"/>
                  </a:lnTo>
                  <a:lnTo>
                    <a:pt x="210" y="338"/>
                  </a:lnTo>
                  <a:lnTo>
                    <a:pt x="251" y="289"/>
                  </a:lnTo>
                  <a:lnTo>
                    <a:pt x="292" y="240"/>
                  </a:lnTo>
                  <a:lnTo>
                    <a:pt x="292" y="218"/>
                  </a:lnTo>
                  <a:lnTo>
                    <a:pt x="292" y="169"/>
                  </a:lnTo>
                  <a:lnTo>
                    <a:pt x="273" y="97"/>
                  </a:lnTo>
                  <a:lnTo>
                    <a:pt x="210" y="26"/>
                  </a:lnTo>
                  <a:lnTo>
                    <a:pt x="169" y="0"/>
                  </a:lnTo>
                  <a:lnTo>
                    <a:pt x="169" y="26"/>
                  </a:lnTo>
                  <a:lnTo>
                    <a:pt x="145" y="48"/>
                  </a:lnTo>
                  <a:lnTo>
                    <a:pt x="145" y="97"/>
                  </a:lnTo>
                  <a:lnTo>
                    <a:pt x="145" y="119"/>
                  </a:lnTo>
                  <a:lnTo>
                    <a:pt x="145" y="119"/>
                  </a:lnTo>
                  <a:lnTo>
                    <a:pt x="145" y="97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178160" y="3876840"/>
              <a:ext cx="520920" cy="306720"/>
            </a:xfrm>
            <a:custGeom>
              <a:avLst/>
              <a:gdLst/>
              <a:ahLst/>
              <a:rect l="0" t="0" r="r" b="b"/>
              <a:pathLst>
                <a:path w="1447" h="852">
                  <a:moveTo>
                    <a:pt x="833" y="197"/>
                  </a:moveTo>
                  <a:lnTo>
                    <a:pt x="792" y="389"/>
                  </a:lnTo>
                  <a:lnTo>
                    <a:pt x="746" y="488"/>
                  </a:lnTo>
                  <a:lnTo>
                    <a:pt x="677" y="561"/>
                  </a:lnTo>
                  <a:lnTo>
                    <a:pt x="591" y="535"/>
                  </a:lnTo>
                  <a:lnTo>
                    <a:pt x="550" y="509"/>
                  </a:lnTo>
                  <a:lnTo>
                    <a:pt x="482" y="509"/>
                  </a:lnTo>
                  <a:lnTo>
                    <a:pt x="395" y="535"/>
                  </a:lnTo>
                  <a:lnTo>
                    <a:pt x="309" y="608"/>
                  </a:lnTo>
                  <a:lnTo>
                    <a:pt x="200" y="634"/>
                  </a:lnTo>
                  <a:lnTo>
                    <a:pt x="0" y="732"/>
                  </a:lnTo>
                  <a:lnTo>
                    <a:pt x="0" y="779"/>
                  </a:lnTo>
                  <a:lnTo>
                    <a:pt x="22" y="826"/>
                  </a:lnTo>
                  <a:lnTo>
                    <a:pt x="109" y="852"/>
                  </a:lnTo>
                  <a:lnTo>
                    <a:pt x="218" y="826"/>
                  </a:lnTo>
                  <a:lnTo>
                    <a:pt x="309" y="805"/>
                  </a:lnTo>
                  <a:lnTo>
                    <a:pt x="527" y="732"/>
                  </a:lnTo>
                  <a:lnTo>
                    <a:pt x="724" y="634"/>
                  </a:lnTo>
                  <a:lnTo>
                    <a:pt x="792" y="634"/>
                  </a:lnTo>
                  <a:lnTo>
                    <a:pt x="856" y="660"/>
                  </a:lnTo>
                  <a:lnTo>
                    <a:pt x="919" y="680"/>
                  </a:lnTo>
                  <a:lnTo>
                    <a:pt x="965" y="732"/>
                  </a:lnTo>
                  <a:lnTo>
                    <a:pt x="1051" y="779"/>
                  </a:lnTo>
                  <a:lnTo>
                    <a:pt x="1074" y="732"/>
                  </a:lnTo>
                  <a:lnTo>
                    <a:pt x="1097" y="706"/>
                  </a:lnTo>
                  <a:lnTo>
                    <a:pt x="1142" y="706"/>
                  </a:lnTo>
                  <a:lnTo>
                    <a:pt x="1206" y="706"/>
                  </a:lnTo>
                  <a:lnTo>
                    <a:pt x="1251" y="706"/>
                  </a:lnTo>
                  <a:lnTo>
                    <a:pt x="1292" y="660"/>
                  </a:lnTo>
                  <a:lnTo>
                    <a:pt x="1338" y="561"/>
                  </a:lnTo>
                  <a:lnTo>
                    <a:pt x="1383" y="436"/>
                  </a:lnTo>
                  <a:lnTo>
                    <a:pt x="1424" y="316"/>
                  </a:lnTo>
                  <a:lnTo>
                    <a:pt x="1447" y="269"/>
                  </a:lnTo>
                  <a:lnTo>
                    <a:pt x="1447" y="243"/>
                  </a:lnTo>
                  <a:lnTo>
                    <a:pt x="1383" y="217"/>
                  </a:lnTo>
                  <a:lnTo>
                    <a:pt x="1292" y="197"/>
                  </a:lnTo>
                  <a:lnTo>
                    <a:pt x="1206" y="171"/>
                  </a:lnTo>
                  <a:lnTo>
                    <a:pt x="1160" y="171"/>
                  </a:lnTo>
                  <a:lnTo>
                    <a:pt x="1119" y="145"/>
                  </a:lnTo>
                  <a:lnTo>
                    <a:pt x="1051" y="124"/>
                  </a:lnTo>
                  <a:lnTo>
                    <a:pt x="1051" y="72"/>
                  </a:lnTo>
                  <a:lnTo>
                    <a:pt x="1033" y="25"/>
                  </a:lnTo>
                  <a:lnTo>
                    <a:pt x="942" y="0"/>
                  </a:lnTo>
                  <a:lnTo>
                    <a:pt x="833" y="0"/>
                  </a:lnTo>
                  <a:lnTo>
                    <a:pt x="746" y="0"/>
                  </a:lnTo>
                  <a:lnTo>
                    <a:pt x="769" y="51"/>
                  </a:lnTo>
                  <a:lnTo>
                    <a:pt x="769" y="72"/>
                  </a:lnTo>
                  <a:lnTo>
                    <a:pt x="833" y="197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2209680" y="6126120"/>
            <a:ext cx="1219680" cy="228960"/>
            <a:chOff x="2209680" y="6126120"/>
            <a:chExt cx="1219680" cy="228960"/>
          </a:xfrm>
        </p:grpSpPr>
        <p:sp>
          <p:nvSpPr>
            <p:cNvPr id="550" name=""/>
            <p:cNvSpPr/>
            <p:nvPr/>
          </p:nvSpPr>
          <p:spPr>
            <a:xfrm>
              <a:off x="2209680" y="6153120"/>
              <a:ext cx="1219680" cy="171720"/>
            </a:xfrm>
            <a:custGeom>
              <a:avLst/>
              <a:gdLst/>
              <a:ahLst/>
              <a:rect l="0" t="0" r="r" b="b"/>
              <a:pathLst>
                <a:path w="3388" h="477">
                  <a:moveTo>
                    <a:pt x="1493" y="84"/>
                  </a:moveTo>
                  <a:lnTo>
                    <a:pt x="3388" y="328"/>
                  </a:lnTo>
                  <a:lnTo>
                    <a:pt x="3229" y="412"/>
                  </a:lnTo>
                  <a:lnTo>
                    <a:pt x="2938" y="477"/>
                  </a:lnTo>
                  <a:lnTo>
                    <a:pt x="2239" y="457"/>
                  </a:lnTo>
                  <a:lnTo>
                    <a:pt x="1162" y="351"/>
                  </a:lnTo>
                  <a:lnTo>
                    <a:pt x="777" y="286"/>
                  </a:lnTo>
                  <a:lnTo>
                    <a:pt x="0" y="184"/>
                  </a:lnTo>
                  <a:lnTo>
                    <a:pt x="30" y="0"/>
                  </a:lnTo>
                  <a:lnTo>
                    <a:pt x="972" y="103"/>
                  </a:lnTo>
                  <a:lnTo>
                    <a:pt x="1188" y="182"/>
                  </a:lnTo>
                  <a:lnTo>
                    <a:pt x="1400" y="210"/>
                  </a:lnTo>
                  <a:lnTo>
                    <a:pt x="1493" y="84"/>
                  </a:lnTo>
                  <a:close/>
                </a:path>
              </a:pathLst>
            </a:custGeom>
            <a:blipFill rotWithShape="0">
              <a:blip r:embed="rId1"/>
              <a:tile tx="0" ty="0" sx="3528125" sy="3528125" algn="ctr"/>
            </a:blip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717640" y="6221520"/>
              <a:ext cx="695520" cy="133560"/>
            </a:xfrm>
            <a:custGeom>
              <a:avLst/>
              <a:gdLst/>
              <a:ahLst/>
              <a:rect l="0" t="0" r="r" b="b"/>
              <a:pathLst>
                <a:path w="1932" h="371">
                  <a:moveTo>
                    <a:pt x="34" y="12"/>
                  </a:moveTo>
                  <a:lnTo>
                    <a:pt x="225" y="0"/>
                  </a:lnTo>
                  <a:lnTo>
                    <a:pt x="381" y="133"/>
                  </a:lnTo>
                  <a:lnTo>
                    <a:pt x="658" y="83"/>
                  </a:lnTo>
                  <a:lnTo>
                    <a:pt x="1040" y="158"/>
                  </a:lnTo>
                  <a:lnTo>
                    <a:pt x="1243" y="200"/>
                  </a:lnTo>
                  <a:lnTo>
                    <a:pt x="1503" y="225"/>
                  </a:lnTo>
                  <a:lnTo>
                    <a:pt x="1932" y="204"/>
                  </a:lnTo>
                  <a:lnTo>
                    <a:pt x="1512" y="304"/>
                  </a:lnTo>
                  <a:lnTo>
                    <a:pt x="1209" y="371"/>
                  </a:lnTo>
                  <a:lnTo>
                    <a:pt x="692" y="296"/>
                  </a:lnTo>
                  <a:lnTo>
                    <a:pt x="407" y="267"/>
                  </a:lnTo>
                  <a:lnTo>
                    <a:pt x="0" y="188"/>
                  </a:lnTo>
                  <a:lnTo>
                    <a:pt x="34" y="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230560" y="6126120"/>
              <a:ext cx="495720" cy="124200"/>
            </a:xfrm>
            <a:custGeom>
              <a:avLst/>
              <a:gdLst/>
              <a:ahLst/>
              <a:rect l="0" t="0" r="r" b="b"/>
              <a:pathLst>
                <a:path w="1377" h="345">
                  <a:moveTo>
                    <a:pt x="1364" y="345"/>
                  </a:moveTo>
                  <a:lnTo>
                    <a:pt x="1377" y="230"/>
                  </a:lnTo>
                  <a:lnTo>
                    <a:pt x="1036" y="88"/>
                  </a:lnTo>
                  <a:lnTo>
                    <a:pt x="44" y="0"/>
                  </a:lnTo>
                  <a:lnTo>
                    <a:pt x="0" y="142"/>
                  </a:lnTo>
                  <a:lnTo>
                    <a:pt x="1364" y="345"/>
                  </a:lnTo>
                  <a:close/>
                </a:path>
              </a:pathLst>
            </a:custGeom>
            <a:solidFill>
              <a:srgbClr val="9933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4500720" y="2768760"/>
            <a:ext cx="1203120" cy="957240"/>
            <a:chOff x="4500720" y="2768760"/>
            <a:chExt cx="1203120" cy="957240"/>
          </a:xfrm>
        </p:grpSpPr>
        <p:sp>
          <p:nvSpPr>
            <p:cNvPr id="554" name=""/>
            <p:cNvSpPr/>
            <p:nvPr/>
          </p:nvSpPr>
          <p:spPr>
            <a:xfrm>
              <a:off x="5413320" y="3422880"/>
              <a:ext cx="290520" cy="303120"/>
            </a:xfrm>
            <a:custGeom>
              <a:avLst/>
              <a:gdLst/>
              <a:ahLst/>
              <a:rect l="0" t="0" r="r" b="b"/>
              <a:pathLst>
                <a:path w="807" h="842">
                  <a:moveTo>
                    <a:pt x="259" y="820"/>
                  </a:moveTo>
                  <a:lnTo>
                    <a:pt x="259" y="820"/>
                  </a:lnTo>
                  <a:cubicBezTo>
                    <a:pt x="325" y="844"/>
                    <a:pt x="396" y="849"/>
                    <a:pt x="466" y="835"/>
                  </a:cubicBezTo>
                  <a:cubicBezTo>
                    <a:pt x="536" y="821"/>
                    <a:pt x="602" y="788"/>
                    <a:pt x="657" y="739"/>
                  </a:cubicBezTo>
                  <a:cubicBezTo>
                    <a:pt x="712" y="691"/>
                    <a:pt x="754" y="628"/>
                    <a:pt x="780" y="558"/>
                  </a:cubicBezTo>
                  <a:cubicBezTo>
                    <a:pt x="805" y="488"/>
                    <a:pt x="813" y="413"/>
                    <a:pt x="802" y="341"/>
                  </a:cubicBezTo>
                  <a:cubicBezTo>
                    <a:pt x="791" y="268"/>
                    <a:pt x="762" y="201"/>
                    <a:pt x="717" y="145"/>
                  </a:cubicBezTo>
                  <a:cubicBezTo>
                    <a:pt x="673" y="89"/>
                    <a:pt x="615" y="47"/>
                    <a:pt x="549" y="23"/>
                  </a:cubicBezTo>
                  <a:lnTo>
                    <a:pt x="548" y="23"/>
                  </a:lnTo>
                  <a:lnTo>
                    <a:pt x="548" y="23"/>
                  </a:lnTo>
                  <a:cubicBezTo>
                    <a:pt x="482" y="-1"/>
                    <a:pt x="411" y="-6"/>
                    <a:pt x="341" y="8"/>
                  </a:cubicBezTo>
                  <a:cubicBezTo>
                    <a:pt x="271" y="22"/>
                    <a:pt x="205" y="55"/>
                    <a:pt x="150" y="104"/>
                  </a:cubicBezTo>
                  <a:cubicBezTo>
                    <a:pt x="95" y="152"/>
                    <a:pt x="53" y="215"/>
                    <a:pt x="27" y="285"/>
                  </a:cubicBezTo>
                  <a:cubicBezTo>
                    <a:pt x="2" y="355"/>
                    <a:pt x="-6" y="430"/>
                    <a:pt x="5" y="502"/>
                  </a:cubicBezTo>
                  <a:cubicBezTo>
                    <a:pt x="16" y="575"/>
                    <a:pt x="45" y="642"/>
                    <a:pt x="90" y="698"/>
                  </a:cubicBezTo>
                  <a:cubicBezTo>
                    <a:pt x="134" y="754"/>
                    <a:pt x="192" y="796"/>
                    <a:pt x="258" y="820"/>
                  </a:cubicBezTo>
                  <a:lnTo>
                    <a:pt x="259" y="82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500720" y="2768760"/>
              <a:ext cx="946440" cy="952920"/>
            </a:xfrm>
            <a:custGeom>
              <a:avLst/>
              <a:gdLst/>
              <a:ahLst/>
              <a:rect l="0" t="0" r="r" b="b"/>
              <a:pathLst>
                <a:path w="2629" h="2647">
                  <a:moveTo>
                    <a:pt x="410" y="0"/>
                  </a:moveTo>
                  <a:lnTo>
                    <a:pt x="630" y="198"/>
                  </a:lnTo>
                  <a:lnTo>
                    <a:pt x="890" y="1032"/>
                  </a:lnTo>
                  <a:lnTo>
                    <a:pt x="1133" y="1654"/>
                  </a:lnTo>
                  <a:lnTo>
                    <a:pt x="2629" y="1786"/>
                  </a:lnTo>
                  <a:lnTo>
                    <a:pt x="2461" y="2647"/>
                  </a:lnTo>
                  <a:lnTo>
                    <a:pt x="533" y="2325"/>
                  </a:lnTo>
                  <a:lnTo>
                    <a:pt x="22" y="657"/>
                  </a:lnTo>
                  <a:lnTo>
                    <a:pt x="0" y="233"/>
                  </a:lnTo>
                  <a:lnTo>
                    <a:pt x="194" y="8"/>
                  </a:lnTo>
                  <a:lnTo>
                    <a:pt x="41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2832120" y="3478320"/>
            <a:ext cx="3099240" cy="2922840"/>
          </a:xfrm>
          <a:custGeom>
            <a:avLst/>
            <a:gdLst/>
            <a:ahLst/>
            <a:rect l="0" t="0" r="r" b="b"/>
            <a:pathLst>
              <a:path w="8609" h="8119">
                <a:moveTo>
                  <a:pt x="3775" y="379"/>
                </a:moveTo>
                <a:lnTo>
                  <a:pt x="3916" y="496"/>
                </a:lnTo>
                <a:lnTo>
                  <a:pt x="3916" y="613"/>
                </a:lnTo>
                <a:lnTo>
                  <a:pt x="3846" y="700"/>
                </a:lnTo>
                <a:lnTo>
                  <a:pt x="3775" y="788"/>
                </a:lnTo>
                <a:lnTo>
                  <a:pt x="3669" y="759"/>
                </a:lnTo>
                <a:lnTo>
                  <a:pt x="3564" y="671"/>
                </a:lnTo>
                <a:lnTo>
                  <a:pt x="3458" y="642"/>
                </a:lnTo>
                <a:lnTo>
                  <a:pt x="3352" y="613"/>
                </a:lnTo>
                <a:lnTo>
                  <a:pt x="3211" y="584"/>
                </a:lnTo>
                <a:lnTo>
                  <a:pt x="3070" y="584"/>
                </a:lnTo>
                <a:lnTo>
                  <a:pt x="2823" y="584"/>
                </a:lnTo>
                <a:lnTo>
                  <a:pt x="2717" y="584"/>
                </a:lnTo>
                <a:lnTo>
                  <a:pt x="2611" y="496"/>
                </a:lnTo>
                <a:lnTo>
                  <a:pt x="2505" y="467"/>
                </a:lnTo>
                <a:lnTo>
                  <a:pt x="2399" y="467"/>
                </a:lnTo>
                <a:lnTo>
                  <a:pt x="2151" y="467"/>
                </a:lnTo>
                <a:lnTo>
                  <a:pt x="2010" y="467"/>
                </a:lnTo>
                <a:lnTo>
                  <a:pt x="1728" y="467"/>
                </a:lnTo>
                <a:lnTo>
                  <a:pt x="1622" y="496"/>
                </a:lnTo>
                <a:lnTo>
                  <a:pt x="1516" y="525"/>
                </a:lnTo>
                <a:lnTo>
                  <a:pt x="1375" y="525"/>
                </a:lnTo>
                <a:lnTo>
                  <a:pt x="1270" y="496"/>
                </a:lnTo>
                <a:lnTo>
                  <a:pt x="1164" y="467"/>
                </a:lnTo>
                <a:lnTo>
                  <a:pt x="1058" y="467"/>
                </a:lnTo>
                <a:lnTo>
                  <a:pt x="811" y="467"/>
                </a:lnTo>
                <a:lnTo>
                  <a:pt x="599" y="467"/>
                </a:lnTo>
                <a:lnTo>
                  <a:pt x="529" y="554"/>
                </a:lnTo>
                <a:lnTo>
                  <a:pt x="529" y="642"/>
                </a:lnTo>
                <a:lnTo>
                  <a:pt x="564" y="730"/>
                </a:lnTo>
                <a:lnTo>
                  <a:pt x="670" y="817"/>
                </a:lnTo>
                <a:lnTo>
                  <a:pt x="670" y="905"/>
                </a:lnTo>
                <a:lnTo>
                  <a:pt x="670" y="992"/>
                </a:lnTo>
                <a:lnTo>
                  <a:pt x="635" y="1080"/>
                </a:lnTo>
                <a:lnTo>
                  <a:pt x="635" y="1197"/>
                </a:lnTo>
                <a:lnTo>
                  <a:pt x="635" y="1314"/>
                </a:lnTo>
                <a:lnTo>
                  <a:pt x="635" y="1401"/>
                </a:lnTo>
                <a:lnTo>
                  <a:pt x="635" y="1489"/>
                </a:lnTo>
                <a:lnTo>
                  <a:pt x="670" y="1606"/>
                </a:lnTo>
                <a:lnTo>
                  <a:pt x="705" y="1839"/>
                </a:lnTo>
                <a:lnTo>
                  <a:pt x="740" y="1956"/>
                </a:lnTo>
                <a:lnTo>
                  <a:pt x="740" y="2073"/>
                </a:lnTo>
                <a:lnTo>
                  <a:pt x="740" y="2160"/>
                </a:lnTo>
                <a:lnTo>
                  <a:pt x="740" y="2277"/>
                </a:lnTo>
                <a:lnTo>
                  <a:pt x="705" y="2453"/>
                </a:lnTo>
                <a:lnTo>
                  <a:pt x="705" y="2569"/>
                </a:lnTo>
                <a:lnTo>
                  <a:pt x="670" y="2657"/>
                </a:lnTo>
                <a:lnTo>
                  <a:pt x="635" y="2745"/>
                </a:lnTo>
                <a:lnTo>
                  <a:pt x="599" y="2920"/>
                </a:lnTo>
                <a:lnTo>
                  <a:pt x="529" y="3212"/>
                </a:lnTo>
                <a:lnTo>
                  <a:pt x="458" y="3445"/>
                </a:lnTo>
                <a:lnTo>
                  <a:pt x="423" y="3533"/>
                </a:lnTo>
                <a:lnTo>
                  <a:pt x="458" y="3708"/>
                </a:lnTo>
                <a:lnTo>
                  <a:pt x="493" y="3883"/>
                </a:lnTo>
                <a:lnTo>
                  <a:pt x="529" y="4060"/>
                </a:lnTo>
                <a:lnTo>
                  <a:pt x="599" y="4147"/>
                </a:lnTo>
                <a:lnTo>
                  <a:pt x="670" y="4264"/>
                </a:lnTo>
                <a:lnTo>
                  <a:pt x="776" y="4352"/>
                </a:lnTo>
                <a:lnTo>
                  <a:pt x="811" y="4439"/>
                </a:lnTo>
                <a:lnTo>
                  <a:pt x="846" y="4527"/>
                </a:lnTo>
                <a:lnTo>
                  <a:pt x="881" y="4614"/>
                </a:lnTo>
                <a:lnTo>
                  <a:pt x="952" y="4731"/>
                </a:lnTo>
                <a:lnTo>
                  <a:pt x="987" y="4819"/>
                </a:lnTo>
                <a:lnTo>
                  <a:pt x="1058" y="4936"/>
                </a:lnTo>
                <a:lnTo>
                  <a:pt x="1093" y="5023"/>
                </a:lnTo>
                <a:lnTo>
                  <a:pt x="1128" y="5140"/>
                </a:lnTo>
                <a:lnTo>
                  <a:pt x="1128" y="5315"/>
                </a:lnTo>
                <a:lnTo>
                  <a:pt x="1164" y="5403"/>
                </a:lnTo>
                <a:lnTo>
                  <a:pt x="1199" y="5520"/>
                </a:lnTo>
                <a:lnTo>
                  <a:pt x="1234" y="5637"/>
                </a:lnTo>
                <a:lnTo>
                  <a:pt x="1270" y="5724"/>
                </a:lnTo>
                <a:lnTo>
                  <a:pt x="1305" y="5812"/>
                </a:lnTo>
                <a:lnTo>
                  <a:pt x="1340" y="5929"/>
                </a:lnTo>
                <a:lnTo>
                  <a:pt x="1411" y="6162"/>
                </a:lnTo>
                <a:lnTo>
                  <a:pt x="1516" y="6279"/>
                </a:lnTo>
                <a:lnTo>
                  <a:pt x="1622" y="6367"/>
                </a:lnTo>
                <a:lnTo>
                  <a:pt x="1728" y="6454"/>
                </a:lnTo>
                <a:lnTo>
                  <a:pt x="1799" y="6542"/>
                </a:lnTo>
                <a:lnTo>
                  <a:pt x="1905" y="6629"/>
                </a:lnTo>
                <a:lnTo>
                  <a:pt x="1975" y="6746"/>
                </a:lnTo>
                <a:lnTo>
                  <a:pt x="2046" y="6834"/>
                </a:lnTo>
                <a:lnTo>
                  <a:pt x="2116" y="6921"/>
                </a:lnTo>
                <a:lnTo>
                  <a:pt x="2223" y="7038"/>
                </a:lnTo>
                <a:lnTo>
                  <a:pt x="2364" y="7155"/>
                </a:lnTo>
                <a:lnTo>
                  <a:pt x="2470" y="7214"/>
                </a:lnTo>
                <a:lnTo>
                  <a:pt x="2576" y="7301"/>
                </a:lnTo>
                <a:lnTo>
                  <a:pt x="2682" y="7360"/>
                </a:lnTo>
                <a:lnTo>
                  <a:pt x="2787" y="7418"/>
                </a:lnTo>
                <a:lnTo>
                  <a:pt x="2893" y="7476"/>
                </a:lnTo>
                <a:lnTo>
                  <a:pt x="2999" y="7535"/>
                </a:lnTo>
                <a:lnTo>
                  <a:pt x="3105" y="7564"/>
                </a:lnTo>
                <a:lnTo>
                  <a:pt x="3246" y="7593"/>
                </a:lnTo>
                <a:lnTo>
                  <a:pt x="3352" y="7622"/>
                </a:lnTo>
                <a:lnTo>
                  <a:pt x="3458" y="7622"/>
                </a:lnTo>
                <a:lnTo>
                  <a:pt x="3564" y="7652"/>
                </a:lnTo>
                <a:lnTo>
                  <a:pt x="3669" y="7681"/>
                </a:lnTo>
                <a:lnTo>
                  <a:pt x="3775" y="7681"/>
                </a:lnTo>
                <a:lnTo>
                  <a:pt x="3881" y="7681"/>
                </a:lnTo>
                <a:lnTo>
                  <a:pt x="3987" y="7681"/>
                </a:lnTo>
                <a:lnTo>
                  <a:pt x="4128" y="7652"/>
                </a:lnTo>
                <a:lnTo>
                  <a:pt x="4410" y="7652"/>
                </a:lnTo>
                <a:lnTo>
                  <a:pt x="4763" y="7622"/>
                </a:lnTo>
                <a:lnTo>
                  <a:pt x="5045" y="7593"/>
                </a:lnTo>
                <a:lnTo>
                  <a:pt x="5151" y="7593"/>
                </a:lnTo>
                <a:lnTo>
                  <a:pt x="5433" y="7564"/>
                </a:lnTo>
                <a:lnTo>
                  <a:pt x="5539" y="7535"/>
                </a:lnTo>
                <a:lnTo>
                  <a:pt x="5680" y="7476"/>
                </a:lnTo>
                <a:lnTo>
                  <a:pt x="5786" y="7447"/>
                </a:lnTo>
                <a:lnTo>
                  <a:pt x="6068" y="7360"/>
                </a:lnTo>
                <a:lnTo>
                  <a:pt x="6209" y="7272"/>
                </a:lnTo>
                <a:lnTo>
                  <a:pt x="6315" y="7155"/>
                </a:lnTo>
                <a:lnTo>
                  <a:pt x="6421" y="7038"/>
                </a:lnTo>
                <a:lnTo>
                  <a:pt x="6563" y="6921"/>
                </a:lnTo>
                <a:lnTo>
                  <a:pt x="6669" y="6834"/>
                </a:lnTo>
                <a:lnTo>
                  <a:pt x="6775" y="6746"/>
                </a:lnTo>
                <a:lnTo>
                  <a:pt x="6916" y="6629"/>
                </a:lnTo>
                <a:lnTo>
                  <a:pt x="7128" y="6571"/>
                </a:lnTo>
                <a:lnTo>
                  <a:pt x="7233" y="6483"/>
                </a:lnTo>
                <a:lnTo>
                  <a:pt x="7375" y="6396"/>
                </a:lnTo>
                <a:lnTo>
                  <a:pt x="7480" y="6337"/>
                </a:lnTo>
                <a:lnTo>
                  <a:pt x="7586" y="6221"/>
                </a:lnTo>
                <a:lnTo>
                  <a:pt x="7692" y="6133"/>
                </a:lnTo>
                <a:lnTo>
                  <a:pt x="7798" y="6016"/>
                </a:lnTo>
                <a:lnTo>
                  <a:pt x="7868" y="5929"/>
                </a:lnTo>
                <a:lnTo>
                  <a:pt x="7904" y="5841"/>
                </a:lnTo>
                <a:lnTo>
                  <a:pt x="7939" y="5724"/>
                </a:lnTo>
                <a:lnTo>
                  <a:pt x="7939" y="5637"/>
                </a:lnTo>
                <a:lnTo>
                  <a:pt x="7974" y="5520"/>
                </a:lnTo>
                <a:lnTo>
                  <a:pt x="7974" y="5345"/>
                </a:lnTo>
                <a:lnTo>
                  <a:pt x="8010" y="5228"/>
                </a:lnTo>
                <a:lnTo>
                  <a:pt x="8045" y="5111"/>
                </a:lnTo>
                <a:lnTo>
                  <a:pt x="8045" y="4907"/>
                </a:lnTo>
                <a:lnTo>
                  <a:pt x="8045" y="4819"/>
                </a:lnTo>
                <a:lnTo>
                  <a:pt x="8080" y="4731"/>
                </a:lnTo>
                <a:lnTo>
                  <a:pt x="8080" y="4614"/>
                </a:lnTo>
                <a:lnTo>
                  <a:pt x="8080" y="4498"/>
                </a:lnTo>
                <a:lnTo>
                  <a:pt x="8080" y="4264"/>
                </a:lnTo>
                <a:lnTo>
                  <a:pt x="8080" y="4089"/>
                </a:lnTo>
                <a:lnTo>
                  <a:pt x="8045" y="3854"/>
                </a:lnTo>
                <a:lnTo>
                  <a:pt x="8045" y="3679"/>
                </a:lnTo>
                <a:lnTo>
                  <a:pt x="8010" y="3562"/>
                </a:lnTo>
                <a:lnTo>
                  <a:pt x="7974" y="3475"/>
                </a:lnTo>
                <a:lnTo>
                  <a:pt x="7939" y="3358"/>
                </a:lnTo>
                <a:lnTo>
                  <a:pt x="7904" y="3270"/>
                </a:lnTo>
                <a:lnTo>
                  <a:pt x="7868" y="3153"/>
                </a:lnTo>
                <a:lnTo>
                  <a:pt x="7833" y="3066"/>
                </a:lnTo>
                <a:lnTo>
                  <a:pt x="7833" y="2949"/>
                </a:lnTo>
                <a:lnTo>
                  <a:pt x="7798" y="2715"/>
                </a:lnTo>
                <a:lnTo>
                  <a:pt x="7763" y="2628"/>
                </a:lnTo>
                <a:lnTo>
                  <a:pt x="7763" y="2540"/>
                </a:lnTo>
                <a:lnTo>
                  <a:pt x="7763" y="2453"/>
                </a:lnTo>
                <a:lnTo>
                  <a:pt x="7763" y="2365"/>
                </a:lnTo>
                <a:lnTo>
                  <a:pt x="7763" y="2277"/>
                </a:lnTo>
                <a:lnTo>
                  <a:pt x="7763" y="2190"/>
                </a:lnTo>
                <a:lnTo>
                  <a:pt x="7763" y="2102"/>
                </a:lnTo>
                <a:lnTo>
                  <a:pt x="7763" y="2014"/>
                </a:lnTo>
                <a:lnTo>
                  <a:pt x="7763" y="1927"/>
                </a:lnTo>
                <a:lnTo>
                  <a:pt x="7763" y="1839"/>
                </a:lnTo>
                <a:lnTo>
                  <a:pt x="7763" y="1752"/>
                </a:lnTo>
                <a:lnTo>
                  <a:pt x="7727" y="1664"/>
                </a:lnTo>
                <a:lnTo>
                  <a:pt x="7692" y="1547"/>
                </a:lnTo>
                <a:lnTo>
                  <a:pt x="7657" y="1430"/>
                </a:lnTo>
                <a:lnTo>
                  <a:pt x="7622" y="1343"/>
                </a:lnTo>
                <a:lnTo>
                  <a:pt x="7551" y="1255"/>
                </a:lnTo>
                <a:lnTo>
                  <a:pt x="7375" y="708"/>
                </a:lnTo>
                <a:lnTo>
                  <a:pt x="7586" y="708"/>
                </a:lnTo>
                <a:lnTo>
                  <a:pt x="7679" y="657"/>
                </a:lnTo>
                <a:lnTo>
                  <a:pt x="7877" y="445"/>
                </a:lnTo>
                <a:lnTo>
                  <a:pt x="8010" y="708"/>
                </a:lnTo>
                <a:lnTo>
                  <a:pt x="8045" y="1080"/>
                </a:lnTo>
                <a:lnTo>
                  <a:pt x="8045" y="1168"/>
                </a:lnTo>
                <a:lnTo>
                  <a:pt x="8045" y="1284"/>
                </a:lnTo>
                <a:lnTo>
                  <a:pt x="8080" y="1372"/>
                </a:lnTo>
                <a:lnTo>
                  <a:pt x="8186" y="1430"/>
                </a:lnTo>
                <a:lnTo>
                  <a:pt x="8221" y="1518"/>
                </a:lnTo>
                <a:lnTo>
                  <a:pt x="8327" y="1635"/>
                </a:lnTo>
                <a:lnTo>
                  <a:pt x="8327" y="1722"/>
                </a:lnTo>
                <a:lnTo>
                  <a:pt x="8327" y="1810"/>
                </a:lnTo>
                <a:lnTo>
                  <a:pt x="8292" y="1927"/>
                </a:lnTo>
                <a:lnTo>
                  <a:pt x="8221" y="2044"/>
                </a:lnTo>
                <a:lnTo>
                  <a:pt x="8186" y="2131"/>
                </a:lnTo>
                <a:lnTo>
                  <a:pt x="8186" y="2306"/>
                </a:lnTo>
                <a:lnTo>
                  <a:pt x="8151" y="2394"/>
                </a:lnTo>
                <a:lnTo>
                  <a:pt x="8151" y="2511"/>
                </a:lnTo>
                <a:lnTo>
                  <a:pt x="8186" y="2599"/>
                </a:lnTo>
                <a:lnTo>
                  <a:pt x="8221" y="2686"/>
                </a:lnTo>
                <a:lnTo>
                  <a:pt x="8327" y="2803"/>
                </a:lnTo>
                <a:lnTo>
                  <a:pt x="8433" y="2891"/>
                </a:lnTo>
                <a:lnTo>
                  <a:pt x="8468" y="2978"/>
                </a:lnTo>
                <a:lnTo>
                  <a:pt x="8539" y="3066"/>
                </a:lnTo>
                <a:lnTo>
                  <a:pt x="8574" y="3153"/>
                </a:lnTo>
                <a:lnTo>
                  <a:pt x="8574" y="3241"/>
                </a:lnTo>
                <a:lnTo>
                  <a:pt x="8574" y="3329"/>
                </a:lnTo>
                <a:lnTo>
                  <a:pt x="8539" y="3504"/>
                </a:lnTo>
                <a:lnTo>
                  <a:pt x="8539" y="3679"/>
                </a:lnTo>
                <a:lnTo>
                  <a:pt x="8503" y="3854"/>
                </a:lnTo>
                <a:lnTo>
                  <a:pt x="8503" y="3942"/>
                </a:lnTo>
                <a:lnTo>
                  <a:pt x="8539" y="4029"/>
                </a:lnTo>
                <a:lnTo>
                  <a:pt x="8574" y="4147"/>
                </a:lnTo>
                <a:lnTo>
                  <a:pt x="8609" y="4264"/>
                </a:lnTo>
                <a:lnTo>
                  <a:pt x="8609" y="4352"/>
                </a:lnTo>
                <a:lnTo>
                  <a:pt x="8609" y="4468"/>
                </a:lnTo>
                <a:lnTo>
                  <a:pt x="8609" y="4702"/>
                </a:lnTo>
                <a:lnTo>
                  <a:pt x="8609" y="4877"/>
                </a:lnTo>
                <a:lnTo>
                  <a:pt x="8609" y="4965"/>
                </a:lnTo>
                <a:lnTo>
                  <a:pt x="8609" y="5053"/>
                </a:lnTo>
                <a:lnTo>
                  <a:pt x="8609" y="5140"/>
                </a:lnTo>
                <a:lnTo>
                  <a:pt x="8609" y="5345"/>
                </a:lnTo>
                <a:lnTo>
                  <a:pt x="8609" y="5520"/>
                </a:lnTo>
                <a:lnTo>
                  <a:pt x="8574" y="5753"/>
                </a:lnTo>
                <a:lnTo>
                  <a:pt x="8362" y="6045"/>
                </a:lnTo>
                <a:lnTo>
                  <a:pt x="8292" y="6337"/>
                </a:lnTo>
                <a:lnTo>
                  <a:pt x="8221" y="6571"/>
                </a:lnTo>
                <a:lnTo>
                  <a:pt x="8115" y="6542"/>
                </a:lnTo>
                <a:lnTo>
                  <a:pt x="7833" y="6571"/>
                </a:lnTo>
                <a:lnTo>
                  <a:pt x="7727" y="6629"/>
                </a:lnTo>
                <a:lnTo>
                  <a:pt x="7692" y="6805"/>
                </a:lnTo>
                <a:lnTo>
                  <a:pt x="7480" y="6863"/>
                </a:lnTo>
                <a:lnTo>
                  <a:pt x="7445" y="6951"/>
                </a:lnTo>
                <a:lnTo>
                  <a:pt x="7163" y="7038"/>
                </a:lnTo>
                <a:lnTo>
                  <a:pt x="7128" y="7126"/>
                </a:lnTo>
                <a:lnTo>
                  <a:pt x="6881" y="7214"/>
                </a:lnTo>
                <a:lnTo>
                  <a:pt x="6845" y="7301"/>
                </a:lnTo>
                <a:lnTo>
                  <a:pt x="6775" y="7389"/>
                </a:lnTo>
                <a:lnTo>
                  <a:pt x="6669" y="7476"/>
                </a:lnTo>
                <a:lnTo>
                  <a:pt x="6598" y="7593"/>
                </a:lnTo>
                <a:lnTo>
                  <a:pt x="6386" y="7622"/>
                </a:lnTo>
                <a:lnTo>
                  <a:pt x="6280" y="7710"/>
                </a:lnTo>
                <a:lnTo>
                  <a:pt x="6139" y="7768"/>
                </a:lnTo>
                <a:lnTo>
                  <a:pt x="5927" y="7827"/>
                </a:lnTo>
                <a:lnTo>
                  <a:pt x="5574" y="7885"/>
                </a:lnTo>
                <a:lnTo>
                  <a:pt x="5292" y="7944"/>
                </a:lnTo>
                <a:lnTo>
                  <a:pt x="5081" y="7944"/>
                </a:lnTo>
                <a:lnTo>
                  <a:pt x="4975" y="7944"/>
                </a:lnTo>
                <a:lnTo>
                  <a:pt x="4728" y="8060"/>
                </a:lnTo>
                <a:lnTo>
                  <a:pt x="4587" y="8090"/>
                </a:lnTo>
                <a:lnTo>
                  <a:pt x="4304" y="8119"/>
                </a:lnTo>
                <a:lnTo>
                  <a:pt x="4093" y="8119"/>
                </a:lnTo>
                <a:lnTo>
                  <a:pt x="3987" y="8090"/>
                </a:lnTo>
                <a:lnTo>
                  <a:pt x="3775" y="8031"/>
                </a:lnTo>
                <a:lnTo>
                  <a:pt x="3634" y="7973"/>
                </a:lnTo>
                <a:lnTo>
                  <a:pt x="3493" y="7914"/>
                </a:lnTo>
                <a:lnTo>
                  <a:pt x="3140" y="7914"/>
                </a:lnTo>
                <a:lnTo>
                  <a:pt x="2929" y="7914"/>
                </a:lnTo>
                <a:lnTo>
                  <a:pt x="2787" y="7885"/>
                </a:lnTo>
                <a:lnTo>
                  <a:pt x="2646" y="7856"/>
                </a:lnTo>
                <a:lnTo>
                  <a:pt x="2541" y="7798"/>
                </a:lnTo>
                <a:lnTo>
                  <a:pt x="2399" y="7710"/>
                </a:lnTo>
                <a:lnTo>
                  <a:pt x="2294" y="7652"/>
                </a:lnTo>
                <a:lnTo>
                  <a:pt x="2223" y="7564"/>
                </a:lnTo>
                <a:lnTo>
                  <a:pt x="2116" y="7476"/>
                </a:lnTo>
                <a:lnTo>
                  <a:pt x="2046" y="7301"/>
                </a:lnTo>
                <a:lnTo>
                  <a:pt x="1975" y="7214"/>
                </a:lnTo>
                <a:lnTo>
                  <a:pt x="1905" y="7126"/>
                </a:lnTo>
                <a:lnTo>
                  <a:pt x="1799" y="7038"/>
                </a:lnTo>
                <a:lnTo>
                  <a:pt x="1693" y="6980"/>
                </a:lnTo>
                <a:lnTo>
                  <a:pt x="1446" y="6921"/>
                </a:lnTo>
                <a:lnTo>
                  <a:pt x="1164" y="6805"/>
                </a:lnTo>
                <a:lnTo>
                  <a:pt x="1058" y="6717"/>
                </a:lnTo>
                <a:lnTo>
                  <a:pt x="987" y="6483"/>
                </a:lnTo>
                <a:lnTo>
                  <a:pt x="952" y="6396"/>
                </a:lnTo>
                <a:lnTo>
                  <a:pt x="917" y="6308"/>
                </a:lnTo>
                <a:lnTo>
                  <a:pt x="881" y="6221"/>
                </a:lnTo>
                <a:lnTo>
                  <a:pt x="846" y="6104"/>
                </a:lnTo>
                <a:lnTo>
                  <a:pt x="846" y="6016"/>
                </a:lnTo>
                <a:lnTo>
                  <a:pt x="846" y="5929"/>
                </a:lnTo>
                <a:lnTo>
                  <a:pt x="846" y="5841"/>
                </a:lnTo>
                <a:lnTo>
                  <a:pt x="811" y="5753"/>
                </a:lnTo>
                <a:lnTo>
                  <a:pt x="776" y="5666"/>
                </a:lnTo>
                <a:lnTo>
                  <a:pt x="705" y="5578"/>
                </a:lnTo>
                <a:lnTo>
                  <a:pt x="670" y="5491"/>
                </a:lnTo>
                <a:lnTo>
                  <a:pt x="635" y="5403"/>
                </a:lnTo>
                <a:lnTo>
                  <a:pt x="599" y="5286"/>
                </a:lnTo>
                <a:lnTo>
                  <a:pt x="529" y="5169"/>
                </a:lnTo>
                <a:lnTo>
                  <a:pt x="493" y="5082"/>
                </a:lnTo>
                <a:lnTo>
                  <a:pt x="423" y="4994"/>
                </a:lnTo>
                <a:lnTo>
                  <a:pt x="388" y="4907"/>
                </a:lnTo>
                <a:lnTo>
                  <a:pt x="352" y="4819"/>
                </a:lnTo>
                <a:lnTo>
                  <a:pt x="317" y="4702"/>
                </a:lnTo>
                <a:lnTo>
                  <a:pt x="282" y="4614"/>
                </a:lnTo>
                <a:lnTo>
                  <a:pt x="282" y="4527"/>
                </a:lnTo>
                <a:lnTo>
                  <a:pt x="246" y="4439"/>
                </a:lnTo>
                <a:lnTo>
                  <a:pt x="246" y="4352"/>
                </a:lnTo>
                <a:lnTo>
                  <a:pt x="211" y="4264"/>
                </a:lnTo>
                <a:lnTo>
                  <a:pt x="211" y="4147"/>
                </a:lnTo>
                <a:lnTo>
                  <a:pt x="176" y="4060"/>
                </a:lnTo>
                <a:lnTo>
                  <a:pt x="141" y="3971"/>
                </a:lnTo>
                <a:lnTo>
                  <a:pt x="70" y="3883"/>
                </a:lnTo>
                <a:lnTo>
                  <a:pt x="70" y="3679"/>
                </a:lnTo>
                <a:lnTo>
                  <a:pt x="70" y="3562"/>
                </a:lnTo>
                <a:lnTo>
                  <a:pt x="35" y="3445"/>
                </a:lnTo>
                <a:lnTo>
                  <a:pt x="35" y="3270"/>
                </a:lnTo>
                <a:lnTo>
                  <a:pt x="0" y="3183"/>
                </a:lnTo>
                <a:lnTo>
                  <a:pt x="0" y="3095"/>
                </a:lnTo>
                <a:lnTo>
                  <a:pt x="35" y="3007"/>
                </a:lnTo>
                <a:lnTo>
                  <a:pt x="70" y="2920"/>
                </a:lnTo>
                <a:lnTo>
                  <a:pt x="105" y="2803"/>
                </a:lnTo>
                <a:lnTo>
                  <a:pt x="176" y="2686"/>
                </a:lnTo>
                <a:lnTo>
                  <a:pt x="211" y="2453"/>
                </a:lnTo>
                <a:lnTo>
                  <a:pt x="246" y="2365"/>
                </a:lnTo>
                <a:lnTo>
                  <a:pt x="282" y="2248"/>
                </a:lnTo>
                <a:lnTo>
                  <a:pt x="282" y="2044"/>
                </a:lnTo>
                <a:lnTo>
                  <a:pt x="246" y="1956"/>
                </a:lnTo>
                <a:lnTo>
                  <a:pt x="211" y="1839"/>
                </a:lnTo>
                <a:lnTo>
                  <a:pt x="211" y="1752"/>
                </a:lnTo>
                <a:lnTo>
                  <a:pt x="211" y="1635"/>
                </a:lnTo>
                <a:lnTo>
                  <a:pt x="211" y="1547"/>
                </a:lnTo>
                <a:lnTo>
                  <a:pt x="211" y="1430"/>
                </a:lnTo>
                <a:lnTo>
                  <a:pt x="176" y="1314"/>
                </a:lnTo>
                <a:lnTo>
                  <a:pt x="141" y="1226"/>
                </a:lnTo>
                <a:lnTo>
                  <a:pt x="141" y="1138"/>
                </a:lnTo>
                <a:lnTo>
                  <a:pt x="141" y="1022"/>
                </a:lnTo>
                <a:lnTo>
                  <a:pt x="105" y="934"/>
                </a:lnTo>
                <a:lnTo>
                  <a:pt x="105" y="846"/>
                </a:lnTo>
                <a:lnTo>
                  <a:pt x="105" y="759"/>
                </a:lnTo>
                <a:lnTo>
                  <a:pt x="105" y="671"/>
                </a:lnTo>
                <a:lnTo>
                  <a:pt x="141" y="554"/>
                </a:lnTo>
                <a:lnTo>
                  <a:pt x="176" y="467"/>
                </a:lnTo>
                <a:lnTo>
                  <a:pt x="246" y="379"/>
                </a:lnTo>
                <a:lnTo>
                  <a:pt x="352" y="321"/>
                </a:lnTo>
                <a:lnTo>
                  <a:pt x="423" y="233"/>
                </a:lnTo>
                <a:lnTo>
                  <a:pt x="529" y="146"/>
                </a:lnTo>
                <a:lnTo>
                  <a:pt x="599" y="58"/>
                </a:lnTo>
                <a:lnTo>
                  <a:pt x="705" y="0"/>
                </a:lnTo>
                <a:lnTo>
                  <a:pt x="811" y="0"/>
                </a:lnTo>
                <a:lnTo>
                  <a:pt x="917" y="58"/>
                </a:lnTo>
                <a:lnTo>
                  <a:pt x="1023" y="58"/>
                </a:lnTo>
                <a:lnTo>
                  <a:pt x="1128" y="58"/>
                </a:lnTo>
                <a:lnTo>
                  <a:pt x="1270" y="58"/>
                </a:lnTo>
                <a:lnTo>
                  <a:pt x="1375" y="58"/>
                </a:lnTo>
                <a:lnTo>
                  <a:pt x="1481" y="58"/>
                </a:lnTo>
                <a:lnTo>
                  <a:pt x="1587" y="58"/>
                </a:lnTo>
                <a:lnTo>
                  <a:pt x="1693" y="29"/>
                </a:lnTo>
                <a:lnTo>
                  <a:pt x="1799" y="29"/>
                </a:lnTo>
                <a:lnTo>
                  <a:pt x="1905" y="29"/>
                </a:lnTo>
                <a:lnTo>
                  <a:pt x="2010" y="0"/>
                </a:lnTo>
                <a:lnTo>
                  <a:pt x="2116" y="0"/>
                </a:lnTo>
                <a:lnTo>
                  <a:pt x="2223" y="0"/>
                </a:lnTo>
                <a:lnTo>
                  <a:pt x="2329" y="29"/>
                </a:lnTo>
                <a:lnTo>
                  <a:pt x="2435" y="58"/>
                </a:lnTo>
                <a:lnTo>
                  <a:pt x="2576" y="58"/>
                </a:lnTo>
                <a:lnTo>
                  <a:pt x="2682" y="87"/>
                </a:lnTo>
                <a:lnTo>
                  <a:pt x="2823" y="116"/>
                </a:lnTo>
                <a:lnTo>
                  <a:pt x="2964" y="146"/>
                </a:lnTo>
                <a:lnTo>
                  <a:pt x="3070" y="175"/>
                </a:lnTo>
                <a:lnTo>
                  <a:pt x="3176" y="204"/>
                </a:lnTo>
                <a:lnTo>
                  <a:pt x="3281" y="233"/>
                </a:lnTo>
                <a:lnTo>
                  <a:pt x="3387" y="262"/>
                </a:lnTo>
                <a:lnTo>
                  <a:pt x="3493" y="292"/>
                </a:lnTo>
                <a:lnTo>
                  <a:pt x="3599" y="292"/>
                </a:lnTo>
                <a:lnTo>
                  <a:pt x="3775" y="379"/>
                </a:lnTo>
                <a:lnTo>
                  <a:pt x="3811" y="554"/>
                </a:lnTo>
                <a:lnTo>
                  <a:pt x="3881" y="642"/>
                </a:lnTo>
                <a:lnTo>
                  <a:pt x="3846" y="525"/>
                </a:lnTo>
                <a:lnTo>
                  <a:pt x="3775" y="379"/>
                </a:lnTo>
                <a:close/>
              </a:path>
            </a:pathLst>
          </a:custGeom>
          <a:solidFill>
            <a:srgbClr val="ff9999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499000" y="3149640"/>
            <a:ext cx="317880" cy="368640"/>
          </a:xfrm>
          <a:custGeom>
            <a:avLst/>
            <a:gdLst/>
            <a:ahLst/>
            <a:rect l="0" t="0" r="r" b="b"/>
            <a:pathLst>
              <a:path w="883" h="1024">
                <a:moveTo>
                  <a:pt x="35" y="1024"/>
                </a:moveTo>
                <a:lnTo>
                  <a:pt x="35" y="882"/>
                </a:lnTo>
                <a:lnTo>
                  <a:pt x="0" y="777"/>
                </a:lnTo>
                <a:lnTo>
                  <a:pt x="0" y="671"/>
                </a:lnTo>
                <a:lnTo>
                  <a:pt x="35" y="565"/>
                </a:lnTo>
                <a:lnTo>
                  <a:pt x="70" y="458"/>
                </a:lnTo>
                <a:lnTo>
                  <a:pt x="176" y="352"/>
                </a:lnTo>
                <a:lnTo>
                  <a:pt x="247" y="246"/>
                </a:lnTo>
                <a:lnTo>
                  <a:pt x="318" y="141"/>
                </a:lnTo>
                <a:lnTo>
                  <a:pt x="424" y="105"/>
                </a:lnTo>
                <a:lnTo>
                  <a:pt x="530" y="105"/>
                </a:lnTo>
                <a:lnTo>
                  <a:pt x="636" y="105"/>
                </a:lnTo>
                <a:lnTo>
                  <a:pt x="742" y="35"/>
                </a:lnTo>
                <a:lnTo>
                  <a:pt x="848" y="0"/>
                </a:lnTo>
                <a:lnTo>
                  <a:pt x="883" y="105"/>
                </a:lnTo>
                <a:lnTo>
                  <a:pt x="778" y="141"/>
                </a:lnTo>
                <a:lnTo>
                  <a:pt x="707" y="246"/>
                </a:lnTo>
                <a:lnTo>
                  <a:pt x="707" y="388"/>
                </a:lnTo>
                <a:lnTo>
                  <a:pt x="600" y="458"/>
                </a:lnTo>
                <a:lnTo>
                  <a:pt x="494" y="530"/>
                </a:lnTo>
                <a:lnTo>
                  <a:pt x="424" y="636"/>
                </a:lnTo>
                <a:lnTo>
                  <a:pt x="389" y="741"/>
                </a:lnTo>
                <a:lnTo>
                  <a:pt x="424" y="847"/>
                </a:lnTo>
                <a:lnTo>
                  <a:pt x="318" y="882"/>
                </a:lnTo>
                <a:lnTo>
                  <a:pt x="211" y="847"/>
                </a:lnTo>
                <a:lnTo>
                  <a:pt x="105" y="882"/>
                </a:lnTo>
                <a:lnTo>
                  <a:pt x="35" y="812"/>
                </a:lnTo>
                <a:lnTo>
                  <a:pt x="35" y="1024"/>
                </a:lnTo>
                <a:close/>
              </a:path>
            </a:pathLst>
          </a:custGeom>
          <a:solidFill>
            <a:srgbClr val="ff9999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80880" y="22860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Language Progra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2463840" y="6146640"/>
            <a:ext cx="3670560" cy="344880"/>
          </a:xfrm>
          <a:custGeom>
            <a:avLst/>
            <a:gdLst/>
            <a:ahLst/>
            <a:rect l="0" t="0" r="r" b="b"/>
            <a:pathLst>
              <a:path w="10196" h="958">
                <a:moveTo>
                  <a:pt x="3764" y="216"/>
                </a:moveTo>
                <a:lnTo>
                  <a:pt x="3654" y="246"/>
                </a:lnTo>
                <a:lnTo>
                  <a:pt x="3570" y="246"/>
                </a:lnTo>
                <a:lnTo>
                  <a:pt x="3517" y="246"/>
                </a:lnTo>
                <a:lnTo>
                  <a:pt x="3407" y="216"/>
                </a:lnTo>
                <a:lnTo>
                  <a:pt x="3354" y="183"/>
                </a:lnTo>
                <a:lnTo>
                  <a:pt x="3297" y="183"/>
                </a:lnTo>
                <a:lnTo>
                  <a:pt x="3244" y="155"/>
                </a:lnTo>
                <a:lnTo>
                  <a:pt x="3217" y="155"/>
                </a:lnTo>
                <a:lnTo>
                  <a:pt x="2997" y="246"/>
                </a:lnTo>
                <a:lnTo>
                  <a:pt x="2781" y="340"/>
                </a:lnTo>
                <a:lnTo>
                  <a:pt x="2508" y="216"/>
                </a:lnTo>
                <a:lnTo>
                  <a:pt x="2208" y="94"/>
                </a:lnTo>
                <a:lnTo>
                  <a:pt x="2128" y="61"/>
                </a:lnTo>
                <a:lnTo>
                  <a:pt x="2098" y="61"/>
                </a:lnTo>
                <a:lnTo>
                  <a:pt x="2071" y="61"/>
                </a:lnTo>
                <a:lnTo>
                  <a:pt x="2045" y="94"/>
                </a:lnTo>
                <a:lnTo>
                  <a:pt x="762" y="279"/>
                </a:lnTo>
                <a:lnTo>
                  <a:pt x="357" y="524"/>
                </a:lnTo>
                <a:lnTo>
                  <a:pt x="273" y="646"/>
                </a:lnTo>
                <a:lnTo>
                  <a:pt x="246" y="679"/>
                </a:lnTo>
                <a:lnTo>
                  <a:pt x="246" y="679"/>
                </a:lnTo>
                <a:lnTo>
                  <a:pt x="273" y="646"/>
                </a:lnTo>
                <a:lnTo>
                  <a:pt x="326" y="585"/>
                </a:lnTo>
                <a:lnTo>
                  <a:pt x="357" y="585"/>
                </a:lnTo>
                <a:lnTo>
                  <a:pt x="357" y="618"/>
                </a:lnTo>
                <a:lnTo>
                  <a:pt x="357" y="742"/>
                </a:lnTo>
                <a:lnTo>
                  <a:pt x="299" y="803"/>
                </a:lnTo>
                <a:lnTo>
                  <a:pt x="189" y="836"/>
                </a:lnTo>
                <a:lnTo>
                  <a:pt x="83" y="864"/>
                </a:lnTo>
                <a:lnTo>
                  <a:pt x="0" y="897"/>
                </a:lnTo>
                <a:lnTo>
                  <a:pt x="110" y="958"/>
                </a:lnTo>
                <a:lnTo>
                  <a:pt x="189" y="958"/>
                </a:lnTo>
                <a:lnTo>
                  <a:pt x="273" y="925"/>
                </a:lnTo>
                <a:lnTo>
                  <a:pt x="383" y="897"/>
                </a:lnTo>
                <a:lnTo>
                  <a:pt x="489" y="742"/>
                </a:lnTo>
                <a:lnTo>
                  <a:pt x="573" y="679"/>
                </a:lnTo>
                <a:lnTo>
                  <a:pt x="656" y="679"/>
                </a:lnTo>
                <a:lnTo>
                  <a:pt x="819" y="742"/>
                </a:lnTo>
                <a:lnTo>
                  <a:pt x="899" y="864"/>
                </a:lnTo>
                <a:lnTo>
                  <a:pt x="982" y="897"/>
                </a:lnTo>
                <a:lnTo>
                  <a:pt x="1093" y="864"/>
                </a:lnTo>
                <a:lnTo>
                  <a:pt x="1198" y="775"/>
                </a:lnTo>
                <a:lnTo>
                  <a:pt x="1282" y="679"/>
                </a:lnTo>
                <a:lnTo>
                  <a:pt x="1362" y="679"/>
                </a:lnTo>
                <a:lnTo>
                  <a:pt x="1445" y="712"/>
                </a:lnTo>
                <a:lnTo>
                  <a:pt x="1555" y="775"/>
                </a:lnTo>
                <a:lnTo>
                  <a:pt x="1829" y="712"/>
                </a:lnTo>
                <a:lnTo>
                  <a:pt x="2128" y="679"/>
                </a:lnTo>
                <a:lnTo>
                  <a:pt x="2481" y="742"/>
                </a:lnTo>
                <a:lnTo>
                  <a:pt x="2671" y="742"/>
                </a:lnTo>
                <a:lnTo>
                  <a:pt x="2917" y="712"/>
                </a:lnTo>
                <a:lnTo>
                  <a:pt x="3133" y="679"/>
                </a:lnTo>
                <a:lnTo>
                  <a:pt x="3217" y="712"/>
                </a:lnTo>
                <a:lnTo>
                  <a:pt x="3270" y="742"/>
                </a:lnTo>
                <a:lnTo>
                  <a:pt x="3270" y="742"/>
                </a:lnTo>
                <a:lnTo>
                  <a:pt x="3517" y="958"/>
                </a:lnTo>
                <a:lnTo>
                  <a:pt x="3953" y="742"/>
                </a:lnTo>
                <a:lnTo>
                  <a:pt x="4579" y="742"/>
                </a:lnTo>
                <a:lnTo>
                  <a:pt x="5016" y="742"/>
                </a:lnTo>
                <a:lnTo>
                  <a:pt x="5068" y="864"/>
                </a:lnTo>
                <a:lnTo>
                  <a:pt x="5127" y="925"/>
                </a:lnTo>
                <a:lnTo>
                  <a:pt x="5237" y="958"/>
                </a:lnTo>
                <a:lnTo>
                  <a:pt x="5369" y="925"/>
                </a:lnTo>
                <a:lnTo>
                  <a:pt x="5479" y="897"/>
                </a:lnTo>
                <a:lnTo>
                  <a:pt x="5537" y="864"/>
                </a:lnTo>
                <a:lnTo>
                  <a:pt x="5590" y="897"/>
                </a:lnTo>
                <a:lnTo>
                  <a:pt x="5669" y="958"/>
                </a:lnTo>
                <a:lnTo>
                  <a:pt x="5779" y="958"/>
                </a:lnTo>
                <a:lnTo>
                  <a:pt x="5863" y="925"/>
                </a:lnTo>
                <a:lnTo>
                  <a:pt x="5916" y="925"/>
                </a:lnTo>
                <a:lnTo>
                  <a:pt x="5969" y="897"/>
                </a:lnTo>
                <a:lnTo>
                  <a:pt x="6026" y="864"/>
                </a:lnTo>
                <a:lnTo>
                  <a:pt x="6052" y="864"/>
                </a:lnTo>
                <a:lnTo>
                  <a:pt x="6326" y="897"/>
                </a:lnTo>
                <a:lnTo>
                  <a:pt x="6573" y="836"/>
                </a:lnTo>
                <a:lnTo>
                  <a:pt x="6736" y="897"/>
                </a:lnTo>
                <a:lnTo>
                  <a:pt x="6872" y="925"/>
                </a:lnTo>
                <a:lnTo>
                  <a:pt x="6952" y="958"/>
                </a:lnTo>
                <a:lnTo>
                  <a:pt x="6978" y="958"/>
                </a:lnTo>
                <a:lnTo>
                  <a:pt x="7088" y="925"/>
                </a:lnTo>
                <a:lnTo>
                  <a:pt x="7198" y="897"/>
                </a:lnTo>
                <a:lnTo>
                  <a:pt x="7251" y="897"/>
                </a:lnTo>
                <a:lnTo>
                  <a:pt x="7304" y="864"/>
                </a:lnTo>
                <a:lnTo>
                  <a:pt x="7304" y="864"/>
                </a:lnTo>
                <a:lnTo>
                  <a:pt x="7551" y="925"/>
                </a:lnTo>
                <a:lnTo>
                  <a:pt x="7688" y="958"/>
                </a:lnTo>
                <a:lnTo>
                  <a:pt x="7798" y="925"/>
                </a:lnTo>
                <a:lnTo>
                  <a:pt x="7908" y="897"/>
                </a:lnTo>
                <a:lnTo>
                  <a:pt x="8014" y="864"/>
                </a:lnTo>
                <a:lnTo>
                  <a:pt x="8124" y="836"/>
                </a:lnTo>
                <a:lnTo>
                  <a:pt x="8151" y="836"/>
                </a:lnTo>
                <a:lnTo>
                  <a:pt x="8450" y="897"/>
                </a:lnTo>
                <a:lnTo>
                  <a:pt x="8587" y="897"/>
                </a:lnTo>
                <a:lnTo>
                  <a:pt x="8724" y="864"/>
                </a:lnTo>
                <a:lnTo>
                  <a:pt x="8944" y="864"/>
                </a:lnTo>
                <a:lnTo>
                  <a:pt x="9160" y="836"/>
                </a:lnTo>
                <a:lnTo>
                  <a:pt x="9213" y="775"/>
                </a:lnTo>
                <a:lnTo>
                  <a:pt x="9270" y="712"/>
                </a:lnTo>
                <a:lnTo>
                  <a:pt x="9433" y="679"/>
                </a:lnTo>
                <a:lnTo>
                  <a:pt x="9596" y="679"/>
                </a:lnTo>
                <a:lnTo>
                  <a:pt x="9759" y="712"/>
                </a:lnTo>
                <a:lnTo>
                  <a:pt x="9896" y="712"/>
                </a:lnTo>
                <a:lnTo>
                  <a:pt x="10033" y="679"/>
                </a:lnTo>
                <a:lnTo>
                  <a:pt x="10112" y="618"/>
                </a:lnTo>
                <a:lnTo>
                  <a:pt x="10196" y="524"/>
                </a:lnTo>
                <a:lnTo>
                  <a:pt x="10169" y="462"/>
                </a:lnTo>
                <a:lnTo>
                  <a:pt x="10143" y="434"/>
                </a:lnTo>
                <a:lnTo>
                  <a:pt x="10112" y="401"/>
                </a:lnTo>
                <a:lnTo>
                  <a:pt x="10059" y="434"/>
                </a:lnTo>
                <a:lnTo>
                  <a:pt x="9980" y="462"/>
                </a:lnTo>
                <a:lnTo>
                  <a:pt x="9922" y="495"/>
                </a:lnTo>
                <a:lnTo>
                  <a:pt x="9896" y="495"/>
                </a:lnTo>
                <a:lnTo>
                  <a:pt x="9843" y="462"/>
                </a:lnTo>
                <a:lnTo>
                  <a:pt x="9733" y="462"/>
                </a:lnTo>
                <a:lnTo>
                  <a:pt x="9649" y="434"/>
                </a:lnTo>
                <a:lnTo>
                  <a:pt x="9570" y="401"/>
                </a:lnTo>
                <a:lnTo>
                  <a:pt x="9513" y="373"/>
                </a:lnTo>
                <a:lnTo>
                  <a:pt x="9433" y="307"/>
                </a:lnTo>
                <a:lnTo>
                  <a:pt x="9376" y="279"/>
                </a:lnTo>
                <a:lnTo>
                  <a:pt x="9349" y="246"/>
                </a:lnTo>
                <a:lnTo>
                  <a:pt x="8913" y="307"/>
                </a:lnTo>
                <a:lnTo>
                  <a:pt x="8508" y="373"/>
                </a:lnTo>
                <a:lnTo>
                  <a:pt x="8340" y="340"/>
                </a:lnTo>
                <a:lnTo>
                  <a:pt x="8177" y="340"/>
                </a:lnTo>
                <a:lnTo>
                  <a:pt x="8040" y="279"/>
                </a:lnTo>
                <a:lnTo>
                  <a:pt x="7908" y="216"/>
                </a:lnTo>
                <a:lnTo>
                  <a:pt x="7798" y="155"/>
                </a:lnTo>
                <a:lnTo>
                  <a:pt x="7714" y="94"/>
                </a:lnTo>
                <a:lnTo>
                  <a:pt x="7608" y="61"/>
                </a:lnTo>
                <a:lnTo>
                  <a:pt x="7578" y="32"/>
                </a:lnTo>
                <a:lnTo>
                  <a:pt x="7278" y="94"/>
                </a:lnTo>
                <a:lnTo>
                  <a:pt x="6978" y="155"/>
                </a:lnTo>
                <a:lnTo>
                  <a:pt x="6815" y="183"/>
                </a:lnTo>
                <a:lnTo>
                  <a:pt x="6652" y="122"/>
                </a:lnTo>
                <a:lnTo>
                  <a:pt x="6326" y="0"/>
                </a:lnTo>
                <a:lnTo>
                  <a:pt x="5942" y="61"/>
                </a:lnTo>
                <a:lnTo>
                  <a:pt x="5753" y="94"/>
                </a:lnTo>
                <a:lnTo>
                  <a:pt x="5563" y="155"/>
                </a:lnTo>
                <a:lnTo>
                  <a:pt x="5479" y="183"/>
                </a:lnTo>
                <a:lnTo>
                  <a:pt x="5369" y="216"/>
                </a:lnTo>
                <a:lnTo>
                  <a:pt x="5290" y="246"/>
                </a:lnTo>
                <a:lnTo>
                  <a:pt x="5263" y="246"/>
                </a:lnTo>
                <a:lnTo>
                  <a:pt x="5153" y="246"/>
                </a:lnTo>
                <a:lnTo>
                  <a:pt x="5016" y="216"/>
                </a:lnTo>
                <a:lnTo>
                  <a:pt x="4879" y="183"/>
                </a:lnTo>
                <a:lnTo>
                  <a:pt x="4826" y="155"/>
                </a:lnTo>
                <a:lnTo>
                  <a:pt x="4800" y="155"/>
                </a:lnTo>
                <a:lnTo>
                  <a:pt x="4663" y="183"/>
                </a:lnTo>
                <a:lnTo>
                  <a:pt x="4579" y="216"/>
                </a:lnTo>
                <a:lnTo>
                  <a:pt x="4469" y="216"/>
                </a:lnTo>
                <a:lnTo>
                  <a:pt x="4332" y="183"/>
                </a:lnTo>
                <a:lnTo>
                  <a:pt x="4279" y="155"/>
                </a:lnTo>
                <a:lnTo>
                  <a:pt x="4200" y="122"/>
                </a:lnTo>
                <a:lnTo>
                  <a:pt x="4143" y="94"/>
                </a:lnTo>
                <a:lnTo>
                  <a:pt x="4116" y="94"/>
                </a:lnTo>
                <a:lnTo>
                  <a:pt x="4033" y="122"/>
                </a:lnTo>
                <a:lnTo>
                  <a:pt x="3980" y="155"/>
                </a:lnTo>
                <a:lnTo>
                  <a:pt x="3927" y="183"/>
                </a:lnTo>
                <a:lnTo>
                  <a:pt x="3896" y="183"/>
                </a:lnTo>
                <a:lnTo>
                  <a:pt x="3817" y="155"/>
                </a:lnTo>
                <a:lnTo>
                  <a:pt x="3733" y="183"/>
                </a:lnTo>
                <a:lnTo>
                  <a:pt x="3706" y="216"/>
                </a:lnTo>
                <a:lnTo>
                  <a:pt x="3706" y="216"/>
                </a:lnTo>
                <a:lnTo>
                  <a:pt x="3764" y="216"/>
                </a:lnTo>
                <a:close/>
              </a:path>
            </a:pathLst>
          </a:custGeom>
          <a:solidFill>
            <a:srgbClr val="e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689280" y="6105600"/>
            <a:ext cx="752760" cy="209880"/>
          </a:xfrm>
          <a:custGeom>
            <a:avLst/>
            <a:gdLst/>
            <a:ahLst/>
            <a:rect l="0" t="0" r="r" b="b"/>
            <a:pathLst>
              <a:path w="2091" h="583">
                <a:moveTo>
                  <a:pt x="1376" y="185"/>
                </a:moveTo>
                <a:lnTo>
                  <a:pt x="978" y="52"/>
                </a:lnTo>
                <a:lnTo>
                  <a:pt x="714" y="0"/>
                </a:lnTo>
                <a:lnTo>
                  <a:pt x="423" y="105"/>
                </a:lnTo>
                <a:lnTo>
                  <a:pt x="132" y="264"/>
                </a:lnTo>
                <a:lnTo>
                  <a:pt x="0" y="477"/>
                </a:lnTo>
                <a:lnTo>
                  <a:pt x="185" y="583"/>
                </a:lnTo>
                <a:lnTo>
                  <a:pt x="2091" y="583"/>
                </a:lnTo>
                <a:lnTo>
                  <a:pt x="2091" y="185"/>
                </a:lnTo>
                <a:lnTo>
                  <a:pt x="1376" y="185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3031920" y="3456000"/>
            <a:ext cx="1203840" cy="955800"/>
            <a:chOff x="3031920" y="3456000"/>
            <a:chExt cx="1203840" cy="955800"/>
          </a:xfrm>
        </p:grpSpPr>
        <p:sp>
          <p:nvSpPr>
            <p:cNvPr id="562" name=""/>
            <p:cNvSpPr/>
            <p:nvPr/>
          </p:nvSpPr>
          <p:spPr>
            <a:xfrm>
              <a:off x="3031920" y="4108680"/>
              <a:ext cx="290520" cy="303120"/>
            </a:xfrm>
            <a:custGeom>
              <a:avLst/>
              <a:gdLst/>
              <a:ahLst/>
              <a:rect l="0" t="0" r="r" b="b"/>
              <a:pathLst>
                <a:path w="807" h="842">
                  <a:moveTo>
                    <a:pt x="258" y="23"/>
                  </a:moveTo>
                  <a:lnTo>
                    <a:pt x="258" y="23"/>
                  </a:lnTo>
                  <a:cubicBezTo>
                    <a:pt x="192" y="47"/>
                    <a:pt x="134" y="89"/>
                    <a:pt x="90" y="145"/>
                  </a:cubicBezTo>
                  <a:cubicBezTo>
                    <a:pt x="45" y="201"/>
                    <a:pt x="16" y="268"/>
                    <a:pt x="5" y="341"/>
                  </a:cubicBezTo>
                  <a:cubicBezTo>
                    <a:pt x="-6" y="413"/>
                    <a:pt x="2" y="488"/>
                    <a:pt x="28" y="558"/>
                  </a:cubicBezTo>
                  <a:cubicBezTo>
                    <a:pt x="53" y="628"/>
                    <a:pt x="95" y="691"/>
                    <a:pt x="150" y="739"/>
                  </a:cubicBezTo>
                  <a:cubicBezTo>
                    <a:pt x="206" y="788"/>
                    <a:pt x="271" y="821"/>
                    <a:pt x="341" y="835"/>
                  </a:cubicBezTo>
                  <a:cubicBezTo>
                    <a:pt x="411" y="849"/>
                    <a:pt x="483" y="844"/>
                    <a:pt x="549" y="820"/>
                  </a:cubicBezTo>
                  <a:lnTo>
                    <a:pt x="549" y="820"/>
                  </a:lnTo>
                  <a:lnTo>
                    <a:pt x="549" y="820"/>
                  </a:lnTo>
                  <a:cubicBezTo>
                    <a:pt x="615" y="796"/>
                    <a:pt x="673" y="754"/>
                    <a:pt x="717" y="698"/>
                  </a:cubicBezTo>
                  <a:cubicBezTo>
                    <a:pt x="762" y="642"/>
                    <a:pt x="791" y="575"/>
                    <a:pt x="802" y="502"/>
                  </a:cubicBezTo>
                  <a:cubicBezTo>
                    <a:pt x="813" y="430"/>
                    <a:pt x="805" y="355"/>
                    <a:pt x="779" y="285"/>
                  </a:cubicBezTo>
                  <a:cubicBezTo>
                    <a:pt x="754" y="215"/>
                    <a:pt x="712" y="152"/>
                    <a:pt x="657" y="104"/>
                  </a:cubicBezTo>
                  <a:cubicBezTo>
                    <a:pt x="601" y="55"/>
                    <a:pt x="536" y="22"/>
                    <a:pt x="466" y="8"/>
                  </a:cubicBezTo>
                  <a:cubicBezTo>
                    <a:pt x="396" y="-6"/>
                    <a:pt x="324" y="-1"/>
                    <a:pt x="258" y="23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289320" y="3456000"/>
              <a:ext cx="946440" cy="952920"/>
            </a:xfrm>
            <a:custGeom>
              <a:avLst/>
              <a:gdLst/>
              <a:ahLst/>
              <a:rect l="0" t="0" r="r" b="b"/>
              <a:pathLst>
                <a:path w="2629" h="2647">
                  <a:moveTo>
                    <a:pt x="2219" y="0"/>
                  </a:moveTo>
                  <a:lnTo>
                    <a:pt x="1998" y="198"/>
                  </a:lnTo>
                  <a:lnTo>
                    <a:pt x="1738" y="1032"/>
                  </a:lnTo>
                  <a:lnTo>
                    <a:pt x="1495" y="1654"/>
                  </a:lnTo>
                  <a:lnTo>
                    <a:pt x="0" y="1786"/>
                  </a:lnTo>
                  <a:lnTo>
                    <a:pt x="167" y="2647"/>
                  </a:lnTo>
                  <a:lnTo>
                    <a:pt x="2095" y="2325"/>
                  </a:lnTo>
                  <a:lnTo>
                    <a:pt x="2607" y="657"/>
                  </a:lnTo>
                  <a:lnTo>
                    <a:pt x="2629" y="233"/>
                  </a:lnTo>
                  <a:lnTo>
                    <a:pt x="2430" y="8"/>
                  </a:lnTo>
                  <a:lnTo>
                    <a:pt x="2219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3860640" y="4788000"/>
            <a:ext cx="914760" cy="1384560"/>
            <a:chOff x="3860640" y="4788000"/>
            <a:chExt cx="914760" cy="1384560"/>
          </a:xfrm>
        </p:grpSpPr>
        <p:sp>
          <p:nvSpPr>
            <p:cNvPr id="565" name=""/>
            <p:cNvSpPr/>
            <p:nvPr/>
          </p:nvSpPr>
          <p:spPr>
            <a:xfrm>
              <a:off x="3860640" y="4788000"/>
              <a:ext cx="914760" cy="1384560"/>
            </a:xfrm>
            <a:custGeom>
              <a:avLst/>
              <a:gdLst/>
              <a:ahLst/>
              <a:rect l="0" t="0" r="r" b="b"/>
              <a:pathLst>
                <a:path w="2541" h="3846">
                  <a:moveTo>
                    <a:pt x="635" y="35"/>
                  </a:moveTo>
                  <a:lnTo>
                    <a:pt x="0" y="2152"/>
                  </a:lnTo>
                  <a:lnTo>
                    <a:pt x="846" y="3846"/>
                  </a:lnTo>
                  <a:lnTo>
                    <a:pt x="1482" y="3846"/>
                  </a:lnTo>
                  <a:lnTo>
                    <a:pt x="1623" y="3846"/>
                  </a:lnTo>
                  <a:lnTo>
                    <a:pt x="811" y="2047"/>
                  </a:lnTo>
                  <a:lnTo>
                    <a:pt x="1164" y="846"/>
                  </a:lnTo>
                  <a:lnTo>
                    <a:pt x="776" y="2082"/>
                  </a:lnTo>
                  <a:lnTo>
                    <a:pt x="1623" y="3811"/>
                  </a:lnTo>
                  <a:lnTo>
                    <a:pt x="2435" y="3811"/>
                  </a:lnTo>
                  <a:lnTo>
                    <a:pt x="1659" y="2152"/>
                  </a:lnTo>
                  <a:lnTo>
                    <a:pt x="1764" y="1693"/>
                  </a:lnTo>
                  <a:lnTo>
                    <a:pt x="2541" y="0"/>
                  </a:lnTo>
                  <a:lnTo>
                    <a:pt x="635" y="35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057560" y="4952880"/>
              <a:ext cx="133560" cy="322560"/>
            </a:xfrm>
            <a:custGeom>
              <a:avLst/>
              <a:gdLst/>
              <a:ahLst/>
              <a:rect l="0" t="0" r="r" b="b"/>
              <a:pathLst>
                <a:path w="371" h="896">
                  <a:moveTo>
                    <a:pt x="186" y="22"/>
                  </a:moveTo>
                  <a:lnTo>
                    <a:pt x="165" y="114"/>
                  </a:lnTo>
                  <a:lnTo>
                    <a:pt x="121" y="187"/>
                  </a:lnTo>
                  <a:lnTo>
                    <a:pt x="63" y="397"/>
                  </a:lnTo>
                  <a:lnTo>
                    <a:pt x="0" y="613"/>
                  </a:lnTo>
                  <a:lnTo>
                    <a:pt x="19" y="681"/>
                  </a:lnTo>
                  <a:lnTo>
                    <a:pt x="63" y="731"/>
                  </a:lnTo>
                  <a:lnTo>
                    <a:pt x="102" y="777"/>
                  </a:lnTo>
                  <a:lnTo>
                    <a:pt x="165" y="823"/>
                  </a:lnTo>
                  <a:lnTo>
                    <a:pt x="230" y="850"/>
                  </a:lnTo>
                  <a:lnTo>
                    <a:pt x="269" y="850"/>
                  </a:lnTo>
                  <a:lnTo>
                    <a:pt x="269" y="873"/>
                  </a:lnTo>
                  <a:lnTo>
                    <a:pt x="269" y="896"/>
                  </a:lnTo>
                  <a:lnTo>
                    <a:pt x="230" y="896"/>
                  </a:lnTo>
                  <a:lnTo>
                    <a:pt x="165" y="873"/>
                  </a:lnTo>
                  <a:lnTo>
                    <a:pt x="165" y="658"/>
                  </a:lnTo>
                  <a:lnTo>
                    <a:pt x="146" y="635"/>
                  </a:lnTo>
                  <a:lnTo>
                    <a:pt x="146" y="613"/>
                  </a:lnTo>
                  <a:lnTo>
                    <a:pt x="186" y="590"/>
                  </a:lnTo>
                  <a:lnTo>
                    <a:pt x="249" y="539"/>
                  </a:lnTo>
                  <a:lnTo>
                    <a:pt x="312" y="517"/>
                  </a:lnTo>
                  <a:lnTo>
                    <a:pt x="351" y="517"/>
                  </a:lnTo>
                  <a:lnTo>
                    <a:pt x="371" y="471"/>
                  </a:lnTo>
                  <a:lnTo>
                    <a:pt x="371" y="424"/>
                  </a:lnTo>
                  <a:lnTo>
                    <a:pt x="351" y="397"/>
                  </a:lnTo>
                  <a:lnTo>
                    <a:pt x="288" y="374"/>
                  </a:lnTo>
                  <a:lnTo>
                    <a:pt x="249" y="397"/>
                  </a:lnTo>
                  <a:lnTo>
                    <a:pt x="230" y="447"/>
                  </a:lnTo>
                  <a:lnTo>
                    <a:pt x="186" y="517"/>
                  </a:lnTo>
                  <a:lnTo>
                    <a:pt x="121" y="447"/>
                  </a:lnTo>
                  <a:lnTo>
                    <a:pt x="102" y="424"/>
                  </a:lnTo>
                  <a:lnTo>
                    <a:pt x="146" y="374"/>
                  </a:lnTo>
                  <a:lnTo>
                    <a:pt x="205" y="328"/>
                  </a:lnTo>
                  <a:lnTo>
                    <a:pt x="230" y="306"/>
                  </a:lnTo>
                  <a:lnTo>
                    <a:pt x="249" y="283"/>
                  </a:lnTo>
                  <a:lnTo>
                    <a:pt x="332" y="0"/>
                  </a:lnTo>
                  <a:lnTo>
                    <a:pt x="312" y="45"/>
                  </a:lnTo>
                  <a:lnTo>
                    <a:pt x="249" y="91"/>
                  </a:lnTo>
                  <a:lnTo>
                    <a:pt x="205" y="91"/>
                  </a:lnTo>
                  <a:lnTo>
                    <a:pt x="186" y="68"/>
                  </a:lnTo>
                  <a:lnTo>
                    <a:pt x="186" y="22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349880" y="5238720"/>
              <a:ext cx="105120" cy="235440"/>
            </a:xfrm>
            <a:custGeom>
              <a:avLst/>
              <a:gdLst/>
              <a:ahLst/>
              <a:rect l="0" t="0" r="r" b="b"/>
              <a:pathLst>
                <a:path w="292" h="654">
                  <a:moveTo>
                    <a:pt x="145" y="97"/>
                  </a:moveTo>
                  <a:lnTo>
                    <a:pt x="104" y="169"/>
                  </a:lnTo>
                  <a:lnTo>
                    <a:pt x="81" y="218"/>
                  </a:lnTo>
                  <a:lnTo>
                    <a:pt x="63" y="267"/>
                  </a:lnTo>
                  <a:lnTo>
                    <a:pt x="40" y="338"/>
                  </a:lnTo>
                  <a:lnTo>
                    <a:pt x="22" y="387"/>
                  </a:lnTo>
                  <a:lnTo>
                    <a:pt x="0" y="436"/>
                  </a:lnTo>
                  <a:lnTo>
                    <a:pt x="0" y="436"/>
                  </a:lnTo>
                  <a:lnTo>
                    <a:pt x="40" y="508"/>
                  </a:lnTo>
                  <a:lnTo>
                    <a:pt x="81" y="583"/>
                  </a:lnTo>
                  <a:lnTo>
                    <a:pt x="210" y="654"/>
                  </a:lnTo>
                  <a:lnTo>
                    <a:pt x="169" y="605"/>
                  </a:lnTo>
                  <a:lnTo>
                    <a:pt x="145" y="556"/>
                  </a:lnTo>
                  <a:lnTo>
                    <a:pt x="145" y="534"/>
                  </a:lnTo>
                  <a:lnTo>
                    <a:pt x="187" y="458"/>
                  </a:lnTo>
                  <a:lnTo>
                    <a:pt x="145" y="436"/>
                  </a:lnTo>
                  <a:lnTo>
                    <a:pt x="145" y="387"/>
                  </a:lnTo>
                  <a:lnTo>
                    <a:pt x="169" y="365"/>
                  </a:lnTo>
                  <a:lnTo>
                    <a:pt x="210" y="338"/>
                  </a:lnTo>
                  <a:lnTo>
                    <a:pt x="251" y="289"/>
                  </a:lnTo>
                  <a:lnTo>
                    <a:pt x="292" y="240"/>
                  </a:lnTo>
                  <a:lnTo>
                    <a:pt x="292" y="218"/>
                  </a:lnTo>
                  <a:lnTo>
                    <a:pt x="292" y="169"/>
                  </a:lnTo>
                  <a:lnTo>
                    <a:pt x="273" y="97"/>
                  </a:lnTo>
                  <a:lnTo>
                    <a:pt x="210" y="26"/>
                  </a:lnTo>
                  <a:lnTo>
                    <a:pt x="169" y="0"/>
                  </a:lnTo>
                  <a:lnTo>
                    <a:pt x="169" y="26"/>
                  </a:lnTo>
                  <a:lnTo>
                    <a:pt x="145" y="48"/>
                  </a:lnTo>
                  <a:lnTo>
                    <a:pt x="145" y="97"/>
                  </a:lnTo>
                  <a:lnTo>
                    <a:pt x="145" y="119"/>
                  </a:lnTo>
                  <a:lnTo>
                    <a:pt x="145" y="119"/>
                  </a:lnTo>
                  <a:lnTo>
                    <a:pt x="145" y="97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3795840" y="1601640"/>
            <a:ext cx="1081080" cy="3275640"/>
            <a:chOff x="3795840" y="1601640"/>
            <a:chExt cx="1081080" cy="3275640"/>
          </a:xfrm>
        </p:grpSpPr>
        <p:sp>
          <p:nvSpPr>
            <p:cNvPr id="569" name=""/>
            <p:cNvSpPr/>
            <p:nvPr/>
          </p:nvSpPr>
          <p:spPr>
            <a:xfrm>
              <a:off x="3895560" y="3276720"/>
              <a:ext cx="981360" cy="1600560"/>
            </a:xfrm>
            <a:custGeom>
              <a:avLst/>
              <a:gdLst/>
              <a:ahLst/>
              <a:rect l="0" t="0" r="r" b="b"/>
              <a:pathLst>
                <a:path w="2726" h="4446">
                  <a:moveTo>
                    <a:pt x="953" y="374"/>
                  </a:moveTo>
                  <a:lnTo>
                    <a:pt x="865" y="392"/>
                  </a:lnTo>
                  <a:lnTo>
                    <a:pt x="799" y="436"/>
                  </a:lnTo>
                  <a:lnTo>
                    <a:pt x="672" y="582"/>
                  </a:lnTo>
                  <a:lnTo>
                    <a:pt x="540" y="723"/>
                  </a:lnTo>
                  <a:lnTo>
                    <a:pt x="391" y="851"/>
                  </a:lnTo>
                  <a:lnTo>
                    <a:pt x="369" y="890"/>
                  </a:lnTo>
                  <a:lnTo>
                    <a:pt x="347" y="930"/>
                  </a:lnTo>
                  <a:lnTo>
                    <a:pt x="347" y="930"/>
                  </a:lnTo>
                  <a:lnTo>
                    <a:pt x="369" y="930"/>
                  </a:lnTo>
                  <a:lnTo>
                    <a:pt x="153" y="1553"/>
                  </a:lnTo>
                  <a:lnTo>
                    <a:pt x="0" y="4345"/>
                  </a:lnTo>
                  <a:lnTo>
                    <a:pt x="2726" y="4446"/>
                  </a:lnTo>
                  <a:lnTo>
                    <a:pt x="2317" y="1844"/>
                  </a:lnTo>
                  <a:lnTo>
                    <a:pt x="2119" y="414"/>
                  </a:lnTo>
                  <a:lnTo>
                    <a:pt x="1385" y="0"/>
                  </a:lnTo>
                  <a:lnTo>
                    <a:pt x="953" y="374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0" name=""/>
            <p:cNvGrpSpPr/>
            <p:nvPr/>
          </p:nvGrpSpPr>
          <p:grpSpPr>
            <a:xfrm>
              <a:off x="3795840" y="1601640"/>
              <a:ext cx="1005120" cy="1818000"/>
              <a:chOff x="3795840" y="1601640"/>
              <a:chExt cx="1005120" cy="1818000"/>
            </a:xfrm>
          </p:grpSpPr>
          <p:sp>
            <p:nvSpPr>
              <p:cNvPr id="571" name=""/>
              <p:cNvSpPr/>
              <p:nvPr/>
            </p:nvSpPr>
            <p:spPr>
              <a:xfrm>
                <a:off x="3905280" y="1838160"/>
                <a:ext cx="895680" cy="1581480"/>
              </a:xfrm>
              <a:custGeom>
                <a:avLst/>
                <a:gdLst/>
                <a:ahLst/>
                <a:rect l="0" t="0" r="r" b="b"/>
                <a:pathLst>
                  <a:path w="2488" h="4393">
                    <a:moveTo>
                      <a:pt x="582" y="0"/>
                    </a:moveTo>
                    <a:lnTo>
                      <a:pt x="264" y="264"/>
                    </a:lnTo>
                    <a:lnTo>
                      <a:pt x="79" y="687"/>
                    </a:lnTo>
                    <a:lnTo>
                      <a:pt x="26" y="1217"/>
                    </a:lnTo>
                    <a:lnTo>
                      <a:pt x="0" y="2699"/>
                    </a:lnTo>
                    <a:lnTo>
                      <a:pt x="52" y="3546"/>
                    </a:lnTo>
                    <a:lnTo>
                      <a:pt x="820" y="3599"/>
                    </a:lnTo>
                    <a:lnTo>
                      <a:pt x="926" y="4075"/>
                    </a:lnTo>
                    <a:lnTo>
                      <a:pt x="1031" y="4393"/>
                    </a:lnTo>
                    <a:lnTo>
                      <a:pt x="1271" y="4393"/>
                    </a:lnTo>
                    <a:lnTo>
                      <a:pt x="1403" y="4102"/>
                    </a:lnTo>
                    <a:lnTo>
                      <a:pt x="1323" y="3599"/>
                    </a:lnTo>
                    <a:lnTo>
                      <a:pt x="2038" y="3519"/>
                    </a:lnTo>
                    <a:lnTo>
                      <a:pt x="2064" y="3017"/>
                    </a:lnTo>
                    <a:lnTo>
                      <a:pt x="2223" y="3096"/>
                    </a:lnTo>
                    <a:lnTo>
                      <a:pt x="2382" y="3043"/>
                    </a:lnTo>
                    <a:lnTo>
                      <a:pt x="2488" y="2620"/>
                    </a:lnTo>
                    <a:lnTo>
                      <a:pt x="2355" y="2408"/>
                    </a:lnTo>
                    <a:lnTo>
                      <a:pt x="2197" y="2435"/>
                    </a:lnTo>
                    <a:lnTo>
                      <a:pt x="2355" y="185"/>
                    </a:lnTo>
                    <a:lnTo>
                      <a:pt x="582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795840" y="2281320"/>
                <a:ext cx="409680" cy="4096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148280" y="2243160"/>
                <a:ext cx="485640" cy="4856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338720" y="2443320"/>
                <a:ext cx="85680" cy="85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4560" bIns="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929040" y="2452680"/>
                <a:ext cx="85680" cy="85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4560" bIns="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135320" y="1630440"/>
                <a:ext cx="7920" cy="217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4249800" y="1611360"/>
                <a:ext cx="17280" cy="217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V="1">
                <a:off x="4411800" y="1601640"/>
                <a:ext cx="36360" cy="227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V="1">
                <a:off x="4573440" y="1649520"/>
                <a:ext cx="55800" cy="198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V="1">
                <a:off x="4716360" y="1677960"/>
                <a:ext cx="55800" cy="179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895560" y="2790720"/>
                <a:ext cx="657720" cy="257400"/>
              </a:xfrm>
              <a:custGeom>
                <a:avLst/>
                <a:gdLst/>
                <a:ahLst/>
                <a:rect l="0" t="0" r="r" b="b"/>
                <a:pathLst>
                  <a:path w="1827" h="715">
                    <a:moveTo>
                      <a:pt x="0" y="0"/>
                    </a:moveTo>
                    <a:lnTo>
                      <a:pt x="1827" y="163"/>
                    </a:lnTo>
                    <a:lnTo>
                      <a:pt x="746" y="7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4191120" y="3286080"/>
              <a:ext cx="305280" cy="181440"/>
            </a:xfrm>
            <a:custGeom>
              <a:avLst/>
              <a:gdLst/>
              <a:ahLst/>
              <a:rect l="0" t="0" r="r" b="b"/>
              <a:pathLst>
                <a:path w="848" h="504">
                  <a:moveTo>
                    <a:pt x="0" y="344"/>
                  </a:moveTo>
                  <a:lnTo>
                    <a:pt x="239" y="478"/>
                  </a:lnTo>
                  <a:lnTo>
                    <a:pt x="663" y="504"/>
                  </a:lnTo>
                  <a:lnTo>
                    <a:pt x="848" y="265"/>
                  </a:lnTo>
                  <a:lnTo>
                    <a:pt x="848" y="79"/>
                  </a:lnTo>
                  <a:lnTo>
                    <a:pt x="663" y="0"/>
                  </a:lnTo>
                  <a:lnTo>
                    <a:pt x="477" y="265"/>
                  </a:lnTo>
                  <a:lnTo>
                    <a:pt x="185" y="292"/>
                  </a:lnTo>
                  <a:lnTo>
                    <a:pt x="0" y="344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3994200" y="6105600"/>
            <a:ext cx="752760" cy="209880"/>
          </a:xfrm>
          <a:custGeom>
            <a:avLst/>
            <a:gdLst/>
            <a:ahLst/>
            <a:rect l="0" t="0" r="r" b="b"/>
            <a:pathLst>
              <a:path w="2091" h="583">
                <a:moveTo>
                  <a:pt x="1376" y="185"/>
                </a:moveTo>
                <a:lnTo>
                  <a:pt x="978" y="52"/>
                </a:lnTo>
                <a:lnTo>
                  <a:pt x="714" y="0"/>
                </a:lnTo>
                <a:lnTo>
                  <a:pt x="423" y="105"/>
                </a:lnTo>
                <a:lnTo>
                  <a:pt x="132" y="264"/>
                </a:lnTo>
                <a:lnTo>
                  <a:pt x="0" y="477"/>
                </a:lnTo>
                <a:lnTo>
                  <a:pt x="185" y="583"/>
                </a:lnTo>
                <a:lnTo>
                  <a:pt x="2091" y="583"/>
                </a:lnTo>
                <a:lnTo>
                  <a:pt x="2091" y="185"/>
                </a:lnTo>
                <a:lnTo>
                  <a:pt x="1376" y="185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4019400" y="3886200"/>
            <a:ext cx="756000" cy="983160"/>
            <a:chOff x="4019400" y="3886200"/>
            <a:chExt cx="756000" cy="983160"/>
          </a:xfrm>
        </p:grpSpPr>
        <p:sp>
          <p:nvSpPr>
            <p:cNvPr id="585" name=""/>
            <p:cNvSpPr/>
            <p:nvPr/>
          </p:nvSpPr>
          <p:spPr>
            <a:xfrm>
              <a:off x="4200480" y="4233960"/>
              <a:ext cx="276480" cy="562320"/>
            </a:xfrm>
            <a:custGeom>
              <a:avLst/>
              <a:gdLst/>
              <a:ahLst/>
              <a:rect l="0" t="0" r="r" b="b"/>
              <a:pathLst>
                <a:path w="768" h="1562">
                  <a:moveTo>
                    <a:pt x="196" y="62"/>
                  </a:moveTo>
                  <a:lnTo>
                    <a:pt x="235" y="22"/>
                  </a:lnTo>
                  <a:lnTo>
                    <a:pt x="274" y="0"/>
                  </a:lnTo>
                  <a:lnTo>
                    <a:pt x="313" y="22"/>
                  </a:lnTo>
                  <a:lnTo>
                    <a:pt x="374" y="40"/>
                  </a:lnTo>
                  <a:lnTo>
                    <a:pt x="471" y="0"/>
                  </a:lnTo>
                  <a:lnTo>
                    <a:pt x="511" y="0"/>
                  </a:lnTo>
                  <a:lnTo>
                    <a:pt x="572" y="0"/>
                  </a:lnTo>
                  <a:lnTo>
                    <a:pt x="572" y="62"/>
                  </a:lnTo>
                  <a:lnTo>
                    <a:pt x="572" y="80"/>
                  </a:lnTo>
                  <a:lnTo>
                    <a:pt x="511" y="142"/>
                  </a:lnTo>
                  <a:lnTo>
                    <a:pt x="532" y="227"/>
                  </a:lnTo>
                  <a:lnTo>
                    <a:pt x="532" y="289"/>
                  </a:lnTo>
                  <a:lnTo>
                    <a:pt x="572" y="330"/>
                  </a:lnTo>
                  <a:lnTo>
                    <a:pt x="611" y="392"/>
                  </a:lnTo>
                  <a:lnTo>
                    <a:pt x="589" y="535"/>
                  </a:lnTo>
                  <a:lnTo>
                    <a:pt x="550" y="637"/>
                  </a:lnTo>
                  <a:lnTo>
                    <a:pt x="589" y="700"/>
                  </a:lnTo>
                  <a:lnTo>
                    <a:pt x="650" y="780"/>
                  </a:lnTo>
                  <a:lnTo>
                    <a:pt x="707" y="861"/>
                  </a:lnTo>
                  <a:lnTo>
                    <a:pt x="729" y="924"/>
                  </a:lnTo>
                  <a:lnTo>
                    <a:pt x="746" y="986"/>
                  </a:lnTo>
                  <a:lnTo>
                    <a:pt x="768" y="1026"/>
                  </a:lnTo>
                  <a:lnTo>
                    <a:pt x="768" y="1026"/>
                  </a:lnTo>
                  <a:lnTo>
                    <a:pt x="746" y="1174"/>
                  </a:lnTo>
                  <a:lnTo>
                    <a:pt x="729" y="1294"/>
                  </a:lnTo>
                  <a:lnTo>
                    <a:pt x="707" y="1419"/>
                  </a:lnTo>
                  <a:lnTo>
                    <a:pt x="668" y="1562"/>
                  </a:lnTo>
                  <a:lnTo>
                    <a:pt x="668" y="1521"/>
                  </a:lnTo>
                  <a:lnTo>
                    <a:pt x="668" y="1481"/>
                  </a:lnTo>
                  <a:lnTo>
                    <a:pt x="689" y="1437"/>
                  </a:lnTo>
                  <a:lnTo>
                    <a:pt x="689" y="1419"/>
                  </a:lnTo>
                  <a:lnTo>
                    <a:pt x="668" y="1356"/>
                  </a:lnTo>
                  <a:lnTo>
                    <a:pt x="650" y="1276"/>
                  </a:lnTo>
                  <a:lnTo>
                    <a:pt x="668" y="1214"/>
                  </a:lnTo>
                  <a:lnTo>
                    <a:pt x="689" y="1191"/>
                  </a:lnTo>
                  <a:lnTo>
                    <a:pt x="689" y="1174"/>
                  </a:lnTo>
                  <a:lnTo>
                    <a:pt x="668" y="1049"/>
                  </a:lnTo>
                  <a:lnTo>
                    <a:pt x="628" y="986"/>
                  </a:lnTo>
                  <a:lnTo>
                    <a:pt x="589" y="946"/>
                  </a:lnTo>
                  <a:lnTo>
                    <a:pt x="550" y="884"/>
                  </a:lnTo>
                  <a:lnTo>
                    <a:pt x="511" y="821"/>
                  </a:lnTo>
                  <a:lnTo>
                    <a:pt x="471" y="861"/>
                  </a:lnTo>
                  <a:lnTo>
                    <a:pt x="432" y="884"/>
                  </a:lnTo>
                  <a:lnTo>
                    <a:pt x="393" y="906"/>
                  </a:lnTo>
                  <a:lnTo>
                    <a:pt x="374" y="924"/>
                  </a:lnTo>
                  <a:lnTo>
                    <a:pt x="353" y="924"/>
                  </a:lnTo>
                  <a:lnTo>
                    <a:pt x="353" y="843"/>
                  </a:lnTo>
                  <a:lnTo>
                    <a:pt x="353" y="821"/>
                  </a:lnTo>
                  <a:lnTo>
                    <a:pt x="353" y="803"/>
                  </a:lnTo>
                  <a:lnTo>
                    <a:pt x="374" y="758"/>
                  </a:lnTo>
                  <a:lnTo>
                    <a:pt x="393" y="718"/>
                  </a:lnTo>
                  <a:lnTo>
                    <a:pt x="393" y="718"/>
                  </a:lnTo>
                  <a:lnTo>
                    <a:pt x="393" y="740"/>
                  </a:lnTo>
                  <a:lnTo>
                    <a:pt x="393" y="758"/>
                  </a:lnTo>
                  <a:lnTo>
                    <a:pt x="374" y="780"/>
                  </a:lnTo>
                  <a:lnTo>
                    <a:pt x="335" y="758"/>
                  </a:lnTo>
                  <a:lnTo>
                    <a:pt x="313" y="740"/>
                  </a:lnTo>
                  <a:lnTo>
                    <a:pt x="296" y="740"/>
                  </a:lnTo>
                  <a:lnTo>
                    <a:pt x="274" y="758"/>
                  </a:lnTo>
                  <a:lnTo>
                    <a:pt x="257" y="780"/>
                  </a:lnTo>
                  <a:lnTo>
                    <a:pt x="196" y="718"/>
                  </a:lnTo>
                  <a:lnTo>
                    <a:pt x="178" y="780"/>
                  </a:lnTo>
                  <a:lnTo>
                    <a:pt x="156" y="803"/>
                  </a:lnTo>
                  <a:lnTo>
                    <a:pt x="117" y="780"/>
                  </a:lnTo>
                  <a:lnTo>
                    <a:pt x="39" y="758"/>
                  </a:lnTo>
                  <a:lnTo>
                    <a:pt x="17" y="740"/>
                  </a:lnTo>
                  <a:lnTo>
                    <a:pt x="0" y="700"/>
                  </a:lnTo>
                  <a:lnTo>
                    <a:pt x="17" y="677"/>
                  </a:lnTo>
                  <a:lnTo>
                    <a:pt x="39" y="677"/>
                  </a:lnTo>
                  <a:lnTo>
                    <a:pt x="117" y="700"/>
                  </a:lnTo>
                  <a:lnTo>
                    <a:pt x="196" y="718"/>
                  </a:lnTo>
                  <a:lnTo>
                    <a:pt x="196" y="718"/>
                  </a:lnTo>
                  <a:lnTo>
                    <a:pt x="178" y="700"/>
                  </a:lnTo>
                  <a:lnTo>
                    <a:pt x="156" y="677"/>
                  </a:lnTo>
                  <a:lnTo>
                    <a:pt x="139" y="655"/>
                  </a:lnTo>
                  <a:lnTo>
                    <a:pt x="139" y="637"/>
                  </a:lnTo>
                  <a:lnTo>
                    <a:pt x="139" y="597"/>
                  </a:lnTo>
                  <a:lnTo>
                    <a:pt x="156" y="553"/>
                  </a:lnTo>
                  <a:lnTo>
                    <a:pt x="178" y="535"/>
                  </a:lnTo>
                  <a:lnTo>
                    <a:pt x="178" y="472"/>
                  </a:lnTo>
                  <a:lnTo>
                    <a:pt x="178" y="410"/>
                  </a:lnTo>
                  <a:lnTo>
                    <a:pt x="178" y="267"/>
                  </a:lnTo>
                  <a:lnTo>
                    <a:pt x="139" y="227"/>
                  </a:lnTo>
                  <a:lnTo>
                    <a:pt x="117" y="205"/>
                  </a:lnTo>
                  <a:lnTo>
                    <a:pt x="117" y="182"/>
                  </a:lnTo>
                  <a:lnTo>
                    <a:pt x="139" y="165"/>
                  </a:lnTo>
                  <a:lnTo>
                    <a:pt x="156" y="142"/>
                  </a:lnTo>
                  <a:lnTo>
                    <a:pt x="156" y="124"/>
                  </a:lnTo>
                  <a:lnTo>
                    <a:pt x="196" y="62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417920" y="3987720"/>
              <a:ext cx="174960" cy="165600"/>
            </a:xfrm>
            <a:custGeom>
              <a:avLst/>
              <a:gdLst/>
              <a:ahLst/>
              <a:rect l="0" t="0" r="r" b="b"/>
              <a:pathLst>
                <a:path w="486" h="460">
                  <a:moveTo>
                    <a:pt x="100" y="271"/>
                  </a:moveTo>
                  <a:lnTo>
                    <a:pt x="100" y="189"/>
                  </a:lnTo>
                  <a:lnTo>
                    <a:pt x="150" y="102"/>
                  </a:lnTo>
                  <a:lnTo>
                    <a:pt x="257" y="51"/>
                  </a:lnTo>
                  <a:lnTo>
                    <a:pt x="357" y="0"/>
                  </a:lnTo>
                  <a:lnTo>
                    <a:pt x="413" y="34"/>
                  </a:lnTo>
                  <a:lnTo>
                    <a:pt x="486" y="85"/>
                  </a:lnTo>
                  <a:lnTo>
                    <a:pt x="486" y="121"/>
                  </a:lnTo>
                  <a:lnTo>
                    <a:pt x="486" y="121"/>
                  </a:lnTo>
                  <a:lnTo>
                    <a:pt x="435" y="121"/>
                  </a:lnTo>
                  <a:lnTo>
                    <a:pt x="335" y="172"/>
                  </a:lnTo>
                  <a:lnTo>
                    <a:pt x="228" y="241"/>
                  </a:lnTo>
                  <a:lnTo>
                    <a:pt x="206" y="322"/>
                  </a:lnTo>
                  <a:lnTo>
                    <a:pt x="206" y="357"/>
                  </a:lnTo>
                  <a:lnTo>
                    <a:pt x="178" y="392"/>
                  </a:lnTo>
                  <a:lnTo>
                    <a:pt x="150" y="426"/>
                  </a:lnTo>
                  <a:lnTo>
                    <a:pt x="100" y="443"/>
                  </a:lnTo>
                  <a:lnTo>
                    <a:pt x="72" y="460"/>
                  </a:lnTo>
                  <a:lnTo>
                    <a:pt x="50" y="460"/>
                  </a:lnTo>
                  <a:lnTo>
                    <a:pt x="0" y="426"/>
                  </a:lnTo>
                  <a:lnTo>
                    <a:pt x="0" y="392"/>
                  </a:lnTo>
                  <a:lnTo>
                    <a:pt x="22" y="374"/>
                  </a:lnTo>
                  <a:lnTo>
                    <a:pt x="50" y="305"/>
                  </a:lnTo>
                  <a:lnTo>
                    <a:pt x="72" y="288"/>
                  </a:lnTo>
                  <a:lnTo>
                    <a:pt x="100" y="288"/>
                  </a:lnTo>
                  <a:lnTo>
                    <a:pt x="100" y="271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019400" y="4159080"/>
              <a:ext cx="201960" cy="267120"/>
            </a:xfrm>
            <a:custGeom>
              <a:avLst/>
              <a:gdLst/>
              <a:ahLst/>
              <a:rect l="0" t="0" r="r" b="b"/>
              <a:pathLst>
                <a:path w="561" h="742">
                  <a:moveTo>
                    <a:pt x="424" y="581"/>
                  </a:moveTo>
                  <a:lnTo>
                    <a:pt x="315" y="442"/>
                  </a:lnTo>
                  <a:lnTo>
                    <a:pt x="204" y="281"/>
                  </a:lnTo>
                  <a:lnTo>
                    <a:pt x="204" y="200"/>
                  </a:lnTo>
                  <a:lnTo>
                    <a:pt x="204" y="118"/>
                  </a:lnTo>
                  <a:lnTo>
                    <a:pt x="245" y="56"/>
                  </a:lnTo>
                  <a:lnTo>
                    <a:pt x="315" y="0"/>
                  </a:lnTo>
                  <a:lnTo>
                    <a:pt x="335" y="37"/>
                  </a:lnTo>
                  <a:lnTo>
                    <a:pt x="383" y="56"/>
                  </a:lnTo>
                  <a:lnTo>
                    <a:pt x="404" y="99"/>
                  </a:lnTo>
                  <a:lnTo>
                    <a:pt x="404" y="118"/>
                  </a:lnTo>
                  <a:lnTo>
                    <a:pt x="294" y="161"/>
                  </a:lnTo>
                  <a:lnTo>
                    <a:pt x="177" y="200"/>
                  </a:lnTo>
                  <a:lnTo>
                    <a:pt x="225" y="219"/>
                  </a:lnTo>
                  <a:lnTo>
                    <a:pt x="245" y="219"/>
                  </a:lnTo>
                  <a:lnTo>
                    <a:pt x="294" y="219"/>
                  </a:lnTo>
                  <a:lnTo>
                    <a:pt x="315" y="219"/>
                  </a:lnTo>
                  <a:lnTo>
                    <a:pt x="356" y="243"/>
                  </a:lnTo>
                  <a:lnTo>
                    <a:pt x="445" y="262"/>
                  </a:lnTo>
                  <a:lnTo>
                    <a:pt x="472" y="281"/>
                  </a:lnTo>
                  <a:lnTo>
                    <a:pt x="492" y="281"/>
                  </a:lnTo>
                  <a:lnTo>
                    <a:pt x="534" y="361"/>
                  </a:lnTo>
                  <a:lnTo>
                    <a:pt x="561" y="442"/>
                  </a:lnTo>
                  <a:lnTo>
                    <a:pt x="534" y="504"/>
                  </a:lnTo>
                  <a:lnTo>
                    <a:pt x="492" y="542"/>
                  </a:lnTo>
                  <a:lnTo>
                    <a:pt x="356" y="605"/>
                  </a:lnTo>
                  <a:lnTo>
                    <a:pt x="204" y="643"/>
                  </a:lnTo>
                  <a:lnTo>
                    <a:pt x="157" y="685"/>
                  </a:lnTo>
                  <a:lnTo>
                    <a:pt x="88" y="723"/>
                  </a:lnTo>
                  <a:lnTo>
                    <a:pt x="47" y="742"/>
                  </a:lnTo>
                  <a:lnTo>
                    <a:pt x="26" y="723"/>
                  </a:lnTo>
                  <a:lnTo>
                    <a:pt x="0" y="685"/>
                  </a:lnTo>
                  <a:lnTo>
                    <a:pt x="88" y="643"/>
                  </a:lnTo>
                  <a:lnTo>
                    <a:pt x="157" y="643"/>
                  </a:lnTo>
                  <a:lnTo>
                    <a:pt x="225" y="624"/>
                  </a:lnTo>
                  <a:lnTo>
                    <a:pt x="315" y="581"/>
                  </a:lnTo>
                  <a:lnTo>
                    <a:pt x="356" y="542"/>
                  </a:lnTo>
                  <a:lnTo>
                    <a:pt x="356" y="523"/>
                  </a:lnTo>
                  <a:lnTo>
                    <a:pt x="383" y="542"/>
                  </a:lnTo>
                  <a:lnTo>
                    <a:pt x="424" y="581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095720" y="4656240"/>
              <a:ext cx="297360" cy="111600"/>
            </a:xfrm>
            <a:custGeom>
              <a:avLst/>
              <a:gdLst/>
              <a:ahLst/>
              <a:rect l="0" t="0" r="r" b="b"/>
              <a:pathLst>
                <a:path w="826" h="310">
                  <a:moveTo>
                    <a:pt x="625" y="67"/>
                  </a:moveTo>
                  <a:lnTo>
                    <a:pt x="559" y="136"/>
                  </a:lnTo>
                  <a:lnTo>
                    <a:pt x="513" y="174"/>
                  </a:lnTo>
                  <a:lnTo>
                    <a:pt x="468" y="106"/>
                  </a:lnTo>
                  <a:lnTo>
                    <a:pt x="403" y="37"/>
                  </a:lnTo>
                  <a:lnTo>
                    <a:pt x="201" y="106"/>
                  </a:lnTo>
                  <a:lnTo>
                    <a:pt x="0" y="211"/>
                  </a:lnTo>
                  <a:lnTo>
                    <a:pt x="20" y="310"/>
                  </a:lnTo>
                  <a:lnTo>
                    <a:pt x="90" y="310"/>
                  </a:lnTo>
                  <a:lnTo>
                    <a:pt x="247" y="310"/>
                  </a:lnTo>
                  <a:lnTo>
                    <a:pt x="267" y="280"/>
                  </a:lnTo>
                  <a:lnTo>
                    <a:pt x="332" y="242"/>
                  </a:lnTo>
                  <a:lnTo>
                    <a:pt x="378" y="211"/>
                  </a:lnTo>
                  <a:lnTo>
                    <a:pt x="403" y="211"/>
                  </a:lnTo>
                  <a:lnTo>
                    <a:pt x="448" y="242"/>
                  </a:lnTo>
                  <a:lnTo>
                    <a:pt x="513" y="280"/>
                  </a:lnTo>
                  <a:lnTo>
                    <a:pt x="559" y="310"/>
                  </a:lnTo>
                  <a:lnTo>
                    <a:pt x="579" y="310"/>
                  </a:lnTo>
                  <a:lnTo>
                    <a:pt x="645" y="310"/>
                  </a:lnTo>
                  <a:lnTo>
                    <a:pt x="715" y="280"/>
                  </a:lnTo>
                  <a:lnTo>
                    <a:pt x="736" y="211"/>
                  </a:lnTo>
                  <a:lnTo>
                    <a:pt x="801" y="67"/>
                  </a:lnTo>
                  <a:lnTo>
                    <a:pt x="826" y="37"/>
                  </a:lnTo>
                  <a:lnTo>
                    <a:pt x="826" y="0"/>
                  </a:lnTo>
                  <a:lnTo>
                    <a:pt x="801" y="37"/>
                  </a:lnTo>
                  <a:lnTo>
                    <a:pt x="761" y="67"/>
                  </a:lnTo>
                  <a:lnTo>
                    <a:pt x="715" y="174"/>
                  </a:lnTo>
                  <a:lnTo>
                    <a:pt x="670" y="242"/>
                  </a:lnTo>
                  <a:lnTo>
                    <a:pt x="645" y="242"/>
                  </a:lnTo>
                  <a:lnTo>
                    <a:pt x="625" y="242"/>
                  </a:lnTo>
                  <a:lnTo>
                    <a:pt x="625" y="174"/>
                  </a:lnTo>
                  <a:lnTo>
                    <a:pt x="625" y="67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084560" y="3886200"/>
              <a:ext cx="279720" cy="230400"/>
            </a:xfrm>
            <a:custGeom>
              <a:avLst/>
              <a:gdLst/>
              <a:ahLst/>
              <a:rect l="0" t="0" r="r" b="b"/>
              <a:pathLst>
                <a:path w="777" h="640">
                  <a:moveTo>
                    <a:pt x="648" y="604"/>
                  </a:moveTo>
                  <a:lnTo>
                    <a:pt x="629" y="427"/>
                  </a:lnTo>
                  <a:lnTo>
                    <a:pt x="629" y="267"/>
                  </a:lnTo>
                  <a:lnTo>
                    <a:pt x="629" y="194"/>
                  </a:lnTo>
                  <a:lnTo>
                    <a:pt x="586" y="122"/>
                  </a:lnTo>
                  <a:lnTo>
                    <a:pt x="543" y="54"/>
                  </a:lnTo>
                  <a:lnTo>
                    <a:pt x="462" y="0"/>
                  </a:lnTo>
                  <a:lnTo>
                    <a:pt x="481" y="122"/>
                  </a:lnTo>
                  <a:lnTo>
                    <a:pt x="524" y="176"/>
                  </a:lnTo>
                  <a:lnTo>
                    <a:pt x="567" y="249"/>
                  </a:lnTo>
                  <a:lnTo>
                    <a:pt x="396" y="336"/>
                  </a:lnTo>
                  <a:lnTo>
                    <a:pt x="228" y="390"/>
                  </a:lnTo>
                  <a:lnTo>
                    <a:pt x="185" y="372"/>
                  </a:lnTo>
                  <a:lnTo>
                    <a:pt x="147" y="354"/>
                  </a:lnTo>
                  <a:lnTo>
                    <a:pt x="104" y="322"/>
                  </a:lnTo>
                  <a:lnTo>
                    <a:pt x="42" y="267"/>
                  </a:lnTo>
                  <a:lnTo>
                    <a:pt x="19" y="213"/>
                  </a:lnTo>
                  <a:lnTo>
                    <a:pt x="0" y="194"/>
                  </a:lnTo>
                  <a:lnTo>
                    <a:pt x="0" y="267"/>
                  </a:lnTo>
                  <a:lnTo>
                    <a:pt x="19" y="303"/>
                  </a:lnTo>
                  <a:lnTo>
                    <a:pt x="80" y="372"/>
                  </a:lnTo>
                  <a:lnTo>
                    <a:pt x="185" y="390"/>
                  </a:lnTo>
                  <a:lnTo>
                    <a:pt x="314" y="409"/>
                  </a:lnTo>
                  <a:lnTo>
                    <a:pt x="357" y="427"/>
                  </a:lnTo>
                  <a:lnTo>
                    <a:pt x="376" y="445"/>
                  </a:lnTo>
                  <a:lnTo>
                    <a:pt x="420" y="481"/>
                  </a:lnTo>
                  <a:lnTo>
                    <a:pt x="439" y="517"/>
                  </a:lnTo>
                  <a:lnTo>
                    <a:pt x="462" y="549"/>
                  </a:lnTo>
                  <a:lnTo>
                    <a:pt x="500" y="567"/>
                  </a:lnTo>
                  <a:lnTo>
                    <a:pt x="567" y="517"/>
                  </a:lnTo>
                  <a:lnTo>
                    <a:pt x="586" y="481"/>
                  </a:lnTo>
                  <a:lnTo>
                    <a:pt x="605" y="427"/>
                  </a:lnTo>
                  <a:lnTo>
                    <a:pt x="629" y="354"/>
                  </a:lnTo>
                  <a:lnTo>
                    <a:pt x="605" y="322"/>
                  </a:lnTo>
                  <a:lnTo>
                    <a:pt x="605" y="322"/>
                  </a:lnTo>
                  <a:lnTo>
                    <a:pt x="586" y="336"/>
                  </a:lnTo>
                  <a:lnTo>
                    <a:pt x="543" y="372"/>
                  </a:lnTo>
                  <a:lnTo>
                    <a:pt x="524" y="427"/>
                  </a:lnTo>
                  <a:lnTo>
                    <a:pt x="605" y="517"/>
                  </a:lnTo>
                  <a:lnTo>
                    <a:pt x="648" y="536"/>
                  </a:lnTo>
                  <a:lnTo>
                    <a:pt x="691" y="549"/>
                  </a:lnTo>
                  <a:lnTo>
                    <a:pt x="710" y="567"/>
                  </a:lnTo>
                  <a:lnTo>
                    <a:pt x="753" y="585"/>
                  </a:lnTo>
                  <a:lnTo>
                    <a:pt x="777" y="585"/>
                  </a:lnTo>
                  <a:lnTo>
                    <a:pt x="777" y="604"/>
                  </a:lnTo>
                  <a:lnTo>
                    <a:pt x="734" y="622"/>
                  </a:lnTo>
                  <a:lnTo>
                    <a:pt x="691" y="622"/>
                  </a:lnTo>
                  <a:lnTo>
                    <a:pt x="586" y="622"/>
                  </a:lnTo>
                  <a:lnTo>
                    <a:pt x="586" y="640"/>
                  </a:lnTo>
                  <a:lnTo>
                    <a:pt x="567" y="640"/>
                  </a:lnTo>
                  <a:lnTo>
                    <a:pt x="543" y="640"/>
                  </a:lnTo>
                  <a:lnTo>
                    <a:pt x="543" y="640"/>
                  </a:lnTo>
                  <a:lnTo>
                    <a:pt x="605" y="622"/>
                  </a:lnTo>
                  <a:lnTo>
                    <a:pt x="648" y="604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54480" y="4562640"/>
              <a:ext cx="520920" cy="306720"/>
            </a:xfrm>
            <a:custGeom>
              <a:avLst/>
              <a:gdLst/>
              <a:ahLst/>
              <a:rect l="0" t="0" r="r" b="b"/>
              <a:pathLst>
                <a:path w="1447" h="852">
                  <a:moveTo>
                    <a:pt x="833" y="197"/>
                  </a:moveTo>
                  <a:lnTo>
                    <a:pt x="792" y="389"/>
                  </a:lnTo>
                  <a:lnTo>
                    <a:pt x="746" y="488"/>
                  </a:lnTo>
                  <a:lnTo>
                    <a:pt x="677" y="561"/>
                  </a:lnTo>
                  <a:lnTo>
                    <a:pt x="591" y="535"/>
                  </a:lnTo>
                  <a:lnTo>
                    <a:pt x="550" y="509"/>
                  </a:lnTo>
                  <a:lnTo>
                    <a:pt x="482" y="509"/>
                  </a:lnTo>
                  <a:lnTo>
                    <a:pt x="395" y="535"/>
                  </a:lnTo>
                  <a:lnTo>
                    <a:pt x="309" y="608"/>
                  </a:lnTo>
                  <a:lnTo>
                    <a:pt x="200" y="634"/>
                  </a:lnTo>
                  <a:lnTo>
                    <a:pt x="0" y="732"/>
                  </a:lnTo>
                  <a:lnTo>
                    <a:pt x="0" y="779"/>
                  </a:lnTo>
                  <a:lnTo>
                    <a:pt x="22" y="826"/>
                  </a:lnTo>
                  <a:lnTo>
                    <a:pt x="109" y="852"/>
                  </a:lnTo>
                  <a:lnTo>
                    <a:pt x="218" y="826"/>
                  </a:lnTo>
                  <a:lnTo>
                    <a:pt x="309" y="805"/>
                  </a:lnTo>
                  <a:lnTo>
                    <a:pt x="527" y="732"/>
                  </a:lnTo>
                  <a:lnTo>
                    <a:pt x="724" y="634"/>
                  </a:lnTo>
                  <a:lnTo>
                    <a:pt x="792" y="634"/>
                  </a:lnTo>
                  <a:lnTo>
                    <a:pt x="856" y="660"/>
                  </a:lnTo>
                  <a:lnTo>
                    <a:pt x="919" y="680"/>
                  </a:lnTo>
                  <a:lnTo>
                    <a:pt x="965" y="732"/>
                  </a:lnTo>
                  <a:lnTo>
                    <a:pt x="1051" y="779"/>
                  </a:lnTo>
                  <a:lnTo>
                    <a:pt x="1074" y="732"/>
                  </a:lnTo>
                  <a:lnTo>
                    <a:pt x="1097" y="706"/>
                  </a:lnTo>
                  <a:lnTo>
                    <a:pt x="1142" y="706"/>
                  </a:lnTo>
                  <a:lnTo>
                    <a:pt x="1206" y="706"/>
                  </a:lnTo>
                  <a:lnTo>
                    <a:pt x="1251" y="706"/>
                  </a:lnTo>
                  <a:lnTo>
                    <a:pt x="1292" y="660"/>
                  </a:lnTo>
                  <a:lnTo>
                    <a:pt x="1338" y="561"/>
                  </a:lnTo>
                  <a:lnTo>
                    <a:pt x="1383" y="436"/>
                  </a:lnTo>
                  <a:lnTo>
                    <a:pt x="1424" y="316"/>
                  </a:lnTo>
                  <a:lnTo>
                    <a:pt x="1447" y="269"/>
                  </a:lnTo>
                  <a:lnTo>
                    <a:pt x="1447" y="243"/>
                  </a:lnTo>
                  <a:lnTo>
                    <a:pt x="1383" y="217"/>
                  </a:lnTo>
                  <a:lnTo>
                    <a:pt x="1292" y="197"/>
                  </a:lnTo>
                  <a:lnTo>
                    <a:pt x="1206" y="171"/>
                  </a:lnTo>
                  <a:lnTo>
                    <a:pt x="1160" y="171"/>
                  </a:lnTo>
                  <a:lnTo>
                    <a:pt x="1119" y="145"/>
                  </a:lnTo>
                  <a:lnTo>
                    <a:pt x="1051" y="124"/>
                  </a:lnTo>
                  <a:lnTo>
                    <a:pt x="1051" y="72"/>
                  </a:lnTo>
                  <a:lnTo>
                    <a:pt x="1033" y="25"/>
                  </a:lnTo>
                  <a:lnTo>
                    <a:pt x="942" y="0"/>
                  </a:lnTo>
                  <a:lnTo>
                    <a:pt x="833" y="0"/>
                  </a:lnTo>
                  <a:lnTo>
                    <a:pt x="746" y="0"/>
                  </a:lnTo>
                  <a:lnTo>
                    <a:pt x="769" y="51"/>
                  </a:lnTo>
                  <a:lnTo>
                    <a:pt x="769" y="72"/>
                  </a:lnTo>
                  <a:lnTo>
                    <a:pt x="833" y="197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5359320" y="4280040"/>
            <a:ext cx="317880" cy="368640"/>
          </a:xfrm>
          <a:custGeom>
            <a:avLst/>
            <a:gdLst/>
            <a:ahLst/>
            <a:rect l="0" t="0" r="r" b="b"/>
            <a:pathLst>
              <a:path w="883" h="1024">
                <a:moveTo>
                  <a:pt x="848" y="0"/>
                </a:moveTo>
                <a:lnTo>
                  <a:pt x="848" y="141"/>
                </a:lnTo>
                <a:lnTo>
                  <a:pt x="883" y="246"/>
                </a:lnTo>
                <a:lnTo>
                  <a:pt x="883" y="352"/>
                </a:lnTo>
                <a:lnTo>
                  <a:pt x="848" y="458"/>
                </a:lnTo>
                <a:lnTo>
                  <a:pt x="813" y="565"/>
                </a:lnTo>
                <a:lnTo>
                  <a:pt x="707" y="671"/>
                </a:lnTo>
                <a:lnTo>
                  <a:pt x="636" y="777"/>
                </a:lnTo>
                <a:lnTo>
                  <a:pt x="565" y="882"/>
                </a:lnTo>
                <a:lnTo>
                  <a:pt x="459" y="918"/>
                </a:lnTo>
                <a:lnTo>
                  <a:pt x="353" y="918"/>
                </a:lnTo>
                <a:lnTo>
                  <a:pt x="247" y="918"/>
                </a:lnTo>
                <a:lnTo>
                  <a:pt x="141" y="988"/>
                </a:lnTo>
                <a:lnTo>
                  <a:pt x="35" y="1024"/>
                </a:lnTo>
                <a:lnTo>
                  <a:pt x="0" y="918"/>
                </a:lnTo>
                <a:lnTo>
                  <a:pt x="105" y="882"/>
                </a:lnTo>
                <a:lnTo>
                  <a:pt x="176" y="777"/>
                </a:lnTo>
                <a:lnTo>
                  <a:pt x="176" y="636"/>
                </a:lnTo>
                <a:lnTo>
                  <a:pt x="283" y="565"/>
                </a:lnTo>
                <a:lnTo>
                  <a:pt x="389" y="493"/>
                </a:lnTo>
                <a:lnTo>
                  <a:pt x="459" y="388"/>
                </a:lnTo>
                <a:lnTo>
                  <a:pt x="494" y="282"/>
                </a:lnTo>
                <a:lnTo>
                  <a:pt x="459" y="176"/>
                </a:lnTo>
                <a:lnTo>
                  <a:pt x="565" y="141"/>
                </a:lnTo>
                <a:lnTo>
                  <a:pt x="672" y="176"/>
                </a:lnTo>
                <a:lnTo>
                  <a:pt x="778" y="141"/>
                </a:lnTo>
                <a:lnTo>
                  <a:pt x="848" y="211"/>
                </a:lnTo>
                <a:lnTo>
                  <a:pt x="848" y="0"/>
                </a:lnTo>
                <a:close/>
              </a:path>
            </a:pathLst>
          </a:custGeom>
          <a:solidFill>
            <a:srgbClr val="ff9999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2209680" y="6126120"/>
            <a:ext cx="1219680" cy="228960"/>
            <a:chOff x="2209680" y="6126120"/>
            <a:chExt cx="1219680" cy="228960"/>
          </a:xfrm>
        </p:grpSpPr>
        <p:sp>
          <p:nvSpPr>
            <p:cNvPr id="593" name=""/>
            <p:cNvSpPr/>
            <p:nvPr/>
          </p:nvSpPr>
          <p:spPr>
            <a:xfrm>
              <a:off x="2209680" y="6153120"/>
              <a:ext cx="1219680" cy="171720"/>
            </a:xfrm>
            <a:custGeom>
              <a:avLst/>
              <a:gdLst/>
              <a:ahLst/>
              <a:rect l="0" t="0" r="r" b="b"/>
              <a:pathLst>
                <a:path w="3388" h="477">
                  <a:moveTo>
                    <a:pt x="1493" y="84"/>
                  </a:moveTo>
                  <a:lnTo>
                    <a:pt x="3388" y="328"/>
                  </a:lnTo>
                  <a:lnTo>
                    <a:pt x="3229" y="412"/>
                  </a:lnTo>
                  <a:lnTo>
                    <a:pt x="2938" y="477"/>
                  </a:lnTo>
                  <a:lnTo>
                    <a:pt x="2239" y="457"/>
                  </a:lnTo>
                  <a:lnTo>
                    <a:pt x="1162" y="351"/>
                  </a:lnTo>
                  <a:lnTo>
                    <a:pt x="777" y="286"/>
                  </a:lnTo>
                  <a:lnTo>
                    <a:pt x="0" y="184"/>
                  </a:lnTo>
                  <a:lnTo>
                    <a:pt x="30" y="0"/>
                  </a:lnTo>
                  <a:lnTo>
                    <a:pt x="972" y="103"/>
                  </a:lnTo>
                  <a:lnTo>
                    <a:pt x="1188" y="182"/>
                  </a:lnTo>
                  <a:lnTo>
                    <a:pt x="1400" y="210"/>
                  </a:lnTo>
                  <a:lnTo>
                    <a:pt x="1493" y="84"/>
                  </a:lnTo>
                  <a:close/>
                </a:path>
              </a:pathLst>
            </a:custGeom>
            <a:blipFill rotWithShape="0">
              <a:blip r:embed="rId1"/>
              <a:tile tx="0" ty="0" sx="3528125" sy="3528125" algn="ctr"/>
            </a:blip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717640" y="6221520"/>
              <a:ext cx="695520" cy="133560"/>
            </a:xfrm>
            <a:custGeom>
              <a:avLst/>
              <a:gdLst/>
              <a:ahLst/>
              <a:rect l="0" t="0" r="r" b="b"/>
              <a:pathLst>
                <a:path w="1932" h="371">
                  <a:moveTo>
                    <a:pt x="34" y="12"/>
                  </a:moveTo>
                  <a:lnTo>
                    <a:pt x="225" y="0"/>
                  </a:lnTo>
                  <a:lnTo>
                    <a:pt x="381" y="133"/>
                  </a:lnTo>
                  <a:lnTo>
                    <a:pt x="658" y="83"/>
                  </a:lnTo>
                  <a:lnTo>
                    <a:pt x="1040" y="158"/>
                  </a:lnTo>
                  <a:lnTo>
                    <a:pt x="1243" y="200"/>
                  </a:lnTo>
                  <a:lnTo>
                    <a:pt x="1503" y="225"/>
                  </a:lnTo>
                  <a:lnTo>
                    <a:pt x="1932" y="204"/>
                  </a:lnTo>
                  <a:lnTo>
                    <a:pt x="1512" y="304"/>
                  </a:lnTo>
                  <a:lnTo>
                    <a:pt x="1209" y="371"/>
                  </a:lnTo>
                  <a:lnTo>
                    <a:pt x="692" y="296"/>
                  </a:lnTo>
                  <a:lnTo>
                    <a:pt x="407" y="267"/>
                  </a:lnTo>
                  <a:lnTo>
                    <a:pt x="0" y="188"/>
                  </a:lnTo>
                  <a:lnTo>
                    <a:pt x="34" y="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230560" y="6126120"/>
              <a:ext cx="495720" cy="124200"/>
            </a:xfrm>
            <a:custGeom>
              <a:avLst/>
              <a:gdLst/>
              <a:ahLst/>
              <a:rect l="0" t="0" r="r" b="b"/>
              <a:pathLst>
                <a:path w="1377" h="345">
                  <a:moveTo>
                    <a:pt x="1364" y="345"/>
                  </a:moveTo>
                  <a:lnTo>
                    <a:pt x="1377" y="230"/>
                  </a:lnTo>
                  <a:lnTo>
                    <a:pt x="1036" y="88"/>
                  </a:lnTo>
                  <a:lnTo>
                    <a:pt x="44" y="0"/>
                  </a:lnTo>
                  <a:lnTo>
                    <a:pt x="0" y="142"/>
                  </a:lnTo>
                  <a:lnTo>
                    <a:pt x="1364" y="345"/>
                  </a:lnTo>
                  <a:close/>
                </a:path>
              </a:pathLst>
            </a:custGeom>
            <a:solidFill>
              <a:srgbClr val="9933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4576680" y="3454560"/>
            <a:ext cx="1203120" cy="957240"/>
            <a:chOff x="4576680" y="3454560"/>
            <a:chExt cx="1203120" cy="957240"/>
          </a:xfrm>
        </p:grpSpPr>
        <p:sp>
          <p:nvSpPr>
            <p:cNvPr id="597" name=""/>
            <p:cNvSpPr/>
            <p:nvPr/>
          </p:nvSpPr>
          <p:spPr>
            <a:xfrm>
              <a:off x="5489280" y="4108680"/>
              <a:ext cx="290520" cy="303120"/>
            </a:xfrm>
            <a:custGeom>
              <a:avLst/>
              <a:gdLst/>
              <a:ahLst/>
              <a:rect l="0" t="0" r="r" b="b"/>
              <a:pathLst>
                <a:path w="807" h="842">
                  <a:moveTo>
                    <a:pt x="259" y="820"/>
                  </a:moveTo>
                  <a:lnTo>
                    <a:pt x="259" y="820"/>
                  </a:lnTo>
                  <a:cubicBezTo>
                    <a:pt x="325" y="844"/>
                    <a:pt x="396" y="849"/>
                    <a:pt x="466" y="835"/>
                  </a:cubicBezTo>
                  <a:cubicBezTo>
                    <a:pt x="536" y="821"/>
                    <a:pt x="602" y="788"/>
                    <a:pt x="657" y="739"/>
                  </a:cubicBezTo>
                  <a:cubicBezTo>
                    <a:pt x="712" y="691"/>
                    <a:pt x="754" y="628"/>
                    <a:pt x="780" y="558"/>
                  </a:cubicBezTo>
                  <a:cubicBezTo>
                    <a:pt x="805" y="488"/>
                    <a:pt x="813" y="413"/>
                    <a:pt x="802" y="341"/>
                  </a:cubicBezTo>
                  <a:cubicBezTo>
                    <a:pt x="791" y="268"/>
                    <a:pt x="762" y="201"/>
                    <a:pt x="717" y="145"/>
                  </a:cubicBezTo>
                  <a:cubicBezTo>
                    <a:pt x="673" y="89"/>
                    <a:pt x="615" y="47"/>
                    <a:pt x="549" y="23"/>
                  </a:cubicBezTo>
                  <a:lnTo>
                    <a:pt x="548" y="23"/>
                  </a:lnTo>
                  <a:lnTo>
                    <a:pt x="548" y="23"/>
                  </a:lnTo>
                  <a:cubicBezTo>
                    <a:pt x="482" y="-1"/>
                    <a:pt x="411" y="-6"/>
                    <a:pt x="341" y="8"/>
                  </a:cubicBezTo>
                  <a:cubicBezTo>
                    <a:pt x="271" y="22"/>
                    <a:pt x="205" y="55"/>
                    <a:pt x="150" y="104"/>
                  </a:cubicBezTo>
                  <a:cubicBezTo>
                    <a:pt x="95" y="152"/>
                    <a:pt x="53" y="215"/>
                    <a:pt x="27" y="285"/>
                  </a:cubicBezTo>
                  <a:cubicBezTo>
                    <a:pt x="2" y="355"/>
                    <a:pt x="-6" y="430"/>
                    <a:pt x="5" y="502"/>
                  </a:cubicBezTo>
                  <a:cubicBezTo>
                    <a:pt x="16" y="575"/>
                    <a:pt x="45" y="642"/>
                    <a:pt x="90" y="698"/>
                  </a:cubicBezTo>
                  <a:cubicBezTo>
                    <a:pt x="134" y="754"/>
                    <a:pt x="192" y="796"/>
                    <a:pt x="258" y="820"/>
                  </a:cubicBezTo>
                  <a:lnTo>
                    <a:pt x="259" y="82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576680" y="3454560"/>
              <a:ext cx="946440" cy="952920"/>
            </a:xfrm>
            <a:custGeom>
              <a:avLst/>
              <a:gdLst/>
              <a:ahLst/>
              <a:rect l="0" t="0" r="r" b="b"/>
              <a:pathLst>
                <a:path w="2629" h="2647">
                  <a:moveTo>
                    <a:pt x="410" y="0"/>
                  </a:moveTo>
                  <a:lnTo>
                    <a:pt x="630" y="198"/>
                  </a:lnTo>
                  <a:lnTo>
                    <a:pt x="890" y="1032"/>
                  </a:lnTo>
                  <a:lnTo>
                    <a:pt x="1133" y="1654"/>
                  </a:lnTo>
                  <a:lnTo>
                    <a:pt x="2629" y="1786"/>
                  </a:lnTo>
                  <a:lnTo>
                    <a:pt x="2461" y="2647"/>
                  </a:lnTo>
                  <a:lnTo>
                    <a:pt x="533" y="2325"/>
                  </a:lnTo>
                  <a:lnTo>
                    <a:pt x="22" y="657"/>
                  </a:lnTo>
                  <a:lnTo>
                    <a:pt x="0" y="233"/>
                  </a:lnTo>
                  <a:lnTo>
                    <a:pt x="194" y="8"/>
                  </a:lnTo>
                  <a:lnTo>
                    <a:pt x="41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4788000" y="5321160"/>
            <a:ext cx="673560" cy="978120"/>
          </a:xfrm>
          <a:custGeom>
            <a:avLst/>
            <a:gdLst/>
            <a:ahLst/>
            <a:rect l="0" t="0" r="r" b="b"/>
            <a:pathLst>
              <a:path w="1871" h="2717">
                <a:moveTo>
                  <a:pt x="35" y="2576"/>
                </a:moveTo>
                <a:lnTo>
                  <a:pt x="211" y="2329"/>
                </a:lnTo>
                <a:lnTo>
                  <a:pt x="211" y="2188"/>
                </a:lnTo>
                <a:lnTo>
                  <a:pt x="211" y="2082"/>
                </a:lnTo>
                <a:lnTo>
                  <a:pt x="211" y="1941"/>
                </a:lnTo>
                <a:lnTo>
                  <a:pt x="317" y="2047"/>
                </a:lnTo>
                <a:lnTo>
                  <a:pt x="352" y="1906"/>
                </a:lnTo>
                <a:lnTo>
                  <a:pt x="388" y="1764"/>
                </a:lnTo>
                <a:lnTo>
                  <a:pt x="388" y="1623"/>
                </a:lnTo>
                <a:lnTo>
                  <a:pt x="458" y="1412"/>
                </a:lnTo>
                <a:lnTo>
                  <a:pt x="530" y="1128"/>
                </a:lnTo>
                <a:lnTo>
                  <a:pt x="741" y="1058"/>
                </a:lnTo>
                <a:lnTo>
                  <a:pt x="953" y="776"/>
                </a:lnTo>
                <a:lnTo>
                  <a:pt x="1235" y="423"/>
                </a:lnTo>
                <a:lnTo>
                  <a:pt x="1518" y="70"/>
                </a:lnTo>
                <a:lnTo>
                  <a:pt x="1730" y="0"/>
                </a:lnTo>
                <a:lnTo>
                  <a:pt x="1554" y="0"/>
                </a:lnTo>
                <a:lnTo>
                  <a:pt x="1271" y="282"/>
                </a:lnTo>
                <a:lnTo>
                  <a:pt x="1059" y="564"/>
                </a:lnTo>
                <a:lnTo>
                  <a:pt x="1024" y="705"/>
                </a:lnTo>
                <a:lnTo>
                  <a:pt x="953" y="811"/>
                </a:lnTo>
                <a:lnTo>
                  <a:pt x="882" y="952"/>
                </a:lnTo>
                <a:lnTo>
                  <a:pt x="847" y="1093"/>
                </a:lnTo>
                <a:lnTo>
                  <a:pt x="777" y="1199"/>
                </a:lnTo>
                <a:lnTo>
                  <a:pt x="706" y="1412"/>
                </a:lnTo>
                <a:lnTo>
                  <a:pt x="600" y="1764"/>
                </a:lnTo>
                <a:lnTo>
                  <a:pt x="530" y="1976"/>
                </a:lnTo>
                <a:lnTo>
                  <a:pt x="494" y="2082"/>
                </a:lnTo>
                <a:lnTo>
                  <a:pt x="600" y="1941"/>
                </a:lnTo>
                <a:lnTo>
                  <a:pt x="812" y="1729"/>
                </a:lnTo>
                <a:lnTo>
                  <a:pt x="1094" y="1517"/>
                </a:lnTo>
                <a:lnTo>
                  <a:pt x="1306" y="1305"/>
                </a:lnTo>
                <a:lnTo>
                  <a:pt x="1413" y="1234"/>
                </a:lnTo>
                <a:lnTo>
                  <a:pt x="1554" y="1199"/>
                </a:lnTo>
                <a:lnTo>
                  <a:pt x="1413" y="1234"/>
                </a:lnTo>
                <a:lnTo>
                  <a:pt x="1200" y="1305"/>
                </a:lnTo>
                <a:lnTo>
                  <a:pt x="1165" y="1517"/>
                </a:lnTo>
                <a:lnTo>
                  <a:pt x="1024" y="1659"/>
                </a:lnTo>
                <a:lnTo>
                  <a:pt x="953" y="1800"/>
                </a:lnTo>
                <a:lnTo>
                  <a:pt x="847" y="1906"/>
                </a:lnTo>
                <a:lnTo>
                  <a:pt x="777" y="2011"/>
                </a:lnTo>
                <a:lnTo>
                  <a:pt x="1024" y="2011"/>
                </a:lnTo>
                <a:lnTo>
                  <a:pt x="1306" y="1976"/>
                </a:lnTo>
                <a:lnTo>
                  <a:pt x="1518" y="1941"/>
                </a:lnTo>
                <a:lnTo>
                  <a:pt x="1624" y="1906"/>
                </a:lnTo>
                <a:lnTo>
                  <a:pt x="1765" y="1906"/>
                </a:lnTo>
                <a:lnTo>
                  <a:pt x="1871" y="1870"/>
                </a:lnTo>
                <a:lnTo>
                  <a:pt x="1765" y="1870"/>
                </a:lnTo>
                <a:lnTo>
                  <a:pt x="1483" y="1870"/>
                </a:lnTo>
                <a:lnTo>
                  <a:pt x="1271" y="1870"/>
                </a:lnTo>
                <a:lnTo>
                  <a:pt x="1129" y="1906"/>
                </a:lnTo>
                <a:lnTo>
                  <a:pt x="1024" y="1976"/>
                </a:lnTo>
                <a:lnTo>
                  <a:pt x="741" y="2082"/>
                </a:lnTo>
                <a:lnTo>
                  <a:pt x="1024" y="2188"/>
                </a:lnTo>
                <a:lnTo>
                  <a:pt x="1129" y="2188"/>
                </a:lnTo>
                <a:lnTo>
                  <a:pt x="1235" y="2188"/>
                </a:lnTo>
                <a:lnTo>
                  <a:pt x="918" y="2188"/>
                </a:lnTo>
                <a:lnTo>
                  <a:pt x="706" y="2188"/>
                </a:lnTo>
                <a:lnTo>
                  <a:pt x="600" y="2223"/>
                </a:lnTo>
                <a:lnTo>
                  <a:pt x="530" y="2364"/>
                </a:lnTo>
                <a:lnTo>
                  <a:pt x="458" y="2470"/>
                </a:lnTo>
                <a:lnTo>
                  <a:pt x="352" y="2541"/>
                </a:lnTo>
                <a:lnTo>
                  <a:pt x="246" y="2611"/>
                </a:lnTo>
                <a:lnTo>
                  <a:pt x="35" y="2576"/>
                </a:lnTo>
                <a:lnTo>
                  <a:pt x="35" y="2717"/>
                </a:lnTo>
                <a:lnTo>
                  <a:pt x="35" y="2576"/>
                </a:lnTo>
                <a:lnTo>
                  <a:pt x="0" y="2294"/>
                </a:lnTo>
                <a:lnTo>
                  <a:pt x="0" y="2188"/>
                </a:lnTo>
                <a:lnTo>
                  <a:pt x="35" y="2082"/>
                </a:lnTo>
                <a:lnTo>
                  <a:pt x="105" y="1870"/>
                </a:lnTo>
                <a:lnTo>
                  <a:pt x="141" y="1588"/>
                </a:lnTo>
                <a:lnTo>
                  <a:pt x="141" y="1800"/>
                </a:lnTo>
                <a:lnTo>
                  <a:pt x="141" y="2082"/>
                </a:lnTo>
                <a:lnTo>
                  <a:pt x="141" y="2188"/>
                </a:lnTo>
                <a:lnTo>
                  <a:pt x="141" y="2294"/>
                </a:lnTo>
                <a:lnTo>
                  <a:pt x="141" y="2399"/>
                </a:lnTo>
                <a:lnTo>
                  <a:pt x="246" y="2364"/>
                </a:lnTo>
                <a:lnTo>
                  <a:pt x="35" y="2576"/>
                </a:lnTo>
                <a:close/>
              </a:path>
            </a:pathLst>
          </a:custGeom>
          <a:solidFill>
            <a:srgbClr val="e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971800" y="5651640"/>
            <a:ext cx="698760" cy="597240"/>
          </a:xfrm>
          <a:custGeom>
            <a:avLst/>
            <a:gdLst/>
            <a:ahLst/>
            <a:rect l="0" t="0" r="r" b="b"/>
            <a:pathLst>
              <a:path w="1941" h="1659">
                <a:moveTo>
                  <a:pt x="1906" y="1659"/>
                </a:moveTo>
                <a:lnTo>
                  <a:pt x="1941" y="1271"/>
                </a:lnTo>
                <a:lnTo>
                  <a:pt x="1941" y="988"/>
                </a:lnTo>
                <a:lnTo>
                  <a:pt x="1906" y="705"/>
                </a:lnTo>
                <a:lnTo>
                  <a:pt x="1870" y="564"/>
                </a:lnTo>
                <a:lnTo>
                  <a:pt x="1835" y="458"/>
                </a:lnTo>
                <a:lnTo>
                  <a:pt x="1694" y="176"/>
                </a:lnTo>
                <a:lnTo>
                  <a:pt x="1659" y="70"/>
                </a:lnTo>
                <a:lnTo>
                  <a:pt x="1517" y="0"/>
                </a:lnTo>
                <a:lnTo>
                  <a:pt x="1553" y="211"/>
                </a:lnTo>
                <a:lnTo>
                  <a:pt x="1623" y="317"/>
                </a:lnTo>
                <a:lnTo>
                  <a:pt x="1623" y="423"/>
                </a:lnTo>
                <a:lnTo>
                  <a:pt x="1659" y="564"/>
                </a:lnTo>
                <a:lnTo>
                  <a:pt x="1623" y="423"/>
                </a:lnTo>
                <a:lnTo>
                  <a:pt x="1341" y="352"/>
                </a:lnTo>
                <a:lnTo>
                  <a:pt x="846" y="282"/>
                </a:lnTo>
                <a:lnTo>
                  <a:pt x="705" y="176"/>
                </a:lnTo>
                <a:lnTo>
                  <a:pt x="493" y="105"/>
                </a:lnTo>
                <a:lnTo>
                  <a:pt x="352" y="70"/>
                </a:lnTo>
                <a:lnTo>
                  <a:pt x="105" y="35"/>
                </a:lnTo>
                <a:lnTo>
                  <a:pt x="0" y="0"/>
                </a:lnTo>
                <a:lnTo>
                  <a:pt x="388" y="105"/>
                </a:lnTo>
                <a:lnTo>
                  <a:pt x="811" y="141"/>
                </a:lnTo>
                <a:lnTo>
                  <a:pt x="1024" y="211"/>
                </a:lnTo>
                <a:lnTo>
                  <a:pt x="1306" y="317"/>
                </a:lnTo>
                <a:lnTo>
                  <a:pt x="1412" y="388"/>
                </a:lnTo>
                <a:lnTo>
                  <a:pt x="1517" y="635"/>
                </a:lnTo>
                <a:lnTo>
                  <a:pt x="1588" y="740"/>
                </a:lnTo>
                <a:lnTo>
                  <a:pt x="1623" y="847"/>
                </a:lnTo>
                <a:lnTo>
                  <a:pt x="1694" y="988"/>
                </a:lnTo>
                <a:lnTo>
                  <a:pt x="1623" y="882"/>
                </a:lnTo>
                <a:lnTo>
                  <a:pt x="1412" y="811"/>
                </a:lnTo>
                <a:lnTo>
                  <a:pt x="1200" y="776"/>
                </a:lnTo>
                <a:lnTo>
                  <a:pt x="1094" y="705"/>
                </a:lnTo>
                <a:lnTo>
                  <a:pt x="988" y="635"/>
                </a:lnTo>
                <a:lnTo>
                  <a:pt x="881" y="635"/>
                </a:lnTo>
                <a:lnTo>
                  <a:pt x="599" y="599"/>
                </a:lnTo>
                <a:lnTo>
                  <a:pt x="811" y="599"/>
                </a:lnTo>
                <a:lnTo>
                  <a:pt x="1094" y="599"/>
                </a:lnTo>
                <a:lnTo>
                  <a:pt x="1376" y="670"/>
                </a:lnTo>
                <a:lnTo>
                  <a:pt x="1517" y="705"/>
                </a:lnTo>
                <a:lnTo>
                  <a:pt x="1623" y="740"/>
                </a:lnTo>
                <a:lnTo>
                  <a:pt x="1659" y="847"/>
                </a:lnTo>
                <a:lnTo>
                  <a:pt x="1694" y="953"/>
                </a:lnTo>
                <a:lnTo>
                  <a:pt x="1800" y="988"/>
                </a:lnTo>
                <a:lnTo>
                  <a:pt x="1906" y="1059"/>
                </a:lnTo>
                <a:lnTo>
                  <a:pt x="1764" y="1165"/>
                </a:lnTo>
                <a:lnTo>
                  <a:pt x="1553" y="1165"/>
                </a:lnTo>
                <a:lnTo>
                  <a:pt x="1412" y="1165"/>
                </a:lnTo>
                <a:lnTo>
                  <a:pt x="1129" y="1165"/>
                </a:lnTo>
                <a:lnTo>
                  <a:pt x="846" y="1129"/>
                </a:lnTo>
                <a:lnTo>
                  <a:pt x="1094" y="1200"/>
                </a:lnTo>
                <a:lnTo>
                  <a:pt x="1306" y="1235"/>
                </a:lnTo>
                <a:lnTo>
                  <a:pt x="1412" y="1306"/>
                </a:lnTo>
                <a:lnTo>
                  <a:pt x="1517" y="1376"/>
                </a:lnTo>
                <a:lnTo>
                  <a:pt x="1623" y="1412"/>
                </a:lnTo>
                <a:lnTo>
                  <a:pt x="1517" y="1341"/>
                </a:lnTo>
                <a:lnTo>
                  <a:pt x="1412" y="1306"/>
                </a:lnTo>
                <a:lnTo>
                  <a:pt x="1306" y="1341"/>
                </a:lnTo>
                <a:lnTo>
                  <a:pt x="1376" y="1482"/>
                </a:lnTo>
                <a:lnTo>
                  <a:pt x="1517" y="1553"/>
                </a:lnTo>
                <a:lnTo>
                  <a:pt x="1623" y="1553"/>
                </a:lnTo>
                <a:lnTo>
                  <a:pt x="1729" y="1659"/>
                </a:lnTo>
                <a:lnTo>
                  <a:pt x="1906" y="1659"/>
                </a:lnTo>
                <a:close/>
              </a:path>
            </a:pathLst>
          </a:custGeom>
          <a:solidFill>
            <a:srgbClr val="e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908440" y="1130400"/>
            <a:ext cx="3099240" cy="3530880"/>
          </a:xfrm>
          <a:custGeom>
            <a:avLst/>
            <a:gdLst/>
            <a:ahLst/>
            <a:rect l="0" t="0" r="r" b="b"/>
            <a:pathLst>
              <a:path w="8609" h="9808">
                <a:moveTo>
                  <a:pt x="3775" y="9349"/>
                </a:moveTo>
                <a:lnTo>
                  <a:pt x="3916" y="9208"/>
                </a:lnTo>
                <a:lnTo>
                  <a:pt x="3916" y="9067"/>
                </a:lnTo>
                <a:lnTo>
                  <a:pt x="3846" y="8961"/>
                </a:lnTo>
                <a:lnTo>
                  <a:pt x="3775" y="8855"/>
                </a:lnTo>
                <a:lnTo>
                  <a:pt x="3669" y="8890"/>
                </a:lnTo>
                <a:lnTo>
                  <a:pt x="3564" y="8996"/>
                </a:lnTo>
                <a:lnTo>
                  <a:pt x="3458" y="9032"/>
                </a:lnTo>
                <a:lnTo>
                  <a:pt x="3352" y="9067"/>
                </a:lnTo>
                <a:lnTo>
                  <a:pt x="3211" y="9102"/>
                </a:lnTo>
                <a:lnTo>
                  <a:pt x="3070" y="9102"/>
                </a:lnTo>
                <a:lnTo>
                  <a:pt x="2823" y="9102"/>
                </a:lnTo>
                <a:lnTo>
                  <a:pt x="2717" y="9102"/>
                </a:lnTo>
                <a:lnTo>
                  <a:pt x="2611" y="9208"/>
                </a:lnTo>
                <a:lnTo>
                  <a:pt x="2505" y="9243"/>
                </a:lnTo>
                <a:lnTo>
                  <a:pt x="2399" y="9243"/>
                </a:lnTo>
                <a:lnTo>
                  <a:pt x="2151" y="9243"/>
                </a:lnTo>
                <a:lnTo>
                  <a:pt x="2010" y="9243"/>
                </a:lnTo>
                <a:lnTo>
                  <a:pt x="1728" y="9243"/>
                </a:lnTo>
                <a:lnTo>
                  <a:pt x="1622" y="9208"/>
                </a:lnTo>
                <a:lnTo>
                  <a:pt x="1516" y="9173"/>
                </a:lnTo>
                <a:lnTo>
                  <a:pt x="1375" y="9173"/>
                </a:lnTo>
                <a:lnTo>
                  <a:pt x="1270" y="9208"/>
                </a:lnTo>
                <a:lnTo>
                  <a:pt x="1164" y="9243"/>
                </a:lnTo>
                <a:lnTo>
                  <a:pt x="1058" y="9243"/>
                </a:lnTo>
                <a:lnTo>
                  <a:pt x="811" y="9243"/>
                </a:lnTo>
                <a:lnTo>
                  <a:pt x="599" y="9243"/>
                </a:lnTo>
                <a:lnTo>
                  <a:pt x="529" y="9137"/>
                </a:lnTo>
                <a:lnTo>
                  <a:pt x="529" y="9032"/>
                </a:lnTo>
                <a:lnTo>
                  <a:pt x="564" y="8926"/>
                </a:lnTo>
                <a:lnTo>
                  <a:pt x="670" y="8820"/>
                </a:lnTo>
                <a:lnTo>
                  <a:pt x="670" y="8714"/>
                </a:lnTo>
                <a:lnTo>
                  <a:pt x="670" y="8608"/>
                </a:lnTo>
                <a:lnTo>
                  <a:pt x="635" y="8502"/>
                </a:lnTo>
                <a:lnTo>
                  <a:pt x="635" y="8361"/>
                </a:lnTo>
                <a:lnTo>
                  <a:pt x="635" y="8220"/>
                </a:lnTo>
                <a:lnTo>
                  <a:pt x="635" y="8114"/>
                </a:lnTo>
                <a:lnTo>
                  <a:pt x="635" y="8009"/>
                </a:lnTo>
                <a:lnTo>
                  <a:pt x="670" y="7867"/>
                </a:lnTo>
                <a:lnTo>
                  <a:pt x="705" y="7585"/>
                </a:lnTo>
                <a:lnTo>
                  <a:pt x="740" y="7444"/>
                </a:lnTo>
                <a:lnTo>
                  <a:pt x="740" y="7303"/>
                </a:lnTo>
                <a:lnTo>
                  <a:pt x="740" y="7197"/>
                </a:lnTo>
                <a:lnTo>
                  <a:pt x="740" y="7056"/>
                </a:lnTo>
                <a:lnTo>
                  <a:pt x="705" y="6844"/>
                </a:lnTo>
                <a:lnTo>
                  <a:pt x="705" y="6703"/>
                </a:lnTo>
                <a:lnTo>
                  <a:pt x="670" y="6597"/>
                </a:lnTo>
                <a:lnTo>
                  <a:pt x="635" y="6492"/>
                </a:lnTo>
                <a:lnTo>
                  <a:pt x="599" y="6280"/>
                </a:lnTo>
                <a:lnTo>
                  <a:pt x="529" y="5927"/>
                </a:lnTo>
                <a:lnTo>
                  <a:pt x="458" y="5645"/>
                </a:lnTo>
                <a:lnTo>
                  <a:pt x="423" y="5539"/>
                </a:lnTo>
                <a:lnTo>
                  <a:pt x="458" y="5327"/>
                </a:lnTo>
                <a:lnTo>
                  <a:pt x="493" y="5116"/>
                </a:lnTo>
                <a:lnTo>
                  <a:pt x="529" y="4903"/>
                </a:lnTo>
                <a:lnTo>
                  <a:pt x="599" y="4797"/>
                </a:lnTo>
                <a:lnTo>
                  <a:pt x="670" y="4656"/>
                </a:lnTo>
                <a:lnTo>
                  <a:pt x="776" y="4550"/>
                </a:lnTo>
                <a:lnTo>
                  <a:pt x="811" y="4445"/>
                </a:lnTo>
                <a:lnTo>
                  <a:pt x="846" y="4339"/>
                </a:lnTo>
                <a:lnTo>
                  <a:pt x="881" y="4233"/>
                </a:lnTo>
                <a:lnTo>
                  <a:pt x="952" y="4092"/>
                </a:lnTo>
                <a:lnTo>
                  <a:pt x="987" y="3986"/>
                </a:lnTo>
                <a:lnTo>
                  <a:pt x="1058" y="3845"/>
                </a:lnTo>
                <a:lnTo>
                  <a:pt x="1093" y="3739"/>
                </a:lnTo>
                <a:lnTo>
                  <a:pt x="1128" y="3598"/>
                </a:lnTo>
                <a:lnTo>
                  <a:pt x="1128" y="3386"/>
                </a:lnTo>
                <a:lnTo>
                  <a:pt x="1164" y="3280"/>
                </a:lnTo>
                <a:lnTo>
                  <a:pt x="1199" y="3139"/>
                </a:lnTo>
                <a:lnTo>
                  <a:pt x="1234" y="2998"/>
                </a:lnTo>
                <a:lnTo>
                  <a:pt x="1270" y="2892"/>
                </a:lnTo>
                <a:lnTo>
                  <a:pt x="1305" y="2786"/>
                </a:lnTo>
                <a:lnTo>
                  <a:pt x="1340" y="2645"/>
                </a:lnTo>
                <a:lnTo>
                  <a:pt x="1411" y="2363"/>
                </a:lnTo>
                <a:lnTo>
                  <a:pt x="1516" y="2222"/>
                </a:lnTo>
                <a:lnTo>
                  <a:pt x="1622" y="2116"/>
                </a:lnTo>
                <a:lnTo>
                  <a:pt x="1728" y="2010"/>
                </a:lnTo>
                <a:lnTo>
                  <a:pt x="1799" y="1905"/>
                </a:lnTo>
                <a:lnTo>
                  <a:pt x="1905" y="1799"/>
                </a:lnTo>
                <a:lnTo>
                  <a:pt x="1975" y="1658"/>
                </a:lnTo>
                <a:lnTo>
                  <a:pt x="2046" y="1552"/>
                </a:lnTo>
                <a:lnTo>
                  <a:pt x="2116" y="1446"/>
                </a:lnTo>
                <a:lnTo>
                  <a:pt x="2223" y="1305"/>
                </a:lnTo>
                <a:lnTo>
                  <a:pt x="2364" y="1164"/>
                </a:lnTo>
                <a:lnTo>
                  <a:pt x="2470" y="1093"/>
                </a:lnTo>
                <a:lnTo>
                  <a:pt x="2576" y="987"/>
                </a:lnTo>
                <a:lnTo>
                  <a:pt x="2682" y="917"/>
                </a:lnTo>
                <a:lnTo>
                  <a:pt x="2787" y="846"/>
                </a:lnTo>
                <a:lnTo>
                  <a:pt x="2893" y="776"/>
                </a:lnTo>
                <a:lnTo>
                  <a:pt x="2999" y="705"/>
                </a:lnTo>
                <a:lnTo>
                  <a:pt x="3105" y="670"/>
                </a:lnTo>
                <a:lnTo>
                  <a:pt x="3246" y="635"/>
                </a:lnTo>
                <a:lnTo>
                  <a:pt x="3352" y="599"/>
                </a:lnTo>
                <a:lnTo>
                  <a:pt x="3458" y="599"/>
                </a:lnTo>
                <a:lnTo>
                  <a:pt x="3564" y="564"/>
                </a:lnTo>
                <a:lnTo>
                  <a:pt x="3669" y="529"/>
                </a:lnTo>
                <a:lnTo>
                  <a:pt x="3775" y="529"/>
                </a:lnTo>
                <a:lnTo>
                  <a:pt x="3881" y="529"/>
                </a:lnTo>
                <a:lnTo>
                  <a:pt x="3987" y="529"/>
                </a:lnTo>
                <a:lnTo>
                  <a:pt x="4128" y="564"/>
                </a:lnTo>
                <a:lnTo>
                  <a:pt x="4410" y="564"/>
                </a:lnTo>
                <a:lnTo>
                  <a:pt x="4763" y="599"/>
                </a:lnTo>
                <a:lnTo>
                  <a:pt x="5045" y="635"/>
                </a:lnTo>
                <a:lnTo>
                  <a:pt x="5151" y="635"/>
                </a:lnTo>
                <a:lnTo>
                  <a:pt x="5433" y="670"/>
                </a:lnTo>
                <a:lnTo>
                  <a:pt x="5539" y="705"/>
                </a:lnTo>
                <a:lnTo>
                  <a:pt x="5680" y="776"/>
                </a:lnTo>
                <a:lnTo>
                  <a:pt x="5786" y="811"/>
                </a:lnTo>
                <a:lnTo>
                  <a:pt x="6068" y="917"/>
                </a:lnTo>
                <a:lnTo>
                  <a:pt x="6209" y="1023"/>
                </a:lnTo>
                <a:lnTo>
                  <a:pt x="6315" y="1164"/>
                </a:lnTo>
                <a:lnTo>
                  <a:pt x="6421" y="1305"/>
                </a:lnTo>
                <a:lnTo>
                  <a:pt x="6563" y="1446"/>
                </a:lnTo>
                <a:lnTo>
                  <a:pt x="6669" y="1552"/>
                </a:lnTo>
                <a:lnTo>
                  <a:pt x="6775" y="1658"/>
                </a:lnTo>
                <a:lnTo>
                  <a:pt x="6916" y="1799"/>
                </a:lnTo>
                <a:lnTo>
                  <a:pt x="7128" y="1869"/>
                </a:lnTo>
                <a:lnTo>
                  <a:pt x="7233" y="1975"/>
                </a:lnTo>
                <a:lnTo>
                  <a:pt x="7375" y="2081"/>
                </a:lnTo>
                <a:lnTo>
                  <a:pt x="7480" y="2151"/>
                </a:lnTo>
                <a:lnTo>
                  <a:pt x="7586" y="2293"/>
                </a:lnTo>
                <a:lnTo>
                  <a:pt x="7692" y="2398"/>
                </a:lnTo>
                <a:lnTo>
                  <a:pt x="7798" y="2540"/>
                </a:lnTo>
                <a:lnTo>
                  <a:pt x="7868" y="2645"/>
                </a:lnTo>
                <a:lnTo>
                  <a:pt x="7904" y="2751"/>
                </a:lnTo>
                <a:lnTo>
                  <a:pt x="7939" y="2892"/>
                </a:lnTo>
                <a:lnTo>
                  <a:pt x="7939" y="2998"/>
                </a:lnTo>
                <a:lnTo>
                  <a:pt x="7974" y="3139"/>
                </a:lnTo>
                <a:lnTo>
                  <a:pt x="7974" y="3351"/>
                </a:lnTo>
                <a:lnTo>
                  <a:pt x="8010" y="3492"/>
                </a:lnTo>
                <a:lnTo>
                  <a:pt x="8045" y="3633"/>
                </a:lnTo>
                <a:lnTo>
                  <a:pt x="8045" y="3880"/>
                </a:lnTo>
                <a:lnTo>
                  <a:pt x="8045" y="3986"/>
                </a:lnTo>
                <a:lnTo>
                  <a:pt x="8080" y="4092"/>
                </a:lnTo>
                <a:lnTo>
                  <a:pt x="8080" y="4233"/>
                </a:lnTo>
                <a:lnTo>
                  <a:pt x="8080" y="4374"/>
                </a:lnTo>
                <a:lnTo>
                  <a:pt x="8080" y="4656"/>
                </a:lnTo>
                <a:lnTo>
                  <a:pt x="8080" y="4868"/>
                </a:lnTo>
                <a:lnTo>
                  <a:pt x="8045" y="5151"/>
                </a:lnTo>
                <a:lnTo>
                  <a:pt x="8045" y="5363"/>
                </a:lnTo>
                <a:lnTo>
                  <a:pt x="8010" y="5504"/>
                </a:lnTo>
                <a:lnTo>
                  <a:pt x="7974" y="5610"/>
                </a:lnTo>
                <a:lnTo>
                  <a:pt x="7939" y="5751"/>
                </a:lnTo>
                <a:lnTo>
                  <a:pt x="7904" y="5857"/>
                </a:lnTo>
                <a:lnTo>
                  <a:pt x="7868" y="5998"/>
                </a:lnTo>
                <a:lnTo>
                  <a:pt x="7833" y="6104"/>
                </a:lnTo>
                <a:lnTo>
                  <a:pt x="7833" y="6245"/>
                </a:lnTo>
                <a:lnTo>
                  <a:pt x="7798" y="6527"/>
                </a:lnTo>
                <a:lnTo>
                  <a:pt x="7763" y="6633"/>
                </a:lnTo>
                <a:lnTo>
                  <a:pt x="7763" y="6739"/>
                </a:lnTo>
                <a:lnTo>
                  <a:pt x="7763" y="6844"/>
                </a:lnTo>
                <a:lnTo>
                  <a:pt x="7763" y="6950"/>
                </a:lnTo>
                <a:lnTo>
                  <a:pt x="7763" y="7056"/>
                </a:lnTo>
                <a:lnTo>
                  <a:pt x="7763" y="7162"/>
                </a:lnTo>
                <a:lnTo>
                  <a:pt x="7763" y="7268"/>
                </a:lnTo>
                <a:lnTo>
                  <a:pt x="7763" y="7374"/>
                </a:lnTo>
                <a:lnTo>
                  <a:pt x="7763" y="7479"/>
                </a:lnTo>
                <a:lnTo>
                  <a:pt x="7763" y="7585"/>
                </a:lnTo>
                <a:lnTo>
                  <a:pt x="7763" y="7691"/>
                </a:lnTo>
                <a:lnTo>
                  <a:pt x="7727" y="7797"/>
                </a:lnTo>
                <a:lnTo>
                  <a:pt x="7692" y="7938"/>
                </a:lnTo>
                <a:lnTo>
                  <a:pt x="7657" y="8079"/>
                </a:lnTo>
                <a:lnTo>
                  <a:pt x="7622" y="8185"/>
                </a:lnTo>
                <a:lnTo>
                  <a:pt x="7551" y="8291"/>
                </a:lnTo>
                <a:lnTo>
                  <a:pt x="7516" y="8397"/>
                </a:lnTo>
                <a:lnTo>
                  <a:pt x="7622" y="8432"/>
                </a:lnTo>
                <a:lnTo>
                  <a:pt x="7727" y="8467"/>
                </a:lnTo>
                <a:lnTo>
                  <a:pt x="7833" y="8502"/>
                </a:lnTo>
                <a:lnTo>
                  <a:pt x="7939" y="8573"/>
                </a:lnTo>
                <a:lnTo>
                  <a:pt x="8045" y="8502"/>
                </a:lnTo>
                <a:lnTo>
                  <a:pt x="8045" y="8397"/>
                </a:lnTo>
                <a:lnTo>
                  <a:pt x="8045" y="8255"/>
                </a:lnTo>
                <a:lnTo>
                  <a:pt x="8080" y="8150"/>
                </a:lnTo>
                <a:lnTo>
                  <a:pt x="8186" y="8079"/>
                </a:lnTo>
                <a:lnTo>
                  <a:pt x="8221" y="7973"/>
                </a:lnTo>
                <a:lnTo>
                  <a:pt x="8327" y="7832"/>
                </a:lnTo>
                <a:lnTo>
                  <a:pt x="8327" y="7726"/>
                </a:lnTo>
                <a:lnTo>
                  <a:pt x="8327" y="7620"/>
                </a:lnTo>
                <a:lnTo>
                  <a:pt x="8292" y="7479"/>
                </a:lnTo>
                <a:lnTo>
                  <a:pt x="8221" y="7338"/>
                </a:lnTo>
                <a:lnTo>
                  <a:pt x="8186" y="7232"/>
                </a:lnTo>
                <a:lnTo>
                  <a:pt x="8186" y="7021"/>
                </a:lnTo>
                <a:lnTo>
                  <a:pt x="8151" y="6915"/>
                </a:lnTo>
                <a:lnTo>
                  <a:pt x="8151" y="6774"/>
                </a:lnTo>
                <a:lnTo>
                  <a:pt x="8186" y="6668"/>
                </a:lnTo>
                <a:lnTo>
                  <a:pt x="8221" y="6562"/>
                </a:lnTo>
                <a:lnTo>
                  <a:pt x="8327" y="6421"/>
                </a:lnTo>
                <a:lnTo>
                  <a:pt x="8433" y="6315"/>
                </a:lnTo>
                <a:lnTo>
                  <a:pt x="8468" y="6209"/>
                </a:lnTo>
                <a:lnTo>
                  <a:pt x="8539" y="6104"/>
                </a:lnTo>
                <a:lnTo>
                  <a:pt x="8574" y="5998"/>
                </a:lnTo>
                <a:lnTo>
                  <a:pt x="8574" y="5892"/>
                </a:lnTo>
                <a:lnTo>
                  <a:pt x="8574" y="5786"/>
                </a:lnTo>
                <a:lnTo>
                  <a:pt x="8539" y="5574"/>
                </a:lnTo>
                <a:lnTo>
                  <a:pt x="8539" y="5363"/>
                </a:lnTo>
                <a:lnTo>
                  <a:pt x="8503" y="5151"/>
                </a:lnTo>
                <a:lnTo>
                  <a:pt x="8503" y="5045"/>
                </a:lnTo>
                <a:lnTo>
                  <a:pt x="8539" y="4939"/>
                </a:lnTo>
                <a:lnTo>
                  <a:pt x="8574" y="4797"/>
                </a:lnTo>
                <a:lnTo>
                  <a:pt x="8609" y="4656"/>
                </a:lnTo>
                <a:lnTo>
                  <a:pt x="8609" y="4550"/>
                </a:lnTo>
                <a:lnTo>
                  <a:pt x="8609" y="4409"/>
                </a:lnTo>
                <a:lnTo>
                  <a:pt x="8609" y="4127"/>
                </a:lnTo>
                <a:lnTo>
                  <a:pt x="8609" y="3915"/>
                </a:lnTo>
                <a:lnTo>
                  <a:pt x="8609" y="3810"/>
                </a:lnTo>
                <a:lnTo>
                  <a:pt x="8609" y="3704"/>
                </a:lnTo>
                <a:lnTo>
                  <a:pt x="8609" y="3598"/>
                </a:lnTo>
                <a:lnTo>
                  <a:pt x="8609" y="3351"/>
                </a:lnTo>
                <a:lnTo>
                  <a:pt x="8609" y="3139"/>
                </a:lnTo>
                <a:lnTo>
                  <a:pt x="8574" y="2857"/>
                </a:lnTo>
                <a:lnTo>
                  <a:pt x="8362" y="2504"/>
                </a:lnTo>
                <a:lnTo>
                  <a:pt x="8292" y="2151"/>
                </a:lnTo>
                <a:lnTo>
                  <a:pt x="8221" y="1869"/>
                </a:lnTo>
                <a:lnTo>
                  <a:pt x="8115" y="1905"/>
                </a:lnTo>
                <a:lnTo>
                  <a:pt x="7833" y="1869"/>
                </a:lnTo>
                <a:lnTo>
                  <a:pt x="7727" y="1799"/>
                </a:lnTo>
                <a:lnTo>
                  <a:pt x="7692" y="1587"/>
                </a:lnTo>
                <a:lnTo>
                  <a:pt x="7480" y="1516"/>
                </a:lnTo>
                <a:lnTo>
                  <a:pt x="7445" y="1411"/>
                </a:lnTo>
                <a:lnTo>
                  <a:pt x="7163" y="1305"/>
                </a:lnTo>
                <a:lnTo>
                  <a:pt x="7128" y="1199"/>
                </a:lnTo>
                <a:lnTo>
                  <a:pt x="6881" y="1093"/>
                </a:lnTo>
                <a:lnTo>
                  <a:pt x="6845" y="987"/>
                </a:lnTo>
                <a:lnTo>
                  <a:pt x="6775" y="881"/>
                </a:lnTo>
                <a:lnTo>
                  <a:pt x="6669" y="776"/>
                </a:lnTo>
                <a:lnTo>
                  <a:pt x="6598" y="635"/>
                </a:lnTo>
                <a:lnTo>
                  <a:pt x="6386" y="599"/>
                </a:lnTo>
                <a:lnTo>
                  <a:pt x="6280" y="493"/>
                </a:lnTo>
                <a:lnTo>
                  <a:pt x="6139" y="423"/>
                </a:lnTo>
                <a:lnTo>
                  <a:pt x="5927" y="352"/>
                </a:lnTo>
                <a:lnTo>
                  <a:pt x="5574" y="282"/>
                </a:lnTo>
                <a:lnTo>
                  <a:pt x="5292" y="211"/>
                </a:lnTo>
                <a:lnTo>
                  <a:pt x="5081" y="211"/>
                </a:lnTo>
                <a:lnTo>
                  <a:pt x="4975" y="211"/>
                </a:lnTo>
                <a:lnTo>
                  <a:pt x="4728" y="70"/>
                </a:lnTo>
                <a:lnTo>
                  <a:pt x="4587" y="35"/>
                </a:lnTo>
                <a:lnTo>
                  <a:pt x="4304" y="0"/>
                </a:lnTo>
                <a:lnTo>
                  <a:pt x="4093" y="0"/>
                </a:lnTo>
                <a:lnTo>
                  <a:pt x="3987" y="35"/>
                </a:lnTo>
                <a:lnTo>
                  <a:pt x="3775" y="105"/>
                </a:lnTo>
                <a:lnTo>
                  <a:pt x="3634" y="176"/>
                </a:lnTo>
                <a:lnTo>
                  <a:pt x="3493" y="246"/>
                </a:lnTo>
                <a:lnTo>
                  <a:pt x="3140" y="246"/>
                </a:lnTo>
                <a:lnTo>
                  <a:pt x="2929" y="246"/>
                </a:lnTo>
                <a:lnTo>
                  <a:pt x="2787" y="282"/>
                </a:lnTo>
                <a:lnTo>
                  <a:pt x="2646" y="317"/>
                </a:lnTo>
                <a:lnTo>
                  <a:pt x="2541" y="388"/>
                </a:lnTo>
                <a:lnTo>
                  <a:pt x="2399" y="493"/>
                </a:lnTo>
                <a:lnTo>
                  <a:pt x="2294" y="564"/>
                </a:lnTo>
                <a:lnTo>
                  <a:pt x="2223" y="670"/>
                </a:lnTo>
                <a:lnTo>
                  <a:pt x="2116" y="776"/>
                </a:lnTo>
                <a:lnTo>
                  <a:pt x="2046" y="987"/>
                </a:lnTo>
                <a:lnTo>
                  <a:pt x="1975" y="1093"/>
                </a:lnTo>
                <a:lnTo>
                  <a:pt x="1905" y="1199"/>
                </a:lnTo>
                <a:lnTo>
                  <a:pt x="1799" y="1305"/>
                </a:lnTo>
                <a:lnTo>
                  <a:pt x="1693" y="1375"/>
                </a:lnTo>
                <a:lnTo>
                  <a:pt x="1446" y="1446"/>
                </a:lnTo>
                <a:lnTo>
                  <a:pt x="1164" y="1587"/>
                </a:lnTo>
                <a:lnTo>
                  <a:pt x="1058" y="1693"/>
                </a:lnTo>
                <a:lnTo>
                  <a:pt x="987" y="1975"/>
                </a:lnTo>
                <a:lnTo>
                  <a:pt x="952" y="2081"/>
                </a:lnTo>
                <a:lnTo>
                  <a:pt x="917" y="2187"/>
                </a:lnTo>
                <a:lnTo>
                  <a:pt x="881" y="2293"/>
                </a:lnTo>
                <a:lnTo>
                  <a:pt x="846" y="2434"/>
                </a:lnTo>
                <a:lnTo>
                  <a:pt x="846" y="2540"/>
                </a:lnTo>
                <a:lnTo>
                  <a:pt x="846" y="2645"/>
                </a:lnTo>
                <a:lnTo>
                  <a:pt x="846" y="2751"/>
                </a:lnTo>
                <a:lnTo>
                  <a:pt x="811" y="2857"/>
                </a:lnTo>
                <a:lnTo>
                  <a:pt x="776" y="2963"/>
                </a:lnTo>
                <a:lnTo>
                  <a:pt x="705" y="3069"/>
                </a:lnTo>
                <a:lnTo>
                  <a:pt x="670" y="3175"/>
                </a:lnTo>
                <a:lnTo>
                  <a:pt x="635" y="3280"/>
                </a:lnTo>
                <a:lnTo>
                  <a:pt x="599" y="3421"/>
                </a:lnTo>
                <a:lnTo>
                  <a:pt x="529" y="3563"/>
                </a:lnTo>
                <a:lnTo>
                  <a:pt x="493" y="3668"/>
                </a:lnTo>
                <a:lnTo>
                  <a:pt x="423" y="3774"/>
                </a:lnTo>
                <a:lnTo>
                  <a:pt x="388" y="3880"/>
                </a:lnTo>
                <a:lnTo>
                  <a:pt x="352" y="3986"/>
                </a:lnTo>
                <a:lnTo>
                  <a:pt x="317" y="4127"/>
                </a:lnTo>
                <a:lnTo>
                  <a:pt x="282" y="4233"/>
                </a:lnTo>
                <a:lnTo>
                  <a:pt x="282" y="4339"/>
                </a:lnTo>
                <a:lnTo>
                  <a:pt x="246" y="4445"/>
                </a:lnTo>
                <a:lnTo>
                  <a:pt x="246" y="4550"/>
                </a:lnTo>
                <a:lnTo>
                  <a:pt x="211" y="4656"/>
                </a:lnTo>
                <a:lnTo>
                  <a:pt x="211" y="4797"/>
                </a:lnTo>
                <a:lnTo>
                  <a:pt x="176" y="4903"/>
                </a:lnTo>
                <a:lnTo>
                  <a:pt x="141" y="5010"/>
                </a:lnTo>
                <a:lnTo>
                  <a:pt x="70" y="5116"/>
                </a:lnTo>
                <a:lnTo>
                  <a:pt x="70" y="5363"/>
                </a:lnTo>
                <a:lnTo>
                  <a:pt x="70" y="5504"/>
                </a:lnTo>
                <a:lnTo>
                  <a:pt x="35" y="5645"/>
                </a:lnTo>
                <a:lnTo>
                  <a:pt x="35" y="5857"/>
                </a:lnTo>
                <a:lnTo>
                  <a:pt x="0" y="5962"/>
                </a:lnTo>
                <a:lnTo>
                  <a:pt x="0" y="6068"/>
                </a:lnTo>
                <a:lnTo>
                  <a:pt x="35" y="6174"/>
                </a:lnTo>
                <a:lnTo>
                  <a:pt x="70" y="6280"/>
                </a:lnTo>
                <a:lnTo>
                  <a:pt x="105" y="6421"/>
                </a:lnTo>
                <a:lnTo>
                  <a:pt x="176" y="6562"/>
                </a:lnTo>
                <a:lnTo>
                  <a:pt x="211" y="6844"/>
                </a:lnTo>
                <a:lnTo>
                  <a:pt x="246" y="6950"/>
                </a:lnTo>
                <a:lnTo>
                  <a:pt x="282" y="7091"/>
                </a:lnTo>
                <a:lnTo>
                  <a:pt x="282" y="7338"/>
                </a:lnTo>
                <a:lnTo>
                  <a:pt x="246" y="7444"/>
                </a:lnTo>
                <a:lnTo>
                  <a:pt x="211" y="7585"/>
                </a:lnTo>
                <a:lnTo>
                  <a:pt x="211" y="7691"/>
                </a:lnTo>
                <a:lnTo>
                  <a:pt x="211" y="7832"/>
                </a:lnTo>
                <a:lnTo>
                  <a:pt x="211" y="7938"/>
                </a:lnTo>
                <a:lnTo>
                  <a:pt x="211" y="8079"/>
                </a:lnTo>
                <a:lnTo>
                  <a:pt x="176" y="8220"/>
                </a:lnTo>
                <a:lnTo>
                  <a:pt x="141" y="8326"/>
                </a:lnTo>
                <a:lnTo>
                  <a:pt x="141" y="8432"/>
                </a:lnTo>
                <a:lnTo>
                  <a:pt x="141" y="8573"/>
                </a:lnTo>
                <a:lnTo>
                  <a:pt x="105" y="8679"/>
                </a:lnTo>
                <a:lnTo>
                  <a:pt x="105" y="8785"/>
                </a:lnTo>
                <a:lnTo>
                  <a:pt x="105" y="8890"/>
                </a:lnTo>
                <a:lnTo>
                  <a:pt x="105" y="8996"/>
                </a:lnTo>
                <a:lnTo>
                  <a:pt x="141" y="9137"/>
                </a:lnTo>
                <a:lnTo>
                  <a:pt x="176" y="9243"/>
                </a:lnTo>
                <a:lnTo>
                  <a:pt x="246" y="9349"/>
                </a:lnTo>
                <a:lnTo>
                  <a:pt x="352" y="9420"/>
                </a:lnTo>
                <a:lnTo>
                  <a:pt x="423" y="9525"/>
                </a:lnTo>
                <a:lnTo>
                  <a:pt x="529" y="9631"/>
                </a:lnTo>
                <a:lnTo>
                  <a:pt x="599" y="9737"/>
                </a:lnTo>
                <a:lnTo>
                  <a:pt x="705" y="9808"/>
                </a:lnTo>
                <a:lnTo>
                  <a:pt x="811" y="9808"/>
                </a:lnTo>
                <a:lnTo>
                  <a:pt x="917" y="9737"/>
                </a:lnTo>
                <a:lnTo>
                  <a:pt x="1023" y="9737"/>
                </a:lnTo>
                <a:lnTo>
                  <a:pt x="1128" y="9737"/>
                </a:lnTo>
                <a:lnTo>
                  <a:pt x="1270" y="9737"/>
                </a:lnTo>
                <a:lnTo>
                  <a:pt x="1375" y="9737"/>
                </a:lnTo>
                <a:lnTo>
                  <a:pt x="1481" y="9737"/>
                </a:lnTo>
                <a:lnTo>
                  <a:pt x="1587" y="9737"/>
                </a:lnTo>
                <a:lnTo>
                  <a:pt x="1693" y="9772"/>
                </a:lnTo>
                <a:lnTo>
                  <a:pt x="1799" y="9772"/>
                </a:lnTo>
                <a:lnTo>
                  <a:pt x="1905" y="9772"/>
                </a:lnTo>
                <a:lnTo>
                  <a:pt x="2010" y="9808"/>
                </a:lnTo>
                <a:lnTo>
                  <a:pt x="2116" y="9808"/>
                </a:lnTo>
                <a:lnTo>
                  <a:pt x="2223" y="9808"/>
                </a:lnTo>
                <a:lnTo>
                  <a:pt x="2329" y="9772"/>
                </a:lnTo>
                <a:lnTo>
                  <a:pt x="2435" y="9737"/>
                </a:lnTo>
                <a:lnTo>
                  <a:pt x="2576" y="9737"/>
                </a:lnTo>
                <a:lnTo>
                  <a:pt x="2682" y="9702"/>
                </a:lnTo>
                <a:lnTo>
                  <a:pt x="2823" y="9667"/>
                </a:lnTo>
                <a:lnTo>
                  <a:pt x="2964" y="9631"/>
                </a:lnTo>
                <a:lnTo>
                  <a:pt x="3070" y="9596"/>
                </a:lnTo>
                <a:lnTo>
                  <a:pt x="3176" y="9561"/>
                </a:lnTo>
                <a:lnTo>
                  <a:pt x="3281" y="9525"/>
                </a:lnTo>
                <a:lnTo>
                  <a:pt x="3387" y="9490"/>
                </a:lnTo>
                <a:lnTo>
                  <a:pt x="3493" y="9455"/>
                </a:lnTo>
                <a:lnTo>
                  <a:pt x="3599" y="9455"/>
                </a:lnTo>
                <a:lnTo>
                  <a:pt x="3775" y="9349"/>
                </a:lnTo>
                <a:lnTo>
                  <a:pt x="3811" y="9137"/>
                </a:lnTo>
                <a:lnTo>
                  <a:pt x="3881" y="9032"/>
                </a:lnTo>
                <a:lnTo>
                  <a:pt x="3846" y="9173"/>
                </a:lnTo>
                <a:lnTo>
                  <a:pt x="3775" y="9349"/>
                </a:lnTo>
                <a:close/>
              </a:path>
            </a:pathLst>
          </a:custGeom>
          <a:solidFill>
            <a:srgbClr val="ff9999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380880" y="22860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s Brought to You by..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4356000" y="4927680"/>
            <a:ext cx="241560" cy="660600"/>
          </a:xfrm>
          <a:custGeom>
            <a:avLst/>
            <a:gdLst/>
            <a:ahLst/>
            <a:rect l="0" t="0" r="r" b="b"/>
            <a:pathLst>
              <a:path w="671" h="1835">
                <a:moveTo>
                  <a:pt x="35" y="1200"/>
                </a:moveTo>
                <a:lnTo>
                  <a:pt x="70" y="1517"/>
                </a:lnTo>
                <a:lnTo>
                  <a:pt x="246" y="1729"/>
                </a:lnTo>
                <a:lnTo>
                  <a:pt x="459" y="1835"/>
                </a:lnTo>
                <a:lnTo>
                  <a:pt x="671" y="1659"/>
                </a:lnTo>
                <a:lnTo>
                  <a:pt x="671" y="282"/>
                </a:lnTo>
                <a:lnTo>
                  <a:pt x="494" y="0"/>
                </a:lnTo>
                <a:lnTo>
                  <a:pt x="141" y="105"/>
                </a:lnTo>
                <a:lnTo>
                  <a:pt x="0" y="670"/>
                </a:lnTo>
                <a:lnTo>
                  <a:pt x="35" y="1200"/>
                </a:lnTo>
                <a:close/>
              </a:path>
            </a:pathLst>
          </a:custGeom>
          <a:solidFill>
            <a:srgbClr val="9933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737240" y="4851360"/>
            <a:ext cx="241560" cy="660600"/>
          </a:xfrm>
          <a:custGeom>
            <a:avLst/>
            <a:gdLst/>
            <a:ahLst/>
            <a:rect l="0" t="0" r="r" b="b"/>
            <a:pathLst>
              <a:path w="671" h="1835">
                <a:moveTo>
                  <a:pt x="35" y="1200"/>
                </a:moveTo>
                <a:lnTo>
                  <a:pt x="70" y="1517"/>
                </a:lnTo>
                <a:lnTo>
                  <a:pt x="246" y="1729"/>
                </a:lnTo>
                <a:lnTo>
                  <a:pt x="459" y="1835"/>
                </a:lnTo>
                <a:lnTo>
                  <a:pt x="671" y="1659"/>
                </a:lnTo>
                <a:lnTo>
                  <a:pt x="671" y="282"/>
                </a:lnTo>
                <a:lnTo>
                  <a:pt x="494" y="0"/>
                </a:lnTo>
                <a:lnTo>
                  <a:pt x="141" y="105"/>
                </a:lnTo>
                <a:lnTo>
                  <a:pt x="0" y="670"/>
                </a:lnTo>
                <a:lnTo>
                  <a:pt x="35" y="1200"/>
                </a:lnTo>
                <a:close/>
              </a:path>
            </a:pathLst>
          </a:custGeom>
          <a:solidFill>
            <a:srgbClr val="9933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2955600" y="2770200"/>
            <a:ext cx="1203840" cy="955800"/>
            <a:chOff x="2955600" y="2770200"/>
            <a:chExt cx="1203840" cy="955800"/>
          </a:xfrm>
        </p:grpSpPr>
        <p:sp>
          <p:nvSpPr>
            <p:cNvPr id="606" name=""/>
            <p:cNvSpPr/>
            <p:nvPr/>
          </p:nvSpPr>
          <p:spPr>
            <a:xfrm>
              <a:off x="2955600" y="3422880"/>
              <a:ext cx="290520" cy="303120"/>
            </a:xfrm>
            <a:custGeom>
              <a:avLst/>
              <a:gdLst/>
              <a:ahLst/>
              <a:rect l="0" t="0" r="r" b="b"/>
              <a:pathLst>
                <a:path w="807" h="842">
                  <a:moveTo>
                    <a:pt x="259" y="23"/>
                  </a:moveTo>
                  <a:lnTo>
                    <a:pt x="259" y="23"/>
                  </a:lnTo>
                  <a:lnTo>
                    <a:pt x="258" y="23"/>
                  </a:lnTo>
                  <a:cubicBezTo>
                    <a:pt x="192" y="47"/>
                    <a:pt x="134" y="89"/>
                    <a:pt x="90" y="145"/>
                  </a:cubicBezTo>
                  <a:cubicBezTo>
                    <a:pt x="45" y="201"/>
                    <a:pt x="16" y="268"/>
                    <a:pt x="5" y="341"/>
                  </a:cubicBezTo>
                  <a:cubicBezTo>
                    <a:pt x="-6" y="413"/>
                    <a:pt x="2" y="488"/>
                    <a:pt x="27" y="558"/>
                  </a:cubicBezTo>
                  <a:cubicBezTo>
                    <a:pt x="53" y="628"/>
                    <a:pt x="95" y="691"/>
                    <a:pt x="150" y="739"/>
                  </a:cubicBezTo>
                  <a:cubicBezTo>
                    <a:pt x="205" y="788"/>
                    <a:pt x="271" y="821"/>
                    <a:pt x="341" y="835"/>
                  </a:cubicBezTo>
                  <a:cubicBezTo>
                    <a:pt x="411" y="849"/>
                    <a:pt x="482" y="844"/>
                    <a:pt x="548" y="820"/>
                  </a:cubicBezTo>
                  <a:lnTo>
                    <a:pt x="548" y="820"/>
                  </a:lnTo>
                  <a:lnTo>
                    <a:pt x="549" y="820"/>
                  </a:lnTo>
                  <a:cubicBezTo>
                    <a:pt x="615" y="796"/>
                    <a:pt x="673" y="754"/>
                    <a:pt x="717" y="698"/>
                  </a:cubicBezTo>
                  <a:cubicBezTo>
                    <a:pt x="762" y="642"/>
                    <a:pt x="791" y="575"/>
                    <a:pt x="802" y="502"/>
                  </a:cubicBezTo>
                  <a:cubicBezTo>
                    <a:pt x="813" y="430"/>
                    <a:pt x="805" y="355"/>
                    <a:pt x="780" y="285"/>
                  </a:cubicBezTo>
                  <a:cubicBezTo>
                    <a:pt x="754" y="215"/>
                    <a:pt x="712" y="152"/>
                    <a:pt x="657" y="104"/>
                  </a:cubicBezTo>
                  <a:cubicBezTo>
                    <a:pt x="602" y="55"/>
                    <a:pt x="536" y="22"/>
                    <a:pt x="466" y="8"/>
                  </a:cubicBezTo>
                  <a:cubicBezTo>
                    <a:pt x="396" y="-6"/>
                    <a:pt x="325" y="-1"/>
                    <a:pt x="259" y="23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213000" y="2770200"/>
              <a:ext cx="946440" cy="952920"/>
            </a:xfrm>
            <a:custGeom>
              <a:avLst/>
              <a:gdLst/>
              <a:ahLst/>
              <a:rect l="0" t="0" r="r" b="b"/>
              <a:pathLst>
                <a:path w="2629" h="2647">
                  <a:moveTo>
                    <a:pt x="2219" y="0"/>
                  </a:moveTo>
                  <a:lnTo>
                    <a:pt x="1998" y="198"/>
                  </a:lnTo>
                  <a:lnTo>
                    <a:pt x="1738" y="1032"/>
                  </a:lnTo>
                  <a:lnTo>
                    <a:pt x="1495" y="1654"/>
                  </a:lnTo>
                  <a:lnTo>
                    <a:pt x="0" y="1786"/>
                  </a:lnTo>
                  <a:lnTo>
                    <a:pt x="167" y="2647"/>
                  </a:lnTo>
                  <a:lnTo>
                    <a:pt x="2095" y="2325"/>
                  </a:lnTo>
                  <a:lnTo>
                    <a:pt x="2607" y="657"/>
                  </a:lnTo>
                  <a:lnTo>
                    <a:pt x="2629" y="233"/>
                  </a:lnTo>
                  <a:lnTo>
                    <a:pt x="2430" y="8"/>
                  </a:lnTo>
                  <a:lnTo>
                    <a:pt x="2219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3911760" y="4025880"/>
            <a:ext cx="940320" cy="1371960"/>
          </a:xfrm>
          <a:custGeom>
            <a:avLst/>
            <a:gdLst/>
            <a:ahLst/>
            <a:rect l="0" t="0" r="r" b="b"/>
            <a:pathLst>
              <a:path w="2612" h="3811">
                <a:moveTo>
                  <a:pt x="0" y="0"/>
                </a:moveTo>
                <a:lnTo>
                  <a:pt x="352" y="2893"/>
                </a:lnTo>
                <a:lnTo>
                  <a:pt x="635" y="3705"/>
                </a:lnTo>
                <a:lnTo>
                  <a:pt x="882" y="3775"/>
                </a:lnTo>
                <a:lnTo>
                  <a:pt x="1200" y="3811"/>
                </a:lnTo>
                <a:lnTo>
                  <a:pt x="1376" y="3634"/>
                </a:lnTo>
                <a:lnTo>
                  <a:pt x="1129" y="2823"/>
                </a:lnTo>
                <a:lnTo>
                  <a:pt x="1024" y="1658"/>
                </a:lnTo>
                <a:lnTo>
                  <a:pt x="1024" y="1234"/>
                </a:lnTo>
                <a:lnTo>
                  <a:pt x="1094" y="2364"/>
                </a:lnTo>
                <a:lnTo>
                  <a:pt x="1200" y="3246"/>
                </a:lnTo>
                <a:lnTo>
                  <a:pt x="1376" y="3528"/>
                </a:lnTo>
                <a:lnTo>
                  <a:pt x="1588" y="3564"/>
                </a:lnTo>
                <a:lnTo>
                  <a:pt x="1412" y="3564"/>
                </a:lnTo>
                <a:lnTo>
                  <a:pt x="1553" y="3669"/>
                </a:lnTo>
                <a:lnTo>
                  <a:pt x="1764" y="3705"/>
                </a:lnTo>
                <a:lnTo>
                  <a:pt x="2118" y="3634"/>
                </a:lnTo>
                <a:lnTo>
                  <a:pt x="2612" y="3281"/>
                </a:lnTo>
                <a:lnTo>
                  <a:pt x="2612" y="3070"/>
                </a:lnTo>
                <a:lnTo>
                  <a:pt x="2542" y="2329"/>
                </a:lnTo>
                <a:lnTo>
                  <a:pt x="2153" y="2399"/>
                </a:lnTo>
                <a:lnTo>
                  <a:pt x="2224" y="2823"/>
                </a:lnTo>
                <a:lnTo>
                  <a:pt x="2153" y="2435"/>
                </a:lnTo>
                <a:lnTo>
                  <a:pt x="2153" y="1481"/>
                </a:lnTo>
                <a:lnTo>
                  <a:pt x="2224" y="7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463840" y="6146640"/>
            <a:ext cx="3670560" cy="344880"/>
          </a:xfrm>
          <a:custGeom>
            <a:avLst/>
            <a:gdLst/>
            <a:ahLst/>
            <a:rect l="0" t="0" r="r" b="b"/>
            <a:pathLst>
              <a:path w="10196" h="958">
                <a:moveTo>
                  <a:pt x="3764" y="216"/>
                </a:moveTo>
                <a:lnTo>
                  <a:pt x="3654" y="246"/>
                </a:lnTo>
                <a:lnTo>
                  <a:pt x="3570" y="246"/>
                </a:lnTo>
                <a:lnTo>
                  <a:pt x="3517" y="246"/>
                </a:lnTo>
                <a:lnTo>
                  <a:pt x="3407" y="216"/>
                </a:lnTo>
                <a:lnTo>
                  <a:pt x="3354" y="183"/>
                </a:lnTo>
                <a:lnTo>
                  <a:pt x="3297" y="183"/>
                </a:lnTo>
                <a:lnTo>
                  <a:pt x="3244" y="155"/>
                </a:lnTo>
                <a:lnTo>
                  <a:pt x="3217" y="155"/>
                </a:lnTo>
                <a:lnTo>
                  <a:pt x="2997" y="246"/>
                </a:lnTo>
                <a:lnTo>
                  <a:pt x="2781" y="340"/>
                </a:lnTo>
                <a:lnTo>
                  <a:pt x="2508" y="216"/>
                </a:lnTo>
                <a:lnTo>
                  <a:pt x="2208" y="94"/>
                </a:lnTo>
                <a:lnTo>
                  <a:pt x="2128" y="61"/>
                </a:lnTo>
                <a:lnTo>
                  <a:pt x="2098" y="61"/>
                </a:lnTo>
                <a:lnTo>
                  <a:pt x="2071" y="61"/>
                </a:lnTo>
                <a:lnTo>
                  <a:pt x="2045" y="94"/>
                </a:lnTo>
                <a:lnTo>
                  <a:pt x="762" y="279"/>
                </a:lnTo>
                <a:lnTo>
                  <a:pt x="357" y="524"/>
                </a:lnTo>
                <a:lnTo>
                  <a:pt x="273" y="646"/>
                </a:lnTo>
                <a:lnTo>
                  <a:pt x="246" y="679"/>
                </a:lnTo>
                <a:lnTo>
                  <a:pt x="246" y="679"/>
                </a:lnTo>
                <a:lnTo>
                  <a:pt x="273" y="646"/>
                </a:lnTo>
                <a:lnTo>
                  <a:pt x="326" y="585"/>
                </a:lnTo>
                <a:lnTo>
                  <a:pt x="357" y="585"/>
                </a:lnTo>
                <a:lnTo>
                  <a:pt x="357" y="618"/>
                </a:lnTo>
                <a:lnTo>
                  <a:pt x="357" y="742"/>
                </a:lnTo>
                <a:lnTo>
                  <a:pt x="299" y="803"/>
                </a:lnTo>
                <a:lnTo>
                  <a:pt x="189" y="836"/>
                </a:lnTo>
                <a:lnTo>
                  <a:pt x="83" y="864"/>
                </a:lnTo>
                <a:lnTo>
                  <a:pt x="0" y="897"/>
                </a:lnTo>
                <a:lnTo>
                  <a:pt x="110" y="958"/>
                </a:lnTo>
                <a:lnTo>
                  <a:pt x="189" y="958"/>
                </a:lnTo>
                <a:lnTo>
                  <a:pt x="273" y="925"/>
                </a:lnTo>
                <a:lnTo>
                  <a:pt x="383" y="897"/>
                </a:lnTo>
                <a:lnTo>
                  <a:pt x="489" y="742"/>
                </a:lnTo>
                <a:lnTo>
                  <a:pt x="573" y="679"/>
                </a:lnTo>
                <a:lnTo>
                  <a:pt x="656" y="679"/>
                </a:lnTo>
                <a:lnTo>
                  <a:pt x="819" y="742"/>
                </a:lnTo>
                <a:lnTo>
                  <a:pt x="899" y="864"/>
                </a:lnTo>
                <a:lnTo>
                  <a:pt x="982" y="897"/>
                </a:lnTo>
                <a:lnTo>
                  <a:pt x="1093" y="864"/>
                </a:lnTo>
                <a:lnTo>
                  <a:pt x="1198" y="775"/>
                </a:lnTo>
                <a:lnTo>
                  <a:pt x="1282" y="679"/>
                </a:lnTo>
                <a:lnTo>
                  <a:pt x="1362" y="679"/>
                </a:lnTo>
                <a:lnTo>
                  <a:pt x="1445" y="712"/>
                </a:lnTo>
                <a:lnTo>
                  <a:pt x="1555" y="775"/>
                </a:lnTo>
                <a:lnTo>
                  <a:pt x="1829" y="712"/>
                </a:lnTo>
                <a:lnTo>
                  <a:pt x="2128" y="679"/>
                </a:lnTo>
                <a:lnTo>
                  <a:pt x="2481" y="742"/>
                </a:lnTo>
                <a:lnTo>
                  <a:pt x="2671" y="742"/>
                </a:lnTo>
                <a:lnTo>
                  <a:pt x="2917" y="712"/>
                </a:lnTo>
                <a:lnTo>
                  <a:pt x="3133" y="679"/>
                </a:lnTo>
                <a:lnTo>
                  <a:pt x="3217" y="712"/>
                </a:lnTo>
                <a:lnTo>
                  <a:pt x="3270" y="742"/>
                </a:lnTo>
                <a:lnTo>
                  <a:pt x="3270" y="742"/>
                </a:lnTo>
                <a:lnTo>
                  <a:pt x="3517" y="958"/>
                </a:lnTo>
                <a:lnTo>
                  <a:pt x="3953" y="742"/>
                </a:lnTo>
                <a:lnTo>
                  <a:pt x="4579" y="742"/>
                </a:lnTo>
                <a:lnTo>
                  <a:pt x="5016" y="742"/>
                </a:lnTo>
                <a:lnTo>
                  <a:pt x="5068" y="864"/>
                </a:lnTo>
                <a:lnTo>
                  <a:pt x="5127" y="925"/>
                </a:lnTo>
                <a:lnTo>
                  <a:pt x="5237" y="958"/>
                </a:lnTo>
                <a:lnTo>
                  <a:pt x="5369" y="925"/>
                </a:lnTo>
                <a:lnTo>
                  <a:pt x="5479" y="897"/>
                </a:lnTo>
                <a:lnTo>
                  <a:pt x="5537" y="864"/>
                </a:lnTo>
                <a:lnTo>
                  <a:pt x="5590" y="897"/>
                </a:lnTo>
                <a:lnTo>
                  <a:pt x="5669" y="958"/>
                </a:lnTo>
                <a:lnTo>
                  <a:pt x="5779" y="958"/>
                </a:lnTo>
                <a:lnTo>
                  <a:pt x="5863" y="925"/>
                </a:lnTo>
                <a:lnTo>
                  <a:pt x="5916" y="925"/>
                </a:lnTo>
                <a:lnTo>
                  <a:pt x="5969" y="897"/>
                </a:lnTo>
                <a:lnTo>
                  <a:pt x="6026" y="864"/>
                </a:lnTo>
                <a:lnTo>
                  <a:pt x="6052" y="864"/>
                </a:lnTo>
                <a:lnTo>
                  <a:pt x="6326" y="897"/>
                </a:lnTo>
                <a:lnTo>
                  <a:pt x="6573" y="836"/>
                </a:lnTo>
                <a:lnTo>
                  <a:pt x="6736" y="897"/>
                </a:lnTo>
                <a:lnTo>
                  <a:pt x="6872" y="925"/>
                </a:lnTo>
                <a:lnTo>
                  <a:pt x="6952" y="958"/>
                </a:lnTo>
                <a:lnTo>
                  <a:pt x="6978" y="958"/>
                </a:lnTo>
                <a:lnTo>
                  <a:pt x="7088" y="925"/>
                </a:lnTo>
                <a:lnTo>
                  <a:pt x="7198" y="897"/>
                </a:lnTo>
                <a:lnTo>
                  <a:pt x="7251" y="897"/>
                </a:lnTo>
                <a:lnTo>
                  <a:pt x="7304" y="864"/>
                </a:lnTo>
                <a:lnTo>
                  <a:pt x="7304" y="864"/>
                </a:lnTo>
                <a:lnTo>
                  <a:pt x="7551" y="925"/>
                </a:lnTo>
                <a:lnTo>
                  <a:pt x="7688" y="958"/>
                </a:lnTo>
                <a:lnTo>
                  <a:pt x="7798" y="925"/>
                </a:lnTo>
                <a:lnTo>
                  <a:pt x="7908" y="897"/>
                </a:lnTo>
                <a:lnTo>
                  <a:pt x="8014" y="864"/>
                </a:lnTo>
                <a:lnTo>
                  <a:pt x="8124" y="836"/>
                </a:lnTo>
                <a:lnTo>
                  <a:pt x="8151" y="836"/>
                </a:lnTo>
                <a:lnTo>
                  <a:pt x="8450" y="897"/>
                </a:lnTo>
                <a:lnTo>
                  <a:pt x="8587" y="897"/>
                </a:lnTo>
                <a:lnTo>
                  <a:pt x="8724" y="864"/>
                </a:lnTo>
                <a:lnTo>
                  <a:pt x="8944" y="864"/>
                </a:lnTo>
                <a:lnTo>
                  <a:pt x="9160" y="836"/>
                </a:lnTo>
                <a:lnTo>
                  <a:pt x="9213" y="775"/>
                </a:lnTo>
                <a:lnTo>
                  <a:pt x="9270" y="712"/>
                </a:lnTo>
                <a:lnTo>
                  <a:pt x="9433" y="679"/>
                </a:lnTo>
                <a:lnTo>
                  <a:pt x="9596" y="679"/>
                </a:lnTo>
                <a:lnTo>
                  <a:pt x="9759" y="712"/>
                </a:lnTo>
                <a:lnTo>
                  <a:pt x="9896" y="712"/>
                </a:lnTo>
                <a:lnTo>
                  <a:pt x="10033" y="679"/>
                </a:lnTo>
                <a:lnTo>
                  <a:pt x="10112" y="618"/>
                </a:lnTo>
                <a:lnTo>
                  <a:pt x="10196" y="524"/>
                </a:lnTo>
                <a:lnTo>
                  <a:pt x="10169" y="462"/>
                </a:lnTo>
                <a:lnTo>
                  <a:pt x="10143" y="434"/>
                </a:lnTo>
                <a:lnTo>
                  <a:pt x="10112" y="401"/>
                </a:lnTo>
                <a:lnTo>
                  <a:pt x="10059" y="434"/>
                </a:lnTo>
                <a:lnTo>
                  <a:pt x="9980" y="462"/>
                </a:lnTo>
                <a:lnTo>
                  <a:pt x="9922" y="495"/>
                </a:lnTo>
                <a:lnTo>
                  <a:pt x="9896" y="495"/>
                </a:lnTo>
                <a:lnTo>
                  <a:pt x="9843" y="462"/>
                </a:lnTo>
                <a:lnTo>
                  <a:pt x="9733" y="462"/>
                </a:lnTo>
                <a:lnTo>
                  <a:pt x="9649" y="434"/>
                </a:lnTo>
                <a:lnTo>
                  <a:pt x="9570" y="401"/>
                </a:lnTo>
                <a:lnTo>
                  <a:pt x="9513" y="373"/>
                </a:lnTo>
                <a:lnTo>
                  <a:pt x="9433" y="307"/>
                </a:lnTo>
                <a:lnTo>
                  <a:pt x="9376" y="279"/>
                </a:lnTo>
                <a:lnTo>
                  <a:pt x="9349" y="246"/>
                </a:lnTo>
                <a:lnTo>
                  <a:pt x="8913" y="307"/>
                </a:lnTo>
                <a:lnTo>
                  <a:pt x="8508" y="373"/>
                </a:lnTo>
                <a:lnTo>
                  <a:pt x="8340" y="340"/>
                </a:lnTo>
                <a:lnTo>
                  <a:pt x="8177" y="340"/>
                </a:lnTo>
                <a:lnTo>
                  <a:pt x="8040" y="279"/>
                </a:lnTo>
                <a:lnTo>
                  <a:pt x="7908" y="216"/>
                </a:lnTo>
                <a:lnTo>
                  <a:pt x="7798" y="155"/>
                </a:lnTo>
                <a:lnTo>
                  <a:pt x="7714" y="94"/>
                </a:lnTo>
                <a:lnTo>
                  <a:pt x="7608" y="61"/>
                </a:lnTo>
                <a:lnTo>
                  <a:pt x="7578" y="32"/>
                </a:lnTo>
                <a:lnTo>
                  <a:pt x="7278" y="94"/>
                </a:lnTo>
                <a:lnTo>
                  <a:pt x="6978" y="155"/>
                </a:lnTo>
                <a:lnTo>
                  <a:pt x="6815" y="183"/>
                </a:lnTo>
                <a:lnTo>
                  <a:pt x="6652" y="122"/>
                </a:lnTo>
                <a:lnTo>
                  <a:pt x="6326" y="0"/>
                </a:lnTo>
                <a:lnTo>
                  <a:pt x="5942" y="61"/>
                </a:lnTo>
                <a:lnTo>
                  <a:pt x="5753" y="94"/>
                </a:lnTo>
                <a:lnTo>
                  <a:pt x="5563" y="155"/>
                </a:lnTo>
                <a:lnTo>
                  <a:pt x="5479" y="183"/>
                </a:lnTo>
                <a:lnTo>
                  <a:pt x="5369" y="216"/>
                </a:lnTo>
                <a:lnTo>
                  <a:pt x="5290" y="246"/>
                </a:lnTo>
                <a:lnTo>
                  <a:pt x="5263" y="246"/>
                </a:lnTo>
                <a:lnTo>
                  <a:pt x="5153" y="246"/>
                </a:lnTo>
                <a:lnTo>
                  <a:pt x="5016" y="216"/>
                </a:lnTo>
                <a:lnTo>
                  <a:pt x="4879" y="183"/>
                </a:lnTo>
                <a:lnTo>
                  <a:pt x="4826" y="155"/>
                </a:lnTo>
                <a:lnTo>
                  <a:pt x="4800" y="155"/>
                </a:lnTo>
                <a:lnTo>
                  <a:pt x="4663" y="183"/>
                </a:lnTo>
                <a:lnTo>
                  <a:pt x="4579" y="216"/>
                </a:lnTo>
                <a:lnTo>
                  <a:pt x="4469" y="216"/>
                </a:lnTo>
                <a:lnTo>
                  <a:pt x="4332" y="183"/>
                </a:lnTo>
                <a:lnTo>
                  <a:pt x="4279" y="155"/>
                </a:lnTo>
                <a:lnTo>
                  <a:pt x="4200" y="122"/>
                </a:lnTo>
                <a:lnTo>
                  <a:pt x="4143" y="94"/>
                </a:lnTo>
                <a:lnTo>
                  <a:pt x="4116" y="94"/>
                </a:lnTo>
                <a:lnTo>
                  <a:pt x="4033" y="122"/>
                </a:lnTo>
                <a:lnTo>
                  <a:pt x="3980" y="155"/>
                </a:lnTo>
                <a:lnTo>
                  <a:pt x="3927" y="183"/>
                </a:lnTo>
                <a:lnTo>
                  <a:pt x="3896" y="183"/>
                </a:lnTo>
                <a:lnTo>
                  <a:pt x="3817" y="155"/>
                </a:lnTo>
                <a:lnTo>
                  <a:pt x="3733" y="183"/>
                </a:lnTo>
                <a:lnTo>
                  <a:pt x="3706" y="216"/>
                </a:lnTo>
                <a:lnTo>
                  <a:pt x="3706" y="216"/>
                </a:lnTo>
                <a:lnTo>
                  <a:pt x="3764" y="216"/>
                </a:lnTo>
                <a:close/>
              </a:path>
            </a:pathLst>
          </a:custGeom>
          <a:solidFill>
            <a:srgbClr val="e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3719520" y="915840"/>
            <a:ext cx="1081440" cy="3275640"/>
            <a:chOff x="3719520" y="915840"/>
            <a:chExt cx="1081440" cy="3275640"/>
          </a:xfrm>
        </p:grpSpPr>
        <p:sp>
          <p:nvSpPr>
            <p:cNvPr id="611" name=""/>
            <p:cNvSpPr/>
            <p:nvPr/>
          </p:nvSpPr>
          <p:spPr>
            <a:xfrm>
              <a:off x="3819600" y="2590920"/>
              <a:ext cx="981360" cy="1600560"/>
            </a:xfrm>
            <a:custGeom>
              <a:avLst/>
              <a:gdLst/>
              <a:ahLst/>
              <a:rect l="0" t="0" r="r" b="b"/>
              <a:pathLst>
                <a:path w="2726" h="4446">
                  <a:moveTo>
                    <a:pt x="953" y="374"/>
                  </a:moveTo>
                  <a:lnTo>
                    <a:pt x="865" y="392"/>
                  </a:lnTo>
                  <a:lnTo>
                    <a:pt x="799" y="436"/>
                  </a:lnTo>
                  <a:lnTo>
                    <a:pt x="672" y="582"/>
                  </a:lnTo>
                  <a:lnTo>
                    <a:pt x="540" y="723"/>
                  </a:lnTo>
                  <a:lnTo>
                    <a:pt x="391" y="851"/>
                  </a:lnTo>
                  <a:lnTo>
                    <a:pt x="369" y="890"/>
                  </a:lnTo>
                  <a:lnTo>
                    <a:pt x="347" y="930"/>
                  </a:lnTo>
                  <a:lnTo>
                    <a:pt x="347" y="930"/>
                  </a:lnTo>
                  <a:lnTo>
                    <a:pt x="369" y="930"/>
                  </a:lnTo>
                  <a:lnTo>
                    <a:pt x="153" y="1553"/>
                  </a:lnTo>
                  <a:lnTo>
                    <a:pt x="0" y="4345"/>
                  </a:lnTo>
                  <a:lnTo>
                    <a:pt x="2726" y="4446"/>
                  </a:lnTo>
                  <a:lnTo>
                    <a:pt x="2317" y="1844"/>
                  </a:lnTo>
                  <a:lnTo>
                    <a:pt x="2119" y="414"/>
                  </a:lnTo>
                  <a:lnTo>
                    <a:pt x="1385" y="0"/>
                  </a:lnTo>
                  <a:lnTo>
                    <a:pt x="953" y="374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2" name=""/>
            <p:cNvGrpSpPr/>
            <p:nvPr/>
          </p:nvGrpSpPr>
          <p:grpSpPr>
            <a:xfrm>
              <a:off x="3719520" y="915840"/>
              <a:ext cx="1005120" cy="1818000"/>
              <a:chOff x="3719520" y="915840"/>
              <a:chExt cx="1005120" cy="1818000"/>
            </a:xfrm>
          </p:grpSpPr>
          <p:sp>
            <p:nvSpPr>
              <p:cNvPr id="613" name=""/>
              <p:cNvSpPr/>
              <p:nvPr/>
            </p:nvSpPr>
            <p:spPr>
              <a:xfrm>
                <a:off x="3828960" y="1152360"/>
                <a:ext cx="895680" cy="1581480"/>
              </a:xfrm>
              <a:custGeom>
                <a:avLst/>
                <a:gdLst/>
                <a:ahLst/>
                <a:rect l="0" t="0" r="r" b="b"/>
                <a:pathLst>
                  <a:path w="2488" h="4393">
                    <a:moveTo>
                      <a:pt x="582" y="0"/>
                    </a:moveTo>
                    <a:lnTo>
                      <a:pt x="264" y="264"/>
                    </a:lnTo>
                    <a:lnTo>
                      <a:pt x="79" y="687"/>
                    </a:lnTo>
                    <a:lnTo>
                      <a:pt x="26" y="1217"/>
                    </a:lnTo>
                    <a:lnTo>
                      <a:pt x="0" y="2699"/>
                    </a:lnTo>
                    <a:lnTo>
                      <a:pt x="52" y="3546"/>
                    </a:lnTo>
                    <a:lnTo>
                      <a:pt x="820" y="3599"/>
                    </a:lnTo>
                    <a:lnTo>
                      <a:pt x="926" y="4075"/>
                    </a:lnTo>
                    <a:lnTo>
                      <a:pt x="1031" y="4393"/>
                    </a:lnTo>
                    <a:lnTo>
                      <a:pt x="1271" y="4393"/>
                    </a:lnTo>
                    <a:lnTo>
                      <a:pt x="1403" y="4102"/>
                    </a:lnTo>
                    <a:lnTo>
                      <a:pt x="1323" y="3599"/>
                    </a:lnTo>
                    <a:lnTo>
                      <a:pt x="2038" y="3519"/>
                    </a:lnTo>
                    <a:lnTo>
                      <a:pt x="2064" y="3017"/>
                    </a:lnTo>
                    <a:lnTo>
                      <a:pt x="2223" y="3096"/>
                    </a:lnTo>
                    <a:lnTo>
                      <a:pt x="2382" y="3043"/>
                    </a:lnTo>
                    <a:lnTo>
                      <a:pt x="2488" y="2620"/>
                    </a:lnTo>
                    <a:lnTo>
                      <a:pt x="2355" y="2408"/>
                    </a:lnTo>
                    <a:lnTo>
                      <a:pt x="2197" y="2435"/>
                    </a:lnTo>
                    <a:lnTo>
                      <a:pt x="2355" y="185"/>
                    </a:lnTo>
                    <a:lnTo>
                      <a:pt x="582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719520" y="1595520"/>
                <a:ext cx="409680" cy="4096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071960" y="1557360"/>
                <a:ext cx="485640" cy="4856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262400" y="1757520"/>
                <a:ext cx="85680" cy="85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4560" bIns="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852720" y="1766880"/>
                <a:ext cx="85680" cy="85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4560" bIns="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059360" y="944640"/>
                <a:ext cx="7920" cy="217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4173480" y="925560"/>
                <a:ext cx="17640" cy="217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V="1">
                <a:off x="4335480" y="915840"/>
                <a:ext cx="36360" cy="227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V="1">
                <a:off x="4497480" y="963720"/>
                <a:ext cx="55440" cy="198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V="1">
                <a:off x="4640400" y="992160"/>
                <a:ext cx="55440" cy="179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819600" y="2104920"/>
                <a:ext cx="657720" cy="257400"/>
              </a:xfrm>
              <a:custGeom>
                <a:avLst/>
                <a:gdLst/>
                <a:ahLst/>
                <a:rect l="0" t="0" r="r" b="b"/>
                <a:pathLst>
                  <a:path w="1827" h="715">
                    <a:moveTo>
                      <a:pt x="0" y="0"/>
                    </a:moveTo>
                    <a:lnTo>
                      <a:pt x="1827" y="163"/>
                    </a:lnTo>
                    <a:lnTo>
                      <a:pt x="746" y="7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4" name=""/>
            <p:cNvSpPr/>
            <p:nvPr/>
          </p:nvSpPr>
          <p:spPr>
            <a:xfrm>
              <a:off x="4114800" y="2600280"/>
              <a:ext cx="305280" cy="181440"/>
            </a:xfrm>
            <a:custGeom>
              <a:avLst/>
              <a:gdLst/>
              <a:ahLst/>
              <a:rect l="0" t="0" r="r" b="b"/>
              <a:pathLst>
                <a:path w="848" h="504">
                  <a:moveTo>
                    <a:pt x="0" y="344"/>
                  </a:moveTo>
                  <a:lnTo>
                    <a:pt x="239" y="478"/>
                  </a:lnTo>
                  <a:lnTo>
                    <a:pt x="663" y="504"/>
                  </a:lnTo>
                  <a:lnTo>
                    <a:pt x="848" y="265"/>
                  </a:lnTo>
                  <a:lnTo>
                    <a:pt x="848" y="79"/>
                  </a:lnTo>
                  <a:lnTo>
                    <a:pt x="663" y="0"/>
                  </a:lnTo>
                  <a:lnTo>
                    <a:pt x="477" y="265"/>
                  </a:lnTo>
                  <a:lnTo>
                    <a:pt x="185" y="292"/>
                  </a:lnTo>
                  <a:lnTo>
                    <a:pt x="0" y="344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"/>
          <p:cNvSpPr/>
          <p:nvPr/>
        </p:nvSpPr>
        <p:spPr>
          <a:xfrm>
            <a:off x="4124160" y="3548160"/>
            <a:ext cx="276480" cy="562320"/>
          </a:xfrm>
          <a:custGeom>
            <a:avLst/>
            <a:gdLst/>
            <a:ahLst/>
            <a:rect l="0" t="0" r="r" b="b"/>
            <a:pathLst>
              <a:path w="768" h="1562">
                <a:moveTo>
                  <a:pt x="196" y="62"/>
                </a:moveTo>
                <a:lnTo>
                  <a:pt x="235" y="22"/>
                </a:lnTo>
                <a:lnTo>
                  <a:pt x="274" y="0"/>
                </a:lnTo>
                <a:lnTo>
                  <a:pt x="313" y="22"/>
                </a:lnTo>
                <a:lnTo>
                  <a:pt x="374" y="40"/>
                </a:lnTo>
                <a:lnTo>
                  <a:pt x="471" y="0"/>
                </a:lnTo>
                <a:lnTo>
                  <a:pt x="511" y="0"/>
                </a:lnTo>
                <a:lnTo>
                  <a:pt x="572" y="0"/>
                </a:lnTo>
                <a:lnTo>
                  <a:pt x="572" y="62"/>
                </a:lnTo>
                <a:lnTo>
                  <a:pt x="572" y="80"/>
                </a:lnTo>
                <a:lnTo>
                  <a:pt x="511" y="142"/>
                </a:lnTo>
                <a:lnTo>
                  <a:pt x="532" y="227"/>
                </a:lnTo>
                <a:lnTo>
                  <a:pt x="532" y="289"/>
                </a:lnTo>
                <a:lnTo>
                  <a:pt x="572" y="330"/>
                </a:lnTo>
                <a:lnTo>
                  <a:pt x="611" y="392"/>
                </a:lnTo>
                <a:lnTo>
                  <a:pt x="589" y="535"/>
                </a:lnTo>
                <a:lnTo>
                  <a:pt x="550" y="637"/>
                </a:lnTo>
                <a:lnTo>
                  <a:pt x="589" y="700"/>
                </a:lnTo>
                <a:lnTo>
                  <a:pt x="650" y="780"/>
                </a:lnTo>
                <a:lnTo>
                  <a:pt x="707" y="861"/>
                </a:lnTo>
                <a:lnTo>
                  <a:pt x="729" y="924"/>
                </a:lnTo>
                <a:lnTo>
                  <a:pt x="746" y="986"/>
                </a:lnTo>
                <a:lnTo>
                  <a:pt x="768" y="1026"/>
                </a:lnTo>
                <a:lnTo>
                  <a:pt x="768" y="1026"/>
                </a:lnTo>
                <a:lnTo>
                  <a:pt x="746" y="1174"/>
                </a:lnTo>
                <a:lnTo>
                  <a:pt x="729" y="1294"/>
                </a:lnTo>
                <a:lnTo>
                  <a:pt x="707" y="1419"/>
                </a:lnTo>
                <a:lnTo>
                  <a:pt x="668" y="1562"/>
                </a:lnTo>
                <a:lnTo>
                  <a:pt x="668" y="1521"/>
                </a:lnTo>
                <a:lnTo>
                  <a:pt x="668" y="1481"/>
                </a:lnTo>
                <a:lnTo>
                  <a:pt x="689" y="1437"/>
                </a:lnTo>
                <a:lnTo>
                  <a:pt x="689" y="1419"/>
                </a:lnTo>
                <a:lnTo>
                  <a:pt x="668" y="1356"/>
                </a:lnTo>
                <a:lnTo>
                  <a:pt x="650" y="1276"/>
                </a:lnTo>
                <a:lnTo>
                  <a:pt x="668" y="1214"/>
                </a:lnTo>
                <a:lnTo>
                  <a:pt x="689" y="1191"/>
                </a:lnTo>
                <a:lnTo>
                  <a:pt x="689" y="1174"/>
                </a:lnTo>
                <a:lnTo>
                  <a:pt x="668" y="1049"/>
                </a:lnTo>
                <a:lnTo>
                  <a:pt x="628" y="986"/>
                </a:lnTo>
                <a:lnTo>
                  <a:pt x="589" y="946"/>
                </a:lnTo>
                <a:lnTo>
                  <a:pt x="550" y="884"/>
                </a:lnTo>
                <a:lnTo>
                  <a:pt x="511" y="821"/>
                </a:lnTo>
                <a:lnTo>
                  <a:pt x="471" y="861"/>
                </a:lnTo>
                <a:lnTo>
                  <a:pt x="432" y="884"/>
                </a:lnTo>
                <a:lnTo>
                  <a:pt x="393" y="906"/>
                </a:lnTo>
                <a:lnTo>
                  <a:pt x="374" y="924"/>
                </a:lnTo>
                <a:lnTo>
                  <a:pt x="353" y="924"/>
                </a:lnTo>
                <a:lnTo>
                  <a:pt x="353" y="843"/>
                </a:lnTo>
                <a:lnTo>
                  <a:pt x="353" y="821"/>
                </a:lnTo>
                <a:lnTo>
                  <a:pt x="353" y="803"/>
                </a:lnTo>
                <a:lnTo>
                  <a:pt x="374" y="758"/>
                </a:lnTo>
                <a:lnTo>
                  <a:pt x="393" y="718"/>
                </a:lnTo>
                <a:lnTo>
                  <a:pt x="393" y="718"/>
                </a:lnTo>
                <a:lnTo>
                  <a:pt x="393" y="740"/>
                </a:lnTo>
                <a:lnTo>
                  <a:pt x="393" y="758"/>
                </a:lnTo>
                <a:lnTo>
                  <a:pt x="374" y="780"/>
                </a:lnTo>
                <a:lnTo>
                  <a:pt x="335" y="758"/>
                </a:lnTo>
                <a:lnTo>
                  <a:pt x="313" y="740"/>
                </a:lnTo>
                <a:lnTo>
                  <a:pt x="296" y="740"/>
                </a:lnTo>
                <a:lnTo>
                  <a:pt x="274" y="758"/>
                </a:lnTo>
                <a:lnTo>
                  <a:pt x="257" y="780"/>
                </a:lnTo>
                <a:lnTo>
                  <a:pt x="196" y="718"/>
                </a:lnTo>
                <a:lnTo>
                  <a:pt x="178" y="780"/>
                </a:lnTo>
                <a:lnTo>
                  <a:pt x="156" y="803"/>
                </a:lnTo>
                <a:lnTo>
                  <a:pt x="117" y="780"/>
                </a:lnTo>
                <a:lnTo>
                  <a:pt x="39" y="758"/>
                </a:lnTo>
                <a:lnTo>
                  <a:pt x="17" y="740"/>
                </a:lnTo>
                <a:lnTo>
                  <a:pt x="0" y="700"/>
                </a:lnTo>
                <a:lnTo>
                  <a:pt x="17" y="677"/>
                </a:lnTo>
                <a:lnTo>
                  <a:pt x="39" y="677"/>
                </a:lnTo>
                <a:lnTo>
                  <a:pt x="117" y="700"/>
                </a:lnTo>
                <a:lnTo>
                  <a:pt x="196" y="718"/>
                </a:lnTo>
                <a:lnTo>
                  <a:pt x="196" y="718"/>
                </a:lnTo>
                <a:lnTo>
                  <a:pt x="178" y="700"/>
                </a:lnTo>
                <a:lnTo>
                  <a:pt x="156" y="677"/>
                </a:lnTo>
                <a:lnTo>
                  <a:pt x="139" y="655"/>
                </a:lnTo>
                <a:lnTo>
                  <a:pt x="139" y="637"/>
                </a:lnTo>
                <a:lnTo>
                  <a:pt x="139" y="597"/>
                </a:lnTo>
                <a:lnTo>
                  <a:pt x="156" y="553"/>
                </a:lnTo>
                <a:lnTo>
                  <a:pt x="178" y="535"/>
                </a:lnTo>
                <a:lnTo>
                  <a:pt x="178" y="472"/>
                </a:lnTo>
                <a:lnTo>
                  <a:pt x="178" y="410"/>
                </a:lnTo>
                <a:lnTo>
                  <a:pt x="178" y="267"/>
                </a:lnTo>
                <a:lnTo>
                  <a:pt x="139" y="227"/>
                </a:lnTo>
                <a:lnTo>
                  <a:pt x="117" y="205"/>
                </a:lnTo>
                <a:lnTo>
                  <a:pt x="117" y="182"/>
                </a:lnTo>
                <a:lnTo>
                  <a:pt x="139" y="165"/>
                </a:lnTo>
                <a:lnTo>
                  <a:pt x="156" y="142"/>
                </a:lnTo>
                <a:lnTo>
                  <a:pt x="156" y="124"/>
                </a:lnTo>
                <a:lnTo>
                  <a:pt x="196" y="62"/>
                </a:lnTo>
                <a:close/>
              </a:path>
            </a:pathLst>
          </a:custGeom>
          <a:solidFill>
            <a:srgbClr val="e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3943440" y="3200400"/>
            <a:ext cx="755640" cy="1740240"/>
            <a:chOff x="3943440" y="3200400"/>
            <a:chExt cx="755640" cy="1740240"/>
          </a:xfrm>
        </p:grpSpPr>
        <p:sp>
          <p:nvSpPr>
            <p:cNvPr id="627" name=""/>
            <p:cNvSpPr/>
            <p:nvPr/>
          </p:nvSpPr>
          <p:spPr>
            <a:xfrm>
              <a:off x="4341960" y="3301920"/>
              <a:ext cx="174960" cy="165600"/>
            </a:xfrm>
            <a:custGeom>
              <a:avLst/>
              <a:gdLst/>
              <a:ahLst/>
              <a:rect l="0" t="0" r="r" b="b"/>
              <a:pathLst>
                <a:path w="486" h="460">
                  <a:moveTo>
                    <a:pt x="100" y="271"/>
                  </a:moveTo>
                  <a:lnTo>
                    <a:pt x="100" y="189"/>
                  </a:lnTo>
                  <a:lnTo>
                    <a:pt x="150" y="102"/>
                  </a:lnTo>
                  <a:lnTo>
                    <a:pt x="257" y="51"/>
                  </a:lnTo>
                  <a:lnTo>
                    <a:pt x="357" y="0"/>
                  </a:lnTo>
                  <a:lnTo>
                    <a:pt x="413" y="34"/>
                  </a:lnTo>
                  <a:lnTo>
                    <a:pt x="486" y="85"/>
                  </a:lnTo>
                  <a:lnTo>
                    <a:pt x="486" y="121"/>
                  </a:lnTo>
                  <a:lnTo>
                    <a:pt x="486" y="121"/>
                  </a:lnTo>
                  <a:lnTo>
                    <a:pt x="435" y="121"/>
                  </a:lnTo>
                  <a:lnTo>
                    <a:pt x="335" y="172"/>
                  </a:lnTo>
                  <a:lnTo>
                    <a:pt x="228" y="241"/>
                  </a:lnTo>
                  <a:lnTo>
                    <a:pt x="206" y="322"/>
                  </a:lnTo>
                  <a:lnTo>
                    <a:pt x="206" y="357"/>
                  </a:lnTo>
                  <a:lnTo>
                    <a:pt x="178" y="392"/>
                  </a:lnTo>
                  <a:lnTo>
                    <a:pt x="150" y="426"/>
                  </a:lnTo>
                  <a:lnTo>
                    <a:pt x="100" y="443"/>
                  </a:lnTo>
                  <a:lnTo>
                    <a:pt x="72" y="460"/>
                  </a:lnTo>
                  <a:lnTo>
                    <a:pt x="50" y="460"/>
                  </a:lnTo>
                  <a:lnTo>
                    <a:pt x="0" y="426"/>
                  </a:lnTo>
                  <a:lnTo>
                    <a:pt x="0" y="392"/>
                  </a:lnTo>
                  <a:lnTo>
                    <a:pt x="22" y="374"/>
                  </a:lnTo>
                  <a:lnTo>
                    <a:pt x="50" y="305"/>
                  </a:lnTo>
                  <a:lnTo>
                    <a:pt x="72" y="288"/>
                  </a:lnTo>
                  <a:lnTo>
                    <a:pt x="100" y="288"/>
                  </a:lnTo>
                  <a:lnTo>
                    <a:pt x="100" y="271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943440" y="3473280"/>
              <a:ext cx="201960" cy="267120"/>
            </a:xfrm>
            <a:custGeom>
              <a:avLst/>
              <a:gdLst/>
              <a:ahLst/>
              <a:rect l="0" t="0" r="r" b="b"/>
              <a:pathLst>
                <a:path w="561" h="742">
                  <a:moveTo>
                    <a:pt x="424" y="581"/>
                  </a:moveTo>
                  <a:lnTo>
                    <a:pt x="315" y="442"/>
                  </a:lnTo>
                  <a:lnTo>
                    <a:pt x="204" y="281"/>
                  </a:lnTo>
                  <a:lnTo>
                    <a:pt x="204" y="200"/>
                  </a:lnTo>
                  <a:lnTo>
                    <a:pt x="204" y="118"/>
                  </a:lnTo>
                  <a:lnTo>
                    <a:pt x="245" y="56"/>
                  </a:lnTo>
                  <a:lnTo>
                    <a:pt x="315" y="0"/>
                  </a:lnTo>
                  <a:lnTo>
                    <a:pt x="335" y="37"/>
                  </a:lnTo>
                  <a:lnTo>
                    <a:pt x="383" y="56"/>
                  </a:lnTo>
                  <a:lnTo>
                    <a:pt x="404" y="99"/>
                  </a:lnTo>
                  <a:lnTo>
                    <a:pt x="404" y="118"/>
                  </a:lnTo>
                  <a:lnTo>
                    <a:pt x="294" y="161"/>
                  </a:lnTo>
                  <a:lnTo>
                    <a:pt x="177" y="200"/>
                  </a:lnTo>
                  <a:lnTo>
                    <a:pt x="225" y="219"/>
                  </a:lnTo>
                  <a:lnTo>
                    <a:pt x="245" y="219"/>
                  </a:lnTo>
                  <a:lnTo>
                    <a:pt x="294" y="219"/>
                  </a:lnTo>
                  <a:lnTo>
                    <a:pt x="315" y="219"/>
                  </a:lnTo>
                  <a:lnTo>
                    <a:pt x="356" y="243"/>
                  </a:lnTo>
                  <a:lnTo>
                    <a:pt x="445" y="262"/>
                  </a:lnTo>
                  <a:lnTo>
                    <a:pt x="472" y="281"/>
                  </a:lnTo>
                  <a:lnTo>
                    <a:pt x="492" y="281"/>
                  </a:lnTo>
                  <a:lnTo>
                    <a:pt x="534" y="361"/>
                  </a:lnTo>
                  <a:lnTo>
                    <a:pt x="561" y="442"/>
                  </a:lnTo>
                  <a:lnTo>
                    <a:pt x="534" y="504"/>
                  </a:lnTo>
                  <a:lnTo>
                    <a:pt x="492" y="542"/>
                  </a:lnTo>
                  <a:lnTo>
                    <a:pt x="356" y="605"/>
                  </a:lnTo>
                  <a:lnTo>
                    <a:pt x="204" y="643"/>
                  </a:lnTo>
                  <a:lnTo>
                    <a:pt x="157" y="685"/>
                  </a:lnTo>
                  <a:lnTo>
                    <a:pt x="88" y="723"/>
                  </a:lnTo>
                  <a:lnTo>
                    <a:pt x="47" y="742"/>
                  </a:lnTo>
                  <a:lnTo>
                    <a:pt x="26" y="723"/>
                  </a:lnTo>
                  <a:lnTo>
                    <a:pt x="0" y="685"/>
                  </a:lnTo>
                  <a:lnTo>
                    <a:pt x="88" y="643"/>
                  </a:lnTo>
                  <a:lnTo>
                    <a:pt x="157" y="643"/>
                  </a:lnTo>
                  <a:lnTo>
                    <a:pt x="225" y="624"/>
                  </a:lnTo>
                  <a:lnTo>
                    <a:pt x="315" y="581"/>
                  </a:lnTo>
                  <a:lnTo>
                    <a:pt x="356" y="542"/>
                  </a:lnTo>
                  <a:lnTo>
                    <a:pt x="356" y="523"/>
                  </a:lnTo>
                  <a:lnTo>
                    <a:pt x="383" y="542"/>
                  </a:lnTo>
                  <a:lnTo>
                    <a:pt x="424" y="581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019400" y="3970440"/>
              <a:ext cx="297360" cy="111600"/>
            </a:xfrm>
            <a:custGeom>
              <a:avLst/>
              <a:gdLst/>
              <a:ahLst/>
              <a:rect l="0" t="0" r="r" b="b"/>
              <a:pathLst>
                <a:path w="826" h="310">
                  <a:moveTo>
                    <a:pt x="625" y="67"/>
                  </a:moveTo>
                  <a:lnTo>
                    <a:pt x="559" y="136"/>
                  </a:lnTo>
                  <a:lnTo>
                    <a:pt x="513" y="174"/>
                  </a:lnTo>
                  <a:lnTo>
                    <a:pt x="468" y="106"/>
                  </a:lnTo>
                  <a:lnTo>
                    <a:pt x="403" y="37"/>
                  </a:lnTo>
                  <a:lnTo>
                    <a:pt x="201" y="106"/>
                  </a:lnTo>
                  <a:lnTo>
                    <a:pt x="0" y="211"/>
                  </a:lnTo>
                  <a:lnTo>
                    <a:pt x="20" y="310"/>
                  </a:lnTo>
                  <a:lnTo>
                    <a:pt x="90" y="310"/>
                  </a:lnTo>
                  <a:lnTo>
                    <a:pt x="247" y="310"/>
                  </a:lnTo>
                  <a:lnTo>
                    <a:pt x="267" y="280"/>
                  </a:lnTo>
                  <a:lnTo>
                    <a:pt x="332" y="242"/>
                  </a:lnTo>
                  <a:lnTo>
                    <a:pt x="378" y="211"/>
                  </a:lnTo>
                  <a:lnTo>
                    <a:pt x="403" y="211"/>
                  </a:lnTo>
                  <a:lnTo>
                    <a:pt x="448" y="242"/>
                  </a:lnTo>
                  <a:lnTo>
                    <a:pt x="513" y="280"/>
                  </a:lnTo>
                  <a:lnTo>
                    <a:pt x="559" y="310"/>
                  </a:lnTo>
                  <a:lnTo>
                    <a:pt x="579" y="310"/>
                  </a:lnTo>
                  <a:lnTo>
                    <a:pt x="645" y="310"/>
                  </a:lnTo>
                  <a:lnTo>
                    <a:pt x="715" y="280"/>
                  </a:lnTo>
                  <a:lnTo>
                    <a:pt x="736" y="211"/>
                  </a:lnTo>
                  <a:lnTo>
                    <a:pt x="801" y="67"/>
                  </a:lnTo>
                  <a:lnTo>
                    <a:pt x="826" y="37"/>
                  </a:lnTo>
                  <a:lnTo>
                    <a:pt x="826" y="0"/>
                  </a:lnTo>
                  <a:lnTo>
                    <a:pt x="801" y="37"/>
                  </a:lnTo>
                  <a:lnTo>
                    <a:pt x="761" y="67"/>
                  </a:lnTo>
                  <a:lnTo>
                    <a:pt x="715" y="174"/>
                  </a:lnTo>
                  <a:lnTo>
                    <a:pt x="670" y="242"/>
                  </a:lnTo>
                  <a:lnTo>
                    <a:pt x="645" y="242"/>
                  </a:lnTo>
                  <a:lnTo>
                    <a:pt x="625" y="242"/>
                  </a:lnTo>
                  <a:lnTo>
                    <a:pt x="625" y="174"/>
                  </a:lnTo>
                  <a:lnTo>
                    <a:pt x="625" y="67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008600" y="3200400"/>
              <a:ext cx="279720" cy="230400"/>
            </a:xfrm>
            <a:custGeom>
              <a:avLst/>
              <a:gdLst/>
              <a:ahLst/>
              <a:rect l="0" t="0" r="r" b="b"/>
              <a:pathLst>
                <a:path w="777" h="640">
                  <a:moveTo>
                    <a:pt x="648" y="604"/>
                  </a:moveTo>
                  <a:lnTo>
                    <a:pt x="629" y="427"/>
                  </a:lnTo>
                  <a:lnTo>
                    <a:pt x="629" y="267"/>
                  </a:lnTo>
                  <a:lnTo>
                    <a:pt x="629" y="194"/>
                  </a:lnTo>
                  <a:lnTo>
                    <a:pt x="586" y="122"/>
                  </a:lnTo>
                  <a:lnTo>
                    <a:pt x="543" y="54"/>
                  </a:lnTo>
                  <a:lnTo>
                    <a:pt x="462" y="0"/>
                  </a:lnTo>
                  <a:lnTo>
                    <a:pt x="481" y="122"/>
                  </a:lnTo>
                  <a:lnTo>
                    <a:pt x="524" y="176"/>
                  </a:lnTo>
                  <a:lnTo>
                    <a:pt x="567" y="249"/>
                  </a:lnTo>
                  <a:lnTo>
                    <a:pt x="396" y="336"/>
                  </a:lnTo>
                  <a:lnTo>
                    <a:pt x="228" y="390"/>
                  </a:lnTo>
                  <a:lnTo>
                    <a:pt x="185" y="372"/>
                  </a:lnTo>
                  <a:lnTo>
                    <a:pt x="147" y="354"/>
                  </a:lnTo>
                  <a:lnTo>
                    <a:pt x="104" y="322"/>
                  </a:lnTo>
                  <a:lnTo>
                    <a:pt x="42" y="267"/>
                  </a:lnTo>
                  <a:lnTo>
                    <a:pt x="19" y="213"/>
                  </a:lnTo>
                  <a:lnTo>
                    <a:pt x="0" y="194"/>
                  </a:lnTo>
                  <a:lnTo>
                    <a:pt x="0" y="267"/>
                  </a:lnTo>
                  <a:lnTo>
                    <a:pt x="19" y="303"/>
                  </a:lnTo>
                  <a:lnTo>
                    <a:pt x="80" y="372"/>
                  </a:lnTo>
                  <a:lnTo>
                    <a:pt x="185" y="390"/>
                  </a:lnTo>
                  <a:lnTo>
                    <a:pt x="314" y="409"/>
                  </a:lnTo>
                  <a:lnTo>
                    <a:pt x="357" y="427"/>
                  </a:lnTo>
                  <a:lnTo>
                    <a:pt x="376" y="445"/>
                  </a:lnTo>
                  <a:lnTo>
                    <a:pt x="420" y="481"/>
                  </a:lnTo>
                  <a:lnTo>
                    <a:pt x="439" y="517"/>
                  </a:lnTo>
                  <a:lnTo>
                    <a:pt x="462" y="549"/>
                  </a:lnTo>
                  <a:lnTo>
                    <a:pt x="500" y="567"/>
                  </a:lnTo>
                  <a:lnTo>
                    <a:pt x="567" y="517"/>
                  </a:lnTo>
                  <a:lnTo>
                    <a:pt x="586" y="481"/>
                  </a:lnTo>
                  <a:lnTo>
                    <a:pt x="605" y="427"/>
                  </a:lnTo>
                  <a:lnTo>
                    <a:pt x="629" y="354"/>
                  </a:lnTo>
                  <a:lnTo>
                    <a:pt x="605" y="322"/>
                  </a:lnTo>
                  <a:lnTo>
                    <a:pt x="605" y="322"/>
                  </a:lnTo>
                  <a:lnTo>
                    <a:pt x="586" y="336"/>
                  </a:lnTo>
                  <a:lnTo>
                    <a:pt x="543" y="372"/>
                  </a:lnTo>
                  <a:lnTo>
                    <a:pt x="524" y="427"/>
                  </a:lnTo>
                  <a:lnTo>
                    <a:pt x="605" y="517"/>
                  </a:lnTo>
                  <a:lnTo>
                    <a:pt x="648" y="536"/>
                  </a:lnTo>
                  <a:lnTo>
                    <a:pt x="691" y="549"/>
                  </a:lnTo>
                  <a:lnTo>
                    <a:pt x="710" y="567"/>
                  </a:lnTo>
                  <a:lnTo>
                    <a:pt x="753" y="585"/>
                  </a:lnTo>
                  <a:lnTo>
                    <a:pt x="777" y="585"/>
                  </a:lnTo>
                  <a:lnTo>
                    <a:pt x="777" y="604"/>
                  </a:lnTo>
                  <a:lnTo>
                    <a:pt x="734" y="622"/>
                  </a:lnTo>
                  <a:lnTo>
                    <a:pt x="691" y="622"/>
                  </a:lnTo>
                  <a:lnTo>
                    <a:pt x="586" y="622"/>
                  </a:lnTo>
                  <a:lnTo>
                    <a:pt x="586" y="640"/>
                  </a:lnTo>
                  <a:lnTo>
                    <a:pt x="567" y="640"/>
                  </a:lnTo>
                  <a:lnTo>
                    <a:pt x="543" y="640"/>
                  </a:lnTo>
                  <a:lnTo>
                    <a:pt x="543" y="640"/>
                  </a:lnTo>
                  <a:lnTo>
                    <a:pt x="605" y="622"/>
                  </a:lnTo>
                  <a:lnTo>
                    <a:pt x="648" y="604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006800" y="4343400"/>
              <a:ext cx="133560" cy="322560"/>
            </a:xfrm>
            <a:custGeom>
              <a:avLst/>
              <a:gdLst/>
              <a:ahLst/>
              <a:rect l="0" t="0" r="r" b="b"/>
              <a:pathLst>
                <a:path w="371" h="896">
                  <a:moveTo>
                    <a:pt x="186" y="22"/>
                  </a:moveTo>
                  <a:lnTo>
                    <a:pt x="165" y="114"/>
                  </a:lnTo>
                  <a:lnTo>
                    <a:pt x="121" y="187"/>
                  </a:lnTo>
                  <a:lnTo>
                    <a:pt x="63" y="397"/>
                  </a:lnTo>
                  <a:lnTo>
                    <a:pt x="0" y="613"/>
                  </a:lnTo>
                  <a:lnTo>
                    <a:pt x="19" y="681"/>
                  </a:lnTo>
                  <a:lnTo>
                    <a:pt x="63" y="731"/>
                  </a:lnTo>
                  <a:lnTo>
                    <a:pt x="102" y="777"/>
                  </a:lnTo>
                  <a:lnTo>
                    <a:pt x="165" y="823"/>
                  </a:lnTo>
                  <a:lnTo>
                    <a:pt x="230" y="850"/>
                  </a:lnTo>
                  <a:lnTo>
                    <a:pt x="269" y="850"/>
                  </a:lnTo>
                  <a:lnTo>
                    <a:pt x="269" y="873"/>
                  </a:lnTo>
                  <a:lnTo>
                    <a:pt x="269" y="896"/>
                  </a:lnTo>
                  <a:lnTo>
                    <a:pt x="230" y="896"/>
                  </a:lnTo>
                  <a:lnTo>
                    <a:pt x="165" y="873"/>
                  </a:lnTo>
                  <a:lnTo>
                    <a:pt x="165" y="658"/>
                  </a:lnTo>
                  <a:lnTo>
                    <a:pt x="146" y="635"/>
                  </a:lnTo>
                  <a:lnTo>
                    <a:pt x="146" y="613"/>
                  </a:lnTo>
                  <a:lnTo>
                    <a:pt x="186" y="590"/>
                  </a:lnTo>
                  <a:lnTo>
                    <a:pt x="249" y="539"/>
                  </a:lnTo>
                  <a:lnTo>
                    <a:pt x="312" y="517"/>
                  </a:lnTo>
                  <a:lnTo>
                    <a:pt x="351" y="517"/>
                  </a:lnTo>
                  <a:lnTo>
                    <a:pt x="371" y="471"/>
                  </a:lnTo>
                  <a:lnTo>
                    <a:pt x="371" y="424"/>
                  </a:lnTo>
                  <a:lnTo>
                    <a:pt x="351" y="397"/>
                  </a:lnTo>
                  <a:lnTo>
                    <a:pt x="288" y="374"/>
                  </a:lnTo>
                  <a:lnTo>
                    <a:pt x="249" y="397"/>
                  </a:lnTo>
                  <a:lnTo>
                    <a:pt x="230" y="447"/>
                  </a:lnTo>
                  <a:lnTo>
                    <a:pt x="186" y="517"/>
                  </a:lnTo>
                  <a:lnTo>
                    <a:pt x="121" y="447"/>
                  </a:lnTo>
                  <a:lnTo>
                    <a:pt x="102" y="424"/>
                  </a:lnTo>
                  <a:lnTo>
                    <a:pt x="146" y="374"/>
                  </a:lnTo>
                  <a:lnTo>
                    <a:pt x="205" y="328"/>
                  </a:lnTo>
                  <a:lnTo>
                    <a:pt x="230" y="306"/>
                  </a:lnTo>
                  <a:lnTo>
                    <a:pt x="249" y="283"/>
                  </a:lnTo>
                  <a:lnTo>
                    <a:pt x="332" y="0"/>
                  </a:lnTo>
                  <a:lnTo>
                    <a:pt x="312" y="45"/>
                  </a:lnTo>
                  <a:lnTo>
                    <a:pt x="249" y="91"/>
                  </a:lnTo>
                  <a:lnTo>
                    <a:pt x="205" y="91"/>
                  </a:lnTo>
                  <a:lnTo>
                    <a:pt x="186" y="68"/>
                  </a:lnTo>
                  <a:lnTo>
                    <a:pt x="186" y="22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375080" y="4705200"/>
              <a:ext cx="105120" cy="235440"/>
            </a:xfrm>
            <a:custGeom>
              <a:avLst/>
              <a:gdLst/>
              <a:ahLst/>
              <a:rect l="0" t="0" r="r" b="b"/>
              <a:pathLst>
                <a:path w="292" h="654">
                  <a:moveTo>
                    <a:pt x="145" y="97"/>
                  </a:moveTo>
                  <a:lnTo>
                    <a:pt x="104" y="169"/>
                  </a:lnTo>
                  <a:lnTo>
                    <a:pt x="81" y="218"/>
                  </a:lnTo>
                  <a:lnTo>
                    <a:pt x="63" y="267"/>
                  </a:lnTo>
                  <a:lnTo>
                    <a:pt x="40" y="338"/>
                  </a:lnTo>
                  <a:lnTo>
                    <a:pt x="22" y="387"/>
                  </a:lnTo>
                  <a:lnTo>
                    <a:pt x="0" y="436"/>
                  </a:lnTo>
                  <a:lnTo>
                    <a:pt x="0" y="436"/>
                  </a:lnTo>
                  <a:lnTo>
                    <a:pt x="40" y="508"/>
                  </a:lnTo>
                  <a:lnTo>
                    <a:pt x="81" y="583"/>
                  </a:lnTo>
                  <a:lnTo>
                    <a:pt x="210" y="654"/>
                  </a:lnTo>
                  <a:lnTo>
                    <a:pt x="169" y="605"/>
                  </a:lnTo>
                  <a:lnTo>
                    <a:pt x="145" y="556"/>
                  </a:lnTo>
                  <a:lnTo>
                    <a:pt x="145" y="534"/>
                  </a:lnTo>
                  <a:lnTo>
                    <a:pt x="187" y="458"/>
                  </a:lnTo>
                  <a:lnTo>
                    <a:pt x="145" y="436"/>
                  </a:lnTo>
                  <a:lnTo>
                    <a:pt x="145" y="387"/>
                  </a:lnTo>
                  <a:lnTo>
                    <a:pt x="169" y="365"/>
                  </a:lnTo>
                  <a:lnTo>
                    <a:pt x="210" y="338"/>
                  </a:lnTo>
                  <a:lnTo>
                    <a:pt x="251" y="289"/>
                  </a:lnTo>
                  <a:lnTo>
                    <a:pt x="292" y="240"/>
                  </a:lnTo>
                  <a:lnTo>
                    <a:pt x="292" y="218"/>
                  </a:lnTo>
                  <a:lnTo>
                    <a:pt x="292" y="169"/>
                  </a:lnTo>
                  <a:lnTo>
                    <a:pt x="273" y="97"/>
                  </a:lnTo>
                  <a:lnTo>
                    <a:pt x="210" y="26"/>
                  </a:lnTo>
                  <a:lnTo>
                    <a:pt x="169" y="0"/>
                  </a:lnTo>
                  <a:lnTo>
                    <a:pt x="169" y="26"/>
                  </a:lnTo>
                  <a:lnTo>
                    <a:pt x="145" y="48"/>
                  </a:lnTo>
                  <a:lnTo>
                    <a:pt x="145" y="97"/>
                  </a:lnTo>
                  <a:lnTo>
                    <a:pt x="145" y="119"/>
                  </a:lnTo>
                  <a:lnTo>
                    <a:pt x="145" y="119"/>
                  </a:lnTo>
                  <a:lnTo>
                    <a:pt x="145" y="97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178160" y="3876840"/>
              <a:ext cx="520920" cy="306720"/>
            </a:xfrm>
            <a:custGeom>
              <a:avLst/>
              <a:gdLst/>
              <a:ahLst/>
              <a:rect l="0" t="0" r="r" b="b"/>
              <a:pathLst>
                <a:path w="1447" h="852">
                  <a:moveTo>
                    <a:pt x="833" y="197"/>
                  </a:moveTo>
                  <a:lnTo>
                    <a:pt x="792" y="389"/>
                  </a:lnTo>
                  <a:lnTo>
                    <a:pt x="746" y="488"/>
                  </a:lnTo>
                  <a:lnTo>
                    <a:pt x="677" y="561"/>
                  </a:lnTo>
                  <a:lnTo>
                    <a:pt x="591" y="535"/>
                  </a:lnTo>
                  <a:lnTo>
                    <a:pt x="550" y="509"/>
                  </a:lnTo>
                  <a:lnTo>
                    <a:pt x="482" y="509"/>
                  </a:lnTo>
                  <a:lnTo>
                    <a:pt x="395" y="535"/>
                  </a:lnTo>
                  <a:lnTo>
                    <a:pt x="309" y="608"/>
                  </a:lnTo>
                  <a:lnTo>
                    <a:pt x="200" y="634"/>
                  </a:lnTo>
                  <a:lnTo>
                    <a:pt x="0" y="732"/>
                  </a:lnTo>
                  <a:lnTo>
                    <a:pt x="0" y="779"/>
                  </a:lnTo>
                  <a:lnTo>
                    <a:pt x="22" y="826"/>
                  </a:lnTo>
                  <a:lnTo>
                    <a:pt x="109" y="852"/>
                  </a:lnTo>
                  <a:lnTo>
                    <a:pt x="218" y="826"/>
                  </a:lnTo>
                  <a:lnTo>
                    <a:pt x="309" y="805"/>
                  </a:lnTo>
                  <a:lnTo>
                    <a:pt x="527" y="732"/>
                  </a:lnTo>
                  <a:lnTo>
                    <a:pt x="724" y="634"/>
                  </a:lnTo>
                  <a:lnTo>
                    <a:pt x="792" y="634"/>
                  </a:lnTo>
                  <a:lnTo>
                    <a:pt x="856" y="660"/>
                  </a:lnTo>
                  <a:lnTo>
                    <a:pt x="919" y="680"/>
                  </a:lnTo>
                  <a:lnTo>
                    <a:pt x="965" y="732"/>
                  </a:lnTo>
                  <a:lnTo>
                    <a:pt x="1051" y="779"/>
                  </a:lnTo>
                  <a:lnTo>
                    <a:pt x="1074" y="732"/>
                  </a:lnTo>
                  <a:lnTo>
                    <a:pt x="1097" y="706"/>
                  </a:lnTo>
                  <a:lnTo>
                    <a:pt x="1142" y="706"/>
                  </a:lnTo>
                  <a:lnTo>
                    <a:pt x="1206" y="706"/>
                  </a:lnTo>
                  <a:lnTo>
                    <a:pt x="1251" y="706"/>
                  </a:lnTo>
                  <a:lnTo>
                    <a:pt x="1292" y="660"/>
                  </a:lnTo>
                  <a:lnTo>
                    <a:pt x="1338" y="561"/>
                  </a:lnTo>
                  <a:lnTo>
                    <a:pt x="1383" y="436"/>
                  </a:lnTo>
                  <a:lnTo>
                    <a:pt x="1424" y="316"/>
                  </a:lnTo>
                  <a:lnTo>
                    <a:pt x="1447" y="269"/>
                  </a:lnTo>
                  <a:lnTo>
                    <a:pt x="1447" y="243"/>
                  </a:lnTo>
                  <a:lnTo>
                    <a:pt x="1383" y="217"/>
                  </a:lnTo>
                  <a:lnTo>
                    <a:pt x="1292" y="197"/>
                  </a:lnTo>
                  <a:lnTo>
                    <a:pt x="1206" y="171"/>
                  </a:lnTo>
                  <a:lnTo>
                    <a:pt x="1160" y="171"/>
                  </a:lnTo>
                  <a:lnTo>
                    <a:pt x="1119" y="145"/>
                  </a:lnTo>
                  <a:lnTo>
                    <a:pt x="1051" y="124"/>
                  </a:lnTo>
                  <a:lnTo>
                    <a:pt x="1051" y="72"/>
                  </a:lnTo>
                  <a:lnTo>
                    <a:pt x="1033" y="25"/>
                  </a:lnTo>
                  <a:lnTo>
                    <a:pt x="942" y="0"/>
                  </a:lnTo>
                  <a:lnTo>
                    <a:pt x="833" y="0"/>
                  </a:lnTo>
                  <a:lnTo>
                    <a:pt x="746" y="0"/>
                  </a:lnTo>
                  <a:lnTo>
                    <a:pt x="769" y="51"/>
                  </a:lnTo>
                  <a:lnTo>
                    <a:pt x="769" y="72"/>
                  </a:lnTo>
                  <a:lnTo>
                    <a:pt x="833" y="197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209680" y="6126120"/>
            <a:ext cx="1219680" cy="228960"/>
            <a:chOff x="2209680" y="6126120"/>
            <a:chExt cx="1219680" cy="228960"/>
          </a:xfrm>
        </p:grpSpPr>
        <p:sp>
          <p:nvSpPr>
            <p:cNvPr id="635" name=""/>
            <p:cNvSpPr/>
            <p:nvPr/>
          </p:nvSpPr>
          <p:spPr>
            <a:xfrm>
              <a:off x="2209680" y="6153120"/>
              <a:ext cx="1219680" cy="171720"/>
            </a:xfrm>
            <a:custGeom>
              <a:avLst/>
              <a:gdLst/>
              <a:ahLst/>
              <a:rect l="0" t="0" r="r" b="b"/>
              <a:pathLst>
                <a:path w="3388" h="477">
                  <a:moveTo>
                    <a:pt x="1493" y="84"/>
                  </a:moveTo>
                  <a:lnTo>
                    <a:pt x="3388" y="328"/>
                  </a:lnTo>
                  <a:lnTo>
                    <a:pt x="3229" y="412"/>
                  </a:lnTo>
                  <a:lnTo>
                    <a:pt x="2938" y="477"/>
                  </a:lnTo>
                  <a:lnTo>
                    <a:pt x="2239" y="457"/>
                  </a:lnTo>
                  <a:lnTo>
                    <a:pt x="1162" y="351"/>
                  </a:lnTo>
                  <a:lnTo>
                    <a:pt x="777" y="286"/>
                  </a:lnTo>
                  <a:lnTo>
                    <a:pt x="0" y="184"/>
                  </a:lnTo>
                  <a:lnTo>
                    <a:pt x="30" y="0"/>
                  </a:lnTo>
                  <a:lnTo>
                    <a:pt x="972" y="103"/>
                  </a:lnTo>
                  <a:lnTo>
                    <a:pt x="1188" y="182"/>
                  </a:lnTo>
                  <a:lnTo>
                    <a:pt x="1400" y="210"/>
                  </a:lnTo>
                  <a:lnTo>
                    <a:pt x="1493" y="84"/>
                  </a:lnTo>
                  <a:close/>
                </a:path>
              </a:pathLst>
            </a:custGeom>
            <a:blipFill rotWithShape="0">
              <a:blip r:embed="rId1"/>
              <a:tile tx="0" ty="0" sx="3528125" sy="3528125" algn="ctr"/>
            </a:blip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717640" y="6221520"/>
              <a:ext cx="695520" cy="133560"/>
            </a:xfrm>
            <a:custGeom>
              <a:avLst/>
              <a:gdLst/>
              <a:ahLst/>
              <a:rect l="0" t="0" r="r" b="b"/>
              <a:pathLst>
                <a:path w="1932" h="371">
                  <a:moveTo>
                    <a:pt x="34" y="12"/>
                  </a:moveTo>
                  <a:lnTo>
                    <a:pt x="225" y="0"/>
                  </a:lnTo>
                  <a:lnTo>
                    <a:pt x="381" y="133"/>
                  </a:lnTo>
                  <a:lnTo>
                    <a:pt x="658" y="83"/>
                  </a:lnTo>
                  <a:lnTo>
                    <a:pt x="1040" y="158"/>
                  </a:lnTo>
                  <a:lnTo>
                    <a:pt x="1243" y="200"/>
                  </a:lnTo>
                  <a:lnTo>
                    <a:pt x="1503" y="225"/>
                  </a:lnTo>
                  <a:lnTo>
                    <a:pt x="1932" y="204"/>
                  </a:lnTo>
                  <a:lnTo>
                    <a:pt x="1512" y="304"/>
                  </a:lnTo>
                  <a:lnTo>
                    <a:pt x="1209" y="371"/>
                  </a:lnTo>
                  <a:lnTo>
                    <a:pt x="692" y="296"/>
                  </a:lnTo>
                  <a:lnTo>
                    <a:pt x="407" y="267"/>
                  </a:lnTo>
                  <a:lnTo>
                    <a:pt x="0" y="188"/>
                  </a:lnTo>
                  <a:lnTo>
                    <a:pt x="34" y="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230560" y="6126120"/>
              <a:ext cx="495720" cy="124200"/>
            </a:xfrm>
            <a:custGeom>
              <a:avLst/>
              <a:gdLst/>
              <a:ahLst/>
              <a:rect l="0" t="0" r="r" b="b"/>
              <a:pathLst>
                <a:path w="1377" h="345">
                  <a:moveTo>
                    <a:pt x="1364" y="345"/>
                  </a:moveTo>
                  <a:lnTo>
                    <a:pt x="1377" y="230"/>
                  </a:lnTo>
                  <a:lnTo>
                    <a:pt x="1036" y="88"/>
                  </a:lnTo>
                  <a:lnTo>
                    <a:pt x="44" y="0"/>
                  </a:lnTo>
                  <a:lnTo>
                    <a:pt x="0" y="142"/>
                  </a:lnTo>
                  <a:lnTo>
                    <a:pt x="1364" y="345"/>
                  </a:lnTo>
                  <a:close/>
                </a:path>
              </a:pathLst>
            </a:custGeom>
            <a:solidFill>
              <a:srgbClr val="9933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4500720" y="2768760"/>
            <a:ext cx="1203120" cy="957240"/>
            <a:chOff x="4500720" y="2768760"/>
            <a:chExt cx="1203120" cy="957240"/>
          </a:xfrm>
        </p:grpSpPr>
        <p:sp>
          <p:nvSpPr>
            <p:cNvPr id="639" name=""/>
            <p:cNvSpPr/>
            <p:nvPr/>
          </p:nvSpPr>
          <p:spPr>
            <a:xfrm>
              <a:off x="5413320" y="3422880"/>
              <a:ext cx="290520" cy="303120"/>
            </a:xfrm>
            <a:custGeom>
              <a:avLst/>
              <a:gdLst/>
              <a:ahLst/>
              <a:rect l="0" t="0" r="r" b="b"/>
              <a:pathLst>
                <a:path w="807" h="842">
                  <a:moveTo>
                    <a:pt x="259" y="820"/>
                  </a:moveTo>
                  <a:lnTo>
                    <a:pt x="259" y="820"/>
                  </a:lnTo>
                  <a:cubicBezTo>
                    <a:pt x="325" y="844"/>
                    <a:pt x="396" y="849"/>
                    <a:pt x="466" y="835"/>
                  </a:cubicBezTo>
                  <a:cubicBezTo>
                    <a:pt x="536" y="821"/>
                    <a:pt x="602" y="788"/>
                    <a:pt x="657" y="739"/>
                  </a:cubicBezTo>
                  <a:cubicBezTo>
                    <a:pt x="712" y="691"/>
                    <a:pt x="754" y="628"/>
                    <a:pt x="780" y="558"/>
                  </a:cubicBezTo>
                  <a:cubicBezTo>
                    <a:pt x="805" y="488"/>
                    <a:pt x="813" y="413"/>
                    <a:pt x="802" y="341"/>
                  </a:cubicBezTo>
                  <a:cubicBezTo>
                    <a:pt x="791" y="268"/>
                    <a:pt x="762" y="201"/>
                    <a:pt x="717" y="145"/>
                  </a:cubicBezTo>
                  <a:cubicBezTo>
                    <a:pt x="673" y="89"/>
                    <a:pt x="615" y="47"/>
                    <a:pt x="549" y="23"/>
                  </a:cubicBezTo>
                  <a:lnTo>
                    <a:pt x="548" y="23"/>
                  </a:lnTo>
                  <a:lnTo>
                    <a:pt x="548" y="23"/>
                  </a:lnTo>
                  <a:cubicBezTo>
                    <a:pt x="482" y="-1"/>
                    <a:pt x="411" y="-6"/>
                    <a:pt x="341" y="8"/>
                  </a:cubicBezTo>
                  <a:cubicBezTo>
                    <a:pt x="271" y="22"/>
                    <a:pt x="205" y="55"/>
                    <a:pt x="150" y="104"/>
                  </a:cubicBezTo>
                  <a:cubicBezTo>
                    <a:pt x="95" y="152"/>
                    <a:pt x="53" y="215"/>
                    <a:pt x="27" y="285"/>
                  </a:cubicBezTo>
                  <a:cubicBezTo>
                    <a:pt x="2" y="355"/>
                    <a:pt x="-6" y="430"/>
                    <a:pt x="5" y="502"/>
                  </a:cubicBezTo>
                  <a:cubicBezTo>
                    <a:pt x="16" y="575"/>
                    <a:pt x="45" y="642"/>
                    <a:pt x="90" y="698"/>
                  </a:cubicBezTo>
                  <a:cubicBezTo>
                    <a:pt x="134" y="754"/>
                    <a:pt x="192" y="796"/>
                    <a:pt x="258" y="820"/>
                  </a:cubicBezTo>
                  <a:lnTo>
                    <a:pt x="259" y="82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500720" y="2768760"/>
              <a:ext cx="946440" cy="952920"/>
            </a:xfrm>
            <a:custGeom>
              <a:avLst/>
              <a:gdLst/>
              <a:ahLst/>
              <a:rect l="0" t="0" r="r" b="b"/>
              <a:pathLst>
                <a:path w="2629" h="2647">
                  <a:moveTo>
                    <a:pt x="410" y="0"/>
                  </a:moveTo>
                  <a:lnTo>
                    <a:pt x="630" y="198"/>
                  </a:lnTo>
                  <a:lnTo>
                    <a:pt x="890" y="1032"/>
                  </a:lnTo>
                  <a:lnTo>
                    <a:pt x="1133" y="1654"/>
                  </a:lnTo>
                  <a:lnTo>
                    <a:pt x="2629" y="1786"/>
                  </a:lnTo>
                  <a:lnTo>
                    <a:pt x="2461" y="2647"/>
                  </a:lnTo>
                  <a:lnTo>
                    <a:pt x="533" y="2325"/>
                  </a:lnTo>
                  <a:lnTo>
                    <a:pt x="22" y="657"/>
                  </a:lnTo>
                  <a:lnTo>
                    <a:pt x="0" y="233"/>
                  </a:lnTo>
                  <a:lnTo>
                    <a:pt x="194" y="8"/>
                  </a:lnTo>
                  <a:lnTo>
                    <a:pt x="41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2832120" y="3478320"/>
            <a:ext cx="3099240" cy="2922840"/>
          </a:xfrm>
          <a:custGeom>
            <a:avLst/>
            <a:gdLst/>
            <a:ahLst/>
            <a:rect l="0" t="0" r="r" b="b"/>
            <a:pathLst>
              <a:path w="8609" h="8119">
                <a:moveTo>
                  <a:pt x="3775" y="379"/>
                </a:moveTo>
                <a:lnTo>
                  <a:pt x="3916" y="496"/>
                </a:lnTo>
                <a:lnTo>
                  <a:pt x="3916" y="613"/>
                </a:lnTo>
                <a:lnTo>
                  <a:pt x="3846" y="700"/>
                </a:lnTo>
                <a:lnTo>
                  <a:pt x="3775" y="788"/>
                </a:lnTo>
                <a:lnTo>
                  <a:pt x="3669" y="759"/>
                </a:lnTo>
                <a:lnTo>
                  <a:pt x="3564" y="671"/>
                </a:lnTo>
                <a:lnTo>
                  <a:pt x="3458" y="642"/>
                </a:lnTo>
                <a:lnTo>
                  <a:pt x="3352" y="613"/>
                </a:lnTo>
                <a:lnTo>
                  <a:pt x="3211" y="584"/>
                </a:lnTo>
                <a:lnTo>
                  <a:pt x="3070" y="584"/>
                </a:lnTo>
                <a:lnTo>
                  <a:pt x="2823" y="584"/>
                </a:lnTo>
                <a:lnTo>
                  <a:pt x="2717" y="584"/>
                </a:lnTo>
                <a:lnTo>
                  <a:pt x="2611" y="496"/>
                </a:lnTo>
                <a:lnTo>
                  <a:pt x="2505" y="467"/>
                </a:lnTo>
                <a:lnTo>
                  <a:pt x="2399" y="467"/>
                </a:lnTo>
                <a:lnTo>
                  <a:pt x="2151" y="467"/>
                </a:lnTo>
                <a:lnTo>
                  <a:pt x="2010" y="467"/>
                </a:lnTo>
                <a:lnTo>
                  <a:pt x="1728" y="467"/>
                </a:lnTo>
                <a:lnTo>
                  <a:pt x="1622" y="496"/>
                </a:lnTo>
                <a:lnTo>
                  <a:pt x="1516" y="525"/>
                </a:lnTo>
                <a:lnTo>
                  <a:pt x="1375" y="525"/>
                </a:lnTo>
                <a:lnTo>
                  <a:pt x="1270" y="496"/>
                </a:lnTo>
                <a:lnTo>
                  <a:pt x="1164" y="467"/>
                </a:lnTo>
                <a:lnTo>
                  <a:pt x="1058" y="467"/>
                </a:lnTo>
                <a:lnTo>
                  <a:pt x="811" y="467"/>
                </a:lnTo>
                <a:lnTo>
                  <a:pt x="599" y="467"/>
                </a:lnTo>
                <a:lnTo>
                  <a:pt x="529" y="554"/>
                </a:lnTo>
                <a:lnTo>
                  <a:pt x="529" y="642"/>
                </a:lnTo>
                <a:lnTo>
                  <a:pt x="564" y="730"/>
                </a:lnTo>
                <a:lnTo>
                  <a:pt x="670" y="817"/>
                </a:lnTo>
                <a:lnTo>
                  <a:pt x="670" y="905"/>
                </a:lnTo>
                <a:lnTo>
                  <a:pt x="670" y="992"/>
                </a:lnTo>
                <a:lnTo>
                  <a:pt x="635" y="1080"/>
                </a:lnTo>
                <a:lnTo>
                  <a:pt x="635" y="1197"/>
                </a:lnTo>
                <a:lnTo>
                  <a:pt x="635" y="1314"/>
                </a:lnTo>
                <a:lnTo>
                  <a:pt x="635" y="1401"/>
                </a:lnTo>
                <a:lnTo>
                  <a:pt x="635" y="1489"/>
                </a:lnTo>
                <a:lnTo>
                  <a:pt x="670" y="1606"/>
                </a:lnTo>
                <a:lnTo>
                  <a:pt x="705" y="1839"/>
                </a:lnTo>
                <a:lnTo>
                  <a:pt x="740" y="1956"/>
                </a:lnTo>
                <a:lnTo>
                  <a:pt x="740" y="2073"/>
                </a:lnTo>
                <a:lnTo>
                  <a:pt x="740" y="2160"/>
                </a:lnTo>
                <a:lnTo>
                  <a:pt x="740" y="2277"/>
                </a:lnTo>
                <a:lnTo>
                  <a:pt x="705" y="2453"/>
                </a:lnTo>
                <a:lnTo>
                  <a:pt x="705" y="2569"/>
                </a:lnTo>
                <a:lnTo>
                  <a:pt x="670" y="2657"/>
                </a:lnTo>
                <a:lnTo>
                  <a:pt x="635" y="2745"/>
                </a:lnTo>
                <a:lnTo>
                  <a:pt x="599" y="2920"/>
                </a:lnTo>
                <a:lnTo>
                  <a:pt x="529" y="3212"/>
                </a:lnTo>
                <a:lnTo>
                  <a:pt x="458" y="3445"/>
                </a:lnTo>
                <a:lnTo>
                  <a:pt x="423" y="3533"/>
                </a:lnTo>
                <a:lnTo>
                  <a:pt x="458" y="3708"/>
                </a:lnTo>
                <a:lnTo>
                  <a:pt x="493" y="3883"/>
                </a:lnTo>
                <a:lnTo>
                  <a:pt x="529" y="4060"/>
                </a:lnTo>
                <a:lnTo>
                  <a:pt x="599" y="4147"/>
                </a:lnTo>
                <a:lnTo>
                  <a:pt x="670" y="4264"/>
                </a:lnTo>
                <a:lnTo>
                  <a:pt x="776" y="4352"/>
                </a:lnTo>
                <a:lnTo>
                  <a:pt x="811" y="4439"/>
                </a:lnTo>
                <a:lnTo>
                  <a:pt x="846" y="4527"/>
                </a:lnTo>
                <a:lnTo>
                  <a:pt x="881" y="4614"/>
                </a:lnTo>
                <a:lnTo>
                  <a:pt x="952" y="4731"/>
                </a:lnTo>
                <a:lnTo>
                  <a:pt x="987" y="4819"/>
                </a:lnTo>
                <a:lnTo>
                  <a:pt x="1058" y="4936"/>
                </a:lnTo>
                <a:lnTo>
                  <a:pt x="1093" y="5023"/>
                </a:lnTo>
                <a:lnTo>
                  <a:pt x="1128" y="5140"/>
                </a:lnTo>
                <a:lnTo>
                  <a:pt x="1128" y="5315"/>
                </a:lnTo>
                <a:lnTo>
                  <a:pt x="1164" y="5403"/>
                </a:lnTo>
                <a:lnTo>
                  <a:pt x="1199" y="5520"/>
                </a:lnTo>
                <a:lnTo>
                  <a:pt x="1234" y="5637"/>
                </a:lnTo>
                <a:lnTo>
                  <a:pt x="1270" y="5724"/>
                </a:lnTo>
                <a:lnTo>
                  <a:pt x="1305" y="5812"/>
                </a:lnTo>
                <a:lnTo>
                  <a:pt x="1340" y="5929"/>
                </a:lnTo>
                <a:lnTo>
                  <a:pt x="1411" y="6162"/>
                </a:lnTo>
                <a:lnTo>
                  <a:pt x="1516" y="6279"/>
                </a:lnTo>
                <a:lnTo>
                  <a:pt x="1622" y="6367"/>
                </a:lnTo>
                <a:lnTo>
                  <a:pt x="1728" y="6454"/>
                </a:lnTo>
                <a:lnTo>
                  <a:pt x="1799" y="6542"/>
                </a:lnTo>
                <a:lnTo>
                  <a:pt x="1905" y="6629"/>
                </a:lnTo>
                <a:lnTo>
                  <a:pt x="1975" y="6746"/>
                </a:lnTo>
                <a:lnTo>
                  <a:pt x="2046" y="6834"/>
                </a:lnTo>
                <a:lnTo>
                  <a:pt x="2116" y="6921"/>
                </a:lnTo>
                <a:lnTo>
                  <a:pt x="2223" y="7038"/>
                </a:lnTo>
                <a:lnTo>
                  <a:pt x="2364" y="7155"/>
                </a:lnTo>
                <a:lnTo>
                  <a:pt x="2470" y="7214"/>
                </a:lnTo>
                <a:lnTo>
                  <a:pt x="2576" y="7301"/>
                </a:lnTo>
                <a:lnTo>
                  <a:pt x="2682" y="7360"/>
                </a:lnTo>
                <a:lnTo>
                  <a:pt x="2787" y="7418"/>
                </a:lnTo>
                <a:lnTo>
                  <a:pt x="2893" y="7476"/>
                </a:lnTo>
                <a:lnTo>
                  <a:pt x="2999" y="7535"/>
                </a:lnTo>
                <a:lnTo>
                  <a:pt x="3105" y="7564"/>
                </a:lnTo>
                <a:lnTo>
                  <a:pt x="3246" y="7593"/>
                </a:lnTo>
                <a:lnTo>
                  <a:pt x="3352" y="7622"/>
                </a:lnTo>
                <a:lnTo>
                  <a:pt x="3458" y="7622"/>
                </a:lnTo>
                <a:lnTo>
                  <a:pt x="3564" y="7652"/>
                </a:lnTo>
                <a:lnTo>
                  <a:pt x="3669" y="7681"/>
                </a:lnTo>
                <a:lnTo>
                  <a:pt x="3775" y="7681"/>
                </a:lnTo>
                <a:lnTo>
                  <a:pt x="3881" y="7681"/>
                </a:lnTo>
                <a:lnTo>
                  <a:pt x="3987" y="7681"/>
                </a:lnTo>
                <a:lnTo>
                  <a:pt x="4128" y="7652"/>
                </a:lnTo>
                <a:lnTo>
                  <a:pt x="4410" y="7652"/>
                </a:lnTo>
                <a:lnTo>
                  <a:pt x="4763" y="7622"/>
                </a:lnTo>
                <a:lnTo>
                  <a:pt x="5045" y="7593"/>
                </a:lnTo>
                <a:lnTo>
                  <a:pt x="5151" y="7593"/>
                </a:lnTo>
                <a:lnTo>
                  <a:pt x="5433" y="7564"/>
                </a:lnTo>
                <a:lnTo>
                  <a:pt x="5539" y="7535"/>
                </a:lnTo>
                <a:lnTo>
                  <a:pt x="5680" y="7476"/>
                </a:lnTo>
                <a:lnTo>
                  <a:pt x="5786" y="7447"/>
                </a:lnTo>
                <a:lnTo>
                  <a:pt x="6068" y="7360"/>
                </a:lnTo>
                <a:lnTo>
                  <a:pt x="6209" y="7272"/>
                </a:lnTo>
                <a:lnTo>
                  <a:pt x="6315" y="7155"/>
                </a:lnTo>
                <a:lnTo>
                  <a:pt x="6421" y="7038"/>
                </a:lnTo>
                <a:lnTo>
                  <a:pt x="6563" y="6921"/>
                </a:lnTo>
                <a:lnTo>
                  <a:pt x="6669" y="6834"/>
                </a:lnTo>
                <a:lnTo>
                  <a:pt x="6775" y="6746"/>
                </a:lnTo>
                <a:lnTo>
                  <a:pt x="6916" y="6629"/>
                </a:lnTo>
                <a:lnTo>
                  <a:pt x="7128" y="6571"/>
                </a:lnTo>
                <a:lnTo>
                  <a:pt x="7233" y="6483"/>
                </a:lnTo>
                <a:lnTo>
                  <a:pt x="7375" y="6396"/>
                </a:lnTo>
                <a:lnTo>
                  <a:pt x="7480" y="6337"/>
                </a:lnTo>
                <a:lnTo>
                  <a:pt x="7586" y="6221"/>
                </a:lnTo>
                <a:lnTo>
                  <a:pt x="7692" y="6133"/>
                </a:lnTo>
                <a:lnTo>
                  <a:pt x="7798" y="6016"/>
                </a:lnTo>
                <a:lnTo>
                  <a:pt x="7868" y="5929"/>
                </a:lnTo>
                <a:lnTo>
                  <a:pt x="7904" y="5841"/>
                </a:lnTo>
                <a:lnTo>
                  <a:pt x="7939" y="5724"/>
                </a:lnTo>
                <a:lnTo>
                  <a:pt x="7939" y="5637"/>
                </a:lnTo>
                <a:lnTo>
                  <a:pt x="7974" y="5520"/>
                </a:lnTo>
                <a:lnTo>
                  <a:pt x="7974" y="5345"/>
                </a:lnTo>
                <a:lnTo>
                  <a:pt x="8010" y="5228"/>
                </a:lnTo>
                <a:lnTo>
                  <a:pt x="8045" y="5111"/>
                </a:lnTo>
                <a:lnTo>
                  <a:pt x="8045" y="4907"/>
                </a:lnTo>
                <a:lnTo>
                  <a:pt x="8045" y="4819"/>
                </a:lnTo>
                <a:lnTo>
                  <a:pt x="8080" y="4731"/>
                </a:lnTo>
                <a:lnTo>
                  <a:pt x="8080" y="4614"/>
                </a:lnTo>
                <a:lnTo>
                  <a:pt x="8080" y="4498"/>
                </a:lnTo>
                <a:lnTo>
                  <a:pt x="8080" y="4264"/>
                </a:lnTo>
                <a:lnTo>
                  <a:pt x="8080" y="4089"/>
                </a:lnTo>
                <a:lnTo>
                  <a:pt x="8045" y="3854"/>
                </a:lnTo>
                <a:lnTo>
                  <a:pt x="8045" y="3679"/>
                </a:lnTo>
                <a:lnTo>
                  <a:pt x="8010" y="3562"/>
                </a:lnTo>
                <a:lnTo>
                  <a:pt x="7974" y="3475"/>
                </a:lnTo>
                <a:lnTo>
                  <a:pt x="7939" y="3358"/>
                </a:lnTo>
                <a:lnTo>
                  <a:pt x="7904" y="3270"/>
                </a:lnTo>
                <a:lnTo>
                  <a:pt x="7868" y="3153"/>
                </a:lnTo>
                <a:lnTo>
                  <a:pt x="7833" y="3066"/>
                </a:lnTo>
                <a:lnTo>
                  <a:pt x="7833" y="2949"/>
                </a:lnTo>
                <a:lnTo>
                  <a:pt x="7798" y="2715"/>
                </a:lnTo>
                <a:lnTo>
                  <a:pt x="7763" y="2628"/>
                </a:lnTo>
                <a:lnTo>
                  <a:pt x="7763" y="2540"/>
                </a:lnTo>
                <a:lnTo>
                  <a:pt x="7763" y="2453"/>
                </a:lnTo>
                <a:lnTo>
                  <a:pt x="7763" y="2365"/>
                </a:lnTo>
                <a:lnTo>
                  <a:pt x="7763" y="2277"/>
                </a:lnTo>
                <a:lnTo>
                  <a:pt x="7763" y="2190"/>
                </a:lnTo>
                <a:lnTo>
                  <a:pt x="7763" y="2102"/>
                </a:lnTo>
                <a:lnTo>
                  <a:pt x="7763" y="2014"/>
                </a:lnTo>
                <a:lnTo>
                  <a:pt x="7763" y="1927"/>
                </a:lnTo>
                <a:lnTo>
                  <a:pt x="7763" y="1839"/>
                </a:lnTo>
                <a:lnTo>
                  <a:pt x="7763" y="1752"/>
                </a:lnTo>
                <a:lnTo>
                  <a:pt x="7727" y="1664"/>
                </a:lnTo>
                <a:lnTo>
                  <a:pt x="7692" y="1547"/>
                </a:lnTo>
                <a:lnTo>
                  <a:pt x="7657" y="1430"/>
                </a:lnTo>
                <a:lnTo>
                  <a:pt x="7622" y="1343"/>
                </a:lnTo>
                <a:lnTo>
                  <a:pt x="7551" y="1255"/>
                </a:lnTo>
                <a:lnTo>
                  <a:pt x="7375" y="708"/>
                </a:lnTo>
                <a:lnTo>
                  <a:pt x="7586" y="708"/>
                </a:lnTo>
                <a:lnTo>
                  <a:pt x="7679" y="657"/>
                </a:lnTo>
                <a:lnTo>
                  <a:pt x="7877" y="445"/>
                </a:lnTo>
                <a:lnTo>
                  <a:pt x="8010" y="708"/>
                </a:lnTo>
                <a:lnTo>
                  <a:pt x="8045" y="1080"/>
                </a:lnTo>
                <a:lnTo>
                  <a:pt x="8045" y="1168"/>
                </a:lnTo>
                <a:lnTo>
                  <a:pt x="8045" y="1284"/>
                </a:lnTo>
                <a:lnTo>
                  <a:pt x="8080" y="1372"/>
                </a:lnTo>
                <a:lnTo>
                  <a:pt x="8186" y="1430"/>
                </a:lnTo>
                <a:lnTo>
                  <a:pt x="8221" y="1518"/>
                </a:lnTo>
                <a:lnTo>
                  <a:pt x="8327" y="1635"/>
                </a:lnTo>
                <a:lnTo>
                  <a:pt x="8327" y="1722"/>
                </a:lnTo>
                <a:lnTo>
                  <a:pt x="8327" y="1810"/>
                </a:lnTo>
                <a:lnTo>
                  <a:pt x="8292" y="1927"/>
                </a:lnTo>
                <a:lnTo>
                  <a:pt x="8221" y="2044"/>
                </a:lnTo>
                <a:lnTo>
                  <a:pt x="8186" y="2131"/>
                </a:lnTo>
                <a:lnTo>
                  <a:pt x="8186" y="2306"/>
                </a:lnTo>
                <a:lnTo>
                  <a:pt x="8151" y="2394"/>
                </a:lnTo>
                <a:lnTo>
                  <a:pt x="8151" y="2511"/>
                </a:lnTo>
                <a:lnTo>
                  <a:pt x="8186" y="2599"/>
                </a:lnTo>
                <a:lnTo>
                  <a:pt x="8221" y="2686"/>
                </a:lnTo>
                <a:lnTo>
                  <a:pt x="8327" y="2803"/>
                </a:lnTo>
                <a:lnTo>
                  <a:pt x="8433" y="2891"/>
                </a:lnTo>
                <a:lnTo>
                  <a:pt x="8468" y="2978"/>
                </a:lnTo>
                <a:lnTo>
                  <a:pt x="8539" y="3066"/>
                </a:lnTo>
                <a:lnTo>
                  <a:pt x="8574" y="3153"/>
                </a:lnTo>
                <a:lnTo>
                  <a:pt x="8574" y="3241"/>
                </a:lnTo>
                <a:lnTo>
                  <a:pt x="8574" y="3329"/>
                </a:lnTo>
                <a:lnTo>
                  <a:pt x="8539" y="3504"/>
                </a:lnTo>
                <a:lnTo>
                  <a:pt x="8539" y="3679"/>
                </a:lnTo>
                <a:lnTo>
                  <a:pt x="8503" y="3854"/>
                </a:lnTo>
                <a:lnTo>
                  <a:pt x="8503" y="3942"/>
                </a:lnTo>
                <a:lnTo>
                  <a:pt x="8539" y="4029"/>
                </a:lnTo>
                <a:lnTo>
                  <a:pt x="8574" y="4147"/>
                </a:lnTo>
                <a:lnTo>
                  <a:pt x="8609" y="4264"/>
                </a:lnTo>
                <a:lnTo>
                  <a:pt x="8609" y="4352"/>
                </a:lnTo>
                <a:lnTo>
                  <a:pt x="8609" y="4468"/>
                </a:lnTo>
                <a:lnTo>
                  <a:pt x="8609" y="4702"/>
                </a:lnTo>
                <a:lnTo>
                  <a:pt x="8609" y="4877"/>
                </a:lnTo>
                <a:lnTo>
                  <a:pt x="8609" y="4965"/>
                </a:lnTo>
                <a:lnTo>
                  <a:pt x="8609" y="5053"/>
                </a:lnTo>
                <a:lnTo>
                  <a:pt x="8609" y="5140"/>
                </a:lnTo>
                <a:lnTo>
                  <a:pt x="8609" y="5345"/>
                </a:lnTo>
                <a:lnTo>
                  <a:pt x="8609" y="5520"/>
                </a:lnTo>
                <a:lnTo>
                  <a:pt x="8574" y="5753"/>
                </a:lnTo>
                <a:lnTo>
                  <a:pt x="8362" y="6045"/>
                </a:lnTo>
                <a:lnTo>
                  <a:pt x="8292" y="6337"/>
                </a:lnTo>
                <a:lnTo>
                  <a:pt x="8221" y="6571"/>
                </a:lnTo>
                <a:lnTo>
                  <a:pt x="8115" y="6542"/>
                </a:lnTo>
                <a:lnTo>
                  <a:pt x="7833" y="6571"/>
                </a:lnTo>
                <a:lnTo>
                  <a:pt x="7727" y="6629"/>
                </a:lnTo>
                <a:lnTo>
                  <a:pt x="7692" y="6805"/>
                </a:lnTo>
                <a:lnTo>
                  <a:pt x="7480" y="6863"/>
                </a:lnTo>
                <a:lnTo>
                  <a:pt x="7445" y="6951"/>
                </a:lnTo>
                <a:lnTo>
                  <a:pt x="7163" y="7038"/>
                </a:lnTo>
                <a:lnTo>
                  <a:pt x="7128" y="7126"/>
                </a:lnTo>
                <a:lnTo>
                  <a:pt x="6881" y="7214"/>
                </a:lnTo>
                <a:lnTo>
                  <a:pt x="6845" y="7301"/>
                </a:lnTo>
                <a:lnTo>
                  <a:pt x="6775" y="7389"/>
                </a:lnTo>
                <a:lnTo>
                  <a:pt x="6669" y="7476"/>
                </a:lnTo>
                <a:lnTo>
                  <a:pt x="6598" y="7593"/>
                </a:lnTo>
                <a:lnTo>
                  <a:pt x="6386" y="7622"/>
                </a:lnTo>
                <a:lnTo>
                  <a:pt x="6280" y="7710"/>
                </a:lnTo>
                <a:lnTo>
                  <a:pt x="6139" y="7768"/>
                </a:lnTo>
                <a:lnTo>
                  <a:pt x="5927" y="7827"/>
                </a:lnTo>
                <a:lnTo>
                  <a:pt x="5574" y="7885"/>
                </a:lnTo>
                <a:lnTo>
                  <a:pt x="5292" y="7944"/>
                </a:lnTo>
                <a:lnTo>
                  <a:pt x="5081" y="7944"/>
                </a:lnTo>
                <a:lnTo>
                  <a:pt x="4975" y="7944"/>
                </a:lnTo>
                <a:lnTo>
                  <a:pt x="4728" y="8060"/>
                </a:lnTo>
                <a:lnTo>
                  <a:pt x="4587" y="8090"/>
                </a:lnTo>
                <a:lnTo>
                  <a:pt x="4304" y="8119"/>
                </a:lnTo>
                <a:lnTo>
                  <a:pt x="4093" y="8119"/>
                </a:lnTo>
                <a:lnTo>
                  <a:pt x="3987" y="8090"/>
                </a:lnTo>
                <a:lnTo>
                  <a:pt x="3775" y="8031"/>
                </a:lnTo>
                <a:lnTo>
                  <a:pt x="3634" y="7973"/>
                </a:lnTo>
                <a:lnTo>
                  <a:pt x="3493" y="7914"/>
                </a:lnTo>
                <a:lnTo>
                  <a:pt x="3140" y="7914"/>
                </a:lnTo>
                <a:lnTo>
                  <a:pt x="2929" y="7914"/>
                </a:lnTo>
                <a:lnTo>
                  <a:pt x="2787" y="7885"/>
                </a:lnTo>
                <a:lnTo>
                  <a:pt x="2646" y="7856"/>
                </a:lnTo>
                <a:lnTo>
                  <a:pt x="2541" y="7798"/>
                </a:lnTo>
                <a:lnTo>
                  <a:pt x="2399" y="7710"/>
                </a:lnTo>
                <a:lnTo>
                  <a:pt x="2294" y="7652"/>
                </a:lnTo>
                <a:lnTo>
                  <a:pt x="2223" y="7564"/>
                </a:lnTo>
                <a:lnTo>
                  <a:pt x="2116" y="7476"/>
                </a:lnTo>
                <a:lnTo>
                  <a:pt x="2046" y="7301"/>
                </a:lnTo>
                <a:lnTo>
                  <a:pt x="1975" y="7214"/>
                </a:lnTo>
                <a:lnTo>
                  <a:pt x="1905" y="7126"/>
                </a:lnTo>
                <a:lnTo>
                  <a:pt x="1799" y="7038"/>
                </a:lnTo>
                <a:lnTo>
                  <a:pt x="1693" y="6980"/>
                </a:lnTo>
                <a:lnTo>
                  <a:pt x="1446" y="6921"/>
                </a:lnTo>
                <a:lnTo>
                  <a:pt x="1164" y="6805"/>
                </a:lnTo>
                <a:lnTo>
                  <a:pt x="1058" y="6717"/>
                </a:lnTo>
                <a:lnTo>
                  <a:pt x="987" y="6483"/>
                </a:lnTo>
                <a:lnTo>
                  <a:pt x="952" y="6396"/>
                </a:lnTo>
                <a:lnTo>
                  <a:pt x="917" y="6308"/>
                </a:lnTo>
                <a:lnTo>
                  <a:pt x="881" y="6221"/>
                </a:lnTo>
                <a:lnTo>
                  <a:pt x="846" y="6104"/>
                </a:lnTo>
                <a:lnTo>
                  <a:pt x="846" y="6016"/>
                </a:lnTo>
                <a:lnTo>
                  <a:pt x="846" y="5929"/>
                </a:lnTo>
                <a:lnTo>
                  <a:pt x="846" y="5841"/>
                </a:lnTo>
                <a:lnTo>
                  <a:pt x="811" y="5753"/>
                </a:lnTo>
                <a:lnTo>
                  <a:pt x="776" y="5666"/>
                </a:lnTo>
                <a:lnTo>
                  <a:pt x="705" y="5578"/>
                </a:lnTo>
                <a:lnTo>
                  <a:pt x="670" y="5491"/>
                </a:lnTo>
                <a:lnTo>
                  <a:pt x="635" y="5403"/>
                </a:lnTo>
                <a:lnTo>
                  <a:pt x="599" y="5286"/>
                </a:lnTo>
                <a:lnTo>
                  <a:pt x="529" y="5169"/>
                </a:lnTo>
                <a:lnTo>
                  <a:pt x="493" y="5082"/>
                </a:lnTo>
                <a:lnTo>
                  <a:pt x="423" y="4994"/>
                </a:lnTo>
                <a:lnTo>
                  <a:pt x="388" y="4907"/>
                </a:lnTo>
                <a:lnTo>
                  <a:pt x="352" y="4819"/>
                </a:lnTo>
                <a:lnTo>
                  <a:pt x="317" y="4702"/>
                </a:lnTo>
                <a:lnTo>
                  <a:pt x="282" y="4614"/>
                </a:lnTo>
                <a:lnTo>
                  <a:pt x="282" y="4527"/>
                </a:lnTo>
                <a:lnTo>
                  <a:pt x="246" y="4439"/>
                </a:lnTo>
                <a:lnTo>
                  <a:pt x="246" y="4352"/>
                </a:lnTo>
                <a:lnTo>
                  <a:pt x="211" y="4264"/>
                </a:lnTo>
                <a:lnTo>
                  <a:pt x="211" y="4147"/>
                </a:lnTo>
                <a:lnTo>
                  <a:pt x="176" y="4060"/>
                </a:lnTo>
                <a:lnTo>
                  <a:pt x="141" y="3971"/>
                </a:lnTo>
                <a:lnTo>
                  <a:pt x="70" y="3883"/>
                </a:lnTo>
                <a:lnTo>
                  <a:pt x="70" y="3679"/>
                </a:lnTo>
                <a:lnTo>
                  <a:pt x="70" y="3562"/>
                </a:lnTo>
                <a:lnTo>
                  <a:pt x="35" y="3445"/>
                </a:lnTo>
                <a:lnTo>
                  <a:pt x="35" y="3270"/>
                </a:lnTo>
                <a:lnTo>
                  <a:pt x="0" y="3183"/>
                </a:lnTo>
                <a:lnTo>
                  <a:pt x="0" y="3095"/>
                </a:lnTo>
                <a:lnTo>
                  <a:pt x="35" y="3007"/>
                </a:lnTo>
                <a:lnTo>
                  <a:pt x="70" y="2920"/>
                </a:lnTo>
                <a:lnTo>
                  <a:pt x="105" y="2803"/>
                </a:lnTo>
                <a:lnTo>
                  <a:pt x="176" y="2686"/>
                </a:lnTo>
                <a:lnTo>
                  <a:pt x="211" y="2453"/>
                </a:lnTo>
                <a:lnTo>
                  <a:pt x="246" y="2365"/>
                </a:lnTo>
                <a:lnTo>
                  <a:pt x="282" y="2248"/>
                </a:lnTo>
                <a:lnTo>
                  <a:pt x="282" y="2044"/>
                </a:lnTo>
                <a:lnTo>
                  <a:pt x="246" y="1956"/>
                </a:lnTo>
                <a:lnTo>
                  <a:pt x="211" y="1839"/>
                </a:lnTo>
                <a:lnTo>
                  <a:pt x="211" y="1752"/>
                </a:lnTo>
                <a:lnTo>
                  <a:pt x="211" y="1635"/>
                </a:lnTo>
                <a:lnTo>
                  <a:pt x="211" y="1547"/>
                </a:lnTo>
                <a:lnTo>
                  <a:pt x="211" y="1430"/>
                </a:lnTo>
                <a:lnTo>
                  <a:pt x="176" y="1314"/>
                </a:lnTo>
                <a:lnTo>
                  <a:pt x="141" y="1226"/>
                </a:lnTo>
                <a:lnTo>
                  <a:pt x="141" y="1138"/>
                </a:lnTo>
                <a:lnTo>
                  <a:pt x="141" y="1022"/>
                </a:lnTo>
                <a:lnTo>
                  <a:pt x="105" y="934"/>
                </a:lnTo>
                <a:lnTo>
                  <a:pt x="105" y="846"/>
                </a:lnTo>
                <a:lnTo>
                  <a:pt x="105" y="759"/>
                </a:lnTo>
                <a:lnTo>
                  <a:pt x="105" y="671"/>
                </a:lnTo>
                <a:lnTo>
                  <a:pt x="141" y="554"/>
                </a:lnTo>
                <a:lnTo>
                  <a:pt x="176" y="467"/>
                </a:lnTo>
                <a:lnTo>
                  <a:pt x="246" y="379"/>
                </a:lnTo>
                <a:lnTo>
                  <a:pt x="352" y="321"/>
                </a:lnTo>
                <a:lnTo>
                  <a:pt x="423" y="233"/>
                </a:lnTo>
                <a:lnTo>
                  <a:pt x="529" y="146"/>
                </a:lnTo>
                <a:lnTo>
                  <a:pt x="599" y="58"/>
                </a:lnTo>
                <a:lnTo>
                  <a:pt x="705" y="0"/>
                </a:lnTo>
                <a:lnTo>
                  <a:pt x="811" y="0"/>
                </a:lnTo>
                <a:lnTo>
                  <a:pt x="917" y="58"/>
                </a:lnTo>
                <a:lnTo>
                  <a:pt x="1023" y="58"/>
                </a:lnTo>
                <a:lnTo>
                  <a:pt x="1128" y="58"/>
                </a:lnTo>
                <a:lnTo>
                  <a:pt x="1270" y="58"/>
                </a:lnTo>
                <a:lnTo>
                  <a:pt x="1375" y="58"/>
                </a:lnTo>
                <a:lnTo>
                  <a:pt x="1481" y="58"/>
                </a:lnTo>
                <a:lnTo>
                  <a:pt x="1587" y="58"/>
                </a:lnTo>
                <a:lnTo>
                  <a:pt x="1693" y="29"/>
                </a:lnTo>
                <a:lnTo>
                  <a:pt x="1799" y="29"/>
                </a:lnTo>
                <a:lnTo>
                  <a:pt x="1905" y="29"/>
                </a:lnTo>
                <a:lnTo>
                  <a:pt x="2010" y="0"/>
                </a:lnTo>
                <a:lnTo>
                  <a:pt x="2116" y="0"/>
                </a:lnTo>
                <a:lnTo>
                  <a:pt x="2223" y="0"/>
                </a:lnTo>
                <a:lnTo>
                  <a:pt x="2329" y="29"/>
                </a:lnTo>
                <a:lnTo>
                  <a:pt x="2435" y="58"/>
                </a:lnTo>
                <a:lnTo>
                  <a:pt x="2576" y="58"/>
                </a:lnTo>
                <a:lnTo>
                  <a:pt x="2682" y="87"/>
                </a:lnTo>
                <a:lnTo>
                  <a:pt x="2823" y="116"/>
                </a:lnTo>
                <a:lnTo>
                  <a:pt x="2964" y="146"/>
                </a:lnTo>
                <a:lnTo>
                  <a:pt x="3070" y="175"/>
                </a:lnTo>
                <a:lnTo>
                  <a:pt x="3176" y="204"/>
                </a:lnTo>
                <a:lnTo>
                  <a:pt x="3281" y="233"/>
                </a:lnTo>
                <a:lnTo>
                  <a:pt x="3387" y="262"/>
                </a:lnTo>
                <a:lnTo>
                  <a:pt x="3493" y="292"/>
                </a:lnTo>
                <a:lnTo>
                  <a:pt x="3599" y="292"/>
                </a:lnTo>
                <a:lnTo>
                  <a:pt x="3775" y="379"/>
                </a:lnTo>
                <a:lnTo>
                  <a:pt x="3811" y="554"/>
                </a:lnTo>
                <a:lnTo>
                  <a:pt x="3881" y="642"/>
                </a:lnTo>
                <a:lnTo>
                  <a:pt x="3846" y="525"/>
                </a:lnTo>
                <a:lnTo>
                  <a:pt x="3775" y="379"/>
                </a:lnTo>
                <a:close/>
              </a:path>
            </a:pathLst>
          </a:custGeom>
          <a:solidFill>
            <a:srgbClr val="ff9999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499000" y="3149640"/>
            <a:ext cx="317880" cy="368640"/>
          </a:xfrm>
          <a:custGeom>
            <a:avLst/>
            <a:gdLst/>
            <a:ahLst/>
            <a:rect l="0" t="0" r="r" b="b"/>
            <a:pathLst>
              <a:path w="883" h="1024">
                <a:moveTo>
                  <a:pt x="35" y="1024"/>
                </a:moveTo>
                <a:lnTo>
                  <a:pt x="35" y="882"/>
                </a:lnTo>
                <a:lnTo>
                  <a:pt x="0" y="777"/>
                </a:lnTo>
                <a:lnTo>
                  <a:pt x="0" y="671"/>
                </a:lnTo>
                <a:lnTo>
                  <a:pt x="35" y="565"/>
                </a:lnTo>
                <a:lnTo>
                  <a:pt x="70" y="458"/>
                </a:lnTo>
                <a:lnTo>
                  <a:pt x="176" y="352"/>
                </a:lnTo>
                <a:lnTo>
                  <a:pt x="247" y="246"/>
                </a:lnTo>
                <a:lnTo>
                  <a:pt x="318" y="141"/>
                </a:lnTo>
                <a:lnTo>
                  <a:pt x="424" y="105"/>
                </a:lnTo>
                <a:lnTo>
                  <a:pt x="530" y="105"/>
                </a:lnTo>
                <a:lnTo>
                  <a:pt x="636" y="105"/>
                </a:lnTo>
                <a:lnTo>
                  <a:pt x="742" y="35"/>
                </a:lnTo>
                <a:lnTo>
                  <a:pt x="848" y="0"/>
                </a:lnTo>
                <a:lnTo>
                  <a:pt x="883" y="105"/>
                </a:lnTo>
                <a:lnTo>
                  <a:pt x="778" y="141"/>
                </a:lnTo>
                <a:lnTo>
                  <a:pt x="707" y="246"/>
                </a:lnTo>
                <a:lnTo>
                  <a:pt x="707" y="388"/>
                </a:lnTo>
                <a:lnTo>
                  <a:pt x="600" y="458"/>
                </a:lnTo>
                <a:lnTo>
                  <a:pt x="494" y="530"/>
                </a:lnTo>
                <a:lnTo>
                  <a:pt x="424" y="636"/>
                </a:lnTo>
                <a:lnTo>
                  <a:pt x="389" y="741"/>
                </a:lnTo>
                <a:lnTo>
                  <a:pt x="424" y="847"/>
                </a:lnTo>
                <a:lnTo>
                  <a:pt x="318" y="882"/>
                </a:lnTo>
                <a:lnTo>
                  <a:pt x="211" y="847"/>
                </a:lnTo>
                <a:lnTo>
                  <a:pt x="105" y="882"/>
                </a:lnTo>
                <a:lnTo>
                  <a:pt x="35" y="812"/>
                </a:lnTo>
                <a:lnTo>
                  <a:pt x="35" y="1024"/>
                </a:lnTo>
                <a:close/>
              </a:path>
            </a:pathLst>
          </a:custGeom>
          <a:solidFill>
            <a:srgbClr val="ff9999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380880" y="22860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Guess Who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2463840" y="6146640"/>
            <a:ext cx="3670560" cy="344880"/>
          </a:xfrm>
          <a:custGeom>
            <a:avLst/>
            <a:gdLst/>
            <a:ahLst/>
            <a:rect l="0" t="0" r="r" b="b"/>
            <a:pathLst>
              <a:path w="10196" h="958">
                <a:moveTo>
                  <a:pt x="3764" y="216"/>
                </a:moveTo>
                <a:lnTo>
                  <a:pt x="3654" y="246"/>
                </a:lnTo>
                <a:lnTo>
                  <a:pt x="3570" y="246"/>
                </a:lnTo>
                <a:lnTo>
                  <a:pt x="3517" y="246"/>
                </a:lnTo>
                <a:lnTo>
                  <a:pt x="3407" y="216"/>
                </a:lnTo>
                <a:lnTo>
                  <a:pt x="3354" y="183"/>
                </a:lnTo>
                <a:lnTo>
                  <a:pt x="3297" y="183"/>
                </a:lnTo>
                <a:lnTo>
                  <a:pt x="3244" y="155"/>
                </a:lnTo>
                <a:lnTo>
                  <a:pt x="3217" y="155"/>
                </a:lnTo>
                <a:lnTo>
                  <a:pt x="2997" y="246"/>
                </a:lnTo>
                <a:lnTo>
                  <a:pt x="2781" y="340"/>
                </a:lnTo>
                <a:lnTo>
                  <a:pt x="2508" y="216"/>
                </a:lnTo>
                <a:lnTo>
                  <a:pt x="2208" y="94"/>
                </a:lnTo>
                <a:lnTo>
                  <a:pt x="2128" y="61"/>
                </a:lnTo>
                <a:lnTo>
                  <a:pt x="2098" y="61"/>
                </a:lnTo>
                <a:lnTo>
                  <a:pt x="2071" y="61"/>
                </a:lnTo>
                <a:lnTo>
                  <a:pt x="2045" y="94"/>
                </a:lnTo>
                <a:lnTo>
                  <a:pt x="762" y="279"/>
                </a:lnTo>
                <a:lnTo>
                  <a:pt x="357" y="524"/>
                </a:lnTo>
                <a:lnTo>
                  <a:pt x="273" y="646"/>
                </a:lnTo>
                <a:lnTo>
                  <a:pt x="246" y="679"/>
                </a:lnTo>
                <a:lnTo>
                  <a:pt x="246" y="679"/>
                </a:lnTo>
                <a:lnTo>
                  <a:pt x="273" y="646"/>
                </a:lnTo>
                <a:lnTo>
                  <a:pt x="326" y="585"/>
                </a:lnTo>
                <a:lnTo>
                  <a:pt x="357" y="585"/>
                </a:lnTo>
                <a:lnTo>
                  <a:pt x="357" y="618"/>
                </a:lnTo>
                <a:lnTo>
                  <a:pt x="357" y="742"/>
                </a:lnTo>
                <a:lnTo>
                  <a:pt x="299" y="803"/>
                </a:lnTo>
                <a:lnTo>
                  <a:pt x="189" y="836"/>
                </a:lnTo>
                <a:lnTo>
                  <a:pt x="83" y="864"/>
                </a:lnTo>
                <a:lnTo>
                  <a:pt x="0" y="897"/>
                </a:lnTo>
                <a:lnTo>
                  <a:pt x="110" y="958"/>
                </a:lnTo>
                <a:lnTo>
                  <a:pt x="189" y="958"/>
                </a:lnTo>
                <a:lnTo>
                  <a:pt x="273" y="925"/>
                </a:lnTo>
                <a:lnTo>
                  <a:pt x="383" y="897"/>
                </a:lnTo>
                <a:lnTo>
                  <a:pt x="489" y="742"/>
                </a:lnTo>
                <a:lnTo>
                  <a:pt x="573" y="679"/>
                </a:lnTo>
                <a:lnTo>
                  <a:pt x="656" y="679"/>
                </a:lnTo>
                <a:lnTo>
                  <a:pt x="819" y="742"/>
                </a:lnTo>
                <a:lnTo>
                  <a:pt x="899" y="864"/>
                </a:lnTo>
                <a:lnTo>
                  <a:pt x="982" y="897"/>
                </a:lnTo>
                <a:lnTo>
                  <a:pt x="1093" y="864"/>
                </a:lnTo>
                <a:lnTo>
                  <a:pt x="1198" y="775"/>
                </a:lnTo>
                <a:lnTo>
                  <a:pt x="1282" y="679"/>
                </a:lnTo>
                <a:lnTo>
                  <a:pt x="1362" y="679"/>
                </a:lnTo>
                <a:lnTo>
                  <a:pt x="1445" y="712"/>
                </a:lnTo>
                <a:lnTo>
                  <a:pt x="1555" y="775"/>
                </a:lnTo>
                <a:lnTo>
                  <a:pt x="1829" y="712"/>
                </a:lnTo>
                <a:lnTo>
                  <a:pt x="2128" y="679"/>
                </a:lnTo>
                <a:lnTo>
                  <a:pt x="2481" y="742"/>
                </a:lnTo>
                <a:lnTo>
                  <a:pt x="2671" y="742"/>
                </a:lnTo>
                <a:lnTo>
                  <a:pt x="2917" y="712"/>
                </a:lnTo>
                <a:lnTo>
                  <a:pt x="3133" y="679"/>
                </a:lnTo>
                <a:lnTo>
                  <a:pt x="3217" y="712"/>
                </a:lnTo>
                <a:lnTo>
                  <a:pt x="3270" y="742"/>
                </a:lnTo>
                <a:lnTo>
                  <a:pt x="3270" y="742"/>
                </a:lnTo>
                <a:lnTo>
                  <a:pt x="3517" y="958"/>
                </a:lnTo>
                <a:lnTo>
                  <a:pt x="3953" y="742"/>
                </a:lnTo>
                <a:lnTo>
                  <a:pt x="4579" y="742"/>
                </a:lnTo>
                <a:lnTo>
                  <a:pt x="5016" y="742"/>
                </a:lnTo>
                <a:lnTo>
                  <a:pt x="5068" y="864"/>
                </a:lnTo>
                <a:lnTo>
                  <a:pt x="5127" y="925"/>
                </a:lnTo>
                <a:lnTo>
                  <a:pt x="5237" y="958"/>
                </a:lnTo>
                <a:lnTo>
                  <a:pt x="5369" y="925"/>
                </a:lnTo>
                <a:lnTo>
                  <a:pt x="5479" y="897"/>
                </a:lnTo>
                <a:lnTo>
                  <a:pt x="5537" y="864"/>
                </a:lnTo>
                <a:lnTo>
                  <a:pt x="5590" y="897"/>
                </a:lnTo>
                <a:lnTo>
                  <a:pt x="5669" y="958"/>
                </a:lnTo>
                <a:lnTo>
                  <a:pt x="5779" y="958"/>
                </a:lnTo>
                <a:lnTo>
                  <a:pt x="5863" y="925"/>
                </a:lnTo>
                <a:lnTo>
                  <a:pt x="5916" y="925"/>
                </a:lnTo>
                <a:lnTo>
                  <a:pt x="5969" y="897"/>
                </a:lnTo>
                <a:lnTo>
                  <a:pt x="6026" y="864"/>
                </a:lnTo>
                <a:lnTo>
                  <a:pt x="6052" y="864"/>
                </a:lnTo>
                <a:lnTo>
                  <a:pt x="6326" y="897"/>
                </a:lnTo>
                <a:lnTo>
                  <a:pt x="6573" y="836"/>
                </a:lnTo>
                <a:lnTo>
                  <a:pt x="6736" y="897"/>
                </a:lnTo>
                <a:lnTo>
                  <a:pt x="6872" y="925"/>
                </a:lnTo>
                <a:lnTo>
                  <a:pt x="6952" y="958"/>
                </a:lnTo>
                <a:lnTo>
                  <a:pt x="6978" y="958"/>
                </a:lnTo>
                <a:lnTo>
                  <a:pt x="7088" y="925"/>
                </a:lnTo>
                <a:lnTo>
                  <a:pt x="7198" y="897"/>
                </a:lnTo>
                <a:lnTo>
                  <a:pt x="7251" y="897"/>
                </a:lnTo>
                <a:lnTo>
                  <a:pt x="7304" y="864"/>
                </a:lnTo>
                <a:lnTo>
                  <a:pt x="7304" y="864"/>
                </a:lnTo>
                <a:lnTo>
                  <a:pt x="7551" y="925"/>
                </a:lnTo>
                <a:lnTo>
                  <a:pt x="7688" y="958"/>
                </a:lnTo>
                <a:lnTo>
                  <a:pt x="7798" y="925"/>
                </a:lnTo>
                <a:lnTo>
                  <a:pt x="7908" y="897"/>
                </a:lnTo>
                <a:lnTo>
                  <a:pt x="8014" y="864"/>
                </a:lnTo>
                <a:lnTo>
                  <a:pt x="8124" y="836"/>
                </a:lnTo>
                <a:lnTo>
                  <a:pt x="8151" y="836"/>
                </a:lnTo>
                <a:lnTo>
                  <a:pt x="8450" y="897"/>
                </a:lnTo>
                <a:lnTo>
                  <a:pt x="8587" y="897"/>
                </a:lnTo>
                <a:lnTo>
                  <a:pt x="8724" y="864"/>
                </a:lnTo>
                <a:lnTo>
                  <a:pt x="8944" y="864"/>
                </a:lnTo>
                <a:lnTo>
                  <a:pt x="9160" y="836"/>
                </a:lnTo>
                <a:lnTo>
                  <a:pt x="9213" y="775"/>
                </a:lnTo>
                <a:lnTo>
                  <a:pt x="9270" y="712"/>
                </a:lnTo>
                <a:lnTo>
                  <a:pt x="9433" y="679"/>
                </a:lnTo>
                <a:lnTo>
                  <a:pt x="9596" y="679"/>
                </a:lnTo>
                <a:lnTo>
                  <a:pt x="9759" y="712"/>
                </a:lnTo>
                <a:lnTo>
                  <a:pt x="9896" y="712"/>
                </a:lnTo>
                <a:lnTo>
                  <a:pt x="10033" y="679"/>
                </a:lnTo>
                <a:lnTo>
                  <a:pt x="10112" y="618"/>
                </a:lnTo>
                <a:lnTo>
                  <a:pt x="10196" y="524"/>
                </a:lnTo>
                <a:lnTo>
                  <a:pt x="10169" y="462"/>
                </a:lnTo>
                <a:lnTo>
                  <a:pt x="10143" y="434"/>
                </a:lnTo>
                <a:lnTo>
                  <a:pt x="10112" y="401"/>
                </a:lnTo>
                <a:lnTo>
                  <a:pt x="10059" y="434"/>
                </a:lnTo>
                <a:lnTo>
                  <a:pt x="9980" y="462"/>
                </a:lnTo>
                <a:lnTo>
                  <a:pt x="9922" y="495"/>
                </a:lnTo>
                <a:lnTo>
                  <a:pt x="9896" y="495"/>
                </a:lnTo>
                <a:lnTo>
                  <a:pt x="9843" y="462"/>
                </a:lnTo>
                <a:lnTo>
                  <a:pt x="9733" y="462"/>
                </a:lnTo>
                <a:lnTo>
                  <a:pt x="9649" y="434"/>
                </a:lnTo>
                <a:lnTo>
                  <a:pt x="9570" y="401"/>
                </a:lnTo>
                <a:lnTo>
                  <a:pt x="9513" y="373"/>
                </a:lnTo>
                <a:lnTo>
                  <a:pt x="9433" y="307"/>
                </a:lnTo>
                <a:lnTo>
                  <a:pt x="9376" y="279"/>
                </a:lnTo>
                <a:lnTo>
                  <a:pt x="9349" y="246"/>
                </a:lnTo>
                <a:lnTo>
                  <a:pt x="8913" y="307"/>
                </a:lnTo>
                <a:lnTo>
                  <a:pt x="8508" y="373"/>
                </a:lnTo>
                <a:lnTo>
                  <a:pt x="8340" y="340"/>
                </a:lnTo>
                <a:lnTo>
                  <a:pt x="8177" y="340"/>
                </a:lnTo>
                <a:lnTo>
                  <a:pt x="8040" y="279"/>
                </a:lnTo>
                <a:lnTo>
                  <a:pt x="7908" y="216"/>
                </a:lnTo>
                <a:lnTo>
                  <a:pt x="7798" y="155"/>
                </a:lnTo>
                <a:lnTo>
                  <a:pt x="7714" y="94"/>
                </a:lnTo>
                <a:lnTo>
                  <a:pt x="7608" y="61"/>
                </a:lnTo>
                <a:lnTo>
                  <a:pt x="7578" y="32"/>
                </a:lnTo>
                <a:lnTo>
                  <a:pt x="7278" y="94"/>
                </a:lnTo>
                <a:lnTo>
                  <a:pt x="6978" y="155"/>
                </a:lnTo>
                <a:lnTo>
                  <a:pt x="6815" y="183"/>
                </a:lnTo>
                <a:lnTo>
                  <a:pt x="6652" y="122"/>
                </a:lnTo>
                <a:lnTo>
                  <a:pt x="6326" y="0"/>
                </a:lnTo>
                <a:lnTo>
                  <a:pt x="5942" y="61"/>
                </a:lnTo>
                <a:lnTo>
                  <a:pt x="5753" y="94"/>
                </a:lnTo>
                <a:lnTo>
                  <a:pt x="5563" y="155"/>
                </a:lnTo>
                <a:lnTo>
                  <a:pt x="5479" y="183"/>
                </a:lnTo>
                <a:lnTo>
                  <a:pt x="5369" y="216"/>
                </a:lnTo>
                <a:lnTo>
                  <a:pt x="5290" y="246"/>
                </a:lnTo>
                <a:lnTo>
                  <a:pt x="5263" y="246"/>
                </a:lnTo>
                <a:lnTo>
                  <a:pt x="5153" y="246"/>
                </a:lnTo>
                <a:lnTo>
                  <a:pt x="5016" y="216"/>
                </a:lnTo>
                <a:lnTo>
                  <a:pt x="4879" y="183"/>
                </a:lnTo>
                <a:lnTo>
                  <a:pt x="4826" y="155"/>
                </a:lnTo>
                <a:lnTo>
                  <a:pt x="4800" y="155"/>
                </a:lnTo>
                <a:lnTo>
                  <a:pt x="4663" y="183"/>
                </a:lnTo>
                <a:lnTo>
                  <a:pt x="4579" y="216"/>
                </a:lnTo>
                <a:lnTo>
                  <a:pt x="4469" y="216"/>
                </a:lnTo>
                <a:lnTo>
                  <a:pt x="4332" y="183"/>
                </a:lnTo>
                <a:lnTo>
                  <a:pt x="4279" y="155"/>
                </a:lnTo>
                <a:lnTo>
                  <a:pt x="4200" y="122"/>
                </a:lnTo>
                <a:lnTo>
                  <a:pt x="4143" y="94"/>
                </a:lnTo>
                <a:lnTo>
                  <a:pt x="4116" y="94"/>
                </a:lnTo>
                <a:lnTo>
                  <a:pt x="4033" y="122"/>
                </a:lnTo>
                <a:lnTo>
                  <a:pt x="3980" y="155"/>
                </a:lnTo>
                <a:lnTo>
                  <a:pt x="3927" y="183"/>
                </a:lnTo>
                <a:lnTo>
                  <a:pt x="3896" y="183"/>
                </a:lnTo>
                <a:lnTo>
                  <a:pt x="3817" y="155"/>
                </a:lnTo>
                <a:lnTo>
                  <a:pt x="3733" y="183"/>
                </a:lnTo>
                <a:lnTo>
                  <a:pt x="3706" y="216"/>
                </a:lnTo>
                <a:lnTo>
                  <a:pt x="3706" y="216"/>
                </a:lnTo>
                <a:lnTo>
                  <a:pt x="3764" y="216"/>
                </a:lnTo>
                <a:close/>
              </a:path>
            </a:pathLst>
          </a:custGeom>
          <a:solidFill>
            <a:srgbClr val="e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689280" y="6105600"/>
            <a:ext cx="752760" cy="209880"/>
          </a:xfrm>
          <a:custGeom>
            <a:avLst/>
            <a:gdLst/>
            <a:ahLst/>
            <a:rect l="0" t="0" r="r" b="b"/>
            <a:pathLst>
              <a:path w="2091" h="583">
                <a:moveTo>
                  <a:pt x="1376" y="185"/>
                </a:moveTo>
                <a:lnTo>
                  <a:pt x="978" y="52"/>
                </a:lnTo>
                <a:lnTo>
                  <a:pt x="714" y="0"/>
                </a:lnTo>
                <a:lnTo>
                  <a:pt x="423" y="105"/>
                </a:lnTo>
                <a:lnTo>
                  <a:pt x="132" y="264"/>
                </a:lnTo>
                <a:lnTo>
                  <a:pt x="0" y="477"/>
                </a:lnTo>
                <a:lnTo>
                  <a:pt x="185" y="583"/>
                </a:lnTo>
                <a:lnTo>
                  <a:pt x="2091" y="583"/>
                </a:lnTo>
                <a:lnTo>
                  <a:pt x="2091" y="185"/>
                </a:lnTo>
                <a:lnTo>
                  <a:pt x="1376" y="185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3031920" y="3456000"/>
            <a:ext cx="1203840" cy="955800"/>
            <a:chOff x="3031920" y="3456000"/>
            <a:chExt cx="1203840" cy="955800"/>
          </a:xfrm>
        </p:grpSpPr>
        <p:sp>
          <p:nvSpPr>
            <p:cNvPr id="647" name=""/>
            <p:cNvSpPr/>
            <p:nvPr/>
          </p:nvSpPr>
          <p:spPr>
            <a:xfrm>
              <a:off x="3031920" y="4108680"/>
              <a:ext cx="290520" cy="303120"/>
            </a:xfrm>
            <a:custGeom>
              <a:avLst/>
              <a:gdLst/>
              <a:ahLst/>
              <a:rect l="0" t="0" r="r" b="b"/>
              <a:pathLst>
                <a:path w="807" h="842">
                  <a:moveTo>
                    <a:pt x="258" y="23"/>
                  </a:moveTo>
                  <a:lnTo>
                    <a:pt x="258" y="23"/>
                  </a:lnTo>
                  <a:cubicBezTo>
                    <a:pt x="192" y="47"/>
                    <a:pt x="134" y="89"/>
                    <a:pt x="90" y="145"/>
                  </a:cubicBezTo>
                  <a:cubicBezTo>
                    <a:pt x="45" y="201"/>
                    <a:pt x="16" y="268"/>
                    <a:pt x="5" y="341"/>
                  </a:cubicBezTo>
                  <a:cubicBezTo>
                    <a:pt x="-6" y="413"/>
                    <a:pt x="2" y="488"/>
                    <a:pt x="28" y="558"/>
                  </a:cubicBezTo>
                  <a:cubicBezTo>
                    <a:pt x="53" y="628"/>
                    <a:pt x="95" y="691"/>
                    <a:pt x="150" y="739"/>
                  </a:cubicBezTo>
                  <a:cubicBezTo>
                    <a:pt x="206" y="788"/>
                    <a:pt x="271" y="821"/>
                    <a:pt x="341" y="835"/>
                  </a:cubicBezTo>
                  <a:cubicBezTo>
                    <a:pt x="411" y="849"/>
                    <a:pt x="483" y="844"/>
                    <a:pt x="549" y="820"/>
                  </a:cubicBezTo>
                  <a:lnTo>
                    <a:pt x="549" y="820"/>
                  </a:lnTo>
                  <a:lnTo>
                    <a:pt x="549" y="820"/>
                  </a:lnTo>
                  <a:cubicBezTo>
                    <a:pt x="615" y="796"/>
                    <a:pt x="673" y="754"/>
                    <a:pt x="717" y="698"/>
                  </a:cubicBezTo>
                  <a:cubicBezTo>
                    <a:pt x="762" y="642"/>
                    <a:pt x="791" y="575"/>
                    <a:pt x="802" y="502"/>
                  </a:cubicBezTo>
                  <a:cubicBezTo>
                    <a:pt x="813" y="430"/>
                    <a:pt x="805" y="355"/>
                    <a:pt x="779" y="285"/>
                  </a:cubicBezTo>
                  <a:cubicBezTo>
                    <a:pt x="754" y="215"/>
                    <a:pt x="712" y="152"/>
                    <a:pt x="657" y="104"/>
                  </a:cubicBezTo>
                  <a:cubicBezTo>
                    <a:pt x="601" y="55"/>
                    <a:pt x="536" y="22"/>
                    <a:pt x="466" y="8"/>
                  </a:cubicBezTo>
                  <a:cubicBezTo>
                    <a:pt x="396" y="-6"/>
                    <a:pt x="324" y="-1"/>
                    <a:pt x="258" y="23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289320" y="3456000"/>
              <a:ext cx="946440" cy="952920"/>
            </a:xfrm>
            <a:custGeom>
              <a:avLst/>
              <a:gdLst/>
              <a:ahLst/>
              <a:rect l="0" t="0" r="r" b="b"/>
              <a:pathLst>
                <a:path w="2629" h="2647">
                  <a:moveTo>
                    <a:pt x="2219" y="0"/>
                  </a:moveTo>
                  <a:lnTo>
                    <a:pt x="1998" y="198"/>
                  </a:lnTo>
                  <a:lnTo>
                    <a:pt x="1738" y="1032"/>
                  </a:lnTo>
                  <a:lnTo>
                    <a:pt x="1495" y="1654"/>
                  </a:lnTo>
                  <a:lnTo>
                    <a:pt x="0" y="1786"/>
                  </a:lnTo>
                  <a:lnTo>
                    <a:pt x="167" y="2647"/>
                  </a:lnTo>
                  <a:lnTo>
                    <a:pt x="2095" y="2325"/>
                  </a:lnTo>
                  <a:lnTo>
                    <a:pt x="2607" y="657"/>
                  </a:lnTo>
                  <a:lnTo>
                    <a:pt x="2629" y="233"/>
                  </a:lnTo>
                  <a:lnTo>
                    <a:pt x="2430" y="8"/>
                  </a:lnTo>
                  <a:lnTo>
                    <a:pt x="2219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3860640" y="4788000"/>
            <a:ext cx="914760" cy="1384560"/>
            <a:chOff x="3860640" y="4788000"/>
            <a:chExt cx="914760" cy="1384560"/>
          </a:xfrm>
        </p:grpSpPr>
        <p:sp>
          <p:nvSpPr>
            <p:cNvPr id="650" name=""/>
            <p:cNvSpPr/>
            <p:nvPr/>
          </p:nvSpPr>
          <p:spPr>
            <a:xfrm>
              <a:off x="3860640" y="4788000"/>
              <a:ext cx="914760" cy="1384560"/>
            </a:xfrm>
            <a:custGeom>
              <a:avLst/>
              <a:gdLst/>
              <a:ahLst/>
              <a:rect l="0" t="0" r="r" b="b"/>
              <a:pathLst>
                <a:path w="2541" h="3846">
                  <a:moveTo>
                    <a:pt x="635" y="35"/>
                  </a:moveTo>
                  <a:lnTo>
                    <a:pt x="0" y="2152"/>
                  </a:lnTo>
                  <a:lnTo>
                    <a:pt x="846" y="3846"/>
                  </a:lnTo>
                  <a:lnTo>
                    <a:pt x="1482" y="3846"/>
                  </a:lnTo>
                  <a:lnTo>
                    <a:pt x="1623" y="3846"/>
                  </a:lnTo>
                  <a:lnTo>
                    <a:pt x="811" y="2047"/>
                  </a:lnTo>
                  <a:lnTo>
                    <a:pt x="1164" y="846"/>
                  </a:lnTo>
                  <a:lnTo>
                    <a:pt x="776" y="2082"/>
                  </a:lnTo>
                  <a:lnTo>
                    <a:pt x="1623" y="3811"/>
                  </a:lnTo>
                  <a:lnTo>
                    <a:pt x="2435" y="3811"/>
                  </a:lnTo>
                  <a:lnTo>
                    <a:pt x="1659" y="2152"/>
                  </a:lnTo>
                  <a:lnTo>
                    <a:pt x="1764" y="1693"/>
                  </a:lnTo>
                  <a:lnTo>
                    <a:pt x="2541" y="0"/>
                  </a:lnTo>
                  <a:lnTo>
                    <a:pt x="635" y="35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057560" y="4952880"/>
              <a:ext cx="133560" cy="322560"/>
            </a:xfrm>
            <a:custGeom>
              <a:avLst/>
              <a:gdLst/>
              <a:ahLst/>
              <a:rect l="0" t="0" r="r" b="b"/>
              <a:pathLst>
                <a:path w="371" h="896">
                  <a:moveTo>
                    <a:pt x="186" y="22"/>
                  </a:moveTo>
                  <a:lnTo>
                    <a:pt x="165" y="114"/>
                  </a:lnTo>
                  <a:lnTo>
                    <a:pt x="121" y="187"/>
                  </a:lnTo>
                  <a:lnTo>
                    <a:pt x="63" y="397"/>
                  </a:lnTo>
                  <a:lnTo>
                    <a:pt x="0" y="613"/>
                  </a:lnTo>
                  <a:lnTo>
                    <a:pt x="19" y="681"/>
                  </a:lnTo>
                  <a:lnTo>
                    <a:pt x="63" y="731"/>
                  </a:lnTo>
                  <a:lnTo>
                    <a:pt x="102" y="777"/>
                  </a:lnTo>
                  <a:lnTo>
                    <a:pt x="165" y="823"/>
                  </a:lnTo>
                  <a:lnTo>
                    <a:pt x="230" y="850"/>
                  </a:lnTo>
                  <a:lnTo>
                    <a:pt x="269" y="850"/>
                  </a:lnTo>
                  <a:lnTo>
                    <a:pt x="269" y="873"/>
                  </a:lnTo>
                  <a:lnTo>
                    <a:pt x="269" y="896"/>
                  </a:lnTo>
                  <a:lnTo>
                    <a:pt x="230" y="896"/>
                  </a:lnTo>
                  <a:lnTo>
                    <a:pt x="165" y="873"/>
                  </a:lnTo>
                  <a:lnTo>
                    <a:pt x="165" y="658"/>
                  </a:lnTo>
                  <a:lnTo>
                    <a:pt x="146" y="635"/>
                  </a:lnTo>
                  <a:lnTo>
                    <a:pt x="146" y="613"/>
                  </a:lnTo>
                  <a:lnTo>
                    <a:pt x="186" y="590"/>
                  </a:lnTo>
                  <a:lnTo>
                    <a:pt x="249" y="539"/>
                  </a:lnTo>
                  <a:lnTo>
                    <a:pt x="312" y="517"/>
                  </a:lnTo>
                  <a:lnTo>
                    <a:pt x="351" y="517"/>
                  </a:lnTo>
                  <a:lnTo>
                    <a:pt x="371" y="471"/>
                  </a:lnTo>
                  <a:lnTo>
                    <a:pt x="371" y="424"/>
                  </a:lnTo>
                  <a:lnTo>
                    <a:pt x="351" y="397"/>
                  </a:lnTo>
                  <a:lnTo>
                    <a:pt x="288" y="374"/>
                  </a:lnTo>
                  <a:lnTo>
                    <a:pt x="249" y="397"/>
                  </a:lnTo>
                  <a:lnTo>
                    <a:pt x="230" y="447"/>
                  </a:lnTo>
                  <a:lnTo>
                    <a:pt x="186" y="517"/>
                  </a:lnTo>
                  <a:lnTo>
                    <a:pt x="121" y="447"/>
                  </a:lnTo>
                  <a:lnTo>
                    <a:pt x="102" y="424"/>
                  </a:lnTo>
                  <a:lnTo>
                    <a:pt x="146" y="374"/>
                  </a:lnTo>
                  <a:lnTo>
                    <a:pt x="205" y="328"/>
                  </a:lnTo>
                  <a:lnTo>
                    <a:pt x="230" y="306"/>
                  </a:lnTo>
                  <a:lnTo>
                    <a:pt x="249" y="283"/>
                  </a:lnTo>
                  <a:lnTo>
                    <a:pt x="332" y="0"/>
                  </a:lnTo>
                  <a:lnTo>
                    <a:pt x="312" y="45"/>
                  </a:lnTo>
                  <a:lnTo>
                    <a:pt x="249" y="91"/>
                  </a:lnTo>
                  <a:lnTo>
                    <a:pt x="205" y="91"/>
                  </a:lnTo>
                  <a:lnTo>
                    <a:pt x="186" y="68"/>
                  </a:lnTo>
                  <a:lnTo>
                    <a:pt x="186" y="22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349880" y="5238720"/>
              <a:ext cx="105120" cy="235440"/>
            </a:xfrm>
            <a:custGeom>
              <a:avLst/>
              <a:gdLst/>
              <a:ahLst/>
              <a:rect l="0" t="0" r="r" b="b"/>
              <a:pathLst>
                <a:path w="292" h="654">
                  <a:moveTo>
                    <a:pt x="145" y="97"/>
                  </a:moveTo>
                  <a:lnTo>
                    <a:pt x="104" y="169"/>
                  </a:lnTo>
                  <a:lnTo>
                    <a:pt x="81" y="218"/>
                  </a:lnTo>
                  <a:lnTo>
                    <a:pt x="63" y="267"/>
                  </a:lnTo>
                  <a:lnTo>
                    <a:pt x="40" y="338"/>
                  </a:lnTo>
                  <a:lnTo>
                    <a:pt x="22" y="387"/>
                  </a:lnTo>
                  <a:lnTo>
                    <a:pt x="0" y="436"/>
                  </a:lnTo>
                  <a:lnTo>
                    <a:pt x="0" y="436"/>
                  </a:lnTo>
                  <a:lnTo>
                    <a:pt x="40" y="508"/>
                  </a:lnTo>
                  <a:lnTo>
                    <a:pt x="81" y="583"/>
                  </a:lnTo>
                  <a:lnTo>
                    <a:pt x="210" y="654"/>
                  </a:lnTo>
                  <a:lnTo>
                    <a:pt x="169" y="605"/>
                  </a:lnTo>
                  <a:lnTo>
                    <a:pt x="145" y="556"/>
                  </a:lnTo>
                  <a:lnTo>
                    <a:pt x="145" y="534"/>
                  </a:lnTo>
                  <a:lnTo>
                    <a:pt x="187" y="458"/>
                  </a:lnTo>
                  <a:lnTo>
                    <a:pt x="145" y="436"/>
                  </a:lnTo>
                  <a:lnTo>
                    <a:pt x="145" y="387"/>
                  </a:lnTo>
                  <a:lnTo>
                    <a:pt x="169" y="365"/>
                  </a:lnTo>
                  <a:lnTo>
                    <a:pt x="210" y="338"/>
                  </a:lnTo>
                  <a:lnTo>
                    <a:pt x="251" y="289"/>
                  </a:lnTo>
                  <a:lnTo>
                    <a:pt x="292" y="240"/>
                  </a:lnTo>
                  <a:lnTo>
                    <a:pt x="292" y="218"/>
                  </a:lnTo>
                  <a:lnTo>
                    <a:pt x="292" y="169"/>
                  </a:lnTo>
                  <a:lnTo>
                    <a:pt x="273" y="97"/>
                  </a:lnTo>
                  <a:lnTo>
                    <a:pt x="210" y="26"/>
                  </a:lnTo>
                  <a:lnTo>
                    <a:pt x="169" y="0"/>
                  </a:lnTo>
                  <a:lnTo>
                    <a:pt x="169" y="26"/>
                  </a:lnTo>
                  <a:lnTo>
                    <a:pt x="145" y="48"/>
                  </a:lnTo>
                  <a:lnTo>
                    <a:pt x="145" y="97"/>
                  </a:lnTo>
                  <a:lnTo>
                    <a:pt x="145" y="119"/>
                  </a:lnTo>
                  <a:lnTo>
                    <a:pt x="145" y="119"/>
                  </a:lnTo>
                  <a:lnTo>
                    <a:pt x="145" y="97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3795840" y="1601640"/>
            <a:ext cx="1081080" cy="3275640"/>
            <a:chOff x="3795840" y="1601640"/>
            <a:chExt cx="1081080" cy="3275640"/>
          </a:xfrm>
        </p:grpSpPr>
        <p:sp>
          <p:nvSpPr>
            <p:cNvPr id="654" name=""/>
            <p:cNvSpPr/>
            <p:nvPr/>
          </p:nvSpPr>
          <p:spPr>
            <a:xfrm>
              <a:off x="3895560" y="3276720"/>
              <a:ext cx="981360" cy="1600560"/>
            </a:xfrm>
            <a:custGeom>
              <a:avLst/>
              <a:gdLst/>
              <a:ahLst/>
              <a:rect l="0" t="0" r="r" b="b"/>
              <a:pathLst>
                <a:path w="2726" h="4446">
                  <a:moveTo>
                    <a:pt x="953" y="374"/>
                  </a:moveTo>
                  <a:lnTo>
                    <a:pt x="865" y="392"/>
                  </a:lnTo>
                  <a:lnTo>
                    <a:pt x="799" y="436"/>
                  </a:lnTo>
                  <a:lnTo>
                    <a:pt x="672" y="582"/>
                  </a:lnTo>
                  <a:lnTo>
                    <a:pt x="540" y="723"/>
                  </a:lnTo>
                  <a:lnTo>
                    <a:pt x="391" y="851"/>
                  </a:lnTo>
                  <a:lnTo>
                    <a:pt x="369" y="890"/>
                  </a:lnTo>
                  <a:lnTo>
                    <a:pt x="347" y="930"/>
                  </a:lnTo>
                  <a:lnTo>
                    <a:pt x="347" y="930"/>
                  </a:lnTo>
                  <a:lnTo>
                    <a:pt x="369" y="930"/>
                  </a:lnTo>
                  <a:lnTo>
                    <a:pt x="153" y="1553"/>
                  </a:lnTo>
                  <a:lnTo>
                    <a:pt x="0" y="4345"/>
                  </a:lnTo>
                  <a:lnTo>
                    <a:pt x="2726" y="4446"/>
                  </a:lnTo>
                  <a:lnTo>
                    <a:pt x="2317" y="1844"/>
                  </a:lnTo>
                  <a:lnTo>
                    <a:pt x="2119" y="414"/>
                  </a:lnTo>
                  <a:lnTo>
                    <a:pt x="1385" y="0"/>
                  </a:lnTo>
                  <a:lnTo>
                    <a:pt x="953" y="374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5" name=""/>
            <p:cNvGrpSpPr/>
            <p:nvPr/>
          </p:nvGrpSpPr>
          <p:grpSpPr>
            <a:xfrm>
              <a:off x="3795840" y="1601640"/>
              <a:ext cx="1005120" cy="1818000"/>
              <a:chOff x="3795840" y="1601640"/>
              <a:chExt cx="1005120" cy="1818000"/>
            </a:xfrm>
          </p:grpSpPr>
          <p:sp>
            <p:nvSpPr>
              <p:cNvPr id="656" name=""/>
              <p:cNvSpPr/>
              <p:nvPr/>
            </p:nvSpPr>
            <p:spPr>
              <a:xfrm>
                <a:off x="3905280" y="1838160"/>
                <a:ext cx="895680" cy="1581480"/>
              </a:xfrm>
              <a:custGeom>
                <a:avLst/>
                <a:gdLst/>
                <a:ahLst/>
                <a:rect l="0" t="0" r="r" b="b"/>
                <a:pathLst>
                  <a:path w="2488" h="4393">
                    <a:moveTo>
                      <a:pt x="582" y="0"/>
                    </a:moveTo>
                    <a:lnTo>
                      <a:pt x="264" y="264"/>
                    </a:lnTo>
                    <a:lnTo>
                      <a:pt x="79" y="687"/>
                    </a:lnTo>
                    <a:lnTo>
                      <a:pt x="26" y="1217"/>
                    </a:lnTo>
                    <a:lnTo>
                      <a:pt x="0" y="2699"/>
                    </a:lnTo>
                    <a:lnTo>
                      <a:pt x="52" y="3546"/>
                    </a:lnTo>
                    <a:lnTo>
                      <a:pt x="820" y="3599"/>
                    </a:lnTo>
                    <a:lnTo>
                      <a:pt x="926" y="4075"/>
                    </a:lnTo>
                    <a:lnTo>
                      <a:pt x="1031" y="4393"/>
                    </a:lnTo>
                    <a:lnTo>
                      <a:pt x="1271" y="4393"/>
                    </a:lnTo>
                    <a:lnTo>
                      <a:pt x="1403" y="4102"/>
                    </a:lnTo>
                    <a:lnTo>
                      <a:pt x="1323" y="3599"/>
                    </a:lnTo>
                    <a:lnTo>
                      <a:pt x="2038" y="3519"/>
                    </a:lnTo>
                    <a:lnTo>
                      <a:pt x="2064" y="3017"/>
                    </a:lnTo>
                    <a:lnTo>
                      <a:pt x="2223" y="3096"/>
                    </a:lnTo>
                    <a:lnTo>
                      <a:pt x="2382" y="3043"/>
                    </a:lnTo>
                    <a:lnTo>
                      <a:pt x="2488" y="2620"/>
                    </a:lnTo>
                    <a:lnTo>
                      <a:pt x="2355" y="2408"/>
                    </a:lnTo>
                    <a:lnTo>
                      <a:pt x="2197" y="2435"/>
                    </a:lnTo>
                    <a:lnTo>
                      <a:pt x="2355" y="185"/>
                    </a:lnTo>
                    <a:lnTo>
                      <a:pt x="582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795840" y="2281320"/>
                <a:ext cx="409680" cy="4096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148280" y="2243160"/>
                <a:ext cx="485640" cy="4856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338720" y="2443320"/>
                <a:ext cx="85680" cy="85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4560" bIns="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929040" y="2452680"/>
                <a:ext cx="85680" cy="85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4560" bIns="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135320" y="1630440"/>
                <a:ext cx="7920" cy="217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V="1">
                <a:off x="4249800" y="1611360"/>
                <a:ext cx="17280" cy="217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V="1">
                <a:off x="4411800" y="1601640"/>
                <a:ext cx="36360" cy="227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V="1">
                <a:off x="4573440" y="1649520"/>
                <a:ext cx="55800" cy="198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V="1">
                <a:off x="4716360" y="1677960"/>
                <a:ext cx="55800" cy="179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895560" y="2790720"/>
                <a:ext cx="657720" cy="257400"/>
              </a:xfrm>
              <a:custGeom>
                <a:avLst/>
                <a:gdLst/>
                <a:ahLst/>
                <a:rect l="0" t="0" r="r" b="b"/>
                <a:pathLst>
                  <a:path w="1827" h="715">
                    <a:moveTo>
                      <a:pt x="0" y="0"/>
                    </a:moveTo>
                    <a:lnTo>
                      <a:pt x="1827" y="163"/>
                    </a:lnTo>
                    <a:lnTo>
                      <a:pt x="746" y="7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7" name=""/>
            <p:cNvSpPr/>
            <p:nvPr/>
          </p:nvSpPr>
          <p:spPr>
            <a:xfrm>
              <a:off x="4191120" y="3286080"/>
              <a:ext cx="305280" cy="181440"/>
            </a:xfrm>
            <a:custGeom>
              <a:avLst/>
              <a:gdLst/>
              <a:ahLst/>
              <a:rect l="0" t="0" r="r" b="b"/>
              <a:pathLst>
                <a:path w="848" h="504">
                  <a:moveTo>
                    <a:pt x="0" y="344"/>
                  </a:moveTo>
                  <a:lnTo>
                    <a:pt x="239" y="478"/>
                  </a:lnTo>
                  <a:lnTo>
                    <a:pt x="663" y="504"/>
                  </a:lnTo>
                  <a:lnTo>
                    <a:pt x="848" y="265"/>
                  </a:lnTo>
                  <a:lnTo>
                    <a:pt x="848" y="79"/>
                  </a:lnTo>
                  <a:lnTo>
                    <a:pt x="663" y="0"/>
                  </a:lnTo>
                  <a:lnTo>
                    <a:pt x="477" y="265"/>
                  </a:lnTo>
                  <a:lnTo>
                    <a:pt x="185" y="292"/>
                  </a:lnTo>
                  <a:lnTo>
                    <a:pt x="0" y="344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3994200" y="6105600"/>
            <a:ext cx="752760" cy="209880"/>
          </a:xfrm>
          <a:custGeom>
            <a:avLst/>
            <a:gdLst/>
            <a:ahLst/>
            <a:rect l="0" t="0" r="r" b="b"/>
            <a:pathLst>
              <a:path w="2091" h="583">
                <a:moveTo>
                  <a:pt x="1376" y="185"/>
                </a:moveTo>
                <a:lnTo>
                  <a:pt x="978" y="52"/>
                </a:lnTo>
                <a:lnTo>
                  <a:pt x="714" y="0"/>
                </a:lnTo>
                <a:lnTo>
                  <a:pt x="423" y="105"/>
                </a:lnTo>
                <a:lnTo>
                  <a:pt x="132" y="264"/>
                </a:lnTo>
                <a:lnTo>
                  <a:pt x="0" y="477"/>
                </a:lnTo>
                <a:lnTo>
                  <a:pt x="185" y="583"/>
                </a:lnTo>
                <a:lnTo>
                  <a:pt x="2091" y="583"/>
                </a:lnTo>
                <a:lnTo>
                  <a:pt x="2091" y="185"/>
                </a:lnTo>
                <a:lnTo>
                  <a:pt x="1376" y="185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4019400" y="3886200"/>
            <a:ext cx="756000" cy="983160"/>
            <a:chOff x="4019400" y="3886200"/>
            <a:chExt cx="756000" cy="983160"/>
          </a:xfrm>
        </p:grpSpPr>
        <p:sp>
          <p:nvSpPr>
            <p:cNvPr id="670" name=""/>
            <p:cNvSpPr/>
            <p:nvPr/>
          </p:nvSpPr>
          <p:spPr>
            <a:xfrm>
              <a:off x="4200480" y="4233960"/>
              <a:ext cx="276480" cy="562320"/>
            </a:xfrm>
            <a:custGeom>
              <a:avLst/>
              <a:gdLst/>
              <a:ahLst/>
              <a:rect l="0" t="0" r="r" b="b"/>
              <a:pathLst>
                <a:path w="768" h="1562">
                  <a:moveTo>
                    <a:pt x="196" y="62"/>
                  </a:moveTo>
                  <a:lnTo>
                    <a:pt x="235" y="22"/>
                  </a:lnTo>
                  <a:lnTo>
                    <a:pt x="274" y="0"/>
                  </a:lnTo>
                  <a:lnTo>
                    <a:pt x="313" y="22"/>
                  </a:lnTo>
                  <a:lnTo>
                    <a:pt x="374" y="40"/>
                  </a:lnTo>
                  <a:lnTo>
                    <a:pt x="471" y="0"/>
                  </a:lnTo>
                  <a:lnTo>
                    <a:pt x="511" y="0"/>
                  </a:lnTo>
                  <a:lnTo>
                    <a:pt x="572" y="0"/>
                  </a:lnTo>
                  <a:lnTo>
                    <a:pt x="572" y="62"/>
                  </a:lnTo>
                  <a:lnTo>
                    <a:pt x="572" y="80"/>
                  </a:lnTo>
                  <a:lnTo>
                    <a:pt x="511" y="142"/>
                  </a:lnTo>
                  <a:lnTo>
                    <a:pt x="532" y="227"/>
                  </a:lnTo>
                  <a:lnTo>
                    <a:pt x="532" y="289"/>
                  </a:lnTo>
                  <a:lnTo>
                    <a:pt x="572" y="330"/>
                  </a:lnTo>
                  <a:lnTo>
                    <a:pt x="611" y="392"/>
                  </a:lnTo>
                  <a:lnTo>
                    <a:pt x="589" y="535"/>
                  </a:lnTo>
                  <a:lnTo>
                    <a:pt x="550" y="637"/>
                  </a:lnTo>
                  <a:lnTo>
                    <a:pt x="589" y="700"/>
                  </a:lnTo>
                  <a:lnTo>
                    <a:pt x="650" y="780"/>
                  </a:lnTo>
                  <a:lnTo>
                    <a:pt x="707" y="861"/>
                  </a:lnTo>
                  <a:lnTo>
                    <a:pt x="729" y="924"/>
                  </a:lnTo>
                  <a:lnTo>
                    <a:pt x="746" y="986"/>
                  </a:lnTo>
                  <a:lnTo>
                    <a:pt x="768" y="1026"/>
                  </a:lnTo>
                  <a:lnTo>
                    <a:pt x="768" y="1026"/>
                  </a:lnTo>
                  <a:lnTo>
                    <a:pt x="746" y="1174"/>
                  </a:lnTo>
                  <a:lnTo>
                    <a:pt x="729" y="1294"/>
                  </a:lnTo>
                  <a:lnTo>
                    <a:pt x="707" y="1419"/>
                  </a:lnTo>
                  <a:lnTo>
                    <a:pt x="668" y="1562"/>
                  </a:lnTo>
                  <a:lnTo>
                    <a:pt x="668" y="1521"/>
                  </a:lnTo>
                  <a:lnTo>
                    <a:pt x="668" y="1481"/>
                  </a:lnTo>
                  <a:lnTo>
                    <a:pt x="689" y="1437"/>
                  </a:lnTo>
                  <a:lnTo>
                    <a:pt x="689" y="1419"/>
                  </a:lnTo>
                  <a:lnTo>
                    <a:pt x="668" y="1356"/>
                  </a:lnTo>
                  <a:lnTo>
                    <a:pt x="650" y="1276"/>
                  </a:lnTo>
                  <a:lnTo>
                    <a:pt x="668" y="1214"/>
                  </a:lnTo>
                  <a:lnTo>
                    <a:pt x="689" y="1191"/>
                  </a:lnTo>
                  <a:lnTo>
                    <a:pt x="689" y="1174"/>
                  </a:lnTo>
                  <a:lnTo>
                    <a:pt x="668" y="1049"/>
                  </a:lnTo>
                  <a:lnTo>
                    <a:pt x="628" y="986"/>
                  </a:lnTo>
                  <a:lnTo>
                    <a:pt x="589" y="946"/>
                  </a:lnTo>
                  <a:lnTo>
                    <a:pt x="550" y="884"/>
                  </a:lnTo>
                  <a:lnTo>
                    <a:pt x="511" y="821"/>
                  </a:lnTo>
                  <a:lnTo>
                    <a:pt x="471" y="861"/>
                  </a:lnTo>
                  <a:lnTo>
                    <a:pt x="432" y="884"/>
                  </a:lnTo>
                  <a:lnTo>
                    <a:pt x="393" y="906"/>
                  </a:lnTo>
                  <a:lnTo>
                    <a:pt x="374" y="924"/>
                  </a:lnTo>
                  <a:lnTo>
                    <a:pt x="353" y="924"/>
                  </a:lnTo>
                  <a:lnTo>
                    <a:pt x="353" y="843"/>
                  </a:lnTo>
                  <a:lnTo>
                    <a:pt x="353" y="821"/>
                  </a:lnTo>
                  <a:lnTo>
                    <a:pt x="353" y="803"/>
                  </a:lnTo>
                  <a:lnTo>
                    <a:pt x="374" y="758"/>
                  </a:lnTo>
                  <a:lnTo>
                    <a:pt x="393" y="718"/>
                  </a:lnTo>
                  <a:lnTo>
                    <a:pt x="393" y="718"/>
                  </a:lnTo>
                  <a:lnTo>
                    <a:pt x="393" y="740"/>
                  </a:lnTo>
                  <a:lnTo>
                    <a:pt x="393" y="758"/>
                  </a:lnTo>
                  <a:lnTo>
                    <a:pt x="374" y="780"/>
                  </a:lnTo>
                  <a:lnTo>
                    <a:pt x="335" y="758"/>
                  </a:lnTo>
                  <a:lnTo>
                    <a:pt x="313" y="740"/>
                  </a:lnTo>
                  <a:lnTo>
                    <a:pt x="296" y="740"/>
                  </a:lnTo>
                  <a:lnTo>
                    <a:pt x="274" y="758"/>
                  </a:lnTo>
                  <a:lnTo>
                    <a:pt x="257" y="780"/>
                  </a:lnTo>
                  <a:lnTo>
                    <a:pt x="196" y="718"/>
                  </a:lnTo>
                  <a:lnTo>
                    <a:pt x="178" y="780"/>
                  </a:lnTo>
                  <a:lnTo>
                    <a:pt x="156" y="803"/>
                  </a:lnTo>
                  <a:lnTo>
                    <a:pt x="117" y="780"/>
                  </a:lnTo>
                  <a:lnTo>
                    <a:pt x="39" y="758"/>
                  </a:lnTo>
                  <a:lnTo>
                    <a:pt x="17" y="740"/>
                  </a:lnTo>
                  <a:lnTo>
                    <a:pt x="0" y="700"/>
                  </a:lnTo>
                  <a:lnTo>
                    <a:pt x="17" y="677"/>
                  </a:lnTo>
                  <a:lnTo>
                    <a:pt x="39" y="677"/>
                  </a:lnTo>
                  <a:lnTo>
                    <a:pt x="117" y="700"/>
                  </a:lnTo>
                  <a:lnTo>
                    <a:pt x="196" y="718"/>
                  </a:lnTo>
                  <a:lnTo>
                    <a:pt x="196" y="718"/>
                  </a:lnTo>
                  <a:lnTo>
                    <a:pt x="178" y="700"/>
                  </a:lnTo>
                  <a:lnTo>
                    <a:pt x="156" y="677"/>
                  </a:lnTo>
                  <a:lnTo>
                    <a:pt x="139" y="655"/>
                  </a:lnTo>
                  <a:lnTo>
                    <a:pt x="139" y="637"/>
                  </a:lnTo>
                  <a:lnTo>
                    <a:pt x="139" y="597"/>
                  </a:lnTo>
                  <a:lnTo>
                    <a:pt x="156" y="553"/>
                  </a:lnTo>
                  <a:lnTo>
                    <a:pt x="178" y="535"/>
                  </a:lnTo>
                  <a:lnTo>
                    <a:pt x="178" y="472"/>
                  </a:lnTo>
                  <a:lnTo>
                    <a:pt x="178" y="410"/>
                  </a:lnTo>
                  <a:lnTo>
                    <a:pt x="178" y="267"/>
                  </a:lnTo>
                  <a:lnTo>
                    <a:pt x="139" y="227"/>
                  </a:lnTo>
                  <a:lnTo>
                    <a:pt x="117" y="205"/>
                  </a:lnTo>
                  <a:lnTo>
                    <a:pt x="117" y="182"/>
                  </a:lnTo>
                  <a:lnTo>
                    <a:pt x="139" y="165"/>
                  </a:lnTo>
                  <a:lnTo>
                    <a:pt x="156" y="142"/>
                  </a:lnTo>
                  <a:lnTo>
                    <a:pt x="156" y="124"/>
                  </a:lnTo>
                  <a:lnTo>
                    <a:pt x="196" y="62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417920" y="3987720"/>
              <a:ext cx="174960" cy="165600"/>
            </a:xfrm>
            <a:custGeom>
              <a:avLst/>
              <a:gdLst/>
              <a:ahLst/>
              <a:rect l="0" t="0" r="r" b="b"/>
              <a:pathLst>
                <a:path w="486" h="460">
                  <a:moveTo>
                    <a:pt x="100" y="271"/>
                  </a:moveTo>
                  <a:lnTo>
                    <a:pt x="100" y="189"/>
                  </a:lnTo>
                  <a:lnTo>
                    <a:pt x="150" y="102"/>
                  </a:lnTo>
                  <a:lnTo>
                    <a:pt x="257" y="51"/>
                  </a:lnTo>
                  <a:lnTo>
                    <a:pt x="357" y="0"/>
                  </a:lnTo>
                  <a:lnTo>
                    <a:pt x="413" y="34"/>
                  </a:lnTo>
                  <a:lnTo>
                    <a:pt x="486" y="85"/>
                  </a:lnTo>
                  <a:lnTo>
                    <a:pt x="486" y="121"/>
                  </a:lnTo>
                  <a:lnTo>
                    <a:pt x="486" y="121"/>
                  </a:lnTo>
                  <a:lnTo>
                    <a:pt x="435" y="121"/>
                  </a:lnTo>
                  <a:lnTo>
                    <a:pt x="335" y="172"/>
                  </a:lnTo>
                  <a:lnTo>
                    <a:pt x="228" y="241"/>
                  </a:lnTo>
                  <a:lnTo>
                    <a:pt x="206" y="322"/>
                  </a:lnTo>
                  <a:lnTo>
                    <a:pt x="206" y="357"/>
                  </a:lnTo>
                  <a:lnTo>
                    <a:pt x="178" y="392"/>
                  </a:lnTo>
                  <a:lnTo>
                    <a:pt x="150" y="426"/>
                  </a:lnTo>
                  <a:lnTo>
                    <a:pt x="100" y="443"/>
                  </a:lnTo>
                  <a:lnTo>
                    <a:pt x="72" y="460"/>
                  </a:lnTo>
                  <a:lnTo>
                    <a:pt x="50" y="460"/>
                  </a:lnTo>
                  <a:lnTo>
                    <a:pt x="0" y="426"/>
                  </a:lnTo>
                  <a:lnTo>
                    <a:pt x="0" y="392"/>
                  </a:lnTo>
                  <a:lnTo>
                    <a:pt x="22" y="374"/>
                  </a:lnTo>
                  <a:lnTo>
                    <a:pt x="50" y="305"/>
                  </a:lnTo>
                  <a:lnTo>
                    <a:pt x="72" y="288"/>
                  </a:lnTo>
                  <a:lnTo>
                    <a:pt x="100" y="288"/>
                  </a:lnTo>
                  <a:lnTo>
                    <a:pt x="100" y="271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019400" y="4159080"/>
              <a:ext cx="201960" cy="267120"/>
            </a:xfrm>
            <a:custGeom>
              <a:avLst/>
              <a:gdLst/>
              <a:ahLst/>
              <a:rect l="0" t="0" r="r" b="b"/>
              <a:pathLst>
                <a:path w="561" h="742">
                  <a:moveTo>
                    <a:pt x="424" y="581"/>
                  </a:moveTo>
                  <a:lnTo>
                    <a:pt x="315" y="442"/>
                  </a:lnTo>
                  <a:lnTo>
                    <a:pt x="204" y="281"/>
                  </a:lnTo>
                  <a:lnTo>
                    <a:pt x="204" y="200"/>
                  </a:lnTo>
                  <a:lnTo>
                    <a:pt x="204" y="118"/>
                  </a:lnTo>
                  <a:lnTo>
                    <a:pt x="245" y="56"/>
                  </a:lnTo>
                  <a:lnTo>
                    <a:pt x="315" y="0"/>
                  </a:lnTo>
                  <a:lnTo>
                    <a:pt x="335" y="37"/>
                  </a:lnTo>
                  <a:lnTo>
                    <a:pt x="383" y="56"/>
                  </a:lnTo>
                  <a:lnTo>
                    <a:pt x="404" y="99"/>
                  </a:lnTo>
                  <a:lnTo>
                    <a:pt x="404" y="118"/>
                  </a:lnTo>
                  <a:lnTo>
                    <a:pt x="294" y="161"/>
                  </a:lnTo>
                  <a:lnTo>
                    <a:pt x="177" y="200"/>
                  </a:lnTo>
                  <a:lnTo>
                    <a:pt x="225" y="219"/>
                  </a:lnTo>
                  <a:lnTo>
                    <a:pt x="245" y="219"/>
                  </a:lnTo>
                  <a:lnTo>
                    <a:pt x="294" y="219"/>
                  </a:lnTo>
                  <a:lnTo>
                    <a:pt x="315" y="219"/>
                  </a:lnTo>
                  <a:lnTo>
                    <a:pt x="356" y="243"/>
                  </a:lnTo>
                  <a:lnTo>
                    <a:pt x="445" y="262"/>
                  </a:lnTo>
                  <a:lnTo>
                    <a:pt x="472" y="281"/>
                  </a:lnTo>
                  <a:lnTo>
                    <a:pt x="492" y="281"/>
                  </a:lnTo>
                  <a:lnTo>
                    <a:pt x="534" y="361"/>
                  </a:lnTo>
                  <a:lnTo>
                    <a:pt x="561" y="442"/>
                  </a:lnTo>
                  <a:lnTo>
                    <a:pt x="534" y="504"/>
                  </a:lnTo>
                  <a:lnTo>
                    <a:pt x="492" y="542"/>
                  </a:lnTo>
                  <a:lnTo>
                    <a:pt x="356" y="605"/>
                  </a:lnTo>
                  <a:lnTo>
                    <a:pt x="204" y="643"/>
                  </a:lnTo>
                  <a:lnTo>
                    <a:pt x="157" y="685"/>
                  </a:lnTo>
                  <a:lnTo>
                    <a:pt x="88" y="723"/>
                  </a:lnTo>
                  <a:lnTo>
                    <a:pt x="47" y="742"/>
                  </a:lnTo>
                  <a:lnTo>
                    <a:pt x="26" y="723"/>
                  </a:lnTo>
                  <a:lnTo>
                    <a:pt x="0" y="685"/>
                  </a:lnTo>
                  <a:lnTo>
                    <a:pt x="88" y="643"/>
                  </a:lnTo>
                  <a:lnTo>
                    <a:pt x="157" y="643"/>
                  </a:lnTo>
                  <a:lnTo>
                    <a:pt x="225" y="624"/>
                  </a:lnTo>
                  <a:lnTo>
                    <a:pt x="315" y="581"/>
                  </a:lnTo>
                  <a:lnTo>
                    <a:pt x="356" y="542"/>
                  </a:lnTo>
                  <a:lnTo>
                    <a:pt x="356" y="523"/>
                  </a:lnTo>
                  <a:lnTo>
                    <a:pt x="383" y="542"/>
                  </a:lnTo>
                  <a:lnTo>
                    <a:pt x="424" y="581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095720" y="4656240"/>
              <a:ext cx="297360" cy="111600"/>
            </a:xfrm>
            <a:custGeom>
              <a:avLst/>
              <a:gdLst/>
              <a:ahLst/>
              <a:rect l="0" t="0" r="r" b="b"/>
              <a:pathLst>
                <a:path w="826" h="310">
                  <a:moveTo>
                    <a:pt x="625" y="67"/>
                  </a:moveTo>
                  <a:lnTo>
                    <a:pt x="559" y="136"/>
                  </a:lnTo>
                  <a:lnTo>
                    <a:pt x="513" y="174"/>
                  </a:lnTo>
                  <a:lnTo>
                    <a:pt x="468" y="106"/>
                  </a:lnTo>
                  <a:lnTo>
                    <a:pt x="403" y="37"/>
                  </a:lnTo>
                  <a:lnTo>
                    <a:pt x="201" y="106"/>
                  </a:lnTo>
                  <a:lnTo>
                    <a:pt x="0" y="211"/>
                  </a:lnTo>
                  <a:lnTo>
                    <a:pt x="20" y="310"/>
                  </a:lnTo>
                  <a:lnTo>
                    <a:pt x="90" y="310"/>
                  </a:lnTo>
                  <a:lnTo>
                    <a:pt x="247" y="310"/>
                  </a:lnTo>
                  <a:lnTo>
                    <a:pt x="267" y="280"/>
                  </a:lnTo>
                  <a:lnTo>
                    <a:pt x="332" y="242"/>
                  </a:lnTo>
                  <a:lnTo>
                    <a:pt x="378" y="211"/>
                  </a:lnTo>
                  <a:lnTo>
                    <a:pt x="403" y="211"/>
                  </a:lnTo>
                  <a:lnTo>
                    <a:pt x="448" y="242"/>
                  </a:lnTo>
                  <a:lnTo>
                    <a:pt x="513" y="280"/>
                  </a:lnTo>
                  <a:lnTo>
                    <a:pt x="559" y="310"/>
                  </a:lnTo>
                  <a:lnTo>
                    <a:pt x="579" y="310"/>
                  </a:lnTo>
                  <a:lnTo>
                    <a:pt x="645" y="310"/>
                  </a:lnTo>
                  <a:lnTo>
                    <a:pt x="715" y="280"/>
                  </a:lnTo>
                  <a:lnTo>
                    <a:pt x="736" y="211"/>
                  </a:lnTo>
                  <a:lnTo>
                    <a:pt x="801" y="67"/>
                  </a:lnTo>
                  <a:lnTo>
                    <a:pt x="826" y="37"/>
                  </a:lnTo>
                  <a:lnTo>
                    <a:pt x="826" y="0"/>
                  </a:lnTo>
                  <a:lnTo>
                    <a:pt x="801" y="37"/>
                  </a:lnTo>
                  <a:lnTo>
                    <a:pt x="761" y="67"/>
                  </a:lnTo>
                  <a:lnTo>
                    <a:pt x="715" y="174"/>
                  </a:lnTo>
                  <a:lnTo>
                    <a:pt x="670" y="242"/>
                  </a:lnTo>
                  <a:lnTo>
                    <a:pt x="645" y="242"/>
                  </a:lnTo>
                  <a:lnTo>
                    <a:pt x="625" y="242"/>
                  </a:lnTo>
                  <a:lnTo>
                    <a:pt x="625" y="174"/>
                  </a:lnTo>
                  <a:lnTo>
                    <a:pt x="625" y="67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084560" y="3886200"/>
              <a:ext cx="279720" cy="230400"/>
            </a:xfrm>
            <a:custGeom>
              <a:avLst/>
              <a:gdLst/>
              <a:ahLst/>
              <a:rect l="0" t="0" r="r" b="b"/>
              <a:pathLst>
                <a:path w="777" h="640">
                  <a:moveTo>
                    <a:pt x="648" y="604"/>
                  </a:moveTo>
                  <a:lnTo>
                    <a:pt x="629" y="427"/>
                  </a:lnTo>
                  <a:lnTo>
                    <a:pt x="629" y="267"/>
                  </a:lnTo>
                  <a:lnTo>
                    <a:pt x="629" y="194"/>
                  </a:lnTo>
                  <a:lnTo>
                    <a:pt x="586" y="122"/>
                  </a:lnTo>
                  <a:lnTo>
                    <a:pt x="543" y="54"/>
                  </a:lnTo>
                  <a:lnTo>
                    <a:pt x="462" y="0"/>
                  </a:lnTo>
                  <a:lnTo>
                    <a:pt x="481" y="122"/>
                  </a:lnTo>
                  <a:lnTo>
                    <a:pt x="524" y="176"/>
                  </a:lnTo>
                  <a:lnTo>
                    <a:pt x="567" y="249"/>
                  </a:lnTo>
                  <a:lnTo>
                    <a:pt x="396" y="336"/>
                  </a:lnTo>
                  <a:lnTo>
                    <a:pt x="228" y="390"/>
                  </a:lnTo>
                  <a:lnTo>
                    <a:pt x="185" y="372"/>
                  </a:lnTo>
                  <a:lnTo>
                    <a:pt x="147" y="354"/>
                  </a:lnTo>
                  <a:lnTo>
                    <a:pt x="104" y="322"/>
                  </a:lnTo>
                  <a:lnTo>
                    <a:pt x="42" y="267"/>
                  </a:lnTo>
                  <a:lnTo>
                    <a:pt x="19" y="213"/>
                  </a:lnTo>
                  <a:lnTo>
                    <a:pt x="0" y="194"/>
                  </a:lnTo>
                  <a:lnTo>
                    <a:pt x="0" y="267"/>
                  </a:lnTo>
                  <a:lnTo>
                    <a:pt x="19" y="303"/>
                  </a:lnTo>
                  <a:lnTo>
                    <a:pt x="80" y="372"/>
                  </a:lnTo>
                  <a:lnTo>
                    <a:pt x="185" y="390"/>
                  </a:lnTo>
                  <a:lnTo>
                    <a:pt x="314" y="409"/>
                  </a:lnTo>
                  <a:lnTo>
                    <a:pt x="357" y="427"/>
                  </a:lnTo>
                  <a:lnTo>
                    <a:pt x="376" y="445"/>
                  </a:lnTo>
                  <a:lnTo>
                    <a:pt x="420" y="481"/>
                  </a:lnTo>
                  <a:lnTo>
                    <a:pt x="439" y="517"/>
                  </a:lnTo>
                  <a:lnTo>
                    <a:pt x="462" y="549"/>
                  </a:lnTo>
                  <a:lnTo>
                    <a:pt x="500" y="567"/>
                  </a:lnTo>
                  <a:lnTo>
                    <a:pt x="567" y="517"/>
                  </a:lnTo>
                  <a:lnTo>
                    <a:pt x="586" y="481"/>
                  </a:lnTo>
                  <a:lnTo>
                    <a:pt x="605" y="427"/>
                  </a:lnTo>
                  <a:lnTo>
                    <a:pt x="629" y="354"/>
                  </a:lnTo>
                  <a:lnTo>
                    <a:pt x="605" y="322"/>
                  </a:lnTo>
                  <a:lnTo>
                    <a:pt x="605" y="322"/>
                  </a:lnTo>
                  <a:lnTo>
                    <a:pt x="586" y="336"/>
                  </a:lnTo>
                  <a:lnTo>
                    <a:pt x="543" y="372"/>
                  </a:lnTo>
                  <a:lnTo>
                    <a:pt x="524" y="427"/>
                  </a:lnTo>
                  <a:lnTo>
                    <a:pt x="605" y="517"/>
                  </a:lnTo>
                  <a:lnTo>
                    <a:pt x="648" y="536"/>
                  </a:lnTo>
                  <a:lnTo>
                    <a:pt x="691" y="549"/>
                  </a:lnTo>
                  <a:lnTo>
                    <a:pt x="710" y="567"/>
                  </a:lnTo>
                  <a:lnTo>
                    <a:pt x="753" y="585"/>
                  </a:lnTo>
                  <a:lnTo>
                    <a:pt x="777" y="585"/>
                  </a:lnTo>
                  <a:lnTo>
                    <a:pt x="777" y="604"/>
                  </a:lnTo>
                  <a:lnTo>
                    <a:pt x="734" y="622"/>
                  </a:lnTo>
                  <a:lnTo>
                    <a:pt x="691" y="622"/>
                  </a:lnTo>
                  <a:lnTo>
                    <a:pt x="586" y="622"/>
                  </a:lnTo>
                  <a:lnTo>
                    <a:pt x="586" y="640"/>
                  </a:lnTo>
                  <a:lnTo>
                    <a:pt x="567" y="640"/>
                  </a:lnTo>
                  <a:lnTo>
                    <a:pt x="543" y="640"/>
                  </a:lnTo>
                  <a:lnTo>
                    <a:pt x="543" y="640"/>
                  </a:lnTo>
                  <a:lnTo>
                    <a:pt x="605" y="622"/>
                  </a:lnTo>
                  <a:lnTo>
                    <a:pt x="648" y="604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254480" y="4562640"/>
              <a:ext cx="520920" cy="306720"/>
            </a:xfrm>
            <a:custGeom>
              <a:avLst/>
              <a:gdLst/>
              <a:ahLst/>
              <a:rect l="0" t="0" r="r" b="b"/>
              <a:pathLst>
                <a:path w="1447" h="852">
                  <a:moveTo>
                    <a:pt x="833" y="197"/>
                  </a:moveTo>
                  <a:lnTo>
                    <a:pt x="792" y="389"/>
                  </a:lnTo>
                  <a:lnTo>
                    <a:pt x="746" y="488"/>
                  </a:lnTo>
                  <a:lnTo>
                    <a:pt x="677" y="561"/>
                  </a:lnTo>
                  <a:lnTo>
                    <a:pt x="591" y="535"/>
                  </a:lnTo>
                  <a:lnTo>
                    <a:pt x="550" y="509"/>
                  </a:lnTo>
                  <a:lnTo>
                    <a:pt x="482" y="509"/>
                  </a:lnTo>
                  <a:lnTo>
                    <a:pt x="395" y="535"/>
                  </a:lnTo>
                  <a:lnTo>
                    <a:pt x="309" y="608"/>
                  </a:lnTo>
                  <a:lnTo>
                    <a:pt x="200" y="634"/>
                  </a:lnTo>
                  <a:lnTo>
                    <a:pt x="0" y="732"/>
                  </a:lnTo>
                  <a:lnTo>
                    <a:pt x="0" y="779"/>
                  </a:lnTo>
                  <a:lnTo>
                    <a:pt x="22" y="826"/>
                  </a:lnTo>
                  <a:lnTo>
                    <a:pt x="109" y="852"/>
                  </a:lnTo>
                  <a:lnTo>
                    <a:pt x="218" y="826"/>
                  </a:lnTo>
                  <a:lnTo>
                    <a:pt x="309" y="805"/>
                  </a:lnTo>
                  <a:lnTo>
                    <a:pt x="527" y="732"/>
                  </a:lnTo>
                  <a:lnTo>
                    <a:pt x="724" y="634"/>
                  </a:lnTo>
                  <a:lnTo>
                    <a:pt x="792" y="634"/>
                  </a:lnTo>
                  <a:lnTo>
                    <a:pt x="856" y="660"/>
                  </a:lnTo>
                  <a:lnTo>
                    <a:pt x="919" y="680"/>
                  </a:lnTo>
                  <a:lnTo>
                    <a:pt x="965" y="732"/>
                  </a:lnTo>
                  <a:lnTo>
                    <a:pt x="1051" y="779"/>
                  </a:lnTo>
                  <a:lnTo>
                    <a:pt x="1074" y="732"/>
                  </a:lnTo>
                  <a:lnTo>
                    <a:pt x="1097" y="706"/>
                  </a:lnTo>
                  <a:lnTo>
                    <a:pt x="1142" y="706"/>
                  </a:lnTo>
                  <a:lnTo>
                    <a:pt x="1206" y="706"/>
                  </a:lnTo>
                  <a:lnTo>
                    <a:pt x="1251" y="706"/>
                  </a:lnTo>
                  <a:lnTo>
                    <a:pt x="1292" y="660"/>
                  </a:lnTo>
                  <a:lnTo>
                    <a:pt x="1338" y="561"/>
                  </a:lnTo>
                  <a:lnTo>
                    <a:pt x="1383" y="436"/>
                  </a:lnTo>
                  <a:lnTo>
                    <a:pt x="1424" y="316"/>
                  </a:lnTo>
                  <a:lnTo>
                    <a:pt x="1447" y="269"/>
                  </a:lnTo>
                  <a:lnTo>
                    <a:pt x="1447" y="243"/>
                  </a:lnTo>
                  <a:lnTo>
                    <a:pt x="1383" y="217"/>
                  </a:lnTo>
                  <a:lnTo>
                    <a:pt x="1292" y="197"/>
                  </a:lnTo>
                  <a:lnTo>
                    <a:pt x="1206" y="171"/>
                  </a:lnTo>
                  <a:lnTo>
                    <a:pt x="1160" y="171"/>
                  </a:lnTo>
                  <a:lnTo>
                    <a:pt x="1119" y="145"/>
                  </a:lnTo>
                  <a:lnTo>
                    <a:pt x="1051" y="124"/>
                  </a:lnTo>
                  <a:lnTo>
                    <a:pt x="1051" y="72"/>
                  </a:lnTo>
                  <a:lnTo>
                    <a:pt x="1033" y="25"/>
                  </a:lnTo>
                  <a:lnTo>
                    <a:pt x="942" y="0"/>
                  </a:lnTo>
                  <a:lnTo>
                    <a:pt x="833" y="0"/>
                  </a:lnTo>
                  <a:lnTo>
                    <a:pt x="746" y="0"/>
                  </a:lnTo>
                  <a:lnTo>
                    <a:pt x="769" y="51"/>
                  </a:lnTo>
                  <a:lnTo>
                    <a:pt x="769" y="72"/>
                  </a:lnTo>
                  <a:lnTo>
                    <a:pt x="833" y="197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"/>
          <p:cNvSpPr/>
          <p:nvPr/>
        </p:nvSpPr>
        <p:spPr>
          <a:xfrm>
            <a:off x="5359320" y="4280040"/>
            <a:ext cx="317880" cy="368640"/>
          </a:xfrm>
          <a:custGeom>
            <a:avLst/>
            <a:gdLst/>
            <a:ahLst/>
            <a:rect l="0" t="0" r="r" b="b"/>
            <a:pathLst>
              <a:path w="883" h="1024">
                <a:moveTo>
                  <a:pt x="848" y="0"/>
                </a:moveTo>
                <a:lnTo>
                  <a:pt x="848" y="141"/>
                </a:lnTo>
                <a:lnTo>
                  <a:pt x="883" y="246"/>
                </a:lnTo>
                <a:lnTo>
                  <a:pt x="883" y="352"/>
                </a:lnTo>
                <a:lnTo>
                  <a:pt x="848" y="458"/>
                </a:lnTo>
                <a:lnTo>
                  <a:pt x="813" y="565"/>
                </a:lnTo>
                <a:lnTo>
                  <a:pt x="707" y="671"/>
                </a:lnTo>
                <a:lnTo>
                  <a:pt x="636" y="777"/>
                </a:lnTo>
                <a:lnTo>
                  <a:pt x="565" y="882"/>
                </a:lnTo>
                <a:lnTo>
                  <a:pt x="459" y="918"/>
                </a:lnTo>
                <a:lnTo>
                  <a:pt x="353" y="918"/>
                </a:lnTo>
                <a:lnTo>
                  <a:pt x="247" y="918"/>
                </a:lnTo>
                <a:lnTo>
                  <a:pt x="141" y="988"/>
                </a:lnTo>
                <a:lnTo>
                  <a:pt x="35" y="1024"/>
                </a:lnTo>
                <a:lnTo>
                  <a:pt x="0" y="918"/>
                </a:lnTo>
                <a:lnTo>
                  <a:pt x="105" y="882"/>
                </a:lnTo>
                <a:lnTo>
                  <a:pt x="176" y="777"/>
                </a:lnTo>
                <a:lnTo>
                  <a:pt x="176" y="636"/>
                </a:lnTo>
                <a:lnTo>
                  <a:pt x="283" y="565"/>
                </a:lnTo>
                <a:lnTo>
                  <a:pt x="389" y="493"/>
                </a:lnTo>
                <a:lnTo>
                  <a:pt x="459" y="388"/>
                </a:lnTo>
                <a:lnTo>
                  <a:pt x="494" y="282"/>
                </a:lnTo>
                <a:lnTo>
                  <a:pt x="459" y="176"/>
                </a:lnTo>
                <a:lnTo>
                  <a:pt x="565" y="141"/>
                </a:lnTo>
                <a:lnTo>
                  <a:pt x="672" y="176"/>
                </a:lnTo>
                <a:lnTo>
                  <a:pt x="778" y="141"/>
                </a:lnTo>
                <a:lnTo>
                  <a:pt x="848" y="211"/>
                </a:lnTo>
                <a:lnTo>
                  <a:pt x="848" y="0"/>
                </a:lnTo>
                <a:close/>
              </a:path>
            </a:pathLst>
          </a:custGeom>
          <a:solidFill>
            <a:srgbClr val="ff9999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2209680" y="6126120"/>
            <a:ext cx="1219680" cy="228960"/>
            <a:chOff x="2209680" y="6126120"/>
            <a:chExt cx="1219680" cy="228960"/>
          </a:xfrm>
        </p:grpSpPr>
        <p:sp>
          <p:nvSpPr>
            <p:cNvPr id="678" name=""/>
            <p:cNvSpPr/>
            <p:nvPr/>
          </p:nvSpPr>
          <p:spPr>
            <a:xfrm>
              <a:off x="2209680" y="6153120"/>
              <a:ext cx="1219680" cy="171720"/>
            </a:xfrm>
            <a:custGeom>
              <a:avLst/>
              <a:gdLst/>
              <a:ahLst/>
              <a:rect l="0" t="0" r="r" b="b"/>
              <a:pathLst>
                <a:path w="3388" h="477">
                  <a:moveTo>
                    <a:pt x="1493" y="84"/>
                  </a:moveTo>
                  <a:lnTo>
                    <a:pt x="3388" y="328"/>
                  </a:lnTo>
                  <a:lnTo>
                    <a:pt x="3229" y="412"/>
                  </a:lnTo>
                  <a:lnTo>
                    <a:pt x="2938" y="477"/>
                  </a:lnTo>
                  <a:lnTo>
                    <a:pt x="2239" y="457"/>
                  </a:lnTo>
                  <a:lnTo>
                    <a:pt x="1162" y="351"/>
                  </a:lnTo>
                  <a:lnTo>
                    <a:pt x="777" y="286"/>
                  </a:lnTo>
                  <a:lnTo>
                    <a:pt x="0" y="184"/>
                  </a:lnTo>
                  <a:lnTo>
                    <a:pt x="30" y="0"/>
                  </a:lnTo>
                  <a:lnTo>
                    <a:pt x="972" y="103"/>
                  </a:lnTo>
                  <a:lnTo>
                    <a:pt x="1188" y="182"/>
                  </a:lnTo>
                  <a:lnTo>
                    <a:pt x="1400" y="210"/>
                  </a:lnTo>
                  <a:lnTo>
                    <a:pt x="1493" y="84"/>
                  </a:lnTo>
                  <a:close/>
                </a:path>
              </a:pathLst>
            </a:custGeom>
            <a:blipFill rotWithShape="0">
              <a:blip r:embed="rId1"/>
              <a:tile tx="0" ty="0" sx="3528125" sy="3528125" algn="ctr"/>
            </a:blip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717640" y="6221520"/>
              <a:ext cx="695520" cy="133560"/>
            </a:xfrm>
            <a:custGeom>
              <a:avLst/>
              <a:gdLst/>
              <a:ahLst/>
              <a:rect l="0" t="0" r="r" b="b"/>
              <a:pathLst>
                <a:path w="1932" h="371">
                  <a:moveTo>
                    <a:pt x="34" y="12"/>
                  </a:moveTo>
                  <a:lnTo>
                    <a:pt x="225" y="0"/>
                  </a:lnTo>
                  <a:lnTo>
                    <a:pt x="381" y="133"/>
                  </a:lnTo>
                  <a:lnTo>
                    <a:pt x="658" y="83"/>
                  </a:lnTo>
                  <a:lnTo>
                    <a:pt x="1040" y="158"/>
                  </a:lnTo>
                  <a:lnTo>
                    <a:pt x="1243" y="200"/>
                  </a:lnTo>
                  <a:lnTo>
                    <a:pt x="1503" y="225"/>
                  </a:lnTo>
                  <a:lnTo>
                    <a:pt x="1932" y="204"/>
                  </a:lnTo>
                  <a:lnTo>
                    <a:pt x="1512" y="304"/>
                  </a:lnTo>
                  <a:lnTo>
                    <a:pt x="1209" y="371"/>
                  </a:lnTo>
                  <a:lnTo>
                    <a:pt x="692" y="296"/>
                  </a:lnTo>
                  <a:lnTo>
                    <a:pt x="407" y="267"/>
                  </a:lnTo>
                  <a:lnTo>
                    <a:pt x="0" y="188"/>
                  </a:lnTo>
                  <a:lnTo>
                    <a:pt x="34" y="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230560" y="6126120"/>
              <a:ext cx="495720" cy="124200"/>
            </a:xfrm>
            <a:custGeom>
              <a:avLst/>
              <a:gdLst/>
              <a:ahLst/>
              <a:rect l="0" t="0" r="r" b="b"/>
              <a:pathLst>
                <a:path w="1377" h="345">
                  <a:moveTo>
                    <a:pt x="1364" y="345"/>
                  </a:moveTo>
                  <a:lnTo>
                    <a:pt x="1377" y="230"/>
                  </a:lnTo>
                  <a:lnTo>
                    <a:pt x="1036" y="88"/>
                  </a:lnTo>
                  <a:lnTo>
                    <a:pt x="44" y="0"/>
                  </a:lnTo>
                  <a:lnTo>
                    <a:pt x="0" y="142"/>
                  </a:lnTo>
                  <a:lnTo>
                    <a:pt x="1364" y="345"/>
                  </a:lnTo>
                  <a:close/>
                </a:path>
              </a:pathLst>
            </a:custGeom>
            <a:solidFill>
              <a:srgbClr val="9933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4576680" y="3454560"/>
            <a:ext cx="1203120" cy="957240"/>
            <a:chOff x="4576680" y="3454560"/>
            <a:chExt cx="1203120" cy="957240"/>
          </a:xfrm>
        </p:grpSpPr>
        <p:sp>
          <p:nvSpPr>
            <p:cNvPr id="682" name=""/>
            <p:cNvSpPr/>
            <p:nvPr/>
          </p:nvSpPr>
          <p:spPr>
            <a:xfrm>
              <a:off x="5489280" y="4108680"/>
              <a:ext cx="290520" cy="303120"/>
            </a:xfrm>
            <a:custGeom>
              <a:avLst/>
              <a:gdLst/>
              <a:ahLst/>
              <a:rect l="0" t="0" r="r" b="b"/>
              <a:pathLst>
                <a:path w="807" h="842">
                  <a:moveTo>
                    <a:pt x="259" y="820"/>
                  </a:moveTo>
                  <a:lnTo>
                    <a:pt x="259" y="820"/>
                  </a:lnTo>
                  <a:cubicBezTo>
                    <a:pt x="325" y="844"/>
                    <a:pt x="396" y="849"/>
                    <a:pt x="466" y="835"/>
                  </a:cubicBezTo>
                  <a:cubicBezTo>
                    <a:pt x="536" y="821"/>
                    <a:pt x="602" y="788"/>
                    <a:pt x="657" y="739"/>
                  </a:cubicBezTo>
                  <a:cubicBezTo>
                    <a:pt x="712" y="691"/>
                    <a:pt x="754" y="628"/>
                    <a:pt x="780" y="558"/>
                  </a:cubicBezTo>
                  <a:cubicBezTo>
                    <a:pt x="805" y="488"/>
                    <a:pt x="813" y="413"/>
                    <a:pt x="802" y="341"/>
                  </a:cubicBezTo>
                  <a:cubicBezTo>
                    <a:pt x="791" y="268"/>
                    <a:pt x="762" y="201"/>
                    <a:pt x="717" y="145"/>
                  </a:cubicBezTo>
                  <a:cubicBezTo>
                    <a:pt x="673" y="89"/>
                    <a:pt x="615" y="47"/>
                    <a:pt x="549" y="23"/>
                  </a:cubicBezTo>
                  <a:lnTo>
                    <a:pt x="548" y="23"/>
                  </a:lnTo>
                  <a:lnTo>
                    <a:pt x="548" y="23"/>
                  </a:lnTo>
                  <a:cubicBezTo>
                    <a:pt x="482" y="-1"/>
                    <a:pt x="411" y="-6"/>
                    <a:pt x="341" y="8"/>
                  </a:cubicBezTo>
                  <a:cubicBezTo>
                    <a:pt x="271" y="22"/>
                    <a:pt x="205" y="55"/>
                    <a:pt x="150" y="104"/>
                  </a:cubicBezTo>
                  <a:cubicBezTo>
                    <a:pt x="95" y="152"/>
                    <a:pt x="53" y="215"/>
                    <a:pt x="27" y="285"/>
                  </a:cubicBezTo>
                  <a:cubicBezTo>
                    <a:pt x="2" y="355"/>
                    <a:pt x="-6" y="430"/>
                    <a:pt x="5" y="502"/>
                  </a:cubicBezTo>
                  <a:cubicBezTo>
                    <a:pt x="16" y="575"/>
                    <a:pt x="45" y="642"/>
                    <a:pt x="90" y="698"/>
                  </a:cubicBezTo>
                  <a:cubicBezTo>
                    <a:pt x="134" y="754"/>
                    <a:pt x="192" y="796"/>
                    <a:pt x="258" y="820"/>
                  </a:cubicBezTo>
                  <a:lnTo>
                    <a:pt x="259" y="82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576680" y="3454560"/>
              <a:ext cx="946440" cy="952920"/>
            </a:xfrm>
            <a:custGeom>
              <a:avLst/>
              <a:gdLst/>
              <a:ahLst/>
              <a:rect l="0" t="0" r="r" b="b"/>
              <a:pathLst>
                <a:path w="2629" h="2647">
                  <a:moveTo>
                    <a:pt x="410" y="0"/>
                  </a:moveTo>
                  <a:lnTo>
                    <a:pt x="630" y="198"/>
                  </a:lnTo>
                  <a:lnTo>
                    <a:pt x="890" y="1032"/>
                  </a:lnTo>
                  <a:lnTo>
                    <a:pt x="1133" y="1654"/>
                  </a:lnTo>
                  <a:lnTo>
                    <a:pt x="2629" y="1786"/>
                  </a:lnTo>
                  <a:lnTo>
                    <a:pt x="2461" y="2647"/>
                  </a:lnTo>
                  <a:lnTo>
                    <a:pt x="533" y="2325"/>
                  </a:lnTo>
                  <a:lnTo>
                    <a:pt x="22" y="657"/>
                  </a:lnTo>
                  <a:lnTo>
                    <a:pt x="0" y="233"/>
                  </a:lnTo>
                  <a:lnTo>
                    <a:pt x="194" y="8"/>
                  </a:lnTo>
                  <a:lnTo>
                    <a:pt x="41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4788000" y="5321160"/>
            <a:ext cx="673560" cy="978120"/>
          </a:xfrm>
          <a:custGeom>
            <a:avLst/>
            <a:gdLst/>
            <a:ahLst/>
            <a:rect l="0" t="0" r="r" b="b"/>
            <a:pathLst>
              <a:path w="1871" h="2717">
                <a:moveTo>
                  <a:pt x="35" y="2576"/>
                </a:moveTo>
                <a:lnTo>
                  <a:pt x="211" y="2329"/>
                </a:lnTo>
                <a:lnTo>
                  <a:pt x="211" y="2188"/>
                </a:lnTo>
                <a:lnTo>
                  <a:pt x="211" y="2082"/>
                </a:lnTo>
                <a:lnTo>
                  <a:pt x="211" y="1941"/>
                </a:lnTo>
                <a:lnTo>
                  <a:pt x="317" y="2047"/>
                </a:lnTo>
                <a:lnTo>
                  <a:pt x="352" y="1906"/>
                </a:lnTo>
                <a:lnTo>
                  <a:pt x="388" y="1764"/>
                </a:lnTo>
                <a:lnTo>
                  <a:pt x="388" y="1623"/>
                </a:lnTo>
                <a:lnTo>
                  <a:pt x="458" y="1412"/>
                </a:lnTo>
                <a:lnTo>
                  <a:pt x="530" y="1128"/>
                </a:lnTo>
                <a:lnTo>
                  <a:pt x="741" y="1058"/>
                </a:lnTo>
                <a:lnTo>
                  <a:pt x="953" y="776"/>
                </a:lnTo>
                <a:lnTo>
                  <a:pt x="1235" y="423"/>
                </a:lnTo>
                <a:lnTo>
                  <a:pt x="1518" y="70"/>
                </a:lnTo>
                <a:lnTo>
                  <a:pt x="1730" y="0"/>
                </a:lnTo>
                <a:lnTo>
                  <a:pt x="1554" y="0"/>
                </a:lnTo>
                <a:lnTo>
                  <a:pt x="1271" y="282"/>
                </a:lnTo>
                <a:lnTo>
                  <a:pt x="1059" y="564"/>
                </a:lnTo>
                <a:lnTo>
                  <a:pt x="1024" y="705"/>
                </a:lnTo>
                <a:lnTo>
                  <a:pt x="953" y="811"/>
                </a:lnTo>
                <a:lnTo>
                  <a:pt x="882" y="952"/>
                </a:lnTo>
                <a:lnTo>
                  <a:pt x="847" y="1093"/>
                </a:lnTo>
                <a:lnTo>
                  <a:pt x="777" y="1199"/>
                </a:lnTo>
                <a:lnTo>
                  <a:pt x="706" y="1412"/>
                </a:lnTo>
                <a:lnTo>
                  <a:pt x="600" y="1764"/>
                </a:lnTo>
                <a:lnTo>
                  <a:pt x="530" y="1976"/>
                </a:lnTo>
                <a:lnTo>
                  <a:pt x="494" y="2082"/>
                </a:lnTo>
                <a:lnTo>
                  <a:pt x="600" y="1941"/>
                </a:lnTo>
                <a:lnTo>
                  <a:pt x="812" y="1729"/>
                </a:lnTo>
                <a:lnTo>
                  <a:pt x="1094" y="1517"/>
                </a:lnTo>
                <a:lnTo>
                  <a:pt x="1306" y="1305"/>
                </a:lnTo>
                <a:lnTo>
                  <a:pt x="1413" y="1234"/>
                </a:lnTo>
                <a:lnTo>
                  <a:pt x="1554" y="1199"/>
                </a:lnTo>
                <a:lnTo>
                  <a:pt x="1413" y="1234"/>
                </a:lnTo>
                <a:lnTo>
                  <a:pt x="1200" y="1305"/>
                </a:lnTo>
                <a:lnTo>
                  <a:pt x="1165" y="1517"/>
                </a:lnTo>
                <a:lnTo>
                  <a:pt x="1024" y="1659"/>
                </a:lnTo>
                <a:lnTo>
                  <a:pt x="953" y="1800"/>
                </a:lnTo>
                <a:lnTo>
                  <a:pt x="847" y="1906"/>
                </a:lnTo>
                <a:lnTo>
                  <a:pt x="777" y="2011"/>
                </a:lnTo>
                <a:lnTo>
                  <a:pt x="1024" y="2011"/>
                </a:lnTo>
                <a:lnTo>
                  <a:pt x="1306" y="1976"/>
                </a:lnTo>
                <a:lnTo>
                  <a:pt x="1518" y="1941"/>
                </a:lnTo>
                <a:lnTo>
                  <a:pt x="1624" y="1906"/>
                </a:lnTo>
                <a:lnTo>
                  <a:pt x="1765" y="1906"/>
                </a:lnTo>
                <a:lnTo>
                  <a:pt x="1871" y="1870"/>
                </a:lnTo>
                <a:lnTo>
                  <a:pt x="1765" y="1870"/>
                </a:lnTo>
                <a:lnTo>
                  <a:pt x="1483" y="1870"/>
                </a:lnTo>
                <a:lnTo>
                  <a:pt x="1271" y="1870"/>
                </a:lnTo>
                <a:lnTo>
                  <a:pt x="1129" y="1906"/>
                </a:lnTo>
                <a:lnTo>
                  <a:pt x="1024" y="1976"/>
                </a:lnTo>
                <a:lnTo>
                  <a:pt x="741" y="2082"/>
                </a:lnTo>
                <a:lnTo>
                  <a:pt x="1024" y="2188"/>
                </a:lnTo>
                <a:lnTo>
                  <a:pt x="1129" y="2188"/>
                </a:lnTo>
                <a:lnTo>
                  <a:pt x="1235" y="2188"/>
                </a:lnTo>
                <a:lnTo>
                  <a:pt x="918" y="2188"/>
                </a:lnTo>
                <a:lnTo>
                  <a:pt x="706" y="2188"/>
                </a:lnTo>
                <a:lnTo>
                  <a:pt x="600" y="2223"/>
                </a:lnTo>
                <a:lnTo>
                  <a:pt x="530" y="2364"/>
                </a:lnTo>
                <a:lnTo>
                  <a:pt x="458" y="2470"/>
                </a:lnTo>
                <a:lnTo>
                  <a:pt x="352" y="2541"/>
                </a:lnTo>
                <a:lnTo>
                  <a:pt x="246" y="2611"/>
                </a:lnTo>
                <a:lnTo>
                  <a:pt x="35" y="2576"/>
                </a:lnTo>
                <a:lnTo>
                  <a:pt x="35" y="2717"/>
                </a:lnTo>
                <a:lnTo>
                  <a:pt x="35" y="2576"/>
                </a:lnTo>
                <a:lnTo>
                  <a:pt x="0" y="2294"/>
                </a:lnTo>
                <a:lnTo>
                  <a:pt x="0" y="2188"/>
                </a:lnTo>
                <a:lnTo>
                  <a:pt x="35" y="2082"/>
                </a:lnTo>
                <a:lnTo>
                  <a:pt x="105" y="1870"/>
                </a:lnTo>
                <a:lnTo>
                  <a:pt x="141" y="1588"/>
                </a:lnTo>
                <a:lnTo>
                  <a:pt x="141" y="1800"/>
                </a:lnTo>
                <a:lnTo>
                  <a:pt x="141" y="2082"/>
                </a:lnTo>
                <a:lnTo>
                  <a:pt x="141" y="2188"/>
                </a:lnTo>
                <a:lnTo>
                  <a:pt x="141" y="2294"/>
                </a:lnTo>
                <a:lnTo>
                  <a:pt x="141" y="2399"/>
                </a:lnTo>
                <a:lnTo>
                  <a:pt x="246" y="2364"/>
                </a:lnTo>
                <a:lnTo>
                  <a:pt x="35" y="2576"/>
                </a:lnTo>
                <a:close/>
              </a:path>
            </a:pathLst>
          </a:custGeom>
          <a:solidFill>
            <a:srgbClr val="e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971800" y="5651640"/>
            <a:ext cx="698760" cy="597240"/>
          </a:xfrm>
          <a:custGeom>
            <a:avLst/>
            <a:gdLst/>
            <a:ahLst/>
            <a:rect l="0" t="0" r="r" b="b"/>
            <a:pathLst>
              <a:path w="1941" h="1659">
                <a:moveTo>
                  <a:pt x="1906" y="1659"/>
                </a:moveTo>
                <a:lnTo>
                  <a:pt x="1941" y="1271"/>
                </a:lnTo>
                <a:lnTo>
                  <a:pt x="1941" y="988"/>
                </a:lnTo>
                <a:lnTo>
                  <a:pt x="1906" y="705"/>
                </a:lnTo>
                <a:lnTo>
                  <a:pt x="1870" y="564"/>
                </a:lnTo>
                <a:lnTo>
                  <a:pt x="1835" y="458"/>
                </a:lnTo>
                <a:lnTo>
                  <a:pt x="1694" y="176"/>
                </a:lnTo>
                <a:lnTo>
                  <a:pt x="1659" y="70"/>
                </a:lnTo>
                <a:lnTo>
                  <a:pt x="1517" y="0"/>
                </a:lnTo>
                <a:lnTo>
                  <a:pt x="1553" y="211"/>
                </a:lnTo>
                <a:lnTo>
                  <a:pt x="1623" y="317"/>
                </a:lnTo>
                <a:lnTo>
                  <a:pt x="1623" y="423"/>
                </a:lnTo>
                <a:lnTo>
                  <a:pt x="1659" y="564"/>
                </a:lnTo>
                <a:lnTo>
                  <a:pt x="1623" y="423"/>
                </a:lnTo>
                <a:lnTo>
                  <a:pt x="1341" y="352"/>
                </a:lnTo>
                <a:lnTo>
                  <a:pt x="846" y="282"/>
                </a:lnTo>
                <a:lnTo>
                  <a:pt x="705" y="176"/>
                </a:lnTo>
                <a:lnTo>
                  <a:pt x="493" y="105"/>
                </a:lnTo>
                <a:lnTo>
                  <a:pt x="352" y="70"/>
                </a:lnTo>
                <a:lnTo>
                  <a:pt x="105" y="35"/>
                </a:lnTo>
                <a:lnTo>
                  <a:pt x="0" y="0"/>
                </a:lnTo>
                <a:lnTo>
                  <a:pt x="388" y="105"/>
                </a:lnTo>
                <a:lnTo>
                  <a:pt x="811" y="141"/>
                </a:lnTo>
                <a:lnTo>
                  <a:pt x="1024" y="211"/>
                </a:lnTo>
                <a:lnTo>
                  <a:pt x="1306" y="317"/>
                </a:lnTo>
                <a:lnTo>
                  <a:pt x="1412" y="388"/>
                </a:lnTo>
                <a:lnTo>
                  <a:pt x="1517" y="635"/>
                </a:lnTo>
                <a:lnTo>
                  <a:pt x="1588" y="740"/>
                </a:lnTo>
                <a:lnTo>
                  <a:pt x="1623" y="847"/>
                </a:lnTo>
                <a:lnTo>
                  <a:pt x="1694" y="988"/>
                </a:lnTo>
                <a:lnTo>
                  <a:pt x="1623" y="882"/>
                </a:lnTo>
                <a:lnTo>
                  <a:pt x="1412" y="811"/>
                </a:lnTo>
                <a:lnTo>
                  <a:pt x="1200" y="776"/>
                </a:lnTo>
                <a:lnTo>
                  <a:pt x="1094" y="705"/>
                </a:lnTo>
                <a:lnTo>
                  <a:pt x="988" y="635"/>
                </a:lnTo>
                <a:lnTo>
                  <a:pt x="881" y="635"/>
                </a:lnTo>
                <a:lnTo>
                  <a:pt x="599" y="599"/>
                </a:lnTo>
                <a:lnTo>
                  <a:pt x="811" y="599"/>
                </a:lnTo>
                <a:lnTo>
                  <a:pt x="1094" y="599"/>
                </a:lnTo>
                <a:lnTo>
                  <a:pt x="1376" y="670"/>
                </a:lnTo>
                <a:lnTo>
                  <a:pt x="1517" y="705"/>
                </a:lnTo>
                <a:lnTo>
                  <a:pt x="1623" y="740"/>
                </a:lnTo>
                <a:lnTo>
                  <a:pt x="1659" y="847"/>
                </a:lnTo>
                <a:lnTo>
                  <a:pt x="1694" y="953"/>
                </a:lnTo>
                <a:lnTo>
                  <a:pt x="1800" y="988"/>
                </a:lnTo>
                <a:lnTo>
                  <a:pt x="1906" y="1059"/>
                </a:lnTo>
                <a:lnTo>
                  <a:pt x="1764" y="1165"/>
                </a:lnTo>
                <a:lnTo>
                  <a:pt x="1553" y="1165"/>
                </a:lnTo>
                <a:lnTo>
                  <a:pt x="1412" y="1165"/>
                </a:lnTo>
                <a:lnTo>
                  <a:pt x="1129" y="1165"/>
                </a:lnTo>
                <a:lnTo>
                  <a:pt x="846" y="1129"/>
                </a:lnTo>
                <a:lnTo>
                  <a:pt x="1094" y="1200"/>
                </a:lnTo>
                <a:lnTo>
                  <a:pt x="1306" y="1235"/>
                </a:lnTo>
                <a:lnTo>
                  <a:pt x="1412" y="1306"/>
                </a:lnTo>
                <a:lnTo>
                  <a:pt x="1517" y="1376"/>
                </a:lnTo>
                <a:lnTo>
                  <a:pt x="1623" y="1412"/>
                </a:lnTo>
                <a:lnTo>
                  <a:pt x="1517" y="1341"/>
                </a:lnTo>
                <a:lnTo>
                  <a:pt x="1412" y="1306"/>
                </a:lnTo>
                <a:lnTo>
                  <a:pt x="1306" y="1341"/>
                </a:lnTo>
                <a:lnTo>
                  <a:pt x="1376" y="1482"/>
                </a:lnTo>
                <a:lnTo>
                  <a:pt x="1517" y="1553"/>
                </a:lnTo>
                <a:lnTo>
                  <a:pt x="1623" y="1553"/>
                </a:lnTo>
                <a:lnTo>
                  <a:pt x="1729" y="1659"/>
                </a:lnTo>
                <a:lnTo>
                  <a:pt x="1906" y="1659"/>
                </a:lnTo>
                <a:close/>
              </a:path>
            </a:pathLst>
          </a:custGeom>
          <a:solidFill>
            <a:srgbClr val="e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908440" y="1130400"/>
            <a:ext cx="3099240" cy="3530880"/>
          </a:xfrm>
          <a:custGeom>
            <a:avLst/>
            <a:gdLst/>
            <a:ahLst/>
            <a:rect l="0" t="0" r="r" b="b"/>
            <a:pathLst>
              <a:path w="8609" h="9808">
                <a:moveTo>
                  <a:pt x="3775" y="9349"/>
                </a:moveTo>
                <a:lnTo>
                  <a:pt x="3916" y="9208"/>
                </a:lnTo>
                <a:lnTo>
                  <a:pt x="3916" y="9067"/>
                </a:lnTo>
                <a:lnTo>
                  <a:pt x="3846" y="8961"/>
                </a:lnTo>
                <a:lnTo>
                  <a:pt x="3775" y="8855"/>
                </a:lnTo>
                <a:lnTo>
                  <a:pt x="3669" y="8890"/>
                </a:lnTo>
                <a:lnTo>
                  <a:pt x="3564" y="8996"/>
                </a:lnTo>
                <a:lnTo>
                  <a:pt x="3458" y="9032"/>
                </a:lnTo>
                <a:lnTo>
                  <a:pt x="3352" y="9067"/>
                </a:lnTo>
                <a:lnTo>
                  <a:pt x="3211" y="9102"/>
                </a:lnTo>
                <a:lnTo>
                  <a:pt x="3070" y="9102"/>
                </a:lnTo>
                <a:lnTo>
                  <a:pt x="2823" y="9102"/>
                </a:lnTo>
                <a:lnTo>
                  <a:pt x="2717" y="9102"/>
                </a:lnTo>
                <a:lnTo>
                  <a:pt x="2611" y="9208"/>
                </a:lnTo>
                <a:lnTo>
                  <a:pt x="2505" y="9243"/>
                </a:lnTo>
                <a:lnTo>
                  <a:pt x="2399" y="9243"/>
                </a:lnTo>
                <a:lnTo>
                  <a:pt x="2151" y="9243"/>
                </a:lnTo>
                <a:lnTo>
                  <a:pt x="2010" y="9243"/>
                </a:lnTo>
                <a:lnTo>
                  <a:pt x="1728" y="9243"/>
                </a:lnTo>
                <a:lnTo>
                  <a:pt x="1622" y="9208"/>
                </a:lnTo>
                <a:lnTo>
                  <a:pt x="1516" y="9173"/>
                </a:lnTo>
                <a:lnTo>
                  <a:pt x="1375" y="9173"/>
                </a:lnTo>
                <a:lnTo>
                  <a:pt x="1270" y="9208"/>
                </a:lnTo>
                <a:lnTo>
                  <a:pt x="1164" y="9243"/>
                </a:lnTo>
                <a:lnTo>
                  <a:pt x="1058" y="9243"/>
                </a:lnTo>
                <a:lnTo>
                  <a:pt x="811" y="9243"/>
                </a:lnTo>
                <a:lnTo>
                  <a:pt x="599" y="9243"/>
                </a:lnTo>
                <a:lnTo>
                  <a:pt x="529" y="9137"/>
                </a:lnTo>
                <a:lnTo>
                  <a:pt x="529" y="9032"/>
                </a:lnTo>
                <a:lnTo>
                  <a:pt x="564" y="8926"/>
                </a:lnTo>
                <a:lnTo>
                  <a:pt x="670" y="8820"/>
                </a:lnTo>
                <a:lnTo>
                  <a:pt x="670" y="8714"/>
                </a:lnTo>
                <a:lnTo>
                  <a:pt x="670" y="8608"/>
                </a:lnTo>
                <a:lnTo>
                  <a:pt x="635" y="8502"/>
                </a:lnTo>
                <a:lnTo>
                  <a:pt x="635" y="8361"/>
                </a:lnTo>
                <a:lnTo>
                  <a:pt x="635" y="8220"/>
                </a:lnTo>
                <a:lnTo>
                  <a:pt x="635" y="8114"/>
                </a:lnTo>
                <a:lnTo>
                  <a:pt x="635" y="8009"/>
                </a:lnTo>
                <a:lnTo>
                  <a:pt x="670" y="7867"/>
                </a:lnTo>
                <a:lnTo>
                  <a:pt x="705" y="7585"/>
                </a:lnTo>
                <a:lnTo>
                  <a:pt x="740" y="7444"/>
                </a:lnTo>
                <a:lnTo>
                  <a:pt x="740" y="7303"/>
                </a:lnTo>
                <a:lnTo>
                  <a:pt x="740" y="7197"/>
                </a:lnTo>
                <a:lnTo>
                  <a:pt x="740" y="7056"/>
                </a:lnTo>
                <a:lnTo>
                  <a:pt x="705" y="6844"/>
                </a:lnTo>
                <a:lnTo>
                  <a:pt x="705" y="6703"/>
                </a:lnTo>
                <a:lnTo>
                  <a:pt x="670" y="6597"/>
                </a:lnTo>
                <a:lnTo>
                  <a:pt x="635" y="6492"/>
                </a:lnTo>
                <a:lnTo>
                  <a:pt x="599" y="6280"/>
                </a:lnTo>
                <a:lnTo>
                  <a:pt x="529" y="5927"/>
                </a:lnTo>
                <a:lnTo>
                  <a:pt x="458" y="5645"/>
                </a:lnTo>
                <a:lnTo>
                  <a:pt x="423" y="5539"/>
                </a:lnTo>
                <a:lnTo>
                  <a:pt x="458" y="5327"/>
                </a:lnTo>
                <a:lnTo>
                  <a:pt x="493" y="5116"/>
                </a:lnTo>
                <a:lnTo>
                  <a:pt x="529" y="4903"/>
                </a:lnTo>
                <a:lnTo>
                  <a:pt x="599" y="4797"/>
                </a:lnTo>
                <a:lnTo>
                  <a:pt x="670" y="4656"/>
                </a:lnTo>
                <a:lnTo>
                  <a:pt x="776" y="4550"/>
                </a:lnTo>
                <a:lnTo>
                  <a:pt x="811" y="4445"/>
                </a:lnTo>
                <a:lnTo>
                  <a:pt x="846" y="4339"/>
                </a:lnTo>
                <a:lnTo>
                  <a:pt x="881" y="4233"/>
                </a:lnTo>
                <a:lnTo>
                  <a:pt x="952" y="4092"/>
                </a:lnTo>
                <a:lnTo>
                  <a:pt x="987" y="3986"/>
                </a:lnTo>
                <a:lnTo>
                  <a:pt x="1058" y="3845"/>
                </a:lnTo>
                <a:lnTo>
                  <a:pt x="1093" y="3739"/>
                </a:lnTo>
                <a:lnTo>
                  <a:pt x="1128" y="3598"/>
                </a:lnTo>
                <a:lnTo>
                  <a:pt x="1128" y="3386"/>
                </a:lnTo>
                <a:lnTo>
                  <a:pt x="1164" y="3280"/>
                </a:lnTo>
                <a:lnTo>
                  <a:pt x="1199" y="3139"/>
                </a:lnTo>
                <a:lnTo>
                  <a:pt x="1234" y="2998"/>
                </a:lnTo>
                <a:lnTo>
                  <a:pt x="1270" y="2892"/>
                </a:lnTo>
                <a:lnTo>
                  <a:pt x="1305" y="2786"/>
                </a:lnTo>
                <a:lnTo>
                  <a:pt x="1340" y="2645"/>
                </a:lnTo>
                <a:lnTo>
                  <a:pt x="1411" y="2363"/>
                </a:lnTo>
                <a:lnTo>
                  <a:pt x="1516" y="2222"/>
                </a:lnTo>
                <a:lnTo>
                  <a:pt x="1622" y="2116"/>
                </a:lnTo>
                <a:lnTo>
                  <a:pt x="1728" y="2010"/>
                </a:lnTo>
                <a:lnTo>
                  <a:pt x="1799" y="1905"/>
                </a:lnTo>
                <a:lnTo>
                  <a:pt x="1905" y="1799"/>
                </a:lnTo>
                <a:lnTo>
                  <a:pt x="1975" y="1658"/>
                </a:lnTo>
                <a:lnTo>
                  <a:pt x="2046" y="1552"/>
                </a:lnTo>
                <a:lnTo>
                  <a:pt x="2116" y="1446"/>
                </a:lnTo>
                <a:lnTo>
                  <a:pt x="2223" y="1305"/>
                </a:lnTo>
                <a:lnTo>
                  <a:pt x="2364" y="1164"/>
                </a:lnTo>
                <a:lnTo>
                  <a:pt x="2470" y="1093"/>
                </a:lnTo>
                <a:lnTo>
                  <a:pt x="2576" y="987"/>
                </a:lnTo>
                <a:lnTo>
                  <a:pt x="2682" y="917"/>
                </a:lnTo>
                <a:lnTo>
                  <a:pt x="2787" y="846"/>
                </a:lnTo>
                <a:lnTo>
                  <a:pt x="2893" y="776"/>
                </a:lnTo>
                <a:lnTo>
                  <a:pt x="2999" y="705"/>
                </a:lnTo>
                <a:lnTo>
                  <a:pt x="3105" y="670"/>
                </a:lnTo>
                <a:lnTo>
                  <a:pt x="3246" y="635"/>
                </a:lnTo>
                <a:lnTo>
                  <a:pt x="3352" y="599"/>
                </a:lnTo>
                <a:lnTo>
                  <a:pt x="3458" y="599"/>
                </a:lnTo>
                <a:lnTo>
                  <a:pt x="3564" y="564"/>
                </a:lnTo>
                <a:lnTo>
                  <a:pt x="3669" y="529"/>
                </a:lnTo>
                <a:lnTo>
                  <a:pt x="3775" y="529"/>
                </a:lnTo>
                <a:lnTo>
                  <a:pt x="3881" y="529"/>
                </a:lnTo>
                <a:lnTo>
                  <a:pt x="3987" y="529"/>
                </a:lnTo>
                <a:lnTo>
                  <a:pt x="4128" y="564"/>
                </a:lnTo>
                <a:lnTo>
                  <a:pt x="4410" y="564"/>
                </a:lnTo>
                <a:lnTo>
                  <a:pt x="4763" y="599"/>
                </a:lnTo>
                <a:lnTo>
                  <a:pt x="5045" y="635"/>
                </a:lnTo>
                <a:lnTo>
                  <a:pt x="5151" y="635"/>
                </a:lnTo>
                <a:lnTo>
                  <a:pt x="5433" y="670"/>
                </a:lnTo>
                <a:lnTo>
                  <a:pt x="5539" y="705"/>
                </a:lnTo>
                <a:lnTo>
                  <a:pt x="5680" y="776"/>
                </a:lnTo>
                <a:lnTo>
                  <a:pt x="5786" y="811"/>
                </a:lnTo>
                <a:lnTo>
                  <a:pt x="6068" y="917"/>
                </a:lnTo>
                <a:lnTo>
                  <a:pt x="6209" y="1023"/>
                </a:lnTo>
                <a:lnTo>
                  <a:pt x="6315" y="1164"/>
                </a:lnTo>
                <a:lnTo>
                  <a:pt x="6421" y="1305"/>
                </a:lnTo>
                <a:lnTo>
                  <a:pt x="6563" y="1446"/>
                </a:lnTo>
                <a:lnTo>
                  <a:pt x="6669" y="1552"/>
                </a:lnTo>
                <a:lnTo>
                  <a:pt x="6775" y="1658"/>
                </a:lnTo>
                <a:lnTo>
                  <a:pt x="6916" y="1799"/>
                </a:lnTo>
                <a:lnTo>
                  <a:pt x="7128" y="1869"/>
                </a:lnTo>
                <a:lnTo>
                  <a:pt x="7233" y="1975"/>
                </a:lnTo>
                <a:lnTo>
                  <a:pt x="7375" y="2081"/>
                </a:lnTo>
                <a:lnTo>
                  <a:pt x="7480" y="2151"/>
                </a:lnTo>
                <a:lnTo>
                  <a:pt x="7586" y="2293"/>
                </a:lnTo>
                <a:lnTo>
                  <a:pt x="7692" y="2398"/>
                </a:lnTo>
                <a:lnTo>
                  <a:pt x="7798" y="2540"/>
                </a:lnTo>
                <a:lnTo>
                  <a:pt x="7868" y="2645"/>
                </a:lnTo>
                <a:lnTo>
                  <a:pt x="7904" y="2751"/>
                </a:lnTo>
                <a:lnTo>
                  <a:pt x="7939" y="2892"/>
                </a:lnTo>
                <a:lnTo>
                  <a:pt x="7939" y="2998"/>
                </a:lnTo>
                <a:lnTo>
                  <a:pt x="7974" y="3139"/>
                </a:lnTo>
                <a:lnTo>
                  <a:pt x="7974" y="3351"/>
                </a:lnTo>
                <a:lnTo>
                  <a:pt x="8010" y="3492"/>
                </a:lnTo>
                <a:lnTo>
                  <a:pt x="8045" y="3633"/>
                </a:lnTo>
                <a:lnTo>
                  <a:pt x="8045" y="3880"/>
                </a:lnTo>
                <a:lnTo>
                  <a:pt x="8045" y="3986"/>
                </a:lnTo>
                <a:lnTo>
                  <a:pt x="8080" y="4092"/>
                </a:lnTo>
                <a:lnTo>
                  <a:pt x="8080" y="4233"/>
                </a:lnTo>
                <a:lnTo>
                  <a:pt x="8080" y="4374"/>
                </a:lnTo>
                <a:lnTo>
                  <a:pt x="8080" y="4656"/>
                </a:lnTo>
                <a:lnTo>
                  <a:pt x="8080" y="4868"/>
                </a:lnTo>
                <a:lnTo>
                  <a:pt x="8045" y="5151"/>
                </a:lnTo>
                <a:lnTo>
                  <a:pt x="8045" y="5363"/>
                </a:lnTo>
                <a:lnTo>
                  <a:pt x="8010" y="5504"/>
                </a:lnTo>
                <a:lnTo>
                  <a:pt x="7974" y="5610"/>
                </a:lnTo>
                <a:lnTo>
                  <a:pt x="7939" y="5751"/>
                </a:lnTo>
                <a:lnTo>
                  <a:pt x="7904" y="5857"/>
                </a:lnTo>
                <a:lnTo>
                  <a:pt x="7868" y="5998"/>
                </a:lnTo>
                <a:lnTo>
                  <a:pt x="7833" y="6104"/>
                </a:lnTo>
                <a:lnTo>
                  <a:pt x="7833" y="6245"/>
                </a:lnTo>
                <a:lnTo>
                  <a:pt x="7798" y="6527"/>
                </a:lnTo>
                <a:lnTo>
                  <a:pt x="7763" y="6633"/>
                </a:lnTo>
                <a:lnTo>
                  <a:pt x="7763" y="6739"/>
                </a:lnTo>
                <a:lnTo>
                  <a:pt x="7763" y="6844"/>
                </a:lnTo>
                <a:lnTo>
                  <a:pt x="7763" y="6950"/>
                </a:lnTo>
                <a:lnTo>
                  <a:pt x="7763" y="7056"/>
                </a:lnTo>
                <a:lnTo>
                  <a:pt x="7763" y="7162"/>
                </a:lnTo>
                <a:lnTo>
                  <a:pt x="7763" y="7268"/>
                </a:lnTo>
                <a:lnTo>
                  <a:pt x="7763" y="7374"/>
                </a:lnTo>
                <a:lnTo>
                  <a:pt x="7763" y="7479"/>
                </a:lnTo>
                <a:lnTo>
                  <a:pt x="7763" y="7585"/>
                </a:lnTo>
                <a:lnTo>
                  <a:pt x="7763" y="7691"/>
                </a:lnTo>
                <a:lnTo>
                  <a:pt x="7727" y="7797"/>
                </a:lnTo>
                <a:lnTo>
                  <a:pt x="7692" y="7938"/>
                </a:lnTo>
                <a:lnTo>
                  <a:pt x="7657" y="8079"/>
                </a:lnTo>
                <a:lnTo>
                  <a:pt x="7622" y="8185"/>
                </a:lnTo>
                <a:lnTo>
                  <a:pt x="7551" y="8291"/>
                </a:lnTo>
                <a:lnTo>
                  <a:pt x="7516" y="8397"/>
                </a:lnTo>
                <a:lnTo>
                  <a:pt x="7622" y="8432"/>
                </a:lnTo>
                <a:lnTo>
                  <a:pt x="7727" y="8467"/>
                </a:lnTo>
                <a:lnTo>
                  <a:pt x="7833" y="8502"/>
                </a:lnTo>
                <a:lnTo>
                  <a:pt x="7939" y="8573"/>
                </a:lnTo>
                <a:lnTo>
                  <a:pt x="8045" y="8502"/>
                </a:lnTo>
                <a:lnTo>
                  <a:pt x="8045" y="8397"/>
                </a:lnTo>
                <a:lnTo>
                  <a:pt x="8045" y="8255"/>
                </a:lnTo>
                <a:lnTo>
                  <a:pt x="8080" y="8150"/>
                </a:lnTo>
                <a:lnTo>
                  <a:pt x="8186" y="8079"/>
                </a:lnTo>
                <a:lnTo>
                  <a:pt x="8221" y="7973"/>
                </a:lnTo>
                <a:lnTo>
                  <a:pt x="8327" y="7832"/>
                </a:lnTo>
                <a:lnTo>
                  <a:pt x="8327" y="7726"/>
                </a:lnTo>
                <a:lnTo>
                  <a:pt x="8327" y="7620"/>
                </a:lnTo>
                <a:lnTo>
                  <a:pt x="8292" y="7479"/>
                </a:lnTo>
                <a:lnTo>
                  <a:pt x="8221" y="7338"/>
                </a:lnTo>
                <a:lnTo>
                  <a:pt x="8186" y="7232"/>
                </a:lnTo>
                <a:lnTo>
                  <a:pt x="8186" y="7021"/>
                </a:lnTo>
                <a:lnTo>
                  <a:pt x="8151" y="6915"/>
                </a:lnTo>
                <a:lnTo>
                  <a:pt x="8151" y="6774"/>
                </a:lnTo>
                <a:lnTo>
                  <a:pt x="8186" y="6668"/>
                </a:lnTo>
                <a:lnTo>
                  <a:pt x="8221" y="6562"/>
                </a:lnTo>
                <a:lnTo>
                  <a:pt x="8327" y="6421"/>
                </a:lnTo>
                <a:lnTo>
                  <a:pt x="8433" y="6315"/>
                </a:lnTo>
                <a:lnTo>
                  <a:pt x="8468" y="6209"/>
                </a:lnTo>
                <a:lnTo>
                  <a:pt x="8539" y="6104"/>
                </a:lnTo>
                <a:lnTo>
                  <a:pt x="8574" y="5998"/>
                </a:lnTo>
                <a:lnTo>
                  <a:pt x="8574" y="5892"/>
                </a:lnTo>
                <a:lnTo>
                  <a:pt x="8574" y="5786"/>
                </a:lnTo>
                <a:lnTo>
                  <a:pt x="8539" y="5574"/>
                </a:lnTo>
                <a:lnTo>
                  <a:pt x="8539" y="5363"/>
                </a:lnTo>
                <a:lnTo>
                  <a:pt x="8503" y="5151"/>
                </a:lnTo>
                <a:lnTo>
                  <a:pt x="8503" y="5045"/>
                </a:lnTo>
                <a:lnTo>
                  <a:pt x="8539" y="4939"/>
                </a:lnTo>
                <a:lnTo>
                  <a:pt x="8574" y="4797"/>
                </a:lnTo>
                <a:lnTo>
                  <a:pt x="8609" y="4656"/>
                </a:lnTo>
                <a:lnTo>
                  <a:pt x="8609" y="4550"/>
                </a:lnTo>
                <a:lnTo>
                  <a:pt x="8609" y="4409"/>
                </a:lnTo>
                <a:lnTo>
                  <a:pt x="8609" y="4127"/>
                </a:lnTo>
                <a:lnTo>
                  <a:pt x="8609" y="3915"/>
                </a:lnTo>
                <a:lnTo>
                  <a:pt x="8609" y="3810"/>
                </a:lnTo>
                <a:lnTo>
                  <a:pt x="8609" y="3704"/>
                </a:lnTo>
                <a:lnTo>
                  <a:pt x="8609" y="3598"/>
                </a:lnTo>
                <a:lnTo>
                  <a:pt x="8609" y="3351"/>
                </a:lnTo>
                <a:lnTo>
                  <a:pt x="8609" y="3139"/>
                </a:lnTo>
                <a:lnTo>
                  <a:pt x="8574" y="2857"/>
                </a:lnTo>
                <a:lnTo>
                  <a:pt x="8362" y="2504"/>
                </a:lnTo>
                <a:lnTo>
                  <a:pt x="8292" y="2151"/>
                </a:lnTo>
                <a:lnTo>
                  <a:pt x="8221" y="1869"/>
                </a:lnTo>
                <a:lnTo>
                  <a:pt x="8115" y="1905"/>
                </a:lnTo>
                <a:lnTo>
                  <a:pt x="7833" y="1869"/>
                </a:lnTo>
                <a:lnTo>
                  <a:pt x="7727" y="1799"/>
                </a:lnTo>
                <a:lnTo>
                  <a:pt x="7692" y="1587"/>
                </a:lnTo>
                <a:lnTo>
                  <a:pt x="7480" y="1516"/>
                </a:lnTo>
                <a:lnTo>
                  <a:pt x="7445" y="1411"/>
                </a:lnTo>
                <a:lnTo>
                  <a:pt x="7163" y="1305"/>
                </a:lnTo>
                <a:lnTo>
                  <a:pt x="7128" y="1199"/>
                </a:lnTo>
                <a:lnTo>
                  <a:pt x="6881" y="1093"/>
                </a:lnTo>
                <a:lnTo>
                  <a:pt x="6845" y="987"/>
                </a:lnTo>
                <a:lnTo>
                  <a:pt x="6775" y="881"/>
                </a:lnTo>
                <a:lnTo>
                  <a:pt x="6669" y="776"/>
                </a:lnTo>
                <a:lnTo>
                  <a:pt x="6598" y="635"/>
                </a:lnTo>
                <a:lnTo>
                  <a:pt x="6386" y="599"/>
                </a:lnTo>
                <a:lnTo>
                  <a:pt x="6280" y="493"/>
                </a:lnTo>
                <a:lnTo>
                  <a:pt x="6139" y="423"/>
                </a:lnTo>
                <a:lnTo>
                  <a:pt x="5927" y="352"/>
                </a:lnTo>
                <a:lnTo>
                  <a:pt x="5574" y="282"/>
                </a:lnTo>
                <a:lnTo>
                  <a:pt x="5292" y="211"/>
                </a:lnTo>
                <a:lnTo>
                  <a:pt x="5081" y="211"/>
                </a:lnTo>
                <a:lnTo>
                  <a:pt x="4975" y="211"/>
                </a:lnTo>
                <a:lnTo>
                  <a:pt x="4728" y="70"/>
                </a:lnTo>
                <a:lnTo>
                  <a:pt x="4587" y="35"/>
                </a:lnTo>
                <a:lnTo>
                  <a:pt x="4304" y="0"/>
                </a:lnTo>
                <a:lnTo>
                  <a:pt x="4093" y="0"/>
                </a:lnTo>
                <a:lnTo>
                  <a:pt x="3987" y="35"/>
                </a:lnTo>
                <a:lnTo>
                  <a:pt x="3775" y="105"/>
                </a:lnTo>
                <a:lnTo>
                  <a:pt x="3634" y="176"/>
                </a:lnTo>
                <a:lnTo>
                  <a:pt x="3493" y="246"/>
                </a:lnTo>
                <a:lnTo>
                  <a:pt x="3140" y="246"/>
                </a:lnTo>
                <a:lnTo>
                  <a:pt x="2929" y="246"/>
                </a:lnTo>
                <a:lnTo>
                  <a:pt x="2787" y="282"/>
                </a:lnTo>
                <a:lnTo>
                  <a:pt x="2646" y="317"/>
                </a:lnTo>
                <a:lnTo>
                  <a:pt x="2541" y="388"/>
                </a:lnTo>
                <a:lnTo>
                  <a:pt x="2399" y="493"/>
                </a:lnTo>
                <a:lnTo>
                  <a:pt x="2294" y="564"/>
                </a:lnTo>
                <a:lnTo>
                  <a:pt x="2223" y="670"/>
                </a:lnTo>
                <a:lnTo>
                  <a:pt x="2116" y="776"/>
                </a:lnTo>
                <a:lnTo>
                  <a:pt x="2046" y="987"/>
                </a:lnTo>
                <a:lnTo>
                  <a:pt x="1975" y="1093"/>
                </a:lnTo>
                <a:lnTo>
                  <a:pt x="1905" y="1199"/>
                </a:lnTo>
                <a:lnTo>
                  <a:pt x="1799" y="1305"/>
                </a:lnTo>
                <a:lnTo>
                  <a:pt x="1693" y="1375"/>
                </a:lnTo>
                <a:lnTo>
                  <a:pt x="1446" y="1446"/>
                </a:lnTo>
                <a:lnTo>
                  <a:pt x="1164" y="1587"/>
                </a:lnTo>
                <a:lnTo>
                  <a:pt x="1058" y="1693"/>
                </a:lnTo>
                <a:lnTo>
                  <a:pt x="987" y="1975"/>
                </a:lnTo>
                <a:lnTo>
                  <a:pt x="952" y="2081"/>
                </a:lnTo>
                <a:lnTo>
                  <a:pt x="917" y="2187"/>
                </a:lnTo>
                <a:lnTo>
                  <a:pt x="881" y="2293"/>
                </a:lnTo>
                <a:lnTo>
                  <a:pt x="846" y="2434"/>
                </a:lnTo>
                <a:lnTo>
                  <a:pt x="846" y="2540"/>
                </a:lnTo>
                <a:lnTo>
                  <a:pt x="846" y="2645"/>
                </a:lnTo>
                <a:lnTo>
                  <a:pt x="846" y="2751"/>
                </a:lnTo>
                <a:lnTo>
                  <a:pt x="811" y="2857"/>
                </a:lnTo>
                <a:lnTo>
                  <a:pt x="776" y="2963"/>
                </a:lnTo>
                <a:lnTo>
                  <a:pt x="705" y="3069"/>
                </a:lnTo>
                <a:lnTo>
                  <a:pt x="670" y="3175"/>
                </a:lnTo>
                <a:lnTo>
                  <a:pt x="635" y="3280"/>
                </a:lnTo>
                <a:lnTo>
                  <a:pt x="599" y="3421"/>
                </a:lnTo>
                <a:lnTo>
                  <a:pt x="529" y="3563"/>
                </a:lnTo>
                <a:lnTo>
                  <a:pt x="493" y="3668"/>
                </a:lnTo>
                <a:lnTo>
                  <a:pt x="423" y="3774"/>
                </a:lnTo>
                <a:lnTo>
                  <a:pt x="388" y="3880"/>
                </a:lnTo>
                <a:lnTo>
                  <a:pt x="352" y="3986"/>
                </a:lnTo>
                <a:lnTo>
                  <a:pt x="317" y="4127"/>
                </a:lnTo>
                <a:lnTo>
                  <a:pt x="282" y="4233"/>
                </a:lnTo>
                <a:lnTo>
                  <a:pt x="282" y="4339"/>
                </a:lnTo>
                <a:lnTo>
                  <a:pt x="246" y="4445"/>
                </a:lnTo>
                <a:lnTo>
                  <a:pt x="246" y="4550"/>
                </a:lnTo>
                <a:lnTo>
                  <a:pt x="211" y="4656"/>
                </a:lnTo>
                <a:lnTo>
                  <a:pt x="211" y="4797"/>
                </a:lnTo>
                <a:lnTo>
                  <a:pt x="176" y="4903"/>
                </a:lnTo>
                <a:lnTo>
                  <a:pt x="141" y="5010"/>
                </a:lnTo>
                <a:lnTo>
                  <a:pt x="70" y="5116"/>
                </a:lnTo>
                <a:lnTo>
                  <a:pt x="70" y="5363"/>
                </a:lnTo>
                <a:lnTo>
                  <a:pt x="70" y="5504"/>
                </a:lnTo>
                <a:lnTo>
                  <a:pt x="35" y="5645"/>
                </a:lnTo>
                <a:lnTo>
                  <a:pt x="35" y="5857"/>
                </a:lnTo>
                <a:lnTo>
                  <a:pt x="0" y="5962"/>
                </a:lnTo>
                <a:lnTo>
                  <a:pt x="0" y="6068"/>
                </a:lnTo>
                <a:lnTo>
                  <a:pt x="35" y="6174"/>
                </a:lnTo>
                <a:lnTo>
                  <a:pt x="70" y="6280"/>
                </a:lnTo>
                <a:lnTo>
                  <a:pt x="105" y="6421"/>
                </a:lnTo>
                <a:lnTo>
                  <a:pt x="176" y="6562"/>
                </a:lnTo>
                <a:lnTo>
                  <a:pt x="211" y="6844"/>
                </a:lnTo>
                <a:lnTo>
                  <a:pt x="246" y="6950"/>
                </a:lnTo>
                <a:lnTo>
                  <a:pt x="282" y="7091"/>
                </a:lnTo>
                <a:lnTo>
                  <a:pt x="282" y="7338"/>
                </a:lnTo>
                <a:lnTo>
                  <a:pt x="246" y="7444"/>
                </a:lnTo>
                <a:lnTo>
                  <a:pt x="211" y="7585"/>
                </a:lnTo>
                <a:lnTo>
                  <a:pt x="211" y="7691"/>
                </a:lnTo>
                <a:lnTo>
                  <a:pt x="211" y="7832"/>
                </a:lnTo>
                <a:lnTo>
                  <a:pt x="211" y="7938"/>
                </a:lnTo>
                <a:lnTo>
                  <a:pt x="211" y="8079"/>
                </a:lnTo>
                <a:lnTo>
                  <a:pt x="176" y="8220"/>
                </a:lnTo>
                <a:lnTo>
                  <a:pt x="141" y="8326"/>
                </a:lnTo>
                <a:lnTo>
                  <a:pt x="141" y="8432"/>
                </a:lnTo>
                <a:lnTo>
                  <a:pt x="141" y="8573"/>
                </a:lnTo>
                <a:lnTo>
                  <a:pt x="105" y="8679"/>
                </a:lnTo>
                <a:lnTo>
                  <a:pt x="105" y="8785"/>
                </a:lnTo>
                <a:lnTo>
                  <a:pt x="105" y="8890"/>
                </a:lnTo>
                <a:lnTo>
                  <a:pt x="105" y="8996"/>
                </a:lnTo>
                <a:lnTo>
                  <a:pt x="141" y="9137"/>
                </a:lnTo>
                <a:lnTo>
                  <a:pt x="176" y="9243"/>
                </a:lnTo>
                <a:lnTo>
                  <a:pt x="246" y="9349"/>
                </a:lnTo>
                <a:lnTo>
                  <a:pt x="352" y="9420"/>
                </a:lnTo>
                <a:lnTo>
                  <a:pt x="423" y="9525"/>
                </a:lnTo>
                <a:lnTo>
                  <a:pt x="529" y="9631"/>
                </a:lnTo>
                <a:lnTo>
                  <a:pt x="599" y="9737"/>
                </a:lnTo>
                <a:lnTo>
                  <a:pt x="705" y="9808"/>
                </a:lnTo>
                <a:lnTo>
                  <a:pt x="811" y="9808"/>
                </a:lnTo>
                <a:lnTo>
                  <a:pt x="917" y="9737"/>
                </a:lnTo>
                <a:lnTo>
                  <a:pt x="1023" y="9737"/>
                </a:lnTo>
                <a:lnTo>
                  <a:pt x="1128" y="9737"/>
                </a:lnTo>
                <a:lnTo>
                  <a:pt x="1270" y="9737"/>
                </a:lnTo>
                <a:lnTo>
                  <a:pt x="1375" y="9737"/>
                </a:lnTo>
                <a:lnTo>
                  <a:pt x="1481" y="9737"/>
                </a:lnTo>
                <a:lnTo>
                  <a:pt x="1587" y="9737"/>
                </a:lnTo>
                <a:lnTo>
                  <a:pt x="1693" y="9772"/>
                </a:lnTo>
                <a:lnTo>
                  <a:pt x="1799" y="9772"/>
                </a:lnTo>
                <a:lnTo>
                  <a:pt x="1905" y="9772"/>
                </a:lnTo>
                <a:lnTo>
                  <a:pt x="2010" y="9808"/>
                </a:lnTo>
                <a:lnTo>
                  <a:pt x="2116" y="9808"/>
                </a:lnTo>
                <a:lnTo>
                  <a:pt x="2223" y="9808"/>
                </a:lnTo>
                <a:lnTo>
                  <a:pt x="2329" y="9772"/>
                </a:lnTo>
                <a:lnTo>
                  <a:pt x="2435" y="9737"/>
                </a:lnTo>
                <a:lnTo>
                  <a:pt x="2576" y="9737"/>
                </a:lnTo>
                <a:lnTo>
                  <a:pt x="2682" y="9702"/>
                </a:lnTo>
                <a:lnTo>
                  <a:pt x="2823" y="9667"/>
                </a:lnTo>
                <a:lnTo>
                  <a:pt x="2964" y="9631"/>
                </a:lnTo>
                <a:lnTo>
                  <a:pt x="3070" y="9596"/>
                </a:lnTo>
                <a:lnTo>
                  <a:pt x="3176" y="9561"/>
                </a:lnTo>
                <a:lnTo>
                  <a:pt x="3281" y="9525"/>
                </a:lnTo>
                <a:lnTo>
                  <a:pt x="3387" y="9490"/>
                </a:lnTo>
                <a:lnTo>
                  <a:pt x="3493" y="9455"/>
                </a:lnTo>
                <a:lnTo>
                  <a:pt x="3599" y="9455"/>
                </a:lnTo>
                <a:lnTo>
                  <a:pt x="3775" y="9349"/>
                </a:lnTo>
                <a:lnTo>
                  <a:pt x="3811" y="9137"/>
                </a:lnTo>
                <a:lnTo>
                  <a:pt x="3881" y="9032"/>
                </a:lnTo>
                <a:lnTo>
                  <a:pt x="3846" y="9173"/>
                </a:lnTo>
                <a:lnTo>
                  <a:pt x="3775" y="9349"/>
                </a:lnTo>
                <a:close/>
              </a:path>
            </a:pathLst>
          </a:custGeom>
          <a:solidFill>
            <a:srgbClr val="ff9999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380880" y="22860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You Next Time. Bye 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1841400" y="1231920"/>
            <a:ext cx="5905800" cy="4191480"/>
          </a:xfrm>
          <a:custGeom>
            <a:avLst/>
            <a:gdLst/>
            <a:ahLst/>
            <a:rect l="0" t="0" r="r" b="b"/>
            <a:pathLst>
              <a:path w="16405" h="11643">
                <a:moveTo>
                  <a:pt x="8008" y="2081"/>
                </a:moveTo>
                <a:lnTo>
                  <a:pt x="7620" y="2151"/>
                </a:lnTo>
                <a:lnTo>
                  <a:pt x="7196" y="2116"/>
                </a:lnTo>
                <a:lnTo>
                  <a:pt x="6914" y="2081"/>
                </a:lnTo>
                <a:lnTo>
                  <a:pt x="6808" y="1975"/>
                </a:lnTo>
                <a:lnTo>
                  <a:pt x="6702" y="1834"/>
                </a:lnTo>
                <a:lnTo>
                  <a:pt x="6491" y="1763"/>
                </a:lnTo>
                <a:lnTo>
                  <a:pt x="6279" y="1481"/>
                </a:lnTo>
                <a:lnTo>
                  <a:pt x="6067" y="1270"/>
                </a:lnTo>
                <a:lnTo>
                  <a:pt x="5856" y="1058"/>
                </a:lnTo>
                <a:lnTo>
                  <a:pt x="5644" y="987"/>
                </a:lnTo>
                <a:lnTo>
                  <a:pt x="5362" y="917"/>
                </a:lnTo>
                <a:lnTo>
                  <a:pt x="5256" y="881"/>
                </a:lnTo>
                <a:lnTo>
                  <a:pt x="5009" y="917"/>
                </a:lnTo>
                <a:lnTo>
                  <a:pt x="4797" y="952"/>
                </a:lnTo>
                <a:lnTo>
                  <a:pt x="4586" y="987"/>
                </a:lnTo>
                <a:lnTo>
                  <a:pt x="4445" y="1128"/>
                </a:lnTo>
                <a:lnTo>
                  <a:pt x="4374" y="1411"/>
                </a:lnTo>
                <a:lnTo>
                  <a:pt x="4339" y="1693"/>
                </a:lnTo>
                <a:lnTo>
                  <a:pt x="4586" y="1834"/>
                </a:lnTo>
                <a:lnTo>
                  <a:pt x="4797" y="1834"/>
                </a:lnTo>
                <a:lnTo>
                  <a:pt x="5080" y="1940"/>
                </a:lnTo>
                <a:lnTo>
                  <a:pt x="5362" y="1975"/>
                </a:lnTo>
                <a:lnTo>
                  <a:pt x="5503" y="2081"/>
                </a:lnTo>
                <a:lnTo>
                  <a:pt x="5503" y="2187"/>
                </a:lnTo>
                <a:lnTo>
                  <a:pt x="5503" y="2293"/>
                </a:lnTo>
                <a:lnTo>
                  <a:pt x="5503" y="2504"/>
                </a:lnTo>
                <a:lnTo>
                  <a:pt x="5432" y="2786"/>
                </a:lnTo>
                <a:lnTo>
                  <a:pt x="5397" y="2999"/>
                </a:lnTo>
                <a:lnTo>
                  <a:pt x="5291" y="3105"/>
                </a:lnTo>
                <a:lnTo>
                  <a:pt x="4938" y="3105"/>
                </a:lnTo>
                <a:lnTo>
                  <a:pt x="4656" y="3105"/>
                </a:lnTo>
                <a:lnTo>
                  <a:pt x="4374" y="3070"/>
                </a:lnTo>
                <a:lnTo>
                  <a:pt x="4162" y="3034"/>
                </a:lnTo>
                <a:lnTo>
                  <a:pt x="4021" y="2964"/>
                </a:lnTo>
                <a:lnTo>
                  <a:pt x="3774" y="2892"/>
                </a:lnTo>
                <a:lnTo>
                  <a:pt x="3492" y="2822"/>
                </a:lnTo>
                <a:lnTo>
                  <a:pt x="3139" y="2751"/>
                </a:lnTo>
                <a:lnTo>
                  <a:pt x="2928" y="2751"/>
                </a:lnTo>
                <a:lnTo>
                  <a:pt x="2786" y="2751"/>
                </a:lnTo>
                <a:lnTo>
                  <a:pt x="2575" y="2822"/>
                </a:lnTo>
                <a:lnTo>
                  <a:pt x="2293" y="2892"/>
                </a:lnTo>
                <a:lnTo>
                  <a:pt x="2257" y="3105"/>
                </a:lnTo>
                <a:lnTo>
                  <a:pt x="2222" y="3458"/>
                </a:lnTo>
                <a:lnTo>
                  <a:pt x="2222" y="3669"/>
                </a:lnTo>
                <a:lnTo>
                  <a:pt x="2222" y="3775"/>
                </a:lnTo>
                <a:lnTo>
                  <a:pt x="2222" y="3916"/>
                </a:lnTo>
                <a:lnTo>
                  <a:pt x="2293" y="4199"/>
                </a:lnTo>
                <a:lnTo>
                  <a:pt x="2363" y="4304"/>
                </a:lnTo>
                <a:lnTo>
                  <a:pt x="2328" y="4410"/>
                </a:lnTo>
                <a:lnTo>
                  <a:pt x="2046" y="4551"/>
                </a:lnTo>
                <a:lnTo>
                  <a:pt x="1763" y="4587"/>
                </a:lnTo>
                <a:lnTo>
                  <a:pt x="1622" y="4622"/>
                </a:lnTo>
                <a:lnTo>
                  <a:pt x="1375" y="4657"/>
                </a:lnTo>
                <a:lnTo>
                  <a:pt x="1093" y="4728"/>
                </a:lnTo>
                <a:lnTo>
                  <a:pt x="811" y="4763"/>
                </a:lnTo>
                <a:lnTo>
                  <a:pt x="529" y="4834"/>
                </a:lnTo>
                <a:lnTo>
                  <a:pt x="388" y="4975"/>
                </a:lnTo>
                <a:lnTo>
                  <a:pt x="105" y="5257"/>
                </a:lnTo>
                <a:lnTo>
                  <a:pt x="0" y="5539"/>
                </a:lnTo>
                <a:lnTo>
                  <a:pt x="0" y="5751"/>
                </a:lnTo>
                <a:lnTo>
                  <a:pt x="0" y="6033"/>
                </a:lnTo>
                <a:lnTo>
                  <a:pt x="70" y="6315"/>
                </a:lnTo>
                <a:lnTo>
                  <a:pt x="141" y="6421"/>
                </a:lnTo>
                <a:lnTo>
                  <a:pt x="352" y="6456"/>
                </a:lnTo>
                <a:lnTo>
                  <a:pt x="635" y="6492"/>
                </a:lnTo>
                <a:lnTo>
                  <a:pt x="846" y="6492"/>
                </a:lnTo>
                <a:lnTo>
                  <a:pt x="987" y="6456"/>
                </a:lnTo>
                <a:lnTo>
                  <a:pt x="1199" y="6386"/>
                </a:lnTo>
                <a:lnTo>
                  <a:pt x="1305" y="6315"/>
                </a:lnTo>
                <a:lnTo>
                  <a:pt x="1446" y="6315"/>
                </a:lnTo>
                <a:lnTo>
                  <a:pt x="1658" y="6351"/>
                </a:lnTo>
                <a:lnTo>
                  <a:pt x="2081" y="6562"/>
                </a:lnTo>
                <a:lnTo>
                  <a:pt x="2363" y="6633"/>
                </a:lnTo>
                <a:lnTo>
                  <a:pt x="2469" y="6703"/>
                </a:lnTo>
                <a:lnTo>
                  <a:pt x="2504" y="6844"/>
                </a:lnTo>
                <a:lnTo>
                  <a:pt x="2504" y="7056"/>
                </a:lnTo>
                <a:lnTo>
                  <a:pt x="2504" y="7268"/>
                </a:lnTo>
                <a:lnTo>
                  <a:pt x="2469" y="7479"/>
                </a:lnTo>
                <a:lnTo>
                  <a:pt x="2434" y="7762"/>
                </a:lnTo>
                <a:lnTo>
                  <a:pt x="2398" y="7973"/>
                </a:lnTo>
                <a:lnTo>
                  <a:pt x="2293" y="8114"/>
                </a:lnTo>
                <a:lnTo>
                  <a:pt x="2257" y="8326"/>
                </a:lnTo>
                <a:lnTo>
                  <a:pt x="2257" y="8467"/>
                </a:lnTo>
                <a:lnTo>
                  <a:pt x="2257" y="8608"/>
                </a:lnTo>
                <a:lnTo>
                  <a:pt x="2328" y="8821"/>
                </a:lnTo>
                <a:lnTo>
                  <a:pt x="2398" y="9033"/>
                </a:lnTo>
                <a:lnTo>
                  <a:pt x="2681" y="9103"/>
                </a:lnTo>
                <a:lnTo>
                  <a:pt x="2892" y="9138"/>
                </a:lnTo>
                <a:lnTo>
                  <a:pt x="3175" y="9209"/>
                </a:lnTo>
                <a:lnTo>
                  <a:pt x="3316" y="9244"/>
                </a:lnTo>
                <a:lnTo>
                  <a:pt x="3527" y="9209"/>
                </a:lnTo>
                <a:lnTo>
                  <a:pt x="3668" y="9138"/>
                </a:lnTo>
                <a:lnTo>
                  <a:pt x="3951" y="9033"/>
                </a:lnTo>
                <a:lnTo>
                  <a:pt x="4092" y="8962"/>
                </a:lnTo>
                <a:lnTo>
                  <a:pt x="4233" y="8892"/>
                </a:lnTo>
                <a:lnTo>
                  <a:pt x="4339" y="8892"/>
                </a:lnTo>
                <a:lnTo>
                  <a:pt x="4621" y="8997"/>
                </a:lnTo>
                <a:lnTo>
                  <a:pt x="4762" y="9103"/>
                </a:lnTo>
                <a:lnTo>
                  <a:pt x="4797" y="9209"/>
                </a:lnTo>
                <a:lnTo>
                  <a:pt x="4833" y="9315"/>
                </a:lnTo>
                <a:lnTo>
                  <a:pt x="4833" y="9456"/>
                </a:lnTo>
                <a:lnTo>
                  <a:pt x="4833" y="9738"/>
                </a:lnTo>
                <a:lnTo>
                  <a:pt x="4797" y="9879"/>
                </a:lnTo>
                <a:lnTo>
                  <a:pt x="4797" y="9985"/>
                </a:lnTo>
                <a:lnTo>
                  <a:pt x="4797" y="10197"/>
                </a:lnTo>
                <a:lnTo>
                  <a:pt x="4833" y="10408"/>
                </a:lnTo>
                <a:lnTo>
                  <a:pt x="4833" y="10691"/>
                </a:lnTo>
                <a:lnTo>
                  <a:pt x="4868" y="10973"/>
                </a:lnTo>
                <a:lnTo>
                  <a:pt x="4903" y="11185"/>
                </a:lnTo>
                <a:lnTo>
                  <a:pt x="4974" y="11290"/>
                </a:lnTo>
                <a:lnTo>
                  <a:pt x="5115" y="11432"/>
                </a:lnTo>
                <a:lnTo>
                  <a:pt x="5221" y="11432"/>
                </a:lnTo>
                <a:lnTo>
                  <a:pt x="5503" y="11432"/>
                </a:lnTo>
                <a:lnTo>
                  <a:pt x="5644" y="11396"/>
                </a:lnTo>
                <a:lnTo>
                  <a:pt x="5715" y="11290"/>
                </a:lnTo>
                <a:lnTo>
                  <a:pt x="5715" y="11149"/>
                </a:lnTo>
                <a:lnTo>
                  <a:pt x="5679" y="10938"/>
                </a:lnTo>
                <a:lnTo>
                  <a:pt x="5679" y="10832"/>
                </a:lnTo>
                <a:lnTo>
                  <a:pt x="5679" y="10620"/>
                </a:lnTo>
                <a:lnTo>
                  <a:pt x="5644" y="10267"/>
                </a:lnTo>
                <a:lnTo>
                  <a:pt x="5644" y="9985"/>
                </a:lnTo>
                <a:lnTo>
                  <a:pt x="5644" y="9703"/>
                </a:lnTo>
                <a:lnTo>
                  <a:pt x="5679" y="9562"/>
                </a:lnTo>
                <a:lnTo>
                  <a:pt x="5715" y="9350"/>
                </a:lnTo>
                <a:lnTo>
                  <a:pt x="5820" y="9209"/>
                </a:lnTo>
                <a:lnTo>
                  <a:pt x="6103" y="9209"/>
                </a:lnTo>
                <a:lnTo>
                  <a:pt x="6244" y="9280"/>
                </a:lnTo>
                <a:lnTo>
                  <a:pt x="6385" y="9421"/>
                </a:lnTo>
                <a:lnTo>
                  <a:pt x="6455" y="9562"/>
                </a:lnTo>
                <a:lnTo>
                  <a:pt x="6526" y="9703"/>
                </a:lnTo>
                <a:lnTo>
                  <a:pt x="6561" y="9844"/>
                </a:lnTo>
                <a:lnTo>
                  <a:pt x="6596" y="10126"/>
                </a:lnTo>
                <a:lnTo>
                  <a:pt x="6632" y="10408"/>
                </a:lnTo>
                <a:lnTo>
                  <a:pt x="6667" y="10620"/>
                </a:lnTo>
                <a:lnTo>
                  <a:pt x="6702" y="10832"/>
                </a:lnTo>
                <a:lnTo>
                  <a:pt x="6914" y="11114"/>
                </a:lnTo>
                <a:lnTo>
                  <a:pt x="7126" y="11326"/>
                </a:lnTo>
                <a:lnTo>
                  <a:pt x="7408" y="11537"/>
                </a:lnTo>
                <a:lnTo>
                  <a:pt x="7690" y="11608"/>
                </a:lnTo>
                <a:lnTo>
                  <a:pt x="7902" y="11608"/>
                </a:lnTo>
                <a:lnTo>
                  <a:pt x="8184" y="11643"/>
                </a:lnTo>
                <a:lnTo>
                  <a:pt x="8467" y="11643"/>
                </a:lnTo>
                <a:lnTo>
                  <a:pt x="8608" y="11608"/>
                </a:lnTo>
                <a:lnTo>
                  <a:pt x="8749" y="11502"/>
                </a:lnTo>
                <a:lnTo>
                  <a:pt x="8820" y="11149"/>
                </a:lnTo>
                <a:lnTo>
                  <a:pt x="8820" y="10797"/>
                </a:lnTo>
                <a:lnTo>
                  <a:pt x="8820" y="10585"/>
                </a:lnTo>
                <a:lnTo>
                  <a:pt x="8820" y="10303"/>
                </a:lnTo>
                <a:lnTo>
                  <a:pt x="8820" y="10091"/>
                </a:lnTo>
                <a:lnTo>
                  <a:pt x="8820" y="9950"/>
                </a:lnTo>
                <a:lnTo>
                  <a:pt x="8820" y="9738"/>
                </a:lnTo>
                <a:lnTo>
                  <a:pt x="8855" y="9597"/>
                </a:lnTo>
                <a:lnTo>
                  <a:pt x="8961" y="9491"/>
                </a:lnTo>
                <a:lnTo>
                  <a:pt x="9173" y="9491"/>
                </a:lnTo>
                <a:lnTo>
                  <a:pt x="9279" y="9456"/>
                </a:lnTo>
                <a:lnTo>
                  <a:pt x="9420" y="9456"/>
                </a:lnTo>
                <a:lnTo>
                  <a:pt x="9702" y="9527"/>
                </a:lnTo>
                <a:lnTo>
                  <a:pt x="10125" y="9738"/>
                </a:lnTo>
                <a:lnTo>
                  <a:pt x="10478" y="9950"/>
                </a:lnTo>
                <a:lnTo>
                  <a:pt x="10831" y="10020"/>
                </a:lnTo>
                <a:lnTo>
                  <a:pt x="11113" y="10303"/>
                </a:lnTo>
                <a:lnTo>
                  <a:pt x="11395" y="10514"/>
                </a:lnTo>
                <a:lnTo>
                  <a:pt x="11677" y="10726"/>
                </a:lnTo>
                <a:lnTo>
                  <a:pt x="11819" y="10797"/>
                </a:lnTo>
                <a:lnTo>
                  <a:pt x="12207" y="10832"/>
                </a:lnTo>
                <a:lnTo>
                  <a:pt x="12630" y="10832"/>
                </a:lnTo>
                <a:lnTo>
                  <a:pt x="12842" y="10761"/>
                </a:lnTo>
                <a:lnTo>
                  <a:pt x="13194" y="10620"/>
                </a:lnTo>
                <a:lnTo>
                  <a:pt x="13406" y="10550"/>
                </a:lnTo>
                <a:lnTo>
                  <a:pt x="13688" y="10444"/>
                </a:lnTo>
                <a:lnTo>
                  <a:pt x="13794" y="10338"/>
                </a:lnTo>
                <a:lnTo>
                  <a:pt x="13865" y="10056"/>
                </a:lnTo>
                <a:lnTo>
                  <a:pt x="13900" y="9844"/>
                </a:lnTo>
                <a:lnTo>
                  <a:pt x="13900" y="9632"/>
                </a:lnTo>
                <a:lnTo>
                  <a:pt x="13900" y="9527"/>
                </a:lnTo>
                <a:lnTo>
                  <a:pt x="13829" y="9315"/>
                </a:lnTo>
                <a:lnTo>
                  <a:pt x="13618" y="9033"/>
                </a:lnTo>
                <a:lnTo>
                  <a:pt x="13547" y="8750"/>
                </a:lnTo>
                <a:lnTo>
                  <a:pt x="13477" y="8538"/>
                </a:lnTo>
                <a:lnTo>
                  <a:pt x="13477" y="8397"/>
                </a:lnTo>
                <a:lnTo>
                  <a:pt x="13441" y="8256"/>
                </a:lnTo>
                <a:lnTo>
                  <a:pt x="13441" y="7973"/>
                </a:lnTo>
                <a:lnTo>
                  <a:pt x="13477" y="7762"/>
                </a:lnTo>
                <a:lnTo>
                  <a:pt x="13547" y="7550"/>
                </a:lnTo>
                <a:lnTo>
                  <a:pt x="13653" y="7409"/>
                </a:lnTo>
                <a:lnTo>
                  <a:pt x="13794" y="7338"/>
                </a:lnTo>
                <a:lnTo>
                  <a:pt x="14076" y="7268"/>
                </a:lnTo>
                <a:lnTo>
                  <a:pt x="14359" y="7232"/>
                </a:lnTo>
                <a:lnTo>
                  <a:pt x="14570" y="7232"/>
                </a:lnTo>
                <a:lnTo>
                  <a:pt x="14711" y="7197"/>
                </a:lnTo>
                <a:lnTo>
                  <a:pt x="14923" y="7162"/>
                </a:lnTo>
                <a:lnTo>
                  <a:pt x="15135" y="7127"/>
                </a:lnTo>
                <a:lnTo>
                  <a:pt x="15346" y="7127"/>
                </a:lnTo>
                <a:lnTo>
                  <a:pt x="15629" y="7056"/>
                </a:lnTo>
                <a:lnTo>
                  <a:pt x="15911" y="6915"/>
                </a:lnTo>
                <a:lnTo>
                  <a:pt x="16017" y="6809"/>
                </a:lnTo>
                <a:lnTo>
                  <a:pt x="16228" y="6597"/>
                </a:lnTo>
                <a:lnTo>
                  <a:pt x="16299" y="6386"/>
                </a:lnTo>
                <a:lnTo>
                  <a:pt x="16369" y="6104"/>
                </a:lnTo>
                <a:lnTo>
                  <a:pt x="16405" y="5892"/>
                </a:lnTo>
                <a:lnTo>
                  <a:pt x="16405" y="5680"/>
                </a:lnTo>
                <a:lnTo>
                  <a:pt x="16405" y="5539"/>
                </a:lnTo>
                <a:lnTo>
                  <a:pt x="16405" y="5257"/>
                </a:lnTo>
                <a:lnTo>
                  <a:pt x="16334" y="4975"/>
                </a:lnTo>
                <a:lnTo>
                  <a:pt x="16264" y="4763"/>
                </a:lnTo>
                <a:lnTo>
                  <a:pt x="16052" y="4551"/>
                </a:lnTo>
                <a:lnTo>
                  <a:pt x="15487" y="4587"/>
                </a:lnTo>
                <a:lnTo>
                  <a:pt x="15205" y="4622"/>
                </a:lnTo>
                <a:lnTo>
                  <a:pt x="14994" y="4692"/>
                </a:lnTo>
                <a:lnTo>
                  <a:pt x="14782" y="4728"/>
                </a:lnTo>
                <a:lnTo>
                  <a:pt x="14570" y="4728"/>
                </a:lnTo>
                <a:lnTo>
                  <a:pt x="14359" y="4763"/>
                </a:lnTo>
                <a:lnTo>
                  <a:pt x="14147" y="4798"/>
                </a:lnTo>
                <a:lnTo>
                  <a:pt x="13935" y="4798"/>
                </a:lnTo>
                <a:lnTo>
                  <a:pt x="13829" y="4798"/>
                </a:lnTo>
                <a:lnTo>
                  <a:pt x="13618" y="4798"/>
                </a:lnTo>
                <a:lnTo>
                  <a:pt x="13406" y="4763"/>
                </a:lnTo>
                <a:lnTo>
                  <a:pt x="13336" y="4657"/>
                </a:lnTo>
                <a:lnTo>
                  <a:pt x="13336" y="4516"/>
                </a:lnTo>
                <a:lnTo>
                  <a:pt x="13371" y="4375"/>
                </a:lnTo>
                <a:lnTo>
                  <a:pt x="13406" y="4163"/>
                </a:lnTo>
                <a:lnTo>
                  <a:pt x="13441" y="3952"/>
                </a:lnTo>
                <a:lnTo>
                  <a:pt x="13724" y="3669"/>
                </a:lnTo>
                <a:lnTo>
                  <a:pt x="13935" y="3599"/>
                </a:lnTo>
                <a:lnTo>
                  <a:pt x="14006" y="3387"/>
                </a:lnTo>
                <a:lnTo>
                  <a:pt x="14147" y="3246"/>
                </a:lnTo>
                <a:lnTo>
                  <a:pt x="14429" y="2964"/>
                </a:lnTo>
                <a:lnTo>
                  <a:pt x="14641" y="2681"/>
                </a:lnTo>
                <a:lnTo>
                  <a:pt x="14711" y="2398"/>
                </a:lnTo>
                <a:lnTo>
                  <a:pt x="14817" y="2116"/>
                </a:lnTo>
                <a:lnTo>
                  <a:pt x="14888" y="1834"/>
                </a:lnTo>
                <a:lnTo>
                  <a:pt x="14923" y="1552"/>
                </a:lnTo>
                <a:lnTo>
                  <a:pt x="14923" y="1270"/>
                </a:lnTo>
                <a:lnTo>
                  <a:pt x="14888" y="987"/>
                </a:lnTo>
                <a:lnTo>
                  <a:pt x="14852" y="705"/>
                </a:lnTo>
                <a:lnTo>
                  <a:pt x="14641" y="352"/>
                </a:lnTo>
                <a:lnTo>
                  <a:pt x="14288" y="70"/>
                </a:lnTo>
                <a:lnTo>
                  <a:pt x="14147" y="0"/>
                </a:lnTo>
                <a:lnTo>
                  <a:pt x="13935" y="0"/>
                </a:lnTo>
                <a:lnTo>
                  <a:pt x="13724" y="0"/>
                </a:lnTo>
                <a:lnTo>
                  <a:pt x="13441" y="35"/>
                </a:lnTo>
                <a:lnTo>
                  <a:pt x="13159" y="35"/>
                </a:lnTo>
                <a:lnTo>
                  <a:pt x="12947" y="70"/>
                </a:lnTo>
                <a:lnTo>
                  <a:pt x="12736" y="105"/>
                </a:lnTo>
                <a:lnTo>
                  <a:pt x="12630" y="211"/>
                </a:lnTo>
                <a:lnTo>
                  <a:pt x="12489" y="493"/>
                </a:lnTo>
                <a:lnTo>
                  <a:pt x="12418" y="705"/>
                </a:lnTo>
                <a:lnTo>
                  <a:pt x="12136" y="917"/>
                </a:lnTo>
                <a:lnTo>
                  <a:pt x="11924" y="1128"/>
                </a:lnTo>
                <a:lnTo>
                  <a:pt x="11819" y="1199"/>
                </a:lnTo>
                <a:lnTo>
                  <a:pt x="11395" y="1164"/>
                </a:lnTo>
                <a:lnTo>
                  <a:pt x="10901" y="1128"/>
                </a:lnTo>
                <a:lnTo>
                  <a:pt x="10407" y="1093"/>
                </a:lnTo>
                <a:lnTo>
                  <a:pt x="10055" y="1023"/>
                </a:lnTo>
                <a:lnTo>
                  <a:pt x="9843" y="987"/>
                </a:lnTo>
                <a:lnTo>
                  <a:pt x="9702" y="917"/>
                </a:lnTo>
                <a:lnTo>
                  <a:pt x="9420" y="917"/>
                </a:lnTo>
                <a:lnTo>
                  <a:pt x="9208" y="952"/>
                </a:lnTo>
                <a:lnTo>
                  <a:pt x="8855" y="1023"/>
                </a:lnTo>
                <a:lnTo>
                  <a:pt x="8573" y="1058"/>
                </a:lnTo>
                <a:lnTo>
                  <a:pt x="8361" y="1128"/>
                </a:lnTo>
                <a:lnTo>
                  <a:pt x="8291" y="1234"/>
                </a:lnTo>
                <a:lnTo>
                  <a:pt x="8256" y="1375"/>
                </a:lnTo>
                <a:lnTo>
                  <a:pt x="8220" y="1516"/>
                </a:lnTo>
                <a:lnTo>
                  <a:pt x="8184" y="1658"/>
                </a:lnTo>
                <a:lnTo>
                  <a:pt x="8078" y="1799"/>
                </a:lnTo>
                <a:lnTo>
                  <a:pt x="8008" y="2081"/>
                </a:lnTo>
                <a:close/>
              </a:path>
            </a:pathLst>
          </a:custGeom>
          <a:solidFill>
            <a:srgbClr val="e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3692520" y="1514520"/>
            <a:ext cx="2642040" cy="2089440"/>
            <a:chOff x="3692520" y="1514520"/>
            <a:chExt cx="2642040" cy="2089440"/>
          </a:xfrm>
        </p:grpSpPr>
        <p:sp>
          <p:nvSpPr>
            <p:cNvPr id="690" name=""/>
            <p:cNvSpPr/>
            <p:nvPr/>
          </p:nvSpPr>
          <p:spPr>
            <a:xfrm>
              <a:off x="3700440" y="1514520"/>
              <a:ext cx="2634120" cy="2089440"/>
            </a:xfrm>
            <a:custGeom>
              <a:avLst/>
              <a:gdLst/>
              <a:ahLst/>
              <a:rect l="0" t="0" r="r" b="b"/>
              <a:pathLst>
                <a:path w="7317" h="5804">
                  <a:moveTo>
                    <a:pt x="4326" y="3109"/>
                  </a:moveTo>
                  <a:lnTo>
                    <a:pt x="0" y="5804"/>
                  </a:lnTo>
                  <a:lnTo>
                    <a:pt x="17" y="5226"/>
                  </a:lnTo>
                  <a:lnTo>
                    <a:pt x="339" y="4472"/>
                  </a:lnTo>
                  <a:lnTo>
                    <a:pt x="1697" y="3246"/>
                  </a:lnTo>
                  <a:lnTo>
                    <a:pt x="4053" y="1605"/>
                  </a:lnTo>
                  <a:lnTo>
                    <a:pt x="4979" y="1106"/>
                  </a:lnTo>
                  <a:lnTo>
                    <a:pt x="6757" y="0"/>
                  </a:lnTo>
                  <a:lnTo>
                    <a:pt x="7317" y="679"/>
                  </a:lnTo>
                  <a:lnTo>
                    <a:pt x="5226" y="2072"/>
                  </a:lnTo>
                  <a:lnTo>
                    <a:pt x="4565" y="2213"/>
                  </a:lnTo>
                  <a:lnTo>
                    <a:pt x="4075" y="2513"/>
                  </a:lnTo>
                  <a:lnTo>
                    <a:pt x="4326" y="3109"/>
                  </a:lnTo>
                  <a:close/>
                </a:path>
              </a:pathLst>
            </a:custGeom>
            <a:blipFill rotWithShape="0">
              <a:blip r:embed="rId1"/>
              <a:tile tx="0" ty="0" sx="3528125" sy="3528125" algn="ctr"/>
            </a:blip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692520" y="2209680"/>
              <a:ext cx="1446480" cy="1335600"/>
            </a:xfrm>
            <a:custGeom>
              <a:avLst/>
              <a:gdLst/>
              <a:ahLst/>
              <a:rect l="0" t="0" r="r" b="b"/>
              <a:pathLst>
                <a:path w="4018" h="3710">
                  <a:moveTo>
                    <a:pt x="4018" y="551"/>
                  </a:moveTo>
                  <a:lnTo>
                    <a:pt x="3687" y="940"/>
                  </a:lnTo>
                  <a:lnTo>
                    <a:pt x="3092" y="935"/>
                  </a:lnTo>
                  <a:lnTo>
                    <a:pt x="2682" y="1570"/>
                  </a:lnTo>
                  <a:lnTo>
                    <a:pt x="1790" y="2122"/>
                  </a:lnTo>
                  <a:lnTo>
                    <a:pt x="1314" y="2413"/>
                  </a:lnTo>
                  <a:lnTo>
                    <a:pt x="762" y="2850"/>
                  </a:lnTo>
                  <a:lnTo>
                    <a:pt x="0" y="3710"/>
                  </a:lnTo>
                  <a:lnTo>
                    <a:pt x="291" y="2646"/>
                  </a:lnTo>
                  <a:lnTo>
                    <a:pt x="996" y="1963"/>
                  </a:lnTo>
                  <a:lnTo>
                    <a:pt x="2020" y="1059"/>
                  </a:lnTo>
                  <a:lnTo>
                    <a:pt x="2655" y="635"/>
                  </a:lnTo>
                  <a:lnTo>
                    <a:pt x="3502" y="0"/>
                  </a:lnTo>
                  <a:lnTo>
                    <a:pt x="4018" y="55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965840" y="1536840"/>
              <a:ext cx="1321200" cy="864000"/>
            </a:xfrm>
            <a:custGeom>
              <a:avLst/>
              <a:gdLst/>
              <a:ahLst/>
              <a:rect l="0" t="0" r="r" b="b"/>
              <a:pathLst>
                <a:path w="3670" h="2400">
                  <a:moveTo>
                    <a:pt x="0" y="1977"/>
                  </a:moveTo>
                  <a:lnTo>
                    <a:pt x="352" y="2400"/>
                  </a:lnTo>
                  <a:lnTo>
                    <a:pt x="1623" y="2048"/>
                  </a:lnTo>
                  <a:lnTo>
                    <a:pt x="3670" y="636"/>
                  </a:lnTo>
                  <a:lnTo>
                    <a:pt x="3212" y="0"/>
                  </a:lnTo>
                  <a:lnTo>
                    <a:pt x="0" y="1977"/>
                  </a:lnTo>
                  <a:close/>
                </a:path>
              </a:pathLst>
            </a:custGeom>
            <a:solidFill>
              <a:srgbClr val="9933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"/>
          <p:cNvSpPr txBox="1"/>
          <p:nvPr/>
        </p:nvSpPr>
        <p:spPr>
          <a:xfrm>
            <a:off x="685800" y="2438280"/>
            <a:ext cx="79246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9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END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2819520" y="4419720"/>
            <a:ext cx="1219680" cy="171720"/>
            <a:chOff x="2819520" y="4419720"/>
            <a:chExt cx="1219680" cy="171720"/>
          </a:xfrm>
        </p:grpSpPr>
        <p:sp>
          <p:nvSpPr>
            <p:cNvPr id="59" name=""/>
            <p:cNvSpPr/>
            <p:nvPr/>
          </p:nvSpPr>
          <p:spPr>
            <a:xfrm>
              <a:off x="2819520" y="4419720"/>
              <a:ext cx="1219680" cy="171720"/>
            </a:xfrm>
            <a:custGeom>
              <a:avLst/>
              <a:gdLst/>
              <a:ahLst/>
              <a:rect l="0" t="0" r="r" b="b"/>
              <a:pathLst>
                <a:path w="3388" h="477">
                  <a:moveTo>
                    <a:pt x="1932" y="477"/>
                  </a:moveTo>
                  <a:lnTo>
                    <a:pt x="0" y="477"/>
                  </a:lnTo>
                  <a:lnTo>
                    <a:pt x="132" y="318"/>
                  </a:lnTo>
                  <a:lnTo>
                    <a:pt x="396" y="158"/>
                  </a:lnTo>
                  <a:lnTo>
                    <a:pt x="1085" y="52"/>
                  </a:lnTo>
                  <a:lnTo>
                    <a:pt x="2170" y="0"/>
                  </a:lnTo>
                  <a:lnTo>
                    <a:pt x="2568" y="26"/>
                  </a:lnTo>
                  <a:lnTo>
                    <a:pt x="3362" y="26"/>
                  </a:lnTo>
                  <a:lnTo>
                    <a:pt x="3388" y="318"/>
                  </a:lnTo>
                  <a:lnTo>
                    <a:pt x="2435" y="344"/>
                  </a:lnTo>
                  <a:lnTo>
                    <a:pt x="2197" y="265"/>
                  </a:lnTo>
                  <a:lnTo>
                    <a:pt x="1985" y="265"/>
                  </a:lnTo>
                  <a:lnTo>
                    <a:pt x="1932" y="477"/>
                  </a:lnTo>
                  <a:close/>
                </a:path>
              </a:pathLst>
            </a:custGeom>
            <a:blipFill rotWithShape="0">
              <a:blip r:embed="rId1"/>
              <a:tile tx="0" ty="0" sx="3528125" sy="3528125" algn="ctr"/>
            </a:blip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828880" y="4438800"/>
              <a:ext cx="695520" cy="133560"/>
            </a:xfrm>
            <a:custGeom>
              <a:avLst/>
              <a:gdLst/>
              <a:ahLst/>
              <a:rect l="0" t="0" r="r" b="b"/>
              <a:pathLst>
                <a:path w="1932" h="371">
                  <a:moveTo>
                    <a:pt x="1932" y="186"/>
                  </a:moveTo>
                  <a:lnTo>
                    <a:pt x="1747" y="239"/>
                  </a:lnTo>
                  <a:lnTo>
                    <a:pt x="1562" y="132"/>
                  </a:lnTo>
                  <a:lnTo>
                    <a:pt x="1297" y="239"/>
                  </a:lnTo>
                  <a:lnTo>
                    <a:pt x="899" y="239"/>
                  </a:lnTo>
                  <a:lnTo>
                    <a:pt x="687" y="239"/>
                  </a:lnTo>
                  <a:lnTo>
                    <a:pt x="423" y="265"/>
                  </a:lnTo>
                  <a:lnTo>
                    <a:pt x="0" y="371"/>
                  </a:lnTo>
                  <a:lnTo>
                    <a:pt x="396" y="186"/>
                  </a:lnTo>
                  <a:lnTo>
                    <a:pt x="687" y="52"/>
                  </a:lnTo>
                  <a:lnTo>
                    <a:pt x="1218" y="26"/>
                  </a:lnTo>
                  <a:lnTo>
                    <a:pt x="1509" y="0"/>
                  </a:lnTo>
                  <a:lnTo>
                    <a:pt x="1932" y="0"/>
                  </a:lnTo>
                  <a:lnTo>
                    <a:pt x="1932" y="18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24400" y="4424400"/>
              <a:ext cx="495720" cy="124200"/>
            </a:xfrm>
            <a:custGeom>
              <a:avLst/>
              <a:gdLst/>
              <a:ahLst/>
              <a:rect l="0" t="0" r="r" b="b"/>
              <a:pathLst>
                <a:path w="1377" h="345">
                  <a:moveTo>
                    <a:pt x="0" y="0"/>
                  </a:moveTo>
                  <a:lnTo>
                    <a:pt x="26" y="186"/>
                  </a:lnTo>
                  <a:lnTo>
                    <a:pt x="397" y="345"/>
                  </a:lnTo>
                  <a:lnTo>
                    <a:pt x="1377" y="293"/>
                  </a:lnTo>
                  <a:lnTo>
                    <a:pt x="1377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3638520" y="4448160"/>
            <a:ext cx="1514880" cy="1867320"/>
            <a:chOff x="3638520" y="4448160"/>
            <a:chExt cx="1514880" cy="1867320"/>
          </a:xfrm>
        </p:grpSpPr>
        <p:sp>
          <p:nvSpPr>
            <p:cNvPr id="63" name=""/>
            <p:cNvSpPr/>
            <p:nvPr/>
          </p:nvSpPr>
          <p:spPr>
            <a:xfrm>
              <a:off x="4019400" y="4448160"/>
              <a:ext cx="657720" cy="1724400"/>
            </a:xfrm>
            <a:custGeom>
              <a:avLst/>
              <a:gdLst/>
              <a:ahLst/>
              <a:rect l="0" t="0" r="r" b="b"/>
              <a:pathLst>
                <a:path w="1827" h="4790">
                  <a:moveTo>
                    <a:pt x="0" y="0"/>
                  </a:moveTo>
                  <a:lnTo>
                    <a:pt x="317" y="4790"/>
                  </a:lnTo>
                  <a:lnTo>
                    <a:pt x="1032" y="4790"/>
                  </a:lnTo>
                  <a:lnTo>
                    <a:pt x="927" y="1297"/>
                  </a:lnTo>
                  <a:lnTo>
                    <a:pt x="1032" y="4790"/>
                  </a:lnTo>
                  <a:lnTo>
                    <a:pt x="1827" y="4790"/>
                  </a:lnTo>
                  <a:lnTo>
                    <a:pt x="1748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638520" y="6105600"/>
              <a:ext cx="752760" cy="209880"/>
            </a:xfrm>
            <a:custGeom>
              <a:avLst/>
              <a:gdLst/>
              <a:ahLst/>
              <a:rect l="0" t="0" r="r" b="b"/>
              <a:pathLst>
                <a:path w="2091" h="583">
                  <a:moveTo>
                    <a:pt x="1376" y="185"/>
                  </a:moveTo>
                  <a:lnTo>
                    <a:pt x="978" y="52"/>
                  </a:lnTo>
                  <a:lnTo>
                    <a:pt x="714" y="0"/>
                  </a:lnTo>
                  <a:lnTo>
                    <a:pt x="423" y="105"/>
                  </a:lnTo>
                  <a:lnTo>
                    <a:pt x="132" y="264"/>
                  </a:lnTo>
                  <a:lnTo>
                    <a:pt x="0" y="477"/>
                  </a:lnTo>
                  <a:lnTo>
                    <a:pt x="185" y="583"/>
                  </a:lnTo>
                  <a:lnTo>
                    <a:pt x="2091" y="583"/>
                  </a:lnTo>
                  <a:lnTo>
                    <a:pt x="2091" y="185"/>
                  </a:lnTo>
                  <a:lnTo>
                    <a:pt x="1376" y="185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400640" y="6105600"/>
              <a:ext cx="752760" cy="209880"/>
            </a:xfrm>
            <a:custGeom>
              <a:avLst/>
              <a:gdLst/>
              <a:ahLst/>
              <a:rect l="0" t="0" r="r" b="b"/>
              <a:pathLst>
                <a:path w="2091" h="583">
                  <a:moveTo>
                    <a:pt x="714" y="185"/>
                  </a:moveTo>
                  <a:lnTo>
                    <a:pt x="1112" y="52"/>
                  </a:lnTo>
                  <a:lnTo>
                    <a:pt x="1376" y="0"/>
                  </a:lnTo>
                  <a:lnTo>
                    <a:pt x="1667" y="105"/>
                  </a:lnTo>
                  <a:lnTo>
                    <a:pt x="1958" y="264"/>
                  </a:lnTo>
                  <a:lnTo>
                    <a:pt x="2091" y="477"/>
                  </a:lnTo>
                  <a:lnTo>
                    <a:pt x="1906" y="583"/>
                  </a:lnTo>
                  <a:lnTo>
                    <a:pt x="0" y="583"/>
                  </a:lnTo>
                  <a:lnTo>
                    <a:pt x="0" y="185"/>
                  </a:lnTo>
                  <a:lnTo>
                    <a:pt x="714" y="185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3681360" y="3200400"/>
            <a:ext cx="509760" cy="1443240"/>
            <a:chOff x="3681360" y="3200400"/>
            <a:chExt cx="509760" cy="1443240"/>
          </a:xfrm>
        </p:grpSpPr>
        <p:sp>
          <p:nvSpPr>
            <p:cNvPr id="67" name=""/>
            <p:cNvSpPr/>
            <p:nvPr/>
          </p:nvSpPr>
          <p:spPr>
            <a:xfrm>
              <a:off x="3705120" y="3200400"/>
              <a:ext cx="486000" cy="1190880"/>
            </a:xfrm>
            <a:custGeom>
              <a:avLst/>
              <a:gdLst/>
              <a:ahLst/>
              <a:rect l="0" t="0" r="r" b="b"/>
              <a:pathLst>
                <a:path w="1350" h="3308">
                  <a:moveTo>
                    <a:pt x="1112" y="0"/>
                  </a:moveTo>
                  <a:lnTo>
                    <a:pt x="1271" y="105"/>
                  </a:lnTo>
                  <a:lnTo>
                    <a:pt x="1350" y="423"/>
                  </a:lnTo>
                  <a:lnTo>
                    <a:pt x="1138" y="1322"/>
                  </a:lnTo>
                  <a:lnTo>
                    <a:pt x="821" y="3308"/>
                  </a:lnTo>
                  <a:lnTo>
                    <a:pt x="0" y="3149"/>
                  </a:lnTo>
                  <a:lnTo>
                    <a:pt x="370" y="1455"/>
                  </a:lnTo>
                  <a:lnTo>
                    <a:pt x="794" y="238"/>
                  </a:lnTo>
                  <a:lnTo>
                    <a:pt x="1112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681360" y="4357800"/>
              <a:ext cx="304920" cy="285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795840" y="1373040"/>
            <a:ext cx="1081080" cy="3275640"/>
            <a:chOff x="3795840" y="1373040"/>
            <a:chExt cx="1081080" cy="3275640"/>
          </a:xfrm>
        </p:grpSpPr>
        <p:sp>
          <p:nvSpPr>
            <p:cNvPr id="70" name=""/>
            <p:cNvSpPr/>
            <p:nvPr/>
          </p:nvSpPr>
          <p:spPr>
            <a:xfrm>
              <a:off x="3895560" y="3048120"/>
              <a:ext cx="981360" cy="1600560"/>
            </a:xfrm>
            <a:custGeom>
              <a:avLst/>
              <a:gdLst/>
              <a:ahLst/>
              <a:rect l="0" t="0" r="r" b="b"/>
              <a:pathLst>
                <a:path w="2726" h="4446">
                  <a:moveTo>
                    <a:pt x="953" y="374"/>
                  </a:moveTo>
                  <a:lnTo>
                    <a:pt x="865" y="392"/>
                  </a:lnTo>
                  <a:lnTo>
                    <a:pt x="799" y="436"/>
                  </a:lnTo>
                  <a:lnTo>
                    <a:pt x="672" y="582"/>
                  </a:lnTo>
                  <a:lnTo>
                    <a:pt x="540" y="723"/>
                  </a:lnTo>
                  <a:lnTo>
                    <a:pt x="391" y="851"/>
                  </a:lnTo>
                  <a:lnTo>
                    <a:pt x="369" y="890"/>
                  </a:lnTo>
                  <a:lnTo>
                    <a:pt x="347" y="930"/>
                  </a:lnTo>
                  <a:lnTo>
                    <a:pt x="347" y="930"/>
                  </a:lnTo>
                  <a:lnTo>
                    <a:pt x="369" y="930"/>
                  </a:lnTo>
                  <a:lnTo>
                    <a:pt x="153" y="1553"/>
                  </a:lnTo>
                  <a:lnTo>
                    <a:pt x="0" y="4345"/>
                  </a:lnTo>
                  <a:lnTo>
                    <a:pt x="2726" y="4446"/>
                  </a:lnTo>
                  <a:lnTo>
                    <a:pt x="2317" y="1844"/>
                  </a:lnTo>
                  <a:lnTo>
                    <a:pt x="2119" y="414"/>
                  </a:lnTo>
                  <a:lnTo>
                    <a:pt x="1385" y="0"/>
                  </a:lnTo>
                  <a:lnTo>
                    <a:pt x="953" y="374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3795840" y="1373040"/>
              <a:ext cx="1005120" cy="1818000"/>
              <a:chOff x="3795840" y="1373040"/>
              <a:chExt cx="1005120" cy="1818000"/>
            </a:xfrm>
          </p:grpSpPr>
          <p:sp>
            <p:nvSpPr>
              <p:cNvPr id="72" name=""/>
              <p:cNvSpPr/>
              <p:nvPr/>
            </p:nvSpPr>
            <p:spPr>
              <a:xfrm>
                <a:off x="3905280" y="1609560"/>
                <a:ext cx="895680" cy="1581480"/>
              </a:xfrm>
              <a:custGeom>
                <a:avLst/>
                <a:gdLst/>
                <a:ahLst/>
                <a:rect l="0" t="0" r="r" b="b"/>
                <a:pathLst>
                  <a:path w="2488" h="4393">
                    <a:moveTo>
                      <a:pt x="582" y="0"/>
                    </a:moveTo>
                    <a:lnTo>
                      <a:pt x="264" y="264"/>
                    </a:lnTo>
                    <a:lnTo>
                      <a:pt x="79" y="687"/>
                    </a:lnTo>
                    <a:lnTo>
                      <a:pt x="26" y="1217"/>
                    </a:lnTo>
                    <a:lnTo>
                      <a:pt x="0" y="2699"/>
                    </a:lnTo>
                    <a:lnTo>
                      <a:pt x="52" y="3546"/>
                    </a:lnTo>
                    <a:lnTo>
                      <a:pt x="820" y="3599"/>
                    </a:lnTo>
                    <a:lnTo>
                      <a:pt x="926" y="4075"/>
                    </a:lnTo>
                    <a:lnTo>
                      <a:pt x="1031" y="4393"/>
                    </a:lnTo>
                    <a:lnTo>
                      <a:pt x="1271" y="4393"/>
                    </a:lnTo>
                    <a:lnTo>
                      <a:pt x="1403" y="4102"/>
                    </a:lnTo>
                    <a:lnTo>
                      <a:pt x="1323" y="3599"/>
                    </a:lnTo>
                    <a:lnTo>
                      <a:pt x="2038" y="3519"/>
                    </a:lnTo>
                    <a:lnTo>
                      <a:pt x="2064" y="3017"/>
                    </a:lnTo>
                    <a:lnTo>
                      <a:pt x="2223" y="3096"/>
                    </a:lnTo>
                    <a:lnTo>
                      <a:pt x="2382" y="3043"/>
                    </a:lnTo>
                    <a:lnTo>
                      <a:pt x="2488" y="2620"/>
                    </a:lnTo>
                    <a:lnTo>
                      <a:pt x="2355" y="2408"/>
                    </a:lnTo>
                    <a:lnTo>
                      <a:pt x="2197" y="2435"/>
                    </a:lnTo>
                    <a:lnTo>
                      <a:pt x="2355" y="185"/>
                    </a:lnTo>
                    <a:lnTo>
                      <a:pt x="582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795840" y="2052720"/>
                <a:ext cx="409680" cy="4096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148280" y="2014560"/>
                <a:ext cx="485640" cy="4856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338720" y="2214720"/>
                <a:ext cx="85680" cy="85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4560" bIns="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929040" y="2224080"/>
                <a:ext cx="85680" cy="85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4560" bIns="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135320" y="1401840"/>
                <a:ext cx="7920" cy="217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4249800" y="1382760"/>
                <a:ext cx="17280" cy="217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V="1">
                <a:off x="4411800" y="1373040"/>
                <a:ext cx="36360" cy="227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4573440" y="1420920"/>
                <a:ext cx="55800" cy="198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>
                <a:off x="4716360" y="1449360"/>
                <a:ext cx="55800" cy="179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895560" y="2562120"/>
                <a:ext cx="657720" cy="257400"/>
              </a:xfrm>
              <a:custGeom>
                <a:avLst/>
                <a:gdLst/>
                <a:ahLst/>
                <a:rect l="0" t="0" r="r" b="b"/>
                <a:pathLst>
                  <a:path w="1827" h="715">
                    <a:moveTo>
                      <a:pt x="0" y="0"/>
                    </a:moveTo>
                    <a:lnTo>
                      <a:pt x="1827" y="163"/>
                    </a:lnTo>
                    <a:lnTo>
                      <a:pt x="746" y="7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4191120" y="3057480"/>
              <a:ext cx="305280" cy="181440"/>
            </a:xfrm>
            <a:custGeom>
              <a:avLst/>
              <a:gdLst/>
              <a:ahLst/>
              <a:rect l="0" t="0" r="r" b="b"/>
              <a:pathLst>
                <a:path w="848" h="504">
                  <a:moveTo>
                    <a:pt x="0" y="344"/>
                  </a:moveTo>
                  <a:lnTo>
                    <a:pt x="239" y="478"/>
                  </a:lnTo>
                  <a:lnTo>
                    <a:pt x="663" y="504"/>
                  </a:lnTo>
                  <a:lnTo>
                    <a:pt x="848" y="265"/>
                  </a:lnTo>
                  <a:lnTo>
                    <a:pt x="848" y="79"/>
                  </a:lnTo>
                  <a:lnTo>
                    <a:pt x="663" y="0"/>
                  </a:lnTo>
                  <a:lnTo>
                    <a:pt x="477" y="265"/>
                  </a:lnTo>
                  <a:lnTo>
                    <a:pt x="185" y="292"/>
                  </a:lnTo>
                  <a:lnTo>
                    <a:pt x="0" y="344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572000" y="3219480"/>
            <a:ext cx="509760" cy="1443240"/>
            <a:chOff x="4572000" y="3219480"/>
            <a:chExt cx="509760" cy="1443240"/>
          </a:xfrm>
        </p:grpSpPr>
        <p:sp>
          <p:nvSpPr>
            <p:cNvPr id="85" name=""/>
            <p:cNvSpPr/>
            <p:nvPr/>
          </p:nvSpPr>
          <p:spPr>
            <a:xfrm>
              <a:off x="4572000" y="3219480"/>
              <a:ext cx="486000" cy="1190880"/>
            </a:xfrm>
            <a:custGeom>
              <a:avLst/>
              <a:gdLst/>
              <a:ahLst/>
              <a:rect l="0" t="0" r="r" b="b"/>
              <a:pathLst>
                <a:path w="1350" h="3308">
                  <a:moveTo>
                    <a:pt x="238" y="0"/>
                  </a:moveTo>
                  <a:lnTo>
                    <a:pt x="79" y="105"/>
                  </a:lnTo>
                  <a:lnTo>
                    <a:pt x="0" y="423"/>
                  </a:lnTo>
                  <a:lnTo>
                    <a:pt x="211" y="1322"/>
                  </a:lnTo>
                  <a:lnTo>
                    <a:pt x="529" y="3308"/>
                  </a:lnTo>
                  <a:lnTo>
                    <a:pt x="1350" y="3149"/>
                  </a:lnTo>
                  <a:lnTo>
                    <a:pt x="979" y="1455"/>
                  </a:lnTo>
                  <a:lnTo>
                    <a:pt x="555" y="238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76840" y="4376880"/>
              <a:ext cx="304920" cy="285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 txBox="1"/>
          <p:nvPr/>
        </p:nvSpPr>
        <p:spPr>
          <a:xfrm>
            <a:off x="304920" y="457200"/>
            <a:ext cx="73915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Y’S EXPRESS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419200" y="3238560"/>
            <a:ext cx="1791360" cy="1005480"/>
            <a:chOff x="2419200" y="3238560"/>
            <a:chExt cx="1791360" cy="1005480"/>
          </a:xfrm>
        </p:grpSpPr>
        <p:grpSp>
          <p:nvGrpSpPr>
            <p:cNvPr id="89" name=""/>
            <p:cNvGrpSpPr/>
            <p:nvPr/>
          </p:nvGrpSpPr>
          <p:grpSpPr>
            <a:xfrm>
              <a:off x="2419200" y="3424320"/>
              <a:ext cx="1219680" cy="819720"/>
              <a:chOff x="2419200" y="3424320"/>
              <a:chExt cx="1219680" cy="819720"/>
            </a:xfrm>
          </p:grpSpPr>
          <p:grpSp>
            <p:nvGrpSpPr>
              <p:cNvPr id="90" name=""/>
              <p:cNvGrpSpPr/>
              <p:nvPr/>
            </p:nvGrpSpPr>
            <p:grpSpPr>
              <a:xfrm>
                <a:off x="2419200" y="3424320"/>
                <a:ext cx="1219680" cy="668520"/>
                <a:chOff x="2419200" y="3424320"/>
                <a:chExt cx="1219680" cy="66852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2419200" y="3638520"/>
                  <a:ext cx="1219680" cy="171720"/>
                </a:xfrm>
                <a:custGeom>
                  <a:avLst/>
                  <a:gdLst/>
                  <a:ahLst/>
                  <a:rect l="0" t="0" r="r" b="b"/>
                  <a:pathLst>
                    <a:path w="3388" h="477">
                      <a:moveTo>
                        <a:pt x="1488" y="278"/>
                      </a:moveTo>
                      <a:lnTo>
                        <a:pt x="0" y="0"/>
                      </a:lnTo>
                      <a:lnTo>
                        <a:pt x="386" y="9"/>
                      </a:lnTo>
                      <a:lnTo>
                        <a:pt x="877" y="37"/>
                      </a:lnTo>
                      <a:lnTo>
                        <a:pt x="1591" y="130"/>
                      </a:lnTo>
                      <a:lnTo>
                        <a:pt x="2519" y="283"/>
                      </a:lnTo>
                      <a:lnTo>
                        <a:pt x="2778" y="341"/>
                      </a:lnTo>
                      <a:lnTo>
                        <a:pt x="3388" y="455"/>
                      </a:lnTo>
                      <a:lnTo>
                        <a:pt x="2881" y="477"/>
                      </a:lnTo>
                      <a:lnTo>
                        <a:pt x="2106" y="342"/>
                      </a:lnTo>
                      <a:lnTo>
                        <a:pt x="2063" y="303"/>
                      </a:lnTo>
                      <a:lnTo>
                        <a:pt x="1900" y="272"/>
                      </a:lnTo>
                      <a:lnTo>
                        <a:pt x="1488" y="278"/>
                      </a:lnTo>
                      <a:close/>
                    </a:path>
                  </a:pathLst>
                </a:custGeom>
                <a:blipFill rotWithShape="0">
                  <a:blip r:embed="rId1"/>
                  <a:tile tx="0" ty="0" sx="3528125" sy="3528125" algn="ctr"/>
                </a:blip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2581200" y="3424320"/>
                  <a:ext cx="695520" cy="133560"/>
                </a:xfrm>
                <a:custGeom>
                  <a:avLst/>
                  <a:gdLst/>
                  <a:ahLst/>
                  <a:rect l="0" t="0" r="r" b="b"/>
                  <a:pathLst>
                    <a:path w="1932" h="371">
                      <a:moveTo>
                        <a:pt x="1631" y="371"/>
                      </a:moveTo>
                      <a:lnTo>
                        <a:pt x="1422" y="338"/>
                      </a:lnTo>
                      <a:lnTo>
                        <a:pt x="1461" y="292"/>
                      </a:lnTo>
                      <a:lnTo>
                        <a:pt x="1105" y="249"/>
                      </a:lnTo>
                      <a:lnTo>
                        <a:pt x="834" y="168"/>
                      </a:lnTo>
                      <a:lnTo>
                        <a:pt x="687" y="126"/>
                      </a:lnTo>
                      <a:lnTo>
                        <a:pt x="463" y="75"/>
                      </a:lnTo>
                      <a:lnTo>
                        <a:pt x="0" y="0"/>
                      </a:lnTo>
                      <a:lnTo>
                        <a:pt x="571" y="63"/>
                      </a:lnTo>
                      <a:lnTo>
                        <a:pt x="989" y="110"/>
                      </a:lnTo>
                      <a:lnTo>
                        <a:pt x="1399" y="214"/>
                      </a:lnTo>
                      <a:lnTo>
                        <a:pt x="1638" y="271"/>
                      </a:lnTo>
                      <a:lnTo>
                        <a:pt x="1932" y="356"/>
                      </a:lnTo>
                      <a:lnTo>
                        <a:pt x="1631" y="3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2932200" y="3968640"/>
                  <a:ext cx="495720" cy="124200"/>
                </a:xfrm>
                <a:custGeom>
                  <a:avLst/>
                  <a:gdLst/>
                  <a:ahLst/>
                  <a:rect l="0" t="0" r="r" b="b"/>
                  <a:pathLst>
                    <a:path w="1377" h="345">
                      <a:moveTo>
                        <a:pt x="343" y="0"/>
                      </a:moveTo>
                      <a:lnTo>
                        <a:pt x="0" y="24"/>
                      </a:lnTo>
                      <a:lnTo>
                        <a:pt x="0" y="126"/>
                      </a:lnTo>
                      <a:lnTo>
                        <a:pt x="912" y="345"/>
                      </a:lnTo>
                      <a:lnTo>
                        <a:pt x="1377" y="322"/>
                      </a:lnTo>
                      <a:lnTo>
                        <a:pt x="343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" name=""/>
              <p:cNvSpPr/>
              <p:nvPr/>
            </p:nvSpPr>
            <p:spPr>
              <a:xfrm>
                <a:off x="3046320" y="3941640"/>
                <a:ext cx="289080" cy="302400"/>
              </a:xfrm>
              <a:custGeom>
                <a:avLst/>
                <a:gdLst/>
                <a:ahLst/>
                <a:rect l="0" t="0" r="r" b="b"/>
                <a:pathLst>
                  <a:path w="803" h="840">
                    <a:moveTo>
                      <a:pt x="228" y="32"/>
                    </a:moveTo>
                    <a:lnTo>
                      <a:pt x="228" y="32"/>
                    </a:lnTo>
                    <a:cubicBezTo>
                      <a:pt x="165" y="60"/>
                      <a:pt x="110" y="106"/>
                      <a:pt x="70" y="165"/>
                    </a:cubicBezTo>
                    <a:cubicBezTo>
                      <a:pt x="30" y="223"/>
                      <a:pt x="6" y="293"/>
                      <a:pt x="1" y="366"/>
                    </a:cubicBezTo>
                    <a:cubicBezTo>
                      <a:pt x="-5" y="439"/>
                      <a:pt x="8" y="514"/>
                      <a:pt x="38" y="582"/>
                    </a:cubicBezTo>
                    <a:cubicBezTo>
                      <a:pt x="68" y="650"/>
                      <a:pt x="115" y="709"/>
                      <a:pt x="173" y="754"/>
                    </a:cubicBezTo>
                    <a:cubicBezTo>
                      <a:pt x="231" y="799"/>
                      <a:pt x="299" y="827"/>
                      <a:pt x="369" y="837"/>
                    </a:cubicBezTo>
                    <a:cubicBezTo>
                      <a:pt x="439" y="846"/>
                      <a:pt x="510" y="836"/>
                      <a:pt x="574" y="808"/>
                    </a:cubicBezTo>
                    <a:lnTo>
                      <a:pt x="574" y="808"/>
                    </a:lnTo>
                    <a:lnTo>
                      <a:pt x="574" y="808"/>
                    </a:lnTo>
                    <a:cubicBezTo>
                      <a:pt x="637" y="780"/>
                      <a:pt x="692" y="734"/>
                      <a:pt x="732" y="675"/>
                    </a:cubicBezTo>
                    <a:cubicBezTo>
                      <a:pt x="772" y="617"/>
                      <a:pt x="796" y="547"/>
                      <a:pt x="801" y="474"/>
                    </a:cubicBezTo>
                    <a:cubicBezTo>
                      <a:pt x="807" y="401"/>
                      <a:pt x="794" y="326"/>
                      <a:pt x="764" y="258"/>
                    </a:cubicBezTo>
                    <a:cubicBezTo>
                      <a:pt x="734" y="190"/>
                      <a:pt x="687" y="131"/>
                      <a:pt x="629" y="86"/>
                    </a:cubicBezTo>
                    <a:cubicBezTo>
                      <a:pt x="571" y="41"/>
                      <a:pt x="503" y="13"/>
                      <a:pt x="433" y="3"/>
                    </a:cubicBezTo>
                    <a:cubicBezTo>
                      <a:pt x="363" y="-6"/>
                      <a:pt x="292" y="4"/>
                      <a:pt x="228" y="32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3295800" y="3238560"/>
              <a:ext cx="914760" cy="991080"/>
            </a:xfrm>
            <a:custGeom>
              <a:avLst/>
              <a:gdLst/>
              <a:ahLst/>
              <a:rect l="0" t="0" r="r" b="b"/>
              <a:pathLst>
                <a:path w="2541" h="2753">
                  <a:moveTo>
                    <a:pt x="2117" y="0"/>
                  </a:moveTo>
                  <a:lnTo>
                    <a:pt x="1906" y="211"/>
                  </a:lnTo>
                  <a:lnTo>
                    <a:pt x="1694" y="1059"/>
                  </a:lnTo>
                  <a:lnTo>
                    <a:pt x="1482" y="1694"/>
                  </a:lnTo>
                  <a:lnTo>
                    <a:pt x="0" y="1906"/>
                  </a:lnTo>
                  <a:lnTo>
                    <a:pt x="211" y="2753"/>
                  </a:lnTo>
                  <a:lnTo>
                    <a:pt x="2117" y="2330"/>
                  </a:lnTo>
                  <a:lnTo>
                    <a:pt x="2541" y="635"/>
                  </a:lnTo>
                  <a:lnTo>
                    <a:pt x="2541" y="211"/>
                  </a:lnTo>
                  <a:lnTo>
                    <a:pt x="2329" y="0"/>
                  </a:lnTo>
                  <a:lnTo>
                    <a:pt x="2117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638520" y="4448160"/>
            <a:ext cx="1514880" cy="1867320"/>
            <a:chOff x="3638520" y="4448160"/>
            <a:chExt cx="1514880" cy="1867320"/>
          </a:xfrm>
        </p:grpSpPr>
        <p:sp>
          <p:nvSpPr>
            <p:cNvPr id="97" name=""/>
            <p:cNvSpPr/>
            <p:nvPr/>
          </p:nvSpPr>
          <p:spPr>
            <a:xfrm>
              <a:off x="4019400" y="4448160"/>
              <a:ext cx="657720" cy="1724400"/>
            </a:xfrm>
            <a:custGeom>
              <a:avLst/>
              <a:gdLst/>
              <a:ahLst/>
              <a:rect l="0" t="0" r="r" b="b"/>
              <a:pathLst>
                <a:path w="1827" h="4790">
                  <a:moveTo>
                    <a:pt x="0" y="0"/>
                  </a:moveTo>
                  <a:lnTo>
                    <a:pt x="317" y="4790"/>
                  </a:lnTo>
                  <a:lnTo>
                    <a:pt x="1032" y="4790"/>
                  </a:lnTo>
                  <a:lnTo>
                    <a:pt x="927" y="1297"/>
                  </a:lnTo>
                  <a:lnTo>
                    <a:pt x="1032" y="4790"/>
                  </a:lnTo>
                  <a:lnTo>
                    <a:pt x="1827" y="4790"/>
                  </a:lnTo>
                  <a:lnTo>
                    <a:pt x="1748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38520" y="6105600"/>
              <a:ext cx="752760" cy="209880"/>
            </a:xfrm>
            <a:custGeom>
              <a:avLst/>
              <a:gdLst/>
              <a:ahLst/>
              <a:rect l="0" t="0" r="r" b="b"/>
              <a:pathLst>
                <a:path w="2091" h="583">
                  <a:moveTo>
                    <a:pt x="1376" y="185"/>
                  </a:moveTo>
                  <a:lnTo>
                    <a:pt x="978" y="52"/>
                  </a:lnTo>
                  <a:lnTo>
                    <a:pt x="714" y="0"/>
                  </a:lnTo>
                  <a:lnTo>
                    <a:pt x="423" y="105"/>
                  </a:lnTo>
                  <a:lnTo>
                    <a:pt x="132" y="264"/>
                  </a:lnTo>
                  <a:lnTo>
                    <a:pt x="0" y="477"/>
                  </a:lnTo>
                  <a:lnTo>
                    <a:pt x="185" y="583"/>
                  </a:lnTo>
                  <a:lnTo>
                    <a:pt x="2091" y="583"/>
                  </a:lnTo>
                  <a:lnTo>
                    <a:pt x="2091" y="185"/>
                  </a:lnTo>
                  <a:lnTo>
                    <a:pt x="1376" y="185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00640" y="6105600"/>
              <a:ext cx="752760" cy="209880"/>
            </a:xfrm>
            <a:custGeom>
              <a:avLst/>
              <a:gdLst/>
              <a:ahLst/>
              <a:rect l="0" t="0" r="r" b="b"/>
              <a:pathLst>
                <a:path w="2091" h="583">
                  <a:moveTo>
                    <a:pt x="714" y="185"/>
                  </a:moveTo>
                  <a:lnTo>
                    <a:pt x="1112" y="52"/>
                  </a:lnTo>
                  <a:lnTo>
                    <a:pt x="1376" y="0"/>
                  </a:lnTo>
                  <a:lnTo>
                    <a:pt x="1667" y="105"/>
                  </a:lnTo>
                  <a:lnTo>
                    <a:pt x="1958" y="264"/>
                  </a:lnTo>
                  <a:lnTo>
                    <a:pt x="2091" y="477"/>
                  </a:lnTo>
                  <a:lnTo>
                    <a:pt x="1906" y="583"/>
                  </a:lnTo>
                  <a:lnTo>
                    <a:pt x="0" y="583"/>
                  </a:lnTo>
                  <a:lnTo>
                    <a:pt x="0" y="185"/>
                  </a:lnTo>
                  <a:lnTo>
                    <a:pt x="714" y="185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3795840" y="1373040"/>
            <a:ext cx="1081080" cy="3275640"/>
            <a:chOff x="3795840" y="1373040"/>
            <a:chExt cx="1081080" cy="3275640"/>
          </a:xfrm>
        </p:grpSpPr>
        <p:sp>
          <p:nvSpPr>
            <p:cNvPr id="101" name=""/>
            <p:cNvSpPr/>
            <p:nvPr/>
          </p:nvSpPr>
          <p:spPr>
            <a:xfrm>
              <a:off x="3895560" y="3048120"/>
              <a:ext cx="981360" cy="1600560"/>
            </a:xfrm>
            <a:custGeom>
              <a:avLst/>
              <a:gdLst/>
              <a:ahLst/>
              <a:rect l="0" t="0" r="r" b="b"/>
              <a:pathLst>
                <a:path w="2726" h="4446">
                  <a:moveTo>
                    <a:pt x="953" y="374"/>
                  </a:moveTo>
                  <a:lnTo>
                    <a:pt x="865" y="392"/>
                  </a:lnTo>
                  <a:lnTo>
                    <a:pt x="799" y="436"/>
                  </a:lnTo>
                  <a:lnTo>
                    <a:pt x="672" y="582"/>
                  </a:lnTo>
                  <a:lnTo>
                    <a:pt x="540" y="723"/>
                  </a:lnTo>
                  <a:lnTo>
                    <a:pt x="391" y="851"/>
                  </a:lnTo>
                  <a:lnTo>
                    <a:pt x="369" y="890"/>
                  </a:lnTo>
                  <a:lnTo>
                    <a:pt x="347" y="930"/>
                  </a:lnTo>
                  <a:lnTo>
                    <a:pt x="347" y="930"/>
                  </a:lnTo>
                  <a:lnTo>
                    <a:pt x="369" y="930"/>
                  </a:lnTo>
                  <a:lnTo>
                    <a:pt x="153" y="1553"/>
                  </a:lnTo>
                  <a:lnTo>
                    <a:pt x="0" y="4345"/>
                  </a:lnTo>
                  <a:lnTo>
                    <a:pt x="2726" y="4446"/>
                  </a:lnTo>
                  <a:lnTo>
                    <a:pt x="2317" y="1844"/>
                  </a:lnTo>
                  <a:lnTo>
                    <a:pt x="2119" y="414"/>
                  </a:lnTo>
                  <a:lnTo>
                    <a:pt x="1385" y="0"/>
                  </a:lnTo>
                  <a:lnTo>
                    <a:pt x="953" y="374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3795840" y="1373040"/>
              <a:ext cx="1005120" cy="1818000"/>
              <a:chOff x="3795840" y="1373040"/>
              <a:chExt cx="1005120" cy="1818000"/>
            </a:xfrm>
          </p:grpSpPr>
          <p:sp>
            <p:nvSpPr>
              <p:cNvPr id="103" name=""/>
              <p:cNvSpPr/>
              <p:nvPr/>
            </p:nvSpPr>
            <p:spPr>
              <a:xfrm>
                <a:off x="3905280" y="1609560"/>
                <a:ext cx="895680" cy="1581480"/>
              </a:xfrm>
              <a:custGeom>
                <a:avLst/>
                <a:gdLst/>
                <a:ahLst/>
                <a:rect l="0" t="0" r="r" b="b"/>
                <a:pathLst>
                  <a:path w="2488" h="4393">
                    <a:moveTo>
                      <a:pt x="582" y="0"/>
                    </a:moveTo>
                    <a:lnTo>
                      <a:pt x="264" y="264"/>
                    </a:lnTo>
                    <a:lnTo>
                      <a:pt x="79" y="687"/>
                    </a:lnTo>
                    <a:lnTo>
                      <a:pt x="26" y="1217"/>
                    </a:lnTo>
                    <a:lnTo>
                      <a:pt x="0" y="2699"/>
                    </a:lnTo>
                    <a:lnTo>
                      <a:pt x="52" y="3546"/>
                    </a:lnTo>
                    <a:lnTo>
                      <a:pt x="820" y="3599"/>
                    </a:lnTo>
                    <a:lnTo>
                      <a:pt x="926" y="4075"/>
                    </a:lnTo>
                    <a:lnTo>
                      <a:pt x="1031" y="4393"/>
                    </a:lnTo>
                    <a:lnTo>
                      <a:pt x="1271" y="4393"/>
                    </a:lnTo>
                    <a:lnTo>
                      <a:pt x="1403" y="4102"/>
                    </a:lnTo>
                    <a:lnTo>
                      <a:pt x="1323" y="3599"/>
                    </a:lnTo>
                    <a:lnTo>
                      <a:pt x="2038" y="3519"/>
                    </a:lnTo>
                    <a:lnTo>
                      <a:pt x="2064" y="3017"/>
                    </a:lnTo>
                    <a:lnTo>
                      <a:pt x="2223" y="3096"/>
                    </a:lnTo>
                    <a:lnTo>
                      <a:pt x="2382" y="3043"/>
                    </a:lnTo>
                    <a:lnTo>
                      <a:pt x="2488" y="2620"/>
                    </a:lnTo>
                    <a:lnTo>
                      <a:pt x="2355" y="2408"/>
                    </a:lnTo>
                    <a:lnTo>
                      <a:pt x="2197" y="2435"/>
                    </a:lnTo>
                    <a:lnTo>
                      <a:pt x="2355" y="185"/>
                    </a:lnTo>
                    <a:lnTo>
                      <a:pt x="582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795840" y="2052720"/>
                <a:ext cx="409680" cy="4096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148280" y="2014560"/>
                <a:ext cx="485640" cy="4856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38720" y="2214720"/>
                <a:ext cx="85680" cy="85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4560" bIns="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929040" y="2224080"/>
                <a:ext cx="85680" cy="85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4560" bIns="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135320" y="1401840"/>
                <a:ext cx="7920" cy="217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4249800" y="1382760"/>
                <a:ext cx="17280" cy="217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4411800" y="1373040"/>
                <a:ext cx="36360" cy="227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>
                <a:off x="4573440" y="1420920"/>
                <a:ext cx="55800" cy="198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4716360" y="1449360"/>
                <a:ext cx="55800" cy="179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895560" y="2562120"/>
                <a:ext cx="657720" cy="257400"/>
              </a:xfrm>
              <a:custGeom>
                <a:avLst/>
                <a:gdLst/>
                <a:ahLst/>
                <a:rect l="0" t="0" r="r" b="b"/>
                <a:pathLst>
                  <a:path w="1827" h="715">
                    <a:moveTo>
                      <a:pt x="0" y="0"/>
                    </a:moveTo>
                    <a:lnTo>
                      <a:pt x="1827" y="163"/>
                    </a:lnTo>
                    <a:lnTo>
                      <a:pt x="746" y="7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4191120" y="3057480"/>
              <a:ext cx="305280" cy="181440"/>
            </a:xfrm>
            <a:custGeom>
              <a:avLst/>
              <a:gdLst/>
              <a:ahLst/>
              <a:rect l="0" t="0" r="r" b="b"/>
              <a:pathLst>
                <a:path w="848" h="504">
                  <a:moveTo>
                    <a:pt x="0" y="344"/>
                  </a:moveTo>
                  <a:lnTo>
                    <a:pt x="239" y="478"/>
                  </a:lnTo>
                  <a:lnTo>
                    <a:pt x="663" y="504"/>
                  </a:lnTo>
                  <a:lnTo>
                    <a:pt x="848" y="265"/>
                  </a:lnTo>
                  <a:lnTo>
                    <a:pt x="848" y="79"/>
                  </a:lnTo>
                  <a:lnTo>
                    <a:pt x="663" y="0"/>
                  </a:lnTo>
                  <a:lnTo>
                    <a:pt x="477" y="265"/>
                  </a:lnTo>
                  <a:lnTo>
                    <a:pt x="185" y="292"/>
                  </a:lnTo>
                  <a:lnTo>
                    <a:pt x="0" y="344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572000" y="3219480"/>
            <a:ext cx="509760" cy="1443240"/>
            <a:chOff x="4572000" y="3219480"/>
            <a:chExt cx="509760" cy="1443240"/>
          </a:xfrm>
        </p:grpSpPr>
        <p:sp>
          <p:nvSpPr>
            <p:cNvPr id="116" name=""/>
            <p:cNvSpPr/>
            <p:nvPr/>
          </p:nvSpPr>
          <p:spPr>
            <a:xfrm>
              <a:off x="4572000" y="3219480"/>
              <a:ext cx="486000" cy="1190880"/>
            </a:xfrm>
            <a:custGeom>
              <a:avLst/>
              <a:gdLst/>
              <a:ahLst/>
              <a:rect l="0" t="0" r="r" b="b"/>
              <a:pathLst>
                <a:path w="1350" h="3308">
                  <a:moveTo>
                    <a:pt x="238" y="0"/>
                  </a:moveTo>
                  <a:lnTo>
                    <a:pt x="79" y="105"/>
                  </a:lnTo>
                  <a:lnTo>
                    <a:pt x="0" y="423"/>
                  </a:lnTo>
                  <a:lnTo>
                    <a:pt x="211" y="1322"/>
                  </a:lnTo>
                  <a:lnTo>
                    <a:pt x="529" y="3308"/>
                  </a:lnTo>
                  <a:lnTo>
                    <a:pt x="1350" y="3149"/>
                  </a:lnTo>
                  <a:lnTo>
                    <a:pt x="979" y="1455"/>
                  </a:lnTo>
                  <a:lnTo>
                    <a:pt x="555" y="238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76840" y="4376880"/>
              <a:ext cx="304920" cy="285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 txBox="1"/>
          <p:nvPr/>
        </p:nvSpPr>
        <p:spPr>
          <a:xfrm>
            <a:off x="457200" y="228600"/>
            <a:ext cx="830592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you are in a damn fucked up situation, (like overwork, penniless, your enemy is              stronger/higher than you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435480" y="3308400"/>
            <a:ext cx="763920" cy="898920"/>
          </a:xfrm>
          <a:custGeom>
            <a:avLst/>
            <a:gdLst/>
            <a:ahLst/>
            <a:rect l="0" t="0" r="r" b="b"/>
            <a:pathLst>
              <a:path w="2122" h="2497">
                <a:moveTo>
                  <a:pt x="2122" y="229"/>
                </a:moveTo>
                <a:lnTo>
                  <a:pt x="2001" y="450"/>
                </a:lnTo>
                <a:lnTo>
                  <a:pt x="1309" y="880"/>
                </a:lnTo>
                <a:lnTo>
                  <a:pt x="803" y="1240"/>
                </a:lnTo>
                <a:lnTo>
                  <a:pt x="1140" y="2366"/>
                </a:lnTo>
                <a:lnTo>
                  <a:pt x="293" y="2497"/>
                </a:lnTo>
                <a:lnTo>
                  <a:pt x="0" y="995"/>
                </a:lnTo>
                <a:lnTo>
                  <a:pt x="1391" y="139"/>
                </a:lnTo>
                <a:lnTo>
                  <a:pt x="1775" y="0"/>
                </a:lnTo>
                <a:lnTo>
                  <a:pt x="2045" y="77"/>
                </a:lnTo>
                <a:lnTo>
                  <a:pt x="2122" y="22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638520" y="4448160"/>
            <a:ext cx="1514880" cy="1867320"/>
            <a:chOff x="3638520" y="4448160"/>
            <a:chExt cx="1514880" cy="1867320"/>
          </a:xfrm>
        </p:grpSpPr>
        <p:sp>
          <p:nvSpPr>
            <p:cNvPr id="121" name=""/>
            <p:cNvSpPr/>
            <p:nvPr/>
          </p:nvSpPr>
          <p:spPr>
            <a:xfrm>
              <a:off x="4019400" y="4448160"/>
              <a:ext cx="657720" cy="1724400"/>
            </a:xfrm>
            <a:custGeom>
              <a:avLst/>
              <a:gdLst/>
              <a:ahLst/>
              <a:rect l="0" t="0" r="r" b="b"/>
              <a:pathLst>
                <a:path w="1827" h="4790">
                  <a:moveTo>
                    <a:pt x="0" y="0"/>
                  </a:moveTo>
                  <a:lnTo>
                    <a:pt x="317" y="4790"/>
                  </a:lnTo>
                  <a:lnTo>
                    <a:pt x="1032" y="4790"/>
                  </a:lnTo>
                  <a:lnTo>
                    <a:pt x="927" y="1297"/>
                  </a:lnTo>
                  <a:lnTo>
                    <a:pt x="1032" y="4790"/>
                  </a:lnTo>
                  <a:lnTo>
                    <a:pt x="1827" y="4790"/>
                  </a:lnTo>
                  <a:lnTo>
                    <a:pt x="1748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38520" y="6105600"/>
              <a:ext cx="752760" cy="209880"/>
            </a:xfrm>
            <a:custGeom>
              <a:avLst/>
              <a:gdLst/>
              <a:ahLst/>
              <a:rect l="0" t="0" r="r" b="b"/>
              <a:pathLst>
                <a:path w="2091" h="583">
                  <a:moveTo>
                    <a:pt x="1376" y="185"/>
                  </a:moveTo>
                  <a:lnTo>
                    <a:pt x="978" y="52"/>
                  </a:lnTo>
                  <a:lnTo>
                    <a:pt x="714" y="0"/>
                  </a:lnTo>
                  <a:lnTo>
                    <a:pt x="423" y="105"/>
                  </a:lnTo>
                  <a:lnTo>
                    <a:pt x="132" y="264"/>
                  </a:lnTo>
                  <a:lnTo>
                    <a:pt x="0" y="477"/>
                  </a:lnTo>
                  <a:lnTo>
                    <a:pt x="185" y="583"/>
                  </a:lnTo>
                  <a:lnTo>
                    <a:pt x="2091" y="583"/>
                  </a:lnTo>
                  <a:lnTo>
                    <a:pt x="2091" y="185"/>
                  </a:lnTo>
                  <a:lnTo>
                    <a:pt x="1376" y="185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00640" y="6105600"/>
              <a:ext cx="752760" cy="209880"/>
            </a:xfrm>
            <a:custGeom>
              <a:avLst/>
              <a:gdLst/>
              <a:ahLst/>
              <a:rect l="0" t="0" r="r" b="b"/>
              <a:pathLst>
                <a:path w="2091" h="583">
                  <a:moveTo>
                    <a:pt x="714" y="185"/>
                  </a:moveTo>
                  <a:lnTo>
                    <a:pt x="1112" y="52"/>
                  </a:lnTo>
                  <a:lnTo>
                    <a:pt x="1376" y="0"/>
                  </a:lnTo>
                  <a:lnTo>
                    <a:pt x="1667" y="105"/>
                  </a:lnTo>
                  <a:lnTo>
                    <a:pt x="1958" y="264"/>
                  </a:lnTo>
                  <a:lnTo>
                    <a:pt x="2091" y="477"/>
                  </a:lnTo>
                  <a:lnTo>
                    <a:pt x="1906" y="583"/>
                  </a:lnTo>
                  <a:lnTo>
                    <a:pt x="0" y="583"/>
                  </a:lnTo>
                  <a:lnTo>
                    <a:pt x="0" y="185"/>
                  </a:lnTo>
                  <a:lnTo>
                    <a:pt x="714" y="185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795840" y="1373040"/>
            <a:ext cx="1081080" cy="3275640"/>
            <a:chOff x="3795840" y="1373040"/>
            <a:chExt cx="1081080" cy="3275640"/>
          </a:xfrm>
        </p:grpSpPr>
        <p:sp>
          <p:nvSpPr>
            <p:cNvPr id="125" name=""/>
            <p:cNvSpPr/>
            <p:nvPr/>
          </p:nvSpPr>
          <p:spPr>
            <a:xfrm>
              <a:off x="3895560" y="3048120"/>
              <a:ext cx="981360" cy="1600560"/>
            </a:xfrm>
            <a:custGeom>
              <a:avLst/>
              <a:gdLst/>
              <a:ahLst/>
              <a:rect l="0" t="0" r="r" b="b"/>
              <a:pathLst>
                <a:path w="2726" h="4446">
                  <a:moveTo>
                    <a:pt x="953" y="374"/>
                  </a:moveTo>
                  <a:lnTo>
                    <a:pt x="865" y="392"/>
                  </a:lnTo>
                  <a:lnTo>
                    <a:pt x="799" y="436"/>
                  </a:lnTo>
                  <a:lnTo>
                    <a:pt x="672" y="582"/>
                  </a:lnTo>
                  <a:lnTo>
                    <a:pt x="540" y="723"/>
                  </a:lnTo>
                  <a:lnTo>
                    <a:pt x="391" y="851"/>
                  </a:lnTo>
                  <a:lnTo>
                    <a:pt x="369" y="890"/>
                  </a:lnTo>
                  <a:lnTo>
                    <a:pt x="347" y="930"/>
                  </a:lnTo>
                  <a:lnTo>
                    <a:pt x="347" y="930"/>
                  </a:lnTo>
                  <a:lnTo>
                    <a:pt x="369" y="930"/>
                  </a:lnTo>
                  <a:lnTo>
                    <a:pt x="153" y="1553"/>
                  </a:lnTo>
                  <a:lnTo>
                    <a:pt x="0" y="4345"/>
                  </a:lnTo>
                  <a:lnTo>
                    <a:pt x="2726" y="4446"/>
                  </a:lnTo>
                  <a:lnTo>
                    <a:pt x="2317" y="1844"/>
                  </a:lnTo>
                  <a:lnTo>
                    <a:pt x="2119" y="414"/>
                  </a:lnTo>
                  <a:lnTo>
                    <a:pt x="1385" y="0"/>
                  </a:lnTo>
                  <a:lnTo>
                    <a:pt x="953" y="374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3795840" y="1373040"/>
              <a:ext cx="1005120" cy="1818000"/>
              <a:chOff x="3795840" y="1373040"/>
              <a:chExt cx="1005120" cy="1818000"/>
            </a:xfrm>
          </p:grpSpPr>
          <p:sp>
            <p:nvSpPr>
              <p:cNvPr id="127" name=""/>
              <p:cNvSpPr/>
              <p:nvPr/>
            </p:nvSpPr>
            <p:spPr>
              <a:xfrm>
                <a:off x="3905280" y="1609560"/>
                <a:ext cx="895680" cy="1581480"/>
              </a:xfrm>
              <a:custGeom>
                <a:avLst/>
                <a:gdLst/>
                <a:ahLst/>
                <a:rect l="0" t="0" r="r" b="b"/>
                <a:pathLst>
                  <a:path w="2488" h="4393">
                    <a:moveTo>
                      <a:pt x="582" y="0"/>
                    </a:moveTo>
                    <a:lnTo>
                      <a:pt x="264" y="264"/>
                    </a:lnTo>
                    <a:lnTo>
                      <a:pt x="79" y="687"/>
                    </a:lnTo>
                    <a:lnTo>
                      <a:pt x="26" y="1217"/>
                    </a:lnTo>
                    <a:lnTo>
                      <a:pt x="0" y="2699"/>
                    </a:lnTo>
                    <a:lnTo>
                      <a:pt x="52" y="3546"/>
                    </a:lnTo>
                    <a:lnTo>
                      <a:pt x="820" y="3599"/>
                    </a:lnTo>
                    <a:lnTo>
                      <a:pt x="926" y="4075"/>
                    </a:lnTo>
                    <a:lnTo>
                      <a:pt x="1031" y="4393"/>
                    </a:lnTo>
                    <a:lnTo>
                      <a:pt x="1271" y="4393"/>
                    </a:lnTo>
                    <a:lnTo>
                      <a:pt x="1403" y="4102"/>
                    </a:lnTo>
                    <a:lnTo>
                      <a:pt x="1323" y="3599"/>
                    </a:lnTo>
                    <a:lnTo>
                      <a:pt x="2038" y="3519"/>
                    </a:lnTo>
                    <a:lnTo>
                      <a:pt x="2064" y="3017"/>
                    </a:lnTo>
                    <a:lnTo>
                      <a:pt x="2223" y="3096"/>
                    </a:lnTo>
                    <a:lnTo>
                      <a:pt x="2382" y="3043"/>
                    </a:lnTo>
                    <a:lnTo>
                      <a:pt x="2488" y="2620"/>
                    </a:lnTo>
                    <a:lnTo>
                      <a:pt x="2355" y="2408"/>
                    </a:lnTo>
                    <a:lnTo>
                      <a:pt x="2197" y="2435"/>
                    </a:lnTo>
                    <a:lnTo>
                      <a:pt x="2355" y="185"/>
                    </a:lnTo>
                    <a:lnTo>
                      <a:pt x="582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795840" y="2052720"/>
                <a:ext cx="409680" cy="4096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48280" y="2014560"/>
                <a:ext cx="485640" cy="4856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338720" y="2214720"/>
                <a:ext cx="85680" cy="85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4560" bIns="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929040" y="2224080"/>
                <a:ext cx="85680" cy="85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4560" bIns="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135320" y="1401840"/>
                <a:ext cx="7920" cy="217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4249800" y="1382760"/>
                <a:ext cx="17280" cy="217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4411800" y="1373040"/>
                <a:ext cx="36360" cy="227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4573440" y="1420920"/>
                <a:ext cx="55800" cy="198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V="1">
                <a:off x="4716360" y="1449360"/>
                <a:ext cx="55800" cy="179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895560" y="2562120"/>
                <a:ext cx="657720" cy="257400"/>
              </a:xfrm>
              <a:custGeom>
                <a:avLst/>
                <a:gdLst/>
                <a:ahLst/>
                <a:rect l="0" t="0" r="r" b="b"/>
                <a:pathLst>
                  <a:path w="1827" h="715">
                    <a:moveTo>
                      <a:pt x="0" y="0"/>
                    </a:moveTo>
                    <a:lnTo>
                      <a:pt x="1827" y="163"/>
                    </a:lnTo>
                    <a:lnTo>
                      <a:pt x="746" y="7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4191120" y="3057480"/>
              <a:ext cx="305280" cy="181440"/>
            </a:xfrm>
            <a:custGeom>
              <a:avLst/>
              <a:gdLst/>
              <a:ahLst/>
              <a:rect l="0" t="0" r="r" b="b"/>
              <a:pathLst>
                <a:path w="848" h="504">
                  <a:moveTo>
                    <a:pt x="0" y="344"/>
                  </a:moveTo>
                  <a:lnTo>
                    <a:pt x="239" y="478"/>
                  </a:lnTo>
                  <a:lnTo>
                    <a:pt x="663" y="504"/>
                  </a:lnTo>
                  <a:lnTo>
                    <a:pt x="848" y="265"/>
                  </a:lnTo>
                  <a:lnTo>
                    <a:pt x="848" y="79"/>
                  </a:lnTo>
                  <a:lnTo>
                    <a:pt x="663" y="0"/>
                  </a:lnTo>
                  <a:lnTo>
                    <a:pt x="477" y="265"/>
                  </a:lnTo>
                  <a:lnTo>
                    <a:pt x="185" y="292"/>
                  </a:lnTo>
                  <a:lnTo>
                    <a:pt x="0" y="344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610160" y="3200400"/>
            <a:ext cx="509760" cy="1443240"/>
            <a:chOff x="4610160" y="3200400"/>
            <a:chExt cx="509760" cy="1443240"/>
          </a:xfrm>
        </p:grpSpPr>
        <p:sp>
          <p:nvSpPr>
            <p:cNvPr id="140" name=""/>
            <p:cNvSpPr/>
            <p:nvPr/>
          </p:nvSpPr>
          <p:spPr>
            <a:xfrm>
              <a:off x="4610160" y="3200400"/>
              <a:ext cx="486000" cy="1190880"/>
            </a:xfrm>
            <a:custGeom>
              <a:avLst/>
              <a:gdLst/>
              <a:ahLst/>
              <a:rect l="0" t="0" r="r" b="b"/>
              <a:pathLst>
                <a:path w="1350" h="3308">
                  <a:moveTo>
                    <a:pt x="238" y="0"/>
                  </a:moveTo>
                  <a:lnTo>
                    <a:pt x="79" y="105"/>
                  </a:lnTo>
                  <a:lnTo>
                    <a:pt x="0" y="423"/>
                  </a:lnTo>
                  <a:lnTo>
                    <a:pt x="211" y="1322"/>
                  </a:lnTo>
                  <a:lnTo>
                    <a:pt x="529" y="3308"/>
                  </a:lnTo>
                  <a:lnTo>
                    <a:pt x="1350" y="3149"/>
                  </a:lnTo>
                  <a:lnTo>
                    <a:pt x="979" y="1455"/>
                  </a:lnTo>
                  <a:lnTo>
                    <a:pt x="555" y="238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15000" y="4357800"/>
              <a:ext cx="304920" cy="285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505320" y="4064040"/>
            <a:ext cx="1219680" cy="271800"/>
            <a:chOff x="3505320" y="4064040"/>
            <a:chExt cx="1219680" cy="271800"/>
          </a:xfrm>
        </p:grpSpPr>
        <p:sp>
          <p:nvSpPr>
            <p:cNvPr id="143" name=""/>
            <p:cNvSpPr/>
            <p:nvPr/>
          </p:nvSpPr>
          <p:spPr>
            <a:xfrm>
              <a:off x="3505320" y="4114800"/>
              <a:ext cx="1219680" cy="171720"/>
            </a:xfrm>
            <a:custGeom>
              <a:avLst/>
              <a:gdLst/>
              <a:ahLst/>
              <a:rect l="0" t="0" r="r" b="b"/>
              <a:pathLst>
                <a:path w="3388" h="477">
                  <a:moveTo>
                    <a:pt x="1514" y="359"/>
                  </a:moveTo>
                  <a:lnTo>
                    <a:pt x="3388" y="98"/>
                  </a:lnTo>
                  <a:lnTo>
                    <a:pt x="3219" y="41"/>
                  </a:lnTo>
                  <a:lnTo>
                    <a:pt x="2916" y="0"/>
                  </a:lnTo>
                  <a:lnTo>
                    <a:pt x="2217" y="41"/>
                  </a:lnTo>
                  <a:lnTo>
                    <a:pt x="1149" y="161"/>
                  </a:lnTo>
                  <a:lnTo>
                    <a:pt x="769" y="227"/>
                  </a:lnTo>
                  <a:lnTo>
                    <a:pt x="0" y="335"/>
                  </a:lnTo>
                  <a:lnTo>
                    <a:pt x="53" y="477"/>
                  </a:lnTo>
                  <a:lnTo>
                    <a:pt x="988" y="363"/>
                  </a:lnTo>
                  <a:lnTo>
                    <a:pt x="1198" y="293"/>
                  </a:lnTo>
                  <a:lnTo>
                    <a:pt x="1402" y="265"/>
                  </a:lnTo>
                  <a:lnTo>
                    <a:pt x="1514" y="359"/>
                  </a:lnTo>
                  <a:close/>
                </a:path>
              </a:pathLst>
            </a:custGeom>
            <a:blipFill rotWithShape="0">
              <a:blip r:embed="rId1"/>
              <a:tile tx="0" ty="0" sx="3528125" sy="3528125" algn="ctr"/>
            </a:blip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10040" y="4064040"/>
              <a:ext cx="695520" cy="133560"/>
            </a:xfrm>
            <a:custGeom>
              <a:avLst/>
              <a:gdLst/>
              <a:ahLst/>
              <a:rect l="0" t="0" r="r" b="b"/>
              <a:pathLst>
                <a:path w="1932" h="371">
                  <a:moveTo>
                    <a:pt x="47" y="371"/>
                  </a:moveTo>
                  <a:lnTo>
                    <a:pt x="239" y="371"/>
                  </a:lnTo>
                  <a:lnTo>
                    <a:pt x="387" y="251"/>
                  </a:lnTo>
                  <a:lnTo>
                    <a:pt x="665" y="276"/>
                  </a:lnTo>
                  <a:lnTo>
                    <a:pt x="1045" y="187"/>
                  </a:lnTo>
                  <a:lnTo>
                    <a:pt x="1245" y="144"/>
                  </a:lnTo>
                  <a:lnTo>
                    <a:pt x="1501" y="105"/>
                  </a:lnTo>
                  <a:lnTo>
                    <a:pt x="1932" y="95"/>
                  </a:lnTo>
                  <a:lnTo>
                    <a:pt x="1506" y="38"/>
                  </a:lnTo>
                  <a:lnTo>
                    <a:pt x="1197" y="0"/>
                  </a:lnTo>
                  <a:lnTo>
                    <a:pt x="682" y="95"/>
                  </a:lnTo>
                  <a:lnTo>
                    <a:pt x="400" y="137"/>
                  </a:lnTo>
                  <a:lnTo>
                    <a:pt x="0" y="230"/>
                  </a:lnTo>
                  <a:lnTo>
                    <a:pt x="47" y="37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530520" y="4211640"/>
              <a:ext cx="495720" cy="124200"/>
            </a:xfrm>
            <a:custGeom>
              <a:avLst/>
              <a:gdLst/>
              <a:ahLst/>
              <a:rect l="0" t="0" r="r" b="b"/>
              <a:pathLst>
                <a:path w="1377" h="345">
                  <a:moveTo>
                    <a:pt x="1355" y="0"/>
                  </a:moveTo>
                  <a:lnTo>
                    <a:pt x="1377" y="98"/>
                  </a:lnTo>
                  <a:lnTo>
                    <a:pt x="1054" y="233"/>
                  </a:lnTo>
                  <a:lnTo>
                    <a:pt x="63" y="345"/>
                  </a:lnTo>
                  <a:lnTo>
                    <a:pt x="0" y="224"/>
                  </a:lnTo>
                  <a:lnTo>
                    <a:pt x="1355" y="0"/>
                  </a:lnTo>
                  <a:close/>
                </a:path>
              </a:pathLst>
            </a:custGeom>
            <a:solidFill>
              <a:srgbClr val="9933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4297320" y="3952800"/>
            <a:ext cx="493920" cy="314640"/>
          </a:xfrm>
          <a:custGeom>
            <a:avLst/>
            <a:gdLst/>
            <a:ahLst/>
            <a:rect l="0" t="0" r="r" b="b"/>
            <a:pathLst>
              <a:path w="1372" h="874">
                <a:moveTo>
                  <a:pt x="1248" y="684"/>
                </a:moveTo>
                <a:lnTo>
                  <a:pt x="1325" y="609"/>
                </a:lnTo>
                <a:lnTo>
                  <a:pt x="1372" y="534"/>
                </a:lnTo>
                <a:lnTo>
                  <a:pt x="1372" y="418"/>
                </a:lnTo>
                <a:lnTo>
                  <a:pt x="1346" y="321"/>
                </a:lnTo>
                <a:lnTo>
                  <a:pt x="1274" y="229"/>
                </a:lnTo>
                <a:lnTo>
                  <a:pt x="1196" y="154"/>
                </a:lnTo>
                <a:lnTo>
                  <a:pt x="1098" y="97"/>
                </a:lnTo>
                <a:lnTo>
                  <a:pt x="999" y="57"/>
                </a:lnTo>
                <a:lnTo>
                  <a:pt x="948" y="39"/>
                </a:lnTo>
                <a:lnTo>
                  <a:pt x="896" y="17"/>
                </a:lnTo>
                <a:lnTo>
                  <a:pt x="875" y="17"/>
                </a:lnTo>
                <a:lnTo>
                  <a:pt x="797" y="0"/>
                </a:lnTo>
                <a:lnTo>
                  <a:pt x="424" y="114"/>
                </a:lnTo>
                <a:lnTo>
                  <a:pt x="46" y="264"/>
                </a:lnTo>
                <a:lnTo>
                  <a:pt x="0" y="343"/>
                </a:lnTo>
                <a:lnTo>
                  <a:pt x="0" y="379"/>
                </a:lnTo>
                <a:lnTo>
                  <a:pt x="46" y="436"/>
                </a:lnTo>
                <a:lnTo>
                  <a:pt x="46" y="477"/>
                </a:lnTo>
                <a:lnTo>
                  <a:pt x="72" y="534"/>
                </a:lnTo>
                <a:lnTo>
                  <a:pt x="98" y="666"/>
                </a:lnTo>
                <a:lnTo>
                  <a:pt x="124" y="741"/>
                </a:lnTo>
                <a:lnTo>
                  <a:pt x="196" y="816"/>
                </a:lnTo>
                <a:lnTo>
                  <a:pt x="320" y="874"/>
                </a:lnTo>
                <a:lnTo>
                  <a:pt x="797" y="816"/>
                </a:lnTo>
                <a:lnTo>
                  <a:pt x="1025" y="759"/>
                </a:lnTo>
                <a:lnTo>
                  <a:pt x="1248" y="6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00480" y="4005360"/>
            <a:ext cx="276480" cy="562320"/>
          </a:xfrm>
          <a:custGeom>
            <a:avLst/>
            <a:gdLst/>
            <a:ahLst/>
            <a:rect l="0" t="0" r="r" b="b"/>
            <a:pathLst>
              <a:path w="768" h="1562">
                <a:moveTo>
                  <a:pt x="196" y="62"/>
                </a:moveTo>
                <a:lnTo>
                  <a:pt x="235" y="22"/>
                </a:lnTo>
                <a:lnTo>
                  <a:pt x="274" y="0"/>
                </a:lnTo>
                <a:lnTo>
                  <a:pt x="313" y="22"/>
                </a:lnTo>
                <a:lnTo>
                  <a:pt x="374" y="40"/>
                </a:lnTo>
                <a:lnTo>
                  <a:pt x="471" y="0"/>
                </a:lnTo>
                <a:lnTo>
                  <a:pt x="511" y="0"/>
                </a:lnTo>
                <a:lnTo>
                  <a:pt x="572" y="0"/>
                </a:lnTo>
                <a:lnTo>
                  <a:pt x="572" y="62"/>
                </a:lnTo>
                <a:lnTo>
                  <a:pt x="572" y="80"/>
                </a:lnTo>
                <a:lnTo>
                  <a:pt x="511" y="142"/>
                </a:lnTo>
                <a:lnTo>
                  <a:pt x="532" y="227"/>
                </a:lnTo>
                <a:lnTo>
                  <a:pt x="532" y="289"/>
                </a:lnTo>
                <a:lnTo>
                  <a:pt x="572" y="330"/>
                </a:lnTo>
                <a:lnTo>
                  <a:pt x="611" y="392"/>
                </a:lnTo>
                <a:lnTo>
                  <a:pt x="589" y="535"/>
                </a:lnTo>
                <a:lnTo>
                  <a:pt x="550" y="637"/>
                </a:lnTo>
                <a:lnTo>
                  <a:pt x="589" y="700"/>
                </a:lnTo>
                <a:lnTo>
                  <a:pt x="650" y="780"/>
                </a:lnTo>
                <a:lnTo>
                  <a:pt x="707" y="861"/>
                </a:lnTo>
                <a:lnTo>
                  <a:pt x="729" y="924"/>
                </a:lnTo>
                <a:lnTo>
                  <a:pt x="746" y="986"/>
                </a:lnTo>
                <a:lnTo>
                  <a:pt x="768" y="1026"/>
                </a:lnTo>
                <a:lnTo>
                  <a:pt x="768" y="1026"/>
                </a:lnTo>
                <a:lnTo>
                  <a:pt x="746" y="1174"/>
                </a:lnTo>
                <a:lnTo>
                  <a:pt x="729" y="1294"/>
                </a:lnTo>
                <a:lnTo>
                  <a:pt x="707" y="1419"/>
                </a:lnTo>
                <a:lnTo>
                  <a:pt x="668" y="1562"/>
                </a:lnTo>
                <a:lnTo>
                  <a:pt x="668" y="1521"/>
                </a:lnTo>
                <a:lnTo>
                  <a:pt x="668" y="1481"/>
                </a:lnTo>
                <a:lnTo>
                  <a:pt x="689" y="1437"/>
                </a:lnTo>
                <a:lnTo>
                  <a:pt x="689" y="1419"/>
                </a:lnTo>
                <a:lnTo>
                  <a:pt x="668" y="1356"/>
                </a:lnTo>
                <a:lnTo>
                  <a:pt x="650" y="1276"/>
                </a:lnTo>
                <a:lnTo>
                  <a:pt x="668" y="1214"/>
                </a:lnTo>
                <a:lnTo>
                  <a:pt x="689" y="1191"/>
                </a:lnTo>
                <a:lnTo>
                  <a:pt x="689" y="1174"/>
                </a:lnTo>
                <a:lnTo>
                  <a:pt x="668" y="1049"/>
                </a:lnTo>
                <a:lnTo>
                  <a:pt x="628" y="986"/>
                </a:lnTo>
                <a:lnTo>
                  <a:pt x="589" y="946"/>
                </a:lnTo>
                <a:lnTo>
                  <a:pt x="550" y="884"/>
                </a:lnTo>
                <a:lnTo>
                  <a:pt x="511" y="821"/>
                </a:lnTo>
                <a:lnTo>
                  <a:pt x="471" y="861"/>
                </a:lnTo>
                <a:lnTo>
                  <a:pt x="432" y="884"/>
                </a:lnTo>
                <a:lnTo>
                  <a:pt x="393" y="906"/>
                </a:lnTo>
                <a:lnTo>
                  <a:pt x="374" y="924"/>
                </a:lnTo>
                <a:lnTo>
                  <a:pt x="353" y="924"/>
                </a:lnTo>
                <a:lnTo>
                  <a:pt x="353" y="843"/>
                </a:lnTo>
                <a:lnTo>
                  <a:pt x="353" y="821"/>
                </a:lnTo>
                <a:lnTo>
                  <a:pt x="353" y="803"/>
                </a:lnTo>
                <a:lnTo>
                  <a:pt x="374" y="758"/>
                </a:lnTo>
                <a:lnTo>
                  <a:pt x="393" y="718"/>
                </a:lnTo>
                <a:lnTo>
                  <a:pt x="393" y="718"/>
                </a:lnTo>
                <a:lnTo>
                  <a:pt x="393" y="740"/>
                </a:lnTo>
                <a:lnTo>
                  <a:pt x="393" y="758"/>
                </a:lnTo>
                <a:lnTo>
                  <a:pt x="374" y="780"/>
                </a:lnTo>
                <a:lnTo>
                  <a:pt x="335" y="758"/>
                </a:lnTo>
                <a:lnTo>
                  <a:pt x="313" y="740"/>
                </a:lnTo>
                <a:lnTo>
                  <a:pt x="296" y="740"/>
                </a:lnTo>
                <a:lnTo>
                  <a:pt x="274" y="758"/>
                </a:lnTo>
                <a:lnTo>
                  <a:pt x="257" y="780"/>
                </a:lnTo>
                <a:lnTo>
                  <a:pt x="196" y="718"/>
                </a:lnTo>
                <a:lnTo>
                  <a:pt x="178" y="780"/>
                </a:lnTo>
                <a:lnTo>
                  <a:pt x="156" y="803"/>
                </a:lnTo>
                <a:lnTo>
                  <a:pt x="117" y="780"/>
                </a:lnTo>
                <a:lnTo>
                  <a:pt x="39" y="758"/>
                </a:lnTo>
                <a:lnTo>
                  <a:pt x="17" y="740"/>
                </a:lnTo>
                <a:lnTo>
                  <a:pt x="0" y="700"/>
                </a:lnTo>
                <a:lnTo>
                  <a:pt x="17" y="677"/>
                </a:lnTo>
                <a:lnTo>
                  <a:pt x="39" y="677"/>
                </a:lnTo>
                <a:lnTo>
                  <a:pt x="117" y="700"/>
                </a:lnTo>
                <a:lnTo>
                  <a:pt x="196" y="718"/>
                </a:lnTo>
                <a:lnTo>
                  <a:pt x="196" y="718"/>
                </a:lnTo>
                <a:lnTo>
                  <a:pt x="178" y="700"/>
                </a:lnTo>
                <a:lnTo>
                  <a:pt x="156" y="677"/>
                </a:lnTo>
                <a:lnTo>
                  <a:pt x="139" y="655"/>
                </a:lnTo>
                <a:lnTo>
                  <a:pt x="139" y="637"/>
                </a:lnTo>
                <a:lnTo>
                  <a:pt x="139" y="597"/>
                </a:lnTo>
                <a:lnTo>
                  <a:pt x="156" y="553"/>
                </a:lnTo>
                <a:lnTo>
                  <a:pt x="178" y="535"/>
                </a:lnTo>
                <a:lnTo>
                  <a:pt x="178" y="472"/>
                </a:lnTo>
                <a:lnTo>
                  <a:pt x="178" y="410"/>
                </a:lnTo>
                <a:lnTo>
                  <a:pt x="178" y="267"/>
                </a:lnTo>
                <a:lnTo>
                  <a:pt x="139" y="227"/>
                </a:lnTo>
                <a:lnTo>
                  <a:pt x="117" y="205"/>
                </a:lnTo>
                <a:lnTo>
                  <a:pt x="117" y="182"/>
                </a:lnTo>
                <a:lnTo>
                  <a:pt x="139" y="165"/>
                </a:lnTo>
                <a:lnTo>
                  <a:pt x="156" y="142"/>
                </a:lnTo>
                <a:lnTo>
                  <a:pt x="156" y="124"/>
                </a:lnTo>
                <a:lnTo>
                  <a:pt x="196" y="62"/>
                </a:lnTo>
                <a:close/>
              </a:path>
            </a:pathLst>
          </a:custGeom>
          <a:solidFill>
            <a:srgbClr val="e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87760" y="4186080"/>
            <a:ext cx="279360" cy="243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80880" y="228600"/>
            <a:ext cx="8305920" cy="28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know what to do, don’t ever want to know what to do, don’t give a shit if it goes                 right or wrong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 say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2419200" y="3238560"/>
            <a:ext cx="1791360" cy="1005480"/>
            <a:chOff x="2419200" y="3238560"/>
            <a:chExt cx="1791360" cy="1005480"/>
          </a:xfrm>
        </p:grpSpPr>
        <p:grpSp>
          <p:nvGrpSpPr>
            <p:cNvPr id="151" name=""/>
            <p:cNvGrpSpPr/>
            <p:nvPr/>
          </p:nvGrpSpPr>
          <p:grpSpPr>
            <a:xfrm>
              <a:off x="2419200" y="3424320"/>
              <a:ext cx="1219680" cy="819720"/>
              <a:chOff x="2419200" y="3424320"/>
              <a:chExt cx="1219680" cy="819720"/>
            </a:xfrm>
          </p:grpSpPr>
          <p:grpSp>
            <p:nvGrpSpPr>
              <p:cNvPr id="152" name=""/>
              <p:cNvGrpSpPr/>
              <p:nvPr/>
            </p:nvGrpSpPr>
            <p:grpSpPr>
              <a:xfrm>
                <a:off x="2419200" y="3424320"/>
                <a:ext cx="1219680" cy="668520"/>
                <a:chOff x="2419200" y="3424320"/>
                <a:chExt cx="1219680" cy="66852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2419200" y="3638520"/>
                  <a:ext cx="1219680" cy="171720"/>
                </a:xfrm>
                <a:custGeom>
                  <a:avLst/>
                  <a:gdLst/>
                  <a:ahLst/>
                  <a:rect l="0" t="0" r="r" b="b"/>
                  <a:pathLst>
                    <a:path w="3388" h="477">
                      <a:moveTo>
                        <a:pt x="1488" y="278"/>
                      </a:moveTo>
                      <a:lnTo>
                        <a:pt x="0" y="0"/>
                      </a:lnTo>
                      <a:lnTo>
                        <a:pt x="386" y="9"/>
                      </a:lnTo>
                      <a:lnTo>
                        <a:pt x="877" y="37"/>
                      </a:lnTo>
                      <a:lnTo>
                        <a:pt x="1591" y="130"/>
                      </a:lnTo>
                      <a:lnTo>
                        <a:pt x="2519" y="283"/>
                      </a:lnTo>
                      <a:lnTo>
                        <a:pt x="2778" y="341"/>
                      </a:lnTo>
                      <a:lnTo>
                        <a:pt x="3388" y="455"/>
                      </a:lnTo>
                      <a:lnTo>
                        <a:pt x="2881" y="477"/>
                      </a:lnTo>
                      <a:lnTo>
                        <a:pt x="2106" y="342"/>
                      </a:lnTo>
                      <a:lnTo>
                        <a:pt x="2063" y="303"/>
                      </a:lnTo>
                      <a:lnTo>
                        <a:pt x="1900" y="272"/>
                      </a:lnTo>
                      <a:lnTo>
                        <a:pt x="1488" y="278"/>
                      </a:lnTo>
                      <a:close/>
                    </a:path>
                  </a:pathLst>
                </a:custGeom>
                <a:blipFill rotWithShape="0">
                  <a:blip r:embed="rId1"/>
                  <a:tile tx="0" ty="0" sx="3528125" sy="3528125" algn="ctr"/>
                </a:blip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581200" y="3424320"/>
                  <a:ext cx="695520" cy="133560"/>
                </a:xfrm>
                <a:custGeom>
                  <a:avLst/>
                  <a:gdLst/>
                  <a:ahLst/>
                  <a:rect l="0" t="0" r="r" b="b"/>
                  <a:pathLst>
                    <a:path w="1932" h="371">
                      <a:moveTo>
                        <a:pt x="1631" y="371"/>
                      </a:moveTo>
                      <a:lnTo>
                        <a:pt x="1422" y="338"/>
                      </a:lnTo>
                      <a:lnTo>
                        <a:pt x="1461" y="292"/>
                      </a:lnTo>
                      <a:lnTo>
                        <a:pt x="1105" y="249"/>
                      </a:lnTo>
                      <a:lnTo>
                        <a:pt x="834" y="168"/>
                      </a:lnTo>
                      <a:lnTo>
                        <a:pt x="687" y="126"/>
                      </a:lnTo>
                      <a:lnTo>
                        <a:pt x="463" y="75"/>
                      </a:lnTo>
                      <a:lnTo>
                        <a:pt x="0" y="0"/>
                      </a:lnTo>
                      <a:lnTo>
                        <a:pt x="571" y="63"/>
                      </a:lnTo>
                      <a:lnTo>
                        <a:pt x="989" y="110"/>
                      </a:lnTo>
                      <a:lnTo>
                        <a:pt x="1399" y="214"/>
                      </a:lnTo>
                      <a:lnTo>
                        <a:pt x="1638" y="271"/>
                      </a:lnTo>
                      <a:lnTo>
                        <a:pt x="1932" y="356"/>
                      </a:lnTo>
                      <a:lnTo>
                        <a:pt x="1631" y="3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932200" y="3968640"/>
                  <a:ext cx="495720" cy="124200"/>
                </a:xfrm>
                <a:custGeom>
                  <a:avLst/>
                  <a:gdLst/>
                  <a:ahLst/>
                  <a:rect l="0" t="0" r="r" b="b"/>
                  <a:pathLst>
                    <a:path w="1377" h="345">
                      <a:moveTo>
                        <a:pt x="343" y="0"/>
                      </a:moveTo>
                      <a:lnTo>
                        <a:pt x="0" y="24"/>
                      </a:lnTo>
                      <a:lnTo>
                        <a:pt x="0" y="126"/>
                      </a:lnTo>
                      <a:lnTo>
                        <a:pt x="912" y="345"/>
                      </a:lnTo>
                      <a:lnTo>
                        <a:pt x="1377" y="322"/>
                      </a:lnTo>
                      <a:lnTo>
                        <a:pt x="343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3046320" y="3941640"/>
                <a:ext cx="289080" cy="302400"/>
              </a:xfrm>
              <a:custGeom>
                <a:avLst/>
                <a:gdLst/>
                <a:ahLst/>
                <a:rect l="0" t="0" r="r" b="b"/>
                <a:pathLst>
                  <a:path w="803" h="840">
                    <a:moveTo>
                      <a:pt x="228" y="32"/>
                    </a:moveTo>
                    <a:lnTo>
                      <a:pt x="228" y="32"/>
                    </a:lnTo>
                    <a:cubicBezTo>
                      <a:pt x="165" y="60"/>
                      <a:pt x="110" y="106"/>
                      <a:pt x="70" y="165"/>
                    </a:cubicBezTo>
                    <a:cubicBezTo>
                      <a:pt x="30" y="223"/>
                      <a:pt x="6" y="293"/>
                      <a:pt x="1" y="366"/>
                    </a:cubicBezTo>
                    <a:cubicBezTo>
                      <a:pt x="-5" y="439"/>
                      <a:pt x="8" y="514"/>
                      <a:pt x="38" y="582"/>
                    </a:cubicBezTo>
                    <a:cubicBezTo>
                      <a:pt x="68" y="650"/>
                      <a:pt x="115" y="709"/>
                      <a:pt x="173" y="754"/>
                    </a:cubicBezTo>
                    <a:cubicBezTo>
                      <a:pt x="231" y="799"/>
                      <a:pt x="299" y="827"/>
                      <a:pt x="369" y="837"/>
                    </a:cubicBezTo>
                    <a:cubicBezTo>
                      <a:pt x="439" y="846"/>
                      <a:pt x="510" y="836"/>
                      <a:pt x="574" y="808"/>
                    </a:cubicBezTo>
                    <a:lnTo>
                      <a:pt x="574" y="808"/>
                    </a:lnTo>
                    <a:lnTo>
                      <a:pt x="574" y="808"/>
                    </a:lnTo>
                    <a:cubicBezTo>
                      <a:pt x="637" y="780"/>
                      <a:pt x="692" y="734"/>
                      <a:pt x="732" y="675"/>
                    </a:cubicBezTo>
                    <a:cubicBezTo>
                      <a:pt x="772" y="617"/>
                      <a:pt x="796" y="547"/>
                      <a:pt x="801" y="474"/>
                    </a:cubicBezTo>
                    <a:cubicBezTo>
                      <a:pt x="807" y="401"/>
                      <a:pt x="794" y="326"/>
                      <a:pt x="764" y="258"/>
                    </a:cubicBezTo>
                    <a:cubicBezTo>
                      <a:pt x="734" y="190"/>
                      <a:pt x="687" y="131"/>
                      <a:pt x="629" y="86"/>
                    </a:cubicBezTo>
                    <a:cubicBezTo>
                      <a:pt x="571" y="41"/>
                      <a:pt x="503" y="13"/>
                      <a:pt x="433" y="3"/>
                    </a:cubicBezTo>
                    <a:cubicBezTo>
                      <a:pt x="363" y="-6"/>
                      <a:pt x="292" y="4"/>
                      <a:pt x="228" y="32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3295800" y="3238560"/>
              <a:ext cx="914760" cy="991080"/>
            </a:xfrm>
            <a:custGeom>
              <a:avLst/>
              <a:gdLst/>
              <a:ahLst/>
              <a:rect l="0" t="0" r="r" b="b"/>
              <a:pathLst>
                <a:path w="2541" h="2753">
                  <a:moveTo>
                    <a:pt x="2117" y="0"/>
                  </a:moveTo>
                  <a:lnTo>
                    <a:pt x="1906" y="211"/>
                  </a:lnTo>
                  <a:lnTo>
                    <a:pt x="1694" y="1059"/>
                  </a:lnTo>
                  <a:lnTo>
                    <a:pt x="1482" y="1694"/>
                  </a:lnTo>
                  <a:lnTo>
                    <a:pt x="0" y="1906"/>
                  </a:lnTo>
                  <a:lnTo>
                    <a:pt x="211" y="2753"/>
                  </a:lnTo>
                  <a:lnTo>
                    <a:pt x="2117" y="2330"/>
                  </a:lnTo>
                  <a:lnTo>
                    <a:pt x="2541" y="635"/>
                  </a:lnTo>
                  <a:lnTo>
                    <a:pt x="2541" y="211"/>
                  </a:lnTo>
                  <a:lnTo>
                    <a:pt x="2329" y="0"/>
                  </a:lnTo>
                  <a:lnTo>
                    <a:pt x="2117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3638520" y="4448160"/>
            <a:ext cx="1514880" cy="1867320"/>
            <a:chOff x="3638520" y="4448160"/>
            <a:chExt cx="1514880" cy="1867320"/>
          </a:xfrm>
        </p:grpSpPr>
        <p:sp>
          <p:nvSpPr>
            <p:cNvPr id="159" name=""/>
            <p:cNvSpPr/>
            <p:nvPr/>
          </p:nvSpPr>
          <p:spPr>
            <a:xfrm>
              <a:off x="4019400" y="4448160"/>
              <a:ext cx="657720" cy="1724400"/>
            </a:xfrm>
            <a:custGeom>
              <a:avLst/>
              <a:gdLst/>
              <a:ahLst/>
              <a:rect l="0" t="0" r="r" b="b"/>
              <a:pathLst>
                <a:path w="1827" h="4790">
                  <a:moveTo>
                    <a:pt x="0" y="0"/>
                  </a:moveTo>
                  <a:lnTo>
                    <a:pt x="317" y="4790"/>
                  </a:lnTo>
                  <a:lnTo>
                    <a:pt x="1032" y="4790"/>
                  </a:lnTo>
                  <a:lnTo>
                    <a:pt x="927" y="1297"/>
                  </a:lnTo>
                  <a:lnTo>
                    <a:pt x="1032" y="4790"/>
                  </a:lnTo>
                  <a:lnTo>
                    <a:pt x="1827" y="4790"/>
                  </a:lnTo>
                  <a:lnTo>
                    <a:pt x="1748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38520" y="6105600"/>
              <a:ext cx="752760" cy="209880"/>
            </a:xfrm>
            <a:custGeom>
              <a:avLst/>
              <a:gdLst/>
              <a:ahLst/>
              <a:rect l="0" t="0" r="r" b="b"/>
              <a:pathLst>
                <a:path w="2091" h="583">
                  <a:moveTo>
                    <a:pt x="1376" y="185"/>
                  </a:moveTo>
                  <a:lnTo>
                    <a:pt x="978" y="52"/>
                  </a:lnTo>
                  <a:lnTo>
                    <a:pt x="714" y="0"/>
                  </a:lnTo>
                  <a:lnTo>
                    <a:pt x="423" y="105"/>
                  </a:lnTo>
                  <a:lnTo>
                    <a:pt x="132" y="264"/>
                  </a:lnTo>
                  <a:lnTo>
                    <a:pt x="0" y="477"/>
                  </a:lnTo>
                  <a:lnTo>
                    <a:pt x="185" y="583"/>
                  </a:lnTo>
                  <a:lnTo>
                    <a:pt x="2091" y="583"/>
                  </a:lnTo>
                  <a:lnTo>
                    <a:pt x="2091" y="185"/>
                  </a:lnTo>
                  <a:lnTo>
                    <a:pt x="1376" y="185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00640" y="6105600"/>
              <a:ext cx="752760" cy="209880"/>
            </a:xfrm>
            <a:custGeom>
              <a:avLst/>
              <a:gdLst/>
              <a:ahLst/>
              <a:rect l="0" t="0" r="r" b="b"/>
              <a:pathLst>
                <a:path w="2091" h="583">
                  <a:moveTo>
                    <a:pt x="714" y="185"/>
                  </a:moveTo>
                  <a:lnTo>
                    <a:pt x="1112" y="52"/>
                  </a:lnTo>
                  <a:lnTo>
                    <a:pt x="1376" y="0"/>
                  </a:lnTo>
                  <a:lnTo>
                    <a:pt x="1667" y="105"/>
                  </a:lnTo>
                  <a:lnTo>
                    <a:pt x="1958" y="264"/>
                  </a:lnTo>
                  <a:lnTo>
                    <a:pt x="2091" y="477"/>
                  </a:lnTo>
                  <a:lnTo>
                    <a:pt x="1906" y="583"/>
                  </a:lnTo>
                  <a:lnTo>
                    <a:pt x="0" y="583"/>
                  </a:lnTo>
                  <a:lnTo>
                    <a:pt x="0" y="185"/>
                  </a:lnTo>
                  <a:lnTo>
                    <a:pt x="714" y="185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795840" y="1373040"/>
            <a:ext cx="1081080" cy="3275640"/>
            <a:chOff x="3795840" y="1373040"/>
            <a:chExt cx="1081080" cy="3275640"/>
          </a:xfrm>
        </p:grpSpPr>
        <p:sp>
          <p:nvSpPr>
            <p:cNvPr id="163" name=""/>
            <p:cNvSpPr/>
            <p:nvPr/>
          </p:nvSpPr>
          <p:spPr>
            <a:xfrm>
              <a:off x="3895560" y="3048120"/>
              <a:ext cx="981360" cy="1600560"/>
            </a:xfrm>
            <a:custGeom>
              <a:avLst/>
              <a:gdLst/>
              <a:ahLst/>
              <a:rect l="0" t="0" r="r" b="b"/>
              <a:pathLst>
                <a:path w="2726" h="4446">
                  <a:moveTo>
                    <a:pt x="953" y="374"/>
                  </a:moveTo>
                  <a:lnTo>
                    <a:pt x="865" y="392"/>
                  </a:lnTo>
                  <a:lnTo>
                    <a:pt x="799" y="436"/>
                  </a:lnTo>
                  <a:lnTo>
                    <a:pt x="672" y="582"/>
                  </a:lnTo>
                  <a:lnTo>
                    <a:pt x="540" y="723"/>
                  </a:lnTo>
                  <a:lnTo>
                    <a:pt x="391" y="851"/>
                  </a:lnTo>
                  <a:lnTo>
                    <a:pt x="369" y="890"/>
                  </a:lnTo>
                  <a:lnTo>
                    <a:pt x="347" y="930"/>
                  </a:lnTo>
                  <a:lnTo>
                    <a:pt x="347" y="930"/>
                  </a:lnTo>
                  <a:lnTo>
                    <a:pt x="369" y="930"/>
                  </a:lnTo>
                  <a:lnTo>
                    <a:pt x="153" y="1553"/>
                  </a:lnTo>
                  <a:lnTo>
                    <a:pt x="0" y="4345"/>
                  </a:lnTo>
                  <a:lnTo>
                    <a:pt x="2726" y="4446"/>
                  </a:lnTo>
                  <a:lnTo>
                    <a:pt x="2317" y="1844"/>
                  </a:lnTo>
                  <a:lnTo>
                    <a:pt x="2119" y="414"/>
                  </a:lnTo>
                  <a:lnTo>
                    <a:pt x="1385" y="0"/>
                  </a:lnTo>
                  <a:lnTo>
                    <a:pt x="953" y="374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3795840" y="1373040"/>
              <a:ext cx="1005120" cy="1818000"/>
              <a:chOff x="3795840" y="1373040"/>
              <a:chExt cx="1005120" cy="1818000"/>
            </a:xfrm>
          </p:grpSpPr>
          <p:sp>
            <p:nvSpPr>
              <p:cNvPr id="165" name=""/>
              <p:cNvSpPr/>
              <p:nvPr/>
            </p:nvSpPr>
            <p:spPr>
              <a:xfrm>
                <a:off x="3905280" y="1609560"/>
                <a:ext cx="895680" cy="1581480"/>
              </a:xfrm>
              <a:custGeom>
                <a:avLst/>
                <a:gdLst/>
                <a:ahLst/>
                <a:rect l="0" t="0" r="r" b="b"/>
                <a:pathLst>
                  <a:path w="2488" h="4393">
                    <a:moveTo>
                      <a:pt x="582" y="0"/>
                    </a:moveTo>
                    <a:lnTo>
                      <a:pt x="264" y="264"/>
                    </a:lnTo>
                    <a:lnTo>
                      <a:pt x="79" y="687"/>
                    </a:lnTo>
                    <a:lnTo>
                      <a:pt x="26" y="1217"/>
                    </a:lnTo>
                    <a:lnTo>
                      <a:pt x="0" y="2699"/>
                    </a:lnTo>
                    <a:lnTo>
                      <a:pt x="52" y="3546"/>
                    </a:lnTo>
                    <a:lnTo>
                      <a:pt x="820" y="3599"/>
                    </a:lnTo>
                    <a:lnTo>
                      <a:pt x="926" y="4075"/>
                    </a:lnTo>
                    <a:lnTo>
                      <a:pt x="1031" y="4393"/>
                    </a:lnTo>
                    <a:lnTo>
                      <a:pt x="1271" y="4393"/>
                    </a:lnTo>
                    <a:lnTo>
                      <a:pt x="1403" y="4102"/>
                    </a:lnTo>
                    <a:lnTo>
                      <a:pt x="1323" y="3599"/>
                    </a:lnTo>
                    <a:lnTo>
                      <a:pt x="2038" y="3519"/>
                    </a:lnTo>
                    <a:lnTo>
                      <a:pt x="2064" y="3017"/>
                    </a:lnTo>
                    <a:lnTo>
                      <a:pt x="2223" y="3096"/>
                    </a:lnTo>
                    <a:lnTo>
                      <a:pt x="2382" y="3043"/>
                    </a:lnTo>
                    <a:lnTo>
                      <a:pt x="2488" y="2620"/>
                    </a:lnTo>
                    <a:lnTo>
                      <a:pt x="2355" y="2408"/>
                    </a:lnTo>
                    <a:lnTo>
                      <a:pt x="2197" y="2435"/>
                    </a:lnTo>
                    <a:lnTo>
                      <a:pt x="2355" y="185"/>
                    </a:lnTo>
                    <a:lnTo>
                      <a:pt x="582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795840" y="2052720"/>
                <a:ext cx="409680" cy="4096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148280" y="2014560"/>
                <a:ext cx="485640" cy="4856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338720" y="2214720"/>
                <a:ext cx="85680" cy="85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4560" bIns="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929040" y="2224080"/>
                <a:ext cx="85680" cy="85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4560" bIns="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135320" y="1401840"/>
                <a:ext cx="7920" cy="217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4249800" y="1382760"/>
                <a:ext cx="17280" cy="217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4411800" y="1373040"/>
                <a:ext cx="36360" cy="227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4573440" y="1420920"/>
                <a:ext cx="55800" cy="198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4716360" y="1449360"/>
                <a:ext cx="55800" cy="179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895560" y="2562120"/>
                <a:ext cx="657720" cy="257400"/>
              </a:xfrm>
              <a:custGeom>
                <a:avLst/>
                <a:gdLst/>
                <a:ahLst/>
                <a:rect l="0" t="0" r="r" b="b"/>
                <a:pathLst>
                  <a:path w="1827" h="715">
                    <a:moveTo>
                      <a:pt x="0" y="0"/>
                    </a:moveTo>
                    <a:lnTo>
                      <a:pt x="1827" y="163"/>
                    </a:lnTo>
                    <a:lnTo>
                      <a:pt x="746" y="7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4191120" y="3057480"/>
              <a:ext cx="305280" cy="181440"/>
            </a:xfrm>
            <a:custGeom>
              <a:avLst/>
              <a:gdLst/>
              <a:ahLst/>
              <a:rect l="0" t="0" r="r" b="b"/>
              <a:pathLst>
                <a:path w="848" h="504">
                  <a:moveTo>
                    <a:pt x="0" y="344"/>
                  </a:moveTo>
                  <a:lnTo>
                    <a:pt x="239" y="478"/>
                  </a:lnTo>
                  <a:lnTo>
                    <a:pt x="663" y="504"/>
                  </a:lnTo>
                  <a:lnTo>
                    <a:pt x="848" y="265"/>
                  </a:lnTo>
                  <a:lnTo>
                    <a:pt x="848" y="79"/>
                  </a:lnTo>
                  <a:lnTo>
                    <a:pt x="663" y="0"/>
                  </a:lnTo>
                  <a:lnTo>
                    <a:pt x="477" y="265"/>
                  </a:lnTo>
                  <a:lnTo>
                    <a:pt x="185" y="292"/>
                  </a:lnTo>
                  <a:lnTo>
                    <a:pt x="0" y="344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572000" y="3219480"/>
            <a:ext cx="509760" cy="1443240"/>
            <a:chOff x="4572000" y="3219480"/>
            <a:chExt cx="509760" cy="1443240"/>
          </a:xfrm>
        </p:grpSpPr>
        <p:sp>
          <p:nvSpPr>
            <p:cNvPr id="178" name=""/>
            <p:cNvSpPr/>
            <p:nvPr/>
          </p:nvSpPr>
          <p:spPr>
            <a:xfrm>
              <a:off x="4572000" y="3219480"/>
              <a:ext cx="486000" cy="1190880"/>
            </a:xfrm>
            <a:custGeom>
              <a:avLst/>
              <a:gdLst/>
              <a:ahLst/>
              <a:rect l="0" t="0" r="r" b="b"/>
              <a:pathLst>
                <a:path w="1350" h="3308">
                  <a:moveTo>
                    <a:pt x="238" y="0"/>
                  </a:moveTo>
                  <a:lnTo>
                    <a:pt x="79" y="105"/>
                  </a:lnTo>
                  <a:lnTo>
                    <a:pt x="0" y="423"/>
                  </a:lnTo>
                  <a:lnTo>
                    <a:pt x="211" y="1322"/>
                  </a:lnTo>
                  <a:lnTo>
                    <a:pt x="529" y="3308"/>
                  </a:lnTo>
                  <a:lnTo>
                    <a:pt x="1350" y="3149"/>
                  </a:lnTo>
                  <a:lnTo>
                    <a:pt x="979" y="1455"/>
                  </a:lnTo>
                  <a:lnTo>
                    <a:pt x="555" y="238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776840" y="4376880"/>
              <a:ext cx="304920" cy="285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4200480" y="4005360"/>
            <a:ext cx="276480" cy="562320"/>
          </a:xfrm>
          <a:custGeom>
            <a:avLst/>
            <a:gdLst/>
            <a:ahLst/>
            <a:rect l="0" t="0" r="r" b="b"/>
            <a:pathLst>
              <a:path w="768" h="1562">
                <a:moveTo>
                  <a:pt x="196" y="62"/>
                </a:moveTo>
                <a:lnTo>
                  <a:pt x="235" y="22"/>
                </a:lnTo>
                <a:lnTo>
                  <a:pt x="274" y="0"/>
                </a:lnTo>
                <a:lnTo>
                  <a:pt x="313" y="22"/>
                </a:lnTo>
                <a:lnTo>
                  <a:pt x="374" y="40"/>
                </a:lnTo>
                <a:lnTo>
                  <a:pt x="471" y="0"/>
                </a:lnTo>
                <a:lnTo>
                  <a:pt x="511" y="0"/>
                </a:lnTo>
                <a:lnTo>
                  <a:pt x="572" y="0"/>
                </a:lnTo>
                <a:lnTo>
                  <a:pt x="572" y="62"/>
                </a:lnTo>
                <a:lnTo>
                  <a:pt x="572" y="80"/>
                </a:lnTo>
                <a:lnTo>
                  <a:pt x="511" y="142"/>
                </a:lnTo>
                <a:lnTo>
                  <a:pt x="532" y="227"/>
                </a:lnTo>
                <a:lnTo>
                  <a:pt x="532" y="289"/>
                </a:lnTo>
                <a:lnTo>
                  <a:pt x="572" y="330"/>
                </a:lnTo>
                <a:lnTo>
                  <a:pt x="611" y="392"/>
                </a:lnTo>
                <a:lnTo>
                  <a:pt x="589" y="535"/>
                </a:lnTo>
                <a:lnTo>
                  <a:pt x="550" y="637"/>
                </a:lnTo>
                <a:lnTo>
                  <a:pt x="589" y="700"/>
                </a:lnTo>
                <a:lnTo>
                  <a:pt x="650" y="780"/>
                </a:lnTo>
                <a:lnTo>
                  <a:pt x="707" y="861"/>
                </a:lnTo>
                <a:lnTo>
                  <a:pt x="729" y="924"/>
                </a:lnTo>
                <a:lnTo>
                  <a:pt x="746" y="986"/>
                </a:lnTo>
                <a:lnTo>
                  <a:pt x="768" y="1026"/>
                </a:lnTo>
                <a:lnTo>
                  <a:pt x="768" y="1026"/>
                </a:lnTo>
                <a:lnTo>
                  <a:pt x="746" y="1174"/>
                </a:lnTo>
                <a:lnTo>
                  <a:pt x="729" y="1294"/>
                </a:lnTo>
                <a:lnTo>
                  <a:pt x="707" y="1419"/>
                </a:lnTo>
                <a:lnTo>
                  <a:pt x="668" y="1562"/>
                </a:lnTo>
                <a:lnTo>
                  <a:pt x="668" y="1521"/>
                </a:lnTo>
                <a:lnTo>
                  <a:pt x="668" y="1481"/>
                </a:lnTo>
                <a:lnTo>
                  <a:pt x="689" y="1437"/>
                </a:lnTo>
                <a:lnTo>
                  <a:pt x="689" y="1419"/>
                </a:lnTo>
                <a:lnTo>
                  <a:pt x="668" y="1356"/>
                </a:lnTo>
                <a:lnTo>
                  <a:pt x="650" y="1276"/>
                </a:lnTo>
                <a:lnTo>
                  <a:pt x="668" y="1214"/>
                </a:lnTo>
                <a:lnTo>
                  <a:pt x="689" y="1191"/>
                </a:lnTo>
                <a:lnTo>
                  <a:pt x="689" y="1174"/>
                </a:lnTo>
                <a:lnTo>
                  <a:pt x="668" y="1049"/>
                </a:lnTo>
                <a:lnTo>
                  <a:pt x="628" y="986"/>
                </a:lnTo>
                <a:lnTo>
                  <a:pt x="589" y="946"/>
                </a:lnTo>
                <a:lnTo>
                  <a:pt x="550" y="884"/>
                </a:lnTo>
                <a:lnTo>
                  <a:pt x="511" y="821"/>
                </a:lnTo>
                <a:lnTo>
                  <a:pt x="471" y="861"/>
                </a:lnTo>
                <a:lnTo>
                  <a:pt x="432" y="884"/>
                </a:lnTo>
                <a:lnTo>
                  <a:pt x="393" y="906"/>
                </a:lnTo>
                <a:lnTo>
                  <a:pt x="374" y="924"/>
                </a:lnTo>
                <a:lnTo>
                  <a:pt x="353" y="924"/>
                </a:lnTo>
                <a:lnTo>
                  <a:pt x="353" y="843"/>
                </a:lnTo>
                <a:lnTo>
                  <a:pt x="353" y="821"/>
                </a:lnTo>
                <a:lnTo>
                  <a:pt x="353" y="803"/>
                </a:lnTo>
                <a:lnTo>
                  <a:pt x="374" y="758"/>
                </a:lnTo>
                <a:lnTo>
                  <a:pt x="393" y="718"/>
                </a:lnTo>
                <a:lnTo>
                  <a:pt x="393" y="718"/>
                </a:lnTo>
                <a:lnTo>
                  <a:pt x="393" y="740"/>
                </a:lnTo>
                <a:lnTo>
                  <a:pt x="393" y="758"/>
                </a:lnTo>
                <a:lnTo>
                  <a:pt x="374" y="780"/>
                </a:lnTo>
                <a:lnTo>
                  <a:pt x="335" y="758"/>
                </a:lnTo>
                <a:lnTo>
                  <a:pt x="313" y="740"/>
                </a:lnTo>
                <a:lnTo>
                  <a:pt x="296" y="740"/>
                </a:lnTo>
                <a:lnTo>
                  <a:pt x="274" y="758"/>
                </a:lnTo>
                <a:lnTo>
                  <a:pt x="257" y="780"/>
                </a:lnTo>
                <a:lnTo>
                  <a:pt x="196" y="718"/>
                </a:lnTo>
                <a:lnTo>
                  <a:pt x="178" y="780"/>
                </a:lnTo>
                <a:lnTo>
                  <a:pt x="156" y="803"/>
                </a:lnTo>
                <a:lnTo>
                  <a:pt x="117" y="780"/>
                </a:lnTo>
                <a:lnTo>
                  <a:pt x="39" y="758"/>
                </a:lnTo>
                <a:lnTo>
                  <a:pt x="17" y="740"/>
                </a:lnTo>
                <a:lnTo>
                  <a:pt x="0" y="700"/>
                </a:lnTo>
                <a:lnTo>
                  <a:pt x="17" y="677"/>
                </a:lnTo>
                <a:lnTo>
                  <a:pt x="39" y="677"/>
                </a:lnTo>
                <a:lnTo>
                  <a:pt x="117" y="700"/>
                </a:lnTo>
                <a:lnTo>
                  <a:pt x="196" y="718"/>
                </a:lnTo>
                <a:lnTo>
                  <a:pt x="196" y="718"/>
                </a:lnTo>
                <a:lnTo>
                  <a:pt x="178" y="700"/>
                </a:lnTo>
                <a:lnTo>
                  <a:pt x="156" y="677"/>
                </a:lnTo>
                <a:lnTo>
                  <a:pt x="139" y="655"/>
                </a:lnTo>
                <a:lnTo>
                  <a:pt x="139" y="637"/>
                </a:lnTo>
                <a:lnTo>
                  <a:pt x="139" y="597"/>
                </a:lnTo>
                <a:lnTo>
                  <a:pt x="156" y="553"/>
                </a:lnTo>
                <a:lnTo>
                  <a:pt x="178" y="535"/>
                </a:lnTo>
                <a:lnTo>
                  <a:pt x="178" y="472"/>
                </a:lnTo>
                <a:lnTo>
                  <a:pt x="178" y="410"/>
                </a:lnTo>
                <a:lnTo>
                  <a:pt x="178" y="267"/>
                </a:lnTo>
                <a:lnTo>
                  <a:pt x="139" y="227"/>
                </a:lnTo>
                <a:lnTo>
                  <a:pt x="117" y="205"/>
                </a:lnTo>
                <a:lnTo>
                  <a:pt x="117" y="182"/>
                </a:lnTo>
                <a:lnTo>
                  <a:pt x="139" y="165"/>
                </a:lnTo>
                <a:lnTo>
                  <a:pt x="156" y="142"/>
                </a:lnTo>
                <a:lnTo>
                  <a:pt x="156" y="124"/>
                </a:lnTo>
                <a:lnTo>
                  <a:pt x="196" y="62"/>
                </a:lnTo>
                <a:close/>
              </a:path>
            </a:pathLst>
          </a:custGeom>
          <a:solidFill>
            <a:srgbClr val="e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765440" y="3962520"/>
            <a:ext cx="2883240" cy="1656360"/>
            <a:chOff x="1765440" y="3962520"/>
            <a:chExt cx="2883240" cy="1656360"/>
          </a:xfrm>
        </p:grpSpPr>
        <p:sp>
          <p:nvSpPr>
            <p:cNvPr id="182" name=""/>
            <p:cNvSpPr/>
            <p:nvPr/>
          </p:nvSpPr>
          <p:spPr>
            <a:xfrm>
              <a:off x="1765440" y="4000680"/>
              <a:ext cx="2616480" cy="1618200"/>
            </a:xfrm>
            <a:custGeom>
              <a:avLst/>
              <a:gdLst/>
              <a:ahLst/>
              <a:rect l="0" t="0" r="r" b="b"/>
              <a:pathLst>
                <a:path w="7268" h="4495">
                  <a:moveTo>
                    <a:pt x="6894" y="431"/>
                  </a:moveTo>
                  <a:lnTo>
                    <a:pt x="6481" y="302"/>
                  </a:lnTo>
                  <a:lnTo>
                    <a:pt x="6050" y="178"/>
                  </a:lnTo>
                  <a:lnTo>
                    <a:pt x="5183" y="0"/>
                  </a:lnTo>
                  <a:lnTo>
                    <a:pt x="4516" y="75"/>
                  </a:lnTo>
                  <a:lnTo>
                    <a:pt x="3832" y="151"/>
                  </a:lnTo>
                  <a:lnTo>
                    <a:pt x="3378" y="280"/>
                  </a:lnTo>
                  <a:lnTo>
                    <a:pt x="2906" y="378"/>
                  </a:lnTo>
                  <a:lnTo>
                    <a:pt x="2791" y="454"/>
                  </a:lnTo>
                  <a:lnTo>
                    <a:pt x="2671" y="507"/>
                  </a:lnTo>
                  <a:lnTo>
                    <a:pt x="2337" y="583"/>
                  </a:lnTo>
                  <a:lnTo>
                    <a:pt x="1982" y="632"/>
                  </a:lnTo>
                  <a:lnTo>
                    <a:pt x="2022" y="529"/>
                  </a:lnTo>
                  <a:lnTo>
                    <a:pt x="2102" y="431"/>
                  </a:lnTo>
                  <a:lnTo>
                    <a:pt x="2280" y="302"/>
                  </a:lnTo>
                  <a:lnTo>
                    <a:pt x="2493" y="227"/>
                  </a:lnTo>
                  <a:lnTo>
                    <a:pt x="2729" y="178"/>
                  </a:lnTo>
                  <a:lnTo>
                    <a:pt x="2906" y="204"/>
                  </a:lnTo>
                  <a:lnTo>
                    <a:pt x="3084" y="204"/>
                  </a:lnTo>
                  <a:lnTo>
                    <a:pt x="3435" y="178"/>
                  </a:lnTo>
                  <a:lnTo>
                    <a:pt x="3770" y="75"/>
                  </a:lnTo>
                  <a:lnTo>
                    <a:pt x="4125" y="0"/>
                  </a:lnTo>
                  <a:lnTo>
                    <a:pt x="4263" y="0"/>
                  </a:lnTo>
                  <a:lnTo>
                    <a:pt x="4401" y="26"/>
                  </a:lnTo>
                  <a:lnTo>
                    <a:pt x="4614" y="53"/>
                  </a:lnTo>
                  <a:lnTo>
                    <a:pt x="4814" y="75"/>
                  </a:lnTo>
                  <a:lnTo>
                    <a:pt x="5050" y="102"/>
                  </a:lnTo>
                  <a:lnTo>
                    <a:pt x="5183" y="178"/>
                  </a:lnTo>
                  <a:lnTo>
                    <a:pt x="5343" y="253"/>
                  </a:lnTo>
                  <a:lnTo>
                    <a:pt x="5659" y="356"/>
                  </a:lnTo>
                  <a:lnTo>
                    <a:pt x="5716" y="405"/>
                  </a:lnTo>
                  <a:lnTo>
                    <a:pt x="5756" y="431"/>
                  </a:lnTo>
                  <a:lnTo>
                    <a:pt x="5832" y="454"/>
                  </a:lnTo>
                  <a:lnTo>
                    <a:pt x="5894" y="454"/>
                  </a:lnTo>
                  <a:lnTo>
                    <a:pt x="5854" y="356"/>
                  </a:lnTo>
                  <a:lnTo>
                    <a:pt x="5792" y="280"/>
                  </a:lnTo>
                  <a:lnTo>
                    <a:pt x="5636" y="178"/>
                  </a:lnTo>
                  <a:lnTo>
                    <a:pt x="5459" y="129"/>
                  </a:lnTo>
                  <a:lnTo>
                    <a:pt x="5263" y="75"/>
                  </a:lnTo>
                  <a:lnTo>
                    <a:pt x="5068" y="75"/>
                  </a:lnTo>
                  <a:lnTo>
                    <a:pt x="4912" y="102"/>
                  </a:lnTo>
                  <a:lnTo>
                    <a:pt x="4596" y="151"/>
                  </a:lnTo>
                  <a:lnTo>
                    <a:pt x="4321" y="204"/>
                  </a:lnTo>
                  <a:lnTo>
                    <a:pt x="3987" y="280"/>
                  </a:lnTo>
                  <a:lnTo>
                    <a:pt x="3435" y="529"/>
                  </a:lnTo>
                  <a:lnTo>
                    <a:pt x="2866" y="783"/>
                  </a:lnTo>
                  <a:lnTo>
                    <a:pt x="2631" y="886"/>
                  </a:lnTo>
                  <a:lnTo>
                    <a:pt x="2377" y="984"/>
                  </a:lnTo>
                  <a:lnTo>
                    <a:pt x="2142" y="1113"/>
                  </a:lnTo>
                  <a:lnTo>
                    <a:pt x="1946" y="1288"/>
                  </a:lnTo>
                  <a:lnTo>
                    <a:pt x="982" y="2249"/>
                  </a:lnTo>
                  <a:lnTo>
                    <a:pt x="0" y="3207"/>
                  </a:lnTo>
                  <a:lnTo>
                    <a:pt x="22" y="3078"/>
                  </a:lnTo>
                  <a:lnTo>
                    <a:pt x="40" y="2931"/>
                  </a:lnTo>
                  <a:lnTo>
                    <a:pt x="97" y="2779"/>
                  </a:lnTo>
                  <a:lnTo>
                    <a:pt x="177" y="2677"/>
                  </a:lnTo>
                  <a:lnTo>
                    <a:pt x="257" y="2601"/>
                  </a:lnTo>
                  <a:lnTo>
                    <a:pt x="355" y="2526"/>
                  </a:lnTo>
                  <a:lnTo>
                    <a:pt x="413" y="2499"/>
                  </a:lnTo>
                  <a:lnTo>
                    <a:pt x="453" y="2450"/>
                  </a:lnTo>
                  <a:lnTo>
                    <a:pt x="551" y="2347"/>
                  </a:lnTo>
                  <a:lnTo>
                    <a:pt x="631" y="2272"/>
                  </a:lnTo>
                  <a:lnTo>
                    <a:pt x="666" y="2223"/>
                  </a:lnTo>
                  <a:lnTo>
                    <a:pt x="706" y="2196"/>
                  </a:lnTo>
                  <a:lnTo>
                    <a:pt x="746" y="2174"/>
                  </a:lnTo>
                  <a:lnTo>
                    <a:pt x="786" y="2120"/>
                  </a:lnTo>
                  <a:lnTo>
                    <a:pt x="866" y="2098"/>
                  </a:lnTo>
                  <a:lnTo>
                    <a:pt x="964" y="2022"/>
                  </a:lnTo>
                  <a:lnTo>
                    <a:pt x="1062" y="1969"/>
                  </a:lnTo>
                  <a:lnTo>
                    <a:pt x="1160" y="1947"/>
                  </a:lnTo>
                  <a:lnTo>
                    <a:pt x="1275" y="1893"/>
                  </a:lnTo>
                  <a:lnTo>
                    <a:pt x="1355" y="1844"/>
                  </a:lnTo>
                  <a:lnTo>
                    <a:pt x="1395" y="1817"/>
                  </a:lnTo>
                  <a:lnTo>
                    <a:pt x="1435" y="1817"/>
                  </a:lnTo>
                  <a:lnTo>
                    <a:pt x="1475" y="1795"/>
                  </a:lnTo>
                  <a:lnTo>
                    <a:pt x="1493" y="1795"/>
                  </a:lnTo>
                  <a:lnTo>
                    <a:pt x="2591" y="1136"/>
                  </a:lnTo>
                  <a:lnTo>
                    <a:pt x="3654" y="708"/>
                  </a:lnTo>
                  <a:lnTo>
                    <a:pt x="4085" y="605"/>
                  </a:lnTo>
                  <a:lnTo>
                    <a:pt x="4516" y="507"/>
                  </a:lnTo>
                  <a:lnTo>
                    <a:pt x="4734" y="480"/>
                  </a:lnTo>
                  <a:lnTo>
                    <a:pt x="4832" y="480"/>
                  </a:lnTo>
                  <a:lnTo>
                    <a:pt x="4930" y="454"/>
                  </a:lnTo>
                  <a:lnTo>
                    <a:pt x="5010" y="454"/>
                  </a:lnTo>
                  <a:lnTo>
                    <a:pt x="5068" y="405"/>
                  </a:lnTo>
                  <a:lnTo>
                    <a:pt x="5183" y="356"/>
                  </a:lnTo>
                  <a:lnTo>
                    <a:pt x="5263" y="329"/>
                  </a:lnTo>
                  <a:lnTo>
                    <a:pt x="5321" y="302"/>
                  </a:lnTo>
                  <a:lnTo>
                    <a:pt x="5383" y="302"/>
                  </a:lnTo>
                  <a:lnTo>
                    <a:pt x="5383" y="302"/>
                  </a:lnTo>
                  <a:lnTo>
                    <a:pt x="5321" y="302"/>
                  </a:lnTo>
                  <a:lnTo>
                    <a:pt x="5223" y="302"/>
                  </a:lnTo>
                  <a:lnTo>
                    <a:pt x="5125" y="329"/>
                  </a:lnTo>
                  <a:lnTo>
                    <a:pt x="5028" y="329"/>
                  </a:lnTo>
                  <a:lnTo>
                    <a:pt x="4912" y="356"/>
                  </a:lnTo>
                  <a:lnTo>
                    <a:pt x="4752" y="356"/>
                  </a:lnTo>
                  <a:lnTo>
                    <a:pt x="4556" y="378"/>
                  </a:lnTo>
                  <a:lnTo>
                    <a:pt x="4361" y="378"/>
                  </a:lnTo>
                  <a:lnTo>
                    <a:pt x="4107" y="556"/>
                  </a:lnTo>
                  <a:lnTo>
                    <a:pt x="3970" y="632"/>
                  </a:lnTo>
                  <a:lnTo>
                    <a:pt x="3832" y="708"/>
                  </a:lnTo>
                  <a:lnTo>
                    <a:pt x="3631" y="810"/>
                  </a:lnTo>
                  <a:lnTo>
                    <a:pt x="3458" y="886"/>
                  </a:lnTo>
                  <a:lnTo>
                    <a:pt x="3298" y="984"/>
                  </a:lnTo>
                  <a:lnTo>
                    <a:pt x="3222" y="1037"/>
                  </a:lnTo>
                  <a:lnTo>
                    <a:pt x="3124" y="1136"/>
                  </a:lnTo>
                  <a:lnTo>
                    <a:pt x="3004" y="1265"/>
                  </a:lnTo>
                  <a:lnTo>
                    <a:pt x="2906" y="1417"/>
                  </a:lnTo>
                  <a:lnTo>
                    <a:pt x="2809" y="1541"/>
                  </a:lnTo>
                  <a:lnTo>
                    <a:pt x="2689" y="1666"/>
                  </a:lnTo>
                  <a:lnTo>
                    <a:pt x="2631" y="1742"/>
                  </a:lnTo>
                  <a:lnTo>
                    <a:pt x="2591" y="1795"/>
                  </a:lnTo>
                  <a:lnTo>
                    <a:pt x="2555" y="1844"/>
                  </a:lnTo>
                  <a:lnTo>
                    <a:pt x="2555" y="1817"/>
                  </a:lnTo>
                  <a:lnTo>
                    <a:pt x="2573" y="1795"/>
                  </a:lnTo>
                  <a:lnTo>
                    <a:pt x="2573" y="1742"/>
                  </a:lnTo>
                  <a:lnTo>
                    <a:pt x="2555" y="1769"/>
                  </a:lnTo>
                  <a:lnTo>
                    <a:pt x="2475" y="1817"/>
                  </a:lnTo>
                  <a:lnTo>
                    <a:pt x="2417" y="1893"/>
                  </a:lnTo>
                  <a:lnTo>
                    <a:pt x="2337" y="1996"/>
                  </a:lnTo>
                  <a:lnTo>
                    <a:pt x="2044" y="2401"/>
                  </a:lnTo>
                  <a:lnTo>
                    <a:pt x="1729" y="2779"/>
                  </a:lnTo>
                  <a:lnTo>
                    <a:pt x="1511" y="3078"/>
                  </a:lnTo>
                  <a:lnTo>
                    <a:pt x="1337" y="3382"/>
                  </a:lnTo>
                  <a:lnTo>
                    <a:pt x="1160" y="3684"/>
                  </a:lnTo>
                  <a:lnTo>
                    <a:pt x="982" y="4041"/>
                  </a:lnTo>
                  <a:lnTo>
                    <a:pt x="982" y="4063"/>
                  </a:lnTo>
                  <a:lnTo>
                    <a:pt x="964" y="4090"/>
                  </a:lnTo>
                  <a:lnTo>
                    <a:pt x="902" y="4192"/>
                  </a:lnTo>
                  <a:lnTo>
                    <a:pt x="826" y="4317"/>
                  </a:lnTo>
                  <a:lnTo>
                    <a:pt x="786" y="4393"/>
                  </a:lnTo>
                  <a:lnTo>
                    <a:pt x="746" y="4419"/>
                  </a:lnTo>
                  <a:lnTo>
                    <a:pt x="706" y="4468"/>
                  </a:lnTo>
                  <a:lnTo>
                    <a:pt x="688" y="4495"/>
                  </a:lnTo>
                  <a:lnTo>
                    <a:pt x="666" y="4495"/>
                  </a:lnTo>
                  <a:lnTo>
                    <a:pt x="688" y="4468"/>
                  </a:lnTo>
                  <a:lnTo>
                    <a:pt x="706" y="4419"/>
                  </a:lnTo>
                  <a:lnTo>
                    <a:pt x="786" y="4344"/>
                  </a:lnTo>
                  <a:lnTo>
                    <a:pt x="902" y="4139"/>
                  </a:lnTo>
                  <a:lnTo>
                    <a:pt x="1022" y="3912"/>
                  </a:lnTo>
                  <a:lnTo>
                    <a:pt x="1080" y="3814"/>
                  </a:lnTo>
                  <a:lnTo>
                    <a:pt x="1160" y="3738"/>
                  </a:lnTo>
                  <a:lnTo>
                    <a:pt x="1217" y="3635"/>
                  </a:lnTo>
                  <a:lnTo>
                    <a:pt x="1240" y="3609"/>
                  </a:lnTo>
                  <a:lnTo>
                    <a:pt x="1729" y="2855"/>
                  </a:lnTo>
                  <a:lnTo>
                    <a:pt x="3026" y="1893"/>
                  </a:lnTo>
                  <a:lnTo>
                    <a:pt x="4303" y="935"/>
                  </a:lnTo>
                  <a:lnTo>
                    <a:pt x="4361" y="908"/>
                  </a:lnTo>
                  <a:lnTo>
                    <a:pt x="4419" y="859"/>
                  </a:lnTo>
                  <a:lnTo>
                    <a:pt x="4579" y="810"/>
                  </a:lnTo>
                  <a:lnTo>
                    <a:pt x="4636" y="783"/>
                  </a:lnTo>
                  <a:lnTo>
                    <a:pt x="4676" y="757"/>
                  </a:lnTo>
                  <a:lnTo>
                    <a:pt x="4676" y="734"/>
                  </a:lnTo>
                  <a:lnTo>
                    <a:pt x="4654" y="708"/>
                  </a:lnTo>
                  <a:lnTo>
                    <a:pt x="4499" y="659"/>
                  </a:lnTo>
                  <a:lnTo>
                    <a:pt x="4321" y="659"/>
                  </a:lnTo>
                  <a:lnTo>
                    <a:pt x="4125" y="659"/>
                  </a:lnTo>
                  <a:lnTo>
                    <a:pt x="3947" y="681"/>
                  </a:lnTo>
                  <a:lnTo>
                    <a:pt x="3338" y="886"/>
                  </a:lnTo>
                  <a:lnTo>
                    <a:pt x="2711" y="1190"/>
                  </a:lnTo>
                  <a:lnTo>
                    <a:pt x="2142" y="1515"/>
                  </a:lnTo>
                  <a:lnTo>
                    <a:pt x="1866" y="1720"/>
                  </a:lnTo>
                  <a:lnTo>
                    <a:pt x="1631" y="1920"/>
                  </a:lnTo>
                  <a:lnTo>
                    <a:pt x="1511" y="2045"/>
                  </a:lnTo>
                  <a:lnTo>
                    <a:pt x="1355" y="2196"/>
                  </a:lnTo>
                  <a:lnTo>
                    <a:pt x="1200" y="2374"/>
                  </a:lnTo>
                  <a:lnTo>
                    <a:pt x="1062" y="2526"/>
                  </a:lnTo>
                  <a:lnTo>
                    <a:pt x="1022" y="2601"/>
                  </a:lnTo>
                  <a:lnTo>
                    <a:pt x="982" y="2677"/>
                  </a:lnTo>
                  <a:lnTo>
                    <a:pt x="942" y="2753"/>
                  </a:lnTo>
                  <a:lnTo>
                    <a:pt x="884" y="2828"/>
                  </a:lnTo>
                  <a:lnTo>
                    <a:pt x="844" y="2877"/>
                  </a:lnTo>
                  <a:lnTo>
                    <a:pt x="844" y="2904"/>
                  </a:lnTo>
                  <a:lnTo>
                    <a:pt x="844" y="2877"/>
                  </a:lnTo>
                  <a:lnTo>
                    <a:pt x="902" y="2802"/>
                  </a:lnTo>
                  <a:lnTo>
                    <a:pt x="964" y="2704"/>
                  </a:lnTo>
                  <a:lnTo>
                    <a:pt x="1004" y="2628"/>
                  </a:lnTo>
                  <a:lnTo>
                    <a:pt x="1022" y="2601"/>
                  </a:lnTo>
                  <a:lnTo>
                    <a:pt x="3631" y="1439"/>
                  </a:lnTo>
                  <a:lnTo>
                    <a:pt x="6228" y="280"/>
                  </a:lnTo>
                  <a:lnTo>
                    <a:pt x="6263" y="280"/>
                  </a:lnTo>
                  <a:lnTo>
                    <a:pt x="6303" y="253"/>
                  </a:lnTo>
                  <a:lnTo>
                    <a:pt x="6325" y="227"/>
                  </a:lnTo>
                  <a:lnTo>
                    <a:pt x="6325" y="204"/>
                  </a:lnTo>
                  <a:lnTo>
                    <a:pt x="5992" y="378"/>
                  </a:lnTo>
                  <a:lnTo>
                    <a:pt x="5659" y="583"/>
                  </a:lnTo>
                  <a:lnTo>
                    <a:pt x="5481" y="659"/>
                  </a:lnTo>
                  <a:lnTo>
                    <a:pt x="5303" y="757"/>
                  </a:lnTo>
                  <a:lnTo>
                    <a:pt x="4912" y="935"/>
                  </a:lnTo>
                  <a:lnTo>
                    <a:pt x="4556" y="1163"/>
                  </a:lnTo>
                  <a:lnTo>
                    <a:pt x="4401" y="1288"/>
                  </a:lnTo>
                  <a:lnTo>
                    <a:pt x="4263" y="1417"/>
                  </a:lnTo>
                  <a:lnTo>
                    <a:pt x="4005" y="1742"/>
                  </a:lnTo>
                  <a:lnTo>
                    <a:pt x="3770" y="2071"/>
                  </a:lnTo>
                  <a:lnTo>
                    <a:pt x="3613" y="2298"/>
                  </a:lnTo>
                  <a:lnTo>
                    <a:pt x="3458" y="2552"/>
                  </a:lnTo>
                  <a:lnTo>
                    <a:pt x="3320" y="2802"/>
                  </a:lnTo>
                  <a:lnTo>
                    <a:pt x="3160" y="3029"/>
                  </a:lnTo>
                  <a:lnTo>
                    <a:pt x="3102" y="3105"/>
                  </a:lnTo>
                  <a:lnTo>
                    <a:pt x="3084" y="3131"/>
                  </a:lnTo>
                  <a:lnTo>
                    <a:pt x="3062" y="3180"/>
                  </a:lnTo>
                  <a:lnTo>
                    <a:pt x="3062" y="3229"/>
                  </a:lnTo>
                  <a:lnTo>
                    <a:pt x="3026" y="3283"/>
                  </a:lnTo>
                  <a:lnTo>
                    <a:pt x="2986" y="3332"/>
                  </a:lnTo>
                  <a:lnTo>
                    <a:pt x="2924" y="3408"/>
                  </a:lnTo>
                  <a:lnTo>
                    <a:pt x="2889" y="3457"/>
                  </a:lnTo>
                  <a:lnTo>
                    <a:pt x="2906" y="3457"/>
                  </a:lnTo>
                  <a:lnTo>
                    <a:pt x="3004" y="3408"/>
                  </a:lnTo>
                  <a:lnTo>
                    <a:pt x="3084" y="3305"/>
                  </a:lnTo>
                  <a:lnTo>
                    <a:pt x="3142" y="3229"/>
                  </a:lnTo>
                  <a:lnTo>
                    <a:pt x="3160" y="3207"/>
                  </a:lnTo>
                  <a:lnTo>
                    <a:pt x="3654" y="2628"/>
                  </a:lnTo>
                  <a:lnTo>
                    <a:pt x="3987" y="2325"/>
                  </a:lnTo>
                  <a:lnTo>
                    <a:pt x="4303" y="1996"/>
                  </a:lnTo>
                  <a:lnTo>
                    <a:pt x="4441" y="1795"/>
                  </a:lnTo>
                  <a:lnTo>
                    <a:pt x="4556" y="1590"/>
                  </a:lnTo>
                  <a:lnTo>
                    <a:pt x="4850" y="1190"/>
                  </a:lnTo>
                  <a:lnTo>
                    <a:pt x="5183" y="832"/>
                  </a:lnTo>
                  <a:lnTo>
                    <a:pt x="5361" y="681"/>
                  </a:lnTo>
                  <a:lnTo>
                    <a:pt x="5579" y="556"/>
                  </a:lnTo>
                  <a:lnTo>
                    <a:pt x="5792" y="431"/>
                  </a:lnTo>
                  <a:lnTo>
                    <a:pt x="6050" y="356"/>
                  </a:lnTo>
                  <a:lnTo>
                    <a:pt x="6148" y="378"/>
                  </a:lnTo>
                  <a:lnTo>
                    <a:pt x="6228" y="378"/>
                  </a:lnTo>
                  <a:lnTo>
                    <a:pt x="6263" y="454"/>
                  </a:lnTo>
                  <a:lnTo>
                    <a:pt x="6263" y="529"/>
                  </a:lnTo>
                  <a:lnTo>
                    <a:pt x="6205" y="632"/>
                  </a:lnTo>
                  <a:lnTo>
                    <a:pt x="6148" y="734"/>
                  </a:lnTo>
                  <a:lnTo>
                    <a:pt x="5992" y="908"/>
                  </a:lnTo>
                  <a:lnTo>
                    <a:pt x="5912" y="961"/>
                  </a:lnTo>
                  <a:lnTo>
                    <a:pt x="5894" y="984"/>
                  </a:lnTo>
                  <a:lnTo>
                    <a:pt x="5792" y="1086"/>
                  </a:lnTo>
                  <a:lnTo>
                    <a:pt x="5659" y="1136"/>
                  </a:lnTo>
                  <a:lnTo>
                    <a:pt x="5361" y="1212"/>
                  </a:lnTo>
                  <a:lnTo>
                    <a:pt x="5050" y="1265"/>
                  </a:lnTo>
                  <a:lnTo>
                    <a:pt x="4752" y="1288"/>
                  </a:lnTo>
                  <a:lnTo>
                    <a:pt x="4556" y="1363"/>
                  </a:lnTo>
                  <a:lnTo>
                    <a:pt x="4343" y="1417"/>
                  </a:lnTo>
                  <a:lnTo>
                    <a:pt x="4183" y="1515"/>
                  </a:lnTo>
                  <a:lnTo>
                    <a:pt x="4005" y="1644"/>
                  </a:lnTo>
                  <a:lnTo>
                    <a:pt x="3631" y="1920"/>
                  </a:lnTo>
                  <a:lnTo>
                    <a:pt x="3458" y="2071"/>
                  </a:lnTo>
                  <a:lnTo>
                    <a:pt x="3262" y="2196"/>
                  </a:lnTo>
                  <a:lnTo>
                    <a:pt x="3222" y="2272"/>
                  </a:lnTo>
                  <a:lnTo>
                    <a:pt x="3200" y="2298"/>
                  </a:lnTo>
                  <a:lnTo>
                    <a:pt x="3160" y="2347"/>
                  </a:lnTo>
                  <a:lnTo>
                    <a:pt x="3124" y="2374"/>
                  </a:lnTo>
                  <a:lnTo>
                    <a:pt x="3084" y="2423"/>
                  </a:lnTo>
                  <a:lnTo>
                    <a:pt x="3026" y="2477"/>
                  </a:lnTo>
                  <a:lnTo>
                    <a:pt x="2946" y="2575"/>
                  </a:lnTo>
                  <a:lnTo>
                    <a:pt x="2946" y="2575"/>
                  </a:lnTo>
                  <a:lnTo>
                    <a:pt x="2964" y="2552"/>
                  </a:lnTo>
                  <a:lnTo>
                    <a:pt x="3026" y="2450"/>
                  </a:lnTo>
                  <a:lnTo>
                    <a:pt x="3124" y="2347"/>
                  </a:lnTo>
                  <a:lnTo>
                    <a:pt x="3200" y="2249"/>
                  </a:lnTo>
                  <a:lnTo>
                    <a:pt x="3378" y="2045"/>
                  </a:lnTo>
                  <a:lnTo>
                    <a:pt x="3475" y="1947"/>
                  </a:lnTo>
                  <a:lnTo>
                    <a:pt x="3595" y="1844"/>
                  </a:lnTo>
                  <a:lnTo>
                    <a:pt x="3694" y="1795"/>
                  </a:lnTo>
                  <a:lnTo>
                    <a:pt x="3792" y="1720"/>
                  </a:lnTo>
                  <a:lnTo>
                    <a:pt x="3890" y="1644"/>
                  </a:lnTo>
                  <a:lnTo>
                    <a:pt x="3930" y="1617"/>
                  </a:lnTo>
                  <a:lnTo>
                    <a:pt x="3947" y="1590"/>
                  </a:lnTo>
                  <a:lnTo>
                    <a:pt x="4223" y="1363"/>
                  </a:lnTo>
                  <a:lnTo>
                    <a:pt x="4516" y="1136"/>
                  </a:lnTo>
                  <a:lnTo>
                    <a:pt x="4596" y="1086"/>
                  </a:lnTo>
                  <a:lnTo>
                    <a:pt x="4694" y="1086"/>
                  </a:lnTo>
                  <a:lnTo>
                    <a:pt x="4774" y="1059"/>
                  </a:lnTo>
                  <a:lnTo>
                    <a:pt x="4872" y="1037"/>
                  </a:lnTo>
                  <a:lnTo>
                    <a:pt x="5050" y="935"/>
                  </a:lnTo>
                  <a:lnTo>
                    <a:pt x="5125" y="886"/>
                  </a:lnTo>
                  <a:lnTo>
                    <a:pt x="5223" y="859"/>
                  </a:lnTo>
                  <a:lnTo>
                    <a:pt x="5992" y="681"/>
                  </a:lnTo>
                  <a:lnTo>
                    <a:pt x="6365" y="632"/>
                  </a:lnTo>
                  <a:lnTo>
                    <a:pt x="6757" y="583"/>
                  </a:lnTo>
                  <a:lnTo>
                    <a:pt x="6894" y="529"/>
                  </a:lnTo>
                  <a:lnTo>
                    <a:pt x="7032" y="507"/>
                  </a:lnTo>
                  <a:lnTo>
                    <a:pt x="7108" y="480"/>
                  </a:lnTo>
                  <a:lnTo>
                    <a:pt x="7205" y="480"/>
                  </a:lnTo>
                  <a:lnTo>
                    <a:pt x="7268" y="454"/>
                  </a:lnTo>
                  <a:lnTo>
                    <a:pt x="7268" y="454"/>
                  </a:lnTo>
                  <a:lnTo>
                    <a:pt x="7245" y="454"/>
                  </a:lnTo>
                  <a:lnTo>
                    <a:pt x="6774" y="480"/>
                  </a:lnTo>
                  <a:lnTo>
                    <a:pt x="6285" y="507"/>
                  </a:lnTo>
                  <a:lnTo>
                    <a:pt x="6068" y="556"/>
                  </a:lnTo>
                  <a:lnTo>
                    <a:pt x="5872" y="583"/>
                  </a:lnTo>
                  <a:lnTo>
                    <a:pt x="5539" y="681"/>
                  </a:lnTo>
                  <a:lnTo>
                    <a:pt x="5183" y="810"/>
                  </a:lnTo>
                  <a:lnTo>
                    <a:pt x="4832" y="984"/>
                  </a:lnTo>
                  <a:lnTo>
                    <a:pt x="4654" y="1086"/>
                  </a:lnTo>
                  <a:lnTo>
                    <a:pt x="4556" y="1136"/>
                  </a:lnTo>
                  <a:lnTo>
                    <a:pt x="4476" y="1212"/>
                  </a:lnTo>
                  <a:lnTo>
                    <a:pt x="4476" y="1212"/>
                  </a:lnTo>
                  <a:lnTo>
                    <a:pt x="4516" y="1190"/>
                  </a:lnTo>
                  <a:lnTo>
                    <a:pt x="4579" y="1163"/>
                  </a:lnTo>
                  <a:lnTo>
                    <a:pt x="4614" y="1136"/>
                  </a:lnTo>
                  <a:lnTo>
                    <a:pt x="4694" y="1113"/>
                  </a:lnTo>
                  <a:lnTo>
                    <a:pt x="4752" y="1113"/>
                  </a:lnTo>
                  <a:lnTo>
                    <a:pt x="5068" y="935"/>
                  </a:lnTo>
                  <a:lnTo>
                    <a:pt x="5361" y="810"/>
                  </a:lnTo>
                  <a:lnTo>
                    <a:pt x="5676" y="681"/>
                  </a:lnTo>
                  <a:lnTo>
                    <a:pt x="6010" y="583"/>
                  </a:lnTo>
                  <a:lnTo>
                    <a:pt x="6325" y="583"/>
                  </a:lnTo>
                  <a:lnTo>
                    <a:pt x="6637" y="605"/>
                  </a:lnTo>
                  <a:lnTo>
                    <a:pt x="6717" y="632"/>
                  </a:lnTo>
                  <a:lnTo>
                    <a:pt x="6757" y="659"/>
                  </a:lnTo>
                  <a:lnTo>
                    <a:pt x="6757" y="681"/>
                  </a:lnTo>
                  <a:lnTo>
                    <a:pt x="6734" y="708"/>
                  </a:lnTo>
                  <a:lnTo>
                    <a:pt x="6699" y="734"/>
                  </a:lnTo>
                  <a:lnTo>
                    <a:pt x="6619" y="757"/>
                  </a:lnTo>
                  <a:lnTo>
                    <a:pt x="6521" y="783"/>
                  </a:lnTo>
                  <a:lnTo>
                    <a:pt x="6441" y="810"/>
                  </a:lnTo>
                  <a:lnTo>
                    <a:pt x="6303" y="886"/>
                  </a:lnTo>
                  <a:lnTo>
                    <a:pt x="6188" y="961"/>
                  </a:lnTo>
                  <a:lnTo>
                    <a:pt x="5854" y="1136"/>
                  </a:lnTo>
                  <a:lnTo>
                    <a:pt x="5521" y="1341"/>
                  </a:lnTo>
                  <a:lnTo>
                    <a:pt x="4872" y="1795"/>
                  </a:lnTo>
                  <a:lnTo>
                    <a:pt x="4872" y="1795"/>
                  </a:lnTo>
                  <a:lnTo>
                    <a:pt x="4912" y="1769"/>
                  </a:lnTo>
                  <a:lnTo>
                    <a:pt x="4970" y="1742"/>
                  </a:lnTo>
                  <a:lnTo>
                    <a:pt x="5010" y="1720"/>
                  </a:lnTo>
                  <a:lnTo>
                    <a:pt x="5068" y="1666"/>
                  </a:lnTo>
                  <a:lnTo>
                    <a:pt x="5108" y="1590"/>
                  </a:lnTo>
                  <a:lnTo>
                    <a:pt x="5419" y="1439"/>
                  </a:lnTo>
                  <a:lnTo>
                    <a:pt x="5716" y="1288"/>
                  </a:lnTo>
                  <a:lnTo>
                    <a:pt x="5970" y="1113"/>
                  </a:lnTo>
                  <a:lnTo>
                    <a:pt x="6228" y="984"/>
                  </a:lnTo>
                  <a:lnTo>
                    <a:pt x="6797" y="757"/>
                  </a:lnTo>
                  <a:lnTo>
                    <a:pt x="6539" y="708"/>
                  </a:lnTo>
                  <a:lnTo>
                    <a:pt x="6325" y="708"/>
                  </a:lnTo>
                  <a:lnTo>
                    <a:pt x="6090" y="734"/>
                  </a:lnTo>
                  <a:lnTo>
                    <a:pt x="5832" y="757"/>
                  </a:lnTo>
                  <a:lnTo>
                    <a:pt x="5539" y="886"/>
                  </a:lnTo>
                  <a:lnTo>
                    <a:pt x="5263" y="1037"/>
                  </a:lnTo>
                  <a:lnTo>
                    <a:pt x="5010" y="1239"/>
                  </a:lnTo>
                  <a:lnTo>
                    <a:pt x="4734" y="1390"/>
                  </a:lnTo>
                  <a:lnTo>
                    <a:pt x="4752" y="1288"/>
                  </a:lnTo>
                  <a:lnTo>
                    <a:pt x="4792" y="1190"/>
                  </a:lnTo>
                  <a:lnTo>
                    <a:pt x="4890" y="1086"/>
                  </a:lnTo>
                  <a:lnTo>
                    <a:pt x="4988" y="984"/>
                  </a:lnTo>
                  <a:lnTo>
                    <a:pt x="5125" y="908"/>
                  </a:lnTo>
                  <a:lnTo>
                    <a:pt x="5285" y="832"/>
                  </a:lnTo>
                  <a:lnTo>
                    <a:pt x="5596" y="734"/>
                  </a:lnTo>
                  <a:lnTo>
                    <a:pt x="5734" y="708"/>
                  </a:lnTo>
                  <a:lnTo>
                    <a:pt x="5872" y="681"/>
                  </a:lnTo>
                  <a:lnTo>
                    <a:pt x="5930" y="681"/>
                  </a:lnTo>
                  <a:lnTo>
                    <a:pt x="6010" y="708"/>
                  </a:lnTo>
                  <a:lnTo>
                    <a:pt x="6108" y="708"/>
                  </a:lnTo>
                  <a:lnTo>
                    <a:pt x="6228" y="734"/>
                  </a:lnTo>
                  <a:lnTo>
                    <a:pt x="6481" y="734"/>
                  </a:lnTo>
                  <a:lnTo>
                    <a:pt x="6601" y="734"/>
                  </a:lnTo>
                  <a:lnTo>
                    <a:pt x="6677" y="708"/>
                  </a:lnTo>
                  <a:lnTo>
                    <a:pt x="6797" y="734"/>
                  </a:lnTo>
                  <a:lnTo>
                    <a:pt x="6894" y="757"/>
                  </a:lnTo>
                  <a:lnTo>
                    <a:pt x="7010" y="757"/>
                  </a:lnTo>
                  <a:lnTo>
                    <a:pt x="7090" y="757"/>
                  </a:lnTo>
                  <a:lnTo>
                    <a:pt x="7108" y="734"/>
                  </a:lnTo>
                  <a:lnTo>
                    <a:pt x="7090" y="734"/>
                  </a:lnTo>
                  <a:lnTo>
                    <a:pt x="7050" y="708"/>
                  </a:lnTo>
                  <a:lnTo>
                    <a:pt x="7010" y="708"/>
                  </a:lnTo>
                  <a:lnTo>
                    <a:pt x="6970" y="681"/>
                  </a:lnTo>
                  <a:lnTo>
                    <a:pt x="6934" y="681"/>
                  </a:lnTo>
                  <a:lnTo>
                    <a:pt x="6952" y="605"/>
                  </a:lnTo>
                  <a:lnTo>
                    <a:pt x="6970" y="556"/>
                  </a:lnTo>
                  <a:lnTo>
                    <a:pt x="6912" y="529"/>
                  </a:lnTo>
                  <a:lnTo>
                    <a:pt x="6872" y="507"/>
                  </a:lnTo>
                  <a:lnTo>
                    <a:pt x="6814" y="507"/>
                  </a:lnTo>
                  <a:lnTo>
                    <a:pt x="6757" y="507"/>
                  </a:lnTo>
                  <a:lnTo>
                    <a:pt x="6717" y="529"/>
                  </a:lnTo>
                  <a:lnTo>
                    <a:pt x="6659" y="583"/>
                  </a:lnTo>
                  <a:lnTo>
                    <a:pt x="6619" y="605"/>
                  </a:lnTo>
                  <a:lnTo>
                    <a:pt x="6423" y="681"/>
                  </a:lnTo>
                  <a:lnTo>
                    <a:pt x="6205" y="734"/>
                  </a:lnTo>
                  <a:lnTo>
                    <a:pt x="5792" y="783"/>
                  </a:lnTo>
                  <a:lnTo>
                    <a:pt x="6894" y="431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47840" y="3962520"/>
              <a:ext cx="2400840" cy="1276560"/>
            </a:xfrm>
            <a:custGeom>
              <a:avLst/>
              <a:gdLst/>
              <a:ahLst/>
              <a:rect l="0" t="0" r="r" b="b"/>
              <a:pathLst>
                <a:path w="6669" h="3546">
                  <a:moveTo>
                    <a:pt x="6029" y="527"/>
                  </a:moveTo>
                  <a:lnTo>
                    <a:pt x="5983" y="447"/>
                  </a:lnTo>
                  <a:lnTo>
                    <a:pt x="5958" y="422"/>
                  </a:lnTo>
                  <a:lnTo>
                    <a:pt x="5932" y="422"/>
                  </a:lnTo>
                  <a:lnTo>
                    <a:pt x="5932" y="422"/>
                  </a:lnTo>
                  <a:lnTo>
                    <a:pt x="5886" y="422"/>
                  </a:lnTo>
                  <a:lnTo>
                    <a:pt x="5836" y="397"/>
                  </a:lnTo>
                  <a:lnTo>
                    <a:pt x="5744" y="343"/>
                  </a:lnTo>
                  <a:lnTo>
                    <a:pt x="5693" y="263"/>
                  </a:lnTo>
                  <a:lnTo>
                    <a:pt x="5622" y="213"/>
                  </a:lnTo>
                  <a:lnTo>
                    <a:pt x="5434" y="159"/>
                  </a:lnTo>
                  <a:lnTo>
                    <a:pt x="5241" y="109"/>
                  </a:lnTo>
                  <a:lnTo>
                    <a:pt x="5221" y="79"/>
                  </a:lnTo>
                  <a:lnTo>
                    <a:pt x="5170" y="79"/>
                  </a:lnTo>
                  <a:lnTo>
                    <a:pt x="5150" y="54"/>
                  </a:lnTo>
                  <a:lnTo>
                    <a:pt x="5124" y="54"/>
                  </a:lnTo>
                  <a:lnTo>
                    <a:pt x="5099" y="54"/>
                  </a:lnTo>
                  <a:lnTo>
                    <a:pt x="5028" y="54"/>
                  </a:lnTo>
                  <a:lnTo>
                    <a:pt x="4839" y="79"/>
                  </a:lnTo>
                  <a:lnTo>
                    <a:pt x="4620" y="109"/>
                  </a:lnTo>
                  <a:lnTo>
                    <a:pt x="4549" y="109"/>
                  </a:lnTo>
                  <a:lnTo>
                    <a:pt x="4478" y="134"/>
                  </a:lnTo>
                  <a:lnTo>
                    <a:pt x="4264" y="238"/>
                  </a:lnTo>
                  <a:lnTo>
                    <a:pt x="4076" y="367"/>
                  </a:lnTo>
                  <a:lnTo>
                    <a:pt x="3837" y="527"/>
                  </a:lnTo>
                  <a:lnTo>
                    <a:pt x="3624" y="686"/>
                  </a:lnTo>
                  <a:lnTo>
                    <a:pt x="3431" y="815"/>
                  </a:lnTo>
                  <a:lnTo>
                    <a:pt x="3217" y="999"/>
                  </a:lnTo>
                  <a:lnTo>
                    <a:pt x="3100" y="1103"/>
                  </a:lnTo>
                  <a:lnTo>
                    <a:pt x="3050" y="1158"/>
                  </a:lnTo>
                  <a:lnTo>
                    <a:pt x="3050" y="1158"/>
                  </a:lnTo>
                  <a:lnTo>
                    <a:pt x="3050" y="1158"/>
                  </a:lnTo>
                  <a:lnTo>
                    <a:pt x="3050" y="1133"/>
                  </a:lnTo>
                  <a:lnTo>
                    <a:pt x="3050" y="1133"/>
                  </a:lnTo>
                  <a:lnTo>
                    <a:pt x="3024" y="1133"/>
                  </a:lnTo>
                  <a:lnTo>
                    <a:pt x="2933" y="1208"/>
                  </a:lnTo>
                  <a:lnTo>
                    <a:pt x="2765" y="1367"/>
                  </a:lnTo>
                  <a:lnTo>
                    <a:pt x="2623" y="1526"/>
                  </a:lnTo>
                  <a:lnTo>
                    <a:pt x="2455" y="1655"/>
                  </a:lnTo>
                  <a:lnTo>
                    <a:pt x="2287" y="1815"/>
                  </a:lnTo>
                  <a:lnTo>
                    <a:pt x="2170" y="1920"/>
                  </a:lnTo>
                  <a:lnTo>
                    <a:pt x="2049" y="2024"/>
                  </a:lnTo>
                  <a:lnTo>
                    <a:pt x="1957" y="2104"/>
                  </a:lnTo>
                  <a:lnTo>
                    <a:pt x="1906" y="2129"/>
                  </a:lnTo>
                  <a:lnTo>
                    <a:pt x="1932" y="1999"/>
                  </a:lnTo>
                  <a:lnTo>
                    <a:pt x="1932" y="1920"/>
                  </a:lnTo>
                  <a:lnTo>
                    <a:pt x="1932" y="1865"/>
                  </a:lnTo>
                  <a:lnTo>
                    <a:pt x="1957" y="1815"/>
                  </a:lnTo>
                  <a:lnTo>
                    <a:pt x="1957" y="1791"/>
                  </a:lnTo>
                  <a:lnTo>
                    <a:pt x="1957" y="1791"/>
                  </a:lnTo>
                  <a:lnTo>
                    <a:pt x="1957" y="1815"/>
                  </a:lnTo>
                  <a:lnTo>
                    <a:pt x="1977" y="1815"/>
                  </a:lnTo>
                  <a:lnTo>
                    <a:pt x="2028" y="1735"/>
                  </a:lnTo>
                  <a:lnTo>
                    <a:pt x="2049" y="1680"/>
                  </a:lnTo>
                  <a:lnTo>
                    <a:pt x="2074" y="1576"/>
                  </a:lnTo>
                  <a:lnTo>
                    <a:pt x="2099" y="1447"/>
                  </a:lnTo>
                  <a:lnTo>
                    <a:pt x="2099" y="1367"/>
                  </a:lnTo>
                  <a:lnTo>
                    <a:pt x="2120" y="1317"/>
                  </a:lnTo>
                  <a:lnTo>
                    <a:pt x="2170" y="1287"/>
                  </a:lnTo>
                  <a:lnTo>
                    <a:pt x="2267" y="1263"/>
                  </a:lnTo>
                  <a:lnTo>
                    <a:pt x="2338" y="1238"/>
                  </a:lnTo>
                  <a:lnTo>
                    <a:pt x="2409" y="1208"/>
                  </a:lnTo>
                  <a:lnTo>
                    <a:pt x="2719" y="1263"/>
                  </a:lnTo>
                  <a:lnTo>
                    <a:pt x="3004" y="1317"/>
                  </a:lnTo>
                  <a:lnTo>
                    <a:pt x="3954" y="1287"/>
                  </a:lnTo>
                  <a:lnTo>
                    <a:pt x="4884" y="1238"/>
                  </a:lnTo>
                  <a:lnTo>
                    <a:pt x="5150" y="1158"/>
                  </a:lnTo>
                  <a:lnTo>
                    <a:pt x="5363" y="1054"/>
                  </a:lnTo>
                  <a:lnTo>
                    <a:pt x="5815" y="815"/>
                  </a:lnTo>
                  <a:lnTo>
                    <a:pt x="5622" y="765"/>
                  </a:lnTo>
                  <a:lnTo>
                    <a:pt x="5383" y="765"/>
                  </a:lnTo>
                  <a:lnTo>
                    <a:pt x="4884" y="765"/>
                  </a:lnTo>
                  <a:lnTo>
                    <a:pt x="4671" y="790"/>
                  </a:lnTo>
                  <a:lnTo>
                    <a:pt x="4478" y="815"/>
                  </a:lnTo>
                  <a:lnTo>
                    <a:pt x="4361" y="840"/>
                  </a:lnTo>
                  <a:lnTo>
                    <a:pt x="4335" y="840"/>
                  </a:lnTo>
                  <a:lnTo>
                    <a:pt x="4315" y="840"/>
                  </a:lnTo>
                  <a:lnTo>
                    <a:pt x="3553" y="974"/>
                  </a:lnTo>
                  <a:lnTo>
                    <a:pt x="2765" y="1079"/>
                  </a:lnTo>
                  <a:lnTo>
                    <a:pt x="2597" y="1158"/>
                  </a:lnTo>
                  <a:lnTo>
                    <a:pt x="2455" y="1208"/>
                  </a:lnTo>
                  <a:lnTo>
                    <a:pt x="2384" y="1238"/>
                  </a:lnTo>
                  <a:lnTo>
                    <a:pt x="2338" y="1263"/>
                  </a:lnTo>
                  <a:lnTo>
                    <a:pt x="2267" y="1287"/>
                  </a:lnTo>
                  <a:lnTo>
                    <a:pt x="2191" y="1287"/>
                  </a:lnTo>
                  <a:lnTo>
                    <a:pt x="2074" y="1317"/>
                  </a:lnTo>
                  <a:lnTo>
                    <a:pt x="1718" y="1551"/>
                  </a:lnTo>
                  <a:lnTo>
                    <a:pt x="1336" y="1760"/>
                  </a:lnTo>
                  <a:lnTo>
                    <a:pt x="1143" y="1920"/>
                  </a:lnTo>
                  <a:lnTo>
                    <a:pt x="975" y="2104"/>
                  </a:lnTo>
                  <a:lnTo>
                    <a:pt x="813" y="2263"/>
                  </a:lnTo>
                  <a:lnTo>
                    <a:pt x="619" y="2392"/>
                  </a:lnTo>
                  <a:lnTo>
                    <a:pt x="548" y="2367"/>
                  </a:lnTo>
                  <a:lnTo>
                    <a:pt x="523" y="2338"/>
                  </a:lnTo>
                  <a:lnTo>
                    <a:pt x="503" y="2313"/>
                  </a:lnTo>
                  <a:lnTo>
                    <a:pt x="477" y="2208"/>
                  </a:lnTo>
                  <a:lnTo>
                    <a:pt x="503" y="2104"/>
                  </a:lnTo>
                  <a:lnTo>
                    <a:pt x="574" y="1865"/>
                  </a:lnTo>
                  <a:lnTo>
                    <a:pt x="691" y="1655"/>
                  </a:lnTo>
                  <a:lnTo>
                    <a:pt x="813" y="1496"/>
                  </a:lnTo>
                  <a:lnTo>
                    <a:pt x="1123" y="1158"/>
                  </a:lnTo>
                  <a:lnTo>
                    <a:pt x="1285" y="1024"/>
                  </a:lnTo>
                  <a:lnTo>
                    <a:pt x="1478" y="895"/>
                  </a:lnTo>
                  <a:lnTo>
                    <a:pt x="1621" y="840"/>
                  </a:lnTo>
                  <a:lnTo>
                    <a:pt x="1789" y="765"/>
                  </a:lnTo>
                  <a:lnTo>
                    <a:pt x="2145" y="656"/>
                  </a:lnTo>
                  <a:lnTo>
                    <a:pt x="2526" y="581"/>
                  </a:lnTo>
                  <a:lnTo>
                    <a:pt x="2719" y="551"/>
                  </a:lnTo>
                  <a:lnTo>
                    <a:pt x="2862" y="527"/>
                  </a:lnTo>
                  <a:lnTo>
                    <a:pt x="3121" y="502"/>
                  </a:lnTo>
                  <a:lnTo>
                    <a:pt x="3385" y="472"/>
                  </a:lnTo>
                  <a:lnTo>
                    <a:pt x="3670" y="502"/>
                  </a:lnTo>
                  <a:lnTo>
                    <a:pt x="3954" y="551"/>
                  </a:lnTo>
                  <a:lnTo>
                    <a:pt x="4503" y="656"/>
                  </a:lnTo>
                  <a:lnTo>
                    <a:pt x="5053" y="735"/>
                  </a:lnTo>
                  <a:lnTo>
                    <a:pt x="4884" y="656"/>
                  </a:lnTo>
                  <a:lnTo>
                    <a:pt x="4742" y="631"/>
                  </a:lnTo>
                  <a:lnTo>
                    <a:pt x="4457" y="606"/>
                  </a:lnTo>
                  <a:lnTo>
                    <a:pt x="4290" y="606"/>
                  </a:lnTo>
                  <a:lnTo>
                    <a:pt x="4122" y="631"/>
                  </a:lnTo>
                  <a:lnTo>
                    <a:pt x="3934" y="656"/>
                  </a:lnTo>
                  <a:lnTo>
                    <a:pt x="3695" y="656"/>
                  </a:lnTo>
                  <a:lnTo>
                    <a:pt x="3121" y="765"/>
                  </a:lnTo>
                  <a:lnTo>
                    <a:pt x="2526" y="895"/>
                  </a:lnTo>
                  <a:lnTo>
                    <a:pt x="2267" y="974"/>
                  </a:lnTo>
                  <a:lnTo>
                    <a:pt x="2003" y="1054"/>
                  </a:lnTo>
                  <a:lnTo>
                    <a:pt x="1932" y="1079"/>
                  </a:lnTo>
                  <a:lnTo>
                    <a:pt x="1906" y="1079"/>
                  </a:lnTo>
                  <a:lnTo>
                    <a:pt x="1886" y="1079"/>
                  </a:lnTo>
                  <a:lnTo>
                    <a:pt x="1693" y="1317"/>
                  </a:lnTo>
                  <a:lnTo>
                    <a:pt x="1504" y="1526"/>
                  </a:lnTo>
                  <a:lnTo>
                    <a:pt x="1407" y="1680"/>
                  </a:lnTo>
                  <a:lnTo>
                    <a:pt x="1382" y="1760"/>
                  </a:lnTo>
                  <a:lnTo>
                    <a:pt x="1311" y="1840"/>
                  </a:lnTo>
                  <a:lnTo>
                    <a:pt x="1123" y="2049"/>
                  </a:lnTo>
                  <a:lnTo>
                    <a:pt x="929" y="2263"/>
                  </a:lnTo>
                  <a:lnTo>
                    <a:pt x="741" y="2472"/>
                  </a:lnTo>
                  <a:lnTo>
                    <a:pt x="523" y="2681"/>
                  </a:lnTo>
                  <a:lnTo>
                    <a:pt x="452" y="2785"/>
                  </a:lnTo>
                  <a:lnTo>
                    <a:pt x="381" y="2890"/>
                  </a:lnTo>
                  <a:lnTo>
                    <a:pt x="289" y="3128"/>
                  </a:lnTo>
                  <a:lnTo>
                    <a:pt x="193" y="3362"/>
                  </a:lnTo>
                  <a:lnTo>
                    <a:pt x="121" y="3471"/>
                  </a:lnTo>
                  <a:lnTo>
                    <a:pt x="0" y="3546"/>
                  </a:lnTo>
                  <a:lnTo>
                    <a:pt x="167" y="3287"/>
                  </a:lnTo>
                  <a:lnTo>
                    <a:pt x="360" y="3024"/>
                  </a:lnTo>
                  <a:lnTo>
                    <a:pt x="594" y="2760"/>
                  </a:lnTo>
                  <a:lnTo>
                    <a:pt x="858" y="2551"/>
                  </a:lnTo>
                  <a:lnTo>
                    <a:pt x="1046" y="2417"/>
                  </a:lnTo>
                  <a:lnTo>
                    <a:pt x="1123" y="2338"/>
                  </a:lnTo>
                  <a:lnTo>
                    <a:pt x="1214" y="2288"/>
                  </a:lnTo>
                  <a:lnTo>
                    <a:pt x="1336" y="2233"/>
                  </a:lnTo>
                  <a:lnTo>
                    <a:pt x="1356" y="2208"/>
                  </a:lnTo>
                  <a:lnTo>
                    <a:pt x="1382" y="2208"/>
                  </a:lnTo>
                  <a:lnTo>
                    <a:pt x="2694" y="1263"/>
                  </a:lnTo>
                  <a:lnTo>
                    <a:pt x="3360" y="790"/>
                  </a:lnTo>
                  <a:lnTo>
                    <a:pt x="4025" y="343"/>
                  </a:lnTo>
                  <a:lnTo>
                    <a:pt x="4097" y="318"/>
                  </a:lnTo>
                  <a:lnTo>
                    <a:pt x="4219" y="263"/>
                  </a:lnTo>
                  <a:lnTo>
                    <a:pt x="4386" y="213"/>
                  </a:lnTo>
                  <a:lnTo>
                    <a:pt x="4574" y="183"/>
                  </a:lnTo>
                  <a:lnTo>
                    <a:pt x="4742" y="134"/>
                  </a:lnTo>
                  <a:lnTo>
                    <a:pt x="4910" y="79"/>
                  </a:lnTo>
                  <a:lnTo>
                    <a:pt x="5073" y="29"/>
                  </a:lnTo>
                  <a:lnTo>
                    <a:pt x="5170" y="0"/>
                  </a:lnTo>
                  <a:lnTo>
                    <a:pt x="5099" y="109"/>
                  </a:lnTo>
                  <a:lnTo>
                    <a:pt x="5028" y="159"/>
                  </a:lnTo>
                  <a:lnTo>
                    <a:pt x="4930" y="183"/>
                  </a:lnTo>
                  <a:lnTo>
                    <a:pt x="4813" y="213"/>
                  </a:lnTo>
                  <a:lnTo>
                    <a:pt x="4335" y="318"/>
                  </a:lnTo>
                  <a:lnTo>
                    <a:pt x="3858" y="422"/>
                  </a:lnTo>
                  <a:lnTo>
                    <a:pt x="3405" y="606"/>
                  </a:lnTo>
                  <a:lnTo>
                    <a:pt x="2933" y="815"/>
                  </a:lnTo>
                  <a:lnTo>
                    <a:pt x="2836" y="895"/>
                  </a:lnTo>
                  <a:lnTo>
                    <a:pt x="2740" y="974"/>
                  </a:lnTo>
                  <a:lnTo>
                    <a:pt x="2501" y="1158"/>
                  </a:lnTo>
                  <a:lnTo>
                    <a:pt x="2287" y="1367"/>
                  </a:lnTo>
                  <a:lnTo>
                    <a:pt x="2120" y="1576"/>
                  </a:lnTo>
                  <a:lnTo>
                    <a:pt x="1957" y="1791"/>
                  </a:lnTo>
                  <a:lnTo>
                    <a:pt x="1646" y="2233"/>
                  </a:lnTo>
                  <a:lnTo>
                    <a:pt x="1336" y="2706"/>
                  </a:lnTo>
                  <a:lnTo>
                    <a:pt x="1097" y="3049"/>
                  </a:lnTo>
                  <a:lnTo>
                    <a:pt x="858" y="3392"/>
                  </a:lnTo>
                  <a:lnTo>
                    <a:pt x="833" y="3441"/>
                  </a:lnTo>
                  <a:lnTo>
                    <a:pt x="787" y="3471"/>
                  </a:lnTo>
                  <a:lnTo>
                    <a:pt x="787" y="3521"/>
                  </a:lnTo>
                  <a:lnTo>
                    <a:pt x="787" y="3546"/>
                  </a:lnTo>
                  <a:lnTo>
                    <a:pt x="813" y="3546"/>
                  </a:lnTo>
                  <a:lnTo>
                    <a:pt x="833" y="3521"/>
                  </a:lnTo>
                  <a:lnTo>
                    <a:pt x="884" y="3471"/>
                  </a:lnTo>
                  <a:lnTo>
                    <a:pt x="904" y="3441"/>
                  </a:lnTo>
                  <a:lnTo>
                    <a:pt x="1026" y="3337"/>
                  </a:lnTo>
                  <a:lnTo>
                    <a:pt x="1143" y="3233"/>
                  </a:lnTo>
                  <a:lnTo>
                    <a:pt x="1382" y="3024"/>
                  </a:lnTo>
                  <a:lnTo>
                    <a:pt x="1595" y="2815"/>
                  </a:lnTo>
                  <a:lnTo>
                    <a:pt x="1666" y="2760"/>
                  </a:lnTo>
                  <a:lnTo>
                    <a:pt x="1739" y="2681"/>
                  </a:lnTo>
                  <a:lnTo>
                    <a:pt x="1810" y="2631"/>
                  </a:lnTo>
                  <a:lnTo>
                    <a:pt x="1835" y="2601"/>
                  </a:lnTo>
                  <a:lnTo>
                    <a:pt x="3314" y="1815"/>
                  </a:lnTo>
                  <a:lnTo>
                    <a:pt x="4767" y="1054"/>
                  </a:lnTo>
                  <a:lnTo>
                    <a:pt x="4788" y="1054"/>
                  </a:lnTo>
                  <a:lnTo>
                    <a:pt x="4767" y="1054"/>
                  </a:lnTo>
                  <a:lnTo>
                    <a:pt x="4717" y="1079"/>
                  </a:lnTo>
                  <a:lnTo>
                    <a:pt x="4620" y="1133"/>
                  </a:lnTo>
                  <a:lnTo>
                    <a:pt x="4549" y="1158"/>
                  </a:lnTo>
                  <a:lnTo>
                    <a:pt x="4503" y="1208"/>
                  </a:lnTo>
                  <a:lnTo>
                    <a:pt x="4457" y="1238"/>
                  </a:lnTo>
                  <a:lnTo>
                    <a:pt x="4386" y="1287"/>
                  </a:lnTo>
                  <a:lnTo>
                    <a:pt x="4315" y="1342"/>
                  </a:lnTo>
                  <a:lnTo>
                    <a:pt x="4239" y="1367"/>
                  </a:lnTo>
                  <a:lnTo>
                    <a:pt x="4147" y="1422"/>
                  </a:lnTo>
                  <a:lnTo>
                    <a:pt x="3837" y="1526"/>
                  </a:lnTo>
                  <a:lnTo>
                    <a:pt x="3695" y="1606"/>
                  </a:lnTo>
                  <a:lnTo>
                    <a:pt x="3553" y="1680"/>
                  </a:lnTo>
                  <a:lnTo>
                    <a:pt x="3431" y="1791"/>
                  </a:lnTo>
                  <a:lnTo>
                    <a:pt x="3360" y="1840"/>
                  </a:lnTo>
                  <a:lnTo>
                    <a:pt x="3314" y="1895"/>
                  </a:lnTo>
                  <a:lnTo>
                    <a:pt x="3263" y="1920"/>
                  </a:lnTo>
                  <a:lnTo>
                    <a:pt x="3217" y="1945"/>
                  </a:lnTo>
                  <a:lnTo>
                    <a:pt x="3146" y="1945"/>
                  </a:lnTo>
                  <a:lnTo>
                    <a:pt x="3050" y="1975"/>
                  </a:lnTo>
                  <a:lnTo>
                    <a:pt x="2979" y="2024"/>
                  </a:lnTo>
                  <a:lnTo>
                    <a:pt x="2933" y="2079"/>
                  </a:lnTo>
                  <a:lnTo>
                    <a:pt x="2862" y="2104"/>
                  </a:lnTo>
                  <a:lnTo>
                    <a:pt x="2811" y="2129"/>
                  </a:lnTo>
                  <a:lnTo>
                    <a:pt x="2765" y="2159"/>
                  </a:lnTo>
                  <a:lnTo>
                    <a:pt x="2694" y="2208"/>
                  </a:lnTo>
                  <a:lnTo>
                    <a:pt x="2572" y="2288"/>
                  </a:lnTo>
                  <a:lnTo>
                    <a:pt x="2430" y="2392"/>
                  </a:lnTo>
                  <a:lnTo>
                    <a:pt x="2287" y="2522"/>
                  </a:lnTo>
                  <a:lnTo>
                    <a:pt x="2145" y="2656"/>
                  </a:lnTo>
                  <a:lnTo>
                    <a:pt x="2003" y="2760"/>
                  </a:lnTo>
                  <a:lnTo>
                    <a:pt x="1835" y="2840"/>
                  </a:lnTo>
                  <a:lnTo>
                    <a:pt x="1621" y="2919"/>
                  </a:lnTo>
                  <a:lnTo>
                    <a:pt x="1453" y="2999"/>
                  </a:lnTo>
                  <a:lnTo>
                    <a:pt x="1356" y="3024"/>
                  </a:lnTo>
                  <a:lnTo>
                    <a:pt x="1311" y="3074"/>
                  </a:lnTo>
                  <a:lnTo>
                    <a:pt x="1835" y="2472"/>
                  </a:lnTo>
                  <a:lnTo>
                    <a:pt x="2313" y="2208"/>
                  </a:lnTo>
                  <a:lnTo>
                    <a:pt x="2790" y="1975"/>
                  </a:lnTo>
                  <a:lnTo>
                    <a:pt x="3217" y="1760"/>
                  </a:lnTo>
                  <a:lnTo>
                    <a:pt x="3599" y="1551"/>
                  </a:lnTo>
                  <a:lnTo>
                    <a:pt x="3980" y="1367"/>
                  </a:lnTo>
                  <a:lnTo>
                    <a:pt x="4335" y="1208"/>
                  </a:lnTo>
                  <a:lnTo>
                    <a:pt x="4645" y="1054"/>
                  </a:lnTo>
                  <a:lnTo>
                    <a:pt x="4955" y="919"/>
                  </a:lnTo>
                  <a:lnTo>
                    <a:pt x="5221" y="790"/>
                  </a:lnTo>
                  <a:lnTo>
                    <a:pt x="5480" y="686"/>
                  </a:lnTo>
                  <a:lnTo>
                    <a:pt x="5693" y="581"/>
                  </a:lnTo>
                  <a:lnTo>
                    <a:pt x="5912" y="502"/>
                  </a:lnTo>
                  <a:lnTo>
                    <a:pt x="6217" y="367"/>
                  </a:lnTo>
                  <a:lnTo>
                    <a:pt x="6456" y="263"/>
                  </a:lnTo>
                  <a:lnTo>
                    <a:pt x="6623" y="213"/>
                  </a:lnTo>
                  <a:lnTo>
                    <a:pt x="6669" y="159"/>
                  </a:lnTo>
                  <a:lnTo>
                    <a:pt x="6649" y="134"/>
                  </a:lnTo>
                  <a:lnTo>
                    <a:pt x="6552" y="109"/>
                  </a:lnTo>
                  <a:lnTo>
                    <a:pt x="6364" y="109"/>
                  </a:lnTo>
                  <a:lnTo>
                    <a:pt x="6100" y="109"/>
                  </a:lnTo>
                  <a:lnTo>
                    <a:pt x="5764" y="79"/>
                  </a:lnTo>
                  <a:lnTo>
                    <a:pt x="5363" y="54"/>
                  </a:lnTo>
                  <a:lnTo>
                    <a:pt x="5099" y="79"/>
                  </a:lnTo>
                  <a:lnTo>
                    <a:pt x="4813" y="79"/>
                  </a:lnTo>
                  <a:lnTo>
                    <a:pt x="4549" y="134"/>
                  </a:lnTo>
                  <a:lnTo>
                    <a:pt x="4264" y="183"/>
                  </a:lnTo>
                  <a:lnTo>
                    <a:pt x="4005" y="263"/>
                  </a:lnTo>
                  <a:lnTo>
                    <a:pt x="3909" y="318"/>
                  </a:lnTo>
                  <a:lnTo>
                    <a:pt x="3787" y="367"/>
                  </a:lnTo>
                  <a:lnTo>
                    <a:pt x="3741" y="422"/>
                  </a:lnTo>
                  <a:lnTo>
                    <a:pt x="3670" y="502"/>
                  </a:lnTo>
                  <a:lnTo>
                    <a:pt x="3599" y="551"/>
                  </a:lnTo>
                  <a:lnTo>
                    <a:pt x="3573" y="581"/>
                  </a:lnTo>
                  <a:lnTo>
                    <a:pt x="3553" y="581"/>
                  </a:lnTo>
                  <a:lnTo>
                    <a:pt x="3050" y="1054"/>
                  </a:lnTo>
                  <a:lnTo>
                    <a:pt x="2811" y="1287"/>
                  </a:lnTo>
                  <a:lnTo>
                    <a:pt x="5983" y="109"/>
                  </a:lnTo>
                  <a:lnTo>
                    <a:pt x="6029" y="527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 txBox="1"/>
          <p:nvPr/>
        </p:nvSpPr>
        <p:spPr>
          <a:xfrm>
            <a:off x="380880" y="22860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E-JJAE-RAH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463840" y="6146640"/>
            <a:ext cx="3670560" cy="344880"/>
          </a:xfrm>
          <a:custGeom>
            <a:avLst/>
            <a:gdLst/>
            <a:ahLst/>
            <a:rect l="0" t="0" r="r" b="b"/>
            <a:pathLst>
              <a:path w="10196" h="958">
                <a:moveTo>
                  <a:pt x="3764" y="216"/>
                </a:moveTo>
                <a:lnTo>
                  <a:pt x="3654" y="246"/>
                </a:lnTo>
                <a:lnTo>
                  <a:pt x="3570" y="246"/>
                </a:lnTo>
                <a:lnTo>
                  <a:pt x="3517" y="246"/>
                </a:lnTo>
                <a:lnTo>
                  <a:pt x="3407" y="216"/>
                </a:lnTo>
                <a:lnTo>
                  <a:pt x="3354" y="183"/>
                </a:lnTo>
                <a:lnTo>
                  <a:pt x="3297" y="183"/>
                </a:lnTo>
                <a:lnTo>
                  <a:pt x="3244" y="155"/>
                </a:lnTo>
                <a:lnTo>
                  <a:pt x="3217" y="155"/>
                </a:lnTo>
                <a:lnTo>
                  <a:pt x="2997" y="246"/>
                </a:lnTo>
                <a:lnTo>
                  <a:pt x="2781" y="340"/>
                </a:lnTo>
                <a:lnTo>
                  <a:pt x="2508" y="216"/>
                </a:lnTo>
                <a:lnTo>
                  <a:pt x="2208" y="94"/>
                </a:lnTo>
                <a:lnTo>
                  <a:pt x="2128" y="61"/>
                </a:lnTo>
                <a:lnTo>
                  <a:pt x="2098" y="61"/>
                </a:lnTo>
                <a:lnTo>
                  <a:pt x="2071" y="61"/>
                </a:lnTo>
                <a:lnTo>
                  <a:pt x="2045" y="94"/>
                </a:lnTo>
                <a:lnTo>
                  <a:pt x="762" y="279"/>
                </a:lnTo>
                <a:lnTo>
                  <a:pt x="357" y="524"/>
                </a:lnTo>
                <a:lnTo>
                  <a:pt x="273" y="646"/>
                </a:lnTo>
                <a:lnTo>
                  <a:pt x="246" y="679"/>
                </a:lnTo>
                <a:lnTo>
                  <a:pt x="246" y="679"/>
                </a:lnTo>
                <a:lnTo>
                  <a:pt x="273" y="646"/>
                </a:lnTo>
                <a:lnTo>
                  <a:pt x="326" y="585"/>
                </a:lnTo>
                <a:lnTo>
                  <a:pt x="357" y="585"/>
                </a:lnTo>
                <a:lnTo>
                  <a:pt x="357" y="618"/>
                </a:lnTo>
                <a:lnTo>
                  <a:pt x="357" y="742"/>
                </a:lnTo>
                <a:lnTo>
                  <a:pt x="299" y="803"/>
                </a:lnTo>
                <a:lnTo>
                  <a:pt x="189" y="836"/>
                </a:lnTo>
                <a:lnTo>
                  <a:pt x="83" y="864"/>
                </a:lnTo>
                <a:lnTo>
                  <a:pt x="0" y="897"/>
                </a:lnTo>
                <a:lnTo>
                  <a:pt x="110" y="958"/>
                </a:lnTo>
                <a:lnTo>
                  <a:pt x="189" y="958"/>
                </a:lnTo>
                <a:lnTo>
                  <a:pt x="273" y="925"/>
                </a:lnTo>
                <a:lnTo>
                  <a:pt x="383" y="897"/>
                </a:lnTo>
                <a:lnTo>
                  <a:pt x="489" y="742"/>
                </a:lnTo>
                <a:lnTo>
                  <a:pt x="573" y="679"/>
                </a:lnTo>
                <a:lnTo>
                  <a:pt x="656" y="679"/>
                </a:lnTo>
                <a:lnTo>
                  <a:pt x="819" y="742"/>
                </a:lnTo>
                <a:lnTo>
                  <a:pt x="899" y="864"/>
                </a:lnTo>
                <a:lnTo>
                  <a:pt x="982" y="897"/>
                </a:lnTo>
                <a:lnTo>
                  <a:pt x="1093" y="864"/>
                </a:lnTo>
                <a:lnTo>
                  <a:pt x="1198" y="775"/>
                </a:lnTo>
                <a:lnTo>
                  <a:pt x="1282" y="679"/>
                </a:lnTo>
                <a:lnTo>
                  <a:pt x="1362" y="679"/>
                </a:lnTo>
                <a:lnTo>
                  <a:pt x="1445" y="712"/>
                </a:lnTo>
                <a:lnTo>
                  <a:pt x="1555" y="775"/>
                </a:lnTo>
                <a:lnTo>
                  <a:pt x="1829" y="712"/>
                </a:lnTo>
                <a:lnTo>
                  <a:pt x="2128" y="679"/>
                </a:lnTo>
                <a:lnTo>
                  <a:pt x="2481" y="742"/>
                </a:lnTo>
                <a:lnTo>
                  <a:pt x="2671" y="742"/>
                </a:lnTo>
                <a:lnTo>
                  <a:pt x="2917" y="712"/>
                </a:lnTo>
                <a:lnTo>
                  <a:pt x="3133" y="679"/>
                </a:lnTo>
                <a:lnTo>
                  <a:pt x="3217" y="712"/>
                </a:lnTo>
                <a:lnTo>
                  <a:pt x="3270" y="742"/>
                </a:lnTo>
                <a:lnTo>
                  <a:pt x="3270" y="742"/>
                </a:lnTo>
                <a:lnTo>
                  <a:pt x="3517" y="958"/>
                </a:lnTo>
                <a:lnTo>
                  <a:pt x="3953" y="742"/>
                </a:lnTo>
                <a:lnTo>
                  <a:pt x="4579" y="742"/>
                </a:lnTo>
                <a:lnTo>
                  <a:pt x="5016" y="742"/>
                </a:lnTo>
                <a:lnTo>
                  <a:pt x="5068" y="864"/>
                </a:lnTo>
                <a:lnTo>
                  <a:pt x="5127" y="925"/>
                </a:lnTo>
                <a:lnTo>
                  <a:pt x="5237" y="958"/>
                </a:lnTo>
                <a:lnTo>
                  <a:pt x="5369" y="925"/>
                </a:lnTo>
                <a:lnTo>
                  <a:pt x="5479" y="897"/>
                </a:lnTo>
                <a:lnTo>
                  <a:pt x="5537" y="864"/>
                </a:lnTo>
                <a:lnTo>
                  <a:pt x="5590" y="897"/>
                </a:lnTo>
                <a:lnTo>
                  <a:pt x="5669" y="958"/>
                </a:lnTo>
                <a:lnTo>
                  <a:pt x="5779" y="958"/>
                </a:lnTo>
                <a:lnTo>
                  <a:pt x="5863" y="925"/>
                </a:lnTo>
                <a:lnTo>
                  <a:pt x="5916" y="925"/>
                </a:lnTo>
                <a:lnTo>
                  <a:pt x="5969" y="897"/>
                </a:lnTo>
                <a:lnTo>
                  <a:pt x="6026" y="864"/>
                </a:lnTo>
                <a:lnTo>
                  <a:pt x="6052" y="864"/>
                </a:lnTo>
                <a:lnTo>
                  <a:pt x="6326" y="897"/>
                </a:lnTo>
                <a:lnTo>
                  <a:pt x="6573" y="836"/>
                </a:lnTo>
                <a:lnTo>
                  <a:pt x="6736" y="897"/>
                </a:lnTo>
                <a:lnTo>
                  <a:pt x="6872" y="925"/>
                </a:lnTo>
                <a:lnTo>
                  <a:pt x="6952" y="958"/>
                </a:lnTo>
                <a:lnTo>
                  <a:pt x="6978" y="958"/>
                </a:lnTo>
                <a:lnTo>
                  <a:pt x="7088" y="925"/>
                </a:lnTo>
                <a:lnTo>
                  <a:pt x="7198" y="897"/>
                </a:lnTo>
                <a:lnTo>
                  <a:pt x="7251" y="897"/>
                </a:lnTo>
                <a:lnTo>
                  <a:pt x="7304" y="864"/>
                </a:lnTo>
                <a:lnTo>
                  <a:pt x="7304" y="864"/>
                </a:lnTo>
                <a:lnTo>
                  <a:pt x="7551" y="925"/>
                </a:lnTo>
                <a:lnTo>
                  <a:pt x="7688" y="958"/>
                </a:lnTo>
                <a:lnTo>
                  <a:pt x="7798" y="925"/>
                </a:lnTo>
                <a:lnTo>
                  <a:pt x="7908" y="897"/>
                </a:lnTo>
                <a:lnTo>
                  <a:pt x="8014" y="864"/>
                </a:lnTo>
                <a:lnTo>
                  <a:pt x="8124" y="836"/>
                </a:lnTo>
                <a:lnTo>
                  <a:pt x="8151" y="836"/>
                </a:lnTo>
                <a:lnTo>
                  <a:pt x="8450" y="897"/>
                </a:lnTo>
                <a:lnTo>
                  <a:pt x="8587" y="897"/>
                </a:lnTo>
                <a:lnTo>
                  <a:pt x="8724" y="864"/>
                </a:lnTo>
                <a:lnTo>
                  <a:pt x="8944" y="864"/>
                </a:lnTo>
                <a:lnTo>
                  <a:pt x="9160" y="836"/>
                </a:lnTo>
                <a:lnTo>
                  <a:pt x="9213" y="775"/>
                </a:lnTo>
                <a:lnTo>
                  <a:pt x="9270" y="712"/>
                </a:lnTo>
                <a:lnTo>
                  <a:pt x="9433" y="679"/>
                </a:lnTo>
                <a:lnTo>
                  <a:pt x="9596" y="679"/>
                </a:lnTo>
                <a:lnTo>
                  <a:pt x="9759" y="712"/>
                </a:lnTo>
                <a:lnTo>
                  <a:pt x="9896" y="712"/>
                </a:lnTo>
                <a:lnTo>
                  <a:pt x="10033" y="679"/>
                </a:lnTo>
                <a:lnTo>
                  <a:pt x="10112" y="618"/>
                </a:lnTo>
                <a:lnTo>
                  <a:pt x="10196" y="524"/>
                </a:lnTo>
                <a:lnTo>
                  <a:pt x="10169" y="462"/>
                </a:lnTo>
                <a:lnTo>
                  <a:pt x="10143" y="434"/>
                </a:lnTo>
                <a:lnTo>
                  <a:pt x="10112" y="401"/>
                </a:lnTo>
                <a:lnTo>
                  <a:pt x="10059" y="434"/>
                </a:lnTo>
                <a:lnTo>
                  <a:pt x="9980" y="462"/>
                </a:lnTo>
                <a:lnTo>
                  <a:pt x="9922" y="495"/>
                </a:lnTo>
                <a:lnTo>
                  <a:pt x="9896" y="495"/>
                </a:lnTo>
                <a:lnTo>
                  <a:pt x="9843" y="462"/>
                </a:lnTo>
                <a:lnTo>
                  <a:pt x="9733" y="462"/>
                </a:lnTo>
                <a:lnTo>
                  <a:pt x="9649" y="434"/>
                </a:lnTo>
                <a:lnTo>
                  <a:pt x="9570" y="401"/>
                </a:lnTo>
                <a:lnTo>
                  <a:pt x="9513" y="373"/>
                </a:lnTo>
                <a:lnTo>
                  <a:pt x="9433" y="307"/>
                </a:lnTo>
                <a:lnTo>
                  <a:pt x="9376" y="279"/>
                </a:lnTo>
                <a:lnTo>
                  <a:pt x="9349" y="246"/>
                </a:lnTo>
                <a:lnTo>
                  <a:pt x="8913" y="307"/>
                </a:lnTo>
                <a:lnTo>
                  <a:pt x="8508" y="373"/>
                </a:lnTo>
                <a:lnTo>
                  <a:pt x="8340" y="340"/>
                </a:lnTo>
                <a:lnTo>
                  <a:pt x="8177" y="340"/>
                </a:lnTo>
                <a:lnTo>
                  <a:pt x="8040" y="279"/>
                </a:lnTo>
                <a:lnTo>
                  <a:pt x="7908" y="216"/>
                </a:lnTo>
                <a:lnTo>
                  <a:pt x="7798" y="155"/>
                </a:lnTo>
                <a:lnTo>
                  <a:pt x="7714" y="94"/>
                </a:lnTo>
                <a:lnTo>
                  <a:pt x="7608" y="61"/>
                </a:lnTo>
                <a:lnTo>
                  <a:pt x="7578" y="32"/>
                </a:lnTo>
                <a:lnTo>
                  <a:pt x="7278" y="94"/>
                </a:lnTo>
                <a:lnTo>
                  <a:pt x="6978" y="155"/>
                </a:lnTo>
                <a:lnTo>
                  <a:pt x="6815" y="183"/>
                </a:lnTo>
                <a:lnTo>
                  <a:pt x="6652" y="122"/>
                </a:lnTo>
                <a:lnTo>
                  <a:pt x="6326" y="0"/>
                </a:lnTo>
                <a:lnTo>
                  <a:pt x="5942" y="61"/>
                </a:lnTo>
                <a:lnTo>
                  <a:pt x="5753" y="94"/>
                </a:lnTo>
                <a:lnTo>
                  <a:pt x="5563" y="155"/>
                </a:lnTo>
                <a:lnTo>
                  <a:pt x="5479" y="183"/>
                </a:lnTo>
                <a:lnTo>
                  <a:pt x="5369" y="216"/>
                </a:lnTo>
                <a:lnTo>
                  <a:pt x="5290" y="246"/>
                </a:lnTo>
                <a:lnTo>
                  <a:pt x="5263" y="246"/>
                </a:lnTo>
                <a:lnTo>
                  <a:pt x="5153" y="246"/>
                </a:lnTo>
                <a:lnTo>
                  <a:pt x="5016" y="216"/>
                </a:lnTo>
                <a:lnTo>
                  <a:pt x="4879" y="183"/>
                </a:lnTo>
                <a:lnTo>
                  <a:pt x="4826" y="155"/>
                </a:lnTo>
                <a:lnTo>
                  <a:pt x="4800" y="155"/>
                </a:lnTo>
                <a:lnTo>
                  <a:pt x="4663" y="183"/>
                </a:lnTo>
                <a:lnTo>
                  <a:pt x="4579" y="216"/>
                </a:lnTo>
                <a:lnTo>
                  <a:pt x="4469" y="216"/>
                </a:lnTo>
                <a:lnTo>
                  <a:pt x="4332" y="183"/>
                </a:lnTo>
                <a:lnTo>
                  <a:pt x="4279" y="155"/>
                </a:lnTo>
                <a:lnTo>
                  <a:pt x="4200" y="122"/>
                </a:lnTo>
                <a:lnTo>
                  <a:pt x="4143" y="94"/>
                </a:lnTo>
                <a:lnTo>
                  <a:pt x="4116" y="94"/>
                </a:lnTo>
                <a:lnTo>
                  <a:pt x="4033" y="122"/>
                </a:lnTo>
                <a:lnTo>
                  <a:pt x="3980" y="155"/>
                </a:lnTo>
                <a:lnTo>
                  <a:pt x="3927" y="183"/>
                </a:lnTo>
                <a:lnTo>
                  <a:pt x="3896" y="183"/>
                </a:lnTo>
                <a:lnTo>
                  <a:pt x="3817" y="155"/>
                </a:lnTo>
                <a:lnTo>
                  <a:pt x="3733" y="183"/>
                </a:lnTo>
                <a:lnTo>
                  <a:pt x="3706" y="216"/>
                </a:lnTo>
                <a:lnTo>
                  <a:pt x="3706" y="216"/>
                </a:lnTo>
                <a:lnTo>
                  <a:pt x="3764" y="216"/>
                </a:lnTo>
                <a:close/>
              </a:path>
            </a:pathLst>
          </a:custGeom>
          <a:solidFill>
            <a:srgbClr val="e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2438280" y="4762440"/>
            <a:ext cx="1219680" cy="487800"/>
            <a:chOff x="2438280" y="4762440"/>
            <a:chExt cx="1219680" cy="487800"/>
          </a:xfrm>
        </p:grpSpPr>
        <p:sp>
          <p:nvSpPr>
            <p:cNvPr id="187" name=""/>
            <p:cNvSpPr/>
            <p:nvPr/>
          </p:nvSpPr>
          <p:spPr>
            <a:xfrm>
              <a:off x="2438280" y="4952880"/>
              <a:ext cx="1219680" cy="171720"/>
            </a:xfrm>
            <a:custGeom>
              <a:avLst/>
              <a:gdLst/>
              <a:ahLst/>
              <a:rect l="0" t="0" r="r" b="b"/>
              <a:pathLst>
                <a:path w="3388" h="477">
                  <a:moveTo>
                    <a:pt x="1998" y="247"/>
                  </a:moveTo>
                  <a:lnTo>
                    <a:pt x="0" y="477"/>
                  </a:lnTo>
                  <a:lnTo>
                    <a:pt x="22" y="435"/>
                  </a:lnTo>
                  <a:lnTo>
                    <a:pt x="178" y="376"/>
                  </a:lnTo>
                  <a:lnTo>
                    <a:pt x="814" y="276"/>
                  </a:lnTo>
                  <a:lnTo>
                    <a:pt x="1897" y="137"/>
                  </a:lnTo>
                  <a:lnTo>
                    <a:pt x="2327" y="94"/>
                  </a:lnTo>
                  <a:lnTo>
                    <a:pt x="3148" y="0"/>
                  </a:lnTo>
                  <a:lnTo>
                    <a:pt x="3388" y="46"/>
                  </a:lnTo>
                  <a:lnTo>
                    <a:pt x="2422" y="164"/>
                  </a:lnTo>
                  <a:lnTo>
                    <a:pt x="2121" y="178"/>
                  </a:lnTo>
                  <a:lnTo>
                    <a:pt x="1897" y="204"/>
                  </a:lnTo>
                  <a:lnTo>
                    <a:pt x="1998" y="247"/>
                  </a:lnTo>
                  <a:close/>
                </a:path>
              </a:pathLst>
            </a:custGeom>
            <a:blipFill rotWithShape="0">
              <a:blip r:embed="rId1"/>
              <a:tile tx="0" ty="0" sx="3528125" sy="3528125" algn="ctr"/>
            </a:blip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494080" y="5116680"/>
              <a:ext cx="695520" cy="133560"/>
            </a:xfrm>
            <a:custGeom>
              <a:avLst/>
              <a:gdLst/>
              <a:ahLst/>
              <a:rect l="0" t="0" r="r" b="b"/>
              <a:pathLst>
                <a:path w="1932" h="371">
                  <a:moveTo>
                    <a:pt x="1932" y="39"/>
                  </a:moveTo>
                  <a:lnTo>
                    <a:pt x="1776" y="78"/>
                  </a:lnTo>
                  <a:lnTo>
                    <a:pt x="1492" y="83"/>
                  </a:lnTo>
                  <a:lnTo>
                    <a:pt x="1290" y="147"/>
                  </a:lnTo>
                  <a:lnTo>
                    <a:pt x="867" y="207"/>
                  </a:lnTo>
                  <a:lnTo>
                    <a:pt x="636" y="239"/>
                  </a:lnTo>
                  <a:lnTo>
                    <a:pt x="375" y="285"/>
                  </a:lnTo>
                  <a:lnTo>
                    <a:pt x="0" y="371"/>
                  </a:lnTo>
                  <a:lnTo>
                    <a:pt x="289" y="271"/>
                  </a:lnTo>
                  <a:lnTo>
                    <a:pt x="497" y="200"/>
                  </a:lnTo>
                  <a:lnTo>
                    <a:pt x="1047" y="113"/>
                  </a:lnTo>
                  <a:lnTo>
                    <a:pt x="1336" y="63"/>
                  </a:lnTo>
                  <a:lnTo>
                    <a:pt x="1793" y="0"/>
                  </a:lnTo>
                  <a:lnTo>
                    <a:pt x="1932" y="3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068640" y="4762440"/>
              <a:ext cx="495720" cy="124200"/>
            </a:xfrm>
            <a:custGeom>
              <a:avLst/>
              <a:gdLst/>
              <a:ahLst/>
              <a:rect l="0" t="0" r="r" b="b"/>
              <a:pathLst>
                <a:path w="1377" h="345">
                  <a:moveTo>
                    <a:pt x="0" y="292"/>
                  </a:moveTo>
                  <a:lnTo>
                    <a:pt x="136" y="345"/>
                  </a:lnTo>
                  <a:lnTo>
                    <a:pt x="559" y="313"/>
                  </a:lnTo>
                  <a:lnTo>
                    <a:pt x="1377" y="75"/>
                  </a:lnTo>
                  <a:lnTo>
                    <a:pt x="1232" y="0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9933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3638520" y="4448160"/>
            <a:ext cx="1514880" cy="1867320"/>
            <a:chOff x="3638520" y="4448160"/>
            <a:chExt cx="1514880" cy="1867320"/>
          </a:xfrm>
        </p:grpSpPr>
        <p:sp>
          <p:nvSpPr>
            <p:cNvPr id="191" name=""/>
            <p:cNvSpPr/>
            <p:nvPr/>
          </p:nvSpPr>
          <p:spPr>
            <a:xfrm>
              <a:off x="4019400" y="4448160"/>
              <a:ext cx="657720" cy="1724400"/>
            </a:xfrm>
            <a:custGeom>
              <a:avLst/>
              <a:gdLst/>
              <a:ahLst/>
              <a:rect l="0" t="0" r="r" b="b"/>
              <a:pathLst>
                <a:path w="1827" h="4790">
                  <a:moveTo>
                    <a:pt x="0" y="0"/>
                  </a:moveTo>
                  <a:lnTo>
                    <a:pt x="317" y="4790"/>
                  </a:lnTo>
                  <a:lnTo>
                    <a:pt x="1032" y="4790"/>
                  </a:lnTo>
                  <a:lnTo>
                    <a:pt x="927" y="1297"/>
                  </a:lnTo>
                  <a:lnTo>
                    <a:pt x="1032" y="4790"/>
                  </a:lnTo>
                  <a:lnTo>
                    <a:pt x="1827" y="4790"/>
                  </a:lnTo>
                  <a:lnTo>
                    <a:pt x="1748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638520" y="6105600"/>
              <a:ext cx="752760" cy="209880"/>
            </a:xfrm>
            <a:custGeom>
              <a:avLst/>
              <a:gdLst/>
              <a:ahLst/>
              <a:rect l="0" t="0" r="r" b="b"/>
              <a:pathLst>
                <a:path w="2091" h="583">
                  <a:moveTo>
                    <a:pt x="1376" y="185"/>
                  </a:moveTo>
                  <a:lnTo>
                    <a:pt x="978" y="52"/>
                  </a:lnTo>
                  <a:lnTo>
                    <a:pt x="714" y="0"/>
                  </a:lnTo>
                  <a:lnTo>
                    <a:pt x="423" y="105"/>
                  </a:lnTo>
                  <a:lnTo>
                    <a:pt x="132" y="264"/>
                  </a:lnTo>
                  <a:lnTo>
                    <a:pt x="0" y="477"/>
                  </a:lnTo>
                  <a:lnTo>
                    <a:pt x="185" y="583"/>
                  </a:lnTo>
                  <a:lnTo>
                    <a:pt x="2091" y="583"/>
                  </a:lnTo>
                  <a:lnTo>
                    <a:pt x="2091" y="185"/>
                  </a:lnTo>
                  <a:lnTo>
                    <a:pt x="1376" y="185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00640" y="6105600"/>
              <a:ext cx="752760" cy="209880"/>
            </a:xfrm>
            <a:custGeom>
              <a:avLst/>
              <a:gdLst/>
              <a:ahLst/>
              <a:rect l="0" t="0" r="r" b="b"/>
              <a:pathLst>
                <a:path w="2091" h="583">
                  <a:moveTo>
                    <a:pt x="714" y="185"/>
                  </a:moveTo>
                  <a:lnTo>
                    <a:pt x="1112" y="52"/>
                  </a:lnTo>
                  <a:lnTo>
                    <a:pt x="1376" y="0"/>
                  </a:lnTo>
                  <a:lnTo>
                    <a:pt x="1667" y="105"/>
                  </a:lnTo>
                  <a:lnTo>
                    <a:pt x="1958" y="264"/>
                  </a:lnTo>
                  <a:lnTo>
                    <a:pt x="2091" y="477"/>
                  </a:lnTo>
                  <a:lnTo>
                    <a:pt x="1906" y="583"/>
                  </a:lnTo>
                  <a:lnTo>
                    <a:pt x="0" y="583"/>
                  </a:lnTo>
                  <a:lnTo>
                    <a:pt x="0" y="185"/>
                  </a:lnTo>
                  <a:lnTo>
                    <a:pt x="714" y="185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681360" y="3200400"/>
            <a:ext cx="509760" cy="1443240"/>
            <a:chOff x="3681360" y="3200400"/>
            <a:chExt cx="509760" cy="1443240"/>
          </a:xfrm>
        </p:grpSpPr>
        <p:sp>
          <p:nvSpPr>
            <p:cNvPr id="195" name=""/>
            <p:cNvSpPr/>
            <p:nvPr/>
          </p:nvSpPr>
          <p:spPr>
            <a:xfrm>
              <a:off x="3705120" y="3200400"/>
              <a:ext cx="486000" cy="1190880"/>
            </a:xfrm>
            <a:custGeom>
              <a:avLst/>
              <a:gdLst/>
              <a:ahLst/>
              <a:rect l="0" t="0" r="r" b="b"/>
              <a:pathLst>
                <a:path w="1350" h="3308">
                  <a:moveTo>
                    <a:pt x="1112" y="0"/>
                  </a:moveTo>
                  <a:lnTo>
                    <a:pt x="1271" y="105"/>
                  </a:lnTo>
                  <a:lnTo>
                    <a:pt x="1350" y="423"/>
                  </a:lnTo>
                  <a:lnTo>
                    <a:pt x="1138" y="1322"/>
                  </a:lnTo>
                  <a:lnTo>
                    <a:pt x="821" y="3308"/>
                  </a:lnTo>
                  <a:lnTo>
                    <a:pt x="0" y="3149"/>
                  </a:lnTo>
                  <a:lnTo>
                    <a:pt x="370" y="1455"/>
                  </a:lnTo>
                  <a:lnTo>
                    <a:pt x="794" y="238"/>
                  </a:lnTo>
                  <a:lnTo>
                    <a:pt x="1112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81360" y="4357800"/>
              <a:ext cx="304920" cy="285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795840" y="1373040"/>
            <a:ext cx="1081080" cy="3275640"/>
            <a:chOff x="3795840" y="1373040"/>
            <a:chExt cx="1081080" cy="3275640"/>
          </a:xfrm>
        </p:grpSpPr>
        <p:sp>
          <p:nvSpPr>
            <p:cNvPr id="198" name=""/>
            <p:cNvSpPr/>
            <p:nvPr/>
          </p:nvSpPr>
          <p:spPr>
            <a:xfrm>
              <a:off x="3895560" y="3048120"/>
              <a:ext cx="981360" cy="1600560"/>
            </a:xfrm>
            <a:custGeom>
              <a:avLst/>
              <a:gdLst/>
              <a:ahLst/>
              <a:rect l="0" t="0" r="r" b="b"/>
              <a:pathLst>
                <a:path w="2726" h="4446">
                  <a:moveTo>
                    <a:pt x="953" y="374"/>
                  </a:moveTo>
                  <a:lnTo>
                    <a:pt x="865" y="392"/>
                  </a:lnTo>
                  <a:lnTo>
                    <a:pt x="799" y="436"/>
                  </a:lnTo>
                  <a:lnTo>
                    <a:pt x="672" y="582"/>
                  </a:lnTo>
                  <a:lnTo>
                    <a:pt x="540" y="723"/>
                  </a:lnTo>
                  <a:lnTo>
                    <a:pt x="391" y="851"/>
                  </a:lnTo>
                  <a:lnTo>
                    <a:pt x="369" y="890"/>
                  </a:lnTo>
                  <a:lnTo>
                    <a:pt x="347" y="930"/>
                  </a:lnTo>
                  <a:lnTo>
                    <a:pt x="347" y="930"/>
                  </a:lnTo>
                  <a:lnTo>
                    <a:pt x="369" y="930"/>
                  </a:lnTo>
                  <a:lnTo>
                    <a:pt x="153" y="1553"/>
                  </a:lnTo>
                  <a:lnTo>
                    <a:pt x="0" y="4345"/>
                  </a:lnTo>
                  <a:lnTo>
                    <a:pt x="2726" y="4446"/>
                  </a:lnTo>
                  <a:lnTo>
                    <a:pt x="2317" y="1844"/>
                  </a:lnTo>
                  <a:lnTo>
                    <a:pt x="2119" y="414"/>
                  </a:lnTo>
                  <a:lnTo>
                    <a:pt x="1385" y="0"/>
                  </a:lnTo>
                  <a:lnTo>
                    <a:pt x="953" y="374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3795840" y="1373040"/>
              <a:ext cx="1005120" cy="1818000"/>
              <a:chOff x="3795840" y="1373040"/>
              <a:chExt cx="1005120" cy="1818000"/>
            </a:xfrm>
          </p:grpSpPr>
          <p:sp>
            <p:nvSpPr>
              <p:cNvPr id="200" name=""/>
              <p:cNvSpPr/>
              <p:nvPr/>
            </p:nvSpPr>
            <p:spPr>
              <a:xfrm>
                <a:off x="3905280" y="1609560"/>
                <a:ext cx="895680" cy="1581480"/>
              </a:xfrm>
              <a:custGeom>
                <a:avLst/>
                <a:gdLst/>
                <a:ahLst/>
                <a:rect l="0" t="0" r="r" b="b"/>
                <a:pathLst>
                  <a:path w="2488" h="4393">
                    <a:moveTo>
                      <a:pt x="582" y="0"/>
                    </a:moveTo>
                    <a:lnTo>
                      <a:pt x="264" y="264"/>
                    </a:lnTo>
                    <a:lnTo>
                      <a:pt x="79" y="687"/>
                    </a:lnTo>
                    <a:lnTo>
                      <a:pt x="26" y="1217"/>
                    </a:lnTo>
                    <a:lnTo>
                      <a:pt x="0" y="2699"/>
                    </a:lnTo>
                    <a:lnTo>
                      <a:pt x="52" y="3546"/>
                    </a:lnTo>
                    <a:lnTo>
                      <a:pt x="820" y="3599"/>
                    </a:lnTo>
                    <a:lnTo>
                      <a:pt x="926" y="4075"/>
                    </a:lnTo>
                    <a:lnTo>
                      <a:pt x="1031" y="4393"/>
                    </a:lnTo>
                    <a:lnTo>
                      <a:pt x="1271" y="4393"/>
                    </a:lnTo>
                    <a:lnTo>
                      <a:pt x="1403" y="4102"/>
                    </a:lnTo>
                    <a:lnTo>
                      <a:pt x="1323" y="3599"/>
                    </a:lnTo>
                    <a:lnTo>
                      <a:pt x="2038" y="3519"/>
                    </a:lnTo>
                    <a:lnTo>
                      <a:pt x="2064" y="3017"/>
                    </a:lnTo>
                    <a:lnTo>
                      <a:pt x="2223" y="3096"/>
                    </a:lnTo>
                    <a:lnTo>
                      <a:pt x="2382" y="3043"/>
                    </a:lnTo>
                    <a:lnTo>
                      <a:pt x="2488" y="2620"/>
                    </a:lnTo>
                    <a:lnTo>
                      <a:pt x="2355" y="2408"/>
                    </a:lnTo>
                    <a:lnTo>
                      <a:pt x="2197" y="2435"/>
                    </a:lnTo>
                    <a:lnTo>
                      <a:pt x="2355" y="185"/>
                    </a:lnTo>
                    <a:lnTo>
                      <a:pt x="582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95840" y="2052720"/>
                <a:ext cx="409680" cy="4096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148280" y="2014560"/>
                <a:ext cx="485640" cy="4856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338720" y="2214720"/>
                <a:ext cx="85680" cy="85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4560" bIns="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929040" y="2224080"/>
                <a:ext cx="85680" cy="85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4560" bIns="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135320" y="1401840"/>
                <a:ext cx="7920" cy="217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249800" y="1382760"/>
                <a:ext cx="17280" cy="217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4411800" y="1373040"/>
                <a:ext cx="36360" cy="227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4573440" y="1420920"/>
                <a:ext cx="55800" cy="198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4716360" y="1449360"/>
                <a:ext cx="55800" cy="179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895560" y="2562120"/>
                <a:ext cx="657720" cy="257400"/>
              </a:xfrm>
              <a:custGeom>
                <a:avLst/>
                <a:gdLst/>
                <a:ahLst/>
                <a:rect l="0" t="0" r="r" b="b"/>
                <a:pathLst>
                  <a:path w="1827" h="715">
                    <a:moveTo>
                      <a:pt x="0" y="0"/>
                    </a:moveTo>
                    <a:lnTo>
                      <a:pt x="1827" y="163"/>
                    </a:lnTo>
                    <a:lnTo>
                      <a:pt x="746" y="7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4191120" y="3057480"/>
              <a:ext cx="305280" cy="181440"/>
            </a:xfrm>
            <a:custGeom>
              <a:avLst/>
              <a:gdLst/>
              <a:ahLst/>
              <a:rect l="0" t="0" r="r" b="b"/>
              <a:pathLst>
                <a:path w="848" h="504">
                  <a:moveTo>
                    <a:pt x="0" y="344"/>
                  </a:moveTo>
                  <a:lnTo>
                    <a:pt x="239" y="478"/>
                  </a:lnTo>
                  <a:lnTo>
                    <a:pt x="663" y="504"/>
                  </a:lnTo>
                  <a:lnTo>
                    <a:pt x="848" y="265"/>
                  </a:lnTo>
                  <a:lnTo>
                    <a:pt x="848" y="79"/>
                  </a:lnTo>
                  <a:lnTo>
                    <a:pt x="663" y="0"/>
                  </a:lnTo>
                  <a:lnTo>
                    <a:pt x="477" y="265"/>
                  </a:lnTo>
                  <a:lnTo>
                    <a:pt x="185" y="292"/>
                  </a:lnTo>
                  <a:lnTo>
                    <a:pt x="0" y="344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4019400" y="3657600"/>
            <a:ext cx="756000" cy="1740240"/>
            <a:chOff x="4019400" y="3657600"/>
            <a:chExt cx="756000" cy="1740240"/>
          </a:xfrm>
        </p:grpSpPr>
        <p:sp>
          <p:nvSpPr>
            <p:cNvPr id="213" name=""/>
            <p:cNvSpPr/>
            <p:nvPr/>
          </p:nvSpPr>
          <p:spPr>
            <a:xfrm>
              <a:off x="4417920" y="3759120"/>
              <a:ext cx="174960" cy="165600"/>
            </a:xfrm>
            <a:custGeom>
              <a:avLst/>
              <a:gdLst/>
              <a:ahLst/>
              <a:rect l="0" t="0" r="r" b="b"/>
              <a:pathLst>
                <a:path w="486" h="460">
                  <a:moveTo>
                    <a:pt x="100" y="271"/>
                  </a:moveTo>
                  <a:lnTo>
                    <a:pt x="100" y="189"/>
                  </a:lnTo>
                  <a:lnTo>
                    <a:pt x="150" y="102"/>
                  </a:lnTo>
                  <a:lnTo>
                    <a:pt x="257" y="51"/>
                  </a:lnTo>
                  <a:lnTo>
                    <a:pt x="357" y="0"/>
                  </a:lnTo>
                  <a:lnTo>
                    <a:pt x="413" y="34"/>
                  </a:lnTo>
                  <a:lnTo>
                    <a:pt x="486" y="85"/>
                  </a:lnTo>
                  <a:lnTo>
                    <a:pt x="486" y="121"/>
                  </a:lnTo>
                  <a:lnTo>
                    <a:pt x="486" y="121"/>
                  </a:lnTo>
                  <a:lnTo>
                    <a:pt x="435" y="121"/>
                  </a:lnTo>
                  <a:lnTo>
                    <a:pt x="335" y="172"/>
                  </a:lnTo>
                  <a:lnTo>
                    <a:pt x="228" y="241"/>
                  </a:lnTo>
                  <a:lnTo>
                    <a:pt x="206" y="322"/>
                  </a:lnTo>
                  <a:lnTo>
                    <a:pt x="206" y="357"/>
                  </a:lnTo>
                  <a:lnTo>
                    <a:pt x="178" y="392"/>
                  </a:lnTo>
                  <a:lnTo>
                    <a:pt x="150" y="426"/>
                  </a:lnTo>
                  <a:lnTo>
                    <a:pt x="100" y="443"/>
                  </a:lnTo>
                  <a:lnTo>
                    <a:pt x="72" y="460"/>
                  </a:lnTo>
                  <a:lnTo>
                    <a:pt x="50" y="460"/>
                  </a:lnTo>
                  <a:lnTo>
                    <a:pt x="0" y="426"/>
                  </a:lnTo>
                  <a:lnTo>
                    <a:pt x="0" y="392"/>
                  </a:lnTo>
                  <a:lnTo>
                    <a:pt x="22" y="374"/>
                  </a:lnTo>
                  <a:lnTo>
                    <a:pt x="50" y="305"/>
                  </a:lnTo>
                  <a:lnTo>
                    <a:pt x="72" y="288"/>
                  </a:lnTo>
                  <a:lnTo>
                    <a:pt x="100" y="288"/>
                  </a:lnTo>
                  <a:lnTo>
                    <a:pt x="100" y="271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019400" y="3930480"/>
              <a:ext cx="201960" cy="267120"/>
            </a:xfrm>
            <a:custGeom>
              <a:avLst/>
              <a:gdLst/>
              <a:ahLst/>
              <a:rect l="0" t="0" r="r" b="b"/>
              <a:pathLst>
                <a:path w="561" h="742">
                  <a:moveTo>
                    <a:pt x="424" y="581"/>
                  </a:moveTo>
                  <a:lnTo>
                    <a:pt x="315" y="442"/>
                  </a:lnTo>
                  <a:lnTo>
                    <a:pt x="204" y="281"/>
                  </a:lnTo>
                  <a:lnTo>
                    <a:pt x="204" y="200"/>
                  </a:lnTo>
                  <a:lnTo>
                    <a:pt x="204" y="118"/>
                  </a:lnTo>
                  <a:lnTo>
                    <a:pt x="245" y="56"/>
                  </a:lnTo>
                  <a:lnTo>
                    <a:pt x="315" y="0"/>
                  </a:lnTo>
                  <a:lnTo>
                    <a:pt x="335" y="37"/>
                  </a:lnTo>
                  <a:lnTo>
                    <a:pt x="383" y="56"/>
                  </a:lnTo>
                  <a:lnTo>
                    <a:pt x="404" y="99"/>
                  </a:lnTo>
                  <a:lnTo>
                    <a:pt x="404" y="118"/>
                  </a:lnTo>
                  <a:lnTo>
                    <a:pt x="294" y="161"/>
                  </a:lnTo>
                  <a:lnTo>
                    <a:pt x="177" y="200"/>
                  </a:lnTo>
                  <a:lnTo>
                    <a:pt x="225" y="219"/>
                  </a:lnTo>
                  <a:lnTo>
                    <a:pt x="245" y="219"/>
                  </a:lnTo>
                  <a:lnTo>
                    <a:pt x="294" y="219"/>
                  </a:lnTo>
                  <a:lnTo>
                    <a:pt x="315" y="219"/>
                  </a:lnTo>
                  <a:lnTo>
                    <a:pt x="356" y="243"/>
                  </a:lnTo>
                  <a:lnTo>
                    <a:pt x="445" y="262"/>
                  </a:lnTo>
                  <a:lnTo>
                    <a:pt x="472" y="281"/>
                  </a:lnTo>
                  <a:lnTo>
                    <a:pt x="492" y="281"/>
                  </a:lnTo>
                  <a:lnTo>
                    <a:pt x="534" y="361"/>
                  </a:lnTo>
                  <a:lnTo>
                    <a:pt x="561" y="442"/>
                  </a:lnTo>
                  <a:lnTo>
                    <a:pt x="534" y="504"/>
                  </a:lnTo>
                  <a:lnTo>
                    <a:pt x="492" y="542"/>
                  </a:lnTo>
                  <a:lnTo>
                    <a:pt x="356" y="605"/>
                  </a:lnTo>
                  <a:lnTo>
                    <a:pt x="204" y="643"/>
                  </a:lnTo>
                  <a:lnTo>
                    <a:pt x="157" y="685"/>
                  </a:lnTo>
                  <a:lnTo>
                    <a:pt x="88" y="723"/>
                  </a:lnTo>
                  <a:lnTo>
                    <a:pt x="47" y="742"/>
                  </a:lnTo>
                  <a:lnTo>
                    <a:pt x="26" y="723"/>
                  </a:lnTo>
                  <a:lnTo>
                    <a:pt x="0" y="685"/>
                  </a:lnTo>
                  <a:lnTo>
                    <a:pt x="88" y="643"/>
                  </a:lnTo>
                  <a:lnTo>
                    <a:pt x="157" y="643"/>
                  </a:lnTo>
                  <a:lnTo>
                    <a:pt x="225" y="624"/>
                  </a:lnTo>
                  <a:lnTo>
                    <a:pt x="315" y="581"/>
                  </a:lnTo>
                  <a:lnTo>
                    <a:pt x="356" y="542"/>
                  </a:lnTo>
                  <a:lnTo>
                    <a:pt x="356" y="523"/>
                  </a:lnTo>
                  <a:lnTo>
                    <a:pt x="383" y="542"/>
                  </a:lnTo>
                  <a:lnTo>
                    <a:pt x="424" y="581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095720" y="4427640"/>
              <a:ext cx="297360" cy="111600"/>
            </a:xfrm>
            <a:custGeom>
              <a:avLst/>
              <a:gdLst/>
              <a:ahLst/>
              <a:rect l="0" t="0" r="r" b="b"/>
              <a:pathLst>
                <a:path w="826" h="310">
                  <a:moveTo>
                    <a:pt x="625" y="67"/>
                  </a:moveTo>
                  <a:lnTo>
                    <a:pt x="559" y="136"/>
                  </a:lnTo>
                  <a:lnTo>
                    <a:pt x="513" y="174"/>
                  </a:lnTo>
                  <a:lnTo>
                    <a:pt x="468" y="106"/>
                  </a:lnTo>
                  <a:lnTo>
                    <a:pt x="403" y="37"/>
                  </a:lnTo>
                  <a:lnTo>
                    <a:pt x="201" y="106"/>
                  </a:lnTo>
                  <a:lnTo>
                    <a:pt x="0" y="211"/>
                  </a:lnTo>
                  <a:lnTo>
                    <a:pt x="20" y="310"/>
                  </a:lnTo>
                  <a:lnTo>
                    <a:pt x="90" y="310"/>
                  </a:lnTo>
                  <a:lnTo>
                    <a:pt x="247" y="310"/>
                  </a:lnTo>
                  <a:lnTo>
                    <a:pt x="267" y="280"/>
                  </a:lnTo>
                  <a:lnTo>
                    <a:pt x="332" y="242"/>
                  </a:lnTo>
                  <a:lnTo>
                    <a:pt x="378" y="211"/>
                  </a:lnTo>
                  <a:lnTo>
                    <a:pt x="403" y="211"/>
                  </a:lnTo>
                  <a:lnTo>
                    <a:pt x="448" y="242"/>
                  </a:lnTo>
                  <a:lnTo>
                    <a:pt x="513" y="280"/>
                  </a:lnTo>
                  <a:lnTo>
                    <a:pt x="559" y="310"/>
                  </a:lnTo>
                  <a:lnTo>
                    <a:pt x="579" y="310"/>
                  </a:lnTo>
                  <a:lnTo>
                    <a:pt x="645" y="310"/>
                  </a:lnTo>
                  <a:lnTo>
                    <a:pt x="715" y="280"/>
                  </a:lnTo>
                  <a:lnTo>
                    <a:pt x="736" y="211"/>
                  </a:lnTo>
                  <a:lnTo>
                    <a:pt x="801" y="67"/>
                  </a:lnTo>
                  <a:lnTo>
                    <a:pt x="826" y="37"/>
                  </a:lnTo>
                  <a:lnTo>
                    <a:pt x="826" y="0"/>
                  </a:lnTo>
                  <a:lnTo>
                    <a:pt x="801" y="37"/>
                  </a:lnTo>
                  <a:lnTo>
                    <a:pt x="761" y="67"/>
                  </a:lnTo>
                  <a:lnTo>
                    <a:pt x="715" y="174"/>
                  </a:lnTo>
                  <a:lnTo>
                    <a:pt x="670" y="242"/>
                  </a:lnTo>
                  <a:lnTo>
                    <a:pt x="645" y="242"/>
                  </a:lnTo>
                  <a:lnTo>
                    <a:pt x="625" y="242"/>
                  </a:lnTo>
                  <a:lnTo>
                    <a:pt x="625" y="174"/>
                  </a:lnTo>
                  <a:lnTo>
                    <a:pt x="625" y="67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084560" y="3657600"/>
              <a:ext cx="279720" cy="230400"/>
            </a:xfrm>
            <a:custGeom>
              <a:avLst/>
              <a:gdLst/>
              <a:ahLst/>
              <a:rect l="0" t="0" r="r" b="b"/>
              <a:pathLst>
                <a:path w="777" h="640">
                  <a:moveTo>
                    <a:pt x="648" y="604"/>
                  </a:moveTo>
                  <a:lnTo>
                    <a:pt x="629" y="427"/>
                  </a:lnTo>
                  <a:lnTo>
                    <a:pt x="629" y="267"/>
                  </a:lnTo>
                  <a:lnTo>
                    <a:pt x="629" y="194"/>
                  </a:lnTo>
                  <a:lnTo>
                    <a:pt x="586" y="122"/>
                  </a:lnTo>
                  <a:lnTo>
                    <a:pt x="543" y="54"/>
                  </a:lnTo>
                  <a:lnTo>
                    <a:pt x="462" y="0"/>
                  </a:lnTo>
                  <a:lnTo>
                    <a:pt x="481" y="122"/>
                  </a:lnTo>
                  <a:lnTo>
                    <a:pt x="524" y="176"/>
                  </a:lnTo>
                  <a:lnTo>
                    <a:pt x="567" y="249"/>
                  </a:lnTo>
                  <a:lnTo>
                    <a:pt x="396" y="336"/>
                  </a:lnTo>
                  <a:lnTo>
                    <a:pt x="228" y="390"/>
                  </a:lnTo>
                  <a:lnTo>
                    <a:pt x="185" y="372"/>
                  </a:lnTo>
                  <a:lnTo>
                    <a:pt x="147" y="354"/>
                  </a:lnTo>
                  <a:lnTo>
                    <a:pt x="104" y="322"/>
                  </a:lnTo>
                  <a:lnTo>
                    <a:pt x="42" y="267"/>
                  </a:lnTo>
                  <a:lnTo>
                    <a:pt x="19" y="213"/>
                  </a:lnTo>
                  <a:lnTo>
                    <a:pt x="0" y="194"/>
                  </a:lnTo>
                  <a:lnTo>
                    <a:pt x="0" y="267"/>
                  </a:lnTo>
                  <a:lnTo>
                    <a:pt x="19" y="303"/>
                  </a:lnTo>
                  <a:lnTo>
                    <a:pt x="80" y="372"/>
                  </a:lnTo>
                  <a:lnTo>
                    <a:pt x="185" y="390"/>
                  </a:lnTo>
                  <a:lnTo>
                    <a:pt x="314" y="409"/>
                  </a:lnTo>
                  <a:lnTo>
                    <a:pt x="357" y="427"/>
                  </a:lnTo>
                  <a:lnTo>
                    <a:pt x="376" y="445"/>
                  </a:lnTo>
                  <a:lnTo>
                    <a:pt x="420" y="481"/>
                  </a:lnTo>
                  <a:lnTo>
                    <a:pt x="439" y="517"/>
                  </a:lnTo>
                  <a:lnTo>
                    <a:pt x="462" y="549"/>
                  </a:lnTo>
                  <a:lnTo>
                    <a:pt x="500" y="567"/>
                  </a:lnTo>
                  <a:lnTo>
                    <a:pt x="567" y="517"/>
                  </a:lnTo>
                  <a:lnTo>
                    <a:pt x="586" y="481"/>
                  </a:lnTo>
                  <a:lnTo>
                    <a:pt x="605" y="427"/>
                  </a:lnTo>
                  <a:lnTo>
                    <a:pt x="629" y="354"/>
                  </a:lnTo>
                  <a:lnTo>
                    <a:pt x="605" y="322"/>
                  </a:lnTo>
                  <a:lnTo>
                    <a:pt x="605" y="322"/>
                  </a:lnTo>
                  <a:lnTo>
                    <a:pt x="586" y="336"/>
                  </a:lnTo>
                  <a:lnTo>
                    <a:pt x="543" y="372"/>
                  </a:lnTo>
                  <a:lnTo>
                    <a:pt x="524" y="427"/>
                  </a:lnTo>
                  <a:lnTo>
                    <a:pt x="605" y="517"/>
                  </a:lnTo>
                  <a:lnTo>
                    <a:pt x="648" y="536"/>
                  </a:lnTo>
                  <a:lnTo>
                    <a:pt x="691" y="549"/>
                  </a:lnTo>
                  <a:lnTo>
                    <a:pt x="710" y="567"/>
                  </a:lnTo>
                  <a:lnTo>
                    <a:pt x="753" y="585"/>
                  </a:lnTo>
                  <a:lnTo>
                    <a:pt x="777" y="585"/>
                  </a:lnTo>
                  <a:lnTo>
                    <a:pt x="777" y="604"/>
                  </a:lnTo>
                  <a:lnTo>
                    <a:pt x="734" y="622"/>
                  </a:lnTo>
                  <a:lnTo>
                    <a:pt x="691" y="622"/>
                  </a:lnTo>
                  <a:lnTo>
                    <a:pt x="586" y="622"/>
                  </a:lnTo>
                  <a:lnTo>
                    <a:pt x="586" y="640"/>
                  </a:lnTo>
                  <a:lnTo>
                    <a:pt x="567" y="640"/>
                  </a:lnTo>
                  <a:lnTo>
                    <a:pt x="543" y="640"/>
                  </a:lnTo>
                  <a:lnTo>
                    <a:pt x="543" y="640"/>
                  </a:lnTo>
                  <a:lnTo>
                    <a:pt x="605" y="622"/>
                  </a:lnTo>
                  <a:lnTo>
                    <a:pt x="648" y="604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83120" y="4800600"/>
              <a:ext cx="133560" cy="322560"/>
            </a:xfrm>
            <a:custGeom>
              <a:avLst/>
              <a:gdLst/>
              <a:ahLst/>
              <a:rect l="0" t="0" r="r" b="b"/>
              <a:pathLst>
                <a:path w="371" h="896">
                  <a:moveTo>
                    <a:pt x="186" y="22"/>
                  </a:moveTo>
                  <a:lnTo>
                    <a:pt x="165" y="114"/>
                  </a:lnTo>
                  <a:lnTo>
                    <a:pt x="121" y="187"/>
                  </a:lnTo>
                  <a:lnTo>
                    <a:pt x="63" y="397"/>
                  </a:lnTo>
                  <a:lnTo>
                    <a:pt x="0" y="613"/>
                  </a:lnTo>
                  <a:lnTo>
                    <a:pt x="19" y="681"/>
                  </a:lnTo>
                  <a:lnTo>
                    <a:pt x="63" y="731"/>
                  </a:lnTo>
                  <a:lnTo>
                    <a:pt x="102" y="777"/>
                  </a:lnTo>
                  <a:lnTo>
                    <a:pt x="165" y="823"/>
                  </a:lnTo>
                  <a:lnTo>
                    <a:pt x="230" y="850"/>
                  </a:lnTo>
                  <a:lnTo>
                    <a:pt x="269" y="850"/>
                  </a:lnTo>
                  <a:lnTo>
                    <a:pt x="269" y="873"/>
                  </a:lnTo>
                  <a:lnTo>
                    <a:pt x="269" y="896"/>
                  </a:lnTo>
                  <a:lnTo>
                    <a:pt x="230" y="896"/>
                  </a:lnTo>
                  <a:lnTo>
                    <a:pt x="165" y="873"/>
                  </a:lnTo>
                  <a:lnTo>
                    <a:pt x="165" y="658"/>
                  </a:lnTo>
                  <a:lnTo>
                    <a:pt x="146" y="635"/>
                  </a:lnTo>
                  <a:lnTo>
                    <a:pt x="146" y="613"/>
                  </a:lnTo>
                  <a:lnTo>
                    <a:pt x="186" y="590"/>
                  </a:lnTo>
                  <a:lnTo>
                    <a:pt x="249" y="539"/>
                  </a:lnTo>
                  <a:lnTo>
                    <a:pt x="312" y="517"/>
                  </a:lnTo>
                  <a:lnTo>
                    <a:pt x="351" y="517"/>
                  </a:lnTo>
                  <a:lnTo>
                    <a:pt x="371" y="471"/>
                  </a:lnTo>
                  <a:lnTo>
                    <a:pt x="371" y="424"/>
                  </a:lnTo>
                  <a:lnTo>
                    <a:pt x="351" y="397"/>
                  </a:lnTo>
                  <a:lnTo>
                    <a:pt x="288" y="374"/>
                  </a:lnTo>
                  <a:lnTo>
                    <a:pt x="249" y="397"/>
                  </a:lnTo>
                  <a:lnTo>
                    <a:pt x="230" y="447"/>
                  </a:lnTo>
                  <a:lnTo>
                    <a:pt x="186" y="517"/>
                  </a:lnTo>
                  <a:lnTo>
                    <a:pt x="121" y="447"/>
                  </a:lnTo>
                  <a:lnTo>
                    <a:pt x="102" y="424"/>
                  </a:lnTo>
                  <a:lnTo>
                    <a:pt x="146" y="374"/>
                  </a:lnTo>
                  <a:lnTo>
                    <a:pt x="205" y="328"/>
                  </a:lnTo>
                  <a:lnTo>
                    <a:pt x="230" y="306"/>
                  </a:lnTo>
                  <a:lnTo>
                    <a:pt x="249" y="283"/>
                  </a:lnTo>
                  <a:lnTo>
                    <a:pt x="332" y="0"/>
                  </a:lnTo>
                  <a:lnTo>
                    <a:pt x="312" y="45"/>
                  </a:lnTo>
                  <a:lnTo>
                    <a:pt x="249" y="91"/>
                  </a:lnTo>
                  <a:lnTo>
                    <a:pt x="205" y="91"/>
                  </a:lnTo>
                  <a:lnTo>
                    <a:pt x="186" y="68"/>
                  </a:lnTo>
                  <a:lnTo>
                    <a:pt x="186" y="22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451400" y="5162400"/>
              <a:ext cx="105120" cy="235440"/>
            </a:xfrm>
            <a:custGeom>
              <a:avLst/>
              <a:gdLst/>
              <a:ahLst/>
              <a:rect l="0" t="0" r="r" b="b"/>
              <a:pathLst>
                <a:path w="292" h="654">
                  <a:moveTo>
                    <a:pt x="145" y="97"/>
                  </a:moveTo>
                  <a:lnTo>
                    <a:pt x="104" y="169"/>
                  </a:lnTo>
                  <a:lnTo>
                    <a:pt x="81" y="218"/>
                  </a:lnTo>
                  <a:lnTo>
                    <a:pt x="63" y="267"/>
                  </a:lnTo>
                  <a:lnTo>
                    <a:pt x="40" y="338"/>
                  </a:lnTo>
                  <a:lnTo>
                    <a:pt x="22" y="387"/>
                  </a:lnTo>
                  <a:lnTo>
                    <a:pt x="0" y="436"/>
                  </a:lnTo>
                  <a:lnTo>
                    <a:pt x="0" y="436"/>
                  </a:lnTo>
                  <a:lnTo>
                    <a:pt x="40" y="508"/>
                  </a:lnTo>
                  <a:lnTo>
                    <a:pt x="81" y="583"/>
                  </a:lnTo>
                  <a:lnTo>
                    <a:pt x="210" y="654"/>
                  </a:lnTo>
                  <a:lnTo>
                    <a:pt x="169" y="605"/>
                  </a:lnTo>
                  <a:lnTo>
                    <a:pt x="145" y="556"/>
                  </a:lnTo>
                  <a:lnTo>
                    <a:pt x="145" y="534"/>
                  </a:lnTo>
                  <a:lnTo>
                    <a:pt x="187" y="458"/>
                  </a:lnTo>
                  <a:lnTo>
                    <a:pt x="145" y="436"/>
                  </a:lnTo>
                  <a:lnTo>
                    <a:pt x="145" y="387"/>
                  </a:lnTo>
                  <a:lnTo>
                    <a:pt x="169" y="365"/>
                  </a:lnTo>
                  <a:lnTo>
                    <a:pt x="210" y="338"/>
                  </a:lnTo>
                  <a:lnTo>
                    <a:pt x="251" y="289"/>
                  </a:lnTo>
                  <a:lnTo>
                    <a:pt x="292" y="240"/>
                  </a:lnTo>
                  <a:lnTo>
                    <a:pt x="292" y="218"/>
                  </a:lnTo>
                  <a:lnTo>
                    <a:pt x="292" y="169"/>
                  </a:lnTo>
                  <a:lnTo>
                    <a:pt x="273" y="97"/>
                  </a:lnTo>
                  <a:lnTo>
                    <a:pt x="210" y="26"/>
                  </a:lnTo>
                  <a:lnTo>
                    <a:pt x="169" y="0"/>
                  </a:lnTo>
                  <a:lnTo>
                    <a:pt x="169" y="26"/>
                  </a:lnTo>
                  <a:lnTo>
                    <a:pt x="145" y="48"/>
                  </a:lnTo>
                  <a:lnTo>
                    <a:pt x="145" y="97"/>
                  </a:lnTo>
                  <a:lnTo>
                    <a:pt x="145" y="119"/>
                  </a:lnTo>
                  <a:lnTo>
                    <a:pt x="145" y="119"/>
                  </a:lnTo>
                  <a:lnTo>
                    <a:pt x="145" y="97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54480" y="4334040"/>
              <a:ext cx="520920" cy="306720"/>
            </a:xfrm>
            <a:custGeom>
              <a:avLst/>
              <a:gdLst/>
              <a:ahLst/>
              <a:rect l="0" t="0" r="r" b="b"/>
              <a:pathLst>
                <a:path w="1447" h="852">
                  <a:moveTo>
                    <a:pt x="833" y="197"/>
                  </a:moveTo>
                  <a:lnTo>
                    <a:pt x="792" y="389"/>
                  </a:lnTo>
                  <a:lnTo>
                    <a:pt x="746" y="488"/>
                  </a:lnTo>
                  <a:lnTo>
                    <a:pt x="677" y="561"/>
                  </a:lnTo>
                  <a:lnTo>
                    <a:pt x="591" y="535"/>
                  </a:lnTo>
                  <a:lnTo>
                    <a:pt x="550" y="509"/>
                  </a:lnTo>
                  <a:lnTo>
                    <a:pt x="482" y="509"/>
                  </a:lnTo>
                  <a:lnTo>
                    <a:pt x="395" y="535"/>
                  </a:lnTo>
                  <a:lnTo>
                    <a:pt x="309" y="608"/>
                  </a:lnTo>
                  <a:lnTo>
                    <a:pt x="200" y="634"/>
                  </a:lnTo>
                  <a:lnTo>
                    <a:pt x="0" y="732"/>
                  </a:lnTo>
                  <a:lnTo>
                    <a:pt x="0" y="779"/>
                  </a:lnTo>
                  <a:lnTo>
                    <a:pt x="22" y="826"/>
                  </a:lnTo>
                  <a:lnTo>
                    <a:pt x="109" y="852"/>
                  </a:lnTo>
                  <a:lnTo>
                    <a:pt x="218" y="826"/>
                  </a:lnTo>
                  <a:lnTo>
                    <a:pt x="309" y="805"/>
                  </a:lnTo>
                  <a:lnTo>
                    <a:pt x="527" y="732"/>
                  </a:lnTo>
                  <a:lnTo>
                    <a:pt x="724" y="634"/>
                  </a:lnTo>
                  <a:lnTo>
                    <a:pt x="792" y="634"/>
                  </a:lnTo>
                  <a:lnTo>
                    <a:pt x="856" y="660"/>
                  </a:lnTo>
                  <a:lnTo>
                    <a:pt x="919" y="680"/>
                  </a:lnTo>
                  <a:lnTo>
                    <a:pt x="965" y="732"/>
                  </a:lnTo>
                  <a:lnTo>
                    <a:pt x="1051" y="779"/>
                  </a:lnTo>
                  <a:lnTo>
                    <a:pt x="1074" y="732"/>
                  </a:lnTo>
                  <a:lnTo>
                    <a:pt x="1097" y="706"/>
                  </a:lnTo>
                  <a:lnTo>
                    <a:pt x="1142" y="706"/>
                  </a:lnTo>
                  <a:lnTo>
                    <a:pt x="1206" y="706"/>
                  </a:lnTo>
                  <a:lnTo>
                    <a:pt x="1251" y="706"/>
                  </a:lnTo>
                  <a:lnTo>
                    <a:pt x="1292" y="660"/>
                  </a:lnTo>
                  <a:lnTo>
                    <a:pt x="1338" y="561"/>
                  </a:lnTo>
                  <a:lnTo>
                    <a:pt x="1383" y="436"/>
                  </a:lnTo>
                  <a:lnTo>
                    <a:pt x="1424" y="316"/>
                  </a:lnTo>
                  <a:lnTo>
                    <a:pt x="1447" y="269"/>
                  </a:lnTo>
                  <a:lnTo>
                    <a:pt x="1447" y="243"/>
                  </a:lnTo>
                  <a:lnTo>
                    <a:pt x="1383" y="217"/>
                  </a:lnTo>
                  <a:lnTo>
                    <a:pt x="1292" y="197"/>
                  </a:lnTo>
                  <a:lnTo>
                    <a:pt x="1206" y="171"/>
                  </a:lnTo>
                  <a:lnTo>
                    <a:pt x="1160" y="171"/>
                  </a:lnTo>
                  <a:lnTo>
                    <a:pt x="1119" y="145"/>
                  </a:lnTo>
                  <a:lnTo>
                    <a:pt x="1051" y="124"/>
                  </a:lnTo>
                  <a:lnTo>
                    <a:pt x="1051" y="72"/>
                  </a:lnTo>
                  <a:lnTo>
                    <a:pt x="1033" y="25"/>
                  </a:lnTo>
                  <a:lnTo>
                    <a:pt x="942" y="0"/>
                  </a:lnTo>
                  <a:lnTo>
                    <a:pt x="833" y="0"/>
                  </a:lnTo>
                  <a:lnTo>
                    <a:pt x="746" y="0"/>
                  </a:lnTo>
                  <a:lnTo>
                    <a:pt x="769" y="51"/>
                  </a:lnTo>
                  <a:lnTo>
                    <a:pt x="769" y="72"/>
                  </a:lnTo>
                  <a:lnTo>
                    <a:pt x="833" y="197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4114800" y="3276720"/>
            <a:ext cx="914760" cy="991080"/>
          </a:xfrm>
          <a:custGeom>
            <a:avLst/>
            <a:gdLst/>
            <a:ahLst/>
            <a:rect l="0" t="0" r="r" b="b"/>
            <a:pathLst>
              <a:path w="2541" h="2753">
                <a:moveTo>
                  <a:pt x="1633" y="58"/>
                </a:moveTo>
                <a:lnTo>
                  <a:pt x="1475" y="283"/>
                </a:lnTo>
                <a:lnTo>
                  <a:pt x="1570" y="1008"/>
                </a:lnTo>
                <a:lnTo>
                  <a:pt x="1580" y="1568"/>
                </a:lnTo>
                <a:lnTo>
                  <a:pt x="0" y="2143"/>
                </a:lnTo>
                <a:lnTo>
                  <a:pt x="566" y="2753"/>
                </a:lnTo>
                <a:lnTo>
                  <a:pt x="2541" y="1895"/>
                </a:lnTo>
                <a:lnTo>
                  <a:pt x="2357" y="445"/>
                </a:lnTo>
                <a:lnTo>
                  <a:pt x="2189" y="110"/>
                </a:lnTo>
                <a:lnTo>
                  <a:pt x="1869" y="0"/>
                </a:lnTo>
                <a:lnTo>
                  <a:pt x="1633" y="58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14800" y="4005360"/>
            <a:ext cx="362160" cy="638640"/>
          </a:xfrm>
          <a:custGeom>
            <a:avLst/>
            <a:gdLst/>
            <a:ahLst/>
            <a:rect l="0" t="0" r="r" b="b"/>
            <a:pathLst>
              <a:path w="1006" h="1774">
                <a:moveTo>
                  <a:pt x="253" y="84"/>
                </a:moveTo>
                <a:lnTo>
                  <a:pt x="314" y="22"/>
                </a:lnTo>
                <a:lnTo>
                  <a:pt x="375" y="0"/>
                </a:lnTo>
                <a:lnTo>
                  <a:pt x="415" y="22"/>
                </a:lnTo>
                <a:lnTo>
                  <a:pt x="493" y="40"/>
                </a:lnTo>
                <a:lnTo>
                  <a:pt x="551" y="22"/>
                </a:lnTo>
                <a:lnTo>
                  <a:pt x="612" y="0"/>
                </a:lnTo>
                <a:lnTo>
                  <a:pt x="669" y="0"/>
                </a:lnTo>
                <a:lnTo>
                  <a:pt x="748" y="0"/>
                </a:lnTo>
                <a:lnTo>
                  <a:pt x="748" y="102"/>
                </a:lnTo>
                <a:lnTo>
                  <a:pt x="709" y="146"/>
                </a:lnTo>
                <a:lnTo>
                  <a:pt x="669" y="169"/>
                </a:lnTo>
                <a:lnTo>
                  <a:pt x="691" y="249"/>
                </a:lnTo>
                <a:lnTo>
                  <a:pt x="709" y="311"/>
                </a:lnTo>
                <a:lnTo>
                  <a:pt x="731" y="396"/>
                </a:lnTo>
                <a:lnTo>
                  <a:pt x="787" y="459"/>
                </a:lnTo>
                <a:lnTo>
                  <a:pt x="787" y="606"/>
                </a:lnTo>
                <a:lnTo>
                  <a:pt x="770" y="669"/>
                </a:lnTo>
                <a:lnTo>
                  <a:pt x="731" y="731"/>
                </a:lnTo>
                <a:lnTo>
                  <a:pt x="770" y="793"/>
                </a:lnTo>
                <a:lnTo>
                  <a:pt x="849" y="896"/>
                </a:lnTo>
                <a:lnTo>
                  <a:pt x="927" y="1003"/>
                </a:lnTo>
                <a:lnTo>
                  <a:pt x="967" y="1065"/>
                </a:lnTo>
                <a:lnTo>
                  <a:pt x="984" y="1127"/>
                </a:lnTo>
                <a:lnTo>
                  <a:pt x="1006" y="1167"/>
                </a:lnTo>
                <a:lnTo>
                  <a:pt x="1006" y="1167"/>
                </a:lnTo>
                <a:lnTo>
                  <a:pt x="984" y="1338"/>
                </a:lnTo>
                <a:lnTo>
                  <a:pt x="967" y="1480"/>
                </a:lnTo>
                <a:lnTo>
                  <a:pt x="945" y="1627"/>
                </a:lnTo>
                <a:lnTo>
                  <a:pt x="888" y="1774"/>
                </a:lnTo>
                <a:lnTo>
                  <a:pt x="888" y="1672"/>
                </a:lnTo>
                <a:lnTo>
                  <a:pt x="888" y="1627"/>
                </a:lnTo>
                <a:lnTo>
                  <a:pt x="888" y="1609"/>
                </a:lnTo>
                <a:lnTo>
                  <a:pt x="866" y="1525"/>
                </a:lnTo>
                <a:lnTo>
                  <a:pt x="866" y="1480"/>
                </a:lnTo>
                <a:lnTo>
                  <a:pt x="866" y="1440"/>
                </a:lnTo>
                <a:lnTo>
                  <a:pt x="888" y="1378"/>
                </a:lnTo>
                <a:lnTo>
                  <a:pt x="888" y="1356"/>
                </a:lnTo>
                <a:lnTo>
                  <a:pt x="888" y="1338"/>
                </a:lnTo>
                <a:lnTo>
                  <a:pt x="866" y="1190"/>
                </a:lnTo>
                <a:lnTo>
                  <a:pt x="827" y="1127"/>
                </a:lnTo>
                <a:lnTo>
                  <a:pt x="770" y="1087"/>
                </a:lnTo>
                <a:lnTo>
                  <a:pt x="709" y="1020"/>
                </a:lnTo>
                <a:lnTo>
                  <a:pt x="669" y="940"/>
                </a:lnTo>
                <a:lnTo>
                  <a:pt x="630" y="980"/>
                </a:lnTo>
                <a:lnTo>
                  <a:pt x="573" y="1003"/>
                </a:lnTo>
                <a:lnTo>
                  <a:pt x="512" y="1020"/>
                </a:lnTo>
                <a:lnTo>
                  <a:pt x="493" y="1043"/>
                </a:lnTo>
                <a:lnTo>
                  <a:pt x="472" y="1043"/>
                </a:lnTo>
                <a:lnTo>
                  <a:pt x="472" y="1003"/>
                </a:lnTo>
                <a:lnTo>
                  <a:pt x="472" y="958"/>
                </a:lnTo>
                <a:lnTo>
                  <a:pt x="472" y="918"/>
                </a:lnTo>
                <a:lnTo>
                  <a:pt x="472" y="896"/>
                </a:lnTo>
                <a:lnTo>
                  <a:pt x="493" y="856"/>
                </a:lnTo>
                <a:lnTo>
                  <a:pt x="512" y="816"/>
                </a:lnTo>
                <a:lnTo>
                  <a:pt x="512" y="816"/>
                </a:lnTo>
                <a:lnTo>
                  <a:pt x="512" y="833"/>
                </a:lnTo>
                <a:lnTo>
                  <a:pt x="512" y="856"/>
                </a:lnTo>
                <a:lnTo>
                  <a:pt x="493" y="878"/>
                </a:lnTo>
                <a:lnTo>
                  <a:pt x="454" y="878"/>
                </a:lnTo>
                <a:lnTo>
                  <a:pt x="415" y="878"/>
                </a:lnTo>
                <a:lnTo>
                  <a:pt x="393" y="856"/>
                </a:lnTo>
                <a:lnTo>
                  <a:pt x="375" y="856"/>
                </a:lnTo>
                <a:lnTo>
                  <a:pt x="354" y="878"/>
                </a:lnTo>
                <a:lnTo>
                  <a:pt x="336" y="878"/>
                </a:lnTo>
                <a:lnTo>
                  <a:pt x="236" y="816"/>
                </a:lnTo>
                <a:lnTo>
                  <a:pt x="214" y="896"/>
                </a:lnTo>
                <a:lnTo>
                  <a:pt x="174" y="918"/>
                </a:lnTo>
                <a:lnTo>
                  <a:pt x="135" y="896"/>
                </a:lnTo>
                <a:lnTo>
                  <a:pt x="56" y="878"/>
                </a:lnTo>
                <a:lnTo>
                  <a:pt x="17" y="833"/>
                </a:lnTo>
                <a:lnTo>
                  <a:pt x="0" y="793"/>
                </a:lnTo>
                <a:lnTo>
                  <a:pt x="17" y="771"/>
                </a:lnTo>
                <a:lnTo>
                  <a:pt x="39" y="771"/>
                </a:lnTo>
                <a:lnTo>
                  <a:pt x="56" y="771"/>
                </a:lnTo>
                <a:lnTo>
                  <a:pt x="56" y="771"/>
                </a:lnTo>
                <a:lnTo>
                  <a:pt x="157" y="816"/>
                </a:lnTo>
                <a:lnTo>
                  <a:pt x="196" y="816"/>
                </a:lnTo>
                <a:lnTo>
                  <a:pt x="236" y="816"/>
                </a:lnTo>
                <a:lnTo>
                  <a:pt x="253" y="816"/>
                </a:lnTo>
                <a:lnTo>
                  <a:pt x="236" y="793"/>
                </a:lnTo>
                <a:lnTo>
                  <a:pt x="196" y="771"/>
                </a:lnTo>
                <a:lnTo>
                  <a:pt x="174" y="753"/>
                </a:lnTo>
                <a:lnTo>
                  <a:pt x="174" y="731"/>
                </a:lnTo>
                <a:lnTo>
                  <a:pt x="196" y="691"/>
                </a:lnTo>
                <a:lnTo>
                  <a:pt x="214" y="629"/>
                </a:lnTo>
                <a:lnTo>
                  <a:pt x="236" y="606"/>
                </a:lnTo>
                <a:lnTo>
                  <a:pt x="236" y="544"/>
                </a:lnTo>
                <a:lnTo>
                  <a:pt x="236" y="459"/>
                </a:lnTo>
                <a:lnTo>
                  <a:pt x="236" y="374"/>
                </a:lnTo>
                <a:lnTo>
                  <a:pt x="236" y="311"/>
                </a:lnTo>
                <a:lnTo>
                  <a:pt x="196" y="249"/>
                </a:lnTo>
                <a:lnTo>
                  <a:pt x="174" y="231"/>
                </a:lnTo>
                <a:lnTo>
                  <a:pt x="157" y="209"/>
                </a:lnTo>
                <a:lnTo>
                  <a:pt x="196" y="169"/>
                </a:lnTo>
                <a:lnTo>
                  <a:pt x="196" y="146"/>
                </a:lnTo>
                <a:lnTo>
                  <a:pt x="214" y="146"/>
                </a:lnTo>
                <a:lnTo>
                  <a:pt x="253" y="84"/>
                </a:lnTo>
                <a:close/>
              </a:path>
            </a:pathLst>
          </a:custGeom>
          <a:solidFill>
            <a:srgbClr val="e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80880" y="22860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terally 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3165480" y="3233880"/>
            <a:ext cx="993960" cy="1183320"/>
            <a:chOff x="3165480" y="3233880"/>
            <a:chExt cx="993960" cy="1183320"/>
          </a:xfrm>
        </p:grpSpPr>
        <p:sp>
          <p:nvSpPr>
            <p:cNvPr id="224" name=""/>
            <p:cNvSpPr/>
            <p:nvPr/>
          </p:nvSpPr>
          <p:spPr>
            <a:xfrm>
              <a:off x="3165480" y="4127400"/>
              <a:ext cx="302040" cy="289800"/>
            </a:xfrm>
            <a:custGeom>
              <a:avLst/>
              <a:gdLst/>
              <a:ahLst/>
              <a:rect l="0" t="0" r="r" b="b"/>
              <a:pathLst>
                <a:path w="839" h="805">
                  <a:moveTo>
                    <a:pt x="38" y="216"/>
                  </a:moveTo>
                  <a:lnTo>
                    <a:pt x="38" y="216"/>
                  </a:lnTo>
                  <a:cubicBezTo>
                    <a:pt x="8" y="279"/>
                    <a:pt x="-5" y="349"/>
                    <a:pt x="2" y="419"/>
                  </a:cubicBezTo>
                  <a:cubicBezTo>
                    <a:pt x="9" y="490"/>
                    <a:pt x="35" y="558"/>
                    <a:pt x="78" y="618"/>
                  </a:cubicBezTo>
                  <a:cubicBezTo>
                    <a:pt x="121" y="677"/>
                    <a:pt x="178" y="726"/>
                    <a:pt x="245" y="759"/>
                  </a:cubicBezTo>
                  <a:cubicBezTo>
                    <a:pt x="312" y="791"/>
                    <a:pt x="386" y="807"/>
                    <a:pt x="459" y="804"/>
                  </a:cubicBezTo>
                  <a:cubicBezTo>
                    <a:pt x="533" y="801"/>
                    <a:pt x="603" y="779"/>
                    <a:pt x="663" y="741"/>
                  </a:cubicBezTo>
                  <a:cubicBezTo>
                    <a:pt x="723" y="703"/>
                    <a:pt x="770" y="650"/>
                    <a:pt x="801" y="588"/>
                  </a:cubicBezTo>
                  <a:lnTo>
                    <a:pt x="801" y="588"/>
                  </a:lnTo>
                  <a:lnTo>
                    <a:pt x="801" y="588"/>
                  </a:lnTo>
                  <a:cubicBezTo>
                    <a:pt x="831" y="525"/>
                    <a:pt x="844" y="455"/>
                    <a:pt x="837" y="385"/>
                  </a:cubicBezTo>
                  <a:cubicBezTo>
                    <a:pt x="830" y="314"/>
                    <a:pt x="804" y="246"/>
                    <a:pt x="761" y="186"/>
                  </a:cubicBezTo>
                  <a:cubicBezTo>
                    <a:pt x="718" y="127"/>
                    <a:pt x="661" y="78"/>
                    <a:pt x="594" y="45"/>
                  </a:cubicBezTo>
                  <a:cubicBezTo>
                    <a:pt x="527" y="13"/>
                    <a:pt x="453" y="-3"/>
                    <a:pt x="380" y="0"/>
                  </a:cubicBezTo>
                  <a:cubicBezTo>
                    <a:pt x="306" y="3"/>
                    <a:pt x="236" y="25"/>
                    <a:pt x="176" y="63"/>
                  </a:cubicBezTo>
                  <a:cubicBezTo>
                    <a:pt x="116" y="101"/>
                    <a:pt x="69" y="154"/>
                    <a:pt x="38" y="216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244680" y="3233880"/>
              <a:ext cx="914760" cy="991080"/>
            </a:xfrm>
            <a:custGeom>
              <a:avLst/>
              <a:gdLst/>
              <a:ahLst/>
              <a:rect l="0" t="0" r="r" b="b"/>
              <a:pathLst>
                <a:path w="2541" h="2753">
                  <a:moveTo>
                    <a:pt x="2530" y="505"/>
                  </a:moveTo>
                  <a:lnTo>
                    <a:pt x="2334" y="726"/>
                  </a:lnTo>
                  <a:lnTo>
                    <a:pt x="1572" y="918"/>
                  </a:lnTo>
                  <a:lnTo>
                    <a:pt x="1000" y="1114"/>
                  </a:lnTo>
                  <a:lnTo>
                    <a:pt x="745" y="2753"/>
                  </a:lnTo>
                  <a:lnTo>
                    <a:pt x="0" y="2469"/>
                  </a:lnTo>
                  <a:lnTo>
                    <a:pt x="462" y="372"/>
                  </a:lnTo>
                  <a:lnTo>
                    <a:pt x="1985" y="0"/>
                  </a:lnTo>
                  <a:lnTo>
                    <a:pt x="2361" y="24"/>
                  </a:lnTo>
                  <a:lnTo>
                    <a:pt x="2541" y="269"/>
                  </a:lnTo>
                  <a:lnTo>
                    <a:pt x="2530" y="505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2463840" y="6146640"/>
            <a:ext cx="3670560" cy="344880"/>
          </a:xfrm>
          <a:custGeom>
            <a:avLst/>
            <a:gdLst/>
            <a:ahLst/>
            <a:rect l="0" t="0" r="r" b="b"/>
            <a:pathLst>
              <a:path w="10196" h="958">
                <a:moveTo>
                  <a:pt x="3764" y="216"/>
                </a:moveTo>
                <a:lnTo>
                  <a:pt x="3654" y="246"/>
                </a:lnTo>
                <a:lnTo>
                  <a:pt x="3570" y="246"/>
                </a:lnTo>
                <a:lnTo>
                  <a:pt x="3517" y="246"/>
                </a:lnTo>
                <a:lnTo>
                  <a:pt x="3407" y="216"/>
                </a:lnTo>
                <a:lnTo>
                  <a:pt x="3354" y="183"/>
                </a:lnTo>
                <a:lnTo>
                  <a:pt x="3297" y="183"/>
                </a:lnTo>
                <a:lnTo>
                  <a:pt x="3244" y="155"/>
                </a:lnTo>
                <a:lnTo>
                  <a:pt x="3217" y="155"/>
                </a:lnTo>
                <a:lnTo>
                  <a:pt x="2997" y="246"/>
                </a:lnTo>
                <a:lnTo>
                  <a:pt x="2781" y="340"/>
                </a:lnTo>
                <a:lnTo>
                  <a:pt x="2508" y="216"/>
                </a:lnTo>
                <a:lnTo>
                  <a:pt x="2208" y="94"/>
                </a:lnTo>
                <a:lnTo>
                  <a:pt x="2128" y="61"/>
                </a:lnTo>
                <a:lnTo>
                  <a:pt x="2098" y="61"/>
                </a:lnTo>
                <a:lnTo>
                  <a:pt x="2071" y="61"/>
                </a:lnTo>
                <a:lnTo>
                  <a:pt x="2045" y="94"/>
                </a:lnTo>
                <a:lnTo>
                  <a:pt x="762" y="279"/>
                </a:lnTo>
                <a:lnTo>
                  <a:pt x="357" y="524"/>
                </a:lnTo>
                <a:lnTo>
                  <a:pt x="273" y="646"/>
                </a:lnTo>
                <a:lnTo>
                  <a:pt x="246" y="679"/>
                </a:lnTo>
                <a:lnTo>
                  <a:pt x="246" y="679"/>
                </a:lnTo>
                <a:lnTo>
                  <a:pt x="273" y="646"/>
                </a:lnTo>
                <a:lnTo>
                  <a:pt x="326" y="585"/>
                </a:lnTo>
                <a:lnTo>
                  <a:pt x="357" y="585"/>
                </a:lnTo>
                <a:lnTo>
                  <a:pt x="357" y="618"/>
                </a:lnTo>
                <a:lnTo>
                  <a:pt x="357" y="742"/>
                </a:lnTo>
                <a:lnTo>
                  <a:pt x="299" y="803"/>
                </a:lnTo>
                <a:lnTo>
                  <a:pt x="189" y="836"/>
                </a:lnTo>
                <a:lnTo>
                  <a:pt x="83" y="864"/>
                </a:lnTo>
                <a:lnTo>
                  <a:pt x="0" y="897"/>
                </a:lnTo>
                <a:lnTo>
                  <a:pt x="110" y="958"/>
                </a:lnTo>
                <a:lnTo>
                  <a:pt x="189" y="958"/>
                </a:lnTo>
                <a:lnTo>
                  <a:pt x="273" y="925"/>
                </a:lnTo>
                <a:lnTo>
                  <a:pt x="383" y="897"/>
                </a:lnTo>
                <a:lnTo>
                  <a:pt x="489" y="742"/>
                </a:lnTo>
                <a:lnTo>
                  <a:pt x="573" y="679"/>
                </a:lnTo>
                <a:lnTo>
                  <a:pt x="656" y="679"/>
                </a:lnTo>
                <a:lnTo>
                  <a:pt x="819" y="742"/>
                </a:lnTo>
                <a:lnTo>
                  <a:pt x="899" y="864"/>
                </a:lnTo>
                <a:lnTo>
                  <a:pt x="982" y="897"/>
                </a:lnTo>
                <a:lnTo>
                  <a:pt x="1093" y="864"/>
                </a:lnTo>
                <a:lnTo>
                  <a:pt x="1198" y="775"/>
                </a:lnTo>
                <a:lnTo>
                  <a:pt x="1282" y="679"/>
                </a:lnTo>
                <a:lnTo>
                  <a:pt x="1362" y="679"/>
                </a:lnTo>
                <a:lnTo>
                  <a:pt x="1445" y="712"/>
                </a:lnTo>
                <a:lnTo>
                  <a:pt x="1555" y="775"/>
                </a:lnTo>
                <a:lnTo>
                  <a:pt x="1829" y="712"/>
                </a:lnTo>
                <a:lnTo>
                  <a:pt x="2128" y="679"/>
                </a:lnTo>
                <a:lnTo>
                  <a:pt x="2481" y="742"/>
                </a:lnTo>
                <a:lnTo>
                  <a:pt x="2671" y="742"/>
                </a:lnTo>
                <a:lnTo>
                  <a:pt x="2917" y="712"/>
                </a:lnTo>
                <a:lnTo>
                  <a:pt x="3133" y="679"/>
                </a:lnTo>
                <a:lnTo>
                  <a:pt x="3217" y="712"/>
                </a:lnTo>
                <a:lnTo>
                  <a:pt x="3270" y="742"/>
                </a:lnTo>
                <a:lnTo>
                  <a:pt x="3270" y="742"/>
                </a:lnTo>
                <a:lnTo>
                  <a:pt x="3517" y="958"/>
                </a:lnTo>
                <a:lnTo>
                  <a:pt x="3953" y="742"/>
                </a:lnTo>
                <a:lnTo>
                  <a:pt x="4579" y="742"/>
                </a:lnTo>
                <a:lnTo>
                  <a:pt x="5016" y="742"/>
                </a:lnTo>
                <a:lnTo>
                  <a:pt x="5068" y="864"/>
                </a:lnTo>
                <a:lnTo>
                  <a:pt x="5127" y="925"/>
                </a:lnTo>
                <a:lnTo>
                  <a:pt x="5237" y="958"/>
                </a:lnTo>
                <a:lnTo>
                  <a:pt x="5369" y="925"/>
                </a:lnTo>
                <a:lnTo>
                  <a:pt x="5479" y="897"/>
                </a:lnTo>
                <a:lnTo>
                  <a:pt x="5537" y="864"/>
                </a:lnTo>
                <a:lnTo>
                  <a:pt x="5590" y="897"/>
                </a:lnTo>
                <a:lnTo>
                  <a:pt x="5669" y="958"/>
                </a:lnTo>
                <a:lnTo>
                  <a:pt x="5779" y="958"/>
                </a:lnTo>
                <a:lnTo>
                  <a:pt x="5863" y="925"/>
                </a:lnTo>
                <a:lnTo>
                  <a:pt x="5916" y="925"/>
                </a:lnTo>
                <a:lnTo>
                  <a:pt x="5969" y="897"/>
                </a:lnTo>
                <a:lnTo>
                  <a:pt x="6026" y="864"/>
                </a:lnTo>
                <a:lnTo>
                  <a:pt x="6052" y="864"/>
                </a:lnTo>
                <a:lnTo>
                  <a:pt x="6326" y="897"/>
                </a:lnTo>
                <a:lnTo>
                  <a:pt x="6573" y="836"/>
                </a:lnTo>
                <a:lnTo>
                  <a:pt x="6736" y="897"/>
                </a:lnTo>
                <a:lnTo>
                  <a:pt x="6872" y="925"/>
                </a:lnTo>
                <a:lnTo>
                  <a:pt x="6952" y="958"/>
                </a:lnTo>
                <a:lnTo>
                  <a:pt x="6978" y="958"/>
                </a:lnTo>
                <a:lnTo>
                  <a:pt x="7088" y="925"/>
                </a:lnTo>
                <a:lnTo>
                  <a:pt x="7198" y="897"/>
                </a:lnTo>
                <a:lnTo>
                  <a:pt x="7251" y="897"/>
                </a:lnTo>
                <a:lnTo>
                  <a:pt x="7304" y="864"/>
                </a:lnTo>
                <a:lnTo>
                  <a:pt x="7304" y="864"/>
                </a:lnTo>
                <a:lnTo>
                  <a:pt x="7551" y="925"/>
                </a:lnTo>
                <a:lnTo>
                  <a:pt x="7688" y="958"/>
                </a:lnTo>
                <a:lnTo>
                  <a:pt x="7798" y="925"/>
                </a:lnTo>
                <a:lnTo>
                  <a:pt x="7908" y="897"/>
                </a:lnTo>
                <a:lnTo>
                  <a:pt x="8014" y="864"/>
                </a:lnTo>
                <a:lnTo>
                  <a:pt x="8124" y="836"/>
                </a:lnTo>
                <a:lnTo>
                  <a:pt x="8151" y="836"/>
                </a:lnTo>
                <a:lnTo>
                  <a:pt x="8450" y="897"/>
                </a:lnTo>
                <a:lnTo>
                  <a:pt x="8587" y="897"/>
                </a:lnTo>
                <a:lnTo>
                  <a:pt x="8724" y="864"/>
                </a:lnTo>
                <a:lnTo>
                  <a:pt x="8944" y="864"/>
                </a:lnTo>
                <a:lnTo>
                  <a:pt x="9160" y="836"/>
                </a:lnTo>
                <a:lnTo>
                  <a:pt x="9213" y="775"/>
                </a:lnTo>
                <a:lnTo>
                  <a:pt x="9270" y="712"/>
                </a:lnTo>
                <a:lnTo>
                  <a:pt x="9433" y="679"/>
                </a:lnTo>
                <a:lnTo>
                  <a:pt x="9596" y="679"/>
                </a:lnTo>
                <a:lnTo>
                  <a:pt x="9759" y="712"/>
                </a:lnTo>
                <a:lnTo>
                  <a:pt x="9896" y="712"/>
                </a:lnTo>
                <a:lnTo>
                  <a:pt x="10033" y="679"/>
                </a:lnTo>
                <a:lnTo>
                  <a:pt x="10112" y="618"/>
                </a:lnTo>
                <a:lnTo>
                  <a:pt x="10196" y="524"/>
                </a:lnTo>
                <a:lnTo>
                  <a:pt x="10169" y="462"/>
                </a:lnTo>
                <a:lnTo>
                  <a:pt x="10143" y="434"/>
                </a:lnTo>
                <a:lnTo>
                  <a:pt x="10112" y="401"/>
                </a:lnTo>
                <a:lnTo>
                  <a:pt x="10059" y="434"/>
                </a:lnTo>
                <a:lnTo>
                  <a:pt x="9980" y="462"/>
                </a:lnTo>
                <a:lnTo>
                  <a:pt x="9922" y="495"/>
                </a:lnTo>
                <a:lnTo>
                  <a:pt x="9896" y="495"/>
                </a:lnTo>
                <a:lnTo>
                  <a:pt x="9843" y="462"/>
                </a:lnTo>
                <a:lnTo>
                  <a:pt x="9733" y="462"/>
                </a:lnTo>
                <a:lnTo>
                  <a:pt x="9649" y="434"/>
                </a:lnTo>
                <a:lnTo>
                  <a:pt x="9570" y="401"/>
                </a:lnTo>
                <a:lnTo>
                  <a:pt x="9513" y="373"/>
                </a:lnTo>
                <a:lnTo>
                  <a:pt x="9433" y="307"/>
                </a:lnTo>
                <a:lnTo>
                  <a:pt x="9376" y="279"/>
                </a:lnTo>
                <a:lnTo>
                  <a:pt x="9349" y="246"/>
                </a:lnTo>
                <a:lnTo>
                  <a:pt x="8913" y="307"/>
                </a:lnTo>
                <a:lnTo>
                  <a:pt x="8508" y="373"/>
                </a:lnTo>
                <a:lnTo>
                  <a:pt x="8340" y="340"/>
                </a:lnTo>
                <a:lnTo>
                  <a:pt x="8177" y="340"/>
                </a:lnTo>
                <a:lnTo>
                  <a:pt x="8040" y="279"/>
                </a:lnTo>
                <a:lnTo>
                  <a:pt x="7908" y="216"/>
                </a:lnTo>
                <a:lnTo>
                  <a:pt x="7798" y="155"/>
                </a:lnTo>
                <a:lnTo>
                  <a:pt x="7714" y="94"/>
                </a:lnTo>
                <a:lnTo>
                  <a:pt x="7608" y="61"/>
                </a:lnTo>
                <a:lnTo>
                  <a:pt x="7578" y="32"/>
                </a:lnTo>
                <a:lnTo>
                  <a:pt x="7278" y="94"/>
                </a:lnTo>
                <a:lnTo>
                  <a:pt x="6978" y="155"/>
                </a:lnTo>
                <a:lnTo>
                  <a:pt x="6815" y="183"/>
                </a:lnTo>
                <a:lnTo>
                  <a:pt x="6652" y="122"/>
                </a:lnTo>
                <a:lnTo>
                  <a:pt x="6326" y="0"/>
                </a:lnTo>
                <a:lnTo>
                  <a:pt x="5942" y="61"/>
                </a:lnTo>
                <a:lnTo>
                  <a:pt x="5753" y="94"/>
                </a:lnTo>
                <a:lnTo>
                  <a:pt x="5563" y="155"/>
                </a:lnTo>
                <a:lnTo>
                  <a:pt x="5479" y="183"/>
                </a:lnTo>
                <a:lnTo>
                  <a:pt x="5369" y="216"/>
                </a:lnTo>
                <a:lnTo>
                  <a:pt x="5290" y="246"/>
                </a:lnTo>
                <a:lnTo>
                  <a:pt x="5263" y="246"/>
                </a:lnTo>
                <a:lnTo>
                  <a:pt x="5153" y="246"/>
                </a:lnTo>
                <a:lnTo>
                  <a:pt x="5016" y="216"/>
                </a:lnTo>
                <a:lnTo>
                  <a:pt x="4879" y="183"/>
                </a:lnTo>
                <a:lnTo>
                  <a:pt x="4826" y="155"/>
                </a:lnTo>
                <a:lnTo>
                  <a:pt x="4800" y="155"/>
                </a:lnTo>
                <a:lnTo>
                  <a:pt x="4663" y="183"/>
                </a:lnTo>
                <a:lnTo>
                  <a:pt x="4579" y="216"/>
                </a:lnTo>
                <a:lnTo>
                  <a:pt x="4469" y="216"/>
                </a:lnTo>
                <a:lnTo>
                  <a:pt x="4332" y="183"/>
                </a:lnTo>
                <a:lnTo>
                  <a:pt x="4279" y="155"/>
                </a:lnTo>
                <a:lnTo>
                  <a:pt x="4200" y="122"/>
                </a:lnTo>
                <a:lnTo>
                  <a:pt x="4143" y="94"/>
                </a:lnTo>
                <a:lnTo>
                  <a:pt x="4116" y="94"/>
                </a:lnTo>
                <a:lnTo>
                  <a:pt x="4033" y="122"/>
                </a:lnTo>
                <a:lnTo>
                  <a:pt x="3980" y="155"/>
                </a:lnTo>
                <a:lnTo>
                  <a:pt x="3927" y="183"/>
                </a:lnTo>
                <a:lnTo>
                  <a:pt x="3896" y="183"/>
                </a:lnTo>
                <a:lnTo>
                  <a:pt x="3817" y="155"/>
                </a:lnTo>
                <a:lnTo>
                  <a:pt x="3733" y="183"/>
                </a:lnTo>
                <a:lnTo>
                  <a:pt x="3706" y="216"/>
                </a:lnTo>
                <a:lnTo>
                  <a:pt x="3706" y="216"/>
                </a:lnTo>
                <a:lnTo>
                  <a:pt x="3764" y="216"/>
                </a:lnTo>
                <a:close/>
              </a:path>
            </a:pathLst>
          </a:custGeom>
          <a:solidFill>
            <a:srgbClr val="e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209680" y="6126120"/>
            <a:ext cx="1219680" cy="228960"/>
            <a:chOff x="2209680" y="6126120"/>
            <a:chExt cx="1219680" cy="228960"/>
          </a:xfrm>
        </p:grpSpPr>
        <p:sp>
          <p:nvSpPr>
            <p:cNvPr id="228" name=""/>
            <p:cNvSpPr/>
            <p:nvPr/>
          </p:nvSpPr>
          <p:spPr>
            <a:xfrm>
              <a:off x="2209680" y="6153120"/>
              <a:ext cx="1219680" cy="171720"/>
            </a:xfrm>
            <a:custGeom>
              <a:avLst/>
              <a:gdLst/>
              <a:ahLst/>
              <a:rect l="0" t="0" r="r" b="b"/>
              <a:pathLst>
                <a:path w="3388" h="477">
                  <a:moveTo>
                    <a:pt x="1493" y="84"/>
                  </a:moveTo>
                  <a:lnTo>
                    <a:pt x="3388" y="328"/>
                  </a:lnTo>
                  <a:lnTo>
                    <a:pt x="3229" y="412"/>
                  </a:lnTo>
                  <a:lnTo>
                    <a:pt x="2938" y="477"/>
                  </a:lnTo>
                  <a:lnTo>
                    <a:pt x="2239" y="457"/>
                  </a:lnTo>
                  <a:lnTo>
                    <a:pt x="1162" y="351"/>
                  </a:lnTo>
                  <a:lnTo>
                    <a:pt x="777" y="286"/>
                  </a:lnTo>
                  <a:lnTo>
                    <a:pt x="0" y="184"/>
                  </a:lnTo>
                  <a:lnTo>
                    <a:pt x="30" y="0"/>
                  </a:lnTo>
                  <a:lnTo>
                    <a:pt x="972" y="103"/>
                  </a:lnTo>
                  <a:lnTo>
                    <a:pt x="1188" y="182"/>
                  </a:lnTo>
                  <a:lnTo>
                    <a:pt x="1400" y="210"/>
                  </a:lnTo>
                  <a:lnTo>
                    <a:pt x="1493" y="84"/>
                  </a:lnTo>
                  <a:close/>
                </a:path>
              </a:pathLst>
            </a:custGeom>
            <a:blipFill rotWithShape="0">
              <a:blip r:embed="rId1"/>
              <a:tile tx="0" ty="0" sx="3528125" sy="3528125" algn="ctr"/>
            </a:blip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17640" y="6221520"/>
              <a:ext cx="695520" cy="133560"/>
            </a:xfrm>
            <a:custGeom>
              <a:avLst/>
              <a:gdLst/>
              <a:ahLst/>
              <a:rect l="0" t="0" r="r" b="b"/>
              <a:pathLst>
                <a:path w="1932" h="371">
                  <a:moveTo>
                    <a:pt x="34" y="12"/>
                  </a:moveTo>
                  <a:lnTo>
                    <a:pt x="225" y="0"/>
                  </a:lnTo>
                  <a:lnTo>
                    <a:pt x="381" y="133"/>
                  </a:lnTo>
                  <a:lnTo>
                    <a:pt x="658" y="83"/>
                  </a:lnTo>
                  <a:lnTo>
                    <a:pt x="1040" y="158"/>
                  </a:lnTo>
                  <a:lnTo>
                    <a:pt x="1243" y="200"/>
                  </a:lnTo>
                  <a:lnTo>
                    <a:pt x="1503" y="225"/>
                  </a:lnTo>
                  <a:lnTo>
                    <a:pt x="1932" y="204"/>
                  </a:lnTo>
                  <a:lnTo>
                    <a:pt x="1512" y="304"/>
                  </a:lnTo>
                  <a:lnTo>
                    <a:pt x="1209" y="371"/>
                  </a:lnTo>
                  <a:lnTo>
                    <a:pt x="692" y="296"/>
                  </a:lnTo>
                  <a:lnTo>
                    <a:pt x="407" y="267"/>
                  </a:lnTo>
                  <a:lnTo>
                    <a:pt x="0" y="188"/>
                  </a:lnTo>
                  <a:lnTo>
                    <a:pt x="34" y="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230560" y="6126120"/>
              <a:ext cx="495720" cy="124200"/>
            </a:xfrm>
            <a:custGeom>
              <a:avLst/>
              <a:gdLst/>
              <a:ahLst/>
              <a:rect l="0" t="0" r="r" b="b"/>
              <a:pathLst>
                <a:path w="1377" h="345">
                  <a:moveTo>
                    <a:pt x="1364" y="345"/>
                  </a:moveTo>
                  <a:lnTo>
                    <a:pt x="1377" y="230"/>
                  </a:lnTo>
                  <a:lnTo>
                    <a:pt x="1036" y="88"/>
                  </a:lnTo>
                  <a:lnTo>
                    <a:pt x="44" y="0"/>
                  </a:lnTo>
                  <a:lnTo>
                    <a:pt x="0" y="142"/>
                  </a:lnTo>
                  <a:lnTo>
                    <a:pt x="1364" y="345"/>
                  </a:lnTo>
                  <a:close/>
                </a:path>
              </a:pathLst>
            </a:custGeom>
            <a:solidFill>
              <a:srgbClr val="9933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3638520" y="4448160"/>
            <a:ext cx="1514880" cy="1867320"/>
            <a:chOff x="3638520" y="4448160"/>
            <a:chExt cx="1514880" cy="1867320"/>
          </a:xfrm>
        </p:grpSpPr>
        <p:sp>
          <p:nvSpPr>
            <p:cNvPr id="232" name=""/>
            <p:cNvSpPr/>
            <p:nvPr/>
          </p:nvSpPr>
          <p:spPr>
            <a:xfrm>
              <a:off x="4019400" y="4448160"/>
              <a:ext cx="657720" cy="1724400"/>
            </a:xfrm>
            <a:custGeom>
              <a:avLst/>
              <a:gdLst/>
              <a:ahLst/>
              <a:rect l="0" t="0" r="r" b="b"/>
              <a:pathLst>
                <a:path w="1827" h="4790">
                  <a:moveTo>
                    <a:pt x="0" y="0"/>
                  </a:moveTo>
                  <a:lnTo>
                    <a:pt x="317" y="4790"/>
                  </a:lnTo>
                  <a:lnTo>
                    <a:pt x="1032" y="4790"/>
                  </a:lnTo>
                  <a:lnTo>
                    <a:pt x="927" y="1297"/>
                  </a:lnTo>
                  <a:lnTo>
                    <a:pt x="1032" y="4790"/>
                  </a:lnTo>
                  <a:lnTo>
                    <a:pt x="1827" y="4790"/>
                  </a:lnTo>
                  <a:lnTo>
                    <a:pt x="1748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638520" y="6105600"/>
              <a:ext cx="752760" cy="209880"/>
            </a:xfrm>
            <a:custGeom>
              <a:avLst/>
              <a:gdLst/>
              <a:ahLst/>
              <a:rect l="0" t="0" r="r" b="b"/>
              <a:pathLst>
                <a:path w="2091" h="583">
                  <a:moveTo>
                    <a:pt x="1376" y="185"/>
                  </a:moveTo>
                  <a:lnTo>
                    <a:pt x="978" y="52"/>
                  </a:lnTo>
                  <a:lnTo>
                    <a:pt x="714" y="0"/>
                  </a:lnTo>
                  <a:lnTo>
                    <a:pt x="423" y="105"/>
                  </a:lnTo>
                  <a:lnTo>
                    <a:pt x="132" y="264"/>
                  </a:lnTo>
                  <a:lnTo>
                    <a:pt x="0" y="477"/>
                  </a:lnTo>
                  <a:lnTo>
                    <a:pt x="185" y="583"/>
                  </a:lnTo>
                  <a:lnTo>
                    <a:pt x="2091" y="583"/>
                  </a:lnTo>
                  <a:lnTo>
                    <a:pt x="2091" y="185"/>
                  </a:lnTo>
                  <a:lnTo>
                    <a:pt x="1376" y="185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00640" y="6105600"/>
              <a:ext cx="752760" cy="209880"/>
            </a:xfrm>
            <a:custGeom>
              <a:avLst/>
              <a:gdLst/>
              <a:ahLst/>
              <a:rect l="0" t="0" r="r" b="b"/>
              <a:pathLst>
                <a:path w="2091" h="583">
                  <a:moveTo>
                    <a:pt x="714" y="185"/>
                  </a:moveTo>
                  <a:lnTo>
                    <a:pt x="1112" y="52"/>
                  </a:lnTo>
                  <a:lnTo>
                    <a:pt x="1376" y="0"/>
                  </a:lnTo>
                  <a:lnTo>
                    <a:pt x="1667" y="105"/>
                  </a:lnTo>
                  <a:lnTo>
                    <a:pt x="1958" y="264"/>
                  </a:lnTo>
                  <a:lnTo>
                    <a:pt x="2091" y="477"/>
                  </a:lnTo>
                  <a:lnTo>
                    <a:pt x="1906" y="583"/>
                  </a:lnTo>
                  <a:lnTo>
                    <a:pt x="0" y="583"/>
                  </a:lnTo>
                  <a:lnTo>
                    <a:pt x="0" y="185"/>
                  </a:lnTo>
                  <a:lnTo>
                    <a:pt x="714" y="185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3795840" y="1373040"/>
            <a:ext cx="1081080" cy="3275640"/>
            <a:chOff x="3795840" y="1373040"/>
            <a:chExt cx="1081080" cy="3275640"/>
          </a:xfrm>
        </p:grpSpPr>
        <p:sp>
          <p:nvSpPr>
            <p:cNvPr id="236" name=""/>
            <p:cNvSpPr/>
            <p:nvPr/>
          </p:nvSpPr>
          <p:spPr>
            <a:xfrm>
              <a:off x="3895560" y="3048120"/>
              <a:ext cx="981360" cy="1600560"/>
            </a:xfrm>
            <a:custGeom>
              <a:avLst/>
              <a:gdLst/>
              <a:ahLst/>
              <a:rect l="0" t="0" r="r" b="b"/>
              <a:pathLst>
                <a:path w="2726" h="4446">
                  <a:moveTo>
                    <a:pt x="953" y="374"/>
                  </a:moveTo>
                  <a:lnTo>
                    <a:pt x="865" y="392"/>
                  </a:lnTo>
                  <a:lnTo>
                    <a:pt x="799" y="436"/>
                  </a:lnTo>
                  <a:lnTo>
                    <a:pt x="672" y="582"/>
                  </a:lnTo>
                  <a:lnTo>
                    <a:pt x="540" y="723"/>
                  </a:lnTo>
                  <a:lnTo>
                    <a:pt x="391" y="851"/>
                  </a:lnTo>
                  <a:lnTo>
                    <a:pt x="369" y="890"/>
                  </a:lnTo>
                  <a:lnTo>
                    <a:pt x="347" y="930"/>
                  </a:lnTo>
                  <a:lnTo>
                    <a:pt x="347" y="930"/>
                  </a:lnTo>
                  <a:lnTo>
                    <a:pt x="369" y="930"/>
                  </a:lnTo>
                  <a:lnTo>
                    <a:pt x="153" y="1553"/>
                  </a:lnTo>
                  <a:lnTo>
                    <a:pt x="0" y="4345"/>
                  </a:lnTo>
                  <a:lnTo>
                    <a:pt x="2726" y="4446"/>
                  </a:lnTo>
                  <a:lnTo>
                    <a:pt x="2317" y="1844"/>
                  </a:lnTo>
                  <a:lnTo>
                    <a:pt x="2119" y="414"/>
                  </a:lnTo>
                  <a:lnTo>
                    <a:pt x="1385" y="0"/>
                  </a:lnTo>
                  <a:lnTo>
                    <a:pt x="953" y="374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3795840" y="1373040"/>
              <a:ext cx="1005120" cy="1818000"/>
              <a:chOff x="3795840" y="1373040"/>
              <a:chExt cx="1005120" cy="1818000"/>
            </a:xfrm>
          </p:grpSpPr>
          <p:sp>
            <p:nvSpPr>
              <p:cNvPr id="238" name=""/>
              <p:cNvSpPr/>
              <p:nvPr/>
            </p:nvSpPr>
            <p:spPr>
              <a:xfrm>
                <a:off x="3905280" y="1609560"/>
                <a:ext cx="895680" cy="1581480"/>
              </a:xfrm>
              <a:custGeom>
                <a:avLst/>
                <a:gdLst/>
                <a:ahLst/>
                <a:rect l="0" t="0" r="r" b="b"/>
                <a:pathLst>
                  <a:path w="2488" h="4393">
                    <a:moveTo>
                      <a:pt x="582" y="0"/>
                    </a:moveTo>
                    <a:lnTo>
                      <a:pt x="264" y="264"/>
                    </a:lnTo>
                    <a:lnTo>
                      <a:pt x="79" y="687"/>
                    </a:lnTo>
                    <a:lnTo>
                      <a:pt x="26" y="1217"/>
                    </a:lnTo>
                    <a:lnTo>
                      <a:pt x="0" y="2699"/>
                    </a:lnTo>
                    <a:lnTo>
                      <a:pt x="52" y="3546"/>
                    </a:lnTo>
                    <a:lnTo>
                      <a:pt x="820" y="3599"/>
                    </a:lnTo>
                    <a:lnTo>
                      <a:pt x="926" y="4075"/>
                    </a:lnTo>
                    <a:lnTo>
                      <a:pt x="1031" y="4393"/>
                    </a:lnTo>
                    <a:lnTo>
                      <a:pt x="1271" y="4393"/>
                    </a:lnTo>
                    <a:lnTo>
                      <a:pt x="1403" y="4102"/>
                    </a:lnTo>
                    <a:lnTo>
                      <a:pt x="1323" y="3599"/>
                    </a:lnTo>
                    <a:lnTo>
                      <a:pt x="2038" y="3519"/>
                    </a:lnTo>
                    <a:lnTo>
                      <a:pt x="2064" y="3017"/>
                    </a:lnTo>
                    <a:lnTo>
                      <a:pt x="2223" y="3096"/>
                    </a:lnTo>
                    <a:lnTo>
                      <a:pt x="2382" y="3043"/>
                    </a:lnTo>
                    <a:lnTo>
                      <a:pt x="2488" y="2620"/>
                    </a:lnTo>
                    <a:lnTo>
                      <a:pt x="2355" y="2408"/>
                    </a:lnTo>
                    <a:lnTo>
                      <a:pt x="2197" y="2435"/>
                    </a:lnTo>
                    <a:lnTo>
                      <a:pt x="2355" y="185"/>
                    </a:lnTo>
                    <a:lnTo>
                      <a:pt x="582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795840" y="2052720"/>
                <a:ext cx="409680" cy="4096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148280" y="2014560"/>
                <a:ext cx="485640" cy="4856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338720" y="2214720"/>
                <a:ext cx="85680" cy="85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4560" bIns="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929040" y="2224080"/>
                <a:ext cx="85680" cy="85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4560" bIns="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135320" y="1401840"/>
                <a:ext cx="7920" cy="217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4249800" y="1382760"/>
                <a:ext cx="17280" cy="217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4411800" y="1373040"/>
                <a:ext cx="36360" cy="227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V="1">
                <a:off x="4573440" y="1420920"/>
                <a:ext cx="55800" cy="198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4716360" y="1449360"/>
                <a:ext cx="55800" cy="179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895560" y="2562120"/>
                <a:ext cx="657720" cy="257400"/>
              </a:xfrm>
              <a:custGeom>
                <a:avLst/>
                <a:gdLst/>
                <a:ahLst/>
                <a:rect l="0" t="0" r="r" b="b"/>
                <a:pathLst>
                  <a:path w="1827" h="715">
                    <a:moveTo>
                      <a:pt x="0" y="0"/>
                    </a:moveTo>
                    <a:lnTo>
                      <a:pt x="1827" y="163"/>
                    </a:lnTo>
                    <a:lnTo>
                      <a:pt x="746" y="7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4191120" y="3057480"/>
              <a:ext cx="305280" cy="181440"/>
            </a:xfrm>
            <a:custGeom>
              <a:avLst/>
              <a:gdLst/>
              <a:ahLst/>
              <a:rect l="0" t="0" r="r" b="b"/>
              <a:pathLst>
                <a:path w="848" h="504">
                  <a:moveTo>
                    <a:pt x="0" y="344"/>
                  </a:moveTo>
                  <a:lnTo>
                    <a:pt x="239" y="478"/>
                  </a:lnTo>
                  <a:lnTo>
                    <a:pt x="663" y="504"/>
                  </a:lnTo>
                  <a:lnTo>
                    <a:pt x="848" y="265"/>
                  </a:lnTo>
                  <a:lnTo>
                    <a:pt x="848" y="79"/>
                  </a:lnTo>
                  <a:lnTo>
                    <a:pt x="663" y="0"/>
                  </a:lnTo>
                  <a:lnTo>
                    <a:pt x="477" y="265"/>
                  </a:lnTo>
                  <a:lnTo>
                    <a:pt x="185" y="292"/>
                  </a:lnTo>
                  <a:lnTo>
                    <a:pt x="0" y="344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4200480" y="4005360"/>
            <a:ext cx="276480" cy="562320"/>
          </a:xfrm>
          <a:custGeom>
            <a:avLst/>
            <a:gdLst/>
            <a:ahLst/>
            <a:rect l="0" t="0" r="r" b="b"/>
            <a:pathLst>
              <a:path w="768" h="1562">
                <a:moveTo>
                  <a:pt x="196" y="62"/>
                </a:moveTo>
                <a:lnTo>
                  <a:pt x="235" y="22"/>
                </a:lnTo>
                <a:lnTo>
                  <a:pt x="274" y="0"/>
                </a:lnTo>
                <a:lnTo>
                  <a:pt x="313" y="22"/>
                </a:lnTo>
                <a:lnTo>
                  <a:pt x="374" y="40"/>
                </a:lnTo>
                <a:lnTo>
                  <a:pt x="471" y="0"/>
                </a:lnTo>
                <a:lnTo>
                  <a:pt x="511" y="0"/>
                </a:lnTo>
                <a:lnTo>
                  <a:pt x="572" y="0"/>
                </a:lnTo>
                <a:lnTo>
                  <a:pt x="572" y="62"/>
                </a:lnTo>
                <a:lnTo>
                  <a:pt x="572" y="80"/>
                </a:lnTo>
                <a:lnTo>
                  <a:pt x="511" y="142"/>
                </a:lnTo>
                <a:lnTo>
                  <a:pt x="532" y="227"/>
                </a:lnTo>
                <a:lnTo>
                  <a:pt x="532" y="289"/>
                </a:lnTo>
                <a:lnTo>
                  <a:pt x="572" y="330"/>
                </a:lnTo>
                <a:lnTo>
                  <a:pt x="611" y="392"/>
                </a:lnTo>
                <a:lnTo>
                  <a:pt x="589" y="535"/>
                </a:lnTo>
                <a:lnTo>
                  <a:pt x="550" y="637"/>
                </a:lnTo>
                <a:lnTo>
                  <a:pt x="589" y="700"/>
                </a:lnTo>
                <a:lnTo>
                  <a:pt x="650" y="780"/>
                </a:lnTo>
                <a:lnTo>
                  <a:pt x="707" y="861"/>
                </a:lnTo>
                <a:lnTo>
                  <a:pt x="729" y="924"/>
                </a:lnTo>
                <a:lnTo>
                  <a:pt x="746" y="986"/>
                </a:lnTo>
                <a:lnTo>
                  <a:pt x="768" y="1026"/>
                </a:lnTo>
                <a:lnTo>
                  <a:pt x="768" y="1026"/>
                </a:lnTo>
                <a:lnTo>
                  <a:pt x="746" y="1174"/>
                </a:lnTo>
                <a:lnTo>
                  <a:pt x="729" y="1294"/>
                </a:lnTo>
                <a:lnTo>
                  <a:pt x="707" y="1419"/>
                </a:lnTo>
                <a:lnTo>
                  <a:pt x="668" y="1562"/>
                </a:lnTo>
                <a:lnTo>
                  <a:pt x="668" y="1521"/>
                </a:lnTo>
                <a:lnTo>
                  <a:pt x="668" y="1481"/>
                </a:lnTo>
                <a:lnTo>
                  <a:pt x="689" y="1437"/>
                </a:lnTo>
                <a:lnTo>
                  <a:pt x="689" y="1419"/>
                </a:lnTo>
                <a:lnTo>
                  <a:pt x="668" y="1356"/>
                </a:lnTo>
                <a:lnTo>
                  <a:pt x="650" y="1276"/>
                </a:lnTo>
                <a:lnTo>
                  <a:pt x="668" y="1214"/>
                </a:lnTo>
                <a:lnTo>
                  <a:pt x="689" y="1191"/>
                </a:lnTo>
                <a:lnTo>
                  <a:pt x="689" y="1174"/>
                </a:lnTo>
                <a:lnTo>
                  <a:pt x="668" y="1049"/>
                </a:lnTo>
                <a:lnTo>
                  <a:pt x="628" y="986"/>
                </a:lnTo>
                <a:lnTo>
                  <a:pt x="589" y="946"/>
                </a:lnTo>
                <a:lnTo>
                  <a:pt x="550" y="884"/>
                </a:lnTo>
                <a:lnTo>
                  <a:pt x="511" y="821"/>
                </a:lnTo>
                <a:lnTo>
                  <a:pt x="471" y="861"/>
                </a:lnTo>
                <a:lnTo>
                  <a:pt x="432" y="884"/>
                </a:lnTo>
                <a:lnTo>
                  <a:pt x="393" y="906"/>
                </a:lnTo>
                <a:lnTo>
                  <a:pt x="374" y="924"/>
                </a:lnTo>
                <a:lnTo>
                  <a:pt x="353" y="924"/>
                </a:lnTo>
                <a:lnTo>
                  <a:pt x="353" y="843"/>
                </a:lnTo>
                <a:lnTo>
                  <a:pt x="353" y="821"/>
                </a:lnTo>
                <a:lnTo>
                  <a:pt x="353" y="803"/>
                </a:lnTo>
                <a:lnTo>
                  <a:pt x="374" y="758"/>
                </a:lnTo>
                <a:lnTo>
                  <a:pt x="393" y="718"/>
                </a:lnTo>
                <a:lnTo>
                  <a:pt x="393" y="718"/>
                </a:lnTo>
                <a:lnTo>
                  <a:pt x="393" y="740"/>
                </a:lnTo>
                <a:lnTo>
                  <a:pt x="393" y="758"/>
                </a:lnTo>
                <a:lnTo>
                  <a:pt x="374" y="780"/>
                </a:lnTo>
                <a:lnTo>
                  <a:pt x="335" y="758"/>
                </a:lnTo>
                <a:lnTo>
                  <a:pt x="313" y="740"/>
                </a:lnTo>
                <a:lnTo>
                  <a:pt x="296" y="740"/>
                </a:lnTo>
                <a:lnTo>
                  <a:pt x="274" y="758"/>
                </a:lnTo>
                <a:lnTo>
                  <a:pt x="257" y="780"/>
                </a:lnTo>
                <a:lnTo>
                  <a:pt x="196" y="718"/>
                </a:lnTo>
                <a:lnTo>
                  <a:pt x="178" y="780"/>
                </a:lnTo>
                <a:lnTo>
                  <a:pt x="156" y="803"/>
                </a:lnTo>
                <a:lnTo>
                  <a:pt x="117" y="780"/>
                </a:lnTo>
                <a:lnTo>
                  <a:pt x="39" y="758"/>
                </a:lnTo>
                <a:lnTo>
                  <a:pt x="17" y="740"/>
                </a:lnTo>
                <a:lnTo>
                  <a:pt x="0" y="700"/>
                </a:lnTo>
                <a:lnTo>
                  <a:pt x="17" y="677"/>
                </a:lnTo>
                <a:lnTo>
                  <a:pt x="39" y="677"/>
                </a:lnTo>
                <a:lnTo>
                  <a:pt x="117" y="700"/>
                </a:lnTo>
                <a:lnTo>
                  <a:pt x="196" y="718"/>
                </a:lnTo>
                <a:lnTo>
                  <a:pt x="196" y="718"/>
                </a:lnTo>
                <a:lnTo>
                  <a:pt x="178" y="700"/>
                </a:lnTo>
                <a:lnTo>
                  <a:pt x="156" y="677"/>
                </a:lnTo>
                <a:lnTo>
                  <a:pt x="139" y="655"/>
                </a:lnTo>
                <a:lnTo>
                  <a:pt x="139" y="637"/>
                </a:lnTo>
                <a:lnTo>
                  <a:pt x="139" y="597"/>
                </a:lnTo>
                <a:lnTo>
                  <a:pt x="156" y="553"/>
                </a:lnTo>
                <a:lnTo>
                  <a:pt x="178" y="535"/>
                </a:lnTo>
                <a:lnTo>
                  <a:pt x="178" y="472"/>
                </a:lnTo>
                <a:lnTo>
                  <a:pt x="178" y="410"/>
                </a:lnTo>
                <a:lnTo>
                  <a:pt x="178" y="267"/>
                </a:lnTo>
                <a:lnTo>
                  <a:pt x="139" y="227"/>
                </a:lnTo>
                <a:lnTo>
                  <a:pt x="117" y="205"/>
                </a:lnTo>
                <a:lnTo>
                  <a:pt x="117" y="182"/>
                </a:lnTo>
                <a:lnTo>
                  <a:pt x="139" y="165"/>
                </a:lnTo>
                <a:lnTo>
                  <a:pt x="156" y="142"/>
                </a:lnTo>
                <a:lnTo>
                  <a:pt x="156" y="124"/>
                </a:lnTo>
                <a:lnTo>
                  <a:pt x="196" y="62"/>
                </a:lnTo>
                <a:close/>
              </a:path>
            </a:pathLst>
          </a:custGeom>
          <a:solidFill>
            <a:srgbClr val="e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4019400" y="3657600"/>
            <a:ext cx="756000" cy="1740240"/>
            <a:chOff x="4019400" y="3657600"/>
            <a:chExt cx="756000" cy="1740240"/>
          </a:xfrm>
        </p:grpSpPr>
        <p:sp>
          <p:nvSpPr>
            <p:cNvPr id="252" name=""/>
            <p:cNvSpPr/>
            <p:nvPr/>
          </p:nvSpPr>
          <p:spPr>
            <a:xfrm>
              <a:off x="4417920" y="3759120"/>
              <a:ext cx="174960" cy="165600"/>
            </a:xfrm>
            <a:custGeom>
              <a:avLst/>
              <a:gdLst/>
              <a:ahLst/>
              <a:rect l="0" t="0" r="r" b="b"/>
              <a:pathLst>
                <a:path w="486" h="460">
                  <a:moveTo>
                    <a:pt x="100" y="271"/>
                  </a:moveTo>
                  <a:lnTo>
                    <a:pt x="100" y="189"/>
                  </a:lnTo>
                  <a:lnTo>
                    <a:pt x="150" y="102"/>
                  </a:lnTo>
                  <a:lnTo>
                    <a:pt x="257" y="51"/>
                  </a:lnTo>
                  <a:lnTo>
                    <a:pt x="357" y="0"/>
                  </a:lnTo>
                  <a:lnTo>
                    <a:pt x="413" y="34"/>
                  </a:lnTo>
                  <a:lnTo>
                    <a:pt x="486" y="85"/>
                  </a:lnTo>
                  <a:lnTo>
                    <a:pt x="486" y="121"/>
                  </a:lnTo>
                  <a:lnTo>
                    <a:pt x="486" y="121"/>
                  </a:lnTo>
                  <a:lnTo>
                    <a:pt x="435" y="121"/>
                  </a:lnTo>
                  <a:lnTo>
                    <a:pt x="335" y="172"/>
                  </a:lnTo>
                  <a:lnTo>
                    <a:pt x="228" y="241"/>
                  </a:lnTo>
                  <a:lnTo>
                    <a:pt x="206" y="322"/>
                  </a:lnTo>
                  <a:lnTo>
                    <a:pt x="206" y="357"/>
                  </a:lnTo>
                  <a:lnTo>
                    <a:pt x="178" y="392"/>
                  </a:lnTo>
                  <a:lnTo>
                    <a:pt x="150" y="426"/>
                  </a:lnTo>
                  <a:lnTo>
                    <a:pt x="100" y="443"/>
                  </a:lnTo>
                  <a:lnTo>
                    <a:pt x="72" y="460"/>
                  </a:lnTo>
                  <a:lnTo>
                    <a:pt x="50" y="460"/>
                  </a:lnTo>
                  <a:lnTo>
                    <a:pt x="0" y="426"/>
                  </a:lnTo>
                  <a:lnTo>
                    <a:pt x="0" y="392"/>
                  </a:lnTo>
                  <a:lnTo>
                    <a:pt x="22" y="374"/>
                  </a:lnTo>
                  <a:lnTo>
                    <a:pt x="50" y="305"/>
                  </a:lnTo>
                  <a:lnTo>
                    <a:pt x="72" y="288"/>
                  </a:lnTo>
                  <a:lnTo>
                    <a:pt x="100" y="288"/>
                  </a:lnTo>
                  <a:lnTo>
                    <a:pt x="100" y="271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019400" y="3930480"/>
              <a:ext cx="201960" cy="267120"/>
            </a:xfrm>
            <a:custGeom>
              <a:avLst/>
              <a:gdLst/>
              <a:ahLst/>
              <a:rect l="0" t="0" r="r" b="b"/>
              <a:pathLst>
                <a:path w="561" h="742">
                  <a:moveTo>
                    <a:pt x="424" y="581"/>
                  </a:moveTo>
                  <a:lnTo>
                    <a:pt x="315" y="442"/>
                  </a:lnTo>
                  <a:lnTo>
                    <a:pt x="204" y="281"/>
                  </a:lnTo>
                  <a:lnTo>
                    <a:pt x="204" y="200"/>
                  </a:lnTo>
                  <a:lnTo>
                    <a:pt x="204" y="118"/>
                  </a:lnTo>
                  <a:lnTo>
                    <a:pt x="245" y="56"/>
                  </a:lnTo>
                  <a:lnTo>
                    <a:pt x="315" y="0"/>
                  </a:lnTo>
                  <a:lnTo>
                    <a:pt x="335" y="37"/>
                  </a:lnTo>
                  <a:lnTo>
                    <a:pt x="383" y="56"/>
                  </a:lnTo>
                  <a:lnTo>
                    <a:pt x="404" y="99"/>
                  </a:lnTo>
                  <a:lnTo>
                    <a:pt x="404" y="118"/>
                  </a:lnTo>
                  <a:lnTo>
                    <a:pt x="294" y="161"/>
                  </a:lnTo>
                  <a:lnTo>
                    <a:pt x="177" y="200"/>
                  </a:lnTo>
                  <a:lnTo>
                    <a:pt x="225" y="219"/>
                  </a:lnTo>
                  <a:lnTo>
                    <a:pt x="245" y="219"/>
                  </a:lnTo>
                  <a:lnTo>
                    <a:pt x="294" y="219"/>
                  </a:lnTo>
                  <a:lnTo>
                    <a:pt x="315" y="219"/>
                  </a:lnTo>
                  <a:lnTo>
                    <a:pt x="356" y="243"/>
                  </a:lnTo>
                  <a:lnTo>
                    <a:pt x="445" y="262"/>
                  </a:lnTo>
                  <a:lnTo>
                    <a:pt x="472" y="281"/>
                  </a:lnTo>
                  <a:lnTo>
                    <a:pt x="492" y="281"/>
                  </a:lnTo>
                  <a:lnTo>
                    <a:pt x="534" y="361"/>
                  </a:lnTo>
                  <a:lnTo>
                    <a:pt x="561" y="442"/>
                  </a:lnTo>
                  <a:lnTo>
                    <a:pt x="534" y="504"/>
                  </a:lnTo>
                  <a:lnTo>
                    <a:pt x="492" y="542"/>
                  </a:lnTo>
                  <a:lnTo>
                    <a:pt x="356" y="605"/>
                  </a:lnTo>
                  <a:lnTo>
                    <a:pt x="204" y="643"/>
                  </a:lnTo>
                  <a:lnTo>
                    <a:pt x="157" y="685"/>
                  </a:lnTo>
                  <a:lnTo>
                    <a:pt x="88" y="723"/>
                  </a:lnTo>
                  <a:lnTo>
                    <a:pt x="47" y="742"/>
                  </a:lnTo>
                  <a:lnTo>
                    <a:pt x="26" y="723"/>
                  </a:lnTo>
                  <a:lnTo>
                    <a:pt x="0" y="685"/>
                  </a:lnTo>
                  <a:lnTo>
                    <a:pt x="88" y="643"/>
                  </a:lnTo>
                  <a:lnTo>
                    <a:pt x="157" y="643"/>
                  </a:lnTo>
                  <a:lnTo>
                    <a:pt x="225" y="624"/>
                  </a:lnTo>
                  <a:lnTo>
                    <a:pt x="315" y="581"/>
                  </a:lnTo>
                  <a:lnTo>
                    <a:pt x="356" y="542"/>
                  </a:lnTo>
                  <a:lnTo>
                    <a:pt x="356" y="523"/>
                  </a:lnTo>
                  <a:lnTo>
                    <a:pt x="383" y="542"/>
                  </a:lnTo>
                  <a:lnTo>
                    <a:pt x="424" y="581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95720" y="4427640"/>
              <a:ext cx="297360" cy="111600"/>
            </a:xfrm>
            <a:custGeom>
              <a:avLst/>
              <a:gdLst/>
              <a:ahLst/>
              <a:rect l="0" t="0" r="r" b="b"/>
              <a:pathLst>
                <a:path w="826" h="310">
                  <a:moveTo>
                    <a:pt x="625" y="67"/>
                  </a:moveTo>
                  <a:lnTo>
                    <a:pt x="559" y="136"/>
                  </a:lnTo>
                  <a:lnTo>
                    <a:pt x="513" y="174"/>
                  </a:lnTo>
                  <a:lnTo>
                    <a:pt x="468" y="106"/>
                  </a:lnTo>
                  <a:lnTo>
                    <a:pt x="403" y="37"/>
                  </a:lnTo>
                  <a:lnTo>
                    <a:pt x="201" y="106"/>
                  </a:lnTo>
                  <a:lnTo>
                    <a:pt x="0" y="211"/>
                  </a:lnTo>
                  <a:lnTo>
                    <a:pt x="20" y="310"/>
                  </a:lnTo>
                  <a:lnTo>
                    <a:pt x="90" y="310"/>
                  </a:lnTo>
                  <a:lnTo>
                    <a:pt x="247" y="310"/>
                  </a:lnTo>
                  <a:lnTo>
                    <a:pt x="267" y="280"/>
                  </a:lnTo>
                  <a:lnTo>
                    <a:pt x="332" y="242"/>
                  </a:lnTo>
                  <a:lnTo>
                    <a:pt x="378" y="211"/>
                  </a:lnTo>
                  <a:lnTo>
                    <a:pt x="403" y="211"/>
                  </a:lnTo>
                  <a:lnTo>
                    <a:pt x="448" y="242"/>
                  </a:lnTo>
                  <a:lnTo>
                    <a:pt x="513" y="280"/>
                  </a:lnTo>
                  <a:lnTo>
                    <a:pt x="559" y="310"/>
                  </a:lnTo>
                  <a:lnTo>
                    <a:pt x="579" y="310"/>
                  </a:lnTo>
                  <a:lnTo>
                    <a:pt x="645" y="310"/>
                  </a:lnTo>
                  <a:lnTo>
                    <a:pt x="715" y="280"/>
                  </a:lnTo>
                  <a:lnTo>
                    <a:pt x="736" y="211"/>
                  </a:lnTo>
                  <a:lnTo>
                    <a:pt x="801" y="67"/>
                  </a:lnTo>
                  <a:lnTo>
                    <a:pt x="826" y="37"/>
                  </a:lnTo>
                  <a:lnTo>
                    <a:pt x="826" y="0"/>
                  </a:lnTo>
                  <a:lnTo>
                    <a:pt x="801" y="37"/>
                  </a:lnTo>
                  <a:lnTo>
                    <a:pt x="761" y="67"/>
                  </a:lnTo>
                  <a:lnTo>
                    <a:pt x="715" y="174"/>
                  </a:lnTo>
                  <a:lnTo>
                    <a:pt x="670" y="242"/>
                  </a:lnTo>
                  <a:lnTo>
                    <a:pt x="645" y="242"/>
                  </a:lnTo>
                  <a:lnTo>
                    <a:pt x="625" y="242"/>
                  </a:lnTo>
                  <a:lnTo>
                    <a:pt x="625" y="174"/>
                  </a:lnTo>
                  <a:lnTo>
                    <a:pt x="625" y="67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084560" y="3657600"/>
              <a:ext cx="279720" cy="230400"/>
            </a:xfrm>
            <a:custGeom>
              <a:avLst/>
              <a:gdLst/>
              <a:ahLst/>
              <a:rect l="0" t="0" r="r" b="b"/>
              <a:pathLst>
                <a:path w="777" h="640">
                  <a:moveTo>
                    <a:pt x="648" y="604"/>
                  </a:moveTo>
                  <a:lnTo>
                    <a:pt x="629" y="427"/>
                  </a:lnTo>
                  <a:lnTo>
                    <a:pt x="629" y="267"/>
                  </a:lnTo>
                  <a:lnTo>
                    <a:pt x="629" y="194"/>
                  </a:lnTo>
                  <a:lnTo>
                    <a:pt x="586" y="122"/>
                  </a:lnTo>
                  <a:lnTo>
                    <a:pt x="543" y="54"/>
                  </a:lnTo>
                  <a:lnTo>
                    <a:pt x="462" y="0"/>
                  </a:lnTo>
                  <a:lnTo>
                    <a:pt x="481" y="122"/>
                  </a:lnTo>
                  <a:lnTo>
                    <a:pt x="524" y="176"/>
                  </a:lnTo>
                  <a:lnTo>
                    <a:pt x="567" y="249"/>
                  </a:lnTo>
                  <a:lnTo>
                    <a:pt x="396" y="336"/>
                  </a:lnTo>
                  <a:lnTo>
                    <a:pt x="228" y="390"/>
                  </a:lnTo>
                  <a:lnTo>
                    <a:pt x="185" y="372"/>
                  </a:lnTo>
                  <a:lnTo>
                    <a:pt x="147" y="354"/>
                  </a:lnTo>
                  <a:lnTo>
                    <a:pt x="104" y="322"/>
                  </a:lnTo>
                  <a:lnTo>
                    <a:pt x="42" y="267"/>
                  </a:lnTo>
                  <a:lnTo>
                    <a:pt x="19" y="213"/>
                  </a:lnTo>
                  <a:lnTo>
                    <a:pt x="0" y="194"/>
                  </a:lnTo>
                  <a:lnTo>
                    <a:pt x="0" y="267"/>
                  </a:lnTo>
                  <a:lnTo>
                    <a:pt x="19" y="303"/>
                  </a:lnTo>
                  <a:lnTo>
                    <a:pt x="80" y="372"/>
                  </a:lnTo>
                  <a:lnTo>
                    <a:pt x="185" y="390"/>
                  </a:lnTo>
                  <a:lnTo>
                    <a:pt x="314" y="409"/>
                  </a:lnTo>
                  <a:lnTo>
                    <a:pt x="357" y="427"/>
                  </a:lnTo>
                  <a:lnTo>
                    <a:pt x="376" y="445"/>
                  </a:lnTo>
                  <a:lnTo>
                    <a:pt x="420" y="481"/>
                  </a:lnTo>
                  <a:lnTo>
                    <a:pt x="439" y="517"/>
                  </a:lnTo>
                  <a:lnTo>
                    <a:pt x="462" y="549"/>
                  </a:lnTo>
                  <a:lnTo>
                    <a:pt x="500" y="567"/>
                  </a:lnTo>
                  <a:lnTo>
                    <a:pt x="567" y="517"/>
                  </a:lnTo>
                  <a:lnTo>
                    <a:pt x="586" y="481"/>
                  </a:lnTo>
                  <a:lnTo>
                    <a:pt x="605" y="427"/>
                  </a:lnTo>
                  <a:lnTo>
                    <a:pt x="629" y="354"/>
                  </a:lnTo>
                  <a:lnTo>
                    <a:pt x="605" y="322"/>
                  </a:lnTo>
                  <a:lnTo>
                    <a:pt x="605" y="322"/>
                  </a:lnTo>
                  <a:lnTo>
                    <a:pt x="586" y="336"/>
                  </a:lnTo>
                  <a:lnTo>
                    <a:pt x="543" y="372"/>
                  </a:lnTo>
                  <a:lnTo>
                    <a:pt x="524" y="427"/>
                  </a:lnTo>
                  <a:lnTo>
                    <a:pt x="605" y="517"/>
                  </a:lnTo>
                  <a:lnTo>
                    <a:pt x="648" y="536"/>
                  </a:lnTo>
                  <a:lnTo>
                    <a:pt x="691" y="549"/>
                  </a:lnTo>
                  <a:lnTo>
                    <a:pt x="710" y="567"/>
                  </a:lnTo>
                  <a:lnTo>
                    <a:pt x="753" y="585"/>
                  </a:lnTo>
                  <a:lnTo>
                    <a:pt x="777" y="585"/>
                  </a:lnTo>
                  <a:lnTo>
                    <a:pt x="777" y="604"/>
                  </a:lnTo>
                  <a:lnTo>
                    <a:pt x="734" y="622"/>
                  </a:lnTo>
                  <a:lnTo>
                    <a:pt x="691" y="622"/>
                  </a:lnTo>
                  <a:lnTo>
                    <a:pt x="586" y="622"/>
                  </a:lnTo>
                  <a:lnTo>
                    <a:pt x="586" y="640"/>
                  </a:lnTo>
                  <a:lnTo>
                    <a:pt x="567" y="640"/>
                  </a:lnTo>
                  <a:lnTo>
                    <a:pt x="543" y="640"/>
                  </a:lnTo>
                  <a:lnTo>
                    <a:pt x="543" y="640"/>
                  </a:lnTo>
                  <a:lnTo>
                    <a:pt x="605" y="622"/>
                  </a:lnTo>
                  <a:lnTo>
                    <a:pt x="648" y="604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083120" y="4800600"/>
              <a:ext cx="133560" cy="322560"/>
            </a:xfrm>
            <a:custGeom>
              <a:avLst/>
              <a:gdLst/>
              <a:ahLst/>
              <a:rect l="0" t="0" r="r" b="b"/>
              <a:pathLst>
                <a:path w="371" h="896">
                  <a:moveTo>
                    <a:pt x="186" y="22"/>
                  </a:moveTo>
                  <a:lnTo>
                    <a:pt x="165" y="114"/>
                  </a:lnTo>
                  <a:lnTo>
                    <a:pt x="121" y="187"/>
                  </a:lnTo>
                  <a:lnTo>
                    <a:pt x="63" y="397"/>
                  </a:lnTo>
                  <a:lnTo>
                    <a:pt x="0" y="613"/>
                  </a:lnTo>
                  <a:lnTo>
                    <a:pt x="19" y="681"/>
                  </a:lnTo>
                  <a:lnTo>
                    <a:pt x="63" y="731"/>
                  </a:lnTo>
                  <a:lnTo>
                    <a:pt x="102" y="777"/>
                  </a:lnTo>
                  <a:lnTo>
                    <a:pt x="165" y="823"/>
                  </a:lnTo>
                  <a:lnTo>
                    <a:pt x="230" y="850"/>
                  </a:lnTo>
                  <a:lnTo>
                    <a:pt x="269" y="850"/>
                  </a:lnTo>
                  <a:lnTo>
                    <a:pt x="269" y="873"/>
                  </a:lnTo>
                  <a:lnTo>
                    <a:pt x="269" y="896"/>
                  </a:lnTo>
                  <a:lnTo>
                    <a:pt x="230" y="896"/>
                  </a:lnTo>
                  <a:lnTo>
                    <a:pt x="165" y="873"/>
                  </a:lnTo>
                  <a:lnTo>
                    <a:pt x="165" y="658"/>
                  </a:lnTo>
                  <a:lnTo>
                    <a:pt x="146" y="635"/>
                  </a:lnTo>
                  <a:lnTo>
                    <a:pt x="146" y="613"/>
                  </a:lnTo>
                  <a:lnTo>
                    <a:pt x="186" y="590"/>
                  </a:lnTo>
                  <a:lnTo>
                    <a:pt x="249" y="539"/>
                  </a:lnTo>
                  <a:lnTo>
                    <a:pt x="312" y="517"/>
                  </a:lnTo>
                  <a:lnTo>
                    <a:pt x="351" y="517"/>
                  </a:lnTo>
                  <a:lnTo>
                    <a:pt x="371" y="471"/>
                  </a:lnTo>
                  <a:lnTo>
                    <a:pt x="371" y="424"/>
                  </a:lnTo>
                  <a:lnTo>
                    <a:pt x="351" y="397"/>
                  </a:lnTo>
                  <a:lnTo>
                    <a:pt x="288" y="374"/>
                  </a:lnTo>
                  <a:lnTo>
                    <a:pt x="249" y="397"/>
                  </a:lnTo>
                  <a:lnTo>
                    <a:pt x="230" y="447"/>
                  </a:lnTo>
                  <a:lnTo>
                    <a:pt x="186" y="517"/>
                  </a:lnTo>
                  <a:lnTo>
                    <a:pt x="121" y="447"/>
                  </a:lnTo>
                  <a:lnTo>
                    <a:pt x="102" y="424"/>
                  </a:lnTo>
                  <a:lnTo>
                    <a:pt x="146" y="374"/>
                  </a:lnTo>
                  <a:lnTo>
                    <a:pt x="205" y="328"/>
                  </a:lnTo>
                  <a:lnTo>
                    <a:pt x="230" y="306"/>
                  </a:lnTo>
                  <a:lnTo>
                    <a:pt x="249" y="283"/>
                  </a:lnTo>
                  <a:lnTo>
                    <a:pt x="332" y="0"/>
                  </a:lnTo>
                  <a:lnTo>
                    <a:pt x="312" y="45"/>
                  </a:lnTo>
                  <a:lnTo>
                    <a:pt x="249" y="91"/>
                  </a:lnTo>
                  <a:lnTo>
                    <a:pt x="205" y="91"/>
                  </a:lnTo>
                  <a:lnTo>
                    <a:pt x="186" y="68"/>
                  </a:lnTo>
                  <a:lnTo>
                    <a:pt x="186" y="22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451400" y="5162400"/>
              <a:ext cx="105120" cy="235440"/>
            </a:xfrm>
            <a:custGeom>
              <a:avLst/>
              <a:gdLst/>
              <a:ahLst/>
              <a:rect l="0" t="0" r="r" b="b"/>
              <a:pathLst>
                <a:path w="292" h="654">
                  <a:moveTo>
                    <a:pt x="145" y="97"/>
                  </a:moveTo>
                  <a:lnTo>
                    <a:pt x="104" y="169"/>
                  </a:lnTo>
                  <a:lnTo>
                    <a:pt x="81" y="218"/>
                  </a:lnTo>
                  <a:lnTo>
                    <a:pt x="63" y="267"/>
                  </a:lnTo>
                  <a:lnTo>
                    <a:pt x="40" y="338"/>
                  </a:lnTo>
                  <a:lnTo>
                    <a:pt x="22" y="387"/>
                  </a:lnTo>
                  <a:lnTo>
                    <a:pt x="0" y="436"/>
                  </a:lnTo>
                  <a:lnTo>
                    <a:pt x="0" y="436"/>
                  </a:lnTo>
                  <a:lnTo>
                    <a:pt x="40" y="508"/>
                  </a:lnTo>
                  <a:lnTo>
                    <a:pt x="81" y="583"/>
                  </a:lnTo>
                  <a:lnTo>
                    <a:pt x="210" y="654"/>
                  </a:lnTo>
                  <a:lnTo>
                    <a:pt x="169" y="605"/>
                  </a:lnTo>
                  <a:lnTo>
                    <a:pt x="145" y="556"/>
                  </a:lnTo>
                  <a:lnTo>
                    <a:pt x="145" y="534"/>
                  </a:lnTo>
                  <a:lnTo>
                    <a:pt x="187" y="458"/>
                  </a:lnTo>
                  <a:lnTo>
                    <a:pt x="145" y="436"/>
                  </a:lnTo>
                  <a:lnTo>
                    <a:pt x="145" y="387"/>
                  </a:lnTo>
                  <a:lnTo>
                    <a:pt x="169" y="365"/>
                  </a:lnTo>
                  <a:lnTo>
                    <a:pt x="210" y="338"/>
                  </a:lnTo>
                  <a:lnTo>
                    <a:pt x="251" y="289"/>
                  </a:lnTo>
                  <a:lnTo>
                    <a:pt x="292" y="240"/>
                  </a:lnTo>
                  <a:lnTo>
                    <a:pt x="292" y="218"/>
                  </a:lnTo>
                  <a:lnTo>
                    <a:pt x="292" y="169"/>
                  </a:lnTo>
                  <a:lnTo>
                    <a:pt x="273" y="97"/>
                  </a:lnTo>
                  <a:lnTo>
                    <a:pt x="210" y="26"/>
                  </a:lnTo>
                  <a:lnTo>
                    <a:pt x="169" y="0"/>
                  </a:lnTo>
                  <a:lnTo>
                    <a:pt x="169" y="26"/>
                  </a:lnTo>
                  <a:lnTo>
                    <a:pt x="145" y="48"/>
                  </a:lnTo>
                  <a:lnTo>
                    <a:pt x="145" y="97"/>
                  </a:lnTo>
                  <a:lnTo>
                    <a:pt x="145" y="119"/>
                  </a:lnTo>
                  <a:lnTo>
                    <a:pt x="145" y="119"/>
                  </a:lnTo>
                  <a:lnTo>
                    <a:pt x="145" y="97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254480" y="4334040"/>
              <a:ext cx="520920" cy="306720"/>
            </a:xfrm>
            <a:custGeom>
              <a:avLst/>
              <a:gdLst/>
              <a:ahLst/>
              <a:rect l="0" t="0" r="r" b="b"/>
              <a:pathLst>
                <a:path w="1447" h="852">
                  <a:moveTo>
                    <a:pt x="833" y="197"/>
                  </a:moveTo>
                  <a:lnTo>
                    <a:pt x="792" y="389"/>
                  </a:lnTo>
                  <a:lnTo>
                    <a:pt x="746" y="488"/>
                  </a:lnTo>
                  <a:lnTo>
                    <a:pt x="677" y="561"/>
                  </a:lnTo>
                  <a:lnTo>
                    <a:pt x="591" y="535"/>
                  </a:lnTo>
                  <a:lnTo>
                    <a:pt x="550" y="509"/>
                  </a:lnTo>
                  <a:lnTo>
                    <a:pt x="482" y="509"/>
                  </a:lnTo>
                  <a:lnTo>
                    <a:pt x="395" y="535"/>
                  </a:lnTo>
                  <a:lnTo>
                    <a:pt x="309" y="608"/>
                  </a:lnTo>
                  <a:lnTo>
                    <a:pt x="200" y="634"/>
                  </a:lnTo>
                  <a:lnTo>
                    <a:pt x="0" y="732"/>
                  </a:lnTo>
                  <a:lnTo>
                    <a:pt x="0" y="779"/>
                  </a:lnTo>
                  <a:lnTo>
                    <a:pt x="22" y="826"/>
                  </a:lnTo>
                  <a:lnTo>
                    <a:pt x="109" y="852"/>
                  </a:lnTo>
                  <a:lnTo>
                    <a:pt x="218" y="826"/>
                  </a:lnTo>
                  <a:lnTo>
                    <a:pt x="309" y="805"/>
                  </a:lnTo>
                  <a:lnTo>
                    <a:pt x="527" y="732"/>
                  </a:lnTo>
                  <a:lnTo>
                    <a:pt x="724" y="634"/>
                  </a:lnTo>
                  <a:lnTo>
                    <a:pt x="792" y="634"/>
                  </a:lnTo>
                  <a:lnTo>
                    <a:pt x="856" y="660"/>
                  </a:lnTo>
                  <a:lnTo>
                    <a:pt x="919" y="680"/>
                  </a:lnTo>
                  <a:lnTo>
                    <a:pt x="965" y="732"/>
                  </a:lnTo>
                  <a:lnTo>
                    <a:pt x="1051" y="779"/>
                  </a:lnTo>
                  <a:lnTo>
                    <a:pt x="1074" y="732"/>
                  </a:lnTo>
                  <a:lnTo>
                    <a:pt x="1097" y="706"/>
                  </a:lnTo>
                  <a:lnTo>
                    <a:pt x="1142" y="706"/>
                  </a:lnTo>
                  <a:lnTo>
                    <a:pt x="1206" y="706"/>
                  </a:lnTo>
                  <a:lnTo>
                    <a:pt x="1251" y="706"/>
                  </a:lnTo>
                  <a:lnTo>
                    <a:pt x="1292" y="660"/>
                  </a:lnTo>
                  <a:lnTo>
                    <a:pt x="1338" y="561"/>
                  </a:lnTo>
                  <a:lnTo>
                    <a:pt x="1383" y="436"/>
                  </a:lnTo>
                  <a:lnTo>
                    <a:pt x="1424" y="316"/>
                  </a:lnTo>
                  <a:lnTo>
                    <a:pt x="1447" y="269"/>
                  </a:lnTo>
                  <a:lnTo>
                    <a:pt x="1447" y="243"/>
                  </a:lnTo>
                  <a:lnTo>
                    <a:pt x="1383" y="217"/>
                  </a:lnTo>
                  <a:lnTo>
                    <a:pt x="1292" y="197"/>
                  </a:lnTo>
                  <a:lnTo>
                    <a:pt x="1206" y="171"/>
                  </a:lnTo>
                  <a:lnTo>
                    <a:pt x="1160" y="171"/>
                  </a:lnTo>
                  <a:lnTo>
                    <a:pt x="1119" y="145"/>
                  </a:lnTo>
                  <a:lnTo>
                    <a:pt x="1051" y="124"/>
                  </a:lnTo>
                  <a:lnTo>
                    <a:pt x="1051" y="72"/>
                  </a:lnTo>
                  <a:lnTo>
                    <a:pt x="1033" y="25"/>
                  </a:lnTo>
                  <a:lnTo>
                    <a:pt x="942" y="0"/>
                  </a:lnTo>
                  <a:lnTo>
                    <a:pt x="833" y="0"/>
                  </a:lnTo>
                  <a:lnTo>
                    <a:pt x="746" y="0"/>
                  </a:lnTo>
                  <a:lnTo>
                    <a:pt x="769" y="51"/>
                  </a:lnTo>
                  <a:lnTo>
                    <a:pt x="769" y="72"/>
                  </a:lnTo>
                  <a:lnTo>
                    <a:pt x="833" y="197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4038480" y="3308400"/>
            <a:ext cx="986400" cy="1189800"/>
            <a:chOff x="4038480" y="3308400"/>
            <a:chExt cx="986400" cy="1189800"/>
          </a:xfrm>
        </p:grpSpPr>
        <p:sp>
          <p:nvSpPr>
            <p:cNvPr id="260" name=""/>
            <p:cNvSpPr/>
            <p:nvPr/>
          </p:nvSpPr>
          <p:spPr>
            <a:xfrm>
              <a:off x="4038480" y="4202280"/>
              <a:ext cx="295920" cy="295920"/>
            </a:xfrm>
            <a:custGeom>
              <a:avLst/>
              <a:gdLst/>
              <a:ahLst/>
              <a:rect l="0" t="0" r="r" b="b"/>
              <a:pathLst>
                <a:path w="822" h="822">
                  <a:moveTo>
                    <a:pt x="106" y="116"/>
                  </a:moveTo>
                  <a:lnTo>
                    <a:pt x="106" y="116"/>
                  </a:lnTo>
                  <a:cubicBezTo>
                    <a:pt x="58" y="166"/>
                    <a:pt x="24" y="229"/>
                    <a:pt x="9" y="299"/>
                  </a:cubicBezTo>
                  <a:cubicBezTo>
                    <a:pt x="-6" y="368"/>
                    <a:pt x="-2" y="441"/>
                    <a:pt x="20" y="511"/>
                  </a:cubicBezTo>
                  <a:cubicBezTo>
                    <a:pt x="42" y="581"/>
                    <a:pt x="82" y="645"/>
                    <a:pt x="135" y="697"/>
                  </a:cubicBezTo>
                  <a:cubicBezTo>
                    <a:pt x="189" y="748"/>
                    <a:pt x="254" y="786"/>
                    <a:pt x="325" y="806"/>
                  </a:cubicBezTo>
                  <a:cubicBezTo>
                    <a:pt x="395" y="826"/>
                    <a:pt x="469" y="827"/>
                    <a:pt x="537" y="809"/>
                  </a:cubicBezTo>
                  <a:cubicBezTo>
                    <a:pt x="606" y="792"/>
                    <a:pt x="667" y="756"/>
                    <a:pt x="716" y="706"/>
                  </a:cubicBezTo>
                  <a:lnTo>
                    <a:pt x="716" y="706"/>
                  </a:lnTo>
                  <a:lnTo>
                    <a:pt x="716" y="706"/>
                  </a:lnTo>
                  <a:cubicBezTo>
                    <a:pt x="764" y="656"/>
                    <a:pt x="798" y="593"/>
                    <a:pt x="813" y="523"/>
                  </a:cubicBezTo>
                  <a:cubicBezTo>
                    <a:pt x="828" y="454"/>
                    <a:pt x="824" y="381"/>
                    <a:pt x="802" y="311"/>
                  </a:cubicBezTo>
                  <a:cubicBezTo>
                    <a:pt x="780" y="241"/>
                    <a:pt x="740" y="177"/>
                    <a:pt x="687" y="125"/>
                  </a:cubicBezTo>
                  <a:cubicBezTo>
                    <a:pt x="633" y="74"/>
                    <a:pt x="568" y="36"/>
                    <a:pt x="497" y="16"/>
                  </a:cubicBezTo>
                  <a:cubicBezTo>
                    <a:pt x="427" y="-4"/>
                    <a:pt x="353" y="-5"/>
                    <a:pt x="285" y="13"/>
                  </a:cubicBezTo>
                  <a:cubicBezTo>
                    <a:pt x="216" y="30"/>
                    <a:pt x="155" y="66"/>
                    <a:pt x="106" y="116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10120" y="3308400"/>
              <a:ext cx="914760" cy="991080"/>
            </a:xfrm>
            <a:custGeom>
              <a:avLst/>
              <a:gdLst/>
              <a:ahLst/>
              <a:rect l="0" t="0" r="r" b="b"/>
              <a:pathLst>
                <a:path w="2541" h="2753">
                  <a:moveTo>
                    <a:pt x="1466" y="65"/>
                  </a:moveTo>
                  <a:lnTo>
                    <a:pt x="1329" y="293"/>
                  </a:lnTo>
                  <a:lnTo>
                    <a:pt x="1487" y="1003"/>
                  </a:lnTo>
                  <a:lnTo>
                    <a:pt x="1546" y="1550"/>
                  </a:lnTo>
                  <a:lnTo>
                    <a:pt x="0" y="2177"/>
                  </a:lnTo>
                  <a:lnTo>
                    <a:pt x="624" y="2753"/>
                  </a:lnTo>
                  <a:lnTo>
                    <a:pt x="2541" y="1833"/>
                  </a:lnTo>
                  <a:lnTo>
                    <a:pt x="2228" y="412"/>
                  </a:lnTo>
                  <a:lnTo>
                    <a:pt x="2033" y="94"/>
                  </a:lnTo>
                  <a:lnTo>
                    <a:pt x="1704" y="0"/>
                  </a:lnTo>
                  <a:lnTo>
                    <a:pt x="1466" y="65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3238560" y="4025880"/>
            <a:ext cx="965520" cy="724320"/>
          </a:xfrm>
          <a:custGeom>
            <a:avLst/>
            <a:gdLst/>
            <a:ahLst/>
            <a:rect l="0" t="0" r="r" b="b"/>
            <a:pathLst>
              <a:path w="2682" h="2012">
                <a:moveTo>
                  <a:pt x="2470" y="565"/>
                </a:moveTo>
                <a:lnTo>
                  <a:pt x="2082" y="317"/>
                </a:lnTo>
                <a:lnTo>
                  <a:pt x="1764" y="176"/>
                </a:lnTo>
                <a:lnTo>
                  <a:pt x="1128" y="0"/>
                </a:lnTo>
                <a:lnTo>
                  <a:pt x="705" y="211"/>
                </a:lnTo>
                <a:lnTo>
                  <a:pt x="317" y="388"/>
                </a:lnTo>
                <a:lnTo>
                  <a:pt x="176" y="847"/>
                </a:lnTo>
                <a:lnTo>
                  <a:pt x="0" y="1412"/>
                </a:lnTo>
                <a:lnTo>
                  <a:pt x="176" y="1765"/>
                </a:lnTo>
                <a:lnTo>
                  <a:pt x="70" y="2012"/>
                </a:lnTo>
                <a:lnTo>
                  <a:pt x="282" y="1907"/>
                </a:lnTo>
                <a:lnTo>
                  <a:pt x="458" y="1624"/>
                </a:lnTo>
                <a:lnTo>
                  <a:pt x="564" y="1094"/>
                </a:lnTo>
                <a:lnTo>
                  <a:pt x="776" y="706"/>
                </a:lnTo>
                <a:lnTo>
                  <a:pt x="1234" y="493"/>
                </a:lnTo>
                <a:lnTo>
                  <a:pt x="1764" y="600"/>
                </a:lnTo>
                <a:lnTo>
                  <a:pt x="2152" y="847"/>
                </a:lnTo>
                <a:lnTo>
                  <a:pt x="2399" y="953"/>
                </a:lnTo>
                <a:lnTo>
                  <a:pt x="2611" y="953"/>
                </a:lnTo>
                <a:lnTo>
                  <a:pt x="2682" y="706"/>
                </a:lnTo>
                <a:lnTo>
                  <a:pt x="2470" y="565"/>
                </a:lnTo>
                <a:close/>
              </a:path>
            </a:pathLst>
          </a:custGeom>
          <a:solidFill>
            <a:srgbClr val="ff9999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0880" y="22860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My Stomach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3236400" y="3214800"/>
            <a:ext cx="874080" cy="1288080"/>
            <a:chOff x="3236400" y="3214800"/>
            <a:chExt cx="874080" cy="1288080"/>
          </a:xfrm>
        </p:grpSpPr>
        <p:sp>
          <p:nvSpPr>
            <p:cNvPr id="265" name=""/>
            <p:cNvSpPr/>
            <p:nvPr/>
          </p:nvSpPr>
          <p:spPr>
            <a:xfrm>
              <a:off x="3321000" y="3214800"/>
              <a:ext cx="789480" cy="1094040"/>
            </a:xfrm>
            <a:custGeom>
              <a:avLst/>
              <a:gdLst/>
              <a:ahLst/>
              <a:rect l="0" t="0" r="r" b="b"/>
              <a:pathLst>
                <a:path w="2193" h="3039">
                  <a:moveTo>
                    <a:pt x="2078" y="0"/>
                  </a:moveTo>
                  <a:lnTo>
                    <a:pt x="2193" y="154"/>
                  </a:lnTo>
                  <a:lnTo>
                    <a:pt x="2162" y="480"/>
                  </a:lnTo>
                  <a:lnTo>
                    <a:pt x="1673" y="1261"/>
                  </a:lnTo>
                  <a:lnTo>
                    <a:pt x="724" y="3039"/>
                  </a:lnTo>
                  <a:lnTo>
                    <a:pt x="0" y="2615"/>
                  </a:lnTo>
                  <a:lnTo>
                    <a:pt x="900" y="1137"/>
                  </a:lnTo>
                  <a:lnTo>
                    <a:pt x="1699" y="123"/>
                  </a:lnTo>
                  <a:lnTo>
                    <a:pt x="2078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36400" y="4212360"/>
              <a:ext cx="305280" cy="290520"/>
            </a:xfrm>
            <a:custGeom>
              <a:avLst/>
              <a:gdLst/>
              <a:ahLst/>
              <a:rect l="0" t="0" r="r" b="b"/>
              <a:pathLst>
                <a:path w="848" h="807">
                  <a:moveTo>
                    <a:pt x="21" y="265"/>
                  </a:moveTo>
                  <a:lnTo>
                    <a:pt x="21" y="265"/>
                  </a:lnTo>
                  <a:cubicBezTo>
                    <a:pt x="-2" y="331"/>
                    <a:pt x="-6" y="403"/>
                    <a:pt x="10" y="473"/>
                  </a:cubicBezTo>
                  <a:cubicBezTo>
                    <a:pt x="26" y="542"/>
                    <a:pt x="60" y="608"/>
                    <a:pt x="110" y="662"/>
                  </a:cubicBezTo>
                  <a:cubicBezTo>
                    <a:pt x="160" y="716"/>
                    <a:pt x="223" y="758"/>
                    <a:pt x="294" y="782"/>
                  </a:cubicBezTo>
                  <a:cubicBezTo>
                    <a:pt x="365" y="807"/>
                    <a:pt x="440" y="813"/>
                    <a:pt x="513" y="801"/>
                  </a:cubicBezTo>
                  <a:cubicBezTo>
                    <a:pt x="586" y="789"/>
                    <a:pt x="653" y="759"/>
                    <a:pt x="709" y="713"/>
                  </a:cubicBezTo>
                  <a:cubicBezTo>
                    <a:pt x="764" y="668"/>
                    <a:pt x="805" y="609"/>
                    <a:pt x="828" y="542"/>
                  </a:cubicBezTo>
                  <a:lnTo>
                    <a:pt x="828" y="542"/>
                  </a:lnTo>
                  <a:lnTo>
                    <a:pt x="828" y="542"/>
                  </a:lnTo>
                  <a:cubicBezTo>
                    <a:pt x="851" y="476"/>
                    <a:pt x="855" y="404"/>
                    <a:pt x="839" y="334"/>
                  </a:cubicBezTo>
                  <a:cubicBezTo>
                    <a:pt x="823" y="265"/>
                    <a:pt x="789" y="199"/>
                    <a:pt x="739" y="145"/>
                  </a:cubicBezTo>
                  <a:cubicBezTo>
                    <a:pt x="689" y="91"/>
                    <a:pt x="626" y="49"/>
                    <a:pt x="555" y="25"/>
                  </a:cubicBezTo>
                  <a:cubicBezTo>
                    <a:pt x="484" y="0"/>
                    <a:pt x="409" y="-6"/>
                    <a:pt x="336" y="6"/>
                  </a:cubicBezTo>
                  <a:cubicBezTo>
                    <a:pt x="263" y="18"/>
                    <a:pt x="196" y="48"/>
                    <a:pt x="140" y="94"/>
                  </a:cubicBezTo>
                  <a:cubicBezTo>
                    <a:pt x="85" y="139"/>
                    <a:pt x="44" y="198"/>
                    <a:pt x="21" y="265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2463840" y="6146640"/>
            <a:ext cx="3670560" cy="344880"/>
          </a:xfrm>
          <a:custGeom>
            <a:avLst/>
            <a:gdLst/>
            <a:ahLst/>
            <a:rect l="0" t="0" r="r" b="b"/>
            <a:pathLst>
              <a:path w="10196" h="958">
                <a:moveTo>
                  <a:pt x="3764" y="216"/>
                </a:moveTo>
                <a:lnTo>
                  <a:pt x="3654" y="246"/>
                </a:lnTo>
                <a:lnTo>
                  <a:pt x="3570" y="246"/>
                </a:lnTo>
                <a:lnTo>
                  <a:pt x="3517" y="246"/>
                </a:lnTo>
                <a:lnTo>
                  <a:pt x="3407" y="216"/>
                </a:lnTo>
                <a:lnTo>
                  <a:pt x="3354" y="183"/>
                </a:lnTo>
                <a:lnTo>
                  <a:pt x="3297" y="183"/>
                </a:lnTo>
                <a:lnTo>
                  <a:pt x="3244" y="155"/>
                </a:lnTo>
                <a:lnTo>
                  <a:pt x="3217" y="155"/>
                </a:lnTo>
                <a:lnTo>
                  <a:pt x="2997" y="246"/>
                </a:lnTo>
                <a:lnTo>
                  <a:pt x="2781" y="340"/>
                </a:lnTo>
                <a:lnTo>
                  <a:pt x="2508" y="216"/>
                </a:lnTo>
                <a:lnTo>
                  <a:pt x="2208" y="94"/>
                </a:lnTo>
                <a:lnTo>
                  <a:pt x="2128" y="61"/>
                </a:lnTo>
                <a:lnTo>
                  <a:pt x="2098" y="61"/>
                </a:lnTo>
                <a:lnTo>
                  <a:pt x="2071" y="61"/>
                </a:lnTo>
                <a:lnTo>
                  <a:pt x="2045" y="94"/>
                </a:lnTo>
                <a:lnTo>
                  <a:pt x="762" y="279"/>
                </a:lnTo>
                <a:lnTo>
                  <a:pt x="357" y="524"/>
                </a:lnTo>
                <a:lnTo>
                  <a:pt x="273" y="646"/>
                </a:lnTo>
                <a:lnTo>
                  <a:pt x="246" y="679"/>
                </a:lnTo>
                <a:lnTo>
                  <a:pt x="246" y="679"/>
                </a:lnTo>
                <a:lnTo>
                  <a:pt x="273" y="646"/>
                </a:lnTo>
                <a:lnTo>
                  <a:pt x="326" y="585"/>
                </a:lnTo>
                <a:lnTo>
                  <a:pt x="357" y="585"/>
                </a:lnTo>
                <a:lnTo>
                  <a:pt x="357" y="618"/>
                </a:lnTo>
                <a:lnTo>
                  <a:pt x="357" y="742"/>
                </a:lnTo>
                <a:lnTo>
                  <a:pt x="299" y="803"/>
                </a:lnTo>
                <a:lnTo>
                  <a:pt x="189" y="836"/>
                </a:lnTo>
                <a:lnTo>
                  <a:pt x="83" y="864"/>
                </a:lnTo>
                <a:lnTo>
                  <a:pt x="0" y="897"/>
                </a:lnTo>
                <a:lnTo>
                  <a:pt x="110" y="958"/>
                </a:lnTo>
                <a:lnTo>
                  <a:pt x="189" y="958"/>
                </a:lnTo>
                <a:lnTo>
                  <a:pt x="273" y="925"/>
                </a:lnTo>
                <a:lnTo>
                  <a:pt x="383" y="897"/>
                </a:lnTo>
                <a:lnTo>
                  <a:pt x="489" y="742"/>
                </a:lnTo>
                <a:lnTo>
                  <a:pt x="573" y="679"/>
                </a:lnTo>
                <a:lnTo>
                  <a:pt x="656" y="679"/>
                </a:lnTo>
                <a:lnTo>
                  <a:pt x="819" y="742"/>
                </a:lnTo>
                <a:lnTo>
                  <a:pt x="899" y="864"/>
                </a:lnTo>
                <a:lnTo>
                  <a:pt x="982" y="897"/>
                </a:lnTo>
                <a:lnTo>
                  <a:pt x="1093" y="864"/>
                </a:lnTo>
                <a:lnTo>
                  <a:pt x="1198" y="775"/>
                </a:lnTo>
                <a:lnTo>
                  <a:pt x="1282" y="679"/>
                </a:lnTo>
                <a:lnTo>
                  <a:pt x="1362" y="679"/>
                </a:lnTo>
                <a:lnTo>
                  <a:pt x="1445" y="712"/>
                </a:lnTo>
                <a:lnTo>
                  <a:pt x="1555" y="775"/>
                </a:lnTo>
                <a:lnTo>
                  <a:pt x="1829" y="712"/>
                </a:lnTo>
                <a:lnTo>
                  <a:pt x="2128" y="679"/>
                </a:lnTo>
                <a:lnTo>
                  <a:pt x="2481" y="742"/>
                </a:lnTo>
                <a:lnTo>
                  <a:pt x="2671" y="742"/>
                </a:lnTo>
                <a:lnTo>
                  <a:pt x="2917" y="712"/>
                </a:lnTo>
                <a:lnTo>
                  <a:pt x="3133" y="679"/>
                </a:lnTo>
                <a:lnTo>
                  <a:pt x="3217" y="712"/>
                </a:lnTo>
                <a:lnTo>
                  <a:pt x="3270" y="742"/>
                </a:lnTo>
                <a:lnTo>
                  <a:pt x="3270" y="742"/>
                </a:lnTo>
                <a:lnTo>
                  <a:pt x="3517" y="958"/>
                </a:lnTo>
                <a:lnTo>
                  <a:pt x="3953" y="742"/>
                </a:lnTo>
                <a:lnTo>
                  <a:pt x="4579" y="742"/>
                </a:lnTo>
                <a:lnTo>
                  <a:pt x="5016" y="742"/>
                </a:lnTo>
                <a:lnTo>
                  <a:pt x="5068" y="864"/>
                </a:lnTo>
                <a:lnTo>
                  <a:pt x="5127" y="925"/>
                </a:lnTo>
                <a:lnTo>
                  <a:pt x="5237" y="958"/>
                </a:lnTo>
                <a:lnTo>
                  <a:pt x="5369" y="925"/>
                </a:lnTo>
                <a:lnTo>
                  <a:pt x="5479" y="897"/>
                </a:lnTo>
                <a:lnTo>
                  <a:pt x="5537" y="864"/>
                </a:lnTo>
                <a:lnTo>
                  <a:pt x="5590" y="897"/>
                </a:lnTo>
                <a:lnTo>
                  <a:pt x="5669" y="958"/>
                </a:lnTo>
                <a:lnTo>
                  <a:pt x="5779" y="958"/>
                </a:lnTo>
                <a:lnTo>
                  <a:pt x="5863" y="925"/>
                </a:lnTo>
                <a:lnTo>
                  <a:pt x="5916" y="925"/>
                </a:lnTo>
                <a:lnTo>
                  <a:pt x="5969" y="897"/>
                </a:lnTo>
                <a:lnTo>
                  <a:pt x="6026" y="864"/>
                </a:lnTo>
                <a:lnTo>
                  <a:pt x="6052" y="864"/>
                </a:lnTo>
                <a:lnTo>
                  <a:pt x="6326" y="897"/>
                </a:lnTo>
                <a:lnTo>
                  <a:pt x="6573" y="836"/>
                </a:lnTo>
                <a:lnTo>
                  <a:pt x="6736" y="897"/>
                </a:lnTo>
                <a:lnTo>
                  <a:pt x="6872" y="925"/>
                </a:lnTo>
                <a:lnTo>
                  <a:pt x="6952" y="958"/>
                </a:lnTo>
                <a:lnTo>
                  <a:pt x="6978" y="958"/>
                </a:lnTo>
                <a:lnTo>
                  <a:pt x="7088" y="925"/>
                </a:lnTo>
                <a:lnTo>
                  <a:pt x="7198" y="897"/>
                </a:lnTo>
                <a:lnTo>
                  <a:pt x="7251" y="897"/>
                </a:lnTo>
                <a:lnTo>
                  <a:pt x="7304" y="864"/>
                </a:lnTo>
                <a:lnTo>
                  <a:pt x="7304" y="864"/>
                </a:lnTo>
                <a:lnTo>
                  <a:pt x="7551" y="925"/>
                </a:lnTo>
                <a:lnTo>
                  <a:pt x="7688" y="958"/>
                </a:lnTo>
                <a:lnTo>
                  <a:pt x="7798" y="925"/>
                </a:lnTo>
                <a:lnTo>
                  <a:pt x="7908" y="897"/>
                </a:lnTo>
                <a:lnTo>
                  <a:pt x="8014" y="864"/>
                </a:lnTo>
                <a:lnTo>
                  <a:pt x="8124" y="836"/>
                </a:lnTo>
                <a:lnTo>
                  <a:pt x="8151" y="836"/>
                </a:lnTo>
                <a:lnTo>
                  <a:pt x="8450" y="897"/>
                </a:lnTo>
                <a:lnTo>
                  <a:pt x="8587" y="897"/>
                </a:lnTo>
                <a:lnTo>
                  <a:pt x="8724" y="864"/>
                </a:lnTo>
                <a:lnTo>
                  <a:pt x="8944" y="864"/>
                </a:lnTo>
                <a:lnTo>
                  <a:pt x="9160" y="836"/>
                </a:lnTo>
                <a:lnTo>
                  <a:pt x="9213" y="775"/>
                </a:lnTo>
                <a:lnTo>
                  <a:pt x="9270" y="712"/>
                </a:lnTo>
                <a:lnTo>
                  <a:pt x="9433" y="679"/>
                </a:lnTo>
                <a:lnTo>
                  <a:pt x="9596" y="679"/>
                </a:lnTo>
                <a:lnTo>
                  <a:pt x="9759" y="712"/>
                </a:lnTo>
                <a:lnTo>
                  <a:pt x="9896" y="712"/>
                </a:lnTo>
                <a:lnTo>
                  <a:pt x="10033" y="679"/>
                </a:lnTo>
                <a:lnTo>
                  <a:pt x="10112" y="618"/>
                </a:lnTo>
                <a:lnTo>
                  <a:pt x="10196" y="524"/>
                </a:lnTo>
                <a:lnTo>
                  <a:pt x="10169" y="462"/>
                </a:lnTo>
                <a:lnTo>
                  <a:pt x="10143" y="434"/>
                </a:lnTo>
                <a:lnTo>
                  <a:pt x="10112" y="401"/>
                </a:lnTo>
                <a:lnTo>
                  <a:pt x="10059" y="434"/>
                </a:lnTo>
                <a:lnTo>
                  <a:pt x="9980" y="462"/>
                </a:lnTo>
                <a:lnTo>
                  <a:pt x="9922" y="495"/>
                </a:lnTo>
                <a:lnTo>
                  <a:pt x="9896" y="495"/>
                </a:lnTo>
                <a:lnTo>
                  <a:pt x="9843" y="462"/>
                </a:lnTo>
                <a:lnTo>
                  <a:pt x="9733" y="462"/>
                </a:lnTo>
                <a:lnTo>
                  <a:pt x="9649" y="434"/>
                </a:lnTo>
                <a:lnTo>
                  <a:pt x="9570" y="401"/>
                </a:lnTo>
                <a:lnTo>
                  <a:pt x="9513" y="373"/>
                </a:lnTo>
                <a:lnTo>
                  <a:pt x="9433" y="307"/>
                </a:lnTo>
                <a:lnTo>
                  <a:pt x="9376" y="279"/>
                </a:lnTo>
                <a:lnTo>
                  <a:pt x="9349" y="246"/>
                </a:lnTo>
                <a:lnTo>
                  <a:pt x="8913" y="307"/>
                </a:lnTo>
                <a:lnTo>
                  <a:pt x="8508" y="373"/>
                </a:lnTo>
                <a:lnTo>
                  <a:pt x="8340" y="340"/>
                </a:lnTo>
                <a:lnTo>
                  <a:pt x="8177" y="340"/>
                </a:lnTo>
                <a:lnTo>
                  <a:pt x="8040" y="279"/>
                </a:lnTo>
                <a:lnTo>
                  <a:pt x="7908" y="216"/>
                </a:lnTo>
                <a:lnTo>
                  <a:pt x="7798" y="155"/>
                </a:lnTo>
                <a:lnTo>
                  <a:pt x="7714" y="94"/>
                </a:lnTo>
                <a:lnTo>
                  <a:pt x="7608" y="61"/>
                </a:lnTo>
                <a:lnTo>
                  <a:pt x="7578" y="32"/>
                </a:lnTo>
                <a:lnTo>
                  <a:pt x="7278" y="94"/>
                </a:lnTo>
                <a:lnTo>
                  <a:pt x="6978" y="155"/>
                </a:lnTo>
                <a:lnTo>
                  <a:pt x="6815" y="183"/>
                </a:lnTo>
                <a:lnTo>
                  <a:pt x="6652" y="122"/>
                </a:lnTo>
                <a:lnTo>
                  <a:pt x="6326" y="0"/>
                </a:lnTo>
                <a:lnTo>
                  <a:pt x="5942" y="61"/>
                </a:lnTo>
                <a:lnTo>
                  <a:pt x="5753" y="94"/>
                </a:lnTo>
                <a:lnTo>
                  <a:pt x="5563" y="155"/>
                </a:lnTo>
                <a:lnTo>
                  <a:pt x="5479" y="183"/>
                </a:lnTo>
                <a:lnTo>
                  <a:pt x="5369" y="216"/>
                </a:lnTo>
                <a:lnTo>
                  <a:pt x="5290" y="246"/>
                </a:lnTo>
                <a:lnTo>
                  <a:pt x="5263" y="246"/>
                </a:lnTo>
                <a:lnTo>
                  <a:pt x="5153" y="246"/>
                </a:lnTo>
                <a:lnTo>
                  <a:pt x="5016" y="216"/>
                </a:lnTo>
                <a:lnTo>
                  <a:pt x="4879" y="183"/>
                </a:lnTo>
                <a:lnTo>
                  <a:pt x="4826" y="155"/>
                </a:lnTo>
                <a:lnTo>
                  <a:pt x="4800" y="155"/>
                </a:lnTo>
                <a:lnTo>
                  <a:pt x="4663" y="183"/>
                </a:lnTo>
                <a:lnTo>
                  <a:pt x="4579" y="216"/>
                </a:lnTo>
                <a:lnTo>
                  <a:pt x="4469" y="216"/>
                </a:lnTo>
                <a:lnTo>
                  <a:pt x="4332" y="183"/>
                </a:lnTo>
                <a:lnTo>
                  <a:pt x="4279" y="155"/>
                </a:lnTo>
                <a:lnTo>
                  <a:pt x="4200" y="122"/>
                </a:lnTo>
                <a:lnTo>
                  <a:pt x="4143" y="94"/>
                </a:lnTo>
                <a:lnTo>
                  <a:pt x="4116" y="94"/>
                </a:lnTo>
                <a:lnTo>
                  <a:pt x="4033" y="122"/>
                </a:lnTo>
                <a:lnTo>
                  <a:pt x="3980" y="155"/>
                </a:lnTo>
                <a:lnTo>
                  <a:pt x="3927" y="183"/>
                </a:lnTo>
                <a:lnTo>
                  <a:pt x="3896" y="183"/>
                </a:lnTo>
                <a:lnTo>
                  <a:pt x="3817" y="155"/>
                </a:lnTo>
                <a:lnTo>
                  <a:pt x="3733" y="183"/>
                </a:lnTo>
                <a:lnTo>
                  <a:pt x="3706" y="216"/>
                </a:lnTo>
                <a:lnTo>
                  <a:pt x="3706" y="216"/>
                </a:lnTo>
                <a:lnTo>
                  <a:pt x="3764" y="216"/>
                </a:lnTo>
                <a:close/>
              </a:path>
            </a:pathLst>
          </a:custGeom>
          <a:solidFill>
            <a:srgbClr val="e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638520" y="4448160"/>
            <a:ext cx="1514880" cy="1867320"/>
            <a:chOff x="3638520" y="4448160"/>
            <a:chExt cx="1514880" cy="1867320"/>
          </a:xfrm>
        </p:grpSpPr>
        <p:sp>
          <p:nvSpPr>
            <p:cNvPr id="269" name=""/>
            <p:cNvSpPr/>
            <p:nvPr/>
          </p:nvSpPr>
          <p:spPr>
            <a:xfrm>
              <a:off x="4019400" y="4448160"/>
              <a:ext cx="657720" cy="1724400"/>
            </a:xfrm>
            <a:custGeom>
              <a:avLst/>
              <a:gdLst/>
              <a:ahLst/>
              <a:rect l="0" t="0" r="r" b="b"/>
              <a:pathLst>
                <a:path w="1827" h="4790">
                  <a:moveTo>
                    <a:pt x="0" y="0"/>
                  </a:moveTo>
                  <a:lnTo>
                    <a:pt x="317" y="4790"/>
                  </a:lnTo>
                  <a:lnTo>
                    <a:pt x="1032" y="4790"/>
                  </a:lnTo>
                  <a:lnTo>
                    <a:pt x="927" y="1297"/>
                  </a:lnTo>
                  <a:lnTo>
                    <a:pt x="1032" y="4790"/>
                  </a:lnTo>
                  <a:lnTo>
                    <a:pt x="1827" y="4790"/>
                  </a:lnTo>
                  <a:lnTo>
                    <a:pt x="1748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38520" y="6105600"/>
              <a:ext cx="752760" cy="209880"/>
            </a:xfrm>
            <a:custGeom>
              <a:avLst/>
              <a:gdLst/>
              <a:ahLst/>
              <a:rect l="0" t="0" r="r" b="b"/>
              <a:pathLst>
                <a:path w="2091" h="583">
                  <a:moveTo>
                    <a:pt x="1376" y="185"/>
                  </a:moveTo>
                  <a:lnTo>
                    <a:pt x="978" y="52"/>
                  </a:lnTo>
                  <a:lnTo>
                    <a:pt x="714" y="0"/>
                  </a:lnTo>
                  <a:lnTo>
                    <a:pt x="423" y="105"/>
                  </a:lnTo>
                  <a:lnTo>
                    <a:pt x="132" y="264"/>
                  </a:lnTo>
                  <a:lnTo>
                    <a:pt x="0" y="477"/>
                  </a:lnTo>
                  <a:lnTo>
                    <a:pt x="185" y="583"/>
                  </a:lnTo>
                  <a:lnTo>
                    <a:pt x="2091" y="583"/>
                  </a:lnTo>
                  <a:lnTo>
                    <a:pt x="2091" y="185"/>
                  </a:lnTo>
                  <a:lnTo>
                    <a:pt x="1376" y="185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400640" y="6105600"/>
              <a:ext cx="752760" cy="209880"/>
            </a:xfrm>
            <a:custGeom>
              <a:avLst/>
              <a:gdLst/>
              <a:ahLst/>
              <a:rect l="0" t="0" r="r" b="b"/>
              <a:pathLst>
                <a:path w="2091" h="583">
                  <a:moveTo>
                    <a:pt x="714" y="185"/>
                  </a:moveTo>
                  <a:lnTo>
                    <a:pt x="1112" y="52"/>
                  </a:lnTo>
                  <a:lnTo>
                    <a:pt x="1376" y="0"/>
                  </a:lnTo>
                  <a:lnTo>
                    <a:pt x="1667" y="105"/>
                  </a:lnTo>
                  <a:lnTo>
                    <a:pt x="1958" y="264"/>
                  </a:lnTo>
                  <a:lnTo>
                    <a:pt x="2091" y="477"/>
                  </a:lnTo>
                  <a:lnTo>
                    <a:pt x="1906" y="583"/>
                  </a:lnTo>
                  <a:lnTo>
                    <a:pt x="0" y="583"/>
                  </a:lnTo>
                  <a:lnTo>
                    <a:pt x="0" y="185"/>
                  </a:lnTo>
                  <a:lnTo>
                    <a:pt x="714" y="185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3795840" y="1373040"/>
            <a:ext cx="1081080" cy="3275640"/>
            <a:chOff x="3795840" y="1373040"/>
            <a:chExt cx="1081080" cy="3275640"/>
          </a:xfrm>
        </p:grpSpPr>
        <p:sp>
          <p:nvSpPr>
            <p:cNvPr id="273" name=""/>
            <p:cNvSpPr/>
            <p:nvPr/>
          </p:nvSpPr>
          <p:spPr>
            <a:xfrm>
              <a:off x="3895560" y="3048120"/>
              <a:ext cx="981360" cy="1600560"/>
            </a:xfrm>
            <a:custGeom>
              <a:avLst/>
              <a:gdLst/>
              <a:ahLst/>
              <a:rect l="0" t="0" r="r" b="b"/>
              <a:pathLst>
                <a:path w="2726" h="4446">
                  <a:moveTo>
                    <a:pt x="953" y="374"/>
                  </a:moveTo>
                  <a:lnTo>
                    <a:pt x="865" y="392"/>
                  </a:lnTo>
                  <a:lnTo>
                    <a:pt x="799" y="436"/>
                  </a:lnTo>
                  <a:lnTo>
                    <a:pt x="672" y="582"/>
                  </a:lnTo>
                  <a:lnTo>
                    <a:pt x="540" y="723"/>
                  </a:lnTo>
                  <a:lnTo>
                    <a:pt x="391" y="851"/>
                  </a:lnTo>
                  <a:lnTo>
                    <a:pt x="369" y="890"/>
                  </a:lnTo>
                  <a:lnTo>
                    <a:pt x="347" y="930"/>
                  </a:lnTo>
                  <a:lnTo>
                    <a:pt x="347" y="930"/>
                  </a:lnTo>
                  <a:lnTo>
                    <a:pt x="369" y="930"/>
                  </a:lnTo>
                  <a:lnTo>
                    <a:pt x="153" y="1553"/>
                  </a:lnTo>
                  <a:lnTo>
                    <a:pt x="0" y="4345"/>
                  </a:lnTo>
                  <a:lnTo>
                    <a:pt x="2726" y="4446"/>
                  </a:lnTo>
                  <a:lnTo>
                    <a:pt x="2317" y="1844"/>
                  </a:lnTo>
                  <a:lnTo>
                    <a:pt x="2119" y="414"/>
                  </a:lnTo>
                  <a:lnTo>
                    <a:pt x="1385" y="0"/>
                  </a:lnTo>
                  <a:lnTo>
                    <a:pt x="953" y="374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3795840" y="1373040"/>
              <a:ext cx="1005120" cy="1818000"/>
              <a:chOff x="3795840" y="1373040"/>
              <a:chExt cx="1005120" cy="1818000"/>
            </a:xfrm>
          </p:grpSpPr>
          <p:sp>
            <p:nvSpPr>
              <p:cNvPr id="275" name=""/>
              <p:cNvSpPr/>
              <p:nvPr/>
            </p:nvSpPr>
            <p:spPr>
              <a:xfrm>
                <a:off x="3905280" y="1609560"/>
                <a:ext cx="895680" cy="1581480"/>
              </a:xfrm>
              <a:custGeom>
                <a:avLst/>
                <a:gdLst/>
                <a:ahLst/>
                <a:rect l="0" t="0" r="r" b="b"/>
                <a:pathLst>
                  <a:path w="2488" h="4393">
                    <a:moveTo>
                      <a:pt x="582" y="0"/>
                    </a:moveTo>
                    <a:lnTo>
                      <a:pt x="264" y="264"/>
                    </a:lnTo>
                    <a:lnTo>
                      <a:pt x="79" y="687"/>
                    </a:lnTo>
                    <a:lnTo>
                      <a:pt x="26" y="1217"/>
                    </a:lnTo>
                    <a:lnTo>
                      <a:pt x="0" y="2699"/>
                    </a:lnTo>
                    <a:lnTo>
                      <a:pt x="52" y="3546"/>
                    </a:lnTo>
                    <a:lnTo>
                      <a:pt x="820" y="3599"/>
                    </a:lnTo>
                    <a:lnTo>
                      <a:pt x="926" y="4075"/>
                    </a:lnTo>
                    <a:lnTo>
                      <a:pt x="1031" y="4393"/>
                    </a:lnTo>
                    <a:lnTo>
                      <a:pt x="1271" y="4393"/>
                    </a:lnTo>
                    <a:lnTo>
                      <a:pt x="1403" y="4102"/>
                    </a:lnTo>
                    <a:lnTo>
                      <a:pt x="1323" y="3599"/>
                    </a:lnTo>
                    <a:lnTo>
                      <a:pt x="2038" y="3519"/>
                    </a:lnTo>
                    <a:lnTo>
                      <a:pt x="2064" y="3017"/>
                    </a:lnTo>
                    <a:lnTo>
                      <a:pt x="2223" y="3096"/>
                    </a:lnTo>
                    <a:lnTo>
                      <a:pt x="2382" y="3043"/>
                    </a:lnTo>
                    <a:lnTo>
                      <a:pt x="2488" y="2620"/>
                    </a:lnTo>
                    <a:lnTo>
                      <a:pt x="2355" y="2408"/>
                    </a:lnTo>
                    <a:lnTo>
                      <a:pt x="2197" y="2435"/>
                    </a:lnTo>
                    <a:lnTo>
                      <a:pt x="2355" y="185"/>
                    </a:lnTo>
                    <a:lnTo>
                      <a:pt x="582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795840" y="2052720"/>
                <a:ext cx="409680" cy="4096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148280" y="2014560"/>
                <a:ext cx="485640" cy="4856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338720" y="2214720"/>
                <a:ext cx="85680" cy="85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4560" bIns="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929040" y="2224080"/>
                <a:ext cx="85680" cy="85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4560" bIns="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135320" y="1401840"/>
                <a:ext cx="7920" cy="217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4249800" y="1382760"/>
                <a:ext cx="17280" cy="217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4411800" y="1373040"/>
                <a:ext cx="36360" cy="227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4573440" y="1420920"/>
                <a:ext cx="55800" cy="198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4716360" y="1449360"/>
                <a:ext cx="55800" cy="179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895560" y="2562120"/>
                <a:ext cx="657720" cy="257400"/>
              </a:xfrm>
              <a:custGeom>
                <a:avLst/>
                <a:gdLst/>
                <a:ahLst/>
                <a:rect l="0" t="0" r="r" b="b"/>
                <a:pathLst>
                  <a:path w="1827" h="715">
                    <a:moveTo>
                      <a:pt x="0" y="0"/>
                    </a:moveTo>
                    <a:lnTo>
                      <a:pt x="1827" y="163"/>
                    </a:lnTo>
                    <a:lnTo>
                      <a:pt x="746" y="7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4191120" y="3057480"/>
              <a:ext cx="305280" cy="181440"/>
            </a:xfrm>
            <a:custGeom>
              <a:avLst/>
              <a:gdLst/>
              <a:ahLst/>
              <a:rect l="0" t="0" r="r" b="b"/>
              <a:pathLst>
                <a:path w="848" h="504">
                  <a:moveTo>
                    <a:pt x="0" y="344"/>
                  </a:moveTo>
                  <a:lnTo>
                    <a:pt x="239" y="478"/>
                  </a:lnTo>
                  <a:lnTo>
                    <a:pt x="663" y="504"/>
                  </a:lnTo>
                  <a:lnTo>
                    <a:pt x="848" y="265"/>
                  </a:lnTo>
                  <a:lnTo>
                    <a:pt x="848" y="79"/>
                  </a:lnTo>
                  <a:lnTo>
                    <a:pt x="663" y="0"/>
                  </a:lnTo>
                  <a:lnTo>
                    <a:pt x="477" y="265"/>
                  </a:lnTo>
                  <a:lnTo>
                    <a:pt x="185" y="292"/>
                  </a:lnTo>
                  <a:lnTo>
                    <a:pt x="0" y="344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4200480" y="4005360"/>
            <a:ext cx="276480" cy="562320"/>
          </a:xfrm>
          <a:custGeom>
            <a:avLst/>
            <a:gdLst/>
            <a:ahLst/>
            <a:rect l="0" t="0" r="r" b="b"/>
            <a:pathLst>
              <a:path w="768" h="1562">
                <a:moveTo>
                  <a:pt x="196" y="62"/>
                </a:moveTo>
                <a:lnTo>
                  <a:pt x="235" y="22"/>
                </a:lnTo>
                <a:lnTo>
                  <a:pt x="274" y="0"/>
                </a:lnTo>
                <a:lnTo>
                  <a:pt x="313" y="22"/>
                </a:lnTo>
                <a:lnTo>
                  <a:pt x="374" y="40"/>
                </a:lnTo>
                <a:lnTo>
                  <a:pt x="471" y="0"/>
                </a:lnTo>
                <a:lnTo>
                  <a:pt x="511" y="0"/>
                </a:lnTo>
                <a:lnTo>
                  <a:pt x="572" y="0"/>
                </a:lnTo>
                <a:lnTo>
                  <a:pt x="572" y="62"/>
                </a:lnTo>
                <a:lnTo>
                  <a:pt x="572" y="80"/>
                </a:lnTo>
                <a:lnTo>
                  <a:pt x="511" y="142"/>
                </a:lnTo>
                <a:lnTo>
                  <a:pt x="532" y="227"/>
                </a:lnTo>
                <a:lnTo>
                  <a:pt x="532" y="289"/>
                </a:lnTo>
                <a:lnTo>
                  <a:pt x="572" y="330"/>
                </a:lnTo>
                <a:lnTo>
                  <a:pt x="611" y="392"/>
                </a:lnTo>
                <a:lnTo>
                  <a:pt x="589" y="535"/>
                </a:lnTo>
                <a:lnTo>
                  <a:pt x="550" y="637"/>
                </a:lnTo>
                <a:lnTo>
                  <a:pt x="589" y="700"/>
                </a:lnTo>
                <a:lnTo>
                  <a:pt x="650" y="780"/>
                </a:lnTo>
                <a:lnTo>
                  <a:pt x="707" y="861"/>
                </a:lnTo>
                <a:lnTo>
                  <a:pt x="729" y="924"/>
                </a:lnTo>
                <a:lnTo>
                  <a:pt x="746" y="986"/>
                </a:lnTo>
                <a:lnTo>
                  <a:pt x="768" y="1026"/>
                </a:lnTo>
                <a:lnTo>
                  <a:pt x="768" y="1026"/>
                </a:lnTo>
                <a:lnTo>
                  <a:pt x="746" y="1174"/>
                </a:lnTo>
                <a:lnTo>
                  <a:pt x="729" y="1294"/>
                </a:lnTo>
                <a:lnTo>
                  <a:pt x="707" y="1419"/>
                </a:lnTo>
                <a:lnTo>
                  <a:pt x="668" y="1562"/>
                </a:lnTo>
                <a:lnTo>
                  <a:pt x="668" y="1521"/>
                </a:lnTo>
                <a:lnTo>
                  <a:pt x="668" y="1481"/>
                </a:lnTo>
                <a:lnTo>
                  <a:pt x="689" y="1437"/>
                </a:lnTo>
                <a:lnTo>
                  <a:pt x="689" y="1419"/>
                </a:lnTo>
                <a:lnTo>
                  <a:pt x="668" y="1356"/>
                </a:lnTo>
                <a:lnTo>
                  <a:pt x="650" y="1276"/>
                </a:lnTo>
                <a:lnTo>
                  <a:pt x="668" y="1214"/>
                </a:lnTo>
                <a:lnTo>
                  <a:pt x="689" y="1191"/>
                </a:lnTo>
                <a:lnTo>
                  <a:pt x="689" y="1174"/>
                </a:lnTo>
                <a:lnTo>
                  <a:pt x="668" y="1049"/>
                </a:lnTo>
                <a:lnTo>
                  <a:pt x="628" y="986"/>
                </a:lnTo>
                <a:lnTo>
                  <a:pt x="589" y="946"/>
                </a:lnTo>
                <a:lnTo>
                  <a:pt x="550" y="884"/>
                </a:lnTo>
                <a:lnTo>
                  <a:pt x="511" y="821"/>
                </a:lnTo>
                <a:lnTo>
                  <a:pt x="471" y="861"/>
                </a:lnTo>
                <a:lnTo>
                  <a:pt x="432" y="884"/>
                </a:lnTo>
                <a:lnTo>
                  <a:pt x="393" y="906"/>
                </a:lnTo>
                <a:lnTo>
                  <a:pt x="374" y="924"/>
                </a:lnTo>
                <a:lnTo>
                  <a:pt x="353" y="924"/>
                </a:lnTo>
                <a:lnTo>
                  <a:pt x="353" y="843"/>
                </a:lnTo>
                <a:lnTo>
                  <a:pt x="353" y="821"/>
                </a:lnTo>
                <a:lnTo>
                  <a:pt x="353" y="803"/>
                </a:lnTo>
                <a:lnTo>
                  <a:pt x="374" y="758"/>
                </a:lnTo>
                <a:lnTo>
                  <a:pt x="393" y="718"/>
                </a:lnTo>
                <a:lnTo>
                  <a:pt x="393" y="718"/>
                </a:lnTo>
                <a:lnTo>
                  <a:pt x="393" y="740"/>
                </a:lnTo>
                <a:lnTo>
                  <a:pt x="393" y="758"/>
                </a:lnTo>
                <a:lnTo>
                  <a:pt x="374" y="780"/>
                </a:lnTo>
                <a:lnTo>
                  <a:pt x="335" y="758"/>
                </a:lnTo>
                <a:lnTo>
                  <a:pt x="313" y="740"/>
                </a:lnTo>
                <a:lnTo>
                  <a:pt x="296" y="740"/>
                </a:lnTo>
                <a:lnTo>
                  <a:pt x="274" y="758"/>
                </a:lnTo>
                <a:lnTo>
                  <a:pt x="257" y="780"/>
                </a:lnTo>
                <a:lnTo>
                  <a:pt x="196" y="718"/>
                </a:lnTo>
                <a:lnTo>
                  <a:pt x="178" y="780"/>
                </a:lnTo>
                <a:lnTo>
                  <a:pt x="156" y="803"/>
                </a:lnTo>
                <a:lnTo>
                  <a:pt x="117" y="780"/>
                </a:lnTo>
                <a:lnTo>
                  <a:pt x="39" y="758"/>
                </a:lnTo>
                <a:lnTo>
                  <a:pt x="17" y="740"/>
                </a:lnTo>
                <a:lnTo>
                  <a:pt x="0" y="700"/>
                </a:lnTo>
                <a:lnTo>
                  <a:pt x="17" y="677"/>
                </a:lnTo>
                <a:lnTo>
                  <a:pt x="39" y="677"/>
                </a:lnTo>
                <a:lnTo>
                  <a:pt x="117" y="700"/>
                </a:lnTo>
                <a:lnTo>
                  <a:pt x="196" y="718"/>
                </a:lnTo>
                <a:lnTo>
                  <a:pt x="196" y="718"/>
                </a:lnTo>
                <a:lnTo>
                  <a:pt x="178" y="700"/>
                </a:lnTo>
                <a:lnTo>
                  <a:pt x="156" y="677"/>
                </a:lnTo>
                <a:lnTo>
                  <a:pt x="139" y="655"/>
                </a:lnTo>
                <a:lnTo>
                  <a:pt x="139" y="637"/>
                </a:lnTo>
                <a:lnTo>
                  <a:pt x="139" y="597"/>
                </a:lnTo>
                <a:lnTo>
                  <a:pt x="156" y="553"/>
                </a:lnTo>
                <a:lnTo>
                  <a:pt x="178" y="535"/>
                </a:lnTo>
                <a:lnTo>
                  <a:pt x="178" y="472"/>
                </a:lnTo>
                <a:lnTo>
                  <a:pt x="178" y="410"/>
                </a:lnTo>
                <a:lnTo>
                  <a:pt x="178" y="267"/>
                </a:lnTo>
                <a:lnTo>
                  <a:pt x="139" y="227"/>
                </a:lnTo>
                <a:lnTo>
                  <a:pt x="117" y="205"/>
                </a:lnTo>
                <a:lnTo>
                  <a:pt x="117" y="182"/>
                </a:lnTo>
                <a:lnTo>
                  <a:pt x="139" y="165"/>
                </a:lnTo>
                <a:lnTo>
                  <a:pt x="156" y="142"/>
                </a:lnTo>
                <a:lnTo>
                  <a:pt x="156" y="124"/>
                </a:lnTo>
                <a:lnTo>
                  <a:pt x="196" y="62"/>
                </a:lnTo>
                <a:close/>
              </a:path>
            </a:pathLst>
          </a:custGeom>
          <a:solidFill>
            <a:srgbClr val="e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019400" y="3657600"/>
            <a:ext cx="756000" cy="1740240"/>
            <a:chOff x="4019400" y="3657600"/>
            <a:chExt cx="756000" cy="1740240"/>
          </a:xfrm>
        </p:grpSpPr>
        <p:sp>
          <p:nvSpPr>
            <p:cNvPr id="289" name=""/>
            <p:cNvSpPr/>
            <p:nvPr/>
          </p:nvSpPr>
          <p:spPr>
            <a:xfrm>
              <a:off x="4417920" y="3759120"/>
              <a:ext cx="174960" cy="165600"/>
            </a:xfrm>
            <a:custGeom>
              <a:avLst/>
              <a:gdLst/>
              <a:ahLst/>
              <a:rect l="0" t="0" r="r" b="b"/>
              <a:pathLst>
                <a:path w="486" h="460">
                  <a:moveTo>
                    <a:pt x="100" y="271"/>
                  </a:moveTo>
                  <a:lnTo>
                    <a:pt x="100" y="189"/>
                  </a:lnTo>
                  <a:lnTo>
                    <a:pt x="150" y="102"/>
                  </a:lnTo>
                  <a:lnTo>
                    <a:pt x="257" y="51"/>
                  </a:lnTo>
                  <a:lnTo>
                    <a:pt x="357" y="0"/>
                  </a:lnTo>
                  <a:lnTo>
                    <a:pt x="413" y="34"/>
                  </a:lnTo>
                  <a:lnTo>
                    <a:pt x="486" y="85"/>
                  </a:lnTo>
                  <a:lnTo>
                    <a:pt x="486" y="121"/>
                  </a:lnTo>
                  <a:lnTo>
                    <a:pt x="486" y="121"/>
                  </a:lnTo>
                  <a:lnTo>
                    <a:pt x="435" y="121"/>
                  </a:lnTo>
                  <a:lnTo>
                    <a:pt x="335" y="172"/>
                  </a:lnTo>
                  <a:lnTo>
                    <a:pt x="228" y="241"/>
                  </a:lnTo>
                  <a:lnTo>
                    <a:pt x="206" y="322"/>
                  </a:lnTo>
                  <a:lnTo>
                    <a:pt x="206" y="357"/>
                  </a:lnTo>
                  <a:lnTo>
                    <a:pt x="178" y="392"/>
                  </a:lnTo>
                  <a:lnTo>
                    <a:pt x="150" y="426"/>
                  </a:lnTo>
                  <a:lnTo>
                    <a:pt x="100" y="443"/>
                  </a:lnTo>
                  <a:lnTo>
                    <a:pt x="72" y="460"/>
                  </a:lnTo>
                  <a:lnTo>
                    <a:pt x="50" y="460"/>
                  </a:lnTo>
                  <a:lnTo>
                    <a:pt x="0" y="426"/>
                  </a:lnTo>
                  <a:lnTo>
                    <a:pt x="0" y="392"/>
                  </a:lnTo>
                  <a:lnTo>
                    <a:pt x="22" y="374"/>
                  </a:lnTo>
                  <a:lnTo>
                    <a:pt x="50" y="305"/>
                  </a:lnTo>
                  <a:lnTo>
                    <a:pt x="72" y="288"/>
                  </a:lnTo>
                  <a:lnTo>
                    <a:pt x="100" y="288"/>
                  </a:lnTo>
                  <a:lnTo>
                    <a:pt x="100" y="271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019400" y="3930480"/>
              <a:ext cx="201960" cy="267120"/>
            </a:xfrm>
            <a:custGeom>
              <a:avLst/>
              <a:gdLst/>
              <a:ahLst/>
              <a:rect l="0" t="0" r="r" b="b"/>
              <a:pathLst>
                <a:path w="561" h="742">
                  <a:moveTo>
                    <a:pt x="424" y="581"/>
                  </a:moveTo>
                  <a:lnTo>
                    <a:pt x="315" y="442"/>
                  </a:lnTo>
                  <a:lnTo>
                    <a:pt x="204" y="281"/>
                  </a:lnTo>
                  <a:lnTo>
                    <a:pt x="204" y="200"/>
                  </a:lnTo>
                  <a:lnTo>
                    <a:pt x="204" y="118"/>
                  </a:lnTo>
                  <a:lnTo>
                    <a:pt x="245" y="56"/>
                  </a:lnTo>
                  <a:lnTo>
                    <a:pt x="315" y="0"/>
                  </a:lnTo>
                  <a:lnTo>
                    <a:pt x="335" y="37"/>
                  </a:lnTo>
                  <a:lnTo>
                    <a:pt x="383" y="56"/>
                  </a:lnTo>
                  <a:lnTo>
                    <a:pt x="404" y="99"/>
                  </a:lnTo>
                  <a:lnTo>
                    <a:pt x="404" y="118"/>
                  </a:lnTo>
                  <a:lnTo>
                    <a:pt x="294" y="161"/>
                  </a:lnTo>
                  <a:lnTo>
                    <a:pt x="177" y="200"/>
                  </a:lnTo>
                  <a:lnTo>
                    <a:pt x="225" y="219"/>
                  </a:lnTo>
                  <a:lnTo>
                    <a:pt x="245" y="219"/>
                  </a:lnTo>
                  <a:lnTo>
                    <a:pt x="294" y="219"/>
                  </a:lnTo>
                  <a:lnTo>
                    <a:pt x="315" y="219"/>
                  </a:lnTo>
                  <a:lnTo>
                    <a:pt x="356" y="243"/>
                  </a:lnTo>
                  <a:lnTo>
                    <a:pt x="445" y="262"/>
                  </a:lnTo>
                  <a:lnTo>
                    <a:pt x="472" y="281"/>
                  </a:lnTo>
                  <a:lnTo>
                    <a:pt x="492" y="281"/>
                  </a:lnTo>
                  <a:lnTo>
                    <a:pt x="534" y="361"/>
                  </a:lnTo>
                  <a:lnTo>
                    <a:pt x="561" y="442"/>
                  </a:lnTo>
                  <a:lnTo>
                    <a:pt x="534" y="504"/>
                  </a:lnTo>
                  <a:lnTo>
                    <a:pt x="492" y="542"/>
                  </a:lnTo>
                  <a:lnTo>
                    <a:pt x="356" y="605"/>
                  </a:lnTo>
                  <a:lnTo>
                    <a:pt x="204" y="643"/>
                  </a:lnTo>
                  <a:lnTo>
                    <a:pt x="157" y="685"/>
                  </a:lnTo>
                  <a:lnTo>
                    <a:pt x="88" y="723"/>
                  </a:lnTo>
                  <a:lnTo>
                    <a:pt x="47" y="742"/>
                  </a:lnTo>
                  <a:lnTo>
                    <a:pt x="26" y="723"/>
                  </a:lnTo>
                  <a:lnTo>
                    <a:pt x="0" y="685"/>
                  </a:lnTo>
                  <a:lnTo>
                    <a:pt x="88" y="643"/>
                  </a:lnTo>
                  <a:lnTo>
                    <a:pt x="157" y="643"/>
                  </a:lnTo>
                  <a:lnTo>
                    <a:pt x="225" y="624"/>
                  </a:lnTo>
                  <a:lnTo>
                    <a:pt x="315" y="581"/>
                  </a:lnTo>
                  <a:lnTo>
                    <a:pt x="356" y="542"/>
                  </a:lnTo>
                  <a:lnTo>
                    <a:pt x="356" y="523"/>
                  </a:lnTo>
                  <a:lnTo>
                    <a:pt x="383" y="542"/>
                  </a:lnTo>
                  <a:lnTo>
                    <a:pt x="424" y="581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095720" y="4427640"/>
              <a:ext cx="297360" cy="111600"/>
            </a:xfrm>
            <a:custGeom>
              <a:avLst/>
              <a:gdLst/>
              <a:ahLst/>
              <a:rect l="0" t="0" r="r" b="b"/>
              <a:pathLst>
                <a:path w="826" h="310">
                  <a:moveTo>
                    <a:pt x="625" y="67"/>
                  </a:moveTo>
                  <a:lnTo>
                    <a:pt x="559" y="136"/>
                  </a:lnTo>
                  <a:lnTo>
                    <a:pt x="513" y="174"/>
                  </a:lnTo>
                  <a:lnTo>
                    <a:pt x="468" y="106"/>
                  </a:lnTo>
                  <a:lnTo>
                    <a:pt x="403" y="37"/>
                  </a:lnTo>
                  <a:lnTo>
                    <a:pt x="201" y="106"/>
                  </a:lnTo>
                  <a:lnTo>
                    <a:pt x="0" y="211"/>
                  </a:lnTo>
                  <a:lnTo>
                    <a:pt x="20" y="310"/>
                  </a:lnTo>
                  <a:lnTo>
                    <a:pt x="90" y="310"/>
                  </a:lnTo>
                  <a:lnTo>
                    <a:pt x="247" y="310"/>
                  </a:lnTo>
                  <a:lnTo>
                    <a:pt x="267" y="280"/>
                  </a:lnTo>
                  <a:lnTo>
                    <a:pt x="332" y="242"/>
                  </a:lnTo>
                  <a:lnTo>
                    <a:pt x="378" y="211"/>
                  </a:lnTo>
                  <a:lnTo>
                    <a:pt x="403" y="211"/>
                  </a:lnTo>
                  <a:lnTo>
                    <a:pt x="448" y="242"/>
                  </a:lnTo>
                  <a:lnTo>
                    <a:pt x="513" y="280"/>
                  </a:lnTo>
                  <a:lnTo>
                    <a:pt x="559" y="310"/>
                  </a:lnTo>
                  <a:lnTo>
                    <a:pt x="579" y="310"/>
                  </a:lnTo>
                  <a:lnTo>
                    <a:pt x="645" y="310"/>
                  </a:lnTo>
                  <a:lnTo>
                    <a:pt x="715" y="280"/>
                  </a:lnTo>
                  <a:lnTo>
                    <a:pt x="736" y="211"/>
                  </a:lnTo>
                  <a:lnTo>
                    <a:pt x="801" y="67"/>
                  </a:lnTo>
                  <a:lnTo>
                    <a:pt x="826" y="37"/>
                  </a:lnTo>
                  <a:lnTo>
                    <a:pt x="826" y="0"/>
                  </a:lnTo>
                  <a:lnTo>
                    <a:pt x="801" y="37"/>
                  </a:lnTo>
                  <a:lnTo>
                    <a:pt x="761" y="67"/>
                  </a:lnTo>
                  <a:lnTo>
                    <a:pt x="715" y="174"/>
                  </a:lnTo>
                  <a:lnTo>
                    <a:pt x="670" y="242"/>
                  </a:lnTo>
                  <a:lnTo>
                    <a:pt x="645" y="242"/>
                  </a:lnTo>
                  <a:lnTo>
                    <a:pt x="625" y="242"/>
                  </a:lnTo>
                  <a:lnTo>
                    <a:pt x="625" y="174"/>
                  </a:lnTo>
                  <a:lnTo>
                    <a:pt x="625" y="67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084560" y="3657600"/>
              <a:ext cx="279720" cy="230400"/>
            </a:xfrm>
            <a:custGeom>
              <a:avLst/>
              <a:gdLst/>
              <a:ahLst/>
              <a:rect l="0" t="0" r="r" b="b"/>
              <a:pathLst>
                <a:path w="777" h="640">
                  <a:moveTo>
                    <a:pt x="648" y="604"/>
                  </a:moveTo>
                  <a:lnTo>
                    <a:pt x="629" y="427"/>
                  </a:lnTo>
                  <a:lnTo>
                    <a:pt x="629" y="267"/>
                  </a:lnTo>
                  <a:lnTo>
                    <a:pt x="629" y="194"/>
                  </a:lnTo>
                  <a:lnTo>
                    <a:pt x="586" y="122"/>
                  </a:lnTo>
                  <a:lnTo>
                    <a:pt x="543" y="54"/>
                  </a:lnTo>
                  <a:lnTo>
                    <a:pt x="462" y="0"/>
                  </a:lnTo>
                  <a:lnTo>
                    <a:pt x="481" y="122"/>
                  </a:lnTo>
                  <a:lnTo>
                    <a:pt x="524" y="176"/>
                  </a:lnTo>
                  <a:lnTo>
                    <a:pt x="567" y="249"/>
                  </a:lnTo>
                  <a:lnTo>
                    <a:pt x="396" y="336"/>
                  </a:lnTo>
                  <a:lnTo>
                    <a:pt x="228" y="390"/>
                  </a:lnTo>
                  <a:lnTo>
                    <a:pt x="185" y="372"/>
                  </a:lnTo>
                  <a:lnTo>
                    <a:pt x="147" y="354"/>
                  </a:lnTo>
                  <a:lnTo>
                    <a:pt x="104" y="322"/>
                  </a:lnTo>
                  <a:lnTo>
                    <a:pt x="42" y="267"/>
                  </a:lnTo>
                  <a:lnTo>
                    <a:pt x="19" y="213"/>
                  </a:lnTo>
                  <a:lnTo>
                    <a:pt x="0" y="194"/>
                  </a:lnTo>
                  <a:lnTo>
                    <a:pt x="0" y="267"/>
                  </a:lnTo>
                  <a:lnTo>
                    <a:pt x="19" y="303"/>
                  </a:lnTo>
                  <a:lnTo>
                    <a:pt x="80" y="372"/>
                  </a:lnTo>
                  <a:lnTo>
                    <a:pt x="185" y="390"/>
                  </a:lnTo>
                  <a:lnTo>
                    <a:pt x="314" y="409"/>
                  </a:lnTo>
                  <a:lnTo>
                    <a:pt x="357" y="427"/>
                  </a:lnTo>
                  <a:lnTo>
                    <a:pt x="376" y="445"/>
                  </a:lnTo>
                  <a:lnTo>
                    <a:pt x="420" y="481"/>
                  </a:lnTo>
                  <a:lnTo>
                    <a:pt x="439" y="517"/>
                  </a:lnTo>
                  <a:lnTo>
                    <a:pt x="462" y="549"/>
                  </a:lnTo>
                  <a:lnTo>
                    <a:pt x="500" y="567"/>
                  </a:lnTo>
                  <a:lnTo>
                    <a:pt x="567" y="517"/>
                  </a:lnTo>
                  <a:lnTo>
                    <a:pt x="586" y="481"/>
                  </a:lnTo>
                  <a:lnTo>
                    <a:pt x="605" y="427"/>
                  </a:lnTo>
                  <a:lnTo>
                    <a:pt x="629" y="354"/>
                  </a:lnTo>
                  <a:lnTo>
                    <a:pt x="605" y="322"/>
                  </a:lnTo>
                  <a:lnTo>
                    <a:pt x="605" y="322"/>
                  </a:lnTo>
                  <a:lnTo>
                    <a:pt x="586" y="336"/>
                  </a:lnTo>
                  <a:lnTo>
                    <a:pt x="543" y="372"/>
                  </a:lnTo>
                  <a:lnTo>
                    <a:pt x="524" y="427"/>
                  </a:lnTo>
                  <a:lnTo>
                    <a:pt x="605" y="517"/>
                  </a:lnTo>
                  <a:lnTo>
                    <a:pt x="648" y="536"/>
                  </a:lnTo>
                  <a:lnTo>
                    <a:pt x="691" y="549"/>
                  </a:lnTo>
                  <a:lnTo>
                    <a:pt x="710" y="567"/>
                  </a:lnTo>
                  <a:lnTo>
                    <a:pt x="753" y="585"/>
                  </a:lnTo>
                  <a:lnTo>
                    <a:pt x="777" y="585"/>
                  </a:lnTo>
                  <a:lnTo>
                    <a:pt x="777" y="604"/>
                  </a:lnTo>
                  <a:lnTo>
                    <a:pt x="734" y="622"/>
                  </a:lnTo>
                  <a:lnTo>
                    <a:pt x="691" y="622"/>
                  </a:lnTo>
                  <a:lnTo>
                    <a:pt x="586" y="622"/>
                  </a:lnTo>
                  <a:lnTo>
                    <a:pt x="586" y="640"/>
                  </a:lnTo>
                  <a:lnTo>
                    <a:pt x="567" y="640"/>
                  </a:lnTo>
                  <a:lnTo>
                    <a:pt x="543" y="640"/>
                  </a:lnTo>
                  <a:lnTo>
                    <a:pt x="543" y="640"/>
                  </a:lnTo>
                  <a:lnTo>
                    <a:pt x="605" y="622"/>
                  </a:lnTo>
                  <a:lnTo>
                    <a:pt x="648" y="604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083120" y="4800600"/>
              <a:ext cx="133560" cy="322560"/>
            </a:xfrm>
            <a:custGeom>
              <a:avLst/>
              <a:gdLst/>
              <a:ahLst/>
              <a:rect l="0" t="0" r="r" b="b"/>
              <a:pathLst>
                <a:path w="371" h="896">
                  <a:moveTo>
                    <a:pt x="186" y="22"/>
                  </a:moveTo>
                  <a:lnTo>
                    <a:pt x="165" y="114"/>
                  </a:lnTo>
                  <a:lnTo>
                    <a:pt x="121" y="187"/>
                  </a:lnTo>
                  <a:lnTo>
                    <a:pt x="63" y="397"/>
                  </a:lnTo>
                  <a:lnTo>
                    <a:pt x="0" y="613"/>
                  </a:lnTo>
                  <a:lnTo>
                    <a:pt x="19" y="681"/>
                  </a:lnTo>
                  <a:lnTo>
                    <a:pt x="63" y="731"/>
                  </a:lnTo>
                  <a:lnTo>
                    <a:pt x="102" y="777"/>
                  </a:lnTo>
                  <a:lnTo>
                    <a:pt x="165" y="823"/>
                  </a:lnTo>
                  <a:lnTo>
                    <a:pt x="230" y="850"/>
                  </a:lnTo>
                  <a:lnTo>
                    <a:pt x="269" y="850"/>
                  </a:lnTo>
                  <a:lnTo>
                    <a:pt x="269" y="873"/>
                  </a:lnTo>
                  <a:lnTo>
                    <a:pt x="269" y="896"/>
                  </a:lnTo>
                  <a:lnTo>
                    <a:pt x="230" y="896"/>
                  </a:lnTo>
                  <a:lnTo>
                    <a:pt x="165" y="873"/>
                  </a:lnTo>
                  <a:lnTo>
                    <a:pt x="165" y="658"/>
                  </a:lnTo>
                  <a:lnTo>
                    <a:pt x="146" y="635"/>
                  </a:lnTo>
                  <a:lnTo>
                    <a:pt x="146" y="613"/>
                  </a:lnTo>
                  <a:lnTo>
                    <a:pt x="186" y="590"/>
                  </a:lnTo>
                  <a:lnTo>
                    <a:pt x="249" y="539"/>
                  </a:lnTo>
                  <a:lnTo>
                    <a:pt x="312" y="517"/>
                  </a:lnTo>
                  <a:lnTo>
                    <a:pt x="351" y="517"/>
                  </a:lnTo>
                  <a:lnTo>
                    <a:pt x="371" y="471"/>
                  </a:lnTo>
                  <a:lnTo>
                    <a:pt x="371" y="424"/>
                  </a:lnTo>
                  <a:lnTo>
                    <a:pt x="351" y="397"/>
                  </a:lnTo>
                  <a:lnTo>
                    <a:pt x="288" y="374"/>
                  </a:lnTo>
                  <a:lnTo>
                    <a:pt x="249" y="397"/>
                  </a:lnTo>
                  <a:lnTo>
                    <a:pt x="230" y="447"/>
                  </a:lnTo>
                  <a:lnTo>
                    <a:pt x="186" y="517"/>
                  </a:lnTo>
                  <a:lnTo>
                    <a:pt x="121" y="447"/>
                  </a:lnTo>
                  <a:lnTo>
                    <a:pt x="102" y="424"/>
                  </a:lnTo>
                  <a:lnTo>
                    <a:pt x="146" y="374"/>
                  </a:lnTo>
                  <a:lnTo>
                    <a:pt x="205" y="328"/>
                  </a:lnTo>
                  <a:lnTo>
                    <a:pt x="230" y="306"/>
                  </a:lnTo>
                  <a:lnTo>
                    <a:pt x="249" y="283"/>
                  </a:lnTo>
                  <a:lnTo>
                    <a:pt x="332" y="0"/>
                  </a:lnTo>
                  <a:lnTo>
                    <a:pt x="312" y="45"/>
                  </a:lnTo>
                  <a:lnTo>
                    <a:pt x="249" y="91"/>
                  </a:lnTo>
                  <a:lnTo>
                    <a:pt x="205" y="91"/>
                  </a:lnTo>
                  <a:lnTo>
                    <a:pt x="186" y="68"/>
                  </a:lnTo>
                  <a:lnTo>
                    <a:pt x="186" y="22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451400" y="5162400"/>
              <a:ext cx="105120" cy="235440"/>
            </a:xfrm>
            <a:custGeom>
              <a:avLst/>
              <a:gdLst/>
              <a:ahLst/>
              <a:rect l="0" t="0" r="r" b="b"/>
              <a:pathLst>
                <a:path w="292" h="654">
                  <a:moveTo>
                    <a:pt x="145" y="97"/>
                  </a:moveTo>
                  <a:lnTo>
                    <a:pt x="104" y="169"/>
                  </a:lnTo>
                  <a:lnTo>
                    <a:pt x="81" y="218"/>
                  </a:lnTo>
                  <a:lnTo>
                    <a:pt x="63" y="267"/>
                  </a:lnTo>
                  <a:lnTo>
                    <a:pt x="40" y="338"/>
                  </a:lnTo>
                  <a:lnTo>
                    <a:pt x="22" y="387"/>
                  </a:lnTo>
                  <a:lnTo>
                    <a:pt x="0" y="436"/>
                  </a:lnTo>
                  <a:lnTo>
                    <a:pt x="0" y="436"/>
                  </a:lnTo>
                  <a:lnTo>
                    <a:pt x="40" y="508"/>
                  </a:lnTo>
                  <a:lnTo>
                    <a:pt x="81" y="583"/>
                  </a:lnTo>
                  <a:lnTo>
                    <a:pt x="210" y="654"/>
                  </a:lnTo>
                  <a:lnTo>
                    <a:pt x="169" y="605"/>
                  </a:lnTo>
                  <a:lnTo>
                    <a:pt x="145" y="556"/>
                  </a:lnTo>
                  <a:lnTo>
                    <a:pt x="145" y="534"/>
                  </a:lnTo>
                  <a:lnTo>
                    <a:pt x="187" y="458"/>
                  </a:lnTo>
                  <a:lnTo>
                    <a:pt x="145" y="436"/>
                  </a:lnTo>
                  <a:lnTo>
                    <a:pt x="145" y="387"/>
                  </a:lnTo>
                  <a:lnTo>
                    <a:pt x="169" y="365"/>
                  </a:lnTo>
                  <a:lnTo>
                    <a:pt x="210" y="338"/>
                  </a:lnTo>
                  <a:lnTo>
                    <a:pt x="251" y="289"/>
                  </a:lnTo>
                  <a:lnTo>
                    <a:pt x="292" y="240"/>
                  </a:lnTo>
                  <a:lnTo>
                    <a:pt x="292" y="218"/>
                  </a:lnTo>
                  <a:lnTo>
                    <a:pt x="292" y="169"/>
                  </a:lnTo>
                  <a:lnTo>
                    <a:pt x="273" y="97"/>
                  </a:lnTo>
                  <a:lnTo>
                    <a:pt x="210" y="26"/>
                  </a:lnTo>
                  <a:lnTo>
                    <a:pt x="169" y="0"/>
                  </a:lnTo>
                  <a:lnTo>
                    <a:pt x="169" y="26"/>
                  </a:lnTo>
                  <a:lnTo>
                    <a:pt x="145" y="48"/>
                  </a:lnTo>
                  <a:lnTo>
                    <a:pt x="145" y="97"/>
                  </a:lnTo>
                  <a:lnTo>
                    <a:pt x="145" y="119"/>
                  </a:lnTo>
                  <a:lnTo>
                    <a:pt x="145" y="119"/>
                  </a:lnTo>
                  <a:lnTo>
                    <a:pt x="145" y="97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254480" y="4334040"/>
              <a:ext cx="520920" cy="306720"/>
            </a:xfrm>
            <a:custGeom>
              <a:avLst/>
              <a:gdLst/>
              <a:ahLst/>
              <a:rect l="0" t="0" r="r" b="b"/>
              <a:pathLst>
                <a:path w="1447" h="852">
                  <a:moveTo>
                    <a:pt x="833" y="197"/>
                  </a:moveTo>
                  <a:lnTo>
                    <a:pt x="792" y="389"/>
                  </a:lnTo>
                  <a:lnTo>
                    <a:pt x="746" y="488"/>
                  </a:lnTo>
                  <a:lnTo>
                    <a:pt x="677" y="561"/>
                  </a:lnTo>
                  <a:lnTo>
                    <a:pt x="591" y="535"/>
                  </a:lnTo>
                  <a:lnTo>
                    <a:pt x="550" y="509"/>
                  </a:lnTo>
                  <a:lnTo>
                    <a:pt x="482" y="509"/>
                  </a:lnTo>
                  <a:lnTo>
                    <a:pt x="395" y="535"/>
                  </a:lnTo>
                  <a:lnTo>
                    <a:pt x="309" y="608"/>
                  </a:lnTo>
                  <a:lnTo>
                    <a:pt x="200" y="634"/>
                  </a:lnTo>
                  <a:lnTo>
                    <a:pt x="0" y="732"/>
                  </a:lnTo>
                  <a:lnTo>
                    <a:pt x="0" y="779"/>
                  </a:lnTo>
                  <a:lnTo>
                    <a:pt x="22" y="826"/>
                  </a:lnTo>
                  <a:lnTo>
                    <a:pt x="109" y="852"/>
                  </a:lnTo>
                  <a:lnTo>
                    <a:pt x="218" y="826"/>
                  </a:lnTo>
                  <a:lnTo>
                    <a:pt x="309" y="805"/>
                  </a:lnTo>
                  <a:lnTo>
                    <a:pt x="527" y="732"/>
                  </a:lnTo>
                  <a:lnTo>
                    <a:pt x="724" y="634"/>
                  </a:lnTo>
                  <a:lnTo>
                    <a:pt x="792" y="634"/>
                  </a:lnTo>
                  <a:lnTo>
                    <a:pt x="856" y="660"/>
                  </a:lnTo>
                  <a:lnTo>
                    <a:pt x="919" y="680"/>
                  </a:lnTo>
                  <a:lnTo>
                    <a:pt x="965" y="732"/>
                  </a:lnTo>
                  <a:lnTo>
                    <a:pt x="1051" y="779"/>
                  </a:lnTo>
                  <a:lnTo>
                    <a:pt x="1074" y="732"/>
                  </a:lnTo>
                  <a:lnTo>
                    <a:pt x="1097" y="706"/>
                  </a:lnTo>
                  <a:lnTo>
                    <a:pt x="1142" y="706"/>
                  </a:lnTo>
                  <a:lnTo>
                    <a:pt x="1206" y="706"/>
                  </a:lnTo>
                  <a:lnTo>
                    <a:pt x="1251" y="706"/>
                  </a:lnTo>
                  <a:lnTo>
                    <a:pt x="1292" y="660"/>
                  </a:lnTo>
                  <a:lnTo>
                    <a:pt x="1338" y="561"/>
                  </a:lnTo>
                  <a:lnTo>
                    <a:pt x="1383" y="436"/>
                  </a:lnTo>
                  <a:lnTo>
                    <a:pt x="1424" y="316"/>
                  </a:lnTo>
                  <a:lnTo>
                    <a:pt x="1447" y="269"/>
                  </a:lnTo>
                  <a:lnTo>
                    <a:pt x="1447" y="243"/>
                  </a:lnTo>
                  <a:lnTo>
                    <a:pt x="1383" y="217"/>
                  </a:lnTo>
                  <a:lnTo>
                    <a:pt x="1292" y="197"/>
                  </a:lnTo>
                  <a:lnTo>
                    <a:pt x="1206" y="171"/>
                  </a:lnTo>
                  <a:lnTo>
                    <a:pt x="1160" y="171"/>
                  </a:lnTo>
                  <a:lnTo>
                    <a:pt x="1119" y="145"/>
                  </a:lnTo>
                  <a:lnTo>
                    <a:pt x="1051" y="124"/>
                  </a:lnTo>
                  <a:lnTo>
                    <a:pt x="1051" y="72"/>
                  </a:lnTo>
                  <a:lnTo>
                    <a:pt x="1033" y="25"/>
                  </a:lnTo>
                  <a:lnTo>
                    <a:pt x="942" y="0"/>
                  </a:lnTo>
                  <a:lnTo>
                    <a:pt x="833" y="0"/>
                  </a:lnTo>
                  <a:lnTo>
                    <a:pt x="746" y="0"/>
                  </a:lnTo>
                  <a:lnTo>
                    <a:pt x="769" y="51"/>
                  </a:lnTo>
                  <a:lnTo>
                    <a:pt x="769" y="72"/>
                  </a:lnTo>
                  <a:lnTo>
                    <a:pt x="833" y="197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209680" y="6126120"/>
            <a:ext cx="1219680" cy="228960"/>
            <a:chOff x="2209680" y="6126120"/>
            <a:chExt cx="1219680" cy="228960"/>
          </a:xfrm>
        </p:grpSpPr>
        <p:sp>
          <p:nvSpPr>
            <p:cNvPr id="297" name=""/>
            <p:cNvSpPr/>
            <p:nvPr/>
          </p:nvSpPr>
          <p:spPr>
            <a:xfrm>
              <a:off x="2209680" y="6153120"/>
              <a:ext cx="1219680" cy="171720"/>
            </a:xfrm>
            <a:custGeom>
              <a:avLst/>
              <a:gdLst/>
              <a:ahLst/>
              <a:rect l="0" t="0" r="r" b="b"/>
              <a:pathLst>
                <a:path w="3388" h="477">
                  <a:moveTo>
                    <a:pt x="1493" y="84"/>
                  </a:moveTo>
                  <a:lnTo>
                    <a:pt x="3388" y="328"/>
                  </a:lnTo>
                  <a:lnTo>
                    <a:pt x="3229" y="412"/>
                  </a:lnTo>
                  <a:lnTo>
                    <a:pt x="2938" y="477"/>
                  </a:lnTo>
                  <a:lnTo>
                    <a:pt x="2239" y="457"/>
                  </a:lnTo>
                  <a:lnTo>
                    <a:pt x="1162" y="351"/>
                  </a:lnTo>
                  <a:lnTo>
                    <a:pt x="777" y="286"/>
                  </a:lnTo>
                  <a:lnTo>
                    <a:pt x="0" y="184"/>
                  </a:lnTo>
                  <a:lnTo>
                    <a:pt x="30" y="0"/>
                  </a:lnTo>
                  <a:lnTo>
                    <a:pt x="972" y="103"/>
                  </a:lnTo>
                  <a:lnTo>
                    <a:pt x="1188" y="182"/>
                  </a:lnTo>
                  <a:lnTo>
                    <a:pt x="1400" y="210"/>
                  </a:lnTo>
                  <a:lnTo>
                    <a:pt x="1493" y="84"/>
                  </a:lnTo>
                  <a:close/>
                </a:path>
              </a:pathLst>
            </a:custGeom>
            <a:blipFill rotWithShape="0">
              <a:blip r:embed="rId1"/>
              <a:tile tx="0" ty="0" sx="3528125" sy="3528125" algn="ctr"/>
            </a:blip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717640" y="6221520"/>
              <a:ext cx="695520" cy="133560"/>
            </a:xfrm>
            <a:custGeom>
              <a:avLst/>
              <a:gdLst/>
              <a:ahLst/>
              <a:rect l="0" t="0" r="r" b="b"/>
              <a:pathLst>
                <a:path w="1932" h="371">
                  <a:moveTo>
                    <a:pt x="34" y="12"/>
                  </a:moveTo>
                  <a:lnTo>
                    <a:pt x="225" y="0"/>
                  </a:lnTo>
                  <a:lnTo>
                    <a:pt x="381" y="133"/>
                  </a:lnTo>
                  <a:lnTo>
                    <a:pt x="658" y="83"/>
                  </a:lnTo>
                  <a:lnTo>
                    <a:pt x="1040" y="158"/>
                  </a:lnTo>
                  <a:lnTo>
                    <a:pt x="1243" y="200"/>
                  </a:lnTo>
                  <a:lnTo>
                    <a:pt x="1503" y="225"/>
                  </a:lnTo>
                  <a:lnTo>
                    <a:pt x="1932" y="204"/>
                  </a:lnTo>
                  <a:lnTo>
                    <a:pt x="1512" y="304"/>
                  </a:lnTo>
                  <a:lnTo>
                    <a:pt x="1209" y="371"/>
                  </a:lnTo>
                  <a:lnTo>
                    <a:pt x="692" y="296"/>
                  </a:lnTo>
                  <a:lnTo>
                    <a:pt x="407" y="267"/>
                  </a:lnTo>
                  <a:lnTo>
                    <a:pt x="0" y="188"/>
                  </a:lnTo>
                  <a:lnTo>
                    <a:pt x="34" y="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230560" y="6126120"/>
              <a:ext cx="495720" cy="124200"/>
            </a:xfrm>
            <a:custGeom>
              <a:avLst/>
              <a:gdLst/>
              <a:ahLst/>
              <a:rect l="0" t="0" r="r" b="b"/>
              <a:pathLst>
                <a:path w="1377" h="345">
                  <a:moveTo>
                    <a:pt x="1364" y="345"/>
                  </a:moveTo>
                  <a:lnTo>
                    <a:pt x="1377" y="230"/>
                  </a:lnTo>
                  <a:lnTo>
                    <a:pt x="1036" y="88"/>
                  </a:lnTo>
                  <a:lnTo>
                    <a:pt x="44" y="0"/>
                  </a:lnTo>
                  <a:lnTo>
                    <a:pt x="0" y="142"/>
                  </a:lnTo>
                  <a:lnTo>
                    <a:pt x="1364" y="345"/>
                  </a:lnTo>
                  <a:close/>
                </a:path>
              </a:pathLst>
            </a:custGeom>
            <a:solidFill>
              <a:srgbClr val="9933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2743200" y="6337440"/>
            <a:ext cx="1067040" cy="203400"/>
          </a:xfrm>
          <a:custGeom>
            <a:avLst/>
            <a:gdLst/>
            <a:ahLst/>
            <a:rect l="0" t="0" r="r" b="b"/>
            <a:pathLst>
              <a:path w="2964" h="565">
                <a:moveTo>
                  <a:pt x="0" y="176"/>
                </a:moveTo>
                <a:lnTo>
                  <a:pt x="141" y="283"/>
                </a:lnTo>
                <a:lnTo>
                  <a:pt x="246" y="318"/>
                </a:lnTo>
                <a:lnTo>
                  <a:pt x="317" y="424"/>
                </a:lnTo>
                <a:lnTo>
                  <a:pt x="423" y="494"/>
                </a:lnTo>
                <a:lnTo>
                  <a:pt x="529" y="494"/>
                </a:lnTo>
                <a:lnTo>
                  <a:pt x="635" y="494"/>
                </a:lnTo>
                <a:lnTo>
                  <a:pt x="740" y="494"/>
                </a:lnTo>
                <a:lnTo>
                  <a:pt x="846" y="494"/>
                </a:lnTo>
                <a:lnTo>
                  <a:pt x="952" y="494"/>
                </a:lnTo>
                <a:lnTo>
                  <a:pt x="1058" y="530"/>
                </a:lnTo>
                <a:lnTo>
                  <a:pt x="1199" y="565"/>
                </a:lnTo>
                <a:lnTo>
                  <a:pt x="1305" y="565"/>
                </a:lnTo>
                <a:lnTo>
                  <a:pt x="1411" y="565"/>
                </a:lnTo>
                <a:lnTo>
                  <a:pt x="1517" y="565"/>
                </a:lnTo>
                <a:lnTo>
                  <a:pt x="1623" y="565"/>
                </a:lnTo>
                <a:lnTo>
                  <a:pt x="1729" y="530"/>
                </a:lnTo>
                <a:lnTo>
                  <a:pt x="1835" y="530"/>
                </a:lnTo>
                <a:lnTo>
                  <a:pt x="1941" y="494"/>
                </a:lnTo>
                <a:lnTo>
                  <a:pt x="2047" y="459"/>
                </a:lnTo>
                <a:lnTo>
                  <a:pt x="2152" y="459"/>
                </a:lnTo>
                <a:lnTo>
                  <a:pt x="2258" y="459"/>
                </a:lnTo>
                <a:lnTo>
                  <a:pt x="2364" y="530"/>
                </a:lnTo>
                <a:lnTo>
                  <a:pt x="2470" y="565"/>
                </a:lnTo>
                <a:lnTo>
                  <a:pt x="2576" y="565"/>
                </a:lnTo>
                <a:lnTo>
                  <a:pt x="2646" y="459"/>
                </a:lnTo>
                <a:lnTo>
                  <a:pt x="2752" y="459"/>
                </a:lnTo>
                <a:lnTo>
                  <a:pt x="2858" y="459"/>
                </a:lnTo>
                <a:lnTo>
                  <a:pt x="2964" y="389"/>
                </a:lnTo>
                <a:lnTo>
                  <a:pt x="2823" y="318"/>
                </a:lnTo>
                <a:lnTo>
                  <a:pt x="2717" y="318"/>
                </a:lnTo>
                <a:lnTo>
                  <a:pt x="2611" y="246"/>
                </a:lnTo>
                <a:lnTo>
                  <a:pt x="2682" y="141"/>
                </a:lnTo>
                <a:lnTo>
                  <a:pt x="2364" y="141"/>
                </a:lnTo>
                <a:lnTo>
                  <a:pt x="2258" y="105"/>
                </a:lnTo>
                <a:lnTo>
                  <a:pt x="2152" y="105"/>
                </a:lnTo>
                <a:lnTo>
                  <a:pt x="2047" y="141"/>
                </a:lnTo>
                <a:lnTo>
                  <a:pt x="1941" y="211"/>
                </a:lnTo>
                <a:lnTo>
                  <a:pt x="1835" y="211"/>
                </a:lnTo>
                <a:lnTo>
                  <a:pt x="1729" y="211"/>
                </a:lnTo>
                <a:lnTo>
                  <a:pt x="1588" y="211"/>
                </a:lnTo>
                <a:lnTo>
                  <a:pt x="1305" y="211"/>
                </a:lnTo>
                <a:lnTo>
                  <a:pt x="1093" y="211"/>
                </a:lnTo>
                <a:lnTo>
                  <a:pt x="811" y="176"/>
                </a:lnTo>
                <a:lnTo>
                  <a:pt x="670" y="176"/>
                </a:lnTo>
                <a:lnTo>
                  <a:pt x="352" y="70"/>
                </a:lnTo>
                <a:lnTo>
                  <a:pt x="70" y="0"/>
                </a:lnTo>
                <a:lnTo>
                  <a:pt x="176" y="70"/>
                </a:lnTo>
                <a:lnTo>
                  <a:pt x="211" y="211"/>
                </a:lnTo>
                <a:lnTo>
                  <a:pt x="211" y="318"/>
                </a:lnTo>
                <a:lnTo>
                  <a:pt x="211" y="389"/>
                </a:lnTo>
                <a:lnTo>
                  <a:pt x="0" y="176"/>
                </a:lnTo>
                <a:close/>
              </a:path>
            </a:pathLst>
          </a:custGeom>
          <a:solidFill>
            <a:srgbClr val="ff9999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730600" y="4102200"/>
            <a:ext cx="1384560" cy="2324520"/>
          </a:xfrm>
          <a:custGeom>
            <a:avLst/>
            <a:gdLst/>
            <a:ahLst/>
            <a:rect l="0" t="0" r="r" b="b"/>
            <a:pathLst>
              <a:path w="3846" h="6457">
                <a:moveTo>
                  <a:pt x="3846" y="458"/>
                </a:moveTo>
                <a:lnTo>
                  <a:pt x="3705" y="317"/>
                </a:lnTo>
                <a:lnTo>
                  <a:pt x="3634" y="105"/>
                </a:lnTo>
                <a:lnTo>
                  <a:pt x="3528" y="35"/>
                </a:lnTo>
                <a:lnTo>
                  <a:pt x="3422" y="35"/>
                </a:lnTo>
                <a:lnTo>
                  <a:pt x="3175" y="0"/>
                </a:lnTo>
                <a:lnTo>
                  <a:pt x="3070" y="0"/>
                </a:lnTo>
                <a:lnTo>
                  <a:pt x="2964" y="0"/>
                </a:lnTo>
                <a:lnTo>
                  <a:pt x="2858" y="35"/>
                </a:lnTo>
                <a:lnTo>
                  <a:pt x="2752" y="70"/>
                </a:lnTo>
                <a:lnTo>
                  <a:pt x="2646" y="176"/>
                </a:lnTo>
                <a:lnTo>
                  <a:pt x="2541" y="211"/>
                </a:lnTo>
                <a:lnTo>
                  <a:pt x="2399" y="282"/>
                </a:lnTo>
                <a:lnTo>
                  <a:pt x="2294" y="317"/>
                </a:lnTo>
                <a:lnTo>
                  <a:pt x="2188" y="352"/>
                </a:lnTo>
                <a:lnTo>
                  <a:pt x="2082" y="388"/>
                </a:lnTo>
                <a:lnTo>
                  <a:pt x="1976" y="423"/>
                </a:lnTo>
                <a:lnTo>
                  <a:pt x="1869" y="458"/>
                </a:lnTo>
                <a:lnTo>
                  <a:pt x="1728" y="493"/>
                </a:lnTo>
                <a:lnTo>
                  <a:pt x="1622" y="564"/>
                </a:lnTo>
                <a:lnTo>
                  <a:pt x="1552" y="670"/>
                </a:lnTo>
                <a:lnTo>
                  <a:pt x="1481" y="776"/>
                </a:lnTo>
                <a:lnTo>
                  <a:pt x="1446" y="881"/>
                </a:lnTo>
                <a:lnTo>
                  <a:pt x="1411" y="987"/>
                </a:lnTo>
                <a:lnTo>
                  <a:pt x="1340" y="1093"/>
                </a:lnTo>
                <a:lnTo>
                  <a:pt x="1305" y="1199"/>
                </a:lnTo>
                <a:lnTo>
                  <a:pt x="1234" y="1305"/>
                </a:lnTo>
                <a:lnTo>
                  <a:pt x="1128" y="1340"/>
                </a:lnTo>
                <a:lnTo>
                  <a:pt x="1023" y="1411"/>
                </a:lnTo>
                <a:lnTo>
                  <a:pt x="917" y="1481"/>
                </a:lnTo>
                <a:lnTo>
                  <a:pt x="776" y="1552"/>
                </a:lnTo>
                <a:lnTo>
                  <a:pt x="670" y="1659"/>
                </a:lnTo>
                <a:lnTo>
                  <a:pt x="599" y="1764"/>
                </a:lnTo>
                <a:lnTo>
                  <a:pt x="564" y="1870"/>
                </a:lnTo>
                <a:lnTo>
                  <a:pt x="564" y="1976"/>
                </a:lnTo>
                <a:lnTo>
                  <a:pt x="564" y="2082"/>
                </a:lnTo>
                <a:lnTo>
                  <a:pt x="564" y="2188"/>
                </a:lnTo>
                <a:lnTo>
                  <a:pt x="564" y="2294"/>
                </a:lnTo>
                <a:lnTo>
                  <a:pt x="564" y="2399"/>
                </a:lnTo>
                <a:lnTo>
                  <a:pt x="564" y="2505"/>
                </a:lnTo>
                <a:lnTo>
                  <a:pt x="599" y="2611"/>
                </a:lnTo>
                <a:lnTo>
                  <a:pt x="705" y="2929"/>
                </a:lnTo>
                <a:lnTo>
                  <a:pt x="740" y="3034"/>
                </a:lnTo>
                <a:lnTo>
                  <a:pt x="776" y="3140"/>
                </a:lnTo>
                <a:lnTo>
                  <a:pt x="776" y="3246"/>
                </a:lnTo>
                <a:lnTo>
                  <a:pt x="776" y="3352"/>
                </a:lnTo>
                <a:lnTo>
                  <a:pt x="776" y="3458"/>
                </a:lnTo>
                <a:lnTo>
                  <a:pt x="776" y="3564"/>
                </a:lnTo>
                <a:lnTo>
                  <a:pt x="740" y="3669"/>
                </a:lnTo>
                <a:lnTo>
                  <a:pt x="705" y="3775"/>
                </a:lnTo>
                <a:lnTo>
                  <a:pt x="670" y="3881"/>
                </a:lnTo>
                <a:lnTo>
                  <a:pt x="635" y="3987"/>
                </a:lnTo>
                <a:lnTo>
                  <a:pt x="635" y="4093"/>
                </a:lnTo>
                <a:lnTo>
                  <a:pt x="635" y="4199"/>
                </a:lnTo>
                <a:lnTo>
                  <a:pt x="635" y="4304"/>
                </a:lnTo>
                <a:lnTo>
                  <a:pt x="635" y="4410"/>
                </a:lnTo>
                <a:lnTo>
                  <a:pt x="635" y="4516"/>
                </a:lnTo>
                <a:lnTo>
                  <a:pt x="635" y="4622"/>
                </a:lnTo>
                <a:lnTo>
                  <a:pt x="599" y="4728"/>
                </a:lnTo>
                <a:lnTo>
                  <a:pt x="564" y="4834"/>
                </a:lnTo>
                <a:lnTo>
                  <a:pt x="458" y="4905"/>
                </a:lnTo>
                <a:lnTo>
                  <a:pt x="423" y="5011"/>
                </a:lnTo>
                <a:lnTo>
                  <a:pt x="352" y="5117"/>
                </a:lnTo>
                <a:lnTo>
                  <a:pt x="282" y="5223"/>
                </a:lnTo>
                <a:lnTo>
                  <a:pt x="176" y="5293"/>
                </a:lnTo>
                <a:lnTo>
                  <a:pt x="141" y="5399"/>
                </a:lnTo>
                <a:lnTo>
                  <a:pt x="70" y="5505"/>
                </a:lnTo>
                <a:lnTo>
                  <a:pt x="70" y="5611"/>
                </a:lnTo>
                <a:lnTo>
                  <a:pt x="35" y="5717"/>
                </a:lnTo>
                <a:lnTo>
                  <a:pt x="0" y="5822"/>
                </a:lnTo>
                <a:lnTo>
                  <a:pt x="0" y="5928"/>
                </a:lnTo>
                <a:lnTo>
                  <a:pt x="0" y="6034"/>
                </a:lnTo>
                <a:lnTo>
                  <a:pt x="35" y="6140"/>
                </a:lnTo>
                <a:lnTo>
                  <a:pt x="70" y="6246"/>
                </a:lnTo>
                <a:lnTo>
                  <a:pt x="141" y="6352"/>
                </a:lnTo>
                <a:lnTo>
                  <a:pt x="423" y="6387"/>
                </a:lnTo>
                <a:lnTo>
                  <a:pt x="670" y="6422"/>
                </a:lnTo>
                <a:lnTo>
                  <a:pt x="776" y="6457"/>
                </a:lnTo>
                <a:lnTo>
                  <a:pt x="881" y="6457"/>
                </a:lnTo>
                <a:lnTo>
                  <a:pt x="1305" y="6457"/>
                </a:lnTo>
                <a:lnTo>
                  <a:pt x="1411" y="6457"/>
                </a:lnTo>
                <a:lnTo>
                  <a:pt x="1552" y="6457"/>
                </a:lnTo>
                <a:lnTo>
                  <a:pt x="1693" y="6422"/>
                </a:lnTo>
                <a:lnTo>
                  <a:pt x="1799" y="6387"/>
                </a:lnTo>
                <a:lnTo>
                  <a:pt x="1869" y="6281"/>
                </a:lnTo>
                <a:lnTo>
                  <a:pt x="1905" y="6175"/>
                </a:lnTo>
                <a:lnTo>
                  <a:pt x="2011" y="6069"/>
                </a:lnTo>
                <a:lnTo>
                  <a:pt x="2082" y="5963"/>
                </a:lnTo>
                <a:lnTo>
                  <a:pt x="2152" y="5858"/>
                </a:lnTo>
                <a:lnTo>
                  <a:pt x="2152" y="5752"/>
                </a:lnTo>
                <a:lnTo>
                  <a:pt x="2152" y="5575"/>
                </a:lnTo>
                <a:lnTo>
                  <a:pt x="1941" y="5505"/>
                </a:lnTo>
                <a:lnTo>
                  <a:pt x="1658" y="5434"/>
                </a:lnTo>
                <a:lnTo>
                  <a:pt x="1552" y="5470"/>
                </a:lnTo>
                <a:lnTo>
                  <a:pt x="1446" y="5505"/>
                </a:lnTo>
                <a:lnTo>
                  <a:pt x="1340" y="5575"/>
                </a:lnTo>
                <a:lnTo>
                  <a:pt x="1093" y="5575"/>
                </a:lnTo>
                <a:lnTo>
                  <a:pt x="811" y="5575"/>
                </a:lnTo>
                <a:lnTo>
                  <a:pt x="705" y="5611"/>
                </a:lnTo>
                <a:lnTo>
                  <a:pt x="564" y="5646"/>
                </a:lnTo>
                <a:lnTo>
                  <a:pt x="493" y="5999"/>
                </a:lnTo>
                <a:lnTo>
                  <a:pt x="599" y="5963"/>
                </a:lnTo>
                <a:lnTo>
                  <a:pt x="705" y="5928"/>
                </a:lnTo>
                <a:lnTo>
                  <a:pt x="811" y="5893"/>
                </a:lnTo>
                <a:lnTo>
                  <a:pt x="917" y="5858"/>
                </a:lnTo>
                <a:lnTo>
                  <a:pt x="1058" y="5822"/>
                </a:lnTo>
                <a:lnTo>
                  <a:pt x="1164" y="5822"/>
                </a:lnTo>
                <a:lnTo>
                  <a:pt x="1270" y="5822"/>
                </a:lnTo>
                <a:lnTo>
                  <a:pt x="1375" y="5822"/>
                </a:lnTo>
                <a:lnTo>
                  <a:pt x="1481" y="5893"/>
                </a:lnTo>
                <a:lnTo>
                  <a:pt x="1516" y="5999"/>
                </a:lnTo>
                <a:lnTo>
                  <a:pt x="1411" y="6069"/>
                </a:lnTo>
                <a:lnTo>
                  <a:pt x="1305" y="6105"/>
                </a:lnTo>
                <a:lnTo>
                  <a:pt x="1199" y="6105"/>
                </a:lnTo>
                <a:lnTo>
                  <a:pt x="1093" y="6105"/>
                </a:lnTo>
                <a:lnTo>
                  <a:pt x="987" y="6069"/>
                </a:lnTo>
                <a:lnTo>
                  <a:pt x="846" y="5999"/>
                </a:lnTo>
                <a:lnTo>
                  <a:pt x="705" y="6034"/>
                </a:lnTo>
                <a:lnTo>
                  <a:pt x="493" y="6034"/>
                </a:lnTo>
                <a:lnTo>
                  <a:pt x="493" y="5717"/>
                </a:lnTo>
                <a:lnTo>
                  <a:pt x="705" y="5575"/>
                </a:lnTo>
                <a:lnTo>
                  <a:pt x="740" y="5470"/>
                </a:lnTo>
                <a:lnTo>
                  <a:pt x="811" y="5364"/>
                </a:lnTo>
                <a:lnTo>
                  <a:pt x="811" y="5258"/>
                </a:lnTo>
                <a:lnTo>
                  <a:pt x="846" y="5152"/>
                </a:lnTo>
                <a:lnTo>
                  <a:pt x="917" y="5046"/>
                </a:lnTo>
                <a:lnTo>
                  <a:pt x="987" y="4940"/>
                </a:lnTo>
                <a:lnTo>
                  <a:pt x="1023" y="4834"/>
                </a:lnTo>
                <a:lnTo>
                  <a:pt x="1023" y="4728"/>
                </a:lnTo>
                <a:lnTo>
                  <a:pt x="1023" y="4622"/>
                </a:lnTo>
                <a:lnTo>
                  <a:pt x="1058" y="4516"/>
                </a:lnTo>
                <a:lnTo>
                  <a:pt x="1058" y="4410"/>
                </a:lnTo>
                <a:lnTo>
                  <a:pt x="1093" y="4304"/>
                </a:lnTo>
                <a:lnTo>
                  <a:pt x="1128" y="4199"/>
                </a:lnTo>
                <a:lnTo>
                  <a:pt x="1164" y="4093"/>
                </a:lnTo>
                <a:lnTo>
                  <a:pt x="1199" y="3987"/>
                </a:lnTo>
                <a:lnTo>
                  <a:pt x="1234" y="3881"/>
                </a:lnTo>
                <a:lnTo>
                  <a:pt x="1234" y="3775"/>
                </a:lnTo>
                <a:lnTo>
                  <a:pt x="1270" y="3669"/>
                </a:lnTo>
                <a:lnTo>
                  <a:pt x="1270" y="3564"/>
                </a:lnTo>
                <a:lnTo>
                  <a:pt x="1234" y="3458"/>
                </a:lnTo>
                <a:lnTo>
                  <a:pt x="1234" y="3352"/>
                </a:lnTo>
                <a:lnTo>
                  <a:pt x="1234" y="3246"/>
                </a:lnTo>
                <a:lnTo>
                  <a:pt x="1234" y="3140"/>
                </a:lnTo>
                <a:lnTo>
                  <a:pt x="1234" y="3034"/>
                </a:lnTo>
                <a:lnTo>
                  <a:pt x="1199" y="2929"/>
                </a:lnTo>
                <a:lnTo>
                  <a:pt x="1164" y="2823"/>
                </a:lnTo>
                <a:lnTo>
                  <a:pt x="1164" y="2541"/>
                </a:lnTo>
                <a:lnTo>
                  <a:pt x="1128" y="2399"/>
                </a:lnTo>
                <a:lnTo>
                  <a:pt x="1128" y="2294"/>
                </a:lnTo>
                <a:lnTo>
                  <a:pt x="1164" y="2188"/>
                </a:lnTo>
                <a:lnTo>
                  <a:pt x="1234" y="2047"/>
                </a:lnTo>
                <a:lnTo>
                  <a:pt x="1270" y="1941"/>
                </a:lnTo>
                <a:lnTo>
                  <a:pt x="1375" y="1835"/>
                </a:lnTo>
                <a:lnTo>
                  <a:pt x="1481" y="1729"/>
                </a:lnTo>
                <a:lnTo>
                  <a:pt x="1587" y="1623"/>
                </a:lnTo>
                <a:lnTo>
                  <a:pt x="1693" y="1516"/>
                </a:lnTo>
                <a:lnTo>
                  <a:pt x="1728" y="1411"/>
                </a:lnTo>
                <a:lnTo>
                  <a:pt x="1763" y="1305"/>
                </a:lnTo>
                <a:lnTo>
                  <a:pt x="1799" y="1199"/>
                </a:lnTo>
                <a:lnTo>
                  <a:pt x="1869" y="1093"/>
                </a:lnTo>
                <a:lnTo>
                  <a:pt x="1941" y="987"/>
                </a:lnTo>
                <a:lnTo>
                  <a:pt x="2047" y="881"/>
                </a:lnTo>
                <a:lnTo>
                  <a:pt x="2152" y="776"/>
                </a:lnTo>
                <a:lnTo>
                  <a:pt x="2258" y="705"/>
                </a:lnTo>
                <a:lnTo>
                  <a:pt x="2364" y="670"/>
                </a:lnTo>
                <a:lnTo>
                  <a:pt x="2470" y="599"/>
                </a:lnTo>
                <a:lnTo>
                  <a:pt x="2576" y="599"/>
                </a:lnTo>
                <a:lnTo>
                  <a:pt x="2787" y="599"/>
                </a:lnTo>
                <a:lnTo>
                  <a:pt x="2893" y="599"/>
                </a:lnTo>
                <a:lnTo>
                  <a:pt x="2999" y="599"/>
                </a:lnTo>
                <a:lnTo>
                  <a:pt x="3281" y="564"/>
                </a:lnTo>
                <a:lnTo>
                  <a:pt x="3422" y="564"/>
                </a:lnTo>
                <a:lnTo>
                  <a:pt x="3493" y="670"/>
                </a:lnTo>
                <a:lnTo>
                  <a:pt x="3599" y="740"/>
                </a:lnTo>
                <a:lnTo>
                  <a:pt x="3705" y="705"/>
                </a:lnTo>
                <a:lnTo>
                  <a:pt x="3740" y="599"/>
                </a:lnTo>
                <a:lnTo>
                  <a:pt x="3846" y="458"/>
                </a:lnTo>
                <a:close/>
              </a:path>
            </a:pathLst>
          </a:custGeom>
          <a:solidFill>
            <a:srgbClr val="ff9999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3998880" y="3171960"/>
            <a:ext cx="844920" cy="1305720"/>
            <a:chOff x="3998880" y="3171960"/>
            <a:chExt cx="844920" cy="1305720"/>
          </a:xfrm>
        </p:grpSpPr>
        <p:sp>
          <p:nvSpPr>
            <p:cNvPr id="303" name=""/>
            <p:cNvSpPr/>
            <p:nvPr/>
          </p:nvSpPr>
          <p:spPr>
            <a:xfrm>
              <a:off x="4097160" y="3171960"/>
              <a:ext cx="746640" cy="1121040"/>
            </a:xfrm>
            <a:custGeom>
              <a:avLst/>
              <a:gdLst/>
              <a:ahLst/>
              <a:rect l="0" t="0" r="r" b="b"/>
              <a:pathLst>
                <a:path w="2074" h="3114">
                  <a:moveTo>
                    <a:pt x="1999" y="30"/>
                  </a:moveTo>
                  <a:lnTo>
                    <a:pt x="1809" y="0"/>
                  </a:lnTo>
                  <a:lnTo>
                    <a:pt x="1535" y="185"/>
                  </a:lnTo>
                  <a:lnTo>
                    <a:pt x="1090" y="992"/>
                  </a:lnTo>
                  <a:lnTo>
                    <a:pt x="0" y="2682"/>
                  </a:lnTo>
                  <a:lnTo>
                    <a:pt x="715" y="3114"/>
                  </a:lnTo>
                  <a:lnTo>
                    <a:pt x="1576" y="1606"/>
                  </a:lnTo>
                  <a:lnTo>
                    <a:pt x="2074" y="418"/>
                  </a:lnTo>
                  <a:lnTo>
                    <a:pt x="1999" y="3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998880" y="4181040"/>
              <a:ext cx="299160" cy="296640"/>
            </a:xfrm>
            <a:custGeom>
              <a:avLst/>
              <a:gdLst/>
              <a:ahLst/>
              <a:rect l="0" t="0" r="r" b="b"/>
              <a:pathLst>
                <a:path w="831" h="824">
                  <a:moveTo>
                    <a:pt x="96" y="125"/>
                  </a:moveTo>
                  <a:lnTo>
                    <a:pt x="96" y="125"/>
                  </a:lnTo>
                  <a:lnTo>
                    <a:pt x="96" y="125"/>
                  </a:lnTo>
                  <a:cubicBezTo>
                    <a:pt x="49" y="177"/>
                    <a:pt x="18" y="241"/>
                    <a:pt x="6" y="311"/>
                  </a:cubicBezTo>
                  <a:cubicBezTo>
                    <a:pt x="-7" y="381"/>
                    <a:pt x="0" y="455"/>
                    <a:pt x="25" y="524"/>
                  </a:cubicBezTo>
                  <a:cubicBezTo>
                    <a:pt x="50" y="594"/>
                    <a:pt x="93" y="657"/>
                    <a:pt x="149" y="707"/>
                  </a:cubicBezTo>
                  <a:cubicBezTo>
                    <a:pt x="205" y="758"/>
                    <a:pt x="272" y="793"/>
                    <a:pt x="344" y="811"/>
                  </a:cubicBezTo>
                  <a:cubicBezTo>
                    <a:pt x="416" y="829"/>
                    <a:pt x="490" y="828"/>
                    <a:pt x="558" y="808"/>
                  </a:cubicBezTo>
                  <a:cubicBezTo>
                    <a:pt x="626" y="788"/>
                    <a:pt x="687" y="751"/>
                    <a:pt x="734" y="699"/>
                  </a:cubicBezTo>
                  <a:lnTo>
                    <a:pt x="734" y="699"/>
                  </a:lnTo>
                  <a:lnTo>
                    <a:pt x="734" y="699"/>
                  </a:lnTo>
                  <a:cubicBezTo>
                    <a:pt x="781" y="647"/>
                    <a:pt x="812" y="583"/>
                    <a:pt x="824" y="513"/>
                  </a:cubicBezTo>
                  <a:cubicBezTo>
                    <a:pt x="837" y="443"/>
                    <a:pt x="830" y="369"/>
                    <a:pt x="805" y="300"/>
                  </a:cubicBezTo>
                  <a:cubicBezTo>
                    <a:pt x="780" y="230"/>
                    <a:pt x="737" y="167"/>
                    <a:pt x="681" y="117"/>
                  </a:cubicBezTo>
                  <a:cubicBezTo>
                    <a:pt x="625" y="66"/>
                    <a:pt x="558" y="31"/>
                    <a:pt x="486" y="13"/>
                  </a:cubicBezTo>
                  <a:cubicBezTo>
                    <a:pt x="414" y="-5"/>
                    <a:pt x="340" y="-4"/>
                    <a:pt x="272" y="16"/>
                  </a:cubicBezTo>
                  <a:cubicBezTo>
                    <a:pt x="204" y="36"/>
                    <a:pt x="143" y="73"/>
                    <a:pt x="96" y="125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"/>
          <p:cNvSpPr txBox="1"/>
          <p:nvPr/>
        </p:nvSpPr>
        <p:spPr>
          <a:xfrm>
            <a:off x="380880" y="22860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ing 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463840" y="6146640"/>
            <a:ext cx="3670560" cy="344880"/>
          </a:xfrm>
          <a:custGeom>
            <a:avLst/>
            <a:gdLst/>
            <a:ahLst/>
            <a:rect l="0" t="0" r="r" b="b"/>
            <a:pathLst>
              <a:path w="10196" h="958">
                <a:moveTo>
                  <a:pt x="3764" y="216"/>
                </a:moveTo>
                <a:lnTo>
                  <a:pt x="3654" y="246"/>
                </a:lnTo>
                <a:lnTo>
                  <a:pt x="3570" y="246"/>
                </a:lnTo>
                <a:lnTo>
                  <a:pt x="3517" y="246"/>
                </a:lnTo>
                <a:lnTo>
                  <a:pt x="3407" y="216"/>
                </a:lnTo>
                <a:lnTo>
                  <a:pt x="3354" y="183"/>
                </a:lnTo>
                <a:lnTo>
                  <a:pt x="3297" y="183"/>
                </a:lnTo>
                <a:lnTo>
                  <a:pt x="3244" y="155"/>
                </a:lnTo>
                <a:lnTo>
                  <a:pt x="3217" y="155"/>
                </a:lnTo>
                <a:lnTo>
                  <a:pt x="2997" y="246"/>
                </a:lnTo>
                <a:lnTo>
                  <a:pt x="2781" y="340"/>
                </a:lnTo>
                <a:lnTo>
                  <a:pt x="2508" y="216"/>
                </a:lnTo>
                <a:lnTo>
                  <a:pt x="2208" y="94"/>
                </a:lnTo>
                <a:lnTo>
                  <a:pt x="2128" y="61"/>
                </a:lnTo>
                <a:lnTo>
                  <a:pt x="2098" y="61"/>
                </a:lnTo>
                <a:lnTo>
                  <a:pt x="2071" y="61"/>
                </a:lnTo>
                <a:lnTo>
                  <a:pt x="2045" y="94"/>
                </a:lnTo>
                <a:lnTo>
                  <a:pt x="762" y="279"/>
                </a:lnTo>
                <a:lnTo>
                  <a:pt x="357" y="524"/>
                </a:lnTo>
                <a:lnTo>
                  <a:pt x="273" y="646"/>
                </a:lnTo>
                <a:lnTo>
                  <a:pt x="246" y="679"/>
                </a:lnTo>
                <a:lnTo>
                  <a:pt x="246" y="679"/>
                </a:lnTo>
                <a:lnTo>
                  <a:pt x="273" y="646"/>
                </a:lnTo>
                <a:lnTo>
                  <a:pt x="326" y="585"/>
                </a:lnTo>
                <a:lnTo>
                  <a:pt x="357" y="585"/>
                </a:lnTo>
                <a:lnTo>
                  <a:pt x="357" y="618"/>
                </a:lnTo>
                <a:lnTo>
                  <a:pt x="357" y="742"/>
                </a:lnTo>
                <a:lnTo>
                  <a:pt x="299" y="803"/>
                </a:lnTo>
                <a:lnTo>
                  <a:pt x="189" y="836"/>
                </a:lnTo>
                <a:lnTo>
                  <a:pt x="83" y="864"/>
                </a:lnTo>
                <a:lnTo>
                  <a:pt x="0" y="897"/>
                </a:lnTo>
                <a:lnTo>
                  <a:pt x="110" y="958"/>
                </a:lnTo>
                <a:lnTo>
                  <a:pt x="189" y="958"/>
                </a:lnTo>
                <a:lnTo>
                  <a:pt x="273" y="925"/>
                </a:lnTo>
                <a:lnTo>
                  <a:pt x="383" y="897"/>
                </a:lnTo>
                <a:lnTo>
                  <a:pt x="489" y="742"/>
                </a:lnTo>
                <a:lnTo>
                  <a:pt x="573" y="679"/>
                </a:lnTo>
                <a:lnTo>
                  <a:pt x="656" y="679"/>
                </a:lnTo>
                <a:lnTo>
                  <a:pt x="819" y="742"/>
                </a:lnTo>
                <a:lnTo>
                  <a:pt x="899" y="864"/>
                </a:lnTo>
                <a:lnTo>
                  <a:pt x="982" y="897"/>
                </a:lnTo>
                <a:lnTo>
                  <a:pt x="1093" y="864"/>
                </a:lnTo>
                <a:lnTo>
                  <a:pt x="1198" y="775"/>
                </a:lnTo>
                <a:lnTo>
                  <a:pt x="1282" y="679"/>
                </a:lnTo>
                <a:lnTo>
                  <a:pt x="1362" y="679"/>
                </a:lnTo>
                <a:lnTo>
                  <a:pt x="1445" y="712"/>
                </a:lnTo>
                <a:lnTo>
                  <a:pt x="1555" y="775"/>
                </a:lnTo>
                <a:lnTo>
                  <a:pt x="1829" y="712"/>
                </a:lnTo>
                <a:lnTo>
                  <a:pt x="2128" y="679"/>
                </a:lnTo>
                <a:lnTo>
                  <a:pt x="2481" y="742"/>
                </a:lnTo>
                <a:lnTo>
                  <a:pt x="2671" y="742"/>
                </a:lnTo>
                <a:lnTo>
                  <a:pt x="2917" y="712"/>
                </a:lnTo>
                <a:lnTo>
                  <a:pt x="3133" y="679"/>
                </a:lnTo>
                <a:lnTo>
                  <a:pt x="3217" y="712"/>
                </a:lnTo>
                <a:lnTo>
                  <a:pt x="3270" y="742"/>
                </a:lnTo>
                <a:lnTo>
                  <a:pt x="3270" y="742"/>
                </a:lnTo>
                <a:lnTo>
                  <a:pt x="3517" y="958"/>
                </a:lnTo>
                <a:lnTo>
                  <a:pt x="3953" y="742"/>
                </a:lnTo>
                <a:lnTo>
                  <a:pt x="4579" y="742"/>
                </a:lnTo>
                <a:lnTo>
                  <a:pt x="5016" y="742"/>
                </a:lnTo>
                <a:lnTo>
                  <a:pt x="5068" y="864"/>
                </a:lnTo>
                <a:lnTo>
                  <a:pt x="5127" y="925"/>
                </a:lnTo>
                <a:lnTo>
                  <a:pt x="5237" y="958"/>
                </a:lnTo>
                <a:lnTo>
                  <a:pt x="5369" y="925"/>
                </a:lnTo>
                <a:lnTo>
                  <a:pt x="5479" y="897"/>
                </a:lnTo>
                <a:lnTo>
                  <a:pt x="5537" y="864"/>
                </a:lnTo>
                <a:lnTo>
                  <a:pt x="5590" y="897"/>
                </a:lnTo>
                <a:lnTo>
                  <a:pt x="5669" y="958"/>
                </a:lnTo>
                <a:lnTo>
                  <a:pt x="5779" y="958"/>
                </a:lnTo>
                <a:lnTo>
                  <a:pt x="5863" y="925"/>
                </a:lnTo>
                <a:lnTo>
                  <a:pt x="5916" y="925"/>
                </a:lnTo>
                <a:lnTo>
                  <a:pt x="5969" y="897"/>
                </a:lnTo>
                <a:lnTo>
                  <a:pt x="6026" y="864"/>
                </a:lnTo>
                <a:lnTo>
                  <a:pt x="6052" y="864"/>
                </a:lnTo>
                <a:lnTo>
                  <a:pt x="6326" y="897"/>
                </a:lnTo>
                <a:lnTo>
                  <a:pt x="6573" y="836"/>
                </a:lnTo>
                <a:lnTo>
                  <a:pt x="6736" y="897"/>
                </a:lnTo>
                <a:lnTo>
                  <a:pt x="6872" y="925"/>
                </a:lnTo>
                <a:lnTo>
                  <a:pt x="6952" y="958"/>
                </a:lnTo>
                <a:lnTo>
                  <a:pt x="6978" y="958"/>
                </a:lnTo>
                <a:lnTo>
                  <a:pt x="7088" y="925"/>
                </a:lnTo>
                <a:lnTo>
                  <a:pt x="7198" y="897"/>
                </a:lnTo>
                <a:lnTo>
                  <a:pt x="7251" y="897"/>
                </a:lnTo>
                <a:lnTo>
                  <a:pt x="7304" y="864"/>
                </a:lnTo>
                <a:lnTo>
                  <a:pt x="7304" y="864"/>
                </a:lnTo>
                <a:lnTo>
                  <a:pt x="7551" y="925"/>
                </a:lnTo>
                <a:lnTo>
                  <a:pt x="7688" y="958"/>
                </a:lnTo>
                <a:lnTo>
                  <a:pt x="7798" y="925"/>
                </a:lnTo>
                <a:lnTo>
                  <a:pt x="7908" y="897"/>
                </a:lnTo>
                <a:lnTo>
                  <a:pt x="8014" y="864"/>
                </a:lnTo>
                <a:lnTo>
                  <a:pt x="8124" y="836"/>
                </a:lnTo>
                <a:lnTo>
                  <a:pt x="8151" y="836"/>
                </a:lnTo>
                <a:lnTo>
                  <a:pt x="8450" y="897"/>
                </a:lnTo>
                <a:lnTo>
                  <a:pt x="8587" y="897"/>
                </a:lnTo>
                <a:lnTo>
                  <a:pt x="8724" y="864"/>
                </a:lnTo>
                <a:lnTo>
                  <a:pt x="8944" y="864"/>
                </a:lnTo>
                <a:lnTo>
                  <a:pt x="9160" y="836"/>
                </a:lnTo>
                <a:lnTo>
                  <a:pt x="9213" y="775"/>
                </a:lnTo>
                <a:lnTo>
                  <a:pt x="9270" y="712"/>
                </a:lnTo>
                <a:lnTo>
                  <a:pt x="9433" y="679"/>
                </a:lnTo>
                <a:lnTo>
                  <a:pt x="9596" y="679"/>
                </a:lnTo>
                <a:lnTo>
                  <a:pt x="9759" y="712"/>
                </a:lnTo>
                <a:lnTo>
                  <a:pt x="9896" y="712"/>
                </a:lnTo>
                <a:lnTo>
                  <a:pt x="10033" y="679"/>
                </a:lnTo>
                <a:lnTo>
                  <a:pt x="10112" y="618"/>
                </a:lnTo>
                <a:lnTo>
                  <a:pt x="10196" y="524"/>
                </a:lnTo>
                <a:lnTo>
                  <a:pt x="10169" y="462"/>
                </a:lnTo>
                <a:lnTo>
                  <a:pt x="10143" y="434"/>
                </a:lnTo>
                <a:lnTo>
                  <a:pt x="10112" y="401"/>
                </a:lnTo>
                <a:lnTo>
                  <a:pt x="10059" y="434"/>
                </a:lnTo>
                <a:lnTo>
                  <a:pt x="9980" y="462"/>
                </a:lnTo>
                <a:lnTo>
                  <a:pt x="9922" y="495"/>
                </a:lnTo>
                <a:lnTo>
                  <a:pt x="9896" y="495"/>
                </a:lnTo>
                <a:lnTo>
                  <a:pt x="9843" y="462"/>
                </a:lnTo>
                <a:lnTo>
                  <a:pt x="9733" y="462"/>
                </a:lnTo>
                <a:lnTo>
                  <a:pt x="9649" y="434"/>
                </a:lnTo>
                <a:lnTo>
                  <a:pt x="9570" y="401"/>
                </a:lnTo>
                <a:lnTo>
                  <a:pt x="9513" y="373"/>
                </a:lnTo>
                <a:lnTo>
                  <a:pt x="9433" y="307"/>
                </a:lnTo>
                <a:lnTo>
                  <a:pt x="9376" y="279"/>
                </a:lnTo>
                <a:lnTo>
                  <a:pt x="9349" y="246"/>
                </a:lnTo>
                <a:lnTo>
                  <a:pt x="8913" y="307"/>
                </a:lnTo>
                <a:lnTo>
                  <a:pt x="8508" y="373"/>
                </a:lnTo>
                <a:lnTo>
                  <a:pt x="8340" y="340"/>
                </a:lnTo>
                <a:lnTo>
                  <a:pt x="8177" y="340"/>
                </a:lnTo>
                <a:lnTo>
                  <a:pt x="8040" y="279"/>
                </a:lnTo>
                <a:lnTo>
                  <a:pt x="7908" y="216"/>
                </a:lnTo>
                <a:lnTo>
                  <a:pt x="7798" y="155"/>
                </a:lnTo>
                <a:lnTo>
                  <a:pt x="7714" y="94"/>
                </a:lnTo>
                <a:lnTo>
                  <a:pt x="7608" y="61"/>
                </a:lnTo>
                <a:lnTo>
                  <a:pt x="7578" y="32"/>
                </a:lnTo>
                <a:lnTo>
                  <a:pt x="7278" y="94"/>
                </a:lnTo>
                <a:lnTo>
                  <a:pt x="6978" y="155"/>
                </a:lnTo>
                <a:lnTo>
                  <a:pt x="6815" y="183"/>
                </a:lnTo>
                <a:lnTo>
                  <a:pt x="6652" y="122"/>
                </a:lnTo>
                <a:lnTo>
                  <a:pt x="6326" y="0"/>
                </a:lnTo>
                <a:lnTo>
                  <a:pt x="5942" y="61"/>
                </a:lnTo>
                <a:lnTo>
                  <a:pt x="5753" y="94"/>
                </a:lnTo>
                <a:lnTo>
                  <a:pt x="5563" y="155"/>
                </a:lnTo>
                <a:lnTo>
                  <a:pt x="5479" y="183"/>
                </a:lnTo>
                <a:lnTo>
                  <a:pt x="5369" y="216"/>
                </a:lnTo>
                <a:lnTo>
                  <a:pt x="5290" y="246"/>
                </a:lnTo>
                <a:lnTo>
                  <a:pt x="5263" y="246"/>
                </a:lnTo>
                <a:lnTo>
                  <a:pt x="5153" y="246"/>
                </a:lnTo>
                <a:lnTo>
                  <a:pt x="5016" y="216"/>
                </a:lnTo>
                <a:lnTo>
                  <a:pt x="4879" y="183"/>
                </a:lnTo>
                <a:lnTo>
                  <a:pt x="4826" y="155"/>
                </a:lnTo>
                <a:lnTo>
                  <a:pt x="4800" y="155"/>
                </a:lnTo>
                <a:lnTo>
                  <a:pt x="4663" y="183"/>
                </a:lnTo>
                <a:lnTo>
                  <a:pt x="4579" y="216"/>
                </a:lnTo>
                <a:lnTo>
                  <a:pt x="4469" y="216"/>
                </a:lnTo>
                <a:lnTo>
                  <a:pt x="4332" y="183"/>
                </a:lnTo>
                <a:lnTo>
                  <a:pt x="4279" y="155"/>
                </a:lnTo>
                <a:lnTo>
                  <a:pt x="4200" y="122"/>
                </a:lnTo>
                <a:lnTo>
                  <a:pt x="4143" y="94"/>
                </a:lnTo>
                <a:lnTo>
                  <a:pt x="4116" y="94"/>
                </a:lnTo>
                <a:lnTo>
                  <a:pt x="4033" y="122"/>
                </a:lnTo>
                <a:lnTo>
                  <a:pt x="3980" y="155"/>
                </a:lnTo>
                <a:lnTo>
                  <a:pt x="3927" y="183"/>
                </a:lnTo>
                <a:lnTo>
                  <a:pt x="3896" y="183"/>
                </a:lnTo>
                <a:lnTo>
                  <a:pt x="3817" y="155"/>
                </a:lnTo>
                <a:lnTo>
                  <a:pt x="3733" y="183"/>
                </a:lnTo>
                <a:lnTo>
                  <a:pt x="3706" y="216"/>
                </a:lnTo>
                <a:lnTo>
                  <a:pt x="3706" y="216"/>
                </a:lnTo>
                <a:lnTo>
                  <a:pt x="3764" y="216"/>
                </a:lnTo>
                <a:close/>
              </a:path>
            </a:pathLst>
          </a:custGeom>
          <a:solidFill>
            <a:srgbClr val="e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3165480" y="3157560"/>
            <a:ext cx="993960" cy="1183320"/>
            <a:chOff x="3165480" y="3157560"/>
            <a:chExt cx="993960" cy="1183320"/>
          </a:xfrm>
        </p:grpSpPr>
        <p:sp>
          <p:nvSpPr>
            <p:cNvPr id="308" name=""/>
            <p:cNvSpPr/>
            <p:nvPr/>
          </p:nvSpPr>
          <p:spPr>
            <a:xfrm>
              <a:off x="3165480" y="4051080"/>
              <a:ext cx="302040" cy="289800"/>
            </a:xfrm>
            <a:custGeom>
              <a:avLst/>
              <a:gdLst/>
              <a:ahLst/>
              <a:rect l="0" t="0" r="r" b="b"/>
              <a:pathLst>
                <a:path w="839" h="805">
                  <a:moveTo>
                    <a:pt x="38" y="216"/>
                  </a:moveTo>
                  <a:lnTo>
                    <a:pt x="38" y="216"/>
                  </a:lnTo>
                  <a:cubicBezTo>
                    <a:pt x="8" y="279"/>
                    <a:pt x="-5" y="349"/>
                    <a:pt x="2" y="419"/>
                  </a:cubicBezTo>
                  <a:cubicBezTo>
                    <a:pt x="9" y="490"/>
                    <a:pt x="35" y="558"/>
                    <a:pt x="78" y="618"/>
                  </a:cubicBezTo>
                  <a:cubicBezTo>
                    <a:pt x="121" y="677"/>
                    <a:pt x="178" y="726"/>
                    <a:pt x="245" y="759"/>
                  </a:cubicBezTo>
                  <a:cubicBezTo>
                    <a:pt x="312" y="791"/>
                    <a:pt x="386" y="807"/>
                    <a:pt x="459" y="804"/>
                  </a:cubicBezTo>
                  <a:cubicBezTo>
                    <a:pt x="533" y="801"/>
                    <a:pt x="603" y="779"/>
                    <a:pt x="663" y="741"/>
                  </a:cubicBezTo>
                  <a:cubicBezTo>
                    <a:pt x="723" y="703"/>
                    <a:pt x="770" y="650"/>
                    <a:pt x="801" y="588"/>
                  </a:cubicBezTo>
                  <a:lnTo>
                    <a:pt x="801" y="588"/>
                  </a:lnTo>
                  <a:lnTo>
                    <a:pt x="801" y="588"/>
                  </a:lnTo>
                  <a:cubicBezTo>
                    <a:pt x="831" y="525"/>
                    <a:pt x="844" y="455"/>
                    <a:pt x="837" y="385"/>
                  </a:cubicBezTo>
                  <a:cubicBezTo>
                    <a:pt x="830" y="314"/>
                    <a:pt x="804" y="246"/>
                    <a:pt x="761" y="186"/>
                  </a:cubicBezTo>
                  <a:cubicBezTo>
                    <a:pt x="718" y="127"/>
                    <a:pt x="661" y="78"/>
                    <a:pt x="594" y="45"/>
                  </a:cubicBezTo>
                  <a:cubicBezTo>
                    <a:pt x="527" y="13"/>
                    <a:pt x="453" y="-3"/>
                    <a:pt x="380" y="0"/>
                  </a:cubicBezTo>
                  <a:cubicBezTo>
                    <a:pt x="306" y="3"/>
                    <a:pt x="236" y="25"/>
                    <a:pt x="176" y="63"/>
                  </a:cubicBezTo>
                  <a:cubicBezTo>
                    <a:pt x="116" y="101"/>
                    <a:pt x="69" y="154"/>
                    <a:pt x="38" y="216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244680" y="3157560"/>
              <a:ext cx="914760" cy="991080"/>
            </a:xfrm>
            <a:custGeom>
              <a:avLst/>
              <a:gdLst/>
              <a:ahLst/>
              <a:rect l="0" t="0" r="r" b="b"/>
              <a:pathLst>
                <a:path w="2541" h="2753">
                  <a:moveTo>
                    <a:pt x="2530" y="505"/>
                  </a:moveTo>
                  <a:lnTo>
                    <a:pt x="2334" y="726"/>
                  </a:lnTo>
                  <a:lnTo>
                    <a:pt x="1572" y="918"/>
                  </a:lnTo>
                  <a:lnTo>
                    <a:pt x="1000" y="1114"/>
                  </a:lnTo>
                  <a:lnTo>
                    <a:pt x="745" y="2753"/>
                  </a:lnTo>
                  <a:lnTo>
                    <a:pt x="0" y="2469"/>
                  </a:lnTo>
                  <a:lnTo>
                    <a:pt x="462" y="372"/>
                  </a:lnTo>
                  <a:lnTo>
                    <a:pt x="1985" y="0"/>
                  </a:lnTo>
                  <a:lnTo>
                    <a:pt x="2361" y="24"/>
                  </a:lnTo>
                  <a:lnTo>
                    <a:pt x="2541" y="269"/>
                  </a:lnTo>
                  <a:lnTo>
                    <a:pt x="2530" y="505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638520" y="4448160"/>
            <a:ext cx="1514880" cy="1867320"/>
            <a:chOff x="3638520" y="4448160"/>
            <a:chExt cx="1514880" cy="1867320"/>
          </a:xfrm>
        </p:grpSpPr>
        <p:sp>
          <p:nvSpPr>
            <p:cNvPr id="311" name=""/>
            <p:cNvSpPr/>
            <p:nvPr/>
          </p:nvSpPr>
          <p:spPr>
            <a:xfrm>
              <a:off x="4019400" y="4448160"/>
              <a:ext cx="657720" cy="1724400"/>
            </a:xfrm>
            <a:custGeom>
              <a:avLst/>
              <a:gdLst/>
              <a:ahLst/>
              <a:rect l="0" t="0" r="r" b="b"/>
              <a:pathLst>
                <a:path w="1827" h="4790">
                  <a:moveTo>
                    <a:pt x="0" y="0"/>
                  </a:moveTo>
                  <a:lnTo>
                    <a:pt x="317" y="4790"/>
                  </a:lnTo>
                  <a:lnTo>
                    <a:pt x="1032" y="4790"/>
                  </a:lnTo>
                  <a:lnTo>
                    <a:pt x="927" y="1297"/>
                  </a:lnTo>
                  <a:lnTo>
                    <a:pt x="1032" y="4790"/>
                  </a:lnTo>
                  <a:lnTo>
                    <a:pt x="1827" y="4790"/>
                  </a:lnTo>
                  <a:lnTo>
                    <a:pt x="1748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638520" y="6105600"/>
              <a:ext cx="752760" cy="209880"/>
            </a:xfrm>
            <a:custGeom>
              <a:avLst/>
              <a:gdLst/>
              <a:ahLst/>
              <a:rect l="0" t="0" r="r" b="b"/>
              <a:pathLst>
                <a:path w="2091" h="583">
                  <a:moveTo>
                    <a:pt x="1376" y="185"/>
                  </a:moveTo>
                  <a:lnTo>
                    <a:pt x="978" y="52"/>
                  </a:lnTo>
                  <a:lnTo>
                    <a:pt x="714" y="0"/>
                  </a:lnTo>
                  <a:lnTo>
                    <a:pt x="423" y="105"/>
                  </a:lnTo>
                  <a:lnTo>
                    <a:pt x="132" y="264"/>
                  </a:lnTo>
                  <a:lnTo>
                    <a:pt x="0" y="477"/>
                  </a:lnTo>
                  <a:lnTo>
                    <a:pt x="185" y="583"/>
                  </a:lnTo>
                  <a:lnTo>
                    <a:pt x="2091" y="583"/>
                  </a:lnTo>
                  <a:lnTo>
                    <a:pt x="2091" y="185"/>
                  </a:lnTo>
                  <a:lnTo>
                    <a:pt x="1376" y="185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400640" y="6105600"/>
              <a:ext cx="752760" cy="209880"/>
            </a:xfrm>
            <a:custGeom>
              <a:avLst/>
              <a:gdLst/>
              <a:ahLst/>
              <a:rect l="0" t="0" r="r" b="b"/>
              <a:pathLst>
                <a:path w="2091" h="583">
                  <a:moveTo>
                    <a:pt x="714" y="185"/>
                  </a:moveTo>
                  <a:lnTo>
                    <a:pt x="1112" y="52"/>
                  </a:lnTo>
                  <a:lnTo>
                    <a:pt x="1376" y="0"/>
                  </a:lnTo>
                  <a:lnTo>
                    <a:pt x="1667" y="105"/>
                  </a:lnTo>
                  <a:lnTo>
                    <a:pt x="1958" y="264"/>
                  </a:lnTo>
                  <a:lnTo>
                    <a:pt x="2091" y="477"/>
                  </a:lnTo>
                  <a:lnTo>
                    <a:pt x="1906" y="583"/>
                  </a:lnTo>
                  <a:lnTo>
                    <a:pt x="0" y="583"/>
                  </a:lnTo>
                  <a:lnTo>
                    <a:pt x="0" y="185"/>
                  </a:lnTo>
                  <a:lnTo>
                    <a:pt x="714" y="185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3795840" y="1373040"/>
            <a:ext cx="1081080" cy="3275640"/>
            <a:chOff x="3795840" y="1373040"/>
            <a:chExt cx="1081080" cy="3275640"/>
          </a:xfrm>
        </p:grpSpPr>
        <p:sp>
          <p:nvSpPr>
            <p:cNvPr id="315" name=""/>
            <p:cNvSpPr/>
            <p:nvPr/>
          </p:nvSpPr>
          <p:spPr>
            <a:xfrm>
              <a:off x="3895560" y="3048120"/>
              <a:ext cx="981360" cy="1600560"/>
            </a:xfrm>
            <a:custGeom>
              <a:avLst/>
              <a:gdLst/>
              <a:ahLst/>
              <a:rect l="0" t="0" r="r" b="b"/>
              <a:pathLst>
                <a:path w="2726" h="4446">
                  <a:moveTo>
                    <a:pt x="953" y="374"/>
                  </a:moveTo>
                  <a:lnTo>
                    <a:pt x="865" y="392"/>
                  </a:lnTo>
                  <a:lnTo>
                    <a:pt x="799" y="436"/>
                  </a:lnTo>
                  <a:lnTo>
                    <a:pt x="672" y="582"/>
                  </a:lnTo>
                  <a:lnTo>
                    <a:pt x="540" y="723"/>
                  </a:lnTo>
                  <a:lnTo>
                    <a:pt x="391" y="851"/>
                  </a:lnTo>
                  <a:lnTo>
                    <a:pt x="369" y="890"/>
                  </a:lnTo>
                  <a:lnTo>
                    <a:pt x="347" y="930"/>
                  </a:lnTo>
                  <a:lnTo>
                    <a:pt x="347" y="930"/>
                  </a:lnTo>
                  <a:lnTo>
                    <a:pt x="369" y="930"/>
                  </a:lnTo>
                  <a:lnTo>
                    <a:pt x="153" y="1553"/>
                  </a:lnTo>
                  <a:lnTo>
                    <a:pt x="0" y="4345"/>
                  </a:lnTo>
                  <a:lnTo>
                    <a:pt x="2726" y="4446"/>
                  </a:lnTo>
                  <a:lnTo>
                    <a:pt x="2317" y="1844"/>
                  </a:lnTo>
                  <a:lnTo>
                    <a:pt x="2119" y="414"/>
                  </a:lnTo>
                  <a:lnTo>
                    <a:pt x="1385" y="0"/>
                  </a:lnTo>
                  <a:lnTo>
                    <a:pt x="953" y="374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3795840" y="1373040"/>
              <a:ext cx="1005120" cy="1818000"/>
              <a:chOff x="3795840" y="1373040"/>
              <a:chExt cx="1005120" cy="1818000"/>
            </a:xfrm>
          </p:grpSpPr>
          <p:sp>
            <p:nvSpPr>
              <p:cNvPr id="317" name=""/>
              <p:cNvSpPr/>
              <p:nvPr/>
            </p:nvSpPr>
            <p:spPr>
              <a:xfrm>
                <a:off x="3905280" y="1609560"/>
                <a:ext cx="895680" cy="1581480"/>
              </a:xfrm>
              <a:custGeom>
                <a:avLst/>
                <a:gdLst/>
                <a:ahLst/>
                <a:rect l="0" t="0" r="r" b="b"/>
                <a:pathLst>
                  <a:path w="2488" h="4393">
                    <a:moveTo>
                      <a:pt x="582" y="0"/>
                    </a:moveTo>
                    <a:lnTo>
                      <a:pt x="264" y="264"/>
                    </a:lnTo>
                    <a:lnTo>
                      <a:pt x="79" y="687"/>
                    </a:lnTo>
                    <a:lnTo>
                      <a:pt x="26" y="1217"/>
                    </a:lnTo>
                    <a:lnTo>
                      <a:pt x="0" y="2699"/>
                    </a:lnTo>
                    <a:lnTo>
                      <a:pt x="52" y="3546"/>
                    </a:lnTo>
                    <a:lnTo>
                      <a:pt x="820" y="3599"/>
                    </a:lnTo>
                    <a:lnTo>
                      <a:pt x="926" y="4075"/>
                    </a:lnTo>
                    <a:lnTo>
                      <a:pt x="1031" y="4393"/>
                    </a:lnTo>
                    <a:lnTo>
                      <a:pt x="1271" y="4393"/>
                    </a:lnTo>
                    <a:lnTo>
                      <a:pt x="1403" y="4102"/>
                    </a:lnTo>
                    <a:lnTo>
                      <a:pt x="1323" y="3599"/>
                    </a:lnTo>
                    <a:lnTo>
                      <a:pt x="2038" y="3519"/>
                    </a:lnTo>
                    <a:lnTo>
                      <a:pt x="2064" y="3017"/>
                    </a:lnTo>
                    <a:lnTo>
                      <a:pt x="2223" y="3096"/>
                    </a:lnTo>
                    <a:lnTo>
                      <a:pt x="2382" y="3043"/>
                    </a:lnTo>
                    <a:lnTo>
                      <a:pt x="2488" y="2620"/>
                    </a:lnTo>
                    <a:lnTo>
                      <a:pt x="2355" y="2408"/>
                    </a:lnTo>
                    <a:lnTo>
                      <a:pt x="2197" y="2435"/>
                    </a:lnTo>
                    <a:lnTo>
                      <a:pt x="2355" y="185"/>
                    </a:lnTo>
                    <a:lnTo>
                      <a:pt x="582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795840" y="2052720"/>
                <a:ext cx="409680" cy="4096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148280" y="2014560"/>
                <a:ext cx="485640" cy="4856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38720" y="2214720"/>
                <a:ext cx="85680" cy="85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4560" bIns="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929040" y="2224080"/>
                <a:ext cx="85680" cy="85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4560" bIns="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135320" y="1401840"/>
                <a:ext cx="7920" cy="217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4249800" y="1382760"/>
                <a:ext cx="17280" cy="217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>
                <a:off x="4411800" y="1373040"/>
                <a:ext cx="36360" cy="227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4573440" y="1420920"/>
                <a:ext cx="55800" cy="198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4716360" y="1449360"/>
                <a:ext cx="55800" cy="179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895560" y="2562120"/>
                <a:ext cx="657720" cy="257400"/>
              </a:xfrm>
              <a:custGeom>
                <a:avLst/>
                <a:gdLst/>
                <a:ahLst/>
                <a:rect l="0" t="0" r="r" b="b"/>
                <a:pathLst>
                  <a:path w="1827" h="715">
                    <a:moveTo>
                      <a:pt x="0" y="0"/>
                    </a:moveTo>
                    <a:lnTo>
                      <a:pt x="1827" y="163"/>
                    </a:lnTo>
                    <a:lnTo>
                      <a:pt x="746" y="7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4191120" y="3057480"/>
              <a:ext cx="305280" cy="181440"/>
            </a:xfrm>
            <a:custGeom>
              <a:avLst/>
              <a:gdLst/>
              <a:ahLst/>
              <a:rect l="0" t="0" r="r" b="b"/>
              <a:pathLst>
                <a:path w="848" h="504">
                  <a:moveTo>
                    <a:pt x="0" y="344"/>
                  </a:moveTo>
                  <a:lnTo>
                    <a:pt x="239" y="478"/>
                  </a:lnTo>
                  <a:lnTo>
                    <a:pt x="663" y="504"/>
                  </a:lnTo>
                  <a:lnTo>
                    <a:pt x="848" y="265"/>
                  </a:lnTo>
                  <a:lnTo>
                    <a:pt x="848" y="79"/>
                  </a:lnTo>
                  <a:lnTo>
                    <a:pt x="663" y="0"/>
                  </a:lnTo>
                  <a:lnTo>
                    <a:pt x="477" y="265"/>
                  </a:lnTo>
                  <a:lnTo>
                    <a:pt x="185" y="292"/>
                  </a:lnTo>
                  <a:lnTo>
                    <a:pt x="0" y="344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4200480" y="4005360"/>
            <a:ext cx="276480" cy="562320"/>
          </a:xfrm>
          <a:custGeom>
            <a:avLst/>
            <a:gdLst/>
            <a:ahLst/>
            <a:rect l="0" t="0" r="r" b="b"/>
            <a:pathLst>
              <a:path w="768" h="1562">
                <a:moveTo>
                  <a:pt x="196" y="62"/>
                </a:moveTo>
                <a:lnTo>
                  <a:pt x="235" y="22"/>
                </a:lnTo>
                <a:lnTo>
                  <a:pt x="274" y="0"/>
                </a:lnTo>
                <a:lnTo>
                  <a:pt x="313" y="22"/>
                </a:lnTo>
                <a:lnTo>
                  <a:pt x="374" y="40"/>
                </a:lnTo>
                <a:lnTo>
                  <a:pt x="471" y="0"/>
                </a:lnTo>
                <a:lnTo>
                  <a:pt x="511" y="0"/>
                </a:lnTo>
                <a:lnTo>
                  <a:pt x="572" y="0"/>
                </a:lnTo>
                <a:lnTo>
                  <a:pt x="572" y="62"/>
                </a:lnTo>
                <a:lnTo>
                  <a:pt x="572" y="80"/>
                </a:lnTo>
                <a:lnTo>
                  <a:pt x="511" y="142"/>
                </a:lnTo>
                <a:lnTo>
                  <a:pt x="532" y="227"/>
                </a:lnTo>
                <a:lnTo>
                  <a:pt x="532" y="289"/>
                </a:lnTo>
                <a:lnTo>
                  <a:pt x="572" y="330"/>
                </a:lnTo>
                <a:lnTo>
                  <a:pt x="611" y="392"/>
                </a:lnTo>
                <a:lnTo>
                  <a:pt x="589" y="535"/>
                </a:lnTo>
                <a:lnTo>
                  <a:pt x="550" y="637"/>
                </a:lnTo>
                <a:lnTo>
                  <a:pt x="589" y="700"/>
                </a:lnTo>
                <a:lnTo>
                  <a:pt x="650" y="780"/>
                </a:lnTo>
                <a:lnTo>
                  <a:pt x="707" y="861"/>
                </a:lnTo>
                <a:lnTo>
                  <a:pt x="729" y="924"/>
                </a:lnTo>
                <a:lnTo>
                  <a:pt x="746" y="986"/>
                </a:lnTo>
                <a:lnTo>
                  <a:pt x="768" y="1026"/>
                </a:lnTo>
                <a:lnTo>
                  <a:pt x="768" y="1026"/>
                </a:lnTo>
                <a:lnTo>
                  <a:pt x="746" y="1174"/>
                </a:lnTo>
                <a:lnTo>
                  <a:pt x="729" y="1294"/>
                </a:lnTo>
                <a:lnTo>
                  <a:pt x="707" y="1419"/>
                </a:lnTo>
                <a:lnTo>
                  <a:pt x="668" y="1562"/>
                </a:lnTo>
                <a:lnTo>
                  <a:pt x="668" y="1521"/>
                </a:lnTo>
                <a:lnTo>
                  <a:pt x="668" y="1481"/>
                </a:lnTo>
                <a:lnTo>
                  <a:pt x="689" y="1437"/>
                </a:lnTo>
                <a:lnTo>
                  <a:pt x="689" y="1419"/>
                </a:lnTo>
                <a:lnTo>
                  <a:pt x="668" y="1356"/>
                </a:lnTo>
                <a:lnTo>
                  <a:pt x="650" y="1276"/>
                </a:lnTo>
                <a:lnTo>
                  <a:pt x="668" y="1214"/>
                </a:lnTo>
                <a:lnTo>
                  <a:pt x="689" y="1191"/>
                </a:lnTo>
                <a:lnTo>
                  <a:pt x="689" y="1174"/>
                </a:lnTo>
                <a:lnTo>
                  <a:pt x="668" y="1049"/>
                </a:lnTo>
                <a:lnTo>
                  <a:pt x="628" y="986"/>
                </a:lnTo>
                <a:lnTo>
                  <a:pt x="589" y="946"/>
                </a:lnTo>
                <a:lnTo>
                  <a:pt x="550" y="884"/>
                </a:lnTo>
                <a:lnTo>
                  <a:pt x="511" y="821"/>
                </a:lnTo>
                <a:lnTo>
                  <a:pt x="471" y="861"/>
                </a:lnTo>
                <a:lnTo>
                  <a:pt x="432" y="884"/>
                </a:lnTo>
                <a:lnTo>
                  <a:pt x="393" y="906"/>
                </a:lnTo>
                <a:lnTo>
                  <a:pt x="374" y="924"/>
                </a:lnTo>
                <a:lnTo>
                  <a:pt x="353" y="924"/>
                </a:lnTo>
                <a:lnTo>
                  <a:pt x="353" y="843"/>
                </a:lnTo>
                <a:lnTo>
                  <a:pt x="353" y="821"/>
                </a:lnTo>
                <a:lnTo>
                  <a:pt x="353" y="803"/>
                </a:lnTo>
                <a:lnTo>
                  <a:pt x="374" y="758"/>
                </a:lnTo>
                <a:lnTo>
                  <a:pt x="393" y="718"/>
                </a:lnTo>
                <a:lnTo>
                  <a:pt x="393" y="718"/>
                </a:lnTo>
                <a:lnTo>
                  <a:pt x="393" y="740"/>
                </a:lnTo>
                <a:lnTo>
                  <a:pt x="393" y="758"/>
                </a:lnTo>
                <a:lnTo>
                  <a:pt x="374" y="780"/>
                </a:lnTo>
                <a:lnTo>
                  <a:pt x="335" y="758"/>
                </a:lnTo>
                <a:lnTo>
                  <a:pt x="313" y="740"/>
                </a:lnTo>
                <a:lnTo>
                  <a:pt x="296" y="740"/>
                </a:lnTo>
                <a:lnTo>
                  <a:pt x="274" y="758"/>
                </a:lnTo>
                <a:lnTo>
                  <a:pt x="257" y="780"/>
                </a:lnTo>
                <a:lnTo>
                  <a:pt x="196" y="718"/>
                </a:lnTo>
                <a:lnTo>
                  <a:pt x="178" y="780"/>
                </a:lnTo>
                <a:lnTo>
                  <a:pt x="156" y="803"/>
                </a:lnTo>
                <a:lnTo>
                  <a:pt x="117" y="780"/>
                </a:lnTo>
                <a:lnTo>
                  <a:pt x="39" y="758"/>
                </a:lnTo>
                <a:lnTo>
                  <a:pt x="17" y="740"/>
                </a:lnTo>
                <a:lnTo>
                  <a:pt x="0" y="700"/>
                </a:lnTo>
                <a:lnTo>
                  <a:pt x="17" y="677"/>
                </a:lnTo>
                <a:lnTo>
                  <a:pt x="39" y="677"/>
                </a:lnTo>
                <a:lnTo>
                  <a:pt x="117" y="700"/>
                </a:lnTo>
                <a:lnTo>
                  <a:pt x="196" y="718"/>
                </a:lnTo>
                <a:lnTo>
                  <a:pt x="196" y="718"/>
                </a:lnTo>
                <a:lnTo>
                  <a:pt x="178" y="700"/>
                </a:lnTo>
                <a:lnTo>
                  <a:pt x="156" y="677"/>
                </a:lnTo>
                <a:lnTo>
                  <a:pt x="139" y="655"/>
                </a:lnTo>
                <a:lnTo>
                  <a:pt x="139" y="637"/>
                </a:lnTo>
                <a:lnTo>
                  <a:pt x="139" y="597"/>
                </a:lnTo>
                <a:lnTo>
                  <a:pt x="156" y="553"/>
                </a:lnTo>
                <a:lnTo>
                  <a:pt x="178" y="535"/>
                </a:lnTo>
                <a:lnTo>
                  <a:pt x="178" y="472"/>
                </a:lnTo>
                <a:lnTo>
                  <a:pt x="178" y="410"/>
                </a:lnTo>
                <a:lnTo>
                  <a:pt x="178" y="267"/>
                </a:lnTo>
                <a:lnTo>
                  <a:pt x="139" y="227"/>
                </a:lnTo>
                <a:lnTo>
                  <a:pt x="117" y="205"/>
                </a:lnTo>
                <a:lnTo>
                  <a:pt x="117" y="182"/>
                </a:lnTo>
                <a:lnTo>
                  <a:pt x="139" y="165"/>
                </a:lnTo>
                <a:lnTo>
                  <a:pt x="156" y="142"/>
                </a:lnTo>
                <a:lnTo>
                  <a:pt x="156" y="124"/>
                </a:lnTo>
                <a:lnTo>
                  <a:pt x="196" y="62"/>
                </a:lnTo>
                <a:close/>
              </a:path>
            </a:pathLst>
          </a:custGeom>
          <a:solidFill>
            <a:srgbClr val="e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4019400" y="3657600"/>
            <a:ext cx="756000" cy="1740240"/>
            <a:chOff x="4019400" y="3657600"/>
            <a:chExt cx="756000" cy="1740240"/>
          </a:xfrm>
        </p:grpSpPr>
        <p:sp>
          <p:nvSpPr>
            <p:cNvPr id="331" name=""/>
            <p:cNvSpPr/>
            <p:nvPr/>
          </p:nvSpPr>
          <p:spPr>
            <a:xfrm>
              <a:off x="4417920" y="3759120"/>
              <a:ext cx="174960" cy="165600"/>
            </a:xfrm>
            <a:custGeom>
              <a:avLst/>
              <a:gdLst/>
              <a:ahLst/>
              <a:rect l="0" t="0" r="r" b="b"/>
              <a:pathLst>
                <a:path w="486" h="460">
                  <a:moveTo>
                    <a:pt x="100" y="271"/>
                  </a:moveTo>
                  <a:lnTo>
                    <a:pt x="100" y="189"/>
                  </a:lnTo>
                  <a:lnTo>
                    <a:pt x="150" y="102"/>
                  </a:lnTo>
                  <a:lnTo>
                    <a:pt x="257" y="51"/>
                  </a:lnTo>
                  <a:lnTo>
                    <a:pt x="357" y="0"/>
                  </a:lnTo>
                  <a:lnTo>
                    <a:pt x="413" y="34"/>
                  </a:lnTo>
                  <a:lnTo>
                    <a:pt x="486" y="85"/>
                  </a:lnTo>
                  <a:lnTo>
                    <a:pt x="486" y="121"/>
                  </a:lnTo>
                  <a:lnTo>
                    <a:pt x="486" y="121"/>
                  </a:lnTo>
                  <a:lnTo>
                    <a:pt x="435" y="121"/>
                  </a:lnTo>
                  <a:lnTo>
                    <a:pt x="335" y="172"/>
                  </a:lnTo>
                  <a:lnTo>
                    <a:pt x="228" y="241"/>
                  </a:lnTo>
                  <a:lnTo>
                    <a:pt x="206" y="322"/>
                  </a:lnTo>
                  <a:lnTo>
                    <a:pt x="206" y="357"/>
                  </a:lnTo>
                  <a:lnTo>
                    <a:pt x="178" y="392"/>
                  </a:lnTo>
                  <a:lnTo>
                    <a:pt x="150" y="426"/>
                  </a:lnTo>
                  <a:lnTo>
                    <a:pt x="100" y="443"/>
                  </a:lnTo>
                  <a:lnTo>
                    <a:pt x="72" y="460"/>
                  </a:lnTo>
                  <a:lnTo>
                    <a:pt x="50" y="460"/>
                  </a:lnTo>
                  <a:lnTo>
                    <a:pt x="0" y="426"/>
                  </a:lnTo>
                  <a:lnTo>
                    <a:pt x="0" y="392"/>
                  </a:lnTo>
                  <a:lnTo>
                    <a:pt x="22" y="374"/>
                  </a:lnTo>
                  <a:lnTo>
                    <a:pt x="50" y="305"/>
                  </a:lnTo>
                  <a:lnTo>
                    <a:pt x="72" y="288"/>
                  </a:lnTo>
                  <a:lnTo>
                    <a:pt x="100" y="288"/>
                  </a:lnTo>
                  <a:lnTo>
                    <a:pt x="100" y="271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019400" y="3930480"/>
              <a:ext cx="201960" cy="267120"/>
            </a:xfrm>
            <a:custGeom>
              <a:avLst/>
              <a:gdLst/>
              <a:ahLst/>
              <a:rect l="0" t="0" r="r" b="b"/>
              <a:pathLst>
                <a:path w="561" h="742">
                  <a:moveTo>
                    <a:pt x="424" y="581"/>
                  </a:moveTo>
                  <a:lnTo>
                    <a:pt x="315" y="442"/>
                  </a:lnTo>
                  <a:lnTo>
                    <a:pt x="204" y="281"/>
                  </a:lnTo>
                  <a:lnTo>
                    <a:pt x="204" y="200"/>
                  </a:lnTo>
                  <a:lnTo>
                    <a:pt x="204" y="118"/>
                  </a:lnTo>
                  <a:lnTo>
                    <a:pt x="245" y="56"/>
                  </a:lnTo>
                  <a:lnTo>
                    <a:pt x="315" y="0"/>
                  </a:lnTo>
                  <a:lnTo>
                    <a:pt x="335" y="37"/>
                  </a:lnTo>
                  <a:lnTo>
                    <a:pt x="383" y="56"/>
                  </a:lnTo>
                  <a:lnTo>
                    <a:pt x="404" y="99"/>
                  </a:lnTo>
                  <a:lnTo>
                    <a:pt x="404" y="118"/>
                  </a:lnTo>
                  <a:lnTo>
                    <a:pt x="294" y="161"/>
                  </a:lnTo>
                  <a:lnTo>
                    <a:pt x="177" y="200"/>
                  </a:lnTo>
                  <a:lnTo>
                    <a:pt x="225" y="219"/>
                  </a:lnTo>
                  <a:lnTo>
                    <a:pt x="245" y="219"/>
                  </a:lnTo>
                  <a:lnTo>
                    <a:pt x="294" y="219"/>
                  </a:lnTo>
                  <a:lnTo>
                    <a:pt x="315" y="219"/>
                  </a:lnTo>
                  <a:lnTo>
                    <a:pt x="356" y="243"/>
                  </a:lnTo>
                  <a:lnTo>
                    <a:pt x="445" y="262"/>
                  </a:lnTo>
                  <a:lnTo>
                    <a:pt x="472" y="281"/>
                  </a:lnTo>
                  <a:lnTo>
                    <a:pt x="492" y="281"/>
                  </a:lnTo>
                  <a:lnTo>
                    <a:pt x="534" y="361"/>
                  </a:lnTo>
                  <a:lnTo>
                    <a:pt x="561" y="442"/>
                  </a:lnTo>
                  <a:lnTo>
                    <a:pt x="534" y="504"/>
                  </a:lnTo>
                  <a:lnTo>
                    <a:pt x="492" y="542"/>
                  </a:lnTo>
                  <a:lnTo>
                    <a:pt x="356" y="605"/>
                  </a:lnTo>
                  <a:lnTo>
                    <a:pt x="204" y="643"/>
                  </a:lnTo>
                  <a:lnTo>
                    <a:pt x="157" y="685"/>
                  </a:lnTo>
                  <a:lnTo>
                    <a:pt x="88" y="723"/>
                  </a:lnTo>
                  <a:lnTo>
                    <a:pt x="47" y="742"/>
                  </a:lnTo>
                  <a:lnTo>
                    <a:pt x="26" y="723"/>
                  </a:lnTo>
                  <a:lnTo>
                    <a:pt x="0" y="685"/>
                  </a:lnTo>
                  <a:lnTo>
                    <a:pt x="88" y="643"/>
                  </a:lnTo>
                  <a:lnTo>
                    <a:pt x="157" y="643"/>
                  </a:lnTo>
                  <a:lnTo>
                    <a:pt x="225" y="624"/>
                  </a:lnTo>
                  <a:lnTo>
                    <a:pt x="315" y="581"/>
                  </a:lnTo>
                  <a:lnTo>
                    <a:pt x="356" y="542"/>
                  </a:lnTo>
                  <a:lnTo>
                    <a:pt x="356" y="523"/>
                  </a:lnTo>
                  <a:lnTo>
                    <a:pt x="383" y="542"/>
                  </a:lnTo>
                  <a:lnTo>
                    <a:pt x="424" y="581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095720" y="4427640"/>
              <a:ext cx="297360" cy="111600"/>
            </a:xfrm>
            <a:custGeom>
              <a:avLst/>
              <a:gdLst/>
              <a:ahLst/>
              <a:rect l="0" t="0" r="r" b="b"/>
              <a:pathLst>
                <a:path w="826" h="310">
                  <a:moveTo>
                    <a:pt x="625" y="67"/>
                  </a:moveTo>
                  <a:lnTo>
                    <a:pt x="559" y="136"/>
                  </a:lnTo>
                  <a:lnTo>
                    <a:pt x="513" y="174"/>
                  </a:lnTo>
                  <a:lnTo>
                    <a:pt x="468" y="106"/>
                  </a:lnTo>
                  <a:lnTo>
                    <a:pt x="403" y="37"/>
                  </a:lnTo>
                  <a:lnTo>
                    <a:pt x="201" y="106"/>
                  </a:lnTo>
                  <a:lnTo>
                    <a:pt x="0" y="211"/>
                  </a:lnTo>
                  <a:lnTo>
                    <a:pt x="20" y="310"/>
                  </a:lnTo>
                  <a:lnTo>
                    <a:pt x="90" y="310"/>
                  </a:lnTo>
                  <a:lnTo>
                    <a:pt x="247" y="310"/>
                  </a:lnTo>
                  <a:lnTo>
                    <a:pt x="267" y="280"/>
                  </a:lnTo>
                  <a:lnTo>
                    <a:pt x="332" y="242"/>
                  </a:lnTo>
                  <a:lnTo>
                    <a:pt x="378" y="211"/>
                  </a:lnTo>
                  <a:lnTo>
                    <a:pt x="403" y="211"/>
                  </a:lnTo>
                  <a:lnTo>
                    <a:pt x="448" y="242"/>
                  </a:lnTo>
                  <a:lnTo>
                    <a:pt x="513" y="280"/>
                  </a:lnTo>
                  <a:lnTo>
                    <a:pt x="559" y="310"/>
                  </a:lnTo>
                  <a:lnTo>
                    <a:pt x="579" y="310"/>
                  </a:lnTo>
                  <a:lnTo>
                    <a:pt x="645" y="310"/>
                  </a:lnTo>
                  <a:lnTo>
                    <a:pt x="715" y="280"/>
                  </a:lnTo>
                  <a:lnTo>
                    <a:pt x="736" y="211"/>
                  </a:lnTo>
                  <a:lnTo>
                    <a:pt x="801" y="67"/>
                  </a:lnTo>
                  <a:lnTo>
                    <a:pt x="826" y="37"/>
                  </a:lnTo>
                  <a:lnTo>
                    <a:pt x="826" y="0"/>
                  </a:lnTo>
                  <a:lnTo>
                    <a:pt x="801" y="37"/>
                  </a:lnTo>
                  <a:lnTo>
                    <a:pt x="761" y="67"/>
                  </a:lnTo>
                  <a:lnTo>
                    <a:pt x="715" y="174"/>
                  </a:lnTo>
                  <a:lnTo>
                    <a:pt x="670" y="242"/>
                  </a:lnTo>
                  <a:lnTo>
                    <a:pt x="645" y="242"/>
                  </a:lnTo>
                  <a:lnTo>
                    <a:pt x="625" y="242"/>
                  </a:lnTo>
                  <a:lnTo>
                    <a:pt x="625" y="174"/>
                  </a:lnTo>
                  <a:lnTo>
                    <a:pt x="625" y="67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084560" y="3657600"/>
              <a:ext cx="279720" cy="230400"/>
            </a:xfrm>
            <a:custGeom>
              <a:avLst/>
              <a:gdLst/>
              <a:ahLst/>
              <a:rect l="0" t="0" r="r" b="b"/>
              <a:pathLst>
                <a:path w="777" h="640">
                  <a:moveTo>
                    <a:pt x="648" y="604"/>
                  </a:moveTo>
                  <a:lnTo>
                    <a:pt x="629" y="427"/>
                  </a:lnTo>
                  <a:lnTo>
                    <a:pt x="629" y="267"/>
                  </a:lnTo>
                  <a:lnTo>
                    <a:pt x="629" y="194"/>
                  </a:lnTo>
                  <a:lnTo>
                    <a:pt x="586" y="122"/>
                  </a:lnTo>
                  <a:lnTo>
                    <a:pt x="543" y="54"/>
                  </a:lnTo>
                  <a:lnTo>
                    <a:pt x="462" y="0"/>
                  </a:lnTo>
                  <a:lnTo>
                    <a:pt x="481" y="122"/>
                  </a:lnTo>
                  <a:lnTo>
                    <a:pt x="524" y="176"/>
                  </a:lnTo>
                  <a:lnTo>
                    <a:pt x="567" y="249"/>
                  </a:lnTo>
                  <a:lnTo>
                    <a:pt x="396" y="336"/>
                  </a:lnTo>
                  <a:lnTo>
                    <a:pt x="228" y="390"/>
                  </a:lnTo>
                  <a:lnTo>
                    <a:pt x="185" y="372"/>
                  </a:lnTo>
                  <a:lnTo>
                    <a:pt x="147" y="354"/>
                  </a:lnTo>
                  <a:lnTo>
                    <a:pt x="104" y="322"/>
                  </a:lnTo>
                  <a:lnTo>
                    <a:pt x="42" y="267"/>
                  </a:lnTo>
                  <a:lnTo>
                    <a:pt x="19" y="213"/>
                  </a:lnTo>
                  <a:lnTo>
                    <a:pt x="0" y="194"/>
                  </a:lnTo>
                  <a:lnTo>
                    <a:pt x="0" y="267"/>
                  </a:lnTo>
                  <a:lnTo>
                    <a:pt x="19" y="303"/>
                  </a:lnTo>
                  <a:lnTo>
                    <a:pt x="80" y="372"/>
                  </a:lnTo>
                  <a:lnTo>
                    <a:pt x="185" y="390"/>
                  </a:lnTo>
                  <a:lnTo>
                    <a:pt x="314" y="409"/>
                  </a:lnTo>
                  <a:lnTo>
                    <a:pt x="357" y="427"/>
                  </a:lnTo>
                  <a:lnTo>
                    <a:pt x="376" y="445"/>
                  </a:lnTo>
                  <a:lnTo>
                    <a:pt x="420" y="481"/>
                  </a:lnTo>
                  <a:lnTo>
                    <a:pt x="439" y="517"/>
                  </a:lnTo>
                  <a:lnTo>
                    <a:pt x="462" y="549"/>
                  </a:lnTo>
                  <a:lnTo>
                    <a:pt x="500" y="567"/>
                  </a:lnTo>
                  <a:lnTo>
                    <a:pt x="567" y="517"/>
                  </a:lnTo>
                  <a:lnTo>
                    <a:pt x="586" y="481"/>
                  </a:lnTo>
                  <a:lnTo>
                    <a:pt x="605" y="427"/>
                  </a:lnTo>
                  <a:lnTo>
                    <a:pt x="629" y="354"/>
                  </a:lnTo>
                  <a:lnTo>
                    <a:pt x="605" y="322"/>
                  </a:lnTo>
                  <a:lnTo>
                    <a:pt x="605" y="322"/>
                  </a:lnTo>
                  <a:lnTo>
                    <a:pt x="586" y="336"/>
                  </a:lnTo>
                  <a:lnTo>
                    <a:pt x="543" y="372"/>
                  </a:lnTo>
                  <a:lnTo>
                    <a:pt x="524" y="427"/>
                  </a:lnTo>
                  <a:lnTo>
                    <a:pt x="605" y="517"/>
                  </a:lnTo>
                  <a:lnTo>
                    <a:pt x="648" y="536"/>
                  </a:lnTo>
                  <a:lnTo>
                    <a:pt x="691" y="549"/>
                  </a:lnTo>
                  <a:lnTo>
                    <a:pt x="710" y="567"/>
                  </a:lnTo>
                  <a:lnTo>
                    <a:pt x="753" y="585"/>
                  </a:lnTo>
                  <a:lnTo>
                    <a:pt x="777" y="585"/>
                  </a:lnTo>
                  <a:lnTo>
                    <a:pt x="777" y="604"/>
                  </a:lnTo>
                  <a:lnTo>
                    <a:pt x="734" y="622"/>
                  </a:lnTo>
                  <a:lnTo>
                    <a:pt x="691" y="622"/>
                  </a:lnTo>
                  <a:lnTo>
                    <a:pt x="586" y="622"/>
                  </a:lnTo>
                  <a:lnTo>
                    <a:pt x="586" y="640"/>
                  </a:lnTo>
                  <a:lnTo>
                    <a:pt x="567" y="640"/>
                  </a:lnTo>
                  <a:lnTo>
                    <a:pt x="543" y="640"/>
                  </a:lnTo>
                  <a:lnTo>
                    <a:pt x="543" y="640"/>
                  </a:lnTo>
                  <a:lnTo>
                    <a:pt x="605" y="622"/>
                  </a:lnTo>
                  <a:lnTo>
                    <a:pt x="648" y="604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083120" y="4800600"/>
              <a:ext cx="133560" cy="322560"/>
            </a:xfrm>
            <a:custGeom>
              <a:avLst/>
              <a:gdLst/>
              <a:ahLst/>
              <a:rect l="0" t="0" r="r" b="b"/>
              <a:pathLst>
                <a:path w="371" h="896">
                  <a:moveTo>
                    <a:pt x="186" y="22"/>
                  </a:moveTo>
                  <a:lnTo>
                    <a:pt x="165" y="114"/>
                  </a:lnTo>
                  <a:lnTo>
                    <a:pt x="121" y="187"/>
                  </a:lnTo>
                  <a:lnTo>
                    <a:pt x="63" y="397"/>
                  </a:lnTo>
                  <a:lnTo>
                    <a:pt x="0" y="613"/>
                  </a:lnTo>
                  <a:lnTo>
                    <a:pt x="19" y="681"/>
                  </a:lnTo>
                  <a:lnTo>
                    <a:pt x="63" y="731"/>
                  </a:lnTo>
                  <a:lnTo>
                    <a:pt x="102" y="777"/>
                  </a:lnTo>
                  <a:lnTo>
                    <a:pt x="165" y="823"/>
                  </a:lnTo>
                  <a:lnTo>
                    <a:pt x="230" y="850"/>
                  </a:lnTo>
                  <a:lnTo>
                    <a:pt x="269" y="850"/>
                  </a:lnTo>
                  <a:lnTo>
                    <a:pt x="269" y="873"/>
                  </a:lnTo>
                  <a:lnTo>
                    <a:pt x="269" y="896"/>
                  </a:lnTo>
                  <a:lnTo>
                    <a:pt x="230" y="896"/>
                  </a:lnTo>
                  <a:lnTo>
                    <a:pt x="165" y="873"/>
                  </a:lnTo>
                  <a:lnTo>
                    <a:pt x="165" y="658"/>
                  </a:lnTo>
                  <a:lnTo>
                    <a:pt x="146" y="635"/>
                  </a:lnTo>
                  <a:lnTo>
                    <a:pt x="146" y="613"/>
                  </a:lnTo>
                  <a:lnTo>
                    <a:pt x="186" y="590"/>
                  </a:lnTo>
                  <a:lnTo>
                    <a:pt x="249" y="539"/>
                  </a:lnTo>
                  <a:lnTo>
                    <a:pt x="312" y="517"/>
                  </a:lnTo>
                  <a:lnTo>
                    <a:pt x="351" y="517"/>
                  </a:lnTo>
                  <a:lnTo>
                    <a:pt x="371" y="471"/>
                  </a:lnTo>
                  <a:lnTo>
                    <a:pt x="371" y="424"/>
                  </a:lnTo>
                  <a:lnTo>
                    <a:pt x="351" y="397"/>
                  </a:lnTo>
                  <a:lnTo>
                    <a:pt x="288" y="374"/>
                  </a:lnTo>
                  <a:lnTo>
                    <a:pt x="249" y="397"/>
                  </a:lnTo>
                  <a:lnTo>
                    <a:pt x="230" y="447"/>
                  </a:lnTo>
                  <a:lnTo>
                    <a:pt x="186" y="517"/>
                  </a:lnTo>
                  <a:lnTo>
                    <a:pt x="121" y="447"/>
                  </a:lnTo>
                  <a:lnTo>
                    <a:pt x="102" y="424"/>
                  </a:lnTo>
                  <a:lnTo>
                    <a:pt x="146" y="374"/>
                  </a:lnTo>
                  <a:lnTo>
                    <a:pt x="205" y="328"/>
                  </a:lnTo>
                  <a:lnTo>
                    <a:pt x="230" y="306"/>
                  </a:lnTo>
                  <a:lnTo>
                    <a:pt x="249" y="283"/>
                  </a:lnTo>
                  <a:lnTo>
                    <a:pt x="332" y="0"/>
                  </a:lnTo>
                  <a:lnTo>
                    <a:pt x="312" y="45"/>
                  </a:lnTo>
                  <a:lnTo>
                    <a:pt x="249" y="91"/>
                  </a:lnTo>
                  <a:lnTo>
                    <a:pt x="205" y="91"/>
                  </a:lnTo>
                  <a:lnTo>
                    <a:pt x="186" y="68"/>
                  </a:lnTo>
                  <a:lnTo>
                    <a:pt x="186" y="22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451400" y="5162400"/>
              <a:ext cx="105120" cy="235440"/>
            </a:xfrm>
            <a:custGeom>
              <a:avLst/>
              <a:gdLst/>
              <a:ahLst/>
              <a:rect l="0" t="0" r="r" b="b"/>
              <a:pathLst>
                <a:path w="292" h="654">
                  <a:moveTo>
                    <a:pt x="145" y="97"/>
                  </a:moveTo>
                  <a:lnTo>
                    <a:pt x="104" y="169"/>
                  </a:lnTo>
                  <a:lnTo>
                    <a:pt x="81" y="218"/>
                  </a:lnTo>
                  <a:lnTo>
                    <a:pt x="63" y="267"/>
                  </a:lnTo>
                  <a:lnTo>
                    <a:pt x="40" y="338"/>
                  </a:lnTo>
                  <a:lnTo>
                    <a:pt x="22" y="387"/>
                  </a:lnTo>
                  <a:lnTo>
                    <a:pt x="0" y="436"/>
                  </a:lnTo>
                  <a:lnTo>
                    <a:pt x="0" y="436"/>
                  </a:lnTo>
                  <a:lnTo>
                    <a:pt x="40" y="508"/>
                  </a:lnTo>
                  <a:lnTo>
                    <a:pt x="81" y="583"/>
                  </a:lnTo>
                  <a:lnTo>
                    <a:pt x="210" y="654"/>
                  </a:lnTo>
                  <a:lnTo>
                    <a:pt x="169" y="605"/>
                  </a:lnTo>
                  <a:lnTo>
                    <a:pt x="145" y="556"/>
                  </a:lnTo>
                  <a:lnTo>
                    <a:pt x="145" y="534"/>
                  </a:lnTo>
                  <a:lnTo>
                    <a:pt x="187" y="458"/>
                  </a:lnTo>
                  <a:lnTo>
                    <a:pt x="145" y="436"/>
                  </a:lnTo>
                  <a:lnTo>
                    <a:pt x="145" y="387"/>
                  </a:lnTo>
                  <a:lnTo>
                    <a:pt x="169" y="365"/>
                  </a:lnTo>
                  <a:lnTo>
                    <a:pt x="210" y="338"/>
                  </a:lnTo>
                  <a:lnTo>
                    <a:pt x="251" y="289"/>
                  </a:lnTo>
                  <a:lnTo>
                    <a:pt x="292" y="240"/>
                  </a:lnTo>
                  <a:lnTo>
                    <a:pt x="292" y="218"/>
                  </a:lnTo>
                  <a:lnTo>
                    <a:pt x="292" y="169"/>
                  </a:lnTo>
                  <a:lnTo>
                    <a:pt x="273" y="97"/>
                  </a:lnTo>
                  <a:lnTo>
                    <a:pt x="210" y="26"/>
                  </a:lnTo>
                  <a:lnTo>
                    <a:pt x="169" y="0"/>
                  </a:lnTo>
                  <a:lnTo>
                    <a:pt x="169" y="26"/>
                  </a:lnTo>
                  <a:lnTo>
                    <a:pt x="145" y="48"/>
                  </a:lnTo>
                  <a:lnTo>
                    <a:pt x="145" y="97"/>
                  </a:lnTo>
                  <a:lnTo>
                    <a:pt x="145" y="119"/>
                  </a:lnTo>
                  <a:lnTo>
                    <a:pt x="145" y="119"/>
                  </a:lnTo>
                  <a:lnTo>
                    <a:pt x="145" y="97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254480" y="4334040"/>
              <a:ext cx="520920" cy="306720"/>
            </a:xfrm>
            <a:custGeom>
              <a:avLst/>
              <a:gdLst/>
              <a:ahLst/>
              <a:rect l="0" t="0" r="r" b="b"/>
              <a:pathLst>
                <a:path w="1447" h="852">
                  <a:moveTo>
                    <a:pt x="833" y="197"/>
                  </a:moveTo>
                  <a:lnTo>
                    <a:pt x="792" y="389"/>
                  </a:lnTo>
                  <a:lnTo>
                    <a:pt x="746" y="488"/>
                  </a:lnTo>
                  <a:lnTo>
                    <a:pt x="677" y="561"/>
                  </a:lnTo>
                  <a:lnTo>
                    <a:pt x="591" y="535"/>
                  </a:lnTo>
                  <a:lnTo>
                    <a:pt x="550" y="509"/>
                  </a:lnTo>
                  <a:lnTo>
                    <a:pt x="482" y="509"/>
                  </a:lnTo>
                  <a:lnTo>
                    <a:pt x="395" y="535"/>
                  </a:lnTo>
                  <a:lnTo>
                    <a:pt x="309" y="608"/>
                  </a:lnTo>
                  <a:lnTo>
                    <a:pt x="200" y="634"/>
                  </a:lnTo>
                  <a:lnTo>
                    <a:pt x="0" y="732"/>
                  </a:lnTo>
                  <a:lnTo>
                    <a:pt x="0" y="779"/>
                  </a:lnTo>
                  <a:lnTo>
                    <a:pt x="22" y="826"/>
                  </a:lnTo>
                  <a:lnTo>
                    <a:pt x="109" y="852"/>
                  </a:lnTo>
                  <a:lnTo>
                    <a:pt x="218" y="826"/>
                  </a:lnTo>
                  <a:lnTo>
                    <a:pt x="309" y="805"/>
                  </a:lnTo>
                  <a:lnTo>
                    <a:pt x="527" y="732"/>
                  </a:lnTo>
                  <a:lnTo>
                    <a:pt x="724" y="634"/>
                  </a:lnTo>
                  <a:lnTo>
                    <a:pt x="792" y="634"/>
                  </a:lnTo>
                  <a:lnTo>
                    <a:pt x="856" y="660"/>
                  </a:lnTo>
                  <a:lnTo>
                    <a:pt x="919" y="680"/>
                  </a:lnTo>
                  <a:lnTo>
                    <a:pt x="965" y="732"/>
                  </a:lnTo>
                  <a:lnTo>
                    <a:pt x="1051" y="779"/>
                  </a:lnTo>
                  <a:lnTo>
                    <a:pt x="1074" y="732"/>
                  </a:lnTo>
                  <a:lnTo>
                    <a:pt x="1097" y="706"/>
                  </a:lnTo>
                  <a:lnTo>
                    <a:pt x="1142" y="706"/>
                  </a:lnTo>
                  <a:lnTo>
                    <a:pt x="1206" y="706"/>
                  </a:lnTo>
                  <a:lnTo>
                    <a:pt x="1251" y="706"/>
                  </a:lnTo>
                  <a:lnTo>
                    <a:pt x="1292" y="660"/>
                  </a:lnTo>
                  <a:lnTo>
                    <a:pt x="1338" y="561"/>
                  </a:lnTo>
                  <a:lnTo>
                    <a:pt x="1383" y="436"/>
                  </a:lnTo>
                  <a:lnTo>
                    <a:pt x="1424" y="316"/>
                  </a:lnTo>
                  <a:lnTo>
                    <a:pt x="1447" y="269"/>
                  </a:lnTo>
                  <a:lnTo>
                    <a:pt x="1447" y="243"/>
                  </a:lnTo>
                  <a:lnTo>
                    <a:pt x="1383" y="217"/>
                  </a:lnTo>
                  <a:lnTo>
                    <a:pt x="1292" y="197"/>
                  </a:lnTo>
                  <a:lnTo>
                    <a:pt x="1206" y="171"/>
                  </a:lnTo>
                  <a:lnTo>
                    <a:pt x="1160" y="171"/>
                  </a:lnTo>
                  <a:lnTo>
                    <a:pt x="1119" y="145"/>
                  </a:lnTo>
                  <a:lnTo>
                    <a:pt x="1051" y="124"/>
                  </a:lnTo>
                  <a:lnTo>
                    <a:pt x="1051" y="72"/>
                  </a:lnTo>
                  <a:lnTo>
                    <a:pt x="1033" y="25"/>
                  </a:lnTo>
                  <a:lnTo>
                    <a:pt x="942" y="0"/>
                  </a:lnTo>
                  <a:lnTo>
                    <a:pt x="833" y="0"/>
                  </a:lnTo>
                  <a:lnTo>
                    <a:pt x="746" y="0"/>
                  </a:lnTo>
                  <a:lnTo>
                    <a:pt x="769" y="51"/>
                  </a:lnTo>
                  <a:lnTo>
                    <a:pt x="769" y="72"/>
                  </a:lnTo>
                  <a:lnTo>
                    <a:pt x="833" y="197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2209680" y="6126120"/>
            <a:ext cx="1219680" cy="228960"/>
            <a:chOff x="2209680" y="6126120"/>
            <a:chExt cx="1219680" cy="228960"/>
          </a:xfrm>
        </p:grpSpPr>
        <p:sp>
          <p:nvSpPr>
            <p:cNvPr id="339" name=""/>
            <p:cNvSpPr/>
            <p:nvPr/>
          </p:nvSpPr>
          <p:spPr>
            <a:xfrm>
              <a:off x="2209680" y="6153120"/>
              <a:ext cx="1219680" cy="171720"/>
            </a:xfrm>
            <a:custGeom>
              <a:avLst/>
              <a:gdLst/>
              <a:ahLst/>
              <a:rect l="0" t="0" r="r" b="b"/>
              <a:pathLst>
                <a:path w="3388" h="477">
                  <a:moveTo>
                    <a:pt x="1493" y="84"/>
                  </a:moveTo>
                  <a:lnTo>
                    <a:pt x="3388" y="328"/>
                  </a:lnTo>
                  <a:lnTo>
                    <a:pt x="3229" y="412"/>
                  </a:lnTo>
                  <a:lnTo>
                    <a:pt x="2938" y="477"/>
                  </a:lnTo>
                  <a:lnTo>
                    <a:pt x="2239" y="457"/>
                  </a:lnTo>
                  <a:lnTo>
                    <a:pt x="1162" y="351"/>
                  </a:lnTo>
                  <a:lnTo>
                    <a:pt x="777" y="286"/>
                  </a:lnTo>
                  <a:lnTo>
                    <a:pt x="0" y="184"/>
                  </a:lnTo>
                  <a:lnTo>
                    <a:pt x="30" y="0"/>
                  </a:lnTo>
                  <a:lnTo>
                    <a:pt x="972" y="103"/>
                  </a:lnTo>
                  <a:lnTo>
                    <a:pt x="1188" y="182"/>
                  </a:lnTo>
                  <a:lnTo>
                    <a:pt x="1400" y="210"/>
                  </a:lnTo>
                  <a:lnTo>
                    <a:pt x="1493" y="84"/>
                  </a:lnTo>
                  <a:close/>
                </a:path>
              </a:pathLst>
            </a:custGeom>
            <a:blipFill rotWithShape="0">
              <a:blip r:embed="rId1"/>
              <a:tile tx="0" ty="0" sx="3528125" sy="3528125" algn="ctr"/>
            </a:blip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17640" y="6221520"/>
              <a:ext cx="695520" cy="133560"/>
            </a:xfrm>
            <a:custGeom>
              <a:avLst/>
              <a:gdLst/>
              <a:ahLst/>
              <a:rect l="0" t="0" r="r" b="b"/>
              <a:pathLst>
                <a:path w="1932" h="371">
                  <a:moveTo>
                    <a:pt x="34" y="12"/>
                  </a:moveTo>
                  <a:lnTo>
                    <a:pt x="225" y="0"/>
                  </a:lnTo>
                  <a:lnTo>
                    <a:pt x="381" y="133"/>
                  </a:lnTo>
                  <a:lnTo>
                    <a:pt x="658" y="83"/>
                  </a:lnTo>
                  <a:lnTo>
                    <a:pt x="1040" y="158"/>
                  </a:lnTo>
                  <a:lnTo>
                    <a:pt x="1243" y="200"/>
                  </a:lnTo>
                  <a:lnTo>
                    <a:pt x="1503" y="225"/>
                  </a:lnTo>
                  <a:lnTo>
                    <a:pt x="1932" y="204"/>
                  </a:lnTo>
                  <a:lnTo>
                    <a:pt x="1512" y="304"/>
                  </a:lnTo>
                  <a:lnTo>
                    <a:pt x="1209" y="371"/>
                  </a:lnTo>
                  <a:lnTo>
                    <a:pt x="692" y="296"/>
                  </a:lnTo>
                  <a:lnTo>
                    <a:pt x="407" y="267"/>
                  </a:lnTo>
                  <a:lnTo>
                    <a:pt x="0" y="188"/>
                  </a:lnTo>
                  <a:lnTo>
                    <a:pt x="34" y="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230560" y="6126120"/>
              <a:ext cx="495720" cy="124200"/>
            </a:xfrm>
            <a:custGeom>
              <a:avLst/>
              <a:gdLst/>
              <a:ahLst/>
              <a:rect l="0" t="0" r="r" b="b"/>
              <a:pathLst>
                <a:path w="1377" h="345">
                  <a:moveTo>
                    <a:pt x="1364" y="345"/>
                  </a:moveTo>
                  <a:lnTo>
                    <a:pt x="1377" y="230"/>
                  </a:lnTo>
                  <a:lnTo>
                    <a:pt x="1036" y="88"/>
                  </a:lnTo>
                  <a:lnTo>
                    <a:pt x="44" y="0"/>
                  </a:lnTo>
                  <a:lnTo>
                    <a:pt x="0" y="142"/>
                  </a:lnTo>
                  <a:lnTo>
                    <a:pt x="1364" y="345"/>
                  </a:lnTo>
                  <a:close/>
                </a:path>
              </a:pathLst>
            </a:custGeom>
            <a:solidFill>
              <a:srgbClr val="9933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4505400" y="3209760"/>
            <a:ext cx="1050840" cy="1130760"/>
            <a:chOff x="4505400" y="3209760"/>
            <a:chExt cx="1050840" cy="1130760"/>
          </a:xfrm>
        </p:grpSpPr>
        <p:sp>
          <p:nvSpPr>
            <p:cNvPr id="343" name=""/>
            <p:cNvSpPr/>
            <p:nvPr/>
          </p:nvSpPr>
          <p:spPr>
            <a:xfrm>
              <a:off x="5254560" y="4050720"/>
              <a:ext cx="301680" cy="289800"/>
            </a:xfrm>
            <a:custGeom>
              <a:avLst/>
              <a:gdLst/>
              <a:ahLst/>
              <a:rect l="0" t="0" r="r" b="b"/>
              <a:pathLst>
                <a:path w="838" h="805">
                  <a:moveTo>
                    <a:pt x="38" y="588"/>
                  </a:moveTo>
                  <a:lnTo>
                    <a:pt x="38" y="588"/>
                  </a:lnTo>
                  <a:lnTo>
                    <a:pt x="38" y="588"/>
                  </a:lnTo>
                  <a:cubicBezTo>
                    <a:pt x="69" y="650"/>
                    <a:pt x="116" y="703"/>
                    <a:pt x="176" y="741"/>
                  </a:cubicBezTo>
                  <a:cubicBezTo>
                    <a:pt x="236" y="779"/>
                    <a:pt x="306" y="801"/>
                    <a:pt x="379" y="804"/>
                  </a:cubicBezTo>
                  <a:cubicBezTo>
                    <a:pt x="452" y="807"/>
                    <a:pt x="526" y="791"/>
                    <a:pt x="593" y="759"/>
                  </a:cubicBezTo>
                  <a:cubicBezTo>
                    <a:pt x="660" y="726"/>
                    <a:pt x="717" y="677"/>
                    <a:pt x="760" y="618"/>
                  </a:cubicBezTo>
                  <a:cubicBezTo>
                    <a:pt x="803" y="558"/>
                    <a:pt x="829" y="490"/>
                    <a:pt x="836" y="419"/>
                  </a:cubicBezTo>
                  <a:cubicBezTo>
                    <a:pt x="843" y="349"/>
                    <a:pt x="830" y="279"/>
                    <a:pt x="800" y="216"/>
                  </a:cubicBezTo>
                  <a:lnTo>
                    <a:pt x="800" y="216"/>
                  </a:lnTo>
                  <a:lnTo>
                    <a:pt x="800" y="216"/>
                  </a:lnTo>
                  <a:cubicBezTo>
                    <a:pt x="769" y="154"/>
                    <a:pt x="722" y="101"/>
                    <a:pt x="662" y="63"/>
                  </a:cubicBezTo>
                  <a:cubicBezTo>
                    <a:pt x="602" y="25"/>
                    <a:pt x="532" y="3"/>
                    <a:pt x="459" y="0"/>
                  </a:cubicBezTo>
                  <a:cubicBezTo>
                    <a:pt x="386" y="-3"/>
                    <a:pt x="312" y="13"/>
                    <a:pt x="245" y="45"/>
                  </a:cubicBezTo>
                  <a:cubicBezTo>
                    <a:pt x="178" y="78"/>
                    <a:pt x="121" y="127"/>
                    <a:pt x="78" y="186"/>
                  </a:cubicBezTo>
                  <a:cubicBezTo>
                    <a:pt x="35" y="246"/>
                    <a:pt x="9" y="314"/>
                    <a:pt x="2" y="385"/>
                  </a:cubicBezTo>
                  <a:cubicBezTo>
                    <a:pt x="-5" y="455"/>
                    <a:pt x="8" y="525"/>
                    <a:pt x="38" y="588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505400" y="3209760"/>
              <a:ext cx="1029240" cy="891000"/>
            </a:xfrm>
            <a:custGeom>
              <a:avLst/>
              <a:gdLst/>
              <a:ahLst/>
              <a:rect l="0" t="0" r="r" b="b"/>
              <a:pathLst>
                <a:path w="2859" h="2475">
                  <a:moveTo>
                    <a:pt x="13" y="454"/>
                  </a:moveTo>
                  <a:lnTo>
                    <a:pt x="233" y="653"/>
                  </a:lnTo>
                  <a:lnTo>
                    <a:pt x="1090" y="825"/>
                  </a:lnTo>
                  <a:lnTo>
                    <a:pt x="1734" y="1002"/>
                  </a:lnTo>
                  <a:lnTo>
                    <a:pt x="2020" y="2475"/>
                  </a:lnTo>
                  <a:lnTo>
                    <a:pt x="2859" y="2220"/>
                  </a:lnTo>
                  <a:lnTo>
                    <a:pt x="2339" y="335"/>
                  </a:lnTo>
                  <a:lnTo>
                    <a:pt x="626" y="0"/>
                  </a:lnTo>
                  <a:lnTo>
                    <a:pt x="202" y="22"/>
                  </a:lnTo>
                  <a:lnTo>
                    <a:pt x="0" y="242"/>
                  </a:lnTo>
                  <a:lnTo>
                    <a:pt x="13" y="454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3085920" y="4102200"/>
            <a:ext cx="2464200" cy="2438640"/>
          </a:xfrm>
          <a:custGeom>
            <a:avLst/>
            <a:gdLst/>
            <a:ahLst/>
            <a:rect l="0" t="0" r="r" b="b"/>
            <a:pathLst>
              <a:path w="6845" h="6774">
                <a:moveTo>
                  <a:pt x="3246" y="0"/>
                </a:moveTo>
                <a:lnTo>
                  <a:pt x="3387" y="35"/>
                </a:lnTo>
                <a:lnTo>
                  <a:pt x="3246" y="0"/>
                </a:lnTo>
                <a:lnTo>
                  <a:pt x="3105" y="141"/>
                </a:lnTo>
                <a:lnTo>
                  <a:pt x="2999" y="211"/>
                </a:lnTo>
                <a:lnTo>
                  <a:pt x="2893" y="211"/>
                </a:lnTo>
                <a:lnTo>
                  <a:pt x="2787" y="211"/>
                </a:lnTo>
                <a:lnTo>
                  <a:pt x="2682" y="176"/>
                </a:lnTo>
                <a:lnTo>
                  <a:pt x="2541" y="176"/>
                </a:lnTo>
                <a:lnTo>
                  <a:pt x="2399" y="176"/>
                </a:lnTo>
                <a:lnTo>
                  <a:pt x="2294" y="176"/>
                </a:lnTo>
                <a:lnTo>
                  <a:pt x="2188" y="176"/>
                </a:lnTo>
                <a:lnTo>
                  <a:pt x="2082" y="211"/>
                </a:lnTo>
                <a:lnTo>
                  <a:pt x="1976" y="246"/>
                </a:lnTo>
                <a:lnTo>
                  <a:pt x="1870" y="282"/>
                </a:lnTo>
                <a:lnTo>
                  <a:pt x="1729" y="282"/>
                </a:lnTo>
                <a:lnTo>
                  <a:pt x="1622" y="282"/>
                </a:lnTo>
                <a:lnTo>
                  <a:pt x="1340" y="282"/>
                </a:lnTo>
                <a:lnTo>
                  <a:pt x="1234" y="246"/>
                </a:lnTo>
                <a:lnTo>
                  <a:pt x="1128" y="246"/>
                </a:lnTo>
                <a:lnTo>
                  <a:pt x="1023" y="282"/>
                </a:lnTo>
                <a:lnTo>
                  <a:pt x="917" y="352"/>
                </a:lnTo>
                <a:lnTo>
                  <a:pt x="811" y="352"/>
                </a:lnTo>
                <a:lnTo>
                  <a:pt x="705" y="388"/>
                </a:lnTo>
                <a:lnTo>
                  <a:pt x="635" y="493"/>
                </a:lnTo>
                <a:lnTo>
                  <a:pt x="564" y="599"/>
                </a:lnTo>
                <a:lnTo>
                  <a:pt x="458" y="635"/>
                </a:lnTo>
                <a:lnTo>
                  <a:pt x="388" y="740"/>
                </a:lnTo>
                <a:lnTo>
                  <a:pt x="352" y="846"/>
                </a:lnTo>
                <a:lnTo>
                  <a:pt x="352" y="952"/>
                </a:lnTo>
                <a:lnTo>
                  <a:pt x="352" y="1058"/>
                </a:lnTo>
                <a:lnTo>
                  <a:pt x="388" y="1164"/>
                </a:lnTo>
                <a:lnTo>
                  <a:pt x="388" y="1305"/>
                </a:lnTo>
                <a:lnTo>
                  <a:pt x="352" y="1411"/>
                </a:lnTo>
                <a:lnTo>
                  <a:pt x="317" y="1516"/>
                </a:lnTo>
                <a:lnTo>
                  <a:pt x="317" y="1622"/>
                </a:lnTo>
                <a:lnTo>
                  <a:pt x="317" y="1728"/>
                </a:lnTo>
                <a:lnTo>
                  <a:pt x="352" y="1834"/>
                </a:lnTo>
                <a:lnTo>
                  <a:pt x="352" y="1940"/>
                </a:lnTo>
                <a:lnTo>
                  <a:pt x="352" y="2046"/>
                </a:lnTo>
                <a:lnTo>
                  <a:pt x="317" y="2151"/>
                </a:lnTo>
                <a:lnTo>
                  <a:pt x="317" y="2257"/>
                </a:lnTo>
                <a:lnTo>
                  <a:pt x="282" y="2363"/>
                </a:lnTo>
                <a:lnTo>
                  <a:pt x="282" y="2469"/>
                </a:lnTo>
                <a:lnTo>
                  <a:pt x="246" y="2610"/>
                </a:lnTo>
                <a:lnTo>
                  <a:pt x="211" y="2716"/>
                </a:lnTo>
                <a:lnTo>
                  <a:pt x="211" y="2857"/>
                </a:lnTo>
                <a:lnTo>
                  <a:pt x="176" y="3069"/>
                </a:lnTo>
                <a:lnTo>
                  <a:pt x="176" y="3175"/>
                </a:lnTo>
                <a:lnTo>
                  <a:pt x="141" y="3280"/>
                </a:lnTo>
                <a:lnTo>
                  <a:pt x="141" y="3386"/>
                </a:lnTo>
                <a:lnTo>
                  <a:pt x="105" y="3493"/>
                </a:lnTo>
                <a:lnTo>
                  <a:pt x="70" y="3634"/>
                </a:lnTo>
                <a:lnTo>
                  <a:pt x="70" y="3740"/>
                </a:lnTo>
                <a:lnTo>
                  <a:pt x="70" y="3881"/>
                </a:lnTo>
                <a:lnTo>
                  <a:pt x="70" y="3987"/>
                </a:lnTo>
                <a:lnTo>
                  <a:pt x="105" y="4128"/>
                </a:lnTo>
                <a:lnTo>
                  <a:pt x="141" y="4234"/>
                </a:lnTo>
                <a:lnTo>
                  <a:pt x="141" y="4340"/>
                </a:lnTo>
                <a:lnTo>
                  <a:pt x="141" y="4481"/>
                </a:lnTo>
                <a:lnTo>
                  <a:pt x="105" y="4587"/>
                </a:lnTo>
                <a:lnTo>
                  <a:pt x="70" y="4692"/>
                </a:lnTo>
                <a:lnTo>
                  <a:pt x="35" y="4798"/>
                </a:lnTo>
                <a:lnTo>
                  <a:pt x="35" y="4939"/>
                </a:lnTo>
                <a:lnTo>
                  <a:pt x="35" y="5045"/>
                </a:lnTo>
                <a:lnTo>
                  <a:pt x="35" y="5151"/>
                </a:lnTo>
                <a:lnTo>
                  <a:pt x="35" y="5257"/>
                </a:lnTo>
                <a:lnTo>
                  <a:pt x="35" y="5363"/>
                </a:lnTo>
                <a:lnTo>
                  <a:pt x="35" y="5469"/>
                </a:lnTo>
                <a:lnTo>
                  <a:pt x="0" y="5574"/>
                </a:lnTo>
                <a:lnTo>
                  <a:pt x="0" y="5680"/>
                </a:lnTo>
                <a:lnTo>
                  <a:pt x="0" y="5786"/>
                </a:lnTo>
                <a:lnTo>
                  <a:pt x="0" y="5892"/>
                </a:lnTo>
                <a:lnTo>
                  <a:pt x="105" y="5998"/>
                </a:lnTo>
                <a:lnTo>
                  <a:pt x="211" y="6068"/>
                </a:lnTo>
                <a:lnTo>
                  <a:pt x="317" y="6139"/>
                </a:lnTo>
                <a:lnTo>
                  <a:pt x="423" y="6209"/>
                </a:lnTo>
                <a:lnTo>
                  <a:pt x="529" y="6280"/>
                </a:lnTo>
                <a:lnTo>
                  <a:pt x="670" y="6351"/>
                </a:lnTo>
                <a:lnTo>
                  <a:pt x="776" y="6386"/>
                </a:lnTo>
                <a:lnTo>
                  <a:pt x="881" y="6386"/>
                </a:lnTo>
                <a:lnTo>
                  <a:pt x="987" y="6351"/>
                </a:lnTo>
                <a:lnTo>
                  <a:pt x="1093" y="6315"/>
                </a:lnTo>
                <a:lnTo>
                  <a:pt x="1199" y="6315"/>
                </a:lnTo>
                <a:lnTo>
                  <a:pt x="1305" y="6351"/>
                </a:lnTo>
                <a:lnTo>
                  <a:pt x="1375" y="6492"/>
                </a:lnTo>
                <a:lnTo>
                  <a:pt x="1516" y="6562"/>
                </a:lnTo>
                <a:lnTo>
                  <a:pt x="1622" y="6597"/>
                </a:lnTo>
                <a:lnTo>
                  <a:pt x="1729" y="6597"/>
                </a:lnTo>
                <a:lnTo>
                  <a:pt x="1835" y="6597"/>
                </a:lnTo>
                <a:lnTo>
                  <a:pt x="1941" y="6597"/>
                </a:lnTo>
                <a:lnTo>
                  <a:pt x="2047" y="6597"/>
                </a:lnTo>
                <a:lnTo>
                  <a:pt x="2329" y="6597"/>
                </a:lnTo>
                <a:lnTo>
                  <a:pt x="2470" y="6668"/>
                </a:lnTo>
                <a:lnTo>
                  <a:pt x="2611" y="6703"/>
                </a:lnTo>
                <a:lnTo>
                  <a:pt x="2752" y="6739"/>
                </a:lnTo>
                <a:lnTo>
                  <a:pt x="2893" y="6774"/>
                </a:lnTo>
                <a:lnTo>
                  <a:pt x="3034" y="6774"/>
                </a:lnTo>
                <a:lnTo>
                  <a:pt x="3140" y="6774"/>
                </a:lnTo>
                <a:lnTo>
                  <a:pt x="3246" y="6739"/>
                </a:lnTo>
                <a:lnTo>
                  <a:pt x="3599" y="6668"/>
                </a:lnTo>
                <a:lnTo>
                  <a:pt x="3705" y="6668"/>
                </a:lnTo>
                <a:lnTo>
                  <a:pt x="3811" y="6633"/>
                </a:lnTo>
                <a:lnTo>
                  <a:pt x="3916" y="6633"/>
                </a:lnTo>
                <a:lnTo>
                  <a:pt x="4269" y="6633"/>
                </a:lnTo>
                <a:lnTo>
                  <a:pt x="4481" y="6633"/>
                </a:lnTo>
                <a:lnTo>
                  <a:pt x="4622" y="6633"/>
                </a:lnTo>
                <a:lnTo>
                  <a:pt x="4728" y="6597"/>
                </a:lnTo>
                <a:lnTo>
                  <a:pt x="4939" y="6562"/>
                </a:lnTo>
                <a:lnTo>
                  <a:pt x="5045" y="6527"/>
                </a:lnTo>
                <a:lnTo>
                  <a:pt x="5187" y="6492"/>
                </a:lnTo>
                <a:lnTo>
                  <a:pt x="5399" y="6456"/>
                </a:lnTo>
                <a:lnTo>
                  <a:pt x="5540" y="6421"/>
                </a:lnTo>
                <a:lnTo>
                  <a:pt x="5646" y="6421"/>
                </a:lnTo>
                <a:lnTo>
                  <a:pt x="5752" y="6421"/>
                </a:lnTo>
                <a:lnTo>
                  <a:pt x="5858" y="6421"/>
                </a:lnTo>
                <a:lnTo>
                  <a:pt x="5963" y="6421"/>
                </a:lnTo>
                <a:lnTo>
                  <a:pt x="6069" y="6421"/>
                </a:lnTo>
                <a:lnTo>
                  <a:pt x="6175" y="6386"/>
                </a:lnTo>
                <a:lnTo>
                  <a:pt x="6422" y="6315"/>
                </a:lnTo>
                <a:lnTo>
                  <a:pt x="6528" y="6209"/>
                </a:lnTo>
                <a:lnTo>
                  <a:pt x="6669" y="6104"/>
                </a:lnTo>
                <a:lnTo>
                  <a:pt x="6775" y="6033"/>
                </a:lnTo>
                <a:lnTo>
                  <a:pt x="6845" y="5927"/>
                </a:lnTo>
                <a:lnTo>
                  <a:pt x="6845" y="5821"/>
                </a:lnTo>
                <a:lnTo>
                  <a:pt x="6845" y="5716"/>
                </a:lnTo>
                <a:lnTo>
                  <a:pt x="6775" y="5610"/>
                </a:lnTo>
                <a:lnTo>
                  <a:pt x="6740" y="5504"/>
                </a:lnTo>
                <a:lnTo>
                  <a:pt x="6669" y="5363"/>
                </a:lnTo>
                <a:lnTo>
                  <a:pt x="6634" y="5257"/>
                </a:lnTo>
                <a:lnTo>
                  <a:pt x="6598" y="5151"/>
                </a:lnTo>
                <a:lnTo>
                  <a:pt x="6598" y="5045"/>
                </a:lnTo>
                <a:lnTo>
                  <a:pt x="6563" y="4939"/>
                </a:lnTo>
                <a:lnTo>
                  <a:pt x="6493" y="4834"/>
                </a:lnTo>
                <a:lnTo>
                  <a:pt x="6457" y="4728"/>
                </a:lnTo>
                <a:lnTo>
                  <a:pt x="6422" y="4622"/>
                </a:lnTo>
                <a:lnTo>
                  <a:pt x="6352" y="4516"/>
                </a:lnTo>
                <a:lnTo>
                  <a:pt x="6281" y="4375"/>
                </a:lnTo>
                <a:lnTo>
                  <a:pt x="6210" y="4093"/>
                </a:lnTo>
                <a:lnTo>
                  <a:pt x="6175" y="3881"/>
                </a:lnTo>
                <a:lnTo>
                  <a:pt x="6140" y="3669"/>
                </a:lnTo>
                <a:lnTo>
                  <a:pt x="6069" y="3351"/>
                </a:lnTo>
                <a:lnTo>
                  <a:pt x="6034" y="3245"/>
                </a:lnTo>
                <a:lnTo>
                  <a:pt x="5999" y="3033"/>
                </a:lnTo>
                <a:lnTo>
                  <a:pt x="5999" y="2892"/>
                </a:lnTo>
                <a:lnTo>
                  <a:pt x="5963" y="2786"/>
                </a:lnTo>
                <a:lnTo>
                  <a:pt x="5963" y="2681"/>
                </a:lnTo>
                <a:lnTo>
                  <a:pt x="5999" y="2575"/>
                </a:lnTo>
                <a:lnTo>
                  <a:pt x="6069" y="2363"/>
                </a:lnTo>
                <a:lnTo>
                  <a:pt x="6140" y="2222"/>
                </a:lnTo>
                <a:lnTo>
                  <a:pt x="6140" y="2116"/>
                </a:lnTo>
                <a:lnTo>
                  <a:pt x="6175" y="2010"/>
                </a:lnTo>
                <a:lnTo>
                  <a:pt x="6281" y="1975"/>
                </a:lnTo>
                <a:lnTo>
                  <a:pt x="6387" y="1905"/>
                </a:lnTo>
                <a:lnTo>
                  <a:pt x="6352" y="1799"/>
                </a:lnTo>
                <a:lnTo>
                  <a:pt x="6316" y="1587"/>
                </a:lnTo>
                <a:lnTo>
                  <a:pt x="6281" y="1481"/>
                </a:lnTo>
                <a:lnTo>
                  <a:pt x="6210" y="1375"/>
                </a:lnTo>
                <a:lnTo>
                  <a:pt x="6175" y="1164"/>
                </a:lnTo>
                <a:lnTo>
                  <a:pt x="6175" y="1058"/>
                </a:lnTo>
                <a:lnTo>
                  <a:pt x="6140" y="952"/>
                </a:lnTo>
                <a:lnTo>
                  <a:pt x="6140" y="846"/>
                </a:lnTo>
                <a:lnTo>
                  <a:pt x="6140" y="740"/>
                </a:lnTo>
                <a:lnTo>
                  <a:pt x="6175" y="635"/>
                </a:lnTo>
                <a:lnTo>
                  <a:pt x="6069" y="493"/>
                </a:lnTo>
                <a:lnTo>
                  <a:pt x="6034" y="388"/>
                </a:lnTo>
                <a:lnTo>
                  <a:pt x="5999" y="282"/>
                </a:lnTo>
                <a:lnTo>
                  <a:pt x="5893" y="317"/>
                </a:lnTo>
                <a:lnTo>
                  <a:pt x="5893" y="423"/>
                </a:lnTo>
                <a:lnTo>
                  <a:pt x="5858" y="529"/>
                </a:lnTo>
                <a:lnTo>
                  <a:pt x="5822" y="635"/>
                </a:lnTo>
                <a:lnTo>
                  <a:pt x="5717" y="670"/>
                </a:lnTo>
                <a:lnTo>
                  <a:pt x="5752" y="811"/>
                </a:lnTo>
                <a:lnTo>
                  <a:pt x="5787" y="917"/>
                </a:lnTo>
                <a:lnTo>
                  <a:pt x="5822" y="1023"/>
                </a:lnTo>
                <a:lnTo>
                  <a:pt x="5858" y="1128"/>
                </a:lnTo>
                <a:lnTo>
                  <a:pt x="5858" y="1234"/>
                </a:lnTo>
                <a:lnTo>
                  <a:pt x="5858" y="1340"/>
                </a:lnTo>
                <a:lnTo>
                  <a:pt x="5822" y="1446"/>
                </a:lnTo>
                <a:lnTo>
                  <a:pt x="5752" y="1587"/>
                </a:lnTo>
                <a:lnTo>
                  <a:pt x="5717" y="1693"/>
                </a:lnTo>
                <a:lnTo>
                  <a:pt x="5717" y="1799"/>
                </a:lnTo>
                <a:lnTo>
                  <a:pt x="5752" y="1905"/>
                </a:lnTo>
                <a:lnTo>
                  <a:pt x="5752" y="2010"/>
                </a:lnTo>
                <a:lnTo>
                  <a:pt x="5717" y="2116"/>
                </a:lnTo>
                <a:lnTo>
                  <a:pt x="5681" y="2222"/>
                </a:lnTo>
                <a:lnTo>
                  <a:pt x="5611" y="2328"/>
                </a:lnTo>
                <a:lnTo>
                  <a:pt x="5575" y="2434"/>
                </a:lnTo>
                <a:lnTo>
                  <a:pt x="5575" y="2575"/>
                </a:lnTo>
                <a:lnTo>
                  <a:pt x="5611" y="2681"/>
                </a:lnTo>
                <a:lnTo>
                  <a:pt x="5611" y="2786"/>
                </a:lnTo>
                <a:lnTo>
                  <a:pt x="5646" y="2892"/>
                </a:lnTo>
                <a:lnTo>
                  <a:pt x="5681" y="3033"/>
                </a:lnTo>
                <a:lnTo>
                  <a:pt x="5681" y="3139"/>
                </a:lnTo>
                <a:lnTo>
                  <a:pt x="5681" y="3280"/>
                </a:lnTo>
                <a:lnTo>
                  <a:pt x="5681" y="3386"/>
                </a:lnTo>
                <a:lnTo>
                  <a:pt x="5681" y="3493"/>
                </a:lnTo>
                <a:lnTo>
                  <a:pt x="5681" y="3705"/>
                </a:lnTo>
                <a:lnTo>
                  <a:pt x="5681" y="3846"/>
                </a:lnTo>
                <a:lnTo>
                  <a:pt x="5681" y="3952"/>
                </a:lnTo>
                <a:lnTo>
                  <a:pt x="5717" y="4093"/>
                </a:lnTo>
                <a:lnTo>
                  <a:pt x="5717" y="4199"/>
                </a:lnTo>
                <a:lnTo>
                  <a:pt x="5752" y="4304"/>
                </a:lnTo>
                <a:lnTo>
                  <a:pt x="5787" y="4410"/>
                </a:lnTo>
                <a:lnTo>
                  <a:pt x="5858" y="4516"/>
                </a:lnTo>
                <a:lnTo>
                  <a:pt x="5893" y="4622"/>
                </a:lnTo>
                <a:lnTo>
                  <a:pt x="5928" y="4728"/>
                </a:lnTo>
                <a:lnTo>
                  <a:pt x="5999" y="4834"/>
                </a:lnTo>
                <a:lnTo>
                  <a:pt x="5999" y="4939"/>
                </a:lnTo>
                <a:lnTo>
                  <a:pt x="5999" y="5045"/>
                </a:lnTo>
                <a:lnTo>
                  <a:pt x="6034" y="5151"/>
                </a:lnTo>
                <a:lnTo>
                  <a:pt x="6140" y="5292"/>
                </a:lnTo>
                <a:lnTo>
                  <a:pt x="6175" y="5398"/>
                </a:lnTo>
                <a:lnTo>
                  <a:pt x="6210" y="5504"/>
                </a:lnTo>
                <a:lnTo>
                  <a:pt x="6210" y="5610"/>
                </a:lnTo>
                <a:lnTo>
                  <a:pt x="6210" y="5716"/>
                </a:lnTo>
                <a:lnTo>
                  <a:pt x="6210" y="5821"/>
                </a:lnTo>
                <a:lnTo>
                  <a:pt x="6175" y="5927"/>
                </a:lnTo>
                <a:lnTo>
                  <a:pt x="6069" y="5962"/>
                </a:lnTo>
                <a:lnTo>
                  <a:pt x="5963" y="5962"/>
                </a:lnTo>
                <a:lnTo>
                  <a:pt x="5681" y="5998"/>
                </a:lnTo>
                <a:lnTo>
                  <a:pt x="5399" y="5998"/>
                </a:lnTo>
                <a:lnTo>
                  <a:pt x="5258" y="6068"/>
                </a:lnTo>
                <a:lnTo>
                  <a:pt x="5152" y="6104"/>
                </a:lnTo>
                <a:lnTo>
                  <a:pt x="5045" y="6174"/>
                </a:lnTo>
                <a:lnTo>
                  <a:pt x="4763" y="6209"/>
                </a:lnTo>
                <a:lnTo>
                  <a:pt x="4657" y="6245"/>
                </a:lnTo>
                <a:lnTo>
                  <a:pt x="4410" y="6280"/>
                </a:lnTo>
                <a:lnTo>
                  <a:pt x="4269" y="6280"/>
                </a:lnTo>
                <a:lnTo>
                  <a:pt x="4163" y="6245"/>
                </a:lnTo>
                <a:lnTo>
                  <a:pt x="4057" y="6209"/>
                </a:lnTo>
                <a:lnTo>
                  <a:pt x="3952" y="6174"/>
                </a:lnTo>
                <a:lnTo>
                  <a:pt x="3811" y="6174"/>
                </a:lnTo>
                <a:lnTo>
                  <a:pt x="3705" y="6139"/>
                </a:lnTo>
                <a:lnTo>
                  <a:pt x="3564" y="6174"/>
                </a:lnTo>
                <a:lnTo>
                  <a:pt x="3458" y="6174"/>
                </a:lnTo>
                <a:lnTo>
                  <a:pt x="3176" y="6209"/>
                </a:lnTo>
                <a:lnTo>
                  <a:pt x="2929" y="6209"/>
                </a:lnTo>
                <a:lnTo>
                  <a:pt x="2823" y="6245"/>
                </a:lnTo>
                <a:lnTo>
                  <a:pt x="2541" y="6245"/>
                </a:lnTo>
                <a:lnTo>
                  <a:pt x="2435" y="6245"/>
                </a:lnTo>
                <a:lnTo>
                  <a:pt x="2294" y="6209"/>
                </a:lnTo>
                <a:lnTo>
                  <a:pt x="2152" y="6174"/>
                </a:lnTo>
                <a:lnTo>
                  <a:pt x="2047" y="6104"/>
                </a:lnTo>
                <a:lnTo>
                  <a:pt x="1941" y="6033"/>
                </a:lnTo>
                <a:lnTo>
                  <a:pt x="1835" y="6068"/>
                </a:lnTo>
                <a:lnTo>
                  <a:pt x="1729" y="6104"/>
                </a:lnTo>
                <a:lnTo>
                  <a:pt x="1622" y="6104"/>
                </a:lnTo>
                <a:lnTo>
                  <a:pt x="1411" y="6068"/>
                </a:lnTo>
                <a:lnTo>
                  <a:pt x="1305" y="6033"/>
                </a:lnTo>
                <a:lnTo>
                  <a:pt x="1199" y="5927"/>
                </a:lnTo>
                <a:lnTo>
                  <a:pt x="1128" y="5821"/>
                </a:lnTo>
                <a:lnTo>
                  <a:pt x="1023" y="5751"/>
                </a:lnTo>
                <a:lnTo>
                  <a:pt x="881" y="5716"/>
                </a:lnTo>
                <a:lnTo>
                  <a:pt x="740" y="5680"/>
                </a:lnTo>
                <a:lnTo>
                  <a:pt x="635" y="5610"/>
                </a:lnTo>
                <a:lnTo>
                  <a:pt x="564" y="5504"/>
                </a:lnTo>
                <a:lnTo>
                  <a:pt x="529" y="5398"/>
                </a:lnTo>
                <a:lnTo>
                  <a:pt x="493" y="5292"/>
                </a:lnTo>
                <a:lnTo>
                  <a:pt x="493" y="5186"/>
                </a:lnTo>
                <a:lnTo>
                  <a:pt x="493" y="5081"/>
                </a:lnTo>
                <a:lnTo>
                  <a:pt x="564" y="4975"/>
                </a:lnTo>
                <a:lnTo>
                  <a:pt x="599" y="4869"/>
                </a:lnTo>
                <a:lnTo>
                  <a:pt x="599" y="4763"/>
                </a:lnTo>
                <a:lnTo>
                  <a:pt x="564" y="4657"/>
                </a:lnTo>
                <a:lnTo>
                  <a:pt x="564" y="4551"/>
                </a:lnTo>
                <a:lnTo>
                  <a:pt x="564" y="4446"/>
                </a:lnTo>
                <a:lnTo>
                  <a:pt x="564" y="4340"/>
                </a:lnTo>
                <a:lnTo>
                  <a:pt x="493" y="4234"/>
                </a:lnTo>
                <a:lnTo>
                  <a:pt x="458" y="4128"/>
                </a:lnTo>
                <a:lnTo>
                  <a:pt x="493" y="3987"/>
                </a:lnTo>
                <a:lnTo>
                  <a:pt x="493" y="3881"/>
                </a:lnTo>
                <a:lnTo>
                  <a:pt x="493" y="3775"/>
                </a:lnTo>
                <a:lnTo>
                  <a:pt x="529" y="3669"/>
                </a:lnTo>
                <a:lnTo>
                  <a:pt x="564" y="3564"/>
                </a:lnTo>
                <a:lnTo>
                  <a:pt x="599" y="3458"/>
                </a:lnTo>
                <a:lnTo>
                  <a:pt x="599" y="3316"/>
                </a:lnTo>
                <a:lnTo>
                  <a:pt x="635" y="3210"/>
                </a:lnTo>
                <a:lnTo>
                  <a:pt x="670" y="3104"/>
                </a:lnTo>
                <a:lnTo>
                  <a:pt x="670" y="2998"/>
                </a:lnTo>
                <a:lnTo>
                  <a:pt x="670" y="2892"/>
                </a:lnTo>
                <a:lnTo>
                  <a:pt x="670" y="2786"/>
                </a:lnTo>
                <a:lnTo>
                  <a:pt x="670" y="2681"/>
                </a:lnTo>
                <a:lnTo>
                  <a:pt x="670" y="2575"/>
                </a:lnTo>
                <a:lnTo>
                  <a:pt x="705" y="2469"/>
                </a:lnTo>
                <a:lnTo>
                  <a:pt x="705" y="2363"/>
                </a:lnTo>
                <a:lnTo>
                  <a:pt x="740" y="2257"/>
                </a:lnTo>
                <a:lnTo>
                  <a:pt x="776" y="2116"/>
                </a:lnTo>
                <a:lnTo>
                  <a:pt x="776" y="2010"/>
                </a:lnTo>
                <a:lnTo>
                  <a:pt x="776" y="1869"/>
                </a:lnTo>
                <a:lnTo>
                  <a:pt x="776" y="1763"/>
                </a:lnTo>
                <a:lnTo>
                  <a:pt x="776" y="1658"/>
                </a:lnTo>
                <a:lnTo>
                  <a:pt x="811" y="1552"/>
                </a:lnTo>
                <a:lnTo>
                  <a:pt x="846" y="1446"/>
                </a:lnTo>
                <a:lnTo>
                  <a:pt x="846" y="1340"/>
                </a:lnTo>
                <a:lnTo>
                  <a:pt x="846" y="1234"/>
                </a:lnTo>
                <a:lnTo>
                  <a:pt x="881" y="1128"/>
                </a:lnTo>
                <a:lnTo>
                  <a:pt x="917" y="1023"/>
                </a:lnTo>
                <a:lnTo>
                  <a:pt x="987" y="917"/>
                </a:lnTo>
                <a:lnTo>
                  <a:pt x="1058" y="811"/>
                </a:lnTo>
                <a:lnTo>
                  <a:pt x="1164" y="776"/>
                </a:lnTo>
                <a:lnTo>
                  <a:pt x="1270" y="740"/>
                </a:lnTo>
                <a:lnTo>
                  <a:pt x="1375" y="740"/>
                </a:lnTo>
                <a:lnTo>
                  <a:pt x="1481" y="740"/>
                </a:lnTo>
                <a:lnTo>
                  <a:pt x="1587" y="776"/>
                </a:lnTo>
                <a:lnTo>
                  <a:pt x="1693" y="776"/>
                </a:lnTo>
                <a:lnTo>
                  <a:pt x="1800" y="776"/>
                </a:lnTo>
                <a:lnTo>
                  <a:pt x="1906" y="740"/>
                </a:lnTo>
                <a:lnTo>
                  <a:pt x="2011" y="740"/>
                </a:lnTo>
                <a:lnTo>
                  <a:pt x="2117" y="705"/>
                </a:lnTo>
                <a:lnTo>
                  <a:pt x="2223" y="705"/>
                </a:lnTo>
                <a:lnTo>
                  <a:pt x="2329" y="670"/>
                </a:lnTo>
                <a:lnTo>
                  <a:pt x="2435" y="670"/>
                </a:lnTo>
                <a:lnTo>
                  <a:pt x="2541" y="670"/>
                </a:lnTo>
                <a:lnTo>
                  <a:pt x="2646" y="670"/>
                </a:lnTo>
                <a:lnTo>
                  <a:pt x="2752" y="670"/>
                </a:lnTo>
                <a:lnTo>
                  <a:pt x="2858" y="635"/>
                </a:lnTo>
                <a:lnTo>
                  <a:pt x="2964" y="599"/>
                </a:lnTo>
                <a:lnTo>
                  <a:pt x="3246" y="635"/>
                </a:lnTo>
                <a:lnTo>
                  <a:pt x="3458" y="635"/>
                </a:lnTo>
                <a:lnTo>
                  <a:pt x="3599" y="670"/>
                </a:lnTo>
                <a:lnTo>
                  <a:pt x="3599" y="564"/>
                </a:lnTo>
                <a:lnTo>
                  <a:pt x="3634" y="458"/>
                </a:lnTo>
                <a:lnTo>
                  <a:pt x="3528" y="388"/>
                </a:lnTo>
                <a:lnTo>
                  <a:pt x="3493" y="282"/>
                </a:lnTo>
                <a:lnTo>
                  <a:pt x="3493" y="176"/>
                </a:lnTo>
                <a:lnTo>
                  <a:pt x="3458" y="211"/>
                </a:lnTo>
                <a:lnTo>
                  <a:pt x="3246" y="0"/>
                </a:lnTo>
                <a:close/>
              </a:path>
            </a:pathLst>
          </a:custGeom>
          <a:solidFill>
            <a:srgbClr val="ff9999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486400" y="4102200"/>
            <a:ext cx="368640" cy="317880"/>
          </a:xfrm>
          <a:custGeom>
            <a:avLst/>
            <a:gdLst/>
            <a:ahLst/>
            <a:rect l="0" t="0" r="r" b="b"/>
            <a:pathLst>
              <a:path w="1024" h="883">
                <a:moveTo>
                  <a:pt x="0" y="35"/>
                </a:moveTo>
                <a:lnTo>
                  <a:pt x="141" y="35"/>
                </a:lnTo>
                <a:lnTo>
                  <a:pt x="246" y="0"/>
                </a:lnTo>
                <a:lnTo>
                  <a:pt x="352" y="0"/>
                </a:lnTo>
                <a:lnTo>
                  <a:pt x="458" y="35"/>
                </a:lnTo>
                <a:lnTo>
                  <a:pt x="565" y="70"/>
                </a:lnTo>
                <a:lnTo>
                  <a:pt x="671" y="176"/>
                </a:lnTo>
                <a:lnTo>
                  <a:pt x="777" y="247"/>
                </a:lnTo>
                <a:lnTo>
                  <a:pt x="882" y="318"/>
                </a:lnTo>
                <a:lnTo>
                  <a:pt x="918" y="424"/>
                </a:lnTo>
                <a:lnTo>
                  <a:pt x="918" y="530"/>
                </a:lnTo>
                <a:lnTo>
                  <a:pt x="918" y="636"/>
                </a:lnTo>
                <a:lnTo>
                  <a:pt x="988" y="742"/>
                </a:lnTo>
                <a:lnTo>
                  <a:pt x="1024" y="848"/>
                </a:lnTo>
                <a:lnTo>
                  <a:pt x="918" y="883"/>
                </a:lnTo>
                <a:lnTo>
                  <a:pt x="882" y="778"/>
                </a:lnTo>
                <a:lnTo>
                  <a:pt x="777" y="707"/>
                </a:lnTo>
                <a:lnTo>
                  <a:pt x="636" y="707"/>
                </a:lnTo>
                <a:lnTo>
                  <a:pt x="565" y="600"/>
                </a:lnTo>
                <a:lnTo>
                  <a:pt x="493" y="494"/>
                </a:lnTo>
                <a:lnTo>
                  <a:pt x="388" y="424"/>
                </a:lnTo>
                <a:lnTo>
                  <a:pt x="282" y="389"/>
                </a:lnTo>
                <a:lnTo>
                  <a:pt x="176" y="424"/>
                </a:lnTo>
                <a:lnTo>
                  <a:pt x="141" y="318"/>
                </a:lnTo>
                <a:lnTo>
                  <a:pt x="176" y="211"/>
                </a:lnTo>
                <a:lnTo>
                  <a:pt x="141" y="105"/>
                </a:lnTo>
                <a:lnTo>
                  <a:pt x="211" y="35"/>
                </a:lnTo>
                <a:lnTo>
                  <a:pt x="0" y="35"/>
                </a:lnTo>
                <a:close/>
              </a:path>
            </a:pathLst>
          </a:custGeom>
          <a:solidFill>
            <a:srgbClr val="ff9999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0880" y="22860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t Me 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T#3 OPS</dc:creator>
  <dc:description/>
  <dc:language>en-US</dc:language>
  <cp:lastModifiedBy>CSCT#3 OPS</cp:lastModifiedBy>
  <cp:revision>0</cp:revision>
  <dc:subject/>
  <dc:title>No Slide Title</dc:title>
</cp:coreProperties>
</file>